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7B6-169D-4AF7-A196-BE0617EE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C91-899C-4AB6-92BB-72899B19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559D-829E-43AF-B424-EC6F51FA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B20-1581-471C-BA1B-AE080B82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A9B0-F309-487D-9535-5783EE96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BE09-E43E-4986-B3AF-0AEF0988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D9EB-65BE-4B6D-BAA7-7298FE1C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3182-B8CC-4C1B-872F-80228236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CD56-7C30-4EC0-9EA6-8D258420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ED95-D900-4051-959B-54F4DEB3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C8A7-3F03-4E86-A55F-52E4CBF1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ECFA-C58D-4ABA-9A82-FCA6F73A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05E6-082D-42A2-B276-E87FD162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25B2-3BEC-4338-B36B-9D6E0EC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6D11-EA3B-48E3-BC11-93EC20FF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D1BE-B255-4790-91E6-7D6609E0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5BBE-4858-4D96-B603-D0D7B82F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EB3-D516-4649-99D8-69925689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081-1133-4363-A6C3-6D9B20A6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05E-7414-4A2F-92D4-699E89A4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17DB-FBE0-4FEE-AD2A-47B56DED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8C3-0C5A-4731-9D4A-C2D469F2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8DB-5D43-4993-AB83-8E7BD308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05D-B20B-4C56-B7B2-9DC8E692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9237-5AD4-4890-B81A-35ADA8CFE587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AFA5-AA89-4E12-B83E-1A654635B90C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ff"/>
                </a:solidFill>
                <a:latin typeface="Impact"/>
              </a:rPr>
              <a:t>Seeing the Sky</a:t>
            </a:r>
            <a:endParaRPr b="0" lang="en-US" sz="96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Impact"/>
              </a:rPr>
              <a:t>Naked-Eye Astronomy</a:t>
            </a:r>
            <a:endParaRPr b="0" lang="en-US" sz="8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58BC-D87D-43BE-B6FC-13527FE7CB42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Planet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ail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Rise in east, set in west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relative to horiz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ong-term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Move eastward relative to stars (zodiac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 regular cycles, mov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westwar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lative to the stars (retrograd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938C-D9BC-40AF-A041-6AA8CA95C10B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Planets-Long term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1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ercury, Venus stay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near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sun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morning, evening stars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ars, Jupiter, Saturn anywhere in zodiac relative to su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Average angular speeds of eastward motion through zodiac: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ercury, Venus, Mars, Jupiter, Satur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550-B6DE-45B5-8EC8-78A6D1D51A30}" type="slidenum">
              <a:t>11</a:t>
            </a:fld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Planets-Retrograde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62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ercury, Venus retrograde on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ea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sun (when moving from evening to morning “star”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ars, Jupiter, Saturn retrograde only whe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opposit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he sun in the sky (opposition, 180 degrees apart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D09-A9B2-47F7-91F7-34582EB2D133}" type="slidenum">
              <a:t>12</a:t>
            </a:fld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Naked-Eye Astronomy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60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tar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lanets (move relative to star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un (disk about 1/2 degre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oon (disk about 1/2 degre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ther (comets, meteors, UFOs, etc.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FF2-AC9A-45D5-B968-3003E6192426}" type="slidenum">
              <a:t>2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Angl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Can only measur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ngle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on the sky (circle spans 360 degrees; 1 degree = 60 minutes; 1 minute = 60 seconds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ngular distanc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is the angle on the sky between two celestial object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Use your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fist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about 10 degrees at arm’s length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25A-AF83-4AC1-8E1D-8BE7EE86EB6C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ky Direction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ac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outh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sun at noon), then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orth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s to your back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Wes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s to your righ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as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s to your left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Northern hemisphere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06D-F2F0-40D2-9790-EBBF76C721A7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ky Motion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64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Only se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ngular speed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angle covered per unit time-day, month, year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Motions ar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relativ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with respect to some reference (stars, horizon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Same object can hav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different motions at the same tim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relative to different reference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966-4A4F-496E-B2E8-98C161F3B642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tar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70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attern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“fixed” constellation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88 official); no visible change over human lifetim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ail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Rise i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as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set i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wes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relative to horiz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eason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Different constellations visible at different seas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796-7537-4ECB-B9D8-A7B151072CF7}" type="slidenum">
              <a:t>6</a:t>
            </a:fld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Mo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59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Dail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Rises in east, sets in west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relative to horizon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onthl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Cycle of phases; angle relative to the sun (opposition-full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Monthl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Moves eastward relative to zodiacal star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Eclipse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can occur at new (solar) or full (lunar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4AA5-3374-45AB-9931-83DCCD0E78BD}" type="slidenum">
              <a:t>7</a:t>
            </a:fld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u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4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Dail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Rise in east, set in west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relative to the horizon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Due south at no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northern hemisphere!); greatest angle (for the day) above horizon at noon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easonall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: noon height varies (highest, summer, lowest winter); rising, setting points also vary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428A-BFB8-4918-9779-4793E0FEEC1A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u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8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ve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astwar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lative to star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ves through constellations of th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zodiac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about 360 degrees in one year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about 1 degree per day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ath in sky relative to the stars defines th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cliptic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9DD-BEB4-49E0-BD46-F0A47C3F47F7}" type="slidenum">
              <a:t>9</a:t>
            </a:fld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4:52:39Z</dcterms:created>
  <dc:creator>Michael Zeilik</dc:creator>
  <dc:description/>
  <dc:language>en-US</dc:language>
  <cp:lastModifiedBy>Michael Zeilik</cp:lastModifiedBy>
  <cp:lastPrinted>2000-01-24T17:20:14Z</cp:lastPrinted>
  <dcterms:modified xsi:type="dcterms:W3CDTF">2001-12-18T01:56:09Z</dcterms:modified>
  <cp:revision>21</cp:revision>
  <dc:subject/>
  <dc:title>Seeing the Sky</dc:title>
</cp:coreProperties>
</file>