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37F-8ECC-4DCD-8775-87D9D161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E94-594B-4D16-AF85-8A17DCF3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AF4-8688-40B7-8B1D-8EA9700D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91E-365A-46A0-86C6-4E715DF3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E925-B31C-4B50-B97E-663DB4E4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77DB-4323-4627-A2AF-E093ED46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3470-F05A-484E-8FFC-8E83821C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5F0C-2836-40C4-9EA7-1A1548BF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B4F0-FC04-418C-B4B3-5A78FF71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86C6-B8B8-4A5D-8D6E-1D0D2630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DDF9-1506-4477-AE8B-3E5348BF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125-41FD-4124-9836-42EDFC3C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9ED5-E3E6-4815-A34D-1C0BB6B9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CB9B-79BB-4E13-AE70-BC028B4C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56E3-DA84-494E-A88F-3DB7CF03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2100-4FF0-4742-8785-6035C017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3241-D79A-4006-B294-AD5F534D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AFB-33FF-47AD-9FEC-1A6566E3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7EC0-CD25-4B56-9D2E-E4508DF4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C5CD-5A1D-4C89-8458-A2490DCE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5CE-1E05-4A84-B7AA-24AA72EB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4B5-75EE-4314-A746-B3C5A4E9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443D-D33A-4260-970C-5AC8577F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711-1560-4126-97C0-F55FB494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5D11-4064-4308-9F82-F6102BEE3ED9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8343-8839-4ECA-9FA1-10877F634A99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The Light Fantastic!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Astronomy relies on messages from all kinds of </a:t>
            </a:r>
            <a:r>
              <a:rPr b="0" lang="en-US" sz="6000" spc="-1" strike="noStrike">
                <a:solidFill>
                  <a:srgbClr val="006600"/>
                </a:solidFill>
                <a:latin typeface="Impact"/>
              </a:rPr>
              <a:t>ligh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Kirchhoff’s Rul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67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3. </a:t>
            </a: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A continuous spectrum passing through a cooler, transparent gas will display </a:t>
            </a:r>
            <a:r>
              <a:rPr b="0" lang="en-US" sz="5400" spc="-1" strike="noStrike">
                <a:solidFill>
                  <a:srgbClr val="006600"/>
                </a:solidFill>
                <a:latin typeface="Impact"/>
              </a:rPr>
              <a:t>dark lines</a:t>
            </a:r>
            <a:r>
              <a:rPr b="0" lang="en-US" sz="5400" spc="-1" strike="noStrike">
                <a:solidFill>
                  <a:srgbClr val="660066"/>
                </a:solidFill>
                <a:latin typeface="Impact"/>
              </a:rPr>
              <a:t>. The colors of the line relate to the chemical composition of the gas.</a:t>
            </a:r>
            <a:endParaRPr b="0" lang="en-US" sz="5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Atoms and Ligh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lectrons orbit nuclei at special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cret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energy level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lectro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jump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between levels create (emission) or destroy (absorption) photo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Visible a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bright/dark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lin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Atoms and Energy Level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8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ach atom ha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unique se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energy level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lectron move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up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=&gt; absorb energy; move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ow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emits energy; one photon per jump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hoton’s energy equal 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ffere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between energy level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Ligh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Light from celestial objects carrie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ata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ust transform in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nforma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b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odel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easur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Direction, total light (flux), colors (spectra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Ligh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58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Wave mode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Wave properties (wavelength, frequency, speed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ull range of wavelengths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lectromagnetic (E&amp;M) spectrum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ll (radio to gamma rays) travel a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ame spe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about 300,000 km/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&amp;M Spectrum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adio (longest, up to km), Infrared, Visible, Ultraviolet, X-rays, Gamma rays (shortest, size of atom’s nucleu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Differen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etector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or each typ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Radiative Energy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60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Light carrie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adiativ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energ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Higher frequencies, greater energie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Shorter wavelengths, greater energie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nerg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rectly proportiona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frequency,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nversely proportiona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wavelength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Ligh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64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article mode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Light comes in discrete chunks (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hoton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toms emit/absorb photons: produce spectrum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uniqu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each elemen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nalyze spectra to find ke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hysical properti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pectra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tinuou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Unbroken range of colors (wavelength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Bright lin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Individual bright lines at certain colors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ark lin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Individual dark lines at certain color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Kirchhoff’s Rul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37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1. Hot and opaque solid, liquid, or gas emits a </a:t>
            </a:r>
            <a:r>
              <a:rPr b="0" lang="en-US" sz="6000" spc="-1" strike="noStrike">
                <a:solidFill>
                  <a:srgbClr val="006600"/>
                </a:solidFill>
                <a:latin typeface="Impact"/>
              </a:rPr>
              <a:t>continuous</a:t>
            </a: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 spectrum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Kirchhoff’s Rul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2. Hot, transparent gas emits </a:t>
            </a:r>
            <a:r>
              <a:rPr b="0" lang="en-US" sz="6000" spc="-1" strike="noStrike">
                <a:solidFill>
                  <a:srgbClr val="006600"/>
                </a:solidFill>
                <a:latin typeface="Impact"/>
              </a:rPr>
              <a:t>bright lines</a:t>
            </a: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. Colors of the lines depend on the chemical composition of the gas.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16:28:58Z</dcterms:created>
  <dc:creator>Michael Zeilik</dc:creator>
  <dc:description/>
  <dc:language>en-US</dc:language>
  <cp:lastModifiedBy>Michael Zeilik</cp:lastModifiedBy>
  <cp:lastPrinted>2000-02-28T17:49:30Z</cp:lastPrinted>
  <dcterms:modified xsi:type="dcterms:W3CDTF">2001-12-18T02:15:30Z</dcterms:modified>
  <cp:revision>25</cp:revision>
  <dc:subject/>
  <dc:title>The Light Fantastic!</dc:title>
</cp:coreProperties>
</file>