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4785-A3DE-41FB-BF28-83821AB3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872D-4784-45CF-B5B8-140D8498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EA8-B7B5-4077-A17C-5CF2837E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5E4-63E7-4B11-87FC-F2E604F8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D9CC-518C-4BC4-846F-49D97F9E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C7E-10E5-4BFF-A5C9-03B53253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8BF9-0E2E-410B-8812-10BB6FD5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D0E7-40DA-4216-8F57-74DE070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E2AF-D7AF-45A1-A572-A12E439A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E943-7380-4296-8B87-95AD3420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82DE-23F6-4D53-83B7-41ABA694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621-CE02-4BE9-8DA9-2D02EA5A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8EDE-F2B7-4F26-987C-393DAAD6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58CE-5B7D-4760-88E1-ABE8259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368E-BB9E-44D6-85B2-D1B93E05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0857-8C74-4D60-A2B0-47B1CCC6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9688-5351-48F8-B6D5-A800D63F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E99-967A-40E3-B603-B0BFAC9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6BD-45C8-418E-961A-F5A070E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722E-79DF-4EE9-81D1-52C63C3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46E-6F03-44C6-8302-3ECAB1B1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EC0-39FB-483C-A7EB-69FE322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49B-F3F4-4530-9B35-D17991C1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C2D2-ADFE-4ECF-AAA2-FE066C1E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408C-E7DF-46BD-A74D-B86A763C3278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C27F-1D26-4A40-A07A-AE13B6946C0F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Models of the Solar System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entered on the earth: geocentric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entered on the sun: heliocentric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DE88-5331-41A9-A188-D7EA9787BF77}" type="slidenum">
              <a:t>1</a:t>
            </a:fld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eliocentric-Plus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impl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xplanation of retrograde mo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atur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rder of planets from sun from period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lative distanc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observations and geometr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149-F54A-4E04-9F8F-FF1FFB40EE6C}" type="slidenum">
              <a:t>10</a:t>
            </a:fld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centric vs. Heliocentric</a:t>
            </a: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gular relations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redictions about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mplexity about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xplanation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parabl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qui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ffere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hysics of mot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463-CF58-4CFD-99B7-A3B15859D5B1}" type="slidenum">
              <a:t>11</a:t>
            </a:fld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ocentric vs. Heliocentric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Very differen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the earth (center of cosmos vs. another plane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rucial observation: heliocentric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ellar parallax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tars very far away; telescopes neede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2DDF-993E-4345-9DD1-AD026E127F72}" type="slidenum">
              <a:t>12</a:t>
            </a:fld>
          </a:p>
        </p:txBody>
      </p:sp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ocentric Assumption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67616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rth at center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(aesthetics, physic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rth motionles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(physic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Uniform motion on circles for celestial objects 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(aesthetics, geometry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CBC-DF32-477C-A391-A5B06360C915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ocentric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772400" cy="51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ky-entire heavens (all “spheres”)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e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aily relative to horiz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de of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ecia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material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the “fifth esse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vi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earth/sky by matter and mot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2382-A565-400E-80E8-5D6C44B15C41}" type="slidenum">
              <a:t>3</a:t>
            </a:fld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ocentric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772400" cy="65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on- “sphere”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lative to the stars in a month; fastest angular speed =&gt; closest to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n’s “sphere”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a year relative to the star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=&gt; farther from ea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764-F664-4099-AEA4-7391C927E06B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ocentric-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ch planet’s “sphere” move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lative to st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rder based 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ecreas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verage angular speed: Mercury, Venus, Sun, Mars, Jupiter, Satur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975B-3A0B-40E6-856F-D05EE66563A0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ocentric-Retrograd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59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 moves on small circle centered on the perimeter of larger one; both “spheres” mov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mall circle period = interval betwee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trograd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BF3-19F4-447E-9A26-84ABBC9D29D2}" type="slidenum">
              <a:t>6</a:t>
            </a:fld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eliocentric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5235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ky-dai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ot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earth eastward (west to eas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on-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 revolu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moon about earth monthl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n-reflection of earth’s year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stward revolu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round su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257-094E-4816-A000-4B62FCA9218A}" type="slidenum">
              <a:t>7</a:t>
            </a:fld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eliocentric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43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s-eac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volves eastward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round sun;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rth third; natural motion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o forc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rea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distance from sun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ng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eriod of revolu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778-9363-4CD7-83BB-CFBE08136EB3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eliocentric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772400" cy="64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Planetary retrograde-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llu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aused by one planet passing another (relative mo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los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 planet is to the sun,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as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t revolves on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arth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trogrades seen from other plane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AB5-4AF7-491C-B9D5-FC8C21C2D198}" type="slidenum">
              <a:t>9</a:t>
            </a:fld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1:03:24Z</dcterms:created>
  <dc:creator>Diane L. Marshall</dc:creator>
  <dc:description/>
  <dc:language>en-US</dc:language>
  <cp:lastModifiedBy>Michael Zeilik</cp:lastModifiedBy>
  <dcterms:modified xsi:type="dcterms:W3CDTF">2001-12-18T02:01:13Z</dcterms:modified>
  <cp:revision>24</cp:revision>
  <dc:subject/>
  <dc:title>Models of the Solar System</dc:title>
</cp:coreProperties>
</file>