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73A-11BC-4EB1-84E7-359AAC80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6C7E-D216-416F-A59C-007EECAE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077-AD5D-4E88-BACD-600D0D5A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1FE-5233-4DD6-82BC-B184AE95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B46F-0BC2-4788-BEE7-55FC9A95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E3B0-747A-4466-BBFE-A37DECAD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CAD5-DE1D-4C34-B666-19E3FC8D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BAB0-D8CE-47CE-AAF1-7F2FB2E7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03F3-BBB2-4EF0-848B-DD0DC640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CD43-2FCF-4391-B021-27FC6921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284E-5AD9-4C93-9495-E030C331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AF7-37DE-44D6-B0D0-FB63B215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5AA9-C120-42E2-AEBF-2463C6B8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C8A3-07A6-4C0A-B759-F0A87046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3A43-4351-4121-AB93-8A337408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70B8D-7FCC-428A-A167-004E4A08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940A-B749-44CC-AF39-8C3C6C269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F1E-F76A-481A-A527-B8422444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79B-445B-4DDA-A684-D2AB73F9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B9F-74C6-4D3E-ABF4-067F2EB2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734-A435-447F-9DDD-D45B260E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85E-3F04-4223-BC14-BCD5416B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80F-D0CF-4ED5-8F70-2127FBC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CC7-6EBB-4D2A-B582-CDB1E0A2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2389-61E4-4D90-92F5-85D2AEDF663F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51F2-FA27-437B-9DC6-B2AB48FA07D6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Stars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Other Suns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rface Temperatur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ro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lo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Bluish-white (hottest) to reddish (coolest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81160" indent="-28116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ro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eak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 continuous spectrum o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tching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continuous spectrum to that of a blackbod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609120" indent="-23436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Assume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radiate somewhat like blackbodies (Planck curve)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nergy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6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us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eactio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! (E = mc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)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P Chain, CNO cycl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ig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-temperature cores (abov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gni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emperature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nergy flows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rfa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radiation, convection ), radiated in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a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pectral Class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64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emperatur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eque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hottest (O) to coolest (M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Based o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tensiti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certain dark lines of specific elements (especially Balmer series of hydroge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lated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lor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stars (continuous spectra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Hertzsprung-Russell Diagram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64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raph of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tellar luminositi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need distances!) versu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rface temperatures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colors or spectral type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atter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mong stars =&gt; different physical featur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in seque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giants, supergiants, white dwarf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Luminosity Class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atter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n H-R digram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m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ectral typ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surface temperatures) bu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ffere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siti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fer differen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rface area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so different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 radii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pergiants, giants, main sequen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ass-Luminosity Rela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4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rap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luminosities versus masses (from binary system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atter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Larger masses have much greater luminositi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sity directly proportional to mass to the 4th power (L ~  M</a:t>
            </a:r>
            <a:r>
              <a:rPr b="0" lang="en-US" sz="4400" spc="-1" strike="noStrike" baseline="30000">
                <a:solidFill>
                  <a:srgbClr val="006600"/>
                </a:solidFill>
                <a:latin typeface="Impact"/>
              </a:rPr>
              <a:t>4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Lifetim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uel reserv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Directly proportional to mas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Us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Directly proportional to luminosit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ifetim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= Reserve/Us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r M/M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4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r 1/M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=&gt; more mass, shorter lifetime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g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4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ifetime: Total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a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active life fro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us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act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ge: Time elapsed since fusion reaction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bega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un’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ifetim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10 Gy; sun’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g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5 Gy; when age = lifetime, star dies (no more fus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Physical Propert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sit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ame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radiu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know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find out these properties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Physical Propert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rface temperatur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hemical composi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nalyz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ectra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infer these properties; distanc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o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quired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Distanc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Direct: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Heliocentric stellar parallaxes 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AU as baseline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maller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parallax,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greater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distanc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Inverse relat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Distance is inversely proportional to parallax angl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Precis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parallaxes of many stars by Hipparcos satellit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Luminosit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easu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lux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t eart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magine sphere with radius equal to distance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rea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collects star’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sit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verse-square law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Flux inversely proportional to distance square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ass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in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Binary systems (lots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ppl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Newton’s version of Kepler’s 3r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e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Distance, orbital period &amp; separation, center of mas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8520" indent="-30852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e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Mass of each sta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Diameters (Radii)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urrent techniques can measu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ngular diameter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directly for some star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ngular diamete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versely proportion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distan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ee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fi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hysic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amete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Diameters (Radii)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f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From luminosity, surface temperatur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ssum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Radiates lik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blackbod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; temperature gives flux at surfa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uminosity: From surface flux and area =&gt; infe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u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area = 4 π R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2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 sphere of radius R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omposi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nalyz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ectra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most contain absorption line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tc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dark lines to those for known elemen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ives composition of photosphe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onl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20:42:30Z</dcterms:created>
  <dc:creator>Michael Zeilik</dc:creator>
  <dc:description/>
  <dc:language>en-US</dc:language>
  <cp:lastModifiedBy>Michael Zeilik</cp:lastModifiedBy>
  <dcterms:modified xsi:type="dcterms:W3CDTF">2001-12-18T00:45:46Z</dcterms:modified>
  <cp:revision>20</cp:revision>
  <dc:subject/>
  <dc:title>Stars</dc:title>
</cp:coreProperties>
</file>