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6451-5E53-4DE8-AC6C-E8E87206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4E69-AB6C-49C5-9C9F-D580C880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92A-2E57-4F32-AFBC-CFD69D97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6DC-6FFE-4685-B7B4-B38CC7F7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5FB9-FB39-4CD5-AC66-F4FB25E3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CE51-AEE8-46DF-AF52-ED579EFB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057D-1BCC-43D3-9A33-729C078F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BAAC-C866-448D-9A4C-820D8CEC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E31B-51EF-40DC-A66E-2B1DFBA7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1A17-22DE-4C25-B329-E9B889D3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B2A5-D276-4B19-8A2A-66B7258A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4E5-F7B7-461C-A262-4485717F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B94E-FFD1-4E4A-95BB-6FF791EE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04EA-A96B-4954-9AA0-46683B0D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3724-FD63-4E0D-AC23-8D784C98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2D5F-7B0E-4D55-A3FA-6238B274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609D-9C41-4642-9945-A778A37E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BD40-1FD3-401A-A6A9-9F46DEB6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D828-2018-4A31-B1CE-7EF23FA5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10E-88F9-4AC2-8808-1D369CDA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064-A332-4391-8139-7D18071D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2176-1AD4-4681-8DEB-48D0342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37F-E014-456B-943B-56E25413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66C-8E52-4E12-8343-2EFFF23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FA70-D193-4C98-9771-15E0B4964374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0D38-527A-4899-87E6-3AFC94BC65F3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Star Live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From Birth to Death 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(Dust to Dust)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Nucleosynthesi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8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“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Wast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” products are fuels for the next fusion reaction (stops at iron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Convec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brings some of these fusion products to surface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ed gian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phase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Fusion products blown off into space by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tellar wind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Stellar Evolution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tars evolve because the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hin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ife cycle depends on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SS (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mposi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plays secondary rol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iv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as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evolution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hor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ifetim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Hertzsprung-Russell Diagram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 “snapshot” of stars at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ffere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ife stag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st stars are “middle age”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in sequ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fuse hydrogen to helium in core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in sequence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 sequen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H-R Diagram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515960"/>
            <a:ext cx="7772400" cy="52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s stars evolve, internal changes driv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xternal chang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luminosity, size, and surface temperatu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tar’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oi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n the H-R diagram changes posi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quence of points traces a star’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volutionary track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volutionary Track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6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epends o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 Low (about 1), middle (5 to 10), high (above 20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eneral trend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rotosta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re-main-sequ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in sequ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d gia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upergiant)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netary nebula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upernova) =&gt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rps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Fusion Reaction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5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Hydrogen =&gt; helium =&gt; carbon =&gt; ends with silicon fusing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r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ch stage requires higher core temperature (to ignite the reaction); depends o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gravitational potential energy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n-like Star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rotosta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ravitation energy, convec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re-main-sequ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ransition to fusion in co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in sequ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use hydrogen to helium in core (PP chai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n-Like Star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6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ed gian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Hydrogen burning in shell around core (convective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Helium fus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to carbon) in cor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ed gian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fusion in shells again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lanetary nebula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Blows off outer layer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arth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vaporized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!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Observations!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71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H-R diagrams of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cluster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ssume born at same time, same composition; only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varie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ore massive stars evolv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aste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mass-luminosity relation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Turnoff points from main sequenc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iffe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; indicat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elativ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ge; models giv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ctual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ge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7T12:02:48Z</dcterms:created>
  <dc:creator>Michael Zeilik</dc:creator>
  <dc:description/>
  <dc:language>en-US</dc:language>
  <cp:lastModifiedBy>Michael Zeilik</cp:lastModifiedBy>
  <cp:lastPrinted>2001-04-02T12:49:07Z</cp:lastPrinted>
  <dcterms:modified xsi:type="dcterms:W3CDTF">2001-12-18T03:37:56Z</dcterms:modified>
  <cp:revision>33</cp:revision>
  <dc:subject/>
  <dc:title>Star Lives</dc:title>
</cp:coreProperties>
</file>