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0052-A41C-44C6-9615-7791262B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A456-683E-4C55-9468-B0132AE6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79DA-EB67-4938-B2E4-3C641F56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97B7-93EB-49D4-9B16-6E0CE6A5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3922-1506-446E-8C54-4650D198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8C54-FE0A-4647-BEED-0A1B5F59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78F4-D284-49FA-B40F-A9047E6E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C398-0442-4C8D-A298-D43C5E4B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5C03-3292-4FDE-9E56-ABBB74F7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BABC-3CFE-4EF2-943A-ACF70B15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0A8E-C45E-4FA2-8747-1A5AB042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6737-1137-4B7A-A116-0A27C52F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9949-0F17-44F7-82A9-EB83DDFD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4194-483D-42C8-9E17-64E02862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2E2E-8E1B-4107-90E5-80111346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679D-846D-4799-B787-CEF14BD1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C934-BCE2-4A7C-82CE-DA0641C0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BD31-83E1-434B-A26F-79E429E4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B41-82EA-4520-B693-085BD70C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94BE-07C7-46EB-9909-12BAF431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5F2C-ADA8-45C8-88E4-C71EF360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59DC-2718-4FE2-908E-8A6D1CA5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BAF5-A0A2-4932-872F-85423E9E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9E8-08DF-4DFE-99DC-96249017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534960" indent="-20556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2" marL="822960" indent="-164520">
              <a:spcBef>
                <a:spcPts val="11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3" marL="1152000" indent="-16452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4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5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6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D077-D8D6-422C-9D83-E3F706844E62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E323-4963-4B15-B10F-70A89796EDFD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  <a:p>
            <a:pPr lvl="1" marL="425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2" marL="850320" algn="ctr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3" marL="1275480" algn="ctr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4" marL="1700640" algn="ctr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5" marL="170064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6" marL="170064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Jovian Planets and Satellites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Realm of the Cold and Dark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Jovian vs. Terrestrial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65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ensity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Jovian, 1 to 2; Terrestrial, 3 to 5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omposit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Jovian, hydrogen + helium; Terrestrial, rocks + metal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tat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Jovian, liquids + gases; Terrestrial, solids + plastic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Jovian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larger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than Terrestria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Jovian vs. Terrestrial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772400" cy="72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Jovian mor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assiv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than Terrestria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or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internal energy at birth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Ratio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ass/surface area les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, lose energy at slower rat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Longer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evolutionary lives, but no markers (solid surfaces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Atmospher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573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Upper layer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visibl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; no distinct solid surfaces lower dow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Thick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gases of hydrogen, helium, methane, ammonia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Weather driven by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hea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from interior (convection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Interior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56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antle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Density layers with gradual transitions; gases and liquids (lots of hydrogen) plus ices (methane, ammonia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ore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Rocky with some metals (earthlike); hot (few 10,000 K); temperature falls from center outward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Energy Outflow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63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Jupiter, Saturn, Neptune emit about </a:t>
            </a:r>
            <a:r>
              <a:rPr b="0" lang="en-US" sz="4800" spc="-1" strike="noStrike">
                <a:solidFill>
                  <a:srgbClr val="006600"/>
                </a:solidFill>
                <a:latin typeface="Impact"/>
              </a:rPr>
              <a:t>twice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 as much energy as received from sun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Emit about </a:t>
            </a:r>
            <a:r>
              <a:rPr b="0" lang="en-US" sz="4800" spc="-1" strike="noStrike">
                <a:solidFill>
                  <a:srgbClr val="006600"/>
                </a:solidFill>
                <a:latin typeface="Impact"/>
              </a:rPr>
              <a:t>100 times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 that of the earth per square meter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Implies </a:t>
            </a:r>
            <a:r>
              <a:rPr b="0" lang="en-US" sz="4800" spc="-1" strike="noStrike">
                <a:solidFill>
                  <a:srgbClr val="006600"/>
                </a:solidFill>
                <a:latin typeface="Impact"/>
              </a:rPr>
              <a:t>large store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 of internal heat (massive!)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atellites (Lots!)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ost ar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ixture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of ices + rocks (density about 2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cant evidence of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volcanism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and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tectonic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on majority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Heavily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ratered terrai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about 4 Gy old,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unevolved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Ring System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65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mall (baseball) to large (houses) sizes, independent orbits (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Kepler’s law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Icy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bright) and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arb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dark) surfac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n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quatorial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plane of plane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Result of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tidal forc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2T15:52:46Z</dcterms:created>
  <dc:creator>Michael Zeilik</dc:creator>
  <dc:description/>
  <dc:language>en-US</dc:language>
  <cp:lastModifiedBy>Michael Zeilik</cp:lastModifiedBy>
  <dcterms:modified xsi:type="dcterms:W3CDTF">2001-12-18T03:25:40Z</dcterms:modified>
  <cp:revision>9</cp:revision>
  <dc:subject/>
  <dc:title>Jovian Planets and Satellites</dc:title>
</cp:coreProperties>
</file>