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905-493D-4AF4-B3AD-EFF71307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5B7-1D40-4159-AD82-5D69ECF0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AC8-5965-47B5-9A42-230AE270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952-7168-4734-B2F0-C7E0C1FE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4C5D-D506-4D3B-8715-D7F6F671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705A-941F-4223-9072-AE7115B4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11E5-611D-4CAE-AA62-6889ADD8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243D-77B1-496E-8186-D16ABBA4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800D-0444-42A5-BD8D-A313AB76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08CB-D8BD-47FB-BCE6-029C89B1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4298-81D8-494F-ADDA-021CE9C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87D6-E47C-4923-A518-011EF247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5F47-B792-46B3-98AE-0913DF92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9C80-9199-44E5-8124-9B463103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229F-6C9A-484D-BB84-50FE085A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449C-9B89-4A93-A848-AF665264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620B-C191-445B-A0E2-C48822DB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53E1-0D4B-49F5-A42B-7850060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EC6-28B8-4BE0-9B26-A6074727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01E-1B75-4C2F-B9C6-BE2D489A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2899-EF6E-4114-B670-2DFF876B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3C3-FCCB-4472-AAF9-C021508D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524-65B9-4668-A3CC-ECFA4B4B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1849-5121-4A6A-9655-24740B0E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B55-D67A-4900-8DF2-5CD456016DD0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33A3-9EEC-4F06-AD9B-A0B74C54481A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Planetary Motion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Newton’s Laws: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The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New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 Physics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Newton’s Law of Gravita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925040" cy="71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sults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Kepler’s law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new version of 3rd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edicts/explains motions of planets with grea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ecis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ysical basi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heliocentric model (earth’s rotation, revolu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owerfu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heory of gravit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Newton’s Law of Gravita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redicts interactions of masses even outside solar system: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universal physical law! 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rased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eparat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f earth and sk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Newton thought cosmos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finit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; otherwise all masses would have already collapsed together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wton’s La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AW 1: A body is in natural motion when it i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t re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 when moving along at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stant spe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long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raight lin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efinition o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atural mo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wton’s La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AW 2: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e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ce applied to a mass results in a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eler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cceleration i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rectly proporti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the net force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versely proporti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the mas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wton’s La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59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the rate of motion (km/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eloc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speed wit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rec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eler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ang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eloc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peed, direction, or both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ccelerations result from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e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orces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add them all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wton’s La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ircular motion i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elerat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motion (even if speed constan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Why?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r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motion is constant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ang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ary motions a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elerat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implies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or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ewton’s La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AW 3: Every force involves anothe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qu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b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pposit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rces act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imultaneo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ai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Falling Bod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Impact"/>
              </a:rPr>
              <a:t>Observ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ll masses near surface of earth fall wit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ccelera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Impact"/>
              </a:rPr>
              <a:t>Infer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Gravity acts so that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eater 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pulled by a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eater for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ravita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58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Interaction at a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between masses (any size, shape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ore mass =&gt; more force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irectly proportional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to mas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Greater distance =&gt; less force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versely proportional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to square of distance: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inverse square law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Newton’s Law of Gravitation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294920"/>
            <a:ext cx="7772400" cy="69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rce is proportional to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(M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Impact"/>
              </a:rPr>
              <a:t>1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 x M</a:t>
            </a:r>
            <a:r>
              <a:rPr b="0" lang="en-US" sz="4400" spc="-1" strike="noStrike" baseline="-25000">
                <a:solidFill>
                  <a:srgbClr val="006600"/>
                </a:solidFill>
                <a:latin typeface="Impact"/>
              </a:rPr>
              <a:t>2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)/Distance</a:t>
            </a:r>
            <a:r>
              <a:rPr b="0" lang="en-US" sz="4400" spc="-1" strike="noStrike" baseline="30000">
                <a:solidFill>
                  <a:srgbClr val="006600"/>
                </a:solidFill>
                <a:latin typeface="Impact"/>
              </a:rPr>
              <a:t>2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utside of a body, acts as if all mass is concentrated a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enter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eigh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a force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edict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scape spe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one object leaving another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space travel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16:30:58Z</dcterms:created>
  <dc:creator>Diane L. Marshall</dc:creator>
  <dc:description/>
  <dc:language>en-US</dc:language>
  <cp:lastModifiedBy>Michael Zeilik</cp:lastModifiedBy>
  <cp:lastPrinted>2001-02-19T04:15:38Z</cp:lastPrinted>
  <dcterms:modified xsi:type="dcterms:W3CDTF">2001-12-18T02:12:13Z</dcterms:modified>
  <cp:revision>27</cp:revision>
  <dc:subject/>
  <dc:title>Planetary Motions</dc:title>
</cp:coreProperties>
</file>