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68D2-D27B-48EE-B8EF-938F98CF0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8508-BC19-49AA-A51C-579E69AF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A561-59DE-44DA-A0DF-FF429A8B8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FCE0-AC90-42F3-AA05-48C78E993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2B44-4E60-4E3D-9F35-3B2714E7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4EDF8-6585-4AC3-8BF7-BAE9C6E6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11BF-FB37-4D98-817C-EC00A15B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60F5-9E38-4CFD-95A9-92E8AEC7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8CAB-C94E-4E26-BC50-9187BF4F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3A57-4685-480A-8974-789A4BBF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FCDE-CBE1-440F-BD04-114576F7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60C8-67CE-43C3-94E7-F1A7A54F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6840-6B5B-490F-8F61-7BFE8B92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B81F-E8B8-4FD8-975D-C35D325B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6CBA-CB98-4266-925E-754A49DE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98E6-8CE8-49F1-AA3D-BBD2D841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0FFE-91DE-47CA-A5BC-11A42F387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B95F-07C5-45A3-9CA0-F0025C12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716F-1524-47E0-8EFA-182BF3B6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5916-354F-4491-8CFA-45D01856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D20B-8447-4880-B6AF-84507D16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330B-7C3E-4A29-8D6C-F2F05C0E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77E4-2C0A-489F-B4DC-3B47CDB6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58D9-873C-499A-B208-3B2648B7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534960" indent="-205560">
              <a:spcBef>
                <a:spcPts val="1100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2" marL="822960" indent="-164520">
              <a:spcBef>
                <a:spcPts val="11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3" marL="1152000" indent="-164520">
              <a:spcBef>
                <a:spcPts val="1100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4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5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6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9A43-7F7F-4D35-A851-B959B47FF355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C284-EAE0-429A-9B24-BDC31B652671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  <a:p>
            <a:pPr lvl="1" marL="425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2" marL="850320" algn="ctr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3" marL="1275480" algn="ctr">
              <a:spcBef>
                <a:spcPts val="499"/>
              </a:spcBef>
              <a:buClr>
                <a:srgbClr val="66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4" marL="1700640" algn="ctr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5" marL="1700640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6" marL="1700640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Solar System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All masses that </a:t>
            </a:r>
            <a:r>
              <a:rPr b="0" lang="en-US" sz="6000" spc="-1" strike="noStrike">
                <a:solidFill>
                  <a:srgbClr val="006600"/>
                </a:solidFill>
                <a:latin typeface="Impact"/>
              </a:rPr>
              <a:t>orbit</a:t>
            </a: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 the sun plus the sun!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Solar System Content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77240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u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most of the mass!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Planet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and their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atellite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Asteroid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asteroid belt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omet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Oort cloud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Ga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and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ust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all over!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Terrestrial Planet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Earthlike: rocks, metal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12120" indent="-31212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olids and fluidlike material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12120" indent="-31212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urfaces that record chang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12120" indent="-31212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mall sizes, but high densitie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12120" indent="-31212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Inside asteroid belt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Jovian Planet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11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Jupiter-like: </a:t>
            </a:r>
            <a:r>
              <a:rPr b="0" lang="en-US" sz="4800" spc="-1" strike="noStrike">
                <a:solidFill>
                  <a:srgbClr val="006600"/>
                </a:solidFill>
                <a:latin typeface="Impact"/>
              </a:rPr>
              <a:t>Liquids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 &amp; </a:t>
            </a:r>
            <a:r>
              <a:rPr b="0" lang="en-US" sz="4800" spc="-1" strike="noStrike">
                <a:solidFill>
                  <a:srgbClr val="006600"/>
                </a:solidFill>
                <a:latin typeface="Impact"/>
              </a:rPr>
              <a:t>gases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marL="270720" indent="-27072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Impact"/>
              </a:rPr>
              <a:t>No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 solid surfaces to preserve changes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marL="270720" indent="-270720">
              <a:lnSpc>
                <a:spcPct val="90000"/>
              </a:lnSpc>
              <a:spcBef>
                <a:spcPts val="11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Large sizes, low densities, made mostly of </a:t>
            </a:r>
            <a:r>
              <a:rPr b="0" lang="en-US" sz="4800" spc="-1" strike="noStrike">
                <a:solidFill>
                  <a:srgbClr val="006600"/>
                </a:solidFill>
                <a:latin typeface="Impact"/>
              </a:rPr>
              <a:t>hydrogen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 and </a:t>
            </a:r>
            <a:r>
              <a:rPr b="0" lang="en-US" sz="4800" spc="-1" strike="noStrike">
                <a:solidFill>
                  <a:srgbClr val="006600"/>
                </a:solidFill>
                <a:latin typeface="Impact"/>
              </a:rPr>
              <a:t>helium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  <a:p>
            <a:pPr marL="270720" indent="-270720">
              <a:lnSpc>
                <a:spcPct val="90000"/>
              </a:lnSpc>
              <a:spcBef>
                <a:spcPts val="1199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Impact"/>
              </a:rPr>
              <a:t>Outside</a:t>
            </a:r>
            <a:r>
              <a:rPr b="0" lang="en-US" sz="4800" spc="-1" strike="noStrike">
                <a:solidFill>
                  <a:srgbClr val="660066"/>
                </a:solidFill>
                <a:latin typeface="Impact"/>
              </a:rPr>
              <a:t> asteroid belt</a:t>
            </a:r>
            <a:endParaRPr b="0" lang="en-US" sz="48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Planet Model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Mas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&amp; spherical shape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(Newton’s law of gravitation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257040" indent="-25704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Radiu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from angular size and distance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257040" indent="-25704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Bulk density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mass/volume) =&gt; infer general composition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257040" indent="-25704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Contain density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layer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lowest, surface; highest, core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257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Evolution of Planet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Heat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energy flow)!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Heat goes from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hotter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to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ooler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region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Drives internal &amp; surfac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hang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18960" indent="-31896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Eventually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radiate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into spac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Heat Transfer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onductio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solids; adjacent particles collide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onvectio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fluids; lower density blobs rise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Radiatio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radiate energy, emitted and absorbed) 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Internal Evolution 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Energy flow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from core to surface to space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267480" indent="-2674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ourc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Stored energy of formation, radioactive decay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267480" indent="-267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Results in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volcanism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,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tectonic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on solid surfaces (terrestrial);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onvectio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in liquids &amp; gases (Jovian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External Evolution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Impact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cratering: Solid objects from space, hit at tens km/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01680" indent="-3016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Bomb-like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explosio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; many megatons (H-bomb!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01680" indent="-3016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Creates circular impact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crater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on solid surfaces;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turbulent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regions in liquid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21:07:26Z</dcterms:created>
  <dc:creator>Michael Zeilik</dc:creator>
  <dc:description/>
  <dc:language>en-US</dc:language>
  <cp:lastModifiedBy>Michael Zeilik</cp:lastModifiedBy>
  <dcterms:modified xsi:type="dcterms:W3CDTF">2001-12-18T01:48:57Z</dcterms:modified>
  <cp:revision>11</cp:revision>
  <dc:subject/>
  <dc:title>Solar System</dc:title>
</cp:coreProperties>
</file>