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7A3-5516-43BF-8639-B589F560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F4F-5971-4305-B59B-FF2B45F5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0B08-2D9C-4681-802A-CC74ED04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017-207F-4740-B183-6100D20A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4DB4-B614-40F9-B0DC-71425448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0E68-9A05-47F1-80A5-A9265EF0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CAEC-3A1B-4DDB-922F-E0C03031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96B0-AD8B-4B0D-9525-4CA147AE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CB46-8E96-445B-B129-14A1809B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C660-5084-4A1C-9D5D-521C81A7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7B91-DD82-4406-971E-8D92CA47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7FC-A889-4C46-83C6-996D3057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88B9-65D6-47F2-B74A-421FC48A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56DD-962B-4F31-BF82-9425A0C8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4CD5-B4EF-4536-9476-E941758A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B705-CA83-443F-B4B2-085FE429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710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986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43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7710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986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A451-084F-4D6A-B323-4B6B4855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7658-D194-4865-8C5B-C26FBE9E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BAB-D449-4491-907A-F3434168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500-0CBE-4000-8C6F-FEB9D0CB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16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D2E-5AD3-476A-A5AE-C36DE453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FCA3-E0CF-4511-99F3-A13A0A07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56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C6E-3F08-4C8A-8F5A-76DAF94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AA76-BD95-423F-96A3-F111F28A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1" marL="534960" indent="-20556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2" marL="822960" indent="-164520">
              <a:spcBef>
                <a:spcPts val="11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3" marL="1152000" indent="-164520">
              <a:spcBef>
                <a:spcPts val="11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4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5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lvl="6" marL="1481040" indent="-164520">
              <a:spcBef>
                <a:spcPts val="1100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87E6-AB2B-4640-8D2A-4FC480677A45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776F-5770-40B8-8A55-3AEABADA7DD0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  <a:p>
            <a:pPr lvl="1" marL="42516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2" marL="850320" algn="ctr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3" marL="1275480" algn="ctr"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4" marL="1700640" algn="ctr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5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  <a:p>
            <a:pPr lvl="6" marL="1700640">
              <a:spcBef>
                <a:spcPts val="4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Violence in the Cosmos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Impact"/>
              </a:rPr>
              <a:t>Active Galaxies, Quasars, and Supermassive Black Holes </a:t>
            </a:r>
            <a:endParaRPr b="0" lang="en-US" sz="6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Signs of Violence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9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Emission over a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broad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range (radio to x-ray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Concentrated in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mall reg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at center of a galax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Jetlike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structures emerging from nucleus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Nonthermal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, usually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synchrotr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emission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(fast electrons in organized magnetic fields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ctive Galaxie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72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High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si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ompared to “normal” galaxi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Optical flux general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west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Mostl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ynchrotr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infrared common exception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Jets from nucleus, end i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arg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b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viewed at radio)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Active Galactic Nuclei 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5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GN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Nucleus source of energy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Radio galaxies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Je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channel material from nucleus to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ob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eyfert Galaxi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Luminous nucleus, emission lines indicating high gas speed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BL Lac Object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Variable flux and no emission lines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Quasars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573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how typical AGN features plus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very larg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redshift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If redshifts from cosmic expansion, then quasars are ver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istant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and ver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luminou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Puzzl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: Much energy from small nucleus, source?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Gravitational Lensing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Distant objects, such as quasars, good candidates for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bending of their light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by large masses between us and them (massive galaxy, cluster)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Large telescopes have discovered many examples; </a:t>
            </a:r>
            <a:r>
              <a:rPr b="0" lang="en-US" sz="4000" spc="-1" strike="noStrike">
                <a:solidFill>
                  <a:srgbClr val="006600"/>
                </a:solidFill>
                <a:latin typeface="Impact"/>
              </a:rPr>
              <a:t>confirm</a:t>
            </a:r>
            <a:r>
              <a:rPr b="0" lang="en-US" sz="4000" spc="-1" strike="noStrike">
                <a:solidFill>
                  <a:srgbClr val="660066"/>
                </a:solidFill>
                <a:latin typeface="Impact"/>
              </a:rPr>
              <a:t> general relativity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Unified AGN/Quasar Model 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64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Energy source: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upermassive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(10</a:t>
            </a:r>
            <a:r>
              <a:rPr b="0" lang="en-US" sz="4400" spc="-1" strike="noStrike" baseline="30000">
                <a:solidFill>
                  <a:srgbClr val="660066"/>
                </a:solidFill>
                <a:latin typeface="Impact"/>
              </a:rPr>
              <a:t>9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solar masses) black holes in nuclei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Surrounded b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accretion disk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, hot from infall of material, jets along axis of disk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Disk emission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ionizes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gases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ff"/>
                </a:solidFill>
                <a:latin typeface="Impact"/>
              </a:rPr>
              <a:t>Unified AGN/Quasar Model</a:t>
            </a:r>
            <a:endParaRPr b="0" lang="en-US" sz="5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58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as closest to disk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hot &amp; fast-moving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; gas farther out cooler &amp;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slow-moving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Gas surrounded by </a:t>
            </a: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dusty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paque ring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66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Impact"/>
              </a:rPr>
              <a:t>Orientation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of disk/ring to our line of sight determines what kind of “object” we see!</a:t>
            </a:r>
            <a:endParaRPr b="0" lang="en-US" sz="4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5:10:08Z</dcterms:created>
  <dc:creator>Michael Zeilik</dc:creator>
  <dc:description/>
  <dc:language>en-US</dc:language>
  <cp:lastModifiedBy>Michael Zeilik</cp:lastModifiedBy>
  <dcterms:modified xsi:type="dcterms:W3CDTF">2001-12-18T15:50:56Z</dcterms:modified>
  <cp:revision>9</cp:revision>
  <dc:subject/>
  <dc:title>Violence in the Cosmos</dc:title>
</cp:coreProperties>
</file>