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E5A-1934-4211-9A38-123B1099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022-CE45-486B-A2C8-9708801D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FAEF-B98D-4884-9E72-5C908D33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333-AF0D-4640-B913-549A65D9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E183-35E5-424E-A906-30ED5812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5A45-BAF0-4E7D-8C78-BE73E429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E75F-BB23-47A4-8C6B-B7BA65A4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4BB7-32BA-4BDB-8C1E-16503D3E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00F-B37A-4CA6-AA3A-B51221DA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7C42-58BC-4860-B5CA-8771594F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56E-4323-4682-9F64-40C9CC6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FF68-F6A3-40F3-AD2E-5E021915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A980-F0FF-4357-9496-19E064D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7C5-E3F9-4C8A-8462-C6076074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BE75-9DA6-4B4F-AF5D-52D2B394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9CB1-B008-4ABF-87A3-3A40CDA8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EB77-47C6-4FE0-A2F2-8074D807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3012-8E40-4145-8D7F-59CEE349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5A9-9CAD-4DF0-BFCA-DA2FCB28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C922-E08F-4622-943B-4C5C76C7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4ACF-CF70-40FD-83AA-EFDC1578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A74B-5B6F-4608-93B0-784B6408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F9F-8171-47CF-AA04-FBDDD11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707-48E1-48AC-B24F-6FA739F4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155E-CE6C-4E51-8E2B-4539127FD08D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645-2A42-4706-A04C-03DA111700B1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Albert Einstein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A New Vision of the Cosmos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instein’s Vis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2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pace + Time =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pacetim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 dimensions: 3 of space and 1 of tim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osmos has only these 4 dimens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ust know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her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whe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Natural Mo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159048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ewton: Natural motion i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stant speed along a straight lin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constant velocity, no accelerat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traight lin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Shortest distance between two poin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Assumed: A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la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Euclidean) geometr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instei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59048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O assumption about local or global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eometr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cosmos (flat or curve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Optio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flat (Euclidean), open (saddle), closed (sphere), in four dimensions (spacetim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atural motion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reefall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weightlessness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Impact"/>
              </a:rPr>
              <a:t>General Theory of Relativity</a:t>
            </a:r>
            <a:endParaRPr b="0" lang="en-US" sz="48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ravit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o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 force!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Natural mo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a curved spacetime.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bjects follow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traigh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4-dimensional!) lines in spacetim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“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tter tells space how to curve, and space tells matter how to move.”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ravity-Two View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Newton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Forc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interactions at a distanc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instein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urs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local paths in spacetim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43040" indent="-285840">
              <a:spcBef>
                <a:spcPts val="9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Predicts</a:t>
            </a: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 bending of light (eclipses, gravitational lenses), expansion of universe; used in GPS satellit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eneral Theory Cosmology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110960"/>
            <a:ext cx="8001000" cy="705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hysic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cosmological models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xplai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past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redic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utur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Big Bang (any geometry)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Big Bore (flat or open)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901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Big Crunch (closed)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ompar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tual den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ritical density 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open, flat ≤ critical; closed &gt; critical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18:08:21Z</dcterms:created>
  <dc:creator>Michael Zeilik</dc:creator>
  <dc:description/>
  <dc:language>en-US</dc:language>
  <cp:lastModifiedBy>Michael Zeilik</cp:lastModifiedBy>
  <dcterms:modified xsi:type="dcterms:W3CDTF">2001-12-18T02:18:24Z</dcterms:modified>
  <cp:revision>17</cp:revision>
  <dc:subject/>
  <dc:title>Einstein</dc:title>
</cp:coreProperties>
</file>