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DAD-2991-4E33-BB47-48ABF7A0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303-E5F1-429C-88EF-0C67FC6E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E953-E09A-4488-981D-0FEE414D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69A-6831-493B-955A-688C1B75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C83A-0D1D-4C6A-A607-CDF21FEC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747E-DFC0-471C-BCD0-13D7686D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2D01-3879-4229-8033-EBA757A6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9CD4-9550-42A0-B5B1-B6AC6302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AE13-2C28-4F47-A358-60F2D4C3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C474-1722-494A-99A7-BF80E03E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B1B3-EA9F-45F5-8FDA-C2D00A42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AE14-0EE2-40FA-BB69-736AAD25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06E8-4485-45AA-A5F5-71A3B827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52D8-5520-4A0C-8AAE-2CDAFE48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879A-1431-4D09-AEE0-E61CDB1B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2D6E-4098-4F1F-8425-EB2384B7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30B5-AA2E-44CA-ADAE-A825C0B0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D90-DF3C-4026-AA3B-9FC25BC7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E75-7DB0-4669-8B2A-91975CD3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F6C-10D7-4C62-8B34-5D1BE843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6B4-39C7-4D64-9819-73F0623C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8FC4-3985-40F0-9C98-22CBA0C6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D5DA-1B0B-434E-9B5F-35126308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826A-28E1-45FD-8336-91B28D79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47D6-861F-4495-9E3D-B85857759CE0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E744-55FC-4420-A06A-8FD114FBE2D7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GALAXIES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	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Visible contents of the cosmos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Galaxies: Local or Distant?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772400" cy="70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ngular diameters span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atio of abou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100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ngular diameter =&gt; actual diameter to distance ratio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arge ratio =&gt; large distanc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ncher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epheid variabl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n Andromeda galaxy (1922);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2 million ly!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Galaxies-Distanc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6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Distance indicators: Objects whos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uminositi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estimated (cepheids/P-L main method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easur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lux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rom whole galaxy, appl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nverse-square law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or light, get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ta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with an error, sometimes large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Galaxies: Shap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87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lliptical: 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otball; little starbirth now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k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spiral): Starbirth in disk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rregular: 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o special shape; lots of starbirth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eculiar shap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Usually involve collisio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Galaxies-Properti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772400" cy="70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ctual diameter from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ngula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amet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tan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Luminosity from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lux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tan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apply inverse-square law for ligh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ass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otation curv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disks) from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oppl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hift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Newton’s version Kepler’s 3rd)!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Hubble Law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772400" cy="70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easur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ed shift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radial velocities) a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tanc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rect propor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Greater distances, larger red shifts (radial velocities) implies the universe i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xpanding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xpansion rate now: about 20 km/s/Mly  =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ubbl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“constant”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“</a:t>
            </a: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Age” of Cosmo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72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ime = distance/rate (rate = H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f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 = 30 km/s/Ml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age about 10 billion years (whoops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f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 = 20 km/s/Ml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age about 15 billion years (OK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f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 = 15 km/s/Ml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age about 20 billion years (better yet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Mass/Luminosity Ratio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044720"/>
            <a:ext cx="7772400" cy="77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vide mas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M in solar masses) b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uminosit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L in solar luminosities); for sun, M/L = 1; near sun, M/L a few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dd mass but not luminosity (dark matter) increases M/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/L up to 100 in galaxies; what/where is th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ark matt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usters &amp; Supercluster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317600"/>
            <a:ext cx="8077320" cy="66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ed shifts as proxy for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tanc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tai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few hundred to few thousand galaxi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iz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up to billion light year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/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a few hundred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lots of dark matter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upercluster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largest entities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 cosmos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1T15:29:21Z</dcterms:created>
  <dc:creator>Michael Zeilik</dc:creator>
  <dc:description/>
  <dc:language>en-US</dc:language>
  <cp:lastModifiedBy>Michael Zeilik</cp:lastModifiedBy>
  <cp:lastPrinted>2001-04-18T12:36:49Z</cp:lastPrinted>
  <dcterms:modified xsi:type="dcterms:W3CDTF">2001-12-18T03:30:52Z</dcterms:modified>
  <cp:revision>33</cp:revision>
  <dc:subject/>
  <dc:title>Galaxies: Local or Distant?</dc:title>
</cp:coreProperties>
</file>