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3DF-43F1-4B90-998A-73ABB576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C58-6313-4566-BFD9-F86C8F4E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6E9-1D34-4E56-9BE7-6198D5E7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64A-BC0A-46CA-B862-6FCE60D11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11E2-4D34-40F9-9B62-DAE9EDF0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D88A-F64F-46E5-B4BC-C9E0291B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F154-6F64-43A2-A2EF-B2A316EF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FF76-F28A-4587-8600-BDE043BF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D2FB-C2B5-4F01-A5AC-89B8B01D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B9EA-89A2-4E0A-A149-3674397A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A0DB-0589-48B3-9902-AD681AF9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F0B-F5A1-4792-9832-F9D92062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B294-015C-423C-B5F0-C6457A09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825A-BE5E-44C7-A756-6434EE45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9305-DC48-48A2-9BD8-65A26060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D353-F035-4692-936D-8853A3F0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5911-ECDB-4C06-AD58-EA3FA292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2BF-9D46-4E14-A075-8ACF8EC1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08E4-52C6-4996-9B5A-DD3F909E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F617-E298-4E2C-85FD-B1B87AB6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EC2-4CCA-49C6-97D4-0AAE845D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21D-097B-4E7B-9F8A-5B6985B7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7B2-A4EB-42C8-9F55-EA7F5E3D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A38-77FD-4076-9EE2-951015BC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838D-4C00-448D-9156-34C123E36805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AA09-28B2-4AE0-814C-36C09F28FA9A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The Sun: Home Star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Solar-Stellar Connection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rface Temperature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ssume: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adiates like a blackbody (Planck curve of continuous emiss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he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Match overall curve or use peak of emiss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e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Temp about 5800 K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olar Energy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ource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usion reactio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H =&gt; He) in core, where temperature 10 to 15 million K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How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 = mc</a:t>
            </a:r>
            <a:r>
              <a:rPr b="0" lang="en-US" sz="4400" spc="-1" strike="noStrike" baseline="30000">
                <a:solidFill>
                  <a:srgbClr val="006600"/>
                </a:solidFill>
                <a:latin typeface="Impact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; thermonuclear reactions convert mass to energy (heat &amp; light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nergy flow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From core to surface takes light about 200,000 y (opaque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The Su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Key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olar-stella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connec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ose-up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ode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 other star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ocal “lab” for testing ideas about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hysic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star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nergy sour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 most life on eart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n: Propert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sit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u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know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find these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n: Propert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rface temperatur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hemical composi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nalyz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ectrum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find these; do not need to know distance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Distance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1 AU! Abou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150 million km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ow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? Bounce radar signals off Venus! Know distance in AU from Kepler’s laws. Know speed of light, measure travel time =&gt; distance in km, known fraction of AU; get AU in km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Luminosity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t earth, measu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lux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Energy passing through an area per second =&gt; 1370 W/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magine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her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round the sun with radius 1 AU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ollects 4 x 10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26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W, sun’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s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r powe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as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ppl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Newton’s version of Kepler’s 3rd or Newton’s 2nd law plus law pf gravita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67480" indent="-267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ee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rth’s orbital perio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365 days)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150 million km (1 AU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67480" indent="-267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esul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2 x 10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30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kg, 330,000 times that of eart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Diameter (Radius)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ngular diame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earth about 1/2 degree =&gt;  actual diameter/distance = 1/11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Know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1 AU in km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ctual diame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= (1/110) x 150 x 10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6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km = about 1.4 million km, o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100 times eart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16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hemical Composi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bsorption-line spectrum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tc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lines to those of known elemen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formation only abou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hotospher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where lines form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st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72%)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26%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4T17:37:00Z</dcterms:created>
  <dc:creator>Michael Zeilik</dc:creator>
  <dc:description/>
  <dc:language>en-US</dc:language>
  <cp:lastModifiedBy>Michael Zeilik</cp:lastModifiedBy>
  <dcterms:modified xsi:type="dcterms:W3CDTF">2001-12-17T15:41:28Z</dcterms:modified>
  <cp:revision>15</cp:revision>
  <dc:subject/>
  <dc:title>The Sun: Home Star</dc:title>
</cp:coreProperties>
</file>