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196C-BDC4-4C8B-B213-2036484C4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4CA7-90BE-47F2-9E83-E70F2E87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EF93-CBB7-43E6-AD60-815E7544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60FD-CAD7-48F2-9CED-C770D4671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DD4F-C564-4EE7-9932-6AFFEC19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F763-52BA-4375-8CE2-9345A006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78C7-E9F3-4E59-B898-D03FCBB3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C0B4-5C05-4B91-84F4-F1F71B6E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7F53-2077-41CB-8240-AD09B460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A752-7170-470D-8E27-35A97147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66DA-018B-44A9-8B1F-F90A21C3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7C91-AAE1-46E3-8D93-CC9C8320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EDEF-C8E5-4E63-9BE8-1D52FE32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F9B6-4EB8-48A2-A332-DC95E6C3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E612-7813-481A-A638-EA038617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B8C8-D49D-4AA4-9845-2AEB135E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4D215-7CC2-4D51-B1D5-513495497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AC26-0FA4-4A88-A206-75B969D2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F648-CC60-435D-97D4-B3769235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4899-0B90-4ECA-8CCB-E37E73E6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36C5-83E9-4EEC-9ACC-AE0C9143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0D75-DE6D-45F7-8207-D6297027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778D-FB00-46FC-BA5F-59B8EEF0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F36A-7C0F-413A-A957-4C76392D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534960" indent="-205560">
              <a:spcBef>
                <a:spcPts val="1100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2" marL="822960" indent="-164520">
              <a:spcBef>
                <a:spcPts val="11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3" marL="1152000" indent="-164520">
              <a:spcBef>
                <a:spcPts val="1100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4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5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6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E415-50F8-4EE4-B09F-6D06D4A66988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FCD7-7C98-4BE9-81D2-D3BF1820D4CA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  <a:p>
            <a:pPr lvl="1" marL="4251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2" marL="850320" algn="ctr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3" marL="1275480" algn="ctr">
              <a:spcBef>
                <a:spcPts val="499"/>
              </a:spcBef>
              <a:buClr>
                <a:srgbClr val="66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4" marL="1700640" algn="ctr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5" marL="1700640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6" marL="1700640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Solar System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All masses that </a:t>
            </a:r>
            <a:r>
              <a:rPr b="0" lang="en-US" sz="6000" spc="-1" strike="noStrike">
                <a:solidFill>
                  <a:srgbClr val="006600"/>
                </a:solidFill>
                <a:latin typeface="Impact"/>
              </a:rPr>
              <a:t>orbit</a:t>
            </a: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 the sun </a:t>
            </a:r>
            <a:r>
              <a:rPr b="0" lang="en-US" sz="6000" spc="-1" strike="noStrike">
                <a:solidFill>
                  <a:srgbClr val="006600"/>
                </a:solidFill>
                <a:latin typeface="Impact"/>
              </a:rPr>
              <a:t>plus</a:t>
            </a: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 the sun!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Solar System Content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77240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u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most of the mass!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Planet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and their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atellite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Asteroid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asteroid belt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omet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Oort cloud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Ga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and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ust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all over!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Terrestrial Planet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772400" cy="601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Earthlike: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rock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,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metal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olid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and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fluidlik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material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urfaces that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record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chang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mall sizes, but high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ensitie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Insid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asteroid belt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Jovian Planet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772400" cy="58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Jupiter-like: </a:t>
            </a:r>
            <a:r>
              <a:rPr b="0" lang="en-US" sz="4800" spc="-1" strike="noStrike">
                <a:solidFill>
                  <a:srgbClr val="006600"/>
                </a:solidFill>
                <a:latin typeface="Impact"/>
              </a:rPr>
              <a:t>Liquids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 &amp; </a:t>
            </a:r>
            <a:r>
              <a:rPr b="0" lang="en-US" sz="4800" spc="-1" strike="noStrike">
                <a:solidFill>
                  <a:srgbClr val="006600"/>
                </a:solidFill>
                <a:latin typeface="Impact"/>
              </a:rPr>
              <a:t>gases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Impact"/>
              </a:rPr>
              <a:t>No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 solid surfaces to preserve changes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Large sizes, low densities, made mostly of </a:t>
            </a:r>
            <a:r>
              <a:rPr b="0" lang="en-US" sz="4800" spc="-1" strike="noStrike">
                <a:solidFill>
                  <a:srgbClr val="006600"/>
                </a:solidFill>
                <a:latin typeface="Impact"/>
              </a:rPr>
              <a:t>hydrogen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 and </a:t>
            </a:r>
            <a:r>
              <a:rPr b="0" lang="en-US" sz="4800" spc="-1" strike="noStrike">
                <a:solidFill>
                  <a:srgbClr val="006600"/>
                </a:solidFill>
                <a:latin typeface="Impact"/>
              </a:rPr>
              <a:t>helium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Impact"/>
              </a:rPr>
              <a:t>Outside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 asteroid belt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Planet Model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78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Mas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&amp; spherical shape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(Newton’s law of gravitation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Radiu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from angular size and distance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Bulk density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mass/volume) =&gt; infer general composition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Contain density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layer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lowest, surface; highest, core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Evolution of Planet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Heat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energy flow)!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Heat goes from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hotter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to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ooler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region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Drives internal &amp; surface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hang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Eventually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radiate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into spac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Energy Transfer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onductio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solids; adjacent particles collide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onvectio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fluids; lower density blobs rise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Radiatio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radiate energy, emitted and absorbed)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Internal Evolution 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58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Energy flow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from core to surface to spac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ourc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Stored energy of formation, radioactive decay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Results in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volcanism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,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tectonic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on solid surfaces (terrestrial);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onvectio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in liquids &amp; gases (Jovian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External Evolution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573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Impact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cratering: Solid objects from space, hit at tens km/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Bomb-like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explosio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; many megatons (H-bomb!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Creates circular impact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rater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on solid surfaces;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turbulent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regions in liquid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21:07:26Z</dcterms:created>
  <dc:creator>Michael Zeilik</dc:creator>
  <dc:description/>
  <dc:language>en-US</dc:language>
  <cp:lastModifiedBy>Michael Zeilik</cp:lastModifiedBy>
  <dcterms:modified xsi:type="dcterms:W3CDTF">2001-12-18T03:19:35Z</dcterms:modified>
  <cp:revision>12</cp:revision>
  <dc:subject/>
  <dc:title>Solar System</dc:title>
</cp:coreProperties>
</file>