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FF2F-61C6-4D0B-A4CF-AF6ABAE10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A525-3042-4FA7-B705-FBB484DD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542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542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396C-904B-4240-803C-D54E2C294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996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272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996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272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3962-6935-45A3-9C1B-991EA28C2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5D53-6C1B-4634-B116-5E080AA27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3A56-EFA2-4E0D-A60D-0F0B999F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DE21-DE2B-4BF6-8018-EB0E5A20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42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5F4C-DB0E-4316-828A-41C5BDEB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F341-181E-4284-8A25-B2D441A7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AB2C-61BF-40B4-BE2D-1D652E49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542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42D9-F74C-4324-BD44-53580A56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2DFB-BA54-4F59-A525-F4042A5C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542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542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7158-710D-499F-AA2B-E109E8DE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3542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16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3CE8-EEF1-4626-BF63-2F697837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3716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6DBA-A406-4467-826E-86662A5E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542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3716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3542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B5D0-D3F5-41A2-9502-96D5F8716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996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6272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3716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996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6272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218F-891B-4A97-90F8-D2D8C143F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CCF5-E117-4E4D-A367-6DC51314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42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2379-097F-49A4-99F8-D9801D0D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DB23-9678-419A-BF05-3777A72D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20DB-3B0B-4427-B830-26BE54F4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42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8BF4-CC36-4577-AA6E-6C616D3D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42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542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D9C7-877E-487E-9C3D-07F6D1CC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42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7746-D4A7-4583-B5B2-D4CAB5EF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371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lvl="1" marL="594360" indent="-228600">
              <a:spcBef>
                <a:spcPts val="100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lvl="2" marL="914400" indent="-18288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lvl="3" marL="1280160" indent="-182880">
              <a:spcBef>
                <a:spcPts val="1001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lvl="4" marL="1645920" indent="-182880">
              <a:spcBef>
                <a:spcPts val="1001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lvl="5" marL="1645920" indent="-182880">
              <a:spcBef>
                <a:spcPts val="1001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lvl="6" marL="1645920" indent="-182880">
              <a:spcBef>
                <a:spcPts val="1001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D18F-973C-474F-8716-043608A1DC50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A5FF-B180-4318-BEA8-916A8B5AB05F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lvl="1" marL="45720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  <a:p>
            <a:pPr lvl="2" marL="914400" algn="ctr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660066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Stars: Other Suns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Impact"/>
              </a:rPr>
              <a:t>The Solar-Stellar Connection</a:t>
            </a: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Stellar lifetime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Fuel reserve depends on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mass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; fuel use depends on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luminosity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05280" indent="-30528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Lifetime depends on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reserve/use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, 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or M/M</a:t>
            </a:r>
            <a:r>
              <a:rPr b="0" lang="en-US" sz="4000" spc="-1" strike="noStrike" baseline="30000">
                <a:solidFill>
                  <a:srgbClr val="660066"/>
                </a:solidFill>
                <a:latin typeface="Impact"/>
              </a:rPr>
              <a:t>4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or 1/M</a:t>
            </a:r>
            <a:r>
              <a:rPr b="0" lang="en-US" sz="4000" spc="-1" strike="noStrike" baseline="30000">
                <a:solidFill>
                  <a:srgbClr val="660066"/>
                </a:solidFill>
                <a:latin typeface="Impact"/>
              </a:rPr>
              <a:t>3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05280" indent="-30528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More mass =&gt; shorter lifetime 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(by a lot!)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Stellar age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0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Lifetime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is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total span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of active life from fusion reactions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05280" indent="-305280">
              <a:spcBef>
                <a:spcPts val="10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Age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is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time elapsed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since fusion began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05280" indent="-30528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Sun’s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lifetime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about 10 billion years;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age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about 5 billion years (middle age!)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Hertzsprung-Russell Diagram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Impact"/>
              </a:rPr>
              <a:t>Plot of </a:t>
            </a:r>
            <a:r>
              <a:rPr b="0" lang="en-US" sz="3600" spc="-1" strike="noStrike">
                <a:solidFill>
                  <a:srgbClr val="006600"/>
                </a:solidFill>
                <a:latin typeface="Impact"/>
              </a:rPr>
              <a:t>stellar luminosities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</a:rPr>
              <a:t> (low to high) versus </a:t>
            </a:r>
            <a:r>
              <a:rPr b="0" lang="en-US" sz="3600" spc="-1" strike="noStrike">
                <a:solidFill>
                  <a:srgbClr val="006600"/>
                </a:solidFill>
                <a:latin typeface="Impact"/>
              </a:rPr>
              <a:t>surface temperature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</a:rPr>
              <a:t> (hot to cool)</a:t>
            </a: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Impact"/>
              </a:rPr>
              <a:t>A </a:t>
            </a:r>
            <a:r>
              <a:rPr b="0" lang="en-US" sz="3600" spc="-1" strike="noStrike">
                <a:solidFill>
                  <a:srgbClr val="006600"/>
                </a:solidFill>
                <a:latin typeface="Impact"/>
              </a:rPr>
              <a:t>sorting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</a:rPr>
              <a:t> tool: stars fall into different regions</a:t>
            </a: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Impact"/>
              </a:rPr>
              <a:t>Main sequence, giants, supergiants, white dwarfs</a:t>
            </a: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Physical Propertie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Luminosity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Mass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Size (diameter/radius)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Surface temperature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Chemical composition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Distance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0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Heliocentric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stellar parallax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05280" indent="-305280">
              <a:spcBef>
                <a:spcPts val="10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Inverse relation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: Smaller parallax, greater the distance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05280" indent="-30528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Hipparcos satellite measured over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100,000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stars precisely (±1 mas), over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1 million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with less precision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Luminositie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Measure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flux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at earth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294840" indent="-29484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Imagine a sphere with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radius equal to distance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to star; catches all flux from star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294840" indent="-29484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Apply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inverse square law for light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294840" indent="-29484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Watch out for interstellar dust! (dims the starlight)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2948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Masse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Measure directly only with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binary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systems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of stars (lots!)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12120" indent="-31212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Revolve around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center of mass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12120" indent="-31212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Apply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Kepler’s 3rd law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to get sum of masses from orbital period, separation (need distance!)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Size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Angular diameters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mostly too small (mas!) to measure directly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25800" indent="-32580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New optical techniques work on some stars (more to come!)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25800" indent="-325800">
              <a:spcBef>
                <a:spcPts val="10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Angular diameter + distance </a:t>
            </a:r>
            <a:br>
              <a:rPr sz="4000"/>
            </a:b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=&gt; physical diameter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Chemical Composition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Examine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spectra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(most show absorption lines)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22200" indent="-32220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Match darks lines to those for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known elements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22200" indent="-32220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Gives composition of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photosphere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only (mostly H, He)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Temperature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From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color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(hottest, bluish white; coolest, reddish)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22200" indent="-32220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Or from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wavelength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at peak in the continuous spectra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22200" indent="-32220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Assume radiate like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blackbodies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(many do!)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Mass-luminosity relation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A star’s mass and luminosity are related: a little more mass means a lot more luminosity!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01680" indent="-301680">
              <a:spcBef>
                <a:spcPts val="10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Luminosity directly proportional </a:t>
            </a:r>
            <a:br>
              <a:rPr sz="4000"/>
            </a:b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to Mass</a:t>
            </a:r>
            <a:r>
              <a:rPr b="0" lang="en-US" sz="4000" spc="-1" strike="noStrike" baseline="30000">
                <a:solidFill>
                  <a:srgbClr val="006600"/>
                </a:solidFill>
                <a:latin typeface="Impact"/>
              </a:rPr>
              <a:t>4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 = M x M x M x M!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01680" indent="-30168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Ex: 2 solar mass star is L ≈ 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2 x 2 x 2x 2 =16 solar luminosities!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0T11:29:57Z</dcterms:created>
  <dc:creator>Michael Zeilik</dc:creator>
  <dc:description/>
  <dc:language>en-US</dc:language>
  <cp:lastModifiedBy>Michael Zeilik</cp:lastModifiedBy>
  <cp:lastPrinted>2001-03-26T14:24:32Z</cp:lastPrinted>
  <dcterms:modified xsi:type="dcterms:W3CDTF">2001-12-11T20:49:54Z</dcterms:modified>
  <cp:revision>18</cp:revision>
  <dc:subject/>
  <dc:title>Stars: Other Suns</dc:title>
</cp:coreProperties>
</file>