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D791-2704-4B02-9F25-857ABAF6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7724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704840"/>
            <a:ext cx="77724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2B18-D80C-4F42-BCFC-23BB2F0A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37926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4280" y="1066680"/>
            <a:ext cx="37926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704840"/>
            <a:ext cx="37926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4280" y="4704840"/>
            <a:ext cx="37926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ACF-4169-4704-BB49-E187733E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250236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9600" y="1066680"/>
            <a:ext cx="250236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7240" y="1066680"/>
            <a:ext cx="250236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704840"/>
            <a:ext cx="250236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9600" y="4704840"/>
            <a:ext cx="250236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7240" y="4704840"/>
            <a:ext cx="250236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78E1-8A98-4C1E-8F52-1EF461E4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71CD-BECF-4D90-8C6B-4F99B310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1066680"/>
            <a:ext cx="7772400" cy="696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2286-2D3A-42CE-A6BF-A33177A8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772400" cy="69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D484-7E48-4D21-A18A-7A9FF269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3792600" cy="69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4280" y="1066680"/>
            <a:ext cx="3792600" cy="69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EAC9-DB6F-4B8F-90C2-9E942C97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2967-B319-4E55-BE40-2E3C0D67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0E0E-1FAF-45FB-B06A-C2FB9293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37926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54280" y="1066680"/>
            <a:ext cx="3792600" cy="69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704840"/>
            <a:ext cx="37926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CFCB-A0F4-47C3-B273-0AFD01D7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1066680"/>
            <a:ext cx="7772400" cy="696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0305-2E91-4811-A8CF-B089F480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3792600" cy="69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54280" y="1066680"/>
            <a:ext cx="37926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54280" y="4704840"/>
            <a:ext cx="37926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DD39-60EB-48F8-8850-5422E741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37926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354280" y="1066680"/>
            <a:ext cx="37926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4704840"/>
            <a:ext cx="77724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A61E-87D4-42DC-82AF-BE21D4D6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7724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371600" y="4704840"/>
            <a:ext cx="77724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D877-878E-45A4-85CF-3F9FAA24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37926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54280" y="1066680"/>
            <a:ext cx="37926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704840"/>
            <a:ext cx="37926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54280" y="4704840"/>
            <a:ext cx="37926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80EB-5C57-4DFA-B94D-C6810360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250236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99600" y="1066680"/>
            <a:ext cx="250236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27240" y="1066680"/>
            <a:ext cx="250236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371600" y="4704840"/>
            <a:ext cx="250236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99600" y="4704840"/>
            <a:ext cx="250236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627240" y="4704840"/>
            <a:ext cx="250236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6A71-4D34-4414-909C-E5E47675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772400" cy="69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01A-E146-4123-A788-05E8F7DD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3792600" cy="69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4280" y="1066680"/>
            <a:ext cx="3792600" cy="69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0225-BA87-444E-BA6D-B8E07DC3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5EE5-5D01-443D-99EB-BEDE193D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2175-7C36-4BC8-8595-35C7CDC3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37926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1066680"/>
            <a:ext cx="3792600" cy="69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704840"/>
            <a:ext cx="37926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115-D9E6-410A-A220-DE9C07BA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3792600" cy="69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4280" y="1066680"/>
            <a:ext cx="37926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4280" y="4704840"/>
            <a:ext cx="37926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30C-BD50-437D-9AFB-7E11E578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37926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066680"/>
            <a:ext cx="37926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704840"/>
            <a:ext cx="7772400" cy="33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3B61-A46E-4720-82F6-74F15A11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371600" y="1066680"/>
            <a:ext cx="7772400" cy="69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11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1100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1100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1100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1100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ACE3-D2C9-4FC3-BF47-3305D7315286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EDD3-9A6D-4532-BCA3-4C979005324D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660066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Planetary Motions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Impact"/>
              </a:rPr>
              <a:t>Kepler’s Laws:</a:t>
            </a:r>
            <a:endParaRPr b="0" lang="en-US" sz="72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Impact"/>
              </a:rPr>
              <a:t>Physics </a:t>
            </a:r>
            <a:r>
              <a:rPr b="0" lang="en-US" sz="7200" spc="-1" strike="noStrike">
                <a:solidFill>
                  <a:srgbClr val="006600"/>
                </a:solidFill>
                <a:latin typeface="Impact"/>
              </a:rPr>
              <a:t>not</a:t>
            </a:r>
            <a:r>
              <a:rPr b="0" lang="en-US" sz="7200" spc="-1" strike="noStrike">
                <a:solidFill>
                  <a:srgbClr val="660066"/>
                </a:solidFill>
                <a:latin typeface="Impact"/>
              </a:rPr>
              <a:t> optional!</a:t>
            </a:r>
            <a:endParaRPr b="0" lang="en-US" sz="72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Planetary Motion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697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Periodic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: Repeat at fixed intervals of time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99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Shape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: Follow a regular geometric path--what is it?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99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Layout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: Heliocentric, with spacing set by observations and geometry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6EC4-6FF5-490A-B332-3E5D74B1E79A}" type="slidenum">
              <a:t>2</a:t>
            </a:fld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Kepler’s Laws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066320"/>
            <a:ext cx="7772400" cy="62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mpirical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Based on observations,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not theory (geometrical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aw 1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Orbits elliptica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aw 2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Equal areas in equal tim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aw 3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Regular spacing of planets from su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72A9-7805-496B-9174-5259DB89AD51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Law 1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294920"/>
            <a:ext cx="7772400" cy="60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Planetary orbits are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elliptical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with the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sun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at one focus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Distance between sun and planet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varies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(perihelion-closest; aphelion-farthest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Average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distance = semimajor axis  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Orbits are not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very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elliptical </a:t>
            </a: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(small eccentricities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2C4A-AAEE-414D-A366-EAC091F308EA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Law 2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61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A line between a planet and the sun sweeps out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qual areas in equal tim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Orbital speed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var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with distance from the sun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aphelion, slowest; perihelion, fastes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nse of a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forc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from sun acting on planet (magnetic?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E56A-46F7-480F-B307-B4140DFC5197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Law 3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218960"/>
            <a:ext cx="7772400" cy="58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Orbital period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quare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divided by average distanc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ube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is a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nstan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Orbital speed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ecreas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a lot!) with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increasing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distance from the su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Objects at sam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stance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follow sam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orbit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582F-FF31-4EAC-949A-91A6B87A2075}" type="slidenum">
              <a:t>6</a:t>
            </a:fld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4T16:32:24Z</dcterms:created>
  <dc:creator>Diane L. Marshall</dc:creator>
  <dc:description/>
  <dc:language>en-US</dc:language>
  <cp:lastModifiedBy>Michael Zeilik</cp:lastModifiedBy>
  <cp:lastPrinted>2000-02-14T16:59:04Z</cp:lastPrinted>
  <dcterms:modified xsi:type="dcterms:W3CDTF">2001-12-18T02:08:42Z</dcterms:modified>
  <cp:revision>18</cp:revision>
  <dc:subject/>
  <dc:title>Plantary Motions</dc:title>
</cp:coreProperties>
</file>