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F9A-EF05-46C4-AA56-3FE4A659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67B-516F-48D5-8D04-D6E06332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6AD-B7D0-4459-BF7A-D6D0B49B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14B9-67B3-4056-B074-6F6274FF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3C5F-E5AB-46B9-9767-B04E3F48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DF8A-C278-4BF1-8A33-D50391D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482-C8D2-4AAA-B0BF-9E1C72A2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B5BF-22C5-4936-B0D7-E344C266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672-D81A-4987-9C34-A1453B43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6442-ED4C-4DDD-BD6E-CFBF1427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3B49-35DF-48D2-9F7E-CC90BCD4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E92-B435-41D9-B5E2-9CF5000C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731A-038B-4350-93DA-ABE74784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A563-87D8-4EF1-8D5C-7377018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F689-78B6-417B-9A65-7519CB44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F4B3-12EA-4DB4-B7EC-228D215B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7C1-F388-4532-A19B-2190B013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4B5A-CA4C-4743-A633-BE2E91CA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DFB-E5D2-45DC-B5C6-15562445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DFE-A6AC-4C16-A149-B690C56F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D75-8F8C-4174-9A80-F9643205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3CC-100D-4B27-B1A4-AB9B841D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D6C0-891D-401D-900D-48D69169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2761-E623-4606-9E33-E8DF9C4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8485-2A45-434E-B9C2-A37AF7B91C4E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82A8-05AD-4007-9F2B-112C385F4DA5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cientific Models in Astronomy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Patterns: </a:t>
            </a:r>
            <a:br>
              <a:rPr sz="6000"/>
            </a:b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find, explain, predict, and understand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od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2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ools for thought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magin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Verbal, graphical, physical, mechanical, analogical, mathematic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clude on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mportant features (a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imp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s possibl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cientific Mod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8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Explain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Current (and past!) observation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Predict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Future observation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Changeabl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To match observations better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Must be able to prove them “wrong” (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falsifiabl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cientific Mod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379520"/>
            <a:ext cx="7772400" cy="65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Geometr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Shapes and layout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such as circles, spheres, triangle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hysic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Motions and interactions of physical object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esthetic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simple and pleasing; coherent; connected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ssumption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Explicit or implicit; should be fewest necessar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formation (“Facts”)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7724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We observe “data”; need meaning to become information; models mak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eaning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, result i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understanding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ifferent models can result in different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act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from th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am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data (“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odel dependen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”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cience is th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proces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finding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eaning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in nature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odels and Theor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7772400" cy="65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dels can result in basic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nific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observat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dels can open up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e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reas of investig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dels can reveal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nectio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not seen befo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f powerful enough, models can be raised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heor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39:36Z</dcterms:created>
  <dc:creator>Diane L. Marshall</dc:creator>
  <dc:description/>
  <dc:language>en-US</dc:language>
  <cp:lastModifiedBy>Michael Zeilik</cp:lastModifiedBy>
  <cp:lastPrinted>2001-01-28T15:35:12Z</cp:lastPrinted>
  <dcterms:modified xsi:type="dcterms:W3CDTF">2001-12-18T01:58:47Z</dcterms:modified>
  <cp:revision>20</cp:revision>
  <dc:subject/>
  <dc:title>Scientific Models in Astronomy</dc:title>
</cp:coreProperties>
</file>