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291E-5E48-43CF-852D-44FA30D1C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AEA9-5970-4B2D-8E40-435E3A43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DD04-11BC-4156-B9A2-A0A20B8EC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771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3986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C752-656E-4694-86B1-B7387ABF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C18F-FAA6-477D-9AA6-1932C7BA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BFF1-1CF8-451D-B962-9813EC63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744B-3E52-446B-9C70-3C4076DD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4F31-0460-44EB-A6B0-8E5E08B3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77F1-5518-4755-90E0-BCE6BE74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D7F6-34C6-4C95-A4D7-FB060F02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2E2F-9635-4876-8B1F-3639099C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2D0B-B236-4CF6-B55A-6946863F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0093-02DF-443A-92C7-C09CA9DD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A897-A8E4-4E00-B4DE-BFFA67E9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E3A9-1A34-46E4-A617-60A99F1A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DE1A-7723-46D3-97EC-FBE36D7C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43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771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986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B3F7-435C-4CA8-A368-10CCBD821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BEE7-2983-413C-8015-A62A7DD1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F429-55F1-4EC4-9C6B-C97BFD6F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C23A-7555-4A07-91B3-DC33A904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A1F3-6A72-48F0-AF9C-B8918151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F466-65A6-4957-8574-71C0A51B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656A-C07C-414E-BE57-9132CFC2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8772-FD75-4D01-A493-962E8895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1" marL="534960" indent="-205560">
              <a:spcBef>
                <a:spcPts val="1100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2" marL="822960" indent="-164520">
              <a:spcBef>
                <a:spcPts val="11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3" marL="1152000" indent="-164520">
              <a:spcBef>
                <a:spcPts val="1100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4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5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6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2879-3E21-475D-881B-98314A0025D7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A3FA-E032-43B6-9AE9-32B46AC3C155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indent="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  <a:p>
            <a:pPr lvl="1" marL="41148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  <a:p>
            <a:pPr lvl="2" marL="822960" algn="ctr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3" marL="1234440" algn="ctr">
              <a:spcBef>
                <a:spcPts val="499"/>
              </a:spcBef>
              <a:buClr>
                <a:srgbClr val="66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4" marL="1645920" algn="ctr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5" marL="1645920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6" marL="1645920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Terrestrial Planets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Impact"/>
              </a:rPr>
              <a:t>Earthlike Worlds of Rocks and Metals</a:t>
            </a: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Mars: Surface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73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Lowland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Cratered southern hemisphere (wind erosion now; water erosion in past)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Highland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Volcanic regions in northern hemisphere (2 Gy old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Ratio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volcanic/cratered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about 0.7; between moon and earth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Interior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58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Moon: 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Rocky core; coo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Mercury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Large cold metal core, thin rocky mantl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Mar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Small metal core, large rocky mantl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Venu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Large hot metal core; interior much like earth’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Comparative Evolution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64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Mass matters!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More mass,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greater internal energy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from formation, radioactive decay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More mass, greater size (volume), ratio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 mass/surface area less,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lower rate of heat loss, longer evolution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Evolution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67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Formed by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accretio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of smaller bodies; melted, differentiated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Crust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olidified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;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ratered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by impacts; basins formed (filled by volcanism, water on earth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Los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of internal energy: End of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evolutionary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lif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Earth: Model Planet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837720"/>
            <a:ext cx="7772400" cy="73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Mass and radius give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mass/volume = bulk density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, about 5.5 times water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Key to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ompositio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, internal structure, verified by seismic wave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Metals bulk density about 8, rocks about 3; earth about 50-50 metals/rock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Density Layer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or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metals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Mantl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dense rocks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rust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less dense rocks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Partially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or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fully melted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to separate by density (differentiation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Internal Energy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5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Heat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now at surface about 0.1 watt per square meter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Internal energy stored from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formation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(by accretion) plus radioactive decay =&gt; 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larger in past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Infrared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from surface escapes to space, lost forever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Energy Outflow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Volcanism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Molten material, gases rise to surface; adds to crust and atmospher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Tectonic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Any motions of the crust; plate tectonics involve large-scale motion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Age of Earth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70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Radioactive dating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Decay of isotopes with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long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half-live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Gives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elapsed tim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since rock last melted and solidified (remelting resets clock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Oldest rocks about 4 Gy + 0.5 Gy for earth’s formation =&gt; about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4.5 Gy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for earth’s ag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Relative Age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199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Impact"/>
              </a:rPr>
              <a:t>Oldest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 regions of crust: </a:t>
            </a:r>
            <a:r>
              <a:rPr b="0" lang="en-US" sz="4800" spc="-1" strike="noStrike">
                <a:solidFill>
                  <a:srgbClr val="006600"/>
                </a:solidFill>
                <a:latin typeface="Impact"/>
              </a:rPr>
              <a:t>Central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 </a:t>
            </a:r>
            <a:r>
              <a:rPr b="0" lang="en-US" sz="4800" spc="-1" strike="noStrike">
                <a:solidFill>
                  <a:srgbClr val="006600"/>
                </a:solidFill>
                <a:latin typeface="Impact"/>
              </a:rPr>
              <a:t>regions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 of continents (few Gy)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marL="325800" indent="-325800">
              <a:lnSpc>
                <a:spcPct val="80000"/>
              </a:lnSpc>
              <a:spcBef>
                <a:spcPts val="1199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Impact"/>
              </a:rPr>
              <a:t>Youngest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 regions of crust: </a:t>
            </a:r>
            <a:r>
              <a:rPr b="0" lang="en-US" sz="4800" spc="-1" strike="noStrike">
                <a:solidFill>
                  <a:srgbClr val="006600"/>
                </a:solidFill>
                <a:latin typeface="Impact"/>
              </a:rPr>
              <a:t>Seafloor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 (few hundred My)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lvl="1" marL="705600" indent="-271440">
              <a:lnSpc>
                <a:spcPct val="80000"/>
              </a:lnSpc>
              <a:spcBef>
                <a:spcPts val="1001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Upwelling of materials from mantle by convection</a:t>
            </a:r>
            <a:endParaRPr b="0" lang="en-US" sz="4000" spc="-1" strike="noStrike">
              <a:solidFill>
                <a:srgbClr val="660066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1001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Constantly renewed</a:t>
            </a:r>
            <a:endParaRPr b="0" lang="en-US" sz="4000" spc="-1" strike="noStrike">
              <a:solidFill>
                <a:srgbClr val="660066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1001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Migration of continents</a:t>
            </a:r>
            <a:endParaRPr b="0" lang="en-US" sz="4000" spc="-1" strike="noStrike">
              <a:solidFill>
                <a:srgbClr val="6600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Mercury: Surface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7772400" cy="74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ratered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highlands (4 Gy old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Large impact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basin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, plains with few craters (3 Gy old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Ratio volcanic/cratered terrain about 0.3; same as moon’s ratio =&gt;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evolution similar to moon’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“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Dead” 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planet now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Venus: Surface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8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Highlands: 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Volcanic and local (not global!) tectonic rise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Lowlands: 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Undulating lava plain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Ratio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volcanic/cratered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about 4; similar to earth’s ratio; surface evolved as much as earth’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23:36:11Z</dcterms:created>
  <dc:creator>Michael Zeilik</dc:creator>
  <dc:description/>
  <dc:language>en-US</dc:language>
  <cp:lastModifiedBy>Michael Zeilik</cp:lastModifiedBy>
  <dcterms:modified xsi:type="dcterms:W3CDTF">2001-12-18T03:23:22Z</dcterms:modified>
  <cp:revision>19</cp:revision>
  <dc:subject/>
  <dc:title>Terrestrial Planets</dc:title>
</cp:coreProperties>
</file>