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B73-6A78-47D9-913A-E13C8AA5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4C4-A7AA-4992-BE58-F0D2A8C1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D66A-278C-4849-8CF0-9867E5EF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CA94-F0A3-405D-AA70-26ED215B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B480-C408-4AF6-A4D4-822E6D50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63C3-E0E1-4F2C-8C91-88343974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F1A0-18F1-445F-BC34-28FD14D0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508B-7FD0-4255-B745-8497233A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E928-FADD-4A31-9B65-DBD42977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EAF0-1E8E-488E-B307-6F95BE0F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627A-417F-4382-8195-B3C5138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EDA-550B-4475-9EBF-EAF15B00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346E-6CB6-4FC7-9E41-6641763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024D-0411-4661-AEEB-D55330CE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74C3-C2E2-43B9-9C16-43309D5C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6585-093C-4192-9CA6-C1899C01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6372-74EC-41D0-988B-0079CB3B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DA8-9AD8-47F9-9EF2-410725B7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64B-12C9-4F52-9779-1EF9CE4E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A11-9C61-4F6C-89B8-DE189F5B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71D-1E19-40A1-B6CA-E4969A8B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A91-399A-46CB-A573-C9E043B7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DB5-F3D7-46A9-B2B7-0E04CFD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9AB1-252E-44CD-91BD-DDA2B3A4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B900-481B-4CE5-A677-C4B12276C733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9147-8FD5-4045-9F77-CDCD91644579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Origin of the Solar System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Born with the Sun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emical Condensa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emperature in disk drop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pidly ou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su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we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ocal temperatures determines what kinds of grains condense: metal, rocks + metals, ices + rocks, ices, gases + ices, gas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hemical Condensa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ear sun, mo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etals and rock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terrestrial); farther out, greate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ces and gas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Jovia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steroid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Uncollected “terrestrial” planetesim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me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Uncollected “Jovian” planetesim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Big Picture!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The solar system was born from the gravitational contraction of a large, rotating cloud of gas and dust some 4.6 Gy ago. 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lements of a Model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61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Dynamical properties (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otion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hemical properties (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composi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orma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f planets, satellites, and other stuff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Evolu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f planets, satellites, and other stuff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bular (“Cloud”) Model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Origi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Rotating interstellar cloud of gas and dus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tra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Self gravity brings cloud together; becomes denser; heats up; forms a disk with bulge in cent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bular Model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Forms at center; reflects original composition of clou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ne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Form in disk by accretion of smaller bodies; composition determined by local temperatu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bri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Remnants of materials in clou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ngular Momentum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70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endency for spinning/orbiting mass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tinu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spinning/orbiting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otal angular momentu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sta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an isolated system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emands that as a spinning cloud contracts, it spin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as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&amp; form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k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with central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ulg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The Bad Ne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62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s hav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oo muc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gular momentum (orbital), su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oo littl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gular momentum (spi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Way out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gnetic field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ransfer spin from central parts of cloud to out parts while gas in disk still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sma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hot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The Good Ne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s orbit in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ne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 nea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ircula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path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s orbit and spin in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 dire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s original spi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st satellites and rings orbit and spin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 direc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Formation of 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dens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Gas =&gt; Grai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cre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Grains hit &amp; stick, make pebbles, hit &amp; stick, make planetesim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ravitational attra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makes planetesimals =&gt; protoplane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17:49:36Z</dcterms:created>
  <dc:creator>Michael Zeilik</dc:creator>
  <dc:description/>
  <dc:language>en-US</dc:language>
  <cp:lastModifiedBy>Michael Zeilik</cp:lastModifiedBy>
  <dcterms:modified xsi:type="dcterms:W3CDTF">2001-12-18T03:27:45Z</dcterms:modified>
  <cp:revision>16</cp:revision>
  <dc:subject/>
  <dc:title>Origin of the Solar System</dc:title>
</cp:coreProperties>
</file>