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53D8-4725-49B8-BA48-84006D93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BED4-B7D9-4B4E-A178-E7B9CC89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F9C8-D8B1-4AC0-B7ED-8A58497F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9C9A-2410-4E3A-8F3E-493547762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C7A1-9C58-4084-8411-D94DD9B6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7583-80A1-4FB4-A539-4753A768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381E-0F2A-4AF5-8F78-57DF75C5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FBB6-854B-4548-82D8-81802B4E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BE6C-D7F8-4398-95EE-C1518A14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8A93-6461-400D-A0D2-D0D111C4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092D-A249-4213-8BBD-45BAFC98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B68B-E897-47E6-BE45-424F4FD6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AA2E-37F7-44BC-9079-8BD014DE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8866-D8B7-44F6-99FF-A400C0F4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CA53-0940-42DB-96A6-5B6C6400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465A-6C94-4B31-BADE-A8D63A39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D184-E5FF-45A5-86ED-E5B73597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A817-8F2E-4FF3-AB60-88427D92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F23B-9662-4835-8C50-3946D92A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4D57-A787-4443-B3F4-C994F4F4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D648-35D0-4F2C-B06B-E4DEBD12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CB1F-0BA0-4A96-AB21-C59B40F6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2029-79D5-46B4-A155-C9273AD2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C189-7022-4127-ABEB-6E2F94E8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534960" indent="-20556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2" marL="822960" indent="-164520">
              <a:spcBef>
                <a:spcPts val="11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3" marL="1152000" indent="-16452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4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5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6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57C5-D8B8-4433-956F-907E448A8714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2C99-C1F1-4212-A57D-844CA83B2E5B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  <a:p>
            <a:pPr lvl="1" marL="425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2" marL="850320" algn="ctr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3" marL="1275480" algn="ctr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1700640" algn="ctr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ff"/>
                </a:solidFill>
                <a:latin typeface="Impact"/>
              </a:rPr>
              <a:t>Star Deaths</a:t>
            </a:r>
            <a:endParaRPr b="0" lang="en-US" sz="9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00"/>
                </a:solidFill>
                <a:latin typeface="Impact"/>
              </a:rPr>
              <a:t>Mass</a:t>
            </a:r>
            <a:r>
              <a:rPr b="0" lang="en-US" sz="8000" spc="-1" strike="noStrike">
                <a:solidFill>
                  <a:srgbClr val="660066"/>
                </a:solidFill>
                <a:latin typeface="Impact"/>
              </a:rPr>
              <a:t> matters!</a:t>
            </a:r>
            <a:endParaRPr b="0" lang="en-US" sz="8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1F70-ABFF-4635-9A40-A02F2248BD09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upernovas!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71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Peak at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10 bill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solar luminositi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Lifetime about a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few month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Total energy about 10</a:t>
            </a:r>
            <a:r>
              <a:rPr b="0" lang="en-US" sz="4400" spc="-1" strike="noStrike" baseline="30000">
                <a:solidFill>
                  <a:srgbClr val="660066"/>
                </a:solidFill>
                <a:latin typeface="Impact"/>
              </a:rPr>
              <a:t>46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joules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(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99% as neutrino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Blows off a few solar masses of material at thousands km/s (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upernova remnan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3697-ED83-4D46-86C2-72D6BED205A4}" type="slidenum">
              <a:t>10</a:t>
            </a:fld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upernovas!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59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One type: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Old massive star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(about 10 solar masses) with unstable iron core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Core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collapses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in about 1 second!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Implosion releases gravitational energy, high temps for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fusion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reactions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Fuses elements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heavier than iron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; blasted into space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CA0A-E359-4FAC-B9EB-3934384308D9}" type="slidenum">
              <a:t>11</a:t>
            </a:fld>
          </a:p>
        </p:txBody>
      </p:sp>
    </p:spTree>
  </p:cSld>
  <p:transition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Neutron Stars: Pulsars!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59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Supernova core collapse makes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neutron star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(usually!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Pulsars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usually found near center of supernova remnants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Pulsars emit very short pulses (ms) at very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regular intervals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Rapidly-rotating, highly-magnetic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neutron stars are pulsars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5839-4759-4019-BC5D-3A03A4CC1E04}" type="slidenum">
              <a:t>12</a:t>
            </a:fld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tar Death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65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Stars die when fusion reactions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stop 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(still contains heat energy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Mass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at the time of death determines the form of the corpse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Stars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lose mass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before their corpse forms (winds, explosions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Corpses last “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forever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”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7E75-7BD0-4451-A967-B2B08C3F59C8}" type="slidenum">
              <a:t>2</a:t>
            </a:fld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tar Death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380988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Impact"/>
              </a:rPr>
              <a:t>Mass (at death)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&gt; 0.08 solar mass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0.08 to 1.4 solar masses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1.4 to 3 solar masses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&gt; 3 solar masses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05160" y="1447560"/>
            <a:ext cx="3809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Impact"/>
              </a:rPr>
              <a:t>Corpse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marL="315360" indent="-315360">
              <a:lnSpc>
                <a:spcPct val="110000"/>
              </a:lnSpc>
              <a:spcBef>
                <a:spcPts val="9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Impact"/>
              </a:rPr>
              <a:t>Brown dwarf</a:t>
            </a:r>
            <a:br>
              <a:rPr sz="3600"/>
            </a:br>
            <a:r>
              <a:rPr b="0" lang="en-US" sz="3600" spc="-1" strike="noStrike">
                <a:solidFill>
                  <a:srgbClr val="006600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marL="315360" indent="-315360">
              <a:lnSpc>
                <a:spcPct val="110000"/>
              </a:lnSpc>
              <a:spcBef>
                <a:spcPts val="9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Impact"/>
              </a:rPr>
              <a:t>White dwarf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marL="31536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marL="315360" indent="-315360">
              <a:lnSpc>
                <a:spcPct val="70000"/>
              </a:lnSpc>
              <a:spcBef>
                <a:spcPts val="9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Impact"/>
              </a:rPr>
              <a:t>Neutron star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marL="31536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marL="315360" indent="-315360">
              <a:lnSpc>
                <a:spcPct val="70000"/>
              </a:lnSpc>
              <a:spcBef>
                <a:spcPts val="9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Impact"/>
              </a:rPr>
              <a:t>Black hole!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5D29-0B1E-443B-9EBF-B2740177036C}" type="slidenum">
              <a:t>3</a:t>
            </a:fld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White Dwarf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54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Mass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: bit less than the sun’s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Size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: about that of the earth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Density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: about 10</a:t>
            </a:r>
            <a:r>
              <a:rPr b="0" lang="en-US" sz="4000" spc="-1" strike="noStrike" baseline="30000">
                <a:solidFill>
                  <a:srgbClr val="660066"/>
                </a:solidFill>
                <a:latin typeface="Impact"/>
              </a:rPr>
              <a:t>9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kg/m</a:t>
            </a:r>
            <a:r>
              <a:rPr b="0" lang="en-US" sz="4000" spc="-1" strike="noStrike" baseline="30000">
                <a:solidFill>
                  <a:srgbClr val="660066"/>
                </a:solidFill>
                <a:latin typeface="Impact"/>
              </a:rPr>
              <a:t>3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Made of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: electron gas (degenerate-greater mass, smaller size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Shines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: by outflow of stored heat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B02F-2041-491B-AAA1-D16F81239F14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Neutron Star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66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as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around 2 solar mass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iz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about 10 km (city!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ensity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about 10</a:t>
            </a:r>
            <a:r>
              <a:rPr b="0" lang="en-US" sz="4400" spc="-1" strike="noStrike" baseline="30000">
                <a:solidFill>
                  <a:srgbClr val="660066"/>
                </a:solidFill>
                <a:latin typeface="Impact"/>
              </a:rPr>
              <a:t>17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kg/m</a:t>
            </a:r>
            <a:r>
              <a:rPr b="0" lang="en-US" sz="4400" spc="-1" strike="noStrike" baseline="30000">
                <a:solidFill>
                  <a:srgbClr val="660066"/>
                </a:solidFill>
                <a:latin typeface="Impact"/>
              </a:rPr>
              <a:t>3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(atom’s nucleus!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ade of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neutron gas (degenerate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ade i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supernova explosion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DB86-24D0-478A-AF8B-F0CAFE7837A6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Black Hol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Impact"/>
              </a:rPr>
              <a:t>Mass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: ANY; expect 3 to 10 solar masses from normal star death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Impact"/>
              </a:rPr>
              <a:t>Size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: Schwarzschild radius-a few km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(about 3 km for sun; directly proportional to mass)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Impact"/>
              </a:rPr>
              <a:t>Escape speed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: equal to or greater than speed of light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Impact"/>
              </a:rPr>
              <a:t>Inside</a:t>
            </a:r>
            <a:r>
              <a:rPr b="0" lang="en-US" sz="3600" spc="-1" strike="noStrike">
                <a:solidFill>
                  <a:srgbClr val="660066"/>
                </a:solidFill>
                <a:latin typeface="Impact"/>
              </a:rPr>
              <a:t>: mass has zero volume, infinite density—the </a:t>
            </a:r>
            <a:r>
              <a:rPr b="0" lang="en-US" sz="3600" spc="-1" strike="noStrike">
                <a:solidFill>
                  <a:srgbClr val="006600"/>
                </a:solidFill>
                <a:latin typeface="Impact"/>
              </a:rPr>
              <a:t>singularity</a:t>
            </a:r>
            <a:endParaRPr b="0" lang="en-US" sz="36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71AD-470A-4404-8FDD-8AA5D6525AC2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Black Hol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64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ade of: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warped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spacetime (essentially permanent!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Time is “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froze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” at the Schwarzschild radius (to outside observer); never sees objects “fall in”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As black holes gain mass, they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grow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in size (can never shrink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7049-96CE-4607-B6F0-421B2F21DE6E}" type="slidenum">
              <a:t>7</a:t>
            </a:fld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Black Hol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64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Measure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mass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by visible orbiting body (Newton’s version of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Kepler’s 3rd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Most likely found in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binary stars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(black hole + regular massive star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Are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not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cosmic vacuum cleaners 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(but don’t get up close!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3199-11D1-4AE0-BF19-069D3986F361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Black Holes: X-ray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59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Matter from companion star falls into an small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accretion disk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(about 10 km) around the black hole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Disk heats up to about 10,000,000 K (conversion of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gravitational energy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Opaque material of disk emits x-rays (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blackbody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Search in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binary x-ray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sources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866C-5184-4706-82C6-BB4A4FD7F36A}" type="slidenum">
              <a:t>9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1:03:41Z</dcterms:created>
  <dc:creator>Michael Zeilik</dc:creator>
  <dc:description/>
  <dc:language>en-US</dc:language>
  <cp:lastModifiedBy>Michael Zeilik</cp:lastModifiedBy>
  <cp:lastPrinted>2000-10-24T20:22:13Z</cp:lastPrinted>
  <dcterms:modified xsi:type="dcterms:W3CDTF">2001-12-18T03:35:42Z</dcterms:modified>
  <cp:revision>30</cp:revision>
  <dc:subject/>
  <dc:title>Star Deaths</dc:title>
</cp:coreProperties>
</file>