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4120" y="366552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560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880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312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412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880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312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6448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560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4120" y="366552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560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880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3120" y="134100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412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880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3120" y="3665520"/>
            <a:ext cx="27468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6448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5600" y="366552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5600" y="1341000"/>
            <a:ext cx="4163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4120" y="3665520"/>
            <a:ext cx="853128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012000"/>
            <a:ext cx="9144000" cy="84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lustration of the first pass of the SPECK 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ias Narrosch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219320"/>
            <a:ext cx="48006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0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440" y="171468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1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3760" y="172404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0,2)1,(2,0)1,(2,2)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19320"/>
            <a:ext cx="48006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I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Split I into 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0600" y="1266480"/>
            <a:ext cx="0" cy="1647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640" y="2943360"/>
            <a:ext cx="17049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6920" y="292428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0,2),0,(0,3)0,(1,2)0,(1,3)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2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significant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2520" y="1305000"/>
            <a:ext cx="80028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219320"/>
            <a:ext cx="4800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2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0,2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0040" y="132408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1219320"/>
            <a:ext cx="4800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3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1280" y="131436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1219320"/>
            <a:ext cx="4800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2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9760" y="172404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1219320"/>
            <a:ext cx="4800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3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09720" y="172404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1219320"/>
            <a:ext cx="4800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0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4440" y="2143080"/>
            <a:ext cx="79992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1219320"/>
            <a:ext cx="4800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2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114640"/>
            <a:ext cx="80028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Outline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encoding pa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decoding p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1219320"/>
            <a:ext cx="518148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Split 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to 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,(0,4)2,(4,0)2,(4,4)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4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2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47840" y="1295280"/>
            <a:ext cx="1533600" cy="1600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0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,(4,0)1,(4,2)1,(6,0)1,(6,2)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2600" y="2943360"/>
            <a:ext cx="1533240" cy="1600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0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1,(6,0)1,(6,2)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440" y="2952720"/>
            <a:ext cx="79992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1219320"/>
            <a:ext cx="5181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2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,(4,2)0,(4,3)0,(5,2)0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5,3)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62240" y="2924280"/>
            <a:ext cx="79992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2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4,3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80960" y="295272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3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,(4,3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2200" y="295272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2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62240" y="333360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1219320"/>
            <a:ext cx="51814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71560" y="335268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2520" y="1219320"/>
            <a:ext cx="5181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,0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3800" y="3772080"/>
            <a:ext cx="80028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Outline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encoding pa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decoding p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2520" y="1219320"/>
            <a:ext cx="5181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,2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3962520"/>
            <a:ext cx="52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3160" y="3762360"/>
            <a:ext cx="79992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1219320"/>
            <a:ext cx="5181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4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3962520"/>
            <a:ext cx="52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2,0)1,(2,2)1,(0,4)2,(4,0)1,(4,2)0,(5,2)0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,3)0,(6,0)1,(6,2)1,(4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19400" y="2943360"/>
            <a:ext cx="1533600" cy="1600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4648320"/>
            <a:ext cx="8763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,(0,2),0,(0,3)0,(1,2)0,(1,3)0,(4,2)0,(5,2)0, (5,3)0,(2,0)1,(2,2)1,(4,0)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6,0)1,(6,2)1,(4,4)2,(0,4)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(0,1),(0,2),(4,3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4720" y="134316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42840" y="132408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0680" y="132408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90640" y="296244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549360"/>
            <a:ext cx="5181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vide threshold by 2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New threshold: 16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orting of the L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Small blocks first, large blocks la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No refinement bits necessary in this step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Continue with subsequent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3962520"/>
            <a:ext cx="52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Outline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encoding pa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llustration of the first decoding pas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9680" y="4724280"/>
            <a:ext cx="711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33520" y="1371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14400" y="1371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4720" y="2104920"/>
            <a:ext cx="8953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390680" y="1238040"/>
            <a:ext cx="0" cy="8665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90680" y="1247760"/>
            <a:ext cx="24098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04720" y="2114280"/>
            <a:ext cx="0" cy="2438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2514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1219320"/>
            <a:ext cx="48006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itioning into the sets S an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09680" y="4724280"/>
            <a:ext cx="632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+1-0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3520" y="1371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1371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0) is signific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9680" y="4724280"/>
            <a:ext cx="56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-0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914400" y="1371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4720" y="134316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0) is marked a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ignificant and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95320" y="134316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1) is marked a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ignificant and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9680" y="4724280"/>
            <a:ext cx="56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04720" y="171468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0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9680" y="4724280"/>
            <a:ext cx="553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71468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1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Coefficients of a two-dimensionally subband decomposed example image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1219320"/>
            <a:ext cx="48006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 is significa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Split I into 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4440" y="2914560"/>
            <a:ext cx="16761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2149200" y="1258920"/>
            <a:ext cx="12600" cy="1636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43160" y="1257480"/>
            <a:ext cx="79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501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38200" y="12477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2076480"/>
            <a:ext cx="1647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339560" y="1249200"/>
            <a:ext cx="3240" cy="1665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04800" y="2095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10492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190600" y="1266480"/>
            <a:ext cx="0" cy="1647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5640" y="2943360"/>
            <a:ext cx="17049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66920" y="292428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09680" y="4724280"/>
            <a:ext cx="57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+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2095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24080" y="1276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2120400" y="125856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1310760" y="126828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2) is signific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09680" y="4724280"/>
            <a:ext cx="57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95280" y="2095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24080" y="1276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2120400" y="125856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1310760" y="126828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52520" y="134316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2) is marked a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ignificant and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9680" y="4724280"/>
            <a:ext cx="57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2095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4080" y="1276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20400" y="125856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310760" y="126828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2480" y="137160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3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9680" y="4724280"/>
            <a:ext cx="560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095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24080" y="1276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2120400" y="125856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1310760" y="126828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71600" y="167652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9680" y="4724280"/>
            <a:ext cx="553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2095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24080" y="1276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2120400" y="125856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1310760" y="126828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167652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2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9680" y="4724280"/>
            <a:ext cx="545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4720" y="291456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360" y="208584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320480" y="206820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9176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0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09680" y="4724280"/>
            <a:ext cx="56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290520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14360" y="208584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20480" y="206820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2130120" y="20872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76120" y="981000"/>
            <a:ext cx="3554640" cy="36576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62520" y="1219320"/>
            <a:ext cx="5181480" cy="27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 significa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Split 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to 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38600" y="16668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495360" y="2924280"/>
            <a:ext cx="9360" cy="1619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90600" y="1266480"/>
            <a:ext cx="0" cy="3295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5640" y="2924280"/>
            <a:ext cx="3295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90600" y="125748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19520" y="3362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23920" y="33433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43080" y="127620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3768480" y="126828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6216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2130120" y="127800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4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5c96"/>
                </a:solidFill>
                <a:latin typeface="Arial"/>
              </a:rPr>
              <a:t>Outline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4120" y="1341000"/>
            <a:ext cx="8531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llustration of the first encoding pass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first decoding p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PE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09680" y="4724280"/>
            <a:ext cx="581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0) is signific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9680" y="4724280"/>
            <a:ext cx="560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4720" y="3714840"/>
            <a:ext cx="838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0) is not significa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09680" y="4724280"/>
            <a:ext cx="610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05000" y="3714840"/>
            <a:ext cx="838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2) is signific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9680" y="4724280"/>
            <a:ext cx="610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+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52480" y="2971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05000" y="3714840"/>
            <a:ext cx="838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71600" y="295272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9680" y="4724280"/>
            <a:ext cx="560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05000" y="3714840"/>
            <a:ext cx="838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04960" y="2962440"/>
            <a:ext cx="3808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3) is marked a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ignificant and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09680" y="4724280"/>
            <a:ext cx="581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05000" y="3714840"/>
            <a:ext cx="838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52520" y="334332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9680" y="4724280"/>
            <a:ext cx="56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05000" y="3714840"/>
            <a:ext cx="838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1320480" y="292536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880" y="3343320"/>
            <a:ext cx="38088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5640" y="3714840"/>
            <a:ext cx="838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1329840" y="372564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,0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09680" y="4724280"/>
            <a:ext cx="589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4720" y="2914560"/>
            <a:ext cx="1609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2111040" y="291636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444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49176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14360" y="3724200"/>
            <a:ext cx="8384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329840" y="3725640"/>
            <a:ext cx="3240" cy="81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,2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09680" y="4724280"/>
            <a:ext cx="596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1-00111+000001010101+0000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291456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376848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71880" y="4552920"/>
            <a:ext cx="16095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2139480" y="2906640"/>
            <a:ext cx="3240" cy="1627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1219320"/>
            <a:ext cx="48006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,4) is not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0,0)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219320"/>
            <a:ext cx="48006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itioning into the sets S an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720" y="2104920"/>
            <a:ext cx="8953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90680" y="1238040"/>
            <a:ext cx="0" cy="8665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90680" y="1247760"/>
            <a:ext cx="24098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1238400"/>
            <a:ext cx="0" cy="3295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4562640"/>
            <a:ext cx="3295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4720" y="2114280"/>
            <a:ext cx="0" cy="2438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514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5408640" y="981000"/>
            <a:ext cx="3556080" cy="365760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285840" y="981000"/>
            <a:ext cx="3556080" cy="36576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de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11280" y="465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ificant coefficients with respect to the threshold 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227640" y="465300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oded 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24360" y="134136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84720" y="134136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88000" y="141300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48360" y="299736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27520" y="1235160"/>
            <a:ext cx="4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16720" y="1228680"/>
            <a:ext cx="4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999040" y="1228680"/>
            <a:ext cx="6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85000" y="2825640"/>
            <a:ext cx="4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67280" y="2708280"/>
            <a:ext cx="1225440" cy="360360"/>
          </a:xfrm>
          <a:prstGeom prst="rightArrow">
            <a:avLst>
              <a:gd name="adj1" fmla="val 50000"/>
              <a:gd name="adj2" fmla="val 85015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0,0)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0,(0,1)0,(1,0)0,(1,1)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0) for signific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&gt; Is significant =&gt; Quad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4440" y="1285920"/>
            <a:ext cx="799920" cy="733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0,1)0,(1,0)0,(1,1)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0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562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0,0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800" y="131436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c96"/>
                </a:solidFill>
                <a:latin typeface="Arial"/>
              </a:rPr>
              <a:t>Illustration of the first encoding pass of the SPECK algorithm</a:t>
            </a:r>
            <a:endParaRPr b="1" lang="en-US" sz="1800" spc="-1" strike="noStrike">
              <a:solidFill>
                <a:srgbClr val="005c9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9600" cy="388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0880" y="49528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648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={(1,0)0,(1,1)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1219320"/>
            <a:ext cx="48006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: 32 (n=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,1) for significan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=&gt; Is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5897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SP={(0,0),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(0,1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360" y="2076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329840" y="1249200"/>
            <a:ext cx="3240" cy="82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4440" y="1257480"/>
            <a:ext cx="828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01120" y="1239480"/>
            <a:ext cx="3240" cy="82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240" y="130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962520"/>
            <a:ext cx="502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t sequence:11+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3760" y="1324080"/>
            <a:ext cx="3812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thias Narroschke</dc:creator>
  <dc:description/>
  <dc:language>en-US</dc:language>
  <cp:lastModifiedBy>Matthias.Narroschke</cp:lastModifiedBy>
  <dcterms:modified xsi:type="dcterms:W3CDTF">2011-05-01T14:16:27Z</dcterms:modified>
  <cp:revision>127</cp:revision>
  <dc:subject/>
  <dc:title>An example for coding using the SPECK algorithm</dc:title>
</cp:coreProperties>
</file>