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64F-C232-4D17-8EB9-93E9542C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938-0033-4D09-AE6A-5EC250D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267-52DC-49B8-ABF9-2DB346A4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F86-EAC0-478D-8CCE-CC61D6B4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CB2-9120-44B2-A30D-8A8C72C2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E56-6178-45C3-8D8A-A29E50F6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44C-F93B-45D6-81C3-58C387B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242-E7EF-4BC4-98EF-9BDEC46A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F3C-7DC7-418C-B43B-06417573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5CE-248B-482C-9F32-FA7DF102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07A-702E-4210-8560-2F007BE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205-BFBF-45AB-99D0-6316818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A458-4E66-46A9-BE33-464C0282334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8520" y="2525760"/>
            <a:ext cx="1866960" cy="180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041640" y="2824200"/>
            <a:ext cx="3060720" cy="1209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112920" y="2522520"/>
            <a:ext cx="2918160" cy="1812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90920" y="2147760"/>
            <a:ext cx="2162160" cy="2562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521080" y="1987560"/>
            <a:ext cx="4101840" cy="2882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38360" y="2541600"/>
            <a:ext cx="2267280" cy="1774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087640" y="2733840"/>
            <a:ext cx="4968720" cy="1390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62200" y="2541600"/>
            <a:ext cx="2019600" cy="1774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46360" y="2076480"/>
            <a:ext cx="2051280" cy="2705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897280" y="2335320"/>
            <a:ext cx="3349440" cy="2187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513240" y="1838160"/>
            <a:ext cx="2117520" cy="3181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56000" y="2906640"/>
            <a:ext cx="2232000" cy="104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451240" y="2583000"/>
            <a:ext cx="4241520" cy="1692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517920" y="2611440"/>
            <a:ext cx="2108160" cy="163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500280" y="2733840"/>
            <a:ext cx="2143440" cy="1390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517920" y="2612880"/>
            <a:ext cx="2108160" cy="1632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368440" y="2544840"/>
            <a:ext cx="4407120" cy="1768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995640" y="2519280"/>
            <a:ext cx="1152720" cy="1819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111480" y="2490840"/>
            <a:ext cx="2921040" cy="18763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38520" y="2440080"/>
            <a:ext cx="1866960" cy="1977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828880" y="2482920"/>
            <a:ext cx="3486240" cy="18921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657600" y="2543040"/>
            <a:ext cx="1828800" cy="1771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2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352680" y="2486160"/>
            <a:ext cx="2438640" cy="1885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56000" y="2897280"/>
            <a:ext cx="2232000" cy="1063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35400" y="2470320"/>
            <a:ext cx="2473200" cy="1917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043080" y="2770200"/>
            <a:ext cx="3057840" cy="131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405240" y="2516040"/>
            <a:ext cx="2333520" cy="182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558880" y="2516040"/>
            <a:ext cx="4026240" cy="18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1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59:37Z</dcterms:created>
  <dc:creator>StephenKumar, SampathKumar</dc:creator>
  <dc:description/>
  <dc:language>en-US</dc:language>
  <cp:lastModifiedBy>StephenKumar, SampathKumar</cp:lastModifiedBy>
  <dcterms:modified xsi:type="dcterms:W3CDTF">2020-06-04T10:36:37Z</dcterms:modified>
  <cp:revision>2</cp:revision>
  <dc:subject/>
  <dc:title>PowerPoint Presentation</dc:title>
</cp:coreProperties>
</file>