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5.png" ContentType="image/png"/>
  <Override PartName="/ppt/media/image35.png" ContentType="image/png"/>
  <Override PartName="/ppt/media/image10.wmf" ContentType="image/x-wmf"/>
  <Override PartName="/ppt/media/image30.wmf" ContentType="image/x-wmf"/>
  <Override PartName="/ppt/media/image34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03440"/>
            <a:ext cx="9142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" y="6130800"/>
            <a:ext cx="91422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2880" y="6246720"/>
            <a:ext cx="740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by Mandal and A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ff"/>
                </a:solidFill>
                <a:latin typeface="Times New Roman"/>
              </a:rPr>
              <a:t>© Cambridge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3.wmf"/><Relationship Id="rId3" Type="http://schemas.openxmlformats.org/officeDocument/2006/relationships/image" Target="../media/image19.wmf"/><Relationship Id="rId4" Type="http://schemas.openxmlformats.org/officeDocument/2006/relationships/image" Target="../media/image24.wmf"/><Relationship Id="rId5" Type="http://schemas.openxmlformats.org/officeDocument/2006/relationships/image" Target="../media/image21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920" y="25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 2.9: Delta Modul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09760" y="1479600"/>
            <a:ext cx="45226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600" y="-360"/>
            <a:ext cx="84106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10: Incrementally line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00240" y="2317680"/>
            <a:ext cx="41544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11: Linear D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7040" y="1407960"/>
            <a:ext cx="2457720" cy="80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35440" y="1074600"/>
            <a:ext cx="2448000" cy="1667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103400" y="2859120"/>
            <a:ext cx="242892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694400" y="2556000"/>
            <a:ext cx="2447640" cy="1619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066680" y="4027320"/>
            <a:ext cx="2438640" cy="100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4687920" y="3962520"/>
            <a:ext cx="2448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59080" y="-360"/>
            <a:ext cx="6284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2.12: Non-Linear DT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2880" y="1292400"/>
            <a:ext cx="2457360" cy="809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25840" y="1320840"/>
            <a:ext cx="2457720" cy="723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71560" y="2800440"/>
            <a:ext cx="2428920" cy="799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584600" y="2887560"/>
            <a:ext cx="2448000" cy="71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855720" y="4005360"/>
            <a:ext cx="2438280" cy="100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614840" y="4267080"/>
            <a:ext cx="24480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6040" y="0"/>
            <a:ext cx="7575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. 2.13: Time-invariant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9000" y="1392120"/>
            <a:ext cx="3294360" cy="109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48160" y="1392120"/>
            <a:ext cx="3295800" cy="1094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3600" y="3016080"/>
            <a:ext cx="3294360" cy="109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65520" y="2927520"/>
            <a:ext cx="32958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61680" y="0"/>
            <a:ext cx="60087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2.14: Time-Vary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9560" y="1332000"/>
            <a:ext cx="3294000" cy="109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51200" y="1289160"/>
            <a:ext cx="3294360" cy="109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22400" y="3071880"/>
            <a:ext cx="3294000" cy="1096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724280" y="3016080"/>
            <a:ext cx="329580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995400" y="2303640"/>
            <a:ext cx="2691360" cy="774360"/>
            <a:chOff x="995400" y="2303640"/>
            <a:chExt cx="2691360" cy="77436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1103040" y="2303640"/>
                  <a:ext cx="279000" cy="19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3623400" y="27507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996480" y="2852280"/>
              <a:ext cx="2514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06480" y="2800080"/>
              <a:ext cx="108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26840" y="2800080"/>
              <a:ext cx="144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885760" y="2800080"/>
              <a:ext cx="359640" cy="107640"/>
              <a:chOff x="2885760" y="2800080"/>
              <a:chExt cx="359640" cy="107640"/>
            </a:xfrm>
          </p:grpSpPr>
          <p:sp>
            <p:nvSpPr>
              <p:cNvPr id="104" name=""/>
              <p:cNvSpPr/>
              <p:nvPr/>
            </p:nvSpPr>
            <p:spPr>
              <a:xfrm>
                <a:off x="3065040" y="2800080"/>
                <a:ext cx="1080" cy="107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85760" y="2800080"/>
                <a:ext cx="1440" cy="107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244320" y="2800080"/>
                <a:ext cx="1080" cy="107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983960" y="2800080"/>
              <a:ext cx="144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42880" y="2800080"/>
              <a:ext cx="108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63600" y="2800080"/>
              <a:ext cx="108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66480" y="2800080"/>
              <a:ext cx="144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87200" y="2800080"/>
              <a:ext cx="108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2800080"/>
              <a:ext cx="108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5760" y="2800080"/>
              <a:ext cx="144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04680" y="2800080"/>
              <a:ext cx="1080" cy="107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090440" y="285228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266480" y="285228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1336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444320" y="285228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625400" y="285228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530080" y="2852280"/>
              <a:ext cx="533160" cy="9360"/>
              <a:chOff x="2530080" y="2852280"/>
              <a:chExt cx="533160" cy="936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2706120" y="2852280"/>
                <a:ext cx="357120" cy="9360"/>
                <a:chOff x="2706120" y="2852280"/>
                <a:chExt cx="357120" cy="9360"/>
              </a:xfrm>
            </p:grpSpPr>
            <p:sp>
              <p:nvSpPr>
                <p:cNvPr id="122" name=""/>
                <p:cNvSpPr/>
                <p:nvPr/>
              </p:nvSpPr>
              <p:spPr>
                <a:xfrm flipV="1">
                  <a:off x="2706120" y="2852280"/>
                  <a:ext cx="0" cy="9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2887200" y="2852280"/>
                  <a:ext cx="0" cy="9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3063240" y="2852280"/>
                  <a:ext cx="0" cy="9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 flipV="1">
                <a:off x="2530080" y="2852280"/>
                <a:ext cx="0" cy="93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V="1">
              <a:off x="3247560" y="285228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9300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372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5336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408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372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444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408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480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35880" y="2925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8440" y="29253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5400" y="292536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79000" y="292536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944360" y="2427120"/>
              <a:ext cx="88560" cy="424080"/>
              <a:chOff x="1944360" y="2427120"/>
              <a:chExt cx="88560" cy="424080"/>
            </a:xfrm>
          </p:grpSpPr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1944360" y="2427120"/>
                    <a:ext cx="88560" cy="15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1" name=""/>
              <p:cNvSpPr/>
              <p:nvPr/>
            </p:nvSpPr>
            <p:spPr>
              <a:xfrm flipV="1">
                <a:off x="1982160" y="2623320"/>
                <a:ext cx="0" cy="227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304720" y="2427120"/>
              <a:ext cx="88560" cy="424080"/>
              <a:chOff x="2304720" y="2427120"/>
              <a:chExt cx="88560" cy="424080"/>
            </a:xfrm>
          </p:grpSpPr>
          <mc:AlternateContent>
            <mc:Choice xmlns:a14="http://schemas.microsoft.com/office/drawing/2010/main" Requires="a14">
              <p:sp>
                <p:nvSpPr>
                  <p:cNvPr id="143" name=""/>
                  <p:cNvSpPr txBox="1"/>
                  <p:nvPr/>
                </p:nvSpPr>
                <p:spPr>
                  <a:xfrm>
                    <a:off x="2304720" y="2427120"/>
                    <a:ext cx="88560" cy="15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4" name=""/>
              <p:cNvSpPr/>
              <p:nvPr/>
            </p:nvSpPr>
            <p:spPr>
              <a:xfrm flipV="1">
                <a:off x="2342520" y="2623320"/>
                <a:ext cx="0" cy="227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768320" y="2427120"/>
              <a:ext cx="88560" cy="424080"/>
              <a:chOff x="1768320" y="2427120"/>
              <a:chExt cx="88560" cy="424080"/>
            </a:xfrm>
          </p:grpSpPr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1768320" y="2427120"/>
                    <a:ext cx="88560" cy="15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7" name=""/>
              <p:cNvSpPr/>
              <p:nvPr/>
            </p:nvSpPr>
            <p:spPr>
              <a:xfrm flipV="1">
                <a:off x="1806120" y="2623320"/>
                <a:ext cx="0" cy="227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125440" y="2427120"/>
              <a:ext cx="88560" cy="424080"/>
              <a:chOff x="2125440" y="2427120"/>
              <a:chExt cx="88560" cy="424080"/>
            </a:xfrm>
          </p:grpSpPr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2125440" y="2427120"/>
                    <a:ext cx="88560" cy="15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0" name=""/>
              <p:cNvSpPr/>
              <p:nvPr/>
            </p:nvSpPr>
            <p:spPr>
              <a:xfrm flipV="1">
                <a:off x="2163240" y="2623320"/>
                <a:ext cx="0" cy="227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1035360" y="3830760"/>
            <a:ext cx="2691360" cy="775080"/>
            <a:chOff x="1035360" y="3830760"/>
            <a:chExt cx="2691360" cy="7750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047960" y="3830760"/>
                  <a:ext cx="46980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3663360" y="42786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036800" y="4379760"/>
              <a:ext cx="25146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6440" y="432756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67160" y="432756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925720" y="4327560"/>
              <a:ext cx="360360" cy="108000"/>
              <a:chOff x="2925720" y="4327560"/>
              <a:chExt cx="360360" cy="108000"/>
            </a:xfrm>
          </p:grpSpPr>
          <p:sp>
            <p:nvSpPr>
              <p:cNvPr id="158" name=""/>
              <p:cNvSpPr/>
              <p:nvPr/>
            </p:nvSpPr>
            <p:spPr>
              <a:xfrm>
                <a:off x="3105360" y="4327560"/>
                <a:ext cx="1440" cy="1080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25720" y="4327560"/>
                <a:ext cx="1800" cy="1080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84640" y="4327560"/>
                <a:ext cx="1440" cy="1080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024280" y="432756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82840" y="432756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3560" y="432756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06800" y="432756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27160" y="432756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5360" y="432756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86080" y="432756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44640" y="432756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130400" y="438012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306800" y="438012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368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484280" y="438012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665360" y="438012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022480" y="438012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27520" y="438012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03560" y="438012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846440" y="438012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87880" y="438012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296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1404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9332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440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5368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3476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1404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12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76200" y="4453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18760" y="4453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35360" y="445320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445320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341800" y="3954600"/>
              <a:ext cx="88920" cy="425160"/>
              <a:chOff x="2341800" y="3954600"/>
              <a:chExt cx="88920" cy="425160"/>
            </a:xfrm>
          </p:grpSpPr>
          <mc:AlternateContent>
            <mc:Choice xmlns:a14="http://schemas.microsoft.com/office/drawing/2010/main" Requires="a14">
              <p:sp>
                <p:nvSpPr>
                  <p:cNvPr id="192" name=""/>
                  <p:cNvSpPr txBox="1"/>
                  <p:nvPr/>
                </p:nvSpPr>
                <p:spPr>
                  <a:xfrm>
                    <a:off x="2341800" y="3954600"/>
                    <a:ext cx="88920" cy="15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3" name=""/>
              <p:cNvSpPr/>
              <p:nvPr/>
            </p:nvSpPr>
            <p:spPr>
              <a:xfrm flipV="1">
                <a:off x="2379960" y="4151160"/>
                <a:ext cx="0" cy="2286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708280" y="3954600"/>
              <a:ext cx="88920" cy="425160"/>
              <a:chOff x="2708280" y="3954600"/>
              <a:chExt cx="88920" cy="425160"/>
            </a:xfrm>
          </p:grpSpPr>
          <mc:AlternateContent>
            <mc:Choice xmlns:a14="http://schemas.microsoft.com/office/drawing/2010/main" Requires="a14">
              <p:sp>
                <p:nvSpPr>
                  <p:cNvPr id="195" name=""/>
                  <p:cNvSpPr txBox="1"/>
                  <p:nvPr/>
                </p:nvSpPr>
                <p:spPr>
                  <a:xfrm>
                    <a:off x="2708280" y="3954600"/>
                    <a:ext cx="88920" cy="15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6" name=""/>
              <p:cNvSpPr/>
              <p:nvPr/>
            </p:nvSpPr>
            <p:spPr>
              <a:xfrm flipV="1">
                <a:off x="2746440" y="4151160"/>
                <a:ext cx="0" cy="2286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165400" y="3954600"/>
              <a:ext cx="88920" cy="425160"/>
              <a:chOff x="2165400" y="3954600"/>
              <a:chExt cx="88920" cy="425160"/>
            </a:xfrm>
          </p:grpSpPr>
          <mc:AlternateContent>
            <mc:Choice xmlns:a14="http://schemas.microsoft.com/office/drawing/2010/main" Requires="a14">
              <p:sp>
                <p:nvSpPr>
                  <p:cNvPr id="198" name=""/>
                  <p:cNvSpPr txBox="1"/>
                  <p:nvPr/>
                </p:nvSpPr>
                <p:spPr>
                  <a:xfrm>
                    <a:off x="2165400" y="3954600"/>
                    <a:ext cx="88920" cy="15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9" name=""/>
              <p:cNvSpPr/>
              <p:nvPr/>
            </p:nvSpPr>
            <p:spPr>
              <a:xfrm flipV="1">
                <a:off x="2203560" y="4151160"/>
                <a:ext cx="0" cy="2286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529000" y="3954600"/>
              <a:ext cx="88920" cy="425160"/>
              <a:chOff x="2529000" y="3954600"/>
              <a:chExt cx="88920" cy="425160"/>
            </a:xfrm>
          </p:grpSpPr>
          <mc:AlternateContent>
            <mc:Choice xmlns:a14="http://schemas.microsoft.com/office/drawing/2010/main" Requires="a14">
              <p:sp>
                <p:nvSpPr>
                  <p:cNvPr id="201" name=""/>
                  <p:cNvSpPr txBox="1"/>
                  <p:nvPr/>
                </p:nvSpPr>
                <p:spPr>
                  <a:xfrm>
                    <a:off x="2529000" y="3954600"/>
                    <a:ext cx="88920" cy="15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2" name=""/>
              <p:cNvSpPr/>
              <p:nvPr/>
            </p:nvSpPr>
            <p:spPr>
              <a:xfrm flipV="1">
                <a:off x="2567160" y="4151160"/>
                <a:ext cx="0" cy="2286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221080" y="1050840"/>
            <a:ext cx="2691720" cy="1556280"/>
            <a:chOff x="5221080" y="1050840"/>
            <a:chExt cx="2691720" cy="155628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322600" y="1832040"/>
                  <a:ext cx="29232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7849440" y="22798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222520" y="2381040"/>
              <a:ext cx="25146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32520" y="232884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52880" y="232884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1080" y="232884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11800" y="232884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0720" y="232884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0000" y="232884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68920" y="232884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89640" y="232884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92520" y="232884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13240" y="232884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51440" y="232884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71800" y="232884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30720" y="232884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316480" y="238140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492520" y="238140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976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673600" y="238140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856120" y="238140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932520" y="2381400"/>
              <a:ext cx="357120" cy="9360"/>
              <a:chOff x="6932520" y="2381400"/>
              <a:chExt cx="357120" cy="936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6932520" y="2381400"/>
                <a:ext cx="0" cy="93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113600" y="2381400"/>
                <a:ext cx="0" cy="93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7289640" y="2381400"/>
                <a:ext cx="0" cy="93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 flipV="1">
              <a:off x="6756120" y="238140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473600" y="2381400"/>
              <a:ext cx="0" cy="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1904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0012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7940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6048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3976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2084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0012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8120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61920" y="245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04840" y="245448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1080" y="245448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05400" y="245448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5978520" y="1727280"/>
                  <a:ext cx="114120" cy="1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 flipV="1">
              <a:off x="6029280" y="192420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6162480" y="1495440"/>
                  <a:ext cx="114480" cy="1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 flipV="1">
              <a:off x="6211800" y="1698480"/>
              <a:ext cx="0" cy="685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6330600" y="1270080"/>
                  <a:ext cx="114480" cy="1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 flipV="1">
              <a:off x="6389640" y="1470240"/>
              <a:ext cx="0" cy="914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511680" y="1050840"/>
                  <a:ext cx="114480" cy="1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0" name=""/>
            <p:cNvSpPr/>
            <p:nvPr/>
          </p:nvSpPr>
          <p:spPr>
            <a:xfrm flipV="1">
              <a:off x="6570360" y="1238040"/>
              <a:ext cx="0" cy="1143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56360" y="2959200"/>
            <a:ext cx="2691360" cy="2025720"/>
            <a:chOff x="5256360" y="2959200"/>
            <a:chExt cx="2691360" cy="2025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5332320" y="4203720"/>
                  <a:ext cx="34308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7884360" y="4657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257800" y="4758840"/>
              <a:ext cx="25146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67440" y="470700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88160" y="470700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26360" y="470700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47080" y="470700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05640" y="470700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5280" y="470700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03840" y="470700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4560" y="470700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27800" y="470700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48160" y="470700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86360" y="4707000"/>
              <a:ext cx="180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07080" y="470700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66000" y="4707000"/>
              <a:ext cx="1440" cy="108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351400" y="4758840"/>
              <a:ext cx="0" cy="9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527800" y="4758840"/>
              <a:ext cx="0" cy="9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7468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08520" y="4758840"/>
              <a:ext cx="0" cy="9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891040" y="4758840"/>
              <a:ext cx="0" cy="9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243480" y="4758840"/>
              <a:ext cx="0" cy="9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7148520" y="4758840"/>
              <a:ext cx="0" cy="9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324560" y="4758840"/>
              <a:ext cx="0" cy="9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067440" y="4758840"/>
              <a:ext cx="0" cy="9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508880" y="4758840"/>
              <a:ext cx="0" cy="9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5396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3504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1432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9540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7468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5576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504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1612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97200" y="4832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9760" y="483228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56360" y="483228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40320" y="483228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6737400" y="3184560"/>
                  <a:ext cx="114120" cy="1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1" name=""/>
            <p:cNvSpPr/>
            <p:nvPr/>
          </p:nvSpPr>
          <p:spPr>
            <a:xfrm flipV="1">
              <a:off x="6788160" y="3387600"/>
              <a:ext cx="0" cy="1371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6921360" y="2959200"/>
                  <a:ext cx="114480" cy="16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"/>
            <p:cNvSpPr/>
            <p:nvPr/>
          </p:nvSpPr>
          <p:spPr>
            <a:xfrm flipV="1">
              <a:off x="6970680" y="3161880"/>
              <a:ext cx="0" cy="1600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6365880" y="3648240"/>
                  <a:ext cx="114120" cy="1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 flipV="1">
              <a:off x="6424560" y="3848040"/>
              <a:ext cx="0" cy="914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546960" y="3429000"/>
                  <a:ext cx="114120" cy="1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 flipV="1">
              <a:off x="6605640" y="3615840"/>
              <a:ext cx="0" cy="1143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g. 2.15: DT Time-varying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16: Passive and Active Electric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66720" y="2235240"/>
            <a:ext cx="2967120" cy="14335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570560" y="2090880"/>
            <a:ext cx="3906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3960" y="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17: Invertib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144880" y="1946160"/>
            <a:ext cx="3702960" cy="1797120"/>
            <a:chOff x="2144880" y="1946160"/>
            <a:chExt cx="3702960" cy="1797120"/>
          </a:xfrm>
        </p:grpSpPr>
        <p:sp>
          <p:nvSpPr>
            <p:cNvPr id="304" name=""/>
            <p:cNvSpPr/>
            <p:nvPr/>
          </p:nvSpPr>
          <p:spPr>
            <a:xfrm>
              <a:off x="5371920" y="2050920"/>
              <a:ext cx="47592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54080" y="1946160"/>
              <a:ext cx="47772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44880" y="2050920"/>
              <a:ext cx="47592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76400" y="2511360"/>
              <a:ext cx="35532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003480" y="1987200"/>
              <a:ext cx="1190160" cy="457200"/>
              <a:chOff x="3003480" y="1987200"/>
              <a:chExt cx="1190160" cy="457200"/>
            </a:xfrm>
          </p:grpSpPr>
          <p:sp>
            <p:nvSpPr>
              <p:cNvPr id="309" name=""/>
              <p:cNvSpPr/>
              <p:nvPr/>
            </p:nvSpPr>
            <p:spPr>
              <a:xfrm>
                <a:off x="3003480" y="1987200"/>
                <a:ext cx="71424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CT Syst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27080" y="2214000"/>
                <a:ext cx="466560" cy="3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2530440" y="2212920"/>
              <a:ext cx="466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197240" y="1987200"/>
              <a:ext cx="1190160" cy="457200"/>
              <a:chOff x="4197240" y="1987200"/>
              <a:chExt cx="1190160" cy="457200"/>
            </a:xfrm>
          </p:grpSpPr>
          <p:sp>
            <p:nvSpPr>
              <p:cNvPr id="313" name=""/>
              <p:cNvSpPr/>
              <p:nvPr/>
            </p:nvSpPr>
            <p:spPr>
              <a:xfrm>
                <a:off x="4197240" y="1987200"/>
                <a:ext cx="71424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Invers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20840" y="2214000"/>
                <a:ext cx="466560" cy="3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5371920" y="2985840"/>
              <a:ext cx="47592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54080" y="2881080"/>
              <a:ext cx="47772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44880" y="2985840"/>
              <a:ext cx="47592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76400" y="3446280"/>
              <a:ext cx="35532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003480" y="2922480"/>
              <a:ext cx="1190160" cy="457200"/>
              <a:chOff x="3003480" y="2922480"/>
              <a:chExt cx="1190160" cy="457200"/>
            </a:xfrm>
          </p:grpSpPr>
          <p:sp>
            <p:nvSpPr>
              <p:cNvPr id="320" name=""/>
              <p:cNvSpPr/>
              <p:nvPr/>
            </p:nvSpPr>
            <p:spPr>
              <a:xfrm>
                <a:off x="3003480" y="2922480"/>
                <a:ext cx="71424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DT Syst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27080" y="3149280"/>
                <a:ext cx="466560" cy="3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530440" y="3147840"/>
              <a:ext cx="466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4197240" y="2922480"/>
              <a:ext cx="1190160" cy="457200"/>
              <a:chOff x="4197240" y="2922480"/>
              <a:chExt cx="1190160" cy="457200"/>
            </a:xfrm>
          </p:grpSpPr>
          <p:sp>
            <p:nvSpPr>
              <p:cNvPr id="324" name=""/>
              <p:cNvSpPr/>
              <p:nvPr/>
            </p:nvSpPr>
            <p:spPr>
              <a:xfrm>
                <a:off x="4197240" y="2922480"/>
                <a:ext cx="71424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Invers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20840" y="3149280"/>
                <a:ext cx="466560" cy="3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18: Stab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03520" y="2138400"/>
            <a:ext cx="576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308320" y="2392200"/>
            <a:ext cx="1671480" cy="827280"/>
            <a:chOff x="2308320" y="2392200"/>
            <a:chExt cx="1671480" cy="827280"/>
          </a:xfrm>
        </p:grpSpPr>
        <p:grpSp>
          <p:nvGrpSpPr>
            <p:cNvPr id="329" name=""/>
            <p:cNvGrpSpPr/>
            <p:nvPr/>
          </p:nvGrpSpPr>
          <p:grpSpPr>
            <a:xfrm>
              <a:off x="2308320" y="2392200"/>
              <a:ext cx="1458720" cy="763200"/>
              <a:chOff x="2308320" y="2392200"/>
              <a:chExt cx="1458720" cy="763200"/>
            </a:xfrm>
          </p:grpSpPr>
          <p:sp>
            <p:nvSpPr>
              <p:cNvPr id="330" name=""/>
              <p:cNvSpPr/>
              <p:nvPr/>
            </p:nvSpPr>
            <p:spPr>
              <a:xfrm>
                <a:off x="2469960" y="3094920"/>
                <a:ext cx="129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759400" y="2392200"/>
                <a:ext cx="360" cy="76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753640" y="2635920"/>
                <a:ext cx="930600" cy="3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08320" y="3093480"/>
                <a:ext cx="457560" cy="3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2759760" y="2635920"/>
                <a:ext cx="360" cy="457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3722400" y="2952720"/>
              <a:ext cx="2574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1960" y="2475360"/>
              <a:ext cx="2574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602240" y="309888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890960" y="2395080"/>
            <a:ext cx="1800" cy="7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890600" y="2382840"/>
            <a:ext cx="714600" cy="714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68680" y="310032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54680" y="2955960"/>
            <a:ext cx="257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73520" y="2478240"/>
            <a:ext cx="257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90960" y="2638440"/>
            <a:ext cx="4636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9880" y="264780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16400" y="307512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7520" y="2135160"/>
            <a:ext cx="576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90840" y="1684440"/>
            <a:ext cx="395928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2600" y="3529080"/>
            <a:ext cx="335880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1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Interconnec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178600" y="2851200"/>
            <a:ext cx="3693960" cy="1511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871560" y="2849400"/>
            <a:ext cx="3541680" cy="1511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739960" y="1292400"/>
            <a:ext cx="354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800" y="-36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22520" y="1976400"/>
            <a:ext cx="3919680" cy="94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36760" y="3807000"/>
            <a:ext cx="254160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960" y="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1360" y="1960560"/>
            <a:ext cx="3143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-36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54240" y="5608800"/>
            <a:ext cx="4068720" cy="255600"/>
            <a:chOff x="2154240" y="5608800"/>
            <a:chExt cx="4068720" cy="255600"/>
          </a:xfrm>
        </p:grpSpPr>
        <p:sp>
          <p:nvSpPr>
            <p:cNvPr id="52" name=""/>
            <p:cNvSpPr/>
            <p:nvPr/>
          </p:nvSpPr>
          <p:spPr>
            <a:xfrm>
              <a:off x="2154240" y="5608800"/>
              <a:ext cx="3747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00600" y="5608800"/>
              <a:ext cx="3744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48200" y="5623200"/>
              <a:ext cx="3747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60360" y="3683160"/>
            <a:ext cx="177192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370320" y="3727440"/>
            <a:ext cx="1235160" cy="596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87880" y="2692440"/>
            <a:ext cx="19638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2440" y="-360"/>
            <a:ext cx="728028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. 2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11280" y="2379600"/>
            <a:ext cx="59166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800" y="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. 2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5240" y="2457360"/>
            <a:ext cx="392904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6000" y="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2.7: Spring-damp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87640" y="2495520"/>
            <a:ext cx="18954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16600" y="2305080"/>
            <a:ext cx="1676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1920" y="-360"/>
            <a:ext cx="770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. 2.8: Differentiator and Integ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272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09840" y="3197160"/>
            <a:ext cx="2524320" cy="53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6480" y="1825560"/>
            <a:ext cx="25239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MrinalM</cp:lastModifiedBy>
  <cp:lastPrinted>1998-09-16T18:03:42Z</cp:lastPrinted>
  <dcterms:modified xsi:type="dcterms:W3CDTF">2007-08-19T22:41:57Z</dcterms:modified>
  <cp:revision>765</cp:revision>
  <dc:subject/>
  <dc:title>Presentation - ICCE</dc:title>
</cp:coreProperties>
</file>