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37.png" ContentType="image/png"/>
  <Override PartName="/ppt/media/image40.wmf" ContentType="image/x-wmf"/>
  <Override PartName="/ppt/media/image38.png" ContentType="image/png"/>
  <Override PartName="/ppt/media/image41.wmf" ContentType="image/x-wmf"/>
  <Override PartName="/ppt/media/image39.png" ContentType="image/png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2.png" ContentType="image/png"/>
  <Override PartName="/ppt/media/image35.png" ContentType="image/png"/>
  <Override PartName="/ppt/media/image46.wmf" ContentType="image/x-wmf"/>
  <Override PartName="/ppt/media/image11.wmf" ContentType="image/x-wmf"/>
  <Override PartName="/ppt/media/image36.png" ContentType="image/png"/>
  <Override PartName="/ppt/media/image48.png" ContentType="image/png"/>
  <Override PartName="/ppt/media/image8.wmf" ContentType="image/x-wmf"/>
  <Override PartName="/ppt/media/image32.wmf" ContentType="image/x-wmf"/>
  <Override PartName="/ppt/media/image7.wmf" ContentType="image/x-wmf"/>
  <Override PartName="/ppt/media/image31.wmf" ContentType="image/x-wmf"/>
  <Override PartName="/ppt/media/image6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9.wmf" ContentType="image/x-wmf"/>
  <Override PartName="/ppt/media/image4.wmf" ContentType="image/x-wmf"/>
  <Override PartName="/ppt/media/image34.wmf" ContentType="image/x-wmf"/>
  <Override PartName="/ppt/media/image13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6858000" cy="9144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5"/>
          <p:cNvSpPr/>
          <p:nvPr/>
        </p:nvSpPr>
        <p:spPr>
          <a:xfrm>
            <a:off x="0" y="938160"/>
            <a:ext cx="6856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1032"/>
          <p:cNvSpPr/>
          <p:nvPr/>
        </p:nvSpPr>
        <p:spPr>
          <a:xfrm>
            <a:off x="3240" y="8174160"/>
            <a:ext cx="685620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033"/>
          <p:cNvSpPr/>
          <p:nvPr/>
        </p:nvSpPr>
        <p:spPr>
          <a:xfrm>
            <a:off x="865080" y="8300880"/>
            <a:ext cx="576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Continuous and Discrete Time Signals and Systems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by Mandal and Asif</a:t>
            </a: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© Cambridge University P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6" descr=""/>
          <p:cNvPicPr/>
          <p:nvPr/>
        </p:nvPicPr>
        <p:blipFill>
          <a:blip r:embed="rId2"/>
          <a:srcRect l="13342" t="14006" r="21340" b="0"/>
          <a:stretch/>
        </p:blipFill>
        <p:spPr>
          <a:xfrm>
            <a:off x="0" y="8166240"/>
            <a:ext cx="74304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76680"/>
            <a:ext cx="6008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2"/>
          <p:cNvSpPr/>
          <p:nvPr/>
        </p:nvSpPr>
        <p:spPr>
          <a:xfrm>
            <a:off x="826920" y="4630680"/>
            <a:ext cx="566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Times New Roman"/>
              </a:rPr>
              <a:t>Sampling and Quant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60865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construction of a Sinusoidal Sig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Example 9.1, Fig. 9.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63" descr="fig9_7a_rev"/>
          <p:cNvPicPr/>
          <p:nvPr/>
        </p:nvPicPr>
        <p:blipFill>
          <a:blip r:embed="rId1"/>
          <a:stretch/>
        </p:blipFill>
        <p:spPr>
          <a:xfrm>
            <a:off x="1001880" y="1422360"/>
            <a:ext cx="4633920" cy="1322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4" descr="fig9_7b_rev"/>
          <p:cNvPicPr/>
          <p:nvPr/>
        </p:nvPicPr>
        <p:blipFill>
          <a:blip r:embed="rId2"/>
          <a:stretch/>
        </p:blipFill>
        <p:spPr>
          <a:xfrm>
            <a:off x="1189080" y="3147840"/>
            <a:ext cx="4303800" cy="1344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5" descr="fig9_7c_rev"/>
          <p:cNvPicPr/>
          <p:nvPr/>
        </p:nvPicPr>
        <p:blipFill>
          <a:blip r:embed="rId3"/>
          <a:stretch/>
        </p:blipFill>
        <p:spPr>
          <a:xfrm>
            <a:off x="1117440" y="4890960"/>
            <a:ext cx="4314960" cy="1263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6" descr="fig9_7d_rev"/>
          <p:cNvPicPr/>
          <p:nvPr/>
        </p:nvPicPr>
        <p:blipFill>
          <a:blip r:embed="rId4"/>
          <a:stretch/>
        </p:blipFill>
        <p:spPr>
          <a:xfrm>
            <a:off x="1434960" y="6546960"/>
            <a:ext cx="4145040" cy="11937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0" y="985680"/>
            <a:ext cx="348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pectrum  of Sinusoidal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0" y="2808360"/>
            <a:ext cx="314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pectrum of Impulse T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0" y="4557600"/>
            <a:ext cx="33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pectrum of Sampled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0" y="6313320"/>
            <a:ext cx="33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pectrum of Reconst.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3920" y="0"/>
            <a:ext cx="6172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iased Frequency Calcu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9.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 rot="16200000">
            <a:off x="130680" y="2945520"/>
            <a:ext cx="6731280" cy="29732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 rot="16200000">
            <a:off x="-998640" y="4493160"/>
            <a:ext cx="521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liased Frequency Calcula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able 9.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618624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lse-train Sampling of a CT sig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. 9.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" descr="fig9_8a"/>
          <p:cNvPicPr/>
          <p:nvPr/>
        </p:nvPicPr>
        <p:blipFill>
          <a:blip r:embed="rId1"/>
          <a:stretch/>
        </p:blipFill>
        <p:spPr>
          <a:xfrm>
            <a:off x="1552680" y="1496880"/>
            <a:ext cx="4136760" cy="1479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fig9_8b"/>
          <p:cNvPicPr/>
          <p:nvPr/>
        </p:nvPicPr>
        <p:blipFill>
          <a:blip r:embed="rId2"/>
          <a:stretch/>
        </p:blipFill>
        <p:spPr>
          <a:xfrm>
            <a:off x="1682640" y="3295800"/>
            <a:ext cx="3916440" cy="1827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fig9_8c"/>
          <p:cNvPicPr/>
          <p:nvPr/>
        </p:nvPicPr>
        <p:blipFill>
          <a:blip r:embed="rId3"/>
          <a:stretch/>
        </p:blipFill>
        <p:spPr>
          <a:xfrm>
            <a:off x="1843200" y="5500800"/>
            <a:ext cx="3892320" cy="1674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0" y="985680"/>
            <a:ext cx="21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l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0" y="312732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lse T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0" y="5202360"/>
            <a:ext cx="21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pled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lse Train Sampling in Freq Domai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9.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212"/>
          <p:cNvSpPr/>
          <p:nvPr/>
        </p:nvSpPr>
        <p:spPr>
          <a:xfrm>
            <a:off x="0" y="1189080"/>
            <a:ext cx="21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l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213"/>
          <p:cNvSpPr/>
          <p:nvPr/>
        </p:nvSpPr>
        <p:spPr>
          <a:xfrm>
            <a:off x="0" y="331632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lse T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214"/>
          <p:cNvSpPr/>
          <p:nvPr/>
        </p:nvSpPr>
        <p:spPr>
          <a:xfrm>
            <a:off x="195120" y="5573880"/>
            <a:ext cx="19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pled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13" descr=""/>
          <p:cNvPicPr/>
          <p:nvPr/>
        </p:nvPicPr>
        <p:blipFill>
          <a:blip r:embed="rId1"/>
          <a:stretch/>
        </p:blipFill>
        <p:spPr>
          <a:xfrm>
            <a:off x="1123920" y="1749600"/>
            <a:ext cx="4943520" cy="1450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14" descr=""/>
          <p:cNvPicPr/>
          <p:nvPr/>
        </p:nvPicPr>
        <p:blipFill>
          <a:blip r:embed="rId2"/>
          <a:stretch/>
        </p:blipFill>
        <p:spPr>
          <a:xfrm>
            <a:off x="977760" y="3695760"/>
            <a:ext cx="5191200" cy="1695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15" descr=""/>
          <p:cNvPicPr/>
          <p:nvPr/>
        </p:nvPicPr>
        <p:blipFill>
          <a:blip r:embed="rId3"/>
          <a:stretch/>
        </p:blipFill>
        <p:spPr>
          <a:xfrm>
            <a:off x="1031760" y="6013440"/>
            <a:ext cx="520092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28"/>
          <p:cNvSpPr/>
          <p:nvPr/>
        </p:nvSpPr>
        <p:spPr>
          <a:xfrm flipV="1">
            <a:off x="3517920" y="4788000"/>
            <a:ext cx="0" cy="738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29"/>
          <p:cNvSpPr/>
          <p:nvPr/>
        </p:nvSpPr>
        <p:spPr>
          <a:xfrm flipV="1">
            <a:off x="3789360" y="4983120"/>
            <a:ext cx="0" cy="54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30"/>
          <p:cNvSpPr/>
          <p:nvPr/>
        </p:nvSpPr>
        <p:spPr>
          <a:xfrm flipV="1">
            <a:off x="4057560" y="5148000"/>
            <a:ext cx="0" cy="37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31"/>
          <p:cNvSpPr/>
          <p:nvPr/>
        </p:nvSpPr>
        <p:spPr>
          <a:xfrm flipV="1">
            <a:off x="4327560" y="5230800"/>
            <a:ext cx="0" cy="301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32"/>
          <p:cNvSpPr/>
          <p:nvPr/>
        </p:nvSpPr>
        <p:spPr>
          <a:xfrm flipV="1">
            <a:off x="3251160" y="4954320"/>
            <a:ext cx="0" cy="577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33"/>
          <p:cNvSpPr/>
          <p:nvPr/>
        </p:nvSpPr>
        <p:spPr>
          <a:xfrm flipV="1">
            <a:off x="2979720" y="5301720"/>
            <a:ext cx="0" cy="227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651492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ero-Order Hol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9.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80" descr="chap09_Page_16.png"/>
          <p:cNvPicPr/>
          <p:nvPr/>
        </p:nvPicPr>
        <p:blipFill>
          <a:blip r:embed="rId1"/>
          <a:srcRect l="33015" t="14021" r="39686" b="78025"/>
          <a:stretch/>
        </p:blipFill>
        <p:spPr>
          <a:xfrm>
            <a:off x="1173240" y="1538280"/>
            <a:ext cx="4309920" cy="1625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1" descr="chap09_Page_16.png"/>
          <p:cNvPicPr/>
          <p:nvPr/>
        </p:nvPicPr>
        <p:blipFill>
          <a:blip r:embed="rId2"/>
          <a:srcRect l="59564" t="14057" r="14518" b="77316"/>
          <a:stretch/>
        </p:blipFill>
        <p:spPr>
          <a:xfrm>
            <a:off x="1131840" y="3643200"/>
            <a:ext cx="441180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2720" y="0"/>
            <a:ext cx="65149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ero-order hold opera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9.1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216" descr="chap09_Page_17.png"/>
          <p:cNvPicPr/>
          <p:nvPr/>
        </p:nvPicPr>
        <p:blipFill>
          <a:blip r:embed="rId1"/>
          <a:srcRect l="32659" t="13205" r="15759" b="77062"/>
          <a:stretch/>
        </p:blipFill>
        <p:spPr>
          <a:xfrm>
            <a:off x="668160" y="1436760"/>
            <a:ext cx="5529600" cy="1350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17" descr="chap09_Page_17.png"/>
          <p:cNvPicPr/>
          <p:nvPr/>
        </p:nvPicPr>
        <p:blipFill>
          <a:blip r:embed="rId2"/>
          <a:srcRect l="33034" t="24570" r="15718" b="65213"/>
          <a:stretch/>
        </p:blipFill>
        <p:spPr>
          <a:xfrm>
            <a:off x="841320" y="3425760"/>
            <a:ext cx="5399280" cy="1392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18" descr="chap09_Page_17.png"/>
          <p:cNvPicPr/>
          <p:nvPr/>
        </p:nvPicPr>
        <p:blipFill>
          <a:blip r:embed="rId3"/>
          <a:srcRect l="30898" t="36917" r="13865" b="53640"/>
          <a:stretch/>
        </p:blipFill>
        <p:spPr>
          <a:xfrm>
            <a:off x="581040" y="5427720"/>
            <a:ext cx="5967360" cy="13208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19"/>
          <p:cNvSpPr/>
          <p:nvPr/>
        </p:nvSpPr>
        <p:spPr>
          <a:xfrm>
            <a:off x="195120" y="4846680"/>
            <a:ext cx="323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pled Signal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221"/>
          <p:cNvSpPr/>
          <p:nvPr/>
        </p:nvSpPr>
        <p:spPr>
          <a:xfrm>
            <a:off x="195120" y="1146240"/>
            <a:ext cx="325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l Signal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22"/>
          <p:cNvSpPr/>
          <p:nvPr/>
        </p:nvSpPr>
        <p:spPr>
          <a:xfrm>
            <a:off x="203040" y="2997360"/>
            <a:ext cx="35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trum of Periodic Repl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67840" y="-360"/>
            <a:ext cx="63039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ntization (Fig. 9.12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3" descr="fig9_12a"/>
          <p:cNvPicPr/>
          <p:nvPr/>
        </p:nvPicPr>
        <p:blipFill>
          <a:blip r:embed="rId1"/>
          <a:stretch/>
        </p:blipFill>
        <p:spPr>
          <a:xfrm>
            <a:off x="1165320" y="2411280"/>
            <a:ext cx="4017960" cy="3645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4"/>
          <p:cNvSpPr/>
          <p:nvPr/>
        </p:nvSpPr>
        <p:spPr>
          <a:xfrm>
            <a:off x="0" y="44578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Object 5"/>
          <p:cNvGraphicFramePr/>
          <p:nvPr/>
        </p:nvGraphicFramePr>
        <p:xfrm>
          <a:off x="3730680" y="1224000"/>
          <a:ext cx="1114200" cy="29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30680" y="1224000"/>
                    <a:ext cx="111420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6"/>
          <p:cNvGraphicFramePr/>
          <p:nvPr/>
        </p:nvGraphicFramePr>
        <p:xfrm>
          <a:off x="457200" y="6729480"/>
          <a:ext cx="5875200" cy="33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6729480"/>
                    <a:ext cx="58752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7"/>
          <p:cNvSpPr/>
          <p:nvPr/>
        </p:nvSpPr>
        <p:spPr>
          <a:xfrm>
            <a:off x="428040" y="1128600"/>
            <a:ext cx="28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zer is a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413640" y="2220840"/>
            <a:ext cx="178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nstru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4892400" y="5307120"/>
            <a:ext cx="114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1550880" y="2698920"/>
            <a:ext cx="1104840" cy="349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1"/>
          <p:cNvSpPr/>
          <p:nvPr/>
        </p:nvSpPr>
        <p:spPr>
          <a:xfrm flipH="1" flipV="1">
            <a:off x="4505040" y="4680000"/>
            <a:ext cx="361800" cy="869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2"/>
          <p:cNvSpPr/>
          <p:nvPr/>
        </p:nvSpPr>
        <p:spPr>
          <a:xfrm>
            <a:off x="1521000" y="2770200"/>
            <a:ext cx="1177920" cy="30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3"/>
          <p:cNvSpPr/>
          <p:nvPr/>
        </p:nvSpPr>
        <p:spPr>
          <a:xfrm>
            <a:off x="1542960" y="2747880"/>
            <a:ext cx="1133640" cy="1308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4"/>
          <p:cNvSpPr/>
          <p:nvPr/>
        </p:nvSpPr>
        <p:spPr>
          <a:xfrm flipH="1" flipV="1">
            <a:off x="1843200" y="4761000"/>
            <a:ext cx="3031920" cy="853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7840" y="-360"/>
            <a:ext cx="63039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iform and Nonuniform Quantizer (Fig. 9.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3" descr="fig9_12a"/>
          <p:cNvPicPr/>
          <p:nvPr/>
        </p:nvPicPr>
        <p:blipFill>
          <a:blip r:embed="rId1"/>
          <a:stretch/>
        </p:blipFill>
        <p:spPr>
          <a:xfrm>
            <a:off x="1339920" y="1496880"/>
            <a:ext cx="4017960" cy="2978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fig9_12b"/>
          <p:cNvPicPr/>
          <p:nvPr/>
        </p:nvPicPr>
        <p:blipFill>
          <a:blip r:embed="rId2"/>
          <a:stretch/>
        </p:blipFill>
        <p:spPr>
          <a:xfrm>
            <a:off x="1638360" y="4673520"/>
            <a:ext cx="342720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3880" y="-360"/>
            <a:ext cx="587376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9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11"/>
          <p:cNvGrpSpPr/>
          <p:nvPr/>
        </p:nvGrpSpPr>
        <p:grpSpPr>
          <a:xfrm>
            <a:off x="1353960" y="2430360"/>
            <a:ext cx="4062600" cy="1936800"/>
            <a:chOff x="1353960" y="2430360"/>
            <a:chExt cx="4062600" cy="1936800"/>
          </a:xfrm>
        </p:grpSpPr>
        <p:pic>
          <p:nvPicPr>
            <p:cNvPr id="164" name="Picture 8" descr=""/>
            <p:cNvPicPr/>
            <p:nvPr/>
          </p:nvPicPr>
          <p:blipFill>
            <a:blip r:embed="rId1"/>
            <a:stretch/>
          </p:blipFill>
          <p:spPr>
            <a:xfrm>
              <a:off x="1353960" y="2430360"/>
              <a:ext cx="406260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9"/>
            <p:cNvSpPr/>
            <p:nvPr/>
          </p:nvSpPr>
          <p:spPr>
            <a:xfrm>
              <a:off x="1547640" y="2593440"/>
              <a:ext cx="353880" cy="15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6" name="Picture 10" descr=""/>
          <p:cNvPicPr/>
          <p:nvPr/>
        </p:nvPicPr>
        <p:blipFill>
          <a:blip r:embed="rId2"/>
          <a:stretch/>
        </p:blipFill>
        <p:spPr>
          <a:xfrm>
            <a:off x="1924200" y="1027080"/>
            <a:ext cx="2854080" cy="14558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2"/>
          <p:cNvSpPr/>
          <p:nvPr/>
        </p:nvSpPr>
        <p:spPr>
          <a:xfrm>
            <a:off x="415800" y="4503600"/>
            <a:ext cx="603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the decision and reconstruction levels for an eight-level uniform quantiz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0" y="4389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Object 13"/>
          <p:cNvGraphicFramePr/>
          <p:nvPr/>
        </p:nvGraphicFramePr>
        <p:xfrm>
          <a:off x="1393920" y="5484960"/>
          <a:ext cx="3619440" cy="55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3920" y="5484960"/>
                    <a:ext cx="361944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Text Box 15"/>
          <p:cNvSpPr/>
          <p:nvPr/>
        </p:nvSpPr>
        <p:spPr>
          <a:xfrm>
            <a:off x="592200" y="6307200"/>
            <a:ext cx="569268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1800" spc="-1" strike="noStrike" baseline="-4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[-1, -0.75, -0.5 , -0.25 , 0, 0.25, 0.50, 0.75, 1]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230040" y="6864480"/>
            <a:ext cx="644220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800" spc="-1" strike="noStrike" baseline="-4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[-0.875, -0.625 , -0.375 , -0.125, 0.125, 0.375, 0.625, 0.875] 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08080" y="0"/>
            <a:ext cx="64389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CM Sequence of a CT signal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9.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3" descr="fig9_13"/>
          <p:cNvPicPr/>
          <p:nvPr/>
        </p:nvPicPr>
        <p:blipFill>
          <a:blip r:embed="rId1"/>
          <a:stretch/>
        </p:blipFill>
        <p:spPr>
          <a:xfrm>
            <a:off x="262080" y="2698920"/>
            <a:ext cx="5638680" cy="30924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631080" y="1333440"/>
            <a:ext cx="581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T signal, with a peak-to-peak range of ±1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ight-level uniform quantizer (from Example 9.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ing CT Signals using DT 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. 9.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3" descr="chap09_Page_02.png"/>
          <p:cNvPicPr/>
          <p:nvPr/>
        </p:nvPicPr>
        <p:blipFill>
          <a:blip r:embed="rId1"/>
          <a:srcRect l="33460" t="13681" r="27540" b="74746"/>
          <a:stretch/>
        </p:blipFill>
        <p:spPr>
          <a:xfrm>
            <a:off x="595440" y="1989000"/>
            <a:ext cx="56307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2760" y="0"/>
            <a:ext cx="63961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-rate for Digital Aud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265560" y="4444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2624040" y="4433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7"/>
              <p:cNvSpPr txBox="1"/>
              <p:nvPr/>
            </p:nvSpPr>
            <p:spPr>
              <a:xfrm>
                <a:off x="1095480" y="2556000"/>
                <a:ext cx="38797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itrat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bits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  <m:r>
                      <m:rPr>
                        <m:lit/>
                        <m:nor/>
                      </m:rPr>
                      <m:t xml:space="preserve">on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Text Box 8"/>
          <p:cNvSpPr/>
          <p:nvPr/>
        </p:nvSpPr>
        <p:spPr>
          <a:xfrm>
            <a:off x="519120" y="1901880"/>
            <a:ext cx="271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or Mono Chann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9"/>
              <p:cNvSpPr txBox="1"/>
              <p:nvPr/>
            </p:nvSpPr>
            <p:spPr>
              <a:xfrm>
                <a:off x="1084320" y="4037040"/>
                <a:ext cx="385920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itrate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bits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  <m:r>
                      <m:rPr>
                        <m:lit/>
                        <m:nor/>
                      </m:rPr>
                      <m:t xml:space="preserve">on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Text Box 10"/>
          <p:cNvSpPr/>
          <p:nvPr/>
        </p:nvSpPr>
        <p:spPr>
          <a:xfrm>
            <a:off x="585720" y="3236760"/>
            <a:ext cx="29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Stereo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56920" y="-360"/>
            <a:ext cx="397188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-rate Vs. Qualit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333360" y="3002040"/>
            <a:ext cx="5815080" cy="42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 is large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 is larg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-rate will increase)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antization Error will decrease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gnal quality is Goo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f B is small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N is sma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t-rate will decrease)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Quantization Error will increase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Signal quality will be po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, there is trade-off between bit-rate and quality of the digitized audio signal.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4"/>
              <p:cNvSpPr txBox="1"/>
              <p:nvPr/>
            </p:nvSpPr>
            <p:spPr>
              <a:xfrm>
                <a:off x="2398680" y="2313000"/>
                <a:ext cx="10810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6" name="Text Box 5"/>
          <p:cNvSpPr/>
          <p:nvPr/>
        </p:nvSpPr>
        <p:spPr>
          <a:xfrm>
            <a:off x="399960" y="1022400"/>
            <a:ext cx="59104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Number of quantizer output levels, an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No. of bits/samp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65149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w Date Rates for Digital Aud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9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57120" y="1873080"/>
          <a:ext cx="6172200" cy="4846680"/>
        </p:xfrm>
        <a:graphic>
          <a:graphicData uri="http://schemas.openxmlformats.org/drawingml/2006/table">
            <a:tbl>
              <a:tblPr/>
              <a:tblGrid>
                <a:gridCol w="1195560"/>
                <a:gridCol w="1278000"/>
                <a:gridCol w="1292040"/>
                <a:gridCol w="1171440"/>
                <a:gridCol w="1235160"/>
              </a:tblGrid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lica-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dwidth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z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amples/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za-tion Levels (L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w Data R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ytes/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lephon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-34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700" spc="-1" strike="noStrike" baseline="42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 Radi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-5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02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700" spc="-1" strike="noStrike" baseline="42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02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M Radi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-10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,0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700" spc="-1" strike="noStrike" baseline="42000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,2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D (stereo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-20,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1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700" spc="-1" strike="noStrike" baseline="42000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6,4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gital Audio Tape (stereo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-20,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,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700" spc="-1" strike="noStrike" baseline="42000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2,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662004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gital Audio Genera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9.1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4" descr="chap09_Page_22.png"/>
          <p:cNvPicPr/>
          <p:nvPr/>
        </p:nvPicPr>
        <p:blipFill>
          <a:blip r:embed="rId1"/>
          <a:srcRect l="34085" t="13041" r="14893" b="78712"/>
          <a:stretch/>
        </p:blipFill>
        <p:spPr>
          <a:xfrm>
            <a:off x="406440" y="1379520"/>
            <a:ext cx="5965920" cy="1247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chap09_Page_22.png"/>
          <p:cNvPicPr/>
          <p:nvPr/>
        </p:nvPicPr>
        <p:blipFill>
          <a:blip r:embed="rId2"/>
          <a:srcRect l="33715" t="23164" r="14518" b="62597"/>
          <a:stretch/>
        </p:blipFill>
        <p:spPr>
          <a:xfrm>
            <a:off x="623880" y="3832200"/>
            <a:ext cx="6053040" cy="215424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6"/>
          <p:cNvSpPr/>
          <p:nvPr/>
        </p:nvSpPr>
        <p:spPr>
          <a:xfrm>
            <a:off x="195120" y="1044720"/>
            <a:ext cx="253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processing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262080" y="3389400"/>
            <a:ext cx="253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ltiplexing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mpling of Signals using Impulse Tra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Fig. 9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58" descr="fig9_2a"/>
          <p:cNvPicPr/>
          <p:nvPr/>
        </p:nvPicPr>
        <p:blipFill>
          <a:blip r:embed="rId1"/>
          <a:stretch/>
        </p:blipFill>
        <p:spPr>
          <a:xfrm>
            <a:off x="1494000" y="1481040"/>
            <a:ext cx="3703320" cy="1209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9" descr="fig9_2c"/>
          <p:cNvPicPr/>
          <p:nvPr/>
        </p:nvPicPr>
        <p:blipFill>
          <a:blip r:embed="rId2"/>
          <a:stretch/>
        </p:blipFill>
        <p:spPr>
          <a:xfrm>
            <a:off x="1467000" y="3033720"/>
            <a:ext cx="3762360" cy="1295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0" descr="fig9_2d"/>
          <p:cNvPicPr/>
          <p:nvPr/>
        </p:nvPicPr>
        <p:blipFill>
          <a:blip r:embed="rId3"/>
          <a:stretch/>
        </p:blipFill>
        <p:spPr>
          <a:xfrm>
            <a:off x="1609560" y="4748040"/>
            <a:ext cx="3549960" cy="12132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62"/>
          <p:cNvSpPr/>
          <p:nvPr/>
        </p:nvSpPr>
        <p:spPr>
          <a:xfrm>
            <a:off x="0" y="4357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161"/>
          <p:cNvGraphicFramePr/>
          <p:nvPr/>
        </p:nvGraphicFramePr>
        <p:xfrm>
          <a:off x="826920" y="6491160"/>
          <a:ext cx="4564080" cy="73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" name="Object 16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6920" y="6491160"/>
                    <a:ext cx="4564080" cy="7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163"/>
          <p:cNvSpPr/>
          <p:nvPr/>
        </p:nvSpPr>
        <p:spPr>
          <a:xfrm>
            <a:off x="5825520" y="661500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3920" y="177480"/>
            <a:ext cx="61722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TFT of Sampled Sig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6"/>
          <p:cNvGraphicFramePr/>
          <p:nvPr/>
        </p:nvGraphicFramePr>
        <p:xfrm>
          <a:off x="1058760" y="1639800"/>
          <a:ext cx="4427640" cy="338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1639800"/>
                    <a:ext cx="4427640" cy="33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5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054080" y="3892680"/>
            <a:ext cx="1382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5720" y="-360"/>
            <a:ext cx="577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ulse-train Sampling in Frequency Domain (Fig. 9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59" descr="fig9_3a"/>
          <p:cNvPicPr/>
          <p:nvPr/>
        </p:nvPicPr>
        <p:blipFill>
          <a:blip r:embed="rId1"/>
          <a:stretch/>
        </p:blipFill>
        <p:spPr>
          <a:xfrm>
            <a:off x="1450800" y="1135080"/>
            <a:ext cx="4211640" cy="1476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0" descr="fig9_3b"/>
          <p:cNvPicPr/>
          <p:nvPr/>
        </p:nvPicPr>
        <p:blipFill>
          <a:blip r:embed="rId2"/>
          <a:stretch/>
        </p:blipFill>
        <p:spPr>
          <a:xfrm>
            <a:off x="1566720" y="2871720"/>
            <a:ext cx="4077000" cy="1438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1" descr="fig9_3c"/>
          <p:cNvPicPr/>
          <p:nvPr/>
        </p:nvPicPr>
        <p:blipFill>
          <a:blip r:embed="rId3"/>
          <a:stretch/>
        </p:blipFill>
        <p:spPr>
          <a:xfrm>
            <a:off x="1465200" y="4805280"/>
            <a:ext cx="43862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191880"/>
            <a:ext cx="61722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mpling Theor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5"/>
          <p:cNvGraphicFramePr/>
          <p:nvPr/>
        </p:nvGraphicFramePr>
        <p:xfrm>
          <a:off x="4670280" y="1992240"/>
          <a:ext cx="390600" cy="45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0280" y="1992240"/>
                    <a:ext cx="39060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 Box 4"/>
          <p:cNvSpPr/>
          <p:nvPr/>
        </p:nvSpPr>
        <p:spPr>
          <a:xfrm>
            <a:off x="905040" y="1282680"/>
            <a:ext cx="580536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 baseband signal x(t), band-limited to 2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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radians/s, can be reconstructed accurately from its samples x(kT) if the sampling rate      , in radians/s, satisfies the following condition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9.6a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lternatively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ampling rate (samples/s)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s ≥ 2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;      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9.6b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ampling interval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s ≤ 1/2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.   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9.6c)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e minimum sampling rate fs (Hz) required for perfect reconstruction of the original band-limited signal is referred to as the Nyquist rat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7"/>
          <p:cNvGraphicFramePr/>
          <p:nvPr/>
        </p:nvGraphicFramePr>
        <p:xfrm>
          <a:off x="1843200" y="2895480"/>
          <a:ext cx="1336680" cy="50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43200" y="2895480"/>
                    <a:ext cx="133668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2600" y="-360"/>
            <a:ext cx="63612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construction of the Original Baseband sig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. 9.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96" descr="fig9_4a"/>
          <p:cNvPicPr/>
          <p:nvPr/>
        </p:nvPicPr>
        <p:blipFill>
          <a:blip r:embed="rId1"/>
          <a:stretch/>
        </p:blipFill>
        <p:spPr>
          <a:xfrm>
            <a:off x="1770120" y="1467000"/>
            <a:ext cx="4303800" cy="1382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7" descr="fig9_4b"/>
          <p:cNvPicPr/>
          <p:nvPr/>
        </p:nvPicPr>
        <p:blipFill>
          <a:blip r:embed="rId2"/>
          <a:stretch/>
        </p:blipFill>
        <p:spPr>
          <a:xfrm>
            <a:off x="2001960" y="3801960"/>
            <a:ext cx="3943080" cy="1282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8" descr="fig9_4c"/>
          <p:cNvPicPr/>
          <p:nvPr/>
        </p:nvPicPr>
        <p:blipFill>
          <a:blip r:embed="rId3"/>
          <a:stretch/>
        </p:blipFill>
        <p:spPr>
          <a:xfrm>
            <a:off x="1914480" y="6168960"/>
            <a:ext cx="4105440" cy="13194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00"/>
          <p:cNvSpPr/>
          <p:nvPr/>
        </p:nvSpPr>
        <p:spPr>
          <a:xfrm>
            <a:off x="0" y="43290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Object 99"/>
          <p:cNvGraphicFramePr/>
          <p:nvPr/>
        </p:nvGraphicFramePr>
        <p:xfrm>
          <a:off x="1108080" y="3733920"/>
          <a:ext cx="1866960" cy="561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Object 9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08080" y="3733920"/>
                    <a:ext cx="18669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tangle 102"/>
          <p:cNvSpPr/>
          <p:nvPr/>
        </p:nvSpPr>
        <p:spPr>
          <a:xfrm>
            <a:off x="0" y="4433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Object 101"/>
          <p:cNvGraphicFramePr/>
          <p:nvPr/>
        </p:nvGraphicFramePr>
        <p:xfrm>
          <a:off x="4730760" y="3635280"/>
          <a:ext cx="1641600" cy="538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6" name="Object 10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30760" y="3635280"/>
                    <a:ext cx="164160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Rectangle 9"/>
          <p:cNvSpPr/>
          <p:nvPr/>
        </p:nvSpPr>
        <p:spPr>
          <a:xfrm>
            <a:off x="0" y="1131840"/>
            <a:ext cx="32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pectrum of Sampled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0" y="3112920"/>
            <a:ext cx="326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ransfer function of the LP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0" y="5537160"/>
            <a:ext cx="417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pectrum of the Reconstructed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8320" y="0"/>
            <a:ext cx="61722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Domain Reconstruction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9.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4362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Object 4"/>
          <p:cNvGraphicFramePr/>
          <p:nvPr/>
        </p:nvGraphicFramePr>
        <p:xfrm>
          <a:off x="1495440" y="1401840"/>
          <a:ext cx="360216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5440" y="1401840"/>
                    <a:ext cx="360216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Rectangle 7"/>
          <p:cNvSpPr/>
          <p:nvPr/>
        </p:nvSpPr>
        <p:spPr>
          <a:xfrm>
            <a:off x="0" y="4362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6"/>
          <p:cNvGraphicFramePr/>
          <p:nvPr/>
        </p:nvGraphicFramePr>
        <p:xfrm>
          <a:off x="1550880" y="2446200"/>
          <a:ext cx="3635640" cy="78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50880" y="2446200"/>
                    <a:ext cx="363564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Picture 8" descr="fig9_5a"/>
          <p:cNvPicPr/>
          <p:nvPr/>
        </p:nvPicPr>
        <p:blipFill>
          <a:blip r:embed="rId5"/>
          <a:stretch/>
        </p:blipFill>
        <p:spPr>
          <a:xfrm>
            <a:off x="1859040" y="3513240"/>
            <a:ext cx="2857320" cy="1133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fig9_5b"/>
          <p:cNvPicPr/>
          <p:nvPr/>
        </p:nvPicPr>
        <p:blipFill>
          <a:blip r:embed="rId6"/>
          <a:stretch/>
        </p:blipFill>
        <p:spPr>
          <a:xfrm>
            <a:off x="1495440" y="4861080"/>
            <a:ext cx="3695760" cy="1171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fig9_5c"/>
          <p:cNvPicPr/>
          <p:nvPr/>
        </p:nvPicPr>
        <p:blipFill>
          <a:blip r:embed="rId7"/>
          <a:stretch/>
        </p:blipFill>
        <p:spPr>
          <a:xfrm>
            <a:off x="611280" y="6589800"/>
            <a:ext cx="5572080" cy="1143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9"/>
          <p:cNvSpPr/>
          <p:nvPr/>
        </p:nvSpPr>
        <p:spPr>
          <a:xfrm>
            <a:off x="0" y="33228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ampled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0" y="4592520"/>
            <a:ext cx="22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mpulse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0" y="6087960"/>
            <a:ext cx="256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econstructed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5560" y="-360"/>
            <a:ext cx="6157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construction of a Sinusoidal Sig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9.1, Fig. 9.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57" descr=""/>
          <p:cNvPicPr/>
          <p:nvPr/>
        </p:nvPicPr>
        <p:blipFill>
          <a:blip r:embed="rId1"/>
          <a:stretch/>
        </p:blipFill>
        <p:spPr>
          <a:xfrm>
            <a:off x="1495440" y="1436760"/>
            <a:ext cx="4054320" cy="1404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8" descr=""/>
          <p:cNvPicPr/>
          <p:nvPr/>
        </p:nvPicPr>
        <p:blipFill>
          <a:blip r:embed="rId2"/>
          <a:stretch/>
        </p:blipFill>
        <p:spPr>
          <a:xfrm>
            <a:off x="1379520" y="3121200"/>
            <a:ext cx="4121280" cy="1488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9" descr=""/>
          <p:cNvPicPr/>
          <p:nvPr/>
        </p:nvPicPr>
        <p:blipFill>
          <a:blip r:embed="rId3"/>
          <a:stretch/>
        </p:blipFill>
        <p:spPr>
          <a:xfrm>
            <a:off x="1392120" y="4892760"/>
            <a:ext cx="4189680" cy="1514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0" descr=""/>
          <p:cNvPicPr/>
          <p:nvPr/>
        </p:nvPicPr>
        <p:blipFill>
          <a:blip r:embed="rId4"/>
          <a:stretch/>
        </p:blipFill>
        <p:spPr>
          <a:xfrm>
            <a:off x="1700280" y="6648480"/>
            <a:ext cx="3971880" cy="13780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0" y="985680"/>
            <a:ext cx="348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pectrum  of Sinusoidal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0" y="2808360"/>
            <a:ext cx="314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pectrum of Impulse T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0" y="4557600"/>
            <a:ext cx="33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pectrum of Sampled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0" y="6313320"/>
            <a:ext cx="33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pectrum of Reconst.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31T07:39:26Z</dcterms:created>
  <dc:creator>Image Coding Group</dc:creator>
  <dc:description/>
  <cp:keywords/>
  <dc:language>en-US</dc:language>
  <cp:lastModifiedBy>Mandal</cp:lastModifiedBy>
  <cp:lastPrinted>1998-09-16T18:03:42Z</cp:lastPrinted>
  <dcterms:modified xsi:type="dcterms:W3CDTF">2012-01-02T03:03:29Z</dcterms:modified>
  <cp:revision>382</cp:revision>
  <dc:subject/>
  <dc:title>Presentation - ICCE</dc:title>
</cp:coreProperties>
</file>