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14480"/>
            <a:ext cx="6856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" y="8174160"/>
            <a:ext cx="68562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99880" y="11106000"/>
            <a:ext cx="45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by Mandal and Asif      </a:t>
            </a: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98760" y="8413920"/>
            <a:ext cx="39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by Mandal and Asif      </a:t>
            </a:r>
            <a:r>
              <a:rPr b="1" lang="en-US" sz="1200" spc="-1" strike="noStrike">
                <a:solidFill>
                  <a:srgbClr val="cc66ff"/>
                </a:solidFill>
                <a:latin typeface="Times New Roman"/>
              </a:rPr>
              <a:t>© Cambridge University 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08080" y="3039840"/>
            <a:ext cx="45244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-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1720" y="-360"/>
            <a:ext cx="57945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place Transform Properties (Table 6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2560" y="1668600"/>
          <a:ext cx="5491080" cy="60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668600"/>
                    <a:ext cx="5491080" cy="60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6105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e-Zero Plot in Example 6.18 (Fig. 6.8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04920" y="1150920"/>
            <a:ext cx="3399120" cy="2295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054160" y="3403440"/>
            <a:ext cx="3610080" cy="2298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47880" y="5751360"/>
            <a:ext cx="406872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870520" y="2262240"/>
            <a:ext cx="684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90520" y="1211400"/>
          <a:ext cx="20224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0520" y="1211400"/>
                    <a:ext cx="20224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7920" y="3436920"/>
          <a:ext cx="238752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7920" y="3436920"/>
                    <a:ext cx="2387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5120" y="5605560"/>
          <a:ext cx="1571760" cy="52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120" y="5605560"/>
                    <a:ext cx="1571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8720" y="-360"/>
            <a:ext cx="61909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ability Analysis in Laplace Domain (Fig. 6.9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5840" y="1709640"/>
            <a:ext cx="6325920" cy="401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4348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9880" y="6299280"/>
            <a:ext cx="609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lots represent the impulse response arising from the  corresponding po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3520" y="0"/>
            <a:ext cx="6172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 of Stable and Unstable Systems (Fig. 6.1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4560" y="1943280"/>
            <a:ext cx="3900240" cy="279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2760" y="5202360"/>
            <a:ext cx="4029120" cy="283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81400" y="1104840"/>
          <a:ext cx="154620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1400" y="1104840"/>
                    <a:ext cx="15462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18960" y="2874960"/>
          <a:ext cx="1905120" cy="2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960" y="2874960"/>
                    <a:ext cx="19051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66800" y="2382840"/>
          <a:ext cx="105264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800" y="2382840"/>
                    <a:ext cx="10526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6240" y="6264360"/>
          <a:ext cx="1973160" cy="61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6240" y="6264360"/>
                    <a:ext cx="19731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31920" y="5373720"/>
          <a:ext cx="1687320" cy="35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1920" y="5373720"/>
                    <a:ext cx="16873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5080" y="0"/>
            <a:ext cx="59418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e-zero plot of an Allpass System (Fig. 6.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50760" y="2305080"/>
            <a:ext cx="4967280" cy="3338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78080" y="1343160"/>
          <a:ext cx="2227320" cy="70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8080" y="1343160"/>
                    <a:ext cx="222732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47680"/>
            <a:ext cx="61722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cade (Series) Connection (Fig. 6.1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68400" y="2786040"/>
            <a:ext cx="5211720" cy="853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60440" y="4840200"/>
            <a:ext cx="4459320" cy="831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78000" y="6413400"/>
          <a:ext cx="459432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8000" y="6413400"/>
                    <a:ext cx="45943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1840" y="0"/>
            <a:ext cx="61722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ion (Fig. 6.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3440" y="1631880"/>
            <a:ext cx="5875200" cy="2654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81200" y="5038560"/>
            <a:ext cx="5078160" cy="971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45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6400" y="6861240"/>
          <a:ext cx="5577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" y="6861240"/>
                    <a:ext cx="557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9920" y="228240"/>
            <a:ext cx="60577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 Connection (Fig. 6.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1800" y="1879560"/>
            <a:ext cx="5646600" cy="2541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3720" y="5353200"/>
            <a:ext cx="588168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55054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connection Examples (Fig. 6.15 (a+b)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2360" y="1455840"/>
            <a:ext cx="5823000" cy="2798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77960" y="5175360"/>
            <a:ext cx="5297400" cy="2230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365200" y="4413240"/>
          <a:ext cx="227664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5200" y="4413240"/>
                    <a:ext cx="22766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0400" y="-360"/>
            <a:ext cx="53658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connection Example (Fig. 6.15(c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03200" y="2022480"/>
            <a:ext cx="5996160" cy="3193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58680" y="5880240"/>
          <a:ext cx="551340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8680" y="5880240"/>
                    <a:ext cx="55134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27160" y="3645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7760" y="-360"/>
            <a:ext cx="62103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ausal Function and it’s Laplace Transform (Fig. 6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47600" y="1325520"/>
            <a:ext cx="473076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84200" y="3384720"/>
            <a:ext cx="4397400" cy="287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1584360" y="6726240"/>
          <a:ext cx="45813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4360" y="6726240"/>
                    <a:ext cx="4581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247320"/>
            <a:ext cx="5938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on-causal Function and it’s Laplace Transform (Fig. 6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6680" y="1353960"/>
            <a:ext cx="4957920" cy="250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74640" y="4024440"/>
            <a:ext cx="4786560" cy="27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833400" y="7251840"/>
          <a:ext cx="504828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3400" y="7251840"/>
                    <a:ext cx="50482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place Transform Table (Table 6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98480" y="1596960"/>
          <a:ext cx="556884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596960"/>
                    <a:ext cx="556884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7720" y="0"/>
            <a:ext cx="47671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place Spectra (Fig. 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440" y="2597040"/>
            <a:ext cx="5459400" cy="551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958680" y="1123920"/>
          <a:ext cx="5291280" cy="15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8680" y="1123920"/>
                    <a:ext cx="52912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4367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320" y="-360"/>
            <a:ext cx="6172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TFT Spectra (Fig. 6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3880" y="3276720"/>
            <a:ext cx="3684600" cy="13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49600" y="5442120"/>
            <a:ext cx="3930480" cy="16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1133640" y="1508040"/>
          <a:ext cx="453204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3640" y="1508040"/>
                    <a:ext cx="453204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57103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usal Function in Example 6.8 (Fig. 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3480" y="1859040"/>
            <a:ext cx="5658120" cy="227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30320" y="4797360"/>
          <a:ext cx="4263840" cy="102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0320" y="4797360"/>
                    <a:ext cx="42638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usal Function in Example 6.9 (Fig. 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9760" y="2309760"/>
            <a:ext cx="5662440" cy="2217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319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17720" y="5437080"/>
          <a:ext cx="4700520" cy="10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7720" y="5437080"/>
                    <a:ext cx="47005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vefor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in Example 6.10 (Fig. 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9560" y="2367000"/>
            <a:ext cx="5641920" cy="2162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286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6800" y="5164200"/>
          <a:ext cx="4933800" cy="11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800" y="5164200"/>
                    <a:ext cx="49338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 Mrinal Mandal</cp:lastModifiedBy>
  <cp:lastPrinted>1998-09-16T18:03:42Z</cp:lastPrinted>
  <dcterms:modified xsi:type="dcterms:W3CDTF">2008-08-05T17:12:33Z</dcterms:modified>
  <cp:revision>776</cp:revision>
  <dc:subject/>
  <dc:title>Presentation - ICCE</dc:title>
</cp:coreProperties>
</file>