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32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3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5.wmf" ContentType="image/x-wmf"/>
  <Override PartName="/ppt/media/image34.wmf" ContentType="image/x-wmf"/>
  <Override PartName="/ppt/media/image9.wmf" ContentType="image/x-wmf"/>
  <Override PartName="/ppt/media/image4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1.wmf" ContentType="image/x-wmf"/>
  <Override PartName="/ppt/media/image30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93816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32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3"/>
          <p:cNvSpPr/>
          <p:nvPr/>
        </p:nvSpPr>
        <p:spPr>
          <a:xfrm>
            <a:off x="865080" y="830088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by Mandal and Asif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210520"/>
            <a:ext cx="7430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1640" y="2544840"/>
            <a:ext cx="6010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986840" y="418464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Z-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 flipH="1">
            <a:off x="2819520" y="83883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 flipH="1">
            <a:off x="2550240" y="8083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 flipH="1">
            <a:off x="2417040" y="7996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>
            <a:off x="0" y="4387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 Sequences Obtained in Example 13.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chap10 - Copy_Page_16.png"/>
          <p:cNvPicPr/>
          <p:nvPr/>
        </p:nvPicPr>
        <p:blipFill>
          <a:blip r:embed="rId1"/>
          <a:srcRect l="16816" t="14190" r="60805" b="73890"/>
          <a:stretch/>
        </p:blipFill>
        <p:spPr>
          <a:xfrm>
            <a:off x="2955960" y="1123920"/>
            <a:ext cx="3483000" cy="240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hap10 - Copy_Page_16.png"/>
          <p:cNvPicPr/>
          <p:nvPr/>
        </p:nvPicPr>
        <p:blipFill>
          <a:blip r:embed="rId2"/>
          <a:srcRect l="39352" t="14426" r="37208" b="72254"/>
          <a:stretch/>
        </p:blipFill>
        <p:spPr>
          <a:xfrm>
            <a:off x="419040" y="2914560"/>
            <a:ext cx="3652920" cy="268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hap10 - Copy_Page_16.png"/>
          <p:cNvPicPr/>
          <p:nvPr/>
        </p:nvPicPr>
        <p:blipFill>
          <a:blip r:embed="rId3"/>
          <a:srcRect l="62195" t="16413" r="13911" b="69566"/>
          <a:stretch/>
        </p:blipFill>
        <p:spPr>
          <a:xfrm>
            <a:off x="2952720" y="5334120"/>
            <a:ext cx="34909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hap10 - Copy_Page_16.png"/>
          <p:cNvPicPr/>
          <p:nvPr/>
        </p:nvPicPr>
        <p:blipFill>
          <a:blip r:embed="rId1"/>
          <a:srcRect l="31389" t="69108" r="13888" b="21667"/>
          <a:stretch/>
        </p:blipFill>
        <p:spPr>
          <a:xfrm>
            <a:off x="304920" y="1219320"/>
            <a:ext cx="6108480" cy="133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hap10 - Copy_Page_17.png"/>
          <p:cNvPicPr/>
          <p:nvPr/>
        </p:nvPicPr>
        <p:blipFill>
          <a:blip r:embed="rId2"/>
          <a:srcRect l="29726" t="13724" r="15834" b="52792"/>
          <a:stretch/>
        </p:blipFill>
        <p:spPr>
          <a:xfrm>
            <a:off x="347760" y="2685960"/>
            <a:ext cx="6510240" cy="5181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wer Serie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1722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Propert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able 1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76120" y="1028880"/>
            <a:ext cx="6191280" cy="71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Propert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able 1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chap10 - Copy_Page_19.png"/>
          <p:cNvPicPr/>
          <p:nvPr/>
        </p:nvPicPr>
        <p:blipFill>
          <a:blip r:embed="rId1"/>
          <a:srcRect l="13054" t="13509" r="14722" b="36480"/>
          <a:stretch/>
        </p:blipFill>
        <p:spPr>
          <a:xfrm>
            <a:off x="0" y="1428840"/>
            <a:ext cx="6858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shift Oper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3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06" descr="fig13_4a"/>
          <p:cNvPicPr/>
          <p:nvPr/>
        </p:nvPicPr>
        <p:blipFill>
          <a:blip r:embed="rId1"/>
          <a:stretch/>
        </p:blipFill>
        <p:spPr>
          <a:xfrm>
            <a:off x="1266840" y="1209600"/>
            <a:ext cx="4309920" cy="15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7" descr="fig13_4b"/>
          <p:cNvPicPr/>
          <p:nvPr/>
        </p:nvPicPr>
        <p:blipFill>
          <a:blip r:embed="rId2"/>
          <a:stretch/>
        </p:blipFill>
        <p:spPr>
          <a:xfrm>
            <a:off x="514440" y="3581280"/>
            <a:ext cx="2801880" cy="109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8" descr="fig13_4c"/>
          <p:cNvPicPr/>
          <p:nvPr/>
        </p:nvPicPr>
        <p:blipFill>
          <a:blip r:embed="rId3"/>
          <a:stretch/>
        </p:blipFill>
        <p:spPr>
          <a:xfrm>
            <a:off x="3409920" y="3467160"/>
            <a:ext cx="3181320" cy="12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9" descr="fig13_4d"/>
          <p:cNvPicPr/>
          <p:nvPr/>
        </p:nvPicPr>
        <p:blipFill>
          <a:blip r:embed="rId4"/>
          <a:stretch/>
        </p:blipFill>
        <p:spPr>
          <a:xfrm>
            <a:off x="1600200" y="5734080"/>
            <a:ext cx="40705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Response in Example 13.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3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7" descr="fig13_5"/>
          <p:cNvPicPr/>
          <p:nvPr/>
        </p:nvPicPr>
        <p:blipFill>
          <a:blip r:embed="rId1"/>
          <a:stretch/>
        </p:blipFill>
        <p:spPr>
          <a:xfrm>
            <a:off x="914400" y="2381400"/>
            <a:ext cx="5018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1839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of Differenc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23800" y="1871640"/>
          <a:ext cx="571176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871640"/>
                    <a:ext cx="57117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"/>
          <p:cNvSpPr/>
          <p:nvPr/>
        </p:nvSpPr>
        <p:spPr>
          <a:xfrm>
            <a:off x="514800" y="3317760"/>
            <a:ext cx="342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-- input sequenc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-- output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4476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3017880" y="4756320"/>
          <a:ext cx="306540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7880" y="4756320"/>
                    <a:ext cx="30654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9"/>
          <p:cNvSpPr/>
          <p:nvPr/>
        </p:nvSpPr>
        <p:spPr>
          <a:xfrm>
            <a:off x="530280" y="470376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58360" y="5665680"/>
            <a:ext cx="503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Approach – section 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transform Method – section 1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-Transfe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136600" y="1387440"/>
          <a:ext cx="223704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1387440"/>
                    <a:ext cx="2237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1866960" y="2281320"/>
          <a:ext cx="27144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2281320"/>
                    <a:ext cx="27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8"/>
          <p:cNvGraphicFramePr/>
          <p:nvPr/>
        </p:nvGraphicFramePr>
        <p:xfrm>
          <a:off x="2038320" y="3348000"/>
          <a:ext cx="27464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8320" y="3348000"/>
                    <a:ext cx="274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11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2533680" y="4376880"/>
          <a:ext cx="172404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3680" y="4376880"/>
                    <a:ext cx="1724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 Zero Lo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3.13, Fig. 13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30" descr="fig13_6a"/>
          <p:cNvPicPr/>
          <p:nvPr/>
        </p:nvPicPr>
        <p:blipFill>
          <a:blip r:embed="rId1"/>
          <a:stretch/>
        </p:blipFill>
        <p:spPr>
          <a:xfrm>
            <a:off x="841320" y="3191040"/>
            <a:ext cx="2529000" cy="188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1" descr="fig13_6b"/>
          <p:cNvPicPr/>
          <p:nvPr/>
        </p:nvPicPr>
        <p:blipFill>
          <a:blip r:embed="rId2"/>
          <a:stretch/>
        </p:blipFill>
        <p:spPr>
          <a:xfrm>
            <a:off x="3616200" y="3192480"/>
            <a:ext cx="2529000" cy="188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2" descr="fig13_6c"/>
          <p:cNvPicPr/>
          <p:nvPr/>
        </p:nvPicPr>
        <p:blipFill>
          <a:blip r:embed="rId3"/>
          <a:stretch/>
        </p:blipFill>
        <p:spPr>
          <a:xfrm>
            <a:off x="836640" y="5303880"/>
            <a:ext cx="2690640" cy="2003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3" descr="fig13_6d"/>
          <p:cNvPicPr/>
          <p:nvPr/>
        </p:nvPicPr>
        <p:blipFill>
          <a:blip r:embed="rId4"/>
          <a:stretch/>
        </p:blipFill>
        <p:spPr>
          <a:xfrm>
            <a:off x="3651120" y="5381640"/>
            <a:ext cx="2633760" cy="196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hap10 - Copy_Page_34.png"/>
          <p:cNvPicPr/>
          <p:nvPr/>
        </p:nvPicPr>
        <p:blipFill>
          <a:blip r:embed="rId5"/>
          <a:srcRect l="33057" t="22097" r="23889" b="66262"/>
          <a:stretch/>
        </p:blipFill>
        <p:spPr>
          <a:xfrm>
            <a:off x="514440" y="971640"/>
            <a:ext cx="435456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hap10 - Copy_Page_34.png"/>
          <p:cNvPicPr/>
          <p:nvPr/>
        </p:nvPicPr>
        <p:blipFill>
          <a:blip r:embed="rId6"/>
          <a:srcRect l="33057" t="33409" r="39176" b="58111"/>
          <a:stretch/>
        </p:blipFill>
        <p:spPr>
          <a:xfrm>
            <a:off x="3448080" y="1523880"/>
            <a:ext cx="29908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place &amp; Z-transfor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3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fig13_6a_rev"/>
          <p:cNvPicPr/>
          <p:nvPr/>
        </p:nvPicPr>
        <p:blipFill>
          <a:blip r:embed="rId1"/>
          <a:stretch/>
        </p:blipFill>
        <p:spPr>
          <a:xfrm>
            <a:off x="1158840" y="1965240"/>
            <a:ext cx="4578480" cy="11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fig13_6b_rev"/>
          <p:cNvPicPr/>
          <p:nvPr/>
        </p:nvPicPr>
        <p:blipFill>
          <a:blip r:embed="rId2"/>
          <a:stretch/>
        </p:blipFill>
        <p:spPr>
          <a:xfrm>
            <a:off x="609480" y="4373640"/>
            <a:ext cx="57628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5626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and RO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3.1, Fig. 1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8" descr="chap10 - Copy_Page_03.png"/>
          <p:cNvPicPr/>
          <p:nvPr/>
        </p:nvPicPr>
        <p:blipFill>
          <a:blip r:embed="rId1"/>
          <a:srcRect l="31945" t="31755" r="13610" b="63739"/>
          <a:stretch/>
        </p:blipFill>
        <p:spPr>
          <a:xfrm>
            <a:off x="380880" y="1295280"/>
            <a:ext cx="6045480" cy="64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9" descr="chap10 - Copy_Page_03.png"/>
          <p:cNvPicPr/>
          <p:nvPr/>
        </p:nvPicPr>
        <p:blipFill>
          <a:blip r:embed="rId2"/>
          <a:srcRect l="13888" t="77201" r="67703" b="13817"/>
          <a:stretch/>
        </p:blipFill>
        <p:spPr>
          <a:xfrm>
            <a:off x="457200" y="3916440"/>
            <a:ext cx="2286000" cy="14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0" descr="chap10 - Copy_Page_03.png"/>
          <p:cNvPicPr/>
          <p:nvPr/>
        </p:nvPicPr>
        <p:blipFill>
          <a:blip r:embed="rId3"/>
          <a:srcRect l="32302" t="71449" r="15996" b="14165"/>
          <a:stretch/>
        </p:blipFill>
        <p:spPr>
          <a:xfrm>
            <a:off x="304920" y="5454720"/>
            <a:ext cx="6327720" cy="227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1" descr="chap10 - Copy_Page_03.png"/>
          <p:cNvPicPr/>
          <p:nvPr/>
        </p:nvPicPr>
        <p:blipFill>
          <a:blip r:embed="rId4"/>
          <a:srcRect l="45787" t="58373" r="30277" b="33688"/>
          <a:stretch/>
        </p:blipFill>
        <p:spPr>
          <a:xfrm>
            <a:off x="1638360" y="2171880"/>
            <a:ext cx="3327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 Lo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3.15, Fig. 13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7" descr=""/>
          <p:cNvPicPr/>
          <p:nvPr/>
        </p:nvPicPr>
        <p:blipFill>
          <a:blip r:embed="rId1"/>
          <a:stretch/>
        </p:blipFill>
        <p:spPr>
          <a:xfrm>
            <a:off x="1665360" y="4400640"/>
            <a:ext cx="3816360" cy="3660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hap10 - Copy_Page_37.png"/>
          <p:cNvPicPr/>
          <p:nvPr/>
        </p:nvPicPr>
        <p:blipFill>
          <a:blip r:embed="rId2"/>
          <a:srcRect l="34447" t="23178" r="21647" b="73726"/>
          <a:stretch/>
        </p:blipFill>
        <p:spPr>
          <a:xfrm>
            <a:off x="361800" y="1886040"/>
            <a:ext cx="6191280" cy="56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hap10 - Copy_Page_36.png"/>
          <p:cNvPicPr/>
          <p:nvPr/>
        </p:nvPicPr>
        <p:blipFill>
          <a:blip r:embed="rId3"/>
          <a:srcRect l="52972" t="84325" r="33970" b="13330"/>
          <a:stretch/>
        </p:blipFill>
        <p:spPr>
          <a:xfrm>
            <a:off x="1695600" y="1162080"/>
            <a:ext cx="2703240" cy="62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hap10 - Copy_Page_37.png"/>
          <p:cNvPicPr/>
          <p:nvPr/>
        </p:nvPicPr>
        <p:blipFill>
          <a:blip r:embed="rId4"/>
          <a:srcRect l="41298" t="48285" r="26391" b="47211"/>
          <a:stretch/>
        </p:blipFill>
        <p:spPr>
          <a:xfrm>
            <a:off x="228600" y="3009960"/>
            <a:ext cx="590544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hap10 - Copy_Page_37.png"/>
          <p:cNvPicPr/>
          <p:nvPr/>
        </p:nvPicPr>
        <p:blipFill>
          <a:blip r:embed="rId5"/>
          <a:srcRect l="41205" t="43775" r="25650" b="54152"/>
          <a:stretch/>
        </p:blipFill>
        <p:spPr>
          <a:xfrm>
            <a:off x="324000" y="2637000"/>
            <a:ext cx="62481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150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Response from Z-transfer Function (Fig. 13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8" descr=""/>
          <p:cNvPicPr/>
          <p:nvPr/>
        </p:nvPicPr>
        <p:blipFill>
          <a:blip r:embed="rId1"/>
          <a:stretch/>
        </p:blipFill>
        <p:spPr>
          <a:xfrm>
            <a:off x="131760" y="2378160"/>
            <a:ext cx="60530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4400" y="-360"/>
            <a:ext cx="61038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&amp; Phase Spectra in Example 13.18  (Fig. 13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3" descr="fig11_18v2"/>
          <p:cNvPicPr/>
          <p:nvPr/>
        </p:nvPicPr>
        <p:blipFill>
          <a:blip r:embed="rId1"/>
          <a:stretch/>
        </p:blipFill>
        <p:spPr>
          <a:xfrm>
            <a:off x="2001960" y="2679840"/>
            <a:ext cx="4856040" cy="1949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4" descr="fig11_18bv2"/>
          <p:cNvPicPr/>
          <p:nvPr/>
        </p:nvPicPr>
        <p:blipFill>
          <a:blip r:embed="rId2"/>
          <a:stretch/>
        </p:blipFill>
        <p:spPr>
          <a:xfrm>
            <a:off x="1886040" y="4595760"/>
            <a:ext cx="4735440" cy="2509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hap10 - Copy_Page_43.png"/>
          <p:cNvPicPr/>
          <p:nvPr/>
        </p:nvPicPr>
        <p:blipFill>
          <a:blip r:embed="rId3"/>
          <a:srcRect l="14416" t="48024" r="68059" b="43063"/>
          <a:stretch/>
        </p:blipFill>
        <p:spPr>
          <a:xfrm>
            <a:off x="285840" y="649620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hap10 - Copy_Page_43.png"/>
          <p:cNvPicPr/>
          <p:nvPr/>
        </p:nvPicPr>
        <p:blipFill>
          <a:blip r:embed="rId4"/>
          <a:srcRect l="37944" t="53955" r="22685" b="42322"/>
          <a:stretch/>
        </p:blipFill>
        <p:spPr>
          <a:xfrm>
            <a:off x="419040" y="1031760"/>
            <a:ext cx="588636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hap10 - Copy_Page_43.png"/>
          <p:cNvPicPr/>
          <p:nvPr/>
        </p:nvPicPr>
        <p:blipFill>
          <a:blip r:embed="rId5"/>
          <a:srcRect l="40191" t="64966" r="25149" b="31744"/>
          <a:stretch/>
        </p:blipFill>
        <p:spPr>
          <a:xfrm>
            <a:off x="361800" y="1771560"/>
            <a:ext cx="58867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 &amp; Zero lo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3.21, Fig. 13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6" descr="fig13_10"/>
          <p:cNvPicPr/>
          <p:nvPr/>
        </p:nvPicPr>
        <p:blipFill>
          <a:blip r:embed="rId1"/>
          <a:stretch/>
        </p:blipFill>
        <p:spPr>
          <a:xfrm>
            <a:off x="239760" y="3343320"/>
            <a:ext cx="5840280" cy="43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hap10 - Copy_Page_48.png"/>
          <p:cNvPicPr/>
          <p:nvPr/>
        </p:nvPicPr>
        <p:blipFill>
          <a:blip r:embed="rId2"/>
          <a:srcRect l="47390" t="40976" r="30018" b="54503"/>
          <a:stretch/>
        </p:blipFill>
        <p:spPr>
          <a:xfrm>
            <a:off x="860400" y="1028880"/>
            <a:ext cx="3452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hap10 - Copy_Page_48.png"/>
          <p:cNvPicPr/>
          <p:nvPr/>
        </p:nvPicPr>
        <p:blipFill>
          <a:blip r:embed="rId3"/>
          <a:srcRect l="45509" t="75748" r="21110" b="16094"/>
          <a:stretch/>
        </p:blipFill>
        <p:spPr>
          <a:xfrm>
            <a:off x="1657440" y="1847880"/>
            <a:ext cx="47052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and RO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3.2, Fig. 1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hap10 - Copy_Page_04.png"/>
          <p:cNvPicPr/>
          <p:nvPr/>
        </p:nvPicPr>
        <p:blipFill>
          <a:blip r:embed="rId1"/>
          <a:srcRect l="33553" t="39054" r="11669" b="54510"/>
          <a:stretch/>
        </p:blipFill>
        <p:spPr>
          <a:xfrm>
            <a:off x="380880" y="1066680"/>
            <a:ext cx="62611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hap10 - Copy_Page_05.png"/>
          <p:cNvPicPr/>
          <p:nvPr/>
        </p:nvPicPr>
        <p:blipFill>
          <a:blip r:embed="rId2"/>
          <a:srcRect l="39167" t="31114" r="21670" b="63524"/>
          <a:stretch/>
        </p:blipFill>
        <p:spPr>
          <a:xfrm>
            <a:off x="552600" y="2076480"/>
            <a:ext cx="569412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hap10 - Copy_Page_05.png"/>
          <p:cNvPicPr/>
          <p:nvPr/>
        </p:nvPicPr>
        <p:blipFill>
          <a:blip r:embed="rId3"/>
          <a:srcRect l="13332" t="11365" r="67782" b="75759"/>
          <a:stretch/>
        </p:blipFill>
        <p:spPr>
          <a:xfrm>
            <a:off x="285840" y="5391000"/>
            <a:ext cx="2076480" cy="18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hap10 - Copy_Page_05.png"/>
          <p:cNvPicPr/>
          <p:nvPr/>
        </p:nvPicPr>
        <p:blipFill>
          <a:blip r:embed="rId4"/>
          <a:srcRect l="31945" t="11365" r="15556" b="72111"/>
          <a:stretch/>
        </p:blipFill>
        <p:spPr>
          <a:xfrm>
            <a:off x="685800" y="2895480"/>
            <a:ext cx="575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pai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able 1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15800" y="971640"/>
            <a:ext cx="6442200" cy="72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440" y="-360"/>
            <a:ext cx="61722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-transform pai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able 1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hap10 - Copy_Page_08.png"/>
          <p:cNvPicPr/>
          <p:nvPr/>
        </p:nvPicPr>
        <p:blipFill>
          <a:blip r:embed="rId1"/>
          <a:srcRect l="15000" t="12865" r="13054" b="30470"/>
          <a:stretch/>
        </p:blipFill>
        <p:spPr>
          <a:xfrm>
            <a:off x="285840" y="1143000"/>
            <a:ext cx="62974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4343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rse z-trans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15320" y="2173320"/>
            <a:ext cx="5167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)  Table look-up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i) Inversion formul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ii) Partial fraction expans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v) Power serie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 look-up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4381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743040" y="1790640"/>
          <a:ext cx="5151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790640"/>
                    <a:ext cx="5151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0" y="4381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704880" y="3619440"/>
          <a:ext cx="52974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880" y="3619440"/>
                    <a:ext cx="52974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8"/>
          <p:cNvGraphicFramePr/>
          <p:nvPr/>
        </p:nvGraphicFramePr>
        <p:xfrm>
          <a:off x="1568520" y="5245200"/>
          <a:ext cx="277812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68520" y="5245200"/>
                    <a:ext cx="2778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al Frac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552600" y="1471680"/>
          <a:ext cx="560052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471680"/>
                    <a:ext cx="56005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"/>
          <p:cNvGraphicFramePr/>
          <p:nvPr/>
        </p:nvGraphicFramePr>
        <p:xfrm>
          <a:off x="1123920" y="2933640"/>
          <a:ext cx="480060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2933640"/>
                    <a:ext cx="4800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8"/>
          <p:cNvGraphicFramePr/>
          <p:nvPr/>
        </p:nvGraphicFramePr>
        <p:xfrm>
          <a:off x="514440" y="5605560"/>
          <a:ext cx="5400720" cy="85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440" y="5605560"/>
                    <a:ext cx="54007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0"/>
          <p:cNvSpPr/>
          <p:nvPr/>
        </p:nvSpPr>
        <p:spPr>
          <a:xfrm>
            <a:off x="1219680" y="371808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st order root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1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11"/>
          <p:cNvGraphicFramePr/>
          <p:nvPr/>
        </p:nvGraphicFramePr>
        <p:xfrm>
          <a:off x="533520" y="6972480"/>
          <a:ext cx="572904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6972480"/>
                    <a:ext cx="57290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3"/>
          <p:cNvGraphicFramePr/>
          <p:nvPr/>
        </p:nvGraphicFramePr>
        <p:xfrm>
          <a:off x="952560" y="4476600"/>
          <a:ext cx="512424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2560" y="4476600"/>
                    <a:ext cx="51242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al Frac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5680" y="3119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809720" y="1224000"/>
          <a:ext cx="30909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1224000"/>
                    <a:ext cx="3090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6"/>
          <p:cNvGraphicFramePr/>
          <p:nvPr/>
        </p:nvGraphicFramePr>
        <p:xfrm>
          <a:off x="352440" y="2414520"/>
          <a:ext cx="62388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2414520"/>
                    <a:ext cx="62388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8"/>
          <p:cNvGraphicFramePr/>
          <p:nvPr/>
        </p:nvGraphicFramePr>
        <p:xfrm>
          <a:off x="557280" y="3751200"/>
          <a:ext cx="555156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280" y="3751200"/>
                    <a:ext cx="5551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11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0"/>
          <p:cNvGraphicFramePr/>
          <p:nvPr/>
        </p:nvGraphicFramePr>
        <p:xfrm>
          <a:off x="781200" y="5329080"/>
          <a:ext cx="5562360" cy="76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1200" y="5329080"/>
                    <a:ext cx="55623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13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2"/>
          <p:cNvGraphicFramePr/>
          <p:nvPr/>
        </p:nvGraphicFramePr>
        <p:xfrm>
          <a:off x="488880" y="6458040"/>
          <a:ext cx="5864400" cy="10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880" y="6458040"/>
                    <a:ext cx="5864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rinal</cp:lastModifiedBy>
  <cp:lastPrinted>1998-09-16T18:03:42Z</cp:lastPrinted>
  <dcterms:modified xsi:type="dcterms:W3CDTF">2012-01-04T18:53:32Z</dcterms:modified>
  <cp:revision>385</cp:revision>
  <dc:subject/>
  <dc:title>Presentation - ICCE</dc:title>
</cp:coreProperties>
</file>