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B1F-CAE8-4F40-8F72-79F6320A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367-8903-4750-8360-482A405F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1F4-8433-491D-8A6F-BC635356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F13-A082-4317-AAD8-02B3A401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5BB-82BF-46D8-86C3-AA374E0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56E-DCD0-4488-AD85-F8D7D14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527-5E64-465D-A4A9-390EA11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7D7-2BD8-4497-8A6D-DD6BF079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D05-7FB6-4554-ABB7-7B91395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219-5087-4609-9457-931FE7E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F02-EED2-4E87-8192-B4011AC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259-6BA3-434D-98FC-CB85A1F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FC2-8E86-46AB-8EE2-7C46B8F9EC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lsen_fig1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772080" y="6488280"/>
            <a:ext cx="53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Finn Gunnar Nielse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:\Upload_Haripriya\JPEG &amp; PPT\Nielsen-OPM\JPEG\Nielsen_Chapter1\Nielsen_fig1_2.jpg"/>
          <p:cNvPicPr/>
          <p:nvPr/>
        </p:nvPicPr>
        <p:blipFill>
          <a:blip r:embed="rId1"/>
          <a:stretch/>
        </p:blipFill>
        <p:spPr>
          <a:xfrm>
            <a:off x="2436840" y="1839960"/>
            <a:ext cx="42688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lsen_fig1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3772080" y="6488280"/>
            <a:ext cx="53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Finn Gunnar Nielse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Upload_Haripriya\JPEG &amp; PPT\Nielsen-OPM\JPEG\Nielsen_Chapter1\Nielsen_fig1_3.jpg"/>
          <p:cNvPicPr/>
          <p:nvPr/>
        </p:nvPicPr>
        <p:blipFill>
          <a:blip r:embed="rId1"/>
          <a:stretch/>
        </p:blipFill>
        <p:spPr>
          <a:xfrm>
            <a:off x="1886040" y="1608120"/>
            <a:ext cx="5371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Haripriya Venkatesan</cp:lastModifiedBy>
  <dcterms:modified xsi:type="dcterms:W3CDTF">2024-02-17T10:16:13Z</dcterms:modified>
  <cp:revision>208</cp:revision>
  <dc:subject/>
  <dc:title>PowerPoint Presentation</dc:title>
</cp:coreProperties>
</file>