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CB0-92C9-448F-A0DD-2A6A0871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9DF-904B-45B8-A68C-81F258FC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288-154C-4D47-B565-5230A1BD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6A1-92E9-4521-85CD-F38FF34A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99B-655E-4FD8-A6F9-592674B5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6DE-35F4-45FF-8132-9A91932A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FA6-5BA0-40BE-8B46-D19C9270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95C-99E7-4DB3-8ADD-CF498DA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34E-A16B-43A1-AE7B-DDAAD5C2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7E2-FDA2-42CE-B650-78DD43E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F5B-8623-42C8-BA36-3C76697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329-B721-44AA-8A5F-CBEAF453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35FE-A2B0-4383-9828-3F57CD19C6E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18000" y="2820960"/>
            <a:ext cx="1908000" cy="1216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798720" y="2695680"/>
            <a:ext cx="1546560" cy="1466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2389320" y="2354400"/>
            <a:ext cx="4365360" cy="2149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21080" y="2514600"/>
            <a:ext cx="230184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373480" y="2470320"/>
            <a:ext cx="4397040" cy="191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801880" y="2178000"/>
            <a:ext cx="3540240" cy="250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510000" y="2536920"/>
            <a:ext cx="2124000" cy="1784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595680" y="2681280"/>
            <a:ext cx="1952640" cy="14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546360" y="2541600"/>
            <a:ext cx="2051280" cy="1774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583080" y="2800440"/>
            <a:ext cx="1977840" cy="1257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436920" y="2800440"/>
            <a:ext cx="2270160" cy="1257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913200" y="2844720"/>
            <a:ext cx="1317600" cy="116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781440" y="2749680"/>
            <a:ext cx="1581120" cy="1358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3613320" y="2600280"/>
            <a:ext cx="19173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860560" y="3076560"/>
            <a:ext cx="3422880" cy="7048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060800" y="2827440"/>
            <a:ext cx="1022400" cy="12031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p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827520" y="2733840"/>
            <a:ext cx="1488960" cy="1390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322800" y="2468520"/>
            <a:ext cx="2498400" cy="1920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692520" y="2604960"/>
            <a:ext cx="1758960" cy="1648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324240" y="2722680"/>
            <a:ext cx="2495520" cy="1412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905280" y="2800440"/>
            <a:ext cx="1333440" cy="1257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548160" y="2249640"/>
            <a:ext cx="2047680" cy="2358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817800" y="2679840"/>
            <a:ext cx="1508400" cy="1498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1_0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8:50:52Z</dcterms:created>
  <dc:creator>StephenKumar, SampathKumar</dc:creator>
  <dc:description/>
  <dc:language>en-US</dc:language>
  <cp:lastModifiedBy>StephenKumar, SampathKumar</cp:lastModifiedBy>
  <dcterms:modified xsi:type="dcterms:W3CDTF">2020-06-04T09:46:15Z</dcterms:modified>
  <cp:revision>2</cp:revision>
  <dc:subject/>
  <dc:title>PowerPoint Presentation</dc:title>
</cp:coreProperties>
</file>