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CF8-DB2F-47BE-89E1-4BBEA8DD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279-4941-4551-9930-8D46888F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958-D833-427A-96E5-62D68E8D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E58-EC42-4888-8022-745C588F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2EA-B1D2-4DE5-86AF-57A874AB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3B4-EDD6-4B03-AEE4-7E7D010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205-BBB0-47C1-BE85-C9083CF8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B0F-2A44-42E5-BAFD-423B9373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6A8-B237-4A5A-B99F-317E5A80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F89-64A9-496D-9892-2D2F3403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BB1-8CA3-464E-923E-9B88EAF9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025-7E7B-4A61-8154-2B5F698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0FC1-7078-42EB-82C1-B74AC69D1AD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39960" y="3016080"/>
            <a:ext cx="3664080" cy="825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544920" y="2585880"/>
            <a:ext cx="2054160" cy="168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417840" y="2427120"/>
            <a:ext cx="2308320" cy="2003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589120" y="2536920"/>
            <a:ext cx="3965760" cy="178416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349360" y="2692440"/>
            <a:ext cx="4445280" cy="14731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886200" y="2733840"/>
            <a:ext cx="1371600" cy="1390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887640" y="2747880"/>
            <a:ext cx="1368720" cy="136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543480" y="2664000"/>
            <a:ext cx="2057400" cy="1530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348000" y="2573280"/>
            <a:ext cx="2448000" cy="1711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709720" y="2843280"/>
            <a:ext cx="3724560" cy="1171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13200" y="2838600"/>
            <a:ext cx="1317600" cy="1180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554280" y="2265480"/>
            <a:ext cx="2035440" cy="2327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913120" y="2965320"/>
            <a:ext cx="3317760" cy="92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789360" y="2933640"/>
            <a:ext cx="156528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722680" y="2995560"/>
            <a:ext cx="3698640" cy="866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717640" y="2786040"/>
            <a:ext cx="3708720" cy="1285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48160" y="2660760"/>
            <a:ext cx="2047680" cy="1536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2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8:54:16Z</dcterms:created>
  <dc:creator>StephenKumar, SampathKumar</dc:creator>
  <dc:description/>
  <dc:language>en-US</dc:language>
  <cp:lastModifiedBy>StephenKumar, SampathKumar</cp:lastModifiedBy>
  <dcterms:modified xsi:type="dcterms:W3CDTF">2020-06-04T09:53:14Z</dcterms:modified>
  <cp:revision>2</cp:revision>
  <dc:subject/>
  <dc:title>PowerPoint Presentation</dc:title>
</cp:coreProperties>
</file>