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D7AE-E762-464D-B9A5-9B0EC13F2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25CB-2B13-4914-B242-58456FE06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econd talk following up on “san_antonio_07” on the use of the inverse source problem to design antennas to radiate so-called “Kaiser Wavelet Fields.”  It includes computer simulations and extends that work to the case of EM wavelet fiel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F96B-1126-4881-A409-2681B968C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BD97-C23F-4F20-986E-CE5442DA8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4EFE-2BC2-40A8-8EC9-540098364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D2FB-1FFA-4483-9FBD-B0E848CB9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22BD-7216-440B-9B0E-7085E0262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4B0F-721E-4E51-B416-C27D5F2D3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5EDF-3BA7-4E18-9B81-B36BF87DA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E75F-1A9C-4071-A4AD-27D888326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7249-64D4-4345-86E7-05D9A2DD3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1247-4099-44C7-BD83-394E4AFEB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37E2-9BC5-4ECA-A03D-12E3B0BE0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69EB-0738-4401-BD57-534296ECC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EFB2-0C6E-4B7A-BA49-A46FD2EFB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48C0-657F-4C93-B416-623DAAD25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F009-F579-439A-9E9C-FD2A09FCF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07B6-27BF-4AB3-8AF4-19F483F8B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7D8C-1D86-47AB-8BE8-13719B114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8D84-38B6-4765-B5CE-110CF8F36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8F93-2BAB-46EF-9A14-8D5C8401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BC43-78CB-4D81-9DDF-3976AADD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BCC9-874E-423E-9616-7AE97E14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F71D-A290-47BE-B228-8BC0CFD0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848D-DE80-48B8-A244-6400706F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BD86-887D-4DB2-9402-9E0FCB42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7383-A4CE-4694-BE33-CC2CF7FE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B6F6-E6FA-4569-BEA7-B6EE0D2B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F0B7-EBCE-4EC0-A817-39774B3D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C8B9-D90B-41D6-A91D-49E41467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5CF7-FCA7-43D3-B1E0-FEA7E578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E6CF-8FE2-4713-B06F-065ADD0A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San Antonio 08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F976-004F-4224-A260-C5315BFEB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8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San Antonio 08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1F8B-E4E5-4866-B16C-023AC00F2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ources for Kaiser Wavelets II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13440" y="1587600"/>
            <a:ext cx="720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A.J. Devaney, G. Kaiser,  R. Albanese, G. Erdmann, E. Maren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622160" y="2387520"/>
            <a:ext cx="44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anks to AFOSR (Arje Nachm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930240" y="2311560"/>
            <a:ext cx="70102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930240" y="2844720"/>
            <a:ext cx="70102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539640" y="3062160"/>
            <a:ext cx="7965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Finish Part I of work presented last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computer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extension to EM wave f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Discuss how method generalizes to other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eparable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coordinat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and radiated f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Extension to non-separabl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2156760" y="5756400"/>
            <a:ext cx="41112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See poster by Grant Erd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1150560" y="5157720"/>
            <a:ext cx="65494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od, old-fashioned mathematics ala Morse and Feshb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San Antonio 08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1A12-F4CC-4E01-8D30-D88A8A14E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636480" y="0"/>
            <a:ext cx="791856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San Antonio 08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AC83-5535-41CE-84C9-5E0F15EF2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fig_san3"/>
          <p:cNvPicPr/>
          <p:nvPr/>
        </p:nvPicPr>
        <p:blipFill>
          <a:blip r:embed="rId1"/>
          <a:stretch/>
        </p:blipFill>
        <p:spPr>
          <a:xfrm>
            <a:off x="203040" y="658800"/>
            <a:ext cx="8769600" cy="53499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5891760" y="140004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=5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475960" y="1870200"/>
            <a:ext cx="196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/2=k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=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San Antonio 08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EDD8-7910-4DAC-8F60-F5BDEC82A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fig_san4"/>
          <p:cNvPicPr/>
          <p:nvPr/>
        </p:nvPicPr>
        <p:blipFill>
          <a:blip r:embed="rId1"/>
          <a:stretch/>
        </p:blipFill>
        <p:spPr>
          <a:xfrm>
            <a:off x="241200" y="1039680"/>
            <a:ext cx="8902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San Antonio 08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06AD-E669-4244-B7FB-32A2294FB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4" descr="fig_san1"/>
          <p:cNvPicPr/>
          <p:nvPr/>
        </p:nvPicPr>
        <p:blipFill>
          <a:blip r:embed="rId1"/>
          <a:stretch/>
        </p:blipFill>
        <p:spPr>
          <a:xfrm>
            <a:off x="208080" y="579600"/>
            <a:ext cx="8688240" cy="54226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5891760" y="118440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=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475960" y="1654200"/>
            <a:ext cx="181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/2=k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San Antonio 08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CB83-E343-41EB-BA0E-95D369CCC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fig_san2"/>
          <p:cNvPicPr/>
          <p:nvPr/>
        </p:nvPicPr>
        <p:blipFill>
          <a:blip r:embed="rId1"/>
          <a:stretch/>
        </p:blipFill>
        <p:spPr>
          <a:xfrm>
            <a:off x="190440" y="563400"/>
            <a:ext cx="8664480" cy="54104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5891760" y="118440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=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5477040" y="1654200"/>
            <a:ext cx="149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=k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San Antonio 08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5E12-14E7-4B8B-A2D5-EC9C208A7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M Cas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311040" y="1380960"/>
            <a:ext cx="8077320" cy="11210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pic>
        <p:nvPicPr>
          <p:cNvPr id="182" name="Picture 9" descr=""/>
          <p:cNvPicPr/>
          <p:nvPr/>
        </p:nvPicPr>
        <p:blipFill>
          <a:blip r:embed="rId2"/>
          <a:stretch/>
        </p:blipFill>
        <p:spPr>
          <a:xfrm>
            <a:off x="2382840" y="2568600"/>
            <a:ext cx="3844800" cy="958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3"/>
          <a:stretch/>
        </p:blipFill>
        <p:spPr>
          <a:xfrm>
            <a:off x="1549440" y="4038480"/>
            <a:ext cx="5727600" cy="730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4"/>
          <a:stretch/>
        </p:blipFill>
        <p:spPr>
          <a:xfrm>
            <a:off x="1617840" y="4830840"/>
            <a:ext cx="5603760" cy="6062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2"/>
          <p:cNvSpPr/>
          <p:nvPr/>
        </p:nvSpPr>
        <p:spPr>
          <a:xfrm>
            <a:off x="1446840" y="3495600"/>
            <a:ext cx="62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diation Patterns for Electric Wave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3502080" y="5591160"/>
            <a:ext cx="17748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le on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San Antonio 08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77DF-A23A-459D-850D-BE0C833B5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ource Representations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665280" y="1581120"/>
            <a:ext cx="77295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San Antonio 08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09B9-54A2-4CCF-B6E0-9277CE58B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M Wavelet Current Sourc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1986120" y="1457280"/>
            <a:ext cx="5121000" cy="860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"/>
          <p:cNvPicPr/>
          <p:nvPr/>
        </p:nvPicPr>
        <p:blipFill>
          <a:blip r:embed="rId2"/>
          <a:stretch/>
        </p:blipFill>
        <p:spPr>
          <a:xfrm>
            <a:off x="317520" y="2349360"/>
            <a:ext cx="8074080" cy="749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"/>
          <p:cNvPicPr/>
          <p:nvPr/>
        </p:nvPicPr>
        <p:blipFill>
          <a:blip r:embed="rId3"/>
          <a:stretch/>
        </p:blipFill>
        <p:spPr>
          <a:xfrm>
            <a:off x="1706400" y="3944880"/>
            <a:ext cx="5438880" cy="8287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pic>
        <p:nvPicPr>
          <p:cNvPr id="199" name="Picture 11" descr=""/>
          <p:cNvPicPr/>
          <p:nvPr/>
        </p:nvPicPr>
        <p:blipFill>
          <a:blip r:embed="rId4"/>
          <a:stretch/>
        </p:blipFill>
        <p:spPr>
          <a:xfrm>
            <a:off x="431640" y="5010120"/>
            <a:ext cx="7921800" cy="7272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2"/>
          <p:cNvSpPr/>
          <p:nvPr/>
        </p:nvSpPr>
        <p:spPr>
          <a:xfrm>
            <a:off x="1567440" y="3228840"/>
            <a:ext cx="56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ergence free magnetic wavelet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San Antonio 08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8563-49D6-4A4B-9164-A312587F3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1898640" y="1495440"/>
            <a:ext cx="5321160" cy="11923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4371120" y="2541600"/>
            <a:ext cx="4776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unded by separable surface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ξ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309600" y="1170000"/>
            <a:ext cx="4325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 on separable surface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ξ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1"/>
          <p:cNvSpPr/>
          <p:nvPr/>
        </p:nvSpPr>
        <p:spPr>
          <a:xfrm>
            <a:off x="1397160" y="1549440"/>
            <a:ext cx="46980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14" descr=""/>
          <p:cNvPicPr/>
          <p:nvPr/>
        </p:nvPicPr>
        <p:blipFill>
          <a:blip r:embed="rId2"/>
          <a:stretch/>
        </p:blipFill>
        <p:spPr>
          <a:xfrm>
            <a:off x="952560" y="2982960"/>
            <a:ext cx="7638840" cy="113832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20"/>
          <p:cNvGrpSpPr/>
          <p:nvPr/>
        </p:nvGrpSpPr>
        <p:grpSpPr>
          <a:xfrm>
            <a:off x="1498320" y="4016520"/>
            <a:ext cx="6253560" cy="511200"/>
            <a:chOff x="1498320" y="4016520"/>
            <a:chExt cx="6253560" cy="511200"/>
          </a:xfrm>
        </p:grpSpPr>
        <p:sp>
          <p:nvSpPr>
            <p:cNvPr id="211" name="Text Box 12"/>
            <p:cNvSpPr/>
            <p:nvPr/>
          </p:nvSpPr>
          <p:spPr>
            <a:xfrm>
              <a:off x="1498320" y="4086360"/>
              <a:ext cx="43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 defines projection of source o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2" name="Picture 15" descr=""/>
            <p:cNvPicPr/>
            <p:nvPr/>
          </p:nvPicPr>
          <p:blipFill>
            <a:blip r:embed="rId3"/>
            <a:stretch/>
          </p:blipFill>
          <p:spPr>
            <a:xfrm>
              <a:off x="5824440" y="4016520"/>
              <a:ext cx="1927440" cy="511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3" name="Picture 17" descr=""/>
          <p:cNvPicPr/>
          <p:nvPr/>
        </p:nvPicPr>
        <p:blipFill>
          <a:blip r:embed="rId4"/>
          <a:stretch/>
        </p:blipFill>
        <p:spPr>
          <a:xfrm>
            <a:off x="1689120" y="4662360"/>
            <a:ext cx="6165720" cy="8971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214" name="Line 18"/>
          <p:cNvSpPr/>
          <p:nvPr/>
        </p:nvSpPr>
        <p:spPr>
          <a:xfrm flipH="1" flipV="1">
            <a:off x="3962160" y="2577960"/>
            <a:ext cx="40644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1014840" y="55656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Total of eleven coordinate systems to select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San Antonio 08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A506-B1A1-4806-96FD-71F91CE7B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M Fields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184320" y="2523960"/>
            <a:ext cx="8443800" cy="11718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7"/>
          <p:cNvSpPr/>
          <p:nvPr/>
        </p:nvSpPr>
        <p:spPr>
          <a:xfrm>
            <a:off x="2192400" y="1235160"/>
            <a:ext cx="43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Only six systems to choose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2665080" y="1844640"/>
            <a:ext cx="34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herical and co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2423520" y="3851280"/>
            <a:ext cx="40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tesian and cylindr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10" descr=""/>
          <p:cNvPicPr/>
          <p:nvPr/>
        </p:nvPicPr>
        <p:blipFill>
          <a:blip r:embed="rId2"/>
          <a:stretch/>
        </p:blipFill>
        <p:spPr>
          <a:xfrm>
            <a:off x="314280" y="4533840"/>
            <a:ext cx="83282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San Antonio 08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A354-594E-42ED-8545-C099227EC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requency Domain Wavelet Field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5321160" y="2611440"/>
            <a:ext cx="2971800" cy="771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1123560" y="2771640"/>
            <a:ext cx="3698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wo parameters: s,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: s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≥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064600" y="3368520"/>
            <a:ext cx="47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diation Pattern of Wavelet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"/>
          <p:cNvPicPr/>
          <p:nvPr/>
        </p:nvPicPr>
        <p:blipFill>
          <a:blip r:embed="rId2"/>
          <a:stretch/>
        </p:blipFill>
        <p:spPr>
          <a:xfrm>
            <a:off x="981000" y="1266840"/>
            <a:ext cx="7601040" cy="127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3"/>
          <a:stretch/>
        </p:blipFill>
        <p:spPr>
          <a:xfrm>
            <a:off x="1285920" y="3868560"/>
            <a:ext cx="4006800" cy="1113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/>
          <p:cNvPicPr/>
          <p:nvPr/>
        </p:nvPicPr>
        <p:blipFill>
          <a:blip r:embed="rId4"/>
          <a:stretch/>
        </p:blipFill>
        <p:spPr>
          <a:xfrm>
            <a:off x="1041480" y="5222880"/>
            <a:ext cx="7223040" cy="99216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69" name="Oval 14"/>
          <p:cNvSpPr/>
          <p:nvPr/>
        </p:nvSpPr>
        <p:spPr>
          <a:xfrm>
            <a:off x="5524560" y="3848040"/>
            <a:ext cx="1244520" cy="1244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6246720" y="4384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6730920" y="369576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butional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8"/>
          <p:cNvSpPr/>
          <p:nvPr/>
        </p:nvSpPr>
        <p:spPr>
          <a:xfrm>
            <a:off x="6184800" y="445788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6866280" y="4230720"/>
            <a:ext cx="17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am 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20"/>
          <p:cNvSpPr/>
          <p:nvPr/>
        </p:nvSpPr>
        <p:spPr>
          <a:xfrm flipV="1">
            <a:off x="6184800" y="4089240"/>
            <a:ext cx="44460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6437520" y="40910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2"/>
          <p:cNvSpPr/>
          <p:nvPr/>
        </p:nvSpPr>
        <p:spPr>
          <a:xfrm>
            <a:off x="6261120" y="1320840"/>
            <a:ext cx="2311560" cy="114300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San Antonio 08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E57F-D637-45FF-88DF-4FBFD0E74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verse Source Problem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" name="Oval 6"/>
          <p:cNvSpPr/>
          <p:nvPr/>
        </p:nvSpPr>
        <p:spPr>
          <a:xfrm>
            <a:off x="533520" y="1638360"/>
            <a:ext cx="1536480" cy="876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 flipV="1">
            <a:off x="1409760" y="1396800"/>
            <a:ext cx="1193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8"/>
          <p:cNvSpPr/>
          <p:nvPr/>
        </p:nvSpPr>
        <p:spPr>
          <a:xfrm flipV="1">
            <a:off x="1549440" y="2044800"/>
            <a:ext cx="1295280" cy="2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"/>
          <p:cNvSpPr/>
          <p:nvPr/>
        </p:nvSpPr>
        <p:spPr>
          <a:xfrm>
            <a:off x="1638360" y="2171880"/>
            <a:ext cx="8506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1458000" y="3797280"/>
            <a:ext cx="61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version depends on shape of source volume and 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892440" y="186228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3003840" y="4179960"/>
            <a:ext cx="28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Spherical Source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855360" y="5676840"/>
            <a:ext cx="77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diation Pattern yields the projection of the source onto free multipole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2" descr=""/>
          <p:cNvPicPr/>
          <p:nvPr/>
        </p:nvPicPr>
        <p:blipFill>
          <a:blip r:embed="rId1"/>
          <a:stretch/>
        </p:blipFill>
        <p:spPr>
          <a:xfrm>
            <a:off x="4489560" y="2717640"/>
            <a:ext cx="4654440" cy="1116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4" descr=""/>
          <p:cNvPicPr/>
          <p:nvPr/>
        </p:nvPicPr>
        <p:blipFill>
          <a:blip r:embed="rId2"/>
          <a:stretch/>
        </p:blipFill>
        <p:spPr>
          <a:xfrm>
            <a:off x="1338120" y="4664160"/>
            <a:ext cx="6658200" cy="996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3" descr=""/>
          <p:cNvPicPr/>
          <p:nvPr/>
        </p:nvPicPr>
        <p:blipFill>
          <a:blip r:embed="rId3"/>
          <a:stretch/>
        </p:blipFill>
        <p:spPr>
          <a:xfrm>
            <a:off x="696960" y="2757600"/>
            <a:ext cx="3521160" cy="1035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5" descr=""/>
          <p:cNvPicPr/>
          <p:nvPr/>
        </p:nvPicPr>
        <p:blipFill>
          <a:blip r:embed="rId4"/>
          <a:stretch/>
        </p:blipFill>
        <p:spPr>
          <a:xfrm>
            <a:off x="3359160" y="1393920"/>
            <a:ext cx="5321160" cy="119196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93" name="Text Box 26"/>
          <p:cNvSpPr/>
          <p:nvPr/>
        </p:nvSpPr>
        <p:spPr>
          <a:xfrm>
            <a:off x="273600" y="1208160"/>
            <a:ext cx="173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um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San Antonio 08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547A-D23F-41E0-9458-0A08F3726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inimum Energy Sources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000800" y="1514520"/>
            <a:ext cx="66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rsion not unique due to non-radiating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6"/>
          <p:cNvSpPr/>
          <p:nvPr/>
        </p:nvSpPr>
        <p:spPr>
          <a:xfrm>
            <a:off x="1320840" y="2158920"/>
            <a:ext cx="1574640" cy="1054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153600" y="2414520"/>
            <a:ext cx="5014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NR Source radiates a zero field outside of V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59120" y="3635280"/>
            <a:ext cx="89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rsion may not be stable due to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ssentiall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on-radiating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963360" y="4789440"/>
            <a:ext cx="7358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Essentially NR Source radiates an “evanescent” field outside of V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895320" y="5373720"/>
            <a:ext cx="752472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Must make sure source does not contain essentially NR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2881800" y="3036960"/>
            <a:ext cx="594432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Minimum energy sources contain no NR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3767760" y="1981080"/>
            <a:ext cx="22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 space of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3436560" y="422928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ar null space of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San Antonio 08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102C-0A87-4529-98AC-E9CB6FC00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otationally Symmetric Sourc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2338560" y="1308240"/>
            <a:ext cx="4654440" cy="111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2"/>
          <a:stretch/>
        </p:blipFill>
        <p:spPr>
          <a:xfrm>
            <a:off x="498600" y="2381400"/>
            <a:ext cx="7968960" cy="1036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"/>
          <p:cNvPicPr/>
          <p:nvPr/>
        </p:nvPicPr>
        <p:blipFill>
          <a:blip r:embed="rId3"/>
          <a:stretch/>
        </p:blipFill>
        <p:spPr>
          <a:xfrm>
            <a:off x="1827360" y="3559320"/>
            <a:ext cx="5578200" cy="912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"/>
          <p:cNvPicPr/>
          <p:nvPr/>
        </p:nvPicPr>
        <p:blipFill>
          <a:blip r:embed="rId4"/>
          <a:stretch/>
        </p:blipFill>
        <p:spPr>
          <a:xfrm>
            <a:off x="1536840" y="4594320"/>
            <a:ext cx="6083280" cy="117936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San Antonio 08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218C-04DB-4F1C-93B7-D430E0456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Wavelet Field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1168560" y="1374840"/>
            <a:ext cx="7223040" cy="99216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pic>
        <p:nvPicPr>
          <p:cNvPr id="120" name="Picture 8" descr=""/>
          <p:cNvPicPr/>
          <p:nvPr/>
        </p:nvPicPr>
        <p:blipFill>
          <a:blip r:embed="rId2"/>
          <a:stretch/>
        </p:blipFill>
        <p:spPr>
          <a:xfrm>
            <a:off x="2238480" y="3755880"/>
            <a:ext cx="5060880" cy="87336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pic>
        <p:nvPicPr>
          <p:cNvPr id="121" name="Picture 10" descr=""/>
          <p:cNvPicPr/>
          <p:nvPr/>
        </p:nvPicPr>
        <p:blipFill>
          <a:blip r:embed="rId3"/>
          <a:stretch/>
        </p:blipFill>
        <p:spPr>
          <a:xfrm>
            <a:off x="1417680" y="2457360"/>
            <a:ext cx="6454800" cy="1212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/>
          <p:cNvPicPr/>
          <p:nvPr/>
        </p:nvPicPr>
        <p:blipFill>
          <a:blip r:embed="rId4"/>
          <a:stretch/>
        </p:blipFill>
        <p:spPr>
          <a:xfrm>
            <a:off x="1442880" y="4791240"/>
            <a:ext cx="6410520" cy="13064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San Antonio 08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F790-AAA9-4E6C-AD92-09B73D3D6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ealizability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1917720" y="3697200"/>
            <a:ext cx="5499000" cy="995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1811160" y="1311120"/>
            <a:ext cx="5686560" cy="11592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3314880" y="2658960"/>
            <a:ext cx="4525920" cy="993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4"/>
          <a:stretch/>
        </p:blipFill>
        <p:spPr>
          <a:xfrm>
            <a:off x="1295280" y="4788000"/>
            <a:ext cx="3813120" cy="1003320"/>
          </a:xfrm>
          <a:prstGeom prst="rect">
            <a:avLst/>
          </a:prstGeom>
          <a:ln w="0">
            <a:noFill/>
          </a:ln>
        </p:spPr>
      </p:pic>
      <p:sp>
        <p:nvSpPr>
          <p:cNvPr id="131" name="Line 10"/>
          <p:cNvSpPr/>
          <p:nvPr/>
        </p:nvSpPr>
        <p:spPr>
          <a:xfrm>
            <a:off x="5359320" y="52578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6635160" y="4959360"/>
            <a:ext cx="884880" cy="64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≥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224280" y="288612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herical shell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San Antonio 08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23C5-0A0F-4F43-B940-61222C9AA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ource Efficiency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506600" y="1225440"/>
            <a:ext cx="6454800" cy="1212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2017800" y="2428920"/>
            <a:ext cx="5578560" cy="912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3"/>
          <a:stretch/>
        </p:blipFill>
        <p:spPr>
          <a:xfrm>
            <a:off x="2536920" y="3405240"/>
            <a:ext cx="3854520" cy="7398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pic>
        <p:nvPicPr>
          <p:cNvPr id="141" name="Picture 8" descr=""/>
          <p:cNvPicPr/>
          <p:nvPr/>
        </p:nvPicPr>
        <p:blipFill>
          <a:blip r:embed="rId4"/>
          <a:stretch/>
        </p:blipFill>
        <p:spPr>
          <a:xfrm>
            <a:off x="2327400" y="4670280"/>
            <a:ext cx="4539960" cy="782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9"/>
          <p:cNvSpPr/>
          <p:nvPr/>
        </p:nvSpPr>
        <p:spPr>
          <a:xfrm>
            <a:off x="2271960" y="4232160"/>
            <a:ext cx="44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Measure of source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580760" y="5413320"/>
            <a:ext cx="579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iciency is optimal at low frequencies 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reases as frequency in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8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San Antonio 08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4C9D-416A-433E-BF70-92B7CA2AC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fig_san5"/>
          <p:cNvPicPr/>
          <p:nvPr/>
        </p:nvPicPr>
        <p:blipFill>
          <a:blip r:embed="rId1"/>
          <a:stretch/>
        </p:blipFill>
        <p:spPr>
          <a:xfrm>
            <a:off x="266760" y="0"/>
            <a:ext cx="8140680" cy="6124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3027240" y="539640"/>
            <a:ext cx="4219560" cy="9273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5891400" y="1400040"/>
            <a:ext cx="10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=10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5475960" y="1870200"/>
            <a:ext cx="196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/2=k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=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3:55:54Z</dcterms:created>
  <dc:creator>anthony devaney</dc:creator>
  <dc:description/>
  <dc:language>en-US</dc:language>
  <cp:lastModifiedBy>tony devaney</cp:lastModifiedBy>
  <dcterms:modified xsi:type="dcterms:W3CDTF">2012-09-21T16:13:15Z</dcterms:modified>
  <cp:revision>64</cp:revision>
  <dc:subject/>
  <dc:title>Basic Scattering Theory</dc:title>
</cp:coreProperties>
</file>