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9B5B-66DD-4C46-87C5-D145832BD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1A7A-76C9-45D1-8874-9EC890B11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at the annual AFOSR meeting on electromagnetics in 2006 and reviewing the inverse source problem for wavelet scalar wave fields that are treated in Chapter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7B5C-6382-4845-BA3E-8D3674C00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CC52-6972-4F16-86CA-24A6C6DA0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8ECF-DAE4-4F4C-BD98-29BA4374A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02C7-6573-4FCC-B6DA-56D4C01CD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9D42-5582-4A08-9331-69748F073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CD29-D2FF-46BB-85A2-1972F5E65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E56A-B18A-4295-87F8-B031894F3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799D-0CDE-4134-AD82-24671C559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1B92-7146-45E5-B9CE-387A27AFB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5DE0-7884-4109-9EA3-51771CE69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BA00-156A-486C-B6AD-F157867B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86A-9059-478F-B6F5-B567C064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6FA-6A5F-4C99-8B7D-D4C36674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AEF7-7E1B-4391-B6EE-7E6ECF30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19D-A601-4F62-9362-A0A95EC7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E2C3-C44D-4DF3-9A83-E12286FD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815-469D-45DE-BA43-4643D8CA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AFD-C09D-459D-AA31-7654C23A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1675-AF99-4868-BB99-3BD7CE6D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7922-C0F5-468B-AFDF-4FD6B417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35EE-BEBB-473C-8162-C51E6509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3FA-6127-4C14-BB41-B439EA4B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11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F531-308E-45D9-B4F3-89533D31A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0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6.png"/><Relationship Id="rId3" Type="http://schemas.openxmlformats.org/officeDocument/2006/relationships/image" Target="../media/image21.png"/><Relationship Id="rId4" Type="http://schemas.openxmlformats.org/officeDocument/2006/relationships/image" Target="../media/image25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11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0D03-43B7-4FE3-908E-B1B3D410E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ources for Kaiser Wavelets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13440" y="1587600"/>
            <a:ext cx="72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A.J. Devaney, G. Kaiser,  R. Albanese, G. Erdmann, E. Mare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659960" y="2590920"/>
            <a:ext cx="44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anks to AFOSR (Arje Nachm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968400" y="2514600"/>
            <a:ext cx="70102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968400" y="3048120"/>
            <a:ext cx="70102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639360" y="3481560"/>
            <a:ext cx="773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Determine  “realizability” of the Kaiser wave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Apply “conventional” methods to design antenna for Kaiser wave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11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9E2B-4DA2-430D-8299-9A61C7765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mputing the Expansion Coefficient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1201680" y="1163520"/>
            <a:ext cx="6651720" cy="119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1413000" y="2970360"/>
            <a:ext cx="6038640" cy="116676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67" name="Text Box 7"/>
          <p:cNvSpPr/>
          <p:nvPr/>
        </p:nvSpPr>
        <p:spPr>
          <a:xfrm>
            <a:off x="3639600" y="240336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t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3"/>
          <a:stretch/>
        </p:blipFill>
        <p:spPr>
          <a:xfrm>
            <a:off x="1535040" y="4257720"/>
            <a:ext cx="5908680" cy="6778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169" name="Picture 13" descr=""/>
          <p:cNvPicPr/>
          <p:nvPr/>
        </p:nvPicPr>
        <p:blipFill>
          <a:blip r:embed="rId4"/>
          <a:stretch/>
        </p:blipFill>
        <p:spPr>
          <a:xfrm>
            <a:off x="1636560" y="5280120"/>
            <a:ext cx="5896080" cy="66672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11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391C-ED49-4BB2-B01D-6E0857A22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E Wavelet Field Sourc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1832040" y="1293840"/>
            <a:ext cx="5978520" cy="9777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3386520" y="30765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iz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8" descr=""/>
          <p:cNvPicPr/>
          <p:nvPr/>
        </p:nvPicPr>
        <p:blipFill>
          <a:blip r:embed="rId2"/>
          <a:stretch/>
        </p:blipFill>
        <p:spPr>
          <a:xfrm>
            <a:off x="266760" y="3720960"/>
            <a:ext cx="4368600" cy="1390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3"/>
          <a:stretch/>
        </p:blipFill>
        <p:spPr>
          <a:xfrm>
            <a:off x="4951440" y="3965400"/>
            <a:ext cx="3305160" cy="8892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707760" y="335592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card’s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4"/>
          <a:stretch/>
        </p:blipFill>
        <p:spPr>
          <a:xfrm>
            <a:off x="1687680" y="2371680"/>
            <a:ext cx="5895720" cy="666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5"/>
          <a:stretch/>
        </p:blipFill>
        <p:spPr>
          <a:xfrm>
            <a:off x="2620800" y="5165640"/>
            <a:ext cx="3597480" cy="95400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11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83CF-1BFA-4371-A604-734AC7A92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1"/>
          <a:stretch/>
        </p:blipFill>
        <p:spPr>
          <a:xfrm>
            <a:off x="1547640" y="2479680"/>
            <a:ext cx="5972400" cy="1314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asic Kaiser scalar wavele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1376280" y="1353960"/>
            <a:ext cx="4181400" cy="1000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3"/>
          <a:stretch/>
        </p:blipFill>
        <p:spPr>
          <a:xfrm>
            <a:off x="2041560" y="3652920"/>
            <a:ext cx="5315040" cy="1000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403960" y="234936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 source in complex space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4"/>
          <a:stretch/>
        </p:blipFill>
        <p:spPr>
          <a:xfrm>
            <a:off x="2295360" y="4540320"/>
            <a:ext cx="440064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5"/>
          <a:stretch/>
        </p:blipFill>
        <p:spPr>
          <a:xfrm>
            <a:off x="2692440" y="5415120"/>
            <a:ext cx="3581280" cy="752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67" name="Text Box 12"/>
          <p:cNvSpPr/>
          <p:nvPr/>
        </p:nvSpPr>
        <p:spPr>
          <a:xfrm>
            <a:off x="6051960" y="165096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(t) analytic in l.h.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11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DBE7-C1D9-4E16-A8D3-4DA3C5AF9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ource for Wavelet Field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Oval 5"/>
          <p:cNvSpPr/>
          <p:nvPr/>
        </p:nvSpPr>
        <p:spPr>
          <a:xfrm>
            <a:off x="825480" y="3111480"/>
            <a:ext cx="1003320" cy="214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6"/>
          <p:cNvSpPr/>
          <p:nvPr/>
        </p:nvSpPr>
        <p:spPr>
          <a:xfrm flipV="1">
            <a:off x="1295280" y="3962520"/>
            <a:ext cx="97812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7"/>
          <p:cNvSpPr/>
          <p:nvPr/>
        </p:nvSpPr>
        <p:spPr>
          <a:xfrm flipH="1" flipV="1">
            <a:off x="876240" y="3809880"/>
            <a:ext cx="3938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039320" y="3546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2953800" y="363528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d Beam with no side l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2" descr=""/>
          <p:cNvPicPr/>
          <p:nvPr/>
        </p:nvPicPr>
        <p:blipFill>
          <a:blip r:embed="rId1"/>
          <a:stretch/>
        </p:blipFill>
        <p:spPr>
          <a:xfrm>
            <a:off x="2697120" y="1265400"/>
            <a:ext cx="3990960" cy="954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4"/>
          <p:cNvSpPr/>
          <p:nvPr/>
        </p:nvSpPr>
        <p:spPr>
          <a:xfrm>
            <a:off x="2475000" y="363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5" descr=""/>
          <p:cNvPicPr/>
          <p:nvPr/>
        </p:nvPicPr>
        <p:blipFill>
          <a:blip r:embed="rId2"/>
          <a:stretch/>
        </p:blipFill>
        <p:spPr>
          <a:xfrm>
            <a:off x="2155680" y="2090880"/>
            <a:ext cx="5315040" cy="1000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6"/>
          <p:cNvSpPr/>
          <p:nvPr/>
        </p:nvSpPr>
        <p:spPr>
          <a:xfrm>
            <a:off x="2360880" y="4613400"/>
            <a:ext cx="635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urce=generalized function supported on disk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dius a with unit normal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1291680" y="552600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Want to compute continuously distributed and compact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supported source to radiate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3357000" y="3125880"/>
            <a:ext cx="30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y wave operator to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11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F82A-5C5E-48C3-81D4-7F7EB2CAE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ealizability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18920" y="1400040"/>
            <a:ext cx="79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s source radiate finite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wavelet field be radiated by a “conventional” sour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190240" y="2441520"/>
            <a:ext cx="39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the 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981000" y="3168720"/>
            <a:ext cx="6572160" cy="13539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195480" y="5157720"/>
            <a:ext cx="859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ll show that field is realizable and that it can be radiated by a continu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ributed source localized within a sphere of radius a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78640" y="4660920"/>
            <a:ext cx="802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Apply standard theory to compute minimum energy source that radiates wavelet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051280" y="3022560"/>
            <a:ext cx="39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lar wave complex Poynting’s theor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11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9BD4-D355-4E34-BD4D-5E6DCCB2D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requency Domain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649440" y="1447920"/>
            <a:ext cx="7362720" cy="1141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5321160" y="2611440"/>
            <a:ext cx="2971800" cy="7714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1938600" y="2809800"/>
            <a:ext cx="27410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wo parameters: s,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064600" y="336852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diation Pattern of Wavelet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3"/>
          <a:stretch/>
        </p:blipFill>
        <p:spPr>
          <a:xfrm>
            <a:off x="1384200" y="3900600"/>
            <a:ext cx="6019920" cy="1245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4"/>
          <a:stretch/>
        </p:blipFill>
        <p:spPr>
          <a:xfrm>
            <a:off x="1052640" y="5261040"/>
            <a:ext cx="6810120" cy="7808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11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BBAB-6337-4762-9873-3AD313260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adiated Energy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1627200" y="1065240"/>
            <a:ext cx="5826240" cy="1168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1268280" y="2116080"/>
            <a:ext cx="6696360" cy="11620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644400" y="3284640"/>
            <a:ext cx="7829640" cy="1305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2865600" y="4268880"/>
            <a:ext cx="3438360" cy="1342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6639840" y="4562640"/>
            <a:ext cx="9565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s&gt;a/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2318400" y="5676840"/>
            <a:ext cx="43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nergy radiated by a wavelet field is fi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11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3AC4-C370-4625-83A1-0E7CA0F27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verse Source Problem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3209760" y="1220760"/>
            <a:ext cx="5276880" cy="1208160"/>
          </a:xfrm>
          <a:prstGeom prst="rect">
            <a:avLst/>
          </a:prstGeom>
          <a:ln w="0">
            <a:noFill/>
          </a:ln>
        </p:spPr>
      </p:pic>
      <p:sp>
        <p:nvSpPr>
          <p:cNvPr id="118" name="Oval 6"/>
          <p:cNvSpPr/>
          <p:nvPr/>
        </p:nvSpPr>
        <p:spPr>
          <a:xfrm>
            <a:off x="647640" y="1943280"/>
            <a:ext cx="1536840" cy="876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 flipV="1">
            <a:off x="1523880" y="1701720"/>
            <a:ext cx="11937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8"/>
          <p:cNvSpPr/>
          <p:nvPr/>
        </p:nvSpPr>
        <p:spPr>
          <a:xfrm flipV="1">
            <a:off x="1612800" y="2311560"/>
            <a:ext cx="129564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1752480" y="2476440"/>
            <a:ext cx="8510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2"/>
          <a:stretch/>
        </p:blipFill>
        <p:spPr>
          <a:xfrm>
            <a:off x="3614760" y="2384280"/>
            <a:ext cx="3502080" cy="1087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3"/>
          <a:stretch/>
        </p:blipFill>
        <p:spPr>
          <a:xfrm>
            <a:off x="2581200" y="3532320"/>
            <a:ext cx="1619280" cy="7333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451800" y="447372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t the map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3" descr=""/>
          <p:cNvPicPr/>
          <p:nvPr/>
        </p:nvPicPr>
        <p:blipFill>
          <a:blip r:embed="rId4"/>
          <a:stretch/>
        </p:blipFill>
        <p:spPr>
          <a:xfrm>
            <a:off x="3486240" y="4343400"/>
            <a:ext cx="3619440" cy="685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4"/>
          <p:cNvSpPr/>
          <p:nvPr/>
        </p:nvSpPr>
        <p:spPr>
          <a:xfrm>
            <a:off x="1643760" y="5130720"/>
            <a:ext cx="58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rsion depends on shape of source volume and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4710240" y="364824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ct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1006560" y="21668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2079720" y="5638680"/>
            <a:ext cx="4984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SVD provides a complete and beautiful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11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FBD6-8C00-4D15-B0BA-EF49A236E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nimum Energy Sources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000800" y="1514520"/>
            <a:ext cx="66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rsion not unique due to non-radiating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1320840" y="2158920"/>
            <a:ext cx="1574640" cy="1054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153600" y="2414520"/>
            <a:ext cx="501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NR Source radiates a zero field outside of V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159120" y="3635280"/>
            <a:ext cx="89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rsion may not be stable due to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ssential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n-radiating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963360" y="4789440"/>
            <a:ext cx="7358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Essentially NR Source radiates an “evanescent” field outside of V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895320" y="5373720"/>
            <a:ext cx="75247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Must make sure source does not contain essentially NR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2881800" y="3036960"/>
            <a:ext cx="59443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Minimum energy sources contain no NR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3767760" y="198108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 space of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3436560" y="410220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ar null space of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11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San Antonio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BDC2-6137-4DD5-9E20-D58CF62FB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inimum Energy Source for spherical source volume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2809800" y="2652840"/>
            <a:ext cx="5978520" cy="977760"/>
          </a:xfrm>
          <a:prstGeom prst="rect">
            <a:avLst/>
          </a:prstGeom>
          <a:ln w="0">
            <a:noFill/>
          </a:ln>
        </p:spPr>
      </p:pic>
      <p:sp>
        <p:nvSpPr>
          <p:cNvPr id="148" name="Oval 6"/>
          <p:cNvSpPr/>
          <p:nvPr/>
        </p:nvSpPr>
        <p:spPr>
          <a:xfrm>
            <a:off x="380880" y="1727280"/>
            <a:ext cx="1536840" cy="1536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 flipH="1" flipV="1">
            <a:off x="545760" y="2082960"/>
            <a:ext cx="584280" cy="40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969840" y="18954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925560" y="26496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 flipV="1">
            <a:off x="1460520" y="1638360"/>
            <a:ext cx="111744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1"/>
          <p:cNvSpPr/>
          <p:nvPr/>
        </p:nvSpPr>
        <p:spPr>
          <a:xfrm>
            <a:off x="1498680" y="2463840"/>
            <a:ext cx="110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1549440" y="2666880"/>
            <a:ext cx="99072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3" descr=""/>
          <p:cNvPicPr/>
          <p:nvPr/>
        </p:nvPicPr>
        <p:blipFill>
          <a:blip r:embed="rId2"/>
          <a:stretch/>
        </p:blipFill>
        <p:spPr>
          <a:xfrm>
            <a:off x="3154320" y="1592280"/>
            <a:ext cx="4651560" cy="987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"/>
          <p:cNvPicPr/>
          <p:nvPr/>
        </p:nvPicPr>
        <p:blipFill>
          <a:blip r:embed="rId3"/>
          <a:stretch/>
        </p:blipFill>
        <p:spPr>
          <a:xfrm>
            <a:off x="1611360" y="3774960"/>
            <a:ext cx="3305160" cy="8892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5"/>
          <p:cNvSpPr/>
          <p:nvPr/>
        </p:nvSpPr>
        <p:spPr>
          <a:xfrm>
            <a:off x="5102280" y="4038480"/>
            <a:ext cx="289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&gt;k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s to in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6" descr=""/>
          <p:cNvPicPr/>
          <p:nvPr/>
        </p:nvPicPr>
        <p:blipFill>
          <a:blip r:embed="rId4"/>
          <a:stretch/>
        </p:blipFill>
        <p:spPr>
          <a:xfrm>
            <a:off x="495360" y="4991040"/>
            <a:ext cx="8435880" cy="8938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59" name="Line 17"/>
          <p:cNvSpPr/>
          <p:nvPr/>
        </p:nvSpPr>
        <p:spPr>
          <a:xfrm flipH="1">
            <a:off x="5295960" y="2438280"/>
            <a:ext cx="63504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5991480" y="223524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t comp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3:55:54Z</dcterms:created>
  <dc:creator>anthony devaney</dc:creator>
  <dc:description/>
  <dc:language>en-US</dc:language>
  <cp:lastModifiedBy>tony devaney</cp:lastModifiedBy>
  <dcterms:modified xsi:type="dcterms:W3CDTF">2012-09-21T16:09:26Z</dcterms:modified>
  <cp:revision>43</cp:revision>
  <dc:subject/>
  <dc:title>Basic Scattering Theory</dc:title>
</cp:coreProperties>
</file>