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8E1-391D-484F-B66A-3239E026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F71-ABAF-4DC5-BDDB-EA8FD3C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123-2E5E-40E1-903F-53C81B59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A2C-052F-4AEB-9320-FA8C1CA7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BFE-94B1-47B0-870B-31DBDEF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46E-C547-48E4-8305-7C621DD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4EF-1CE3-4726-9DCC-625179FF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FF2-722A-45F0-A9E8-D22243BF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C58-3F6F-4569-8B60-FBFE752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6D9-D4D4-4E71-9699-2E727B2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BAC-D73A-4FB1-8351-C7C837F7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DF5-9F6D-47AB-A1F6-1C880845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A923-B2BD-4650-918F-1DBE04772D5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884320" y="3036960"/>
            <a:ext cx="3375360" cy="784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373480" y="2232000"/>
            <a:ext cx="4397040" cy="2394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49520" y="2611440"/>
            <a:ext cx="2244960" cy="1635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798720" y="2658960"/>
            <a:ext cx="1546560" cy="1540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457360" y="2732040"/>
            <a:ext cx="4229280" cy="1393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571920" y="2565360"/>
            <a:ext cx="2000160" cy="1727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587760" y="2475000"/>
            <a:ext cx="1968480" cy="190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771640" y="2406600"/>
            <a:ext cx="3600720" cy="2044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382920" y="2481120"/>
            <a:ext cx="2378160" cy="1895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590920" y="2549520"/>
            <a:ext cx="3962160" cy="1758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496960" y="2844720"/>
            <a:ext cx="4150080" cy="1168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728880" y="2714760"/>
            <a:ext cx="1686240" cy="1428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524400" y="2436840"/>
            <a:ext cx="2095200" cy="1984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524400" y="2455920"/>
            <a:ext cx="2095200" cy="1946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679920" y="2595600"/>
            <a:ext cx="1784160" cy="1666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419200" y="2085840"/>
            <a:ext cx="4305600" cy="2686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579840" y="2557440"/>
            <a:ext cx="1984320" cy="1743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414520" y="2552760"/>
            <a:ext cx="4314960" cy="1752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986200" y="2639880"/>
            <a:ext cx="3171600" cy="1578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700360" y="2611440"/>
            <a:ext cx="3743280" cy="1635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386080" y="2568600"/>
            <a:ext cx="4371840" cy="1720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355840" y="2562120"/>
            <a:ext cx="4432320" cy="1733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745080" y="2714760"/>
            <a:ext cx="1653840" cy="1428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2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838680" y="2411280"/>
            <a:ext cx="1466640" cy="2035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365200" y="2481120"/>
            <a:ext cx="4413600" cy="18957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3454560" y="2438280"/>
            <a:ext cx="2234880" cy="198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2070000" y="2744640"/>
            <a:ext cx="5004000" cy="1368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895560" y="2778120"/>
            <a:ext cx="1352880" cy="13017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586320" y="2503440"/>
            <a:ext cx="1971360" cy="1851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855960" y="2548080"/>
            <a:ext cx="1432080" cy="1761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701800" y="3038400"/>
            <a:ext cx="3740400" cy="7812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073240" y="2232000"/>
            <a:ext cx="4997520" cy="2394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376360" y="2487600"/>
            <a:ext cx="4391280" cy="1882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886200" y="2833560"/>
            <a:ext cx="1371600" cy="1190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635280" y="2444760"/>
            <a:ext cx="1873440" cy="19684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3271680" y="2593800"/>
            <a:ext cx="2600640" cy="1670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743280" y="2612880"/>
            <a:ext cx="1657440" cy="1632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066760" y="2641680"/>
            <a:ext cx="5010480" cy="1574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610000" y="2948040"/>
            <a:ext cx="3924000" cy="961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868560" y="2879640"/>
            <a:ext cx="1406880" cy="1098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327400" y="2549520"/>
            <a:ext cx="4489200" cy="1758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98920" y="2430360"/>
            <a:ext cx="1946160" cy="1997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570040" y="2610000"/>
            <a:ext cx="4003920" cy="163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0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54:03Z</dcterms:created>
  <dc:creator>StephenKumar, SampathKumar</dc:creator>
  <dc:description/>
  <dc:language>en-US</dc:language>
  <cp:lastModifiedBy>StephenKumar, SampathKumar</cp:lastModifiedBy>
  <dcterms:modified xsi:type="dcterms:W3CDTF">2020-06-04T10:35:37Z</dcterms:modified>
  <cp:revision>2</cp:revision>
  <dc:subject/>
  <dc:title>PowerPoint Presentation</dc:title>
</cp:coreProperties>
</file>