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D8E-4E70-4C9C-A649-0C09F907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BAD-B3AD-4C37-93F2-DA433AEE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B384-D32B-42B0-B133-056B922D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3040-0125-4388-BE84-2390DF25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135B-C987-425B-86FB-1E9FF4D5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8B3-4508-4AFA-BB12-183F6BFE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1E38-FDC8-4934-8733-1F7268FC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5AAA-3BE4-470E-846C-FA37B8D5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6EA-64D6-4484-A1EE-F9FC292B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361-3F51-4E17-A1F4-403A72C6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A39A-40D8-4C54-BD36-88A506AF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0CA5-0EE0-4344-9739-DF18C116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2F18-A989-43C9-9FF4-CE912C8DE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133640"/>
            <a:ext cx="5048280" cy="7019640"/>
            <a:chOff x="609480" y="1133640"/>
            <a:chExt cx="5048280" cy="7019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628560" y="5477040"/>
              <a:ext cx="247644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rcRect l="24530" t="9766" r="0" b="0"/>
            <a:stretch/>
          </p:blipFill>
          <p:spPr>
            <a:xfrm>
              <a:off x="3124080" y="5486400"/>
              <a:ext cx="2514600" cy="26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609480" y="1143000"/>
              <a:ext cx="2514600" cy="21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3124080" y="1143000"/>
              <a:ext cx="2514600" cy="21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622440" y="3290760"/>
              <a:ext cx="2514600" cy="217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3119400" y="3301920"/>
              <a:ext cx="249552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609480" y="1143000"/>
              <a:ext cx="5029200" cy="701028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114720" y="1133640"/>
              <a:ext cx="19080" cy="700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19200" y="3286080"/>
              <a:ext cx="502920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8560" y="5467320"/>
              <a:ext cx="502920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70360" y="7093080"/>
              <a:ext cx="13968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889440" y="7645320"/>
              <a:ext cx="13968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257640" y="6975360"/>
              <a:ext cx="13968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514760" y="6877080"/>
              <a:ext cx="13968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54520" y="6143760"/>
              <a:ext cx="16812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1793880" y="6568920"/>
              <a:ext cx="13968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733840" y="7356600"/>
              <a:ext cx="13968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1778040" y="6210360"/>
              <a:ext cx="13968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108160" y="6261120"/>
              <a:ext cx="13968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666880" y="1295280"/>
              <a:ext cx="393840" cy="5335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914400" y="1219320"/>
              <a:ext cx="393840" cy="5331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828800" y="1219320"/>
              <a:ext cx="393840" cy="5331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876560" y="1371600"/>
              <a:ext cx="393480" cy="5335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4191120"/>
              <a:ext cx="0" cy="4572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81080" y="4114800"/>
              <a:ext cx="0" cy="4572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91120" y="3733920"/>
              <a:ext cx="0" cy="4572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95680" y="3809880"/>
              <a:ext cx="0" cy="4572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724280" y="3886200"/>
              <a:ext cx="304920" cy="3808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8000" y="2855880"/>
              <a:ext cx="345240" cy="3682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46760" y="2862360"/>
              <a:ext cx="345240" cy="3682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0080" y="5022720"/>
              <a:ext cx="345240" cy="3682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46760" y="5035680"/>
              <a:ext cx="345240" cy="3682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8920" y="7711920"/>
              <a:ext cx="333000" cy="3682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59000" y="7726320"/>
              <a:ext cx="320760" cy="3682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758880" y="906120"/>
            <a:ext cx="5059440" cy="7018560"/>
            <a:chOff x="758880" y="906120"/>
            <a:chExt cx="5059440" cy="701856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3286080" y="3200400"/>
              <a:ext cx="2486160" cy="22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3270240" y="914400"/>
              <a:ext cx="25480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762120" y="3200400"/>
              <a:ext cx="2531880" cy="23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4">
              <a:lum bright="6000"/>
            </a:blip>
            <a:srcRect l="0" t="0" r="0" b="2126"/>
            <a:stretch/>
          </p:blipFill>
          <p:spPr>
            <a:xfrm>
              <a:off x="758880" y="944640"/>
              <a:ext cx="2523960" cy="22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5"/>
            <a:stretch/>
          </p:blipFill>
          <p:spPr>
            <a:xfrm>
              <a:off x="762120" y="5486400"/>
              <a:ext cx="259056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6"/>
            <a:stretch/>
          </p:blipFill>
          <p:spPr>
            <a:xfrm>
              <a:off x="3352680" y="5486400"/>
              <a:ext cx="243864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62120" y="914400"/>
              <a:ext cx="5029200" cy="701028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960" y="3193920"/>
              <a:ext cx="502920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4080" y="5465880"/>
              <a:ext cx="5029200" cy="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3273480" y="906120"/>
              <a:ext cx="19080" cy="700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9760" y="2787480"/>
              <a:ext cx="345240" cy="3682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05520" y="2795760"/>
              <a:ext cx="345240" cy="3682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13240" y="5033880"/>
              <a:ext cx="345240" cy="3682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560" y="5046840"/>
              <a:ext cx="345240" cy="3682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7680" y="7512120"/>
              <a:ext cx="333000" cy="3682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17760" y="7526160"/>
              <a:ext cx="320760" cy="3682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666880" y="1143000"/>
              <a:ext cx="393840" cy="5335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5120" y="2362320"/>
              <a:ext cx="152280" cy="5331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33720" y="4114800"/>
              <a:ext cx="152280" cy="5335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838080" y="3886200"/>
              <a:ext cx="609840" cy="763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71800" y="4419720"/>
              <a:ext cx="152280" cy="5331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28800" y="5562720"/>
              <a:ext cx="0" cy="380880"/>
            </a:xfrm>
            <a:prstGeom prst="line">
              <a:avLst/>
            </a:prstGeom>
            <a:ln w="792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828800" y="6324480"/>
              <a:ext cx="0" cy="457200"/>
            </a:xfrm>
            <a:prstGeom prst="line">
              <a:avLst/>
            </a:prstGeom>
            <a:ln w="792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105520" y="6629400"/>
              <a:ext cx="0" cy="457200"/>
            </a:xfrm>
            <a:prstGeom prst="line">
              <a:avLst/>
            </a:prstGeom>
            <a:ln w="792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572000" y="6553080"/>
              <a:ext cx="0" cy="457200"/>
            </a:xfrm>
            <a:prstGeom prst="line">
              <a:avLst/>
            </a:prstGeom>
            <a:ln w="792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culty of Medicine</cp:lastModifiedBy>
  <dcterms:modified xsi:type="dcterms:W3CDTF">2008-08-26T03:51:4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