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5.png" ContentType="image/png"/>
  <Override PartName="/ppt/media/image10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6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7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8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177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E01A-3890-499B-A832-BAB45B647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59FA-B1EB-468C-9593-D2D5728A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2712-054D-41B5-8AB6-2C442209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8676-8B22-4345-B5EE-BD53E82E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0BA8-7061-46CB-ABA7-5B59A436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679E-5961-477A-A9E9-250BF036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387F-DF6C-42C7-BFAB-AFE2B982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82EA-94C1-4662-B700-72FE8FA4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-228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78AB-88D0-46AC-A4F1-F3E695DE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C713-2217-44AE-8240-5165F00E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E810-75CE-4F34-A84F-0E4CD51E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A0FC-5B2E-4717-A31B-6C99FF8D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0AED-159A-4E86-B48E-21E84C2CE7BC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4267080"/>
            <a:ext cx="1828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6.wmf"/><Relationship Id="rId5" Type="http://schemas.openxmlformats.org/officeDocument/2006/relationships/image" Target="../media/image4.pn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6.wmf"/><Relationship Id="rId10" Type="http://schemas.openxmlformats.org/officeDocument/2006/relationships/image" Target="../media/image3.jpeg"/><Relationship Id="rId11" Type="http://schemas.openxmlformats.org/officeDocument/2006/relationships/image" Target="../media/image6.wmf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2.xml"/><Relationship Id="rId3" Type="http://schemas.openxmlformats.org/officeDocument/2006/relationships/slide" Target="slide68.xml"/><Relationship Id="rId4" Type="http://schemas.openxmlformats.org/officeDocument/2006/relationships/slide" Target="slide68.xml"/><Relationship Id="rId5" Type="http://schemas.openxmlformats.org/officeDocument/2006/relationships/slide" Target="slide104.xml"/><Relationship Id="rId6" Type="http://schemas.openxmlformats.org/officeDocument/2006/relationships/slide" Target="slide157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6.wmf"/><Relationship Id="rId5" Type="http://schemas.openxmlformats.org/officeDocument/2006/relationships/image" Target="../media/image4.pn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6.wmf"/><Relationship Id="rId10" Type="http://schemas.openxmlformats.org/officeDocument/2006/relationships/image" Target="../media/image3.jpeg"/><Relationship Id="rId11" Type="http://schemas.openxmlformats.org/officeDocument/2006/relationships/image" Target="../media/image6.wmf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arching in a Grap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4" name=""/>
          <p:cNvSpPr txBox="1"/>
          <p:nvPr/>
        </p:nvSpPr>
        <p:spPr>
          <a:xfrm>
            <a:off x="457200" y="685800"/>
            <a:ext cx="8305920" cy="533520"/>
          </a:xfrm>
          <a:prstGeom prst="rect">
            <a:avLst/>
          </a:prstGeom>
        </p:spPr>
        <p:txBody>
          <a:bodyPr wrap="none" lIns="274320" rIns="27432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00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How to Think about Algorithms </a:t>
            </a:r>
            <a:endParaRPr b="0" lang="en-US" sz="2400" spc="1" strike="noStrike">
              <a:ln w="6480">
                <a:solidFill>
                  <a:srgbClr val="00ff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2733480" cy="3792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657600" y="2057400"/>
            <a:ext cx="50832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419720" y="1206360"/>
            <a:ext cx="4572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e know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nodes are reachable from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ecause we have traced out a path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55360" y="2806560"/>
            <a:ext cx="4554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a node has been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handle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n all of its neighbors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ave been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ph Se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174840" y="1212840"/>
            <a:ext cx="1034640" cy="1784160"/>
            <a:chOff x="3174840" y="1212840"/>
            <a:chExt cx="1034640" cy="1784160"/>
          </a:xfrm>
        </p:grpSpPr>
        <p:grpSp>
          <p:nvGrpSpPr>
            <p:cNvPr id="332" name=""/>
            <p:cNvGrpSpPr/>
            <p:nvPr/>
          </p:nvGrpSpPr>
          <p:grpSpPr>
            <a:xfrm>
              <a:off x="3464280" y="1212840"/>
              <a:ext cx="745200" cy="1784160"/>
              <a:chOff x="3464280" y="1212840"/>
              <a:chExt cx="745200" cy="178416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3464280" y="1287000"/>
                <a:ext cx="745200" cy="1710000"/>
                <a:chOff x="3464280" y="1287000"/>
                <a:chExt cx="745200" cy="1710000"/>
              </a:xfrm>
            </p:grpSpPr>
            <p:sp>
              <p:nvSpPr>
                <p:cNvPr id="334" name=""/>
                <p:cNvSpPr/>
                <p:nvPr/>
              </p:nvSpPr>
              <p:spPr>
                <a:xfrm flipH="1" rot="21072600">
                  <a:off x="3592080" y="1437840"/>
                  <a:ext cx="317160" cy="352440"/>
                </a:xfrm>
                <a:custGeom>
                  <a:avLst/>
                  <a:gdLst/>
                  <a:ahLst/>
                  <a:rect l="l" t="t" r="r" b="b"/>
                  <a:pathLst>
                    <a:path w="601" h="667">
                      <a:moveTo>
                        <a:pt x="313" y="154"/>
                      </a:moveTo>
                      <a:lnTo>
                        <a:pt x="260" y="85"/>
                      </a:lnTo>
                      <a:lnTo>
                        <a:pt x="187" y="34"/>
                      </a:lnTo>
                      <a:lnTo>
                        <a:pt x="121" y="0"/>
                      </a:lnTo>
                      <a:lnTo>
                        <a:pt x="68" y="9"/>
                      </a:lnTo>
                      <a:lnTo>
                        <a:pt x="30" y="47"/>
                      </a:lnTo>
                      <a:lnTo>
                        <a:pt x="0" y="163"/>
                      </a:lnTo>
                      <a:lnTo>
                        <a:pt x="12" y="296"/>
                      </a:lnTo>
                      <a:lnTo>
                        <a:pt x="43" y="423"/>
                      </a:lnTo>
                      <a:lnTo>
                        <a:pt x="78" y="522"/>
                      </a:lnTo>
                      <a:lnTo>
                        <a:pt x="143" y="625"/>
                      </a:lnTo>
                      <a:lnTo>
                        <a:pt x="200" y="667"/>
                      </a:lnTo>
                      <a:lnTo>
                        <a:pt x="278" y="667"/>
                      </a:lnTo>
                      <a:lnTo>
                        <a:pt x="356" y="638"/>
                      </a:lnTo>
                      <a:lnTo>
                        <a:pt x="396" y="564"/>
                      </a:lnTo>
                      <a:lnTo>
                        <a:pt x="417" y="471"/>
                      </a:lnTo>
                      <a:lnTo>
                        <a:pt x="409" y="355"/>
                      </a:lnTo>
                      <a:lnTo>
                        <a:pt x="592" y="368"/>
                      </a:lnTo>
                      <a:lnTo>
                        <a:pt x="601" y="317"/>
                      </a:lnTo>
                      <a:lnTo>
                        <a:pt x="392" y="296"/>
                      </a:lnTo>
                      <a:lnTo>
                        <a:pt x="339" y="176"/>
                      </a:lnTo>
                      <a:lnTo>
                        <a:pt x="313" y="15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 rot="21072600">
                  <a:off x="3801600" y="1311480"/>
                  <a:ext cx="366480" cy="564480"/>
                </a:xfrm>
                <a:custGeom>
                  <a:avLst/>
                  <a:gdLst/>
                  <a:ahLst/>
                  <a:rect l="l" t="t" r="r" b="b"/>
                  <a:pathLst>
                    <a:path w="692" h="1069">
                      <a:moveTo>
                        <a:pt x="403" y="25"/>
                      </a:moveTo>
                      <a:lnTo>
                        <a:pt x="490" y="0"/>
                      </a:lnTo>
                      <a:lnTo>
                        <a:pt x="560" y="4"/>
                      </a:lnTo>
                      <a:lnTo>
                        <a:pt x="613" y="42"/>
                      </a:lnTo>
                      <a:lnTo>
                        <a:pt x="648" y="102"/>
                      </a:lnTo>
                      <a:lnTo>
                        <a:pt x="635" y="165"/>
                      </a:lnTo>
                      <a:lnTo>
                        <a:pt x="586" y="165"/>
                      </a:lnTo>
                      <a:lnTo>
                        <a:pt x="599" y="114"/>
                      </a:lnTo>
                      <a:lnTo>
                        <a:pt x="560" y="68"/>
                      </a:lnTo>
                      <a:lnTo>
                        <a:pt x="522" y="51"/>
                      </a:lnTo>
                      <a:lnTo>
                        <a:pt x="456" y="68"/>
                      </a:lnTo>
                      <a:lnTo>
                        <a:pt x="482" y="119"/>
                      </a:lnTo>
                      <a:lnTo>
                        <a:pt x="490" y="165"/>
                      </a:lnTo>
                      <a:lnTo>
                        <a:pt x="482" y="205"/>
                      </a:lnTo>
                      <a:lnTo>
                        <a:pt x="417" y="222"/>
                      </a:lnTo>
                      <a:lnTo>
                        <a:pt x="347" y="209"/>
                      </a:lnTo>
                      <a:lnTo>
                        <a:pt x="334" y="179"/>
                      </a:lnTo>
                      <a:lnTo>
                        <a:pt x="260" y="260"/>
                      </a:lnTo>
                      <a:lnTo>
                        <a:pt x="217" y="350"/>
                      </a:lnTo>
                      <a:lnTo>
                        <a:pt x="156" y="465"/>
                      </a:lnTo>
                      <a:lnTo>
                        <a:pt x="117" y="568"/>
                      </a:lnTo>
                      <a:lnTo>
                        <a:pt x="100" y="667"/>
                      </a:lnTo>
                      <a:lnTo>
                        <a:pt x="113" y="718"/>
                      </a:lnTo>
                      <a:lnTo>
                        <a:pt x="182" y="783"/>
                      </a:lnTo>
                      <a:lnTo>
                        <a:pt x="326" y="838"/>
                      </a:lnTo>
                      <a:lnTo>
                        <a:pt x="403" y="863"/>
                      </a:lnTo>
                      <a:lnTo>
                        <a:pt x="482" y="876"/>
                      </a:lnTo>
                      <a:lnTo>
                        <a:pt x="599" y="923"/>
                      </a:lnTo>
                      <a:lnTo>
                        <a:pt x="686" y="954"/>
                      </a:lnTo>
                      <a:lnTo>
                        <a:pt x="692" y="1013"/>
                      </a:lnTo>
                      <a:lnTo>
                        <a:pt x="648" y="1056"/>
                      </a:lnTo>
                      <a:lnTo>
                        <a:pt x="596" y="1069"/>
                      </a:lnTo>
                      <a:lnTo>
                        <a:pt x="517" y="1030"/>
                      </a:lnTo>
                      <a:lnTo>
                        <a:pt x="334" y="936"/>
                      </a:lnTo>
                      <a:lnTo>
                        <a:pt x="182" y="872"/>
                      </a:lnTo>
                      <a:lnTo>
                        <a:pt x="77" y="800"/>
                      </a:lnTo>
                      <a:lnTo>
                        <a:pt x="8" y="735"/>
                      </a:lnTo>
                      <a:lnTo>
                        <a:pt x="0" y="658"/>
                      </a:lnTo>
                      <a:lnTo>
                        <a:pt x="38" y="555"/>
                      </a:lnTo>
                      <a:lnTo>
                        <a:pt x="117" y="401"/>
                      </a:lnTo>
                      <a:lnTo>
                        <a:pt x="190" y="273"/>
                      </a:lnTo>
                      <a:lnTo>
                        <a:pt x="282" y="140"/>
                      </a:lnTo>
                      <a:lnTo>
                        <a:pt x="352" y="63"/>
                      </a:lnTo>
                      <a:lnTo>
                        <a:pt x="439" y="25"/>
                      </a:lnTo>
                      <a:lnTo>
                        <a:pt x="403" y="2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 rot="21072600">
                  <a:off x="3702960" y="1813320"/>
                  <a:ext cx="191880" cy="532080"/>
                </a:xfrm>
                <a:custGeom>
                  <a:avLst/>
                  <a:gdLst/>
                  <a:ahLst/>
                  <a:rect l="l" t="t" r="r" b="b"/>
                  <a:pathLst>
                    <a:path w="362" h="1004">
                      <a:moveTo>
                        <a:pt x="22" y="78"/>
                      </a:moveTo>
                      <a:lnTo>
                        <a:pt x="36" y="27"/>
                      </a:lnTo>
                      <a:lnTo>
                        <a:pt x="92" y="0"/>
                      </a:lnTo>
                      <a:lnTo>
                        <a:pt x="143" y="0"/>
                      </a:lnTo>
                      <a:lnTo>
                        <a:pt x="209" y="39"/>
                      </a:lnTo>
                      <a:lnTo>
                        <a:pt x="271" y="129"/>
                      </a:lnTo>
                      <a:lnTo>
                        <a:pt x="314" y="223"/>
                      </a:lnTo>
                      <a:lnTo>
                        <a:pt x="335" y="350"/>
                      </a:lnTo>
                      <a:lnTo>
                        <a:pt x="354" y="500"/>
                      </a:lnTo>
                      <a:lnTo>
                        <a:pt x="362" y="645"/>
                      </a:lnTo>
                      <a:lnTo>
                        <a:pt x="362" y="833"/>
                      </a:lnTo>
                      <a:lnTo>
                        <a:pt x="335" y="949"/>
                      </a:lnTo>
                      <a:lnTo>
                        <a:pt x="288" y="991"/>
                      </a:lnTo>
                      <a:lnTo>
                        <a:pt x="205" y="1004"/>
                      </a:lnTo>
                      <a:lnTo>
                        <a:pt x="118" y="1001"/>
                      </a:lnTo>
                      <a:lnTo>
                        <a:pt x="74" y="949"/>
                      </a:lnTo>
                      <a:lnTo>
                        <a:pt x="49" y="860"/>
                      </a:lnTo>
                      <a:lnTo>
                        <a:pt x="26" y="770"/>
                      </a:lnTo>
                      <a:lnTo>
                        <a:pt x="9" y="607"/>
                      </a:lnTo>
                      <a:lnTo>
                        <a:pt x="0" y="424"/>
                      </a:lnTo>
                      <a:lnTo>
                        <a:pt x="0" y="210"/>
                      </a:lnTo>
                      <a:lnTo>
                        <a:pt x="22" y="116"/>
                      </a:lnTo>
                      <a:lnTo>
                        <a:pt x="22" y="7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 rot="21072600">
                  <a:off x="3509280" y="1849680"/>
                  <a:ext cx="291960" cy="407880"/>
                </a:xfrm>
                <a:custGeom>
                  <a:avLst/>
                  <a:gdLst/>
                  <a:ahLst/>
                  <a:rect l="l" t="t" r="r" b="b"/>
                  <a:pathLst>
                    <a:path w="553" h="771">
                      <a:moveTo>
                        <a:pt x="30" y="0"/>
                      </a:moveTo>
                      <a:lnTo>
                        <a:pt x="143" y="13"/>
                      </a:lnTo>
                      <a:lnTo>
                        <a:pt x="261" y="34"/>
                      </a:lnTo>
                      <a:lnTo>
                        <a:pt x="383" y="103"/>
                      </a:lnTo>
                      <a:lnTo>
                        <a:pt x="470" y="154"/>
                      </a:lnTo>
                      <a:lnTo>
                        <a:pt x="526" y="228"/>
                      </a:lnTo>
                      <a:lnTo>
                        <a:pt x="553" y="270"/>
                      </a:lnTo>
                      <a:lnTo>
                        <a:pt x="500" y="395"/>
                      </a:lnTo>
                      <a:lnTo>
                        <a:pt x="417" y="471"/>
                      </a:lnTo>
                      <a:lnTo>
                        <a:pt x="317" y="526"/>
                      </a:lnTo>
                      <a:lnTo>
                        <a:pt x="265" y="561"/>
                      </a:lnTo>
                      <a:lnTo>
                        <a:pt x="174" y="578"/>
                      </a:lnTo>
                      <a:lnTo>
                        <a:pt x="170" y="612"/>
                      </a:lnTo>
                      <a:lnTo>
                        <a:pt x="240" y="642"/>
                      </a:lnTo>
                      <a:lnTo>
                        <a:pt x="339" y="669"/>
                      </a:lnTo>
                      <a:lnTo>
                        <a:pt x="434" y="720"/>
                      </a:lnTo>
                      <a:lnTo>
                        <a:pt x="396" y="758"/>
                      </a:lnTo>
                      <a:lnTo>
                        <a:pt x="357" y="771"/>
                      </a:lnTo>
                      <a:lnTo>
                        <a:pt x="300" y="715"/>
                      </a:lnTo>
                      <a:lnTo>
                        <a:pt x="213" y="680"/>
                      </a:lnTo>
                      <a:lnTo>
                        <a:pt x="143" y="655"/>
                      </a:lnTo>
                      <a:lnTo>
                        <a:pt x="143" y="604"/>
                      </a:lnTo>
                      <a:lnTo>
                        <a:pt x="157" y="549"/>
                      </a:lnTo>
                      <a:lnTo>
                        <a:pt x="200" y="526"/>
                      </a:lnTo>
                      <a:lnTo>
                        <a:pt x="339" y="471"/>
                      </a:lnTo>
                      <a:lnTo>
                        <a:pt x="417" y="386"/>
                      </a:lnTo>
                      <a:lnTo>
                        <a:pt x="474" y="296"/>
                      </a:lnTo>
                      <a:lnTo>
                        <a:pt x="461" y="253"/>
                      </a:lnTo>
                      <a:lnTo>
                        <a:pt x="417" y="201"/>
                      </a:lnTo>
                      <a:lnTo>
                        <a:pt x="313" y="129"/>
                      </a:lnTo>
                      <a:lnTo>
                        <a:pt x="187" y="103"/>
                      </a:lnTo>
                      <a:lnTo>
                        <a:pt x="104" y="99"/>
                      </a:lnTo>
                      <a:lnTo>
                        <a:pt x="30" y="99"/>
                      </a:lnTo>
                      <a:lnTo>
                        <a:pt x="0" y="51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H="1" rot="21072600">
                  <a:off x="3512520" y="2314800"/>
                  <a:ext cx="355680" cy="658440"/>
                </a:xfrm>
                <a:custGeom>
                  <a:avLst/>
                  <a:gdLst/>
                  <a:ahLst/>
                  <a:rect l="l" t="t" r="r" b="b"/>
                  <a:pathLst>
                    <a:path w="672" h="1246">
                      <a:moveTo>
                        <a:pt x="77" y="0"/>
                      </a:moveTo>
                      <a:lnTo>
                        <a:pt x="17" y="0"/>
                      </a:lnTo>
                      <a:lnTo>
                        <a:pt x="0" y="89"/>
                      </a:lnTo>
                      <a:lnTo>
                        <a:pt x="43" y="142"/>
                      </a:lnTo>
                      <a:lnTo>
                        <a:pt x="182" y="266"/>
                      </a:lnTo>
                      <a:lnTo>
                        <a:pt x="305" y="424"/>
                      </a:lnTo>
                      <a:lnTo>
                        <a:pt x="384" y="587"/>
                      </a:lnTo>
                      <a:lnTo>
                        <a:pt x="395" y="693"/>
                      </a:lnTo>
                      <a:lnTo>
                        <a:pt x="392" y="771"/>
                      </a:lnTo>
                      <a:lnTo>
                        <a:pt x="357" y="946"/>
                      </a:lnTo>
                      <a:lnTo>
                        <a:pt x="313" y="1088"/>
                      </a:lnTo>
                      <a:lnTo>
                        <a:pt x="274" y="1170"/>
                      </a:lnTo>
                      <a:lnTo>
                        <a:pt x="265" y="1221"/>
                      </a:lnTo>
                      <a:lnTo>
                        <a:pt x="305" y="1221"/>
                      </a:lnTo>
                      <a:lnTo>
                        <a:pt x="365" y="1204"/>
                      </a:lnTo>
                      <a:lnTo>
                        <a:pt x="384" y="1208"/>
                      </a:lnTo>
                      <a:lnTo>
                        <a:pt x="510" y="1216"/>
                      </a:lnTo>
                      <a:lnTo>
                        <a:pt x="606" y="1246"/>
                      </a:lnTo>
                      <a:lnTo>
                        <a:pt x="640" y="1229"/>
                      </a:lnTo>
                      <a:lnTo>
                        <a:pt x="672" y="1164"/>
                      </a:lnTo>
                      <a:lnTo>
                        <a:pt x="640" y="1130"/>
                      </a:lnTo>
                      <a:lnTo>
                        <a:pt x="497" y="1126"/>
                      </a:lnTo>
                      <a:lnTo>
                        <a:pt x="395" y="1139"/>
                      </a:lnTo>
                      <a:lnTo>
                        <a:pt x="344" y="1164"/>
                      </a:lnTo>
                      <a:lnTo>
                        <a:pt x="352" y="1105"/>
                      </a:lnTo>
                      <a:lnTo>
                        <a:pt x="405" y="1014"/>
                      </a:lnTo>
                      <a:lnTo>
                        <a:pt x="448" y="874"/>
                      </a:lnTo>
                      <a:lnTo>
                        <a:pt x="484" y="754"/>
                      </a:lnTo>
                      <a:lnTo>
                        <a:pt x="457" y="617"/>
                      </a:lnTo>
                      <a:lnTo>
                        <a:pt x="418" y="471"/>
                      </a:lnTo>
                      <a:lnTo>
                        <a:pt x="339" y="304"/>
                      </a:lnTo>
                      <a:lnTo>
                        <a:pt x="226" y="150"/>
                      </a:lnTo>
                      <a:lnTo>
                        <a:pt x="130" y="38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H="1" rot="21072600">
                  <a:off x="3849840" y="2269800"/>
                  <a:ext cx="239760" cy="671760"/>
                </a:xfrm>
                <a:custGeom>
                  <a:avLst/>
                  <a:gdLst/>
                  <a:ahLst/>
                  <a:rect l="l" t="t" r="r" b="b"/>
                  <a:pathLst>
                    <a:path w="453" h="1270">
                      <a:moveTo>
                        <a:pt x="313" y="0"/>
                      </a:moveTo>
                      <a:lnTo>
                        <a:pt x="257" y="120"/>
                      </a:lnTo>
                      <a:lnTo>
                        <a:pt x="217" y="295"/>
                      </a:lnTo>
                      <a:lnTo>
                        <a:pt x="170" y="488"/>
                      </a:lnTo>
                      <a:lnTo>
                        <a:pt x="127" y="684"/>
                      </a:lnTo>
                      <a:lnTo>
                        <a:pt x="127" y="757"/>
                      </a:lnTo>
                      <a:lnTo>
                        <a:pt x="170" y="886"/>
                      </a:lnTo>
                      <a:lnTo>
                        <a:pt x="230" y="954"/>
                      </a:lnTo>
                      <a:lnTo>
                        <a:pt x="287" y="1040"/>
                      </a:lnTo>
                      <a:lnTo>
                        <a:pt x="327" y="1103"/>
                      </a:lnTo>
                      <a:lnTo>
                        <a:pt x="309" y="1133"/>
                      </a:lnTo>
                      <a:lnTo>
                        <a:pt x="209" y="1146"/>
                      </a:lnTo>
                      <a:lnTo>
                        <a:pt x="48" y="1171"/>
                      </a:lnTo>
                      <a:lnTo>
                        <a:pt x="0" y="1211"/>
                      </a:lnTo>
                      <a:lnTo>
                        <a:pt x="40" y="1245"/>
                      </a:lnTo>
                      <a:lnTo>
                        <a:pt x="131" y="1270"/>
                      </a:lnTo>
                      <a:lnTo>
                        <a:pt x="236" y="1219"/>
                      </a:lnTo>
                      <a:lnTo>
                        <a:pt x="313" y="1184"/>
                      </a:lnTo>
                      <a:lnTo>
                        <a:pt x="413" y="1171"/>
                      </a:lnTo>
                      <a:lnTo>
                        <a:pt x="453" y="1159"/>
                      </a:lnTo>
                      <a:lnTo>
                        <a:pt x="440" y="1116"/>
                      </a:lnTo>
                      <a:lnTo>
                        <a:pt x="327" y="1006"/>
                      </a:lnTo>
                      <a:lnTo>
                        <a:pt x="261" y="890"/>
                      </a:lnTo>
                      <a:lnTo>
                        <a:pt x="204" y="812"/>
                      </a:lnTo>
                      <a:lnTo>
                        <a:pt x="196" y="736"/>
                      </a:lnTo>
                      <a:lnTo>
                        <a:pt x="223" y="608"/>
                      </a:lnTo>
                      <a:lnTo>
                        <a:pt x="283" y="475"/>
                      </a:lnTo>
                      <a:lnTo>
                        <a:pt x="349" y="249"/>
                      </a:lnTo>
                      <a:lnTo>
                        <a:pt x="405" y="116"/>
                      </a:lnTo>
                      <a:lnTo>
                        <a:pt x="400" y="38"/>
                      </a:lnTo>
                      <a:lnTo>
                        <a:pt x="349" y="0"/>
                      </a:lnTo>
                      <a:lnTo>
                        <a:pt x="31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0" name=""/>
              <p:cNvSpPr/>
              <p:nvPr/>
            </p:nvSpPr>
            <p:spPr>
              <a:xfrm rot="19308000">
                <a:off x="3493800" y="1234800"/>
                <a:ext cx="119160" cy="137880"/>
              </a:xfrm>
              <a:custGeom>
                <a:avLst/>
                <a:gdLst/>
                <a:ahLst/>
                <a:rect l="l" t="t" r="r" b="b"/>
                <a:pathLst>
                  <a:path w="224" h="260">
                    <a:moveTo>
                      <a:pt x="27" y="11"/>
                    </a:moveTo>
                    <a:lnTo>
                      <a:pt x="87" y="0"/>
                    </a:lnTo>
                    <a:lnTo>
                      <a:pt x="145" y="4"/>
                    </a:lnTo>
                    <a:lnTo>
                      <a:pt x="198" y="29"/>
                    </a:lnTo>
                    <a:lnTo>
                      <a:pt x="224" y="76"/>
                    </a:lnTo>
                    <a:lnTo>
                      <a:pt x="224" y="114"/>
                    </a:lnTo>
                    <a:lnTo>
                      <a:pt x="198" y="165"/>
                    </a:lnTo>
                    <a:lnTo>
                      <a:pt x="153" y="196"/>
                    </a:lnTo>
                    <a:lnTo>
                      <a:pt x="87" y="196"/>
                    </a:lnTo>
                    <a:lnTo>
                      <a:pt x="48" y="221"/>
                    </a:lnTo>
                    <a:lnTo>
                      <a:pt x="34" y="260"/>
                    </a:lnTo>
                    <a:lnTo>
                      <a:pt x="0" y="247"/>
                    </a:lnTo>
                    <a:lnTo>
                      <a:pt x="13" y="196"/>
                    </a:lnTo>
                    <a:lnTo>
                      <a:pt x="61" y="165"/>
                    </a:lnTo>
                    <a:lnTo>
                      <a:pt x="140" y="158"/>
                    </a:lnTo>
                    <a:lnTo>
                      <a:pt x="171" y="127"/>
                    </a:lnTo>
                    <a:lnTo>
                      <a:pt x="179" y="80"/>
                    </a:lnTo>
                    <a:lnTo>
                      <a:pt x="145" y="38"/>
                    </a:lnTo>
                    <a:lnTo>
                      <a:pt x="92" y="38"/>
                    </a:lnTo>
                    <a:lnTo>
                      <a:pt x="34" y="51"/>
                    </a:lnTo>
                    <a:lnTo>
                      <a:pt x="13" y="38"/>
                    </a:lnTo>
                    <a:lnTo>
                      <a:pt x="27" y="11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3174840" y="2044440"/>
              <a:ext cx="381240" cy="456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2562840" y="39909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01880" y="2019240"/>
            <a:ext cx="759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19160" y="243828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52720" y="182880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08240" y="2819520"/>
            <a:ext cx="75960" cy="75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881360" y="3313080"/>
            <a:ext cx="759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1040" y="270504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81320" y="373212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35400" y="2286000"/>
            <a:ext cx="759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9640" y="3541680"/>
            <a:ext cx="777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11360" y="308448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98680" y="3998880"/>
            <a:ext cx="759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32240" y="4075200"/>
            <a:ext cx="75960" cy="75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46360" y="2629080"/>
            <a:ext cx="76320" cy="75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077480" y="1638360"/>
            <a:ext cx="9939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57320" y="1635120"/>
            <a:ext cx="114480" cy="800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71800" y="1638360"/>
            <a:ext cx="57456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71800" y="1638360"/>
            <a:ext cx="8809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684160" y="1866960"/>
            <a:ext cx="306360" cy="7621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919160" y="2704680"/>
            <a:ext cx="727200" cy="646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957320" y="2323800"/>
            <a:ext cx="13780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29040" y="1866960"/>
            <a:ext cx="344520" cy="4190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684520" y="2705040"/>
            <a:ext cx="726840" cy="341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373560" y="2324160"/>
            <a:ext cx="75960" cy="7221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957320" y="2514600"/>
            <a:ext cx="1224000" cy="1217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384200" y="2476440"/>
            <a:ext cx="573120" cy="34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039680" y="2057400"/>
            <a:ext cx="30636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657360" y="2057400"/>
            <a:ext cx="38232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19200" y="2743200"/>
            <a:ext cx="1224000" cy="5698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574280" y="3351240"/>
            <a:ext cx="344520" cy="647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919160" y="3351240"/>
            <a:ext cx="613080" cy="7239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925560" y="3351240"/>
            <a:ext cx="993600" cy="190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608200" y="3770280"/>
            <a:ext cx="611280" cy="3430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3257640" y="3160440"/>
            <a:ext cx="230040" cy="6094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2684160" y="2743200"/>
            <a:ext cx="765000" cy="379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384200" y="2895480"/>
            <a:ext cx="534960" cy="4557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219120" y="3122640"/>
            <a:ext cx="230040" cy="6094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2570040" y="2781360"/>
            <a:ext cx="76320" cy="13320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1612440" y="4075200"/>
            <a:ext cx="957240" cy="381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346040" y="1714320"/>
            <a:ext cx="649440" cy="11430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47800" y="3579840"/>
            <a:ext cx="650880" cy="4190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9200" y="2743200"/>
            <a:ext cx="190440" cy="7984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9200" y="2743200"/>
            <a:ext cx="689040" cy="1144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82520" y="11430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7600" y="17524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9920" y="25830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" y="34574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348200" y="396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07240" y="26971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40400" y="31910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53120" y="40672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47560" y="364824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45560" y="29383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370680" y="21528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992680" y="1687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27360" y="2438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62360" y="220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033640" y="1600200"/>
            <a:ext cx="7776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7 L -0.15608 0.01481 E">
                                      <p:cBhvr>
                                        <p:cTn id="114" dur="1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1" name=""/>
          <p:cNvSpPr/>
          <p:nvPr/>
        </p:nvSpPr>
        <p:spPr>
          <a:xfrm>
            <a:off x="595800" y="1676520"/>
            <a:ext cx="2152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ime = O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2" name=""/>
          <p:cNvSpPr/>
          <p:nvPr/>
        </p:nvSpPr>
        <p:spPr>
          <a:xfrm>
            <a:off x="649080" y="1160640"/>
            <a:ext cx="4129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ach edge visited,  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im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3" name=""/>
          <p:cNvSpPr/>
          <p:nvPr/>
        </p:nvSpPr>
        <p:spPr>
          <a:xfrm>
            <a:off x="3436920" y="11430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4" name=""/>
          <p:cNvSpPr/>
          <p:nvPr/>
        </p:nvSpPr>
        <p:spPr>
          <a:xfrm>
            <a:off x="2576880" y="171936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5" name=""/>
          <p:cNvSpPr/>
          <p:nvPr/>
        </p:nvSpPr>
        <p:spPr>
          <a:xfrm>
            <a:off x="7621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'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6" name=""/>
          <p:cNvSpPr/>
          <p:nvPr/>
        </p:nvSpPr>
        <p:spPr>
          <a:xfrm>
            <a:off x="1361160" y="2252520"/>
            <a:ext cx="639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s number of times following an edg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7" name=""/>
          <p:cNvSpPr/>
          <p:nvPr/>
        </p:nvSpPr>
        <p:spPr>
          <a:xfrm>
            <a:off x="1375560" y="3809880"/>
            <a:ext cx="451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ust update Priority Queu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8" name=""/>
          <p:cNvSpPr/>
          <p:nvPr/>
        </p:nvSpPr>
        <p:spPr>
          <a:xfrm>
            <a:off x="1376280" y="4361040"/>
            <a:ext cx="341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akes time O(log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9" name=""/>
          <p:cNvSpPr/>
          <p:nvPr/>
        </p:nvSpPr>
        <p:spPr>
          <a:xfrm>
            <a:off x="612360" y="4894200"/>
            <a:ext cx="317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ime = O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log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0" name=""/>
          <p:cNvSpPr/>
          <p:nvPr/>
        </p:nvSpPr>
        <p:spPr>
          <a:xfrm>
            <a:off x="1490040" y="2803680"/>
            <a:ext cx="53784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r each update,</a:t>
            </a:r>
            <a:br>
              <a:rPr sz="3000"/>
            </a:b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      </a:t>
            </a: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= min( </a:t>
            </a: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3000" spc="-1" strike="noStrike">
                <a:solidFill>
                  <a:srgbClr val="ff9900"/>
                </a:solidFill>
                <a:latin typeface="Times New Roman"/>
              </a:rPr>
              <a:t>w</a:t>
            </a:r>
            <a:r>
              <a:rPr b="0" i="1" lang="en-US" sz="3000" spc="-1" strike="noStrike" baseline="-25000">
                <a:solidFill>
                  <a:srgbClr val="ff9900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,v</a:t>
            </a:r>
            <a:r>
              <a:rPr b="0" i="1" lang="en-US" sz="3000" spc="-1" strike="noStrike" baseline="-25000">
                <a:solidFill>
                  <a:srgbClr val="ff99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1" name=""/>
          <p:cNvSpPr/>
          <p:nvPr/>
        </p:nvSpPr>
        <p:spPr>
          <a:xfrm>
            <a:off x="5123160" y="4403880"/>
            <a:ext cx="98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ea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5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5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5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5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5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5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5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5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5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5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5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5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jkstra's Shortest-Weighted Path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3" name=""/>
          <p:cNvSpPr/>
          <p:nvPr/>
        </p:nvSpPr>
        <p:spPr>
          <a:xfrm>
            <a:off x="76320" y="914400"/>
            <a:ext cx="5715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pecification: Dijkstra's Shortest-Weighted Paths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chability-from-single-sourc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preCond&gt;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The input is a graph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either directed or undirected)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with positive edge weight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and a source nod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postCond&gt;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Finds a shortest weighted path from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to each nod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its lengt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94" name=""/>
          <p:cNvGrpSpPr/>
          <p:nvPr/>
        </p:nvGrpSpPr>
        <p:grpSpPr>
          <a:xfrm>
            <a:off x="4573440" y="3735360"/>
            <a:ext cx="4418280" cy="2970360"/>
            <a:chOff x="4573440" y="3735360"/>
            <a:chExt cx="4418280" cy="2970360"/>
          </a:xfrm>
        </p:grpSpPr>
        <p:sp>
          <p:nvSpPr>
            <p:cNvPr id="5595" name=""/>
            <p:cNvSpPr/>
            <p:nvPr/>
          </p:nvSpPr>
          <p:spPr>
            <a:xfrm>
              <a:off x="7518960" y="5715360"/>
              <a:ext cx="147276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Endin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6046200" y="5715360"/>
              <a:ext cx="147240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itial Condit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4573440" y="5715360"/>
              <a:ext cx="147276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Make Progres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7518960" y="4725360"/>
              <a:ext cx="147276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Maintain Loop Inv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6046200" y="4725360"/>
              <a:ext cx="147240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Define Exit Condi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4573440" y="4725360"/>
              <a:ext cx="147276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Define Ste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7518960" y="3735360"/>
              <a:ext cx="147276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Define Measure of Progres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6046200" y="3735360"/>
              <a:ext cx="147240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fine Loop Invarian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4573440" y="3735360"/>
              <a:ext cx="147276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fine Probl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4573440" y="3735360"/>
              <a:ext cx="4418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4573440" y="4725360"/>
              <a:ext cx="441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4573440" y="5715360"/>
              <a:ext cx="441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4573440" y="6705720"/>
              <a:ext cx="4418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4573440" y="3735360"/>
              <a:ext cx="0" cy="29703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6046200" y="3735360"/>
              <a:ext cx="0" cy="297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7518960" y="3735360"/>
              <a:ext cx="0" cy="297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8991720" y="3735360"/>
              <a:ext cx="0" cy="29703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12" name=""/>
            <p:cNvGrpSpPr/>
            <p:nvPr/>
          </p:nvGrpSpPr>
          <p:grpSpPr>
            <a:xfrm>
              <a:off x="6900840" y="6215400"/>
              <a:ext cx="164880" cy="134640"/>
              <a:chOff x="6900840" y="6215400"/>
              <a:chExt cx="164880" cy="134640"/>
            </a:xfrm>
          </p:grpSpPr>
          <p:sp>
            <p:nvSpPr>
              <p:cNvPr id="5613" name=""/>
              <p:cNvSpPr/>
              <p:nvPr/>
            </p:nvSpPr>
            <p:spPr>
              <a:xfrm>
                <a:off x="6900840" y="6215400"/>
                <a:ext cx="164880" cy="115560"/>
              </a:xfrm>
              <a:prstGeom prst="horizontalScroll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6983280" y="6321240"/>
                <a:ext cx="0" cy="28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5615" name="" descr=""/>
            <p:cNvPicPr/>
            <p:nvPr/>
          </p:nvPicPr>
          <p:blipFill>
            <a:blip r:embed="rId1"/>
            <a:stretch/>
          </p:blipFill>
          <p:spPr>
            <a:xfrm>
              <a:off x="7129080" y="6154920"/>
              <a:ext cx="168840" cy="2466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616" name=""/>
                <p:cNvSpPr txBox="1"/>
                <p:nvPr/>
              </p:nvSpPr>
              <p:spPr>
                <a:xfrm>
                  <a:off x="6882480" y="6216840"/>
                  <a:ext cx="215640" cy="11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∞</m:t>
                      </m:r>
                      <m:r>
                        <m:rPr>
                          <m:lit/>
                          <m:nor/>
                        </m:rPr>
                        <m:t xml:space="preserve">km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5617" name=""/>
            <p:cNvGrpSpPr/>
            <p:nvPr/>
          </p:nvGrpSpPr>
          <p:grpSpPr>
            <a:xfrm>
              <a:off x="6820560" y="5969160"/>
              <a:ext cx="583200" cy="583920"/>
              <a:chOff x="6820560" y="5969160"/>
              <a:chExt cx="583200" cy="583920"/>
            </a:xfrm>
          </p:grpSpPr>
          <p:sp>
            <p:nvSpPr>
              <p:cNvPr id="5618" name=""/>
              <p:cNvSpPr/>
              <p:nvPr/>
            </p:nvSpPr>
            <p:spPr>
              <a:xfrm>
                <a:off x="6820560" y="5969160"/>
                <a:ext cx="583200" cy="583920"/>
              </a:xfrm>
              <a:prstGeom prst="ellipse">
                <a:avLst/>
              </a:prstGeom>
              <a:noFill/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 flipV="1">
                <a:off x="6944040" y="6030360"/>
                <a:ext cx="339480" cy="46332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20" name=""/>
            <p:cNvGrpSpPr/>
            <p:nvPr/>
          </p:nvGrpSpPr>
          <p:grpSpPr>
            <a:xfrm>
              <a:off x="6135120" y="5982120"/>
              <a:ext cx="626760" cy="584640"/>
              <a:chOff x="6135120" y="5982120"/>
              <a:chExt cx="626760" cy="584640"/>
            </a:xfrm>
          </p:grpSpPr>
          <p:sp>
            <p:nvSpPr>
              <p:cNvPr id="5621" name=""/>
              <p:cNvSpPr/>
              <p:nvPr/>
            </p:nvSpPr>
            <p:spPr>
              <a:xfrm rot="2359800">
                <a:off x="6410160" y="6145920"/>
                <a:ext cx="309240" cy="244800"/>
              </a:xfrm>
              <a:custGeom>
                <a:avLst/>
                <a:gdLst/>
                <a:ahLst/>
                <a:rect l="l" t="t" r="r" b="b"/>
                <a:pathLst>
                  <a:path w="2280" h="1785">
                    <a:moveTo>
                      <a:pt x="748" y="30"/>
                    </a:moveTo>
                    <a:cubicBezTo>
                      <a:pt x="881" y="60"/>
                      <a:pt x="985" y="267"/>
                      <a:pt x="1224" y="305"/>
                    </a:cubicBezTo>
                    <a:cubicBezTo>
                      <a:pt x="1463" y="343"/>
                      <a:pt x="2088" y="121"/>
                      <a:pt x="2184" y="257"/>
                    </a:cubicBezTo>
                    <a:cubicBezTo>
                      <a:pt x="2280" y="393"/>
                      <a:pt x="1873" y="945"/>
                      <a:pt x="1800" y="1121"/>
                    </a:cubicBezTo>
                    <a:cubicBezTo>
                      <a:pt x="1727" y="1297"/>
                      <a:pt x="1757" y="1253"/>
                      <a:pt x="1743" y="1313"/>
                    </a:cubicBezTo>
                    <a:cubicBezTo>
                      <a:pt x="1729" y="1373"/>
                      <a:pt x="1747" y="1440"/>
                      <a:pt x="1717" y="1479"/>
                    </a:cubicBezTo>
                    <a:cubicBezTo>
                      <a:pt x="1687" y="1518"/>
                      <a:pt x="1634" y="1537"/>
                      <a:pt x="1560" y="1549"/>
                    </a:cubicBezTo>
                    <a:cubicBezTo>
                      <a:pt x="1486" y="1561"/>
                      <a:pt x="1504" y="1536"/>
                      <a:pt x="1272" y="1553"/>
                    </a:cubicBezTo>
                    <a:cubicBezTo>
                      <a:pt x="1040" y="1570"/>
                      <a:pt x="336" y="1785"/>
                      <a:pt x="168" y="1649"/>
                    </a:cubicBezTo>
                    <a:cubicBezTo>
                      <a:pt x="0" y="1513"/>
                      <a:pt x="221" y="991"/>
                      <a:pt x="264" y="737"/>
                    </a:cubicBezTo>
                    <a:cubicBezTo>
                      <a:pt x="307" y="483"/>
                      <a:pt x="344" y="244"/>
                      <a:pt x="425" y="126"/>
                    </a:cubicBezTo>
                    <a:cubicBezTo>
                      <a:pt x="506" y="8"/>
                      <a:pt x="615" y="0"/>
                      <a:pt x="748" y="30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6135120" y="5982120"/>
                <a:ext cx="584640" cy="584640"/>
              </a:xfrm>
              <a:prstGeom prst="ellipse">
                <a:avLst/>
              </a:prstGeom>
              <a:noFill/>
              <a:ln w="63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562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209640" y="6155280"/>
                <a:ext cx="16956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24" name=""/>
            <p:cNvGrpSpPr/>
            <p:nvPr/>
          </p:nvGrpSpPr>
          <p:grpSpPr>
            <a:xfrm>
              <a:off x="6316560" y="6024240"/>
              <a:ext cx="280440" cy="300240"/>
              <a:chOff x="6316560" y="6024240"/>
              <a:chExt cx="280440" cy="300240"/>
            </a:xfrm>
          </p:grpSpPr>
          <p:sp>
            <p:nvSpPr>
              <p:cNvPr id="5625" name=""/>
              <p:cNvSpPr/>
              <p:nvPr/>
            </p:nvSpPr>
            <p:spPr>
              <a:xfrm rot="21255000">
                <a:off x="6457320" y="6055920"/>
                <a:ext cx="56880" cy="4716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 rot="21255000">
                <a:off x="6437880" y="6114960"/>
                <a:ext cx="58680" cy="10548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 rot="21255000">
                <a:off x="6479280" y="6201720"/>
                <a:ext cx="114120" cy="7272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 rot="19838400">
                <a:off x="6321600" y="6224400"/>
                <a:ext cx="163080" cy="6408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 rot="21255000">
                <a:off x="6399720" y="6027840"/>
                <a:ext cx="66600" cy="11808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 rot="21255000">
                <a:off x="6478920" y="6028200"/>
                <a:ext cx="87120" cy="9864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5631" name="" descr=""/>
            <p:cNvPicPr/>
            <p:nvPr/>
          </p:nvPicPr>
          <p:blipFill>
            <a:blip r:embed="rId4"/>
            <a:stretch/>
          </p:blipFill>
          <p:spPr>
            <a:xfrm flipH="1">
              <a:off x="5493960" y="4150080"/>
              <a:ext cx="283680" cy="25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2" name="" descr=""/>
            <p:cNvPicPr/>
            <p:nvPr/>
          </p:nvPicPr>
          <p:blipFill>
            <a:blip r:embed="rId5"/>
            <a:stretch/>
          </p:blipFill>
          <p:spPr>
            <a:xfrm flipH="1">
              <a:off x="4839840" y="4078080"/>
              <a:ext cx="23472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3" name=""/>
            <p:cNvSpPr/>
            <p:nvPr/>
          </p:nvSpPr>
          <p:spPr>
            <a:xfrm>
              <a:off x="4954320" y="4420800"/>
              <a:ext cx="685440" cy="82080"/>
            </a:xfrm>
            <a:custGeom>
              <a:avLst/>
              <a:gdLst/>
              <a:ahLst/>
              <a:rect l="l" t="t" r="r" b="b"/>
              <a:pathLst>
                <a:path w="864" h="104">
                  <a:moveTo>
                    <a:pt x="0" y="48"/>
                  </a:moveTo>
                  <a:cubicBezTo>
                    <a:pt x="80" y="76"/>
                    <a:pt x="160" y="104"/>
                    <a:pt x="240" y="96"/>
                  </a:cubicBezTo>
                  <a:cubicBezTo>
                    <a:pt x="320" y="88"/>
                    <a:pt x="392" y="0"/>
                    <a:pt x="480" y="0"/>
                  </a:cubicBezTo>
                  <a:cubicBezTo>
                    <a:pt x="568" y="0"/>
                    <a:pt x="704" y="96"/>
                    <a:pt x="768" y="96"/>
                  </a:cubicBezTo>
                  <a:cubicBezTo>
                    <a:pt x="832" y="96"/>
                    <a:pt x="848" y="48"/>
                    <a:pt x="86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 rot="2359800">
              <a:off x="6363360" y="4192200"/>
              <a:ext cx="533880" cy="45684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 rot="2359800">
              <a:off x="6893280" y="4241160"/>
              <a:ext cx="307800" cy="331560"/>
            </a:xfrm>
            <a:custGeom>
              <a:avLst/>
              <a:gdLst/>
              <a:ahLst/>
              <a:rect l="l" t="t" r="r" b="b"/>
              <a:pathLst>
                <a:path w="1312" h="1296">
                  <a:moveTo>
                    <a:pt x="592" y="160"/>
                  </a:moveTo>
                  <a:cubicBezTo>
                    <a:pt x="408" y="256"/>
                    <a:pt x="32" y="496"/>
                    <a:pt x="16" y="640"/>
                  </a:cubicBezTo>
                  <a:cubicBezTo>
                    <a:pt x="0" y="784"/>
                    <a:pt x="296" y="928"/>
                    <a:pt x="496" y="1024"/>
                  </a:cubicBezTo>
                  <a:cubicBezTo>
                    <a:pt x="696" y="1120"/>
                    <a:pt x="1120" y="1296"/>
                    <a:pt x="1216" y="1216"/>
                  </a:cubicBezTo>
                  <a:cubicBezTo>
                    <a:pt x="1312" y="1136"/>
                    <a:pt x="1088" y="736"/>
                    <a:pt x="1072" y="544"/>
                  </a:cubicBezTo>
                  <a:cubicBezTo>
                    <a:pt x="1056" y="352"/>
                    <a:pt x="1208" y="128"/>
                    <a:pt x="1120" y="64"/>
                  </a:cubicBezTo>
                  <a:cubicBezTo>
                    <a:pt x="1032" y="0"/>
                    <a:pt x="776" y="64"/>
                    <a:pt x="592" y="160"/>
                  </a:cubicBez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8001360" y="4115880"/>
              <a:ext cx="609480" cy="45684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-8000">
                  <a:solidFill>
                    <a:srgbClr val="000000"/>
                  </a:solidFill>
                  <a:latin typeface="Times New Roman"/>
                </a:rPr>
                <a:t>79 km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-8000">
                  <a:solidFill>
                    <a:srgbClr val="000000"/>
                  </a:solidFill>
                  <a:latin typeface="Times New Roman"/>
                </a:rPr>
                <a:t>to schoo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8306280" y="4534920"/>
              <a:ext cx="0" cy="1141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8" name=""/>
            <p:cNvSpPr/>
            <p:nvPr/>
          </p:nvSpPr>
          <p:spPr>
            <a:xfrm rot="2359800">
              <a:off x="8317080" y="6147000"/>
              <a:ext cx="296640" cy="23544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39" name=""/>
            <p:cNvGrpSpPr/>
            <p:nvPr/>
          </p:nvGrpSpPr>
          <p:grpSpPr>
            <a:xfrm>
              <a:off x="8353080" y="6175080"/>
              <a:ext cx="158400" cy="128520"/>
              <a:chOff x="8353080" y="6175080"/>
              <a:chExt cx="158400" cy="128520"/>
            </a:xfrm>
          </p:grpSpPr>
          <p:sp>
            <p:nvSpPr>
              <p:cNvPr id="5640" name=""/>
              <p:cNvSpPr/>
              <p:nvPr/>
            </p:nvSpPr>
            <p:spPr>
              <a:xfrm>
                <a:off x="8353080" y="6175080"/>
                <a:ext cx="158400" cy="110520"/>
              </a:xfrm>
              <a:prstGeom prst="horizontalScroll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baseline="-8000">
                    <a:solidFill>
                      <a:srgbClr val="000000"/>
                    </a:solidFill>
                    <a:latin typeface="Times New Roman"/>
                  </a:rPr>
                  <a:t>Exit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8432280" y="6276240"/>
                <a:ext cx="0" cy="27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42" name=""/>
            <p:cNvSpPr/>
            <p:nvPr/>
          </p:nvSpPr>
          <p:spPr>
            <a:xfrm>
              <a:off x="8306280" y="5968440"/>
              <a:ext cx="559440" cy="559800"/>
            </a:xfrm>
            <a:prstGeom prst="ellipse">
              <a:avLst/>
            </a:prstGeom>
            <a:noFill/>
            <a:ln w="63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643" name="" descr=""/>
            <p:cNvPicPr/>
            <p:nvPr/>
          </p:nvPicPr>
          <p:blipFill>
            <a:blip r:embed="rId9"/>
            <a:stretch/>
          </p:blipFill>
          <p:spPr>
            <a:xfrm>
              <a:off x="8542440" y="6086880"/>
              <a:ext cx="295920" cy="26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44" name=""/>
            <p:cNvGrpSpPr/>
            <p:nvPr/>
          </p:nvGrpSpPr>
          <p:grpSpPr>
            <a:xfrm>
              <a:off x="8421480" y="5954040"/>
              <a:ext cx="269640" cy="288360"/>
              <a:chOff x="8421480" y="5954040"/>
              <a:chExt cx="269640" cy="288360"/>
            </a:xfrm>
          </p:grpSpPr>
          <p:sp>
            <p:nvSpPr>
              <p:cNvPr id="5645" name=""/>
              <p:cNvSpPr/>
              <p:nvPr/>
            </p:nvSpPr>
            <p:spPr>
              <a:xfrm rot="21255000">
                <a:off x="8556840" y="5984640"/>
                <a:ext cx="54720" cy="4536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 rot="21255000">
                <a:off x="8537760" y="6041160"/>
                <a:ext cx="56520" cy="10116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 rot="21255000">
                <a:off x="8577720" y="6124320"/>
                <a:ext cx="109800" cy="6984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 rot="19838400">
                <a:off x="8426160" y="6146280"/>
                <a:ext cx="156600" cy="6156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 rot="21255000">
                <a:off x="8501040" y="5958000"/>
                <a:ext cx="64080" cy="11340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 rot="21255000">
                <a:off x="8577360" y="5957640"/>
                <a:ext cx="83880" cy="9468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51" name=""/>
            <p:cNvSpPr/>
            <p:nvPr/>
          </p:nvSpPr>
          <p:spPr>
            <a:xfrm>
              <a:off x="4920120" y="4953960"/>
              <a:ext cx="719640" cy="71964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63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52" name=""/>
            <p:cNvGrpSpPr/>
            <p:nvPr/>
          </p:nvGrpSpPr>
          <p:grpSpPr>
            <a:xfrm>
              <a:off x="5185800" y="5528520"/>
              <a:ext cx="118800" cy="97200"/>
              <a:chOff x="5185800" y="5528520"/>
              <a:chExt cx="118800" cy="97200"/>
            </a:xfrm>
          </p:grpSpPr>
          <p:grpSp>
            <p:nvGrpSpPr>
              <p:cNvPr id="5653" name=""/>
              <p:cNvGrpSpPr/>
              <p:nvPr/>
            </p:nvGrpSpPr>
            <p:grpSpPr>
              <a:xfrm>
                <a:off x="5185800" y="5528520"/>
                <a:ext cx="118800" cy="97200"/>
                <a:chOff x="5185800" y="5528520"/>
                <a:chExt cx="118800" cy="97200"/>
              </a:xfrm>
            </p:grpSpPr>
            <p:sp>
              <p:nvSpPr>
                <p:cNvPr id="5654" name=""/>
                <p:cNvSpPr/>
                <p:nvPr/>
              </p:nvSpPr>
              <p:spPr>
                <a:xfrm rot="15865200">
                  <a:off x="5201280" y="5555520"/>
                  <a:ext cx="26640" cy="2592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5" name=""/>
                <p:cNvSpPr/>
                <p:nvPr/>
              </p:nvSpPr>
              <p:spPr>
                <a:xfrm rot="15865200">
                  <a:off x="5240520" y="5554080"/>
                  <a:ext cx="27360" cy="4644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6" name=""/>
                <p:cNvSpPr/>
                <p:nvPr/>
              </p:nvSpPr>
              <p:spPr>
                <a:xfrm rot="15865200">
                  <a:off x="5267880" y="5551920"/>
                  <a:ext cx="34920" cy="3456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7" name=""/>
                <p:cNvSpPr/>
                <p:nvPr/>
              </p:nvSpPr>
              <p:spPr>
                <a:xfrm rot="15865200">
                  <a:off x="5257440" y="5585400"/>
                  <a:ext cx="44280" cy="3276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8" name=""/>
                <p:cNvSpPr/>
                <p:nvPr/>
              </p:nvSpPr>
              <p:spPr>
                <a:xfrm rot="15865200">
                  <a:off x="5197680" y="5567760"/>
                  <a:ext cx="31320" cy="5220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9" name=""/>
                <p:cNvSpPr/>
                <p:nvPr/>
              </p:nvSpPr>
              <p:spPr>
                <a:xfrm rot="15865200">
                  <a:off x="5191560" y="5526720"/>
                  <a:ext cx="40680" cy="4860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60" name=""/>
              <p:cNvSpPr/>
              <p:nvPr/>
            </p:nvSpPr>
            <p:spPr>
              <a:xfrm flipV="1">
                <a:off x="5297040" y="5538600"/>
                <a:ext cx="7200" cy="8064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61" name=""/>
            <p:cNvGrpSpPr/>
            <p:nvPr/>
          </p:nvGrpSpPr>
          <p:grpSpPr>
            <a:xfrm>
              <a:off x="5512680" y="5281560"/>
              <a:ext cx="120960" cy="140400"/>
              <a:chOff x="5512680" y="5281560"/>
              <a:chExt cx="120960" cy="140400"/>
            </a:xfrm>
          </p:grpSpPr>
          <p:grpSp>
            <p:nvGrpSpPr>
              <p:cNvPr id="5662" name=""/>
              <p:cNvGrpSpPr/>
              <p:nvPr/>
            </p:nvGrpSpPr>
            <p:grpSpPr>
              <a:xfrm>
                <a:off x="5526000" y="5281560"/>
                <a:ext cx="107640" cy="140400"/>
                <a:chOff x="5526000" y="5281560"/>
                <a:chExt cx="107640" cy="140400"/>
              </a:xfrm>
            </p:grpSpPr>
            <p:sp>
              <p:nvSpPr>
                <p:cNvPr id="5663" name=""/>
                <p:cNvSpPr/>
                <p:nvPr/>
              </p:nvSpPr>
              <p:spPr>
                <a:xfrm flipH="1" rot="2043600">
                  <a:off x="5568840" y="5310000"/>
                  <a:ext cx="27360" cy="2520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4" name=""/>
                <p:cNvSpPr/>
                <p:nvPr/>
              </p:nvSpPr>
              <p:spPr>
                <a:xfrm flipH="1" rot="2043600">
                  <a:off x="5558040" y="5339160"/>
                  <a:ext cx="28080" cy="4536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5" name=""/>
                <p:cNvSpPr/>
                <p:nvPr/>
              </p:nvSpPr>
              <p:spPr>
                <a:xfrm flipH="1" rot="2043600">
                  <a:off x="5532120" y="5367600"/>
                  <a:ext cx="35640" cy="3348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6" name=""/>
                <p:cNvSpPr/>
                <p:nvPr/>
              </p:nvSpPr>
              <p:spPr>
                <a:xfrm flipH="1" rot="2043600">
                  <a:off x="5559840" y="5379480"/>
                  <a:ext cx="45360" cy="3204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7" name=""/>
                <p:cNvSpPr/>
                <p:nvPr/>
              </p:nvSpPr>
              <p:spPr>
                <a:xfrm flipH="1" rot="2043600">
                  <a:off x="5590080" y="5309640"/>
                  <a:ext cx="31680" cy="5076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8" name=""/>
                <p:cNvSpPr/>
                <p:nvPr/>
              </p:nvSpPr>
              <p:spPr>
                <a:xfrm flipH="1" rot="2043600">
                  <a:off x="5546880" y="5289120"/>
                  <a:ext cx="41760" cy="4788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69" name=""/>
              <p:cNvSpPr/>
              <p:nvPr/>
            </p:nvSpPr>
            <p:spPr>
              <a:xfrm flipH="1" flipV="1">
                <a:off x="5512680" y="5387040"/>
                <a:ext cx="76320" cy="3132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5670" name="" descr=""/>
            <p:cNvPicPr/>
            <p:nvPr/>
          </p:nvPicPr>
          <p:blipFill>
            <a:blip r:embed="rId11"/>
            <a:stretch/>
          </p:blipFill>
          <p:spPr>
            <a:xfrm>
              <a:off x="5267520" y="5149080"/>
              <a:ext cx="228960" cy="201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71" name=""/>
            <p:cNvGrpSpPr/>
            <p:nvPr/>
          </p:nvGrpSpPr>
          <p:grpSpPr>
            <a:xfrm>
              <a:off x="4984560" y="5159160"/>
              <a:ext cx="101880" cy="121680"/>
              <a:chOff x="4984560" y="5159160"/>
              <a:chExt cx="101880" cy="121680"/>
            </a:xfrm>
          </p:grpSpPr>
          <p:grpSp>
            <p:nvGrpSpPr>
              <p:cNvPr id="5672" name=""/>
              <p:cNvGrpSpPr/>
              <p:nvPr/>
            </p:nvGrpSpPr>
            <p:grpSpPr>
              <a:xfrm>
                <a:off x="4984560" y="5159160"/>
                <a:ext cx="101880" cy="115920"/>
                <a:chOff x="4984560" y="5159160"/>
                <a:chExt cx="101880" cy="115920"/>
              </a:xfrm>
            </p:grpSpPr>
            <p:sp>
              <p:nvSpPr>
                <p:cNvPr id="5673" name=""/>
                <p:cNvSpPr/>
                <p:nvPr/>
              </p:nvSpPr>
              <p:spPr>
                <a:xfrm rot="21592800">
                  <a:off x="5034240" y="5175000"/>
                  <a:ext cx="27360" cy="2556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4" name=""/>
                <p:cNvSpPr/>
                <p:nvPr/>
              </p:nvSpPr>
              <p:spPr>
                <a:xfrm rot="21592800">
                  <a:off x="5020920" y="5202720"/>
                  <a:ext cx="28080" cy="4572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5" name=""/>
                <p:cNvSpPr/>
                <p:nvPr/>
              </p:nvSpPr>
              <p:spPr>
                <a:xfrm rot="21592800">
                  <a:off x="5023080" y="5240520"/>
                  <a:ext cx="35640" cy="3420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6" name=""/>
                <p:cNvSpPr/>
                <p:nvPr/>
              </p:nvSpPr>
              <p:spPr>
                <a:xfrm rot="21592800">
                  <a:off x="4984560" y="5232240"/>
                  <a:ext cx="45360" cy="3240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7" name=""/>
                <p:cNvSpPr/>
                <p:nvPr/>
              </p:nvSpPr>
              <p:spPr>
                <a:xfrm rot="21592800">
                  <a:off x="5005800" y="5158800"/>
                  <a:ext cx="31680" cy="5148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8" name=""/>
                <p:cNvSpPr/>
                <p:nvPr/>
              </p:nvSpPr>
              <p:spPr>
                <a:xfrm rot="21592800">
                  <a:off x="5044680" y="5162760"/>
                  <a:ext cx="41760" cy="4824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79" name=""/>
              <p:cNvSpPr/>
              <p:nvPr/>
            </p:nvSpPr>
            <p:spPr>
              <a:xfrm>
                <a:off x="4989240" y="5264640"/>
                <a:ext cx="81000" cy="1620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80" name=""/>
            <p:cNvGrpSpPr/>
            <p:nvPr/>
          </p:nvGrpSpPr>
          <p:grpSpPr>
            <a:xfrm>
              <a:off x="5347800" y="5389560"/>
              <a:ext cx="120600" cy="96480"/>
              <a:chOff x="5347800" y="5389560"/>
              <a:chExt cx="120600" cy="96480"/>
            </a:xfrm>
          </p:grpSpPr>
          <p:grpSp>
            <p:nvGrpSpPr>
              <p:cNvPr id="5681" name=""/>
              <p:cNvGrpSpPr/>
              <p:nvPr/>
            </p:nvGrpSpPr>
            <p:grpSpPr>
              <a:xfrm>
                <a:off x="5347800" y="5389560"/>
                <a:ext cx="120600" cy="96480"/>
                <a:chOff x="5347800" y="5389560"/>
                <a:chExt cx="120600" cy="96480"/>
              </a:xfrm>
            </p:grpSpPr>
            <p:sp>
              <p:nvSpPr>
                <p:cNvPr id="5682" name=""/>
                <p:cNvSpPr/>
                <p:nvPr/>
              </p:nvSpPr>
              <p:spPr>
                <a:xfrm flipH="1" rot="5848200">
                  <a:off x="5425200" y="5417280"/>
                  <a:ext cx="26640" cy="2628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3" name=""/>
                <p:cNvSpPr/>
                <p:nvPr/>
              </p:nvSpPr>
              <p:spPr>
                <a:xfrm flipH="1" rot="5848200">
                  <a:off x="5384520" y="5414760"/>
                  <a:ext cx="27720" cy="4644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4" name=""/>
                <p:cNvSpPr/>
                <p:nvPr/>
              </p:nvSpPr>
              <p:spPr>
                <a:xfrm flipH="1" rot="5848200">
                  <a:off x="5349600" y="5410800"/>
                  <a:ext cx="34920" cy="3492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5" name=""/>
                <p:cNvSpPr/>
                <p:nvPr/>
              </p:nvSpPr>
              <p:spPr>
                <a:xfrm flipH="1" rot="5848200">
                  <a:off x="5349600" y="5445360"/>
                  <a:ext cx="44640" cy="3276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6" name=""/>
                <p:cNvSpPr/>
                <p:nvPr/>
              </p:nvSpPr>
              <p:spPr>
                <a:xfrm flipH="1" rot="5848200">
                  <a:off x="5422680" y="5430240"/>
                  <a:ext cx="31320" cy="5184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7" name=""/>
                <p:cNvSpPr/>
                <p:nvPr/>
              </p:nvSpPr>
              <p:spPr>
                <a:xfrm flipH="1" rot="5848200">
                  <a:off x="5420520" y="5388840"/>
                  <a:ext cx="41040" cy="4860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88" name=""/>
              <p:cNvSpPr/>
              <p:nvPr/>
            </p:nvSpPr>
            <p:spPr>
              <a:xfrm flipH="1" flipV="1">
                <a:off x="5349600" y="5397480"/>
                <a:ext cx="4680" cy="8100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89" name=""/>
            <p:cNvGrpSpPr/>
            <p:nvPr/>
          </p:nvGrpSpPr>
          <p:grpSpPr>
            <a:xfrm>
              <a:off x="5031000" y="5404320"/>
              <a:ext cx="134280" cy="142920"/>
              <a:chOff x="5031000" y="5404320"/>
              <a:chExt cx="134280" cy="142920"/>
            </a:xfrm>
          </p:grpSpPr>
          <p:grpSp>
            <p:nvGrpSpPr>
              <p:cNvPr id="5690" name=""/>
              <p:cNvGrpSpPr/>
              <p:nvPr/>
            </p:nvGrpSpPr>
            <p:grpSpPr>
              <a:xfrm>
                <a:off x="5031000" y="5404320"/>
                <a:ext cx="122760" cy="142920"/>
                <a:chOff x="5031000" y="5404320"/>
                <a:chExt cx="122760" cy="142920"/>
              </a:xfrm>
            </p:grpSpPr>
            <p:sp>
              <p:nvSpPr>
                <p:cNvPr id="5691" name=""/>
                <p:cNvSpPr/>
                <p:nvPr/>
              </p:nvSpPr>
              <p:spPr>
                <a:xfrm rot="18546000">
                  <a:off x="5065920" y="5436360"/>
                  <a:ext cx="27000" cy="2556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2" name=""/>
                <p:cNvSpPr/>
                <p:nvPr/>
              </p:nvSpPr>
              <p:spPr>
                <a:xfrm rot="18546000">
                  <a:off x="5087160" y="5460480"/>
                  <a:ext cx="28080" cy="4572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3" name=""/>
                <p:cNvSpPr/>
                <p:nvPr/>
              </p:nvSpPr>
              <p:spPr>
                <a:xfrm rot="18546000">
                  <a:off x="5111280" y="5482080"/>
                  <a:ext cx="35280" cy="3420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4" name=""/>
                <p:cNvSpPr/>
                <p:nvPr/>
              </p:nvSpPr>
              <p:spPr>
                <a:xfrm rot="18546000">
                  <a:off x="5078880" y="5502960"/>
                  <a:ext cx="45000" cy="3240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5" name=""/>
                <p:cNvSpPr/>
                <p:nvPr/>
              </p:nvSpPr>
              <p:spPr>
                <a:xfrm rot="18546000">
                  <a:off x="5045040" y="5441400"/>
                  <a:ext cx="31680" cy="5148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6" name=""/>
                <p:cNvSpPr/>
                <p:nvPr/>
              </p:nvSpPr>
              <p:spPr>
                <a:xfrm rot="18546000">
                  <a:off x="5069160" y="5411160"/>
                  <a:ext cx="41400" cy="4824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97" name=""/>
              <p:cNvSpPr/>
              <p:nvPr/>
            </p:nvSpPr>
            <p:spPr>
              <a:xfrm flipV="1">
                <a:off x="5101920" y="5491080"/>
                <a:ext cx="63360" cy="525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98" name=""/>
            <p:cNvGrpSpPr/>
            <p:nvPr/>
          </p:nvGrpSpPr>
          <p:grpSpPr>
            <a:xfrm>
              <a:off x="5167080" y="5343480"/>
              <a:ext cx="135720" cy="142560"/>
              <a:chOff x="5167080" y="5343480"/>
              <a:chExt cx="135720" cy="142560"/>
            </a:xfrm>
          </p:grpSpPr>
          <p:grpSp>
            <p:nvGrpSpPr>
              <p:cNvPr id="5699" name=""/>
              <p:cNvGrpSpPr/>
              <p:nvPr/>
            </p:nvGrpSpPr>
            <p:grpSpPr>
              <a:xfrm>
                <a:off x="5167080" y="5343480"/>
                <a:ext cx="124200" cy="142560"/>
                <a:chOff x="5167080" y="5343480"/>
                <a:chExt cx="124200" cy="142560"/>
              </a:xfrm>
            </p:grpSpPr>
            <p:sp>
              <p:nvSpPr>
                <p:cNvPr id="5700" name=""/>
                <p:cNvSpPr/>
                <p:nvPr/>
              </p:nvSpPr>
              <p:spPr>
                <a:xfrm rot="18401400">
                  <a:off x="5201640" y="5376240"/>
                  <a:ext cx="27360" cy="2556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1" name=""/>
                <p:cNvSpPr/>
                <p:nvPr/>
              </p:nvSpPr>
              <p:spPr>
                <a:xfrm rot="18401400">
                  <a:off x="5223960" y="5399280"/>
                  <a:ext cx="28080" cy="4572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2" name=""/>
                <p:cNvSpPr/>
                <p:nvPr/>
              </p:nvSpPr>
              <p:spPr>
                <a:xfrm rot="18401400">
                  <a:off x="5249160" y="5419440"/>
                  <a:ext cx="35640" cy="3420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3" name=""/>
                <p:cNvSpPr/>
                <p:nvPr/>
              </p:nvSpPr>
              <p:spPr>
                <a:xfrm rot="18401400">
                  <a:off x="5217120" y="5441760"/>
                  <a:ext cx="45360" cy="3240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4" name=""/>
                <p:cNvSpPr/>
                <p:nvPr/>
              </p:nvSpPr>
              <p:spPr>
                <a:xfrm rot="18401400">
                  <a:off x="5181120" y="5382000"/>
                  <a:ext cx="31680" cy="5148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5" name=""/>
                <p:cNvSpPr/>
                <p:nvPr/>
              </p:nvSpPr>
              <p:spPr>
                <a:xfrm rot="18401400">
                  <a:off x="5204520" y="5350320"/>
                  <a:ext cx="41760" cy="4824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06" name=""/>
              <p:cNvSpPr/>
              <p:nvPr/>
            </p:nvSpPr>
            <p:spPr>
              <a:xfrm flipV="1">
                <a:off x="5241600" y="5427000"/>
                <a:ext cx="61200" cy="55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07" name=""/>
            <p:cNvGrpSpPr/>
            <p:nvPr/>
          </p:nvGrpSpPr>
          <p:grpSpPr>
            <a:xfrm>
              <a:off x="5441040" y="5081400"/>
              <a:ext cx="116640" cy="130320"/>
              <a:chOff x="5441040" y="5081400"/>
              <a:chExt cx="116640" cy="130320"/>
            </a:xfrm>
          </p:grpSpPr>
          <p:grpSp>
            <p:nvGrpSpPr>
              <p:cNvPr id="5708" name=""/>
              <p:cNvGrpSpPr/>
              <p:nvPr/>
            </p:nvGrpSpPr>
            <p:grpSpPr>
              <a:xfrm>
                <a:off x="5441040" y="5081400"/>
                <a:ext cx="116640" cy="122760"/>
                <a:chOff x="5441040" y="5081400"/>
                <a:chExt cx="116640" cy="122760"/>
              </a:xfrm>
            </p:grpSpPr>
            <p:sp>
              <p:nvSpPr>
                <p:cNvPr id="5709" name=""/>
                <p:cNvSpPr/>
                <p:nvPr/>
              </p:nvSpPr>
              <p:spPr>
                <a:xfrm flipH="1" rot="21054600">
                  <a:off x="5468760" y="5104080"/>
                  <a:ext cx="27000" cy="2556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0" name=""/>
                <p:cNvSpPr/>
                <p:nvPr/>
              </p:nvSpPr>
              <p:spPr>
                <a:xfrm flipH="1" rot="21054600">
                  <a:off x="5487120" y="5129640"/>
                  <a:ext cx="28080" cy="4608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1" name=""/>
                <p:cNvSpPr/>
                <p:nvPr/>
              </p:nvSpPr>
              <p:spPr>
                <a:xfrm flipH="1" rot="21054600">
                  <a:off x="5482800" y="5167080"/>
                  <a:ext cx="35280" cy="3420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2" name=""/>
                <p:cNvSpPr/>
                <p:nvPr/>
              </p:nvSpPr>
              <p:spPr>
                <a:xfrm flipH="1" rot="21054600">
                  <a:off x="5510160" y="5154480"/>
                  <a:ext cx="45000" cy="3240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3" name=""/>
                <p:cNvSpPr/>
                <p:nvPr/>
              </p:nvSpPr>
              <p:spPr>
                <a:xfrm flipH="1" rot="21054600">
                  <a:off x="5491800" y="5083560"/>
                  <a:ext cx="31680" cy="5148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4" name=""/>
                <p:cNvSpPr/>
                <p:nvPr/>
              </p:nvSpPr>
              <p:spPr>
                <a:xfrm flipH="1" rot="21054600">
                  <a:off x="5443920" y="5094720"/>
                  <a:ext cx="41400" cy="4824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15" name=""/>
              <p:cNvSpPr/>
              <p:nvPr/>
            </p:nvSpPr>
            <p:spPr>
              <a:xfrm flipH="1">
                <a:off x="5476320" y="5182920"/>
                <a:ext cx="77040" cy="2880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16" name=""/>
            <p:cNvGrpSpPr/>
            <p:nvPr/>
          </p:nvGrpSpPr>
          <p:grpSpPr>
            <a:xfrm>
              <a:off x="5079600" y="4986720"/>
              <a:ext cx="128160" cy="136080"/>
              <a:chOff x="5079600" y="4986720"/>
              <a:chExt cx="128160" cy="136080"/>
            </a:xfrm>
          </p:grpSpPr>
          <p:grpSp>
            <p:nvGrpSpPr>
              <p:cNvPr id="5717" name=""/>
              <p:cNvGrpSpPr/>
              <p:nvPr/>
            </p:nvGrpSpPr>
            <p:grpSpPr>
              <a:xfrm>
                <a:off x="5079600" y="4986720"/>
                <a:ext cx="128160" cy="127800"/>
                <a:chOff x="5079600" y="4986720"/>
                <a:chExt cx="128160" cy="127800"/>
              </a:xfrm>
            </p:grpSpPr>
            <p:sp>
              <p:nvSpPr>
                <p:cNvPr id="5718" name=""/>
                <p:cNvSpPr/>
                <p:nvPr/>
              </p:nvSpPr>
              <p:spPr>
                <a:xfrm rot="1132200">
                  <a:off x="5149800" y="5015160"/>
                  <a:ext cx="27000" cy="2592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9" name=""/>
                <p:cNvSpPr/>
                <p:nvPr/>
              </p:nvSpPr>
              <p:spPr>
                <a:xfrm rot="1132200">
                  <a:off x="5124960" y="5037120"/>
                  <a:ext cx="27720" cy="4644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0" name=""/>
                <p:cNvSpPr/>
                <p:nvPr/>
              </p:nvSpPr>
              <p:spPr>
                <a:xfrm rot="1132200">
                  <a:off x="5115600" y="5074920"/>
                  <a:ext cx="35280" cy="3456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1" name=""/>
                <p:cNvSpPr/>
                <p:nvPr/>
              </p:nvSpPr>
              <p:spPr>
                <a:xfrm rot="1132200">
                  <a:off x="5083200" y="5056920"/>
                  <a:ext cx="44640" cy="3276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2" name=""/>
                <p:cNvSpPr/>
                <p:nvPr/>
              </p:nvSpPr>
              <p:spPr>
                <a:xfrm rot="1132200">
                  <a:off x="5124960" y="4990320"/>
                  <a:ext cx="31320" cy="5220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3" name=""/>
                <p:cNvSpPr/>
                <p:nvPr/>
              </p:nvSpPr>
              <p:spPr>
                <a:xfrm rot="1132200">
                  <a:off x="5159880" y="5007960"/>
                  <a:ext cx="41040" cy="4860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4" name=""/>
              <p:cNvSpPr/>
              <p:nvPr/>
            </p:nvSpPr>
            <p:spPr>
              <a:xfrm>
                <a:off x="5082840" y="5082120"/>
                <a:ext cx="70920" cy="406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25" name=""/>
            <p:cNvGrpSpPr/>
            <p:nvPr/>
          </p:nvGrpSpPr>
          <p:grpSpPr>
            <a:xfrm>
              <a:off x="5263560" y="5020200"/>
              <a:ext cx="141840" cy="119160"/>
              <a:chOff x="5263560" y="5020200"/>
              <a:chExt cx="141840" cy="119160"/>
            </a:xfrm>
          </p:grpSpPr>
          <p:grpSp>
            <p:nvGrpSpPr>
              <p:cNvPr id="5726" name=""/>
              <p:cNvGrpSpPr/>
              <p:nvPr/>
            </p:nvGrpSpPr>
            <p:grpSpPr>
              <a:xfrm>
                <a:off x="5263560" y="5020200"/>
                <a:ext cx="141840" cy="107280"/>
                <a:chOff x="5263560" y="5020200"/>
                <a:chExt cx="141840" cy="107280"/>
              </a:xfrm>
            </p:grpSpPr>
            <p:sp>
              <p:nvSpPr>
                <p:cNvPr id="5727" name=""/>
                <p:cNvSpPr/>
                <p:nvPr/>
              </p:nvSpPr>
              <p:spPr>
                <a:xfrm rot="3441600">
                  <a:off x="5349600" y="5058000"/>
                  <a:ext cx="27000" cy="2592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8" name=""/>
                <p:cNvSpPr/>
                <p:nvPr/>
              </p:nvSpPr>
              <p:spPr>
                <a:xfrm rot="3441600">
                  <a:off x="5309640" y="5057640"/>
                  <a:ext cx="27720" cy="4680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9" name=""/>
                <p:cNvSpPr/>
                <p:nvPr/>
              </p:nvSpPr>
              <p:spPr>
                <a:xfrm rot="3441600">
                  <a:off x="5281560" y="5085360"/>
                  <a:ext cx="35280" cy="3492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0" name=""/>
                <p:cNvSpPr/>
                <p:nvPr/>
              </p:nvSpPr>
              <p:spPr>
                <a:xfrm rot="3441600">
                  <a:off x="5266800" y="5054400"/>
                  <a:ext cx="44640" cy="3312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1" name=""/>
                <p:cNvSpPr/>
                <p:nvPr/>
              </p:nvSpPr>
              <p:spPr>
                <a:xfrm rot="3441600">
                  <a:off x="5336640" y="5021280"/>
                  <a:ext cx="31320" cy="5256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2" name=""/>
                <p:cNvSpPr/>
                <p:nvPr/>
              </p:nvSpPr>
              <p:spPr>
                <a:xfrm rot="3441600">
                  <a:off x="5352840" y="5060520"/>
                  <a:ext cx="41040" cy="4896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33" name=""/>
              <p:cNvSpPr/>
              <p:nvPr/>
            </p:nvSpPr>
            <p:spPr>
              <a:xfrm>
                <a:off x="5266080" y="5063400"/>
                <a:ext cx="30240" cy="759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34" name=""/>
            <p:cNvGrpSpPr/>
            <p:nvPr/>
          </p:nvGrpSpPr>
          <p:grpSpPr>
            <a:xfrm>
              <a:off x="5129640" y="5119920"/>
              <a:ext cx="109800" cy="125640"/>
              <a:chOff x="5129640" y="5119920"/>
              <a:chExt cx="109800" cy="125640"/>
            </a:xfrm>
          </p:grpSpPr>
          <p:grpSp>
            <p:nvGrpSpPr>
              <p:cNvPr id="5735" name=""/>
              <p:cNvGrpSpPr/>
              <p:nvPr/>
            </p:nvGrpSpPr>
            <p:grpSpPr>
              <a:xfrm>
                <a:off x="5129640" y="5119920"/>
                <a:ext cx="109800" cy="118440"/>
                <a:chOff x="5129640" y="5119920"/>
                <a:chExt cx="109800" cy="118440"/>
              </a:xfrm>
            </p:grpSpPr>
            <p:sp>
              <p:nvSpPr>
                <p:cNvPr id="5736" name=""/>
                <p:cNvSpPr/>
                <p:nvPr/>
              </p:nvSpPr>
              <p:spPr>
                <a:xfrm rot="263400">
                  <a:off x="5185440" y="5139360"/>
                  <a:ext cx="27360" cy="2556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7" name=""/>
                <p:cNvSpPr/>
                <p:nvPr/>
              </p:nvSpPr>
              <p:spPr>
                <a:xfrm rot="263400">
                  <a:off x="5168880" y="5165280"/>
                  <a:ext cx="28080" cy="4572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8" name=""/>
                <p:cNvSpPr/>
                <p:nvPr/>
              </p:nvSpPr>
              <p:spPr>
                <a:xfrm rot="263400">
                  <a:off x="5168160" y="5203080"/>
                  <a:ext cx="35640" cy="3384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9" name=""/>
                <p:cNvSpPr/>
                <p:nvPr/>
              </p:nvSpPr>
              <p:spPr>
                <a:xfrm rot="263400">
                  <a:off x="5130720" y="5192640"/>
                  <a:ext cx="45360" cy="3240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0" name=""/>
                <p:cNvSpPr/>
                <p:nvPr/>
              </p:nvSpPr>
              <p:spPr>
                <a:xfrm rot="263400">
                  <a:off x="5157000" y="5121000"/>
                  <a:ext cx="31680" cy="5112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1" name=""/>
                <p:cNvSpPr/>
                <p:nvPr/>
              </p:nvSpPr>
              <p:spPr>
                <a:xfrm rot="263400">
                  <a:off x="5195520" y="5128560"/>
                  <a:ext cx="41760" cy="4788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42" name=""/>
              <p:cNvSpPr/>
              <p:nvPr/>
            </p:nvSpPr>
            <p:spPr>
              <a:xfrm>
                <a:off x="5134680" y="5222880"/>
                <a:ext cx="79200" cy="226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43" name=""/>
            <p:cNvGrpSpPr/>
            <p:nvPr/>
          </p:nvGrpSpPr>
          <p:grpSpPr>
            <a:xfrm>
              <a:off x="4942800" y="5294160"/>
              <a:ext cx="114120" cy="137160"/>
              <a:chOff x="4942800" y="5294160"/>
              <a:chExt cx="114120" cy="137160"/>
            </a:xfrm>
          </p:grpSpPr>
          <p:grpSp>
            <p:nvGrpSpPr>
              <p:cNvPr id="5744" name=""/>
              <p:cNvGrpSpPr/>
              <p:nvPr/>
            </p:nvGrpSpPr>
            <p:grpSpPr>
              <a:xfrm>
                <a:off x="4942800" y="5294160"/>
                <a:ext cx="101160" cy="137160"/>
                <a:chOff x="4942800" y="5294160"/>
                <a:chExt cx="101160" cy="137160"/>
              </a:xfrm>
            </p:grpSpPr>
            <p:sp>
              <p:nvSpPr>
                <p:cNvPr id="5745" name=""/>
                <p:cNvSpPr/>
                <p:nvPr/>
              </p:nvSpPr>
              <p:spPr>
                <a:xfrm rot="19882200">
                  <a:off x="4979880" y="5321160"/>
                  <a:ext cx="27360" cy="2520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6" name=""/>
                <p:cNvSpPr/>
                <p:nvPr/>
              </p:nvSpPr>
              <p:spPr>
                <a:xfrm rot="19882200">
                  <a:off x="4985640" y="5350680"/>
                  <a:ext cx="28080" cy="4536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7" name=""/>
                <p:cNvSpPr/>
                <p:nvPr/>
              </p:nvSpPr>
              <p:spPr>
                <a:xfrm rot="19882200">
                  <a:off x="5002200" y="5381280"/>
                  <a:ext cx="35640" cy="3384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8" name=""/>
                <p:cNvSpPr/>
                <p:nvPr/>
              </p:nvSpPr>
              <p:spPr>
                <a:xfrm rot="19882200">
                  <a:off x="4963680" y="5390280"/>
                  <a:ext cx="45360" cy="3204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9" name=""/>
                <p:cNvSpPr/>
                <p:nvPr/>
              </p:nvSpPr>
              <p:spPr>
                <a:xfrm rot="19882200">
                  <a:off x="4952880" y="5318280"/>
                  <a:ext cx="31680" cy="5112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0" name=""/>
                <p:cNvSpPr/>
                <p:nvPr/>
              </p:nvSpPr>
              <p:spPr>
                <a:xfrm rot="19882200">
                  <a:off x="4987440" y="5301360"/>
                  <a:ext cx="41760" cy="4788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51" name=""/>
              <p:cNvSpPr/>
              <p:nvPr/>
            </p:nvSpPr>
            <p:spPr>
              <a:xfrm flipV="1">
                <a:off x="4978080" y="5404320"/>
                <a:ext cx="78840" cy="2412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52" name=""/>
            <p:cNvGrpSpPr/>
            <p:nvPr/>
          </p:nvGrpSpPr>
          <p:grpSpPr>
            <a:xfrm>
              <a:off x="5079240" y="5232240"/>
              <a:ext cx="114480" cy="138240"/>
              <a:chOff x="5079240" y="5232240"/>
              <a:chExt cx="114480" cy="138240"/>
            </a:xfrm>
          </p:grpSpPr>
          <p:grpSp>
            <p:nvGrpSpPr>
              <p:cNvPr id="5753" name=""/>
              <p:cNvGrpSpPr/>
              <p:nvPr/>
            </p:nvGrpSpPr>
            <p:grpSpPr>
              <a:xfrm>
                <a:off x="5079240" y="5232240"/>
                <a:ext cx="101520" cy="138240"/>
                <a:chOff x="5079240" y="5232240"/>
                <a:chExt cx="101520" cy="138240"/>
              </a:xfrm>
            </p:grpSpPr>
            <p:sp>
              <p:nvSpPr>
                <p:cNvPr id="5754" name=""/>
                <p:cNvSpPr/>
                <p:nvPr/>
              </p:nvSpPr>
              <p:spPr>
                <a:xfrm rot="19882200">
                  <a:off x="5116320" y="5259600"/>
                  <a:ext cx="27360" cy="2556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5" name=""/>
                <p:cNvSpPr/>
                <p:nvPr/>
              </p:nvSpPr>
              <p:spPr>
                <a:xfrm rot="19882200">
                  <a:off x="5122440" y="5289120"/>
                  <a:ext cx="28080" cy="4572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6" name=""/>
                <p:cNvSpPr/>
                <p:nvPr/>
              </p:nvSpPr>
              <p:spPr>
                <a:xfrm rot="19882200">
                  <a:off x="5139000" y="5320080"/>
                  <a:ext cx="35640" cy="3420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7" name=""/>
                <p:cNvSpPr/>
                <p:nvPr/>
              </p:nvSpPr>
              <p:spPr>
                <a:xfrm rot="19882200">
                  <a:off x="5100480" y="5329080"/>
                  <a:ext cx="45360" cy="3240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8" name=""/>
                <p:cNvSpPr/>
                <p:nvPr/>
              </p:nvSpPr>
              <p:spPr>
                <a:xfrm rot="19882200">
                  <a:off x="5089320" y="5256360"/>
                  <a:ext cx="31680" cy="5148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9" name=""/>
                <p:cNvSpPr/>
                <p:nvPr/>
              </p:nvSpPr>
              <p:spPr>
                <a:xfrm rot="19882200">
                  <a:off x="5124240" y="5239440"/>
                  <a:ext cx="41760" cy="4824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60" name=""/>
              <p:cNvSpPr/>
              <p:nvPr/>
            </p:nvSpPr>
            <p:spPr>
              <a:xfrm flipV="1">
                <a:off x="5114880" y="5343480"/>
                <a:ext cx="78840" cy="244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61" name=""/>
            <p:cNvGrpSpPr/>
            <p:nvPr/>
          </p:nvGrpSpPr>
          <p:grpSpPr>
            <a:xfrm>
              <a:off x="5407200" y="5452200"/>
              <a:ext cx="135000" cy="126000"/>
              <a:chOff x="5407200" y="5452200"/>
              <a:chExt cx="135000" cy="126000"/>
            </a:xfrm>
          </p:grpSpPr>
          <p:grpSp>
            <p:nvGrpSpPr>
              <p:cNvPr id="5762" name=""/>
              <p:cNvGrpSpPr/>
              <p:nvPr/>
            </p:nvGrpSpPr>
            <p:grpSpPr>
              <a:xfrm>
                <a:off x="5416200" y="5452200"/>
                <a:ext cx="126000" cy="126000"/>
                <a:chOff x="5416200" y="5452200"/>
                <a:chExt cx="126000" cy="126000"/>
              </a:xfrm>
            </p:grpSpPr>
            <p:sp>
              <p:nvSpPr>
                <p:cNvPr id="5763" name=""/>
                <p:cNvSpPr/>
                <p:nvPr/>
              </p:nvSpPr>
              <p:spPr>
                <a:xfrm flipH="1" rot="4411800">
                  <a:off x="5488200" y="5482800"/>
                  <a:ext cx="27360" cy="2556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4" name=""/>
                <p:cNvSpPr/>
                <p:nvPr/>
              </p:nvSpPr>
              <p:spPr>
                <a:xfrm flipH="1" rot="4411800">
                  <a:off x="5455440" y="5495760"/>
                  <a:ext cx="28080" cy="4572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5" name=""/>
                <p:cNvSpPr/>
                <p:nvPr/>
              </p:nvSpPr>
              <p:spPr>
                <a:xfrm flipH="1" rot="4411800">
                  <a:off x="5419440" y="5505480"/>
                  <a:ext cx="35640" cy="3420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6" name=""/>
                <p:cNvSpPr/>
                <p:nvPr/>
              </p:nvSpPr>
              <p:spPr>
                <a:xfrm flipH="1" rot="4411800">
                  <a:off x="5433120" y="5535720"/>
                  <a:ext cx="45360" cy="3240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7" name=""/>
                <p:cNvSpPr/>
                <p:nvPr/>
              </p:nvSpPr>
              <p:spPr>
                <a:xfrm flipH="1" rot="4411800">
                  <a:off x="5497200" y="5493960"/>
                  <a:ext cx="31680" cy="5148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8" name=""/>
                <p:cNvSpPr/>
                <p:nvPr/>
              </p:nvSpPr>
              <p:spPr>
                <a:xfrm flipH="1" rot="4411800">
                  <a:off x="5476680" y="5454720"/>
                  <a:ext cx="41760" cy="4824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69" name=""/>
              <p:cNvSpPr/>
              <p:nvPr/>
            </p:nvSpPr>
            <p:spPr>
              <a:xfrm flipH="1" flipV="1">
                <a:off x="5407200" y="5501160"/>
                <a:ext cx="38520" cy="73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70" name=""/>
            <p:cNvGrpSpPr/>
            <p:nvPr/>
          </p:nvGrpSpPr>
          <p:grpSpPr>
            <a:xfrm>
              <a:off x="7890840" y="4953960"/>
              <a:ext cx="757800" cy="723600"/>
              <a:chOff x="7890840" y="4953960"/>
              <a:chExt cx="757800" cy="723600"/>
            </a:xfrm>
          </p:grpSpPr>
          <p:grpSp>
            <p:nvGrpSpPr>
              <p:cNvPr id="5771" name=""/>
              <p:cNvGrpSpPr/>
              <p:nvPr/>
            </p:nvGrpSpPr>
            <p:grpSpPr>
              <a:xfrm>
                <a:off x="7890840" y="5089320"/>
                <a:ext cx="713520" cy="534240"/>
                <a:chOff x="7890840" y="5089320"/>
                <a:chExt cx="713520" cy="534240"/>
              </a:xfrm>
            </p:grpSpPr>
            <p:sp>
              <p:nvSpPr>
                <p:cNvPr id="5772" name=""/>
                <p:cNvSpPr/>
                <p:nvPr/>
              </p:nvSpPr>
              <p:spPr>
                <a:xfrm rot="2359800">
                  <a:off x="7944480" y="5225040"/>
                  <a:ext cx="391320" cy="309600"/>
                </a:xfrm>
                <a:custGeom>
                  <a:avLst/>
                  <a:gdLst/>
                  <a:ahLst/>
                  <a:rect l="l" t="t" r="r" b="b"/>
                  <a:pathLst>
                    <a:path w="2280" h="1785">
                      <a:moveTo>
                        <a:pt x="748" y="30"/>
                      </a:moveTo>
                      <a:cubicBezTo>
                        <a:pt x="881" y="60"/>
                        <a:pt x="985" y="267"/>
                        <a:pt x="1224" y="305"/>
                      </a:cubicBezTo>
                      <a:cubicBezTo>
                        <a:pt x="1463" y="343"/>
                        <a:pt x="2088" y="121"/>
                        <a:pt x="2184" y="257"/>
                      </a:cubicBezTo>
                      <a:cubicBezTo>
                        <a:pt x="2280" y="393"/>
                        <a:pt x="1873" y="945"/>
                        <a:pt x="1800" y="1121"/>
                      </a:cubicBezTo>
                      <a:cubicBezTo>
                        <a:pt x="1727" y="1297"/>
                        <a:pt x="1757" y="1253"/>
                        <a:pt x="1743" y="1313"/>
                      </a:cubicBezTo>
                      <a:cubicBezTo>
                        <a:pt x="1729" y="1373"/>
                        <a:pt x="1747" y="1440"/>
                        <a:pt x="1717" y="1479"/>
                      </a:cubicBezTo>
                      <a:cubicBezTo>
                        <a:pt x="1687" y="1518"/>
                        <a:pt x="1634" y="1537"/>
                        <a:pt x="1560" y="1549"/>
                      </a:cubicBezTo>
                      <a:cubicBezTo>
                        <a:pt x="1486" y="1561"/>
                        <a:pt x="1504" y="1536"/>
                        <a:pt x="1272" y="1553"/>
                      </a:cubicBezTo>
                      <a:cubicBezTo>
                        <a:pt x="1040" y="1570"/>
                        <a:pt x="336" y="1785"/>
                        <a:pt x="168" y="1649"/>
                      </a:cubicBezTo>
                      <a:cubicBezTo>
                        <a:pt x="0" y="1513"/>
                        <a:pt x="221" y="991"/>
                        <a:pt x="264" y="737"/>
                      </a:cubicBezTo>
                      <a:cubicBezTo>
                        <a:pt x="307" y="483"/>
                        <a:pt x="344" y="244"/>
                        <a:pt x="425" y="126"/>
                      </a:cubicBezTo>
                      <a:cubicBezTo>
                        <a:pt x="506" y="8"/>
                        <a:pt x="615" y="0"/>
                        <a:pt x="748" y="30"/>
                      </a:cubicBezTo>
                      <a:close/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3" name=""/>
                <p:cNvSpPr/>
                <p:nvPr/>
              </p:nvSpPr>
              <p:spPr>
                <a:xfrm rot="2359800">
                  <a:off x="8333640" y="5258880"/>
                  <a:ext cx="225000" cy="224640"/>
                </a:xfrm>
                <a:custGeom>
                  <a:avLst/>
                  <a:gdLst/>
                  <a:ahLst/>
                  <a:rect l="l" t="t" r="r" b="b"/>
                  <a:pathLst>
                    <a:path w="1312" h="1296">
                      <a:moveTo>
                        <a:pt x="592" y="160"/>
                      </a:moveTo>
                      <a:cubicBezTo>
                        <a:pt x="408" y="256"/>
                        <a:pt x="32" y="496"/>
                        <a:pt x="16" y="640"/>
                      </a:cubicBezTo>
                      <a:cubicBezTo>
                        <a:pt x="0" y="784"/>
                        <a:pt x="296" y="928"/>
                        <a:pt x="496" y="1024"/>
                      </a:cubicBezTo>
                      <a:cubicBezTo>
                        <a:pt x="696" y="1120"/>
                        <a:pt x="1120" y="1296"/>
                        <a:pt x="1216" y="1216"/>
                      </a:cubicBezTo>
                      <a:cubicBezTo>
                        <a:pt x="1312" y="1136"/>
                        <a:pt x="1088" y="736"/>
                        <a:pt x="1072" y="544"/>
                      </a:cubicBezTo>
                      <a:cubicBezTo>
                        <a:pt x="1056" y="352"/>
                        <a:pt x="1208" y="128"/>
                        <a:pt x="1120" y="64"/>
                      </a:cubicBezTo>
                      <a:cubicBezTo>
                        <a:pt x="1032" y="0"/>
                        <a:pt x="776" y="64"/>
                        <a:pt x="592" y="160"/>
                      </a:cubicBezTo>
                      <a:close/>
                    </a:path>
                  </a:pathLst>
                </a:cu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74" name=""/>
                <p:cNvGrpSpPr/>
                <p:nvPr/>
              </p:nvGrpSpPr>
              <p:grpSpPr>
                <a:xfrm>
                  <a:off x="8134200" y="5089320"/>
                  <a:ext cx="345960" cy="370440"/>
                  <a:chOff x="8134200" y="5089320"/>
                  <a:chExt cx="345960" cy="370440"/>
                </a:xfrm>
              </p:grpSpPr>
              <p:sp>
                <p:nvSpPr>
                  <p:cNvPr id="5775" name=""/>
                  <p:cNvSpPr/>
                  <p:nvPr/>
                </p:nvSpPr>
                <p:spPr>
                  <a:xfrm rot="21255000">
                    <a:off x="8308440" y="5128560"/>
                    <a:ext cx="7020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608">
                        <a:moveTo>
                          <a:pt x="388" y="289"/>
                        </a:moveTo>
                        <a:lnTo>
                          <a:pt x="372" y="177"/>
                        </a:lnTo>
                        <a:lnTo>
                          <a:pt x="341" y="78"/>
                        </a:lnTo>
                        <a:lnTo>
                          <a:pt x="284" y="24"/>
                        </a:lnTo>
                        <a:lnTo>
                          <a:pt x="185" y="0"/>
                        </a:lnTo>
                        <a:lnTo>
                          <a:pt x="100" y="24"/>
                        </a:lnTo>
                        <a:lnTo>
                          <a:pt x="19" y="123"/>
                        </a:lnTo>
                        <a:lnTo>
                          <a:pt x="0" y="243"/>
                        </a:lnTo>
                        <a:lnTo>
                          <a:pt x="19" y="370"/>
                        </a:lnTo>
                        <a:lnTo>
                          <a:pt x="50" y="447"/>
                        </a:lnTo>
                        <a:lnTo>
                          <a:pt x="88" y="528"/>
                        </a:lnTo>
                        <a:lnTo>
                          <a:pt x="130" y="582"/>
                        </a:lnTo>
                        <a:lnTo>
                          <a:pt x="177" y="608"/>
                        </a:lnTo>
                        <a:lnTo>
                          <a:pt x="242" y="585"/>
                        </a:lnTo>
                        <a:lnTo>
                          <a:pt x="307" y="531"/>
                        </a:lnTo>
                        <a:lnTo>
                          <a:pt x="349" y="455"/>
                        </a:lnTo>
                        <a:lnTo>
                          <a:pt x="388" y="390"/>
                        </a:lnTo>
                        <a:lnTo>
                          <a:pt x="400" y="351"/>
                        </a:lnTo>
                        <a:lnTo>
                          <a:pt x="565" y="293"/>
                        </a:lnTo>
                        <a:lnTo>
                          <a:pt x="600" y="270"/>
                        </a:lnTo>
                        <a:lnTo>
                          <a:pt x="580" y="235"/>
                        </a:lnTo>
                        <a:lnTo>
                          <a:pt x="388" y="289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6" name=""/>
                  <p:cNvSpPr/>
                  <p:nvPr/>
                </p:nvSpPr>
                <p:spPr>
                  <a:xfrm rot="21255000">
                    <a:off x="8283960" y="5202000"/>
                    <a:ext cx="7236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619" h="1085">
                        <a:moveTo>
                          <a:pt x="208" y="161"/>
                        </a:moveTo>
                        <a:lnTo>
                          <a:pt x="284" y="80"/>
                        </a:lnTo>
                        <a:lnTo>
                          <a:pt x="411" y="3"/>
                        </a:lnTo>
                        <a:lnTo>
                          <a:pt x="469" y="0"/>
                        </a:lnTo>
                        <a:lnTo>
                          <a:pt x="573" y="34"/>
                        </a:lnTo>
                        <a:lnTo>
                          <a:pt x="619" y="85"/>
                        </a:lnTo>
                        <a:lnTo>
                          <a:pt x="619" y="161"/>
                        </a:lnTo>
                        <a:lnTo>
                          <a:pt x="542" y="304"/>
                        </a:lnTo>
                        <a:lnTo>
                          <a:pt x="458" y="415"/>
                        </a:lnTo>
                        <a:lnTo>
                          <a:pt x="422" y="508"/>
                        </a:lnTo>
                        <a:lnTo>
                          <a:pt x="399" y="615"/>
                        </a:lnTo>
                        <a:lnTo>
                          <a:pt x="422" y="719"/>
                        </a:lnTo>
                        <a:lnTo>
                          <a:pt x="445" y="820"/>
                        </a:lnTo>
                        <a:lnTo>
                          <a:pt x="445" y="935"/>
                        </a:lnTo>
                        <a:lnTo>
                          <a:pt x="411" y="1005"/>
                        </a:lnTo>
                        <a:lnTo>
                          <a:pt x="334" y="1043"/>
                        </a:lnTo>
                        <a:lnTo>
                          <a:pt x="242" y="1085"/>
                        </a:lnTo>
                        <a:lnTo>
                          <a:pt x="157" y="1085"/>
                        </a:lnTo>
                        <a:lnTo>
                          <a:pt x="100" y="1054"/>
                        </a:lnTo>
                        <a:lnTo>
                          <a:pt x="23" y="927"/>
                        </a:lnTo>
                        <a:lnTo>
                          <a:pt x="0" y="797"/>
                        </a:lnTo>
                        <a:lnTo>
                          <a:pt x="8" y="628"/>
                        </a:lnTo>
                        <a:lnTo>
                          <a:pt x="65" y="415"/>
                        </a:lnTo>
                        <a:lnTo>
                          <a:pt x="123" y="277"/>
                        </a:lnTo>
                        <a:lnTo>
                          <a:pt x="208" y="16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7" name=""/>
                  <p:cNvSpPr/>
                  <p:nvPr/>
                </p:nvSpPr>
                <p:spPr>
                  <a:xfrm rot="21255000">
                    <a:off x="8335080" y="5308200"/>
                    <a:ext cx="14076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82" h="808">
                        <a:moveTo>
                          <a:pt x="0" y="76"/>
                        </a:moveTo>
                        <a:lnTo>
                          <a:pt x="66" y="0"/>
                        </a:lnTo>
                        <a:lnTo>
                          <a:pt x="163" y="0"/>
                        </a:lnTo>
                        <a:lnTo>
                          <a:pt x="343" y="19"/>
                        </a:lnTo>
                        <a:lnTo>
                          <a:pt x="555" y="30"/>
                        </a:lnTo>
                        <a:lnTo>
                          <a:pt x="636" y="65"/>
                        </a:lnTo>
                        <a:lnTo>
                          <a:pt x="670" y="110"/>
                        </a:lnTo>
                        <a:lnTo>
                          <a:pt x="678" y="180"/>
                        </a:lnTo>
                        <a:lnTo>
                          <a:pt x="654" y="253"/>
                        </a:lnTo>
                        <a:lnTo>
                          <a:pt x="589" y="365"/>
                        </a:lnTo>
                        <a:lnTo>
                          <a:pt x="504" y="457"/>
                        </a:lnTo>
                        <a:lnTo>
                          <a:pt x="439" y="541"/>
                        </a:lnTo>
                        <a:lnTo>
                          <a:pt x="412" y="607"/>
                        </a:lnTo>
                        <a:lnTo>
                          <a:pt x="393" y="653"/>
                        </a:lnTo>
                        <a:lnTo>
                          <a:pt x="400" y="689"/>
                        </a:lnTo>
                        <a:lnTo>
                          <a:pt x="405" y="711"/>
                        </a:lnTo>
                        <a:lnTo>
                          <a:pt x="482" y="711"/>
                        </a:lnTo>
                        <a:lnTo>
                          <a:pt x="601" y="692"/>
                        </a:lnTo>
                        <a:lnTo>
                          <a:pt x="678" y="692"/>
                        </a:lnTo>
                        <a:lnTo>
                          <a:pt x="758" y="723"/>
                        </a:lnTo>
                        <a:lnTo>
                          <a:pt x="782" y="761"/>
                        </a:lnTo>
                        <a:lnTo>
                          <a:pt x="758" y="796"/>
                        </a:lnTo>
                        <a:lnTo>
                          <a:pt x="724" y="808"/>
                        </a:lnTo>
                        <a:lnTo>
                          <a:pt x="670" y="792"/>
                        </a:lnTo>
                        <a:lnTo>
                          <a:pt x="597" y="749"/>
                        </a:lnTo>
                        <a:lnTo>
                          <a:pt x="520" y="757"/>
                        </a:lnTo>
                        <a:lnTo>
                          <a:pt x="393" y="780"/>
                        </a:lnTo>
                        <a:lnTo>
                          <a:pt x="355" y="773"/>
                        </a:lnTo>
                        <a:lnTo>
                          <a:pt x="335" y="746"/>
                        </a:lnTo>
                        <a:lnTo>
                          <a:pt x="335" y="681"/>
                        </a:lnTo>
                        <a:lnTo>
                          <a:pt x="335" y="588"/>
                        </a:lnTo>
                        <a:lnTo>
                          <a:pt x="389" y="518"/>
                        </a:lnTo>
                        <a:lnTo>
                          <a:pt x="470" y="414"/>
                        </a:lnTo>
                        <a:lnTo>
                          <a:pt x="540" y="323"/>
                        </a:lnTo>
                        <a:lnTo>
                          <a:pt x="586" y="253"/>
                        </a:lnTo>
                        <a:lnTo>
                          <a:pt x="609" y="192"/>
                        </a:lnTo>
                        <a:lnTo>
                          <a:pt x="597" y="157"/>
                        </a:lnTo>
                        <a:lnTo>
                          <a:pt x="566" y="115"/>
                        </a:lnTo>
                        <a:lnTo>
                          <a:pt x="520" y="103"/>
                        </a:lnTo>
                        <a:lnTo>
                          <a:pt x="470" y="103"/>
                        </a:lnTo>
                        <a:lnTo>
                          <a:pt x="358" y="103"/>
                        </a:lnTo>
                        <a:lnTo>
                          <a:pt x="193" y="134"/>
                        </a:lnTo>
                        <a:lnTo>
                          <a:pt x="70" y="146"/>
                        </a:lnTo>
                        <a:lnTo>
                          <a:pt x="20" y="134"/>
                        </a:lnTo>
                        <a:lnTo>
                          <a:pt x="0" y="115"/>
                        </a:lnTo>
                        <a:lnTo>
                          <a:pt x="0" y="76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8" name=""/>
                  <p:cNvSpPr/>
                  <p:nvPr/>
                </p:nvSpPr>
                <p:spPr>
                  <a:xfrm rot="19838400">
                    <a:off x="8140680" y="5336280"/>
                    <a:ext cx="20088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992" h="770">
                        <a:moveTo>
                          <a:pt x="808" y="320"/>
                        </a:moveTo>
                        <a:lnTo>
                          <a:pt x="823" y="219"/>
                        </a:lnTo>
                        <a:lnTo>
                          <a:pt x="881" y="181"/>
                        </a:lnTo>
                        <a:lnTo>
                          <a:pt x="950" y="174"/>
                        </a:lnTo>
                        <a:lnTo>
                          <a:pt x="992" y="219"/>
                        </a:lnTo>
                        <a:lnTo>
                          <a:pt x="973" y="308"/>
                        </a:lnTo>
                        <a:lnTo>
                          <a:pt x="935" y="427"/>
                        </a:lnTo>
                        <a:lnTo>
                          <a:pt x="857" y="562"/>
                        </a:lnTo>
                        <a:lnTo>
                          <a:pt x="761" y="677"/>
                        </a:lnTo>
                        <a:lnTo>
                          <a:pt x="681" y="739"/>
                        </a:lnTo>
                        <a:lnTo>
                          <a:pt x="592" y="770"/>
                        </a:lnTo>
                        <a:lnTo>
                          <a:pt x="507" y="759"/>
                        </a:lnTo>
                        <a:lnTo>
                          <a:pt x="442" y="723"/>
                        </a:lnTo>
                        <a:lnTo>
                          <a:pt x="419" y="666"/>
                        </a:lnTo>
                        <a:lnTo>
                          <a:pt x="392" y="566"/>
                        </a:lnTo>
                        <a:lnTo>
                          <a:pt x="361" y="382"/>
                        </a:lnTo>
                        <a:lnTo>
                          <a:pt x="338" y="254"/>
                        </a:lnTo>
                        <a:lnTo>
                          <a:pt x="338" y="104"/>
                        </a:lnTo>
                        <a:lnTo>
                          <a:pt x="323" y="78"/>
                        </a:lnTo>
                        <a:lnTo>
                          <a:pt x="277" y="70"/>
                        </a:lnTo>
                        <a:lnTo>
                          <a:pt x="223" y="112"/>
                        </a:lnTo>
                        <a:lnTo>
                          <a:pt x="173" y="181"/>
                        </a:lnTo>
                        <a:lnTo>
                          <a:pt x="115" y="219"/>
                        </a:lnTo>
                        <a:lnTo>
                          <a:pt x="27" y="219"/>
                        </a:lnTo>
                        <a:lnTo>
                          <a:pt x="0" y="196"/>
                        </a:lnTo>
                        <a:lnTo>
                          <a:pt x="0" y="158"/>
                        </a:lnTo>
                        <a:lnTo>
                          <a:pt x="39" y="123"/>
                        </a:lnTo>
                        <a:lnTo>
                          <a:pt x="81" y="135"/>
                        </a:lnTo>
                        <a:lnTo>
                          <a:pt x="119" y="127"/>
                        </a:lnTo>
                        <a:lnTo>
                          <a:pt x="189" y="78"/>
                        </a:lnTo>
                        <a:lnTo>
                          <a:pt x="257" y="23"/>
                        </a:lnTo>
                        <a:lnTo>
                          <a:pt x="323" y="8"/>
                        </a:lnTo>
                        <a:lnTo>
                          <a:pt x="415" y="0"/>
                        </a:lnTo>
                        <a:lnTo>
                          <a:pt x="419" y="42"/>
                        </a:lnTo>
                        <a:lnTo>
                          <a:pt x="397" y="89"/>
                        </a:lnTo>
                        <a:lnTo>
                          <a:pt x="392" y="208"/>
                        </a:lnTo>
                        <a:lnTo>
                          <a:pt x="419" y="366"/>
                        </a:lnTo>
                        <a:lnTo>
                          <a:pt x="462" y="520"/>
                        </a:lnTo>
                        <a:lnTo>
                          <a:pt x="499" y="612"/>
                        </a:lnTo>
                        <a:lnTo>
                          <a:pt x="558" y="655"/>
                        </a:lnTo>
                        <a:lnTo>
                          <a:pt x="615" y="655"/>
                        </a:lnTo>
                        <a:lnTo>
                          <a:pt x="673" y="612"/>
                        </a:lnTo>
                        <a:lnTo>
                          <a:pt x="750" y="515"/>
                        </a:lnTo>
                        <a:lnTo>
                          <a:pt x="800" y="377"/>
                        </a:lnTo>
                        <a:lnTo>
                          <a:pt x="808" y="32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9" name=""/>
                  <p:cNvSpPr/>
                  <p:nvPr/>
                </p:nvSpPr>
                <p:spPr>
                  <a:xfrm rot="21255000">
                    <a:off x="8236800" y="5094360"/>
                    <a:ext cx="82080" cy="145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9" h="1216">
                        <a:moveTo>
                          <a:pt x="445" y="923"/>
                        </a:moveTo>
                        <a:lnTo>
                          <a:pt x="560" y="1039"/>
                        </a:lnTo>
                        <a:lnTo>
                          <a:pt x="606" y="1039"/>
                        </a:lnTo>
                        <a:lnTo>
                          <a:pt x="684" y="1086"/>
                        </a:lnTo>
                        <a:lnTo>
                          <a:pt x="699" y="1139"/>
                        </a:lnTo>
                        <a:lnTo>
                          <a:pt x="676" y="1208"/>
                        </a:lnTo>
                        <a:lnTo>
                          <a:pt x="614" y="1216"/>
                        </a:lnTo>
                        <a:lnTo>
                          <a:pt x="537" y="1162"/>
                        </a:lnTo>
                        <a:lnTo>
                          <a:pt x="383" y="1016"/>
                        </a:lnTo>
                        <a:lnTo>
                          <a:pt x="284" y="878"/>
                        </a:lnTo>
                        <a:lnTo>
                          <a:pt x="237" y="769"/>
                        </a:lnTo>
                        <a:lnTo>
                          <a:pt x="206" y="585"/>
                        </a:lnTo>
                        <a:lnTo>
                          <a:pt x="206" y="346"/>
                        </a:lnTo>
                        <a:lnTo>
                          <a:pt x="198" y="285"/>
                        </a:lnTo>
                        <a:lnTo>
                          <a:pt x="153" y="239"/>
                        </a:lnTo>
                        <a:lnTo>
                          <a:pt x="22" y="247"/>
                        </a:lnTo>
                        <a:lnTo>
                          <a:pt x="0" y="223"/>
                        </a:lnTo>
                        <a:lnTo>
                          <a:pt x="29" y="208"/>
                        </a:lnTo>
                        <a:lnTo>
                          <a:pt x="122" y="200"/>
                        </a:lnTo>
                        <a:lnTo>
                          <a:pt x="138" y="185"/>
                        </a:lnTo>
                        <a:lnTo>
                          <a:pt x="6" y="107"/>
                        </a:lnTo>
                        <a:lnTo>
                          <a:pt x="6" y="77"/>
                        </a:lnTo>
                        <a:lnTo>
                          <a:pt x="29" y="70"/>
                        </a:lnTo>
                        <a:lnTo>
                          <a:pt x="138" y="130"/>
                        </a:lnTo>
                        <a:lnTo>
                          <a:pt x="161" y="123"/>
                        </a:lnTo>
                        <a:lnTo>
                          <a:pt x="138" y="8"/>
                        </a:lnTo>
                        <a:lnTo>
                          <a:pt x="153" y="0"/>
                        </a:lnTo>
                        <a:lnTo>
                          <a:pt x="169" y="8"/>
                        </a:lnTo>
                        <a:lnTo>
                          <a:pt x="198" y="123"/>
                        </a:lnTo>
                        <a:lnTo>
                          <a:pt x="222" y="130"/>
                        </a:lnTo>
                        <a:lnTo>
                          <a:pt x="284" y="8"/>
                        </a:lnTo>
                        <a:lnTo>
                          <a:pt x="299" y="8"/>
                        </a:lnTo>
                        <a:lnTo>
                          <a:pt x="299" y="46"/>
                        </a:lnTo>
                        <a:lnTo>
                          <a:pt x="260" y="146"/>
                        </a:lnTo>
                        <a:lnTo>
                          <a:pt x="260" y="200"/>
                        </a:lnTo>
                        <a:lnTo>
                          <a:pt x="276" y="270"/>
                        </a:lnTo>
                        <a:lnTo>
                          <a:pt x="268" y="361"/>
                        </a:lnTo>
                        <a:lnTo>
                          <a:pt x="276" y="531"/>
                        </a:lnTo>
                        <a:lnTo>
                          <a:pt x="291" y="639"/>
                        </a:lnTo>
                        <a:lnTo>
                          <a:pt x="330" y="762"/>
                        </a:lnTo>
                        <a:lnTo>
                          <a:pt x="383" y="855"/>
                        </a:lnTo>
                        <a:lnTo>
                          <a:pt x="445" y="92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0" name=""/>
                  <p:cNvSpPr/>
                  <p:nvPr/>
                </p:nvSpPr>
                <p:spPr>
                  <a:xfrm rot="21255000">
                    <a:off x="8334720" y="5094360"/>
                    <a:ext cx="10728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15" h="1139">
                        <a:moveTo>
                          <a:pt x="15" y="1008"/>
                        </a:moveTo>
                        <a:lnTo>
                          <a:pt x="0" y="1061"/>
                        </a:lnTo>
                        <a:lnTo>
                          <a:pt x="15" y="1139"/>
                        </a:lnTo>
                        <a:lnTo>
                          <a:pt x="70" y="1139"/>
                        </a:lnTo>
                        <a:lnTo>
                          <a:pt x="231" y="1108"/>
                        </a:lnTo>
                        <a:lnTo>
                          <a:pt x="408" y="1046"/>
                        </a:lnTo>
                        <a:lnTo>
                          <a:pt x="554" y="946"/>
                        </a:lnTo>
                        <a:lnTo>
                          <a:pt x="639" y="816"/>
                        </a:lnTo>
                        <a:lnTo>
                          <a:pt x="715" y="593"/>
                        </a:lnTo>
                        <a:lnTo>
                          <a:pt x="738" y="385"/>
                        </a:lnTo>
                        <a:lnTo>
                          <a:pt x="738" y="285"/>
                        </a:lnTo>
                        <a:lnTo>
                          <a:pt x="777" y="224"/>
                        </a:lnTo>
                        <a:lnTo>
                          <a:pt x="845" y="200"/>
                        </a:lnTo>
                        <a:lnTo>
                          <a:pt x="907" y="200"/>
                        </a:lnTo>
                        <a:lnTo>
                          <a:pt x="915" y="169"/>
                        </a:lnTo>
                        <a:lnTo>
                          <a:pt x="823" y="177"/>
                        </a:lnTo>
                        <a:lnTo>
                          <a:pt x="808" y="154"/>
                        </a:lnTo>
                        <a:lnTo>
                          <a:pt x="884" y="70"/>
                        </a:lnTo>
                        <a:lnTo>
                          <a:pt x="868" y="47"/>
                        </a:lnTo>
                        <a:lnTo>
                          <a:pt x="853" y="62"/>
                        </a:lnTo>
                        <a:lnTo>
                          <a:pt x="792" y="123"/>
                        </a:lnTo>
                        <a:lnTo>
                          <a:pt x="777" y="123"/>
                        </a:lnTo>
                        <a:lnTo>
                          <a:pt x="777" y="16"/>
                        </a:lnTo>
                        <a:lnTo>
                          <a:pt x="761" y="0"/>
                        </a:lnTo>
                        <a:lnTo>
                          <a:pt x="738" y="8"/>
                        </a:lnTo>
                        <a:lnTo>
                          <a:pt x="746" y="123"/>
                        </a:lnTo>
                        <a:lnTo>
                          <a:pt x="730" y="131"/>
                        </a:lnTo>
                        <a:lnTo>
                          <a:pt x="668" y="70"/>
                        </a:lnTo>
                        <a:lnTo>
                          <a:pt x="623" y="62"/>
                        </a:lnTo>
                        <a:lnTo>
                          <a:pt x="631" y="93"/>
                        </a:lnTo>
                        <a:lnTo>
                          <a:pt x="699" y="162"/>
                        </a:lnTo>
                        <a:lnTo>
                          <a:pt x="699" y="200"/>
                        </a:lnTo>
                        <a:lnTo>
                          <a:pt x="676" y="278"/>
                        </a:lnTo>
                        <a:lnTo>
                          <a:pt x="676" y="346"/>
                        </a:lnTo>
                        <a:lnTo>
                          <a:pt x="676" y="462"/>
                        </a:lnTo>
                        <a:lnTo>
                          <a:pt x="645" y="608"/>
                        </a:lnTo>
                        <a:lnTo>
                          <a:pt x="615" y="700"/>
                        </a:lnTo>
                        <a:lnTo>
                          <a:pt x="561" y="816"/>
                        </a:lnTo>
                        <a:lnTo>
                          <a:pt x="499" y="908"/>
                        </a:lnTo>
                        <a:lnTo>
                          <a:pt x="454" y="954"/>
                        </a:lnTo>
                        <a:lnTo>
                          <a:pt x="330" y="993"/>
                        </a:lnTo>
                        <a:lnTo>
                          <a:pt x="215" y="1008"/>
                        </a:lnTo>
                        <a:lnTo>
                          <a:pt x="99" y="1024"/>
                        </a:lnTo>
                        <a:lnTo>
                          <a:pt x="15" y="100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781" name=""/>
              <p:cNvSpPr/>
              <p:nvPr/>
            </p:nvSpPr>
            <p:spPr>
              <a:xfrm>
                <a:off x="7925040" y="4953960"/>
                <a:ext cx="723600" cy="723600"/>
              </a:xfrm>
              <a:prstGeom prst="ellipse">
                <a:avLst/>
              </a:prstGeom>
              <a:noFill/>
              <a:ln w="63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82" name=""/>
            <p:cNvGrpSpPr/>
            <p:nvPr/>
          </p:nvGrpSpPr>
          <p:grpSpPr>
            <a:xfrm>
              <a:off x="7963200" y="5029560"/>
              <a:ext cx="342720" cy="190440"/>
              <a:chOff x="7963200" y="5029560"/>
              <a:chExt cx="342720" cy="190440"/>
            </a:xfrm>
          </p:grpSpPr>
          <p:grpSp>
            <p:nvGrpSpPr>
              <p:cNvPr id="5783" name=""/>
              <p:cNvGrpSpPr/>
              <p:nvPr/>
            </p:nvGrpSpPr>
            <p:grpSpPr>
              <a:xfrm>
                <a:off x="8024400" y="5029920"/>
                <a:ext cx="203040" cy="166680"/>
                <a:chOff x="8024400" y="5029920"/>
                <a:chExt cx="203040" cy="166680"/>
              </a:xfrm>
            </p:grpSpPr>
            <p:sp>
              <p:nvSpPr>
                <p:cNvPr id="5784" name=""/>
                <p:cNvSpPr/>
                <p:nvPr/>
              </p:nvSpPr>
              <p:spPr>
                <a:xfrm>
                  <a:off x="8024400" y="5029920"/>
                  <a:ext cx="203040" cy="142920"/>
                </a:xfrm>
                <a:prstGeom prst="horizontalScroll">
                  <a:avLst>
                    <a:gd name="adj" fmla="val 12500"/>
                  </a:avLst>
                </a:prstGeom>
                <a:solidFill>
                  <a:srgbClr val="ffffff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baseline="-8000">
                      <a:solidFill>
                        <a:srgbClr val="000000"/>
                      </a:solidFill>
                      <a:latin typeface="Times New Roman"/>
                    </a:rPr>
                    <a:t>Exit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85" name=""/>
                <p:cNvSpPr/>
                <p:nvPr/>
              </p:nvSpPr>
              <p:spPr>
                <a:xfrm>
                  <a:off x="8125920" y="5160960"/>
                  <a:ext cx="0" cy="356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86" name=""/>
              <p:cNvSpPr/>
              <p:nvPr/>
            </p:nvSpPr>
            <p:spPr>
              <a:xfrm flipH="1" flipV="1">
                <a:off x="7963200" y="5029560"/>
                <a:ext cx="342720" cy="190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 flipV="1">
                <a:off x="7963200" y="5029560"/>
                <a:ext cx="342720" cy="190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88" name=""/>
            <p:cNvGrpSpPr/>
            <p:nvPr/>
          </p:nvGrpSpPr>
          <p:grpSpPr>
            <a:xfrm>
              <a:off x="4916160" y="5943960"/>
              <a:ext cx="719640" cy="719640"/>
              <a:chOff x="4916160" y="5943960"/>
              <a:chExt cx="719640" cy="719640"/>
            </a:xfrm>
          </p:grpSpPr>
          <p:sp>
            <p:nvSpPr>
              <p:cNvPr id="5789" name=""/>
              <p:cNvSpPr/>
              <p:nvPr/>
            </p:nvSpPr>
            <p:spPr>
              <a:xfrm>
                <a:off x="5180400" y="6351840"/>
                <a:ext cx="178200" cy="49680"/>
              </a:xfrm>
              <a:custGeom>
                <a:avLst/>
                <a:gdLst/>
                <a:ahLst/>
                <a:rect l="l" t="t" r="r" b="b"/>
                <a:pathLst>
                  <a:path w="672" h="200">
                    <a:moveTo>
                      <a:pt x="0" y="192"/>
                    </a:moveTo>
                    <a:cubicBezTo>
                      <a:pt x="184" y="96"/>
                      <a:pt x="368" y="0"/>
                      <a:pt x="432" y="0"/>
                    </a:cubicBezTo>
                    <a:cubicBezTo>
                      <a:pt x="496" y="0"/>
                      <a:pt x="344" y="184"/>
                      <a:pt x="384" y="192"/>
                    </a:cubicBezTo>
                    <a:cubicBezTo>
                      <a:pt x="424" y="200"/>
                      <a:pt x="548" y="124"/>
                      <a:pt x="672" y="48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790" name=""/>
              <p:cNvGrpSpPr/>
              <p:nvPr/>
            </p:nvGrpSpPr>
            <p:grpSpPr>
              <a:xfrm>
                <a:off x="5193000" y="6161040"/>
                <a:ext cx="197280" cy="226080"/>
                <a:chOff x="5193000" y="6161040"/>
                <a:chExt cx="197280" cy="226080"/>
              </a:xfrm>
            </p:grpSpPr>
            <p:sp>
              <p:nvSpPr>
                <p:cNvPr id="5791" name=""/>
                <p:cNvSpPr/>
                <p:nvPr/>
              </p:nvSpPr>
              <p:spPr>
                <a:xfrm>
                  <a:off x="5288760" y="6193440"/>
                  <a:ext cx="52920" cy="50040"/>
                </a:xfrm>
                <a:custGeom>
                  <a:avLst/>
                  <a:gdLst/>
                  <a:ahLst/>
                  <a:rect l="l" t="t" r="r" b="b"/>
                  <a:pathLst>
                    <a:path w="603" h="570">
                      <a:moveTo>
                        <a:pt x="390" y="270"/>
                      </a:moveTo>
                      <a:lnTo>
                        <a:pt x="374" y="166"/>
                      </a:lnTo>
                      <a:lnTo>
                        <a:pt x="343" y="72"/>
                      </a:lnTo>
                      <a:lnTo>
                        <a:pt x="286" y="22"/>
                      </a:lnTo>
                      <a:lnTo>
                        <a:pt x="186" y="0"/>
                      </a:lnTo>
                      <a:lnTo>
                        <a:pt x="100" y="22"/>
                      </a:lnTo>
                      <a:lnTo>
                        <a:pt x="19" y="115"/>
                      </a:lnTo>
                      <a:lnTo>
                        <a:pt x="0" y="227"/>
                      </a:lnTo>
                      <a:lnTo>
                        <a:pt x="19" y="346"/>
                      </a:lnTo>
                      <a:lnTo>
                        <a:pt x="50" y="419"/>
                      </a:lnTo>
                      <a:lnTo>
                        <a:pt x="89" y="494"/>
                      </a:lnTo>
                      <a:lnTo>
                        <a:pt x="131" y="545"/>
                      </a:lnTo>
                      <a:lnTo>
                        <a:pt x="178" y="570"/>
                      </a:lnTo>
                      <a:lnTo>
                        <a:pt x="243" y="548"/>
                      </a:lnTo>
                      <a:lnTo>
                        <a:pt x="309" y="497"/>
                      </a:lnTo>
                      <a:lnTo>
                        <a:pt x="351" y="426"/>
                      </a:lnTo>
                      <a:lnTo>
                        <a:pt x="390" y="365"/>
                      </a:lnTo>
                      <a:lnTo>
                        <a:pt x="402" y="328"/>
                      </a:lnTo>
                      <a:lnTo>
                        <a:pt x="567" y="275"/>
                      </a:lnTo>
                      <a:lnTo>
                        <a:pt x="603" y="253"/>
                      </a:lnTo>
                      <a:lnTo>
                        <a:pt x="583" y="220"/>
                      </a:lnTo>
                      <a:lnTo>
                        <a:pt x="390" y="27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92" name=""/>
                <p:cNvSpPr/>
                <p:nvPr/>
              </p:nvSpPr>
              <p:spPr>
                <a:xfrm>
                  <a:off x="5262480" y="6247440"/>
                  <a:ext cx="54720" cy="89640"/>
                </a:xfrm>
                <a:custGeom>
                  <a:avLst/>
                  <a:gdLst/>
                  <a:ahLst/>
                  <a:rect l="l" t="t" r="r" b="b"/>
                  <a:pathLst>
                    <a:path w="622" h="1018">
                      <a:moveTo>
                        <a:pt x="209" y="152"/>
                      </a:moveTo>
                      <a:lnTo>
                        <a:pt x="285" y="76"/>
                      </a:lnTo>
                      <a:lnTo>
                        <a:pt x="413" y="4"/>
                      </a:lnTo>
                      <a:lnTo>
                        <a:pt x="471" y="0"/>
                      </a:lnTo>
                      <a:lnTo>
                        <a:pt x="575" y="33"/>
                      </a:lnTo>
                      <a:lnTo>
                        <a:pt x="622" y="80"/>
                      </a:lnTo>
                      <a:lnTo>
                        <a:pt x="622" y="152"/>
                      </a:lnTo>
                      <a:lnTo>
                        <a:pt x="544" y="285"/>
                      </a:lnTo>
                      <a:lnTo>
                        <a:pt x="460" y="390"/>
                      </a:lnTo>
                      <a:lnTo>
                        <a:pt x="424" y="477"/>
                      </a:lnTo>
                      <a:lnTo>
                        <a:pt x="401" y="578"/>
                      </a:lnTo>
                      <a:lnTo>
                        <a:pt x="424" y="675"/>
                      </a:lnTo>
                      <a:lnTo>
                        <a:pt x="447" y="769"/>
                      </a:lnTo>
                      <a:lnTo>
                        <a:pt x="447" y="877"/>
                      </a:lnTo>
                      <a:lnTo>
                        <a:pt x="413" y="942"/>
                      </a:lnTo>
                      <a:lnTo>
                        <a:pt x="335" y="979"/>
                      </a:lnTo>
                      <a:lnTo>
                        <a:pt x="243" y="1018"/>
                      </a:lnTo>
                      <a:lnTo>
                        <a:pt x="158" y="1018"/>
                      </a:lnTo>
                      <a:lnTo>
                        <a:pt x="100" y="989"/>
                      </a:lnTo>
                      <a:lnTo>
                        <a:pt x="24" y="870"/>
                      </a:lnTo>
                      <a:lnTo>
                        <a:pt x="0" y="748"/>
                      </a:lnTo>
                      <a:lnTo>
                        <a:pt x="8" y="589"/>
                      </a:lnTo>
                      <a:lnTo>
                        <a:pt x="66" y="390"/>
                      </a:lnTo>
                      <a:lnTo>
                        <a:pt x="123" y="261"/>
                      </a:lnTo>
                      <a:lnTo>
                        <a:pt x="209" y="15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93" name=""/>
                <p:cNvSpPr/>
                <p:nvPr/>
              </p:nvSpPr>
              <p:spPr>
                <a:xfrm>
                  <a:off x="5266440" y="6320520"/>
                  <a:ext cx="68760" cy="66600"/>
                </a:xfrm>
                <a:custGeom>
                  <a:avLst/>
                  <a:gdLst/>
                  <a:ahLst/>
                  <a:rect l="l" t="t" r="r" b="b"/>
                  <a:pathLst>
                    <a:path w="784" h="758">
                      <a:moveTo>
                        <a:pt x="0" y="72"/>
                      </a:moveTo>
                      <a:lnTo>
                        <a:pt x="65" y="0"/>
                      </a:lnTo>
                      <a:lnTo>
                        <a:pt x="163" y="0"/>
                      </a:lnTo>
                      <a:lnTo>
                        <a:pt x="344" y="18"/>
                      </a:lnTo>
                      <a:lnTo>
                        <a:pt x="557" y="28"/>
                      </a:lnTo>
                      <a:lnTo>
                        <a:pt x="638" y="62"/>
                      </a:lnTo>
                      <a:lnTo>
                        <a:pt x="672" y="104"/>
                      </a:lnTo>
                      <a:lnTo>
                        <a:pt x="680" y="169"/>
                      </a:lnTo>
                      <a:lnTo>
                        <a:pt x="656" y="238"/>
                      </a:lnTo>
                      <a:lnTo>
                        <a:pt x="591" y="342"/>
                      </a:lnTo>
                      <a:lnTo>
                        <a:pt x="506" y="429"/>
                      </a:lnTo>
                      <a:lnTo>
                        <a:pt x="440" y="508"/>
                      </a:lnTo>
                      <a:lnTo>
                        <a:pt x="414" y="569"/>
                      </a:lnTo>
                      <a:lnTo>
                        <a:pt x="394" y="613"/>
                      </a:lnTo>
                      <a:lnTo>
                        <a:pt x="401" y="646"/>
                      </a:lnTo>
                      <a:lnTo>
                        <a:pt x="406" y="667"/>
                      </a:lnTo>
                      <a:lnTo>
                        <a:pt x="483" y="667"/>
                      </a:lnTo>
                      <a:lnTo>
                        <a:pt x="603" y="649"/>
                      </a:lnTo>
                      <a:lnTo>
                        <a:pt x="680" y="649"/>
                      </a:lnTo>
                      <a:lnTo>
                        <a:pt x="761" y="678"/>
                      </a:lnTo>
                      <a:lnTo>
                        <a:pt x="784" y="714"/>
                      </a:lnTo>
                      <a:lnTo>
                        <a:pt x="761" y="747"/>
                      </a:lnTo>
                      <a:lnTo>
                        <a:pt x="726" y="758"/>
                      </a:lnTo>
                      <a:lnTo>
                        <a:pt x="672" y="743"/>
                      </a:lnTo>
                      <a:lnTo>
                        <a:pt x="599" y="703"/>
                      </a:lnTo>
                      <a:lnTo>
                        <a:pt x="521" y="710"/>
                      </a:lnTo>
                      <a:lnTo>
                        <a:pt x="394" y="732"/>
                      </a:lnTo>
                      <a:lnTo>
                        <a:pt x="356" y="725"/>
                      </a:lnTo>
                      <a:lnTo>
                        <a:pt x="336" y="700"/>
                      </a:lnTo>
                      <a:lnTo>
                        <a:pt x="336" y="639"/>
                      </a:lnTo>
                      <a:lnTo>
                        <a:pt x="336" y="552"/>
                      </a:lnTo>
                      <a:lnTo>
                        <a:pt x="390" y="486"/>
                      </a:lnTo>
                      <a:lnTo>
                        <a:pt x="471" y="389"/>
                      </a:lnTo>
                      <a:lnTo>
                        <a:pt x="541" y="303"/>
                      </a:lnTo>
                      <a:lnTo>
                        <a:pt x="588" y="238"/>
                      </a:lnTo>
                      <a:lnTo>
                        <a:pt x="611" y="181"/>
                      </a:lnTo>
                      <a:lnTo>
                        <a:pt x="599" y="148"/>
                      </a:lnTo>
                      <a:lnTo>
                        <a:pt x="568" y="108"/>
                      </a:lnTo>
                      <a:lnTo>
                        <a:pt x="521" y="97"/>
                      </a:lnTo>
                      <a:lnTo>
                        <a:pt x="471" y="97"/>
                      </a:lnTo>
                      <a:lnTo>
                        <a:pt x="359" y="97"/>
                      </a:lnTo>
                      <a:lnTo>
                        <a:pt x="193" y="126"/>
                      </a:lnTo>
                      <a:lnTo>
                        <a:pt x="70" y="137"/>
                      </a:lnTo>
                      <a:lnTo>
                        <a:pt x="20" y="126"/>
                      </a:lnTo>
                      <a:lnTo>
                        <a:pt x="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94" name=""/>
                <p:cNvSpPr/>
                <p:nvPr/>
              </p:nvSpPr>
              <p:spPr>
                <a:xfrm>
                  <a:off x="5193000" y="6304680"/>
                  <a:ext cx="87840" cy="64440"/>
                </a:xfrm>
                <a:custGeom>
                  <a:avLst/>
                  <a:gdLst/>
                  <a:ahLst/>
                  <a:rect l="l" t="t" r="r" b="b"/>
                  <a:pathLst>
                    <a:path w="996" h="722">
                      <a:moveTo>
                        <a:pt x="811" y="300"/>
                      </a:moveTo>
                      <a:lnTo>
                        <a:pt x="827" y="206"/>
                      </a:lnTo>
                      <a:lnTo>
                        <a:pt x="884" y="170"/>
                      </a:lnTo>
                      <a:lnTo>
                        <a:pt x="954" y="163"/>
                      </a:lnTo>
                      <a:lnTo>
                        <a:pt x="996" y="206"/>
                      </a:lnTo>
                      <a:lnTo>
                        <a:pt x="977" y="288"/>
                      </a:lnTo>
                      <a:lnTo>
                        <a:pt x="939" y="400"/>
                      </a:lnTo>
                      <a:lnTo>
                        <a:pt x="861" y="527"/>
                      </a:lnTo>
                      <a:lnTo>
                        <a:pt x="764" y="635"/>
                      </a:lnTo>
                      <a:lnTo>
                        <a:pt x="683" y="693"/>
                      </a:lnTo>
                      <a:lnTo>
                        <a:pt x="595" y="722"/>
                      </a:lnTo>
                      <a:lnTo>
                        <a:pt x="509" y="711"/>
                      </a:lnTo>
                      <a:lnTo>
                        <a:pt x="444" y="678"/>
                      </a:lnTo>
                      <a:lnTo>
                        <a:pt x="420" y="624"/>
                      </a:lnTo>
                      <a:lnTo>
                        <a:pt x="394" y="531"/>
                      </a:lnTo>
                      <a:lnTo>
                        <a:pt x="363" y="358"/>
                      </a:lnTo>
                      <a:lnTo>
                        <a:pt x="339" y="239"/>
                      </a:lnTo>
                      <a:lnTo>
                        <a:pt x="339" y="98"/>
                      </a:lnTo>
                      <a:lnTo>
                        <a:pt x="324" y="73"/>
                      </a:lnTo>
                      <a:lnTo>
                        <a:pt x="278" y="66"/>
                      </a:lnTo>
                      <a:lnTo>
                        <a:pt x="224" y="105"/>
                      </a:lnTo>
                      <a:lnTo>
                        <a:pt x="174" y="170"/>
                      </a:lnTo>
                      <a:lnTo>
                        <a:pt x="115" y="206"/>
                      </a:lnTo>
                      <a:lnTo>
                        <a:pt x="27" y="206"/>
                      </a:lnTo>
                      <a:lnTo>
                        <a:pt x="0" y="184"/>
                      </a:lnTo>
                      <a:lnTo>
                        <a:pt x="0" y="149"/>
                      </a:lnTo>
                      <a:lnTo>
                        <a:pt x="39" y="115"/>
                      </a:lnTo>
                      <a:lnTo>
                        <a:pt x="81" y="127"/>
                      </a:lnTo>
                      <a:lnTo>
                        <a:pt x="120" y="119"/>
                      </a:lnTo>
                      <a:lnTo>
                        <a:pt x="190" y="73"/>
                      </a:lnTo>
                      <a:lnTo>
                        <a:pt x="258" y="22"/>
                      </a:lnTo>
                      <a:lnTo>
                        <a:pt x="324" y="8"/>
                      </a:lnTo>
                      <a:lnTo>
                        <a:pt x="417" y="0"/>
                      </a:lnTo>
                      <a:lnTo>
                        <a:pt x="420" y="40"/>
                      </a:lnTo>
                      <a:lnTo>
                        <a:pt x="398" y="83"/>
                      </a:lnTo>
                      <a:lnTo>
                        <a:pt x="394" y="195"/>
                      </a:lnTo>
                      <a:lnTo>
                        <a:pt x="420" y="343"/>
                      </a:lnTo>
                      <a:lnTo>
                        <a:pt x="464" y="487"/>
                      </a:lnTo>
                      <a:lnTo>
                        <a:pt x="501" y="573"/>
                      </a:lnTo>
                      <a:lnTo>
                        <a:pt x="560" y="614"/>
                      </a:lnTo>
                      <a:lnTo>
                        <a:pt x="618" y="614"/>
                      </a:lnTo>
                      <a:lnTo>
                        <a:pt x="676" y="573"/>
                      </a:lnTo>
                      <a:lnTo>
                        <a:pt x="753" y="483"/>
                      </a:lnTo>
                      <a:lnTo>
                        <a:pt x="803" y="354"/>
                      </a:lnTo>
                      <a:lnTo>
                        <a:pt x="811" y="3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95" name=""/>
                <p:cNvSpPr/>
                <p:nvPr/>
              </p:nvSpPr>
              <p:spPr>
                <a:xfrm>
                  <a:off x="5234040" y="6161040"/>
                  <a:ext cx="61560" cy="100800"/>
                </a:xfrm>
                <a:custGeom>
                  <a:avLst/>
                  <a:gdLst/>
                  <a:ahLst/>
                  <a:rect l="l" t="t" r="r" b="b"/>
                  <a:pathLst>
                    <a:path w="703" h="1140">
                      <a:moveTo>
                        <a:pt x="448" y="865"/>
                      </a:moveTo>
                      <a:lnTo>
                        <a:pt x="563" y="974"/>
                      </a:lnTo>
                      <a:lnTo>
                        <a:pt x="610" y="974"/>
                      </a:lnTo>
                      <a:lnTo>
                        <a:pt x="687" y="1018"/>
                      </a:lnTo>
                      <a:lnTo>
                        <a:pt x="703" y="1067"/>
                      </a:lnTo>
                      <a:lnTo>
                        <a:pt x="679" y="1133"/>
                      </a:lnTo>
                      <a:lnTo>
                        <a:pt x="617" y="1140"/>
                      </a:lnTo>
                      <a:lnTo>
                        <a:pt x="540" y="1089"/>
                      </a:lnTo>
                      <a:lnTo>
                        <a:pt x="385" y="952"/>
                      </a:lnTo>
                      <a:lnTo>
                        <a:pt x="286" y="823"/>
                      </a:lnTo>
                      <a:lnTo>
                        <a:pt x="239" y="721"/>
                      </a:lnTo>
                      <a:lnTo>
                        <a:pt x="208" y="548"/>
                      </a:lnTo>
                      <a:lnTo>
                        <a:pt x="208" y="324"/>
                      </a:lnTo>
                      <a:lnTo>
                        <a:pt x="200" y="267"/>
                      </a:lnTo>
                      <a:lnTo>
                        <a:pt x="155" y="224"/>
                      </a:lnTo>
                      <a:lnTo>
                        <a:pt x="23" y="231"/>
                      </a:lnTo>
                      <a:lnTo>
                        <a:pt x="0" y="209"/>
                      </a:lnTo>
                      <a:lnTo>
                        <a:pt x="30" y="195"/>
                      </a:lnTo>
                      <a:lnTo>
                        <a:pt x="124" y="188"/>
                      </a:lnTo>
                      <a:lnTo>
                        <a:pt x="139" y="173"/>
                      </a:lnTo>
                      <a:lnTo>
                        <a:pt x="7" y="101"/>
                      </a:lnTo>
                      <a:lnTo>
                        <a:pt x="7" y="73"/>
                      </a:lnTo>
                      <a:lnTo>
                        <a:pt x="30" y="65"/>
                      </a:lnTo>
                      <a:lnTo>
                        <a:pt x="139" y="122"/>
                      </a:lnTo>
                      <a:lnTo>
                        <a:pt x="162" y="115"/>
                      </a:lnTo>
                      <a:lnTo>
                        <a:pt x="139" y="7"/>
                      </a:lnTo>
                      <a:lnTo>
                        <a:pt x="155" y="0"/>
                      </a:lnTo>
                      <a:lnTo>
                        <a:pt x="170" y="7"/>
                      </a:lnTo>
                      <a:lnTo>
                        <a:pt x="200" y="115"/>
                      </a:lnTo>
                      <a:lnTo>
                        <a:pt x="223" y="122"/>
                      </a:lnTo>
                      <a:lnTo>
                        <a:pt x="286" y="7"/>
                      </a:lnTo>
                      <a:lnTo>
                        <a:pt x="301" y="7"/>
                      </a:lnTo>
                      <a:lnTo>
                        <a:pt x="301" y="44"/>
                      </a:lnTo>
                      <a:lnTo>
                        <a:pt x="262" y="137"/>
                      </a:lnTo>
                      <a:lnTo>
                        <a:pt x="262" y="188"/>
                      </a:lnTo>
                      <a:lnTo>
                        <a:pt x="278" y="253"/>
                      </a:lnTo>
                      <a:lnTo>
                        <a:pt x="270" y="339"/>
                      </a:lnTo>
                      <a:lnTo>
                        <a:pt x="278" y="497"/>
                      </a:lnTo>
                      <a:lnTo>
                        <a:pt x="293" y="599"/>
                      </a:lnTo>
                      <a:lnTo>
                        <a:pt x="332" y="714"/>
                      </a:lnTo>
                      <a:lnTo>
                        <a:pt x="385" y="801"/>
                      </a:lnTo>
                      <a:lnTo>
                        <a:pt x="448" y="86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96" name=""/>
                <p:cNvSpPr/>
                <p:nvPr/>
              </p:nvSpPr>
              <p:spPr>
                <a:xfrm>
                  <a:off x="5309640" y="6169680"/>
                  <a:ext cx="80640" cy="94320"/>
                </a:xfrm>
                <a:custGeom>
                  <a:avLst/>
                  <a:gdLst/>
                  <a:ahLst/>
                  <a:rect l="l" t="t" r="r" b="b"/>
                  <a:pathLst>
                    <a:path w="919" h="1067">
                      <a:moveTo>
                        <a:pt x="16" y="945"/>
                      </a:moveTo>
                      <a:lnTo>
                        <a:pt x="0" y="994"/>
                      </a:lnTo>
                      <a:lnTo>
                        <a:pt x="16" y="1067"/>
                      </a:lnTo>
                      <a:lnTo>
                        <a:pt x="70" y="1067"/>
                      </a:lnTo>
                      <a:lnTo>
                        <a:pt x="232" y="1038"/>
                      </a:lnTo>
                      <a:lnTo>
                        <a:pt x="410" y="980"/>
                      </a:lnTo>
                      <a:lnTo>
                        <a:pt x="556" y="887"/>
                      </a:lnTo>
                      <a:lnTo>
                        <a:pt x="642" y="764"/>
                      </a:lnTo>
                      <a:lnTo>
                        <a:pt x="718" y="555"/>
                      </a:lnTo>
                      <a:lnTo>
                        <a:pt x="741" y="360"/>
                      </a:lnTo>
                      <a:lnTo>
                        <a:pt x="741" y="267"/>
                      </a:lnTo>
                      <a:lnTo>
                        <a:pt x="780" y="209"/>
                      </a:lnTo>
                      <a:lnTo>
                        <a:pt x="849" y="187"/>
                      </a:lnTo>
                      <a:lnTo>
                        <a:pt x="911" y="187"/>
                      </a:lnTo>
                      <a:lnTo>
                        <a:pt x="919" y="158"/>
                      </a:lnTo>
                      <a:lnTo>
                        <a:pt x="827" y="165"/>
                      </a:lnTo>
                      <a:lnTo>
                        <a:pt x="811" y="144"/>
                      </a:lnTo>
                      <a:lnTo>
                        <a:pt x="888" y="65"/>
                      </a:lnTo>
                      <a:lnTo>
                        <a:pt x="872" y="43"/>
                      </a:lnTo>
                      <a:lnTo>
                        <a:pt x="857" y="58"/>
                      </a:lnTo>
                      <a:lnTo>
                        <a:pt x="796" y="115"/>
                      </a:lnTo>
                      <a:lnTo>
                        <a:pt x="780" y="115"/>
                      </a:lnTo>
                      <a:lnTo>
                        <a:pt x="780" y="14"/>
                      </a:lnTo>
                      <a:lnTo>
                        <a:pt x="765" y="0"/>
                      </a:lnTo>
                      <a:lnTo>
                        <a:pt x="741" y="7"/>
                      </a:lnTo>
                      <a:lnTo>
                        <a:pt x="749" y="115"/>
                      </a:lnTo>
                      <a:lnTo>
                        <a:pt x="734" y="122"/>
                      </a:lnTo>
                      <a:lnTo>
                        <a:pt x="671" y="65"/>
                      </a:lnTo>
                      <a:lnTo>
                        <a:pt x="626" y="58"/>
                      </a:lnTo>
                      <a:lnTo>
                        <a:pt x="634" y="87"/>
                      </a:lnTo>
                      <a:lnTo>
                        <a:pt x="703" y="151"/>
                      </a:lnTo>
                      <a:lnTo>
                        <a:pt x="703" y="187"/>
                      </a:lnTo>
                      <a:lnTo>
                        <a:pt x="679" y="260"/>
                      </a:lnTo>
                      <a:lnTo>
                        <a:pt x="679" y="324"/>
                      </a:lnTo>
                      <a:lnTo>
                        <a:pt x="679" y="433"/>
                      </a:lnTo>
                      <a:lnTo>
                        <a:pt x="648" y="570"/>
                      </a:lnTo>
                      <a:lnTo>
                        <a:pt x="618" y="656"/>
                      </a:lnTo>
                      <a:lnTo>
                        <a:pt x="564" y="764"/>
                      </a:lnTo>
                      <a:lnTo>
                        <a:pt x="502" y="850"/>
                      </a:lnTo>
                      <a:lnTo>
                        <a:pt x="456" y="894"/>
                      </a:lnTo>
                      <a:lnTo>
                        <a:pt x="332" y="930"/>
                      </a:lnTo>
                      <a:lnTo>
                        <a:pt x="217" y="945"/>
                      </a:lnTo>
                      <a:lnTo>
                        <a:pt x="100" y="959"/>
                      </a:lnTo>
                      <a:lnTo>
                        <a:pt x="16" y="9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97" name=""/>
              <p:cNvSpPr/>
              <p:nvPr/>
            </p:nvSpPr>
            <p:spPr>
              <a:xfrm>
                <a:off x="4977000" y="6208920"/>
                <a:ext cx="203040" cy="142560"/>
              </a:xfrm>
              <a:prstGeom prst="horizontalScroll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baseline="-8000">
                    <a:solidFill>
                      <a:srgbClr val="000000"/>
                    </a:solidFill>
                    <a:latin typeface="Times New Roman"/>
                  </a:rPr>
                  <a:t>79 km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5078520" y="6339600"/>
                <a:ext cx="0" cy="35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5371560" y="6208920"/>
                <a:ext cx="202680" cy="142560"/>
              </a:xfrm>
              <a:prstGeom prst="horizontalScroll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baseline="-8000">
                    <a:solidFill>
                      <a:srgbClr val="000000"/>
                    </a:solidFill>
                    <a:latin typeface="Times New Roman"/>
                  </a:rPr>
                  <a:t>75 km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5473080" y="6339600"/>
                <a:ext cx="0" cy="35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4916160" y="5943960"/>
                <a:ext cx="719640" cy="719640"/>
              </a:xfrm>
              <a:prstGeom prst="ellipse">
                <a:avLst/>
              </a:prstGeom>
              <a:noFill/>
              <a:ln w="63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02" name=""/>
            <p:cNvGrpSpPr/>
            <p:nvPr/>
          </p:nvGrpSpPr>
          <p:grpSpPr>
            <a:xfrm>
              <a:off x="4992480" y="5982120"/>
              <a:ext cx="342720" cy="190080"/>
              <a:chOff x="4992480" y="5982120"/>
              <a:chExt cx="342720" cy="190080"/>
            </a:xfrm>
          </p:grpSpPr>
          <p:grpSp>
            <p:nvGrpSpPr>
              <p:cNvPr id="5803" name=""/>
              <p:cNvGrpSpPr/>
              <p:nvPr/>
            </p:nvGrpSpPr>
            <p:grpSpPr>
              <a:xfrm>
                <a:off x="5053680" y="5982120"/>
                <a:ext cx="203040" cy="166320"/>
                <a:chOff x="5053680" y="5982120"/>
                <a:chExt cx="203040" cy="166320"/>
              </a:xfrm>
            </p:grpSpPr>
            <p:sp>
              <p:nvSpPr>
                <p:cNvPr id="5804" name=""/>
                <p:cNvSpPr/>
                <p:nvPr/>
              </p:nvSpPr>
              <p:spPr>
                <a:xfrm>
                  <a:off x="5053680" y="5982120"/>
                  <a:ext cx="203040" cy="142560"/>
                </a:xfrm>
                <a:prstGeom prst="horizontalScroll">
                  <a:avLst>
                    <a:gd name="adj" fmla="val 12500"/>
                  </a:avLst>
                </a:prstGeom>
                <a:solidFill>
                  <a:srgbClr val="ffffff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baseline="-8000">
                      <a:solidFill>
                        <a:srgbClr val="000000"/>
                      </a:solidFill>
                      <a:latin typeface="Times New Roman"/>
                    </a:rPr>
                    <a:t>Exit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05" name=""/>
                <p:cNvSpPr/>
                <p:nvPr/>
              </p:nvSpPr>
              <p:spPr>
                <a:xfrm>
                  <a:off x="5155200" y="6112800"/>
                  <a:ext cx="0" cy="356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06" name=""/>
              <p:cNvSpPr/>
              <p:nvPr/>
            </p:nvSpPr>
            <p:spPr>
              <a:xfrm flipH="1" flipV="1">
                <a:off x="4992480" y="5982120"/>
                <a:ext cx="342720" cy="1900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 flipV="1">
                <a:off x="4992480" y="5982120"/>
                <a:ext cx="342720" cy="1900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08" name=""/>
            <p:cNvSpPr/>
            <p:nvPr/>
          </p:nvSpPr>
          <p:spPr>
            <a:xfrm>
              <a:off x="6477840" y="4953960"/>
              <a:ext cx="609120" cy="45684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-8000">
                  <a:solidFill>
                    <a:srgbClr val="000000"/>
                  </a:solidFill>
                  <a:latin typeface="Times New Roman"/>
                </a:rPr>
                <a:t>Ex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6782400" y="5372640"/>
              <a:ext cx="0" cy="1141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10" name=""/>
            <p:cNvGrpSpPr/>
            <p:nvPr/>
          </p:nvGrpSpPr>
          <p:grpSpPr>
            <a:xfrm>
              <a:off x="7657920" y="6197760"/>
              <a:ext cx="164880" cy="134640"/>
              <a:chOff x="7657920" y="6197760"/>
              <a:chExt cx="164880" cy="134640"/>
            </a:xfrm>
          </p:grpSpPr>
          <p:sp>
            <p:nvSpPr>
              <p:cNvPr id="5811" name=""/>
              <p:cNvSpPr/>
              <p:nvPr/>
            </p:nvSpPr>
            <p:spPr>
              <a:xfrm>
                <a:off x="7657920" y="6197760"/>
                <a:ext cx="164880" cy="115560"/>
              </a:xfrm>
              <a:prstGeom prst="horizontalScroll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baseline="-8000">
                    <a:solidFill>
                      <a:srgbClr val="000000"/>
                    </a:solidFill>
                    <a:latin typeface="Times New Roman"/>
                  </a:rPr>
                  <a:t>0 km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7740360" y="6303600"/>
                <a:ext cx="0" cy="28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13" name=""/>
            <p:cNvSpPr/>
            <p:nvPr/>
          </p:nvSpPr>
          <p:spPr>
            <a:xfrm>
              <a:off x="7608600" y="5969160"/>
              <a:ext cx="583200" cy="583920"/>
            </a:xfrm>
            <a:prstGeom prst="ellipse">
              <a:avLst/>
            </a:prstGeom>
            <a:noFill/>
            <a:ln w="63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14" name=""/>
            <p:cNvGrpSpPr/>
            <p:nvPr/>
          </p:nvGrpSpPr>
          <p:grpSpPr>
            <a:xfrm>
              <a:off x="7976880" y="6197760"/>
              <a:ext cx="164880" cy="134640"/>
              <a:chOff x="7976880" y="6197760"/>
              <a:chExt cx="164880" cy="134640"/>
            </a:xfrm>
          </p:grpSpPr>
          <p:sp>
            <p:nvSpPr>
              <p:cNvPr id="5815" name=""/>
              <p:cNvSpPr/>
              <p:nvPr/>
            </p:nvSpPr>
            <p:spPr>
              <a:xfrm>
                <a:off x="7976880" y="6197760"/>
                <a:ext cx="164880" cy="115560"/>
              </a:xfrm>
              <a:prstGeom prst="horizontalScroll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baseline="-8000">
                    <a:solidFill>
                      <a:srgbClr val="000000"/>
                    </a:solidFill>
                    <a:latin typeface="Times New Roman"/>
                  </a:rPr>
                  <a:t>Exit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8059320" y="6303600"/>
                <a:ext cx="0" cy="28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17" name=""/>
            <p:cNvSpPr/>
            <p:nvPr/>
          </p:nvSpPr>
          <p:spPr>
            <a:xfrm>
              <a:off x="7837200" y="6235920"/>
              <a:ext cx="114120" cy="37800"/>
            </a:xfrm>
            <a:prstGeom prst="rightArrow">
              <a:avLst>
                <a:gd name="adj1" fmla="val 50000"/>
                <a:gd name="adj2" fmla="val 75476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8" name="" descr=""/>
          <p:cNvPicPr/>
          <p:nvPr/>
        </p:nvPicPr>
        <p:blipFill>
          <a:blip r:embed="rId1"/>
          <a:stretch/>
        </p:blipFill>
        <p:spPr>
          <a:xfrm>
            <a:off x="614520" y="1266840"/>
            <a:ext cx="7914960" cy="5362560"/>
          </a:xfrm>
          <a:prstGeom prst="rect">
            <a:avLst/>
          </a:prstGeom>
          <a:ln w="0">
            <a:noFill/>
          </a:ln>
        </p:spPr>
      </p:pic>
      <p:sp>
        <p:nvSpPr>
          <p:cNvPr id="5819" name=""/>
          <p:cNvSpPr/>
          <p:nvPr/>
        </p:nvSpPr>
        <p:spPr>
          <a:xfrm>
            <a:off x="7621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'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0" name=""/>
          <p:cNvSpPr/>
          <p:nvPr/>
        </p:nvSpPr>
        <p:spPr>
          <a:xfrm>
            <a:off x="7621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'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21" name="" descr=""/>
          <p:cNvPicPr/>
          <p:nvPr/>
        </p:nvPicPr>
        <p:blipFill>
          <a:blip r:embed="rId1"/>
          <a:stretch/>
        </p:blipFill>
        <p:spPr>
          <a:xfrm>
            <a:off x="152280" y="1216080"/>
            <a:ext cx="8839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ph 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823" name=""/>
          <p:cNvGrpSpPr/>
          <p:nvPr/>
        </p:nvGrpSpPr>
        <p:grpSpPr>
          <a:xfrm>
            <a:off x="1103400" y="1056240"/>
            <a:ext cx="6817680" cy="740160"/>
            <a:chOff x="1103400" y="1056240"/>
            <a:chExt cx="6817680" cy="740160"/>
          </a:xfrm>
        </p:grpSpPr>
        <p:sp>
          <p:nvSpPr>
            <p:cNvPr id="5824" name=""/>
            <p:cNvSpPr/>
            <p:nvPr/>
          </p:nvSpPr>
          <p:spPr>
            <a:xfrm>
              <a:off x="2057400" y="1166760"/>
              <a:ext cx="5863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Handle some </a:t>
              </a: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foundNotHandled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node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25" name=""/>
            <p:cNvGrpSpPr/>
            <p:nvPr/>
          </p:nvGrpSpPr>
          <p:grpSpPr>
            <a:xfrm>
              <a:off x="1103400" y="1056240"/>
              <a:ext cx="690120" cy="740160"/>
              <a:chOff x="1103400" y="1056240"/>
              <a:chExt cx="690120" cy="740160"/>
            </a:xfrm>
          </p:grpSpPr>
          <p:sp>
            <p:nvSpPr>
              <p:cNvPr id="5826" name=""/>
              <p:cNvSpPr/>
              <p:nvPr/>
            </p:nvSpPr>
            <p:spPr>
              <a:xfrm rot="21255000">
                <a:off x="1449000" y="1134720"/>
                <a:ext cx="141120" cy="11736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 rot="21255000">
                <a:off x="1403280" y="1279080"/>
                <a:ext cx="145440" cy="26208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 rot="21255000">
                <a:off x="1504440" y="1495080"/>
                <a:ext cx="280440" cy="17928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 rot="19839000">
                <a:off x="1116000" y="1550520"/>
                <a:ext cx="401400" cy="15732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 rot="21255000">
                <a:off x="1307520" y="1066680"/>
                <a:ext cx="164880" cy="29232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 rot="21255000">
                <a:off x="1504800" y="1066320"/>
                <a:ext cx="213840" cy="24300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32" name=""/>
          <p:cNvSpPr/>
          <p:nvPr/>
        </p:nvSpPr>
        <p:spPr>
          <a:xfrm>
            <a:off x="838080" y="1812960"/>
            <a:ext cx="80010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Queue:  Handle in order found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readth-First Searc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ack: Handle most recently foun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epth-First Searc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iority Queue: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    Handle node that seems to be closest to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hortest (Weighted) Path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3" name=""/>
          <p:cNvSpPr/>
          <p:nvPr/>
        </p:nvSpPr>
        <p:spPr>
          <a:xfrm>
            <a:off x="533520" y="3048120"/>
            <a:ext cx="6248160" cy="1447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35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6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7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8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9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0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1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2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3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4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5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6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7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8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9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0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1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2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3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4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5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6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7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8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9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0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1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2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3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4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5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6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7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8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9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0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1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2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3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4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5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6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7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8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9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0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1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2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3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4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5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6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7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8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9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0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1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2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3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95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6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7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8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9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0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1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2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3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4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5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6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7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8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9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0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1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2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3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4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5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6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7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8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9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0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1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2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3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4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5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6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7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8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9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0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1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2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3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4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5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6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7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8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9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0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1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2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3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4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5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6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7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8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9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0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1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2" name=""/>
          <p:cNvSpPr/>
          <p:nvPr/>
        </p:nvSpPr>
        <p:spPr>
          <a:xfrm>
            <a:off x="7488000" y="493704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3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4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5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56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7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8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9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0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1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2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3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4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5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6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7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8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9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0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1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2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3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4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5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6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7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8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9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0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1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2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3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4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5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6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7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8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9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0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1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2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3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4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5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6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7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8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9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0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1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2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3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4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5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6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7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8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9" name=""/>
          <p:cNvSpPr/>
          <p:nvPr/>
        </p:nvSpPr>
        <p:spPr>
          <a:xfrm>
            <a:off x="7496280" y="48610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0" name=""/>
          <p:cNvSpPr/>
          <p:nvPr/>
        </p:nvSpPr>
        <p:spPr>
          <a:xfrm>
            <a:off x="7504200" y="3733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1" name=""/>
          <p:cNvSpPr/>
          <p:nvPr/>
        </p:nvSpPr>
        <p:spPr>
          <a:xfrm>
            <a:off x="7488360" y="4098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2" name=""/>
          <p:cNvSpPr/>
          <p:nvPr/>
        </p:nvSpPr>
        <p:spPr>
          <a:xfrm>
            <a:off x="7497720" y="45720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3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4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5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6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7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8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20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1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2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3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4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5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6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7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8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9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0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1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2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3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4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5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6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7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8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9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0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1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2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3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4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5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6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7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8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9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0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1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2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3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4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5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6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7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8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9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0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1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2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3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4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5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6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7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8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9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0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1" name=""/>
          <p:cNvSpPr/>
          <p:nvPr/>
        </p:nvSpPr>
        <p:spPr>
          <a:xfrm>
            <a:off x="7496280" y="48610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2" name=""/>
          <p:cNvSpPr/>
          <p:nvPr/>
        </p:nvSpPr>
        <p:spPr>
          <a:xfrm>
            <a:off x="7444800" y="373392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3" name=""/>
          <p:cNvSpPr/>
          <p:nvPr/>
        </p:nvSpPr>
        <p:spPr>
          <a:xfrm>
            <a:off x="7488360" y="4098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4" name=""/>
          <p:cNvSpPr/>
          <p:nvPr/>
        </p:nvSpPr>
        <p:spPr>
          <a:xfrm>
            <a:off x="7497720" y="45720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5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6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7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8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9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0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1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2" name=""/>
          <p:cNvSpPr/>
          <p:nvPr/>
        </p:nvSpPr>
        <p:spPr>
          <a:xfrm>
            <a:off x="7482240" y="341316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3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4" name="" descr=""/>
          <p:cNvPicPr/>
          <p:nvPr/>
        </p:nvPicPr>
        <p:blipFill>
          <a:blip r:embed="rId1"/>
          <a:stretch/>
        </p:blipFill>
        <p:spPr>
          <a:xfrm>
            <a:off x="1676520" y="1692360"/>
            <a:ext cx="8610480" cy="2651040"/>
          </a:xfrm>
          <a:prstGeom prst="rect">
            <a:avLst/>
          </a:prstGeom>
          <a:ln w="0">
            <a:noFill/>
          </a:ln>
        </p:spPr>
      </p:pic>
      <p:sp>
        <p:nvSpPr>
          <p:cNvPr id="6085" name=""/>
          <p:cNvSpPr/>
          <p:nvPr/>
        </p:nvSpPr>
        <p:spPr>
          <a:xfrm>
            <a:off x="6248520" y="1600200"/>
            <a:ext cx="4190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6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4419720" y="1206360"/>
            <a:ext cx="4572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e know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nodes are reachable from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because we have traced out a path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455360" y="2806560"/>
            <a:ext cx="4554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a node has been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handle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n all of its neighbors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ave been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ph Se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400800" y="228600"/>
            <a:ext cx="1181160" cy="1066680"/>
            <a:chOff x="6400800" y="228600"/>
            <a:chExt cx="1181160" cy="1066680"/>
          </a:xfrm>
        </p:grpSpPr>
        <p:sp>
          <p:nvSpPr>
            <p:cNvPr id="404" name=""/>
            <p:cNvSpPr/>
            <p:nvPr/>
          </p:nvSpPr>
          <p:spPr>
            <a:xfrm>
              <a:off x="6400800" y="228600"/>
              <a:ext cx="1181160" cy="106668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587280" y="317520"/>
              <a:ext cx="629640" cy="860400"/>
              <a:chOff x="6587280" y="317520"/>
              <a:chExt cx="629640" cy="86040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6587280" y="317520"/>
                <a:ext cx="592560" cy="842400"/>
                <a:chOff x="6587280" y="317520"/>
                <a:chExt cx="592560" cy="84240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6782760" y="459720"/>
                  <a:ext cx="102960" cy="177840"/>
                </a:xfrm>
                <a:custGeom>
                  <a:avLst/>
                  <a:gdLst/>
                  <a:ahLst/>
                  <a:rect l="l" t="t" r="r" b="b"/>
                  <a:pathLst>
                    <a:path w="434" h="514">
                      <a:moveTo>
                        <a:pt x="132" y="186"/>
                      </a:moveTo>
                      <a:lnTo>
                        <a:pt x="157" y="114"/>
                      </a:lnTo>
                      <a:lnTo>
                        <a:pt x="189" y="42"/>
                      </a:lnTo>
                      <a:lnTo>
                        <a:pt x="236" y="6"/>
                      </a:lnTo>
                      <a:lnTo>
                        <a:pt x="302" y="0"/>
                      </a:lnTo>
                      <a:lnTo>
                        <a:pt x="355" y="24"/>
                      </a:lnTo>
                      <a:lnTo>
                        <a:pt x="393" y="63"/>
                      </a:lnTo>
                      <a:lnTo>
                        <a:pt x="421" y="135"/>
                      </a:lnTo>
                      <a:lnTo>
                        <a:pt x="434" y="222"/>
                      </a:lnTo>
                      <a:lnTo>
                        <a:pt x="434" y="312"/>
                      </a:lnTo>
                      <a:lnTo>
                        <a:pt x="412" y="411"/>
                      </a:lnTo>
                      <a:lnTo>
                        <a:pt x="355" y="474"/>
                      </a:lnTo>
                      <a:lnTo>
                        <a:pt x="299" y="514"/>
                      </a:lnTo>
                      <a:lnTo>
                        <a:pt x="245" y="510"/>
                      </a:lnTo>
                      <a:lnTo>
                        <a:pt x="198" y="468"/>
                      </a:lnTo>
                      <a:lnTo>
                        <a:pt x="157" y="396"/>
                      </a:lnTo>
                      <a:lnTo>
                        <a:pt x="129" y="333"/>
                      </a:lnTo>
                      <a:lnTo>
                        <a:pt x="129" y="252"/>
                      </a:lnTo>
                      <a:lnTo>
                        <a:pt x="0" y="234"/>
                      </a:lnTo>
                      <a:lnTo>
                        <a:pt x="16" y="189"/>
                      </a:lnTo>
                      <a:lnTo>
                        <a:pt x="132" y="18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850800" y="317520"/>
                  <a:ext cx="134280" cy="398880"/>
                </a:xfrm>
                <a:custGeom>
                  <a:avLst/>
                  <a:gdLst/>
                  <a:ahLst/>
                  <a:rect l="l" t="t" r="r" b="b"/>
                  <a:pathLst>
                    <a:path w="566" h="1154">
                      <a:moveTo>
                        <a:pt x="13" y="1145"/>
                      </a:moveTo>
                      <a:lnTo>
                        <a:pt x="0" y="1088"/>
                      </a:lnTo>
                      <a:lnTo>
                        <a:pt x="31" y="1042"/>
                      </a:lnTo>
                      <a:lnTo>
                        <a:pt x="134" y="988"/>
                      </a:lnTo>
                      <a:lnTo>
                        <a:pt x="226" y="927"/>
                      </a:lnTo>
                      <a:lnTo>
                        <a:pt x="313" y="827"/>
                      </a:lnTo>
                      <a:lnTo>
                        <a:pt x="432" y="689"/>
                      </a:lnTo>
                      <a:lnTo>
                        <a:pt x="463" y="634"/>
                      </a:lnTo>
                      <a:lnTo>
                        <a:pt x="479" y="580"/>
                      </a:lnTo>
                      <a:lnTo>
                        <a:pt x="472" y="526"/>
                      </a:lnTo>
                      <a:lnTo>
                        <a:pt x="444" y="426"/>
                      </a:lnTo>
                      <a:lnTo>
                        <a:pt x="376" y="299"/>
                      </a:lnTo>
                      <a:lnTo>
                        <a:pt x="301" y="229"/>
                      </a:lnTo>
                      <a:lnTo>
                        <a:pt x="235" y="190"/>
                      </a:lnTo>
                      <a:lnTo>
                        <a:pt x="181" y="184"/>
                      </a:lnTo>
                      <a:lnTo>
                        <a:pt x="153" y="190"/>
                      </a:lnTo>
                      <a:lnTo>
                        <a:pt x="150" y="163"/>
                      </a:lnTo>
                      <a:lnTo>
                        <a:pt x="215" y="154"/>
                      </a:lnTo>
                      <a:lnTo>
                        <a:pt x="291" y="154"/>
                      </a:lnTo>
                      <a:lnTo>
                        <a:pt x="238" y="93"/>
                      </a:lnTo>
                      <a:lnTo>
                        <a:pt x="206" y="45"/>
                      </a:lnTo>
                      <a:lnTo>
                        <a:pt x="229" y="27"/>
                      </a:lnTo>
                      <a:lnTo>
                        <a:pt x="313" y="109"/>
                      </a:lnTo>
                      <a:lnTo>
                        <a:pt x="329" y="121"/>
                      </a:lnTo>
                      <a:lnTo>
                        <a:pt x="313" y="57"/>
                      </a:lnTo>
                      <a:lnTo>
                        <a:pt x="301" y="9"/>
                      </a:lnTo>
                      <a:lnTo>
                        <a:pt x="313" y="0"/>
                      </a:lnTo>
                      <a:lnTo>
                        <a:pt x="341" y="9"/>
                      </a:lnTo>
                      <a:lnTo>
                        <a:pt x="366" y="121"/>
                      </a:lnTo>
                      <a:lnTo>
                        <a:pt x="379" y="118"/>
                      </a:lnTo>
                      <a:lnTo>
                        <a:pt x="379" y="30"/>
                      </a:lnTo>
                      <a:lnTo>
                        <a:pt x="404" y="21"/>
                      </a:lnTo>
                      <a:lnTo>
                        <a:pt x="422" y="36"/>
                      </a:lnTo>
                      <a:lnTo>
                        <a:pt x="413" y="154"/>
                      </a:lnTo>
                      <a:lnTo>
                        <a:pt x="407" y="202"/>
                      </a:lnTo>
                      <a:lnTo>
                        <a:pt x="422" y="299"/>
                      </a:lnTo>
                      <a:lnTo>
                        <a:pt x="472" y="402"/>
                      </a:lnTo>
                      <a:lnTo>
                        <a:pt x="525" y="520"/>
                      </a:lnTo>
                      <a:lnTo>
                        <a:pt x="566" y="607"/>
                      </a:lnTo>
                      <a:lnTo>
                        <a:pt x="563" y="652"/>
                      </a:lnTo>
                      <a:lnTo>
                        <a:pt x="488" y="734"/>
                      </a:lnTo>
                      <a:lnTo>
                        <a:pt x="385" y="836"/>
                      </a:lnTo>
                      <a:lnTo>
                        <a:pt x="301" y="937"/>
                      </a:lnTo>
                      <a:lnTo>
                        <a:pt x="197" y="1070"/>
                      </a:lnTo>
                      <a:lnTo>
                        <a:pt x="112" y="1136"/>
                      </a:lnTo>
                      <a:lnTo>
                        <a:pt x="47" y="1154"/>
                      </a:lnTo>
                      <a:lnTo>
                        <a:pt x="13" y="1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87280" y="689400"/>
                  <a:ext cx="246240" cy="200880"/>
                </a:xfrm>
                <a:custGeom>
                  <a:avLst/>
                  <a:gdLst/>
                  <a:ahLst/>
                  <a:rect l="l" t="t" r="r" b="b"/>
                  <a:pathLst>
                    <a:path w="1037" h="581">
                      <a:moveTo>
                        <a:pt x="210" y="468"/>
                      </a:moveTo>
                      <a:lnTo>
                        <a:pt x="361" y="462"/>
                      </a:lnTo>
                      <a:lnTo>
                        <a:pt x="498" y="444"/>
                      </a:lnTo>
                      <a:lnTo>
                        <a:pt x="583" y="423"/>
                      </a:lnTo>
                      <a:lnTo>
                        <a:pt x="705" y="354"/>
                      </a:lnTo>
                      <a:lnTo>
                        <a:pt x="792" y="288"/>
                      </a:lnTo>
                      <a:lnTo>
                        <a:pt x="906" y="207"/>
                      </a:lnTo>
                      <a:lnTo>
                        <a:pt x="959" y="156"/>
                      </a:lnTo>
                      <a:lnTo>
                        <a:pt x="1000" y="120"/>
                      </a:lnTo>
                      <a:lnTo>
                        <a:pt x="1037" y="81"/>
                      </a:lnTo>
                      <a:lnTo>
                        <a:pt x="1037" y="39"/>
                      </a:lnTo>
                      <a:lnTo>
                        <a:pt x="996" y="0"/>
                      </a:lnTo>
                      <a:lnTo>
                        <a:pt x="971" y="9"/>
                      </a:lnTo>
                      <a:lnTo>
                        <a:pt x="903" y="90"/>
                      </a:lnTo>
                      <a:lnTo>
                        <a:pt x="828" y="183"/>
                      </a:lnTo>
                      <a:lnTo>
                        <a:pt x="752" y="270"/>
                      </a:lnTo>
                      <a:lnTo>
                        <a:pt x="642" y="342"/>
                      </a:lnTo>
                      <a:lnTo>
                        <a:pt x="548" y="390"/>
                      </a:lnTo>
                      <a:lnTo>
                        <a:pt x="445" y="414"/>
                      </a:lnTo>
                      <a:lnTo>
                        <a:pt x="301" y="417"/>
                      </a:lnTo>
                      <a:lnTo>
                        <a:pt x="216" y="417"/>
                      </a:lnTo>
                      <a:lnTo>
                        <a:pt x="144" y="363"/>
                      </a:lnTo>
                      <a:lnTo>
                        <a:pt x="125" y="327"/>
                      </a:lnTo>
                      <a:lnTo>
                        <a:pt x="94" y="327"/>
                      </a:lnTo>
                      <a:lnTo>
                        <a:pt x="116" y="372"/>
                      </a:lnTo>
                      <a:lnTo>
                        <a:pt x="150" y="414"/>
                      </a:lnTo>
                      <a:lnTo>
                        <a:pt x="66" y="396"/>
                      </a:lnTo>
                      <a:lnTo>
                        <a:pt x="3" y="387"/>
                      </a:lnTo>
                      <a:lnTo>
                        <a:pt x="3" y="405"/>
                      </a:lnTo>
                      <a:lnTo>
                        <a:pt x="59" y="417"/>
                      </a:lnTo>
                      <a:lnTo>
                        <a:pt x="97" y="441"/>
                      </a:lnTo>
                      <a:lnTo>
                        <a:pt x="131" y="444"/>
                      </a:lnTo>
                      <a:lnTo>
                        <a:pt x="78" y="462"/>
                      </a:lnTo>
                      <a:lnTo>
                        <a:pt x="0" y="481"/>
                      </a:lnTo>
                      <a:lnTo>
                        <a:pt x="3" y="499"/>
                      </a:lnTo>
                      <a:lnTo>
                        <a:pt x="28" y="505"/>
                      </a:lnTo>
                      <a:lnTo>
                        <a:pt x="103" y="481"/>
                      </a:lnTo>
                      <a:lnTo>
                        <a:pt x="150" y="477"/>
                      </a:lnTo>
                      <a:lnTo>
                        <a:pt x="122" y="505"/>
                      </a:lnTo>
                      <a:lnTo>
                        <a:pt x="78" y="550"/>
                      </a:lnTo>
                      <a:lnTo>
                        <a:pt x="59" y="562"/>
                      </a:lnTo>
                      <a:lnTo>
                        <a:pt x="75" y="581"/>
                      </a:lnTo>
                      <a:lnTo>
                        <a:pt x="113" y="559"/>
                      </a:lnTo>
                      <a:lnTo>
                        <a:pt x="163" y="514"/>
                      </a:lnTo>
                      <a:lnTo>
                        <a:pt x="210" y="46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814080" y="668880"/>
                  <a:ext cx="144360" cy="276480"/>
                </a:xfrm>
                <a:custGeom>
                  <a:avLst/>
                  <a:gdLst/>
                  <a:ahLst/>
                  <a:rect l="l" t="t" r="r" b="b"/>
                  <a:pathLst>
                    <a:path w="608" h="800">
                      <a:moveTo>
                        <a:pt x="38" y="90"/>
                      </a:moveTo>
                      <a:lnTo>
                        <a:pt x="63" y="27"/>
                      </a:lnTo>
                      <a:lnTo>
                        <a:pt x="104" y="0"/>
                      </a:lnTo>
                      <a:lnTo>
                        <a:pt x="141" y="0"/>
                      </a:lnTo>
                      <a:lnTo>
                        <a:pt x="179" y="18"/>
                      </a:lnTo>
                      <a:lnTo>
                        <a:pt x="216" y="54"/>
                      </a:lnTo>
                      <a:lnTo>
                        <a:pt x="235" y="117"/>
                      </a:lnTo>
                      <a:lnTo>
                        <a:pt x="245" y="180"/>
                      </a:lnTo>
                      <a:lnTo>
                        <a:pt x="263" y="243"/>
                      </a:lnTo>
                      <a:lnTo>
                        <a:pt x="298" y="312"/>
                      </a:lnTo>
                      <a:lnTo>
                        <a:pt x="357" y="384"/>
                      </a:lnTo>
                      <a:lnTo>
                        <a:pt x="415" y="432"/>
                      </a:lnTo>
                      <a:lnTo>
                        <a:pt x="499" y="468"/>
                      </a:lnTo>
                      <a:lnTo>
                        <a:pt x="571" y="522"/>
                      </a:lnTo>
                      <a:lnTo>
                        <a:pt x="608" y="577"/>
                      </a:lnTo>
                      <a:lnTo>
                        <a:pt x="602" y="622"/>
                      </a:lnTo>
                      <a:lnTo>
                        <a:pt x="593" y="676"/>
                      </a:lnTo>
                      <a:lnTo>
                        <a:pt x="565" y="712"/>
                      </a:lnTo>
                      <a:lnTo>
                        <a:pt x="518" y="757"/>
                      </a:lnTo>
                      <a:lnTo>
                        <a:pt x="449" y="790"/>
                      </a:lnTo>
                      <a:lnTo>
                        <a:pt x="396" y="800"/>
                      </a:lnTo>
                      <a:lnTo>
                        <a:pt x="320" y="784"/>
                      </a:lnTo>
                      <a:lnTo>
                        <a:pt x="251" y="748"/>
                      </a:lnTo>
                      <a:lnTo>
                        <a:pt x="179" y="694"/>
                      </a:lnTo>
                      <a:lnTo>
                        <a:pt x="129" y="631"/>
                      </a:lnTo>
                      <a:lnTo>
                        <a:pt x="82" y="550"/>
                      </a:lnTo>
                      <a:lnTo>
                        <a:pt x="44" y="456"/>
                      </a:lnTo>
                      <a:lnTo>
                        <a:pt x="19" y="375"/>
                      </a:lnTo>
                      <a:lnTo>
                        <a:pt x="7" y="297"/>
                      </a:lnTo>
                      <a:lnTo>
                        <a:pt x="0" y="189"/>
                      </a:lnTo>
                      <a:lnTo>
                        <a:pt x="19" y="117"/>
                      </a:lnTo>
                      <a:lnTo>
                        <a:pt x="38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932160" y="786960"/>
                  <a:ext cx="247680" cy="250920"/>
                </a:xfrm>
                <a:custGeom>
                  <a:avLst/>
                  <a:gdLst/>
                  <a:ahLst/>
                  <a:rect l="l" t="t" r="r" b="b"/>
                  <a:pathLst>
                    <a:path w="1043" h="726">
                      <a:moveTo>
                        <a:pt x="116" y="230"/>
                      </a:moveTo>
                      <a:lnTo>
                        <a:pt x="216" y="147"/>
                      </a:lnTo>
                      <a:lnTo>
                        <a:pt x="338" y="72"/>
                      </a:lnTo>
                      <a:lnTo>
                        <a:pt x="417" y="27"/>
                      </a:lnTo>
                      <a:lnTo>
                        <a:pt x="479" y="12"/>
                      </a:lnTo>
                      <a:lnTo>
                        <a:pt x="529" y="0"/>
                      </a:lnTo>
                      <a:lnTo>
                        <a:pt x="573" y="18"/>
                      </a:lnTo>
                      <a:lnTo>
                        <a:pt x="601" y="75"/>
                      </a:lnTo>
                      <a:lnTo>
                        <a:pt x="620" y="230"/>
                      </a:lnTo>
                      <a:lnTo>
                        <a:pt x="620" y="416"/>
                      </a:lnTo>
                      <a:lnTo>
                        <a:pt x="620" y="536"/>
                      </a:lnTo>
                      <a:lnTo>
                        <a:pt x="642" y="609"/>
                      </a:lnTo>
                      <a:lnTo>
                        <a:pt x="686" y="597"/>
                      </a:lnTo>
                      <a:lnTo>
                        <a:pt x="717" y="552"/>
                      </a:lnTo>
                      <a:lnTo>
                        <a:pt x="779" y="500"/>
                      </a:lnTo>
                      <a:lnTo>
                        <a:pt x="876" y="470"/>
                      </a:lnTo>
                      <a:lnTo>
                        <a:pt x="943" y="470"/>
                      </a:lnTo>
                      <a:lnTo>
                        <a:pt x="1043" y="488"/>
                      </a:lnTo>
                      <a:lnTo>
                        <a:pt x="1037" y="524"/>
                      </a:lnTo>
                      <a:lnTo>
                        <a:pt x="1015" y="555"/>
                      </a:lnTo>
                      <a:lnTo>
                        <a:pt x="981" y="561"/>
                      </a:lnTo>
                      <a:lnTo>
                        <a:pt x="943" y="542"/>
                      </a:lnTo>
                      <a:lnTo>
                        <a:pt x="886" y="518"/>
                      </a:lnTo>
                      <a:lnTo>
                        <a:pt x="829" y="518"/>
                      </a:lnTo>
                      <a:lnTo>
                        <a:pt x="754" y="564"/>
                      </a:lnTo>
                      <a:lnTo>
                        <a:pt x="708" y="633"/>
                      </a:lnTo>
                      <a:lnTo>
                        <a:pt x="698" y="690"/>
                      </a:lnTo>
                      <a:lnTo>
                        <a:pt x="679" y="726"/>
                      </a:lnTo>
                      <a:lnTo>
                        <a:pt x="604" y="723"/>
                      </a:lnTo>
                      <a:lnTo>
                        <a:pt x="601" y="669"/>
                      </a:lnTo>
                      <a:lnTo>
                        <a:pt x="576" y="591"/>
                      </a:lnTo>
                      <a:lnTo>
                        <a:pt x="567" y="509"/>
                      </a:lnTo>
                      <a:lnTo>
                        <a:pt x="573" y="401"/>
                      </a:lnTo>
                      <a:lnTo>
                        <a:pt x="564" y="248"/>
                      </a:lnTo>
                      <a:lnTo>
                        <a:pt x="558" y="147"/>
                      </a:lnTo>
                      <a:lnTo>
                        <a:pt x="539" y="111"/>
                      </a:lnTo>
                      <a:lnTo>
                        <a:pt x="501" y="75"/>
                      </a:lnTo>
                      <a:lnTo>
                        <a:pt x="461" y="75"/>
                      </a:lnTo>
                      <a:lnTo>
                        <a:pt x="403" y="111"/>
                      </a:lnTo>
                      <a:lnTo>
                        <a:pt x="328" y="181"/>
                      </a:lnTo>
                      <a:lnTo>
                        <a:pt x="235" y="272"/>
                      </a:lnTo>
                      <a:lnTo>
                        <a:pt x="141" y="356"/>
                      </a:lnTo>
                      <a:lnTo>
                        <a:pt x="94" y="383"/>
                      </a:lnTo>
                      <a:lnTo>
                        <a:pt x="38" y="383"/>
                      </a:lnTo>
                      <a:lnTo>
                        <a:pt x="0" y="344"/>
                      </a:lnTo>
                      <a:lnTo>
                        <a:pt x="3" y="281"/>
                      </a:lnTo>
                      <a:lnTo>
                        <a:pt x="41" y="248"/>
                      </a:lnTo>
                      <a:lnTo>
                        <a:pt x="84" y="239"/>
                      </a:lnTo>
                      <a:lnTo>
                        <a:pt x="116" y="23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918840" y="896400"/>
                  <a:ext cx="169200" cy="263520"/>
                </a:xfrm>
                <a:custGeom>
                  <a:avLst/>
                  <a:gdLst/>
                  <a:ahLst/>
                  <a:rect l="l" t="t" r="r" b="b"/>
                  <a:pathLst>
                    <a:path w="713" h="762">
                      <a:moveTo>
                        <a:pt x="0" y="64"/>
                      </a:moveTo>
                      <a:lnTo>
                        <a:pt x="22" y="16"/>
                      </a:lnTo>
                      <a:lnTo>
                        <a:pt x="69" y="0"/>
                      </a:lnTo>
                      <a:lnTo>
                        <a:pt x="134" y="7"/>
                      </a:lnTo>
                      <a:lnTo>
                        <a:pt x="150" y="52"/>
                      </a:lnTo>
                      <a:lnTo>
                        <a:pt x="125" y="227"/>
                      </a:lnTo>
                      <a:lnTo>
                        <a:pt x="122" y="360"/>
                      </a:lnTo>
                      <a:lnTo>
                        <a:pt x="116" y="435"/>
                      </a:lnTo>
                      <a:lnTo>
                        <a:pt x="116" y="450"/>
                      </a:lnTo>
                      <a:lnTo>
                        <a:pt x="131" y="524"/>
                      </a:lnTo>
                      <a:lnTo>
                        <a:pt x="172" y="536"/>
                      </a:lnTo>
                      <a:lnTo>
                        <a:pt x="225" y="524"/>
                      </a:lnTo>
                      <a:lnTo>
                        <a:pt x="303" y="481"/>
                      </a:lnTo>
                      <a:lnTo>
                        <a:pt x="387" y="460"/>
                      </a:lnTo>
                      <a:lnTo>
                        <a:pt x="482" y="444"/>
                      </a:lnTo>
                      <a:lnTo>
                        <a:pt x="585" y="432"/>
                      </a:lnTo>
                      <a:lnTo>
                        <a:pt x="660" y="432"/>
                      </a:lnTo>
                      <a:lnTo>
                        <a:pt x="694" y="441"/>
                      </a:lnTo>
                      <a:lnTo>
                        <a:pt x="713" y="463"/>
                      </a:lnTo>
                      <a:lnTo>
                        <a:pt x="704" y="496"/>
                      </a:lnTo>
                      <a:lnTo>
                        <a:pt x="657" y="524"/>
                      </a:lnTo>
                      <a:lnTo>
                        <a:pt x="613" y="563"/>
                      </a:lnTo>
                      <a:lnTo>
                        <a:pt x="572" y="618"/>
                      </a:lnTo>
                      <a:lnTo>
                        <a:pt x="547" y="663"/>
                      </a:lnTo>
                      <a:lnTo>
                        <a:pt x="526" y="708"/>
                      </a:lnTo>
                      <a:lnTo>
                        <a:pt x="510" y="762"/>
                      </a:lnTo>
                      <a:lnTo>
                        <a:pt x="488" y="762"/>
                      </a:lnTo>
                      <a:lnTo>
                        <a:pt x="469" y="741"/>
                      </a:lnTo>
                      <a:lnTo>
                        <a:pt x="462" y="681"/>
                      </a:lnTo>
                      <a:lnTo>
                        <a:pt x="507" y="627"/>
                      </a:lnTo>
                      <a:lnTo>
                        <a:pt x="566" y="563"/>
                      </a:lnTo>
                      <a:lnTo>
                        <a:pt x="622" y="515"/>
                      </a:lnTo>
                      <a:lnTo>
                        <a:pt x="647" y="499"/>
                      </a:lnTo>
                      <a:lnTo>
                        <a:pt x="657" y="478"/>
                      </a:lnTo>
                      <a:lnTo>
                        <a:pt x="632" y="463"/>
                      </a:lnTo>
                      <a:lnTo>
                        <a:pt x="547" y="463"/>
                      </a:lnTo>
                      <a:lnTo>
                        <a:pt x="440" y="481"/>
                      </a:lnTo>
                      <a:lnTo>
                        <a:pt x="356" y="509"/>
                      </a:lnTo>
                      <a:lnTo>
                        <a:pt x="265" y="560"/>
                      </a:lnTo>
                      <a:lnTo>
                        <a:pt x="187" y="596"/>
                      </a:lnTo>
                      <a:lnTo>
                        <a:pt x="103" y="599"/>
                      </a:lnTo>
                      <a:lnTo>
                        <a:pt x="69" y="587"/>
                      </a:lnTo>
                      <a:lnTo>
                        <a:pt x="50" y="542"/>
                      </a:lnTo>
                      <a:lnTo>
                        <a:pt x="37" y="478"/>
                      </a:lnTo>
                      <a:lnTo>
                        <a:pt x="31" y="360"/>
                      </a:lnTo>
                      <a:lnTo>
                        <a:pt x="19" y="151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7114680" y="874800"/>
                <a:ext cx="102240" cy="303120"/>
                <a:chOff x="7114680" y="874800"/>
                <a:chExt cx="102240" cy="30312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7136280" y="1043640"/>
                  <a:ext cx="80640" cy="37440"/>
                </a:xfrm>
                <a:custGeom>
                  <a:avLst/>
                  <a:gdLst/>
                  <a:ahLst/>
                  <a:rect l="l" t="t" r="r" b="b"/>
                  <a:pathLst>
                    <a:path w="340" h="109">
                      <a:moveTo>
                        <a:pt x="340" y="109"/>
                      </a:moveTo>
                      <a:lnTo>
                        <a:pt x="165" y="30"/>
                      </a:lnTo>
                      <a:lnTo>
                        <a:pt x="48" y="0"/>
                      </a:lnTo>
                      <a:lnTo>
                        <a:pt x="10" y="0"/>
                      </a:lnTo>
                      <a:lnTo>
                        <a:pt x="0" y="27"/>
                      </a:lnTo>
                      <a:lnTo>
                        <a:pt x="22" y="48"/>
                      </a:lnTo>
                      <a:lnTo>
                        <a:pt x="70" y="54"/>
                      </a:lnTo>
                      <a:lnTo>
                        <a:pt x="184" y="75"/>
                      </a:lnTo>
                      <a:lnTo>
                        <a:pt x="340" y="10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114680" y="1077480"/>
                  <a:ext cx="22680" cy="100440"/>
                </a:xfrm>
                <a:custGeom>
                  <a:avLst/>
                  <a:gdLst/>
                  <a:ahLst/>
                  <a:rect l="l" t="t" r="r" b="b"/>
                  <a:pathLst>
                    <a:path w="97" h="291">
                      <a:moveTo>
                        <a:pt x="97" y="291"/>
                      </a:moveTo>
                      <a:lnTo>
                        <a:pt x="94" y="148"/>
                      </a:lnTo>
                      <a:lnTo>
                        <a:pt x="69" y="39"/>
                      </a:lnTo>
                      <a:lnTo>
                        <a:pt x="41" y="0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54"/>
                      </a:lnTo>
                      <a:lnTo>
                        <a:pt x="47" y="184"/>
                      </a:lnTo>
                      <a:lnTo>
                        <a:pt x="97" y="29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147800" y="874800"/>
                  <a:ext cx="50760" cy="38160"/>
                </a:xfrm>
                <a:custGeom>
                  <a:avLst/>
                  <a:gdLst/>
                  <a:ahLst/>
                  <a:rect l="l" t="t" r="r" b="b"/>
                  <a:pathLst>
                    <a:path w="214" h="111">
                      <a:moveTo>
                        <a:pt x="0" y="72"/>
                      </a:moveTo>
                      <a:lnTo>
                        <a:pt x="42" y="30"/>
                      </a:lnTo>
                      <a:lnTo>
                        <a:pt x="100" y="3"/>
                      </a:lnTo>
                      <a:lnTo>
                        <a:pt x="166" y="0"/>
                      </a:lnTo>
                      <a:lnTo>
                        <a:pt x="214" y="9"/>
                      </a:lnTo>
                      <a:lnTo>
                        <a:pt x="138" y="18"/>
                      </a:lnTo>
                      <a:lnTo>
                        <a:pt x="109" y="36"/>
                      </a:lnTo>
                      <a:lnTo>
                        <a:pt x="81" y="63"/>
                      </a:lnTo>
                      <a:lnTo>
                        <a:pt x="68" y="93"/>
                      </a:lnTo>
                      <a:lnTo>
                        <a:pt x="42" y="111"/>
                      </a:lnTo>
                      <a:lnTo>
                        <a:pt x="1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17" name=""/>
          <p:cNvSpPr/>
          <p:nvPr/>
        </p:nvSpPr>
        <p:spPr>
          <a:xfrm>
            <a:off x="1143000" y="2590920"/>
            <a:ext cx="380880" cy="3808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969200" y="5681520"/>
            <a:ext cx="340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.e. find its neighbo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83960" y="6138720"/>
            <a:ext cx="3398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n’t re-find a nod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798840" y="5131800"/>
            <a:ext cx="691200" cy="741240"/>
            <a:chOff x="798840" y="5131800"/>
            <a:chExt cx="691200" cy="741240"/>
          </a:xfrm>
        </p:grpSpPr>
        <p:sp>
          <p:nvSpPr>
            <p:cNvPr id="421" name=""/>
            <p:cNvSpPr/>
            <p:nvPr/>
          </p:nvSpPr>
          <p:spPr>
            <a:xfrm rot="21255000">
              <a:off x="1146600" y="5211360"/>
              <a:ext cx="140760" cy="116640"/>
            </a:xfrm>
            <a:custGeom>
              <a:avLst/>
              <a:gdLst/>
              <a:ahLst/>
              <a:rect l="l" t="t" r="r" b="b"/>
              <a:pathLst>
                <a:path w="600" h="608">
                  <a:moveTo>
                    <a:pt x="388" y="289"/>
                  </a:moveTo>
                  <a:lnTo>
                    <a:pt x="372" y="177"/>
                  </a:lnTo>
                  <a:lnTo>
                    <a:pt x="341" y="78"/>
                  </a:lnTo>
                  <a:lnTo>
                    <a:pt x="284" y="24"/>
                  </a:lnTo>
                  <a:lnTo>
                    <a:pt x="185" y="0"/>
                  </a:lnTo>
                  <a:lnTo>
                    <a:pt x="100" y="24"/>
                  </a:lnTo>
                  <a:lnTo>
                    <a:pt x="19" y="123"/>
                  </a:lnTo>
                  <a:lnTo>
                    <a:pt x="0" y="243"/>
                  </a:lnTo>
                  <a:lnTo>
                    <a:pt x="19" y="370"/>
                  </a:lnTo>
                  <a:lnTo>
                    <a:pt x="50" y="447"/>
                  </a:lnTo>
                  <a:lnTo>
                    <a:pt x="88" y="528"/>
                  </a:lnTo>
                  <a:lnTo>
                    <a:pt x="130" y="582"/>
                  </a:lnTo>
                  <a:lnTo>
                    <a:pt x="177" y="608"/>
                  </a:lnTo>
                  <a:lnTo>
                    <a:pt x="242" y="585"/>
                  </a:lnTo>
                  <a:lnTo>
                    <a:pt x="307" y="531"/>
                  </a:lnTo>
                  <a:lnTo>
                    <a:pt x="349" y="455"/>
                  </a:lnTo>
                  <a:lnTo>
                    <a:pt x="388" y="390"/>
                  </a:lnTo>
                  <a:lnTo>
                    <a:pt x="400" y="351"/>
                  </a:lnTo>
                  <a:lnTo>
                    <a:pt x="565" y="293"/>
                  </a:lnTo>
                  <a:lnTo>
                    <a:pt x="600" y="270"/>
                  </a:lnTo>
                  <a:lnTo>
                    <a:pt x="580" y="235"/>
                  </a:lnTo>
                  <a:lnTo>
                    <a:pt x="388" y="28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21255000">
              <a:off x="1098720" y="5356800"/>
              <a:ext cx="144720" cy="260640"/>
            </a:xfrm>
            <a:custGeom>
              <a:avLst/>
              <a:gdLst/>
              <a:ahLst/>
              <a:rect l="l" t="t" r="r" b="b"/>
              <a:pathLst>
                <a:path w="619" h="1085">
                  <a:moveTo>
                    <a:pt x="208" y="161"/>
                  </a:moveTo>
                  <a:lnTo>
                    <a:pt x="284" y="80"/>
                  </a:lnTo>
                  <a:lnTo>
                    <a:pt x="411" y="3"/>
                  </a:lnTo>
                  <a:lnTo>
                    <a:pt x="469" y="0"/>
                  </a:lnTo>
                  <a:lnTo>
                    <a:pt x="573" y="34"/>
                  </a:lnTo>
                  <a:lnTo>
                    <a:pt x="619" y="85"/>
                  </a:lnTo>
                  <a:lnTo>
                    <a:pt x="619" y="161"/>
                  </a:lnTo>
                  <a:lnTo>
                    <a:pt x="542" y="304"/>
                  </a:lnTo>
                  <a:lnTo>
                    <a:pt x="458" y="415"/>
                  </a:lnTo>
                  <a:lnTo>
                    <a:pt x="422" y="508"/>
                  </a:lnTo>
                  <a:lnTo>
                    <a:pt x="399" y="615"/>
                  </a:lnTo>
                  <a:lnTo>
                    <a:pt x="422" y="719"/>
                  </a:lnTo>
                  <a:lnTo>
                    <a:pt x="445" y="820"/>
                  </a:lnTo>
                  <a:lnTo>
                    <a:pt x="445" y="935"/>
                  </a:lnTo>
                  <a:lnTo>
                    <a:pt x="411" y="1005"/>
                  </a:lnTo>
                  <a:lnTo>
                    <a:pt x="334" y="1043"/>
                  </a:lnTo>
                  <a:lnTo>
                    <a:pt x="242" y="1085"/>
                  </a:lnTo>
                  <a:lnTo>
                    <a:pt x="157" y="1085"/>
                  </a:lnTo>
                  <a:lnTo>
                    <a:pt x="100" y="1054"/>
                  </a:lnTo>
                  <a:lnTo>
                    <a:pt x="23" y="927"/>
                  </a:lnTo>
                  <a:lnTo>
                    <a:pt x="0" y="797"/>
                  </a:lnTo>
                  <a:lnTo>
                    <a:pt x="8" y="628"/>
                  </a:lnTo>
                  <a:lnTo>
                    <a:pt x="65" y="415"/>
                  </a:lnTo>
                  <a:lnTo>
                    <a:pt x="123" y="277"/>
                  </a:lnTo>
                  <a:lnTo>
                    <a:pt x="208" y="1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21255000">
              <a:off x="1200240" y="5570280"/>
              <a:ext cx="281520" cy="179640"/>
            </a:xfrm>
            <a:custGeom>
              <a:avLst/>
              <a:gdLst/>
              <a:ahLst/>
              <a:rect l="l" t="t" r="r" b="b"/>
              <a:pathLst>
                <a:path w="782" h="808">
                  <a:moveTo>
                    <a:pt x="0" y="76"/>
                  </a:moveTo>
                  <a:lnTo>
                    <a:pt x="66" y="0"/>
                  </a:lnTo>
                  <a:lnTo>
                    <a:pt x="163" y="0"/>
                  </a:lnTo>
                  <a:lnTo>
                    <a:pt x="343" y="19"/>
                  </a:lnTo>
                  <a:lnTo>
                    <a:pt x="555" y="30"/>
                  </a:lnTo>
                  <a:lnTo>
                    <a:pt x="636" y="65"/>
                  </a:lnTo>
                  <a:lnTo>
                    <a:pt x="670" y="110"/>
                  </a:lnTo>
                  <a:lnTo>
                    <a:pt x="678" y="180"/>
                  </a:lnTo>
                  <a:lnTo>
                    <a:pt x="654" y="253"/>
                  </a:lnTo>
                  <a:lnTo>
                    <a:pt x="589" y="365"/>
                  </a:lnTo>
                  <a:lnTo>
                    <a:pt x="504" y="457"/>
                  </a:lnTo>
                  <a:lnTo>
                    <a:pt x="439" y="541"/>
                  </a:lnTo>
                  <a:lnTo>
                    <a:pt x="412" y="607"/>
                  </a:lnTo>
                  <a:lnTo>
                    <a:pt x="393" y="653"/>
                  </a:lnTo>
                  <a:lnTo>
                    <a:pt x="400" y="689"/>
                  </a:lnTo>
                  <a:lnTo>
                    <a:pt x="405" y="711"/>
                  </a:lnTo>
                  <a:lnTo>
                    <a:pt x="482" y="711"/>
                  </a:lnTo>
                  <a:lnTo>
                    <a:pt x="601" y="692"/>
                  </a:lnTo>
                  <a:lnTo>
                    <a:pt x="678" y="692"/>
                  </a:lnTo>
                  <a:lnTo>
                    <a:pt x="758" y="723"/>
                  </a:lnTo>
                  <a:lnTo>
                    <a:pt x="782" y="761"/>
                  </a:lnTo>
                  <a:lnTo>
                    <a:pt x="758" y="796"/>
                  </a:lnTo>
                  <a:lnTo>
                    <a:pt x="724" y="808"/>
                  </a:lnTo>
                  <a:lnTo>
                    <a:pt x="670" y="792"/>
                  </a:lnTo>
                  <a:lnTo>
                    <a:pt x="597" y="749"/>
                  </a:lnTo>
                  <a:lnTo>
                    <a:pt x="520" y="757"/>
                  </a:lnTo>
                  <a:lnTo>
                    <a:pt x="393" y="780"/>
                  </a:lnTo>
                  <a:lnTo>
                    <a:pt x="355" y="773"/>
                  </a:lnTo>
                  <a:lnTo>
                    <a:pt x="335" y="746"/>
                  </a:lnTo>
                  <a:lnTo>
                    <a:pt x="335" y="681"/>
                  </a:lnTo>
                  <a:lnTo>
                    <a:pt x="335" y="588"/>
                  </a:lnTo>
                  <a:lnTo>
                    <a:pt x="389" y="518"/>
                  </a:lnTo>
                  <a:lnTo>
                    <a:pt x="470" y="414"/>
                  </a:lnTo>
                  <a:lnTo>
                    <a:pt x="540" y="323"/>
                  </a:lnTo>
                  <a:lnTo>
                    <a:pt x="586" y="253"/>
                  </a:lnTo>
                  <a:lnTo>
                    <a:pt x="609" y="192"/>
                  </a:lnTo>
                  <a:lnTo>
                    <a:pt x="597" y="157"/>
                  </a:lnTo>
                  <a:lnTo>
                    <a:pt x="566" y="115"/>
                  </a:lnTo>
                  <a:lnTo>
                    <a:pt x="520" y="103"/>
                  </a:lnTo>
                  <a:lnTo>
                    <a:pt x="470" y="103"/>
                  </a:lnTo>
                  <a:lnTo>
                    <a:pt x="358" y="103"/>
                  </a:lnTo>
                  <a:lnTo>
                    <a:pt x="193" y="134"/>
                  </a:lnTo>
                  <a:lnTo>
                    <a:pt x="70" y="146"/>
                  </a:lnTo>
                  <a:lnTo>
                    <a:pt x="20" y="134"/>
                  </a:lnTo>
                  <a:lnTo>
                    <a:pt x="0" y="11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9838400">
              <a:off x="811800" y="5626440"/>
              <a:ext cx="401760" cy="158400"/>
            </a:xfrm>
            <a:custGeom>
              <a:avLst/>
              <a:gdLst/>
              <a:ahLst/>
              <a:rect l="l" t="t" r="r" b="b"/>
              <a:pathLst>
                <a:path w="992" h="770">
                  <a:moveTo>
                    <a:pt x="808" y="320"/>
                  </a:moveTo>
                  <a:lnTo>
                    <a:pt x="823" y="219"/>
                  </a:lnTo>
                  <a:lnTo>
                    <a:pt x="881" y="181"/>
                  </a:lnTo>
                  <a:lnTo>
                    <a:pt x="950" y="174"/>
                  </a:lnTo>
                  <a:lnTo>
                    <a:pt x="992" y="219"/>
                  </a:lnTo>
                  <a:lnTo>
                    <a:pt x="973" y="308"/>
                  </a:lnTo>
                  <a:lnTo>
                    <a:pt x="935" y="427"/>
                  </a:lnTo>
                  <a:lnTo>
                    <a:pt x="857" y="562"/>
                  </a:lnTo>
                  <a:lnTo>
                    <a:pt x="761" y="677"/>
                  </a:lnTo>
                  <a:lnTo>
                    <a:pt x="681" y="739"/>
                  </a:lnTo>
                  <a:lnTo>
                    <a:pt x="592" y="770"/>
                  </a:lnTo>
                  <a:lnTo>
                    <a:pt x="507" y="759"/>
                  </a:lnTo>
                  <a:lnTo>
                    <a:pt x="442" y="723"/>
                  </a:lnTo>
                  <a:lnTo>
                    <a:pt x="419" y="666"/>
                  </a:lnTo>
                  <a:lnTo>
                    <a:pt x="392" y="566"/>
                  </a:lnTo>
                  <a:lnTo>
                    <a:pt x="361" y="382"/>
                  </a:lnTo>
                  <a:lnTo>
                    <a:pt x="338" y="254"/>
                  </a:lnTo>
                  <a:lnTo>
                    <a:pt x="338" y="104"/>
                  </a:lnTo>
                  <a:lnTo>
                    <a:pt x="323" y="78"/>
                  </a:lnTo>
                  <a:lnTo>
                    <a:pt x="277" y="70"/>
                  </a:lnTo>
                  <a:lnTo>
                    <a:pt x="223" y="112"/>
                  </a:lnTo>
                  <a:lnTo>
                    <a:pt x="173" y="181"/>
                  </a:lnTo>
                  <a:lnTo>
                    <a:pt x="115" y="219"/>
                  </a:lnTo>
                  <a:lnTo>
                    <a:pt x="27" y="219"/>
                  </a:lnTo>
                  <a:lnTo>
                    <a:pt x="0" y="196"/>
                  </a:lnTo>
                  <a:lnTo>
                    <a:pt x="0" y="158"/>
                  </a:lnTo>
                  <a:lnTo>
                    <a:pt x="39" y="123"/>
                  </a:lnTo>
                  <a:lnTo>
                    <a:pt x="81" y="135"/>
                  </a:lnTo>
                  <a:lnTo>
                    <a:pt x="119" y="127"/>
                  </a:lnTo>
                  <a:lnTo>
                    <a:pt x="189" y="78"/>
                  </a:lnTo>
                  <a:lnTo>
                    <a:pt x="257" y="23"/>
                  </a:lnTo>
                  <a:lnTo>
                    <a:pt x="323" y="8"/>
                  </a:lnTo>
                  <a:lnTo>
                    <a:pt x="415" y="0"/>
                  </a:lnTo>
                  <a:lnTo>
                    <a:pt x="419" y="42"/>
                  </a:lnTo>
                  <a:lnTo>
                    <a:pt x="397" y="89"/>
                  </a:lnTo>
                  <a:lnTo>
                    <a:pt x="392" y="208"/>
                  </a:lnTo>
                  <a:lnTo>
                    <a:pt x="419" y="366"/>
                  </a:lnTo>
                  <a:lnTo>
                    <a:pt x="462" y="520"/>
                  </a:lnTo>
                  <a:lnTo>
                    <a:pt x="499" y="612"/>
                  </a:lnTo>
                  <a:lnTo>
                    <a:pt x="558" y="655"/>
                  </a:lnTo>
                  <a:lnTo>
                    <a:pt x="615" y="655"/>
                  </a:lnTo>
                  <a:lnTo>
                    <a:pt x="673" y="612"/>
                  </a:lnTo>
                  <a:lnTo>
                    <a:pt x="750" y="515"/>
                  </a:lnTo>
                  <a:lnTo>
                    <a:pt x="800" y="377"/>
                  </a:lnTo>
                  <a:lnTo>
                    <a:pt x="808" y="32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21255000">
              <a:off x="1003680" y="5142960"/>
              <a:ext cx="164160" cy="291600"/>
            </a:xfrm>
            <a:custGeom>
              <a:avLst/>
              <a:gdLst/>
              <a:ahLst/>
              <a:rect l="l" t="t" r="r" b="b"/>
              <a:pathLst>
                <a:path w="699" h="1216">
                  <a:moveTo>
                    <a:pt x="445" y="923"/>
                  </a:moveTo>
                  <a:lnTo>
                    <a:pt x="560" y="1039"/>
                  </a:lnTo>
                  <a:lnTo>
                    <a:pt x="606" y="1039"/>
                  </a:lnTo>
                  <a:lnTo>
                    <a:pt x="684" y="1086"/>
                  </a:lnTo>
                  <a:lnTo>
                    <a:pt x="699" y="1139"/>
                  </a:lnTo>
                  <a:lnTo>
                    <a:pt x="676" y="1208"/>
                  </a:lnTo>
                  <a:lnTo>
                    <a:pt x="614" y="1216"/>
                  </a:lnTo>
                  <a:lnTo>
                    <a:pt x="537" y="1162"/>
                  </a:lnTo>
                  <a:lnTo>
                    <a:pt x="383" y="1016"/>
                  </a:lnTo>
                  <a:lnTo>
                    <a:pt x="284" y="878"/>
                  </a:lnTo>
                  <a:lnTo>
                    <a:pt x="237" y="769"/>
                  </a:lnTo>
                  <a:lnTo>
                    <a:pt x="206" y="585"/>
                  </a:lnTo>
                  <a:lnTo>
                    <a:pt x="206" y="346"/>
                  </a:lnTo>
                  <a:lnTo>
                    <a:pt x="198" y="285"/>
                  </a:lnTo>
                  <a:lnTo>
                    <a:pt x="153" y="239"/>
                  </a:lnTo>
                  <a:lnTo>
                    <a:pt x="22" y="247"/>
                  </a:lnTo>
                  <a:lnTo>
                    <a:pt x="0" y="223"/>
                  </a:lnTo>
                  <a:lnTo>
                    <a:pt x="29" y="208"/>
                  </a:lnTo>
                  <a:lnTo>
                    <a:pt x="122" y="200"/>
                  </a:lnTo>
                  <a:lnTo>
                    <a:pt x="138" y="185"/>
                  </a:lnTo>
                  <a:lnTo>
                    <a:pt x="6" y="107"/>
                  </a:lnTo>
                  <a:lnTo>
                    <a:pt x="6" y="77"/>
                  </a:lnTo>
                  <a:lnTo>
                    <a:pt x="29" y="70"/>
                  </a:lnTo>
                  <a:lnTo>
                    <a:pt x="138" y="130"/>
                  </a:lnTo>
                  <a:lnTo>
                    <a:pt x="161" y="123"/>
                  </a:lnTo>
                  <a:lnTo>
                    <a:pt x="138" y="8"/>
                  </a:lnTo>
                  <a:lnTo>
                    <a:pt x="153" y="0"/>
                  </a:lnTo>
                  <a:lnTo>
                    <a:pt x="169" y="8"/>
                  </a:lnTo>
                  <a:lnTo>
                    <a:pt x="198" y="123"/>
                  </a:lnTo>
                  <a:lnTo>
                    <a:pt x="222" y="130"/>
                  </a:lnTo>
                  <a:lnTo>
                    <a:pt x="284" y="8"/>
                  </a:lnTo>
                  <a:lnTo>
                    <a:pt x="299" y="8"/>
                  </a:lnTo>
                  <a:lnTo>
                    <a:pt x="299" y="46"/>
                  </a:lnTo>
                  <a:lnTo>
                    <a:pt x="260" y="146"/>
                  </a:lnTo>
                  <a:lnTo>
                    <a:pt x="260" y="200"/>
                  </a:lnTo>
                  <a:lnTo>
                    <a:pt x="276" y="270"/>
                  </a:lnTo>
                  <a:lnTo>
                    <a:pt x="268" y="361"/>
                  </a:lnTo>
                  <a:lnTo>
                    <a:pt x="276" y="531"/>
                  </a:lnTo>
                  <a:lnTo>
                    <a:pt x="291" y="639"/>
                  </a:lnTo>
                  <a:lnTo>
                    <a:pt x="330" y="762"/>
                  </a:lnTo>
                  <a:lnTo>
                    <a:pt x="383" y="855"/>
                  </a:lnTo>
                  <a:lnTo>
                    <a:pt x="445" y="9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21255000">
              <a:off x="1199880" y="5141880"/>
              <a:ext cx="214920" cy="243360"/>
            </a:xfrm>
            <a:custGeom>
              <a:avLst/>
              <a:gdLst/>
              <a:ahLst/>
              <a:rect l="l" t="t" r="r" b="b"/>
              <a:pathLst>
                <a:path w="915" h="1139">
                  <a:moveTo>
                    <a:pt x="15" y="1008"/>
                  </a:moveTo>
                  <a:lnTo>
                    <a:pt x="0" y="1061"/>
                  </a:lnTo>
                  <a:lnTo>
                    <a:pt x="15" y="1139"/>
                  </a:lnTo>
                  <a:lnTo>
                    <a:pt x="70" y="1139"/>
                  </a:lnTo>
                  <a:lnTo>
                    <a:pt x="231" y="1108"/>
                  </a:lnTo>
                  <a:lnTo>
                    <a:pt x="408" y="1046"/>
                  </a:lnTo>
                  <a:lnTo>
                    <a:pt x="554" y="946"/>
                  </a:lnTo>
                  <a:lnTo>
                    <a:pt x="639" y="816"/>
                  </a:lnTo>
                  <a:lnTo>
                    <a:pt x="715" y="593"/>
                  </a:lnTo>
                  <a:lnTo>
                    <a:pt x="738" y="385"/>
                  </a:lnTo>
                  <a:lnTo>
                    <a:pt x="738" y="285"/>
                  </a:lnTo>
                  <a:lnTo>
                    <a:pt x="777" y="224"/>
                  </a:lnTo>
                  <a:lnTo>
                    <a:pt x="845" y="200"/>
                  </a:lnTo>
                  <a:lnTo>
                    <a:pt x="907" y="200"/>
                  </a:lnTo>
                  <a:lnTo>
                    <a:pt x="915" y="169"/>
                  </a:lnTo>
                  <a:lnTo>
                    <a:pt x="823" y="177"/>
                  </a:lnTo>
                  <a:lnTo>
                    <a:pt x="808" y="154"/>
                  </a:lnTo>
                  <a:lnTo>
                    <a:pt x="884" y="70"/>
                  </a:lnTo>
                  <a:lnTo>
                    <a:pt x="868" y="47"/>
                  </a:lnTo>
                  <a:lnTo>
                    <a:pt x="853" y="62"/>
                  </a:lnTo>
                  <a:lnTo>
                    <a:pt x="792" y="123"/>
                  </a:lnTo>
                  <a:lnTo>
                    <a:pt x="777" y="123"/>
                  </a:lnTo>
                  <a:lnTo>
                    <a:pt x="777" y="16"/>
                  </a:lnTo>
                  <a:lnTo>
                    <a:pt x="761" y="0"/>
                  </a:lnTo>
                  <a:lnTo>
                    <a:pt x="738" y="8"/>
                  </a:lnTo>
                  <a:lnTo>
                    <a:pt x="746" y="123"/>
                  </a:lnTo>
                  <a:lnTo>
                    <a:pt x="730" y="131"/>
                  </a:lnTo>
                  <a:lnTo>
                    <a:pt x="668" y="70"/>
                  </a:lnTo>
                  <a:lnTo>
                    <a:pt x="623" y="62"/>
                  </a:lnTo>
                  <a:lnTo>
                    <a:pt x="631" y="93"/>
                  </a:lnTo>
                  <a:lnTo>
                    <a:pt x="699" y="162"/>
                  </a:lnTo>
                  <a:lnTo>
                    <a:pt x="699" y="200"/>
                  </a:lnTo>
                  <a:lnTo>
                    <a:pt x="676" y="278"/>
                  </a:lnTo>
                  <a:lnTo>
                    <a:pt x="676" y="346"/>
                  </a:lnTo>
                  <a:lnTo>
                    <a:pt x="676" y="462"/>
                  </a:lnTo>
                  <a:lnTo>
                    <a:pt x="645" y="608"/>
                  </a:lnTo>
                  <a:lnTo>
                    <a:pt x="615" y="700"/>
                  </a:lnTo>
                  <a:lnTo>
                    <a:pt x="561" y="816"/>
                  </a:lnTo>
                  <a:lnTo>
                    <a:pt x="499" y="908"/>
                  </a:lnTo>
                  <a:lnTo>
                    <a:pt x="454" y="954"/>
                  </a:lnTo>
                  <a:lnTo>
                    <a:pt x="330" y="993"/>
                  </a:lnTo>
                  <a:lnTo>
                    <a:pt x="215" y="1008"/>
                  </a:lnTo>
                  <a:lnTo>
                    <a:pt x="99" y="1024"/>
                  </a:lnTo>
                  <a:lnTo>
                    <a:pt x="15" y="100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1001880" y="2019240"/>
            <a:ext cx="759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919160" y="243828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952720" y="182880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308240" y="2819520"/>
            <a:ext cx="75960" cy="75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81360" y="3313080"/>
            <a:ext cx="759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81040" y="270504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81320" y="373212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335400" y="2286000"/>
            <a:ext cx="759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09640" y="3541680"/>
            <a:ext cx="777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11360" y="308448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98680" y="3998880"/>
            <a:ext cx="759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532240" y="4075200"/>
            <a:ext cx="75960" cy="75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646360" y="2629080"/>
            <a:ext cx="76320" cy="75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1077480" y="1638360"/>
            <a:ext cx="9939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1957320" y="1635120"/>
            <a:ext cx="114480" cy="800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071800" y="1638360"/>
            <a:ext cx="57456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71800" y="1638360"/>
            <a:ext cx="8809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2684160" y="1866960"/>
            <a:ext cx="306360" cy="7621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1919160" y="2704680"/>
            <a:ext cx="727200" cy="646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1957320" y="2323800"/>
            <a:ext cx="13780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29040" y="1866960"/>
            <a:ext cx="344520" cy="4190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684520" y="2705040"/>
            <a:ext cx="726840" cy="341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373560" y="2324160"/>
            <a:ext cx="75960" cy="7221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57320" y="2514600"/>
            <a:ext cx="1224000" cy="1217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1384200" y="2476440"/>
            <a:ext cx="573120" cy="34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39680" y="2057400"/>
            <a:ext cx="30636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657360" y="2057400"/>
            <a:ext cx="38232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9200" y="2743200"/>
            <a:ext cx="1224000" cy="5698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1574280" y="3351240"/>
            <a:ext cx="344520" cy="647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919160" y="3351240"/>
            <a:ext cx="613080" cy="7239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925560" y="3351240"/>
            <a:ext cx="993600" cy="190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608200" y="3770280"/>
            <a:ext cx="611280" cy="3430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257640" y="3160440"/>
            <a:ext cx="230040" cy="6094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2684160" y="2743200"/>
            <a:ext cx="765000" cy="379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1384200" y="2895480"/>
            <a:ext cx="534960" cy="4557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3219120" y="3122640"/>
            <a:ext cx="230040" cy="6094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570040" y="2781360"/>
            <a:ext cx="76320" cy="13320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1612440" y="4075200"/>
            <a:ext cx="957240" cy="381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346040" y="1714320"/>
            <a:ext cx="649440" cy="11430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47800" y="3579840"/>
            <a:ext cx="650880" cy="4190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19200" y="2743200"/>
            <a:ext cx="190440" cy="7984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19200" y="2743200"/>
            <a:ext cx="689040" cy="1144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2520" y="11430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7600" y="17524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39920" y="25830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58800" y="34574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348200" y="396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07240" y="26971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40400" y="31910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553120" y="40672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47560" y="364824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45560" y="29383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70680" y="21528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92680" y="1687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27360" y="2438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962360" y="220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033640" y="1600200"/>
            <a:ext cx="7776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53960" y="2514600"/>
            <a:ext cx="7162200" cy="3278160"/>
            <a:chOff x="453960" y="2514600"/>
            <a:chExt cx="7162200" cy="3278160"/>
          </a:xfrm>
        </p:grpSpPr>
        <p:sp>
          <p:nvSpPr>
            <p:cNvPr id="485" name=""/>
            <p:cNvSpPr/>
            <p:nvPr/>
          </p:nvSpPr>
          <p:spPr>
            <a:xfrm>
              <a:off x="1752480" y="5241960"/>
              <a:ext cx="5863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Handle some </a:t>
              </a: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foundNotHandled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node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53960" y="2514600"/>
              <a:ext cx="304920" cy="304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24600" cy="4143600"/>
          </a:xfrm>
          <a:prstGeom prst="rect">
            <a:avLst/>
          </a:prstGeom>
          <a:ln w="0">
            <a:noFill/>
          </a:ln>
        </p:spPr>
      </p:pic>
      <p:sp>
        <p:nvSpPr>
          <p:cNvPr id="6088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089" name=""/>
          <p:cNvGrpSpPr/>
          <p:nvPr/>
        </p:nvGrpSpPr>
        <p:grpSpPr>
          <a:xfrm>
            <a:off x="228600" y="1371600"/>
            <a:ext cx="8146800" cy="5335560"/>
            <a:chOff x="228600" y="1371600"/>
            <a:chExt cx="8146800" cy="5335560"/>
          </a:xfrm>
        </p:grpSpPr>
        <p:sp>
          <p:nvSpPr>
            <p:cNvPr id="6090" name=""/>
            <p:cNvSpPr/>
            <p:nvPr/>
          </p:nvSpPr>
          <p:spPr>
            <a:xfrm>
              <a:off x="3733920" y="1371600"/>
              <a:ext cx="457200" cy="1676520"/>
            </a:xfrm>
            <a:custGeom>
              <a:avLst/>
              <a:gdLst/>
              <a:ahLst/>
              <a:rect l="l" t="t" r="r" b="b"/>
              <a:pathLst>
                <a:path w="288" h="1056">
                  <a:moveTo>
                    <a:pt x="0" y="0"/>
                  </a:moveTo>
                  <a:lnTo>
                    <a:pt x="288" y="376"/>
                  </a:lnTo>
                  <a:lnTo>
                    <a:pt x="288" y="1056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91" name=""/>
            <p:cNvGrpSpPr/>
            <p:nvPr/>
          </p:nvGrpSpPr>
          <p:grpSpPr>
            <a:xfrm>
              <a:off x="228600" y="5334120"/>
              <a:ext cx="1181160" cy="1066680"/>
              <a:chOff x="228600" y="5334120"/>
              <a:chExt cx="1181160" cy="1066680"/>
            </a:xfrm>
          </p:grpSpPr>
          <p:sp>
            <p:nvSpPr>
              <p:cNvPr id="6092" name=""/>
              <p:cNvSpPr/>
              <p:nvPr/>
            </p:nvSpPr>
            <p:spPr>
              <a:xfrm>
                <a:off x="228600" y="5334120"/>
                <a:ext cx="1181160" cy="1066680"/>
              </a:xfrm>
              <a:custGeom>
                <a:avLst/>
                <a:gdLst/>
                <a:ahLst/>
                <a:rect l="l" t="t" r="r" b="b"/>
                <a:pathLst>
                  <a:path w="2280" h="1785">
                    <a:moveTo>
                      <a:pt x="748" y="30"/>
                    </a:moveTo>
                    <a:cubicBezTo>
                      <a:pt x="881" y="60"/>
                      <a:pt x="985" y="267"/>
                      <a:pt x="1224" y="305"/>
                    </a:cubicBezTo>
                    <a:cubicBezTo>
                      <a:pt x="1463" y="343"/>
                      <a:pt x="2088" y="121"/>
                      <a:pt x="2184" y="257"/>
                    </a:cubicBezTo>
                    <a:cubicBezTo>
                      <a:pt x="2280" y="393"/>
                      <a:pt x="1873" y="945"/>
                      <a:pt x="1800" y="1121"/>
                    </a:cubicBezTo>
                    <a:cubicBezTo>
                      <a:pt x="1727" y="1297"/>
                      <a:pt x="1757" y="1253"/>
                      <a:pt x="1743" y="1313"/>
                    </a:cubicBezTo>
                    <a:cubicBezTo>
                      <a:pt x="1729" y="1373"/>
                      <a:pt x="1747" y="1440"/>
                      <a:pt x="1717" y="1479"/>
                    </a:cubicBezTo>
                    <a:cubicBezTo>
                      <a:pt x="1687" y="1518"/>
                      <a:pt x="1634" y="1537"/>
                      <a:pt x="1560" y="1549"/>
                    </a:cubicBezTo>
                    <a:cubicBezTo>
                      <a:pt x="1486" y="1561"/>
                      <a:pt x="1504" y="1536"/>
                      <a:pt x="1272" y="1553"/>
                    </a:cubicBezTo>
                    <a:cubicBezTo>
                      <a:pt x="1040" y="1570"/>
                      <a:pt x="336" y="1785"/>
                      <a:pt x="168" y="1649"/>
                    </a:cubicBezTo>
                    <a:cubicBezTo>
                      <a:pt x="0" y="1513"/>
                      <a:pt x="221" y="991"/>
                      <a:pt x="264" y="737"/>
                    </a:cubicBezTo>
                    <a:cubicBezTo>
                      <a:pt x="307" y="483"/>
                      <a:pt x="344" y="244"/>
                      <a:pt x="425" y="126"/>
                    </a:cubicBezTo>
                    <a:cubicBezTo>
                      <a:pt x="506" y="8"/>
                      <a:pt x="615" y="0"/>
                      <a:pt x="748" y="30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93" name=""/>
              <p:cNvGrpSpPr/>
              <p:nvPr/>
            </p:nvGrpSpPr>
            <p:grpSpPr>
              <a:xfrm>
                <a:off x="415080" y="5423040"/>
                <a:ext cx="629640" cy="860400"/>
                <a:chOff x="415080" y="5423040"/>
                <a:chExt cx="629640" cy="860400"/>
              </a:xfrm>
            </p:grpSpPr>
            <p:grpSp>
              <p:nvGrpSpPr>
                <p:cNvPr id="6094" name=""/>
                <p:cNvGrpSpPr/>
                <p:nvPr/>
              </p:nvGrpSpPr>
              <p:grpSpPr>
                <a:xfrm>
                  <a:off x="415080" y="5423040"/>
                  <a:ext cx="592560" cy="842400"/>
                  <a:chOff x="415080" y="5423040"/>
                  <a:chExt cx="592560" cy="842400"/>
                </a:xfrm>
              </p:grpSpPr>
              <p:sp>
                <p:nvSpPr>
                  <p:cNvPr id="6095" name=""/>
                  <p:cNvSpPr/>
                  <p:nvPr/>
                </p:nvSpPr>
                <p:spPr>
                  <a:xfrm>
                    <a:off x="610560" y="5565240"/>
                    <a:ext cx="102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514">
                        <a:moveTo>
                          <a:pt x="132" y="186"/>
                        </a:moveTo>
                        <a:lnTo>
                          <a:pt x="157" y="114"/>
                        </a:lnTo>
                        <a:lnTo>
                          <a:pt x="189" y="42"/>
                        </a:lnTo>
                        <a:lnTo>
                          <a:pt x="236" y="6"/>
                        </a:lnTo>
                        <a:lnTo>
                          <a:pt x="302" y="0"/>
                        </a:lnTo>
                        <a:lnTo>
                          <a:pt x="355" y="24"/>
                        </a:lnTo>
                        <a:lnTo>
                          <a:pt x="393" y="63"/>
                        </a:lnTo>
                        <a:lnTo>
                          <a:pt x="421" y="135"/>
                        </a:lnTo>
                        <a:lnTo>
                          <a:pt x="434" y="222"/>
                        </a:lnTo>
                        <a:lnTo>
                          <a:pt x="434" y="312"/>
                        </a:lnTo>
                        <a:lnTo>
                          <a:pt x="412" y="411"/>
                        </a:lnTo>
                        <a:lnTo>
                          <a:pt x="355" y="474"/>
                        </a:lnTo>
                        <a:lnTo>
                          <a:pt x="299" y="514"/>
                        </a:lnTo>
                        <a:lnTo>
                          <a:pt x="245" y="510"/>
                        </a:lnTo>
                        <a:lnTo>
                          <a:pt x="198" y="468"/>
                        </a:lnTo>
                        <a:lnTo>
                          <a:pt x="157" y="396"/>
                        </a:lnTo>
                        <a:lnTo>
                          <a:pt x="129" y="333"/>
                        </a:lnTo>
                        <a:lnTo>
                          <a:pt x="129" y="252"/>
                        </a:lnTo>
                        <a:lnTo>
                          <a:pt x="0" y="234"/>
                        </a:lnTo>
                        <a:lnTo>
                          <a:pt x="16" y="189"/>
                        </a:lnTo>
                        <a:lnTo>
                          <a:pt x="132" y="186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6" name=""/>
                  <p:cNvSpPr/>
                  <p:nvPr/>
                </p:nvSpPr>
                <p:spPr>
                  <a:xfrm>
                    <a:off x="678600" y="5423040"/>
                    <a:ext cx="134280" cy="398880"/>
                  </a:xfrm>
                  <a:custGeom>
                    <a:avLst/>
                    <a:gdLst/>
                    <a:ahLst/>
                    <a:rect l="l" t="t" r="r" b="b"/>
                    <a:pathLst>
                      <a:path w="566" h="1154">
                        <a:moveTo>
                          <a:pt x="13" y="1145"/>
                        </a:moveTo>
                        <a:lnTo>
                          <a:pt x="0" y="1088"/>
                        </a:lnTo>
                        <a:lnTo>
                          <a:pt x="31" y="1042"/>
                        </a:lnTo>
                        <a:lnTo>
                          <a:pt x="134" y="988"/>
                        </a:lnTo>
                        <a:lnTo>
                          <a:pt x="226" y="927"/>
                        </a:lnTo>
                        <a:lnTo>
                          <a:pt x="313" y="827"/>
                        </a:lnTo>
                        <a:lnTo>
                          <a:pt x="432" y="689"/>
                        </a:lnTo>
                        <a:lnTo>
                          <a:pt x="463" y="634"/>
                        </a:lnTo>
                        <a:lnTo>
                          <a:pt x="479" y="580"/>
                        </a:lnTo>
                        <a:lnTo>
                          <a:pt x="472" y="526"/>
                        </a:lnTo>
                        <a:lnTo>
                          <a:pt x="444" y="426"/>
                        </a:lnTo>
                        <a:lnTo>
                          <a:pt x="376" y="299"/>
                        </a:lnTo>
                        <a:lnTo>
                          <a:pt x="301" y="229"/>
                        </a:lnTo>
                        <a:lnTo>
                          <a:pt x="235" y="190"/>
                        </a:lnTo>
                        <a:lnTo>
                          <a:pt x="181" y="184"/>
                        </a:lnTo>
                        <a:lnTo>
                          <a:pt x="153" y="190"/>
                        </a:lnTo>
                        <a:lnTo>
                          <a:pt x="150" y="163"/>
                        </a:lnTo>
                        <a:lnTo>
                          <a:pt x="215" y="154"/>
                        </a:lnTo>
                        <a:lnTo>
                          <a:pt x="291" y="154"/>
                        </a:lnTo>
                        <a:lnTo>
                          <a:pt x="238" y="93"/>
                        </a:lnTo>
                        <a:lnTo>
                          <a:pt x="206" y="45"/>
                        </a:lnTo>
                        <a:lnTo>
                          <a:pt x="229" y="27"/>
                        </a:lnTo>
                        <a:lnTo>
                          <a:pt x="313" y="109"/>
                        </a:lnTo>
                        <a:lnTo>
                          <a:pt x="329" y="121"/>
                        </a:lnTo>
                        <a:lnTo>
                          <a:pt x="313" y="57"/>
                        </a:lnTo>
                        <a:lnTo>
                          <a:pt x="301" y="9"/>
                        </a:lnTo>
                        <a:lnTo>
                          <a:pt x="313" y="0"/>
                        </a:lnTo>
                        <a:lnTo>
                          <a:pt x="341" y="9"/>
                        </a:lnTo>
                        <a:lnTo>
                          <a:pt x="366" y="121"/>
                        </a:lnTo>
                        <a:lnTo>
                          <a:pt x="379" y="118"/>
                        </a:lnTo>
                        <a:lnTo>
                          <a:pt x="379" y="30"/>
                        </a:lnTo>
                        <a:lnTo>
                          <a:pt x="404" y="21"/>
                        </a:lnTo>
                        <a:lnTo>
                          <a:pt x="422" y="36"/>
                        </a:lnTo>
                        <a:lnTo>
                          <a:pt x="413" y="154"/>
                        </a:lnTo>
                        <a:lnTo>
                          <a:pt x="407" y="202"/>
                        </a:lnTo>
                        <a:lnTo>
                          <a:pt x="422" y="299"/>
                        </a:lnTo>
                        <a:lnTo>
                          <a:pt x="472" y="402"/>
                        </a:lnTo>
                        <a:lnTo>
                          <a:pt x="525" y="520"/>
                        </a:lnTo>
                        <a:lnTo>
                          <a:pt x="566" y="607"/>
                        </a:lnTo>
                        <a:lnTo>
                          <a:pt x="563" y="652"/>
                        </a:lnTo>
                        <a:lnTo>
                          <a:pt x="488" y="734"/>
                        </a:lnTo>
                        <a:lnTo>
                          <a:pt x="385" y="836"/>
                        </a:lnTo>
                        <a:lnTo>
                          <a:pt x="301" y="937"/>
                        </a:lnTo>
                        <a:lnTo>
                          <a:pt x="197" y="1070"/>
                        </a:lnTo>
                        <a:lnTo>
                          <a:pt x="112" y="1136"/>
                        </a:lnTo>
                        <a:lnTo>
                          <a:pt x="47" y="1154"/>
                        </a:lnTo>
                        <a:lnTo>
                          <a:pt x="13" y="1145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7" name=""/>
                  <p:cNvSpPr/>
                  <p:nvPr/>
                </p:nvSpPr>
                <p:spPr>
                  <a:xfrm>
                    <a:off x="415080" y="5794920"/>
                    <a:ext cx="246240" cy="20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37" h="581">
                        <a:moveTo>
                          <a:pt x="210" y="468"/>
                        </a:moveTo>
                        <a:lnTo>
                          <a:pt x="361" y="462"/>
                        </a:lnTo>
                        <a:lnTo>
                          <a:pt x="498" y="444"/>
                        </a:lnTo>
                        <a:lnTo>
                          <a:pt x="583" y="423"/>
                        </a:lnTo>
                        <a:lnTo>
                          <a:pt x="705" y="354"/>
                        </a:lnTo>
                        <a:lnTo>
                          <a:pt x="792" y="288"/>
                        </a:lnTo>
                        <a:lnTo>
                          <a:pt x="906" y="207"/>
                        </a:lnTo>
                        <a:lnTo>
                          <a:pt x="959" y="156"/>
                        </a:lnTo>
                        <a:lnTo>
                          <a:pt x="1000" y="120"/>
                        </a:lnTo>
                        <a:lnTo>
                          <a:pt x="1037" y="81"/>
                        </a:lnTo>
                        <a:lnTo>
                          <a:pt x="1037" y="39"/>
                        </a:lnTo>
                        <a:lnTo>
                          <a:pt x="996" y="0"/>
                        </a:lnTo>
                        <a:lnTo>
                          <a:pt x="971" y="9"/>
                        </a:lnTo>
                        <a:lnTo>
                          <a:pt x="903" y="90"/>
                        </a:lnTo>
                        <a:lnTo>
                          <a:pt x="828" y="183"/>
                        </a:lnTo>
                        <a:lnTo>
                          <a:pt x="752" y="270"/>
                        </a:lnTo>
                        <a:lnTo>
                          <a:pt x="642" y="342"/>
                        </a:lnTo>
                        <a:lnTo>
                          <a:pt x="548" y="390"/>
                        </a:lnTo>
                        <a:lnTo>
                          <a:pt x="445" y="414"/>
                        </a:lnTo>
                        <a:lnTo>
                          <a:pt x="301" y="417"/>
                        </a:lnTo>
                        <a:lnTo>
                          <a:pt x="216" y="417"/>
                        </a:lnTo>
                        <a:lnTo>
                          <a:pt x="144" y="363"/>
                        </a:lnTo>
                        <a:lnTo>
                          <a:pt x="125" y="327"/>
                        </a:lnTo>
                        <a:lnTo>
                          <a:pt x="94" y="327"/>
                        </a:lnTo>
                        <a:lnTo>
                          <a:pt x="116" y="372"/>
                        </a:lnTo>
                        <a:lnTo>
                          <a:pt x="150" y="414"/>
                        </a:lnTo>
                        <a:lnTo>
                          <a:pt x="66" y="396"/>
                        </a:lnTo>
                        <a:lnTo>
                          <a:pt x="3" y="387"/>
                        </a:lnTo>
                        <a:lnTo>
                          <a:pt x="3" y="405"/>
                        </a:lnTo>
                        <a:lnTo>
                          <a:pt x="59" y="417"/>
                        </a:lnTo>
                        <a:lnTo>
                          <a:pt x="97" y="441"/>
                        </a:lnTo>
                        <a:lnTo>
                          <a:pt x="131" y="444"/>
                        </a:lnTo>
                        <a:lnTo>
                          <a:pt x="78" y="462"/>
                        </a:lnTo>
                        <a:lnTo>
                          <a:pt x="0" y="481"/>
                        </a:lnTo>
                        <a:lnTo>
                          <a:pt x="3" y="499"/>
                        </a:lnTo>
                        <a:lnTo>
                          <a:pt x="28" y="505"/>
                        </a:lnTo>
                        <a:lnTo>
                          <a:pt x="103" y="481"/>
                        </a:lnTo>
                        <a:lnTo>
                          <a:pt x="150" y="477"/>
                        </a:lnTo>
                        <a:lnTo>
                          <a:pt x="122" y="505"/>
                        </a:lnTo>
                        <a:lnTo>
                          <a:pt x="78" y="550"/>
                        </a:lnTo>
                        <a:lnTo>
                          <a:pt x="59" y="562"/>
                        </a:lnTo>
                        <a:lnTo>
                          <a:pt x="75" y="581"/>
                        </a:lnTo>
                        <a:lnTo>
                          <a:pt x="113" y="559"/>
                        </a:lnTo>
                        <a:lnTo>
                          <a:pt x="163" y="514"/>
                        </a:lnTo>
                        <a:lnTo>
                          <a:pt x="210" y="46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8" name=""/>
                  <p:cNvSpPr/>
                  <p:nvPr/>
                </p:nvSpPr>
                <p:spPr>
                  <a:xfrm>
                    <a:off x="641880" y="5774400"/>
                    <a:ext cx="144360" cy="27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08" h="800">
                        <a:moveTo>
                          <a:pt x="38" y="90"/>
                        </a:moveTo>
                        <a:lnTo>
                          <a:pt x="63" y="27"/>
                        </a:lnTo>
                        <a:lnTo>
                          <a:pt x="104" y="0"/>
                        </a:lnTo>
                        <a:lnTo>
                          <a:pt x="141" y="0"/>
                        </a:lnTo>
                        <a:lnTo>
                          <a:pt x="179" y="18"/>
                        </a:lnTo>
                        <a:lnTo>
                          <a:pt x="216" y="54"/>
                        </a:lnTo>
                        <a:lnTo>
                          <a:pt x="235" y="117"/>
                        </a:lnTo>
                        <a:lnTo>
                          <a:pt x="245" y="180"/>
                        </a:lnTo>
                        <a:lnTo>
                          <a:pt x="263" y="243"/>
                        </a:lnTo>
                        <a:lnTo>
                          <a:pt x="298" y="312"/>
                        </a:lnTo>
                        <a:lnTo>
                          <a:pt x="357" y="384"/>
                        </a:lnTo>
                        <a:lnTo>
                          <a:pt x="415" y="432"/>
                        </a:lnTo>
                        <a:lnTo>
                          <a:pt x="499" y="468"/>
                        </a:lnTo>
                        <a:lnTo>
                          <a:pt x="571" y="522"/>
                        </a:lnTo>
                        <a:lnTo>
                          <a:pt x="608" y="577"/>
                        </a:lnTo>
                        <a:lnTo>
                          <a:pt x="602" y="622"/>
                        </a:lnTo>
                        <a:lnTo>
                          <a:pt x="593" y="676"/>
                        </a:lnTo>
                        <a:lnTo>
                          <a:pt x="565" y="712"/>
                        </a:lnTo>
                        <a:lnTo>
                          <a:pt x="518" y="757"/>
                        </a:lnTo>
                        <a:lnTo>
                          <a:pt x="449" y="790"/>
                        </a:lnTo>
                        <a:lnTo>
                          <a:pt x="396" y="800"/>
                        </a:lnTo>
                        <a:lnTo>
                          <a:pt x="320" y="784"/>
                        </a:lnTo>
                        <a:lnTo>
                          <a:pt x="251" y="748"/>
                        </a:lnTo>
                        <a:lnTo>
                          <a:pt x="179" y="694"/>
                        </a:lnTo>
                        <a:lnTo>
                          <a:pt x="129" y="631"/>
                        </a:lnTo>
                        <a:lnTo>
                          <a:pt x="82" y="550"/>
                        </a:lnTo>
                        <a:lnTo>
                          <a:pt x="44" y="456"/>
                        </a:lnTo>
                        <a:lnTo>
                          <a:pt x="19" y="375"/>
                        </a:lnTo>
                        <a:lnTo>
                          <a:pt x="7" y="297"/>
                        </a:lnTo>
                        <a:lnTo>
                          <a:pt x="0" y="189"/>
                        </a:lnTo>
                        <a:lnTo>
                          <a:pt x="19" y="117"/>
                        </a:lnTo>
                        <a:lnTo>
                          <a:pt x="38" y="9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9" name=""/>
                  <p:cNvSpPr/>
                  <p:nvPr/>
                </p:nvSpPr>
                <p:spPr>
                  <a:xfrm>
                    <a:off x="759960" y="5892480"/>
                    <a:ext cx="2476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3" h="726">
                        <a:moveTo>
                          <a:pt x="116" y="230"/>
                        </a:moveTo>
                        <a:lnTo>
                          <a:pt x="216" y="147"/>
                        </a:lnTo>
                        <a:lnTo>
                          <a:pt x="338" y="72"/>
                        </a:lnTo>
                        <a:lnTo>
                          <a:pt x="417" y="27"/>
                        </a:lnTo>
                        <a:lnTo>
                          <a:pt x="479" y="12"/>
                        </a:lnTo>
                        <a:lnTo>
                          <a:pt x="529" y="0"/>
                        </a:lnTo>
                        <a:lnTo>
                          <a:pt x="573" y="18"/>
                        </a:lnTo>
                        <a:lnTo>
                          <a:pt x="601" y="75"/>
                        </a:lnTo>
                        <a:lnTo>
                          <a:pt x="620" y="230"/>
                        </a:lnTo>
                        <a:lnTo>
                          <a:pt x="620" y="416"/>
                        </a:lnTo>
                        <a:lnTo>
                          <a:pt x="620" y="536"/>
                        </a:lnTo>
                        <a:lnTo>
                          <a:pt x="642" y="609"/>
                        </a:lnTo>
                        <a:lnTo>
                          <a:pt x="686" y="597"/>
                        </a:lnTo>
                        <a:lnTo>
                          <a:pt x="717" y="552"/>
                        </a:lnTo>
                        <a:lnTo>
                          <a:pt x="779" y="500"/>
                        </a:lnTo>
                        <a:lnTo>
                          <a:pt x="876" y="470"/>
                        </a:lnTo>
                        <a:lnTo>
                          <a:pt x="943" y="470"/>
                        </a:lnTo>
                        <a:lnTo>
                          <a:pt x="1043" y="488"/>
                        </a:lnTo>
                        <a:lnTo>
                          <a:pt x="1037" y="524"/>
                        </a:lnTo>
                        <a:lnTo>
                          <a:pt x="1015" y="555"/>
                        </a:lnTo>
                        <a:lnTo>
                          <a:pt x="981" y="561"/>
                        </a:lnTo>
                        <a:lnTo>
                          <a:pt x="943" y="542"/>
                        </a:lnTo>
                        <a:lnTo>
                          <a:pt x="886" y="518"/>
                        </a:lnTo>
                        <a:lnTo>
                          <a:pt x="829" y="518"/>
                        </a:lnTo>
                        <a:lnTo>
                          <a:pt x="754" y="564"/>
                        </a:lnTo>
                        <a:lnTo>
                          <a:pt x="708" y="633"/>
                        </a:lnTo>
                        <a:lnTo>
                          <a:pt x="698" y="690"/>
                        </a:lnTo>
                        <a:lnTo>
                          <a:pt x="679" y="726"/>
                        </a:lnTo>
                        <a:lnTo>
                          <a:pt x="604" y="723"/>
                        </a:lnTo>
                        <a:lnTo>
                          <a:pt x="601" y="669"/>
                        </a:lnTo>
                        <a:lnTo>
                          <a:pt x="576" y="591"/>
                        </a:lnTo>
                        <a:lnTo>
                          <a:pt x="567" y="509"/>
                        </a:lnTo>
                        <a:lnTo>
                          <a:pt x="573" y="401"/>
                        </a:lnTo>
                        <a:lnTo>
                          <a:pt x="564" y="248"/>
                        </a:lnTo>
                        <a:lnTo>
                          <a:pt x="558" y="147"/>
                        </a:lnTo>
                        <a:lnTo>
                          <a:pt x="539" y="111"/>
                        </a:lnTo>
                        <a:lnTo>
                          <a:pt x="501" y="75"/>
                        </a:lnTo>
                        <a:lnTo>
                          <a:pt x="461" y="75"/>
                        </a:lnTo>
                        <a:lnTo>
                          <a:pt x="403" y="111"/>
                        </a:lnTo>
                        <a:lnTo>
                          <a:pt x="328" y="181"/>
                        </a:lnTo>
                        <a:lnTo>
                          <a:pt x="235" y="272"/>
                        </a:lnTo>
                        <a:lnTo>
                          <a:pt x="141" y="356"/>
                        </a:lnTo>
                        <a:lnTo>
                          <a:pt x="94" y="383"/>
                        </a:lnTo>
                        <a:lnTo>
                          <a:pt x="38" y="383"/>
                        </a:lnTo>
                        <a:lnTo>
                          <a:pt x="0" y="344"/>
                        </a:lnTo>
                        <a:lnTo>
                          <a:pt x="3" y="281"/>
                        </a:lnTo>
                        <a:lnTo>
                          <a:pt x="41" y="248"/>
                        </a:lnTo>
                        <a:lnTo>
                          <a:pt x="84" y="239"/>
                        </a:lnTo>
                        <a:lnTo>
                          <a:pt x="116" y="23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0" name=""/>
                  <p:cNvSpPr/>
                  <p:nvPr/>
                </p:nvSpPr>
                <p:spPr>
                  <a:xfrm>
                    <a:off x="746640" y="6001920"/>
                    <a:ext cx="16920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713" h="762">
                        <a:moveTo>
                          <a:pt x="0" y="64"/>
                        </a:moveTo>
                        <a:lnTo>
                          <a:pt x="22" y="16"/>
                        </a:lnTo>
                        <a:lnTo>
                          <a:pt x="69" y="0"/>
                        </a:lnTo>
                        <a:lnTo>
                          <a:pt x="134" y="7"/>
                        </a:lnTo>
                        <a:lnTo>
                          <a:pt x="150" y="52"/>
                        </a:lnTo>
                        <a:lnTo>
                          <a:pt x="125" y="227"/>
                        </a:lnTo>
                        <a:lnTo>
                          <a:pt x="122" y="360"/>
                        </a:lnTo>
                        <a:lnTo>
                          <a:pt x="116" y="435"/>
                        </a:lnTo>
                        <a:lnTo>
                          <a:pt x="116" y="450"/>
                        </a:lnTo>
                        <a:lnTo>
                          <a:pt x="131" y="524"/>
                        </a:lnTo>
                        <a:lnTo>
                          <a:pt x="172" y="536"/>
                        </a:lnTo>
                        <a:lnTo>
                          <a:pt x="225" y="524"/>
                        </a:lnTo>
                        <a:lnTo>
                          <a:pt x="303" y="481"/>
                        </a:lnTo>
                        <a:lnTo>
                          <a:pt x="387" y="460"/>
                        </a:lnTo>
                        <a:lnTo>
                          <a:pt x="482" y="444"/>
                        </a:lnTo>
                        <a:lnTo>
                          <a:pt x="585" y="432"/>
                        </a:lnTo>
                        <a:lnTo>
                          <a:pt x="660" y="432"/>
                        </a:lnTo>
                        <a:lnTo>
                          <a:pt x="694" y="441"/>
                        </a:lnTo>
                        <a:lnTo>
                          <a:pt x="713" y="463"/>
                        </a:lnTo>
                        <a:lnTo>
                          <a:pt x="704" y="496"/>
                        </a:lnTo>
                        <a:lnTo>
                          <a:pt x="657" y="524"/>
                        </a:lnTo>
                        <a:lnTo>
                          <a:pt x="613" y="563"/>
                        </a:lnTo>
                        <a:lnTo>
                          <a:pt x="572" y="618"/>
                        </a:lnTo>
                        <a:lnTo>
                          <a:pt x="547" y="663"/>
                        </a:lnTo>
                        <a:lnTo>
                          <a:pt x="526" y="708"/>
                        </a:lnTo>
                        <a:lnTo>
                          <a:pt x="510" y="762"/>
                        </a:lnTo>
                        <a:lnTo>
                          <a:pt x="488" y="762"/>
                        </a:lnTo>
                        <a:lnTo>
                          <a:pt x="469" y="741"/>
                        </a:lnTo>
                        <a:lnTo>
                          <a:pt x="462" y="681"/>
                        </a:lnTo>
                        <a:lnTo>
                          <a:pt x="507" y="627"/>
                        </a:lnTo>
                        <a:lnTo>
                          <a:pt x="566" y="563"/>
                        </a:lnTo>
                        <a:lnTo>
                          <a:pt x="622" y="515"/>
                        </a:lnTo>
                        <a:lnTo>
                          <a:pt x="647" y="499"/>
                        </a:lnTo>
                        <a:lnTo>
                          <a:pt x="657" y="478"/>
                        </a:lnTo>
                        <a:lnTo>
                          <a:pt x="632" y="463"/>
                        </a:lnTo>
                        <a:lnTo>
                          <a:pt x="547" y="463"/>
                        </a:lnTo>
                        <a:lnTo>
                          <a:pt x="440" y="481"/>
                        </a:lnTo>
                        <a:lnTo>
                          <a:pt x="356" y="509"/>
                        </a:lnTo>
                        <a:lnTo>
                          <a:pt x="265" y="560"/>
                        </a:lnTo>
                        <a:lnTo>
                          <a:pt x="187" y="596"/>
                        </a:lnTo>
                        <a:lnTo>
                          <a:pt x="103" y="599"/>
                        </a:lnTo>
                        <a:lnTo>
                          <a:pt x="69" y="587"/>
                        </a:lnTo>
                        <a:lnTo>
                          <a:pt x="50" y="542"/>
                        </a:lnTo>
                        <a:lnTo>
                          <a:pt x="37" y="478"/>
                        </a:lnTo>
                        <a:lnTo>
                          <a:pt x="31" y="360"/>
                        </a:lnTo>
                        <a:lnTo>
                          <a:pt x="19" y="151"/>
                        </a:lnTo>
                        <a:lnTo>
                          <a:pt x="0" y="64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01" name=""/>
                <p:cNvGrpSpPr/>
                <p:nvPr/>
              </p:nvGrpSpPr>
              <p:grpSpPr>
                <a:xfrm>
                  <a:off x="942480" y="5980320"/>
                  <a:ext cx="102240" cy="303120"/>
                  <a:chOff x="942480" y="5980320"/>
                  <a:chExt cx="102240" cy="303120"/>
                </a:xfrm>
              </p:grpSpPr>
              <p:sp>
                <p:nvSpPr>
                  <p:cNvPr id="6102" name=""/>
                  <p:cNvSpPr/>
                  <p:nvPr/>
                </p:nvSpPr>
                <p:spPr>
                  <a:xfrm>
                    <a:off x="964080" y="6149160"/>
                    <a:ext cx="8064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09">
                        <a:moveTo>
                          <a:pt x="340" y="109"/>
                        </a:moveTo>
                        <a:lnTo>
                          <a:pt x="165" y="30"/>
                        </a:lnTo>
                        <a:lnTo>
                          <a:pt x="48" y="0"/>
                        </a:lnTo>
                        <a:lnTo>
                          <a:pt x="10" y="0"/>
                        </a:lnTo>
                        <a:lnTo>
                          <a:pt x="0" y="27"/>
                        </a:lnTo>
                        <a:lnTo>
                          <a:pt x="22" y="48"/>
                        </a:lnTo>
                        <a:lnTo>
                          <a:pt x="70" y="54"/>
                        </a:lnTo>
                        <a:lnTo>
                          <a:pt x="184" y="75"/>
                        </a:lnTo>
                        <a:lnTo>
                          <a:pt x="340" y="109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3" name=""/>
                  <p:cNvSpPr/>
                  <p:nvPr/>
                </p:nvSpPr>
                <p:spPr>
                  <a:xfrm>
                    <a:off x="942480" y="6183000"/>
                    <a:ext cx="2268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291">
                        <a:moveTo>
                          <a:pt x="97" y="291"/>
                        </a:moveTo>
                        <a:lnTo>
                          <a:pt x="94" y="148"/>
                        </a:lnTo>
                        <a:lnTo>
                          <a:pt x="69" y="39"/>
                        </a:lnTo>
                        <a:lnTo>
                          <a:pt x="41" y="0"/>
                        </a:lnTo>
                        <a:lnTo>
                          <a:pt x="19" y="0"/>
                        </a:lnTo>
                        <a:lnTo>
                          <a:pt x="0" y="12"/>
                        </a:lnTo>
                        <a:lnTo>
                          <a:pt x="0" y="54"/>
                        </a:lnTo>
                        <a:lnTo>
                          <a:pt x="47" y="184"/>
                        </a:lnTo>
                        <a:lnTo>
                          <a:pt x="97" y="29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4" name=""/>
                  <p:cNvSpPr/>
                  <p:nvPr/>
                </p:nvSpPr>
                <p:spPr>
                  <a:xfrm>
                    <a:off x="975600" y="5980320"/>
                    <a:ext cx="507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111">
                        <a:moveTo>
                          <a:pt x="0" y="72"/>
                        </a:moveTo>
                        <a:lnTo>
                          <a:pt x="42" y="30"/>
                        </a:lnTo>
                        <a:lnTo>
                          <a:pt x="100" y="3"/>
                        </a:lnTo>
                        <a:lnTo>
                          <a:pt x="166" y="0"/>
                        </a:lnTo>
                        <a:lnTo>
                          <a:pt x="214" y="9"/>
                        </a:lnTo>
                        <a:lnTo>
                          <a:pt x="138" y="18"/>
                        </a:lnTo>
                        <a:lnTo>
                          <a:pt x="109" y="36"/>
                        </a:lnTo>
                        <a:lnTo>
                          <a:pt x="81" y="63"/>
                        </a:lnTo>
                        <a:lnTo>
                          <a:pt x="68" y="93"/>
                        </a:lnTo>
                        <a:lnTo>
                          <a:pt x="42" y="111"/>
                        </a:lnTo>
                        <a:lnTo>
                          <a:pt x="10" y="108"/>
                        </a:lnTo>
                        <a:lnTo>
                          <a:pt x="0" y="72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105" name=""/>
            <p:cNvSpPr/>
            <p:nvPr/>
          </p:nvSpPr>
          <p:spPr>
            <a:xfrm>
              <a:off x="988920" y="6156360"/>
              <a:ext cx="7386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The nodes in the stack form a path starting at 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6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6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6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07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8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9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0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1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2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3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4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5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6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7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8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9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0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1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2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3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4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5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6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7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8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9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0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1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2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3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4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5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6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7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8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9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0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1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2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3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4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5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6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7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8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9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0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1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2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3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4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5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6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7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8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9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0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1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2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3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4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5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6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67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8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9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0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1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2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3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4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5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6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7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8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9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0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1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2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3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4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5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6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7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8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9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0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1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2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3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4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5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6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7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8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9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0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1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2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3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4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5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6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7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8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9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0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1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2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3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4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5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6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7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8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9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0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1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2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3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4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5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6" name=""/>
          <p:cNvSpPr/>
          <p:nvPr/>
        </p:nvSpPr>
        <p:spPr>
          <a:xfrm>
            <a:off x="3429000" y="121932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7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8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29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0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1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2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3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4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5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6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7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8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9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0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1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2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3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4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5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6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7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8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9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0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1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2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3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4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5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6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7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8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9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0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1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2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3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4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5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6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7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8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9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0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1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2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3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4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5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6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7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8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9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0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1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2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3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4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5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6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7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8" name=""/>
          <p:cNvSpPr/>
          <p:nvPr/>
        </p:nvSpPr>
        <p:spPr>
          <a:xfrm>
            <a:off x="7354440" y="4572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,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9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0" name=""/>
          <p:cNvSpPr/>
          <p:nvPr/>
        </p:nvSpPr>
        <p:spPr>
          <a:xfrm>
            <a:off x="1371600" y="205740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92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3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4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5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6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7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8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9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0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1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2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3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4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5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6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7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8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9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0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1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2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3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4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5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6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7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8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9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0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1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2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3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4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5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6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7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8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9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0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1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2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3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4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5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6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7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8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9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0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1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2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3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4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5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6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7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8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9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0" name=""/>
          <p:cNvSpPr/>
          <p:nvPr/>
        </p:nvSpPr>
        <p:spPr>
          <a:xfrm>
            <a:off x="7354440" y="4572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1" name=""/>
          <p:cNvSpPr/>
          <p:nvPr/>
        </p:nvSpPr>
        <p:spPr>
          <a:xfrm>
            <a:off x="7350120" y="4191120"/>
            <a:ext cx="63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,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2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3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4" name=""/>
          <p:cNvSpPr/>
          <p:nvPr/>
        </p:nvSpPr>
        <p:spPr>
          <a:xfrm>
            <a:off x="533520" y="342900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5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56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7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8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9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0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1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2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3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4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5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6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7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8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9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0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1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2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3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4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5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6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7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8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9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0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1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2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3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4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5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6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7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8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9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0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1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2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3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4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5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6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7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8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9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0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1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2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3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4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5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6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7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8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9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0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1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2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3" name=""/>
          <p:cNvSpPr/>
          <p:nvPr/>
        </p:nvSpPr>
        <p:spPr>
          <a:xfrm>
            <a:off x="7354440" y="4572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4" name=""/>
          <p:cNvSpPr/>
          <p:nvPr/>
        </p:nvSpPr>
        <p:spPr>
          <a:xfrm>
            <a:off x="7350120" y="4191120"/>
            <a:ext cx="63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5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6" name=""/>
          <p:cNvSpPr/>
          <p:nvPr/>
        </p:nvSpPr>
        <p:spPr>
          <a:xfrm>
            <a:off x="7354440" y="387036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,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7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8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9" name=""/>
          <p:cNvSpPr/>
          <p:nvPr/>
        </p:nvSpPr>
        <p:spPr>
          <a:xfrm>
            <a:off x="990720" y="510552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0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21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2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3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4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5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6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7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8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9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0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1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2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3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4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5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6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7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8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9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0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1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2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3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4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5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6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7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8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9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0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1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2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3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4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5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6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7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8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9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0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1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2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3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4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5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6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7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8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9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0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1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2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3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4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5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6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7" name=""/>
          <p:cNvSpPr/>
          <p:nvPr/>
        </p:nvSpPr>
        <p:spPr>
          <a:xfrm>
            <a:off x="7354440" y="4572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8" name=""/>
          <p:cNvSpPr/>
          <p:nvPr/>
        </p:nvSpPr>
        <p:spPr>
          <a:xfrm>
            <a:off x="7350120" y="4191120"/>
            <a:ext cx="63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9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0" name=""/>
          <p:cNvSpPr/>
          <p:nvPr/>
        </p:nvSpPr>
        <p:spPr>
          <a:xfrm>
            <a:off x="7354440" y="387036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1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2" name=""/>
          <p:cNvSpPr/>
          <p:nvPr/>
        </p:nvSpPr>
        <p:spPr>
          <a:xfrm>
            <a:off x="7342200" y="3505320"/>
            <a:ext cx="63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,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3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4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5" name=""/>
          <p:cNvSpPr/>
          <p:nvPr/>
        </p:nvSpPr>
        <p:spPr>
          <a:xfrm>
            <a:off x="2362320" y="601992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6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87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8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9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0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1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2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3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4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5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6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7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8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9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0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1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2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3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4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5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6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7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8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9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0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1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2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3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4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5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6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7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8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9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0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1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2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3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4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5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6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7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8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9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0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1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2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3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4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5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6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7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8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9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0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1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2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3" name=""/>
          <p:cNvSpPr/>
          <p:nvPr/>
        </p:nvSpPr>
        <p:spPr>
          <a:xfrm>
            <a:off x="7354440" y="4572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4" name=""/>
          <p:cNvSpPr/>
          <p:nvPr/>
        </p:nvSpPr>
        <p:spPr>
          <a:xfrm>
            <a:off x="7350120" y="4191120"/>
            <a:ext cx="63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5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6" name=""/>
          <p:cNvSpPr/>
          <p:nvPr/>
        </p:nvSpPr>
        <p:spPr>
          <a:xfrm>
            <a:off x="7354440" y="387036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7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8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9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0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1" name=""/>
          <p:cNvSpPr/>
          <p:nvPr/>
        </p:nvSpPr>
        <p:spPr>
          <a:xfrm>
            <a:off x="990720" y="510552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2" name=""/>
          <p:cNvSpPr/>
          <p:nvPr/>
        </p:nvSpPr>
        <p:spPr>
          <a:xfrm>
            <a:off x="383760" y="5943600"/>
            <a:ext cx="1758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ee Edg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3" name=""/>
          <p:cNvSpPr/>
          <p:nvPr/>
        </p:nvSpPr>
        <p:spPr>
          <a:xfrm>
            <a:off x="126360" y="4343400"/>
            <a:ext cx="227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Path on Stac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6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6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6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6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55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6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7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8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9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0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1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2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3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4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5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6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7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8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9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0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1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2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3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4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5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6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7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8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9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0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1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2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3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4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5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6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7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8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9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0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1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2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3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4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5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6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7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8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9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0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1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2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3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4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5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6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7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8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9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0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1" name=""/>
          <p:cNvSpPr/>
          <p:nvPr/>
        </p:nvSpPr>
        <p:spPr>
          <a:xfrm>
            <a:off x="7354440" y="4572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2" name=""/>
          <p:cNvSpPr/>
          <p:nvPr/>
        </p:nvSpPr>
        <p:spPr>
          <a:xfrm>
            <a:off x="7350120" y="4191120"/>
            <a:ext cx="63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3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4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5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6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7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8" name=""/>
          <p:cNvSpPr/>
          <p:nvPr/>
        </p:nvSpPr>
        <p:spPr>
          <a:xfrm>
            <a:off x="533520" y="342900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20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1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2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3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4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5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6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7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8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9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0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1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2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3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4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5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6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7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8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9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0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1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2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3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4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5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6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7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8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9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0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1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2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3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4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5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6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7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8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9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0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1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2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3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4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5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6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7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8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9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0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1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2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3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4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5" name=""/>
          <p:cNvSpPr/>
          <p:nvPr/>
        </p:nvSpPr>
        <p:spPr>
          <a:xfrm>
            <a:off x="7354440" y="4572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6" name=""/>
          <p:cNvSpPr/>
          <p:nvPr/>
        </p:nvSpPr>
        <p:spPr>
          <a:xfrm>
            <a:off x="7350120" y="4191120"/>
            <a:ext cx="63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,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7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8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9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0" name=""/>
          <p:cNvSpPr/>
          <p:nvPr/>
        </p:nvSpPr>
        <p:spPr>
          <a:xfrm>
            <a:off x="7355160" y="3870360"/>
            <a:ext cx="5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,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1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2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3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4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5" name=""/>
          <p:cNvSpPr/>
          <p:nvPr/>
        </p:nvSpPr>
        <p:spPr>
          <a:xfrm>
            <a:off x="3124080" y="467352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001880" y="1943280"/>
            <a:ext cx="75960" cy="75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919160" y="2362320"/>
            <a:ext cx="76320" cy="75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952720" y="175248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308240" y="2743200"/>
            <a:ext cx="759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81360" y="3236760"/>
            <a:ext cx="759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81040" y="2629080"/>
            <a:ext cx="76320" cy="75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81320" y="3656160"/>
            <a:ext cx="76320" cy="75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335400" y="2209680"/>
            <a:ext cx="759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09640" y="3465360"/>
            <a:ext cx="777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411360" y="300816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498680" y="3922560"/>
            <a:ext cx="759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32240" y="3998880"/>
            <a:ext cx="759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646360" y="255276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1077480" y="1562040"/>
            <a:ext cx="99396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957320" y="1558800"/>
            <a:ext cx="114480" cy="800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071800" y="1562040"/>
            <a:ext cx="57456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71800" y="1562040"/>
            <a:ext cx="8809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684160" y="1790640"/>
            <a:ext cx="306360" cy="7621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1919160" y="2629080"/>
            <a:ext cx="727200" cy="6458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957320" y="2247840"/>
            <a:ext cx="137808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29040" y="1790640"/>
            <a:ext cx="344520" cy="4190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684520" y="2629080"/>
            <a:ext cx="726840" cy="341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373560" y="2247840"/>
            <a:ext cx="75960" cy="7225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957320" y="2438280"/>
            <a:ext cx="1224000" cy="1217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384200" y="2400480"/>
            <a:ext cx="57312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039680" y="1981080"/>
            <a:ext cx="30636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57360" y="1981080"/>
            <a:ext cx="3823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9200" y="2666880"/>
            <a:ext cx="1224000" cy="569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1574280" y="3274920"/>
            <a:ext cx="344520" cy="647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919160" y="3274920"/>
            <a:ext cx="613080" cy="7239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925560" y="3274920"/>
            <a:ext cx="993600" cy="190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2608200" y="3693960"/>
            <a:ext cx="611280" cy="3430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3257640" y="3084120"/>
            <a:ext cx="230040" cy="6094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684160" y="2666880"/>
            <a:ext cx="765000" cy="379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1384200" y="2819160"/>
            <a:ext cx="534960" cy="4554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219120" y="3046320"/>
            <a:ext cx="230040" cy="6098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570040" y="2705040"/>
            <a:ext cx="76320" cy="13320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 flipV="1">
            <a:off x="1612440" y="3998880"/>
            <a:ext cx="957240" cy="381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1346040" y="1638000"/>
            <a:ext cx="649440" cy="11430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47800" y="3503520"/>
            <a:ext cx="650880" cy="4190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19200" y="2666880"/>
            <a:ext cx="190440" cy="798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19200" y="2666880"/>
            <a:ext cx="689040" cy="11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82520" y="106668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7600" y="16765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39920" y="25066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58800" y="33814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48200" y="388476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07240" y="262080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940400" y="31147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553120" y="39909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247560" y="357192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45560" y="2862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70680" y="20764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992680" y="1611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727360" y="23623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62360" y="21337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33640" y="1523880"/>
            <a:ext cx="7776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419720" y="1206360"/>
            <a:ext cx="4572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e know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nodes are reachable from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because we have traced out a path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455360" y="2806560"/>
            <a:ext cx="4554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a node has been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handle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n all of its neighbors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ave been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ph Se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6400800" y="228600"/>
            <a:ext cx="1181160" cy="1066680"/>
            <a:chOff x="6400800" y="228600"/>
            <a:chExt cx="1181160" cy="1066680"/>
          </a:xfrm>
        </p:grpSpPr>
        <p:sp>
          <p:nvSpPr>
            <p:cNvPr id="548" name=""/>
            <p:cNvSpPr/>
            <p:nvPr/>
          </p:nvSpPr>
          <p:spPr>
            <a:xfrm>
              <a:off x="6400800" y="228600"/>
              <a:ext cx="1181160" cy="106668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6587280" y="317520"/>
              <a:ext cx="629640" cy="860400"/>
              <a:chOff x="6587280" y="317520"/>
              <a:chExt cx="629640" cy="860400"/>
            </a:xfrm>
          </p:grpSpPr>
          <p:grpSp>
            <p:nvGrpSpPr>
              <p:cNvPr id="550" name=""/>
              <p:cNvGrpSpPr/>
              <p:nvPr/>
            </p:nvGrpSpPr>
            <p:grpSpPr>
              <a:xfrm>
                <a:off x="6587280" y="317520"/>
                <a:ext cx="592560" cy="842400"/>
                <a:chOff x="6587280" y="317520"/>
                <a:chExt cx="592560" cy="84240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6782760" y="459720"/>
                  <a:ext cx="102960" cy="177840"/>
                </a:xfrm>
                <a:custGeom>
                  <a:avLst/>
                  <a:gdLst/>
                  <a:ahLst/>
                  <a:rect l="l" t="t" r="r" b="b"/>
                  <a:pathLst>
                    <a:path w="434" h="514">
                      <a:moveTo>
                        <a:pt x="132" y="186"/>
                      </a:moveTo>
                      <a:lnTo>
                        <a:pt x="157" y="114"/>
                      </a:lnTo>
                      <a:lnTo>
                        <a:pt x="189" y="42"/>
                      </a:lnTo>
                      <a:lnTo>
                        <a:pt x="236" y="6"/>
                      </a:lnTo>
                      <a:lnTo>
                        <a:pt x="302" y="0"/>
                      </a:lnTo>
                      <a:lnTo>
                        <a:pt x="355" y="24"/>
                      </a:lnTo>
                      <a:lnTo>
                        <a:pt x="393" y="63"/>
                      </a:lnTo>
                      <a:lnTo>
                        <a:pt x="421" y="135"/>
                      </a:lnTo>
                      <a:lnTo>
                        <a:pt x="434" y="222"/>
                      </a:lnTo>
                      <a:lnTo>
                        <a:pt x="434" y="312"/>
                      </a:lnTo>
                      <a:lnTo>
                        <a:pt x="412" y="411"/>
                      </a:lnTo>
                      <a:lnTo>
                        <a:pt x="355" y="474"/>
                      </a:lnTo>
                      <a:lnTo>
                        <a:pt x="299" y="514"/>
                      </a:lnTo>
                      <a:lnTo>
                        <a:pt x="245" y="510"/>
                      </a:lnTo>
                      <a:lnTo>
                        <a:pt x="198" y="468"/>
                      </a:lnTo>
                      <a:lnTo>
                        <a:pt x="157" y="396"/>
                      </a:lnTo>
                      <a:lnTo>
                        <a:pt x="129" y="333"/>
                      </a:lnTo>
                      <a:lnTo>
                        <a:pt x="129" y="252"/>
                      </a:lnTo>
                      <a:lnTo>
                        <a:pt x="0" y="234"/>
                      </a:lnTo>
                      <a:lnTo>
                        <a:pt x="16" y="189"/>
                      </a:lnTo>
                      <a:lnTo>
                        <a:pt x="132" y="18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850800" y="317520"/>
                  <a:ext cx="134280" cy="398880"/>
                </a:xfrm>
                <a:custGeom>
                  <a:avLst/>
                  <a:gdLst/>
                  <a:ahLst/>
                  <a:rect l="l" t="t" r="r" b="b"/>
                  <a:pathLst>
                    <a:path w="566" h="1154">
                      <a:moveTo>
                        <a:pt x="13" y="1145"/>
                      </a:moveTo>
                      <a:lnTo>
                        <a:pt x="0" y="1088"/>
                      </a:lnTo>
                      <a:lnTo>
                        <a:pt x="31" y="1042"/>
                      </a:lnTo>
                      <a:lnTo>
                        <a:pt x="134" y="988"/>
                      </a:lnTo>
                      <a:lnTo>
                        <a:pt x="226" y="927"/>
                      </a:lnTo>
                      <a:lnTo>
                        <a:pt x="313" y="827"/>
                      </a:lnTo>
                      <a:lnTo>
                        <a:pt x="432" y="689"/>
                      </a:lnTo>
                      <a:lnTo>
                        <a:pt x="463" y="634"/>
                      </a:lnTo>
                      <a:lnTo>
                        <a:pt x="479" y="580"/>
                      </a:lnTo>
                      <a:lnTo>
                        <a:pt x="472" y="526"/>
                      </a:lnTo>
                      <a:lnTo>
                        <a:pt x="444" y="426"/>
                      </a:lnTo>
                      <a:lnTo>
                        <a:pt x="376" y="299"/>
                      </a:lnTo>
                      <a:lnTo>
                        <a:pt x="301" y="229"/>
                      </a:lnTo>
                      <a:lnTo>
                        <a:pt x="235" y="190"/>
                      </a:lnTo>
                      <a:lnTo>
                        <a:pt x="181" y="184"/>
                      </a:lnTo>
                      <a:lnTo>
                        <a:pt x="153" y="190"/>
                      </a:lnTo>
                      <a:lnTo>
                        <a:pt x="150" y="163"/>
                      </a:lnTo>
                      <a:lnTo>
                        <a:pt x="215" y="154"/>
                      </a:lnTo>
                      <a:lnTo>
                        <a:pt x="291" y="154"/>
                      </a:lnTo>
                      <a:lnTo>
                        <a:pt x="238" y="93"/>
                      </a:lnTo>
                      <a:lnTo>
                        <a:pt x="206" y="45"/>
                      </a:lnTo>
                      <a:lnTo>
                        <a:pt x="229" y="27"/>
                      </a:lnTo>
                      <a:lnTo>
                        <a:pt x="313" y="109"/>
                      </a:lnTo>
                      <a:lnTo>
                        <a:pt x="329" y="121"/>
                      </a:lnTo>
                      <a:lnTo>
                        <a:pt x="313" y="57"/>
                      </a:lnTo>
                      <a:lnTo>
                        <a:pt x="301" y="9"/>
                      </a:lnTo>
                      <a:lnTo>
                        <a:pt x="313" y="0"/>
                      </a:lnTo>
                      <a:lnTo>
                        <a:pt x="341" y="9"/>
                      </a:lnTo>
                      <a:lnTo>
                        <a:pt x="366" y="121"/>
                      </a:lnTo>
                      <a:lnTo>
                        <a:pt x="379" y="118"/>
                      </a:lnTo>
                      <a:lnTo>
                        <a:pt x="379" y="30"/>
                      </a:lnTo>
                      <a:lnTo>
                        <a:pt x="404" y="21"/>
                      </a:lnTo>
                      <a:lnTo>
                        <a:pt x="422" y="36"/>
                      </a:lnTo>
                      <a:lnTo>
                        <a:pt x="413" y="154"/>
                      </a:lnTo>
                      <a:lnTo>
                        <a:pt x="407" y="202"/>
                      </a:lnTo>
                      <a:lnTo>
                        <a:pt x="422" y="299"/>
                      </a:lnTo>
                      <a:lnTo>
                        <a:pt x="472" y="402"/>
                      </a:lnTo>
                      <a:lnTo>
                        <a:pt x="525" y="520"/>
                      </a:lnTo>
                      <a:lnTo>
                        <a:pt x="566" y="607"/>
                      </a:lnTo>
                      <a:lnTo>
                        <a:pt x="563" y="652"/>
                      </a:lnTo>
                      <a:lnTo>
                        <a:pt x="488" y="734"/>
                      </a:lnTo>
                      <a:lnTo>
                        <a:pt x="385" y="836"/>
                      </a:lnTo>
                      <a:lnTo>
                        <a:pt x="301" y="937"/>
                      </a:lnTo>
                      <a:lnTo>
                        <a:pt x="197" y="1070"/>
                      </a:lnTo>
                      <a:lnTo>
                        <a:pt x="112" y="1136"/>
                      </a:lnTo>
                      <a:lnTo>
                        <a:pt x="47" y="1154"/>
                      </a:lnTo>
                      <a:lnTo>
                        <a:pt x="13" y="1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587280" y="689400"/>
                  <a:ext cx="246240" cy="200880"/>
                </a:xfrm>
                <a:custGeom>
                  <a:avLst/>
                  <a:gdLst/>
                  <a:ahLst/>
                  <a:rect l="l" t="t" r="r" b="b"/>
                  <a:pathLst>
                    <a:path w="1037" h="581">
                      <a:moveTo>
                        <a:pt x="210" y="468"/>
                      </a:moveTo>
                      <a:lnTo>
                        <a:pt x="361" y="462"/>
                      </a:lnTo>
                      <a:lnTo>
                        <a:pt x="498" y="444"/>
                      </a:lnTo>
                      <a:lnTo>
                        <a:pt x="583" y="423"/>
                      </a:lnTo>
                      <a:lnTo>
                        <a:pt x="705" y="354"/>
                      </a:lnTo>
                      <a:lnTo>
                        <a:pt x="792" y="288"/>
                      </a:lnTo>
                      <a:lnTo>
                        <a:pt x="906" y="207"/>
                      </a:lnTo>
                      <a:lnTo>
                        <a:pt x="959" y="156"/>
                      </a:lnTo>
                      <a:lnTo>
                        <a:pt x="1000" y="120"/>
                      </a:lnTo>
                      <a:lnTo>
                        <a:pt x="1037" y="81"/>
                      </a:lnTo>
                      <a:lnTo>
                        <a:pt x="1037" y="39"/>
                      </a:lnTo>
                      <a:lnTo>
                        <a:pt x="996" y="0"/>
                      </a:lnTo>
                      <a:lnTo>
                        <a:pt x="971" y="9"/>
                      </a:lnTo>
                      <a:lnTo>
                        <a:pt x="903" y="90"/>
                      </a:lnTo>
                      <a:lnTo>
                        <a:pt x="828" y="183"/>
                      </a:lnTo>
                      <a:lnTo>
                        <a:pt x="752" y="270"/>
                      </a:lnTo>
                      <a:lnTo>
                        <a:pt x="642" y="342"/>
                      </a:lnTo>
                      <a:lnTo>
                        <a:pt x="548" y="390"/>
                      </a:lnTo>
                      <a:lnTo>
                        <a:pt x="445" y="414"/>
                      </a:lnTo>
                      <a:lnTo>
                        <a:pt x="301" y="417"/>
                      </a:lnTo>
                      <a:lnTo>
                        <a:pt x="216" y="417"/>
                      </a:lnTo>
                      <a:lnTo>
                        <a:pt x="144" y="363"/>
                      </a:lnTo>
                      <a:lnTo>
                        <a:pt x="125" y="327"/>
                      </a:lnTo>
                      <a:lnTo>
                        <a:pt x="94" y="327"/>
                      </a:lnTo>
                      <a:lnTo>
                        <a:pt x="116" y="372"/>
                      </a:lnTo>
                      <a:lnTo>
                        <a:pt x="150" y="414"/>
                      </a:lnTo>
                      <a:lnTo>
                        <a:pt x="66" y="396"/>
                      </a:lnTo>
                      <a:lnTo>
                        <a:pt x="3" y="387"/>
                      </a:lnTo>
                      <a:lnTo>
                        <a:pt x="3" y="405"/>
                      </a:lnTo>
                      <a:lnTo>
                        <a:pt x="59" y="417"/>
                      </a:lnTo>
                      <a:lnTo>
                        <a:pt x="97" y="441"/>
                      </a:lnTo>
                      <a:lnTo>
                        <a:pt x="131" y="444"/>
                      </a:lnTo>
                      <a:lnTo>
                        <a:pt x="78" y="462"/>
                      </a:lnTo>
                      <a:lnTo>
                        <a:pt x="0" y="481"/>
                      </a:lnTo>
                      <a:lnTo>
                        <a:pt x="3" y="499"/>
                      </a:lnTo>
                      <a:lnTo>
                        <a:pt x="28" y="505"/>
                      </a:lnTo>
                      <a:lnTo>
                        <a:pt x="103" y="481"/>
                      </a:lnTo>
                      <a:lnTo>
                        <a:pt x="150" y="477"/>
                      </a:lnTo>
                      <a:lnTo>
                        <a:pt x="122" y="505"/>
                      </a:lnTo>
                      <a:lnTo>
                        <a:pt x="78" y="550"/>
                      </a:lnTo>
                      <a:lnTo>
                        <a:pt x="59" y="562"/>
                      </a:lnTo>
                      <a:lnTo>
                        <a:pt x="75" y="581"/>
                      </a:lnTo>
                      <a:lnTo>
                        <a:pt x="113" y="559"/>
                      </a:lnTo>
                      <a:lnTo>
                        <a:pt x="163" y="514"/>
                      </a:lnTo>
                      <a:lnTo>
                        <a:pt x="210" y="46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814080" y="668880"/>
                  <a:ext cx="144360" cy="276480"/>
                </a:xfrm>
                <a:custGeom>
                  <a:avLst/>
                  <a:gdLst/>
                  <a:ahLst/>
                  <a:rect l="l" t="t" r="r" b="b"/>
                  <a:pathLst>
                    <a:path w="608" h="800">
                      <a:moveTo>
                        <a:pt x="38" y="90"/>
                      </a:moveTo>
                      <a:lnTo>
                        <a:pt x="63" y="27"/>
                      </a:lnTo>
                      <a:lnTo>
                        <a:pt x="104" y="0"/>
                      </a:lnTo>
                      <a:lnTo>
                        <a:pt x="141" y="0"/>
                      </a:lnTo>
                      <a:lnTo>
                        <a:pt x="179" y="18"/>
                      </a:lnTo>
                      <a:lnTo>
                        <a:pt x="216" y="54"/>
                      </a:lnTo>
                      <a:lnTo>
                        <a:pt x="235" y="117"/>
                      </a:lnTo>
                      <a:lnTo>
                        <a:pt x="245" y="180"/>
                      </a:lnTo>
                      <a:lnTo>
                        <a:pt x="263" y="243"/>
                      </a:lnTo>
                      <a:lnTo>
                        <a:pt x="298" y="312"/>
                      </a:lnTo>
                      <a:lnTo>
                        <a:pt x="357" y="384"/>
                      </a:lnTo>
                      <a:lnTo>
                        <a:pt x="415" y="432"/>
                      </a:lnTo>
                      <a:lnTo>
                        <a:pt x="499" y="468"/>
                      </a:lnTo>
                      <a:lnTo>
                        <a:pt x="571" y="522"/>
                      </a:lnTo>
                      <a:lnTo>
                        <a:pt x="608" y="577"/>
                      </a:lnTo>
                      <a:lnTo>
                        <a:pt x="602" y="622"/>
                      </a:lnTo>
                      <a:lnTo>
                        <a:pt x="593" y="676"/>
                      </a:lnTo>
                      <a:lnTo>
                        <a:pt x="565" y="712"/>
                      </a:lnTo>
                      <a:lnTo>
                        <a:pt x="518" y="757"/>
                      </a:lnTo>
                      <a:lnTo>
                        <a:pt x="449" y="790"/>
                      </a:lnTo>
                      <a:lnTo>
                        <a:pt x="396" y="800"/>
                      </a:lnTo>
                      <a:lnTo>
                        <a:pt x="320" y="784"/>
                      </a:lnTo>
                      <a:lnTo>
                        <a:pt x="251" y="748"/>
                      </a:lnTo>
                      <a:lnTo>
                        <a:pt x="179" y="694"/>
                      </a:lnTo>
                      <a:lnTo>
                        <a:pt x="129" y="631"/>
                      </a:lnTo>
                      <a:lnTo>
                        <a:pt x="82" y="550"/>
                      </a:lnTo>
                      <a:lnTo>
                        <a:pt x="44" y="456"/>
                      </a:lnTo>
                      <a:lnTo>
                        <a:pt x="19" y="375"/>
                      </a:lnTo>
                      <a:lnTo>
                        <a:pt x="7" y="297"/>
                      </a:lnTo>
                      <a:lnTo>
                        <a:pt x="0" y="189"/>
                      </a:lnTo>
                      <a:lnTo>
                        <a:pt x="19" y="117"/>
                      </a:lnTo>
                      <a:lnTo>
                        <a:pt x="38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932160" y="786960"/>
                  <a:ext cx="247680" cy="250920"/>
                </a:xfrm>
                <a:custGeom>
                  <a:avLst/>
                  <a:gdLst/>
                  <a:ahLst/>
                  <a:rect l="l" t="t" r="r" b="b"/>
                  <a:pathLst>
                    <a:path w="1043" h="726">
                      <a:moveTo>
                        <a:pt x="116" y="230"/>
                      </a:moveTo>
                      <a:lnTo>
                        <a:pt x="216" y="147"/>
                      </a:lnTo>
                      <a:lnTo>
                        <a:pt x="338" y="72"/>
                      </a:lnTo>
                      <a:lnTo>
                        <a:pt x="417" y="27"/>
                      </a:lnTo>
                      <a:lnTo>
                        <a:pt x="479" y="12"/>
                      </a:lnTo>
                      <a:lnTo>
                        <a:pt x="529" y="0"/>
                      </a:lnTo>
                      <a:lnTo>
                        <a:pt x="573" y="18"/>
                      </a:lnTo>
                      <a:lnTo>
                        <a:pt x="601" y="75"/>
                      </a:lnTo>
                      <a:lnTo>
                        <a:pt x="620" y="230"/>
                      </a:lnTo>
                      <a:lnTo>
                        <a:pt x="620" y="416"/>
                      </a:lnTo>
                      <a:lnTo>
                        <a:pt x="620" y="536"/>
                      </a:lnTo>
                      <a:lnTo>
                        <a:pt x="642" y="609"/>
                      </a:lnTo>
                      <a:lnTo>
                        <a:pt x="686" y="597"/>
                      </a:lnTo>
                      <a:lnTo>
                        <a:pt x="717" y="552"/>
                      </a:lnTo>
                      <a:lnTo>
                        <a:pt x="779" y="500"/>
                      </a:lnTo>
                      <a:lnTo>
                        <a:pt x="876" y="470"/>
                      </a:lnTo>
                      <a:lnTo>
                        <a:pt x="943" y="470"/>
                      </a:lnTo>
                      <a:lnTo>
                        <a:pt x="1043" y="488"/>
                      </a:lnTo>
                      <a:lnTo>
                        <a:pt x="1037" y="524"/>
                      </a:lnTo>
                      <a:lnTo>
                        <a:pt x="1015" y="555"/>
                      </a:lnTo>
                      <a:lnTo>
                        <a:pt x="981" y="561"/>
                      </a:lnTo>
                      <a:lnTo>
                        <a:pt x="943" y="542"/>
                      </a:lnTo>
                      <a:lnTo>
                        <a:pt x="886" y="518"/>
                      </a:lnTo>
                      <a:lnTo>
                        <a:pt x="829" y="518"/>
                      </a:lnTo>
                      <a:lnTo>
                        <a:pt x="754" y="564"/>
                      </a:lnTo>
                      <a:lnTo>
                        <a:pt x="708" y="633"/>
                      </a:lnTo>
                      <a:lnTo>
                        <a:pt x="698" y="690"/>
                      </a:lnTo>
                      <a:lnTo>
                        <a:pt x="679" y="726"/>
                      </a:lnTo>
                      <a:lnTo>
                        <a:pt x="604" y="723"/>
                      </a:lnTo>
                      <a:lnTo>
                        <a:pt x="601" y="669"/>
                      </a:lnTo>
                      <a:lnTo>
                        <a:pt x="576" y="591"/>
                      </a:lnTo>
                      <a:lnTo>
                        <a:pt x="567" y="509"/>
                      </a:lnTo>
                      <a:lnTo>
                        <a:pt x="573" y="401"/>
                      </a:lnTo>
                      <a:lnTo>
                        <a:pt x="564" y="248"/>
                      </a:lnTo>
                      <a:lnTo>
                        <a:pt x="558" y="147"/>
                      </a:lnTo>
                      <a:lnTo>
                        <a:pt x="539" y="111"/>
                      </a:lnTo>
                      <a:lnTo>
                        <a:pt x="501" y="75"/>
                      </a:lnTo>
                      <a:lnTo>
                        <a:pt x="461" y="75"/>
                      </a:lnTo>
                      <a:lnTo>
                        <a:pt x="403" y="111"/>
                      </a:lnTo>
                      <a:lnTo>
                        <a:pt x="328" y="181"/>
                      </a:lnTo>
                      <a:lnTo>
                        <a:pt x="235" y="272"/>
                      </a:lnTo>
                      <a:lnTo>
                        <a:pt x="141" y="356"/>
                      </a:lnTo>
                      <a:lnTo>
                        <a:pt x="94" y="383"/>
                      </a:lnTo>
                      <a:lnTo>
                        <a:pt x="38" y="383"/>
                      </a:lnTo>
                      <a:lnTo>
                        <a:pt x="0" y="344"/>
                      </a:lnTo>
                      <a:lnTo>
                        <a:pt x="3" y="281"/>
                      </a:lnTo>
                      <a:lnTo>
                        <a:pt x="41" y="248"/>
                      </a:lnTo>
                      <a:lnTo>
                        <a:pt x="84" y="239"/>
                      </a:lnTo>
                      <a:lnTo>
                        <a:pt x="116" y="23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6918840" y="896400"/>
                  <a:ext cx="169200" cy="263520"/>
                </a:xfrm>
                <a:custGeom>
                  <a:avLst/>
                  <a:gdLst/>
                  <a:ahLst/>
                  <a:rect l="l" t="t" r="r" b="b"/>
                  <a:pathLst>
                    <a:path w="713" h="762">
                      <a:moveTo>
                        <a:pt x="0" y="64"/>
                      </a:moveTo>
                      <a:lnTo>
                        <a:pt x="22" y="16"/>
                      </a:lnTo>
                      <a:lnTo>
                        <a:pt x="69" y="0"/>
                      </a:lnTo>
                      <a:lnTo>
                        <a:pt x="134" y="7"/>
                      </a:lnTo>
                      <a:lnTo>
                        <a:pt x="150" y="52"/>
                      </a:lnTo>
                      <a:lnTo>
                        <a:pt x="125" y="227"/>
                      </a:lnTo>
                      <a:lnTo>
                        <a:pt x="122" y="360"/>
                      </a:lnTo>
                      <a:lnTo>
                        <a:pt x="116" y="435"/>
                      </a:lnTo>
                      <a:lnTo>
                        <a:pt x="116" y="450"/>
                      </a:lnTo>
                      <a:lnTo>
                        <a:pt x="131" y="524"/>
                      </a:lnTo>
                      <a:lnTo>
                        <a:pt x="172" y="536"/>
                      </a:lnTo>
                      <a:lnTo>
                        <a:pt x="225" y="524"/>
                      </a:lnTo>
                      <a:lnTo>
                        <a:pt x="303" y="481"/>
                      </a:lnTo>
                      <a:lnTo>
                        <a:pt x="387" y="460"/>
                      </a:lnTo>
                      <a:lnTo>
                        <a:pt x="482" y="444"/>
                      </a:lnTo>
                      <a:lnTo>
                        <a:pt x="585" y="432"/>
                      </a:lnTo>
                      <a:lnTo>
                        <a:pt x="660" y="432"/>
                      </a:lnTo>
                      <a:lnTo>
                        <a:pt x="694" y="441"/>
                      </a:lnTo>
                      <a:lnTo>
                        <a:pt x="713" y="463"/>
                      </a:lnTo>
                      <a:lnTo>
                        <a:pt x="704" y="496"/>
                      </a:lnTo>
                      <a:lnTo>
                        <a:pt x="657" y="524"/>
                      </a:lnTo>
                      <a:lnTo>
                        <a:pt x="613" y="563"/>
                      </a:lnTo>
                      <a:lnTo>
                        <a:pt x="572" y="618"/>
                      </a:lnTo>
                      <a:lnTo>
                        <a:pt x="547" y="663"/>
                      </a:lnTo>
                      <a:lnTo>
                        <a:pt x="526" y="708"/>
                      </a:lnTo>
                      <a:lnTo>
                        <a:pt x="510" y="762"/>
                      </a:lnTo>
                      <a:lnTo>
                        <a:pt x="488" y="762"/>
                      </a:lnTo>
                      <a:lnTo>
                        <a:pt x="469" y="741"/>
                      </a:lnTo>
                      <a:lnTo>
                        <a:pt x="462" y="681"/>
                      </a:lnTo>
                      <a:lnTo>
                        <a:pt x="507" y="627"/>
                      </a:lnTo>
                      <a:lnTo>
                        <a:pt x="566" y="563"/>
                      </a:lnTo>
                      <a:lnTo>
                        <a:pt x="622" y="515"/>
                      </a:lnTo>
                      <a:lnTo>
                        <a:pt x="647" y="499"/>
                      </a:lnTo>
                      <a:lnTo>
                        <a:pt x="657" y="478"/>
                      </a:lnTo>
                      <a:lnTo>
                        <a:pt x="632" y="463"/>
                      </a:lnTo>
                      <a:lnTo>
                        <a:pt x="547" y="463"/>
                      </a:lnTo>
                      <a:lnTo>
                        <a:pt x="440" y="481"/>
                      </a:lnTo>
                      <a:lnTo>
                        <a:pt x="356" y="509"/>
                      </a:lnTo>
                      <a:lnTo>
                        <a:pt x="265" y="560"/>
                      </a:lnTo>
                      <a:lnTo>
                        <a:pt x="187" y="596"/>
                      </a:lnTo>
                      <a:lnTo>
                        <a:pt x="103" y="599"/>
                      </a:lnTo>
                      <a:lnTo>
                        <a:pt x="69" y="587"/>
                      </a:lnTo>
                      <a:lnTo>
                        <a:pt x="50" y="542"/>
                      </a:lnTo>
                      <a:lnTo>
                        <a:pt x="37" y="478"/>
                      </a:lnTo>
                      <a:lnTo>
                        <a:pt x="31" y="360"/>
                      </a:lnTo>
                      <a:lnTo>
                        <a:pt x="19" y="151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7114680" y="874800"/>
                <a:ext cx="102240" cy="303120"/>
                <a:chOff x="7114680" y="874800"/>
                <a:chExt cx="102240" cy="30312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7136280" y="1043640"/>
                  <a:ext cx="80640" cy="37440"/>
                </a:xfrm>
                <a:custGeom>
                  <a:avLst/>
                  <a:gdLst/>
                  <a:ahLst/>
                  <a:rect l="l" t="t" r="r" b="b"/>
                  <a:pathLst>
                    <a:path w="340" h="109">
                      <a:moveTo>
                        <a:pt x="340" y="109"/>
                      </a:moveTo>
                      <a:lnTo>
                        <a:pt x="165" y="30"/>
                      </a:lnTo>
                      <a:lnTo>
                        <a:pt x="48" y="0"/>
                      </a:lnTo>
                      <a:lnTo>
                        <a:pt x="10" y="0"/>
                      </a:lnTo>
                      <a:lnTo>
                        <a:pt x="0" y="27"/>
                      </a:lnTo>
                      <a:lnTo>
                        <a:pt x="22" y="48"/>
                      </a:lnTo>
                      <a:lnTo>
                        <a:pt x="70" y="54"/>
                      </a:lnTo>
                      <a:lnTo>
                        <a:pt x="184" y="75"/>
                      </a:lnTo>
                      <a:lnTo>
                        <a:pt x="340" y="10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114680" y="1077480"/>
                  <a:ext cx="22680" cy="100440"/>
                </a:xfrm>
                <a:custGeom>
                  <a:avLst/>
                  <a:gdLst/>
                  <a:ahLst/>
                  <a:rect l="l" t="t" r="r" b="b"/>
                  <a:pathLst>
                    <a:path w="97" h="291">
                      <a:moveTo>
                        <a:pt x="97" y="291"/>
                      </a:moveTo>
                      <a:lnTo>
                        <a:pt x="94" y="148"/>
                      </a:lnTo>
                      <a:lnTo>
                        <a:pt x="69" y="39"/>
                      </a:lnTo>
                      <a:lnTo>
                        <a:pt x="41" y="0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54"/>
                      </a:lnTo>
                      <a:lnTo>
                        <a:pt x="47" y="184"/>
                      </a:lnTo>
                      <a:lnTo>
                        <a:pt x="97" y="29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147800" y="874800"/>
                  <a:ext cx="50760" cy="38160"/>
                </a:xfrm>
                <a:custGeom>
                  <a:avLst/>
                  <a:gdLst/>
                  <a:ahLst/>
                  <a:rect l="l" t="t" r="r" b="b"/>
                  <a:pathLst>
                    <a:path w="214" h="111">
                      <a:moveTo>
                        <a:pt x="0" y="72"/>
                      </a:moveTo>
                      <a:lnTo>
                        <a:pt x="42" y="30"/>
                      </a:lnTo>
                      <a:lnTo>
                        <a:pt x="100" y="3"/>
                      </a:lnTo>
                      <a:lnTo>
                        <a:pt x="166" y="0"/>
                      </a:lnTo>
                      <a:lnTo>
                        <a:pt x="214" y="9"/>
                      </a:lnTo>
                      <a:lnTo>
                        <a:pt x="138" y="18"/>
                      </a:lnTo>
                      <a:lnTo>
                        <a:pt x="109" y="36"/>
                      </a:lnTo>
                      <a:lnTo>
                        <a:pt x="81" y="63"/>
                      </a:lnTo>
                      <a:lnTo>
                        <a:pt x="68" y="93"/>
                      </a:lnTo>
                      <a:lnTo>
                        <a:pt x="42" y="111"/>
                      </a:lnTo>
                      <a:lnTo>
                        <a:pt x="1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61" name=""/>
          <p:cNvSpPr/>
          <p:nvPr/>
        </p:nvSpPr>
        <p:spPr>
          <a:xfrm>
            <a:off x="1752840" y="5241960"/>
            <a:ext cx="586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andle some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foundNotHandle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nod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69200" y="5681520"/>
            <a:ext cx="340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.e. find its neighbo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300600" y="5134680"/>
            <a:ext cx="1427760" cy="1069560"/>
            <a:chOff x="300600" y="5134680"/>
            <a:chExt cx="1427760" cy="1069560"/>
          </a:xfrm>
        </p:grpSpPr>
        <p:sp>
          <p:nvSpPr>
            <p:cNvPr id="564" name=""/>
            <p:cNvSpPr/>
            <p:nvPr/>
          </p:nvSpPr>
          <p:spPr>
            <a:xfrm rot="2359800">
              <a:off x="407880" y="5406840"/>
              <a:ext cx="783000" cy="61920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2359800">
              <a:off x="1186200" y="5474160"/>
              <a:ext cx="450360" cy="449640"/>
            </a:xfrm>
            <a:custGeom>
              <a:avLst/>
              <a:gdLst/>
              <a:ahLst/>
              <a:rect l="l" t="t" r="r" b="b"/>
              <a:pathLst>
                <a:path w="1312" h="1296">
                  <a:moveTo>
                    <a:pt x="592" y="160"/>
                  </a:moveTo>
                  <a:cubicBezTo>
                    <a:pt x="408" y="256"/>
                    <a:pt x="32" y="496"/>
                    <a:pt x="16" y="640"/>
                  </a:cubicBezTo>
                  <a:cubicBezTo>
                    <a:pt x="0" y="784"/>
                    <a:pt x="296" y="928"/>
                    <a:pt x="496" y="1024"/>
                  </a:cubicBezTo>
                  <a:cubicBezTo>
                    <a:pt x="696" y="1120"/>
                    <a:pt x="1120" y="1296"/>
                    <a:pt x="1216" y="1216"/>
                  </a:cubicBezTo>
                  <a:cubicBezTo>
                    <a:pt x="1312" y="1136"/>
                    <a:pt x="1088" y="736"/>
                    <a:pt x="1072" y="544"/>
                  </a:cubicBezTo>
                  <a:cubicBezTo>
                    <a:pt x="1056" y="352"/>
                    <a:pt x="1208" y="128"/>
                    <a:pt x="1120" y="64"/>
                  </a:cubicBezTo>
                  <a:cubicBezTo>
                    <a:pt x="1032" y="0"/>
                    <a:pt x="776" y="64"/>
                    <a:pt x="592" y="16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787320" y="5134680"/>
              <a:ext cx="691200" cy="740880"/>
              <a:chOff x="787320" y="5134680"/>
              <a:chExt cx="691200" cy="740880"/>
            </a:xfrm>
          </p:grpSpPr>
          <p:sp>
            <p:nvSpPr>
              <p:cNvPr id="567" name=""/>
              <p:cNvSpPr/>
              <p:nvPr/>
            </p:nvSpPr>
            <p:spPr>
              <a:xfrm rot="21255000">
                <a:off x="1135440" y="5213880"/>
                <a:ext cx="140760" cy="11664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21255000">
                <a:off x="1086840" y="5359680"/>
                <a:ext cx="144720" cy="26028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21255000">
                <a:off x="1188720" y="5572440"/>
                <a:ext cx="281520" cy="17928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19838400">
                <a:off x="799920" y="5628600"/>
                <a:ext cx="402120" cy="15804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21255000">
                <a:off x="992520" y="5145840"/>
                <a:ext cx="164160" cy="29124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21255000">
                <a:off x="1188360" y="5144760"/>
                <a:ext cx="214920" cy="24300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3" name=""/>
          <p:cNvGrpSpPr/>
          <p:nvPr/>
        </p:nvGrpSpPr>
        <p:grpSpPr>
          <a:xfrm>
            <a:off x="2514600" y="2666880"/>
            <a:ext cx="6629400" cy="3276720"/>
            <a:chOff x="2514600" y="2666880"/>
            <a:chExt cx="6629400" cy="3276720"/>
          </a:xfrm>
        </p:grpSpPr>
        <p:sp>
          <p:nvSpPr>
            <p:cNvPr id="574" name=""/>
            <p:cNvSpPr/>
            <p:nvPr/>
          </p:nvSpPr>
          <p:spPr>
            <a:xfrm>
              <a:off x="3962520" y="2666880"/>
              <a:ext cx="5181480" cy="175284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514600" y="5562720"/>
              <a:ext cx="228600" cy="3808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1752480" y="1066680"/>
            <a:ext cx="7391520" cy="2362320"/>
            <a:chOff x="1752480" y="1066680"/>
            <a:chExt cx="7391520" cy="2362320"/>
          </a:xfrm>
        </p:grpSpPr>
        <p:sp>
          <p:nvSpPr>
            <p:cNvPr id="577" name=""/>
            <p:cNvSpPr/>
            <p:nvPr/>
          </p:nvSpPr>
          <p:spPr>
            <a:xfrm>
              <a:off x="3962520" y="1066680"/>
              <a:ext cx="5181480" cy="175284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52480" y="3124080"/>
              <a:ext cx="304920" cy="30492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609480" y="1523880"/>
            <a:ext cx="1447920" cy="1143000"/>
          </a:xfrm>
          <a:custGeom>
            <a:avLst/>
            <a:gdLst/>
            <a:ahLst/>
            <a:rect l="l" t="t" r="r" b="b"/>
            <a:pathLst>
              <a:path w="912" h="720">
                <a:moveTo>
                  <a:pt x="912" y="0"/>
                </a:moveTo>
                <a:lnTo>
                  <a:pt x="240" y="256"/>
                </a:lnTo>
                <a:lnTo>
                  <a:pt x="0" y="720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" y="2743200"/>
            <a:ext cx="1143000" cy="5335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6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7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88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9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0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1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2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3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4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5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6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7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8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9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0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1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2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3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4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5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6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7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8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9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0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1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2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3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4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5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6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7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8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9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0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1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2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3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4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5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6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7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8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9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0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1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2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3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4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5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6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7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8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9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0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1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2" name=""/>
          <p:cNvSpPr/>
          <p:nvPr/>
        </p:nvSpPr>
        <p:spPr>
          <a:xfrm>
            <a:off x="7354440" y="4572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3" name=""/>
          <p:cNvSpPr/>
          <p:nvPr/>
        </p:nvSpPr>
        <p:spPr>
          <a:xfrm>
            <a:off x="7350120" y="4191120"/>
            <a:ext cx="63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,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4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5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6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7" name=""/>
          <p:cNvSpPr/>
          <p:nvPr/>
        </p:nvSpPr>
        <p:spPr>
          <a:xfrm>
            <a:off x="7355160" y="3870360"/>
            <a:ext cx="5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8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9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0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1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2" name=""/>
          <p:cNvSpPr/>
          <p:nvPr/>
        </p:nvSpPr>
        <p:spPr>
          <a:xfrm>
            <a:off x="3124080" y="467352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3" name=""/>
          <p:cNvSpPr/>
          <p:nvPr/>
        </p:nvSpPr>
        <p:spPr>
          <a:xfrm>
            <a:off x="48960" y="5927760"/>
            <a:ext cx="261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cc"/>
                </a:solidFill>
                <a:latin typeface="Times New Roman"/>
              </a:rPr>
              <a:t>Cross Edge</a:t>
            </a:r>
            <a:br>
              <a:rPr sz="3000"/>
            </a:br>
            <a:r>
              <a:rPr b="0" lang="en-US" sz="3000" spc="-1" strike="noStrike">
                <a:solidFill>
                  <a:srgbClr val="cc00cc"/>
                </a:solidFill>
                <a:latin typeface="Times New Roman"/>
              </a:rPr>
              <a:t>to handled nod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6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6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55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6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7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8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9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0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1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2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3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4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5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6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7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8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9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0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1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2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3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4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5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6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7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8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9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0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1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2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3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4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5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6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7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8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9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0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1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2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3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4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5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6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7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8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9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0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1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2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3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4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5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6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7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8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9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0" name=""/>
          <p:cNvSpPr/>
          <p:nvPr/>
        </p:nvSpPr>
        <p:spPr>
          <a:xfrm>
            <a:off x="7354440" y="4572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1" name=""/>
          <p:cNvSpPr/>
          <p:nvPr/>
        </p:nvSpPr>
        <p:spPr>
          <a:xfrm>
            <a:off x="7350120" y="4191120"/>
            <a:ext cx="63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,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2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3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4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5" name=""/>
          <p:cNvSpPr/>
          <p:nvPr/>
        </p:nvSpPr>
        <p:spPr>
          <a:xfrm>
            <a:off x="7355160" y="3870360"/>
            <a:ext cx="5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,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6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7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8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9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0" name=""/>
          <p:cNvSpPr/>
          <p:nvPr/>
        </p:nvSpPr>
        <p:spPr>
          <a:xfrm>
            <a:off x="3124080" y="467352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22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3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4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5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6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7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8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9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0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1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2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3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4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5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6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7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8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9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0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1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2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3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4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5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6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7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8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9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0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1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2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3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4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5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6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7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8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9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0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1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2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3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4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5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6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7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8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9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0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1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2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3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4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5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6" name=""/>
          <p:cNvSpPr/>
          <p:nvPr/>
        </p:nvSpPr>
        <p:spPr>
          <a:xfrm>
            <a:off x="7354440" y="4572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7" name=""/>
          <p:cNvSpPr/>
          <p:nvPr/>
        </p:nvSpPr>
        <p:spPr>
          <a:xfrm>
            <a:off x="7350120" y="4191120"/>
            <a:ext cx="63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,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8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9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0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1" name=""/>
          <p:cNvSpPr/>
          <p:nvPr/>
        </p:nvSpPr>
        <p:spPr>
          <a:xfrm>
            <a:off x="7355160" y="3870360"/>
            <a:ext cx="5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,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2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3" name=""/>
          <p:cNvSpPr/>
          <p:nvPr/>
        </p:nvSpPr>
        <p:spPr>
          <a:xfrm>
            <a:off x="7342560" y="3489480"/>
            <a:ext cx="5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,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4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5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6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7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8" name=""/>
          <p:cNvSpPr/>
          <p:nvPr/>
        </p:nvSpPr>
        <p:spPr>
          <a:xfrm>
            <a:off x="4419720" y="617220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90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1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2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3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4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5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6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7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8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9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0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1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2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3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4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5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6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7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8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9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0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1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2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3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4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5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6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7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8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9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0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1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2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3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4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5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6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7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8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9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0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1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2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3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4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5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6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7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8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9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0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1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2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3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4" name=""/>
          <p:cNvSpPr/>
          <p:nvPr/>
        </p:nvSpPr>
        <p:spPr>
          <a:xfrm>
            <a:off x="7354440" y="4572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5" name=""/>
          <p:cNvSpPr/>
          <p:nvPr/>
        </p:nvSpPr>
        <p:spPr>
          <a:xfrm>
            <a:off x="7350120" y="4191120"/>
            <a:ext cx="63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,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6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7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8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9" name=""/>
          <p:cNvSpPr/>
          <p:nvPr/>
        </p:nvSpPr>
        <p:spPr>
          <a:xfrm>
            <a:off x="7355160" y="3870360"/>
            <a:ext cx="5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,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0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1" name=""/>
          <p:cNvSpPr/>
          <p:nvPr/>
        </p:nvSpPr>
        <p:spPr>
          <a:xfrm>
            <a:off x="7342560" y="3489480"/>
            <a:ext cx="5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2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3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4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5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6" name=""/>
          <p:cNvSpPr/>
          <p:nvPr/>
        </p:nvSpPr>
        <p:spPr>
          <a:xfrm>
            <a:off x="4419720" y="617220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7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58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9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0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1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2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3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4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5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6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7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8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9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0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1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2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3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4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5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6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7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8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9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0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1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2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3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4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5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6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7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8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9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0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1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2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3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4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5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6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7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8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9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0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1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2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3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4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5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6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7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8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9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0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1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2" name=""/>
          <p:cNvSpPr/>
          <p:nvPr/>
        </p:nvSpPr>
        <p:spPr>
          <a:xfrm>
            <a:off x="7354440" y="4572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3" name=""/>
          <p:cNvSpPr/>
          <p:nvPr/>
        </p:nvSpPr>
        <p:spPr>
          <a:xfrm>
            <a:off x="7350120" y="4191120"/>
            <a:ext cx="63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,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4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5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6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7" name=""/>
          <p:cNvSpPr/>
          <p:nvPr/>
        </p:nvSpPr>
        <p:spPr>
          <a:xfrm>
            <a:off x="7393320" y="3870360"/>
            <a:ext cx="5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,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8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9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0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1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2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3" name=""/>
          <p:cNvSpPr/>
          <p:nvPr/>
        </p:nvSpPr>
        <p:spPr>
          <a:xfrm>
            <a:off x="3124080" y="467352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25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6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7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8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9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0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1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2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3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4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5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6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7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8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9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0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1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2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3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4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5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6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7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8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9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0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1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2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3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4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5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6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7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8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9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0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1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2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3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4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5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6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7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8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9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0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1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2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3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4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5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6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7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8" name=""/>
          <p:cNvSpPr/>
          <p:nvPr/>
        </p:nvSpPr>
        <p:spPr>
          <a:xfrm>
            <a:off x="7354440" y="4572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9" name=""/>
          <p:cNvSpPr/>
          <p:nvPr/>
        </p:nvSpPr>
        <p:spPr>
          <a:xfrm>
            <a:off x="7350120" y="4191120"/>
            <a:ext cx="63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,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0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1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2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3" name=""/>
          <p:cNvSpPr/>
          <p:nvPr/>
        </p:nvSpPr>
        <p:spPr>
          <a:xfrm>
            <a:off x="7393320" y="3870360"/>
            <a:ext cx="5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,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4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5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6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7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8" name=""/>
          <p:cNvSpPr/>
          <p:nvPr/>
        </p:nvSpPr>
        <p:spPr>
          <a:xfrm>
            <a:off x="7341840" y="3429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,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9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0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1" name=""/>
          <p:cNvSpPr/>
          <p:nvPr/>
        </p:nvSpPr>
        <p:spPr>
          <a:xfrm>
            <a:off x="4648320" y="327672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2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93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4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5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6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7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8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9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0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1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2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3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4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5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6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7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8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9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0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1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2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3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4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5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6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7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8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9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0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1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2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3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4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5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6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7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8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9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0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1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2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3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4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5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6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7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8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9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0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1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2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3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4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5" name=""/>
          <p:cNvSpPr/>
          <p:nvPr/>
        </p:nvSpPr>
        <p:spPr>
          <a:xfrm>
            <a:off x="7354440" y="4572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6" name=""/>
          <p:cNvSpPr/>
          <p:nvPr/>
        </p:nvSpPr>
        <p:spPr>
          <a:xfrm>
            <a:off x="7350120" y="4191120"/>
            <a:ext cx="63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,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7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8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9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0" name=""/>
          <p:cNvSpPr/>
          <p:nvPr/>
        </p:nvSpPr>
        <p:spPr>
          <a:xfrm>
            <a:off x="7393320" y="3870360"/>
            <a:ext cx="5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,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1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2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3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4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5" name=""/>
          <p:cNvSpPr/>
          <p:nvPr/>
        </p:nvSpPr>
        <p:spPr>
          <a:xfrm>
            <a:off x="7341840" y="3429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6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7" name=""/>
          <p:cNvSpPr/>
          <p:nvPr/>
        </p:nvSpPr>
        <p:spPr>
          <a:xfrm>
            <a:off x="7355160" y="3048120"/>
            <a:ext cx="5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,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8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9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0" name=""/>
          <p:cNvSpPr/>
          <p:nvPr/>
        </p:nvSpPr>
        <p:spPr>
          <a:xfrm>
            <a:off x="6172200" y="419112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62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3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4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5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6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7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8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9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0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1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2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3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4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5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6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7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8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9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0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1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2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3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4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5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6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7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8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9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0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1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2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3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4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5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6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7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8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9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0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1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2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3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4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5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6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7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8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9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0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1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2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3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4" name=""/>
          <p:cNvSpPr/>
          <p:nvPr/>
        </p:nvSpPr>
        <p:spPr>
          <a:xfrm>
            <a:off x="7354440" y="4572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5" name=""/>
          <p:cNvSpPr/>
          <p:nvPr/>
        </p:nvSpPr>
        <p:spPr>
          <a:xfrm>
            <a:off x="7350120" y="4191120"/>
            <a:ext cx="63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,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6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7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8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9" name=""/>
          <p:cNvSpPr/>
          <p:nvPr/>
        </p:nvSpPr>
        <p:spPr>
          <a:xfrm>
            <a:off x="7393320" y="3870360"/>
            <a:ext cx="5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,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0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1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2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3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4" name=""/>
          <p:cNvSpPr/>
          <p:nvPr/>
        </p:nvSpPr>
        <p:spPr>
          <a:xfrm>
            <a:off x="7341840" y="3429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5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6" name=""/>
          <p:cNvSpPr/>
          <p:nvPr/>
        </p:nvSpPr>
        <p:spPr>
          <a:xfrm>
            <a:off x="7355160" y="3048120"/>
            <a:ext cx="5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7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8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9" name=""/>
          <p:cNvSpPr/>
          <p:nvPr/>
        </p:nvSpPr>
        <p:spPr>
          <a:xfrm>
            <a:off x="6172200" y="419112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0" name=""/>
          <p:cNvSpPr/>
          <p:nvPr/>
        </p:nvSpPr>
        <p:spPr>
          <a:xfrm>
            <a:off x="6241320" y="5334120"/>
            <a:ext cx="2732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Back Edge</a:t>
            </a:r>
            <a:br>
              <a:rPr sz="3000"/>
            </a:b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to node on Stac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1" name=""/>
          <p:cNvSpPr/>
          <p:nvPr/>
        </p:nvSpPr>
        <p:spPr>
          <a:xfrm>
            <a:off x="6480360" y="6384960"/>
            <a:ext cx="231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Forms a cycl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7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7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7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7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2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33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4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5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6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7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8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9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0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1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2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3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4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5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6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7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8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9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0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1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2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3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4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5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6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7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8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9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0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1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2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3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4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5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6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7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8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9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0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1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2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3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4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5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6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7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8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9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0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1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2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3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4" name=""/>
          <p:cNvSpPr/>
          <p:nvPr/>
        </p:nvSpPr>
        <p:spPr>
          <a:xfrm>
            <a:off x="7354440" y="4572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5" name=""/>
          <p:cNvSpPr/>
          <p:nvPr/>
        </p:nvSpPr>
        <p:spPr>
          <a:xfrm>
            <a:off x="7350120" y="4191120"/>
            <a:ext cx="63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,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6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7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8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9" name=""/>
          <p:cNvSpPr/>
          <p:nvPr/>
        </p:nvSpPr>
        <p:spPr>
          <a:xfrm>
            <a:off x="7393320" y="3870360"/>
            <a:ext cx="5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,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0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1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2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3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4" name=""/>
          <p:cNvSpPr/>
          <p:nvPr/>
        </p:nvSpPr>
        <p:spPr>
          <a:xfrm>
            <a:off x="7341840" y="3429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5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6" name=""/>
          <p:cNvSpPr/>
          <p:nvPr/>
        </p:nvSpPr>
        <p:spPr>
          <a:xfrm>
            <a:off x="7355160" y="3048120"/>
            <a:ext cx="5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,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7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8" name=""/>
          <p:cNvSpPr/>
          <p:nvPr/>
        </p:nvSpPr>
        <p:spPr>
          <a:xfrm>
            <a:off x="7311240" y="2590920"/>
            <a:ext cx="74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,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9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0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1" name=""/>
          <p:cNvSpPr/>
          <p:nvPr/>
        </p:nvSpPr>
        <p:spPr>
          <a:xfrm>
            <a:off x="5715000" y="548640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2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03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4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5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6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7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8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9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0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1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2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3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4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5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6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7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8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9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0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1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2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3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4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5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6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7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8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9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0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1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2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3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4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5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6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7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8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9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0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1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2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3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4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5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6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7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8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9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0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1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2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3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4" name=""/>
          <p:cNvSpPr/>
          <p:nvPr/>
        </p:nvSpPr>
        <p:spPr>
          <a:xfrm>
            <a:off x="7354440" y="4572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5" name=""/>
          <p:cNvSpPr/>
          <p:nvPr/>
        </p:nvSpPr>
        <p:spPr>
          <a:xfrm>
            <a:off x="7350120" y="4191120"/>
            <a:ext cx="63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,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6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7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8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9" name=""/>
          <p:cNvSpPr/>
          <p:nvPr/>
        </p:nvSpPr>
        <p:spPr>
          <a:xfrm>
            <a:off x="7393320" y="3870360"/>
            <a:ext cx="5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,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0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1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2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3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4" name=""/>
          <p:cNvSpPr/>
          <p:nvPr/>
        </p:nvSpPr>
        <p:spPr>
          <a:xfrm>
            <a:off x="7341840" y="3429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5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6" name=""/>
          <p:cNvSpPr/>
          <p:nvPr/>
        </p:nvSpPr>
        <p:spPr>
          <a:xfrm>
            <a:off x="7355160" y="3048120"/>
            <a:ext cx="5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,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7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8" name=""/>
          <p:cNvSpPr/>
          <p:nvPr/>
        </p:nvSpPr>
        <p:spPr>
          <a:xfrm>
            <a:off x="7311240" y="2590920"/>
            <a:ext cx="74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9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0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1" name=""/>
          <p:cNvSpPr/>
          <p:nvPr/>
        </p:nvSpPr>
        <p:spPr>
          <a:xfrm>
            <a:off x="5715000" y="548640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4419720" y="1206360"/>
            <a:ext cx="4572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e know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nodes are reachable from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because we have traced out a path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455360" y="2806560"/>
            <a:ext cx="4554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a node has been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handle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n all of its neighbors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ave been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ph Se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400800" y="228600"/>
            <a:ext cx="1181160" cy="1066680"/>
            <a:chOff x="6400800" y="228600"/>
            <a:chExt cx="1181160" cy="1066680"/>
          </a:xfrm>
        </p:grpSpPr>
        <p:sp>
          <p:nvSpPr>
            <p:cNvPr id="585" name=""/>
            <p:cNvSpPr/>
            <p:nvPr/>
          </p:nvSpPr>
          <p:spPr>
            <a:xfrm>
              <a:off x="6400800" y="228600"/>
              <a:ext cx="1181160" cy="106668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6587280" y="317520"/>
              <a:ext cx="629640" cy="860400"/>
              <a:chOff x="6587280" y="317520"/>
              <a:chExt cx="629640" cy="860400"/>
            </a:xfrm>
          </p:grpSpPr>
          <p:grpSp>
            <p:nvGrpSpPr>
              <p:cNvPr id="587" name=""/>
              <p:cNvGrpSpPr/>
              <p:nvPr/>
            </p:nvGrpSpPr>
            <p:grpSpPr>
              <a:xfrm>
                <a:off x="6587280" y="317520"/>
                <a:ext cx="592560" cy="842400"/>
                <a:chOff x="6587280" y="317520"/>
                <a:chExt cx="592560" cy="84240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6782760" y="459720"/>
                  <a:ext cx="102960" cy="177840"/>
                </a:xfrm>
                <a:custGeom>
                  <a:avLst/>
                  <a:gdLst/>
                  <a:ahLst/>
                  <a:rect l="l" t="t" r="r" b="b"/>
                  <a:pathLst>
                    <a:path w="434" h="514">
                      <a:moveTo>
                        <a:pt x="132" y="186"/>
                      </a:moveTo>
                      <a:lnTo>
                        <a:pt x="157" y="114"/>
                      </a:lnTo>
                      <a:lnTo>
                        <a:pt x="189" y="42"/>
                      </a:lnTo>
                      <a:lnTo>
                        <a:pt x="236" y="6"/>
                      </a:lnTo>
                      <a:lnTo>
                        <a:pt x="302" y="0"/>
                      </a:lnTo>
                      <a:lnTo>
                        <a:pt x="355" y="24"/>
                      </a:lnTo>
                      <a:lnTo>
                        <a:pt x="393" y="63"/>
                      </a:lnTo>
                      <a:lnTo>
                        <a:pt x="421" y="135"/>
                      </a:lnTo>
                      <a:lnTo>
                        <a:pt x="434" y="222"/>
                      </a:lnTo>
                      <a:lnTo>
                        <a:pt x="434" y="312"/>
                      </a:lnTo>
                      <a:lnTo>
                        <a:pt x="412" y="411"/>
                      </a:lnTo>
                      <a:lnTo>
                        <a:pt x="355" y="474"/>
                      </a:lnTo>
                      <a:lnTo>
                        <a:pt x="299" y="514"/>
                      </a:lnTo>
                      <a:lnTo>
                        <a:pt x="245" y="510"/>
                      </a:lnTo>
                      <a:lnTo>
                        <a:pt x="198" y="468"/>
                      </a:lnTo>
                      <a:lnTo>
                        <a:pt x="157" y="396"/>
                      </a:lnTo>
                      <a:lnTo>
                        <a:pt x="129" y="333"/>
                      </a:lnTo>
                      <a:lnTo>
                        <a:pt x="129" y="252"/>
                      </a:lnTo>
                      <a:lnTo>
                        <a:pt x="0" y="234"/>
                      </a:lnTo>
                      <a:lnTo>
                        <a:pt x="16" y="189"/>
                      </a:lnTo>
                      <a:lnTo>
                        <a:pt x="132" y="18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6850800" y="317520"/>
                  <a:ext cx="134280" cy="398880"/>
                </a:xfrm>
                <a:custGeom>
                  <a:avLst/>
                  <a:gdLst/>
                  <a:ahLst/>
                  <a:rect l="l" t="t" r="r" b="b"/>
                  <a:pathLst>
                    <a:path w="566" h="1154">
                      <a:moveTo>
                        <a:pt x="13" y="1145"/>
                      </a:moveTo>
                      <a:lnTo>
                        <a:pt x="0" y="1088"/>
                      </a:lnTo>
                      <a:lnTo>
                        <a:pt x="31" y="1042"/>
                      </a:lnTo>
                      <a:lnTo>
                        <a:pt x="134" y="988"/>
                      </a:lnTo>
                      <a:lnTo>
                        <a:pt x="226" y="927"/>
                      </a:lnTo>
                      <a:lnTo>
                        <a:pt x="313" y="827"/>
                      </a:lnTo>
                      <a:lnTo>
                        <a:pt x="432" y="689"/>
                      </a:lnTo>
                      <a:lnTo>
                        <a:pt x="463" y="634"/>
                      </a:lnTo>
                      <a:lnTo>
                        <a:pt x="479" y="580"/>
                      </a:lnTo>
                      <a:lnTo>
                        <a:pt x="472" y="526"/>
                      </a:lnTo>
                      <a:lnTo>
                        <a:pt x="444" y="426"/>
                      </a:lnTo>
                      <a:lnTo>
                        <a:pt x="376" y="299"/>
                      </a:lnTo>
                      <a:lnTo>
                        <a:pt x="301" y="229"/>
                      </a:lnTo>
                      <a:lnTo>
                        <a:pt x="235" y="190"/>
                      </a:lnTo>
                      <a:lnTo>
                        <a:pt x="181" y="184"/>
                      </a:lnTo>
                      <a:lnTo>
                        <a:pt x="153" y="190"/>
                      </a:lnTo>
                      <a:lnTo>
                        <a:pt x="150" y="163"/>
                      </a:lnTo>
                      <a:lnTo>
                        <a:pt x="215" y="154"/>
                      </a:lnTo>
                      <a:lnTo>
                        <a:pt x="291" y="154"/>
                      </a:lnTo>
                      <a:lnTo>
                        <a:pt x="238" y="93"/>
                      </a:lnTo>
                      <a:lnTo>
                        <a:pt x="206" y="45"/>
                      </a:lnTo>
                      <a:lnTo>
                        <a:pt x="229" y="27"/>
                      </a:lnTo>
                      <a:lnTo>
                        <a:pt x="313" y="109"/>
                      </a:lnTo>
                      <a:lnTo>
                        <a:pt x="329" y="121"/>
                      </a:lnTo>
                      <a:lnTo>
                        <a:pt x="313" y="57"/>
                      </a:lnTo>
                      <a:lnTo>
                        <a:pt x="301" y="9"/>
                      </a:lnTo>
                      <a:lnTo>
                        <a:pt x="313" y="0"/>
                      </a:lnTo>
                      <a:lnTo>
                        <a:pt x="341" y="9"/>
                      </a:lnTo>
                      <a:lnTo>
                        <a:pt x="366" y="121"/>
                      </a:lnTo>
                      <a:lnTo>
                        <a:pt x="379" y="118"/>
                      </a:lnTo>
                      <a:lnTo>
                        <a:pt x="379" y="30"/>
                      </a:lnTo>
                      <a:lnTo>
                        <a:pt x="404" y="21"/>
                      </a:lnTo>
                      <a:lnTo>
                        <a:pt x="422" y="36"/>
                      </a:lnTo>
                      <a:lnTo>
                        <a:pt x="413" y="154"/>
                      </a:lnTo>
                      <a:lnTo>
                        <a:pt x="407" y="202"/>
                      </a:lnTo>
                      <a:lnTo>
                        <a:pt x="422" y="299"/>
                      </a:lnTo>
                      <a:lnTo>
                        <a:pt x="472" y="402"/>
                      </a:lnTo>
                      <a:lnTo>
                        <a:pt x="525" y="520"/>
                      </a:lnTo>
                      <a:lnTo>
                        <a:pt x="566" y="607"/>
                      </a:lnTo>
                      <a:lnTo>
                        <a:pt x="563" y="652"/>
                      </a:lnTo>
                      <a:lnTo>
                        <a:pt x="488" y="734"/>
                      </a:lnTo>
                      <a:lnTo>
                        <a:pt x="385" y="836"/>
                      </a:lnTo>
                      <a:lnTo>
                        <a:pt x="301" y="937"/>
                      </a:lnTo>
                      <a:lnTo>
                        <a:pt x="197" y="1070"/>
                      </a:lnTo>
                      <a:lnTo>
                        <a:pt x="112" y="1136"/>
                      </a:lnTo>
                      <a:lnTo>
                        <a:pt x="47" y="1154"/>
                      </a:lnTo>
                      <a:lnTo>
                        <a:pt x="13" y="1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6587280" y="689400"/>
                  <a:ext cx="246240" cy="200880"/>
                </a:xfrm>
                <a:custGeom>
                  <a:avLst/>
                  <a:gdLst/>
                  <a:ahLst/>
                  <a:rect l="l" t="t" r="r" b="b"/>
                  <a:pathLst>
                    <a:path w="1037" h="581">
                      <a:moveTo>
                        <a:pt x="210" y="468"/>
                      </a:moveTo>
                      <a:lnTo>
                        <a:pt x="361" y="462"/>
                      </a:lnTo>
                      <a:lnTo>
                        <a:pt x="498" y="444"/>
                      </a:lnTo>
                      <a:lnTo>
                        <a:pt x="583" y="423"/>
                      </a:lnTo>
                      <a:lnTo>
                        <a:pt x="705" y="354"/>
                      </a:lnTo>
                      <a:lnTo>
                        <a:pt x="792" y="288"/>
                      </a:lnTo>
                      <a:lnTo>
                        <a:pt x="906" y="207"/>
                      </a:lnTo>
                      <a:lnTo>
                        <a:pt x="959" y="156"/>
                      </a:lnTo>
                      <a:lnTo>
                        <a:pt x="1000" y="120"/>
                      </a:lnTo>
                      <a:lnTo>
                        <a:pt x="1037" y="81"/>
                      </a:lnTo>
                      <a:lnTo>
                        <a:pt x="1037" y="39"/>
                      </a:lnTo>
                      <a:lnTo>
                        <a:pt x="996" y="0"/>
                      </a:lnTo>
                      <a:lnTo>
                        <a:pt x="971" y="9"/>
                      </a:lnTo>
                      <a:lnTo>
                        <a:pt x="903" y="90"/>
                      </a:lnTo>
                      <a:lnTo>
                        <a:pt x="828" y="183"/>
                      </a:lnTo>
                      <a:lnTo>
                        <a:pt x="752" y="270"/>
                      </a:lnTo>
                      <a:lnTo>
                        <a:pt x="642" y="342"/>
                      </a:lnTo>
                      <a:lnTo>
                        <a:pt x="548" y="390"/>
                      </a:lnTo>
                      <a:lnTo>
                        <a:pt x="445" y="414"/>
                      </a:lnTo>
                      <a:lnTo>
                        <a:pt x="301" y="417"/>
                      </a:lnTo>
                      <a:lnTo>
                        <a:pt x="216" y="417"/>
                      </a:lnTo>
                      <a:lnTo>
                        <a:pt x="144" y="363"/>
                      </a:lnTo>
                      <a:lnTo>
                        <a:pt x="125" y="327"/>
                      </a:lnTo>
                      <a:lnTo>
                        <a:pt x="94" y="327"/>
                      </a:lnTo>
                      <a:lnTo>
                        <a:pt x="116" y="372"/>
                      </a:lnTo>
                      <a:lnTo>
                        <a:pt x="150" y="414"/>
                      </a:lnTo>
                      <a:lnTo>
                        <a:pt x="66" y="396"/>
                      </a:lnTo>
                      <a:lnTo>
                        <a:pt x="3" y="387"/>
                      </a:lnTo>
                      <a:lnTo>
                        <a:pt x="3" y="405"/>
                      </a:lnTo>
                      <a:lnTo>
                        <a:pt x="59" y="417"/>
                      </a:lnTo>
                      <a:lnTo>
                        <a:pt x="97" y="441"/>
                      </a:lnTo>
                      <a:lnTo>
                        <a:pt x="131" y="444"/>
                      </a:lnTo>
                      <a:lnTo>
                        <a:pt x="78" y="462"/>
                      </a:lnTo>
                      <a:lnTo>
                        <a:pt x="0" y="481"/>
                      </a:lnTo>
                      <a:lnTo>
                        <a:pt x="3" y="499"/>
                      </a:lnTo>
                      <a:lnTo>
                        <a:pt x="28" y="505"/>
                      </a:lnTo>
                      <a:lnTo>
                        <a:pt x="103" y="481"/>
                      </a:lnTo>
                      <a:lnTo>
                        <a:pt x="150" y="477"/>
                      </a:lnTo>
                      <a:lnTo>
                        <a:pt x="122" y="505"/>
                      </a:lnTo>
                      <a:lnTo>
                        <a:pt x="78" y="550"/>
                      </a:lnTo>
                      <a:lnTo>
                        <a:pt x="59" y="562"/>
                      </a:lnTo>
                      <a:lnTo>
                        <a:pt x="75" y="581"/>
                      </a:lnTo>
                      <a:lnTo>
                        <a:pt x="113" y="559"/>
                      </a:lnTo>
                      <a:lnTo>
                        <a:pt x="163" y="514"/>
                      </a:lnTo>
                      <a:lnTo>
                        <a:pt x="210" y="46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6814080" y="668880"/>
                  <a:ext cx="144360" cy="276480"/>
                </a:xfrm>
                <a:custGeom>
                  <a:avLst/>
                  <a:gdLst/>
                  <a:ahLst/>
                  <a:rect l="l" t="t" r="r" b="b"/>
                  <a:pathLst>
                    <a:path w="608" h="800">
                      <a:moveTo>
                        <a:pt x="38" y="90"/>
                      </a:moveTo>
                      <a:lnTo>
                        <a:pt x="63" y="27"/>
                      </a:lnTo>
                      <a:lnTo>
                        <a:pt x="104" y="0"/>
                      </a:lnTo>
                      <a:lnTo>
                        <a:pt x="141" y="0"/>
                      </a:lnTo>
                      <a:lnTo>
                        <a:pt x="179" y="18"/>
                      </a:lnTo>
                      <a:lnTo>
                        <a:pt x="216" y="54"/>
                      </a:lnTo>
                      <a:lnTo>
                        <a:pt x="235" y="117"/>
                      </a:lnTo>
                      <a:lnTo>
                        <a:pt x="245" y="180"/>
                      </a:lnTo>
                      <a:lnTo>
                        <a:pt x="263" y="243"/>
                      </a:lnTo>
                      <a:lnTo>
                        <a:pt x="298" y="312"/>
                      </a:lnTo>
                      <a:lnTo>
                        <a:pt x="357" y="384"/>
                      </a:lnTo>
                      <a:lnTo>
                        <a:pt x="415" y="432"/>
                      </a:lnTo>
                      <a:lnTo>
                        <a:pt x="499" y="468"/>
                      </a:lnTo>
                      <a:lnTo>
                        <a:pt x="571" y="522"/>
                      </a:lnTo>
                      <a:lnTo>
                        <a:pt x="608" y="577"/>
                      </a:lnTo>
                      <a:lnTo>
                        <a:pt x="602" y="622"/>
                      </a:lnTo>
                      <a:lnTo>
                        <a:pt x="593" y="676"/>
                      </a:lnTo>
                      <a:lnTo>
                        <a:pt x="565" y="712"/>
                      </a:lnTo>
                      <a:lnTo>
                        <a:pt x="518" y="757"/>
                      </a:lnTo>
                      <a:lnTo>
                        <a:pt x="449" y="790"/>
                      </a:lnTo>
                      <a:lnTo>
                        <a:pt x="396" y="800"/>
                      </a:lnTo>
                      <a:lnTo>
                        <a:pt x="320" y="784"/>
                      </a:lnTo>
                      <a:lnTo>
                        <a:pt x="251" y="748"/>
                      </a:lnTo>
                      <a:lnTo>
                        <a:pt x="179" y="694"/>
                      </a:lnTo>
                      <a:lnTo>
                        <a:pt x="129" y="631"/>
                      </a:lnTo>
                      <a:lnTo>
                        <a:pt x="82" y="550"/>
                      </a:lnTo>
                      <a:lnTo>
                        <a:pt x="44" y="456"/>
                      </a:lnTo>
                      <a:lnTo>
                        <a:pt x="19" y="375"/>
                      </a:lnTo>
                      <a:lnTo>
                        <a:pt x="7" y="297"/>
                      </a:lnTo>
                      <a:lnTo>
                        <a:pt x="0" y="189"/>
                      </a:lnTo>
                      <a:lnTo>
                        <a:pt x="19" y="117"/>
                      </a:lnTo>
                      <a:lnTo>
                        <a:pt x="38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6932160" y="786960"/>
                  <a:ext cx="247680" cy="250920"/>
                </a:xfrm>
                <a:custGeom>
                  <a:avLst/>
                  <a:gdLst/>
                  <a:ahLst/>
                  <a:rect l="l" t="t" r="r" b="b"/>
                  <a:pathLst>
                    <a:path w="1043" h="726">
                      <a:moveTo>
                        <a:pt x="116" y="230"/>
                      </a:moveTo>
                      <a:lnTo>
                        <a:pt x="216" y="147"/>
                      </a:lnTo>
                      <a:lnTo>
                        <a:pt x="338" y="72"/>
                      </a:lnTo>
                      <a:lnTo>
                        <a:pt x="417" y="27"/>
                      </a:lnTo>
                      <a:lnTo>
                        <a:pt x="479" y="12"/>
                      </a:lnTo>
                      <a:lnTo>
                        <a:pt x="529" y="0"/>
                      </a:lnTo>
                      <a:lnTo>
                        <a:pt x="573" y="18"/>
                      </a:lnTo>
                      <a:lnTo>
                        <a:pt x="601" y="75"/>
                      </a:lnTo>
                      <a:lnTo>
                        <a:pt x="620" y="230"/>
                      </a:lnTo>
                      <a:lnTo>
                        <a:pt x="620" y="416"/>
                      </a:lnTo>
                      <a:lnTo>
                        <a:pt x="620" y="536"/>
                      </a:lnTo>
                      <a:lnTo>
                        <a:pt x="642" y="609"/>
                      </a:lnTo>
                      <a:lnTo>
                        <a:pt x="686" y="597"/>
                      </a:lnTo>
                      <a:lnTo>
                        <a:pt x="717" y="552"/>
                      </a:lnTo>
                      <a:lnTo>
                        <a:pt x="779" y="500"/>
                      </a:lnTo>
                      <a:lnTo>
                        <a:pt x="876" y="470"/>
                      </a:lnTo>
                      <a:lnTo>
                        <a:pt x="943" y="470"/>
                      </a:lnTo>
                      <a:lnTo>
                        <a:pt x="1043" y="488"/>
                      </a:lnTo>
                      <a:lnTo>
                        <a:pt x="1037" y="524"/>
                      </a:lnTo>
                      <a:lnTo>
                        <a:pt x="1015" y="555"/>
                      </a:lnTo>
                      <a:lnTo>
                        <a:pt x="981" y="561"/>
                      </a:lnTo>
                      <a:lnTo>
                        <a:pt x="943" y="542"/>
                      </a:lnTo>
                      <a:lnTo>
                        <a:pt x="886" y="518"/>
                      </a:lnTo>
                      <a:lnTo>
                        <a:pt x="829" y="518"/>
                      </a:lnTo>
                      <a:lnTo>
                        <a:pt x="754" y="564"/>
                      </a:lnTo>
                      <a:lnTo>
                        <a:pt x="708" y="633"/>
                      </a:lnTo>
                      <a:lnTo>
                        <a:pt x="698" y="690"/>
                      </a:lnTo>
                      <a:lnTo>
                        <a:pt x="679" y="726"/>
                      </a:lnTo>
                      <a:lnTo>
                        <a:pt x="604" y="723"/>
                      </a:lnTo>
                      <a:lnTo>
                        <a:pt x="601" y="669"/>
                      </a:lnTo>
                      <a:lnTo>
                        <a:pt x="576" y="591"/>
                      </a:lnTo>
                      <a:lnTo>
                        <a:pt x="567" y="509"/>
                      </a:lnTo>
                      <a:lnTo>
                        <a:pt x="573" y="401"/>
                      </a:lnTo>
                      <a:lnTo>
                        <a:pt x="564" y="248"/>
                      </a:lnTo>
                      <a:lnTo>
                        <a:pt x="558" y="147"/>
                      </a:lnTo>
                      <a:lnTo>
                        <a:pt x="539" y="111"/>
                      </a:lnTo>
                      <a:lnTo>
                        <a:pt x="501" y="75"/>
                      </a:lnTo>
                      <a:lnTo>
                        <a:pt x="461" y="75"/>
                      </a:lnTo>
                      <a:lnTo>
                        <a:pt x="403" y="111"/>
                      </a:lnTo>
                      <a:lnTo>
                        <a:pt x="328" y="181"/>
                      </a:lnTo>
                      <a:lnTo>
                        <a:pt x="235" y="272"/>
                      </a:lnTo>
                      <a:lnTo>
                        <a:pt x="141" y="356"/>
                      </a:lnTo>
                      <a:lnTo>
                        <a:pt x="94" y="383"/>
                      </a:lnTo>
                      <a:lnTo>
                        <a:pt x="38" y="383"/>
                      </a:lnTo>
                      <a:lnTo>
                        <a:pt x="0" y="344"/>
                      </a:lnTo>
                      <a:lnTo>
                        <a:pt x="3" y="281"/>
                      </a:lnTo>
                      <a:lnTo>
                        <a:pt x="41" y="248"/>
                      </a:lnTo>
                      <a:lnTo>
                        <a:pt x="84" y="239"/>
                      </a:lnTo>
                      <a:lnTo>
                        <a:pt x="116" y="23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6918840" y="896400"/>
                  <a:ext cx="169200" cy="263520"/>
                </a:xfrm>
                <a:custGeom>
                  <a:avLst/>
                  <a:gdLst/>
                  <a:ahLst/>
                  <a:rect l="l" t="t" r="r" b="b"/>
                  <a:pathLst>
                    <a:path w="713" h="762">
                      <a:moveTo>
                        <a:pt x="0" y="64"/>
                      </a:moveTo>
                      <a:lnTo>
                        <a:pt x="22" y="16"/>
                      </a:lnTo>
                      <a:lnTo>
                        <a:pt x="69" y="0"/>
                      </a:lnTo>
                      <a:lnTo>
                        <a:pt x="134" y="7"/>
                      </a:lnTo>
                      <a:lnTo>
                        <a:pt x="150" y="52"/>
                      </a:lnTo>
                      <a:lnTo>
                        <a:pt x="125" y="227"/>
                      </a:lnTo>
                      <a:lnTo>
                        <a:pt x="122" y="360"/>
                      </a:lnTo>
                      <a:lnTo>
                        <a:pt x="116" y="435"/>
                      </a:lnTo>
                      <a:lnTo>
                        <a:pt x="116" y="450"/>
                      </a:lnTo>
                      <a:lnTo>
                        <a:pt x="131" y="524"/>
                      </a:lnTo>
                      <a:lnTo>
                        <a:pt x="172" y="536"/>
                      </a:lnTo>
                      <a:lnTo>
                        <a:pt x="225" y="524"/>
                      </a:lnTo>
                      <a:lnTo>
                        <a:pt x="303" y="481"/>
                      </a:lnTo>
                      <a:lnTo>
                        <a:pt x="387" y="460"/>
                      </a:lnTo>
                      <a:lnTo>
                        <a:pt x="482" y="444"/>
                      </a:lnTo>
                      <a:lnTo>
                        <a:pt x="585" y="432"/>
                      </a:lnTo>
                      <a:lnTo>
                        <a:pt x="660" y="432"/>
                      </a:lnTo>
                      <a:lnTo>
                        <a:pt x="694" y="441"/>
                      </a:lnTo>
                      <a:lnTo>
                        <a:pt x="713" y="463"/>
                      </a:lnTo>
                      <a:lnTo>
                        <a:pt x="704" y="496"/>
                      </a:lnTo>
                      <a:lnTo>
                        <a:pt x="657" y="524"/>
                      </a:lnTo>
                      <a:lnTo>
                        <a:pt x="613" y="563"/>
                      </a:lnTo>
                      <a:lnTo>
                        <a:pt x="572" y="618"/>
                      </a:lnTo>
                      <a:lnTo>
                        <a:pt x="547" y="663"/>
                      </a:lnTo>
                      <a:lnTo>
                        <a:pt x="526" y="708"/>
                      </a:lnTo>
                      <a:lnTo>
                        <a:pt x="510" y="762"/>
                      </a:lnTo>
                      <a:lnTo>
                        <a:pt x="488" y="762"/>
                      </a:lnTo>
                      <a:lnTo>
                        <a:pt x="469" y="741"/>
                      </a:lnTo>
                      <a:lnTo>
                        <a:pt x="462" y="681"/>
                      </a:lnTo>
                      <a:lnTo>
                        <a:pt x="507" y="627"/>
                      </a:lnTo>
                      <a:lnTo>
                        <a:pt x="566" y="563"/>
                      </a:lnTo>
                      <a:lnTo>
                        <a:pt x="622" y="515"/>
                      </a:lnTo>
                      <a:lnTo>
                        <a:pt x="647" y="499"/>
                      </a:lnTo>
                      <a:lnTo>
                        <a:pt x="657" y="478"/>
                      </a:lnTo>
                      <a:lnTo>
                        <a:pt x="632" y="463"/>
                      </a:lnTo>
                      <a:lnTo>
                        <a:pt x="547" y="463"/>
                      </a:lnTo>
                      <a:lnTo>
                        <a:pt x="440" y="481"/>
                      </a:lnTo>
                      <a:lnTo>
                        <a:pt x="356" y="509"/>
                      </a:lnTo>
                      <a:lnTo>
                        <a:pt x="265" y="560"/>
                      </a:lnTo>
                      <a:lnTo>
                        <a:pt x="187" y="596"/>
                      </a:lnTo>
                      <a:lnTo>
                        <a:pt x="103" y="599"/>
                      </a:lnTo>
                      <a:lnTo>
                        <a:pt x="69" y="587"/>
                      </a:lnTo>
                      <a:lnTo>
                        <a:pt x="50" y="542"/>
                      </a:lnTo>
                      <a:lnTo>
                        <a:pt x="37" y="478"/>
                      </a:lnTo>
                      <a:lnTo>
                        <a:pt x="31" y="360"/>
                      </a:lnTo>
                      <a:lnTo>
                        <a:pt x="19" y="151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7114680" y="874800"/>
                <a:ext cx="102240" cy="303120"/>
                <a:chOff x="7114680" y="874800"/>
                <a:chExt cx="102240" cy="30312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7136280" y="1043640"/>
                  <a:ext cx="80640" cy="37440"/>
                </a:xfrm>
                <a:custGeom>
                  <a:avLst/>
                  <a:gdLst/>
                  <a:ahLst/>
                  <a:rect l="l" t="t" r="r" b="b"/>
                  <a:pathLst>
                    <a:path w="340" h="109">
                      <a:moveTo>
                        <a:pt x="340" y="109"/>
                      </a:moveTo>
                      <a:lnTo>
                        <a:pt x="165" y="30"/>
                      </a:lnTo>
                      <a:lnTo>
                        <a:pt x="48" y="0"/>
                      </a:lnTo>
                      <a:lnTo>
                        <a:pt x="10" y="0"/>
                      </a:lnTo>
                      <a:lnTo>
                        <a:pt x="0" y="27"/>
                      </a:lnTo>
                      <a:lnTo>
                        <a:pt x="22" y="48"/>
                      </a:lnTo>
                      <a:lnTo>
                        <a:pt x="70" y="54"/>
                      </a:lnTo>
                      <a:lnTo>
                        <a:pt x="184" y="75"/>
                      </a:lnTo>
                      <a:lnTo>
                        <a:pt x="340" y="10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7114680" y="1077480"/>
                  <a:ext cx="22680" cy="100440"/>
                </a:xfrm>
                <a:custGeom>
                  <a:avLst/>
                  <a:gdLst/>
                  <a:ahLst/>
                  <a:rect l="l" t="t" r="r" b="b"/>
                  <a:pathLst>
                    <a:path w="97" h="291">
                      <a:moveTo>
                        <a:pt x="97" y="291"/>
                      </a:moveTo>
                      <a:lnTo>
                        <a:pt x="94" y="148"/>
                      </a:lnTo>
                      <a:lnTo>
                        <a:pt x="69" y="39"/>
                      </a:lnTo>
                      <a:lnTo>
                        <a:pt x="41" y="0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54"/>
                      </a:lnTo>
                      <a:lnTo>
                        <a:pt x="47" y="184"/>
                      </a:lnTo>
                      <a:lnTo>
                        <a:pt x="97" y="29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7147800" y="874800"/>
                  <a:ext cx="50760" cy="38160"/>
                </a:xfrm>
                <a:custGeom>
                  <a:avLst/>
                  <a:gdLst/>
                  <a:ahLst/>
                  <a:rect l="l" t="t" r="r" b="b"/>
                  <a:pathLst>
                    <a:path w="214" h="111">
                      <a:moveTo>
                        <a:pt x="0" y="72"/>
                      </a:moveTo>
                      <a:lnTo>
                        <a:pt x="42" y="30"/>
                      </a:lnTo>
                      <a:lnTo>
                        <a:pt x="100" y="3"/>
                      </a:lnTo>
                      <a:lnTo>
                        <a:pt x="166" y="0"/>
                      </a:lnTo>
                      <a:lnTo>
                        <a:pt x="214" y="9"/>
                      </a:lnTo>
                      <a:lnTo>
                        <a:pt x="138" y="18"/>
                      </a:lnTo>
                      <a:lnTo>
                        <a:pt x="109" y="36"/>
                      </a:lnTo>
                      <a:lnTo>
                        <a:pt x="81" y="63"/>
                      </a:lnTo>
                      <a:lnTo>
                        <a:pt x="68" y="93"/>
                      </a:lnTo>
                      <a:lnTo>
                        <a:pt x="42" y="111"/>
                      </a:lnTo>
                      <a:lnTo>
                        <a:pt x="1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98" name=""/>
          <p:cNvSpPr/>
          <p:nvPr/>
        </p:nvSpPr>
        <p:spPr>
          <a:xfrm>
            <a:off x="1749600" y="4937040"/>
            <a:ext cx="291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# of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nod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380880" y="4952880"/>
            <a:ext cx="1219320" cy="1066680"/>
            <a:chOff x="380880" y="4952880"/>
            <a:chExt cx="1219320" cy="1066680"/>
          </a:xfrm>
        </p:grpSpPr>
        <p:sp>
          <p:nvSpPr>
            <p:cNvPr id="600" name=""/>
            <p:cNvSpPr/>
            <p:nvPr/>
          </p:nvSpPr>
          <p:spPr>
            <a:xfrm>
              <a:off x="380880" y="4952880"/>
              <a:ext cx="1219320" cy="91440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asur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gr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90360" y="5790960"/>
              <a:ext cx="0" cy="2286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1752840" y="5334120"/>
            <a:ext cx="3272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# of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handle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nod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006520" y="4937040"/>
            <a:ext cx="313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ight not increas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1754280" y="5108040"/>
            <a:ext cx="259056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01880" y="2019240"/>
            <a:ext cx="759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919160" y="243828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952720" y="182880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308240" y="2819520"/>
            <a:ext cx="75960" cy="75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81360" y="3313080"/>
            <a:ext cx="759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81040" y="270504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181320" y="373212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335400" y="2286000"/>
            <a:ext cx="759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09640" y="3541680"/>
            <a:ext cx="777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411360" y="308448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498680" y="3998880"/>
            <a:ext cx="759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532240" y="4075200"/>
            <a:ext cx="75960" cy="75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646360" y="2629080"/>
            <a:ext cx="76320" cy="75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1077480" y="1638360"/>
            <a:ext cx="9939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1957320" y="1635120"/>
            <a:ext cx="114480" cy="800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71800" y="1638360"/>
            <a:ext cx="57456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71800" y="1638360"/>
            <a:ext cx="8809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2684160" y="1866960"/>
            <a:ext cx="306360" cy="7621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1919160" y="2704680"/>
            <a:ext cx="727200" cy="646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57320" y="2323800"/>
            <a:ext cx="13780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029040" y="1866960"/>
            <a:ext cx="344520" cy="4190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684520" y="2705040"/>
            <a:ext cx="726840" cy="341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373560" y="2324160"/>
            <a:ext cx="75960" cy="7221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57320" y="2514600"/>
            <a:ext cx="1224000" cy="1217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1384200" y="2476440"/>
            <a:ext cx="573120" cy="34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039680" y="2057400"/>
            <a:ext cx="30636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657360" y="2057400"/>
            <a:ext cx="38232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19200" y="2743200"/>
            <a:ext cx="1224000" cy="569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1574280" y="3351240"/>
            <a:ext cx="344520" cy="647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919160" y="3351240"/>
            <a:ext cx="613080" cy="7239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925560" y="3351240"/>
            <a:ext cx="993600" cy="190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2608200" y="3770280"/>
            <a:ext cx="611280" cy="3430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3257640" y="3160440"/>
            <a:ext cx="230040" cy="6094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 flipV="1">
            <a:off x="2684160" y="2743200"/>
            <a:ext cx="765000" cy="379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 flipV="1">
            <a:off x="1384200" y="2895480"/>
            <a:ext cx="534960" cy="4557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3219120" y="3122640"/>
            <a:ext cx="230040" cy="6094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2570040" y="2781360"/>
            <a:ext cx="76320" cy="13320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 flipV="1">
            <a:off x="1612440" y="4075200"/>
            <a:ext cx="957240" cy="381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346040" y="1714320"/>
            <a:ext cx="649440" cy="11430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47800" y="3579840"/>
            <a:ext cx="650880" cy="4190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19200" y="2743200"/>
            <a:ext cx="190440" cy="798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19200" y="2743200"/>
            <a:ext cx="689040" cy="11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982520" y="11430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87600" y="17524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39920" y="25830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58800" y="34574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48200" y="396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07240" y="26971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40400" y="31910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553120" y="40672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247560" y="364824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45560" y="29383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370680" y="21528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992680" y="1687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727360" y="2438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962360" y="220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033640" y="1600200"/>
            <a:ext cx="7776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2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73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4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5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6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7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8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9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0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1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2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3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4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5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6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7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8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9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0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1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2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3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4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5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6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7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8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9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0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1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2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3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4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5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6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7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8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9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0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1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2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3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4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5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6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7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8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9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0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1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2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3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4" name=""/>
          <p:cNvSpPr/>
          <p:nvPr/>
        </p:nvSpPr>
        <p:spPr>
          <a:xfrm>
            <a:off x="7354440" y="4572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5" name=""/>
          <p:cNvSpPr/>
          <p:nvPr/>
        </p:nvSpPr>
        <p:spPr>
          <a:xfrm>
            <a:off x="7350120" y="4191120"/>
            <a:ext cx="63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,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6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7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8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9" name=""/>
          <p:cNvSpPr/>
          <p:nvPr/>
        </p:nvSpPr>
        <p:spPr>
          <a:xfrm>
            <a:off x="7393320" y="3870360"/>
            <a:ext cx="5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,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0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1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2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3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4" name=""/>
          <p:cNvSpPr/>
          <p:nvPr/>
        </p:nvSpPr>
        <p:spPr>
          <a:xfrm>
            <a:off x="7341840" y="3429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5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6" name=""/>
          <p:cNvSpPr/>
          <p:nvPr/>
        </p:nvSpPr>
        <p:spPr>
          <a:xfrm>
            <a:off x="7355160" y="3048120"/>
            <a:ext cx="5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,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7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8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9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0" name=""/>
          <p:cNvSpPr/>
          <p:nvPr/>
        </p:nvSpPr>
        <p:spPr>
          <a:xfrm>
            <a:off x="6172200" y="419112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42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3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4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5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6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7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8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9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0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1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2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3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4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5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6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7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8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9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0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1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2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3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4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5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6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7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8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9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0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1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2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3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4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5" name=""/>
          <p:cNvSpPr/>
          <p:nvPr/>
        </p:nvSpPr>
        <p:spPr>
          <a:xfrm flipH="1">
            <a:off x="2666520" y="4879800"/>
            <a:ext cx="685800" cy="129564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6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7" name=""/>
          <p:cNvSpPr/>
          <p:nvPr/>
        </p:nvSpPr>
        <p:spPr>
          <a:xfrm flipH="1">
            <a:off x="1371240" y="4879800"/>
            <a:ext cx="1981080" cy="38124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8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9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0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1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2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3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4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5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6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7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8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9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0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1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2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3" name=""/>
          <p:cNvSpPr/>
          <p:nvPr/>
        </p:nvSpPr>
        <p:spPr>
          <a:xfrm>
            <a:off x="7354440" y="4572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4" name=""/>
          <p:cNvSpPr/>
          <p:nvPr/>
        </p:nvSpPr>
        <p:spPr>
          <a:xfrm>
            <a:off x="7350120" y="4191120"/>
            <a:ext cx="63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,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5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6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7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8" name=""/>
          <p:cNvSpPr/>
          <p:nvPr/>
        </p:nvSpPr>
        <p:spPr>
          <a:xfrm>
            <a:off x="7393320" y="3870360"/>
            <a:ext cx="5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,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9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0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1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2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3" name=""/>
          <p:cNvSpPr/>
          <p:nvPr/>
        </p:nvSpPr>
        <p:spPr>
          <a:xfrm>
            <a:off x="7341840" y="3429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4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5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6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7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8" name=""/>
          <p:cNvSpPr/>
          <p:nvPr/>
        </p:nvSpPr>
        <p:spPr>
          <a:xfrm>
            <a:off x="4648320" y="327672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10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1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2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3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4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5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6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7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8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9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0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1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2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3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4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5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6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7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8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9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0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1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2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3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4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5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6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7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8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9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0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1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2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3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4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5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6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7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8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9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0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1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2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3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4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5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6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7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8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9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0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1" name=""/>
          <p:cNvSpPr/>
          <p:nvPr/>
        </p:nvSpPr>
        <p:spPr>
          <a:xfrm>
            <a:off x="7354440" y="4572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2" name=""/>
          <p:cNvSpPr/>
          <p:nvPr/>
        </p:nvSpPr>
        <p:spPr>
          <a:xfrm>
            <a:off x="7350120" y="4191120"/>
            <a:ext cx="63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,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3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4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5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6" name=""/>
          <p:cNvSpPr/>
          <p:nvPr/>
        </p:nvSpPr>
        <p:spPr>
          <a:xfrm>
            <a:off x="7393320" y="3870360"/>
            <a:ext cx="5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,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7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8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9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0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1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2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3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4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5" name=""/>
          <p:cNvSpPr/>
          <p:nvPr/>
        </p:nvSpPr>
        <p:spPr>
          <a:xfrm>
            <a:off x="3124080" y="464832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6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77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8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9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0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1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2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3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4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5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6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7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8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9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0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1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2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3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4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5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6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7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8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9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0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1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2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3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4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5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6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7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8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9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0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1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2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3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4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5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6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7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8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9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0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1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2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3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4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5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6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7" name=""/>
          <p:cNvSpPr/>
          <p:nvPr/>
        </p:nvSpPr>
        <p:spPr>
          <a:xfrm>
            <a:off x="7354440" y="4572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8" name=""/>
          <p:cNvSpPr/>
          <p:nvPr/>
        </p:nvSpPr>
        <p:spPr>
          <a:xfrm>
            <a:off x="7350120" y="4191120"/>
            <a:ext cx="63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,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9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0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1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2" name=""/>
          <p:cNvSpPr/>
          <p:nvPr/>
        </p:nvSpPr>
        <p:spPr>
          <a:xfrm>
            <a:off x="7393320" y="3870360"/>
            <a:ext cx="5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,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3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4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5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6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7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8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9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0" name=""/>
          <p:cNvSpPr/>
          <p:nvPr/>
        </p:nvSpPr>
        <p:spPr>
          <a:xfrm>
            <a:off x="7375680" y="3441600"/>
            <a:ext cx="5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,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1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2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3" name=""/>
          <p:cNvSpPr/>
          <p:nvPr/>
        </p:nvSpPr>
        <p:spPr>
          <a:xfrm>
            <a:off x="1981080" y="365760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45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6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7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8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9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0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1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2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3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4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5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6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7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8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9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0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1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2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3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4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5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6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7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8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9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0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1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2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3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4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5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6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7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8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9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0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1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2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3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4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5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6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7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8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9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0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1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2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3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4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5" name=""/>
          <p:cNvSpPr/>
          <p:nvPr/>
        </p:nvSpPr>
        <p:spPr>
          <a:xfrm>
            <a:off x="7354440" y="4572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6" name=""/>
          <p:cNvSpPr/>
          <p:nvPr/>
        </p:nvSpPr>
        <p:spPr>
          <a:xfrm>
            <a:off x="7350120" y="4191120"/>
            <a:ext cx="63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,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7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8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9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0" name=""/>
          <p:cNvSpPr/>
          <p:nvPr/>
        </p:nvSpPr>
        <p:spPr>
          <a:xfrm>
            <a:off x="7393320" y="3870360"/>
            <a:ext cx="5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,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1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2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3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4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5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6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7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8" name=""/>
          <p:cNvSpPr/>
          <p:nvPr/>
        </p:nvSpPr>
        <p:spPr>
          <a:xfrm>
            <a:off x="7375680" y="3441600"/>
            <a:ext cx="5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9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0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1" name=""/>
          <p:cNvSpPr/>
          <p:nvPr/>
        </p:nvSpPr>
        <p:spPr>
          <a:xfrm>
            <a:off x="1981080" y="365760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2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13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4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5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6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7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8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9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0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1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2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3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4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5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6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7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8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9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0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1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2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3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4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5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6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7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8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9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0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1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2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3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4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5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6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7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8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9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0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1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2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3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4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5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6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7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8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9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0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1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2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3" name=""/>
          <p:cNvSpPr/>
          <p:nvPr/>
        </p:nvSpPr>
        <p:spPr>
          <a:xfrm>
            <a:off x="7354440" y="4572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4" name=""/>
          <p:cNvSpPr/>
          <p:nvPr/>
        </p:nvSpPr>
        <p:spPr>
          <a:xfrm>
            <a:off x="7350120" y="4191120"/>
            <a:ext cx="63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,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5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6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7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8" name=""/>
          <p:cNvSpPr/>
          <p:nvPr/>
        </p:nvSpPr>
        <p:spPr>
          <a:xfrm>
            <a:off x="7393320" y="3870360"/>
            <a:ext cx="5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,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9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0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1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2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3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4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5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6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7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8" name=""/>
          <p:cNvSpPr/>
          <p:nvPr/>
        </p:nvSpPr>
        <p:spPr>
          <a:xfrm>
            <a:off x="3124080" y="464832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80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1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2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3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4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5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6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7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8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9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0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1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2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3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4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5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6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7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8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9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0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1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2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3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4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5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6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7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8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9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0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1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2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3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4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5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6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7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8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9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0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1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2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3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4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5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6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7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8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9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0" name=""/>
          <p:cNvSpPr/>
          <p:nvPr/>
        </p:nvSpPr>
        <p:spPr>
          <a:xfrm>
            <a:off x="7354440" y="4572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1" name=""/>
          <p:cNvSpPr/>
          <p:nvPr/>
        </p:nvSpPr>
        <p:spPr>
          <a:xfrm>
            <a:off x="7350120" y="4191120"/>
            <a:ext cx="63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,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2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3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4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5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6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7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8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9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0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1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2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3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4" name=""/>
          <p:cNvSpPr/>
          <p:nvPr/>
        </p:nvSpPr>
        <p:spPr>
          <a:xfrm>
            <a:off x="533520" y="342900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5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46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7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8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9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0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1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2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3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4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5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6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7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8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9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0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1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2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3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4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5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6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7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8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9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0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1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2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3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4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5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6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7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8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9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0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1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2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3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4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5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6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7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8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9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0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1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2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3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4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5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6" name=""/>
          <p:cNvSpPr/>
          <p:nvPr/>
        </p:nvSpPr>
        <p:spPr>
          <a:xfrm>
            <a:off x="7354440" y="4572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7" name=""/>
          <p:cNvSpPr/>
          <p:nvPr/>
        </p:nvSpPr>
        <p:spPr>
          <a:xfrm>
            <a:off x="7350120" y="4191120"/>
            <a:ext cx="63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,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8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9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0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1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2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3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4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5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6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7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8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9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0" name=""/>
          <p:cNvSpPr/>
          <p:nvPr/>
        </p:nvSpPr>
        <p:spPr>
          <a:xfrm>
            <a:off x="533520" y="342900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12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3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4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5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6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7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8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9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0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1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2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3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4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5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6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7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8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9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0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1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2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3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4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5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6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7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8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9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0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1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2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3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4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5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6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7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8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9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0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1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2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3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4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5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6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7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8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9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0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1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2" name=""/>
          <p:cNvSpPr/>
          <p:nvPr/>
        </p:nvSpPr>
        <p:spPr>
          <a:xfrm>
            <a:off x="7354440" y="4572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3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4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5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6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7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8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9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0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1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2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3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4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5" name=""/>
          <p:cNvSpPr/>
          <p:nvPr/>
        </p:nvSpPr>
        <p:spPr>
          <a:xfrm>
            <a:off x="1371600" y="205740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6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77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8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9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0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1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2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3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4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5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6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7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8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9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0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1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2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3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4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5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6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7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8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9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0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1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2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3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4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5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6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7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8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9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0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1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2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3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4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5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6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7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8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9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0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1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2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3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4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5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6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7" name=""/>
          <p:cNvSpPr/>
          <p:nvPr/>
        </p:nvSpPr>
        <p:spPr>
          <a:xfrm>
            <a:off x="7354440" y="4572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,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8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9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0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1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2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3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4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5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6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7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8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9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0" name=""/>
          <p:cNvSpPr/>
          <p:nvPr/>
        </p:nvSpPr>
        <p:spPr>
          <a:xfrm>
            <a:off x="1371600" y="205740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4419720" y="1206360"/>
            <a:ext cx="4572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e know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nodes are reachable from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because we have traced out a path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455360" y="2806560"/>
            <a:ext cx="4554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a node has been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handle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n all of its neighbors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ave been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ph Se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6400800" y="228600"/>
            <a:ext cx="1181160" cy="1066680"/>
            <a:chOff x="6400800" y="228600"/>
            <a:chExt cx="1181160" cy="1066680"/>
          </a:xfrm>
        </p:grpSpPr>
        <p:sp>
          <p:nvSpPr>
            <p:cNvPr id="666" name=""/>
            <p:cNvSpPr/>
            <p:nvPr/>
          </p:nvSpPr>
          <p:spPr>
            <a:xfrm>
              <a:off x="6400800" y="228600"/>
              <a:ext cx="1181160" cy="106668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6587280" y="317520"/>
              <a:ext cx="629640" cy="860400"/>
              <a:chOff x="6587280" y="317520"/>
              <a:chExt cx="629640" cy="860400"/>
            </a:xfrm>
          </p:grpSpPr>
          <p:grpSp>
            <p:nvGrpSpPr>
              <p:cNvPr id="668" name=""/>
              <p:cNvGrpSpPr/>
              <p:nvPr/>
            </p:nvGrpSpPr>
            <p:grpSpPr>
              <a:xfrm>
                <a:off x="6587280" y="317520"/>
                <a:ext cx="592560" cy="842400"/>
                <a:chOff x="6587280" y="317520"/>
                <a:chExt cx="592560" cy="84240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6782760" y="459720"/>
                  <a:ext cx="102960" cy="177840"/>
                </a:xfrm>
                <a:custGeom>
                  <a:avLst/>
                  <a:gdLst/>
                  <a:ahLst/>
                  <a:rect l="l" t="t" r="r" b="b"/>
                  <a:pathLst>
                    <a:path w="434" h="514">
                      <a:moveTo>
                        <a:pt x="132" y="186"/>
                      </a:moveTo>
                      <a:lnTo>
                        <a:pt x="157" y="114"/>
                      </a:lnTo>
                      <a:lnTo>
                        <a:pt x="189" y="42"/>
                      </a:lnTo>
                      <a:lnTo>
                        <a:pt x="236" y="6"/>
                      </a:lnTo>
                      <a:lnTo>
                        <a:pt x="302" y="0"/>
                      </a:lnTo>
                      <a:lnTo>
                        <a:pt x="355" y="24"/>
                      </a:lnTo>
                      <a:lnTo>
                        <a:pt x="393" y="63"/>
                      </a:lnTo>
                      <a:lnTo>
                        <a:pt x="421" y="135"/>
                      </a:lnTo>
                      <a:lnTo>
                        <a:pt x="434" y="222"/>
                      </a:lnTo>
                      <a:lnTo>
                        <a:pt x="434" y="312"/>
                      </a:lnTo>
                      <a:lnTo>
                        <a:pt x="412" y="411"/>
                      </a:lnTo>
                      <a:lnTo>
                        <a:pt x="355" y="474"/>
                      </a:lnTo>
                      <a:lnTo>
                        <a:pt x="299" y="514"/>
                      </a:lnTo>
                      <a:lnTo>
                        <a:pt x="245" y="510"/>
                      </a:lnTo>
                      <a:lnTo>
                        <a:pt x="198" y="468"/>
                      </a:lnTo>
                      <a:lnTo>
                        <a:pt x="157" y="396"/>
                      </a:lnTo>
                      <a:lnTo>
                        <a:pt x="129" y="333"/>
                      </a:lnTo>
                      <a:lnTo>
                        <a:pt x="129" y="252"/>
                      </a:lnTo>
                      <a:lnTo>
                        <a:pt x="0" y="234"/>
                      </a:lnTo>
                      <a:lnTo>
                        <a:pt x="16" y="189"/>
                      </a:lnTo>
                      <a:lnTo>
                        <a:pt x="132" y="18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6850800" y="317520"/>
                  <a:ext cx="134280" cy="398880"/>
                </a:xfrm>
                <a:custGeom>
                  <a:avLst/>
                  <a:gdLst/>
                  <a:ahLst/>
                  <a:rect l="l" t="t" r="r" b="b"/>
                  <a:pathLst>
                    <a:path w="566" h="1154">
                      <a:moveTo>
                        <a:pt x="13" y="1145"/>
                      </a:moveTo>
                      <a:lnTo>
                        <a:pt x="0" y="1088"/>
                      </a:lnTo>
                      <a:lnTo>
                        <a:pt x="31" y="1042"/>
                      </a:lnTo>
                      <a:lnTo>
                        <a:pt x="134" y="988"/>
                      </a:lnTo>
                      <a:lnTo>
                        <a:pt x="226" y="927"/>
                      </a:lnTo>
                      <a:lnTo>
                        <a:pt x="313" y="827"/>
                      </a:lnTo>
                      <a:lnTo>
                        <a:pt x="432" y="689"/>
                      </a:lnTo>
                      <a:lnTo>
                        <a:pt x="463" y="634"/>
                      </a:lnTo>
                      <a:lnTo>
                        <a:pt x="479" y="580"/>
                      </a:lnTo>
                      <a:lnTo>
                        <a:pt x="472" y="526"/>
                      </a:lnTo>
                      <a:lnTo>
                        <a:pt x="444" y="426"/>
                      </a:lnTo>
                      <a:lnTo>
                        <a:pt x="376" y="299"/>
                      </a:lnTo>
                      <a:lnTo>
                        <a:pt x="301" y="229"/>
                      </a:lnTo>
                      <a:lnTo>
                        <a:pt x="235" y="190"/>
                      </a:lnTo>
                      <a:lnTo>
                        <a:pt x="181" y="184"/>
                      </a:lnTo>
                      <a:lnTo>
                        <a:pt x="153" y="190"/>
                      </a:lnTo>
                      <a:lnTo>
                        <a:pt x="150" y="163"/>
                      </a:lnTo>
                      <a:lnTo>
                        <a:pt x="215" y="154"/>
                      </a:lnTo>
                      <a:lnTo>
                        <a:pt x="291" y="154"/>
                      </a:lnTo>
                      <a:lnTo>
                        <a:pt x="238" y="93"/>
                      </a:lnTo>
                      <a:lnTo>
                        <a:pt x="206" y="45"/>
                      </a:lnTo>
                      <a:lnTo>
                        <a:pt x="229" y="27"/>
                      </a:lnTo>
                      <a:lnTo>
                        <a:pt x="313" y="109"/>
                      </a:lnTo>
                      <a:lnTo>
                        <a:pt x="329" y="121"/>
                      </a:lnTo>
                      <a:lnTo>
                        <a:pt x="313" y="57"/>
                      </a:lnTo>
                      <a:lnTo>
                        <a:pt x="301" y="9"/>
                      </a:lnTo>
                      <a:lnTo>
                        <a:pt x="313" y="0"/>
                      </a:lnTo>
                      <a:lnTo>
                        <a:pt x="341" y="9"/>
                      </a:lnTo>
                      <a:lnTo>
                        <a:pt x="366" y="121"/>
                      </a:lnTo>
                      <a:lnTo>
                        <a:pt x="379" y="118"/>
                      </a:lnTo>
                      <a:lnTo>
                        <a:pt x="379" y="30"/>
                      </a:lnTo>
                      <a:lnTo>
                        <a:pt x="404" y="21"/>
                      </a:lnTo>
                      <a:lnTo>
                        <a:pt x="422" y="36"/>
                      </a:lnTo>
                      <a:lnTo>
                        <a:pt x="413" y="154"/>
                      </a:lnTo>
                      <a:lnTo>
                        <a:pt x="407" y="202"/>
                      </a:lnTo>
                      <a:lnTo>
                        <a:pt x="422" y="299"/>
                      </a:lnTo>
                      <a:lnTo>
                        <a:pt x="472" y="402"/>
                      </a:lnTo>
                      <a:lnTo>
                        <a:pt x="525" y="520"/>
                      </a:lnTo>
                      <a:lnTo>
                        <a:pt x="566" y="607"/>
                      </a:lnTo>
                      <a:lnTo>
                        <a:pt x="563" y="652"/>
                      </a:lnTo>
                      <a:lnTo>
                        <a:pt x="488" y="734"/>
                      </a:lnTo>
                      <a:lnTo>
                        <a:pt x="385" y="836"/>
                      </a:lnTo>
                      <a:lnTo>
                        <a:pt x="301" y="937"/>
                      </a:lnTo>
                      <a:lnTo>
                        <a:pt x="197" y="1070"/>
                      </a:lnTo>
                      <a:lnTo>
                        <a:pt x="112" y="1136"/>
                      </a:lnTo>
                      <a:lnTo>
                        <a:pt x="47" y="1154"/>
                      </a:lnTo>
                      <a:lnTo>
                        <a:pt x="13" y="1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6587280" y="689400"/>
                  <a:ext cx="246240" cy="200880"/>
                </a:xfrm>
                <a:custGeom>
                  <a:avLst/>
                  <a:gdLst/>
                  <a:ahLst/>
                  <a:rect l="l" t="t" r="r" b="b"/>
                  <a:pathLst>
                    <a:path w="1037" h="581">
                      <a:moveTo>
                        <a:pt x="210" y="468"/>
                      </a:moveTo>
                      <a:lnTo>
                        <a:pt x="361" y="462"/>
                      </a:lnTo>
                      <a:lnTo>
                        <a:pt x="498" y="444"/>
                      </a:lnTo>
                      <a:lnTo>
                        <a:pt x="583" y="423"/>
                      </a:lnTo>
                      <a:lnTo>
                        <a:pt x="705" y="354"/>
                      </a:lnTo>
                      <a:lnTo>
                        <a:pt x="792" y="288"/>
                      </a:lnTo>
                      <a:lnTo>
                        <a:pt x="906" y="207"/>
                      </a:lnTo>
                      <a:lnTo>
                        <a:pt x="959" y="156"/>
                      </a:lnTo>
                      <a:lnTo>
                        <a:pt x="1000" y="120"/>
                      </a:lnTo>
                      <a:lnTo>
                        <a:pt x="1037" y="81"/>
                      </a:lnTo>
                      <a:lnTo>
                        <a:pt x="1037" y="39"/>
                      </a:lnTo>
                      <a:lnTo>
                        <a:pt x="996" y="0"/>
                      </a:lnTo>
                      <a:lnTo>
                        <a:pt x="971" y="9"/>
                      </a:lnTo>
                      <a:lnTo>
                        <a:pt x="903" y="90"/>
                      </a:lnTo>
                      <a:lnTo>
                        <a:pt x="828" y="183"/>
                      </a:lnTo>
                      <a:lnTo>
                        <a:pt x="752" y="270"/>
                      </a:lnTo>
                      <a:lnTo>
                        <a:pt x="642" y="342"/>
                      </a:lnTo>
                      <a:lnTo>
                        <a:pt x="548" y="390"/>
                      </a:lnTo>
                      <a:lnTo>
                        <a:pt x="445" y="414"/>
                      </a:lnTo>
                      <a:lnTo>
                        <a:pt x="301" y="417"/>
                      </a:lnTo>
                      <a:lnTo>
                        <a:pt x="216" y="417"/>
                      </a:lnTo>
                      <a:lnTo>
                        <a:pt x="144" y="363"/>
                      </a:lnTo>
                      <a:lnTo>
                        <a:pt x="125" y="327"/>
                      </a:lnTo>
                      <a:lnTo>
                        <a:pt x="94" y="327"/>
                      </a:lnTo>
                      <a:lnTo>
                        <a:pt x="116" y="372"/>
                      </a:lnTo>
                      <a:lnTo>
                        <a:pt x="150" y="414"/>
                      </a:lnTo>
                      <a:lnTo>
                        <a:pt x="66" y="396"/>
                      </a:lnTo>
                      <a:lnTo>
                        <a:pt x="3" y="387"/>
                      </a:lnTo>
                      <a:lnTo>
                        <a:pt x="3" y="405"/>
                      </a:lnTo>
                      <a:lnTo>
                        <a:pt x="59" y="417"/>
                      </a:lnTo>
                      <a:lnTo>
                        <a:pt x="97" y="441"/>
                      </a:lnTo>
                      <a:lnTo>
                        <a:pt x="131" y="444"/>
                      </a:lnTo>
                      <a:lnTo>
                        <a:pt x="78" y="462"/>
                      </a:lnTo>
                      <a:lnTo>
                        <a:pt x="0" y="481"/>
                      </a:lnTo>
                      <a:lnTo>
                        <a:pt x="3" y="499"/>
                      </a:lnTo>
                      <a:lnTo>
                        <a:pt x="28" y="505"/>
                      </a:lnTo>
                      <a:lnTo>
                        <a:pt x="103" y="481"/>
                      </a:lnTo>
                      <a:lnTo>
                        <a:pt x="150" y="477"/>
                      </a:lnTo>
                      <a:lnTo>
                        <a:pt x="122" y="505"/>
                      </a:lnTo>
                      <a:lnTo>
                        <a:pt x="78" y="550"/>
                      </a:lnTo>
                      <a:lnTo>
                        <a:pt x="59" y="562"/>
                      </a:lnTo>
                      <a:lnTo>
                        <a:pt x="75" y="581"/>
                      </a:lnTo>
                      <a:lnTo>
                        <a:pt x="113" y="559"/>
                      </a:lnTo>
                      <a:lnTo>
                        <a:pt x="163" y="514"/>
                      </a:lnTo>
                      <a:lnTo>
                        <a:pt x="210" y="46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6814080" y="668880"/>
                  <a:ext cx="144360" cy="276480"/>
                </a:xfrm>
                <a:custGeom>
                  <a:avLst/>
                  <a:gdLst/>
                  <a:ahLst/>
                  <a:rect l="l" t="t" r="r" b="b"/>
                  <a:pathLst>
                    <a:path w="608" h="800">
                      <a:moveTo>
                        <a:pt x="38" y="90"/>
                      </a:moveTo>
                      <a:lnTo>
                        <a:pt x="63" y="27"/>
                      </a:lnTo>
                      <a:lnTo>
                        <a:pt x="104" y="0"/>
                      </a:lnTo>
                      <a:lnTo>
                        <a:pt x="141" y="0"/>
                      </a:lnTo>
                      <a:lnTo>
                        <a:pt x="179" y="18"/>
                      </a:lnTo>
                      <a:lnTo>
                        <a:pt x="216" y="54"/>
                      </a:lnTo>
                      <a:lnTo>
                        <a:pt x="235" y="117"/>
                      </a:lnTo>
                      <a:lnTo>
                        <a:pt x="245" y="180"/>
                      </a:lnTo>
                      <a:lnTo>
                        <a:pt x="263" y="243"/>
                      </a:lnTo>
                      <a:lnTo>
                        <a:pt x="298" y="312"/>
                      </a:lnTo>
                      <a:lnTo>
                        <a:pt x="357" y="384"/>
                      </a:lnTo>
                      <a:lnTo>
                        <a:pt x="415" y="432"/>
                      </a:lnTo>
                      <a:lnTo>
                        <a:pt x="499" y="468"/>
                      </a:lnTo>
                      <a:lnTo>
                        <a:pt x="571" y="522"/>
                      </a:lnTo>
                      <a:lnTo>
                        <a:pt x="608" y="577"/>
                      </a:lnTo>
                      <a:lnTo>
                        <a:pt x="602" y="622"/>
                      </a:lnTo>
                      <a:lnTo>
                        <a:pt x="593" y="676"/>
                      </a:lnTo>
                      <a:lnTo>
                        <a:pt x="565" y="712"/>
                      </a:lnTo>
                      <a:lnTo>
                        <a:pt x="518" y="757"/>
                      </a:lnTo>
                      <a:lnTo>
                        <a:pt x="449" y="790"/>
                      </a:lnTo>
                      <a:lnTo>
                        <a:pt x="396" y="800"/>
                      </a:lnTo>
                      <a:lnTo>
                        <a:pt x="320" y="784"/>
                      </a:lnTo>
                      <a:lnTo>
                        <a:pt x="251" y="748"/>
                      </a:lnTo>
                      <a:lnTo>
                        <a:pt x="179" y="694"/>
                      </a:lnTo>
                      <a:lnTo>
                        <a:pt x="129" y="631"/>
                      </a:lnTo>
                      <a:lnTo>
                        <a:pt x="82" y="550"/>
                      </a:lnTo>
                      <a:lnTo>
                        <a:pt x="44" y="456"/>
                      </a:lnTo>
                      <a:lnTo>
                        <a:pt x="19" y="375"/>
                      </a:lnTo>
                      <a:lnTo>
                        <a:pt x="7" y="297"/>
                      </a:lnTo>
                      <a:lnTo>
                        <a:pt x="0" y="189"/>
                      </a:lnTo>
                      <a:lnTo>
                        <a:pt x="19" y="117"/>
                      </a:lnTo>
                      <a:lnTo>
                        <a:pt x="38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6932160" y="786960"/>
                  <a:ext cx="247680" cy="250920"/>
                </a:xfrm>
                <a:custGeom>
                  <a:avLst/>
                  <a:gdLst/>
                  <a:ahLst/>
                  <a:rect l="l" t="t" r="r" b="b"/>
                  <a:pathLst>
                    <a:path w="1043" h="726">
                      <a:moveTo>
                        <a:pt x="116" y="230"/>
                      </a:moveTo>
                      <a:lnTo>
                        <a:pt x="216" y="147"/>
                      </a:lnTo>
                      <a:lnTo>
                        <a:pt x="338" y="72"/>
                      </a:lnTo>
                      <a:lnTo>
                        <a:pt x="417" y="27"/>
                      </a:lnTo>
                      <a:lnTo>
                        <a:pt x="479" y="12"/>
                      </a:lnTo>
                      <a:lnTo>
                        <a:pt x="529" y="0"/>
                      </a:lnTo>
                      <a:lnTo>
                        <a:pt x="573" y="18"/>
                      </a:lnTo>
                      <a:lnTo>
                        <a:pt x="601" y="75"/>
                      </a:lnTo>
                      <a:lnTo>
                        <a:pt x="620" y="230"/>
                      </a:lnTo>
                      <a:lnTo>
                        <a:pt x="620" y="416"/>
                      </a:lnTo>
                      <a:lnTo>
                        <a:pt x="620" y="536"/>
                      </a:lnTo>
                      <a:lnTo>
                        <a:pt x="642" y="609"/>
                      </a:lnTo>
                      <a:lnTo>
                        <a:pt x="686" y="597"/>
                      </a:lnTo>
                      <a:lnTo>
                        <a:pt x="717" y="552"/>
                      </a:lnTo>
                      <a:lnTo>
                        <a:pt x="779" y="500"/>
                      </a:lnTo>
                      <a:lnTo>
                        <a:pt x="876" y="470"/>
                      </a:lnTo>
                      <a:lnTo>
                        <a:pt x="943" y="470"/>
                      </a:lnTo>
                      <a:lnTo>
                        <a:pt x="1043" y="488"/>
                      </a:lnTo>
                      <a:lnTo>
                        <a:pt x="1037" y="524"/>
                      </a:lnTo>
                      <a:lnTo>
                        <a:pt x="1015" y="555"/>
                      </a:lnTo>
                      <a:lnTo>
                        <a:pt x="981" y="561"/>
                      </a:lnTo>
                      <a:lnTo>
                        <a:pt x="943" y="542"/>
                      </a:lnTo>
                      <a:lnTo>
                        <a:pt x="886" y="518"/>
                      </a:lnTo>
                      <a:lnTo>
                        <a:pt x="829" y="518"/>
                      </a:lnTo>
                      <a:lnTo>
                        <a:pt x="754" y="564"/>
                      </a:lnTo>
                      <a:lnTo>
                        <a:pt x="708" y="633"/>
                      </a:lnTo>
                      <a:lnTo>
                        <a:pt x="698" y="690"/>
                      </a:lnTo>
                      <a:lnTo>
                        <a:pt x="679" y="726"/>
                      </a:lnTo>
                      <a:lnTo>
                        <a:pt x="604" y="723"/>
                      </a:lnTo>
                      <a:lnTo>
                        <a:pt x="601" y="669"/>
                      </a:lnTo>
                      <a:lnTo>
                        <a:pt x="576" y="591"/>
                      </a:lnTo>
                      <a:lnTo>
                        <a:pt x="567" y="509"/>
                      </a:lnTo>
                      <a:lnTo>
                        <a:pt x="573" y="401"/>
                      </a:lnTo>
                      <a:lnTo>
                        <a:pt x="564" y="248"/>
                      </a:lnTo>
                      <a:lnTo>
                        <a:pt x="558" y="147"/>
                      </a:lnTo>
                      <a:lnTo>
                        <a:pt x="539" y="111"/>
                      </a:lnTo>
                      <a:lnTo>
                        <a:pt x="501" y="75"/>
                      </a:lnTo>
                      <a:lnTo>
                        <a:pt x="461" y="75"/>
                      </a:lnTo>
                      <a:lnTo>
                        <a:pt x="403" y="111"/>
                      </a:lnTo>
                      <a:lnTo>
                        <a:pt x="328" y="181"/>
                      </a:lnTo>
                      <a:lnTo>
                        <a:pt x="235" y="272"/>
                      </a:lnTo>
                      <a:lnTo>
                        <a:pt x="141" y="356"/>
                      </a:lnTo>
                      <a:lnTo>
                        <a:pt x="94" y="383"/>
                      </a:lnTo>
                      <a:lnTo>
                        <a:pt x="38" y="383"/>
                      </a:lnTo>
                      <a:lnTo>
                        <a:pt x="0" y="344"/>
                      </a:lnTo>
                      <a:lnTo>
                        <a:pt x="3" y="281"/>
                      </a:lnTo>
                      <a:lnTo>
                        <a:pt x="41" y="248"/>
                      </a:lnTo>
                      <a:lnTo>
                        <a:pt x="84" y="239"/>
                      </a:lnTo>
                      <a:lnTo>
                        <a:pt x="116" y="23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918840" y="896400"/>
                  <a:ext cx="169200" cy="263520"/>
                </a:xfrm>
                <a:custGeom>
                  <a:avLst/>
                  <a:gdLst/>
                  <a:ahLst/>
                  <a:rect l="l" t="t" r="r" b="b"/>
                  <a:pathLst>
                    <a:path w="713" h="762">
                      <a:moveTo>
                        <a:pt x="0" y="64"/>
                      </a:moveTo>
                      <a:lnTo>
                        <a:pt x="22" y="16"/>
                      </a:lnTo>
                      <a:lnTo>
                        <a:pt x="69" y="0"/>
                      </a:lnTo>
                      <a:lnTo>
                        <a:pt x="134" y="7"/>
                      </a:lnTo>
                      <a:lnTo>
                        <a:pt x="150" y="52"/>
                      </a:lnTo>
                      <a:lnTo>
                        <a:pt x="125" y="227"/>
                      </a:lnTo>
                      <a:lnTo>
                        <a:pt x="122" y="360"/>
                      </a:lnTo>
                      <a:lnTo>
                        <a:pt x="116" y="435"/>
                      </a:lnTo>
                      <a:lnTo>
                        <a:pt x="116" y="450"/>
                      </a:lnTo>
                      <a:lnTo>
                        <a:pt x="131" y="524"/>
                      </a:lnTo>
                      <a:lnTo>
                        <a:pt x="172" y="536"/>
                      </a:lnTo>
                      <a:lnTo>
                        <a:pt x="225" y="524"/>
                      </a:lnTo>
                      <a:lnTo>
                        <a:pt x="303" y="481"/>
                      </a:lnTo>
                      <a:lnTo>
                        <a:pt x="387" y="460"/>
                      </a:lnTo>
                      <a:lnTo>
                        <a:pt x="482" y="444"/>
                      </a:lnTo>
                      <a:lnTo>
                        <a:pt x="585" y="432"/>
                      </a:lnTo>
                      <a:lnTo>
                        <a:pt x="660" y="432"/>
                      </a:lnTo>
                      <a:lnTo>
                        <a:pt x="694" y="441"/>
                      </a:lnTo>
                      <a:lnTo>
                        <a:pt x="713" y="463"/>
                      </a:lnTo>
                      <a:lnTo>
                        <a:pt x="704" y="496"/>
                      </a:lnTo>
                      <a:lnTo>
                        <a:pt x="657" y="524"/>
                      </a:lnTo>
                      <a:lnTo>
                        <a:pt x="613" y="563"/>
                      </a:lnTo>
                      <a:lnTo>
                        <a:pt x="572" y="618"/>
                      </a:lnTo>
                      <a:lnTo>
                        <a:pt x="547" y="663"/>
                      </a:lnTo>
                      <a:lnTo>
                        <a:pt x="526" y="708"/>
                      </a:lnTo>
                      <a:lnTo>
                        <a:pt x="510" y="762"/>
                      </a:lnTo>
                      <a:lnTo>
                        <a:pt x="488" y="762"/>
                      </a:lnTo>
                      <a:lnTo>
                        <a:pt x="469" y="741"/>
                      </a:lnTo>
                      <a:lnTo>
                        <a:pt x="462" y="681"/>
                      </a:lnTo>
                      <a:lnTo>
                        <a:pt x="507" y="627"/>
                      </a:lnTo>
                      <a:lnTo>
                        <a:pt x="566" y="563"/>
                      </a:lnTo>
                      <a:lnTo>
                        <a:pt x="622" y="515"/>
                      </a:lnTo>
                      <a:lnTo>
                        <a:pt x="647" y="499"/>
                      </a:lnTo>
                      <a:lnTo>
                        <a:pt x="657" y="478"/>
                      </a:lnTo>
                      <a:lnTo>
                        <a:pt x="632" y="463"/>
                      </a:lnTo>
                      <a:lnTo>
                        <a:pt x="547" y="463"/>
                      </a:lnTo>
                      <a:lnTo>
                        <a:pt x="440" y="481"/>
                      </a:lnTo>
                      <a:lnTo>
                        <a:pt x="356" y="509"/>
                      </a:lnTo>
                      <a:lnTo>
                        <a:pt x="265" y="560"/>
                      </a:lnTo>
                      <a:lnTo>
                        <a:pt x="187" y="596"/>
                      </a:lnTo>
                      <a:lnTo>
                        <a:pt x="103" y="599"/>
                      </a:lnTo>
                      <a:lnTo>
                        <a:pt x="69" y="587"/>
                      </a:lnTo>
                      <a:lnTo>
                        <a:pt x="50" y="542"/>
                      </a:lnTo>
                      <a:lnTo>
                        <a:pt x="37" y="478"/>
                      </a:lnTo>
                      <a:lnTo>
                        <a:pt x="31" y="360"/>
                      </a:lnTo>
                      <a:lnTo>
                        <a:pt x="19" y="151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7114680" y="874800"/>
                <a:ext cx="102240" cy="303120"/>
                <a:chOff x="7114680" y="874800"/>
                <a:chExt cx="102240" cy="30312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7136280" y="1043640"/>
                  <a:ext cx="80640" cy="37440"/>
                </a:xfrm>
                <a:custGeom>
                  <a:avLst/>
                  <a:gdLst/>
                  <a:ahLst/>
                  <a:rect l="l" t="t" r="r" b="b"/>
                  <a:pathLst>
                    <a:path w="340" h="109">
                      <a:moveTo>
                        <a:pt x="340" y="109"/>
                      </a:moveTo>
                      <a:lnTo>
                        <a:pt x="165" y="30"/>
                      </a:lnTo>
                      <a:lnTo>
                        <a:pt x="48" y="0"/>
                      </a:lnTo>
                      <a:lnTo>
                        <a:pt x="10" y="0"/>
                      </a:lnTo>
                      <a:lnTo>
                        <a:pt x="0" y="27"/>
                      </a:lnTo>
                      <a:lnTo>
                        <a:pt x="22" y="48"/>
                      </a:lnTo>
                      <a:lnTo>
                        <a:pt x="70" y="54"/>
                      </a:lnTo>
                      <a:lnTo>
                        <a:pt x="184" y="75"/>
                      </a:lnTo>
                      <a:lnTo>
                        <a:pt x="340" y="10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7114680" y="1077480"/>
                  <a:ext cx="22680" cy="100440"/>
                </a:xfrm>
                <a:custGeom>
                  <a:avLst/>
                  <a:gdLst/>
                  <a:ahLst/>
                  <a:rect l="l" t="t" r="r" b="b"/>
                  <a:pathLst>
                    <a:path w="97" h="291">
                      <a:moveTo>
                        <a:pt x="97" y="291"/>
                      </a:moveTo>
                      <a:lnTo>
                        <a:pt x="94" y="148"/>
                      </a:lnTo>
                      <a:lnTo>
                        <a:pt x="69" y="39"/>
                      </a:lnTo>
                      <a:lnTo>
                        <a:pt x="41" y="0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54"/>
                      </a:lnTo>
                      <a:lnTo>
                        <a:pt x="47" y="184"/>
                      </a:lnTo>
                      <a:lnTo>
                        <a:pt x="97" y="29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7147800" y="874800"/>
                  <a:ext cx="50760" cy="38160"/>
                </a:xfrm>
                <a:custGeom>
                  <a:avLst/>
                  <a:gdLst/>
                  <a:ahLst/>
                  <a:rect l="l" t="t" r="r" b="b"/>
                  <a:pathLst>
                    <a:path w="214" h="111">
                      <a:moveTo>
                        <a:pt x="0" y="72"/>
                      </a:moveTo>
                      <a:lnTo>
                        <a:pt x="42" y="30"/>
                      </a:lnTo>
                      <a:lnTo>
                        <a:pt x="100" y="3"/>
                      </a:lnTo>
                      <a:lnTo>
                        <a:pt x="166" y="0"/>
                      </a:lnTo>
                      <a:lnTo>
                        <a:pt x="214" y="9"/>
                      </a:lnTo>
                      <a:lnTo>
                        <a:pt x="138" y="18"/>
                      </a:lnTo>
                      <a:lnTo>
                        <a:pt x="109" y="36"/>
                      </a:lnTo>
                      <a:lnTo>
                        <a:pt x="81" y="63"/>
                      </a:lnTo>
                      <a:lnTo>
                        <a:pt x="68" y="93"/>
                      </a:lnTo>
                      <a:lnTo>
                        <a:pt x="42" y="111"/>
                      </a:lnTo>
                      <a:lnTo>
                        <a:pt x="1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79" name=""/>
          <p:cNvSpPr/>
          <p:nvPr/>
        </p:nvSpPr>
        <p:spPr>
          <a:xfrm>
            <a:off x="1754280" y="5241960"/>
            <a:ext cx="444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ode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s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foundNotHandl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80880" y="4876920"/>
            <a:ext cx="1254960" cy="1170000"/>
            <a:chOff x="380880" y="4876920"/>
            <a:chExt cx="1254960" cy="1170000"/>
          </a:xfrm>
        </p:grpSpPr>
        <p:grpSp>
          <p:nvGrpSpPr>
            <p:cNvPr id="681" name=""/>
            <p:cNvGrpSpPr/>
            <p:nvPr/>
          </p:nvGrpSpPr>
          <p:grpSpPr>
            <a:xfrm>
              <a:off x="380880" y="4876920"/>
              <a:ext cx="1254960" cy="1170000"/>
              <a:chOff x="380880" y="4876920"/>
              <a:chExt cx="1254960" cy="1170000"/>
            </a:xfrm>
          </p:grpSpPr>
          <p:sp>
            <p:nvSpPr>
              <p:cNvPr id="682" name=""/>
              <p:cNvSpPr/>
              <p:nvPr/>
            </p:nvSpPr>
            <p:spPr>
              <a:xfrm rot="2359800">
                <a:off x="931320" y="5204160"/>
                <a:ext cx="619200" cy="489960"/>
              </a:xfrm>
              <a:custGeom>
                <a:avLst/>
                <a:gdLst/>
                <a:ahLst/>
                <a:rect l="l" t="t" r="r" b="b"/>
                <a:pathLst>
                  <a:path w="2280" h="1785">
                    <a:moveTo>
                      <a:pt x="748" y="30"/>
                    </a:moveTo>
                    <a:cubicBezTo>
                      <a:pt x="881" y="60"/>
                      <a:pt x="985" y="267"/>
                      <a:pt x="1224" y="305"/>
                    </a:cubicBezTo>
                    <a:cubicBezTo>
                      <a:pt x="1463" y="343"/>
                      <a:pt x="2088" y="121"/>
                      <a:pt x="2184" y="257"/>
                    </a:cubicBezTo>
                    <a:cubicBezTo>
                      <a:pt x="2280" y="393"/>
                      <a:pt x="1873" y="945"/>
                      <a:pt x="1800" y="1121"/>
                    </a:cubicBezTo>
                    <a:cubicBezTo>
                      <a:pt x="1727" y="1297"/>
                      <a:pt x="1757" y="1253"/>
                      <a:pt x="1743" y="1313"/>
                    </a:cubicBezTo>
                    <a:cubicBezTo>
                      <a:pt x="1729" y="1373"/>
                      <a:pt x="1747" y="1440"/>
                      <a:pt x="1717" y="1479"/>
                    </a:cubicBezTo>
                    <a:cubicBezTo>
                      <a:pt x="1687" y="1518"/>
                      <a:pt x="1634" y="1537"/>
                      <a:pt x="1560" y="1549"/>
                    </a:cubicBezTo>
                    <a:cubicBezTo>
                      <a:pt x="1486" y="1561"/>
                      <a:pt x="1504" y="1536"/>
                      <a:pt x="1272" y="1553"/>
                    </a:cubicBezTo>
                    <a:cubicBezTo>
                      <a:pt x="1040" y="1570"/>
                      <a:pt x="336" y="1785"/>
                      <a:pt x="168" y="1649"/>
                    </a:cubicBezTo>
                    <a:cubicBezTo>
                      <a:pt x="0" y="1513"/>
                      <a:pt x="221" y="991"/>
                      <a:pt x="264" y="737"/>
                    </a:cubicBezTo>
                    <a:cubicBezTo>
                      <a:pt x="307" y="483"/>
                      <a:pt x="344" y="244"/>
                      <a:pt x="425" y="126"/>
                    </a:cubicBezTo>
                    <a:cubicBezTo>
                      <a:pt x="506" y="8"/>
                      <a:pt x="615" y="0"/>
                      <a:pt x="748" y="30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80880" y="4876920"/>
                <a:ext cx="1170000" cy="1170000"/>
              </a:xfrm>
              <a:prstGeom prst="ellipse">
                <a:avLst/>
              </a:prstGeom>
              <a:noFill/>
              <a:ln w="63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8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30640" y="5223600"/>
                <a:ext cx="339120" cy="49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5" name=""/>
            <p:cNvGrpSpPr/>
            <p:nvPr/>
          </p:nvGrpSpPr>
          <p:grpSpPr>
            <a:xfrm>
              <a:off x="743760" y="4960080"/>
              <a:ext cx="561240" cy="601920"/>
              <a:chOff x="743760" y="4960080"/>
              <a:chExt cx="561240" cy="601920"/>
            </a:xfrm>
          </p:grpSpPr>
          <p:sp>
            <p:nvSpPr>
              <p:cNvPr id="686" name=""/>
              <p:cNvSpPr/>
              <p:nvPr/>
            </p:nvSpPr>
            <p:spPr>
              <a:xfrm rot="21255000">
                <a:off x="1026360" y="5024160"/>
                <a:ext cx="114120" cy="9468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21255000">
                <a:off x="987120" y="5142960"/>
                <a:ext cx="117720" cy="21168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21255000">
                <a:off x="1069560" y="5316120"/>
                <a:ext cx="228600" cy="14580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19838400">
                <a:off x="754200" y="5361480"/>
                <a:ext cx="326520" cy="12852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21255000">
                <a:off x="910080" y="4968720"/>
                <a:ext cx="133200" cy="23688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21255000">
                <a:off x="1069560" y="4968360"/>
                <a:ext cx="174600" cy="19764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2" name=""/>
          <p:cNvSpPr/>
          <p:nvPr/>
        </p:nvSpPr>
        <p:spPr>
          <a:xfrm>
            <a:off x="2071800" y="16383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754640" y="5715000"/>
            <a:ext cx="358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ther nodes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notFoun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01880" y="2019240"/>
            <a:ext cx="7596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19160" y="2438280"/>
            <a:ext cx="7632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52720" y="1828800"/>
            <a:ext cx="7632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308240" y="2819520"/>
            <a:ext cx="75960" cy="759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881360" y="3313080"/>
            <a:ext cx="7596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81040" y="2705040"/>
            <a:ext cx="7632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181320" y="3732120"/>
            <a:ext cx="7632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335400" y="2286000"/>
            <a:ext cx="7596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09640" y="3541680"/>
            <a:ext cx="7776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411360" y="3084480"/>
            <a:ext cx="7632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498680" y="3998880"/>
            <a:ext cx="7596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532240" y="4075200"/>
            <a:ext cx="75960" cy="759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646360" y="2629080"/>
            <a:ext cx="76320" cy="759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1077480" y="1638360"/>
            <a:ext cx="993960" cy="3808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1957320" y="1635120"/>
            <a:ext cx="114480" cy="800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71800" y="1638360"/>
            <a:ext cx="574560" cy="990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71800" y="1638360"/>
            <a:ext cx="880920" cy="2286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2684160" y="1866960"/>
            <a:ext cx="306360" cy="7621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1919160" y="2704680"/>
            <a:ext cx="727200" cy="646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1957320" y="2323800"/>
            <a:ext cx="1378080" cy="152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029040" y="1866960"/>
            <a:ext cx="344520" cy="4190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684520" y="2705040"/>
            <a:ext cx="726840" cy="341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373560" y="2324160"/>
            <a:ext cx="75960" cy="7221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957320" y="2514600"/>
            <a:ext cx="1224000" cy="12175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1384200" y="2476440"/>
            <a:ext cx="573120" cy="3430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039680" y="2057400"/>
            <a:ext cx="306360" cy="7621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657360" y="2057400"/>
            <a:ext cx="382320" cy="6094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19200" y="2743200"/>
            <a:ext cx="1224000" cy="5698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1574280" y="3351240"/>
            <a:ext cx="344520" cy="647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19160" y="3351240"/>
            <a:ext cx="613080" cy="7239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925560" y="3351240"/>
            <a:ext cx="993600" cy="190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608200" y="3770280"/>
            <a:ext cx="611280" cy="3430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3257640" y="3160440"/>
            <a:ext cx="230040" cy="6094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 flipV="1">
            <a:off x="2684160" y="2743200"/>
            <a:ext cx="765000" cy="379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1384200" y="2895480"/>
            <a:ext cx="534960" cy="4557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3219120" y="3122640"/>
            <a:ext cx="230040" cy="6094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2570040" y="2781360"/>
            <a:ext cx="76320" cy="13320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1612440" y="4075200"/>
            <a:ext cx="957240" cy="381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346040" y="1714320"/>
            <a:ext cx="649440" cy="11430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47800" y="3579840"/>
            <a:ext cx="650880" cy="4190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19200" y="2743200"/>
            <a:ext cx="190440" cy="7984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19200" y="2743200"/>
            <a:ext cx="689040" cy="1144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982520" y="11430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7600" y="17524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39920" y="25830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58800" y="34574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348200" y="396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407240" y="26971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940400" y="31910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53120" y="40672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247560" y="364824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445560" y="29383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370680" y="21528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992680" y="1687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727360" y="2438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962360" y="220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033640" y="1600200"/>
            <a:ext cx="7776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42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3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4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5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6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7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8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9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0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1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2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3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4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5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6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7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8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9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0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1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2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3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4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5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6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7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8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9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0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1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2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3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4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5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6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7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8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9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0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1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2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3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4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5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6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7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8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9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0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1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2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3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4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5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6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7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8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9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0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1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2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3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4" name=""/>
          <p:cNvSpPr/>
          <p:nvPr/>
        </p:nvSpPr>
        <p:spPr>
          <a:xfrm>
            <a:off x="3429000" y="121932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5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06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7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8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9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0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1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2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3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4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5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6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7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8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9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0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1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2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3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4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5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6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7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8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9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0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1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2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3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4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5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6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7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8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9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0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1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2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3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4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5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6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7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8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9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0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1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2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3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4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5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6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7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8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9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0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1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2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3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4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5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6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7" name=""/>
          <p:cNvSpPr/>
          <p:nvPr/>
        </p:nvSpPr>
        <p:spPr>
          <a:xfrm>
            <a:off x="7367400" y="455616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8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9" name=""/>
          <p:cNvSpPr/>
          <p:nvPr/>
        </p:nvSpPr>
        <p:spPr>
          <a:xfrm>
            <a:off x="3200400" y="289548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0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71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2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3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4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5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6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7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8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9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0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1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2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3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4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5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6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7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8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9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0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1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2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3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4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5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6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7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8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9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0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1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2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3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4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5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6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7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8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9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0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1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2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3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4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5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6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7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8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9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0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1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2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3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4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5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6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7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8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9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0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1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2" name=""/>
          <p:cNvSpPr/>
          <p:nvPr/>
        </p:nvSpPr>
        <p:spPr>
          <a:xfrm>
            <a:off x="7367400" y="455616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,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3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4" name=""/>
          <p:cNvSpPr/>
          <p:nvPr/>
        </p:nvSpPr>
        <p:spPr>
          <a:xfrm>
            <a:off x="3200400" y="289548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5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36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7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8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9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0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1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2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3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4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5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6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7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8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9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0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1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2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3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4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5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6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7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8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9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0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1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2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3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4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5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6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7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8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9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0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1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2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3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4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5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6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7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8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9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0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1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2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3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4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5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6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7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8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9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0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1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2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3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4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5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6" name=""/>
          <p:cNvSpPr/>
          <p:nvPr/>
        </p:nvSpPr>
        <p:spPr>
          <a:xfrm>
            <a:off x="7367400" y="455616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,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7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8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9" name=""/>
          <p:cNvSpPr/>
          <p:nvPr/>
        </p:nvSpPr>
        <p:spPr>
          <a:xfrm>
            <a:off x="7367400" y="4098960"/>
            <a:ext cx="63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,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0" name=""/>
          <p:cNvSpPr/>
          <p:nvPr/>
        </p:nvSpPr>
        <p:spPr>
          <a:xfrm>
            <a:off x="6019920" y="259092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02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3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4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5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6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7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8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9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0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1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2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3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4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5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6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7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8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9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0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1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2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3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4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5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6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7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8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9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0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1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2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3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4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5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6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7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8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9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0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1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2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3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4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5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6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7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8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9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0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1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2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3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4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5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6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7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8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9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0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1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2" name=""/>
          <p:cNvSpPr/>
          <p:nvPr/>
        </p:nvSpPr>
        <p:spPr>
          <a:xfrm>
            <a:off x="7367400" y="455616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,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3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4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5" name=""/>
          <p:cNvSpPr/>
          <p:nvPr/>
        </p:nvSpPr>
        <p:spPr>
          <a:xfrm>
            <a:off x="7367400" y="4098960"/>
            <a:ext cx="63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6" name=""/>
          <p:cNvSpPr/>
          <p:nvPr/>
        </p:nvSpPr>
        <p:spPr>
          <a:xfrm>
            <a:off x="6019920" y="259092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7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68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9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0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1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2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3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4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5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6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7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8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9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0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1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2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3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4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5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6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7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8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9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0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1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2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3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4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5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6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7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8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9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0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1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2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3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4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5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6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7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8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9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0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1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2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3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4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5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6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7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8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9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0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1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2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3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4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5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6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7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8" name=""/>
          <p:cNvSpPr/>
          <p:nvPr/>
        </p:nvSpPr>
        <p:spPr>
          <a:xfrm>
            <a:off x="7367400" y="455616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,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9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0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1" name=""/>
          <p:cNvSpPr/>
          <p:nvPr/>
        </p:nvSpPr>
        <p:spPr>
          <a:xfrm>
            <a:off x="3200400" y="289548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2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33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4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5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6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7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8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9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0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1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2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3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4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5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6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7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8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9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0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1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2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3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4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5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6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7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8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9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0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1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2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3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4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5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6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7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8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9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0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1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2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3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4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5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6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7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8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9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0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1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2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3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4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5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6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7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8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9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0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1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2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3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4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5" name=""/>
          <p:cNvSpPr/>
          <p:nvPr/>
        </p:nvSpPr>
        <p:spPr>
          <a:xfrm>
            <a:off x="3429000" y="121932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6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97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8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9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0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1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2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3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4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5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6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7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8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9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0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1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2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3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4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5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6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7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8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9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0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1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2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3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4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5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6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7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8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9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0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1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2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3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4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5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6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7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8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9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0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1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2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3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4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5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6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7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8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9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0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1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2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3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4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5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6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7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8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9" name=""/>
          <p:cNvSpPr/>
          <p:nvPr/>
        </p:nvSpPr>
        <p:spPr>
          <a:xfrm>
            <a:off x="3429000" y="121932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0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61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2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3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4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5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6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7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8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9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0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1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2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3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4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5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6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7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8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9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0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1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2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3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4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5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6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7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8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9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0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1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2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3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4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5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6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7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8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9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0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1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2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3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4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5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6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7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8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9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0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1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2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3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4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5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6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7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8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9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0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1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2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3" name=""/>
          <p:cNvSpPr/>
          <p:nvPr/>
        </p:nvSpPr>
        <p:spPr>
          <a:xfrm>
            <a:off x="7341840" y="4572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,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4" name=""/>
          <p:cNvSpPr/>
          <p:nvPr/>
        </p:nvSpPr>
        <p:spPr>
          <a:xfrm>
            <a:off x="5257800" y="167652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5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26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7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8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9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0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1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2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3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4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5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6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7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8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9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0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1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2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3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4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5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6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7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8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9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0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1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2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3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4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5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6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7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8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9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0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1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2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3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4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5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6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7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8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9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0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1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2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3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4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5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6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7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8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9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0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1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2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3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4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5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6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7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8" name=""/>
          <p:cNvSpPr/>
          <p:nvPr/>
        </p:nvSpPr>
        <p:spPr>
          <a:xfrm>
            <a:off x="7341840" y="4572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,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9" name=""/>
          <p:cNvSpPr/>
          <p:nvPr/>
        </p:nvSpPr>
        <p:spPr>
          <a:xfrm>
            <a:off x="5257800" y="167652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4419720" y="1206360"/>
            <a:ext cx="4572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e know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nodes are reachable from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because we have traced out a path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455360" y="2806560"/>
            <a:ext cx="4554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a node has been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handle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n all of its neighbors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ave been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ph Se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6400800" y="228600"/>
            <a:ext cx="1181160" cy="1066680"/>
            <a:chOff x="6400800" y="228600"/>
            <a:chExt cx="1181160" cy="1066680"/>
          </a:xfrm>
        </p:grpSpPr>
        <p:sp>
          <p:nvSpPr>
            <p:cNvPr id="755" name=""/>
            <p:cNvSpPr/>
            <p:nvPr/>
          </p:nvSpPr>
          <p:spPr>
            <a:xfrm>
              <a:off x="6400800" y="228600"/>
              <a:ext cx="1181160" cy="106668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6587280" y="317520"/>
              <a:ext cx="629640" cy="860400"/>
              <a:chOff x="6587280" y="317520"/>
              <a:chExt cx="629640" cy="860400"/>
            </a:xfrm>
          </p:grpSpPr>
          <p:grpSp>
            <p:nvGrpSpPr>
              <p:cNvPr id="757" name=""/>
              <p:cNvGrpSpPr/>
              <p:nvPr/>
            </p:nvGrpSpPr>
            <p:grpSpPr>
              <a:xfrm>
                <a:off x="6587280" y="317520"/>
                <a:ext cx="592560" cy="842400"/>
                <a:chOff x="6587280" y="317520"/>
                <a:chExt cx="592560" cy="84240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6782760" y="459720"/>
                  <a:ext cx="102960" cy="177840"/>
                </a:xfrm>
                <a:custGeom>
                  <a:avLst/>
                  <a:gdLst/>
                  <a:ahLst/>
                  <a:rect l="l" t="t" r="r" b="b"/>
                  <a:pathLst>
                    <a:path w="434" h="514">
                      <a:moveTo>
                        <a:pt x="132" y="186"/>
                      </a:moveTo>
                      <a:lnTo>
                        <a:pt x="157" y="114"/>
                      </a:lnTo>
                      <a:lnTo>
                        <a:pt x="189" y="42"/>
                      </a:lnTo>
                      <a:lnTo>
                        <a:pt x="236" y="6"/>
                      </a:lnTo>
                      <a:lnTo>
                        <a:pt x="302" y="0"/>
                      </a:lnTo>
                      <a:lnTo>
                        <a:pt x="355" y="24"/>
                      </a:lnTo>
                      <a:lnTo>
                        <a:pt x="393" y="63"/>
                      </a:lnTo>
                      <a:lnTo>
                        <a:pt x="421" y="135"/>
                      </a:lnTo>
                      <a:lnTo>
                        <a:pt x="434" y="222"/>
                      </a:lnTo>
                      <a:lnTo>
                        <a:pt x="434" y="312"/>
                      </a:lnTo>
                      <a:lnTo>
                        <a:pt x="412" y="411"/>
                      </a:lnTo>
                      <a:lnTo>
                        <a:pt x="355" y="474"/>
                      </a:lnTo>
                      <a:lnTo>
                        <a:pt x="299" y="514"/>
                      </a:lnTo>
                      <a:lnTo>
                        <a:pt x="245" y="510"/>
                      </a:lnTo>
                      <a:lnTo>
                        <a:pt x="198" y="468"/>
                      </a:lnTo>
                      <a:lnTo>
                        <a:pt x="157" y="396"/>
                      </a:lnTo>
                      <a:lnTo>
                        <a:pt x="129" y="333"/>
                      </a:lnTo>
                      <a:lnTo>
                        <a:pt x="129" y="252"/>
                      </a:lnTo>
                      <a:lnTo>
                        <a:pt x="0" y="234"/>
                      </a:lnTo>
                      <a:lnTo>
                        <a:pt x="16" y="189"/>
                      </a:lnTo>
                      <a:lnTo>
                        <a:pt x="132" y="18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6850800" y="317520"/>
                  <a:ext cx="134280" cy="398880"/>
                </a:xfrm>
                <a:custGeom>
                  <a:avLst/>
                  <a:gdLst/>
                  <a:ahLst/>
                  <a:rect l="l" t="t" r="r" b="b"/>
                  <a:pathLst>
                    <a:path w="566" h="1154">
                      <a:moveTo>
                        <a:pt x="13" y="1145"/>
                      </a:moveTo>
                      <a:lnTo>
                        <a:pt x="0" y="1088"/>
                      </a:lnTo>
                      <a:lnTo>
                        <a:pt x="31" y="1042"/>
                      </a:lnTo>
                      <a:lnTo>
                        <a:pt x="134" y="988"/>
                      </a:lnTo>
                      <a:lnTo>
                        <a:pt x="226" y="927"/>
                      </a:lnTo>
                      <a:lnTo>
                        <a:pt x="313" y="827"/>
                      </a:lnTo>
                      <a:lnTo>
                        <a:pt x="432" y="689"/>
                      </a:lnTo>
                      <a:lnTo>
                        <a:pt x="463" y="634"/>
                      </a:lnTo>
                      <a:lnTo>
                        <a:pt x="479" y="580"/>
                      </a:lnTo>
                      <a:lnTo>
                        <a:pt x="472" y="526"/>
                      </a:lnTo>
                      <a:lnTo>
                        <a:pt x="444" y="426"/>
                      </a:lnTo>
                      <a:lnTo>
                        <a:pt x="376" y="299"/>
                      </a:lnTo>
                      <a:lnTo>
                        <a:pt x="301" y="229"/>
                      </a:lnTo>
                      <a:lnTo>
                        <a:pt x="235" y="190"/>
                      </a:lnTo>
                      <a:lnTo>
                        <a:pt x="181" y="184"/>
                      </a:lnTo>
                      <a:lnTo>
                        <a:pt x="153" y="190"/>
                      </a:lnTo>
                      <a:lnTo>
                        <a:pt x="150" y="163"/>
                      </a:lnTo>
                      <a:lnTo>
                        <a:pt x="215" y="154"/>
                      </a:lnTo>
                      <a:lnTo>
                        <a:pt x="291" y="154"/>
                      </a:lnTo>
                      <a:lnTo>
                        <a:pt x="238" y="93"/>
                      </a:lnTo>
                      <a:lnTo>
                        <a:pt x="206" y="45"/>
                      </a:lnTo>
                      <a:lnTo>
                        <a:pt x="229" y="27"/>
                      </a:lnTo>
                      <a:lnTo>
                        <a:pt x="313" y="109"/>
                      </a:lnTo>
                      <a:lnTo>
                        <a:pt x="329" y="121"/>
                      </a:lnTo>
                      <a:lnTo>
                        <a:pt x="313" y="57"/>
                      </a:lnTo>
                      <a:lnTo>
                        <a:pt x="301" y="9"/>
                      </a:lnTo>
                      <a:lnTo>
                        <a:pt x="313" y="0"/>
                      </a:lnTo>
                      <a:lnTo>
                        <a:pt x="341" y="9"/>
                      </a:lnTo>
                      <a:lnTo>
                        <a:pt x="366" y="121"/>
                      </a:lnTo>
                      <a:lnTo>
                        <a:pt x="379" y="118"/>
                      </a:lnTo>
                      <a:lnTo>
                        <a:pt x="379" y="30"/>
                      </a:lnTo>
                      <a:lnTo>
                        <a:pt x="404" y="21"/>
                      </a:lnTo>
                      <a:lnTo>
                        <a:pt x="422" y="36"/>
                      </a:lnTo>
                      <a:lnTo>
                        <a:pt x="413" y="154"/>
                      </a:lnTo>
                      <a:lnTo>
                        <a:pt x="407" y="202"/>
                      </a:lnTo>
                      <a:lnTo>
                        <a:pt x="422" y="299"/>
                      </a:lnTo>
                      <a:lnTo>
                        <a:pt x="472" y="402"/>
                      </a:lnTo>
                      <a:lnTo>
                        <a:pt x="525" y="520"/>
                      </a:lnTo>
                      <a:lnTo>
                        <a:pt x="566" y="607"/>
                      </a:lnTo>
                      <a:lnTo>
                        <a:pt x="563" y="652"/>
                      </a:lnTo>
                      <a:lnTo>
                        <a:pt x="488" y="734"/>
                      </a:lnTo>
                      <a:lnTo>
                        <a:pt x="385" y="836"/>
                      </a:lnTo>
                      <a:lnTo>
                        <a:pt x="301" y="937"/>
                      </a:lnTo>
                      <a:lnTo>
                        <a:pt x="197" y="1070"/>
                      </a:lnTo>
                      <a:lnTo>
                        <a:pt x="112" y="1136"/>
                      </a:lnTo>
                      <a:lnTo>
                        <a:pt x="47" y="1154"/>
                      </a:lnTo>
                      <a:lnTo>
                        <a:pt x="13" y="1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6587280" y="689400"/>
                  <a:ext cx="246240" cy="200880"/>
                </a:xfrm>
                <a:custGeom>
                  <a:avLst/>
                  <a:gdLst/>
                  <a:ahLst/>
                  <a:rect l="l" t="t" r="r" b="b"/>
                  <a:pathLst>
                    <a:path w="1037" h="581">
                      <a:moveTo>
                        <a:pt x="210" y="468"/>
                      </a:moveTo>
                      <a:lnTo>
                        <a:pt x="361" y="462"/>
                      </a:lnTo>
                      <a:lnTo>
                        <a:pt x="498" y="444"/>
                      </a:lnTo>
                      <a:lnTo>
                        <a:pt x="583" y="423"/>
                      </a:lnTo>
                      <a:lnTo>
                        <a:pt x="705" y="354"/>
                      </a:lnTo>
                      <a:lnTo>
                        <a:pt x="792" y="288"/>
                      </a:lnTo>
                      <a:lnTo>
                        <a:pt x="906" y="207"/>
                      </a:lnTo>
                      <a:lnTo>
                        <a:pt x="959" y="156"/>
                      </a:lnTo>
                      <a:lnTo>
                        <a:pt x="1000" y="120"/>
                      </a:lnTo>
                      <a:lnTo>
                        <a:pt x="1037" y="81"/>
                      </a:lnTo>
                      <a:lnTo>
                        <a:pt x="1037" y="39"/>
                      </a:lnTo>
                      <a:lnTo>
                        <a:pt x="996" y="0"/>
                      </a:lnTo>
                      <a:lnTo>
                        <a:pt x="971" y="9"/>
                      </a:lnTo>
                      <a:lnTo>
                        <a:pt x="903" y="90"/>
                      </a:lnTo>
                      <a:lnTo>
                        <a:pt x="828" y="183"/>
                      </a:lnTo>
                      <a:lnTo>
                        <a:pt x="752" y="270"/>
                      </a:lnTo>
                      <a:lnTo>
                        <a:pt x="642" y="342"/>
                      </a:lnTo>
                      <a:lnTo>
                        <a:pt x="548" y="390"/>
                      </a:lnTo>
                      <a:lnTo>
                        <a:pt x="445" y="414"/>
                      </a:lnTo>
                      <a:lnTo>
                        <a:pt x="301" y="417"/>
                      </a:lnTo>
                      <a:lnTo>
                        <a:pt x="216" y="417"/>
                      </a:lnTo>
                      <a:lnTo>
                        <a:pt x="144" y="363"/>
                      </a:lnTo>
                      <a:lnTo>
                        <a:pt x="125" y="327"/>
                      </a:lnTo>
                      <a:lnTo>
                        <a:pt x="94" y="327"/>
                      </a:lnTo>
                      <a:lnTo>
                        <a:pt x="116" y="372"/>
                      </a:lnTo>
                      <a:lnTo>
                        <a:pt x="150" y="414"/>
                      </a:lnTo>
                      <a:lnTo>
                        <a:pt x="66" y="396"/>
                      </a:lnTo>
                      <a:lnTo>
                        <a:pt x="3" y="387"/>
                      </a:lnTo>
                      <a:lnTo>
                        <a:pt x="3" y="405"/>
                      </a:lnTo>
                      <a:lnTo>
                        <a:pt x="59" y="417"/>
                      </a:lnTo>
                      <a:lnTo>
                        <a:pt x="97" y="441"/>
                      </a:lnTo>
                      <a:lnTo>
                        <a:pt x="131" y="444"/>
                      </a:lnTo>
                      <a:lnTo>
                        <a:pt x="78" y="462"/>
                      </a:lnTo>
                      <a:lnTo>
                        <a:pt x="0" y="481"/>
                      </a:lnTo>
                      <a:lnTo>
                        <a:pt x="3" y="499"/>
                      </a:lnTo>
                      <a:lnTo>
                        <a:pt x="28" y="505"/>
                      </a:lnTo>
                      <a:lnTo>
                        <a:pt x="103" y="481"/>
                      </a:lnTo>
                      <a:lnTo>
                        <a:pt x="150" y="477"/>
                      </a:lnTo>
                      <a:lnTo>
                        <a:pt x="122" y="505"/>
                      </a:lnTo>
                      <a:lnTo>
                        <a:pt x="78" y="550"/>
                      </a:lnTo>
                      <a:lnTo>
                        <a:pt x="59" y="562"/>
                      </a:lnTo>
                      <a:lnTo>
                        <a:pt x="75" y="581"/>
                      </a:lnTo>
                      <a:lnTo>
                        <a:pt x="113" y="559"/>
                      </a:lnTo>
                      <a:lnTo>
                        <a:pt x="163" y="514"/>
                      </a:lnTo>
                      <a:lnTo>
                        <a:pt x="210" y="46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6814080" y="668880"/>
                  <a:ext cx="144360" cy="276480"/>
                </a:xfrm>
                <a:custGeom>
                  <a:avLst/>
                  <a:gdLst/>
                  <a:ahLst/>
                  <a:rect l="l" t="t" r="r" b="b"/>
                  <a:pathLst>
                    <a:path w="608" h="800">
                      <a:moveTo>
                        <a:pt x="38" y="90"/>
                      </a:moveTo>
                      <a:lnTo>
                        <a:pt x="63" y="27"/>
                      </a:lnTo>
                      <a:lnTo>
                        <a:pt x="104" y="0"/>
                      </a:lnTo>
                      <a:lnTo>
                        <a:pt x="141" y="0"/>
                      </a:lnTo>
                      <a:lnTo>
                        <a:pt x="179" y="18"/>
                      </a:lnTo>
                      <a:lnTo>
                        <a:pt x="216" y="54"/>
                      </a:lnTo>
                      <a:lnTo>
                        <a:pt x="235" y="117"/>
                      </a:lnTo>
                      <a:lnTo>
                        <a:pt x="245" y="180"/>
                      </a:lnTo>
                      <a:lnTo>
                        <a:pt x="263" y="243"/>
                      </a:lnTo>
                      <a:lnTo>
                        <a:pt x="298" y="312"/>
                      </a:lnTo>
                      <a:lnTo>
                        <a:pt x="357" y="384"/>
                      </a:lnTo>
                      <a:lnTo>
                        <a:pt x="415" y="432"/>
                      </a:lnTo>
                      <a:lnTo>
                        <a:pt x="499" y="468"/>
                      </a:lnTo>
                      <a:lnTo>
                        <a:pt x="571" y="522"/>
                      </a:lnTo>
                      <a:lnTo>
                        <a:pt x="608" y="577"/>
                      </a:lnTo>
                      <a:lnTo>
                        <a:pt x="602" y="622"/>
                      </a:lnTo>
                      <a:lnTo>
                        <a:pt x="593" y="676"/>
                      </a:lnTo>
                      <a:lnTo>
                        <a:pt x="565" y="712"/>
                      </a:lnTo>
                      <a:lnTo>
                        <a:pt x="518" y="757"/>
                      </a:lnTo>
                      <a:lnTo>
                        <a:pt x="449" y="790"/>
                      </a:lnTo>
                      <a:lnTo>
                        <a:pt x="396" y="800"/>
                      </a:lnTo>
                      <a:lnTo>
                        <a:pt x="320" y="784"/>
                      </a:lnTo>
                      <a:lnTo>
                        <a:pt x="251" y="748"/>
                      </a:lnTo>
                      <a:lnTo>
                        <a:pt x="179" y="694"/>
                      </a:lnTo>
                      <a:lnTo>
                        <a:pt x="129" y="631"/>
                      </a:lnTo>
                      <a:lnTo>
                        <a:pt x="82" y="550"/>
                      </a:lnTo>
                      <a:lnTo>
                        <a:pt x="44" y="456"/>
                      </a:lnTo>
                      <a:lnTo>
                        <a:pt x="19" y="375"/>
                      </a:lnTo>
                      <a:lnTo>
                        <a:pt x="7" y="297"/>
                      </a:lnTo>
                      <a:lnTo>
                        <a:pt x="0" y="189"/>
                      </a:lnTo>
                      <a:lnTo>
                        <a:pt x="19" y="117"/>
                      </a:lnTo>
                      <a:lnTo>
                        <a:pt x="38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6932160" y="786960"/>
                  <a:ext cx="247680" cy="250920"/>
                </a:xfrm>
                <a:custGeom>
                  <a:avLst/>
                  <a:gdLst/>
                  <a:ahLst/>
                  <a:rect l="l" t="t" r="r" b="b"/>
                  <a:pathLst>
                    <a:path w="1043" h="726">
                      <a:moveTo>
                        <a:pt x="116" y="230"/>
                      </a:moveTo>
                      <a:lnTo>
                        <a:pt x="216" y="147"/>
                      </a:lnTo>
                      <a:lnTo>
                        <a:pt x="338" y="72"/>
                      </a:lnTo>
                      <a:lnTo>
                        <a:pt x="417" y="27"/>
                      </a:lnTo>
                      <a:lnTo>
                        <a:pt x="479" y="12"/>
                      </a:lnTo>
                      <a:lnTo>
                        <a:pt x="529" y="0"/>
                      </a:lnTo>
                      <a:lnTo>
                        <a:pt x="573" y="18"/>
                      </a:lnTo>
                      <a:lnTo>
                        <a:pt x="601" y="75"/>
                      </a:lnTo>
                      <a:lnTo>
                        <a:pt x="620" y="230"/>
                      </a:lnTo>
                      <a:lnTo>
                        <a:pt x="620" y="416"/>
                      </a:lnTo>
                      <a:lnTo>
                        <a:pt x="620" y="536"/>
                      </a:lnTo>
                      <a:lnTo>
                        <a:pt x="642" y="609"/>
                      </a:lnTo>
                      <a:lnTo>
                        <a:pt x="686" y="597"/>
                      </a:lnTo>
                      <a:lnTo>
                        <a:pt x="717" y="552"/>
                      </a:lnTo>
                      <a:lnTo>
                        <a:pt x="779" y="500"/>
                      </a:lnTo>
                      <a:lnTo>
                        <a:pt x="876" y="470"/>
                      </a:lnTo>
                      <a:lnTo>
                        <a:pt x="943" y="470"/>
                      </a:lnTo>
                      <a:lnTo>
                        <a:pt x="1043" y="488"/>
                      </a:lnTo>
                      <a:lnTo>
                        <a:pt x="1037" y="524"/>
                      </a:lnTo>
                      <a:lnTo>
                        <a:pt x="1015" y="555"/>
                      </a:lnTo>
                      <a:lnTo>
                        <a:pt x="981" y="561"/>
                      </a:lnTo>
                      <a:lnTo>
                        <a:pt x="943" y="542"/>
                      </a:lnTo>
                      <a:lnTo>
                        <a:pt x="886" y="518"/>
                      </a:lnTo>
                      <a:lnTo>
                        <a:pt x="829" y="518"/>
                      </a:lnTo>
                      <a:lnTo>
                        <a:pt x="754" y="564"/>
                      </a:lnTo>
                      <a:lnTo>
                        <a:pt x="708" y="633"/>
                      </a:lnTo>
                      <a:lnTo>
                        <a:pt x="698" y="690"/>
                      </a:lnTo>
                      <a:lnTo>
                        <a:pt x="679" y="726"/>
                      </a:lnTo>
                      <a:lnTo>
                        <a:pt x="604" y="723"/>
                      </a:lnTo>
                      <a:lnTo>
                        <a:pt x="601" y="669"/>
                      </a:lnTo>
                      <a:lnTo>
                        <a:pt x="576" y="591"/>
                      </a:lnTo>
                      <a:lnTo>
                        <a:pt x="567" y="509"/>
                      </a:lnTo>
                      <a:lnTo>
                        <a:pt x="573" y="401"/>
                      </a:lnTo>
                      <a:lnTo>
                        <a:pt x="564" y="248"/>
                      </a:lnTo>
                      <a:lnTo>
                        <a:pt x="558" y="147"/>
                      </a:lnTo>
                      <a:lnTo>
                        <a:pt x="539" y="111"/>
                      </a:lnTo>
                      <a:lnTo>
                        <a:pt x="501" y="75"/>
                      </a:lnTo>
                      <a:lnTo>
                        <a:pt x="461" y="75"/>
                      </a:lnTo>
                      <a:lnTo>
                        <a:pt x="403" y="111"/>
                      </a:lnTo>
                      <a:lnTo>
                        <a:pt x="328" y="181"/>
                      </a:lnTo>
                      <a:lnTo>
                        <a:pt x="235" y="272"/>
                      </a:lnTo>
                      <a:lnTo>
                        <a:pt x="141" y="356"/>
                      </a:lnTo>
                      <a:lnTo>
                        <a:pt x="94" y="383"/>
                      </a:lnTo>
                      <a:lnTo>
                        <a:pt x="38" y="383"/>
                      </a:lnTo>
                      <a:lnTo>
                        <a:pt x="0" y="344"/>
                      </a:lnTo>
                      <a:lnTo>
                        <a:pt x="3" y="281"/>
                      </a:lnTo>
                      <a:lnTo>
                        <a:pt x="41" y="248"/>
                      </a:lnTo>
                      <a:lnTo>
                        <a:pt x="84" y="239"/>
                      </a:lnTo>
                      <a:lnTo>
                        <a:pt x="116" y="23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6918840" y="896400"/>
                  <a:ext cx="169200" cy="263520"/>
                </a:xfrm>
                <a:custGeom>
                  <a:avLst/>
                  <a:gdLst/>
                  <a:ahLst/>
                  <a:rect l="l" t="t" r="r" b="b"/>
                  <a:pathLst>
                    <a:path w="713" h="762">
                      <a:moveTo>
                        <a:pt x="0" y="64"/>
                      </a:moveTo>
                      <a:lnTo>
                        <a:pt x="22" y="16"/>
                      </a:lnTo>
                      <a:lnTo>
                        <a:pt x="69" y="0"/>
                      </a:lnTo>
                      <a:lnTo>
                        <a:pt x="134" y="7"/>
                      </a:lnTo>
                      <a:lnTo>
                        <a:pt x="150" y="52"/>
                      </a:lnTo>
                      <a:lnTo>
                        <a:pt x="125" y="227"/>
                      </a:lnTo>
                      <a:lnTo>
                        <a:pt x="122" y="360"/>
                      </a:lnTo>
                      <a:lnTo>
                        <a:pt x="116" y="435"/>
                      </a:lnTo>
                      <a:lnTo>
                        <a:pt x="116" y="450"/>
                      </a:lnTo>
                      <a:lnTo>
                        <a:pt x="131" y="524"/>
                      </a:lnTo>
                      <a:lnTo>
                        <a:pt x="172" y="536"/>
                      </a:lnTo>
                      <a:lnTo>
                        <a:pt x="225" y="524"/>
                      </a:lnTo>
                      <a:lnTo>
                        <a:pt x="303" y="481"/>
                      </a:lnTo>
                      <a:lnTo>
                        <a:pt x="387" y="460"/>
                      </a:lnTo>
                      <a:lnTo>
                        <a:pt x="482" y="444"/>
                      </a:lnTo>
                      <a:lnTo>
                        <a:pt x="585" y="432"/>
                      </a:lnTo>
                      <a:lnTo>
                        <a:pt x="660" y="432"/>
                      </a:lnTo>
                      <a:lnTo>
                        <a:pt x="694" y="441"/>
                      </a:lnTo>
                      <a:lnTo>
                        <a:pt x="713" y="463"/>
                      </a:lnTo>
                      <a:lnTo>
                        <a:pt x="704" y="496"/>
                      </a:lnTo>
                      <a:lnTo>
                        <a:pt x="657" y="524"/>
                      </a:lnTo>
                      <a:lnTo>
                        <a:pt x="613" y="563"/>
                      </a:lnTo>
                      <a:lnTo>
                        <a:pt x="572" y="618"/>
                      </a:lnTo>
                      <a:lnTo>
                        <a:pt x="547" y="663"/>
                      </a:lnTo>
                      <a:lnTo>
                        <a:pt x="526" y="708"/>
                      </a:lnTo>
                      <a:lnTo>
                        <a:pt x="510" y="762"/>
                      </a:lnTo>
                      <a:lnTo>
                        <a:pt x="488" y="762"/>
                      </a:lnTo>
                      <a:lnTo>
                        <a:pt x="469" y="741"/>
                      </a:lnTo>
                      <a:lnTo>
                        <a:pt x="462" y="681"/>
                      </a:lnTo>
                      <a:lnTo>
                        <a:pt x="507" y="627"/>
                      </a:lnTo>
                      <a:lnTo>
                        <a:pt x="566" y="563"/>
                      </a:lnTo>
                      <a:lnTo>
                        <a:pt x="622" y="515"/>
                      </a:lnTo>
                      <a:lnTo>
                        <a:pt x="647" y="499"/>
                      </a:lnTo>
                      <a:lnTo>
                        <a:pt x="657" y="478"/>
                      </a:lnTo>
                      <a:lnTo>
                        <a:pt x="632" y="463"/>
                      </a:lnTo>
                      <a:lnTo>
                        <a:pt x="547" y="463"/>
                      </a:lnTo>
                      <a:lnTo>
                        <a:pt x="440" y="481"/>
                      </a:lnTo>
                      <a:lnTo>
                        <a:pt x="356" y="509"/>
                      </a:lnTo>
                      <a:lnTo>
                        <a:pt x="265" y="560"/>
                      </a:lnTo>
                      <a:lnTo>
                        <a:pt x="187" y="596"/>
                      </a:lnTo>
                      <a:lnTo>
                        <a:pt x="103" y="599"/>
                      </a:lnTo>
                      <a:lnTo>
                        <a:pt x="69" y="587"/>
                      </a:lnTo>
                      <a:lnTo>
                        <a:pt x="50" y="542"/>
                      </a:lnTo>
                      <a:lnTo>
                        <a:pt x="37" y="478"/>
                      </a:lnTo>
                      <a:lnTo>
                        <a:pt x="31" y="360"/>
                      </a:lnTo>
                      <a:lnTo>
                        <a:pt x="19" y="151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4" name=""/>
              <p:cNvGrpSpPr/>
              <p:nvPr/>
            </p:nvGrpSpPr>
            <p:grpSpPr>
              <a:xfrm>
                <a:off x="7114680" y="874800"/>
                <a:ext cx="102240" cy="303120"/>
                <a:chOff x="7114680" y="874800"/>
                <a:chExt cx="102240" cy="30312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7136280" y="1043640"/>
                  <a:ext cx="80640" cy="37440"/>
                </a:xfrm>
                <a:custGeom>
                  <a:avLst/>
                  <a:gdLst/>
                  <a:ahLst/>
                  <a:rect l="l" t="t" r="r" b="b"/>
                  <a:pathLst>
                    <a:path w="340" h="109">
                      <a:moveTo>
                        <a:pt x="340" y="109"/>
                      </a:moveTo>
                      <a:lnTo>
                        <a:pt x="165" y="30"/>
                      </a:lnTo>
                      <a:lnTo>
                        <a:pt x="48" y="0"/>
                      </a:lnTo>
                      <a:lnTo>
                        <a:pt x="10" y="0"/>
                      </a:lnTo>
                      <a:lnTo>
                        <a:pt x="0" y="27"/>
                      </a:lnTo>
                      <a:lnTo>
                        <a:pt x="22" y="48"/>
                      </a:lnTo>
                      <a:lnTo>
                        <a:pt x="70" y="54"/>
                      </a:lnTo>
                      <a:lnTo>
                        <a:pt x="184" y="75"/>
                      </a:lnTo>
                      <a:lnTo>
                        <a:pt x="340" y="10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7114680" y="1077480"/>
                  <a:ext cx="22680" cy="100440"/>
                </a:xfrm>
                <a:custGeom>
                  <a:avLst/>
                  <a:gdLst/>
                  <a:ahLst/>
                  <a:rect l="l" t="t" r="r" b="b"/>
                  <a:pathLst>
                    <a:path w="97" h="291">
                      <a:moveTo>
                        <a:pt x="97" y="291"/>
                      </a:moveTo>
                      <a:lnTo>
                        <a:pt x="94" y="148"/>
                      </a:lnTo>
                      <a:lnTo>
                        <a:pt x="69" y="39"/>
                      </a:lnTo>
                      <a:lnTo>
                        <a:pt x="41" y="0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54"/>
                      </a:lnTo>
                      <a:lnTo>
                        <a:pt x="47" y="184"/>
                      </a:lnTo>
                      <a:lnTo>
                        <a:pt x="97" y="29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7147800" y="874800"/>
                  <a:ext cx="50760" cy="38160"/>
                </a:xfrm>
                <a:custGeom>
                  <a:avLst/>
                  <a:gdLst/>
                  <a:ahLst/>
                  <a:rect l="l" t="t" r="r" b="b"/>
                  <a:pathLst>
                    <a:path w="214" h="111">
                      <a:moveTo>
                        <a:pt x="0" y="72"/>
                      </a:moveTo>
                      <a:lnTo>
                        <a:pt x="42" y="30"/>
                      </a:lnTo>
                      <a:lnTo>
                        <a:pt x="100" y="3"/>
                      </a:lnTo>
                      <a:lnTo>
                        <a:pt x="166" y="0"/>
                      </a:lnTo>
                      <a:lnTo>
                        <a:pt x="214" y="9"/>
                      </a:lnTo>
                      <a:lnTo>
                        <a:pt x="138" y="18"/>
                      </a:lnTo>
                      <a:lnTo>
                        <a:pt x="109" y="36"/>
                      </a:lnTo>
                      <a:lnTo>
                        <a:pt x="81" y="63"/>
                      </a:lnTo>
                      <a:lnTo>
                        <a:pt x="68" y="93"/>
                      </a:lnTo>
                      <a:lnTo>
                        <a:pt x="42" y="111"/>
                      </a:lnTo>
                      <a:lnTo>
                        <a:pt x="1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68" name=""/>
          <p:cNvSpPr/>
          <p:nvPr/>
        </p:nvSpPr>
        <p:spPr>
          <a:xfrm>
            <a:off x="1829160" y="4937040"/>
            <a:ext cx="279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ll nodes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0880" y="4952880"/>
            <a:ext cx="1219320" cy="1067040"/>
            <a:chOff x="380880" y="4952880"/>
            <a:chExt cx="1219320" cy="1067040"/>
          </a:xfrm>
        </p:grpSpPr>
        <p:sp>
          <p:nvSpPr>
            <p:cNvPr id="770" name=""/>
            <p:cNvSpPr/>
            <p:nvPr/>
          </p:nvSpPr>
          <p:spPr>
            <a:xfrm>
              <a:off x="380880" y="4952880"/>
              <a:ext cx="1219320" cy="91440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 baseline="-8000">
                  <a:solidFill>
                    <a:srgbClr val="000000"/>
                  </a:solidFill>
                  <a:latin typeface="Times New Roman"/>
                </a:rPr>
                <a:t>Exit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990360" y="5791320"/>
              <a:ext cx="0" cy="2286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2629080" y="4102200"/>
            <a:ext cx="723600" cy="644400"/>
            <a:chOff x="2629080" y="4102200"/>
            <a:chExt cx="723600" cy="644400"/>
          </a:xfrm>
        </p:grpSpPr>
        <p:sp>
          <p:nvSpPr>
            <p:cNvPr id="773" name=""/>
            <p:cNvSpPr/>
            <p:nvPr/>
          </p:nvSpPr>
          <p:spPr>
            <a:xfrm>
              <a:off x="2895480" y="4648320"/>
              <a:ext cx="76320" cy="75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276720" y="4670280"/>
              <a:ext cx="75960" cy="7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629080" y="4102200"/>
              <a:ext cx="634680" cy="584280"/>
            </a:xfrm>
            <a:custGeom>
              <a:avLst/>
              <a:gdLst/>
              <a:ahLst/>
              <a:rect l="l" t="t" r="r" b="b"/>
              <a:pathLst>
                <a:path w="400" h="368">
                  <a:moveTo>
                    <a:pt x="400" y="36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1757520" y="5394240"/>
            <a:ext cx="587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hen can’t make any more progres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005080" y="4937040"/>
            <a:ext cx="3630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No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Might not find all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754280" y="5108040"/>
            <a:ext cx="259056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754640" y="6308640"/>
            <a:ext cx="7295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hen all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nodes are have been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handle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2071800" y="5663880"/>
            <a:ext cx="6535080" cy="740880"/>
            <a:chOff x="2071800" y="5663880"/>
            <a:chExt cx="6535080" cy="740880"/>
          </a:xfrm>
        </p:grpSpPr>
        <p:grpSp>
          <p:nvGrpSpPr>
            <p:cNvPr id="781" name=""/>
            <p:cNvGrpSpPr/>
            <p:nvPr/>
          </p:nvGrpSpPr>
          <p:grpSpPr>
            <a:xfrm>
              <a:off x="2071800" y="5663880"/>
              <a:ext cx="691200" cy="740880"/>
              <a:chOff x="2071800" y="5663880"/>
              <a:chExt cx="691200" cy="740880"/>
            </a:xfrm>
          </p:grpSpPr>
          <p:sp>
            <p:nvSpPr>
              <p:cNvPr id="782" name=""/>
              <p:cNvSpPr/>
              <p:nvPr/>
            </p:nvSpPr>
            <p:spPr>
              <a:xfrm rot="21255000">
                <a:off x="2419920" y="5743080"/>
                <a:ext cx="140760" cy="11664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21255000">
                <a:off x="2371320" y="5888520"/>
                <a:ext cx="144720" cy="26028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21255000">
                <a:off x="2473200" y="6102000"/>
                <a:ext cx="281520" cy="17964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19838400">
                <a:off x="2084760" y="6158160"/>
                <a:ext cx="401760" cy="15840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21255000">
                <a:off x="2277000" y="5675040"/>
                <a:ext cx="164160" cy="29124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21255000">
                <a:off x="2472840" y="5673960"/>
                <a:ext cx="214920" cy="24300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>
              <a:off x="2743200" y="5850000"/>
              <a:ext cx="5863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Handle some </a:t>
              </a: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foundNotHandled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node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9" name=""/>
          <p:cNvSpPr/>
          <p:nvPr/>
        </p:nvSpPr>
        <p:spPr>
          <a:xfrm>
            <a:off x="2071800" y="16383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001880" y="2019240"/>
            <a:ext cx="7596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919160" y="2438280"/>
            <a:ext cx="7632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952720" y="1828800"/>
            <a:ext cx="7632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308240" y="2819520"/>
            <a:ext cx="75960" cy="759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81360" y="3313080"/>
            <a:ext cx="7596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81040" y="2705040"/>
            <a:ext cx="7632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181320" y="3732120"/>
            <a:ext cx="7632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335400" y="2286000"/>
            <a:ext cx="7596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09640" y="3541680"/>
            <a:ext cx="7776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411360" y="3084480"/>
            <a:ext cx="7632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498680" y="3998880"/>
            <a:ext cx="7596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32240" y="4075200"/>
            <a:ext cx="75960" cy="759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646360" y="2629080"/>
            <a:ext cx="76320" cy="759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1077480" y="1638360"/>
            <a:ext cx="9939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1957320" y="1635120"/>
            <a:ext cx="114480" cy="800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071800" y="1638360"/>
            <a:ext cx="57456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071800" y="1638360"/>
            <a:ext cx="8809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684160" y="1866960"/>
            <a:ext cx="30636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1919160" y="2704680"/>
            <a:ext cx="727200" cy="646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1957320" y="2323800"/>
            <a:ext cx="13780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029040" y="1866960"/>
            <a:ext cx="344520" cy="41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684520" y="2705040"/>
            <a:ext cx="726840" cy="341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373560" y="2324160"/>
            <a:ext cx="75960" cy="722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957320" y="2514600"/>
            <a:ext cx="1224000" cy="1217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384200" y="2476440"/>
            <a:ext cx="573120" cy="34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039680" y="2057400"/>
            <a:ext cx="30636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657360" y="2057400"/>
            <a:ext cx="38232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19200" y="2743200"/>
            <a:ext cx="1224000" cy="569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1574280" y="3351240"/>
            <a:ext cx="34452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919160" y="3351240"/>
            <a:ext cx="613080" cy="723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925560" y="3351240"/>
            <a:ext cx="993600" cy="190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2608200" y="3770280"/>
            <a:ext cx="611280" cy="34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3257640" y="3160440"/>
            <a:ext cx="23004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 flipV="1">
            <a:off x="2684160" y="2743200"/>
            <a:ext cx="765000" cy="37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 flipV="1">
            <a:off x="1384200" y="2895480"/>
            <a:ext cx="534960" cy="455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3219120" y="3122640"/>
            <a:ext cx="23004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2570040" y="2781360"/>
            <a:ext cx="76320" cy="13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1612440" y="4075200"/>
            <a:ext cx="957240" cy="38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1346040" y="1714320"/>
            <a:ext cx="64944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847800" y="3579840"/>
            <a:ext cx="650880" cy="41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19200" y="2743200"/>
            <a:ext cx="190440" cy="798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19200" y="2743200"/>
            <a:ext cx="689040" cy="11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982520" y="11430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87600" y="17524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39920" y="25830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58800" y="34574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348200" y="396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407240" y="26971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940400" y="31910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553120" y="40672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247560" y="364824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445560" y="29383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370680" y="21528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992680" y="1687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727360" y="2438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962360" y="220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033640" y="1600200"/>
            <a:ext cx="7776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0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91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2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3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4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5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6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7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8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9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0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1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2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3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4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5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6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7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8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9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0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1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2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3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4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5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6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7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8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9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0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1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2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3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4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5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6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7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8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9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0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1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2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3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4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5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6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7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8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9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0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1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2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3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4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5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6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7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8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9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0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1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2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3" name=""/>
          <p:cNvSpPr/>
          <p:nvPr/>
        </p:nvSpPr>
        <p:spPr>
          <a:xfrm>
            <a:off x="7341840" y="4572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,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4" name=""/>
          <p:cNvSpPr/>
          <p:nvPr/>
        </p:nvSpPr>
        <p:spPr>
          <a:xfrm>
            <a:off x="5257800" y="167652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5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56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7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8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9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0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1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2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3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4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5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6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7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8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9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0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1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2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3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4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5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6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7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8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9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0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1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2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3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4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5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6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7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8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9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0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1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2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3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4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5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6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7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8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9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0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1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2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3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4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5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6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7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8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9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0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1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2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3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4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5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6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7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8" name=""/>
          <p:cNvSpPr/>
          <p:nvPr/>
        </p:nvSpPr>
        <p:spPr>
          <a:xfrm>
            <a:off x="7341840" y="4572000"/>
            <a:ext cx="6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,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9" name=""/>
          <p:cNvSpPr/>
          <p:nvPr/>
        </p:nvSpPr>
        <p:spPr>
          <a:xfrm>
            <a:off x="5257800" y="167652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0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21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2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3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4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5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6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7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8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9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0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1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2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3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4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5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6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7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8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9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0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1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2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3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4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5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6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7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8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9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0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1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2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3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4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5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6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7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8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9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0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1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2" name=""/>
          <p:cNvSpPr/>
          <p:nvPr/>
        </p:nvSpPr>
        <p:spPr>
          <a:xfrm>
            <a:off x="7392600" y="493704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,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3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4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5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6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7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8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9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0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1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2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3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4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5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6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7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8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9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0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1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2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3" name=""/>
          <p:cNvSpPr/>
          <p:nvPr/>
        </p:nvSpPr>
        <p:spPr>
          <a:xfrm>
            <a:off x="3429000" y="1219320"/>
            <a:ext cx="457200" cy="4572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85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6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7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8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9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0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1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2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3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4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5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6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7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8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9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0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1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2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3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4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5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6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7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8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9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0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1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2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3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4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5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6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7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8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9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0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1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2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3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4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5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6" name=""/>
          <p:cNvSpPr/>
          <p:nvPr/>
        </p:nvSpPr>
        <p:spPr>
          <a:xfrm>
            <a:off x="5486400" y="1905120"/>
            <a:ext cx="380880" cy="36576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7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8" name=""/>
          <p:cNvSpPr/>
          <p:nvPr/>
        </p:nvSpPr>
        <p:spPr>
          <a:xfrm>
            <a:off x="8077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9" name=""/>
          <p:cNvSpPr/>
          <p:nvPr/>
        </p:nvSpPr>
        <p:spPr>
          <a:xfrm>
            <a:off x="6403320" y="0"/>
            <a:ext cx="26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&lt;node,# edges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0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1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2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3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4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5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6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7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8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9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0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1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2" name=""/>
          <p:cNvSpPr/>
          <p:nvPr/>
        </p:nvSpPr>
        <p:spPr>
          <a:xfrm flipH="1">
            <a:off x="3581280" y="4419720"/>
            <a:ext cx="2819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3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4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5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6" name=""/>
          <p:cNvSpPr/>
          <p:nvPr/>
        </p:nvSpPr>
        <p:spPr>
          <a:xfrm>
            <a:off x="7965360" y="61628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8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8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7" name="" descr=""/>
          <p:cNvPicPr/>
          <p:nvPr/>
        </p:nvPicPr>
        <p:blipFill>
          <a:blip r:embed="rId1"/>
          <a:stretch/>
        </p:blipFill>
        <p:spPr>
          <a:xfrm>
            <a:off x="914400" y="-74520"/>
            <a:ext cx="7162920" cy="70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8" name="" descr=""/>
          <p:cNvPicPr/>
          <p:nvPr/>
        </p:nvPicPr>
        <p:blipFill>
          <a:blip r:embed="rId1"/>
          <a:stretch/>
        </p:blipFill>
        <p:spPr>
          <a:xfrm>
            <a:off x="76320" y="3875040"/>
            <a:ext cx="9067680" cy="2943360"/>
          </a:xfrm>
          <a:prstGeom prst="rect">
            <a:avLst/>
          </a:prstGeom>
          <a:ln w="0">
            <a:noFill/>
          </a:ln>
        </p:spPr>
      </p:pic>
      <p:pic>
        <p:nvPicPr>
          <p:cNvPr id="8949" name="" descr=""/>
          <p:cNvPicPr/>
          <p:nvPr/>
        </p:nvPicPr>
        <p:blipFill>
          <a:blip r:embed="rId2"/>
          <a:stretch/>
        </p:blipFill>
        <p:spPr>
          <a:xfrm>
            <a:off x="2819520" y="93600"/>
            <a:ext cx="6281640" cy="3640320"/>
          </a:xfrm>
          <a:prstGeom prst="rect">
            <a:avLst/>
          </a:prstGeom>
          <a:ln w="0">
            <a:noFill/>
          </a:ln>
        </p:spPr>
      </p:pic>
      <p:sp>
        <p:nvSpPr>
          <p:cNvPr id="8950" name=""/>
          <p:cNvSpPr/>
          <p:nvPr/>
        </p:nvSpPr>
        <p:spPr>
          <a:xfrm>
            <a:off x="381960" y="0"/>
            <a:ext cx="212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cur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pth Fir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1" name=""/>
          <p:cNvSpPr/>
          <p:nvPr/>
        </p:nvSpPr>
        <p:spPr>
          <a:xfrm>
            <a:off x="149760" y="1600200"/>
            <a:ext cx="257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 help from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ie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8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8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2" name="" descr=""/>
          <p:cNvPicPr/>
          <p:nvPr/>
        </p:nvPicPr>
        <p:blipFill>
          <a:blip r:embed="rId1"/>
          <a:stretch/>
        </p:blipFill>
        <p:spPr>
          <a:xfrm>
            <a:off x="1074600" y="171360"/>
            <a:ext cx="6994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ear Or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54" name=""/>
          <p:cNvSpPr/>
          <p:nvPr/>
        </p:nvSpPr>
        <p:spPr>
          <a:xfrm>
            <a:off x="3041640" y="19810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5" name=""/>
          <p:cNvSpPr/>
          <p:nvPr/>
        </p:nvSpPr>
        <p:spPr>
          <a:xfrm>
            <a:off x="3048120" y="370512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6" name=""/>
          <p:cNvSpPr/>
          <p:nvPr/>
        </p:nvSpPr>
        <p:spPr>
          <a:xfrm>
            <a:off x="5592600" y="19810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7" name=""/>
          <p:cNvSpPr/>
          <p:nvPr/>
        </p:nvSpPr>
        <p:spPr>
          <a:xfrm>
            <a:off x="1409040" y="1523880"/>
            <a:ext cx="178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nderwea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8" name=""/>
          <p:cNvSpPr/>
          <p:nvPr/>
        </p:nvSpPr>
        <p:spPr>
          <a:xfrm>
            <a:off x="2136240" y="3336840"/>
            <a:ext cx="98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9" name=""/>
          <p:cNvSpPr/>
          <p:nvPr/>
        </p:nvSpPr>
        <p:spPr>
          <a:xfrm>
            <a:off x="5677200" y="1523880"/>
            <a:ext cx="102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ck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0" name=""/>
          <p:cNvSpPr/>
          <p:nvPr/>
        </p:nvSpPr>
        <p:spPr>
          <a:xfrm>
            <a:off x="3124080" y="2057400"/>
            <a:ext cx="0" cy="1676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1" name=""/>
          <p:cNvSpPr/>
          <p:nvPr/>
        </p:nvSpPr>
        <p:spPr>
          <a:xfrm>
            <a:off x="3124080" y="3809880"/>
            <a:ext cx="2438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2" name=""/>
          <p:cNvSpPr/>
          <p:nvPr/>
        </p:nvSpPr>
        <p:spPr>
          <a:xfrm>
            <a:off x="5638680" y="2057400"/>
            <a:ext cx="0" cy="1676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3" name=""/>
          <p:cNvSpPr/>
          <p:nvPr/>
        </p:nvSpPr>
        <p:spPr>
          <a:xfrm>
            <a:off x="5562720" y="371808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4" name=""/>
          <p:cNvSpPr/>
          <p:nvPr/>
        </p:nvSpPr>
        <p:spPr>
          <a:xfrm>
            <a:off x="5677200" y="3336840"/>
            <a:ext cx="102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ho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65" name=""/>
          <p:cNvGrpSpPr/>
          <p:nvPr/>
        </p:nvGrpSpPr>
        <p:grpSpPr>
          <a:xfrm>
            <a:off x="1295280" y="4130640"/>
            <a:ext cx="2705400" cy="2362680"/>
            <a:chOff x="1295280" y="4130640"/>
            <a:chExt cx="2705400" cy="2362680"/>
          </a:xfrm>
        </p:grpSpPr>
        <p:pic>
          <p:nvPicPr>
            <p:cNvPr id="8966" name="" descr=""/>
            <p:cNvPicPr/>
            <p:nvPr/>
          </p:nvPicPr>
          <p:blipFill>
            <a:blip r:embed="rId1"/>
            <a:stretch/>
          </p:blipFill>
          <p:spPr>
            <a:xfrm>
              <a:off x="1295280" y="4130640"/>
              <a:ext cx="76212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7" name=""/>
            <p:cNvSpPr/>
            <p:nvPr/>
          </p:nvSpPr>
          <p:spPr>
            <a:xfrm>
              <a:off x="2212200" y="4572000"/>
              <a:ext cx="178848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underwear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pants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socks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shoes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68" name=""/>
          <p:cNvGrpSpPr/>
          <p:nvPr/>
        </p:nvGrpSpPr>
        <p:grpSpPr>
          <a:xfrm>
            <a:off x="4649760" y="4343400"/>
            <a:ext cx="2891160" cy="2203920"/>
            <a:chOff x="4649760" y="4343400"/>
            <a:chExt cx="2891160" cy="2203920"/>
          </a:xfrm>
        </p:grpSpPr>
        <p:pic>
          <p:nvPicPr>
            <p:cNvPr id="8969" name="" descr=""/>
            <p:cNvPicPr/>
            <p:nvPr/>
          </p:nvPicPr>
          <p:blipFill>
            <a:blip r:embed="rId2"/>
            <a:stretch/>
          </p:blipFill>
          <p:spPr>
            <a:xfrm>
              <a:off x="4649760" y="4343400"/>
              <a:ext cx="98892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0" name=""/>
            <p:cNvSpPr/>
            <p:nvPr/>
          </p:nvSpPr>
          <p:spPr>
            <a:xfrm>
              <a:off x="5752440" y="4656240"/>
              <a:ext cx="1788480" cy="189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ocks </a:t>
              </a:r>
              <a:br>
                <a:rPr sz="28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underwear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pants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shoes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71" name=""/>
          <p:cNvGrpSpPr/>
          <p:nvPr/>
        </p:nvGrpSpPr>
        <p:grpSpPr>
          <a:xfrm>
            <a:off x="3419640" y="4952880"/>
            <a:ext cx="874440" cy="1314720"/>
            <a:chOff x="3419640" y="4952880"/>
            <a:chExt cx="874440" cy="1314720"/>
          </a:xfrm>
        </p:grpSpPr>
        <p:sp>
          <p:nvSpPr>
            <p:cNvPr id="8972" name=""/>
            <p:cNvSpPr/>
            <p:nvPr/>
          </p:nvSpPr>
          <p:spPr>
            <a:xfrm>
              <a:off x="3419640" y="4952880"/>
              <a:ext cx="874440" cy="390600"/>
            </a:xfrm>
            <a:custGeom>
              <a:avLst/>
              <a:gdLst/>
              <a:ahLst/>
              <a:rect l="l" t="t" r="r" b="b"/>
              <a:pathLst>
                <a:path w="551" h="246">
                  <a:moveTo>
                    <a:pt x="390" y="0"/>
                  </a:moveTo>
                  <a:cubicBezTo>
                    <a:pt x="390" y="0"/>
                    <a:pt x="551" y="79"/>
                    <a:pt x="486" y="120"/>
                  </a:cubicBezTo>
                  <a:cubicBezTo>
                    <a:pt x="486" y="160"/>
                    <a:pt x="101" y="220"/>
                    <a:pt x="0" y="246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3" name=""/>
            <p:cNvSpPr/>
            <p:nvPr/>
          </p:nvSpPr>
          <p:spPr>
            <a:xfrm>
              <a:off x="3486240" y="5429160"/>
              <a:ext cx="528480" cy="800280"/>
            </a:xfrm>
            <a:custGeom>
              <a:avLst/>
              <a:gdLst/>
              <a:ahLst/>
              <a:rect l="l" t="t" r="r" b="b"/>
              <a:pathLst>
                <a:path w="333" h="504">
                  <a:moveTo>
                    <a:pt x="0" y="0"/>
                  </a:moveTo>
                  <a:cubicBezTo>
                    <a:pt x="55" y="33"/>
                    <a:pt x="208" y="31"/>
                    <a:pt x="246" y="90"/>
                  </a:cubicBezTo>
                  <a:cubicBezTo>
                    <a:pt x="284" y="149"/>
                    <a:pt x="333" y="345"/>
                    <a:pt x="312" y="414"/>
                  </a:cubicBezTo>
                  <a:cubicBezTo>
                    <a:pt x="291" y="483"/>
                    <a:pt x="160" y="485"/>
                    <a:pt x="120" y="50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4" name=""/>
            <p:cNvSpPr/>
            <p:nvPr/>
          </p:nvSpPr>
          <p:spPr>
            <a:xfrm>
              <a:off x="3467160" y="5905440"/>
              <a:ext cx="255600" cy="362160"/>
            </a:xfrm>
            <a:custGeom>
              <a:avLst/>
              <a:gdLst/>
              <a:ahLst/>
              <a:rect l="l" t="t" r="r" b="b"/>
              <a:pathLst>
                <a:path w="161" h="228">
                  <a:moveTo>
                    <a:pt x="0" y="0"/>
                  </a:moveTo>
                  <a:cubicBezTo>
                    <a:pt x="19" y="4"/>
                    <a:pt x="90" y="3"/>
                    <a:pt x="114" y="24"/>
                  </a:cubicBezTo>
                  <a:cubicBezTo>
                    <a:pt x="138" y="45"/>
                    <a:pt x="161" y="92"/>
                    <a:pt x="144" y="126"/>
                  </a:cubicBezTo>
                  <a:cubicBezTo>
                    <a:pt x="144" y="166"/>
                    <a:pt x="40" y="207"/>
                    <a:pt x="12" y="228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75" name=""/>
          <p:cNvGrpSpPr/>
          <p:nvPr/>
        </p:nvGrpSpPr>
        <p:grpSpPr>
          <a:xfrm>
            <a:off x="6896160" y="4924440"/>
            <a:ext cx="1014480" cy="1495440"/>
            <a:chOff x="6896160" y="4924440"/>
            <a:chExt cx="1014480" cy="1495440"/>
          </a:xfrm>
        </p:grpSpPr>
        <p:sp>
          <p:nvSpPr>
            <p:cNvPr id="8976" name=""/>
            <p:cNvSpPr/>
            <p:nvPr/>
          </p:nvSpPr>
          <p:spPr>
            <a:xfrm>
              <a:off x="6896160" y="4924440"/>
              <a:ext cx="1014480" cy="1485720"/>
            </a:xfrm>
            <a:custGeom>
              <a:avLst/>
              <a:gdLst/>
              <a:ahLst/>
              <a:rect l="l" t="t" r="r" b="b"/>
              <a:pathLst>
                <a:path w="639" h="936">
                  <a:moveTo>
                    <a:pt x="0" y="0"/>
                  </a:moveTo>
                  <a:cubicBezTo>
                    <a:pt x="81" y="23"/>
                    <a:pt x="389" y="23"/>
                    <a:pt x="486" y="138"/>
                  </a:cubicBezTo>
                  <a:cubicBezTo>
                    <a:pt x="563" y="192"/>
                    <a:pt x="639" y="557"/>
                    <a:pt x="582" y="690"/>
                  </a:cubicBezTo>
                  <a:cubicBezTo>
                    <a:pt x="525" y="823"/>
                    <a:pt x="235" y="885"/>
                    <a:pt x="144" y="936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7" name=""/>
            <p:cNvSpPr/>
            <p:nvPr/>
          </p:nvSpPr>
          <p:spPr>
            <a:xfrm>
              <a:off x="7000920" y="5410080"/>
              <a:ext cx="803160" cy="544680"/>
            </a:xfrm>
            <a:custGeom>
              <a:avLst/>
              <a:gdLst/>
              <a:ahLst/>
              <a:rect l="l" t="t" r="r" b="b"/>
              <a:pathLst>
                <a:path w="506" h="343">
                  <a:moveTo>
                    <a:pt x="324" y="0"/>
                  </a:moveTo>
                  <a:cubicBezTo>
                    <a:pt x="379" y="33"/>
                    <a:pt x="430" y="61"/>
                    <a:pt x="468" y="120"/>
                  </a:cubicBezTo>
                  <a:cubicBezTo>
                    <a:pt x="506" y="179"/>
                    <a:pt x="492" y="269"/>
                    <a:pt x="414" y="306"/>
                  </a:cubicBezTo>
                  <a:cubicBezTo>
                    <a:pt x="336" y="343"/>
                    <a:pt x="86" y="334"/>
                    <a:pt x="0" y="342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8" name=""/>
            <p:cNvSpPr/>
            <p:nvPr/>
          </p:nvSpPr>
          <p:spPr>
            <a:xfrm>
              <a:off x="6962760" y="5962680"/>
              <a:ext cx="334800" cy="457200"/>
            </a:xfrm>
            <a:custGeom>
              <a:avLst/>
              <a:gdLst/>
              <a:ahLst/>
              <a:rect l="l" t="t" r="r" b="b"/>
              <a:pathLst>
                <a:path w="211" h="288">
                  <a:moveTo>
                    <a:pt x="0" y="0"/>
                  </a:moveTo>
                  <a:cubicBezTo>
                    <a:pt x="29" y="13"/>
                    <a:pt x="143" y="49"/>
                    <a:pt x="174" y="78"/>
                  </a:cubicBezTo>
                  <a:cubicBezTo>
                    <a:pt x="205" y="107"/>
                    <a:pt x="211" y="139"/>
                    <a:pt x="186" y="174"/>
                  </a:cubicBezTo>
                  <a:cubicBezTo>
                    <a:pt x="186" y="214"/>
                    <a:pt x="58" y="264"/>
                    <a:pt x="24" y="288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8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8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8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8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8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8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8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8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ear Or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80" name=""/>
          <p:cNvSpPr/>
          <p:nvPr/>
        </p:nvSpPr>
        <p:spPr>
          <a:xfrm>
            <a:off x="3041640" y="19810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1" name=""/>
          <p:cNvSpPr/>
          <p:nvPr/>
        </p:nvSpPr>
        <p:spPr>
          <a:xfrm>
            <a:off x="3048120" y="370512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2" name=""/>
          <p:cNvSpPr/>
          <p:nvPr/>
        </p:nvSpPr>
        <p:spPr>
          <a:xfrm>
            <a:off x="5592600" y="19810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3" name=""/>
          <p:cNvSpPr/>
          <p:nvPr/>
        </p:nvSpPr>
        <p:spPr>
          <a:xfrm>
            <a:off x="1409040" y="1523880"/>
            <a:ext cx="178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nderwea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4" name=""/>
          <p:cNvSpPr/>
          <p:nvPr/>
        </p:nvSpPr>
        <p:spPr>
          <a:xfrm>
            <a:off x="2136240" y="3336840"/>
            <a:ext cx="98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5" name=""/>
          <p:cNvSpPr/>
          <p:nvPr/>
        </p:nvSpPr>
        <p:spPr>
          <a:xfrm>
            <a:off x="5677200" y="1523880"/>
            <a:ext cx="102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ck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6" name=""/>
          <p:cNvSpPr/>
          <p:nvPr/>
        </p:nvSpPr>
        <p:spPr>
          <a:xfrm>
            <a:off x="3124080" y="2057400"/>
            <a:ext cx="0" cy="1676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7" name=""/>
          <p:cNvSpPr/>
          <p:nvPr/>
        </p:nvSpPr>
        <p:spPr>
          <a:xfrm>
            <a:off x="3124080" y="3809880"/>
            <a:ext cx="2438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8" name=""/>
          <p:cNvSpPr/>
          <p:nvPr/>
        </p:nvSpPr>
        <p:spPr>
          <a:xfrm>
            <a:off x="5638680" y="2057400"/>
            <a:ext cx="0" cy="1676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9" name=""/>
          <p:cNvSpPr/>
          <p:nvPr/>
        </p:nvSpPr>
        <p:spPr>
          <a:xfrm>
            <a:off x="5562720" y="371808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0" name=""/>
          <p:cNvSpPr/>
          <p:nvPr/>
        </p:nvSpPr>
        <p:spPr>
          <a:xfrm>
            <a:off x="5677200" y="3336840"/>
            <a:ext cx="102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ho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1" name=""/>
          <p:cNvSpPr/>
          <p:nvPr/>
        </p:nvSpPr>
        <p:spPr>
          <a:xfrm>
            <a:off x="4269240" y="4387680"/>
            <a:ext cx="46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92" name=""/>
          <p:cNvGrpSpPr/>
          <p:nvPr/>
        </p:nvGrpSpPr>
        <p:grpSpPr>
          <a:xfrm>
            <a:off x="2895480" y="2133720"/>
            <a:ext cx="2742840" cy="2957400"/>
            <a:chOff x="2895480" y="2133720"/>
            <a:chExt cx="2742840" cy="2957400"/>
          </a:xfrm>
        </p:grpSpPr>
        <p:pic>
          <p:nvPicPr>
            <p:cNvPr id="8993" name="" descr=""/>
            <p:cNvPicPr/>
            <p:nvPr/>
          </p:nvPicPr>
          <p:blipFill>
            <a:blip r:embed="rId1"/>
            <a:stretch/>
          </p:blipFill>
          <p:spPr>
            <a:xfrm>
              <a:off x="2895480" y="4114800"/>
              <a:ext cx="128772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4" name=""/>
            <p:cNvSpPr/>
            <p:nvPr/>
          </p:nvSpPr>
          <p:spPr>
            <a:xfrm flipH="1" flipV="1">
              <a:off x="3200040" y="2133720"/>
              <a:ext cx="243828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fill="hold">
                      <p:stCondLst>
                        <p:cond delay="0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8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8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8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8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ear Or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96" name=""/>
          <p:cNvSpPr/>
          <p:nvPr/>
        </p:nvSpPr>
        <p:spPr>
          <a:xfrm>
            <a:off x="2819520" y="12952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7" name=""/>
          <p:cNvSpPr/>
          <p:nvPr/>
        </p:nvSpPr>
        <p:spPr>
          <a:xfrm>
            <a:off x="2543400" y="9748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8" name=""/>
          <p:cNvSpPr/>
          <p:nvPr/>
        </p:nvSpPr>
        <p:spPr>
          <a:xfrm flipH="1">
            <a:off x="1904760" y="1371600"/>
            <a:ext cx="99036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9" name=""/>
          <p:cNvSpPr/>
          <p:nvPr/>
        </p:nvSpPr>
        <p:spPr>
          <a:xfrm>
            <a:off x="1349640" y="1889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0" name=""/>
          <p:cNvSpPr/>
          <p:nvPr/>
        </p:nvSpPr>
        <p:spPr>
          <a:xfrm>
            <a:off x="3811680" y="1870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1" name=""/>
          <p:cNvSpPr/>
          <p:nvPr/>
        </p:nvSpPr>
        <p:spPr>
          <a:xfrm>
            <a:off x="1752480" y="21337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2" name=""/>
          <p:cNvSpPr/>
          <p:nvPr/>
        </p:nvSpPr>
        <p:spPr>
          <a:xfrm>
            <a:off x="3733920" y="21366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3" name=""/>
          <p:cNvSpPr/>
          <p:nvPr/>
        </p:nvSpPr>
        <p:spPr>
          <a:xfrm>
            <a:off x="1364040" y="2422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4" name=""/>
          <p:cNvSpPr/>
          <p:nvPr/>
        </p:nvSpPr>
        <p:spPr>
          <a:xfrm>
            <a:off x="3826440" y="2403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5" name=""/>
          <p:cNvSpPr/>
          <p:nvPr/>
        </p:nvSpPr>
        <p:spPr>
          <a:xfrm>
            <a:off x="1766880" y="2666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6" name=""/>
          <p:cNvSpPr/>
          <p:nvPr/>
        </p:nvSpPr>
        <p:spPr>
          <a:xfrm>
            <a:off x="3747960" y="2670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7" name=""/>
          <p:cNvSpPr/>
          <p:nvPr/>
        </p:nvSpPr>
        <p:spPr>
          <a:xfrm>
            <a:off x="1378080" y="2955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8" name=""/>
          <p:cNvSpPr/>
          <p:nvPr/>
        </p:nvSpPr>
        <p:spPr>
          <a:xfrm>
            <a:off x="3840840" y="29368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9" name=""/>
          <p:cNvSpPr/>
          <p:nvPr/>
        </p:nvSpPr>
        <p:spPr>
          <a:xfrm>
            <a:off x="1781280" y="32004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0" name=""/>
          <p:cNvSpPr/>
          <p:nvPr/>
        </p:nvSpPr>
        <p:spPr>
          <a:xfrm>
            <a:off x="3762360" y="320364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1" name=""/>
          <p:cNvSpPr/>
          <p:nvPr/>
        </p:nvSpPr>
        <p:spPr>
          <a:xfrm>
            <a:off x="1392480" y="34894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2" name=""/>
          <p:cNvSpPr/>
          <p:nvPr/>
        </p:nvSpPr>
        <p:spPr>
          <a:xfrm>
            <a:off x="3854880" y="34704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3" name=""/>
          <p:cNvSpPr/>
          <p:nvPr/>
        </p:nvSpPr>
        <p:spPr>
          <a:xfrm>
            <a:off x="1795320" y="37339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4" name=""/>
          <p:cNvSpPr/>
          <p:nvPr/>
        </p:nvSpPr>
        <p:spPr>
          <a:xfrm>
            <a:off x="3776760" y="37368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5" name=""/>
          <p:cNvSpPr/>
          <p:nvPr/>
        </p:nvSpPr>
        <p:spPr>
          <a:xfrm>
            <a:off x="1407240" y="4708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6" name=""/>
          <p:cNvSpPr/>
          <p:nvPr/>
        </p:nvSpPr>
        <p:spPr>
          <a:xfrm>
            <a:off x="3869280" y="4689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7" name=""/>
          <p:cNvSpPr/>
          <p:nvPr/>
        </p:nvSpPr>
        <p:spPr>
          <a:xfrm>
            <a:off x="1809720" y="4952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8" name=""/>
          <p:cNvSpPr/>
          <p:nvPr/>
        </p:nvSpPr>
        <p:spPr>
          <a:xfrm>
            <a:off x="3790800" y="4956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9" name=""/>
          <p:cNvSpPr/>
          <p:nvPr/>
        </p:nvSpPr>
        <p:spPr>
          <a:xfrm>
            <a:off x="2819520" y="420696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0" name=""/>
          <p:cNvSpPr/>
          <p:nvPr/>
        </p:nvSpPr>
        <p:spPr>
          <a:xfrm>
            <a:off x="2293920" y="3946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1" name=""/>
          <p:cNvSpPr/>
          <p:nvPr/>
        </p:nvSpPr>
        <p:spPr>
          <a:xfrm>
            <a:off x="2895480" y="1371600"/>
            <a:ext cx="83844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2" name=""/>
          <p:cNvSpPr/>
          <p:nvPr/>
        </p:nvSpPr>
        <p:spPr>
          <a:xfrm>
            <a:off x="380988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3" name=""/>
          <p:cNvSpPr/>
          <p:nvPr/>
        </p:nvSpPr>
        <p:spPr>
          <a:xfrm>
            <a:off x="381960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4" name=""/>
          <p:cNvSpPr/>
          <p:nvPr/>
        </p:nvSpPr>
        <p:spPr>
          <a:xfrm>
            <a:off x="383868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5" name=""/>
          <p:cNvSpPr/>
          <p:nvPr/>
        </p:nvSpPr>
        <p:spPr>
          <a:xfrm>
            <a:off x="182880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6" name=""/>
          <p:cNvSpPr/>
          <p:nvPr/>
        </p:nvSpPr>
        <p:spPr>
          <a:xfrm>
            <a:off x="183816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7" name=""/>
          <p:cNvSpPr/>
          <p:nvPr/>
        </p:nvSpPr>
        <p:spPr>
          <a:xfrm>
            <a:off x="185724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8" name=""/>
          <p:cNvSpPr/>
          <p:nvPr/>
        </p:nvSpPr>
        <p:spPr>
          <a:xfrm flipH="1">
            <a:off x="2971800" y="3809880"/>
            <a:ext cx="87624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9" name=""/>
          <p:cNvSpPr/>
          <p:nvPr/>
        </p:nvSpPr>
        <p:spPr>
          <a:xfrm>
            <a:off x="1905120" y="380988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0" name=""/>
          <p:cNvSpPr/>
          <p:nvPr/>
        </p:nvSpPr>
        <p:spPr>
          <a:xfrm flipH="1">
            <a:off x="1980720" y="4267080"/>
            <a:ext cx="83844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1" name=""/>
          <p:cNvSpPr/>
          <p:nvPr/>
        </p:nvSpPr>
        <p:spPr>
          <a:xfrm>
            <a:off x="2895480" y="4267080"/>
            <a:ext cx="9144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2" name=""/>
          <p:cNvSpPr/>
          <p:nvPr/>
        </p:nvSpPr>
        <p:spPr>
          <a:xfrm>
            <a:off x="4420440" y="914400"/>
            <a:ext cx="43275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preCond&gt;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A Directed Acyclic Graph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(DA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postCond&gt;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Find one valid linear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3" name=""/>
          <p:cNvSpPr/>
          <p:nvPr/>
        </p:nvSpPr>
        <p:spPr>
          <a:xfrm>
            <a:off x="5182200" y="6004080"/>
            <a:ext cx="105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. 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4" name=""/>
          <p:cNvSpPr/>
          <p:nvPr/>
        </p:nvSpPr>
        <p:spPr>
          <a:xfrm>
            <a:off x="4600440" y="3809880"/>
            <a:ext cx="2943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a sin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t it last in or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lete &amp; Repea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5" name=""/>
          <p:cNvSpPr/>
          <p:nvPr/>
        </p:nvSpPr>
        <p:spPr>
          <a:xfrm>
            <a:off x="6613560" y="42577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9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9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90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90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500" fill="hold"/>
                                        <p:tgtEl>
                                          <p:spTgt spid="90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90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90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90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9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9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90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90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9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9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883944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ear Or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37" name=""/>
          <p:cNvSpPr/>
          <p:nvPr/>
        </p:nvSpPr>
        <p:spPr>
          <a:xfrm>
            <a:off x="2819520" y="12952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8" name=""/>
          <p:cNvSpPr/>
          <p:nvPr/>
        </p:nvSpPr>
        <p:spPr>
          <a:xfrm>
            <a:off x="2543400" y="9748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9" name=""/>
          <p:cNvSpPr/>
          <p:nvPr/>
        </p:nvSpPr>
        <p:spPr>
          <a:xfrm flipH="1">
            <a:off x="1904760" y="1371600"/>
            <a:ext cx="99036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0" name=""/>
          <p:cNvSpPr/>
          <p:nvPr/>
        </p:nvSpPr>
        <p:spPr>
          <a:xfrm>
            <a:off x="1349640" y="1889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1" name=""/>
          <p:cNvSpPr/>
          <p:nvPr/>
        </p:nvSpPr>
        <p:spPr>
          <a:xfrm>
            <a:off x="3811680" y="1870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2" name=""/>
          <p:cNvSpPr/>
          <p:nvPr/>
        </p:nvSpPr>
        <p:spPr>
          <a:xfrm>
            <a:off x="1752480" y="21337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3" name=""/>
          <p:cNvSpPr/>
          <p:nvPr/>
        </p:nvSpPr>
        <p:spPr>
          <a:xfrm>
            <a:off x="3733920" y="21366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4" name=""/>
          <p:cNvSpPr/>
          <p:nvPr/>
        </p:nvSpPr>
        <p:spPr>
          <a:xfrm>
            <a:off x="1364040" y="2422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5" name=""/>
          <p:cNvSpPr/>
          <p:nvPr/>
        </p:nvSpPr>
        <p:spPr>
          <a:xfrm>
            <a:off x="3826440" y="2403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6" name=""/>
          <p:cNvSpPr/>
          <p:nvPr/>
        </p:nvSpPr>
        <p:spPr>
          <a:xfrm>
            <a:off x="1766880" y="2666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7" name=""/>
          <p:cNvSpPr/>
          <p:nvPr/>
        </p:nvSpPr>
        <p:spPr>
          <a:xfrm>
            <a:off x="3747960" y="2670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8" name=""/>
          <p:cNvSpPr/>
          <p:nvPr/>
        </p:nvSpPr>
        <p:spPr>
          <a:xfrm>
            <a:off x="1378080" y="2955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9" name=""/>
          <p:cNvSpPr/>
          <p:nvPr/>
        </p:nvSpPr>
        <p:spPr>
          <a:xfrm>
            <a:off x="3840840" y="29368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0" name=""/>
          <p:cNvSpPr/>
          <p:nvPr/>
        </p:nvSpPr>
        <p:spPr>
          <a:xfrm>
            <a:off x="1781280" y="32004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1" name=""/>
          <p:cNvSpPr/>
          <p:nvPr/>
        </p:nvSpPr>
        <p:spPr>
          <a:xfrm>
            <a:off x="3762360" y="320364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2" name=""/>
          <p:cNvSpPr/>
          <p:nvPr/>
        </p:nvSpPr>
        <p:spPr>
          <a:xfrm>
            <a:off x="1392480" y="34894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3" name=""/>
          <p:cNvSpPr/>
          <p:nvPr/>
        </p:nvSpPr>
        <p:spPr>
          <a:xfrm>
            <a:off x="3854880" y="34704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4" name=""/>
          <p:cNvSpPr/>
          <p:nvPr/>
        </p:nvSpPr>
        <p:spPr>
          <a:xfrm>
            <a:off x="1795320" y="37339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5" name=""/>
          <p:cNvSpPr/>
          <p:nvPr/>
        </p:nvSpPr>
        <p:spPr>
          <a:xfrm>
            <a:off x="3776760" y="37368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6" name=""/>
          <p:cNvSpPr/>
          <p:nvPr/>
        </p:nvSpPr>
        <p:spPr>
          <a:xfrm>
            <a:off x="1407240" y="4708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7" name=""/>
          <p:cNvSpPr/>
          <p:nvPr/>
        </p:nvSpPr>
        <p:spPr>
          <a:xfrm>
            <a:off x="3869280" y="4689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8" name=""/>
          <p:cNvSpPr/>
          <p:nvPr/>
        </p:nvSpPr>
        <p:spPr>
          <a:xfrm>
            <a:off x="1809720" y="4952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9" name=""/>
          <p:cNvSpPr/>
          <p:nvPr/>
        </p:nvSpPr>
        <p:spPr>
          <a:xfrm>
            <a:off x="3790800" y="4956120"/>
            <a:ext cx="15264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0" name=""/>
          <p:cNvSpPr/>
          <p:nvPr/>
        </p:nvSpPr>
        <p:spPr>
          <a:xfrm>
            <a:off x="2819520" y="420696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1" name=""/>
          <p:cNvSpPr/>
          <p:nvPr/>
        </p:nvSpPr>
        <p:spPr>
          <a:xfrm>
            <a:off x="2293920" y="3946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2" name=""/>
          <p:cNvSpPr/>
          <p:nvPr/>
        </p:nvSpPr>
        <p:spPr>
          <a:xfrm>
            <a:off x="2895480" y="1371600"/>
            <a:ext cx="83844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3" name=""/>
          <p:cNvSpPr/>
          <p:nvPr/>
        </p:nvSpPr>
        <p:spPr>
          <a:xfrm>
            <a:off x="380988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4" name=""/>
          <p:cNvSpPr/>
          <p:nvPr/>
        </p:nvSpPr>
        <p:spPr>
          <a:xfrm>
            <a:off x="381960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5" name=""/>
          <p:cNvSpPr/>
          <p:nvPr/>
        </p:nvSpPr>
        <p:spPr>
          <a:xfrm>
            <a:off x="383868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6" name=""/>
          <p:cNvSpPr/>
          <p:nvPr/>
        </p:nvSpPr>
        <p:spPr>
          <a:xfrm>
            <a:off x="182880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7" name=""/>
          <p:cNvSpPr/>
          <p:nvPr/>
        </p:nvSpPr>
        <p:spPr>
          <a:xfrm>
            <a:off x="1838160" y="27432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8" name=""/>
          <p:cNvSpPr/>
          <p:nvPr/>
        </p:nvSpPr>
        <p:spPr>
          <a:xfrm>
            <a:off x="1857240" y="32767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9" name=""/>
          <p:cNvSpPr/>
          <p:nvPr/>
        </p:nvSpPr>
        <p:spPr>
          <a:xfrm flipH="1">
            <a:off x="2971800" y="3809880"/>
            <a:ext cx="87624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0" name=""/>
          <p:cNvSpPr/>
          <p:nvPr/>
        </p:nvSpPr>
        <p:spPr>
          <a:xfrm>
            <a:off x="1905120" y="38098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1" name=""/>
          <p:cNvSpPr/>
          <p:nvPr/>
        </p:nvSpPr>
        <p:spPr>
          <a:xfrm flipH="1">
            <a:off x="1980720" y="4267080"/>
            <a:ext cx="83844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2" name=""/>
          <p:cNvSpPr/>
          <p:nvPr/>
        </p:nvSpPr>
        <p:spPr>
          <a:xfrm>
            <a:off x="2895480" y="426708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3" name=""/>
          <p:cNvSpPr/>
          <p:nvPr/>
        </p:nvSpPr>
        <p:spPr>
          <a:xfrm>
            <a:off x="4420440" y="914400"/>
            <a:ext cx="43275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preCond&gt;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A Directed Acyclic Graph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(DA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postCond&gt;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Find one valid linear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4" name=""/>
          <p:cNvSpPr/>
          <p:nvPr/>
        </p:nvSpPr>
        <p:spPr>
          <a:xfrm>
            <a:off x="7553880" y="4692600"/>
            <a:ext cx="96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5" name=""/>
          <p:cNvSpPr/>
          <p:nvPr/>
        </p:nvSpPr>
        <p:spPr>
          <a:xfrm>
            <a:off x="4600440" y="3809880"/>
            <a:ext cx="2943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a sin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t it last in or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lete &amp; Repea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6" name=""/>
          <p:cNvSpPr/>
          <p:nvPr/>
        </p:nvSpPr>
        <p:spPr>
          <a:xfrm>
            <a:off x="5182200" y="6004080"/>
            <a:ext cx="105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. 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9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9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ear Or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78" name=""/>
          <p:cNvSpPr/>
          <p:nvPr/>
        </p:nvSpPr>
        <p:spPr>
          <a:xfrm>
            <a:off x="2543400" y="9748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9" name=""/>
          <p:cNvSpPr/>
          <p:nvPr/>
        </p:nvSpPr>
        <p:spPr>
          <a:xfrm flipH="1">
            <a:off x="1904760" y="1371600"/>
            <a:ext cx="99036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0" name=""/>
          <p:cNvSpPr/>
          <p:nvPr/>
        </p:nvSpPr>
        <p:spPr>
          <a:xfrm>
            <a:off x="1349640" y="1889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1" name=""/>
          <p:cNvSpPr/>
          <p:nvPr/>
        </p:nvSpPr>
        <p:spPr>
          <a:xfrm>
            <a:off x="3811680" y="1870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2" name=""/>
          <p:cNvSpPr/>
          <p:nvPr/>
        </p:nvSpPr>
        <p:spPr>
          <a:xfrm>
            <a:off x="1364040" y="2422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3" name=""/>
          <p:cNvSpPr/>
          <p:nvPr/>
        </p:nvSpPr>
        <p:spPr>
          <a:xfrm>
            <a:off x="3826440" y="2403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4" name=""/>
          <p:cNvSpPr/>
          <p:nvPr/>
        </p:nvSpPr>
        <p:spPr>
          <a:xfrm>
            <a:off x="3747960" y="2670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5" name=""/>
          <p:cNvSpPr/>
          <p:nvPr/>
        </p:nvSpPr>
        <p:spPr>
          <a:xfrm>
            <a:off x="1378080" y="2955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6" name=""/>
          <p:cNvSpPr/>
          <p:nvPr/>
        </p:nvSpPr>
        <p:spPr>
          <a:xfrm>
            <a:off x="3840840" y="29368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7" name=""/>
          <p:cNvSpPr/>
          <p:nvPr/>
        </p:nvSpPr>
        <p:spPr>
          <a:xfrm>
            <a:off x="1392480" y="34894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8" name=""/>
          <p:cNvSpPr/>
          <p:nvPr/>
        </p:nvSpPr>
        <p:spPr>
          <a:xfrm>
            <a:off x="3854880" y="34704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9" name=""/>
          <p:cNvSpPr/>
          <p:nvPr/>
        </p:nvSpPr>
        <p:spPr>
          <a:xfrm>
            <a:off x="1407240" y="4708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0" name=""/>
          <p:cNvSpPr/>
          <p:nvPr/>
        </p:nvSpPr>
        <p:spPr>
          <a:xfrm>
            <a:off x="2293920" y="3946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1" name=""/>
          <p:cNvSpPr/>
          <p:nvPr/>
        </p:nvSpPr>
        <p:spPr>
          <a:xfrm>
            <a:off x="2895480" y="1371600"/>
            <a:ext cx="83844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2" name=""/>
          <p:cNvSpPr/>
          <p:nvPr/>
        </p:nvSpPr>
        <p:spPr>
          <a:xfrm>
            <a:off x="380988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3" name=""/>
          <p:cNvSpPr/>
          <p:nvPr/>
        </p:nvSpPr>
        <p:spPr>
          <a:xfrm>
            <a:off x="383868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4" name=""/>
          <p:cNvSpPr/>
          <p:nvPr/>
        </p:nvSpPr>
        <p:spPr>
          <a:xfrm>
            <a:off x="182880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5" name=""/>
          <p:cNvSpPr/>
          <p:nvPr/>
        </p:nvSpPr>
        <p:spPr>
          <a:xfrm>
            <a:off x="183816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6" name=""/>
          <p:cNvSpPr/>
          <p:nvPr/>
        </p:nvSpPr>
        <p:spPr>
          <a:xfrm>
            <a:off x="185724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7" name=""/>
          <p:cNvSpPr/>
          <p:nvPr/>
        </p:nvSpPr>
        <p:spPr>
          <a:xfrm flipH="1">
            <a:off x="2971800" y="3809880"/>
            <a:ext cx="87624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8" name=""/>
          <p:cNvSpPr/>
          <p:nvPr/>
        </p:nvSpPr>
        <p:spPr>
          <a:xfrm>
            <a:off x="1905120" y="380988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9" name=""/>
          <p:cNvSpPr/>
          <p:nvPr/>
        </p:nvSpPr>
        <p:spPr>
          <a:xfrm flipH="1">
            <a:off x="1980720" y="4267080"/>
            <a:ext cx="83844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0" name=""/>
          <p:cNvSpPr/>
          <p:nvPr/>
        </p:nvSpPr>
        <p:spPr>
          <a:xfrm>
            <a:off x="2895480" y="4267080"/>
            <a:ext cx="9144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01" name=""/>
          <p:cNvGrpSpPr/>
          <p:nvPr/>
        </p:nvGrpSpPr>
        <p:grpSpPr>
          <a:xfrm>
            <a:off x="4234680" y="441360"/>
            <a:ext cx="4459320" cy="4968720"/>
            <a:chOff x="4234680" y="441360"/>
            <a:chExt cx="4459320" cy="4968720"/>
          </a:xfrm>
        </p:grpSpPr>
        <p:sp>
          <p:nvSpPr>
            <p:cNvPr id="9102" name=""/>
            <p:cNvSpPr/>
            <p:nvPr/>
          </p:nvSpPr>
          <p:spPr>
            <a:xfrm>
              <a:off x="7315200" y="1905120"/>
              <a:ext cx="0" cy="3504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3" name=""/>
            <p:cNvSpPr/>
            <p:nvPr/>
          </p:nvSpPr>
          <p:spPr>
            <a:xfrm>
              <a:off x="7848720" y="1905120"/>
              <a:ext cx="0" cy="3504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4" name=""/>
            <p:cNvSpPr/>
            <p:nvPr/>
          </p:nvSpPr>
          <p:spPr>
            <a:xfrm>
              <a:off x="6554880" y="441360"/>
              <a:ext cx="213912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Found</a:t>
              </a:r>
              <a:br>
                <a:rPr sz="3000"/>
              </a:b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Not Handled</a:t>
              </a:r>
              <a:br>
                <a:rPr sz="3000"/>
              </a:b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Stack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5" name=""/>
            <p:cNvSpPr/>
            <p:nvPr/>
          </p:nvSpPr>
          <p:spPr>
            <a:xfrm>
              <a:off x="4234680" y="685800"/>
              <a:ext cx="15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lg: DF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06" name=""/>
          <p:cNvSpPr/>
          <p:nvPr/>
        </p:nvSpPr>
        <p:spPr>
          <a:xfrm>
            <a:off x="7392960" y="49370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7" name=""/>
          <p:cNvSpPr/>
          <p:nvPr/>
        </p:nvSpPr>
        <p:spPr>
          <a:xfrm>
            <a:off x="1781280" y="32004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8" name=""/>
          <p:cNvSpPr/>
          <p:nvPr/>
        </p:nvSpPr>
        <p:spPr>
          <a:xfrm>
            <a:off x="7393320" y="46324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9" name=""/>
          <p:cNvSpPr/>
          <p:nvPr/>
        </p:nvSpPr>
        <p:spPr>
          <a:xfrm>
            <a:off x="7392960" y="43275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0" name=""/>
          <p:cNvSpPr/>
          <p:nvPr/>
        </p:nvSpPr>
        <p:spPr>
          <a:xfrm>
            <a:off x="7393680" y="4022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1" name=""/>
          <p:cNvSpPr/>
          <p:nvPr/>
        </p:nvSpPr>
        <p:spPr>
          <a:xfrm>
            <a:off x="3869280" y="4689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2" name=""/>
          <p:cNvSpPr/>
          <p:nvPr/>
        </p:nvSpPr>
        <p:spPr>
          <a:xfrm>
            <a:off x="2819520" y="12952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3" name=""/>
          <p:cNvSpPr/>
          <p:nvPr/>
        </p:nvSpPr>
        <p:spPr>
          <a:xfrm>
            <a:off x="1752480" y="21337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4" name=""/>
          <p:cNvSpPr/>
          <p:nvPr/>
        </p:nvSpPr>
        <p:spPr>
          <a:xfrm>
            <a:off x="3733920" y="21366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5" name=""/>
          <p:cNvSpPr/>
          <p:nvPr/>
        </p:nvSpPr>
        <p:spPr>
          <a:xfrm>
            <a:off x="1766880" y="2666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6" name=""/>
          <p:cNvSpPr/>
          <p:nvPr/>
        </p:nvSpPr>
        <p:spPr>
          <a:xfrm>
            <a:off x="3762360" y="320364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7" name=""/>
          <p:cNvSpPr/>
          <p:nvPr/>
        </p:nvSpPr>
        <p:spPr>
          <a:xfrm>
            <a:off x="1795320" y="37339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8" name=""/>
          <p:cNvSpPr/>
          <p:nvPr/>
        </p:nvSpPr>
        <p:spPr>
          <a:xfrm>
            <a:off x="3776760" y="37368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9" name=""/>
          <p:cNvSpPr/>
          <p:nvPr/>
        </p:nvSpPr>
        <p:spPr>
          <a:xfrm>
            <a:off x="1809720" y="4952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0" name=""/>
          <p:cNvSpPr/>
          <p:nvPr/>
        </p:nvSpPr>
        <p:spPr>
          <a:xfrm>
            <a:off x="2819520" y="420696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1" name=""/>
          <p:cNvSpPr/>
          <p:nvPr/>
        </p:nvSpPr>
        <p:spPr>
          <a:xfrm>
            <a:off x="381960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2" name=""/>
          <p:cNvSpPr/>
          <p:nvPr/>
        </p:nvSpPr>
        <p:spPr>
          <a:xfrm>
            <a:off x="3809880" y="49528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3" name=""/>
          <p:cNvSpPr/>
          <p:nvPr/>
        </p:nvSpPr>
        <p:spPr>
          <a:xfrm>
            <a:off x="5182200" y="6156360"/>
            <a:ext cx="105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. 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0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9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9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9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9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8" dur="500" fill="hold"/>
                                        <p:tgtEl>
                                          <p:spTgt spid="9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69" dur="500" fill="hold"/>
                                        <p:tgtEl>
                                          <p:spTgt spid="9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9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9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7" dur="500" fill="hold"/>
                                        <p:tgtEl>
                                          <p:spTgt spid="9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78" dur="500" fill="hold"/>
                                        <p:tgtEl>
                                          <p:spTgt spid="9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9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9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6" dur="500" fill="hold"/>
                                        <p:tgtEl>
                                          <p:spTgt spid="9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87" dur="500" fill="hold"/>
                                        <p:tgtEl>
                                          <p:spTgt spid="9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9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9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5" dur="500" fill="hold"/>
                                        <p:tgtEl>
                                          <p:spTgt spid="9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96" dur="500" fill="hold"/>
                                        <p:tgtEl>
                                          <p:spTgt spid="9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9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9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ear Or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25" name=""/>
          <p:cNvSpPr/>
          <p:nvPr/>
        </p:nvSpPr>
        <p:spPr>
          <a:xfrm>
            <a:off x="2543400" y="9748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6" name=""/>
          <p:cNvSpPr/>
          <p:nvPr/>
        </p:nvSpPr>
        <p:spPr>
          <a:xfrm flipH="1">
            <a:off x="1904760" y="1371600"/>
            <a:ext cx="99036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7" name=""/>
          <p:cNvSpPr/>
          <p:nvPr/>
        </p:nvSpPr>
        <p:spPr>
          <a:xfrm>
            <a:off x="1349640" y="1889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8" name=""/>
          <p:cNvSpPr/>
          <p:nvPr/>
        </p:nvSpPr>
        <p:spPr>
          <a:xfrm>
            <a:off x="3811680" y="1870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9" name=""/>
          <p:cNvSpPr/>
          <p:nvPr/>
        </p:nvSpPr>
        <p:spPr>
          <a:xfrm>
            <a:off x="1364040" y="2422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0" name=""/>
          <p:cNvSpPr/>
          <p:nvPr/>
        </p:nvSpPr>
        <p:spPr>
          <a:xfrm>
            <a:off x="3826440" y="2403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1" name=""/>
          <p:cNvSpPr/>
          <p:nvPr/>
        </p:nvSpPr>
        <p:spPr>
          <a:xfrm>
            <a:off x="3747960" y="2670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2" name=""/>
          <p:cNvSpPr/>
          <p:nvPr/>
        </p:nvSpPr>
        <p:spPr>
          <a:xfrm>
            <a:off x="1378080" y="2955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3" name=""/>
          <p:cNvSpPr/>
          <p:nvPr/>
        </p:nvSpPr>
        <p:spPr>
          <a:xfrm>
            <a:off x="3840840" y="29368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4" name=""/>
          <p:cNvSpPr/>
          <p:nvPr/>
        </p:nvSpPr>
        <p:spPr>
          <a:xfrm>
            <a:off x="1392480" y="34894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5" name=""/>
          <p:cNvSpPr/>
          <p:nvPr/>
        </p:nvSpPr>
        <p:spPr>
          <a:xfrm>
            <a:off x="3854880" y="34704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6" name=""/>
          <p:cNvSpPr/>
          <p:nvPr/>
        </p:nvSpPr>
        <p:spPr>
          <a:xfrm>
            <a:off x="1407240" y="4708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7" name=""/>
          <p:cNvSpPr/>
          <p:nvPr/>
        </p:nvSpPr>
        <p:spPr>
          <a:xfrm>
            <a:off x="2293920" y="3946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8" name=""/>
          <p:cNvSpPr/>
          <p:nvPr/>
        </p:nvSpPr>
        <p:spPr>
          <a:xfrm>
            <a:off x="2895480" y="1371600"/>
            <a:ext cx="83844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9" name=""/>
          <p:cNvSpPr/>
          <p:nvPr/>
        </p:nvSpPr>
        <p:spPr>
          <a:xfrm>
            <a:off x="380988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0" name=""/>
          <p:cNvSpPr/>
          <p:nvPr/>
        </p:nvSpPr>
        <p:spPr>
          <a:xfrm>
            <a:off x="383868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1" name=""/>
          <p:cNvSpPr/>
          <p:nvPr/>
        </p:nvSpPr>
        <p:spPr>
          <a:xfrm>
            <a:off x="182880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2" name=""/>
          <p:cNvSpPr/>
          <p:nvPr/>
        </p:nvSpPr>
        <p:spPr>
          <a:xfrm>
            <a:off x="183816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3" name=""/>
          <p:cNvSpPr/>
          <p:nvPr/>
        </p:nvSpPr>
        <p:spPr>
          <a:xfrm>
            <a:off x="185724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4" name=""/>
          <p:cNvSpPr/>
          <p:nvPr/>
        </p:nvSpPr>
        <p:spPr>
          <a:xfrm flipH="1">
            <a:off x="2971800" y="3809880"/>
            <a:ext cx="87624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5" name=""/>
          <p:cNvSpPr/>
          <p:nvPr/>
        </p:nvSpPr>
        <p:spPr>
          <a:xfrm>
            <a:off x="1905120" y="380988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6" name=""/>
          <p:cNvSpPr/>
          <p:nvPr/>
        </p:nvSpPr>
        <p:spPr>
          <a:xfrm flipH="1">
            <a:off x="1980720" y="4267080"/>
            <a:ext cx="83844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7" name=""/>
          <p:cNvSpPr/>
          <p:nvPr/>
        </p:nvSpPr>
        <p:spPr>
          <a:xfrm>
            <a:off x="2895480" y="4267080"/>
            <a:ext cx="9144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48" name=""/>
          <p:cNvGrpSpPr/>
          <p:nvPr/>
        </p:nvGrpSpPr>
        <p:grpSpPr>
          <a:xfrm>
            <a:off x="4234680" y="441360"/>
            <a:ext cx="4459320" cy="4968720"/>
            <a:chOff x="4234680" y="441360"/>
            <a:chExt cx="4459320" cy="4968720"/>
          </a:xfrm>
        </p:grpSpPr>
        <p:sp>
          <p:nvSpPr>
            <p:cNvPr id="9149" name=""/>
            <p:cNvSpPr/>
            <p:nvPr/>
          </p:nvSpPr>
          <p:spPr>
            <a:xfrm>
              <a:off x="7315200" y="1905120"/>
              <a:ext cx="0" cy="3504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0" name=""/>
            <p:cNvSpPr/>
            <p:nvPr/>
          </p:nvSpPr>
          <p:spPr>
            <a:xfrm>
              <a:off x="7848720" y="1905120"/>
              <a:ext cx="0" cy="3504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1" name=""/>
            <p:cNvSpPr/>
            <p:nvPr/>
          </p:nvSpPr>
          <p:spPr>
            <a:xfrm>
              <a:off x="6554880" y="441360"/>
              <a:ext cx="213912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Found</a:t>
              </a:r>
              <a:br>
                <a:rPr sz="3000"/>
              </a:b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Not Handled</a:t>
              </a:r>
              <a:br>
                <a:rPr sz="3000"/>
              </a:b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Stack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2" name=""/>
            <p:cNvSpPr/>
            <p:nvPr/>
          </p:nvSpPr>
          <p:spPr>
            <a:xfrm>
              <a:off x="4234680" y="685800"/>
              <a:ext cx="15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Alg: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DF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53" name=""/>
          <p:cNvSpPr/>
          <p:nvPr/>
        </p:nvSpPr>
        <p:spPr>
          <a:xfrm>
            <a:off x="7392960" y="49370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4" name=""/>
          <p:cNvSpPr/>
          <p:nvPr/>
        </p:nvSpPr>
        <p:spPr>
          <a:xfrm>
            <a:off x="1781280" y="32004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5" name=""/>
          <p:cNvSpPr/>
          <p:nvPr/>
        </p:nvSpPr>
        <p:spPr>
          <a:xfrm>
            <a:off x="7393320" y="46324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6" name=""/>
          <p:cNvSpPr/>
          <p:nvPr/>
        </p:nvSpPr>
        <p:spPr>
          <a:xfrm>
            <a:off x="7392960" y="43275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7" name=""/>
          <p:cNvSpPr/>
          <p:nvPr/>
        </p:nvSpPr>
        <p:spPr>
          <a:xfrm>
            <a:off x="7393680" y="4022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8" name=""/>
          <p:cNvSpPr/>
          <p:nvPr/>
        </p:nvSpPr>
        <p:spPr>
          <a:xfrm>
            <a:off x="3869280" y="4689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9" name=""/>
          <p:cNvSpPr/>
          <p:nvPr/>
        </p:nvSpPr>
        <p:spPr>
          <a:xfrm>
            <a:off x="2819520" y="12952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0" name=""/>
          <p:cNvSpPr/>
          <p:nvPr/>
        </p:nvSpPr>
        <p:spPr>
          <a:xfrm>
            <a:off x="1752480" y="21337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1" name=""/>
          <p:cNvSpPr/>
          <p:nvPr/>
        </p:nvSpPr>
        <p:spPr>
          <a:xfrm>
            <a:off x="3733920" y="21366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2" name=""/>
          <p:cNvSpPr/>
          <p:nvPr/>
        </p:nvSpPr>
        <p:spPr>
          <a:xfrm>
            <a:off x="1766880" y="2666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3" name=""/>
          <p:cNvSpPr/>
          <p:nvPr/>
        </p:nvSpPr>
        <p:spPr>
          <a:xfrm>
            <a:off x="3762360" y="320364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4" name=""/>
          <p:cNvSpPr/>
          <p:nvPr/>
        </p:nvSpPr>
        <p:spPr>
          <a:xfrm>
            <a:off x="1795320" y="37339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5" name=""/>
          <p:cNvSpPr/>
          <p:nvPr/>
        </p:nvSpPr>
        <p:spPr>
          <a:xfrm>
            <a:off x="3776760" y="37368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6" name=""/>
          <p:cNvSpPr/>
          <p:nvPr/>
        </p:nvSpPr>
        <p:spPr>
          <a:xfrm>
            <a:off x="1809720" y="4952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7" name=""/>
          <p:cNvSpPr/>
          <p:nvPr/>
        </p:nvSpPr>
        <p:spPr>
          <a:xfrm>
            <a:off x="2819520" y="42069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8" name=""/>
          <p:cNvSpPr/>
          <p:nvPr/>
        </p:nvSpPr>
        <p:spPr>
          <a:xfrm>
            <a:off x="381960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9" name=""/>
          <p:cNvSpPr/>
          <p:nvPr/>
        </p:nvSpPr>
        <p:spPr>
          <a:xfrm>
            <a:off x="3809880" y="49528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0" name=""/>
          <p:cNvSpPr/>
          <p:nvPr/>
        </p:nvSpPr>
        <p:spPr>
          <a:xfrm>
            <a:off x="1672560" y="5257800"/>
            <a:ext cx="350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ake off stac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to backwards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1" name=""/>
          <p:cNvSpPr/>
          <p:nvPr/>
        </p:nvSpPr>
        <p:spPr>
          <a:xfrm>
            <a:off x="5182200" y="6156360"/>
            <a:ext cx="105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. 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fill="hold">
                      <p:stCondLst>
                        <p:cond delay="0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9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9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9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9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500" fill="hold"/>
                                        <p:tgtEl>
                                          <p:spTgt spid="9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19" dur="500" fill="hold"/>
                                        <p:tgtEl>
                                          <p:spTgt spid="9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ear Or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73" name=""/>
          <p:cNvSpPr/>
          <p:nvPr/>
        </p:nvSpPr>
        <p:spPr>
          <a:xfrm>
            <a:off x="2543400" y="9748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4" name=""/>
          <p:cNvSpPr/>
          <p:nvPr/>
        </p:nvSpPr>
        <p:spPr>
          <a:xfrm flipH="1">
            <a:off x="1904760" y="1371600"/>
            <a:ext cx="99036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5" name=""/>
          <p:cNvSpPr/>
          <p:nvPr/>
        </p:nvSpPr>
        <p:spPr>
          <a:xfrm>
            <a:off x="1349640" y="1889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6" name=""/>
          <p:cNvSpPr/>
          <p:nvPr/>
        </p:nvSpPr>
        <p:spPr>
          <a:xfrm>
            <a:off x="3811680" y="1870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7" name=""/>
          <p:cNvSpPr/>
          <p:nvPr/>
        </p:nvSpPr>
        <p:spPr>
          <a:xfrm>
            <a:off x="1364040" y="2422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8" name=""/>
          <p:cNvSpPr/>
          <p:nvPr/>
        </p:nvSpPr>
        <p:spPr>
          <a:xfrm>
            <a:off x="3826440" y="2403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9" name=""/>
          <p:cNvSpPr/>
          <p:nvPr/>
        </p:nvSpPr>
        <p:spPr>
          <a:xfrm>
            <a:off x="3747960" y="2670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0" name=""/>
          <p:cNvSpPr/>
          <p:nvPr/>
        </p:nvSpPr>
        <p:spPr>
          <a:xfrm>
            <a:off x="1378080" y="2955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1" name=""/>
          <p:cNvSpPr/>
          <p:nvPr/>
        </p:nvSpPr>
        <p:spPr>
          <a:xfrm>
            <a:off x="3840840" y="29368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2" name=""/>
          <p:cNvSpPr/>
          <p:nvPr/>
        </p:nvSpPr>
        <p:spPr>
          <a:xfrm>
            <a:off x="1392480" y="34894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3" name=""/>
          <p:cNvSpPr/>
          <p:nvPr/>
        </p:nvSpPr>
        <p:spPr>
          <a:xfrm>
            <a:off x="3854880" y="34704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4" name=""/>
          <p:cNvSpPr/>
          <p:nvPr/>
        </p:nvSpPr>
        <p:spPr>
          <a:xfrm>
            <a:off x="1407240" y="4708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5" name=""/>
          <p:cNvSpPr/>
          <p:nvPr/>
        </p:nvSpPr>
        <p:spPr>
          <a:xfrm>
            <a:off x="2293920" y="3946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6" name=""/>
          <p:cNvSpPr/>
          <p:nvPr/>
        </p:nvSpPr>
        <p:spPr>
          <a:xfrm>
            <a:off x="2895480" y="1371600"/>
            <a:ext cx="83844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7" name=""/>
          <p:cNvSpPr/>
          <p:nvPr/>
        </p:nvSpPr>
        <p:spPr>
          <a:xfrm>
            <a:off x="380988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8" name=""/>
          <p:cNvSpPr/>
          <p:nvPr/>
        </p:nvSpPr>
        <p:spPr>
          <a:xfrm>
            <a:off x="383868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9" name=""/>
          <p:cNvSpPr/>
          <p:nvPr/>
        </p:nvSpPr>
        <p:spPr>
          <a:xfrm>
            <a:off x="182880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0" name=""/>
          <p:cNvSpPr/>
          <p:nvPr/>
        </p:nvSpPr>
        <p:spPr>
          <a:xfrm>
            <a:off x="183816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1" name=""/>
          <p:cNvSpPr/>
          <p:nvPr/>
        </p:nvSpPr>
        <p:spPr>
          <a:xfrm>
            <a:off x="185724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2" name=""/>
          <p:cNvSpPr/>
          <p:nvPr/>
        </p:nvSpPr>
        <p:spPr>
          <a:xfrm flipH="1">
            <a:off x="2971800" y="3809880"/>
            <a:ext cx="87624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3" name=""/>
          <p:cNvSpPr/>
          <p:nvPr/>
        </p:nvSpPr>
        <p:spPr>
          <a:xfrm>
            <a:off x="1905120" y="380988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4" name=""/>
          <p:cNvSpPr/>
          <p:nvPr/>
        </p:nvSpPr>
        <p:spPr>
          <a:xfrm flipH="1">
            <a:off x="1980720" y="4267080"/>
            <a:ext cx="83844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5" name=""/>
          <p:cNvSpPr/>
          <p:nvPr/>
        </p:nvSpPr>
        <p:spPr>
          <a:xfrm>
            <a:off x="2895480" y="4267080"/>
            <a:ext cx="9144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96" name=""/>
          <p:cNvGrpSpPr/>
          <p:nvPr/>
        </p:nvGrpSpPr>
        <p:grpSpPr>
          <a:xfrm>
            <a:off x="4234680" y="441360"/>
            <a:ext cx="4459320" cy="4968720"/>
            <a:chOff x="4234680" y="441360"/>
            <a:chExt cx="4459320" cy="4968720"/>
          </a:xfrm>
        </p:grpSpPr>
        <p:sp>
          <p:nvSpPr>
            <p:cNvPr id="9197" name=""/>
            <p:cNvSpPr/>
            <p:nvPr/>
          </p:nvSpPr>
          <p:spPr>
            <a:xfrm>
              <a:off x="7315200" y="1905120"/>
              <a:ext cx="0" cy="3504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8" name=""/>
            <p:cNvSpPr/>
            <p:nvPr/>
          </p:nvSpPr>
          <p:spPr>
            <a:xfrm>
              <a:off x="7848720" y="1905120"/>
              <a:ext cx="0" cy="3504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9" name=""/>
            <p:cNvSpPr/>
            <p:nvPr/>
          </p:nvSpPr>
          <p:spPr>
            <a:xfrm>
              <a:off x="6554880" y="441360"/>
              <a:ext cx="213912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Found</a:t>
              </a:r>
              <a:br>
                <a:rPr sz="3000"/>
              </a:b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Not Handled</a:t>
              </a:r>
              <a:br>
                <a:rPr sz="3000"/>
              </a:b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Stack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0" name=""/>
            <p:cNvSpPr/>
            <p:nvPr/>
          </p:nvSpPr>
          <p:spPr>
            <a:xfrm>
              <a:off x="4234680" y="685800"/>
              <a:ext cx="15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Alg: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DF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01" name=""/>
          <p:cNvSpPr/>
          <p:nvPr/>
        </p:nvSpPr>
        <p:spPr>
          <a:xfrm>
            <a:off x="7392960" y="49370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2" name=""/>
          <p:cNvSpPr/>
          <p:nvPr/>
        </p:nvSpPr>
        <p:spPr>
          <a:xfrm>
            <a:off x="1781280" y="32004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3" name=""/>
          <p:cNvSpPr/>
          <p:nvPr/>
        </p:nvSpPr>
        <p:spPr>
          <a:xfrm>
            <a:off x="7393320" y="46324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4" name=""/>
          <p:cNvSpPr/>
          <p:nvPr/>
        </p:nvSpPr>
        <p:spPr>
          <a:xfrm>
            <a:off x="7392960" y="43275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5" name=""/>
          <p:cNvSpPr/>
          <p:nvPr/>
        </p:nvSpPr>
        <p:spPr>
          <a:xfrm>
            <a:off x="3869280" y="4689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6" name=""/>
          <p:cNvSpPr/>
          <p:nvPr/>
        </p:nvSpPr>
        <p:spPr>
          <a:xfrm>
            <a:off x="2819520" y="12952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7" name=""/>
          <p:cNvSpPr/>
          <p:nvPr/>
        </p:nvSpPr>
        <p:spPr>
          <a:xfrm>
            <a:off x="1752480" y="21337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8" name=""/>
          <p:cNvSpPr/>
          <p:nvPr/>
        </p:nvSpPr>
        <p:spPr>
          <a:xfrm>
            <a:off x="3733920" y="21366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9" name=""/>
          <p:cNvSpPr/>
          <p:nvPr/>
        </p:nvSpPr>
        <p:spPr>
          <a:xfrm>
            <a:off x="1766880" y="2666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0" name=""/>
          <p:cNvSpPr/>
          <p:nvPr/>
        </p:nvSpPr>
        <p:spPr>
          <a:xfrm>
            <a:off x="3762360" y="320364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1" name=""/>
          <p:cNvSpPr/>
          <p:nvPr/>
        </p:nvSpPr>
        <p:spPr>
          <a:xfrm>
            <a:off x="1795320" y="37339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2" name=""/>
          <p:cNvSpPr/>
          <p:nvPr/>
        </p:nvSpPr>
        <p:spPr>
          <a:xfrm>
            <a:off x="3776760" y="37368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3" name=""/>
          <p:cNvSpPr/>
          <p:nvPr/>
        </p:nvSpPr>
        <p:spPr>
          <a:xfrm>
            <a:off x="1809720" y="4952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4" name=""/>
          <p:cNvSpPr/>
          <p:nvPr/>
        </p:nvSpPr>
        <p:spPr>
          <a:xfrm>
            <a:off x="2819520" y="42069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5" name=""/>
          <p:cNvSpPr/>
          <p:nvPr/>
        </p:nvSpPr>
        <p:spPr>
          <a:xfrm>
            <a:off x="381960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6" name=""/>
          <p:cNvSpPr/>
          <p:nvPr/>
        </p:nvSpPr>
        <p:spPr>
          <a:xfrm>
            <a:off x="3809880" y="49528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7" name=""/>
          <p:cNvSpPr/>
          <p:nvPr/>
        </p:nvSpPr>
        <p:spPr>
          <a:xfrm>
            <a:off x="1672560" y="5257800"/>
            <a:ext cx="350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ake off stac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to backwards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8" name=""/>
          <p:cNvSpPr/>
          <p:nvPr/>
        </p:nvSpPr>
        <p:spPr>
          <a:xfrm>
            <a:off x="5765040" y="6156360"/>
            <a:ext cx="48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,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ear Or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20" name=""/>
          <p:cNvSpPr/>
          <p:nvPr/>
        </p:nvSpPr>
        <p:spPr>
          <a:xfrm>
            <a:off x="2543400" y="9748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1" name=""/>
          <p:cNvSpPr/>
          <p:nvPr/>
        </p:nvSpPr>
        <p:spPr>
          <a:xfrm flipH="1">
            <a:off x="1904760" y="1371600"/>
            <a:ext cx="99036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2" name=""/>
          <p:cNvSpPr/>
          <p:nvPr/>
        </p:nvSpPr>
        <p:spPr>
          <a:xfrm>
            <a:off x="1349640" y="1889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3" name=""/>
          <p:cNvSpPr/>
          <p:nvPr/>
        </p:nvSpPr>
        <p:spPr>
          <a:xfrm>
            <a:off x="3811680" y="1870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4" name=""/>
          <p:cNvSpPr/>
          <p:nvPr/>
        </p:nvSpPr>
        <p:spPr>
          <a:xfrm>
            <a:off x="1364040" y="2422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5" name=""/>
          <p:cNvSpPr/>
          <p:nvPr/>
        </p:nvSpPr>
        <p:spPr>
          <a:xfrm>
            <a:off x="3826440" y="2403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6" name=""/>
          <p:cNvSpPr/>
          <p:nvPr/>
        </p:nvSpPr>
        <p:spPr>
          <a:xfrm>
            <a:off x="3747960" y="2670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7" name=""/>
          <p:cNvSpPr/>
          <p:nvPr/>
        </p:nvSpPr>
        <p:spPr>
          <a:xfrm>
            <a:off x="1378080" y="2955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8" name=""/>
          <p:cNvSpPr/>
          <p:nvPr/>
        </p:nvSpPr>
        <p:spPr>
          <a:xfrm>
            <a:off x="3840840" y="29368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9" name=""/>
          <p:cNvSpPr/>
          <p:nvPr/>
        </p:nvSpPr>
        <p:spPr>
          <a:xfrm>
            <a:off x="1392480" y="34894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0" name=""/>
          <p:cNvSpPr/>
          <p:nvPr/>
        </p:nvSpPr>
        <p:spPr>
          <a:xfrm>
            <a:off x="3854880" y="34704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1" name=""/>
          <p:cNvSpPr/>
          <p:nvPr/>
        </p:nvSpPr>
        <p:spPr>
          <a:xfrm>
            <a:off x="1407240" y="4708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2" name=""/>
          <p:cNvSpPr/>
          <p:nvPr/>
        </p:nvSpPr>
        <p:spPr>
          <a:xfrm>
            <a:off x="2293920" y="3946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3" name=""/>
          <p:cNvSpPr/>
          <p:nvPr/>
        </p:nvSpPr>
        <p:spPr>
          <a:xfrm>
            <a:off x="2895480" y="1371600"/>
            <a:ext cx="83844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4" name=""/>
          <p:cNvSpPr/>
          <p:nvPr/>
        </p:nvSpPr>
        <p:spPr>
          <a:xfrm>
            <a:off x="380988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5" name=""/>
          <p:cNvSpPr/>
          <p:nvPr/>
        </p:nvSpPr>
        <p:spPr>
          <a:xfrm>
            <a:off x="383868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6" name=""/>
          <p:cNvSpPr/>
          <p:nvPr/>
        </p:nvSpPr>
        <p:spPr>
          <a:xfrm>
            <a:off x="182880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7" name=""/>
          <p:cNvSpPr/>
          <p:nvPr/>
        </p:nvSpPr>
        <p:spPr>
          <a:xfrm>
            <a:off x="183816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8" name=""/>
          <p:cNvSpPr/>
          <p:nvPr/>
        </p:nvSpPr>
        <p:spPr>
          <a:xfrm>
            <a:off x="185724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9" name=""/>
          <p:cNvSpPr/>
          <p:nvPr/>
        </p:nvSpPr>
        <p:spPr>
          <a:xfrm flipH="1">
            <a:off x="2971800" y="3809880"/>
            <a:ext cx="87624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0" name=""/>
          <p:cNvSpPr/>
          <p:nvPr/>
        </p:nvSpPr>
        <p:spPr>
          <a:xfrm>
            <a:off x="1905120" y="380988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1" name=""/>
          <p:cNvSpPr/>
          <p:nvPr/>
        </p:nvSpPr>
        <p:spPr>
          <a:xfrm flipH="1">
            <a:off x="1980720" y="4267080"/>
            <a:ext cx="83844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2" name=""/>
          <p:cNvSpPr/>
          <p:nvPr/>
        </p:nvSpPr>
        <p:spPr>
          <a:xfrm>
            <a:off x="2895480" y="4267080"/>
            <a:ext cx="9144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43" name=""/>
          <p:cNvGrpSpPr/>
          <p:nvPr/>
        </p:nvGrpSpPr>
        <p:grpSpPr>
          <a:xfrm>
            <a:off x="4234680" y="441360"/>
            <a:ext cx="4459320" cy="4968720"/>
            <a:chOff x="4234680" y="441360"/>
            <a:chExt cx="4459320" cy="4968720"/>
          </a:xfrm>
        </p:grpSpPr>
        <p:sp>
          <p:nvSpPr>
            <p:cNvPr id="9244" name=""/>
            <p:cNvSpPr/>
            <p:nvPr/>
          </p:nvSpPr>
          <p:spPr>
            <a:xfrm>
              <a:off x="7315200" y="1905120"/>
              <a:ext cx="0" cy="3504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5" name=""/>
            <p:cNvSpPr/>
            <p:nvPr/>
          </p:nvSpPr>
          <p:spPr>
            <a:xfrm>
              <a:off x="7848720" y="1905120"/>
              <a:ext cx="0" cy="3504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6" name=""/>
            <p:cNvSpPr/>
            <p:nvPr/>
          </p:nvSpPr>
          <p:spPr>
            <a:xfrm>
              <a:off x="6554880" y="441360"/>
              <a:ext cx="213912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Found</a:t>
              </a:r>
              <a:br>
                <a:rPr sz="3000"/>
              </a:b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Not Handled</a:t>
              </a:r>
              <a:br>
                <a:rPr sz="3000"/>
              </a:b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Stack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7" name=""/>
            <p:cNvSpPr/>
            <p:nvPr/>
          </p:nvSpPr>
          <p:spPr>
            <a:xfrm>
              <a:off x="4234680" y="685800"/>
              <a:ext cx="15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Alg: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DF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48" name=""/>
          <p:cNvSpPr/>
          <p:nvPr/>
        </p:nvSpPr>
        <p:spPr>
          <a:xfrm>
            <a:off x="7392960" y="49370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9" name=""/>
          <p:cNvSpPr/>
          <p:nvPr/>
        </p:nvSpPr>
        <p:spPr>
          <a:xfrm>
            <a:off x="1781280" y="32004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0" name=""/>
          <p:cNvSpPr/>
          <p:nvPr/>
        </p:nvSpPr>
        <p:spPr>
          <a:xfrm>
            <a:off x="7393320" y="46324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1" name=""/>
          <p:cNvSpPr/>
          <p:nvPr/>
        </p:nvSpPr>
        <p:spPr>
          <a:xfrm>
            <a:off x="3869280" y="4689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2" name=""/>
          <p:cNvSpPr/>
          <p:nvPr/>
        </p:nvSpPr>
        <p:spPr>
          <a:xfrm>
            <a:off x="2819520" y="12952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3" name=""/>
          <p:cNvSpPr/>
          <p:nvPr/>
        </p:nvSpPr>
        <p:spPr>
          <a:xfrm>
            <a:off x="1752480" y="21337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4" name=""/>
          <p:cNvSpPr/>
          <p:nvPr/>
        </p:nvSpPr>
        <p:spPr>
          <a:xfrm>
            <a:off x="3733920" y="21366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5" name=""/>
          <p:cNvSpPr/>
          <p:nvPr/>
        </p:nvSpPr>
        <p:spPr>
          <a:xfrm>
            <a:off x="1766880" y="2666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6" name=""/>
          <p:cNvSpPr/>
          <p:nvPr/>
        </p:nvSpPr>
        <p:spPr>
          <a:xfrm>
            <a:off x="3762360" y="320364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7" name=""/>
          <p:cNvSpPr/>
          <p:nvPr/>
        </p:nvSpPr>
        <p:spPr>
          <a:xfrm>
            <a:off x="1795320" y="37339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8" name=""/>
          <p:cNvSpPr/>
          <p:nvPr/>
        </p:nvSpPr>
        <p:spPr>
          <a:xfrm>
            <a:off x="3776760" y="37368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9" name=""/>
          <p:cNvSpPr/>
          <p:nvPr/>
        </p:nvSpPr>
        <p:spPr>
          <a:xfrm>
            <a:off x="1809720" y="4952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0" name=""/>
          <p:cNvSpPr/>
          <p:nvPr/>
        </p:nvSpPr>
        <p:spPr>
          <a:xfrm>
            <a:off x="2819520" y="42069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1" name=""/>
          <p:cNvSpPr/>
          <p:nvPr/>
        </p:nvSpPr>
        <p:spPr>
          <a:xfrm>
            <a:off x="381960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2" name=""/>
          <p:cNvSpPr/>
          <p:nvPr/>
        </p:nvSpPr>
        <p:spPr>
          <a:xfrm>
            <a:off x="3809880" y="49528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3" name=""/>
          <p:cNvSpPr/>
          <p:nvPr/>
        </p:nvSpPr>
        <p:spPr>
          <a:xfrm>
            <a:off x="1672560" y="5257800"/>
            <a:ext cx="350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ake off stac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to backwards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4" name=""/>
          <p:cNvSpPr/>
          <p:nvPr/>
        </p:nvSpPr>
        <p:spPr>
          <a:xfrm>
            <a:off x="5478840" y="6156360"/>
            <a:ext cx="77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,l,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ear Or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66" name=""/>
          <p:cNvSpPr/>
          <p:nvPr/>
        </p:nvSpPr>
        <p:spPr>
          <a:xfrm>
            <a:off x="2543400" y="9748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7" name=""/>
          <p:cNvSpPr/>
          <p:nvPr/>
        </p:nvSpPr>
        <p:spPr>
          <a:xfrm flipH="1">
            <a:off x="1904760" y="1371600"/>
            <a:ext cx="99036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8" name=""/>
          <p:cNvSpPr/>
          <p:nvPr/>
        </p:nvSpPr>
        <p:spPr>
          <a:xfrm>
            <a:off x="1349640" y="1889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9" name=""/>
          <p:cNvSpPr/>
          <p:nvPr/>
        </p:nvSpPr>
        <p:spPr>
          <a:xfrm>
            <a:off x="3811680" y="1870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0" name=""/>
          <p:cNvSpPr/>
          <p:nvPr/>
        </p:nvSpPr>
        <p:spPr>
          <a:xfrm>
            <a:off x="1364040" y="2422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1" name=""/>
          <p:cNvSpPr/>
          <p:nvPr/>
        </p:nvSpPr>
        <p:spPr>
          <a:xfrm>
            <a:off x="3826440" y="2403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2" name=""/>
          <p:cNvSpPr/>
          <p:nvPr/>
        </p:nvSpPr>
        <p:spPr>
          <a:xfrm>
            <a:off x="3747960" y="2670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3" name=""/>
          <p:cNvSpPr/>
          <p:nvPr/>
        </p:nvSpPr>
        <p:spPr>
          <a:xfrm>
            <a:off x="1378080" y="2955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4" name=""/>
          <p:cNvSpPr/>
          <p:nvPr/>
        </p:nvSpPr>
        <p:spPr>
          <a:xfrm>
            <a:off x="3840840" y="29368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5" name=""/>
          <p:cNvSpPr/>
          <p:nvPr/>
        </p:nvSpPr>
        <p:spPr>
          <a:xfrm>
            <a:off x="1392480" y="34894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6" name=""/>
          <p:cNvSpPr/>
          <p:nvPr/>
        </p:nvSpPr>
        <p:spPr>
          <a:xfrm>
            <a:off x="3854880" y="34704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7" name=""/>
          <p:cNvSpPr/>
          <p:nvPr/>
        </p:nvSpPr>
        <p:spPr>
          <a:xfrm>
            <a:off x="1407240" y="4708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8" name=""/>
          <p:cNvSpPr/>
          <p:nvPr/>
        </p:nvSpPr>
        <p:spPr>
          <a:xfrm>
            <a:off x="2293920" y="3946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9" name=""/>
          <p:cNvSpPr/>
          <p:nvPr/>
        </p:nvSpPr>
        <p:spPr>
          <a:xfrm>
            <a:off x="2895480" y="1371600"/>
            <a:ext cx="83844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0" name=""/>
          <p:cNvSpPr/>
          <p:nvPr/>
        </p:nvSpPr>
        <p:spPr>
          <a:xfrm>
            <a:off x="380988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1" name=""/>
          <p:cNvSpPr/>
          <p:nvPr/>
        </p:nvSpPr>
        <p:spPr>
          <a:xfrm>
            <a:off x="383868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2" name=""/>
          <p:cNvSpPr/>
          <p:nvPr/>
        </p:nvSpPr>
        <p:spPr>
          <a:xfrm>
            <a:off x="182880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3" name=""/>
          <p:cNvSpPr/>
          <p:nvPr/>
        </p:nvSpPr>
        <p:spPr>
          <a:xfrm>
            <a:off x="183816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4" name=""/>
          <p:cNvSpPr/>
          <p:nvPr/>
        </p:nvSpPr>
        <p:spPr>
          <a:xfrm>
            <a:off x="185724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5" name=""/>
          <p:cNvSpPr/>
          <p:nvPr/>
        </p:nvSpPr>
        <p:spPr>
          <a:xfrm flipH="1">
            <a:off x="2971800" y="3809880"/>
            <a:ext cx="87624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6" name=""/>
          <p:cNvSpPr/>
          <p:nvPr/>
        </p:nvSpPr>
        <p:spPr>
          <a:xfrm>
            <a:off x="1905120" y="380988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7" name=""/>
          <p:cNvSpPr/>
          <p:nvPr/>
        </p:nvSpPr>
        <p:spPr>
          <a:xfrm flipH="1">
            <a:off x="1980720" y="4267080"/>
            <a:ext cx="83844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8" name=""/>
          <p:cNvSpPr/>
          <p:nvPr/>
        </p:nvSpPr>
        <p:spPr>
          <a:xfrm>
            <a:off x="2895480" y="4267080"/>
            <a:ext cx="9144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89" name=""/>
          <p:cNvGrpSpPr/>
          <p:nvPr/>
        </p:nvGrpSpPr>
        <p:grpSpPr>
          <a:xfrm>
            <a:off x="4234680" y="441360"/>
            <a:ext cx="4459320" cy="4968720"/>
            <a:chOff x="4234680" y="441360"/>
            <a:chExt cx="4459320" cy="4968720"/>
          </a:xfrm>
        </p:grpSpPr>
        <p:sp>
          <p:nvSpPr>
            <p:cNvPr id="9290" name=""/>
            <p:cNvSpPr/>
            <p:nvPr/>
          </p:nvSpPr>
          <p:spPr>
            <a:xfrm>
              <a:off x="7315200" y="1905120"/>
              <a:ext cx="0" cy="3504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1" name=""/>
            <p:cNvSpPr/>
            <p:nvPr/>
          </p:nvSpPr>
          <p:spPr>
            <a:xfrm>
              <a:off x="7848720" y="1905120"/>
              <a:ext cx="0" cy="3504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2" name=""/>
            <p:cNvSpPr/>
            <p:nvPr/>
          </p:nvSpPr>
          <p:spPr>
            <a:xfrm>
              <a:off x="6554880" y="441360"/>
              <a:ext cx="213912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Found</a:t>
              </a:r>
              <a:br>
                <a:rPr sz="3000"/>
              </a:b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Not Handled</a:t>
              </a:r>
              <a:br>
                <a:rPr sz="3000"/>
              </a:b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Stack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3" name=""/>
            <p:cNvSpPr/>
            <p:nvPr/>
          </p:nvSpPr>
          <p:spPr>
            <a:xfrm>
              <a:off x="4234680" y="685800"/>
              <a:ext cx="15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Alg: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DF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94" name=""/>
          <p:cNvSpPr/>
          <p:nvPr/>
        </p:nvSpPr>
        <p:spPr>
          <a:xfrm>
            <a:off x="7392960" y="49370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5" name=""/>
          <p:cNvSpPr/>
          <p:nvPr/>
        </p:nvSpPr>
        <p:spPr>
          <a:xfrm>
            <a:off x="1781280" y="32004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6" name=""/>
          <p:cNvSpPr/>
          <p:nvPr/>
        </p:nvSpPr>
        <p:spPr>
          <a:xfrm>
            <a:off x="3869280" y="4689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7" name=""/>
          <p:cNvSpPr/>
          <p:nvPr/>
        </p:nvSpPr>
        <p:spPr>
          <a:xfrm>
            <a:off x="2819520" y="12952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8" name=""/>
          <p:cNvSpPr/>
          <p:nvPr/>
        </p:nvSpPr>
        <p:spPr>
          <a:xfrm>
            <a:off x="1752480" y="21337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9" name=""/>
          <p:cNvSpPr/>
          <p:nvPr/>
        </p:nvSpPr>
        <p:spPr>
          <a:xfrm>
            <a:off x="3733920" y="21366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0" name=""/>
          <p:cNvSpPr/>
          <p:nvPr/>
        </p:nvSpPr>
        <p:spPr>
          <a:xfrm>
            <a:off x="1766880" y="2666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1" name=""/>
          <p:cNvSpPr/>
          <p:nvPr/>
        </p:nvSpPr>
        <p:spPr>
          <a:xfrm>
            <a:off x="3762360" y="320364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2" name=""/>
          <p:cNvSpPr/>
          <p:nvPr/>
        </p:nvSpPr>
        <p:spPr>
          <a:xfrm>
            <a:off x="1795320" y="37339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3" name=""/>
          <p:cNvSpPr/>
          <p:nvPr/>
        </p:nvSpPr>
        <p:spPr>
          <a:xfrm>
            <a:off x="3776760" y="37368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4" name=""/>
          <p:cNvSpPr/>
          <p:nvPr/>
        </p:nvSpPr>
        <p:spPr>
          <a:xfrm>
            <a:off x="1809720" y="4952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5" name=""/>
          <p:cNvSpPr/>
          <p:nvPr/>
        </p:nvSpPr>
        <p:spPr>
          <a:xfrm>
            <a:off x="2819520" y="42069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6" name=""/>
          <p:cNvSpPr/>
          <p:nvPr/>
        </p:nvSpPr>
        <p:spPr>
          <a:xfrm>
            <a:off x="381960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7" name=""/>
          <p:cNvSpPr/>
          <p:nvPr/>
        </p:nvSpPr>
        <p:spPr>
          <a:xfrm>
            <a:off x="3809880" y="49528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8" name=""/>
          <p:cNvSpPr/>
          <p:nvPr/>
        </p:nvSpPr>
        <p:spPr>
          <a:xfrm>
            <a:off x="1672560" y="5257800"/>
            <a:ext cx="350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ake off stac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to backwards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9" name=""/>
          <p:cNvSpPr/>
          <p:nvPr/>
        </p:nvSpPr>
        <p:spPr>
          <a:xfrm>
            <a:off x="5213880" y="6156360"/>
            <a:ext cx="1038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,g,l,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ear Or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11" name=""/>
          <p:cNvSpPr/>
          <p:nvPr/>
        </p:nvSpPr>
        <p:spPr>
          <a:xfrm>
            <a:off x="2543400" y="9748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2" name=""/>
          <p:cNvSpPr/>
          <p:nvPr/>
        </p:nvSpPr>
        <p:spPr>
          <a:xfrm flipH="1">
            <a:off x="1904760" y="1371600"/>
            <a:ext cx="99036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3" name=""/>
          <p:cNvSpPr/>
          <p:nvPr/>
        </p:nvSpPr>
        <p:spPr>
          <a:xfrm>
            <a:off x="1349640" y="1889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4" name=""/>
          <p:cNvSpPr/>
          <p:nvPr/>
        </p:nvSpPr>
        <p:spPr>
          <a:xfrm>
            <a:off x="3811680" y="1870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5" name=""/>
          <p:cNvSpPr/>
          <p:nvPr/>
        </p:nvSpPr>
        <p:spPr>
          <a:xfrm>
            <a:off x="1364040" y="2422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6" name=""/>
          <p:cNvSpPr/>
          <p:nvPr/>
        </p:nvSpPr>
        <p:spPr>
          <a:xfrm>
            <a:off x="3826440" y="2403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7" name=""/>
          <p:cNvSpPr/>
          <p:nvPr/>
        </p:nvSpPr>
        <p:spPr>
          <a:xfrm>
            <a:off x="3747960" y="2670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8" name=""/>
          <p:cNvSpPr/>
          <p:nvPr/>
        </p:nvSpPr>
        <p:spPr>
          <a:xfrm>
            <a:off x="1378080" y="2955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9" name=""/>
          <p:cNvSpPr/>
          <p:nvPr/>
        </p:nvSpPr>
        <p:spPr>
          <a:xfrm>
            <a:off x="3840840" y="29368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0" name=""/>
          <p:cNvSpPr/>
          <p:nvPr/>
        </p:nvSpPr>
        <p:spPr>
          <a:xfrm>
            <a:off x="1392480" y="34894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1" name=""/>
          <p:cNvSpPr/>
          <p:nvPr/>
        </p:nvSpPr>
        <p:spPr>
          <a:xfrm>
            <a:off x="3854880" y="34704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2" name=""/>
          <p:cNvSpPr/>
          <p:nvPr/>
        </p:nvSpPr>
        <p:spPr>
          <a:xfrm>
            <a:off x="1407240" y="4708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3" name=""/>
          <p:cNvSpPr/>
          <p:nvPr/>
        </p:nvSpPr>
        <p:spPr>
          <a:xfrm>
            <a:off x="2293920" y="3946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4" name=""/>
          <p:cNvSpPr/>
          <p:nvPr/>
        </p:nvSpPr>
        <p:spPr>
          <a:xfrm>
            <a:off x="2895480" y="1371600"/>
            <a:ext cx="83844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5" name=""/>
          <p:cNvSpPr/>
          <p:nvPr/>
        </p:nvSpPr>
        <p:spPr>
          <a:xfrm>
            <a:off x="380988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6" name=""/>
          <p:cNvSpPr/>
          <p:nvPr/>
        </p:nvSpPr>
        <p:spPr>
          <a:xfrm>
            <a:off x="383868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7" name=""/>
          <p:cNvSpPr/>
          <p:nvPr/>
        </p:nvSpPr>
        <p:spPr>
          <a:xfrm>
            <a:off x="182880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8" name=""/>
          <p:cNvSpPr/>
          <p:nvPr/>
        </p:nvSpPr>
        <p:spPr>
          <a:xfrm>
            <a:off x="183816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9" name=""/>
          <p:cNvSpPr/>
          <p:nvPr/>
        </p:nvSpPr>
        <p:spPr>
          <a:xfrm>
            <a:off x="185724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0" name=""/>
          <p:cNvSpPr/>
          <p:nvPr/>
        </p:nvSpPr>
        <p:spPr>
          <a:xfrm flipH="1">
            <a:off x="2971800" y="3809880"/>
            <a:ext cx="87624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1" name=""/>
          <p:cNvSpPr/>
          <p:nvPr/>
        </p:nvSpPr>
        <p:spPr>
          <a:xfrm>
            <a:off x="1905120" y="380988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2" name=""/>
          <p:cNvSpPr/>
          <p:nvPr/>
        </p:nvSpPr>
        <p:spPr>
          <a:xfrm flipH="1">
            <a:off x="1980720" y="4267080"/>
            <a:ext cx="83844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3" name=""/>
          <p:cNvSpPr/>
          <p:nvPr/>
        </p:nvSpPr>
        <p:spPr>
          <a:xfrm>
            <a:off x="2895480" y="4267080"/>
            <a:ext cx="9144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34" name=""/>
          <p:cNvGrpSpPr/>
          <p:nvPr/>
        </p:nvGrpSpPr>
        <p:grpSpPr>
          <a:xfrm>
            <a:off x="4234680" y="441360"/>
            <a:ext cx="4459320" cy="4968720"/>
            <a:chOff x="4234680" y="441360"/>
            <a:chExt cx="4459320" cy="4968720"/>
          </a:xfrm>
        </p:grpSpPr>
        <p:sp>
          <p:nvSpPr>
            <p:cNvPr id="9335" name=""/>
            <p:cNvSpPr/>
            <p:nvPr/>
          </p:nvSpPr>
          <p:spPr>
            <a:xfrm>
              <a:off x="7315200" y="1905120"/>
              <a:ext cx="0" cy="3504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6" name=""/>
            <p:cNvSpPr/>
            <p:nvPr/>
          </p:nvSpPr>
          <p:spPr>
            <a:xfrm>
              <a:off x="7848720" y="1905120"/>
              <a:ext cx="0" cy="3504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7" name=""/>
            <p:cNvSpPr/>
            <p:nvPr/>
          </p:nvSpPr>
          <p:spPr>
            <a:xfrm>
              <a:off x="6554880" y="441360"/>
              <a:ext cx="213912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Found</a:t>
              </a:r>
              <a:br>
                <a:rPr sz="3000"/>
              </a:b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Not Handled</a:t>
              </a:r>
              <a:br>
                <a:rPr sz="3000"/>
              </a:b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Stack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8" name=""/>
            <p:cNvSpPr/>
            <p:nvPr/>
          </p:nvSpPr>
          <p:spPr>
            <a:xfrm>
              <a:off x="4234680" y="685800"/>
              <a:ext cx="15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Alg: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DF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39" name=""/>
          <p:cNvSpPr/>
          <p:nvPr/>
        </p:nvSpPr>
        <p:spPr>
          <a:xfrm>
            <a:off x="1781280" y="32004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0" name=""/>
          <p:cNvSpPr/>
          <p:nvPr/>
        </p:nvSpPr>
        <p:spPr>
          <a:xfrm>
            <a:off x="3869280" y="4689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1" name=""/>
          <p:cNvSpPr/>
          <p:nvPr/>
        </p:nvSpPr>
        <p:spPr>
          <a:xfrm>
            <a:off x="2819520" y="12952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2" name=""/>
          <p:cNvSpPr/>
          <p:nvPr/>
        </p:nvSpPr>
        <p:spPr>
          <a:xfrm>
            <a:off x="1752480" y="21337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3" name=""/>
          <p:cNvSpPr/>
          <p:nvPr/>
        </p:nvSpPr>
        <p:spPr>
          <a:xfrm>
            <a:off x="3733920" y="21366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4" name=""/>
          <p:cNvSpPr/>
          <p:nvPr/>
        </p:nvSpPr>
        <p:spPr>
          <a:xfrm>
            <a:off x="1766880" y="2666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5" name=""/>
          <p:cNvSpPr/>
          <p:nvPr/>
        </p:nvSpPr>
        <p:spPr>
          <a:xfrm>
            <a:off x="3762360" y="320364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6" name=""/>
          <p:cNvSpPr/>
          <p:nvPr/>
        </p:nvSpPr>
        <p:spPr>
          <a:xfrm>
            <a:off x="1795320" y="37339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7" name=""/>
          <p:cNvSpPr/>
          <p:nvPr/>
        </p:nvSpPr>
        <p:spPr>
          <a:xfrm>
            <a:off x="3776760" y="37368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8" name=""/>
          <p:cNvSpPr/>
          <p:nvPr/>
        </p:nvSpPr>
        <p:spPr>
          <a:xfrm>
            <a:off x="1809720" y="4952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9" name=""/>
          <p:cNvSpPr/>
          <p:nvPr/>
        </p:nvSpPr>
        <p:spPr>
          <a:xfrm>
            <a:off x="2819520" y="42069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0" name=""/>
          <p:cNvSpPr/>
          <p:nvPr/>
        </p:nvSpPr>
        <p:spPr>
          <a:xfrm>
            <a:off x="381960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1" name=""/>
          <p:cNvSpPr/>
          <p:nvPr/>
        </p:nvSpPr>
        <p:spPr>
          <a:xfrm>
            <a:off x="3809880" y="49528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2" name=""/>
          <p:cNvSpPr/>
          <p:nvPr/>
        </p:nvSpPr>
        <p:spPr>
          <a:xfrm>
            <a:off x="1672560" y="5257800"/>
            <a:ext cx="350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ake off stac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to backwards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3" name=""/>
          <p:cNvSpPr/>
          <p:nvPr/>
        </p:nvSpPr>
        <p:spPr>
          <a:xfrm>
            <a:off x="4927680" y="6156360"/>
            <a:ext cx="132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,e,g,l,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ear Or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55" name=""/>
          <p:cNvSpPr/>
          <p:nvPr/>
        </p:nvSpPr>
        <p:spPr>
          <a:xfrm>
            <a:off x="2543400" y="9748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6" name=""/>
          <p:cNvSpPr/>
          <p:nvPr/>
        </p:nvSpPr>
        <p:spPr>
          <a:xfrm flipH="1">
            <a:off x="1904760" y="1371600"/>
            <a:ext cx="99036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7" name=""/>
          <p:cNvSpPr/>
          <p:nvPr/>
        </p:nvSpPr>
        <p:spPr>
          <a:xfrm>
            <a:off x="1349640" y="1889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8" name=""/>
          <p:cNvSpPr/>
          <p:nvPr/>
        </p:nvSpPr>
        <p:spPr>
          <a:xfrm>
            <a:off x="3811680" y="1870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9" name=""/>
          <p:cNvSpPr/>
          <p:nvPr/>
        </p:nvSpPr>
        <p:spPr>
          <a:xfrm>
            <a:off x="1364040" y="2422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0" name=""/>
          <p:cNvSpPr/>
          <p:nvPr/>
        </p:nvSpPr>
        <p:spPr>
          <a:xfrm>
            <a:off x="3826440" y="2403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1" name=""/>
          <p:cNvSpPr/>
          <p:nvPr/>
        </p:nvSpPr>
        <p:spPr>
          <a:xfrm>
            <a:off x="1378080" y="2955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2" name=""/>
          <p:cNvSpPr/>
          <p:nvPr/>
        </p:nvSpPr>
        <p:spPr>
          <a:xfrm>
            <a:off x="3840840" y="29368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3" name=""/>
          <p:cNvSpPr/>
          <p:nvPr/>
        </p:nvSpPr>
        <p:spPr>
          <a:xfrm>
            <a:off x="1392480" y="34894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4" name=""/>
          <p:cNvSpPr/>
          <p:nvPr/>
        </p:nvSpPr>
        <p:spPr>
          <a:xfrm>
            <a:off x="3854880" y="34704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5" name=""/>
          <p:cNvSpPr/>
          <p:nvPr/>
        </p:nvSpPr>
        <p:spPr>
          <a:xfrm>
            <a:off x="1407240" y="4708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6" name=""/>
          <p:cNvSpPr/>
          <p:nvPr/>
        </p:nvSpPr>
        <p:spPr>
          <a:xfrm>
            <a:off x="2293920" y="3946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7" name=""/>
          <p:cNvSpPr/>
          <p:nvPr/>
        </p:nvSpPr>
        <p:spPr>
          <a:xfrm>
            <a:off x="2895480" y="1371600"/>
            <a:ext cx="83844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8" name=""/>
          <p:cNvSpPr/>
          <p:nvPr/>
        </p:nvSpPr>
        <p:spPr>
          <a:xfrm>
            <a:off x="380988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9" name=""/>
          <p:cNvSpPr/>
          <p:nvPr/>
        </p:nvSpPr>
        <p:spPr>
          <a:xfrm>
            <a:off x="383868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0" name=""/>
          <p:cNvSpPr/>
          <p:nvPr/>
        </p:nvSpPr>
        <p:spPr>
          <a:xfrm>
            <a:off x="182880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1" name=""/>
          <p:cNvSpPr/>
          <p:nvPr/>
        </p:nvSpPr>
        <p:spPr>
          <a:xfrm>
            <a:off x="183816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2" name=""/>
          <p:cNvSpPr/>
          <p:nvPr/>
        </p:nvSpPr>
        <p:spPr>
          <a:xfrm>
            <a:off x="185724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3" name=""/>
          <p:cNvSpPr/>
          <p:nvPr/>
        </p:nvSpPr>
        <p:spPr>
          <a:xfrm flipH="1">
            <a:off x="2971800" y="3809880"/>
            <a:ext cx="87624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4" name=""/>
          <p:cNvSpPr/>
          <p:nvPr/>
        </p:nvSpPr>
        <p:spPr>
          <a:xfrm>
            <a:off x="1905120" y="380988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5" name=""/>
          <p:cNvSpPr/>
          <p:nvPr/>
        </p:nvSpPr>
        <p:spPr>
          <a:xfrm flipH="1">
            <a:off x="1980720" y="4267080"/>
            <a:ext cx="83844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6" name=""/>
          <p:cNvSpPr/>
          <p:nvPr/>
        </p:nvSpPr>
        <p:spPr>
          <a:xfrm>
            <a:off x="2895480" y="4267080"/>
            <a:ext cx="9144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77" name=""/>
          <p:cNvGrpSpPr/>
          <p:nvPr/>
        </p:nvGrpSpPr>
        <p:grpSpPr>
          <a:xfrm>
            <a:off x="4234680" y="441360"/>
            <a:ext cx="4459320" cy="4968720"/>
            <a:chOff x="4234680" y="441360"/>
            <a:chExt cx="4459320" cy="4968720"/>
          </a:xfrm>
        </p:grpSpPr>
        <p:sp>
          <p:nvSpPr>
            <p:cNvPr id="9378" name=""/>
            <p:cNvSpPr/>
            <p:nvPr/>
          </p:nvSpPr>
          <p:spPr>
            <a:xfrm>
              <a:off x="7315200" y="1905120"/>
              <a:ext cx="0" cy="3504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9" name=""/>
            <p:cNvSpPr/>
            <p:nvPr/>
          </p:nvSpPr>
          <p:spPr>
            <a:xfrm>
              <a:off x="7848720" y="1905120"/>
              <a:ext cx="0" cy="3504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0" name=""/>
            <p:cNvSpPr/>
            <p:nvPr/>
          </p:nvSpPr>
          <p:spPr>
            <a:xfrm>
              <a:off x="6554880" y="441360"/>
              <a:ext cx="213912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Found</a:t>
              </a:r>
              <a:br>
                <a:rPr sz="3000"/>
              </a:b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Not Handled</a:t>
              </a:r>
              <a:br>
                <a:rPr sz="3000"/>
              </a:b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Stack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1" name=""/>
            <p:cNvSpPr/>
            <p:nvPr/>
          </p:nvSpPr>
          <p:spPr>
            <a:xfrm>
              <a:off x="4234680" y="685800"/>
              <a:ext cx="15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Alg: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DF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82" name=""/>
          <p:cNvSpPr/>
          <p:nvPr/>
        </p:nvSpPr>
        <p:spPr>
          <a:xfrm>
            <a:off x="1781280" y="32004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3" name=""/>
          <p:cNvSpPr/>
          <p:nvPr/>
        </p:nvSpPr>
        <p:spPr>
          <a:xfrm>
            <a:off x="7431840" y="48610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4" name=""/>
          <p:cNvSpPr/>
          <p:nvPr/>
        </p:nvSpPr>
        <p:spPr>
          <a:xfrm>
            <a:off x="3869280" y="4689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5" name=""/>
          <p:cNvSpPr/>
          <p:nvPr/>
        </p:nvSpPr>
        <p:spPr>
          <a:xfrm>
            <a:off x="2819520" y="12952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6" name=""/>
          <p:cNvSpPr/>
          <p:nvPr/>
        </p:nvSpPr>
        <p:spPr>
          <a:xfrm>
            <a:off x="1752480" y="21337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7" name=""/>
          <p:cNvSpPr/>
          <p:nvPr/>
        </p:nvSpPr>
        <p:spPr>
          <a:xfrm>
            <a:off x="3733920" y="21366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8" name=""/>
          <p:cNvSpPr/>
          <p:nvPr/>
        </p:nvSpPr>
        <p:spPr>
          <a:xfrm>
            <a:off x="1766880" y="2666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9" name=""/>
          <p:cNvSpPr/>
          <p:nvPr/>
        </p:nvSpPr>
        <p:spPr>
          <a:xfrm>
            <a:off x="3762360" y="320364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0" name=""/>
          <p:cNvSpPr/>
          <p:nvPr/>
        </p:nvSpPr>
        <p:spPr>
          <a:xfrm>
            <a:off x="1795320" y="37339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1" name=""/>
          <p:cNvSpPr/>
          <p:nvPr/>
        </p:nvSpPr>
        <p:spPr>
          <a:xfrm>
            <a:off x="3776760" y="37368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2" name=""/>
          <p:cNvSpPr/>
          <p:nvPr/>
        </p:nvSpPr>
        <p:spPr>
          <a:xfrm>
            <a:off x="1809720" y="4952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3" name=""/>
          <p:cNvSpPr/>
          <p:nvPr/>
        </p:nvSpPr>
        <p:spPr>
          <a:xfrm>
            <a:off x="2819520" y="42069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4" name=""/>
          <p:cNvSpPr/>
          <p:nvPr/>
        </p:nvSpPr>
        <p:spPr>
          <a:xfrm>
            <a:off x="381960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5" name=""/>
          <p:cNvSpPr/>
          <p:nvPr/>
        </p:nvSpPr>
        <p:spPr>
          <a:xfrm>
            <a:off x="3809880" y="49528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6" name=""/>
          <p:cNvSpPr/>
          <p:nvPr/>
        </p:nvSpPr>
        <p:spPr>
          <a:xfrm>
            <a:off x="1672560" y="5257800"/>
            <a:ext cx="350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ake off stac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to backwards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7" name=""/>
          <p:cNvSpPr/>
          <p:nvPr/>
        </p:nvSpPr>
        <p:spPr>
          <a:xfrm>
            <a:off x="4927680" y="6156360"/>
            <a:ext cx="132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,e,g,l,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8" name=""/>
          <p:cNvSpPr/>
          <p:nvPr/>
        </p:nvSpPr>
        <p:spPr>
          <a:xfrm>
            <a:off x="7412760" y="43909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9" name=""/>
          <p:cNvSpPr/>
          <p:nvPr/>
        </p:nvSpPr>
        <p:spPr>
          <a:xfrm>
            <a:off x="7393320" y="39211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0" name=""/>
          <p:cNvSpPr/>
          <p:nvPr/>
        </p:nvSpPr>
        <p:spPr>
          <a:xfrm>
            <a:off x="3747960" y="2670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fill="hold">
                      <p:stCondLst>
                        <p:cond delay="0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9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9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9" dur="500" fill="hold"/>
                                        <p:tgtEl>
                                          <p:spTgt spid="9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0" dur="500" fill="hold"/>
                                        <p:tgtEl>
                                          <p:spTgt spid="9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9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9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8" dur="500" fill="hold"/>
                                        <p:tgtEl>
                                          <p:spTgt spid="9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9" dur="500" fill="hold"/>
                                        <p:tgtEl>
                                          <p:spTgt spid="9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9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9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7" dur="500" fill="hold"/>
                                        <p:tgtEl>
                                          <p:spTgt spid="9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48" dur="500" fill="hold"/>
                                        <p:tgtEl>
                                          <p:spTgt spid="9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ear Or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02" name=""/>
          <p:cNvSpPr/>
          <p:nvPr/>
        </p:nvSpPr>
        <p:spPr>
          <a:xfrm>
            <a:off x="2543400" y="9748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3" name=""/>
          <p:cNvSpPr/>
          <p:nvPr/>
        </p:nvSpPr>
        <p:spPr>
          <a:xfrm flipH="1">
            <a:off x="1904760" y="1371600"/>
            <a:ext cx="99036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4" name=""/>
          <p:cNvSpPr/>
          <p:nvPr/>
        </p:nvSpPr>
        <p:spPr>
          <a:xfrm>
            <a:off x="1349640" y="1889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5" name=""/>
          <p:cNvSpPr/>
          <p:nvPr/>
        </p:nvSpPr>
        <p:spPr>
          <a:xfrm>
            <a:off x="3811680" y="1870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6" name=""/>
          <p:cNvSpPr/>
          <p:nvPr/>
        </p:nvSpPr>
        <p:spPr>
          <a:xfrm>
            <a:off x="1364040" y="2422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7" name=""/>
          <p:cNvSpPr/>
          <p:nvPr/>
        </p:nvSpPr>
        <p:spPr>
          <a:xfrm>
            <a:off x="3826440" y="2403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8" name=""/>
          <p:cNvSpPr/>
          <p:nvPr/>
        </p:nvSpPr>
        <p:spPr>
          <a:xfrm>
            <a:off x="1378080" y="2955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9" name=""/>
          <p:cNvSpPr/>
          <p:nvPr/>
        </p:nvSpPr>
        <p:spPr>
          <a:xfrm>
            <a:off x="3840840" y="29368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0" name=""/>
          <p:cNvSpPr/>
          <p:nvPr/>
        </p:nvSpPr>
        <p:spPr>
          <a:xfrm>
            <a:off x="1392480" y="34894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1" name=""/>
          <p:cNvSpPr/>
          <p:nvPr/>
        </p:nvSpPr>
        <p:spPr>
          <a:xfrm>
            <a:off x="3854880" y="34704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2" name=""/>
          <p:cNvSpPr/>
          <p:nvPr/>
        </p:nvSpPr>
        <p:spPr>
          <a:xfrm>
            <a:off x="1407240" y="4708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3" name=""/>
          <p:cNvSpPr/>
          <p:nvPr/>
        </p:nvSpPr>
        <p:spPr>
          <a:xfrm>
            <a:off x="2293920" y="3946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4" name=""/>
          <p:cNvSpPr/>
          <p:nvPr/>
        </p:nvSpPr>
        <p:spPr>
          <a:xfrm>
            <a:off x="2895480" y="1371600"/>
            <a:ext cx="83844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5" name=""/>
          <p:cNvSpPr/>
          <p:nvPr/>
        </p:nvSpPr>
        <p:spPr>
          <a:xfrm>
            <a:off x="380988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6" name=""/>
          <p:cNvSpPr/>
          <p:nvPr/>
        </p:nvSpPr>
        <p:spPr>
          <a:xfrm>
            <a:off x="383868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7" name=""/>
          <p:cNvSpPr/>
          <p:nvPr/>
        </p:nvSpPr>
        <p:spPr>
          <a:xfrm>
            <a:off x="182880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8" name=""/>
          <p:cNvSpPr/>
          <p:nvPr/>
        </p:nvSpPr>
        <p:spPr>
          <a:xfrm>
            <a:off x="183816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9" name=""/>
          <p:cNvSpPr/>
          <p:nvPr/>
        </p:nvSpPr>
        <p:spPr>
          <a:xfrm>
            <a:off x="185724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0" name=""/>
          <p:cNvSpPr/>
          <p:nvPr/>
        </p:nvSpPr>
        <p:spPr>
          <a:xfrm flipH="1">
            <a:off x="2971800" y="3809880"/>
            <a:ext cx="87624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1" name=""/>
          <p:cNvSpPr/>
          <p:nvPr/>
        </p:nvSpPr>
        <p:spPr>
          <a:xfrm>
            <a:off x="1905120" y="380988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2" name=""/>
          <p:cNvSpPr/>
          <p:nvPr/>
        </p:nvSpPr>
        <p:spPr>
          <a:xfrm flipH="1">
            <a:off x="1980720" y="4267080"/>
            <a:ext cx="83844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3" name=""/>
          <p:cNvSpPr/>
          <p:nvPr/>
        </p:nvSpPr>
        <p:spPr>
          <a:xfrm>
            <a:off x="2895480" y="4267080"/>
            <a:ext cx="9144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24" name=""/>
          <p:cNvGrpSpPr/>
          <p:nvPr/>
        </p:nvGrpSpPr>
        <p:grpSpPr>
          <a:xfrm>
            <a:off x="4234680" y="441360"/>
            <a:ext cx="4459320" cy="4968720"/>
            <a:chOff x="4234680" y="441360"/>
            <a:chExt cx="4459320" cy="4968720"/>
          </a:xfrm>
        </p:grpSpPr>
        <p:sp>
          <p:nvSpPr>
            <p:cNvPr id="9425" name=""/>
            <p:cNvSpPr/>
            <p:nvPr/>
          </p:nvSpPr>
          <p:spPr>
            <a:xfrm>
              <a:off x="7315200" y="1905120"/>
              <a:ext cx="0" cy="3504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6" name=""/>
            <p:cNvSpPr/>
            <p:nvPr/>
          </p:nvSpPr>
          <p:spPr>
            <a:xfrm>
              <a:off x="7848720" y="1905120"/>
              <a:ext cx="0" cy="3504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7" name=""/>
            <p:cNvSpPr/>
            <p:nvPr/>
          </p:nvSpPr>
          <p:spPr>
            <a:xfrm>
              <a:off x="6554880" y="441360"/>
              <a:ext cx="213912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Found</a:t>
              </a:r>
              <a:br>
                <a:rPr sz="3000"/>
              </a:b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Not Handled</a:t>
              </a:r>
              <a:br>
                <a:rPr sz="3000"/>
              </a:b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Stack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8" name=""/>
            <p:cNvSpPr/>
            <p:nvPr/>
          </p:nvSpPr>
          <p:spPr>
            <a:xfrm>
              <a:off x="4234680" y="685800"/>
              <a:ext cx="15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Alg: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DF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29" name=""/>
          <p:cNvSpPr/>
          <p:nvPr/>
        </p:nvSpPr>
        <p:spPr>
          <a:xfrm>
            <a:off x="1781280" y="32004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0" name=""/>
          <p:cNvSpPr/>
          <p:nvPr/>
        </p:nvSpPr>
        <p:spPr>
          <a:xfrm>
            <a:off x="7431840" y="48610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1" name=""/>
          <p:cNvSpPr/>
          <p:nvPr/>
        </p:nvSpPr>
        <p:spPr>
          <a:xfrm>
            <a:off x="3869280" y="4689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2" name=""/>
          <p:cNvSpPr/>
          <p:nvPr/>
        </p:nvSpPr>
        <p:spPr>
          <a:xfrm>
            <a:off x="2819520" y="12952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3" name=""/>
          <p:cNvSpPr/>
          <p:nvPr/>
        </p:nvSpPr>
        <p:spPr>
          <a:xfrm>
            <a:off x="1752480" y="21337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4" name=""/>
          <p:cNvSpPr/>
          <p:nvPr/>
        </p:nvSpPr>
        <p:spPr>
          <a:xfrm>
            <a:off x="3733920" y="21366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5" name=""/>
          <p:cNvSpPr/>
          <p:nvPr/>
        </p:nvSpPr>
        <p:spPr>
          <a:xfrm>
            <a:off x="1766880" y="2666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6" name=""/>
          <p:cNvSpPr/>
          <p:nvPr/>
        </p:nvSpPr>
        <p:spPr>
          <a:xfrm>
            <a:off x="3762360" y="320364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7" name=""/>
          <p:cNvSpPr/>
          <p:nvPr/>
        </p:nvSpPr>
        <p:spPr>
          <a:xfrm>
            <a:off x="1795320" y="37339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8" name=""/>
          <p:cNvSpPr/>
          <p:nvPr/>
        </p:nvSpPr>
        <p:spPr>
          <a:xfrm>
            <a:off x="3776760" y="373680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9" name=""/>
          <p:cNvSpPr/>
          <p:nvPr/>
        </p:nvSpPr>
        <p:spPr>
          <a:xfrm>
            <a:off x="1809720" y="4952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0" name=""/>
          <p:cNvSpPr/>
          <p:nvPr/>
        </p:nvSpPr>
        <p:spPr>
          <a:xfrm>
            <a:off x="2819520" y="42069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1" name=""/>
          <p:cNvSpPr/>
          <p:nvPr/>
        </p:nvSpPr>
        <p:spPr>
          <a:xfrm>
            <a:off x="381960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2" name=""/>
          <p:cNvSpPr/>
          <p:nvPr/>
        </p:nvSpPr>
        <p:spPr>
          <a:xfrm>
            <a:off x="3809880" y="49528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3" name=""/>
          <p:cNvSpPr/>
          <p:nvPr/>
        </p:nvSpPr>
        <p:spPr>
          <a:xfrm>
            <a:off x="1672560" y="5257800"/>
            <a:ext cx="350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ake off stac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to backwards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4" name=""/>
          <p:cNvSpPr/>
          <p:nvPr/>
        </p:nvSpPr>
        <p:spPr>
          <a:xfrm>
            <a:off x="4662360" y="6156360"/>
            <a:ext cx="159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,d,e,g,l,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5" name=""/>
          <p:cNvSpPr/>
          <p:nvPr/>
        </p:nvSpPr>
        <p:spPr>
          <a:xfrm>
            <a:off x="7412760" y="43909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6" name=""/>
          <p:cNvSpPr/>
          <p:nvPr/>
        </p:nvSpPr>
        <p:spPr>
          <a:xfrm>
            <a:off x="3747960" y="26701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ear Or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48" name=""/>
          <p:cNvSpPr/>
          <p:nvPr/>
        </p:nvSpPr>
        <p:spPr>
          <a:xfrm>
            <a:off x="2543400" y="9748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9" name=""/>
          <p:cNvSpPr/>
          <p:nvPr/>
        </p:nvSpPr>
        <p:spPr>
          <a:xfrm flipH="1">
            <a:off x="1904760" y="1371600"/>
            <a:ext cx="99036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0" name=""/>
          <p:cNvSpPr/>
          <p:nvPr/>
        </p:nvSpPr>
        <p:spPr>
          <a:xfrm>
            <a:off x="1349640" y="1889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1" name=""/>
          <p:cNvSpPr/>
          <p:nvPr/>
        </p:nvSpPr>
        <p:spPr>
          <a:xfrm>
            <a:off x="3811680" y="1870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2" name=""/>
          <p:cNvSpPr/>
          <p:nvPr/>
        </p:nvSpPr>
        <p:spPr>
          <a:xfrm>
            <a:off x="1364040" y="2422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3" name=""/>
          <p:cNvSpPr/>
          <p:nvPr/>
        </p:nvSpPr>
        <p:spPr>
          <a:xfrm>
            <a:off x="3826440" y="2403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4" name=""/>
          <p:cNvSpPr/>
          <p:nvPr/>
        </p:nvSpPr>
        <p:spPr>
          <a:xfrm>
            <a:off x="1378080" y="2955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5" name=""/>
          <p:cNvSpPr/>
          <p:nvPr/>
        </p:nvSpPr>
        <p:spPr>
          <a:xfrm>
            <a:off x="3840840" y="29368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6" name=""/>
          <p:cNvSpPr/>
          <p:nvPr/>
        </p:nvSpPr>
        <p:spPr>
          <a:xfrm>
            <a:off x="1392480" y="34894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7" name=""/>
          <p:cNvSpPr/>
          <p:nvPr/>
        </p:nvSpPr>
        <p:spPr>
          <a:xfrm>
            <a:off x="3854880" y="34704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8" name=""/>
          <p:cNvSpPr/>
          <p:nvPr/>
        </p:nvSpPr>
        <p:spPr>
          <a:xfrm>
            <a:off x="1407240" y="4708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9" name=""/>
          <p:cNvSpPr/>
          <p:nvPr/>
        </p:nvSpPr>
        <p:spPr>
          <a:xfrm>
            <a:off x="2293920" y="3946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0" name=""/>
          <p:cNvSpPr/>
          <p:nvPr/>
        </p:nvSpPr>
        <p:spPr>
          <a:xfrm>
            <a:off x="2895480" y="1371600"/>
            <a:ext cx="83844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1" name=""/>
          <p:cNvSpPr/>
          <p:nvPr/>
        </p:nvSpPr>
        <p:spPr>
          <a:xfrm>
            <a:off x="380988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2" name=""/>
          <p:cNvSpPr/>
          <p:nvPr/>
        </p:nvSpPr>
        <p:spPr>
          <a:xfrm>
            <a:off x="383868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3" name=""/>
          <p:cNvSpPr/>
          <p:nvPr/>
        </p:nvSpPr>
        <p:spPr>
          <a:xfrm>
            <a:off x="182880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4" name=""/>
          <p:cNvSpPr/>
          <p:nvPr/>
        </p:nvSpPr>
        <p:spPr>
          <a:xfrm>
            <a:off x="183816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5" name=""/>
          <p:cNvSpPr/>
          <p:nvPr/>
        </p:nvSpPr>
        <p:spPr>
          <a:xfrm>
            <a:off x="185724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6" name=""/>
          <p:cNvSpPr/>
          <p:nvPr/>
        </p:nvSpPr>
        <p:spPr>
          <a:xfrm flipH="1">
            <a:off x="2971800" y="3809880"/>
            <a:ext cx="87624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7" name=""/>
          <p:cNvSpPr/>
          <p:nvPr/>
        </p:nvSpPr>
        <p:spPr>
          <a:xfrm>
            <a:off x="1905120" y="380988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8" name=""/>
          <p:cNvSpPr/>
          <p:nvPr/>
        </p:nvSpPr>
        <p:spPr>
          <a:xfrm flipH="1">
            <a:off x="1980720" y="4267080"/>
            <a:ext cx="83844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9" name=""/>
          <p:cNvSpPr/>
          <p:nvPr/>
        </p:nvSpPr>
        <p:spPr>
          <a:xfrm>
            <a:off x="2895480" y="4267080"/>
            <a:ext cx="9144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70" name=""/>
          <p:cNvGrpSpPr/>
          <p:nvPr/>
        </p:nvGrpSpPr>
        <p:grpSpPr>
          <a:xfrm>
            <a:off x="4234680" y="441360"/>
            <a:ext cx="4459320" cy="4968720"/>
            <a:chOff x="4234680" y="441360"/>
            <a:chExt cx="4459320" cy="4968720"/>
          </a:xfrm>
        </p:grpSpPr>
        <p:sp>
          <p:nvSpPr>
            <p:cNvPr id="9471" name=""/>
            <p:cNvSpPr/>
            <p:nvPr/>
          </p:nvSpPr>
          <p:spPr>
            <a:xfrm>
              <a:off x="7315200" y="1905120"/>
              <a:ext cx="0" cy="3504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2" name=""/>
            <p:cNvSpPr/>
            <p:nvPr/>
          </p:nvSpPr>
          <p:spPr>
            <a:xfrm>
              <a:off x="7848720" y="1905120"/>
              <a:ext cx="0" cy="3504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3" name=""/>
            <p:cNvSpPr/>
            <p:nvPr/>
          </p:nvSpPr>
          <p:spPr>
            <a:xfrm>
              <a:off x="6554880" y="441360"/>
              <a:ext cx="213912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Found</a:t>
              </a:r>
              <a:br>
                <a:rPr sz="3000"/>
              </a:b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Not Handled</a:t>
              </a:r>
              <a:br>
                <a:rPr sz="3000"/>
              </a:b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Stack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4" name=""/>
            <p:cNvSpPr/>
            <p:nvPr/>
          </p:nvSpPr>
          <p:spPr>
            <a:xfrm>
              <a:off x="4234680" y="685800"/>
              <a:ext cx="15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Alg: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DF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75" name=""/>
          <p:cNvSpPr/>
          <p:nvPr/>
        </p:nvSpPr>
        <p:spPr>
          <a:xfrm>
            <a:off x="1781280" y="32004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6" name=""/>
          <p:cNvSpPr/>
          <p:nvPr/>
        </p:nvSpPr>
        <p:spPr>
          <a:xfrm>
            <a:off x="7431840" y="48610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7" name=""/>
          <p:cNvSpPr/>
          <p:nvPr/>
        </p:nvSpPr>
        <p:spPr>
          <a:xfrm>
            <a:off x="3869280" y="4689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8" name=""/>
          <p:cNvSpPr/>
          <p:nvPr/>
        </p:nvSpPr>
        <p:spPr>
          <a:xfrm>
            <a:off x="2819520" y="12952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9" name=""/>
          <p:cNvSpPr/>
          <p:nvPr/>
        </p:nvSpPr>
        <p:spPr>
          <a:xfrm>
            <a:off x="1752480" y="21337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0" name=""/>
          <p:cNvSpPr/>
          <p:nvPr/>
        </p:nvSpPr>
        <p:spPr>
          <a:xfrm>
            <a:off x="3733920" y="21366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1" name=""/>
          <p:cNvSpPr/>
          <p:nvPr/>
        </p:nvSpPr>
        <p:spPr>
          <a:xfrm>
            <a:off x="1766880" y="2666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2" name=""/>
          <p:cNvSpPr/>
          <p:nvPr/>
        </p:nvSpPr>
        <p:spPr>
          <a:xfrm>
            <a:off x="3762360" y="320364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3" name=""/>
          <p:cNvSpPr/>
          <p:nvPr/>
        </p:nvSpPr>
        <p:spPr>
          <a:xfrm>
            <a:off x="1795320" y="37339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4" name=""/>
          <p:cNvSpPr/>
          <p:nvPr/>
        </p:nvSpPr>
        <p:spPr>
          <a:xfrm>
            <a:off x="3776760" y="373680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5" name=""/>
          <p:cNvSpPr/>
          <p:nvPr/>
        </p:nvSpPr>
        <p:spPr>
          <a:xfrm>
            <a:off x="1809720" y="4952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6" name=""/>
          <p:cNvSpPr/>
          <p:nvPr/>
        </p:nvSpPr>
        <p:spPr>
          <a:xfrm>
            <a:off x="2819520" y="42069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7" name=""/>
          <p:cNvSpPr/>
          <p:nvPr/>
        </p:nvSpPr>
        <p:spPr>
          <a:xfrm>
            <a:off x="381960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8" name=""/>
          <p:cNvSpPr/>
          <p:nvPr/>
        </p:nvSpPr>
        <p:spPr>
          <a:xfrm>
            <a:off x="3809880" y="49528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9" name=""/>
          <p:cNvSpPr/>
          <p:nvPr/>
        </p:nvSpPr>
        <p:spPr>
          <a:xfrm>
            <a:off x="1672560" y="5257800"/>
            <a:ext cx="350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ake off stac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to backwards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0" name=""/>
          <p:cNvSpPr/>
          <p:nvPr/>
        </p:nvSpPr>
        <p:spPr>
          <a:xfrm>
            <a:off x="4461120" y="6156360"/>
            <a:ext cx="1791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,k,d,e,g,l,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1" name=""/>
          <p:cNvSpPr/>
          <p:nvPr/>
        </p:nvSpPr>
        <p:spPr>
          <a:xfrm>
            <a:off x="3747960" y="26701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ph Se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4419720" y="228600"/>
            <a:ext cx="4590000" cy="4055400"/>
            <a:chOff x="4419720" y="228600"/>
            <a:chExt cx="4590000" cy="4055400"/>
          </a:xfrm>
        </p:grpSpPr>
        <p:sp>
          <p:nvSpPr>
            <p:cNvPr id="850" name=""/>
            <p:cNvSpPr/>
            <p:nvPr/>
          </p:nvSpPr>
          <p:spPr>
            <a:xfrm>
              <a:off x="4419720" y="1206360"/>
              <a:ext cx="457200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We know </a:t>
              </a:r>
              <a:r>
                <a:rPr b="1" lang="en-US" sz="3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found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nodes are reachable from 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because we have traced out a path.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455360" y="2819520"/>
              <a:ext cx="455436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If a node has been </a:t>
              </a:r>
              <a:r>
                <a:rPr b="1" lang="en-US" sz="3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handled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, 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then all of its neighbors 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have been </a:t>
              </a:r>
              <a:r>
                <a:rPr b="1" lang="en-US" sz="3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found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.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52" name=""/>
            <p:cNvGrpSpPr/>
            <p:nvPr/>
          </p:nvGrpSpPr>
          <p:grpSpPr>
            <a:xfrm>
              <a:off x="6400800" y="228600"/>
              <a:ext cx="1181160" cy="1066680"/>
              <a:chOff x="6400800" y="228600"/>
              <a:chExt cx="1181160" cy="1066680"/>
            </a:xfrm>
          </p:grpSpPr>
          <p:sp>
            <p:nvSpPr>
              <p:cNvPr id="853" name=""/>
              <p:cNvSpPr/>
              <p:nvPr/>
            </p:nvSpPr>
            <p:spPr>
              <a:xfrm>
                <a:off x="6400800" y="228600"/>
                <a:ext cx="1181160" cy="1066680"/>
              </a:xfrm>
              <a:custGeom>
                <a:avLst/>
                <a:gdLst/>
                <a:ahLst/>
                <a:rect l="l" t="t" r="r" b="b"/>
                <a:pathLst>
                  <a:path w="2280" h="1785">
                    <a:moveTo>
                      <a:pt x="748" y="30"/>
                    </a:moveTo>
                    <a:cubicBezTo>
                      <a:pt x="881" y="60"/>
                      <a:pt x="985" y="267"/>
                      <a:pt x="1224" y="305"/>
                    </a:cubicBezTo>
                    <a:cubicBezTo>
                      <a:pt x="1463" y="343"/>
                      <a:pt x="2088" y="121"/>
                      <a:pt x="2184" y="257"/>
                    </a:cubicBezTo>
                    <a:cubicBezTo>
                      <a:pt x="2280" y="393"/>
                      <a:pt x="1873" y="945"/>
                      <a:pt x="1800" y="1121"/>
                    </a:cubicBezTo>
                    <a:cubicBezTo>
                      <a:pt x="1727" y="1297"/>
                      <a:pt x="1757" y="1253"/>
                      <a:pt x="1743" y="1313"/>
                    </a:cubicBezTo>
                    <a:cubicBezTo>
                      <a:pt x="1729" y="1373"/>
                      <a:pt x="1747" y="1440"/>
                      <a:pt x="1717" y="1479"/>
                    </a:cubicBezTo>
                    <a:cubicBezTo>
                      <a:pt x="1687" y="1518"/>
                      <a:pt x="1634" y="1537"/>
                      <a:pt x="1560" y="1549"/>
                    </a:cubicBezTo>
                    <a:cubicBezTo>
                      <a:pt x="1486" y="1561"/>
                      <a:pt x="1504" y="1536"/>
                      <a:pt x="1272" y="1553"/>
                    </a:cubicBezTo>
                    <a:cubicBezTo>
                      <a:pt x="1040" y="1570"/>
                      <a:pt x="336" y="1785"/>
                      <a:pt x="168" y="1649"/>
                    </a:cubicBezTo>
                    <a:cubicBezTo>
                      <a:pt x="0" y="1513"/>
                      <a:pt x="221" y="991"/>
                      <a:pt x="264" y="737"/>
                    </a:cubicBezTo>
                    <a:cubicBezTo>
                      <a:pt x="307" y="483"/>
                      <a:pt x="344" y="244"/>
                      <a:pt x="425" y="126"/>
                    </a:cubicBezTo>
                    <a:cubicBezTo>
                      <a:pt x="506" y="8"/>
                      <a:pt x="615" y="0"/>
                      <a:pt x="748" y="3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54" name=""/>
              <p:cNvGrpSpPr/>
              <p:nvPr/>
            </p:nvGrpSpPr>
            <p:grpSpPr>
              <a:xfrm>
                <a:off x="6587280" y="317520"/>
                <a:ext cx="629640" cy="860400"/>
                <a:chOff x="6587280" y="317520"/>
                <a:chExt cx="629640" cy="860400"/>
              </a:xfrm>
            </p:grpSpPr>
            <p:grpSp>
              <p:nvGrpSpPr>
                <p:cNvPr id="855" name=""/>
                <p:cNvGrpSpPr/>
                <p:nvPr/>
              </p:nvGrpSpPr>
              <p:grpSpPr>
                <a:xfrm>
                  <a:off x="6587280" y="317520"/>
                  <a:ext cx="592560" cy="842400"/>
                  <a:chOff x="6587280" y="317520"/>
                  <a:chExt cx="592560" cy="84240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>
                    <a:off x="6782760" y="459720"/>
                    <a:ext cx="102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514">
                        <a:moveTo>
                          <a:pt x="132" y="186"/>
                        </a:moveTo>
                        <a:lnTo>
                          <a:pt x="157" y="114"/>
                        </a:lnTo>
                        <a:lnTo>
                          <a:pt x="189" y="42"/>
                        </a:lnTo>
                        <a:lnTo>
                          <a:pt x="236" y="6"/>
                        </a:lnTo>
                        <a:lnTo>
                          <a:pt x="302" y="0"/>
                        </a:lnTo>
                        <a:lnTo>
                          <a:pt x="355" y="24"/>
                        </a:lnTo>
                        <a:lnTo>
                          <a:pt x="393" y="63"/>
                        </a:lnTo>
                        <a:lnTo>
                          <a:pt x="421" y="135"/>
                        </a:lnTo>
                        <a:lnTo>
                          <a:pt x="434" y="222"/>
                        </a:lnTo>
                        <a:lnTo>
                          <a:pt x="434" y="312"/>
                        </a:lnTo>
                        <a:lnTo>
                          <a:pt x="412" y="411"/>
                        </a:lnTo>
                        <a:lnTo>
                          <a:pt x="355" y="474"/>
                        </a:lnTo>
                        <a:lnTo>
                          <a:pt x="299" y="514"/>
                        </a:lnTo>
                        <a:lnTo>
                          <a:pt x="245" y="510"/>
                        </a:lnTo>
                        <a:lnTo>
                          <a:pt x="198" y="468"/>
                        </a:lnTo>
                        <a:lnTo>
                          <a:pt x="157" y="396"/>
                        </a:lnTo>
                        <a:lnTo>
                          <a:pt x="129" y="333"/>
                        </a:lnTo>
                        <a:lnTo>
                          <a:pt x="129" y="252"/>
                        </a:lnTo>
                        <a:lnTo>
                          <a:pt x="0" y="234"/>
                        </a:lnTo>
                        <a:lnTo>
                          <a:pt x="16" y="189"/>
                        </a:lnTo>
                        <a:lnTo>
                          <a:pt x="132" y="186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6850800" y="317520"/>
                    <a:ext cx="134280" cy="398880"/>
                  </a:xfrm>
                  <a:custGeom>
                    <a:avLst/>
                    <a:gdLst/>
                    <a:ahLst/>
                    <a:rect l="l" t="t" r="r" b="b"/>
                    <a:pathLst>
                      <a:path w="566" h="1154">
                        <a:moveTo>
                          <a:pt x="13" y="1145"/>
                        </a:moveTo>
                        <a:lnTo>
                          <a:pt x="0" y="1088"/>
                        </a:lnTo>
                        <a:lnTo>
                          <a:pt x="31" y="1042"/>
                        </a:lnTo>
                        <a:lnTo>
                          <a:pt x="134" y="988"/>
                        </a:lnTo>
                        <a:lnTo>
                          <a:pt x="226" y="927"/>
                        </a:lnTo>
                        <a:lnTo>
                          <a:pt x="313" y="827"/>
                        </a:lnTo>
                        <a:lnTo>
                          <a:pt x="432" y="689"/>
                        </a:lnTo>
                        <a:lnTo>
                          <a:pt x="463" y="634"/>
                        </a:lnTo>
                        <a:lnTo>
                          <a:pt x="479" y="580"/>
                        </a:lnTo>
                        <a:lnTo>
                          <a:pt x="472" y="526"/>
                        </a:lnTo>
                        <a:lnTo>
                          <a:pt x="444" y="426"/>
                        </a:lnTo>
                        <a:lnTo>
                          <a:pt x="376" y="299"/>
                        </a:lnTo>
                        <a:lnTo>
                          <a:pt x="301" y="229"/>
                        </a:lnTo>
                        <a:lnTo>
                          <a:pt x="235" y="190"/>
                        </a:lnTo>
                        <a:lnTo>
                          <a:pt x="181" y="184"/>
                        </a:lnTo>
                        <a:lnTo>
                          <a:pt x="153" y="190"/>
                        </a:lnTo>
                        <a:lnTo>
                          <a:pt x="150" y="163"/>
                        </a:lnTo>
                        <a:lnTo>
                          <a:pt x="215" y="154"/>
                        </a:lnTo>
                        <a:lnTo>
                          <a:pt x="291" y="154"/>
                        </a:lnTo>
                        <a:lnTo>
                          <a:pt x="238" y="93"/>
                        </a:lnTo>
                        <a:lnTo>
                          <a:pt x="206" y="45"/>
                        </a:lnTo>
                        <a:lnTo>
                          <a:pt x="229" y="27"/>
                        </a:lnTo>
                        <a:lnTo>
                          <a:pt x="313" y="109"/>
                        </a:lnTo>
                        <a:lnTo>
                          <a:pt x="329" y="121"/>
                        </a:lnTo>
                        <a:lnTo>
                          <a:pt x="313" y="57"/>
                        </a:lnTo>
                        <a:lnTo>
                          <a:pt x="301" y="9"/>
                        </a:lnTo>
                        <a:lnTo>
                          <a:pt x="313" y="0"/>
                        </a:lnTo>
                        <a:lnTo>
                          <a:pt x="341" y="9"/>
                        </a:lnTo>
                        <a:lnTo>
                          <a:pt x="366" y="121"/>
                        </a:lnTo>
                        <a:lnTo>
                          <a:pt x="379" y="118"/>
                        </a:lnTo>
                        <a:lnTo>
                          <a:pt x="379" y="30"/>
                        </a:lnTo>
                        <a:lnTo>
                          <a:pt x="404" y="21"/>
                        </a:lnTo>
                        <a:lnTo>
                          <a:pt x="422" y="36"/>
                        </a:lnTo>
                        <a:lnTo>
                          <a:pt x="413" y="154"/>
                        </a:lnTo>
                        <a:lnTo>
                          <a:pt x="407" y="202"/>
                        </a:lnTo>
                        <a:lnTo>
                          <a:pt x="422" y="299"/>
                        </a:lnTo>
                        <a:lnTo>
                          <a:pt x="472" y="402"/>
                        </a:lnTo>
                        <a:lnTo>
                          <a:pt x="525" y="520"/>
                        </a:lnTo>
                        <a:lnTo>
                          <a:pt x="566" y="607"/>
                        </a:lnTo>
                        <a:lnTo>
                          <a:pt x="563" y="652"/>
                        </a:lnTo>
                        <a:lnTo>
                          <a:pt x="488" y="734"/>
                        </a:lnTo>
                        <a:lnTo>
                          <a:pt x="385" y="836"/>
                        </a:lnTo>
                        <a:lnTo>
                          <a:pt x="301" y="937"/>
                        </a:lnTo>
                        <a:lnTo>
                          <a:pt x="197" y="1070"/>
                        </a:lnTo>
                        <a:lnTo>
                          <a:pt x="112" y="1136"/>
                        </a:lnTo>
                        <a:lnTo>
                          <a:pt x="47" y="1154"/>
                        </a:lnTo>
                        <a:lnTo>
                          <a:pt x="13" y="1145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6587280" y="689400"/>
                    <a:ext cx="246240" cy="20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37" h="581">
                        <a:moveTo>
                          <a:pt x="210" y="468"/>
                        </a:moveTo>
                        <a:lnTo>
                          <a:pt x="361" y="462"/>
                        </a:lnTo>
                        <a:lnTo>
                          <a:pt x="498" y="444"/>
                        </a:lnTo>
                        <a:lnTo>
                          <a:pt x="583" y="423"/>
                        </a:lnTo>
                        <a:lnTo>
                          <a:pt x="705" y="354"/>
                        </a:lnTo>
                        <a:lnTo>
                          <a:pt x="792" y="288"/>
                        </a:lnTo>
                        <a:lnTo>
                          <a:pt x="906" y="207"/>
                        </a:lnTo>
                        <a:lnTo>
                          <a:pt x="959" y="156"/>
                        </a:lnTo>
                        <a:lnTo>
                          <a:pt x="1000" y="120"/>
                        </a:lnTo>
                        <a:lnTo>
                          <a:pt x="1037" y="81"/>
                        </a:lnTo>
                        <a:lnTo>
                          <a:pt x="1037" y="39"/>
                        </a:lnTo>
                        <a:lnTo>
                          <a:pt x="996" y="0"/>
                        </a:lnTo>
                        <a:lnTo>
                          <a:pt x="971" y="9"/>
                        </a:lnTo>
                        <a:lnTo>
                          <a:pt x="903" y="90"/>
                        </a:lnTo>
                        <a:lnTo>
                          <a:pt x="828" y="183"/>
                        </a:lnTo>
                        <a:lnTo>
                          <a:pt x="752" y="270"/>
                        </a:lnTo>
                        <a:lnTo>
                          <a:pt x="642" y="342"/>
                        </a:lnTo>
                        <a:lnTo>
                          <a:pt x="548" y="390"/>
                        </a:lnTo>
                        <a:lnTo>
                          <a:pt x="445" y="414"/>
                        </a:lnTo>
                        <a:lnTo>
                          <a:pt x="301" y="417"/>
                        </a:lnTo>
                        <a:lnTo>
                          <a:pt x="216" y="417"/>
                        </a:lnTo>
                        <a:lnTo>
                          <a:pt x="144" y="363"/>
                        </a:lnTo>
                        <a:lnTo>
                          <a:pt x="125" y="327"/>
                        </a:lnTo>
                        <a:lnTo>
                          <a:pt x="94" y="327"/>
                        </a:lnTo>
                        <a:lnTo>
                          <a:pt x="116" y="372"/>
                        </a:lnTo>
                        <a:lnTo>
                          <a:pt x="150" y="414"/>
                        </a:lnTo>
                        <a:lnTo>
                          <a:pt x="66" y="396"/>
                        </a:lnTo>
                        <a:lnTo>
                          <a:pt x="3" y="387"/>
                        </a:lnTo>
                        <a:lnTo>
                          <a:pt x="3" y="405"/>
                        </a:lnTo>
                        <a:lnTo>
                          <a:pt x="59" y="417"/>
                        </a:lnTo>
                        <a:lnTo>
                          <a:pt x="97" y="441"/>
                        </a:lnTo>
                        <a:lnTo>
                          <a:pt x="131" y="444"/>
                        </a:lnTo>
                        <a:lnTo>
                          <a:pt x="78" y="462"/>
                        </a:lnTo>
                        <a:lnTo>
                          <a:pt x="0" y="481"/>
                        </a:lnTo>
                        <a:lnTo>
                          <a:pt x="3" y="499"/>
                        </a:lnTo>
                        <a:lnTo>
                          <a:pt x="28" y="505"/>
                        </a:lnTo>
                        <a:lnTo>
                          <a:pt x="103" y="481"/>
                        </a:lnTo>
                        <a:lnTo>
                          <a:pt x="150" y="477"/>
                        </a:lnTo>
                        <a:lnTo>
                          <a:pt x="122" y="505"/>
                        </a:lnTo>
                        <a:lnTo>
                          <a:pt x="78" y="550"/>
                        </a:lnTo>
                        <a:lnTo>
                          <a:pt x="59" y="562"/>
                        </a:lnTo>
                        <a:lnTo>
                          <a:pt x="75" y="581"/>
                        </a:lnTo>
                        <a:lnTo>
                          <a:pt x="113" y="559"/>
                        </a:lnTo>
                        <a:lnTo>
                          <a:pt x="163" y="514"/>
                        </a:lnTo>
                        <a:lnTo>
                          <a:pt x="210" y="46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6814080" y="668880"/>
                    <a:ext cx="144360" cy="27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08" h="800">
                        <a:moveTo>
                          <a:pt x="38" y="90"/>
                        </a:moveTo>
                        <a:lnTo>
                          <a:pt x="63" y="27"/>
                        </a:lnTo>
                        <a:lnTo>
                          <a:pt x="104" y="0"/>
                        </a:lnTo>
                        <a:lnTo>
                          <a:pt x="141" y="0"/>
                        </a:lnTo>
                        <a:lnTo>
                          <a:pt x="179" y="18"/>
                        </a:lnTo>
                        <a:lnTo>
                          <a:pt x="216" y="54"/>
                        </a:lnTo>
                        <a:lnTo>
                          <a:pt x="235" y="117"/>
                        </a:lnTo>
                        <a:lnTo>
                          <a:pt x="245" y="180"/>
                        </a:lnTo>
                        <a:lnTo>
                          <a:pt x="263" y="243"/>
                        </a:lnTo>
                        <a:lnTo>
                          <a:pt x="298" y="312"/>
                        </a:lnTo>
                        <a:lnTo>
                          <a:pt x="357" y="384"/>
                        </a:lnTo>
                        <a:lnTo>
                          <a:pt x="415" y="432"/>
                        </a:lnTo>
                        <a:lnTo>
                          <a:pt x="499" y="468"/>
                        </a:lnTo>
                        <a:lnTo>
                          <a:pt x="571" y="522"/>
                        </a:lnTo>
                        <a:lnTo>
                          <a:pt x="608" y="577"/>
                        </a:lnTo>
                        <a:lnTo>
                          <a:pt x="602" y="622"/>
                        </a:lnTo>
                        <a:lnTo>
                          <a:pt x="593" y="676"/>
                        </a:lnTo>
                        <a:lnTo>
                          <a:pt x="565" y="712"/>
                        </a:lnTo>
                        <a:lnTo>
                          <a:pt x="518" y="757"/>
                        </a:lnTo>
                        <a:lnTo>
                          <a:pt x="449" y="790"/>
                        </a:lnTo>
                        <a:lnTo>
                          <a:pt x="396" y="800"/>
                        </a:lnTo>
                        <a:lnTo>
                          <a:pt x="320" y="784"/>
                        </a:lnTo>
                        <a:lnTo>
                          <a:pt x="251" y="748"/>
                        </a:lnTo>
                        <a:lnTo>
                          <a:pt x="179" y="694"/>
                        </a:lnTo>
                        <a:lnTo>
                          <a:pt x="129" y="631"/>
                        </a:lnTo>
                        <a:lnTo>
                          <a:pt x="82" y="550"/>
                        </a:lnTo>
                        <a:lnTo>
                          <a:pt x="44" y="456"/>
                        </a:lnTo>
                        <a:lnTo>
                          <a:pt x="19" y="375"/>
                        </a:lnTo>
                        <a:lnTo>
                          <a:pt x="7" y="297"/>
                        </a:lnTo>
                        <a:lnTo>
                          <a:pt x="0" y="189"/>
                        </a:lnTo>
                        <a:lnTo>
                          <a:pt x="19" y="117"/>
                        </a:lnTo>
                        <a:lnTo>
                          <a:pt x="38" y="9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6932160" y="786960"/>
                    <a:ext cx="2476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3" h="726">
                        <a:moveTo>
                          <a:pt x="116" y="230"/>
                        </a:moveTo>
                        <a:lnTo>
                          <a:pt x="216" y="147"/>
                        </a:lnTo>
                        <a:lnTo>
                          <a:pt x="338" y="72"/>
                        </a:lnTo>
                        <a:lnTo>
                          <a:pt x="417" y="27"/>
                        </a:lnTo>
                        <a:lnTo>
                          <a:pt x="479" y="12"/>
                        </a:lnTo>
                        <a:lnTo>
                          <a:pt x="529" y="0"/>
                        </a:lnTo>
                        <a:lnTo>
                          <a:pt x="573" y="18"/>
                        </a:lnTo>
                        <a:lnTo>
                          <a:pt x="601" y="75"/>
                        </a:lnTo>
                        <a:lnTo>
                          <a:pt x="620" y="230"/>
                        </a:lnTo>
                        <a:lnTo>
                          <a:pt x="620" y="416"/>
                        </a:lnTo>
                        <a:lnTo>
                          <a:pt x="620" y="536"/>
                        </a:lnTo>
                        <a:lnTo>
                          <a:pt x="642" y="609"/>
                        </a:lnTo>
                        <a:lnTo>
                          <a:pt x="686" y="597"/>
                        </a:lnTo>
                        <a:lnTo>
                          <a:pt x="717" y="552"/>
                        </a:lnTo>
                        <a:lnTo>
                          <a:pt x="779" y="500"/>
                        </a:lnTo>
                        <a:lnTo>
                          <a:pt x="876" y="470"/>
                        </a:lnTo>
                        <a:lnTo>
                          <a:pt x="943" y="470"/>
                        </a:lnTo>
                        <a:lnTo>
                          <a:pt x="1043" y="488"/>
                        </a:lnTo>
                        <a:lnTo>
                          <a:pt x="1037" y="524"/>
                        </a:lnTo>
                        <a:lnTo>
                          <a:pt x="1015" y="555"/>
                        </a:lnTo>
                        <a:lnTo>
                          <a:pt x="981" y="561"/>
                        </a:lnTo>
                        <a:lnTo>
                          <a:pt x="943" y="542"/>
                        </a:lnTo>
                        <a:lnTo>
                          <a:pt x="886" y="518"/>
                        </a:lnTo>
                        <a:lnTo>
                          <a:pt x="829" y="518"/>
                        </a:lnTo>
                        <a:lnTo>
                          <a:pt x="754" y="564"/>
                        </a:lnTo>
                        <a:lnTo>
                          <a:pt x="708" y="633"/>
                        </a:lnTo>
                        <a:lnTo>
                          <a:pt x="698" y="690"/>
                        </a:lnTo>
                        <a:lnTo>
                          <a:pt x="679" y="726"/>
                        </a:lnTo>
                        <a:lnTo>
                          <a:pt x="604" y="723"/>
                        </a:lnTo>
                        <a:lnTo>
                          <a:pt x="601" y="669"/>
                        </a:lnTo>
                        <a:lnTo>
                          <a:pt x="576" y="591"/>
                        </a:lnTo>
                        <a:lnTo>
                          <a:pt x="567" y="509"/>
                        </a:lnTo>
                        <a:lnTo>
                          <a:pt x="573" y="401"/>
                        </a:lnTo>
                        <a:lnTo>
                          <a:pt x="564" y="248"/>
                        </a:lnTo>
                        <a:lnTo>
                          <a:pt x="558" y="147"/>
                        </a:lnTo>
                        <a:lnTo>
                          <a:pt x="539" y="111"/>
                        </a:lnTo>
                        <a:lnTo>
                          <a:pt x="501" y="75"/>
                        </a:lnTo>
                        <a:lnTo>
                          <a:pt x="461" y="75"/>
                        </a:lnTo>
                        <a:lnTo>
                          <a:pt x="403" y="111"/>
                        </a:lnTo>
                        <a:lnTo>
                          <a:pt x="328" y="181"/>
                        </a:lnTo>
                        <a:lnTo>
                          <a:pt x="235" y="272"/>
                        </a:lnTo>
                        <a:lnTo>
                          <a:pt x="141" y="356"/>
                        </a:lnTo>
                        <a:lnTo>
                          <a:pt x="94" y="383"/>
                        </a:lnTo>
                        <a:lnTo>
                          <a:pt x="38" y="383"/>
                        </a:lnTo>
                        <a:lnTo>
                          <a:pt x="0" y="344"/>
                        </a:lnTo>
                        <a:lnTo>
                          <a:pt x="3" y="281"/>
                        </a:lnTo>
                        <a:lnTo>
                          <a:pt x="41" y="248"/>
                        </a:lnTo>
                        <a:lnTo>
                          <a:pt x="84" y="239"/>
                        </a:lnTo>
                        <a:lnTo>
                          <a:pt x="116" y="23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6918840" y="896400"/>
                    <a:ext cx="16920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713" h="762">
                        <a:moveTo>
                          <a:pt x="0" y="64"/>
                        </a:moveTo>
                        <a:lnTo>
                          <a:pt x="22" y="16"/>
                        </a:lnTo>
                        <a:lnTo>
                          <a:pt x="69" y="0"/>
                        </a:lnTo>
                        <a:lnTo>
                          <a:pt x="134" y="7"/>
                        </a:lnTo>
                        <a:lnTo>
                          <a:pt x="150" y="52"/>
                        </a:lnTo>
                        <a:lnTo>
                          <a:pt x="125" y="227"/>
                        </a:lnTo>
                        <a:lnTo>
                          <a:pt x="122" y="360"/>
                        </a:lnTo>
                        <a:lnTo>
                          <a:pt x="116" y="435"/>
                        </a:lnTo>
                        <a:lnTo>
                          <a:pt x="116" y="450"/>
                        </a:lnTo>
                        <a:lnTo>
                          <a:pt x="131" y="524"/>
                        </a:lnTo>
                        <a:lnTo>
                          <a:pt x="172" y="536"/>
                        </a:lnTo>
                        <a:lnTo>
                          <a:pt x="225" y="524"/>
                        </a:lnTo>
                        <a:lnTo>
                          <a:pt x="303" y="481"/>
                        </a:lnTo>
                        <a:lnTo>
                          <a:pt x="387" y="460"/>
                        </a:lnTo>
                        <a:lnTo>
                          <a:pt x="482" y="444"/>
                        </a:lnTo>
                        <a:lnTo>
                          <a:pt x="585" y="432"/>
                        </a:lnTo>
                        <a:lnTo>
                          <a:pt x="660" y="432"/>
                        </a:lnTo>
                        <a:lnTo>
                          <a:pt x="694" y="441"/>
                        </a:lnTo>
                        <a:lnTo>
                          <a:pt x="713" y="463"/>
                        </a:lnTo>
                        <a:lnTo>
                          <a:pt x="704" y="496"/>
                        </a:lnTo>
                        <a:lnTo>
                          <a:pt x="657" y="524"/>
                        </a:lnTo>
                        <a:lnTo>
                          <a:pt x="613" y="563"/>
                        </a:lnTo>
                        <a:lnTo>
                          <a:pt x="572" y="618"/>
                        </a:lnTo>
                        <a:lnTo>
                          <a:pt x="547" y="663"/>
                        </a:lnTo>
                        <a:lnTo>
                          <a:pt x="526" y="708"/>
                        </a:lnTo>
                        <a:lnTo>
                          <a:pt x="510" y="762"/>
                        </a:lnTo>
                        <a:lnTo>
                          <a:pt x="488" y="762"/>
                        </a:lnTo>
                        <a:lnTo>
                          <a:pt x="469" y="741"/>
                        </a:lnTo>
                        <a:lnTo>
                          <a:pt x="462" y="681"/>
                        </a:lnTo>
                        <a:lnTo>
                          <a:pt x="507" y="627"/>
                        </a:lnTo>
                        <a:lnTo>
                          <a:pt x="566" y="563"/>
                        </a:lnTo>
                        <a:lnTo>
                          <a:pt x="622" y="515"/>
                        </a:lnTo>
                        <a:lnTo>
                          <a:pt x="647" y="499"/>
                        </a:lnTo>
                        <a:lnTo>
                          <a:pt x="657" y="478"/>
                        </a:lnTo>
                        <a:lnTo>
                          <a:pt x="632" y="463"/>
                        </a:lnTo>
                        <a:lnTo>
                          <a:pt x="547" y="463"/>
                        </a:lnTo>
                        <a:lnTo>
                          <a:pt x="440" y="481"/>
                        </a:lnTo>
                        <a:lnTo>
                          <a:pt x="356" y="509"/>
                        </a:lnTo>
                        <a:lnTo>
                          <a:pt x="265" y="560"/>
                        </a:lnTo>
                        <a:lnTo>
                          <a:pt x="187" y="596"/>
                        </a:lnTo>
                        <a:lnTo>
                          <a:pt x="103" y="599"/>
                        </a:lnTo>
                        <a:lnTo>
                          <a:pt x="69" y="587"/>
                        </a:lnTo>
                        <a:lnTo>
                          <a:pt x="50" y="542"/>
                        </a:lnTo>
                        <a:lnTo>
                          <a:pt x="37" y="478"/>
                        </a:lnTo>
                        <a:lnTo>
                          <a:pt x="31" y="360"/>
                        </a:lnTo>
                        <a:lnTo>
                          <a:pt x="19" y="151"/>
                        </a:lnTo>
                        <a:lnTo>
                          <a:pt x="0" y="64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2" name=""/>
                <p:cNvGrpSpPr/>
                <p:nvPr/>
              </p:nvGrpSpPr>
              <p:grpSpPr>
                <a:xfrm>
                  <a:off x="7114680" y="874800"/>
                  <a:ext cx="102240" cy="303120"/>
                  <a:chOff x="7114680" y="874800"/>
                  <a:chExt cx="102240" cy="303120"/>
                </a:xfrm>
              </p:grpSpPr>
              <p:sp>
                <p:nvSpPr>
                  <p:cNvPr id="863" name=""/>
                  <p:cNvSpPr/>
                  <p:nvPr/>
                </p:nvSpPr>
                <p:spPr>
                  <a:xfrm>
                    <a:off x="7136280" y="1043640"/>
                    <a:ext cx="8064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09">
                        <a:moveTo>
                          <a:pt x="340" y="109"/>
                        </a:moveTo>
                        <a:lnTo>
                          <a:pt x="165" y="30"/>
                        </a:lnTo>
                        <a:lnTo>
                          <a:pt x="48" y="0"/>
                        </a:lnTo>
                        <a:lnTo>
                          <a:pt x="10" y="0"/>
                        </a:lnTo>
                        <a:lnTo>
                          <a:pt x="0" y="27"/>
                        </a:lnTo>
                        <a:lnTo>
                          <a:pt x="22" y="48"/>
                        </a:lnTo>
                        <a:lnTo>
                          <a:pt x="70" y="54"/>
                        </a:lnTo>
                        <a:lnTo>
                          <a:pt x="184" y="75"/>
                        </a:lnTo>
                        <a:lnTo>
                          <a:pt x="340" y="109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7114680" y="1077480"/>
                    <a:ext cx="2268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291">
                        <a:moveTo>
                          <a:pt x="97" y="291"/>
                        </a:moveTo>
                        <a:lnTo>
                          <a:pt x="94" y="148"/>
                        </a:lnTo>
                        <a:lnTo>
                          <a:pt x="69" y="39"/>
                        </a:lnTo>
                        <a:lnTo>
                          <a:pt x="41" y="0"/>
                        </a:lnTo>
                        <a:lnTo>
                          <a:pt x="19" y="0"/>
                        </a:lnTo>
                        <a:lnTo>
                          <a:pt x="0" y="12"/>
                        </a:lnTo>
                        <a:lnTo>
                          <a:pt x="0" y="54"/>
                        </a:lnTo>
                        <a:lnTo>
                          <a:pt x="47" y="184"/>
                        </a:lnTo>
                        <a:lnTo>
                          <a:pt x="97" y="29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7147800" y="874800"/>
                    <a:ext cx="507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111">
                        <a:moveTo>
                          <a:pt x="0" y="72"/>
                        </a:moveTo>
                        <a:lnTo>
                          <a:pt x="42" y="30"/>
                        </a:lnTo>
                        <a:lnTo>
                          <a:pt x="100" y="3"/>
                        </a:lnTo>
                        <a:lnTo>
                          <a:pt x="166" y="0"/>
                        </a:lnTo>
                        <a:lnTo>
                          <a:pt x="214" y="9"/>
                        </a:lnTo>
                        <a:lnTo>
                          <a:pt x="138" y="18"/>
                        </a:lnTo>
                        <a:lnTo>
                          <a:pt x="109" y="36"/>
                        </a:lnTo>
                        <a:lnTo>
                          <a:pt x="81" y="63"/>
                        </a:lnTo>
                        <a:lnTo>
                          <a:pt x="68" y="93"/>
                        </a:lnTo>
                        <a:lnTo>
                          <a:pt x="42" y="111"/>
                        </a:lnTo>
                        <a:lnTo>
                          <a:pt x="10" y="108"/>
                        </a:lnTo>
                        <a:lnTo>
                          <a:pt x="0" y="72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866" name=""/>
          <p:cNvSpPr/>
          <p:nvPr/>
        </p:nvSpPr>
        <p:spPr>
          <a:xfrm>
            <a:off x="625320" y="2674800"/>
            <a:ext cx="1221120" cy="57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25320" y="2674800"/>
            <a:ext cx="190800" cy="80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25320" y="2674800"/>
            <a:ext cx="685800" cy="114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411360" y="3017880"/>
            <a:ext cx="7632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503360" y="3933720"/>
            <a:ext cx="7632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533680" y="4010040"/>
            <a:ext cx="7632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647800" y="2558880"/>
            <a:ext cx="7632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65440" y="1758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46400" y="251316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65280" y="33908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351440" y="389556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411920" y="26272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943640" y="31240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47560" y="358128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445560" y="28717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370680" y="208296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992680" y="16160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729160" y="23684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65600" y="21398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1082160" y="1566720"/>
            <a:ext cx="99252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1960560" y="1565280"/>
            <a:ext cx="114480" cy="801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075040" y="1566720"/>
            <a:ext cx="572760" cy="99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075040" y="1566720"/>
            <a:ext cx="877680" cy="230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2685600" y="1797120"/>
            <a:ext cx="3049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922400" y="2635200"/>
            <a:ext cx="72540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1960560" y="2253960"/>
            <a:ext cx="137484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029040" y="1797120"/>
            <a:ext cx="344520" cy="419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685960" y="2635200"/>
            <a:ext cx="725400" cy="344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373560" y="2254320"/>
            <a:ext cx="75960" cy="725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960560" y="2444760"/>
            <a:ext cx="1220760" cy="1222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1388880" y="2406600"/>
            <a:ext cx="571320" cy="344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044720" y="1987560"/>
            <a:ext cx="304560" cy="763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663120" y="1987560"/>
            <a:ext cx="3812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1579680" y="3284640"/>
            <a:ext cx="342720" cy="64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922400" y="3284640"/>
            <a:ext cx="611280" cy="725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930240" y="3284640"/>
            <a:ext cx="992160" cy="190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2609640" y="3705120"/>
            <a:ext cx="609480" cy="34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3257640" y="3093840"/>
            <a:ext cx="230040" cy="61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 flipV="1">
            <a:off x="2685600" y="2674440"/>
            <a:ext cx="763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 flipV="1">
            <a:off x="1388880" y="282744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3219120" y="3056040"/>
            <a:ext cx="230040" cy="61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2571840" y="2712600"/>
            <a:ext cx="75960" cy="1335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 flipV="1">
            <a:off x="1617840" y="4010040"/>
            <a:ext cx="954000" cy="38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349280" y="1643040"/>
            <a:ext cx="649440" cy="114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53920" y="3513240"/>
            <a:ext cx="649440" cy="420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036880" y="1528920"/>
            <a:ext cx="75960" cy="75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075040" y="1566720"/>
            <a:ext cx="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006560" y="1949400"/>
            <a:ext cx="7596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922400" y="2368440"/>
            <a:ext cx="7632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952720" y="1758960"/>
            <a:ext cx="7632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87520" y="2635200"/>
            <a:ext cx="75960" cy="777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311120" y="2751120"/>
            <a:ext cx="7812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335400" y="2216160"/>
            <a:ext cx="7596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181320" y="3666960"/>
            <a:ext cx="7632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440440" y="4022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884240" y="3246480"/>
            <a:ext cx="7632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16120" y="3475080"/>
            <a:ext cx="75960" cy="777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2629080" y="4102200"/>
            <a:ext cx="723600" cy="644400"/>
            <a:chOff x="2629080" y="4102200"/>
            <a:chExt cx="723600" cy="644400"/>
          </a:xfrm>
        </p:grpSpPr>
        <p:sp>
          <p:nvSpPr>
            <p:cNvPr id="924" name=""/>
            <p:cNvSpPr/>
            <p:nvPr/>
          </p:nvSpPr>
          <p:spPr>
            <a:xfrm>
              <a:off x="2895480" y="4648320"/>
              <a:ext cx="76320" cy="75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276720" y="4670280"/>
              <a:ext cx="75960" cy="7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629080" y="4102200"/>
              <a:ext cx="634680" cy="584280"/>
            </a:xfrm>
            <a:custGeom>
              <a:avLst/>
              <a:gdLst/>
              <a:ahLst/>
              <a:rect l="l" t="t" r="r" b="b"/>
              <a:pathLst>
                <a:path w="400" h="368">
                  <a:moveTo>
                    <a:pt x="400" y="36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3581280" y="4343400"/>
            <a:ext cx="5574960" cy="761760"/>
            <a:chOff x="3581280" y="4343400"/>
            <a:chExt cx="5574960" cy="761760"/>
          </a:xfrm>
        </p:grpSpPr>
        <p:grpSp>
          <p:nvGrpSpPr>
            <p:cNvPr id="928" name=""/>
            <p:cNvGrpSpPr/>
            <p:nvPr/>
          </p:nvGrpSpPr>
          <p:grpSpPr>
            <a:xfrm>
              <a:off x="3581280" y="4343400"/>
              <a:ext cx="914400" cy="761760"/>
              <a:chOff x="3581280" y="4343400"/>
              <a:chExt cx="914400" cy="761760"/>
            </a:xfrm>
          </p:grpSpPr>
          <p:sp>
            <p:nvSpPr>
              <p:cNvPr id="929" name=""/>
              <p:cNvSpPr/>
              <p:nvPr/>
            </p:nvSpPr>
            <p:spPr>
              <a:xfrm>
                <a:off x="3581280" y="4343400"/>
                <a:ext cx="914400" cy="653040"/>
              </a:xfrm>
              <a:prstGeom prst="horizontalScroll">
                <a:avLst>
                  <a:gd name="adj" fmla="val 12500"/>
                </a:avLst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 baseline="-8000">
                    <a:solidFill>
                      <a:srgbClr val="000000"/>
                    </a:solidFill>
                    <a:latin typeface="Times New Roman"/>
                  </a:rPr>
                  <a:t>Exit</a:t>
                </a: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038120" y="4942080"/>
                <a:ext cx="0" cy="16308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31" name=""/>
            <p:cNvSpPr/>
            <p:nvPr/>
          </p:nvSpPr>
          <p:spPr>
            <a:xfrm>
              <a:off x="4391280" y="4403880"/>
              <a:ext cx="4764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All </a:t>
              </a:r>
              <a:r>
                <a:rPr b="1" lang="en-US" sz="3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found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nodes are </a:t>
              </a:r>
              <a:r>
                <a:rPr b="1" lang="en-US" sz="3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handled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169200" y="5173920"/>
            <a:ext cx="1178640" cy="1150200"/>
            <a:chOff x="169200" y="5173920"/>
            <a:chExt cx="1178640" cy="1150200"/>
          </a:xfrm>
        </p:grpSpPr>
        <p:sp>
          <p:nvSpPr>
            <p:cNvPr id="933" name=""/>
            <p:cNvSpPr/>
            <p:nvPr/>
          </p:nvSpPr>
          <p:spPr>
            <a:xfrm rot="2359800">
              <a:off x="250920" y="5560920"/>
              <a:ext cx="593640" cy="47088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322560" y="5616000"/>
              <a:ext cx="316440" cy="258480"/>
              <a:chOff x="322560" y="5616000"/>
              <a:chExt cx="316440" cy="258480"/>
            </a:xfrm>
          </p:grpSpPr>
          <p:sp>
            <p:nvSpPr>
              <p:cNvPr id="935" name=""/>
              <p:cNvSpPr/>
              <p:nvPr/>
            </p:nvSpPr>
            <p:spPr>
              <a:xfrm>
                <a:off x="322560" y="5616000"/>
                <a:ext cx="316440" cy="221760"/>
              </a:xfrm>
              <a:prstGeom prst="horizontalScroll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-8000">
                    <a:solidFill>
                      <a:srgbClr val="000000"/>
                    </a:solidFill>
                    <a:latin typeface="Times New Roman"/>
                  </a:rPr>
                  <a:t>Exi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80600" y="5819040"/>
                <a:ext cx="0" cy="55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228600" y="5203080"/>
              <a:ext cx="1119240" cy="1121040"/>
            </a:xfrm>
            <a:prstGeom prst="ellipse">
              <a:avLst/>
            </a:prstGeom>
            <a:noFill/>
            <a:ln w="63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38" name="" descr=""/>
            <p:cNvPicPr/>
            <p:nvPr/>
          </p:nvPicPr>
          <p:blipFill>
            <a:blip r:embed="rId3"/>
            <a:stretch/>
          </p:blipFill>
          <p:spPr>
            <a:xfrm>
              <a:off x="702000" y="5440680"/>
              <a:ext cx="592200" cy="53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9" name=""/>
            <p:cNvGrpSpPr/>
            <p:nvPr/>
          </p:nvGrpSpPr>
          <p:grpSpPr>
            <a:xfrm>
              <a:off x="459000" y="5173920"/>
              <a:ext cx="538560" cy="577800"/>
              <a:chOff x="459000" y="5173920"/>
              <a:chExt cx="538560" cy="577800"/>
            </a:xfrm>
          </p:grpSpPr>
          <p:sp>
            <p:nvSpPr>
              <p:cNvPr id="940" name=""/>
              <p:cNvSpPr/>
              <p:nvPr/>
            </p:nvSpPr>
            <p:spPr>
              <a:xfrm rot="21255000">
                <a:off x="729360" y="5235840"/>
                <a:ext cx="109440" cy="9072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21255000">
                <a:off x="692640" y="5348520"/>
                <a:ext cx="112680" cy="20304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21255000">
                <a:off x="771480" y="5515200"/>
                <a:ext cx="219240" cy="14004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19838400">
                <a:off x="469080" y="5559120"/>
                <a:ext cx="313200" cy="12348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21255000">
                <a:off x="618840" y="5182200"/>
                <a:ext cx="127800" cy="22716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21255000">
                <a:off x="771120" y="5181840"/>
                <a:ext cx="167400" cy="18936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6" name=""/>
          <p:cNvSpPr/>
          <p:nvPr/>
        </p:nvSpPr>
        <p:spPr>
          <a:xfrm>
            <a:off x="1145160" y="5029200"/>
            <a:ext cx="5816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lt;postCond&gt;: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Output all the nodes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that are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reachable by a path in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from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404960" y="6324480"/>
            <a:ext cx="329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utput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nod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ear Or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93" name=""/>
          <p:cNvSpPr/>
          <p:nvPr/>
        </p:nvSpPr>
        <p:spPr>
          <a:xfrm>
            <a:off x="2543400" y="9748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4" name=""/>
          <p:cNvSpPr/>
          <p:nvPr/>
        </p:nvSpPr>
        <p:spPr>
          <a:xfrm flipH="1">
            <a:off x="1904760" y="1371600"/>
            <a:ext cx="99036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5" name=""/>
          <p:cNvSpPr/>
          <p:nvPr/>
        </p:nvSpPr>
        <p:spPr>
          <a:xfrm>
            <a:off x="1349640" y="1889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6" name=""/>
          <p:cNvSpPr/>
          <p:nvPr/>
        </p:nvSpPr>
        <p:spPr>
          <a:xfrm>
            <a:off x="3811680" y="1870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7" name=""/>
          <p:cNvSpPr/>
          <p:nvPr/>
        </p:nvSpPr>
        <p:spPr>
          <a:xfrm>
            <a:off x="1364040" y="2422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8" name=""/>
          <p:cNvSpPr/>
          <p:nvPr/>
        </p:nvSpPr>
        <p:spPr>
          <a:xfrm>
            <a:off x="3826440" y="2403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9" name=""/>
          <p:cNvSpPr/>
          <p:nvPr/>
        </p:nvSpPr>
        <p:spPr>
          <a:xfrm>
            <a:off x="1378080" y="2955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0" name=""/>
          <p:cNvSpPr/>
          <p:nvPr/>
        </p:nvSpPr>
        <p:spPr>
          <a:xfrm>
            <a:off x="3840840" y="29368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1" name=""/>
          <p:cNvSpPr/>
          <p:nvPr/>
        </p:nvSpPr>
        <p:spPr>
          <a:xfrm>
            <a:off x="1392480" y="34894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2" name=""/>
          <p:cNvSpPr/>
          <p:nvPr/>
        </p:nvSpPr>
        <p:spPr>
          <a:xfrm>
            <a:off x="3854880" y="34704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3" name=""/>
          <p:cNvSpPr/>
          <p:nvPr/>
        </p:nvSpPr>
        <p:spPr>
          <a:xfrm>
            <a:off x="1407240" y="4708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4" name=""/>
          <p:cNvSpPr/>
          <p:nvPr/>
        </p:nvSpPr>
        <p:spPr>
          <a:xfrm>
            <a:off x="2293920" y="3946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5" name=""/>
          <p:cNvSpPr/>
          <p:nvPr/>
        </p:nvSpPr>
        <p:spPr>
          <a:xfrm>
            <a:off x="2895480" y="1371600"/>
            <a:ext cx="83844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6" name=""/>
          <p:cNvSpPr/>
          <p:nvPr/>
        </p:nvSpPr>
        <p:spPr>
          <a:xfrm>
            <a:off x="380988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7" name=""/>
          <p:cNvSpPr/>
          <p:nvPr/>
        </p:nvSpPr>
        <p:spPr>
          <a:xfrm>
            <a:off x="383868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8" name=""/>
          <p:cNvSpPr/>
          <p:nvPr/>
        </p:nvSpPr>
        <p:spPr>
          <a:xfrm>
            <a:off x="182880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9" name=""/>
          <p:cNvSpPr/>
          <p:nvPr/>
        </p:nvSpPr>
        <p:spPr>
          <a:xfrm>
            <a:off x="183816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0" name=""/>
          <p:cNvSpPr/>
          <p:nvPr/>
        </p:nvSpPr>
        <p:spPr>
          <a:xfrm>
            <a:off x="185724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1" name=""/>
          <p:cNvSpPr/>
          <p:nvPr/>
        </p:nvSpPr>
        <p:spPr>
          <a:xfrm flipH="1">
            <a:off x="2971800" y="3809880"/>
            <a:ext cx="87624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2" name=""/>
          <p:cNvSpPr/>
          <p:nvPr/>
        </p:nvSpPr>
        <p:spPr>
          <a:xfrm>
            <a:off x="1905120" y="380988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3" name=""/>
          <p:cNvSpPr/>
          <p:nvPr/>
        </p:nvSpPr>
        <p:spPr>
          <a:xfrm flipH="1">
            <a:off x="1980720" y="4267080"/>
            <a:ext cx="83844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4" name=""/>
          <p:cNvSpPr/>
          <p:nvPr/>
        </p:nvSpPr>
        <p:spPr>
          <a:xfrm>
            <a:off x="2895480" y="4267080"/>
            <a:ext cx="9144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15" name=""/>
          <p:cNvGrpSpPr/>
          <p:nvPr/>
        </p:nvGrpSpPr>
        <p:grpSpPr>
          <a:xfrm>
            <a:off x="4234680" y="441360"/>
            <a:ext cx="4459320" cy="4968720"/>
            <a:chOff x="4234680" y="441360"/>
            <a:chExt cx="4459320" cy="4968720"/>
          </a:xfrm>
        </p:grpSpPr>
        <p:sp>
          <p:nvSpPr>
            <p:cNvPr id="9516" name=""/>
            <p:cNvSpPr/>
            <p:nvPr/>
          </p:nvSpPr>
          <p:spPr>
            <a:xfrm>
              <a:off x="7315200" y="1905120"/>
              <a:ext cx="0" cy="3504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7" name=""/>
            <p:cNvSpPr/>
            <p:nvPr/>
          </p:nvSpPr>
          <p:spPr>
            <a:xfrm>
              <a:off x="7848720" y="1905120"/>
              <a:ext cx="0" cy="3504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8" name=""/>
            <p:cNvSpPr/>
            <p:nvPr/>
          </p:nvSpPr>
          <p:spPr>
            <a:xfrm>
              <a:off x="6554880" y="441360"/>
              <a:ext cx="213912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Found</a:t>
              </a:r>
              <a:br>
                <a:rPr sz="3000"/>
              </a:b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Not Handled</a:t>
              </a:r>
              <a:br>
                <a:rPr sz="3000"/>
              </a:b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Stack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9" name=""/>
            <p:cNvSpPr/>
            <p:nvPr/>
          </p:nvSpPr>
          <p:spPr>
            <a:xfrm>
              <a:off x="4234680" y="685800"/>
              <a:ext cx="15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Alg: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DF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20" name=""/>
          <p:cNvSpPr/>
          <p:nvPr/>
        </p:nvSpPr>
        <p:spPr>
          <a:xfrm>
            <a:off x="1781280" y="32004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1" name=""/>
          <p:cNvSpPr/>
          <p:nvPr/>
        </p:nvSpPr>
        <p:spPr>
          <a:xfrm>
            <a:off x="3869280" y="4689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2" name=""/>
          <p:cNvSpPr/>
          <p:nvPr/>
        </p:nvSpPr>
        <p:spPr>
          <a:xfrm>
            <a:off x="2819520" y="12952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3" name=""/>
          <p:cNvSpPr/>
          <p:nvPr/>
        </p:nvSpPr>
        <p:spPr>
          <a:xfrm>
            <a:off x="1752480" y="21337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4" name=""/>
          <p:cNvSpPr/>
          <p:nvPr/>
        </p:nvSpPr>
        <p:spPr>
          <a:xfrm>
            <a:off x="3733920" y="21366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5" name=""/>
          <p:cNvSpPr/>
          <p:nvPr/>
        </p:nvSpPr>
        <p:spPr>
          <a:xfrm>
            <a:off x="1766880" y="2666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6" name=""/>
          <p:cNvSpPr/>
          <p:nvPr/>
        </p:nvSpPr>
        <p:spPr>
          <a:xfrm>
            <a:off x="3762360" y="320364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7" name=""/>
          <p:cNvSpPr/>
          <p:nvPr/>
        </p:nvSpPr>
        <p:spPr>
          <a:xfrm>
            <a:off x="1795320" y="37339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8" name=""/>
          <p:cNvSpPr/>
          <p:nvPr/>
        </p:nvSpPr>
        <p:spPr>
          <a:xfrm>
            <a:off x="3776760" y="373680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9" name=""/>
          <p:cNvSpPr/>
          <p:nvPr/>
        </p:nvSpPr>
        <p:spPr>
          <a:xfrm>
            <a:off x="1809720" y="4952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0" name=""/>
          <p:cNvSpPr/>
          <p:nvPr/>
        </p:nvSpPr>
        <p:spPr>
          <a:xfrm>
            <a:off x="2819520" y="42069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1" name=""/>
          <p:cNvSpPr/>
          <p:nvPr/>
        </p:nvSpPr>
        <p:spPr>
          <a:xfrm>
            <a:off x="381960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2" name=""/>
          <p:cNvSpPr/>
          <p:nvPr/>
        </p:nvSpPr>
        <p:spPr>
          <a:xfrm>
            <a:off x="3809880" y="49528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3" name=""/>
          <p:cNvSpPr/>
          <p:nvPr/>
        </p:nvSpPr>
        <p:spPr>
          <a:xfrm>
            <a:off x="1672560" y="5257800"/>
            <a:ext cx="350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ake off stac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to backwards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4" name=""/>
          <p:cNvSpPr/>
          <p:nvPr/>
        </p:nvSpPr>
        <p:spPr>
          <a:xfrm>
            <a:off x="4259880" y="6156360"/>
            <a:ext cx="1992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,j,k,d,e,g,l,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5" name=""/>
          <p:cNvSpPr/>
          <p:nvPr/>
        </p:nvSpPr>
        <p:spPr>
          <a:xfrm>
            <a:off x="3747960" y="26701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ear Or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37" name=""/>
          <p:cNvSpPr/>
          <p:nvPr/>
        </p:nvSpPr>
        <p:spPr>
          <a:xfrm>
            <a:off x="2543400" y="9748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8" name=""/>
          <p:cNvSpPr/>
          <p:nvPr/>
        </p:nvSpPr>
        <p:spPr>
          <a:xfrm flipH="1">
            <a:off x="1904760" y="1371600"/>
            <a:ext cx="99036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9" name=""/>
          <p:cNvSpPr/>
          <p:nvPr/>
        </p:nvSpPr>
        <p:spPr>
          <a:xfrm>
            <a:off x="1349640" y="1889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0" name=""/>
          <p:cNvSpPr/>
          <p:nvPr/>
        </p:nvSpPr>
        <p:spPr>
          <a:xfrm>
            <a:off x="3811680" y="1870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1" name=""/>
          <p:cNvSpPr/>
          <p:nvPr/>
        </p:nvSpPr>
        <p:spPr>
          <a:xfrm>
            <a:off x="1364040" y="2422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2" name=""/>
          <p:cNvSpPr/>
          <p:nvPr/>
        </p:nvSpPr>
        <p:spPr>
          <a:xfrm>
            <a:off x="3826440" y="2403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3" name=""/>
          <p:cNvSpPr/>
          <p:nvPr/>
        </p:nvSpPr>
        <p:spPr>
          <a:xfrm>
            <a:off x="1378080" y="2955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4" name=""/>
          <p:cNvSpPr/>
          <p:nvPr/>
        </p:nvSpPr>
        <p:spPr>
          <a:xfrm>
            <a:off x="3840840" y="29368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5" name=""/>
          <p:cNvSpPr/>
          <p:nvPr/>
        </p:nvSpPr>
        <p:spPr>
          <a:xfrm>
            <a:off x="1392480" y="34894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6" name=""/>
          <p:cNvSpPr/>
          <p:nvPr/>
        </p:nvSpPr>
        <p:spPr>
          <a:xfrm>
            <a:off x="3854880" y="34704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7" name=""/>
          <p:cNvSpPr/>
          <p:nvPr/>
        </p:nvSpPr>
        <p:spPr>
          <a:xfrm>
            <a:off x="1407240" y="4708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8" name=""/>
          <p:cNvSpPr/>
          <p:nvPr/>
        </p:nvSpPr>
        <p:spPr>
          <a:xfrm>
            <a:off x="2293920" y="3946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9" name=""/>
          <p:cNvSpPr/>
          <p:nvPr/>
        </p:nvSpPr>
        <p:spPr>
          <a:xfrm>
            <a:off x="2895480" y="1371600"/>
            <a:ext cx="83844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0" name=""/>
          <p:cNvSpPr/>
          <p:nvPr/>
        </p:nvSpPr>
        <p:spPr>
          <a:xfrm>
            <a:off x="380988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1" name=""/>
          <p:cNvSpPr/>
          <p:nvPr/>
        </p:nvSpPr>
        <p:spPr>
          <a:xfrm>
            <a:off x="383868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2" name=""/>
          <p:cNvSpPr/>
          <p:nvPr/>
        </p:nvSpPr>
        <p:spPr>
          <a:xfrm>
            <a:off x="182880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3" name=""/>
          <p:cNvSpPr/>
          <p:nvPr/>
        </p:nvSpPr>
        <p:spPr>
          <a:xfrm>
            <a:off x="183816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4" name=""/>
          <p:cNvSpPr/>
          <p:nvPr/>
        </p:nvSpPr>
        <p:spPr>
          <a:xfrm>
            <a:off x="185724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5" name=""/>
          <p:cNvSpPr/>
          <p:nvPr/>
        </p:nvSpPr>
        <p:spPr>
          <a:xfrm flipH="1">
            <a:off x="2971800" y="3809880"/>
            <a:ext cx="87624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6" name=""/>
          <p:cNvSpPr/>
          <p:nvPr/>
        </p:nvSpPr>
        <p:spPr>
          <a:xfrm>
            <a:off x="1905120" y="380988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7" name=""/>
          <p:cNvSpPr/>
          <p:nvPr/>
        </p:nvSpPr>
        <p:spPr>
          <a:xfrm flipH="1">
            <a:off x="1980720" y="4267080"/>
            <a:ext cx="83844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8" name=""/>
          <p:cNvSpPr/>
          <p:nvPr/>
        </p:nvSpPr>
        <p:spPr>
          <a:xfrm>
            <a:off x="2895480" y="4267080"/>
            <a:ext cx="9144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59" name=""/>
          <p:cNvGrpSpPr/>
          <p:nvPr/>
        </p:nvGrpSpPr>
        <p:grpSpPr>
          <a:xfrm>
            <a:off x="4234680" y="441360"/>
            <a:ext cx="4459320" cy="4968720"/>
            <a:chOff x="4234680" y="441360"/>
            <a:chExt cx="4459320" cy="4968720"/>
          </a:xfrm>
        </p:grpSpPr>
        <p:sp>
          <p:nvSpPr>
            <p:cNvPr id="9560" name=""/>
            <p:cNvSpPr/>
            <p:nvPr/>
          </p:nvSpPr>
          <p:spPr>
            <a:xfrm>
              <a:off x="7315200" y="1905120"/>
              <a:ext cx="0" cy="3504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1" name=""/>
            <p:cNvSpPr/>
            <p:nvPr/>
          </p:nvSpPr>
          <p:spPr>
            <a:xfrm>
              <a:off x="7848720" y="1905120"/>
              <a:ext cx="0" cy="3504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2" name=""/>
            <p:cNvSpPr/>
            <p:nvPr/>
          </p:nvSpPr>
          <p:spPr>
            <a:xfrm>
              <a:off x="6554880" y="441360"/>
              <a:ext cx="213912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Found</a:t>
              </a:r>
              <a:br>
                <a:rPr sz="3000"/>
              </a:b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Not Handled</a:t>
              </a:r>
              <a:br>
                <a:rPr sz="3000"/>
              </a:b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Stack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3" name=""/>
            <p:cNvSpPr/>
            <p:nvPr/>
          </p:nvSpPr>
          <p:spPr>
            <a:xfrm>
              <a:off x="4234680" y="685800"/>
              <a:ext cx="15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Alg: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DF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64" name=""/>
          <p:cNvSpPr/>
          <p:nvPr/>
        </p:nvSpPr>
        <p:spPr>
          <a:xfrm>
            <a:off x="1781280" y="32004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5" name=""/>
          <p:cNvSpPr/>
          <p:nvPr/>
        </p:nvSpPr>
        <p:spPr>
          <a:xfrm>
            <a:off x="7431120" y="48610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6" name=""/>
          <p:cNvSpPr/>
          <p:nvPr/>
        </p:nvSpPr>
        <p:spPr>
          <a:xfrm>
            <a:off x="3869280" y="4689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7" name=""/>
          <p:cNvSpPr/>
          <p:nvPr/>
        </p:nvSpPr>
        <p:spPr>
          <a:xfrm>
            <a:off x="2819520" y="12952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8" name=""/>
          <p:cNvSpPr/>
          <p:nvPr/>
        </p:nvSpPr>
        <p:spPr>
          <a:xfrm>
            <a:off x="1752480" y="21337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9" name=""/>
          <p:cNvSpPr/>
          <p:nvPr/>
        </p:nvSpPr>
        <p:spPr>
          <a:xfrm>
            <a:off x="3733920" y="21366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0" name=""/>
          <p:cNvSpPr/>
          <p:nvPr/>
        </p:nvSpPr>
        <p:spPr>
          <a:xfrm>
            <a:off x="1766880" y="2666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1" name=""/>
          <p:cNvSpPr/>
          <p:nvPr/>
        </p:nvSpPr>
        <p:spPr>
          <a:xfrm>
            <a:off x="3762360" y="320364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2" name=""/>
          <p:cNvSpPr/>
          <p:nvPr/>
        </p:nvSpPr>
        <p:spPr>
          <a:xfrm>
            <a:off x="1795320" y="37339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3" name=""/>
          <p:cNvSpPr/>
          <p:nvPr/>
        </p:nvSpPr>
        <p:spPr>
          <a:xfrm>
            <a:off x="3776760" y="373680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4" name=""/>
          <p:cNvSpPr/>
          <p:nvPr/>
        </p:nvSpPr>
        <p:spPr>
          <a:xfrm>
            <a:off x="1809720" y="4952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5" name=""/>
          <p:cNvSpPr/>
          <p:nvPr/>
        </p:nvSpPr>
        <p:spPr>
          <a:xfrm>
            <a:off x="2819520" y="42069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6" name=""/>
          <p:cNvSpPr/>
          <p:nvPr/>
        </p:nvSpPr>
        <p:spPr>
          <a:xfrm>
            <a:off x="381960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7" name=""/>
          <p:cNvSpPr/>
          <p:nvPr/>
        </p:nvSpPr>
        <p:spPr>
          <a:xfrm>
            <a:off x="3809880" y="49528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8" name=""/>
          <p:cNvSpPr/>
          <p:nvPr/>
        </p:nvSpPr>
        <p:spPr>
          <a:xfrm>
            <a:off x="1672560" y="5257800"/>
            <a:ext cx="350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ake off stac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to backwards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9" name=""/>
          <p:cNvSpPr/>
          <p:nvPr/>
        </p:nvSpPr>
        <p:spPr>
          <a:xfrm>
            <a:off x="7412400" y="43909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0" name=""/>
          <p:cNvSpPr/>
          <p:nvPr/>
        </p:nvSpPr>
        <p:spPr>
          <a:xfrm>
            <a:off x="4259880" y="6156360"/>
            <a:ext cx="1992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,j,k,d,e,g,l,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1" name=""/>
          <p:cNvSpPr/>
          <p:nvPr/>
        </p:nvSpPr>
        <p:spPr>
          <a:xfrm>
            <a:off x="3747960" y="26701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fill="hold">
                      <p:stCondLst>
                        <p:cond delay="0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9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9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8" dur="500" fill="hold"/>
                                        <p:tgtEl>
                                          <p:spTgt spid="9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59" dur="500" fill="hold"/>
                                        <p:tgtEl>
                                          <p:spTgt spid="9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9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9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7" dur="500" fill="hold"/>
                                        <p:tgtEl>
                                          <p:spTgt spid="9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68" dur="500" fill="hold"/>
                                        <p:tgtEl>
                                          <p:spTgt spid="9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ear Or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83" name=""/>
          <p:cNvSpPr/>
          <p:nvPr/>
        </p:nvSpPr>
        <p:spPr>
          <a:xfrm>
            <a:off x="2543400" y="9748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4" name=""/>
          <p:cNvSpPr/>
          <p:nvPr/>
        </p:nvSpPr>
        <p:spPr>
          <a:xfrm flipH="1">
            <a:off x="1904760" y="1371600"/>
            <a:ext cx="99036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5" name=""/>
          <p:cNvSpPr/>
          <p:nvPr/>
        </p:nvSpPr>
        <p:spPr>
          <a:xfrm>
            <a:off x="1349640" y="1889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6" name=""/>
          <p:cNvSpPr/>
          <p:nvPr/>
        </p:nvSpPr>
        <p:spPr>
          <a:xfrm>
            <a:off x="3811680" y="1870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7" name=""/>
          <p:cNvSpPr/>
          <p:nvPr/>
        </p:nvSpPr>
        <p:spPr>
          <a:xfrm>
            <a:off x="1364040" y="2422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8" name=""/>
          <p:cNvSpPr/>
          <p:nvPr/>
        </p:nvSpPr>
        <p:spPr>
          <a:xfrm>
            <a:off x="3826440" y="2403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9" name=""/>
          <p:cNvSpPr/>
          <p:nvPr/>
        </p:nvSpPr>
        <p:spPr>
          <a:xfrm>
            <a:off x="1378080" y="2955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0" name=""/>
          <p:cNvSpPr/>
          <p:nvPr/>
        </p:nvSpPr>
        <p:spPr>
          <a:xfrm>
            <a:off x="3840840" y="29368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1" name=""/>
          <p:cNvSpPr/>
          <p:nvPr/>
        </p:nvSpPr>
        <p:spPr>
          <a:xfrm>
            <a:off x="1392480" y="34894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2" name=""/>
          <p:cNvSpPr/>
          <p:nvPr/>
        </p:nvSpPr>
        <p:spPr>
          <a:xfrm>
            <a:off x="3854880" y="34704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3" name=""/>
          <p:cNvSpPr/>
          <p:nvPr/>
        </p:nvSpPr>
        <p:spPr>
          <a:xfrm>
            <a:off x="1407240" y="4708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4" name=""/>
          <p:cNvSpPr/>
          <p:nvPr/>
        </p:nvSpPr>
        <p:spPr>
          <a:xfrm>
            <a:off x="2293920" y="3946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5" name=""/>
          <p:cNvSpPr/>
          <p:nvPr/>
        </p:nvSpPr>
        <p:spPr>
          <a:xfrm>
            <a:off x="2895480" y="1371600"/>
            <a:ext cx="83844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6" name=""/>
          <p:cNvSpPr/>
          <p:nvPr/>
        </p:nvSpPr>
        <p:spPr>
          <a:xfrm>
            <a:off x="380988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7" name=""/>
          <p:cNvSpPr/>
          <p:nvPr/>
        </p:nvSpPr>
        <p:spPr>
          <a:xfrm>
            <a:off x="383868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8" name=""/>
          <p:cNvSpPr/>
          <p:nvPr/>
        </p:nvSpPr>
        <p:spPr>
          <a:xfrm>
            <a:off x="182880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9" name=""/>
          <p:cNvSpPr/>
          <p:nvPr/>
        </p:nvSpPr>
        <p:spPr>
          <a:xfrm>
            <a:off x="183816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0" name=""/>
          <p:cNvSpPr/>
          <p:nvPr/>
        </p:nvSpPr>
        <p:spPr>
          <a:xfrm>
            <a:off x="185724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1" name=""/>
          <p:cNvSpPr/>
          <p:nvPr/>
        </p:nvSpPr>
        <p:spPr>
          <a:xfrm flipH="1">
            <a:off x="2971800" y="3809880"/>
            <a:ext cx="87624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2" name=""/>
          <p:cNvSpPr/>
          <p:nvPr/>
        </p:nvSpPr>
        <p:spPr>
          <a:xfrm>
            <a:off x="1905120" y="380988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3" name=""/>
          <p:cNvSpPr/>
          <p:nvPr/>
        </p:nvSpPr>
        <p:spPr>
          <a:xfrm flipH="1">
            <a:off x="1980720" y="4267080"/>
            <a:ext cx="83844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4" name=""/>
          <p:cNvSpPr/>
          <p:nvPr/>
        </p:nvSpPr>
        <p:spPr>
          <a:xfrm>
            <a:off x="2895480" y="4267080"/>
            <a:ext cx="9144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05" name=""/>
          <p:cNvGrpSpPr/>
          <p:nvPr/>
        </p:nvGrpSpPr>
        <p:grpSpPr>
          <a:xfrm>
            <a:off x="4234680" y="441360"/>
            <a:ext cx="4459320" cy="4968720"/>
            <a:chOff x="4234680" y="441360"/>
            <a:chExt cx="4459320" cy="4968720"/>
          </a:xfrm>
        </p:grpSpPr>
        <p:sp>
          <p:nvSpPr>
            <p:cNvPr id="9606" name=""/>
            <p:cNvSpPr/>
            <p:nvPr/>
          </p:nvSpPr>
          <p:spPr>
            <a:xfrm>
              <a:off x="7315200" y="1905120"/>
              <a:ext cx="0" cy="3504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7" name=""/>
            <p:cNvSpPr/>
            <p:nvPr/>
          </p:nvSpPr>
          <p:spPr>
            <a:xfrm>
              <a:off x="7848720" y="1905120"/>
              <a:ext cx="0" cy="3504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8" name=""/>
            <p:cNvSpPr/>
            <p:nvPr/>
          </p:nvSpPr>
          <p:spPr>
            <a:xfrm>
              <a:off x="6554880" y="441360"/>
              <a:ext cx="213912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Found</a:t>
              </a:r>
              <a:br>
                <a:rPr sz="3000"/>
              </a:b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Not Handled</a:t>
              </a:r>
              <a:br>
                <a:rPr sz="3000"/>
              </a:b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Stack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9" name=""/>
            <p:cNvSpPr/>
            <p:nvPr/>
          </p:nvSpPr>
          <p:spPr>
            <a:xfrm>
              <a:off x="4234680" y="685800"/>
              <a:ext cx="15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Alg: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DF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10" name=""/>
          <p:cNvSpPr/>
          <p:nvPr/>
        </p:nvSpPr>
        <p:spPr>
          <a:xfrm>
            <a:off x="1781280" y="32004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1" name=""/>
          <p:cNvSpPr/>
          <p:nvPr/>
        </p:nvSpPr>
        <p:spPr>
          <a:xfrm>
            <a:off x="7431120" y="48610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2" name=""/>
          <p:cNvSpPr/>
          <p:nvPr/>
        </p:nvSpPr>
        <p:spPr>
          <a:xfrm>
            <a:off x="3869280" y="4689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3" name=""/>
          <p:cNvSpPr/>
          <p:nvPr/>
        </p:nvSpPr>
        <p:spPr>
          <a:xfrm>
            <a:off x="2819520" y="12952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4" name=""/>
          <p:cNvSpPr/>
          <p:nvPr/>
        </p:nvSpPr>
        <p:spPr>
          <a:xfrm>
            <a:off x="1752480" y="21337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5" name=""/>
          <p:cNvSpPr/>
          <p:nvPr/>
        </p:nvSpPr>
        <p:spPr>
          <a:xfrm>
            <a:off x="3733920" y="21366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6" name=""/>
          <p:cNvSpPr/>
          <p:nvPr/>
        </p:nvSpPr>
        <p:spPr>
          <a:xfrm>
            <a:off x="1766880" y="2666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7" name=""/>
          <p:cNvSpPr/>
          <p:nvPr/>
        </p:nvSpPr>
        <p:spPr>
          <a:xfrm>
            <a:off x="3762360" y="320364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8" name=""/>
          <p:cNvSpPr/>
          <p:nvPr/>
        </p:nvSpPr>
        <p:spPr>
          <a:xfrm>
            <a:off x="1795320" y="37339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9" name=""/>
          <p:cNvSpPr/>
          <p:nvPr/>
        </p:nvSpPr>
        <p:spPr>
          <a:xfrm>
            <a:off x="3776760" y="373680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0" name=""/>
          <p:cNvSpPr/>
          <p:nvPr/>
        </p:nvSpPr>
        <p:spPr>
          <a:xfrm>
            <a:off x="1809720" y="4952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1" name=""/>
          <p:cNvSpPr/>
          <p:nvPr/>
        </p:nvSpPr>
        <p:spPr>
          <a:xfrm>
            <a:off x="2819520" y="42069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2" name=""/>
          <p:cNvSpPr/>
          <p:nvPr/>
        </p:nvSpPr>
        <p:spPr>
          <a:xfrm>
            <a:off x="381960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3" name=""/>
          <p:cNvSpPr/>
          <p:nvPr/>
        </p:nvSpPr>
        <p:spPr>
          <a:xfrm>
            <a:off x="3809880" y="49528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4" name=""/>
          <p:cNvSpPr/>
          <p:nvPr/>
        </p:nvSpPr>
        <p:spPr>
          <a:xfrm>
            <a:off x="1672560" y="5257800"/>
            <a:ext cx="350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ake off stac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to backwards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5" name=""/>
          <p:cNvSpPr/>
          <p:nvPr/>
        </p:nvSpPr>
        <p:spPr>
          <a:xfrm>
            <a:off x="3994560" y="6156360"/>
            <a:ext cx="225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,i,j,k,d,e,g,l,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6" name=""/>
          <p:cNvSpPr/>
          <p:nvPr/>
        </p:nvSpPr>
        <p:spPr>
          <a:xfrm>
            <a:off x="3747960" y="26701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ear Or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28" name=""/>
          <p:cNvSpPr/>
          <p:nvPr/>
        </p:nvSpPr>
        <p:spPr>
          <a:xfrm>
            <a:off x="2543400" y="9748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9" name=""/>
          <p:cNvSpPr/>
          <p:nvPr/>
        </p:nvSpPr>
        <p:spPr>
          <a:xfrm flipH="1">
            <a:off x="1904760" y="1371600"/>
            <a:ext cx="99036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0" name=""/>
          <p:cNvSpPr/>
          <p:nvPr/>
        </p:nvSpPr>
        <p:spPr>
          <a:xfrm>
            <a:off x="1349640" y="1889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1" name=""/>
          <p:cNvSpPr/>
          <p:nvPr/>
        </p:nvSpPr>
        <p:spPr>
          <a:xfrm>
            <a:off x="3811680" y="1870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2" name=""/>
          <p:cNvSpPr/>
          <p:nvPr/>
        </p:nvSpPr>
        <p:spPr>
          <a:xfrm>
            <a:off x="1364040" y="2422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3" name=""/>
          <p:cNvSpPr/>
          <p:nvPr/>
        </p:nvSpPr>
        <p:spPr>
          <a:xfrm>
            <a:off x="3826440" y="2403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4" name=""/>
          <p:cNvSpPr/>
          <p:nvPr/>
        </p:nvSpPr>
        <p:spPr>
          <a:xfrm>
            <a:off x="1378080" y="2955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5" name=""/>
          <p:cNvSpPr/>
          <p:nvPr/>
        </p:nvSpPr>
        <p:spPr>
          <a:xfrm>
            <a:off x="3840840" y="29368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6" name=""/>
          <p:cNvSpPr/>
          <p:nvPr/>
        </p:nvSpPr>
        <p:spPr>
          <a:xfrm>
            <a:off x="1392480" y="34894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7" name=""/>
          <p:cNvSpPr/>
          <p:nvPr/>
        </p:nvSpPr>
        <p:spPr>
          <a:xfrm>
            <a:off x="3854880" y="34704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8" name=""/>
          <p:cNvSpPr/>
          <p:nvPr/>
        </p:nvSpPr>
        <p:spPr>
          <a:xfrm>
            <a:off x="1407240" y="4708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9" name=""/>
          <p:cNvSpPr/>
          <p:nvPr/>
        </p:nvSpPr>
        <p:spPr>
          <a:xfrm>
            <a:off x="2293920" y="3946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0" name=""/>
          <p:cNvSpPr/>
          <p:nvPr/>
        </p:nvSpPr>
        <p:spPr>
          <a:xfrm>
            <a:off x="2895480" y="1371600"/>
            <a:ext cx="83844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1" name=""/>
          <p:cNvSpPr/>
          <p:nvPr/>
        </p:nvSpPr>
        <p:spPr>
          <a:xfrm>
            <a:off x="380988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2" name=""/>
          <p:cNvSpPr/>
          <p:nvPr/>
        </p:nvSpPr>
        <p:spPr>
          <a:xfrm>
            <a:off x="383868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3" name=""/>
          <p:cNvSpPr/>
          <p:nvPr/>
        </p:nvSpPr>
        <p:spPr>
          <a:xfrm>
            <a:off x="182880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4" name=""/>
          <p:cNvSpPr/>
          <p:nvPr/>
        </p:nvSpPr>
        <p:spPr>
          <a:xfrm>
            <a:off x="183816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5" name=""/>
          <p:cNvSpPr/>
          <p:nvPr/>
        </p:nvSpPr>
        <p:spPr>
          <a:xfrm>
            <a:off x="185724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6" name=""/>
          <p:cNvSpPr/>
          <p:nvPr/>
        </p:nvSpPr>
        <p:spPr>
          <a:xfrm flipH="1">
            <a:off x="2971800" y="3809880"/>
            <a:ext cx="87624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7" name=""/>
          <p:cNvSpPr/>
          <p:nvPr/>
        </p:nvSpPr>
        <p:spPr>
          <a:xfrm>
            <a:off x="1905120" y="380988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8" name=""/>
          <p:cNvSpPr/>
          <p:nvPr/>
        </p:nvSpPr>
        <p:spPr>
          <a:xfrm flipH="1">
            <a:off x="1980720" y="4267080"/>
            <a:ext cx="83844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9" name=""/>
          <p:cNvSpPr/>
          <p:nvPr/>
        </p:nvSpPr>
        <p:spPr>
          <a:xfrm>
            <a:off x="2895480" y="4267080"/>
            <a:ext cx="9144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50" name=""/>
          <p:cNvGrpSpPr/>
          <p:nvPr/>
        </p:nvGrpSpPr>
        <p:grpSpPr>
          <a:xfrm>
            <a:off x="4234680" y="441360"/>
            <a:ext cx="4459320" cy="4968720"/>
            <a:chOff x="4234680" y="441360"/>
            <a:chExt cx="4459320" cy="4968720"/>
          </a:xfrm>
        </p:grpSpPr>
        <p:sp>
          <p:nvSpPr>
            <p:cNvPr id="9651" name=""/>
            <p:cNvSpPr/>
            <p:nvPr/>
          </p:nvSpPr>
          <p:spPr>
            <a:xfrm>
              <a:off x="7315200" y="1905120"/>
              <a:ext cx="0" cy="3504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2" name=""/>
            <p:cNvSpPr/>
            <p:nvPr/>
          </p:nvSpPr>
          <p:spPr>
            <a:xfrm>
              <a:off x="7848720" y="1905120"/>
              <a:ext cx="0" cy="3504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3" name=""/>
            <p:cNvSpPr/>
            <p:nvPr/>
          </p:nvSpPr>
          <p:spPr>
            <a:xfrm>
              <a:off x="6554880" y="441360"/>
              <a:ext cx="213912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Found</a:t>
              </a:r>
              <a:br>
                <a:rPr sz="3000"/>
              </a:b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Not Handled</a:t>
              </a:r>
              <a:br>
                <a:rPr sz="3000"/>
              </a:b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Stack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4" name=""/>
            <p:cNvSpPr/>
            <p:nvPr/>
          </p:nvSpPr>
          <p:spPr>
            <a:xfrm>
              <a:off x="4234680" y="685800"/>
              <a:ext cx="15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Alg: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DF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55" name=""/>
          <p:cNvSpPr/>
          <p:nvPr/>
        </p:nvSpPr>
        <p:spPr>
          <a:xfrm>
            <a:off x="1781280" y="32004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6" name=""/>
          <p:cNvSpPr/>
          <p:nvPr/>
        </p:nvSpPr>
        <p:spPr>
          <a:xfrm>
            <a:off x="3869280" y="4689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7" name=""/>
          <p:cNvSpPr/>
          <p:nvPr/>
        </p:nvSpPr>
        <p:spPr>
          <a:xfrm>
            <a:off x="2819520" y="12952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8" name=""/>
          <p:cNvSpPr/>
          <p:nvPr/>
        </p:nvSpPr>
        <p:spPr>
          <a:xfrm>
            <a:off x="1752480" y="21337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9" name=""/>
          <p:cNvSpPr/>
          <p:nvPr/>
        </p:nvSpPr>
        <p:spPr>
          <a:xfrm>
            <a:off x="3733920" y="21366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0" name=""/>
          <p:cNvSpPr/>
          <p:nvPr/>
        </p:nvSpPr>
        <p:spPr>
          <a:xfrm>
            <a:off x="1766880" y="2666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1" name=""/>
          <p:cNvSpPr/>
          <p:nvPr/>
        </p:nvSpPr>
        <p:spPr>
          <a:xfrm>
            <a:off x="3762360" y="320364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2" name=""/>
          <p:cNvSpPr/>
          <p:nvPr/>
        </p:nvSpPr>
        <p:spPr>
          <a:xfrm>
            <a:off x="1795320" y="37339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3" name=""/>
          <p:cNvSpPr/>
          <p:nvPr/>
        </p:nvSpPr>
        <p:spPr>
          <a:xfrm>
            <a:off x="3776760" y="373680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4" name=""/>
          <p:cNvSpPr/>
          <p:nvPr/>
        </p:nvSpPr>
        <p:spPr>
          <a:xfrm>
            <a:off x="1809720" y="4952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5" name=""/>
          <p:cNvSpPr/>
          <p:nvPr/>
        </p:nvSpPr>
        <p:spPr>
          <a:xfrm>
            <a:off x="2819520" y="42069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6" name=""/>
          <p:cNvSpPr/>
          <p:nvPr/>
        </p:nvSpPr>
        <p:spPr>
          <a:xfrm>
            <a:off x="381960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7" name=""/>
          <p:cNvSpPr/>
          <p:nvPr/>
        </p:nvSpPr>
        <p:spPr>
          <a:xfrm>
            <a:off x="3809880" y="49528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8" name=""/>
          <p:cNvSpPr/>
          <p:nvPr/>
        </p:nvSpPr>
        <p:spPr>
          <a:xfrm>
            <a:off x="1672560" y="5257800"/>
            <a:ext cx="350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ake off stac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to backwards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9" name=""/>
          <p:cNvSpPr/>
          <p:nvPr/>
        </p:nvSpPr>
        <p:spPr>
          <a:xfrm>
            <a:off x="3708360" y="6156360"/>
            <a:ext cx="254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,c,i,j,k,d,e,g,l,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0" name=""/>
          <p:cNvSpPr/>
          <p:nvPr/>
        </p:nvSpPr>
        <p:spPr>
          <a:xfrm>
            <a:off x="3747960" y="26701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ear Or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72" name=""/>
          <p:cNvSpPr/>
          <p:nvPr/>
        </p:nvSpPr>
        <p:spPr>
          <a:xfrm>
            <a:off x="2543400" y="9748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3" name=""/>
          <p:cNvSpPr/>
          <p:nvPr/>
        </p:nvSpPr>
        <p:spPr>
          <a:xfrm flipH="1">
            <a:off x="1904760" y="1371600"/>
            <a:ext cx="99036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4" name=""/>
          <p:cNvSpPr/>
          <p:nvPr/>
        </p:nvSpPr>
        <p:spPr>
          <a:xfrm>
            <a:off x="1349640" y="1889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5" name=""/>
          <p:cNvSpPr/>
          <p:nvPr/>
        </p:nvSpPr>
        <p:spPr>
          <a:xfrm>
            <a:off x="3811680" y="1870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6" name=""/>
          <p:cNvSpPr/>
          <p:nvPr/>
        </p:nvSpPr>
        <p:spPr>
          <a:xfrm>
            <a:off x="1364040" y="2422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7" name=""/>
          <p:cNvSpPr/>
          <p:nvPr/>
        </p:nvSpPr>
        <p:spPr>
          <a:xfrm>
            <a:off x="3826440" y="2403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8" name=""/>
          <p:cNvSpPr/>
          <p:nvPr/>
        </p:nvSpPr>
        <p:spPr>
          <a:xfrm>
            <a:off x="1378080" y="2955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9" name=""/>
          <p:cNvSpPr/>
          <p:nvPr/>
        </p:nvSpPr>
        <p:spPr>
          <a:xfrm>
            <a:off x="3840840" y="29368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0" name=""/>
          <p:cNvSpPr/>
          <p:nvPr/>
        </p:nvSpPr>
        <p:spPr>
          <a:xfrm>
            <a:off x="1392480" y="34894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1" name=""/>
          <p:cNvSpPr/>
          <p:nvPr/>
        </p:nvSpPr>
        <p:spPr>
          <a:xfrm>
            <a:off x="3854880" y="34704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2" name=""/>
          <p:cNvSpPr/>
          <p:nvPr/>
        </p:nvSpPr>
        <p:spPr>
          <a:xfrm>
            <a:off x="1407240" y="4708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3" name=""/>
          <p:cNvSpPr/>
          <p:nvPr/>
        </p:nvSpPr>
        <p:spPr>
          <a:xfrm>
            <a:off x="2293920" y="3946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4" name=""/>
          <p:cNvSpPr/>
          <p:nvPr/>
        </p:nvSpPr>
        <p:spPr>
          <a:xfrm>
            <a:off x="2895480" y="1371600"/>
            <a:ext cx="83844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5" name=""/>
          <p:cNvSpPr/>
          <p:nvPr/>
        </p:nvSpPr>
        <p:spPr>
          <a:xfrm>
            <a:off x="380988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6" name=""/>
          <p:cNvSpPr/>
          <p:nvPr/>
        </p:nvSpPr>
        <p:spPr>
          <a:xfrm>
            <a:off x="383868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7" name=""/>
          <p:cNvSpPr/>
          <p:nvPr/>
        </p:nvSpPr>
        <p:spPr>
          <a:xfrm>
            <a:off x="182880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8" name=""/>
          <p:cNvSpPr/>
          <p:nvPr/>
        </p:nvSpPr>
        <p:spPr>
          <a:xfrm>
            <a:off x="183816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9" name=""/>
          <p:cNvSpPr/>
          <p:nvPr/>
        </p:nvSpPr>
        <p:spPr>
          <a:xfrm>
            <a:off x="185724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0" name=""/>
          <p:cNvSpPr/>
          <p:nvPr/>
        </p:nvSpPr>
        <p:spPr>
          <a:xfrm flipH="1">
            <a:off x="2971800" y="3809880"/>
            <a:ext cx="87624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1" name=""/>
          <p:cNvSpPr/>
          <p:nvPr/>
        </p:nvSpPr>
        <p:spPr>
          <a:xfrm>
            <a:off x="1905120" y="380988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2" name=""/>
          <p:cNvSpPr/>
          <p:nvPr/>
        </p:nvSpPr>
        <p:spPr>
          <a:xfrm flipH="1">
            <a:off x="1980720" y="4267080"/>
            <a:ext cx="83844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3" name=""/>
          <p:cNvSpPr/>
          <p:nvPr/>
        </p:nvSpPr>
        <p:spPr>
          <a:xfrm>
            <a:off x="2895480" y="4267080"/>
            <a:ext cx="9144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94" name=""/>
          <p:cNvGrpSpPr/>
          <p:nvPr/>
        </p:nvGrpSpPr>
        <p:grpSpPr>
          <a:xfrm>
            <a:off x="4234680" y="441360"/>
            <a:ext cx="4459320" cy="4968720"/>
            <a:chOff x="4234680" y="441360"/>
            <a:chExt cx="4459320" cy="4968720"/>
          </a:xfrm>
        </p:grpSpPr>
        <p:sp>
          <p:nvSpPr>
            <p:cNvPr id="9695" name=""/>
            <p:cNvSpPr/>
            <p:nvPr/>
          </p:nvSpPr>
          <p:spPr>
            <a:xfrm>
              <a:off x="7315200" y="1905120"/>
              <a:ext cx="0" cy="3504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6" name=""/>
            <p:cNvSpPr/>
            <p:nvPr/>
          </p:nvSpPr>
          <p:spPr>
            <a:xfrm>
              <a:off x="7848720" y="1905120"/>
              <a:ext cx="0" cy="3504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7" name=""/>
            <p:cNvSpPr/>
            <p:nvPr/>
          </p:nvSpPr>
          <p:spPr>
            <a:xfrm>
              <a:off x="6554880" y="441360"/>
              <a:ext cx="213912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Found</a:t>
              </a:r>
              <a:br>
                <a:rPr sz="3000"/>
              </a:b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Not Handled</a:t>
              </a:r>
              <a:br>
                <a:rPr sz="3000"/>
              </a:b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Stack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8" name=""/>
            <p:cNvSpPr/>
            <p:nvPr/>
          </p:nvSpPr>
          <p:spPr>
            <a:xfrm>
              <a:off x="4234680" y="685800"/>
              <a:ext cx="15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Alg: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DF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99" name=""/>
          <p:cNvSpPr/>
          <p:nvPr/>
        </p:nvSpPr>
        <p:spPr>
          <a:xfrm>
            <a:off x="1781280" y="32004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0" name=""/>
          <p:cNvSpPr/>
          <p:nvPr/>
        </p:nvSpPr>
        <p:spPr>
          <a:xfrm>
            <a:off x="7431120" y="48610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1" name=""/>
          <p:cNvSpPr/>
          <p:nvPr/>
        </p:nvSpPr>
        <p:spPr>
          <a:xfrm>
            <a:off x="3869280" y="4689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2" name=""/>
          <p:cNvSpPr/>
          <p:nvPr/>
        </p:nvSpPr>
        <p:spPr>
          <a:xfrm>
            <a:off x="2819520" y="12952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3" name=""/>
          <p:cNvSpPr/>
          <p:nvPr/>
        </p:nvSpPr>
        <p:spPr>
          <a:xfrm>
            <a:off x="1752480" y="21337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4" name=""/>
          <p:cNvSpPr/>
          <p:nvPr/>
        </p:nvSpPr>
        <p:spPr>
          <a:xfrm>
            <a:off x="3733920" y="213660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5" name=""/>
          <p:cNvSpPr/>
          <p:nvPr/>
        </p:nvSpPr>
        <p:spPr>
          <a:xfrm>
            <a:off x="1766880" y="2666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6" name=""/>
          <p:cNvSpPr/>
          <p:nvPr/>
        </p:nvSpPr>
        <p:spPr>
          <a:xfrm>
            <a:off x="3762360" y="320364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7" name=""/>
          <p:cNvSpPr/>
          <p:nvPr/>
        </p:nvSpPr>
        <p:spPr>
          <a:xfrm>
            <a:off x="1795320" y="37339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8" name=""/>
          <p:cNvSpPr/>
          <p:nvPr/>
        </p:nvSpPr>
        <p:spPr>
          <a:xfrm>
            <a:off x="3776760" y="373680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9" name=""/>
          <p:cNvSpPr/>
          <p:nvPr/>
        </p:nvSpPr>
        <p:spPr>
          <a:xfrm>
            <a:off x="1809720" y="4952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0" name=""/>
          <p:cNvSpPr/>
          <p:nvPr/>
        </p:nvSpPr>
        <p:spPr>
          <a:xfrm>
            <a:off x="2819520" y="42069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1" name=""/>
          <p:cNvSpPr/>
          <p:nvPr/>
        </p:nvSpPr>
        <p:spPr>
          <a:xfrm>
            <a:off x="381960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2" name=""/>
          <p:cNvSpPr/>
          <p:nvPr/>
        </p:nvSpPr>
        <p:spPr>
          <a:xfrm>
            <a:off x="3809880" y="49528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3" name=""/>
          <p:cNvSpPr/>
          <p:nvPr/>
        </p:nvSpPr>
        <p:spPr>
          <a:xfrm>
            <a:off x="1672560" y="5257800"/>
            <a:ext cx="350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ake off stac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to backwards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4" name=""/>
          <p:cNvSpPr/>
          <p:nvPr/>
        </p:nvSpPr>
        <p:spPr>
          <a:xfrm>
            <a:off x="7412040" y="43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5" name=""/>
          <p:cNvSpPr/>
          <p:nvPr/>
        </p:nvSpPr>
        <p:spPr>
          <a:xfrm>
            <a:off x="3708360" y="6156360"/>
            <a:ext cx="254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,c,i,j,k,d,e,g,l,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6" name=""/>
          <p:cNvSpPr/>
          <p:nvPr/>
        </p:nvSpPr>
        <p:spPr>
          <a:xfrm>
            <a:off x="3747960" y="26701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fill="hold">
                      <p:stCondLst>
                        <p:cond delay="0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9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9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8" dur="500" fill="hold"/>
                                        <p:tgtEl>
                                          <p:spTgt spid="97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79" dur="500" fill="hold"/>
                                        <p:tgtEl>
                                          <p:spTgt spid="97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9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9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7" dur="500" fill="hold"/>
                                        <p:tgtEl>
                                          <p:spTgt spid="97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88" dur="500" fill="hold"/>
                                        <p:tgtEl>
                                          <p:spTgt spid="97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ear Or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18" name=""/>
          <p:cNvSpPr/>
          <p:nvPr/>
        </p:nvSpPr>
        <p:spPr>
          <a:xfrm>
            <a:off x="2543400" y="9748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9" name=""/>
          <p:cNvSpPr/>
          <p:nvPr/>
        </p:nvSpPr>
        <p:spPr>
          <a:xfrm flipH="1">
            <a:off x="1904760" y="1371600"/>
            <a:ext cx="99036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0" name=""/>
          <p:cNvSpPr/>
          <p:nvPr/>
        </p:nvSpPr>
        <p:spPr>
          <a:xfrm>
            <a:off x="1349640" y="1889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1" name=""/>
          <p:cNvSpPr/>
          <p:nvPr/>
        </p:nvSpPr>
        <p:spPr>
          <a:xfrm>
            <a:off x="3811680" y="1870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2" name=""/>
          <p:cNvSpPr/>
          <p:nvPr/>
        </p:nvSpPr>
        <p:spPr>
          <a:xfrm>
            <a:off x="1364040" y="2422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3" name=""/>
          <p:cNvSpPr/>
          <p:nvPr/>
        </p:nvSpPr>
        <p:spPr>
          <a:xfrm>
            <a:off x="3826440" y="2403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4" name=""/>
          <p:cNvSpPr/>
          <p:nvPr/>
        </p:nvSpPr>
        <p:spPr>
          <a:xfrm>
            <a:off x="1378080" y="2955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5" name=""/>
          <p:cNvSpPr/>
          <p:nvPr/>
        </p:nvSpPr>
        <p:spPr>
          <a:xfrm>
            <a:off x="3840840" y="29368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6" name=""/>
          <p:cNvSpPr/>
          <p:nvPr/>
        </p:nvSpPr>
        <p:spPr>
          <a:xfrm>
            <a:off x="1392480" y="34894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7" name=""/>
          <p:cNvSpPr/>
          <p:nvPr/>
        </p:nvSpPr>
        <p:spPr>
          <a:xfrm>
            <a:off x="3854880" y="34704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8" name=""/>
          <p:cNvSpPr/>
          <p:nvPr/>
        </p:nvSpPr>
        <p:spPr>
          <a:xfrm>
            <a:off x="1407240" y="4708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9" name=""/>
          <p:cNvSpPr/>
          <p:nvPr/>
        </p:nvSpPr>
        <p:spPr>
          <a:xfrm>
            <a:off x="2293920" y="3946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0" name=""/>
          <p:cNvSpPr/>
          <p:nvPr/>
        </p:nvSpPr>
        <p:spPr>
          <a:xfrm>
            <a:off x="2895480" y="1371600"/>
            <a:ext cx="83844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1" name=""/>
          <p:cNvSpPr/>
          <p:nvPr/>
        </p:nvSpPr>
        <p:spPr>
          <a:xfrm>
            <a:off x="380988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2" name=""/>
          <p:cNvSpPr/>
          <p:nvPr/>
        </p:nvSpPr>
        <p:spPr>
          <a:xfrm>
            <a:off x="383868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3" name=""/>
          <p:cNvSpPr/>
          <p:nvPr/>
        </p:nvSpPr>
        <p:spPr>
          <a:xfrm>
            <a:off x="182880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4" name=""/>
          <p:cNvSpPr/>
          <p:nvPr/>
        </p:nvSpPr>
        <p:spPr>
          <a:xfrm>
            <a:off x="183816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5" name=""/>
          <p:cNvSpPr/>
          <p:nvPr/>
        </p:nvSpPr>
        <p:spPr>
          <a:xfrm>
            <a:off x="185724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6" name=""/>
          <p:cNvSpPr/>
          <p:nvPr/>
        </p:nvSpPr>
        <p:spPr>
          <a:xfrm flipH="1">
            <a:off x="2971800" y="3809880"/>
            <a:ext cx="87624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7" name=""/>
          <p:cNvSpPr/>
          <p:nvPr/>
        </p:nvSpPr>
        <p:spPr>
          <a:xfrm>
            <a:off x="1905120" y="380988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8" name=""/>
          <p:cNvSpPr/>
          <p:nvPr/>
        </p:nvSpPr>
        <p:spPr>
          <a:xfrm flipH="1">
            <a:off x="1980720" y="4267080"/>
            <a:ext cx="83844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9" name=""/>
          <p:cNvSpPr/>
          <p:nvPr/>
        </p:nvSpPr>
        <p:spPr>
          <a:xfrm>
            <a:off x="2895480" y="4267080"/>
            <a:ext cx="9144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40" name=""/>
          <p:cNvGrpSpPr/>
          <p:nvPr/>
        </p:nvGrpSpPr>
        <p:grpSpPr>
          <a:xfrm>
            <a:off x="4234680" y="441360"/>
            <a:ext cx="4459320" cy="4968720"/>
            <a:chOff x="4234680" y="441360"/>
            <a:chExt cx="4459320" cy="4968720"/>
          </a:xfrm>
        </p:grpSpPr>
        <p:sp>
          <p:nvSpPr>
            <p:cNvPr id="9741" name=""/>
            <p:cNvSpPr/>
            <p:nvPr/>
          </p:nvSpPr>
          <p:spPr>
            <a:xfrm>
              <a:off x="7315200" y="1905120"/>
              <a:ext cx="0" cy="3504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2" name=""/>
            <p:cNvSpPr/>
            <p:nvPr/>
          </p:nvSpPr>
          <p:spPr>
            <a:xfrm>
              <a:off x="7848720" y="1905120"/>
              <a:ext cx="0" cy="3504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3" name=""/>
            <p:cNvSpPr/>
            <p:nvPr/>
          </p:nvSpPr>
          <p:spPr>
            <a:xfrm>
              <a:off x="6554880" y="441360"/>
              <a:ext cx="213912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Found</a:t>
              </a:r>
              <a:br>
                <a:rPr sz="3000"/>
              </a:b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Not Handled</a:t>
              </a:r>
              <a:br>
                <a:rPr sz="3000"/>
              </a:b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Stack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4" name=""/>
            <p:cNvSpPr/>
            <p:nvPr/>
          </p:nvSpPr>
          <p:spPr>
            <a:xfrm>
              <a:off x="4234680" y="685800"/>
              <a:ext cx="15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Alg: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DF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45" name=""/>
          <p:cNvSpPr/>
          <p:nvPr/>
        </p:nvSpPr>
        <p:spPr>
          <a:xfrm>
            <a:off x="1781280" y="32004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6" name=""/>
          <p:cNvSpPr/>
          <p:nvPr/>
        </p:nvSpPr>
        <p:spPr>
          <a:xfrm>
            <a:off x="7431120" y="48610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7" name=""/>
          <p:cNvSpPr/>
          <p:nvPr/>
        </p:nvSpPr>
        <p:spPr>
          <a:xfrm>
            <a:off x="3869280" y="4689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8" name=""/>
          <p:cNvSpPr/>
          <p:nvPr/>
        </p:nvSpPr>
        <p:spPr>
          <a:xfrm>
            <a:off x="2819520" y="12952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9" name=""/>
          <p:cNvSpPr/>
          <p:nvPr/>
        </p:nvSpPr>
        <p:spPr>
          <a:xfrm>
            <a:off x="1752480" y="21337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0" name=""/>
          <p:cNvSpPr/>
          <p:nvPr/>
        </p:nvSpPr>
        <p:spPr>
          <a:xfrm>
            <a:off x="3733920" y="213660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1" name=""/>
          <p:cNvSpPr/>
          <p:nvPr/>
        </p:nvSpPr>
        <p:spPr>
          <a:xfrm>
            <a:off x="1766880" y="2666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2" name=""/>
          <p:cNvSpPr/>
          <p:nvPr/>
        </p:nvSpPr>
        <p:spPr>
          <a:xfrm>
            <a:off x="3762360" y="320364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3" name=""/>
          <p:cNvSpPr/>
          <p:nvPr/>
        </p:nvSpPr>
        <p:spPr>
          <a:xfrm>
            <a:off x="1795320" y="37339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4" name=""/>
          <p:cNvSpPr/>
          <p:nvPr/>
        </p:nvSpPr>
        <p:spPr>
          <a:xfrm>
            <a:off x="3776760" y="373680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5" name=""/>
          <p:cNvSpPr/>
          <p:nvPr/>
        </p:nvSpPr>
        <p:spPr>
          <a:xfrm>
            <a:off x="1809720" y="4952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6" name=""/>
          <p:cNvSpPr/>
          <p:nvPr/>
        </p:nvSpPr>
        <p:spPr>
          <a:xfrm>
            <a:off x="2819520" y="42069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7" name=""/>
          <p:cNvSpPr/>
          <p:nvPr/>
        </p:nvSpPr>
        <p:spPr>
          <a:xfrm>
            <a:off x="381960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8" name=""/>
          <p:cNvSpPr/>
          <p:nvPr/>
        </p:nvSpPr>
        <p:spPr>
          <a:xfrm>
            <a:off x="3809880" y="49528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9" name=""/>
          <p:cNvSpPr/>
          <p:nvPr/>
        </p:nvSpPr>
        <p:spPr>
          <a:xfrm>
            <a:off x="1672560" y="5257800"/>
            <a:ext cx="350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ake off stac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to backwards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0" name=""/>
          <p:cNvSpPr/>
          <p:nvPr/>
        </p:nvSpPr>
        <p:spPr>
          <a:xfrm>
            <a:off x="3429360" y="6156360"/>
            <a:ext cx="282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,b,c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,j,k,d,e,g,l,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1" name=""/>
          <p:cNvSpPr/>
          <p:nvPr/>
        </p:nvSpPr>
        <p:spPr>
          <a:xfrm>
            <a:off x="3747960" y="26701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ear Or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63" name=""/>
          <p:cNvSpPr/>
          <p:nvPr/>
        </p:nvSpPr>
        <p:spPr>
          <a:xfrm>
            <a:off x="2543400" y="9748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4" name=""/>
          <p:cNvSpPr/>
          <p:nvPr/>
        </p:nvSpPr>
        <p:spPr>
          <a:xfrm flipH="1">
            <a:off x="1904760" y="1371600"/>
            <a:ext cx="99036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5" name=""/>
          <p:cNvSpPr/>
          <p:nvPr/>
        </p:nvSpPr>
        <p:spPr>
          <a:xfrm>
            <a:off x="1349640" y="1889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6" name=""/>
          <p:cNvSpPr/>
          <p:nvPr/>
        </p:nvSpPr>
        <p:spPr>
          <a:xfrm>
            <a:off x="3811680" y="1870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7" name=""/>
          <p:cNvSpPr/>
          <p:nvPr/>
        </p:nvSpPr>
        <p:spPr>
          <a:xfrm>
            <a:off x="1364040" y="2422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8" name=""/>
          <p:cNvSpPr/>
          <p:nvPr/>
        </p:nvSpPr>
        <p:spPr>
          <a:xfrm>
            <a:off x="3826440" y="2403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9" name=""/>
          <p:cNvSpPr/>
          <p:nvPr/>
        </p:nvSpPr>
        <p:spPr>
          <a:xfrm>
            <a:off x="1378080" y="2955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0" name=""/>
          <p:cNvSpPr/>
          <p:nvPr/>
        </p:nvSpPr>
        <p:spPr>
          <a:xfrm>
            <a:off x="3840840" y="29368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1" name=""/>
          <p:cNvSpPr/>
          <p:nvPr/>
        </p:nvSpPr>
        <p:spPr>
          <a:xfrm>
            <a:off x="1392480" y="34894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2" name=""/>
          <p:cNvSpPr/>
          <p:nvPr/>
        </p:nvSpPr>
        <p:spPr>
          <a:xfrm>
            <a:off x="3854880" y="34704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3" name=""/>
          <p:cNvSpPr/>
          <p:nvPr/>
        </p:nvSpPr>
        <p:spPr>
          <a:xfrm>
            <a:off x="1407240" y="4708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4" name=""/>
          <p:cNvSpPr/>
          <p:nvPr/>
        </p:nvSpPr>
        <p:spPr>
          <a:xfrm>
            <a:off x="2293920" y="3946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5" name=""/>
          <p:cNvSpPr/>
          <p:nvPr/>
        </p:nvSpPr>
        <p:spPr>
          <a:xfrm>
            <a:off x="2895480" y="1371600"/>
            <a:ext cx="83844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6" name=""/>
          <p:cNvSpPr/>
          <p:nvPr/>
        </p:nvSpPr>
        <p:spPr>
          <a:xfrm>
            <a:off x="380988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7" name=""/>
          <p:cNvSpPr/>
          <p:nvPr/>
        </p:nvSpPr>
        <p:spPr>
          <a:xfrm>
            <a:off x="383868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8" name=""/>
          <p:cNvSpPr/>
          <p:nvPr/>
        </p:nvSpPr>
        <p:spPr>
          <a:xfrm>
            <a:off x="182880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9" name=""/>
          <p:cNvSpPr/>
          <p:nvPr/>
        </p:nvSpPr>
        <p:spPr>
          <a:xfrm>
            <a:off x="183816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0" name=""/>
          <p:cNvSpPr/>
          <p:nvPr/>
        </p:nvSpPr>
        <p:spPr>
          <a:xfrm>
            <a:off x="1857240" y="32767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1" name=""/>
          <p:cNvSpPr/>
          <p:nvPr/>
        </p:nvSpPr>
        <p:spPr>
          <a:xfrm flipH="1">
            <a:off x="2971800" y="3809880"/>
            <a:ext cx="87624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2" name=""/>
          <p:cNvSpPr/>
          <p:nvPr/>
        </p:nvSpPr>
        <p:spPr>
          <a:xfrm>
            <a:off x="1905120" y="380988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3" name=""/>
          <p:cNvSpPr/>
          <p:nvPr/>
        </p:nvSpPr>
        <p:spPr>
          <a:xfrm flipH="1">
            <a:off x="1980720" y="4267080"/>
            <a:ext cx="83844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4" name=""/>
          <p:cNvSpPr/>
          <p:nvPr/>
        </p:nvSpPr>
        <p:spPr>
          <a:xfrm>
            <a:off x="2895480" y="4267080"/>
            <a:ext cx="9144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85" name=""/>
          <p:cNvGrpSpPr/>
          <p:nvPr/>
        </p:nvGrpSpPr>
        <p:grpSpPr>
          <a:xfrm>
            <a:off x="4234680" y="441360"/>
            <a:ext cx="4459320" cy="4968720"/>
            <a:chOff x="4234680" y="441360"/>
            <a:chExt cx="4459320" cy="4968720"/>
          </a:xfrm>
        </p:grpSpPr>
        <p:sp>
          <p:nvSpPr>
            <p:cNvPr id="9786" name=""/>
            <p:cNvSpPr/>
            <p:nvPr/>
          </p:nvSpPr>
          <p:spPr>
            <a:xfrm>
              <a:off x="7315200" y="1905120"/>
              <a:ext cx="0" cy="3504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7" name=""/>
            <p:cNvSpPr/>
            <p:nvPr/>
          </p:nvSpPr>
          <p:spPr>
            <a:xfrm>
              <a:off x="7848720" y="1905120"/>
              <a:ext cx="0" cy="3504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8" name=""/>
            <p:cNvSpPr/>
            <p:nvPr/>
          </p:nvSpPr>
          <p:spPr>
            <a:xfrm>
              <a:off x="6554880" y="441360"/>
              <a:ext cx="213912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Found</a:t>
              </a:r>
              <a:br>
                <a:rPr sz="3000"/>
              </a:b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Not Handled</a:t>
              </a:r>
              <a:br>
                <a:rPr sz="3000"/>
              </a:b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Stack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9" name=""/>
            <p:cNvSpPr/>
            <p:nvPr/>
          </p:nvSpPr>
          <p:spPr>
            <a:xfrm>
              <a:off x="4234680" y="685800"/>
              <a:ext cx="15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imes New Roman"/>
                </a:rPr>
                <a:t>Alg: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DF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90" name=""/>
          <p:cNvSpPr/>
          <p:nvPr/>
        </p:nvSpPr>
        <p:spPr>
          <a:xfrm>
            <a:off x="1781280" y="32004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1" name=""/>
          <p:cNvSpPr/>
          <p:nvPr/>
        </p:nvSpPr>
        <p:spPr>
          <a:xfrm>
            <a:off x="3869280" y="4689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2" name=""/>
          <p:cNvSpPr/>
          <p:nvPr/>
        </p:nvSpPr>
        <p:spPr>
          <a:xfrm>
            <a:off x="2819520" y="12952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3" name=""/>
          <p:cNvSpPr/>
          <p:nvPr/>
        </p:nvSpPr>
        <p:spPr>
          <a:xfrm>
            <a:off x="1752480" y="21337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4" name=""/>
          <p:cNvSpPr/>
          <p:nvPr/>
        </p:nvSpPr>
        <p:spPr>
          <a:xfrm>
            <a:off x="3733920" y="213660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5" name=""/>
          <p:cNvSpPr/>
          <p:nvPr/>
        </p:nvSpPr>
        <p:spPr>
          <a:xfrm>
            <a:off x="1766880" y="2666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6" name=""/>
          <p:cNvSpPr/>
          <p:nvPr/>
        </p:nvSpPr>
        <p:spPr>
          <a:xfrm>
            <a:off x="3762360" y="320364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7" name=""/>
          <p:cNvSpPr/>
          <p:nvPr/>
        </p:nvSpPr>
        <p:spPr>
          <a:xfrm>
            <a:off x="1795320" y="37339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8" name=""/>
          <p:cNvSpPr/>
          <p:nvPr/>
        </p:nvSpPr>
        <p:spPr>
          <a:xfrm>
            <a:off x="3776760" y="373680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9" name=""/>
          <p:cNvSpPr/>
          <p:nvPr/>
        </p:nvSpPr>
        <p:spPr>
          <a:xfrm>
            <a:off x="1809720" y="49528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0" name=""/>
          <p:cNvSpPr/>
          <p:nvPr/>
        </p:nvSpPr>
        <p:spPr>
          <a:xfrm>
            <a:off x="2819520" y="42069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1" name=""/>
          <p:cNvSpPr/>
          <p:nvPr/>
        </p:nvSpPr>
        <p:spPr>
          <a:xfrm>
            <a:off x="381960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2" name=""/>
          <p:cNvSpPr/>
          <p:nvPr/>
        </p:nvSpPr>
        <p:spPr>
          <a:xfrm>
            <a:off x="3809880" y="49528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3" name=""/>
          <p:cNvSpPr/>
          <p:nvPr/>
        </p:nvSpPr>
        <p:spPr>
          <a:xfrm>
            <a:off x="1672560" y="5257800"/>
            <a:ext cx="350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ake off stac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to backwards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4" name=""/>
          <p:cNvSpPr/>
          <p:nvPr/>
        </p:nvSpPr>
        <p:spPr>
          <a:xfrm>
            <a:off x="3135960" y="6156360"/>
            <a:ext cx="311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,h,b,c,i,j,k,d,e,g,l,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5" name=""/>
          <p:cNvSpPr/>
          <p:nvPr/>
        </p:nvSpPr>
        <p:spPr>
          <a:xfrm>
            <a:off x="7965360" y="61628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6" name=""/>
          <p:cNvSpPr/>
          <p:nvPr/>
        </p:nvSpPr>
        <p:spPr>
          <a:xfrm>
            <a:off x="3747960" y="26701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9" dur="indefinite" restart="never" nodeType="tmRoot">
          <p:childTnLst>
            <p:seq>
              <p:cTn id="1490" dur="indefinite" nodeType="mainSeq">
                <p:childTnLst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9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9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ear Or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08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9" name=""/>
          <p:cNvSpPr/>
          <p:nvPr/>
        </p:nvSpPr>
        <p:spPr>
          <a:xfrm>
            <a:off x="78487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0" name=""/>
          <p:cNvSpPr/>
          <p:nvPr/>
        </p:nvSpPr>
        <p:spPr>
          <a:xfrm>
            <a:off x="6554880" y="44136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1" name=""/>
          <p:cNvSpPr/>
          <p:nvPr/>
        </p:nvSpPr>
        <p:spPr>
          <a:xfrm>
            <a:off x="686160" y="1049400"/>
            <a:ext cx="562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Pro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se 1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oes on stack first befor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of edg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oes on befor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es 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es off befor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es 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oes afte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order.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12" name=""/>
          <p:cNvGrpSpPr/>
          <p:nvPr/>
        </p:nvGrpSpPr>
        <p:grpSpPr>
          <a:xfrm>
            <a:off x="2262240" y="5756400"/>
            <a:ext cx="1677240" cy="569520"/>
            <a:chOff x="2262240" y="5756400"/>
            <a:chExt cx="1677240" cy="569520"/>
          </a:xfrm>
        </p:grpSpPr>
        <p:sp>
          <p:nvSpPr>
            <p:cNvPr id="9813" name=""/>
            <p:cNvSpPr/>
            <p:nvPr/>
          </p:nvSpPr>
          <p:spPr>
            <a:xfrm>
              <a:off x="2262240" y="575640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4" name=""/>
            <p:cNvSpPr/>
            <p:nvPr/>
          </p:nvSpPr>
          <p:spPr>
            <a:xfrm>
              <a:off x="3589560" y="577512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5" name=""/>
            <p:cNvSpPr/>
            <p:nvPr/>
          </p:nvSpPr>
          <p:spPr>
            <a:xfrm>
              <a:off x="2658960" y="6095880"/>
              <a:ext cx="776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6" name=""/>
            <p:cNvSpPr/>
            <p:nvPr/>
          </p:nvSpPr>
          <p:spPr>
            <a:xfrm>
              <a:off x="2582640" y="6019560"/>
              <a:ext cx="152280" cy="151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7" name=""/>
            <p:cNvSpPr/>
            <p:nvPr/>
          </p:nvSpPr>
          <p:spPr>
            <a:xfrm>
              <a:off x="3435120" y="6019560"/>
              <a:ext cx="152280" cy="151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18" name=""/>
          <p:cNvSpPr/>
          <p:nvPr/>
        </p:nvSpPr>
        <p:spPr>
          <a:xfrm>
            <a:off x="5507640" y="618660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9" name=""/>
          <p:cNvSpPr/>
          <p:nvPr/>
        </p:nvSpPr>
        <p:spPr>
          <a:xfrm>
            <a:off x="5049720" y="618660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0" name=""/>
          <p:cNvSpPr/>
          <p:nvPr/>
        </p:nvSpPr>
        <p:spPr>
          <a:xfrm>
            <a:off x="1753200" y="1047600"/>
            <a:ext cx="29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Consider each 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21" name=""/>
          <p:cNvGrpSpPr/>
          <p:nvPr/>
        </p:nvGrpSpPr>
        <p:grpSpPr>
          <a:xfrm>
            <a:off x="7238880" y="3657600"/>
            <a:ext cx="529920" cy="974160"/>
            <a:chOff x="7238880" y="3657600"/>
            <a:chExt cx="529920" cy="974160"/>
          </a:xfrm>
        </p:grpSpPr>
        <p:sp>
          <p:nvSpPr>
            <p:cNvPr id="9822" name=""/>
            <p:cNvSpPr/>
            <p:nvPr/>
          </p:nvSpPr>
          <p:spPr>
            <a:xfrm>
              <a:off x="7418880" y="365760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3" name=""/>
            <p:cNvSpPr/>
            <p:nvPr/>
          </p:nvSpPr>
          <p:spPr>
            <a:xfrm rot="16200000">
              <a:off x="7251120" y="4123440"/>
              <a:ext cx="4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24" name=""/>
          <p:cNvGrpSpPr/>
          <p:nvPr/>
        </p:nvGrpSpPr>
        <p:grpSpPr>
          <a:xfrm>
            <a:off x="7248600" y="4486320"/>
            <a:ext cx="534600" cy="907560"/>
            <a:chOff x="7248600" y="4486320"/>
            <a:chExt cx="534600" cy="907560"/>
          </a:xfrm>
        </p:grpSpPr>
        <p:sp>
          <p:nvSpPr>
            <p:cNvPr id="9825" name=""/>
            <p:cNvSpPr/>
            <p:nvPr/>
          </p:nvSpPr>
          <p:spPr>
            <a:xfrm>
              <a:off x="7412040" y="44863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6" name=""/>
            <p:cNvSpPr/>
            <p:nvPr/>
          </p:nvSpPr>
          <p:spPr>
            <a:xfrm rot="16200000">
              <a:off x="7260840" y="4885560"/>
              <a:ext cx="4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7" dur="indefinite" restart="never" nodeType="tmRoot">
          <p:childTnLst>
            <p:seq>
              <p:cTn id="1498" dur="indefinite" nodeType="mainSeq">
                <p:childTnLst>
                  <p:par>
                    <p:cTn id="1499" fill="hold">
                      <p:stCondLst>
                        <p:cond delay="0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9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9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9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9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9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9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9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9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9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9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9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9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9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9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9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9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9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9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9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9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9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9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9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9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ear Or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28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9" name=""/>
          <p:cNvSpPr/>
          <p:nvPr/>
        </p:nvSpPr>
        <p:spPr>
          <a:xfrm>
            <a:off x="78487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0" name=""/>
          <p:cNvSpPr/>
          <p:nvPr/>
        </p:nvSpPr>
        <p:spPr>
          <a:xfrm>
            <a:off x="6554880" y="44136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1" name=""/>
          <p:cNvSpPr/>
          <p:nvPr/>
        </p:nvSpPr>
        <p:spPr>
          <a:xfrm>
            <a:off x="685800" y="1049400"/>
            <a:ext cx="5624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Pro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se 1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oes on stack first befor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se 2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oes on stack first befor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es off befor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oes 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oes afte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order.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32" name=""/>
          <p:cNvGrpSpPr/>
          <p:nvPr/>
        </p:nvGrpSpPr>
        <p:grpSpPr>
          <a:xfrm>
            <a:off x="2262240" y="5756400"/>
            <a:ext cx="1677240" cy="569520"/>
            <a:chOff x="2262240" y="5756400"/>
            <a:chExt cx="1677240" cy="569520"/>
          </a:xfrm>
        </p:grpSpPr>
        <p:sp>
          <p:nvSpPr>
            <p:cNvPr id="9833" name=""/>
            <p:cNvSpPr/>
            <p:nvPr/>
          </p:nvSpPr>
          <p:spPr>
            <a:xfrm>
              <a:off x="2262240" y="575640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4" name=""/>
            <p:cNvSpPr/>
            <p:nvPr/>
          </p:nvSpPr>
          <p:spPr>
            <a:xfrm>
              <a:off x="3589560" y="577512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5" name=""/>
            <p:cNvSpPr/>
            <p:nvPr/>
          </p:nvSpPr>
          <p:spPr>
            <a:xfrm>
              <a:off x="2658960" y="6095880"/>
              <a:ext cx="776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6" name=""/>
            <p:cNvSpPr/>
            <p:nvPr/>
          </p:nvSpPr>
          <p:spPr>
            <a:xfrm>
              <a:off x="2582640" y="6019560"/>
              <a:ext cx="152280" cy="151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7" name=""/>
            <p:cNvSpPr/>
            <p:nvPr/>
          </p:nvSpPr>
          <p:spPr>
            <a:xfrm>
              <a:off x="3435120" y="6019560"/>
              <a:ext cx="152280" cy="151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38" name=""/>
          <p:cNvSpPr/>
          <p:nvPr/>
        </p:nvSpPr>
        <p:spPr>
          <a:xfrm>
            <a:off x="5507640" y="618660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9" name=""/>
          <p:cNvSpPr/>
          <p:nvPr/>
        </p:nvSpPr>
        <p:spPr>
          <a:xfrm>
            <a:off x="5049720" y="618660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0" name=""/>
          <p:cNvSpPr/>
          <p:nvPr/>
        </p:nvSpPr>
        <p:spPr>
          <a:xfrm>
            <a:off x="1753200" y="1047600"/>
            <a:ext cx="29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Consider each 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41" name=""/>
          <p:cNvGrpSpPr/>
          <p:nvPr/>
        </p:nvGrpSpPr>
        <p:grpSpPr>
          <a:xfrm>
            <a:off x="7238880" y="3733920"/>
            <a:ext cx="550800" cy="994680"/>
            <a:chOff x="7238880" y="3733920"/>
            <a:chExt cx="550800" cy="994680"/>
          </a:xfrm>
        </p:grpSpPr>
        <p:sp>
          <p:nvSpPr>
            <p:cNvPr id="9842" name=""/>
            <p:cNvSpPr/>
            <p:nvPr/>
          </p:nvSpPr>
          <p:spPr>
            <a:xfrm>
              <a:off x="7418520" y="37339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3" name=""/>
            <p:cNvSpPr/>
            <p:nvPr/>
          </p:nvSpPr>
          <p:spPr>
            <a:xfrm rot="16200000">
              <a:off x="7231320" y="42004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44" name=""/>
          <p:cNvGrpSpPr/>
          <p:nvPr/>
        </p:nvGrpSpPr>
        <p:grpSpPr>
          <a:xfrm>
            <a:off x="7248600" y="4486320"/>
            <a:ext cx="534600" cy="928080"/>
            <a:chOff x="7248600" y="4486320"/>
            <a:chExt cx="534600" cy="928080"/>
          </a:xfrm>
        </p:grpSpPr>
        <p:sp>
          <p:nvSpPr>
            <p:cNvPr id="9845" name=""/>
            <p:cNvSpPr/>
            <p:nvPr/>
          </p:nvSpPr>
          <p:spPr>
            <a:xfrm>
              <a:off x="7412040" y="44863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6" name=""/>
            <p:cNvSpPr/>
            <p:nvPr/>
          </p:nvSpPr>
          <p:spPr>
            <a:xfrm rot="16200000">
              <a:off x="7241040" y="48862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7" dur="indefinite" restart="never" nodeType="tmRoot">
          <p:childTnLst>
            <p:seq>
              <p:cTn id="1568" dur="indefinite" nodeType="mainSeq">
                <p:childTnLst>
                  <p:par>
                    <p:cTn id="1569" fill="hold">
                      <p:stCondLst>
                        <p:cond delay="0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9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9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9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9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9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9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9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9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9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9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9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9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9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9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ear Or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48" name=""/>
          <p:cNvSpPr/>
          <p:nvPr/>
        </p:nvSpPr>
        <p:spPr>
          <a:xfrm>
            <a:off x="731520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9" name=""/>
          <p:cNvSpPr/>
          <p:nvPr/>
        </p:nvSpPr>
        <p:spPr>
          <a:xfrm>
            <a:off x="78487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0" name=""/>
          <p:cNvSpPr/>
          <p:nvPr/>
        </p:nvSpPr>
        <p:spPr>
          <a:xfrm>
            <a:off x="6554880" y="44136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tack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1" name=""/>
          <p:cNvSpPr/>
          <p:nvPr/>
        </p:nvSpPr>
        <p:spPr>
          <a:xfrm>
            <a:off x="685800" y="1049400"/>
            <a:ext cx="5624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Pro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se 1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oes on stack first befor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se 2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es on stack first befor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es off befor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oes 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se 3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oes on stack first befor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oes on befor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es of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nic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oes afte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order.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ycle means linear ord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is impossibl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52" name=""/>
          <p:cNvGrpSpPr/>
          <p:nvPr/>
        </p:nvGrpSpPr>
        <p:grpSpPr>
          <a:xfrm>
            <a:off x="2262240" y="5756400"/>
            <a:ext cx="1677240" cy="569520"/>
            <a:chOff x="2262240" y="5756400"/>
            <a:chExt cx="1677240" cy="569520"/>
          </a:xfrm>
        </p:grpSpPr>
        <p:sp>
          <p:nvSpPr>
            <p:cNvPr id="9853" name=""/>
            <p:cNvSpPr/>
            <p:nvPr/>
          </p:nvSpPr>
          <p:spPr>
            <a:xfrm>
              <a:off x="2262240" y="575640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4" name=""/>
            <p:cNvSpPr/>
            <p:nvPr/>
          </p:nvSpPr>
          <p:spPr>
            <a:xfrm>
              <a:off x="3589560" y="577512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5" name=""/>
            <p:cNvSpPr/>
            <p:nvPr/>
          </p:nvSpPr>
          <p:spPr>
            <a:xfrm>
              <a:off x="2658960" y="6095880"/>
              <a:ext cx="776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6" name=""/>
            <p:cNvSpPr/>
            <p:nvPr/>
          </p:nvSpPr>
          <p:spPr>
            <a:xfrm>
              <a:off x="2582640" y="6019560"/>
              <a:ext cx="152280" cy="151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7" name=""/>
            <p:cNvSpPr/>
            <p:nvPr/>
          </p:nvSpPr>
          <p:spPr>
            <a:xfrm>
              <a:off x="3435120" y="6019560"/>
              <a:ext cx="152280" cy="151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58" name=""/>
          <p:cNvGrpSpPr/>
          <p:nvPr/>
        </p:nvGrpSpPr>
        <p:grpSpPr>
          <a:xfrm>
            <a:off x="5061240" y="6186600"/>
            <a:ext cx="1120320" cy="520560"/>
            <a:chOff x="5061240" y="6186600"/>
            <a:chExt cx="1120320" cy="520560"/>
          </a:xfrm>
        </p:grpSpPr>
        <p:sp>
          <p:nvSpPr>
            <p:cNvPr id="9859" name=""/>
            <p:cNvSpPr/>
            <p:nvPr/>
          </p:nvSpPr>
          <p:spPr>
            <a:xfrm>
              <a:off x="5506920" y="6186600"/>
              <a:ext cx="6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u…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0" name=""/>
            <p:cNvSpPr/>
            <p:nvPr/>
          </p:nvSpPr>
          <p:spPr>
            <a:xfrm>
              <a:off x="5061240" y="6186600"/>
              <a:ext cx="65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v…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61" name=""/>
          <p:cNvSpPr/>
          <p:nvPr/>
        </p:nvSpPr>
        <p:spPr>
          <a:xfrm>
            <a:off x="1753200" y="1047600"/>
            <a:ext cx="29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Consider each 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62" name=""/>
          <p:cNvGrpSpPr/>
          <p:nvPr/>
        </p:nvGrpSpPr>
        <p:grpSpPr>
          <a:xfrm>
            <a:off x="7238880" y="3803760"/>
            <a:ext cx="550800" cy="974160"/>
            <a:chOff x="7238880" y="3803760"/>
            <a:chExt cx="550800" cy="974160"/>
          </a:xfrm>
        </p:grpSpPr>
        <p:sp>
          <p:nvSpPr>
            <p:cNvPr id="9863" name=""/>
            <p:cNvSpPr/>
            <p:nvPr/>
          </p:nvSpPr>
          <p:spPr>
            <a:xfrm>
              <a:off x="7418520" y="380376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4" name=""/>
            <p:cNvSpPr/>
            <p:nvPr/>
          </p:nvSpPr>
          <p:spPr>
            <a:xfrm rot="16200000">
              <a:off x="7251120" y="4269600"/>
              <a:ext cx="4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65" name=""/>
          <p:cNvGrpSpPr/>
          <p:nvPr/>
        </p:nvGrpSpPr>
        <p:grpSpPr>
          <a:xfrm>
            <a:off x="7248600" y="4556160"/>
            <a:ext cx="520560" cy="907560"/>
            <a:chOff x="7248600" y="4556160"/>
            <a:chExt cx="520560" cy="907560"/>
          </a:xfrm>
        </p:grpSpPr>
        <p:sp>
          <p:nvSpPr>
            <p:cNvPr id="9866" name=""/>
            <p:cNvSpPr/>
            <p:nvPr/>
          </p:nvSpPr>
          <p:spPr>
            <a:xfrm>
              <a:off x="7412400" y="455616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7" name=""/>
            <p:cNvSpPr/>
            <p:nvPr/>
          </p:nvSpPr>
          <p:spPr>
            <a:xfrm rot="16200000">
              <a:off x="7260840" y="4955400"/>
              <a:ext cx="4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68" name=""/>
          <p:cNvGrpSpPr/>
          <p:nvPr/>
        </p:nvGrpSpPr>
        <p:grpSpPr>
          <a:xfrm>
            <a:off x="228600" y="4133880"/>
            <a:ext cx="8146800" cy="1735200"/>
            <a:chOff x="228600" y="4133880"/>
            <a:chExt cx="8146800" cy="1735200"/>
          </a:xfrm>
        </p:grpSpPr>
        <p:sp>
          <p:nvSpPr>
            <p:cNvPr id="9869" name=""/>
            <p:cNvSpPr/>
            <p:nvPr/>
          </p:nvSpPr>
          <p:spPr>
            <a:xfrm>
              <a:off x="7772400" y="4133880"/>
              <a:ext cx="461880" cy="771480"/>
            </a:xfrm>
            <a:custGeom>
              <a:avLst/>
              <a:gdLst/>
              <a:ahLst/>
              <a:rect l="l" t="t" r="r" b="b"/>
              <a:pathLst>
                <a:path w="291" h="486">
                  <a:moveTo>
                    <a:pt x="0" y="0"/>
                  </a:moveTo>
                  <a:cubicBezTo>
                    <a:pt x="40" y="20"/>
                    <a:pt x="198" y="61"/>
                    <a:pt x="240" y="120"/>
                  </a:cubicBezTo>
                  <a:cubicBezTo>
                    <a:pt x="291" y="229"/>
                    <a:pt x="288" y="293"/>
                    <a:pt x="252" y="354"/>
                  </a:cubicBezTo>
                  <a:cubicBezTo>
                    <a:pt x="216" y="415"/>
                    <a:pt x="72" y="458"/>
                    <a:pt x="24" y="486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870" name=""/>
            <p:cNvGrpSpPr/>
            <p:nvPr/>
          </p:nvGrpSpPr>
          <p:grpSpPr>
            <a:xfrm>
              <a:off x="228600" y="4495680"/>
              <a:ext cx="1181160" cy="1067040"/>
              <a:chOff x="228600" y="4495680"/>
              <a:chExt cx="1181160" cy="1067040"/>
            </a:xfrm>
          </p:grpSpPr>
          <p:sp>
            <p:nvSpPr>
              <p:cNvPr id="9871" name=""/>
              <p:cNvSpPr/>
              <p:nvPr/>
            </p:nvSpPr>
            <p:spPr>
              <a:xfrm>
                <a:off x="228600" y="4495680"/>
                <a:ext cx="1181160" cy="1067040"/>
              </a:xfrm>
              <a:custGeom>
                <a:avLst/>
                <a:gdLst/>
                <a:ahLst/>
                <a:rect l="l" t="t" r="r" b="b"/>
                <a:pathLst>
                  <a:path w="2280" h="1785">
                    <a:moveTo>
                      <a:pt x="748" y="30"/>
                    </a:moveTo>
                    <a:cubicBezTo>
                      <a:pt x="881" y="60"/>
                      <a:pt x="985" y="267"/>
                      <a:pt x="1224" y="305"/>
                    </a:cubicBezTo>
                    <a:cubicBezTo>
                      <a:pt x="1463" y="343"/>
                      <a:pt x="2088" y="121"/>
                      <a:pt x="2184" y="257"/>
                    </a:cubicBezTo>
                    <a:cubicBezTo>
                      <a:pt x="2280" y="393"/>
                      <a:pt x="1873" y="945"/>
                      <a:pt x="1800" y="1121"/>
                    </a:cubicBezTo>
                    <a:cubicBezTo>
                      <a:pt x="1727" y="1297"/>
                      <a:pt x="1757" y="1253"/>
                      <a:pt x="1743" y="1313"/>
                    </a:cubicBezTo>
                    <a:cubicBezTo>
                      <a:pt x="1729" y="1373"/>
                      <a:pt x="1747" y="1440"/>
                      <a:pt x="1717" y="1479"/>
                    </a:cubicBezTo>
                    <a:cubicBezTo>
                      <a:pt x="1687" y="1518"/>
                      <a:pt x="1634" y="1537"/>
                      <a:pt x="1560" y="1549"/>
                    </a:cubicBezTo>
                    <a:cubicBezTo>
                      <a:pt x="1486" y="1561"/>
                      <a:pt x="1504" y="1536"/>
                      <a:pt x="1272" y="1553"/>
                    </a:cubicBezTo>
                    <a:cubicBezTo>
                      <a:pt x="1040" y="1570"/>
                      <a:pt x="336" y="1785"/>
                      <a:pt x="168" y="1649"/>
                    </a:cubicBezTo>
                    <a:cubicBezTo>
                      <a:pt x="0" y="1513"/>
                      <a:pt x="221" y="991"/>
                      <a:pt x="264" y="737"/>
                    </a:cubicBezTo>
                    <a:cubicBezTo>
                      <a:pt x="307" y="483"/>
                      <a:pt x="344" y="244"/>
                      <a:pt x="425" y="126"/>
                    </a:cubicBezTo>
                    <a:cubicBezTo>
                      <a:pt x="506" y="8"/>
                      <a:pt x="615" y="0"/>
                      <a:pt x="748" y="3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872" name=""/>
              <p:cNvGrpSpPr/>
              <p:nvPr/>
            </p:nvGrpSpPr>
            <p:grpSpPr>
              <a:xfrm>
                <a:off x="415080" y="4584600"/>
                <a:ext cx="629640" cy="860400"/>
                <a:chOff x="415080" y="4584600"/>
                <a:chExt cx="629640" cy="860400"/>
              </a:xfrm>
            </p:grpSpPr>
            <p:grpSp>
              <p:nvGrpSpPr>
                <p:cNvPr id="9873" name=""/>
                <p:cNvGrpSpPr/>
                <p:nvPr/>
              </p:nvGrpSpPr>
              <p:grpSpPr>
                <a:xfrm>
                  <a:off x="415080" y="4584600"/>
                  <a:ext cx="592560" cy="842760"/>
                  <a:chOff x="415080" y="4584600"/>
                  <a:chExt cx="592560" cy="842760"/>
                </a:xfrm>
              </p:grpSpPr>
              <p:sp>
                <p:nvSpPr>
                  <p:cNvPr id="9874" name=""/>
                  <p:cNvSpPr/>
                  <p:nvPr/>
                </p:nvSpPr>
                <p:spPr>
                  <a:xfrm>
                    <a:off x="610560" y="4726800"/>
                    <a:ext cx="102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514">
                        <a:moveTo>
                          <a:pt x="132" y="186"/>
                        </a:moveTo>
                        <a:lnTo>
                          <a:pt x="157" y="114"/>
                        </a:lnTo>
                        <a:lnTo>
                          <a:pt x="189" y="42"/>
                        </a:lnTo>
                        <a:lnTo>
                          <a:pt x="236" y="6"/>
                        </a:lnTo>
                        <a:lnTo>
                          <a:pt x="302" y="0"/>
                        </a:lnTo>
                        <a:lnTo>
                          <a:pt x="355" y="24"/>
                        </a:lnTo>
                        <a:lnTo>
                          <a:pt x="393" y="63"/>
                        </a:lnTo>
                        <a:lnTo>
                          <a:pt x="421" y="135"/>
                        </a:lnTo>
                        <a:lnTo>
                          <a:pt x="434" y="222"/>
                        </a:lnTo>
                        <a:lnTo>
                          <a:pt x="434" y="312"/>
                        </a:lnTo>
                        <a:lnTo>
                          <a:pt x="412" y="411"/>
                        </a:lnTo>
                        <a:lnTo>
                          <a:pt x="355" y="474"/>
                        </a:lnTo>
                        <a:lnTo>
                          <a:pt x="299" y="514"/>
                        </a:lnTo>
                        <a:lnTo>
                          <a:pt x="245" y="510"/>
                        </a:lnTo>
                        <a:lnTo>
                          <a:pt x="198" y="468"/>
                        </a:lnTo>
                        <a:lnTo>
                          <a:pt x="157" y="396"/>
                        </a:lnTo>
                        <a:lnTo>
                          <a:pt x="129" y="333"/>
                        </a:lnTo>
                        <a:lnTo>
                          <a:pt x="129" y="252"/>
                        </a:lnTo>
                        <a:lnTo>
                          <a:pt x="0" y="234"/>
                        </a:lnTo>
                        <a:lnTo>
                          <a:pt x="16" y="189"/>
                        </a:lnTo>
                        <a:lnTo>
                          <a:pt x="132" y="186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5" name=""/>
                  <p:cNvSpPr/>
                  <p:nvPr/>
                </p:nvSpPr>
                <p:spPr>
                  <a:xfrm>
                    <a:off x="678600" y="4584600"/>
                    <a:ext cx="13428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6" h="1154">
                        <a:moveTo>
                          <a:pt x="13" y="1145"/>
                        </a:moveTo>
                        <a:lnTo>
                          <a:pt x="0" y="1088"/>
                        </a:lnTo>
                        <a:lnTo>
                          <a:pt x="31" y="1042"/>
                        </a:lnTo>
                        <a:lnTo>
                          <a:pt x="134" y="988"/>
                        </a:lnTo>
                        <a:lnTo>
                          <a:pt x="226" y="927"/>
                        </a:lnTo>
                        <a:lnTo>
                          <a:pt x="313" y="827"/>
                        </a:lnTo>
                        <a:lnTo>
                          <a:pt x="432" y="689"/>
                        </a:lnTo>
                        <a:lnTo>
                          <a:pt x="463" y="634"/>
                        </a:lnTo>
                        <a:lnTo>
                          <a:pt x="479" y="580"/>
                        </a:lnTo>
                        <a:lnTo>
                          <a:pt x="472" y="526"/>
                        </a:lnTo>
                        <a:lnTo>
                          <a:pt x="444" y="426"/>
                        </a:lnTo>
                        <a:lnTo>
                          <a:pt x="376" y="299"/>
                        </a:lnTo>
                        <a:lnTo>
                          <a:pt x="301" y="229"/>
                        </a:lnTo>
                        <a:lnTo>
                          <a:pt x="235" y="190"/>
                        </a:lnTo>
                        <a:lnTo>
                          <a:pt x="181" y="184"/>
                        </a:lnTo>
                        <a:lnTo>
                          <a:pt x="153" y="190"/>
                        </a:lnTo>
                        <a:lnTo>
                          <a:pt x="150" y="163"/>
                        </a:lnTo>
                        <a:lnTo>
                          <a:pt x="215" y="154"/>
                        </a:lnTo>
                        <a:lnTo>
                          <a:pt x="291" y="154"/>
                        </a:lnTo>
                        <a:lnTo>
                          <a:pt x="238" y="93"/>
                        </a:lnTo>
                        <a:lnTo>
                          <a:pt x="206" y="45"/>
                        </a:lnTo>
                        <a:lnTo>
                          <a:pt x="229" y="27"/>
                        </a:lnTo>
                        <a:lnTo>
                          <a:pt x="313" y="109"/>
                        </a:lnTo>
                        <a:lnTo>
                          <a:pt x="329" y="121"/>
                        </a:lnTo>
                        <a:lnTo>
                          <a:pt x="313" y="57"/>
                        </a:lnTo>
                        <a:lnTo>
                          <a:pt x="301" y="9"/>
                        </a:lnTo>
                        <a:lnTo>
                          <a:pt x="313" y="0"/>
                        </a:lnTo>
                        <a:lnTo>
                          <a:pt x="341" y="9"/>
                        </a:lnTo>
                        <a:lnTo>
                          <a:pt x="366" y="121"/>
                        </a:lnTo>
                        <a:lnTo>
                          <a:pt x="379" y="118"/>
                        </a:lnTo>
                        <a:lnTo>
                          <a:pt x="379" y="30"/>
                        </a:lnTo>
                        <a:lnTo>
                          <a:pt x="404" y="21"/>
                        </a:lnTo>
                        <a:lnTo>
                          <a:pt x="422" y="36"/>
                        </a:lnTo>
                        <a:lnTo>
                          <a:pt x="413" y="154"/>
                        </a:lnTo>
                        <a:lnTo>
                          <a:pt x="407" y="202"/>
                        </a:lnTo>
                        <a:lnTo>
                          <a:pt x="422" y="299"/>
                        </a:lnTo>
                        <a:lnTo>
                          <a:pt x="472" y="402"/>
                        </a:lnTo>
                        <a:lnTo>
                          <a:pt x="525" y="520"/>
                        </a:lnTo>
                        <a:lnTo>
                          <a:pt x="566" y="607"/>
                        </a:lnTo>
                        <a:lnTo>
                          <a:pt x="563" y="652"/>
                        </a:lnTo>
                        <a:lnTo>
                          <a:pt x="488" y="734"/>
                        </a:lnTo>
                        <a:lnTo>
                          <a:pt x="385" y="836"/>
                        </a:lnTo>
                        <a:lnTo>
                          <a:pt x="301" y="937"/>
                        </a:lnTo>
                        <a:lnTo>
                          <a:pt x="197" y="1070"/>
                        </a:lnTo>
                        <a:lnTo>
                          <a:pt x="112" y="1136"/>
                        </a:lnTo>
                        <a:lnTo>
                          <a:pt x="47" y="1154"/>
                        </a:lnTo>
                        <a:lnTo>
                          <a:pt x="13" y="1145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6" name=""/>
                  <p:cNvSpPr/>
                  <p:nvPr/>
                </p:nvSpPr>
                <p:spPr>
                  <a:xfrm>
                    <a:off x="415080" y="4956840"/>
                    <a:ext cx="246240" cy="20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37" h="581">
                        <a:moveTo>
                          <a:pt x="210" y="468"/>
                        </a:moveTo>
                        <a:lnTo>
                          <a:pt x="361" y="462"/>
                        </a:lnTo>
                        <a:lnTo>
                          <a:pt x="498" y="444"/>
                        </a:lnTo>
                        <a:lnTo>
                          <a:pt x="583" y="423"/>
                        </a:lnTo>
                        <a:lnTo>
                          <a:pt x="705" y="354"/>
                        </a:lnTo>
                        <a:lnTo>
                          <a:pt x="792" y="288"/>
                        </a:lnTo>
                        <a:lnTo>
                          <a:pt x="906" y="207"/>
                        </a:lnTo>
                        <a:lnTo>
                          <a:pt x="959" y="156"/>
                        </a:lnTo>
                        <a:lnTo>
                          <a:pt x="1000" y="120"/>
                        </a:lnTo>
                        <a:lnTo>
                          <a:pt x="1037" y="81"/>
                        </a:lnTo>
                        <a:lnTo>
                          <a:pt x="1037" y="39"/>
                        </a:lnTo>
                        <a:lnTo>
                          <a:pt x="996" y="0"/>
                        </a:lnTo>
                        <a:lnTo>
                          <a:pt x="971" y="9"/>
                        </a:lnTo>
                        <a:lnTo>
                          <a:pt x="903" y="90"/>
                        </a:lnTo>
                        <a:lnTo>
                          <a:pt x="828" y="183"/>
                        </a:lnTo>
                        <a:lnTo>
                          <a:pt x="752" y="270"/>
                        </a:lnTo>
                        <a:lnTo>
                          <a:pt x="642" y="342"/>
                        </a:lnTo>
                        <a:lnTo>
                          <a:pt x="548" y="390"/>
                        </a:lnTo>
                        <a:lnTo>
                          <a:pt x="445" y="414"/>
                        </a:lnTo>
                        <a:lnTo>
                          <a:pt x="301" y="417"/>
                        </a:lnTo>
                        <a:lnTo>
                          <a:pt x="216" y="417"/>
                        </a:lnTo>
                        <a:lnTo>
                          <a:pt x="144" y="363"/>
                        </a:lnTo>
                        <a:lnTo>
                          <a:pt x="125" y="327"/>
                        </a:lnTo>
                        <a:lnTo>
                          <a:pt x="94" y="327"/>
                        </a:lnTo>
                        <a:lnTo>
                          <a:pt x="116" y="372"/>
                        </a:lnTo>
                        <a:lnTo>
                          <a:pt x="150" y="414"/>
                        </a:lnTo>
                        <a:lnTo>
                          <a:pt x="66" y="396"/>
                        </a:lnTo>
                        <a:lnTo>
                          <a:pt x="3" y="387"/>
                        </a:lnTo>
                        <a:lnTo>
                          <a:pt x="3" y="405"/>
                        </a:lnTo>
                        <a:lnTo>
                          <a:pt x="59" y="417"/>
                        </a:lnTo>
                        <a:lnTo>
                          <a:pt x="97" y="441"/>
                        </a:lnTo>
                        <a:lnTo>
                          <a:pt x="131" y="444"/>
                        </a:lnTo>
                        <a:lnTo>
                          <a:pt x="78" y="462"/>
                        </a:lnTo>
                        <a:lnTo>
                          <a:pt x="0" y="481"/>
                        </a:lnTo>
                        <a:lnTo>
                          <a:pt x="3" y="499"/>
                        </a:lnTo>
                        <a:lnTo>
                          <a:pt x="28" y="505"/>
                        </a:lnTo>
                        <a:lnTo>
                          <a:pt x="103" y="481"/>
                        </a:lnTo>
                        <a:lnTo>
                          <a:pt x="150" y="477"/>
                        </a:lnTo>
                        <a:lnTo>
                          <a:pt x="122" y="505"/>
                        </a:lnTo>
                        <a:lnTo>
                          <a:pt x="78" y="550"/>
                        </a:lnTo>
                        <a:lnTo>
                          <a:pt x="59" y="562"/>
                        </a:lnTo>
                        <a:lnTo>
                          <a:pt x="75" y="581"/>
                        </a:lnTo>
                        <a:lnTo>
                          <a:pt x="113" y="559"/>
                        </a:lnTo>
                        <a:lnTo>
                          <a:pt x="163" y="514"/>
                        </a:lnTo>
                        <a:lnTo>
                          <a:pt x="210" y="46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7" name=""/>
                  <p:cNvSpPr/>
                  <p:nvPr/>
                </p:nvSpPr>
                <p:spPr>
                  <a:xfrm>
                    <a:off x="641880" y="4935960"/>
                    <a:ext cx="14436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608" h="800">
                        <a:moveTo>
                          <a:pt x="38" y="90"/>
                        </a:moveTo>
                        <a:lnTo>
                          <a:pt x="63" y="27"/>
                        </a:lnTo>
                        <a:lnTo>
                          <a:pt x="104" y="0"/>
                        </a:lnTo>
                        <a:lnTo>
                          <a:pt x="141" y="0"/>
                        </a:lnTo>
                        <a:lnTo>
                          <a:pt x="179" y="18"/>
                        </a:lnTo>
                        <a:lnTo>
                          <a:pt x="216" y="54"/>
                        </a:lnTo>
                        <a:lnTo>
                          <a:pt x="235" y="117"/>
                        </a:lnTo>
                        <a:lnTo>
                          <a:pt x="245" y="180"/>
                        </a:lnTo>
                        <a:lnTo>
                          <a:pt x="263" y="243"/>
                        </a:lnTo>
                        <a:lnTo>
                          <a:pt x="298" y="312"/>
                        </a:lnTo>
                        <a:lnTo>
                          <a:pt x="357" y="384"/>
                        </a:lnTo>
                        <a:lnTo>
                          <a:pt x="415" y="432"/>
                        </a:lnTo>
                        <a:lnTo>
                          <a:pt x="499" y="468"/>
                        </a:lnTo>
                        <a:lnTo>
                          <a:pt x="571" y="522"/>
                        </a:lnTo>
                        <a:lnTo>
                          <a:pt x="608" y="577"/>
                        </a:lnTo>
                        <a:lnTo>
                          <a:pt x="602" y="622"/>
                        </a:lnTo>
                        <a:lnTo>
                          <a:pt x="593" y="676"/>
                        </a:lnTo>
                        <a:lnTo>
                          <a:pt x="565" y="712"/>
                        </a:lnTo>
                        <a:lnTo>
                          <a:pt x="518" y="757"/>
                        </a:lnTo>
                        <a:lnTo>
                          <a:pt x="449" y="790"/>
                        </a:lnTo>
                        <a:lnTo>
                          <a:pt x="396" y="800"/>
                        </a:lnTo>
                        <a:lnTo>
                          <a:pt x="320" y="784"/>
                        </a:lnTo>
                        <a:lnTo>
                          <a:pt x="251" y="748"/>
                        </a:lnTo>
                        <a:lnTo>
                          <a:pt x="179" y="694"/>
                        </a:lnTo>
                        <a:lnTo>
                          <a:pt x="129" y="631"/>
                        </a:lnTo>
                        <a:lnTo>
                          <a:pt x="82" y="550"/>
                        </a:lnTo>
                        <a:lnTo>
                          <a:pt x="44" y="456"/>
                        </a:lnTo>
                        <a:lnTo>
                          <a:pt x="19" y="375"/>
                        </a:lnTo>
                        <a:lnTo>
                          <a:pt x="7" y="297"/>
                        </a:lnTo>
                        <a:lnTo>
                          <a:pt x="0" y="189"/>
                        </a:lnTo>
                        <a:lnTo>
                          <a:pt x="19" y="117"/>
                        </a:lnTo>
                        <a:lnTo>
                          <a:pt x="38" y="9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8" name=""/>
                  <p:cNvSpPr/>
                  <p:nvPr/>
                </p:nvSpPr>
                <p:spPr>
                  <a:xfrm>
                    <a:off x="759960" y="5054400"/>
                    <a:ext cx="2476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43" h="726">
                        <a:moveTo>
                          <a:pt x="116" y="230"/>
                        </a:moveTo>
                        <a:lnTo>
                          <a:pt x="216" y="147"/>
                        </a:lnTo>
                        <a:lnTo>
                          <a:pt x="338" y="72"/>
                        </a:lnTo>
                        <a:lnTo>
                          <a:pt x="417" y="27"/>
                        </a:lnTo>
                        <a:lnTo>
                          <a:pt x="479" y="12"/>
                        </a:lnTo>
                        <a:lnTo>
                          <a:pt x="529" y="0"/>
                        </a:lnTo>
                        <a:lnTo>
                          <a:pt x="573" y="18"/>
                        </a:lnTo>
                        <a:lnTo>
                          <a:pt x="601" y="75"/>
                        </a:lnTo>
                        <a:lnTo>
                          <a:pt x="620" y="230"/>
                        </a:lnTo>
                        <a:lnTo>
                          <a:pt x="620" y="416"/>
                        </a:lnTo>
                        <a:lnTo>
                          <a:pt x="620" y="536"/>
                        </a:lnTo>
                        <a:lnTo>
                          <a:pt x="642" y="609"/>
                        </a:lnTo>
                        <a:lnTo>
                          <a:pt x="686" y="597"/>
                        </a:lnTo>
                        <a:lnTo>
                          <a:pt x="717" y="552"/>
                        </a:lnTo>
                        <a:lnTo>
                          <a:pt x="779" y="500"/>
                        </a:lnTo>
                        <a:lnTo>
                          <a:pt x="876" y="470"/>
                        </a:lnTo>
                        <a:lnTo>
                          <a:pt x="943" y="470"/>
                        </a:lnTo>
                        <a:lnTo>
                          <a:pt x="1043" y="488"/>
                        </a:lnTo>
                        <a:lnTo>
                          <a:pt x="1037" y="524"/>
                        </a:lnTo>
                        <a:lnTo>
                          <a:pt x="1015" y="555"/>
                        </a:lnTo>
                        <a:lnTo>
                          <a:pt x="981" y="561"/>
                        </a:lnTo>
                        <a:lnTo>
                          <a:pt x="943" y="542"/>
                        </a:lnTo>
                        <a:lnTo>
                          <a:pt x="886" y="518"/>
                        </a:lnTo>
                        <a:lnTo>
                          <a:pt x="829" y="518"/>
                        </a:lnTo>
                        <a:lnTo>
                          <a:pt x="754" y="564"/>
                        </a:lnTo>
                        <a:lnTo>
                          <a:pt x="708" y="633"/>
                        </a:lnTo>
                        <a:lnTo>
                          <a:pt x="698" y="690"/>
                        </a:lnTo>
                        <a:lnTo>
                          <a:pt x="679" y="726"/>
                        </a:lnTo>
                        <a:lnTo>
                          <a:pt x="604" y="723"/>
                        </a:lnTo>
                        <a:lnTo>
                          <a:pt x="601" y="669"/>
                        </a:lnTo>
                        <a:lnTo>
                          <a:pt x="576" y="591"/>
                        </a:lnTo>
                        <a:lnTo>
                          <a:pt x="567" y="509"/>
                        </a:lnTo>
                        <a:lnTo>
                          <a:pt x="573" y="401"/>
                        </a:lnTo>
                        <a:lnTo>
                          <a:pt x="564" y="248"/>
                        </a:lnTo>
                        <a:lnTo>
                          <a:pt x="558" y="147"/>
                        </a:lnTo>
                        <a:lnTo>
                          <a:pt x="539" y="111"/>
                        </a:lnTo>
                        <a:lnTo>
                          <a:pt x="501" y="75"/>
                        </a:lnTo>
                        <a:lnTo>
                          <a:pt x="461" y="75"/>
                        </a:lnTo>
                        <a:lnTo>
                          <a:pt x="403" y="111"/>
                        </a:lnTo>
                        <a:lnTo>
                          <a:pt x="328" y="181"/>
                        </a:lnTo>
                        <a:lnTo>
                          <a:pt x="235" y="272"/>
                        </a:lnTo>
                        <a:lnTo>
                          <a:pt x="141" y="356"/>
                        </a:lnTo>
                        <a:lnTo>
                          <a:pt x="94" y="383"/>
                        </a:lnTo>
                        <a:lnTo>
                          <a:pt x="38" y="383"/>
                        </a:lnTo>
                        <a:lnTo>
                          <a:pt x="0" y="344"/>
                        </a:lnTo>
                        <a:lnTo>
                          <a:pt x="3" y="281"/>
                        </a:lnTo>
                        <a:lnTo>
                          <a:pt x="41" y="248"/>
                        </a:lnTo>
                        <a:lnTo>
                          <a:pt x="84" y="239"/>
                        </a:lnTo>
                        <a:lnTo>
                          <a:pt x="116" y="23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9" name=""/>
                  <p:cNvSpPr/>
                  <p:nvPr/>
                </p:nvSpPr>
                <p:spPr>
                  <a:xfrm>
                    <a:off x="746640" y="5163840"/>
                    <a:ext cx="16920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713" h="762">
                        <a:moveTo>
                          <a:pt x="0" y="64"/>
                        </a:moveTo>
                        <a:lnTo>
                          <a:pt x="22" y="16"/>
                        </a:lnTo>
                        <a:lnTo>
                          <a:pt x="69" y="0"/>
                        </a:lnTo>
                        <a:lnTo>
                          <a:pt x="134" y="7"/>
                        </a:lnTo>
                        <a:lnTo>
                          <a:pt x="150" y="52"/>
                        </a:lnTo>
                        <a:lnTo>
                          <a:pt x="125" y="227"/>
                        </a:lnTo>
                        <a:lnTo>
                          <a:pt x="122" y="360"/>
                        </a:lnTo>
                        <a:lnTo>
                          <a:pt x="116" y="435"/>
                        </a:lnTo>
                        <a:lnTo>
                          <a:pt x="116" y="450"/>
                        </a:lnTo>
                        <a:lnTo>
                          <a:pt x="131" y="524"/>
                        </a:lnTo>
                        <a:lnTo>
                          <a:pt x="172" y="536"/>
                        </a:lnTo>
                        <a:lnTo>
                          <a:pt x="225" y="524"/>
                        </a:lnTo>
                        <a:lnTo>
                          <a:pt x="303" y="481"/>
                        </a:lnTo>
                        <a:lnTo>
                          <a:pt x="387" y="460"/>
                        </a:lnTo>
                        <a:lnTo>
                          <a:pt x="482" y="444"/>
                        </a:lnTo>
                        <a:lnTo>
                          <a:pt x="585" y="432"/>
                        </a:lnTo>
                        <a:lnTo>
                          <a:pt x="660" y="432"/>
                        </a:lnTo>
                        <a:lnTo>
                          <a:pt x="694" y="441"/>
                        </a:lnTo>
                        <a:lnTo>
                          <a:pt x="713" y="463"/>
                        </a:lnTo>
                        <a:lnTo>
                          <a:pt x="704" y="496"/>
                        </a:lnTo>
                        <a:lnTo>
                          <a:pt x="657" y="524"/>
                        </a:lnTo>
                        <a:lnTo>
                          <a:pt x="613" y="563"/>
                        </a:lnTo>
                        <a:lnTo>
                          <a:pt x="572" y="618"/>
                        </a:lnTo>
                        <a:lnTo>
                          <a:pt x="547" y="663"/>
                        </a:lnTo>
                        <a:lnTo>
                          <a:pt x="526" y="708"/>
                        </a:lnTo>
                        <a:lnTo>
                          <a:pt x="510" y="762"/>
                        </a:lnTo>
                        <a:lnTo>
                          <a:pt x="488" y="762"/>
                        </a:lnTo>
                        <a:lnTo>
                          <a:pt x="469" y="741"/>
                        </a:lnTo>
                        <a:lnTo>
                          <a:pt x="462" y="681"/>
                        </a:lnTo>
                        <a:lnTo>
                          <a:pt x="507" y="627"/>
                        </a:lnTo>
                        <a:lnTo>
                          <a:pt x="566" y="563"/>
                        </a:lnTo>
                        <a:lnTo>
                          <a:pt x="622" y="515"/>
                        </a:lnTo>
                        <a:lnTo>
                          <a:pt x="647" y="499"/>
                        </a:lnTo>
                        <a:lnTo>
                          <a:pt x="657" y="478"/>
                        </a:lnTo>
                        <a:lnTo>
                          <a:pt x="632" y="463"/>
                        </a:lnTo>
                        <a:lnTo>
                          <a:pt x="547" y="463"/>
                        </a:lnTo>
                        <a:lnTo>
                          <a:pt x="440" y="481"/>
                        </a:lnTo>
                        <a:lnTo>
                          <a:pt x="356" y="509"/>
                        </a:lnTo>
                        <a:lnTo>
                          <a:pt x="265" y="560"/>
                        </a:lnTo>
                        <a:lnTo>
                          <a:pt x="187" y="596"/>
                        </a:lnTo>
                        <a:lnTo>
                          <a:pt x="103" y="599"/>
                        </a:lnTo>
                        <a:lnTo>
                          <a:pt x="69" y="587"/>
                        </a:lnTo>
                        <a:lnTo>
                          <a:pt x="50" y="542"/>
                        </a:lnTo>
                        <a:lnTo>
                          <a:pt x="37" y="478"/>
                        </a:lnTo>
                        <a:lnTo>
                          <a:pt x="31" y="360"/>
                        </a:lnTo>
                        <a:lnTo>
                          <a:pt x="19" y="151"/>
                        </a:lnTo>
                        <a:lnTo>
                          <a:pt x="0" y="64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80" name=""/>
                <p:cNvGrpSpPr/>
                <p:nvPr/>
              </p:nvGrpSpPr>
              <p:grpSpPr>
                <a:xfrm>
                  <a:off x="942480" y="5141880"/>
                  <a:ext cx="102240" cy="303120"/>
                  <a:chOff x="942480" y="5141880"/>
                  <a:chExt cx="102240" cy="303120"/>
                </a:xfrm>
              </p:grpSpPr>
              <p:sp>
                <p:nvSpPr>
                  <p:cNvPr id="9881" name=""/>
                  <p:cNvSpPr/>
                  <p:nvPr/>
                </p:nvSpPr>
                <p:spPr>
                  <a:xfrm>
                    <a:off x="964080" y="5311080"/>
                    <a:ext cx="8064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09">
                        <a:moveTo>
                          <a:pt x="340" y="109"/>
                        </a:moveTo>
                        <a:lnTo>
                          <a:pt x="165" y="30"/>
                        </a:lnTo>
                        <a:lnTo>
                          <a:pt x="48" y="0"/>
                        </a:lnTo>
                        <a:lnTo>
                          <a:pt x="10" y="0"/>
                        </a:lnTo>
                        <a:lnTo>
                          <a:pt x="0" y="27"/>
                        </a:lnTo>
                        <a:lnTo>
                          <a:pt x="22" y="48"/>
                        </a:lnTo>
                        <a:lnTo>
                          <a:pt x="70" y="54"/>
                        </a:lnTo>
                        <a:lnTo>
                          <a:pt x="184" y="75"/>
                        </a:lnTo>
                        <a:lnTo>
                          <a:pt x="340" y="109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2" name=""/>
                  <p:cNvSpPr/>
                  <p:nvPr/>
                </p:nvSpPr>
                <p:spPr>
                  <a:xfrm>
                    <a:off x="942480" y="5344560"/>
                    <a:ext cx="2268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291">
                        <a:moveTo>
                          <a:pt x="97" y="291"/>
                        </a:moveTo>
                        <a:lnTo>
                          <a:pt x="94" y="148"/>
                        </a:lnTo>
                        <a:lnTo>
                          <a:pt x="69" y="39"/>
                        </a:lnTo>
                        <a:lnTo>
                          <a:pt x="41" y="0"/>
                        </a:lnTo>
                        <a:lnTo>
                          <a:pt x="19" y="0"/>
                        </a:lnTo>
                        <a:lnTo>
                          <a:pt x="0" y="12"/>
                        </a:lnTo>
                        <a:lnTo>
                          <a:pt x="0" y="54"/>
                        </a:lnTo>
                        <a:lnTo>
                          <a:pt x="47" y="184"/>
                        </a:lnTo>
                        <a:lnTo>
                          <a:pt x="97" y="29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3" name=""/>
                  <p:cNvSpPr/>
                  <p:nvPr/>
                </p:nvSpPr>
                <p:spPr>
                  <a:xfrm>
                    <a:off x="975600" y="5141880"/>
                    <a:ext cx="507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111">
                        <a:moveTo>
                          <a:pt x="0" y="72"/>
                        </a:moveTo>
                        <a:lnTo>
                          <a:pt x="42" y="30"/>
                        </a:lnTo>
                        <a:lnTo>
                          <a:pt x="100" y="3"/>
                        </a:lnTo>
                        <a:lnTo>
                          <a:pt x="166" y="0"/>
                        </a:lnTo>
                        <a:lnTo>
                          <a:pt x="214" y="9"/>
                        </a:lnTo>
                        <a:lnTo>
                          <a:pt x="138" y="18"/>
                        </a:lnTo>
                        <a:lnTo>
                          <a:pt x="109" y="36"/>
                        </a:lnTo>
                        <a:lnTo>
                          <a:pt x="81" y="63"/>
                        </a:lnTo>
                        <a:lnTo>
                          <a:pt x="68" y="93"/>
                        </a:lnTo>
                        <a:lnTo>
                          <a:pt x="42" y="111"/>
                        </a:lnTo>
                        <a:lnTo>
                          <a:pt x="10" y="108"/>
                        </a:lnTo>
                        <a:lnTo>
                          <a:pt x="0" y="72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9884" name=""/>
            <p:cNvSpPr/>
            <p:nvPr/>
          </p:nvSpPr>
          <p:spPr>
            <a:xfrm>
              <a:off x="988920" y="5318280"/>
              <a:ext cx="7386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The nodes in the stack form a path starting at 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85" name=""/>
          <p:cNvSpPr/>
          <p:nvPr/>
        </p:nvSpPr>
        <p:spPr>
          <a:xfrm flipH="1" flipV="1">
            <a:off x="6933600" y="4143240"/>
            <a:ext cx="461880" cy="771840"/>
          </a:xfrm>
          <a:custGeom>
            <a:avLst/>
            <a:gdLst/>
            <a:ahLst/>
            <a:rect l="l" t="t" r="r" b="b"/>
            <a:pathLst>
              <a:path w="291" h="486">
                <a:moveTo>
                  <a:pt x="0" y="0"/>
                </a:moveTo>
                <a:cubicBezTo>
                  <a:pt x="40" y="20"/>
                  <a:pt x="198" y="61"/>
                  <a:pt x="240" y="120"/>
                </a:cubicBezTo>
                <a:cubicBezTo>
                  <a:pt x="291" y="229"/>
                  <a:pt x="288" y="293"/>
                  <a:pt x="252" y="354"/>
                </a:cubicBezTo>
                <a:cubicBezTo>
                  <a:pt x="216" y="415"/>
                  <a:pt x="72" y="458"/>
                  <a:pt x="24" y="48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6" name=""/>
          <p:cNvSpPr/>
          <p:nvPr/>
        </p:nvSpPr>
        <p:spPr>
          <a:xfrm>
            <a:off x="7965360" y="61628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3" dur="indefinite" restart="never" nodeType="tmRoot">
          <p:childTnLst>
            <p:seq>
              <p:cTn id="1614" dur="indefinite" nodeType="mainSeq">
                <p:childTnLst>
                  <p:par>
                    <p:cTn id="1615" fill="hold">
                      <p:stCondLst>
                        <p:cond delay="0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9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9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9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9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9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9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9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9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98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98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9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9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9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9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9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9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98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98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9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9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4419720" y="1206360"/>
            <a:ext cx="4572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e know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nodes are reachable from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because we have traced out a path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455360" y="2819520"/>
            <a:ext cx="4554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a node has been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handle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n all of its neighbors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ave been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ph Se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6400800" y="228600"/>
            <a:ext cx="1181160" cy="1066680"/>
            <a:chOff x="6400800" y="228600"/>
            <a:chExt cx="1181160" cy="1066680"/>
          </a:xfrm>
        </p:grpSpPr>
        <p:sp>
          <p:nvSpPr>
            <p:cNvPr id="952" name=""/>
            <p:cNvSpPr/>
            <p:nvPr/>
          </p:nvSpPr>
          <p:spPr>
            <a:xfrm>
              <a:off x="6400800" y="228600"/>
              <a:ext cx="1181160" cy="106668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3" name=""/>
            <p:cNvGrpSpPr/>
            <p:nvPr/>
          </p:nvGrpSpPr>
          <p:grpSpPr>
            <a:xfrm>
              <a:off x="6587280" y="317520"/>
              <a:ext cx="629640" cy="860400"/>
              <a:chOff x="6587280" y="317520"/>
              <a:chExt cx="629640" cy="860400"/>
            </a:xfrm>
          </p:grpSpPr>
          <p:grpSp>
            <p:nvGrpSpPr>
              <p:cNvPr id="954" name=""/>
              <p:cNvGrpSpPr/>
              <p:nvPr/>
            </p:nvGrpSpPr>
            <p:grpSpPr>
              <a:xfrm>
                <a:off x="6587280" y="317520"/>
                <a:ext cx="592560" cy="842400"/>
                <a:chOff x="6587280" y="317520"/>
                <a:chExt cx="592560" cy="84240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6782760" y="459720"/>
                  <a:ext cx="102960" cy="177840"/>
                </a:xfrm>
                <a:custGeom>
                  <a:avLst/>
                  <a:gdLst/>
                  <a:ahLst/>
                  <a:rect l="l" t="t" r="r" b="b"/>
                  <a:pathLst>
                    <a:path w="434" h="514">
                      <a:moveTo>
                        <a:pt x="132" y="186"/>
                      </a:moveTo>
                      <a:lnTo>
                        <a:pt x="157" y="114"/>
                      </a:lnTo>
                      <a:lnTo>
                        <a:pt x="189" y="42"/>
                      </a:lnTo>
                      <a:lnTo>
                        <a:pt x="236" y="6"/>
                      </a:lnTo>
                      <a:lnTo>
                        <a:pt x="302" y="0"/>
                      </a:lnTo>
                      <a:lnTo>
                        <a:pt x="355" y="24"/>
                      </a:lnTo>
                      <a:lnTo>
                        <a:pt x="393" y="63"/>
                      </a:lnTo>
                      <a:lnTo>
                        <a:pt x="421" y="135"/>
                      </a:lnTo>
                      <a:lnTo>
                        <a:pt x="434" y="222"/>
                      </a:lnTo>
                      <a:lnTo>
                        <a:pt x="434" y="312"/>
                      </a:lnTo>
                      <a:lnTo>
                        <a:pt x="412" y="411"/>
                      </a:lnTo>
                      <a:lnTo>
                        <a:pt x="355" y="474"/>
                      </a:lnTo>
                      <a:lnTo>
                        <a:pt x="299" y="514"/>
                      </a:lnTo>
                      <a:lnTo>
                        <a:pt x="245" y="510"/>
                      </a:lnTo>
                      <a:lnTo>
                        <a:pt x="198" y="468"/>
                      </a:lnTo>
                      <a:lnTo>
                        <a:pt x="157" y="396"/>
                      </a:lnTo>
                      <a:lnTo>
                        <a:pt x="129" y="333"/>
                      </a:lnTo>
                      <a:lnTo>
                        <a:pt x="129" y="252"/>
                      </a:lnTo>
                      <a:lnTo>
                        <a:pt x="0" y="234"/>
                      </a:lnTo>
                      <a:lnTo>
                        <a:pt x="16" y="189"/>
                      </a:lnTo>
                      <a:lnTo>
                        <a:pt x="132" y="18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6850800" y="317520"/>
                  <a:ext cx="134280" cy="398880"/>
                </a:xfrm>
                <a:custGeom>
                  <a:avLst/>
                  <a:gdLst/>
                  <a:ahLst/>
                  <a:rect l="l" t="t" r="r" b="b"/>
                  <a:pathLst>
                    <a:path w="566" h="1154">
                      <a:moveTo>
                        <a:pt x="13" y="1145"/>
                      </a:moveTo>
                      <a:lnTo>
                        <a:pt x="0" y="1088"/>
                      </a:lnTo>
                      <a:lnTo>
                        <a:pt x="31" y="1042"/>
                      </a:lnTo>
                      <a:lnTo>
                        <a:pt x="134" y="988"/>
                      </a:lnTo>
                      <a:lnTo>
                        <a:pt x="226" y="927"/>
                      </a:lnTo>
                      <a:lnTo>
                        <a:pt x="313" y="827"/>
                      </a:lnTo>
                      <a:lnTo>
                        <a:pt x="432" y="689"/>
                      </a:lnTo>
                      <a:lnTo>
                        <a:pt x="463" y="634"/>
                      </a:lnTo>
                      <a:lnTo>
                        <a:pt x="479" y="580"/>
                      </a:lnTo>
                      <a:lnTo>
                        <a:pt x="472" y="526"/>
                      </a:lnTo>
                      <a:lnTo>
                        <a:pt x="444" y="426"/>
                      </a:lnTo>
                      <a:lnTo>
                        <a:pt x="376" y="299"/>
                      </a:lnTo>
                      <a:lnTo>
                        <a:pt x="301" y="229"/>
                      </a:lnTo>
                      <a:lnTo>
                        <a:pt x="235" y="190"/>
                      </a:lnTo>
                      <a:lnTo>
                        <a:pt x="181" y="184"/>
                      </a:lnTo>
                      <a:lnTo>
                        <a:pt x="153" y="190"/>
                      </a:lnTo>
                      <a:lnTo>
                        <a:pt x="150" y="163"/>
                      </a:lnTo>
                      <a:lnTo>
                        <a:pt x="215" y="154"/>
                      </a:lnTo>
                      <a:lnTo>
                        <a:pt x="291" y="154"/>
                      </a:lnTo>
                      <a:lnTo>
                        <a:pt x="238" y="93"/>
                      </a:lnTo>
                      <a:lnTo>
                        <a:pt x="206" y="45"/>
                      </a:lnTo>
                      <a:lnTo>
                        <a:pt x="229" y="27"/>
                      </a:lnTo>
                      <a:lnTo>
                        <a:pt x="313" y="109"/>
                      </a:lnTo>
                      <a:lnTo>
                        <a:pt x="329" y="121"/>
                      </a:lnTo>
                      <a:lnTo>
                        <a:pt x="313" y="57"/>
                      </a:lnTo>
                      <a:lnTo>
                        <a:pt x="301" y="9"/>
                      </a:lnTo>
                      <a:lnTo>
                        <a:pt x="313" y="0"/>
                      </a:lnTo>
                      <a:lnTo>
                        <a:pt x="341" y="9"/>
                      </a:lnTo>
                      <a:lnTo>
                        <a:pt x="366" y="121"/>
                      </a:lnTo>
                      <a:lnTo>
                        <a:pt x="379" y="118"/>
                      </a:lnTo>
                      <a:lnTo>
                        <a:pt x="379" y="30"/>
                      </a:lnTo>
                      <a:lnTo>
                        <a:pt x="404" y="21"/>
                      </a:lnTo>
                      <a:lnTo>
                        <a:pt x="422" y="36"/>
                      </a:lnTo>
                      <a:lnTo>
                        <a:pt x="413" y="154"/>
                      </a:lnTo>
                      <a:lnTo>
                        <a:pt x="407" y="202"/>
                      </a:lnTo>
                      <a:lnTo>
                        <a:pt x="422" y="299"/>
                      </a:lnTo>
                      <a:lnTo>
                        <a:pt x="472" y="402"/>
                      </a:lnTo>
                      <a:lnTo>
                        <a:pt x="525" y="520"/>
                      </a:lnTo>
                      <a:lnTo>
                        <a:pt x="566" y="607"/>
                      </a:lnTo>
                      <a:lnTo>
                        <a:pt x="563" y="652"/>
                      </a:lnTo>
                      <a:lnTo>
                        <a:pt x="488" y="734"/>
                      </a:lnTo>
                      <a:lnTo>
                        <a:pt x="385" y="836"/>
                      </a:lnTo>
                      <a:lnTo>
                        <a:pt x="301" y="937"/>
                      </a:lnTo>
                      <a:lnTo>
                        <a:pt x="197" y="1070"/>
                      </a:lnTo>
                      <a:lnTo>
                        <a:pt x="112" y="1136"/>
                      </a:lnTo>
                      <a:lnTo>
                        <a:pt x="47" y="1154"/>
                      </a:lnTo>
                      <a:lnTo>
                        <a:pt x="13" y="1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6587280" y="689400"/>
                  <a:ext cx="246240" cy="200880"/>
                </a:xfrm>
                <a:custGeom>
                  <a:avLst/>
                  <a:gdLst/>
                  <a:ahLst/>
                  <a:rect l="l" t="t" r="r" b="b"/>
                  <a:pathLst>
                    <a:path w="1037" h="581">
                      <a:moveTo>
                        <a:pt x="210" y="468"/>
                      </a:moveTo>
                      <a:lnTo>
                        <a:pt x="361" y="462"/>
                      </a:lnTo>
                      <a:lnTo>
                        <a:pt x="498" y="444"/>
                      </a:lnTo>
                      <a:lnTo>
                        <a:pt x="583" y="423"/>
                      </a:lnTo>
                      <a:lnTo>
                        <a:pt x="705" y="354"/>
                      </a:lnTo>
                      <a:lnTo>
                        <a:pt x="792" y="288"/>
                      </a:lnTo>
                      <a:lnTo>
                        <a:pt x="906" y="207"/>
                      </a:lnTo>
                      <a:lnTo>
                        <a:pt x="959" y="156"/>
                      </a:lnTo>
                      <a:lnTo>
                        <a:pt x="1000" y="120"/>
                      </a:lnTo>
                      <a:lnTo>
                        <a:pt x="1037" y="81"/>
                      </a:lnTo>
                      <a:lnTo>
                        <a:pt x="1037" y="39"/>
                      </a:lnTo>
                      <a:lnTo>
                        <a:pt x="996" y="0"/>
                      </a:lnTo>
                      <a:lnTo>
                        <a:pt x="971" y="9"/>
                      </a:lnTo>
                      <a:lnTo>
                        <a:pt x="903" y="90"/>
                      </a:lnTo>
                      <a:lnTo>
                        <a:pt x="828" y="183"/>
                      </a:lnTo>
                      <a:lnTo>
                        <a:pt x="752" y="270"/>
                      </a:lnTo>
                      <a:lnTo>
                        <a:pt x="642" y="342"/>
                      </a:lnTo>
                      <a:lnTo>
                        <a:pt x="548" y="390"/>
                      </a:lnTo>
                      <a:lnTo>
                        <a:pt x="445" y="414"/>
                      </a:lnTo>
                      <a:lnTo>
                        <a:pt x="301" y="417"/>
                      </a:lnTo>
                      <a:lnTo>
                        <a:pt x="216" y="417"/>
                      </a:lnTo>
                      <a:lnTo>
                        <a:pt x="144" y="363"/>
                      </a:lnTo>
                      <a:lnTo>
                        <a:pt x="125" y="327"/>
                      </a:lnTo>
                      <a:lnTo>
                        <a:pt x="94" y="327"/>
                      </a:lnTo>
                      <a:lnTo>
                        <a:pt x="116" y="372"/>
                      </a:lnTo>
                      <a:lnTo>
                        <a:pt x="150" y="414"/>
                      </a:lnTo>
                      <a:lnTo>
                        <a:pt x="66" y="396"/>
                      </a:lnTo>
                      <a:lnTo>
                        <a:pt x="3" y="387"/>
                      </a:lnTo>
                      <a:lnTo>
                        <a:pt x="3" y="405"/>
                      </a:lnTo>
                      <a:lnTo>
                        <a:pt x="59" y="417"/>
                      </a:lnTo>
                      <a:lnTo>
                        <a:pt x="97" y="441"/>
                      </a:lnTo>
                      <a:lnTo>
                        <a:pt x="131" y="444"/>
                      </a:lnTo>
                      <a:lnTo>
                        <a:pt x="78" y="462"/>
                      </a:lnTo>
                      <a:lnTo>
                        <a:pt x="0" y="481"/>
                      </a:lnTo>
                      <a:lnTo>
                        <a:pt x="3" y="499"/>
                      </a:lnTo>
                      <a:lnTo>
                        <a:pt x="28" y="505"/>
                      </a:lnTo>
                      <a:lnTo>
                        <a:pt x="103" y="481"/>
                      </a:lnTo>
                      <a:lnTo>
                        <a:pt x="150" y="477"/>
                      </a:lnTo>
                      <a:lnTo>
                        <a:pt x="122" y="505"/>
                      </a:lnTo>
                      <a:lnTo>
                        <a:pt x="78" y="550"/>
                      </a:lnTo>
                      <a:lnTo>
                        <a:pt x="59" y="562"/>
                      </a:lnTo>
                      <a:lnTo>
                        <a:pt x="75" y="581"/>
                      </a:lnTo>
                      <a:lnTo>
                        <a:pt x="113" y="559"/>
                      </a:lnTo>
                      <a:lnTo>
                        <a:pt x="163" y="514"/>
                      </a:lnTo>
                      <a:lnTo>
                        <a:pt x="210" y="46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6814080" y="668880"/>
                  <a:ext cx="144360" cy="276480"/>
                </a:xfrm>
                <a:custGeom>
                  <a:avLst/>
                  <a:gdLst/>
                  <a:ahLst/>
                  <a:rect l="l" t="t" r="r" b="b"/>
                  <a:pathLst>
                    <a:path w="608" h="800">
                      <a:moveTo>
                        <a:pt x="38" y="90"/>
                      </a:moveTo>
                      <a:lnTo>
                        <a:pt x="63" y="27"/>
                      </a:lnTo>
                      <a:lnTo>
                        <a:pt x="104" y="0"/>
                      </a:lnTo>
                      <a:lnTo>
                        <a:pt x="141" y="0"/>
                      </a:lnTo>
                      <a:lnTo>
                        <a:pt x="179" y="18"/>
                      </a:lnTo>
                      <a:lnTo>
                        <a:pt x="216" y="54"/>
                      </a:lnTo>
                      <a:lnTo>
                        <a:pt x="235" y="117"/>
                      </a:lnTo>
                      <a:lnTo>
                        <a:pt x="245" y="180"/>
                      </a:lnTo>
                      <a:lnTo>
                        <a:pt x="263" y="243"/>
                      </a:lnTo>
                      <a:lnTo>
                        <a:pt x="298" y="312"/>
                      </a:lnTo>
                      <a:lnTo>
                        <a:pt x="357" y="384"/>
                      </a:lnTo>
                      <a:lnTo>
                        <a:pt x="415" y="432"/>
                      </a:lnTo>
                      <a:lnTo>
                        <a:pt x="499" y="468"/>
                      </a:lnTo>
                      <a:lnTo>
                        <a:pt x="571" y="522"/>
                      </a:lnTo>
                      <a:lnTo>
                        <a:pt x="608" y="577"/>
                      </a:lnTo>
                      <a:lnTo>
                        <a:pt x="602" y="622"/>
                      </a:lnTo>
                      <a:lnTo>
                        <a:pt x="593" y="676"/>
                      </a:lnTo>
                      <a:lnTo>
                        <a:pt x="565" y="712"/>
                      </a:lnTo>
                      <a:lnTo>
                        <a:pt x="518" y="757"/>
                      </a:lnTo>
                      <a:lnTo>
                        <a:pt x="449" y="790"/>
                      </a:lnTo>
                      <a:lnTo>
                        <a:pt x="396" y="800"/>
                      </a:lnTo>
                      <a:lnTo>
                        <a:pt x="320" y="784"/>
                      </a:lnTo>
                      <a:lnTo>
                        <a:pt x="251" y="748"/>
                      </a:lnTo>
                      <a:lnTo>
                        <a:pt x="179" y="694"/>
                      </a:lnTo>
                      <a:lnTo>
                        <a:pt x="129" y="631"/>
                      </a:lnTo>
                      <a:lnTo>
                        <a:pt x="82" y="550"/>
                      </a:lnTo>
                      <a:lnTo>
                        <a:pt x="44" y="456"/>
                      </a:lnTo>
                      <a:lnTo>
                        <a:pt x="19" y="375"/>
                      </a:lnTo>
                      <a:lnTo>
                        <a:pt x="7" y="297"/>
                      </a:lnTo>
                      <a:lnTo>
                        <a:pt x="0" y="189"/>
                      </a:lnTo>
                      <a:lnTo>
                        <a:pt x="19" y="117"/>
                      </a:lnTo>
                      <a:lnTo>
                        <a:pt x="38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6932160" y="786960"/>
                  <a:ext cx="247680" cy="250920"/>
                </a:xfrm>
                <a:custGeom>
                  <a:avLst/>
                  <a:gdLst/>
                  <a:ahLst/>
                  <a:rect l="l" t="t" r="r" b="b"/>
                  <a:pathLst>
                    <a:path w="1043" h="726">
                      <a:moveTo>
                        <a:pt x="116" y="230"/>
                      </a:moveTo>
                      <a:lnTo>
                        <a:pt x="216" y="147"/>
                      </a:lnTo>
                      <a:lnTo>
                        <a:pt x="338" y="72"/>
                      </a:lnTo>
                      <a:lnTo>
                        <a:pt x="417" y="27"/>
                      </a:lnTo>
                      <a:lnTo>
                        <a:pt x="479" y="12"/>
                      </a:lnTo>
                      <a:lnTo>
                        <a:pt x="529" y="0"/>
                      </a:lnTo>
                      <a:lnTo>
                        <a:pt x="573" y="18"/>
                      </a:lnTo>
                      <a:lnTo>
                        <a:pt x="601" y="75"/>
                      </a:lnTo>
                      <a:lnTo>
                        <a:pt x="620" y="230"/>
                      </a:lnTo>
                      <a:lnTo>
                        <a:pt x="620" y="416"/>
                      </a:lnTo>
                      <a:lnTo>
                        <a:pt x="620" y="536"/>
                      </a:lnTo>
                      <a:lnTo>
                        <a:pt x="642" y="609"/>
                      </a:lnTo>
                      <a:lnTo>
                        <a:pt x="686" y="597"/>
                      </a:lnTo>
                      <a:lnTo>
                        <a:pt x="717" y="552"/>
                      </a:lnTo>
                      <a:lnTo>
                        <a:pt x="779" y="500"/>
                      </a:lnTo>
                      <a:lnTo>
                        <a:pt x="876" y="470"/>
                      </a:lnTo>
                      <a:lnTo>
                        <a:pt x="943" y="470"/>
                      </a:lnTo>
                      <a:lnTo>
                        <a:pt x="1043" y="488"/>
                      </a:lnTo>
                      <a:lnTo>
                        <a:pt x="1037" y="524"/>
                      </a:lnTo>
                      <a:lnTo>
                        <a:pt x="1015" y="555"/>
                      </a:lnTo>
                      <a:lnTo>
                        <a:pt x="981" y="561"/>
                      </a:lnTo>
                      <a:lnTo>
                        <a:pt x="943" y="542"/>
                      </a:lnTo>
                      <a:lnTo>
                        <a:pt x="886" y="518"/>
                      </a:lnTo>
                      <a:lnTo>
                        <a:pt x="829" y="518"/>
                      </a:lnTo>
                      <a:lnTo>
                        <a:pt x="754" y="564"/>
                      </a:lnTo>
                      <a:lnTo>
                        <a:pt x="708" y="633"/>
                      </a:lnTo>
                      <a:lnTo>
                        <a:pt x="698" y="690"/>
                      </a:lnTo>
                      <a:lnTo>
                        <a:pt x="679" y="726"/>
                      </a:lnTo>
                      <a:lnTo>
                        <a:pt x="604" y="723"/>
                      </a:lnTo>
                      <a:lnTo>
                        <a:pt x="601" y="669"/>
                      </a:lnTo>
                      <a:lnTo>
                        <a:pt x="576" y="591"/>
                      </a:lnTo>
                      <a:lnTo>
                        <a:pt x="567" y="509"/>
                      </a:lnTo>
                      <a:lnTo>
                        <a:pt x="573" y="401"/>
                      </a:lnTo>
                      <a:lnTo>
                        <a:pt x="564" y="248"/>
                      </a:lnTo>
                      <a:lnTo>
                        <a:pt x="558" y="147"/>
                      </a:lnTo>
                      <a:lnTo>
                        <a:pt x="539" y="111"/>
                      </a:lnTo>
                      <a:lnTo>
                        <a:pt x="501" y="75"/>
                      </a:lnTo>
                      <a:lnTo>
                        <a:pt x="461" y="75"/>
                      </a:lnTo>
                      <a:lnTo>
                        <a:pt x="403" y="111"/>
                      </a:lnTo>
                      <a:lnTo>
                        <a:pt x="328" y="181"/>
                      </a:lnTo>
                      <a:lnTo>
                        <a:pt x="235" y="272"/>
                      </a:lnTo>
                      <a:lnTo>
                        <a:pt x="141" y="356"/>
                      </a:lnTo>
                      <a:lnTo>
                        <a:pt x="94" y="383"/>
                      </a:lnTo>
                      <a:lnTo>
                        <a:pt x="38" y="383"/>
                      </a:lnTo>
                      <a:lnTo>
                        <a:pt x="0" y="344"/>
                      </a:lnTo>
                      <a:lnTo>
                        <a:pt x="3" y="281"/>
                      </a:lnTo>
                      <a:lnTo>
                        <a:pt x="41" y="248"/>
                      </a:lnTo>
                      <a:lnTo>
                        <a:pt x="84" y="239"/>
                      </a:lnTo>
                      <a:lnTo>
                        <a:pt x="116" y="23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6918840" y="896400"/>
                  <a:ext cx="169200" cy="263520"/>
                </a:xfrm>
                <a:custGeom>
                  <a:avLst/>
                  <a:gdLst/>
                  <a:ahLst/>
                  <a:rect l="l" t="t" r="r" b="b"/>
                  <a:pathLst>
                    <a:path w="713" h="762">
                      <a:moveTo>
                        <a:pt x="0" y="64"/>
                      </a:moveTo>
                      <a:lnTo>
                        <a:pt x="22" y="16"/>
                      </a:lnTo>
                      <a:lnTo>
                        <a:pt x="69" y="0"/>
                      </a:lnTo>
                      <a:lnTo>
                        <a:pt x="134" y="7"/>
                      </a:lnTo>
                      <a:lnTo>
                        <a:pt x="150" y="52"/>
                      </a:lnTo>
                      <a:lnTo>
                        <a:pt x="125" y="227"/>
                      </a:lnTo>
                      <a:lnTo>
                        <a:pt x="122" y="360"/>
                      </a:lnTo>
                      <a:lnTo>
                        <a:pt x="116" y="435"/>
                      </a:lnTo>
                      <a:lnTo>
                        <a:pt x="116" y="450"/>
                      </a:lnTo>
                      <a:lnTo>
                        <a:pt x="131" y="524"/>
                      </a:lnTo>
                      <a:lnTo>
                        <a:pt x="172" y="536"/>
                      </a:lnTo>
                      <a:lnTo>
                        <a:pt x="225" y="524"/>
                      </a:lnTo>
                      <a:lnTo>
                        <a:pt x="303" y="481"/>
                      </a:lnTo>
                      <a:lnTo>
                        <a:pt x="387" y="460"/>
                      </a:lnTo>
                      <a:lnTo>
                        <a:pt x="482" y="444"/>
                      </a:lnTo>
                      <a:lnTo>
                        <a:pt x="585" y="432"/>
                      </a:lnTo>
                      <a:lnTo>
                        <a:pt x="660" y="432"/>
                      </a:lnTo>
                      <a:lnTo>
                        <a:pt x="694" y="441"/>
                      </a:lnTo>
                      <a:lnTo>
                        <a:pt x="713" y="463"/>
                      </a:lnTo>
                      <a:lnTo>
                        <a:pt x="704" y="496"/>
                      </a:lnTo>
                      <a:lnTo>
                        <a:pt x="657" y="524"/>
                      </a:lnTo>
                      <a:lnTo>
                        <a:pt x="613" y="563"/>
                      </a:lnTo>
                      <a:lnTo>
                        <a:pt x="572" y="618"/>
                      </a:lnTo>
                      <a:lnTo>
                        <a:pt x="547" y="663"/>
                      </a:lnTo>
                      <a:lnTo>
                        <a:pt x="526" y="708"/>
                      </a:lnTo>
                      <a:lnTo>
                        <a:pt x="510" y="762"/>
                      </a:lnTo>
                      <a:lnTo>
                        <a:pt x="488" y="762"/>
                      </a:lnTo>
                      <a:lnTo>
                        <a:pt x="469" y="741"/>
                      </a:lnTo>
                      <a:lnTo>
                        <a:pt x="462" y="681"/>
                      </a:lnTo>
                      <a:lnTo>
                        <a:pt x="507" y="627"/>
                      </a:lnTo>
                      <a:lnTo>
                        <a:pt x="566" y="563"/>
                      </a:lnTo>
                      <a:lnTo>
                        <a:pt x="622" y="515"/>
                      </a:lnTo>
                      <a:lnTo>
                        <a:pt x="647" y="499"/>
                      </a:lnTo>
                      <a:lnTo>
                        <a:pt x="657" y="478"/>
                      </a:lnTo>
                      <a:lnTo>
                        <a:pt x="632" y="463"/>
                      </a:lnTo>
                      <a:lnTo>
                        <a:pt x="547" y="463"/>
                      </a:lnTo>
                      <a:lnTo>
                        <a:pt x="440" y="481"/>
                      </a:lnTo>
                      <a:lnTo>
                        <a:pt x="356" y="509"/>
                      </a:lnTo>
                      <a:lnTo>
                        <a:pt x="265" y="560"/>
                      </a:lnTo>
                      <a:lnTo>
                        <a:pt x="187" y="596"/>
                      </a:lnTo>
                      <a:lnTo>
                        <a:pt x="103" y="599"/>
                      </a:lnTo>
                      <a:lnTo>
                        <a:pt x="69" y="587"/>
                      </a:lnTo>
                      <a:lnTo>
                        <a:pt x="50" y="542"/>
                      </a:lnTo>
                      <a:lnTo>
                        <a:pt x="37" y="478"/>
                      </a:lnTo>
                      <a:lnTo>
                        <a:pt x="31" y="360"/>
                      </a:lnTo>
                      <a:lnTo>
                        <a:pt x="19" y="151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1" name=""/>
              <p:cNvGrpSpPr/>
              <p:nvPr/>
            </p:nvGrpSpPr>
            <p:grpSpPr>
              <a:xfrm>
                <a:off x="7114680" y="874800"/>
                <a:ext cx="102240" cy="303120"/>
                <a:chOff x="7114680" y="874800"/>
                <a:chExt cx="102240" cy="303120"/>
              </a:xfrm>
            </p:grpSpPr>
            <p:sp>
              <p:nvSpPr>
                <p:cNvPr id="962" name=""/>
                <p:cNvSpPr/>
                <p:nvPr/>
              </p:nvSpPr>
              <p:spPr>
                <a:xfrm>
                  <a:off x="7136280" y="1043640"/>
                  <a:ext cx="80640" cy="37440"/>
                </a:xfrm>
                <a:custGeom>
                  <a:avLst/>
                  <a:gdLst/>
                  <a:ahLst/>
                  <a:rect l="l" t="t" r="r" b="b"/>
                  <a:pathLst>
                    <a:path w="340" h="109">
                      <a:moveTo>
                        <a:pt x="340" y="109"/>
                      </a:moveTo>
                      <a:lnTo>
                        <a:pt x="165" y="30"/>
                      </a:lnTo>
                      <a:lnTo>
                        <a:pt x="48" y="0"/>
                      </a:lnTo>
                      <a:lnTo>
                        <a:pt x="10" y="0"/>
                      </a:lnTo>
                      <a:lnTo>
                        <a:pt x="0" y="27"/>
                      </a:lnTo>
                      <a:lnTo>
                        <a:pt x="22" y="48"/>
                      </a:lnTo>
                      <a:lnTo>
                        <a:pt x="70" y="54"/>
                      </a:lnTo>
                      <a:lnTo>
                        <a:pt x="184" y="75"/>
                      </a:lnTo>
                      <a:lnTo>
                        <a:pt x="340" y="10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7114680" y="1077480"/>
                  <a:ext cx="22680" cy="100440"/>
                </a:xfrm>
                <a:custGeom>
                  <a:avLst/>
                  <a:gdLst/>
                  <a:ahLst/>
                  <a:rect l="l" t="t" r="r" b="b"/>
                  <a:pathLst>
                    <a:path w="97" h="291">
                      <a:moveTo>
                        <a:pt x="97" y="291"/>
                      </a:moveTo>
                      <a:lnTo>
                        <a:pt x="94" y="148"/>
                      </a:lnTo>
                      <a:lnTo>
                        <a:pt x="69" y="39"/>
                      </a:lnTo>
                      <a:lnTo>
                        <a:pt x="41" y="0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54"/>
                      </a:lnTo>
                      <a:lnTo>
                        <a:pt x="47" y="184"/>
                      </a:lnTo>
                      <a:lnTo>
                        <a:pt x="97" y="29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7147800" y="874800"/>
                  <a:ext cx="50760" cy="38160"/>
                </a:xfrm>
                <a:custGeom>
                  <a:avLst/>
                  <a:gdLst/>
                  <a:ahLst/>
                  <a:rect l="l" t="t" r="r" b="b"/>
                  <a:pathLst>
                    <a:path w="214" h="111">
                      <a:moveTo>
                        <a:pt x="0" y="72"/>
                      </a:moveTo>
                      <a:lnTo>
                        <a:pt x="42" y="30"/>
                      </a:lnTo>
                      <a:lnTo>
                        <a:pt x="100" y="3"/>
                      </a:lnTo>
                      <a:lnTo>
                        <a:pt x="166" y="0"/>
                      </a:lnTo>
                      <a:lnTo>
                        <a:pt x="214" y="9"/>
                      </a:lnTo>
                      <a:lnTo>
                        <a:pt x="138" y="18"/>
                      </a:lnTo>
                      <a:lnTo>
                        <a:pt x="109" y="36"/>
                      </a:lnTo>
                      <a:lnTo>
                        <a:pt x="81" y="63"/>
                      </a:lnTo>
                      <a:lnTo>
                        <a:pt x="68" y="93"/>
                      </a:lnTo>
                      <a:lnTo>
                        <a:pt x="42" y="111"/>
                      </a:lnTo>
                      <a:lnTo>
                        <a:pt x="1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65" name=""/>
          <p:cNvGrpSpPr/>
          <p:nvPr/>
        </p:nvGrpSpPr>
        <p:grpSpPr>
          <a:xfrm>
            <a:off x="3581280" y="4343400"/>
            <a:ext cx="914400" cy="761760"/>
            <a:chOff x="3581280" y="4343400"/>
            <a:chExt cx="914400" cy="761760"/>
          </a:xfrm>
        </p:grpSpPr>
        <p:sp>
          <p:nvSpPr>
            <p:cNvPr id="966" name=""/>
            <p:cNvSpPr/>
            <p:nvPr/>
          </p:nvSpPr>
          <p:spPr>
            <a:xfrm>
              <a:off x="3581280" y="4343400"/>
              <a:ext cx="914400" cy="65304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 baseline="-8000">
                  <a:solidFill>
                    <a:srgbClr val="000000"/>
                  </a:solidFill>
                  <a:latin typeface="Times New Roman"/>
                </a:rPr>
                <a:t>Exit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38120" y="4942080"/>
              <a:ext cx="0" cy="1630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625320" y="2674800"/>
            <a:ext cx="1221120" cy="57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25320" y="2674800"/>
            <a:ext cx="190800" cy="80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25320" y="2674800"/>
            <a:ext cx="685800" cy="114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411360" y="3017880"/>
            <a:ext cx="7632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503360" y="3933720"/>
            <a:ext cx="7632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533680" y="4010040"/>
            <a:ext cx="7632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647800" y="2558880"/>
            <a:ext cx="7632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65440" y="1758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46400" y="251316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65280" y="33908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351440" y="389556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411920" y="26272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943640" y="31240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247560" y="358128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445560" y="28717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370680" y="208296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992680" y="16160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729160" y="23684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965600" y="21398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1082160" y="1566720"/>
            <a:ext cx="99252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1960560" y="1565280"/>
            <a:ext cx="114480" cy="801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75040" y="1566720"/>
            <a:ext cx="572760" cy="99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075040" y="1566720"/>
            <a:ext cx="877680" cy="230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2685600" y="1797120"/>
            <a:ext cx="3049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1922400" y="2635200"/>
            <a:ext cx="72540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1960560" y="2253960"/>
            <a:ext cx="137484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029040" y="1797120"/>
            <a:ext cx="344520" cy="419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685960" y="2635200"/>
            <a:ext cx="725400" cy="344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373560" y="2254320"/>
            <a:ext cx="75960" cy="725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960560" y="2444760"/>
            <a:ext cx="1220760" cy="1222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1388880" y="2406600"/>
            <a:ext cx="571320" cy="344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044720" y="1987560"/>
            <a:ext cx="304560" cy="763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663120" y="1987560"/>
            <a:ext cx="3812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1579680" y="3284640"/>
            <a:ext cx="342720" cy="64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922400" y="3284640"/>
            <a:ext cx="611280" cy="725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>
            <a:off x="930240" y="3284640"/>
            <a:ext cx="992160" cy="190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2609640" y="3705120"/>
            <a:ext cx="609480" cy="34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3257640" y="3093840"/>
            <a:ext cx="230040" cy="61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 flipV="1">
            <a:off x="2685600" y="2674440"/>
            <a:ext cx="763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1388880" y="282744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3219120" y="3056040"/>
            <a:ext cx="230040" cy="61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2571840" y="2712600"/>
            <a:ext cx="75960" cy="1335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 flipV="1">
            <a:off x="1617840" y="4010040"/>
            <a:ext cx="954000" cy="38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1349280" y="1643040"/>
            <a:ext cx="649440" cy="114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53920" y="3513240"/>
            <a:ext cx="649440" cy="420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036880" y="1528920"/>
            <a:ext cx="75960" cy="75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075040" y="1566720"/>
            <a:ext cx="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006560" y="1949400"/>
            <a:ext cx="7596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922400" y="2368440"/>
            <a:ext cx="7632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952720" y="1758960"/>
            <a:ext cx="7632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87520" y="2635200"/>
            <a:ext cx="75960" cy="777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311120" y="2751120"/>
            <a:ext cx="7812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335400" y="2216160"/>
            <a:ext cx="7596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181320" y="3666960"/>
            <a:ext cx="7632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440440" y="4022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884240" y="3246480"/>
            <a:ext cx="7632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16120" y="3475080"/>
            <a:ext cx="75960" cy="777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2629080" y="4102200"/>
            <a:ext cx="723600" cy="644400"/>
            <a:chOff x="2629080" y="4102200"/>
            <a:chExt cx="723600" cy="644400"/>
          </a:xfrm>
        </p:grpSpPr>
        <p:sp>
          <p:nvSpPr>
            <p:cNvPr id="1026" name=""/>
            <p:cNvSpPr/>
            <p:nvPr/>
          </p:nvSpPr>
          <p:spPr>
            <a:xfrm>
              <a:off x="2895480" y="4648320"/>
              <a:ext cx="76320" cy="75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276720" y="4670280"/>
              <a:ext cx="75960" cy="7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629080" y="4102200"/>
              <a:ext cx="634680" cy="584280"/>
            </a:xfrm>
            <a:custGeom>
              <a:avLst/>
              <a:gdLst/>
              <a:ahLst/>
              <a:rect l="l" t="t" r="r" b="b"/>
              <a:pathLst>
                <a:path w="400" h="368">
                  <a:moveTo>
                    <a:pt x="400" y="36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9" name=""/>
          <p:cNvSpPr/>
          <p:nvPr/>
        </p:nvSpPr>
        <p:spPr>
          <a:xfrm>
            <a:off x="4391280" y="4403880"/>
            <a:ext cx="4764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nodes are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handle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169200" y="5173920"/>
            <a:ext cx="1178640" cy="1150200"/>
            <a:chOff x="169200" y="5173920"/>
            <a:chExt cx="1178640" cy="1150200"/>
          </a:xfrm>
        </p:grpSpPr>
        <p:sp>
          <p:nvSpPr>
            <p:cNvPr id="1031" name=""/>
            <p:cNvSpPr/>
            <p:nvPr/>
          </p:nvSpPr>
          <p:spPr>
            <a:xfrm rot="2359800">
              <a:off x="250920" y="5560920"/>
              <a:ext cx="593640" cy="47088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2" name=""/>
            <p:cNvGrpSpPr/>
            <p:nvPr/>
          </p:nvGrpSpPr>
          <p:grpSpPr>
            <a:xfrm>
              <a:off x="322560" y="5616000"/>
              <a:ext cx="316440" cy="258480"/>
              <a:chOff x="322560" y="5616000"/>
              <a:chExt cx="316440" cy="258480"/>
            </a:xfrm>
          </p:grpSpPr>
          <p:sp>
            <p:nvSpPr>
              <p:cNvPr id="1033" name=""/>
              <p:cNvSpPr/>
              <p:nvPr/>
            </p:nvSpPr>
            <p:spPr>
              <a:xfrm>
                <a:off x="322560" y="5616000"/>
                <a:ext cx="316440" cy="221760"/>
              </a:xfrm>
              <a:prstGeom prst="horizontalScroll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-8000">
                    <a:solidFill>
                      <a:srgbClr val="000000"/>
                    </a:solidFill>
                    <a:latin typeface="Times New Roman"/>
                  </a:rPr>
                  <a:t>Exi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80600" y="5819040"/>
                <a:ext cx="0" cy="55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35" name=""/>
            <p:cNvSpPr/>
            <p:nvPr/>
          </p:nvSpPr>
          <p:spPr>
            <a:xfrm>
              <a:off x="228600" y="5203080"/>
              <a:ext cx="1119240" cy="1121040"/>
            </a:xfrm>
            <a:prstGeom prst="ellipse">
              <a:avLst/>
            </a:prstGeom>
            <a:noFill/>
            <a:ln w="63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36" name="" descr=""/>
            <p:cNvPicPr/>
            <p:nvPr/>
          </p:nvPicPr>
          <p:blipFill>
            <a:blip r:embed="rId3"/>
            <a:stretch/>
          </p:blipFill>
          <p:spPr>
            <a:xfrm>
              <a:off x="702000" y="5440680"/>
              <a:ext cx="592200" cy="53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7" name=""/>
            <p:cNvGrpSpPr/>
            <p:nvPr/>
          </p:nvGrpSpPr>
          <p:grpSpPr>
            <a:xfrm>
              <a:off x="459000" y="5173920"/>
              <a:ext cx="538560" cy="577800"/>
              <a:chOff x="459000" y="5173920"/>
              <a:chExt cx="538560" cy="577800"/>
            </a:xfrm>
          </p:grpSpPr>
          <p:sp>
            <p:nvSpPr>
              <p:cNvPr id="1038" name=""/>
              <p:cNvSpPr/>
              <p:nvPr/>
            </p:nvSpPr>
            <p:spPr>
              <a:xfrm rot="21255000">
                <a:off x="729360" y="5235840"/>
                <a:ext cx="109440" cy="9072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21255000">
                <a:off x="692640" y="5348520"/>
                <a:ext cx="112680" cy="20304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21255000">
                <a:off x="771480" y="5515200"/>
                <a:ext cx="219240" cy="14004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rot="19838400">
                <a:off x="469080" y="5559120"/>
                <a:ext cx="313200" cy="12348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21255000">
                <a:off x="618840" y="5182200"/>
                <a:ext cx="127800" cy="22716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rot="21255000">
                <a:off x="771120" y="5181840"/>
                <a:ext cx="167400" cy="18936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4" name=""/>
          <p:cNvSpPr/>
          <p:nvPr/>
        </p:nvSpPr>
        <p:spPr>
          <a:xfrm>
            <a:off x="1984680" y="5486400"/>
            <a:ext cx="552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nodes are reachable from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983600" y="5927760"/>
            <a:ext cx="562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achable nodes have been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144440" y="5029200"/>
            <a:ext cx="28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lt;postCond&gt;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315200" y="2209680"/>
            <a:ext cx="1208160" cy="3581640"/>
          </a:xfrm>
          <a:custGeom>
            <a:avLst/>
            <a:gdLst/>
            <a:ahLst/>
            <a:rect l="l" t="t" r="r" b="b"/>
            <a:pathLst>
              <a:path w="761" h="2256">
                <a:moveTo>
                  <a:pt x="0" y="2256"/>
                </a:moveTo>
                <a:cubicBezTo>
                  <a:pt x="105" y="2212"/>
                  <a:pt x="512" y="2216"/>
                  <a:pt x="632" y="1992"/>
                </a:cubicBezTo>
                <a:cubicBezTo>
                  <a:pt x="752" y="1768"/>
                  <a:pt x="761" y="1244"/>
                  <a:pt x="720" y="912"/>
                </a:cubicBezTo>
                <a:cubicBezTo>
                  <a:pt x="679" y="580"/>
                  <a:pt x="584" y="268"/>
                  <a:pt x="384" y="0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4419720" y="1206360"/>
            <a:ext cx="4572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e know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nodes are reachable from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because we have traced out a path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455360" y="2819520"/>
            <a:ext cx="4554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a node has been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handle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n all of its neighbors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ave been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ph Se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6400800" y="228600"/>
            <a:ext cx="1181160" cy="1066680"/>
            <a:chOff x="6400800" y="228600"/>
            <a:chExt cx="1181160" cy="1066680"/>
          </a:xfrm>
        </p:grpSpPr>
        <p:sp>
          <p:nvSpPr>
            <p:cNvPr id="1052" name=""/>
            <p:cNvSpPr/>
            <p:nvPr/>
          </p:nvSpPr>
          <p:spPr>
            <a:xfrm>
              <a:off x="6400800" y="228600"/>
              <a:ext cx="1181160" cy="106668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53" name=""/>
            <p:cNvGrpSpPr/>
            <p:nvPr/>
          </p:nvGrpSpPr>
          <p:grpSpPr>
            <a:xfrm>
              <a:off x="6587280" y="317520"/>
              <a:ext cx="629640" cy="860400"/>
              <a:chOff x="6587280" y="317520"/>
              <a:chExt cx="629640" cy="860400"/>
            </a:xfrm>
          </p:grpSpPr>
          <p:grpSp>
            <p:nvGrpSpPr>
              <p:cNvPr id="1054" name=""/>
              <p:cNvGrpSpPr/>
              <p:nvPr/>
            </p:nvGrpSpPr>
            <p:grpSpPr>
              <a:xfrm>
                <a:off x="6587280" y="317520"/>
                <a:ext cx="592560" cy="842400"/>
                <a:chOff x="6587280" y="317520"/>
                <a:chExt cx="592560" cy="84240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6782760" y="459720"/>
                  <a:ext cx="102960" cy="177840"/>
                </a:xfrm>
                <a:custGeom>
                  <a:avLst/>
                  <a:gdLst/>
                  <a:ahLst/>
                  <a:rect l="l" t="t" r="r" b="b"/>
                  <a:pathLst>
                    <a:path w="434" h="514">
                      <a:moveTo>
                        <a:pt x="132" y="186"/>
                      </a:moveTo>
                      <a:lnTo>
                        <a:pt x="157" y="114"/>
                      </a:lnTo>
                      <a:lnTo>
                        <a:pt x="189" y="42"/>
                      </a:lnTo>
                      <a:lnTo>
                        <a:pt x="236" y="6"/>
                      </a:lnTo>
                      <a:lnTo>
                        <a:pt x="302" y="0"/>
                      </a:lnTo>
                      <a:lnTo>
                        <a:pt x="355" y="24"/>
                      </a:lnTo>
                      <a:lnTo>
                        <a:pt x="393" y="63"/>
                      </a:lnTo>
                      <a:lnTo>
                        <a:pt x="421" y="135"/>
                      </a:lnTo>
                      <a:lnTo>
                        <a:pt x="434" y="222"/>
                      </a:lnTo>
                      <a:lnTo>
                        <a:pt x="434" y="312"/>
                      </a:lnTo>
                      <a:lnTo>
                        <a:pt x="412" y="411"/>
                      </a:lnTo>
                      <a:lnTo>
                        <a:pt x="355" y="474"/>
                      </a:lnTo>
                      <a:lnTo>
                        <a:pt x="299" y="514"/>
                      </a:lnTo>
                      <a:lnTo>
                        <a:pt x="245" y="510"/>
                      </a:lnTo>
                      <a:lnTo>
                        <a:pt x="198" y="468"/>
                      </a:lnTo>
                      <a:lnTo>
                        <a:pt x="157" y="396"/>
                      </a:lnTo>
                      <a:lnTo>
                        <a:pt x="129" y="333"/>
                      </a:lnTo>
                      <a:lnTo>
                        <a:pt x="129" y="252"/>
                      </a:lnTo>
                      <a:lnTo>
                        <a:pt x="0" y="234"/>
                      </a:lnTo>
                      <a:lnTo>
                        <a:pt x="16" y="189"/>
                      </a:lnTo>
                      <a:lnTo>
                        <a:pt x="132" y="18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6850800" y="317520"/>
                  <a:ext cx="134280" cy="398880"/>
                </a:xfrm>
                <a:custGeom>
                  <a:avLst/>
                  <a:gdLst/>
                  <a:ahLst/>
                  <a:rect l="l" t="t" r="r" b="b"/>
                  <a:pathLst>
                    <a:path w="566" h="1154">
                      <a:moveTo>
                        <a:pt x="13" y="1145"/>
                      </a:moveTo>
                      <a:lnTo>
                        <a:pt x="0" y="1088"/>
                      </a:lnTo>
                      <a:lnTo>
                        <a:pt x="31" y="1042"/>
                      </a:lnTo>
                      <a:lnTo>
                        <a:pt x="134" y="988"/>
                      </a:lnTo>
                      <a:lnTo>
                        <a:pt x="226" y="927"/>
                      </a:lnTo>
                      <a:lnTo>
                        <a:pt x="313" y="827"/>
                      </a:lnTo>
                      <a:lnTo>
                        <a:pt x="432" y="689"/>
                      </a:lnTo>
                      <a:lnTo>
                        <a:pt x="463" y="634"/>
                      </a:lnTo>
                      <a:lnTo>
                        <a:pt x="479" y="580"/>
                      </a:lnTo>
                      <a:lnTo>
                        <a:pt x="472" y="526"/>
                      </a:lnTo>
                      <a:lnTo>
                        <a:pt x="444" y="426"/>
                      </a:lnTo>
                      <a:lnTo>
                        <a:pt x="376" y="299"/>
                      </a:lnTo>
                      <a:lnTo>
                        <a:pt x="301" y="229"/>
                      </a:lnTo>
                      <a:lnTo>
                        <a:pt x="235" y="190"/>
                      </a:lnTo>
                      <a:lnTo>
                        <a:pt x="181" y="184"/>
                      </a:lnTo>
                      <a:lnTo>
                        <a:pt x="153" y="190"/>
                      </a:lnTo>
                      <a:lnTo>
                        <a:pt x="150" y="163"/>
                      </a:lnTo>
                      <a:lnTo>
                        <a:pt x="215" y="154"/>
                      </a:lnTo>
                      <a:lnTo>
                        <a:pt x="291" y="154"/>
                      </a:lnTo>
                      <a:lnTo>
                        <a:pt x="238" y="93"/>
                      </a:lnTo>
                      <a:lnTo>
                        <a:pt x="206" y="45"/>
                      </a:lnTo>
                      <a:lnTo>
                        <a:pt x="229" y="27"/>
                      </a:lnTo>
                      <a:lnTo>
                        <a:pt x="313" y="109"/>
                      </a:lnTo>
                      <a:lnTo>
                        <a:pt x="329" y="121"/>
                      </a:lnTo>
                      <a:lnTo>
                        <a:pt x="313" y="57"/>
                      </a:lnTo>
                      <a:lnTo>
                        <a:pt x="301" y="9"/>
                      </a:lnTo>
                      <a:lnTo>
                        <a:pt x="313" y="0"/>
                      </a:lnTo>
                      <a:lnTo>
                        <a:pt x="341" y="9"/>
                      </a:lnTo>
                      <a:lnTo>
                        <a:pt x="366" y="121"/>
                      </a:lnTo>
                      <a:lnTo>
                        <a:pt x="379" y="118"/>
                      </a:lnTo>
                      <a:lnTo>
                        <a:pt x="379" y="30"/>
                      </a:lnTo>
                      <a:lnTo>
                        <a:pt x="404" y="21"/>
                      </a:lnTo>
                      <a:lnTo>
                        <a:pt x="422" y="36"/>
                      </a:lnTo>
                      <a:lnTo>
                        <a:pt x="413" y="154"/>
                      </a:lnTo>
                      <a:lnTo>
                        <a:pt x="407" y="202"/>
                      </a:lnTo>
                      <a:lnTo>
                        <a:pt x="422" y="299"/>
                      </a:lnTo>
                      <a:lnTo>
                        <a:pt x="472" y="402"/>
                      </a:lnTo>
                      <a:lnTo>
                        <a:pt x="525" y="520"/>
                      </a:lnTo>
                      <a:lnTo>
                        <a:pt x="566" y="607"/>
                      </a:lnTo>
                      <a:lnTo>
                        <a:pt x="563" y="652"/>
                      </a:lnTo>
                      <a:lnTo>
                        <a:pt x="488" y="734"/>
                      </a:lnTo>
                      <a:lnTo>
                        <a:pt x="385" y="836"/>
                      </a:lnTo>
                      <a:lnTo>
                        <a:pt x="301" y="937"/>
                      </a:lnTo>
                      <a:lnTo>
                        <a:pt x="197" y="1070"/>
                      </a:lnTo>
                      <a:lnTo>
                        <a:pt x="112" y="1136"/>
                      </a:lnTo>
                      <a:lnTo>
                        <a:pt x="47" y="1154"/>
                      </a:lnTo>
                      <a:lnTo>
                        <a:pt x="13" y="1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6587280" y="689400"/>
                  <a:ext cx="246240" cy="200880"/>
                </a:xfrm>
                <a:custGeom>
                  <a:avLst/>
                  <a:gdLst/>
                  <a:ahLst/>
                  <a:rect l="l" t="t" r="r" b="b"/>
                  <a:pathLst>
                    <a:path w="1037" h="581">
                      <a:moveTo>
                        <a:pt x="210" y="468"/>
                      </a:moveTo>
                      <a:lnTo>
                        <a:pt x="361" y="462"/>
                      </a:lnTo>
                      <a:lnTo>
                        <a:pt x="498" y="444"/>
                      </a:lnTo>
                      <a:lnTo>
                        <a:pt x="583" y="423"/>
                      </a:lnTo>
                      <a:lnTo>
                        <a:pt x="705" y="354"/>
                      </a:lnTo>
                      <a:lnTo>
                        <a:pt x="792" y="288"/>
                      </a:lnTo>
                      <a:lnTo>
                        <a:pt x="906" y="207"/>
                      </a:lnTo>
                      <a:lnTo>
                        <a:pt x="959" y="156"/>
                      </a:lnTo>
                      <a:lnTo>
                        <a:pt x="1000" y="120"/>
                      </a:lnTo>
                      <a:lnTo>
                        <a:pt x="1037" y="81"/>
                      </a:lnTo>
                      <a:lnTo>
                        <a:pt x="1037" y="39"/>
                      </a:lnTo>
                      <a:lnTo>
                        <a:pt x="996" y="0"/>
                      </a:lnTo>
                      <a:lnTo>
                        <a:pt x="971" y="9"/>
                      </a:lnTo>
                      <a:lnTo>
                        <a:pt x="903" y="90"/>
                      </a:lnTo>
                      <a:lnTo>
                        <a:pt x="828" y="183"/>
                      </a:lnTo>
                      <a:lnTo>
                        <a:pt x="752" y="270"/>
                      </a:lnTo>
                      <a:lnTo>
                        <a:pt x="642" y="342"/>
                      </a:lnTo>
                      <a:lnTo>
                        <a:pt x="548" y="390"/>
                      </a:lnTo>
                      <a:lnTo>
                        <a:pt x="445" y="414"/>
                      </a:lnTo>
                      <a:lnTo>
                        <a:pt x="301" y="417"/>
                      </a:lnTo>
                      <a:lnTo>
                        <a:pt x="216" y="417"/>
                      </a:lnTo>
                      <a:lnTo>
                        <a:pt x="144" y="363"/>
                      </a:lnTo>
                      <a:lnTo>
                        <a:pt x="125" y="327"/>
                      </a:lnTo>
                      <a:lnTo>
                        <a:pt x="94" y="327"/>
                      </a:lnTo>
                      <a:lnTo>
                        <a:pt x="116" y="372"/>
                      </a:lnTo>
                      <a:lnTo>
                        <a:pt x="150" y="414"/>
                      </a:lnTo>
                      <a:lnTo>
                        <a:pt x="66" y="396"/>
                      </a:lnTo>
                      <a:lnTo>
                        <a:pt x="3" y="387"/>
                      </a:lnTo>
                      <a:lnTo>
                        <a:pt x="3" y="405"/>
                      </a:lnTo>
                      <a:lnTo>
                        <a:pt x="59" y="417"/>
                      </a:lnTo>
                      <a:lnTo>
                        <a:pt x="97" y="441"/>
                      </a:lnTo>
                      <a:lnTo>
                        <a:pt x="131" y="444"/>
                      </a:lnTo>
                      <a:lnTo>
                        <a:pt x="78" y="462"/>
                      </a:lnTo>
                      <a:lnTo>
                        <a:pt x="0" y="481"/>
                      </a:lnTo>
                      <a:lnTo>
                        <a:pt x="3" y="499"/>
                      </a:lnTo>
                      <a:lnTo>
                        <a:pt x="28" y="505"/>
                      </a:lnTo>
                      <a:lnTo>
                        <a:pt x="103" y="481"/>
                      </a:lnTo>
                      <a:lnTo>
                        <a:pt x="150" y="477"/>
                      </a:lnTo>
                      <a:lnTo>
                        <a:pt x="122" y="505"/>
                      </a:lnTo>
                      <a:lnTo>
                        <a:pt x="78" y="550"/>
                      </a:lnTo>
                      <a:lnTo>
                        <a:pt x="59" y="562"/>
                      </a:lnTo>
                      <a:lnTo>
                        <a:pt x="75" y="581"/>
                      </a:lnTo>
                      <a:lnTo>
                        <a:pt x="113" y="559"/>
                      </a:lnTo>
                      <a:lnTo>
                        <a:pt x="163" y="514"/>
                      </a:lnTo>
                      <a:lnTo>
                        <a:pt x="210" y="46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6814080" y="668880"/>
                  <a:ext cx="144360" cy="276480"/>
                </a:xfrm>
                <a:custGeom>
                  <a:avLst/>
                  <a:gdLst/>
                  <a:ahLst/>
                  <a:rect l="l" t="t" r="r" b="b"/>
                  <a:pathLst>
                    <a:path w="608" h="800">
                      <a:moveTo>
                        <a:pt x="38" y="90"/>
                      </a:moveTo>
                      <a:lnTo>
                        <a:pt x="63" y="27"/>
                      </a:lnTo>
                      <a:lnTo>
                        <a:pt x="104" y="0"/>
                      </a:lnTo>
                      <a:lnTo>
                        <a:pt x="141" y="0"/>
                      </a:lnTo>
                      <a:lnTo>
                        <a:pt x="179" y="18"/>
                      </a:lnTo>
                      <a:lnTo>
                        <a:pt x="216" y="54"/>
                      </a:lnTo>
                      <a:lnTo>
                        <a:pt x="235" y="117"/>
                      </a:lnTo>
                      <a:lnTo>
                        <a:pt x="245" y="180"/>
                      </a:lnTo>
                      <a:lnTo>
                        <a:pt x="263" y="243"/>
                      </a:lnTo>
                      <a:lnTo>
                        <a:pt x="298" y="312"/>
                      </a:lnTo>
                      <a:lnTo>
                        <a:pt x="357" y="384"/>
                      </a:lnTo>
                      <a:lnTo>
                        <a:pt x="415" y="432"/>
                      </a:lnTo>
                      <a:lnTo>
                        <a:pt x="499" y="468"/>
                      </a:lnTo>
                      <a:lnTo>
                        <a:pt x="571" y="522"/>
                      </a:lnTo>
                      <a:lnTo>
                        <a:pt x="608" y="577"/>
                      </a:lnTo>
                      <a:lnTo>
                        <a:pt x="602" y="622"/>
                      </a:lnTo>
                      <a:lnTo>
                        <a:pt x="593" y="676"/>
                      </a:lnTo>
                      <a:lnTo>
                        <a:pt x="565" y="712"/>
                      </a:lnTo>
                      <a:lnTo>
                        <a:pt x="518" y="757"/>
                      </a:lnTo>
                      <a:lnTo>
                        <a:pt x="449" y="790"/>
                      </a:lnTo>
                      <a:lnTo>
                        <a:pt x="396" y="800"/>
                      </a:lnTo>
                      <a:lnTo>
                        <a:pt x="320" y="784"/>
                      </a:lnTo>
                      <a:lnTo>
                        <a:pt x="251" y="748"/>
                      </a:lnTo>
                      <a:lnTo>
                        <a:pt x="179" y="694"/>
                      </a:lnTo>
                      <a:lnTo>
                        <a:pt x="129" y="631"/>
                      </a:lnTo>
                      <a:lnTo>
                        <a:pt x="82" y="550"/>
                      </a:lnTo>
                      <a:lnTo>
                        <a:pt x="44" y="456"/>
                      </a:lnTo>
                      <a:lnTo>
                        <a:pt x="19" y="375"/>
                      </a:lnTo>
                      <a:lnTo>
                        <a:pt x="7" y="297"/>
                      </a:lnTo>
                      <a:lnTo>
                        <a:pt x="0" y="189"/>
                      </a:lnTo>
                      <a:lnTo>
                        <a:pt x="19" y="117"/>
                      </a:lnTo>
                      <a:lnTo>
                        <a:pt x="38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6932160" y="786960"/>
                  <a:ext cx="247680" cy="250920"/>
                </a:xfrm>
                <a:custGeom>
                  <a:avLst/>
                  <a:gdLst/>
                  <a:ahLst/>
                  <a:rect l="l" t="t" r="r" b="b"/>
                  <a:pathLst>
                    <a:path w="1043" h="726">
                      <a:moveTo>
                        <a:pt x="116" y="230"/>
                      </a:moveTo>
                      <a:lnTo>
                        <a:pt x="216" y="147"/>
                      </a:lnTo>
                      <a:lnTo>
                        <a:pt x="338" y="72"/>
                      </a:lnTo>
                      <a:lnTo>
                        <a:pt x="417" y="27"/>
                      </a:lnTo>
                      <a:lnTo>
                        <a:pt x="479" y="12"/>
                      </a:lnTo>
                      <a:lnTo>
                        <a:pt x="529" y="0"/>
                      </a:lnTo>
                      <a:lnTo>
                        <a:pt x="573" y="18"/>
                      </a:lnTo>
                      <a:lnTo>
                        <a:pt x="601" y="75"/>
                      </a:lnTo>
                      <a:lnTo>
                        <a:pt x="620" y="230"/>
                      </a:lnTo>
                      <a:lnTo>
                        <a:pt x="620" y="416"/>
                      </a:lnTo>
                      <a:lnTo>
                        <a:pt x="620" y="536"/>
                      </a:lnTo>
                      <a:lnTo>
                        <a:pt x="642" y="609"/>
                      </a:lnTo>
                      <a:lnTo>
                        <a:pt x="686" y="597"/>
                      </a:lnTo>
                      <a:lnTo>
                        <a:pt x="717" y="552"/>
                      </a:lnTo>
                      <a:lnTo>
                        <a:pt x="779" y="500"/>
                      </a:lnTo>
                      <a:lnTo>
                        <a:pt x="876" y="470"/>
                      </a:lnTo>
                      <a:lnTo>
                        <a:pt x="943" y="470"/>
                      </a:lnTo>
                      <a:lnTo>
                        <a:pt x="1043" y="488"/>
                      </a:lnTo>
                      <a:lnTo>
                        <a:pt x="1037" y="524"/>
                      </a:lnTo>
                      <a:lnTo>
                        <a:pt x="1015" y="555"/>
                      </a:lnTo>
                      <a:lnTo>
                        <a:pt x="981" y="561"/>
                      </a:lnTo>
                      <a:lnTo>
                        <a:pt x="943" y="542"/>
                      </a:lnTo>
                      <a:lnTo>
                        <a:pt x="886" y="518"/>
                      </a:lnTo>
                      <a:lnTo>
                        <a:pt x="829" y="518"/>
                      </a:lnTo>
                      <a:lnTo>
                        <a:pt x="754" y="564"/>
                      </a:lnTo>
                      <a:lnTo>
                        <a:pt x="708" y="633"/>
                      </a:lnTo>
                      <a:lnTo>
                        <a:pt x="698" y="690"/>
                      </a:lnTo>
                      <a:lnTo>
                        <a:pt x="679" y="726"/>
                      </a:lnTo>
                      <a:lnTo>
                        <a:pt x="604" y="723"/>
                      </a:lnTo>
                      <a:lnTo>
                        <a:pt x="601" y="669"/>
                      </a:lnTo>
                      <a:lnTo>
                        <a:pt x="576" y="591"/>
                      </a:lnTo>
                      <a:lnTo>
                        <a:pt x="567" y="509"/>
                      </a:lnTo>
                      <a:lnTo>
                        <a:pt x="573" y="401"/>
                      </a:lnTo>
                      <a:lnTo>
                        <a:pt x="564" y="248"/>
                      </a:lnTo>
                      <a:lnTo>
                        <a:pt x="558" y="147"/>
                      </a:lnTo>
                      <a:lnTo>
                        <a:pt x="539" y="111"/>
                      </a:lnTo>
                      <a:lnTo>
                        <a:pt x="501" y="75"/>
                      </a:lnTo>
                      <a:lnTo>
                        <a:pt x="461" y="75"/>
                      </a:lnTo>
                      <a:lnTo>
                        <a:pt x="403" y="111"/>
                      </a:lnTo>
                      <a:lnTo>
                        <a:pt x="328" y="181"/>
                      </a:lnTo>
                      <a:lnTo>
                        <a:pt x="235" y="272"/>
                      </a:lnTo>
                      <a:lnTo>
                        <a:pt x="141" y="356"/>
                      </a:lnTo>
                      <a:lnTo>
                        <a:pt x="94" y="383"/>
                      </a:lnTo>
                      <a:lnTo>
                        <a:pt x="38" y="383"/>
                      </a:lnTo>
                      <a:lnTo>
                        <a:pt x="0" y="344"/>
                      </a:lnTo>
                      <a:lnTo>
                        <a:pt x="3" y="281"/>
                      </a:lnTo>
                      <a:lnTo>
                        <a:pt x="41" y="248"/>
                      </a:lnTo>
                      <a:lnTo>
                        <a:pt x="84" y="239"/>
                      </a:lnTo>
                      <a:lnTo>
                        <a:pt x="116" y="23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6918840" y="896400"/>
                  <a:ext cx="169200" cy="263520"/>
                </a:xfrm>
                <a:custGeom>
                  <a:avLst/>
                  <a:gdLst/>
                  <a:ahLst/>
                  <a:rect l="l" t="t" r="r" b="b"/>
                  <a:pathLst>
                    <a:path w="713" h="762">
                      <a:moveTo>
                        <a:pt x="0" y="64"/>
                      </a:moveTo>
                      <a:lnTo>
                        <a:pt x="22" y="16"/>
                      </a:lnTo>
                      <a:lnTo>
                        <a:pt x="69" y="0"/>
                      </a:lnTo>
                      <a:lnTo>
                        <a:pt x="134" y="7"/>
                      </a:lnTo>
                      <a:lnTo>
                        <a:pt x="150" y="52"/>
                      </a:lnTo>
                      <a:lnTo>
                        <a:pt x="125" y="227"/>
                      </a:lnTo>
                      <a:lnTo>
                        <a:pt x="122" y="360"/>
                      </a:lnTo>
                      <a:lnTo>
                        <a:pt x="116" y="435"/>
                      </a:lnTo>
                      <a:lnTo>
                        <a:pt x="116" y="450"/>
                      </a:lnTo>
                      <a:lnTo>
                        <a:pt x="131" y="524"/>
                      </a:lnTo>
                      <a:lnTo>
                        <a:pt x="172" y="536"/>
                      </a:lnTo>
                      <a:lnTo>
                        <a:pt x="225" y="524"/>
                      </a:lnTo>
                      <a:lnTo>
                        <a:pt x="303" y="481"/>
                      </a:lnTo>
                      <a:lnTo>
                        <a:pt x="387" y="460"/>
                      </a:lnTo>
                      <a:lnTo>
                        <a:pt x="482" y="444"/>
                      </a:lnTo>
                      <a:lnTo>
                        <a:pt x="585" y="432"/>
                      </a:lnTo>
                      <a:lnTo>
                        <a:pt x="660" y="432"/>
                      </a:lnTo>
                      <a:lnTo>
                        <a:pt x="694" y="441"/>
                      </a:lnTo>
                      <a:lnTo>
                        <a:pt x="713" y="463"/>
                      </a:lnTo>
                      <a:lnTo>
                        <a:pt x="704" y="496"/>
                      </a:lnTo>
                      <a:lnTo>
                        <a:pt x="657" y="524"/>
                      </a:lnTo>
                      <a:lnTo>
                        <a:pt x="613" y="563"/>
                      </a:lnTo>
                      <a:lnTo>
                        <a:pt x="572" y="618"/>
                      </a:lnTo>
                      <a:lnTo>
                        <a:pt x="547" y="663"/>
                      </a:lnTo>
                      <a:lnTo>
                        <a:pt x="526" y="708"/>
                      </a:lnTo>
                      <a:lnTo>
                        <a:pt x="510" y="762"/>
                      </a:lnTo>
                      <a:lnTo>
                        <a:pt x="488" y="762"/>
                      </a:lnTo>
                      <a:lnTo>
                        <a:pt x="469" y="741"/>
                      </a:lnTo>
                      <a:lnTo>
                        <a:pt x="462" y="681"/>
                      </a:lnTo>
                      <a:lnTo>
                        <a:pt x="507" y="627"/>
                      </a:lnTo>
                      <a:lnTo>
                        <a:pt x="566" y="563"/>
                      </a:lnTo>
                      <a:lnTo>
                        <a:pt x="622" y="515"/>
                      </a:lnTo>
                      <a:lnTo>
                        <a:pt x="647" y="499"/>
                      </a:lnTo>
                      <a:lnTo>
                        <a:pt x="657" y="478"/>
                      </a:lnTo>
                      <a:lnTo>
                        <a:pt x="632" y="463"/>
                      </a:lnTo>
                      <a:lnTo>
                        <a:pt x="547" y="463"/>
                      </a:lnTo>
                      <a:lnTo>
                        <a:pt x="440" y="481"/>
                      </a:lnTo>
                      <a:lnTo>
                        <a:pt x="356" y="509"/>
                      </a:lnTo>
                      <a:lnTo>
                        <a:pt x="265" y="560"/>
                      </a:lnTo>
                      <a:lnTo>
                        <a:pt x="187" y="596"/>
                      </a:lnTo>
                      <a:lnTo>
                        <a:pt x="103" y="599"/>
                      </a:lnTo>
                      <a:lnTo>
                        <a:pt x="69" y="587"/>
                      </a:lnTo>
                      <a:lnTo>
                        <a:pt x="50" y="542"/>
                      </a:lnTo>
                      <a:lnTo>
                        <a:pt x="37" y="478"/>
                      </a:lnTo>
                      <a:lnTo>
                        <a:pt x="31" y="360"/>
                      </a:lnTo>
                      <a:lnTo>
                        <a:pt x="19" y="151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1" name=""/>
              <p:cNvGrpSpPr/>
              <p:nvPr/>
            </p:nvGrpSpPr>
            <p:grpSpPr>
              <a:xfrm>
                <a:off x="7114680" y="874800"/>
                <a:ext cx="102240" cy="303120"/>
                <a:chOff x="7114680" y="874800"/>
                <a:chExt cx="102240" cy="30312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7136280" y="1043640"/>
                  <a:ext cx="80640" cy="37440"/>
                </a:xfrm>
                <a:custGeom>
                  <a:avLst/>
                  <a:gdLst/>
                  <a:ahLst/>
                  <a:rect l="l" t="t" r="r" b="b"/>
                  <a:pathLst>
                    <a:path w="340" h="109">
                      <a:moveTo>
                        <a:pt x="340" y="109"/>
                      </a:moveTo>
                      <a:lnTo>
                        <a:pt x="165" y="30"/>
                      </a:lnTo>
                      <a:lnTo>
                        <a:pt x="48" y="0"/>
                      </a:lnTo>
                      <a:lnTo>
                        <a:pt x="10" y="0"/>
                      </a:lnTo>
                      <a:lnTo>
                        <a:pt x="0" y="27"/>
                      </a:lnTo>
                      <a:lnTo>
                        <a:pt x="22" y="48"/>
                      </a:lnTo>
                      <a:lnTo>
                        <a:pt x="70" y="54"/>
                      </a:lnTo>
                      <a:lnTo>
                        <a:pt x="184" y="75"/>
                      </a:lnTo>
                      <a:lnTo>
                        <a:pt x="340" y="10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7114680" y="1077480"/>
                  <a:ext cx="22680" cy="100440"/>
                </a:xfrm>
                <a:custGeom>
                  <a:avLst/>
                  <a:gdLst/>
                  <a:ahLst/>
                  <a:rect l="l" t="t" r="r" b="b"/>
                  <a:pathLst>
                    <a:path w="97" h="291">
                      <a:moveTo>
                        <a:pt x="97" y="291"/>
                      </a:moveTo>
                      <a:lnTo>
                        <a:pt x="94" y="148"/>
                      </a:lnTo>
                      <a:lnTo>
                        <a:pt x="69" y="39"/>
                      </a:lnTo>
                      <a:lnTo>
                        <a:pt x="41" y="0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54"/>
                      </a:lnTo>
                      <a:lnTo>
                        <a:pt x="47" y="184"/>
                      </a:lnTo>
                      <a:lnTo>
                        <a:pt x="97" y="29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7147800" y="874800"/>
                  <a:ext cx="50760" cy="38160"/>
                </a:xfrm>
                <a:custGeom>
                  <a:avLst/>
                  <a:gdLst/>
                  <a:ahLst/>
                  <a:rect l="l" t="t" r="r" b="b"/>
                  <a:pathLst>
                    <a:path w="214" h="111">
                      <a:moveTo>
                        <a:pt x="0" y="72"/>
                      </a:moveTo>
                      <a:lnTo>
                        <a:pt x="42" y="30"/>
                      </a:lnTo>
                      <a:lnTo>
                        <a:pt x="100" y="3"/>
                      </a:lnTo>
                      <a:lnTo>
                        <a:pt x="166" y="0"/>
                      </a:lnTo>
                      <a:lnTo>
                        <a:pt x="214" y="9"/>
                      </a:lnTo>
                      <a:lnTo>
                        <a:pt x="138" y="18"/>
                      </a:lnTo>
                      <a:lnTo>
                        <a:pt x="109" y="36"/>
                      </a:lnTo>
                      <a:lnTo>
                        <a:pt x="81" y="63"/>
                      </a:lnTo>
                      <a:lnTo>
                        <a:pt x="68" y="93"/>
                      </a:lnTo>
                      <a:lnTo>
                        <a:pt x="42" y="111"/>
                      </a:lnTo>
                      <a:lnTo>
                        <a:pt x="1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65" name=""/>
          <p:cNvGrpSpPr/>
          <p:nvPr/>
        </p:nvGrpSpPr>
        <p:grpSpPr>
          <a:xfrm>
            <a:off x="3581280" y="4343400"/>
            <a:ext cx="914400" cy="761760"/>
            <a:chOff x="3581280" y="4343400"/>
            <a:chExt cx="914400" cy="761760"/>
          </a:xfrm>
        </p:grpSpPr>
        <p:sp>
          <p:nvSpPr>
            <p:cNvPr id="1066" name=""/>
            <p:cNvSpPr/>
            <p:nvPr/>
          </p:nvSpPr>
          <p:spPr>
            <a:xfrm>
              <a:off x="3581280" y="4343400"/>
              <a:ext cx="914400" cy="65304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 baseline="-8000">
                  <a:solidFill>
                    <a:srgbClr val="000000"/>
                  </a:solidFill>
                  <a:latin typeface="Times New Roman"/>
                </a:rPr>
                <a:t>Exit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038120" y="4942080"/>
              <a:ext cx="0" cy="1630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625320" y="2674800"/>
            <a:ext cx="1221120" cy="57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25320" y="2674800"/>
            <a:ext cx="190800" cy="80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25320" y="2674800"/>
            <a:ext cx="685800" cy="114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411360" y="3017880"/>
            <a:ext cx="7632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503360" y="3933720"/>
            <a:ext cx="7632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533680" y="4010040"/>
            <a:ext cx="7632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647800" y="2558880"/>
            <a:ext cx="7632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865440" y="1758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46400" y="251316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65280" y="33908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351440" y="389556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411920" y="26272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943640" y="31240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247560" y="358128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445560" y="28717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370680" y="208296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992680" y="16160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729160" y="23684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965600" y="21398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1082160" y="1566720"/>
            <a:ext cx="99252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1960560" y="1565280"/>
            <a:ext cx="114480" cy="801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75040" y="1566720"/>
            <a:ext cx="572760" cy="99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075040" y="1566720"/>
            <a:ext cx="877680" cy="230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2685600" y="1797120"/>
            <a:ext cx="3049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1922400" y="2635200"/>
            <a:ext cx="72540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1960560" y="2253960"/>
            <a:ext cx="137484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029040" y="1797120"/>
            <a:ext cx="344520" cy="419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685960" y="2635200"/>
            <a:ext cx="725400" cy="344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373560" y="2254320"/>
            <a:ext cx="75960" cy="725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960560" y="2444760"/>
            <a:ext cx="1220760" cy="1222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1388880" y="2406600"/>
            <a:ext cx="571320" cy="344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044720" y="1987560"/>
            <a:ext cx="304560" cy="763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663120" y="1987560"/>
            <a:ext cx="3812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1579680" y="3284640"/>
            <a:ext cx="342720" cy="64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922400" y="3284640"/>
            <a:ext cx="611280" cy="725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930240" y="3284640"/>
            <a:ext cx="992160" cy="190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H="1">
            <a:off x="2609640" y="3705120"/>
            <a:ext cx="609480" cy="34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3257640" y="3093840"/>
            <a:ext cx="230040" cy="61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 flipV="1">
            <a:off x="2685600" y="2674440"/>
            <a:ext cx="763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 flipV="1">
            <a:off x="1388880" y="282744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3219120" y="3056040"/>
            <a:ext cx="230040" cy="61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2571840" y="2712600"/>
            <a:ext cx="75960" cy="1335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 flipV="1">
            <a:off x="1617840" y="4010040"/>
            <a:ext cx="954000" cy="38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1349280" y="1643040"/>
            <a:ext cx="649440" cy="114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838080" y="3505320"/>
            <a:ext cx="649440" cy="420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036880" y="1528920"/>
            <a:ext cx="75960" cy="75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075040" y="1566720"/>
            <a:ext cx="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006560" y="1949400"/>
            <a:ext cx="7596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922400" y="2368440"/>
            <a:ext cx="7632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952720" y="1758960"/>
            <a:ext cx="7632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87520" y="2635200"/>
            <a:ext cx="75960" cy="777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311120" y="2751120"/>
            <a:ext cx="7812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335400" y="2216160"/>
            <a:ext cx="7596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181320" y="3666960"/>
            <a:ext cx="7632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440440" y="4022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884240" y="3246480"/>
            <a:ext cx="76320" cy="763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816120" y="3475080"/>
            <a:ext cx="75960" cy="777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895480" y="4648320"/>
            <a:ext cx="76320" cy="75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276720" y="4670280"/>
            <a:ext cx="759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629080" y="4102200"/>
            <a:ext cx="63468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391280" y="4403880"/>
            <a:ext cx="4764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nodes are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handle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169200" y="5173920"/>
            <a:ext cx="1178640" cy="1150200"/>
            <a:chOff x="169200" y="5173920"/>
            <a:chExt cx="1178640" cy="1150200"/>
          </a:xfrm>
        </p:grpSpPr>
        <p:sp>
          <p:nvSpPr>
            <p:cNvPr id="1130" name=""/>
            <p:cNvSpPr/>
            <p:nvPr/>
          </p:nvSpPr>
          <p:spPr>
            <a:xfrm rot="2359800">
              <a:off x="250920" y="5560920"/>
              <a:ext cx="593640" cy="47088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31" name=""/>
            <p:cNvGrpSpPr/>
            <p:nvPr/>
          </p:nvGrpSpPr>
          <p:grpSpPr>
            <a:xfrm>
              <a:off x="322560" y="5616000"/>
              <a:ext cx="316440" cy="258480"/>
              <a:chOff x="322560" y="5616000"/>
              <a:chExt cx="316440" cy="258480"/>
            </a:xfrm>
          </p:grpSpPr>
          <p:sp>
            <p:nvSpPr>
              <p:cNvPr id="1132" name=""/>
              <p:cNvSpPr/>
              <p:nvPr/>
            </p:nvSpPr>
            <p:spPr>
              <a:xfrm>
                <a:off x="322560" y="5616000"/>
                <a:ext cx="316440" cy="221760"/>
              </a:xfrm>
              <a:prstGeom prst="horizontalScroll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-8000">
                    <a:solidFill>
                      <a:srgbClr val="000000"/>
                    </a:solidFill>
                    <a:latin typeface="Times New Roman"/>
                  </a:rPr>
                  <a:t>Exi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80600" y="5819040"/>
                <a:ext cx="0" cy="55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4" name=""/>
            <p:cNvSpPr/>
            <p:nvPr/>
          </p:nvSpPr>
          <p:spPr>
            <a:xfrm>
              <a:off x="228600" y="5203080"/>
              <a:ext cx="1119240" cy="1121040"/>
            </a:xfrm>
            <a:prstGeom prst="ellipse">
              <a:avLst/>
            </a:prstGeom>
            <a:noFill/>
            <a:ln w="63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35" name="" descr=""/>
            <p:cNvPicPr/>
            <p:nvPr/>
          </p:nvPicPr>
          <p:blipFill>
            <a:blip r:embed="rId3"/>
            <a:stretch/>
          </p:blipFill>
          <p:spPr>
            <a:xfrm>
              <a:off x="702000" y="5440680"/>
              <a:ext cx="592200" cy="53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6" name=""/>
            <p:cNvGrpSpPr/>
            <p:nvPr/>
          </p:nvGrpSpPr>
          <p:grpSpPr>
            <a:xfrm>
              <a:off x="459000" y="5173920"/>
              <a:ext cx="538560" cy="577800"/>
              <a:chOff x="459000" y="5173920"/>
              <a:chExt cx="538560" cy="577800"/>
            </a:xfrm>
          </p:grpSpPr>
          <p:sp>
            <p:nvSpPr>
              <p:cNvPr id="1137" name=""/>
              <p:cNvSpPr/>
              <p:nvPr/>
            </p:nvSpPr>
            <p:spPr>
              <a:xfrm rot="21255000">
                <a:off x="729360" y="5235840"/>
                <a:ext cx="109440" cy="9072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rot="21255000">
                <a:off x="692640" y="5348520"/>
                <a:ext cx="112680" cy="20304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rot="21255000">
                <a:off x="771480" y="5515200"/>
                <a:ext cx="219240" cy="14004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rot="19838400">
                <a:off x="469080" y="5559120"/>
                <a:ext cx="313200" cy="12348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rot="21255000">
                <a:off x="618840" y="5182200"/>
                <a:ext cx="127800" cy="22716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rot="21255000">
                <a:off x="771120" y="5181840"/>
                <a:ext cx="167400" cy="18936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3" name=""/>
          <p:cNvSpPr/>
          <p:nvPr/>
        </p:nvSpPr>
        <p:spPr>
          <a:xfrm>
            <a:off x="1983960" y="5470560"/>
            <a:ext cx="564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achable nodes have been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144440" y="5029200"/>
            <a:ext cx="28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lt;postCond&gt;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214200" y="609480"/>
            <a:ext cx="3976920" cy="3962520"/>
            <a:chOff x="214200" y="609480"/>
            <a:chExt cx="3976920" cy="3962520"/>
          </a:xfrm>
        </p:grpSpPr>
        <p:sp>
          <p:nvSpPr>
            <p:cNvPr id="1146" name=""/>
            <p:cNvSpPr/>
            <p:nvPr/>
          </p:nvSpPr>
          <p:spPr>
            <a:xfrm>
              <a:off x="228600" y="1066680"/>
              <a:ext cx="3962520" cy="35053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14200" y="609480"/>
              <a:ext cx="2766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Found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handled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360720" y="3962520"/>
            <a:ext cx="934560" cy="1143000"/>
            <a:chOff x="360720" y="3962520"/>
            <a:chExt cx="934560" cy="1143000"/>
          </a:xfrm>
        </p:grpSpPr>
        <p:sp>
          <p:nvSpPr>
            <p:cNvPr id="1149" name=""/>
            <p:cNvSpPr/>
            <p:nvPr/>
          </p:nvSpPr>
          <p:spPr>
            <a:xfrm>
              <a:off x="939960" y="4038480"/>
              <a:ext cx="279360" cy="419400"/>
            </a:xfrm>
            <a:custGeom>
              <a:avLst/>
              <a:gdLst/>
              <a:ahLst/>
              <a:rect l="l" t="t" r="r" b="b"/>
              <a:pathLst>
                <a:path w="176" h="264">
                  <a:moveTo>
                    <a:pt x="176" y="0"/>
                  </a:move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50" name=""/>
            <p:cNvGrpSpPr/>
            <p:nvPr/>
          </p:nvGrpSpPr>
          <p:grpSpPr>
            <a:xfrm>
              <a:off x="360720" y="3962520"/>
              <a:ext cx="401400" cy="1143000"/>
              <a:chOff x="360720" y="3962520"/>
              <a:chExt cx="401400" cy="1143000"/>
            </a:xfrm>
          </p:grpSpPr>
          <p:grpSp>
            <p:nvGrpSpPr>
              <p:cNvPr id="1151" name=""/>
              <p:cNvGrpSpPr/>
              <p:nvPr/>
            </p:nvGrpSpPr>
            <p:grpSpPr>
              <a:xfrm>
                <a:off x="401760" y="4046040"/>
                <a:ext cx="360360" cy="1059480"/>
                <a:chOff x="401760" y="4046040"/>
                <a:chExt cx="360360" cy="1059480"/>
              </a:xfrm>
            </p:grpSpPr>
            <p:sp>
              <p:nvSpPr>
                <p:cNvPr id="1152" name=""/>
                <p:cNvSpPr/>
                <p:nvPr/>
              </p:nvSpPr>
              <p:spPr>
                <a:xfrm flipH="1">
                  <a:off x="459000" y="4087440"/>
                  <a:ext cx="211680" cy="242280"/>
                </a:xfrm>
                <a:custGeom>
                  <a:avLst/>
                  <a:gdLst/>
                  <a:ahLst/>
                  <a:rect l="l" t="t" r="r" b="b"/>
                  <a:pathLst>
                    <a:path w="538" h="525">
                      <a:moveTo>
                        <a:pt x="164" y="222"/>
                      </a:moveTo>
                      <a:lnTo>
                        <a:pt x="211" y="152"/>
                      </a:lnTo>
                      <a:lnTo>
                        <a:pt x="263" y="100"/>
                      </a:lnTo>
                      <a:lnTo>
                        <a:pt x="316" y="35"/>
                      </a:lnTo>
                      <a:lnTo>
                        <a:pt x="380" y="6"/>
                      </a:lnTo>
                      <a:lnTo>
                        <a:pt x="432" y="0"/>
                      </a:lnTo>
                      <a:lnTo>
                        <a:pt x="485" y="17"/>
                      </a:lnTo>
                      <a:lnTo>
                        <a:pt x="514" y="59"/>
                      </a:lnTo>
                      <a:lnTo>
                        <a:pt x="538" y="135"/>
                      </a:lnTo>
                      <a:lnTo>
                        <a:pt x="531" y="216"/>
                      </a:lnTo>
                      <a:lnTo>
                        <a:pt x="508" y="286"/>
                      </a:lnTo>
                      <a:lnTo>
                        <a:pt x="450" y="368"/>
                      </a:lnTo>
                      <a:lnTo>
                        <a:pt x="386" y="426"/>
                      </a:lnTo>
                      <a:lnTo>
                        <a:pt x="316" y="478"/>
                      </a:lnTo>
                      <a:lnTo>
                        <a:pt x="240" y="513"/>
                      </a:lnTo>
                      <a:lnTo>
                        <a:pt x="176" y="525"/>
                      </a:lnTo>
                      <a:lnTo>
                        <a:pt x="147" y="508"/>
                      </a:lnTo>
                      <a:lnTo>
                        <a:pt x="123" y="438"/>
                      </a:lnTo>
                      <a:lnTo>
                        <a:pt x="129" y="345"/>
                      </a:lnTo>
                      <a:lnTo>
                        <a:pt x="17" y="350"/>
                      </a:lnTo>
                      <a:lnTo>
                        <a:pt x="0" y="333"/>
                      </a:lnTo>
                      <a:lnTo>
                        <a:pt x="17" y="298"/>
                      </a:lnTo>
                      <a:lnTo>
                        <a:pt x="135" y="292"/>
                      </a:lnTo>
                      <a:lnTo>
                        <a:pt x="164" y="22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flipH="1">
                  <a:off x="534960" y="4342680"/>
                  <a:ext cx="146520" cy="356040"/>
                </a:xfrm>
                <a:custGeom>
                  <a:avLst/>
                  <a:gdLst/>
                  <a:ahLst/>
                  <a:rect l="l" t="t" r="r" b="b"/>
                  <a:pathLst>
                    <a:path w="373" h="772">
                      <a:moveTo>
                        <a:pt x="106" y="65"/>
                      </a:moveTo>
                      <a:lnTo>
                        <a:pt x="158" y="18"/>
                      </a:lnTo>
                      <a:lnTo>
                        <a:pt x="239" y="0"/>
                      </a:lnTo>
                      <a:lnTo>
                        <a:pt x="309" y="12"/>
                      </a:lnTo>
                      <a:lnTo>
                        <a:pt x="361" y="59"/>
                      </a:lnTo>
                      <a:lnTo>
                        <a:pt x="373" y="94"/>
                      </a:lnTo>
                      <a:lnTo>
                        <a:pt x="373" y="141"/>
                      </a:lnTo>
                      <a:lnTo>
                        <a:pt x="350" y="182"/>
                      </a:lnTo>
                      <a:lnTo>
                        <a:pt x="309" y="252"/>
                      </a:lnTo>
                      <a:lnTo>
                        <a:pt x="292" y="334"/>
                      </a:lnTo>
                      <a:lnTo>
                        <a:pt x="286" y="403"/>
                      </a:lnTo>
                      <a:lnTo>
                        <a:pt x="303" y="479"/>
                      </a:lnTo>
                      <a:lnTo>
                        <a:pt x="350" y="549"/>
                      </a:lnTo>
                      <a:lnTo>
                        <a:pt x="367" y="619"/>
                      </a:lnTo>
                      <a:lnTo>
                        <a:pt x="361" y="683"/>
                      </a:lnTo>
                      <a:lnTo>
                        <a:pt x="327" y="737"/>
                      </a:lnTo>
                      <a:lnTo>
                        <a:pt x="280" y="766"/>
                      </a:lnTo>
                      <a:lnTo>
                        <a:pt x="222" y="772"/>
                      </a:lnTo>
                      <a:lnTo>
                        <a:pt x="152" y="772"/>
                      </a:lnTo>
                      <a:lnTo>
                        <a:pt x="100" y="742"/>
                      </a:lnTo>
                      <a:lnTo>
                        <a:pt x="46" y="654"/>
                      </a:lnTo>
                      <a:lnTo>
                        <a:pt x="12" y="578"/>
                      </a:lnTo>
                      <a:lnTo>
                        <a:pt x="0" y="462"/>
                      </a:lnTo>
                      <a:lnTo>
                        <a:pt x="12" y="357"/>
                      </a:lnTo>
                      <a:lnTo>
                        <a:pt x="35" y="246"/>
                      </a:lnTo>
                      <a:lnTo>
                        <a:pt x="71" y="135"/>
                      </a:lnTo>
                      <a:lnTo>
                        <a:pt x="106" y="6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flipH="1">
                  <a:off x="401760" y="4354200"/>
                  <a:ext cx="162720" cy="320040"/>
                </a:xfrm>
                <a:custGeom>
                  <a:avLst/>
                  <a:gdLst/>
                  <a:ahLst/>
                  <a:rect l="l" t="t" r="r" b="b"/>
                  <a:pathLst>
                    <a:path w="414" h="694">
                      <a:moveTo>
                        <a:pt x="0" y="34"/>
                      </a:moveTo>
                      <a:lnTo>
                        <a:pt x="5" y="5"/>
                      </a:lnTo>
                      <a:lnTo>
                        <a:pt x="69" y="0"/>
                      </a:lnTo>
                      <a:lnTo>
                        <a:pt x="104" y="29"/>
                      </a:lnTo>
                      <a:lnTo>
                        <a:pt x="157" y="105"/>
                      </a:lnTo>
                      <a:lnTo>
                        <a:pt x="226" y="204"/>
                      </a:lnTo>
                      <a:lnTo>
                        <a:pt x="291" y="274"/>
                      </a:lnTo>
                      <a:lnTo>
                        <a:pt x="408" y="402"/>
                      </a:lnTo>
                      <a:lnTo>
                        <a:pt x="414" y="431"/>
                      </a:lnTo>
                      <a:lnTo>
                        <a:pt x="390" y="449"/>
                      </a:lnTo>
                      <a:lnTo>
                        <a:pt x="332" y="472"/>
                      </a:lnTo>
                      <a:lnTo>
                        <a:pt x="250" y="490"/>
                      </a:lnTo>
                      <a:lnTo>
                        <a:pt x="151" y="496"/>
                      </a:lnTo>
                      <a:lnTo>
                        <a:pt x="116" y="501"/>
                      </a:lnTo>
                      <a:lnTo>
                        <a:pt x="104" y="525"/>
                      </a:lnTo>
                      <a:lnTo>
                        <a:pt x="127" y="565"/>
                      </a:lnTo>
                      <a:lnTo>
                        <a:pt x="209" y="635"/>
                      </a:lnTo>
                      <a:lnTo>
                        <a:pt x="268" y="653"/>
                      </a:lnTo>
                      <a:lnTo>
                        <a:pt x="280" y="676"/>
                      </a:lnTo>
                      <a:lnTo>
                        <a:pt x="255" y="694"/>
                      </a:lnTo>
                      <a:lnTo>
                        <a:pt x="203" y="694"/>
                      </a:lnTo>
                      <a:lnTo>
                        <a:pt x="133" y="653"/>
                      </a:lnTo>
                      <a:lnTo>
                        <a:pt x="75" y="595"/>
                      </a:lnTo>
                      <a:lnTo>
                        <a:pt x="40" y="542"/>
                      </a:lnTo>
                      <a:lnTo>
                        <a:pt x="40" y="501"/>
                      </a:lnTo>
                      <a:lnTo>
                        <a:pt x="63" y="472"/>
                      </a:lnTo>
                      <a:lnTo>
                        <a:pt x="98" y="461"/>
                      </a:lnTo>
                      <a:lnTo>
                        <a:pt x="151" y="455"/>
                      </a:lnTo>
                      <a:lnTo>
                        <a:pt x="209" y="455"/>
                      </a:lnTo>
                      <a:lnTo>
                        <a:pt x="280" y="443"/>
                      </a:lnTo>
                      <a:lnTo>
                        <a:pt x="315" y="431"/>
                      </a:lnTo>
                      <a:lnTo>
                        <a:pt x="332" y="414"/>
                      </a:lnTo>
                      <a:lnTo>
                        <a:pt x="326" y="397"/>
                      </a:lnTo>
                      <a:lnTo>
                        <a:pt x="274" y="350"/>
                      </a:lnTo>
                      <a:lnTo>
                        <a:pt x="191" y="268"/>
                      </a:lnTo>
                      <a:lnTo>
                        <a:pt x="116" y="199"/>
                      </a:lnTo>
                      <a:lnTo>
                        <a:pt x="34" y="123"/>
                      </a:lnTo>
                      <a:lnTo>
                        <a:pt x="5" y="69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 flipH="1">
                  <a:off x="493560" y="4622760"/>
                  <a:ext cx="176760" cy="482760"/>
                </a:xfrm>
                <a:custGeom>
                  <a:avLst/>
                  <a:gdLst/>
                  <a:ahLst/>
                  <a:rect l="l" t="t" r="r" b="b"/>
                  <a:pathLst>
                    <a:path w="449" h="1046">
                      <a:moveTo>
                        <a:pt x="222" y="0"/>
                      </a:moveTo>
                      <a:lnTo>
                        <a:pt x="286" y="12"/>
                      </a:lnTo>
                      <a:lnTo>
                        <a:pt x="315" y="59"/>
                      </a:lnTo>
                      <a:lnTo>
                        <a:pt x="309" y="170"/>
                      </a:lnTo>
                      <a:lnTo>
                        <a:pt x="298" y="287"/>
                      </a:lnTo>
                      <a:lnTo>
                        <a:pt x="298" y="409"/>
                      </a:lnTo>
                      <a:lnTo>
                        <a:pt x="356" y="555"/>
                      </a:lnTo>
                      <a:lnTo>
                        <a:pt x="402" y="660"/>
                      </a:lnTo>
                      <a:lnTo>
                        <a:pt x="426" y="766"/>
                      </a:lnTo>
                      <a:lnTo>
                        <a:pt x="420" y="859"/>
                      </a:lnTo>
                      <a:lnTo>
                        <a:pt x="420" y="894"/>
                      </a:lnTo>
                      <a:lnTo>
                        <a:pt x="443" y="929"/>
                      </a:lnTo>
                      <a:lnTo>
                        <a:pt x="449" y="964"/>
                      </a:lnTo>
                      <a:lnTo>
                        <a:pt x="432" y="981"/>
                      </a:lnTo>
                      <a:lnTo>
                        <a:pt x="385" y="970"/>
                      </a:lnTo>
                      <a:lnTo>
                        <a:pt x="298" y="958"/>
                      </a:lnTo>
                      <a:lnTo>
                        <a:pt x="193" y="981"/>
                      </a:lnTo>
                      <a:lnTo>
                        <a:pt x="123" y="1022"/>
                      </a:lnTo>
                      <a:lnTo>
                        <a:pt x="88" y="1046"/>
                      </a:lnTo>
                      <a:lnTo>
                        <a:pt x="53" y="1046"/>
                      </a:lnTo>
                      <a:lnTo>
                        <a:pt x="0" y="970"/>
                      </a:lnTo>
                      <a:lnTo>
                        <a:pt x="6" y="958"/>
                      </a:lnTo>
                      <a:lnTo>
                        <a:pt x="112" y="923"/>
                      </a:lnTo>
                      <a:lnTo>
                        <a:pt x="234" y="906"/>
                      </a:lnTo>
                      <a:lnTo>
                        <a:pt x="321" y="900"/>
                      </a:lnTo>
                      <a:lnTo>
                        <a:pt x="373" y="900"/>
                      </a:lnTo>
                      <a:lnTo>
                        <a:pt x="385" y="865"/>
                      </a:lnTo>
                      <a:lnTo>
                        <a:pt x="368" y="766"/>
                      </a:lnTo>
                      <a:lnTo>
                        <a:pt x="327" y="660"/>
                      </a:lnTo>
                      <a:lnTo>
                        <a:pt x="263" y="526"/>
                      </a:lnTo>
                      <a:lnTo>
                        <a:pt x="210" y="409"/>
                      </a:lnTo>
                      <a:lnTo>
                        <a:pt x="187" y="304"/>
                      </a:lnTo>
                      <a:lnTo>
                        <a:pt x="181" y="188"/>
                      </a:lnTo>
                      <a:lnTo>
                        <a:pt x="181" y="76"/>
                      </a:lnTo>
                      <a:lnTo>
                        <a:pt x="205" y="30"/>
                      </a:lnTo>
                      <a:lnTo>
                        <a:pt x="222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flipH="1">
                  <a:off x="610560" y="4636800"/>
                  <a:ext cx="146520" cy="401400"/>
                </a:xfrm>
                <a:custGeom>
                  <a:avLst/>
                  <a:gdLst/>
                  <a:ahLst/>
                  <a:rect l="l" t="t" r="r" b="b"/>
                  <a:pathLst>
                    <a:path w="373" h="870">
                      <a:moveTo>
                        <a:pt x="280" y="0"/>
                      </a:moveTo>
                      <a:lnTo>
                        <a:pt x="332" y="0"/>
                      </a:lnTo>
                      <a:lnTo>
                        <a:pt x="350" y="35"/>
                      </a:lnTo>
                      <a:lnTo>
                        <a:pt x="361" y="112"/>
                      </a:lnTo>
                      <a:lnTo>
                        <a:pt x="350" y="193"/>
                      </a:lnTo>
                      <a:lnTo>
                        <a:pt x="321" y="356"/>
                      </a:lnTo>
                      <a:lnTo>
                        <a:pt x="326" y="426"/>
                      </a:lnTo>
                      <a:lnTo>
                        <a:pt x="361" y="566"/>
                      </a:lnTo>
                      <a:lnTo>
                        <a:pt x="373" y="665"/>
                      </a:lnTo>
                      <a:lnTo>
                        <a:pt x="373" y="742"/>
                      </a:lnTo>
                      <a:lnTo>
                        <a:pt x="356" y="759"/>
                      </a:lnTo>
                      <a:lnTo>
                        <a:pt x="303" y="771"/>
                      </a:lnTo>
                      <a:lnTo>
                        <a:pt x="232" y="788"/>
                      </a:lnTo>
                      <a:lnTo>
                        <a:pt x="163" y="823"/>
                      </a:lnTo>
                      <a:lnTo>
                        <a:pt x="93" y="870"/>
                      </a:lnTo>
                      <a:lnTo>
                        <a:pt x="64" y="870"/>
                      </a:lnTo>
                      <a:lnTo>
                        <a:pt x="0" y="818"/>
                      </a:lnTo>
                      <a:lnTo>
                        <a:pt x="6" y="794"/>
                      </a:lnTo>
                      <a:lnTo>
                        <a:pt x="87" y="759"/>
                      </a:lnTo>
                      <a:lnTo>
                        <a:pt x="227" y="724"/>
                      </a:lnTo>
                      <a:lnTo>
                        <a:pt x="292" y="700"/>
                      </a:lnTo>
                      <a:lnTo>
                        <a:pt x="303" y="677"/>
                      </a:lnTo>
                      <a:lnTo>
                        <a:pt x="303" y="578"/>
                      </a:lnTo>
                      <a:lnTo>
                        <a:pt x="280" y="450"/>
                      </a:lnTo>
                      <a:lnTo>
                        <a:pt x="268" y="368"/>
                      </a:lnTo>
                      <a:lnTo>
                        <a:pt x="257" y="240"/>
                      </a:lnTo>
                      <a:lnTo>
                        <a:pt x="251" y="100"/>
                      </a:lnTo>
                      <a:lnTo>
                        <a:pt x="257" y="35"/>
                      </a:lnTo>
                      <a:lnTo>
                        <a:pt x="28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flipH="1">
                  <a:off x="520920" y="4046040"/>
                  <a:ext cx="240840" cy="357840"/>
                </a:xfrm>
                <a:custGeom>
                  <a:avLst/>
                  <a:gdLst/>
                  <a:ahLst/>
                  <a:rect l="l" t="t" r="r" b="b"/>
                  <a:pathLst>
                    <a:path w="612" h="776">
                      <a:moveTo>
                        <a:pt x="326" y="776"/>
                      </a:moveTo>
                      <a:lnTo>
                        <a:pt x="355" y="740"/>
                      </a:lnTo>
                      <a:lnTo>
                        <a:pt x="344" y="688"/>
                      </a:lnTo>
                      <a:lnTo>
                        <a:pt x="321" y="618"/>
                      </a:lnTo>
                      <a:lnTo>
                        <a:pt x="232" y="536"/>
                      </a:lnTo>
                      <a:lnTo>
                        <a:pt x="145" y="461"/>
                      </a:lnTo>
                      <a:lnTo>
                        <a:pt x="104" y="379"/>
                      </a:lnTo>
                      <a:lnTo>
                        <a:pt x="87" y="251"/>
                      </a:lnTo>
                      <a:lnTo>
                        <a:pt x="186" y="216"/>
                      </a:lnTo>
                      <a:lnTo>
                        <a:pt x="344" y="199"/>
                      </a:lnTo>
                      <a:lnTo>
                        <a:pt x="408" y="205"/>
                      </a:lnTo>
                      <a:lnTo>
                        <a:pt x="425" y="222"/>
                      </a:lnTo>
                      <a:lnTo>
                        <a:pt x="454" y="193"/>
                      </a:lnTo>
                      <a:lnTo>
                        <a:pt x="443" y="164"/>
                      </a:lnTo>
                      <a:lnTo>
                        <a:pt x="460" y="111"/>
                      </a:lnTo>
                      <a:lnTo>
                        <a:pt x="507" y="64"/>
                      </a:lnTo>
                      <a:lnTo>
                        <a:pt x="542" y="52"/>
                      </a:lnTo>
                      <a:lnTo>
                        <a:pt x="588" y="81"/>
                      </a:lnTo>
                      <a:lnTo>
                        <a:pt x="612" y="52"/>
                      </a:lnTo>
                      <a:lnTo>
                        <a:pt x="571" y="0"/>
                      </a:lnTo>
                      <a:lnTo>
                        <a:pt x="518" y="0"/>
                      </a:lnTo>
                      <a:lnTo>
                        <a:pt x="454" y="29"/>
                      </a:lnTo>
                      <a:lnTo>
                        <a:pt x="414" y="105"/>
                      </a:lnTo>
                      <a:lnTo>
                        <a:pt x="361" y="141"/>
                      </a:lnTo>
                      <a:lnTo>
                        <a:pt x="280" y="152"/>
                      </a:lnTo>
                      <a:lnTo>
                        <a:pt x="133" y="170"/>
                      </a:lnTo>
                      <a:lnTo>
                        <a:pt x="17" y="205"/>
                      </a:lnTo>
                      <a:lnTo>
                        <a:pt x="0" y="234"/>
                      </a:lnTo>
                      <a:lnTo>
                        <a:pt x="11" y="327"/>
                      </a:lnTo>
                      <a:lnTo>
                        <a:pt x="52" y="455"/>
                      </a:lnTo>
                      <a:lnTo>
                        <a:pt x="110" y="560"/>
                      </a:lnTo>
                      <a:lnTo>
                        <a:pt x="168" y="653"/>
                      </a:lnTo>
                      <a:lnTo>
                        <a:pt x="221" y="717"/>
                      </a:lnTo>
                      <a:lnTo>
                        <a:pt x="274" y="764"/>
                      </a:lnTo>
                      <a:lnTo>
                        <a:pt x="326" y="7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360720" y="3962520"/>
                <a:ext cx="82080" cy="121680"/>
                <a:chOff x="360720" y="3962520"/>
                <a:chExt cx="82080" cy="121680"/>
              </a:xfrm>
            </p:grpSpPr>
            <p:sp>
              <p:nvSpPr>
                <p:cNvPr id="1159" name=""/>
                <p:cNvSpPr/>
                <p:nvPr/>
              </p:nvSpPr>
              <p:spPr>
                <a:xfrm flipH="1">
                  <a:off x="360720" y="3962520"/>
                  <a:ext cx="66240" cy="88560"/>
                </a:xfrm>
                <a:custGeom>
                  <a:avLst/>
                  <a:gdLst/>
                  <a:ahLst/>
                  <a:rect l="l" t="t" r="r" b="b"/>
                  <a:pathLst>
                    <a:path w="169" h="192">
                      <a:moveTo>
                        <a:pt x="52" y="12"/>
                      </a:moveTo>
                      <a:lnTo>
                        <a:pt x="99" y="0"/>
                      </a:lnTo>
                      <a:lnTo>
                        <a:pt x="157" y="17"/>
                      </a:lnTo>
                      <a:lnTo>
                        <a:pt x="169" y="58"/>
                      </a:lnTo>
                      <a:lnTo>
                        <a:pt x="163" y="111"/>
                      </a:lnTo>
                      <a:lnTo>
                        <a:pt x="134" y="145"/>
                      </a:lnTo>
                      <a:lnTo>
                        <a:pt x="93" y="151"/>
                      </a:lnTo>
                      <a:lnTo>
                        <a:pt x="52" y="151"/>
                      </a:lnTo>
                      <a:lnTo>
                        <a:pt x="34" y="169"/>
                      </a:lnTo>
                      <a:lnTo>
                        <a:pt x="34" y="180"/>
                      </a:lnTo>
                      <a:lnTo>
                        <a:pt x="23" y="192"/>
                      </a:lnTo>
                      <a:lnTo>
                        <a:pt x="0" y="186"/>
                      </a:lnTo>
                      <a:lnTo>
                        <a:pt x="5" y="157"/>
                      </a:lnTo>
                      <a:lnTo>
                        <a:pt x="23" y="134"/>
                      </a:lnTo>
                      <a:lnTo>
                        <a:pt x="58" y="116"/>
                      </a:lnTo>
                      <a:lnTo>
                        <a:pt x="93" y="122"/>
                      </a:lnTo>
                      <a:lnTo>
                        <a:pt x="122" y="116"/>
                      </a:lnTo>
                      <a:lnTo>
                        <a:pt x="139" y="87"/>
                      </a:lnTo>
                      <a:lnTo>
                        <a:pt x="139" y="52"/>
                      </a:lnTo>
                      <a:lnTo>
                        <a:pt x="122" y="35"/>
                      </a:lnTo>
                      <a:lnTo>
                        <a:pt x="99" y="35"/>
                      </a:lnTo>
                      <a:lnTo>
                        <a:pt x="75" y="41"/>
                      </a:lnTo>
                      <a:lnTo>
                        <a:pt x="58" y="52"/>
                      </a:lnTo>
                      <a:lnTo>
                        <a:pt x="40" y="41"/>
                      </a:lnTo>
                      <a:lnTo>
                        <a:pt x="52" y="12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flipH="1">
                  <a:off x="423360" y="4062240"/>
                  <a:ext cx="19080" cy="219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1" name=""/>
            <p:cNvSpPr/>
            <p:nvPr/>
          </p:nvSpPr>
          <p:spPr>
            <a:xfrm>
              <a:off x="1219320" y="3962520"/>
              <a:ext cx="75960" cy="75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88840" y="4444920"/>
              <a:ext cx="76320" cy="7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0" y="609480"/>
            <a:ext cx="3124080" cy="6098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367920" y="3489480"/>
            <a:ext cx="1983600" cy="1388880"/>
            <a:chOff x="367920" y="3489480"/>
            <a:chExt cx="1983600" cy="1388880"/>
          </a:xfrm>
        </p:grpSpPr>
        <p:sp>
          <p:nvSpPr>
            <p:cNvPr id="1165" name=""/>
            <p:cNvSpPr/>
            <p:nvPr/>
          </p:nvSpPr>
          <p:spPr>
            <a:xfrm>
              <a:off x="367920" y="3489480"/>
              <a:ext cx="1386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handled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96320" y="4327560"/>
              <a:ext cx="155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notfound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3962520" y="2514600"/>
            <a:ext cx="4952880" cy="19810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677960" y="580392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A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]   =   [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973520" y="6095880"/>
            <a:ext cx="4953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not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nodes not reachable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838080" y="3975120"/>
            <a:ext cx="393840" cy="380880"/>
          </a:xfrm>
          <a:custGeom>
            <a:avLst/>
            <a:gdLst/>
            <a:ahLst/>
            <a:rect l="l" t="t" r="r" b="b"/>
            <a:pathLst>
              <a:path w="248" h="240">
                <a:moveTo>
                  <a:pt x="0" y="232"/>
                </a:moveTo>
                <a:lnTo>
                  <a:pt x="160" y="240"/>
                </a:lnTo>
                <a:lnTo>
                  <a:pt x="112" y="112"/>
                </a:lnTo>
                <a:lnTo>
                  <a:pt x="248" y="160"/>
                </a:lnTo>
                <a:lnTo>
                  <a:pt x="152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828800" y="6019920"/>
            <a:ext cx="5257800" cy="8380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429000" y="4114800"/>
            <a:ext cx="5715000" cy="10666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52280" y="5079960"/>
            <a:ext cx="1295640" cy="13716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0555 L -0.00417 -0.09445 E">
                                      <p:cBhvr>
                                        <p:cTn id="365" dur="2000" fill="hold"/>
                                        <p:tgtEl>
                                          <p:spTgt spid="1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2760" y="2133720"/>
            <a:ext cx="450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Generic 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Breadth First 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3" action="ppaction://hlinksldjump"/>
              </a:rPr>
              <a:t>Dijkstra's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 Shortest Paths Algorith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5" action="ppaction://hlinksldjump"/>
              </a:rPr>
              <a:t>Depth First 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6" action="ppaction://hlinksldjump"/>
              </a:rPr>
              <a:t>Linear Or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ph 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04920" y="1203480"/>
            <a:ext cx="6781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pecification of Reachability-from-single-sourc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preCond&gt;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The input is a graph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either directed or undirected)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and a source nod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postCond&gt;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Output all the nodes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hat ar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reachable by a path in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rom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4573440" y="3735360"/>
            <a:ext cx="4418280" cy="2970360"/>
            <a:chOff x="4573440" y="3735360"/>
            <a:chExt cx="4418280" cy="2970360"/>
          </a:xfrm>
        </p:grpSpPr>
        <p:sp>
          <p:nvSpPr>
            <p:cNvPr id="1177" name=""/>
            <p:cNvSpPr/>
            <p:nvPr/>
          </p:nvSpPr>
          <p:spPr>
            <a:xfrm>
              <a:off x="7518960" y="5715360"/>
              <a:ext cx="147276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Endin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046200" y="5715360"/>
              <a:ext cx="147240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itial Condit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573440" y="5715360"/>
              <a:ext cx="147276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Make Progres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518960" y="4725360"/>
              <a:ext cx="147276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Maintain Loop Inv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046200" y="4725360"/>
              <a:ext cx="147240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Define Exit Condi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573440" y="4725360"/>
              <a:ext cx="147276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Define Ste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518960" y="3735360"/>
              <a:ext cx="147276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Define Measure of Progres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046200" y="3735360"/>
              <a:ext cx="147240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fine Loop Invarian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73440" y="3735360"/>
              <a:ext cx="147276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fine Probl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573440" y="3735360"/>
              <a:ext cx="4418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573440" y="4725360"/>
              <a:ext cx="441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573440" y="5715360"/>
              <a:ext cx="441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573440" y="6705720"/>
              <a:ext cx="4418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573440" y="3735360"/>
              <a:ext cx="0" cy="29703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046200" y="3735360"/>
              <a:ext cx="0" cy="297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518960" y="3735360"/>
              <a:ext cx="0" cy="297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991720" y="3735360"/>
              <a:ext cx="0" cy="29703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6900840" y="6215400"/>
              <a:ext cx="164880" cy="134640"/>
              <a:chOff x="6900840" y="6215400"/>
              <a:chExt cx="164880" cy="134640"/>
            </a:xfrm>
          </p:grpSpPr>
          <p:sp>
            <p:nvSpPr>
              <p:cNvPr id="1195" name=""/>
              <p:cNvSpPr/>
              <p:nvPr/>
            </p:nvSpPr>
            <p:spPr>
              <a:xfrm>
                <a:off x="6900840" y="6215400"/>
                <a:ext cx="164880" cy="115560"/>
              </a:xfrm>
              <a:prstGeom prst="horizontalScroll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983280" y="6321240"/>
                <a:ext cx="0" cy="28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197" name="" descr=""/>
            <p:cNvPicPr/>
            <p:nvPr/>
          </p:nvPicPr>
          <p:blipFill>
            <a:blip r:embed="rId1"/>
            <a:stretch/>
          </p:blipFill>
          <p:spPr>
            <a:xfrm>
              <a:off x="7129080" y="6154920"/>
              <a:ext cx="168840" cy="2466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198" name=""/>
                <p:cNvSpPr txBox="1"/>
                <p:nvPr/>
              </p:nvSpPr>
              <p:spPr>
                <a:xfrm>
                  <a:off x="6882480" y="6216840"/>
                  <a:ext cx="215640" cy="11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∞</m:t>
                      </m:r>
                      <m:r>
                        <m:rPr>
                          <m:lit/>
                          <m:nor/>
                        </m:rPr>
                        <m:t xml:space="preserve">km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199" name=""/>
            <p:cNvGrpSpPr/>
            <p:nvPr/>
          </p:nvGrpSpPr>
          <p:grpSpPr>
            <a:xfrm>
              <a:off x="6820560" y="5969160"/>
              <a:ext cx="583200" cy="583920"/>
              <a:chOff x="6820560" y="5969160"/>
              <a:chExt cx="583200" cy="583920"/>
            </a:xfrm>
          </p:grpSpPr>
          <p:sp>
            <p:nvSpPr>
              <p:cNvPr id="1200" name=""/>
              <p:cNvSpPr/>
              <p:nvPr/>
            </p:nvSpPr>
            <p:spPr>
              <a:xfrm>
                <a:off x="6820560" y="5969160"/>
                <a:ext cx="583200" cy="583920"/>
              </a:xfrm>
              <a:prstGeom prst="ellipse">
                <a:avLst/>
              </a:prstGeom>
              <a:noFill/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V="1">
                <a:off x="6944040" y="6030360"/>
                <a:ext cx="339480" cy="46332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6135120" y="5982120"/>
              <a:ext cx="626760" cy="584640"/>
              <a:chOff x="6135120" y="5982120"/>
              <a:chExt cx="626760" cy="584640"/>
            </a:xfrm>
          </p:grpSpPr>
          <p:sp>
            <p:nvSpPr>
              <p:cNvPr id="1203" name=""/>
              <p:cNvSpPr/>
              <p:nvPr/>
            </p:nvSpPr>
            <p:spPr>
              <a:xfrm rot="2359800">
                <a:off x="6410160" y="6145920"/>
                <a:ext cx="309240" cy="244800"/>
              </a:xfrm>
              <a:custGeom>
                <a:avLst/>
                <a:gdLst/>
                <a:ahLst/>
                <a:rect l="l" t="t" r="r" b="b"/>
                <a:pathLst>
                  <a:path w="2280" h="1785">
                    <a:moveTo>
                      <a:pt x="748" y="30"/>
                    </a:moveTo>
                    <a:cubicBezTo>
                      <a:pt x="881" y="60"/>
                      <a:pt x="985" y="267"/>
                      <a:pt x="1224" y="305"/>
                    </a:cubicBezTo>
                    <a:cubicBezTo>
                      <a:pt x="1463" y="343"/>
                      <a:pt x="2088" y="121"/>
                      <a:pt x="2184" y="257"/>
                    </a:cubicBezTo>
                    <a:cubicBezTo>
                      <a:pt x="2280" y="393"/>
                      <a:pt x="1873" y="945"/>
                      <a:pt x="1800" y="1121"/>
                    </a:cubicBezTo>
                    <a:cubicBezTo>
                      <a:pt x="1727" y="1297"/>
                      <a:pt x="1757" y="1253"/>
                      <a:pt x="1743" y="1313"/>
                    </a:cubicBezTo>
                    <a:cubicBezTo>
                      <a:pt x="1729" y="1373"/>
                      <a:pt x="1747" y="1440"/>
                      <a:pt x="1717" y="1479"/>
                    </a:cubicBezTo>
                    <a:cubicBezTo>
                      <a:pt x="1687" y="1518"/>
                      <a:pt x="1634" y="1537"/>
                      <a:pt x="1560" y="1549"/>
                    </a:cubicBezTo>
                    <a:cubicBezTo>
                      <a:pt x="1486" y="1561"/>
                      <a:pt x="1504" y="1536"/>
                      <a:pt x="1272" y="1553"/>
                    </a:cubicBezTo>
                    <a:cubicBezTo>
                      <a:pt x="1040" y="1570"/>
                      <a:pt x="336" y="1785"/>
                      <a:pt x="168" y="1649"/>
                    </a:cubicBezTo>
                    <a:cubicBezTo>
                      <a:pt x="0" y="1513"/>
                      <a:pt x="221" y="991"/>
                      <a:pt x="264" y="737"/>
                    </a:cubicBezTo>
                    <a:cubicBezTo>
                      <a:pt x="307" y="483"/>
                      <a:pt x="344" y="244"/>
                      <a:pt x="425" y="126"/>
                    </a:cubicBezTo>
                    <a:cubicBezTo>
                      <a:pt x="506" y="8"/>
                      <a:pt x="615" y="0"/>
                      <a:pt x="748" y="30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135120" y="5982120"/>
                <a:ext cx="584640" cy="584640"/>
              </a:xfrm>
              <a:prstGeom prst="ellipse">
                <a:avLst/>
              </a:prstGeom>
              <a:noFill/>
              <a:ln w="63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20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209640" y="6155280"/>
                <a:ext cx="16956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06" name=""/>
            <p:cNvGrpSpPr/>
            <p:nvPr/>
          </p:nvGrpSpPr>
          <p:grpSpPr>
            <a:xfrm>
              <a:off x="6316560" y="6024240"/>
              <a:ext cx="280440" cy="300240"/>
              <a:chOff x="6316560" y="6024240"/>
              <a:chExt cx="280440" cy="300240"/>
            </a:xfrm>
          </p:grpSpPr>
          <p:sp>
            <p:nvSpPr>
              <p:cNvPr id="1207" name=""/>
              <p:cNvSpPr/>
              <p:nvPr/>
            </p:nvSpPr>
            <p:spPr>
              <a:xfrm rot="21255000">
                <a:off x="6457320" y="6055920"/>
                <a:ext cx="56880" cy="4716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rot="21255000">
                <a:off x="6437880" y="6114960"/>
                <a:ext cx="58680" cy="10548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21255000">
                <a:off x="6479280" y="6201720"/>
                <a:ext cx="114120" cy="7272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rot="19838400">
                <a:off x="6321600" y="6224400"/>
                <a:ext cx="163080" cy="6408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rot="21255000">
                <a:off x="6399720" y="6027840"/>
                <a:ext cx="66600" cy="11808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rot="21255000">
                <a:off x="6478920" y="6028200"/>
                <a:ext cx="87120" cy="9864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213" name="" descr=""/>
            <p:cNvPicPr/>
            <p:nvPr/>
          </p:nvPicPr>
          <p:blipFill>
            <a:blip r:embed="rId4"/>
            <a:stretch/>
          </p:blipFill>
          <p:spPr>
            <a:xfrm flipH="1">
              <a:off x="5493960" y="4150080"/>
              <a:ext cx="283680" cy="25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4" name="" descr=""/>
            <p:cNvPicPr/>
            <p:nvPr/>
          </p:nvPicPr>
          <p:blipFill>
            <a:blip r:embed="rId5"/>
            <a:stretch/>
          </p:blipFill>
          <p:spPr>
            <a:xfrm flipH="1">
              <a:off x="4839840" y="4078080"/>
              <a:ext cx="23472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5" name=""/>
            <p:cNvSpPr/>
            <p:nvPr/>
          </p:nvSpPr>
          <p:spPr>
            <a:xfrm>
              <a:off x="4954320" y="4420800"/>
              <a:ext cx="685440" cy="82080"/>
            </a:xfrm>
            <a:custGeom>
              <a:avLst/>
              <a:gdLst/>
              <a:ahLst/>
              <a:rect l="l" t="t" r="r" b="b"/>
              <a:pathLst>
                <a:path w="864" h="104">
                  <a:moveTo>
                    <a:pt x="0" y="48"/>
                  </a:moveTo>
                  <a:cubicBezTo>
                    <a:pt x="80" y="76"/>
                    <a:pt x="160" y="104"/>
                    <a:pt x="240" y="96"/>
                  </a:cubicBezTo>
                  <a:cubicBezTo>
                    <a:pt x="320" y="88"/>
                    <a:pt x="392" y="0"/>
                    <a:pt x="480" y="0"/>
                  </a:cubicBezTo>
                  <a:cubicBezTo>
                    <a:pt x="568" y="0"/>
                    <a:pt x="704" y="96"/>
                    <a:pt x="768" y="96"/>
                  </a:cubicBezTo>
                  <a:cubicBezTo>
                    <a:pt x="832" y="96"/>
                    <a:pt x="848" y="48"/>
                    <a:pt x="86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rot="2359800">
              <a:off x="6363360" y="4192200"/>
              <a:ext cx="533880" cy="45684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2359800">
              <a:off x="6893280" y="4241160"/>
              <a:ext cx="307800" cy="331560"/>
            </a:xfrm>
            <a:custGeom>
              <a:avLst/>
              <a:gdLst/>
              <a:ahLst/>
              <a:rect l="l" t="t" r="r" b="b"/>
              <a:pathLst>
                <a:path w="1312" h="1296">
                  <a:moveTo>
                    <a:pt x="592" y="160"/>
                  </a:moveTo>
                  <a:cubicBezTo>
                    <a:pt x="408" y="256"/>
                    <a:pt x="32" y="496"/>
                    <a:pt x="16" y="640"/>
                  </a:cubicBezTo>
                  <a:cubicBezTo>
                    <a:pt x="0" y="784"/>
                    <a:pt x="296" y="928"/>
                    <a:pt x="496" y="1024"/>
                  </a:cubicBezTo>
                  <a:cubicBezTo>
                    <a:pt x="696" y="1120"/>
                    <a:pt x="1120" y="1296"/>
                    <a:pt x="1216" y="1216"/>
                  </a:cubicBezTo>
                  <a:cubicBezTo>
                    <a:pt x="1312" y="1136"/>
                    <a:pt x="1088" y="736"/>
                    <a:pt x="1072" y="544"/>
                  </a:cubicBezTo>
                  <a:cubicBezTo>
                    <a:pt x="1056" y="352"/>
                    <a:pt x="1208" y="128"/>
                    <a:pt x="1120" y="64"/>
                  </a:cubicBezTo>
                  <a:cubicBezTo>
                    <a:pt x="1032" y="0"/>
                    <a:pt x="776" y="64"/>
                    <a:pt x="592" y="160"/>
                  </a:cubicBez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001360" y="4115880"/>
              <a:ext cx="609480" cy="45684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-8000">
                  <a:solidFill>
                    <a:srgbClr val="000000"/>
                  </a:solidFill>
                  <a:latin typeface="Times New Roman"/>
                </a:rPr>
                <a:t>79 km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-8000">
                  <a:solidFill>
                    <a:srgbClr val="000000"/>
                  </a:solidFill>
                  <a:latin typeface="Times New Roman"/>
                </a:rPr>
                <a:t>to schoo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306280" y="4534920"/>
              <a:ext cx="0" cy="1141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2359800">
              <a:off x="8317080" y="6147000"/>
              <a:ext cx="296640" cy="23544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8353080" y="6175080"/>
              <a:ext cx="158400" cy="128520"/>
              <a:chOff x="8353080" y="6175080"/>
              <a:chExt cx="158400" cy="128520"/>
            </a:xfrm>
          </p:grpSpPr>
          <p:sp>
            <p:nvSpPr>
              <p:cNvPr id="1222" name=""/>
              <p:cNvSpPr/>
              <p:nvPr/>
            </p:nvSpPr>
            <p:spPr>
              <a:xfrm>
                <a:off x="8353080" y="6175080"/>
                <a:ext cx="158400" cy="110520"/>
              </a:xfrm>
              <a:prstGeom prst="horizontalScroll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baseline="-8000">
                    <a:solidFill>
                      <a:srgbClr val="000000"/>
                    </a:solidFill>
                    <a:latin typeface="Times New Roman"/>
                  </a:rPr>
                  <a:t>Exit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8432280" y="6276240"/>
                <a:ext cx="0" cy="27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24" name=""/>
            <p:cNvSpPr/>
            <p:nvPr/>
          </p:nvSpPr>
          <p:spPr>
            <a:xfrm>
              <a:off x="8306280" y="5968440"/>
              <a:ext cx="559440" cy="559800"/>
            </a:xfrm>
            <a:prstGeom prst="ellipse">
              <a:avLst/>
            </a:prstGeom>
            <a:noFill/>
            <a:ln w="63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25" name="" descr=""/>
            <p:cNvPicPr/>
            <p:nvPr/>
          </p:nvPicPr>
          <p:blipFill>
            <a:blip r:embed="rId9"/>
            <a:stretch/>
          </p:blipFill>
          <p:spPr>
            <a:xfrm>
              <a:off x="8542440" y="6086880"/>
              <a:ext cx="295920" cy="26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6" name=""/>
            <p:cNvGrpSpPr/>
            <p:nvPr/>
          </p:nvGrpSpPr>
          <p:grpSpPr>
            <a:xfrm>
              <a:off x="8421480" y="5954040"/>
              <a:ext cx="269640" cy="288360"/>
              <a:chOff x="8421480" y="5954040"/>
              <a:chExt cx="269640" cy="288360"/>
            </a:xfrm>
          </p:grpSpPr>
          <p:sp>
            <p:nvSpPr>
              <p:cNvPr id="1227" name=""/>
              <p:cNvSpPr/>
              <p:nvPr/>
            </p:nvSpPr>
            <p:spPr>
              <a:xfrm rot="21255000">
                <a:off x="8556840" y="5984640"/>
                <a:ext cx="54720" cy="4536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rot="21255000">
                <a:off x="8537760" y="6041160"/>
                <a:ext cx="56520" cy="10116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rot="21255000">
                <a:off x="8577720" y="6124320"/>
                <a:ext cx="109800" cy="6984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rot="19838400">
                <a:off x="8426160" y="6146280"/>
                <a:ext cx="156600" cy="6156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rot="21255000">
                <a:off x="8501040" y="5958000"/>
                <a:ext cx="64080" cy="11340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rot="21255000">
                <a:off x="8577360" y="5957640"/>
                <a:ext cx="83880" cy="9468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33" name=""/>
            <p:cNvSpPr/>
            <p:nvPr/>
          </p:nvSpPr>
          <p:spPr>
            <a:xfrm>
              <a:off x="4920120" y="4953960"/>
              <a:ext cx="719640" cy="71964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63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34" name=""/>
            <p:cNvGrpSpPr/>
            <p:nvPr/>
          </p:nvGrpSpPr>
          <p:grpSpPr>
            <a:xfrm>
              <a:off x="5185800" y="5528520"/>
              <a:ext cx="118800" cy="97200"/>
              <a:chOff x="5185800" y="5528520"/>
              <a:chExt cx="118800" cy="9720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5185800" y="5528520"/>
                <a:ext cx="118800" cy="97200"/>
                <a:chOff x="5185800" y="5528520"/>
                <a:chExt cx="118800" cy="97200"/>
              </a:xfrm>
            </p:grpSpPr>
            <p:sp>
              <p:nvSpPr>
                <p:cNvPr id="1236" name=""/>
                <p:cNvSpPr/>
                <p:nvPr/>
              </p:nvSpPr>
              <p:spPr>
                <a:xfrm rot="15865200">
                  <a:off x="5201280" y="5555520"/>
                  <a:ext cx="26640" cy="2592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rot="15865200">
                  <a:off x="5240520" y="5554080"/>
                  <a:ext cx="27360" cy="4644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 rot="15865200">
                  <a:off x="5267880" y="5551920"/>
                  <a:ext cx="34920" cy="3456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 rot="15865200">
                  <a:off x="5257440" y="5585400"/>
                  <a:ext cx="44280" cy="3276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 rot="15865200">
                  <a:off x="5197680" y="5567760"/>
                  <a:ext cx="31320" cy="5220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rot="15865200">
                  <a:off x="5191560" y="5526720"/>
                  <a:ext cx="40680" cy="4860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2" name=""/>
              <p:cNvSpPr/>
              <p:nvPr/>
            </p:nvSpPr>
            <p:spPr>
              <a:xfrm flipV="1">
                <a:off x="5297040" y="5538600"/>
                <a:ext cx="7200" cy="8064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5512680" y="5281560"/>
              <a:ext cx="120960" cy="140400"/>
              <a:chOff x="5512680" y="5281560"/>
              <a:chExt cx="120960" cy="140400"/>
            </a:xfrm>
          </p:grpSpPr>
          <p:grpSp>
            <p:nvGrpSpPr>
              <p:cNvPr id="1244" name=""/>
              <p:cNvGrpSpPr/>
              <p:nvPr/>
            </p:nvGrpSpPr>
            <p:grpSpPr>
              <a:xfrm>
                <a:off x="5526000" y="5281560"/>
                <a:ext cx="107640" cy="140400"/>
                <a:chOff x="5526000" y="5281560"/>
                <a:chExt cx="107640" cy="140400"/>
              </a:xfrm>
            </p:grpSpPr>
            <p:sp>
              <p:nvSpPr>
                <p:cNvPr id="1245" name=""/>
                <p:cNvSpPr/>
                <p:nvPr/>
              </p:nvSpPr>
              <p:spPr>
                <a:xfrm flipH="1" rot="2043600">
                  <a:off x="5568840" y="5310000"/>
                  <a:ext cx="27360" cy="2520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 flipH="1" rot="2043600">
                  <a:off x="5558040" y="5339160"/>
                  <a:ext cx="28080" cy="4536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 flipH="1" rot="2043600">
                  <a:off x="5532120" y="5367600"/>
                  <a:ext cx="35640" cy="3348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 flipH="1" rot="2043600">
                  <a:off x="5559840" y="5379480"/>
                  <a:ext cx="45360" cy="3204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 flipH="1" rot="2043600">
                  <a:off x="5590080" y="5309640"/>
                  <a:ext cx="31680" cy="5076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 flipH="1" rot="2043600">
                  <a:off x="5546880" y="5289120"/>
                  <a:ext cx="41760" cy="4788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" name=""/>
              <p:cNvSpPr/>
              <p:nvPr/>
            </p:nvSpPr>
            <p:spPr>
              <a:xfrm flipH="1" flipV="1">
                <a:off x="5512680" y="5387040"/>
                <a:ext cx="76320" cy="3132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252" name="" descr=""/>
            <p:cNvPicPr/>
            <p:nvPr/>
          </p:nvPicPr>
          <p:blipFill>
            <a:blip r:embed="rId11"/>
            <a:stretch/>
          </p:blipFill>
          <p:spPr>
            <a:xfrm>
              <a:off x="5267520" y="5149080"/>
              <a:ext cx="228960" cy="201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3" name=""/>
            <p:cNvGrpSpPr/>
            <p:nvPr/>
          </p:nvGrpSpPr>
          <p:grpSpPr>
            <a:xfrm>
              <a:off x="4984560" y="5159160"/>
              <a:ext cx="101880" cy="121680"/>
              <a:chOff x="4984560" y="5159160"/>
              <a:chExt cx="101880" cy="121680"/>
            </a:xfrm>
          </p:grpSpPr>
          <p:grpSp>
            <p:nvGrpSpPr>
              <p:cNvPr id="1254" name=""/>
              <p:cNvGrpSpPr/>
              <p:nvPr/>
            </p:nvGrpSpPr>
            <p:grpSpPr>
              <a:xfrm>
                <a:off x="4984560" y="5159160"/>
                <a:ext cx="101880" cy="115920"/>
                <a:chOff x="4984560" y="5159160"/>
                <a:chExt cx="101880" cy="115920"/>
              </a:xfrm>
            </p:grpSpPr>
            <p:sp>
              <p:nvSpPr>
                <p:cNvPr id="1255" name=""/>
                <p:cNvSpPr/>
                <p:nvPr/>
              </p:nvSpPr>
              <p:spPr>
                <a:xfrm rot="21592800">
                  <a:off x="5034240" y="5175000"/>
                  <a:ext cx="27360" cy="2556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 rot="21592800">
                  <a:off x="5020920" y="5202720"/>
                  <a:ext cx="28080" cy="4572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 rot="21592800">
                  <a:off x="5023080" y="5240520"/>
                  <a:ext cx="35640" cy="3420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 rot="21592800">
                  <a:off x="4984560" y="5232240"/>
                  <a:ext cx="45360" cy="3240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 rot="21592800">
                  <a:off x="5005800" y="5158800"/>
                  <a:ext cx="31680" cy="5148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 rot="21592800">
                  <a:off x="5044680" y="5162760"/>
                  <a:ext cx="41760" cy="4824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1" name=""/>
              <p:cNvSpPr/>
              <p:nvPr/>
            </p:nvSpPr>
            <p:spPr>
              <a:xfrm>
                <a:off x="4989240" y="5264640"/>
                <a:ext cx="81000" cy="1620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5347800" y="5389560"/>
              <a:ext cx="120600" cy="96480"/>
              <a:chOff x="5347800" y="5389560"/>
              <a:chExt cx="120600" cy="96480"/>
            </a:xfrm>
          </p:grpSpPr>
          <p:grpSp>
            <p:nvGrpSpPr>
              <p:cNvPr id="1263" name=""/>
              <p:cNvGrpSpPr/>
              <p:nvPr/>
            </p:nvGrpSpPr>
            <p:grpSpPr>
              <a:xfrm>
                <a:off x="5347800" y="5389560"/>
                <a:ext cx="120600" cy="96480"/>
                <a:chOff x="5347800" y="5389560"/>
                <a:chExt cx="120600" cy="96480"/>
              </a:xfrm>
            </p:grpSpPr>
            <p:sp>
              <p:nvSpPr>
                <p:cNvPr id="1264" name=""/>
                <p:cNvSpPr/>
                <p:nvPr/>
              </p:nvSpPr>
              <p:spPr>
                <a:xfrm flipH="1" rot="5848200">
                  <a:off x="5425200" y="5417280"/>
                  <a:ext cx="26640" cy="2628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 flipH="1" rot="5848200">
                  <a:off x="5384520" y="5414760"/>
                  <a:ext cx="27720" cy="4644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 flipH="1" rot="5848200">
                  <a:off x="5349600" y="5410800"/>
                  <a:ext cx="34920" cy="3492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 flipH="1" rot="5848200">
                  <a:off x="5349600" y="5445360"/>
                  <a:ext cx="44640" cy="3276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 flipH="1" rot="5848200">
                  <a:off x="5422680" y="5430240"/>
                  <a:ext cx="31320" cy="5184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 flipH="1" rot="5848200">
                  <a:off x="5420520" y="5388840"/>
                  <a:ext cx="41040" cy="4860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0" name=""/>
              <p:cNvSpPr/>
              <p:nvPr/>
            </p:nvSpPr>
            <p:spPr>
              <a:xfrm flipH="1" flipV="1">
                <a:off x="5349600" y="5397480"/>
                <a:ext cx="4680" cy="8100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1" name=""/>
            <p:cNvGrpSpPr/>
            <p:nvPr/>
          </p:nvGrpSpPr>
          <p:grpSpPr>
            <a:xfrm>
              <a:off x="5031000" y="5404320"/>
              <a:ext cx="134280" cy="142920"/>
              <a:chOff x="5031000" y="5404320"/>
              <a:chExt cx="134280" cy="142920"/>
            </a:xfrm>
          </p:grpSpPr>
          <p:grpSp>
            <p:nvGrpSpPr>
              <p:cNvPr id="1272" name=""/>
              <p:cNvGrpSpPr/>
              <p:nvPr/>
            </p:nvGrpSpPr>
            <p:grpSpPr>
              <a:xfrm>
                <a:off x="5031000" y="5404320"/>
                <a:ext cx="122760" cy="142920"/>
                <a:chOff x="5031000" y="5404320"/>
                <a:chExt cx="122760" cy="142920"/>
              </a:xfrm>
            </p:grpSpPr>
            <p:sp>
              <p:nvSpPr>
                <p:cNvPr id="1273" name=""/>
                <p:cNvSpPr/>
                <p:nvPr/>
              </p:nvSpPr>
              <p:spPr>
                <a:xfrm rot="18546000">
                  <a:off x="5065920" y="5436360"/>
                  <a:ext cx="27000" cy="2556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 rot="18546000">
                  <a:off x="5087160" y="5460480"/>
                  <a:ext cx="28080" cy="4572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 rot="18546000">
                  <a:off x="5111280" y="5482080"/>
                  <a:ext cx="35280" cy="3420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 rot="18546000">
                  <a:off x="5078880" y="5502960"/>
                  <a:ext cx="45000" cy="3240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 rot="18546000">
                  <a:off x="5045040" y="5441400"/>
                  <a:ext cx="31680" cy="5148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 rot="18546000">
                  <a:off x="5069160" y="5411160"/>
                  <a:ext cx="41400" cy="4824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9" name=""/>
              <p:cNvSpPr/>
              <p:nvPr/>
            </p:nvSpPr>
            <p:spPr>
              <a:xfrm flipV="1">
                <a:off x="5101920" y="5491080"/>
                <a:ext cx="63360" cy="525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0" name=""/>
            <p:cNvGrpSpPr/>
            <p:nvPr/>
          </p:nvGrpSpPr>
          <p:grpSpPr>
            <a:xfrm>
              <a:off x="5167080" y="5343480"/>
              <a:ext cx="135720" cy="142560"/>
              <a:chOff x="5167080" y="5343480"/>
              <a:chExt cx="135720" cy="142560"/>
            </a:xfrm>
          </p:grpSpPr>
          <p:grpSp>
            <p:nvGrpSpPr>
              <p:cNvPr id="1281" name=""/>
              <p:cNvGrpSpPr/>
              <p:nvPr/>
            </p:nvGrpSpPr>
            <p:grpSpPr>
              <a:xfrm>
                <a:off x="5167080" y="5343480"/>
                <a:ext cx="124200" cy="142560"/>
                <a:chOff x="5167080" y="5343480"/>
                <a:chExt cx="124200" cy="142560"/>
              </a:xfrm>
            </p:grpSpPr>
            <p:sp>
              <p:nvSpPr>
                <p:cNvPr id="1282" name=""/>
                <p:cNvSpPr/>
                <p:nvPr/>
              </p:nvSpPr>
              <p:spPr>
                <a:xfrm rot="18401400">
                  <a:off x="5201640" y="5376240"/>
                  <a:ext cx="27360" cy="2556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 rot="18401400">
                  <a:off x="5223960" y="5399280"/>
                  <a:ext cx="28080" cy="4572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 rot="18401400">
                  <a:off x="5249160" y="5419440"/>
                  <a:ext cx="35640" cy="3420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rot="18401400">
                  <a:off x="5217120" y="5441760"/>
                  <a:ext cx="45360" cy="3240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 rot="18401400">
                  <a:off x="5181120" y="5382000"/>
                  <a:ext cx="31680" cy="5148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 rot="18401400">
                  <a:off x="5204520" y="5350320"/>
                  <a:ext cx="41760" cy="4824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8" name=""/>
              <p:cNvSpPr/>
              <p:nvPr/>
            </p:nvSpPr>
            <p:spPr>
              <a:xfrm flipV="1">
                <a:off x="5241600" y="5427000"/>
                <a:ext cx="61200" cy="55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9" name=""/>
            <p:cNvGrpSpPr/>
            <p:nvPr/>
          </p:nvGrpSpPr>
          <p:grpSpPr>
            <a:xfrm>
              <a:off x="5441040" y="5081400"/>
              <a:ext cx="116640" cy="130320"/>
              <a:chOff x="5441040" y="5081400"/>
              <a:chExt cx="116640" cy="130320"/>
            </a:xfrm>
          </p:grpSpPr>
          <p:grpSp>
            <p:nvGrpSpPr>
              <p:cNvPr id="1290" name=""/>
              <p:cNvGrpSpPr/>
              <p:nvPr/>
            </p:nvGrpSpPr>
            <p:grpSpPr>
              <a:xfrm>
                <a:off x="5441040" y="5081400"/>
                <a:ext cx="116640" cy="122760"/>
                <a:chOff x="5441040" y="5081400"/>
                <a:chExt cx="116640" cy="122760"/>
              </a:xfrm>
            </p:grpSpPr>
            <p:sp>
              <p:nvSpPr>
                <p:cNvPr id="1291" name=""/>
                <p:cNvSpPr/>
                <p:nvPr/>
              </p:nvSpPr>
              <p:spPr>
                <a:xfrm flipH="1" rot="21054600">
                  <a:off x="5468760" y="5104080"/>
                  <a:ext cx="27000" cy="2556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 flipH="1" rot="21054600">
                  <a:off x="5487120" y="5129640"/>
                  <a:ext cx="28080" cy="4608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 flipH="1" rot="21054600">
                  <a:off x="5482800" y="5167080"/>
                  <a:ext cx="35280" cy="3420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 flipH="1" rot="21054600">
                  <a:off x="5510160" y="5154480"/>
                  <a:ext cx="45000" cy="3240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 flipH="1" rot="21054600">
                  <a:off x="5491800" y="5083560"/>
                  <a:ext cx="31680" cy="5148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 flipH="1" rot="21054600">
                  <a:off x="5443920" y="5094720"/>
                  <a:ext cx="41400" cy="4824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7" name=""/>
              <p:cNvSpPr/>
              <p:nvPr/>
            </p:nvSpPr>
            <p:spPr>
              <a:xfrm flipH="1">
                <a:off x="5476320" y="5182920"/>
                <a:ext cx="77040" cy="2880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98" name=""/>
            <p:cNvGrpSpPr/>
            <p:nvPr/>
          </p:nvGrpSpPr>
          <p:grpSpPr>
            <a:xfrm>
              <a:off x="5079600" y="4986720"/>
              <a:ext cx="128160" cy="136080"/>
              <a:chOff x="5079600" y="4986720"/>
              <a:chExt cx="128160" cy="136080"/>
            </a:xfrm>
          </p:grpSpPr>
          <p:grpSp>
            <p:nvGrpSpPr>
              <p:cNvPr id="1299" name=""/>
              <p:cNvGrpSpPr/>
              <p:nvPr/>
            </p:nvGrpSpPr>
            <p:grpSpPr>
              <a:xfrm>
                <a:off x="5079600" y="4986720"/>
                <a:ext cx="128160" cy="127800"/>
                <a:chOff x="5079600" y="4986720"/>
                <a:chExt cx="128160" cy="127800"/>
              </a:xfrm>
            </p:grpSpPr>
            <p:sp>
              <p:nvSpPr>
                <p:cNvPr id="1300" name=""/>
                <p:cNvSpPr/>
                <p:nvPr/>
              </p:nvSpPr>
              <p:spPr>
                <a:xfrm rot="1132200">
                  <a:off x="5149800" y="5015160"/>
                  <a:ext cx="27000" cy="2592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 rot="1132200">
                  <a:off x="5124960" y="5037120"/>
                  <a:ext cx="27720" cy="4644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 rot="1132200">
                  <a:off x="5115600" y="5074920"/>
                  <a:ext cx="35280" cy="3456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 rot="1132200">
                  <a:off x="5083200" y="5056920"/>
                  <a:ext cx="44640" cy="3276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 rot="1132200">
                  <a:off x="5124960" y="4990320"/>
                  <a:ext cx="31320" cy="5220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 rot="1132200">
                  <a:off x="5159880" y="5007960"/>
                  <a:ext cx="41040" cy="4860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6" name=""/>
              <p:cNvSpPr/>
              <p:nvPr/>
            </p:nvSpPr>
            <p:spPr>
              <a:xfrm>
                <a:off x="5082840" y="5082120"/>
                <a:ext cx="70920" cy="406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5263560" y="5020200"/>
              <a:ext cx="141840" cy="119160"/>
              <a:chOff x="5263560" y="5020200"/>
              <a:chExt cx="141840" cy="119160"/>
            </a:xfrm>
          </p:grpSpPr>
          <p:grpSp>
            <p:nvGrpSpPr>
              <p:cNvPr id="1308" name=""/>
              <p:cNvGrpSpPr/>
              <p:nvPr/>
            </p:nvGrpSpPr>
            <p:grpSpPr>
              <a:xfrm>
                <a:off x="5263560" y="5020200"/>
                <a:ext cx="141840" cy="107280"/>
                <a:chOff x="5263560" y="5020200"/>
                <a:chExt cx="141840" cy="107280"/>
              </a:xfrm>
            </p:grpSpPr>
            <p:sp>
              <p:nvSpPr>
                <p:cNvPr id="1309" name=""/>
                <p:cNvSpPr/>
                <p:nvPr/>
              </p:nvSpPr>
              <p:spPr>
                <a:xfrm rot="3441600">
                  <a:off x="5349600" y="5058000"/>
                  <a:ext cx="27000" cy="2592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 rot="3441600">
                  <a:off x="5309640" y="5057640"/>
                  <a:ext cx="27720" cy="4680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 rot="3441600">
                  <a:off x="5281560" y="5085360"/>
                  <a:ext cx="35280" cy="3492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 rot="3441600">
                  <a:off x="5266800" y="5054400"/>
                  <a:ext cx="44640" cy="3312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 rot="3441600">
                  <a:off x="5336640" y="5021280"/>
                  <a:ext cx="31320" cy="5256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 rot="3441600">
                  <a:off x="5352840" y="5060520"/>
                  <a:ext cx="41040" cy="4896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5" name=""/>
              <p:cNvSpPr/>
              <p:nvPr/>
            </p:nvSpPr>
            <p:spPr>
              <a:xfrm>
                <a:off x="5266080" y="5063400"/>
                <a:ext cx="30240" cy="7596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6" name=""/>
            <p:cNvGrpSpPr/>
            <p:nvPr/>
          </p:nvGrpSpPr>
          <p:grpSpPr>
            <a:xfrm>
              <a:off x="5129640" y="5119920"/>
              <a:ext cx="109800" cy="125640"/>
              <a:chOff x="5129640" y="5119920"/>
              <a:chExt cx="109800" cy="125640"/>
            </a:xfrm>
          </p:grpSpPr>
          <p:grpSp>
            <p:nvGrpSpPr>
              <p:cNvPr id="1317" name=""/>
              <p:cNvGrpSpPr/>
              <p:nvPr/>
            </p:nvGrpSpPr>
            <p:grpSpPr>
              <a:xfrm>
                <a:off x="5129640" y="5119920"/>
                <a:ext cx="109800" cy="118440"/>
                <a:chOff x="5129640" y="5119920"/>
                <a:chExt cx="109800" cy="118440"/>
              </a:xfrm>
            </p:grpSpPr>
            <p:sp>
              <p:nvSpPr>
                <p:cNvPr id="1318" name=""/>
                <p:cNvSpPr/>
                <p:nvPr/>
              </p:nvSpPr>
              <p:spPr>
                <a:xfrm rot="263400">
                  <a:off x="5185440" y="5139360"/>
                  <a:ext cx="27360" cy="2556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rot="263400">
                  <a:off x="5168880" y="5165280"/>
                  <a:ext cx="28080" cy="4572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 rot="263400">
                  <a:off x="5168160" y="5203080"/>
                  <a:ext cx="35640" cy="3384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 rot="263400">
                  <a:off x="5130720" y="5192640"/>
                  <a:ext cx="45360" cy="3240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 rot="263400">
                  <a:off x="5157000" y="5121000"/>
                  <a:ext cx="31680" cy="5112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 rot="263400">
                  <a:off x="5195520" y="5128560"/>
                  <a:ext cx="41760" cy="4788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4" name=""/>
              <p:cNvSpPr/>
              <p:nvPr/>
            </p:nvSpPr>
            <p:spPr>
              <a:xfrm>
                <a:off x="5134680" y="5222880"/>
                <a:ext cx="79200" cy="226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25" name=""/>
            <p:cNvGrpSpPr/>
            <p:nvPr/>
          </p:nvGrpSpPr>
          <p:grpSpPr>
            <a:xfrm>
              <a:off x="4942800" y="5294160"/>
              <a:ext cx="114120" cy="137160"/>
              <a:chOff x="4942800" y="5294160"/>
              <a:chExt cx="114120" cy="137160"/>
            </a:xfrm>
          </p:grpSpPr>
          <p:grpSp>
            <p:nvGrpSpPr>
              <p:cNvPr id="1326" name=""/>
              <p:cNvGrpSpPr/>
              <p:nvPr/>
            </p:nvGrpSpPr>
            <p:grpSpPr>
              <a:xfrm>
                <a:off x="4942800" y="5294160"/>
                <a:ext cx="101160" cy="137160"/>
                <a:chOff x="4942800" y="5294160"/>
                <a:chExt cx="101160" cy="137160"/>
              </a:xfrm>
            </p:grpSpPr>
            <p:sp>
              <p:nvSpPr>
                <p:cNvPr id="1327" name=""/>
                <p:cNvSpPr/>
                <p:nvPr/>
              </p:nvSpPr>
              <p:spPr>
                <a:xfrm rot="19882200">
                  <a:off x="4979880" y="5321160"/>
                  <a:ext cx="27360" cy="2520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 rot="19882200">
                  <a:off x="4985640" y="5350680"/>
                  <a:ext cx="28080" cy="4536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rot="19882200">
                  <a:off x="5002200" y="5381280"/>
                  <a:ext cx="35640" cy="3384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 rot="19882200">
                  <a:off x="4963680" y="5390280"/>
                  <a:ext cx="45360" cy="3204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 rot="19882200">
                  <a:off x="4952880" y="5318280"/>
                  <a:ext cx="31680" cy="5112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rot="19882200">
                  <a:off x="4987440" y="5301360"/>
                  <a:ext cx="41760" cy="4788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3" name=""/>
              <p:cNvSpPr/>
              <p:nvPr/>
            </p:nvSpPr>
            <p:spPr>
              <a:xfrm flipV="1">
                <a:off x="4978080" y="5404320"/>
                <a:ext cx="78840" cy="2412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"/>
            <p:cNvGrpSpPr/>
            <p:nvPr/>
          </p:nvGrpSpPr>
          <p:grpSpPr>
            <a:xfrm>
              <a:off x="5079240" y="5232240"/>
              <a:ext cx="114480" cy="138240"/>
              <a:chOff x="5079240" y="5232240"/>
              <a:chExt cx="114480" cy="138240"/>
            </a:xfrm>
          </p:grpSpPr>
          <p:grpSp>
            <p:nvGrpSpPr>
              <p:cNvPr id="1335" name=""/>
              <p:cNvGrpSpPr/>
              <p:nvPr/>
            </p:nvGrpSpPr>
            <p:grpSpPr>
              <a:xfrm>
                <a:off x="5079240" y="5232240"/>
                <a:ext cx="101520" cy="138240"/>
                <a:chOff x="5079240" y="5232240"/>
                <a:chExt cx="101520" cy="138240"/>
              </a:xfrm>
            </p:grpSpPr>
            <p:sp>
              <p:nvSpPr>
                <p:cNvPr id="1336" name=""/>
                <p:cNvSpPr/>
                <p:nvPr/>
              </p:nvSpPr>
              <p:spPr>
                <a:xfrm rot="19882200">
                  <a:off x="5116320" y="5259600"/>
                  <a:ext cx="27360" cy="2556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 rot="19882200">
                  <a:off x="5122440" y="5289120"/>
                  <a:ext cx="28080" cy="4572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 rot="19882200">
                  <a:off x="5139000" y="5320080"/>
                  <a:ext cx="35640" cy="3420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 rot="19882200">
                  <a:off x="5100480" y="5329080"/>
                  <a:ext cx="45360" cy="3240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 rot="19882200">
                  <a:off x="5089320" y="5256360"/>
                  <a:ext cx="31680" cy="5148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 rot="19882200">
                  <a:off x="5124240" y="5239440"/>
                  <a:ext cx="41760" cy="4824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2" name=""/>
              <p:cNvSpPr/>
              <p:nvPr/>
            </p:nvSpPr>
            <p:spPr>
              <a:xfrm flipV="1">
                <a:off x="5114880" y="5343480"/>
                <a:ext cx="78840" cy="244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5407200" y="5452200"/>
              <a:ext cx="135000" cy="126000"/>
              <a:chOff x="5407200" y="5452200"/>
              <a:chExt cx="135000" cy="126000"/>
            </a:xfrm>
          </p:grpSpPr>
          <p:grpSp>
            <p:nvGrpSpPr>
              <p:cNvPr id="1344" name=""/>
              <p:cNvGrpSpPr/>
              <p:nvPr/>
            </p:nvGrpSpPr>
            <p:grpSpPr>
              <a:xfrm>
                <a:off x="5416200" y="5452200"/>
                <a:ext cx="126000" cy="126000"/>
                <a:chOff x="5416200" y="5452200"/>
                <a:chExt cx="126000" cy="126000"/>
              </a:xfrm>
            </p:grpSpPr>
            <p:sp>
              <p:nvSpPr>
                <p:cNvPr id="1345" name=""/>
                <p:cNvSpPr/>
                <p:nvPr/>
              </p:nvSpPr>
              <p:spPr>
                <a:xfrm flipH="1" rot="4411800">
                  <a:off x="5488200" y="5482800"/>
                  <a:ext cx="27360" cy="25560"/>
                </a:xfrm>
                <a:custGeom>
                  <a:avLst/>
                  <a:gdLst/>
                  <a:ahLst/>
                  <a:rect l="l" t="t" r="r" b="b"/>
                  <a:pathLst>
                    <a:path w="600" h="608">
                      <a:moveTo>
                        <a:pt x="388" y="289"/>
                      </a:moveTo>
                      <a:lnTo>
                        <a:pt x="372" y="177"/>
                      </a:lnTo>
                      <a:lnTo>
                        <a:pt x="341" y="78"/>
                      </a:lnTo>
                      <a:lnTo>
                        <a:pt x="284" y="24"/>
                      </a:lnTo>
                      <a:lnTo>
                        <a:pt x="185" y="0"/>
                      </a:lnTo>
                      <a:lnTo>
                        <a:pt x="100" y="24"/>
                      </a:lnTo>
                      <a:lnTo>
                        <a:pt x="19" y="123"/>
                      </a:lnTo>
                      <a:lnTo>
                        <a:pt x="0" y="243"/>
                      </a:lnTo>
                      <a:lnTo>
                        <a:pt x="19" y="370"/>
                      </a:lnTo>
                      <a:lnTo>
                        <a:pt x="50" y="447"/>
                      </a:lnTo>
                      <a:lnTo>
                        <a:pt x="88" y="528"/>
                      </a:lnTo>
                      <a:lnTo>
                        <a:pt x="130" y="582"/>
                      </a:lnTo>
                      <a:lnTo>
                        <a:pt x="177" y="608"/>
                      </a:lnTo>
                      <a:lnTo>
                        <a:pt x="242" y="585"/>
                      </a:lnTo>
                      <a:lnTo>
                        <a:pt x="307" y="531"/>
                      </a:lnTo>
                      <a:lnTo>
                        <a:pt x="349" y="455"/>
                      </a:lnTo>
                      <a:lnTo>
                        <a:pt x="388" y="390"/>
                      </a:lnTo>
                      <a:lnTo>
                        <a:pt x="400" y="351"/>
                      </a:lnTo>
                      <a:lnTo>
                        <a:pt x="565" y="293"/>
                      </a:lnTo>
                      <a:lnTo>
                        <a:pt x="600" y="270"/>
                      </a:lnTo>
                      <a:lnTo>
                        <a:pt x="580" y="235"/>
                      </a:lnTo>
                      <a:lnTo>
                        <a:pt x="388" y="2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 flipH="1" rot="4411800">
                  <a:off x="5455440" y="5495760"/>
                  <a:ext cx="28080" cy="45720"/>
                </a:xfrm>
                <a:custGeom>
                  <a:avLst/>
                  <a:gdLst/>
                  <a:ahLst/>
                  <a:rect l="l" t="t" r="r" b="b"/>
                  <a:pathLst>
                    <a:path w="619" h="1085">
                      <a:moveTo>
                        <a:pt x="208" y="161"/>
                      </a:moveTo>
                      <a:lnTo>
                        <a:pt x="284" y="80"/>
                      </a:lnTo>
                      <a:lnTo>
                        <a:pt x="411" y="3"/>
                      </a:lnTo>
                      <a:lnTo>
                        <a:pt x="469" y="0"/>
                      </a:lnTo>
                      <a:lnTo>
                        <a:pt x="573" y="34"/>
                      </a:lnTo>
                      <a:lnTo>
                        <a:pt x="619" y="85"/>
                      </a:lnTo>
                      <a:lnTo>
                        <a:pt x="619" y="161"/>
                      </a:lnTo>
                      <a:lnTo>
                        <a:pt x="542" y="304"/>
                      </a:lnTo>
                      <a:lnTo>
                        <a:pt x="458" y="415"/>
                      </a:lnTo>
                      <a:lnTo>
                        <a:pt x="422" y="508"/>
                      </a:lnTo>
                      <a:lnTo>
                        <a:pt x="399" y="615"/>
                      </a:lnTo>
                      <a:lnTo>
                        <a:pt x="422" y="719"/>
                      </a:lnTo>
                      <a:lnTo>
                        <a:pt x="445" y="820"/>
                      </a:lnTo>
                      <a:lnTo>
                        <a:pt x="445" y="935"/>
                      </a:lnTo>
                      <a:lnTo>
                        <a:pt x="411" y="1005"/>
                      </a:lnTo>
                      <a:lnTo>
                        <a:pt x="334" y="1043"/>
                      </a:lnTo>
                      <a:lnTo>
                        <a:pt x="242" y="1085"/>
                      </a:lnTo>
                      <a:lnTo>
                        <a:pt x="157" y="1085"/>
                      </a:lnTo>
                      <a:lnTo>
                        <a:pt x="100" y="1054"/>
                      </a:lnTo>
                      <a:lnTo>
                        <a:pt x="23" y="927"/>
                      </a:lnTo>
                      <a:lnTo>
                        <a:pt x="0" y="797"/>
                      </a:lnTo>
                      <a:lnTo>
                        <a:pt x="8" y="628"/>
                      </a:lnTo>
                      <a:lnTo>
                        <a:pt x="65" y="415"/>
                      </a:lnTo>
                      <a:lnTo>
                        <a:pt x="123" y="277"/>
                      </a:lnTo>
                      <a:lnTo>
                        <a:pt x="208" y="1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 flipH="1" rot="4411800">
                  <a:off x="5419440" y="5505480"/>
                  <a:ext cx="35640" cy="34200"/>
                </a:xfrm>
                <a:custGeom>
                  <a:avLst/>
                  <a:gdLst/>
                  <a:ahLst/>
                  <a:rect l="l" t="t" r="r" b="b"/>
                  <a:pathLst>
                    <a:path w="782" h="808">
                      <a:moveTo>
                        <a:pt x="0" y="76"/>
                      </a:moveTo>
                      <a:lnTo>
                        <a:pt x="66" y="0"/>
                      </a:lnTo>
                      <a:lnTo>
                        <a:pt x="163" y="0"/>
                      </a:lnTo>
                      <a:lnTo>
                        <a:pt x="343" y="19"/>
                      </a:lnTo>
                      <a:lnTo>
                        <a:pt x="555" y="30"/>
                      </a:lnTo>
                      <a:lnTo>
                        <a:pt x="636" y="65"/>
                      </a:lnTo>
                      <a:lnTo>
                        <a:pt x="670" y="110"/>
                      </a:lnTo>
                      <a:lnTo>
                        <a:pt x="678" y="180"/>
                      </a:lnTo>
                      <a:lnTo>
                        <a:pt x="654" y="253"/>
                      </a:lnTo>
                      <a:lnTo>
                        <a:pt x="589" y="365"/>
                      </a:lnTo>
                      <a:lnTo>
                        <a:pt x="504" y="457"/>
                      </a:lnTo>
                      <a:lnTo>
                        <a:pt x="439" y="541"/>
                      </a:lnTo>
                      <a:lnTo>
                        <a:pt x="412" y="607"/>
                      </a:lnTo>
                      <a:lnTo>
                        <a:pt x="393" y="653"/>
                      </a:lnTo>
                      <a:lnTo>
                        <a:pt x="400" y="689"/>
                      </a:lnTo>
                      <a:lnTo>
                        <a:pt x="405" y="711"/>
                      </a:lnTo>
                      <a:lnTo>
                        <a:pt x="482" y="711"/>
                      </a:lnTo>
                      <a:lnTo>
                        <a:pt x="601" y="692"/>
                      </a:lnTo>
                      <a:lnTo>
                        <a:pt x="678" y="692"/>
                      </a:lnTo>
                      <a:lnTo>
                        <a:pt x="758" y="723"/>
                      </a:lnTo>
                      <a:lnTo>
                        <a:pt x="782" y="761"/>
                      </a:lnTo>
                      <a:lnTo>
                        <a:pt x="758" y="796"/>
                      </a:lnTo>
                      <a:lnTo>
                        <a:pt x="724" y="808"/>
                      </a:lnTo>
                      <a:lnTo>
                        <a:pt x="670" y="792"/>
                      </a:lnTo>
                      <a:lnTo>
                        <a:pt x="597" y="749"/>
                      </a:lnTo>
                      <a:lnTo>
                        <a:pt x="520" y="757"/>
                      </a:lnTo>
                      <a:lnTo>
                        <a:pt x="393" y="780"/>
                      </a:lnTo>
                      <a:lnTo>
                        <a:pt x="355" y="773"/>
                      </a:lnTo>
                      <a:lnTo>
                        <a:pt x="335" y="746"/>
                      </a:lnTo>
                      <a:lnTo>
                        <a:pt x="335" y="681"/>
                      </a:lnTo>
                      <a:lnTo>
                        <a:pt x="335" y="588"/>
                      </a:lnTo>
                      <a:lnTo>
                        <a:pt x="389" y="518"/>
                      </a:lnTo>
                      <a:lnTo>
                        <a:pt x="470" y="414"/>
                      </a:lnTo>
                      <a:lnTo>
                        <a:pt x="540" y="323"/>
                      </a:lnTo>
                      <a:lnTo>
                        <a:pt x="586" y="253"/>
                      </a:lnTo>
                      <a:lnTo>
                        <a:pt x="609" y="192"/>
                      </a:lnTo>
                      <a:lnTo>
                        <a:pt x="597" y="157"/>
                      </a:lnTo>
                      <a:lnTo>
                        <a:pt x="566" y="115"/>
                      </a:lnTo>
                      <a:lnTo>
                        <a:pt x="520" y="103"/>
                      </a:lnTo>
                      <a:lnTo>
                        <a:pt x="470" y="103"/>
                      </a:lnTo>
                      <a:lnTo>
                        <a:pt x="358" y="103"/>
                      </a:lnTo>
                      <a:lnTo>
                        <a:pt x="193" y="134"/>
                      </a:lnTo>
                      <a:lnTo>
                        <a:pt x="70" y="146"/>
                      </a:lnTo>
                      <a:lnTo>
                        <a:pt x="20" y="134"/>
                      </a:lnTo>
                      <a:lnTo>
                        <a:pt x="0" y="115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 flipH="1" rot="4411800">
                  <a:off x="5433120" y="5535720"/>
                  <a:ext cx="45360" cy="32400"/>
                </a:xfrm>
                <a:custGeom>
                  <a:avLst/>
                  <a:gdLst/>
                  <a:ahLst/>
                  <a:rect l="l" t="t" r="r" b="b"/>
                  <a:pathLst>
                    <a:path w="992" h="770">
                      <a:moveTo>
                        <a:pt x="808" y="320"/>
                      </a:moveTo>
                      <a:lnTo>
                        <a:pt x="823" y="219"/>
                      </a:lnTo>
                      <a:lnTo>
                        <a:pt x="881" y="181"/>
                      </a:lnTo>
                      <a:lnTo>
                        <a:pt x="950" y="174"/>
                      </a:lnTo>
                      <a:lnTo>
                        <a:pt x="992" y="219"/>
                      </a:lnTo>
                      <a:lnTo>
                        <a:pt x="973" y="308"/>
                      </a:lnTo>
                      <a:lnTo>
                        <a:pt x="935" y="427"/>
                      </a:lnTo>
                      <a:lnTo>
                        <a:pt x="857" y="562"/>
                      </a:lnTo>
                      <a:lnTo>
                        <a:pt x="761" y="677"/>
                      </a:lnTo>
                      <a:lnTo>
                        <a:pt x="681" y="739"/>
                      </a:lnTo>
                      <a:lnTo>
                        <a:pt x="592" y="770"/>
                      </a:lnTo>
                      <a:lnTo>
                        <a:pt x="507" y="759"/>
                      </a:lnTo>
                      <a:lnTo>
                        <a:pt x="442" y="723"/>
                      </a:lnTo>
                      <a:lnTo>
                        <a:pt x="419" y="666"/>
                      </a:lnTo>
                      <a:lnTo>
                        <a:pt x="392" y="566"/>
                      </a:lnTo>
                      <a:lnTo>
                        <a:pt x="361" y="382"/>
                      </a:lnTo>
                      <a:lnTo>
                        <a:pt x="338" y="254"/>
                      </a:lnTo>
                      <a:lnTo>
                        <a:pt x="338" y="104"/>
                      </a:lnTo>
                      <a:lnTo>
                        <a:pt x="323" y="78"/>
                      </a:lnTo>
                      <a:lnTo>
                        <a:pt x="277" y="70"/>
                      </a:lnTo>
                      <a:lnTo>
                        <a:pt x="223" y="112"/>
                      </a:lnTo>
                      <a:lnTo>
                        <a:pt x="173" y="181"/>
                      </a:lnTo>
                      <a:lnTo>
                        <a:pt x="115" y="219"/>
                      </a:lnTo>
                      <a:lnTo>
                        <a:pt x="27" y="219"/>
                      </a:lnTo>
                      <a:lnTo>
                        <a:pt x="0" y="196"/>
                      </a:lnTo>
                      <a:lnTo>
                        <a:pt x="0" y="158"/>
                      </a:lnTo>
                      <a:lnTo>
                        <a:pt x="39" y="123"/>
                      </a:lnTo>
                      <a:lnTo>
                        <a:pt x="81" y="135"/>
                      </a:lnTo>
                      <a:lnTo>
                        <a:pt x="119" y="127"/>
                      </a:lnTo>
                      <a:lnTo>
                        <a:pt x="189" y="78"/>
                      </a:lnTo>
                      <a:lnTo>
                        <a:pt x="257" y="23"/>
                      </a:lnTo>
                      <a:lnTo>
                        <a:pt x="323" y="8"/>
                      </a:lnTo>
                      <a:lnTo>
                        <a:pt x="415" y="0"/>
                      </a:lnTo>
                      <a:lnTo>
                        <a:pt x="419" y="42"/>
                      </a:lnTo>
                      <a:lnTo>
                        <a:pt x="397" y="89"/>
                      </a:lnTo>
                      <a:lnTo>
                        <a:pt x="392" y="208"/>
                      </a:lnTo>
                      <a:lnTo>
                        <a:pt x="419" y="366"/>
                      </a:lnTo>
                      <a:lnTo>
                        <a:pt x="462" y="520"/>
                      </a:lnTo>
                      <a:lnTo>
                        <a:pt x="499" y="612"/>
                      </a:lnTo>
                      <a:lnTo>
                        <a:pt x="558" y="655"/>
                      </a:lnTo>
                      <a:lnTo>
                        <a:pt x="615" y="655"/>
                      </a:lnTo>
                      <a:lnTo>
                        <a:pt x="673" y="612"/>
                      </a:lnTo>
                      <a:lnTo>
                        <a:pt x="750" y="515"/>
                      </a:lnTo>
                      <a:lnTo>
                        <a:pt x="800" y="377"/>
                      </a:lnTo>
                      <a:lnTo>
                        <a:pt x="808" y="3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 flipH="1" rot="4411800">
                  <a:off x="5497200" y="5493960"/>
                  <a:ext cx="31680" cy="51480"/>
                </a:xfrm>
                <a:custGeom>
                  <a:avLst/>
                  <a:gdLst/>
                  <a:ahLst/>
                  <a:rect l="l" t="t" r="r" b="b"/>
                  <a:pathLst>
                    <a:path w="699" h="1216">
                      <a:moveTo>
                        <a:pt x="445" y="923"/>
                      </a:moveTo>
                      <a:lnTo>
                        <a:pt x="560" y="1039"/>
                      </a:lnTo>
                      <a:lnTo>
                        <a:pt x="606" y="1039"/>
                      </a:lnTo>
                      <a:lnTo>
                        <a:pt x="684" y="1086"/>
                      </a:lnTo>
                      <a:lnTo>
                        <a:pt x="699" y="1139"/>
                      </a:lnTo>
                      <a:lnTo>
                        <a:pt x="676" y="1208"/>
                      </a:lnTo>
                      <a:lnTo>
                        <a:pt x="614" y="1216"/>
                      </a:lnTo>
                      <a:lnTo>
                        <a:pt x="537" y="1162"/>
                      </a:lnTo>
                      <a:lnTo>
                        <a:pt x="383" y="1016"/>
                      </a:lnTo>
                      <a:lnTo>
                        <a:pt x="284" y="878"/>
                      </a:lnTo>
                      <a:lnTo>
                        <a:pt x="237" y="769"/>
                      </a:lnTo>
                      <a:lnTo>
                        <a:pt x="206" y="585"/>
                      </a:lnTo>
                      <a:lnTo>
                        <a:pt x="206" y="346"/>
                      </a:lnTo>
                      <a:lnTo>
                        <a:pt x="198" y="285"/>
                      </a:lnTo>
                      <a:lnTo>
                        <a:pt x="153" y="239"/>
                      </a:lnTo>
                      <a:lnTo>
                        <a:pt x="22" y="247"/>
                      </a:lnTo>
                      <a:lnTo>
                        <a:pt x="0" y="223"/>
                      </a:lnTo>
                      <a:lnTo>
                        <a:pt x="29" y="208"/>
                      </a:lnTo>
                      <a:lnTo>
                        <a:pt x="122" y="200"/>
                      </a:lnTo>
                      <a:lnTo>
                        <a:pt x="138" y="185"/>
                      </a:lnTo>
                      <a:lnTo>
                        <a:pt x="6" y="107"/>
                      </a:lnTo>
                      <a:lnTo>
                        <a:pt x="6" y="77"/>
                      </a:lnTo>
                      <a:lnTo>
                        <a:pt x="29" y="70"/>
                      </a:lnTo>
                      <a:lnTo>
                        <a:pt x="138" y="130"/>
                      </a:lnTo>
                      <a:lnTo>
                        <a:pt x="161" y="123"/>
                      </a:lnTo>
                      <a:lnTo>
                        <a:pt x="138" y="8"/>
                      </a:lnTo>
                      <a:lnTo>
                        <a:pt x="153" y="0"/>
                      </a:lnTo>
                      <a:lnTo>
                        <a:pt x="169" y="8"/>
                      </a:lnTo>
                      <a:lnTo>
                        <a:pt x="198" y="123"/>
                      </a:lnTo>
                      <a:lnTo>
                        <a:pt x="222" y="130"/>
                      </a:lnTo>
                      <a:lnTo>
                        <a:pt x="284" y="8"/>
                      </a:lnTo>
                      <a:lnTo>
                        <a:pt x="299" y="8"/>
                      </a:lnTo>
                      <a:lnTo>
                        <a:pt x="299" y="46"/>
                      </a:lnTo>
                      <a:lnTo>
                        <a:pt x="260" y="146"/>
                      </a:lnTo>
                      <a:lnTo>
                        <a:pt x="260" y="200"/>
                      </a:lnTo>
                      <a:lnTo>
                        <a:pt x="276" y="270"/>
                      </a:lnTo>
                      <a:lnTo>
                        <a:pt x="268" y="361"/>
                      </a:lnTo>
                      <a:lnTo>
                        <a:pt x="276" y="531"/>
                      </a:lnTo>
                      <a:lnTo>
                        <a:pt x="291" y="639"/>
                      </a:lnTo>
                      <a:lnTo>
                        <a:pt x="330" y="762"/>
                      </a:lnTo>
                      <a:lnTo>
                        <a:pt x="383" y="855"/>
                      </a:lnTo>
                      <a:lnTo>
                        <a:pt x="445" y="9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 flipH="1" rot="4411800">
                  <a:off x="5476680" y="5454720"/>
                  <a:ext cx="41760" cy="48240"/>
                </a:xfrm>
                <a:custGeom>
                  <a:avLst/>
                  <a:gdLst/>
                  <a:ahLst/>
                  <a:rect l="l" t="t" r="r" b="b"/>
                  <a:pathLst>
                    <a:path w="915" h="1139">
                      <a:moveTo>
                        <a:pt x="15" y="1008"/>
                      </a:moveTo>
                      <a:lnTo>
                        <a:pt x="0" y="1061"/>
                      </a:lnTo>
                      <a:lnTo>
                        <a:pt x="15" y="1139"/>
                      </a:lnTo>
                      <a:lnTo>
                        <a:pt x="70" y="1139"/>
                      </a:lnTo>
                      <a:lnTo>
                        <a:pt x="231" y="1108"/>
                      </a:lnTo>
                      <a:lnTo>
                        <a:pt x="408" y="1046"/>
                      </a:lnTo>
                      <a:lnTo>
                        <a:pt x="554" y="946"/>
                      </a:lnTo>
                      <a:lnTo>
                        <a:pt x="639" y="816"/>
                      </a:lnTo>
                      <a:lnTo>
                        <a:pt x="715" y="593"/>
                      </a:lnTo>
                      <a:lnTo>
                        <a:pt x="738" y="385"/>
                      </a:lnTo>
                      <a:lnTo>
                        <a:pt x="738" y="285"/>
                      </a:lnTo>
                      <a:lnTo>
                        <a:pt x="777" y="224"/>
                      </a:lnTo>
                      <a:lnTo>
                        <a:pt x="845" y="200"/>
                      </a:lnTo>
                      <a:lnTo>
                        <a:pt x="907" y="200"/>
                      </a:lnTo>
                      <a:lnTo>
                        <a:pt x="915" y="169"/>
                      </a:lnTo>
                      <a:lnTo>
                        <a:pt x="823" y="177"/>
                      </a:lnTo>
                      <a:lnTo>
                        <a:pt x="808" y="154"/>
                      </a:lnTo>
                      <a:lnTo>
                        <a:pt x="884" y="70"/>
                      </a:lnTo>
                      <a:lnTo>
                        <a:pt x="868" y="47"/>
                      </a:lnTo>
                      <a:lnTo>
                        <a:pt x="853" y="62"/>
                      </a:lnTo>
                      <a:lnTo>
                        <a:pt x="792" y="123"/>
                      </a:lnTo>
                      <a:lnTo>
                        <a:pt x="777" y="123"/>
                      </a:lnTo>
                      <a:lnTo>
                        <a:pt x="777" y="16"/>
                      </a:lnTo>
                      <a:lnTo>
                        <a:pt x="761" y="0"/>
                      </a:lnTo>
                      <a:lnTo>
                        <a:pt x="738" y="8"/>
                      </a:lnTo>
                      <a:lnTo>
                        <a:pt x="746" y="123"/>
                      </a:lnTo>
                      <a:lnTo>
                        <a:pt x="730" y="131"/>
                      </a:lnTo>
                      <a:lnTo>
                        <a:pt x="668" y="70"/>
                      </a:lnTo>
                      <a:lnTo>
                        <a:pt x="623" y="62"/>
                      </a:lnTo>
                      <a:lnTo>
                        <a:pt x="631" y="93"/>
                      </a:lnTo>
                      <a:lnTo>
                        <a:pt x="699" y="162"/>
                      </a:lnTo>
                      <a:lnTo>
                        <a:pt x="699" y="200"/>
                      </a:lnTo>
                      <a:lnTo>
                        <a:pt x="676" y="278"/>
                      </a:lnTo>
                      <a:lnTo>
                        <a:pt x="676" y="346"/>
                      </a:lnTo>
                      <a:lnTo>
                        <a:pt x="676" y="462"/>
                      </a:lnTo>
                      <a:lnTo>
                        <a:pt x="645" y="608"/>
                      </a:lnTo>
                      <a:lnTo>
                        <a:pt x="615" y="700"/>
                      </a:lnTo>
                      <a:lnTo>
                        <a:pt x="561" y="816"/>
                      </a:lnTo>
                      <a:lnTo>
                        <a:pt x="499" y="908"/>
                      </a:lnTo>
                      <a:lnTo>
                        <a:pt x="454" y="954"/>
                      </a:lnTo>
                      <a:lnTo>
                        <a:pt x="330" y="993"/>
                      </a:lnTo>
                      <a:lnTo>
                        <a:pt x="215" y="1008"/>
                      </a:lnTo>
                      <a:lnTo>
                        <a:pt x="99" y="1024"/>
                      </a:lnTo>
                      <a:lnTo>
                        <a:pt x="15" y="10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1" name=""/>
              <p:cNvSpPr/>
              <p:nvPr/>
            </p:nvSpPr>
            <p:spPr>
              <a:xfrm flipH="1" flipV="1">
                <a:off x="5407200" y="5501160"/>
                <a:ext cx="38520" cy="7308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52" name=""/>
            <p:cNvGrpSpPr/>
            <p:nvPr/>
          </p:nvGrpSpPr>
          <p:grpSpPr>
            <a:xfrm>
              <a:off x="7890840" y="4953960"/>
              <a:ext cx="757800" cy="723600"/>
              <a:chOff x="7890840" y="4953960"/>
              <a:chExt cx="757800" cy="723600"/>
            </a:xfrm>
          </p:grpSpPr>
          <p:grpSp>
            <p:nvGrpSpPr>
              <p:cNvPr id="1353" name=""/>
              <p:cNvGrpSpPr/>
              <p:nvPr/>
            </p:nvGrpSpPr>
            <p:grpSpPr>
              <a:xfrm>
                <a:off x="7890840" y="5089320"/>
                <a:ext cx="713520" cy="534240"/>
                <a:chOff x="7890840" y="5089320"/>
                <a:chExt cx="713520" cy="534240"/>
              </a:xfrm>
            </p:grpSpPr>
            <p:sp>
              <p:nvSpPr>
                <p:cNvPr id="1354" name=""/>
                <p:cNvSpPr/>
                <p:nvPr/>
              </p:nvSpPr>
              <p:spPr>
                <a:xfrm rot="2359800">
                  <a:off x="7944480" y="5225040"/>
                  <a:ext cx="391320" cy="309600"/>
                </a:xfrm>
                <a:custGeom>
                  <a:avLst/>
                  <a:gdLst/>
                  <a:ahLst/>
                  <a:rect l="l" t="t" r="r" b="b"/>
                  <a:pathLst>
                    <a:path w="2280" h="1785">
                      <a:moveTo>
                        <a:pt x="748" y="30"/>
                      </a:moveTo>
                      <a:cubicBezTo>
                        <a:pt x="881" y="60"/>
                        <a:pt x="985" y="267"/>
                        <a:pt x="1224" y="305"/>
                      </a:cubicBezTo>
                      <a:cubicBezTo>
                        <a:pt x="1463" y="343"/>
                        <a:pt x="2088" y="121"/>
                        <a:pt x="2184" y="257"/>
                      </a:cubicBezTo>
                      <a:cubicBezTo>
                        <a:pt x="2280" y="393"/>
                        <a:pt x="1873" y="945"/>
                        <a:pt x="1800" y="1121"/>
                      </a:cubicBezTo>
                      <a:cubicBezTo>
                        <a:pt x="1727" y="1297"/>
                        <a:pt x="1757" y="1253"/>
                        <a:pt x="1743" y="1313"/>
                      </a:cubicBezTo>
                      <a:cubicBezTo>
                        <a:pt x="1729" y="1373"/>
                        <a:pt x="1747" y="1440"/>
                        <a:pt x="1717" y="1479"/>
                      </a:cubicBezTo>
                      <a:cubicBezTo>
                        <a:pt x="1687" y="1518"/>
                        <a:pt x="1634" y="1537"/>
                        <a:pt x="1560" y="1549"/>
                      </a:cubicBezTo>
                      <a:cubicBezTo>
                        <a:pt x="1486" y="1561"/>
                        <a:pt x="1504" y="1536"/>
                        <a:pt x="1272" y="1553"/>
                      </a:cubicBezTo>
                      <a:cubicBezTo>
                        <a:pt x="1040" y="1570"/>
                        <a:pt x="336" y="1785"/>
                        <a:pt x="168" y="1649"/>
                      </a:cubicBezTo>
                      <a:cubicBezTo>
                        <a:pt x="0" y="1513"/>
                        <a:pt x="221" y="991"/>
                        <a:pt x="264" y="737"/>
                      </a:cubicBezTo>
                      <a:cubicBezTo>
                        <a:pt x="307" y="483"/>
                        <a:pt x="344" y="244"/>
                        <a:pt x="425" y="126"/>
                      </a:cubicBezTo>
                      <a:cubicBezTo>
                        <a:pt x="506" y="8"/>
                        <a:pt x="615" y="0"/>
                        <a:pt x="748" y="30"/>
                      </a:cubicBezTo>
                      <a:close/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 rot="2359800">
                  <a:off x="8333640" y="5258880"/>
                  <a:ext cx="225000" cy="224640"/>
                </a:xfrm>
                <a:custGeom>
                  <a:avLst/>
                  <a:gdLst/>
                  <a:ahLst/>
                  <a:rect l="l" t="t" r="r" b="b"/>
                  <a:pathLst>
                    <a:path w="1312" h="1296">
                      <a:moveTo>
                        <a:pt x="592" y="160"/>
                      </a:moveTo>
                      <a:cubicBezTo>
                        <a:pt x="408" y="256"/>
                        <a:pt x="32" y="496"/>
                        <a:pt x="16" y="640"/>
                      </a:cubicBezTo>
                      <a:cubicBezTo>
                        <a:pt x="0" y="784"/>
                        <a:pt x="296" y="928"/>
                        <a:pt x="496" y="1024"/>
                      </a:cubicBezTo>
                      <a:cubicBezTo>
                        <a:pt x="696" y="1120"/>
                        <a:pt x="1120" y="1296"/>
                        <a:pt x="1216" y="1216"/>
                      </a:cubicBezTo>
                      <a:cubicBezTo>
                        <a:pt x="1312" y="1136"/>
                        <a:pt x="1088" y="736"/>
                        <a:pt x="1072" y="544"/>
                      </a:cubicBezTo>
                      <a:cubicBezTo>
                        <a:pt x="1056" y="352"/>
                        <a:pt x="1208" y="128"/>
                        <a:pt x="1120" y="64"/>
                      </a:cubicBezTo>
                      <a:cubicBezTo>
                        <a:pt x="1032" y="0"/>
                        <a:pt x="776" y="64"/>
                        <a:pt x="592" y="160"/>
                      </a:cubicBezTo>
                      <a:close/>
                    </a:path>
                  </a:pathLst>
                </a:cu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6" name=""/>
                <p:cNvGrpSpPr/>
                <p:nvPr/>
              </p:nvGrpSpPr>
              <p:grpSpPr>
                <a:xfrm>
                  <a:off x="8134200" y="5089320"/>
                  <a:ext cx="345960" cy="370440"/>
                  <a:chOff x="8134200" y="5089320"/>
                  <a:chExt cx="345960" cy="370440"/>
                </a:xfrm>
              </p:grpSpPr>
              <p:sp>
                <p:nvSpPr>
                  <p:cNvPr id="1357" name=""/>
                  <p:cNvSpPr/>
                  <p:nvPr/>
                </p:nvSpPr>
                <p:spPr>
                  <a:xfrm rot="21255000">
                    <a:off x="8308440" y="5128560"/>
                    <a:ext cx="7020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608">
                        <a:moveTo>
                          <a:pt x="388" y="289"/>
                        </a:moveTo>
                        <a:lnTo>
                          <a:pt x="372" y="177"/>
                        </a:lnTo>
                        <a:lnTo>
                          <a:pt x="341" y="78"/>
                        </a:lnTo>
                        <a:lnTo>
                          <a:pt x="284" y="24"/>
                        </a:lnTo>
                        <a:lnTo>
                          <a:pt x="185" y="0"/>
                        </a:lnTo>
                        <a:lnTo>
                          <a:pt x="100" y="24"/>
                        </a:lnTo>
                        <a:lnTo>
                          <a:pt x="19" y="123"/>
                        </a:lnTo>
                        <a:lnTo>
                          <a:pt x="0" y="243"/>
                        </a:lnTo>
                        <a:lnTo>
                          <a:pt x="19" y="370"/>
                        </a:lnTo>
                        <a:lnTo>
                          <a:pt x="50" y="447"/>
                        </a:lnTo>
                        <a:lnTo>
                          <a:pt x="88" y="528"/>
                        </a:lnTo>
                        <a:lnTo>
                          <a:pt x="130" y="582"/>
                        </a:lnTo>
                        <a:lnTo>
                          <a:pt x="177" y="608"/>
                        </a:lnTo>
                        <a:lnTo>
                          <a:pt x="242" y="585"/>
                        </a:lnTo>
                        <a:lnTo>
                          <a:pt x="307" y="531"/>
                        </a:lnTo>
                        <a:lnTo>
                          <a:pt x="349" y="455"/>
                        </a:lnTo>
                        <a:lnTo>
                          <a:pt x="388" y="390"/>
                        </a:lnTo>
                        <a:lnTo>
                          <a:pt x="400" y="351"/>
                        </a:lnTo>
                        <a:lnTo>
                          <a:pt x="565" y="293"/>
                        </a:lnTo>
                        <a:lnTo>
                          <a:pt x="600" y="270"/>
                        </a:lnTo>
                        <a:lnTo>
                          <a:pt x="580" y="235"/>
                        </a:lnTo>
                        <a:lnTo>
                          <a:pt x="388" y="289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 rot="21255000">
                    <a:off x="8283960" y="5202000"/>
                    <a:ext cx="7236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619" h="1085">
                        <a:moveTo>
                          <a:pt x="208" y="161"/>
                        </a:moveTo>
                        <a:lnTo>
                          <a:pt x="284" y="80"/>
                        </a:lnTo>
                        <a:lnTo>
                          <a:pt x="411" y="3"/>
                        </a:lnTo>
                        <a:lnTo>
                          <a:pt x="469" y="0"/>
                        </a:lnTo>
                        <a:lnTo>
                          <a:pt x="573" y="34"/>
                        </a:lnTo>
                        <a:lnTo>
                          <a:pt x="619" y="85"/>
                        </a:lnTo>
                        <a:lnTo>
                          <a:pt x="619" y="161"/>
                        </a:lnTo>
                        <a:lnTo>
                          <a:pt x="542" y="304"/>
                        </a:lnTo>
                        <a:lnTo>
                          <a:pt x="458" y="415"/>
                        </a:lnTo>
                        <a:lnTo>
                          <a:pt x="422" y="508"/>
                        </a:lnTo>
                        <a:lnTo>
                          <a:pt x="399" y="615"/>
                        </a:lnTo>
                        <a:lnTo>
                          <a:pt x="422" y="719"/>
                        </a:lnTo>
                        <a:lnTo>
                          <a:pt x="445" y="820"/>
                        </a:lnTo>
                        <a:lnTo>
                          <a:pt x="445" y="935"/>
                        </a:lnTo>
                        <a:lnTo>
                          <a:pt x="411" y="1005"/>
                        </a:lnTo>
                        <a:lnTo>
                          <a:pt x="334" y="1043"/>
                        </a:lnTo>
                        <a:lnTo>
                          <a:pt x="242" y="1085"/>
                        </a:lnTo>
                        <a:lnTo>
                          <a:pt x="157" y="1085"/>
                        </a:lnTo>
                        <a:lnTo>
                          <a:pt x="100" y="1054"/>
                        </a:lnTo>
                        <a:lnTo>
                          <a:pt x="23" y="927"/>
                        </a:lnTo>
                        <a:lnTo>
                          <a:pt x="0" y="797"/>
                        </a:lnTo>
                        <a:lnTo>
                          <a:pt x="8" y="628"/>
                        </a:lnTo>
                        <a:lnTo>
                          <a:pt x="65" y="415"/>
                        </a:lnTo>
                        <a:lnTo>
                          <a:pt x="123" y="277"/>
                        </a:lnTo>
                        <a:lnTo>
                          <a:pt x="208" y="16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 rot="21255000">
                    <a:off x="8335080" y="5308200"/>
                    <a:ext cx="14076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82" h="808">
                        <a:moveTo>
                          <a:pt x="0" y="76"/>
                        </a:moveTo>
                        <a:lnTo>
                          <a:pt x="66" y="0"/>
                        </a:lnTo>
                        <a:lnTo>
                          <a:pt x="163" y="0"/>
                        </a:lnTo>
                        <a:lnTo>
                          <a:pt x="343" y="19"/>
                        </a:lnTo>
                        <a:lnTo>
                          <a:pt x="555" y="30"/>
                        </a:lnTo>
                        <a:lnTo>
                          <a:pt x="636" y="65"/>
                        </a:lnTo>
                        <a:lnTo>
                          <a:pt x="670" y="110"/>
                        </a:lnTo>
                        <a:lnTo>
                          <a:pt x="678" y="180"/>
                        </a:lnTo>
                        <a:lnTo>
                          <a:pt x="654" y="253"/>
                        </a:lnTo>
                        <a:lnTo>
                          <a:pt x="589" y="365"/>
                        </a:lnTo>
                        <a:lnTo>
                          <a:pt x="504" y="457"/>
                        </a:lnTo>
                        <a:lnTo>
                          <a:pt x="439" y="541"/>
                        </a:lnTo>
                        <a:lnTo>
                          <a:pt x="412" y="607"/>
                        </a:lnTo>
                        <a:lnTo>
                          <a:pt x="393" y="653"/>
                        </a:lnTo>
                        <a:lnTo>
                          <a:pt x="400" y="689"/>
                        </a:lnTo>
                        <a:lnTo>
                          <a:pt x="405" y="711"/>
                        </a:lnTo>
                        <a:lnTo>
                          <a:pt x="482" y="711"/>
                        </a:lnTo>
                        <a:lnTo>
                          <a:pt x="601" y="692"/>
                        </a:lnTo>
                        <a:lnTo>
                          <a:pt x="678" y="692"/>
                        </a:lnTo>
                        <a:lnTo>
                          <a:pt x="758" y="723"/>
                        </a:lnTo>
                        <a:lnTo>
                          <a:pt x="782" y="761"/>
                        </a:lnTo>
                        <a:lnTo>
                          <a:pt x="758" y="796"/>
                        </a:lnTo>
                        <a:lnTo>
                          <a:pt x="724" y="808"/>
                        </a:lnTo>
                        <a:lnTo>
                          <a:pt x="670" y="792"/>
                        </a:lnTo>
                        <a:lnTo>
                          <a:pt x="597" y="749"/>
                        </a:lnTo>
                        <a:lnTo>
                          <a:pt x="520" y="757"/>
                        </a:lnTo>
                        <a:lnTo>
                          <a:pt x="393" y="780"/>
                        </a:lnTo>
                        <a:lnTo>
                          <a:pt x="355" y="773"/>
                        </a:lnTo>
                        <a:lnTo>
                          <a:pt x="335" y="746"/>
                        </a:lnTo>
                        <a:lnTo>
                          <a:pt x="335" y="681"/>
                        </a:lnTo>
                        <a:lnTo>
                          <a:pt x="335" y="588"/>
                        </a:lnTo>
                        <a:lnTo>
                          <a:pt x="389" y="518"/>
                        </a:lnTo>
                        <a:lnTo>
                          <a:pt x="470" y="414"/>
                        </a:lnTo>
                        <a:lnTo>
                          <a:pt x="540" y="323"/>
                        </a:lnTo>
                        <a:lnTo>
                          <a:pt x="586" y="253"/>
                        </a:lnTo>
                        <a:lnTo>
                          <a:pt x="609" y="192"/>
                        </a:lnTo>
                        <a:lnTo>
                          <a:pt x="597" y="157"/>
                        </a:lnTo>
                        <a:lnTo>
                          <a:pt x="566" y="115"/>
                        </a:lnTo>
                        <a:lnTo>
                          <a:pt x="520" y="103"/>
                        </a:lnTo>
                        <a:lnTo>
                          <a:pt x="470" y="103"/>
                        </a:lnTo>
                        <a:lnTo>
                          <a:pt x="358" y="103"/>
                        </a:lnTo>
                        <a:lnTo>
                          <a:pt x="193" y="134"/>
                        </a:lnTo>
                        <a:lnTo>
                          <a:pt x="70" y="146"/>
                        </a:lnTo>
                        <a:lnTo>
                          <a:pt x="20" y="134"/>
                        </a:lnTo>
                        <a:lnTo>
                          <a:pt x="0" y="115"/>
                        </a:lnTo>
                        <a:lnTo>
                          <a:pt x="0" y="76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 rot="19838400">
                    <a:off x="8140680" y="5336280"/>
                    <a:ext cx="20088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992" h="770">
                        <a:moveTo>
                          <a:pt x="808" y="320"/>
                        </a:moveTo>
                        <a:lnTo>
                          <a:pt x="823" y="219"/>
                        </a:lnTo>
                        <a:lnTo>
                          <a:pt x="881" y="181"/>
                        </a:lnTo>
                        <a:lnTo>
                          <a:pt x="950" y="174"/>
                        </a:lnTo>
                        <a:lnTo>
                          <a:pt x="992" y="219"/>
                        </a:lnTo>
                        <a:lnTo>
                          <a:pt x="973" y="308"/>
                        </a:lnTo>
                        <a:lnTo>
                          <a:pt x="935" y="427"/>
                        </a:lnTo>
                        <a:lnTo>
                          <a:pt x="857" y="562"/>
                        </a:lnTo>
                        <a:lnTo>
                          <a:pt x="761" y="677"/>
                        </a:lnTo>
                        <a:lnTo>
                          <a:pt x="681" y="739"/>
                        </a:lnTo>
                        <a:lnTo>
                          <a:pt x="592" y="770"/>
                        </a:lnTo>
                        <a:lnTo>
                          <a:pt x="507" y="759"/>
                        </a:lnTo>
                        <a:lnTo>
                          <a:pt x="442" y="723"/>
                        </a:lnTo>
                        <a:lnTo>
                          <a:pt x="419" y="666"/>
                        </a:lnTo>
                        <a:lnTo>
                          <a:pt x="392" y="566"/>
                        </a:lnTo>
                        <a:lnTo>
                          <a:pt x="361" y="382"/>
                        </a:lnTo>
                        <a:lnTo>
                          <a:pt x="338" y="254"/>
                        </a:lnTo>
                        <a:lnTo>
                          <a:pt x="338" y="104"/>
                        </a:lnTo>
                        <a:lnTo>
                          <a:pt x="323" y="78"/>
                        </a:lnTo>
                        <a:lnTo>
                          <a:pt x="277" y="70"/>
                        </a:lnTo>
                        <a:lnTo>
                          <a:pt x="223" y="112"/>
                        </a:lnTo>
                        <a:lnTo>
                          <a:pt x="173" y="181"/>
                        </a:lnTo>
                        <a:lnTo>
                          <a:pt x="115" y="219"/>
                        </a:lnTo>
                        <a:lnTo>
                          <a:pt x="27" y="219"/>
                        </a:lnTo>
                        <a:lnTo>
                          <a:pt x="0" y="196"/>
                        </a:lnTo>
                        <a:lnTo>
                          <a:pt x="0" y="158"/>
                        </a:lnTo>
                        <a:lnTo>
                          <a:pt x="39" y="123"/>
                        </a:lnTo>
                        <a:lnTo>
                          <a:pt x="81" y="135"/>
                        </a:lnTo>
                        <a:lnTo>
                          <a:pt x="119" y="127"/>
                        </a:lnTo>
                        <a:lnTo>
                          <a:pt x="189" y="78"/>
                        </a:lnTo>
                        <a:lnTo>
                          <a:pt x="257" y="23"/>
                        </a:lnTo>
                        <a:lnTo>
                          <a:pt x="323" y="8"/>
                        </a:lnTo>
                        <a:lnTo>
                          <a:pt x="415" y="0"/>
                        </a:lnTo>
                        <a:lnTo>
                          <a:pt x="419" y="42"/>
                        </a:lnTo>
                        <a:lnTo>
                          <a:pt x="397" y="89"/>
                        </a:lnTo>
                        <a:lnTo>
                          <a:pt x="392" y="208"/>
                        </a:lnTo>
                        <a:lnTo>
                          <a:pt x="419" y="366"/>
                        </a:lnTo>
                        <a:lnTo>
                          <a:pt x="462" y="520"/>
                        </a:lnTo>
                        <a:lnTo>
                          <a:pt x="499" y="612"/>
                        </a:lnTo>
                        <a:lnTo>
                          <a:pt x="558" y="655"/>
                        </a:lnTo>
                        <a:lnTo>
                          <a:pt x="615" y="655"/>
                        </a:lnTo>
                        <a:lnTo>
                          <a:pt x="673" y="612"/>
                        </a:lnTo>
                        <a:lnTo>
                          <a:pt x="750" y="515"/>
                        </a:lnTo>
                        <a:lnTo>
                          <a:pt x="800" y="377"/>
                        </a:lnTo>
                        <a:lnTo>
                          <a:pt x="808" y="32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1" name=""/>
                  <p:cNvSpPr/>
                  <p:nvPr/>
                </p:nvSpPr>
                <p:spPr>
                  <a:xfrm rot="21255000">
                    <a:off x="8236800" y="5094360"/>
                    <a:ext cx="82080" cy="145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9" h="1216">
                        <a:moveTo>
                          <a:pt x="445" y="923"/>
                        </a:moveTo>
                        <a:lnTo>
                          <a:pt x="560" y="1039"/>
                        </a:lnTo>
                        <a:lnTo>
                          <a:pt x="606" y="1039"/>
                        </a:lnTo>
                        <a:lnTo>
                          <a:pt x="684" y="1086"/>
                        </a:lnTo>
                        <a:lnTo>
                          <a:pt x="699" y="1139"/>
                        </a:lnTo>
                        <a:lnTo>
                          <a:pt x="676" y="1208"/>
                        </a:lnTo>
                        <a:lnTo>
                          <a:pt x="614" y="1216"/>
                        </a:lnTo>
                        <a:lnTo>
                          <a:pt x="537" y="1162"/>
                        </a:lnTo>
                        <a:lnTo>
                          <a:pt x="383" y="1016"/>
                        </a:lnTo>
                        <a:lnTo>
                          <a:pt x="284" y="878"/>
                        </a:lnTo>
                        <a:lnTo>
                          <a:pt x="237" y="769"/>
                        </a:lnTo>
                        <a:lnTo>
                          <a:pt x="206" y="585"/>
                        </a:lnTo>
                        <a:lnTo>
                          <a:pt x="206" y="346"/>
                        </a:lnTo>
                        <a:lnTo>
                          <a:pt x="198" y="285"/>
                        </a:lnTo>
                        <a:lnTo>
                          <a:pt x="153" y="239"/>
                        </a:lnTo>
                        <a:lnTo>
                          <a:pt x="22" y="247"/>
                        </a:lnTo>
                        <a:lnTo>
                          <a:pt x="0" y="223"/>
                        </a:lnTo>
                        <a:lnTo>
                          <a:pt x="29" y="208"/>
                        </a:lnTo>
                        <a:lnTo>
                          <a:pt x="122" y="200"/>
                        </a:lnTo>
                        <a:lnTo>
                          <a:pt x="138" y="185"/>
                        </a:lnTo>
                        <a:lnTo>
                          <a:pt x="6" y="107"/>
                        </a:lnTo>
                        <a:lnTo>
                          <a:pt x="6" y="77"/>
                        </a:lnTo>
                        <a:lnTo>
                          <a:pt x="29" y="70"/>
                        </a:lnTo>
                        <a:lnTo>
                          <a:pt x="138" y="130"/>
                        </a:lnTo>
                        <a:lnTo>
                          <a:pt x="161" y="123"/>
                        </a:lnTo>
                        <a:lnTo>
                          <a:pt x="138" y="8"/>
                        </a:lnTo>
                        <a:lnTo>
                          <a:pt x="153" y="0"/>
                        </a:lnTo>
                        <a:lnTo>
                          <a:pt x="169" y="8"/>
                        </a:lnTo>
                        <a:lnTo>
                          <a:pt x="198" y="123"/>
                        </a:lnTo>
                        <a:lnTo>
                          <a:pt x="222" y="130"/>
                        </a:lnTo>
                        <a:lnTo>
                          <a:pt x="284" y="8"/>
                        </a:lnTo>
                        <a:lnTo>
                          <a:pt x="299" y="8"/>
                        </a:lnTo>
                        <a:lnTo>
                          <a:pt x="299" y="46"/>
                        </a:lnTo>
                        <a:lnTo>
                          <a:pt x="260" y="146"/>
                        </a:lnTo>
                        <a:lnTo>
                          <a:pt x="260" y="200"/>
                        </a:lnTo>
                        <a:lnTo>
                          <a:pt x="276" y="270"/>
                        </a:lnTo>
                        <a:lnTo>
                          <a:pt x="268" y="361"/>
                        </a:lnTo>
                        <a:lnTo>
                          <a:pt x="276" y="531"/>
                        </a:lnTo>
                        <a:lnTo>
                          <a:pt x="291" y="639"/>
                        </a:lnTo>
                        <a:lnTo>
                          <a:pt x="330" y="762"/>
                        </a:lnTo>
                        <a:lnTo>
                          <a:pt x="383" y="855"/>
                        </a:lnTo>
                        <a:lnTo>
                          <a:pt x="445" y="92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 rot="21255000">
                    <a:off x="8334720" y="5094360"/>
                    <a:ext cx="10728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15" h="1139">
                        <a:moveTo>
                          <a:pt x="15" y="1008"/>
                        </a:moveTo>
                        <a:lnTo>
                          <a:pt x="0" y="1061"/>
                        </a:lnTo>
                        <a:lnTo>
                          <a:pt x="15" y="1139"/>
                        </a:lnTo>
                        <a:lnTo>
                          <a:pt x="70" y="1139"/>
                        </a:lnTo>
                        <a:lnTo>
                          <a:pt x="231" y="1108"/>
                        </a:lnTo>
                        <a:lnTo>
                          <a:pt x="408" y="1046"/>
                        </a:lnTo>
                        <a:lnTo>
                          <a:pt x="554" y="946"/>
                        </a:lnTo>
                        <a:lnTo>
                          <a:pt x="639" y="816"/>
                        </a:lnTo>
                        <a:lnTo>
                          <a:pt x="715" y="593"/>
                        </a:lnTo>
                        <a:lnTo>
                          <a:pt x="738" y="385"/>
                        </a:lnTo>
                        <a:lnTo>
                          <a:pt x="738" y="285"/>
                        </a:lnTo>
                        <a:lnTo>
                          <a:pt x="777" y="224"/>
                        </a:lnTo>
                        <a:lnTo>
                          <a:pt x="845" y="200"/>
                        </a:lnTo>
                        <a:lnTo>
                          <a:pt x="907" y="200"/>
                        </a:lnTo>
                        <a:lnTo>
                          <a:pt x="915" y="169"/>
                        </a:lnTo>
                        <a:lnTo>
                          <a:pt x="823" y="177"/>
                        </a:lnTo>
                        <a:lnTo>
                          <a:pt x="808" y="154"/>
                        </a:lnTo>
                        <a:lnTo>
                          <a:pt x="884" y="70"/>
                        </a:lnTo>
                        <a:lnTo>
                          <a:pt x="868" y="47"/>
                        </a:lnTo>
                        <a:lnTo>
                          <a:pt x="853" y="62"/>
                        </a:lnTo>
                        <a:lnTo>
                          <a:pt x="792" y="123"/>
                        </a:lnTo>
                        <a:lnTo>
                          <a:pt x="777" y="123"/>
                        </a:lnTo>
                        <a:lnTo>
                          <a:pt x="777" y="16"/>
                        </a:lnTo>
                        <a:lnTo>
                          <a:pt x="761" y="0"/>
                        </a:lnTo>
                        <a:lnTo>
                          <a:pt x="738" y="8"/>
                        </a:lnTo>
                        <a:lnTo>
                          <a:pt x="746" y="123"/>
                        </a:lnTo>
                        <a:lnTo>
                          <a:pt x="730" y="131"/>
                        </a:lnTo>
                        <a:lnTo>
                          <a:pt x="668" y="70"/>
                        </a:lnTo>
                        <a:lnTo>
                          <a:pt x="623" y="62"/>
                        </a:lnTo>
                        <a:lnTo>
                          <a:pt x="631" y="93"/>
                        </a:lnTo>
                        <a:lnTo>
                          <a:pt x="699" y="162"/>
                        </a:lnTo>
                        <a:lnTo>
                          <a:pt x="699" y="200"/>
                        </a:lnTo>
                        <a:lnTo>
                          <a:pt x="676" y="278"/>
                        </a:lnTo>
                        <a:lnTo>
                          <a:pt x="676" y="346"/>
                        </a:lnTo>
                        <a:lnTo>
                          <a:pt x="676" y="462"/>
                        </a:lnTo>
                        <a:lnTo>
                          <a:pt x="645" y="608"/>
                        </a:lnTo>
                        <a:lnTo>
                          <a:pt x="615" y="700"/>
                        </a:lnTo>
                        <a:lnTo>
                          <a:pt x="561" y="816"/>
                        </a:lnTo>
                        <a:lnTo>
                          <a:pt x="499" y="908"/>
                        </a:lnTo>
                        <a:lnTo>
                          <a:pt x="454" y="954"/>
                        </a:lnTo>
                        <a:lnTo>
                          <a:pt x="330" y="993"/>
                        </a:lnTo>
                        <a:lnTo>
                          <a:pt x="215" y="1008"/>
                        </a:lnTo>
                        <a:lnTo>
                          <a:pt x="99" y="1024"/>
                        </a:lnTo>
                        <a:lnTo>
                          <a:pt x="15" y="100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63" name=""/>
              <p:cNvSpPr/>
              <p:nvPr/>
            </p:nvSpPr>
            <p:spPr>
              <a:xfrm>
                <a:off x="7925040" y="4953960"/>
                <a:ext cx="723600" cy="723600"/>
              </a:xfrm>
              <a:prstGeom prst="ellipse">
                <a:avLst/>
              </a:prstGeom>
              <a:noFill/>
              <a:ln w="63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4" name=""/>
            <p:cNvGrpSpPr/>
            <p:nvPr/>
          </p:nvGrpSpPr>
          <p:grpSpPr>
            <a:xfrm>
              <a:off x="7963200" y="5029560"/>
              <a:ext cx="342720" cy="190440"/>
              <a:chOff x="7963200" y="5029560"/>
              <a:chExt cx="342720" cy="190440"/>
            </a:xfrm>
          </p:grpSpPr>
          <p:grpSp>
            <p:nvGrpSpPr>
              <p:cNvPr id="1365" name=""/>
              <p:cNvGrpSpPr/>
              <p:nvPr/>
            </p:nvGrpSpPr>
            <p:grpSpPr>
              <a:xfrm>
                <a:off x="8024400" y="5029920"/>
                <a:ext cx="203040" cy="166680"/>
                <a:chOff x="8024400" y="5029920"/>
                <a:chExt cx="203040" cy="166680"/>
              </a:xfrm>
            </p:grpSpPr>
            <p:sp>
              <p:nvSpPr>
                <p:cNvPr id="1366" name=""/>
                <p:cNvSpPr/>
                <p:nvPr/>
              </p:nvSpPr>
              <p:spPr>
                <a:xfrm>
                  <a:off x="8024400" y="5029920"/>
                  <a:ext cx="203040" cy="142920"/>
                </a:xfrm>
                <a:prstGeom prst="horizontalScroll">
                  <a:avLst>
                    <a:gd name="adj" fmla="val 12500"/>
                  </a:avLst>
                </a:prstGeom>
                <a:solidFill>
                  <a:srgbClr val="ffffff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baseline="-8000">
                      <a:solidFill>
                        <a:srgbClr val="000000"/>
                      </a:solidFill>
                      <a:latin typeface="Times New Roman"/>
                    </a:rPr>
                    <a:t>Exit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8125920" y="5160960"/>
                  <a:ext cx="0" cy="356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8" name=""/>
              <p:cNvSpPr/>
              <p:nvPr/>
            </p:nvSpPr>
            <p:spPr>
              <a:xfrm flipH="1" flipV="1">
                <a:off x="7963200" y="5029560"/>
                <a:ext cx="342720" cy="190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V="1">
                <a:off x="7963200" y="5029560"/>
                <a:ext cx="342720" cy="190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70" name=""/>
            <p:cNvGrpSpPr/>
            <p:nvPr/>
          </p:nvGrpSpPr>
          <p:grpSpPr>
            <a:xfrm>
              <a:off x="4916160" y="5943960"/>
              <a:ext cx="719640" cy="719640"/>
              <a:chOff x="4916160" y="5943960"/>
              <a:chExt cx="719640" cy="719640"/>
            </a:xfrm>
          </p:grpSpPr>
          <p:sp>
            <p:nvSpPr>
              <p:cNvPr id="1371" name=""/>
              <p:cNvSpPr/>
              <p:nvPr/>
            </p:nvSpPr>
            <p:spPr>
              <a:xfrm>
                <a:off x="5180400" y="6351840"/>
                <a:ext cx="178200" cy="49680"/>
              </a:xfrm>
              <a:custGeom>
                <a:avLst/>
                <a:gdLst/>
                <a:ahLst/>
                <a:rect l="l" t="t" r="r" b="b"/>
                <a:pathLst>
                  <a:path w="672" h="200">
                    <a:moveTo>
                      <a:pt x="0" y="192"/>
                    </a:moveTo>
                    <a:cubicBezTo>
                      <a:pt x="184" y="96"/>
                      <a:pt x="368" y="0"/>
                      <a:pt x="432" y="0"/>
                    </a:cubicBezTo>
                    <a:cubicBezTo>
                      <a:pt x="496" y="0"/>
                      <a:pt x="344" y="184"/>
                      <a:pt x="384" y="192"/>
                    </a:cubicBezTo>
                    <a:cubicBezTo>
                      <a:pt x="424" y="200"/>
                      <a:pt x="548" y="124"/>
                      <a:pt x="672" y="48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72" name=""/>
              <p:cNvGrpSpPr/>
              <p:nvPr/>
            </p:nvGrpSpPr>
            <p:grpSpPr>
              <a:xfrm>
                <a:off x="5193000" y="6161040"/>
                <a:ext cx="197280" cy="226080"/>
                <a:chOff x="5193000" y="6161040"/>
                <a:chExt cx="197280" cy="226080"/>
              </a:xfrm>
            </p:grpSpPr>
            <p:sp>
              <p:nvSpPr>
                <p:cNvPr id="1373" name=""/>
                <p:cNvSpPr/>
                <p:nvPr/>
              </p:nvSpPr>
              <p:spPr>
                <a:xfrm>
                  <a:off x="5288760" y="6193440"/>
                  <a:ext cx="52920" cy="50040"/>
                </a:xfrm>
                <a:custGeom>
                  <a:avLst/>
                  <a:gdLst/>
                  <a:ahLst/>
                  <a:rect l="l" t="t" r="r" b="b"/>
                  <a:pathLst>
                    <a:path w="603" h="570">
                      <a:moveTo>
                        <a:pt x="390" y="270"/>
                      </a:moveTo>
                      <a:lnTo>
                        <a:pt x="374" y="166"/>
                      </a:lnTo>
                      <a:lnTo>
                        <a:pt x="343" y="72"/>
                      </a:lnTo>
                      <a:lnTo>
                        <a:pt x="286" y="22"/>
                      </a:lnTo>
                      <a:lnTo>
                        <a:pt x="186" y="0"/>
                      </a:lnTo>
                      <a:lnTo>
                        <a:pt x="100" y="22"/>
                      </a:lnTo>
                      <a:lnTo>
                        <a:pt x="19" y="115"/>
                      </a:lnTo>
                      <a:lnTo>
                        <a:pt x="0" y="227"/>
                      </a:lnTo>
                      <a:lnTo>
                        <a:pt x="19" y="346"/>
                      </a:lnTo>
                      <a:lnTo>
                        <a:pt x="50" y="419"/>
                      </a:lnTo>
                      <a:lnTo>
                        <a:pt x="89" y="494"/>
                      </a:lnTo>
                      <a:lnTo>
                        <a:pt x="131" y="545"/>
                      </a:lnTo>
                      <a:lnTo>
                        <a:pt x="178" y="570"/>
                      </a:lnTo>
                      <a:lnTo>
                        <a:pt x="243" y="548"/>
                      </a:lnTo>
                      <a:lnTo>
                        <a:pt x="309" y="497"/>
                      </a:lnTo>
                      <a:lnTo>
                        <a:pt x="351" y="426"/>
                      </a:lnTo>
                      <a:lnTo>
                        <a:pt x="390" y="365"/>
                      </a:lnTo>
                      <a:lnTo>
                        <a:pt x="402" y="328"/>
                      </a:lnTo>
                      <a:lnTo>
                        <a:pt x="567" y="275"/>
                      </a:lnTo>
                      <a:lnTo>
                        <a:pt x="603" y="253"/>
                      </a:lnTo>
                      <a:lnTo>
                        <a:pt x="583" y="220"/>
                      </a:lnTo>
                      <a:lnTo>
                        <a:pt x="390" y="27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5262480" y="6247440"/>
                  <a:ext cx="54720" cy="89640"/>
                </a:xfrm>
                <a:custGeom>
                  <a:avLst/>
                  <a:gdLst/>
                  <a:ahLst/>
                  <a:rect l="l" t="t" r="r" b="b"/>
                  <a:pathLst>
                    <a:path w="622" h="1018">
                      <a:moveTo>
                        <a:pt x="209" y="152"/>
                      </a:moveTo>
                      <a:lnTo>
                        <a:pt x="285" y="76"/>
                      </a:lnTo>
                      <a:lnTo>
                        <a:pt x="413" y="4"/>
                      </a:lnTo>
                      <a:lnTo>
                        <a:pt x="471" y="0"/>
                      </a:lnTo>
                      <a:lnTo>
                        <a:pt x="575" y="33"/>
                      </a:lnTo>
                      <a:lnTo>
                        <a:pt x="622" y="80"/>
                      </a:lnTo>
                      <a:lnTo>
                        <a:pt x="622" y="152"/>
                      </a:lnTo>
                      <a:lnTo>
                        <a:pt x="544" y="285"/>
                      </a:lnTo>
                      <a:lnTo>
                        <a:pt x="460" y="390"/>
                      </a:lnTo>
                      <a:lnTo>
                        <a:pt x="424" y="477"/>
                      </a:lnTo>
                      <a:lnTo>
                        <a:pt x="401" y="578"/>
                      </a:lnTo>
                      <a:lnTo>
                        <a:pt x="424" y="675"/>
                      </a:lnTo>
                      <a:lnTo>
                        <a:pt x="447" y="769"/>
                      </a:lnTo>
                      <a:lnTo>
                        <a:pt x="447" y="877"/>
                      </a:lnTo>
                      <a:lnTo>
                        <a:pt x="413" y="942"/>
                      </a:lnTo>
                      <a:lnTo>
                        <a:pt x="335" y="979"/>
                      </a:lnTo>
                      <a:lnTo>
                        <a:pt x="243" y="1018"/>
                      </a:lnTo>
                      <a:lnTo>
                        <a:pt x="158" y="1018"/>
                      </a:lnTo>
                      <a:lnTo>
                        <a:pt x="100" y="989"/>
                      </a:lnTo>
                      <a:lnTo>
                        <a:pt x="24" y="870"/>
                      </a:lnTo>
                      <a:lnTo>
                        <a:pt x="0" y="748"/>
                      </a:lnTo>
                      <a:lnTo>
                        <a:pt x="8" y="589"/>
                      </a:lnTo>
                      <a:lnTo>
                        <a:pt x="66" y="390"/>
                      </a:lnTo>
                      <a:lnTo>
                        <a:pt x="123" y="261"/>
                      </a:lnTo>
                      <a:lnTo>
                        <a:pt x="209" y="15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5266440" y="6320520"/>
                  <a:ext cx="68760" cy="66600"/>
                </a:xfrm>
                <a:custGeom>
                  <a:avLst/>
                  <a:gdLst/>
                  <a:ahLst/>
                  <a:rect l="l" t="t" r="r" b="b"/>
                  <a:pathLst>
                    <a:path w="784" h="758">
                      <a:moveTo>
                        <a:pt x="0" y="72"/>
                      </a:moveTo>
                      <a:lnTo>
                        <a:pt x="65" y="0"/>
                      </a:lnTo>
                      <a:lnTo>
                        <a:pt x="163" y="0"/>
                      </a:lnTo>
                      <a:lnTo>
                        <a:pt x="344" y="18"/>
                      </a:lnTo>
                      <a:lnTo>
                        <a:pt x="557" y="28"/>
                      </a:lnTo>
                      <a:lnTo>
                        <a:pt x="638" y="62"/>
                      </a:lnTo>
                      <a:lnTo>
                        <a:pt x="672" y="104"/>
                      </a:lnTo>
                      <a:lnTo>
                        <a:pt x="680" y="169"/>
                      </a:lnTo>
                      <a:lnTo>
                        <a:pt x="656" y="238"/>
                      </a:lnTo>
                      <a:lnTo>
                        <a:pt x="591" y="342"/>
                      </a:lnTo>
                      <a:lnTo>
                        <a:pt x="506" y="429"/>
                      </a:lnTo>
                      <a:lnTo>
                        <a:pt x="440" y="508"/>
                      </a:lnTo>
                      <a:lnTo>
                        <a:pt x="414" y="569"/>
                      </a:lnTo>
                      <a:lnTo>
                        <a:pt x="394" y="613"/>
                      </a:lnTo>
                      <a:lnTo>
                        <a:pt x="401" y="646"/>
                      </a:lnTo>
                      <a:lnTo>
                        <a:pt x="406" y="667"/>
                      </a:lnTo>
                      <a:lnTo>
                        <a:pt x="483" y="667"/>
                      </a:lnTo>
                      <a:lnTo>
                        <a:pt x="603" y="649"/>
                      </a:lnTo>
                      <a:lnTo>
                        <a:pt x="680" y="649"/>
                      </a:lnTo>
                      <a:lnTo>
                        <a:pt x="761" y="678"/>
                      </a:lnTo>
                      <a:lnTo>
                        <a:pt x="784" y="714"/>
                      </a:lnTo>
                      <a:lnTo>
                        <a:pt x="761" y="747"/>
                      </a:lnTo>
                      <a:lnTo>
                        <a:pt x="726" y="758"/>
                      </a:lnTo>
                      <a:lnTo>
                        <a:pt x="672" y="743"/>
                      </a:lnTo>
                      <a:lnTo>
                        <a:pt x="599" y="703"/>
                      </a:lnTo>
                      <a:lnTo>
                        <a:pt x="521" y="710"/>
                      </a:lnTo>
                      <a:lnTo>
                        <a:pt x="394" y="732"/>
                      </a:lnTo>
                      <a:lnTo>
                        <a:pt x="356" y="725"/>
                      </a:lnTo>
                      <a:lnTo>
                        <a:pt x="336" y="700"/>
                      </a:lnTo>
                      <a:lnTo>
                        <a:pt x="336" y="639"/>
                      </a:lnTo>
                      <a:lnTo>
                        <a:pt x="336" y="552"/>
                      </a:lnTo>
                      <a:lnTo>
                        <a:pt x="390" y="486"/>
                      </a:lnTo>
                      <a:lnTo>
                        <a:pt x="471" y="389"/>
                      </a:lnTo>
                      <a:lnTo>
                        <a:pt x="541" y="303"/>
                      </a:lnTo>
                      <a:lnTo>
                        <a:pt x="588" y="238"/>
                      </a:lnTo>
                      <a:lnTo>
                        <a:pt x="611" y="181"/>
                      </a:lnTo>
                      <a:lnTo>
                        <a:pt x="599" y="148"/>
                      </a:lnTo>
                      <a:lnTo>
                        <a:pt x="568" y="108"/>
                      </a:lnTo>
                      <a:lnTo>
                        <a:pt x="521" y="97"/>
                      </a:lnTo>
                      <a:lnTo>
                        <a:pt x="471" y="97"/>
                      </a:lnTo>
                      <a:lnTo>
                        <a:pt x="359" y="97"/>
                      </a:lnTo>
                      <a:lnTo>
                        <a:pt x="193" y="126"/>
                      </a:lnTo>
                      <a:lnTo>
                        <a:pt x="70" y="137"/>
                      </a:lnTo>
                      <a:lnTo>
                        <a:pt x="20" y="126"/>
                      </a:lnTo>
                      <a:lnTo>
                        <a:pt x="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5193000" y="6304680"/>
                  <a:ext cx="87840" cy="64440"/>
                </a:xfrm>
                <a:custGeom>
                  <a:avLst/>
                  <a:gdLst/>
                  <a:ahLst/>
                  <a:rect l="l" t="t" r="r" b="b"/>
                  <a:pathLst>
                    <a:path w="996" h="722">
                      <a:moveTo>
                        <a:pt x="811" y="300"/>
                      </a:moveTo>
                      <a:lnTo>
                        <a:pt x="827" y="206"/>
                      </a:lnTo>
                      <a:lnTo>
                        <a:pt x="884" y="170"/>
                      </a:lnTo>
                      <a:lnTo>
                        <a:pt x="954" y="163"/>
                      </a:lnTo>
                      <a:lnTo>
                        <a:pt x="996" y="206"/>
                      </a:lnTo>
                      <a:lnTo>
                        <a:pt x="977" y="288"/>
                      </a:lnTo>
                      <a:lnTo>
                        <a:pt x="939" y="400"/>
                      </a:lnTo>
                      <a:lnTo>
                        <a:pt x="861" y="527"/>
                      </a:lnTo>
                      <a:lnTo>
                        <a:pt x="764" y="635"/>
                      </a:lnTo>
                      <a:lnTo>
                        <a:pt x="683" y="693"/>
                      </a:lnTo>
                      <a:lnTo>
                        <a:pt x="595" y="722"/>
                      </a:lnTo>
                      <a:lnTo>
                        <a:pt x="509" y="711"/>
                      </a:lnTo>
                      <a:lnTo>
                        <a:pt x="444" y="678"/>
                      </a:lnTo>
                      <a:lnTo>
                        <a:pt x="420" y="624"/>
                      </a:lnTo>
                      <a:lnTo>
                        <a:pt x="394" y="531"/>
                      </a:lnTo>
                      <a:lnTo>
                        <a:pt x="363" y="358"/>
                      </a:lnTo>
                      <a:lnTo>
                        <a:pt x="339" y="239"/>
                      </a:lnTo>
                      <a:lnTo>
                        <a:pt x="339" y="98"/>
                      </a:lnTo>
                      <a:lnTo>
                        <a:pt x="324" y="73"/>
                      </a:lnTo>
                      <a:lnTo>
                        <a:pt x="278" y="66"/>
                      </a:lnTo>
                      <a:lnTo>
                        <a:pt x="224" y="105"/>
                      </a:lnTo>
                      <a:lnTo>
                        <a:pt x="174" y="170"/>
                      </a:lnTo>
                      <a:lnTo>
                        <a:pt x="115" y="206"/>
                      </a:lnTo>
                      <a:lnTo>
                        <a:pt x="27" y="206"/>
                      </a:lnTo>
                      <a:lnTo>
                        <a:pt x="0" y="184"/>
                      </a:lnTo>
                      <a:lnTo>
                        <a:pt x="0" y="149"/>
                      </a:lnTo>
                      <a:lnTo>
                        <a:pt x="39" y="115"/>
                      </a:lnTo>
                      <a:lnTo>
                        <a:pt x="81" y="127"/>
                      </a:lnTo>
                      <a:lnTo>
                        <a:pt x="120" y="119"/>
                      </a:lnTo>
                      <a:lnTo>
                        <a:pt x="190" y="73"/>
                      </a:lnTo>
                      <a:lnTo>
                        <a:pt x="258" y="22"/>
                      </a:lnTo>
                      <a:lnTo>
                        <a:pt x="324" y="8"/>
                      </a:lnTo>
                      <a:lnTo>
                        <a:pt x="417" y="0"/>
                      </a:lnTo>
                      <a:lnTo>
                        <a:pt x="420" y="40"/>
                      </a:lnTo>
                      <a:lnTo>
                        <a:pt x="398" y="83"/>
                      </a:lnTo>
                      <a:lnTo>
                        <a:pt x="394" y="195"/>
                      </a:lnTo>
                      <a:lnTo>
                        <a:pt x="420" y="343"/>
                      </a:lnTo>
                      <a:lnTo>
                        <a:pt x="464" y="487"/>
                      </a:lnTo>
                      <a:lnTo>
                        <a:pt x="501" y="573"/>
                      </a:lnTo>
                      <a:lnTo>
                        <a:pt x="560" y="614"/>
                      </a:lnTo>
                      <a:lnTo>
                        <a:pt x="618" y="614"/>
                      </a:lnTo>
                      <a:lnTo>
                        <a:pt x="676" y="573"/>
                      </a:lnTo>
                      <a:lnTo>
                        <a:pt x="753" y="483"/>
                      </a:lnTo>
                      <a:lnTo>
                        <a:pt x="803" y="354"/>
                      </a:lnTo>
                      <a:lnTo>
                        <a:pt x="811" y="3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5234040" y="6161040"/>
                  <a:ext cx="61560" cy="100800"/>
                </a:xfrm>
                <a:custGeom>
                  <a:avLst/>
                  <a:gdLst/>
                  <a:ahLst/>
                  <a:rect l="l" t="t" r="r" b="b"/>
                  <a:pathLst>
                    <a:path w="703" h="1140">
                      <a:moveTo>
                        <a:pt x="448" y="865"/>
                      </a:moveTo>
                      <a:lnTo>
                        <a:pt x="563" y="974"/>
                      </a:lnTo>
                      <a:lnTo>
                        <a:pt x="610" y="974"/>
                      </a:lnTo>
                      <a:lnTo>
                        <a:pt x="687" y="1018"/>
                      </a:lnTo>
                      <a:lnTo>
                        <a:pt x="703" y="1067"/>
                      </a:lnTo>
                      <a:lnTo>
                        <a:pt x="679" y="1133"/>
                      </a:lnTo>
                      <a:lnTo>
                        <a:pt x="617" y="1140"/>
                      </a:lnTo>
                      <a:lnTo>
                        <a:pt x="540" y="1089"/>
                      </a:lnTo>
                      <a:lnTo>
                        <a:pt x="385" y="952"/>
                      </a:lnTo>
                      <a:lnTo>
                        <a:pt x="286" y="823"/>
                      </a:lnTo>
                      <a:lnTo>
                        <a:pt x="239" y="721"/>
                      </a:lnTo>
                      <a:lnTo>
                        <a:pt x="208" y="548"/>
                      </a:lnTo>
                      <a:lnTo>
                        <a:pt x="208" y="324"/>
                      </a:lnTo>
                      <a:lnTo>
                        <a:pt x="200" y="267"/>
                      </a:lnTo>
                      <a:lnTo>
                        <a:pt x="155" y="224"/>
                      </a:lnTo>
                      <a:lnTo>
                        <a:pt x="23" y="231"/>
                      </a:lnTo>
                      <a:lnTo>
                        <a:pt x="0" y="209"/>
                      </a:lnTo>
                      <a:lnTo>
                        <a:pt x="30" y="195"/>
                      </a:lnTo>
                      <a:lnTo>
                        <a:pt x="124" y="188"/>
                      </a:lnTo>
                      <a:lnTo>
                        <a:pt x="139" y="173"/>
                      </a:lnTo>
                      <a:lnTo>
                        <a:pt x="7" y="101"/>
                      </a:lnTo>
                      <a:lnTo>
                        <a:pt x="7" y="73"/>
                      </a:lnTo>
                      <a:lnTo>
                        <a:pt x="30" y="65"/>
                      </a:lnTo>
                      <a:lnTo>
                        <a:pt x="139" y="122"/>
                      </a:lnTo>
                      <a:lnTo>
                        <a:pt x="162" y="115"/>
                      </a:lnTo>
                      <a:lnTo>
                        <a:pt x="139" y="7"/>
                      </a:lnTo>
                      <a:lnTo>
                        <a:pt x="155" y="0"/>
                      </a:lnTo>
                      <a:lnTo>
                        <a:pt x="170" y="7"/>
                      </a:lnTo>
                      <a:lnTo>
                        <a:pt x="200" y="115"/>
                      </a:lnTo>
                      <a:lnTo>
                        <a:pt x="223" y="122"/>
                      </a:lnTo>
                      <a:lnTo>
                        <a:pt x="286" y="7"/>
                      </a:lnTo>
                      <a:lnTo>
                        <a:pt x="301" y="7"/>
                      </a:lnTo>
                      <a:lnTo>
                        <a:pt x="301" y="44"/>
                      </a:lnTo>
                      <a:lnTo>
                        <a:pt x="262" y="137"/>
                      </a:lnTo>
                      <a:lnTo>
                        <a:pt x="262" y="188"/>
                      </a:lnTo>
                      <a:lnTo>
                        <a:pt x="278" y="253"/>
                      </a:lnTo>
                      <a:lnTo>
                        <a:pt x="270" y="339"/>
                      </a:lnTo>
                      <a:lnTo>
                        <a:pt x="278" y="497"/>
                      </a:lnTo>
                      <a:lnTo>
                        <a:pt x="293" y="599"/>
                      </a:lnTo>
                      <a:lnTo>
                        <a:pt x="332" y="714"/>
                      </a:lnTo>
                      <a:lnTo>
                        <a:pt x="385" y="801"/>
                      </a:lnTo>
                      <a:lnTo>
                        <a:pt x="448" y="86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5309640" y="6169680"/>
                  <a:ext cx="80640" cy="94320"/>
                </a:xfrm>
                <a:custGeom>
                  <a:avLst/>
                  <a:gdLst/>
                  <a:ahLst/>
                  <a:rect l="l" t="t" r="r" b="b"/>
                  <a:pathLst>
                    <a:path w="919" h="1067">
                      <a:moveTo>
                        <a:pt x="16" y="945"/>
                      </a:moveTo>
                      <a:lnTo>
                        <a:pt x="0" y="994"/>
                      </a:lnTo>
                      <a:lnTo>
                        <a:pt x="16" y="1067"/>
                      </a:lnTo>
                      <a:lnTo>
                        <a:pt x="70" y="1067"/>
                      </a:lnTo>
                      <a:lnTo>
                        <a:pt x="232" y="1038"/>
                      </a:lnTo>
                      <a:lnTo>
                        <a:pt x="410" y="980"/>
                      </a:lnTo>
                      <a:lnTo>
                        <a:pt x="556" y="887"/>
                      </a:lnTo>
                      <a:lnTo>
                        <a:pt x="642" y="764"/>
                      </a:lnTo>
                      <a:lnTo>
                        <a:pt x="718" y="555"/>
                      </a:lnTo>
                      <a:lnTo>
                        <a:pt x="741" y="360"/>
                      </a:lnTo>
                      <a:lnTo>
                        <a:pt x="741" y="267"/>
                      </a:lnTo>
                      <a:lnTo>
                        <a:pt x="780" y="209"/>
                      </a:lnTo>
                      <a:lnTo>
                        <a:pt x="849" y="187"/>
                      </a:lnTo>
                      <a:lnTo>
                        <a:pt x="911" y="187"/>
                      </a:lnTo>
                      <a:lnTo>
                        <a:pt x="919" y="158"/>
                      </a:lnTo>
                      <a:lnTo>
                        <a:pt x="827" y="165"/>
                      </a:lnTo>
                      <a:lnTo>
                        <a:pt x="811" y="144"/>
                      </a:lnTo>
                      <a:lnTo>
                        <a:pt x="888" y="65"/>
                      </a:lnTo>
                      <a:lnTo>
                        <a:pt x="872" y="43"/>
                      </a:lnTo>
                      <a:lnTo>
                        <a:pt x="857" y="58"/>
                      </a:lnTo>
                      <a:lnTo>
                        <a:pt x="796" y="115"/>
                      </a:lnTo>
                      <a:lnTo>
                        <a:pt x="780" y="115"/>
                      </a:lnTo>
                      <a:lnTo>
                        <a:pt x="780" y="14"/>
                      </a:lnTo>
                      <a:lnTo>
                        <a:pt x="765" y="0"/>
                      </a:lnTo>
                      <a:lnTo>
                        <a:pt x="741" y="7"/>
                      </a:lnTo>
                      <a:lnTo>
                        <a:pt x="749" y="115"/>
                      </a:lnTo>
                      <a:lnTo>
                        <a:pt x="734" y="122"/>
                      </a:lnTo>
                      <a:lnTo>
                        <a:pt x="671" y="65"/>
                      </a:lnTo>
                      <a:lnTo>
                        <a:pt x="626" y="58"/>
                      </a:lnTo>
                      <a:lnTo>
                        <a:pt x="634" y="87"/>
                      </a:lnTo>
                      <a:lnTo>
                        <a:pt x="703" y="151"/>
                      </a:lnTo>
                      <a:lnTo>
                        <a:pt x="703" y="187"/>
                      </a:lnTo>
                      <a:lnTo>
                        <a:pt x="679" y="260"/>
                      </a:lnTo>
                      <a:lnTo>
                        <a:pt x="679" y="324"/>
                      </a:lnTo>
                      <a:lnTo>
                        <a:pt x="679" y="433"/>
                      </a:lnTo>
                      <a:lnTo>
                        <a:pt x="648" y="570"/>
                      </a:lnTo>
                      <a:lnTo>
                        <a:pt x="618" y="656"/>
                      </a:lnTo>
                      <a:lnTo>
                        <a:pt x="564" y="764"/>
                      </a:lnTo>
                      <a:lnTo>
                        <a:pt x="502" y="850"/>
                      </a:lnTo>
                      <a:lnTo>
                        <a:pt x="456" y="894"/>
                      </a:lnTo>
                      <a:lnTo>
                        <a:pt x="332" y="930"/>
                      </a:lnTo>
                      <a:lnTo>
                        <a:pt x="217" y="945"/>
                      </a:lnTo>
                      <a:lnTo>
                        <a:pt x="100" y="959"/>
                      </a:lnTo>
                      <a:lnTo>
                        <a:pt x="16" y="9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9" name=""/>
              <p:cNvSpPr/>
              <p:nvPr/>
            </p:nvSpPr>
            <p:spPr>
              <a:xfrm>
                <a:off x="4977000" y="6208920"/>
                <a:ext cx="203040" cy="142560"/>
              </a:xfrm>
              <a:prstGeom prst="horizontalScroll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baseline="-8000">
                    <a:solidFill>
                      <a:srgbClr val="000000"/>
                    </a:solidFill>
                    <a:latin typeface="Times New Roman"/>
                  </a:rPr>
                  <a:t>79 km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078520" y="6339600"/>
                <a:ext cx="0" cy="35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371560" y="6208920"/>
                <a:ext cx="202680" cy="142560"/>
              </a:xfrm>
              <a:prstGeom prst="horizontalScroll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baseline="-8000">
                    <a:solidFill>
                      <a:srgbClr val="000000"/>
                    </a:solidFill>
                    <a:latin typeface="Times New Roman"/>
                  </a:rPr>
                  <a:t>75 km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473080" y="6339600"/>
                <a:ext cx="0" cy="35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916160" y="5943960"/>
                <a:ext cx="719640" cy="719640"/>
              </a:xfrm>
              <a:prstGeom prst="ellipse">
                <a:avLst/>
              </a:prstGeom>
              <a:noFill/>
              <a:ln w="63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4992480" y="5982120"/>
              <a:ext cx="342720" cy="190080"/>
              <a:chOff x="4992480" y="5982120"/>
              <a:chExt cx="342720" cy="190080"/>
            </a:xfrm>
          </p:grpSpPr>
          <p:grpSp>
            <p:nvGrpSpPr>
              <p:cNvPr id="1385" name=""/>
              <p:cNvGrpSpPr/>
              <p:nvPr/>
            </p:nvGrpSpPr>
            <p:grpSpPr>
              <a:xfrm>
                <a:off x="5053680" y="5982120"/>
                <a:ext cx="203040" cy="166320"/>
                <a:chOff x="5053680" y="5982120"/>
                <a:chExt cx="203040" cy="16632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5053680" y="5982120"/>
                  <a:ext cx="203040" cy="142560"/>
                </a:xfrm>
                <a:prstGeom prst="horizontalScroll">
                  <a:avLst>
                    <a:gd name="adj" fmla="val 12500"/>
                  </a:avLst>
                </a:prstGeom>
                <a:solidFill>
                  <a:srgbClr val="ffffff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baseline="-8000">
                      <a:solidFill>
                        <a:srgbClr val="000000"/>
                      </a:solidFill>
                      <a:latin typeface="Times New Roman"/>
                    </a:rPr>
                    <a:t>Exit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5155200" y="6112800"/>
                  <a:ext cx="0" cy="356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8" name=""/>
              <p:cNvSpPr/>
              <p:nvPr/>
            </p:nvSpPr>
            <p:spPr>
              <a:xfrm flipH="1" flipV="1">
                <a:off x="4992480" y="5982120"/>
                <a:ext cx="342720" cy="1900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V="1">
                <a:off x="4992480" y="5982120"/>
                <a:ext cx="342720" cy="1900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90" name=""/>
            <p:cNvSpPr/>
            <p:nvPr/>
          </p:nvSpPr>
          <p:spPr>
            <a:xfrm>
              <a:off x="6477840" y="4953960"/>
              <a:ext cx="609120" cy="45684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-8000">
                  <a:solidFill>
                    <a:srgbClr val="000000"/>
                  </a:solidFill>
                  <a:latin typeface="Times New Roman"/>
                </a:rPr>
                <a:t>Ex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782400" y="5372640"/>
              <a:ext cx="0" cy="1141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92" name=""/>
            <p:cNvGrpSpPr/>
            <p:nvPr/>
          </p:nvGrpSpPr>
          <p:grpSpPr>
            <a:xfrm>
              <a:off x="7657920" y="6197760"/>
              <a:ext cx="164880" cy="134640"/>
              <a:chOff x="7657920" y="6197760"/>
              <a:chExt cx="164880" cy="134640"/>
            </a:xfrm>
          </p:grpSpPr>
          <p:sp>
            <p:nvSpPr>
              <p:cNvPr id="1393" name=""/>
              <p:cNvSpPr/>
              <p:nvPr/>
            </p:nvSpPr>
            <p:spPr>
              <a:xfrm>
                <a:off x="7657920" y="6197760"/>
                <a:ext cx="164880" cy="115560"/>
              </a:xfrm>
              <a:prstGeom prst="horizontalScroll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baseline="-8000">
                    <a:solidFill>
                      <a:srgbClr val="000000"/>
                    </a:solidFill>
                    <a:latin typeface="Times New Roman"/>
                  </a:rPr>
                  <a:t>0 km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740360" y="6303600"/>
                <a:ext cx="0" cy="28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95" name=""/>
            <p:cNvSpPr/>
            <p:nvPr/>
          </p:nvSpPr>
          <p:spPr>
            <a:xfrm>
              <a:off x="7608600" y="5969160"/>
              <a:ext cx="583200" cy="583920"/>
            </a:xfrm>
            <a:prstGeom prst="ellipse">
              <a:avLst/>
            </a:prstGeom>
            <a:noFill/>
            <a:ln w="63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96" name=""/>
            <p:cNvGrpSpPr/>
            <p:nvPr/>
          </p:nvGrpSpPr>
          <p:grpSpPr>
            <a:xfrm>
              <a:off x="7976880" y="6197760"/>
              <a:ext cx="164880" cy="134640"/>
              <a:chOff x="7976880" y="6197760"/>
              <a:chExt cx="164880" cy="134640"/>
            </a:xfrm>
          </p:grpSpPr>
          <p:sp>
            <p:nvSpPr>
              <p:cNvPr id="1397" name=""/>
              <p:cNvSpPr/>
              <p:nvPr/>
            </p:nvSpPr>
            <p:spPr>
              <a:xfrm>
                <a:off x="7976880" y="6197760"/>
                <a:ext cx="164880" cy="115560"/>
              </a:xfrm>
              <a:prstGeom prst="horizontalScroll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baseline="-8000">
                    <a:solidFill>
                      <a:srgbClr val="000000"/>
                    </a:solidFill>
                    <a:latin typeface="Times New Roman"/>
                  </a:rPr>
                  <a:t>Exit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8059320" y="6303600"/>
                <a:ext cx="0" cy="28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99" name=""/>
            <p:cNvSpPr/>
            <p:nvPr/>
          </p:nvSpPr>
          <p:spPr>
            <a:xfrm>
              <a:off x="7837200" y="6235920"/>
              <a:ext cx="114120" cy="37800"/>
            </a:xfrm>
            <a:prstGeom prst="rightArrow">
              <a:avLst>
                <a:gd name="adj1" fmla="val 50000"/>
                <a:gd name="adj2" fmla="val 75476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ph 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533520" y="914400"/>
            <a:ext cx="1218960" cy="1066680"/>
            <a:chOff x="533520" y="914400"/>
            <a:chExt cx="1218960" cy="1066680"/>
          </a:xfrm>
        </p:grpSpPr>
        <p:sp>
          <p:nvSpPr>
            <p:cNvPr id="1402" name=""/>
            <p:cNvSpPr/>
            <p:nvPr/>
          </p:nvSpPr>
          <p:spPr>
            <a:xfrm>
              <a:off x="533520" y="914400"/>
              <a:ext cx="1218960" cy="91440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142640" y="1752480"/>
              <a:ext cx="0" cy="2286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4" name=""/>
          <p:cNvSpPr/>
          <p:nvPr/>
        </p:nvSpPr>
        <p:spPr>
          <a:xfrm>
            <a:off x="1905480" y="1066680"/>
            <a:ext cx="3272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# of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handle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nod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596880" y="1970640"/>
            <a:ext cx="6818040" cy="740160"/>
            <a:chOff x="596880" y="1970640"/>
            <a:chExt cx="6818040" cy="740160"/>
          </a:xfrm>
        </p:grpSpPr>
        <p:sp>
          <p:nvSpPr>
            <p:cNvPr id="1406" name=""/>
            <p:cNvSpPr/>
            <p:nvPr/>
          </p:nvSpPr>
          <p:spPr>
            <a:xfrm>
              <a:off x="1551240" y="2081160"/>
              <a:ext cx="5863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Handle some </a:t>
              </a: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foundNotHandled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node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07" name=""/>
            <p:cNvGrpSpPr/>
            <p:nvPr/>
          </p:nvGrpSpPr>
          <p:grpSpPr>
            <a:xfrm>
              <a:off x="596880" y="1970640"/>
              <a:ext cx="690840" cy="740160"/>
              <a:chOff x="596880" y="1970640"/>
              <a:chExt cx="690840" cy="740160"/>
            </a:xfrm>
          </p:grpSpPr>
          <p:sp>
            <p:nvSpPr>
              <p:cNvPr id="1408" name=""/>
              <p:cNvSpPr/>
              <p:nvPr/>
            </p:nvSpPr>
            <p:spPr>
              <a:xfrm rot="21255000">
                <a:off x="942840" y="2049120"/>
                <a:ext cx="141480" cy="11736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rot="21255000">
                <a:off x="897120" y="2193480"/>
                <a:ext cx="145800" cy="26208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rot="21255000">
                <a:off x="998280" y="2409480"/>
                <a:ext cx="280800" cy="17928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rot="19839000">
                <a:off x="609480" y="2464920"/>
                <a:ext cx="401760" cy="15732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rot="21255000">
                <a:off x="801360" y="1980720"/>
                <a:ext cx="165240" cy="29232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rot="21255000">
                <a:off x="998640" y="1980720"/>
                <a:ext cx="214200" cy="24300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4" name=""/>
          <p:cNvSpPr/>
          <p:nvPr/>
        </p:nvSpPr>
        <p:spPr>
          <a:xfrm>
            <a:off x="596160" y="2938320"/>
            <a:ext cx="129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ime =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906560" y="2943360"/>
            <a:ext cx="9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6" name=""/>
          <p:cNvGrpSpPr/>
          <p:nvPr/>
        </p:nvGrpSpPr>
        <p:grpSpPr>
          <a:xfrm>
            <a:off x="1981080" y="2862360"/>
            <a:ext cx="7095600" cy="2244600"/>
            <a:chOff x="1981080" y="2862360"/>
            <a:chExt cx="7095600" cy="2244600"/>
          </a:xfrm>
        </p:grpSpPr>
        <p:grpSp>
          <p:nvGrpSpPr>
            <p:cNvPr id="1417" name=""/>
            <p:cNvGrpSpPr/>
            <p:nvPr/>
          </p:nvGrpSpPr>
          <p:grpSpPr>
            <a:xfrm>
              <a:off x="4267080" y="3803760"/>
              <a:ext cx="1109520" cy="1303200"/>
              <a:chOff x="4267080" y="3803760"/>
              <a:chExt cx="1109520" cy="1303200"/>
            </a:xfrm>
          </p:grpSpPr>
          <p:sp>
            <p:nvSpPr>
              <p:cNvPr id="1418" name=""/>
              <p:cNvSpPr/>
              <p:nvPr/>
            </p:nvSpPr>
            <p:spPr>
              <a:xfrm>
                <a:off x="4280040" y="4200480"/>
                <a:ext cx="647640" cy="393840"/>
              </a:xfrm>
              <a:custGeom>
                <a:avLst/>
                <a:gdLst/>
                <a:ahLst/>
                <a:rect l="l" t="t" r="r" b="b"/>
                <a:pathLst>
                  <a:path w="408" h="248">
                    <a:moveTo>
                      <a:pt x="0" y="248"/>
                    </a:moveTo>
                    <a:lnTo>
                      <a:pt x="408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933800" y="4086360"/>
                <a:ext cx="15264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012280" y="3803760"/>
                <a:ext cx="285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f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4267080" y="4543560"/>
                <a:ext cx="654120" cy="50760"/>
              </a:xfrm>
              <a:custGeom>
                <a:avLst/>
                <a:gdLst/>
                <a:ahLst/>
                <a:rect l="l" t="t" r="r" b="b"/>
                <a:pathLst>
                  <a:path w="412" h="32">
                    <a:moveTo>
                      <a:pt x="0" y="32"/>
                    </a:moveTo>
                    <a:lnTo>
                      <a:pt x="412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4927680" y="442908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005440" y="42354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280040" y="4594320"/>
                <a:ext cx="635040" cy="291960"/>
              </a:xfrm>
              <a:custGeom>
                <a:avLst/>
                <a:gdLst/>
                <a:ahLst/>
                <a:rect l="l" t="t" r="r" b="b"/>
                <a:pathLst>
                  <a:path w="400" h="184">
                    <a:moveTo>
                      <a:pt x="0" y="0"/>
                    </a:moveTo>
                    <a:lnTo>
                      <a:pt x="400" y="184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921200" y="47721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4999680" y="4556160"/>
                <a:ext cx="285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j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27" name=""/>
            <p:cNvGrpSpPr/>
            <p:nvPr/>
          </p:nvGrpSpPr>
          <p:grpSpPr>
            <a:xfrm>
              <a:off x="1981080" y="2862360"/>
              <a:ext cx="7095600" cy="1007640"/>
              <a:chOff x="1981080" y="2862360"/>
              <a:chExt cx="7095600" cy="1007640"/>
            </a:xfrm>
          </p:grpSpPr>
          <p:sp>
            <p:nvSpPr>
              <p:cNvPr id="1428" name=""/>
              <p:cNvSpPr/>
              <p:nvPr/>
            </p:nvSpPr>
            <p:spPr>
              <a:xfrm>
                <a:off x="3724920" y="2862360"/>
                <a:ext cx="535176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ffffff"/>
                    </a:solidFill>
                    <a:latin typeface="Times New Roman"/>
                  </a:rPr>
                  <a:t>O(</a:t>
                </a:r>
                <a:r>
                  <a:rPr b="0" i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r>
                  <a:rPr b="0" lang="en-US" sz="3000" spc="-1" strike="noStrike">
                    <a:solidFill>
                      <a:srgbClr val="ffffff"/>
                    </a:solidFill>
                    <a:latin typeface="Times New Roman"/>
                  </a:rPr>
                  <a:t>) iterations, </a:t>
                </a:r>
                <a:br>
                  <a:rPr sz="3000"/>
                </a:br>
                <a:r>
                  <a:rPr b="0" lang="en-US" sz="3000" spc="-1" strike="noStrike">
                    <a:solidFill>
                      <a:srgbClr val="ffffff"/>
                    </a:solidFill>
                    <a:latin typeface="Times New Roman"/>
                  </a:rPr>
                  <a:t>but iteration takes more than O(1)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flipV="1">
                <a:off x="1981080" y="2971440"/>
                <a:ext cx="609840" cy="609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0" name=""/>
          <p:cNvSpPr/>
          <p:nvPr/>
        </p:nvSpPr>
        <p:spPr>
          <a:xfrm>
            <a:off x="5853600" y="4005360"/>
            <a:ext cx="249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 neighbo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1532880" y="4175280"/>
            <a:ext cx="132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O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869800" y="4479840"/>
            <a:ext cx="27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uld be fewer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4306320" y="5241960"/>
            <a:ext cx="42253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ach edge visited,   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im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170840" y="5241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557000" y="5546880"/>
            <a:ext cx="125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O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812880" y="6004080"/>
            <a:ext cx="114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ze =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906560" y="6004080"/>
            <a:ext cx="94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325680" y="5791320"/>
            <a:ext cx="2041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inear tim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1981080" y="4190760"/>
            <a:ext cx="762120" cy="53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ph 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550800" y="1056240"/>
            <a:ext cx="8132040" cy="740160"/>
            <a:chOff x="550800" y="1056240"/>
            <a:chExt cx="8132040" cy="740160"/>
          </a:xfrm>
        </p:grpSpPr>
        <p:sp>
          <p:nvSpPr>
            <p:cNvPr id="1442" name=""/>
            <p:cNvSpPr/>
            <p:nvPr/>
          </p:nvSpPr>
          <p:spPr>
            <a:xfrm>
              <a:off x="1505520" y="1166760"/>
              <a:ext cx="717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Which </a:t>
              </a: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foundNotHandled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node do we handle?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3" name=""/>
            <p:cNvGrpSpPr/>
            <p:nvPr/>
          </p:nvGrpSpPr>
          <p:grpSpPr>
            <a:xfrm>
              <a:off x="550800" y="1056240"/>
              <a:ext cx="690840" cy="740160"/>
              <a:chOff x="550800" y="1056240"/>
              <a:chExt cx="690840" cy="740160"/>
            </a:xfrm>
          </p:grpSpPr>
          <p:sp>
            <p:nvSpPr>
              <p:cNvPr id="1444" name=""/>
              <p:cNvSpPr/>
              <p:nvPr/>
            </p:nvSpPr>
            <p:spPr>
              <a:xfrm rot="21255000">
                <a:off x="896760" y="1134720"/>
                <a:ext cx="141480" cy="11736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rot="21255000">
                <a:off x="851040" y="1279080"/>
                <a:ext cx="145800" cy="26208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rot="21255000">
                <a:off x="952200" y="1495080"/>
                <a:ext cx="280800" cy="17928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rot="19839000">
                <a:off x="563400" y="1550520"/>
                <a:ext cx="401760" cy="15732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rot="21255000">
                <a:off x="755280" y="1066320"/>
                <a:ext cx="165240" cy="29232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rot="21255000">
                <a:off x="952560" y="1066320"/>
                <a:ext cx="214200" cy="24300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0" name=""/>
          <p:cNvSpPr/>
          <p:nvPr/>
        </p:nvSpPr>
        <p:spPr>
          <a:xfrm>
            <a:off x="838080" y="1812960"/>
            <a:ext cx="80010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Queue:  Handle in order found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readth-First Searc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ack: Handle most recently foun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epth-First Searc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iority Queue: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    Handle node that seems to be closest to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hortest (Weighted) Path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80880" y="1676520"/>
            <a:ext cx="6248520" cy="1447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readth First 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347200" y="1338120"/>
            <a:ext cx="430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lt;preCond&gt; &amp; &lt;postCond&g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4" name=""/>
          <p:cNvGrpSpPr/>
          <p:nvPr/>
        </p:nvGrpSpPr>
        <p:grpSpPr>
          <a:xfrm>
            <a:off x="3733920" y="3124080"/>
            <a:ext cx="1181160" cy="1067040"/>
            <a:chOff x="3733920" y="3124080"/>
            <a:chExt cx="1181160" cy="1067040"/>
          </a:xfrm>
        </p:grpSpPr>
        <p:sp>
          <p:nvSpPr>
            <p:cNvPr id="1455" name=""/>
            <p:cNvSpPr/>
            <p:nvPr/>
          </p:nvSpPr>
          <p:spPr>
            <a:xfrm>
              <a:off x="3733920" y="3124080"/>
              <a:ext cx="1181160" cy="106704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56" name=""/>
            <p:cNvGrpSpPr/>
            <p:nvPr/>
          </p:nvGrpSpPr>
          <p:grpSpPr>
            <a:xfrm>
              <a:off x="3920400" y="3213000"/>
              <a:ext cx="629640" cy="860400"/>
              <a:chOff x="3920400" y="3213000"/>
              <a:chExt cx="629640" cy="860400"/>
            </a:xfrm>
          </p:grpSpPr>
          <p:grpSp>
            <p:nvGrpSpPr>
              <p:cNvPr id="1457" name=""/>
              <p:cNvGrpSpPr/>
              <p:nvPr/>
            </p:nvGrpSpPr>
            <p:grpSpPr>
              <a:xfrm>
                <a:off x="3920400" y="3213000"/>
                <a:ext cx="592560" cy="842760"/>
                <a:chOff x="3920400" y="3213000"/>
                <a:chExt cx="592560" cy="84276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4115880" y="3355200"/>
                  <a:ext cx="102960" cy="177840"/>
                </a:xfrm>
                <a:custGeom>
                  <a:avLst/>
                  <a:gdLst/>
                  <a:ahLst/>
                  <a:rect l="l" t="t" r="r" b="b"/>
                  <a:pathLst>
                    <a:path w="434" h="514">
                      <a:moveTo>
                        <a:pt x="132" y="186"/>
                      </a:moveTo>
                      <a:lnTo>
                        <a:pt x="157" y="114"/>
                      </a:lnTo>
                      <a:lnTo>
                        <a:pt x="189" y="42"/>
                      </a:lnTo>
                      <a:lnTo>
                        <a:pt x="236" y="6"/>
                      </a:lnTo>
                      <a:lnTo>
                        <a:pt x="302" y="0"/>
                      </a:lnTo>
                      <a:lnTo>
                        <a:pt x="355" y="24"/>
                      </a:lnTo>
                      <a:lnTo>
                        <a:pt x="393" y="63"/>
                      </a:lnTo>
                      <a:lnTo>
                        <a:pt x="421" y="135"/>
                      </a:lnTo>
                      <a:lnTo>
                        <a:pt x="434" y="222"/>
                      </a:lnTo>
                      <a:lnTo>
                        <a:pt x="434" y="312"/>
                      </a:lnTo>
                      <a:lnTo>
                        <a:pt x="412" y="411"/>
                      </a:lnTo>
                      <a:lnTo>
                        <a:pt x="355" y="474"/>
                      </a:lnTo>
                      <a:lnTo>
                        <a:pt x="299" y="514"/>
                      </a:lnTo>
                      <a:lnTo>
                        <a:pt x="245" y="510"/>
                      </a:lnTo>
                      <a:lnTo>
                        <a:pt x="198" y="468"/>
                      </a:lnTo>
                      <a:lnTo>
                        <a:pt x="157" y="396"/>
                      </a:lnTo>
                      <a:lnTo>
                        <a:pt x="129" y="333"/>
                      </a:lnTo>
                      <a:lnTo>
                        <a:pt x="129" y="252"/>
                      </a:lnTo>
                      <a:lnTo>
                        <a:pt x="0" y="234"/>
                      </a:lnTo>
                      <a:lnTo>
                        <a:pt x="16" y="189"/>
                      </a:lnTo>
                      <a:lnTo>
                        <a:pt x="132" y="18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4183920" y="3213000"/>
                  <a:ext cx="134280" cy="399240"/>
                </a:xfrm>
                <a:custGeom>
                  <a:avLst/>
                  <a:gdLst/>
                  <a:ahLst/>
                  <a:rect l="l" t="t" r="r" b="b"/>
                  <a:pathLst>
                    <a:path w="566" h="1154">
                      <a:moveTo>
                        <a:pt x="13" y="1145"/>
                      </a:moveTo>
                      <a:lnTo>
                        <a:pt x="0" y="1088"/>
                      </a:lnTo>
                      <a:lnTo>
                        <a:pt x="31" y="1042"/>
                      </a:lnTo>
                      <a:lnTo>
                        <a:pt x="134" y="988"/>
                      </a:lnTo>
                      <a:lnTo>
                        <a:pt x="226" y="927"/>
                      </a:lnTo>
                      <a:lnTo>
                        <a:pt x="313" y="827"/>
                      </a:lnTo>
                      <a:lnTo>
                        <a:pt x="432" y="689"/>
                      </a:lnTo>
                      <a:lnTo>
                        <a:pt x="463" y="634"/>
                      </a:lnTo>
                      <a:lnTo>
                        <a:pt x="479" y="580"/>
                      </a:lnTo>
                      <a:lnTo>
                        <a:pt x="472" y="526"/>
                      </a:lnTo>
                      <a:lnTo>
                        <a:pt x="444" y="426"/>
                      </a:lnTo>
                      <a:lnTo>
                        <a:pt x="376" y="299"/>
                      </a:lnTo>
                      <a:lnTo>
                        <a:pt x="301" y="229"/>
                      </a:lnTo>
                      <a:lnTo>
                        <a:pt x="235" y="190"/>
                      </a:lnTo>
                      <a:lnTo>
                        <a:pt x="181" y="184"/>
                      </a:lnTo>
                      <a:lnTo>
                        <a:pt x="153" y="190"/>
                      </a:lnTo>
                      <a:lnTo>
                        <a:pt x="150" y="163"/>
                      </a:lnTo>
                      <a:lnTo>
                        <a:pt x="215" y="154"/>
                      </a:lnTo>
                      <a:lnTo>
                        <a:pt x="291" y="154"/>
                      </a:lnTo>
                      <a:lnTo>
                        <a:pt x="238" y="93"/>
                      </a:lnTo>
                      <a:lnTo>
                        <a:pt x="206" y="45"/>
                      </a:lnTo>
                      <a:lnTo>
                        <a:pt x="229" y="27"/>
                      </a:lnTo>
                      <a:lnTo>
                        <a:pt x="313" y="109"/>
                      </a:lnTo>
                      <a:lnTo>
                        <a:pt x="329" y="121"/>
                      </a:lnTo>
                      <a:lnTo>
                        <a:pt x="313" y="57"/>
                      </a:lnTo>
                      <a:lnTo>
                        <a:pt x="301" y="9"/>
                      </a:lnTo>
                      <a:lnTo>
                        <a:pt x="313" y="0"/>
                      </a:lnTo>
                      <a:lnTo>
                        <a:pt x="341" y="9"/>
                      </a:lnTo>
                      <a:lnTo>
                        <a:pt x="366" y="121"/>
                      </a:lnTo>
                      <a:lnTo>
                        <a:pt x="379" y="118"/>
                      </a:lnTo>
                      <a:lnTo>
                        <a:pt x="379" y="30"/>
                      </a:lnTo>
                      <a:lnTo>
                        <a:pt x="404" y="21"/>
                      </a:lnTo>
                      <a:lnTo>
                        <a:pt x="422" y="36"/>
                      </a:lnTo>
                      <a:lnTo>
                        <a:pt x="413" y="154"/>
                      </a:lnTo>
                      <a:lnTo>
                        <a:pt x="407" y="202"/>
                      </a:lnTo>
                      <a:lnTo>
                        <a:pt x="422" y="299"/>
                      </a:lnTo>
                      <a:lnTo>
                        <a:pt x="472" y="402"/>
                      </a:lnTo>
                      <a:lnTo>
                        <a:pt x="525" y="520"/>
                      </a:lnTo>
                      <a:lnTo>
                        <a:pt x="566" y="607"/>
                      </a:lnTo>
                      <a:lnTo>
                        <a:pt x="563" y="652"/>
                      </a:lnTo>
                      <a:lnTo>
                        <a:pt x="488" y="734"/>
                      </a:lnTo>
                      <a:lnTo>
                        <a:pt x="385" y="836"/>
                      </a:lnTo>
                      <a:lnTo>
                        <a:pt x="301" y="937"/>
                      </a:lnTo>
                      <a:lnTo>
                        <a:pt x="197" y="1070"/>
                      </a:lnTo>
                      <a:lnTo>
                        <a:pt x="112" y="1136"/>
                      </a:lnTo>
                      <a:lnTo>
                        <a:pt x="47" y="1154"/>
                      </a:lnTo>
                      <a:lnTo>
                        <a:pt x="13" y="1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3920400" y="3585240"/>
                  <a:ext cx="246240" cy="200880"/>
                </a:xfrm>
                <a:custGeom>
                  <a:avLst/>
                  <a:gdLst/>
                  <a:ahLst/>
                  <a:rect l="l" t="t" r="r" b="b"/>
                  <a:pathLst>
                    <a:path w="1037" h="581">
                      <a:moveTo>
                        <a:pt x="210" y="468"/>
                      </a:moveTo>
                      <a:lnTo>
                        <a:pt x="361" y="462"/>
                      </a:lnTo>
                      <a:lnTo>
                        <a:pt x="498" y="444"/>
                      </a:lnTo>
                      <a:lnTo>
                        <a:pt x="583" y="423"/>
                      </a:lnTo>
                      <a:lnTo>
                        <a:pt x="705" y="354"/>
                      </a:lnTo>
                      <a:lnTo>
                        <a:pt x="792" y="288"/>
                      </a:lnTo>
                      <a:lnTo>
                        <a:pt x="906" y="207"/>
                      </a:lnTo>
                      <a:lnTo>
                        <a:pt x="959" y="156"/>
                      </a:lnTo>
                      <a:lnTo>
                        <a:pt x="1000" y="120"/>
                      </a:lnTo>
                      <a:lnTo>
                        <a:pt x="1037" y="81"/>
                      </a:lnTo>
                      <a:lnTo>
                        <a:pt x="1037" y="39"/>
                      </a:lnTo>
                      <a:lnTo>
                        <a:pt x="996" y="0"/>
                      </a:lnTo>
                      <a:lnTo>
                        <a:pt x="971" y="9"/>
                      </a:lnTo>
                      <a:lnTo>
                        <a:pt x="903" y="90"/>
                      </a:lnTo>
                      <a:lnTo>
                        <a:pt x="828" y="183"/>
                      </a:lnTo>
                      <a:lnTo>
                        <a:pt x="752" y="270"/>
                      </a:lnTo>
                      <a:lnTo>
                        <a:pt x="642" y="342"/>
                      </a:lnTo>
                      <a:lnTo>
                        <a:pt x="548" y="390"/>
                      </a:lnTo>
                      <a:lnTo>
                        <a:pt x="445" y="414"/>
                      </a:lnTo>
                      <a:lnTo>
                        <a:pt x="301" y="417"/>
                      </a:lnTo>
                      <a:lnTo>
                        <a:pt x="216" y="417"/>
                      </a:lnTo>
                      <a:lnTo>
                        <a:pt x="144" y="363"/>
                      </a:lnTo>
                      <a:lnTo>
                        <a:pt x="125" y="327"/>
                      </a:lnTo>
                      <a:lnTo>
                        <a:pt x="94" y="327"/>
                      </a:lnTo>
                      <a:lnTo>
                        <a:pt x="116" y="372"/>
                      </a:lnTo>
                      <a:lnTo>
                        <a:pt x="150" y="414"/>
                      </a:lnTo>
                      <a:lnTo>
                        <a:pt x="66" y="396"/>
                      </a:lnTo>
                      <a:lnTo>
                        <a:pt x="3" y="387"/>
                      </a:lnTo>
                      <a:lnTo>
                        <a:pt x="3" y="405"/>
                      </a:lnTo>
                      <a:lnTo>
                        <a:pt x="59" y="417"/>
                      </a:lnTo>
                      <a:lnTo>
                        <a:pt x="97" y="441"/>
                      </a:lnTo>
                      <a:lnTo>
                        <a:pt x="131" y="444"/>
                      </a:lnTo>
                      <a:lnTo>
                        <a:pt x="78" y="462"/>
                      </a:lnTo>
                      <a:lnTo>
                        <a:pt x="0" y="481"/>
                      </a:lnTo>
                      <a:lnTo>
                        <a:pt x="3" y="499"/>
                      </a:lnTo>
                      <a:lnTo>
                        <a:pt x="28" y="505"/>
                      </a:lnTo>
                      <a:lnTo>
                        <a:pt x="103" y="481"/>
                      </a:lnTo>
                      <a:lnTo>
                        <a:pt x="150" y="477"/>
                      </a:lnTo>
                      <a:lnTo>
                        <a:pt x="122" y="505"/>
                      </a:lnTo>
                      <a:lnTo>
                        <a:pt x="78" y="550"/>
                      </a:lnTo>
                      <a:lnTo>
                        <a:pt x="59" y="562"/>
                      </a:lnTo>
                      <a:lnTo>
                        <a:pt x="75" y="581"/>
                      </a:lnTo>
                      <a:lnTo>
                        <a:pt x="113" y="559"/>
                      </a:lnTo>
                      <a:lnTo>
                        <a:pt x="163" y="514"/>
                      </a:lnTo>
                      <a:lnTo>
                        <a:pt x="210" y="46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4147200" y="3564360"/>
                  <a:ext cx="144360" cy="276840"/>
                </a:xfrm>
                <a:custGeom>
                  <a:avLst/>
                  <a:gdLst/>
                  <a:ahLst/>
                  <a:rect l="l" t="t" r="r" b="b"/>
                  <a:pathLst>
                    <a:path w="608" h="800">
                      <a:moveTo>
                        <a:pt x="38" y="90"/>
                      </a:moveTo>
                      <a:lnTo>
                        <a:pt x="63" y="27"/>
                      </a:lnTo>
                      <a:lnTo>
                        <a:pt x="104" y="0"/>
                      </a:lnTo>
                      <a:lnTo>
                        <a:pt x="141" y="0"/>
                      </a:lnTo>
                      <a:lnTo>
                        <a:pt x="179" y="18"/>
                      </a:lnTo>
                      <a:lnTo>
                        <a:pt x="216" y="54"/>
                      </a:lnTo>
                      <a:lnTo>
                        <a:pt x="235" y="117"/>
                      </a:lnTo>
                      <a:lnTo>
                        <a:pt x="245" y="180"/>
                      </a:lnTo>
                      <a:lnTo>
                        <a:pt x="263" y="243"/>
                      </a:lnTo>
                      <a:lnTo>
                        <a:pt x="298" y="312"/>
                      </a:lnTo>
                      <a:lnTo>
                        <a:pt x="357" y="384"/>
                      </a:lnTo>
                      <a:lnTo>
                        <a:pt x="415" y="432"/>
                      </a:lnTo>
                      <a:lnTo>
                        <a:pt x="499" y="468"/>
                      </a:lnTo>
                      <a:lnTo>
                        <a:pt x="571" y="522"/>
                      </a:lnTo>
                      <a:lnTo>
                        <a:pt x="608" y="577"/>
                      </a:lnTo>
                      <a:lnTo>
                        <a:pt x="602" y="622"/>
                      </a:lnTo>
                      <a:lnTo>
                        <a:pt x="593" y="676"/>
                      </a:lnTo>
                      <a:lnTo>
                        <a:pt x="565" y="712"/>
                      </a:lnTo>
                      <a:lnTo>
                        <a:pt x="518" y="757"/>
                      </a:lnTo>
                      <a:lnTo>
                        <a:pt x="449" y="790"/>
                      </a:lnTo>
                      <a:lnTo>
                        <a:pt x="396" y="800"/>
                      </a:lnTo>
                      <a:lnTo>
                        <a:pt x="320" y="784"/>
                      </a:lnTo>
                      <a:lnTo>
                        <a:pt x="251" y="748"/>
                      </a:lnTo>
                      <a:lnTo>
                        <a:pt x="179" y="694"/>
                      </a:lnTo>
                      <a:lnTo>
                        <a:pt x="129" y="631"/>
                      </a:lnTo>
                      <a:lnTo>
                        <a:pt x="82" y="550"/>
                      </a:lnTo>
                      <a:lnTo>
                        <a:pt x="44" y="456"/>
                      </a:lnTo>
                      <a:lnTo>
                        <a:pt x="19" y="375"/>
                      </a:lnTo>
                      <a:lnTo>
                        <a:pt x="7" y="297"/>
                      </a:lnTo>
                      <a:lnTo>
                        <a:pt x="0" y="189"/>
                      </a:lnTo>
                      <a:lnTo>
                        <a:pt x="19" y="117"/>
                      </a:lnTo>
                      <a:lnTo>
                        <a:pt x="38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4265280" y="3682800"/>
                  <a:ext cx="247680" cy="251280"/>
                </a:xfrm>
                <a:custGeom>
                  <a:avLst/>
                  <a:gdLst/>
                  <a:ahLst/>
                  <a:rect l="l" t="t" r="r" b="b"/>
                  <a:pathLst>
                    <a:path w="1043" h="726">
                      <a:moveTo>
                        <a:pt x="116" y="230"/>
                      </a:moveTo>
                      <a:lnTo>
                        <a:pt x="216" y="147"/>
                      </a:lnTo>
                      <a:lnTo>
                        <a:pt x="338" y="72"/>
                      </a:lnTo>
                      <a:lnTo>
                        <a:pt x="417" y="27"/>
                      </a:lnTo>
                      <a:lnTo>
                        <a:pt x="479" y="12"/>
                      </a:lnTo>
                      <a:lnTo>
                        <a:pt x="529" y="0"/>
                      </a:lnTo>
                      <a:lnTo>
                        <a:pt x="573" y="18"/>
                      </a:lnTo>
                      <a:lnTo>
                        <a:pt x="601" y="75"/>
                      </a:lnTo>
                      <a:lnTo>
                        <a:pt x="620" y="230"/>
                      </a:lnTo>
                      <a:lnTo>
                        <a:pt x="620" y="416"/>
                      </a:lnTo>
                      <a:lnTo>
                        <a:pt x="620" y="536"/>
                      </a:lnTo>
                      <a:lnTo>
                        <a:pt x="642" y="609"/>
                      </a:lnTo>
                      <a:lnTo>
                        <a:pt x="686" y="597"/>
                      </a:lnTo>
                      <a:lnTo>
                        <a:pt x="717" y="552"/>
                      </a:lnTo>
                      <a:lnTo>
                        <a:pt x="779" y="500"/>
                      </a:lnTo>
                      <a:lnTo>
                        <a:pt x="876" y="470"/>
                      </a:lnTo>
                      <a:lnTo>
                        <a:pt x="943" y="470"/>
                      </a:lnTo>
                      <a:lnTo>
                        <a:pt x="1043" y="488"/>
                      </a:lnTo>
                      <a:lnTo>
                        <a:pt x="1037" y="524"/>
                      </a:lnTo>
                      <a:lnTo>
                        <a:pt x="1015" y="555"/>
                      </a:lnTo>
                      <a:lnTo>
                        <a:pt x="981" y="561"/>
                      </a:lnTo>
                      <a:lnTo>
                        <a:pt x="943" y="542"/>
                      </a:lnTo>
                      <a:lnTo>
                        <a:pt x="886" y="518"/>
                      </a:lnTo>
                      <a:lnTo>
                        <a:pt x="829" y="518"/>
                      </a:lnTo>
                      <a:lnTo>
                        <a:pt x="754" y="564"/>
                      </a:lnTo>
                      <a:lnTo>
                        <a:pt x="708" y="633"/>
                      </a:lnTo>
                      <a:lnTo>
                        <a:pt x="698" y="690"/>
                      </a:lnTo>
                      <a:lnTo>
                        <a:pt x="679" y="726"/>
                      </a:lnTo>
                      <a:lnTo>
                        <a:pt x="604" y="723"/>
                      </a:lnTo>
                      <a:lnTo>
                        <a:pt x="601" y="669"/>
                      </a:lnTo>
                      <a:lnTo>
                        <a:pt x="576" y="591"/>
                      </a:lnTo>
                      <a:lnTo>
                        <a:pt x="567" y="509"/>
                      </a:lnTo>
                      <a:lnTo>
                        <a:pt x="573" y="401"/>
                      </a:lnTo>
                      <a:lnTo>
                        <a:pt x="564" y="248"/>
                      </a:lnTo>
                      <a:lnTo>
                        <a:pt x="558" y="147"/>
                      </a:lnTo>
                      <a:lnTo>
                        <a:pt x="539" y="111"/>
                      </a:lnTo>
                      <a:lnTo>
                        <a:pt x="501" y="75"/>
                      </a:lnTo>
                      <a:lnTo>
                        <a:pt x="461" y="75"/>
                      </a:lnTo>
                      <a:lnTo>
                        <a:pt x="403" y="111"/>
                      </a:lnTo>
                      <a:lnTo>
                        <a:pt x="328" y="181"/>
                      </a:lnTo>
                      <a:lnTo>
                        <a:pt x="235" y="272"/>
                      </a:lnTo>
                      <a:lnTo>
                        <a:pt x="141" y="356"/>
                      </a:lnTo>
                      <a:lnTo>
                        <a:pt x="94" y="383"/>
                      </a:lnTo>
                      <a:lnTo>
                        <a:pt x="38" y="383"/>
                      </a:lnTo>
                      <a:lnTo>
                        <a:pt x="0" y="344"/>
                      </a:lnTo>
                      <a:lnTo>
                        <a:pt x="3" y="281"/>
                      </a:lnTo>
                      <a:lnTo>
                        <a:pt x="41" y="248"/>
                      </a:lnTo>
                      <a:lnTo>
                        <a:pt x="84" y="239"/>
                      </a:lnTo>
                      <a:lnTo>
                        <a:pt x="116" y="23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4251960" y="3792240"/>
                  <a:ext cx="169200" cy="263520"/>
                </a:xfrm>
                <a:custGeom>
                  <a:avLst/>
                  <a:gdLst/>
                  <a:ahLst/>
                  <a:rect l="l" t="t" r="r" b="b"/>
                  <a:pathLst>
                    <a:path w="713" h="762">
                      <a:moveTo>
                        <a:pt x="0" y="64"/>
                      </a:moveTo>
                      <a:lnTo>
                        <a:pt x="22" y="16"/>
                      </a:lnTo>
                      <a:lnTo>
                        <a:pt x="69" y="0"/>
                      </a:lnTo>
                      <a:lnTo>
                        <a:pt x="134" y="7"/>
                      </a:lnTo>
                      <a:lnTo>
                        <a:pt x="150" y="52"/>
                      </a:lnTo>
                      <a:lnTo>
                        <a:pt x="125" y="227"/>
                      </a:lnTo>
                      <a:lnTo>
                        <a:pt x="122" y="360"/>
                      </a:lnTo>
                      <a:lnTo>
                        <a:pt x="116" y="435"/>
                      </a:lnTo>
                      <a:lnTo>
                        <a:pt x="116" y="450"/>
                      </a:lnTo>
                      <a:lnTo>
                        <a:pt x="131" y="524"/>
                      </a:lnTo>
                      <a:lnTo>
                        <a:pt x="172" y="536"/>
                      </a:lnTo>
                      <a:lnTo>
                        <a:pt x="225" y="524"/>
                      </a:lnTo>
                      <a:lnTo>
                        <a:pt x="303" y="481"/>
                      </a:lnTo>
                      <a:lnTo>
                        <a:pt x="387" y="460"/>
                      </a:lnTo>
                      <a:lnTo>
                        <a:pt x="482" y="444"/>
                      </a:lnTo>
                      <a:lnTo>
                        <a:pt x="585" y="432"/>
                      </a:lnTo>
                      <a:lnTo>
                        <a:pt x="660" y="432"/>
                      </a:lnTo>
                      <a:lnTo>
                        <a:pt x="694" y="441"/>
                      </a:lnTo>
                      <a:lnTo>
                        <a:pt x="713" y="463"/>
                      </a:lnTo>
                      <a:lnTo>
                        <a:pt x="704" y="496"/>
                      </a:lnTo>
                      <a:lnTo>
                        <a:pt x="657" y="524"/>
                      </a:lnTo>
                      <a:lnTo>
                        <a:pt x="613" y="563"/>
                      </a:lnTo>
                      <a:lnTo>
                        <a:pt x="572" y="618"/>
                      </a:lnTo>
                      <a:lnTo>
                        <a:pt x="547" y="663"/>
                      </a:lnTo>
                      <a:lnTo>
                        <a:pt x="526" y="708"/>
                      </a:lnTo>
                      <a:lnTo>
                        <a:pt x="510" y="762"/>
                      </a:lnTo>
                      <a:lnTo>
                        <a:pt x="488" y="762"/>
                      </a:lnTo>
                      <a:lnTo>
                        <a:pt x="469" y="741"/>
                      </a:lnTo>
                      <a:lnTo>
                        <a:pt x="462" y="681"/>
                      </a:lnTo>
                      <a:lnTo>
                        <a:pt x="507" y="627"/>
                      </a:lnTo>
                      <a:lnTo>
                        <a:pt x="566" y="563"/>
                      </a:lnTo>
                      <a:lnTo>
                        <a:pt x="622" y="515"/>
                      </a:lnTo>
                      <a:lnTo>
                        <a:pt x="647" y="499"/>
                      </a:lnTo>
                      <a:lnTo>
                        <a:pt x="657" y="478"/>
                      </a:lnTo>
                      <a:lnTo>
                        <a:pt x="632" y="463"/>
                      </a:lnTo>
                      <a:lnTo>
                        <a:pt x="547" y="463"/>
                      </a:lnTo>
                      <a:lnTo>
                        <a:pt x="440" y="481"/>
                      </a:lnTo>
                      <a:lnTo>
                        <a:pt x="356" y="509"/>
                      </a:lnTo>
                      <a:lnTo>
                        <a:pt x="265" y="560"/>
                      </a:lnTo>
                      <a:lnTo>
                        <a:pt x="187" y="596"/>
                      </a:lnTo>
                      <a:lnTo>
                        <a:pt x="103" y="599"/>
                      </a:lnTo>
                      <a:lnTo>
                        <a:pt x="69" y="587"/>
                      </a:lnTo>
                      <a:lnTo>
                        <a:pt x="50" y="542"/>
                      </a:lnTo>
                      <a:lnTo>
                        <a:pt x="37" y="478"/>
                      </a:lnTo>
                      <a:lnTo>
                        <a:pt x="31" y="360"/>
                      </a:lnTo>
                      <a:lnTo>
                        <a:pt x="19" y="151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4" name=""/>
              <p:cNvGrpSpPr/>
              <p:nvPr/>
            </p:nvGrpSpPr>
            <p:grpSpPr>
              <a:xfrm>
                <a:off x="4447800" y="3770280"/>
                <a:ext cx="102240" cy="303120"/>
                <a:chOff x="4447800" y="3770280"/>
                <a:chExt cx="102240" cy="303120"/>
              </a:xfrm>
            </p:grpSpPr>
            <p:sp>
              <p:nvSpPr>
                <p:cNvPr id="1465" name=""/>
                <p:cNvSpPr/>
                <p:nvPr/>
              </p:nvSpPr>
              <p:spPr>
                <a:xfrm>
                  <a:off x="4469400" y="3939480"/>
                  <a:ext cx="80640" cy="37440"/>
                </a:xfrm>
                <a:custGeom>
                  <a:avLst/>
                  <a:gdLst/>
                  <a:ahLst/>
                  <a:rect l="l" t="t" r="r" b="b"/>
                  <a:pathLst>
                    <a:path w="340" h="109">
                      <a:moveTo>
                        <a:pt x="340" y="109"/>
                      </a:moveTo>
                      <a:lnTo>
                        <a:pt x="165" y="30"/>
                      </a:lnTo>
                      <a:lnTo>
                        <a:pt x="48" y="0"/>
                      </a:lnTo>
                      <a:lnTo>
                        <a:pt x="10" y="0"/>
                      </a:lnTo>
                      <a:lnTo>
                        <a:pt x="0" y="27"/>
                      </a:lnTo>
                      <a:lnTo>
                        <a:pt x="22" y="48"/>
                      </a:lnTo>
                      <a:lnTo>
                        <a:pt x="70" y="54"/>
                      </a:lnTo>
                      <a:lnTo>
                        <a:pt x="184" y="75"/>
                      </a:lnTo>
                      <a:lnTo>
                        <a:pt x="340" y="10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4447800" y="3972960"/>
                  <a:ext cx="22680" cy="100440"/>
                </a:xfrm>
                <a:custGeom>
                  <a:avLst/>
                  <a:gdLst/>
                  <a:ahLst/>
                  <a:rect l="l" t="t" r="r" b="b"/>
                  <a:pathLst>
                    <a:path w="97" h="291">
                      <a:moveTo>
                        <a:pt x="97" y="291"/>
                      </a:moveTo>
                      <a:lnTo>
                        <a:pt x="94" y="148"/>
                      </a:lnTo>
                      <a:lnTo>
                        <a:pt x="69" y="39"/>
                      </a:lnTo>
                      <a:lnTo>
                        <a:pt x="41" y="0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54"/>
                      </a:lnTo>
                      <a:lnTo>
                        <a:pt x="47" y="184"/>
                      </a:lnTo>
                      <a:lnTo>
                        <a:pt x="97" y="29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4480920" y="3770280"/>
                  <a:ext cx="50760" cy="38160"/>
                </a:xfrm>
                <a:custGeom>
                  <a:avLst/>
                  <a:gdLst/>
                  <a:ahLst/>
                  <a:rect l="l" t="t" r="r" b="b"/>
                  <a:pathLst>
                    <a:path w="214" h="111">
                      <a:moveTo>
                        <a:pt x="0" y="72"/>
                      </a:moveTo>
                      <a:lnTo>
                        <a:pt x="42" y="30"/>
                      </a:lnTo>
                      <a:lnTo>
                        <a:pt x="100" y="3"/>
                      </a:lnTo>
                      <a:lnTo>
                        <a:pt x="166" y="0"/>
                      </a:lnTo>
                      <a:lnTo>
                        <a:pt x="214" y="9"/>
                      </a:lnTo>
                      <a:lnTo>
                        <a:pt x="138" y="18"/>
                      </a:lnTo>
                      <a:lnTo>
                        <a:pt x="109" y="36"/>
                      </a:lnTo>
                      <a:lnTo>
                        <a:pt x="81" y="63"/>
                      </a:lnTo>
                      <a:lnTo>
                        <a:pt x="68" y="93"/>
                      </a:lnTo>
                      <a:lnTo>
                        <a:pt x="42" y="111"/>
                      </a:lnTo>
                      <a:lnTo>
                        <a:pt x="1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68" name=""/>
          <p:cNvSpPr/>
          <p:nvPr/>
        </p:nvSpPr>
        <p:spPr>
          <a:xfrm>
            <a:off x="3526200" y="5257800"/>
            <a:ext cx="17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lgorith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rot="5400000">
            <a:off x="3797280" y="2454120"/>
            <a:ext cx="860400" cy="130320"/>
          </a:xfrm>
          <a:custGeom>
            <a:avLst/>
            <a:gdLst>
              <a:gd name="textAreaLeft" fmla="*/ 134280 w 860400"/>
              <a:gd name="textAreaRight" fmla="*/ 753120 w 860400"/>
              <a:gd name="textAreaTop" fmla="*/ 32400 h 130320"/>
              <a:gd name="textAreaBottom" fmla="*/ 97920 h 130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t" anchorCtr="1" vert="eaVert" rot="10800000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rot="5400000">
            <a:off x="3787200" y="4708440"/>
            <a:ext cx="860400" cy="129960"/>
          </a:xfrm>
          <a:custGeom>
            <a:avLst/>
            <a:gdLst>
              <a:gd name="textAreaLeft" fmla="*/ 134280 w 860400"/>
              <a:gd name="textAreaRight" fmla="*/ 753120 w 860400"/>
              <a:gd name="textAreaTop" fmla="*/ 32400 h 129960"/>
              <a:gd name="textAreaBottom" fmla="*/ 97560 h 129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 anchorCtr="1" vert="eaVert" rot="10800000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V="1" rot="16200000">
            <a:off x="4092120" y="2498760"/>
            <a:ext cx="860400" cy="129960"/>
          </a:xfrm>
          <a:custGeom>
            <a:avLst/>
            <a:gdLst>
              <a:gd name="textAreaLeft" fmla="*/ 134280 w 860400"/>
              <a:gd name="textAreaRight" fmla="*/ 753120 w 860400"/>
              <a:gd name="textAreaTop" fmla="*/ 32400 h 129960"/>
              <a:gd name="textAreaBottom" fmla="*/ 97560 h 129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 anchorCtr="1" vert="eaVert" rot="10800000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 rot="16200000">
            <a:off x="4092120" y="4708440"/>
            <a:ext cx="860400" cy="129960"/>
          </a:xfrm>
          <a:custGeom>
            <a:avLst/>
            <a:gdLst>
              <a:gd name="textAreaLeft" fmla="*/ 134280 w 860400"/>
              <a:gd name="textAreaRight" fmla="*/ 753120 w 860400"/>
              <a:gd name="textAreaTop" fmla="*/ 32400 h 129960"/>
              <a:gd name="textAreaBottom" fmla="*/ 97560 h 129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 anchorCtr="1" vert="eaVert" rot="10800000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7" dur="500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>
            <a:off x="3427560" y="1676520"/>
            <a:ext cx="195120" cy="1366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488000" y="2057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496280" y="19652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504200" y="32608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488360" y="274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497720" y="23781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7504200" y="32608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7488360" y="274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7497720" y="23781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509240" y="36450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514280" y="40989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504200" y="32608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488360" y="274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509240" y="36450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7514280" y="40989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457400" y="441972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494840" y="478476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7504200" y="17524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7509240" y="21366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7514280" y="25909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457400" y="291132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7494840" y="3276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560360" y="365760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p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11080" y="16002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39880" y="2057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4960" y="12193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35520" y="37180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18000" y="1774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7400" y="1676520"/>
            <a:ext cx="1219320" cy="2057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87400" y="16765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106360" y="21337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30400" y="3657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8040" y="1812960"/>
            <a:ext cx="392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ode ~ city or comput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50520" y="2651040"/>
            <a:ext cx="37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dge ~ road or networ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74800" y="4114800"/>
            <a:ext cx="369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ndirected or Direct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09160" y="5105520"/>
            <a:ext cx="65052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 surprisingly large number of problems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 computer science can be expressed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s a graph theory problem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509240" y="21366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514280" y="25909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7457400" y="291132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7494840" y="3276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7560360" y="365760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7514280" y="25909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7457400" y="291132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7494840" y="3276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7560360" y="365760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7488360" y="4140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7534800" y="4708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7457400" y="291132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7494840" y="3276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7560360" y="365760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7488360" y="4140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7534800" y="4708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7494840" y="3276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7560360" y="365760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7488360" y="4140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7534800" y="4708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7547400" y="51307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7560360" y="365760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7488360" y="4140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534800" y="4708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7547400" y="51307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7488360" y="4140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7534800" y="4708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7547400" y="51307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7534800" y="23623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7547400" y="278460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7513920" y="3152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7547400" y="278460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7513920" y="3152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7513920" y="3152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ph 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359000"/>
            <a:ext cx="9372600" cy="39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ation: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achability-from-single-source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preCond&gt;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input is a graph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(either directed or undirected)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      and a source node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postCond&gt;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utput all the nodes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that are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reachable by a path in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from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1816560" y="1382760"/>
            <a:ext cx="522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hat order are the nodes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07" name=""/>
          <p:cNvGrpSpPr/>
          <p:nvPr/>
        </p:nvGrpSpPr>
        <p:grpSpPr>
          <a:xfrm>
            <a:off x="609480" y="1111320"/>
            <a:ext cx="1181160" cy="1066680"/>
            <a:chOff x="609480" y="1111320"/>
            <a:chExt cx="1181160" cy="1066680"/>
          </a:xfrm>
        </p:grpSpPr>
        <p:sp>
          <p:nvSpPr>
            <p:cNvPr id="2508" name=""/>
            <p:cNvSpPr/>
            <p:nvPr/>
          </p:nvSpPr>
          <p:spPr>
            <a:xfrm>
              <a:off x="609480" y="1111320"/>
              <a:ext cx="1181160" cy="106668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9" name=""/>
            <p:cNvGrpSpPr/>
            <p:nvPr/>
          </p:nvGrpSpPr>
          <p:grpSpPr>
            <a:xfrm>
              <a:off x="795960" y="1200240"/>
              <a:ext cx="629640" cy="860400"/>
              <a:chOff x="795960" y="1200240"/>
              <a:chExt cx="629640" cy="860400"/>
            </a:xfrm>
          </p:grpSpPr>
          <p:grpSp>
            <p:nvGrpSpPr>
              <p:cNvPr id="2510" name=""/>
              <p:cNvGrpSpPr/>
              <p:nvPr/>
            </p:nvGrpSpPr>
            <p:grpSpPr>
              <a:xfrm>
                <a:off x="795960" y="1200240"/>
                <a:ext cx="592560" cy="842400"/>
                <a:chOff x="795960" y="1200240"/>
                <a:chExt cx="592560" cy="842400"/>
              </a:xfrm>
            </p:grpSpPr>
            <p:sp>
              <p:nvSpPr>
                <p:cNvPr id="2511" name=""/>
                <p:cNvSpPr/>
                <p:nvPr/>
              </p:nvSpPr>
              <p:spPr>
                <a:xfrm>
                  <a:off x="991440" y="1342440"/>
                  <a:ext cx="102960" cy="177840"/>
                </a:xfrm>
                <a:custGeom>
                  <a:avLst/>
                  <a:gdLst/>
                  <a:ahLst/>
                  <a:rect l="l" t="t" r="r" b="b"/>
                  <a:pathLst>
                    <a:path w="434" h="514">
                      <a:moveTo>
                        <a:pt x="132" y="186"/>
                      </a:moveTo>
                      <a:lnTo>
                        <a:pt x="157" y="114"/>
                      </a:lnTo>
                      <a:lnTo>
                        <a:pt x="189" y="42"/>
                      </a:lnTo>
                      <a:lnTo>
                        <a:pt x="236" y="6"/>
                      </a:lnTo>
                      <a:lnTo>
                        <a:pt x="302" y="0"/>
                      </a:lnTo>
                      <a:lnTo>
                        <a:pt x="355" y="24"/>
                      </a:lnTo>
                      <a:lnTo>
                        <a:pt x="393" y="63"/>
                      </a:lnTo>
                      <a:lnTo>
                        <a:pt x="421" y="135"/>
                      </a:lnTo>
                      <a:lnTo>
                        <a:pt x="434" y="222"/>
                      </a:lnTo>
                      <a:lnTo>
                        <a:pt x="434" y="312"/>
                      </a:lnTo>
                      <a:lnTo>
                        <a:pt x="412" y="411"/>
                      </a:lnTo>
                      <a:lnTo>
                        <a:pt x="355" y="474"/>
                      </a:lnTo>
                      <a:lnTo>
                        <a:pt x="299" y="514"/>
                      </a:lnTo>
                      <a:lnTo>
                        <a:pt x="245" y="510"/>
                      </a:lnTo>
                      <a:lnTo>
                        <a:pt x="198" y="468"/>
                      </a:lnTo>
                      <a:lnTo>
                        <a:pt x="157" y="396"/>
                      </a:lnTo>
                      <a:lnTo>
                        <a:pt x="129" y="333"/>
                      </a:lnTo>
                      <a:lnTo>
                        <a:pt x="129" y="252"/>
                      </a:lnTo>
                      <a:lnTo>
                        <a:pt x="0" y="234"/>
                      </a:lnTo>
                      <a:lnTo>
                        <a:pt x="16" y="189"/>
                      </a:lnTo>
                      <a:lnTo>
                        <a:pt x="132" y="18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1059480" y="1200240"/>
                  <a:ext cx="134280" cy="398880"/>
                </a:xfrm>
                <a:custGeom>
                  <a:avLst/>
                  <a:gdLst/>
                  <a:ahLst/>
                  <a:rect l="l" t="t" r="r" b="b"/>
                  <a:pathLst>
                    <a:path w="566" h="1154">
                      <a:moveTo>
                        <a:pt x="13" y="1145"/>
                      </a:moveTo>
                      <a:lnTo>
                        <a:pt x="0" y="1088"/>
                      </a:lnTo>
                      <a:lnTo>
                        <a:pt x="31" y="1042"/>
                      </a:lnTo>
                      <a:lnTo>
                        <a:pt x="134" y="988"/>
                      </a:lnTo>
                      <a:lnTo>
                        <a:pt x="226" y="927"/>
                      </a:lnTo>
                      <a:lnTo>
                        <a:pt x="313" y="827"/>
                      </a:lnTo>
                      <a:lnTo>
                        <a:pt x="432" y="689"/>
                      </a:lnTo>
                      <a:lnTo>
                        <a:pt x="463" y="634"/>
                      </a:lnTo>
                      <a:lnTo>
                        <a:pt x="479" y="580"/>
                      </a:lnTo>
                      <a:lnTo>
                        <a:pt x="472" y="526"/>
                      </a:lnTo>
                      <a:lnTo>
                        <a:pt x="444" y="426"/>
                      </a:lnTo>
                      <a:lnTo>
                        <a:pt x="376" y="299"/>
                      </a:lnTo>
                      <a:lnTo>
                        <a:pt x="301" y="229"/>
                      </a:lnTo>
                      <a:lnTo>
                        <a:pt x="235" y="190"/>
                      </a:lnTo>
                      <a:lnTo>
                        <a:pt x="181" y="184"/>
                      </a:lnTo>
                      <a:lnTo>
                        <a:pt x="153" y="190"/>
                      </a:lnTo>
                      <a:lnTo>
                        <a:pt x="150" y="163"/>
                      </a:lnTo>
                      <a:lnTo>
                        <a:pt x="215" y="154"/>
                      </a:lnTo>
                      <a:lnTo>
                        <a:pt x="291" y="154"/>
                      </a:lnTo>
                      <a:lnTo>
                        <a:pt x="238" y="93"/>
                      </a:lnTo>
                      <a:lnTo>
                        <a:pt x="206" y="45"/>
                      </a:lnTo>
                      <a:lnTo>
                        <a:pt x="229" y="27"/>
                      </a:lnTo>
                      <a:lnTo>
                        <a:pt x="313" y="109"/>
                      </a:lnTo>
                      <a:lnTo>
                        <a:pt x="329" y="121"/>
                      </a:lnTo>
                      <a:lnTo>
                        <a:pt x="313" y="57"/>
                      </a:lnTo>
                      <a:lnTo>
                        <a:pt x="301" y="9"/>
                      </a:lnTo>
                      <a:lnTo>
                        <a:pt x="313" y="0"/>
                      </a:lnTo>
                      <a:lnTo>
                        <a:pt x="341" y="9"/>
                      </a:lnTo>
                      <a:lnTo>
                        <a:pt x="366" y="121"/>
                      </a:lnTo>
                      <a:lnTo>
                        <a:pt x="379" y="118"/>
                      </a:lnTo>
                      <a:lnTo>
                        <a:pt x="379" y="30"/>
                      </a:lnTo>
                      <a:lnTo>
                        <a:pt x="404" y="21"/>
                      </a:lnTo>
                      <a:lnTo>
                        <a:pt x="422" y="36"/>
                      </a:lnTo>
                      <a:lnTo>
                        <a:pt x="413" y="154"/>
                      </a:lnTo>
                      <a:lnTo>
                        <a:pt x="407" y="202"/>
                      </a:lnTo>
                      <a:lnTo>
                        <a:pt x="422" y="299"/>
                      </a:lnTo>
                      <a:lnTo>
                        <a:pt x="472" y="402"/>
                      </a:lnTo>
                      <a:lnTo>
                        <a:pt x="525" y="520"/>
                      </a:lnTo>
                      <a:lnTo>
                        <a:pt x="566" y="607"/>
                      </a:lnTo>
                      <a:lnTo>
                        <a:pt x="563" y="652"/>
                      </a:lnTo>
                      <a:lnTo>
                        <a:pt x="488" y="734"/>
                      </a:lnTo>
                      <a:lnTo>
                        <a:pt x="385" y="836"/>
                      </a:lnTo>
                      <a:lnTo>
                        <a:pt x="301" y="937"/>
                      </a:lnTo>
                      <a:lnTo>
                        <a:pt x="197" y="1070"/>
                      </a:lnTo>
                      <a:lnTo>
                        <a:pt x="112" y="1136"/>
                      </a:lnTo>
                      <a:lnTo>
                        <a:pt x="47" y="1154"/>
                      </a:lnTo>
                      <a:lnTo>
                        <a:pt x="13" y="1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795960" y="1572120"/>
                  <a:ext cx="246240" cy="200880"/>
                </a:xfrm>
                <a:custGeom>
                  <a:avLst/>
                  <a:gdLst/>
                  <a:ahLst/>
                  <a:rect l="l" t="t" r="r" b="b"/>
                  <a:pathLst>
                    <a:path w="1037" h="581">
                      <a:moveTo>
                        <a:pt x="210" y="468"/>
                      </a:moveTo>
                      <a:lnTo>
                        <a:pt x="361" y="462"/>
                      </a:lnTo>
                      <a:lnTo>
                        <a:pt x="498" y="444"/>
                      </a:lnTo>
                      <a:lnTo>
                        <a:pt x="583" y="423"/>
                      </a:lnTo>
                      <a:lnTo>
                        <a:pt x="705" y="354"/>
                      </a:lnTo>
                      <a:lnTo>
                        <a:pt x="792" y="288"/>
                      </a:lnTo>
                      <a:lnTo>
                        <a:pt x="906" y="207"/>
                      </a:lnTo>
                      <a:lnTo>
                        <a:pt x="959" y="156"/>
                      </a:lnTo>
                      <a:lnTo>
                        <a:pt x="1000" y="120"/>
                      </a:lnTo>
                      <a:lnTo>
                        <a:pt x="1037" y="81"/>
                      </a:lnTo>
                      <a:lnTo>
                        <a:pt x="1037" y="39"/>
                      </a:lnTo>
                      <a:lnTo>
                        <a:pt x="996" y="0"/>
                      </a:lnTo>
                      <a:lnTo>
                        <a:pt x="971" y="9"/>
                      </a:lnTo>
                      <a:lnTo>
                        <a:pt x="903" y="90"/>
                      </a:lnTo>
                      <a:lnTo>
                        <a:pt x="828" y="183"/>
                      </a:lnTo>
                      <a:lnTo>
                        <a:pt x="752" y="270"/>
                      </a:lnTo>
                      <a:lnTo>
                        <a:pt x="642" y="342"/>
                      </a:lnTo>
                      <a:lnTo>
                        <a:pt x="548" y="390"/>
                      </a:lnTo>
                      <a:lnTo>
                        <a:pt x="445" y="414"/>
                      </a:lnTo>
                      <a:lnTo>
                        <a:pt x="301" y="417"/>
                      </a:lnTo>
                      <a:lnTo>
                        <a:pt x="216" y="417"/>
                      </a:lnTo>
                      <a:lnTo>
                        <a:pt x="144" y="363"/>
                      </a:lnTo>
                      <a:lnTo>
                        <a:pt x="125" y="327"/>
                      </a:lnTo>
                      <a:lnTo>
                        <a:pt x="94" y="327"/>
                      </a:lnTo>
                      <a:lnTo>
                        <a:pt x="116" y="372"/>
                      </a:lnTo>
                      <a:lnTo>
                        <a:pt x="150" y="414"/>
                      </a:lnTo>
                      <a:lnTo>
                        <a:pt x="66" y="396"/>
                      </a:lnTo>
                      <a:lnTo>
                        <a:pt x="3" y="387"/>
                      </a:lnTo>
                      <a:lnTo>
                        <a:pt x="3" y="405"/>
                      </a:lnTo>
                      <a:lnTo>
                        <a:pt x="59" y="417"/>
                      </a:lnTo>
                      <a:lnTo>
                        <a:pt x="97" y="441"/>
                      </a:lnTo>
                      <a:lnTo>
                        <a:pt x="131" y="444"/>
                      </a:lnTo>
                      <a:lnTo>
                        <a:pt x="78" y="462"/>
                      </a:lnTo>
                      <a:lnTo>
                        <a:pt x="0" y="481"/>
                      </a:lnTo>
                      <a:lnTo>
                        <a:pt x="3" y="499"/>
                      </a:lnTo>
                      <a:lnTo>
                        <a:pt x="28" y="505"/>
                      </a:lnTo>
                      <a:lnTo>
                        <a:pt x="103" y="481"/>
                      </a:lnTo>
                      <a:lnTo>
                        <a:pt x="150" y="477"/>
                      </a:lnTo>
                      <a:lnTo>
                        <a:pt x="122" y="505"/>
                      </a:lnTo>
                      <a:lnTo>
                        <a:pt x="78" y="550"/>
                      </a:lnTo>
                      <a:lnTo>
                        <a:pt x="59" y="562"/>
                      </a:lnTo>
                      <a:lnTo>
                        <a:pt x="75" y="581"/>
                      </a:lnTo>
                      <a:lnTo>
                        <a:pt x="113" y="559"/>
                      </a:lnTo>
                      <a:lnTo>
                        <a:pt x="163" y="514"/>
                      </a:lnTo>
                      <a:lnTo>
                        <a:pt x="210" y="46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1022760" y="1551600"/>
                  <a:ext cx="144360" cy="276480"/>
                </a:xfrm>
                <a:custGeom>
                  <a:avLst/>
                  <a:gdLst/>
                  <a:ahLst/>
                  <a:rect l="l" t="t" r="r" b="b"/>
                  <a:pathLst>
                    <a:path w="608" h="800">
                      <a:moveTo>
                        <a:pt x="38" y="90"/>
                      </a:moveTo>
                      <a:lnTo>
                        <a:pt x="63" y="27"/>
                      </a:lnTo>
                      <a:lnTo>
                        <a:pt x="104" y="0"/>
                      </a:lnTo>
                      <a:lnTo>
                        <a:pt x="141" y="0"/>
                      </a:lnTo>
                      <a:lnTo>
                        <a:pt x="179" y="18"/>
                      </a:lnTo>
                      <a:lnTo>
                        <a:pt x="216" y="54"/>
                      </a:lnTo>
                      <a:lnTo>
                        <a:pt x="235" y="117"/>
                      </a:lnTo>
                      <a:lnTo>
                        <a:pt x="245" y="180"/>
                      </a:lnTo>
                      <a:lnTo>
                        <a:pt x="263" y="243"/>
                      </a:lnTo>
                      <a:lnTo>
                        <a:pt x="298" y="312"/>
                      </a:lnTo>
                      <a:lnTo>
                        <a:pt x="357" y="384"/>
                      </a:lnTo>
                      <a:lnTo>
                        <a:pt x="415" y="432"/>
                      </a:lnTo>
                      <a:lnTo>
                        <a:pt x="499" y="468"/>
                      </a:lnTo>
                      <a:lnTo>
                        <a:pt x="571" y="522"/>
                      </a:lnTo>
                      <a:lnTo>
                        <a:pt x="608" y="577"/>
                      </a:lnTo>
                      <a:lnTo>
                        <a:pt x="602" y="622"/>
                      </a:lnTo>
                      <a:lnTo>
                        <a:pt x="593" y="676"/>
                      </a:lnTo>
                      <a:lnTo>
                        <a:pt x="565" y="712"/>
                      </a:lnTo>
                      <a:lnTo>
                        <a:pt x="518" y="757"/>
                      </a:lnTo>
                      <a:lnTo>
                        <a:pt x="449" y="790"/>
                      </a:lnTo>
                      <a:lnTo>
                        <a:pt x="396" y="800"/>
                      </a:lnTo>
                      <a:lnTo>
                        <a:pt x="320" y="784"/>
                      </a:lnTo>
                      <a:lnTo>
                        <a:pt x="251" y="748"/>
                      </a:lnTo>
                      <a:lnTo>
                        <a:pt x="179" y="694"/>
                      </a:lnTo>
                      <a:lnTo>
                        <a:pt x="129" y="631"/>
                      </a:lnTo>
                      <a:lnTo>
                        <a:pt x="82" y="550"/>
                      </a:lnTo>
                      <a:lnTo>
                        <a:pt x="44" y="456"/>
                      </a:lnTo>
                      <a:lnTo>
                        <a:pt x="19" y="375"/>
                      </a:lnTo>
                      <a:lnTo>
                        <a:pt x="7" y="297"/>
                      </a:lnTo>
                      <a:lnTo>
                        <a:pt x="0" y="189"/>
                      </a:lnTo>
                      <a:lnTo>
                        <a:pt x="19" y="117"/>
                      </a:lnTo>
                      <a:lnTo>
                        <a:pt x="38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1140840" y="1669680"/>
                  <a:ext cx="247680" cy="250920"/>
                </a:xfrm>
                <a:custGeom>
                  <a:avLst/>
                  <a:gdLst/>
                  <a:ahLst/>
                  <a:rect l="l" t="t" r="r" b="b"/>
                  <a:pathLst>
                    <a:path w="1043" h="726">
                      <a:moveTo>
                        <a:pt x="116" y="230"/>
                      </a:moveTo>
                      <a:lnTo>
                        <a:pt x="216" y="147"/>
                      </a:lnTo>
                      <a:lnTo>
                        <a:pt x="338" y="72"/>
                      </a:lnTo>
                      <a:lnTo>
                        <a:pt x="417" y="27"/>
                      </a:lnTo>
                      <a:lnTo>
                        <a:pt x="479" y="12"/>
                      </a:lnTo>
                      <a:lnTo>
                        <a:pt x="529" y="0"/>
                      </a:lnTo>
                      <a:lnTo>
                        <a:pt x="573" y="18"/>
                      </a:lnTo>
                      <a:lnTo>
                        <a:pt x="601" y="75"/>
                      </a:lnTo>
                      <a:lnTo>
                        <a:pt x="620" y="230"/>
                      </a:lnTo>
                      <a:lnTo>
                        <a:pt x="620" y="416"/>
                      </a:lnTo>
                      <a:lnTo>
                        <a:pt x="620" y="536"/>
                      </a:lnTo>
                      <a:lnTo>
                        <a:pt x="642" y="609"/>
                      </a:lnTo>
                      <a:lnTo>
                        <a:pt x="686" y="597"/>
                      </a:lnTo>
                      <a:lnTo>
                        <a:pt x="717" y="552"/>
                      </a:lnTo>
                      <a:lnTo>
                        <a:pt x="779" y="500"/>
                      </a:lnTo>
                      <a:lnTo>
                        <a:pt x="876" y="470"/>
                      </a:lnTo>
                      <a:lnTo>
                        <a:pt x="943" y="470"/>
                      </a:lnTo>
                      <a:lnTo>
                        <a:pt x="1043" y="488"/>
                      </a:lnTo>
                      <a:lnTo>
                        <a:pt x="1037" y="524"/>
                      </a:lnTo>
                      <a:lnTo>
                        <a:pt x="1015" y="555"/>
                      </a:lnTo>
                      <a:lnTo>
                        <a:pt x="981" y="561"/>
                      </a:lnTo>
                      <a:lnTo>
                        <a:pt x="943" y="542"/>
                      </a:lnTo>
                      <a:lnTo>
                        <a:pt x="886" y="518"/>
                      </a:lnTo>
                      <a:lnTo>
                        <a:pt x="829" y="518"/>
                      </a:lnTo>
                      <a:lnTo>
                        <a:pt x="754" y="564"/>
                      </a:lnTo>
                      <a:lnTo>
                        <a:pt x="708" y="633"/>
                      </a:lnTo>
                      <a:lnTo>
                        <a:pt x="698" y="690"/>
                      </a:lnTo>
                      <a:lnTo>
                        <a:pt x="679" y="726"/>
                      </a:lnTo>
                      <a:lnTo>
                        <a:pt x="604" y="723"/>
                      </a:lnTo>
                      <a:lnTo>
                        <a:pt x="601" y="669"/>
                      </a:lnTo>
                      <a:lnTo>
                        <a:pt x="576" y="591"/>
                      </a:lnTo>
                      <a:lnTo>
                        <a:pt x="567" y="509"/>
                      </a:lnTo>
                      <a:lnTo>
                        <a:pt x="573" y="401"/>
                      </a:lnTo>
                      <a:lnTo>
                        <a:pt x="564" y="248"/>
                      </a:lnTo>
                      <a:lnTo>
                        <a:pt x="558" y="147"/>
                      </a:lnTo>
                      <a:lnTo>
                        <a:pt x="539" y="111"/>
                      </a:lnTo>
                      <a:lnTo>
                        <a:pt x="501" y="75"/>
                      </a:lnTo>
                      <a:lnTo>
                        <a:pt x="461" y="75"/>
                      </a:lnTo>
                      <a:lnTo>
                        <a:pt x="403" y="111"/>
                      </a:lnTo>
                      <a:lnTo>
                        <a:pt x="328" y="181"/>
                      </a:lnTo>
                      <a:lnTo>
                        <a:pt x="235" y="272"/>
                      </a:lnTo>
                      <a:lnTo>
                        <a:pt x="141" y="356"/>
                      </a:lnTo>
                      <a:lnTo>
                        <a:pt x="94" y="383"/>
                      </a:lnTo>
                      <a:lnTo>
                        <a:pt x="38" y="383"/>
                      </a:lnTo>
                      <a:lnTo>
                        <a:pt x="0" y="344"/>
                      </a:lnTo>
                      <a:lnTo>
                        <a:pt x="3" y="281"/>
                      </a:lnTo>
                      <a:lnTo>
                        <a:pt x="41" y="248"/>
                      </a:lnTo>
                      <a:lnTo>
                        <a:pt x="84" y="239"/>
                      </a:lnTo>
                      <a:lnTo>
                        <a:pt x="116" y="23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1127520" y="1779120"/>
                  <a:ext cx="169200" cy="263520"/>
                </a:xfrm>
                <a:custGeom>
                  <a:avLst/>
                  <a:gdLst/>
                  <a:ahLst/>
                  <a:rect l="l" t="t" r="r" b="b"/>
                  <a:pathLst>
                    <a:path w="713" h="762">
                      <a:moveTo>
                        <a:pt x="0" y="64"/>
                      </a:moveTo>
                      <a:lnTo>
                        <a:pt x="22" y="16"/>
                      </a:lnTo>
                      <a:lnTo>
                        <a:pt x="69" y="0"/>
                      </a:lnTo>
                      <a:lnTo>
                        <a:pt x="134" y="7"/>
                      </a:lnTo>
                      <a:lnTo>
                        <a:pt x="150" y="52"/>
                      </a:lnTo>
                      <a:lnTo>
                        <a:pt x="125" y="227"/>
                      </a:lnTo>
                      <a:lnTo>
                        <a:pt x="122" y="360"/>
                      </a:lnTo>
                      <a:lnTo>
                        <a:pt x="116" y="435"/>
                      </a:lnTo>
                      <a:lnTo>
                        <a:pt x="116" y="450"/>
                      </a:lnTo>
                      <a:lnTo>
                        <a:pt x="131" y="524"/>
                      </a:lnTo>
                      <a:lnTo>
                        <a:pt x="172" y="536"/>
                      </a:lnTo>
                      <a:lnTo>
                        <a:pt x="225" y="524"/>
                      </a:lnTo>
                      <a:lnTo>
                        <a:pt x="303" y="481"/>
                      </a:lnTo>
                      <a:lnTo>
                        <a:pt x="387" y="460"/>
                      </a:lnTo>
                      <a:lnTo>
                        <a:pt x="482" y="444"/>
                      </a:lnTo>
                      <a:lnTo>
                        <a:pt x="585" y="432"/>
                      </a:lnTo>
                      <a:lnTo>
                        <a:pt x="660" y="432"/>
                      </a:lnTo>
                      <a:lnTo>
                        <a:pt x="694" y="441"/>
                      </a:lnTo>
                      <a:lnTo>
                        <a:pt x="713" y="463"/>
                      </a:lnTo>
                      <a:lnTo>
                        <a:pt x="704" y="496"/>
                      </a:lnTo>
                      <a:lnTo>
                        <a:pt x="657" y="524"/>
                      </a:lnTo>
                      <a:lnTo>
                        <a:pt x="613" y="563"/>
                      </a:lnTo>
                      <a:lnTo>
                        <a:pt x="572" y="618"/>
                      </a:lnTo>
                      <a:lnTo>
                        <a:pt x="547" y="663"/>
                      </a:lnTo>
                      <a:lnTo>
                        <a:pt x="526" y="708"/>
                      </a:lnTo>
                      <a:lnTo>
                        <a:pt x="510" y="762"/>
                      </a:lnTo>
                      <a:lnTo>
                        <a:pt x="488" y="762"/>
                      </a:lnTo>
                      <a:lnTo>
                        <a:pt x="469" y="741"/>
                      </a:lnTo>
                      <a:lnTo>
                        <a:pt x="462" y="681"/>
                      </a:lnTo>
                      <a:lnTo>
                        <a:pt x="507" y="627"/>
                      </a:lnTo>
                      <a:lnTo>
                        <a:pt x="566" y="563"/>
                      </a:lnTo>
                      <a:lnTo>
                        <a:pt x="622" y="515"/>
                      </a:lnTo>
                      <a:lnTo>
                        <a:pt x="647" y="499"/>
                      </a:lnTo>
                      <a:lnTo>
                        <a:pt x="657" y="478"/>
                      </a:lnTo>
                      <a:lnTo>
                        <a:pt x="632" y="463"/>
                      </a:lnTo>
                      <a:lnTo>
                        <a:pt x="547" y="463"/>
                      </a:lnTo>
                      <a:lnTo>
                        <a:pt x="440" y="481"/>
                      </a:lnTo>
                      <a:lnTo>
                        <a:pt x="356" y="509"/>
                      </a:lnTo>
                      <a:lnTo>
                        <a:pt x="265" y="560"/>
                      </a:lnTo>
                      <a:lnTo>
                        <a:pt x="187" y="596"/>
                      </a:lnTo>
                      <a:lnTo>
                        <a:pt x="103" y="599"/>
                      </a:lnTo>
                      <a:lnTo>
                        <a:pt x="69" y="587"/>
                      </a:lnTo>
                      <a:lnTo>
                        <a:pt x="50" y="542"/>
                      </a:lnTo>
                      <a:lnTo>
                        <a:pt x="37" y="478"/>
                      </a:lnTo>
                      <a:lnTo>
                        <a:pt x="31" y="360"/>
                      </a:lnTo>
                      <a:lnTo>
                        <a:pt x="19" y="151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7" name=""/>
              <p:cNvGrpSpPr/>
              <p:nvPr/>
            </p:nvGrpSpPr>
            <p:grpSpPr>
              <a:xfrm>
                <a:off x="1323360" y="1757520"/>
                <a:ext cx="102240" cy="303120"/>
                <a:chOff x="1323360" y="1757520"/>
                <a:chExt cx="102240" cy="303120"/>
              </a:xfrm>
            </p:grpSpPr>
            <p:sp>
              <p:nvSpPr>
                <p:cNvPr id="2518" name=""/>
                <p:cNvSpPr/>
                <p:nvPr/>
              </p:nvSpPr>
              <p:spPr>
                <a:xfrm>
                  <a:off x="1344960" y="1926360"/>
                  <a:ext cx="80640" cy="37440"/>
                </a:xfrm>
                <a:custGeom>
                  <a:avLst/>
                  <a:gdLst/>
                  <a:ahLst/>
                  <a:rect l="l" t="t" r="r" b="b"/>
                  <a:pathLst>
                    <a:path w="340" h="109">
                      <a:moveTo>
                        <a:pt x="340" y="109"/>
                      </a:moveTo>
                      <a:lnTo>
                        <a:pt x="165" y="30"/>
                      </a:lnTo>
                      <a:lnTo>
                        <a:pt x="48" y="0"/>
                      </a:lnTo>
                      <a:lnTo>
                        <a:pt x="10" y="0"/>
                      </a:lnTo>
                      <a:lnTo>
                        <a:pt x="0" y="27"/>
                      </a:lnTo>
                      <a:lnTo>
                        <a:pt x="22" y="48"/>
                      </a:lnTo>
                      <a:lnTo>
                        <a:pt x="70" y="54"/>
                      </a:lnTo>
                      <a:lnTo>
                        <a:pt x="184" y="75"/>
                      </a:lnTo>
                      <a:lnTo>
                        <a:pt x="340" y="10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1323360" y="1960200"/>
                  <a:ext cx="22680" cy="100440"/>
                </a:xfrm>
                <a:custGeom>
                  <a:avLst/>
                  <a:gdLst/>
                  <a:ahLst/>
                  <a:rect l="l" t="t" r="r" b="b"/>
                  <a:pathLst>
                    <a:path w="97" h="291">
                      <a:moveTo>
                        <a:pt x="97" y="291"/>
                      </a:moveTo>
                      <a:lnTo>
                        <a:pt x="94" y="148"/>
                      </a:lnTo>
                      <a:lnTo>
                        <a:pt x="69" y="39"/>
                      </a:lnTo>
                      <a:lnTo>
                        <a:pt x="41" y="0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54"/>
                      </a:lnTo>
                      <a:lnTo>
                        <a:pt x="47" y="184"/>
                      </a:lnTo>
                      <a:lnTo>
                        <a:pt x="97" y="29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1356480" y="1757520"/>
                  <a:ext cx="50760" cy="38160"/>
                </a:xfrm>
                <a:custGeom>
                  <a:avLst/>
                  <a:gdLst/>
                  <a:ahLst/>
                  <a:rect l="l" t="t" r="r" b="b"/>
                  <a:pathLst>
                    <a:path w="214" h="111">
                      <a:moveTo>
                        <a:pt x="0" y="72"/>
                      </a:moveTo>
                      <a:lnTo>
                        <a:pt x="42" y="30"/>
                      </a:lnTo>
                      <a:lnTo>
                        <a:pt x="100" y="3"/>
                      </a:lnTo>
                      <a:lnTo>
                        <a:pt x="166" y="0"/>
                      </a:lnTo>
                      <a:lnTo>
                        <a:pt x="214" y="9"/>
                      </a:lnTo>
                      <a:lnTo>
                        <a:pt x="138" y="18"/>
                      </a:lnTo>
                      <a:lnTo>
                        <a:pt x="109" y="36"/>
                      </a:lnTo>
                      <a:lnTo>
                        <a:pt x="81" y="63"/>
                      </a:lnTo>
                      <a:lnTo>
                        <a:pt x="68" y="93"/>
                      </a:lnTo>
                      <a:lnTo>
                        <a:pt x="42" y="111"/>
                      </a:lnTo>
                      <a:lnTo>
                        <a:pt x="1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21" name=""/>
          <p:cNvSpPr/>
          <p:nvPr/>
        </p:nvSpPr>
        <p:spPr>
          <a:xfrm>
            <a:off x="2442240" y="3184560"/>
            <a:ext cx="387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.e. Breadth First Searc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308520" y="0"/>
            <a:ext cx="17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lgorith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 rot="5400000">
            <a:off x="944640" y="410760"/>
            <a:ext cx="396720" cy="914400"/>
          </a:xfrm>
          <a:custGeom>
            <a:avLst/>
            <a:gdLst>
              <a:gd name="textAreaLeft" fmla="*/ 61920 w 396720"/>
              <a:gd name="textAreaRight" fmla="*/ 347400 w 396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286000" y="2025720"/>
            <a:ext cx="525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 far, the nodes have been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n order of length from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5" name="" descr=""/>
          <p:cNvPicPr/>
          <p:nvPr/>
        </p:nvPicPr>
        <p:blipFill>
          <a:blip r:embed="rId2"/>
          <a:stretch/>
        </p:blipFill>
        <p:spPr>
          <a:xfrm>
            <a:off x="507960" y="3641760"/>
            <a:ext cx="80010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7488000" y="2057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2209680" y="1219320"/>
            <a:ext cx="2895840" cy="876240"/>
          </a:xfrm>
          <a:custGeom>
            <a:avLst/>
            <a:gdLst/>
            <a:ahLst/>
            <a:rect l="l" t="t" r="r" b="b"/>
            <a:pathLst>
              <a:path w="1824" h="552">
                <a:moveTo>
                  <a:pt x="0" y="144"/>
                </a:moveTo>
                <a:cubicBezTo>
                  <a:pt x="328" y="348"/>
                  <a:pt x="656" y="552"/>
                  <a:pt x="960" y="528"/>
                </a:cubicBezTo>
                <a:cubicBezTo>
                  <a:pt x="1264" y="504"/>
                  <a:pt x="1544" y="252"/>
                  <a:pt x="1824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4024080" y="80496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7238880" y="259092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7926120" y="205740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7238880" y="259092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7926120" y="205740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7496280" y="24224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7504200" y="37180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7488360" y="32068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7497720" y="2835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7238880" y="426708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7926120" y="249876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2209680" y="1219320"/>
            <a:ext cx="2895840" cy="876240"/>
          </a:xfrm>
          <a:custGeom>
            <a:avLst/>
            <a:gdLst/>
            <a:ahLst/>
            <a:rect l="l" t="t" r="r" b="b"/>
            <a:pathLst>
              <a:path w="1824" h="552">
                <a:moveTo>
                  <a:pt x="0" y="144"/>
                </a:moveTo>
                <a:cubicBezTo>
                  <a:pt x="328" y="348"/>
                  <a:pt x="656" y="552"/>
                  <a:pt x="960" y="528"/>
                </a:cubicBezTo>
                <a:cubicBezTo>
                  <a:pt x="1264" y="504"/>
                  <a:pt x="1544" y="252"/>
                  <a:pt x="1824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762120" y="1943280"/>
            <a:ext cx="5448240" cy="2179440"/>
          </a:xfrm>
          <a:custGeom>
            <a:avLst/>
            <a:gdLst/>
            <a:ahLst/>
            <a:rect l="l" t="t" r="r" b="b"/>
            <a:pathLst>
              <a:path w="3432" h="1373">
                <a:moveTo>
                  <a:pt x="0" y="272"/>
                </a:moveTo>
                <a:cubicBezTo>
                  <a:pt x="448" y="448"/>
                  <a:pt x="2116" y="1373"/>
                  <a:pt x="2688" y="1328"/>
                </a:cubicBezTo>
                <a:cubicBezTo>
                  <a:pt x="3260" y="1283"/>
                  <a:pt x="3308" y="221"/>
                  <a:pt x="3432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4024080" y="80496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5487840" y="114300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7496280" y="19652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7504200" y="32608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7488360" y="274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7497720" y="23781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2209680" y="1219320"/>
            <a:ext cx="2895840" cy="876240"/>
          </a:xfrm>
          <a:custGeom>
            <a:avLst/>
            <a:gdLst/>
            <a:ahLst/>
            <a:rect l="l" t="t" r="r" b="b"/>
            <a:pathLst>
              <a:path w="1824" h="552">
                <a:moveTo>
                  <a:pt x="0" y="144"/>
                </a:moveTo>
                <a:cubicBezTo>
                  <a:pt x="328" y="348"/>
                  <a:pt x="656" y="552"/>
                  <a:pt x="960" y="528"/>
                </a:cubicBezTo>
                <a:cubicBezTo>
                  <a:pt x="1264" y="504"/>
                  <a:pt x="1544" y="252"/>
                  <a:pt x="1824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762120" y="1943280"/>
            <a:ext cx="5448240" cy="2179440"/>
          </a:xfrm>
          <a:custGeom>
            <a:avLst/>
            <a:gdLst/>
            <a:ahLst/>
            <a:rect l="l" t="t" r="r" b="b"/>
            <a:pathLst>
              <a:path w="3432" h="1373">
                <a:moveTo>
                  <a:pt x="0" y="272"/>
                </a:moveTo>
                <a:cubicBezTo>
                  <a:pt x="448" y="448"/>
                  <a:pt x="2116" y="1373"/>
                  <a:pt x="2688" y="1328"/>
                </a:cubicBezTo>
                <a:cubicBezTo>
                  <a:pt x="3260" y="1283"/>
                  <a:pt x="3308" y="221"/>
                  <a:pt x="3432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4024080" y="80496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5487840" y="114300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7238880" y="213372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7238880" y="380988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7926120" y="204156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7504200" y="32608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7488360" y="274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7497720" y="23781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7509240" y="36450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7514280" y="40989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2209680" y="1219320"/>
            <a:ext cx="2895840" cy="876240"/>
          </a:xfrm>
          <a:custGeom>
            <a:avLst/>
            <a:gdLst/>
            <a:ahLst/>
            <a:rect l="l" t="t" r="r" b="b"/>
            <a:pathLst>
              <a:path w="1824" h="552">
                <a:moveTo>
                  <a:pt x="0" y="144"/>
                </a:moveTo>
                <a:cubicBezTo>
                  <a:pt x="328" y="348"/>
                  <a:pt x="656" y="552"/>
                  <a:pt x="960" y="528"/>
                </a:cubicBezTo>
                <a:cubicBezTo>
                  <a:pt x="1264" y="504"/>
                  <a:pt x="1544" y="252"/>
                  <a:pt x="1824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762120" y="1943280"/>
            <a:ext cx="5448240" cy="2179440"/>
          </a:xfrm>
          <a:custGeom>
            <a:avLst/>
            <a:gdLst/>
            <a:ahLst/>
            <a:rect l="l" t="t" r="r" b="b"/>
            <a:pathLst>
              <a:path w="3432" h="1373">
                <a:moveTo>
                  <a:pt x="0" y="272"/>
                </a:moveTo>
                <a:cubicBezTo>
                  <a:pt x="448" y="448"/>
                  <a:pt x="2116" y="1373"/>
                  <a:pt x="2688" y="1328"/>
                </a:cubicBezTo>
                <a:cubicBezTo>
                  <a:pt x="3260" y="1283"/>
                  <a:pt x="3308" y="221"/>
                  <a:pt x="3432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4024080" y="80496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5487840" y="114300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6689520" y="425124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7238880" y="378468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7238880" y="213372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7926120" y="204156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7926120" y="365760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7504200" y="32608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7488360" y="274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7509240" y="36450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7514280" y="40989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7457400" y="441972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7494840" y="478476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2209680" y="1219320"/>
            <a:ext cx="2895840" cy="876240"/>
          </a:xfrm>
          <a:custGeom>
            <a:avLst/>
            <a:gdLst/>
            <a:ahLst/>
            <a:rect l="l" t="t" r="r" b="b"/>
            <a:pathLst>
              <a:path w="1824" h="552">
                <a:moveTo>
                  <a:pt x="0" y="144"/>
                </a:moveTo>
                <a:cubicBezTo>
                  <a:pt x="328" y="348"/>
                  <a:pt x="656" y="552"/>
                  <a:pt x="960" y="528"/>
                </a:cubicBezTo>
                <a:cubicBezTo>
                  <a:pt x="1264" y="504"/>
                  <a:pt x="1544" y="252"/>
                  <a:pt x="1824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762120" y="1943280"/>
            <a:ext cx="5448240" cy="2179440"/>
          </a:xfrm>
          <a:custGeom>
            <a:avLst/>
            <a:gdLst/>
            <a:ahLst/>
            <a:rect l="l" t="t" r="r" b="b"/>
            <a:pathLst>
              <a:path w="3432" h="1373">
                <a:moveTo>
                  <a:pt x="0" y="272"/>
                </a:moveTo>
                <a:cubicBezTo>
                  <a:pt x="448" y="448"/>
                  <a:pt x="2116" y="1373"/>
                  <a:pt x="2688" y="1328"/>
                </a:cubicBezTo>
                <a:cubicBezTo>
                  <a:pt x="3260" y="1283"/>
                  <a:pt x="3308" y="221"/>
                  <a:pt x="3432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4024080" y="80496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5487840" y="114300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6689520" y="425124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7238880" y="378468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7238880" y="213372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7926120" y="204156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7926120" y="365760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2209680" y="1219320"/>
            <a:ext cx="2895840" cy="876240"/>
          </a:xfrm>
          <a:custGeom>
            <a:avLst/>
            <a:gdLst/>
            <a:ahLst/>
            <a:rect l="l" t="t" r="r" b="b"/>
            <a:pathLst>
              <a:path w="1824" h="552">
                <a:moveTo>
                  <a:pt x="0" y="144"/>
                </a:moveTo>
                <a:cubicBezTo>
                  <a:pt x="328" y="348"/>
                  <a:pt x="656" y="552"/>
                  <a:pt x="960" y="528"/>
                </a:cubicBezTo>
                <a:cubicBezTo>
                  <a:pt x="1264" y="504"/>
                  <a:pt x="1544" y="252"/>
                  <a:pt x="1824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762120" y="1943280"/>
            <a:ext cx="5448240" cy="2179440"/>
          </a:xfrm>
          <a:custGeom>
            <a:avLst/>
            <a:gdLst/>
            <a:ahLst/>
            <a:rect l="l" t="t" r="r" b="b"/>
            <a:pathLst>
              <a:path w="3432" h="1373">
                <a:moveTo>
                  <a:pt x="0" y="272"/>
                </a:moveTo>
                <a:cubicBezTo>
                  <a:pt x="448" y="448"/>
                  <a:pt x="2116" y="1373"/>
                  <a:pt x="2688" y="1328"/>
                </a:cubicBezTo>
                <a:cubicBezTo>
                  <a:pt x="3260" y="1283"/>
                  <a:pt x="3308" y="221"/>
                  <a:pt x="3432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4024080" y="80496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5487840" y="114300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6689520" y="425124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7504200" y="32608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7488720" y="50896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7509240" y="36450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7514280" y="40989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7457400" y="441972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7494840" y="478476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7238880" y="378468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7238880" y="213372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7926120" y="204156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7926120" y="365760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>
            <a:off x="2209680" y="1219320"/>
            <a:ext cx="2895840" cy="876240"/>
          </a:xfrm>
          <a:custGeom>
            <a:avLst/>
            <a:gdLst/>
            <a:ahLst/>
            <a:rect l="l" t="t" r="r" b="b"/>
            <a:pathLst>
              <a:path w="1824" h="552">
                <a:moveTo>
                  <a:pt x="0" y="144"/>
                </a:moveTo>
                <a:cubicBezTo>
                  <a:pt x="328" y="348"/>
                  <a:pt x="656" y="552"/>
                  <a:pt x="960" y="528"/>
                </a:cubicBezTo>
                <a:cubicBezTo>
                  <a:pt x="1264" y="504"/>
                  <a:pt x="1544" y="252"/>
                  <a:pt x="1824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762120" y="1943280"/>
            <a:ext cx="5448240" cy="2179440"/>
          </a:xfrm>
          <a:custGeom>
            <a:avLst/>
            <a:gdLst/>
            <a:ahLst/>
            <a:rect l="l" t="t" r="r" b="b"/>
            <a:pathLst>
              <a:path w="3432" h="1373">
                <a:moveTo>
                  <a:pt x="0" y="272"/>
                </a:moveTo>
                <a:cubicBezTo>
                  <a:pt x="448" y="448"/>
                  <a:pt x="2116" y="1373"/>
                  <a:pt x="2688" y="1328"/>
                </a:cubicBezTo>
                <a:cubicBezTo>
                  <a:pt x="3260" y="1283"/>
                  <a:pt x="3308" y="221"/>
                  <a:pt x="3432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4024080" y="80496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5487840" y="114300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6689520" y="425124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7488720" y="50896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7509240" y="36450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7514280" y="40989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7457400" y="441972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7494840" y="478476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7238880" y="378468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7238880" y="213372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7926120" y="204156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7926120" y="365760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7302600" y="5638680"/>
            <a:ext cx="7617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241200" y="4127400"/>
            <a:ext cx="5842080" cy="2387880"/>
          </a:xfrm>
          <a:custGeom>
            <a:avLst/>
            <a:gdLst/>
            <a:ahLst/>
            <a:rect l="l" t="t" r="r" b="b"/>
            <a:pathLst>
              <a:path w="3680" h="1504">
                <a:moveTo>
                  <a:pt x="0" y="0"/>
                </a:moveTo>
                <a:cubicBezTo>
                  <a:pt x="440" y="59"/>
                  <a:pt x="2027" y="101"/>
                  <a:pt x="2640" y="352"/>
                </a:cubicBezTo>
                <a:cubicBezTo>
                  <a:pt x="3253" y="603"/>
                  <a:pt x="3463" y="1264"/>
                  <a:pt x="3680" y="150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7509240" y="21366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7514280" y="25909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7457400" y="291132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7494840" y="3276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7560360" y="365760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2209680" y="1219320"/>
            <a:ext cx="2895840" cy="876240"/>
          </a:xfrm>
          <a:custGeom>
            <a:avLst/>
            <a:gdLst/>
            <a:ahLst/>
            <a:rect l="l" t="t" r="r" b="b"/>
            <a:pathLst>
              <a:path w="1824" h="552">
                <a:moveTo>
                  <a:pt x="0" y="144"/>
                </a:moveTo>
                <a:cubicBezTo>
                  <a:pt x="328" y="348"/>
                  <a:pt x="656" y="552"/>
                  <a:pt x="960" y="528"/>
                </a:cubicBezTo>
                <a:cubicBezTo>
                  <a:pt x="1264" y="504"/>
                  <a:pt x="1544" y="252"/>
                  <a:pt x="1824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762120" y="1943280"/>
            <a:ext cx="5448240" cy="2179440"/>
          </a:xfrm>
          <a:custGeom>
            <a:avLst/>
            <a:gdLst/>
            <a:ahLst/>
            <a:rect l="l" t="t" r="r" b="b"/>
            <a:pathLst>
              <a:path w="3432" h="1373">
                <a:moveTo>
                  <a:pt x="0" y="272"/>
                </a:moveTo>
                <a:cubicBezTo>
                  <a:pt x="448" y="448"/>
                  <a:pt x="2116" y="1373"/>
                  <a:pt x="2688" y="1328"/>
                </a:cubicBezTo>
                <a:cubicBezTo>
                  <a:pt x="3260" y="1283"/>
                  <a:pt x="3308" y="221"/>
                  <a:pt x="3432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241200" y="4127400"/>
            <a:ext cx="5842080" cy="2387880"/>
          </a:xfrm>
          <a:custGeom>
            <a:avLst/>
            <a:gdLst/>
            <a:ahLst/>
            <a:rect l="l" t="t" r="r" b="b"/>
            <a:pathLst>
              <a:path w="3680" h="1504">
                <a:moveTo>
                  <a:pt x="0" y="0"/>
                </a:moveTo>
                <a:cubicBezTo>
                  <a:pt x="440" y="59"/>
                  <a:pt x="2027" y="101"/>
                  <a:pt x="2640" y="352"/>
                </a:cubicBezTo>
                <a:cubicBezTo>
                  <a:pt x="3253" y="603"/>
                  <a:pt x="3463" y="1264"/>
                  <a:pt x="3680" y="150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4024080" y="80496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5487840" y="114300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6689520" y="425124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7238880" y="228600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7238880" y="426708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7926120" y="213372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ph Se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5360" y="1295280"/>
            <a:ext cx="205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Basic Step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9840" y="255276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30258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63720" y="217188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78440" y="2536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2629080"/>
            <a:ext cx="1981440" cy="537840"/>
          </a:xfrm>
          <a:custGeom>
            <a:avLst/>
            <a:gdLst/>
            <a:ahLst/>
            <a:rect l="l" t="t" r="r" b="b"/>
            <a:pathLst>
              <a:path w="1248" h="339">
                <a:moveTo>
                  <a:pt x="0" y="0"/>
                </a:moveTo>
                <a:cubicBezTo>
                  <a:pt x="57" y="48"/>
                  <a:pt x="205" y="273"/>
                  <a:pt x="344" y="288"/>
                </a:cubicBezTo>
                <a:cubicBezTo>
                  <a:pt x="470" y="339"/>
                  <a:pt x="681" y="88"/>
                  <a:pt x="832" y="88"/>
                </a:cubicBezTo>
                <a:cubicBezTo>
                  <a:pt x="983" y="88"/>
                  <a:pt x="1161" y="246"/>
                  <a:pt x="1248" y="288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8280" y="3276720"/>
            <a:ext cx="3844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uppose you know that </a:t>
            </a:r>
            <a:br>
              <a:rPr sz="3000"/>
            </a:b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s reachable from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292640" y="2346480"/>
            <a:ext cx="3476160" cy="1937880"/>
            <a:chOff x="4292640" y="2346480"/>
            <a:chExt cx="3476160" cy="1937880"/>
          </a:xfrm>
        </p:grpSpPr>
        <p:sp>
          <p:nvSpPr>
            <p:cNvPr id="73" name=""/>
            <p:cNvSpPr/>
            <p:nvPr/>
          </p:nvSpPr>
          <p:spPr>
            <a:xfrm>
              <a:off x="4292640" y="2743200"/>
              <a:ext cx="584280" cy="355680"/>
            </a:xfrm>
            <a:custGeom>
              <a:avLst/>
              <a:gdLst/>
              <a:ahLst/>
              <a:rect l="l" t="t" r="r" b="b"/>
              <a:pathLst>
                <a:path w="368" h="224">
                  <a:moveTo>
                    <a:pt x="0" y="224"/>
                  </a:moveTo>
                  <a:lnTo>
                    <a:pt x="368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83040" y="26290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61160" y="234648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19960" y="3276720"/>
              <a:ext cx="304884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&amp; there is an edge 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from 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to 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644560" y="4708440"/>
            <a:ext cx="3332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You know that </a:t>
            </a:r>
            <a:br>
              <a:rPr sz="3000"/>
            </a:b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s reachable from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33120" y="5943600"/>
            <a:ext cx="533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uild up a set of reachable nod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7514280" y="25909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7457400" y="291132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7494840" y="3276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7560360" y="365760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7488360" y="4140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7534800" y="4708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2209680" y="1219320"/>
            <a:ext cx="2895840" cy="876240"/>
          </a:xfrm>
          <a:custGeom>
            <a:avLst/>
            <a:gdLst/>
            <a:ahLst/>
            <a:rect l="l" t="t" r="r" b="b"/>
            <a:pathLst>
              <a:path w="1824" h="552">
                <a:moveTo>
                  <a:pt x="0" y="144"/>
                </a:moveTo>
                <a:cubicBezTo>
                  <a:pt x="328" y="348"/>
                  <a:pt x="656" y="552"/>
                  <a:pt x="960" y="528"/>
                </a:cubicBezTo>
                <a:cubicBezTo>
                  <a:pt x="1264" y="504"/>
                  <a:pt x="1544" y="252"/>
                  <a:pt x="1824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762120" y="1943280"/>
            <a:ext cx="5448240" cy="2179440"/>
          </a:xfrm>
          <a:custGeom>
            <a:avLst/>
            <a:gdLst/>
            <a:ahLst/>
            <a:rect l="l" t="t" r="r" b="b"/>
            <a:pathLst>
              <a:path w="3432" h="1373">
                <a:moveTo>
                  <a:pt x="0" y="272"/>
                </a:moveTo>
                <a:cubicBezTo>
                  <a:pt x="448" y="448"/>
                  <a:pt x="2116" y="1373"/>
                  <a:pt x="2688" y="1328"/>
                </a:cubicBezTo>
                <a:cubicBezTo>
                  <a:pt x="3260" y="1283"/>
                  <a:pt x="3308" y="221"/>
                  <a:pt x="3432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241200" y="4127400"/>
            <a:ext cx="5842080" cy="2387880"/>
          </a:xfrm>
          <a:custGeom>
            <a:avLst/>
            <a:gdLst/>
            <a:ahLst/>
            <a:rect l="l" t="t" r="r" b="b"/>
            <a:pathLst>
              <a:path w="3680" h="1504">
                <a:moveTo>
                  <a:pt x="0" y="0"/>
                </a:moveTo>
                <a:cubicBezTo>
                  <a:pt x="440" y="59"/>
                  <a:pt x="2027" y="101"/>
                  <a:pt x="2640" y="352"/>
                </a:cubicBezTo>
                <a:cubicBezTo>
                  <a:pt x="3253" y="603"/>
                  <a:pt x="3463" y="1264"/>
                  <a:pt x="3680" y="150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4024080" y="80496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5487840" y="114300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6689520" y="425124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5030640" y="600408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7238880" y="228600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7238880" y="426708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7926120" y="213372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7926120" y="417528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7457400" y="291132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7494840" y="3276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7560360" y="365760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7488360" y="4140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7534800" y="4708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2209680" y="1219320"/>
            <a:ext cx="2895840" cy="876240"/>
          </a:xfrm>
          <a:custGeom>
            <a:avLst/>
            <a:gdLst/>
            <a:ahLst/>
            <a:rect l="l" t="t" r="r" b="b"/>
            <a:pathLst>
              <a:path w="1824" h="552">
                <a:moveTo>
                  <a:pt x="0" y="144"/>
                </a:moveTo>
                <a:cubicBezTo>
                  <a:pt x="328" y="348"/>
                  <a:pt x="656" y="552"/>
                  <a:pt x="960" y="528"/>
                </a:cubicBezTo>
                <a:cubicBezTo>
                  <a:pt x="1264" y="504"/>
                  <a:pt x="1544" y="252"/>
                  <a:pt x="1824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762120" y="1943280"/>
            <a:ext cx="5448240" cy="2179440"/>
          </a:xfrm>
          <a:custGeom>
            <a:avLst/>
            <a:gdLst/>
            <a:ahLst/>
            <a:rect l="l" t="t" r="r" b="b"/>
            <a:pathLst>
              <a:path w="3432" h="1373">
                <a:moveTo>
                  <a:pt x="0" y="272"/>
                </a:moveTo>
                <a:cubicBezTo>
                  <a:pt x="448" y="448"/>
                  <a:pt x="2116" y="1373"/>
                  <a:pt x="2688" y="1328"/>
                </a:cubicBezTo>
                <a:cubicBezTo>
                  <a:pt x="3260" y="1283"/>
                  <a:pt x="3308" y="221"/>
                  <a:pt x="3432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241200" y="4127400"/>
            <a:ext cx="5842080" cy="2387880"/>
          </a:xfrm>
          <a:custGeom>
            <a:avLst/>
            <a:gdLst/>
            <a:ahLst/>
            <a:rect l="l" t="t" r="r" b="b"/>
            <a:pathLst>
              <a:path w="3680" h="1504">
                <a:moveTo>
                  <a:pt x="0" y="0"/>
                </a:moveTo>
                <a:cubicBezTo>
                  <a:pt x="440" y="59"/>
                  <a:pt x="2027" y="101"/>
                  <a:pt x="2640" y="352"/>
                </a:cubicBezTo>
                <a:cubicBezTo>
                  <a:pt x="3253" y="603"/>
                  <a:pt x="3463" y="1264"/>
                  <a:pt x="3680" y="150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4024080" y="80496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5487840" y="114300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6689520" y="425124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5030640" y="600408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7238880" y="228600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7238880" y="426708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7926120" y="213372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7926120" y="417528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7494840" y="3276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7560360" y="365760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7488360" y="4140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7534800" y="4708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7547400" y="51307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2209680" y="1219320"/>
            <a:ext cx="2895840" cy="876240"/>
          </a:xfrm>
          <a:custGeom>
            <a:avLst/>
            <a:gdLst/>
            <a:ahLst/>
            <a:rect l="l" t="t" r="r" b="b"/>
            <a:pathLst>
              <a:path w="1824" h="552">
                <a:moveTo>
                  <a:pt x="0" y="144"/>
                </a:moveTo>
                <a:cubicBezTo>
                  <a:pt x="328" y="348"/>
                  <a:pt x="656" y="552"/>
                  <a:pt x="960" y="528"/>
                </a:cubicBezTo>
                <a:cubicBezTo>
                  <a:pt x="1264" y="504"/>
                  <a:pt x="1544" y="252"/>
                  <a:pt x="1824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762120" y="1943280"/>
            <a:ext cx="5448240" cy="2179440"/>
          </a:xfrm>
          <a:custGeom>
            <a:avLst/>
            <a:gdLst/>
            <a:ahLst/>
            <a:rect l="l" t="t" r="r" b="b"/>
            <a:pathLst>
              <a:path w="3432" h="1373">
                <a:moveTo>
                  <a:pt x="0" y="272"/>
                </a:moveTo>
                <a:cubicBezTo>
                  <a:pt x="448" y="448"/>
                  <a:pt x="2116" y="1373"/>
                  <a:pt x="2688" y="1328"/>
                </a:cubicBezTo>
                <a:cubicBezTo>
                  <a:pt x="3260" y="1283"/>
                  <a:pt x="3308" y="221"/>
                  <a:pt x="3432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241200" y="4127400"/>
            <a:ext cx="5842080" cy="2387880"/>
          </a:xfrm>
          <a:custGeom>
            <a:avLst/>
            <a:gdLst/>
            <a:ahLst/>
            <a:rect l="l" t="t" r="r" b="b"/>
            <a:pathLst>
              <a:path w="3680" h="1504">
                <a:moveTo>
                  <a:pt x="0" y="0"/>
                </a:moveTo>
                <a:cubicBezTo>
                  <a:pt x="440" y="59"/>
                  <a:pt x="2027" y="101"/>
                  <a:pt x="2640" y="352"/>
                </a:cubicBezTo>
                <a:cubicBezTo>
                  <a:pt x="3253" y="603"/>
                  <a:pt x="3463" y="1264"/>
                  <a:pt x="3680" y="150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4024080" y="80496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5487840" y="114300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6689520" y="425124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5030640" y="600408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7238880" y="228600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7238880" y="426708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7926120" y="213372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7926120" y="417528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8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9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0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7560360" y="365760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7488360" y="4140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7534800" y="4708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7547400" y="51307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2209680" y="1219320"/>
            <a:ext cx="2895840" cy="876240"/>
          </a:xfrm>
          <a:custGeom>
            <a:avLst/>
            <a:gdLst/>
            <a:ahLst/>
            <a:rect l="l" t="t" r="r" b="b"/>
            <a:pathLst>
              <a:path w="1824" h="552">
                <a:moveTo>
                  <a:pt x="0" y="144"/>
                </a:moveTo>
                <a:cubicBezTo>
                  <a:pt x="328" y="348"/>
                  <a:pt x="656" y="552"/>
                  <a:pt x="960" y="528"/>
                </a:cubicBezTo>
                <a:cubicBezTo>
                  <a:pt x="1264" y="504"/>
                  <a:pt x="1544" y="252"/>
                  <a:pt x="1824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762120" y="1943280"/>
            <a:ext cx="5448240" cy="2179440"/>
          </a:xfrm>
          <a:custGeom>
            <a:avLst/>
            <a:gdLst/>
            <a:ahLst/>
            <a:rect l="l" t="t" r="r" b="b"/>
            <a:pathLst>
              <a:path w="3432" h="1373">
                <a:moveTo>
                  <a:pt x="0" y="272"/>
                </a:moveTo>
                <a:cubicBezTo>
                  <a:pt x="448" y="448"/>
                  <a:pt x="2116" y="1373"/>
                  <a:pt x="2688" y="1328"/>
                </a:cubicBezTo>
                <a:cubicBezTo>
                  <a:pt x="3260" y="1283"/>
                  <a:pt x="3308" y="221"/>
                  <a:pt x="3432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241200" y="4127400"/>
            <a:ext cx="5842080" cy="2387880"/>
          </a:xfrm>
          <a:custGeom>
            <a:avLst/>
            <a:gdLst/>
            <a:ahLst/>
            <a:rect l="l" t="t" r="r" b="b"/>
            <a:pathLst>
              <a:path w="3680" h="1504">
                <a:moveTo>
                  <a:pt x="0" y="0"/>
                </a:moveTo>
                <a:cubicBezTo>
                  <a:pt x="440" y="59"/>
                  <a:pt x="2027" y="101"/>
                  <a:pt x="2640" y="352"/>
                </a:cubicBezTo>
                <a:cubicBezTo>
                  <a:pt x="3253" y="603"/>
                  <a:pt x="3463" y="1264"/>
                  <a:pt x="3680" y="150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4024080" y="80496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5487840" y="114300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6689520" y="425124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5030640" y="600408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7238880" y="228600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7238880" y="426708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7926120" y="213372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7926120" y="417528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7488360" y="4140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7534800" y="4708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7547400" y="51307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>
            <a:off x="2209680" y="1219320"/>
            <a:ext cx="2895840" cy="876240"/>
          </a:xfrm>
          <a:custGeom>
            <a:avLst/>
            <a:gdLst/>
            <a:ahLst/>
            <a:rect l="l" t="t" r="r" b="b"/>
            <a:pathLst>
              <a:path w="1824" h="552">
                <a:moveTo>
                  <a:pt x="0" y="144"/>
                </a:moveTo>
                <a:cubicBezTo>
                  <a:pt x="328" y="348"/>
                  <a:pt x="656" y="552"/>
                  <a:pt x="960" y="528"/>
                </a:cubicBezTo>
                <a:cubicBezTo>
                  <a:pt x="1264" y="504"/>
                  <a:pt x="1544" y="252"/>
                  <a:pt x="1824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762120" y="1943280"/>
            <a:ext cx="5448240" cy="2179440"/>
          </a:xfrm>
          <a:custGeom>
            <a:avLst/>
            <a:gdLst/>
            <a:ahLst/>
            <a:rect l="l" t="t" r="r" b="b"/>
            <a:pathLst>
              <a:path w="3432" h="1373">
                <a:moveTo>
                  <a:pt x="0" y="272"/>
                </a:moveTo>
                <a:cubicBezTo>
                  <a:pt x="448" y="448"/>
                  <a:pt x="2116" y="1373"/>
                  <a:pt x="2688" y="1328"/>
                </a:cubicBezTo>
                <a:cubicBezTo>
                  <a:pt x="3260" y="1283"/>
                  <a:pt x="3308" y="221"/>
                  <a:pt x="3432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241200" y="4127400"/>
            <a:ext cx="5842080" cy="2387880"/>
          </a:xfrm>
          <a:custGeom>
            <a:avLst/>
            <a:gdLst/>
            <a:ahLst/>
            <a:rect l="l" t="t" r="r" b="b"/>
            <a:pathLst>
              <a:path w="3680" h="1504">
                <a:moveTo>
                  <a:pt x="0" y="0"/>
                </a:moveTo>
                <a:cubicBezTo>
                  <a:pt x="440" y="59"/>
                  <a:pt x="2027" y="101"/>
                  <a:pt x="2640" y="352"/>
                </a:cubicBezTo>
                <a:cubicBezTo>
                  <a:pt x="3253" y="603"/>
                  <a:pt x="3463" y="1264"/>
                  <a:pt x="3680" y="150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4024080" y="80496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5487840" y="114300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6689520" y="425124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5030640" y="600408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7238880" y="228600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7238880" y="426708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7926120" y="213372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7926120" y="417528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7302600" y="5638680"/>
            <a:ext cx="7617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1231920" y="5684760"/>
            <a:ext cx="2641680" cy="1046160"/>
          </a:xfrm>
          <a:custGeom>
            <a:avLst/>
            <a:gdLst/>
            <a:ahLst/>
            <a:rect l="l" t="t" r="r" b="b"/>
            <a:pathLst>
              <a:path w="1664" h="659">
                <a:moveTo>
                  <a:pt x="0" y="203"/>
                </a:moveTo>
                <a:cubicBezTo>
                  <a:pt x="175" y="182"/>
                  <a:pt x="779" y="0"/>
                  <a:pt x="1056" y="76"/>
                </a:cubicBezTo>
                <a:cubicBezTo>
                  <a:pt x="1333" y="152"/>
                  <a:pt x="1537" y="538"/>
                  <a:pt x="1664" y="659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2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8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9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1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2" name=""/>
          <p:cNvSpPr/>
          <p:nvPr/>
        </p:nvSpPr>
        <p:spPr>
          <a:xfrm>
            <a:off x="7488360" y="19652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4" name=""/>
          <p:cNvSpPr/>
          <p:nvPr/>
        </p:nvSpPr>
        <p:spPr>
          <a:xfrm>
            <a:off x="2209680" y="1219320"/>
            <a:ext cx="2895840" cy="876240"/>
          </a:xfrm>
          <a:custGeom>
            <a:avLst/>
            <a:gdLst/>
            <a:ahLst/>
            <a:rect l="l" t="t" r="r" b="b"/>
            <a:pathLst>
              <a:path w="1824" h="552">
                <a:moveTo>
                  <a:pt x="0" y="144"/>
                </a:moveTo>
                <a:cubicBezTo>
                  <a:pt x="328" y="348"/>
                  <a:pt x="656" y="552"/>
                  <a:pt x="960" y="528"/>
                </a:cubicBezTo>
                <a:cubicBezTo>
                  <a:pt x="1264" y="504"/>
                  <a:pt x="1544" y="252"/>
                  <a:pt x="1824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5" name=""/>
          <p:cNvSpPr/>
          <p:nvPr/>
        </p:nvSpPr>
        <p:spPr>
          <a:xfrm>
            <a:off x="762120" y="1943280"/>
            <a:ext cx="5448240" cy="2179440"/>
          </a:xfrm>
          <a:custGeom>
            <a:avLst/>
            <a:gdLst/>
            <a:ahLst/>
            <a:rect l="l" t="t" r="r" b="b"/>
            <a:pathLst>
              <a:path w="3432" h="1373">
                <a:moveTo>
                  <a:pt x="0" y="272"/>
                </a:moveTo>
                <a:cubicBezTo>
                  <a:pt x="448" y="448"/>
                  <a:pt x="2116" y="1373"/>
                  <a:pt x="2688" y="1328"/>
                </a:cubicBezTo>
                <a:cubicBezTo>
                  <a:pt x="3260" y="1283"/>
                  <a:pt x="3308" y="221"/>
                  <a:pt x="3432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6" name=""/>
          <p:cNvSpPr/>
          <p:nvPr/>
        </p:nvSpPr>
        <p:spPr>
          <a:xfrm>
            <a:off x="241200" y="4127400"/>
            <a:ext cx="5842080" cy="2387880"/>
          </a:xfrm>
          <a:custGeom>
            <a:avLst/>
            <a:gdLst/>
            <a:ahLst/>
            <a:rect l="l" t="t" r="r" b="b"/>
            <a:pathLst>
              <a:path w="3680" h="1504">
                <a:moveTo>
                  <a:pt x="0" y="0"/>
                </a:moveTo>
                <a:cubicBezTo>
                  <a:pt x="440" y="59"/>
                  <a:pt x="2027" y="101"/>
                  <a:pt x="2640" y="352"/>
                </a:cubicBezTo>
                <a:cubicBezTo>
                  <a:pt x="3253" y="603"/>
                  <a:pt x="3463" y="1264"/>
                  <a:pt x="3680" y="150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>
            <a:off x="1231920" y="5684760"/>
            <a:ext cx="2641680" cy="1046160"/>
          </a:xfrm>
          <a:custGeom>
            <a:avLst/>
            <a:gdLst/>
            <a:ahLst/>
            <a:rect l="l" t="t" r="r" b="b"/>
            <a:pathLst>
              <a:path w="1664" h="659">
                <a:moveTo>
                  <a:pt x="0" y="203"/>
                </a:moveTo>
                <a:cubicBezTo>
                  <a:pt x="175" y="182"/>
                  <a:pt x="779" y="0"/>
                  <a:pt x="1056" y="76"/>
                </a:cubicBezTo>
                <a:cubicBezTo>
                  <a:pt x="1333" y="152"/>
                  <a:pt x="1537" y="538"/>
                  <a:pt x="1664" y="659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>
            <a:off x="4024080" y="80496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>
            <a:off x="5487840" y="114300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6689520" y="425124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>
            <a:off x="5030640" y="600408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>
            <a:off x="7238880" y="205740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7238880" y="327672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7534800" y="23623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7547400" y="278460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7926120" y="195588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>
            <a:off x="7534800" y="23623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>
            <a:off x="7547400" y="278460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>
            <a:off x="7513920" y="3152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>
            <a:off x="2209680" y="1219320"/>
            <a:ext cx="2895840" cy="876240"/>
          </a:xfrm>
          <a:custGeom>
            <a:avLst/>
            <a:gdLst/>
            <a:ahLst/>
            <a:rect l="l" t="t" r="r" b="b"/>
            <a:pathLst>
              <a:path w="1824" h="552">
                <a:moveTo>
                  <a:pt x="0" y="144"/>
                </a:moveTo>
                <a:cubicBezTo>
                  <a:pt x="328" y="348"/>
                  <a:pt x="656" y="552"/>
                  <a:pt x="960" y="528"/>
                </a:cubicBezTo>
                <a:cubicBezTo>
                  <a:pt x="1264" y="504"/>
                  <a:pt x="1544" y="252"/>
                  <a:pt x="1824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2" name=""/>
          <p:cNvSpPr/>
          <p:nvPr/>
        </p:nvSpPr>
        <p:spPr>
          <a:xfrm>
            <a:off x="762120" y="1943280"/>
            <a:ext cx="5448240" cy="2179440"/>
          </a:xfrm>
          <a:custGeom>
            <a:avLst/>
            <a:gdLst/>
            <a:ahLst/>
            <a:rect l="l" t="t" r="r" b="b"/>
            <a:pathLst>
              <a:path w="3432" h="1373">
                <a:moveTo>
                  <a:pt x="0" y="272"/>
                </a:moveTo>
                <a:cubicBezTo>
                  <a:pt x="448" y="448"/>
                  <a:pt x="2116" y="1373"/>
                  <a:pt x="2688" y="1328"/>
                </a:cubicBezTo>
                <a:cubicBezTo>
                  <a:pt x="3260" y="1283"/>
                  <a:pt x="3308" y="221"/>
                  <a:pt x="3432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>
            <a:off x="241200" y="4127400"/>
            <a:ext cx="5842080" cy="2387880"/>
          </a:xfrm>
          <a:custGeom>
            <a:avLst/>
            <a:gdLst/>
            <a:ahLst/>
            <a:rect l="l" t="t" r="r" b="b"/>
            <a:pathLst>
              <a:path w="3680" h="1504">
                <a:moveTo>
                  <a:pt x="0" y="0"/>
                </a:moveTo>
                <a:cubicBezTo>
                  <a:pt x="440" y="59"/>
                  <a:pt x="2027" y="101"/>
                  <a:pt x="2640" y="352"/>
                </a:cubicBezTo>
                <a:cubicBezTo>
                  <a:pt x="3253" y="603"/>
                  <a:pt x="3463" y="1264"/>
                  <a:pt x="3680" y="150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>
            <a:off x="1231920" y="5684760"/>
            <a:ext cx="2641680" cy="1046160"/>
          </a:xfrm>
          <a:custGeom>
            <a:avLst/>
            <a:gdLst/>
            <a:ahLst/>
            <a:rect l="l" t="t" r="r" b="b"/>
            <a:pathLst>
              <a:path w="1664" h="659">
                <a:moveTo>
                  <a:pt x="0" y="203"/>
                </a:moveTo>
                <a:cubicBezTo>
                  <a:pt x="175" y="182"/>
                  <a:pt x="779" y="0"/>
                  <a:pt x="1056" y="76"/>
                </a:cubicBezTo>
                <a:cubicBezTo>
                  <a:pt x="1333" y="152"/>
                  <a:pt x="1537" y="538"/>
                  <a:pt x="1664" y="659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4024080" y="80496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5487840" y="114300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6689520" y="425124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5030640" y="600408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2879640" y="623268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>
            <a:off x="7238880" y="205740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7238880" y="327672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>
            <a:off x="7926120" y="195588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7939080" y="312408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1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2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3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2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3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4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5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6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7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8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7547400" y="278460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7513920" y="3152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>
            <a:off x="2209680" y="1219320"/>
            <a:ext cx="2895840" cy="876240"/>
          </a:xfrm>
          <a:custGeom>
            <a:avLst/>
            <a:gdLst/>
            <a:ahLst/>
            <a:rect l="l" t="t" r="r" b="b"/>
            <a:pathLst>
              <a:path w="1824" h="552">
                <a:moveTo>
                  <a:pt x="0" y="144"/>
                </a:moveTo>
                <a:cubicBezTo>
                  <a:pt x="328" y="348"/>
                  <a:pt x="656" y="552"/>
                  <a:pt x="960" y="528"/>
                </a:cubicBezTo>
                <a:cubicBezTo>
                  <a:pt x="1264" y="504"/>
                  <a:pt x="1544" y="252"/>
                  <a:pt x="1824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>
            <a:off x="762120" y="1943280"/>
            <a:ext cx="5448240" cy="2179440"/>
          </a:xfrm>
          <a:custGeom>
            <a:avLst/>
            <a:gdLst/>
            <a:ahLst/>
            <a:rect l="l" t="t" r="r" b="b"/>
            <a:pathLst>
              <a:path w="3432" h="1373">
                <a:moveTo>
                  <a:pt x="0" y="272"/>
                </a:moveTo>
                <a:cubicBezTo>
                  <a:pt x="448" y="448"/>
                  <a:pt x="2116" y="1373"/>
                  <a:pt x="2688" y="1328"/>
                </a:cubicBezTo>
                <a:cubicBezTo>
                  <a:pt x="3260" y="1283"/>
                  <a:pt x="3308" y="221"/>
                  <a:pt x="3432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9" name=""/>
          <p:cNvSpPr/>
          <p:nvPr/>
        </p:nvSpPr>
        <p:spPr>
          <a:xfrm>
            <a:off x="241200" y="4127400"/>
            <a:ext cx="5842080" cy="2387880"/>
          </a:xfrm>
          <a:custGeom>
            <a:avLst/>
            <a:gdLst/>
            <a:ahLst/>
            <a:rect l="l" t="t" r="r" b="b"/>
            <a:pathLst>
              <a:path w="3680" h="1504">
                <a:moveTo>
                  <a:pt x="0" y="0"/>
                </a:moveTo>
                <a:cubicBezTo>
                  <a:pt x="440" y="59"/>
                  <a:pt x="2027" y="101"/>
                  <a:pt x="2640" y="352"/>
                </a:cubicBezTo>
                <a:cubicBezTo>
                  <a:pt x="3253" y="603"/>
                  <a:pt x="3463" y="1264"/>
                  <a:pt x="3680" y="150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0" name=""/>
          <p:cNvSpPr/>
          <p:nvPr/>
        </p:nvSpPr>
        <p:spPr>
          <a:xfrm>
            <a:off x="1231920" y="5684760"/>
            <a:ext cx="2641680" cy="1046160"/>
          </a:xfrm>
          <a:custGeom>
            <a:avLst/>
            <a:gdLst/>
            <a:ahLst/>
            <a:rect l="l" t="t" r="r" b="b"/>
            <a:pathLst>
              <a:path w="1664" h="659">
                <a:moveTo>
                  <a:pt x="0" y="203"/>
                </a:moveTo>
                <a:cubicBezTo>
                  <a:pt x="175" y="182"/>
                  <a:pt x="779" y="0"/>
                  <a:pt x="1056" y="76"/>
                </a:cubicBezTo>
                <a:cubicBezTo>
                  <a:pt x="1333" y="152"/>
                  <a:pt x="1537" y="538"/>
                  <a:pt x="1664" y="659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>
            <a:off x="4024080" y="80496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2" name=""/>
          <p:cNvSpPr/>
          <p:nvPr/>
        </p:nvSpPr>
        <p:spPr>
          <a:xfrm>
            <a:off x="5487840" y="114300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3" name=""/>
          <p:cNvSpPr/>
          <p:nvPr/>
        </p:nvSpPr>
        <p:spPr>
          <a:xfrm>
            <a:off x="6689520" y="425124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4" name=""/>
          <p:cNvSpPr/>
          <p:nvPr/>
        </p:nvSpPr>
        <p:spPr>
          <a:xfrm>
            <a:off x="5030640" y="600408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5" name=""/>
          <p:cNvSpPr/>
          <p:nvPr/>
        </p:nvSpPr>
        <p:spPr>
          <a:xfrm>
            <a:off x="2879640" y="623268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6" name=""/>
          <p:cNvSpPr/>
          <p:nvPr/>
        </p:nvSpPr>
        <p:spPr>
          <a:xfrm>
            <a:off x="7238880" y="205740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7" name=""/>
          <p:cNvSpPr/>
          <p:nvPr/>
        </p:nvSpPr>
        <p:spPr>
          <a:xfrm>
            <a:off x="7238880" y="327672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7926120" y="195588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9" name=""/>
          <p:cNvSpPr/>
          <p:nvPr/>
        </p:nvSpPr>
        <p:spPr>
          <a:xfrm>
            <a:off x="7939080" y="312408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0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1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2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3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4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5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6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7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8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9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1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2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3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4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5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6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7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8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1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9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0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1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7513920" y="3152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>
            <a:off x="2209680" y="1219320"/>
            <a:ext cx="2895840" cy="876240"/>
          </a:xfrm>
          <a:custGeom>
            <a:avLst/>
            <a:gdLst/>
            <a:ahLst/>
            <a:rect l="l" t="t" r="r" b="b"/>
            <a:pathLst>
              <a:path w="1824" h="552">
                <a:moveTo>
                  <a:pt x="0" y="144"/>
                </a:moveTo>
                <a:cubicBezTo>
                  <a:pt x="328" y="348"/>
                  <a:pt x="656" y="552"/>
                  <a:pt x="960" y="528"/>
                </a:cubicBezTo>
                <a:cubicBezTo>
                  <a:pt x="1264" y="504"/>
                  <a:pt x="1544" y="252"/>
                  <a:pt x="1824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>
            <a:off x="762120" y="1943280"/>
            <a:ext cx="5448240" cy="2179440"/>
          </a:xfrm>
          <a:custGeom>
            <a:avLst/>
            <a:gdLst/>
            <a:ahLst/>
            <a:rect l="l" t="t" r="r" b="b"/>
            <a:pathLst>
              <a:path w="3432" h="1373">
                <a:moveTo>
                  <a:pt x="0" y="272"/>
                </a:moveTo>
                <a:cubicBezTo>
                  <a:pt x="448" y="448"/>
                  <a:pt x="2116" y="1373"/>
                  <a:pt x="2688" y="1328"/>
                </a:cubicBezTo>
                <a:cubicBezTo>
                  <a:pt x="3260" y="1283"/>
                  <a:pt x="3308" y="221"/>
                  <a:pt x="3432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241200" y="4127400"/>
            <a:ext cx="5842080" cy="2387880"/>
          </a:xfrm>
          <a:custGeom>
            <a:avLst/>
            <a:gdLst/>
            <a:ahLst/>
            <a:rect l="l" t="t" r="r" b="b"/>
            <a:pathLst>
              <a:path w="3680" h="1504">
                <a:moveTo>
                  <a:pt x="0" y="0"/>
                </a:moveTo>
                <a:cubicBezTo>
                  <a:pt x="440" y="59"/>
                  <a:pt x="2027" y="101"/>
                  <a:pt x="2640" y="352"/>
                </a:cubicBezTo>
                <a:cubicBezTo>
                  <a:pt x="3253" y="603"/>
                  <a:pt x="3463" y="1264"/>
                  <a:pt x="3680" y="150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>
            <a:off x="1231920" y="5684760"/>
            <a:ext cx="2641680" cy="1046160"/>
          </a:xfrm>
          <a:custGeom>
            <a:avLst/>
            <a:gdLst/>
            <a:ahLst/>
            <a:rect l="l" t="t" r="r" b="b"/>
            <a:pathLst>
              <a:path w="1664" h="659">
                <a:moveTo>
                  <a:pt x="0" y="203"/>
                </a:moveTo>
                <a:cubicBezTo>
                  <a:pt x="175" y="182"/>
                  <a:pt x="779" y="0"/>
                  <a:pt x="1056" y="76"/>
                </a:cubicBezTo>
                <a:cubicBezTo>
                  <a:pt x="1333" y="152"/>
                  <a:pt x="1537" y="538"/>
                  <a:pt x="1664" y="659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2031840" y="6375240"/>
            <a:ext cx="1384560" cy="368640"/>
          </a:xfrm>
          <a:custGeom>
            <a:avLst/>
            <a:gdLst/>
            <a:ahLst/>
            <a:rect l="l" t="t" r="r" b="b"/>
            <a:pathLst>
              <a:path w="872" h="232">
                <a:moveTo>
                  <a:pt x="0" y="0"/>
                </a:moveTo>
                <a:cubicBezTo>
                  <a:pt x="147" y="39"/>
                  <a:pt x="690" y="184"/>
                  <a:pt x="872" y="232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>
            <a:off x="4024080" y="80496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5487840" y="114300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6689520" y="425124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>
            <a:off x="5030640" y="600408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>
            <a:off x="2879640" y="623268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7238880" y="365760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>
            <a:off x="7238880" y="327672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>
            <a:off x="7926120" y="195588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>
            <a:off x="7939080" y="312408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7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2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7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8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9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3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4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5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6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7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7513920" y="2009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2209680" y="1219320"/>
            <a:ext cx="2895840" cy="876240"/>
          </a:xfrm>
          <a:custGeom>
            <a:avLst/>
            <a:gdLst/>
            <a:ahLst/>
            <a:rect l="l" t="t" r="r" b="b"/>
            <a:pathLst>
              <a:path w="1824" h="552">
                <a:moveTo>
                  <a:pt x="0" y="144"/>
                </a:moveTo>
                <a:cubicBezTo>
                  <a:pt x="328" y="348"/>
                  <a:pt x="656" y="552"/>
                  <a:pt x="960" y="528"/>
                </a:cubicBezTo>
                <a:cubicBezTo>
                  <a:pt x="1264" y="504"/>
                  <a:pt x="1544" y="252"/>
                  <a:pt x="1824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>
            <a:off x="762120" y="1943280"/>
            <a:ext cx="5448240" cy="2179440"/>
          </a:xfrm>
          <a:custGeom>
            <a:avLst/>
            <a:gdLst/>
            <a:ahLst/>
            <a:rect l="l" t="t" r="r" b="b"/>
            <a:pathLst>
              <a:path w="3432" h="1373">
                <a:moveTo>
                  <a:pt x="0" y="272"/>
                </a:moveTo>
                <a:cubicBezTo>
                  <a:pt x="448" y="448"/>
                  <a:pt x="2116" y="1373"/>
                  <a:pt x="2688" y="1328"/>
                </a:cubicBezTo>
                <a:cubicBezTo>
                  <a:pt x="3260" y="1283"/>
                  <a:pt x="3308" y="221"/>
                  <a:pt x="3432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241200" y="4127400"/>
            <a:ext cx="5842080" cy="2387880"/>
          </a:xfrm>
          <a:custGeom>
            <a:avLst/>
            <a:gdLst/>
            <a:ahLst/>
            <a:rect l="l" t="t" r="r" b="b"/>
            <a:pathLst>
              <a:path w="3680" h="1504">
                <a:moveTo>
                  <a:pt x="0" y="0"/>
                </a:moveTo>
                <a:cubicBezTo>
                  <a:pt x="440" y="59"/>
                  <a:pt x="2027" y="101"/>
                  <a:pt x="2640" y="352"/>
                </a:cubicBezTo>
                <a:cubicBezTo>
                  <a:pt x="3253" y="603"/>
                  <a:pt x="3463" y="1264"/>
                  <a:pt x="3680" y="150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1231920" y="5684760"/>
            <a:ext cx="2641680" cy="1046160"/>
          </a:xfrm>
          <a:custGeom>
            <a:avLst/>
            <a:gdLst/>
            <a:ahLst/>
            <a:rect l="l" t="t" r="r" b="b"/>
            <a:pathLst>
              <a:path w="1664" h="659">
                <a:moveTo>
                  <a:pt x="0" y="203"/>
                </a:moveTo>
                <a:cubicBezTo>
                  <a:pt x="175" y="182"/>
                  <a:pt x="779" y="0"/>
                  <a:pt x="1056" y="76"/>
                </a:cubicBezTo>
                <a:cubicBezTo>
                  <a:pt x="1333" y="152"/>
                  <a:pt x="1537" y="538"/>
                  <a:pt x="1664" y="659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2031840" y="6375240"/>
            <a:ext cx="1384560" cy="368640"/>
          </a:xfrm>
          <a:custGeom>
            <a:avLst/>
            <a:gdLst/>
            <a:ahLst/>
            <a:rect l="l" t="t" r="r" b="b"/>
            <a:pathLst>
              <a:path w="872" h="232">
                <a:moveTo>
                  <a:pt x="0" y="0"/>
                </a:moveTo>
                <a:cubicBezTo>
                  <a:pt x="147" y="39"/>
                  <a:pt x="690" y="184"/>
                  <a:pt x="872" y="232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4024080" y="80496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5487840" y="114300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6689520" y="425124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5030640" y="600408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2879640" y="623268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7238880" y="251460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7238880" y="213372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7939080" y="198108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ph Se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90680" y="33750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14200" y="299412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60520" y="2660760"/>
            <a:ext cx="1976760" cy="1836720"/>
            <a:chOff x="1460520" y="2660760"/>
            <a:chExt cx="1976760" cy="1836720"/>
          </a:xfrm>
        </p:grpSpPr>
        <p:sp>
          <p:nvSpPr>
            <p:cNvPr id="83" name=""/>
            <p:cNvSpPr/>
            <p:nvPr/>
          </p:nvSpPr>
          <p:spPr>
            <a:xfrm>
              <a:off x="1798200" y="3946680"/>
              <a:ext cx="1639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reachable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73120" y="3057480"/>
              <a:ext cx="647640" cy="393840"/>
            </a:xfrm>
            <a:custGeom>
              <a:avLst/>
              <a:gdLst/>
              <a:ahLst/>
              <a:rect l="l" t="t" r="r" b="b"/>
              <a:pathLst>
                <a:path w="408" h="248">
                  <a:moveTo>
                    <a:pt x="0" y="248"/>
                  </a:moveTo>
                  <a:lnTo>
                    <a:pt x="408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27240" y="29433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05720" y="2660760"/>
              <a:ext cx="285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60520" y="3400560"/>
              <a:ext cx="654120" cy="50760"/>
            </a:xfrm>
            <a:custGeom>
              <a:avLst/>
              <a:gdLst/>
              <a:ahLst/>
              <a:rect l="l" t="t" r="r" b="b"/>
              <a:pathLst>
                <a:path w="412" h="32">
                  <a:moveTo>
                    <a:pt x="0" y="32"/>
                  </a:moveTo>
                  <a:lnTo>
                    <a:pt x="412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20760" y="32860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98880" y="309240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73120" y="3451320"/>
              <a:ext cx="635040" cy="291960"/>
            </a:xfrm>
            <a:custGeom>
              <a:avLst/>
              <a:gdLst/>
              <a:ahLst/>
              <a:rect l="l" t="t" r="r" b="b"/>
              <a:pathLst>
                <a:path w="400" h="184">
                  <a:moveTo>
                    <a:pt x="0" y="0"/>
                  </a:moveTo>
                  <a:lnTo>
                    <a:pt x="400" y="184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14640" y="3629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92760" y="3413160"/>
              <a:ext cx="285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209680" y="2209680"/>
            <a:ext cx="2205360" cy="1805040"/>
            <a:chOff x="2209680" y="2209680"/>
            <a:chExt cx="2205360" cy="1805040"/>
          </a:xfrm>
        </p:grpSpPr>
        <p:sp>
          <p:nvSpPr>
            <p:cNvPr id="94" name=""/>
            <p:cNvSpPr/>
            <p:nvPr/>
          </p:nvSpPr>
          <p:spPr>
            <a:xfrm>
              <a:off x="2775960" y="3463920"/>
              <a:ext cx="1639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reachable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2209680" y="2209680"/>
              <a:ext cx="1166760" cy="1303560"/>
              <a:chOff x="2209680" y="2209680"/>
              <a:chExt cx="1166760" cy="1303560"/>
            </a:xfrm>
          </p:grpSpPr>
          <p:sp>
            <p:nvSpPr>
              <p:cNvPr id="96" name=""/>
              <p:cNvSpPr/>
              <p:nvPr/>
            </p:nvSpPr>
            <p:spPr>
              <a:xfrm>
                <a:off x="2222280" y="2606760"/>
                <a:ext cx="647640" cy="393480"/>
              </a:xfrm>
              <a:custGeom>
                <a:avLst/>
                <a:gdLst/>
                <a:ahLst/>
                <a:rect l="l" t="t" r="r" b="b"/>
                <a:pathLst>
                  <a:path w="408" h="248">
                    <a:moveTo>
                      <a:pt x="0" y="248"/>
                    </a:moveTo>
                    <a:lnTo>
                      <a:pt x="408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876400" y="24922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954160" y="22096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9680" y="2949480"/>
                <a:ext cx="653760" cy="50760"/>
              </a:xfrm>
              <a:custGeom>
                <a:avLst/>
                <a:gdLst/>
                <a:ahLst/>
                <a:rect l="l" t="t" r="r" b="b"/>
                <a:pathLst>
                  <a:path w="412" h="32">
                    <a:moveTo>
                      <a:pt x="0" y="32"/>
                    </a:moveTo>
                    <a:lnTo>
                      <a:pt x="412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869920" y="28353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948040" y="2641680"/>
                <a:ext cx="3499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22280" y="3000240"/>
                <a:ext cx="635040" cy="292320"/>
              </a:xfrm>
              <a:custGeom>
                <a:avLst/>
                <a:gdLst/>
                <a:ahLst/>
                <a:rect l="l" t="t" r="r" b="b"/>
                <a:pathLst>
                  <a:path w="400" h="184">
                    <a:moveTo>
                      <a:pt x="0" y="0"/>
                    </a:moveTo>
                    <a:lnTo>
                      <a:pt x="400" y="184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863440" y="3178080"/>
                <a:ext cx="152640" cy="1526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941200" y="296244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ffffff"/>
                    </a:solidFill>
                    <a:latin typeface="Times New Roman"/>
                  </a:rPr>
                  <a:t>w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2971800" y="1752480"/>
            <a:ext cx="2189160" cy="1785960"/>
            <a:chOff x="2971800" y="1752480"/>
            <a:chExt cx="2189160" cy="1785960"/>
          </a:xfrm>
        </p:grpSpPr>
        <p:sp>
          <p:nvSpPr>
            <p:cNvPr id="106" name=""/>
            <p:cNvSpPr/>
            <p:nvPr/>
          </p:nvSpPr>
          <p:spPr>
            <a:xfrm>
              <a:off x="3521880" y="2987640"/>
              <a:ext cx="1639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reachable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84400" y="2149560"/>
              <a:ext cx="647280" cy="393480"/>
            </a:xfrm>
            <a:custGeom>
              <a:avLst/>
              <a:gdLst/>
              <a:ahLst/>
              <a:rect l="l" t="t" r="r" b="b"/>
              <a:pathLst>
                <a:path w="408" h="248">
                  <a:moveTo>
                    <a:pt x="0" y="248"/>
                  </a:moveTo>
                  <a:lnTo>
                    <a:pt x="408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38160" y="20350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16280" y="175248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71800" y="2492280"/>
              <a:ext cx="653760" cy="50760"/>
            </a:xfrm>
            <a:custGeom>
              <a:avLst/>
              <a:gdLst/>
              <a:ahLst/>
              <a:rect l="l" t="t" r="r" b="b"/>
              <a:pathLst>
                <a:path w="412" h="32">
                  <a:moveTo>
                    <a:pt x="0" y="32"/>
                  </a:moveTo>
                  <a:lnTo>
                    <a:pt x="412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32040" y="2378160"/>
              <a:ext cx="15192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09800" y="218448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84400" y="2543040"/>
              <a:ext cx="634680" cy="292320"/>
            </a:xfrm>
            <a:custGeom>
              <a:avLst/>
              <a:gdLst/>
              <a:ahLst/>
              <a:rect l="l" t="t" r="r" b="b"/>
              <a:pathLst>
                <a:path w="400" h="184">
                  <a:moveTo>
                    <a:pt x="0" y="0"/>
                  </a:moveTo>
                  <a:lnTo>
                    <a:pt x="400" y="184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93880" y="2759040"/>
              <a:ext cx="15192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03320" y="250488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133720" y="1676520"/>
            <a:ext cx="3728880" cy="1396800"/>
            <a:chOff x="2133720" y="1676520"/>
            <a:chExt cx="3728880" cy="1396800"/>
          </a:xfrm>
        </p:grpSpPr>
        <p:sp>
          <p:nvSpPr>
            <p:cNvPr id="117" name=""/>
            <p:cNvSpPr/>
            <p:nvPr/>
          </p:nvSpPr>
          <p:spPr>
            <a:xfrm>
              <a:off x="4223520" y="2522520"/>
              <a:ext cx="1639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reachable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33720" y="1676520"/>
              <a:ext cx="1790640" cy="1128600"/>
            </a:xfrm>
            <a:custGeom>
              <a:avLst/>
              <a:gdLst/>
              <a:ahLst/>
              <a:rect l="l" t="t" r="r" b="b"/>
              <a:pathLst>
                <a:path w="1128" h="711">
                  <a:moveTo>
                    <a:pt x="968" y="249"/>
                  </a:moveTo>
                  <a:cubicBezTo>
                    <a:pt x="976" y="210"/>
                    <a:pt x="1128" y="30"/>
                    <a:pt x="1016" y="15"/>
                  </a:cubicBezTo>
                  <a:cubicBezTo>
                    <a:pt x="904" y="0"/>
                    <a:pt x="465" y="43"/>
                    <a:pt x="296" y="159"/>
                  </a:cubicBezTo>
                  <a:cubicBezTo>
                    <a:pt x="127" y="275"/>
                    <a:pt x="62" y="596"/>
                    <a:pt x="0" y="711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57600" y="2008080"/>
              <a:ext cx="653400" cy="50760"/>
            </a:xfrm>
            <a:custGeom>
              <a:avLst/>
              <a:gdLst/>
              <a:ahLst/>
              <a:rect l="l" t="t" r="r" b="b"/>
              <a:pathLst>
                <a:path w="412" h="32">
                  <a:moveTo>
                    <a:pt x="0" y="32"/>
                  </a:moveTo>
                  <a:lnTo>
                    <a:pt x="412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17840" y="1893960"/>
              <a:ext cx="15192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95600" y="170028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70200" y="2058840"/>
              <a:ext cx="634680" cy="292320"/>
            </a:xfrm>
            <a:custGeom>
              <a:avLst/>
              <a:gdLst/>
              <a:ahLst/>
              <a:rect l="l" t="t" r="r" b="b"/>
              <a:pathLst>
                <a:path w="400" h="184">
                  <a:moveTo>
                    <a:pt x="0" y="0"/>
                  </a:moveTo>
                  <a:lnTo>
                    <a:pt x="400" y="184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11360" y="22366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89840" y="2021040"/>
              <a:ext cx="285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86000" y="2209680"/>
            <a:ext cx="1166760" cy="1303560"/>
            <a:chOff x="2286000" y="2209680"/>
            <a:chExt cx="1166760" cy="1303560"/>
          </a:xfrm>
        </p:grpSpPr>
        <p:sp>
          <p:nvSpPr>
            <p:cNvPr id="126" name=""/>
            <p:cNvSpPr/>
            <p:nvPr/>
          </p:nvSpPr>
          <p:spPr>
            <a:xfrm>
              <a:off x="2298600" y="2606760"/>
              <a:ext cx="647640" cy="393480"/>
            </a:xfrm>
            <a:custGeom>
              <a:avLst/>
              <a:gdLst/>
              <a:ahLst/>
              <a:rect l="l" t="t" r="r" b="b"/>
              <a:pathLst>
                <a:path w="408" h="248">
                  <a:moveTo>
                    <a:pt x="0" y="248"/>
                  </a:moveTo>
                  <a:lnTo>
                    <a:pt x="408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52720" y="24922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30480" y="220968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86000" y="2949480"/>
              <a:ext cx="654120" cy="50760"/>
            </a:xfrm>
            <a:custGeom>
              <a:avLst/>
              <a:gdLst/>
              <a:ahLst/>
              <a:rect l="l" t="t" r="r" b="b"/>
              <a:pathLst>
                <a:path w="412" h="32">
                  <a:moveTo>
                    <a:pt x="0" y="32"/>
                  </a:moveTo>
                  <a:lnTo>
                    <a:pt x="412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46240" y="28353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24360" y="264168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8600" y="3000240"/>
              <a:ext cx="635040" cy="292320"/>
            </a:xfrm>
            <a:custGeom>
              <a:avLst/>
              <a:gdLst/>
              <a:ahLst/>
              <a:rect l="l" t="t" r="r" b="b"/>
              <a:pathLst>
                <a:path w="400" h="184">
                  <a:moveTo>
                    <a:pt x="0" y="0"/>
                  </a:moveTo>
                  <a:lnTo>
                    <a:pt x="400" y="184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40120" y="31780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17520" y="296244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048120" y="1752480"/>
            <a:ext cx="1109160" cy="1303560"/>
            <a:chOff x="3048120" y="1752480"/>
            <a:chExt cx="1109160" cy="1303560"/>
          </a:xfrm>
        </p:grpSpPr>
        <p:sp>
          <p:nvSpPr>
            <p:cNvPr id="136" name=""/>
            <p:cNvSpPr/>
            <p:nvPr/>
          </p:nvSpPr>
          <p:spPr>
            <a:xfrm>
              <a:off x="3792960" y="175248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60720" y="2149560"/>
              <a:ext cx="647640" cy="393480"/>
            </a:xfrm>
            <a:custGeom>
              <a:avLst/>
              <a:gdLst/>
              <a:ahLst/>
              <a:rect l="l" t="t" r="r" b="b"/>
              <a:pathLst>
                <a:path w="408" h="248">
                  <a:moveTo>
                    <a:pt x="0" y="248"/>
                  </a:moveTo>
                  <a:lnTo>
                    <a:pt x="408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14840" y="20350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48120" y="2492280"/>
              <a:ext cx="653760" cy="50760"/>
            </a:xfrm>
            <a:custGeom>
              <a:avLst/>
              <a:gdLst/>
              <a:ahLst/>
              <a:rect l="l" t="t" r="r" b="b"/>
              <a:pathLst>
                <a:path w="412" h="32">
                  <a:moveTo>
                    <a:pt x="0" y="32"/>
                  </a:moveTo>
                  <a:lnTo>
                    <a:pt x="412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08360" y="2378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86120" y="218448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60720" y="2543040"/>
              <a:ext cx="635040" cy="292320"/>
            </a:xfrm>
            <a:custGeom>
              <a:avLst/>
              <a:gdLst/>
              <a:ahLst/>
              <a:rect l="l" t="t" r="r" b="b"/>
              <a:pathLst>
                <a:path w="400" h="184">
                  <a:moveTo>
                    <a:pt x="0" y="0"/>
                  </a:moveTo>
                  <a:lnTo>
                    <a:pt x="400" y="184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2743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80000" y="25052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209680" y="1676520"/>
            <a:ext cx="2633400" cy="1128600"/>
            <a:chOff x="2209680" y="1676520"/>
            <a:chExt cx="2633400" cy="1128600"/>
          </a:xfrm>
        </p:grpSpPr>
        <p:sp>
          <p:nvSpPr>
            <p:cNvPr id="146" name=""/>
            <p:cNvSpPr/>
            <p:nvPr/>
          </p:nvSpPr>
          <p:spPr>
            <a:xfrm>
              <a:off x="2209680" y="1676520"/>
              <a:ext cx="1791000" cy="1128600"/>
            </a:xfrm>
            <a:custGeom>
              <a:avLst/>
              <a:gdLst/>
              <a:ahLst/>
              <a:rect l="l" t="t" r="r" b="b"/>
              <a:pathLst>
                <a:path w="1128" h="711">
                  <a:moveTo>
                    <a:pt x="968" y="249"/>
                  </a:moveTo>
                  <a:cubicBezTo>
                    <a:pt x="976" y="210"/>
                    <a:pt x="1128" y="30"/>
                    <a:pt x="1016" y="15"/>
                  </a:cubicBezTo>
                  <a:cubicBezTo>
                    <a:pt x="904" y="0"/>
                    <a:pt x="465" y="43"/>
                    <a:pt x="296" y="159"/>
                  </a:cubicBezTo>
                  <a:cubicBezTo>
                    <a:pt x="127" y="275"/>
                    <a:pt x="62" y="596"/>
                    <a:pt x="0" y="711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33920" y="2008080"/>
              <a:ext cx="653760" cy="50760"/>
            </a:xfrm>
            <a:custGeom>
              <a:avLst/>
              <a:gdLst/>
              <a:ahLst/>
              <a:rect l="l" t="t" r="r" b="b"/>
              <a:pathLst>
                <a:path w="412" h="32">
                  <a:moveTo>
                    <a:pt x="0" y="32"/>
                  </a:moveTo>
                  <a:lnTo>
                    <a:pt x="412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94160" y="1893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71920" y="170028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46520" y="2058840"/>
              <a:ext cx="635040" cy="292320"/>
            </a:xfrm>
            <a:custGeom>
              <a:avLst/>
              <a:gdLst/>
              <a:ahLst/>
              <a:rect l="l" t="t" r="r" b="b"/>
              <a:pathLst>
                <a:path w="400" h="184">
                  <a:moveTo>
                    <a:pt x="0" y="0"/>
                  </a:moveTo>
                  <a:lnTo>
                    <a:pt x="400" y="184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87680" y="2236680"/>
              <a:ext cx="15264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66160" y="2021040"/>
              <a:ext cx="285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422520" y="4632480"/>
            <a:ext cx="4402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ow do we keep track of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ll of this information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ow do we avoid cycling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2514600" y="6172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1247760" y="18288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410040" y="33368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839880" y="508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2211840" y="6095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2358000" y="3565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3431160" y="45561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4650480" y="63086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>
            <a:off x="5997240" y="54705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6429960" y="40514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6250320" y="24764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>
            <a:off x="4961160" y="30481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>
            <a:off x="3436920" y="2590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 flipH="1">
            <a:off x="3427200" y="1442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3657600" y="14479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 flipH="1">
            <a:off x="4876560" y="1905120"/>
            <a:ext cx="60948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 flipV="1">
            <a:off x="3352680" y="3580920"/>
            <a:ext cx="144792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 flipV="1">
            <a:off x="3429000" y="2819520"/>
            <a:ext cx="2743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5562720" y="1905120"/>
            <a:ext cx="685800" cy="838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48769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6248520" y="2819520"/>
            <a:ext cx="15228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>
            <a:off x="3429000" y="3200400"/>
            <a:ext cx="243828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9" name=""/>
          <p:cNvSpPr/>
          <p:nvPr/>
        </p:nvSpPr>
        <p:spPr>
          <a:xfrm flipH="1">
            <a:off x="2285640" y="3124080"/>
            <a:ext cx="11430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0" name=""/>
          <p:cNvSpPr/>
          <p:nvPr/>
        </p:nvSpPr>
        <p:spPr>
          <a:xfrm>
            <a:off x="1600200" y="2286000"/>
            <a:ext cx="6094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1" name=""/>
          <p:cNvSpPr/>
          <p:nvPr/>
        </p:nvSpPr>
        <p:spPr>
          <a:xfrm flipH="1">
            <a:off x="837720" y="2286000"/>
            <a:ext cx="7621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2" name=""/>
          <p:cNvSpPr/>
          <p:nvPr/>
        </p:nvSpPr>
        <p:spPr>
          <a:xfrm>
            <a:off x="762120" y="3657600"/>
            <a:ext cx="2438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 flipH="1">
            <a:off x="2666520" y="4876920"/>
            <a:ext cx="6858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3352680" y="4876920"/>
            <a:ext cx="1219320" cy="144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 flipH="1">
            <a:off x="1371240" y="4876920"/>
            <a:ext cx="19810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6" name=""/>
          <p:cNvSpPr/>
          <p:nvPr/>
        </p:nvSpPr>
        <p:spPr>
          <a:xfrm flipH="1">
            <a:off x="4723920" y="5715000"/>
            <a:ext cx="12193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7" name=""/>
          <p:cNvSpPr/>
          <p:nvPr/>
        </p:nvSpPr>
        <p:spPr>
          <a:xfrm flipV="1">
            <a:off x="6019920" y="449532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 flipH="1" flipV="1">
            <a:off x="4876560" y="3657240"/>
            <a:ext cx="152388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9" name=""/>
          <p:cNvSpPr/>
          <p:nvPr/>
        </p:nvSpPr>
        <p:spPr>
          <a:xfrm flipH="1" flipV="1">
            <a:off x="2285640" y="3962520"/>
            <a:ext cx="106668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0" name=""/>
          <p:cNvSpPr/>
          <p:nvPr/>
        </p:nvSpPr>
        <p:spPr>
          <a:xfrm flipH="1">
            <a:off x="5943600" y="4419720"/>
            <a:ext cx="457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1" name=""/>
          <p:cNvSpPr/>
          <p:nvPr/>
        </p:nvSpPr>
        <p:spPr>
          <a:xfrm flipV="1">
            <a:off x="4648320" y="3733920"/>
            <a:ext cx="152280" cy="2666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2" name=""/>
          <p:cNvSpPr/>
          <p:nvPr/>
        </p:nvSpPr>
        <p:spPr>
          <a:xfrm flipH="1" flipV="1">
            <a:off x="2743200" y="6324480"/>
            <a:ext cx="190512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3" name=""/>
          <p:cNvSpPr/>
          <p:nvPr/>
        </p:nvSpPr>
        <p:spPr>
          <a:xfrm flipV="1">
            <a:off x="2209680" y="1600200"/>
            <a:ext cx="1295640" cy="228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4" name=""/>
          <p:cNvSpPr/>
          <p:nvPr/>
        </p:nvSpPr>
        <p:spPr>
          <a:xfrm>
            <a:off x="1219320" y="5334120"/>
            <a:ext cx="1295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5" name=""/>
          <p:cNvSpPr/>
          <p:nvPr/>
        </p:nvSpPr>
        <p:spPr>
          <a:xfrm>
            <a:off x="762120" y="365760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6" name=""/>
          <p:cNvSpPr/>
          <p:nvPr/>
        </p:nvSpPr>
        <p:spPr>
          <a:xfrm>
            <a:off x="762120" y="3657600"/>
            <a:ext cx="137160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7" name=""/>
          <p:cNvSpPr/>
          <p:nvPr/>
        </p:nvSpPr>
        <p:spPr>
          <a:xfrm>
            <a:off x="746748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8" name=""/>
          <p:cNvSpPr/>
          <p:nvPr/>
        </p:nvSpPr>
        <p:spPr>
          <a:xfrm>
            <a:off x="7861320" y="1905120"/>
            <a:ext cx="0" cy="35049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>
            <a:off x="6631200" y="304920"/>
            <a:ext cx="2139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Foun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Not Handled</a:t>
            </a:r>
            <a:br>
              <a:rPr sz="3000"/>
            </a:b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Que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1523880" y="2209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>
            <a:off x="3352680" y="304812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4" name=""/>
          <p:cNvSpPr/>
          <p:nvPr/>
        </p:nvSpPr>
        <p:spPr>
          <a:xfrm>
            <a:off x="685800" y="35812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5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6" name=""/>
          <p:cNvSpPr/>
          <p:nvPr/>
        </p:nvSpPr>
        <p:spPr>
          <a:xfrm>
            <a:off x="6172200" y="27432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7" name=""/>
          <p:cNvSpPr/>
          <p:nvPr/>
        </p:nvSpPr>
        <p:spPr>
          <a:xfrm>
            <a:off x="5867280" y="56386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8" name=""/>
          <p:cNvSpPr/>
          <p:nvPr/>
        </p:nvSpPr>
        <p:spPr>
          <a:xfrm>
            <a:off x="6324480" y="4343400"/>
            <a:ext cx="1526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9" name=""/>
          <p:cNvSpPr/>
          <p:nvPr/>
        </p:nvSpPr>
        <p:spPr>
          <a:xfrm>
            <a:off x="1143000" y="52578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0" name="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1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2" name=""/>
          <p:cNvSpPr/>
          <p:nvPr/>
        </p:nvSpPr>
        <p:spPr>
          <a:xfrm>
            <a:off x="2209680" y="1219320"/>
            <a:ext cx="2895840" cy="876240"/>
          </a:xfrm>
          <a:custGeom>
            <a:avLst/>
            <a:gdLst/>
            <a:ahLst/>
            <a:rect l="l" t="t" r="r" b="b"/>
            <a:pathLst>
              <a:path w="1824" h="552">
                <a:moveTo>
                  <a:pt x="0" y="144"/>
                </a:moveTo>
                <a:cubicBezTo>
                  <a:pt x="328" y="348"/>
                  <a:pt x="656" y="552"/>
                  <a:pt x="960" y="528"/>
                </a:cubicBezTo>
                <a:cubicBezTo>
                  <a:pt x="1264" y="504"/>
                  <a:pt x="1544" y="252"/>
                  <a:pt x="1824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3" name=""/>
          <p:cNvSpPr/>
          <p:nvPr/>
        </p:nvSpPr>
        <p:spPr>
          <a:xfrm>
            <a:off x="762120" y="1943280"/>
            <a:ext cx="5448240" cy="2179440"/>
          </a:xfrm>
          <a:custGeom>
            <a:avLst/>
            <a:gdLst/>
            <a:ahLst/>
            <a:rect l="l" t="t" r="r" b="b"/>
            <a:pathLst>
              <a:path w="3432" h="1373">
                <a:moveTo>
                  <a:pt x="0" y="272"/>
                </a:moveTo>
                <a:cubicBezTo>
                  <a:pt x="448" y="448"/>
                  <a:pt x="2116" y="1373"/>
                  <a:pt x="2688" y="1328"/>
                </a:cubicBezTo>
                <a:cubicBezTo>
                  <a:pt x="3260" y="1283"/>
                  <a:pt x="3308" y="221"/>
                  <a:pt x="3432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4" name=""/>
          <p:cNvSpPr/>
          <p:nvPr/>
        </p:nvSpPr>
        <p:spPr>
          <a:xfrm>
            <a:off x="241200" y="4127400"/>
            <a:ext cx="5842080" cy="2387880"/>
          </a:xfrm>
          <a:custGeom>
            <a:avLst/>
            <a:gdLst/>
            <a:ahLst/>
            <a:rect l="l" t="t" r="r" b="b"/>
            <a:pathLst>
              <a:path w="3680" h="1504">
                <a:moveTo>
                  <a:pt x="0" y="0"/>
                </a:moveTo>
                <a:cubicBezTo>
                  <a:pt x="440" y="59"/>
                  <a:pt x="2027" y="101"/>
                  <a:pt x="2640" y="352"/>
                </a:cubicBezTo>
                <a:cubicBezTo>
                  <a:pt x="3253" y="603"/>
                  <a:pt x="3463" y="1264"/>
                  <a:pt x="3680" y="150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5" name=""/>
          <p:cNvSpPr/>
          <p:nvPr/>
        </p:nvSpPr>
        <p:spPr>
          <a:xfrm>
            <a:off x="1231920" y="5684760"/>
            <a:ext cx="2641680" cy="1046160"/>
          </a:xfrm>
          <a:custGeom>
            <a:avLst/>
            <a:gdLst/>
            <a:ahLst/>
            <a:rect l="l" t="t" r="r" b="b"/>
            <a:pathLst>
              <a:path w="1664" h="659">
                <a:moveTo>
                  <a:pt x="0" y="203"/>
                </a:moveTo>
                <a:cubicBezTo>
                  <a:pt x="175" y="182"/>
                  <a:pt x="779" y="0"/>
                  <a:pt x="1056" y="76"/>
                </a:cubicBezTo>
                <a:cubicBezTo>
                  <a:pt x="1333" y="152"/>
                  <a:pt x="1537" y="538"/>
                  <a:pt x="1664" y="659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6" name=""/>
          <p:cNvSpPr/>
          <p:nvPr/>
        </p:nvSpPr>
        <p:spPr>
          <a:xfrm>
            <a:off x="2031840" y="6375240"/>
            <a:ext cx="1384560" cy="368640"/>
          </a:xfrm>
          <a:custGeom>
            <a:avLst/>
            <a:gdLst/>
            <a:ahLst/>
            <a:rect l="l" t="t" r="r" b="b"/>
            <a:pathLst>
              <a:path w="872" h="232">
                <a:moveTo>
                  <a:pt x="0" y="0"/>
                </a:moveTo>
                <a:cubicBezTo>
                  <a:pt x="147" y="39"/>
                  <a:pt x="690" y="184"/>
                  <a:pt x="872" y="232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7" name=""/>
          <p:cNvSpPr/>
          <p:nvPr/>
        </p:nvSpPr>
        <p:spPr>
          <a:xfrm>
            <a:off x="2209680" y="6616800"/>
            <a:ext cx="838440" cy="203040"/>
          </a:xfrm>
          <a:custGeom>
            <a:avLst/>
            <a:gdLst/>
            <a:ahLst/>
            <a:rect l="l" t="t" r="r" b="b"/>
            <a:pathLst>
              <a:path w="528" h="128">
                <a:moveTo>
                  <a:pt x="0" y="0"/>
                </a:moveTo>
                <a:cubicBezTo>
                  <a:pt x="88" y="21"/>
                  <a:pt x="418" y="101"/>
                  <a:pt x="528" y="12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8" name=""/>
          <p:cNvSpPr/>
          <p:nvPr/>
        </p:nvSpPr>
        <p:spPr>
          <a:xfrm>
            <a:off x="4024080" y="80496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5487840" y="114300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6689520" y="425124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5030640" y="600408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2" name=""/>
          <p:cNvSpPr/>
          <p:nvPr/>
        </p:nvSpPr>
        <p:spPr>
          <a:xfrm>
            <a:off x="2879640" y="623268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>
            <a:off x="7238880" y="251460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>
            <a:off x="7238880" y="213372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5" name=""/>
          <p:cNvSpPr/>
          <p:nvPr/>
        </p:nvSpPr>
        <p:spPr>
          <a:xfrm>
            <a:off x="7939080" y="198108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6" name=""/>
          <p:cNvSpPr/>
          <p:nvPr/>
        </p:nvSpPr>
        <p:spPr>
          <a:xfrm>
            <a:off x="7939080" y="2498760"/>
            <a:ext cx="7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=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7" name=""/>
          <p:cNvSpPr/>
          <p:nvPr/>
        </p:nvSpPr>
        <p:spPr>
          <a:xfrm>
            <a:off x="7238880" y="304812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9" name=""/>
          <p:cNvSpPr/>
          <p:nvPr/>
        </p:nvSpPr>
        <p:spPr>
          <a:xfrm>
            <a:off x="1816560" y="1109520"/>
            <a:ext cx="522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hat order are the nodes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0" name=""/>
          <p:cNvSpPr/>
          <p:nvPr/>
        </p:nvSpPr>
        <p:spPr>
          <a:xfrm>
            <a:off x="2286000" y="1736640"/>
            <a:ext cx="525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 far, the nodes have been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n order of length from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21" name=""/>
          <p:cNvGrpSpPr/>
          <p:nvPr/>
        </p:nvGrpSpPr>
        <p:grpSpPr>
          <a:xfrm>
            <a:off x="609480" y="838080"/>
            <a:ext cx="1181160" cy="1067040"/>
            <a:chOff x="609480" y="838080"/>
            <a:chExt cx="1181160" cy="1067040"/>
          </a:xfrm>
        </p:grpSpPr>
        <p:sp>
          <p:nvSpPr>
            <p:cNvPr id="4022" name=""/>
            <p:cNvSpPr/>
            <p:nvPr/>
          </p:nvSpPr>
          <p:spPr>
            <a:xfrm>
              <a:off x="609480" y="838080"/>
              <a:ext cx="1181160" cy="106704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23" name=""/>
            <p:cNvGrpSpPr/>
            <p:nvPr/>
          </p:nvGrpSpPr>
          <p:grpSpPr>
            <a:xfrm>
              <a:off x="795960" y="927000"/>
              <a:ext cx="629640" cy="860400"/>
              <a:chOff x="795960" y="927000"/>
              <a:chExt cx="629640" cy="860400"/>
            </a:xfrm>
          </p:grpSpPr>
          <p:grpSp>
            <p:nvGrpSpPr>
              <p:cNvPr id="4024" name=""/>
              <p:cNvGrpSpPr/>
              <p:nvPr/>
            </p:nvGrpSpPr>
            <p:grpSpPr>
              <a:xfrm>
                <a:off x="795960" y="927000"/>
                <a:ext cx="592560" cy="842760"/>
                <a:chOff x="795960" y="927000"/>
                <a:chExt cx="592560" cy="842760"/>
              </a:xfrm>
            </p:grpSpPr>
            <p:sp>
              <p:nvSpPr>
                <p:cNvPr id="4025" name=""/>
                <p:cNvSpPr/>
                <p:nvPr/>
              </p:nvSpPr>
              <p:spPr>
                <a:xfrm>
                  <a:off x="991440" y="1069200"/>
                  <a:ext cx="102960" cy="177840"/>
                </a:xfrm>
                <a:custGeom>
                  <a:avLst/>
                  <a:gdLst/>
                  <a:ahLst/>
                  <a:rect l="l" t="t" r="r" b="b"/>
                  <a:pathLst>
                    <a:path w="434" h="514">
                      <a:moveTo>
                        <a:pt x="132" y="186"/>
                      </a:moveTo>
                      <a:lnTo>
                        <a:pt x="157" y="114"/>
                      </a:lnTo>
                      <a:lnTo>
                        <a:pt x="189" y="42"/>
                      </a:lnTo>
                      <a:lnTo>
                        <a:pt x="236" y="6"/>
                      </a:lnTo>
                      <a:lnTo>
                        <a:pt x="302" y="0"/>
                      </a:lnTo>
                      <a:lnTo>
                        <a:pt x="355" y="24"/>
                      </a:lnTo>
                      <a:lnTo>
                        <a:pt x="393" y="63"/>
                      </a:lnTo>
                      <a:lnTo>
                        <a:pt x="421" y="135"/>
                      </a:lnTo>
                      <a:lnTo>
                        <a:pt x="434" y="222"/>
                      </a:lnTo>
                      <a:lnTo>
                        <a:pt x="434" y="312"/>
                      </a:lnTo>
                      <a:lnTo>
                        <a:pt x="412" y="411"/>
                      </a:lnTo>
                      <a:lnTo>
                        <a:pt x="355" y="474"/>
                      </a:lnTo>
                      <a:lnTo>
                        <a:pt x="299" y="514"/>
                      </a:lnTo>
                      <a:lnTo>
                        <a:pt x="245" y="510"/>
                      </a:lnTo>
                      <a:lnTo>
                        <a:pt x="198" y="468"/>
                      </a:lnTo>
                      <a:lnTo>
                        <a:pt x="157" y="396"/>
                      </a:lnTo>
                      <a:lnTo>
                        <a:pt x="129" y="333"/>
                      </a:lnTo>
                      <a:lnTo>
                        <a:pt x="129" y="252"/>
                      </a:lnTo>
                      <a:lnTo>
                        <a:pt x="0" y="234"/>
                      </a:lnTo>
                      <a:lnTo>
                        <a:pt x="16" y="189"/>
                      </a:lnTo>
                      <a:lnTo>
                        <a:pt x="132" y="18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6" name=""/>
                <p:cNvSpPr/>
                <p:nvPr/>
              </p:nvSpPr>
              <p:spPr>
                <a:xfrm>
                  <a:off x="1059480" y="927000"/>
                  <a:ext cx="134280" cy="399240"/>
                </a:xfrm>
                <a:custGeom>
                  <a:avLst/>
                  <a:gdLst/>
                  <a:ahLst/>
                  <a:rect l="l" t="t" r="r" b="b"/>
                  <a:pathLst>
                    <a:path w="566" h="1154">
                      <a:moveTo>
                        <a:pt x="13" y="1145"/>
                      </a:moveTo>
                      <a:lnTo>
                        <a:pt x="0" y="1088"/>
                      </a:lnTo>
                      <a:lnTo>
                        <a:pt x="31" y="1042"/>
                      </a:lnTo>
                      <a:lnTo>
                        <a:pt x="134" y="988"/>
                      </a:lnTo>
                      <a:lnTo>
                        <a:pt x="226" y="927"/>
                      </a:lnTo>
                      <a:lnTo>
                        <a:pt x="313" y="827"/>
                      </a:lnTo>
                      <a:lnTo>
                        <a:pt x="432" y="689"/>
                      </a:lnTo>
                      <a:lnTo>
                        <a:pt x="463" y="634"/>
                      </a:lnTo>
                      <a:lnTo>
                        <a:pt x="479" y="580"/>
                      </a:lnTo>
                      <a:lnTo>
                        <a:pt x="472" y="526"/>
                      </a:lnTo>
                      <a:lnTo>
                        <a:pt x="444" y="426"/>
                      </a:lnTo>
                      <a:lnTo>
                        <a:pt x="376" y="299"/>
                      </a:lnTo>
                      <a:lnTo>
                        <a:pt x="301" y="229"/>
                      </a:lnTo>
                      <a:lnTo>
                        <a:pt x="235" y="190"/>
                      </a:lnTo>
                      <a:lnTo>
                        <a:pt x="181" y="184"/>
                      </a:lnTo>
                      <a:lnTo>
                        <a:pt x="153" y="190"/>
                      </a:lnTo>
                      <a:lnTo>
                        <a:pt x="150" y="163"/>
                      </a:lnTo>
                      <a:lnTo>
                        <a:pt x="215" y="154"/>
                      </a:lnTo>
                      <a:lnTo>
                        <a:pt x="291" y="154"/>
                      </a:lnTo>
                      <a:lnTo>
                        <a:pt x="238" y="93"/>
                      </a:lnTo>
                      <a:lnTo>
                        <a:pt x="206" y="45"/>
                      </a:lnTo>
                      <a:lnTo>
                        <a:pt x="229" y="27"/>
                      </a:lnTo>
                      <a:lnTo>
                        <a:pt x="313" y="109"/>
                      </a:lnTo>
                      <a:lnTo>
                        <a:pt x="329" y="121"/>
                      </a:lnTo>
                      <a:lnTo>
                        <a:pt x="313" y="57"/>
                      </a:lnTo>
                      <a:lnTo>
                        <a:pt x="301" y="9"/>
                      </a:lnTo>
                      <a:lnTo>
                        <a:pt x="313" y="0"/>
                      </a:lnTo>
                      <a:lnTo>
                        <a:pt x="341" y="9"/>
                      </a:lnTo>
                      <a:lnTo>
                        <a:pt x="366" y="121"/>
                      </a:lnTo>
                      <a:lnTo>
                        <a:pt x="379" y="118"/>
                      </a:lnTo>
                      <a:lnTo>
                        <a:pt x="379" y="30"/>
                      </a:lnTo>
                      <a:lnTo>
                        <a:pt x="404" y="21"/>
                      </a:lnTo>
                      <a:lnTo>
                        <a:pt x="422" y="36"/>
                      </a:lnTo>
                      <a:lnTo>
                        <a:pt x="413" y="154"/>
                      </a:lnTo>
                      <a:lnTo>
                        <a:pt x="407" y="202"/>
                      </a:lnTo>
                      <a:lnTo>
                        <a:pt x="422" y="299"/>
                      </a:lnTo>
                      <a:lnTo>
                        <a:pt x="472" y="402"/>
                      </a:lnTo>
                      <a:lnTo>
                        <a:pt x="525" y="520"/>
                      </a:lnTo>
                      <a:lnTo>
                        <a:pt x="566" y="607"/>
                      </a:lnTo>
                      <a:lnTo>
                        <a:pt x="563" y="652"/>
                      </a:lnTo>
                      <a:lnTo>
                        <a:pt x="488" y="734"/>
                      </a:lnTo>
                      <a:lnTo>
                        <a:pt x="385" y="836"/>
                      </a:lnTo>
                      <a:lnTo>
                        <a:pt x="301" y="937"/>
                      </a:lnTo>
                      <a:lnTo>
                        <a:pt x="197" y="1070"/>
                      </a:lnTo>
                      <a:lnTo>
                        <a:pt x="112" y="1136"/>
                      </a:lnTo>
                      <a:lnTo>
                        <a:pt x="47" y="1154"/>
                      </a:lnTo>
                      <a:lnTo>
                        <a:pt x="13" y="1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7" name=""/>
                <p:cNvSpPr/>
                <p:nvPr/>
              </p:nvSpPr>
              <p:spPr>
                <a:xfrm>
                  <a:off x="795960" y="1299240"/>
                  <a:ext cx="246240" cy="200880"/>
                </a:xfrm>
                <a:custGeom>
                  <a:avLst/>
                  <a:gdLst/>
                  <a:ahLst/>
                  <a:rect l="l" t="t" r="r" b="b"/>
                  <a:pathLst>
                    <a:path w="1037" h="581">
                      <a:moveTo>
                        <a:pt x="210" y="468"/>
                      </a:moveTo>
                      <a:lnTo>
                        <a:pt x="361" y="462"/>
                      </a:lnTo>
                      <a:lnTo>
                        <a:pt x="498" y="444"/>
                      </a:lnTo>
                      <a:lnTo>
                        <a:pt x="583" y="423"/>
                      </a:lnTo>
                      <a:lnTo>
                        <a:pt x="705" y="354"/>
                      </a:lnTo>
                      <a:lnTo>
                        <a:pt x="792" y="288"/>
                      </a:lnTo>
                      <a:lnTo>
                        <a:pt x="906" y="207"/>
                      </a:lnTo>
                      <a:lnTo>
                        <a:pt x="959" y="156"/>
                      </a:lnTo>
                      <a:lnTo>
                        <a:pt x="1000" y="120"/>
                      </a:lnTo>
                      <a:lnTo>
                        <a:pt x="1037" y="81"/>
                      </a:lnTo>
                      <a:lnTo>
                        <a:pt x="1037" y="39"/>
                      </a:lnTo>
                      <a:lnTo>
                        <a:pt x="996" y="0"/>
                      </a:lnTo>
                      <a:lnTo>
                        <a:pt x="971" y="9"/>
                      </a:lnTo>
                      <a:lnTo>
                        <a:pt x="903" y="90"/>
                      </a:lnTo>
                      <a:lnTo>
                        <a:pt x="828" y="183"/>
                      </a:lnTo>
                      <a:lnTo>
                        <a:pt x="752" y="270"/>
                      </a:lnTo>
                      <a:lnTo>
                        <a:pt x="642" y="342"/>
                      </a:lnTo>
                      <a:lnTo>
                        <a:pt x="548" y="390"/>
                      </a:lnTo>
                      <a:lnTo>
                        <a:pt x="445" y="414"/>
                      </a:lnTo>
                      <a:lnTo>
                        <a:pt x="301" y="417"/>
                      </a:lnTo>
                      <a:lnTo>
                        <a:pt x="216" y="417"/>
                      </a:lnTo>
                      <a:lnTo>
                        <a:pt x="144" y="363"/>
                      </a:lnTo>
                      <a:lnTo>
                        <a:pt x="125" y="327"/>
                      </a:lnTo>
                      <a:lnTo>
                        <a:pt x="94" y="327"/>
                      </a:lnTo>
                      <a:lnTo>
                        <a:pt x="116" y="372"/>
                      </a:lnTo>
                      <a:lnTo>
                        <a:pt x="150" y="414"/>
                      </a:lnTo>
                      <a:lnTo>
                        <a:pt x="66" y="396"/>
                      </a:lnTo>
                      <a:lnTo>
                        <a:pt x="3" y="387"/>
                      </a:lnTo>
                      <a:lnTo>
                        <a:pt x="3" y="405"/>
                      </a:lnTo>
                      <a:lnTo>
                        <a:pt x="59" y="417"/>
                      </a:lnTo>
                      <a:lnTo>
                        <a:pt x="97" y="441"/>
                      </a:lnTo>
                      <a:lnTo>
                        <a:pt x="131" y="444"/>
                      </a:lnTo>
                      <a:lnTo>
                        <a:pt x="78" y="462"/>
                      </a:lnTo>
                      <a:lnTo>
                        <a:pt x="0" y="481"/>
                      </a:lnTo>
                      <a:lnTo>
                        <a:pt x="3" y="499"/>
                      </a:lnTo>
                      <a:lnTo>
                        <a:pt x="28" y="505"/>
                      </a:lnTo>
                      <a:lnTo>
                        <a:pt x="103" y="481"/>
                      </a:lnTo>
                      <a:lnTo>
                        <a:pt x="150" y="477"/>
                      </a:lnTo>
                      <a:lnTo>
                        <a:pt x="122" y="505"/>
                      </a:lnTo>
                      <a:lnTo>
                        <a:pt x="78" y="550"/>
                      </a:lnTo>
                      <a:lnTo>
                        <a:pt x="59" y="562"/>
                      </a:lnTo>
                      <a:lnTo>
                        <a:pt x="75" y="581"/>
                      </a:lnTo>
                      <a:lnTo>
                        <a:pt x="113" y="559"/>
                      </a:lnTo>
                      <a:lnTo>
                        <a:pt x="163" y="514"/>
                      </a:lnTo>
                      <a:lnTo>
                        <a:pt x="210" y="46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8" name=""/>
                <p:cNvSpPr/>
                <p:nvPr/>
              </p:nvSpPr>
              <p:spPr>
                <a:xfrm>
                  <a:off x="1022760" y="1278360"/>
                  <a:ext cx="144360" cy="276840"/>
                </a:xfrm>
                <a:custGeom>
                  <a:avLst/>
                  <a:gdLst/>
                  <a:ahLst/>
                  <a:rect l="l" t="t" r="r" b="b"/>
                  <a:pathLst>
                    <a:path w="608" h="800">
                      <a:moveTo>
                        <a:pt x="38" y="90"/>
                      </a:moveTo>
                      <a:lnTo>
                        <a:pt x="63" y="27"/>
                      </a:lnTo>
                      <a:lnTo>
                        <a:pt x="104" y="0"/>
                      </a:lnTo>
                      <a:lnTo>
                        <a:pt x="141" y="0"/>
                      </a:lnTo>
                      <a:lnTo>
                        <a:pt x="179" y="18"/>
                      </a:lnTo>
                      <a:lnTo>
                        <a:pt x="216" y="54"/>
                      </a:lnTo>
                      <a:lnTo>
                        <a:pt x="235" y="117"/>
                      </a:lnTo>
                      <a:lnTo>
                        <a:pt x="245" y="180"/>
                      </a:lnTo>
                      <a:lnTo>
                        <a:pt x="263" y="243"/>
                      </a:lnTo>
                      <a:lnTo>
                        <a:pt x="298" y="312"/>
                      </a:lnTo>
                      <a:lnTo>
                        <a:pt x="357" y="384"/>
                      </a:lnTo>
                      <a:lnTo>
                        <a:pt x="415" y="432"/>
                      </a:lnTo>
                      <a:lnTo>
                        <a:pt x="499" y="468"/>
                      </a:lnTo>
                      <a:lnTo>
                        <a:pt x="571" y="522"/>
                      </a:lnTo>
                      <a:lnTo>
                        <a:pt x="608" y="577"/>
                      </a:lnTo>
                      <a:lnTo>
                        <a:pt x="602" y="622"/>
                      </a:lnTo>
                      <a:lnTo>
                        <a:pt x="593" y="676"/>
                      </a:lnTo>
                      <a:lnTo>
                        <a:pt x="565" y="712"/>
                      </a:lnTo>
                      <a:lnTo>
                        <a:pt x="518" y="757"/>
                      </a:lnTo>
                      <a:lnTo>
                        <a:pt x="449" y="790"/>
                      </a:lnTo>
                      <a:lnTo>
                        <a:pt x="396" y="800"/>
                      </a:lnTo>
                      <a:lnTo>
                        <a:pt x="320" y="784"/>
                      </a:lnTo>
                      <a:lnTo>
                        <a:pt x="251" y="748"/>
                      </a:lnTo>
                      <a:lnTo>
                        <a:pt x="179" y="694"/>
                      </a:lnTo>
                      <a:lnTo>
                        <a:pt x="129" y="631"/>
                      </a:lnTo>
                      <a:lnTo>
                        <a:pt x="82" y="550"/>
                      </a:lnTo>
                      <a:lnTo>
                        <a:pt x="44" y="456"/>
                      </a:lnTo>
                      <a:lnTo>
                        <a:pt x="19" y="375"/>
                      </a:lnTo>
                      <a:lnTo>
                        <a:pt x="7" y="297"/>
                      </a:lnTo>
                      <a:lnTo>
                        <a:pt x="0" y="189"/>
                      </a:lnTo>
                      <a:lnTo>
                        <a:pt x="19" y="117"/>
                      </a:lnTo>
                      <a:lnTo>
                        <a:pt x="38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9" name=""/>
                <p:cNvSpPr/>
                <p:nvPr/>
              </p:nvSpPr>
              <p:spPr>
                <a:xfrm>
                  <a:off x="1140840" y="1396800"/>
                  <a:ext cx="247680" cy="251280"/>
                </a:xfrm>
                <a:custGeom>
                  <a:avLst/>
                  <a:gdLst/>
                  <a:ahLst/>
                  <a:rect l="l" t="t" r="r" b="b"/>
                  <a:pathLst>
                    <a:path w="1043" h="726">
                      <a:moveTo>
                        <a:pt x="116" y="230"/>
                      </a:moveTo>
                      <a:lnTo>
                        <a:pt x="216" y="147"/>
                      </a:lnTo>
                      <a:lnTo>
                        <a:pt x="338" y="72"/>
                      </a:lnTo>
                      <a:lnTo>
                        <a:pt x="417" y="27"/>
                      </a:lnTo>
                      <a:lnTo>
                        <a:pt x="479" y="12"/>
                      </a:lnTo>
                      <a:lnTo>
                        <a:pt x="529" y="0"/>
                      </a:lnTo>
                      <a:lnTo>
                        <a:pt x="573" y="18"/>
                      </a:lnTo>
                      <a:lnTo>
                        <a:pt x="601" y="75"/>
                      </a:lnTo>
                      <a:lnTo>
                        <a:pt x="620" y="230"/>
                      </a:lnTo>
                      <a:lnTo>
                        <a:pt x="620" y="416"/>
                      </a:lnTo>
                      <a:lnTo>
                        <a:pt x="620" y="536"/>
                      </a:lnTo>
                      <a:lnTo>
                        <a:pt x="642" y="609"/>
                      </a:lnTo>
                      <a:lnTo>
                        <a:pt x="686" y="597"/>
                      </a:lnTo>
                      <a:lnTo>
                        <a:pt x="717" y="552"/>
                      </a:lnTo>
                      <a:lnTo>
                        <a:pt x="779" y="500"/>
                      </a:lnTo>
                      <a:lnTo>
                        <a:pt x="876" y="470"/>
                      </a:lnTo>
                      <a:lnTo>
                        <a:pt x="943" y="470"/>
                      </a:lnTo>
                      <a:lnTo>
                        <a:pt x="1043" y="488"/>
                      </a:lnTo>
                      <a:lnTo>
                        <a:pt x="1037" y="524"/>
                      </a:lnTo>
                      <a:lnTo>
                        <a:pt x="1015" y="555"/>
                      </a:lnTo>
                      <a:lnTo>
                        <a:pt x="981" y="561"/>
                      </a:lnTo>
                      <a:lnTo>
                        <a:pt x="943" y="542"/>
                      </a:lnTo>
                      <a:lnTo>
                        <a:pt x="886" y="518"/>
                      </a:lnTo>
                      <a:lnTo>
                        <a:pt x="829" y="518"/>
                      </a:lnTo>
                      <a:lnTo>
                        <a:pt x="754" y="564"/>
                      </a:lnTo>
                      <a:lnTo>
                        <a:pt x="708" y="633"/>
                      </a:lnTo>
                      <a:lnTo>
                        <a:pt x="698" y="690"/>
                      </a:lnTo>
                      <a:lnTo>
                        <a:pt x="679" y="726"/>
                      </a:lnTo>
                      <a:lnTo>
                        <a:pt x="604" y="723"/>
                      </a:lnTo>
                      <a:lnTo>
                        <a:pt x="601" y="669"/>
                      </a:lnTo>
                      <a:lnTo>
                        <a:pt x="576" y="591"/>
                      </a:lnTo>
                      <a:lnTo>
                        <a:pt x="567" y="509"/>
                      </a:lnTo>
                      <a:lnTo>
                        <a:pt x="573" y="401"/>
                      </a:lnTo>
                      <a:lnTo>
                        <a:pt x="564" y="248"/>
                      </a:lnTo>
                      <a:lnTo>
                        <a:pt x="558" y="147"/>
                      </a:lnTo>
                      <a:lnTo>
                        <a:pt x="539" y="111"/>
                      </a:lnTo>
                      <a:lnTo>
                        <a:pt x="501" y="75"/>
                      </a:lnTo>
                      <a:lnTo>
                        <a:pt x="461" y="75"/>
                      </a:lnTo>
                      <a:lnTo>
                        <a:pt x="403" y="111"/>
                      </a:lnTo>
                      <a:lnTo>
                        <a:pt x="328" y="181"/>
                      </a:lnTo>
                      <a:lnTo>
                        <a:pt x="235" y="272"/>
                      </a:lnTo>
                      <a:lnTo>
                        <a:pt x="141" y="356"/>
                      </a:lnTo>
                      <a:lnTo>
                        <a:pt x="94" y="383"/>
                      </a:lnTo>
                      <a:lnTo>
                        <a:pt x="38" y="383"/>
                      </a:lnTo>
                      <a:lnTo>
                        <a:pt x="0" y="344"/>
                      </a:lnTo>
                      <a:lnTo>
                        <a:pt x="3" y="281"/>
                      </a:lnTo>
                      <a:lnTo>
                        <a:pt x="41" y="248"/>
                      </a:lnTo>
                      <a:lnTo>
                        <a:pt x="84" y="239"/>
                      </a:lnTo>
                      <a:lnTo>
                        <a:pt x="116" y="23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0" name=""/>
                <p:cNvSpPr/>
                <p:nvPr/>
              </p:nvSpPr>
              <p:spPr>
                <a:xfrm>
                  <a:off x="1127520" y="1506240"/>
                  <a:ext cx="169200" cy="263520"/>
                </a:xfrm>
                <a:custGeom>
                  <a:avLst/>
                  <a:gdLst/>
                  <a:ahLst/>
                  <a:rect l="l" t="t" r="r" b="b"/>
                  <a:pathLst>
                    <a:path w="713" h="762">
                      <a:moveTo>
                        <a:pt x="0" y="64"/>
                      </a:moveTo>
                      <a:lnTo>
                        <a:pt x="22" y="16"/>
                      </a:lnTo>
                      <a:lnTo>
                        <a:pt x="69" y="0"/>
                      </a:lnTo>
                      <a:lnTo>
                        <a:pt x="134" y="7"/>
                      </a:lnTo>
                      <a:lnTo>
                        <a:pt x="150" y="52"/>
                      </a:lnTo>
                      <a:lnTo>
                        <a:pt x="125" y="227"/>
                      </a:lnTo>
                      <a:lnTo>
                        <a:pt x="122" y="360"/>
                      </a:lnTo>
                      <a:lnTo>
                        <a:pt x="116" y="435"/>
                      </a:lnTo>
                      <a:lnTo>
                        <a:pt x="116" y="450"/>
                      </a:lnTo>
                      <a:lnTo>
                        <a:pt x="131" y="524"/>
                      </a:lnTo>
                      <a:lnTo>
                        <a:pt x="172" y="536"/>
                      </a:lnTo>
                      <a:lnTo>
                        <a:pt x="225" y="524"/>
                      </a:lnTo>
                      <a:lnTo>
                        <a:pt x="303" y="481"/>
                      </a:lnTo>
                      <a:lnTo>
                        <a:pt x="387" y="460"/>
                      </a:lnTo>
                      <a:lnTo>
                        <a:pt x="482" y="444"/>
                      </a:lnTo>
                      <a:lnTo>
                        <a:pt x="585" y="432"/>
                      </a:lnTo>
                      <a:lnTo>
                        <a:pt x="660" y="432"/>
                      </a:lnTo>
                      <a:lnTo>
                        <a:pt x="694" y="441"/>
                      </a:lnTo>
                      <a:lnTo>
                        <a:pt x="713" y="463"/>
                      </a:lnTo>
                      <a:lnTo>
                        <a:pt x="704" y="496"/>
                      </a:lnTo>
                      <a:lnTo>
                        <a:pt x="657" y="524"/>
                      </a:lnTo>
                      <a:lnTo>
                        <a:pt x="613" y="563"/>
                      </a:lnTo>
                      <a:lnTo>
                        <a:pt x="572" y="618"/>
                      </a:lnTo>
                      <a:lnTo>
                        <a:pt x="547" y="663"/>
                      </a:lnTo>
                      <a:lnTo>
                        <a:pt x="526" y="708"/>
                      </a:lnTo>
                      <a:lnTo>
                        <a:pt x="510" y="762"/>
                      </a:lnTo>
                      <a:lnTo>
                        <a:pt x="488" y="762"/>
                      </a:lnTo>
                      <a:lnTo>
                        <a:pt x="469" y="741"/>
                      </a:lnTo>
                      <a:lnTo>
                        <a:pt x="462" y="681"/>
                      </a:lnTo>
                      <a:lnTo>
                        <a:pt x="507" y="627"/>
                      </a:lnTo>
                      <a:lnTo>
                        <a:pt x="566" y="563"/>
                      </a:lnTo>
                      <a:lnTo>
                        <a:pt x="622" y="515"/>
                      </a:lnTo>
                      <a:lnTo>
                        <a:pt x="647" y="499"/>
                      </a:lnTo>
                      <a:lnTo>
                        <a:pt x="657" y="478"/>
                      </a:lnTo>
                      <a:lnTo>
                        <a:pt x="632" y="463"/>
                      </a:lnTo>
                      <a:lnTo>
                        <a:pt x="547" y="463"/>
                      </a:lnTo>
                      <a:lnTo>
                        <a:pt x="440" y="481"/>
                      </a:lnTo>
                      <a:lnTo>
                        <a:pt x="356" y="509"/>
                      </a:lnTo>
                      <a:lnTo>
                        <a:pt x="265" y="560"/>
                      </a:lnTo>
                      <a:lnTo>
                        <a:pt x="187" y="596"/>
                      </a:lnTo>
                      <a:lnTo>
                        <a:pt x="103" y="599"/>
                      </a:lnTo>
                      <a:lnTo>
                        <a:pt x="69" y="587"/>
                      </a:lnTo>
                      <a:lnTo>
                        <a:pt x="50" y="542"/>
                      </a:lnTo>
                      <a:lnTo>
                        <a:pt x="37" y="478"/>
                      </a:lnTo>
                      <a:lnTo>
                        <a:pt x="31" y="360"/>
                      </a:lnTo>
                      <a:lnTo>
                        <a:pt x="19" y="151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1" name=""/>
              <p:cNvGrpSpPr/>
              <p:nvPr/>
            </p:nvGrpSpPr>
            <p:grpSpPr>
              <a:xfrm>
                <a:off x="1323360" y="1484280"/>
                <a:ext cx="102240" cy="303120"/>
                <a:chOff x="1323360" y="1484280"/>
                <a:chExt cx="102240" cy="303120"/>
              </a:xfrm>
            </p:grpSpPr>
            <p:sp>
              <p:nvSpPr>
                <p:cNvPr id="4032" name=""/>
                <p:cNvSpPr/>
                <p:nvPr/>
              </p:nvSpPr>
              <p:spPr>
                <a:xfrm>
                  <a:off x="1344960" y="1653480"/>
                  <a:ext cx="80640" cy="37440"/>
                </a:xfrm>
                <a:custGeom>
                  <a:avLst/>
                  <a:gdLst/>
                  <a:ahLst/>
                  <a:rect l="l" t="t" r="r" b="b"/>
                  <a:pathLst>
                    <a:path w="340" h="109">
                      <a:moveTo>
                        <a:pt x="340" y="109"/>
                      </a:moveTo>
                      <a:lnTo>
                        <a:pt x="165" y="30"/>
                      </a:lnTo>
                      <a:lnTo>
                        <a:pt x="48" y="0"/>
                      </a:lnTo>
                      <a:lnTo>
                        <a:pt x="10" y="0"/>
                      </a:lnTo>
                      <a:lnTo>
                        <a:pt x="0" y="27"/>
                      </a:lnTo>
                      <a:lnTo>
                        <a:pt x="22" y="48"/>
                      </a:lnTo>
                      <a:lnTo>
                        <a:pt x="70" y="54"/>
                      </a:lnTo>
                      <a:lnTo>
                        <a:pt x="184" y="75"/>
                      </a:lnTo>
                      <a:lnTo>
                        <a:pt x="340" y="10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3" name=""/>
                <p:cNvSpPr/>
                <p:nvPr/>
              </p:nvSpPr>
              <p:spPr>
                <a:xfrm>
                  <a:off x="1323360" y="1686960"/>
                  <a:ext cx="22680" cy="100440"/>
                </a:xfrm>
                <a:custGeom>
                  <a:avLst/>
                  <a:gdLst/>
                  <a:ahLst/>
                  <a:rect l="l" t="t" r="r" b="b"/>
                  <a:pathLst>
                    <a:path w="97" h="291">
                      <a:moveTo>
                        <a:pt x="97" y="291"/>
                      </a:moveTo>
                      <a:lnTo>
                        <a:pt x="94" y="148"/>
                      </a:lnTo>
                      <a:lnTo>
                        <a:pt x="69" y="39"/>
                      </a:lnTo>
                      <a:lnTo>
                        <a:pt x="41" y="0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54"/>
                      </a:lnTo>
                      <a:lnTo>
                        <a:pt x="47" y="184"/>
                      </a:lnTo>
                      <a:lnTo>
                        <a:pt x="97" y="29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4" name=""/>
                <p:cNvSpPr/>
                <p:nvPr/>
              </p:nvSpPr>
              <p:spPr>
                <a:xfrm>
                  <a:off x="1356480" y="1484280"/>
                  <a:ext cx="50760" cy="38160"/>
                </a:xfrm>
                <a:custGeom>
                  <a:avLst/>
                  <a:gdLst/>
                  <a:ahLst/>
                  <a:rect l="l" t="t" r="r" b="b"/>
                  <a:pathLst>
                    <a:path w="214" h="111">
                      <a:moveTo>
                        <a:pt x="0" y="72"/>
                      </a:moveTo>
                      <a:lnTo>
                        <a:pt x="42" y="30"/>
                      </a:lnTo>
                      <a:lnTo>
                        <a:pt x="100" y="3"/>
                      </a:lnTo>
                      <a:lnTo>
                        <a:pt x="166" y="0"/>
                      </a:lnTo>
                      <a:lnTo>
                        <a:pt x="214" y="9"/>
                      </a:lnTo>
                      <a:lnTo>
                        <a:pt x="138" y="18"/>
                      </a:lnTo>
                      <a:lnTo>
                        <a:pt x="109" y="36"/>
                      </a:lnTo>
                      <a:lnTo>
                        <a:pt x="81" y="63"/>
                      </a:lnTo>
                      <a:lnTo>
                        <a:pt x="68" y="93"/>
                      </a:lnTo>
                      <a:lnTo>
                        <a:pt x="42" y="111"/>
                      </a:lnTo>
                      <a:lnTo>
                        <a:pt x="1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035" name=""/>
          <p:cNvSpPr/>
          <p:nvPr/>
        </p:nvSpPr>
        <p:spPr>
          <a:xfrm>
            <a:off x="535320" y="3032280"/>
            <a:ext cx="217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lt;postCond&gt;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 rot="5400000">
            <a:off x="533160" y="2286000"/>
            <a:ext cx="1218960" cy="45720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3493800" y="3032280"/>
            <a:ext cx="4615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nds a shortest path from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o each node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and its length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8" name=""/>
          <p:cNvSpPr/>
          <p:nvPr/>
        </p:nvSpPr>
        <p:spPr>
          <a:xfrm>
            <a:off x="488520" y="4479840"/>
            <a:ext cx="405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o prove path is shortest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9" name=""/>
          <p:cNvSpPr/>
          <p:nvPr/>
        </p:nvSpPr>
        <p:spPr>
          <a:xfrm>
            <a:off x="1376640" y="4952880"/>
            <a:ext cx="549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ve there is a path of this length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0" name=""/>
          <p:cNvSpPr/>
          <p:nvPr/>
        </p:nvSpPr>
        <p:spPr>
          <a:xfrm>
            <a:off x="1375920" y="5470560"/>
            <a:ext cx="511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ve there are no shorter path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>
            <a:off x="7279560" y="4724280"/>
            <a:ext cx="1937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ive a path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(witnes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 flipH="1">
            <a:off x="6705720" y="5257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"/>
          <p:cNvSpPr/>
          <p:nvPr/>
        </p:nvSpPr>
        <p:spPr>
          <a:xfrm>
            <a:off x="765360" y="1295280"/>
            <a:ext cx="205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asic Step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2139840" y="255276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4191120" y="30258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1863720" y="217188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>
            <a:off x="4078440" y="2536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>
            <a:off x="2209680" y="2629080"/>
            <a:ext cx="1981440" cy="537840"/>
          </a:xfrm>
          <a:custGeom>
            <a:avLst/>
            <a:gdLst/>
            <a:ahLst/>
            <a:rect l="l" t="t" r="r" b="b"/>
            <a:pathLst>
              <a:path w="1248" h="339">
                <a:moveTo>
                  <a:pt x="0" y="0"/>
                </a:moveTo>
                <a:cubicBezTo>
                  <a:pt x="57" y="48"/>
                  <a:pt x="205" y="273"/>
                  <a:pt x="344" y="288"/>
                </a:cubicBezTo>
                <a:cubicBezTo>
                  <a:pt x="470" y="339"/>
                  <a:pt x="681" y="88"/>
                  <a:pt x="832" y="88"/>
                </a:cubicBezTo>
                <a:cubicBezTo>
                  <a:pt x="983" y="88"/>
                  <a:pt x="1161" y="246"/>
                  <a:pt x="1248" y="288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646920" y="3276720"/>
            <a:ext cx="3481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shortest path to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as length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0" name=""/>
          <p:cNvGrpSpPr/>
          <p:nvPr/>
        </p:nvGrpSpPr>
        <p:grpSpPr>
          <a:xfrm>
            <a:off x="4292640" y="2346480"/>
            <a:ext cx="3476160" cy="1937880"/>
            <a:chOff x="4292640" y="2346480"/>
            <a:chExt cx="3476160" cy="1937880"/>
          </a:xfrm>
        </p:grpSpPr>
        <p:sp>
          <p:nvSpPr>
            <p:cNvPr id="4051" name=""/>
            <p:cNvSpPr/>
            <p:nvPr/>
          </p:nvSpPr>
          <p:spPr>
            <a:xfrm>
              <a:off x="4292640" y="2743200"/>
              <a:ext cx="584280" cy="355680"/>
            </a:xfrm>
            <a:custGeom>
              <a:avLst/>
              <a:gdLst/>
              <a:ahLst/>
              <a:rect l="l" t="t" r="r" b="b"/>
              <a:pathLst>
                <a:path w="368" h="224">
                  <a:moveTo>
                    <a:pt x="0" y="224"/>
                  </a:moveTo>
                  <a:lnTo>
                    <a:pt x="368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4883040" y="26290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4961160" y="234648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4719960" y="3276720"/>
              <a:ext cx="304884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&amp; there is an edge 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from 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to 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5" name=""/>
          <p:cNvSpPr/>
          <p:nvPr/>
        </p:nvSpPr>
        <p:spPr>
          <a:xfrm>
            <a:off x="1472400" y="4708440"/>
            <a:ext cx="569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re is a path to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with length </a:t>
            </a: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+1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6" name=""/>
          <p:cNvSpPr/>
          <p:nvPr/>
        </p:nvSpPr>
        <p:spPr>
          <a:xfrm>
            <a:off x="7621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7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8" name=""/>
          <p:cNvSpPr/>
          <p:nvPr/>
        </p:nvSpPr>
        <p:spPr>
          <a:xfrm>
            <a:off x="1816560" y="1109520"/>
            <a:ext cx="522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hat order are the nodes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9" name=""/>
          <p:cNvSpPr/>
          <p:nvPr/>
        </p:nvSpPr>
        <p:spPr>
          <a:xfrm>
            <a:off x="2286000" y="1736640"/>
            <a:ext cx="525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 far, the nodes have been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n order of length from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0" name=""/>
          <p:cNvGrpSpPr/>
          <p:nvPr/>
        </p:nvGrpSpPr>
        <p:grpSpPr>
          <a:xfrm>
            <a:off x="609480" y="838080"/>
            <a:ext cx="1181160" cy="1067040"/>
            <a:chOff x="609480" y="838080"/>
            <a:chExt cx="1181160" cy="1067040"/>
          </a:xfrm>
        </p:grpSpPr>
        <p:sp>
          <p:nvSpPr>
            <p:cNvPr id="4061" name=""/>
            <p:cNvSpPr/>
            <p:nvPr/>
          </p:nvSpPr>
          <p:spPr>
            <a:xfrm>
              <a:off x="609480" y="838080"/>
              <a:ext cx="1181160" cy="106704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62" name=""/>
            <p:cNvGrpSpPr/>
            <p:nvPr/>
          </p:nvGrpSpPr>
          <p:grpSpPr>
            <a:xfrm>
              <a:off x="795960" y="927000"/>
              <a:ext cx="629640" cy="860400"/>
              <a:chOff x="795960" y="927000"/>
              <a:chExt cx="629640" cy="860400"/>
            </a:xfrm>
          </p:grpSpPr>
          <p:grpSp>
            <p:nvGrpSpPr>
              <p:cNvPr id="4063" name=""/>
              <p:cNvGrpSpPr/>
              <p:nvPr/>
            </p:nvGrpSpPr>
            <p:grpSpPr>
              <a:xfrm>
                <a:off x="795960" y="927000"/>
                <a:ext cx="592560" cy="842760"/>
                <a:chOff x="795960" y="927000"/>
                <a:chExt cx="592560" cy="842760"/>
              </a:xfrm>
            </p:grpSpPr>
            <p:sp>
              <p:nvSpPr>
                <p:cNvPr id="4064" name=""/>
                <p:cNvSpPr/>
                <p:nvPr/>
              </p:nvSpPr>
              <p:spPr>
                <a:xfrm>
                  <a:off x="991440" y="1069200"/>
                  <a:ext cx="102960" cy="177840"/>
                </a:xfrm>
                <a:custGeom>
                  <a:avLst/>
                  <a:gdLst/>
                  <a:ahLst/>
                  <a:rect l="l" t="t" r="r" b="b"/>
                  <a:pathLst>
                    <a:path w="434" h="514">
                      <a:moveTo>
                        <a:pt x="132" y="186"/>
                      </a:moveTo>
                      <a:lnTo>
                        <a:pt x="157" y="114"/>
                      </a:lnTo>
                      <a:lnTo>
                        <a:pt x="189" y="42"/>
                      </a:lnTo>
                      <a:lnTo>
                        <a:pt x="236" y="6"/>
                      </a:lnTo>
                      <a:lnTo>
                        <a:pt x="302" y="0"/>
                      </a:lnTo>
                      <a:lnTo>
                        <a:pt x="355" y="24"/>
                      </a:lnTo>
                      <a:lnTo>
                        <a:pt x="393" y="63"/>
                      </a:lnTo>
                      <a:lnTo>
                        <a:pt x="421" y="135"/>
                      </a:lnTo>
                      <a:lnTo>
                        <a:pt x="434" y="222"/>
                      </a:lnTo>
                      <a:lnTo>
                        <a:pt x="434" y="312"/>
                      </a:lnTo>
                      <a:lnTo>
                        <a:pt x="412" y="411"/>
                      </a:lnTo>
                      <a:lnTo>
                        <a:pt x="355" y="474"/>
                      </a:lnTo>
                      <a:lnTo>
                        <a:pt x="299" y="514"/>
                      </a:lnTo>
                      <a:lnTo>
                        <a:pt x="245" y="510"/>
                      </a:lnTo>
                      <a:lnTo>
                        <a:pt x="198" y="468"/>
                      </a:lnTo>
                      <a:lnTo>
                        <a:pt x="157" y="396"/>
                      </a:lnTo>
                      <a:lnTo>
                        <a:pt x="129" y="333"/>
                      </a:lnTo>
                      <a:lnTo>
                        <a:pt x="129" y="252"/>
                      </a:lnTo>
                      <a:lnTo>
                        <a:pt x="0" y="234"/>
                      </a:lnTo>
                      <a:lnTo>
                        <a:pt x="16" y="189"/>
                      </a:lnTo>
                      <a:lnTo>
                        <a:pt x="132" y="18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5" name=""/>
                <p:cNvSpPr/>
                <p:nvPr/>
              </p:nvSpPr>
              <p:spPr>
                <a:xfrm>
                  <a:off x="1059480" y="927000"/>
                  <a:ext cx="134280" cy="399240"/>
                </a:xfrm>
                <a:custGeom>
                  <a:avLst/>
                  <a:gdLst/>
                  <a:ahLst/>
                  <a:rect l="l" t="t" r="r" b="b"/>
                  <a:pathLst>
                    <a:path w="566" h="1154">
                      <a:moveTo>
                        <a:pt x="13" y="1145"/>
                      </a:moveTo>
                      <a:lnTo>
                        <a:pt x="0" y="1088"/>
                      </a:lnTo>
                      <a:lnTo>
                        <a:pt x="31" y="1042"/>
                      </a:lnTo>
                      <a:lnTo>
                        <a:pt x="134" y="988"/>
                      </a:lnTo>
                      <a:lnTo>
                        <a:pt x="226" y="927"/>
                      </a:lnTo>
                      <a:lnTo>
                        <a:pt x="313" y="827"/>
                      </a:lnTo>
                      <a:lnTo>
                        <a:pt x="432" y="689"/>
                      </a:lnTo>
                      <a:lnTo>
                        <a:pt x="463" y="634"/>
                      </a:lnTo>
                      <a:lnTo>
                        <a:pt x="479" y="580"/>
                      </a:lnTo>
                      <a:lnTo>
                        <a:pt x="472" y="526"/>
                      </a:lnTo>
                      <a:lnTo>
                        <a:pt x="444" y="426"/>
                      </a:lnTo>
                      <a:lnTo>
                        <a:pt x="376" y="299"/>
                      </a:lnTo>
                      <a:lnTo>
                        <a:pt x="301" y="229"/>
                      </a:lnTo>
                      <a:lnTo>
                        <a:pt x="235" y="190"/>
                      </a:lnTo>
                      <a:lnTo>
                        <a:pt x="181" y="184"/>
                      </a:lnTo>
                      <a:lnTo>
                        <a:pt x="153" y="190"/>
                      </a:lnTo>
                      <a:lnTo>
                        <a:pt x="150" y="163"/>
                      </a:lnTo>
                      <a:lnTo>
                        <a:pt x="215" y="154"/>
                      </a:lnTo>
                      <a:lnTo>
                        <a:pt x="291" y="154"/>
                      </a:lnTo>
                      <a:lnTo>
                        <a:pt x="238" y="93"/>
                      </a:lnTo>
                      <a:lnTo>
                        <a:pt x="206" y="45"/>
                      </a:lnTo>
                      <a:lnTo>
                        <a:pt x="229" y="27"/>
                      </a:lnTo>
                      <a:lnTo>
                        <a:pt x="313" y="109"/>
                      </a:lnTo>
                      <a:lnTo>
                        <a:pt x="329" y="121"/>
                      </a:lnTo>
                      <a:lnTo>
                        <a:pt x="313" y="57"/>
                      </a:lnTo>
                      <a:lnTo>
                        <a:pt x="301" y="9"/>
                      </a:lnTo>
                      <a:lnTo>
                        <a:pt x="313" y="0"/>
                      </a:lnTo>
                      <a:lnTo>
                        <a:pt x="341" y="9"/>
                      </a:lnTo>
                      <a:lnTo>
                        <a:pt x="366" y="121"/>
                      </a:lnTo>
                      <a:lnTo>
                        <a:pt x="379" y="118"/>
                      </a:lnTo>
                      <a:lnTo>
                        <a:pt x="379" y="30"/>
                      </a:lnTo>
                      <a:lnTo>
                        <a:pt x="404" y="21"/>
                      </a:lnTo>
                      <a:lnTo>
                        <a:pt x="422" y="36"/>
                      </a:lnTo>
                      <a:lnTo>
                        <a:pt x="413" y="154"/>
                      </a:lnTo>
                      <a:lnTo>
                        <a:pt x="407" y="202"/>
                      </a:lnTo>
                      <a:lnTo>
                        <a:pt x="422" y="299"/>
                      </a:lnTo>
                      <a:lnTo>
                        <a:pt x="472" y="402"/>
                      </a:lnTo>
                      <a:lnTo>
                        <a:pt x="525" y="520"/>
                      </a:lnTo>
                      <a:lnTo>
                        <a:pt x="566" y="607"/>
                      </a:lnTo>
                      <a:lnTo>
                        <a:pt x="563" y="652"/>
                      </a:lnTo>
                      <a:lnTo>
                        <a:pt x="488" y="734"/>
                      </a:lnTo>
                      <a:lnTo>
                        <a:pt x="385" y="836"/>
                      </a:lnTo>
                      <a:lnTo>
                        <a:pt x="301" y="937"/>
                      </a:lnTo>
                      <a:lnTo>
                        <a:pt x="197" y="1070"/>
                      </a:lnTo>
                      <a:lnTo>
                        <a:pt x="112" y="1136"/>
                      </a:lnTo>
                      <a:lnTo>
                        <a:pt x="47" y="1154"/>
                      </a:lnTo>
                      <a:lnTo>
                        <a:pt x="13" y="1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6" name=""/>
                <p:cNvSpPr/>
                <p:nvPr/>
              </p:nvSpPr>
              <p:spPr>
                <a:xfrm>
                  <a:off x="795960" y="1299240"/>
                  <a:ext cx="246240" cy="200880"/>
                </a:xfrm>
                <a:custGeom>
                  <a:avLst/>
                  <a:gdLst/>
                  <a:ahLst/>
                  <a:rect l="l" t="t" r="r" b="b"/>
                  <a:pathLst>
                    <a:path w="1037" h="581">
                      <a:moveTo>
                        <a:pt x="210" y="468"/>
                      </a:moveTo>
                      <a:lnTo>
                        <a:pt x="361" y="462"/>
                      </a:lnTo>
                      <a:lnTo>
                        <a:pt x="498" y="444"/>
                      </a:lnTo>
                      <a:lnTo>
                        <a:pt x="583" y="423"/>
                      </a:lnTo>
                      <a:lnTo>
                        <a:pt x="705" y="354"/>
                      </a:lnTo>
                      <a:lnTo>
                        <a:pt x="792" y="288"/>
                      </a:lnTo>
                      <a:lnTo>
                        <a:pt x="906" y="207"/>
                      </a:lnTo>
                      <a:lnTo>
                        <a:pt x="959" y="156"/>
                      </a:lnTo>
                      <a:lnTo>
                        <a:pt x="1000" y="120"/>
                      </a:lnTo>
                      <a:lnTo>
                        <a:pt x="1037" y="81"/>
                      </a:lnTo>
                      <a:lnTo>
                        <a:pt x="1037" y="39"/>
                      </a:lnTo>
                      <a:lnTo>
                        <a:pt x="996" y="0"/>
                      </a:lnTo>
                      <a:lnTo>
                        <a:pt x="971" y="9"/>
                      </a:lnTo>
                      <a:lnTo>
                        <a:pt x="903" y="90"/>
                      </a:lnTo>
                      <a:lnTo>
                        <a:pt x="828" y="183"/>
                      </a:lnTo>
                      <a:lnTo>
                        <a:pt x="752" y="270"/>
                      </a:lnTo>
                      <a:lnTo>
                        <a:pt x="642" y="342"/>
                      </a:lnTo>
                      <a:lnTo>
                        <a:pt x="548" y="390"/>
                      </a:lnTo>
                      <a:lnTo>
                        <a:pt x="445" y="414"/>
                      </a:lnTo>
                      <a:lnTo>
                        <a:pt x="301" y="417"/>
                      </a:lnTo>
                      <a:lnTo>
                        <a:pt x="216" y="417"/>
                      </a:lnTo>
                      <a:lnTo>
                        <a:pt x="144" y="363"/>
                      </a:lnTo>
                      <a:lnTo>
                        <a:pt x="125" y="327"/>
                      </a:lnTo>
                      <a:lnTo>
                        <a:pt x="94" y="327"/>
                      </a:lnTo>
                      <a:lnTo>
                        <a:pt x="116" y="372"/>
                      </a:lnTo>
                      <a:lnTo>
                        <a:pt x="150" y="414"/>
                      </a:lnTo>
                      <a:lnTo>
                        <a:pt x="66" y="396"/>
                      </a:lnTo>
                      <a:lnTo>
                        <a:pt x="3" y="387"/>
                      </a:lnTo>
                      <a:lnTo>
                        <a:pt x="3" y="405"/>
                      </a:lnTo>
                      <a:lnTo>
                        <a:pt x="59" y="417"/>
                      </a:lnTo>
                      <a:lnTo>
                        <a:pt x="97" y="441"/>
                      </a:lnTo>
                      <a:lnTo>
                        <a:pt x="131" y="444"/>
                      </a:lnTo>
                      <a:lnTo>
                        <a:pt x="78" y="462"/>
                      </a:lnTo>
                      <a:lnTo>
                        <a:pt x="0" y="481"/>
                      </a:lnTo>
                      <a:lnTo>
                        <a:pt x="3" y="499"/>
                      </a:lnTo>
                      <a:lnTo>
                        <a:pt x="28" y="505"/>
                      </a:lnTo>
                      <a:lnTo>
                        <a:pt x="103" y="481"/>
                      </a:lnTo>
                      <a:lnTo>
                        <a:pt x="150" y="477"/>
                      </a:lnTo>
                      <a:lnTo>
                        <a:pt x="122" y="505"/>
                      </a:lnTo>
                      <a:lnTo>
                        <a:pt x="78" y="550"/>
                      </a:lnTo>
                      <a:lnTo>
                        <a:pt x="59" y="562"/>
                      </a:lnTo>
                      <a:lnTo>
                        <a:pt x="75" y="581"/>
                      </a:lnTo>
                      <a:lnTo>
                        <a:pt x="113" y="559"/>
                      </a:lnTo>
                      <a:lnTo>
                        <a:pt x="163" y="514"/>
                      </a:lnTo>
                      <a:lnTo>
                        <a:pt x="210" y="46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7" name=""/>
                <p:cNvSpPr/>
                <p:nvPr/>
              </p:nvSpPr>
              <p:spPr>
                <a:xfrm>
                  <a:off x="1022760" y="1278360"/>
                  <a:ext cx="144360" cy="276840"/>
                </a:xfrm>
                <a:custGeom>
                  <a:avLst/>
                  <a:gdLst/>
                  <a:ahLst/>
                  <a:rect l="l" t="t" r="r" b="b"/>
                  <a:pathLst>
                    <a:path w="608" h="800">
                      <a:moveTo>
                        <a:pt x="38" y="90"/>
                      </a:moveTo>
                      <a:lnTo>
                        <a:pt x="63" y="27"/>
                      </a:lnTo>
                      <a:lnTo>
                        <a:pt x="104" y="0"/>
                      </a:lnTo>
                      <a:lnTo>
                        <a:pt x="141" y="0"/>
                      </a:lnTo>
                      <a:lnTo>
                        <a:pt x="179" y="18"/>
                      </a:lnTo>
                      <a:lnTo>
                        <a:pt x="216" y="54"/>
                      </a:lnTo>
                      <a:lnTo>
                        <a:pt x="235" y="117"/>
                      </a:lnTo>
                      <a:lnTo>
                        <a:pt x="245" y="180"/>
                      </a:lnTo>
                      <a:lnTo>
                        <a:pt x="263" y="243"/>
                      </a:lnTo>
                      <a:lnTo>
                        <a:pt x="298" y="312"/>
                      </a:lnTo>
                      <a:lnTo>
                        <a:pt x="357" y="384"/>
                      </a:lnTo>
                      <a:lnTo>
                        <a:pt x="415" y="432"/>
                      </a:lnTo>
                      <a:lnTo>
                        <a:pt x="499" y="468"/>
                      </a:lnTo>
                      <a:lnTo>
                        <a:pt x="571" y="522"/>
                      </a:lnTo>
                      <a:lnTo>
                        <a:pt x="608" y="577"/>
                      </a:lnTo>
                      <a:lnTo>
                        <a:pt x="602" y="622"/>
                      </a:lnTo>
                      <a:lnTo>
                        <a:pt x="593" y="676"/>
                      </a:lnTo>
                      <a:lnTo>
                        <a:pt x="565" y="712"/>
                      </a:lnTo>
                      <a:lnTo>
                        <a:pt x="518" y="757"/>
                      </a:lnTo>
                      <a:lnTo>
                        <a:pt x="449" y="790"/>
                      </a:lnTo>
                      <a:lnTo>
                        <a:pt x="396" y="800"/>
                      </a:lnTo>
                      <a:lnTo>
                        <a:pt x="320" y="784"/>
                      </a:lnTo>
                      <a:lnTo>
                        <a:pt x="251" y="748"/>
                      </a:lnTo>
                      <a:lnTo>
                        <a:pt x="179" y="694"/>
                      </a:lnTo>
                      <a:lnTo>
                        <a:pt x="129" y="631"/>
                      </a:lnTo>
                      <a:lnTo>
                        <a:pt x="82" y="550"/>
                      </a:lnTo>
                      <a:lnTo>
                        <a:pt x="44" y="456"/>
                      </a:lnTo>
                      <a:lnTo>
                        <a:pt x="19" y="375"/>
                      </a:lnTo>
                      <a:lnTo>
                        <a:pt x="7" y="297"/>
                      </a:lnTo>
                      <a:lnTo>
                        <a:pt x="0" y="189"/>
                      </a:lnTo>
                      <a:lnTo>
                        <a:pt x="19" y="117"/>
                      </a:lnTo>
                      <a:lnTo>
                        <a:pt x="38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8" name=""/>
                <p:cNvSpPr/>
                <p:nvPr/>
              </p:nvSpPr>
              <p:spPr>
                <a:xfrm>
                  <a:off x="1140840" y="1396800"/>
                  <a:ext cx="247680" cy="251280"/>
                </a:xfrm>
                <a:custGeom>
                  <a:avLst/>
                  <a:gdLst/>
                  <a:ahLst/>
                  <a:rect l="l" t="t" r="r" b="b"/>
                  <a:pathLst>
                    <a:path w="1043" h="726">
                      <a:moveTo>
                        <a:pt x="116" y="230"/>
                      </a:moveTo>
                      <a:lnTo>
                        <a:pt x="216" y="147"/>
                      </a:lnTo>
                      <a:lnTo>
                        <a:pt x="338" y="72"/>
                      </a:lnTo>
                      <a:lnTo>
                        <a:pt x="417" y="27"/>
                      </a:lnTo>
                      <a:lnTo>
                        <a:pt x="479" y="12"/>
                      </a:lnTo>
                      <a:lnTo>
                        <a:pt x="529" y="0"/>
                      </a:lnTo>
                      <a:lnTo>
                        <a:pt x="573" y="18"/>
                      </a:lnTo>
                      <a:lnTo>
                        <a:pt x="601" y="75"/>
                      </a:lnTo>
                      <a:lnTo>
                        <a:pt x="620" y="230"/>
                      </a:lnTo>
                      <a:lnTo>
                        <a:pt x="620" y="416"/>
                      </a:lnTo>
                      <a:lnTo>
                        <a:pt x="620" y="536"/>
                      </a:lnTo>
                      <a:lnTo>
                        <a:pt x="642" y="609"/>
                      </a:lnTo>
                      <a:lnTo>
                        <a:pt x="686" y="597"/>
                      </a:lnTo>
                      <a:lnTo>
                        <a:pt x="717" y="552"/>
                      </a:lnTo>
                      <a:lnTo>
                        <a:pt x="779" y="500"/>
                      </a:lnTo>
                      <a:lnTo>
                        <a:pt x="876" y="470"/>
                      </a:lnTo>
                      <a:lnTo>
                        <a:pt x="943" y="470"/>
                      </a:lnTo>
                      <a:lnTo>
                        <a:pt x="1043" y="488"/>
                      </a:lnTo>
                      <a:lnTo>
                        <a:pt x="1037" y="524"/>
                      </a:lnTo>
                      <a:lnTo>
                        <a:pt x="1015" y="555"/>
                      </a:lnTo>
                      <a:lnTo>
                        <a:pt x="981" y="561"/>
                      </a:lnTo>
                      <a:lnTo>
                        <a:pt x="943" y="542"/>
                      </a:lnTo>
                      <a:lnTo>
                        <a:pt x="886" y="518"/>
                      </a:lnTo>
                      <a:lnTo>
                        <a:pt x="829" y="518"/>
                      </a:lnTo>
                      <a:lnTo>
                        <a:pt x="754" y="564"/>
                      </a:lnTo>
                      <a:lnTo>
                        <a:pt x="708" y="633"/>
                      </a:lnTo>
                      <a:lnTo>
                        <a:pt x="698" y="690"/>
                      </a:lnTo>
                      <a:lnTo>
                        <a:pt x="679" y="726"/>
                      </a:lnTo>
                      <a:lnTo>
                        <a:pt x="604" y="723"/>
                      </a:lnTo>
                      <a:lnTo>
                        <a:pt x="601" y="669"/>
                      </a:lnTo>
                      <a:lnTo>
                        <a:pt x="576" y="591"/>
                      </a:lnTo>
                      <a:lnTo>
                        <a:pt x="567" y="509"/>
                      </a:lnTo>
                      <a:lnTo>
                        <a:pt x="573" y="401"/>
                      </a:lnTo>
                      <a:lnTo>
                        <a:pt x="564" y="248"/>
                      </a:lnTo>
                      <a:lnTo>
                        <a:pt x="558" y="147"/>
                      </a:lnTo>
                      <a:lnTo>
                        <a:pt x="539" y="111"/>
                      </a:lnTo>
                      <a:lnTo>
                        <a:pt x="501" y="75"/>
                      </a:lnTo>
                      <a:lnTo>
                        <a:pt x="461" y="75"/>
                      </a:lnTo>
                      <a:lnTo>
                        <a:pt x="403" y="111"/>
                      </a:lnTo>
                      <a:lnTo>
                        <a:pt x="328" y="181"/>
                      </a:lnTo>
                      <a:lnTo>
                        <a:pt x="235" y="272"/>
                      </a:lnTo>
                      <a:lnTo>
                        <a:pt x="141" y="356"/>
                      </a:lnTo>
                      <a:lnTo>
                        <a:pt x="94" y="383"/>
                      </a:lnTo>
                      <a:lnTo>
                        <a:pt x="38" y="383"/>
                      </a:lnTo>
                      <a:lnTo>
                        <a:pt x="0" y="344"/>
                      </a:lnTo>
                      <a:lnTo>
                        <a:pt x="3" y="281"/>
                      </a:lnTo>
                      <a:lnTo>
                        <a:pt x="41" y="248"/>
                      </a:lnTo>
                      <a:lnTo>
                        <a:pt x="84" y="239"/>
                      </a:lnTo>
                      <a:lnTo>
                        <a:pt x="116" y="23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9" name=""/>
                <p:cNvSpPr/>
                <p:nvPr/>
              </p:nvSpPr>
              <p:spPr>
                <a:xfrm>
                  <a:off x="1127520" y="1506240"/>
                  <a:ext cx="169200" cy="263520"/>
                </a:xfrm>
                <a:custGeom>
                  <a:avLst/>
                  <a:gdLst/>
                  <a:ahLst/>
                  <a:rect l="l" t="t" r="r" b="b"/>
                  <a:pathLst>
                    <a:path w="713" h="762">
                      <a:moveTo>
                        <a:pt x="0" y="64"/>
                      </a:moveTo>
                      <a:lnTo>
                        <a:pt x="22" y="16"/>
                      </a:lnTo>
                      <a:lnTo>
                        <a:pt x="69" y="0"/>
                      </a:lnTo>
                      <a:lnTo>
                        <a:pt x="134" y="7"/>
                      </a:lnTo>
                      <a:lnTo>
                        <a:pt x="150" y="52"/>
                      </a:lnTo>
                      <a:lnTo>
                        <a:pt x="125" y="227"/>
                      </a:lnTo>
                      <a:lnTo>
                        <a:pt x="122" y="360"/>
                      </a:lnTo>
                      <a:lnTo>
                        <a:pt x="116" y="435"/>
                      </a:lnTo>
                      <a:lnTo>
                        <a:pt x="116" y="450"/>
                      </a:lnTo>
                      <a:lnTo>
                        <a:pt x="131" y="524"/>
                      </a:lnTo>
                      <a:lnTo>
                        <a:pt x="172" y="536"/>
                      </a:lnTo>
                      <a:lnTo>
                        <a:pt x="225" y="524"/>
                      </a:lnTo>
                      <a:lnTo>
                        <a:pt x="303" y="481"/>
                      </a:lnTo>
                      <a:lnTo>
                        <a:pt x="387" y="460"/>
                      </a:lnTo>
                      <a:lnTo>
                        <a:pt x="482" y="444"/>
                      </a:lnTo>
                      <a:lnTo>
                        <a:pt x="585" y="432"/>
                      </a:lnTo>
                      <a:lnTo>
                        <a:pt x="660" y="432"/>
                      </a:lnTo>
                      <a:lnTo>
                        <a:pt x="694" y="441"/>
                      </a:lnTo>
                      <a:lnTo>
                        <a:pt x="713" y="463"/>
                      </a:lnTo>
                      <a:lnTo>
                        <a:pt x="704" y="496"/>
                      </a:lnTo>
                      <a:lnTo>
                        <a:pt x="657" y="524"/>
                      </a:lnTo>
                      <a:lnTo>
                        <a:pt x="613" y="563"/>
                      </a:lnTo>
                      <a:lnTo>
                        <a:pt x="572" y="618"/>
                      </a:lnTo>
                      <a:lnTo>
                        <a:pt x="547" y="663"/>
                      </a:lnTo>
                      <a:lnTo>
                        <a:pt x="526" y="708"/>
                      </a:lnTo>
                      <a:lnTo>
                        <a:pt x="510" y="762"/>
                      </a:lnTo>
                      <a:lnTo>
                        <a:pt x="488" y="762"/>
                      </a:lnTo>
                      <a:lnTo>
                        <a:pt x="469" y="741"/>
                      </a:lnTo>
                      <a:lnTo>
                        <a:pt x="462" y="681"/>
                      </a:lnTo>
                      <a:lnTo>
                        <a:pt x="507" y="627"/>
                      </a:lnTo>
                      <a:lnTo>
                        <a:pt x="566" y="563"/>
                      </a:lnTo>
                      <a:lnTo>
                        <a:pt x="622" y="515"/>
                      </a:lnTo>
                      <a:lnTo>
                        <a:pt x="647" y="499"/>
                      </a:lnTo>
                      <a:lnTo>
                        <a:pt x="657" y="478"/>
                      </a:lnTo>
                      <a:lnTo>
                        <a:pt x="632" y="463"/>
                      </a:lnTo>
                      <a:lnTo>
                        <a:pt x="547" y="463"/>
                      </a:lnTo>
                      <a:lnTo>
                        <a:pt x="440" y="481"/>
                      </a:lnTo>
                      <a:lnTo>
                        <a:pt x="356" y="509"/>
                      </a:lnTo>
                      <a:lnTo>
                        <a:pt x="265" y="560"/>
                      </a:lnTo>
                      <a:lnTo>
                        <a:pt x="187" y="596"/>
                      </a:lnTo>
                      <a:lnTo>
                        <a:pt x="103" y="599"/>
                      </a:lnTo>
                      <a:lnTo>
                        <a:pt x="69" y="587"/>
                      </a:lnTo>
                      <a:lnTo>
                        <a:pt x="50" y="542"/>
                      </a:lnTo>
                      <a:lnTo>
                        <a:pt x="37" y="478"/>
                      </a:lnTo>
                      <a:lnTo>
                        <a:pt x="31" y="360"/>
                      </a:lnTo>
                      <a:lnTo>
                        <a:pt x="19" y="151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0" name=""/>
              <p:cNvGrpSpPr/>
              <p:nvPr/>
            </p:nvGrpSpPr>
            <p:grpSpPr>
              <a:xfrm>
                <a:off x="1323360" y="1484280"/>
                <a:ext cx="102240" cy="303120"/>
                <a:chOff x="1323360" y="1484280"/>
                <a:chExt cx="102240" cy="303120"/>
              </a:xfrm>
            </p:grpSpPr>
            <p:sp>
              <p:nvSpPr>
                <p:cNvPr id="4071" name=""/>
                <p:cNvSpPr/>
                <p:nvPr/>
              </p:nvSpPr>
              <p:spPr>
                <a:xfrm>
                  <a:off x="1344960" y="1653480"/>
                  <a:ext cx="80640" cy="37440"/>
                </a:xfrm>
                <a:custGeom>
                  <a:avLst/>
                  <a:gdLst/>
                  <a:ahLst/>
                  <a:rect l="l" t="t" r="r" b="b"/>
                  <a:pathLst>
                    <a:path w="340" h="109">
                      <a:moveTo>
                        <a:pt x="340" y="109"/>
                      </a:moveTo>
                      <a:lnTo>
                        <a:pt x="165" y="30"/>
                      </a:lnTo>
                      <a:lnTo>
                        <a:pt x="48" y="0"/>
                      </a:lnTo>
                      <a:lnTo>
                        <a:pt x="10" y="0"/>
                      </a:lnTo>
                      <a:lnTo>
                        <a:pt x="0" y="27"/>
                      </a:lnTo>
                      <a:lnTo>
                        <a:pt x="22" y="48"/>
                      </a:lnTo>
                      <a:lnTo>
                        <a:pt x="70" y="54"/>
                      </a:lnTo>
                      <a:lnTo>
                        <a:pt x="184" y="75"/>
                      </a:lnTo>
                      <a:lnTo>
                        <a:pt x="340" y="10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2" name=""/>
                <p:cNvSpPr/>
                <p:nvPr/>
              </p:nvSpPr>
              <p:spPr>
                <a:xfrm>
                  <a:off x="1323360" y="1686960"/>
                  <a:ext cx="22680" cy="100440"/>
                </a:xfrm>
                <a:custGeom>
                  <a:avLst/>
                  <a:gdLst/>
                  <a:ahLst/>
                  <a:rect l="l" t="t" r="r" b="b"/>
                  <a:pathLst>
                    <a:path w="97" h="291">
                      <a:moveTo>
                        <a:pt x="97" y="291"/>
                      </a:moveTo>
                      <a:lnTo>
                        <a:pt x="94" y="148"/>
                      </a:lnTo>
                      <a:lnTo>
                        <a:pt x="69" y="39"/>
                      </a:lnTo>
                      <a:lnTo>
                        <a:pt x="41" y="0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54"/>
                      </a:lnTo>
                      <a:lnTo>
                        <a:pt x="47" y="184"/>
                      </a:lnTo>
                      <a:lnTo>
                        <a:pt x="97" y="29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3" name=""/>
                <p:cNvSpPr/>
                <p:nvPr/>
              </p:nvSpPr>
              <p:spPr>
                <a:xfrm>
                  <a:off x="1356480" y="1484280"/>
                  <a:ext cx="50760" cy="38160"/>
                </a:xfrm>
                <a:custGeom>
                  <a:avLst/>
                  <a:gdLst/>
                  <a:ahLst/>
                  <a:rect l="l" t="t" r="r" b="b"/>
                  <a:pathLst>
                    <a:path w="214" h="111">
                      <a:moveTo>
                        <a:pt x="0" y="72"/>
                      </a:moveTo>
                      <a:lnTo>
                        <a:pt x="42" y="30"/>
                      </a:lnTo>
                      <a:lnTo>
                        <a:pt x="100" y="3"/>
                      </a:lnTo>
                      <a:lnTo>
                        <a:pt x="166" y="0"/>
                      </a:lnTo>
                      <a:lnTo>
                        <a:pt x="214" y="9"/>
                      </a:lnTo>
                      <a:lnTo>
                        <a:pt x="138" y="18"/>
                      </a:lnTo>
                      <a:lnTo>
                        <a:pt x="109" y="36"/>
                      </a:lnTo>
                      <a:lnTo>
                        <a:pt x="81" y="63"/>
                      </a:lnTo>
                      <a:lnTo>
                        <a:pt x="68" y="93"/>
                      </a:lnTo>
                      <a:lnTo>
                        <a:pt x="42" y="111"/>
                      </a:lnTo>
                      <a:lnTo>
                        <a:pt x="1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074" name=""/>
          <p:cNvSpPr/>
          <p:nvPr/>
        </p:nvSpPr>
        <p:spPr>
          <a:xfrm>
            <a:off x="535320" y="3032280"/>
            <a:ext cx="217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lt;postCond&gt;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5" name=""/>
          <p:cNvSpPr/>
          <p:nvPr/>
        </p:nvSpPr>
        <p:spPr>
          <a:xfrm rot="5400000">
            <a:off x="533160" y="2286000"/>
            <a:ext cx="1218960" cy="45720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>
            <a:off x="3493800" y="3032280"/>
            <a:ext cx="4615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nds a shortest path from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o each node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and its length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>
            <a:off x="990720" y="5013360"/>
            <a:ext cx="9067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hen we find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we know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re isn't a shorter path to it because 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8" name=""/>
          <p:cNvSpPr/>
          <p:nvPr/>
        </p:nvSpPr>
        <p:spPr>
          <a:xfrm>
            <a:off x="461520" y="4464000"/>
            <a:ext cx="511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ve there are no shorter path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>
            <a:off x="2057400" y="1523880"/>
            <a:ext cx="5257800" cy="13716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>
            <a:off x="993960" y="6004080"/>
            <a:ext cx="684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therwise, we would have found it already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 flipH="1">
            <a:off x="5638320" y="472428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2" name="" descr=""/>
          <p:cNvPicPr/>
          <p:nvPr/>
        </p:nvPicPr>
        <p:blipFill>
          <a:blip r:embed="rId1"/>
          <a:stretch/>
        </p:blipFill>
        <p:spPr>
          <a:xfrm>
            <a:off x="2514600" y="1722600"/>
            <a:ext cx="4908600" cy="5059080"/>
          </a:xfrm>
          <a:prstGeom prst="rect">
            <a:avLst/>
          </a:prstGeom>
          <a:ln w="0">
            <a:noFill/>
          </a:ln>
        </p:spPr>
      </p:pic>
      <p:sp>
        <p:nvSpPr>
          <p:cNvPr id="4083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4" name=""/>
          <p:cNvSpPr/>
          <p:nvPr/>
        </p:nvSpPr>
        <p:spPr>
          <a:xfrm>
            <a:off x="901440" y="593640"/>
            <a:ext cx="731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ata structure for storing tree: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 For each node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store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 to be parent of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5" name=""/>
          <p:cNvSpPr/>
          <p:nvPr/>
        </p:nvSpPr>
        <p:spPr>
          <a:xfrm>
            <a:off x="765360" y="1295280"/>
            <a:ext cx="205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Basic Step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6" name=""/>
          <p:cNvSpPr/>
          <p:nvPr/>
        </p:nvSpPr>
        <p:spPr>
          <a:xfrm>
            <a:off x="2139840" y="255276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7" name=""/>
          <p:cNvSpPr/>
          <p:nvPr/>
        </p:nvSpPr>
        <p:spPr>
          <a:xfrm>
            <a:off x="4191120" y="302580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8" name=""/>
          <p:cNvSpPr/>
          <p:nvPr/>
        </p:nvSpPr>
        <p:spPr>
          <a:xfrm>
            <a:off x="1863720" y="217188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9" name=""/>
          <p:cNvSpPr/>
          <p:nvPr/>
        </p:nvSpPr>
        <p:spPr>
          <a:xfrm>
            <a:off x="4078440" y="2536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0" name=""/>
          <p:cNvSpPr/>
          <p:nvPr/>
        </p:nvSpPr>
        <p:spPr>
          <a:xfrm>
            <a:off x="2209680" y="2629080"/>
            <a:ext cx="1981440" cy="537840"/>
          </a:xfrm>
          <a:custGeom>
            <a:avLst/>
            <a:gdLst/>
            <a:ahLst/>
            <a:rect l="l" t="t" r="r" b="b"/>
            <a:pathLst>
              <a:path w="1248" h="339">
                <a:moveTo>
                  <a:pt x="0" y="0"/>
                </a:moveTo>
                <a:cubicBezTo>
                  <a:pt x="57" y="48"/>
                  <a:pt x="205" y="273"/>
                  <a:pt x="344" y="288"/>
                </a:cubicBezTo>
                <a:cubicBezTo>
                  <a:pt x="470" y="339"/>
                  <a:pt x="681" y="88"/>
                  <a:pt x="832" y="88"/>
                </a:cubicBezTo>
                <a:cubicBezTo>
                  <a:pt x="983" y="88"/>
                  <a:pt x="1161" y="246"/>
                  <a:pt x="1248" y="288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1573560" y="3276720"/>
            <a:ext cx="1631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th to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2" name=""/>
          <p:cNvGrpSpPr/>
          <p:nvPr/>
        </p:nvGrpSpPr>
        <p:grpSpPr>
          <a:xfrm>
            <a:off x="4292640" y="2346480"/>
            <a:ext cx="3476160" cy="1937880"/>
            <a:chOff x="4292640" y="2346480"/>
            <a:chExt cx="3476160" cy="1937880"/>
          </a:xfrm>
        </p:grpSpPr>
        <p:sp>
          <p:nvSpPr>
            <p:cNvPr id="4093" name=""/>
            <p:cNvSpPr/>
            <p:nvPr/>
          </p:nvSpPr>
          <p:spPr>
            <a:xfrm>
              <a:off x="4292640" y="2743200"/>
              <a:ext cx="584280" cy="355680"/>
            </a:xfrm>
            <a:custGeom>
              <a:avLst/>
              <a:gdLst/>
              <a:ahLst/>
              <a:rect l="l" t="t" r="r" b="b"/>
              <a:pathLst>
                <a:path w="368" h="224">
                  <a:moveTo>
                    <a:pt x="0" y="224"/>
                  </a:moveTo>
                  <a:lnTo>
                    <a:pt x="368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4883040" y="26290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4961160" y="234648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4719960" y="3276720"/>
              <a:ext cx="304884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&amp; there is an edge 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from 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to 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7" name=""/>
          <p:cNvSpPr/>
          <p:nvPr/>
        </p:nvSpPr>
        <p:spPr>
          <a:xfrm>
            <a:off x="1755360" y="4654440"/>
            <a:ext cx="218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rent of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>
            <a:off x="3812760" y="3108240"/>
            <a:ext cx="81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>
            <a:off x="4039920" y="4648320"/>
            <a:ext cx="150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 =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>
            <a:off x="7621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1" name="" descr=""/>
          <p:cNvPicPr/>
          <p:nvPr/>
        </p:nvPicPr>
        <p:blipFill>
          <a:blip r:embed="rId1"/>
          <a:stretch/>
        </p:blipFill>
        <p:spPr>
          <a:xfrm>
            <a:off x="703440" y="46080"/>
            <a:ext cx="773712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ph 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103" name=""/>
          <p:cNvGrpSpPr/>
          <p:nvPr/>
        </p:nvGrpSpPr>
        <p:grpSpPr>
          <a:xfrm>
            <a:off x="1103400" y="1056240"/>
            <a:ext cx="6817680" cy="740160"/>
            <a:chOff x="1103400" y="1056240"/>
            <a:chExt cx="6817680" cy="740160"/>
          </a:xfrm>
        </p:grpSpPr>
        <p:sp>
          <p:nvSpPr>
            <p:cNvPr id="4104" name=""/>
            <p:cNvSpPr/>
            <p:nvPr/>
          </p:nvSpPr>
          <p:spPr>
            <a:xfrm>
              <a:off x="2057400" y="1166760"/>
              <a:ext cx="5863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Handle some </a:t>
              </a: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foundNotHandled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node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05" name=""/>
            <p:cNvGrpSpPr/>
            <p:nvPr/>
          </p:nvGrpSpPr>
          <p:grpSpPr>
            <a:xfrm>
              <a:off x="1103400" y="1056240"/>
              <a:ext cx="690120" cy="740160"/>
              <a:chOff x="1103400" y="1056240"/>
              <a:chExt cx="690120" cy="740160"/>
            </a:xfrm>
          </p:grpSpPr>
          <p:sp>
            <p:nvSpPr>
              <p:cNvPr id="4106" name=""/>
              <p:cNvSpPr/>
              <p:nvPr/>
            </p:nvSpPr>
            <p:spPr>
              <a:xfrm rot="21255000">
                <a:off x="1449000" y="1134720"/>
                <a:ext cx="141120" cy="11736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 rot="21255000">
                <a:off x="1403280" y="1279080"/>
                <a:ext cx="145440" cy="26208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 rot="21255000">
                <a:off x="1504440" y="1495080"/>
                <a:ext cx="280440" cy="17928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 rot="19839000">
                <a:off x="1116000" y="1550520"/>
                <a:ext cx="401400" cy="15732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 rot="21255000">
                <a:off x="1307520" y="1066680"/>
                <a:ext cx="164880" cy="29232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 rot="21255000">
                <a:off x="1504800" y="1066320"/>
                <a:ext cx="213840" cy="24300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12" name=""/>
          <p:cNvSpPr/>
          <p:nvPr/>
        </p:nvSpPr>
        <p:spPr>
          <a:xfrm>
            <a:off x="838080" y="1812960"/>
            <a:ext cx="80010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Queue:  Handle in order found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readth-First Searc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ack: Handle most recently foun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epth-First Searc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iority Queue: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    Handle node that seems to be closest to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hortest (Weighted) Path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3" name=""/>
          <p:cNvSpPr/>
          <p:nvPr/>
        </p:nvSpPr>
        <p:spPr>
          <a:xfrm>
            <a:off x="0" y="4191120"/>
            <a:ext cx="868680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jkstra's Shortest-Weighted Path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5" name=""/>
          <p:cNvSpPr/>
          <p:nvPr/>
        </p:nvSpPr>
        <p:spPr>
          <a:xfrm>
            <a:off x="304920" y="1359000"/>
            <a:ext cx="9372600" cy="52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ation: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ijkstra's Shortest-Weighted Paths                 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achability-from-single-source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preCond&gt;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input is a graph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(either directed or undirected)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 with positive edge weight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  and a source node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postCond&gt;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nds a shortest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weighte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path from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to each node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and its length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jkstra's Shortest-Weighted Path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7" name=""/>
          <p:cNvSpPr/>
          <p:nvPr/>
        </p:nvSpPr>
        <p:spPr>
          <a:xfrm>
            <a:off x="4343400" y="255276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8" name=""/>
          <p:cNvSpPr/>
          <p:nvPr/>
        </p:nvSpPr>
        <p:spPr>
          <a:xfrm>
            <a:off x="3727440" y="33526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9" name=""/>
          <p:cNvSpPr/>
          <p:nvPr/>
        </p:nvSpPr>
        <p:spPr>
          <a:xfrm>
            <a:off x="4066920" y="217188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0" name=""/>
          <p:cNvSpPr/>
          <p:nvPr/>
        </p:nvSpPr>
        <p:spPr>
          <a:xfrm>
            <a:off x="3430800" y="31082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1" name=""/>
          <p:cNvSpPr/>
          <p:nvPr/>
        </p:nvSpPr>
        <p:spPr>
          <a:xfrm>
            <a:off x="4192920" y="44038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2" name=""/>
          <p:cNvSpPr/>
          <p:nvPr/>
        </p:nvSpPr>
        <p:spPr>
          <a:xfrm>
            <a:off x="4336920" y="42670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3" name=""/>
          <p:cNvSpPr/>
          <p:nvPr/>
        </p:nvSpPr>
        <p:spPr>
          <a:xfrm>
            <a:off x="5099040" y="31240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4" name=""/>
          <p:cNvSpPr/>
          <p:nvPr/>
        </p:nvSpPr>
        <p:spPr>
          <a:xfrm>
            <a:off x="5099040" y="373392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5" name=""/>
          <p:cNvSpPr/>
          <p:nvPr/>
        </p:nvSpPr>
        <p:spPr>
          <a:xfrm>
            <a:off x="4413240" y="2590920"/>
            <a:ext cx="762120" cy="609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6" name=""/>
          <p:cNvSpPr/>
          <p:nvPr/>
        </p:nvSpPr>
        <p:spPr>
          <a:xfrm>
            <a:off x="5175360" y="3200400"/>
            <a:ext cx="0" cy="609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7" name=""/>
          <p:cNvSpPr/>
          <p:nvPr/>
        </p:nvSpPr>
        <p:spPr>
          <a:xfrm flipH="1">
            <a:off x="4412880" y="3809880"/>
            <a:ext cx="762120" cy="533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8" name=""/>
          <p:cNvSpPr/>
          <p:nvPr/>
        </p:nvSpPr>
        <p:spPr>
          <a:xfrm flipH="1" flipV="1">
            <a:off x="3803400" y="3429000"/>
            <a:ext cx="609480" cy="914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9" name=""/>
          <p:cNvSpPr/>
          <p:nvPr/>
        </p:nvSpPr>
        <p:spPr>
          <a:xfrm flipV="1">
            <a:off x="3803760" y="2590920"/>
            <a:ext cx="609480" cy="838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0" name=""/>
          <p:cNvSpPr/>
          <p:nvPr/>
        </p:nvSpPr>
        <p:spPr>
          <a:xfrm>
            <a:off x="3484440" y="2633760"/>
            <a:ext cx="75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1" name=""/>
          <p:cNvSpPr/>
          <p:nvPr/>
        </p:nvSpPr>
        <p:spPr>
          <a:xfrm>
            <a:off x="3735360" y="3733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2" name=""/>
          <p:cNvSpPr/>
          <p:nvPr/>
        </p:nvSpPr>
        <p:spPr>
          <a:xfrm>
            <a:off x="4726080" y="40226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3" name=""/>
          <p:cNvSpPr/>
          <p:nvPr/>
        </p:nvSpPr>
        <p:spPr>
          <a:xfrm>
            <a:off x="5329440" y="32004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4" name=""/>
          <p:cNvSpPr/>
          <p:nvPr/>
        </p:nvSpPr>
        <p:spPr>
          <a:xfrm>
            <a:off x="4719600" y="2438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5" name=""/>
          <p:cNvSpPr/>
          <p:nvPr/>
        </p:nvSpPr>
        <p:spPr>
          <a:xfrm>
            <a:off x="5100480" y="274320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6" name=""/>
          <p:cNvSpPr/>
          <p:nvPr/>
        </p:nvSpPr>
        <p:spPr>
          <a:xfrm>
            <a:off x="5176800" y="358128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7" name=""/>
          <p:cNvSpPr/>
          <p:nvPr/>
        </p:nvSpPr>
        <p:spPr>
          <a:xfrm>
            <a:off x="308160" y="2727360"/>
            <a:ext cx="3047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ength of shortest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th from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8" name=""/>
          <p:cNvSpPr/>
          <p:nvPr/>
        </p:nvSpPr>
        <p:spPr>
          <a:xfrm>
            <a:off x="1433520" y="3581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4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4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4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4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01880" y="2019240"/>
            <a:ext cx="759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19160" y="243828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52720" y="182880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08240" y="2819520"/>
            <a:ext cx="75960" cy="75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81360" y="3313080"/>
            <a:ext cx="759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1040" y="270504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81320" y="373212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35400" y="2286000"/>
            <a:ext cx="759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09640" y="3541680"/>
            <a:ext cx="777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11360" y="308448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98680" y="3998880"/>
            <a:ext cx="759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32240" y="4075200"/>
            <a:ext cx="75960" cy="75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6360" y="2629080"/>
            <a:ext cx="76320" cy="75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077480" y="1638360"/>
            <a:ext cx="993960" cy="3808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957320" y="1635120"/>
            <a:ext cx="114480" cy="800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71800" y="1638360"/>
            <a:ext cx="574560" cy="990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71800" y="1638360"/>
            <a:ext cx="880920" cy="2286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684160" y="1866960"/>
            <a:ext cx="306360" cy="7621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919160" y="2704680"/>
            <a:ext cx="727200" cy="646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957320" y="2323800"/>
            <a:ext cx="1378080" cy="152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29040" y="1866960"/>
            <a:ext cx="344520" cy="4190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84520" y="2705040"/>
            <a:ext cx="726840" cy="341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73560" y="2324160"/>
            <a:ext cx="75960" cy="7221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57320" y="2514600"/>
            <a:ext cx="1224000" cy="12175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384200" y="2476440"/>
            <a:ext cx="573120" cy="3430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39680" y="2057400"/>
            <a:ext cx="306360" cy="7621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57360" y="2057400"/>
            <a:ext cx="382320" cy="6094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9200" y="2743200"/>
            <a:ext cx="1224000" cy="5698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574280" y="3351240"/>
            <a:ext cx="344520" cy="647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19160" y="3351240"/>
            <a:ext cx="613080" cy="7239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925560" y="3351240"/>
            <a:ext cx="993600" cy="190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608200" y="3770280"/>
            <a:ext cx="611280" cy="3430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257640" y="3160440"/>
            <a:ext cx="230040" cy="6094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2684160" y="2743200"/>
            <a:ext cx="765000" cy="379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1384200" y="2895480"/>
            <a:ext cx="534960" cy="4557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219120" y="3122640"/>
            <a:ext cx="230040" cy="6094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570040" y="2781360"/>
            <a:ext cx="76320" cy="13320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1612440" y="4075200"/>
            <a:ext cx="957240" cy="381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346040" y="1714320"/>
            <a:ext cx="649440" cy="11430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47800" y="3579840"/>
            <a:ext cx="650880" cy="4190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9200" y="2743200"/>
            <a:ext cx="190440" cy="7984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9200" y="2743200"/>
            <a:ext cx="689040" cy="1144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82520" y="11430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7600" y="17524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9920" y="25830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8800" y="34574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48200" y="396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07240" y="26971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40400" y="31910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53120" y="40672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47560" y="364824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45560" y="29383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70680" y="21528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92680" y="1687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27360" y="2438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2360" y="220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33640" y="1600200"/>
            <a:ext cx="7776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ph Se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9" name=""/>
          <p:cNvSpPr/>
          <p:nvPr/>
        </p:nvSpPr>
        <p:spPr>
          <a:xfrm>
            <a:off x="2057400" y="838080"/>
            <a:ext cx="525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 far, the nodes have been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n order of length from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0" name=""/>
          <p:cNvGrpSpPr/>
          <p:nvPr/>
        </p:nvGrpSpPr>
        <p:grpSpPr>
          <a:xfrm>
            <a:off x="609480" y="838080"/>
            <a:ext cx="1181160" cy="1067040"/>
            <a:chOff x="609480" y="838080"/>
            <a:chExt cx="1181160" cy="1067040"/>
          </a:xfrm>
        </p:grpSpPr>
        <p:sp>
          <p:nvSpPr>
            <p:cNvPr id="4141" name=""/>
            <p:cNvSpPr/>
            <p:nvPr/>
          </p:nvSpPr>
          <p:spPr>
            <a:xfrm>
              <a:off x="609480" y="838080"/>
              <a:ext cx="1181160" cy="106704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42" name=""/>
            <p:cNvGrpSpPr/>
            <p:nvPr/>
          </p:nvGrpSpPr>
          <p:grpSpPr>
            <a:xfrm>
              <a:off x="795960" y="927000"/>
              <a:ext cx="629640" cy="860400"/>
              <a:chOff x="795960" y="927000"/>
              <a:chExt cx="629640" cy="860400"/>
            </a:xfrm>
          </p:grpSpPr>
          <p:grpSp>
            <p:nvGrpSpPr>
              <p:cNvPr id="4143" name=""/>
              <p:cNvGrpSpPr/>
              <p:nvPr/>
            </p:nvGrpSpPr>
            <p:grpSpPr>
              <a:xfrm>
                <a:off x="795960" y="927000"/>
                <a:ext cx="592560" cy="842760"/>
                <a:chOff x="795960" y="927000"/>
                <a:chExt cx="592560" cy="842760"/>
              </a:xfrm>
            </p:grpSpPr>
            <p:sp>
              <p:nvSpPr>
                <p:cNvPr id="4144" name=""/>
                <p:cNvSpPr/>
                <p:nvPr/>
              </p:nvSpPr>
              <p:spPr>
                <a:xfrm>
                  <a:off x="991440" y="1069200"/>
                  <a:ext cx="102960" cy="177840"/>
                </a:xfrm>
                <a:custGeom>
                  <a:avLst/>
                  <a:gdLst/>
                  <a:ahLst/>
                  <a:rect l="l" t="t" r="r" b="b"/>
                  <a:pathLst>
                    <a:path w="434" h="514">
                      <a:moveTo>
                        <a:pt x="132" y="186"/>
                      </a:moveTo>
                      <a:lnTo>
                        <a:pt x="157" y="114"/>
                      </a:lnTo>
                      <a:lnTo>
                        <a:pt x="189" y="42"/>
                      </a:lnTo>
                      <a:lnTo>
                        <a:pt x="236" y="6"/>
                      </a:lnTo>
                      <a:lnTo>
                        <a:pt x="302" y="0"/>
                      </a:lnTo>
                      <a:lnTo>
                        <a:pt x="355" y="24"/>
                      </a:lnTo>
                      <a:lnTo>
                        <a:pt x="393" y="63"/>
                      </a:lnTo>
                      <a:lnTo>
                        <a:pt x="421" y="135"/>
                      </a:lnTo>
                      <a:lnTo>
                        <a:pt x="434" y="222"/>
                      </a:lnTo>
                      <a:lnTo>
                        <a:pt x="434" y="312"/>
                      </a:lnTo>
                      <a:lnTo>
                        <a:pt x="412" y="411"/>
                      </a:lnTo>
                      <a:lnTo>
                        <a:pt x="355" y="474"/>
                      </a:lnTo>
                      <a:lnTo>
                        <a:pt x="299" y="514"/>
                      </a:lnTo>
                      <a:lnTo>
                        <a:pt x="245" y="510"/>
                      </a:lnTo>
                      <a:lnTo>
                        <a:pt x="198" y="468"/>
                      </a:lnTo>
                      <a:lnTo>
                        <a:pt x="157" y="396"/>
                      </a:lnTo>
                      <a:lnTo>
                        <a:pt x="129" y="333"/>
                      </a:lnTo>
                      <a:lnTo>
                        <a:pt x="129" y="252"/>
                      </a:lnTo>
                      <a:lnTo>
                        <a:pt x="0" y="234"/>
                      </a:lnTo>
                      <a:lnTo>
                        <a:pt x="16" y="189"/>
                      </a:lnTo>
                      <a:lnTo>
                        <a:pt x="132" y="18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5" name=""/>
                <p:cNvSpPr/>
                <p:nvPr/>
              </p:nvSpPr>
              <p:spPr>
                <a:xfrm>
                  <a:off x="1059480" y="927000"/>
                  <a:ext cx="134280" cy="399240"/>
                </a:xfrm>
                <a:custGeom>
                  <a:avLst/>
                  <a:gdLst/>
                  <a:ahLst/>
                  <a:rect l="l" t="t" r="r" b="b"/>
                  <a:pathLst>
                    <a:path w="566" h="1154">
                      <a:moveTo>
                        <a:pt x="13" y="1145"/>
                      </a:moveTo>
                      <a:lnTo>
                        <a:pt x="0" y="1088"/>
                      </a:lnTo>
                      <a:lnTo>
                        <a:pt x="31" y="1042"/>
                      </a:lnTo>
                      <a:lnTo>
                        <a:pt x="134" y="988"/>
                      </a:lnTo>
                      <a:lnTo>
                        <a:pt x="226" y="927"/>
                      </a:lnTo>
                      <a:lnTo>
                        <a:pt x="313" y="827"/>
                      </a:lnTo>
                      <a:lnTo>
                        <a:pt x="432" y="689"/>
                      </a:lnTo>
                      <a:lnTo>
                        <a:pt x="463" y="634"/>
                      </a:lnTo>
                      <a:lnTo>
                        <a:pt x="479" y="580"/>
                      </a:lnTo>
                      <a:lnTo>
                        <a:pt x="472" y="526"/>
                      </a:lnTo>
                      <a:lnTo>
                        <a:pt x="444" y="426"/>
                      </a:lnTo>
                      <a:lnTo>
                        <a:pt x="376" y="299"/>
                      </a:lnTo>
                      <a:lnTo>
                        <a:pt x="301" y="229"/>
                      </a:lnTo>
                      <a:lnTo>
                        <a:pt x="235" y="190"/>
                      </a:lnTo>
                      <a:lnTo>
                        <a:pt x="181" y="184"/>
                      </a:lnTo>
                      <a:lnTo>
                        <a:pt x="153" y="190"/>
                      </a:lnTo>
                      <a:lnTo>
                        <a:pt x="150" y="163"/>
                      </a:lnTo>
                      <a:lnTo>
                        <a:pt x="215" y="154"/>
                      </a:lnTo>
                      <a:lnTo>
                        <a:pt x="291" y="154"/>
                      </a:lnTo>
                      <a:lnTo>
                        <a:pt x="238" y="93"/>
                      </a:lnTo>
                      <a:lnTo>
                        <a:pt x="206" y="45"/>
                      </a:lnTo>
                      <a:lnTo>
                        <a:pt x="229" y="27"/>
                      </a:lnTo>
                      <a:lnTo>
                        <a:pt x="313" y="109"/>
                      </a:lnTo>
                      <a:lnTo>
                        <a:pt x="329" y="121"/>
                      </a:lnTo>
                      <a:lnTo>
                        <a:pt x="313" y="57"/>
                      </a:lnTo>
                      <a:lnTo>
                        <a:pt x="301" y="9"/>
                      </a:lnTo>
                      <a:lnTo>
                        <a:pt x="313" y="0"/>
                      </a:lnTo>
                      <a:lnTo>
                        <a:pt x="341" y="9"/>
                      </a:lnTo>
                      <a:lnTo>
                        <a:pt x="366" y="121"/>
                      </a:lnTo>
                      <a:lnTo>
                        <a:pt x="379" y="118"/>
                      </a:lnTo>
                      <a:lnTo>
                        <a:pt x="379" y="30"/>
                      </a:lnTo>
                      <a:lnTo>
                        <a:pt x="404" y="21"/>
                      </a:lnTo>
                      <a:lnTo>
                        <a:pt x="422" y="36"/>
                      </a:lnTo>
                      <a:lnTo>
                        <a:pt x="413" y="154"/>
                      </a:lnTo>
                      <a:lnTo>
                        <a:pt x="407" y="202"/>
                      </a:lnTo>
                      <a:lnTo>
                        <a:pt x="422" y="299"/>
                      </a:lnTo>
                      <a:lnTo>
                        <a:pt x="472" y="402"/>
                      </a:lnTo>
                      <a:lnTo>
                        <a:pt x="525" y="520"/>
                      </a:lnTo>
                      <a:lnTo>
                        <a:pt x="566" y="607"/>
                      </a:lnTo>
                      <a:lnTo>
                        <a:pt x="563" y="652"/>
                      </a:lnTo>
                      <a:lnTo>
                        <a:pt x="488" y="734"/>
                      </a:lnTo>
                      <a:lnTo>
                        <a:pt x="385" y="836"/>
                      </a:lnTo>
                      <a:lnTo>
                        <a:pt x="301" y="937"/>
                      </a:lnTo>
                      <a:lnTo>
                        <a:pt x="197" y="1070"/>
                      </a:lnTo>
                      <a:lnTo>
                        <a:pt x="112" y="1136"/>
                      </a:lnTo>
                      <a:lnTo>
                        <a:pt x="47" y="1154"/>
                      </a:lnTo>
                      <a:lnTo>
                        <a:pt x="13" y="1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6" name=""/>
                <p:cNvSpPr/>
                <p:nvPr/>
              </p:nvSpPr>
              <p:spPr>
                <a:xfrm>
                  <a:off x="795960" y="1299240"/>
                  <a:ext cx="246240" cy="200880"/>
                </a:xfrm>
                <a:custGeom>
                  <a:avLst/>
                  <a:gdLst/>
                  <a:ahLst/>
                  <a:rect l="l" t="t" r="r" b="b"/>
                  <a:pathLst>
                    <a:path w="1037" h="581">
                      <a:moveTo>
                        <a:pt x="210" y="468"/>
                      </a:moveTo>
                      <a:lnTo>
                        <a:pt x="361" y="462"/>
                      </a:lnTo>
                      <a:lnTo>
                        <a:pt x="498" y="444"/>
                      </a:lnTo>
                      <a:lnTo>
                        <a:pt x="583" y="423"/>
                      </a:lnTo>
                      <a:lnTo>
                        <a:pt x="705" y="354"/>
                      </a:lnTo>
                      <a:lnTo>
                        <a:pt x="792" y="288"/>
                      </a:lnTo>
                      <a:lnTo>
                        <a:pt x="906" y="207"/>
                      </a:lnTo>
                      <a:lnTo>
                        <a:pt x="959" y="156"/>
                      </a:lnTo>
                      <a:lnTo>
                        <a:pt x="1000" y="120"/>
                      </a:lnTo>
                      <a:lnTo>
                        <a:pt x="1037" y="81"/>
                      </a:lnTo>
                      <a:lnTo>
                        <a:pt x="1037" y="39"/>
                      </a:lnTo>
                      <a:lnTo>
                        <a:pt x="996" y="0"/>
                      </a:lnTo>
                      <a:lnTo>
                        <a:pt x="971" y="9"/>
                      </a:lnTo>
                      <a:lnTo>
                        <a:pt x="903" y="90"/>
                      </a:lnTo>
                      <a:lnTo>
                        <a:pt x="828" y="183"/>
                      </a:lnTo>
                      <a:lnTo>
                        <a:pt x="752" y="270"/>
                      </a:lnTo>
                      <a:lnTo>
                        <a:pt x="642" y="342"/>
                      </a:lnTo>
                      <a:lnTo>
                        <a:pt x="548" y="390"/>
                      </a:lnTo>
                      <a:lnTo>
                        <a:pt x="445" y="414"/>
                      </a:lnTo>
                      <a:lnTo>
                        <a:pt x="301" y="417"/>
                      </a:lnTo>
                      <a:lnTo>
                        <a:pt x="216" y="417"/>
                      </a:lnTo>
                      <a:lnTo>
                        <a:pt x="144" y="363"/>
                      </a:lnTo>
                      <a:lnTo>
                        <a:pt x="125" y="327"/>
                      </a:lnTo>
                      <a:lnTo>
                        <a:pt x="94" y="327"/>
                      </a:lnTo>
                      <a:lnTo>
                        <a:pt x="116" y="372"/>
                      </a:lnTo>
                      <a:lnTo>
                        <a:pt x="150" y="414"/>
                      </a:lnTo>
                      <a:lnTo>
                        <a:pt x="66" y="396"/>
                      </a:lnTo>
                      <a:lnTo>
                        <a:pt x="3" y="387"/>
                      </a:lnTo>
                      <a:lnTo>
                        <a:pt x="3" y="405"/>
                      </a:lnTo>
                      <a:lnTo>
                        <a:pt x="59" y="417"/>
                      </a:lnTo>
                      <a:lnTo>
                        <a:pt x="97" y="441"/>
                      </a:lnTo>
                      <a:lnTo>
                        <a:pt x="131" y="444"/>
                      </a:lnTo>
                      <a:lnTo>
                        <a:pt x="78" y="462"/>
                      </a:lnTo>
                      <a:lnTo>
                        <a:pt x="0" y="481"/>
                      </a:lnTo>
                      <a:lnTo>
                        <a:pt x="3" y="499"/>
                      </a:lnTo>
                      <a:lnTo>
                        <a:pt x="28" y="505"/>
                      </a:lnTo>
                      <a:lnTo>
                        <a:pt x="103" y="481"/>
                      </a:lnTo>
                      <a:lnTo>
                        <a:pt x="150" y="477"/>
                      </a:lnTo>
                      <a:lnTo>
                        <a:pt x="122" y="505"/>
                      </a:lnTo>
                      <a:lnTo>
                        <a:pt x="78" y="550"/>
                      </a:lnTo>
                      <a:lnTo>
                        <a:pt x="59" y="562"/>
                      </a:lnTo>
                      <a:lnTo>
                        <a:pt x="75" y="581"/>
                      </a:lnTo>
                      <a:lnTo>
                        <a:pt x="113" y="559"/>
                      </a:lnTo>
                      <a:lnTo>
                        <a:pt x="163" y="514"/>
                      </a:lnTo>
                      <a:lnTo>
                        <a:pt x="210" y="46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7" name=""/>
                <p:cNvSpPr/>
                <p:nvPr/>
              </p:nvSpPr>
              <p:spPr>
                <a:xfrm>
                  <a:off x="1022760" y="1278360"/>
                  <a:ext cx="144360" cy="276840"/>
                </a:xfrm>
                <a:custGeom>
                  <a:avLst/>
                  <a:gdLst/>
                  <a:ahLst/>
                  <a:rect l="l" t="t" r="r" b="b"/>
                  <a:pathLst>
                    <a:path w="608" h="800">
                      <a:moveTo>
                        <a:pt x="38" y="90"/>
                      </a:moveTo>
                      <a:lnTo>
                        <a:pt x="63" y="27"/>
                      </a:lnTo>
                      <a:lnTo>
                        <a:pt x="104" y="0"/>
                      </a:lnTo>
                      <a:lnTo>
                        <a:pt x="141" y="0"/>
                      </a:lnTo>
                      <a:lnTo>
                        <a:pt x="179" y="18"/>
                      </a:lnTo>
                      <a:lnTo>
                        <a:pt x="216" y="54"/>
                      </a:lnTo>
                      <a:lnTo>
                        <a:pt x="235" y="117"/>
                      </a:lnTo>
                      <a:lnTo>
                        <a:pt x="245" y="180"/>
                      </a:lnTo>
                      <a:lnTo>
                        <a:pt x="263" y="243"/>
                      </a:lnTo>
                      <a:lnTo>
                        <a:pt x="298" y="312"/>
                      </a:lnTo>
                      <a:lnTo>
                        <a:pt x="357" y="384"/>
                      </a:lnTo>
                      <a:lnTo>
                        <a:pt x="415" y="432"/>
                      </a:lnTo>
                      <a:lnTo>
                        <a:pt x="499" y="468"/>
                      </a:lnTo>
                      <a:lnTo>
                        <a:pt x="571" y="522"/>
                      </a:lnTo>
                      <a:lnTo>
                        <a:pt x="608" y="577"/>
                      </a:lnTo>
                      <a:lnTo>
                        <a:pt x="602" y="622"/>
                      </a:lnTo>
                      <a:lnTo>
                        <a:pt x="593" y="676"/>
                      </a:lnTo>
                      <a:lnTo>
                        <a:pt x="565" y="712"/>
                      </a:lnTo>
                      <a:lnTo>
                        <a:pt x="518" y="757"/>
                      </a:lnTo>
                      <a:lnTo>
                        <a:pt x="449" y="790"/>
                      </a:lnTo>
                      <a:lnTo>
                        <a:pt x="396" y="800"/>
                      </a:lnTo>
                      <a:lnTo>
                        <a:pt x="320" y="784"/>
                      </a:lnTo>
                      <a:lnTo>
                        <a:pt x="251" y="748"/>
                      </a:lnTo>
                      <a:lnTo>
                        <a:pt x="179" y="694"/>
                      </a:lnTo>
                      <a:lnTo>
                        <a:pt x="129" y="631"/>
                      </a:lnTo>
                      <a:lnTo>
                        <a:pt x="82" y="550"/>
                      </a:lnTo>
                      <a:lnTo>
                        <a:pt x="44" y="456"/>
                      </a:lnTo>
                      <a:lnTo>
                        <a:pt x="19" y="375"/>
                      </a:lnTo>
                      <a:lnTo>
                        <a:pt x="7" y="297"/>
                      </a:lnTo>
                      <a:lnTo>
                        <a:pt x="0" y="189"/>
                      </a:lnTo>
                      <a:lnTo>
                        <a:pt x="19" y="117"/>
                      </a:lnTo>
                      <a:lnTo>
                        <a:pt x="38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8" name=""/>
                <p:cNvSpPr/>
                <p:nvPr/>
              </p:nvSpPr>
              <p:spPr>
                <a:xfrm>
                  <a:off x="1140840" y="1396800"/>
                  <a:ext cx="247680" cy="251280"/>
                </a:xfrm>
                <a:custGeom>
                  <a:avLst/>
                  <a:gdLst/>
                  <a:ahLst/>
                  <a:rect l="l" t="t" r="r" b="b"/>
                  <a:pathLst>
                    <a:path w="1043" h="726">
                      <a:moveTo>
                        <a:pt x="116" y="230"/>
                      </a:moveTo>
                      <a:lnTo>
                        <a:pt x="216" y="147"/>
                      </a:lnTo>
                      <a:lnTo>
                        <a:pt x="338" y="72"/>
                      </a:lnTo>
                      <a:lnTo>
                        <a:pt x="417" y="27"/>
                      </a:lnTo>
                      <a:lnTo>
                        <a:pt x="479" y="12"/>
                      </a:lnTo>
                      <a:lnTo>
                        <a:pt x="529" y="0"/>
                      </a:lnTo>
                      <a:lnTo>
                        <a:pt x="573" y="18"/>
                      </a:lnTo>
                      <a:lnTo>
                        <a:pt x="601" y="75"/>
                      </a:lnTo>
                      <a:lnTo>
                        <a:pt x="620" y="230"/>
                      </a:lnTo>
                      <a:lnTo>
                        <a:pt x="620" y="416"/>
                      </a:lnTo>
                      <a:lnTo>
                        <a:pt x="620" y="536"/>
                      </a:lnTo>
                      <a:lnTo>
                        <a:pt x="642" y="609"/>
                      </a:lnTo>
                      <a:lnTo>
                        <a:pt x="686" y="597"/>
                      </a:lnTo>
                      <a:lnTo>
                        <a:pt x="717" y="552"/>
                      </a:lnTo>
                      <a:lnTo>
                        <a:pt x="779" y="500"/>
                      </a:lnTo>
                      <a:lnTo>
                        <a:pt x="876" y="470"/>
                      </a:lnTo>
                      <a:lnTo>
                        <a:pt x="943" y="470"/>
                      </a:lnTo>
                      <a:lnTo>
                        <a:pt x="1043" y="488"/>
                      </a:lnTo>
                      <a:lnTo>
                        <a:pt x="1037" y="524"/>
                      </a:lnTo>
                      <a:lnTo>
                        <a:pt x="1015" y="555"/>
                      </a:lnTo>
                      <a:lnTo>
                        <a:pt x="981" y="561"/>
                      </a:lnTo>
                      <a:lnTo>
                        <a:pt x="943" y="542"/>
                      </a:lnTo>
                      <a:lnTo>
                        <a:pt x="886" y="518"/>
                      </a:lnTo>
                      <a:lnTo>
                        <a:pt x="829" y="518"/>
                      </a:lnTo>
                      <a:lnTo>
                        <a:pt x="754" y="564"/>
                      </a:lnTo>
                      <a:lnTo>
                        <a:pt x="708" y="633"/>
                      </a:lnTo>
                      <a:lnTo>
                        <a:pt x="698" y="690"/>
                      </a:lnTo>
                      <a:lnTo>
                        <a:pt x="679" y="726"/>
                      </a:lnTo>
                      <a:lnTo>
                        <a:pt x="604" y="723"/>
                      </a:lnTo>
                      <a:lnTo>
                        <a:pt x="601" y="669"/>
                      </a:lnTo>
                      <a:lnTo>
                        <a:pt x="576" y="591"/>
                      </a:lnTo>
                      <a:lnTo>
                        <a:pt x="567" y="509"/>
                      </a:lnTo>
                      <a:lnTo>
                        <a:pt x="573" y="401"/>
                      </a:lnTo>
                      <a:lnTo>
                        <a:pt x="564" y="248"/>
                      </a:lnTo>
                      <a:lnTo>
                        <a:pt x="558" y="147"/>
                      </a:lnTo>
                      <a:lnTo>
                        <a:pt x="539" y="111"/>
                      </a:lnTo>
                      <a:lnTo>
                        <a:pt x="501" y="75"/>
                      </a:lnTo>
                      <a:lnTo>
                        <a:pt x="461" y="75"/>
                      </a:lnTo>
                      <a:lnTo>
                        <a:pt x="403" y="111"/>
                      </a:lnTo>
                      <a:lnTo>
                        <a:pt x="328" y="181"/>
                      </a:lnTo>
                      <a:lnTo>
                        <a:pt x="235" y="272"/>
                      </a:lnTo>
                      <a:lnTo>
                        <a:pt x="141" y="356"/>
                      </a:lnTo>
                      <a:lnTo>
                        <a:pt x="94" y="383"/>
                      </a:lnTo>
                      <a:lnTo>
                        <a:pt x="38" y="383"/>
                      </a:lnTo>
                      <a:lnTo>
                        <a:pt x="0" y="344"/>
                      </a:lnTo>
                      <a:lnTo>
                        <a:pt x="3" y="281"/>
                      </a:lnTo>
                      <a:lnTo>
                        <a:pt x="41" y="248"/>
                      </a:lnTo>
                      <a:lnTo>
                        <a:pt x="84" y="239"/>
                      </a:lnTo>
                      <a:lnTo>
                        <a:pt x="116" y="23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9" name=""/>
                <p:cNvSpPr/>
                <p:nvPr/>
              </p:nvSpPr>
              <p:spPr>
                <a:xfrm>
                  <a:off x="1127520" y="1506240"/>
                  <a:ext cx="169200" cy="263520"/>
                </a:xfrm>
                <a:custGeom>
                  <a:avLst/>
                  <a:gdLst/>
                  <a:ahLst/>
                  <a:rect l="l" t="t" r="r" b="b"/>
                  <a:pathLst>
                    <a:path w="713" h="762">
                      <a:moveTo>
                        <a:pt x="0" y="64"/>
                      </a:moveTo>
                      <a:lnTo>
                        <a:pt x="22" y="16"/>
                      </a:lnTo>
                      <a:lnTo>
                        <a:pt x="69" y="0"/>
                      </a:lnTo>
                      <a:lnTo>
                        <a:pt x="134" y="7"/>
                      </a:lnTo>
                      <a:lnTo>
                        <a:pt x="150" y="52"/>
                      </a:lnTo>
                      <a:lnTo>
                        <a:pt x="125" y="227"/>
                      </a:lnTo>
                      <a:lnTo>
                        <a:pt x="122" y="360"/>
                      </a:lnTo>
                      <a:lnTo>
                        <a:pt x="116" y="435"/>
                      </a:lnTo>
                      <a:lnTo>
                        <a:pt x="116" y="450"/>
                      </a:lnTo>
                      <a:lnTo>
                        <a:pt x="131" y="524"/>
                      </a:lnTo>
                      <a:lnTo>
                        <a:pt x="172" y="536"/>
                      </a:lnTo>
                      <a:lnTo>
                        <a:pt x="225" y="524"/>
                      </a:lnTo>
                      <a:lnTo>
                        <a:pt x="303" y="481"/>
                      </a:lnTo>
                      <a:lnTo>
                        <a:pt x="387" y="460"/>
                      </a:lnTo>
                      <a:lnTo>
                        <a:pt x="482" y="444"/>
                      </a:lnTo>
                      <a:lnTo>
                        <a:pt x="585" y="432"/>
                      </a:lnTo>
                      <a:lnTo>
                        <a:pt x="660" y="432"/>
                      </a:lnTo>
                      <a:lnTo>
                        <a:pt x="694" y="441"/>
                      </a:lnTo>
                      <a:lnTo>
                        <a:pt x="713" y="463"/>
                      </a:lnTo>
                      <a:lnTo>
                        <a:pt x="704" y="496"/>
                      </a:lnTo>
                      <a:lnTo>
                        <a:pt x="657" y="524"/>
                      </a:lnTo>
                      <a:lnTo>
                        <a:pt x="613" y="563"/>
                      </a:lnTo>
                      <a:lnTo>
                        <a:pt x="572" y="618"/>
                      </a:lnTo>
                      <a:lnTo>
                        <a:pt x="547" y="663"/>
                      </a:lnTo>
                      <a:lnTo>
                        <a:pt x="526" y="708"/>
                      </a:lnTo>
                      <a:lnTo>
                        <a:pt x="510" y="762"/>
                      </a:lnTo>
                      <a:lnTo>
                        <a:pt x="488" y="762"/>
                      </a:lnTo>
                      <a:lnTo>
                        <a:pt x="469" y="741"/>
                      </a:lnTo>
                      <a:lnTo>
                        <a:pt x="462" y="681"/>
                      </a:lnTo>
                      <a:lnTo>
                        <a:pt x="507" y="627"/>
                      </a:lnTo>
                      <a:lnTo>
                        <a:pt x="566" y="563"/>
                      </a:lnTo>
                      <a:lnTo>
                        <a:pt x="622" y="515"/>
                      </a:lnTo>
                      <a:lnTo>
                        <a:pt x="647" y="499"/>
                      </a:lnTo>
                      <a:lnTo>
                        <a:pt x="657" y="478"/>
                      </a:lnTo>
                      <a:lnTo>
                        <a:pt x="632" y="463"/>
                      </a:lnTo>
                      <a:lnTo>
                        <a:pt x="547" y="463"/>
                      </a:lnTo>
                      <a:lnTo>
                        <a:pt x="440" y="481"/>
                      </a:lnTo>
                      <a:lnTo>
                        <a:pt x="356" y="509"/>
                      </a:lnTo>
                      <a:lnTo>
                        <a:pt x="265" y="560"/>
                      </a:lnTo>
                      <a:lnTo>
                        <a:pt x="187" y="596"/>
                      </a:lnTo>
                      <a:lnTo>
                        <a:pt x="103" y="599"/>
                      </a:lnTo>
                      <a:lnTo>
                        <a:pt x="69" y="587"/>
                      </a:lnTo>
                      <a:lnTo>
                        <a:pt x="50" y="542"/>
                      </a:lnTo>
                      <a:lnTo>
                        <a:pt x="37" y="478"/>
                      </a:lnTo>
                      <a:lnTo>
                        <a:pt x="31" y="360"/>
                      </a:lnTo>
                      <a:lnTo>
                        <a:pt x="19" y="151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0" name=""/>
              <p:cNvGrpSpPr/>
              <p:nvPr/>
            </p:nvGrpSpPr>
            <p:grpSpPr>
              <a:xfrm>
                <a:off x="1323360" y="1484280"/>
                <a:ext cx="102240" cy="303120"/>
                <a:chOff x="1323360" y="1484280"/>
                <a:chExt cx="102240" cy="303120"/>
              </a:xfrm>
            </p:grpSpPr>
            <p:sp>
              <p:nvSpPr>
                <p:cNvPr id="4151" name=""/>
                <p:cNvSpPr/>
                <p:nvPr/>
              </p:nvSpPr>
              <p:spPr>
                <a:xfrm>
                  <a:off x="1344960" y="1653480"/>
                  <a:ext cx="80640" cy="37440"/>
                </a:xfrm>
                <a:custGeom>
                  <a:avLst/>
                  <a:gdLst/>
                  <a:ahLst/>
                  <a:rect l="l" t="t" r="r" b="b"/>
                  <a:pathLst>
                    <a:path w="340" h="109">
                      <a:moveTo>
                        <a:pt x="340" y="109"/>
                      </a:moveTo>
                      <a:lnTo>
                        <a:pt x="165" y="30"/>
                      </a:lnTo>
                      <a:lnTo>
                        <a:pt x="48" y="0"/>
                      </a:lnTo>
                      <a:lnTo>
                        <a:pt x="10" y="0"/>
                      </a:lnTo>
                      <a:lnTo>
                        <a:pt x="0" y="27"/>
                      </a:lnTo>
                      <a:lnTo>
                        <a:pt x="22" y="48"/>
                      </a:lnTo>
                      <a:lnTo>
                        <a:pt x="70" y="54"/>
                      </a:lnTo>
                      <a:lnTo>
                        <a:pt x="184" y="75"/>
                      </a:lnTo>
                      <a:lnTo>
                        <a:pt x="340" y="10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2" name=""/>
                <p:cNvSpPr/>
                <p:nvPr/>
              </p:nvSpPr>
              <p:spPr>
                <a:xfrm>
                  <a:off x="1323360" y="1686960"/>
                  <a:ext cx="22680" cy="100440"/>
                </a:xfrm>
                <a:custGeom>
                  <a:avLst/>
                  <a:gdLst/>
                  <a:ahLst/>
                  <a:rect l="l" t="t" r="r" b="b"/>
                  <a:pathLst>
                    <a:path w="97" h="291">
                      <a:moveTo>
                        <a:pt x="97" y="291"/>
                      </a:moveTo>
                      <a:lnTo>
                        <a:pt x="94" y="148"/>
                      </a:lnTo>
                      <a:lnTo>
                        <a:pt x="69" y="39"/>
                      </a:lnTo>
                      <a:lnTo>
                        <a:pt x="41" y="0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54"/>
                      </a:lnTo>
                      <a:lnTo>
                        <a:pt x="47" y="184"/>
                      </a:lnTo>
                      <a:lnTo>
                        <a:pt x="97" y="29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3" name=""/>
                <p:cNvSpPr/>
                <p:nvPr/>
              </p:nvSpPr>
              <p:spPr>
                <a:xfrm>
                  <a:off x="1356480" y="1484280"/>
                  <a:ext cx="50760" cy="38160"/>
                </a:xfrm>
                <a:custGeom>
                  <a:avLst/>
                  <a:gdLst/>
                  <a:ahLst/>
                  <a:rect l="l" t="t" r="r" b="b"/>
                  <a:pathLst>
                    <a:path w="214" h="111">
                      <a:moveTo>
                        <a:pt x="0" y="72"/>
                      </a:moveTo>
                      <a:lnTo>
                        <a:pt x="42" y="30"/>
                      </a:lnTo>
                      <a:lnTo>
                        <a:pt x="100" y="3"/>
                      </a:lnTo>
                      <a:lnTo>
                        <a:pt x="166" y="0"/>
                      </a:lnTo>
                      <a:lnTo>
                        <a:pt x="214" y="9"/>
                      </a:lnTo>
                      <a:lnTo>
                        <a:pt x="138" y="18"/>
                      </a:lnTo>
                      <a:lnTo>
                        <a:pt x="109" y="36"/>
                      </a:lnTo>
                      <a:lnTo>
                        <a:pt x="81" y="63"/>
                      </a:lnTo>
                      <a:lnTo>
                        <a:pt x="68" y="93"/>
                      </a:lnTo>
                      <a:lnTo>
                        <a:pt x="42" y="111"/>
                      </a:lnTo>
                      <a:lnTo>
                        <a:pt x="1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154" name=""/>
          <p:cNvSpPr/>
          <p:nvPr/>
        </p:nvSpPr>
        <p:spPr>
          <a:xfrm>
            <a:off x="9144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5" name=""/>
          <p:cNvSpPr/>
          <p:nvPr/>
        </p:nvSpPr>
        <p:spPr>
          <a:xfrm>
            <a:off x="3886200" y="152280"/>
            <a:ext cx="182880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6" name=""/>
          <p:cNvSpPr/>
          <p:nvPr/>
        </p:nvSpPr>
        <p:spPr>
          <a:xfrm>
            <a:off x="4203720" y="31240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7" name=""/>
          <p:cNvSpPr/>
          <p:nvPr/>
        </p:nvSpPr>
        <p:spPr>
          <a:xfrm>
            <a:off x="3587760" y="392436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8" name=""/>
          <p:cNvSpPr/>
          <p:nvPr/>
        </p:nvSpPr>
        <p:spPr>
          <a:xfrm>
            <a:off x="3927240" y="27432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9" name=""/>
          <p:cNvSpPr/>
          <p:nvPr/>
        </p:nvSpPr>
        <p:spPr>
          <a:xfrm>
            <a:off x="3291120" y="3679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0" name=""/>
          <p:cNvSpPr/>
          <p:nvPr/>
        </p:nvSpPr>
        <p:spPr>
          <a:xfrm>
            <a:off x="4053240" y="49752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1" name=""/>
          <p:cNvSpPr/>
          <p:nvPr/>
        </p:nvSpPr>
        <p:spPr>
          <a:xfrm>
            <a:off x="4197240" y="483876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2" name=""/>
          <p:cNvSpPr/>
          <p:nvPr/>
        </p:nvSpPr>
        <p:spPr>
          <a:xfrm>
            <a:off x="4959360" y="369576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3" name=""/>
          <p:cNvSpPr/>
          <p:nvPr/>
        </p:nvSpPr>
        <p:spPr>
          <a:xfrm>
            <a:off x="4959360" y="430524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4" name=""/>
          <p:cNvSpPr/>
          <p:nvPr/>
        </p:nvSpPr>
        <p:spPr>
          <a:xfrm>
            <a:off x="4273560" y="3162240"/>
            <a:ext cx="762120" cy="609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5" name=""/>
          <p:cNvSpPr/>
          <p:nvPr/>
        </p:nvSpPr>
        <p:spPr>
          <a:xfrm>
            <a:off x="5035680" y="3772080"/>
            <a:ext cx="0" cy="609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6" name=""/>
          <p:cNvSpPr/>
          <p:nvPr/>
        </p:nvSpPr>
        <p:spPr>
          <a:xfrm flipH="1">
            <a:off x="4273200" y="4381560"/>
            <a:ext cx="762120" cy="533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7" name=""/>
          <p:cNvSpPr/>
          <p:nvPr/>
        </p:nvSpPr>
        <p:spPr>
          <a:xfrm flipH="1" flipV="1">
            <a:off x="3663720" y="4000680"/>
            <a:ext cx="609480" cy="914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8" name=""/>
          <p:cNvSpPr/>
          <p:nvPr/>
        </p:nvSpPr>
        <p:spPr>
          <a:xfrm flipV="1">
            <a:off x="3664080" y="3161880"/>
            <a:ext cx="609480" cy="838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9" name=""/>
          <p:cNvSpPr/>
          <p:nvPr/>
        </p:nvSpPr>
        <p:spPr>
          <a:xfrm>
            <a:off x="3344760" y="3205080"/>
            <a:ext cx="75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0" name=""/>
          <p:cNvSpPr/>
          <p:nvPr/>
        </p:nvSpPr>
        <p:spPr>
          <a:xfrm>
            <a:off x="3595680" y="43052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1" name=""/>
          <p:cNvSpPr/>
          <p:nvPr/>
        </p:nvSpPr>
        <p:spPr>
          <a:xfrm>
            <a:off x="4586400" y="45943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2" name=""/>
          <p:cNvSpPr/>
          <p:nvPr/>
        </p:nvSpPr>
        <p:spPr>
          <a:xfrm>
            <a:off x="5189760" y="37720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3" name=""/>
          <p:cNvSpPr/>
          <p:nvPr/>
        </p:nvSpPr>
        <p:spPr>
          <a:xfrm>
            <a:off x="4579920" y="3009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4" name=""/>
          <p:cNvSpPr/>
          <p:nvPr/>
        </p:nvSpPr>
        <p:spPr>
          <a:xfrm>
            <a:off x="4960800" y="331488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5" name=""/>
          <p:cNvSpPr/>
          <p:nvPr/>
        </p:nvSpPr>
        <p:spPr>
          <a:xfrm>
            <a:off x="5037120" y="415296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6" name=""/>
          <p:cNvSpPr/>
          <p:nvPr/>
        </p:nvSpPr>
        <p:spPr>
          <a:xfrm>
            <a:off x="2122200" y="5452920"/>
            <a:ext cx="424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hich node is found first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598680" y="2270160"/>
            <a:ext cx="5495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s the same true for Dijkstra's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lg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"/>
          <p:cNvSpPr/>
          <p:nvPr/>
        </p:nvSpPr>
        <p:spPr>
          <a:xfrm>
            <a:off x="4267080" y="3200400"/>
            <a:ext cx="7621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9" name=""/>
          <p:cNvSpPr/>
          <p:nvPr/>
        </p:nvSpPr>
        <p:spPr>
          <a:xfrm flipV="1">
            <a:off x="3664080" y="3161880"/>
            <a:ext cx="60948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0" name=""/>
          <p:cNvSpPr/>
          <p:nvPr/>
        </p:nvSpPr>
        <p:spPr>
          <a:xfrm>
            <a:off x="2057400" y="838080"/>
            <a:ext cx="525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 far, the nodes have been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n order of length from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81" name=""/>
          <p:cNvGrpSpPr/>
          <p:nvPr/>
        </p:nvGrpSpPr>
        <p:grpSpPr>
          <a:xfrm>
            <a:off x="609480" y="838080"/>
            <a:ext cx="1181160" cy="1067040"/>
            <a:chOff x="609480" y="838080"/>
            <a:chExt cx="1181160" cy="1067040"/>
          </a:xfrm>
        </p:grpSpPr>
        <p:sp>
          <p:nvSpPr>
            <p:cNvPr id="4182" name=""/>
            <p:cNvSpPr/>
            <p:nvPr/>
          </p:nvSpPr>
          <p:spPr>
            <a:xfrm>
              <a:off x="609480" y="838080"/>
              <a:ext cx="1181160" cy="106704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83" name=""/>
            <p:cNvGrpSpPr/>
            <p:nvPr/>
          </p:nvGrpSpPr>
          <p:grpSpPr>
            <a:xfrm>
              <a:off x="795960" y="927000"/>
              <a:ext cx="629640" cy="860400"/>
              <a:chOff x="795960" y="927000"/>
              <a:chExt cx="629640" cy="860400"/>
            </a:xfrm>
          </p:grpSpPr>
          <p:grpSp>
            <p:nvGrpSpPr>
              <p:cNvPr id="4184" name=""/>
              <p:cNvGrpSpPr/>
              <p:nvPr/>
            </p:nvGrpSpPr>
            <p:grpSpPr>
              <a:xfrm>
                <a:off x="795960" y="927000"/>
                <a:ext cx="592560" cy="842760"/>
                <a:chOff x="795960" y="927000"/>
                <a:chExt cx="592560" cy="842760"/>
              </a:xfrm>
            </p:grpSpPr>
            <p:sp>
              <p:nvSpPr>
                <p:cNvPr id="4185" name=""/>
                <p:cNvSpPr/>
                <p:nvPr/>
              </p:nvSpPr>
              <p:spPr>
                <a:xfrm>
                  <a:off x="991440" y="1069200"/>
                  <a:ext cx="102960" cy="177840"/>
                </a:xfrm>
                <a:custGeom>
                  <a:avLst/>
                  <a:gdLst/>
                  <a:ahLst/>
                  <a:rect l="l" t="t" r="r" b="b"/>
                  <a:pathLst>
                    <a:path w="434" h="514">
                      <a:moveTo>
                        <a:pt x="132" y="186"/>
                      </a:moveTo>
                      <a:lnTo>
                        <a:pt x="157" y="114"/>
                      </a:lnTo>
                      <a:lnTo>
                        <a:pt x="189" y="42"/>
                      </a:lnTo>
                      <a:lnTo>
                        <a:pt x="236" y="6"/>
                      </a:lnTo>
                      <a:lnTo>
                        <a:pt x="302" y="0"/>
                      </a:lnTo>
                      <a:lnTo>
                        <a:pt x="355" y="24"/>
                      </a:lnTo>
                      <a:lnTo>
                        <a:pt x="393" y="63"/>
                      </a:lnTo>
                      <a:lnTo>
                        <a:pt x="421" y="135"/>
                      </a:lnTo>
                      <a:lnTo>
                        <a:pt x="434" y="222"/>
                      </a:lnTo>
                      <a:lnTo>
                        <a:pt x="434" y="312"/>
                      </a:lnTo>
                      <a:lnTo>
                        <a:pt x="412" y="411"/>
                      </a:lnTo>
                      <a:lnTo>
                        <a:pt x="355" y="474"/>
                      </a:lnTo>
                      <a:lnTo>
                        <a:pt x="299" y="514"/>
                      </a:lnTo>
                      <a:lnTo>
                        <a:pt x="245" y="510"/>
                      </a:lnTo>
                      <a:lnTo>
                        <a:pt x="198" y="468"/>
                      </a:lnTo>
                      <a:lnTo>
                        <a:pt x="157" y="396"/>
                      </a:lnTo>
                      <a:lnTo>
                        <a:pt x="129" y="333"/>
                      </a:lnTo>
                      <a:lnTo>
                        <a:pt x="129" y="252"/>
                      </a:lnTo>
                      <a:lnTo>
                        <a:pt x="0" y="234"/>
                      </a:lnTo>
                      <a:lnTo>
                        <a:pt x="16" y="189"/>
                      </a:lnTo>
                      <a:lnTo>
                        <a:pt x="132" y="18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6" name=""/>
                <p:cNvSpPr/>
                <p:nvPr/>
              </p:nvSpPr>
              <p:spPr>
                <a:xfrm>
                  <a:off x="1059480" y="927000"/>
                  <a:ext cx="134280" cy="399240"/>
                </a:xfrm>
                <a:custGeom>
                  <a:avLst/>
                  <a:gdLst/>
                  <a:ahLst/>
                  <a:rect l="l" t="t" r="r" b="b"/>
                  <a:pathLst>
                    <a:path w="566" h="1154">
                      <a:moveTo>
                        <a:pt x="13" y="1145"/>
                      </a:moveTo>
                      <a:lnTo>
                        <a:pt x="0" y="1088"/>
                      </a:lnTo>
                      <a:lnTo>
                        <a:pt x="31" y="1042"/>
                      </a:lnTo>
                      <a:lnTo>
                        <a:pt x="134" y="988"/>
                      </a:lnTo>
                      <a:lnTo>
                        <a:pt x="226" y="927"/>
                      </a:lnTo>
                      <a:lnTo>
                        <a:pt x="313" y="827"/>
                      </a:lnTo>
                      <a:lnTo>
                        <a:pt x="432" y="689"/>
                      </a:lnTo>
                      <a:lnTo>
                        <a:pt x="463" y="634"/>
                      </a:lnTo>
                      <a:lnTo>
                        <a:pt x="479" y="580"/>
                      </a:lnTo>
                      <a:lnTo>
                        <a:pt x="472" y="526"/>
                      </a:lnTo>
                      <a:lnTo>
                        <a:pt x="444" y="426"/>
                      </a:lnTo>
                      <a:lnTo>
                        <a:pt x="376" y="299"/>
                      </a:lnTo>
                      <a:lnTo>
                        <a:pt x="301" y="229"/>
                      </a:lnTo>
                      <a:lnTo>
                        <a:pt x="235" y="190"/>
                      </a:lnTo>
                      <a:lnTo>
                        <a:pt x="181" y="184"/>
                      </a:lnTo>
                      <a:lnTo>
                        <a:pt x="153" y="190"/>
                      </a:lnTo>
                      <a:lnTo>
                        <a:pt x="150" y="163"/>
                      </a:lnTo>
                      <a:lnTo>
                        <a:pt x="215" y="154"/>
                      </a:lnTo>
                      <a:lnTo>
                        <a:pt x="291" y="154"/>
                      </a:lnTo>
                      <a:lnTo>
                        <a:pt x="238" y="93"/>
                      </a:lnTo>
                      <a:lnTo>
                        <a:pt x="206" y="45"/>
                      </a:lnTo>
                      <a:lnTo>
                        <a:pt x="229" y="27"/>
                      </a:lnTo>
                      <a:lnTo>
                        <a:pt x="313" y="109"/>
                      </a:lnTo>
                      <a:lnTo>
                        <a:pt x="329" y="121"/>
                      </a:lnTo>
                      <a:lnTo>
                        <a:pt x="313" y="57"/>
                      </a:lnTo>
                      <a:lnTo>
                        <a:pt x="301" y="9"/>
                      </a:lnTo>
                      <a:lnTo>
                        <a:pt x="313" y="0"/>
                      </a:lnTo>
                      <a:lnTo>
                        <a:pt x="341" y="9"/>
                      </a:lnTo>
                      <a:lnTo>
                        <a:pt x="366" y="121"/>
                      </a:lnTo>
                      <a:lnTo>
                        <a:pt x="379" y="118"/>
                      </a:lnTo>
                      <a:lnTo>
                        <a:pt x="379" y="30"/>
                      </a:lnTo>
                      <a:lnTo>
                        <a:pt x="404" y="21"/>
                      </a:lnTo>
                      <a:lnTo>
                        <a:pt x="422" y="36"/>
                      </a:lnTo>
                      <a:lnTo>
                        <a:pt x="413" y="154"/>
                      </a:lnTo>
                      <a:lnTo>
                        <a:pt x="407" y="202"/>
                      </a:lnTo>
                      <a:lnTo>
                        <a:pt x="422" y="299"/>
                      </a:lnTo>
                      <a:lnTo>
                        <a:pt x="472" y="402"/>
                      </a:lnTo>
                      <a:lnTo>
                        <a:pt x="525" y="520"/>
                      </a:lnTo>
                      <a:lnTo>
                        <a:pt x="566" y="607"/>
                      </a:lnTo>
                      <a:lnTo>
                        <a:pt x="563" y="652"/>
                      </a:lnTo>
                      <a:lnTo>
                        <a:pt x="488" y="734"/>
                      </a:lnTo>
                      <a:lnTo>
                        <a:pt x="385" y="836"/>
                      </a:lnTo>
                      <a:lnTo>
                        <a:pt x="301" y="937"/>
                      </a:lnTo>
                      <a:lnTo>
                        <a:pt x="197" y="1070"/>
                      </a:lnTo>
                      <a:lnTo>
                        <a:pt x="112" y="1136"/>
                      </a:lnTo>
                      <a:lnTo>
                        <a:pt x="47" y="1154"/>
                      </a:lnTo>
                      <a:lnTo>
                        <a:pt x="13" y="1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7" name=""/>
                <p:cNvSpPr/>
                <p:nvPr/>
              </p:nvSpPr>
              <p:spPr>
                <a:xfrm>
                  <a:off x="795960" y="1299240"/>
                  <a:ext cx="246240" cy="200880"/>
                </a:xfrm>
                <a:custGeom>
                  <a:avLst/>
                  <a:gdLst/>
                  <a:ahLst/>
                  <a:rect l="l" t="t" r="r" b="b"/>
                  <a:pathLst>
                    <a:path w="1037" h="581">
                      <a:moveTo>
                        <a:pt x="210" y="468"/>
                      </a:moveTo>
                      <a:lnTo>
                        <a:pt x="361" y="462"/>
                      </a:lnTo>
                      <a:lnTo>
                        <a:pt x="498" y="444"/>
                      </a:lnTo>
                      <a:lnTo>
                        <a:pt x="583" y="423"/>
                      </a:lnTo>
                      <a:lnTo>
                        <a:pt x="705" y="354"/>
                      </a:lnTo>
                      <a:lnTo>
                        <a:pt x="792" y="288"/>
                      </a:lnTo>
                      <a:lnTo>
                        <a:pt x="906" y="207"/>
                      </a:lnTo>
                      <a:lnTo>
                        <a:pt x="959" y="156"/>
                      </a:lnTo>
                      <a:lnTo>
                        <a:pt x="1000" y="120"/>
                      </a:lnTo>
                      <a:lnTo>
                        <a:pt x="1037" y="81"/>
                      </a:lnTo>
                      <a:lnTo>
                        <a:pt x="1037" y="39"/>
                      </a:lnTo>
                      <a:lnTo>
                        <a:pt x="996" y="0"/>
                      </a:lnTo>
                      <a:lnTo>
                        <a:pt x="971" y="9"/>
                      </a:lnTo>
                      <a:lnTo>
                        <a:pt x="903" y="90"/>
                      </a:lnTo>
                      <a:lnTo>
                        <a:pt x="828" y="183"/>
                      </a:lnTo>
                      <a:lnTo>
                        <a:pt x="752" y="270"/>
                      </a:lnTo>
                      <a:lnTo>
                        <a:pt x="642" y="342"/>
                      </a:lnTo>
                      <a:lnTo>
                        <a:pt x="548" y="390"/>
                      </a:lnTo>
                      <a:lnTo>
                        <a:pt x="445" y="414"/>
                      </a:lnTo>
                      <a:lnTo>
                        <a:pt x="301" y="417"/>
                      </a:lnTo>
                      <a:lnTo>
                        <a:pt x="216" y="417"/>
                      </a:lnTo>
                      <a:lnTo>
                        <a:pt x="144" y="363"/>
                      </a:lnTo>
                      <a:lnTo>
                        <a:pt x="125" y="327"/>
                      </a:lnTo>
                      <a:lnTo>
                        <a:pt x="94" y="327"/>
                      </a:lnTo>
                      <a:lnTo>
                        <a:pt x="116" y="372"/>
                      </a:lnTo>
                      <a:lnTo>
                        <a:pt x="150" y="414"/>
                      </a:lnTo>
                      <a:lnTo>
                        <a:pt x="66" y="396"/>
                      </a:lnTo>
                      <a:lnTo>
                        <a:pt x="3" y="387"/>
                      </a:lnTo>
                      <a:lnTo>
                        <a:pt x="3" y="405"/>
                      </a:lnTo>
                      <a:lnTo>
                        <a:pt x="59" y="417"/>
                      </a:lnTo>
                      <a:lnTo>
                        <a:pt x="97" y="441"/>
                      </a:lnTo>
                      <a:lnTo>
                        <a:pt x="131" y="444"/>
                      </a:lnTo>
                      <a:lnTo>
                        <a:pt x="78" y="462"/>
                      </a:lnTo>
                      <a:lnTo>
                        <a:pt x="0" y="481"/>
                      </a:lnTo>
                      <a:lnTo>
                        <a:pt x="3" y="499"/>
                      </a:lnTo>
                      <a:lnTo>
                        <a:pt x="28" y="505"/>
                      </a:lnTo>
                      <a:lnTo>
                        <a:pt x="103" y="481"/>
                      </a:lnTo>
                      <a:lnTo>
                        <a:pt x="150" y="477"/>
                      </a:lnTo>
                      <a:lnTo>
                        <a:pt x="122" y="505"/>
                      </a:lnTo>
                      <a:lnTo>
                        <a:pt x="78" y="550"/>
                      </a:lnTo>
                      <a:lnTo>
                        <a:pt x="59" y="562"/>
                      </a:lnTo>
                      <a:lnTo>
                        <a:pt x="75" y="581"/>
                      </a:lnTo>
                      <a:lnTo>
                        <a:pt x="113" y="559"/>
                      </a:lnTo>
                      <a:lnTo>
                        <a:pt x="163" y="514"/>
                      </a:lnTo>
                      <a:lnTo>
                        <a:pt x="210" y="46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8" name=""/>
                <p:cNvSpPr/>
                <p:nvPr/>
              </p:nvSpPr>
              <p:spPr>
                <a:xfrm>
                  <a:off x="1022760" y="1278360"/>
                  <a:ext cx="144360" cy="276840"/>
                </a:xfrm>
                <a:custGeom>
                  <a:avLst/>
                  <a:gdLst/>
                  <a:ahLst/>
                  <a:rect l="l" t="t" r="r" b="b"/>
                  <a:pathLst>
                    <a:path w="608" h="800">
                      <a:moveTo>
                        <a:pt x="38" y="90"/>
                      </a:moveTo>
                      <a:lnTo>
                        <a:pt x="63" y="27"/>
                      </a:lnTo>
                      <a:lnTo>
                        <a:pt x="104" y="0"/>
                      </a:lnTo>
                      <a:lnTo>
                        <a:pt x="141" y="0"/>
                      </a:lnTo>
                      <a:lnTo>
                        <a:pt x="179" y="18"/>
                      </a:lnTo>
                      <a:lnTo>
                        <a:pt x="216" y="54"/>
                      </a:lnTo>
                      <a:lnTo>
                        <a:pt x="235" y="117"/>
                      </a:lnTo>
                      <a:lnTo>
                        <a:pt x="245" y="180"/>
                      </a:lnTo>
                      <a:lnTo>
                        <a:pt x="263" y="243"/>
                      </a:lnTo>
                      <a:lnTo>
                        <a:pt x="298" y="312"/>
                      </a:lnTo>
                      <a:lnTo>
                        <a:pt x="357" y="384"/>
                      </a:lnTo>
                      <a:lnTo>
                        <a:pt x="415" y="432"/>
                      </a:lnTo>
                      <a:lnTo>
                        <a:pt x="499" y="468"/>
                      </a:lnTo>
                      <a:lnTo>
                        <a:pt x="571" y="522"/>
                      </a:lnTo>
                      <a:lnTo>
                        <a:pt x="608" y="577"/>
                      </a:lnTo>
                      <a:lnTo>
                        <a:pt x="602" y="622"/>
                      </a:lnTo>
                      <a:lnTo>
                        <a:pt x="593" y="676"/>
                      </a:lnTo>
                      <a:lnTo>
                        <a:pt x="565" y="712"/>
                      </a:lnTo>
                      <a:lnTo>
                        <a:pt x="518" y="757"/>
                      </a:lnTo>
                      <a:lnTo>
                        <a:pt x="449" y="790"/>
                      </a:lnTo>
                      <a:lnTo>
                        <a:pt x="396" y="800"/>
                      </a:lnTo>
                      <a:lnTo>
                        <a:pt x="320" y="784"/>
                      </a:lnTo>
                      <a:lnTo>
                        <a:pt x="251" y="748"/>
                      </a:lnTo>
                      <a:lnTo>
                        <a:pt x="179" y="694"/>
                      </a:lnTo>
                      <a:lnTo>
                        <a:pt x="129" y="631"/>
                      </a:lnTo>
                      <a:lnTo>
                        <a:pt x="82" y="550"/>
                      </a:lnTo>
                      <a:lnTo>
                        <a:pt x="44" y="456"/>
                      </a:lnTo>
                      <a:lnTo>
                        <a:pt x="19" y="375"/>
                      </a:lnTo>
                      <a:lnTo>
                        <a:pt x="7" y="297"/>
                      </a:lnTo>
                      <a:lnTo>
                        <a:pt x="0" y="189"/>
                      </a:lnTo>
                      <a:lnTo>
                        <a:pt x="19" y="117"/>
                      </a:lnTo>
                      <a:lnTo>
                        <a:pt x="38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9" name=""/>
                <p:cNvSpPr/>
                <p:nvPr/>
              </p:nvSpPr>
              <p:spPr>
                <a:xfrm>
                  <a:off x="1140840" y="1396800"/>
                  <a:ext cx="247680" cy="251280"/>
                </a:xfrm>
                <a:custGeom>
                  <a:avLst/>
                  <a:gdLst/>
                  <a:ahLst/>
                  <a:rect l="l" t="t" r="r" b="b"/>
                  <a:pathLst>
                    <a:path w="1043" h="726">
                      <a:moveTo>
                        <a:pt x="116" y="230"/>
                      </a:moveTo>
                      <a:lnTo>
                        <a:pt x="216" y="147"/>
                      </a:lnTo>
                      <a:lnTo>
                        <a:pt x="338" y="72"/>
                      </a:lnTo>
                      <a:lnTo>
                        <a:pt x="417" y="27"/>
                      </a:lnTo>
                      <a:lnTo>
                        <a:pt x="479" y="12"/>
                      </a:lnTo>
                      <a:lnTo>
                        <a:pt x="529" y="0"/>
                      </a:lnTo>
                      <a:lnTo>
                        <a:pt x="573" y="18"/>
                      </a:lnTo>
                      <a:lnTo>
                        <a:pt x="601" y="75"/>
                      </a:lnTo>
                      <a:lnTo>
                        <a:pt x="620" y="230"/>
                      </a:lnTo>
                      <a:lnTo>
                        <a:pt x="620" y="416"/>
                      </a:lnTo>
                      <a:lnTo>
                        <a:pt x="620" y="536"/>
                      </a:lnTo>
                      <a:lnTo>
                        <a:pt x="642" y="609"/>
                      </a:lnTo>
                      <a:lnTo>
                        <a:pt x="686" y="597"/>
                      </a:lnTo>
                      <a:lnTo>
                        <a:pt x="717" y="552"/>
                      </a:lnTo>
                      <a:lnTo>
                        <a:pt x="779" y="500"/>
                      </a:lnTo>
                      <a:lnTo>
                        <a:pt x="876" y="470"/>
                      </a:lnTo>
                      <a:lnTo>
                        <a:pt x="943" y="470"/>
                      </a:lnTo>
                      <a:lnTo>
                        <a:pt x="1043" y="488"/>
                      </a:lnTo>
                      <a:lnTo>
                        <a:pt x="1037" y="524"/>
                      </a:lnTo>
                      <a:lnTo>
                        <a:pt x="1015" y="555"/>
                      </a:lnTo>
                      <a:lnTo>
                        <a:pt x="981" y="561"/>
                      </a:lnTo>
                      <a:lnTo>
                        <a:pt x="943" y="542"/>
                      </a:lnTo>
                      <a:lnTo>
                        <a:pt x="886" y="518"/>
                      </a:lnTo>
                      <a:lnTo>
                        <a:pt x="829" y="518"/>
                      </a:lnTo>
                      <a:lnTo>
                        <a:pt x="754" y="564"/>
                      </a:lnTo>
                      <a:lnTo>
                        <a:pt x="708" y="633"/>
                      </a:lnTo>
                      <a:lnTo>
                        <a:pt x="698" y="690"/>
                      </a:lnTo>
                      <a:lnTo>
                        <a:pt x="679" y="726"/>
                      </a:lnTo>
                      <a:lnTo>
                        <a:pt x="604" y="723"/>
                      </a:lnTo>
                      <a:lnTo>
                        <a:pt x="601" y="669"/>
                      </a:lnTo>
                      <a:lnTo>
                        <a:pt x="576" y="591"/>
                      </a:lnTo>
                      <a:lnTo>
                        <a:pt x="567" y="509"/>
                      </a:lnTo>
                      <a:lnTo>
                        <a:pt x="573" y="401"/>
                      </a:lnTo>
                      <a:lnTo>
                        <a:pt x="564" y="248"/>
                      </a:lnTo>
                      <a:lnTo>
                        <a:pt x="558" y="147"/>
                      </a:lnTo>
                      <a:lnTo>
                        <a:pt x="539" y="111"/>
                      </a:lnTo>
                      <a:lnTo>
                        <a:pt x="501" y="75"/>
                      </a:lnTo>
                      <a:lnTo>
                        <a:pt x="461" y="75"/>
                      </a:lnTo>
                      <a:lnTo>
                        <a:pt x="403" y="111"/>
                      </a:lnTo>
                      <a:lnTo>
                        <a:pt x="328" y="181"/>
                      </a:lnTo>
                      <a:lnTo>
                        <a:pt x="235" y="272"/>
                      </a:lnTo>
                      <a:lnTo>
                        <a:pt x="141" y="356"/>
                      </a:lnTo>
                      <a:lnTo>
                        <a:pt x="94" y="383"/>
                      </a:lnTo>
                      <a:lnTo>
                        <a:pt x="38" y="383"/>
                      </a:lnTo>
                      <a:lnTo>
                        <a:pt x="0" y="344"/>
                      </a:lnTo>
                      <a:lnTo>
                        <a:pt x="3" y="281"/>
                      </a:lnTo>
                      <a:lnTo>
                        <a:pt x="41" y="248"/>
                      </a:lnTo>
                      <a:lnTo>
                        <a:pt x="84" y="239"/>
                      </a:lnTo>
                      <a:lnTo>
                        <a:pt x="116" y="23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0" name=""/>
                <p:cNvSpPr/>
                <p:nvPr/>
              </p:nvSpPr>
              <p:spPr>
                <a:xfrm>
                  <a:off x="1127520" y="1506240"/>
                  <a:ext cx="169200" cy="263520"/>
                </a:xfrm>
                <a:custGeom>
                  <a:avLst/>
                  <a:gdLst/>
                  <a:ahLst/>
                  <a:rect l="l" t="t" r="r" b="b"/>
                  <a:pathLst>
                    <a:path w="713" h="762">
                      <a:moveTo>
                        <a:pt x="0" y="64"/>
                      </a:moveTo>
                      <a:lnTo>
                        <a:pt x="22" y="16"/>
                      </a:lnTo>
                      <a:lnTo>
                        <a:pt x="69" y="0"/>
                      </a:lnTo>
                      <a:lnTo>
                        <a:pt x="134" y="7"/>
                      </a:lnTo>
                      <a:lnTo>
                        <a:pt x="150" y="52"/>
                      </a:lnTo>
                      <a:lnTo>
                        <a:pt x="125" y="227"/>
                      </a:lnTo>
                      <a:lnTo>
                        <a:pt x="122" y="360"/>
                      </a:lnTo>
                      <a:lnTo>
                        <a:pt x="116" y="435"/>
                      </a:lnTo>
                      <a:lnTo>
                        <a:pt x="116" y="450"/>
                      </a:lnTo>
                      <a:lnTo>
                        <a:pt x="131" y="524"/>
                      </a:lnTo>
                      <a:lnTo>
                        <a:pt x="172" y="536"/>
                      </a:lnTo>
                      <a:lnTo>
                        <a:pt x="225" y="524"/>
                      </a:lnTo>
                      <a:lnTo>
                        <a:pt x="303" y="481"/>
                      </a:lnTo>
                      <a:lnTo>
                        <a:pt x="387" y="460"/>
                      </a:lnTo>
                      <a:lnTo>
                        <a:pt x="482" y="444"/>
                      </a:lnTo>
                      <a:lnTo>
                        <a:pt x="585" y="432"/>
                      </a:lnTo>
                      <a:lnTo>
                        <a:pt x="660" y="432"/>
                      </a:lnTo>
                      <a:lnTo>
                        <a:pt x="694" y="441"/>
                      </a:lnTo>
                      <a:lnTo>
                        <a:pt x="713" y="463"/>
                      </a:lnTo>
                      <a:lnTo>
                        <a:pt x="704" y="496"/>
                      </a:lnTo>
                      <a:lnTo>
                        <a:pt x="657" y="524"/>
                      </a:lnTo>
                      <a:lnTo>
                        <a:pt x="613" y="563"/>
                      </a:lnTo>
                      <a:lnTo>
                        <a:pt x="572" y="618"/>
                      </a:lnTo>
                      <a:lnTo>
                        <a:pt x="547" y="663"/>
                      </a:lnTo>
                      <a:lnTo>
                        <a:pt x="526" y="708"/>
                      </a:lnTo>
                      <a:lnTo>
                        <a:pt x="510" y="762"/>
                      </a:lnTo>
                      <a:lnTo>
                        <a:pt x="488" y="762"/>
                      </a:lnTo>
                      <a:lnTo>
                        <a:pt x="469" y="741"/>
                      </a:lnTo>
                      <a:lnTo>
                        <a:pt x="462" y="681"/>
                      </a:lnTo>
                      <a:lnTo>
                        <a:pt x="507" y="627"/>
                      </a:lnTo>
                      <a:lnTo>
                        <a:pt x="566" y="563"/>
                      </a:lnTo>
                      <a:lnTo>
                        <a:pt x="622" y="515"/>
                      </a:lnTo>
                      <a:lnTo>
                        <a:pt x="647" y="499"/>
                      </a:lnTo>
                      <a:lnTo>
                        <a:pt x="657" y="478"/>
                      </a:lnTo>
                      <a:lnTo>
                        <a:pt x="632" y="463"/>
                      </a:lnTo>
                      <a:lnTo>
                        <a:pt x="547" y="463"/>
                      </a:lnTo>
                      <a:lnTo>
                        <a:pt x="440" y="481"/>
                      </a:lnTo>
                      <a:lnTo>
                        <a:pt x="356" y="509"/>
                      </a:lnTo>
                      <a:lnTo>
                        <a:pt x="265" y="560"/>
                      </a:lnTo>
                      <a:lnTo>
                        <a:pt x="187" y="596"/>
                      </a:lnTo>
                      <a:lnTo>
                        <a:pt x="103" y="599"/>
                      </a:lnTo>
                      <a:lnTo>
                        <a:pt x="69" y="587"/>
                      </a:lnTo>
                      <a:lnTo>
                        <a:pt x="50" y="542"/>
                      </a:lnTo>
                      <a:lnTo>
                        <a:pt x="37" y="478"/>
                      </a:lnTo>
                      <a:lnTo>
                        <a:pt x="31" y="360"/>
                      </a:lnTo>
                      <a:lnTo>
                        <a:pt x="19" y="151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1" name=""/>
              <p:cNvGrpSpPr/>
              <p:nvPr/>
            </p:nvGrpSpPr>
            <p:grpSpPr>
              <a:xfrm>
                <a:off x="1323360" y="1484280"/>
                <a:ext cx="102240" cy="303120"/>
                <a:chOff x="1323360" y="1484280"/>
                <a:chExt cx="102240" cy="303120"/>
              </a:xfrm>
            </p:grpSpPr>
            <p:sp>
              <p:nvSpPr>
                <p:cNvPr id="4192" name=""/>
                <p:cNvSpPr/>
                <p:nvPr/>
              </p:nvSpPr>
              <p:spPr>
                <a:xfrm>
                  <a:off x="1344960" y="1653480"/>
                  <a:ext cx="80640" cy="37440"/>
                </a:xfrm>
                <a:custGeom>
                  <a:avLst/>
                  <a:gdLst/>
                  <a:ahLst/>
                  <a:rect l="l" t="t" r="r" b="b"/>
                  <a:pathLst>
                    <a:path w="340" h="109">
                      <a:moveTo>
                        <a:pt x="340" y="109"/>
                      </a:moveTo>
                      <a:lnTo>
                        <a:pt x="165" y="30"/>
                      </a:lnTo>
                      <a:lnTo>
                        <a:pt x="48" y="0"/>
                      </a:lnTo>
                      <a:lnTo>
                        <a:pt x="10" y="0"/>
                      </a:lnTo>
                      <a:lnTo>
                        <a:pt x="0" y="27"/>
                      </a:lnTo>
                      <a:lnTo>
                        <a:pt x="22" y="48"/>
                      </a:lnTo>
                      <a:lnTo>
                        <a:pt x="70" y="54"/>
                      </a:lnTo>
                      <a:lnTo>
                        <a:pt x="184" y="75"/>
                      </a:lnTo>
                      <a:lnTo>
                        <a:pt x="340" y="10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3" name=""/>
                <p:cNvSpPr/>
                <p:nvPr/>
              </p:nvSpPr>
              <p:spPr>
                <a:xfrm>
                  <a:off x="1323360" y="1686960"/>
                  <a:ext cx="22680" cy="100440"/>
                </a:xfrm>
                <a:custGeom>
                  <a:avLst/>
                  <a:gdLst/>
                  <a:ahLst/>
                  <a:rect l="l" t="t" r="r" b="b"/>
                  <a:pathLst>
                    <a:path w="97" h="291">
                      <a:moveTo>
                        <a:pt x="97" y="291"/>
                      </a:moveTo>
                      <a:lnTo>
                        <a:pt x="94" y="148"/>
                      </a:lnTo>
                      <a:lnTo>
                        <a:pt x="69" y="39"/>
                      </a:lnTo>
                      <a:lnTo>
                        <a:pt x="41" y="0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54"/>
                      </a:lnTo>
                      <a:lnTo>
                        <a:pt x="47" y="184"/>
                      </a:lnTo>
                      <a:lnTo>
                        <a:pt x="97" y="29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4" name=""/>
                <p:cNvSpPr/>
                <p:nvPr/>
              </p:nvSpPr>
              <p:spPr>
                <a:xfrm>
                  <a:off x="1356480" y="1484280"/>
                  <a:ext cx="50760" cy="38160"/>
                </a:xfrm>
                <a:custGeom>
                  <a:avLst/>
                  <a:gdLst/>
                  <a:ahLst/>
                  <a:rect l="l" t="t" r="r" b="b"/>
                  <a:pathLst>
                    <a:path w="214" h="111">
                      <a:moveTo>
                        <a:pt x="0" y="72"/>
                      </a:moveTo>
                      <a:lnTo>
                        <a:pt x="42" y="30"/>
                      </a:lnTo>
                      <a:lnTo>
                        <a:pt x="100" y="3"/>
                      </a:lnTo>
                      <a:lnTo>
                        <a:pt x="166" y="0"/>
                      </a:lnTo>
                      <a:lnTo>
                        <a:pt x="214" y="9"/>
                      </a:lnTo>
                      <a:lnTo>
                        <a:pt x="138" y="18"/>
                      </a:lnTo>
                      <a:lnTo>
                        <a:pt x="109" y="36"/>
                      </a:lnTo>
                      <a:lnTo>
                        <a:pt x="81" y="63"/>
                      </a:lnTo>
                      <a:lnTo>
                        <a:pt x="68" y="93"/>
                      </a:lnTo>
                      <a:lnTo>
                        <a:pt x="42" y="111"/>
                      </a:lnTo>
                      <a:lnTo>
                        <a:pt x="1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195" name=""/>
          <p:cNvSpPr/>
          <p:nvPr/>
        </p:nvSpPr>
        <p:spPr>
          <a:xfrm>
            <a:off x="4203720" y="31240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3587760" y="392436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3927240" y="27432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3291120" y="3679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4053240" y="49752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4197240" y="483876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4959360" y="369576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4959360" y="430524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5035680" y="3772080"/>
            <a:ext cx="0" cy="609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 flipH="1">
            <a:off x="4273200" y="4381560"/>
            <a:ext cx="762120" cy="533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 flipH="1" flipV="1">
            <a:off x="3663720" y="4000680"/>
            <a:ext cx="609480" cy="914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3344760" y="3205080"/>
            <a:ext cx="75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>
            <a:off x="3595680" y="43052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8" name=""/>
          <p:cNvSpPr/>
          <p:nvPr/>
        </p:nvSpPr>
        <p:spPr>
          <a:xfrm>
            <a:off x="4586400" y="45943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9" name=""/>
          <p:cNvSpPr/>
          <p:nvPr/>
        </p:nvSpPr>
        <p:spPr>
          <a:xfrm>
            <a:off x="5189760" y="37720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4579920" y="3009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4960800" y="331488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>
            <a:off x="5037120" y="415296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3276720" y="3809880"/>
            <a:ext cx="6094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>
            <a:off x="2153880" y="5851440"/>
            <a:ext cx="469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t has the longest path from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>
            <a:off x="2122200" y="5452920"/>
            <a:ext cx="424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hich node is found first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>
            <a:off x="598680" y="2270160"/>
            <a:ext cx="5495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s the same true for Dijkstra's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lg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9144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F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3886200" y="152280"/>
            <a:ext cx="182880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 flipV="1">
            <a:off x="2209680" y="1447920"/>
            <a:ext cx="76212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0" name=""/>
          <p:cNvSpPr/>
          <p:nvPr/>
        </p:nvSpPr>
        <p:spPr>
          <a:xfrm>
            <a:off x="4267080" y="3200400"/>
            <a:ext cx="7621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 flipV="1">
            <a:off x="3664080" y="3161880"/>
            <a:ext cx="60948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2057400" y="838080"/>
            <a:ext cx="525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 far, the nodes have been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u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n order of length from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23" name=""/>
          <p:cNvGrpSpPr/>
          <p:nvPr/>
        </p:nvGrpSpPr>
        <p:grpSpPr>
          <a:xfrm>
            <a:off x="609480" y="838080"/>
            <a:ext cx="1181160" cy="1067040"/>
            <a:chOff x="609480" y="838080"/>
            <a:chExt cx="1181160" cy="1067040"/>
          </a:xfrm>
        </p:grpSpPr>
        <p:sp>
          <p:nvSpPr>
            <p:cNvPr id="4224" name=""/>
            <p:cNvSpPr/>
            <p:nvPr/>
          </p:nvSpPr>
          <p:spPr>
            <a:xfrm>
              <a:off x="609480" y="838080"/>
              <a:ext cx="1181160" cy="106704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25" name=""/>
            <p:cNvGrpSpPr/>
            <p:nvPr/>
          </p:nvGrpSpPr>
          <p:grpSpPr>
            <a:xfrm>
              <a:off x="795960" y="927000"/>
              <a:ext cx="629640" cy="860400"/>
              <a:chOff x="795960" y="927000"/>
              <a:chExt cx="629640" cy="860400"/>
            </a:xfrm>
          </p:grpSpPr>
          <p:grpSp>
            <p:nvGrpSpPr>
              <p:cNvPr id="4226" name=""/>
              <p:cNvGrpSpPr/>
              <p:nvPr/>
            </p:nvGrpSpPr>
            <p:grpSpPr>
              <a:xfrm>
                <a:off x="795960" y="927000"/>
                <a:ext cx="592560" cy="842760"/>
                <a:chOff x="795960" y="927000"/>
                <a:chExt cx="592560" cy="842760"/>
              </a:xfrm>
            </p:grpSpPr>
            <p:sp>
              <p:nvSpPr>
                <p:cNvPr id="4227" name=""/>
                <p:cNvSpPr/>
                <p:nvPr/>
              </p:nvSpPr>
              <p:spPr>
                <a:xfrm>
                  <a:off x="991440" y="1069200"/>
                  <a:ext cx="102960" cy="177840"/>
                </a:xfrm>
                <a:custGeom>
                  <a:avLst/>
                  <a:gdLst/>
                  <a:ahLst/>
                  <a:rect l="l" t="t" r="r" b="b"/>
                  <a:pathLst>
                    <a:path w="434" h="514">
                      <a:moveTo>
                        <a:pt x="132" y="186"/>
                      </a:moveTo>
                      <a:lnTo>
                        <a:pt x="157" y="114"/>
                      </a:lnTo>
                      <a:lnTo>
                        <a:pt x="189" y="42"/>
                      </a:lnTo>
                      <a:lnTo>
                        <a:pt x="236" y="6"/>
                      </a:lnTo>
                      <a:lnTo>
                        <a:pt x="302" y="0"/>
                      </a:lnTo>
                      <a:lnTo>
                        <a:pt x="355" y="24"/>
                      </a:lnTo>
                      <a:lnTo>
                        <a:pt x="393" y="63"/>
                      </a:lnTo>
                      <a:lnTo>
                        <a:pt x="421" y="135"/>
                      </a:lnTo>
                      <a:lnTo>
                        <a:pt x="434" y="222"/>
                      </a:lnTo>
                      <a:lnTo>
                        <a:pt x="434" y="312"/>
                      </a:lnTo>
                      <a:lnTo>
                        <a:pt x="412" y="411"/>
                      </a:lnTo>
                      <a:lnTo>
                        <a:pt x="355" y="474"/>
                      </a:lnTo>
                      <a:lnTo>
                        <a:pt x="299" y="514"/>
                      </a:lnTo>
                      <a:lnTo>
                        <a:pt x="245" y="510"/>
                      </a:lnTo>
                      <a:lnTo>
                        <a:pt x="198" y="468"/>
                      </a:lnTo>
                      <a:lnTo>
                        <a:pt x="157" y="396"/>
                      </a:lnTo>
                      <a:lnTo>
                        <a:pt x="129" y="333"/>
                      </a:lnTo>
                      <a:lnTo>
                        <a:pt x="129" y="252"/>
                      </a:lnTo>
                      <a:lnTo>
                        <a:pt x="0" y="234"/>
                      </a:lnTo>
                      <a:lnTo>
                        <a:pt x="16" y="189"/>
                      </a:lnTo>
                      <a:lnTo>
                        <a:pt x="132" y="18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8" name=""/>
                <p:cNvSpPr/>
                <p:nvPr/>
              </p:nvSpPr>
              <p:spPr>
                <a:xfrm>
                  <a:off x="1059480" y="927000"/>
                  <a:ext cx="134280" cy="399240"/>
                </a:xfrm>
                <a:custGeom>
                  <a:avLst/>
                  <a:gdLst/>
                  <a:ahLst/>
                  <a:rect l="l" t="t" r="r" b="b"/>
                  <a:pathLst>
                    <a:path w="566" h="1154">
                      <a:moveTo>
                        <a:pt x="13" y="1145"/>
                      </a:moveTo>
                      <a:lnTo>
                        <a:pt x="0" y="1088"/>
                      </a:lnTo>
                      <a:lnTo>
                        <a:pt x="31" y="1042"/>
                      </a:lnTo>
                      <a:lnTo>
                        <a:pt x="134" y="988"/>
                      </a:lnTo>
                      <a:lnTo>
                        <a:pt x="226" y="927"/>
                      </a:lnTo>
                      <a:lnTo>
                        <a:pt x="313" y="827"/>
                      </a:lnTo>
                      <a:lnTo>
                        <a:pt x="432" y="689"/>
                      </a:lnTo>
                      <a:lnTo>
                        <a:pt x="463" y="634"/>
                      </a:lnTo>
                      <a:lnTo>
                        <a:pt x="479" y="580"/>
                      </a:lnTo>
                      <a:lnTo>
                        <a:pt x="472" y="526"/>
                      </a:lnTo>
                      <a:lnTo>
                        <a:pt x="444" y="426"/>
                      </a:lnTo>
                      <a:lnTo>
                        <a:pt x="376" y="299"/>
                      </a:lnTo>
                      <a:lnTo>
                        <a:pt x="301" y="229"/>
                      </a:lnTo>
                      <a:lnTo>
                        <a:pt x="235" y="190"/>
                      </a:lnTo>
                      <a:lnTo>
                        <a:pt x="181" y="184"/>
                      </a:lnTo>
                      <a:lnTo>
                        <a:pt x="153" y="190"/>
                      </a:lnTo>
                      <a:lnTo>
                        <a:pt x="150" y="163"/>
                      </a:lnTo>
                      <a:lnTo>
                        <a:pt x="215" y="154"/>
                      </a:lnTo>
                      <a:lnTo>
                        <a:pt x="291" y="154"/>
                      </a:lnTo>
                      <a:lnTo>
                        <a:pt x="238" y="93"/>
                      </a:lnTo>
                      <a:lnTo>
                        <a:pt x="206" y="45"/>
                      </a:lnTo>
                      <a:lnTo>
                        <a:pt x="229" y="27"/>
                      </a:lnTo>
                      <a:lnTo>
                        <a:pt x="313" y="109"/>
                      </a:lnTo>
                      <a:lnTo>
                        <a:pt x="329" y="121"/>
                      </a:lnTo>
                      <a:lnTo>
                        <a:pt x="313" y="57"/>
                      </a:lnTo>
                      <a:lnTo>
                        <a:pt x="301" y="9"/>
                      </a:lnTo>
                      <a:lnTo>
                        <a:pt x="313" y="0"/>
                      </a:lnTo>
                      <a:lnTo>
                        <a:pt x="341" y="9"/>
                      </a:lnTo>
                      <a:lnTo>
                        <a:pt x="366" y="121"/>
                      </a:lnTo>
                      <a:lnTo>
                        <a:pt x="379" y="118"/>
                      </a:lnTo>
                      <a:lnTo>
                        <a:pt x="379" y="30"/>
                      </a:lnTo>
                      <a:lnTo>
                        <a:pt x="404" y="21"/>
                      </a:lnTo>
                      <a:lnTo>
                        <a:pt x="422" y="36"/>
                      </a:lnTo>
                      <a:lnTo>
                        <a:pt x="413" y="154"/>
                      </a:lnTo>
                      <a:lnTo>
                        <a:pt x="407" y="202"/>
                      </a:lnTo>
                      <a:lnTo>
                        <a:pt x="422" y="299"/>
                      </a:lnTo>
                      <a:lnTo>
                        <a:pt x="472" y="402"/>
                      </a:lnTo>
                      <a:lnTo>
                        <a:pt x="525" y="520"/>
                      </a:lnTo>
                      <a:lnTo>
                        <a:pt x="566" y="607"/>
                      </a:lnTo>
                      <a:lnTo>
                        <a:pt x="563" y="652"/>
                      </a:lnTo>
                      <a:lnTo>
                        <a:pt x="488" y="734"/>
                      </a:lnTo>
                      <a:lnTo>
                        <a:pt x="385" y="836"/>
                      </a:lnTo>
                      <a:lnTo>
                        <a:pt x="301" y="937"/>
                      </a:lnTo>
                      <a:lnTo>
                        <a:pt x="197" y="1070"/>
                      </a:lnTo>
                      <a:lnTo>
                        <a:pt x="112" y="1136"/>
                      </a:lnTo>
                      <a:lnTo>
                        <a:pt x="47" y="1154"/>
                      </a:lnTo>
                      <a:lnTo>
                        <a:pt x="13" y="1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9" name=""/>
                <p:cNvSpPr/>
                <p:nvPr/>
              </p:nvSpPr>
              <p:spPr>
                <a:xfrm>
                  <a:off x="795960" y="1299240"/>
                  <a:ext cx="246240" cy="200880"/>
                </a:xfrm>
                <a:custGeom>
                  <a:avLst/>
                  <a:gdLst/>
                  <a:ahLst/>
                  <a:rect l="l" t="t" r="r" b="b"/>
                  <a:pathLst>
                    <a:path w="1037" h="581">
                      <a:moveTo>
                        <a:pt x="210" y="468"/>
                      </a:moveTo>
                      <a:lnTo>
                        <a:pt x="361" y="462"/>
                      </a:lnTo>
                      <a:lnTo>
                        <a:pt x="498" y="444"/>
                      </a:lnTo>
                      <a:lnTo>
                        <a:pt x="583" y="423"/>
                      </a:lnTo>
                      <a:lnTo>
                        <a:pt x="705" y="354"/>
                      </a:lnTo>
                      <a:lnTo>
                        <a:pt x="792" y="288"/>
                      </a:lnTo>
                      <a:lnTo>
                        <a:pt x="906" y="207"/>
                      </a:lnTo>
                      <a:lnTo>
                        <a:pt x="959" y="156"/>
                      </a:lnTo>
                      <a:lnTo>
                        <a:pt x="1000" y="120"/>
                      </a:lnTo>
                      <a:lnTo>
                        <a:pt x="1037" y="81"/>
                      </a:lnTo>
                      <a:lnTo>
                        <a:pt x="1037" y="39"/>
                      </a:lnTo>
                      <a:lnTo>
                        <a:pt x="996" y="0"/>
                      </a:lnTo>
                      <a:lnTo>
                        <a:pt x="971" y="9"/>
                      </a:lnTo>
                      <a:lnTo>
                        <a:pt x="903" y="90"/>
                      </a:lnTo>
                      <a:lnTo>
                        <a:pt x="828" y="183"/>
                      </a:lnTo>
                      <a:lnTo>
                        <a:pt x="752" y="270"/>
                      </a:lnTo>
                      <a:lnTo>
                        <a:pt x="642" y="342"/>
                      </a:lnTo>
                      <a:lnTo>
                        <a:pt x="548" y="390"/>
                      </a:lnTo>
                      <a:lnTo>
                        <a:pt x="445" y="414"/>
                      </a:lnTo>
                      <a:lnTo>
                        <a:pt x="301" y="417"/>
                      </a:lnTo>
                      <a:lnTo>
                        <a:pt x="216" y="417"/>
                      </a:lnTo>
                      <a:lnTo>
                        <a:pt x="144" y="363"/>
                      </a:lnTo>
                      <a:lnTo>
                        <a:pt x="125" y="327"/>
                      </a:lnTo>
                      <a:lnTo>
                        <a:pt x="94" y="327"/>
                      </a:lnTo>
                      <a:lnTo>
                        <a:pt x="116" y="372"/>
                      </a:lnTo>
                      <a:lnTo>
                        <a:pt x="150" y="414"/>
                      </a:lnTo>
                      <a:lnTo>
                        <a:pt x="66" y="396"/>
                      </a:lnTo>
                      <a:lnTo>
                        <a:pt x="3" y="387"/>
                      </a:lnTo>
                      <a:lnTo>
                        <a:pt x="3" y="405"/>
                      </a:lnTo>
                      <a:lnTo>
                        <a:pt x="59" y="417"/>
                      </a:lnTo>
                      <a:lnTo>
                        <a:pt x="97" y="441"/>
                      </a:lnTo>
                      <a:lnTo>
                        <a:pt x="131" y="444"/>
                      </a:lnTo>
                      <a:lnTo>
                        <a:pt x="78" y="462"/>
                      </a:lnTo>
                      <a:lnTo>
                        <a:pt x="0" y="481"/>
                      </a:lnTo>
                      <a:lnTo>
                        <a:pt x="3" y="499"/>
                      </a:lnTo>
                      <a:lnTo>
                        <a:pt x="28" y="505"/>
                      </a:lnTo>
                      <a:lnTo>
                        <a:pt x="103" y="481"/>
                      </a:lnTo>
                      <a:lnTo>
                        <a:pt x="150" y="477"/>
                      </a:lnTo>
                      <a:lnTo>
                        <a:pt x="122" y="505"/>
                      </a:lnTo>
                      <a:lnTo>
                        <a:pt x="78" y="550"/>
                      </a:lnTo>
                      <a:lnTo>
                        <a:pt x="59" y="562"/>
                      </a:lnTo>
                      <a:lnTo>
                        <a:pt x="75" y="581"/>
                      </a:lnTo>
                      <a:lnTo>
                        <a:pt x="113" y="559"/>
                      </a:lnTo>
                      <a:lnTo>
                        <a:pt x="163" y="514"/>
                      </a:lnTo>
                      <a:lnTo>
                        <a:pt x="210" y="46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0" name=""/>
                <p:cNvSpPr/>
                <p:nvPr/>
              </p:nvSpPr>
              <p:spPr>
                <a:xfrm>
                  <a:off x="1022760" y="1278360"/>
                  <a:ext cx="144360" cy="276840"/>
                </a:xfrm>
                <a:custGeom>
                  <a:avLst/>
                  <a:gdLst/>
                  <a:ahLst/>
                  <a:rect l="l" t="t" r="r" b="b"/>
                  <a:pathLst>
                    <a:path w="608" h="800">
                      <a:moveTo>
                        <a:pt x="38" y="90"/>
                      </a:moveTo>
                      <a:lnTo>
                        <a:pt x="63" y="27"/>
                      </a:lnTo>
                      <a:lnTo>
                        <a:pt x="104" y="0"/>
                      </a:lnTo>
                      <a:lnTo>
                        <a:pt x="141" y="0"/>
                      </a:lnTo>
                      <a:lnTo>
                        <a:pt x="179" y="18"/>
                      </a:lnTo>
                      <a:lnTo>
                        <a:pt x="216" y="54"/>
                      </a:lnTo>
                      <a:lnTo>
                        <a:pt x="235" y="117"/>
                      </a:lnTo>
                      <a:lnTo>
                        <a:pt x="245" y="180"/>
                      </a:lnTo>
                      <a:lnTo>
                        <a:pt x="263" y="243"/>
                      </a:lnTo>
                      <a:lnTo>
                        <a:pt x="298" y="312"/>
                      </a:lnTo>
                      <a:lnTo>
                        <a:pt x="357" y="384"/>
                      </a:lnTo>
                      <a:lnTo>
                        <a:pt x="415" y="432"/>
                      </a:lnTo>
                      <a:lnTo>
                        <a:pt x="499" y="468"/>
                      </a:lnTo>
                      <a:lnTo>
                        <a:pt x="571" y="522"/>
                      </a:lnTo>
                      <a:lnTo>
                        <a:pt x="608" y="577"/>
                      </a:lnTo>
                      <a:lnTo>
                        <a:pt x="602" y="622"/>
                      </a:lnTo>
                      <a:lnTo>
                        <a:pt x="593" y="676"/>
                      </a:lnTo>
                      <a:lnTo>
                        <a:pt x="565" y="712"/>
                      </a:lnTo>
                      <a:lnTo>
                        <a:pt x="518" y="757"/>
                      </a:lnTo>
                      <a:lnTo>
                        <a:pt x="449" y="790"/>
                      </a:lnTo>
                      <a:lnTo>
                        <a:pt x="396" y="800"/>
                      </a:lnTo>
                      <a:lnTo>
                        <a:pt x="320" y="784"/>
                      </a:lnTo>
                      <a:lnTo>
                        <a:pt x="251" y="748"/>
                      </a:lnTo>
                      <a:lnTo>
                        <a:pt x="179" y="694"/>
                      </a:lnTo>
                      <a:lnTo>
                        <a:pt x="129" y="631"/>
                      </a:lnTo>
                      <a:lnTo>
                        <a:pt x="82" y="550"/>
                      </a:lnTo>
                      <a:lnTo>
                        <a:pt x="44" y="456"/>
                      </a:lnTo>
                      <a:lnTo>
                        <a:pt x="19" y="375"/>
                      </a:lnTo>
                      <a:lnTo>
                        <a:pt x="7" y="297"/>
                      </a:lnTo>
                      <a:lnTo>
                        <a:pt x="0" y="189"/>
                      </a:lnTo>
                      <a:lnTo>
                        <a:pt x="19" y="117"/>
                      </a:lnTo>
                      <a:lnTo>
                        <a:pt x="38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1" name=""/>
                <p:cNvSpPr/>
                <p:nvPr/>
              </p:nvSpPr>
              <p:spPr>
                <a:xfrm>
                  <a:off x="1140840" y="1396800"/>
                  <a:ext cx="247680" cy="251280"/>
                </a:xfrm>
                <a:custGeom>
                  <a:avLst/>
                  <a:gdLst/>
                  <a:ahLst/>
                  <a:rect l="l" t="t" r="r" b="b"/>
                  <a:pathLst>
                    <a:path w="1043" h="726">
                      <a:moveTo>
                        <a:pt x="116" y="230"/>
                      </a:moveTo>
                      <a:lnTo>
                        <a:pt x="216" y="147"/>
                      </a:lnTo>
                      <a:lnTo>
                        <a:pt x="338" y="72"/>
                      </a:lnTo>
                      <a:lnTo>
                        <a:pt x="417" y="27"/>
                      </a:lnTo>
                      <a:lnTo>
                        <a:pt x="479" y="12"/>
                      </a:lnTo>
                      <a:lnTo>
                        <a:pt x="529" y="0"/>
                      </a:lnTo>
                      <a:lnTo>
                        <a:pt x="573" y="18"/>
                      </a:lnTo>
                      <a:lnTo>
                        <a:pt x="601" y="75"/>
                      </a:lnTo>
                      <a:lnTo>
                        <a:pt x="620" y="230"/>
                      </a:lnTo>
                      <a:lnTo>
                        <a:pt x="620" y="416"/>
                      </a:lnTo>
                      <a:lnTo>
                        <a:pt x="620" y="536"/>
                      </a:lnTo>
                      <a:lnTo>
                        <a:pt x="642" y="609"/>
                      </a:lnTo>
                      <a:lnTo>
                        <a:pt x="686" y="597"/>
                      </a:lnTo>
                      <a:lnTo>
                        <a:pt x="717" y="552"/>
                      </a:lnTo>
                      <a:lnTo>
                        <a:pt x="779" y="500"/>
                      </a:lnTo>
                      <a:lnTo>
                        <a:pt x="876" y="470"/>
                      </a:lnTo>
                      <a:lnTo>
                        <a:pt x="943" y="470"/>
                      </a:lnTo>
                      <a:lnTo>
                        <a:pt x="1043" y="488"/>
                      </a:lnTo>
                      <a:lnTo>
                        <a:pt x="1037" y="524"/>
                      </a:lnTo>
                      <a:lnTo>
                        <a:pt x="1015" y="555"/>
                      </a:lnTo>
                      <a:lnTo>
                        <a:pt x="981" y="561"/>
                      </a:lnTo>
                      <a:lnTo>
                        <a:pt x="943" y="542"/>
                      </a:lnTo>
                      <a:lnTo>
                        <a:pt x="886" y="518"/>
                      </a:lnTo>
                      <a:lnTo>
                        <a:pt x="829" y="518"/>
                      </a:lnTo>
                      <a:lnTo>
                        <a:pt x="754" y="564"/>
                      </a:lnTo>
                      <a:lnTo>
                        <a:pt x="708" y="633"/>
                      </a:lnTo>
                      <a:lnTo>
                        <a:pt x="698" y="690"/>
                      </a:lnTo>
                      <a:lnTo>
                        <a:pt x="679" y="726"/>
                      </a:lnTo>
                      <a:lnTo>
                        <a:pt x="604" y="723"/>
                      </a:lnTo>
                      <a:lnTo>
                        <a:pt x="601" y="669"/>
                      </a:lnTo>
                      <a:lnTo>
                        <a:pt x="576" y="591"/>
                      </a:lnTo>
                      <a:lnTo>
                        <a:pt x="567" y="509"/>
                      </a:lnTo>
                      <a:lnTo>
                        <a:pt x="573" y="401"/>
                      </a:lnTo>
                      <a:lnTo>
                        <a:pt x="564" y="248"/>
                      </a:lnTo>
                      <a:lnTo>
                        <a:pt x="558" y="147"/>
                      </a:lnTo>
                      <a:lnTo>
                        <a:pt x="539" y="111"/>
                      </a:lnTo>
                      <a:lnTo>
                        <a:pt x="501" y="75"/>
                      </a:lnTo>
                      <a:lnTo>
                        <a:pt x="461" y="75"/>
                      </a:lnTo>
                      <a:lnTo>
                        <a:pt x="403" y="111"/>
                      </a:lnTo>
                      <a:lnTo>
                        <a:pt x="328" y="181"/>
                      </a:lnTo>
                      <a:lnTo>
                        <a:pt x="235" y="272"/>
                      </a:lnTo>
                      <a:lnTo>
                        <a:pt x="141" y="356"/>
                      </a:lnTo>
                      <a:lnTo>
                        <a:pt x="94" y="383"/>
                      </a:lnTo>
                      <a:lnTo>
                        <a:pt x="38" y="383"/>
                      </a:lnTo>
                      <a:lnTo>
                        <a:pt x="0" y="344"/>
                      </a:lnTo>
                      <a:lnTo>
                        <a:pt x="3" y="281"/>
                      </a:lnTo>
                      <a:lnTo>
                        <a:pt x="41" y="248"/>
                      </a:lnTo>
                      <a:lnTo>
                        <a:pt x="84" y="239"/>
                      </a:lnTo>
                      <a:lnTo>
                        <a:pt x="116" y="23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2" name=""/>
                <p:cNvSpPr/>
                <p:nvPr/>
              </p:nvSpPr>
              <p:spPr>
                <a:xfrm>
                  <a:off x="1127520" y="1506240"/>
                  <a:ext cx="169200" cy="263520"/>
                </a:xfrm>
                <a:custGeom>
                  <a:avLst/>
                  <a:gdLst/>
                  <a:ahLst/>
                  <a:rect l="l" t="t" r="r" b="b"/>
                  <a:pathLst>
                    <a:path w="713" h="762">
                      <a:moveTo>
                        <a:pt x="0" y="64"/>
                      </a:moveTo>
                      <a:lnTo>
                        <a:pt x="22" y="16"/>
                      </a:lnTo>
                      <a:lnTo>
                        <a:pt x="69" y="0"/>
                      </a:lnTo>
                      <a:lnTo>
                        <a:pt x="134" y="7"/>
                      </a:lnTo>
                      <a:lnTo>
                        <a:pt x="150" y="52"/>
                      </a:lnTo>
                      <a:lnTo>
                        <a:pt x="125" y="227"/>
                      </a:lnTo>
                      <a:lnTo>
                        <a:pt x="122" y="360"/>
                      </a:lnTo>
                      <a:lnTo>
                        <a:pt x="116" y="435"/>
                      </a:lnTo>
                      <a:lnTo>
                        <a:pt x="116" y="450"/>
                      </a:lnTo>
                      <a:lnTo>
                        <a:pt x="131" y="524"/>
                      </a:lnTo>
                      <a:lnTo>
                        <a:pt x="172" y="536"/>
                      </a:lnTo>
                      <a:lnTo>
                        <a:pt x="225" y="524"/>
                      </a:lnTo>
                      <a:lnTo>
                        <a:pt x="303" y="481"/>
                      </a:lnTo>
                      <a:lnTo>
                        <a:pt x="387" y="460"/>
                      </a:lnTo>
                      <a:lnTo>
                        <a:pt x="482" y="444"/>
                      </a:lnTo>
                      <a:lnTo>
                        <a:pt x="585" y="432"/>
                      </a:lnTo>
                      <a:lnTo>
                        <a:pt x="660" y="432"/>
                      </a:lnTo>
                      <a:lnTo>
                        <a:pt x="694" y="441"/>
                      </a:lnTo>
                      <a:lnTo>
                        <a:pt x="713" y="463"/>
                      </a:lnTo>
                      <a:lnTo>
                        <a:pt x="704" y="496"/>
                      </a:lnTo>
                      <a:lnTo>
                        <a:pt x="657" y="524"/>
                      </a:lnTo>
                      <a:lnTo>
                        <a:pt x="613" y="563"/>
                      </a:lnTo>
                      <a:lnTo>
                        <a:pt x="572" y="618"/>
                      </a:lnTo>
                      <a:lnTo>
                        <a:pt x="547" y="663"/>
                      </a:lnTo>
                      <a:lnTo>
                        <a:pt x="526" y="708"/>
                      </a:lnTo>
                      <a:lnTo>
                        <a:pt x="510" y="762"/>
                      </a:lnTo>
                      <a:lnTo>
                        <a:pt x="488" y="762"/>
                      </a:lnTo>
                      <a:lnTo>
                        <a:pt x="469" y="741"/>
                      </a:lnTo>
                      <a:lnTo>
                        <a:pt x="462" y="681"/>
                      </a:lnTo>
                      <a:lnTo>
                        <a:pt x="507" y="627"/>
                      </a:lnTo>
                      <a:lnTo>
                        <a:pt x="566" y="563"/>
                      </a:lnTo>
                      <a:lnTo>
                        <a:pt x="622" y="515"/>
                      </a:lnTo>
                      <a:lnTo>
                        <a:pt x="647" y="499"/>
                      </a:lnTo>
                      <a:lnTo>
                        <a:pt x="657" y="478"/>
                      </a:lnTo>
                      <a:lnTo>
                        <a:pt x="632" y="463"/>
                      </a:lnTo>
                      <a:lnTo>
                        <a:pt x="547" y="463"/>
                      </a:lnTo>
                      <a:lnTo>
                        <a:pt x="440" y="481"/>
                      </a:lnTo>
                      <a:lnTo>
                        <a:pt x="356" y="509"/>
                      </a:lnTo>
                      <a:lnTo>
                        <a:pt x="265" y="560"/>
                      </a:lnTo>
                      <a:lnTo>
                        <a:pt x="187" y="596"/>
                      </a:lnTo>
                      <a:lnTo>
                        <a:pt x="103" y="599"/>
                      </a:lnTo>
                      <a:lnTo>
                        <a:pt x="69" y="587"/>
                      </a:lnTo>
                      <a:lnTo>
                        <a:pt x="50" y="542"/>
                      </a:lnTo>
                      <a:lnTo>
                        <a:pt x="37" y="478"/>
                      </a:lnTo>
                      <a:lnTo>
                        <a:pt x="31" y="360"/>
                      </a:lnTo>
                      <a:lnTo>
                        <a:pt x="19" y="151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3" name=""/>
              <p:cNvGrpSpPr/>
              <p:nvPr/>
            </p:nvGrpSpPr>
            <p:grpSpPr>
              <a:xfrm>
                <a:off x="1323360" y="1484280"/>
                <a:ext cx="102240" cy="303120"/>
                <a:chOff x="1323360" y="1484280"/>
                <a:chExt cx="102240" cy="303120"/>
              </a:xfrm>
            </p:grpSpPr>
            <p:sp>
              <p:nvSpPr>
                <p:cNvPr id="4234" name=""/>
                <p:cNvSpPr/>
                <p:nvPr/>
              </p:nvSpPr>
              <p:spPr>
                <a:xfrm>
                  <a:off x="1344960" y="1653480"/>
                  <a:ext cx="80640" cy="37440"/>
                </a:xfrm>
                <a:custGeom>
                  <a:avLst/>
                  <a:gdLst/>
                  <a:ahLst/>
                  <a:rect l="l" t="t" r="r" b="b"/>
                  <a:pathLst>
                    <a:path w="340" h="109">
                      <a:moveTo>
                        <a:pt x="340" y="109"/>
                      </a:moveTo>
                      <a:lnTo>
                        <a:pt x="165" y="30"/>
                      </a:lnTo>
                      <a:lnTo>
                        <a:pt x="48" y="0"/>
                      </a:lnTo>
                      <a:lnTo>
                        <a:pt x="10" y="0"/>
                      </a:lnTo>
                      <a:lnTo>
                        <a:pt x="0" y="27"/>
                      </a:lnTo>
                      <a:lnTo>
                        <a:pt x="22" y="48"/>
                      </a:lnTo>
                      <a:lnTo>
                        <a:pt x="70" y="54"/>
                      </a:lnTo>
                      <a:lnTo>
                        <a:pt x="184" y="75"/>
                      </a:lnTo>
                      <a:lnTo>
                        <a:pt x="340" y="10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5" name=""/>
                <p:cNvSpPr/>
                <p:nvPr/>
              </p:nvSpPr>
              <p:spPr>
                <a:xfrm>
                  <a:off x="1323360" y="1686960"/>
                  <a:ext cx="22680" cy="100440"/>
                </a:xfrm>
                <a:custGeom>
                  <a:avLst/>
                  <a:gdLst/>
                  <a:ahLst/>
                  <a:rect l="l" t="t" r="r" b="b"/>
                  <a:pathLst>
                    <a:path w="97" h="291">
                      <a:moveTo>
                        <a:pt x="97" y="291"/>
                      </a:moveTo>
                      <a:lnTo>
                        <a:pt x="94" y="148"/>
                      </a:lnTo>
                      <a:lnTo>
                        <a:pt x="69" y="39"/>
                      </a:lnTo>
                      <a:lnTo>
                        <a:pt x="41" y="0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54"/>
                      </a:lnTo>
                      <a:lnTo>
                        <a:pt x="47" y="184"/>
                      </a:lnTo>
                      <a:lnTo>
                        <a:pt x="97" y="29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6" name=""/>
                <p:cNvSpPr/>
                <p:nvPr/>
              </p:nvSpPr>
              <p:spPr>
                <a:xfrm>
                  <a:off x="1356480" y="1484280"/>
                  <a:ext cx="50760" cy="38160"/>
                </a:xfrm>
                <a:custGeom>
                  <a:avLst/>
                  <a:gdLst/>
                  <a:ahLst/>
                  <a:rect l="l" t="t" r="r" b="b"/>
                  <a:pathLst>
                    <a:path w="214" h="111">
                      <a:moveTo>
                        <a:pt x="0" y="72"/>
                      </a:moveTo>
                      <a:lnTo>
                        <a:pt x="42" y="30"/>
                      </a:lnTo>
                      <a:lnTo>
                        <a:pt x="100" y="3"/>
                      </a:lnTo>
                      <a:lnTo>
                        <a:pt x="166" y="0"/>
                      </a:lnTo>
                      <a:lnTo>
                        <a:pt x="214" y="9"/>
                      </a:lnTo>
                      <a:lnTo>
                        <a:pt x="138" y="18"/>
                      </a:lnTo>
                      <a:lnTo>
                        <a:pt x="109" y="36"/>
                      </a:lnTo>
                      <a:lnTo>
                        <a:pt x="81" y="63"/>
                      </a:lnTo>
                      <a:lnTo>
                        <a:pt x="68" y="93"/>
                      </a:lnTo>
                      <a:lnTo>
                        <a:pt x="42" y="111"/>
                      </a:lnTo>
                      <a:lnTo>
                        <a:pt x="1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237" name=""/>
          <p:cNvSpPr/>
          <p:nvPr/>
        </p:nvSpPr>
        <p:spPr>
          <a:xfrm>
            <a:off x="4203720" y="31240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>
            <a:off x="3587760" y="392436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>
            <a:off x="3927240" y="27432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>
            <a:off x="3291120" y="36799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1" name=""/>
          <p:cNvSpPr/>
          <p:nvPr/>
        </p:nvSpPr>
        <p:spPr>
          <a:xfrm>
            <a:off x="4053240" y="49752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2" name=""/>
          <p:cNvSpPr/>
          <p:nvPr/>
        </p:nvSpPr>
        <p:spPr>
          <a:xfrm>
            <a:off x="4197240" y="483876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3" name=""/>
          <p:cNvSpPr/>
          <p:nvPr/>
        </p:nvSpPr>
        <p:spPr>
          <a:xfrm>
            <a:off x="4959360" y="369576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>
            <a:off x="4959360" y="430524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>
            <a:off x="5035680" y="3772080"/>
            <a:ext cx="0" cy="609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 flipH="1">
            <a:off x="4273200" y="4381560"/>
            <a:ext cx="762120" cy="533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7" name=""/>
          <p:cNvSpPr/>
          <p:nvPr/>
        </p:nvSpPr>
        <p:spPr>
          <a:xfrm flipH="1" flipV="1">
            <a:off x="3663720" y="4000680"/>
            <a:ext cx="609480" cy="914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8" name=""/>
          <p:cNvSpPr/>
          <p:nvPr/>
        </p:nvSpPr>
        <p:spPr>
          <a:xfrm>
            <a:off x="3344760" y="3205080"/>
            <a:ext cx="75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9" name=""/>
          <p:cNvSpPr/>
          <p:nvPr/>
        </p:nvSpPr>
        <p:spPr>
          <a:xfrm>
            <a:off x="3595680" y="43052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4586400" y="45943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>
            <a:off x="5189760" y="37720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4579920" y="3009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>
            <a:off x="4960800" y="331488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>
            <a:off x="5037120" y="415296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308520" y="5622840"/>
            <a:ext cx="8924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 what order do we handle the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foundNotHandle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nodes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 flipV="1">
            <a:off x="2209680" y="1447920"/>
            <a:ext cx="76212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>
            <a:off x="2439360" y="1660680"/>
            <a:ext cx="149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handl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>
            <a:off x="7621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'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>
            <a:off x="3352680" y="3048120"/>
            <a:ext cx="2260800" cy="2438280"/>
          </a:xfrm>
          <a:custGeom>
            <a:avLst/>
            <a:gdLst/>
            <a:ahLst/>
            <a:rect l="l" t="t" r="r" b="b"/>
            <a:pathLst>
              <a:path w="1424" h="1536">
                <a:moveTo>
                  <a:pt x="768" y="0"/>
                </a:moveTo>
                <a:cubicBezTo>
                  <a:pt x="856" y="56"/>
                  <a:pt x="1208" y="192"/>
                  <a:pt x="1296" y="336"/>
                </a:cubicBezTo>
                <a:cubicBezTo>
                  <a:pt x="1384" y="480"/>
                  <a:pt x="1424" y="664"/>
                  <a:pt x="1296" y="864"/>
                </a:cubicBezTo>
                <a:cubicBezTo>
                  <a:pt x="1168" y="1064"/>
                  <a:pt x="744" y="1536"/>
                  <a:pt x="528" y="1536"/>
                </a:cubicBezTo>
                <a:cubicBezTo>
                  <a:pt x="312" y="1536"/>
                  <a:pt x="156" y="1200"/>
                  <a:pt x="0" y="86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1553760" y="6080040"/>
            <a:ext cx="694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Handle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node that “seems” to be closest to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61" name=""/>
          <p:cNvGrpSpPr/>
          <p:nvPr/>
        </p:nvGrpSpPr>
        <p:grpSpPr>
          <a:xfrm>
            <a:off x="1005120" y="6122520"/>
            <a:ext cx="691560" cy="741240"/>
            <a:chOff x="1005120" y="6122520"/>
            <a:chExt cx="691560" cy="741240"/>
          </a:xfrm>
        </p:grpSpPr>
        <p:sp>
          <p:nvSpPr>
            <p:cNvPr id="4262" name=""/>
            <p:cNvSpPr/>
            <p:nvPr/>
          </p:nvSpPr>
          <p:spPr>
            <a:xfrm rot="21255000">
              <a:off x="1353240" y="6202080"/>
              <a:ext cx="140760" cy="116640"/>
            </a:xfrm>
            <a:custGeom>
              <a:avLst/>
              <a:gdLst/>
              <a:ahLst/>
              <a:rect l="l" t="t" r="r" b="b"/>
              <a:pathLst>
                <a:path w="600" h="608">
                  <a:moveTo>
                    <a:pt x="388" y="289"/>
                  </a:moveTo>
                  <a:lnTo>
                    <a:pt x="372" y="177"/>
                  </a:lnTo>
                  <a:lnTo>
                    <a:pt x="341" y="78"/>
                  </a:lnTo>
                  <a:lnTo>
                    <a:pt x="284" y="24"/>
                  </a:lnTo>
                  <a:lnTo>
                    <a:pt x="185" y="0"/>
                  </a:lnTo>
                  <a:lnTo>
                    <a:pt x="100" y="24"/>
                  </a:lnTo>
                  <a:lnTo>
                    <a:pt x="19" y="123"/>
                  </a:lnTo>
                  <a:lnTo>
                    <a:pt x="0" y="243"/>
                  </a:lnTo>
                  <a:lnTo>
                    <a:pt x="19" y="370"/>
                  </a:lnTo>
                  <a:lnTo>
                    <a:pt x="50" y="447"/>
                  </a:lnTo>
                  <a:lnTo>
                    <a:pt x="88" y="528"/>
                  </a:lnTo>
                  <a:lnTo>
                    <a:pt x="130" y="582"/>
                  </a:lnTo>
                  <a:lnTo>
                    <a:pt x="177" y="608"/>
                  </a:lnTo>
                  <a:lnTo>
                    <a:pt x="242" y="585"/>
                  </a:lnTo>
                  <a:lnTo>
                    <a:pt x="307" y="531"/>
                  </a:lnTo>
                  <a:lnTo>
                    <a:pt x="349" y="455"/>
                  </a:lnTo>
                  <a:lnTo>
                    <a:pt x="388" y="390"/>
                  </a:lnTo>
                  <a:lnTo>
                    <a:pt x="400" y="351"/>
                  </a:lnTo>
                  <a:lnTo>
                    <a:pt x="565" y="293"/>
                  </a:lnTo>
                  <a:lnTo>
                    <a:pt x="600" y="270"/>
                  </a:lnTo>
                  <a:lnTo>
                    <a:pt x="580" y="235"/>
                  </a:lnTo>
                  <a:lnTo>
                    <a:pt x="388" y="28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 rot="21255000">
              <a:off x="1305000" y="6347520"/>
              <a:ext cx="144720" cy="260640"/>
            </a:xfrm>
            <a:custGeom>
              <a:avLst/>
              <a:gdLst/>
              <a:ahLst/>
              <a:rect l="l" t="t" r="r" b="b"/>
              <a:pathLst>
                <a:path w="619" h="1085">
                  <a:moveTo>
                    <a:pt x="208" y="161"/>
                  </a:moveTo>
                  <a:lnTo>
                    <a:pt x="284" y="80"/>
                  </a:lnTo>
                  <a:lnTo>
                    <a:pt x="411" y="3"/>
                  </a:lnTo>
                  <a:lnTo>
                    <a:pt x="469" y="0"/>
                  </a:lnTo>
                  <a:lnTo>
                    <a:pt x="573" y="34"/>
                  </a:lnTo>
                  <a:lnTo>
                    <a:pt x="619" y="85"/>
                  </a:lnTo>
                  <a:lnTo>
                    <a:pt x="619" y="161"/>
                  </a:lnTo>
                  <a:lnTo>
                    <a:pt x="542" y="304"/>
                  </a:lnTo>
                  <a:lnTo>
                    <a:pt x="458" y="415"/>
                  </a:lnTo>
                  <a:lnTo>
                    <a:pt x="422" y="508"/>
                  </a:lnTo>
                  <a:lnTo>
                    <a:pt x="399" y="615"/>
                  </a:lnTo>
                  <a:lnTo>
                    <a:pt x="422" y="719"/>
                  </a:lnTo>
                  <a:lnTo>
                    <a:pt x="445" y="820"/>
                  </a:lnTo>
                  <a:lnTo>
                    <a:pt x="445" y="935"/>
                  </a:lnTo>
                  <a:lnTo>
                    <a:pt x="411" y="1005"/>
                  </a:lnTo>
                  <a:lnTo>
                    <a:pt x="334" y="1043"/>
                  </a:lnTo>
                  <a:lnTo>
                    <a:pt x="242" y="1085"/>
                  </a:lnTo>
                  <a:lnTo>
                    <a:pt x="157" y="1085"/>
                  </a:lnTo>
                  <a:lnTo>
                    <a:pt x="100" y="1054"/>
                  </a:lnTo>
                  <a:lnTo>
                    <a:pt x="23" y="927"/>
                  </a:lnTo>
                  <a:lnTo>
                    <a:pt x="0" y="797"/>
                  </a:lnTo>
                  <a:lnTo>
                    <a:pt x="8" y="628"/>
                  </a:lnTo>
                  <a:lnTo>
                    <a:pt x="65" y="415"/>
                  </a:lnTo>
                  <a:lnTo>
                    <a:pt x="123" y="277"/>
                  </a:lnTo>
                  <a:lnTo>
                    <a:pt x="208" y="1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 rot="21255000">
              <a:off x="1406880" y="6561000"/>
              <a:ext cx="281520" cy="179640"/>
            </a:xfrm>
            <a:custGeom>
              <a:avLst/>
              <a:gdLst/>
              <a:ahLst/>
              <a:rect l="l" t="t" r="r" b="b"/>
              <a:pathLst>
                <a:path w="782" h="808">
                  <a:moveTo>
                    <a:pt x="0" y="76"/>
                  </a:moveTo>
                  <a:lnTo>
                    <a:pt x="66" y="0"/>
                  </a:lnTo>
                  <a:lnTo>
                    <a:pt x="163" y="0"/>
                  </a:lnTo>
                  <a:lnTo>
                    <a:pt x="343" y="19"/>
                  </a:lnTo>
                  <a:lnTo>
                    <a:pt x="555" y="30"/>
                  </a:lnTo>
                  <a:lnTo>
                    <a:pt x="636" y="65"/>
                  </a:lnTo>
                  <a:lnTo>
                    <a:pt x="670" y="110"/>
                  </a:lnTo>
                  <a:lnTo>
                    <a:pt x="678" y="180"/>
                  </a:lnTo>
                  <a:lnTo>
                    <a:pt x="654" y="253"/>
                  </a:lnTo>
                  <a:lnTo>
                    <a:pt x="589" y="365"/>
                  </a:lnTo>
                  <a:lnTo>
                    <a:pt x="504" y="457"/>
                  </a:lnTo>
                  <a:lnTo>
                    <a:pt x="439" y="541"/>
                  </a:lnTo>
                  <a:lnTo>
                    <a:pt x="412" y="607"/>
                  </a:lnTo>
                  <a:lnTo>
                    <a:pt x="393" y="653"/>
                  </a:lnTo>
                  <a:lnTo>
                    <a:pt x="400" y="689"/>
                  </a:lnTo>
                  <a:lnTo>
                    <a:pt x="405" y="711"/>
                  </a:lnTo>
                  <a:lnTo>
                    <a:pt x="482" y="711"/>
                  </a:lnTo>
                  <a:lnTo>
                    <a:pt x="601" y="692"/>
                  </a:lnTo>
                  <a:lnTo>
                    <a:pt x="678" y="692"/>
                  </a:lnTo>
                  <a:lnTo>
                    <a:pt x="758" y="723"/>
                  </a:lnTo>
                  <a:lnTo>
                    <a:pt x="782" y="761"/>
                  </a:lnTo>
                  <a:lnTo>
                    <a:pt x="758" y="796"/>
                  </a:lnTo>
                  <a:lnTo>
                    <a:pt x="724" y="808"/>
                  </a:lnTo>
                  <a:lnTo>
                    <a:pt x="670" y="792"/>
                  </a:lnTo>
                  <a:lnTo>
                    <a:pt x="597" y="749"/>
                  </a:lnTo>
                  <a:lnTo>
                    <a:pt x="520" y="757"/>
                  </a:lnTo>
                  <a:lnTo>
                    <a:pt x="393" y="780"/>
                  </a:lnTo>
                  <a:lnTo>
                    <a:pt x="355" y="773"/>
                  </a:lnTo>
                  <a:lnTo>
                    <a:pt x="335" y="746"/>
                  </a:lnTo>
                  <a:lnTo>
                    <a:pt x="335" y="681"/>
                  </a:lnTo>
                  <a:lnTo>
                    <a:pt x="335" y="588"/>
                  </a:lnTo>
                  <a:lnTo>
                    <a:pt x="389" y="518"/>
                  </a:lnTo>
                  <a:lnTo>
                    <a:pt x="470" y="414"/>
                  </a:lnTo>
                  <a:lnTo>
                    <a:pt x="540" y="323"/>
                  </a:lnTo>
                  <a:lnTo>
                    <a:pt x="586" y="253"/>
                  </a:lnTo>
                  <a:lnTo>
                    <a:pt x="609" y="192"/>
                  </a:lnTo>
                  <a:lnTo>
                    <a:pt x="597" y="157"/>
                  </a:lnTo>
                  <a:lnTo>
                    <a:pt x="566" y="115"/>
                  </a:lnTo>
                  <a:lnTo>
                    <a:pt x="520" y="103"/>
                  </a:lnTo>
                  <a:lnTo>
                    <a:pt x="470" y="103"/>
                  </a:lnTo>
                  <a:lnTo>
                    <a:pt x="358" y="103"/>
                  </a:lnTo>
                  <a:lnTo>
                    <a:pt x="193" y="134"/>
                  </a:lnTo>
                  <a:lnTo>
                    <a:pt x="70" y="146"/>
                  </a:lnTo>
                  <a:lnTo>
                    <a:pt x="20" y="134"/>
                  </a:lnTo>
                  <a:lnTo>
                    <a:pt x="0" y="11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 rot="19838400">
              <a:off x="1018080" y="6617160"/>
              <a:ext cx="401760" cy="158400"/>
            </a:xfrm>
            <a:custGeom>
              <a:avLst/>
              <a:gdLst/>
              <a:ahLst/>
              <a:rect l="l" t="t" r="r" b="b"/>
              <a:pathLst>
                <a:path w="992" h="770">
                  <a:moveTo>
                    <a:pt x="808" y="320"/>
                  </a:moveTo>
                  <a:lnTo>
                    <a:pt x="823" y="219"/>
                  </a:lnTo>
                  <a:lnTo>
                    <a:pt x="881" y="181"/>
                  </a:lnTo>
                  <a:lnTo>
                    <a:pt x="950" y="174"/>
                  </a:lnTo>
                  <a:lnTo>
                    <a:pt x="992" y="219"/>
                  </a:lnTo>
                  <a:lnTo>
                    <a:pt x="973" y="308"/>
                  </a:lnTo>
                  <a:lnTo>
                    <a:pt x="935" y="427"/>
                  </a:lnTo>
                  <a:lnTo>
                    <a:pt x="857" y="562"/>
                  </a:lnTo>
                  <a:lnTo>
                    <a:pt x="761" y="677"/>
                  </a:lnTo>
                  <a:lnTo>
                    <a:pt x="681" y="739"/>
                  </a:lnTo>
                  <a:lnTo>
                    <a:pt x="592" y="770"/>
                  </a:lnTo>
                  <a:lnTo>
                    <a:pt x="507" y="759"/>
                  </a:lnTo>
                  <a:lnTo>
                    <a:pt x="442" y="723"/>
                  </a:lnTo>
                  <a:lnTo>
                    <a:pt x="419" y="666"/>
                  </a:lnTo>
                  <a:lnTo>
                    <a:pt x="392" y="566"/>
                  </a:lnTo>
                  <a:lnTo>
                    <a:pt x="361" y="382"/>
                  </a:lnTo>
                  <a:lnTo>
                    <a:pt x="338" y="254"/>
                  </a:lnTo>
                  <a:lnTo>
                    <a:pt x="338" y="104"/>
                  </a:lnTo>
                  <a:lnTo>
                    <a:pt x="323" y="78"/>
                  </a:lnTo>
                  <a:lnTo>
                    <a:pt x="277" y="70"/>
                  </a:lnTo>
                  <a:lnTo>
                    <a:pt x="223" y="112"/>
                  </a:lnTo>
                  <a:lnTo>
                    <a:pt x="173" y="181"/>
                  </a:lnTo>
                  <a:lnTo>
                    <a:pt x="115" y="219"/>
                  </a:lnTo>
                  <a:lnTo>
                    <a:pt x="27" y="219"/>
                  </a:lnTo>
                  <a:lnTo>
                    <a:pt x="0" y="196"/>
                  </a:lnTo>
                  <a:lnTo>
                    <a:pt x="0" y="158"/>
                  </a:lnTo>
                  <a:lnTo>
                    <a:pt x="39" y="123"/>
                  </a:lnTo>
                  <a:lnTo>
                    <a:pt x="81" y="135"/>
                  </a:lnTo>
                  <a:lnTo>
                    <a:pt x="119" y="127"/>
                  </a:lnTo>
                  <a:lnTo>
                    <a:pt x="189" y="78"/>
                  </a:lnTo>
                  <a:lnTo>
                    <a:pt x="257" y="23"/>
                  </a:lnTo>
                  <a:lnTo>
                    <a:pt x="323" y="8"/>
                  </a:lnTo>
                  <a:lnTo>
                    <a:pt x="415" y="0"/>
                  </a:lnTo>
                  <a:lnTo>
                    <a:pt x="419" y="42"/>
                  </a:lnTo>
                  <a:lnTo>
                    <a:pt x="397" y="89"/>
                  </a:lnTo>
                  <a:lnTo>
                    <a:pt x="392" y="208"/>
                  </a:lnTo>
                  <a:lnTo>
                    <a:pt x="419" y="366"/>
                  </a:lnTo>
                  <a:lnTo>
                    <a:pt x="462" y="520"/>
                  </a:lnTo>
                  <a:lnTo>
                    <a:pt x="499" y="612"/>
                  </a:lnTo>
                  <a:lnTo>
                    <a:pt x="558" y="655"/>
                  </a:lnTo>
                  <a:lnTo>
                    <a:pt x="615" y="655"/>
                  </a:lnTo>
                  <a:lnTo>
                    <a:pt x="673" y="612"/>
                  </a:lnTo>
                  <a:lnTo>
                    <a:pt x="750" y="515"/>
                  </a:lnTo>
                  <a:lnTo>
                    <a:pt x="800" y="377"/>
                  </a:lnTo>
                  <a:lnTo>
                    <a:pt x="808" y="32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 rot="21255000">
              <a:off x="1209960" y="6133680"/>
              <a:ext cx="164160" cy="291600"/>
            </a:xfrm>
            <a:custGeom>
              <a:avLst/>
              <a:gdLst/>
              <a:ahLst/>
              <a:rect l="l" t="t" r="r" b="b"/>
              <a:pathLst>
                <a:path w="699" h="1216">
                  <a:moveTo>
                    <a:pt x="445" y="923"/>
                  </a:moveTo>
                  <a:lnTo>
                    <a:pt x="560" y="1039"/>
                  </a:lnTo>
                  <a:lnTo>
                    <a:pt x="606" y="1039"/>
                  </a:lnTo>
                  <a:lnTo>
                    <a:pt x="684" y="1086"/>
                  </a:lnTo>
                  <a:lnTo>
                    <a:pt x="699" y="1139"/>
                  </a:lnTo>
                  <a:lnTo>
                    <a:pt x="676" y="1208"/>
                  </a:lnTo>
                  <a:lnTo>
                    <a:pt x="614" y="1216"/>
                  </a:lnTo>
                  <a:lnTo>
                    <a:pt x="537" y="1162"/>
                  </a:lnTo>
                  <a:lnTo>
                    <a:pt x="383" y="1016"/>
                  </a:lnTo>
                  <a:lnTo>
                    <a:pt x="284" y="878"/>
                  </a:lnTo>
                  <a:lnTo>
                    <a:pt x="237" y="769"/>
                  </a:lnTo>
                  <a:lnTo>
                    <a:pt x="206" y="585"/>
                  </a:lnTo>
                  <a:lnTo>
                    <a:pt x="206" y="346"/>
                  </a:lnTo>
                  <a:lnTo>
                    <a:pt x="198" y="285"/>
                  </a:lnTo>
                  <a:lnTo>
                    <a:pt x="153" y="239"/>
                  </a:lnTo>
                  <a:lnTo>
                    <a:pt x="22" y="247"/>
                  </a:lnTo>
                  <a:lnTo>
                    <a:pt x="0" y="223"/>
                  </a:lnTo>
                  <a:lnTo>
                    <a:pt x="29" y="208"/>
                  </a:lnTo>
                  <a:lnTo>
                    <a:pt x="122" y="200"/>
                  </a:lnTo>
                  <a:lnTo>
                    <a:pt x="138" y="185"/>
                  </a:lnTo>
                  <a:lnTo>
                    <a:pt x="6" y="107"/>
                  </a:lnTo>
                  <a:lnTo>
                    <a:pt x="6" y="77"/>
                  </a:lnTo>
                  <a:lnTo>
                    <a:pt x="29" y="70"/>
                  </a:lnTo>
                  <a:lnTo>
                    <a:pt x="138" y="130"/>
                  </a:lnTo>
                  <a:lnTo>
                    <a:pt x="161" y="123"/>
                  </a:lnTo>
                  <a:lnTo>
                    <a:pt x="138" y="8"/>
                  </a:lnTo>
                  <a:lnTo>
                    <a:pt x="153" y="0"/>
                  </a:lnTo>
                  <a:lnTo>
                    <a:pt x="169" y="8"/>
                  </a:lnTo>
                  <a:lnTo>
                    <a:pt x="198" y="123"/>
                  </a:lnTo>
                  <a:lnTo>
                    <a:pt x="222" y="130"/>
                  </a:lnTo>
                  <a:lnTo>
                    <a:pt x="284" y="8"/>
                  </a:lnTo>
                  <a:lnTo>
                    <a:pt x="299" y="8"/>
                  </a:lnTo>
                  <a:lnTo>
                    <a:pt x="299" y="46"/>
                  </a:lnTo>
                  <a:lnTo>
                    <a:pt x="260" y="146"/>
                  </a:lnTo>
                  <a:lnTo>
                    <a:pt x="260" y="200"/>
                  </a:lnTo>
                  <a:lnTo>
                    <a:pt x="276" y="270"/>
                  </a:lnTo>
                  <a:lnTo>
                    <a:pt x="268" y="361"/>
                  </a:lnTo>
                  <a:lnTo>
                    <a:pt x="276" y="531"/>
                  </a:lnTo>
                  <a:lnTo>
                    <a:pt x="291" y="639"/>
                  </a:lnTo>
                  <a:lnTo>
                    <a:pt x="330" y="762"/>
                  </a:lnTo>
                  <a:lnTo>
                    <a:pt x="383" y="855"/>
                  </a:lnTo>
                  <a:lnTo>
                    <a:pt x="445" y="9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 rot="21255000">
              <a:off x="1406160" y="6132600"/>
              <a:ext cx="214920" cy="243360"/>
            </a:xfrm>
            <a:custGeom>
              <a:avLst/>
              <a:gdLst/>
              <a:ahLst/>
              <a:rect l="l" t="t" r="r" b="b"/>
              <a:pathLst>
                <a:path w="915" h="1139">
                  <a:moveTo>
                    <a:pt x="15" y="1008"/>
                  </a:moveTo>
                  <a:lnTo>
                    <a:pt x="0" y="1061"/>
                  </a:lnTo>
                  <a:lnTo>
                    <a:pt x="15" y="1139"/>
                  </a:lnTo>
                  <a:lnTo>
                    <a:pt x="70" y="1139"/>
                  </a:lnTo>
                  <a:lnTo>
                    <a:pt x="231" y="1108"/>
                  </a:lnTo>
                  <a:lnTo>
                    <a:pt x="408" y="1046"/>
                  </a:lnTo>
                  <a:lnTo>
                    <a:pt x="554" y="946"/>
                  </a:lnTo>
                  <a:lnTo>
                    <a:pt x="639" y="816"/>
                  </a:lnTo>
                  <a:lnTo>
                    <a:pt x="715" y="593"/>
                  </a:lnTo>
                  <a:lnTo>
                    <a:pt x="738" y="385"/>
                  </a:lnTo>
                  <a:lnTo>
                    <a:pt x="738" y="285"/>
                  </a:lnTo>
                  <a:lnTo>
                    <a:pt x="777" y="224"/>
                  </a:lnTo>
                  <a:lnTo>
                    <a:pt x="845" y="200"/>
                  </a:lnTo>
                  <a:lnTo>
                    <a:pt x="907" y="200"/>
                  </a:lnTo>
                  <a:lnTo>
                    <a:pt x="915" y="169"/>
                  </a:lnTo>
                  <a:lnTo>
                    <a:pt x="823" y="177"/>
                  </a:lnTo>
                  <a:lnTo>
                    <a:pt x="808" y="154"/>
                  </a:lnTo>
                  <a:lnTo>
                    <a:pt x="884" y="70"/>
                  </a:lnTo>
                  <a:lnTo>
                    <a:pt x="868" y="47"/>
                  </a:lnTo>
                  <a:lnTo>
                    <a:pt x="853" y="62"/>
                  </a:lnTo>
                  <a:lnTo>
                    <a:pt x="792" y="123"/>
                  </a:lnTo>
                  <a:lnTo>
                    <a:pt x="777" y="123"/>
                  </a:lnTo>
                  <a:lnTo>
                    <a:pt x="777" y="16"/>
                  </a:lnTo>
                  <a:lnTo>
                    <a:pt x="761" y="0"/>
                  </a:lnTo>
                  <a:lnTo>
                    <a:pt x="738" y="8"/>
                  </a:lnTo>
                  <a:lnTo>
                    <a:pt x="746" y="123"/>
                  </a:lnTo>
                  <a:lnTo>
                    <a:pt x="730" y="131"/>
                  </a:lnTo>
                  <a:lnTo>
                    <a:pt x="668" y="70"/>
                  </a:lnTo>
                  <a:lnTo>
                    <a:pt x="623" y="62"/>
                  </a:lnTo>
                  <a:lnTo>
                    <a:pt x="631" y="93"/>
                  </a:lnTo>
                  <a:lnTo>
                    <a:pt x="699" y="162"/>
                  </a:lnTo>
                  <a:lnTo>
                    <a:pt x="699" y="200"/>
                  </a:lnTo>
                  <a:lnTo>
                    <a:pt x="676" y="278"/>
                  </a:lnTo>
                  <a:lnTo>
                    <a:pt x="676" y="346"/>
                  </a:lnTo>
                  <a:lnTo>
                    <a:pt x="676" y="462"/>
                  </a:lnTo>
                  <a:lnTo>
                    <a:pt x="645" y="608"/>
                  </a:lnTo>
                  <a:lnTo>
                    <a:pt x="615" y="700"/>
                  </a:lnTo>
                  <a:lnTo>
                    <a:pt x="561" y="816"/>
                  </a:lnTo>
                  <a:lnTo>
                    <a:pt x="499" y="908"/>
                  </a:lnTo>
                  <a:lnTo>
                    <a:pt x="454" y="954"/>
                  </a:lnTo>
                  <a:lnTo>
                    <a:pt x="330" y="993"/>
                  </a:lnTo>
                  <a:lnTo>
                    <a:pt x="215" y="1008"/>
                  </a:lnTo>
                  <a:lnTo>
                    <a:pt x="99" y="1024"/>
                  </a:lnTo>
                  <a:lnTo>
                    <a:pt x="15" y="100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4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4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4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4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4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8" name=""/>
          <p:cNvSpPr/>
          <p:nvPr/>
        </p:nvSpPr>
        <p:spPr>
          <a:xfrm>
            <a:off x="412200" y="3184560"/>
            <a:ext cx="405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o prove path is shortest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9" name=""/>
          <p:cNvSpPr/>
          <p:nvPr/>
        </p:nvSpPr>
        <p:spPr>
          <a:xfrm>
            <a:off x="1300320" y="3657600"/>
            <a:ext cx="549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ve there is a path of this length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1361520" y="4175280"/>
            <a:ext cx="511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ve there are no shorter path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>
            <a:off x="7203600" y="3429000"/>
            <a:ext cx="1937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ive a path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(witnes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 flipH="1">
            <a:off x="6629400" y="39625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7621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'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>
            <a:off x="2057400" y="533520"/>
            <a:ext cx="556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 far, the nodes have been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handle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n order of length from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75" name=""/>
          <p:cNvGrpSpPr/>
          <p:nvPr/>
        </p:nvGrpSpPr>
        <p:grpSpPr>
          <a:xfrm>
            <a:off x="609480" y="533520"/>
            <a:ext cx="1181160" cy="1066680"/>
            <a:chOff x="609480" y="533520"/>
            <a:chExt cx="1181160" cy="1066680"/>
          </a:xfrm>
        </p:grpSpPr>
        <p:sp>
          <p:nvSpPr>
            <p:cNvPr id="4276" name=""/>
            <p:cNvSpPr/>
            <p:nvPr/>
          </p:nvSpPr>
          <p:spPr>
            <a:xfrm>
              <a:off x="609480" y="533520"/>
              <a:ext cx="1181160" cy="106668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77" name=""/>
            <p:cNvGrpSpPr/>
            <p:nvPr/>
          </p:nvGrpSpPr>
          <p:grpSpPr>
            <a:xfrm>
              <a:off x="795960" y="622440"/>
              <a:ext cx="629640" cy="860400"/>
              <a:chOff x="795960" y="622440"/>
              <a:chExt cx="629640" cy="860400"/>
            </a:xfrm>
          </p:grpSpPr>
          <p:grpSp>
            <p:nvGrpSpPr>
              <p:cNvPr id="4278" name=""/>
              <p:cNvGrpSpPr/>
              <p:nvPr/>
            </p:nvGrpSpPr>
            <p:grpSpPr>
              <a:xfrm>
                <a:off x="795960" y="622440"/>
                <a:ext cx="592560" cy="842400"/>
                <a:chOff x="795960" y="622440"/>
                <a:chExt cx="592560" cy="842400"/>
              </a:xfrm>
            </p:grpSpPr>
            <p:sp>
              <p:nvSpPr>
                <p:cNvPr id="4279" name=""/>
                <p:cNvSpPr/>
                <p:nvPr/>
              </p:nvSpPr>
              <p:spPr>
                <a:xfrm>
                  <a:off x="991440" y="764640"/>
                  <a:ext cx="102960" cy="177840"/>
                </a:xfrm>
                <a:custGeom>
                  <a:avLst/>
                  <a:gdLst/>
                  <a:ahLst/>
                  <a:rect l="l" t="t" r="r" b="b"/>
                  <a:pathLst>
                    <a:path w="434" h="514">
                      <a:moveTo>
                        <a:pt x="132" y="186"/>
                      </a:moveTo>
                      <a:lnTo>
                        <a:pt x="157" y="114"/>
                      </a:lnTo>
                      <a:lnTo>
                        <a:pt x="189" y="42"/>
                      </a:lnTo>
                      <a:lnTo>
                        <a:pt x="236" y="6"/>
                      </a:lnTo>
                      <a:lnTo>
                        <a:pt x="302" y="0"/>
                      </a:lnTo>
                      <a:lnTo>
                        <a:pt x="355" y="24"/>
                      </a:lnTo>
                      <a:lnTo>
                        <a:pt x="393" y="63"/>
                      </a:lnTo>
                      <a:lnTo>
                        <a:pt x="421" y="135"/>
                      </a:lnTo>
                      <a:lnTo>
                        <a:pt x="434" y="222"/>
                      </a:lnTo>
                      <a:lnTo>
                        <a:pt x="434" y="312"/>
                      </a:lnTo>
                      <a:lnTo>
                        <a:pt x="412" y="411"/>
                      </a:lnTo>
                      <a:lnTo>
                        <a:pt x="355" y="474"/>
                      </a:lnTo>
                      <a:lnTo>
                        <a:pt x="299" y="514"/>
                      </a:lnTo>
                      <a:lnTo>
                        <a:pt x="245" y="510"/>
                      </a:lnTo>
                      <a:lnTo>
                        <a:pt x="198" y="468"/>
                      </a:lnTo>
                      <a:lnTo>
                        <a:pt x="157" y="396"/>
                      </a:lnTo>
                      <a:lnTo>
                        <a:pt x="129" y="333"/>
                      </a:lnTo>
                      <a:lnTo>
                        <a:pt x="129" y="252"/>
                      </a:lnTo>
                      <a:lnTo>
                        <a:pt x="0" y="234"/>
                      </a:lnTo>
                      <a:lnTo>
                        <a:pt x="16" y="189"/>
                      </a:lnTo>
                      <a:lnTo>
                        <a:pt x="132" y="18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0" name=""/>
                <p:cNvSpPr/>
                <p:nvPr/>
              </p:nvSpPr>
              <p:spPr>
                <a:xfrm>
                  <a:off x="1059480" y="622440"/>
                  <a:ext cx="134280" cy="398880"/>
                </a:xfrm>
                <a:custGeom>
                  <a:avLst/>
                  <a:gdLst/>
                  <a:ahLst/>
                  <a:rect l="l" t="t" r="r" b="b"/>
                  <a:pathLst>
                    <a:path w="566" h="1154">
                      <a:moveTo>
                        <a:pt x="13" y="1145"/>
                      </a:moveTo>
                      <a:lnTo>
                        <a:pt x="0" y="1088"/>
                      </a:lnTo>
                      <a:lnTo>
                        <a:pt x="31" y="1042"/>
                      </a:lnTo>
                      <a:lnTo>
                        <a:pt x="134" y="988"/>
                      </a:lnTo>
                      <a:lnTo>
                        <a:pt x="226" y="927"/>
                      </a:lnTo>
                      <a:lnTo>
                        <a:pt x="313" y="827"/>
                      </a:lnTo>
                      <a:lnTo>
                        <a:pt x="432" y="689"/>
                      </a:lnTo>
                      <a:lnTo>
                        <a:pt x="463" y="634"/>
                      </a:lnTo>
                      <a:lnTo>
                        <a:pt x="479" y="580"/>
                      </a:lnTo>
                      <a:lnTo>
                        <a:pt x="472" y="526"/>
                      </a:lnTo>
                      <a:lnTo>
                        <a:pt x="444" y="426"/>
                      </a:lnTo>
                      <a:lnTo>
                        <a:pt x="376" y="299"/>
                      </a:lnTo>
                      <a:lnTo>
                        <a:pt x="301" y="229"/>
                      </a:lnTo>
                      <a:lnTo>
                        <a:pt x="235" y="190"/>
                      </a:lnTo>
                      <a:lnTo>
                        <a:pt x="181" y="184"/>
                      </a:lnTo>
                      <a:lnTo>
                        <a:pt x="153" y="190"/>
                      </a:lnTo>
                      <a:lnTo>
                        <a:pt x="150" y="163"/>
                      </a:lnTo>
                      <a:lnTo>
                        <a:pt x="215" y="154"/>
                      </a:lnTo>
                      <a:lnTo>
                        <a:pt x="291" y="154"/>
                      </a:lnTo>
                      <a:lnTo>
                        <a:pt x="238" y="93"/>
                      </a:lnTo>
                      <a:lnTo>
                        <a:pt x="206" y="45"/>
                      </a:lnTo>
                      <a:lnTo>
                        <a:pt x="229" y="27"/>
                      </a:lnTo>
                      <a:lnTo>
                        <a:pt x="313" y="109"/>
                      </a:lnTo>
                      <a:lnTo>
                        <a:pt x="329" y="121"/>
                      </a:lnTo>
                      <a:lnTo>
                        <a:pt x="313" y="57"/>
                      </a:lnTo>
                      <a:lnTo>
                        <a:pt x="301" y="9"/>
                      </a:lnTo>
                      <a:lnTo>
                        <a:pt x="313" y="0"/>
                      </a:lnTo>
                      <a:lnTo>
                        <a:pt x="341" y="9"/>
                      </a:lnTo>
                      <a:lnTo>
                        <a:pt x="366" y="121"/>
                      </a:lnTo>
                      <a:lnTo>
                        <a:pt x="379" y="118"/>
                      </a:lnTo>
                      <a:lnTo>
                        <a:pt x="379" y="30"/>
                      </a:lnTo>
                      <a:lnTo>
                        <a:pt x="404" y="21"/>
                      </a:lnTo>
                      <a:lnTo>
                        <a:pt x="422" y="36"/>
                      </a:lnTo>
                      <a:lnTo>
                        <a:pt x="413" y="154"/>
                      </a:lnTo>
                      <a:lnTo>
                        <a:pt x="407" y="202"/>
                      </a:lnTo>
                      <a:lnTo>
                        <a:pt x="422" y="299"/>
                      </a:lnTo>
                      <a:lnTo>
                        <a:pt x="472" y="402"/>
                      </a:lnTo>
                      <a:lnTo>
                        <a:pt x="525" y="520"/>
                      </a:lnTo>
                      <a:lnTo>
                        <a:pt x="566" y="607"/>
                      </a:lnTo>
                      <a:lnTo>
                        <a:pt x="563" y="652"/>
                      </a:lnTo>
                      <a:lnTo>
                        <a:pt x="488" y="734"/>
                      </a:lnTo>
                      <a:lnTo>
                        <a:pt x="385" y="836"/>
                      </a:lnTo>
                      <a:lnTo>
                        <a:pt x="301" y="937"/>
                      </a:lnTo>
                      <a:lnTo>
                        <a:pt x="197" y="1070"/>
                      </a:lnTo>
                      <a:lnTo>
                        <a:pt x="112" y="1136"/>
                      </a:lnTo>
                      <a:lnTo>
                        <a:pt x="47" y="1154"/>
                      </a:lnTo>
                      <a:lnTo>
                        <a:pt x="13" y="1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1" name=""/>
                <p:cNvSpPr/>
                <p:nvPr/>
              </p:nvSpPr>
              <p:spPr>
                <a:xfrm>
                  <a:off x="795960" y="994320"/>
                  <a:ext cx="246240" cy="200880"/>
                </a:xfrm>
                <a:custGeom>
                  <a:avLst/>
                  <a:gdLst/>
                  <a:ahLst/>
                  <a:rect l="l" t="t" r="r" b="b"/>
                  <a:pathLst>
                    <a:path w="1037" h="581">
                      <a:moveTo>
                        <a:pt x="210" y="468"/>
                      </a:moveTo>
                      <a:lnTo>
                        <a:pt x="361" y="462"/>
                      </a:lnTo>
                      <a:lnTo>
                        <a:pt x="498" y="444"/>
                      </a:lnTo>
                      <a:lnTo>
                        <a:pt x="583" y="423"/>
                      </a:lnTo>
                      <a:lnTo>
                        <a:pt x="705" y="354"/>
                      </a:lnTo>
                      <a:lnTo>
                        <a:pt x="792" y="288"/>
                      </a:lnTo>
                      <a:lnTo>
                        <a:pt x="906" y="207"/>
                      </a:lnTo>
                      <a:lnTo>
                        <a:pt x="959" y="156"/>
                      </a:lnTo>
                      <a:lnTo>
                        <a:pt x="1000" y="120"/>
                      </a:lnTo>
                      <a:lnTo>
                        <a:pt x="1037" y="81"/>
                      </a:lnTo>
                      <a:lnTo>
                        <a:pt x="1037" y="39"/>
                      </a:lnTo>
                      <a:lnTo>
                        <a:pt x="996" y="0"/>
                      </a:lnTo>
                      <a:lnTo>
                        <a:pt x="971" y="9"/>
                      </a:lnTo>
                      <a:lnTo>
                        <a:pt x="903" y="90"/>
                      </a:lnTo>
                      <a:lnTo>
                        <a:pt x="828" y="183"/>
                      </a:lnTo>
                      <a:lnTo>
                        <a:pt x="752" y="270"/>
                      </a:lnTo>
                      <a:lnTo>
                        <a:pt x="642" y="342"/>
                      </a:lnTo>
                      <a:lnTo>
                        <a:pt x="548" y="390"/>
                      </a:lnTo>
                      <a:lnTo>
                        <a:pt x="445" y="414"/>
                      </a:lnTo>
                      <a:lnTo>
                        <a:pt x="301" y="417"/>
                      </a:lnTo>
                      <a:lnTo>
                        <a:pt x="216" y="417"/>
                      </a:lnTo>
                      <a:lnTo>
                        <a:pt x="144" y="363"/>
                      </a:lnTo>
                      <a:lnTo>
                        <a:pt x="125" y="327"/>
                      </a:lnTo>
                      <a:lnTo>
                        <a:pt x="94" y="327"/>
                      </a:lnTo>
                      <a:lnTo>
                        <a:pt x="116" y="372"/>
                      </a:lnTo>
                      <a:lnTo>
                        <a:pt x="150" y="414"/>
                      </a:lnTo>
                      <a:lnTo>
                        <a:pt x="66" y="396"/>
                      </a:lnTo>
                      <a:lnTo>
                        <a:pt x="3" y="387"/>
                      </a:lnTo>
                      <a:lnTo>
                        <a:pt x="3" y="405"/>
                      </a:lnTo>
                      <a:lnTo>
                        <a:pt x="59" y="417"/>
                      </a:lnTo>
                      <a:lnTo>
                        <a:pt x="97" y="441"/>
                      </a:lnTo>
                      <a:lnTo>
                        <a:pt x="131" y="444"/>
                      </a:lnTo>
                      <a:lnTo>
                        <a:pt x="78" y="462"/>
                      </a:lnTo>
                      <a:lnTo>
                        <a:pt x="0" y="481"/>
                      </a:lnTo>
                      <a:lnTo>
                        <a:pt x="3" y="499"/>
                      </a:lnTo>
                      <a:lnTo>
                        <a:pt x="28" y="505"/>
                      </a:lnTo>
                      <a:lnTo>
                        <a:pt x="103" y="481"/>
                      </a:lnTo>
                      <a:lnTo>
                        <a:pt x="150" y="477"/>
                      </a:lnTo>
                      <a:lnTo>
                        <a:pt x="122" y="505"/>
                      </a:lnTo>
                      <a:lnTo>
                        <a:pt x="78" y="550"/>
                      </a:lnTo>
                      <a:lnTo>
                        <a:pt x="59" y="562"/>
                      </a:lnTo>
                      <a:lnTo>
                        <a:pt x="75" y="581"/>
                      </a:lnTo>
                      <a:lnTo>
                        <a:pt x="113" y="559"/>
                      </a:lnTo>
                      <a:lnTo>
                        <a:pt x="163" y="514"/>
                      </a:lnTo>
                      <a:lnTo>
                        <a:pt x="210" y="46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2" name=""/>
                <p:cNvSpPr/>
                <p:nvPr/>
              </p:nvSpPr>
              <p:spPr>
                <a:xfrm>
                  <a:off x="1022760" y="973800"/>
                  <a:ext cx="144360" cy="276480"/>
                </a:xfrm>
                <a:custGeom>
                  <a:avLst/>
                  <a:gdLst/>
                  <a:ahLst/>
                  <a:rect l="l" t="t" r="r" b="b"/>
                  <a:pathLst>
                    <a:path w="608" h="800">
                      <a:moveTo>
                        <a:pt x="38" y="90"/>
                      </a:moveTo>
                      <a:lnTo>
                        <a:pt x="63" y="27"/>
                      </a:lnTo>
                      <a:lnTo>
                        <a:pt x="104" y="0"/>
                      </a:lnTo>
                      <a:lnTo>
                        <a:pt x="141" y="0"/>
                      </a:lnTo>
                      <a:lnTo>
                        <a:pt x="179" y="18"/>
                      </a:lnTo>
                      <a:lnTo>
                        <a:pt x="216" y="54"/>
                      </a:lnTo>
                      <a:lnTo>
                        <a:pt x="235" y="117"/>
                      </a:lnTo>
                      <a:lnTo>
                        <a:pt x="245" y="180"/>
                      </a:lnTo>
                      <a:lnTo>
                        <a:pt x="263" y="243"/>
                      </a:lnTo>
                      <a:lnTo>
                        <a:pt x="298" y="312"/>
                      </a:lnTo>
                      <a:lnTo>
                        <a:pt x="357" y="384"/>
                      </a:lnTo>
                      <a:lnTo>
                        <a:pt x="415" y="432"/>
                      </a:lnTo>
                      <a:lnTo>
                        <a:pt x="499" y="468"/>
                      </a:lnTo>
                      <a:lnTo>
                        <a:pt x="571" y="522"/>
                      </a:lnTo>
                      <a:lnTo>
                        <a:pt x="608" y="577"/>
                      </a:lnTo>
                      <a:lnTo>
                        <a:pt x="602" y="622"/>
                      </a:lnTo>
                      <a:lnTo>
                        <a:pt x="593" y="676"/>
                      </a:lnTo>
                      <a:lnTo>
                        <a:pt x="565" y="712"/>
                      </a:lnTo>
                      <a:lnTo>
                        <a:pt x="518" y="757"/>
                      </a:lnTo>
                      <a:lnTo>
                        <a:pt x="449" y="790"/>
                      </a:lnTo>
                      <a:lnTo>
                        <a:pt x="396" y="800"/>
                      </a:lnTo>
                      <a:lnTo>
                        <a:pt x="320" y="784"/>
                      </a:lnTo>
                      <a:lnTo>
                        <a:pt x="251" y="748"/>
                      </a:lnTo>
                      <a:lnTo>
                        <a:pt x="179" y="694"/>
                      </a:lnTo>
                      <a:lnTo>
                        <a:pt x="129" y="631"/>
                      </a:lnTo>
                      <a:lnTo>
                        <a:pt x="82" y="550"/>
                      </a:lnTo>
                      <a:lnTo>
                        <a:pt x="44" y="456"/>
                      </a:lnTo>
                      <a:lnTo>
                        <a:pt x="19" y="375"/>
                      </a:lnTo>
                      <a:lnTo>
                        <a:pt x="7" y="297"/>
                      </a:lnTo>
                      <a:lnTo>
                        <a:pt x="0" y="189"/>
                      </a:lnTo>
                      <a:lnTo>
                        <a:pt x="19" y="117"/>
                      </a:lnTo>
                      <a:lnTo>
                        <a:pt x="38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3" name=""/>
                <p:cNvSpPr/>
                <p:nvPr/>
              </p:nvSpPr>
              <p:spPr>
                <a:xfrm>
                  <a:off x="1140840" y="1091880"/>
                  <a:ext cx="247680" cy="250920"/>
                </a:xfrm>
                <a:custGeom>
                  <a:avLst/>
                  <a:gdLst/>
                  <a:ahLst/>
                  <a:rect l="l" t="t" r="r" b="b"/>
                  <a:pathLst>
                    <a:path w="1043" h="726">
                      <a:moveTo>
                        <a:pt x="116" y="230"/>
                      </a:moveTo>
                      <a:lnTo>
                        <a:pt x="216" y="147"/>
                      </a:lnTo>
                      <a:lnTo>
                        <a:pt x="338" y="72"/>
                      </a:lnTo>
                      <a:lnTo>
                        <a:pt x="417" y="27"/>
                      </a:lnTo>
                      <a:lnTo>
                        <a:pt x="479" y="12"/>
                      </a:lnTo>
                      <a:lnTo>
                        <a:pt x="529" y="0"/>
                      </a:lnTo>
                      <a:lnTo>
                        <a:pt x="573" y="18"/>
                      </a:lnTo>
                      <a:lnTo>
                        <a:pt x="601" y="75"/>
                      </a:lnTo>
                      <a:lnTo>
                        <a:pt x="620" y="230"/>
                      </a:lnTo>
                      <a:lnTo>
                        <a:pt x="620" y="416"/>
                      </a:lnTo>
                      <a:lnTo>
                        <a:pt x="620" y="536"/>
                      </a:lnTo>
                      <a:lnTo>
                        <a:pt x="642" y="609"/>
                      </a:lnTo>
                      <a:lnTo>
                        <a:pt x="686" y="597"/>
                      </a:lnTo>
                      <a:lnTo>
                        <a:pt x="717" y="552"/>
                      </a:lnTo>
                      <a:lnTo>
                        <a:pt x="779" y="500"/>
                      </a:lnTo>
                      <a:lnTo>
                        <a:pt x="876" y="470"/>
                      </a:lnTo>
                      <a:lnTo>
                        <a:pt x="943" y="470"/>
                      </a:lnTo>
                      <a:lnTo>
                        <a:pt x="1043" y="488"/>
                      </a:lnTo>
                      <a:lnTo>
                        <a:pt x="1037" y="524"/>
                      </a:lnTo>
                      <a:lnTo>
                        <a:pt x="1015" y="555"/>
                      </a:lnTo>
                      <a:lnTo>
                        <a:pt x="981" y="561"/>
                      </a:lnTo>
                      <a:lnTo>
                        <a:pt x="943" y="542"/>
                      </a:lnTo>
                      <a:lnTo>
                        <a:pt x="886" y="518"/>
                      </a:lnTo>
                      <a:lnTo>
                        <a:pt x="829" y="518"/>
                      </a:lnTo>
                      <a:lnTo>
                        <a:pt x="754" y="564"/>
                      </a:lnTo>
                      <a:lnTo>
                        <a:pt x="708" y="633"/>
                      </a:lnTo>
                      <a:lnTo>
                        <a:pt x="698" y="690"/>
                      </a:lnTo>
                      <a:lnTo>
                        <a:pt x="679" y="726"/>
                      </a:lnTo>
                      <a:lnTo>
                        <a:pt x="604" y="723"/>
                      </a:lnTo>
                      <a:lnTo>
                        <a:pt x="601" y="669"/>
                      </a:lnTo>
                      <a:lnTo>
                        <a:pt x="576" y="591"/>
                      </a:lnTo>
                      <a:lnTo>
                        <a:pt x="567" y="509"/>
                      </a:lnTo>
                      <a:lnTo>
                        <a:pt x="573" y="401"/>
                      </a:lnTo>
                      <a:lnTo>
                        <a:pt x="564" y="248"/>
                      </a:lnTo>
                      <a:lnTo>
                        <a:pt x="558" y="147"/>
                      </a:lnTo>
                      <a:lnTo>
                        <a:pt x="539" y="111"/>
                      </a:lnTo>
                      <a:lnTo>
                        <a:pt x="501" y="75"/>
                      </a:lnTo>
                      <a:lnTo>
                        <a:pt x="461" y="75"/>
                      </a:lnTo>
                      <a:lnTo>
                        <a:pt x="403" y="111"/>
                      </a:lnTo>
                      <a:lnTo>
                        <a:pt x="328" y="181"/>
                      </a:lnTo>
                      <a:lnTo>
                        <a:pt x="235" y="272"/>
                      </a:lnTo>
                      <a:lnTo>
                        <a:pt x="141" y="356"/>
                      </a:lnTo>
                      <a:lnTo>
                        <a:pt x="94" y="383"/>
                      </a:lnTo>
                      <a:lnTo>
                        <a:pt x="38" y="383"/>
                      </a:lnTo>
                      <a:lnTo>
                        <a:pt x="0" y="344"/>
                      </a:lnTo>
                      <a:lnTo>
                        <a:pt x="3" y="281"/>
                      </a:lnTo>
                      <a:lnTo>
                        <a:pt x="41" y="248"/>
                      </a:lnTo>
                      <a:lnTo>
                        <a:pt x="84" y="239"/>
                      </a:lnTo>
                      <a:lnTo>
                        <a:pt x="116" y="23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4" name=""/>
                <p:cNvSpPr/>
                <p:nvPr/>
              </p:nvSpPr>
              <p:spPr>
                <a:xfrm>
                  <a:off x="1127520" y="1201320"/>
                  <a:ext cx="169200" cy="263520"/>
                </a:xfrm>
                <a:custGeom>
                  <a:avLst/>
                  <a:gdLst/>
                  <a:ahLst/>
                  <a:rect l="l" t="t" r="r" b="b"/>
                  <a:pathLst>
                    <a:path w="713" h="762">
                      <a:moveTo>
                        <a:pt x="0" y="64"/>
                      </a:moveTo>
                      <a:lnTo>
                        <a:pt x="22" y="16"/>
                      </a:lnTo>
                      <a:lnTo>
                        <a:pt x="69" y="0"/>
                      </a:lnTo>
                      <a:lnTo>
                        <a:pt x="134" y="7"/>
                      </a:lnTo>
                      <a:lnTo>
                        <a:pt x="150" y="52"/>
                      </a:lnTo>
                      <a:lnTo>
                        <a:pt x="125" y="227"/>
                      </a:lnTo>
                      <a:lnTo>
                        <a:pt x="122" y="360"/>
                      </a:lnTo>
                      <a:lnTo>
                        <a:pt x="116" y="435"/>
                      </a:lnTo>
                      <a:lnTo>
                        <a:pt x="116" y="450"/>
                      </a:lnTo>
                      <a:lnTo>
                        <a:pt x="131" y="524"/>
                      </a:lnTo>
                      <a:lnTo>
                        <a:pt x="172" y="536"/>
                      </a:lnTo>
                      <a:lnTo>
                        <a:pt x="225" y="524"/>
                      </a:lnTo>
                      <a:lnTo>
                        <a:pt x="303" y="481"/>
                      </a:lnTo>
                      <a:lnTo>
                        <a:pt x="387" y="460"/>
                      </a:lnTo>
                      <a:lnTo>
                        <a:pt x="482" y="444"/>
                      </a:lnTo>
                      <a:lnTo>
                        <a:pt x="585" y="432"/>
                      </a:lnTo>
                      <a:lnTo>
                        <a:pt x="660" y="432"/>
                      </a:lnTo>
                      <a:lnTo>
                        <a:pt x="694" y="441"/>
                      </a:lnTo>
                      <a:lnTo>
                        <a:pt x="713" y="463"/>
                      </a:lnTo>
                      <a:lnTo>
                        <a:pt x="704" y="496"/>
                      </a:lnTo>
                      <a:lnTo>
                        <a:pt x="657" y="524"/>
                      </a:lnTo>
                      <a:lnTo>
                        <a:pt x="613" y="563"/>
                      </a:lnTo>
                      <a:lnTo>
                        <a:pt x="572" y="618"/>
                      </a:lnTo>
                      <a:lnTo>
                        <a:pt x="547" y="663"/>
                      </a:lnTo>
                      <a:lnTo>
                        <a:pt x="526" y="708"/>
                      </a:lnTo>
                      <a:lnTo>
                        <a:pt x="510" y="762"/>
                      </a:lnTo>
                      <a:lnTo>
                        <a:pt x="488" y="762"/>
                      </a:lnTo>
                      <a:lnTo>
                        <a:pt x="469" y="741"/>
                      </a:lnTo>
                      <a:lnTo>
                        <a:pt x="462" y="681"/>
                      </a:lnTo>
                      <a:lnTo>
                        <a:pt x="507" y="627"/>
                      </a:lnTo>
                      <a:lnTo>
                        <a:pt x="566" y="563"/>
                      </a:lnTo>
                      <a:lnTo>
                        <a:pt x="622" y="515"/>
                      </a:lnTo>
                      <a:lnTo>
                        <a:pt x="647" y="499"/>
                      </a:lnTo>
                      <a:lnTo>
                        <a:pt x="657" y="478"/>
                      </a:lnTo>
                      <a:lnTo>
                        <a:pt x="632" y="463"/>
                      </a:lnTo>
                      <a:lnTo>
                        <a:pt x="547" y="463"/>
                      </a:lnTo>
                      <a:lnTo>
                        <a:pt x="440" y="481"/>
                      </a:lnTo>
                      <a:lnTo>
                        <a:pt x="356" y="509"/>
                      </a:lnTo>
                      <a:lnTo>
                        <a:pt x="265" y="560"/>
                      </a:lnTo>
                      <a:lnTo>
                        <a:pt x="187" y="596"/>
                      </a:lnTo>
                      <a:lnTo>
                        <a:pt x="103" y="599"/>
                      </a:lnTo>
                      <a:lnTo>
                        <a:pt x="69" y="587"/>
                      </a:lnTo>
                      <a:lnTo>
                        <a:pt x="50" y="542"/>
                      </a:lnTo>
                      <a:lnTo>
                        <a:pt x="37" y="478"/>
                      </a:lnTo>
                      <a:lnTo>
                        <a:pt x="31" y="360"/>
                      </a:lnTo>
                      <a:lnTo>
                        <a:pt x="19" y="151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5" name=""/>
              <p:cNvGrpSpPr/>
              <p:nvPr/>
            </p:nvGrpSpPr>
            <p:grpSpPr>
              <a:xfrm>
                <a:off x="1323360" y="1179720"/>
                <a:ext cx="102240" cy="303120"/>
                <a:chOff x="1323360" y="1179720"/>
                <a:chExt cx="102240" cy="303120"/>
              </a:xfrm>
            </p:grpSpPr>
            <p:sp>
              <p:nvSpPr>
                <p:cNvPr id="4286" name=""/>
                <p:cNvSpPr/>
                <p:nvPr/>
              </p:nvSpPr>
              <p:spPr>
                <a:xfrm>
                  <a:off x="1344960" y="1348560"/>
                  <a:ext cx="80640" cy="37440"/>
                </a:xfrm>
                <a:custGeom>
                  <a:avLst/>
                  <a:gdLst/>
                  <a:ahLst/>
                  <a:rect l="l" t="t" r="r" b="b"/>
                  <a:pathLst>
                    <a:path w="340" h="109">
                      <a:moveTo>
                        <a:pt x="340" y="109"/>
                      </a:moveTo>
                      <a:lnTo>
                        <a:pt x="165" y="30"/>
                      </a:lnTo>
                      <a:lnTo>
                        <a:pt x="48" y="0"/>
                      </a:lnTo>
                      <a:lnTo>
                        <a:pt x="10" y="0"/>
                      </a:lnTo>
                      <a:lnTo>
                        <a:pt x="0" y="27"/>
                      </a:lnTo>
                      <a:lnTo>
                        <a:pt x="22" y="48"/>
                      </a:lnTo>
                      <a:lnTo>
                        <a:pt x="70" y="54"/>
                      </a:lnTo>
                      <a:lnTo>
                        <a:pt x="184" y="75"/>
                      </a:lnTo>
                      <a:lnTo>
                        <a:pt x="340" y="10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7" name=""/>
                <p:cNvSpPr/>
                <p:nvPr/>
              </p:nvSpPr>
              <p:spPr>
                <a:xfrm>
                  <a:off x="1323360" y="1382400"/>
                  <a:ext cx="22680" cy="100440"/>
                </a:xfrm>
                <a:custGeom>
                  <a:avLst/>
                  <a:gdLst/>
                  <a:ahLst/>
                  <a:rect l="l" t="t" r="r" b="b"/>
                  <a:pathLst>
                    <a:path w="97" h="291">
                      <a:moveTo>
                        <a:pt x="97" y="291"/>
                      </a:moveTo>
                      <a:lnTo>
                        <a:pt x="94" y="148"/>
                      </a:lnTo>
                      <a:lnTo>
                        <a:pt x="69" y="39"/>
                      </a:lnTo>
                      <a:lnTo>
                        <a:pt x="41" y="0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54"/>
                      </a:lnTo>
                      <a:lnTo>
                        <a:pt x="47" y="184"/>
                      </a:lnTo>
                      <a:lnTo>
                        <a:pt x="97" y="29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8" name=""/>
                <p:cNvSpPr/>
                <p:nvPr/>
              </p:nvSpPr>
              <p:spPr>
                <a:xfrm>
                  <a:off x="1356480" y="1179720"/>
                  <a:ext cx="50760" cy="38160"/>
                </a:xfrm>
                <a:custGeom>
                  <a:avLst/>
                  <a:gdLst/>
                  <a:ahLst/>
                  <a:rect l="l" t="t" r="r" b="b"/>
                  <a:pathLst>
                    <a:path w="214" h="111">
                      <a:moveTo>
                        <a:pt x="0" y="72"/>
                      </a:moveTo>
                      <a:lnTo>
                        <a:pt x="42" y="30"/>
                      </a:lnTo>
                      <a:lnTo>
                        <a:pt x="100" y="3"/>
                      </a:lnTo>
                      <a:lnTo>
                        <a:pt x="166" y="0"/>
                      </a:lnTo>
                      <a:lnTo>
                        <a:pt x="214" y="9"/>
                      </a:lnTo>
                      <a:lnTo>
                        <a:pt x="138" y="18"/>
                      </a:lnTo>
                      <a:lnTo>
                        <a:pt x="109" y="36"/>
                      </a:lnTo>
                      <a:lnTo>
                        <a:pt x="81" y="63"/>
                      </a:lnTo>
                      <a:lnTo>
                        <a:pt x="68" y="93"/>
                      </a:lnTo>
                      <a:lnTo>
                        <a:pt x="42" y="111"/>
                      </a:lnTo>
                      <a:lnTo>
                        <a:pt x="1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289" name=""/>
          <p:cNvGrpSpPr/>
          <p:nvPr/>
        </p:nvGrpSpPr>
        <p:grpSpPr>
          <a:xfrm>
            <a:off x="154440" y="1473120"/>
            <a:ext cx="8652960" cy="1363320"/>
            <a:chOff x="154440" y="1473120"/>
            <a:chExt cx="8652960" cy="1363320"/>
          </a:xfrm>
        </p:grpSpPr>
        <p:sp>
          <p:nvSpPr>
            <p:cNvPr id="4290" name=""/>
            <p:cNvSpPr/>
            <p:nvPr/>
          </p:nvSpPr>
          <p:spPr>
            <a:xfrm>
              <a:off x="154440" y="1828800"/>
              <a:ext cx="2175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&lt;postCond&gt;: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3112920" y="1828800"/>
              <a:ext cx="56944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Finds a shortest weighted path 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from 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to each node 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and its length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 rot="5400000">
              <a:off x="952560" y="1434960"/>
              <a:ext cx="457200" cy="533520"/>
            </a:xfrm>
            <a:custGeom>
              <a:avLst/>
              <a:gdLst>
                <a:gd name="textAreaLeft" fmla="*/ 71280 w 457200"/>
                <a:gd name="textAreaRight" fmla="*/ 400320 w 4572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93" name=""/>
          <p:cNvSpPr/>
          <p:nvPr/>
        </p:nvSpPr>
        <p:spPr>
          <a:xfrm>
            <a:off x="-5400" y="152280"/>
            <a:ext cx="136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Desir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4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4" name=""/>
          <p:cNvSpPr/>
          <p:nvPr/>
        </p:nvSpPr>
        <p:spPr>
          <a:xfrm>
            <a:off x="412200" y="3184560"/>
            <a:ext cx="405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o prove path is shortest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5" name=""/>
          <p:cNvSpPr/>
          <p:nvPr/>
        </p:nvSpPr>
        <p:spPr>
          <a:xfrm>
            <a:off x="1300320" y="3657600"/>
            <a:ext cx="549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ve there is a path of this length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6" name=""/>
          <p:cNvSpPr/>
          <p:nvPr/>
        </p:nvSpPr>
        <p:spPr>
          <a:xfrm>
            <a:off x="1361520" y="4175280"/>
            <a:ext cx="511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ve there are no shorter path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7" name=""/>
          <p:cNvSpPr/>
          <p:nvPr/>
        </p:nvSpPr>
        <p:spPr>
          <a:xfrm flipH="1">
            <a:off x="6629400" y="449568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8" name=""/>
          <p:cNvSpPr/>
          <p:nvPr/>
        </p:nvSpPr>
        <p:spPr>
          <a:xfrm>
            <a:off x="7621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'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9" name=""/>
          <p:cNvSpPr/>
          <p:nvPr/>
        </p:nvSpPr>
        <p:spPr>
          <a:xfrm>
            <a:off x="1600200" y="4952880"/>
            <a:ext cx="9067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hen we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handle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we know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re isn't a shorter path to it because 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0" name=""/>
          <p:cNvSpPr/>
          <p:nvPr/>
        </p:nvSpPr>
        <p:spPr>
          <a:xfrm>
            <a:off x="1602720" y="5943600"/>
            <a:ext cx="727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therwise, we would have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handled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t already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1" name=""/>
          <p:cNvSpPr/>
          <p:nvPr/>
        </p:nvSpPr>
        <p:spPr>
          <a:xfrm>
            <a:off x="154440" y="1828800"/>
            <a:ext cx="217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&lt;postCond&gt;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2" name=""/>
          <p:cNvSpPr/>
          <p:nvPr/>
        </p:nvSpPr>
        <p:spPr>
          <a:xfrm>
            <a:off x="3112560" y="1828800"/>
            <a:ext cx="5694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nds a shortest weighted path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rom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to each node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and its length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3" name=""/>
          <p:cNvSpPr/>
          <p:nvPr/>
        </p:nvSpPr>
        <p:spPr>
          <a:xfrm>
            <a:off x="2057400" y="533520"/>
            <a:ext cx="556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 far, the nodes have been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handle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n order of length from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04" name=""/>
          <p:cNvGrpSpPr/>
          <p:nvPr/>
        </p:nvGrpSpPr>
        <p:grpSpPr>
          <a:xfrm>
            <a:off x="609480" y="533520"/>
            <a:ext cx="1181160" cy="1066680"/>
            <a:chOff x="609480" y="533520"/>
            <a:chExt cx="1181160" cy="1066680"/>
          </a:xfrm>
        </p:grpSpPr>
        <p:sp>
          <p:nvSpPr>
            <p:cNvPr id="4305" name=""/>
            <p:cNvSpPr/>
            <p:nvPr/>
          </p:nvSpPr>
          <p:spPr>
            <a:xfrm>
              <a:off x="609480" y="533520"/>
              <a:ext cx="1181160" cy="106668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06" name=""/>
            <p:cNvGrpSpPr/>
            <p:nvPr/>
          </p:nvGrpSpPr>
          <p:grpSpPr>
            <a:xfrm>
              <a:off x="795960" y="622440"/>
              <a:ext cx="629640" cy="860400"/>
              <a:chOff x="795960" y="622440"/>
              <a:chExt cx="629640" cy="860400"/>
            </a:xfrm>
          </p:grpSpPr>
          <p:grpSp>
            <p:nvGrpSpPr>
              <p:cNvPr id="4307" name=""/>
              <p:cNvGrpSpPr/>
              <p:nvPr/>
            </p:nvGrpSpPr>
            <p:grpSpPr>
              <a:xfrm>
                <a:off x="795960" y="622440"/>
                <a:ext cx="592560" cy="842400"/>
                <a:chOff x="795960" y="622440"/>
                <a:chExt cx="592560" cy="842400"/>
              </a:xfrm>
            </p:grpSpPr>
            <p:sp>
              <p:nvSpPr>
                <p:cNvPr id="4308" name=""/>
                <p:cNvSpPr/>
                <p:nvPr/>
              </p:nvSpPr>
              <p:spPr>
                <a:xfrm>
                  <a:off x="991440" y="764640"/>
                  <a:ext cx="102960" cy="177840"/>
                </a:xfrm>
                <a:custGeom>
                  <a:avLst/>
                  <a:gdLst/>
                  <a:ahLst/>
                  <a:rect l="l" t="t" r="r" b="b"/>
                  <a:pathLst>
                    <a:path w="434" h="514">
                      <a:moveTo>
                        <a:pt x="132" y="186"/>
                      </a:moveTo>
                      <a:lnTo>
                        <a:pt x="157" y="114"/>
                      </a:lnTo>
                      <a:lnTo>
                        <a:pt x="189" y="42"/>
                      </a:lnTo>
                      <a:lnTo>
                        <a:pt x="236" y="6"/>
                      </a:lnTo>
                      <a:lnTo>
                        <a:pt x="302" y="0"/>
                      </a:lnTo>
                      <a:lnTo>
                        <a:pt x="355" y="24"/>
                      </a:lnTo>
                      <a:lnTo>
                        <a:pt x="393" y="63"/>
                      </a:lnTo>
                      <a:lnTo>
                        <a:pt x="421" y="135"/>
                      </a:lnTo>
                      <a:lnTo>
                        <a:pt x="434" y="222"/>
                      </a:lnTo>
                      <a:lnTo>
                        <a:pt x="434" y="312"/>
                      </a:lnTo>
                      <a:lnTo>
                        <a:pt x="412" y="411"/>
                      </a:lnTo>
                      <a:lnTo>
                        <a:pt x="355" y="474"/>
                      </a:lnTo>
                      <a:lnTo>
                        <a:pt x="299" y="514"/>
                      </a:lnTo>
                      <a:lnTo>
                        <a:pt x="245" y="510"/>
                      </a:lnTo>
                      <a:lnTo>
                        <a:pt x="198" y="468"/>
                      </a:lnTo>
                      <a:lnTo>
                        <a:pt x="157" y="396"/>
                      </a:lnTo>
                      <a:lnTo>
                        <a:pt x="129" y="333"/>
                      </a:lnTo>
                      <a:lnTo>
                        <a:pt x="129" y="252"/>
                      </a:lnTo>
                      <a:lnTo>
                        <a:pt x="0" y="234"/>
                      </a:lnTo>
                      <a:lnTo>
                        <a:pt x="16" y="189"/>
                      </a:lnTo>
                      <a:lnTo>
                        <a:pt x="132" y="18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9" name=""/>
                <p:cNvSpPr/>
                <p:nvPr/>
              </p:nvSpPr>
              <p:spPr>
                <a:xfrm>
                  <a:off x="1059480" y="622440"/>
                  <a:ext cx="134280" cy="398880"/>
                </a:xfrm>
                <a:custGeom>
                  <a:avLst/>
                  <a:gdLst/>
                  <a:ahLst/>
                  <a:rect l="l" t="t" r="r" b="b"/>
                  <a:pathLst>
                    <a:path w="566" h="1154">
                      <a:moveTo>
                        <a:pt x="13" y="1145"/>
                      </a:moveTo>
                      <a:lnTo>
                        <a:pt x="0" y="1088"/>
                      </a:lnTo>
                      <a:lnTo>
                        <a:pt x="31" y="1042"/>
                      </a:lnTo>
                      <a:lnTo>
                        <a:pt x="134" y="988"/>
                      </a:lnTo>
                      <a:lnTo>
                        <a:pt x="226" y="927"/>
                      </a:lnTo>
                      <a:lnTo>
                        <a:pt x="313" y="827"/>
                      </a:lnTo>
                      <a:lnTo>
                        <a:pt x="432" y="689"/>
                      </a:lnTo>
                      <a:lnTo>
                        <a:pt x="463" y="634"/>
                      </a:lnTo>
                      <a:lnTo>
                        <a:pt x="479" y="580"/>
                      </a:lnTo>
                      <a:lnTo>
                        <a:pt x="472" y="526"/>
                      </a:lnTo>
                      <a:lnTo>
                        <a:pt x="444" y="426"/>
                      </a:lnTo>
                      <a:lnTo>
                        <a:pt x="376" y="299"/>
                      </a:lnTo>
                      <a:lnTo>
                        <a:pt x="301" y="229"/>
                      </a:lnTo>
                      <a:lnTo>
                        <a:pt x="235" y="190"/>
                      </a:lnTo>
                      <a:lnTo>
                        <a:pt x="181" y="184"/>
                      </a:lnTo>
                      <a:lnTo>
                        <a:pt x="153" y="190"/>
                      </a:lnTo>
                      <a:lnTo>
                        <a:pt x="150" y="163"/>
                      </a:lnTo>
                      <a:lnTo>
                        <a:pt x="215" y="154"/>
                      </a:lnTo>
                      <a:lnTo>
                        <a:pt x="291" y="154"/>
                      </a:lnTo>
                      <a:lnTo>
                        <a:pt x="238" y="93"/>
                      </a:lnTo>
                      <a:lnTo>
                        <a:pt x="206" y="45"/>
                      </a:lnTo>
                      <a:lnTo>
                        <a:pt x="229" y="27"/>
                      </a:lnTo>
                      <a:lnTo>
                        <a:pt x="313" y="109"/>
                      </a:lnTo>
                      <a:lnTo>
                        <a:pt x="329" y="121"/>
                      </a:lnTo>
                      <a:lnTo>
                        <a:pt x="313" y="57"/>
                      </a:lnTo>
                      <a:lnTo>
                        <a:pt x="301" y="9"/>
                      </a:lnTo>
                      <a:lnTo>
                        <a:pt x="313" y="0"/>
                      </a:lnTo>
                      <a:lnTo>
                        <a:pt x="341" y="9"/>
                      </a:lnTo>
                      <a:lnTo>
                        <a:pt x="366" y="121"/>
                      </a:lnTo>
                      <a:lnTo>
                        <a:pt x="379" y="118"/>
                      </a:lnTo>
                      <a:lnTo>
                        <a:pt x="379" y="30"/>
                      </a:lnTo>
                      <a:lnTo>
                        <a:pt x="404" y="21"/>
                      </a:lnTo>
                      <a:lnTo>
                        <a:pt x="422" y="36"/>
                      </a:lnTo>
                      <a:lnTo>
                        <a:pt x="413" y="154"/>
                      </a:lnTo>
                      <a:lnTo>
                        <a:pt x="407" y="202"/>
                      </a:lnTo>
                      <a:lnTo>
                        <a:pt x="422" y="299"/>
                      </a:lnTo>
                      <a:lnTo>
                        <a:pt x="472" y="402"/>
                      </a:lnTo>
                      <a:lnTo>
                        <a:pt x="525" y="520"/>
                      </a:lnTo>
                      <a:lnTo>
                        <a:pt x="566" y="607"/>
                      </a:lnTo>
                      <a:lnTo>
                        <a:pt x="563" y="652"/>
                      </a:lnTo>
                      <a:lnTo>
                        <a:pt x="488" y="734"/>
                      </a:lnTo>
                      <a:lnTo>
                        <a:pt x="385" y="836"/>
                      </a:lnTo>
                      <a:lnTo>
                        <a:pt x="301" y="937"/>
                      </a:lnTo>
                      <a:lnTo>
                        <a:pt x="197" y="1070"/>
                      </a:lnTo>
                      <a:lnTo>
                        <a:pt x="112" y="1136"/>
                      </a:lnTo>
                      <a:lnTo>
                        <a:pt x="47" y="1154"/>
                      </a:lnTo>
                      <a:lnTo>
                        <a:pt x="13" y="1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0" name=""/>
                <p:cNvSpPr/>
                <p:nvPr/>
              </p:nvSpPr>
              <p:spPr>
                <a:xfrm>
                  <a:off x="795960" y="994320"/>
                  <a:ext cx="246240" cy="200880"/>
                </a:xfrm>
                <a:custGeom>
                  <a:avLst/>
                  <a:gdLst/>
                  <a:ahLst/>
                  <a:rect l="l" t="t" r="r" b="b"/>
                  <a:pathLst>
                    <a:path w="1037" h="581">
                      <a:moveTo>
                        <a:pt x="210" y="468"/>
                      </a:moveTo>
                      <a:lnTo>
                        <a:pt x="361" y="462"/>
                      </a:lnTo>
                      <a:lnTo>
                        <a:pt x="498" y="444"/>
                      </a:lnTo>
                      <a:lnTo>
                        <a:pt x="583" y="423"/>
                      </a:lnTo>
                      <a:lnTo>
                        <a:pt x="705" y="354"/>
                      </a:lnTo>
                      <a:lnTo>
                        <a:pt x="792" y="288"/>
                      </a:lnTo>
                      <a:lnTo>
                        <a:pt x="906" y="207"/>
                      </a:lnTo>
                      <a:lnTo>
                        <a:pt x="959" y="156"/>
                      </a:lnTo>
                      <a:lnTo>
                        <a:pt x="1000" y="120"/>
                      </a:lnTo>
                      <a:lnTo>
                        <a:pt x="1037" y="81"/>
                      </a:lnTo>
                      <a:lnTo>
                        <a:pt x="1037" y="39"/>
                      </a:lnTo>
                      <a:lnTo>
                        <a:pt x="996" y="0"/>
                      </a:lnTo>
                      <a:lnTo>
                        <a:pt x="971" y="9"/>
                      </a:lnTo>
                      <a:lnTo>
                        <a:pt x="903" y="90"/>
                      </a:lnTo>
                      <a:lnTo>
                        <a:pt x="828" y="183"/>
                      </a:lnTo>
                      <a:lnTo>
                        <a:pt x="752" y="270"/>
                      </a:lnTo>
                      <a:lnTo>
                        <a:pt x="642" y="342"/>
                      </a:lnTo>
                      <a:lnTo>
                        <a:pt x="548" y="390"/>
                      </a:lnTo>
                      <a:lnTo>
                        <a:pt x="445" y="414"/>
                      </a:lnTo>
                      <a:lnTo>
                        <a:pt x="301" y="417"/>
                      </a:lnTo>
                      <a:lnTo>
                        <a:pt x="216" y="417"/>
                      </a:lnTo>
                      <a:lnTo>
                        <a:pt x="144" y="363"/>
                      </a:lnTo>
                      <a:lnTo>
                        <a:pt x="125" y="327"/>
                      </a:lnTo>
                      <a:lnTo>
                        <a:pt x="94" y="327"/>
                      </a:lnTo>
                      <a:lnTo>
                        <a:pt x="116" y="372"/>
                      </a:lnTo>
                      <a:lnTo>
                        <a:pt x="150" y="414"/>
                      </a:lnTo>
                      <a:lnTo>
                        <a:pt x="66" y="396"/>
                      </a:lnTo>
                      <a:lnTo>
                        <a:pt x="3" y="387"/>
                      </a:lnTo>
                      <a:lnTo>
                        <a:pt x="3" y="405"/>
                      </a:lnTo>
                      <a:lnTo>
                        <a:pt x="59" y="417"/>
                      </a:lnTo>
                      <a:lnTo>
                        <a:pt x="97" y="441"/>
                      </a:lnTo>
                      <a:lnTo>
                        <a:pt x="131" y="444"/>
                      </a:lnTo>
                      <a:lnTo>
                        <a:pt x="78" y="462"/>
                      </a:lnTo>
                      <a:lnTo>
                        <a:pt x="0" y="481"/>
                      </a:lnTo>
                      <a:lnTo>
                        <a:pt x="3" y="499"/>
                      </a:lnTo>
                      <a:lnTo>
                        <a:pt x="28" y="505"/>
                      </a:lnTo>
                      <a:lnTo>
                        <a:pt x="103" y="481"/>
                      </a:lnTo>
                      <a:lnTo>
                        <a:pt x="150" y="477"/>
                      </a:lnTo>
                      <a:lnTo>
                        <a:pt x="122" y="505"/>
                      </a:lnTo>
                      <a:lnTo>
                        <a:pt x="78" y="550"/>
                      </a:lnTo>
                      <a:lnTo>
                        <a:pt x="59" y="562"/>
                      </a:lnTo>
                      <a:lnTo>
                        <a:pt x="75" y="581"/>
                      </a:lnTo>
                      <a:lnTo>
                        <a:pt x="113" y="559"/>
                      </a:lnTo>
                      <a:lnTo>
                        <a:pt x="163" y="514"/>
                      </a:lnTo>
                      <a:lnTo>
                        <a:pt x="210" y="46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1" name=""/>
                <p:cNvSpPr/>
                <p:nvPr/>
              </p:nvSpPr>
              <p:spPr>
                <a:xfrm>
                  <a:off x="1022760" y="973800"/>
                  <a:ext cx="144360" cy="276480"/>
                </a:xfrm>
                <a:custGeom>
                  <a:avLst/>
                  <a:gdLst/>
                  <a:ahLst/>
                  <a:rect l="l" t="t" r="r" b="b"/>
                  <a:pathLst>
                    <a:path w="608" h="800">
                      <a:moveTo>
                        <a:pt x="38" y="90"/>
                      </a:moveTo>
                      <a:lnTo>
                        <a:pt x="63" y="27"/>
                      </a:lnTo>
                      <a:lnTo>
                        <a:pt x="104" y="0"/>
                      </a:lnTo>
                      <a:lnTo>
                        <a:pt x="141" y="0"/>
                      </a:lnTo>
                      <a:lnTo>
                        <a:pt x="179" y="18"/>
                      </a:lnTo>
                      <a:lnTo>
                        <a:pt x="216" y="54"/>
                      </a:lnTo>
                      <a:lnTo>
                        <a:pt x="235" y="117"/>
                      </a:lnTo>
                      <a:lnTo>
                        <a:pt x="245" y="180"/>
                      </a:lnTo>
                      <a:lnTo>
                        <a:pt x="263" y="243"/>
                      </a:lnTo>
                      <a:lnTo>
                        <a:pt x="298" y="312"/>
                      </a:lnTo>
                      <a:lnTo>
                        <a:pt x="357" y="384"/>
                      </a:lnTo>
                      <a:lnTo>
                        <a:pt x="415" y="432"/>
                      </a:lnTo>
                      <a:lnTo>
                        <a:pt x="499" y="468"/>
                      </a:lnTo>
                      <a:lnTo>
                        <a:pt x="571" y="522"/>
                      </a:lnTo>
                      <a:lnTo>
                        <a:pt x="608" y="577"/>
                      </a:lnTo>
                      <a:lnTo>
                        <a:pt x="602" y="622"/>
                      </a:lnTo>
                      <a:lnTo>
                        <a:pt x="593" y="676"/>
                      </a:lnTo>
                      <a:lnTo>
                        <a:pt x="565" y="712"/>
                      </a:lnTo>
                      <a:lnTo>
                        <a:pt x="518" y="757"/>
                      </a:lnTo>
                      <a:lnTo>
                        <a:pt x="449" y="790"/>
                      </a:lnTo>
                      <a:lnTo>
                        <a:pt x="396" y="800"/>
                      </a:lnTo>
                      <a:lnTo>
                        <a:pt x="320" y="784"/>
                      </a:lnTo>
                      <a:lnTo>
                        <a:pt x="251" y="748"/>
                      </a:lnTo>
                      <a:lnTo>
                        <a:pt x="179" y="694"/>
                      </a:lnTo>
                      <a:lnTo>
                        <a:pt x="129" y="631"/>
                      </a:lnTo>
                      <a:lnTo>
                        <a:pt x="82" y="550"/>
                      </a:lnTo>
                      <a:lnTo>
                        <a:pt x="44" y="456"/>
                      </a:lnTo>
                      <a:lnTo>
                        <a:pt x="19" y="375"/>
                      </a:lnTo>
                      <a:lnTo>
                        <a:pt x="7" y="297"/>
                      </a:lnTo>
                      <a:lnTo>
                        <a:pt x="0" y="189"/>
                      </a:lnTo>
                      <a:lnTo>
                        <a:pt x="19" y="117"/>
                      </a:lnTo>
                      <a:lnTo>
                        <a:pt x="38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2" name=""/>
                <p:cNvSpPr/>
                <p:nvPr/>
              </p:nvSpPr>
              <p:spPr>
                <a:xfrm>
                  <a:off x="1140840" y="1091880"/>
                  <a:ext cx="247680" cy="250920"/>
                </a:xfrm>
                <a:custGeom>
                  <a:avLst/>
                  <a:gdLst/>
                  <a:ahLst/>
                  <a:rect l="l" t="t" r="r" b="b"/>
                  <a:pathLst>
                    <a:path w="1043" h="726">
                      <a:moveTo>
                        <a:pt x="116" y="230"/>
                      </a:moveTo>
                      <a:lnTo>
                        <a:pt x="216" y="147"/>
                      </a:lnTo>
                      <a:lnTo>
                        <a:pt x="338" y="72"/>
                      </a:lnTo>
                      <a:lnTo>
                        <a:pt x="417" y="27"/>
                      </a:lnTo>
                      <a:lnTo>
                        <a:pt x="479" y="12"/>
                      </a:lnTo>
                      <a:lnTo>
                        <a:pt x="529" y="0"/>
                      </a:lnTo>
                      <a:lnTo>
                        <a:pt x="573" y="18"/>
                      </a:lnTo>
                      <a:lnTo>
                        <a:pt x="601" y="75"/>
                      </a:lnTo>
                      <a:lnTo>
                        <a:pt x="620" y="230"/>
                      </a:lnTo>
                      <a:lnTo>
                        <a:pt x="620" y="416"/>
                      </a:lnTo>
                      <a:lnTo>
                        <a:pt x="620" y="536"/>
                      </a:lnTo>
                      <a:lnTo>
                        <a:pt x="642" y="609"/>
                      </a:lnTo>
                      <a:lnTo>
                        <a:pt x="686" y="597"/>
                      </a:lnTo>
                      <a:lnTo>
                        <a:pt x="717" y="552"/>
                      </a:lnTo>
                      <a:lnTo>
                        <a:pt x="779" y="500"/>
                      </a:lnTo>
                      <a:lnTo>
                        <a:pt x="876" y="470"/>
                      </a:lnTo>
                      <a:lnTo>
                        <a:pt x="943" y="470"/>
                      </a:lnTo>
                      <a:lnTo>
                        <a:pt x="1043" y="488"/>
                      </a:lnTo>
                      <a:lnTo>
                        <a:pt x="1037" y="524"/>
                      </a:lnTo>
                      <a:lnTo>
                        <a:pt x="1015" y="555"/>
                      </a:lnTo>
                      <a:lnTo>
                        <a:pt x="981" y="561"/>
                      </a:lnTo>
                      <a:lnTo>
                        <a:pt x="943" y="542"/>
                      </a:lnTo>
                      <a:lnTo>
                        <a:pt x="886" y="518"/>
                      </a:lnTo>
                      <a:lnTo>
                        <a:pt x="829" y="518"/>
                      </a:lnTo>
                      <a:lnTo>
                        <a:pt x="754" y="564"/>
                      </a:lnTo>
                      <a:lnTo>
                        <a:pt x="708" y="633"/>
                      </a:lnTo>
                      <a:lnTo>
                        <a:pt x="698" y="690"/>
                      </a:lnTo>
                      <a:lnTo>
                        <a:pt x="679" y="726"/>
                      </a:lnTo>
                      <a:lnTo>
                        <a:pt x="604" y="723"/>
                      </a:lnTo>
                      <a:lnTo>
                        <a:pt x="601" y="669"/>
                      </a:lnTo>
                      <a:lnTo>
                        <a:pt x="576" y="591"/>
                      </a:lnTo>
                      <a:lnTo>
                        <a:pt x="567" y="509"/>
                      </a:lnTo>
                      <a:lnTo>
                        <a:pt x="573" y="401"/>
                      </a:lnTo>
                      <a:lnTo>
                        <a:pt x="564" y="248"/>
                      </a:lnTo>
                      <a:lnTo>
                        <a:pt x="558" y="147"/>
                      </a:lnTo>
                      <a:lnTo>
                        <a:pt x="539" y="111"/>
                      </a:lnTo>
                      <a:lnTo>
                        <a:pt x="501" y="75"/>
                      </a:lnTo>
                      <a:lnTo>
                        <a:pt x="461" y="75"/>
                      </a:lnTo>
                      <a:lnTo>
                        <a:pt x="403" y="111"/>
                      </a:lnTo>
                      <a:lnTo>
                        <a:pt x="328" y="181"/>
                      </a:lnTo>
                      <a:lnTo>
                        <a:pt x="235" y="272"/>
                      </a:lnTo>
                      <a:lnTo>
                        <a:pt x="141" y="356"/>
                      </a:lnTo>
                      <a:lnTo>
                        <a:pt x="94" y="383"/>
                      </a:lnTo>
                      <a:lnTo>
                        <a:pt x="38" y="383"/>
                      </a:lnTo>
                      <a:lnTo>
                        <a:pt x="0" y="344"/>
                      </a:lnTo>
                      <a:lnTo>
                        <a:pt x="3" y="281"/>
                      </a:lnTo>
                      <a:lnTo>
                        <a:pt x="41" y="248"/>
                      </a:lnTo>
                      <a:lnTo>
                        <a:pt x="84" y="239"/>
                      </a:lnTo>
                      <a:lnTo>
                        <a:pt x="116" y="23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3" name=""/>
                <p:cNvSpPr/>
                <p:nvPr/>
              </p:nvSpPr>
              <p:spPr>
                <a:xfrm>
                  <a:off x="1127520" y="1201320"/>
                  <a:ext cx="169200" cy="263520"/>
                </a:xfrm>
                <a:custGeom>
                  <a:avLst/>
                  <a:gdLst/>
                  <a:ahLst/>
                  <a:rect l="l" t="t" r="r" b="b"/>
                  <a:pathLst>
                    <a:path w="713" h="762">
                      <a:moveTo>
                        <a:pt x="0" y="64"/>
                      </a:moveTo>
                      <a:lnTo>
                        <a:pt x="22" y="16"/>
                      </a:lnTo>
                      <a:lnTo>
                        <a:pt x="69" y="0"/>
                      </a:lnTo>
                      <a:lnTo>
                        <a:pt x="134" y="7"/>
                      </a:lnTo>
                      <a:lnTo>
                        <a:pt x="150" y="52"/>
                      </a:lnTo>
                      <a:lnTo>
                        <a:pt x="125" y="227"/>
                      </a:lnTo>
                      <a:lnTo>
                        <a:pt x="122" y="360"/>
                      </a:lnTo>
                      <a:lnTo>
                        <a:pt x="116" y="435"/>
                      </a:lnTo>
                      <a:lnTo>
                        <a:pt x="116" y="450"/>
                      </a:lnTo>
                      <a:lnTo>
                        <a:pt x="131" y="524"/>
                      </a:lnTo>
                      <a:lnTo>
                        <a:pt x="172" y="536"/>
                      </a:lnTo>
                      <a:lnTo>
                        <a:pt x="225" y="524"/>
                      </a:lnTo>
                      <a:lnTo>
                        <a:pt x="303" y="481"/>
                      </a:lnTo>
                      <a:lnTo>
                        <a:pt x="387" y="460"/>
                      </a:lnTo>
                      <a:lnTo>
                        <a:pt x="482" y="444"/>
                      </a:lnTo>
                      <a:lnTo>
                        <a:pt x="585" y="432"/>
                      </a:lnTo>
                      <a:lnTo>
                        <a:pt x="660" y="432"/>
                      </a:lnTo>
                      <a:lnTo>
                        <a:pt x="694" y="441"/>
                      </a:lnTo>
                      <a:lnTo>
                        <a:pt x="713" y="463"/>
                      </a:lnTo>
                      <a:lnTo>
                        <a:pt x="704" y="496"/>
                      </a:lnTo>
                      <a:lnTo>
                        <a:pt x="657" y="524"/>
                      </a:lnTo>
                      <a:lnTo>
                        <a:pt x="613" y="563"/>
                      </a:lnTo>
                      <a:lnTo>
                        <a:pt x="572" y="618"/>
                      </a:lnTo>
                      <a:lnTo>
                        <a:pt x="547" y="663"/>
                      </a:lnTo>
                      <a:lnTo>
                        <a:pt x="526" y="708"/>
                      </a:lnTo>
                      <a:lnTo>
                        <a:pt x="510" y="762"/>
                      </a:lnTo>
                      <a:lnTo>
                        <a:pt x="488" y="762"/>
                      </a:lnTo>
                      <a:lnTo>
                        <a:pt x="469" y="741"/>
                      </a:lnTo>
                      <a:lnTo>
                        <a:pt x="462" y="681"/>
                      </a:lnTo>
                      <a:lnTo>
                        <a:pt x="507" y="627"/>
                      </a:lnTo>
                      <a:lnTo>
                        <a:pt x="566" y="563"/>
                      </a:lnTo>
                      <a:lnTo>
                        <a:pt x="622" y="515"/>
                      </a:lnTo>
                      <a:lnTo>
                        <a:pt x="647" y="499"/>
                      </a:lnTo>
                      <a:lnTo>
                        <a:pt x="657" y="478"/>
                      </a:lnTo>
                      <a:lnTo>
                        <a:pt x="632" y="463"/>
                      </a:lnTo>
                      <a:lnTo>
                        <a:pt x="547" y="463"/>
                      </a:lnTo>
                      <a:lnTo>
                        <a:pt x="440" y="481"/>
                      </a:lnTo>
                      <a:lnTo>
                        <a:pt x="356" y="509"/>
                      </a:lnTo>
                      <a:lnTo>
                        <a:pt x="265" y="560"/>
                      </a:lnTo>
                      <a:lnTo>
                        <a:pt x="187" y="596"/>
                      </a:lnTo>
                      <a:lnTo>
                        <a:pt x="103" y="599"/>
                      </a:lnTo>
                      <a:lnTo>
                        <a:pt x="69" y="587"/>
                      </a:lnTo>
                      <a:lnTo>
                        <a:pt x="50" y="542"/>
                      </a:lnTo>
                      <a:lnTo>
                        <a:pt x="37" y="478"/>
                      </a:lnTo>
                      <a:lnTo>
                        <a:pt x="31" y="360"/>
                      </a:lnTo>
                      <a:lnTo>
                        <a:pt x="19" y="151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4" name=""/>
              <p:cNvGrpSpPr/>
              <p:nvPr/>
            </p:nvGrpSpPr>
            <p:grpSpPr>
              <a:xfrm>
                <a:off x="1323360" y="1179720"/>
                <a:ext cx="102240" cy="303120"/>
                <a:chOff x="1323360" y="1179720"/>
                <a:chExt cx="102240" cy="303120"/>
              </a:xfrm>
            </p:grpSpPr>
            <p:sp>
              <p:nvSpPr>
                <p:cNvPr id="4315" name=""/>
                <p:cNvSpPr/>
                <p:nvPr/>
              </p:nvSpPr>
              <p:spPr>
                <a:xfrm>
                  <a:off x="1344960" y="1348560"/>
                  <a:ext cx="80640" cy="37440"/>
                </a:xfrm>
                <a:custGeom>
                  <a:avLst/>
                  <a:gdLst/>
                  <a:ahLst/>
                  <a:rect l="l" t="t" r="r" b="b"/>
                  <a:pathLst>
                    <a:path w="340" h="109">
                      <a:moveTo>
                        <a:pt x="340" y="109"/>
                      </a:moveTo>
                      <a:lnTo>
                        <a:pt x="165" y="30"/>
                      </a:lnTo>
                      <a:lnTo>
                        <a:pt x="48" y="0"/>
                      </a:lnTo>
                      <a:lnTo>
                        <a:pt x="10" y="0"/>
                      </a:lnTo>
                      <a:lnTo>
                        <a:pt x="0" y="27"/>
                      </a:lnTo>
                      <a:lnTo>
                        <a:pt x="22" y="48"/>
                      </a:lnTo>
                      <a:lnTo>
                        <a:pt x="70" y="54"/>
                      </a:lnTo>
                      <a:lnTo>
                        <a:pt x="184" y="75"/>
                      </a:lnTo>
                      <a:lnTo>
                        <a:pt x="340" y="10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6" name=""/>
                <p:cNvSpPr/>
                <p:nvPr/>
              </p:nvSpPr>
              <p:spPr>
                <a:xfrm>
                  <a:off x="1323360" y="1382400"/>
                  <a:ext cx="22680" cy="100440"/>
                </a:xfrm>
                <a:custGeom>
                  <a:avLst/>
                  <a:gdLst/>
                  <a:ahLst/>
                  <a:rect l="l" t="t" r="r" b="b"/>
                  <a:pathLst>
                    <a:path w="97" h="291">
                      <a:moveTo>
                        <a:pt x="97" y="291"/>
                      </a:moveTo>
                      <a:lnTo>
                        <a:pt x="94" y="148"/>
                      </a:lnTo>
                      <a:lnTo>
                        <a:pt x="69" y="39"/>
                      </a:lnTo>
                      <a:lnTo>
                        <a:pt x="41" y="0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54"/>
                      </a:lnTo>
                      <a:lnTo>
                        <a:pt x="47" y="184"/>
                      </a:lnTo>
                      <a:lnTo>
                        <a:pt x="97" y="29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7" name=""/>
                <p:cNvSpPr/>
                <p:nvPr/>
              </p:nvSpPr>
              <p:spPr>
                <a:xfrm>
                  <a:off x="1356480" y="1179720"/>
                  <a:ext cx="50760" cy="38160"/>
                </a:xfrm>
                <a:custGeom>
                  <a:avLst/>
                  <a:gdLst/>
                  <a:ahLst/>
                  <a:rect l="l" t="t" r="r" b="b"/>
                  <a:pathLst>
                    <a:path w="214" h="111">
                      <a:moveTo>
                        <a:pt x="0" y="72"/>
                      </a:moveTo>
                      <a:lnTo>
                        <a:pt x="42" y="30"/>
                      </a:lnTo>
                      <a:lnTo>
                        <a:pt x="100" y="3"/>
                      </a:lnTo>
                      <a:lnTo>
                        <a:pt x="166" y="0"/>
                      </a:lnTo>
                      <a:lnTo>
                        <a:pt x="214" y="9"/>
                      </a:lnTo>
                      <a:lnTo>
                        <a:pt x="138" y="18"/>
                      </a:lnTo>
                      <a:lnTo>
                        <a:pt x="109" y="36"/>
                      </a:lnTo>
                      <a:lnTo>
                        <a:pt x="81" y="63"/>
                      </a:lnTo>
                      <a:lnTo>
                        <a:pt x="68" y="93"/>
                      </a:lnTo>
                      <a:lnTo>
                        <a:pt x="42" y="111"/>
                      </a:lnTo>
                      <a:lnTo>
                        <a:pt x="1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318" name=""/>
          <p:cNvSpPr/>
          <p:nvPr/>
        </p:nvSpPr>
        <p:spPr>
          <a:xfrm rot="5400000">
            <a:off x="952560" y="1434960"/>
            <a:ext cx="457200" cy="533520"/>
          </a:xfrm>
          <a:custGeom>
            <a:avLst/>
            <a:gdLst>
              <a:gd name="textAreaLeft" fmla="*/ 71280 w 457200"/>
              <a:gd name="textAreaRight" fmla="*/ 400320 w 4572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4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"/>
          <p:cNvSpPr/>
          <p:nvPr/>
        </p:nvSpPr>
        <p:spPr>
          <a:xfrm>
            <a:off x="7621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'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0" name=""/>
          <p:cNvSpPr/>
          <p:nvPr/>
        </p:nvSpPr>
        <p:spPr>
          <a:xfrm>
            <a:off x="1553760" y="1035000"/>
            <a:ext cx="694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Handle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node that “seems” to be closest to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1" name=""/>
          <p:cNvSpPr/>
          <p:nvPr/>
        </p:nvSpPr>
        <p:spPr>
          <a:xfrm>
            <a:off x="770040" y="1889280"/>
            <a:ext cx="8242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eed to keep approximate shortest distanc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th that we have “seen so far” will be called</a:t>
            </a:r>
            <a:br>
              <a:rPr sz="3000"/>
            </a:b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handle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path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length of the shortest such path to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22" name=""/>
          <p:cNvGrpSpPr/>
          <p:nvPr/>
        </p:nvGrpSpPr>
        <p:grpSpPr>
          <a:xfrm>
            <a:off x="765360" y="593640"/>
            <a:ext cx="2052360" cy="1086840"/>
            <a:chOff x="765360" y="593640"/>
            <a:chExt cx="2052360" cy="1086840"/>
          </a:xfrm>
        </p:grpSpPr>
        <p:sp>
          <p:nvSpPr>
            <p:cNvPr id="4323" name=""/>
            <p:cNvSpPr/>
            <p:nvPr/>
          </p:nvSpPr>
          <p:spPr>
            <a:xfrm>
              <a:off x="765360" y="593640"/>
              <a:ext cx="2052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9900"/>
                  </a:solidFill>
                  <a:latin typeface="Times New Roman"/>
                </a:rPr>
                <a:t>Basic Steps: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24" name=""/>
            <p:cNvGrpSpPr/>
            <p:nvPr/>
          </p:nvGrpSpPr>
          <p:grpSpPr>
            <a:xfrm>
              <a:off x="835200" y="939240"/>
              <a:ext cx="691560" cy="741240"/>
              <a:chOff x="835200" y="939240"/>
              <a:chExt cx="691560" cy="741240"/>
            </a:xfrm>
          </p:grpSpPr>
          <p:sp>
            <p:nvSpPr>
              <p:cNvPr id="4325" name=""/>
              <p:cNvSpPr/>
              <p:nvPr/>
            </p:nvSpPr>
            <p:spPr>
              <a:xfrm rot="21255000">
                <a:off x="1183320" y="1018800"/>
                <a:ext cx="140760" cy="11664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 rot="21255000">
                <a:off x="1135080" y="1164240"/>
                <a:ext cx="144720" cy="26064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 rot="21255000">
                <a:off x="1236960" y="1377720"/>
                <a:ext cx="281520" cy="17964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 rot="19838400">
                <a:off x="848160" y="1433880"/>
                <a:ext cx="401760" cy="15840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 rot="21255000">
                <a:off x="1040040" y="950400"/>
                <a:ext cx="164160" cy="29160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 rot="21255000">
                <a:off x="1236240" y="949320"/>
                <a:ext cx="214920" cy="24336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31" name=""/>
          <p:cNvGrpSpPr/>
          <p:nvPr/>
        </p:nvGrpSpPr>
        <p:grpSpPr>
          <a:xfrm>
            <a:off x="1863720" y="4114800"/>
            <a:ext cx="6670800" cy="2437560"/>
            <a:chOff x="1863720" y="4114800"/>
            <a:chExt cx="6670800" cy="2437560"/>
          </a:xfrm>
        </p:grpSpPr>
        <p:sp>
          <p:nvSpPr>
            <p:cNvPr id="4332" name=""/>
            <p:cNvSpPr/>
            <p:nvPr/>
          </p:nvSpPr>
          <p:spPr>
            <a:xfrm>
              <a:off x="4191120" y="5905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4078440" y="541656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2209680" y="5508720"/>
              <a:ext cx="1981440" cy="538200"/>
            </a:xfrm>
            <a:custGeom>
              <a:avLst/>
              <a:gdLst/>
              <a:ahLst/>
              <a:rect l="l" t="t" r="r" b="b"/>
              <a:pathLst>
                <a:path w="1248" h="339">
                  <a:moveTo>
                    <a:pt x="0" y="0"/>
                  </a:moveTo>
                  <a:cubicBezTo>
                    <a:pt x="57" y="48"/>
                    <a:pt x="205" y="273"/>
                    <a:pt x="344" y="288"/>
                  </a:cubicBezTo>
                  <a:cubicBezTo>
                    <a:pt x="470" y="339"/>
                    <a:pt x="681" y="88"/>
                    <a:pt x="832" y="88"/>
                  </a:cubicBezTo>
                  <a:cubicBezTo>
                    <a:pt x="983" y="88"/>
                    <a:pt x="1161" y="246"/>
                    <a:pt x="1248" y="288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4800600" y="54640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4872240" y="518148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2139840" y="5432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1863720" y="5051520"/>
              <a:ext cx="328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2222640" y="5178600"/>
              <a:ext cx="2590560" cy="349200"/>
            </a:xfrm>
            <a:custGeom>
              <a:avLst/>
              <a:gdLst/>
              <a:ahLst/>
              <a:rect l="l" t="t" r="r" b="b"/>
              <a:pathLst>
                <a:path w="1632" h="220">
                  <a:moveTo>
                    <a:pt x="0" y="208"/>
                  </a:moveTo>
                  <a:cubicBezTo>
                    <a:pt x="87" y="173"/>
                    <a:pt x="349" y="4"/>
                    <a:pt x="520" y="0"/>
                  </a:cubicBezTo>
                  <a:cubicBezTo>
                    <a:pt x="646" y="51"/>
                    <a:pt x="839" y="148"/>
                    <a:pt x="1024" y="184"/>
                  </a:cubicBezTo>
                  <a:cubicBezTo>
                    <a:pt x="1209" y="220"/>
                    <a:pt x="1505" y="209"/>
                    <a:pt x="1632" y="216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40" name=""/>
            <p:cNvGrpSpPr/>
            <p:nvPr/>
          </p:nvGrpSpPr>
          <p:grpSpPr>
            <a:xfrm>
              <a:off x="5258520" y="5029200"/>
              <a:ext cx="837360" cy="1523160"/>
              <a:chOff x="5258520" y="5029200"/>
              <a:chExt cx="837360" cy="1523160"/>
            </a:xfrm>
          </p:grpSpPr>
          <p:grpSp>
            <p:nvGrpSpPr>
              <p:cNvPr id="4341" name=""/>
              <p:cNvGrpSpPr/>
              <p:nvPr/>
            </p:nvGrpSpPr>
            <p:grpSpPr>
              <a:xfrm>
                <a:off x="5258520" y="5146560"/>
                <a:ext cx="837360" cy="1405800"/>
                <a:chOff x="5258520" y="5146560"/>
                <a:chExt cx="837360" cy="1405800"/>
              </a:xfrm>
            </p:grpSpPr>
            <p:sp>
              <p:nvSpPr>
                <p:cNvPr id="4342" name=""/>
                <p:cNvSpPr/>
                <p:nvPr/>
              </p:nvSpPr>
              <p:spPr>
                <a:xfrm flipH="1">
                  <a:off x="5502600" y="5225400"/>
                  <a:ext cx="326520" cy="306360"/>
                </a:xfrm>
                <a:custGeom>
                  <a:avLst/>
                  <a:gdLst/>
                  <a:ahLst/>
                  <a:rect l="l" t="t" r="r" b="b"/>
                  <a:pathLst>
                    <a:path w="601" h="667">
                      <a:moveTo>
                        <a:pt x="313" y="154"/>
                      </a:moveTo>
                      <a:lnTo>
                        <a:pt x="260" y="85"/>
                      </a:lnTo>
                      <a:lnTo>
                        <a:pt x="187" y="34"/>
                      </a:lnTo>
                      <a:lnTo>
                        <a:pt x="121" y="0"/>
                      </a:lnTo>
                      <a:lnTo>
                        <a:pt x="68" y="9"/>
                      </a:lnTo>
                      <a:lnTo>
                        <a:pt x="30" y="47"/>
                      </a:lnTo>
                      <a:lnTo>
                        <a:pt x="0" y="163"/>
                      </a:lnTo>
                      <a:lnTo>
                        <a:pt x="12" y="296"/>
                      </a:lnTo>
                      <a:lnTo>
                        <a:pt x="43" y="423"/>
                      </a:lnTo>
                      <a:lnTo>
                        <a:pt x="78" y="522"/>
                      </a:lnTo>
                      <a:lnTo>
                        <a:pt x="143" y="625"/>
                      </a:lnTo>
                      <a:lnTo>
                        <a:pt x="200" y="667"/>
                      </a:lnTo>
                      <a:lnTo>
                        <a:pt x="278" y="667"/>
                      </a:lnTo>
                      <a:lnTo>
                        <a:pt x="356" y="638"/>
                      </a:lnTo>
                      <a:lnTo>
                        <a:pt x="396" y="564"/>
                      </a:lnTo>
                      <a:lnTo>
                        <a:pt x="417" y="471"/>
                      </a:lnTo>
                      <a:lnTo>
                        <a:pt x="409" y="355"/>
                      </a:lnTo>
                      <a:lnTo>
                        <a:pt x="592" y="368"/>
                      </a:lnTo>
                      <a:lnTo>
                        <a:pt x="601" y="317"/>
                      </a:lnTo>
                      <a:lnTo>
                        <a:pt x="392" y="296"/>
                      </a:lnTo>
                      <a:lnTo>
                        <a:pt x="339" y="176"/>
                      </a:lnTo>
                      <a:lnTo>
                        <a:pt x="313" y="15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3" name=""/>
                <p:cNvSpPr/>
                <p:nvPr/>
              </p:nvSpPr>
              <p:spPr>
                <a:xfrm flipH="1">
                  <a:off x="5717880" y="5146560"/>
                  <a:ext cx="377640" cy="491760"/>
                </a:xfrm>
                <a:custGeom>
                  <a:avLst/>
                  <a:gdLst/>
                  <a:ahLst/>
                  <a:rect l="l" t="t" r="r" b="b"/>
                  <a:pathLst>
                    <a:path w="692" h="1069">
                      <a:moveTo>
                        <a:pt x="403" y="25"/>
                      </a:moveTo>
                      <a:lnTo>
                        <a:pt x="490" y="0"/>
                      </a:lnTo>
                      <a:lnTo>
                        <a:pt x="560" y="4"/>
                      </a:lnTo>
                      <a:lnTo>
                        <a:pt x="613" y="42"/>
                      </a:lnTo>
                      <a:lnTo>
                        <a:pt x="648" y="102"/>
                      </a:lnTo>
                      <a:lnTo>
                        <a:pt x="635" y="165"/>
                      </a:lnTo>
                      <a:lnTo>
                        <a:pt x="586" y="165"/>
                      </a:lnTo>
                      <a:lnTo>
                        <a:pt x="599" y="114"/>
                      </a:lnTo>
                      <a:lnTo>
                        <a:pt x="560" y="68"/>
                      </a:lnTo>
                      <a:lnTo>
                        <a:pt x="522" y="51"/>
                      </a:lnTo>
                      <a:lnTo>
                        <a:pt x="456" y="68"/>
                      </a:lnTo>
                      <a:lnTo>
                        <a:pt x="482" y="119"/>
                      </a:lnTo>
                      <a:lnTo>
                        <a:pt x="490" y="165"/>
                      </a:lnTo>
                      <a:lnTo>
                        <a:pt x="482" y="205"/>
                      </a:lnTo>
                      <a:lnTo>
                        <a:pt x="417" y="222"/>
                      </a:lnTo>
                      <a:lnTo>
                        <a:pt x="347" y="209"/>
                      </a:lnTo>
                      <a:lnTo>
                        <a:pt x="334" y="179"/>
                      </a:lnTo>
                      <a:lnTo>
                        <a:pt x="260" y="260"/>
                      </a:lnTo>
                      <a:lnTo>
                        <a:pt x="217" y="350"/>
                      </a:lnTo>
                      <a:lnTo>
                        <a:pt x="156" y="465"/>
                      </a:lnTo>
                      <a:lnTo>
                        <a:pt x="117" y="568"/>
                      </a:lnTo>
                      <a:lnTo>
                        <a:pt x="100" y="667"/>
                      </a:lnTo>
                      <a:lnTo>
                        <a:pt x="113" y="718"/>
                      </a:lnTo>
                      <a:lnTo>
                        <a:pt x="182" y="783"/>
                      </a:lnTo>
                      <a:lnTo>
                        <a:pt x="326" y="838"/>
                      </a:lnTo>
                      <a:lnTo>
                        <a:pt x="403" y="863"/>
                      </a:lnTo>
                      <a:lnTo>
                        <a:pt x="482" y="876"/>
                      </a:lnTo>
                      <a:lnTo>
                        <a:pt x="599" y="923"/>
                      </a:lnTo>
                      <a:lnTo>
                        <a:pt x="686" y="954"/>
                      </a:lnTo>
                      <a:lnTo>
                        <a:pt x="692" y="1013"/>
                      </a:lnTo>
                      <a:lnTo>
                        <a:pt x="648" y="1056"/>
                      </a:lnTo>
                      <a:lnTo>
                        <a:pt x="596" y="1069"/>
                      </a:lnTo>
                      <a:lnTo>
                        <a:pt x="517" y="1030"/>
                      </a:lnTo>
                      <a:lnTo>
                        <a:pt x="334" y="936"/>
                      </a:lnTo>
                      <a:lnTo>
                        <a:pt x="182" y="872"/>
                      </a:lnTo>
                      <a:lnTo>
                        <a:pt x="77" y="800"/>
                      </a:lnTo>
                      <a:lnTo>
                        <a:pt x="8" y="735"/>
                      </a:lnTo>
                      <a:lnTo>
                        <a:pt x="0" y="658"/>
                      </a:lnTo>
                      <a:lnTo>
                        <a:pt x="38" y="555"/>
                      </a:lnTo>
                      <a:lnTo>
                        <a:pt x="117" y="401"/>
                      </a:lnTo>
                      <a:lnTo>
                        <a:pt x="190" y="273"/>
                      </a:lnTo>
                      <a:lnTo>
                        <a:pt x="282" y="140"/>
                      </a:lnTo>
                      <a:lnTo>
                        <a:pt x="352" y="63"/>
                      </a:lnTo>
                      <a:lnTo>
                        <a:pt x="439" y="25"/>
                      </a:lnTo>
                      <a:lnTo>
                        <a:pt x="403" y="2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4" name=""/>
                <p:cNvSpPr/>
                <p:nvPr/>
              </p:nvSpPr>
              <p:spPr>
                <a:xfrm flipH="1">
                  <a:off x="5542920" y="5554080"/>
                  <a:ext cx="197640" cy="462600"/>
                </a:xfrm>
                <a:custGeom>
                  <a:avLst/>
                  <a:gdLst/>
                  <a:ahLst/>
                  <a:rect l="l" t="t" r="r" b="b"/>
                  <a:pathLst>
                    <a:path w="362" h="1004">
                      <a:moveTo>
                        <a:pt x="22" y="78"/>
                      </a:moveTo>
                      <a:lnTo>
                        <a:pt x="36" y="27"/>
                      </a:lnTo>
                      <a:lnTo>
                        <a:pt x="92" y="0"/>
                      </a:lnTo>
                      <a:lnTo>
                        <a:pt x="143" y="0"/>
                      </a:lnTo>
                      <a:lnTo>
                        <a:pt x="209" y="39"/>
                      </a:lnTo>
                      <a:lnTo>
                        <a:pt x="271" y="129"/>
                      </a:lnTo>
                      <a:lnTo>
                        <a:pt x="314" y="223"/>
                      </a:lnTo>
                      <a:lnTo>
                        <a:pt x="335" y="350"/>
                      </a:lnTo>
                      <a:lnTo>
                        <a:pt x="354" y="500"/>
                      </a:lnTo>
                      <a:lnTo>
                        <a:pt x="362" y="645"/>
                      </a:lnTo>
                      <a:lnTo>
                        <a:pt x="362" y="833"/>
                      </a:lnTo>
                      <a:lnTo>
                        <a:pt x="335" y="949"/>
                      </a:lnTo>
                      <a:lnTo>
                        <a:pt x="288" y="991"/>
                      </a:lnTo>
                      <a:lnTo>
                        <a:pt x="205" y="1004"/>
                      </a:lnTo>
                      <a:lnTo>
                        <a:pt x="118" y="1001"/>
                      </a:lnTo>
                      <a:lnTo>
                        <a:pt x="74" y="949"/>
                      </a:lnTo>
                      <a:lnTo>
                        <a:pt x="49" y="860"/>
                      </a:lnTo>
                      <a:lnTo>
                        <a:pt x="26" y="770"/>
                      </a:lnTo>
                      <a:lnTo>
                        <a:pt x="9" y="607"/>
                      </a:lnTo>
                      <a:lnTo>
                        <a:pt x="0" y="424"/>
                      </a:lnTo>
                      <a:lnTo>
                        <a:pt x="0" y="210"/>
                      </a:lnTo>
                      <a:lnTo>
                        <a:pt x="22" y="116"/>
                      </a:lnTo>
                      <a:lnTo>
                        <a:pt x="22" y="7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5" name=""/>
                <p:cNvSpPr/>
                <p:nvPr/>
              </p:nvSpPr>
              <p:spPr>
                <a:xfrm flipH="1">
                  <a:off x="5348520" y="5566320"/>
                  <a:ext cx="300600" cy="354600"/>
                </a:xfrm>
                <a:custGeom>
                  <a:avLst/>
                  <a:gdLst/>
                  <a:ahLst/>
                  <a:rect l="l" t="t" r="r" b="b"/>
                  <a:pathLst>
                    <a:path w="553" h="771">
                      <a:moveTo>
                        <a:pt x="30" y="0"/>
                      </a:moveTo>
                      <a:lnTo>
                        <a:pt x="143" y="13"/>
                      </a:lnTo>
                      <a:lnTo>
                        <a:pt x="261" y="34"/>
                      </a:lnTo>
                      <a:lnTo>
                        <a:pt x="383" y="103"/>
                      </a:lnTo>
                      <a:lnTo>
                        <a:pt x="470" y="154"/>
                      </a:lnTo>
                      <a:lnTo>
                        <a:pt x="526" y="228"/>
                      </a:lnTo>
                      <a:lnTo>
                        <a:pt x="553" y="270"/>
                      </a:lnTo>
                      <a:lnTo>
                        <a:pt x="500" y="395"/>
                      </a:lnTo>
                      <a:lnTo>
                        <a:pt x="417" y="471"/>
                      </a:lnTo>
                      <a:lnTo>
                        <a:pt x="317" y="526"/>
                      </a:lnTo>
                      <a:lnTo>
                        <a:pt x="265" y="561"/>
                      </a:lnTo>
                      <a:lnTo>
                        <a:pt x="174" y="578"/>
                      </a:lnTo>
                      <a:lnTo>
                        <a:pt x="170" y="612"/>
                      </a:lnTo>
                      <a:lnTo>
                        <a:pt x="240" y="642"/>
                      </a:lnTo>
                      <a:lnTo>
                        <a:pt x="339" y="669"/>
                      </a:lnTo>
                      <a:lnTo>
                        <a:pt x="434" y="720"/>
                      </a:lnTo>
                      <a:lnTo>
                        <a:pt x="396" y="758"/>
                      </a:lnTo>
                      <a:lnTo>
                        <a:pt x="357" y="771"/>
                      </a:lnTo>
                      <a:lnTo>
                        <a:pt x="300" y="715"/>
                      </a:lnTo>
                      <a:lnTo>
                        <a:pt x="213" y="680"/>
                      </a:lnTo>
                      <a:lnTo>
                        <a:pt x="143" y="655"/>
                      </a:lnTo>
                      <a:lnTo>
                        <a:pt x="143" y="604"/>
                      </a:lnTo>
                      <a:lnTo>
                        <a:pt x="157" y="549"/>
                      </a:lnTo>
                      <a:lnTo>
                        <a:pt x="200" y="526"/>
                      </a:lnTo>
                      <a:lnTo>
                        <a:pt x="339" y="471"/>
                      </a:lnTo>
                      <a:lnTo>
                        <a:pt x="417" y="386"/>
                      </a:lnTo>
                      <a:lnTo>
                        <a:pt x="474" y="296"/>
                      </a:lnTo>
                      <a:lnTo>
                        <a:pt x="461" y="253"/>
                      </a:lnTo>
                      <a:lnTo>
                        <a:pt x="417" y="201"/>
                      </a:lnTo>
                      <a:lnTo>
                        <a:pt x="313" y="129"/>
                      </a:lnTo>
                      <a:lnTo>
                        <a:pt x="187" y="103"/>
                      </a:lnTo>
                      <a:lnTo>
                        <a:pt x="104" y="99"/>
                      </a:lnTo>
                      <a:lnTo>
                        <a:pt x="30" y="99"/>
                      </a:lnTo>
                      <a:lnTo>
                        <a:pt x="0" y="51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6" name=""/>
                <p:cNvSpPr/>
                <p:nvPr/>
              </p:nvSpPr>
              <p:spPr>
                <a:xfrm flipH="1">
                  <a:off x="5258520" y="5969520"/>
                  <a:ext cx="366480" cy="573120"/>
                </a:xfrm>
                <a:custGeom>
                  <a:avLst/>
                  <a:gdLst/>
                  <a:ahLst/>
                  <a:rect l="l" t="t" r="r" b="b"/>
                  <a:pathLst>
                    <a:path w="672" h="1246">
                      <a:moveTo>
                        <a:pt x="77" y="0"/>
                      </a:moveTo>
                      <a:lnTo>
                        <a:pt x="17" y="0"/>
                      </a:lnTo>
                      <a:lnTo>
                        <a:pt x="0" y="89"/>
                      </a:lnTo>
                      <a:lnTo>
                        <a:pt x="43" y="142"/>
                      </a:lnTo>
                      <a:lnTo>
                        <a:pt x="182" y="266"/>
                      </a:lnTo>
                      <a:lnTo>
                        <a:pt x="305" y="424"/>
                      </a:lnTo>
                      <a:lnTo>
                        <a:pt x="384" y="587"/>
                      </a:lnTo>
                      <a:lnTo>
                        <a:pt x="395" y="693"/>
                      </a:lnTo>
                      <a:lnTo>
                        <a:pt x="392" y="771"/>
                      </a:lnTo>
                      <a:lnTo>
                        <a:pt x="357" y="946"/>
                      </a:lnTo>
                      <a:lnTo>
                        <a:pt x="313" y="1088"/>
                      </a:lnTo>
                      <a:lnTo>
                        <a:pt x="274" y="1170"/>
                      </a:lnTo>
                      <a:lnTo>
                        <a:pt x="265" y="1221"/>
                      </a:lnTo>
                      <a:lnTo>
                        <a:pt x="305" y="1221"/>
                      </a:lnTo>
                      <a:lnTo>
                        <a:pt x="365" y="1204"/>
                      </a:lnTo>
                      <a:lnTo>
                        <a:pt x="384" y="1208"/>
                      </a:lnTo>
                      <a:lnTo>
                        <a:pt x="510" y="1216"/>
                      </a:lnTo>
                      <a:lnTo>
                        <a:pt x="606" y="1246"/>
                      </a:lnTo>
                      <a:lnTo>
                        <a:pt x="640" y="1229"/>
                      </a:lnTo>
                      <a:lnTo>
                        <a:pt x="672" y="1164"/>
                      </a:lnTo>
                      <a:lnTo>
                        <a:pt x="640" y="1130"/>
                      </a:lnTo>
                      <a:lnTo>
                        <a:pt x="497" y="1126"/>
                      </a:lnTo>
                      <a:lnTo>
                        <a:pt x="395" y="1139"/>
                      </a:lnTo>
                      <a:lnTo>
                        <a:pt x="344" y="1164"/>
                      </a:lnTo>
                      <a:lnTo>
                        <a:pt x="352" y="1105"/>
                      </a:lnTo>
                      <a:lnTo>
                        <a:pt x="405" y="1014"/>
                      </a:lnTo>
                      <a:lnTo>
                        <a:pt x="448" y="874"/>
                      </a:lnTo>
                      <a:lnTo>
                        <a:pt x="484" y="754"/>
                      </a:lnTo>
                      <a:lnTo>
                        <a:pt x="457" y="617"/>
                      </a:lnTo>
                      <a:lnTo>
                        <a:pt x="418" y="471"/>
                      </a:lnTo>
                      <a:lnTo>
                        <a:pt x="339" y="304"/>
                      </a:lnTo>
                      <a:lnTo>
                        <a:pt x="226" y="150"/>
                      </a:lnTo>
                      <a:lnTo>
                        <a:pt x="130" y="38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7" name=""/>
                <p:cNvSpPr/>
                <p:nvPr/>
              </p:nvSpPr>
              <p:spPr>
                <a:xfrm flipH="1">
                  <a:off x="5608800" y="5968440"/>
                  <a:ext cx="246960" cy="583920"/>
                </a:xfrm>
                <a:custGeom>
                  <a:avLst/>
                  <a:gdLst/>
                  <a:ahLst/>
                  <a:rect l="l" t="t" r="r" b="b"/>
                  <a:pathLst>
                    <a:path w="453" h="1270">
                      <a:moveTo>
                        <a:pt x="313" y="0"/>
                      </a:moveTo>
                      <a:lnTo>
                        <a:pt x="257" y="120"/>
                      </a:lnTo>
                      <a:lnTo>
                        <a:pt x="217" y="295"/>
                      </a:lnTo>
                      <a:lnTo>
                        <a:pt x="170" y="488"/>
                      </a:lnTo>
                      <a:lnTo>
                        <a:pt x="127" y="684"/>
                      </a:lnTo>
                      <a:lnTo>
                        <a:pt x="127" y="757"/>
                      </a:lnTo>
                      <a:lnTo>
                        <a:pt x="170" y="886"/>
                      </a:lnTo>
                      <a:lnTo>
                        <a:pt x="230" y="954"/>
                      </a:lnTo>
                      <a:lnTo>
                        <a:pt x="287" y="1040"/>
                      </a:lnTo>
                      <a:lnTo>
                        <a:pt x="327" y="1103"/>
                      </a:lnTo>
                      <a:lnTo>
                        <a:pt x="309" y="1133"/>
                      </a:lnTo>
                      <a:lnTo>
                        <a:pt x="209" y="1146"/>
                      </a:lnTo>
                      <a:lnTo>
                        <a:pt x="48" y="1171"/>
                      </a:lnTo>
                      <a:lnTo>
                        <a:pt x="0" y="1211"/>
                      </a:lnTo>
                      <a:lnTo>
                        <a:pt x="40" y="1245"/>
                      </a:lnTo>
                      <a:lnTo>
                        <a:pt x="131" y="1270"/>
                      </a:lnTo>
                      <a:lnTo>
                        <a:pt x="236" y="1219"/>
                      </a:lnTo>
                      <a:lnTo>
                        <a:pt x="313" y="1184"/>
                      </a:lnTo>
                      <a:lnTo>
                        <a:pt x="413" y="1171"/>
                      </a:lnTo>
                      <a:lnTo>
                        <a:pt x="453" y="1159"/>
                      </a:lnTo>
                      <a:lnTo>
                        <a:pt x="440" y="1116"/>
                      </a:lnTo>
                      <a:lnTo>
                        <a:pt x="327" y="1006"/>
                      </a:lnTo>
                      <a:lnTo>
                        <a:pt x="261" y="890"/>
                      </a:lnTo>
                      <a:lnTo>
                        <a:pt x="204" y="812"/>
                      </a:lnTo>
                      <a:lnTo>
                        <a:pt x="196" y="736"/>
                      </a:lnTo>
                      <a:lnTo>
                        <a:pt x="223" y="608"/>
                      </a:lnTo>
                      <a:lnTo>
                        <a:pt x="283" y="475"/>
                      </a:lnTo>
                      <a:lnTo>
                        <a:pt x="349" y="249"/>
                      </a:lnTo>
                      <a:lnTo>
                        <a:pt x="405" y="116"/>
                      </a:lnTo>
                      <a:lnTo>
                        <a:pt x="400" y="38"/>
                      </a:lnTo>
                      <a:lnTo>
                        <a:pt x="349" y="0"/>
                      </a:lnTo>
                      <a:lnTo>
                        <a:pt x="31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8" name=""/>
              <p:cNvGrpSpPr/>
              <p:nvPr/>
            </p:nvGrpSpPr>
            <p:grpSpPr>
              <a:xfrm>
                <a:off x="5440320" y="5029200"/>
                <a:ext cx="151560" cy="172440"/>
                <a:chOff x="5440320" y="5029200"/>
                <a:chExt cx="151560" cy="172440"/>
              </a:xfrm>
            </p:grpSpPr>
            <p:sp>
              <p:nvSpPr>
                <p:cNvPr id="4349" name=""/>
                <p:cNvSpPr/>
                <p:nvPr/>
              </p:nvSpPr>
              <p:spPr>
                <a:xfrm flipH="1">
                  <a:off x="5440320" y="5029200"/>
                  <a:ext cx="122400" cy="120240"/>
                </a:xfrm>
                <a:custGeom>
                  <a:avLst/>
                  <a:gdLst/>
                  <a:ahLst/>
                  <a:rect l="l" t="t" r="r" b="b"/>
                  <a:pathLst>
                    <a:path w="224" h="260">
                      <a:moveTo>
                        <a:pt x="27" y="11"/>
                      </a:moveTo>
                      <a:lnTo>
                        <a:pt x="87" y="0"/>
                      </a:lnTo>
                      <a:lnTo>
                        <a:pt x="145" y="4"/>
                      </a:lnTo>
                      <a:lnTo>
                        <a:pt x="198" y="29"/>
                      </a:lnTo>
                      <a:lnTo>
                        <a:pt x="224" y="76"/>
                      </a:lnTo>
                      <a:lnTo>
                        <a:pt x="224" y="114"/>
                      </a:lnTo>
                      <a:lnTo>
                        <a:pt x="198" y="165"/>
                      </a:lnTo>
                      <a:lnTo>
                        <a:pt x="153" y="196"/>
                      </a:lnTo>
                      <a:lnTo>
                        <a:pt x="87" y="196"/>
                      </a:lnTo>
                      <a:lnTo>
                        <a:pt x="48" y="221"/>
                      </a:lnTo>
                      <a:lnTo>
                        <a:pt x="34" y="260"/>
                      </a:lnTo>
                      <a:lnTo>
                        <a:pt x="0" y="247"/>
                      </a:lnTo>
                      <a:lnTo>
                        <a:pt x="13" y="196"/>
                      </a:lnTo>
                      <a:lnTo>
                        <a:pt x="61" y="165"/>
                      </a:lnTo>
                      <a:lnTo>
                        <a:pt x="140" y="158"/>
                      </a:lnTo>
                      <a:lnTo>
                        <a:pt x="171" y="127"/>
                      </a:lnTo>
                      <a:lnTo>
                        <a:pt x="179" y="80"/>
                      </a:lnTo>
                      <a:lnTo>
                        <a:pt x="145" y="38"/>
                      </a:lnTo>
                      <a:lnTo>
                        <a:pt x="92" y="38"/>
                      </a:lnTo>
                      <a:lnTo>
                        <a:pt x="34" y="51"/>
                      </a:lnTo>
                      <a:lnTo>
                        <a:pt x="13" y="38"/>
                      </a:lnTo>
                      <a:lnTo>
                        <a:pt x="27" y="1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0" name=""/>
                <p:cNvSpPr/>
                <p:nvPr/>
              </p:nvSpPr>
              <p:spPr>
                <a:xfrm flipH="1">
                  <a:off x="5554440" y="5168520"/>
                  <a:ext cx="37080" cy="33120"/>
                </a:xfrm>
                <a:custGeom>
                  <a:avLst/>
                  <a:gdLst/>
                  <a:ahLst/>
                  <a:rect l="l" t="t" r="r" b="b"/>
                  <a:pathLst>
                    <a:path w="70" h="71">
                      <a:moveTo>
                        <a:pt x="70" y="4"/>
                      </a:moveTo>
                      <a:lnTo>
                        <a:pt x="35" y="0"/>
                      </a:lnTo>
                      <a:lnTo>
                        <a:pt x="11" y="26"/>
                      </a:lnTo>
                      <a:lnTo>
                        <a:pt x="0" y="67"/>
                      </a:lnTo>
                      <a:lnTo>
                        <a:pt x="35" y="71"/>
                      </a:lnTo>
                      <a:lnTo>
                        <a:pt x="63" y="52"/>
                      </a:lnTo>
                      <a:lnTo>
                        <a:pt x="70" y="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51" name=""/>
            <p:cNvSpPr/>
            <p:nvPr/>
          </p:nvSpPr>
          <p:spPr>
            <a:xfrm>
              <a:off x="6172200" y="4114800"/>
              <a:ext cx="2362320" cy="1371600"/>
            </a:xfrm>
            <a:prstGeom prst="cloudCallout">
              <a:avLst>
                <a:gd name="adj1" fmla="val -55777"/>
                <a:gd name="adj2" fmla="val 26504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Which is further?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4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"/>
          <p:cNvSpPr/>
          <p:nvPr/>
        </p:nvSpPr>
        <p:spPr>
          <a:xfrm>
            <a:off x="765360" y="593640"/>
            <a:ext cx="205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Basic Step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53" name=""/>
          <p:cNvGrpSpPr/>
          <p:nvPr/>
        </p:nvGrpSpPr>
        <p:grpSpPr>
          <a:xfrm>
            <a:off x="312120" y="3251160"/>
            <a:ext cx="4761720" cy="1747440"/>
            <a:chOff x="312120" y="3251160"/>
            <a:chExt cx="4761720" cy="1747440"/>
          </a:xfrm>
        </p:grpSpPr>
        <p:sp>
          <p:nvSpPr>
            <p:cNvPr id="4354" name=""/>
            <p:cNvSpPr/>
            <p:nvPr/>
          </p:nvSpPr>
          <p:spPr>
            <a:xfrm>
              <a:off x="4495680" y="3740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4383000" y="325116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2514240" y="3343320"/>
              <a:ext cx="1981440" cy="537840"/>
            </a:xfrm>
            <a:custGeom>
              <a:avLst/>
              <a:gdLst/>
              <a:ahLst/>
              <a:rect l="l" t="t" r="r" b="b"/>
              <a:pathLst>
                <a:path w="1248" h="339">
                  <a:moveTo>
                    <a:pt x="0" y="0"/>
                  </a:moveTo>
                  <a:cubicBezTo>
                    <a:pt x="57" y="48"/>
                    <a:pt x="205" y="273"/>
                    <a:pt x="344" y="288"/>
                  </a:cubicBezTo>
                  <a:cubicBezTo>
                    <a:pt x="470" y="339"/>
                    <a:pt x="681" y="88"/>
                    <a:pt x="832" y="88"/>
                  </a:cubicBezTo>
                  <a:cubicBezTo>
                    <a:pt x="983" y="88"/>
                    <a:pt x="1161" y="246"/>
                    <a:pt x="1248" y="288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312120" y="3990960"/>
              <a:ext cx="47617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The shortest of </a:t>
              </a: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handled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paths 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to 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has length </a:t>
              </a:r>
              <a:r>
                <a:rPr b="0" i="1" lang="en-US" sz="3000" spc="-1" strike="noStrike">
                  <a:solidFill>
                    <a:srgbClr val="33cc33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33cc33"/>
                  </a:solidFill>
                  <a:latin typeface="Times New Roman"/>
                </a:rPr>
                <a:t>(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n-US" sz="3000" spc="-1" strike="noStrike">
                  <a:solidFill>
                    <a:srgbClr val="33cc33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58" name=""/>
          <p:cNvSpPr/>
          <p:nvPr/>
        </p:nvSpPr>
        <p:spPr>
          <a:xfrm>
            <a:off x="7621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'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59" name=""/>
          <p:cNvGrpSpPr/>
          <p:nvPr/>
        </p:nvGrpSpPr>
        <p:grpSpPr>
          <a:xfrm>
            <a:off x="4597560" y="3441600"/>
            <a:ext cx="3476160" cy="1557000"/>
            <a:chOff x="4597560" y="3441600"/>
            <a:chExt cx="3476160" cy="1557000"/>
          </a:xfrm>
        </p:grpSpPr>
        <p:sp>
          <p:nvSpPr>
            <p:cNvPr id="4360" name=""/>
            <p:cNvSpPr/>
            <p:nvPr/>
          </p:nvSpPr>
          <p:spPr>
            <a:xfrm>
              <a:off x="4597560" y="3457800"/>
              <a:ext cx="584280" cy="355320"/>
            </a:xfrm>
            <a:custGeom>
              <a:avLst/>
              <a:gdLst/>
              <a:ahLst/>
              <a:rect l="l" t="t" r="r" b="b"/>
              <a:pathLst>
                <a:path w="368" h="224">
                  <a:moveTo>
                    <a:pt x="0" y="224"/>
                  </a:moveTo>
                  <a:lnTo>
                    <a:pt x="368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5024880" y="3990960"/>
              <a:ext cx="304884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&amp; there is an edge 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from 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to 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4916160" y="3441600"/>
              <a:ext cx="9486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9900"/>
                  </a:solidFill>
                  <a:latin typeface="Times New Roman"/>
                </a:rPr>
                <a:t>w</a:t>
              </a:r>
              <a:r>
                <a:rPr b="0" lang="en-US" sz="3000" spc="-1" strike="noStrike" baseline="-25000">
                  <a:solidFill>
                    <a:srgbClr val="ff9900"/>
                  </a:solidFill>
                  <a:latin typeface="Times New Roman"/>
                </a:rPr>
                <a:t>&lt;</a:t>
              </a:r>
              <a:r>
                <a:rPr b="0" i="1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i="1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en-US" sz="3000" spc="-1" strike="noStrike" baseline="-25000">
                  <a:solidFill>
                    <a:srgbClr val="ff99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63" name=""/>
          <p:cNvGrpSpPr/>
          <p:nvPr/>
        </p:nvGrpSpPr>
        <p:grpSpPr>
          <a:xfrm>
            <a:off x="2168280" y="2085840"/>
            <a:ext cx="5785560" cy="1525680"/>
            <a:chOff x="2168280" y="2085840"/>
            <a:chExt cx="5785560" cy="1525680"/>
          </a:xfrm>
        </p:grpSpPr>
        <p:sp>
          <p:nvSpPr>
            <p:cNvPr id="4364" name=""/>
            <p:cNvSpPr/>
            <p:nvPr/>
          </p:nvSpPr>
          <p:spPr>
            <a:xfrm>
              <a:off x="5187960" y="3343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5266080" y="3060720"/>
              <a:ext cx="349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2444760" y="3267000"/>
              <a:ext cx="152280" cy="152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2168280" y="2886120"/>
              <a:ext cx="328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2527200" y="3013200"/>
              <a:ext cx="2590920" cy="349200"/>
            </a:xfrm>
            <a:custGeom>
              <a:avLst/>
              <a:gdLst/>
              <a:ahLst/>
              <a:rect l="l" t="t" r="r" b="b"/>
              <a:pathLst>
                <a:path w="1632" h="220">
                  <a:moveTo>
                    <a:pt x="0" y="208"/>
                  </a:moveTo>
                  <a:cubicBezTo>
                    <a:pt x="87" y="173"/>
                    <a:pt x="349" y="4"/>
                    <a:pt x="520" y="0"/>
                  </a:cubicBezTo>
                  <a:cubicBezTo>
                    <a:pt x="646" y="51"/>
                    <a:pt x="839" y="148"/>
                    <a:pt x="1024" y="184"/>
                  </a:cubicBezTo>
                  <a:cubicBezTo>
                    <a:pt x="1209" y="220"/>
                    <a:pt x="1505" y="209"/>
                    <a:pt x="1632" y="216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3192120" y="2085840"/>
              <a:ext cx="47617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The shortest of </a:t>
              </a: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handled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paths 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to 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has length </a:t>
              </a:r>
              <a:r>
                <a:rPr b="0" i="1" lang="en-US" sz="3000" spc="-1" strike="noStrike">
                  <a:solidFill>
                    <a:srgbClr val="33cc33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33cc33"/>
                  </a:solidFill>
                  <a:latin typeface="Times New Roman"/>
                </a:rPr>
                <a:t>(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en-US" sz="3000" spc="-1" strike="noStrike">
                  <a:solidFill>
                    <a:srgbClr val="33cc33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0" name=""/>
          <p:cNvSpPr/>
          <p:nvPr/>
        </p:nvSpPr>
        <p:spPr>
          <a:xfrm>
            <a:off x="1671480" y="5149800"/>
            <a:ext cx="630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shortest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know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path to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has lengt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1" name=""/>
          <p:cNvSpPr/>
          <p:nvPr/>
        </p:nvSpPr>
        <p:spPr>
          <a:xfrm>
            <a:off x="2799360" y="5699160"/>
            <a:ext cx="3734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in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, </a:t>
            </a: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+</a:t>
            </a:r>
            <a:r>
              <a:rPr b="0" i="1" lang="en-US" sz="3000" spc="-1" strike="noStrike">
                <a:solidFill>
                  <a:srgbClr val="ff9900"/>
                </a:solidFill>
                <a:latin typeface="Times New Roman"/>
              </a:rPr>
              <a:t>w</a:t>
            </a:r>
            <a:r>
              <a:rPr b="0" lang="en-US" sz="3000" spc="-1" strike="noStrike" baseline="-25000">
                <a:solidFill>
                  <a:srgbClr val="ff9900"/>
                </a:solidFill>
                <a:latin typeface="Times New Roman"/>
              </a:rPr>
              <a:t>&lt;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 baseline="-25000">
                <a:solidFill>
                  <a:srgbClr val="ff99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2" name=""/>
          <p:cNvSpPr/>
          <p:nvPr/>
        </p:nvSpPr>
        <p:spPr>
          <a:xfrm>
            <a:off x="1549800" y="1035000"/>
            <a:ext cx="252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pdating </a:t>
            </a: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.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73" name=""/>
          <p:cNvGrpSpPr/>
          <p:nvPr/>
        </p:nvGrpSpPr>
        <p:grpSpPr>
          <a:xfrm>
            <a:off x="835200" y="939240"/>
            <a:ext cx="691560" cy="741240"/>
            <a:chOff x="835200" y="939240"/>
            <a:chExt cx="691560" cy="741240"/>
          </a:xfrm>
        </p:grpSpPr>
        <p:sp>
          <p:nvSpPr>
            <p:cNvPr id="4374" name=""/>
            <p:cNvSpPr/>
            <p:nvPr/>
          </p:nvSpPr>
          <p:spPr>
            <a:xfrm rot="21255000">
              <a:off x="1183320" y="1018800"/>
              <a:ext cx="140760" cy="116640"/>
            </a:xfrm>
            <a:custGeom>
              <a:avLst/>
              <a:gdLst/>
              <a:ahLst/>
              <a:rect l="l" t="t" r="r" b="b"/>
              <a:pathLst>
                <a:path w="600" h="608">
                  <a:moveTo>
                    <a:pt x="388" y="289"/>
                  </a:moveTo>
                  <a:lnTo>
                    <a:pt x="372" y="177"/>
                  </a:lnTo>
                  <a:lnTo>
                    <a:pt x="341" y="78"/>
                  </a:lnTo>
                  <a:lnTo>
                    <a:pt x="284" y="24"/>
                  </a:lnTo>
                  <a:lnTo>
                    <a:pt x="185" y="0"/>
                  </a:lnTo>
                  <a:lnTo>
                    <a:pt x="100" y="24"/>
                  </a:lnTo>
                  <a:lnTo>
                    <a:pt x="19" y="123"/>
                  </a:lnTo>
                  <a:lnTo>
                    <a:pt x="0" y="243"/>
                  </a:lnTo>
                  <a:lnTo>
                    <a:pt x="19" y="370"/>
                  </a:lnTo>
                  <a:lnTo>
                    <a:pt x="50" y="447"/>
                  </a:lnTo>
                  <a:lnTo>
                    <a:pt x="88" y="528"/>
                  </a:lnTo>
                  <a:lnTo>
                    <a:pt x="130" y="582"/>
                  </a:lnTo>
                  <a:lnTo>
                    <a:pt x="177" y="608"/>
                  </a:lnTo>
                  <a:lnTo>
                    <a:pt x="242" y="585"/>
                  </a:lnTo>
                  <a:lnTo>
                    <a:pt x="307" y="531"/>
                  </a:lnTo>
                  <a:lnTo>
                    <a:pt x="349" y="455"/>
                  </a:lnTo>
                  <a:lnTo>
                    <a:pt x="388" y="390"/>
                  </a:lnTo>
                  <a:lnTo>
                    <a:pt x="400" y="351"/>
                  </a:lnTo>
                  <a:lnTo>
                    <a:pt x="565" y="293"/>
                  </a:lnTo>
                  <a:lnTo>
                    <a:pt x="600" y="270"/>
                  </a:lnTo>
                  <a:lnTo>
                    <a:pt x="580" y="235"/>
                  </a:lnTo>
                  <a:lnTo>
                    <a:pt x="388" y="28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 rot="21255000">
              <a:off x="1135080" y="1164240"/>
              <a:ext cx="144720" cy="260640"/>
            </a:xfrm>
            <a:custGeom>
              <a:avLst/>
              <a:gdLst/>
              <a:ahLst/>
              <a:rect l="l" t="t" r="r" b="b"/>
              <a:pathLst>
                <a:path w="619" h="1085">
                  <a:moveTo>
                    <a:pt x="208" y="161"/>
                  </a:moveTo>
                  <a:lnTo>
                    <a:pt x="284" y="80"/>
                  </a:lnTo>
                  <a:lnTo>
                    <a:pt x="411" y="3"/>
                  </a:lnTo>
                  <a:lnTo>
                    <a:pt x="469" y="0"/>
                  </a:lnTo>
                  <a:lnTo>
                    <a:pt x="573" y="34"/>
                  </a:lnTo>
                  <a:lnTo>
                    <a:pt x="619" y="85"/>
                  </a:lnTo>
                  <a:lnTo>
                    <a:pt x="619" y="161"/>
                  </a:lnTo>
                  <a:lnTo>
                    <a:pt x="542" y="304"/>
                  </a:lnTo>
                  <a:lnTo>
                    <a:pt x="458" y="415"/>
                  </a:lnTo>
                  <a:lnTo>
                    <a:pt x="422" y="508"/>
                  </a:lnTo>
                  <a:lnTo>
                    <a:pt x="399" y="615"/>
                  </a:lnTo>
                  <a:lnTo>
                    <a:pt x="422" y="719"/>
                  </a:lnTo>
                  <a:lnTo>
                    <a:pt x="445" y="820"/>
                  </a:lnTo>
                  <a:lnTo>
                    <a:pt x="445" y="935"/>
                  </a:lnTo>
                  <a:lnTo>
                    <a:pt x="411" y="1005"/>
                  </a:lnTo>
                  <a:lnTo>
                    <a:pt x="334" y="1043"/>
                  </a:lnTo>
                  <a:lnTo>
                    <a:pt x="242" y="1085"/>
                  </a:lnTo>
                  <a:lnTo>
                    <a:pt x="157" y="1085"/>
                  </a:lnTo>
                  <a:lnTo>
                    <a:pt x="100" y="1054"/>
                  </a:lnTo>
                  <a:lnTo>
                    <a:pt x="23" y="927"/>
                  </a:lnTo>
                  <a:lnTo>
                    <a:pt x="0" y="797"/>
                  </a:lnTo>
                  <a:lnTo>
                    <a:pt x="8" y="628"/>
                  </a:lnTo>
                  <a:lnTo>
                    <a:pt x="65" y="415"/>
                  </a:lnTo>
                  <a:lnTo>
                    <a:pt x="123" y="277"/>
                  </a:lnTo>
                  <a:lnTo>
                    <a:pt x="208" y="1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 rot="21255000">
              <a:off x="1236960" y="1377720"/>
              <a:ext cx="281520" cy="179640"/>
            </a:xfrm>
            <a:custGeom>
              <a:avLst/>
              <a:gdLst/>
              <a:ahLst/>
              <a:rect l="l" t="t" r="r" b="b"/>
              <a:pathLst>
                <a:path w="782" h="808">
                  <a:moveTo>
                    <a:pt x="0" y="76"/>
                  </a:moveTo>
                  <a:lnTo>
                    <a:pt x="66" y="0"/>
                  </a:lnTo>
                  <a:lnTo>
                    <a:pt x="163" y="0"/>
                  </a:lnTo>
                  <a:lnTo>
                    <a:pt x="343" y="19"/>
                  </a:lnTo>
                  <a:lnTo>
                    <a:pt x="555" y="30"/>
                  </a:lnTo>
                  <a:lnTo>
                    <a:pt x="636" y="65"/>
                  </a:lnTo>
                  <a:lnTo>
                    <a:pt x="670" y="110"/>
                  </a:lnTo>
                  <a:lnTo>
                    <a:pt x="678" y="180"/>
                  </a:lnTo>
                  <a:lnTo>
                    <a:pt x="654" y="253"/>
                  </a:lnTo>
                  <a:lnTo>
                    <a:pt x="589" y="365"/>
                  </a:lnTo>
                  <a:lnTo>
                    <a:pt x="504" y="457"/>
                  </a:lnTo>
                  <a:lnTo>
                    <a:pt x="439" y="541"/>
                  </a:lnTo>
                  <a:lnTo>
                    <a:pt x="412" y="607"/>
                  </a:lnTo>
                  <a:lnTo>
                    <a:pt x="393" y="653"/>
                  </a:lnTo>
                  <a:lnTo>
                    <a:pt x="400" y="689"/>
                  </a:lnTo>
                  <a:lnTo>
                    <a:pt x="405" y="711"/>
                  </a:lnTo>
                  <a:lnTo>
                    <a:pt x="482" y="711"/>
                  </a:lnTo>
                  <a:lnTo>
                    <a:pt x="601" y="692"/>
                  </a:lnTo>
                  <a:lnTo>
                    <a:pt x="678" y="692"/>
                  </a:lnTo>
                  <a:lnTo>
                    <a:pt x="758" y="723"/>
                  </a:lnTo>
                  <a:lnTo>
                    <a:pt x="782" y="761"/>
                  </a:lnTo>
                  <a:lnTo>
                    <a:pt x="758" y="796"/>
                  </a:lnTo>
                  <a:lnTo>
                    <a:pt x="724" y="808"/>
                  </a:lnTo>
                  <a:lnTo>
                    <a:pt x="670" y="792"/>
                  </a:lnTo>
                  <a:lnTo>
                    <a:pt x="597" y="749"/>
                  </a:lnTo>
                  <a:lnTo>
                    <a:pt x="520" y="757"/>
                  </a:lnTo>
                  <a:lnTo>
                    <a:pt x="393" y="780"/>
                  </a:lnTo>
                  <a:lnTo>
                    <a:pt x="355" y="773"/>
                  </a:lnTo>
                  <a:lnTo>
                    <a:pt x="335" y="746"/>
                  </a:lnTo>
                  <a:lnTo>
                    <a:pt x="335" y="681"/>
                  </a:lnTo>
                  <a:lnTo>
                    <a:pt x="335" y="588"/>
                  </a:lnTo>
                  <a:lnTo>
                    <a:pt x="389" y="518"/>
                  </a:lnTo>
                  <a:lnTo>
                    <a:pt x="470" y="414"/>
                  </a:lnTo>
                  <a:lnTo>
                    <a:pt x="540" y="323"/>
                  </a:lnTo>
                  <a:lnTo>
                    <a:pt x="586" y="253"/>
                  </a:lnTo>
                  <a:lnTo>
                    <a:pt x="609" y="192"/>
                  </a:lnTo>
                  <a:lnTo>
                    <a:pt x="597" y="157"/>
                  </a:lnTo>
                  <a:lnTo>
                    <a:pt x="566" y="115"/>
                  </a:lnTo>
                  <a:lnTo>
                    <a:pt x="520" y="103"/>
                  </a:lnTo>
                  <a:lnTo>
                    <a:pt x="470" y="103"/>
                  </a:lnTo>
                  <a:lnTo>
                    <a:pt x="358" y="103"/>
                  </a:lnTo>
                  <a:lnTo>
                    <a:pt x="193" y="134"/>
                  </a:lnTo>
                  <a:lnTo>
                    <a:pt x="70" y="146"/>
                  </a:lnTo>
                  <a:lnTo>
                    <a:pt x="20" y="134"/>
                  </a:lnTo>
                  <a:lnTo>
                    <a:pt x="0" y="11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 rot="19838400">
              <a:off x="848160" y="1433880"/>
              <a:ext cx="401760" cy="158400"/>
            </a:xfrm>
            <a:custGeom>
              <a:avLst/>
              <a:gdLst/>
              <a:ahLst/>
              <a:rect l="l" t="t" r="r" b="b"/>
              <a:pathLst>
                <a:path w="992" h="770">
                  <a:moveTo>
                    <a:pt x="808" y="320"/>
                  </a:moveTo>
                  <a:lnTo>
                    <a:pt x="823" y="219"/>
                  </a:lnTo>
                  <a:lnTo>
                    <a:pt x="881" y="181"/>
                  </a:lnTo>
                  <a:lnTo>
                    <a:pt x="950" y="174"/>
                  </a:lnTo>
                  <a:lnTo>
                    <a:pt x="992" y="219"/>
                  </a:lnTo>
                  <a:lnTo>
                    <a:pt x="973" y="308"/>
                  </a:lnTo>
                  <a:lnTo>
                    <a:pt x="935" y="427"/>
                  </a:lnTo>
                  <a:lnTo>
                    <a:pt x="857" y="562"/>
                  </a:lnTo>
                  <a:lnTo>
                    <a:pt x="761" y="677"/>
                  </a:lnTo>
                  <a:lnTo>
                    <a:pt x="681" y="739"/>
                  </a:lnTo>
                  <a:lnTo>
                    <a:pt x="592" y="770"/>
                  </a:lnTo>
                  <a:lnTo>
                    <a:pt x="507" y="759"/>
                  </a:lnTo>
                  <a:lnTo>
                    <a:pt x="442" y="723"/>
                  </a:lnTo>
                  <a:lnTo>
                    <a:pt x="419" y="666"/>
                  </a:lnTo>
                  <a:lnTo>
                    <a:pt x="392" y="566"/>
                  </a:lnTo>
                  <a:lnTo>
                    <a:pt x="361" y="382"/>
                  </a:lnTo>
                  <a:lnTo>
                    <a:pt x="338" y="254"/>
                  </a:lnTo>
                  <a:lnTo>
                    <a:pt x="338" y="104"/>
                  </a:lnTo>
                  <a:lnTo>
                    <a:pt x="323" y="78"/>
                  </a:lnTo>
                  <a:lnTo>
                    <a:pt x="277" y="70"/>
                  </a:lnTo>
                  <a:lnTo>
                    <a:pt x="223" y="112"/>
                  </a:lnTo>
                  <a:lnTo>
                    <a:pt x="173" y="181"/>
                  </a:lnTo>
                  <a:lnTo>
                    <a:pt x="115" y="219"/>
                  </a:lnTo>
                  <a:lnTo>
                    <a:pt x="27" y="219"/>
                  </a:lnTo>
                  <a:lnTo>
                    <a:pt x="0" y="196"/>
                  </a:lnTo>
                  <a:lnTo>
                    <a:pt x="0" y="158"/>
                  </a:lnTo>
                  <a:lnTo>
                    <a:pt x="39" y="123"/>
                  </a:lnTo>
                  <a:lnTo>
                    <a:pt x="81" y="135"/>
                  </a:lnTo>
                  <a:lnTo>
                    <a:pt x="119" y="127"/>
                  </a:lnTo>
                  <a:lnTo>
                    <a:pt x="189" y="78"/>
                  </a:lnTo>
                  <a:lnTo>
                    <a:pt x="257" y="23"/>
                  </a:lnTo>
                  <a:lnTo>
                    <a:pt x="323" y="8"/>
                  </a:lnTo>
                  <a:lnTo>
                    <a:pt x="415" y="0"/>
                  </a:lnTo>
                  <a:lnTo>
                    <a:pt x="419" y="42"/>
                  </a:lnTo>
                  <a:lnTo>
                    <a:pt x="397" y="89"/>
                  </a:lnTo>
                  <a:lnTo>
                    <a:pt x="392" y="208"/>
                  </a:lnTo>
                  <a:lnTo>
                    <a:pt x="419" y="366"/>
                  </a:lnTo>
                  <a:lnTo>
                    <a:pt x="462" y="520"/>
                  </a:lnTo>
                  <a:lnTo>
                    <a:pt x="499" y="612"/>
                  </a:lnTo>
                  <a:lnTo>
                    <a:pt x="558" y="655"/>
                  </a:lnTo>
                  <a:lnTo>
                    <a:pt x="615" y="655"/>
                  </a:lnTo>
                  <a:lnTo>
                    <a:pt x="673" y="612"/>
                  </a:lnTo>
                  <a:lnTo>
                    <a:pt x="750" y="515"/>
                  </a:lnTo>
                  <a:lnTo>
                    <a:pt x="800" y="377"/>
                  </a:lnTo>
                  <a:lnTo>
                    <a:pt x="808" y="32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 rot="21255000">
              <a:off x="1040040" y="950400"/>
              <a:ext cx="164160" cy="291600"/>
            </a:xfrm>
            <a:custGeom>
              <a:avLst/>
              <a:gdLst/>
              <a:ahLst/>
              <a:rect l="l" t="t" r="r" b="b"/>
              <a:pathLst>
                <a:path w="699" h="1216">
                  <a:moveTo>
                    <a:pt x="445" y="923"/>
                  </a:moveTo>
                  <a:lnTo>
                    <a:pt x="560" y="1039"/>
                  </a:lnTo>
                  <a:lnTo>
                    <a:pt x="606" y="1039"/>
                  </a:lnTo>
                  <a:lnTo>
                    <a:pt x="684" y="1086"/>
                  </a:lnTo>
                  <a:lnTo>
                    <a:pt x="699" y="1139"/>
                  </a:lnTo>
                  <a:lnTo>
                    <a:pt x="676" y="1208"/>
                  </a:lnTo>
                  <a:lnTo>
                    <a:pt x="614" y="1216"/>
                  </a:lnTo>
                  <a:lnTo>
                    <a:pt x="537" y="1162"/>
                  </a:lnTo>
                  <a:lnTo>
                    <a:pt x="383" y="1016"/>
                  </a:lnTo>
                  <a:lnTo>
                    <a:pt x="284" y="878"/>
                  </a:lnTo>
                  <a:lnTo>
                    <a:pt x="237" y="769"/>
                  </a:lnTo>
                  <a:lnTo>
                    <a:pt x="206" y="585"/>
                  </a:lnTo>
                  <a:lnTo>
                    <a:pt x="206" y="346"/>
                  </a:lnTo>
                  <a:lnTo>
                    <a:pt x="198" y="285"/>
                  </a:lnTo>
                  <a:lnTo>
                    <a:pt x="153" y="239"/>
                  </a:lnTo>
                  <a:lnTo>
                    <a:pt x="22" y="247"/>
                  </a:lnTo>
                  <a:lnTo>
                    <a:pt x="0" y="223"/>
                  </a:lnTo>
                  <a:lnTo>
                    <a:pt x="29" y="208"/>
                  </a:lnTo>
                  <a:lnTo>
                    <a:pt x="122" y="200"/>
                  </a:lnTo>
                  <a:lnTo>
                    <a:pt x="138" y="185"/>
                  </a:lnTo>
                  <a:lnTo>
                    <a:pt x="6" y="107"/>
                  </a:lnTo>
                  <a:lnTo>
                    <a:pt x="6" y="77"/>
                  </a:lnTo>
                  <a:lnTo>
                    <a:pt x="29" y="70"/>
                  </a:lnTo>
                  <a:lnTo>
                    <a:pt x="138" y="130"/>
                  </a:lnTo>
                  <a:lnTo>
                    <a:pt x="161" y="123"/>
                  </a:lnTo>
                  <a:lnTo>
                    <a:pt x="138" y="8"/>
                  </a:lnTo>
                  <a:lnTo>
                    <a:pt x="153" y="0"/>
                  </a:lnTo>
                  <a:lnTo>
                    <a:pt x="169" y="8"/>
                  </a:lnTo>
                  <a:lnTo>
                    <a:pt x="198" y="123"/>
                  </a:lnTo>
                  <a:lnTo>
                    <a:pt x="222" y="130"/>
                  </a:lnTo>
                  <a:lnTo>
                    <a:pt x="284" y="8"/>
                  </a:lnTo>
                  <a:lnTo>
                    <a:pt x="299" y="8"/>
                  </a:lnTo>
                  <a:lnTo>
                    <a:pt x="299" y="46"/>
                  </a:lnTo>
                  <a:lnTo>
                    <a:pt x="260" y="146"/>
                  </a:lnTo>
                  <a:lnTo>
                    <a:pt x="260" y="200"/>
                  </a:lnTo>
                  <a:lnTo>
                    <a:pt x="276" y="270"/>
                  </a:lnTo>
                  <a:lnTo>
                    <a:pt x="268" y="361"/>
                  </a:lnTo>
                  <a:lnTo>
                    <a:pt x="276" y="531"/>
                  </a:lnTo>
                  <a:lnTo>
                    <a:pt x="291" y="639"/>
                  </a:lnTo>
                  <a:lnTo>
                    <a:pt x="330" y="762"/>
                  </a:lnTo>
                  <a:lnTo>
                    <a:pt x="383" y="855"/>
                  </a:lnTo>
                  <a:lnTo>
                    <a:pt x="445" y="9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 rot="21255000">
              <a:off x="1236240" y="949320"/>
              <a:ext cx="214920" cy="243360"/>
            </a:xfrm>
            <a:custGeom>
              <a:avLst/>
              <a:gdLst/>
              <a:ahLst/>
              <a:rect l="l" t="t" r="r" b="b"/>
              <a:pathLst>
                <a:path w="915" h="1139">
                  <a:moveTo>
                    <a:pt x="15" y="1008"/>
                  </a:moveTo>
                  <a:lnTo>
                    <a:pt x="0" y="1061"/>
                  </a:lnTo>
                  <a:lnTo>
                    <a:pt x="15" y="1139"/>
                  </a:lnTo>
                  <a:lnTo>
                    <a:pt x="70" y="1139"/>
                  </a:lnTo>
                  <a:lnTo>
                    <a:pt x="231" y="1108"/>
                  </a:lnTo>
                  <a:lnTo>
                    <a:pt x="408" y="1046"/>
                  </a:lnTo>
                  <a:lnTo>
                    <a:pt x="554" y="946"/>
                  </a:lnTo>
                  <a:lnTo>
                    <a:pt x="639" y="816"/>
                  </a:lnTo>
                  <a:lnTo>
                    <a:pt x="715" y="593"/>
                  </a:lnTo>
                  <a:lnTo>
                    <a:pt x="738" y="385"/>
                  </a:lnTo>
                  <a:lnTo>
                    <a:pt x="738" y="285"/>
                  </a:lnTo>
                  <a:lnTo>
                    <a:pt x="777" y="224"/>
                  </a:lnTo>
                  <a:lnTo>
                    <a:pt x="845" y="200"/>
                  </a:lnTo>
                  <a:lnTo>
                    <a:pt x="907" y="200"/>
                  </a:lnTo>
                  <a:lnTo>
                    <a:pt x="915" y="169"/>
                  </a:lnTo>
                  <a:lnTo>
                    <a:pt x="823" y="177"/>
                  </a:lnTo>
                  <a:lnTo>
                    <a:pt x="808" y="154"/>
                  </a:lnTo>
                  <a:lnTo>
                    <a:pt x="884" y="70"/>
                  </a:lnTo>
                  <a:lnTo>
                    <a:pt x="868" y="47"/>
                  </a:lnTo>
                  <a:lnTo>
                    <a:pt x="853" y="62"/>
                  </a:lnTo>
                  <a:lnTo>
                    <a:pt x="792" y="123"/>
                  </a:lnTo>
                  <a:lnTo>
                    <a:pt x="777" y="123"/>
                  </a:lnTo>
                  <a:lnTo>
                    <a:pt x="777" y="16"/>
                  </a:lnTo>
                  <a:lnTo>
                    <a:pt x="761" y="0"/>
                  </a:lnTo>
                  <a:lnTo>
                    <a:pt x="738" y="8"/>
                  </a:lnTo>
                  <a:lnTo>
                    <a:pt x="746" y="123"/>
                  </a:lnTo>
                  <a:lnTo>
                    <a:pt x="730" y="131"/>
                  </a:lnTo>
                  <a:lnTo>
                    <a:pt x="668" y="70"/>
                  </a:lnTo>
                  <a:lnTo>
                    <a:pt x="623" y="62"/>
                  </a:lnTo>
                  <a:lnTo>
                    <a:pt x="631" y="93"/>
                  </a:lnTo>
                  <a:lnTo>
                    <a:pt x="699" y="162"/>
                  </a:lnTo>
                  <a:lnTo>
                    <a:pt x="699" y="200"/>
                  </a:lnTo>
                  <a:lnTo>
                    <a:pt x="676" y="278"/>
                  </a:lnTo>
                  <a:lnTo>
                    <a:pt x="676" y="346"/>
                  </a:lnTo>
                  <a:lnTo>
                    <a:pt x="676" y="462"/>
                  </a:lnTo>
                  <a:lnTo>
                    <a:pt x="645" y="608"/>
                  </a:lnTo>
                  <a:lnTo>
                    <a:pt x="615" y="700"/>
                  </a:lnTo>
                  <a:lnTo>
                    <a:pt x="561" y="816"/>
                  </a:lnTo>
                  <a:lnTo>
                    <a:pt x="499" y="908"/>
                  </a:lnTo>
                  <a:lnTo>
                    <a:pt x="454" y="954"/>
                  </a:lnTo>
                  <a:lnTo>
                    <a:pt x="330" y="993"/>
                  </a:lnTo>
                  <a:lnTo>
                    <a:pt x="215" y="1008"/>
                  </a:lnTo>
                  <a:lnTo>
                    <a:pt x="99" y="1024"/>
                  </a:lnTo>
                  <a:lnTo>
                    <a:pt x="15" y="100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0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0" name="" descr=""/>
          <p:cNvPicPr/>
          <p:nvPr/>
        </p:nvPicPr>
        <p:blipFill>
          <a:blip r:embed="rId1"/>
          <a:stretch/>
        </p:blipFill>
        <p:spPr>
          <a:xfrm>
            <a:off x="-457200" y="-250920"/>
            <a:ext cx="9753480" cy="7794720"/>
          </a:xfrm>
          <a:prstGeom prst="rect">
            <a:avLst/>
          </a:prstGeom>
          <a:ln w="0">
            <a:noFill/>
          </a:ln>
        </p:spPr>
      </p:pic>
      <p:sp>
        <p:nvSpPr>
          <p:cNvPr id="4381" name=""/>
          <p:cNvSpPr/>
          <p:nvPr/>
        </p:nvSpPr>
        <p:spPr>
          <a:xfrm>
            <a:off x="990720" y="1752480"/>
            <a:ext cx="4114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2" name=""/>
          <p:cNvSpPr/>
          <p:nvPr/>
        </p:nvSpPr>
        <p:spPr>
          <a:xfrm rot="16200000">
            <a:off x="893160" y="180432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3" name=""/>
          <p:cNvSpPr/>
          <p:nvPr/>
        </p:nvSpPr>
        <p:spPr>
          <a:xfrm>
            <a:off x="7621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'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4" name=""/>
          <p:cNvSpPr/>
          <p:nvPr/>
        </p:nvSpPr>
        <p:spPr>
          <a:xfrm>
            <a:off x="5257800" y="339084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5" name=""/>
          <p:cNvSpPr/>
          <p:nvPr/>
        </p:nvSpPr>
        <p:spPr>
          <a:xfrm>
            <a:off x="5145120" y="2901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6" name=""/>
          <p:cNvSpPr/>
          <p:nvPr/>
        </p:nvSpPr>
        <p:spPr>
          <a:xfrm>
            <a:off x="3276720" y="2994120"/>
            <a:ext cx="1981080" cy="538200"/>
          </a:xfrm>
          <a:custGeom>
            <a:avLst/>
            <a:gdLst/>
            <a:ahLst/>
            <a:rect l="l" t="t" r="r" b="b"/>
            <a:pathLst>
              <a:path w="1248" h="339">
                <a:moveTo>
                  <a:pt x="0" y="0"/>
                </a:moveTo>
                <a:cubicBezTo>
                  <a:pt x="57" y="48"/>
                  <a:pt x="205" y="273"/>
                  <a:pt x="344" y="288"/>
                </a:cubicBezTo>
                <a:cubicBezTo>
                  <a:pt x="470" y="339"/>
                  <a:pt x="681" y="88"/>
                  <a:pt x="832" y="88"/>
                </a:cubicBezTo>
                <a:cubicBezTo>
                  <a:pt x="983" y="88"/>
                  <a:pt x="1161" y="246"/>
                  <a:pt x="1248" y="288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7" name=""/>
          <p:cNvSpPr/>
          <p:nvPr/>
        </p:nvSpPr>
        <p:spPr>
          <a:xfrm>
            <a:off x="5359320" y="3108240"/>
            <a:ext cx="584280" cy="355680"/>
          </a:xfrm>
          <a:custGeom>
            <a:avLst/>
            <a:gdLst/>
            <a:ahLst/>
            <a:rect l="l" t="t" r="r" b="b"/>
            <a:pathLst>
              <a:path w="368" h="224">
                <a:moveTo>
                  <a:pt x="0" y="224"/>
                </a:moveTo>
                <a:lnTo>
                  <a:pt x="368" y="0"/>
                </a:ln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8" name=""/>
          <p:cNvSpPr/>
          <p:nvPr/>
        </p:nvSpPr>
        <p:spPr>
          <a:xfrm>
            <a:off x="5950080" y="299412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9" name=""/>
          <p:cNvSpPr/>
          <p:nvPr/>
        </p:nvSpPr>
        <p:spPr>
          <a:xfrm>
            <a:off x="5793120" y="25146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0" name=""/>
          <p:cNvSpPr/>
          <p:nvPr/>
        </p:nvSpPr>
        <p:spPr>
          <a:xfrm>
            <a:off x="3206880" y="285768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1" name=""/>
          <p:cNvSpPr/>
          <p:nvPr/>
        </p:nvSpPr>
        <p:spPr>
          <a:xfrm>
            <a:off x="2930400" y="247644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>
            <a:off x="5327640" y="4572000"/>
            <a:ext cx="15876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3276720" y="3035160"/>
            <a:ext cx="2070000" cy="1524240"/>
          </a:xfrm>
          <a:custGeom>
            <a:avLst/>
            <a:gdLst/>
            <a:ahLst/>
            <a:rect l="l" t="t" r="r" b="b"/>
            <a:pathLst>
              <a:path w="1304" h="960">
                <a:moveTo>
                  <a:pt x="0" y="0"/>
                </a:moveTo>
                <a:cubicBezTo>
                  <a:pt x="44" y="104"/>
                  <a:pt x="118" y="530"/>
                  <a:pt x="264" y="624"/>
                </a:cubicBezTo>
                <a:cubicBezTo>
                  <a:pt x="390" y="675"/>
                  <a:pt x="705" y="542"/>
                  <a:pt x="876" y="566"/>
                </a:cubicBezTo>
                <a:cubicBezTo>
                  <a:pt x="1049" y="622"/>
                  <a:pt x="1215" y="878"/>
                  <a:pt x="1304" y="96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4" name=""/>
          <p:cNvSpPr/>
          <p:nvPr/>
        </p:nvSpPr>
        <p:spPr>
          <a:xfrm>
            <a:off x="5429160" y="4645080"/>
            <a:ext cx="882720" cy="345960"/>
          </a:xfrm>
          <a:custGeom>
            <a:avLst/>
            <a:gdLst/>
            <a:ahLst/>
            <a:rect l="l" t="t" r="r" b="b"/>
            <a:pathLst>
              <a:path w="556" h="218">
                <a:moveTo>
                  <a:pt x="0" y="0"/>
                </a:moveTo>
                <a:lnTo>
                  <a:pt x="556" y="218"/>
                </a:ln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6324480" y="49528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6" name=""/>
          <p:cNvSpPr/>
          <p:nvPr/>
        </p:nvSpPr>
        <p:spPr>
          <a:xfrm>
            <a:off x="6629400" y="4038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7" name=""/>
          <p:cNvSpPr/>
          <p:nvPr/>
        </p:nvSpPr>
        <p:spPr>
          <a:xfrm>
            <a:off x="5486400" y="4038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8" name=""/>
          <p:cNvSpPr/>
          <p:nvPr/>
        </p:nvSpPr>
        <p:spPr>
          <a:xfrm>
            <a:off x="5581800" y="4114800"/>
            <a:ext cx="1009440" cy="9360"/>
          </a:xfrm>
          <a:custGeom>
            <a:avLst/>
            <a:gdLst/>
            <a:ahLst/>
            <a:rect l="l" t="t" r="r" b="b"/>
            <a:pathLst>
              <a:path w="636" h="6">
                <a:moveTo>
                  <a:pt x="0" y="6"/>
                </a:moveTo>
                <a:lnTo>
                  <a:pt x="636" y="0"/>
                </a:ln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9" name=""/>
          <p:cNvSpPr/>
          <p:nvPr/>
        </p:nvSpPr>
        <p:spPr>
          <a:xfrm>
            <a:off x="5638680" y="4203720"/>
            <a:ext cx="1962360" cy="995400"/>
          </a:xfrm>
          <a:custGeom>
            <a:avLst/>
            <a:gdLst/>
            <a:ahLst/>
            <a:rect l="l" t="t" r="r" b="b"/>
            <a:pathLst>
              <a:path w="1236" h="627">
                <a:moveTo>
                  <a:pt x="484" y="522"/>
                </a:moveTo>
                <a:cubicBezTo>
                  <a:pt x="559" y="531"/>
                  <a:pt x="837" y="626"/>
                  <a:pt x="936" y="576"/>
                </a:cubicBezTo>
                <a:cubicBezTo>
                  <a:pt x="1062" y="627"/>
                  <a:pt x="1236" y="320"/>
                  <a:pt x="1080" y="224"/>
                </a:cubicBezTo>
                <a:cubicBezTo>
                  <a:pt x="1019" y="169"/>
                  <a:pt x="748" y="285"/>
                  <a:pt x="568" y="248"/>
                </a:cubicBezTo>
                <a:cubicBezTo>
                  <a:pt x="388" y="211"/>
                  <a:pt x="118" y="52"/>
                  <a:pt x="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0" name=""/>
          <p:cNvSpPr/>
          <p:nvPr/>
        </p:nvSpPr>
        <p:spPr>
          <a:xfrm>
            <a:off x="6134040" y="2871720"/>
            <a:ext cx="1584360" cy="1243080"/>
          </a:xfrm>
          <a:custGeom>
            <a:avLst/>
            <a:gdLst/>
            <a:ahLst/>
            <a:rect l="l" t="t" r="r" b="b"/>
            <a:pathLst>
              <a:path w="998" h="783">
                <a:moveTo>
                  <a:pt x="360" y="783"/>
                </a:moveTo>
                <a:cubicBezTo>
                  <a:pt x="407" y="771"/>
                  <a:pt x="551" y="728"/>
                  <a:pt x="640" y="711"/>
                </a:cubicBezTo>
                <a:cubicBezTo>
                  <a:pt x="729" y="694"/>
                  <a:pt x="896" y="739"/>
                  <a:pt x="896" y="679"/>
                </a:cubicBezTo>
                <a:cubicBezTo>
                  <a:pt x="998" y="594"/>
                  <a:pt x="693" y="458"/>
                  <a:pt x="640" y="351"/>
                </a:cubicBezTo>
                <a:cubicBezTo>
                  <a:pt x="587" y="244"/>
                  <a:pt x="683" y="78"/>
                  <a:pt x="576" y="39"/>
                </a:cubicBezTo>
                <a:cubicBezTo>
                  <a:pt x="469" y="0"/>
                  <a:pt x="120" y="102"/>
                  <a:pt x="0" y="119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01" name=""/>
          <p:cNvGrpSpPr/>
          <p:nvPr/>
        </p:nvGrpSpPr>
        <p:grpSpPr>
          <a:xfrm>
            <a:off x="1726200" y="1752480"/>
            <a:ext cx="6259320" cy="3886200"/>
            <a:chOff x="1726200" y="1752480"/>
            <a:chExt cx="6259320" cy="3886200"/>
          </a:xfrm>
        </p:grpSpPr>
        <p:sp>
          <p:nvSpPr>
            <p:cNvPr id="4402" name=""/>
            <p:cNvSpPr/>
            <p:nvPr/>
          </p:nvSpPr>
          <p:spPr>
            <a:xfrm>
              <a:off x="1981080" y="2286000"/>
              <a:ext cx="3810240" cy="3352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1726200" y="1752480"/>
              <a:ext cx="245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Handled 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nodes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5846400" y="1752480"/>
              <a:ext cx="2139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Found 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nodes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05" name=""/>
          <p:cNvSpPr/>
          <p:nvPr/>
        </p:nvSpPr>
        <p:spPr>
          <a:xfrm>
            <a:off x="3660120" y="5775480"/>
            <a:ext cx="277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Handled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dges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6" name=""/>
          <p:cNvSpPr/>
          <p:nvPr/>
        </p:nvSpPr>
        <p:spPr>
          <a:xfrm>
            <a:off x="1844280" y="533520"/>
            <a:ext cx="571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efinition of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handle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paths and </a:t>
            </a: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"/>
          <p:cNvSpPr/>
          <p:nvPr/>
        </p:nvSpPr>
        <p:spPr>
          <a:xfrm>
            <a:off x="5359320" y="3108240"/>
            <a:ext cx="584280" cy="355680"/>
          </a:xfrm>
          <a:custGeom>
            <a:avLst/>
            <a:gdLst/>
            <a:ahLst/>
            <a:rect l="l" t="t" r="r" b="b"/>
            <a:pathLst>
              <a:path w="368" h="224">
                <a:moveTo>
                  <a:pt x="0" y="224"/>
                </a:moveTo>
                <a:lnTo>
                  <a:pt x="36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8" name=""/>
          <p:cNvSpPr/>
          <p:nvPr/>
        </p:nvSpPr>
        <p:spPr>
          <a:xfrm>
            <a:off x="5429160" y="4645080"/>
            <a:ext cx="882720" cy="345960"/>
          </a:xfrm>
          <a:custGeom>
            <a:avLst/>
            <a:gdLst/>
            <a:ahLst/>
            <a:rect l="l" t="t" r="r" b="b"/>
            <a:pathLst>
              <a:path w="556" h="218">
                <a:moveTo>
                  <a:pt x="0" y="0"/>
                </a:moveTo>
                <a:lnTo>
                  <a:pt x="556" y="218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9" name=""/>
          <p:cNvSpPr/>
          <p:nvPr/>
        </p:nvSpPr>
        <p:spPr>
          <a:xfrm>
            <a:off x="5581800" y="4114800"/>
            <a:ext cx="1009440" cy="9360"/>
          </a:xfrm>
          <a:custGeom>
            <a:avLst/>
            <a:gdLst/>
            <a:ahLst/>
            <a:rect l="l" t="t" r="r" b="b"/>
            <a:pathLst>
              <a:path w="636" h="6">
                <a:moveTo>
                  <a:pt x="0" y="6"/>
                </a:moveTo>
                <a:lnTo>
                  <a:pt x="63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0" name=""/>
          <p:cNvSpPr/>
          <p:nvPr/>
        </p:nvSpPr>
        <p:spPr>
          <a:xfrm>
            <a:off x="7621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'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1" name=""/>
          <p:cNvSpPr/>
          <p:nvPr/>
        </p:nvSpPr>
        <p:spPr>
          <a:xfrm>
            <a:off x="5257800" y="339084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2" name=""/>
          <p:cNvSpPr/>
          <p:nvPr/>
        </p:nvSpPr>
        <p:spPr>
          <a:xfrm>
            <a:off x="5145120" y="2901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3" name=""/>
          <p:cNvSpPr/>
          <p:nvPr/>
        </p:nvSpPr>
        <p:spPr>
          <a:xfrm>
            <a:off x="3276720" y="2994120"/>
            <a:ext cx="1981080" cy="538200"/>
          </a:xfrm>
          <a:custGeom>
            <a:avLst/>
            <a:gdLst/>
            <a:ahLst/>
            <a:rect l="l" t="t" r="r" b="b"/>
            <a:pathLst>
              <a:path w="1248" h="339">
                <a:moveTo>
                  <a:pt x="0" y="0"/>
                </a:moveTo>
                <a:cubicBezTo>
                  <a:pt x="57" y="48"/>
                  <a:pt x="205" y="273"/>
                  <a:pt x="344" y="288"/>
                </a:cubicBezTo>
                <a:cubicBezTo>
                  <a:pt x="470" y="339"/>
                  <a:pt x="681" y="88"/>
                  <a:pt x="832" y="88"/>
                </a:cubicBezTo>
                <a:cubicBezTo>
                  <a:pt x="983" y="88"/>
                  <a:pt x="1161" y="246"/>
                  <a:pt x="1248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4" name=""/>
          <p:cNvSpPr/>
          <p:nvPr/>
        </p:nvSpPr>
        <p:spPr>
          <a:xfrm>
            <a:off x="5950080" y="299412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5" name=""/>
          <p:cNvSpPr/>
          <p:nvPr/>
        </p:nvSpPr>
        <p:spPr>
          <a:xfrm>
            <a:off x="5793120" y="25146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6" name=""/>
          <p:cNvSpPr/>
          <p:nvPr/>
        </p:nvSpPr>
        <p:spPr>
          <a:xfrm>
            <a:off x="3206880" y="285768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7" name=""/>
          <p:cNvSpPr/>
          <p:nvPr/>
        </p:nvSpPr>
        <p:spPr>
          <a:xfrm>
            <a:off x="2930400" y="247644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8" name=""/>
          <p:cNvSpPr/>
          <p:nvPr/>
        </p:nvSpPr>
        <p:spPr>
          <a:xfrm>
            <a:off x="1981080" y="2286000"/>
            <a:ext cx="3810240" cy="3352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9" name=""/>
          <p:cNvSpPr/>
          <p:nvPr/>
        </p:nvSpPr>
        <p:spPr>
          <a:xfrm>
            <a:off x="5327640" y="4572000"/>
            <a:ext cx="15876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0" name=""/>
          <p:cNvSpPr/>
          <p:nvPr/>
        </p:nvSpPr>
        <p:spPr>
          <a:xfrm>
            <a:off x="3276720" y="3035160"/>
            <a:ext cx="2070000" cy="1524240"/>
          </a:xfrm>
          <a:custGeom>
            <a:avLst/>
            <a:gdLst/>
            <a:ahLst/>
            <a:rect l="l" t="t" r="r" b="b"/>
            <a:pathLst>
              <a:path w="1304" h="960">
                <a:moveTo>
                  <a:pt x="0" y="0"/>
                </a:moveTo>
                <a:cubicBezTo>
                  <a:pt x="44" y="104"/>
                  <a:pt x="118" y="530"/>
                  <a:pt x="264" y="624"/>
                </a:cubicBezTo>
                <a:cubicBezTo>
                  <a:pt x="390" y="675"/>
                  <a:pt x="705" y="542"/>
                  <a:pt x="876" y="566"/>
                </a:cubicBezTo>
                <a:cubicBezTo>
                  <a:pt x="1049" y="622"/>
                  <a:pt x="1215" y="878"/>
                  <a:pt x="1304" y="9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1" name=""/>
          <p:cNvSpPr/>
          <p:nvPr/>
        </p:nvSpPr>
        <p:spPr>
          <a:xfrm>
            <a:off x="6324480" y="49528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2" name=""/>
          <p:cNvSpPr/>
          <p:nvPr/>
        </p:nvSpPr>
        <p:spPr>
          <a:xfrm>
            <a:off x="1726200" y="1752480"/>
            <a:ext cx="245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Handled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od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3" name=""/>
          <p:cNvSpPr/>
          <p:nvPr/>
        </p:nvSpPr>
        <p:spPr>
          <a:xfrm>
            <a:off x="6629400" y="4038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4" name=""/>
          <p:cNvSpPr/>
          <p:nvPr/>
        </p:nvSpPr>
        <p:spPr>
          <a:xfrm>
            <a:off x="5486400" y="4038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5" name=""/>
          <p:cNvSpPr/>
          <p:nvPr/>
        </p:nvSpPr>
        <p:spPr>
          <a:xfrm>
            <a:off x="5638680" y="4203720"/>
            <a:ext cx="1962360" cy="995400"/>
          </a:xfrm>
          <a:custGeom>
            <a:avLst/>
            <a:gdLst/>
            <a:ahLst/>
            <a:rect l="l" t="t" r="r" b="b"/>
            <a:pathLst>
              <a:path w="1236" h="627">
                <a:moveTo>
                  <a:pt x="484" y="522"/>
                </a:moveTo>
                <a:cubicBezTo>
                  <a:pt x="559" y="531"/>
                  <a:pt x="837" y="626"/>
                  <a:pt x="936" y="576"/>
                </a:cubicBezTo>
                <a:cubicBezTo>
                  <a:pt x="1062" y="627"/>
                  <a:pt x="1236" y="320"/>
                  <a:pt x="1080" y="224"/>
                </a:cubicBezTo>
                <a:cubicBezTo>
                  <a:pt x="1019" y="169"/>
                  <a:pt x="748" y="285"/>
                  <a:pt x="568" y="248"/>
                </a:cubicBezTo>
                <a:cubicBezTo>
                  <a:pt x="388" y="211"/>
                  <a:pt x="118" y="52"/>
                  <a:pt x="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6" name=""/>
          <p:cNvSpPr/>
          <p:nvPr/>
        </p:nvSpPr>
        <p:spPr>
          <a:xfrm>
            <a:off x="6134040" y="2871720"/>
            <a:ext cx="1584360" cy="1243080"/>
          </a:xfrm>
          <a:custGeom>
            <a:avLst/>
            <a:gdLst/>
            <a:ahLst/>
            <a:rect l="l" t="t" r="r" b="b"/>
            <a:pathLst>
              <a:path w="998" h="783">
                <a:moveTo>
                  <a:pt x="360" y="783"/>
                </a:moveTo>
                <a:cubicBezTo>
                  <a:pt x="407" y="771"/>
                  <a:pt x="551" y="728"/>
                  <a:pt x="640" y="711"/>
                </a:cubicBezTo>
                <a:cubicBezTo>
                  <a:pt x="729" y="694"/>
                  <a:pt x="896" y="739"/>
                  <a:pt x="896" y="679"/>
                </a:cubicBezTo>
                <a:cubicBezTo>
                  <a:pt x="998" y="594"/>
                  <a:pt x="693" y="458"/>
                  <a:pt x="640" y="351"/>
                </a:cubicBezTo>
                <a:cubicBezTo>
                  <a:pt x="587" y="244"/>
                  <a:pt x="683" y="78"/>
                  <a:pt x="576" y="39"/>
                </a:cubicBezTo>
                <a:cubicBezTo>
                  <a:pt x="469" y="0"/>
                  <a:pt x="120" y="102"/>
                  <a:pt x="0" y="119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7" name=""/>
          <p:cNvSpPr/>
          <p:nvPr/>
        </p:nvSpPr>
        <p:spPr>
          <a:xfrm>
            <a:off x="5846400" y="1752480"/>
            <a:ext cx="213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Found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od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8" name=""/>
          <p:cNvSpPr/>
          <p:nvPr/>
        </p:nvSpPr>
        <p:spPr>
          <a:xfrm>
            <a:off x="3659400" y="5775480"/>
            <a:ext cx="260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Handled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dg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9" name=""/>
          <p:cNvSpPr/>
          <p:nvPr/>
        </p:nvSpPr>
        <p:spPr>
          <a:xfrm>
            <a:off x="3660120" y="6308640"/>
            <a:ext cx="26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Handle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Paths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0" name=""/>
          <p:cNvSpPr/>
          <p:nvPr/>
        </p:nvSpPr>
        <p:spPr>
          <a:xfrm>
            <a:off x="1844280" y="533520"/>
            <a:ext cx="571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efinition of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handle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paths and </a:t>
            </a: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ph Se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01880" y="2019240"/>
            <a:ext cx="759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19160" y="243828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52720" y="182880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08240" y="2819520"/>
            <a:ext cx="75960" cy="75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81360" y="3313080"/>
            <a:ext cx="759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1040" y="270504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81320" y="373212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35400" y="2286000"/>
            <a:ext cx="759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9640" y="3541680"/>
            <a:ext cx="777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11360" y="308448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98680" y="3998880"/>
            <a:ext cx="759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32240" y="4075200"/>
            <a:ext cx="75960" cy="75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46360" y="2629080"/>
            <a:ext cx="76320" cy="75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1077480" y="1638360"/>
            <a:ext cx="9939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957320" y="1635120"/>
            <a:ext cx="114480" cy="800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71800" y="1638360"/>
            <a:ext cx="57456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71800" y="1638360"/>
            <a:ext cx="8809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684160" y="1866960"/>
            <a:ext cx="306360" cy="7621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919160" y="2704680"/>
            <a:ext cx="727200" cy="646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957320" y="2323800"/>
            <a:ext cx="1378080" cy="152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29040" y="1866960"/>
            <a:ext cx="344520" cy="4190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84520" y="2705040"/>
            <a:ext cx="726840" cy="341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373560" y="2324160"/>
            <a:ext cx="75960" cy="7221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57320" y="2514600"/>
            <a:ext cx="1224000" cy="12175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384200" y="2476440"/>
            <a:ext cx="573120" cy="3430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39680" y="2057400"/>
            <a:ext cx="306360" cy="7621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57360" y="2057400"/>
            <a:ext cx="382320" cy="6094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9200" y="2743200"/>
            <a:ext cx="1224000" cy="5698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574280" y="3351240"/>
            <a:ext cx="344520" cy="647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19160" y="3351240"/>
            <a:ext cx="613080" cy="7239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25560" y="3351240"/>
            <a:ext cx="993600" cy="190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608200" y="3770280"/>
            <a:ext cx="611280" cy="3430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257640" y="3160440"/>
            <a:ext cx="230040" cy="6094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2684160" y="2743200"/>
            <a:ext cx="765000" cy="379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1384200" y="2895480"/>
            <a:ext cx="534960" cy="4557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219120" y="3122640"/>
            <a:ext cx="230040" cy="6094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570040" y="2781360"/>
            <a:ext cx="76320" cy="13320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612440" y="4075200"/>
            <a:ext cx="957240" cy="381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346040" y="1714320"/>
            <a:ext cx="649440" cy="11430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7800" y="3579840"/>
            <a:ext cx="650880" cy="4190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200" y="2743200"/>
            <a:ext cx="190440" cy="7984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200" y="2743200"/>
            <a:ext cx="689040" cy="1144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82520" y="11430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7600" y="17524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9920" y="25830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8800" y="34574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48200" y="396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07240" y="26971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40400" y="31910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53120" y="40672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47560" y="364824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45560" y="29383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70680" y="21528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92680" y="1687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27360" y="2438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62360" y="220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33640" y="1600200"/>
            <a:ext cx="7776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1" name=""/>
          <p:cNvSpPr/>
          <p:nvPr/>
        </p:nvSpPr>
        <p:spPr>
          <a:xfrm>
            <a:off x="7621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'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2" name=""/>
          <p:cNvSpPr/>
          <p:nvPr/>
        </p:nvSpPr>
        <p:spPr>
          <a:xfrm>
            <a:off x="5257800" y="339084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3" name=""/>
          <p:cNvSpPr/>
          <p:nvPr/>
        </p:nvSpPr>
        <p:spPr>
          <a:xfrm>
            <a:off x="5145120" y="2901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4" name=""/>
          <p:cNvSpPr/>
          <p:nvPr/>
        </p:nvSpPr>
        <p:spPr>
          <a:xfrm>
            <a:off x="3276720" y="2994120"/>
            <a:ext cx="1981080" cy="538200"/>
          </a:xfrm>
          <a:custGeom>
            <a:avLst/>
            <a:gdLst/>
            <a:ahLst/>
            <a:rect l="l" t="t" r="r" b="b"/>
            <a:pathLst>
              <a:path w="1248" h="339">
                <a:moveTo>
                  <a:pt x="0" y="0"/>
                </a:moveTo>
                <a:cubicBezTo>
                  <a:pt x="57" y="48"/>
                  <a:pt x="205" y="273"/>
                  <a:pt x="344" y="288"/>
                </a:cubicBezTo>
                <a:cubicBezTo>
                  <a:pt x="470" y="339"/>
                  <a:pt x="681" y="88"/>
                  <a:pt x="832" y="88"/>
                </a:cubicBezTo>
                <a:cubicBezTo>
                  <a:pt x="983" y="88"/>
                  <a:pt x="1161" y="246"/>
                  <a:pt x="1248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5" name=""/>
          <p:cNvSpPr/>
          <p:nvPr/>
        </p:nvSpPr>
        <p:spPr>
          <a:xfrm>
            <a:off x="5359320" y="3108240"/>
            <a:ext cx="584280" cy="355680"/>
          </a:xfrm>
          <a:custGeom>
            <a:avLst/>
            <a:gdLst/>
            <a:ahLst/>
            <a:rect l="l" t="t" r="r" b="b"/>
            <a:pathLst>
              <a:path w="368" h="224">
                <a:moveTo>
                  <a:pt x="0" y="224"/>
                </a:moveTo>
                <a:lnTo>
                  <a:pt x="36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6" name=""/>
          <p:cNvSpPr/>
          <p:nvPr/>
        </p:nvSpPr>
        <p:spPr>
          <a:xfrm>
            <a:off x="5950080" y="299412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7" name=""/>
          <p:cNvSpPr/>
          <p:nvPr/>
        </p:nvSpPr>
        <p:spPr>
          <a:xfrm>
            <a:off x="5793120" y="25146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8" name=""/>
          <p:cNvSpPr/>
          <p:nvPr/>
        </p:nvSpPr>
        <p:spPr>
          <a:xfrm>
            <a:off x="3206880" y="285768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9" name=""/>
          <p:cNvSpPr/>
          <p:nvPr/>
        </p:nvSpPr>
        <p:spPr>
          <a:xfrm>
            <a:off x="2930400" y="247644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0" name=""/>
          <p:cNvSpPr/>
          <p:nvPr/>
        </p:nvSpPr>
        <p:spPr>
          <a:xfrm>
            <a:off x="1981080" y="2286000"/>
            <a:ext cx="3810240" cy="3352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1" name=""/>
          <p:cNvSpPr/>
          <p:nvPr/>
        </p:nvSpPr>
        <p:spPr>
          <a:xfrm>
            <a:off x="5327640" y="4572000"/>
            <a:ext cx="15876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2" name=""/>
          <p:cNvSpPr/>
          <p:nvPr/>
        </p:nvSpPr>
        <p:spPr>
          <a:xfrm>
            <a:off x="3276720" y="3035160"/>
            <a:ext cx="2070000" cy="1524240"/>
          </a:xfrm>
          <a:custGeom>
            <a:avLst/>
            <a:gdLst/>
            <a:ahLst/>
            <a:rect l="l" t="t" r="r" b="b"/>
            <a:pathLst>
              <a:path w="1304" h="960">
                <a:moveTo>
                  <a:pt x="0" y="0"/>
                </a:moveTo>
                <a:cubicBezTo>
                  <a:pt x="44" y="104"/>
                  <a:pt x="118" y="530"/>
                  <a:pt x="264" y="624"/>
                </a:cubicBezTo>
                <a:cubicBezTo>
                  <a:pt x="390" y="675"/>
                  <a:pt x="705" y="542"/>
                  <a:pt x="876" y="566"/>
                </a:cubicBezTo>
                <a:cubicBezTo>
                  <a:pt x="1049" y="622"/>
                  <a:pt x="1215" y="878"/>
                  <a:pt x="1304" y="96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3" name=""/>
          <p:cNvSpPr/>
          <p:nvPr/>
        </p:nvSpPr>
        <p:spPr>
          <a:xfrm>
            <a:off x="5429160" y="4645080"/>
            <a:ext cx="882720" cy="345960"/>
          </a:xfrm>
          <a:custGeom>
            <a:avLst/>
            <a:gdLst/>
            <a:ahLst/>
            <a:rect l="l" t="t" r="r" b="b"/>
            <a:pathLst>
              <a:path w="556" h="218">
                <a:moveTo>
                  <a:pt x="0" y="0"/>
                </a:moveTo>
                <a:lnTo>
                  <a:pt x="556" y="2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4" name=""/>
          <p:cNvSpPr/>
          <p:nvPr/>
        </p:nvSpPr>
        <p:spPr>
          <a:xfrm>
            <a:off x="6324480" y="49528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5" name=""/>
          <p:cNvSpPr/>
          <p:nvPr/>
        </p:nvSpPr>
        <p:spPr>
          <a:xfrm>
            <a:off x="1726200" y="1752480"/>
            <a:ext cx="245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Handled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od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6" name=""/>
          <p:cNvSpPr/>
          <p:nvPr/>
        </p:nvSpPr>
        <p:spPr>
          <a:xfrm>
            <a:off x="6629400" y="4038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7" name=""/>
          <p:cNvSpPr/>
          <p:nvPr/>
        </p:nvSpPr>
        <p:spPr>
          <a:xfrm>
            <a:off x="5486400" y="4038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8" name=""/>
          <p:cNvSpPr/>
          <p:nvPr/>
        </p:nvSpPr>
        <p:spPr>
          <a:xfrm>
            <a:off x="5581800" y="4114800"/>
            <a:ext cx="1009440" cy="9360"/>
          </a:xfrm>
          <a:custGeom>
            <a:avLst/>
            <a:gdLst/>
            <a:ahLst/>
            <a:rect l="l" t="t" r="r" b="b"/>
            <a:pathLst>
              <a:path w="636" h="6">
                <a:moveTo>
                  <a:pt x="0" y="6"/>
                </a:moveTo>
                <a:lnTo>
                  <a:pt x="63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9" name=""/>
          <p:cNvSpPr/>
          <p:nvPr/>
        </p:nvSpPr>
        <p:spPr>
          <a:xfrm>
            <a:off x="5638680" y="4203720"/>
            <a:ext cx="1962360" cy="995400"/>
          </a:xfrm>
          <a:custGeom>
            <a:avLst/>
            <a:gdLst/>
            <a:ahLst/>
            <a:rect l="l" t="t" r="r" b="b"/>
            <a:pathLst>
              <a:path w="1236" h="627">
                <a:moveTo>
                  <a:pt x="484" y="522"/>
                </a:moveTo>
                <a:cubicBezTo>
                  <a:pt x="559" y="531"/>
                  <a:pt x="837" y="626"/>
                  <a:pt x="936" y="576"/>
                </a:cubicBezTo>
                <a:cubicBezTo>
                  <a:pt x="1062" y="627"/>
                  <a:pt x="1236" y="320"/>
                  <a:pt x="1080" y="224"/>
                </a:cubicBezTo>
                <a:cubicBezTo>
                  <a:pt x="1019" y="169"/>
                  <a:pt x="748" y="285"/>
                  <a:pt x="568" y="248"/>
                </a:cubicBezTo>
                <a:cubicBezTo>
                  <a:pt x="388" y="211"/>
                  <a:pt x="118" y="52"/>
                  <a:pt x="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0" name=""/>
          <p:cNvSpPr/>
          <p:nvPr/>
        </p:nvSpPr>
        <p:spPr>
          <a:xfrm>
            <a:off x="6134040" y="2871720"/>
            <a:ext cx="1584360" cy="1243080"/>
          </a:xfrm>
          <a:custGeom>
            <a:avLst/>
            <a:gdLst/>
            <a:ahLst/>
            <a:rect l="l" t="t" r="r" b="b"/>
            <a:pathLst>
              <a:path w="998" h="783">
                <a:moveTo>
                  <a:pt x="360" y="783"/>
                </a:moveTo>
                <a:cubicBezTo>
                  <a:pt x="407" y="771"/>
                  <a:pt x="551" y="728"/>
                  <a:pt x="640" y="711"/>
                </a:cubicBezTo>
                <a:cubicBezTo>
                  <a:pt x="729" y="694"/>
                  <a:pt x="896" y="739"/>
                  <a:pt x="896" y="679"/>
                </a:cubicBezTo>
                <a:cubicBezTo>
                  <a:pt x="998" y="594"/>
                  <a:pt x="693" y="458"/>
                  <a:pt x="640" y="351"/>
                </a:cubicBezTo>
                <a:cubicBezTo>
                  <a:pt x="587" y="244"/>
                  <a:pt x="683" y="78"/>
                  <a:pt x="576" y="39"/>
                </a:cubicBezTo>
                <a:cubicBezTo>
                  <a:pt x="469" y="0"/>
                  <a:pt x="120" y="102"/>
                  <a:pt x="0" y="119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1" name=""/>
          <p:cNvSpPr/>
          <p:nvPr/>
        </p:nvSpPr>
        <p:spPr>
          <a:xfrm>
            <a:off x="5846400" y="1752480"/>
            <a:ext cx="213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Found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od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2" name=""/>
          <p:cNvSpPr/>
          <p:nvPr/>
        </p:nvSpPr>
        <p:spPr>
          <a:xfrm>
            <a:off x="3659760" y="5775480"/>
            <a:ext cx="249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Handled Edg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3" name=""/>
          <p:cNvSpPr/>
          <p:nvPr/>
        </p:nvSpPr>
        <p:spPr>
          <a:xfrm>
            <a:off x="3660120" y="6308640"/>
            <a:ext cx="239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Handled Path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4" name=""/>
          <p:cNvSpPr/>
          <p:nvPr/>
        </p:nvSpPr>
        <p:spPr>
          <a:xfrm>
            <a:off x="1844280" y="533520"/>
            <a:ext cx="571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efinition of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handle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paths and </a:t>
            </a: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5" name=""/>
          <p:cNvSpPr/>
          <p:nvPr/>
        </p:nvSpPr>
        <p:spPr>
          <a:xfrm>
            <a:off x="7621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'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6" name=""/>
          <p:cNvSpPr/>
          <p:nvPr/>
        </p:nvSpPr>
        <p:spPr>
          <a:xfrm>
            <a:off x="5257800" y="339084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7" name=""/>
          <p:cNvSpPr/>
          <p:nvPr/>
        </p:nvSpPr>
        <p:spPr>
          <a:xfrm>
            <a:off x="5145120" y="2901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8" name=""/>
          <p:cNvSpPr/>
          <p:nvPr/>
        </p:nvSpPr>
        <p:spPr>
          <a:xfrm>
            <a:off x="3276720" y="2994120"/>
            <a:ext cx="1981080" cy="538200"/>
          </a:xfrm>
          <a:custGeom>
            <a:avLst/>
            <a:gdLst/>
            <a:ahLst/>
            <a:rect l="l" t="t" r="r" b="b"/>
            <a:pathLst>
              <a:path w="1248" h="339">
                <a:moveTo>
                  <a:pt x="0" y="0"/>
                </a:moveTo>
                <a:cubicBezTo>
                  <a:pt x="57" y="48"/>
                  <a:pt x="205" y="273"/>
                  <a:pt x="344" y="288"/>
                </a:cubicBezTo>
                <a:cubicBezTo>
                  <a:pt x="470" y="339"/>
                  <a:pt x="681" y="88"/>
                  <a:pt x="832" y="88"/>
                </a:cubicBezTo>
                <a:cubicBezTo>
                  <a:pt x="983" y="88"/>
                  <a:pt x="1161" y="246"/>
                  <a:pt x="1248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9" name=""/>
          <p:cNvSpPr/>
          <p:nvPr/>
        </p:nvSpPr>
        <p:spPr>
          <a:xfrm>
            <a:off x="5359320" y="3108240"/>
            <a:ext cx="584280" cy="355680"/>
          </a:xfrm>
          <a:custGeom>
            <a:avLst/>
            <a:gdLst/>
            <a:ahLst/>
            <a:rect l="l" t="t" r="r" b="b"/>
            <a:pathLst>
              <a:path w="368" h="224">
                <a:moveTo>
                  <a:pt x="0" y="224"/>
                </a:moveTo>
                <a:lnTo>
                  <a:pt x="36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0" name=""/>
          <p:cNvSpPr/>
          <p:nvPr/>
        </p:nvSpPr>
        <p:spPr>
          <a:xfrm>
            <a:off x="5950080" y="299412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1" name=""/>
          <p:cNvSpPr/>
          <p:nvPr/>
        </p:nvSpPr>
        <p:spPr>
          <a:xfrm>
            <a:off x="5793120" y="25146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2" name=""/>
          <p:cNvSpPr/>
          <p:nvPr/>
        </p:nvSpPr>
        <p:spPr>
          <a:xfrm>
            <a:off x="3206880" y="2857680"/>
            <a:ext cx="15228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3" name=""/>
          <p:cNvSpPr/>
          <p:nvPr/>
        </p:nvSpPr>
        <p:spPr>
          <a:xfrm>
            <a:off x="2930400" y="247644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4" name=""/>
          <p:cNvSpPr/>
          <p:nvPr/>
        </p:nvSpPr>
        <p:spPr>
          <a:xfrm>
            <a:off x="1981080" y="2286000"/>
            <a:ext cx="3810240" cy="3352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5" name=""/>
          <p:cNvSpPr/>
          <p:nvPr/>
        </p:nvSpPr>
        <p:spPr>
          <a:xfrm>
            <a:off x="5327640" y="4572000"/>
            <a:ext cx="15876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6" name=""/>
          <p:cNvSpPr/>
          <p:nvPr/>
        </p:nvSpPr>
        <p:spPr>
          <a:xfrm>
            <a:off x="3276720" y="3035160"/>
            <a:ext cx="2070000" cy="1524240"/>
          </a:xfrm>
          <a:custGeom>
            <a:avLst/>
            <a:gdLst/>
            <a:ahLst/>
            <a:rect l="l" t="t" r="r" b="b"/>
            <a:pathLst>
              <a:path w="1304" h="960">
                <a:moveTo>
                  <a:pt x="0" y="0"/>
                </a:moveTo>
                <a:cubicBezTo>
                  <a:pt x="44" y="104"/>
                  <a:pt x="118" y="530"/>
                  <a:pt x="264" y="624"/>
                </a:cubicBezTo>
                <a:cubicBezTo>
                  <a:pt x="390" y="675"/>
                  <a:pt x="705" y="542"/>
                  <a:pt x="876" y="566"/>
                </a:cubicBezTo>
                <a:cubicBezTo>
                  <a:pt x="1049" y="622"/>
                  <a:pt x="1215" y="878"/>
                  <a:pt x="1304" y="9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7" name=""/>
          <p:cNvSpPr/>
          <p:nvPr/>
        </p:nvSpPr>
        <p:spPr>
          <a:xfrm>
            <a:off x="5429160" y="4645080"/>
            <a:ext cx="882720" cy="345960"/>
          </a:xfrm>
          <a:custGeom>
            <a:avLst/>
            <a:gdLst/>
            <a:ahLst/>
            <a:rect l="l" t="t" r="r" b="b"/>
            <a:pathLst>
              <a:path w="556" h="218">
                <a:moveTo>
                  <a:pt x="0" y="0"/>
                </a:moveTo>
                <a:lnTo>
                  <a:pt x="556" y="218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8" name=""/>
          <p:cNvSpPr/>
          <p:nvPr/>
        </p:nvSpPr>
        <p:spPr>
          <a:xfrm>
            <a:off x="6324480" y="4952880"/>
            <a:ext cx="15264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9" name=""/>
          <p:cNvSpPr/>
          <p:nvPr/>
        </p:nvSpPr>
        <p:spPr>
          <a:xfrm>
            <a:off x="1726200" y="1752480"/>
            <a:ext cx="245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Handled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od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0" name=""/>
          <p:cNvSpPr/>
          <p:nvPr/>
        </p:nvSpPr>
        <p:spPr>
          <a:xfrm>
            <a:off x="6629400" y="4038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1" name=""/>
          <p:cNvSpPr/>
          <p:nvPr/>
        </p:nvSpPr>
        <p:spPr>
          <a:xfrm>
            <a:off x="5486400" y="4038480"/>
            <a:ext cx="152280" cy="152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2" name=""/>
          <p:cNvSpPr/>
          <p:nvPr/>
        </p:nvSpPr>
        <p:spPr>
          <a:xfrm>
            <a:off x="5581800" y="4114800"/>
            <a:ext cx="1009440" cy="9360"/>
          </a:xfrm>
          <a:custGeom>
            <a:avLst/>
            <a:gdLst/>
            <a:ahLst/>
            <a:rect l="l" t="t" r="r" b="b"/>
            <a:pathLst>
              <a:path w="636" h="6">
                <a:moveTo>
                  <a:pt x="0" y="6"/>
                </a:moveTo>
                <a:lnTo>
                  <a:pt x="63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3" name=""/>
          <p:cNvSpPr/>
          <p:nvPr/>
        </p:nvSpPr>
        <p:spPr>
          <a:xfrm>
            <a:off x="5638680" y="4203720"/>
            <a:ext cx="1962360" cy="995400"/>
          </a:xfrm>
          <a:custGeom>
            <a:avLst/>
            <a:gdLst/>
            <a:ahLst/>
            <a:rect l="l" t="t" r="r" b="b"/>
            <a:pathLst>
              <a:path w="1236" h="627">
                <a:moveTo>
                  <a:pt x="484" y="522"/>
                </a:moveTo>
                <a:cubicBezTo>
                  <a:pt x="559" y="531"/>
                  <a:pt x="837" y="626"/>
                  <a:pt x="936" y="576"/>
                </a:cubicBezTo>
                <a:cubicBezTo>
                  <a:pt x="1062" y="627"/>
                  <a:pt x="1236" y="320"/>
                  <a:pt x="1080" y="224"/>
                </a:cubicBezTo>
                <a:cubicBezTo>
                  <a:pt x="1019" y="169"/>
                  <a:pt x="748" y="285"/>
                  <a:pt x="568" y="248"/>
                </a:cubicBezTo>
                <a:cubicBezTo>
                  <a:pt x="388" y="211"/>
                  <a:pt x="118" y="52"/>
                  <a:pt x="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4" name=""/>
          <p:cNvSpPr/>
          <p:nvPr/>
        </p:nvSpPr>
        <p:spPr>
          <a:xfrm>
            <a:off x="6134040" y="2871720"/>
            <a:ext cx="1584360" cy="1243080"/>
          </a:xfrm>
          <a:custGeom>
            <a:avLst/>
            <a:gdLst/>
            <a:ahLst/>
            <a:rect l="l" t="t" r="r" b="b"/>
            <a:pathLst>
              <a:path w="998" h="783">
                <a:moveTo>
                  <a:pt x="360" y="783"/>
                </a:moveTo>
                <a:cubicBezTo>
                  <a:pt x="407" y="771"/>
                  <a:pt x="551" y="728"/>
                  <a:pt x="640" y="711"/>
                </a:cubicBezTo>
                <a:cubicBezTo>
                  <a:pt x="729" y="694"/>
                  <a:pt x="896" y="739"/>
                  <a:pt x="896" y="679"/>
                </a:cubicBezTo>
                <a:cubicBezTo>
                  <a:pt x="998" y="594"/>
                  <a:pt x="693" y="458"/>
                  <a:pt x="640" y="351"/>
                </a:cubicBezTo>
                <a:cubicBezTo>
                  <a:pt x="587" y="244"/>
                  <a:pt x="683" y="78"/>
                  <a:pt x="576" y="39"/>
                </a:cubicBezTo>
                <a:cubicBezTo>
                  <a:pt x="469" y="0"/>
                  <a:pt x="120" y="102"/>
                  <a:pt x="0" y="119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75" name=""/>
          <p:cNvGrpSpPr/>
          <p:nvPr/>
        </p:nvGrpSpPr>
        <p:grpSpPr>
          <a:xfrm>
            <a:off x="419040" y="4952880"/>
            <a:ext cx="1181160" cy="1067040"/>
            <a:chOff x="419040" y="4952880"/>
            <a:chExt cx="1181160" cy="1067040"/>
          </a:xfrm>
        </p:grpSpPr>
        <p:sp>
          <p:nvSpPr>
            <p:cNvPr id="4476" name=""/>
            <p:cNvSpPr/>
            <p:nvPr/>
          </p:nvSpPr>
          <p:spPr>
            <a:xfrm>
              <a:off x="419040" y="4952880"/>
              <a:ext cx="1181160" cy="106704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77" name=""/>
            <p:cNvGrpSpPr/>
            <p:nvPr/>
          </p:nvGrpSpPr>
          <p:grpSpPr>
            <a:xfrm>
              <a:off x="605520" y="5041800"/>
              <a:ext cx="629640" cy="860400"/>
              <a:chOff x="605520" y="5041800"/>
              <a:chExt cx="629640" cy="860400"/>
            </a:xfrm>
          </p:grpSpPr>
          <p:grpSp>
            <p:nvGrpSpPr>
              <p:cNvPr id="4478" name=""/>
              <p:cNvGrpSpPr/>
              <p:nvPr/>
            </p:nvGrpSpPr>
            <p:grpSpPr>
              <a:xfrm>
                <a:off x="605520" y="5041800"/>
                <a:ext cx="592560" cy="842760"/>
                <a:chOff x="605520" y="5041800"/>
                <a:chExt cx="592560" cy="842760"/>
              </a:xfrm>
            </p:grpSpPr>
            <p:sp>
              <p:nvSpPr>
                <p:cNvPr id="4479" name=""/>
                <p:cNvSpPr/>
                <p:nvPr/>
              </p:nvSpPr>
              <p:spPr>
                <a:xfrm>
                  <a:off x="801000" y="5184000"/>
                  <a:ext cx="102960" cy="177840"/>
                </a:xfrm>
                <a:custGeom>
                  <a:avLst/>
                  <a:gdLst/>
                  <a:ahLst/>
                  <a:rect l="l" t="t" r="r" b="b"/>
                  <a:pathLst>
                    <a:path w="434" h="514">
                      <a:moveTo>
                        <a:pt x="132" y="186"/>
                      </a:moveTo>
                      <a:lnTo>
                        <a:pt x="157" y="114"/>
                      </a:lnTo>
                      <a:lnTo>
                        <a:pt x="189" y="42"/>
                      </a:lnTo>
                      <a:lnTo>
                        <a:pt x="236" y="6"/>
                      </a:lnTo>
                      <a:lnTo>
                        <a:pt x="302" y="0"/>
                      </a:lnTo>
                      <a:lnTo>
                        <a:pt x="355" y="24"/>
                      </a:lnTo>
                      <a:lnTo>
                        <a:pt x="393" y="63"/>
                      </a:lnTo>
                      <a:lnTo>
                        <a:pt x="421" y="135"/>
                      </a:lnTo>
                      <a:lnTo>
                        <a:pt x="434" y="222"/>
                      </a:lnTo>
                      <a:lnTo>
                        <a:pt x="434" y="312"/>
                      </a:lnTo>
                      <a:lnTo>
                        <a:pt x="412" y="411"/>
                      </a:lnTo>
                      <a:lnTo>
                        <a:pt x="355" y="474"/>
                      </a:lnTo>
                      <a:lnTo>
                        <a:pt x="299" y="514"/>
                      </a:lnTo>
                      <a:lnTo>
                        <a:pt x="245" y="510"/>
                      </a:lnTo>
                      <a:lnTo>
                        <a:pt x="198" y="468"/>
                      </a:lnTo>
                      <a:lnTo>
                        <a:pt x="157" y="396"/>
                      </a:lnTo>
                      <a:lnTo>
                        <a:pt x="129" y="333"/>
                      </a:lnTo>
                      <a:lnTo>
                        <a:pt x="129" y="252"/>
                      </a:lnTo>
                      <a:lnTo>
                        <a:pt x="0" y="234"/>
                      </a:lnTo>
                      <a:lnTo>
                        <a:pt x="16" y="189"/>
                      </a:lnTo>
                      <a:lnTo>
                        <a:pt x="132" y="18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0" name=""/>
                <p:cNvSpPr/>
                <p:nvPr/>
              </p:nvSpPr>
              <p:spPr>
                <a:xfrm>
                  <a:off x="869040" y="5041800"/>
                  <a:ext cx="134280" cy="399240"/>
                </a:xfrm>
                <a:custGeom>
                  <a:avLst/>
                  <a:gdLst/>
                  <a:ahLst/>
                  <a:rect l="l" t="t" r="r" b="b"/>
                  <a:pathLst>
                    <a:path w="566" h="1154">
                      <a:moveTo>
                        <a:pt x="13" y="1145"/>
                      </a:moveTo>
                      <a:lnTo>
                        <a:pt x="0" y="1088"/>
                      </a:lnTo>
                      <a:lnTo>
                        <a:pt x="31" y="1042"/>
                      </a:lnTo>
                      <a:lnTo>
                        <a:pt x="134" y="988"/>
                      </a:lnTo>
                      <a:lnTo>
                        <a:pt x="226" y="927"/>
                      </a:lnTo>
                      <a:lnTo>
                        <a:pt x="313" y="827"/>
                      </a:lnTo>
                      <a:lnTo>
                        <a:pt x="432" y="689"/>
                      </a:lnTo>
                      <a:lnTo>
                        <a:pt x="463" y="634"/>
                      </a:lnTo>
                      <a:lnTo>
                        <a:pt x="479" y="580"/>
                      </a:lnTo>
                      <a:lnTo>
                        <a:pt x="472" y="526"/>
                      </a:lnTo>
                      <a:lnTo>
                        <a:pt x="444" y="426"/>
                      </a:lnTo>
                      <a:lnTo>
                        <a:pt x="376" y="299"/>
                      </a:lnTo>
                      <a:lnTo>
                        <a:pt x="301" y="229"/>
                      </a:lnTo>
                      <a:lnTo>
                        <a:pt x="235" y="190"/>
                      </a:lnTo>
                      <a:lnTo>
                        <a:pt x="181" y="184"/>
                      </a:lnTo>
                      <a:lnTo>
                        <a:pt x="153" y="190"/>
                      </a:lnTo>
                      <a:lnTo>
                        <a:pt x="150" y="163"/>
                      </a:lnTo>
                      <a:lnTo>
                        <a:pt x="215" y="154"/>
                      </a:lnTo>
                      <a:lnTo>
                        <a:pt x="291" y="154"/>
                      </a:lnTo>
                      <a:lnTo>
                        <a:pt x="238" y="93"/>
                      </a:lnTo>
                      <a:lnTo>
                        <a:pt x="206" y="45"/>
                      </a:lnTo>
                      <a:lnTo>
                        <a:pt x="229" y="27"/>
                      </a:lnTo>
                      <a:lnTo>
                        <a:pt x="313" y="109"/>
                      </a:lnTo>
                      <a:lnTo>
                        <a:pt x="329" y="121"/>
                      </a:lnTo>
                      <a:lnTo>
                        <a:pt x="313" y="57"/>
                      </a:lnTo>
                      <a:lnTo>
                        <a:pt x="301" y="9"/>
                      </a:lnTo>
                      <a:lnTo>
                        <a:pt x="313" y="0"/>
                      </a:lnTo>
                      <a:lnTo>
                        <a:pt x="341" y="9"/>
                      </a:lnTo>
                      <a:lnTo>
                        <a:pt x="366" y="121"/>
                      </a:lnTo>
                      <a:lnTo>
                        <a:pt x="379" y="118"/>
                      </a:lnTo>
                      <a:lnTo>
                        <a:pt x="379" y="30"/>
                      </a:lnTo>
                      <a:lnTo>
                        <a:pt x="404" y="21"/>
                      </a:lnTo>
                      <a:lnTo>
                        <a:pt x="422" y="36"/>
                      </a:lnTo>
                      <a:lnTo>
                        <a:pt x="413" y="154"/>
                      </a:lnTo>
                      <a:lnTo>
                        <a:pt x="407" y="202"/>
                      </a:lnTo>
                      <a:lnTo>
                        <a:pt x="422" y="299"/>
                      </a:lnTo>
                      <a:lnTo>
                        <a:pt x="472" y="402"/>
                      </a:lnTo>
                      <a:lnTo>
                        <a:pt x="525" y="520"/>
                      </a:lnTo>
                      <a:lnTo>
                        <a:pt x="566" y="607"/>
                      </a:lnTo>
                      <a:lnTo>
                        <a:pt x="563" y="652"/>
                      </a:lnTo>
                      <a:lnTo>
                        <a:pt x="488" y="734"/>
                      </a:lnTo>
                      <a:lnTo>
                        <a:pt x="385" y="836"/>
                      </a:lnTo>
                      <a:lnTo>
                        <a:pt x="301" y="937"/>
                      </a:lnTo>
                      <a:lnTo>
                        <a:pt x="197" y="1070"/>
                      </a:lnTo>
                      <a:lnTo>
                        <a:pt x="112" y="1136"/>
                      </a:lnTo>
                      <a:lnTo>
                        <a:pt x="47" y="1154"/>
                      </a:lnTo>
                      <a:lnTo>
                        <a:pt x="13" y="1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1" name=""/>
                <p:cNvSpPr/>
                <p:nvPr/>
              </p:nvSpPr>
              <p:spPr>
                <a:xfrm>
                  <a:off x="605520" y="5414040"/>
                  <a:ext cx="246240" cy="200880"/>
                </a:xfrm>
                <a:custGeom>
                  <a:avLst/>
                  <a:gdLst/>
                  <a:ahLst/>
                  <a:rect l="l" t="t" r="r" b="b"/>
                  <a:pathLst>
                    <a:path w="1037" h="581">
                      <a:moveTo>
                        <a:pt x="210" y="468"/>
                      </a:moveTo>
                      <a:lnTo>
                        <a:pt x="361" y="462"/>
                      </a:lnTo>
                      <a:lnTo>
                        <a:pt x="498" y="444"/>
                      </a:lnTo>
                      <a:lnTo>
                        <a:pt x="583" y="423"/>
                      </a:lnTo>
                      <a:lnTo>
                        <a:pt x="705" y="354"/>
                      </a:lnTo>
                      <a:lnTo>
                        <a:pt x="792" y="288"/>
                      </a:lnTo>
                      <a:lnTo>
                        <a:pt x="906" y="207"/>
                      </a:lnTo>
                      <a:lnTo>
                        <a:pt x="959" y="156"/>
                      </a:lnTo>
                      <a:lnTo>
                        <a:pt x="1000" y="120"/>
                      </a:lnTo>
                      <a:lnTo>
                        <a:pt x="1037" y="81"/>
                      </a:lnTo>
                      <a:lnTo>
                        <a:pt x="1037" y="39"/>
                      </a:lnTo>
                      <a:lnTo>
                        <a:pt x="996" y="0"/>
                      </a:lnTo>
                      <a:lnTo>
                        <a:pt x="971" y="9"/>
                      </a:lnTo>
                      <a:lnTo>
                        <a:pt x="903" y="90"/>
                      </a:lnTo>
                      <a:lnTo>
                        <a:pt x="828" y="183"/>
                      </a:lnTo>
                      <a:lnTo>
                        <a:pt x="752" y="270"/>
                      </a:lnTo>
                      <a:lnTo>
                        <a:pt x="642" y="342"/>
                      </a:lnTo>
                      <a:lnTo>
                        <a:pt x="548" y="390"/>
                      </a:lnTo>
                      <a:lnTo>
                        <a:pt x="445" y="414"/>
                      </a:lnTo>
                      <a:lnTo>
                        <a:pt x="301" y="417"/>
                      </a:lnTo>
                      <a:lnTo>
                        <a:pt x="216" y="417"/>
                      </a:lnTo>
                      <a:lnTo>
                        <a:pt x="144" y="363"/>
                      </a:lnTo>
                      <a:lnTo>
                        <a:pt x="125" y="327"/>
                      </a:lnTo>
                      <a:lnTo>
                        <a:pt x="94" y="327"/>
                      </a:lnTo>
                      <a:lnTo>
                        <a:pt x="116" y="372"/>
                      </a:lnTo>
                      <a:lnTo>
                        <a:pt x="150" y="414"/>
                      </a:lnTo>
                      <a:lnTo>
                        <a:pt x="66" y="396"/>
                      </a:lnTo>
                      <a:lnTo>
                        <a:pt x="3" y="387"/>
                      </a:lnTo>
                      <a:lnTo>
                        <a:pt x="3" y="405"/>
                      </a:lnTo>
                      <a:lnTo>
                        <a:pt x="59" y="417"/>
                      </a:lnTo>
                      <a:lnTo>
                        <a:pt x="97" y="441"/>
                      </a:lnTo>
                      <a:lnTo>
                        <a:pt x="131" y="444"/>
                      </a:lnTo>
                      <a:lnTo>
                        <a:pt x="78" y="462"/>
                      </a:lnTo>
                      <a:lnTo>
                        <a:pt x="0" y="481"/>
                      </a:lnTo>
                      <a:lnTo>
                        <a:pt x="3" y="499"/>
                      </a:lnTo>
                      <a:lnTo>
                        <a:pt x="28" y="505"/>
                      </a:lnTo>
                      <a:lnTo>
                        <a:pt x="103" y="481"/>
                      </a:lnTo>
                      <a:lnTo>
                        <a:pt x="150" y="477"/>
                      </a:lnTo>
                      <a:lnTo>
                        <a:pt x="122" y="505"/>
                      </a:lnTo>
                      <a:lnTo>
                        <a:pt x="78" y="550"/>
                      </a:lnTo>
                      <a:lnTo>
                        <a:pt x="59" y="562"/>
                      </a:lnTo>
                      <a:lnTo>
                        <a:pt x="75" y="581"/>
                      </a:lnTo>
                      <a:lnTo>
                        <a:pt x="113" y="559"/>
                      </a:lnTo>
                      <a:lnTo>
                        <a:pt x="163" y="514"/>
                      </a:lnTo>
                      <a:lnTo>
                        <a:pt x="210" y="46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2" name=""/>
                <p:cNvSpPr/>
                <p:nvPr/>
              </p:nvSpPr>
              <p:spPr>
                <a:xfrm>
                  <a:off x="832320" y="5393160"/>
                  <a:ext cx="144360" cy="276840"/>
                </a:xfrm>
                <a:custGeom>
                  <a:avLst/>
                  <a:gdLst/>
                  <a:ahLst/>
                  <a:rect l="l" t="t" r="r" b="b"/>
                  <a:pathLst>
                    <a:path w="608" h="800">
                      <a:moveTo>
                        <a:pt x="38" y="90"/>
                      </a:moveTo>
                      <a:lnTo>
                        <a:pt x="63" y="27"/>
                      </a:lnTo>
                      <a:lnTo>
                        <a:pt x="104" y="0"/>
                      </a:lnTo>
                      <a:lnTo>
                        <a:pt x="141" y="0"/>
                      </a:lnTo>
                      <a:lnTo>
                        <a:pt x="179" y="18"/>
                      </a:lnTo>
                      <a:lnTo>
                        <a:pt x="216" y="54"/>
                      </a:lnTo>
                      <a:lnTo>
                        <a:pt x="235" y="117"/>
                      </a:lnTo>
                      <a:lnTo>
                        <a:pt x="245" y="180"/>
                      </a:lnTo>
                      <a:lnTo>
                        <a:pt x="263" y="243"/>
                      </a:lnTo>
                      <a:lnTo>
                        <a:pt x="298" y="312"/>
                      </a:lnTo>
                      <a:lnTo>
                        <a:pt x="357" y="384"/>
                      </a:lnTo>
                      <a:lnTo>
                        <a:pt x="415" y="432"/>
                      </a:lnTo>
                      <a:lnTo>
                        <a:pt x="499" y="468"/>
                      </a:lnTo>
                      <a:lnTo>
                        <a:pt x="571" y="522"/>
                      </a:lnTo>
                      <a:lnTo>
                        <a:pt x="608" y="577"/>
                      </a:lnTo>
                      <a:lnTo>
                        <a:pt x="602" y="622"/>
                      </a:lnTo>
                      <a:lnTo>
                        <a:pt x="593" y="676"/>
                      </a:lnTo>
                      <a:lnTo>
                        <a:pt x="565" y="712"/>
                      </a:lnTo>
                      <a:lnTo>
                        <a:pt x="518" y="757"/>
                      </a:lnTo>
                      <a:lnTo>
                        <a:pt x="449" y="790"/>
                      </a:lnTo>
                      <a:lnTo>
                        <a:pt x="396" y="800"/>
                      </a:lnTo>
                      <a:lnTo>
                        <a:pt x="320" y="784"/>
                      </a:lnTo>
                      <a:lnTo>
                        <a:pt x="251" y="748"/>
                      </a:lnTo>
                      <a:lnTo>
                        <a:pt x="179" y="694"/>
                      </a:lnTo>
                      <a:lnTo>
                        <a:pt x="129" y="631"/>
                      </a:lnTo>
                      <a:lnTo>
                        <a:pt x="82" y="550"/>
                      </a:lnTo>
                      <a:lnTo>
                        <a:pt x="44" y="456"/>
                      </a:lnTo>
                      <a:lnTo>
                        <a:pt x="19" y="375"/>
                      </a:lnTo>
                      <a:lnTo>
                        <a:pt x="7" y="297"/>
                      </a:lnTo>
                      <a:lnTo>
                        <a:pt x="0" y="189"/>
                      </a:lnTo>
                      <a:lnTo>
                        <a:pt x="19" y="117"/>
                      </a:lnTo>
                      <a:lnTo>
                        <a:pt x="38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3" name=""/>
                <p:cNvSpPr/>
                <p:nvPr/>
              </p:nvSpPr>
              <p:spPr>
                <a:xfrm>
                  <a:off x="950400" y="5511600"/>
                  <a:ext cx="247680" cy="251280"/>
                </a:xfrm>
                <a:custGeom>
                  <a:avLst/>
                  <a:gdLst/>
                  <a:ahLst/>
                  <a:rect l="l" t="t" r="r" b="b"/>
                  <a:pathLst>
                    <a:path w="1043" h="726">
                      <a:moveTo>
                        <a:pt x="116" y="230"/>
                      </a:moveTo>
                      <a:lnTo>
                        <a:pt x="216" y="147"/>
                      </a:lnTo>
                      <a:lnTo>
                        <a:pt x="338" y="72"/>
                      </a:lnTo>
                      <a:lnTo>
                        <a:pt x="417" y="27"/>
                      </a:lnTo>
                      <a:lnTo>
                        <a:pt x="479" y="12"/>
                      </a:lnTo>
                      <a:lnTo>
                        <a:pt x="529" y="0"/>
                      </a:lnTo>
                      <a:lnTo>
                        <a:pt x="573" y="18"/>
                      </a:lnTo>
                      <a:lnTo>
                        <a:pt x="601" y="75"/>
                      </a:lnTo>
                      <a:lnTo>
                        <a:pt x="620" y="230"/>
                      </a:lnTo>
                      <a:lnTo>
                        <a:pt x="620" y="416"/>
                      </a:lnTo>
                      <a:lnTo>
                        <a:pt x="620" y="536"/>
                      </a:lnTo>
                      <a:lnTo>
                        <a:pt x="642" y="609"/>
                      </a:lnTo>
                      <a:lnTo>
                        <a:pt x="686" y="597"/>
                      </a:lnTo>
                      <a:lnTo>
                        <a:pt x="717" y="552"/>
                      </a:lnTo>
                      <a:lnTo>
                        <a:pt x="779" y="500"/>
                      </a:lnTo>
                      <a:lnTo>
                        <a:pt x="876" y="470"/>
                      </a:lnTo>
                      <a:lnTo>
                        <a:pt x="943" y="470"/>
                      </a:lnTo>
                      <a:lnTo>
                        <a:pt x="1043" y="488"/>
                      </a:lnTo>
                      <a:lnTo>
                        <a:pt x="1037" y="524"/>
                      </a:lnTo>
                      <a:lnTo>
                        <a:pt x="1015" y="555"/>
                      </a:lnTo>
                      <a:lnTo>
                        <a:pt x="981" y="561"/>
                      </a:lnTo>
                      <a:lnTo>
                        <a:pt x="943" y="542"/>
                      </a:lnTo>
                      <a:lnTo>
                        <a:pt x="886" y="518"/>
                      </a:lnTo>
                      <a:lnTo>
                        <a:pt x="829" y="518"/>
                      </a:lnTo>
                      <a:lnTo>
                        <a:pt x="754" y="564"/>
                      </a:lnTo>
                      <a:lnTo>
                        <a:pt x="708" y="633"/>
                      </a:lnTo>
                      <a:lnTo>
                        <a:pt x="698" y="690"/>
                      </a:lnTo>
                      <a:lnTo>
                        <a:pt x="679" y="726"/>
                      </a:lnTo>
                      <a:lnTo>
                        <a:pt x="604" y="723"/>
                      </a:lnTo>
                      <a:lnTo>
                        <a:pt x="601" y="669"/>
                      </a:lnTo>
                      <a:lnTo>
                        <a:pt x="576" y="591"/>
                      </a:lnTo>
                      <a:lnTo>
                        <a:pt x="567" y="509"/>
                      </a:lnTo>
                      <a:lnTo>
                        <a:pt x="573" y="401"/>
                      </a:lnTo>
                      <a:lnTo>
                        <a:pt x="564" y="248"/>
                      </a:lnTo>
                      <a:lnTo>
                        <a:pt x="558" y="147"/>
                      </a:lnTo>
                      <a:lnTo>
                        <a:pt x="539" y="111"/>
                      </a:lnTo>
                      <a:lnTo>
                        <a:pt x="501" y="75"/>
                      </a:lnTo>
                      <a:lnTo>
                        <a:pt x="461" y="75"/>
                      </a:lnTo>
                      <a:lnTo>
                        <a:pt x="403" y="111"/>
                      </a:lnTo>
                      <a:lnTo>
                        <a:pt x="328" y="181"/>
                      </a:lnTo>
                      <a:lnTo>
                        <a:pt x="235" y="272"/>
                      </a:lnTo>
                      <a:lnTo>
                        <a:pt x="141" y="356"/>
                      </a:lnTo>
                      <a:lnTo>
                        <a:pt x="94" y="383"/>
                      </a:lnTo>
                      <a:lnTo>
                        <a:pt x="38" y="383"/>
                      </a:lnTo>
                      <a:lnTo>
                        <a:pt x="0" y="344"/>
                      </a:lnTo>
                      <a:lnTo>
                        <a:pt x="3" y="281"/>
                      </a:lnTo>
                      <a:lnTo>
                        <a:pt x="41" y="248"/>
                      </a:lnTo>
                      <a:lnTo>
                        <a:pt x="84" y="239"/>
                      </a:lnTo>
                      <a:lnTo>
                        <a:pt x="116" y="23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4" name=""/>
                <p:cNvSpPr/>
                <p:nvPr/>
              </p:nvSpPr>
              <p:spPr>
                <a:xfrm>
                  <a:off x="937080" y="5621040"/>
                  <a:ext cx="169200" cy="263520"/>
                </a:xfrm>
                <a:custGeom>
                  <a:avLst/>
                  <a:gdLst/>
                  <a:ahLst/>
                  <a:rect l="l" t="t" r="r" b="b"/>
                  <a:pathLst>
                    <a:path w="713" h="762">
                      <a:moveTo>
                        <a:pt x="0" y="64"/>
                      </a:moveTo>
                      <a:lnTo>
                        <a:pt x="22" y="16"/>
                      </a:lnTo>
                      <a:lnTo>
                        <a:pt x="69" y="0"/>
                      </a:lnTo>
                      <a:lnTo>
                        <a:pt x="134" y="7"/>
                      </a:lnTo>
                      <a:lnTo>
                        <a:pt x="150" y="52"/>
                      </a:lnTo>
                      <a:lnTo>
                        <a:pt x="125" y="227"/>
                      </a:lnTo>
                      <a:lnTo>
                        <a:pt x="122" y="360"/>
                      </a:lnTo>
                      <a:lnTo>
                        <a:pt x="116" y="435"/>
                      </a:lnTo>
                      <a:lnTo>
                        <a:pt x="116" y="450"/>
                      </a:lnTo>
                      <a:lnTo>
                        <a:pt x="131" y="524"/>
                      </a:lnTo>
                      <a:lnTo>
                        <a:pt x="172" y="536"/>
                      </a:lnTo>
                      <a:lnTo>
                        <a:pt x="225" y="524"/>
                      </a:lnTo>
                      <a:lnTo>
                        <a:pt x="303" y="481"/>
                      </a:lnTo>
                      <a:lnTo>
                        <a:pt x="387" y="460"/>
                      </a:lnTo>
                      <a:lnTo>
                        <a:pt x="482" y="444"/>
                      </a:lnTo>
                      <a:lnTo>
                        <a:pt x="585" y="432"/>
                      </a:lnTo>
                      <a:lnTo>
                        <a:pt x="660" y="432"/>
                      </a:lnTo>
                      <a:lnTo>
                        <a:pt x="694" y="441"/>
                      </a:lnTo>
                      <a:lnTo>
                        <a:pt x="713" y="463"/>
                      </a:lnTo>
                      <a:lnTo>
                        <a:pt x="704" y="496"/>
                      </a:lnTo>
                      <a:lnTo>
                        <a:pt x="657" y="524"/>
                      </a:lnTo>
                      <a:lnTo>
                        <a:pt x="613" y="563"/>
                      </a:lnTo>
                      <a:lnTo>
                        <a:pt x="572" y="618"/>
                      </a:lnTo>
                      <a:lnTo>
                        <a:pt x="547" y="663"/>
                      </a:lnTo>
                      <a:lnTo>
                        <a:pt x="526" y="708"/>
                      </a:lnTo>
                      <a:lnTo>
                        <a:pt x="510" y="762"/>
                      </a:lnTo>
                      <a:lnTo>
                        <a:pt x="488" y="762"/>
                      </a:lnTo>
                      <a:lnTo>
                        <a:pt x="469" y="741"/>
                      </a:lnTo>
                      <a:lnTo>
                        <a:pt x="462" y="681"/>
                      </a:lnTo>
                      <a:lnTo>
                        <a:pt x="507" y="627"/>
                      </a:lnTo>
                      <a:lnTo>
                        <a:pt x="566" y="563"/>
                      </a:lnTo>
                      <a:lnTo>
                        <a:pt x="622" y="515"/>
                      </a:lnTo>
                      <a:lnTo>
                        <a:pt x="647" y="499"/>
                      </a:lnTo>
                      <a:lnTo>
                        <a:pt x="657" y="478"/>
                      </a:lnTo>
                      <a:lnTo>
                        <a:pt x="632" y="463"/>
                      </a:lnTo>
                      <a:lnTo>
                        <a:pt x="547" y="463"/>
                      </a:lnTo>
                      <a:lnTo>
                        <a:pt x="440" y="481"/>
                      </a:lnTo>
                      <a:lnTo>
                        <a:pt x="356" y="509"/>
                      </a:lnTo>
                      <a:lnTo>
                        <a:pt x="265" y="560"/>
                      </a:lnTo>
                      <a:lnTo>
                        <a:pt x="187" y="596"/>
                      </a:lnTo>
                      <a:lnTo>
                        <a:pt x="103" y="599"/>
                      </a:lnTo>
                      <a:lnTo>
                        <a:pt x="69" y="587"/>
                      </a:lnTo>
                      <a:lnTo>
                        <a:pt x="50" y="542"/>
                      </a:lnTo>
                      <a:lnTo>
                        <a:pt x="37" y="478"/>
                      </a:lnTo>
                      <a:lnTo>
                        <a:pt x="31" y="360"/>
                      </a:lnTo>
                      <a:lnTo>
                        <a:pt x="19" y="151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5" name=""/>
              <p:cNvGrpSpPr/>
              <p:nvPr/>
            </p:nvGrpSpPr>
            <p:grpSpPr>
              <a:xfrm>
                <a:off x="1132920" y="5599080"/>
                <a:ext cx="102240" cy="303120"/>
                <a:chOff x="1132920" y="5599080"/>
                <a:chExt cx="102240" cy="303120"/>
              </a:xfrm>
            </p:grpSpPr>
            <p:sp>
              <p:nvSpPr>
                <p:cNvPr id="4486" name=""/>
                <p:cNvSpPr/>
                <p:nvPr/>
              </p:nvSpPr>
              <p:spPr>
                <a:xfrm>
                  <a:off x="1154520" y="5768280"/>
                  <a:ext cx="80640" cy="37440"/>
                </a:xfrm>
                <a:custGeom>
                  <a:avLst/>
                  <a:gdLst/>
                  <a:ahLst/>
                  <a:rect l="l" t="t" r="r" b="b"/>
                  <a:pathLst>
                    <a:path w="340" h="109">
                      <a:moveTo>
                        <a:pt x="340" y="109"/>
                      </a:moveTo>
                      <a:lnTo>
                        <a:pt x="165" y="30"/>
                      </a:lnTo>
                      <a:lnTo>
                        <a:pt x="48" y="0"/>
                      </a:lnTo>
                      <a:lnTo>
                        <a:pt x="10" y="0"/>
                      </a:lnTo>
                      <a:lnTo>
                        <a:pt x="0" y="27"/>
                      </a:lnTo>
                      <a:lnTo>
                        <a:pt x="22" y="48"/>
                      </a:lnTo>
                      <a:lnTo>
                        <a:pt x="70" y="54"/>
                      </a:lnTo>
                      <a:lnTo>
                        <a:pt x="184" y="75"/>
                      </a:lnTo>
                      <a:lnTo>
                        <a:pt x="340" y="10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7" name=""/>
                <p:cNvSpPr/>
                <p:nvPr/>
              </p:nvSpPr>
              <p:spPr>
                <a:xfrm>
                  <a:off x="1132920" y="5801760"/>
                  <a:ext cx="22680" cy="100440"/>
                </a:xfrm>
                <a:custGeom>
                  <a:avLst/>
                  <a:gdLst/>
                  <a:ahLst/>
                  <a:rect l="l" t="t" r="r" b="b"/>
                  <a:pathLst>
                    <a:path w="97" h="291">
                      <a:moveTo>
                        <a:pt x="97" y="291"/>
                      </a:moveTo>
                      <a:lnTo>
                        <a:pt x="94" y="148"/>
                      </a:lnTo>
                      <a:lnTo>
                        <a:pt x="69" y="39"/>
                      </a:lnTo>
                      <a:lnTo>
                        <a:pt x="41" y="0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54"/>
                      </a:lnTo>
                      <a:lnTo>
                        <a:pt x="47" y="184"/>
                      </a:lnTo>
                      <a:lnTo>
                        <a:pt x="97" y="29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8" name=""/>
                <p:cNvSpPr/>
                <p:nvPr/>
              </p:nvSpPr>
              <p:spPr>
                <a:xfrm>
                  <a:off x="1166040" y="5599080"/>
                  <a:ext cx="50760" cy="38160"/>
                </a:xfrm>
                <a:custGeom>
                  <a:avLst/>
                  <a:gdLst/>
                  <a:ahLst/>
                  <a:rect l="l" t="t" r="r" b="b"/>
                  <a:pathLst>
                    <a:path w="214" h="111">
                      <a:moveTo>
                        <a:pt x="0" y="72"/>
                      </a:moveTo>
                      <a:lnTo>
                        <a:pt x="42" y="30"/>
                      </a:lnTo>
                      <a:lnTo>
                        <a:pt x="100" y="3"/>
                      </a:lnTo>
                      <a:lnTo>
                        <a:pt x="166" y="0"/>
                      </a:lnTo>
                      <a:lnTo>
                        <a:pt x="214" y="9"/>
                      </a:lnTo>
                      <a:lnTo>
                        <a:pt x="138" y="18"/>
                      </a:lnTo>
                      <a:lnTo>
                        <a:pt x="109" y="36"/>
                      </a:lnTo>
                      <a:lnTo>
                        <a:pt x="81" y="63"/>
                      </a:lnTo>
                      <a:lnTo>
                        <a:pt x="68" y="93"/>
                      </a:lnTo>
                      <a:lnTo>
                        <a:pt x="42" y="111"/>
                      </a:lnTo>
                      <a:lnTo>
                        <a:pt x="1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489" name=""/>
          <p:cNvSpPr/>
          <p:nvPr/>
        </p:nvSpPr>
        <p:spPr>
          <a:xfrm>
            <a:off x="4887360" y="5905440"/>
            <a:ext cx="4317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s the length of the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hortest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handle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paths to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0" name=""/>
          <p:cNvSpPr/>
          <p:nvPr/>
        </p:nvSpPr>
        <p:spPr>
          <a:xfrm>
            <a:off x="636120" y="5486400"/>
            <a:ext cx="3840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r handled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3000"/>
            </a:b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s the length of the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hortest paths to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91" name=""/>
          <p:cNvGrpSpPr/>
          <p:nvPr/>
        </p:nvGrpSpPr>
        <p:grpSpPr>
          <a:xfrm>
            <a:off x="7452720" y="2651040"/>
            <a:ext cx="1726200" cy="1252440"/>
            <a:chOff x="7452720" y="2651040"/>
            <a:chExt cx="1726200" cy="1252440"/>
          </a:xfrm>
        </p:grpSpPr>
        <p:sp>
          <p:nvSpPr>
            <p:cNvPr id="4492" name=""/>
            <p:cNvSpPr/>
            <p:nvPr/>
          </p:nvSpPr>
          <p:spPr>
            <a:xfrm>
              <a:off x="807732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7452720" y="2651040"/>
              <a:ext cx="1726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NotFound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7717680" y="3352680"/>
              <a:ext cx="1134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33cc33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33cc33"/>
                  </a:solidFill>
                  <a:latin typeface="Times New Roman"/>
                </a:rPr>
                <a:t>(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’</a:t>
              </a:r>
              <a:r>
                <a:rPr b="0" lang="en-US" sz="3000" spc="-1" strike="noStrike">
                  <a:solidFill>
                    <a:srgbClr val="33cc33"/>
                  </a:solidFill>
                  <a:latin typeface="Times New Roman"/>
                </a:rPr>
                <a:t>)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95" name=""/>
          <p:cNvSpPr/>
          <p:nvPr/>
        </p:nvSpPr>
        <p:spPr>
          <a:xfrm>
            <a:off x="8746200" y="332424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6" name=""/>
          <p:cNvSpPr/>
          <p:nvPr/>
        </p:nvSpPr>
        <p:spPr>
          <a:xfrm flipH="1">
            <a:off x="7543440" y="2743200"/>
            <a:ext cx="60948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7" name=""/>
          <p:cNvSpPr/>
          <p:nvPr/>
        </p:nvSpPr>
        <p:spPr>
          <a:xfrm>
            <a:off x="1844280" y="533520"/>
            <a:ext cx="571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efinition of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handle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paths and </a:t>
            </a: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4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8" name="" descr=""/>
          <p:cNvPicPr/>
          <p:nvPr/>
        </p:nvPicPr>
        <p:blipFill>
          <a:blip r:embed="rId1"/>
          <a:stretch/>
        </p:blipFill>
        <p:spPr>
          <a:xfrm>
            <a:off x="-457200" y="-250920"/>
            <a:ext cx="9753480" cy="7794720"/>
          </a:xfrm>
          <a:prstGeom prst="rect">
            <a:avLst/>
          </a:prstGeom>
          <a:ln w="0">
            <a:noFill/>
          </a:ln>
        </p:spPr>
      </p:pic>
      <p:sp>
        <p:nvSpPr>
          <p:cNvPr id="4499" name=""/>
          <p:cNvSpPr/>
          <p:nvPr/>
        </p:nvSpPr>
        <p:spPr>
          <a:xfrm>
            <a:off x="990720" y="1600200"/>
            <a:ext cx="7315200" cy="1219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00" name=""/>
          <p:cNvGrpSpPr/>
          <p:nvPr/>
        </p:nvGrpSpPr>
        <p:grpSpPr>
          <a:xfrm>
            <a:off x="169200" y="678240"/>
            <a:ext cx="1178640" cy="1150200"/>
            <a:chOff x="169200" y="678240"/>
            <a:chExt cx="1178640" cy="1150200"/>
          </a:xfrm>
        </p:grpSpPr>
        <p:sp>
          <p:nvSpPr>
            <p:cNvPr id="4501" name=""/>
            <p:cNvSpPr/>
            <p:nvPr/>
          </p:nvSpPr>
          <p:spPr>
            <a:xfrm rot="2359800">
              <a:off x="250920" y="1065240"/>
              <a:ext cx="593640" cy="47088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02" name=""/>
            <p:cNvGrpSpPr/>
            <p:nvPr/>
          </p:nvGrpSpPr>
          <p:grpSpPr>
            <a:xfrm>
              <a:off x="322560" y="1120320"/>
              <a:ext cx="316440" cy="258480"/>
              <a:chOff x="322560" y="1120320"/>
              <a:chExt cx="316440" cy="258480"/>
            </a:xfrm>
          </p:grpSpPr>
          <p:sp>
            <p:nvSpPr>
              <p:cNvPr id="4503" name=""/>
              <p:cNvSpPr/>
              <p:nvPr/>
            </p:nvSpPr>
            <p:spPr>
              <a:xfrm>
                <a:off x="322560" y="1120320"/>
                <a:ext cx="316440" cy="221760"/>
              </a:xfrm>
              <a:prstGeom prst="horizontalScroll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-8000">
                    <a:solidFill>
                      <a:srgbClr val="000000"/>
                    </a:solidFill>
                    <a:latin typeface="Times New Roman"/>
                  </a:rPr>
                  <a:t>Exi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480600" y="1323360"/>
                <a:ext cx="0" cy="55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05" name=""/>
            <p:cNvSpPr/>
            <p:nvPr/>
          </p:nvSpPr>
          <p:spPr>
            <a:xfrm>
              <a:off x="228600" y="707400"/>
              <a:ext cx="1119240" cy="1121040"/>
            </a:xfrm>
            <a:prstGeom prst="ellipse">
              <a:avLst/>
            </a:prstGeom>
            <a:noFill/>
            <a:ln w="63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506" name="" descr=""/>
            <p:cNvPicPr/>
            <p:nvPr/>
          </p:nvPicPr>
          <p:blipFill>
            <a:blip r:embed="rId3"/>
            <a:stretch/>
          </p:blipFill>
          <p:spPr>
            <a:xfrm>
              <a:off x="702000" y="945000"/>
              <a:ext cx="592200" cy="53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07" name=""/>
            <p:cNvGrpSpPr/>
            <p:nvPr/>
          </p:nvGrpSpPr>
          <p:grpSpPr>
            <a:xfrm>
              <a:off x="459000" y="678240"/>
              <a:ext cx="538560" cy="577800"/>
              <a:chOff x="459000" y="678240"/>
              <a:chExt cx="538560" cy="577800"/>
            </a:xfrm>
          </p:grpSpPr>
          <p:sp>
            <p:nvSpPr>
              <p:cNvPr id="4508" name=""/>
              <p:cNvSpPr/>
              <p:nvPr/>
            </p:nvSpPr>
            <p:spPr>
              <a:xfrm rot="21255000">
                <a:off x="729360" y="740160"/>
                <a:ext cx="109440" cy="9072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 rot="21255000">
                <a:off x="692640" y="852840"/>
                <a:ext cx="112680" cy="20304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 rot="21255000">
                <a:off x="771480" y="1019520"/>
                <a:ext cx="219240" cy="14004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 rot="19838400">
                <a:off x="469080" y="1063440"/>
                <a:ext cx="313200" cy="12348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 rot="21255000">
                <a:off x="618840" y="686520"/>
                <a:ext cx="127800" cy="22716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 rot="21255000">
                <a:off x="771120" y="686160"/>
                <a:ext cx="167400" cy="18936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5" name="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6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7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8" name=""/>
          <p:cNvSpPr/>
          <p:nvPr/>
        </p:nvSpPr>
        <p:spPr>
          <a:xfrm>
            <a:off x="2364120" y="37940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9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0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1" name=""/>
          <p:cNvSpPr/>
          <p:nvPr/>
        </p:nvSpPr>
        <p:spPr>
          <a:xfrm flipH="1">
            <a:off x="2743200" y="1442880"/>
            <a:ext cx="912960" cy="2595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2" name=""/>
          <p:cNvSpPr/>
          <p:nvPr/>
        </p:nvSpPr>
        <p:spPr>
          <a:xfrm>
            <a:off x="3657600" y="1447920"/>
            <a:ext cx="1066680" cy="2590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3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4" name=""/>
          <p:cNvSpPr/>
          <p:nvPr/>
        </p:nvSpPr>
        <p:spPr>
          <a:xfrm flipH="1">
            <a:off x="4800240" y="1905120"/>
            <a:ext cx="685800" cy="2133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5" name=""/>
          <p:cNvSpPr/>
          <p:nvPr/>
        </p:nvSpPr>
        <p:spPr>
          <a:xfrm>
            <a:off x="5562720" y="1905120"/>
            <a:ext cx="1066680" cy="2133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6" name=""/>
          <p:cNvSpPr/>
          <p:nvPr/>
        </p:nvSpPr>
        <p:spPr>
          <a:xfrm>
            <a:off x="1600200" y="2286000"/>
            <a:ext cx="1066680" cy="1752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7" name=""/>
          <p:cNvSpPr/>
          <p:nvPr/>
        </p:nvSpPr>
        <p:spPr>
          <a:xfrm>
            <a:off x="1600200" y="2286000"/>
            <a:ext cx="304920" cy="3048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8" name=""/>
          <p:cNvSpPr/>
          <p:nvPr/>
        </p:nvSpPr>
        <p:spPr>
          <a:xfrm>
            <a:off x="7621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'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9" name=""/>
          <p:cNvSpPr/>
          <p:nvPr/>
        </p:nvSpPr>
        <p:spPr>
          <a:xfrm>
            <a:off x="1535040" y="215892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0" name=""/>
          <p:cNvSpPr/>
          <p:nvPr/>
        </p:nvSpPr>
        <p:spPr>
          <a:xfrm>
            <a:off x="1258920" y="17780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1" name=""/>
          <p:cNvSpPr/>
          <p:nvPr/>
        </p:nvSpPr>
        <p:spPr>
          <a:xfrm>
            <a:off x="4697280" y="40384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2" name=""/>
          <p:cNvSpPr/>
          <p:nvPr/>
        </p:nvSpPr>
        <p:spPr>
          <a:xfrm>
            <a:off x="4268880" y="36576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3" name=""/>
          <p:cNvSpPr/>
          <p:nvPr/>
        </p:nvSpPr>
        <p:spPr>
          <a:xfrm>
            <a:off x="1828800" y="533412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4" name=""/>
          <p:cNvSpPr/>
          <p:nvPr/>
        </p:nvSpPr>
        <p:spPr>
          <a:xfrm>
            <a:off x="1553040" y="49528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5" name=""/>
          <p:cNvSpPr/>
          <p:nvPr/>
        </p:nvSpPr>
        <p:spPr>
          <a:xfrm>
            <a:off x="3352680" y="653724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6" name=""/>
          <p:cNvSpPr/>
          <p:nvPr/>
        </p:nvSpPr>
        <p:spPr>
          <a:xfrm>
            <a:off x="3077280" y="6156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7" name=""/>
          <p:cNvSpPr/>
          <p:nvPr/>
        </p:nvSpPr>
        <p:spPr>
          <a:xfrm>
            <a:off x="4495680" y="653724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8" name=""/>
          <p:cNvSpPr/>
          <p:nvPr/>
        </p:nvSpPr>
        <p:spPr>
          <a:xfrm>
            <a:off x="4220280" y="6156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9" name=""/>
          <p:cNvSpPr/>
          <p:nvPr/>
        </p:nvSpPr>
        <p:spPr>
          <a:xfrm>
            <a:off x="5257800" y="535932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0" name=""/>
          <p:cNvSpPr/>
          <p:nvPr/>
        </p:nvSpPr>
        <p:spPr>
          <a:xfrm>
            <a:off x="4878360" y="49784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1" name=""/>
          <p:cNvSpPr/>
          <p:nvPr/>
        </p:nvSpPr>
        <p:spPr>
          <a:xfrm>
            <a:off x="6629400" y="4038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2" name=""/>
          <p:cNvSpPr/>
          <p:nvPr/>
        </p:nvSpPr>
        <p:spPr>
          <a:xfrm>
            <a:off x="6734520" y="37180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3" name=""/>
          <p:cNvSpPr/>
          <p:nvPr/>
        </p:nvSpPr>
        <p:spPr>
          <a:xfrm flipV="1">
            <a:off x="5334120" y="2057040"/>
            <a:ext cx="152280" cy="3352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4" name=""/>
          <p:cNvSpPr/>
          <p:nvPr/>
        </p:nvSpPr>
        <p:spPr>
          <a:xfrm flipV="1">
            <a:off x="1905120" y="4191120"/>
            <a:ext cx="2743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5" name=""/>
          <p:cNvSpPr/>
          <p:nvPr/>
        </p:nvSpPr>
        <p:spPr>
          <a:xfrm>
            <a:off x="4800600" y="411480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6" name=""/>
          <p:cNvSpPr/>
          <p:nvPr/>
        </p:nvSpPr>
        <p:spPr>
          <a:xfrm flipV="1">
            <a:off x="5334120" y="4114800"/>
            <a:ext cx="13716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7" name=""/>
          <p:cNvSpPr/>
          <p:nvPr/>
        </p:nvSpPr>
        <p:spPr>
          <a:xfrm>
            <a:off x="3782880" y="5486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8" name=""/>
          <p:cNvSpPr/>
          <p:nvPr/>
        </p:nvSpPr>
        <p:spPr>
          <a:xfrm>
            <a:off x="3430800" y="54100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9" name=""/>
          <p:cNvSpPr/>
          <p:nvPr/>
        </p:nvSpPr>
        <p:spPr>
          <a:xfrm>
            <a:off x="1905120" y="5410080"/>
            <a:ext cx="1904760" cy="152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0" name=""/>
          <p:cNvSpPr/>
          <p:nvPr/>
        </p:nvSpPr>
        <p:spPr>
          <a:xfrm flipV="1">
            <a:off x="3886200" y="4191120"/>
            <a:ext cx="838080" cy="1371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1" name=""/>
          <p:cNvSpPr/>
          <p:nvPr/>
        </p:nvSpPr>
        <p:spPr>
          <a:xfrm flipH="1" flipV="1">
            <a:off x="2819160" y="4191120"/>
            <a:ext cx="990360" cy="1371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2" name=""/>
          <p:cNvSpPr/>
          <p:nvPr/>
        </p:nvSpPr>
        <p:spPr>
          <a:xfrm flipV="1">
            <a:off x="3886200" y="5486400"/>
            <a:ext cx="137160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3" name=""/>
          <p:cNvSpPr/>
          <p:nvPr/>
        </p:nvSpPr>
        <p:spPr>
          <a:xfrm>
            <a:off x="3042720" y="2743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4" name=""/>
          <p:cNvSpPr/>
          <p:nvPr/>
        </p:nvSpPr>
        <p:spPr>
          <a:xfrm>
            <a:off x="2182680" y="1438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5" name=""/>
          <p:cNvSpPr/>
          <p:nvPr/>
        </p:nvSpPr>
        <p:spPr>
          <a:xfrm>
            <a:off x="4227120" y="1209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6" name=""/>
          <p:cNvSpPr/>
          <p:nvPr/>
        </p:nvSpPr>
        <p:spPr>
          <a:xfrm>
            <a:off x="1344600" y="3571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7" name=""/>
          <p:cNvSpPr/>
          <p:nvPr/>
        </p:nvSpPr>
        <p:spPr>
          <a:xfrm>
            <a:off x="2287080" y="46483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8" name=""/>
          <p:cNvSpPr/>
          <p:nvPr/>
        </p:nvSpPr>
        <p:spPr>
          <a:xfrm>
            <a:off x="2639880" y="5324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9" name=""/>
          <p:cNvSpPr/>
          <p:nvPr/>
        </p:nvSpPr>
        <p:spPr>
          <a:xfrm>
            <a:off x="4897440" y="4334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0" name=""/>
          <p:cNvSpPr/>
          <p:nvPr/>
        </p:nvSpPr>
        <p:spPr>
          <a:xfrm>
            <a:off x="4316400" y="540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1" name=""/>
          <p:cNvSpPr/>
          <p:nvPr/>
        </p:nvSpPr>
        <p:spPr>
          <a:xfrm>
            <a:off x="5916600" y="456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2" name=""/>
          <p:cNvSpPr/>
          <p:nvPr/>
        </p:nvSpPr>
        <p:spPr>
          <a:xfrm>
            <a:off x="5306760" y="3419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3" name=""/>
          <p:cNvSpPr/>
          <p:nvPr/>
        </p:nvSpPr>
        <p:spPr>
          <a:xfrm>
            <a:off x="5992560" y="2657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4" name=""/>
          <p:cNvSpPr/>
          <p:nvPr/>
        </p:nvSpPr>
        <p:spPr>
          <a:xfrm>
            <a:off x="3998520" y="2428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5" name=""/>
          <p:cNvSpPr/>
          <p:nvPr/>
        </p:nvSpPr>
        <p:spPr>
          <a:xfrm>
            <a:off x="4773600" y="2809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6" name=""/>
          <p:cNvSpPr/>
          <p:nvPr/>
        </p:nvSpPr>
        <p:spPr>
          <a:xfrm>
            <a:off x="3429000" y="6629400"/>
            <a:ext cx="10666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7" name=""/>
          <p:cNvSpPr/>
          <p:nvPr/>
        </p:nvSpPr>
        <p:spPr>
          <a:xfrm>
            <a:off x="627120" y="190512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8" name=""/>
          <p:cNvSpPr/>
          <p:nvPr/>
        </p:nvSpPr>
        <p:spPr>
          <a:xfrm>
            <a:off x="1084320" y="510552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9" name=""/>
          <p:cNvSpPr/>
          <p:nvPr/>
        </p:nvSpPr>
        <p:spPr>
          <a:xfrm>
            <a:off x="2608200" y="641520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0" name=""/>
          <p:cNvSpPr/>
          <p:nvPr/>
        </p:nvSpPr>
        <p:spPr>
          <a:xfrm>
            <a:off x="4589640" y="641520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1" name=""/>
          <p:cNvSpPr/>
          <p:nvPr/>
        </p:nvSpPr>
        <p:spPr>
          <a:xfrm>
            <a:off x="5253120" y="533412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2" name=""/>
          <p:cNvSpPr/>
          <p:nvPr/>
        </p:nvSpPr>
        <p:spPr>
          <a:xfrm>
            <a:off x="6723000" y="403848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3" name=""/>
          <p:cNvSpPr/>
          <p:nvPr/>
        </p:nvSpPr>
        <p:spPr>
          <a:xfrm>
            <a:off x="5710320" y="167652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4" name=""/>
          <p:cNvSpPr/>
          <p:nvPr/>
        </p:nvSpPr>
        <p:spPr>
          <a:xfrm>
            <a:off x="3468600" y="70632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5" name=""/>
          <p:cNvSpPr/>
          <p:nvPr/>
        </p:nvSpPr>
        <p:spPr>
          <a:xfrm>
            <a:off x="2760840" y="382428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6" name=""/>
          <p:cNvSpPr/>
          <p:nvPr/>
        </p:nvSpPr>
        <p:spPr>
          <a:xfrm>
            <a:off x="3675240" y="550080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7" name=""/>
          <p:cNvSpPr/>
          <p:nvPr/>
        </p:nvSpPr>
        <p:spPr>
          <a:xfrm>
            <a:off x="4818240" y="382428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8" name=""/>
          <p:cNvSpPr/>
          <p:nvPr/>
        </p:nvSpPr>
        <p:spPr>
          <a:xfrm>
            <a:off x="3278160" y="781200"/>
            <a:ext cx="1139760" cy="722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9" name=""/>
          <p:cNvSpPr/>
          <p:nvPr/>
        </p:nvSpPr>
        <p:spPr>
          <a:xfrm>
            <a:off x="2052000" y="2743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0" name=""/>
          <p:cNvSpPr/>
          <p:nvPr/>
        </p:nvSpPr>
        <p:spPr>
          <a:xfrm>
            <a:off x="4287600" y="4638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1" name=""/>
          <p:cNvSpPr/>
          <p:nvPr/>
        </p:nvSpPr>
        <p:spPr>
          <a:xfrm>
            <a:off x="3506760" y="4876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2" name=""/>
          <p:cNvSpPr/>
          <p:nvPr/>
        </p:nvSpPr>
        <p:spPr>
          <a:xfrm flipV="1">
            <a:off x="2743200" y="1980720"/>
            <a:ext cx="2666880" cy="2133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3" name=""/>
          <p:cNvSpPr/>
          <p:nvPr/>
        </p:nvSpPr>
        <p:spPr>
          <a:xfrm>
            <a:off x="3477960" y="3290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4" name=""/>
          <p:cNvSpPr/>
          <p:nvPr/>
        </p:nvSpPr>
        <p:spPr>
          <a:xfrm>
            <a:off x="3678120" y="618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5" name="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6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7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8" name=""/>
          <p:cNvSpPr/>
          <p:nvPr/>
        </p:nvSpPr>
        <p:spPr>
          <a:xfrm>
            <a:off x="2364120" y="37940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9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0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1" name=""/>
          <p:cNvSpPr/>
          <p:nvPr/>
        </p:nvSpPr>
        <p:spPr>
          <a:xfrm flipH="1">
            <a:off x="2743200" y="1442880"/>
            <a:ext cx="912960" cy="25956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2" name=""/>
          <p:cNvSpPr/>
          <p:nvPr/>
        </p:nvSpPr>
        <p:spPr>
          <a:xfrm>
            <a:off x="3657600" y="1447920"/>
            <a:ext cx="1066680" cy="25905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3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4" name=""/>
          <p:cNvSpPr/>
          <p:nvPr/>
        </p:nvSpPr>
        <p:spPr>
          <a:xfrm flipH="1">
            <a:off x="4800240" y="1905120"/>
            <a:ext cx="685800" cy="2133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5" name=""/>
          <p:cNvSpPr/>
          <p:nvPr/>
        </p:nvSpPr>
        <p:spPr>
          <a:xfrm>
            <a:off x="5562720" y="1905120"/>
            <a:ext cx="1066680" cy="2133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6" name=""/>
          <p:cNvSpPr/>
          <p:nvPr/>
        </p:nvSpPr>
        <p:spPr>
          <a:xfrm>
            <a:off x="1600200" y="2286000"/>
            <a:ext cx="1066680" cy="1752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7" name=""/>
          <p:cNvSpPr/>
          <p:nvPr/>
        </p:nvSpPr>
        <p:spPr>
          <a:xfrm>
            <a:off x="1600200" y="2286000"/>
            <a:ext cx="304920" cy="3048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8" name=""/>
          <p:cNvSpPr/>
          <p:nvPr/>
        </p:nvSpPr>
        <p:spPr>
          <a:xfrm>
            <a:off x="7621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'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9" name=""/>
          <p:cNvSpPr/>
          <p:nvPr/>
        </p:nvSpPr>
        <p:spPr>
          <a:xfrm>
            <a:off x="1535040" y="215892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0" name=""/>
          <p:cNvSpPr/>
          <p:nvPr/>
        </p:nvSpPr>
        <p:spPr>
          <a:xfrm>
            <a:off x="1258920" y="17780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1" name=""/>
          <p:cNvSpPr/>
          <p:nvPr/>
        </p:nvSpPr>
        <p:spPr>
          <a:xfrm>
            <a:off x="4697280" y="40384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2" name=""/>
          <p:cNvSpPr/>
          <p:nvPr/>
        </p:nvSpPr>
        <p:spPr>
          <a:xfrm>
            <a:off x="4268880" y="36576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3" name=""/>
          <p:cNvSpPr/>
          <p:nvPr/>
        </p:nvSpPr>
        <p:spPr>
          <a:xfrm>
            <a:off x="1828800" y="533412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4" name=""/>
          <p:cNvSpPr/>
          <p:nvPr/>
        </p:nvSpPr>
        <p:spPr>
          <a:xfrm>
            <a:off x="1553040" y="49528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5" name=""/>
          <p:cNvSpPr/>
          <p:nvPr/>
        </p:nvSpPr>
        <p:spPr>
          <a:xfrm>
            <a:off x="3352680" y="653724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6" name=""/>
          <p:cNvSpPr/>
          <p:nvPr/>
        </p:nvSpPr>
        <p:spPr>
          <a:xfrm>
            <a:off x="3077280" y="6156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7" name=""/>
          <p:cNvSpPr/>
          <p:nvPr/>
        </p:nvSpPr>
        <p:spPr>
          <a:xfrm>
            <a:off x="4495680" y="653724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8" name=""/>
          <p:cNvSpPr/>
          <p:nvPr/>
        </p:nvSpPr>
        <p:spPr>
          <a:xfrm>
            <a:off x="4220280" y="6156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9" name=""/>
          <p:cNvSpPr/>
          <p:nvPr/>
        </p:nvSpPr>
        <p:spPr>
          <a:xfrm>
            <a:off x="5257800" y="535932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0" name=""/>
          <p:cNvSpPr/>
          <p:nvPr/>
        </p:nvSpPr>
        <p:spPr>
          <a:xfrm>
            <a:off x="4878360" y="49784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1" name=""/>
          <p:cNvSpPr/>
          <p:nvPr/>
        </p:nvSpPr>
        <p:spPr>
          <a:xfrm>
            <a:off x="6629400" y="4038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2" name=""/>
          <p:cNvSpPr/>
          <p:nvPr/>
        </p:nvSpPr>
        <p:spPr>
          <a:xfrm>
            <a:off x="6734520" y="37180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3" name=""/>
          <p:cNvSpPr/>
          <p:nvPr/>
        </p:nvSpPr>
        <p:spPr>
          <a:xfrm flipV="1">
            <a:off x="5334120" y="2057040"/>
            <a:ext cx="152280" cy="3352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4" name=""/>
          <p:cNvSpPr/>
          <p:nvPr/>
        </p:nvSpPr>
        <p:spPr>
          <a:xfrm flipV="1">
            <a:off x="1905120" y="4191120"/>
            <a:ext cx="2743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5" name=""/>
          <p:cNvSpPr/>
          <p:nvPr/>
        </p:nvSpPr>
        <p:spPr>
          <a:xfrm>
            <a:off x="4800600" y="411480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6" name=""/>
          <p:cNvSpPr/>
          <p:nvPr/>
        </p:nvSpPr>
        <p:spPr>
          <a:xfrm flipV="1">
            <a:off x="5334120" y="4114800"/>
            <a:ext cx="13716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7" name=""/>
          <p:cNvSpPr/>
          <p:nvPr/>
        </p:nvSpPr>
        <p:spPr>
          <a:xfrm>
            <a:off x="3782880" y="5486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8" name=""/>
          <p:cNvSpPr/>
          <p:nvPr/>
        </p:nvSpPr>
        <p:spPr>
          <a:xfrm>
            <a:off x="3430800" y="54100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9" name=""/>
          <p:cNvSpPr/>
          <p:nvPr/>
        </p:nvSpPr>
        <p:spPr>
          <a:xfrm>
            <a:off x="1905120" y="5410080"/>
            <a:ext cx="1904760" cy="152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0" name=""/>
          <p:cNvSpPr/>
          <p:nvPr/>
        </p:nvSpPr>
        <p:spPr>
          <a:xfrm flipV="1">
            <a:off x="3886200" y="4191120"/>
            <a:ext cx="838080" cy="1371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1" name=""/>
          <p:cNvSpPr/>
          <p:nvPr/>
        </p:nvSpPr>
        <p:spPr>
          <a:xfrm flipH="1" flipV="1">
            <a:off x="2819160" y="4191120"/>
            <a:ext cx="990360" cy="1371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2" name=""/>
          <p:cNvSpPr/>
          <p:nvPr/>
        </p:nvSpPr>
        <p:spPr>
          <a:xfrm flipV="1">
            <a:off x="3886200" y="5486400"/>
            <a:ext cx="137160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3" name=""/>
          <p:cNvSpPr/>
          <p:nvPr/>
        </p:nvSpPr>
        <p:spPr>
          <a:xfrm>
            <a:off x="3042720" y="2743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4" name=""/>
          <p:cNvSpPr/>
          <p:nvPr/>
        </p:nvSpPr>
        <p:spPr>
          <a:xfrm>
            <a:off x="2182680" y="1438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5" name=""/>
          <p:cNvSpPr/>
          <p:nvPr/>
        </p:nvSpPr>
        <p:spPr>
          <a:xfrm>
            <a:off x="4227120" y="1209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6" name=""/>
          <p:cNvSpPr/>
          <p:nvPr/>
        </p:nvSpPr>
        <p:spPr>
          <a:xfrm>
            <a:off x="1344600" y="3571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7" name=""/>
          <p:cNvSpPr/>
          <p:nvPr/>
        </p:nvSpPr>
        <p:spPr>
          <a:xfrm>
            <a:off x="2639880" y="5324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8" name=""/>
          <p:cNvSpPr/>
          <p:nvPr/>
        </p:nvSpPr>
        <p:spPr>
          <a:xfrm>
            <a:off x="4316400" y="540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9" name=""/>
          <p:cNvSpPr/>
          <p:nvPr/>
        </p:nvSpPr>
        <p:spPr>
          <a:xfrm>
            <a:off x="5916600" y="456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0" name=""/>
          <p:cNvSpPr/>
          <p:nvPr/>
        </p:nvSpPr>
        <p:spPr>
          <a:xfrm>
            <a:off x="5306760" y="3419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1" name=""/>
          <p:cNvSpPr/>
          <p:nvPr/>
        </p:nvSpPr>
        <p:spPr>
          <a:xfrm>
            <a:off x="5992560" y="2657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2" name=""/>
          <p:cNvSpPr/>
          <p:nvPr/>
        </p:nvSpPr>
        <p:spPr>
          <a:xfrm>
            <a:off x="3998520" y="2428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3" name=""/>
          <p:cNvSpPr/>
          <p:nvPr/>
        </p:nvSpPr>
        <p:spPr>
          <a:xfrm>
            <a:off x="4773600" y="2809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4" name=""/>
          <p:cNvSpPr/>
          <p:nvPr/>
        </p:nvSpPr>
        <p:spPr>
          <a:xfrm>
            <a:off x="3429000" y="6629400"/>
            <a:ext cx="10666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5" name=""/>
          <p:cNvSpPr/>
          <p:nvPr/>
        </p:nvSpPr>
        <p:spPr>
          <a:xfrm>
            <a:off x="671400" y="19112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6" name=""/>
          <p:cNvSpPr/>
          <p:nvPr/>
        </p:nvSpPr>
        <p:spPr>
          <a:xfrm>
            <a:off x="2608200" y="641520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7" name=""/>
          <p:cNvSpPr/>
          <p:nvPr/>
        </p:nvSpPr>
        <p:spPr>
          <a:xfrm>
            <a:off x="4589640" y="641520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8" name=""/>
          <p:cNvSpPr/>
          <p:nvPr/>
        </p:nvSpPr>
        <p:spPr>
          <a:xfrm>
            <a:off x="5253120" y="533412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9" name=""/>
          <p:cNvSpPr/>
          <p:nvPr/>
        </p:nvSpPr>
        <p:spPr>
          <a:xfrm>
            <a:off x="6723000" y="403848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0" name=""/>
          <p:cNvSpPr/>
          <p:nvPr/>
        </p:nvSpPr>
        <p:spPr>
          <a:xfrm>
            <a:off x="5665320" y="168264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1" name=""/>
          <p:cNvSpPr/>
          <p:nvPr/>
        </p:nvSpPr>
        <p:spPr>
          <a:xfrm>
            <a:off x="3468600" y="70632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2" name=""/>
          <p:cNvSpPr/>
          <p:nvPr/>
        </p:nvSpPr>
        <p:spPr>
          <a:xfrm>
            <a:off x="2715840" y="383076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3" name=""/>
          <p:cNvSpPr/>
          <p:nvPr/>
        </p:nvSpPr>
        <p:spPr>
          <a:xfrm>
            <a:off x="3675240" y="550080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4" name=""/>
          <p:cNvSpPr/>
          <p:nvPr/>
        </p:nvSpPr>
        <p:spPr>
          <a:xfrm>
            <a:off x="4773240" y="383076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5" name=""/>
          <p:cNvSpPr/>
          <p:nvPr/>
        </p:nvSpPr>
        <p:spPr>
          <a:xfrm>
            <a:off x="687240" y="1771560"/>
            <a:ext cx="1140120" cy="722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6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7" name=""/>
          <p:cNvSpPr/>
          <p:nvPr/>
        </p:nvSpPr>
        <p:spPr>
          <a:xfrm>
            <a:off x="2052000" y="2743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8" name=""/>
          <p:cNvSpPr/>
          <p:nvPr/>
        </p:nvSpPr>
        <p:spPr>
          <a:xfrm>
            <a:off x="4287600" y="4638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9" name=""/>
          <p:cNvSpPr/>
          <p:nvPr/>
        </p:nvSpPr>
        <p:spPr>
          <a:xfrm>
            <a:off x="2287080" y="46483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0" name=""/>
          <p:cNvSpPr/>
          <p:nvPr/>
        </p:nvSpPr>
        <p:spPr>
          <a:xfrm>
            <a:off x="4897440" y="4334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1" name=""/>
          <p:cNvSpPr/>
          <p:nvPr/>
        </p:nvSpPr>
        <p:spPr>
          <a:xfrm>
            <a:off x="3506760" y="4876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2" name=""/>
          <p:cNvSpPr/>
          <p:nvPr/>
        </p:nvSpPr>
        <p:spPr>
          <a:xfrm flipV="1">
            <a:off x="2743200" y="1980720"/>
            <a:ext cx="2666880" cy="2133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3" name=""/>
          <p:cNvSpPr/>
          <p:nvPr/>
        </p:nvSpPr>
        <p:spPr>
          <a:xfrm>
            <a:off x="3477960" y="3290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4" name=""/>
          <p:cNvSpPr/>
          <p:nvPr/>
        </p:nvSpPr>
        <p:spPr>
          <a:xfrm>
            <a:off x="1084320" y="510552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5" name=""/>
          <p:cNvSpPr/>
          <p:nvPr/>
        </p:nvSpPr>
        <p:spPr>
          <a:xfrm>
            <a:off x="3678120" y="618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6" name="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7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8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9" name=""/>
          <p:cNvSpPr/>
          <p:nvPr/>
        </p:nvSpPr>
        <p:spPr>
          <a:xfrm>
            <a:off x="2364120" y="37940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0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1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2" name=""/>
          <p:cNvSpPr/>
          <p:nvPr/>
        </p:nvSpPr>
        <p:spPr>
          <a:xfrm flipH="1">
            <a:off x="2743200" y="1442880"/>
            <a:ext cx="912960" cy="2595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3" name=""/>
          <p:cNvSpPr/>
          <p:nvPr/>
        </p:nvSpPr>
        <p:spPr>
          <a:xfrm>
            <a:off x="3657600" y="1447920"/>
            <a:ext cx="1066680" cy="25905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4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5" name=""/>
          <p:cNvSpPr/>
          <p:nvPr/>
        </p:nvSpPr>
        <p:spPr>
          <a:xfrm flipH="1">
            <a:off x="4800240" y="1905120"/>
            <a:ext cx="685800" cy="2133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6" name=""/>
          <p:cNvSpPr/>
          <p:nvPr/>
        </p:nvSpPr>
        <p:spPr>
          <a:xfrm>
            <a:off x="5562720" y="1905120"/>
            <a:ext cx="1066680" cy="2133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7" name=""/>
          <p:cNvSpPr/>
          <p:nvPr/>
        </p:nvSpPr>
        <p:spPr>
          <a:xfrm>
            <a:off x="1600200" y="2286000"/>
            <a:ext cx="1066680" cy="17524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8" name=""/>
          <p:cNvSpPr/>
          <p:nvPr/>
        </p:nvSpPr>
        <p:spPr>
          <a:xfrm>
            <a:off x="1600200" y="2286000"/>
            <a:ext cx="304920" cy="3048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9" name=""/>
          <p:cNvSpPr/>
          <p:nvPr/>
        </p:nvSpPr>
        <p:spPr>
          <a:xfrm>
            <a:off x="7621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'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0" name=""/>
          <p:cNvSpPr/>
          <p:nvPr/>
        </p:nvSpPr>
        <p:spPr>
          <a:xfrm>
            <a:off x="1535040" y="215892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1" name=""/>
          <p:cNvSpPr/>
          <p:nvPr/>
        </p:nvSpPr>
        <p:spPr>
          <a:xfrm>
            <a:off x="1258920" y="17780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2" name=""/>
          <p:cNvSpPr/>
          <p:nvPr/>
        </p:nvSpPr>
        <p:spPr>
          <a:xfrm>
            <a:off x="4697280" y="40384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3" name=""/>
          <p:cNvSpPr/>
          <p:nvPr/>
        </p:nvSpPr>
        <p:spPr>
          <a:xfrm>
            <a:off x="4268880" y="36576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4" name=""/>
          <p:cNvSpPr/>
          <p:nvPr/>
        </p:nvSpPr>
        <p:spPr>
          <a:xfrm>
            <a:off x="1828800" y="5334120"/>
            <a:ext cx="15228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5" name=""/>
          <p:cNvSpPr/>
          <p:nvPr/>
        </p:nvSpPr>
        <p:spPr>
          <a:xfrm>
            <a:off x="1553040" y="49528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6" name=""/>
          <p:cNvSpPr/>
          <p:nvPr/>
        </p:nvSpPr>
        <p:spPr>
          <a:xfrm>
            <a:off x="3352680" y="653724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7" name=""/>
          <p:cNvSpPr/>
          <p:nvPr/>
        </p:nvSpPr>
        <p:spPr>
          <a:xfrm>
            <a:off x="3077280" y="6156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8" name=""/>
          <p:cNvSpPr/>
          <p:nvPr/>
        </p:nvSpPr>
        <p:spPr>
          <a:xfrm>
            <a:off x="4495680" y="653724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9" name=""/>
          <p:cNvSpPr/>
          <p:nvPr/>
        </p:nvSpPr>
        <p:spPr>
          <a:xfrm>
            <a:off x="4220280" y="6156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0" name=""/>
          <p:cNvSpPr/>
          <p:nvPr/>
        </p:nvSpPr>
        <p:spPr>
          <a:xfrm>
            <a:off x="5257800" y="535932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1" name=""/>
          <p:cNvSpPr/>
          <p:nvPr/>
        </p:nvSpPr>
        <p:spPr>
          <a:xfrm>
            <a:off x="4878360" y="49784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2" name=""/>
          <p:cNvSpPr/>
          <p:nvPr/>
        </p:nvSpPr>
        <p:spPr>
          <a:xfrm>
            <a:off x="6629400" y="4038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3" name=""/>
          <p:cNvSpPr/>
          <p:nvPr/>
        </p:nvSpPr>
        <p:spPr>
          <a:xfrm>
            <a:off x="6734520" y="37180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4" name=""/>
          <p:cNvSpPr/>
          <p:nvPr/>
        </p:nvSpPr>
        <p:spPr>
          <a:xfrm flipV="1">
            <a:off x="5334120" y="2057040"/>
            <a:ext cx="152280" cy="3352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5" name=""/>
          <p:cNvSpPr/>
          <p:nvPr/>
        </p:nvSpPr>
        <p:spPr>
          <a:xfrm flipV="1">
            <a:off x="1905120" y="4191120"/>
            <a:ext cx="2743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6" name=""/>
          <p:cNvSpPr/>
          <p:nvPr/>
        </p:nvSpPr>
        <p:spPr>
          <a:xfrm>
            <a:off x="4800600" y="411480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7" name=""/>
          <p:cNvSpPr/>
          <p:nvPr/>
        </p:nvSpPr>
        <p:spPr>
          <a:xfrm flipV="1">
            <a:off x="5334120" y="4114800"/>
            <a:ext cx="13716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8" name=""/>
          <p:cNvSpPr/>
          <p:nvPr/>
        </p:nvSpPr>
        <p:spPr>
          <a:xfrm>
            <a:off x="3782880" y="5486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9" name=""/>
          <p:cNvSpPr/>
          <p:nvPr/>
        </p:nvSpPr>
        <p:spPr>
          <a:xfrm>
            <a:off x="3430800" y="54100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0" name=""/>
          <p:cNvSpPr/>
          <p:nvPr/>
        </p:nvSpPr>
        <p:spPr>
          <a:xfrm>
            <a:off x="1905120" y="5410080"/>
            <a:ext cx="1904760" cy="152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1" name=""/>
          <p:cNvSpPr/>
          <p:nvPr/>
        </p:nvSpPr>
        <p:spPr>
          <a:xfrm flipV="1">
            <a:off x="3886200" y="4191120"/>
            <a:ext cx="838080" cy="1371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2" name=""/>
          <p:cNvSpPr/>
          <p:nvPr/>
        </p:nvSpPr>
        <p:spPr>
          <a:xfrm flipH="1" flipV="1">
            <a:off x="2819160" y="4191120"/>
            <a:ext cx="990360" cy="1371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3" name=""/>
          <p:cNvSpPr/>
          <p:nvPr/>
        </p:nvSpPr>
        <p:spPr>
          <a:xfrm flipV="1">
            <a:off x="3886200" y="5486400"/>
            <a:ext cx="137160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4" name=""/>
          <p:cNvSpPr/>
          <p:nvPr/>
        </p:nvSpPr>
        <p:spPr>
          <a:xfrm>
            <a:off x="3042720" y="2743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5" name=""/>
          <p:cNvSpPr/>
          <p:nvPr/>
        </p:nvSpPr>
        <p:spPr>
          <a:xfrm>
            <a:off x="2182680" y="1438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6" name=""/>
          <p:cNvSpPr/>
          <p:nvPr/>
        </p:nvSpPr>
        <p:spPr>
          <a:xfrm>
            <a:off x="4227120" y="1209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7" name=""/>
          <p:cNvSpPr/>
          <p:nvPr/>
        </p:nvSpPr>
        <p:spPr>
          <a:xfrm>
            <a:off x="1344600" y="3571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8" name=""/>
          <p:cNvSpPr/>
          <p:nvPr/>
        </p:nvSpPr>
        <p:spPr>
          <a:xfrm>
            <a:off x="2639880" y="5324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9" name=""/>
          <p:cNvSpPr/>
          <p:nvPr/>
        </p:nvSpPr>
        <p:spPr>
          <a:xfrm>
            <a:off x="4287600" y="4638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0" name=""/>
          <p:cNvSpPr/>
          <p:nvPr/>
        </p:nvSpPr>
        <p:spPr>
          <a:xfrm>
            <a:off x="4316400" y="540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1" name=""/>
          <p:cNvSpPr/>
          <p:nvPr/>
        </p:nvSpPr>
        <p:spPr>
          <a:xfrm>
            <a:off x="5916600" y="456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2" name=""/>
          <p:cNvSpPr/>
          <p:nvPr/>
        </p:nvSpPr>
        <p:spPr>
          <a:xfrm>
            <a:off x="5306760" y="3419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3" name=""/>
          <p:cNvSpPr/>
          <p:nvPr/>
        </p:nvSpPr>
        <p:spPr>
          <a:xfrm>
            <a:off x="5992560" y="2657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4" name=""/>
          <p:cNvSpPr/>
          <p:nvPr/>
        </p:nvSpPr>
        <p:spPr>
          <a:xfrm>
            <a:off x="3998520" y="2428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5" name=""/>
          <p:cNvSpPr/>
          <p:nvPr/>
        </p:nvSpPr>
        <p:spPr>
          <a:xfrm>
            <a:off x="4773600" y="2809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6" name=""/>
          <p:cNvSpPr/>
          <p:nvPr/>
        </p:nvSpPr>
        <p:spPr>
          <a:xfrm>
            <a:off x="3429000" y="6629400"/>
            <a:ext cx="10666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7" name=""/>
          <p:cNvSpPr/>
          <p:nvPr/>
        </p:nvSpPr>
        <p:spPr>
          <a:xfrm>
            <a:off x="671400" y="19112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8" name=""/>
          <p:cNvSpPr/>
          <p:nvPr/>
        </p:nvSpPr>
        <p:spPr>
          <a:xfrm>
            <a:off x="1128600" y="51116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9" name=""/>
          <p:cNvSpPr/>
          <p:nvPr/>
        </p:nvSpPr>
        <p:spPr>
          <a:xfrm>
            <a:off x="2608200" y="641520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0" name=""/>
          <p:cNvSpPr/>
          <p:nvPr/>
        </p:nvSpPr>
        <p:spPr>
          <a:xfrm>
            <a:off x="4589640" y="641520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1" name=""/>
          <p:cNvSpPr/>
          <p:nvPr/>
        </p:nvSpPr>
        <p:spPr>
          <a:xfrm>
            <a:off x="5253120" y="533412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2" name=""/>
          <p:cNvSpPr/>
          <p:nvPr/>
        </p:nvSpPr>
        <p:spPr>
          <a:xfrm>
            <a:off x="6723000" y="403848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3" name=""/>
          <p:cNvSpPr/>
          <p:nvPr/>
        </p:nvSpPr>
        <p:spPr>
          <a:xfrm>
            <a:off x="5665320" y="168264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4" name=""/>
          <p:cNvSpPr/>
          <p:nvPr/>
        </p:nvSpPr>
        <p:spPr>
          <a:xfrm>
            <a:off x="3468600" y="70632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5" name=""/>
          <p:cNvSpPr/>
          <p:nvPr/>
        </p:nvSpPr>
        <p:spPr>
          <a:xfrm>
            <a:off x="2715840" y="383076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3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6" name=""/>
          <p:cNvSpPr/>
          <p:nvPr/>
        </p:nvSpPr>
        <p:spPr>
          <a:xfrm>
            <a:off x="3675240" y="550080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7" name=""/>
          <p:cNvSpPr/>
          <p:nvPr/>
        </p:nvSpPr>
        <p:spPr>
          <a:xfrm>
            <a:off x="4773240" y="383076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8" name=""/>
          <p:cNvSpPr/>
          <p:nvPr/>
        </p:nvSpPr>
        <p:spPr>
          <a:xfrm>
            <a:off x="1068480" y="4971960"/>
            <a:ext cx="1139760" cy="722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9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0" name=""/>
          <p:cNvSpPr/>
          <p:nvPr/>
        </p:nvSpPr>
        <p:spPr>
          <a:xfrm>
            <a:off x="2052000" y="2743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1" name=""/>
          <p:cNvSpPr/>
          <p:nvPr/>
        </p:nvSpPr>
        <p:spPr>
          <a:xfrm>
            <a:off x="2287080" y="46483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2" name=""/>
          <p:cNvSpPr/>
          <p:nvPr/>
        </p:nvSpPr>
        <p:spPr>
          <a:xfrm>
            <a:off x="4897440" y="4334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3" name=""/>
          <p:cNvSpPr/>
          <p:nvPr/>
        </p:nvSpPr>
        <p:spPr>
          <a:xfrm>
            <a:off x="3506760" y="4876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4" name=""/>
          <p:cNvSpPr/>
          <p:nvPr/>
        </p:nvSpPr>
        <p:spPr>
          <a:xfrm flipV="1">
            <a:off x="2743200" y="1980720"/>
            <a:ext cx="2666880" cy="2133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5" name=""/>
          <p:cNvSpPr/>
          <p:nvPr/>
        </p:nvSpPr>
        <p:spPr>
          <a:xfrm>
            <a:off x="3477960" y="3290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6" name=""/>
          <p:cNvSpPr/>
          <p:nvPr/>
        </p:nvSpPr>
        <p:spPr>
          <a:xfrm>
            <a:off x="3678120" y="618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7" name="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8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9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0" name=""/>
          <p:cNvSpPr/>
          <p:nvPr/>
        </p:nvSpPr>
        <p:spPr>
          <a:xfrm>
            <a:off x="2364120" y="37940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1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2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3" name=""/>
          <p:cNvSpPr/>
          <p:nvPr/>
        </p:nvSpPr>
        <p:spPr>
          <a:xfrm flipH="1">
            <a:off x="2743200" y="1442880"/>
            <a:ext cx="912960" cy="2595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4" name=""/>
          <p:cNvSpPr/>
          <p:nvPr/>
        </p:nvSpPr>
        <p:spPr>
          <a:xfrm>
            <a:off x="3657600" y="1447920"/>
            <a:ext cx="1066680" cy="2590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5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6" name=""/>
          <p:cNvSpPr/>
          <p:nvPr/>
        </p:nvSpPr>
        <p:spPr>
          <a:xfrm flipH="1">
            <a:off x="4800240" y="1905120"/>
            <a:ext cx="685800" cy="2133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7" name=""/>
          <p:cNvSpPr/>
          <p:nvPr/>
        </p:nvSpPr>
        <p:spPr>
          <a:xfrm>
            <a:off x="5562720" y="1905120"/>
            <a:ext cx="1066680" cy="2133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8" name=""/>
          <p:cNvSpPr/>
          <p:nvPr/>
        </p:nvSpPr>
        <p:spPr>
          <a:xfrm>
            <a:off x="1600200" y="2286000"/>
            <a:ext cx="1066680" cy="17524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9" name=""/>
          <p:cNvSpPr/>
          <p:nvPr/>
        </p:nvSpPr>
        <p:spPr>
          <a:xfrm>
            <a:off x="1600200" y="2286000"/>
            <a:ext cx="30492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0" name=""/>
          <p:cNvSpPr/>
          <p:nvPr/>
        </p:nvSpPr>
        <p:spPr>
          <a:xfrm>
            <a:off x="7621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'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1" name=""/>
          <p:cNvSpPr/>
          <p:nvPr/>
        </p:nvSpPr>
        <p:spPr>
          <a:xfrm>
            <a:off x="1535040" y="215892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2" name=""/>
          <p:cNvSpPr/>
          <p:nvPr/>
        </p:nvSpPr>
        <p:spPr>
          <a:xfrm>
            <a:off x="1258920" y="17780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3" name=""/>
          <p:cNvSpPr/>
          <p:nvPr/>
        </p:nvSpPr>
        <p:spPr>
          <a:xfrm>
            <a:off x="4697280" y="40384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4" name=""/>
          <p:cNvSpPr/>
          <p:nvPr/>
        </p:nvSpPr>
        <p:spPr>
          <a:xfrm>
            <a:off x="4268880" y="36576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5" name=""/>
          <p:cNvSpPr/>
          <p:nvPr/>
        </p:nvSpPr>
        <p:spPr>
          <a:xfrm>
            <a:off x="1553040" y="49528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6" name=""/>
          <p:cNvSpPr/>
          <p:nvPr/>
        </p:nvSpPr>
        <p:spPr>
          <a:xfrm>
            <a:off x="3352680" y="653724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7" name=""/>
          <p:cNvSpPr/>
          <p:nvPr/>
        </p:nvSpPr>
        <p:spPr>
          <a:xfrm>
            <a:off x="3077280" y="6156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8" name=""/>
          <p:cNvSpPr/>
          <p:nvPr/>
        </p:nvSpPr>
        <p:spPr>
          <a:xfrm>
            <a:off x="4495680" y="653724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9" name=""/>
          <p:cNvSpPr/>
          <p:nvPr/>
        </p:nvSpPr>
        <p:spPr>
          <a:xfrm>
            <a:off x="4220280" y="6156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0" name=""/>
          <p:cNvSpPr/>
          <p:nvPr/>
        </p:nvSpPr>
        <p:spPr>
          <a:xfrm>
            <a:off x="5257800" y="535932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1" name=""/>
          <p:cNvSpPr/>
          <p:nvPr/>
        </p:nvSpPr>
        <p:spPr>
          <a:xfrm>
            <a:off x="4878360" y="49784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2" name=""/>
          <p:cNvSpPr/>
          <p:nvPr/>
        </p:nvSpPr>
        <p:spPr>
          <a:xfrm>
            <a:off x="6629400" y="4038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3" name=""/>
          <p:cNvSpPr/>
          <p:nvPr/>
        </p:nvSpPr>
        <p:spPr>
          <a:xfrm>
            <a:off x="6734520" y="37180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4" name=""/>
          <p:cNvSpPr/>
          <p:nvPr/>
        </p:nvSpPr>
        <p:spPr>
          <a:xfrm flipV="1">
            <a:off x="5334120" y="2057040"/>
            <a:ext cx="152280" cy="3352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5" name=""/>
          <p:cNvSpPr/>
          <p:nvPr/>
        </p:nvSpPr>
        <p:spPr>
          <a:xfrm flipV="1">
            <a:off x="1905120" y="4191120"/>
            <a:ext cx="2743200" cy="12189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6" name=""/>
          <p:cNvSpPr/>
          <p:nvPr/>
        </p:nvSpPr>
        <p:spPr>
          <a:xfrm>
            <a:off x="4800600" y="411480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7" name=""/>
          <p:cNvSpPr/>
          <p:nvPr/>
        </p:nvSpPr>
        <p:spPr>
          <a:xfrm flipV="1">
            <a:off x="5334120" y="4114800"/>
            <a:ext cx="13716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8" name=""/>
          <p:cNvSpPr/>
          <p:nvPr/>
        </p:nvSpPr>
        <p:spPr>
          <a:xfrm>
            <a:off x="3782880" y="54864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9" name=""/>
          <p:cNvSpPr/>
          <p:nvPr/>
        </p:nvSpPr>
        <p:spPr>
          <a:xfrm>
            <a:off x="3430800" y="54100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0" name=""/>
          <p:cNvSpPr/>
          <p:nvPr/>
        </p:nvSpPr>
        <p:spPr>
          <a:xfrm>
            <a:off x="1905120" y="5410080"/>
            <a:ext cx="1904760" cy="152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1" name=""/>
          <p:cNvSpPr/>
          <p:nvPr/>
        </p:nvSpPr>
        <p:spPr>
          <a:xfrm flipV="1">
            <a:off x="3886200" y="4191120"/>
            <a:ext cx="838080" cy="1371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2" name=""/>
          <p:cNvSpPr/>
          <p:nvPr/>
        </p:nvSpPr>
        <p:spPr>
          <a:xfrm flipH="1" flipV="1">
            <a:off x="2819160" y="4191120"/>
            <a:ext cx="990360" cy="1371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3" name=""/>
          <p:cNvSpPr/>
          <p:nvPr/>
        </p:nvSpPr>
        <p:spPr>
          <a:xfrm flipV="1">
            <a:off x="3886200" y="5486400"/>
            <a:ext cx="137160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4" name=""/>
          <p:cNvSpPr/>
          <p:nvPr/>
        </p:nvSpPr>
        <p:spPr>
          <a:xfrm>
            <a:off x="3042720" y="2743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5" name=""/>
          <p:cNvSpPr/>
          <p:nvPr/>
        </p:nvSpPr>
        <p:spPr>
          <a:xfrm>
            <a:off x="2182680" y="1438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6" name=""/>
          <p:cNvSpPr/>
          <p:nvPr/>
        </p:nvSpPr>
        <p:spPr>
          <a:xfrm>
            <a:off x="4227120" y="1209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7" name=""/>
          <p:cNvSpPr/>
          <p:nvPr/>
        </p:nvSpPr>
        <p:spPr>
          <a:xfrm>
            <a:off x="1344600" y="3571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8" name=""/>
          <p:cNvSpPr/>
          <p:nvPr/>
        </p:nvSpPr>
        <p:spPr>
          <a:xfrm>
            <a:off x="2639880" y="5324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9" name=""/>
          <p:cNvSpPr/>
          <p:nvPr/>
        </p:nvSpPr>
        <p:spPr>
          <a:xfrm>
            <a:off x="4287600" y="4638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0" name=""/>
          <p:cNvSpPr/>
          <p:nvPr/>
        </p:nvSpPr>
        <p:spPr>
          <a:xfrm>
            <a:off x="4316400" y="540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1" name=""/>
          <p:cNvSpPr/>
          <p:nvPr/>
        </p:nvSpPr>
        <p:spPr>
          <a:xfrm>
            <a:off x="5916600" y="456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2" name=""/>
          <p:cNvSpPr/>
          <p:nvPr/>
        </p:nvSpPr>
        <p:spPr>
          <a:xfrm>
            <a:off x="5306760" y="3419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3" name=""/>
          <p:cNvSpPr/>
          <p:nvPr/>
        </p:nvSpPr>
        <p:spPr>
          <a:xfrm>
            <a:off x="5992560" y="2657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4" name=""/>
          <p:cNvSpPr/>
          <p:nvPr/>
        </p:nvSpPr>
        <p:spPr>
          <a:xfrm>
            <a:off x="3998520" y="2428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5" name=""/>
          <p:cNvSpPr/>
          <p:nvPr/>
        </p:nvSpPr>
        <p:spPr>
          <a:xfrm>
            <a:off x="4773600" y="2809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6" name=""/>
          <p:cNvSpPr/>
          <p:nvPr/>
        </p:nvSpPr>
        <p:spPr>
          <a:xfrm>
            <a:off x="3429000" y="6629400"/>
            <a:ext cx="10666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7" name=""/>
          <p:cNvSpPr/>
          <p:nvPr/>
        </p:nvSpPr>
        <p:spPr>
          <a:xfrm>
            <a:off x="671400" y="19112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8" name=""/>
          <p:cNvSpPr/>
          <p:nvPr/>
        </p:nvSpPr>
        <p:spPr>
          <a:xfrm>
            <a:off x="1128600" y="51116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9" name=""/>
          <p:cNvSpPr/>
          <p:nvPr/>
        </p:nvSpPr>
        <p:spPr>
          <a:xfrm>
            <a:off x="2608200" y="641520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0" name=""/>
          <p:cNvSpPr/>
          <p:nvPr/>
        </p:nvSpPr>
        <p:spPr>
          <a:xfrm>
            <a:off x="4589640" y="641520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1" name=""/>
          <p:cNvSpPr/>
          <p:nvPr/>
        </p:nvSpPr>
        <p:spPr>
          <a:xfrm>
            <a:off x="5253120" y="533412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2" name=""/>
          <p:cNvSpPr/>
          <p:nvPr/>
        </p:nvSpPr>
        <p:spPr>
          <a:xfrm>
            <a:off x="6723000" y="403848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3" name=""/>
          <p:cNvSpPr/>
          <p:nvPr/>
        </p:nvSpPr>
        <p:spPr>
          <a:xfrm>
            <a:off x="5665320" y="168264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4" name=""/>
          <p:cNvSpPr/>
          <p:nvPr/>
        </p:nvSpPr>
        <p:spPr>
          <a:xfrm>
            <a:off x="3468600" y="70632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5" name=""/>
          <p:cNvSpPr/>
          <p:nvPr/>
        </p:nvSpPr>
        <p:spPr>
          <a:xfrm>
            <a:off x="2715840" y="383076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3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6" name=""/>
          <p:cNvSpPr/>
          <p:nvPr/>
        </p:nvSpPr>
        <p:spPr>
          <a:xfrm>
            <a:off x="3719520" y="550692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7" name=""/>
          <p:cNvSpPr/>
          <p:nvPr/>
        </p:nvSpPr>
        <p:spPr>
          <a:xfrm>
            <a:off x="4773240" y="383076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8" name=""/>
          <p:cNvSpPr/>
          <p:nvPr/>
        </p:nvSpPr>
        <p:spPr>
          <a:xfrm>
            <a:off x="3352680" y="5410080"/>
            <a:ext cx="1140120" cy="722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9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0" name=""/>
          <p:cNvSpPr/>
          <p:nvPr/>
        </p:nvSpPr>
        <p:spPr>
          <a:xfrm>
            <a:off x="2052000" y="2743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1" name=""/>
          <p:cNvSpPr/>
          <p:nvPr/>
        </p:nvSpPr>
        <p:spPr>
          <a:xfrm>
            <a:off x="1828800" y="53341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2" name=""/>
          <p:cNvSpPr/>
          <p:nvPr/>
        </p:nvSpPr>
        <p:spPr>
          <a:xfrm>
            <a:off x="2287080" y="46483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3" name=""/>
          <p:cNvSpPr/>
          <p:nvPr/>
        </p:nvSpPr>
        <p:spPr>
          <a:xfrm>
            <a:off x="4897440" y="4334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4" name=""/>
          <p:cNvSpPr/>
          <p:nvPr/>
        </p:nvSpPr>
        <p:spPr>
          <a:xfrm>
            <a:off x="3506760" y="4876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5" name=""/>
          <p:cNvSpPr/>
          <p:nvPr/>
        </p:nvSpPr>
        <p:spPr>
          <a:xfrm flipV="1">
            <a:off x="2743200" y="1980720"/>
            <a:ext cx="2666880" cy="2133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6" name=""/>
          <p:cNvSpPr/>
          <p:nvPr/>
        </p:nvSpPr>
        <p:spPr>
          <a:xfrm>
            <a:off x="3477960" y="3290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7" name=""/>
          <p:cNvSpPr/>
          <p:nvPr/>
        </p:nvSpPr>
        <p:spPr>
          <a:xfrm>
            <a:off x="3678120" y="618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8" name="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9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0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1" name=""/>
          <p:cNvSpPr/>
          <p:nvPr/>
        </p:nvSpPr>
        <p:spPr>
          <a:xfrm>
            <a:off x="2364120" y="37940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2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3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4" name=""/>
          <p:cNvSpPr/>
          <p:nvPr/>
        </p:nvSpPr>
        <p:spPr>
          <a:xfrm flipH="1">
            <a:off x="2743200" y="1442880"/>
            <a:ext cx="912960" cy="2595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5" name=""/>
          <p:cNvSpPr/>
          <p:nvPr/>
        </p:nvSpPr>
        <p:spPr>
          <a:xfrm>
            <a:off x="3657600" y="1447920"/>
            <a:ext cx="1066680" cy="2590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6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7" name=""/>
          <p:cNvSpPr/>
          <p:nvPr/>
        </p:nvSpPr>
        <p:spPr>
          <a:xfrm flipH="1">
            <a:off x="4800240" y="1905120"/>
            <a:ext cx="685800" cy="2133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8" name=""/>
          <p:cNvSpPr/>
          <p:nvPr/>
        </p:nvSpPr>
        <p:spPr>
          <a:xfrm>
            <a:off x="5562720" y="1905120"/>
            <a:ext cx="1066680" cy="2133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9" name=""/>
          <p:cNvSpPr/>
          <p:nvPr/>
        </p:nvSpPr>
        <p:spPr>
          <a:xfrm>
            <a:off x="1600200" y="2286000"/>
            <a:ext cx="1066680" cy="1752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0" name=""/>
          <p:cNvSpPr/>
          <p:nvPr/>
        </p:nvSpPr>
        <p:spPr>
          <a:xfrm>
            <a:off x="1600200" y="2286000"/>
            <a:ext cx="30492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1" name=""/>
          <p:cNvSpPr/>
          <p:nvPr/>
        </p:nvSpPr>
        <p:spPr>
          <a:xfrm>
            <a:off x="7621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'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2" name=""/>
          <p:cNvSpPr/>
          <p:nvPr/>
        </p:nvSpPr>
        <p:spPr>
          <a:xfrm>
            <a:off x="1535040" y="215892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3" name=""/>
          <p:cNvSpPr/>
          <p:nvPr/>
        </p:nvSpPr>
        <p:spPr>
          <a:xfrm>
            <a:off x="1258920" y="17780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4" name=""/>
          <p:cNvSpPr/>
          <p:nvPr/>
        </p:nvSpPr>
        <p:spPr>
          <a:xfrm>
            <a:off x="4697280" y="40384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5" name=""/>
          <p:cNvSpPr/>
          <p:nvPr/>
        </p:nvSpPr>
        <p:spPr>
          <a:xfrm>
            <a:off x="4268880" y="36576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6" name=""/>
          <p:cNvSpPr/>
          <p:nvPr/>
        </p:nvSpPr>
        <p:spPr>
          <a:xfrm>
            <a:off x="1553040" y="49528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7" name=""/>
          <p:cNvSpPr/>
          <p:nvPr/>
        </p:nvSpPr>
        <p:spPr>
          <a:xfrm>
            <a:off x="3352680" y="653724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8" name=""/>
          <p:cNvSpPr/>
          <p:nvPr/>
        </p:nvSpPr>
        <p:spPr>
          <a:xfrm>
            <a:off x="3077280" y="6156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9" name=""/>
          <p:cNvSpPr/>
          <p:nvPr/>
        </p:nvSpPr>
        <p:spPr>
          <a:xfrm>
            <a:off x="4495680" y="653724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0" name=""/>
          <p:cNvSpPr/>
          <p:nvPr/>
        </p:nvSpPr>
        <p:spPr>
          <a:xfrm>
            <a:off x="4220280" y="6156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1" name=""/>
          <p:cNvSpPr/>
          <p:nvPr/>
        </p:nvSpPr>
        <p:spPr>
          <a:xfrm>
            <a:off x="5257800" y="535932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2" name=""/>
          <p:cNvSpPr/>
          <p:nvPr/>
        </p:nvSpPr>
        <p:spPr>
          <a:xfrm>
            <a:off x="4878360" y="49784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3" name=""/>
          <p:cNvSpPr/>
          <p:nvPr/>
        </p:nvSpPr>
        <p:spPr>
          <a:xfrm>
            <a:off x="6629400" y="4038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4" name=""/>
          <p:cNvSpPr/>
          <p:nvPr/>
        </p:nvSpPr>
        <p:spPr>
          <a:xfrm>
            <a:off x="6734520" y="37180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5" name=""/>
          <p:cNvSpPr/>
          <p:nvPr/>
        </p:nvSpPr>
        <p:spPr>
          <a:xfrm flipV="1">
            <a:off x="5334120" y="2057040"/>
            <a:ext cx="152280" cy="3352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6" name=""/>
          <p:cNvSpPr/>
          <p:nvPr/>
        </p:nvSpPr>
        <p:spPr>
          <a:xfrm flipV="1">
            <a:off x="1905120" y="4191120"/>
            <a:ext cx="2743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7" name=""/>
          <p:cNvSpPr/>
          <p:nvPr/>
        </p:nvSpPr>
        <p:spPr>
          <a:xfrm>
            <a:off x="4800600" y="4114800"/>
            <a:ext cx="457200" cy="1219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8" name=""/>
          <p:cNvSpPr/>
          <p:nvPr/>
        </p:nvSpPr>
        <p:spPr>
          <a:xfrm flipV="1">
            <a:off x="5334120" y="4114800"/>
            <a:ext cx="13716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9" name=""/>
          <p:cNvSpPr/>
          <p:nvPr/>
        </p:nvSpPr>
        <p:spPr>
          <a:xfrm>
            <a:off x="3430800" y="54100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0" name=""/>
          <p:cNvSpPr/>
          <p:nvPr/>
        </p:nvSpPr>
        <p:spPr>
          <a:xfrm>
            <a:off x="1905120" y="5410080"/>
            <a:ext cx="19047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1" name=""/>
          <p:cNvSpPr/>
          <p:nvPr/>
        </p:nvSpPr>
        <p:spPr>
          <a:xfrm flipV="1">
            <a:off x="3886200" y="4191120"/>
            <a:ext cx="838080" cy="13716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2" name=""/>
          <p:cNvSpPr/>
          <p:nvPr/>
        </p:nvSpPr>
        <p:spPr>
          <a:xfrm flipH="1" flipV="1">
            <a:off x="2819160" y="4191120"/>
            <a:ext cx="990360" cy="13716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3" name=""/>
          <p:cNvSpPr/>
          <p:nvPr/>
        </p:nvSpPr>
        <p:spPr>
          <a:xfrm flipV="1">
            <a:off x="3886200" y="5486400"/>
            <a:ext cx="1371600" cy="76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4" name=""/>
          <p:cNvSpPr/>
          <p:nvPr/>
        </p:nvSpPr>
        <p:spPr>
          <a:xfrm>
            <a:off x="3042720" y="2743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5" name=""/>
          <p:cNvSpPr/>
          <p:nvPr/>
        </p:nvSpPr>
        <p:spPr>
          <a:xfrm>
            <a:off x="2182680" y="1438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6" name=""/>
          <p:cNvSpPr/>
          <p:nvPr/>
        </p:nvSpPr>
        <p:spPr>
          <a:xfrm>
            <a:off x="4227120" y="1209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7" name=""/>
          <p:cNvSpPr/>
          <p:nvPr/>
        </p:nvSpPr>
        <p:spPr>
          <a:xfrm>
            <a:off x="1344600" y="3571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8" name=""/>
          <p:cNvSpPr/>
          <p:nvPr/>
        </p:nvSpPr>
        <p:spPr>
          <a:xfrm>
            <a:off x="2639880" y="5324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9" name=""/>
          <p:cNvSpPr/>
          <p:nvPr/>
        </p:nvSpPr>
        <p:spPr>
          <a:xfrm>
            <a:off x="4287600" y="4638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0" name=""/>
          <p:cNvSpPr/>
          <p:nvPr/>
        </p:nvSpPr>
        <p:spPr>
          <a:xfrm>
            <a:off x="4316400" y="540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1" name=""/>
          <p:cNvSpPr/>
          <p:nvPr/>
        </p:nvSpPr>
        <p:spPr>
          <a:xfrm>
            <a:off x="5916600" y="456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2" name=""/>
          <p:cNvSpPr/>
          <p:nvPr/>
        </p:nvSpPr>
        <p:spPr>
          <a:xfrm>
            <a:off x="5306760" y="3419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3" name=""/>
          <p:cNvSpPr/>
          <p:nvPr/>
        </p:nvSpPr>
        <p:spPr>
          <a:xfrm>
            <a:off x="5992560" y="2657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4" name=""/>
          <p:cNvSpPr/>
          <p:nvPr/>
        </p:nvSpPr>
        <p:spPr>
          <a:xfrm>
            <a:off x="3998520" y="2428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5" name=""/>
          <p:cNvSpPr/>
          <p:nvPr/>
        </p:nvSpPr>
        <p:spPr>
          <a:xfrm>
            <a:off x="4773600" y="2809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6" name=""/>
          <p:cNvSpPr/>
          <p:nvPr/>
        </p:nvSpPr>
        <p:spPr>
          <a:xfrm>
            <a:off x="3429000" y="6629400"/>
            <a:ext cx="10666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7" name=""/>
          <p:cNvSpPr/>
          <p:nvPr/>
        </p:nvSpPr>
        <p:spPr>
          <a:xfrm>
            <a:off x="671400" y="19112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8" name=""/>
          <p:cNvSpPr/>
          <p:nvPr/>
        </p:nvSpPr>
        <p:spPr>
          <a:xfrm>
            <a:off x="1128600" y="51116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9" name=""/>
          <p:cNvSpPr/>
          <p:nvPr/>
        </p:nvSpPr>
        <p:spPr>
          <a:xfrm>
            <a:off x="2608200" y="641520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0" name=""/>
          <p:cNvSpPr/>
          <p:nvPr/>
        </p:nvSpPr>
        <p:spPr>
          <a:xfrm>
            <a:off x="4589640" y="641520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1" name=""/>
          <p:cNvSpPr/>
          <p:nvPr/>
        </p:nvSpPr>
        <p:spPr>
          <a:xfrm>
            <a:off x="5208120" y="534024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2" name=""/>
          <p:cNvSpPr/>
          <p:nvPr/>
        </p:nvSpPr>
        <p:spPr>
          <a:xfrm>
            <a:off x="6723000" y="403848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3" name=""/>
          <p:cNvSpPr/>
          <p:nvPr/>
        </p:nvSpPr>
        <p:spPr>
          <a:xfrm>
            <a:off x="5665320" y="168264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4" name=""/>
          <p:cNvSpPr/>
          <p:nvPr/>
        </p:nvSpPr>
        <p:spPr>
          <a:xfrm>
            <a:off x="3468600" y="70632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5" name=""/>
          <p:cNvSpPr/>
          <p:nvPr/>
        </p:nvSpPr>
        <p:spPr>
          <a:xfrm>
            <a:off x="2716200" y="383076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6" name=""/>
          <p:cNvSpPr/>
          <p:nvPr/>
        </p:nvSpPr>
        <p:spPr>
          <a:xfrm>
            <a:off x="3719520" y="550692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7" name=""/>
          <p:cNvSpPr/>
          <p:nvPr/>
        </p:nvSpPr>
        <p:spPr>
          <a:xfrm>
            <a:off x="4773600" y="383076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8" name=""/>
          <p:cNvSpPr/>
          <p:nvPr/>
        </p:nvSpPr>
        <p:spPr>
          <a:xfrm>
            <a:off x="4268880" y="3676680"/>
            <a:ext cx="1139760" cy="722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9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0" name=""/>
          <p:cNvSpPr/>
          <p:nvPr/>
        </p:nvSpPr>
        <p:spPr>
          <a:xfrm>
            <a:off x="2052000" y="2743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1" name=""/>
          <p:cNvSpPr/>
          <p:nvPr/>
        </p:nvSpPr>
        <p:spPr>
          <a:xfrm>
            <a:off x="1828800" y="53341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2" name=""/>
          <p:cNvSpPr/>
          <p:nvPr/>
        </p:nvSpPr>
        <p:spPr>
          <a:xfrm>
            <a:off x="3782880" y="5486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3" name=""/>
          <p:cNvSpPr/>
          <p:nvPr/>
        </p:nvSpPr>
        <p:spPr>
          <a:xfrm>
            <a:off x="4287600" y="4638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4" name=""/>
          <p:cNvSpPr/>
          <p:nvPr/>
        </p:nvSpPr>
        <p:spPr>
          <a:xfrm>
            <a:off x="2287080" y="46483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5" name=""/>
          <p:cNvSpPr/>
          <p:nvPr/>
        </p:nvSpPr>
        <p:spPr>
          <a:xfrm>
            <a:off x="4897440" y="4334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6" name=""/>
          <p:cNvSpPr/>
          <p:nvPr/>
        </p:nvSpPr>
        <p:spPr>
          <a:xfrm flipV="1">
            <a:off x="2743200" y="1980720"/>
            <a:ext cx="2666880" cy="2133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7" name=""/>
          <p:cNvSpPr/>
          <p:nvPr/>
        </p:nvSpPr>
        <p:spPr>
          <a:xfrm>
            <a:off x="3477960" y="3290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8" name=""/>
          <p:cNvSpPr/>
          <p:nvPr/>
        </p:nvSpPr>
        <p:spPr>
          <a:xfrm>
            <a:off x="3678120" y="618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9" name="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0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1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2" name=""/>
          <p:cNvSpPr/>
          <p:nvPr/>
        </p:nvSpPr>
        <p:spPr>
          <a:xfrm>
            <a:off x="2364120" y="37940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3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4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5" name=""/>
          <p:cNvSpPr/>
          <p:nvPr/>
        </p:nvSpPr>
        <p:spPr>
          <a:xfrm flipH="1">
            <a:off x="2743200" y="1442880"/>
            <a:ext cx="912960" cy="2595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6" name=""/>
          <p:cNvSpPr/>
          <p:nvPr/>
        </p:nvSpPr>
        <p:spPr>
          <a:xfrm>
            <a:off x="3657600" y="1447920"/>
            <a:ext cx="1066680" cy="2590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7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8" name=""/>
          <p:cNvSpPr/>
          <p:nvPr/>
        </p:nvSpPr>
        <p:spPr>
          <a:xfrm flipH="1">
            <a:off x="4800240" y="1905120"/>
            <a:ext cx="685800" cy="2133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9" name=""/>
          <p:cNvSpPr/>
          <p:nvPr/>
        </p:nvSpPr>
        <p:spPr>
          <a:xfrm>
            <a:off x="5562720" y="1905120"/>
            <a:ext cx="1066680" cy="2133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0" name=""/>
          <p:cNvSpPr/>
          <p:nvPr/>
        </p:nvSpPr>
        <p:spPr>
          <a:xfrm>
            <a:off x="1600200" y="2286000"/>
            <a:ext cx="1066680" cy="1752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1" name=""/>
          <p:cNvSpPr/>
          <p:nvPr/>
        </p:nvSpPr>
        <p:spPr>
          <a:xfrm>
            <a:off x="1600200" y="2286000"/>
            <a:ext cx="30492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2" name=""/>
          <p:cNvSpPr/>
          <p:nvPr/>
        </p:nvSpPr>
        <p:spPr>
          <a:xfrm>
            <a:off x="7621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'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3" name=""/>
          <p:cNvSpPr/>
          <p:nvPr/>
        </p:nvSpPr>
        <p:spPr>
          <a:xfrm>
            <a:off x="1535040" y="215892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4" name=""/>
          <p:cNvSpPr/>
          <p:nvPr/>
        </p:nvSpPr>
        <p:spPr>
          <a:xfrm>
            <a:off x="1258920" y="17780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5" name=""/>
          <p:cNvSpPr/>
          <p:nvPr/>
        </p:nvSpPr>
        <p:spPr>
          <a:xfrm>
            <a:off x="4268880" y="36576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6" name=""/>
          <p:cNvSpPr/>
          <p:nvPr/>
        </p:nvSpPr>
        <p:spPr>
          <a:xfrm>
            <a:off x="1553040" y="49528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7" name=""/>
          <p:cNvSpPr/>
          <p:nvPr/>
        </p:nvSpPr>
        <p:spPr>
          <a:xfrm>
            <a:off x="3352680" y="653724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8" name=""/>
          <p:cNvSpPr/>
          <p:nvPr/>
        </p:nvSpPr>
        <p:spPr>
          <a:xfrm>
            <a:off x="3077280" y="6156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9" name=""/>
          <p:cNvSpPr/>
          <p:nvPr/>
        </p:nvSpPr>
        <p:spPr>
          <a:xfrm>
            <a:off x="4495680" y="653724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0" name=""/>
          <p:cNvSpPr/>
          <p:nvPr/>
        </p:nvSpPr>
        <p:spPr>
          <a:xfrm>
            <a:off x="4220280" y="6156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1" name=""/>
          <p:cNvSpPr/>
          <p:nvPr/>
        </p:nvSpPr>
        <p:spPr>
          <a:xfrm>
            <a:off x="5257800" y="535932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2" name=""/>
          <p:cNvSpPr/>
          <p:nvPr/>
        </p:nvSpPr>
        <p:spPr>
          <a:xfrm>
            <a:off x="4878360" y="49784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3" name=""/>
          <p:cNvSpPr/>
          <p:nvPr/>
        </p:nvSpPr>
        <p:spPr>
          <a:xfrm>
            <a:off x="6629400" y="4038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4" name=""/>
          <p:cNvSpPr/>
          <p:nvPr/>
        </p:nvSpPr>
        <p:spPr>
          <a:xfrm>
            <a:off x="6734520" y="37180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5" name=""/>
          <p:cNvSpPr/>
          <p:nvPr/>
        </p:nvSpPr>
        <p:spPr>
          <a:xfrm flipV="1">
            <a:off x="5334120" y="2057040"/>
            <a:ext cx="152280" cy="3352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6" name=""/>
          <p:cNvSpPr/>
          <p:nvPr/>
        </p:nvSpPr>
        <p:spPr>
          <a:xfrm flipV="1">
            <a:off x="1905120" y="4191120"/>
            <a:ext cx="2743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7" name=""/>
          <p:cNvSpPr/>
          <p:nvPr/>
        </p:nvSpPr>
        <p:spPr>
          <a:xfrm>
            <a:off x="4800600" y="4114800"/>
            <a:ext cx="457200" cy="1219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8" name=""/>
          <p:cNvSpPr/>
          <p:nvPr/>
        </p:nvSpPr>
        <p:spPr>
          <a:xfrm flipV="1">
            <a:off x="5334120" y="4114800"/>
            <a:ext cx="13716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9" name=""/>
          <p:cNvSpPr/>
          <p:nvPr/>
        </p:nvSpPr>
        <p:spPr>
          <a:xfrm>
            <a:off x="3430800" y="54100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0" name=""/>
          <p:cNvSpPr/>
          <p:nvPr/>
        </p:nvSpPr>
        <p:spPr>
          <a:xfrm>
            <a:off x="1905120" y="5410080"/>
            <a:ext cx="19047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1" name=""/>
          <p:cNvSpPr/>
          <p:nvPr/>
        </p:nvSpPr>
        <p:spPr>
          <a:xfrm flipV="1">
            <a:off x="3886200" y="4191120"/>
            <a:ext cx="83808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2" name=""/>
          <p:cNvSpPr/>
          <p:nvPr/>
        </p:nvSpPr>
        <p:spPr>
          <a:xfrm flipH="1" flipV="1">
            <a:off x="2819160" y="4191120"/>
            <a:ext cx="990360" cy="13716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3" name=""/>
          <p:cNvSpPr/>
          <p:nvPr/>
        </p:nvSpPr>
        <p:spPr>
          <a:xfrm flipV="1">
            <a:off x="3886200" y="5486400"/>
            <a:ext cx="137160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4" name=""/>
          <p:cNvSpPr/>
          <p:nvPr/>
        </p:nvSpPr>
        <p:spPr>
          <a:xfrm>
            <a:off x="3042720" y="2743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5" name=""/>
          <p:cNvSpPr/>
          <p:nvPr/>
        </p:nvSpPr>
        <p:spPr>
          <a:xfrm>
            <a:off x="2182680" y="1438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6" name=""/>
          <p:cNvSpPr/>
          <p:nvPr/>
        </p:nvSpPr>
        <p:spPr>
          <a:xfrm>
            <a:off x="4227120" y="1209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7" name=""/>
          <p:cNvSpPr/>
          <p:nvPr/>
        </p:nvSpPr>
        <p:spPr>
          <a:xfrm>
            <a:off x="1344600" y="3571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8" name=""/>
          <p:cNvSpPr/>
          <p:nvPr/>
        </p:nvSpPr>
        <p:spPr>
          <a:xfrm>
            <a:off x="2639880" y="5324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9" name=""/>
          <p:cNvSpPr/>
          <p:nvPr/>
        </p:nvSpPr>
        <p:spPr>
          <a:xfrm>
            <a:off x="4287600" y="4638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0" name=""/>
          <p:cNvSpPr/>
          <p:nvPr/>
        </p:nvSpPr>
        <p:spPr>
          <a:xfrm>
            <a:off x="4316400" y="540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1" name=""/>
          <p:cNvSpPr/>
          <p:nvPr/>
        </p:nvSpPr>
        <p:spPr>
          <a:xfrm>
            <a:off x="5916600" y="456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2" name=""/>
          <p:cNvSpPr/>
          <p:nvPr/>
        </p:nvSpPr>
        <p:spPr>
          <a:xfrm>
            <a:off x="5306760" y="3419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3" name=""/>
          <p:cNvSpPr/>
          <p:nvPr/>
        </p:nvSpPr>
        <p:spPr>
          <a:xfrm>
            <a:off x="5992560" y="2657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4" name=""/>
          <p:cNvSpPr/>
          <p:nvPr/>
        </p:nvSpPr>
        <p:spPr>
          <a:xfrm>
            <a:off x="3998520" y="2428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5" name=""/>
          <p:cNvSpPr/>
          <p:nvPr/>
        </p:nvSpPr>
        <p:spPr>
          <a:xfrm>
            <a:off x="4773600" y="2809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6" name=""/>
          <p:cNvSpPr/>
          <p:nvPr/>
        </p:nvSpPr>
        <p:spPr>
          <a:xfrm>
            <a:off x="3429000" y="6629400"/>
            <a:ext cx="10666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7" name=""/>
          <p:cNvSpPr/>
          <p:nvPr/>
        </p:nvSpPr>
        <p:spPr>
          <a:xfrm>
            <a:off x="671400" y="19112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8" name=""/>
          <p:cNvSpPr/>
          <p:nvPr/>
        </p:nvSpPr>
        <p:spPr>
          <a:xfrm>
            <a:off x="1128600" y="51116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9" name=""/>
          <p:cNvSpPr/>
          <p:nvPr/>
        </p:nvSpPr>
        <p:spPr>
          <a:xfrm>
            <a:off x="2608200" y="641520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0" name=""/>
          <p:cNvSpPr/>
          <p:nvPr/>
        </p:nvSpPr>
        <p:spPr>
          <a:xfrm>
            <a:off x="4589640" y="641520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1" name=""/>
          <p:cNvSpPr/>
          <p:nvPr/>
        </p:nvSpPr>
        <p:spPr>
          <a:xfrm>
            <a:off x="5208480" y="53402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2" name=""/>
          <p:cNvSpPr/>
          <p:nvPr/>
        </p:nvSpPr>
        <p:spPr>
          <a:xfrm>
            <a:off x="6723000" y="403848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3" name=""/>
          <p:cNvSpPr/>
          <p:nvPr/>
        </p:nvSpPr>
        <p:spPr>
          <a:xfrm>
            <a:off x="5665320" y="168264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4" name=""/>
          <p:cNvSpPr/>
          <p:nvPr/>
        </p:nvSpPr>
        <p:spPr>
          <a:xfrm>
            <a:off x="3468600" y="70632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5" name=""/>
          <p:cNvSpPr/>
          <p:nvPr/>
        </p:nvSpPr>
        <p:spPr>
          <a:xfrm>
            <a:off x="2716200" y="383076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6" name=""/>
          <p:cNvSpPr/>
          <p:nvPr/>
        </p:nvSpPr>
        <p:spPr>
          <a:xfrm>
            <a:off x="3719520" y="550692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7" name=""/>
          <p:cNvSpPr/>
          <p:nvPr/>
        </p:nvSpPr>
        <p:spPr>
          <a:xfrm>
            <a:off x="4773600" y="383076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8" name=""/>
          <p:cNvSpPr/>
          <p:nvPr/>
        </p:nvSpPr>
        <p:spPr>
          <a:xfrm>
            <a:off x="2287440" y="3676680"/>
            <a:ext cx="1140120" cy="722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9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0" name=""/>
          <p:cNvSpPr/>
          <p:nvPr/>
        </p:nvSpPr>
        <p:spPr>
          <a:xfrm>
            <a:off x="2052000" y="2743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1" name=""/>
          <p:cNvSpPr/>
          <p:nvPr/>
        </p:nvSpPr>
        <p:spPr>
          <a:xfrm>
            <a:off x="1828800" y="53341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2" name=""/>
          <p:cNvSpPr/>
          <p:nvPr/>
        </p:nvSpPr>
        <p:spPr>
          <a:xfrm>
            <a:off x="3782880" y="5486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3" name=""/>
          <p:cNvSpPr/>
          <p:nvPr/>
        </p:nvSpPr>
        <p:spPr>
          <a:xfrm>
            <a:off x="4697280" y="40384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4" name=""/>
          <p:cNvSpPr/>
          <p:nvPr/>
        </p:nvSpPr>
        <p:spPr>
          <a:xfrm>
            <a:off x="4287600" y="4638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5" name=""/>
          <p:cNvSpPr/>
          <p:nvPr/>
        </p:nvSpPr>
        <p:spPr>
          <a:xfrm>
            <a:off x="2287080" y="46483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6" name=""/>
          <p:cNvSpPr/>
          <p:nvPr/>
        </p:nvSpPr>
        <p:spPr>
          <a:xfrm>
            <a:off x="4897440" y="4334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7" name=""/>
          <p:cNvSpPr/>
          <p:nvPr/>
        </p:nvSpPr>
        <p:spPr>
          <a:xfrm flipV="1">
            <a:off x="2743200" y="1980720"/>
            <a:ext cx="2666880" cy="2133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8" name=""/>
          <p:cNvSpPr/>
          <p:nvPr/>
        </p:nvSpPr>
        <p:spPr>
          <a:xfrm>
            <a:off x="3477960" y="3290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9" name=""/>
          <p:cNvSpPr/>
          <p:nvPr/>
        </p:nvSpPr>
        <p:spPr>
          <a:xfrm>
            <a:off x="3678120" y="618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0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1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2" name=""/>
          <p:cNvSpPr/>
          <p:nvPr/>
        </p:nvSpPr>
        <p:spPr>
          <a:xfrm>
            <a:off x="2364120" y="37940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3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4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5" name=""/>
          <p:cNvSpPr/>
          <p:nvPr/>
        </p:nvSpPr>
        <p:spPr>
          <a:xfrm flipH="1">
            <a:off x="2743200" y="1442880"/>
            <a:ext cx="912960" cy="2595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6" name=""/>
          <p:cNvSpPr/>
          <p:nvPr/>
        </p:nvSpPr>
        <p:spPr>
          <a:xfrm>
            <a:off x="3657600" y="1447920"/>
            <a:ext cx="1066680" cy="2590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7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8" name=""/>
          <p:cNvSpPr/>
          <p:nvPr/>
        </p:nvSpPr>
        <p:spPr>
          <a:xfrm flipH="1">
            <a:off x="4800240" y="1905120"/>
            <a:ext cx="685800" cy="2133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9" name=""/>
          <p:cNvSpPr/>
          <p:nvPr/>
        </p:nvSpPr>
        <p:spPr>
          <a:xfrm>
            <a:off x="5562720" y="1905120"/>
            <a:ext cx="1066680" cy="2133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0" name=""/>
          <p:cNvSpPr/>
          <p:nvPr/>
        </p:nvSpPr>
        <p:spPr>
          <a:xfrm>
            <a:off x="1600200" y="2286000"/>
            <a:ext cx="1066680" cy="1752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1" name=""/>
          <p:cNvSpPr/>
          <p:nvPr/>
        </p:nvSpPr>
        <p:spPr>
          <a:xfrm>
            <a:off x="1600200" y="2286000"/>
            <a:ext cx="30492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2" name=""/>
          <p:cNvSpPr/>
          <p:nvPr/>
        </p:nvSpPr>
        <p:spPr>
          <a:xfrm>
            <a:off x="7621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'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3" name=""/>
          <p:cNvSpPr/>
          <p:nvPr/>
        </p:nvSpPr>
        <p:spPr>
          <a:xfrm>
            <a:off x="1535040" y="215892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4" name=""/>
          <p:cNvSpPr/>
          <p:nvPr/>
        </p:nvSpPr>
        <p:spPr>
          <a:xfrm>
            <a:off x="1258920" y="17780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5" name=""/>
          <p:cNvSpPr/>
          <p:nvPr/>
        </p:nvSpPr>
        <p:spPr>
          <a:xfrm>
            <a:off x="4268880" y="36576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6" name=""/>
          <p:cNvSpPr/>
          <p:nvPr/>
        </p:nvSpPr>
        <p:spPr>
          <a:xfrm>
            <a:off x="1553040" y="49528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7" name=""/>
          <p:cNvSpPr/>
          <p:nvPr/>
        </p:nvSpPr>
        <p:spPr>
          <a:xfrm>
            <a:off x="3352680" y="653724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8" name=""/>
          <p:cNvSpPr/>
          <p:nvPr/>
        </p:nvSpPr>
        <p:spPr>
          <a:xfrm>
            <a:off x="3077280" y="6156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9" name=""/>
          <p:cNvSpPr/>
          <p:nvPr/>
        </p:nvSpPr>
        <p:spPr>
          <a:xfrm>
            <a:off x="4495680" y="653724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0" name=""/>
          <p:cNvSpPr/>
          <p:nvPr/>
        </p:nvSpPr>
        <p:spPr>
          <a:xfrm>
            <a:off x="4220280" y="6156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1" name=""/>
          <p:cNvSpPr/>
          <p:nvPr/>
        </p:nvSpPr>
        <p:spPr>
          <a:xfrm>
            <a:off x="5257800" y="535932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2" name=""/>
          <p:cNvSpPr/>
          <p:nvPr/>
        </p:nvSpPr>
        <p:spPr>
          <a:xfrm>
            <a:off x="4878360" y="49784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3" name=""/>
          <p:cNvSpPr/>
          <p:nvPr/>
        </p:nvSpPr>
        <p:spPr>
          <a:xfrm>
            <a:off x="6629400" y="4038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4" name=""/>
          <p:cNvSpPr/>
          <p:nvPr/>
        </p:nvSpPr>
        <p:spPr>
          <a:xfrm>
            <a:off x="6734520" y="37180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5" name=""/>
          <p:cNvSpPr/>
          <p:nvPr/>
        </p:nvSpPr>
        <p:spPr>
          <a:xfrm flipV="1">
            <a:off x="5334120" y="2057040"/>
            <a:ext cx="152280" cy="3352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6" name=""/>
          <p:cNvSpPr/>
          <p:nvPr/>
        </p:nvSpPr>
        <p:spPr>
          <a:xfrm flipV="1">
            <a:off x="1905120" y="4191120"/>
            <a:ext cx="2743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7" name=""/>
          <p:cNvSpPr/>
          <p:nvPr/>
        </p:nvSpPr>
        <p:spPr>
          <a:xfrm>
            <a:off x="4800600" y="4114800"/>
            <a:ext cx="457200" cy="1219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8" name=""/>
          <p:cNvSpPr/>
          <p:nvPr/>
        </p:nvSpPr>
        <p:spPr>
          <a:xfrm flipV="1">
            <a:off x="5334120" y="4114800"/>
            <a:ext cx="13716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9" name=""/>
          <p:cNvSpPr/>
          <p:nvPr/>
        </p:nvSpPr>
        <p:spPr>
          <a:xfrm>
            <a:off x="3430800" y="54100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0" name=""/>
          <p:cNvSpPr/>
          <p:nvPr/>
        </p:nvSpPr>
        <p:spPr>
          <a:xfrm>
            <a:off x="1905120" y="5410080"/>
            <a:ext cx="19047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1" name=""/>
          <p:cNvSpPr/>
          <p:nvPr/>
        </p:nvSpPr>
        <p:spPr>
          <a:xfrm flipV="1">
            <a:off x="3886200" y="4191120"/>
            <a:ext cx="83808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2" name=""/>
          <p:cNvSpPr/>
          <p:nvPr/>
        </p:nvSpPr>
        <p:spPr>
          <a:xfrm flipH="1" flipV="1">
            <a:off x="2819160" y="4191120"/>
            <a:ext cx="99036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3" name=""/>
          <p:cNvSpPr/>
          <p:nvPr/>
        </p:nvSpPr>
        <p:spPr>
          <a:xfrm flipV="1">
            <a:off x="3886200" y="5486400"/>
            <a:ext cx="137160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4" name=""/>
          <p:cNvSpPr/>
          <p:nvPr/>
        </p:nvSpPr>
        <p:spPr>
          <a:xfrm>
            <a:off x="3042720" y="2743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5" name=""/>
          <p:cNvSpPr/>
          <p:nvPr/>
        </p:nvSpPr>
        <p:spPr>
          <a:xfrm>
            <a:off x="2182680" y="1438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6" name=""/>
          <p:cNvSpPr/>
          <p:nvPr/>
        </p:nvSpPr>
        <p:spPr>
          <a:xfrm>
            <a:off x="4227120" y="1209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7" name=""/>
          <p:cNvSpPr/>
          <p:nvPr/>
        </p:nvSpPr>
        <p:spPr>
          <a:xfrm>
            <a:off x="1344600" y="3571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8" name=""/>
          <p:cNvSpPr/>
          <p:nvPr/>
        </p:nvSpPr>
        <p:spPr>
          <a:xfrm>
            <a:off x="2639880" y="5324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9" name=""/>
          <p:cNvSpPr/>
          <p:nvPr/>
        </p:nvSpPr>
        <p:spPr>
          <a:xfrm>
            <a:off x="4287600" y="4638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0" name=""/>
          <p:cNvSpPr/>
          <p:nvPr/>
        </p:nvSpPr>
        <p:spPr>
          <a:xfrm>
            <a:off x="4316400" y="540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1" name=""/>
          <p:cNvSpPr/>
          <p:nvPr/>
        </p:nvSpPr>
        <p:spPr>
          <a:xfrm>
            <a:off x="5916600" y="456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2" name=""/>
          <p:cNvSpPr/>
          <p:nvPr/>
        </p:nvSpPr>
        <p:spPr>
          <a:xfrm>
            <a:off x="5306760" y="3419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3" name=""/>
          <p:cNvSpPr/>
          <p:nvPr/>
        </p:nvSpPr>
        <p:spPr>
          <a:xfrm>
            <a:off x="5992560" y="2657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4" name=""/>
          <p:cNvSpPr/>
          <p:nvPr/>
        </p:nvSpPr>
        <p:spPr>
          <a:xfrm>
            <a:off x="3998520" y="2428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5" name=""/>
          <p:cNvSpPr/>
          <p:nvPr/>
        </p:nvSpPr>
        <p:spPr>
          <a:xfrm>
            <a:off x="4773600" y="2809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6" name=""/>
          <p:cNvSpPr/>
          <p:nvPr/>
        </p:nvSpPr>
        <p:spPr>
          <a:xfrm>
            <a:off x="3429000" y="6629400"/>
            <a:ext cx="10666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7" name=""/>
          <p:cNvSpPr/>
          <p:nvPr/>
        </p:nvSpPr>
        <p:spPr>
          <a:xfrm>
            <a:off x="671400" y="19112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8" name=""/>
          <p:cNvSpPr/>
          <p:nvPr/>
        </p:nvSpPr>
        <p:spPr>
          <a:xfrm>
            <a:off x="1128600" y="51116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9" name=""/>
          <p:cNvSpPr/>
          <p:nvPr/>
        </p:nvSpPr>
        <p:spPr>
          <a:xfrm>
            <a:off x="2608200" y="641520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0" name=""/>
          <p:cNvSpPr/>
          <p:nvPr/>
        </p:nvSpPr>
        <p:spPr>
          <a:xfrm>
            <a:off x="4589640" y="641520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1" name=""/>
          <p:cNvSpPr/>
          <p:nvPr/>
        </p:nvSpPr>
        <p:spPr>
          <a:xfrm>
            <a:off x="5208480" y="53402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2" name=""/>
          <p:cNvSpPr/>
          <p:nvPr/>
        </p:nvSpPr>
        <p:spPr>
          <a:xfrm>
            <a:off x="6723000" y="403848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3" name=""/>
          <p:cNvSpPr/>
          <p:nvPr/>
        </p:nvSpPr>
        <p:spPr>
          <a:xfrm>
            <a:off x="5665680" y="16826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4" name=""/>
          <p:cNvSpPr/>
          <p:nvPr/>
        </p:nvSpPr>
        <p:spPr>
          <a:xfrm>
            <a:off x="3468600" y="70632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5" name=""/>
          <p:cNvSpPr/>
          <p:nvPr/>
        </p:nvSpPr>
        <p:spPr>
          <a:xfrm>
            <a:off x="2716200" y="383076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6" name=""/>
          <p:cNvSpPr/>
          <p:nvPr/>
        </p:nvSpPr>
        <p:spPr>
          <a:xfrm>
            <a:off x="3719520" y="550692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7" name=""/>
          <p:cNvSpPr/>
          <p:nvPr/>
        </p:nvSpPr>
        <p:spPr>
          <a:xfrm>
            <a:off x="4773600" y="383076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8" name=""/>
          <p:cNvSpPr/>
          <p:nvPr/>
        </p:nvSpPr>
        <p:spPr>
          <a:xfrm>
            <a:off x="4802040" y="5124600"/>
            <a:ext cx="1140120" cy="722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9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0" name=""/>
          <p:cNvSpPr/>
          <p:nvPr/>
        </p:nvSpPr>
        <p:spPr>
          <a:xfrm>
            <a:off x="2052000" y="2743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1" name=""/>
          <p:cNvSpPr/>
          <p:nvPr/>
        </p:nvSpPr>
        <p:spPr>
          <a:xfrm>
            <a:off x="1828800" y="53341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2" name=""/>
          <p:cNvSpPr/>
          <p:nvPr/>
        </p:nvSpPr>
        <p:spPr>
          <a:xfrm>
            <a:off x="3782880" y="5486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3" name=""/>
          <p:cNvSpPr/>
          <p:nvPr/>
        </p:nvSpPr>
        <p:spPr>
          <a:xfrm>
            <a:off x="4697280" y="40384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4" name=""/>
          <p:cNvSpPr/>
          <p:nvPr/>
        </p:nvSpPr>
        <p:spPr>
          <a:xfrm>
            <a:off x="4287600" y="4638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5" name=""/>
          <p:cNvSpPr/>
          <p:nvPr/>
        </p:nvSpPr>
        <p:spPr>
          <a:xfrm>
            <a:off x="2287080" y="46483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6" name=""/>
          <p:cNvSpPr/>
          <p:nvPr/>
        </p:nvSpPr>
        <p:spPr>
          <a:xfrm>
            <a:off x="4897440" y="4334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7" name=""/>
          <p:cNvSpPr/>
          <p:nvPr/>
        </p:nvSpPr>
        <p:spPr>
          <a:xfrm flipV="1">
            <a:off x="2743200" y="1980720"/>
            <a:ext cx="2666880" cy="21337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8" name=""/>
          <p:cNvSpPr/>
          <p:nvPr/>
        </p:nvSpPr>
        <p:spPr>
          <a:xfrm>
            <a:off x="3477960" y="3290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9" name="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0" name=""/>
          <p:cNvSpPr/>
          <p:nvPr/>
        </p:nvSpPr>
        <p:spPr>
          <a:xfrm>
            <a:off x="3678120" y="618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ph Se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01880" y="2019240"/>
            <a:ext cx="759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19160" y="243828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52720" y="182880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08240" y="2819520"/>
            <a:ext cx="75960" cy="75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81360" y="3313080"/>
            <a:ext cx="759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1040" y="270504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81320" y="373212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35400" y="2286000"/>
            <a:ext cx="759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09640" y="3541680"/>
            <a:ext cx="777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11360" y="3084480"/>
            <a:ext cx="7632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98680" y="3998880"/>
            <a:ext cx="75960" cy="7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32240" y="4075200"/>
            <a:ext cx="75960" cy="75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646360" y="2629080"/>
            <a:ext cx="76320" cy="75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1077480" y="1638360"/>
            <a:ext cx="9939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957320" y="1635120"/>
            <a:ext cx="114480" cy="800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71800" y="1638360"/>
            <a:ext cx="57456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71800" y="1638360"/>
            <a:ext cx="8809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684160" y="1866960"/>
            <a:ext cx="306360" cy="7621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919160" y="2704680"/>
            <a:ext cx="727200" cy="646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957320" y="2323800"/>
            <a:ext cx="1378080" cy="152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29040" y="1866960"/>
            <a:ext cx="344520" cy="4190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84520" y="2705040"/>
            <a:ext cx="726840" cy="341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73560" y="2324160"/>
            <a:ext cx="75960" cy="7221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957320" y="2514600"/>
            <a:ext cx="1224000" cy="12175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1384200" y="2476440"/>
            <a:ext cx="573120" cy="3430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39680" y="2057400"/>
            <a:ext cx="30636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657360" y="2057400"/>
            <a:ext cx="38232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9200" y="2743200"/>
            <a:ext cx="1224000" cy="5698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1574280" y="3351240"/>
            <a:ext cx="344520" cy="647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19160" y="3351240"/>
            <a:ext cx="613080" cy="7239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925560" y="3351240"/>
            <a:ext cx="993600" cy="190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2608200" y="3770280"/>
            <a:ext cx="611280" cy="3430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257640" y="3160440"/>
            <a:ext cx="230040" cy="6094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684160" y="2743200"/>
            <a:ext cx="765000" cy="379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1384200" y="2895480"/>
            <a:ext cx="534960" cy="4557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219120" y="3122640"/>
            <a:ext cx="230040" cy="6094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570040" y="2781360"/>
            <a:ext cx="76320" cy="13320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1612440" y="4075200"/>
            <a:ext cx="957240" cy="381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346040" y="1714320"/>
            <a:ext cx="649440" cy="11430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47800" y="3579840"/>
            <a:ext cx="650880" cy="4190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200" y="2743200"/>
            <a:ext cx="190440" cy="7984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9200" y="2743200"/>
            <a:ext cx="689040" cy="1144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82520" y="11430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7600" y="17524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9920" y="25830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34574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48200" y="396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07240" y="26971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40400" y="319104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53120" y="40672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47560" y="364824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45560" y="29383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70680" y="21528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992680" y="1687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27360" y="2438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62360" y="22096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33640" y="1600200"/>
            <a:ext cx="7776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1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2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3" name=""/>
          <p:cNvSpPr/>
          <p:nvPr/>
        </p:nvSpPr>
        <p:spPr>
          <a:xfrm>
            <a:off x="2364120" y="37940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4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5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6" name=""/>
          <p:cNvSpPr/>
          <p:nvPr/>
        </p:nvSpPr>
        <p:spPr>
          <a:xfrm flipH="1">
            <a:off x="2743200" y="1442880"/>
            <a:ext cx="912960" cy="2595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7" name=""/>
          <p:cNvSpPr/>
          <p:nvPr/>
        </p:nvSpPr>
        <p:spPr>
          <a:xfrm>
            <a:off x="3657600" y="1447920"/>
            <a:ext cx="1066680" cy="2590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8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9" name=""/>
          <p:cNvSpPr/>
          <p:nvPr/>
        </p:nvSpPr>
        <p:spPr>
          <a:xfrm flipH="1">
            <a:off x="4800240" y="1905120"/>
            <a:ext cx="685800" cy="2133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0" name=""/>
          <p:cNvSpPr/>
          <p:nvPr/>
        </p:nvSpPr>
        <p:spPr>
          <a:xfrm>
            <a:off x="5562720" y="1905120"/>
            <a:ext cx="1066680" cy="2133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1" name=""/>
          <p:cNvSpPr/>
          <p:nvPr/>
        </p:nvSpPr>
        <p:spPr>
          <a:xfrm>
            <a:off x="1600200" y="2286000"/>
            <a:ext cx="1066680" cy="1752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2" name=""/>
          <p:cNvSpPr/>
          <p:nvPr/>
        </p:nvSpPr>
        <p:spPr>
          <a:xfrm>
            <a:off x="1600200" y="2286000"/>
            <a:ext cx="30492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3" name=""/>
          <p:cNvSpPr/>
          <p:nvPr/>
        </p:nvSpPr>
        <p:spPr>
          <a:xfrm>
            <a:off x="7621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'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4" name=""/>
          <p:cNvSpPr/>
          <p:nvPr/>
        </p:nvSpPr>
        <p:spPr>
          <a:xfrm>
            <a:off x="1535040" y="215892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5" name=""/>
          <p:cNvSpPr/>
          <p:nvPr/>
        </p:nvSpPr>
        <p:spPr>
          <a:xfrm>
            <a:off x="1258920" y="17780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6" name=""/>
          <p:cNvSpPr/>
          <p:nvPr/>
        </p:nvSpPr>
        <p:spPr>
          <a:xfrm>
            <a:off x="4268880" y="36576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7" name=""/>
          <p:cNvSpPr/>
          <p:nvPr/>
        </p:nvSpPr>
        <p:spPr>
          <a:xfrm>
            <a:off x="1553040" y="49528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8" name=""/>
          <p:cNvSpPr/>
          <p:nvPr/>
        </p:nvSpPr>
        <p:spPr>
          <a:xfrm>
            <a:off x="3352680" y="653724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9" name=""/>
          <p:cNvSpPr/>
          <p:nvPr/>
        </p:nvSpPr>
        <p:spPr>
          <a:xfrm>
            <a:off x="3077280" y="6156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0" name=""/>
          <p:cNvSpPr/>
          <p:nvPr/>
        </p:nvSpPr>
        <p:spPr>
          <a:xfrm>
            <a:off x="4495680" y="653724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1" name=""/>
          <p:cNvSpPr/>
          <p:nvPr/>
        </p:nvSpPr>
        <p:spPr>
          <a:xfrm>
            <a:off x="4220280" y="6156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2" name=""/>
          <p:cNvSpPr/>
          <p:nvPr/>
        </p:nvSpPr>
        <p:spPr>
          <a:xfrm>
            <a:off x="4878360" y="49784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3" name=""/>
          <p:cNvSpPr/>
          <p:nvPr/>
        </p:nvSpPr>
        <p:spPr>
          <a:xfrm>
            <a:off x="6629400" y="4038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4" name=""/>
          <p:cNvSpPr/>
          <p:nvPr/>
        </p:nvSpPr>
        <p:spPr>
          <a:xfrm>
            <a:off x="6734520" y="37180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5" name=""/>
          <p:cNvSpPr/>
          <p:nvPr/>
        </p:nvSpPr>
        <p:spPr>
          <a:xfrm flipV="1">
            <a:off x="5334120" y="2057040"/>
            <a:ext cx="152280" cy="33526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6" name=""/>
          <p:cNvSpPr/>
          <p:nvPr/>
        </p:nvSpPr>
        <p:spPr>
          <a:xfrm flipV="1">
            <a:off x="1905120" y="4191120"/>
            <a:ext cx="2743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7" name=""/>
          <p:cNvSpPr/>
          <p:nvPr/>
        </p:nvSpPr>
        <p:spPr>
          <a:xfrm>
            <a:off x="4800600" y="4114800"/>
            <a:ext cx="4572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8" name=""/>
          <p:cNvSpPr/>
          <p:nvPr/>
        </p:nvSpPr>
        <p:spPr>
          <a:xfrm flipV="1">
            <a:off x="5334120" y="4114800"/>
            <a:ext cx="1371600" cy="12952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9" name=""/>
          <p:cNvSpPr/>
          <p:nvPr/>
        </p:nvSpPr>
        <p:spPr>
          <a:xfrm>
            <a:off x="3430800" y="54100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0" name=""/>
          <p:cNvSpPr/>
          <p:nvPr/>
        </p:nvSpPr>
        <p:spPr>
          <a:xfrm>
            <a:off x="1905120" y="5410080"/>
            <a:ext cx="19047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1" name=""/>
          <p:cNvSpPr/>
          <p:nvPr/>
        </p:nvSpPr>
        <p:spPr>
          <a:xfrm flipV="1">
            <a:off x="3886200" y="4191120"/>
            <a:ext cx="83808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2" name=""/>
          <p:cNvSpPr/>
          <p:nvPr/>
        </p:nvSpPr>
        <p:spPr>
          <a:xfrm flipH="1" flipV="1">
            <a:off x="2819160" y="4191120"/>
            <a:ext cx="99036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3" name=""/>
          <p:cNvSpPr/>
          <p:nvPr/>
        </p:nvSpPr>
        <p:spPr>
          <a:xfrm flipV="1">
            <a:off x="3886200" y="5486400"/>
            <a:ext cx="137160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4" name=""/>
          <p:cNvSpPr/>
          <p:nvPr/>
        </p:nvSpPr>
        <p:spPr>
          <a:xfrm>
            <a:off x="3042720" y="2743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5" name=""/>
          <p:cNvSpPr/>
          <p:nvPr/>
        </p:nvSpPr>
        <p:spPr>
          <a:xfrm>
            <a:off x="2182680" y="1438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6" name=""/>
          <p:cNvSpPr/>
          <p:nvPr/>
        </p:nvSpPr>
        <p:spPr>
          <a:xfrm>
            <a:off x="4227120" y="1209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7" name=""/>
          <p:cNvSpPr/>
          <p:nvPr/>
        </p:nvSpPr>
        <p:spPr>
          <a:xfrm>
            <a:off x="1344600" y="3571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8" name=""/>
          <p:cNvSpPr/>
          <p:nvPr/>
        </p:nvSpPr>
        <p:spPr>
          <a:xfrm>
            <a:off x="2639880" y="5324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9" name=""/>
          <p:cNvSpPr/>
          <p:nvPr/>
        </p:nvSpPr>
        <p:spPr>
          <a:xfrm>
            <a:off x="4287600" y="4638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0" name=""/>
          <p:cNvSpPr/>
          <p:nvPr/>
        </p:nvSpPr>
        <p:spPr>
          <a:xfrm>
            <a:off x="4316400" y="540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1" name=""/>
          <p:cNvSpPr/>
          <p:nvPr/>
        </p:nvSpPr>
        <p:spPr>
          <a:xfrm>
            <a:off x="5916600" y="456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2" name=""/>
          <p:cNvSpPr/>
          <p:nvPr/>
        </p:nvSpPr>
        <p:spPr>
          <a:xfrm>
            <a:off x="5306760" y="3419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3" name=""/>
          <p:cNvSpPr/>
          <p:nvPr/>
        </p:nvSpPr>
        <p:spPr>
          <a:xfrm>
            <a:off x="5992560" y="2657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4" name=""/>
          <p:cNvSpPr/>
          <p:nvPr/>
        </p:nvSpPr>
        <p:spPr>
          <a:xfrm>
            <a:off x="3998520" y="2428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5" name=""/>
          <p:cNvSpPr/>
          <p:nvPr/>
        </p:nvSpPr>
        <p:spPr>
          <a:xfrm>
            <a:off x="4773600" y="2809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6" name=""/>
          <p:cNvSpPr/>
          <p:nvPr/>
        </p:nvSpPr>
        <p:spPr>
          <a:xfrm>
            <a:off x="3429000" y="6629400"/>
            <a:ext cx="10666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7" name=""/>
          <p:cNvSpPr/>
          <p:nvPr/>
        </p:nvSpPr>
        <p:spPr>
          <a:xfrm>
            <a:off x="671400" y="19112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8" name=""/>
          <p:cNvSpPr/>
          <p:nvPr/>
        </p:nvSpPr>
        <p:spPr>
          <a:xfrm>
            <a:off x="1128600" y="51116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9" name=""/>
          <p:cNvSpPr/>
          <p:nvPr/>
        </p:nvSpPr>
        <p:spPr>
          <a:xfrm>
            <a:off x="2608200" y="641520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0" name=""/>
          <p:cNvSpPr/>
          <p:nvPr/>
        </p:nvSpPr>
        <p:spPr>
          <a:xfrm>
            <a:off x="4589640" y="641520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1" name=""/>
          <p:cNvSpPr/>
          <p:nvPr/>
        </p:nvSpPr>
        <p:spPr>
          <a:xfrm>
            <a:off x="5208480" y="53402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2" name=""/>
          <p:cNvSpPr/>
          <p:nvPr/>
        </p:nvSpPr>
        <p:spPr>
          <a:xfrm>
            <a:off x="6728760" y="404496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3" name=""/>
          <p:cNvSpPr/>
          <p:nvPr/>
        </p:nvSpPr>
        <p:spPr>
          <a:xfrm>
            <a:off x="5665680" y="16826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4" name=""/>
          <p:cNvSpPr/>
          <p:nvPr/>
        </p:nvSpPr>
        <p:spPr>
          <a:xfrm>
            <a:off x="3468600" y="70632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5" name=""/>
          <p:cNvSpPr/>
          <p:nvPr/>
        </p:nvSpPr>
        <p:spPr>
          <a:xfrm>
            <a:off x="2716200" y="383076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6" name=""/>
          <p:cNvSpPr/>
          <p:nvPr/>
        </p:nvSpPr>
        <p:spPr>
          <a:xfrm>
            <a:off x="3719520" y="550692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7" name=""/>
          <p:cNvSpPr/>
          <p:nvPr/>
        </p:nvSpPr>
        <p:spPr>
          <a:xfrm>
            <a:off x="4773600" y="383076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8" name=""/>
          <p:cNvSpPr/>
          <p:nvPr/>
        </p:nvSpPr>
        <p:spPr>
          <a:xfrm>
            <a:off x="5259240" y="1467000"/>
            <a:ext cx="1140120" cy="722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9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0" name=""/>
          <p:cNvSpPr/>
          <p:nvPr/>
        </p:nvSpPr>
        <p:spPr>
          <a:xfrm>
            <a:off x="2052000" y="2743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1" name=""/>
          <p:cNvSpPr/>
          <p:nvPr/>
        </p:nvSpPr>
        <p:spPr>
          <a:xfrm>
            <a:off x="1828800" y="53341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2" name=""/>
          <p:cNvSpPr/>
          <p:nvPr/>
        </p:nvSpPr>
        <p:spPr>
          <a:xfrm>
            <a:off x="3782880" y="5486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3" name=""/>
          <p:cNvSpPr/>
          <p:nvPr/>
        </p:nvSpPr>
        <p:spPr>
          <a:xfrm>
            <a:off x="4697280" y="40384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4" name=""/>
          <p:cNvSpPr/>
          <p:nvPr/>
        </p:nvSpPr>
        <p:spPr>
          <a:xfrm>
            <a:off x="4287600" y="4638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5" name=""/>
          <p:cNvSpPr/>
          <p:nvPr/>
        </p:nvSpPr>
        <p:spPr>
          <a:xfrm>
            <a:off x="2287080" y="46483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6" name=""/>
          <p:cNvSpPr/>
          <p:nvPr/>
        </p:nvSpPr>
        <p:spPr>
          <a:xfrm>
            <a:off x="4897440" y="4334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7" name=""/>
          <p:cNvSpPr/>
          <p:nvPr/>
        </p:nvSpPr>
        <p:spPr>
          <a:xfrm flipV="1">
            <a:off x="2743200" y="1980720"/>
            <a:ext cx="2666880" cy="2133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8" name=""/>
          <p:cNvSpPr/>
          <p:nvPr/>
        </p:nvSpPr>
        <p:spPr>
          <a:xfrm>
            <a:off x="3477960" y="3290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9" name="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0" name=""/>
          <p:cNvSpPr/>
          <p:nvPr/>
        </p:nvSpPr>
        <p:spPr>
          <a:xfrm>
            <a:off x="5257800" y="535932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1" name=""/>
          <p:cNvSpPr/>
          <p:nvPr/>
        </p:nvSpPr>
        <p:spPr>
          <a:xfrm>
            <a:off x="3678120" y="618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5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5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2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3" name=""/>
          <p:cNvSpPr/>
          <p:nvPr/>
        </p:nvSpPr>
        <p:spPr>
          <a:xfrm>
            <a:off x="2364120" y="37940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4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5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6" name=""/>
          <p:cNvSpPr/>
          <p:nvPr/>
        </p:nvSpPr>
        <p:spPr>
          <a:xfrm flipH="1">
            <a:off x="2743200" y="1442880"/>
            <a:ext cx="912960" cy="2595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7" name=""/>
          <p:cNvSpPr/>
          <p:nvPr/>
        </p:nvSpPr>
        <p:spPr>
          <a:xfrm>
            <a:off x="3657600" y="1447920"/>
            <a:ext cx="1066680" cy="2590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8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9" name=""/>
          <p:cNvSpPr/>
          <p:nvPr/>
        </p:nvSpPr>
        <p:spPr>
          <a:xfrm flipH="1">
            <a:off x="4800240" y="1905120"/>
            <a:ext cx="685800" cy="2133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0" name=""/>
          <p:cNvSpPr/>
          <p:nvPr/>
        </p:nvSpPr>
        <p:spPr>
          <a:xfrm>
            <a:off x="5562720" y="1905120"/>
            <a:ext cx="1066680" cy="2133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1" name=""/>
          <p:cNvSpPr/>
          <p:nvPr/>
        </p:nvSpPr>
        <p:spPr>
          <a:xfrm>
            <a:off x="1600200" y="2286000"/>
            <a:ext cx="1066680" cy="1752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2" name=""/>
          <p:cNvSpPr/>
          <p:nvPr/>
        </p:nvSpPr>
        <p:spPr>
          <a:xfrm>
            <a:off x="1600200" y="2286000"/>
            <a:ext cx="30492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3" name=""/>
          <p:cNvSpPr/>
          <p:nvPr/>
        </p:nvSpPr>
        <p:spPr>
          <a:xfrm>
            <a:off x="7621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'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4" name=""/>
          <p:cNvSpPr/>
          <p:nvPr/>
        </p:nvSpPr>
        <p:spPr>
          <a:xfrm>
            <a:off x="1535040" y="215892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5" name=""/>
          <p:cNvSpPr/>
          <p:nvPr/>
        </p:nvSpPr>
        <p:spPr>
          <a:xfrm>
            <a:off x="1258920" y="17780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6" name=""/>
          <p:cNvSpPr/>
          <p:nvPr/>
        </p:nvSpPr>
        <p:spPr>
          <a:xfrm>
            <a:off x="4268880" y="36576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7" name=""/>
          <p:cNvSpPr/>
          <p:nvPr/>
        </p:nvSpPr>
        <p:spPr>
          <a:xfrm>
            <a:off x="1553040" y="49528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8" name=""/>
          <p:cNvSpPr/>
          <p:nvPr/>
        </p:nvSpPr>
        <p:spPr>
          <a:xfrm>
            <a:off x="3352680" y="653724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9" name=""/>
          <p:cNvSpPr/>
          <p:nvPr/>
        </p:nvSpPr>
        <p:spPr>
          <a:xfrm>
            <a:off x="3077280" y="6156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0" name=""/>
          <p:cNvSpPr/>
          <p:nvPr/>
        </p:nvSpPr>
        <p:spPr>
          <a:xfrm>
            <a:off x="4495680" y="653724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1" name=""/>
          <p:cNvSpPr/>
          <p:nvPr/>
        </p:nvSpPr>
        <p:spPr>
          <a:xfrm>
            <a:off x="4220280" y="6156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2" name=""/>
          <p:cNvSpPr/>
          <p:nvPr/>
        </p:nvSpPr>
        <p:spPr>
          <a:xfrm>
            <a:off x="4878360" y="49784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3" name=""/>
          <p:cNvSpPr/>
          <p:nvPr/>
        </p:nvSpPr>
        <p:spPr>
          <a:xfrm>
            <a:off x="6629400" y="4038480"/>
            <a:ext cx="15228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4" name=""/>
          <p:cNvSpPr/>
          <p:nvPr/>
        </p:nvSpPr>
        <p:spPr>
          <a:xfrm>
            <a:off x="6734520" y="37180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5" name=""/>
          <p:cNvSpPr/>
          <p:nvPr/>
        </p:nvSpPr>
        <p:spPr>
          <a:xfrm flipV="1">
            <a:off x="5334120" y="2057040"/>
            <a:ext cx="152280" cy="335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6" name=""/>
          <p:cNvSpPr/>
          <p:nvPr/>
        </p:nvSpPr>
        <p:spPr>
          <a:xfrm flipV="1">
            <a:off x="1905120" y="4191120"/>
            <a:ext cx="2743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7" name=""/>
          <p:cNvSpPr/>
          <p:nvPr/>
        </p:nvSpPr>
        <p:spPr>
          <a:xfrm>
            <a:off x="4800600" y="4114800"/>
            <a:ext cx="4572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8" name=""/>
          <p:cNvSpPr/>
          <p:nvPr/>
        </p:nvSpPr>
        <p:spPr>
          <a:xfrm flipV="1">
            <a:off x="5334120" y="4114800"/>
            <a:ext cx="13716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9" name=""/>
          <p:cNvSpPr/>
          <p:nvPr/>
        </p:nvSpPr>
        <p:spPr>
          <a:xfrm>
            <a:off x="3430800" y="54100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0" name=""/>
          <p:cNvSpPr/>
          <p:nvPr/>
        </p:nvSpPr>
        <p:spPr>
          <a:xfrm>
            <a:off x="1905120" y="5410080"/>
            <a:ext cx="19047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1" name=""/>
          <p:cNvSpPr/>
          <p:nvPr/>
        </p:nvSpPr>
        <p:spPr>
          <a:xfrm flipV="1">
            <a:off x="3886200" y="4191120"/>
            <a:ext cx="83808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2" name=""/>
          <p:cNvSpPr/>
          <p:nvPr/>
        </p:nvSpPr>
        <p:spPr>
          <a:xfrm flipH="1" flipV="1">
            <a:off x="2819160" y="4191120"/>
            <a:ext cx="99036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3" name=""/>
          <p:cNvSpPr/>
          <p:nvPr/>
        </p:nvSpPr>
        <p:spPr>
          <a:xfrm flipV="1">
            <a:off x="3886200" y="5486400"/>
            <a:ext cx="137160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4" name=""/>
          <p:cNvSpPr/>
          <p:nvPr/>
        </p:nvSpPr>
        <p:spPr>
          <a:xfrm>
            <a:off x="3042720" y="2743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5" name=""/>
          <p:cNvSpPr/>
          <p:nvPr/>
        </p:nvSpPr>
        <p:spPr>
          <a:xfrm>
            <a:off x="2182680" y="1438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6" name=""/>
          <p:cNvSpPr/>
          <p:nvPr/>
        </p:nvSpPr>
        <p:spPr>
          <a:xfrm>
            <a:off x="4227120" y="1209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7" name=""/>
          <p:cNvSpPr/>
          <p:nvPr/>
        </p:nvSpPr>
        <p:spPr>
          <a:xfrm>
            <a:off x="1344600" y="3571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8" name=""/>
          <p:cNvSpPr/>
          <p:nvPr/>
        </p:nvSpPr>
        <p:spPr>
          <a:xfrm>
            <a:off x="2639880" y="5324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9" name=""/>
          <p:cNvSpPr/>
          <p:nvPr/>
        </p:nvSpPr>
        <p:spPr>
          <a:xfrm>
            <a:off x="4287600" y="4638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0" name=""/>
          <p:cNvSpPr/>
          <p:nvPr/>
        </p:nvSpPr>
        <p:spPr>
          <a:xfrm>
            <a:off x="4316400" y="540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1" name=""/>
          <p:cNvSpPr/>
          <p:nvPr/>
        </p:nvSpPr>
        <p:spPr>
          <a:xfrm>
            <a:off x="5916600" y="456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2" name=""/>
          <p:cNvSpPr/>
          <p:nvPr/>
        </p:nvSpPr>
        <p:spPr>
          <a:xfrm>
            <a:off x="5306760" y="3419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3" name=""/>
          <p:cNvSpPr/>
          <p:nvPr/>
        </p:nvSpPr>
        <p:spPr>
          <a:xfrm>
            <a:off x="5992560" y="2657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4" name=""/>
          <p:cNvSpPr/>
          <p:nvPr/>
        </p:nvSpPr>
        <p:spPr>
          <a:xfrm>
            <a:off x="3998520" y="2428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5" name=""/>
          <p:cNvSpPr/>
          <p:nvPr/>
        </p:nvSpPr>
        <p:spPr>
          <a:xfrm>
            <a:off x="4773600" y="2809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6" name=""/>
          <p:cNvSpPr/>
          <p:nvPr/>
        </p:nvSpPr>
        <p:spPr>
          <a:xfrm>
            <a:off x="3429000" y="6629400"/>
            <a:ext cx="10666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7" name=""/>
          <p:cNvSpPr/>
          <p:nvPr/>
        </p:nvSpPr>
        <p:spPr>
          <a:xfrm>
            <a:off x="671400" y="19112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8" name=""/>
          <p:cNvSpPr/>
          <p:nvPr/>
        </p:nvSpPr>
        <p:spPr>
          <a:xfrm>
            <a:off x="1128600" y="51116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9" name=""/>
          <p:cNvSpPr/>
          <p:nvPr/>
        </p:nvSpPr>
        <p:spPr>
          <a:xfrm>
            <a:off x="2608200" y="641520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0" name=""/>
          <p:cNvSpPr/>
          <p:nvPr/>
        </p:nvSpPr>
        <p:spPr>
          <a:xfrm>
            <a:off x="4589640" y="641520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1" name=""/>
          <p:cNvSpPr/>
          <p:nvPr/>
        </p:nvSpPr>
        <p:spPr>
          <a:xfrm>
            <a:off x="5208480" y="53402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2" name=""/>
          <p:cNvSpPr/>
          <p:nvPr/>
        </p:nvSpPr>
        <p:spPr>
          <a:xfrm>
            <a:off x="6728760" y="404496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3" name=""/>
          <p:cNvSpPr/>
          <p:nvPr/>
        </p:nvSpPr>
        <p:spPr>
          <a:xfrm>
            <a:off x="5665680" y="16826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4" name=""/>
          <p:cNvSpPr/>
          <p:nvPr/>
        </p:nvSpPr>
        <p:spPr>
          <a:xfrm>
            <a:off x="3468600" y="70632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5" name=""/>
          <p:cNvSpPr/>
          <p:nvPr/>
        </p:nvSpPr>
        <p:spPr>
          <a:xfrm>
            <a:off x="2716200" y="383076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6" name=""/>
          <p:cNvSpPr/>
          <p:nvPr/>
        </p:nvSpPr>
        <p:spPr>
          <a:xfrm>
            <a:off x="3719520" y="550692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7" name=""/>
          <p:cNvSpPr/>
          <p:nvPr/>
        </p:nvSpPr>
        <p:spPr>
          <a:xfrm>
            <a:off x="4773600" y="383076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8" name=""/>
          <p:cNvSpPr/>
          <p:nvPr/>
        </p:nvSpPr>
        <p:spPr>
          <a:xfrm>
            <a:off x="6478560" y="3905280"/>
            <a:ext cx="1139760" cy="722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9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0" name=""/>
          <p:cNvSpPr/>
          <p:nvPr/>
        </p:nvSpPr>
        <p:spPr>
          <a:xfrm>
            <a:off x="2052000" y="2743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1" name=""/>
          <p:cNvSpPr/>
          <p:nvPr/>
        </p:nvSpPr>
        <p:spPr>
          <a:xfrm>
            <a:off x="1828800" y="53341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2" name=""/>
          <p:cNvSpPr/>
          <p:nvPr/>
        </p:nvSpPr>
        <p:spPr>
          <a:xfrm>
            <a:off x="3782880" y="5486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3" name=""/>
          <p:cNvSpPr/>
          <p:nvPr/>
        </p:nvSpPr>
        <p:spPr>
          <a:xfrm>
            <a:off x="4697280" y="40384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4" name=""/>
          <p:cNvSpPr/>
          <p:nvPr/>
        </p:nvSpPr>
        <p:spPr>
          <a:xfrm>
            <a:off x="4287600" y="4638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5" name=""/>
          <p:cNvSpPr/>
          <p:nvPr/>
        </p:nvSpPr>
        <p:spPr>
          <a:xfrm>
            <a:off x="2287080" y="46483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6" name=""/>
          <p:cNvSpPr/>
          <p:nvPr/>
        </p:nvSpPr>
        <p:spPr>
          <a:xfrm>
            <a:off x="4897440" y="4334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7" name=""/>
          <p:cNvSpPr/>
          <p:nvPr/>
        </p:nvSpPr>
        <p:spPr>
          <a:xfrm flipV="1">
            <a:off x="2743200" y="1980720"/>
            <a:ext cx="2666880" cy="2133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8" name=""/>
          <p:cNvSpPr/>
          <p:nvPr/>
        </p:nvSpPr>
        <p:spPr>
          <a:xfrm>
            <a:off x="3477960" y="3290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9" name="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0" name=""/>
          <p:cNvSpPr/>
          <p:nvPr/>
        </p:nvSpPr>
        <p:spPr>
          <a:xfrm>
            <a:off x="5257800" y="535932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1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2" name=""/>
          <p:cNvSpPr/>
          <p:nvPr/>
        </p:nvSpPr>
        <p:spPr>
          <a:xfrm>
            <a:off x="3678120" y="618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5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5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3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4" name=""/>
          <p:cNvSpPr/>
          <p:nvPr/>
        </p:nvSpPr>
        <p:spPr>
          <a:xfrm>
            <a:off x="2364120" y="37940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5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6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7" name=""/>
          <p:cNvSpPr/>
          <p:nvPr/>
        </p:nvSpPr>
        <p:spPr>
          <a:xfrm flipH="1">
            <a:off x="2743200" y="1442880"/>
            <a:ext cx="912960" cy="2595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8" name=""/>
          <p:cNvSpPr/>
          <p:nvPr/>
        </p:nvSpPr>
        <p:spPr>
          <a:xfrm>
            <a:off x="3657600" y="1447920"/>
            <a:ext cx="1066680" cy="2590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9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0" name=""/>
          <p:cNvSpPr/>
          <p:nvPr/>
        </p:nvSpPr>
        <p:spPr>
          <a:xfrm flipH="1">
            <a:off x="4800240" y="1905120"/>
            <a:ext cx="685800" cy="2133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1" name=""/>
          <p:cNvSpPr/>
          <p:nvPr/>
        </p:nvSpPr>
        <p:spPr>
          <a:xfrm>
            <a:off x="5562720" y="1905120"/>
            <a:ext cx="1066680" cy="2133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2" name=""/>
          <p:cNvSpPr/>
          <p:nvPr/>
        </p:nvSpPr>
        <p:spPr>
          <a:xfrm>
            <a:off x="1600200" y="2286000"/>
            <a:ext cx="1066680" cy="1752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3" name=""/>
          <p:cNvSpPr/>
          <p:nvPr/>
        </p:nvSpPr>
        <p:spPr>
          <a:xfrm>
            <a:off x="1600200" y="2286000"/>
            <a:ext cx="30492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4" name=""/>
          <p:cNvSpPr/>
          <p:nvPr/>
        </p:nvSpPr>
        <p:spPr>
          <a:xfrm>
            <a:off x="7621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'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5" name=""/>
          <p:cNvSpPr/>
          <p:nvPr/>
        </p:nvSpPr>
        <p:spPr>
          <a:xfrm>
            <a:off x="1535040" y="215892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6" name=""/>
          <p:cNvSpPr/>
          <p:nvPr/>
        </p:nvSpPr>
        <p:spPr>
          <a:xfrm>
            <a:off x="1258920" y="17780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7" name=""/>
          <p:cNvSpPr/>
          <p:nvPr/>
        </p:nvSpPr>
        <p:spPr>
          <a:xfrm>
            <a:off x="4268880" y="36576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8" name=""/>
          <p:cNvSpPr/>
          <p:nvPr/>
        </p:nvSpPr>
        <p:spPr>
          <a:xfrm>
            <a:off x="1553040" y="49528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9" name=""/>
          <p:cNvSpPr/>
          <p:nvPr/>
        </p:nvSpPr>
        <p:spPr>
          <a:xfrm>
            <a:off x="3352680" y="653724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0" name=""/>
          <p:cNvSpPr/>
          <p:nvPr/>
        </p:nvSpPr>
        <p:spPr>
          <a:xfrm>
            <a:off x="3077280" y="6156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1" name=""/>
          <p:cNvSpPr/>
          <p:nvPr/>
        </p:nvSpPr>
        <p:spPr>
          <a:xfrm>
            <a:off x="4495680" y="653724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2" name=""/>
          <p:cNvSpPr/>
          <p:nvPr/>
        </p:nvSpPr>
        <p:spPr>
          <a:xfrm>
            <a:off x="4220280" y="6156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3" name=""/>
          <p:cNvSpPr/>
          <p:nvPr/>
        </p:nvSpPr>
        <p:spPr>
          <a:xfrm>
            <a:off x="4878360" y="49784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4" name=""/>
          <p:cNvSpPr/>
          <p:nvPr/>
        </p:nvSpPr>
        <p:spPr>
          <a:xfrm>
            <a:off x="6629400" y="40384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5" name=""/>
          <p:cNvSpPr/>
          <p:nvPr/>
        </p:nvSpPr>
        <p:spPr>
          <a:xfrm>
            <a:off x="6734520" y="37180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6" name=""/>
          <p:cNvSpPr/>
          <p:nvPr/>
        </p:nvSpPr>
        <p:spPr>
          <a:xfrm flipV="1">
            <a:off x="5334120" y="2057040"/>
            <a:ext cx="152280" cy="335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7" name=""/>
          <p:cNvSpPr/>
          <p:nvPr/>
        </p:nvSpPr>
        <p:spPr>
          <a:xfrm flipV="1">
            <a:off x="1905120" y="4191120"/>
            <a:ext cx="2743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8" name=""/>
          <p:cNvSpPr/>
          <p:nvPr/>
        </p:nvSpPr>
        <p:spPr>
          <a:xfrm>
            <a:off x="4800600" y="4114800"/>
            <a:ext cx="4572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9" name=""/>
          <p:cNvSpPr/>
          <p:nvPr/>
        </p:nvSpPr>
        <p:spPr>
          <a:xfrm flipV="1">
            <a:off x="5334120" y="4114800"/>
            <a:ext cx="13716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0" name=""/>
          <p:cNvSpPr/>
          <p:nvPr/>
        </p:nvSpPr>
        <p:spPr>
          <a:xfrm>
            <a:off x="3430800" y="54100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1" name=""/>
          <p:cNvSpPr/>
          <p:nvPr/>
        </p:nvSpPr>
        <p:spPr>
          <a:xfrm>
            <a:off x="1905120" y="5410080"/>
            <a:ext cx="19047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2" name=""/>
          <p:cNvSpPr/>
          <p:nvPr/>
        </p:nvSpPr>
        <p:spPr>
          <a:xfrm flipV="1">
            <a:off x="3886200" y="4191120"/>
            <a:ext cx="83808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3" name=""/>
          <p:cNvSpPr/>
          <p:nvPr/>
        </p:nvSpPr>
        <p:spPr>
          <a:xfrm flipH="1" flipV="1">
            <a:off x="2819160" y="4191120"/>
            <a:ext cx="99036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4" name=""/>
          <p:cNvSpPr/>
          <p:nvPr/>
        </p:nvSpPr>
        <p:spPr>
          <a:xfrm flipV="1">
            <a:off x="3886200" y="5486400"/>
            <a:ext cx="137160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5" name=""/>
          <p:cNvSpPr/>
          <p:nvPr/>
        </p:nvSpPr>
        <p:spPr>
          <a:xfrm>
            <a:off x="3042720" y="2743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6" name=""/>
          <p:cNvSpPr/>
          <p:nvPr/>
        </p:nvSpPr>
        <p:spPr>
          <a:xfrm>
            <a:off x="2182680" y="1438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7" name=""/>
          <p:cNvSpPr/>
          <p:nvPr/>
        </p:nvSpPr>
        <p:spPr>
          <a:xfrm>
            <a:off x="4227120" y="1209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8" name=""/>
          <p:cNvSpPr/>
          <p:nvPr/>
        </p:nvSpPr>
        <p:spPr>
          <a:xfrm>
            <a:off x="1344600" y="3571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9" name=""/>
          <p:cNvSpPr/>
          <p:nvPr/>
        </p:nvSpPr>
        <p:spPr>
          <a:xfrm>
            <a:off x="2639880" y="5324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0" name=""/>
          <p:cNvSpPr/>
          <p:nvPr/>
        </p:nvSpPr>
        <p:spPr>
          <a:xfrm>
            <a:off x="4287600" y="4638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1" name=""/>
          <p:cNvSpPr/>
          <p:nvPr/>
        </p:nvSpPr>
        <p:spPr>
          <a:xfrm>
            <a:off x="4316400" y="540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2" name=""/>
          <p:cNvSpPr/>
          <p:nvPr/>
        </p:nvSpPr>
        <p:spPr>
          <a:xfrm>
            <a:off x="5916600" y="456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3" name=""/>
          <p:cNvSpPr/>
          <p:nvPr/>
        </p:nvSpPr>
        <p:spPr>
          <a:xfrm>
            <a:off x="5306760" y="3419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4" name=""/>
          <p:cNvSpPr/>
          <p:nvPr/>
        </p:nvSpPr>
        <p:spPr>
          <a:xfrm>
            <a:off x="5992560" y="2657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5" name=""/>
          <p:cNvSpPr/>
          <p:nvPr/>
        </p:nvSpPr>
        <p:spPr>
          <a:xfrm>
            <a:off x="3998520" y="2428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6" name=""/>
          <p:cNvSpPr/>
          <p:nvPr/>
        </p:nvSpPr>
        <p:spPr>
          <a:xfrm>
            <a:off x="4773600" y="2809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7" name=""/>
          <p:cNvSpPr/>
          <p:nvPr/>
        </p:nvSpPr>
        <p:spPr>
          <a:xfrm>
            <a:off x="3429000" y="6629400"/>
            <a:ext cx="10666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8" name=""/>
          <p:cNvSpPr/>
          <p:nvPr/>
        </p:nvSpPr>
        <p:spPr>
          <a:xfrm>
            <a:off x="671400" y="19112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9" name=""/>
          <p:cNvSpPr/>
          <p:nvPr/>
        </p:nvSpPr>
        <p:spPr>
          <a:xfrm>
            <a:off x="1128600" y="51116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0" name=""/>
          <p:cNvSpPr/>
          <p:nvPr/>
        </p:nvSpPr>
        <p:spPr>
          <a:xfrm>
            <a:off x="2608200" y="641520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1" name=""/>
          <p:cNvSpPr/>
          <p:nvPr/>
        </p:nvSpPr>
        <p:spPr>
          <a:xfrm>
            <a:off x="4589640" y="641520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2" name=""/>
          <p:cNvSpPr/>
          <p:nvPr/>
        </p:nvSpPr>
        <p:spPr>
          <a:xfrm>
            <a:off x="5208480" y="53402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3" name=""/>
          <p:cNvSpPr/>
          <p:nvPr/>
        </p:nvSpPr>
        <p:spPr>
          <a:xfrm>
            <a:off x="6728760" y="404496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4" name=""/>
          <p:cNvSpPr/>
          <p:nvPr/>
        </p:nvSpPr>
        <p:spPr>
          <a:xfrm>
            <a:off x="5665680" y="16826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5" name=""/>
          <p:cNvSpPr/>
          <p:nvPr/>
        </p:nvSpPr>
        <p:spPr>
          <a:xfrm>
            <a:off x="3468600" y="70632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6" name=""/>
          <p:cNvSpPr/>
          <p:nvPr/>
        </p:nvSpPr>
        <p:spPr>
          <a:xfrm>
            <a:off x="2716200" y="383076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7" name=""/>
          <p:cNvSpPr/>
          <p:nvPr/>
        </p:nvSpPr>
        <p:spPr>
          <a:xfrm>
            <a:off x="3719520" y="550692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8" name=""/>
          <p:cNvSpPr/>
          <p:nvPr/>
        </p:nvSpPr>
        <p:spPr>
          <a:xfrm>
            <a:off x="4773600" y="383076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9" name=""/>
          <p:cNvSpPr/>
          <p:nvPr/>
        </p:nvSpPr>
        <p:spPr>
          <a:xfrm>
            <a:off x="2592360" y="6267600"/>
            <a:ext cx="1139760" cy="722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0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1" name=""/>
          <p:cNvSpPr/>
          <p:nvPr/>
        </p:nvSpPr>
        <p:spPr>
          <a:xfrm>
            <a:off x="2052000" y="2743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2" name=""/>
          <p:cNvSpPr/>
          <p:nvPr/>
        </p:nvSpPr>
        <p:spPr>
          <a:xfrm>
            <a:off x="1828800" y="53341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3" name=""/>
          <p:cNvSpPr/>
          <p:nvPr/>
        </p:nvSpPr>
        <p:spPr>
          <a:xfrm>
            <a:off x="3782880" y="5486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4" name=""/>
          <p:cNvSpPr/>
          <p:nvPr/>
        </p:nvSpPr>
        <p:spPr>
          <a:xfrm>
            <a:off x="4697280" y="40384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5" name=""/>
          <p:cNvSpPr/>
          <p:nvPr/>
        </p:nvSpPr>
        <p:spPr>
          <a:xfrm>
            <a:off x="4287600" y="4638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6" name=""/>
          <p:cNvSpPr/>
          <p:nvPr/>
        </p:nvSpPr>
        <p:spPr>
          <a:xfrm>
            <a:off x="2287080" y="46483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7" name=""/>
          <p:cNvSpPr/>
          <p:nvPr/>
        </p:nvSpPr>
        <p:spPr>
          <a:xfrm>
            <a:off x="4897440" y="4334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8" name=""/>
          <p:cNvSpPr/>
          <p:nvPr/>
        </p:nvSpPr>
        <p:spPr>
          <a:xfrm flipV="1">
            <a:off x="2743200" y="1980720"/>
            <a:ext cx="2666880" cy="2133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9" name=""/>
          <p:cNvSpPr/>
          <p:nvPr/>
        </p:nvSpPr>
        <p:spPr>
          <a:xfrm>
            <a:off x="3477960" y="3290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0" name="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1" name=""/>
          <p:cNvSpPr/>
          <p:nvPr/>
        </p:nvSpPr>
        <p:spPr>
          <a:xfrm>
            <a:off x="5257800" y="535932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2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3" name=""/>
          <p:cNvSpPr/>
          <p:nvPr/>
        </p:nvSpPr>
        <p:spPr>
          <a:xfrm>
            <a:off x="3678120" y="618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5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5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4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5" name=""/>
          <p:cNvSpPr/>
          <p:nvPr/>
        </p:nvSpPr>
        <p:spPr>
          <a:xfrm>
            <a:off x="2364120" y="37940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6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7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8" name=""/>
          <p:cNvSpPr/>
          <p:nvPr/>
        </p:nvSpPr>
        <p:spPr>
          <a:xfrm flipH="1">
            <a:off x="2743200" y="1442880"/>
            <a:ext cx="912960" cy="2595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9" name=""/>
          <p:cNvSpPr/>
          <p:nvPr/>
        </p:nvSpPr>
        <p:spPr>
          <a:xfrm>
            <a:off x="3657600" y="1447920"/>
            <a:ext cx="1066680" cy="2590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0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1" name=""/>
          <p:cNvSpPr/>
          <p:nvPr/>
        </p:nvSpPr>
        <p:spPr>
          <a:xfrm flipH="1">
            <a:off x="4800240" y="1905120"/>
            <a:ext cx="685800" cy="2133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2" name=""/>
          <p:cNvSpPr/>
          <p:nvPr/>
        </p:nvSpPr>
        <p:spPr>
          <a:xfrm>
            <a:off x="5562720" y="1905120"/>
            <a:ext cx="1066680" cy="2133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3" name=""/>
          <p:cNvSpPr/>
          <p:nvPr/>
        </p:nvSpPr>
        <p:spPr>
          <a:xfrm>
            <a:off x="1600200" y="2286000"/>
            <a:ext cx="1066680" cy="1752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4" name=""/>
          <p:cNvSpPr/>
          <p:nvPr/>
        </p:nvSpPr>
        <p:spPr>
          <a:xfrm>
            <a:off x="1600200" y="2286000"/>
            <a:ext cx="30492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5" name=""/>
          <p:cNvSpPr/>
          <p:nvPr/>
        </p:nvSpPr>
        <p:spPr>
          <a:xfrm>
            <a:off x="7621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'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6" name=""/>
          <p:cNvSpPr/>
          <p:nvPr/>
        </p:nvSpPr>
        <p:spPr>
          <a:xfrm>
            <a:off x="1535040" y="215892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7" name=""/>
          <p:cNvSpPr/>
          <p:nvPr/>
        </p:nvSpPr>
        <p:spPr>
          <a:xfrm>
            <a:off x="1258920" y="17780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8" name=""/>
          <p:cNvSpPr/>
          <p:nvPr/>
        </p:nvSpPr>
        <p:spPr>
          <a:xfrm>
            <a:off x="4268880" y="36576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9" name=""/>
          <p:cNvSpPr/>
          <p:nvPr/>
        </p:nvSpPr>
        <p:spPr>
          <a:xfrm>
            <a:off x="1553040" y="49528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0" name=""/>
          <p:cNvSpPr/>
          <p:nvPr/>
        </p:nvSpPr>
        <p:spPr>
          <a:xfrm>
            <a:off x="3077280" y="6156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1" name=""/>
          <p:cNvSpPr/>
          <p:nvPr/>
        </p:nvSpPr>
        <p:spPr>
          <a:xfrm>
            <a:off x="4495680" y="6537240"/>
            <a:ext cx="152640" cy="152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2" name=""/>
          <p:cNvSpPr/>
          <p:nvPr/>
        </p:nvSpPr>
        <p:spPr>
          <a:xfrm>
            <a:off x="4220280" y="6156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3" name=""/>
          <p:cNvSpPr/>
          <p:nvPr/>
        </p:nvSpPr>
        <p:spPr>
          <a:xfrm>
            <a:off x="4878360" y="49784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4" name=""/>
          <p:cNvSpPr/>
          <p:nvPr/>
        </p:nvSpPr>
        <p:spPr>
          <a:xfrm>
            <a:off x="6629400" y="40384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5" name=""/>
          <p:cNvSpPr/>
          <p:nvPr/>
        </p:nvSpPr>
        <p:spPr>
          <a:xfrm>
            <a:off x="6734520" y="37180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6" name=""/>
          <p:cNvSpPr/>
          <p:nvPr/>
        </p:nvSpPr>
        <p:spPr>
          <a:xfrm flipV="1">
            <a:off x="5334120" y="2057040"/>
            <a:ext cx="152280" cy="335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7" name=""/>
          <p:cNvSpPr/>
          <p:nvPr/>
        </p:nvSpPr>
        <p:spPr>
          <a:xfrm flipV="1">
            <a:off x="1905120" y="4191120"/>
            <a:ext cx="2743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8" name=""/>
          <p:cNvSpPr/>
          <p:nvPr/>
        </p:nvSpPr>
        <p:spPr>
          <a:xfrm>
            <a:off x="4800600" y="4114800"/>
            <a:ext cx="4572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9" name=""/>
          <p:cNvSpPr/>
          <p:nvPr/>
        </p:nvSpPr>
        <p:spPr>
          <a:xfrm flipV="1">
            <a:off x="5334120" y="4114800"/>
            <a:ext cx="13716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0" name=""/>
          <p:cNvSpPr/>
          <p:nvPr/>
        </p:nvSpPr>
        <p:spPr>
          <a:xfrm>
            <a:off x="3430800" y="54100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1" name=""/>
          <p:cNvSpPr/>
          <p:nvPr/>
        </p:nvSpPr>
        <p:spPr>
          <a:xfrm>
            <a:off x="1905120" y="5410080"/>
            <a:ext cx="19047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2" name=""/>
          <p:cNvSpPr/>
          <p:nvPr/>
        </p:nvSpPr>
        <p:spPr>
          <a:xfrm flipV="1">
            <a:off x="3886200" y="4191120"/>
            <a:ext cx="83808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3" name=""/>
          <p:cNvSpPr/>
          <p:nvPr/>
        </p:nvSpPr>
        <p:spPr>
          <a:xfrm flipH="1" flipV="1">
            <a:off x="2819160" y="4191120"/>
            <a:ext cx="99036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4" name=""/>
          <p:cNvSpPr/>
          <p:nvPr/>
        </p:nvSpPr>
        <p:spPr>
          <a:xfrm flipV="1">
            <a:off x="3886200" y="5486400"/>
            <a:ext cx="137160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5" name=""/>
          <p:cNvSpPr/>
          <p:nvPr/>
        </p:nvSpPr>
        <p:spPr>
          <a:xfrm>
            <a:off x="3042720" y="2743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6" name=""/>
          <p:cNvSpPr/>
          <p:nvPr/>
        </p:nvSpPr>
        <p:spPr>
          <a:xfrm>
            <a:off x="2182680" y="1438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7" name=""/>
          <p:cNvSpPr/>
          <p:nvPr/>
        </p:nvSpPr>
        <p:spPr>
          <a:xfrm>
            <a:off x="4227120" y="1209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8" name=""/>
          <p:cNvSpPr/>
          <p:nvPr/>
        </p:nvSpPr>
        <p:spPr>
          <a:xfrm>
            <a:off x="1344600" y="3571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9" name=""/>
          <p:cNvSpPr/>
          <p:nvPr/>
        </p:nvSpPr>
        <p:spPr>
          <a:xfrm>
            <a:off x="2639880" y="5324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0" name=""/>
          <p:cNvSpPr/>
          <p:nvPr/>
        </p:nvSpPr>
        <p:spPr>
          <a:xfrm>
            <a:off x="4287600" y="4638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1" name=""/>
          <p:cNvSpPr/>
          <p:nvPr/>
        </p:nvSpPr>
        <p:spPr>
          <a:xfrm>
            <a:off x="4316400" y="540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2" name=""/>
          <p:cNvSpPr/>
          <p:nvPr/>
        </p:nvSpPr>
        <p:spPr>
          <a:xfrm>
            <a:off x="5916600" y="456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3" name=""/>
          <p:cNvSpPr/>
          <p:nvPr/>
        </p:nvSpPr>
        <p:spPr>
          <a:xfrm>
            <a:off x="5306760" y="3419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4" name=""/>
          <p:cNvSpPr/>
          <p:nvPr/>
        </p:nvSpPr>
        <p:spPr>
          <a:xfrm>
            <a:off x="5992560" y="2657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5" name=""/>
          <p:cNvSpPr/>
          <p:nvPr/>
        </p:nvSpPr>
        <p:spPr>
          <a:xfrm>
            <a:off x="3998520" y="2428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6" name=""/>
          <p:cNvSpPr/>
          <p:nvPr/>
        </p:nvSpPr>
        <p:spPr>
          <a:xfrm>
            <a:off x="4773600" y="2809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7" name=""/>
          <p:cNvSpPr/>
          <p:nvPr/>
        </p:nvSpPr>
        <p:spPr>
          <a:xfrm>
            <a:off x="3429000" y="6629400"/>
            <a:ext cx="106668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8" name=""/>
          <p:cNvSpPr/>
          <p:nvPr/>
        </p:nvSpPr>
        <p:spPr>
          <a:xfrm>
            <a:off x="671400" y="19112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9" name=""/>
          <p:cNvSpPr/>
          <p:nvPr/>
        </p:nvSpPr>
        <p:spPr>
          <a:xfrm>
            <a:off x="1128600" y="51116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0" name=""/>
          <p:cNvSpPr/>
          <p:nvPr/>
        </p:nvSpPr>
        <p:spPr>
          <a:xfrm>
            <a:off x="2608200" y="641520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1" name=""/>
          <p:cNvSpPr/>
          <p:nvPr/>
        </p:nvSpPr>
        <p:spPr>
          <a:xfrm>
            <a:off x="4589640" y="641520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2" name=""/>
          <p:cNvSpPr/>
          <p:nvPr/>
        </p:nvSpPr>
        <p:spPr>
          <a:xfrm>
            <a:off x="5208480" y="53402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3" name=""/>
          <p:cNvSpPr/>
          <p:nvPr/>
        </p:nvSpPr>
        <p:spPr>
          <a:xfrm>
            <a:off x="6728760" y="404496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4" name=""/>
          <p:cNvSpPr/>
          <p:nvPr/>
        </p:nvSpPr>
        <p:spPr>
          <a:xfrm>
            <a:off x="5665680" y="16826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5" name=""/>
          <p:cNvSpPr/>
          <p:nvPr/>
        </p:nvSpPr>
        <p:spPr>
          <a:xfrm>
            <a:off x="3468600" y="70632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6" name=""/>
          <p:cNvSpPr/>
          <p:nvPr/>
        </p:nvSpPr>
        <p:spPr>
          <a:xfrm>
            <a:off x="2716200" y="383076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7" name=""/>
          <p:cNvSpPr/>
          <p:nvPr/>
        </p:nvSpPr>
        <p:spPr>
          <a:xfrm>
            <a:off x="3719520" y="550692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8" name=""/>
          <p:cNvSpPr/>
          <p:nvPr/>
        </p:nvSpPr>
        <p:spPr>
          <a:xfrm>
            <a:off x="4773600" y="383076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9" name=""/>
          <p:cNvSpPr/>
          <p:nvPr/>
        </p:nvSpPr>
        <p:spPr>
          <a:xfrm>
            <a:off x="4344840" y="6267600"/>
            <a:ext cx="1140120" cy="722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0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1" name=""/>
          <p:cNvSpPr/>
          <p:nvPr/>
        </p:nvSpPr>
        <p:spPr>
          <a:xfrm>
            <a:off x="2052000" y="2743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2" name=""/>
          <p:cNvSpPr/>
          <p:nvPr/>
        </p:nvSpPr>
        <p:spPr>
          <a:xfrm>
            <a:off x="1828800" y="53341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3" name=""/>
          <p:cNvSpPr/>
          <p:nvPr/>
        </p:nvSpPr>
        <p:spPr>
          <a:xfrm>
            <a:off x="3782880" y="5486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4" name=""/>
          <p:cNvSpPr/>
          <p:nvPr/>
        </p:nvSpPr>
        <p:spPr>
          <a:xfrm>
            <a:off x="4697280" y="40384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5" name=""/>
          <p:cNvSpPr/>
          <p:nvPr/>
        </p:nvSpPr>
        <p:spPr>
          <a:xfrm>
            <a:off x="4287600" y="4638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6" name=""/>
          <p:cNvSpPr/>
          <p:nvPr/>
        </p:nvSpPr>
        <p:spPr>
          <a:xfrm>
            <a:off x="2287080" y="46483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7" name=""/>
          <p:cNvSpPr/>
          <p:nvPr/>
        </p:nvSpPr>
        <p:spPr>
          <a:xfrm>
            <a:off x="4897440" y="4334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8" name=""/>
          <p:cNvSpPr/>
          <p:nvPr/>
        </p:nvSpPr>
        <p:spPr>
          <a:xfrm flipV="1">
            <a:off x="2743200" y="1980720"/>
            <a:ext cx="2666880" cy="2133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9" name=""/>
          <p:cNvSpPr/>
          <p:nvPr/>
        </p:nvSpPr>
        <p:spPr>
          <a:xfrm>
            <a:off x="3477960" y="3290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0" name="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1" name=""/>
          <p:cNvSpPr/>
          <p:nvPr/>
        </p:nvSpPr>
        <p:spPr>
          <a:xfrm>
            <a:off x="5257800" y="535932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2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3" name=""/>
          <p:cNvSpPr/>
          <p:nvPr/>
        </p:nvSpPr>
        <p:spPr>
          <a:xfrm>
            <a:off x="3352680" y="653724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4" name=""/>
          <p:cNvSpPr/>
          <p:nvPr/>
        </p:nvSpPr>
        <p:spPr>
          <a:xfrm>
            <a:off x="3678120" y="618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5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5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5" name=""/>
          <p:cNvSpPr/>
          <p:nvPr/>
        </p:nvSpPr>
        <p:spPr>
          <a:xfrm>
            <a:off x="3506760" y="914400"/>
            <a:ext cx="32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6" name=""/>
          <p:cNvSpPr/>
          <p:nvPr/>
        </p:nvSpPr>
        <p:spPr>
          <a:xfrm>
            <a:off x="2364120" y="37940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7" name=""/>
          <p:cNvSpPr/>
          <p:nvPr/>
        </p:nvSpPr>
        <p:spPr>
          <a:xfrm>
            <a:off x="5488200" y="15462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8" name=""/>
          <p:cNvSpPr/>
          <p:nvPr/>
        </p:nvSpPr>
        <p:spPr>
          <a:xfrm flipH="1">
            <a:off x="1676160" y="1447920"/>
            <a:ext cx="19810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9" name=""/>
          <p:cNvSpPr/>
          <p:nvPr/>
        </p:nvSpPr>
        <p:spPr>
          <a:xfrm flipH="1">
            <a:off x="2743200" y="1442880"/>
            <a:ext cx="912960" cy="2595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0" name=""/>
          <p:cNvSpPr/>
          <p:nvPr/>
        </p:nvSpPr>
        <p:spPr>
          <a:xfrm>
            <a:off x="3657600" y="1447920"/>
            <a:ext cx="1066680" cy="2590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1" name=""/>
          <p:cNvSpPr/>
          <p:nvPr/>
        </p:nvSpPr>
        <p:spPr>
          <a:xfrm>
            <a:off x="3657600" y="1447920"/>
            <a:ext cx="175248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2" name=""/>
          <p:cNvSpPr/>
          <p:nvPr/>
        </p:nvSpPr>
        <p:spPr>
          <a:xfrm flipH="1">
            <a:off x="4800240" y="1905120"/>
            <a:ext cx="685800" cy="2133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3" name=""/>
          <p:cNvSpPr/>
          <p:nvPr/>
        </p:nvSpPr>
        <p:spPr>
          <a:xfrm>
            <a:off x="5562720" y="1905120"/>
            <a:ext cx="1066680" cy="2133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4" name=""/>
          <p:cNvSpPr/>
          <p:nvPr/>
        </p:nvSpPr>
        <p:spPr>
          <a:xfrm>
            <a:off x="1600200" y="2286000"/>
            <a:ext cx="1066680" cy="1752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5" name=""/>
          <p:cNvSpPr/>
          <p:nvPr/>
        </p:nvSpPr>
        <p:spPr>
          <a:xfrm>
            <a:off x="1600200" y="2286000"/>
            <a:ext cx="30492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6" name=""/>
          <p:cNvSpPr/>
          <p:nvPr/>
        </p:nvSpPr>
        <p:spPr>
          <a:xfrm>
            <a:off x="7621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'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7" name=""/>
          <p:cNvSpPr/>
          <p:nvPr/>
        </p:nvSpPr>
        <p:spPr>
          <a:xfrm>
            <a:off x="1535040" y="215892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8" name=""/>
          <p:cNvSpPr/>
          <p:nvPr/>
        </p:nvSpPr>
        <p:spPr>
          <a:xfrm>
            <a:off x="1258920" y="17780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9" name=""/>
          <p:cNvSpPr/>
          <p:nvPr/>
        </p:nvSpPr>
        <p:spPr>
          <a:xfrm>
            <a:off x="4268880" y="365760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0" name=""/>
          <p:cNvSpPr/>
          <p:nvPr/>
        </p:nvSpPr>
        <p:spPr>
          <a:xfrm>
            <a:off x="1553040" y="495288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1" name=""/>
          <p:cNvSpPr/>
          <p:nvPr/>
        </p:nvSpPr>
        <p:spPr>
          <a:xfrm>
            <a:off x="3077280" y="6156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2" name=""/>
          <p:cNvSpPr/>
          <p:nvPr/>
        </p:nvSpPr>
        <p:spPr>
          <a:xfrm>
            <a:off x="4495680" y="653724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3" name=""/>
          <p:cNvSpPr/>
          <p:nvPr/>
        </p:nvSpPr>
        <p:spPr>
          <a:xfrm>
            <a:off x="4220280" y="615636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4" name=""/>
          <p:cNvSpPr/>
          <p:nvPr/>
        </p:nvSpPr>
        <p:spPr>
          <a:xfrm>
            <a:off x="4878360" y="49784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5" name=""/>
          <p:cNvSpPr/>
          <p:nvPr/>
        </p:nvSpPr>
        <p:spPr>
          <a:xfrm>
            <a:off x="6629400" y="403848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6" name=""/>
          <p:cNvSpPr/>
          <p:nvPr/>
        </p:nvSpPr>
        <p:spPr>
          <a:xfrm>
            <a:off x="6734520" y="371808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7" name=""/>
          <p:cNvSpPr/>
          <p:nvPr/>
        </p:nvSpPr>
        <p:spPr>
          <a:xfrm flipV="1">
            <a:off x="5334120" y="2057040"/>
            <a:ext cx="152280" cy="335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8" name=""/>
          <p:cNvSpPr/>
          <p:nvPr/>
        </p:nvSpPr>
        <p:spPr>
          <a:xfrm flipV="1">
            <a:off x="1905120" y="4191120"/>
            <a:ext cx="2743200" cy="1218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9" name=""/>
          <p:cNvSpPr/>
          <p:nvPr/>
        </p:nvSpPr>
        <p:spPr>
          <a:xfrm>
            <a:off x="4800600" y="4114800"/>
            <a:ext cx="4572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0" name=""/>
          <p:cNvSpPr/>
          <p:nvPr/>
        </p:nvSpPr>
        <p:spPr>
          <a:xfrm flipV="1">
            <a:off x="5334120" y="4114800"/>
            <a:ext cx="13716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1" name=""/>
          <p:cNvSpPr/>
          <p:nvPr/>
        </p:nvSpPr>
        <p:spPr>
          <a:xfrm>
            <a:off x="3430800" y="54100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2" name=""/>
          <p:cNvSpPr/>
          <p:nvPr/>
        </p:nvSpPr>
        <p:spPr>
          <a:xfrm>
            <a:off x="1905120" y="5410080"/>
            <a:ext cx="19047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3" name=""/>
          <p:cNvSpPr/>
          <p:nvPr/>
        </p:nvSpPr>
        <p:spPr>
          <a:xfrm flipV="1">
            <a:off x="3886200" y="4191120"/>
            <a:ext cx="83808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4" name=""/>
          <p:cNvSpPr/>
          <p:nvPr/>
        </p:nvSpPr>
        <p:spPr>
          <a:xfrm flipH="1" flipV="1">
            <a:off x="2819160" y="4191120"/>
            <a:ext cx="99036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5" name=""/>
          <p:cNvSpPr/>
          <p:nvPr/>
        </p:nvSpPr>
        <p:spPr>
          <a:xfrm flipV="1">
            <a:off x="3886200" y="5486400"/>
            <a:ext cx="137160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6" name=""/>
          <p:cNvSpPr/>
          <p:nvPr/>
        </p:nvSpPr>
        <p:spPr>
          <a:xfrm>
            <a:off x="3042720" y="2743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7" name=""/>
          <p:cNvSpPr/>
          <p:nvPr/>
        </p:nvSpPr>
        <p:spPr>
          <a:xfrm>
            <a:off x="2182680" y="1438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8" name=""/>
          <p:cNvSpPr/>
          <p:nvPr/>
        </p:nvSpPr>
        <p:spPr>
          <a:xfrm>
            <a:off x="4227120" y="1209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9" name=""/>
          <p:cNvSpPr/>
          <p:nvPr/>
        </p:nvSpPr>
        <p:spPr>
          <a:xfrm>
            <a:off x="1344600" y="3571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0" name=""/>
          <p:cNvSpPr/>
          <p:nvPr/>
        </p:nvSpPr>
        <p:spPr>
          <a:xfrm>
            <a:off x="2639880" y="5324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1" name=""/>
          <p:cNvSpPr/>
          <p:nvPr/>
        </p:nvSpPr>
        <p:spPr>
          <a:xfrm>
            <a:off x="4287600" y="4638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2" name=""/>
          <p:cNvSpPr/>
          <p:nvPr/>
        </p:nvSpPr>
        <p:spPr>
          <a:xfrm>
            <a:off x="4316400" y="540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3" name=""/>
          <p:cNvSpPr/>
          <p:nvPr/>
        </p:nvSpPr>
        <p:spPr>
          <a:xfrm>
            <a:off x="5916600" y="456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4" name=""/>
          <p:cNvSpPr/>
          <p:nvPr/>
        </p:nvSpPr>
        <p:spPr>
          <a:xfrm>
            <a:off x="5306760" y="3419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5" name=""/>
          <p:cNvSpPr/>
          <p:nvPr/>
        </p:nvSpPr>
        <p:spPr>
          <a:xfrm>
            <a:off x="5992560" y="2657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6" name=""/>
          <p:cNvSpPr/>
          <p:nvPr/>
        </p:nvSpPr>
        <p:spPr>
          <a:xfrm>
            <a:off x="3998520" y="2428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7" name=""/>
          <p:cNvSpPr/>
          <p:nvPr/>
        </p:nvSpPr>
        <p:spPr>
          <a:xfrm>
            <a:off x="4773600" y="2809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8" name=""/>
          <p:cNvSpPr/>
          <p:nvPr/>
        </p:nvSpPr>
        <p:spPr>
          <a:xfrm>
            <a:off x="3429000" y="66294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9" name=""/>
          <p:cNvSpPr/>
          <p:nvPr/>
        </p:nvSpPr>
        <p:spPr>
          <a:xfrm>
            <a:off x="671400" y="19112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0" name=""/>
          <p:cNvSpPr/>
          <p:nvPr/>
        </p:nvSpPr>
        <p:spPr>
          <a:xfrm>
            <a:off x="1128600" y="51116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1" name=""/>
          <p:cNvSpPr/>
          <p:nvPr/>
        </p:nvSpPr>
        <p:spPr>
          <a:xfrm>
            <a:off x="2608200" y="641520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2" name=""/>
          <p:cNvSpPr/>
          <p:nvPr/>
        </p:nvSpPr>
        <p:spPr>
          <a:xfrm>
            <a:off x="4589640" y="641520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3" name=""/>
          <p:cNvSpPr/>
          <p:nvPr/>
        </p:nvSpPr>
        <p:spPr>
          <a:xfrm>
            <a:off x="5208480" y="53402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4" name=""/>
          <p:cNvSpPr/>
          <p:nvPr/>
        </p:nvSpPr>
        <p:spPr>
          <a:xfrm>
            <a:off x="6728760" y="404496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5" name=""/>
          <p:cNvSpPr/>
          <p:nvPr/>
        </p:nvSpPr>
        <p:spPr>
          <a:xfrm>
            <a:off x="5665680" y="168264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6" name=""/>
          <p:cNvSpPr/>
          <p:nvPr/>
        </p:nvSpPr>
        <p:spPr>
          <a:xfrm>
            <a:off x="3468600" y="70632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7" name=""/>
          <p:cNvSpPr/>
          <p:nvPr/>
        </p:nvSpPr>
        <p:spPr>
          <a:xfrm>
            <a:off x="2716200" y="383076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8" name=""/>
          <p:cNvSpPr/>
          <p:nvPr/>
        </p:nvSpPr>
        <p:spPr>
          <a:xfrm>
            <a:off x="3719520" y="550692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9" name=""/>
          <p:cNvSpPr/>
          <p:nvPr/>
        </p:nvSpPr>
        <p:spPr>
          <a:xfrm>
            <a:off x="4773600" y="383076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=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0" name=""/>
          <p:cNvSpPr/>
          <p:nvPr/>
        </p:nvSpPr>
        <p:spPr>
          <a:xfrm>
            <a:off x="3581280" y="13716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1" name=""/>
          <p:cNvSpPr/>
          <p:nvPr/>
        </p:nvSpPr>
        <p:spPr>
          <a:xfrm>
            <a:off x="2052000" y="2743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2" name=""/>
          <p:cNvSpPr/>
          <p:nvPr/>
        </p:nvSpPr>
        <p:spPr>
          <a:xfrm>
            <a:off x="1828800" y="53341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3" name=""/>
          <p:cNvSpPr/>
          <p:nvPr/>
        </p:nvSpPr>
        <p:spPr>
          <a:xfrm>
            <a:off x="3782880" y="5486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4" name=""/>
          <p:cNvSpPr/>
          <p:nvPr/>
        </p:nvSpPr>
        <p:spPr>
          <a:xfrm>
            <a:off x="4697280" y="40384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5" name=""/>
          <p:cNvSpPr/>
          <p:nvPr/>
        </p:nvSpPr>
        <p:spPr>
          <a:xfrm>
            <a:off x="4287600" y="4638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6" name=""/>
          <p:cNvSpPr/>
          <p:nvPr/>
        </p:nvSpPr>
        <p:spPr>
          <a:xfrm>
            <a:off x="2287080" y="46483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7" name=""/>
          <p:cNvSpPr/>
          <p:nvPr/>
        </p:nvSpPr>
        <p:spPr>
          <a:xfrm>
            <a:off x="4897440" y="4334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8" name=""/>
          <p:cNvSpPr/>
          <p:nvPr/>
        </p:nvSpPr>
        <p:spPr>
          <a:xfrm flipV="1">
            <a:off x="2743200" y="1980720"/>
            <a:ext cx="2666880" cy="2133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9" name=""/>
          <p:cNvSpPr/>
          <p:nvPr/>
        </p:nvSpPr>
        <p:spPr>
          <a:xfrm>
            <a:off x="3477960" y="3290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0" name="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1" name=""/>
          <p:cNvSpPr/>
          <p:nvPr/>
        </p:nvSpPr>
        <p:spPr>
          <a:xfrm>
            <a:off x="5257800" y="535932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2" name=""/>
          <p:cNvSpPr/>
          <p:nvPr/>
        </p:nvSpPr>
        <p:spPr>
          <a:xfrm>
            <a:off x="5410080" y="18288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3" name=""/>
          <p:cNvSpPr/>
          <p:nvPr/>
        </p:nvSpPr>
        <p:spPr>
          <a:xfrm>
            <a:off x="3352680" y="653724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4" name=""/>
          <p:cNvSpPr/>
          <p:nvPr/>
        </p:nvSpPr>
        <p:spPr>
          <a:xfrm>
            <a:off x="7149960" y="594360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5" name=""/>
          <p:cNvSpPr/>
          <p:nvPr/>
        </p:nvSpPr>
        <p:spPr>
          <a:xfrm>
            <a:off x="3678120" y="618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5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5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6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7115040" cy="3021120"/>
          </a:xfrm>
          <a:prstGeom prst="rect">
            <a:avLst/>
          </a:prstGeom>
          <a:ln w="0">
            <a:noFill/>
          </a:ln>
        </p:spPr>
      </p:pic>
      <p:sp>
        <p:nvSpPr>
          <p:cNvPr id="5367" name=""/>
          <p:cNvSpPr/>
          <p:nvPr/>
        </p:nvSpPr>
        <p:spPr>
          <a:xfrm>
            <a:off x="7621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'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68" name=""/>
          <p:cNvGrpSpPr/>
          <p:nvPr/>
        </p:nvGrpSpPr>
        <p:grpSpPr>
          <a:xfrm>
            <a:off x="228600" y="76320"/>
            <a:ext cx="1181160" cy="1066680"/>
            <a:chOff x="228600" y="76320"/>
            <a:chExt cx="1181160" cy="1066680"/>
          </a:xfrm>
        </p:grpSpPr>
        <p:sp>
          <p:nvSpPr>
            <p:cNvPr id="5369" name=""/>
            <p:cNvSpPr/>
            <p:nvPr/>
          </p:nvSpPr>
          <p:spPr>
            <a:xfrm>
              <a:off x="228600" y="76320"/>
              <a:ext cx="1181160" cy="106668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70" name=""/>
            <p:cNvGrpSpPr/>
            <p:nvPr/>
          </p:nvGrpSpPr>
          <p:grpSpPr>
            <a:xfrm>
              <a:off x="415080" y="165240"/>
              <a:ext cx="629640" cy="860400"/>
              <a:chOff x="415080" y="165240"/>
              <a:chExt cx="629640" cy="860400"/>
            </a:xfrm>
          </p:grpSpPr>
          <p:grpSp>
            <p:nvGrpSpPr>
              <p:cNvPr id="5371" name=""/>
              <p:cNvGrpSpPr/>
              <p:nvPr/>
            </p:nvGrpSpPr>
            <p:grpSpPr>
              <a:xfrm>
                <a:off x="415080" y="165240"/>
                <a:ext cx="592560" cy="842400"/>
                <a:chOff x="415080" y="165240"/>
                <a:chExt cx="592560" cy="842400"/>
              </a:xfrm>
            </p:grpSpPr>
            <p:sp>
              <p:nvSpPr>
                <p:cNvPr id="5372" name=""/>
                <p:cNvSpPr/>
                <p:nvPr/>
              </p:nvSpPr>
              <p:spPr>
                <a:xfrm>
                  <a:off x="610560" y="307440"/>
                  <a:ext cx="102960" cy="177840"/>
                </a:xfrm>
                <a:custGeom>
                  <a:avLst/>
                  <a:gdLst/>
                  <a:ahLst/>
                  <a:rect l="l" t="t" r="r" b="b"/>
                  <a:pathLst>
                    <a:path w="434" h="514">
                      <a:moveTo>
                        <a:pt x="132" y="186"/>
                      </a:moveTo>
                      <a:lnTo>
                        <a:pt x="157" y="114"/>
                      </a:lnTo>
                      <a:lnTo>
                        <a:pt x="189" y="42"/>
                      </a:lnTo>
                      <a:lnTo>
                        <a:pt x="236" y="6"/>
                      </a:lnTo>
                      <a:lnTo>
                        <a:pt x="302" y="0"/>
                      </a:lnTo>
                      <a:lnTo>
                        <a:pt x="355" y="24"/>
                      </a:lnTo>
                      <a:lnTo>
                        <a:pt x="393" y="63"/>
                      </a:lnTo>
                      <a:lnTo>
                        <a:pt x="421" y="135"/>
                      </a:lnTo>
                      <a:lnTo>
                        <a:pt x="434" y="222"/>
                      </a:lnTo>
                      <a:lnTo>
                        <a:pt x="434" y="312"/>
                      </a:lnTo>
                      <a:lnTo>
                        <a:pt x="412" y="411"/>
                      </a:lnTo>
                      <a:lnTo>
                        <a:pt x="355" y="474"/>
                      </a:lnTo>
                      <a:lnTo>
                        <a:pt x="299" y="514"/>
                      </a:lnTo>
                      <a:lnTo>
                        <a:pt x="245" y="510"/>
                      </a:lnTo>
                      <a:lnTo>
                        <a:pt x="198" y="468"/>
                      </a:lnTo>
                      <a:lnTo>
                        <a:pt x="157" y="396"/>
                      </a:lnTo>
                      <a:lnTo>
                        <a:pt x="129" y="333"/>
                      </a:lnTo>
                      <a:lnTo>
                        <a:pt x="129" y="252"/>
                      </a:lnTo>
                      <a:lnTo>
                        <a:pt x="0" y="234"/>
                      </a:lnTo>
                      <a:lnTo>
                        <a:pt x="16" y="189"/>
                      </a:lnTo>
                      <a:lnTo>
                        <a:pt x="132" y="18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3" name=""/>
                <p:cNvSpPr/>
                <p:nvPr/>
              </p:nvSpPr>
              <p:spPr>
                <a:xfrm>
                  <a:off x="678600" y="165240"/>
                  <a:ext cx="134280" cy="398880"/>
                </a:xfrm>
                <a:custGeom>
                  <a:avLst/>
                  <a:gdLst/>
                  <a:ahLst/>
                  <a:rect l="l" t="t" r="r" b="b"/>
                  <a:pathLst>
                    <a:path w="566" h="1154">
                      <a:moveTo>
                        <a:pt x="13" y="1145"/>
                      </a:moveTo>
                      <a:lnTo>
                        <a:pt x="0" y="1088"/>
                      </a:lnTo>
                      <a:lnTo>
                        <a:pt x="31" y="1042"/>
                      </a:lnTo>
                      <a:lnTo>
                        <a:pt x="134" y="988"/>
                      </a:lnTo>
                      <a:lnTo>
                        <a:pt x="226" y="927"/>
                      </a:lnTo>
                      <a:lnTo>
                        <a:pt x="313" y="827"/>
                      </a:lnTo>
                      <a:lnTo>
                        <a:pt x="432" y="689"/>
                      </a:lnTo>
                      <a:lnTo>
                        <a:pt x="463" y="634"/>
                      </a:lnTo>
                      <a:lnTo>
                        <a:pt x="479" y="580"/>
                      </a:lnTo>
                      <a:lnTo>
                        <a:pt x="472" y="526"/>
                      </a:lnTo>
                      <a:lnTo>
                        <a:pt x="444" y="426"/>
                      </a:lnTo>
                      <a:lnTo>
                        <a:pt x="376" y="299"/>
                      </a:lnTo>
                      <a:lnTo>
                        <a:pt x="301" y="229"/>
                      </a:lnTo>
                      <a:lnTo>
                        <a:pt x="235" y="190"/>
                      </a:lnTo>
                      <a:lnTo>
                        <a:pt x="181" y="184"/>
                      </a:lnTo>
                      <a:lnTo>
                        <a:pt x="153" y="190"/>
                      </a:lnTo>
                      <a:lnTo>
                        <a:pt x="150" y="163"/>
                      </a:lnTo>
                      <a:lnTo>
                        <a:pt x="215" y="154"/>
                      </a:lnTo>
                      <a:lnTo>
                        <a:pt x="291" y="154"/>
                      </a:lnTo>
                      <a:lnTo>
                        <a:pt x="238" y="93"/>
                      </a:lnTo>
                      <a:lnTo>
                        <a:pt x="206" y="45"/>
                      </a:lnTo>
                      <a:lnTo>
                        <a:pt x="229" y="27"/>
                      </a:lnTo>
                      <a:lnTo>
                        <a:pt x="313" y="109"/>
                      </a:lnTo>
                      <a:lnTo>
                        <a:pt x="329" y="121"/>
                      </a:lnTo>
                      <a:lnTo>
                        <a:pt x="313" y="57"/>
                      </a:lnTo>
                      <a:lnTo>
                        <a:pt x="301" y="9"/>
                      </a:lnTo>
                      <a:lnTo>
                        <a:pt x="313" y="0"/>
                      </a:lnTo>
                      <a:lnTo>
                        <a:pt x="341" y="9"/>
                      </a:lnTo>
                      <a:lnTo>
                        <a:pt x="366" y="121"/>
                      </a:lnTo>
                      <a:lnTo>
                        <a:pt x="379" y="118"/>
                      </a:lnTo>
                      <a:lnTo>
                        <a:pt x="379" y="30"/>
                      </a:lnTo>
                      <a:lnTo>
                        <a:pt x="404" y="21"/>
                      </a:lnTo>
                      <a:lnTo>
                        <a:pt x="422" y="36"/>
                      </a:lnTo>
                      <a:lnTo>
                        <a:pt x="413" y="154"/>
                      </a:lnTo>
                      <a:lnTo>
                        <a:pt x="407" y="202"/>
                      </a:lnTo>
                      <a:lnTo>
                        <a:pt x="422" y="299"/>
                      </a:lnTo>
                      <a:lnTo>
                        <a:pt x="472" y="402"/>
                      </a:lnTo>
                      <a:lnTo>
                        <a:pt x="525" y="520"/>
                      </a:lnTo>
                      <a:lnTo>
                        <a:pt x="566" y="607"/>
                      </a:lnTo>
                      <a:lnTo>
                        <a:pt x="563" y="652"/>
                      </a:lnTo>
                      <a:lnTo>
                        <a:pt x="488" y="734"/>
                      </a:lnTo>
                      <a:lnTo>
                        <a:pt x="385" y="836"/>
                      </a:lnTo>
                      <a:lnTo>
                        <a:pt x="301" y="937"/>
                      </a:lnTo>
                      <a:lnTo>
                        <a:pt x="197" y="1070"/>
                      </a:lnTo>
                      <a:lnTo>
                        <a:pt x="112" y="1136"/>
                      </a:lnTo>
                      <a:lnTo>
                        <a:pt x="47" y="1154"/>
                      </a:lnTo>
                      <a:lnTo>
                        <a:pt x="13" y="1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4" name=""/>
                <p:cNvSpPr/>
                <p:nvPr/>
              </p:nvSpPr>
              <p:spPr>
                <a:xfrm>
                  <a:off x="415080" y="537120"/>
                  <a:ext cx="246240" cy="200880"/>
                </a:xfrm>
                <a:custGeom>
                  <a:avLst/>
                  <a:gdLst/>
                  <a:ahLst/>
                  <a:rect l="l" t="t" r="r" b="b"/>
                  <a:pathLst>
                    <a:path w="1037" h="581">
                      <a:moveTo>
                        <a:pt x="210" y="468"/>
                      </a:moveTo>
                      <a:lnTo>
                        <a:pt x="361" y="462"/>
                      </a:lnTo>
                      <a:lnTo>
                        <a:pt x="498" y="444"/>
                      </a:lnTo>
                      <a:lnTo>
                        <a:pt x="583" y="423"/>
                      </a:lnTo>
                      <a:lnTo>
                        <a:pt x="705" y="354"/>
                      </a:lnTo>
                      <a:lnTo>
                        <a:pt x="792" y="288"/>
                      </a:lnTo>
                      <a:lnTo>
                        <a:pt x="906" y="207"/>
                      </a:lnTo>
                      <a:lnTo>
                        <a:pt x="959" y="156"/>
                      </a:lnTo>
                      <a:lnTo>
                        <a:pt x="1000" y="120"/>
                      </a:lnTo>
                      <a:lnTo>
                        <a:pt x="1037" y="81"/>
                      </a:lnTo>
                      <a:lnTo>
                        <a:pt x="1037" y="39"/>
                      </a:lnTo>
                      <a:lnTo>
                        <a:pt x="996" y="0"/>
                      </a:lnTo>
                      <a:lnTo>
                        <a:pt x="971" y="9"/>
                      </a:lnTo>
                      <a:lnTo>
                        <a:pt x="903" y="90"/>
                      </a:lnTo>
                      <a:lnTo>
                        <a:pt x="828" y="183"/>
                      </a:lnTo>
                      <a:lnTo>
                        <a:pt x="752" y="270"/>
                      </a:lnTo>
                      <a:lnTo>
                        <a:pt x="642" y="342"/>
                      </a:lnTo>
                      <a:lnTo>
                        <a:pt x="548" y="390"/>
                      </a:lnTo>
                      <a:lnTo>
                        <a:pt x="445" y="414"/>
                      </a:lnTo>
                      <a:lnTo>
                        <a:pt x="301" y="417"/>
                      </a:lnTo>
                      <a:lnTo>
                        <a:pt x="216" y="417"/>
                      </a:lnTo>
                      <a:lnTo>
                        <a:pt x="144" y="363"/>
                      </a:lnTo>
                      <a:lnTo>
                        <a:pt x="125" y="327"/>
                      </a:lnTo>
                      <a:lnTo>
                        <a:pt x="94" y="327"/>
                      </a:lnTo>
                      <a:lnTo>
                        <a:pt x="116" y="372"/>
                      </a:lnTo>
                      <a:lnTo>
                        <a:pt x="150" y="414"/>
                      </a:lnTo>
                      <a:lnTo>
                        <a:pt x="66" y="396"/>
                      </a:lnTo>
                      <a:lnTo>
                        <a:pt x="3" y="387"/>
                      </a:lnTo>
                      <a:lnTo>
                        <a:pt x="3" y="405"/>
                      </a:lnTo>
                      <a:lnTo>
                        <a:pt x="59" y="417"/>
                      </a:lnTo>
                      <a:lnTo>
                        <a:pt x="97" y="441"/>
                      </a:lnTo>
                      <a:lnTo>
                        <a:pt x="131" y="444"/>
                      </a:lnTo>
                      <a:lnTo>
                        <a:pt x="78" y="462"/>
                      </a:lnTo>
                      <a:lnTo>
                        <a:pt x="0" y="481"/>
                      </a:lnTo>
                      <a:lnTo>
                        <a:pt x="3" y="499"/>
                      </a:lnTo>
                      <a:lnTo>
                        <a:pt x="28" y="505"/>
                      </a:lnTo>
                      <a:lnTo>
                        <a:pt x="103" y="481"/>
                      </a:lnTo>
                      <a:lnTo>
                        <a:pt x="150" y="477"/>
                      </a:lnTo>
                      <a:lnTo>
                        <a:pt x="122" y="505"/>
                      </a:lnTo>
                      <a:lnTo>
                        <a:pt x="78" y="550"/>
                      </a:lnTo>
                      <a:lnTo>
                        <a:pt x="59" y="562"/>
                      </a:lnTo>
                      <a:lnTo>
                        <a:pt x="75" y="581"/>
                      </a:lnTo>
                      <a:lnTo>
                        <a:pt x="113" y="559"/>
                      </a:lnTo>
                      <a:lnTo>
                        <a:pt x="163" y="514"/>
                      </a:lnTo>
                      <a:lnTo>
                        <a:pt x="210" y="46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5" name=""/>
                <p:cNvSpPr/>
                <p:nvPr/>
              </p:nvSpPr>
              <p:spPr>
                <a:xfrm>
                  <a:off x="641880" y="516600"/>
                  <a:ext cx="144360" cy="276480"/>
                </a:xfrm>
                <a:custGeom>
                  <a:avLst/>
                  <a:gdLst/>
                  <a:ahLst/>
                  <a:rect l="l" t="t" r="r" b="b"/>
                  <a:pathLst>
                    <a:path w="608" h="800">
                      <a:moveTo>
                        <a:pt x="38" y="90"/>
                      </a:moveTo>
                      <a:lnTo>
                        <a:pt x="63" y="27"/>
                      </a:lnTo>
                      <a:lnTo>
                        <a:pt x="104" y="0"/>
                      </a:lnTo>
                      <a:lnTo>
                        <a:pt x="141" y="0"/>
                      </a:lnTo>
                      <a:lnTo>
                        <a:pt x="179" y="18"/>
                      </a:lnTo>
                      <a:lnTo>
                        <a:pt x="216" y="54"/>
                      </a:lnTo>
                      <a:lnTo>
                        <a:pt x="235" y="117"/>
                      </a:lnTo>
                      <a:lnTo>
                        <a:pt x="245" y="180"/>
                      </a:lnTo>
                      <a:lnTo>
                        <a:pt x="263" y="243"/>
                      </a:lnTo>
                      <a:lnTo>
                        <a:pt x="298" y="312"/>
                      </a:lnTo>
                      <a:lnTo>
                        <a:pt x="357" y="384"/>
                      </a:lnTo>
                      <a:lnTo>
                        <a:pt x="415" y="432"/>
                      </a:lnTo>
                      <a:lnTo>
                        <a:pt x="499" y="468"/>
                      </a:lnTo>
                      <a:lnTo>
                        <a:pt x="571" y="522"/>
                      </a:lnTo>
                      <a:lnTo>
                        <a:pt x="608" y="577"/>
                      </a:lnTo>
                      <a:lnTo>
                        <a:pt x="602" y="622"/>
                      </a:lnTo>
                      <a:lnTo>
                        <a:pt x="593" y="676"/>
                      </a:lnTo>
                      <a:lnTo>
                        <a:pt x="565" y="712"/>
                      </a:lnTo>
                      <a:lnTo>
                        <a:pt x="518" y="757"/>
                      </a:lnTo>
                      <a:lnTo>
                        <a:pt x="449" y="790"/>
                      </a:lnTo>
                      <a:lnTo>
                        <a:pt x="396" y="800"/>
                      </a:lnTo>
                      <a:lnTo>
                        <a:pt x="320" y="784"/>
                      </a:lnTo>
                      <a:lnTo>
                        <a:pt x="251" y="748"/>
                      </a:lnTo>
                      <a:lnTo>
                        <a:pt x="179" y="694"/>
                      </a:lnTo>
                      <a:lnTo>
                        <a:pt x="129" y="631"/>
                      </a:lnTo>
                      <a:lnTo>
                        <a:pt x="82" y="550"/>
                      </a:lnTo>
                      <a:lnTo>
                        <a:pt x="44" y="456"/>
                      </a:lnTo>
                      <a:lnTo>
                        <a:pt x="19" y="375"/>
                      </a:lnTo>
                      <a:lnTo>
                        <a:pt x="7" y="297"/>
                      </a:lnTo>
                      <a:lnTo>
                        <a:pt x="0" y="189"/>
                      </a:lnTo>
                      <a:lnTo>
                        <a:pt x="19" y="117"/>
                      </a:lnTo>
                      <a:lnTo>
                        <a:pt x="38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6" name=""/>
                <p:cNvSpPr/>
                <p:nvPr/>
              </p:nvSpPr>
              <p:spPr>
                <a:xfrm>
                  <a:off x="759960" y="634680"/>
                  <a:ext cx="247680" cy="250920"/>
                </a:xfrm>
                <a:custGeom>
                  <a:avLst/>
                  <a:gdLst/>
                  <a:ahLst/>
                  <a:rect l="l" t="t" r="r" b="b"/>
                  <a:pathLst>
                    <a:path w="1043" h="726">
                      <a:moveTo>
                        <a:pt x="116" y="230"/>
                      </a:moveTo>
                      <a:lnTo>
                        <a:pt x="216" y="147"/>
                      </a:lnTo>
                      <a:lnTo>
                        <a:pt x="338" y="72"/>
                      </a:lnTo>
                      <a:lnTo>
                        <a:pt x="417" y="27"/>
                      </a:lnTo>
                      <a:lnTo>
                        <a:pt x="479" y="12"/>
                      </a:lnTo>
                      <a:lnTo>
                        <a:pt x="529" y="0"/>
                      </a:lnTo>
                      <a:lnTo>
                        <a:pt x="573" y="18"/>
                      </a:lnTo>
                      <a:lnTo>
                        <a:pt x="601" y="75"/>
                      </a:lnTo>
                      <a:lnTo>
                        <a:pt x="620" y="230"/>
                      </a:lnTo>
                      <a:lnTo>
                        <a:pt x="620" y="416"/>
                      </a:lnTo>
                      <a:lnTo>
                        <a:pt x="620" y="536"/>
                      </a:lnTo>
                      <a:lnTo>
                        <a:pt x="642" y="609"/>
                      </a:lnTo>
                      <a:lnTo>
                        <a:pt x="686" y="597"/>
                      </a:lnTo>
                      <a:lnTo>
                        <a:pt x="717" y="552"/>
                      </a:lnTo>
                      <a:lnTo>
                        <a:pt x="779" y="500"/>
                      </a:lnTo>
                      <a:lnTo>
                        <a:pt x="876" y="470"/>
                      </a:lnTo>
                      <a:lnTo>
                        <a:pt x="943" y="470"/>
                      </a:lnTo>
                      <a:lnTo>
                        <a:pt x="1043" y="488"/>
                      </a:lnTo>
                      <a:lnTo>
                        <a:pt x="1037" y="524"/>
                      </a:lnTo>
                      <a:lnTo>
                        <a:pt x="1015" y="555"/>
                      </a:lnTo>
                      <a:lnTo>
                        <a:pt x="981" y="561"/>
                      </a:lnTo>
                      <a:lnTo>
                        <a:pt x="943" y="542"/>
                      </a:lnTo>
                      <a:lnTo>
                        <a:pt x="886" y="518"/>
                      </a:lnTo>
                      <a:lnTo>
                        <a:pt x="829" y="518"/>
                      </a:lnTo>
                      <a:lnTo>
                        <a:pt x="754" y="564"/>
                      </a:lnTo>
                      <a:lnTo>
                        <a:pt x="708" y="633"/>
                      </a:lnTo>
                      <a:lnTo>
                        <a:pt x="698" y="690"/>
                      </a:lnTo>
                      <a:lnTo>
                        <a:pt x="679" y="726"/>
                      </a:lnTo>
                      <a:lnTo>
                        <a:pt x="604" y="723"/>
                      </a:lnTo>
                      <a:lnTo>
                        <a:pt x="601" y="669"/>
                      </a:lnTo>
                      <a:lnTo>
                        <a:pt x="576" y="591"/>
                      </a:lnTo>
                      <a:lnTo>
                        <a:pt x="567" y="509"/>
                      </a:lnTo>
                      <a:lnTo>
                        <a:pt x="573" y="401"/>
                      </a:lnTo>
                      <a:lnTo>
                        <a:pt x="564" y="248"/>
                      </a:lnTo>
                      <a:lnTo>
                        <a:pt x="558" y="147"/>
                      </a:lnTo>
                      <a:lnTo>
                        <a:pt x="539" y="111"/>
                      </a:lnTo>
                      <a:lnTo>
                        <a:pt x="501" y="75"/>
                      </a:lnTo>
                      <a:lnTo>
                        <a:pt x="461" y="75"/>
                      </a:lnTo>
                      <a:lnTo>
                        <a:pt x="403" y="111"/>
                      </a:lnTo>
                      <a:lnTo>
                        <a:pt x="328" y="181"/>
                      </a:lnTo>
                      <a:lnTo>
                        <a:pt x="235" y="272"/>
                      </a:lnTo>
                      <a:lnTo>
                        <a:pt x="141" y="356"/>
                      </a:lnTo>
                      <a:lnTo>
                        <a:pt x="94" y="383"/>
                      </a:lnTo>
                      <a:lnTo>
                        <a:pt x="38" y="383"/>
                      </a:lnTo>
                      <a:lnTo>
                        <a:pt x="0" y="344"/>
                      </a:lnTo>
                      <a:lnTo>
                        <a:pt x="3" y="281"/>
                      </a:lnTo>
                      <a:lnTo>
                        <a:pt x="41" y="248"/>
                      </a:lnTo>
                      <a:lnTo>
                        <a:pt x="84" y="239"/>
                      </a:lnTo>
                      <a:lnTo>
                        <a:pt x="116" y="23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7" name=""/>
                <p:cNvSpPr/>
                <p:nvPr/>
              </p:nvSpPr>
              <p:spPr>
                <a:xfrm>
                  <a:off x="746640" y="744120"/>
                  <a:ext cx="169200" cy="263520"/>
                </a:xfrm>
                <a:custGeom>
                  <a:avLst/>
                  <a:gdLst/>
                  <a:ahLst/>
                  <a:rect l="l" t="t" r="r" b="b"/>
                  <a:pathLst>
                    <a:path w="713" h="762">
                      <a:moveTo>
                        <a:pt x="0" y="64"/>
                      </a:moveTo>
                      <a:lnTo>
                        <a:pt x="22" y="16"/>
                      </a:lnTo>
                      <a:lnTo>
                        <a:pt x="69" y="0"/>
                      </a:lnTo>
                      <a:lnTo>
                        <a:pt x="134" y="7"/>
                      </a:lnTo>
                      <a:lnTo>
                        <a:pt x="150" y="52"/>
                      </a:lnTo>
                      <a:lnTo>
                        <a:pt x="125" y="227"/>
                      </a:lnTo>
                      <a:lnTo>
                        <a:pt x="122" y="360"/>
                      </a:lnTo>
                      <a:lnTo>
                        <a:pt x="116" y="435"/>
                      </a:lnTo>
                      <a:lnTo>
                        <a:pt x="116" y="450"/>
                      </a:lnTo>
                      <a:lnTo>
                        <a:pt x="131" y="524"/>
                      </a:lnTo>
                      <a:lnTo>
                        <a:pt x="172" y="536"/>
                      </a:lnTo>
                      <a:lnTo>
                        <a:pt x="225" y="524"/>
                      </a:lnTo>
                      <a:lnTo>
                        <a:pt x="303" y="481"/>
                      </a:lnTo>
                      <a:lnTo>
                        <a:pt x="387" y="460"/>
                      </a:lnTo>
                      <a:lnTo>
                        <a:pt x="482" y="444"/>
                      </a:lnTo>
                      <a:lnTo>
                        <a:pt x="585" y="432"/>
                      </a:lnTo>
                      <a:lnTo>
                        <a:pt x="660" y="432"/>
                      </a:lnTo>
                      <a:lnTo>
                        <a:pt x="694" y="441"/>
                      </a:lnTo>
                      <a:lnTo>
                        <a:pt x="713" y="463"/>
                      </a:lnTo>
                      <a:lnTo>
                        <a:pt x="704" y="496"/>
                      </a:lnTo>
                      <a:lnTo>
                        <a:pt x="657" y="524"/>
                      </a:lnTo>
                      <a:lnTo>
                        <a:pt x="613" y="563"/>
                      </a:lnTo>
                      <a:lnTo>
                        <a:pt x="572" y="618"/>
                      </a:lnTo>
                      <a:lnTo>
                        <a:pt x="547" y="663"/>
                      </a:lnTo>
                      <a:lnTo>
                        <a:pt x="526" y="708"/>
                      </a:lnTo>
                      <a:lnTo>
                        <a:pt x="510" y="762"/>
                      </a:lnTo>
                      <a:lnTo>
                        <a:pt x="488" y="762"/>
                      </a:lnTo>
                      <a:lnTo>
                        <a:pt x="469" y="741"/>
                      </a:lnTo>
                      <a:lnTo>
                        <a:pt x="462" y="681"/>
                      </a:lnTo>
                      <a:lnTo>
                        <a:pt x="507" y="627"/>
                      </a:lnTo>
                      <a:lnTo>
                        <a:pt x="566" y="563"/>
                      </a:lnTo>
                      <a:lnTo>
                        <a:pt x="622" y="515"/>
                      </a:lnTo>
                      <a:lnTo>
                        <a:pt x="647" y="499"/>
                      </a:lnTo>
                      <a:lnTo>
                        <a:pt x="657" y="478"/>
                      </a:lnTo>
                      <a:lnTo>
                        <a:pt x="632" y="463"/>
                      </a:lnTo>
                      <a:lnTo>
                        <a:pt x="547" y="463"/>
                      </a:lnTo>
                      <a:lnTo>
                        <a:pt x="440" y="481"/>
                      </a:lnTo>
                      <a:lnTo>
                        <a:pt x="356" y="509"/>
                      </a:lnTo>
                      <a:lnTo>
                        <a:pt x="265" y="560"/>
                      </a:lnTo>
                      <a:lnTo>
                        <a:pt x="187" y="596"/>
                      </a:lnTo>
                      <a:lnTo>
                        <a:pt x="103" y="599"/>
                      </a:lnTo>
                      <a:lnTo>
                        <a:pt x="69" y="587"/>
                      </a:lnTo>
                      <a:lnTo>
                        <a:pt x="50" y="542"/>
                      </a:lnTo>
                      <a:lnTo>
                        <a:pt x="37" y="478"/>
                      </a:lnTo>
                      <a:lnTo>
                        <a:pt x="31" y="360"/>
                      </a:lnTo>
                      <a:lnTo>
                        <a:pt x="19" y="151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8" name=""/>
              <p:cNvGrpSpPr/>
              <p:nvPr/>
            </p:nvGrpSpPr>
            <p:grpSpPr>
              <a:xfrm>
                <a:off x="942480" y="722520"/>
                <a:ext cx="102240" cy="303120"/>
                <a:chOff x="942480" y="722520"/>
                <a:chExt cx="102240" cy="303120"/>
              </a:xfrm>
            </p:grpSpPr>
            <p:sp>
              <p:nvSpPr>
                <p:cNvPr id="5379" name=""/>
                <p:cNvSpPr/>
                <p:nvPr/>
              </p:nvSpPr>
              <p:spPr>
                <a:xfrm>
                  <a:off x="964080" y="891360"/>
                  <a:ext cx="80640" cy="37440"/>
                </a:xfrm>
                <a:custGeom>
                  <a:avLst/>
                  <a:gdLst/>
                  <a:ahLst/>
                  <a:rect l="l" t="t" r="r" b="b"/>
                  <a:pathLst>
                    <a:path w="340" h="109">
                      <a:moveTo>
                        <a:pt x="340" y="109"/>
                      </a:moveTo>
                      <a:lnTo>
                        <a:pt x="165" y="30"/>
                      </a:lnTo>
                      <a:lnTo>
                        <a:pt x="48" y="0"/>
                      </a:lnTo>
                      <a:lnTo>
                        <a:pt x="10" y="0"/>
                      </a:lnTo>
                      <a:lnTo>
                        <a:pt x="0" y="27"/>
                      </a:lnTo>
                      <a:lnTo>
                        <a:pt x="22" y="48"/>
                      </a:lnTo>
                      <a:lnTo>
                        <a:pt x="70" y="54"/>
                      </a:lnTo>
                      <a:lnTo>
                        <a:pt x="184" y="75"/>
                      </a:lnTo>
                      <a:lnTo>
                        <a:pt x="340" y="10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80" name=""/>
                <p:cNvSpPr/>
                <p:nvPr/>
              </p:nvSpPr>
              <p:spPr>
                <a:xfrm>
                  <a:off x="942480" y="925200"/>
                  <a:ext cx="22680" cy="100440"/>
                </a:xfrm>
                <a:custGeom>
                  <a:avLst/>
                  <a:gdLst/>
                  <a:ahLst/>
                  <a:rect l="l" t="t" r="r" b="b"/>
                  <a:pathLst>
                    <a:path w="97" h="291">
                      <a:moveTo>
                        <a:pt x="97" y="291"/>
                      </a:moveTo>
                      <a:lnTo>
                        <a:pt x="94" y="148"/>
                      </a:lnTo>
                      <a:lnTo>
                        <a:pt x="69" y="39"/>
                      </a:lnTo>
                      <a:lnTo>
                        <a:pt x="41" y="0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54"/>
                      </a:lnTo>
                      <a:lnTo>
                        <a:pt x="47" y="184"/>
                      </a:lnTo>
                      <a:lnTo>
                        <a:pt x="97" y="29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81" name=""/>
                <p:cNvSpPr/>
                <p:nvPr/>
              </p:nvSpPr>
              <p:spPr>
                <a:xfrm>
                  <a:off x="975600" y="722520"/>
                  <a:ext cx="50760" cy="38160"/>
                </a:xfrm>
                <a:custGeom>
                  <a:avLst/>
                  <a:gdLst/>
                  <a:ahLst/>
                  <a:rect l="l" t="t" r="r" b="b"/>
                  <a:pathLst>
                    <a:path w="214" h="111">
                      <a:moveTo>
                        <a:pt x="0" y="72"/>
                      </a:moveTo>
                      <a:lnTo>
                        <a:pt x="42" y="30"/>
                      </a:lnTo>
                      <a:lnTo>
                        <a:pt x="100" y="3"/>
                      </a:lnTo>
                      <a:lnTo>
                        <a:pt x="166" y="0"/>
                      </a:lnTo>
                      <a:lnTo>
                        <a:pt x="214" y="9"/>
                      </a:lnTo>
                      <a:lnTo>
                        <a:pt x="138" y="18"/>
                      </a:lnTo>
                      <a:lnTo>
                        <a:pt x="109" y="36"/>
                      </a:lnTo>
                      <a:lnTo>
                        <a:pt x="81" y="63"/>
                      </a:lnTo>
                      <a:lnTo>
                        <a:pt x="68" y="93"/>
                      </a:lnTo>
                      <a:lnTo>
                        <a:pt x="42" y="111"/>
                      </a:lnTo>
                      <a:lnTo>
                        <a:pt x="1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382" name=""/>
          <p:cNvSpPr/>
          <p:nvPr/>
        </p:nvSpPr>
        <p:spPr>
          <a:xfrm>
            <a:off x="413640" y="609480"/>
            <a:ext cx="3904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r handled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3000"/>
            </a:b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s the length of the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hortest paths to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3" name=""/>
          <p:cNvSpPr/>
          <p:nvPr/>
        </p:nvSpPr>
        <p:spPr>
          <a:xfrm>
            <a:off x="1095480" y="2179800"/>
            <a:ext cx="505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andle node with smallest </a:t>
            </a: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84" name=""/>
          <p:cNvGrpSpPr/>
          <p:nvPr/>
        </p:nvGrpSpPr>
        <p:grpSpPr>
          <a:xfrm>
            <a:off x="378000" y="2083680"/>
            <a:ext cx="691560" cy="741240"/>
            <a:chOff x="378000" y="2083680"/>
            <a:chExt cx="691560" cy="741240"/>
          </a:xfrm>
        </p:grpSpPr>
        <p:sp>
          <p:nvSpPr>
            <p:cNvPr id="5385" name=""/>
            <p:cNvSpPr/>
            <p:nvPr/>
          </p:nvSpPr>
          <p:spPr>
            <a:xfrm rot="21255000">
              <a:off x="726120" y="2163240"/>
              <a:ext cx="140760" cy="116640"/>
            </a:xfrm>
            <a:custGeom>
              <a:avLst/>
              <a:gdLst/>
              <a:ahLst/>
              <a:rect l="l" t="t" r="r" b="b"/>
              <a:pathLst>
                <a:path w="600" h="608">
                  <a:moveTo>
                    <a:pt x="388" y="289"/>
                  </a:moveTo>
                  <a:lnTo>
                    <a:pt x="372" y="177"/>
                  </a:lnTo>
                  <a:lnTo>
                    <a:pt x="341" y="78"/>
                  </a:lnTo>
                  <a:lnTo>
                    <a:pt x="284" y="24"/>
                  </a:lnTo>
                  <a:lnTo>
                    <a:pt x="185" y="0"/>
                  </a:lnTo>
                  <a:lnTo>
                    <a:pt x="100" y="24"/>
                  </a:lnTo>
                  <a:lnTo>
                    <a:pt x="19" y="123"/>
                  </a:lnTo>
                  <a:lnTo>
                    <a:pt x="0" y="243"/>
                  </a:lnTo>
                  <a:lnTo>
                    <a:pt x="19" y="370"/>
                  </a:lnTo>
                  <a:lnTo>
                    <a:pt x="50" y="447"/>
                  </a:lnTo>
                  <a:lnTo>
                    <a:pt x="88" y="528"/>
                  </a:lnTo>
                  <a:lnTo>
                    <a:pt x="130" y="582"/>
                  </a:lnTo>
                  <a:lnTo>
                    <a:pt x="177" y="608"/>
                  </a:lnTo>
                  <a:lnTo>
                    <a:pt x="242" y="585"/>
                  </a:lnTo>
                  <a:lnTo>
                    <a:pt x="307" y="531"/>
                  </a:lnTo>
                  <a:lnTo>
                    <a:pt x="349" y="455"/>
                  </a:lnTo>
                  <a:lnTo>
                    <a:pt x="388" y="390"/>
                  </a:lnTo>
                  <a:lnTo>
                    <a:pt x="400" y="351"/>
                  </a:lnTo>
                  <a:lnTo>
                    <a:pt x="565" y="293"/>
                  </a:lnTo>
                  <a:lnTo>
                    <a:pt x="600" y="270"/>
                  </a:lnTo>
                  <a:lnTo>
                    <a:pt x="580" y="235"/>
                  </a:lnTo>
                  <a:lnTo>
                    <a:pt x="388" y="28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 rot="21255000">
              <a:off x="677880" y="2308680"/>
              <a:ext cx="144720" cy="260640"/>
            </a:xfrm>
            <a:custGeom>
              <a:avLst/>
              <a:gdLst/>
              <a:ahLst/>
              <a:rect l="l" t="t" r="r" b="b"/>
              <a:pathLst>
                <a:path w="619" h="1085">
                  <a:moveTo>
                    <a:pt x="208" y="161"/>
                  </a:moveTo>
                  <a:lnTo>
                    <a:pt x="284" y="80"/>
                  </a:lnTo>
                  <a:lnTo>
                    <a:pt x="411" y="3"/>
                  </a:lnTo>
                  <a:lnTo>
                    <a:pt x="469" y="0"/>
                  </a:lnTo>
                  <a:lnTo>
                    <a:pt x="573" y="34"/>
                  </a:lnTo>
                  <a:lnTo>
                    <a:pt x="619" y="85"/>
                  </a:lnTo>
                  <a:lnTo>
                    <a:pt x="619" y="161"/>
                  </a:lnTo>
                  <a:lnTo>
                    <a:pt x="542" y="304"/>
                  </a:lnTo>
                  <a:lnTo>
                    <a:pt x="458" y="415"/>
                  </a:lnTo>
                  <a:lnTo>
                    <a:pt x="422" y="508"/>
                  </a:lnTo>
                  <a:lnTo>
                    <a:pt x="399" y="615"/>
                  </a:lnTo>
                  <a:lnTo>
                    <a:pt x="422" y="719"/>
                  </a:lnTo>
                  <a:lnTo>
                    <a:pt x="445" y="820"/>
                  </a:lnTo>
                  <a:lnTo>
                    <a:pt x="445" y="935"/>
                  </a:lnTo>
                  <a:lnTo>
                    <a:pt x="411" y="1005"/>
                  </a:lnTo>
                  <a:lnTo>
                    <a:pt x="334" y="1043"/>
                  </a:lnTo>
                  <a:lnTo>
                    <a:pt x="242" y="1085"/>
                  </a:lnTo>
                  <a:lnTo>
                    <a:pt x="157" y="1085"/>
                  </a:lnTo>
                  <a:lnTo>
                    <a:pt x="100" y="1054"/>
                  </a:lnTo>
                  <a:lnTo>
                    <a:pt x="23" y="927"/>
                  </a:lnTo>
                  <a:lnTo>
                    <a:pt x="0" y="797"/>
                  </a:lnTo>
                  <a:lnTo>
                    <a:pt x="8" y="628"/>
                  </a:lnTo>
                  <a:lnTo>
                    <a:pt x="65" y="415"/>
                  </a:lnTo>
                  <a:lnTo>
                    <a:pt x="123" y="277"/>
                  </a:lnTo>
                  <a:lnTo>
                    <a:pt x="208" y="1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 rot="21255000">
              <a:off x="779760" y="2522160"/>
              <a:ext cx="281520" cy="179640"/>
            </a:xfrm>
            <a:custGeom>
              <a:avLst/>
              <a:gdLst/>
              <a:ahLst/>
              <a:rect l="l" t="t" r="r" b="b"/>
              <a:pathLst>
                <a:path w="782" h="808">
                  <a:moveTo>
                    <a:pt x="0" y="76"/>
                  </a:moveTo>
                  <a:lnTo>
                    <a:pt x="66" y="0"/>
                  </a:lnTo>
                  <a:lnTo>
                    <a:pt x="163" y="0"/>
                  </a:lnTo>
                  <a:lnTo>
                    <a:pt x="343" y="19"/>
                  </a:lnTo>
                  <a:lnTo>
                    <a:pt x="555" y="30"/>
                  </a:lnTo>
                  <a:lnTo>
                    <a:pt x="636" y="65"/>
                  </a:lnTo>
                  <a:lnTo>
                    <a:pt x="670" y="110"/>
                  </a:lnTo>
                  <a:lnTo>
                    <a:pt x="678" y="180"/>
                  </a:lnTo>
                  <a:lnTo>
                    <a:pt x="654" y="253"/>
                  </a:lnTo>
                  <a:lnTo>
                    <a:pt x="589" y="365"/>
                  </a:lnTo>
                  <a:lnTo>
                    <a:pt x="504" y="457"/>
                  </a:lnTo>
                  <a:lnTo>
                    <a:pt x="439" y="541"/>
                  </a:lnTo>
                  <a:lnTo>
                    <a:pt x="412" y="607"/>
                  </a:lnTo>
                  <a:lnTo>
                    <a:pt x="393" y="653"/>
                  </a:lnTo>
                  <a:lnTo>
                    <a:pt x="400" y="689"/>
                  </a:lnTo>
                  <a:lnTo>
                    <a:pt x="405" y="711"/>
                  </a:lnTo>
                  <a:lnTo>
                    <a:pt x="482" y="711"/>
                  </a:lnTo>
                  <a:lnTo>
                    <a:pt x="601" y="692"/>
                  </a:lnTo>
                  <a:lnTo>
                    <a:pt x="678" y="692"/>
                  </a:lnTo>
                  <a:lnTo>
                    <a:pt x="758" y="723"/>
                  </a:lnTo>
                  <a:lnTo>
                    <a:pt x="782" y="761"/>
                  </a:lnTo>
                  <a:lnTo>
                    <a:pt x="758" y="796"/>
                  </a:lnTo>
                  <a:lnTo>
                    <a:pt x="724" y="808"/>
                  </a:lnTo>
                  <a:lnTo>
                    <a:pt x="670" y="792"/>
                  </a:lnTo>
                  <a:lnTo>
                    <a:pt x="597" y="749"/>
                  </a:lnTo>
                  <a:lnTo>
                    <a:pt x="520" y="757"/>
                  </a:lnTo>
                  <a:lnTo>
                    <a:pt x="393" y="780"/>
                  </a:lnTo>
                  <a:lnTo>
                    <a:pt x="355" y="773"/>
                  </a:lnTo>
                  <a:lnTo>
                    <a:pt x="335" y="746"/>
                  </a:lnTo>
                  <a:lnTo>
                    <a:pt x="335" y="681"/>
                  </a:lnTo>
                  <a:lnTo>
                    <a:pt x="335" y="588"/>
                  </a:lnTo>
                  <a:lnTo>
                    <a:pt x="389" y="518"/>
                  </a:lnTo>
                  <a:lnTo>
                    <a:pt x="470" y="414"/>
                  </a:lnTo>
                  <a:lnTo>
                    <a:pt x="540" y="323"/>
                  </a:lnTo>
                  <a:lnTo>
                    <a:pt x="586" y="253"/>
                  </a:lnTo>
                  <a:lnTo>
                    <a:pt x="609" y="192"/>
                  </a:lnTo>
                  <a:lnTo>
                    <a:pt x="597" y="157"/>
                  </a:lnTo>
                  <a:lnTo>
                    <a:pt x="566" y="115"/>
                  </a:lnTo>
                  <a:lnTo>
                    <a:pt x="520" y="103"/>
                  </a:lnTo>
                  <a:lnTo>
                    <a:pt x="470" y="103"/>
                  </a:lnTo>
                  <a:lnTo>
                    <a:pt x="358" y="103"/>
                  </a:lnTo>
                  <a:lnTo>
                    <a:pt x="193" y="134"/>
                  </a:lnTo>
                  <a:lnTo>
                    <a:pt x="70" y="146"/>
                  </a:lnTo>
                  <a:lnTo>
                    <a:pt x="20" y="134"/>
                  </a:lnTo>
                  <a:lnTo>
                    <a:pt x="0" y="11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 rot="19838400">
              <a:off x="390960" y="2578320"/>
              <a:ext cx="401760" cy="158400"/>
            </a:xfrm>
            <a:custGeom>
              <a:avLst/>
              <a:gdLst/>
              <a:ahLst/>
              <a:rect l="l" t="t" r="r" b="b"/>
              <a:pathLst>
                <a:path w="992" h="770">
                  <a:moveTo>
                    <a:pt x="808" y="320"/>
                  </a:moveTo>
                  <a:lnTo>
                    <a:pt x="823" y="219"/>
                  </a:lnTo>
                  <a:lnTo>
                    <a:pt x="881" y="181"/>
                  </a:lnTo>
                  <a:lnTo>
                    <a:pt x="950" y="174"/>
                  </a:lnTo>
                  <a:lnTo>
                    <a:pt x="992" y="219"/>
                  </a:lnTo>
                  <a:lnTo>
                    <a:pt x="973" y="308"/>
                  </a:lnTo>
                  <a:lnTo>
                    <a:pt x="935" y="427"/>
                  </a:lnTo>
                  <a:lnTo>
                    <a:pt x="857" y="562"/>
                  </a:lnTo>
                  <a:lnTo>
                    <a:pt x="761" y="677"/>
                  </a:lnTo>
                  <a:lnTo>
                    <a:pt x="681" y="739"/>
                  </a:lnTo>
                  <a:lnTo>
                    <a:pt x="592" y="770"/>
                  </a:lnTo>
                  <a:lnTo>
                    <a:pt x="507" y="759"/>
                  </a:lnTo>
                  <a:lnTo>
                    <a:pt x="442" y="723"/>
                  </a:lnTo>
                  <a:lnTo>
                    <a:pt x="419" y="666"/>
                  </a:lnTo>
                  <a:lnTo>
                    <a:pt x="392" y="566"/>
                  </a:lnTo>
                  <a:lnTo>
                    <a:pt x="361" y="382"/>
                  </a:lnTo>
                  <a:lnTo>
                    <a:pt x="338" y="254"/>
                  </a:lnTo>
                  <a:lnTo>
                    <a:pt x="338" y="104"/>
                  </a:lnTo>
                  <a:lnTo>
                    <a:pt x="323" y="78"/>
                  </a:lnTo>
                  <a:lnTo>
                    <a:pt x="277" y="70"/>
                  </a:lnTo>
                  <a:lnTo>
                    <a:pt x="223" y="112"/>
                  </a:lnTo>
                  <a:lnTo>
                    <a:pt x="173" y="181"/>
                  </a:lnTo>
                  <a:lnTo>
                    <a:pt x="115" y="219"/>
                  </a:lnTo>
                  <a:lnTo>
                    <a:pt x="27" y="219"/>
                  </a:lnTo>
                  <a:lnTo>
                    <a:pt x="0" y="196"/>
                  </a:lnTo>
                  <a:lnTo>
                    <a:pt x="0" y="158"/>
                  </a:lnTo>
                  <a:lnTo>
                    <a:pt x="39" y="123"/>
                  </a:lnTo>
                  <a:lnTo>
                    <a:pt x="81" y="135"/>
                  </a:lnTo>
                  <a:lnTo>
                    <a:pt x="119" y="127"/>
                  </a:lnTo>
                  <a:lnTo>
                    <a:pt x="189" y="78"/>
                  </a:lnTo>
                  <a:lnTo>
                    <a:pt x="257" y="23"/>
                  </a:lnTo>
                  <a:lnTo>
                    <a:pt x="323" y="8"/>
                  </a:lnTo>
                  <a:lnTo>
                    <a:pt x="415" y="0"/>
                  </a:lnTo>
                  <a:lnTo>
                    <a:pt x="419" y="42"/>
                  </a:lnTo>
                  <a:lnTo>
                    <a:pt x="397" y="89"/>
                  </a:lnTo>
                  <a:lnTo>
                    <a:pt x="392" y="208"/>
                  </a:lnTo>
                  <a:lnTo>
                    <a:pt x="419" y="366"/>
                  </a:lnTo>
                  <a:lnTo>
                    <a:pt x="462" y="520"/>
                  </a:lnTo>
                  <a:lnTo>
                    <a:pt x="499" y="612"/>
                  </a:lnTo>
                  <a:lnTo>
                    <a:pt x="558" y="655"/>
                  </a:lnTo>
                  <a:lnTo>
                    <a:pt x="615" y="655"/>
                  </a:lnTo>
                  <a:lnTo>
                    <a:pt x="673" y="612"/>
                  </a:lnTo>
                  <a:lnTo>
                    <a:pt x="750" y="515"/>
                  </a:lnTo>
                  <a:lnTo>
                    <a:pt x="800" y="377"/>
                  </a:lnTo>
                  <a:lnTo>
                    <a:pt x="808" y="32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 rot="21255000">
              <a:off x="582840" y="2094840"/>
              <a:ext cx="164160" cy="291600"/>
            </a:xfrm>
            <a:custGeom>
              <a:avLst/>
              <a:gdLst/>
              <a:ahLst/>
              <a:rect l="l" t="t" r="r" b="b"/>
              <a:pathLst>
                <a:path w="699" h="1216">
                  <a:moveTo>
                    <a:pt x="445" y="923"/>
                  </a:moveTo>
                  <a:lnTo>
                    <a:pt x="560" y="1039"/>
                  </a:lnTo>
                  <a:lnTo>
                    <a:pt x="606" y="1039"/>
                  </a:lnTo>
                  <a:lnTo>
                    <a:pt x="684" y="1086"/>
                  </a:lnTo>
                  <a:lnTo>
                    <a:pt x="699" y="1139"/>
                  </a:lnTo>
                  <a:lnTo>
                    <a:pt x="676" y="1208"/>
                  </a:lnTo>
                  <a:lnTo>
                    <a:pt x="614" y="1216"/>
                  </a:lnTo>
                  <a:lnTo>
                    <a:pt x="537" y="1162"/>
                  </a:lnTo>
                  <a:lnTo>
                    <a:pt x="383" y="1016"/>
                  </a:lnTo>
                  <a:lnTo>
                    <a:pt x="284" y="878"/>
                  </a:lnTo>
                  <a:lnTo>
                    <a:pt x="237" y="769"/>
                  </a:lnTo>
                  <a:lnTo>
                    <a:pt x="206" y="585"/>
                  </a:lnTo>
                  <a:lnTo>
                    <a:pt x="206" y="346"/>
                  </a:lnTo>
                  <a:lnTo>
                    <a:pt x="198" y="285"/>
                  </a:lnTo>
                  <a:lnTo>
                    <a:pt x="153" y="239"/>
                  </a:lnTo>
                  <a:lnTo>
                    <a:pt x="22" y="247"/>
                  </a:lnTo>
                  <a:lnTo>
                    <a:pt x="0" y="223"/>
                  </a:lnTo>
                  <a:lnTo>
                    <a:pt x="29" y="208"/>
                  </a:lnTo>
                  <a:lnTo>
                    <a:pt x="122" y="200"/>
                  </a:lnTo>
                  <a:lnTo>
                    <a:pt x="138" y="185"/>
                  </a:lnTo>
                  <a:lnTo>
                    <a:pt x="6" y="107"/>
                  </a:lnTo>
                  <a:lnTo>
                    <a:pt x="6" y="77"/>
                  </a:lnTo>
                  <a:lnTo>
                    <a:pt x="29" y="70"/>
                  </a:lnTo>
                  <a:lnTo>
                    <a:pt x="138" y="130"/>
                  </a:lnTo>
                  <a:lnTo>
                    <a:pt x="161" y="123"/>
                  </a:lnTo>
                  <a:lnTo>
                    <a:pt x="138" y="8"/>
                  </a:lnTo>
                  <a:lnTo>
                    <a:pt x="153" y="0"/>
                  </a:lnTo>
                  <a:lnTo>
                    <a:pt x="169" y="8"/>
                  </a:lnTo>
                  <a:lnTo>
                    <a:pt x="198" y="123"/>
                  </a:lnTo>
                  <a:lnTo>
                    <a:pt x="222" y="130"/>
                  </a:lnTo>
                  <a:lnTo>
                    <a:pt x="284" y="8"/>
                  </a:lnTo>
                  <a:lnTo>
                    <a:pt x="299" y="8"/>
                  </a:lnTo>
                  <a:lnTo>
                    <a:pt x="299" y="46"/>
                  </a:lnTo>
                  <a:lnTo>
                    <a:pt x="260" y="146"/>
                  </a:lnTo>
                  <a:lnTo>
                    <a:pt x="260" y="200"/>
                  </a:lnTo>
                  <a:lnTo>
                    <a:pt x="276" y="270"/>
                  </a:lnTo>
                  <a:lnTo>
                    <a:pt x="268" y="361"/>
                  </a:lnTo>
                  <a:lnTo>
                    <a:pt x="276" y="531"/>
                  </a:lnTo>
                  <a:lnTo>
                    <a:pt x="291" y="639"/>
                  </a:lnTo>
                  <a:lnTo>
                    <a:pt x="330" y="762"/>
                  </a:lnTo>
                  <a:lnTo>
                    <a:pt x="383" y="855"/>
                  </a:lnTo>
                  <a:lnTo>
                    <a:pt x="445" y="9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 rot="21255000">
              <a:off x="779040" y="2093760"/>
              <a:ext cx="214920" cy="243360"/>
            </a:xfrm>
            <a:custGeom>
              <a:avLst/>
              <a:gdLst/>
              <a:ahLst/>
              <a:rect l="l" t="t" r="r" b="b"/>
              <a:pathLst>
                <a:path w="915" h="1139">
                  <a:moveTo>
                    <a:pt x="15" y="1008"/>
                  </a:moveTo>
                  <a:lnTo>
                    <a:pt x="0" y="1061"/>
                  </a:lnTo>
                  <a:lnTo>
                    <a:pt x="15" y="1139"/>
                  </a:lnTo>
                  <a:lnTo>
                    <a:pt x="70" y="1139"/>
                  </a:lnTo>
                  <a:lnTo>
                    <a:pt x="231" y="1108"/>
                  </a:lnTo>
                  <a:lnTo>
                    <a:pt x="408" y="1046"/>
                  </a:lnTo>
                  <a:lnTo>
                    <a:pt x="554" y="946"/>
                  </a:lnTo>
                  <a:lnTo>
                    <a:pt x="639" y="816"/>
                  </a:lnTo>
                  <a:lnTo>
                    <a:pt x="715" y="593"/>
                  </a:lnTo>
                  <a:lnTo>
                    <a:pt x="738" y="385"/>
                  </a:lnTo>
                  <a:lnTo>
                    <a:pt x="738" y="285"/>
                  </a:lnTo>
                  <a:lnTo>
                    <a:pt x="777" y="224"/>
                  </a:lnTo>
                  <a:lnTo>
                    <a:pt x="845" y="200"/>
                  </a:lnTo>
                  <a:lnTo>
                    <a:pt x="907" y="200"/>
                  </a:lnTo>
                  <a:lnTo>
                    <a:pt x="915" y="169"/>
                  </a:lnTo>
                  <a:lnTo>
                    <a:pt x="823" y="177"/>
                  </a:lnTo>
                  <a:lnTo>
                    <a:pt x="808" y="154"/>
                  </a:lnTo>
                  <a:lnTo>
                    <a:pt x="884" y="70"/>
                  </a:lnTo>
                  <a:lnTo>
                    <a:pt x="868" y="47"/>
                  </a:lnTo>
                  <a:lnTo>
                    <a:pt x="853" y="62"/>
                  </a:lnTo>
                  <a:lnTo>
                    <a:pt x="792" y="123"/>
                  </a:lnTo>
                  <a:lnTo>
                    <a:pt x="777" y="123"/>
                  </a:lnTo>
                  <a:lnTo>
                    <a:pt x="777" y="16"/>
                  </a:lnTo>
                  <a:lnTo>
                    <a:pt x="761" y="0"/>
                  </a:lnTo>
                  <a:lnTo>
                    <a:pt x="738" y="8"/>
                  </a:lnTo>
                  <a:lnTo>
                    <a:pt x="746" y="123"/>
                  </a:lnTo>
                  <a:lnTo>
                    <a:pt x="730" y="131"/>
                  </a:lnTo>
                  <a:lnTo>
                    <a:pt x="668" y="70"/>
                  </a:lnTo>
                  <a:lnTo>
                    <a:pt x="623" y="62"/>
                  </a:lnTo>
                  <a:lnTo>
                    <a:pt x="631" y="93"/>
                  </a:lnTo>
                  <a:lnTo>
                    <a:pt x="699" y="162"/>
                  </a:lnTo>
                  <a:lnTo>
                    <a:pt x="699" y="200"/>
                  </a:lnTo>
                  <a:lnTo>
                    <a:pt x="676" y="278"/>
                  </a:lnTo>
                  <a:lnTo>
                    <a:pt x="676" y="346"/>
                  </a:lnTo>
                  <a:lnTo>
                    <a:pt x="676" y="462"/>
                  </a:lnTo>
                  <a:lnTo>
                    <a:pt x="645" y="608"/>
                  </a:lnTo>
                  <a:lnTo>
                    <a:pt x="615" y="700"/>
                  </a:lnTo>
                  <a:lnTo>
                    <a:pt x="561" y="816"/>
                  </a:lnTo>
                  <a:lnTo>
                    <a:pt x="499" y="908"/>
                  </a:lnTo>
                  <a:lnTo>
                    <a:pt x="454" y="954"/>
                  </a:lnTo>
                  <a:lnTo>
                    <a:pt x="330" y="993"/>
                  </a:lnTo>
                  <a:lnTo>
                    <a:pt x="215" y="1008"/>
                  </a:lnTo>
                  <a:lnTo>
                    <a:pt x="99" y="1024"/>
                  </a:lnTo>
                  <a:lnTo>
                    <a:pt x="15" y="100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91" name=""/>
          <p:cNvGrpSpPr/>
          <p:nvPr/>
        </p:nvGrpSpPr>
        <p:grpSpPr>
          <a:xfrm>
            <a:off x="160920" y="2709000"/>
            <a:ext cx="1427760" cy="1069560"/>
            <a:chOff x="160920" y="2709000"/>
            <a:chExt cx="1427760" cy="1069560"/>
          </a:xfrm>
        </p:grpSpPr>
        <p:sp>
          <p:nvSpPr>
            <p:cNvPr id="5392" name=""/>
            <p:cNvSpPr/>
            <p:nvPr/>
          </p:nvSpPr>
          <p:spPr>
            <a:xfrm rot="2359800">
              <a:off x="268200" y="2981160"/>
              <a:ext cx="783000" cy="61920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 rot="2359800">
              <a:off x="1046520" y="3048480"/>
              <a:ext cx="450360" cy="449640"/>
            </a:xfrm>
            <a:custGeom>
              <a:avLst/>
              <a:gdLst/>
              <a:ahLst/>
              <a:rect l="l" t="t" r="r" b="b"/>
              <a:pathLst>
                <a:path w="1312" h="1296">
                  <a:moveTo>
                    <a:pt x="592" y="160"/>
                  </a:moveTo>
                  <a:cubicBezTo>
                    <a:pt x="408" y="256"/>
                    <a:pt x="32" y="496"/>
                    <a:pt x="16" y="640"/>
                  </a:cubicBezTo>
                  <a:cubicBezTo>
                    <a:pt x="0" y="784"/>
                    <a:pt x="296" y="928"/>
                    <a:pt x="496" y="1024"/>
                  </a:cubicBezTo>
                  <a:cubicBezTo>
                    <a:pt x="696" y="1120"/>
                    <a:pt x="1120" y="1296"/>
                    <a:pt x="1216" y="1216"/>
                  </a:cubicBezTo>
                  <a:cubicBezTo>
                    <a:pt x="1312" y="1136"/>
                    <a:pt x="1088" y="736"/>
                    <a:pt x="1072" y="544"/>
                  </a:cubicBezTo>
                  <a:cubicBezTo>
                    <a:pt x="1056" y="352"/>
                    <a:pt x="1208" y="128"/>
                    <a:pt x="1120" y="64"/>
                  </a:cubicBezTo>
                  <a:cubicBezTo>
                    <a:pt x="1032" y="0"/>
                    <a:pt x="776" y="64"/>
                    <a:pt x="592" y="160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94" name=""/>
            <p:cNvGrpSpPr/>
            <p:nvPr/>
          </p:nvGrpSpPr>
          <p:grpSpPr>
            <a:xfrm>
              <a:off x="647640" y="2709000"/>
              <a:ext cx="691200" cy="740880"/>
              <a:chOff x="647640" y="2709000"/>
              <a:chExt cx="691200" cy="740880"/>
            </a:xfrm>
          </p:grpSpPr>
          <p:sp>
            <p:nvSpPr>
              <p:cNvPr id="5395" name=""/>
              <p:cNvSpPr/>
              <p:nvPr/>
            </p:nvSpPr>
            <p:spPr>
              <a:xfrm rot="21255000">
                <a:off x="995760" y="2788200"/>
                <a:ext cx="140760" cy="11664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 rot="21255000">
                <a:off x="947160" y="2934000"/>
                <a:ext cx="144720" cy="26028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 rot="21255000">
                <a:off x="1049040" y="3146760"/>
                <a:ext cx="281520" cy="17928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 rot="19838400">
                <a:off x="660240" y="3202920"/>
                <a:ext cx="402120" cy="15804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 rot="21255000">
                <a:off x="852840" y="2720160"/>
                <a:ext cx="164160" cy="29124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 rot="21255000">
                <a:off x="1048680" y="2719080"/>
                <a:ext cx="214920" cy="24300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01" name=""/>
          <p:cNvSpPr/>
          <p:nvPr/>
        </p:nvSpPr>
        <p:spPr>
          <a:xfrm>
            <a:off x="1527480" y="2803680"/>
            <a:ext cx="5175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r handled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s the length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f the  shortest paths to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2" name=""/>
          <p:cNvSpPr/>
          <p:nvPr/>
        </p:nvSpPr>
        <p:spPr>
          <a:xfrm>
            <a:off x="2590920" y="1828800"/>
            <a:ext cx="30456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3" name=""/>
          <p:cNvSpPr/>
          <p:nvPr/>
        </p:nvSpPr>
        <p:spPr>
          <a:xfrm>
            <a:off x="4990320" y="609480"/>
            <a:ext cx="3735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s the length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f the shortest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handle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th to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4" name=""/>
          <p:cNvSpPr/>
          <p:nvPr/>
        </p:nvSpPr>
        <p:spPr>
          <a:xfrm>
            <a:off x="2895480" y="3886200"/>
            <a:ext cx="411480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5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5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5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5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5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5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5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5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5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5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5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5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5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5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5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7115040" cy="3021120"/>
          </a:xfrm>
          <a:prstGeom prst="rect">
            <a:avLst/>
          </a:prstGeom>
          <a:ln w="0">
            <a:noFill/>
          </a:ln>
        </p:spPr>
      </p:pic>
      <p:sp>
        <p:nvSpPr>
          <p:cNvPr id="5406" name=""/>
          <p:cNvSpPr/>
          <p:nvPr/>
        </p:nvSpPr>
        <p:spPr>
          <a:xfrm>
            <a:off x="7621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'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07" name=""/>
          <p:cNvGrpSpPr/>
          <p:nvPr/>
        </p:nvGrpSpPr>
        <p:grpSpPr>
          <a:xfrm>
            <a:off x="228600" y="76320"/>
            <a:ext cx="1181160" cy="1066680"/>
            <a:chOff x="228600" y="76320"/>
            <a:chExt cx="1181160" cy="1066680"/>
          </a:xfrm>
        </p:grpSpPr>
        <p:sp>
          <p:nvSpPr>
            <p:cNvPr id="5408" name=""/>
            <p:cNvSpPr/>
            <p:nvPr/>
          </p:nvSpPr>
          <p:spPr>
            <a:xfrm>
              <a:off x="228600" y="76320"/>
              <a:ext cx="1181160" cy="106668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09" name=""/>
            <p:cNvGrpSpPr/>
            <p:nvPr/>
          </p:nvGrpSpPr>
          <p:grpSpPr>
            <a:xfrm>
              <a:off x="415080" y="165240"/>
              <a:ext cx="629640" cy="860400"/>
              <a:chOff x="415080" y="165240"/>
              <a:chExt cx="629640" cy="860400"/>
            </a:xfrm>
          </p:grpSpPr>
          <p:grpSp>
            <p:nvGrpSpPr>
              <p:cNvPr id="5410" name=""/>
              <p:cNvGrpSpPr/>
              <p:nvPr/>
            </p:nvGrpSpPr>
            <p:grpSpPr>
              <a:xfrm>
                <a:off x="415080" y="165240"/>
                <a:ext cx="592560" cy="842400"/>
                <a:chOff x="415080" y="165240"/>
                <a:chExt cx="592560" cy="842400"/>
              </a:xfrm>
            </p:grpSpPr>
            <p:sp>
              <p:nvSpPr>
                <p:cNvPr id="5411" name=""/>
                <p:cNvSpPr/>
                <p:nvPr/>
              </p:nvSpPr>
              <p:spPr>
                <a:xfrm>
                  <a:off x="610560" y="307440"/>
                  <a:ext cx="102960" cy="177840"/>
                </a:xfrm>
                <a:custGeom>
                  <a:avLst/>
                  <a:gdLst/>
                  <a:ahLst/>
                  <a:rect l="l" t="t" r="r" b="b"/>
                  <a:pathLst>
                    <a:path w="434" h="514">
                      <a:moveTo>
                        <a:pt x="132" y="186"/>
                      </a:moveTo>
                      <a:lnTo>
                        <a:pt x="157" y="114"/>
                      </a:lnTo>
                      <a:lnTo>
                        <a:pt x="189" y="42"/>
                      </a:lnTo>
                      <a:lnTo>
                        <a:pt x="236" y="6"/>
                      </a:lnTo>
                      <a:lnTo>
                        <a:pt x="302" y="0"/>
                      </a:lnTo>
                      <a:lnTo>
                        <a:pt x="355" y="24"/>
                      </a:lnTo>
                      <a:lnTo>
                        <a:pt x="393" y="63"/>
                      </a:lnTo>
                      <a:lnTo>
                        <a:pt x="421" y="135"/>
                      </a:lnTo>
                      <a:lnTo>
                        <a:pt x="434" y="222"/>
                      </a:lnTo>
                      <a:lnTo>
                        <a:pt x="434" y="312"/>
                      </a:lnTo>
                      <a:lnTo>
                        <a:pt x="412" y="411"/>
                      </a:lnTo>
                      <a:lnTo>
                        <a:pt x="355" y="474"/>
                      </a:lnTo>
                      <a:lnTo>
                        <a:pt x="299" y="514"/>
                      </a:lnTo>
                      <a:lnTo>
                        <a:pt x="245" y="510"/>
                      </a:lnTo>
                      <a:lnTo>
                        <a:pt x="198" y="468"/>
                      </a:lnTo>
                      <a:lnTo>
                        <a:pt x="157" y="396"/>
                      </a:lnTo>
                      <a:lnTo>
                        <a:pt x="129" y="333"/>
                      </a:lnTo>
                      <a:lnTo>
                        <a:pt x="129" y="252"/>
                      </a:lnTo>
                      <a:lnTo>
                        <a:pt x="0" y="234"/>
                      </a:lnTo>
                      <a:lnTo>
                        <a:pt x="16" y="189"/>
                      </a:lnTo>
                      <a:lnTo>
                        <a:pt x="132" y="18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2" name=""/>
                <p:cNvSpPr/>
                <p:nvPr/>
              </p:nvSpPr>
              <p:spPr>
                <a:xfrm>
                  <a:off x="678600" y="165240"/>
                  <a:ext cx="134280" cy="398880"/>
                </a:xfrm>
                <a:custGeom>
                  <a:avLst/>
                  <a:gdLst/>
                  <a:ahLst/>
                  <a:rect l="l" t="t" r="r" b="b"/>
                  <a:pathLst>
                    <a:path w="566" h="1154">
                      <a:moveTo>
                        <a:pt x="13" y="1145"/>
                      </a:moveTo>
                      <a:lnTo>
                        <a:pt x="0" y="1088"/>
                      </a:lnTo>
                      <a:lnTo>
                        <a:pt x="31" y="1042"/>
                      </a:lnTo>
                      <a:lnTo>
                        <a:pt x="134" y="988"/>
                      </a:lnTo>
                      <a:lnTo>
                        <a:pt x="226" y="927"/>
                      </a:lnTo>
                      <a:lnTo>
                        <a:pt x="313" y="827"/>
                      </a:lnTo>
                      <a:lnTo>
                        <a:pt x="432" y="689"/>
                      </a:lnTo>
                      <a:lnTo>
                        <a:pt x="463" y="634"/>
                      </a:lnTo>
                      <a:lnTo>
                        <a:pt x="479" y="580"/>
                      </a:lnTo>
                      <a:lnTo>
                        <a:pt x="472" y="526"/>
                      </a:lnTo>
                      <a:lnTo>
                        <a:pt x="444" y="426"/>
                      </a:lnTo>
                      <a:lnTo>
                        <a:pt x="376" y="299"/>
                      </a:lnTo>
                      <a:lnTo>
                        <a:pt x="301" y="229"/>
                      </a:lnTo>
                      <a:lnTo>
                        <a:pt x="235" y="190"/>
                      </a:lnTo>
                      <a:lnTo>
                        <a:pt x="181" y="184"/>
                      </a:lnTo>
                      <a:lnTo>
                        <a:pt x="153" y="190"/>
                      </a:lnTo>
                      <a:lnTo>
                        <a:pt x="150" y="163"/>
                      </a:lnTo>
                      <a:lnTo>
                        <a:pt x="215" y="154"/>
                      </a:lnTo>
                      <a:lnTo>
                        <a:pt x="291" y="154"/>
                      </a:lnTo>
                      <a:lnTo>
                        <a:pt x="238" y="93"/>
                      </a:lnTo>
                      <a:lnTo>
                        <a:pt x="206" y="45"/>
                      </a:lnTo>
                      <a:lnTo>
                        <a:pt x="229" y="27"/>
                      </a:lnTo>
                      <a:lnTo>
                        <a:pt x="313" y="109"/>
                      </a:lnTo>
                      <a:lnTo>
                        <a:pt x="329" y="121"/>
                      </a:lnTo>
                      <a:lnTo>
                        <a:pt x="313" y="57"/>
                      </a:lnTo>
                      <a:lnTo>
                        <a:pt x="301" y="9"/>
                      </a:lnTo>
                      <a:lnTo>
                        <a:pt x="313" y="0"/>
                      </a:lnTo>
                      <a:lnTo>
                        <a:pt x="341" y="9"/>
                      </a:lnTo>
                      <a:lnTo>
                        <a:pt x="366" y="121"/>
                      </a:lnTo>
                      <a:lnTo>
                        <a:pt x="379" y="118"/>
                      </a:lnTo>
                      <a:lnTo>
                        <a:pt x="379" y="30"/>
                      </a:lnTo>
                      <a:lnTo>
                        <a:pt x="404" y="21"/>
                      </a:lnTo>
                      <a:lnTo>
                        <a:pt x="422" y="36"/>
                      </a:lnTo>
                      <a:lnTo>
                        <a:pt x="413" y="154"/>
                      </a:lnTo>
                      <a:lnTo>
                        <a:pt x="407" y="202"/>
                      </a:lnTo>
                      <a:lnTo>
                        <a:pt x="422" y="299"/>
                      </a:lnTo>
                      <a:lnTo>
                        <a:pt x="472" y="402"/>
                      </a:lnTo>
                      <a:lnTo>
                        <a:pt x="525" y="520"/>
                      </a:lnTo>
                      <a:lnTo>
                        <a:pt x="566" y="607"/>
                      </a:lnTo>
                      <a:lnTo>
                        <a:pt x="563" y="652"/>
                      </a:lnTo>
                      <a:lnTo>
                        <a:pt x="488" y="734"/>
                      </a:lnTo>
                      <a:lnTo>
                        <a:pt x="385" y="836"/>
                      </a:lnTo>
                      <a:lnTo>
                        <a:pt x="301" y="937"/>
                      </a:lnTo>
                      <a:lnTo>
                        <a:pt x="197" y="1070"/>
                      </a:lnTo>
                      <a:lnTo>
                        <a:pt x="112" y="1136"/>
                      </a:lnTo>
                      <a:lnTo>
                        <a:pt x="47" y="1154"/>
                      </a:lnTo>
                      <a:lnTo>
                        <a:pt x="13" y="1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3" name=""/>
                <p:cNvSpPr/>
                <p:nvPr/>
              </p:nvSpPr>
              <p:spPr>
                <a:xfrm>
                  <a:off x="415080" y="537120"/>
                  <a:ext cx="246240" cy="200880"/>
                </a:xfrm>
                <a:custGeom>
                  <a:avLst/>
                  <a:gdLst/>
                  <a:ahLst/>
                  <a:rect l="l" t="t" r="r" b="b"/>
                  <a:pathLst>
                    <a:path w="1037" h="581">
                      <a:moveTo>
                        <a:pt x="210" y="468"/>
                      </a:moveTo>
                      <a:lnTo>
                        <a:pt x="361" y="462"/>
                      </a:lnTo>
                      <a:lnTo>
                        <a:pt x="498" y="444"/>
                      </a:lnTo>
                      <a:lnTo>
                        <a:pt x="583" y="423"/>
                      </a:lnTo>
                      <a:lnTo>
                        <a:pt x="705" y="354"/>
                      </a:lnTo>
                      <a:lnTo>
                        <a:pt x="792" y="288"/>
                      </a:lnTo>
                      <a:lnTo>
                        <a:pt x="906" y="207"/>
                      </a:lnTo>
                      <a:lnTo>
                        <a:pt x="959" y="156"/>
                      </a:lnTo>
                      <a:lnTo>
                        <a:pt x="1000" y="120"/>
                      </a:lnTo>
                      <a:lnTo>
                        <a:pt x="1037" y="81"/>
                      </a:lnTo>
                      <a:lnTo>
                        <a:pt x="1037" y="39"/>
                      </a:lnTo>
                      <a:lnTo>
                        <a:pt x="996" y="0"/>
                      </a:lnTo>
                      <a:lnTo>
                        <a:pt x="971" y="9"/>
                      </a:lnTo>
                      <a:lnTo>
                        <a:pt x="903" y="90"/>
                      </a:lnTo>
                      <a:lnTo>
                        <a:pt x="828" y="183"/>
                      </a:lnTo>
                      <a:lnTo>
                        <a:pt x="752" y="270"/>
                      </a:lnTo>
                      <a:lnTo>
                        <a:pt x="642" y="342"/>
                      </a:lnTo>
                      <a:lnTo>
                        <a:pt x="548" y="390"/>
                      </a:lnTo>
                      <a:lnTo>
                        <a:pt x="445" y="414"/>
                      </a:lnTo>
                      <a:lnTo>
                        <a:pt x="301" y="417"/>
                      </a:lnTo>
                      <a:lnTo>
                        <a:pt x="216" y="417"/>
                      </a:lnTo>
                      <a:lnTo>
                        <a:pt x="144" y="363"/>
                      </a:lnTo>
                      <a:lnTo>
                        <a:pt x="125" y="327"/>
                      </a:lnTo>
                      <a:lnTo>
                        <a:pt x="94" y="327"/>
                      </a:lnTo>
                      <a:lnTo>
                        <a:pt x="116" y="372"/>
                      </a:lnTo>
                      <a:lnTo>
                        <a:pt x="150" y="414"/>
                      </a:lnTo>
                      <a:lnTo>
                        <a:pt x="66" y="396"/>
                      </a:lnTo>
                      <a:lnTo>
                        <a:pt x="3" y="387"/>
                      </a:lnTo>
                      <a:lnTo>
                        <a:pt x="3" y="405"/>
                      </a:lnTo>
                      <a:lnTo>
                        <a:pt x="59" y="417"/>
                      </a:lnTo>
                      <a:lnTo>
                        <a:pt x="97" y="441"/>
                      </a:lnTo>
                      <a:lnTo>
                        <a:pt x="131" y="444"/>
                      </a:lnTo>
                      <a:lnTo>
                        <a:pt x="78" y="462"/>
                      </a:lnTo>
                      <a:lnTo>
                        <a:pt x="0" y="481"/>
                      </a:lnTo>
                      <a:lnTo>
                        <a:pt x="3" y="499"/>
                      </a:lnTo>
                      <a:lnTo>
                        <a:pt x="28" y="505"/>
                      </a:lnTo>
                      <a:lnTo>
                        <a:pt x="103" y="481"/>
                      </a:lnTo>
                      <a:lnTo>
                        <a:pt x="150" y="477"/>
                      </a:lnTo>
                      <a:lnTo>
                        <a:pt x="122" y="505"/>
                      </a:lnTo>
                      <a:lnTo>
                        <a:pt x="78" y="550"/>
                      </a:lnTo>
                      <a:lnTo>
                        <a:pt x="59" y="562"/>
                      </a:lnTo>
                      <a:lnTo>
                        <a:pt x="75" y="581"/>
                      </a:lnTo>
                      <a:lnTo>
                        <a:pt x="113" y="559"/>
                      </a:lnTo>
                      <a:lnTo>
                        <a:pt x="163" y="514"/>
                      </a:lnTo>
                      <a:lnTo>
                        <a:pt x="210" y="46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4" name=""/>
                <p:cNvSpPr/>
                <p:nvPr/>
              </p:nvSpPr>
              <p:spPr>
                <a:xfrm>
                  <a:off x="641880" y="516600"/>
                  <a:ext cx="144360" cy="276480"/>
                </a:xfrm>
                <a:custGeom>
                  <a:avLst/>
                  <a:gdLst/>
                  <a:ahLst/>
                  <a:rect l="l" t="t" r="r" b="b"/>
                  <a:pathLst>
                    <a:path w="608" h="800">
                      <a:moveTo>
                        <a:pt x="38" y="90"/>
                      </a:moveTo>
                      <a:lnTo>
                        <a:pt x="63" y="27"/>
                      </a:lnTo>
                      <a:lnTo>
                        <a:pt x="104" y="0"/>
                      </a:lnTo>
                      <a:lnTo>
                        <a:pt x="141" y="0"/>
                      </a:lnTo>
                      <a:lnTo>
                        <a:pt x="179" y="18"/>
                      </a:lnTo>
                      <a:lnTo>
                        <a:pt x="216" y="54"/>
                      </a:lnTo>
                      <a:lnTo>
                        <a:pt x="235" y="117"/>
                      </a:lnTo>
                      <a:lnTo>
                        <a:pt x="245" y="180"/>
                      </a:lnTo>
                      <a:lnTo>
                        <a:pt x="263" y="243"/>
                      </a:lnTo>
                      <a:lnTo>
                        <a:pt x="298" y="312"/>
                      </a:lnTo>
                      <a:lnTo>
                        <a:pt x="357" y="384"/>
                      </a:lnTo>
                      <a:lnTo>
                        <a:pt x="415" y="432"/>
                      </a:lnTo>
                      <a:lnTo>
                        <a:pt x="499" y="468"/>
                      </a:lnTo>
                      <a:lnTo>
                        <a:pt x="571" y="522"/>
                      </a:lnTo>
                      <a:lnTo>
                        <a:pt x="608" y="577"/>
                      </a:lnTo>
                      <a:lnTo>
                        <a:pt x="602" y="622"/>
                      </a:lnTo>
                      <a:lnTo>
                        <a:pt x="593" y="676"/>
                      </a:lnTo>
                      <a:lnTo>
                        <a:pt x="565" y="712"/>
                      </a:lnTo>
                      <a:lnTo>
                        <a:pt x="518" y="757"/>
                      </a:lnTo>
                      <a:lnTo>
                        <a:pt x="449" y="790"/>
                      </a:lnTo>
                      <a:lnTo>
                        <a:pt x="396" y="800"/>
                      </a:lnTo>
                      <a:lnTo>
                        <a:pt x="320" y="784"/>
                      </a:lnTo>
                      <a:lnTo>
                        <a:pt x="251" y="748"/>
                      </a:lnTo>
                      <a:lnTo>
                        <a:pt x="179" y="694"/>
                      </a:lnTo>
                      <a:lnTo>
                        <a:pt x="129" y="631"/>
                      </a:lnTo>
                      <a:lnTo>
                        <a:pt x="82" y="550"/>
                      </a:lnTo>
                      <a:lnTo>
                        <a:pt x="44" y="456"/>
                      </a:lnTo>
                      <a:lnTo>
                        <a:pt x="19" y="375"/>
                      </a:lnTo>
                      <a:lnTo>
                        <a:pt x="7" y="297"/>
                      </a:lnTo>
                      <a:lnTo>
                        <a:pt x="0" y="189"/>
                      </a:lnTo>
                      <a:lnTo>
                        <a:pt x="19" y="117"/>
                      </a:lnTo>
                      <a:lnTo>
                        <a:pt x="38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5" name=""/>
                <p:cNvSpPr/>
                <p:nvPr/>
              </p:nvSpPr>
              <p:spPr>
                <a:xfrm>
                  <a:off x="759960" y="634680"/>
                  <a:ext cx="247680" cy="250920"/>
                </a:xfrm>
                <a:custGeom>
                  <a:avLst/>
                  <a:gdLst/>
                  <a:ahLst/>
                  <a:rect l="l" t="t" r="r" b="b"/>
                  <a:pathLst>
                    <a:path w="1043" h="726">
                      <a:moveTo>
                        <a:pt x="116" y="230"/>
                      </a:moveTo>
                      <a:lnTo>
                        <a:pt x="216" y="147"/>
                      </a:lnTo>
                      <a:lnTo>
                        <a:pt x="338" y="72"/>
                      </a:lnTo>
                      <a:lnTo>
                        <a:pt x="417" y="27"/>
                      </a:lnTo>
                      <a:lnTo>
                        <a:pt x="479" y="12"/>
                      </a:lnTo>
                      <a:lnTo>
                        <a:pt x="529" y="0"/>
                      </a:lnTo>
                      <a:lnTo>
                        <a:pt x="573" y="18"/>
                      </a:lnTo>
                      <a:lnTo>
                        <a:pt x="601" y="75"/>
                      </a:lnTo>
                      <a:lnTo>
                        <a:pt x="620" y="230"/>
                      </a:lnTo>
                      <a:lnTo>
                        <a:pt x="620" y="416"/>
                      </a:lnTo>
                      <a:lnTo>
                        <a:pt x="620" y="536"/>
                      </a:lnTo>
                      <a:lnTo>
                        <a:pt x="642" y="609"/>
                      </a:lnTo>
                      <a:lnTo>
                        <a:pt x="686" y="597"/>
                      </a:lnTo>
                      <a:lnTo>
                        <a:pt x="717" y="552"/>
                      </a:lnTo>
                      <a:lnTo>
                        <a:pt x="779" y="500"/>
                      </a:lnTo>
                      <a:lnTo>
                        <a:pt x="876" y="470"/>
                      </a:lnTo>
                      <a:lnTo>
                        <a:pt x="943" y="470"/>
                      </a:lnTo>
                      <a:lnTo>
                        <a:pt x="1043" y="488"/>
                      </a:lnTo>
                      <a:lnTo>
                        <a:pt x="1037" y="524"/>
                      </a:lnTo>
                      <a:lnTo>
                        <a:pt x="1015" y="555"/>
                      </a:lnTo>
                      <a:lnTo>
                        <a:pt x="981" y="561"/>
                      </a:lnTo>
                      <a:lnTo>
                        <a:pt x="943" y="542"/>
                      </a:lnTo>
                      <a:lnTo>
                        <a:pt x="886" y="518"/>
                      </a:lnTo>
                      <a:lnTo>
                        <a:pt x="829" y="518"/>
                      </a:lnTo>
                      <a:lnTo>
                        <a:pt x="754" y="564"/>
                      </a:lnTo>
                      <a:lnTo>
                        <a:pt x="708" y="633"/>
                      </a:lnTo>
                      <a:lnTo>
                        <a:pt x="698" y="690"/>
                      </a:lnTo>
                      <a:lnTo>
                        <a:pt x="679" y="726"/>
                      </a:lnTo>
                      <a:lnTo>
                        <a:pt x="604" y="723"/>
                      </a:lnTo>
                      <a:lnTo>
                        <a:pt x="601" y="669"/>
                      </a:lnTo>
                      <a:lnTo>
                        <a:pt x="576" y="591"/>
                      </a:lnTo>
                      <a:lnTo>
                        <a:pt x="567" y="509"/>
                      </a:lnTo>
                      <a:lnTo>
                        <a:pt x="573" y="401"/>
                      </a:lnTo>
                      <a:lnTo>
                        <a:pt x="564" y="248"/>
                      </a:lnTo>
                      <a:lnTo>
                        <a:pt x="558" y="147"/>
                      </a:lnTo>
                      <a:lnTo>
                        <a:pt x="539" y="111"/>
                      </a:lnTo>
                      <a:lnTo>
                        <a:pt x="501" y="75"/>
                      </a:lnTo>
                      <a:lnTo>
                        <a:pt x="461" y="75"/>
                      </a:lnTo>
                      <a:lnTo>
                        <a:pt x="403" y="111"/>
                      </a:lnTo>
                      <a:lnTo>
                        <a:pt x="328" y="181"/>
                      </a:lnTo>
                      <a:lnTo>
                        <a:pt x="235" y="272"/>
                      </a:lnTo>
                      <a:lnTo>
                        <a:pt x="141" y="356"/>
                      </a:lnTo>
                      <a:lnTo>
                        <a:pt x="94" y="383"/>
                      </a:lnTo>
                      <a:lnTo>
                        <a:pt x="38" y="383"/>
                      </a:lnTo>
                      <a:lnTo>
                        <a:pt x="0" y="344"/>
                      </a:lnTo>
                      <a:lnTo>
                        <a:pt x="3" y="281"/>
                      </a:lnTo>
                      <a:lnTo>
                        <a:pt x="41" y="248"/>
                      </a:lnTo>
                      <a:lnTo>
                        <a:pt x="84" y="239"/>
                      </a:lnTo>
                      <a:lnTo>
                        <a:pt x="116" y="23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6" name=""/>
                <p:cNvSpPr/>
                <p:nvPr/>
              </p:nvSpPr>
              <p:spPr>
                <a:xfrm>
                  <a:off x="746640" y="744120"/>
                  <a:ext cx="169200" cy="263520"/>
                </a:xfrm>
                <a:custGeom>
                  <a:avLst/>
                  <a:gdLst/>
                  <a:ahLst/>
                  <a:rect l="l" t="t" r="r" b="b"/>
                  <a:pathLst>
                    <a:path w="713" h="762">
                      <a:moveTo>
                        <a:pt x="0" y="64"/>
                      </a:moveTo>
                      <a:lnTo>
                        <a:pt x="22" y="16"/>
                      </a:lnTo>
                      <a:lnTo>
                        <a:pt x="69" y="0"/>
                      </a:lnTo>
                      <a:lnTo>
                        <a:pt x="134" y="7"/>
                      </a:lnTo>
                      <a:lnTo>
                        <a:pt x="150" y="52"/>
                      </a:lnTo>
                      <a:lnTo>
                        <a:pt x="125" y="227"/>
                      </a:lnTo>
                      <a:lnTo>
                        <a:pt x="122" y="360"/>
                      </a:lnTo>
                      <a:lnTo>
                        <a:pt x="116" y="435"/>
                      </a:lnTo>
                      <a:lnTo>
                        <a:pt x="116" y="450"/>
                      </a:lnTo>
                      <a:lnTo>
                        <a:pt x="131" y="524"/>
                      </a:lnTo>
                      <a:lnTo>
                        <a:pt x="172" y="536"/>
                      </a:lnTo>
                      <a:lnTo>
                        <a:pt x="225" y="524"/>
                      </a:lnTo>
                      <a:lnTo>
                        <a:pt x="303" y="481"/>
                      </a:lnTo>
                      <a:lnTo>
                        <a:pt x="387" y="460"/>
                      </a:lnTo>
                      <a:lnTo>
                        <a:pt x="482" y="444"/>
                      </a:lnTo>
                      <a:lnTo>
                        <a:pt x="585" y="432"/>
                      </a:lnTo>
                      <a:lnTo>
                        <a:pt x="660" y="432"/>
                      </a:lnTo>
                      <a:lnTo>
                        <a:pt x="694" y="441"/>
                      </a:lnTo>
                      <a:lnTo>
                        <a:pt x="713" y="463"/>
                      </a:lnTo>
                      <a:lnTo>
                        <a:pt x="704" y="496"/>
                      </a:lnTo>
                      <a:lnTo>
                        <a:pt x="657" y="524"/>
                      </a:lnTo>
                      <a:lnTo>
                        <a:pt x="613" y="563"/>
                      </a:lnTo>
                      <a:lnTo>
                        <a:pt x="572" y="618"/>
                      </a:lnTo>
                      <a:lnTo>
                        <a:pt x="547" y="663"/>
                      </a:lnTo>
                      <a:lnTo>
                        <a:pt x="526" y="708"/>
                      </a:lnTo>
                      <a:lnTo>
                        <a:pt x="510" y="762"/>
                      </a:lnTo>
                      <a:lnTo>
                        <a:pt x="488" y="762"/>
                      </a:lnTo>
                      <a:lnTo>
                        <a:pt x="469" y="741"/>
                      </a:lnTo>
                      <a:lnTo>
                        <a:pt x="462" y="681"/>
                      </a:lnTo>
                      <a:lnTo>
                        <a:pt x="507" y="627"/>
                      </a:lnTo>
                      <a:lnTo>
                        <a:pt x="566" y="563"/>
                      </a:lnTo>
                      <a:lnTo>
                        <a:pt x="622" y="515"/>
                      </a:lnTo>
                      <a:lnTo>
                        <a:pt x="647" y="499"/>
                      </a:lnTo>
                      <a:lnTo>
                        <a:pt x="657" y="478"/>
                      </a:lnTo>
                      <a:lnTo>
                        <a:pt x="632" y="463"/>
                      </a:lnTo>
                      <a:lnTo>
                        <a:pt x="547" y="463"/>
                      </a:lnTo>
                      <a:lnTo>
                        <a:pt x="440" y="481"/>
                      </a:lnTo>
                      <a:lnTo>
                        <a:pt x="356" y="509"/>
                      </a:lnTo>
                      <a:lnTo>
                        <a:pt x="265" y="560"/>
                      </a:lnTo>
                      <a:lnTo>
                        <a:pt x="187" y="596"/>
                      </a:lnTo>
                      <a:lnTo>
                        <a:pt x="103" y="599"/>
                      </a:lnTo>
                      <a:lnTo>
                        <a:pt x="69" y="587"/>
                      </a:lnTo>
                      <a:lnTo>
                        <a:pt x="50" y="542"/>
                      </a:lnTo>
                      <a:lnTo>
                        <a:pt x="37" y="478"/>
                      </a:lnTo>
                      <a:lnTo>
                        <a:pt x="31" y="360"/>
                      </a:lnTo>
                      <a:lnTo>
                        <a:pt x="19" y="151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7" name=""/>
              <p:cNvGrpSpPr/>
              <p:nvPr/>
            </p:nvGrpSpPr>
            <p:grpSpPr>
              <a:xfrm>
                <a:off x="942480" y="722520"/>
                <a:ext cx="102240" cy="303120"/>
                <a:chOff x="942480" y="722520"/>
                <a:chExt cx="102240" cy="303120"/>
              </a:xfrm>
            </p:grpSpPr>
            <p:sp>
              <p:nvSpPr>
                <p:cNvPr id="5418" name=""/>
                <p:cNvSpPr/>
                <p:nvPr/>
              </p:nvSpPr>
              <p:spPr>
                <a:xfrm>
                  <a:off x="964080" y="891360"/>
                  <a:ext cx="80640" cy="37440"/>
                </a:xfrm>
                <a:custGeom>
                  <a:avLst/>
                  <a:gdLst/>
                  <a:ahLst/>
                  <a:rect l="l" t="t" r="r" b="b"/>
                  <a:pathLst>
                    <a:path w="340" h="109">
                      <a:moveTo>
                        <a:pt x="340" y="109"/>
                      </a:moveTo>
                      <a:lnTo>
                        <a:pt x="165" y="30"/>
                      </a:lnTo>
                      <a:lnTo>
                        <a:pt x="48" y="0"/>
                      </a:lnTo>
                      <a:lnTo>
                        <a:pt x="10" y="0"/>
                      </a:lnTo>
                      <a:lnTo>
                        <a:pt x="0" y="27"/>
                      </a:lnTo>
                      <a:lnTo>
                        <a:pt x="22" y="48"/>
                      </a:lnTo>
                      <a:lnTo>
                        <a:pt x="70" y="54"/>
                      </a:lnTo>
                      <a:lnTo>
                        <a:pt x="184" y="75"/>
                      </a:lnTo>
                      <a:lnTo>
                        <a:pt x="340" y="10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9" name=""/>
                <p:cNvSpPr/>
                <p:nvPr/>
              </p:nvSpPr>
              <p:spPr>
                <a:xfrm>
                  <a:off x="942480" y="925200"/>
                  <a:ext cx="22680" cy="100440"/>
                </a:xfrm>
                <a:custGeom>
                  <a:avLst/>
                  <a:gdLst/>
                  <a:ahLst/>
                  <a:rect l="l" t="t" r="r" b="b"/>
                  <a:pathLst>
                    <a:path w="97" h="291">
                      <a:moveTo>
                        <a:pt x="97" y="291"/>
                      </a:moveTo>
                      <a:lnTo>
                        <a:pt x="94" y="148"/>
                      </a:lnTo>
                      <a:lnTo>
                        <a:pt x="69" y="39"/>
                      </a:lnTo>
                      <a:lnTo>
                        <a:pt x="41" y="0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54"/>
                      </a:lnTo>
                      <a:lnTo>
                        <a:pt x="47" y="184"/>
                      </a:lnTo>
                      <a:lnTo>
                        <a:pt x="97" y="29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0" name=""/>
                <p:cNvSpPr/>
                <p:nvPr/>
              </p:nvSpPr>
              <p:spPr>
                <a:xfrm>
                  <a:off x="975600" y="722520"/>
                  <a:ext cx="50760" cy="38160"/>
                </a:xfrm>
                <a:custGeom>
                  <a:avLst/>
                  <a:gdLst/>
                  <a:ahLst/>
                  <a:rect l="l" t="t" r="r" b="b"/>
                  <a:pathLst>
                    <a:path w="214" h="111">
                      <a:moveTo>
                        <a:pt x="0" y="72"/>
                      </a:moveTo>
                      <a:lnTo>
                        <a:pt x="42" y="30"/>
                      </a:lnTo>
                      <a:lnTo>
                        <a:pt x="100" y="3"/>
                      </a:lnTo>
                      <a:lnTo>
                        <a:pt x="166" y="0"/>
                      </a:lnTo>
                      <a:lnTo>
                        <a:pt x="214" y="9"/>
                      </a:lnTo>
                      <a:lnTo>
                        <a:pt x="138" y="18"/>
                      </a:lnTo>
                      <a:lnTo>
                        <a:pt x="109" y="36"/>
                      </a:lnTo>
                      <a:lnTo>
                        <a:pt x="81" y="63"/>
                      </a:lnTo>
                      <a:lnTo>
                        <a:pt x="68" y="93"/>
                      </a:lnTo>
                      <a:lnTo>
                        <a:pt x="42" y="111"/>
                      </a:lnTo>
                      <a:lnTo>
                        <a:pt x="1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421" name=""/>
          <p:cNvSpPr/>
          <p:nvPr/>
        </p:nvSpPr>
        <p:spPr>
          <a:xfrm>
            <a:off x="413640" y="609480"/>
            <a:ext cx="3904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r handled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3000"/>
            </a:b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s the length of the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hortest paths to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2" name=""/>
          <p:cNvSpPr/>
          <p:nvPr/>
        </p:nvSpPr>
        <p:spPr>
          <a:xfrm>
            <a:off x="1095480" y="2179800"/>
            <a:ext cx="505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andle node with smallest </a:t>
            </a: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23" name=""/>
          <p:cNvGrpSpPr/>
          <p:nvPr/>
        </p:nvGrpSpPr>
        <p:grpSpPr>
          <a:xfrm>
            <a:off x="378000" y="2083680"/>
            <a:ext cx="691560" cy="741240"/>
            <a:chOff x="378000" y="2083680"/>
            <a:chExt cx="691560" cy="741240"/>
          </a:xfrm>
        </p:grpSpPr>
        <p:sp>
          <p:nvSpPr>
            <p:cNvPr id="5424" name=""/>
            <p:cNvSpPr/>
            <p:nvPr/>
          </p:nvSpPr>
          <p:spPr>
            <a:xfrm rot="21255000">
              <a:off x="726120" y="2163240"/>
              <a:ext cx="140760" cy="116640"/>
            </a:xfrm>
            <a:custGeom>
              <a:avLst/>
              <a:gdLst/>
              <a:ahLst/>
              <a:rect l="l" t="t" r="r" b="b"/>
              <a:pathLst>
                <a:path w="600" h="608">
                  <a:moveTo>
                    <a:pt x="388" y="289"/>
                  </a:moveTo>
                  <a:lnTo>
                    <a:pt x="372" y="177"/>
                  </a:lnTo>
                  <a:lnTo>
                    <a:pt x="341" y="78"/>
                  </a:lnTo>
                  <a:lnTo>
                    <a:pt x="284" y="24"/>
                  </a:lnTo>
                  <a:lnTo>
                    <a:pt x="185" y="0"/>
                  </a:lnTo>
                  <a:lnTo>
                    <a:pt x="100" y="24"/>
                  </a:lnTo>
                  <a:lnTo>
                    <a:pt x="19" y="123"/>
                  </a:lnTo>
                  <a:lnTo>
                    <a:pt x="0" y="243"/>
                  </a:lnTo>
                  <a:lnTo>
                    <a:pt x="19" y="370"/>
                  </a:lnTo>
                  <a:lnTo>
                    <a:pt x="50" y="447"/>
                  </a:lnTo>
                  <a:lnTo>
                    <a:pt x="88" y="528"/>
                  </a:lnTo>
                  <a:lnTo>
                    <a:pt x="130" y="582"/>
                  </a:lnTo>
                  <a:lnTo>
                    <a:pt x="177" y="608"/>
                  </a:lnTo>
                  <a:lnTo>
                    <a:pt x="242" y="585"/>
                  </a:lnTo>
                  <a:lnTo>
                    <a:pt x="307" y="531"/>
                  </a:lnTo>
                  <a:lnTo>
                    <a:pt x="349" y="455"/>
                  </a:lnTo>
                  <a:lnTo>
                    <a:pt x="388" y="390"/>
                  </a:lnTo>
                  <a:lnTo>
                    <a:pt x="400" y="351"/>
                  </a:lnTo>
                  <a:lnTo>
                    <a:pt x="565" y="293"/>
                  </a:lnTo>
                  <a:lnTo>
                    <a:pt x="600" y="270"/>
                  </a:lnTo>
                  <a:lnTo>
                    <a:pt x="580" y="235"/>
                  </a:lnTo>
                  <a:lnTo>
                    <a:pt x="388" y="28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 rot="21255000">
              <a:off x="677880" y="2308680"/>
              <a:ext cx="144720" cy="260640"/>
            </a:xfrm>
            <a:custGeom>
              <a:avLst/>
              <a:gdLst/>
              <a:ahLst/>
              <a:rect l="l" t="t" r="r" b="b"/>
              <a:pathLst>
                <a:path w="619" h="1085">
                  <a:moveTo>
                    <a:pt x="208" y="161"/>
                  </a:moveTo>
                  <a:lnTo>
                    <a:pt x="284" y="80"/>
                  </a:lnTo>
                  <a:lnTo>
                    <a:pt x="411" y="3"/>
                  </a:lnTo>
                  <a:lnTo>
                    <a:pt x="469" y="0"/>
                  </a:lnTo>
                  <a:lnTo>
                    <a:pt x="573" y="34"/>
                  </a:lnTo>
                  <a:lnTo>
                    <a:pt x="619" y="85"/>
                  </a:lnTo>
                  <a:lnTo>
                    <a:pt x="619" y="161"/>
                  </a:lnTo>
                  <a:lnTo>
                    <a:pt x="542" y="304"/>
                  </a:lnTo>
                  <a:lnTo>
                    <a:pt x="458" y="415"/>
                  </a:lnTo>
                  <a:lnTo>
                    <a:pt x="422" y="508"/>
                  </a:lnTo>
                  <a:lnTo>
                    <a:pt x="399" y="615"/>
                  </a:lnTo>
                  <a:lnTo>
                    <a:pt x="422" y="719"/>
                  </a:lnTo>
                  <a:lnTo>
                    <a:pt x="445" y="820"/>
                  </a:lnTo>
                  <a:lnTo>
                    <a:pt x="445" y="935"/>
                  </a:lnTo>
                  <a:lnTo>
                    <a:pt x="411" y="1005"/>
                  </a:lnTo>
                  <a:lnTo>
                    <a:pt x="334" y="1043"/>
                  </a:lnTo>
                  <a:lnTo>
                    <a:pt x="242" y="1085"/>
                  </a:lnTo>
                  <a:lnTo>
                    <a:pt x="157" y="1085"/>
                  </a:lnTo>
                  <a:lnTo>
                    <a:pt x="100" y="1054"/>
                  </a:lnTo>
                  <a:lnTo>
                    <a:pt x="23" y="927"/>
                  </a:lnTo>
                  <a:lnTo>
                    <a:pt x="0" y="797"/>
                  </a:lnTo>
                  <a:lnTo>
                    <a:pt x="8" y="628"/>
                  </a:lnTo>
                  <a:lnTo>
                    <a:pt x="65" y="415"/>
                  </a:lnTo>
                  <a:lnTo>
                    <a:pt x="123" y="277"/>
                  </a:lnTo>
                  <a:lnTo>
                    <a:pt x="208" y="1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 rot="21255000">
              <a:off x="779760" y="2522160"/>
              <a:ext cx="281520" cy="179640"/>
            </a:xfrm>
            <a:custGeom>
              <a:avLst/>
              <a:gdLst/>
              <a:ahLst/>
              <a:rect l="l" t="t" r="r" b="b"/>
              <a:pathLst>
                <a:path w="782" h="808">
                  <a:moveTo>
                    <a:pt x="0" y="76"/>
                  </a:moveTo>
                  <a:lnTo>
                    <a:pt x="66" y="0"/>
                  </a:lnTo>
                  <a:lnTo>
                    <a:pt x="163" y="0"/>
                  </a:lnTo>
                  <a:lnTo>
                    <a:pt x="343" y="19"/>
                  </a:lnTo>
                  <a:lnTo>
                    <a:pt x="555" y="30"/>
                  </a:lnTo>
                  <a:lnTo>
                    <a:pt x="636" y="65"/>
                  </a:lnTo>
                  <a:lnTo>
                    <a:pt x="670" y="110"/>
                  </a:lnTo>
                  <a:lnTo>
                    <a:pt x="678" y="180"/>
                  </a:lnTo>
                  <a:lnTo>
                    <a:pt x="654" y="253"/>
                  </a:lnTo>
                  <a:lnTo>
                    <a:pt x="589" y="365"/>
                  </a:lnTo>
                  <a:lnTo>
                    <a:pt x="504" y="457"/>
                  </a:lnTo>
                  <a:lnTo>
                    <a:pt x="439" y="541"/>
                  </a:lnTo>
                  <a:lnTo>
                    <a:pt x="412" y="607"/>
                  </a:lnTo>
                  <a:lnTo>
                    <a:pt x="393" y="653"/>
                  </a:lnTo>
                  <a:lnTo>
                    <a:pt x="400" y="689"/>
                  </a:lnTo>
                  <a:lnTo>
                    <a:pt x="405" y="711"/>
                  </a:lnTo>
                  <a:lnTo>
                    <a:pt x="482" y="711"/>
                  </a:lnTo>
                  <a:lnTo>
                    <a:pt x="601" y="692"/>
                  </a:lnTo>
                  <a:lnTo>
                    <a:pt x="678" y="692"/>
                  </a:lnTo>
                  <a:lnTo>
                    <a:pt x="758" y="723"/>
                  </a:lnTo>
                  <a:lnTo>
                    <a:pt x="782" y="761"/>
                  </a:lnTo>
                  <a:lnTo>
                    <a:pt x="758" y="796"/>
                  </a:lnTo>
                  <a:lnTo>
                    <a:pt x="724" y="808"/>
                  </a:lnTo>
                  <a:lnTo>
                    <a:pt x="670" y="792"/>
                  </a:lnTo>
                  <a:lnTo>
                    <a:pt x="597" y="749"/>
                  </a:lnTo>
                  <a:lnTo>
                    <a:pt x="520" y="757"/>
                  </a:lnTo>
                  <a:lnTo>
                    <a:pt x="393" y="780"/>
                  </a:lnTo>
                  <a:lnTo>
                    <a:pt x="355" y="773"/>
                  </a:lnTo>
                  <a:lnTo>
                    <a:pt x="335" y="746"/>
                  </a:lnTo>
                  <a:lnTo>
                    <a:pt x="335" y="681"/>
                  </a:lnTo>
                  <a:lnTo>
                    <a:pt x="335" y="588"/>
                  </a:lnTo>
                  <a:lnTo>
                    <a:pt x="389" y="518"/>
                  </a:lnTo>
                  <a:lnTo>
                    <a:pt x="470" y="414"/>
                  </a:lnTo>
                  <a:lnTo>
                    <a:pt x="540" y="323"/>
                  </a:lnTo>
                  <a:lnTo>
                    <a:pt x="586" y="253"/>
                  </a:lnTo>
                  <a:lnTo>
                    <a:pt x="609" y="192"/>
                  </a:lnTo>
                  <a:lnTo>
                    <a:pt x="597" y="157"/>
                  </a:lnTo>
                  <a:lnTo>
                    <a:pt x="566" y="115"/>
                  </a:lnTo>
                  <a:lnTo>
                    <a:pt x="520" y="103"/>
                  </a:lnTo>
                  <a:lnTo>
                    <a:pt x="470" y="103"/>
                  </a:lnTo>
                  <a:lnTo>
                    <a:pt x="358" y="103"/>
                  </a:lnTo>
                  <a:lnTo>
                    <a:pt x="193" y="134"/>
                  </a:lnTo>
                  <a:lnTo>
                    <a:pt x="70" y="146"/>
                  </a:lnTo>
                  <a:lnTo>
                    <a:pt x="20" y="134"/>
                  </a:lnTo>
                  <a:lnTo>
                    <a:pt x="0" y="11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 rot="19838400">
              <a:off x="390960" y="2578320"/>
              <a:ext cx="401760" cy="158400"/>
            </a:xfrm>
            <a:custGeom>
              <a:avLst/>
              <a:gdLst/>
              <a:ahLst/>
              <a:rect l="l" t="t" r="r" b="b"/>
              <a:pathLst>
                <a:path w="992" h="770">
                  <a:moveTo>
                    <a:pt x="808" y="320"/>
                  </a:moveTo>
                  <a:lnTo>
                    <a:pt x="823" y="219"/>
                  </a:lnTo>
                  <a:lnTo>
                    <a:pt x="881" y="181"/>
                  </a:lnTo>
                  <a:lnTo>
                    <a:pt x="950" y="174"/>
                  </a:lnTo>
                  <a:lnTo>
                    <a:pt x="992" y="219"/>
                  </a:lnTo>
                  <a:lnTo>
                    <a:pt x="973" y="308"/>
                  </a:lnTo>
                  <a:lnTo>
                    <a:pt x="935" y="427"/>
                  </a:lnTo>
                  <a:lnTo>
                    <a:pt x="857" y="562"/>
                  </a:lnTo>
                  <a:lnTo>
                    <a:pt x="761" y="677"/>
                  </a:lnTo>
                  <a:lnTo>
                    <a:pt x="681" y="739"/>
                  </a:lnTo>
                  <a:lnTo>
                    <a:pt x="592" y="770"/>
                  </a:lnTo>
                  <a:lnTo>
                    <a:pt x="507" y="759"/>
                  </a:lnTo>
                  <a:lnTo>
                    <a:pt x="442" y="723"/>
                  </a:lnTo>
                  <a:lnTo>
                    <a:pt x="419" y="666"/>
                  </a:lnTo>
                  <a:lnTo>
                    <a:pt x="392" y="566"/>
                  </a:lnTo>
                  <a:lnTo>
                    <a:pt x="361" y="382"/>
                  </a:lnTo>
                  <a:lnTo>
                    <a:pt x="338" y="254"/>
                  </a:lnTo>
                  <a:lnTo>
                    <a:pt x="338" y="104"/>
                  </a:lnTo>
                  <a:lnTo>
                    <a:pt x="323" y="78"/>
                  </a:lnTo>
                  <a:lnTo>
                    <a:pt x="277" y="70"/>
                  </a:lnTo>
                  <a:lnTo>
                    <a:pt x="223" y="112"/>
                  </a:lnTo>
                  <a:lnTo>
                    <a:pt x="173" y="181"/>
                  </a:lnTo>
                  <a:lnTo>
                    <a:pt x="115" y="219"/>
                  </a:lnTo>
                  <a:lnTo>
                    <a:pt x="27" y="219"/>
                  </a:lnTo>
                  <a:lnTo>
                    <a:pt x="0" y="196"/>
                  </a:lnTo>
                  <a:lnTo>
                    <a:pt x="0" y="158"/>
                  </a:lnTo>
                  <a:lnTo>
                    <a:pt x="39" y="123"/>
                  </a:lnTo>
                  <a:lnTo>
                    <a:pt x="81" y="135"/>
                  </a:lnTo>
                  <a:lnTo>
                    <a:pt x="119" y="127"/>
                  </a:lnTo>
                  <a:lnTo>
                    <a:pt x="189" y="78"/>
                  </a:lnTo>
                  <a:lnTo>
                    <a:pt x="257" y="23"/>
                  </a:lnTo>
                  <a:lnTo>
                    <a:pt x="323" y="8"/>
                  </a:lnTo>
                  <a:lnTo>
                    <a:pt x="415" y="0"/>
                  </a:lnTo>
                  <a:lnTo>
                    <a:pt x="419" y="42"/>
                  </a:lnTo>
                  <a:lnTo>
                    <a:pt x="397" y="89"/>
                  </a:lnTo>
                  <a:lnTo>
                    <a:pt x="392" y="208"/>
                  </a:lnTo>
                  <a:lnTo>
                    <a:pt x="419" y="366"/>
                  </a:lnTo>
                  <a:lnTo>
                    <a:pt x="462" y="520"/>
                  </a:lnTo>
                  <a:lnTo>
                    <a:pt x="499" y="612"/>
                  </a:lnTo>
                  <a:lnTo>
                    <a:pt x="558" y="655"/>
                  </a:lnTo>
                  <a:lnTo>
                    <a:pt x="615" y="655"/>
                  </a:lnTo>
                  <a:lnTo>
                    <a:pt x="673" y="612"/>
                  </a:lnTo>
                  <a:lnTo>
                    <a:pt x="750" y="515"/>
                  </a:lnTo>
                  <a:lnTo>
                    <a:pt x="800" y="377"/>
                  </a:lnTo>
                  <a:lnTo>
                    <a:pt x="808" y="32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 rot="21255000">
              <a:off x="582840" y="2094840"/>
              <a:ext cx="164160" cy="291600"/>
            </a:xfrm>
            <a:custGeom>
              <a:avLst/>
              <a:gdLst/>
              <a:ahLst/>
              <a:rect l="l" t="t" r="r" b="b"/>
              <a:pathLst>
                <a:path w="699" h="1216">
                  <a:moveTo>
                    <a:pt x="445" y="923"/>
                  </a:moveTo>
                  <a:lnTo>
                    <a:pt x="560" y="1039"/>
                  </a:lnTo>
                  <a:lnTo>
                    <a:pt x="606" y="1039"/>
                  </a:lnTo>
                  <a:lnTo>
                    <a:pt x="684" y="1086"/>
                  </a:lnTo>
                  <a:lnTo>
                    <a:pt x="699" y="1139"/>
                  </a:lnTo>
                  <a:lnTo>
                    <a:pt x="676" y="1208"/>
                  </a:lnTo>
                  <a:lnTo>
                    <a:pt x="614" y="1216"/>
                  </a:lnTo>
                  <a:lnTo>
                    <a:pt x="537" y="1162"/>
                  </a:lnTo>
                  <a:lnTo>
                    <a:pt x="383" y="1016"/>
                  </a:lnTo>
                  <a:lnTo>
                    <a:pt x="284" y="878"/>
                  </a:lnTo>
                  <a:lnTo>
                    <a:pt x="237" y="769"/>
                  </a:lnTo>
                  <a:lnTo>
                    <a:pt x="206" y="585"/>
                  </a:lnTo>
                  <a:lnTo>
                    <a:pt x="206" y="346"/>
                  </a:lnTo>
                  <a:lnTo>
                    <a:pt x="198" y="285"/>
                  </a:lnTo>
                  <a:lnTo>
                    <a:pt x="153" y="239"/>
                  </a:lnTo>
                  <a:lnTo>
                    <a:pt x="22" y="247"/>
                  </a:lnTo>
                  <a:lnTo>
                    <a:pt x="0" y="223"/>
                  </a:lnTo>
                  <a:lnTo>
                    <a:pt x="29" y="208"/>
                  </a:lnTo>
                  <a:lnTo>
                    <a:pt x="122" y="200"/>
                  </a:lnTo>
                  <a:lnTo>
                    <a:pt x="138" y="185"/>
                  </a:lnTo>
                  <a:lnTo>
                    <a:pt x="6" y="107"/>
                  </a:lnTo>
                  <a:lnTo>
                    <a:pt x="6" y="77"/>
                  </a:lnTo>
                  <a:lnTo>
                    <a:pt x="29" y="70"/>
                  </a:lnTo>
                  <a:lnTo>
                    <a:pt x="138" y="130"/>
                  </a:lnTo>
                  <a:lnTo>
                    <a:pt x="161" y="123"/>
                  </a:lnTo>
                  <a:lnTo>
                    <a:pt x="138" y="8"/>
                  </a:lnTo>
                  <a:lnTo>
                    <a:pt x="153" y="0"/>
                  </a:lnTo>
                  <a:lnTo>
                    <a:pt x="169" y="8"/>
                  </a:lnTo>
                  <a:lnTo>
                    <a:pt x="198" y="123"/>
                  </a:lnTo>
                  <a:lnTo>
                    <a:pt x="222" y="130"/>
                  </a:lnTo>
                  <a:lnTo>
                    <a:pt x="284" y="8"/>
                  </a:lnTo>
                  <a:lnTo>
                    <a:pt x="299" y="8"/>
                  </a:lnTo>
                  <a:lnTo>
                    <a:pt x="299" y="46"/>
                  </a:lnTo>
                  <a:lnTo>
                    <a:pt x="260" y="146"/>
                  </a:lnTo>
                  <a:lnTo>
                    <a:pt x="260" y="200"/>
                  </a:lnTo>
                  <a:lnTo>
                    <a:pt x="276" y="270"/>
                  </a:lnTo>
                  <a:lnTo>
                    <a:pt x="268" y="361"/>
                  </a:lnTo>
                  <a:lnTo>
                    <a:pt x="276" y="531"/>
                  </a:lnTo>
                  <a:lnTo>
                    <a:pt x="291" y="639"/>
                  </a:lnTo>
                  <a:lnTo>
                    <a:pt x="330" y="762"/>
                  </a:lnTo>
                  <a:lnTo>
                    <a:pt x="383" y="855"/>
                  </a:lnTo>
                  <a:lnTo>
                    <a:pt x="445" y="9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 rot="21255000">
              <a:off x="779040" y="2093760"/>
              <a:ext cx="214920" cy="243360"/>
            </a:xfrm>
            <a:custGeom>
              <a:avLst/>
              <a:gdLst/>
              <a:ahLst/>
              <a:rect l="l" t="t" r="r" b="b"/>
              <a:pathLst>
                <a:path w="915" h="1139">
                  <a:moveTo>
                    <a:pt x="15" y="1008"/>
                  </a:moveTo>
                  <a:lnTo>
                    <a:pt x="0" y="1061"/>
                  </a:lnTo>
                  <a:lnTo>
                    <a:pt x="15" y="1139"/>
                  </a:lnTo>
                  <a:lnTo>
                    <a:pt x="70" y="1139"/>
                  </a:lnTo>
                  <a:lnTo>
                    <a:pt x="231" y="1108"/>
                  </a:lnTo>
                  <a:lnTo>
                    <a:pt x="408" y="1046"/>
                  </a:lnTo>
                  <a:lnTo>
                    <a:pt x="554" y="946"/>
                  </a:lnTo>
                  <a:lnTo>
                    <a:pt x="639" y="816"/>
                  </a:lnTo>
                  <a:lnTo>
                    <a:pt x="715" y="593"/>
                  </a:lnTo>
                  <a:lnTo>
                    <a:pt x="738" y="385"/>
                  </a:lnTo>
                  <a:lnTo>
                    <a:pt x="738" y="285"/>
                  </a:lnTo>
                  <a:lnTo>
                    <a:pt x="777" y="224"/>
                  </a:lnTo>
                  <a:lnTo>
                    <a:pt x="845" y="200"/>
                  </a:lnTo>
                  <a:lnTo>
                    <a:pt x="907" y="200"/>
                  </a:lnTo>
                  <a:lnTo>
                    <a:pt x="915" y="169"/>
                  </a:lnTo>
                  <a:lnTo>
                    <a:pt x="823" y="177"/>
                  </a:lnTo>
                  <a:lnTo>
                    <a:pt x="808" y="154"/>
                  </a:lnTo>
                  <a:lnTo>
                    <a:pt x="884" y="70"/>
                  </a:lnTo>
                  <a:lnTo>
                    <a:pt x="868" y="47"/>
                  </a:lnTo>
                  <a:lnTo>
                    <a:pt x="853" y="62"/>
                  </a:lnTo>
                  <a:lnTo>
                    <a:pt x="792" y="123"/>
                  </a:lnTo>
                  <a:lnTo>
                    <a:pt x="777" y="123"/>
                  </a:lnTo>
                  <a:lnTo>
                    <a:pt x="777" y="16"/>
                  </a:lnTo>
                  <a:lnTo>
                    <a:pt x="761" y="0"/>
                  </a:lnTo>
                  <a:lnTo>
                    <a:pt x="738" y="8"/>
                  </a:lnTo>
                  <a:lnTo>
                    <a:pt x="746" y="123"/>
                  </a:lnTo>
                  <a:lnTo>
                    <a:pt x="730" y="131"/>
                  </a:lnTo>
                  <a:lnTo>
                    <a:pt x="668" y="70"/>
                  </a:lnTo>
                  <a:lnTo>
                    <a:pt x="623" y="62"/>
                  </a:lnTo>
                  <a:lnTo>
                    <a:pt x="631" y="93"/>
                  </a:lnTo>
                  <a:lnTo>
                    <a:pt x="699" y="162"/>
                  </a:lnTo>
                  <a:lnTo>
                    <a:pt x="699" y="200"/>
                  </a:lnTo>
                  <a:lnTo>
                    <a:pt x="676" y="278"/>
                  </a:lnTo>
                  <a:lnTo>
                    <a:pt x="676" y="346"/>
                  </a:lnTo>
                  <a:lnTo>
                    <a:pt x="676" y="462"/>
                  </a:lnTo>
                  <a:lnTo>
                    <a:pt x="645" y="608"/>
                  </a:lnTo>
                  <a:lnTo>
                    <a:pt x="615" y="700"/>
                  </a:lnTo>
                  <a:lnTo>
                    <a:pt x="561" y="816"/>
                  </a:lnTo>
                  <a:lnTo>
                    <a:pt x="499" y="908"/>
                  </a:lnTo>
                  <a:lnTo>
                    <a:pt x="454" y="954"/>
                  </a:lnTo>
                  <a:lnTo>
                    <a:pt x="330" y="993"/>
                  </a:lnTo>
                  <a:lnTo>
                    <a:pt x="215" y="1008"/>
                  </a:lnTo>
                  <a:lnTo>
                    <a:pt x="99" y="1024"/>
                  </a:lnTo>
                  <a:lnTo>
                    <a:pt x="15" y="100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30" name=""/>
          <p:cNvGrpSpPr/>
          <p:nvPr/>
        </p:nvGrpSpPr>
        <p:grpSpPr>
          <a:xfrm>
            <a:off x="160920" y="2709000"/>
            <a:ext cx="1427760" cy="1069560"/>
            <a:chOff x="160920" y="2709000"/>
            <a:chExt cx="1427760" cy="1069560"/>
          </a:xfrm>
        </p:grpSpPr>
        <p:sp>
          <p:nvSpPr>
            <p:cNvPr id="5431" name=""/>
            <p:cNvSpPr/>
            <p:nvPr/>
          </p:nvSpPr>
          <p:spPr>
            <a:xfrm rot="2359800">
              <a:off x="268200" y="2981160"/>
              <a:ext cx="783000" cy="61920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 rot="2359800">
              <a:off x="1046520" y="3048480"/>
              <a:ext cx="450360" cy="449640"/>
            </a:xfrm>
            <a:custGeom>
              <a:avLst/>
              <a:gdLst/>
              <a:ahLst/>
              <a:rect l="l" t="t" r="r" b="b"/>
              <a:pathLst>
                <a:path w="1312" h="1296">
                  <a:moveTo>
                    <a:pt x="592" y="160"/>
                  </a:moveTo>
                  <a:cubicBezTo>
                    <a:pt x="408" y="256"/>
                    <a:pt x="32" y="496"/>
                    <a:pt x="16" y="640"/>
                  </a:cubicBezTo>
                  <a:cubicBezTo>
                    <a:pt x="0" y="784"/>
                    <a:pt x="296" y="928"/>
                    <a:pt x="496" y="1024"/>
                  </a:cubicBezTo>
                  <a:cubicBezTo>
                    <a:pt x="696" y="1120"/>
                    <a:pt x="1120" y="1296"/>
                    <a:pt x="1216" y="1216"/>
                  </a:cubicBezTo>
                  <a:cubicBezTo>
                    <a:pt x="1312" y="1136"/>
                    <a:pt x="1088" y="736"/>
                    <a:pt x="1072" y="544"/>
                  </a:cubicBezTo>
                  <a:cubicBezTo>
                    <a:pt x="1056" y="352"/>
                    <a:pt x="1208" y="128"/>
                    <a:pt x="1120" y="64"/>
                  </a:cubicBezTo>
                  <a:cubicBezTo>
                    <a:pt x="1032" y="0"/>
                    <a:pt x="776" y="64"/>
                    <a:pt x="592" y="160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33" name=""/>
            <p:cNvGrpSpPr/>
            <p:nvPr/>
          </p:nvGrpSpPr>
          <p:grpSpPr>
            <a:xfrm>
              <a:off x="647640" y="2709000"/>
              <a:ext cx="691200" cy="740880"/>
              <a:chOff x="647640" y="2709000"/>
              <a:chExt cx="691200" cy="740880"/>
            </a:xfrm>
          </p:grpSpPr>
          <p:sp>
            <p:nvSpPr>
              <p:cNvPr id="5434" name=""/>
              <p:cNvSpPr/>
              <p:nvPr/>
            </p:nvSpPr>
            <p:spPr>
              <a:xfrm rot="21255000">
                <a:off x="995760" y="2788200"/>
                <a:ext cx="140760" cy="11664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 rot="21255000">
                <a:off x="947160" y="2934000"/>
                <a:ext cx="144720" cy="26028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 rot="21255000">
                <a:off x="1049040" y="3146760"/>
                <a:ext cx="281520" cy="17928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 rot="19838400">
                <a:off x="660240" y="3202920"/>
                <a:ext cx="402120" cy="15804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 rot="21255000">
                <a:off x="852840" y="2720160"/>
                <a:ext cx="164160" cy="29124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 rot="21255000">
                <a:off x="1048680" y="2719080"/>
                <a:ext cx="214920" cy="24300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40" name=""/>
          <p:cNvSpPr/>
          <p:nvPr/>
        </p:nvSpPr>
        <p:spPr>
          <a:xfrm>
            <a:off x="1527480" y="2803680"/>
            <a:ext cx="5175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r handled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s the length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f the  shortest paths to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1" name=""/>
          <p:cNvSpPr/>
          <p:nvPr/>
        </p:nvSpPr>
        <p:spPr>
          <a:xfrm>
            <a:off x="4990320" y="609480"/>
            <a:ext cx="3735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s the length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f the shortest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handle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th to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2" name=""/>
          <p:cNvSpPr/>
          <p:nvPr/>
        </p:nvSpPr>
        <p:spPr>
          <a:xfrm>
            <a:off x="2895480" y="3886200"/>
            <a:ext cx="411480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3" name=""/>
          <p:cNvSpPr/>
          <p:nvPr/>
        </p:nvSpPr>
        <p:spPr>
          <a:xfrm>
            <a:off x="2286000" y="3946680"/>
            <a:ext cx="81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4" name=""/>
          <p:cNvSpPr/>
          <p:nvPr/>
        </p:nvSpPr>
        <p:spPr>
          <a:xfrm flipH="1">
            <a:off x="2743200" y="1828800"/>
            <a:ext cx="3200400" cy="2362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5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7115040" cy="3021120"/>
          </a:xfrm>
          <a:prstGeom prst="rect">
            <a:avLst/>
          </a:prstGeom>
          <a:ln w="0">
            <a:noFill/>
          </a:ln>
        </p:spPr>
      </p:pic>
      <p:sp>
        <p:nvSpPr>
          <p:cNvPr id="5446" name=""/>
          <p:cNvSpPr/>
          <p:nvPr/>
        </p:nvSpPr>
        <p:spPr>
          <a:xfrm>
            <a:off x="7621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'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47" name=""/>
          <p:cNvGrpSpPr/>
          <p:nvPr/>
        </p:nvGrpSpPr>
        <p:grpSpPr>
          <a:xfrm>
            <a:off x="228600" y="76320"/>
            <a:ext cx="1181160" cy="1066680"/>
            <a:chOff x="228600" y="76320"/>
            <a:chExt cx="1181160" cy="1066680"/>
          </a:xfrm>
        </p:grpSpPr>
        <p:sp>
          <p:nvSpPr>
            <p:cNvPr id="5448" name=""/>
            <p:cNvSpPr/>
            <p:nvPr/>
          </p:nvSpPr>
          <p:spPr>
            <a:xfrm>
              <a:off x="228600" y="76320"/>
              <a:ext cx="1181160" cy="106668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49" name=""/>
            <p:cNvGrpSpPr/>
            <p:nvPr/>
          </p:nvGrpSpPr>
          <p:grpSpPr>
            <a:xfrm>
              <a:off x="415080" y="165240"/>
              <a:ext cx="629640" cy="860400"/>
              <a:chOff x="415080" y="165240"/>
              <a:chExt cx="629640" cy="860400"/>
            </a:xfrm>
          </p:grpSpPr>
          <p:grpSp>
            <p:nvGrpSpPr>
              <p:cNvPr id="5450" name=""/>
              <p:cNvGrpSpPr/>
              <p:nvPr/>
            </p:nvGrpSpPr>
            <p:grpSpPr>
              <a:xfrm>
                <a:off x="415080" y="165240"/>
                <a:ext cx="592560" cy="842400"/>
                <a:chOff x="415080" y="165240"/>
                <a:chExt cx="592560" cy="842400"/>
              </a:xfrm>
            </p:grpSpPr>
            <p:sp>
              <p:nvSpPr>
                <p:cNvPr id="5451" name=""/>
                <p:cNvSpPr/>
                <p:nvPr/>
              </p:nvSpPr>
              <p:spPr>
                <a:xfrm>
                  <a:off x="610560" y="307440"/>
                  <a:ext cx="102960" cy="177840"/>
                </a:xfrm>
                <a:custGeom>
                  <a:avLst/>
                  <a:gdLst/>
                  <a:ahLst/>
                  <a:rect l="l" t="t" r="r" b="b"/>
                  <a:pathLst>
                    <a:path w="434" h="514">
                      <a:moveTo>
                        <a:pt x="132" y="186"/>
                      </a:moveTo>
                      <a:lnTo>
                        <a:pt x="157" y="114"/>
                      </a:lnTo>
                      <a:lnTo>
                        <a:pt x="189" y="42"/>
                      </a:lnTo>
                      <a:lnTo>
                        <a:pt x="236" y="6"/>
                      </a:lnTo>
                      <a:lnTo>
                        <a:pt x="302" y="0"/>
                      </a:lnTo>
                      <a:lnTo>
                        <a:pt x="355" y="24"/>
                      </a:lnTo>
                      <a:lnTo>
                        <a:pt x="393" y="63"/>
                      </a:lnTo>
                      <a:lnTo>
                        <a:pt x="421" y="135"/>
                      </a:lnTo>
                      <a:lnTo>
                        <a:pt x="434" y="222"/>
                      </a:lnTo>
                      <a:lnTo>
                        <a:pt x="434" y="312"/>
                      </a:lnTo>
                      <a:lnTo>
                        <a:pt x="412" y="411"/>
                      </a:lnTo>
                      <a:lnTo>
                        <a:pt x="355" y="474"/>
                      </a:lnTo>
                      <a:lnTo>
                        <a:pt x="299" y="514"/>
                      </a:lnTo>
                      <a:lnTo>
                        <a:pt x="245" y="510"/>
                      </a:lnTo>
                      <a:lnTo>
                        <a:pt x="198" y="468"/>
                      </a:lnTo>
                      <a:lnTo>
                        <a:pt x="157" y="396"/>
                      </a:lnTo>
                      <a:lnTo>
                        <a:pt x="129" y="333"/>
                      </a:lnTo>
                      <a:lnTo>
                        <a:pt x="129" y="252"/>
                      </a:lnTo>
                      <a:lnTo>
                        <a:pt x="0" y="234"/>
                      </a:lnTo>
                      <a:lnTo>
                        <a:pt x="16" y="189"/>
                      </a:lnTo>
                      <a:lnTo>
                        <a:pt x="132" y="18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2" name=""/>
                <p:cNvSpPr/>
                <p:nvPr/>
              </p:nvSpPr>
              <p:spPr>
                <a:xfrm>
                  <a:off x="678600" y="165240"/>
                  <a:ext cx="134280" cy="398880"/>
                </a:xfrm>
                <a:custGeom>
                  <a:avLst/>
                  <a:gdLst/>
                  <a:ahLst/>
                  <a:rect l="l" t="t" r="r" b="b"/>
                  <a:pathLst>
                    <a:path w="566" h="1154">
                      <a:moveTo>
                        <a:pt x="13" y="1145"/>
                      </a:moveTo>
                      <a:lnTo>
                        <a:pt x="0" y="1088"/>
                      </a:lnTo>
                      <a:lnTo>
                        <a:pt x="31" y="1042"/>
                      </a:lnTo>
                      <a:lnTo>
                        <a:pt x="134" y="988"/>
                      </a:lnTo>
                      <a:lnTo>
                        <a:pt x="226" y="927"/>
                      </a:lnTo>
                      <a:lnTo>
                        <a:pt x="313" y="827"/>
                      </a:lnTo>
                      <a:lnTo>
                        <a:pt x="432" y="689"/>
                      </a:lnTo>
                      <a:lnTo>
                        <a:pt x="463" y="634"/>
                      </a:lnTo>
                      <a:lnTo>
                        <a:pt x="479" y="580"/>
                      </a:lnTo>
                      <a:lnTo>
                        <a:pt x="472" y="526"/>
                      </a:lnTo>
                      <a:lnTo>
                        <a:pt x="444" y="426"/>
                      </a:lnTo>
                      <a:lnTo>
                        <a:pt x="376" y="299"/>
                      </a:lnTo>
                      <a:lnTo>
                        <a:pt x="301" y="229"/>
                      </a:lnTo>
                      <a:lnTo>
                        <a:pt x="235" y="190"/>
                      </a:lnTo>
                      <a:lnTo>
                        <a:pt x="181" y="184"/>
                      </a:lnTo>
                      <a:lnTo>
                        <a:pt x="153" y="190"/>
                      </a:lnTo>
                      <a:lnTo>
                        <a:pt x="150" y="163"/>
                      </a:lnTo>
                      <a:lnTo>
                        <a:pt x="215" y="154"/>
                      </a:lnTo>
                      <a:lnTo>
                        <a:pt x="291" y="154"/>
                      </a:lnTo>
                      <a:lnTo>
                        <a:pt x="238" y="93"/>
                      </a:lnTo>
                      <a:lnTo>
                        <a:pt x="206" y="45"/>
                      </a:lnTo>
                      <a:lnTo>
                        <a:pt x="229" y="27"/>
                      </a:lnTo>
                      <a:lnTo>
                        <a:pt x="313" y="109"/>
                      </a:lnTo>
                      <a:lnTo>
                        <a:pt x="329" y="121"/>
                      </a:lnTo>
                      <a:lnTo>
                        <a:pt x="313" y="57"/>
                      </a:lnTo>
                      <a:lnTo>
                        <a:pt x="301" y="9"/>
                      </a:lnTo>
                      <a:lnTo>
                        <a:pt x="313" y="0"/>
                      </a:lnTo>
                      <a:lnTo>
                        <a:pt x="341" y="9"/>
                      </a:lnTo>
                      <a:lnTo>
                        <a:pt x="366" y="121"/>
                      </a:lnTo>
                      <a:lnTo>
                        <a:pt x="379" y="118"/>
                      </a:lnTo>
                      <a:lnTo>
                        <a:pt x="379" y="30"/>
                      </a:lnTo>
                      <a:lnTo>
                        <a:pt x="404" y="21"/>
                      </a:lnTo>
                      <a:lnTo>
                        <a:pt x="422" y="36"/>
                      </a:lnTo>
                      <a:lnTo>
                        <a:pt x="413" y="154"/>
                      </a:lnTo>
                      <a:lnTo>
                        <a:pt x="407" y="202"/>
                      </a:lnTo>
                      <a:lnTo>
                        <a:pt x="422" y="299"/>
                      </a:lnTo>
                      <a:lnTo>
                        <a:pt x="472" y="402"/>
                      </a:lnTo>
                      <a:lnTo>
                        <a:pt x="525" y="520"/>
                      </a:lnTo>
                      <a:lnTo>
                        <a:pt x="566" y="607"/>
                      </a:lnTo>
                      <a:lnTo>
                        <a:pt x="563" y="652"/>
                      </a:lnTo>
                      <a:lnTo>
                        <a:pt x="488" y="734"/>
                      </a:lnTo>
                      <a:lnTo>
                        <a:pt x="385" y="836"/>
                      </a:lnTo>
                      <a:lnTo>
                        <a:pt x="301" y="937"/>
                      </a:lnTo>
                      <a:lnTo>
                        <a:pt x="197" y="1070"/>
                      </a:lnTo>
                      <a:lnTo>
                        <a:pt x="112" y="1136"/>
                      </a:lnTo>
                      <a:lnTo>
                        <a:pt x="47" y="1154"/>
                      </a:lnTo>
                      <a:lnTo>
                        <a:pt x="13" y="1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3" name=""/>
                <p:cNvSpPr/>
                <p:nvPr/>
              </p:nvSpPr>
              <p:spPr>
                <a:xfrm>
                  <a:off x="415080" y="537120"/>
                  <a:ext cx="246240" cy="200880"/>
                </a:xfrm>
                <a:custGeom>
                  <a:avLst/>
                  <a:gdLst/>
                  <a:ahLst/>
                  <a:rect l="l" t="t" r="r" b="b"/>
                  <a:pathLst>
                    <a:path w="1037" h="581">
                      <a:moveTo>
                        <a:pt x="210" y="468"/>
                      </a:moveTo>
                      <a:lnTo>
                        <a:pt x="361" y="462"/>
                      </a:lnTo>
                      <a:lnTo>
                        <a:pt x="498" y="444"/>
                      </a:lnTo>
                      <a:lnTo>
                        <a:pt x="583" y="423"/>
                      </a:lnTo>
                      <a:lnTo>
                        <a:pt x="705" y="354"/>
                      </a:lnTo>
                      <a:lnTo>
                        <a:pt x="792" y="288"/>
                      </a:lnTo>
                      <a:lnTo>
                        <a:pt x="906" y="207"/>
                      </a:lnTo>
                      <a:lnTo>
                        <a:pt x="959" y="156"/>
                      </a:lnTo>
                      <a:lnTo>
                        <a:pt x="1000" y="120"/>
                      </a:lnTo>
                      <a:lnTo>
                        <a:pt x="1037" y="81"/>
                      </a:lnTo>
                      <a:lnTo>
                        <a:pt x="1037" y="39"/>
                      </a:lnTo>
                      <a:lnTo>
                        <a:pt x="996" y="0"/>
                      </a:lnTo>
                      <a:lnTo>
                        <a:pt x="971" y="9"/>
                      </a:lnTo>
                      <a:lnTo>
                        <a:pt x="903" y="90"/>
                      </a:lnTo>
                      <a:lnTo>
                        <a:pt x="828" y="183"/>
                      </a:lnTo>
                      <a:lnTo>
                        <a:pt x="752" y="270"/>
                      </a:lnTo>
                      <a:lnTo>
                        <a:pt x="642" y="342"/>
                      </a:lnTo>
                      <a:lnTo>
                        <a:pt x="548" y="390"/>
                      </a:lnTo>
                      <a:lnTo>
                        <a:pt x="445" y="414"/>
                      </a:lnTo>
                      <a:lnTo>
                        <a:pt x="301" y="417"/>
                      </a:lnTo>
                      <a:lnTo>
                        <a:pt x="216" y="417"/>
                      </a:lnTo>
                      <a:lnTo>
                        <a:pt x="144" y="363"/>
                      </a:lnTo>
                      <a:lnTo>
                        <a:pt x="125" y="327"/>
                      </a:lnTo>
                      <a:lnTo>
                        <a:pt x="94" y="327"/>
                      </a:lnTo>
                      <a:lnTo>
                        <a:pt x="116" y="372"/>
                      </a:lnTo>
                      <a:lnTo>
                        <a:pt x="150" y="414"/>
                      </a:lnTo>
                      <a:lnTo>
                        <a:pt x="66" y="396"/>
                      </a:lnTo>
                      <a:lnTo>
                        <a:pt x="3" y="387"/>
                      </a:lnTo>
                      <a:lnTo>
                        <a:pt x="3" y="405"/>
                      </a:lnTo>
                      <a:lnTo>
                        <a:pt x="59" y="417"/>
                      </a:lnTo>
                      <a:lnTo>
                        <a:pt x="97" y="441"/>
                      </a:lnTo>
                      <a:lnTo>
                        <a:pt x="131" y="444"/>
                      </a:lnTo>
                      <a:lnTo>
                        <a:pt x="78" y="462"/>
                      </a:lnTo>
                      <a:lnTo>
                        <a:pt x="0" y="481"/>
                      </a:lnTo>
                      <a:lnTo>
                        <a:pt x="3" y="499"/>
                      </a:lnTo>
                      <a:lnTo>
                        <a:pt x="28" y="505"/>
                      </a:lnTo>
                      <a:lnTo>
                        <a:pt x="103" y="481"/>
                      </a:lnTo>
                      <a:lnTo>
                        <a:pt x="150" y="477"/>
                      </a:lnTo>
                      <a:lnTo>
                        <a:pt x="122" y="505"/>
                      </a:lnTo>
                      <a:lnTo>
                        <a:pt x="78" y="550"/>
                      </a:lnTo>
                      <a:lnTo>
                        <a:pt x="59" y="562"/>
                      </a:lnTo>
                      <a:lnTo>
                        <a:pt x="75" y="581"/>
                      </a:lnTo>
                      <a:lnTo>
                        <a:pt x="113" y="559"/>
                      </a:lnTo>
                      <a:lnTo>
                        <a:pt x="163" y="514"/>
                      </a:lnTo>
                      <a:lnTo>
                        <a:pt x="210" y="46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4" name=""/>
                <p:cNvSpPr/>
                <p:nvPr/>
              </p:nvSpPr>
              <p:spPr>
                <a:xfrm>
                  <a:off x="641880" y="516600"/>
                  <a:ext cx="144360" cy="276480"/>
                </a:xfrm>
                <a:custGeom>
                  <a:avLst/>
                  <a:gdLst/>
                  <a:ahLst/>
                  <a:rect l="l" t="t" r="r" b="b"/>
                  <a:pathLst>
                    <a:path w="608" h="800">
                      <a:moveTo>
                        <a:pt x="38" y="90"/>
                      </a:moveTo>
                      <a:lnTo>
                        <a:pt x="63" y="27"/>
                      </a:lnTo>
                      <a:lnTo>
                        <a:pt x="104" y="0"/>
                      </a:lnTo>
                      <a:lnTo>
                        <a:pt x="141" y="0"/>
                      </a:lnTo>
                      <a:lnTo>
                        <a:pt x="179" y="18"/>
                      </a:lnTo>
                      <a:lnTo>
                        <a:pt x="216" y="54"/>
                      </a:lnTo>
                      <a:lnTo>
                        <a:pt x="235" y="117"/>
                      </a:lnTo>
                      <a:lnTo>
                        <a:pt x="245" y="180"/>
                      </a:lnTo>
                      <a:lnTo>
                        <a:pt x="263" y="243"/>
                      </a:lnTo>
                      <a:lnTo>
                        <a:pt x="298" y="312"/>
                      </a:lnTo>
                      <a:lnTo>
                        <a:pt x="357" y="384"/>
                      </a:lnTo>
                      <a:lnTo>
                        <a:pt x="415" y="432"/>
                      </a:lnTo>
                      <a:lnTo>
                        <a:pt x="499" y="468"/>
                      </a:lnTo>
                      <a:lnTo>
                        <a:pt x="571" y="522"/>
                      </a:lnTo>
                      <a:lnTo>
                        <a:pt x="608" y="577"/>
                      </a:lnTo>
                      <a:lnTo>
                        <a:pt x="602" y="622"/>
                      </a:lnTo>
                      <a:lnTo>
                        <a:pt x="593" y="676"/>
                      </a:lnTo>
                      <a:lnTo>
                        <a:pt x="565" y="712"/>
                      </a:lnTo>
                      <a:lnTo>
                        <a:pt x="518" y="757"/>
                      </a:lnTo>
                      <a:lnTo>
                        <a:pt x="449" y="790"/>
                      </a:lnTo>
                      <a:lnTo>
                        <a:pt x="396" y="800"/>
                      </a:lnTo>
                      <a:lnTo>
                        <a:pt x="320" y="784"/>
                      </a:lnTo>
                      <a:lnTo>
                        <a:pt x="251" y="748"/>
                      </a:lnTo>
                      <a:lnTo>
                        <a:pt x="179" y="694"/>
                      </a:lnTo>
                      <a:lnTo>
                        <a:pt x="129" y="631"/>
                      </a:lnTo>
                      <a:lnTo>
                        <a:pt x="82" y="550"/>
                      </a:lnTo>
                      <a:lnTo>
                        <a:pt x="44" y="456"/>
                      </a:lnTo>
                      <a:lnTo>
                        <a:pt x="19" y="375"/>
                      </a:lnTo>
                      <a:lnTo>
                        <a:pt x="7" y="297"/>
                      </a:lnTo>
                      <a:lnTo>
                        <a:pt x="0" y="189"/>
                      </a:lnTo>
                      <a:lnTo>
                        <a:pt x="19" y="117"/>
                      </a:lnTo>
                      <a:lnTo>
                        <a:pt x="38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5" name=""/>
                <p:cNvSpPr/>
                <p:nvPr/>
              </p:nvSpPr>
              <p:spPr>
                <a:xfrm>
                  <a:off x="759960" y="634680"/>
                  <a:ext cx="247680" cy="250920"/>
                </a:xfrm>
                <a:custGeom>
                  <a:avLst/>
                  <a:gdLst/>
                  <a:ahLst/>
                  <a:rect l="l" t="t" r="r" b="b"/>
                  <a:pathLst>
                    <a:path w="1043" h="726">
                      <a:moveTo>
                        <a:pt x="116" y="230"/>
                      </a:moveTo>
                      <a:lnTo>
                        <a:pt x="216" y="147"/>
                      </a:lnTo>
                      <a:lnTo>
                        <a:pt x="338" y="72"/>
                      </a:lnTo>
                      <a:lnTo>
                        <a:pt x="417" y="27"/>
                      </a:lnTo>
                      <a:lnTo>
                        <a:pt x="479" y="12"/>
                      </a:lnTo>
                      <a:lnTo>
                        <a:pt x="529" y="0"/>
                      </a:lnTo>
                      <a:lnTo>
                        <a:pt x="573" y="18"/>
                      </a:lnTo>
                      <a:lnTo>
                        <a:pt x="601" y="75"/>
                      </a:lnTo>
                      <a:lnTo>
                        <a:pt x="620" y="230"/>
                      </a:lnTo>
                      <a:lnTo>
                        <a:pt x="620" y="416"/>
                      </a:lnTo>
                      <a:lnTo>
                        <a:pt x="620" y="536"/>
                      </a:lnTo>
                      <a:lnTo>
                        <a:pt x="642" y="609"/>
                      </a:lnTo>
                      <a:lnTo>
                        <a:pt x="686" y="597"/>
                      </a:lnTo>
                      <a:lnTo>
                        <a:pt x="717" y="552"/>
                      </a:lnTo>
                      <a:lnTo>
                        <a:pt x="779" y="500"/>
                      </a:lnTo>
                      <a:lnTo>
                        <a:pt x="876" y="470"/>
                      </a:lnTo>
                      <a:lnTo>
                        <a:pt x="943" y="470"/>
                      </a:lnTo>
                      <a:lnTo>
                        <a:pt x="1043" y="488"/>
                      </a:lnTo>
                      <a:lnTo>
                        <a:pt x="1037" y="524"/>
                      </a:lnTo>
                      <a:lnTo>
                        <a:pt x="1015" y="555"/>
                      </a:lnTo>
                      <a:lnTo>
                        <a:pt x="981" y="561"/>
                      </a:lnTo>
                      <a:lnTo>
                        <a:pt x="943" y="542"/>
                      </a:lnTo>
                      <a:lnTo>
                        <a:pt x="886" y="518"/>
                      </a:lnTo>
                      <a:lnTo>
                        <a:pt x="829" y="518"/>
                      </a:lnTo>
                      <a:lnTo>
                        <a:pt x="754" y="564"/>
                      </a:lnTo>
                      <a:lnTo>
                        <a:pt x="708" y="633"/>
                      </a:lnTo>
                      <a:lnTo>
                        <a:pt x="698" y="690"/>
                      </a:lnTo>
                      <a:lnTo>
                        <a:pt x="679" y="726"/>
                      </a:lnTo>
                      <a:lnTo>
                        <a:pt x="604" y="723"/>
                      </a:lnTo>
                      <a:lnTo>
                        <a:pt x="601" y="669"/>
                      </a:lnTo>
                      <a:lnTo>
                        <a:pt x="576" y="591"/>
                      </a:lnTo>
                      <a:lnTo>
                        <a:pt x="567" y="509"/>
                      </a:lnTo>
                      <a:lnTo>
                        <a:pt x="573" y="401"/>
                      </a:lnTo>
                      <a:lnTo>
                        <a:pt x="564" y="248"/>
                      </a:lnTo>
                      <a:lnTo>
                        <a:pt x="558" y="147"/>
                      </a:lnTo>
                      <a:lnTo>
                        <a:pt x="539" y="111"/>
                      </a:lnTo>
                      <a:lnTo>
                        <a:pt x="501" y="75"/>
                      </a:lnTo>
                      <a:lnTo>
                        <a:pt x="461" y="75"/>
                      </a:lnTo>
                      <a:lnTo>
                        <a:pt x="403" y="111"/>
                      </a:lnTo>
                      <a:lnTo>
                        <a:pt x="328" y="181"/>
                      </a:lnTo>
                      <a:lnTo>
                        <a:pt x="235" y="272"/>
                      </a:lnTo>
                      <a:lnTo>
                        <a:pt x="141" y="356"/>
                      </a:lnTo>
                      <a:lnTo>
                        <a:pt x="94" y="383"/>
                      </a:lnTo>
                      <a:lnTo>
                        <a:pt x="38" y="383"/>
                      </a:lnTo>
                      <a:lnTo>
                        <a:pt x="0" y="344"/>
                      </a:lnTo>
                      <a:lnTo>
                        <a:pt x="3" y="281"/>
                      </a:lnTo>
                      <a:lnTo>
                        <a:pt x="41" y="248"/>
                      </a:lnTo>
                      <a:lnTo>
                        <a:pt x="84" y="239"/>
                      </a:lnTo>
                      <a:lnTo>
                        <a:pt x="116" y="23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6" name=""/>
                <p:cNvSpPr/>
                <p:nvPr/>
              </p:nvSpPr>
              <p:spPr>
                <a:xfrm>
                  <a:off x="746640" y="744120"/>
                  <a:ext cx="169200" cy="263520"/>
                </a:xfrm>
                <a:custGeom>
                  <a:avLst/>
                  <a:gdLst/>
                  <a:ahLst/>
                  <a:rect l="l" t="t" r="r" b="b"/>
                  <a:pathLst>
                    <a:path w="713" h="762">
                      <a:moveTo>
                        <a:pt x="0" y="64"/>
                      </a:moveTo>
                      <a:lnTo>
                        <a:pt x="22" y="16"/>
                      </a:lnTo>
                      <a:lnTo>
                        <a:pt x="69" y="0"/>
                      </a:lnTo>
                      <a:lnTo>
                        <a:pt x="134" y="7"/>
                      </a:lnTo>
                      <a:lnTo>
                        <a:pt x="150" y="52"/>
                      </a:lnTo>
                      <a:lnTo>
                        <a:pt x="125" y="227"/>
                      </a:lnTo>
                      <a:lnTo>
                        <a:pt x="122" y="360"/>
                      </a:lnTo>
                      <a:lnTo>
                        <a:pt x="116" y="435"/>
                      </a:lnTo>
                      <a:lnTo>
                        <a:pt x="116" y="450"/>
                      </a:lnTo>
                      <a:lnTo>
                        <a:pt x="131" y="524"/>
                      </a:lnTo>
                      <a:lnTo>
                        <a:pt x="172" y="536"/>
                      </a:lnTo>
                      <a:lnTo>
                        <a:pt x="225" y="524"/>
                      </a:lnTo>
                      <a:lnTo>
                        <a:pt x="303" y="481"/>
                      </a:lnTo>
                      <a:lnTo>
                        <a:pt x="387" y="460"/>
                      </a:lnTo>
                      <a:lnTo>
                        <a:pt x="482" y="444"/>
                      </a:lnTo>
                      <a:lnTo>
                        <a:pt x="585" y="432"/>
                      </a:lnTo>
                      <a:lnTo>
                        <a:pt x="660" y="432"/>
                      </a:lnTo>
                      <a:lnTo>
                        <a:pt x="694" y="441"/>
                      </a:lnTo>
                      <a:lnTo>
                        <a:pt x="713" y="463"/>
                      </a:lnTo>
                      <a:lnTo>
                        <a:pt x="704" y="496"/>
                      </a:lnTo>
                      <a:lnTo>
                        <a:pt x="657" y="524"/>
                      </a:lnTo>
                      <a:lnTo>
                        <a:pt x="613" y="563"/>
                      </a:lnTo>
                      <a:lnTo>
                        <a:pt x="572" y="618"/>
                      </a:lnTo>
                      <a:lnTo>
                        <a:pt x="547" y="663"/>
                      </a:lnTo>
                      <a:lnTo>
                        <a:pt x="526" y="708"/>
                      </a:lnTo>
                      <a:lnTo>
                        <a:pt x="510" y="762"/>
                      </a:lnTo>
                      <a:lnTo>
                        <a:pt x="488" y="762"/>
                      </a:lnTo>
                      <a:lnTo>
                        <a:pt x="469" y="741"/>
                      </a:lnTo>
                      <a:lnTo>
                        <a:pt x="462" y="681"/>
                      </a:lnTo>
                      <a:lnTo>
                        <a:pt x="507" y="627"/>
                      </a:lnTo>
                      <a:lnTo>
                        <a:pt x="566" y="563"/>
                      </a:lnTo>
                      <a:lnTo>
                        <a:pt x="622" y="515"/>
                      </a:lnTo>
                      <a:lnTo>
                        <a:pt x="647" y="499"/>
                      </a:lnTo>
                      <a:lnTo>
                        <a:pt x="657" y="478"/>
                      </a:lnTo>
                      <a:lnTo>
                        <a:pt x="632" y="463"/>
                      </a:lnTo>
                      <a:lnTo>
                        <a:pt x="547" y="463"/>
                      </a:lnTo>
                      <a:lnTo>
                        <a:pt x="440" y="481"/>
                      </a:lnTo>
                      <a:lnTo>
                        <a:pt x="356" y="509"/>
                      </a:lnTo>
                      <a:lnTo>
                        <a:pt x="265" y="560"/>
                      </a:lnTo>
                      <a:lnTo>
                        <a:pt x="187" y="596"/>
                      </a:lnTo>
                      <a:lnTo>
                        <a:pt x="103" y="599"/>
                      </a:lnTo>
                      <a:lnTo>
                        <a:pt x="69" y="587"/>
                      </a:lnTo>
                      <a:lnTo>
                        <a:pt x="50" y="542"/>
                      </a:lnTo>
                      <a:lnTo>
                        <a:pt x="37" y="478"/>
                      </a:lnTo>
                      <a:lnTo>
                        <a:pt x="31" y="360"/>
                      </a:lnTo>
                      <a:lnTo>
                        <a:pt x="19" y="151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7" name=""/>
              <p:cNvGrpSpPr/>
              <p:nvPr/>
            </p:nvGrpSpPr>
            <p:grpSpPr>
              <a:xfrm>
                <a:off x="942480" y="722520"/>
                <a:ext cx="102240" cy="303120"/>
                <a:chOff x="942480" y="722520"/>
                <a:chExt cx="102240" cy="303120"/>
              </a:xfrm>
            </p:grpSpPr>
            <p:sp>
              <p:nvSpPr>
                <p:cNvPr id="5458" name=""/>
                <p:cNvSpPr/>
                <p:nvPr/>
              </p:nvSpPr>
              <p:spPr>
                <a:xfrm>
                  <a:off x="964080" y="891360"/>
                  <a:ext cx="80640" cy="37440"/>
                </a:xfrm>
                <a:custGeom>
                  <a:avLst/>
                  <a:gdLst/>
                  <a:ahLst/>
                  <a:rect l="l" t="t" r="r" b="b"/>
                  <a:pathLst>
                    <a:path w="340" h="109">
                      <a:moveTo>
                        <a:pt x="340" y="109"/>
                      </a:moveTo>
                      <a:lnTo>
                        <a:pt x="165" y="30"/>
                      </a:lnTo>
                      <a:lnTo>
                        <a:pt x="48" y="0"/>
                      </a:lnTo>
                      <a:lnTo>
                        <a:pt x="10" y="0"/>
                      </a:lnTo>
                      <a:lnTo>
                        <a:pt x="0" y="27"/>
                      </a:lnTo>
                      <a:lnTo>
                        <a:pt x="22" y="48"/>
                      </a:lnTo>
                      <a:lnTo>
                        <a:pt x="70" y="54"/>
                      </a:lnTo>
                      <a:lnTo>
                        <a:pt x="184" y="75"/>
                      </a:lnTo>
                      <a:lnTo>
                        <a:pt x="340" y="10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9" name=""/>
                <p:cNvSpPr/>
                <p:nvPr/>
              </p:nvSpPr>
              <p:spPr>
                <a:xfrm>
                  <a:off x="942480" y="925200"/>
                  <a:ext cx="22680" cy="100440"/>
                </a:xfrm>
                <a:custGeom>
                  <a:avLst/>
                  <a:gdLst/>
                  <a:ahLst/>
                  <a:rect l="l" t="t" r="r" b="b"/>
                  <a:pathLst>
                    <a:path w="97" h="291">
                      <a:moveTo>
                        <a:pt x="97" y="291"/>
                      </a:moveTo>
                      <a:lnTo>
                        <a:pt x="94" y="148"/>
                      </a:lnTo>
                      <a:lnTo>
                        <a:pt x="69" y="39"/>
                      </a:lnTo>
                      <a:lnTo>
                        <a:pt x="41" y="0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54"/>
                      </a:lnTo>
                      <a:lnTo>
                        <a:pt x="47" y="184"/>
                      </a:lnTo>
                      <a:lnTo>
                        <a:pt x="97" y="29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0" name=""/>
                <p:cNvSpPr/>
                <p:nvPr/>
              </p:nvSpPr>
              <p:spPr>
                <a:xfrm>
                  <a:off x="975600" y="722520"/>
                  <a:ext cx="50760" cy="38160"/>
                </a:xfrm>
                <a:custGeom>
                  <a:avLst/>
                  <a:gdLst/>
                  <a:ahLst/>
                  <a:rect l="l" t="t" r="r" b="b"/>
                  <a:pathLst>
                    <a:path w="214" h="111">
                      <a:moveTo>
                        <a:pt x="0" y="72"/>
                      </a:moveTo>
                      <a:lnTo>
                        <a:pt x="42" y="30"/>
                      </a:lnTo>
                      <a:lnTo>
                        <a:pt x="100" y="3"/>
                      </a:lnTo>
                      <a:lnTo>
                        <a:pt x="166" y="0"/>
                      </a:lnTo>
                      <a:lnTo>
                        <a:pt x="214" y="9"/>
                      </a:lnTo>
                      <a:lnTo>
                        <a:pt x="138" y="18"/>
                      </a:lnTo>
                      <a:lnTo>
                        <a:pt x="109" y="36"/>
                      </a:lnTo>
                      <a:lnTo>
                        <a:pt x="81" y="63"/>
                      </a:lnTo>
                      <a:lnTo>
                        <a:pt x="68" y="93"/>
                      </a:lnTo>
                      <a:lnTo>
                        <a:pt x="42" y="111"/>
                      </a:lnTo>
                      <a:lnTo>
                        <a:pt x="1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461" name=""/>
          <p:cNvSpPr/>
          <p:nvPr/>
        </p:nvSpPr>
        <p:spPr>
          <a:xfrm>
            <a:off x="413640" y="609480"/>
            <a:ext cx="3904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r handled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3000"/>
            </a:b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s the length of the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hortest paths to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2" name=""/>
          <p:cNvSpPr/>
          <p:nvPr/>
        </p:nvSpPr>
        <p:spPr>
          <a:xfrm>
            <a:off x="1095480" y="2179800"/>
            <a:ext cx="505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andle node with smallest </a:t>
            </a: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63" name=""/>
          <p:cNvGrpSpPr/>
          <p:nvPr/>
        </p:nvGrpSpPr>
        <p:grpSpPr>
          <a:xfrm>
            <a:off x="378000" y="2083680"/>
            <a:ext cx="691560" cy="741240"/>
            <a:chOff x="378000" y="2083680"/>
            <a:chExt cx="691560" cy="741240"/>
          </a:xfrm>
        </p:grpSpPr>
        <p:sp>
          <p:nvSpPr>
            <p:cNvPr id="5464" name=""/>
            <p:cNvSpPr/>
            <p:nvPr/>
          </p:nvSpPr>
          <p:spPr>
            <a:xfrm rot="21255000">
              <a:off x="726120" y="2163240"/>
              <a:ext cx="140760" cy="116640"/>
            </a:xfrm>
            <a:custGeom>
              <a:avLst/>
              <a:gdLst/>
              <a:ahLst/>
              <a:rect l="l" t="t" r="r" b="b"/>
              <a:pathLst>
                <a:path w="600" h="608">
                  <a:moveTo>
                    <a:pt x="388" y="289"/>
                  </a:moveTo>
                  <a:lnTo>
                    <a:pt x="372" y="177"/>
                  </a:lnTo>
                  <a:lnTo>
                    <a:pt x="341" y="78"/>
                  </a:lnTo>
                  <a:lnTo>
                    <a:pt x="284" y="24"/>
                  </a:lnTo>
                  <a:lnTo>
                    <a:pt x="185" y="0"/>
                  </a:lnTo>
                  <a:lnTo>
                    <a:pt x="100" y="24"/>
                  </a:lnTo>
                  <a:lnTo>
                    <a:pt x="19" y="123"/>
                  </a:lnTo>
                  <a:lnTo>
                    <a:pt x="0" y="243"/>
                  </a:lnTo>
                  <a:lnTo>
                    <a:pt x="19" y="370"/>
                  </a:lnTo>
                  <a:lnTo>
                    <a:pt x="50" y="447"/>
                  </a:lnTo>
                  <a:lnTo>
                    <a:pt x="88" y="528"/>
                  </a:lnTo>
                  <a:lnTo>
                    <a:pt x="130" y="582"/>
                  </a:lnTo>
                  <a:lnTo>
                    <a:pt x="177" y="608"/>
                  </a:lnTo>
                  <a:lnTo>
                    <a:pt x="242" y="585"/>
                  </a:lnTo>
                  <a:lnTo>
                    <a:pt x="307" y="531"/>
                  </a:lnTo>
                  <a:lnTo>
                    <a:pt x="349" y="455"/>
                  </a:lnTo>
                  <a:lnTo>
                    <a:pt x="388" y="390"/>
                  </a:lnTo>
                  <a:lnTo>
                    <a:pt x="400" y="351"/>
                  </a:lnTo>
                  <a:lnTo>
                    <a:pt x="565" y="293"/>
                  </a:lnTo>
                  <a:lnTo>
                    <a:pt x="600" y="270"/>
                  </a:lnTo>
                  <a:lnTo>
                    <a:pt x="580" y="235"/>
                  </a:lnTo>
                  <a:lnTo>
                    <a:pt x="388" y="28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 rot="21255000">
              <a:off x="677880" y="2308680"/>
              <a:ext cx="144720" cy="260640"/>
            </a:xfrm>
            <a:custGeom>
              <a:avLst/>
              <a:gdLst/>
              <a:ahLst/>
              <a:rect l="l" t="t" r="r" b="b"/>
              <a:pathLst>
                <a:path w="619" h="1085">
                  <a:moveTo>
                    <a:pt x="208" y="161"/>
                  </a:moveTo>
                  <a:lnTo>
                    <a:pt x="284" y="80"/>
                  </a:lnTo>
                  <a:lnTo>
                    <a:pt x="411" y="3"/>
                  </a:lnTo>
                  <a:lnTo>
                    <a:pt x="469" y="0"/>
                  </a:lnTo>
                  <a:lnTo>
                    <a:pt x="573" y="34"/>
                  </a:lnTo>
                  <a:lnTo>
                    <a:pt x="619" y="85"/>
                  </a:lnTo>
                  <a:lnTo>
                    <a:pt x="619" y="161"/>
                  </a:lnTo>
                  <a:lnTo>
                    <a:pt x="542" y="304"/>
                  </a:lnTo>
                  <a:lnTo>
                    <a:pt x="458" y="415"/>
                  </a:lnTo>
                  <a:lnTo>
                    <a:pt x="422" y="508"/>
                  </a:lnTo>
                  <a:lnTo>
                    <a:pt x="399" y="615"/>
                  </a:lnTo>
                  <a:lnTo>
                    <a:pt x="422" y="719"/>
                  </a:lnTo>
                  <a:lnTo>
                    <a:pt x="445" y="820"/>
                  </a:lnTo>
                  <a:lnTo>
                    <a:pt x="445" y="935"/>
                  </a:lnTo>
                  <a:lnTo>
                    <a:pt x="411" y="1005"/>
                  </a:lnTo>
                  <a:lnTo>
                    <a:pt x="334" y="1043"/>
                  </a:lnTo>
                  <a:lnTo>
                    <a:pt x="242" y="1085"/>
                  </a:lnTo>
                  <a:lnTo>
                    <a:pt x="157" y="1085"/>
                  </a:lnTo>
                  <a:lnTo>
                    <a:pt x="100" y="1054"/>
                  </a:lnTo>
                  <a:lnTo>
                    <a:pt x="23" y="927"/>
                  </a:lnTo>
                  <a:lnTo>
                    <a:pt x="0" y="797"/>
                  </a:lnTo>
                  <a:lnTo>
                    <a:pt x="8" y="628"/>
                  </a:lnTo>
                  <a:lnTo>
                    <a:pt x="65" y="415"/>
                  </a:lnTo>
                  <a:lnTo>
                    <a:pt x="123" y="277"/>
                  </a:lnTo>
                  <a:lnTo>
                    <a:pt x="208" y="1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 rot="21255000">
              <a:off x="779760" y="2522160"/>
              <a:ext cx="281520" cy="179640"/>
            </a:xfrm>
            <a:custGeom>
              <a:avLst/>
              <a:gdLst/>
              <a:ahLst/>
              <a:rect l="l" t="t" r="r" b="b"/>
              <a:pathLst>
                <a:path w="782" h="808">
                  <a:moveTo>
                    <a:pt x="0" y="76"/>
                  </a:moveTo>
                  <a:lnTo>
                    <a:pt x="66" y="0"/>
                  </a:lnTo>
                  <a:lnTo>
                    <a:pt x="163" y="0"/>
                  </a:lnTo>
                  <a:lnTo>
                    <a:pt x="343" y="19"/>
                  </a:lnTo>
                  <a:lnTo>
                    <a:pt x="555" y="30"/>
                  </a:lnTo>
                  <a:lnTo>
                    <a:pt x="636" y="65"/>
                  </a:lnTo>
                  <a:lnTo>
                    <a:pt x="670" y="110"/>
                  </a:lnTo>
                  <a:lnTo>
                    <a:pt x="678" y="180"/>
                  </a:lnTo>
                  <a:lnTo>
                    <a:pt x="654" y="253"/>
                  </a:lnTo>
                  <a:lnTo>
                    <a:pt x="589" y="365"/>
                  </a:lnTo>
                  <a:lnTo>
                    <a:pt x="504" y="457"/>
                  </a:lnTo>
                  <a:lnTo>
                    <a:pt x="439" y="541"/>
                  </a:lnTo>
                  <a:lnTo>
                    <a:pt x="412" y="607"/>
                  </a:lnTo>
                  <a:lnTo>
                    <a:pt x="393" y="653"/>
                  </a:lnTo>
                  <a:lnTo>
                    <a:pt x="400" y="689"/>
                  </a:lnTo>
                  <a:lnTo>
                    <a:pt x="405" y="711"/>
                  </a:lnTo>
                  <a:lnTo>
                    <a:pt x="482" y="711"/>
                  </a:lnTo>
                  <a:lnTo>
                    <a:pt x="601" y="692"/>
                  </a:lnTo>
                  <a:lnTo>
                    <a:pt x="678" y="692"/>
                  </a:lnTo>
                  <a:lnTo>
                    <a:pt x="758" y="723"/>
                  </a:lnTo>
                  <a:lnTo>
                    <a:pt x="782" y="761"/>
                  </a:lnTo>
                  <a:lnTo>
                    <a:pt x="758" y="796"/>
                  </a:lnTo>
                  <a:lnTo>
                    <a:pt x="724" y="808"/>
                  </a:lnTo>
                  <a:lnTo>
                    <a:pt x="670" y="792"/>
                  </a:lnTo>
                  <a:lnTo>
                    <a:pt x="597" y="749"/>
                  </a:lnTo>
                  <a:lnTo>
                    <a:pt x="520" y="757"/>
                  </a:lnTo>
                  <a:lnTo>
                    <a:pt x="393" y="780"/>
                  </a:lnTo>
                  <a:lnTo>
                    <a:pt x="355" y="773"/>
                  </a:lnTo>
                  <a:lnTo>
                    <a:pt x="335" y="746"/>
                  </a:lnTo>
                  <a:lnTo>
                    <a:pt x="335" y="681"/>
                  </a:lnTo>
                  <a:lnTo>
                    <a:pt x="335" y="588"/>
                  </a:lnTo>
                  <a:lnTo>
                    <a:pt x="389" y="518"/>
                  </a:lnTo>
                  <a:lnTo>
                    <a:pt x="470" y="414"/>
                  </a:lnTo>
                  <a:lnTo>
                    <a:pt x="540" y="323"/>
                  </a:lnTo>
                  <a:lnTo>
                    <a:pt x="586" y="253"/>
                  </a:lnTo>
                  <a:lnTo>
                    <a:pt x="609" y="192"/>
                  </a:lnTo>
                  <a:lnTo>
                    <a:pt x="597" y="157"/>
                  </a:lnTo>
                  <a:lnTo>
                    <a:pt x="566" y="115"/>
                  </a:lnTo>
                  <a:lnTo>
                    <a:pt x="520" y="103"/>
                  </a:lnTo>
                  <a:lnTo>
                    <a:pt x="470" y="103"/>
                  </a:lnTo>
                  <a:lnTo>
                    <a:pt x="358" y="103"/>
                  </a:lnTo>
                  <a:lnTo>
                    <a:pt x="193" y="134"/>
                  </a:lnTo>
                  <a:lnTo>
                    <a:pt x="70" y="146"/>
                  </a:lnTo>
                  <a:lnTo>
                    <a:pt x="20" y="134"/>
                  </a:lnTo>
                  <a:lnTo>
                    <a:pt x="0" y="11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 rot="19838400">
              <a:off x="390960" y="2578320"/>
              <a:ext cx="401760" cy="158400"/>
            </a:xfrm>
            <a:custGeom>
              <a:avLst/>
              <a:gdLst/>
              <a:ahLst/>
              <a:rect l="l" t="t" r="r" b="b"/>
              <a:pathLst>
                <a:path w="992" h="770">
                  <a:moveTo>
                    <a:pt x="808" y="320"/>
                  </a:moveTo>
                  <a:lnTo>
                    <a:pt x="823" y="219"/>
                  </a:lnTo>
                  <a:lnTo>
                    <a:pt x="881" y="181"/>
                  </a:lnTo>
                  <a:lnTo>
                    <a:pt x="950" y="174"/>
                  </a:lnTo>
                  <a:lnTo>
                    <a:pt x="992" y="219"/>
                  </a:lnTo>
                  <a:lnTo>
                    <a:pt x="973" y="308"/>
                  </a:lnTo>
                  <a:lnTo>
                    <a:pt x="935" y="427"/>
                  </a:lnTo>
                  <a:lnTo>
                    <a:pt x="857" y="562"/>
                  </a:lnTo>
                  <a:lnTo>
                    <a:pt x="761" y="677"/>
                  </a:lnTo>
                  <a:lnTo>
                    <a:pt x="681" y="739"/>
                  </a:lnTo>
                  <a:lnTo>
                    <a:pt x="592" y="770"/>
                  </a:lnTo>
                  <a:lnTo>
                    <a:pt x="507" y="759"/>
                  </a:lnTo>
                  <a:lnTo>
                    <a:pt x="442" y="723"/>
                  </a:lnTo>
                  <a:lnTo>
                    <a:pt x="419" y="666"/>
                  </a:lnTo>
                  <a:lnTo>
                    <a:pt x="392" y="566"/>
                  </a:lnTo>
                  <a:lnTo>
                    <a:pt x="361" y="382"/>
                  </a:lnTo>
                  <a:lnTo>
                    <a:pt x="338" y="254"/>
                  </a:lnTo>
                  <a:lnTo>
                    <a:pt x="338" y="104"/>
                  </a:lnTo>
                  <a:lnTo>
                    <a:pt x="323" y="78"/>
                  </a:lnTo>
                  <a:lnTo>
                    <a:pt x="277" y="70"/>
                  </a:lnTo>
                  <a:lnTo>
                    <a:pt x="223" y="112"/>
                  </a:lnTo>
                  <a:lnTo>
                    <a:pt x="173" y="181"/>
                  </a:lnTo>
                  <a:lnTo>
                    <a:pt x="115" y="219"/>
                  </a:lnTo>
                  <a:lnTo>
                    <a:pt x="27" y="219"/>
                  </a:lnTo>
                  <a:lnTo>
                    <a:pt x="0" y="196"/>
                  </a:lnTo>
                  <a:lnTo>
                    <a:pt x="0" y="158"/>
                  </a:lnTo>
                  <a:lnTo>
                    <a:pt x="39" y="123"/>
                  </a:lnTo>
                  <a:lnTo>
                    <a:pt x="81" y="135"/>
                  </a:lnTo>
                  <a:lnTo>
                    <a:pt x="119" y="127"/>
                  </a:lnTo>
                  <a:lnTo>
                    <a:pt x="189" y="78"/>
                  </a:lnTo>
                  <a:lnTo>
                    <a:pt x="257" y="23"/>
                  </a:lnTo>
                  <a:lnTo>
                    <a:pt x="323" y="8"/>
                  </a:lnTo>
                  <a:lnTo>
                    <a:pt x="415" y="0"/>
                  </a:lnTo>
                  <a:lnTo>
                    <a:pt x="419" y="42"/>
                  </a:lnTo>
                  <a:lnTo>
                    <a:pt x="397" y="89"/>
                  </a:lnTo>
                  <a:lnTo>
                    <a:pt x="392" y="208"/>
                  </a:lnTo>
                  <a:lnTo>
                    <a:pt x="419" y="366"/>
                  </a:lnTo>
                  <a:lnTo>
                    <a:pt x="462" y="520"/>
                  </a:lnTo>
                  <a:lnTo>
                    <a:pt x="499" y="612"/>
                  </a:lnTo>
                  <a:lnTo>
                    <a:pt x="558" y="655"/>
                  </a:lnTo>
                  <a:lnTo>
                    <a:pt x="615" y="655"/>
                  </a:lnTo>
                  <a:lnTo>
                    <a:pt x="673" y="612"/>
                  </a:lnTo>
                  <a:lnTo>
                    <a:pt x="750" y="515"/>
                  </a:lnTo>
                  <a:lnTo>
                    <a:pt x="800" y="377"/>
                  </a:lnTo>
                  <a:lnTo>
                    <a:pt x="808" y="32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 rot="21255000">
              <a:off x="582840" y="2094840"/>
              <a:ext cx="164160" cy="291600"/>
            </a:xfrm>
            <a:custGeom>
              <a:avLst/>
              <a:gdLst/>
              <a:ahLst/>
              <a:rect l="l" t="t" r="r" b="b"/>
              <a:pathLst>
                <a:path w="699" h="1216">
                  <a:moveTo>
                    <a:pt x="445" y="923"/>
                  </a:moveTo>
                  <a:lnTo>
                    <a:pt x="560" y="1039"/>
                  </a:lnTo>
                  <a:lnTo>
                    <a:pt x="606" y="1039"/>
                  </a:lnTo>
                  <a:lnTo>
                    <a:pt x="684" y="1086"/>
                  </a:lnTo>
                  <a:lnTo>
                    <a:pt x="699" y="1139"/>
                  </a:lnTo>
                  <a:lnTo>
                    <a:pt x="676" y="1208"/>
                  </a:lnTo>
                  <a:lnTo>
                    <a:pt x="614" y="1216"/>
                  </a:lnTo>
                  <a:lnTo>
                    <a:pt x="537" y="1162"/>
                  </a:lnTo>
                  <a:lnTo>
                    <a:pt x="383" y="1016"/>
                  </a:lnTo>
                  <a:lnTo>
                    <a:pt x="284" y="878"/>
                  </a:lnTo>
                  <a:lnTo>
                    <a:pt x="237" y="769"/>
                  </a:lnTo>
                  <a:lnTo>
                    <a:pt x="206" y="585"/>
                  </a:lnTo>
                  <a:lnTo>
                    <a:pt x="206" y="346"/>
                  </a:lnTo>
                  <a:lnTo>
                    <a:pt x="198" y="285"/>
                  </a:lnTo>
                  <a:lnTo>
                    <a:pt x="153" y="239"/>
                  </a:lnTo>
                  <a:lnTo>
                    <a:pt x="22" y="247"/>
                  </a:lnTo>
                  <a:lnTo>
                    <a:pt x="0" y="223"/>
                  </a:lnTo>
                  <a:lnTo>
                    <a:pt x="29" y="208"/>
                  </a:lnTo>
                  <a:lnTo>
                    <a:pt x="122" y="200"/>
                  </a:lnTo>
                  <a:lnTo>
                    <a:pt x="138" y="185"/>
                  </a:lnTo>
                  <a:lnTo>
                    <a:pt x="6" y="107"/>
                  </a:lnTo>
                  <a:lnTo>
                    <a:pt x="6" y="77"/>
                  </a:lnTo>
                  <a:lnTo>
                    <a:pt x="29" y="70"/>
                  </a:lnTo>
                  <a:lnTo>
                    <a:pt x="138" y="130"/>
                  </a:lnTo>
                  <a:lnTo>
                    <a:pt x="161" y="123"/>
                  </a:lnTo>
                  <a:lnTo>
                    <a:pt x="138" y="8"/>
                  </a:lnTo>
                  <a:lnTo>
                    <a:pt x="153" y="0"/>
                  </a:lnTo>
                  <a:lnTo>
                    <a:pt x="169" y="8"/>
                  </a:lnTo>
                  <a:lnTo>
                    <a:pt x="198" y="123"/>
                  </a:lnTo>
                  <a:lnTo>
                    <a:pt x="222" y="130"/>
                  </a:lnTo>
                  <a:lnTo>
                    <a:pt x="284" y="8"/>
                  </a:lnTo>
                  <a:lnTo>
                    <a:pt x="299" y="8"/>
                  </a:lnTo>
                  <a:lnTo>
                    <a:pt x="299" y="46"/>
                  </a:lnTo>
                  <a:lnTo>
                    <a:pt x="260" y="146"/>
                  </a:lnTo>
                  <a:lnTo>
                    <a:pt x="260" y="200"/>
                  </a:lnTo>
                  <a:lnTo>
                    <a:pt x="276" y="270"/>
                  </a:lnTo>
                  <a:lnTo>
                    <a:pt x="268" y="361"/>
                  </a:lnTo>
                  <a:lnTo>
                    <a:pt x="276" y="531"/>
                  </a:lnTo>
                  <a:lnTo>
                    <a:pt x="291" y="639"/>
                  </a:lnTo>
                  <a:lnTo>
                    <a:pt x="330" y="762"/>
                  </a:lnTo>
                  <a:lnTo>
                    <a:pt x="383" y="855"/>
                  </a:lnTo>
                  <a:lnTo>
                    <a:pt x="445" y="9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 rot="21255000">
              <a:off x="779040" y="2093760"/>
              <a:ext cx="214920" cy="243360"/>
            </a:xfrm>
            <a:custGeom>
              <a:avLst/>
              <a:gdLst/>
              <a:ahLst/>
              <a:rect l="l" t="t" r="r" b="b"/>
              <a:pathLst>
                <a:path w="915" h="1139">
                  <a:moveTo>
                    <a:pt x="15" y="1008"/>
                  </a:moveTo>
                  <a:lnTo>
                    <a:pt x="0" y="1061"/>
                  </a:lnTo>
                  <a:lnTo>
                    <a:pt x="15" y="1139"/>
                  </a:lnTo>
                  <a:lnTo>
                    <a:pt x="70" y="1139"/>
                  </a:lnTo>
                  <a:lnTo>
                    <a:pt x="231" y="1108"/>
                  </a:lnTo>
                  <a:lnTo>
                    <a:pt x="408" y="1046"/>
                  </a:lnTo>
                  <a:lnTo>
                    <a:pt x="554" y="946"/>
                  </a:lnTo>
                  <a:lnTo>
                    <a:pt x="639" y="816"/>
                  </a:lnTo>
                  <a:lnTo>
                    <a:pt x="715" y="593"/>
                  </a:lnTo>
                  <a:lnTo>
                    <a:pt x="738" y="385"/>
                  </a:lnTo>
                  <a:lnTo>
                    <a:pt x="738" y="285"/>
                  </a:lnTo>
                  <a:lnTo>
                    <a:pt x="777" y="224"/>
                  </a:lnTo>
                  <a:lnTo>
                    <a:pt x="845" y="200"/>
                  </a:lnTo>
                  <a:lnTo>
                    <a:pt x="907" y="200"/>
                  </a:lnTo>
                  <a:lnTo>
                    <a:pt x="915" y="169"/>
                  </a:lnTo>
                  <a:lnTo>
                    <a:pt x="823" y="177"/>
                  </a:lnTo>
                  <a:lnTo>
                    <a:pt x="808" y="154"/>
                  </a:lnTo>
                  <a:lnTo>
                    <a:pt x="884" y="70"/>
                  </a:lnTo>
                  <a:lnTo>
                    <a:pt x="868" y="47"/>
                  </a:lnTo>
                  <a:lnTo>
                    <a:pt x="853" y="62"/>
                  </a:lnTo>
                  <a:lnTo>
                    <a:pt x="792" y="123"/>
                  </a:lnTo>
                  <a:lnTo>
                    <a:pt x="777" y="123"/>
                  </a:lnTo>
                  <a:lnTo>
                    <a:pt x="777" y="16"/>
                  </a:lnTo>
                  <a:lnTo>
                    <a:pt x="761" y="0"/>
                  </a:lnTo>
                  <a:lnTo>
                    <a:pt x="738" y="8"/>
                  </a:lnTo>
                  <a:lnTo>
                    <a:pt x="746" y="123"/>
                  </a:lnTo>
                  <a:lnTo>
                    <a:pt x="730" y="131"/>
                  </a:lnTo>
                  <a:lnTo>
                    <a:pt x="668" y="70"/>
                  </a:lnTo>
                  <a:lnTo>
                    <a:pt x="623" y="62"/>
                  </a:lnTo>
                  <a:lnTo>
                    <a:pt x="631" y="93"/>
                  </a:lnTo>
                  <a:lnTo>
                    <a:pt x="699" y="162"/>
                  </a:lnTo>
                  <a:lnTo>
                    <a:pt x="699" y="200"/>
                  </a:lnTo>
                  <a:lnTo>
                    <a:pt x="676" y="278"/>
                  </a:lnTo>
                  <a:lnTo>
                    <a:pt x="676" y="346"/>
                  </a:lnTo>
                  <a:lnTo>
                    <a:pt x="676" y="462"/>
                  </a:lnTo>
                  <a:lnTo>
                    <a:pt x="645" y="608"/>
                  </a:lnTo>
                  <a:lnTo>
                    <a:pt x="615" y="700"/>
                  </a:lnTo>
                  <a:lnTo>
                    <a:pt x="561" y="816"/>
                  </a:lnTo>
                  <a:lnTo>
                    <a:pt x="499" y="908"/>
                  </a:lnTo>
                  <a:lnTo>
                    <a:pt x="454" y="954"/>
                  </a:lnTo>
                  <a:lnTo>
                    <a:pt x="330" y="993"/>
                  </a:lnTo>
                  <a:lnTo>
                    <a:pt x="215" y="1008"/>
                  </a:lnTo>
                  <a:lnTo>
                    <a:pt x="99" y="1024"/>
                  </a:lnTo>
                  <a:lnTo>
                    <a:pt x="15" y="100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70" name=""/>
          <p:cNvGrpSpPr/>
          <p:nvPr/>
        </p:nvGrpSpPr>
        <p:grpSpPr>
          <a:xfrm>
            <a:off x="160920" y="2709000"/>
            <a:ext cx="1427760" cy="1069560"/>
            <a:chOff x="160920" y="2709000"/>
            <a:chExt cx="1427760" cy="1069560"/>
          </a:xfrm>
        </p:grpSpPr>
        <p:sp>
          <p:nvSpPr>
            <p:cNvPr id="5471" name=""/>
            <p:cNvSpPr/>
            <p:nvPr/>
          </p:nvSpPr>
          <p:spPr>
            <a:xfrm rot="2359800">
              <a:off x="268200" y="2981160"/>
              <a:ext cx="783000" cy="61920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2" name=""/>
            <p:cNvSpPr/>
            <p:nvPr/>
          </p:nvSpPr>
          <p:spPr>
            <a:xfrm rot="2359800">
              <a:off x="1046520" y="3048480"/>
              <a:ext cx="450360" cy="449640"/>
            </a:xfrm>
            <a:custGeom>
              <a:avLst/>
              <a:gdLst/>
              <a:ahLst/>
              <a:rect l="l" t="t" r="r" b="b"/>
              <a:pathLst>
                <a:path w="1312" h="1296">
                  <a:moveTo>
                    <a:pt x="592" y="160"/>
                  </a:moveTo>
                  <a:cubicBezTo>
                    <a:pt x="408" y="256"/>
                    <a:pt x="32" y="496"/>
                    <a:pt x="16" y="640"/>
                  </a:cubicBezTo>
                  <a:cubicBezTo>
                    <a:pt x="0" y="784"/>
                    <a:pt x="296" y="928"/>
                    <a:pt x="496" y="1024"/>
                  </a:cubicBezTo>
                  <a:cubicBezTo>
                    <a:pt x="696" y="1120"/>
                    <a:pt x="1120" y="1296"/>
                    <a:pt x="1216" y="1216"/>
                  </a:cubicBezTo>
                  <a:cubicBezTo>
                    <a:pt x="1312" y="1136"/>
                    <a:pt x="1088" y="736"/>
                    <a:pt x="1072" y="544"/>
                  </a:cubicBezTo>
                  <a:cubicBezTo>
                    <a:pt x="1056" y="352"/>
                    <a:pt x="1208" y="128"/>
                    <a:pt x="1120" y="64"/>
                  </a:cubicBezTo>
                  <a:cubicBezTo>
                    <a:pt x="1032" y="0"/>
                    <a:pt x="776" y="64"/>
                    <a:pt x="592" y="160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73" name=""/>
            <p:cNvGrpSpPr/>
            <p:nvPr/>
          </p:nvGrpSpPr>
          <p:grpSpPr>
            <a:xfrm>
              <a:off x="647640" y="2709000"/>
              <a:ext cx="691200" cy="740880"/>
              <a:chOff x="647640" y="2709000"/>
              <a:chExt cx="691200" cy="740880"/>
            </a:xfrm>
          </p:grpSpPr>
          <p:sp>
            <p:nvSpPr>
              <p:cNvPr id="5474" name=""/>
              <p:cNvSpPr/>
              <p:nvPr/>
            </p:nvSpPr>
            <p:spPr>
              <a:xfrm rot="21255000">
                <a:off x="995760" y="2788200"/>
                <a:ext cx="140760" cy="11664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 rot="21255000">
                <a:off x="947160" y="2934000"/>
                <a:ext cx="144720" cy="26028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 rot="21255000">
                <a:off x="1049040" y="3146760"/>
                <a:ext cx="281520" cy="17928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 rot="19838400">
                <a:off x="660240" y="3202920"/>
                <a:ext cx="402120" cy="15804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 rot="21255000">
                <a:off x="852840" y="2720160"/>
                <a:ext cx="164160" cy="29124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 rot="21255000">
                <a:off x="1048680" y="2719080"/>
                <a:ext cx="214920" cy="24300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80" name=""/>
          <p:cNvSpPr/>
          <p:nvPr/>
        </p:nvSpPr>
        <p:spPr>
          <a:xfrm>
            <a:off x="1527480" y="2803680"/>
            <a:ext cx="5175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r handled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s the length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f the 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shortest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paths to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1" name=""/>
          <p:cNvSpPr/>
          <p:nvPr/>
        </p:nvSpPr>
        <p:spPr>
          <a:xfrm>
            <a:off x="2895480" y="3886200"/>
            <a:ext cx="411480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2" name=""/>
          <p:cNvSpPr/>
          <p:nvPr/>
        </p:nvSpPr>
        <p:spPr>
          <a:xfrm>
            <a:off x="2286000" y="3946680"/>
            <a:ext cx="81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3" name=""/>
          <p:cNvSpPr/>
          <p:nvPr/>
        </p:nvSpPr>
        <p:spPr>
          <a:xfrm>
            <a:off x="4990320" y="609480"/>
            <a:ext cx="3735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s the length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f the shortest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handle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th to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84" name=""/>
          <p:cNvGrpSpPr/>
          <p:nvPr/>
        </p:nvGrpSpPr>
        <p:grpSpPr>
          <a:xfrm>
            <a:off x="4572000" y="5529240"/>
            <a:ext cx="3530160" cy="1007640"/>
            <a:chOff x="4572000" y="5529240"/>
            <a:chExt cx="3530160" cy="1007640"/>
          </a:xfrm>
        </p:grpSpPr>
        <p:sp>
          <p:nvSpPr>
            <p:cNvPr id="5485" name=""/>
            <p:cNvSpPr/>
            <p:nvPr/>
          </p:nvSpPr>
          <p:spPr>
            <a:xfrm>
              <a:off x="4572000" y="5867280"/>
              <a:ext cx="457200" cy="304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5245200" y="5529240"/>
              <a:ext cx="2856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First not handled 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node in path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87" name=""/>
          <p:cNvSpPr/>
          <p:nvPr/>
        </p:nvSpPr>
        <p:spPr>
          <a:xfrm>
            <a:off x="3733920" y="4317840"/>
            <a:ext cx="411480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5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5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5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5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8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7115040" cy="3021120"/>
          </a:xfrm>
          <a:prstGeom prst="rect">
            <a:avLst/>
          </a:prstGeom>
          <a:ln w="0">
            <a:noFill/>
          </a:ln>
        </p:spPr>
      </p:pic>
      <p:sp>
        <p:nvSpPr>
          <p:cNvPr id="5489" name=""/>
          <p:cNvSpPr/>
          <p:nvPr/>
        </p:nvSpPr>
        <p:spPr>
          <a:xfrm>
            <a:off x="7621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'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90" name=""/>
          <p:cNvGrpSpPr/>
          <p:nvPr/>
        </p:nvGrpSpPr>
        <p:grpSpPr>
          <a:xfrm>
            <a:off x="228600" y="76320"/>
            <a:ext cx="1181160" cy="1066680"/>
            <a:chOff x="228600" y="76320"/>
            <a:chExt cx="1181160" cy="1066680"/>
          </a:xfrm>
        </p:grpSpPr>
        <p:sp>
          <p:nvSpPr>
            <p:cNvPr id="5491" name=""/>
            <p:cNvSpPr/>
            <p:nvPr/>
          </p:nvSpPr>
          <p:spPr>
            <a:xfrm>
              <a:off x="228600" y="76320"/>
              <a:ext cx="1181160" cy="106668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92" name=""/>
            <p:cNvGrpSpPr/>
            <p:nvPr/>
          </p:nvGrpSpPr>
          <p:grpSpPr>
            <a:xfrm>
              <a:off x="415080" y="165240"/>
              <a:ext cx="629640" cy="860400"/>
              <a:chOff x="415080" y="165240"/>
              <a:chExt cx="629640" cy="860400"/>
            </a:xfrm>
          </p:grpSpPr>
          <p:grpSp>
            <p:nvGrpSpPr>
              <p:cNvPr id="5493" name=""/>
              <p:cNvGrpSpPr/>
              <p:nvPr/>
            </p:nvGrpSpPr>
            <p:grpSpPr>
              <a:xfrm>
                <a:off x="415080" y="165240"/>
                <a:ext cx="592560" cy="842400"/>
                <a:chOff x="415080" y="165240"/>
                <a:chExt cx="592560" cy="842400"/>
              </a:xfrm>
            </p:grpSpPr>
            <p:sp>
              <p:nvSpPr>
                <p:cNvPr id="5494" name=""/>
                <p:cNvSpPr/>
                <p:nvPr/>
              </p:nvSpPr>
              <p:spPr>
                <a:xfrm>
                  <a:off x="610560" y="307440"/>
                  <a:ext cx="102960" cy="177840"/>
                </a:xfrm>
                <a:custGeom>
                  <a:avLst/>
                  <a:gdLst/>
                  <a:ahLst/>
                  <a:rect l="l" t="t" r="r" b="b"/>
                  <a:pathLst>
                    <a:path w="434" h="514">
                      <a:moveTo>
                        <a:pt x="132" y="186"/>
                      </a:moveTo>
                      <a:lnTo>
                        <a:pt x="157" y="114"/>
                      </a:lnTo>
                      <a:lnTo>
                        <a:pt x="189" y="42"/>
                      </a:lnTo>
                      <a:lnTo>
                        <a:pt x="236" y="6"/>
                      </a:lnTo>
                      <a:lnTo>
                        <a:pt x="302" y="0"/>
                      </a:lnTo>
                      <a:lnTo>
                        <a:pt x="355" y="24"/>
                      </a:lnTo>
                      <a:lnTo>
                        <a:pt x="393" y="63"/>
                      </a:lnTo>
                      <a:lnTo>
                        <a:pt x="421" y="135"/>
                      </a:lnTo>
                      <a:lnTo>
                        <a:pt x="434" y="222"/>
                      </a:lnTo>
                      <a:lnTo>
                        <a:pt x="434" y="312"/>
                      </a:lnTo>
                      <a:lnTo>
                        <a:pt x="412" y="411"/>
                      </a:lnTo>
                      <a:lnTo>
                        <a:pt x="355" y="474"/>
                      </a:lnTo>
                      <a:lnTo>
                        <a:pt x="299" y="514"/>
                      </a:lnTo>
                      <a:lnTo>
                        <a:pt x="245" y="510"/>
                      </a:lnTo>
                      <a:lnTo>
                        <a:pt x="198" y="468"/>
                      </a:lnTo>
                      <a:lnTo>
                        <a:pt x="157" y="396"/>
                      </a:lnTo>
                      <a:lnTo>
                        <a:pt x="129" y="333"/>
                      </a:lnTo>
                      <a:lnTo>
                        <a:pt x="129" y="252"/>
                      </a:lnTo>
                      <a:lnTo>
                        <a:pt x="0" y="234"/>
                      </a:lnTo>
                      <a:lnTo>
                        <a:pt x="16" y="189"/>
                      </a:lnTo>
                      <a:lnTo>
                        <a:pt x="132" y="18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5" name=""/>
                <p:cNvSpPr/>
                <p:nvPr/>
              </p:nvSpPr>
              <p:spPr>
                <a:xfrm>
                  <a:off x="678600" y="165240"/>
                  <a:ext cx="134280" cy="398880"/>
                </a:xfrm>
                <a:custGeom>
                  <a:avLst/>
                  <a:gdLst/>
                  <a:ahLst/>
                  <a:rect l="l" t="t" r="r" b="b"/>
                  <a:pathLst>
                    <a:path w="566" h="1154">
                      <a:moveTo>
                        <a:pt x="13" y="1145"/>
                      </a:moveTo>
                      <a:lnTo>
                        <a:pt x="0" y="1088"/>
                      </a:lnTo>
                      <a:lnTo>
                        <a:pt x="31" y="1042"/>
                      </a:lnTo>
                      <a:lnTo>
                        <a:pt x="134" y="988"/>
                      </a:lnTo>
                      <a:lnTo>
                        <a:pt x="226" y="927"/>
                      </a:lnTo>
                      <a:lnTo>
                        <a:pt x="313" y="827"/>
                      </a:lnTo>
                      <a:lnTo>
                        <a:pt x="432" y="689"/>
                      </a:lnTo>
                      <a:lnTo>
                        <a:pt x="463" y="634"/>
                      </a:lnTo>
                      <a:lnTo>
                        <a:pt x="479" y="580"/>
                      </a:lnTo>
                      <a:lnTo>
                        <a:pt x="472" y="526"/>
                      </a:lnTo>
                      <a:lnTo>
                        <a:pt x="444" y="426"/>
                      </a:lnTo>
                      <a:lnTo>
                        <a:pt x="376" y="299"/>
                      </a:lnTo>
                      <a:lnTo>
                        <a:pt x="301" y="229"/>
                      </a:lnTo>
                      <a:lnTo>
                        <a:pt x="235" y="190"/>
                      </a:lnTo>
                      <a:lnTo>
                        <a:pt x="181" y="184"/>
                      </a:lnTo>
                      <a:lnTo>
                        <a:pt x="153" y="190"/>
                      </a:lnTo>
                      <a:lnTo>
                        <a:pt x="150" y="163"/>
                      </a:lnTo>
                      <a:lnTo>
                        <a:pt x="215" y="154"/>
                      </a:lnTo>
                      <a:lnTo>
                        <a:pt x="291" y="154"/>
                      </a:lnTo>
                      <a:lnTo>
                        <a:pt x="238" y="93"/>
                      </a:lnTo>
                      <a:lnTo>
                        <a:pt x="206" y="45"/>
                      </a:lnTo>
                      <a:lnTo>
                        <a:pt x="229" y="27"/>
                      </a:lnTo>
                      <a:lnTo>
                        <a:pt x="313" y="109"/>
                      </a:lnTo>
                      <a:lnTo>
                        <a:pt x="329" y="121"/>
                      </a:lnTo>
                      <a:lnTo>
                        <a:pt x="313" y="57"/>
                      </a:lnTo>
                      <a:lnTo>
                        <a:pt x="301" y="9"/>
                      </a:lnTo>
                      <a:lnTo>
                        <a:pt x="313" y="0"/>
                      </a:lnTo>
                      <a:lnTo>
                        <a:pt x="341" y="9"/>
                      </a:lnTo>
                      <a:lnTo>
                        <a:pt x="366" y="121"/>
                      </a:lnTo>
                      <a:lnTo>
                        <a:pt x="379" y="118"/>
                      </a:lnTo>
                      <a:lnTo>
                        <a:pt x="379" y="30"/>
                      </a:lnTo>
                      <a:lnTo>
                        <a:pt x="404" y="21"/>
                      </a:lnTo>
                      <a:lnTo>
                        <a:pt x="422" y="36"/>
                      </a:lnTo>
                      <a:lnTo>
                        <a:pt x="413" y="154"/>
                      </a:lnTo>
                      <a:lnTo>
                        <a:pt x="407" y="202"/>
                      </a:lnTo>
                      <a:lnTo>
                        <a:pt x="422" y="299"/>
                      </a:lnTo>
                      <a:lnTo>
                        <a:pt x="472" y="402"/>
                      </a:lnTo>
                      <a:lnTo>
                        <a:pt x="525" y="520"/>
                      </a:lnTo>
                      <a:lnTo>
                        <a:pt x="566" y="607"/>
                      </a:lnTo>
                      <a:lnTo>
                        <a:pt x="563" y="652"/>
                      </a:lnTo>
                      <a:lnTo>
                        <a:pt x="488" y="734"/>
                      </a:lnTo>
                      <a:lnTo>
                        <a:pt x="385" y="836"/>
                      </a:lnTo>
                      <a:lnTo>
                        <a:pt x="301" y="937"/>
                      </a:lnTo>
                      <a:lnTo>
                        <a:pt x="197" y="1070"/>
                      </a:lnTo>
                      <a:lnTo>
                        <a:pt x="112" y="1136"/>
                      </a:lnTo>
                      <a:lnTo>
                        <a:pt x="47" y="1154"/>
                      </a:lnTo>
                      <a:lnTo>
                        <a:pt x="13" y="1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6" name=""/>
                <p:cNvSpPr/>
                <p:nvPr/>
              </p:nvSpPr>
              <p:spPr>
                <a:xfrm>
                  <a:off x="415080" y="537120"/>
                  <a:ext cx="246240" cy="200880"/>
                </a:xfrm>
                <a:custGeom>
                  <a:avLst/>
                  <a:gdLst/>
                  <a:ahLst/>
                  <a:rect l="l" t="t" r="r" b="b"/>
                  <a:pathLst>
                    <a:path w="1037" h="581">
                      <a:moveTo>
                        <a:pt x="210" y="468"/>
                      </a:moveTo>
                      <a:lnTo>
                        <a:pt x="361" y="462"/>
                      </a:lnTo>
                      <a:lnTo>
                        <a:pt x="498" y="444"/>
                      </a:lnTo>
                      <a:lnTo>
                        <a:pt x="583" y="423"/>
                      </a:lnTo>
                      <a:lnTo>
                        <a:pt x="705" y="354"/>
                      </a:lnTo>
                      <a:lnTo>
                        <a:pt x="792" y="288"/>
                      </a:lnTo>
                      <a:lnTo>
                        <a:pt x="906" y="207"/>
                      </a:lnTo>
                      <a:lnTo>
                        <a:pt x="959" y="156"/>
                      </a:lnTo>
                      <a:lnTo>
                        <a:pt x="1000" y="120"/>
                      </a:lnTo>
                      <a:lnTo>
                        <a:pt x="1037" y="81"/>
                      </a:lnTo>
                      <a:lnTo>
                        <a:pt x="1037" y="39"/>
                      </a:lnTo>
                      <a:lnTo>
                        <a:pt x="996" y="0"/>
                      </a:lnTo>
                      <a:lnTo>
                        <a:pt x="971" y="9"/>
                      </a:lnTo>
                      <a:lnTo>
                        <a:pt x="903" y="90"/>
                      </a:lnTo>
                      <a:lnTo>
                        <a:pt x="828" y="183"/>
                      </a:lnTo>
                      <a:lnTo>
                        <a:pt x="752" y="270"/>
                      </a:lnTo>
                      <a:lnTo>
                        <a:pt x="642" y="342"/>
                      </a:lnTo>
                      <a:lnTo>
                        <a:pt x="548" y="390"/>
                      </a:lnTo>
                      <a:lnTo>
                        <a:pt x="445" y="414"/>
                      </a:lnTo>
                      <a:lnTo>
                        <a:pt x="301" y="417"/>
                      </a:lnTo>
                      <a:lnTo>
                        <a:pt x="216" y="417"/>
                      </a:lnTo>
                      <a:lnTo>
                        <a:pt x="144" y="363"/>
                      </a:lnTo>
                      <a:lnTo>
                        <a:pt x="125" y="327"/>
                      </a:lnTo>
                      <a:lnTo>
                        <a:pt x="94" y="327"/>
                      </a:lnTo>
                      <a:lnTo>
                        <a:pt x="116" y="372"/>
                      </a:lnTo>
                      <a:lnTo>
                        <a:pt x="150" y="414"/>
                      </a:lnTo>
                      <a:lnTo>
                        <a:pt x="66" y="396"/>
                      </a:lnTo>
                      <a:lnTo>
                        <a:pt x="3" y="387"/>
                      </a:lnTo>
                      <a:lnTo>
                        <a:pt x="3" y="405"/>
                      </a:lnTo>
                      <a:lnTo>
                        <a:pt x="59" y="417"/>
                      </a:lnTo>
                      <a:lnTo>
                        <a:pt x="97" y="441"/>
                      </a:lnTo>
                      <a:lnTo>
                        <a:pt x="131" y="444"/>
                      </a:lnTo>
                      <a:lnTo>
                        <a:pt x="78" y="462"/>
                      </a:lnTo>
                      <a:lnTo>
                        <a:pt x="0" y="481"/>
                      </a:lnTo>
                      <a:lnTo>
                        <a:pt x="3" y="499"/>
                      </a:lnTo>
                      <a:lnTo>
                        <a:pt x="28" y="505"/>
                      </a:lnTo>
                      <a:lnTo>
                        <a:pt x="103" y="481"/>
                      </a:lnTo>
                      <a:lnTo>
                        <a:pt x="150" y="477"/>
                      </a:lnTo>
                      <a:lnTo>
                        <a:pt x="122" y="505"/>
                      </a:lnTo>
                      <a:lnTo>
                        <a:pt x="78" y="550"/>
                      </a:lnTo>
                      <a:lnTo>
                        <a:pt x="59" y="562"/>
                      </a:lnTo>
                      <a:lnTo>
                        <a:pt x="75" y="581"/>
                      </a:lnTo>
                      <a:lnTo>
                        <a:pt x="113" y="559"/>
                      </a:lnTo>
                      <a:lnTo>
                        <a:pt x="163" y="514"/>
                      </a:lnTo>
                      <a:lnTo>
                        <a:pt x="210" y="46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7" name=""/>
                <p:cNvSpPr/>
                <p:nvPr/>
              </p:nvSpPr>
              <p:spPr>
                <a:xfrm>
                  <a:off x="641880" y="516600"/>
                  <a:ext cx="144360" cy="276480"/>
                </a:xfrm>
                <a:custGeom>
                  <a:avLst/>
                  <a:gdLst/>
                  <a:ahLst/>
                  <a:rect l="l" t="t" r="r" b="b"/>
                  <a:pathLst>
                    <a:path w="608" h="800">
                      <a:moveTo>
                        <a:pt x="38" y="90"/>
                      </a:moveTo>
                      <a:lnTo>
                        <a:pt x="63" y="27"/>
                      </a:lnTo>
                      <a:lnTo>
                        <a:pt x="104" y="0"/>
                      </a:lnTo>
                      <a:lnTo>
                        <a:pt x="141" y="0"/>
                      </a:lnTo>
                      <a:lnTo>
                        <a:pt x="179" y="18"/>
                      </a:lnTo>
                      <a:lnTo>
                        <a:pt x="216" y="54"/>
                      </a:lnTo>
                      <a:lnTo>
                        <a:pt x="235" y="117"/>
                      </a:lnTo>
                      <a:lnTo>
                        <a:pt x="245" y="180"/>
                      </a:lnTo>
                      <a:lnTo>
                        <a:pt x="263" y="243"/>
                      </a:lnTo>
                      <a:lnTo>
                        <a:pt x="298" y="312"/>
                      </a:lnTo>
                      <a:lnTo>
                        <a:pt x="357" y="384"/>
                      </a:lnTo>
                      <a:lnTo>
                        <a:pt x="415" y="432"/>
                      </a:lnTo>
                      <a:lnTo>
                        <a:pt x="499" y="468"/>
                      </a:lnTo>
                      <a:lnTo>
                        <a:pt x="571" y="522"/>
                      </a:lnTo>
                      <a:lnTo>
                        <a:pt x="608" y="577"/>
                      </a:lnTo>
                      <a:lnTo>
                        <a:pt x="602" y="622"/>
                      </a:lnTo>
                      <a:lnTo>
                        <a:pt x="593" y="676"/>
                      </a:lnTo>
                      <a:lnTo>
                        <a:pt x="565" y="712"/>
                      </a:lnTo>
                      <a:lnTo>
                        <a:pt x="518" y="757"/>
                      </a:lnTo>
                      <a:lnTo>
                        <a:pt x="449" y="790"/>
                      </a:lnTo>
                      <a:lnTo>
                        <a:pt x="396" y="800"/>
                      </a:lnTo>
                      <a:lnTo>
                        <a:pt x="320" y="784"/>
                      </a:lnTo>
                      <a:lnTo>
                        <a:pt x="251" y="748"/>
                      </a:lnTo>
                      <a:lnTo>
                        <a:pt x="179" y="694"/>
                      </a:lnTo>
                      <a:lnTo>
                        <a:pt x="129" y="631"/>
                      </a:lnTo>
                      <a:lnTo>
                        <a:pt x="82" y="550"/>
                      </a:lnTo>
                      <a:lnTo>
                        <a:pt x="44" y="456"/>
                      </a:lnTo>
                      <a:lnTo>
                        <a:pt x="19" y="375"/>
                      </a:lnTo>
                      <a:lnTo>
                        <a:pt x="7" y="297"/>
                      </a:lnTo>
                      <a:lnTo>
                        <a:pt x="0" y="189"/>
                      </a:lnTo>
                      <a:lnTo>
                        <a:pt x="19" y="117"/>
                      </a:lnTo>
                      <a:lnTo>
                        <a:pt x="38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8" name=""/>
                <p:cNvSpPr/>
                <p:nvPr/>
              </p:nvSpPr>
              <p:spPr>
                <a:xfrm>
                  <a:off x="759960" y="634680"/>
                  <a:ext cx="247680" cy="250920"/>
                </a:xfrm>
                <a:custGeom>
                  <a:avLst/>
                  <a:gdLst/>
                  <a:ahLst/>
                  <a:rect l="l" t="t" r="r" b="b"/>
                  <a:pathLst>
                    <a:path w="1043" h="726">
                      <a:moveTo>
                        <a:pt x="116" y="230"/>
                      </a:moveTo>
                      <a:lnTo>
                        <a:pt x="216" y="147"/>
                      </a:lnTo>
                      <a:lnTo>
                        <a:pt x="338" y="72"/>
                      </a:lnTo>
                      <a:lnTo>
                        <a:pt x="417" y="27"/>
                      </a:lnTo>
                      <a:lnTo>
                        <a:pt x="479" y="12"/>
                      </a:lnTo>
                      <a:lnTo>
                        <a:pt x="529" y="0"/>
                      </a:lnTo>
                      <a:lnTo>
                        <a:pt x="573" y="18"/>
                      </a:lnTo>
                      <a:lnTo>
                        <a:pt x="601" y="75"/>
                      </a:lnTo>
                      <a:lnTo>
                        <a:pt x="620" y="230"/>
                      </a:lnTo>
                      <a:lnTo>
                        <a:pt x="620" y="416"/>
                      </a:lnTo>
                      <a:lnTo>
                        <a:pt x="620" y="536"/>
                      </a:lnTo>
                      <a:lnTo>
                        <a:pt x="642" y="609"/>
                      </a:lnTo>
                      <a:lnTo>
                        <a:pt x="686" y="597"/>
                      </a:lnTo>
                      <a:lnTo>
                        <a:pt x="717" y="552"/>
                      </a:lnTo>
                      <a:lnTo>
                        <a:pt x="779" y="500"/>
                      </a:lnTo>
                      <a:lnTo>
                        <a:pt x="876" y="470"/>
                      </a:lnTo>
                      <a:lnTo>
                        <a:pt x="943" y="470"/>
                      </a:lnTo>
                      <a:lnTo>
                        <a:pt x="1043" y="488"/>
                      </a:lnTo>
                      <a:lnTo>
                        <a:pt x="1037" y="524"/>
                      </a:lnTo>
                      <a:lnTo>
                        <a:pt x="1015" y="555"/>
                      </a:lnTo>
                      <a:lnTo>
                        <a:pt x="981" y="561"/>
                      </a:lnTo>
                      <a:lnTo>
                        <a:pt x="943" y="542"/>
                      </a:lnTo>
                      <a:lnTo>
                        <a:pt x="886" y="518"/>
                      </a:lnTo>
                      <a:lnTo>
                        <a:pt x="829" y="518"/>
                      </a:lnTo>
                      <a:lnTo>
                        <a:pt x="754" y="564"/>
                      </a:lnTo>
                      <a:lnTo>
                        <a:pt x="708" y="633"/>
                      </a:lnTo>
                      <a:lnTo>
                        <a:pt x="698" y="690"/>
                      </a:lnTo>
                      <a:lnTo>
                        <a:pt x="679" y="726"/>
                      </a:lnTo>
                      <a:lnTo>
                        <a:pt x="604" y="723"/>
                      </a:lnTo>
                      <a:lnTo>
                        <a:pt x="601" y="669"/>
                      </a:lnTo>
                      <a:lnTo>
                        <a:pt x="576" y="591"/>
                      </a:lnTo>
                      <a:lnTo>
                        <a:pt x="567" y="509"/>
                      </a:lnTo>
                      <a:lnTo>
                        <a:pt x="573" y="401"/>
                      </a:lnTo>
                      <a:lnTo>
                        <a:pt x="564" y="248"/>
                      </a:lnTo>
                      <a:lnTo>
                        <a:pt x="558" y="147"/>
                      </a:lnTo>
                      <a:lnTo>
                        <a:pt x="539" y="111"/>
                      </a:lnTo>
                      <a:lnTo>
                        <a:pt x="501" y="75"/>
                      </a:lnTo>
                      <a:lnTo>
                        <a:pt x="461" y="75"/>
                      </a:lnTo>
                      <a:lnTo>
                        <a:pt x="403" y="111"/>
                      </a:lnTo>
                      <a:lnTo>
                        <a:pt x="328" y="181"/>
                      </a:lnTo>
                      <a:lnTo>
                        <a:pt x="235" y="272"/>
                      </a:lnTo>
                      <a:lnTo>
                        <a:pt x="141" y="356"/>
                      </a:lnTo>
                      <a:lnTo>
                        <a:pt x="94" y="383"/>
                      </a:lnTo>
                      <a:lnTo>
                        <a:pt x="38" y="383"/>
                      </a:lnTo>
                      <a:lnTo>
                        <a:pt x="0" y="344"/>
                      </a:lnTo>
                      <a:lnTo>
                        <a:pt x="3" y="281"/>
                      </a:lnTo>
                      <a:lnTo>
                        <a:pt x="41" y="248"/>
                      </a:lnTo>
                      <a:lnTo>
                        <a:pt x="84" y="239"/>
                      </a:lnTo>
                      <a:lnTo>
                        <a:pt x="116" y="23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9" name=""/>
                <p:cNvSpPr/>
                <p:nvPr/>
              </p:nvSpPr>
              <p:spPr>
                <a:xfrm>
                  <a:off x="746640" y="744120"/>
                  <a:ext cx="169200" cy="263520"/>
                </a:xfrm>
                <a:custGeom>
                  <a:avLst/>
                  <a:gdLst/>
                  <a:ahLst/>
                  <a:rect l="l" t="t" r="r" b="b"/>
                  <a:pathLst>
                    <a:path w="713" h="762">
                      <a:moveTo>
                        <a:pt x="0" y="64"/>
                      </a:moveTo>
                      <a:lnTo>
                        <a:pt x="22" y="16"/>
                      </a:lnTo>
                      <a:lnTo>
                        <a:pt x="69" y="0"/>
                      </a:lnTo>
                      <a:lnTo>
                        <a:pt x="134" y="7"/>
                      </a:lnTo>
                      <a:lnTo>
                        <a:pt x="150" y="52"/>
                      </a:lnTo>
                      <a:lnTo>
                        <a:pt x="125" y="227"/>
                      </a:lnTo>
                      <a:lnTo>
                        <a:pt x="122" y="360"/>
                      </a:lnTo>
                      <a:lnTo>
                        <a:pt x="116" y="435"/>
                      </a:lnTo>
                      <a:lnTo>
                        <a:pt x="116" y="450"/>
                      </a:lnTo>
                      <a:lnTo>
                        <a:pt x="131" y="524"/>
                      </a:lnTo>
                      <a:lnTo>
                        <a:pt x="172" y="536"/>
                      </a:lnTo>
                      <a:lnTo>
                        <a:pt x="225" y="524"/>
                      </a:lnTo>
                      <a:lnTo>
                        <a:pt x="303" y="481"/>
                      </a:lnTo>
                      <a:lnTo>
                        <a:pt x="387" y="460"/>
                      </a:lnTo>
                      <a:lnTo>
                        <a:pt x="482" y="444"/>
                      </a:lnTo>
                      <a:lnTo>
                        <a:pt x="585" y="432"/>
                      </a:lnTo>
                      <a:lnTo>
                        <a:pt x="660" y="432"/>
                      </a:lnTo>
                      <a:lnTo>
                        <a:pt x="694" y="441"/>
                      </a:lnTo>
                      <a:lnTo>
                        <a:pt x="713" y="463"/>
                      </a:lnTo>
                      <a:lnTo>
                        <a:pt x="704" y="496"/>
                      </a:lnTo>
                      <a:lnTo>
                        <a:pt x="657" y="524"/>
                      </a:lnTo>
                      <a:lnTo>
                        <a:pt x="613" y="563"/>
                      </a:lnTo>
                      <a:lnTo>
                        <a:pt x="572" y="618"/>
                      </a:lnTo>
                      <a:lnTo>
                        <a:pt x="547" y="663"/>
                      </a:lnTo>
                      <a:lnTo>
                        <a:pt x="526" y="708"/>
                      </a:lnTo>
                      <a:lnTo>
                        <a:pt x="510" y="762"/>
                      </a:lnTo>
                      <a:lnTo>
                        <a:pt x="488" y="762"/>
                      </a:lnTo>
                      <a:lnTo>
                        <a:pt x="469" y="741"/>
                      </a:lnTo>
                      <a:lnTo>
                        <a:pt x="462" y="681"/>
                      </a:lnTo>
                      <a:lnTo>
                        <a:pt x="507" y="627"/>
                      </a:lnTo>
                      <a:lnTo>
                        <a:pt x="566" y="563"/>
                      </a:lnTo>
                      <a:lnTo>
                        <a:pt x="622" y="515"/>
                      </a:lnTo>
                      <a:lnTo>
                        <a:pt x="647" y="499"/>
                      </a:lnTo>
                      <a:lnTo>
                        <a:pt x="657" y="478"/>
                      </a:lnTo>
                      <a:lnTo>
                        <a:pt x="632" y="463"/>
                      </a:lnTo>
                      <a:lnTo>
                        <a:pt x="547" y="463"/>
                      </a:lnTo>
                      <a:lnTo>
                        <a:pt x="440" y="481"/>
                      </a:lnTo>
                      <a:lnTo>
                        <a:pt x="356" y="509"/>
                      </a:lnTo>
                      <a:lnTo>
                        <a:pt x="265" y="560"/>
                      </a:lnTo>
                      <a:lnTo>
                        <a:pt x="187" y="596"/>
                      </a:lnTo>
                      <a:lnTo>
                        <a:pt x="103" y="599"/>
                      </a:lnTo>
                      <a:lnTo>
                        <a:pt x="69" y="587"/>
                      </a:lnTo>
                      <a:lnTo>
                        <a:pt x="50" y="542"/>
                      </a:lnTo>
                      <a:lnTo>
                        <a:pt x="37" y="478"/>
                      </a:lnTo>
                      <a:lnTo>
                        <a:pt x="31" y="360"/>
                      </a:lnTo>
                      <a:lnTo>
                        <a:pt x="19" y="151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0" name=""/>
              <p:cNvGrpSpPr/>
              <p:nvPr/>
            </p:nvGrpSpPr>
            <p:grpSpPr>
              <a:xfrm>
                <a:off x="942480" y="722520"/>
                <a:ext cx="102240" cy="303120"/>
                <a:chOff x="942480" y="722520"/>
                <a:chExt cx="102240" cy="303120"/>
              </a:xfrm>
            </p:grpSpPr>
            <p:sp>
              <p:nvSpPr>
                <p:cNvPr id="5501" name=""/>
                <p:cNvSpPr/>
                <p:nvPr/>
              </p:nvSpPr>
              <p:spPr>
                <a:xfrm>
                  <a:off x="964080" y="891360"/>
                  <a:ext cx="80640" cy="37440"/>
                </a:xfrm>
                <a:custGeom>
                  <a:avLst/>
                  <a:gdLst/>
                  <a:ahLst/>
                  <a:rect l="l" t="t" r="r" b="b"/>
                  <a:pathLst>
                    <a:path w="340" h="109">
                      <a:moveTo>
                        <a:pt x="340" y="109"/>
                      </a:moveTo>
                      <a:lnTo>
                        <a:pt x="165" y="30"/>
                      </a:lnTo>
                      <a:lnTo>
                        <a:pt x="48" y="0"/>
                      </a:lnTo>
                      <a:lnTo>
                        <a:pt x="10" y="0"/>
                      </a:lnTo>
                      <a:lnTo>
                        <a:pt x="0" y="27"/>
                      </a:lnTo>
                      <a:lnTo>
                        <a:pt x="22" y="48"/>
                      </a:lnTo>
                      <a:lnTo>
                        <a:pt x="70" y="54"/>
                      </a:lnTo>
                      <a:lnTo>
                        <a:pt x="184" y="75"/>
                      </a:lnTo>
                      <a:lnTo>
                        <a:pt x="340" y="10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2" name=""/>
                <p:cNvSpPr/>
                <p:nvPr/>
              </p:nvSpPr>
              <p:spPr>
                <a:xfrm>
                  <a:off x="942480" y="925200"/>
                  <a:ext cx="22680" cy="100440"/>
                </a:xfrm>
                <a:custGeom>
                  <a:avLst/>
                  <a:gdLst/>
                  <a:ahLst/>
                  <a:rect l="l" t="t" r="r" b="b"/>
                  <a:pathLst>
                    <a:path w="97" h="291">
                      <a:moveTo>
                        <a:pt x="97" y="291"/>
                      </a:moveTo>
                      <a:lnTo>
                        <a:pt x="94" y="148"/>
                      </a:lnTo>
                      <a:lnTo>
                        <a:pt x="69" y="39"/>
                      </a:lnTo>
                      <a:lnTo>
                        <a:pt x="41" y="0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54"/>
                      </a:lnTo>
                      <a:lnTo>
                        <a:pt x="47" y="184"/>
                      </a:lnTo>
                      <a:lnTo>
                        <a:pt x="97" y="29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3" name=""/>
                <p:cNvSpPr/>
                <p:nvPr/>
              </p:nvSpPr>
              <p:spPr>
                <a:xfrm>
                  <a:off x="975600" y="722520"/>
                  <a:ext cx="50760" cy="38160"/>
                </a:xfrm>
                <a:custGeom>
                  <a:avLst/>
                  <a:gdLst/>
                  <a:ahLst/>
                  <a:rect l="l" t="t" r="r" b="b"/>
                  <a:pathLst>
                    <a:path w="214" h="111">
                      <a:moveTo>
                        <a:pt x="0" y="72"/>
                      </a:moveTo>
                      <a:lnTo>
                        <a:pt x="42" y="30"/>
                      </a:lnTo>
                      <a:lnTo>
                        <a:pt x="100" y="3"/>
                      </a:lnTo>
                      <a:lnTo>
                        <a:pt x="166" y="0"/>
                      </a:lnTo>
                      <a:lnTo>
                        <a:pt x="214" y="9"/>
                      </a:lnTo>
                      <a:lnTo>
                        <a:pt x="138" y="18"/>
                      </a:lnTo>
                      <a:lnTo>
                        <a:pt x="109" y="36"/>
                      </a:lnTo>
                      <a:lnTo>
                        <a:pt x="81" y="63"/>
                      </a:lnTo>
                      <a:lnTo>
                        <a:pt x="68" y="93"/>
                      </a:lnTo>
                      <a:lnTo>
                        <a:pt x="42" y="111"/>
                      </a:lnTo>
                      <a:lnTo>
                        <a:pt x="1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504" name=""/>
          <p:cNvSpPr/>
          <p:nvPr/>
        </p:nvSpPr>
        <p:spPr>
          <a:xfrm>
            <a:off x="413640" y="609480"/>
            <a:ext cx="3904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r handled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3000"/>
            </a:b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s the length of the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hortest paths to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5" name=""/>
          <p:cNvSpPr/>
          <p:nvPr/>
        </p:nvSpPr>
        <p:spPr>
          <a:xfrm>
            <a:off x="1095480" y="2179800"/>
            <a:ext cx="505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andle node with smallest </a:t>
            </a: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06" name=""/>
          <p:cNvGrpSpPr/>
          <p:nvPr/>
        </p:nvGrpSpPr>
        <p:grpSpPr>
          <a:xfrm>
            <a:off x="378000" y="2083680"/>
            <a:ext cx="691560" cy="741240"/>
            <a:chOff x="378000" y="2083680"/>
            <a:chExt cx="691560" cy="741240"/>
          </a:xfrm>
        </p:grpSpPr>
        <p:sp>
          <p:nvSpPr>
            <p:cNvPr id="5507" name=""/>
            <p:cNvSpPr/>
            <p:nvPr/>
          </p:nvSpPr>
          <p:spPr>
            <a:xfrm rot="21255000">
              <a:off x="726120" y="2163240"/>
              <a:ext cx="140760" cy="116640"/>
            </a:xfrm>
            <a:custGeom>
              <a:avLst/>
              <a:gdLst/>
              <a:ahLst/>
              <a:rect l="l" t="t" r="r" b="b"/>
              <a:pathLst>
                <a:path w="600" h="608">
                  <a:moveTo>
                    <a:pt x="388" y="289"/>
                  </a:moveTo>
                  <a:lnTo>
                    <a:pt x="372" y="177"/>
                  </a:lnTo>
                  <a:lnTo>
                    <a:pt x="341" y="78"/>
                  </a:lnTo>
                  <a:lnTo>
                    <a:pt x="284" y="24"/>
                  </a:lnTo>
                  <a:lnTo>
                    <a:pt x="185" y="0"/>
                  </a:lnTo>
                  <a:lnTo>
                    <a:pt x="100" y="24"/>
                  </a:lnTo>
                  <a:lnTo>
                    <a:pt x="19" y="123"/>
                  </a:lnTo>
                  <a:lnTo>
                    <a:pt x="0" y="243"/>
                  </a:lnTo>
                  <a:lnTo>
                    <a:pt x="19" y="370"/>
                  </a:lnTo>
                  <a:lnTo>
                    <a:pt x="50" y="447"/>
                  </a:lnTo>
                  <a:lnTo>
                    <a:pt x="88" y="528"/>
                  </a:lnTo>
                  <a:lnTo>
                    <a:pt x="130" y="582"/>
                  </a:lnTo>
                  <a:lnTo>
                    <a:pt x="177" y="608"/>
                  </a:lnTo>
                  <a:lnTo>
                    <a:pt x="242" y="585"/>
                  </a:lnTo>
                  <a:lnTo>
                    <a:pt x="307" y="531"/>
                  </a:lnTo>
                  <a:lnTo>
                    <a:pt x="349" y="455"/>
                  </a:lnTo>
                  <a:lnTo>
                    <a:pt x="388" y="390"/>
                  </a:lnTo>
                  <a:lnTo>
                    <a:pt x="400" y="351"/>
                  </a:lnTo>
                  <a:lnTo>
                    <a:pt x="565" y="293"/>
                  </a:lnTo>
                  <a:lnTo>
                    <a:pt x="600" y="270"/>
                  </a:lnTo>
                  <a:lnTo>
                    <a:pt x="580" y="235"/>
                  </a:lnTo>
                  <a:lnTo>
                    <a:pt x="388" y="28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 rot="21255000">
              <a:off x="677880" y="2308680"/>
              <a:ext cx="144720" cy="260640"/>
            </a:xfrm>
            <a:custGeom>
              <a:avLst/>
              <a:gdLst/>
              <a:ahLst/>
              <a:rect l="l" t="t" r="r" b="b"/>
              <a:pathLst>
                <a:path w="619" h="1085">
                  <a:moveTo>
                    <a:pt x="208" y="161"/>
                  </a:moveTo>
                  <a:lnTo>
                    <a:pt x="284" y="80"/>
                  </a:lnTo>
                  <a:lnTo>
                    <a:pt x="411" y="3"/>
                  </a:lnTo>
                  <a:lnTo>
                    <a:pt x="469" y="0"/>
                  </a:lnTo>
                  <a:lnTo>
                    <a:pt x="573" y="34"/>
                  </a:lnTo>
                  <a:lnTo>
                    <a:pt x="619" y="85"/>
                  </a:lnTo>
                  <a:lnTo>
                    <a:pt x="619" y="161"/>
                  </a:lnTo>
                  <a:lnTo>
                    <a:pt x="542" y="304"/>
                  </a:lnTo>
                  <a:lnTo>
                    <a:pt x="458" y="415"/>
                  </a:lnTo>
                  <a:lnTo>
                    <a:pt x="422" y="508"/>
                  </a:lnTo>
                  <a:lnTo>
                    <a:pt x="399" y="615"/>
                  </a:lnTo>
                  <a:lnTo>
                    <a:pt x="422" y="719"/>
                  </a:lnTo>
                  <a:lnTo>
                    <a:pt x="445" y="820"/>
                  </a:lnTo>
                  <a:lnTo>
                    <a:pt x="445" y="935"/>
                  </a:lnTo>
                  <a:lnTo>
                    <a:pt x="411" y="1005"/>
                  </a:lnTo>
                  <a:lnTo>
                    <a:pt x="334" y="1043"/>
                  </a:lnTo>
                  <a:lnTo>
                    <a:pt x="242" y="1085"/>
                  </a:lnTo>
                  <a:lnTo>
                    <a:pt x="157" y="1085"/>
                  </a:lnTo>
                  <a:lnTo>
                    <a:pt x="100" y="1054"/>
                  </a:lnTo>
                  <a:lnTo>
                    <a:pt x="23" y="927"/>
                  </a:lnTo>
                  <a:lnTo>
                    <a:pt x="0" y="797"/>
                  </a:lnTo>
                  <a:lnTo>
                    <a:pt x="8" y="628"/>
                  </a:lnTo>
                  <a:lnTo>
                    <a:pt x="65" y="415"/>
                  </a:lnTo>
                  <a:lnTo>
                    <a:pt x="123" y="277"/>
                  </a:lnTo>
                  <a:lnTo>
                    <a:pt x="208" y="1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 rot="21255000">
              <a:off x="779760" y="2522160"/>
              <a:ext cx="281520" cy="179640"/>
            </a:xfrm>
            <a:custGeom>
              <a:avLst/>
              <a:gdLst/>
              <a:ahLst/>
              <a:rect l="l" t="t" r="r" b="b"/>
              <a:pathLst>
                <a:path w="782" h="808">
                  <a:moveTo>
                    <a:pt x="0" y="76"/>
                  </a:moveTo>
                  <a:lnTo>
                    <a:pt x="66" y="0"/>
                  </a:lnTo>
                  <a:lnTo>
                    <a:pt x="163" y="0"/>
                  </a:lnTo>
                  <a:lnTo>
                    <a:pt x="343" y="19"/>
                  </a:lnTo>
                  <a:lnTo>
                    <a:pt x="555" y="30"/>
                  </a:lnTo>
                  <a:lnTo>
                    <a:pt x="636" y="65"/>
                  </a:lnTo>
                  <a:lnTo>
                    <a:pt x="670" y="110"/>
                  </a:lnTo>
                  <a:lnTo>
                    <a:pt x="678" y="180"/>
                  </a:lnTo>
                  <a:lnTo>
                    <a:pt x="654" y="253"/>
                  </a:lnTo>
                  <a:lnTo>
                    <a:pt x="589" y="365"/>
                  </a:lnTo>
                  <a:lnTo>
                    <a:pt x="504" y="457"/>
                  </a:lnTo>
                  <a:lnTo>
                    <a:pt x="439" y="541"/>
                  </a:lnTo>
                  <a:lnTo>
                    <a:pt x="412" y="607"/>
                  </a:lnTo>
                  <a:lnTo>
                    <a:pt x="393" y="653"/>
                  </a:lnTo>
                  <a:lnTo>
                    <a:pt x="400" y="689"/>
                  </a:lnTo>
                  <a:lnTo>
                    <a:pt x="405" y="711"/>
                  </a:lnTo>
                  <a:lnTo>
                    <a:pt x="482" y="711"/>
                  </a:lnTo>
                  <a:lnTo>
                    <a:pt x="601" y="692"/>
                  </a:lnTo>
                  <a:lnTo>
                    <a:pt x="678" y="692"/>
                  </a:lnTo>
                  <a:lnTo>
                    <a:pt x="758" y="723"/>
                  </a:lnTo>
                  <a:lnTo>
                    <a:pt x="782" y="761"/>
                  </a:lnTo>
                  <a:lnTo>
                    <a:pt x="758" y="796"/>
                  </a:lnTo>
                  <a:lnTo>
                    <a:pt x="724" y="808"/>
                  </a:lnTo>
                  <a:lnTo>
                    <a:pt x="670" y="792"/>
                  </a:lnTo>
                  <a:lnTo>
                    <a:pt x="597" y="749"/>
                  </a:lnTo>
                  <a:lnTo>
                    <a:pt x="520" y="757"/>
                  </a:lnTo>
                  <a:lnTo>
                    <a:pt x="393" y="780"/>
                  </a:lnTo>
                  <a:lnTo>
                    <a:pt x="355" y="773"/>
                  </a:lnTo>
                  <a:lnTo>
                    <a:pt x="335" y="746"/>
                  </a:lnTo>
                  <a:lnTo>
                    <a:pt x="335" y="681"/>
                  </a:lnTo>
                  <a:lnTo>
                    <a:pt x="335" y="588"/>
                  </a:lnTo>
                  <a:lnTo>
                    <a:pt x="389" y="518"/>
                  </a:lnTo>
                  <a:lnTo>
                    <a:pt x="470" y="414"/>
                  </a:lnTo>
                  <a:lnTo>
                    <a:pt x="540" y="323"/>
                  </a:lnTo>
                  <a:lnTo>
                    <a:pt x="586" y="253"/>
                  </a:lnTo>
                  <a:lnTo>
                    <a:pt x="609" y="192"/>
                  </a:lnTo>
                  <a:lnTo>
                    <a:pt x="597" y="157"/>
                  </a:lnTo>
                  <a:lnTo>
                    <a:pt x="566" y="115"/>
                  </a:lnTo>
                  <a:lnTo>
                    <a:pt x="520" y="103"/>
                  </a:lnTo>
                  <a:lnTo>
                    <a:pt x="470" y="103"/>
                  </a:lnTo>
                  <a:lnTo>
                    <a:pt x="358" y="103"/>
                  </a:lnTo>
                  <a:lnTo>
                    <a:pt x="193" y="134"/>
                  </a:lnTo>
                  <a:lnTo>
                    <a:pt x="70" y="146"/>
                  </a:lnTo>
                  <a:lnTo>
                    <a:pt x="20" y="134"/>
                  </a:lnTo>
                  <a:lnTo>
                    <a:pt x="0" y="11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 rot="19838400">
              <a:off x="390960" y="2578320"/>
              <a:ext cx="401760" cy="158400"/>
            </a:xfrm>
            <a:custGeom>
              <a:avLst/>
              <a:gdLst/>
              <a:ahLst/>
              <a:rect l="l" t="t" r="r" b="b"/>
              <a:pathLst>
                <a:path w="992" h="770">
                  <a:moveTo>
                    <a:pt x="808" y="320"/>
                  </a:moveTo>
                  <a:lnTo>
                    <a:pt x="823" y="219"/>
                  </a:lnTo>
                  <a:lnTo>
                    <a:pt x="881" y="181"/>
                  </a:lnTo>
                  <a:lnTo>
                    <a:pt x="950" y="174"/>
                  </a:lnTo>
                  <a:lnTo>
                    <a:pt x="992" y="219"/>
                  </a:lnTo>
                  <a:lnTo>
                    <a:pt x="973" y="308"/>
                  </a:lnTo>
                  <a:lnTo>
                    <a:pt x="935" y="427"/>
                  </a:lnTo>
                  <a:lnTo>
                    <a:pt x="857" y="562"/>
                  </a:lnTo>
                  <a:lnTo>
                    <a:pt x="761" y="677"/>
                  </a:lnTo>
                  <a:lnTo>
                    <a:pt x="681" y="739"/>
                  </a:lnTo>
                  <a:lnTo>
                    <a:pt x="592" y="770"/>
                  </a:lnTo>
                  <a:lnTo>
                    <a:pt x="507" y="759"/>
                  </a:lnTo>
                  <a:lnTo>
                    <a:pt x="442" y="723"/>
                  </a:lnTo>
                  <a:lnTo>
                    <a:pt x="419" y="666"/>
                  </a:lnTo>
                  <a:lnTo>
                    <a:pt x="392" y="566"/>
                  </a:lnTo>
                  <a:lnTo>
                    <a:pt x="361" y="382"/>
                  </a:lnTo>
                  <a:lnTo>
                    <a:pt x="338" y="254"/>
                  </a:lnTo>
                  <a:lnTo>
                    <a:pt x="338" y="104"/>
                  </a:lnTo>
                  <a:lnTo>
                    <a:pt x="323" y="78"/>
                  </a:lnTo>
                  <a:lnTo>
                    <a:pt x="277" y="70"/>
                  </a:lnTo>
                  <a:lnTo>
                    <a:pt x="223" y="112"/>
                  </a:lnTo>
                  <a:lnTo>
                    <a:pt x="173" y="181"/>
                  </a:lnTo>
                  <a:lnTo>
                    <a:pt x="115" y="219"/>
                  </a:lnTo>
                  <a:lnTo>
                    <a:pt x="27" y="219"/>
                  </a:lnTo>
                  <a:lnTo>
                    <a:pt x="0" y="196"/>
                  </a:lnTo>
                  <a:lnTo>
                    <a:pt x="0" y="158"/>
                  </a:lnTo>
                  <a:lnTo>
                    <a:pt x="39" y="123"/>
                  </a:lnTo>
                  <a:lnTo>
                    <a:pt x="81" y="135"/>
                  </a:lnTo>
                  <a:lnTo>
                    <a:pt x="119" y="127"/>
                  </a:lnTo>
                  <a:lnTo>
                    <a:pt x="189" y="78"/>
                  </a:lnTo>
                  <a:lnTo>
                    <a:pt x="257" y="23"/>
                  </a:lnTo>
                  <a:lnTo>
                    <a:pt x="323" y="8"/>
                  </a:lnTo>
                  <a:lnTo>
                    <a:pt x="415" y="0"/>
                  </a:lnTo>
                  <a:lnTo>
                    <a:pt x="419" y="42"/>
                  </a:lnTo>
                  <a:lnTo>
                    <a:pt x="397" y="89"/>
                  </a:lnTo>
                  <a:lnTo>
                    <a:pt x="392" y="208"/>
                  </a:lnTo>
                  <a:lnTo>
                    <a:pt x="419" y="366"/>
                  </a:lnTo>
                  <a:lnTo>
                    <a:pt x="462" y="520"/>
                  </a:lnTo>
                  <a:lnTo>
                    <a:pt x="499" y="612"/>
                  </a:lnTo>
                  <a:lnTo>
                    <a:pt x="558" y="655"/>
                  </a:lnTo>
                  <a:lnTo>
                    <a:pt x="615" y="655"/>
                  </a:lnTo>
                  <a:lnTo>
                    <a:pt x="673" y="612"/>
                  </a:lnTo>
                  <a:lnTo>
                    <a:pt x="750" y="515"/>
                  </a:lnTo>
                  <a:lnTo>
                    <a:pt x="800" y="377"/>
                  </a:lnTo>
                  <a:lnTo>
                    <a:pt x="808" y="32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1" name=""/>
            <p:cNvSpPr/>
            <p:nvPr/>
          </p:nvSpPr>
          <p:spPr>
            <a:xfrm rot="21255000">
              <a:off x="582840" y="2094840"/>
              <a:ext cx="164160" cy="291600"/>
            </a:xfrm>
            <a:custGeom>
              <a:avLst/>
              <a:gdLst/>
              <a:ahLst/>
              <a:rect l="l" t="t" r="r" b="b"/>
              <a:pathLst>
                <a:path w="699" h="1216">
                  <a:moveTo>
                    <a:pt x="445" y="923"/>
                  </a:moveTo>
                  <a:lnTo>
                    <a:pt x="560" y="1039"/>
                  </a:lnTo>
                  <a:lnTo>
                    <a:pt x="606" y="1039"/>
                  </a:lnTo>
                  <a:lnTo>
                    <a:pt x="684" y="1086"/>
                  </a:lnTo>
                  <a:lnTo>
                    <a:pt x="699" y="1139"/>
                  </a:lnTo>
                  <a:lnTo>
                    <a:pt x="676" y="1208"/>
                  </a:lnTo>
                  <a:lnTo>
                    <a:pt x="614" y="1216"/>
                  </a:lnTo>
                  <a:lnTo>
                    <a:pt x="537" y="1162"/>
                  </a:lnTo>
                  <a:lnTo>
                    <a:pt x="383" y="1016"/>
                  </a:lnTo>
                  <a:lnTo>
                    <a:pt x="284" y="878"/>
                  </a:lnTo>
                  <a:lnTo>
                    <a:pt x="237" y="769"/>
                  </a:lnTo>
                  <a:lnTo>
                    <a:pt x="206" y="585"/>
                  </a:lnTo>
                  <a:lnTo>
                    <a:pt x="206" y="346"/>
                  </a:lnTo>
                  <a:lnTo>
                    <a:pt x="198" y="285"/>
                  </a:lnTo>
                  <a:lnTo>
                    <a:pt x="153" y="239"/>
                  </a:lnTo>
                  <a:lnTo>
                    <a:pt x="22" y="247"/>
                  </a:lnTo>
                  <a:lnTo>
                    <a:pt x="0" y="223"/>
                  </a:lnTo>
                  <a:lnTo>
                    <a:pt x="29" y="208"/>
                  </a:lnTo>
                  <a:lnTo>
                    <a:pt x="122" y="200"/>
                  </a:lnTo>
                  <a:lnTo>
                    <a:pt x="138" y="185"/>
                  </a:lnTo>
                  <a:lnTo>
                    <a:pt x="6" y="107"/>
                  </a:lnTo>
                  <a:lnTo>
                    <a:pt x="6" y="77"/>
                  </a:lnTo>
                  <a:lnTo>
                    <a:pt x="29" y="70"/>
                  </a:lnTo>
                  <a:lnTo>
                    <a:pt x="138" y="130"/>
                  </a:lnTo>
                  <a:lnTo>
                    <a:pt x="161" y="123"/>
                  </a:lnTo>
                  <a:lnTo>
                    <a:pt x="138" y="8"/>
                  </a:lnTo>
                  <a:lnTo>
                    <a:pt x="153" y="0"/>
                  </a:lnTo>
                  <a:lnTo>
                    <a:pt x="169" y="8"/>
                  </a:lnTo>
                  <a:lnTo>
                    <a:pt x="198" y="123"/>
                  </a:lnTo>
                  <a:lnTo>
                    <a:pt x="222" y="130"/>
                  </a:lnTo>
                  <a:lnTo>
                    <a:pt x="284" y="8"/>
                  </a:lnTo>
                  <a:lnTo>
                    <a:pt x="299" y="8"/>
                  </a:lnTo>
                  <a:lnTo>
                    <a:pt x="299" y="46"/>
                  </a:lnTo>
                  <a:lnTo>
                    <a:pt x="260" y="146"/>
                  </a:lnTo>
                  <a:lnTo>
                    <a:pt x="260" y="200"/>
                  </a:lnTo>
                  <a:lnTo>
                    <a:pt x="276" y="270"/>
                  </a:lnTo>
                  <a:lnTo>
                    <a:pt x="268" y="361"/>
                  </a:lnTo>
                  <a:lnTo>
                    <a:pt x="276" y="531"/>
                  </a:lnTo>
                  <a:lnTo>
                    <a:pt x="291" y="639"/>
                  </a:lnTo>
                  <a:lnTo>
                    <a:pt x="330" y="762"/>
                  </a:lnTo>
                  <a:lnTo>
                    <a:pt x="383" y="855"/>
                  </a:lnTo>
                  <a:lnTo>
                    <a:pt x="445" y="9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2" name=""/>
            <p:cNvSpPr/>
            <p:nvPr/>
          </p:nvSpPr>
          <p:spPr>
            <a:xfrm rot="21255000">
              <a:off x="779040" y="2093760"/>
              <a:ext cx="214920" cy="243360"/>
            </a:xfrm>
            <a:custGeom>
              <a:avLst/>
              <a:gdLst/>
              <a:ahLst/>
              <a:rect l="l" t="t" r="r" b="b"/>
              <a:pathLst>
                <a:path w="915" h="1139">
                  <a:moveTo>
                    <a:pt x="15" y="1008"/>
                  </a:moveTo>
                  <a:lnTo>
                    <a:pt x="0" y="1061"/>
                  </a:lnTo>
                  <a:lnTo>
                    <a:pt x="15" y="1139"/>
                  </a:lnTo>
                  <a:lnTo>
                    <a:pt x="70" y="1139"/>
                  </a:lnTo>
                  <a:lnTo>
                    <a:pt x="231" y="1108"/>
                  </a:lnTo>
                  <a:lnTo>
                    <a:pt x="408" y="1046"/>
                  </a:lnTo>
                  <a:lnTo>
                    <a:pt x="554" y="946"/>
                  </a:lnTo>
                  <a:lnTo>
                    <a:pt x="639" y="816"/>
                  </a:lnTo>
                  <a:lnTo>
                    <a:pt x="715" y="593"/>
                  </a:lnTo>
                  <a:lnTo>
                    <a:pt x="738" y="385"/>
                  </a:lnTo>
                  <a:lnTo>
                    <a:pt x="738" y="285"/>
                  </a:lnTo>
                  <a:lnTo>
                    <a:pt x="777" y="224"/>
                  </a:lnTo>
                  <a:lnTo>
                    <a:pt x="845" y="200"/>
                  </a:lnTo>
                  <a:lnTo>
                    <a:pt x="907" y="200"/>
                  </a:lnTo>
                  <a:lnTo>
                    <a:pt x="915" y="169"/>
                  </a:lnTo>
                  <a:lnTo>
                    <a:pt x="823" y="177"/>
                  </a:lnTo>
                  <a:lnTo>
                    <a:pt x="808" y="154"/>
                  </a:lnTo>
                  <a:lnTo>
                    <a:pt x="884" y="70"/>
                  </a:lnTo>
                  <a:lnTo>
                    <a:pt x="868" y="47"/>
                  </a:lnTo>
                  <a:lnTo>
                    <a:pt x="853" y="62"/>
                  </a:lnTo>
                  <a:lnTo>
                    <a:pt x="792" y="123"/>
                  </a:lnTo>
                  <a:lnTo>
                    <a:pt x="777" y="123"/>
                  </a:lnTo>
                  <a:lnTo>
                    <a:pt x="777" y="16"/>
                  </a:lnTo>
                  <a:lnTo>
                    <a:pt x="761" y="0"/>
                  </a:lnTo>
                  <a:lnTo>
                    <a:pt x="738" y="8"/>
                  </a:lnTo>
                  <a:lnTo>
                    <a:pt x="746" y="123"/>
                  </a:lnTo>
                  <a:lnTo>
                    <a:pt x="730" y="131"/>
                  </a:lnTo>
                  <a:lnTo>
                    <a:pt x="668" y="70"/>
                  </a:lnTo>
                  <a:lnTo>
                    <a:pt x="623" y="62"/>
                  </a:lnTo>
                  <a:lnTo>
                    <a:pt x="631" y="93"/>
                  </a:lnTo>
                  <a:lnTo>
                    <a:pt x="699" y="162"/>
                  </a:lnTo>
                  <a:lnTo>
                    <a:pt x="699" y="200"/>
                  </a:lnTo>
                  <a:lnTo>
                    <a:pt x="676" y="278"/>
                  </a:lnTo>
                  <a:lnTo>
                    <a:pt x="676" y="346"/>
                  </a:lnTo>
                  <a:lnTo>
                    <a:pt x="676" y="462"/>
                  </a:lnTo>
                  <a:lnTo>
                    <a:pt x="645" y="608"/>
                  </a:lnTo>
                  <a:lnTo>
                    <a:pt x="615" y="700"/>
                  </a:lnTo>
                  <a:lnTo>
                    <a:pt x="561" y="816"/>
                  </a:lnTo>
                  <a:lnTo>
                    <a:pt x="499" y="908"/>
                  </a:lnTo>
                  <a:lnTo>
                    <a:pt x="454" y="954"/>
                  </a:lnTo>
                  <a:lnTo>
                    <a:pt x="330" y="993"/>
                  </a:lnTo>
                  <a:lnTo>
                    <a:pt x="215" y="1008"/>
                  </a:lnTo>
                  <a:lnTo>
                    <a:pt x="99" y="1024"/>
                  </a:lnTo>
                  <a:lnTo>
                    <a:pt x="15" y="100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13" name=""/>
          <p:cNvGrpSpPr/>
          <p:nvPr/>
        </p:nvGrpSpPr>
        <p:grpSpPr>
          <a:xfrm>
            <a:off x="160920" y="2709000"/>
            <a:ext cx="1427760" cy="1069560"/>
            <a:chOff x="160920" y="2709000"/>
            <a:chExt cx="1427760" cy="1069560"/>
          </a:xfrm>
        </p:grpSpPr>
        <p:sp>
          <p:nvSpPr>
            <p:cNvPr id="5514" name=""/>
            <p:cNvSpPr/>
            <p:nvPr/>
          </p:nvSpPr>
          <p:spPr>
            <a:xfrm rot="2359800">
              <a:off x="268200" y="2981160"/>
              <a:ext cx="783000" cy="61920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 rot="2359800">
              <a:off x="1046520" y="3048480"/>
              <a:ext cx="450360" cy="449640"/>
            </a:xfrm>
            <a:custGeom>
              <a:avLst/>
              <a:gdLst/>
              <a:ahLst/>
              <a:rect l="l" t="t" r="r" b="b"/>
              <a:pathLst>
                <a:path w="1312" h="1296">
                  <a:moveTo>
                    <a:pt x="592" y="160"/>
                  </a:moveTo>
                  <a:cubicBezTo>
                    <a:pt x="408" y="256"/>
                    <a:pt x="32" y="496"/>
                    <a:pt x="16" y="640"/>
                  </a:cubicBezTo>
                  <a:cubicBezTo>
                    <a:pt x="0" y="784"/>
                    <a:pt x="296" y="928"/>
                    <a:pt x="496" y="1024"/>
                  </a:cubicBezTo>
                  <a:cubicBezTo>
                    <a:pt x="696" y="1120"/>
                    <a:pt x="1120" y="1296"/>
                    <a:pt x="1216" y="1216"/>
                  </a:cubicBezTo>
                  <a:cubicBezTo>
                    <a:pt x="1312" y="1136"/>
                    <a:pt x="1088" y="736"/>
                    <a:pt x="1072" y="544"/>
                  </a:cubicBezTo>
                  <a:cubicBezTo>
                    <a:pt x="1056" y="352"/>
                    <a:pt x="1208" y="128"/>
                    <a:pt x="1120" y="64"/>
                  </a:cubicBezTo>
                  <a:cubicBezTo>
                    <a:pt x="1032" y="0"/>
                    <a:pt x="776" y="64"/>
                    <a:pt x="592" y="160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16" name=""/>
            <p:cNvGrpSpPr/>
            <p:nvPr/>
          </p:nvGrpSpPr>
          <p:grpSpPr>
            <a:xfrm>
              <a:off x="647640" y="2709000"/>
              <a:ext cx="691200" cy="740880"/>
              <a:chOff x="647640" y="2709000"/>
              <a:chExt cx="691200" cy="740880"/>
            </a:xfrm>
          </p:grpSpPr>
          <p:sp>
            <p:nvSpPr>
              <p:cNvPr id="5517" name=""/>
              <p:cNvSpPr/>
              <p:nvPr/>
            </p:nvSpPr>
            <p:spPr>
              <a:xfrm rot="21255000">
                <a:off x="995760" y="2788200"/>
                <a:ext cx="140760" cy="11664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 rot="21255000">
                <a:off x="947160" y="2934000"/>
                <a:ext cx="144720" cy="26028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 rot="21255000">
                <a:off x="1049040" y="3146760"/>
                <a:ext cx="281520" cy="17928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 rot="19838400">
                <a:off x="660240" y="3202920"/>
                <a:ext cx="402120" cy="15804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 rot="21255000">
                <a:off x="852840" y="2720160"/>
                <a:ext cx="164160" cy="29124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 rot="21255000">
                <a:off x="1048680" y="2719080"/>
                <a:ext cx="214920" cy="24300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3" name=""/>
          <p:cNvSpPr/>
          <p:nvPr/>
        </p:nvSpPr>
        <p:spPr>
          <a:xfrm>
            <a:off x="1527480" y="2803680"/>
            <a:ext cx="5176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r handled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,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s the length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f the 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shortest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paths to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4" name=""/>
          <p:cNvSpPr/>
          <p:nvPr/>
        </p:nvSpPr>
        <p:spPr>
          <a:xfrm>
            <a:off x="2286000" y="3946680"/>
            <a:ext cx="81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5" name=""/>
          <p:cNvSpPr/>
          <p:nvPr/>
        </p:nvSpPr>
        <p:spPr>
          <a:xfrm>
            <a:off x="5245200" y="5529240"/>
            <a:ext cx="2856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rst not handled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de in path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6" name=""/>
          <p:cNvSpPr/>
          <p:nvPr/>
        </p:nvSpPr>
        <p:spPr>
          <a:xfrm>
            <a:off x="4314240" y="6004080"/>
            <a:ext cx="94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’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7" name=""/>
          <p:cNvSpPr/>
          <p:nvPr/>
        </p:nvSpPr>
        <p:spPr>
          <a:xfrm flipH="1">
            <a:off x="4952880" y="1981080"/>
            <a:ext cx="1524240" cy="4114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28" name=""/>
          <p:cNvGrpSpPr/>
          <p:nvPr/>
        </p:nvGrpSpPr>
        <p:grpSpPr>
          <a:xfrm>
            <a:off x="4292640" y="2590920"/>
            <a:ext cx="1371600" cy="2819160"/>
            <a:chOff x="4292640" y="2590920"/>
            <a:chExt cx="1371600" cy="2819160"/>
          </a:xfrm>
        </p:grpSpPr>
        <p:sp>
          <p:nvSpPr>
            <p:cNvPr id="5529" name=""/>
            <p:cNvSpPr/>
            <p:nvPr/>
          </p:nvSpPr>
          <p:spPr>
            <a:xfrm>
              <a:off x="4292640" y="4876920"/>
              <a:ext cx="137160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4876920" y="2590920"/>
              <a:ext cx="17784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31" name=""/>
          <p:cNvSpPr/>
          <p:nvPr/>
        </p:nvSpPr>
        <p:spPr>
          <a:xfrm>
            <a:off x="4694400" y="609480"/>
            <a:ext cx="43272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&amp; </a:t>
            </a: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’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are the length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f the shortest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handle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ths to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 and u’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2" name=""/>
          <p:cNvSpPr/>
          <p:nvPr/>
        </p:nvSpPr>
        <p:spPr>
          <a:xfrm>
            <a:off x="4952880" y="4876920"/>
            <a:ext cx="137160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3" name=""/>
          <p:cNvSpPr/>
          <p:nvPr/>
        </p:nvSpPr>
        <p:spPr>
          <a:xfrm>
            <a:off x="5486400" y="4876920"/>
            <a:ext cx="137160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4" name=""/>
          <p:cNvGrpSpPr/>
          <p:nvPr/>
        </p:nvGrpSpPr>
        <p:grpSpPr>
          <a:xfrm>
            <a:off x="3886200" y="3733560"/>
            <a:ext cx="3124080" cy="1752840"/>
            <a:chOff x="3886200" y="3733560"/>
            <a:chExt cx="3124080" cy="1752840"/>
          </a:xfrm>
        </p:grpSpPr>
        <p:sp>
          <p:nvSpPr>
            <p:cNvPr id="5535" name=""/>
            <p:cNvSpPr/>
            <p:nvPr/>
          </p:nvSpPr>
          <p:spPr>
            <a:xfrm>
              <a:off x="4343400" y="4876920"/>
              <a:ext cx="2666880" cy="609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 flipH="1" flipV="1">
              <a:off x="3886200" y="3733560"/>
              <a:ext cx="99072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5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5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5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5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5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5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5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5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5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5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5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5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7" name=""/>
          <p:cNvSpPr/>
          <p:nvPr/>
        </p:nvSpPr>
        <p:spPr>
          <a:xfrm>
            <a:off x="7621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'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8" name=""/>
          <p:cNvGrpSpPr/>
          <p:nvPr/>
        </p:nvGrpSpPr>
        <p:grpSpPr>
          <a:xfrm>
            <a:off x="228600" y="76320"/>
            <a:ext cx="1181160" cy="1066680"/>
            <a:chOff x="228600" y="76320"/>
            <a:chExt cx="1181160" cy="1066680"/>
          </a:xfrm>
        </p:grpSpPr>
        <p:sp>
          <p:nvSpPr>
            <p:cNvPr id="5539" name=""/>
            <p:cNvSpPr/>
            <p:nvPr/>
          </p:nvSpPr>
          <p:spPr>
            <a:xfrm>
              <a:off x="228600" y="76320"/>
              <a:ext cx="1181160" cy="106668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40" name=""/>
            <p:cNvGrpSpPr/>
            <p:nvPr/>
          </p:nvGrpSpPr>
          <p:grpSpPr>
            <a:xfrm>
              <a:off x="415080" y="165240"/>
              <a:ext cx="629640" cy="860400"/>
              <a:chOff x="415080" y="165240"/>
              <a:chExt cx="629640" cy="860400"/>
            </a:xfrm>
          </p:grpSpPr>
          <p:grpSp>
            <p:nvGrpSpPr>
              <p:cNvPr id="5541" name=""/>
              <p:cNvGrpSpPr/>
              <p:nvPr/>
            </p:nvGrpSpPr>
            <p:grpSpPr>
              <a:xfrm>
                <a:off x="415080" y="165240"/>
                <a:ext cx="592560" cy="842400"/>
                <a:chOff x="415080" y="165240"/>
                <a:chExt cx="592560" cy="842400"/>
              </a:xfrm>
            </p:grpSpPr>
            <p:sp>
              <p:nvSpPr>
                <p:cNvPr id="5542" name=""/>
                <p:cNvSpPr/>
                <p:nvPr/>
              </p:nvSpPr>
              <p:spPr>
                <a:xfrm>
                  <a:off x="610560" y="307440"/>
                  <a:ext cx="102960" cy="177840"/>
                </a:xfrm>
                <a:custGeom>
                  <a:avLst/>
                  <a:gdLst/>
                  <a:ahLst/>
                  <a:rect l="l" t="t" r="r" b="b"/>
                  <a:pathLst>
                    <a:path w="434" h="514">
                      <a:moveTo>
                        <a:pt x="132" y="186"/>
                      </a:moveTo>
                      <a:lnTo>
                        <a:pt x="157" y="114"/>
                      </a:lnTo>
                      <a:lnTo>
                        <a:pt x="189" y="42"/>
                      </a:lnTo>
                      <a:lnTo>
                        <a:pt x="236" y="6"/>
                      </a:lnTo>
                      <a:lnTo>
                        <a:pt x="302" y="0"/>
                      </a:lnTo>
                      <a:lnTo>
                        <a:pt x="355" y="24"/>
                      </a:lnTo>
                      <a:lnTo>
                        <a:pt x="393" y="63"/>
                      </a:lnTo>
                      <a:lnTo>
                        <a:pt x="421" y="135"/>
                      </a:lnTo>
                      <a:lnTo>
                        <a:pt x="434" y="222"/>
                      </a:lnTo>
                      <a:lnTo>
                        <a:pt x="434" y="312"/>
                      </a:lnTo>
                      <a:lnTo>
                        <a:pt x="412" y="411"/>
                      </a:lnTo>
                      <a:lnTo>
                        <a:pt x="355" y="474"/>
                      </a:lnTo>
                      <a:lnTo>
                        <a:pt x="299" y="514"/>
                      </a:lnTo>
                      <a:lnTo>
                        <a:pt x="245" y="510"/>
                      </a:lnTo>
                      <a:lnTo>
                        <a:pt x="198" y="468"/>
                      </a:lnTo>
                      <a:lnTo>
                        <a:pt x="157" y="396"/>
                      </a:lnTo>
                      <a:lnTo>
                        <a:pt x="129" y="333"/>
                      </a:lnTo>
                      <a:lnTo>
                        <a:pt x="129" y="252"/>
                      </a:lnTo>
                      <a:lnTo>
                        <a:pt x="0" y="234"/>
                      </a:lnTo>
                      <a:lnTo>
                        <a:pt x="16" y="189"/>
                      </a:lnTo>
                      <a:lnTo>
                        <a:pt x="132" y="18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3" name=""/>
                <p:cNvSpPr/>
                <p:nvPr/>
              </p:nvSpPr>
              <p:spPr>
                <a:xfrm>
                  <a:off x="678600" y="165240"/>
                  <a:ext cx="134280" cy="398880"/>
                </a:xfrm>
                <a:custGeom>
                  <a:avLst/>
                  <a:gdLst/>
                  <a:ahLst/>
                  <a:rect l="l" t="t" r="r" b="b"/>
                  <a:pathLst>
                    <a:path w="566" h="1154">
                      <a:moveTo>
                        <a:pt x="13" y="1145"/>
                      </a:moveTo>
                      <a:lnTo>
                        <a:pt x="0" y="1088"/>
                      </a:lnTo>
                      <a:lnTo>
                        <a:pt x="31" y="1042"/>
                      </a:lnTo>
                      <a:lnTo>
                        <a:pt x="134" y="988"/>
                      </a:lnTo>
                      <a:lnTo>
                        <a:pt x="226" y="927"/>
                      </a:lnTo>
                      <a:lnTo>
                        <a:pt x="313" y="827"/>
                      </a:lnTo>
                      <a:lnTo>
                        <a:pt x="432" y="689"/>
                      </a:lnTo>
                      <a:lnTo>
                        <a:pt x="463" y="634"/>
                      </a:lnTo>
                      <a:lnTo>
                        <a:pt x="479" y="580"/>
                      </a:lnTo>
                      <a:lnTo>
                        <a:pt x="472" y="526"/>
                      </a:lnTo>
                      <a:lnTo>
                        <a:pt x="444" y="426"/>
                      </a:lnTo>
                      <a:lnTo>
                        <a:pt x="376" y="299"/>
                      </a:lnTo>
                      <a:lnTo>
                        <a:pt x="301" y="229"/>
                      </a:lnTo>
                      <a:lnTo>
                        <a:pt x="235" y="190"/>
                      </a:lnTo>
                      <a:lnTo>
                        <a:pt x="181" y="184"/>
                      </a:lnTo>
                      <a:lnTo>
                        <a:pt x="153" y="190"/>
                      </a:lnTo>
                      <a:lnTo>
                        <a:pt x="150" y="163"/>
                      </a:lnTo>
                      <a:lnTo>
                        <a:pt x="215" y="154"/>
                      </a:lnTo>
                      <a:lnTo>
                        <a:pt x="291" y="154"/>
                      </a:lnTo>
                      <a:lnTo>
                        <a:pt x="238" y="93"/>
                      </a:lnTo>
                      <a:lnTo>
                        <a:pt x="206" y="45"/>
                      </a:lnTo>
                      <a:lnTo>
                        <a:pt x="229" y="27"/>
                      </a:lnTo>
                      <a:lnTo>
                        <a:pt x="313" y="109"/>
                      </a:lnTo>
                      <a:lnTo>
                        <a:pt x="329" y="121"/>
                      </a:lnTo>
                      <a:lnTo>
                        <a:pt x="313" y="57"/>
                      </a:lnTo>
                      <a:lnTo>
                        <a:pt x="301" y="9"/>
                      </a:lnTo>
                      <a:lnTo>
                        <a:pt x="313" y="0"/>
                      </a:lnTo>
                      <a:lnTo>
                        <a:pt x="341" y="9"/>
                      </a:lnTo>
                      <a:lnTo>
                        <a:pt x="366" y="121"/>
                      </a:lnTo>
                      <a:lnTo>
                        <a:pt x="379" y="118"/>
                      </a:lnTo>
                      <a:lnTo>
                        <a:pt x="379" y="30"/>
                      </a:lnTo>
                      <a:lnTo>
                        <a:pt x="404" y="21"/>
                      </a:lnTo>
                      <a:lnTo>
                        <a:pt x="422" y="36"/>
                      </a:lnTo>
                      <a:lnTo>
                        <a:pt x="413" y="154"/>
                      </a:lnTo>
                      <a:lnTo>
                        <a:pt x="407" y="202"/>
                      </a:lnTo>
                      <a:lnTo>
                        <a:pt x="422" y="299"/>
                      </a:lnTo>
                      <a:lnTo>
                        <a:pt x="472" y="402"/>
                      </a:lnTo>
                      <a:lnTo>
                        <a:pt x="525" y="520"/>
                      </a:lnTo>
                      <a:lnTo>
                        <a:pt x="566" y="607"/>
                      </a:lnTo>
                      <a:lnTo>
                        <a:pt x="563" y="652"/>
                      </a:lnTo>
                      <a:lnTo>
                        <a:pt x="488" y="734"/>
                      </a:lnTo>
                      <a:lnTo>
                        <a:pt x="385" y="836"/>
                      </a:lnTo>
                      <a:lnTo>
                        <a:pt x="301" y="937"/>
                      </a:lnTo>
                      <a:lnTo>
                        <a:pt x="197" y="1070"/>
                      </a:lnTo>
                      <a:lnTo>
                        <a:pt x="112" y="1136"/>
                      </a:lnTo>
                      <a:lnTo>
                        <a:pt x="47" y="1154"/>
                      </a:lnTo>
                      <a:lnTo>
                        <a:pt x="13" y="1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4" name=""/>
                <p:cNvSpPr/>
                <p:nvPr/>
              </p:nvSpPr>
              <p:spPr>
                <a:xfrm>
                  <a:off x="415080" y="537120"/>
                  <a:ext cx="246240" cy="200880"/>
                </a:xfrm>
                <a:custGeom>
                  <a:avLst/>
                  <a:gdLst/>
                  <a:ahLst/>
                  <a:rect l="l" t="t" r="r" b="b"/>
                  <a:pathLst>
                    <a:path w="1037" h="581">
                      <a:moveTo>
                        <a:pt x="210" y="468"/>
                      </a:moveTo>
                      <a:lnTo>
                        <a:pt x="361" y="462"/>
                      </a:lnTo>
                      <a:lnTo>
                        <a:pt x="498" y="444"/>
                      </a:lnTo>
                      <a:lnTo>
                        <a:pt x="583" y="423"/>
                      </a:lnTo>
                      <a:lnTo>
                        <a:pt x="705" y="354"/>
                      </a:lnTo>
                      <a:lnTo>
                        <a:pt x="792" y="288"/>
                      </a:lnTo>
                      <a:lnTo>
                        <a:pt x="906" y="207"/>
                      </a:lnTo>
                      <a:lnTo>
                        <a:pt x="959" y="156"/>
                      </a:lnTo>
                      <a:lnTo>
                        <a:pt x="1000" y="120"/>
                      </a:lnTo>
                      <a:lnTo>
                        <a:pt x="1037" y="81"/>
                      </a:lnTo>
                      <a:lnTo>
                        <a:pt x="1037" y="39"/>
                      </a:lnTo>
                      <a:lnTo>
                        <a:pt x="996" y="0"/>
                      </a:lnTo>
                      <a:lnTo>
                        <a:pt x="971" y="9"/>
                      </a:lnTo>
                      <a:lnTo>
                        <a:pt x="903" y="90"/>
                      </a:lnTo>
                      <a:lnTo>
                        <a:pt x="828" y="183"/>
                      </a:lnTo>
                      <a:lnTo>
                        <a:pt x="752" y="270"/>
                      </a:lnTo>
                      <a:lnTo>
                        <a:pt x="642" y="342"/>
                      </a:lnTo>
                      <a:lnTo>
                        <a:pt x="548" y="390"/>
                      </a:lnTo>
                      <a:lnTo>
                        <a:pt x="445" y="414"/>
                      </a:lnTo>
                      <a:lnTo>
                        <a:pt x="301" y="417"/>
                      </a:lnTo>
                      <a:lnTo>
                        <a:pt x="216" y="417"/>
                      </a:lnTo>
                      <a:lnTo>
                        <a:pt x="144" y="363"/>
                      </a:lnTo>
                      <a:lnTo>
                        <a:pt x="125" y="327"/>
                      </a:lnTo>
                      <a:lnTo>
                        <a:pt x="94" y="327"/>
                      </a:lnTo>
                      <a:lnTo>
                        <a:pt x="116" y="372"/>
                      </a:lnTo>
                      <a:lnTo>
                        <a:pt x="150" y="414"/>
                      </a:lnTo>
                      <a:lnTo>
                        <a:pt x="66" y="396"/>
                      </a:lnTo>
                      <a:lnTo>
                        <a:pt x="3" y="387"/>
                      </a:lnTo>
                      <a:lnTo>
                        <a:pt x="3" y="405"/>
                      </a:lnTo>
                      <a:lnTo>
                        <a:pt x="59" y="417"/>
                      </a:lnTo>
                      <a:lnTo>
                        <a:pt x="97" y="441"/>
                      </a:lnTo>
                      <a:lnTo>
                        <a:pt x="131" y="444"/>
                      </a:lnTo>
                      <a:lnTo>
                        <a:pt x="78" y="462"/>
                      </a:lnTo>
                      <a:lnTo>
                        <a:pt x="0" y="481"/>
                      </a:lnTo>
                      <a:lnTo>
                        <a:pt x="3" y="499"/>
                      </a:lnTo>
                      <a:lnTo>
                        <a:pt x="28" y="505"/>
                      </a:lnTo>
                      <a:lnTo>
                        <a:pt x="103" y="481"/>
                      </a:lnTo>
                      <a:lnTo>
                        <a:pt x="150" y="477"/>
                      </a:lnTo>
                      <a:lnTo>
                        <a:pt x="122" y="505"/>
                      </a:lnTo>
                      <a:lnTo>
                        <a:pt x="78" y="550"/>
                      </a:lnTo>
                      <a:lnTo>
                        <a:pt x="59" y="562"/>
                      </a:lnTo>
                      <a:lnTo>
                        <a:pt x="75" y="581"/>
                      </a:lnTo>
                      <a:lnTo>
                        <a:pt x="113" y="559"/>
                      </a:lnTo>
                      <a:lnTo>
                        <a:pt x="163" y="514"/>
                      </a:lnTo>
                      <a:lnTo>
                        <a:pt x="210" y="46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5" name=""/>
                <p:cNvSpPr/>
                <p:nvPr/>
              </p:nvSpPr>
              <p:spPr>
                <a:xfrm>
                  <a:off x="641880" y="516600"/>
                  <a:ext cx="144360" cy="276480"/>
                </a:xfrm>
                <a:custGeom>
                  <a:avLst/>
                  <a:gdLst/>
                  <a:ahLst/>
                  <a:rect l="l" t="t" r="r" b="b"/>
                  <a:pathLst>
                    <a:path w="608" h="800">
                      <a:moveTo>
                        <a:pt x="38" y="90"/>
                      </a:moveTo>
                      <a:lnTo>
                        <a:pt x="63" y="27"/>
                      </a:lnTo>
                      <a:lnTo>
                        <a:pt x="104" y="0"/>
                      </a:lnTo>
                      <a:lnTo>
                        <a:pt x="141" y="0"/>
                      </a:lnTo>
                      <a:lnTo>
                        <a:pt x="179" y="18"/>
                      </a:lnTo>
                      <a:lnTo>
                        <a:pt x="216" y="54"/>
                      </a:lnTo>
                      <a:lnTo>
                        <a:pt x="235" y="117"/>
                      </a:lnTo>
                      <a:lnTo>
                        <a:pt x="245" y="180"/>
                      </a:lnTo>
                      <a:lnTo>
                        <a:pt x="263" y="243"/>
                      </a:lnTo>
                      <a:lnTo>
                        <a:pt x="298" y="312"/>
                      </a:lnTo>
                      <a:lnTo>
                        <a:pt x="357" y="384"/>
                      </a:lnTo>
                      <a:lnTo>
                        <a:pt x="415" y="432"/>
                      </a:lnTo>
                      <a:lnTo>
                        <a:pt x="499" y="468"/>
                      </a:lnTo>
                      <a:lnTo>
                        <a:pt x="571" y="522"/>
                      </a:lnTo>
                      <a:lnTo>
                        <a:pt x="608" y="577"/>
                      </a:lnTo>
                      <a:lnTo>
                        <a:pt x="602" y="622"/>
                      </a:lnTo>
                      <a:lnTo>
                        <a:pt x="593" y="676"/>
                      </a:lnTo>
                      <a:lnTo>
                        <a:pt x="565" y="712"/>
                      </a:lnTo>
                      <a:lnTo>
                        <a:pt x="518" y="757"/>
                      </a:lnTo>
                      <a:lnTo>
                        <a:pt x="449" y="790"/>
                      </a:lnTo>
                      <a:lnTo>
                        <a:pt x="396" y="800"/>
                      </a:lnTo>
                      <a:lnTo>
                        <a:pt x="320" y="784"/>
                      </a:lnTo>
                      <a:lnTo>
                        <a:pt x="251" y="748"/>
                      </a:lnTo>
                      <a:lnTo>
                        <a:pt x="179" y="694"/>
                      </a:lnTo>
                      <a:lnTo>
                        <a:pt x="129" y="631"/>
                      </a:lnTo>
                      <a:lnTo>
                        <a:pt x="82" y="550"/>
                      </a:lnTo>
                      <a:lnTo>
                        <a:pt x="44" y="456"/>
                      </a:lnTo>
                      <a:lnTo>
                        <a:pt x="19" y="375"/>
                      </a:lnTo>
                      <a:lnTo>
                        <a:pt x="7" y="297"/>
                      </a:lnTo>
                      <a:lnTo>
                        <a:pt x="0" y="189"/>
                      </a:lnTo>
                      <a:lnTo>
                        <a:pt x="19" y="117"/>
                      </a:lnTo>
                      <a:lnTo>
                        <a:pt x="38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6" name=""/>
                <p:cNvSpPr/>
                <p:nvPr/>
              </p:nvSpPr>
              <p:spPr>
                <a:xfrm>
                  <a:off x="759960" y="634680"/>
                  <a:ext cx="247680" cy="250920"/>
                </a:xfrm>
                <a:custGeom>
                  <a:avLst/>
                  <a:gdLst/>
                  <a:ahLst/>
                  <a:rect l="l" t="t" r="r" b="b"/>
                  <a:pathLst>
                    <a:path w="1043" h="726">
                      <a:moveTo>
                        <a:pt x="116" y="230"/>
                      </a:moveTo>
                      <a:lnTo>
                        <a:pt x="216" y="147"/>
                      </a:lnTo>
                      <a:lnTo>
                        <a:pt x="338" y="72"/>
                      </a:lnTo>
                      <a:lnTo>
                        <a:pt x="417" y="27"/>
                      </a:lnTo>
                      <a:lnTo>
                        <a:pt x="479" y="12"/>
                      </a:lnTo>
                      <a:lnTo>
                        <a:pt x="529" y="0"/>
                      </a:lnTo>
                      <a:lnTo>
                        <a:pt x="573" y="18"/>
                      </a:lnTo>
                      <a:lnTo>
                        <a:pt x="601" y="75"/>
                      </a:lnTo>
                      <a:lnTo>
                        <a:pt x="620" y="230"/>
                      </a:lnTo>
                      <a:lnTo>
                        <a:pt x="620" y="416"/>
                      </a:lnTo>
                      <a:lnTo>
                        <a:pt x="620" y="536"/>
                      </a:lnTo>
                      <a:lnTo>
                        <a:pt x="642" y="609"/>
                      </a:lnTo>
                      <a:lnTo>
                        <a:pt x="686" y="597"/>
                      </a:lnTo>
                      <a:lnTo>
                        <a:pt x="717" y="552"/>
                      </a:lnTo>
                      <a:lnTo>
                        <a:pt x="779" y="500"/>
                      </a:lnTo>
                      <a:lnTo>
                        <a:pt x="876" y="470"/>
                      </a:lnTo>
                      <a:lnTo>
                        <a:pt x="943" y="470"/>
                      </a:lnTo>
                      <a:lnTo>
                        <a:pt x="1043" y="488"/>
                      </a:lnTo>
                      <a:lnTo>
                        <a:pt x="1037" y="524"/>
                      </a:lnTo>
                      <a:lnTo>
                        <a:pt x="1015" y="555"/>
                      </a:lnTo>
                      <a:lnTo>
                        <a:pt x="981" y="561"/>
                      </a:lnTo>
                      <a:lnTo>
                        <a:pt x="943" y="542"/>
                      </a:lnTo>
                      <a:lnTo>
                        <a:pt x="886" y="518"/>
                      </a:lnTo>
                      <a:lnTo>
                        <a:pt x="829" y="518"/>
                      </a:lnTo>
                      <a:lnTo>
                        <a:pt x="754" y="564"/>
                      </a:lnTo>
                      <a:lnTo>
                        <a:pt x="708" y="633"/>
                      </a:lnTo>
                      <a:lnTo>
                        <a:pt x="698" y="690"/>
                      </a:lnTo>
                      <a:lnTo>
                        <a:pt x="679" y="726"/>
                      </a:lnTo>
                      <a:lnTo>
                        <a:pt x="604" y="723"/>
                      </a:lnTo>
                      <a:lnTo>
                        <a:pt x="601" y="669"/>
                      </a:lnTo>
                      <a:lnTo>
                        <a:pt x="576" y="591"/>
                      </a:lnTo>
                      <a:lnTo>
                        <a:pt x="567" y="509"/>
                      </a:lnTo>
                      <a:lnTo>
                        <a:pt x="573" y="401"/>
                      </a:lnTo>
                      <a:lnTo>
                        <a:pt x="564" y="248"/>
                      </a:lnTo>
                      <a:lnTo>
                        <a:pt x="558" y="147"/>
                      </a:lnTo>
                      <a:lnTo>
                        <a:pt x="539" y="111"/>
                      </a:lnTo>
                      <a:lnTo>
                        <a:pt x="501" y="75"/>
                      </a:lnTo>
                      <a:lnTo>
                        <a:pt x="461" y="75"/>
                      </a:lnTo>
                      <a:lnTo>
                        <a:pt x="403" y="111"/>
                      </a:lnTo>
                      <a:lnTo>
                        <a:pt x="328" y="181"/>
                      </a:lnTo>
                      <a:lnTo>
                        <a:pt x="235" y="272"/>
                      </a:lnTo>
                      <a:lnTo>
                        <a:pt x="141" y="356"/>
                      </a:lnTo>
                      <a:lnTo>
                        <a:pt x="94" y="383"/>
                      </a:lnTo>
                      <a:lnTo>
                        <a:pt x="38" y="383"/>
                      </a:lnTo>
                      <a:lnTo>
                        <a:pt x="0" y="344"/>
                      </a:lnTo>
                      <a:lnTo>
                        <a:pt x="3" y="281"/>
                      </a:lnTo>
                      <a:lnTo>
                        <a:pt x="41" y="248"/>
                      </a:lnTo>
                      <a:lnTo>
                        <a:pt x="84" y="239"/>
                      </a:lnTo>
                      <a:lnTo>
                        <a:pt x="116" y="23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7" name=""/>
                <p:cNvSpPr/>
                <p:nvPr/>
              </p:nvSpPr>
              <p:spPr>
                <a:xfrm>
                  <a:off x="746640" y="744120"/>
                  <a:ext cx="169200" cy="263520"/>
                </a:xfrm>
                <a:custGeom>
                  <a:avLst/>
                  <a:gdLst/>
                  <a:ahLst/>
                  <a:rect l="l" t="t" r="r" b="b"/>
                  <a:pathLst>
                    <a:path w="713" h="762">
                      <a:moveTo>
                        <a:pt x="0" y="64"/>
                      </a:moveTo>
                      <a:lnTo>
                        <a:pt x="22" y="16"/>
                      </a:lnTo>
                      <a:lnTo>
                        <a:pt x="69" y="0"/>
                      </a:lnTo>
                      <a:lnTo>
                        <a:pt x="134" y="7"/>
                      </a:lnTo>
                      <a:lnTo>
                        <a:pt x="150" y="52"/>
                      </a:lnTo>
                      <a:lnTo>
                        <a:pt x="125" y="227"/>
                      </a:lnTo>
                      <a:lnTo>
                        <a:pt x="122" y="360"/>
                      </a:lnTo>
                      <a:lnTo>
                        <a:pt x="116" y="435"/>
                      </a:lnTo>
                      <a:lnTo>
                        <a:pt x="116" y="450"/>
                      </a:lnTo>
                      <a:lnTo>
                        <a:pt x="131" y="524"/>
                      </a:lnTo>
                      <a:lnTo>
                        <a:pt x="172" y="536"/>
                      </a:lnTo>
                      <a:lnTo>
                        <a:pt x="225" y="524"/>
                      </a:lnTo>
                      <a:lnTo>
                        <a:pt x="303" y="481"/>
                      </a:lnTo>
                      <a:lnTo>
                        <a:pt x="387" y="460"/>
                      </a:lnTo>
                      <a:lnTo>
                        <a:pt x="482" y="444"/>
                      </a:lnTo>
                      <a:lnTo>
                        <a:pt x="585" y="432"/>
                      </a:lnTo>
                      <a:lnTo>
                        <a:pt x="660" y="432"/>
                      </a:lnTo>
                      <a:lnTo>
                        <a:pt x="694" y="441"/>
                      </a:lnTo>
                      <a:lnTo>
                        <a:pt x="713" y="463"/>
                      </a:lnTo>
                      <a:lnTo>
                        <a:pt x="704" y="496"/>
                      </a:lnTo>
                      <a:lnTo>
                        <a:pt x="657" y="524"/>
                      </a:lnTo>
                      <a:lnTo>
                        <a:pt x="613" y="563"/>
                      </a:lnTo>
                      <a:lnTo>
                        <a:pt x="572" y="618"/>
                      </a:lnTo>
                      <a:lnTo>
                        <a:pt x="547" y="663"/>
                      </a:lnTo>
                      <a:lnTo>
                        <a:pt x="526" y="708"/>
                      </a:lnTo>
                      <a:lnTo>
                        <a:pt x="510" y="762"/>
                      </a:lnTo>
                      <a:lnTo>
                        <a:pt x="488" y="762"/>
                      </a:lnTo>
                      <a:lnTo>
                        <a:pt x="469" y="741"/>
                      </a:lnTo>
                      <a:lnTo>
                        <a:pt x="462" y="681"/>
                      </a:lnTo>
                      <a:lnTo>
                        <a:pt x="507" y="627"/>
                      </a:lnTo>
                      <a:lnTo>
                        <a:pt x="566" y="563"/>
                      </a:lnTo>
                      <a:lnTo>
                        <a:pt x="622" y="515"/>
                      </a:lnTo>
                      <a:lnTo>
                        <a:pt x="647" y="499"/>
                      </a:lnTo>
                      <a:lnTo>
                        <a:pt x="657" y="478"/>
                      </a:lnTo>
                      <a:lnTo>
                        <a:pt x="632" y="463"/>
                      </a:lnTo>
                      <a:lnTo>
                        <a:pt x="547" y="463"/>
                      </a:lnTo>
                      <a:lnTo>
                        <a:pt x="440" y="481"/>
                      </a:lnTo>
                      <a:lnTo>
                        <a:pt x="356" y="509"/>
                      </a:lnTo>
                      <a:lnTo>
                        <a:pt x="265" y="560"/>
                      </a:lnTo>
                      <a:lnTo>
                        <a:pt x="187" y="596"/>
                      </a:lnTo>
                      <a:lnTo>
                        <a:pt x="103" y="599"/>
                      </a:lnTo>
                      <a:lnTo>
                        <a:pt x="69" y="587"/>
                      </a:lnTo>
                      <a:lnTo>
                        <a:pt x="50" y="542"/>
                      </a:lnTo>
                      <a:lnTo>
                        <a:pt x="37" y="478"/>
                      </a:lnTo>
                      <a:lnTo>
                        <a:pt x="31" y="360"/>
                      </a:lnTo>
                      <a:lnTo>
                        <a:pt x="19" y="151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8" name=""/>
              <p:cNvGrpSpPr/>
              <p:nvPr/>
            </p:nvGrpSpPr>
            <p:grpSpPr>
              <a:xfrm>
                <a:off x="942480" y="722520"/>
                <a:ext cx="102240" cy="303120"/>
                <a:chOff x="942480" y="722520"/>
                <a:chExt cx="102240" cy="303120"/>
              </a:xfrm>
            </p:grpSpPr>
            <p:sp>
              <p:nvSpPr>
                <p:cNvPr id="5549" name=""/>
                <p:cNvSpPr/>
                <p:nvPr/>
              </p:nvSpPr>
              <p:spPr>
                <a:xfrm>
                  <a:off x="964080" y="891360"/>
                  <a:ext cx="80640" cy="37440"/>
                </a:xfrm>
                <a:custGeom>
                  <a:avLst/>
                  <a:gdLst/>
                  <a:ahLst/>
                  <a:rect l="l" t="t" r="r" b="b"/>
                  <a:pathLst>
                    <a:path w="340" h="109">
                      <a:moveTo>
                        <a:pt x="340" y="109"/>
                      </a:moveTo>
                      <a:lnTo>
                        <a:pt x="165" y="30"/>
                      </a:lnTo>
                      <a:lnTo>
                        <a:pt x="48" y="0"/>
                      </a:lnTo>
                      <a:lnTo>
                        <a:pt x="10" y="0"/>
                      </a:lnTo>
                      <a:lnTo>
                        <a:pt x="0" y="27"/>
                      </a:lnTo>
                      <a:lnTo>
                        <a:pt x="22" y="48"/>
                      </a:lnTo>
                      <a:lnTo>
                        <a:pt x="70" y="54"/>
                      </a:lnTo>
                      <a:lnTo>
                        <a:pt x="184" y="75"/>
                      </a:lnTo>
                      <a:lnTo>
                        <a:pt x="340" y="10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0" name=""/>
                <p:cNvSpPr/>
                <p:nvPr/>
              </p:nvSpPr>
              <p:spPr>
                <a:xfrm>
                  <a:off x="942480" y="925200"/>
                  <a:ext cx="22680" cy="100440"/>
                </a:xfrm>
                <a:custGeom>
                  <a:avLst/>
                  <a:gdLst/>
                  <a:ahLst/>
                  <a:rect l="l" t="t" r="r" b="b"/>
                  <a:pathLst>
                    <a:path w="97" h="291">
                      <a:moveTo>
                        <a:pt x="97" y="291"/>
                      </a:moveTo>
                      <a:lnTo>
                        <a:pt x="94" y="148"/>
                      </a:lnTo>
                      <a:lnTo>
                        <a:pt x="69" y="39"/>
                      </a:lnTo>
                      <a:lnTo>
                        <a:pt x="41" y="0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54"/>
                      </a:lnTo>
                      <a:lnTo>
                        <a:pt x="47" y="184"/>
                      </a:lnTo>
                      <a:lnTo>
                        <a:pt x="97" y="29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1" name=""/>
                <p:cNvSpPr/>
                <p:nvPr/>
              </p:nvSpPr>
              <p:spPr>
                <a:xfrm>
                  <a:off x="975600" y="722520"/>
                  <a:ext cx="50760" cy="38160"/>
                </a:xfrm>
                <a:custGeom>
                  <a:avLst/>
                  <a:gdLst/>
                  <a:ahLst/>
                  <a:rect l="l" t="t" r="r" b="b"/>
                  <a:pathLst>
                    <a:path w="214" h="111">
                      <a:moveTo>
                        <a:pt x="0" y="72"/>
                      </a:moveTo>
                      <a:lnTo>
                        <a:pt x="42" y="30"/>
                      </a:lnTo>
                      <a:lnTo>
                        <a:pt x="100" y="3"/>
                      </a:lnTo>
                      <a:lnTo>
                        <a:pt x="166" y="0"/>
                      </a:lnTo>
                      <a:lnTo>
                        <a:pt x="214" y="9"/>
                      </a:lnTo>
                      <a:lnTo>
                        <a:pt x="138" y="18"/>
                      </a:lnTo>
                      <a:lnTo>
                        <a:pt x="109" y="36"/>
                      </a:lnTo>
                      <a:lnTo>
                        <a:pt x="81" y="63"/>
                      </a:lnTo>
                      <a:lnTo>
                        <a:pt x="68" y="93"/>
                      </a:lnTo>
                      <a:lnTo>
                        <a:pt x="42" y="111"/>
                      </a:lnTo>
                      <a:lnTo>
                        <a:pt x="10" y="10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552" name=""/>
          <p:cNvSpPr/>
          <p:nvPr/>
        </p:nvSpPr>
        <p:spPr>
          <a:xfrm>
            <a:off x="4990320" y="609480"/>
            <a:ext cx="3735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s the length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f the shortest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handle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th to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3" name=""/>
          <p:cNvSpPr/>
          <p:nvPr/>
        </p:nvSpPr>
        <p:spPr>
          <a:xfrm>
            <a:off x="413640" y="609480"/>
            <a:ext cx="3904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r handled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w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3000"/>
            </a:b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s the length of the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hortest paths to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4" name=""/>
          <p:cNvSpPr/>
          <p:nvPr/>
        </p:nvSpPr>
        <p:spPr>
          <a:xfrm>
            <a:off x="1095480" y="2179800"/>
            <a:ext cx="505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andle node with smallest </a:t>
            </a: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55" name=""/>
          <p:cNvGrpSpPr/>
          <p:nvPr/>
        </p:nvGrpSpPr>
        <p:grpSpPr>
          <a:xfrm>
            <a:off x="378000" y="2083680"/>
            <a:ext cx="691560" cy="741240"/>
            <a:chOff x="378000" y="2083680"/>
            <a:chExt cx="691560" cy="741240"/>
          </a:xfrm>
        </p:grpSpPr>
        <p:sp>
          <p:nvSpPr>
            <p:cNvPr id="5556" name=""/>
            <p:cNvSpPr/>
            <p:nvPr/>
          </p:nvSpPr>
          <p:spPr>
            <a:xfrm rot="21255000">
              <a:off x="726120" y="2163240"/>
              <a:ext cx="140760" cy="116640"/>
            </a:xfrm>
            <a:custGeom>
              <a:avLst/>
              <a:gdLst/>
              <a:ahLst/>
              <a:rect l="l" t="t" r="r" b="b"/>
              <a:pathLst>
                <a:path w="600" h="608">
                  <a:moveTo>
                    <a:pt x="388" y="289"/>
                  </a:moveTo>
                  <a:lnTo>
                    <a:pt x="372" y="177"/>
                  </a:lnTo>
                  <a:lnTo>
                    <a:pt x="341" y="78"/>
                  </a:lnTo>
                  <a:lnTo>
                    <a:pt x="284" y="24"/>
                  </a:lnTo>
                  <a:lnTo>
                    <a:pt x="185" y="0"/>
                  </a:lnTo>
                  <a:lnTo>
                    <a:pt x="100" y="24"/>
                  </a:lnTo>
                  <a:lnTo>
                    <a:pt x="19" y="123"/>
                  </a:lnTo>
                  <a:lnTo>
                    <a:pt x="0" y="243"/>
                  </a:lnTo>
                  <a:lnTo>
                    <a:pt x="19" y="370"/>
                  </a:lnTo>
                  <a:lnTo>
                    <a:pt x="50" y="447"/>
                  </a:lnTo>
                  <a:lnTo>
                    <a:pt x="88" y="528"/>
                  </a:lnTo>
                  <a:lnTo>
                    <a:pt x="130" y="582"/>
                  </a:lnTo>
                  <a:lnTo>
                    <a:pt x="177" y="608"/>
                  </a:lnTo>
                  <a:lnTo>
                    <a:pt x="242" y="585"/>
                  </a:lnTo>
                  <a:lnTo>
                    <a:pt x="307" y="531"/>
                  </a:lnTo>
                  <a:lnTo>
                    <a:pt x="349" y="455"/>
                  </a:lnTo>
                  <a:lnTo>
                    <a:pt x="388" y="390"/>
                  </a:lnTo>
                  <a:lnTo>
                    <a:pt x="400" y="351"/>
                  </a:lnTo>
                  <a:lnTo>
                    <a:pt x="565" y="293"/>
                  </a:lnTo>
                  <a:lnTo>
                    <a:pt x="600" y="270"/>
                  </a:lnTo>
                  <a:lnTo>
                    <a:pt x="580" y="235"/>
                  </a:lnTo>
                  <a:lnTo>
                    <a:pt x="388" y="28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 rot="21255000">
              <a:off x="677880" y="2308680"/>
              <a:ext cx="144720" cy="260640"/>
            </a:xfrm>
            <a:custGeom>
              <a:avLst/>
              <a:gdLst/>
              <a:ahLst/>
              <a:rect l="l" t="t" r="r" b="b"/>
              <a:pathLst>
                <a:path w="619" h="1085">
                  <a:moveTo>
                    <a:pt x="208" y="161"/>
                  </a:moveTo>
                  <a:lnTo>
                    <a:pt x="284" y="80"/>
                  </a:lnTo>
                  <a:lnTo>
                    <a:pt x="411" y="3"/>
                  </a:lnTo>
                  <a:lnTo>
                    <a:pt x="469" y="0"/>
                  </a:lnTo>
                  <a:lnTo>
                    <a:pt x="573" y="34"/>
                  </a:lnTo>
                  <a:lnTo>
                    <a:pt x="619" y="85"/>
                  </a:lnTo>
                  <a:lnTo>
                    <a:pt x="619" y="161"/>
                  </a:lnTo>
                  <a:lnTo>
                    <a:pt x="542" y="304"/>
                  </a:lnTo>
                  <a:lnTo>
                    <a:pt x="458" y="415"/>
                  </a:lnTo>
                  <a:lnTo>
                    <a:pt x="422" y="508"/>
                  </a:lnTo>
                  <a:lnTo>
                    <a:pt x="399" y="615"/>
                  </a:lnTo>
                  <a:lnTo>
                    <a:pt x="422" y="719"/>
                  </a:lnTo>
                  <a:lnTo>
                    <a:pt x="445" y="820"/>
                  </a:lnTo>
                  <a:lnTo>
                    <a:pt x="445" y="935"/>
                  </a:lnTo>
                  <a:lnTo>
                    <a:pt x="411" y="1005"/>
                  </a:lnTo>
                  <a:lnTo>
                    <a:pt x="334" y="1043"/>
                  </a:lnTo>
                  <a:lnTo>
                    <a:pt x="242" y="1085"/>
                  </a:lnTo>
                  <a:lnTo>
                    <a:pt x="157" y="1085"/>
                  </a:lnTo>
                  <a:lnTo>
                    <a:pt x="100" y="1054"/>
                  </a:lnTo>
                  <a:lnTo>
                    <a:pt x="23" y="927"/>
                  </a:lnTo>
                  <a:lnTo>
                    <a:pt x="0" y="797"/>
                  </a:lnTo>
                  <a:lnTo>
                    <a:pt x="8" y="628"/>
                  </a:lnTo>
                  <a:lnTo>
                    <a:pt x="65" y="415"/>
                  </a:lnTo>
                  <a:lnTo>
                    <a:pt x="123" y="277"/>
                  </a:lnTo>
                  <a:lnTo>
                    <a:pt x="208" y="1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 rot="21255000">
              <a:off x="779760" y="2522160"/>
              <a:ext cx="281520" cy="179640"/>
            </a:xfrm>
            <a:custGeom>
              <a:avLst/>
              <a:gdLst/>
              <a:ahLst/>
              <a:rect l="l" t="t" r="r" b="b"/>
              <a:pathLst>
                <a:path w="782" h="808">
                  <a:moveTo>
                    <a:pt x="0" y="76"/>
                  </a:moveTo>
                  <a:lnTo>
                    <a:pt x="66" y="0"/>
                  </a:lnTo>
                  <a:lnTo>
                    <a:pt x="163" y="0"/>
                  </a:lnTo>
                  <a:lnTo>
                    <a:pt x="343" y="19"/>
                  </a:lnTo>
                  <a:lnTo>
                    <a:pt x="555" y="30"/>
                  </a:lnTo>
                  <a:lnTo>
                    <a:pt x="636" y="65"/>
                  </a:lnTo>
                  <a:lnTo>
                    <a:pt x="670" y="110"/>
                  </a:lnTo>
                  <a:lnTo>
                    <a:pt x="678" y="180"/>
                  </a:lnTo>
                  <a:lnTo>
                    <a:pt x="654" y="253"/>
                  </a:lnTo>
                  <a:lnTo>
                    <a:pt x="589" y="365"/>
                  </a:lnTo>
                  <a:lnTo>
                    <a:pt x="504" y="457"/>
                  </a:lnTo>
                  <a:lnTo>
                    <a:pt x="439" y="541"/>
                  </a:lnTo>
                  <a:lnTo>
                    <a:pt x="412" y="607"/>
                  </a:lnTo>
                  <a:lnTo>
                    <a:pt x="393" y="653"/>
                  </a:lnTo>
                  <a:lnTo>
                    <a:pt x="400" y="689"/>
                  </a:lnTo>
                  <a:lnTo>
                    <a:pt x="405" y="711"/>
                  </a:lnTo>
                  <a:lnTo>
                    <a:pt x="482" y="711"/>
                  </a:lnTo>
                  <a:lnTo>
                    <a:pt x="601" y="692"/>
                  </a:lnTo>
                  <a:lnTo>
                    <a:pt x="678" y="692"/>
                  </a:lnTo>
                  <a:lnTo>
                    <a:pt x="758" y="723"/>
                  </a:lnTo>
                  <a:lnTo>
                    <a:pt x="782" y="761"/>
                  </a:lnTo>
                  <a:lnTo>
                    <a:pt x="758" y="796"/>
                  </a:lnTo>
                  <a:lnTo>
                    <a:pt x="724" y="808"/>
                  </a:lnTo>
                  <a:lnTo>
                    <a:pt x="670" y="792"/>
                  </a:lnTo>
                  <a:lnTo>
                    <a:pt x="597" y="749"/>
                  </a:lnTo>
                  <a:lnTo>
                    <a:pt x="520" y="757"/>
                  </a:lnTo>
                  <a:lnTo>
                    <a:pt x="393" y="780"/>
                  </a:lnTo>
                  <a:lnTo>
                    <a:pt x="355" y="773"/>
                  </a:lnTo>
                  <a:lnTo>
                    <a:pt x="335" y="746"/>
                  </a:lnTo>
                  <a:lnTo>
                    <a:pt x="335" y="681"/>
                  </a:lnTo>
                  <a:lnTo>
                    <a:pt x="335" y="588"/>
                  </a:lnTo>
                  <a:lnTo>
                    <a:pt x="389" y="518"/>
                  </a:lnTo>
                  <a:lnTo>
                    <a:pt x="470" y="414"/>
                  </a:lnTo>
                  <a:lnTo>
                    <a:pt x="540" y="323"/>
                  </a:lnTo>
                  <a:lnTo>
                    <a:pt x="586" y="253"/>
                  </a:lnTo>
                  <a:lnTo>
                    <a:pt x="609" y="192"/>
                  </a:lnTo>
                  <a:lnTo>
                    <a:pt x="597" y="157"/>
                  </a:lnTo>
                  <a:lnTo>
                    <a:pt x="566" y="115"/>
                  </a:lnTo>
                  <a:lnTo>
                    <a:pt x="520" y="103"/>
                  </a:lnTo>
                  <a:lnTo>
                    <a:pt x="470" y="103"/>
                  </a:lnTo>
                  <a:lnTo>
                    <a:pt x="358" y="103"/>
                  </a:lnTo>
                  <a:lnTo>
                    <a:pt x="193" y="134"/>
                  </a:lnTo>
                  <a:lnTo>
                    <a:pt x="70" y="146"/>
                  </a:lnTo>
                  <a:lnTo>
                    <a:pt x="20" y="134"/>
                  </a:lnTo>
                  <a:lnTo>
                    <a:pt x="0" y="11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 rot="19838400">
              <a:off x="390960" y="2578320"/>
              <a:ext cx="401760" cy="158400"/>
            </a:xfrm>
            <a:custGeom>
              <a:avLst/>
              <a:gdLst/>
              <a:ahLst/>
              <a:rect l="l" t="t" r="r" b="b"/>
              <a:pathLst>
                <a:path w="992" h="770">
                  <a:moveTo>
                    <a:pt x="808" y="320"/>
                  </a:moveTo>
                  <a:lnTo>
                    <a:pt x="823" y="219"/>
                  </a:lnTo>
                  <a:lnTo>
                    <a:pt x="881" y="181"/>
                  </a:lnTo>
                  <a:lnTo>
                    <a:pt x="950" y="174"/>
                  </a:lnTo>
                  <a:lnTo>
                    <a:pt x="992" y="219"/>
                  </a:lnTo>
                  <a:lnTo>
                    <a:pt x="973" y="308"/>
                  </a:lnTo>
                  <a:lnTo>
                    <a:pt x="935" y="427"/>
                  </a:lnTo>
                  <a:lnTo>
                    <a:pt x="857" y="562"/>
                  </a:lnTo>
                  <a:lnTo>
                    <a:pt x="761" y="677"/>
                  </a:lnTo>
                  <a:lnTo>
                    <a:pt x="681" y="739"/>
                  </a:lnTo>
                  <a:lnTo>
                    <a:pt x="592" y="770"/>
                  </a:lnTo>
                  <a:lnTo>
                    <a:pt x="507" y="759"/>
                  </a:lnTo>
                  <a:lnTo>
                    <a:pt x="442" y="723"/>
                  </a:lnTo>
                  <a:lnTo>
                    <a:pt x="419" y="666"/>
                  </a:lnTo>
                  <a:lnTo>
                    <a:pt x="392" y="566"/>
                  </a:lnTo>
                  <a:lnTo>
                    <a:pt x="361" y="382"/>
                  </a:lnTo>
                  <a:lnTo>
                    <a:pt x="338" y="254"/>
                  </a:lnTo>
                  <a:lnTo>
                    <a:pt x="338" y="104"/>
                  </a:lnTo>
                  <a:lnTo>
                    <a:pt x="323" y="78"/>
                  </a:lnTo>
                  <a:lnTo>
                    <a:pt x="277" y="70"/>
                  </a:lnTo>
                  <a:lnTo>
                    <a:pt x="223" y="112"/>
                  </a:lnTo>
                  <a:lnTo>
                    <a:pt x="173" y="181"/>
                  </a:lnTo>
                  <a:lnTo>
                    <a:pt x="115" y="219"/>
                  </a:lnTo>
                  <a:lnTo>
                    <a:pt x="27" y="219"/>
                  </a:lnTo>
                  <a:lnTo>
                    <a:pt x="0" y="196"/>
                  </a:lnTo>
                  <a:lnTo>
                    <a:pt x="0" y="158"/>
                  </a:lnTo>
                  <a:lnTo>
                    <a:pt x="39" y="123"/>
                  </a:lnTo>
                  <a:lnTo>
                    <a:pt x="81" y="135"/>
                  </a:lnTo>
                  <a:lnTo>
                    <a:pt x="119" y="127"/>
                  </a:lnTo>
                  <a:lnTo>
                    <a:pt x="189" y="78"/>
                  </a:lnTo>
                  <a:lnTo>
                    <a:pt x="257" y="23"/>
                  </a:lnTo>
                  <a:lnTo>
                    <a:pt x="323" y="8"/>
                  </a:lnTo>
                  <a:lnTo>
                    <a:pt x="415" y="0"/>
                  </a:lnTo>
                  <a:lnTo>
                    <a:pt x="419" y="42"/>
                  </a:lnTo>
                  <a:lnTo>
                    <a:pt x="397" y="89"/>
                  </a:lnTo>
                  <a:lnTo>
                    <a:pt x="392" y="208"/>
                  </a:lnTo>
                  <a:lnTo>
                    <a:pt x="419" y="366"/>
                  </a:lnTo>
                  <a:lnTo>
                    <a:pt x="462" y="520"/>
                  </a:lnTo>
                  <a:lnTo>
                    <a:pt x="499" y="612"/>
                  </a:lnTo>
                  <a:lnTo>
                    <a:pt x="558" y="655"/>
                  </a:lnTo>
                  <a:lnTo>
                    <a:pt x="615" y="655"/>
                  </a:lnTo>
                  <a:lnTo>
                    <a:pt x="673" y="612"/>
                  </a:lnTo>
                  <a:lnTo>
                    <a:pt x="750" y="515"/>
                  </a:lnTo>
                  <a:lnTo>
                    <a:pt x="800" y="377"/>
                  </a:lnTo>
                  <a:lnTo>
                    <a:pt x="808" y="32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 rot="21255000">
              <a:off x="582840" y="2094840"/>
              <a:ext cx="164160" cy="291600"/>
            </a:xfrm>
            <a:custGeom>
              <a:avLst/>
              <a:gdLst/>
              <a:ahLst/>
              <a:rect l="l" t="t" r="r" b="b"/>
              <a:pathLst>
                <a:path w="699" h="1216">
                  <a:moveTo>
                    <a:pt x="445" y="923"/>
                  </a:moveTo>
                  <a:lnTo>
                    <a:pt x="560" y="1039"/>
                  </a:lnTo>
                  <a:lnTo>
                    <a:pt x="606" y="1039"/>
                  </a:lnTo>
                  <a:lnTo>
                    <a:pt x="684" y="1086"/>
                  </a:lnTo>
                  <a:lnTo>
                    <a:pt x="699" y="1139"/>
                  </a:lnTo>
                  <a:lnTo>
                    <a:pt x="676" y="1208"/>
                  </a:lnTo>
                  <a:lnTo>
                    <a:pt x="614" y="1216"/>
                  </a:lnTo>
                  <a:lnTo>
                    <a:pt x="537" y="1162"/>
                  </a:lnTo>
                  <a:lnTo>
                    <a:pt x="383" y="1016"/>
                  </a:lnTo>
                  <a:lnTo>
                    <a:pt x="284" y="878"/>
                  </a:lnTo>
                  <a:lnTo>
                    <a:pt x="237" y="769"/>
                  </a:lnTo>
                  <a:lnTo>
                    <a:pt x="206" y="585"/>
                  </a:lnTo>
                  <a:lnTo>
                    <a:pt x="206" y="346"/>
                  </a:lnTo>
                  <a:lnTo>
                    <a:pt x="198" y="285"/>
                  </a:lnTo>
                  <a:lnTo>
                    <a:pt x="153" y="239"/>
                  </a:lnTo>
                  <a:lnTo>
                    <a:pt x="22" y="247"/>
                  </a:lnTo>
                  <a:lnTo>
                    <a:pt x="0" y="223"/>
                  </a:lnTo>
                  <a:lnTo>
                    <a:pt x="29" y="208"/>
                  </a:lnTo>
                  <a:lnTo>
                    <a:pt x="122" y="200"/>
                  </a:lnTo>
                  <a:lnTo>
                    <a:pt x="138" y="185"/>
                  </a:lnTo>
                  <a:lnTo>
                    <a:pt x="6" y="107"/>
                  </a:lnTo>
                  <a:lnTo>
                    <a:pt x="6" y="77"/>
                  </a:lnTo>
                  <a:lnTo>
                    <a:pt x="29" y="70"/>
                  </a:lnTo>
                  <a:lnTo>
                    <a:pt x="138" y="130"/>
                  </a:lnTo>
                  <a:lnTo>
                    <a:pt x="161" y="123"/>
                  </a:lnTo>
                  <a:lnTo>
                    <a:pt x="138" y="8"/>
                  </a:lnTo>
                  <a:lnTo>
                    <a:pt x="153" y="0"/>
                  </a:lnTo>
                  <a:lnTo>
                    <a:pt x="169" y="8"/>
                  </a:lnTo>
                  <a:lnTo>
                    <a:pt x="198" y="123"/>
                  </a:lnTo>
                  <a:lnTo>
                    <a:pt x="222" y="130"/>
                  </a:lnTo>
                  <a:lnTo>
                    <a:pt x="284" y="8"/>
                  </a:lnTo>
                  <a:lnTo>
                    <a:pt x="299" y="8"/>
                  </a:lnTo>
                  <a:lnTo>
                    <a:pt x="299" y="46"/>
                  </a:lnTo>
                  <a:lnTo>
                    <a:pt x="260" y="146"/>
                  </a:lnTo>
                  <a:lnTo>
                    <a:pt x="260" y="200"/>
                  </a:lnTo>
                  <a:lnTo>
                    <a:pt x="276" y="270"/>
                  </a:lnTo>
                  <a:lnTo>
                    <a:pt x="268" y="361"/>
                  </a:lnTo>
                  <a:lnTo>
                    <a:pt x="276" y="531"/>
                  </a:lnTo>
                  <a:lnTo>
                    <a:pt x="291" y="639"/>
                  </a:lnTo>
                  <a:lnTo>
                    <a:pt x="330" y="762"/>
                  </a:lnTo>
                  <a:lnTo>
                    <a:pt x="383" y="855"/>
                  </a:lnTo>
                  <a:lnTo>
                    <a:pt x="445" y="9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 rot="21255000">
              <a:off x="779040" y="2093760"/>
              <a:ext cx="214920" cy="243360"/>
            </a:xfrm>
            <a:custGeom>
              <a:avLst/>
              <a:gdLst/>
              <a:ahLst/>
              <a:rect l="l" t="t" r="r" b="b"/>
              <a:pathLst>
                <a:path w="915" h="1139">
                  <a:moveTo>
                    <a:pt x="15" y="1008"/>
                  </a:moveTo>
                  <a:lnTo>
                    <a:pt x="0" y="1061"/>
                  </a:lnTo>
                  <a:lnTo>
                    <a:pt x="15" y="1139"/>
                  </a:lnTo>
                  <a:lnTo>
                    <a:pt x="70" y="1139"/>
                  </a:lnTo>
                  <a:lnTo>
                    <a:pt x="231" y="1108"/>
                  </a:lnTo>
                  <a:lnTo>
                    <a:pt x="408" y="1046"/>
                  </a:lnTo>
                  <a:lnTo>
                    <a:pt x="554" y="946"/>
                  </a:lnTo>
                  <a:lnTo>
                    <a:pt x="639" y="816"/>
                  </a:lnTo>
                  <a:lnTo>
                    <a:pt x="715" y="593"/>
                  </a:lnTo>
                  <a:lnTo>
                    <a:pt x="738" y="385"/>
                  </a:lnTo>
                  <a:lnTo>
                    <a:pt x="738" y="285"/>
                  </a:lnTo>
                  <a:lnTo>
                    <a:pt x="777" y="224"/>
                  </a:lnTo>
                  <a:lnTo>
                    <a:pt x="845" y="200"/>
                  </a:lnTo>
                  <a:lnTo>
                    <a:pt x="907" y="200"/>
                  </a:lnTo>
                  <a:lnTo>
                    <a:pt x="915" y="169"/>
                  </a:lnTo>
                  <a:lnTo>
                    <a:pt x="823" y="177"/>
                  </a:lnTo>
                  <a:lnTo>
                    <a:pt x="808" y="154"/>
                  </a:lnTo>
                  <a:lnTo>
                    <a:pt x="884" y="70"/>
                  </a:lnTo>
                  <a:lnTo>
                    <a:pt x="868" y="47"/>
                  </a:lnTo>
                  <a:lnTo>
                    <a:pt x="853" y="62"/>
                  </a:lnTo>
                  <a:lnTo>
                    <a:pt x="792" y="123"/>
                  </a:lnTo>
                  <a:lnTo>
                    <a:pt x="777" y="123"/>
                  </a:lnTo>
                  <a:lnTo>
                    <a:pt x="777" y="16"/>
                  </a:lnTo>
                  <a:lnTo>
                    <a:pt x="761" y="0"/>
                  </a:lnTo>
                  <a:lnTo>
                    <a:pt x="738" y="8"/>
                  </a:lnTo>
                  <a:lnTo>
                    <a:pt x="746" y="123"/>
                  </a:lnTo>
                  <a:lnTo>
                    <a:pt x="730" y="131"/>
                  </a:lnTo>
                  <a:lnTo>
                    <a:pt x="668" y="70"/>
                  </a:lnTo>
                  <a:lnTo>
                    <a:pt x="623" y="62"/>
                  </a:lnTo>
                  <a:lnTo>
                    <a:pt x="631" y="93"/>
                  </a:lnTo>
                  <a:lnTo>
                    <a:pt x="699" y="162"/>
                  </a:lnTo>
                  <a:lnTo>
                    <a:pt x="699" y="200"/>
                  </a:lnTo>
                  <a:lnTo>
                    <a:pt x="676" y="278"/>
                  </a:lnTo>
                  <a:lnTo>
                    <a:pt x="676" y="346"/>
                  </a:lnTo>
                  <a:lnTo>
                    <a:pt x="676" y="462"/>
                  </a:lnTo>
                  <a:lnTo>
                    <a:pt x="645" y="608"/>
                  </a:lnTo>
                  <a:lnTo>
                    <a:pt x="615" y="700"/>
                  </a:lnTo>
                  <a:lnTo>
                    <a:pt x="561" y="816"/>
                  </a:lnTo>
                  <a:lnTo>
                    <a:pt x="499" y="908"/>
                  </a:lnTo>
                  <a:lnTo>
                    <a:pt x="454" y="954"/>
                  </a:lnTo>
                  <a:lnTo>
                    <a:pt x="330" y="993"/>
                  </a:lnTo>
                  <a:lnTo>
                    <a:pt x="215" y="1008"/>
                  </a:lnTo>
                  <a:lnTo>
                    <a:pt x="99" y="1024"/>
                  </a:lnTo>
                  <a:lnTo>
                    <a:pt x="15" y="100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62" name=""/>
          <p:cNvGrpSpPr/>
          <p:nvPr/>
        </p:nvGrpSpPr>
        <p:grpSpPr>
          <a:xfrm>
            <a:off x="160920" y="2709000"/>
            <a:ext cx="1427760" cy="1069560"/>
            <a:chOff x="160920" y="2709000"/>
            <a:chExt cx="1427760" cy="1069560"/>
          </a:xfrm>
        </p:grpSpPr>
        <p:sp>
          <p:nvSpPr>
            <p:cNvPr id="5563" name=""/>
            <p:cNvSpPr/>
            <p:nvPr/>
          </p:nvSpPr>
          <p:spPr>
            <a:xfrm rot="2359800">
              <a:off x="268200" y="2981160"/>
              <a:ext cx="783000" cy="619200"/>
            </a:xfrm>
            <a:custGeom>
              <a:avLst/>
              <a:gdLst/>
              <a:ahLst/>
              <a:rect l="l" t="t" r="r" b="b"/>
              <a:pathLst>
                <a:path w="2280" h="1785">
                  <a:moveTo>
                    <a:pt x="748" y="30"/>
                  </a:moveTo>
                  <a:cubicBezTo>
                    <a:pt x="881" y="60"/>
                    <a:pt x="985" y="267"/>
                    <a:pt x="1224" y="305"/>
                  </a:cubicBezTo>
                  <a:cubicBezTo>
                    <a:pt x="1463" y="343"/>
                    <a:pt x="2088" y="121"/>
                    <a:pt x="2184" y="257"/>
                  </a:cubicBezTo>
                  <a:cubicBezTo>
                    <a:pt x="2280" y="393"/>
                    <a:pt x="1873" y="945"/>
                    <a:pt x="1800" y="1121"/>
                  </a:cubicBezTo>
                  <a:cubicBezTo>
                    <a:pt x="1727" y="1297"/>
                    <a:pt x="1757" y="1253"/>
                    <a:pt x="1743" y="1313"/>
                  </a:cubicBezTo>
                  <a:cubicBezTo>
                    <a:pt x="1729" y="1373"/>
                    <a:pt x="1747" y="1440"/>
                    <a:pt x="1717" y="1479"/>
                  </a:cubicBezTo>
                  <a:cubicBezTo>
                    <a:pt x="1687" y="1518"/>
                    <a:pt x="1634" y="1537"/>
                    <a:pt x="1560" y="1549"/>
                  </a:cubicBezTo>
                  <a:cubicBezTo>
                    <a:pt x="1486" y="1561"/>
                    <a:pt x="1504" y="1536"/>
                    <a:pt x="1272" y="1553"/>
                  </a:cubicBezTo>
                  <a:cubicBezTo>
                    <a:pt x="1040" y="1570"/>
                    <a:pt x="336" y="1785"/>
                    <a:pt x="168" y="1649"/>
                  </a:cubicBezTo>
                  <a:cubicBezTo>
                    <a:pt x="0" y="1513"/>
                    <a:pt x="221" y="991"/>
                    <a:pt x="264" y="737"/>
                  </a:cubicBezTo>
                  <a:cubicBezTo>
                    <a:pt x="307" y="483"/>
                    <a:pt x="344" y="244"/>
                    <a:pt x="425" y="126"/>
                  </a:cubicBezTo>
                  <a:cubicBezTo>
                    <a:pt x="506" y="8"/>
                    <a:pt x="615" y="0"/>
                    <a:pt x="748" y="3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 rot="2359800">
              <a:off x="1046520" y="3048480"/>
              <a:ext cx="450360" cy="449640"/>
            </a:xfrm>
            <a:custGeom>
              <a:avLst/>
              <a:gdLst/>
              <a:ahLst/>
              <a:rect l="l" t="t" r="r" b="b"/>
              <a:pathLst>
                <a:path w="1312" h="1296">
                  <a:moveTo>
                    <a:pt x="592" y="160"/>
                  </a:moveTo>
                  <a:cubicBezTo>
                    <a:pt x="408" y="256"/>
                    <a:pt x="32" y="496"/>
                    <a:pt x="16" y="640"/>
                  </a:cubicBezTo>
                  <a:cubicBezTo>
                    <a:pt x="0" y="784"/>
                    <a:pt x="296" y="928"/>
                    <a:pt x="496" y="1024"/>
                  </a:cubicBezTo>
                  <a:cubicBezTo>
                    <a:pt x="696" y="1120"/>
                    <a:pt x="1120" y="1296"/>
                    <a:pt x="1216" y="1216"/>
                  </a:cubicBezTo>
                  <a:cubicBezTo>
                    <a:pt x="1312" y="1136"/>
                    <a:pt x="1088" y="736"/>
                    <a:pt x="1072" y="544"/>
                  </a:cubicBezTo>
                  <a:cubicBezTo>
                    <a:pt x="1056" y="352"/>
                    <a:pt x="1208" y="128"/>
                    <a:pt x="1120" y="64"/>
                  </a:cubicBezTo>
                  <a:cubicBezTo>
                    <a:pt x="1032" y="0"/>
                    <a:pt x="776" y="64"/>
                    <a:pt x="592" y="16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65" name=""/>
            <p:cNvGrpSpPr/>
            <p:nvPr/>
          </p:nvGrpSpPr>
          <p:grpSpPr>
            <a:xfrm>
              <a:off x="647640" y="2709000"/>
              <a:ext cx="691200" cy="740880"/>
              <a:chOff x="647640" y="2709000"/>
              <a:chExt cx="691200" cy="740880"/>
            </a:xfrm>
          </p:grpSpPr>
          <p:sp>
            <p:nvSpPr>
              <p:cNvPr id="5566" name=""/>
              <p:cNvSpPr/>
              <p:nvPr/>
            </p:nvSpPr>
            <p:spPr>
              <a:xfrm rot="21255000">
                <a:off x="995760" y="2788200"/>
                <a:ext cx="140760" cy="116640"/>
              </a:xfrm>
              <a:custGeom>
                <a:avLst/>
                <a:gdLst/>
                <a:ahLst/>
                <a:rect l="l" t="t" r="r" b="b"/>
                <a:pathLst>
                  <a:path w="600" h="608">
                    <a:moveTo>
                      <a:pt x="388" y="289"/>
                    </a:moveTo>
                    <a:lnTo>
                      <a:pt x="372" y="177"/>
                    </a:lnTo>
                    <a:lnTo>
                      <a:pt x="341" y="78"/>
                    </a:lnTo>
                    <a:lnTo>
                      <a:pt x="284" y="24"/>
                    </a:lnTo>
                    <a:lnTo>
                      <a:pt x="185" y="0"/>
                    </a:lnTo>
                    <a:lnTo>
                      <a:pt x="100" y="24"/>
                    </a:lnTo>
                    <a:lnTo>
                      <a:pt x="19" y="123"/>
                    </a:lnTo>
                    <a:lnTo>
                      <a:pt x="0" y="243"/>
                    </a:lnTo>
                    <a:lnTo>
                      <a:pt x="19" y="370"/>
                    </a:lnTo>
                    <a:lnTo>
                      <a:pt x="50" y="447"/>
                    </a:lnTo>
                    <a:lnTo>
                      <a:pt x="88" y="528"/>
                    </a:lnTo>
                    <a:lnTo>
                      <a:pt x="130" y="582"/>
                    </a:lnTo>
                    <a:lnTo>
                      <a:pt x="177" y="608"/>
                    </a:lnTo>
                    <a:lnTo>
                      <a:pt x="242" y="585"/>
                    </a:lnTo>
                    <a:lnTo>
                      <a:pt x="307" y="531"/>
                    </a:lnTo>
                    <a:lnTo>
                      <a:pt x="349" y="455"/>
                    </a:lnTo>
                    <a:lnTo>
                      <a:pt x="388" y="390"/>
                    </a:lnTo>
                    <a:lnTo>
                      <a:pt x="400" y="351"/>
                    </a:lnTo>
                    <a:lnTo>
                      <a:pt x="565" y="293"/>
                    </a:lnTo>
                    <a:lnTo>
                      <a:pt x="600" y="270"/>
                    </a:lnTo>
                    <a:lnTo>
                      <a:pt x="580" y="235"/>
                    </a:lnTo>
                    <a:lnTo>
                      <a:pt x="388" y="28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 rot="21255000">
                <a:off x="947160" y="2934000"/>
                <a:ext cx="144720" cy="260280"/>
              </a:xfrm>
              <a:custGeom>
                <a:avLst/>
                <a:gdLst/>
                <a:ahLst/>
                <a:rect l="l" t="t" r="r" b="b"/>
                <a:pathLst>
                  <a:path w="619" h="1085">
                    <a:moveTo>
                      <a:pt x="208" y="161"/>
                    </a:moveTo>
                    <a:lnTo>
                      <a:pt x="284" y="80"/>
                    </a:lnTo>
                    <a:lnTo>
                      <a:pt x="411" y="3"/>
                    </a:lnTo>
                    <a:lnTo>
                      <a:pt x="469" y="0"/>
                    </a:lnTo>
                    <a:lnTo>
                      <a:pt x="573" y="34"/>
                    </a:lnTo>
                    <a:lnTo>
                      <a:pt x="619" y="85"/>
                    </a:lnTo>
                    <a:lnTo>
                      <a:pt x="619" y="161"/>
                    </a:lnTo>
                    <a:lnTo>
                      <a:pt x="542" y="304"/>
                    </a:lnTo>
                    <a:lnTo>
                      <a:pt x="458" y="415"/>
                    </a:lnTo>
                    <a:lnTo>
                      <a:pt x="422" y="508"/>
                    </a:lnTo>
                    <a:lnTo>
                      <a:pt x="399" y="615"/>
                    </a:lnTo>
                    <a:lnTo>
                      <a:pt x="422" y="719"/>
                    </a:lnTo>
                    <a:lnTo>
                      <a:pt x="445" y="820"/>
                    </a:lnTo>
                    <a:lnTo>
                      <a:pt x="445" y="935"/>
                    </a:lnTo>
                    <a:lnTo>
                      <a:pt x="411" y="1005"/>
                    </a:lnTo>
                    <a:lnTo>
                      <a:pt x="334" y="1043"/>
                    </a:lnTo>
                    <a:lnTo>
                      <a:pt x="242" y="1085"/>
                    </a:lnTo>
                    <a:lnTo>
                      <a:pt x="157" y="1085"/>
                    </a:lnTo>
                    <a:lnTo>
                      <a:pt x="100" y="1054"/>
                    </a:lnTo>
                    <a:lnTo>
                      <a:pt x="23" y="927"/>
                    </a:lnTo>
                    <a:lnTo>
                      <a:pt x="0" y="797"/>
                    </a:lnTo>
                    <a:lnTo>
                      <a:pt x="8" y="628"/>
                    </a:lnTo>
                    <a:lnTo>
                      <a:pt x="65" y="415"/>
                    </a:lnTo>
                    <a:lnTo>
                      <a:pt x="123" y="277"/>
                    </a:lnTo>
                    <a:lnTo>
                      <a:pt x="20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 rot="21255000">
                <a:off x="1049040" y="3146760"/>
                <a:ext cx="281520" cy="179280"/>
              </a:xfrm>
              <a:custGeom>
                <a:avLst/>
                <a:gdLst/>
                <a:ahLst/>
                <a:rect l="l" t="t" r="r" b="b"/>
                <a:pathLst>
                  <a:path w="782" h="808">
                    <a:moveTo>
                      <a:pt x="0" y="76"/>
                    </a:moveTo>
                    <a:lnTo>
                      <a:pt x="66" y="0"/>
                    </a:lnTo>
                    <a:lnTo>
                      <a:pt x="163" y="0"/>
                    </a:lnTo>
                    <a:lnTo>
                      <a:pt x="343" y="19"/>
                    </a:lnTo>
                    <a:lnTo>
                      <a:pt x="555" y="30"/>
                    </a:lnTo>
                    <a:lnTo>
                      <a:pt x="636" y="65"/>
                    </a:lnTo>
                    <a:lnTo>
                      <a:pt x="670" y="110"/>
                    </a:lnTo>
                    <a:lnTo>
                      <a:pt x="678" y="180"/>
                    </a:lnTo>
                    <a:lnTo>
                      <a:pt x="654" y="253"/>
                    </a:lnTo>
                    <a:lnTo>
                      <a:pt x="589" y="365"/>
                    </a:lnTo>
                    <a:lnTo>
                      <a:pt x="504" y="457"/>
                    </a:lnTo>
                    <a:lnTo>
                      <a:pt x="439" y="541"/>
                    </a:lnTo>
                    <a:lnTo>
                      <a:pt x="412" y="607"/>
                    </a:lnTo>
                    <a:lnTo>
                      <a:pt x="393" y="653"/>
                    </a:lnTo>
                    <a:lnTo>
                      <a:pt x="400" y="689"/>
                    </a:lnTo>
                    <a:lnTo>
                      <a:pt x="405" y="711"/>
                    </a:lnTo>
                    <a:lnTo>
                      <a:pt x="482" y="711"/>
                    </a:lnTo>
                    <a:lnTo>
                      <a:pt x="601" y="692"/>
                    </a:lnTo>
                    <a:lnTo>
                      <a:pt x="678" y="692"/>
                    </a:lnTo>
                    <a:lnTo>
                      <a:pt x="758" y="723"/>
                    </a:lnTo>
                    <a:lnTo>
                      <a:pt x="782" y="761"/>
                    </a:lnTo>
                    <a:lnTo>
                      <a:pt x="758" y="796"/>
                    </a:lnTo>
                    <a:lnTo>
                      <a:pt x="724" y="808"/>
                    </a:lnTo>
                    <a:lnTo>
                      <a:pt x="670" y="792"/>
                    </a:lnTo>
                    <a:lnTo>
                      <a:pt x="597" y="749"/>
                    </a:lnTo>
                    <a:lnTo>
                      <a:pt x="520" y="757"/>
                    </a:lnTo>
                    <a:lnTo>
                      <a:pt x="393" y="780"/>
                    </a:lnTo>
                    <a:lnTo>
                      <a:pt x="355" y="773"/>
                    </a:lnTo>
                    <a:lnTo>
                      <a:pt x="335" y="746"/>
                    </a:lnTo>
                    <a:lnTo>
                      <a:pt x="335" y="681"/>
                    </a:lnTo>
                    <a:lnTo>
                      <a:pt x="335" y="588"/>
                    </a:lnTo>
                    <a:lnTo>
                      <a:pt x="389" y="518"/>
                    </a:lnTo>
                    <a:lnTo>
                      <a:pt x="470" y="414"/>
                    </a:lnTo>
                    <a:lnTo>
                      <a:pt x="540" y="323"/>
                    </a:lnTo>
                    <a:lnTo>
                      <a:pt x="586" y="253"/>
                    </a:lnTo>
                    <a:lnTo>
                      <a:pt x="609" y="192"/>
                    </a:lnTo>
                    <a:lnTo>
                      <a:pt x="597" y="157"/>
                    </a:lnTo>
                    <a:lnTo>
                      <a:pt x="566" y="115"/>
                    </a:lnTo>
                    <a:lnTo>
                      <a:pt x="520" y="103"/>
                    </a:lnTo>
                    <a:lnTo>
                      <a:pt x="470" y="103"/>
                    </a:lnTo>
                    <a:lnTo>
                      <a:pt x="358" y="103"/>
                    </a:lnTo>
                    <a:lnTo>
                      <a:pt x="193" y="134"/>
                    </a:lnTo>
                    <a:lnTo>
                      <a:pt x="70" y="146"/>
                    </a:lnTo>
                    <a:lnTo>
                      <a:pt x="20" y="134"/>
                    </a:lnTo>
                    <a:lnTo>
                      <a:pt x="0" y="11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 rot="19838400">
                <a:off x="660240" y="3202920"/>
                <a:ext cx="402120" cy="158040"/>
              </a:xfrm>
              <a:custGeom>
                <a:avLst/>
                <a:gdLst/>
                <a:ahLst/>
                <a:rect l="l" t="t" r="r" b="b"/>
                <a:pathLst>
                  <a:path w="992" h="770">
                    <a:moveTo>
                      <a:pt x="808" y="320"/>
                    </a:moveTo>
                    <a:lnTo>
                      <a:pt x="823" y="219"/>
                    </a:lnTo>
                    <a:lnTo>
                      <a:pt x="881" y="181"/>
                    </a:lnTo>
                    <a:lnTo>
                      <a:pt x="950" y="174"/>
                    </a:lnTo>
                    <a:lnTo>
                      <a:pt x="992" y="219"/>
                    </a:lnTo>
                    <a:lnTo>
                      <a:pt x="973" y="308"/>
                    </a:lnTo>
                    <a:lnTo>
                      <a:pt x="935" y="427"/>
                    </a:lnTo>
                    <a:lnTo>
                      <a:pt x="857" y="562"/>
                    </a:lnTo>
                    <a:lnTo>
                      <a:pt x="761" y="677"/>
                    </a:lnTo>
                    <a:lnTo>
                      <a:pt x="681" y="739"/>
                    </a:lnTo>
                    <a:lnTo>
                      <a:pt x="592" y="770"/>
                    </a:lnTo>
                    <a:lnTo>
                      <a:pt x="507" y="759"/>
                    </a:lnTo>
                    <a:lnTo>
                      <a:pt x="442" y="723"/>
                    </a:lnTo>
                    <a:lnTo>
                      <a:pt x="419" y="666"/>
                    </a:lnTo>
                    <a:lnTo>
                      <a:pt x="392" y="566"/>
                    </a:lnTo>
                    <a:lnTo>
                      <a:pt x="361" y="382"/>
                    </a:lnTo>
                    <a:lnTo>
                      <a:pt x="338" y="254"/>
                    </a:lnTo>
                    <a:lnTo>
                      <a:pt x="338" y="104"/>
                    </a:lnTo>
                    <a:lnTo>
                      <a:pt x="323" y="78"/>
                    </a:lnTo>
                    <a:lnTo>
                      <a:pt x="277" y="70"/>
                    </a:lnTo>
                    <a:lnTo>
                      <a:pt x="223" y="112"/>
                    </a:lnTo>
                    <a:lnTo>
                      <a:pt x="173" y="181"/>
                    </a:lnTo>
                    <a:lnTo>
                      <a:pt x="115" y="219"/>
                    </a:lnTo>
                    <a:lnTo>
                      <a:pt x="27" y="219"/>
                    </a:lnTo>
                    <a:lnTo>
                      <a:pt x="0" y="196"/>
                    </a:lnTo>
                    <a:lnTo>
                      <a:pt x="0" y="158"/>
                    </a:lnTo>
                    <a:lnTo>
                      <a:pt x="39" y="123"/>
                    </a:lnTo>
                    <a:lnTo>
                      <a:pt x="81" y="135"/>
                    </a:lnTo>
                    <a:lnTo>
                      <a:pt x="119" y="127"/>
                    </a:lnTo>
                    <a:lnTo>
                      <a:pt x="189" y="78"/>
                    </a:lnTo>
                    <a:lnTo>
                      <a:pt x="257" y="23"/>
                    </a:lnTo>
                    <a:lnTo>
                      <a:pt x="323" y="8"/>
                    </a:lnTo>
                    <a:lnTo>
                      <a:pt x="415" y="0"/>
                    </a:lnTo>
                    <a:lnTo>
                      <a:pt x="419" y="42"/>
                    </a:lnTo>
                    <a:lnTo>
                      <a:pt x="397" y="89"/>
                    </a:lnTo>
                    <a:lnTo>
                      <a:pt x="392" y="208"/>
                    </a:lnTo>
                    <a:lnTo>
                      <a:pt x="419" y="366"/>
                    </a:lnTo>
                    <a:lnTo>
                      <a:pt x="462" y="520"/>
                    </a:lnTo>
                    <a:lnTo>
                      <a:pt x="499" y="612"/>
                    </a:lnTo>
                    <a:lnTo>
                      <a:pt x="558" y="655"/>
                    </a:lnTo>
                    <a:lnTo>
                      <a:pt x="615" y="655"/>
                    </a:lnTo>
                    <a:lnTo>
                      <a:pt x="673" y="612"/>
                    </a:lnTo>
                    <a:lnTo>
                      <a:pt x="750" y="515"/>
                    </a:lnTo>
                    <a:lnTo>
                      <a:pt x="800" y="377"/>
                    </a:lnTo>
                    <a:lnTo>
                      <a:pt x="808" y="3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 rot="21255000">
                <a:off x="852840" y="2720160"/>
                <a:ext cx="164160" cy="291240"/>
              </a:xfrm>
              <a:custGeom>
                <a:avLst/>
                <a:gdLst/>
                <a:ahLst/>
                <a:rect l="l" t="t" r="r" b="b"/>
                <a:pathLst>
                  <a:path w="699" h="1216">
                    <a:moveTo>
                      <a:pt x="445" y="923"/>
                    </a:moveTo>
                    <a:lnTo>
                      <a:pt x="560" y="1039"/>
                    </a:lnTo>
                    <a:lnTo>
                      <a:pt x="606" y="1039"/>
                    </a:lnTo>
                    <a:lnTo>
                      <a:pt x="684" y="1086"/>
                    </a:lnTo>
                    <a:lnTo>
                      <a:pt x="699" y="1139"/>
                    </a:lnTo>
                    <a:lnTo>
                      <a:pt x="676" y="1208"/>
                    </a:lnTo>
                    <a:lnTo>
                      <a:pt x="614" y="1216"/>
                    </a:lnTo>
                    <a:lnTo>
                      <a:pt x="537" y="1162"/>
                    </a:lnTo>
                    <a:lnTo>
                      <a:pt x="383" y="1016"/>
                    </a:lnTo>
                    <a:lnTo>
                      <a:pt x="284" y="878"/>
                    </a:lnTo>
                    <a:lnTo>
                      <a:pt x="237" y="769"/>
                    </a:lnTo>
                    <a:lnTo>
                      <a:pt x="206" y="585"/>
                    </a:lnTo>
                    <a:lnTo>
                      <a:pt x="206" y="346"/>
                    </a:lnTo>
                    <a:lnTo>
                      <a:pt x="198" y="285"/>
                    </a:lnTo>
                    <a:lnTo>
                      <a:pt x="153" y="239"/>
                    </a:lnTo>
                    <a:lnTo>
                      <a:pt x="22" y="247"/>
                    </a:lnTo>
                    <a:lnTo>
                      <a:pt x="0" y="223"/>
                    </a:lnTo>
                    <a:lnTo>
                      <a:pt x="29" y="208"/>
                    </a:lnTo>
                    <a:lnTo>
                      <a:pt x="122" y="200"/>
                    </a:lnTo>
                    <a:lnTo>
                      <a:pt x="138" y="185"/>
                    </a:lnTo>
                    <a:lnTo>
                      <a:pt x="6" y="107"/>
                    </a:lnTo>
                    <a:lnTo>
                      <a:pt x="6" y="77"/>
                    </a:lnTo>
                    <a:lnTo>
                      <a:pt x="29" y="70"/>
                    </a:lnTo>
                    <a:lnTo>
                      <a:pt x="138" y="130"/>
                    </a:lnTo>
                    <a:lnTo>
                      <a:pt x="161" y="123"/>
                    </a:lnTo>
                    <a:lnTo>
                      <a:pt x="138" y="8"/>
                    </a:lnTo>
                    <a:lnTo>
                      <a:pt x="153" y="0"/>
                    </a:lnTo>
                    <a:lnTo>
                      <a:pt x="169" y="8"/>
                    </a:lnTo>
                    <a:lnTo>
                      <a:pt x="198" y="123"/>
                    </a:lnTo>
                    <a:lnTo>
                      <a:pt x="222" y="130"/>
                    </a:lnTo>
                    <a:lnTo>
                      <a:pt x="284" y="8"/>
                    </a:lnTo>
                    <a:lnTo>
                      <a:pt x="299" y="8"/>
                    </a:lnTo>
                    <a:lnTo>
                      <a:pt x="299" y="46"/>
                    </a:lnTo>
                    <a:lnTo>
                      <a:pt x="260" y="146"/>
                    </a:lnTo>
                    <a:lnTo>
                      <a:pt x="260" y="200"/>
                    </a:lnTo>
                    <a:lnTo>
                      <a:pt x="276" y="270"/>
                    </a:lnTo>
                    <a:lnTo>
                      <a:pt x="268" y="361"/>
                    </a:lnTo>
                    <a:lnTo>
                      <a:pt x="276" y="531"/>
                    </a:lnTo>
                    <a:lnTo>
                      <a:pt x="291" y="639"/>
                    </a:lnTo>
                    <a:lnTo>
                      <a:pt x="330" y="762"/>
                    </a:lnTo>
                    <a:lnTo>
                      <a:pt x="383" y="855"/>
                    </a:lnTo>
                    <a:lnTo>
                      <a:pt x="445" y="9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 rot="21255000">
                <a:off x="1048680" y="2719080"/>
                <a:ext cx="214920" cy="243000"/>
              </a:xfrm>
              <a:custGeom>
                <a:avLst/>
                <a:gdLst/>
                <a:ahLst/>
                <a:rect l="l" t="t" r="r" b="b"/>
                <a:pathLst>
                  <a:path w="915" h="1139">
                    <a:moveTo>
                      <a:pt x="15" y="1008"/>
                    </a:moveTo>
                    <a:lnTo>
                      <a:pt x="0" y="1061"/>
                    </a:lnTo>
                    <a:lnTo>
                      <a:pt x="15" y="1139"/>
                    </a:lnTo>
                    <a:lnTo>
                      <a:pt x="70" y="1139"/>
                    </a:lnTo>
                    <a:lnTo>
                      <a:pt x="231" y="1108"/>
                    </a:lnTo>
                    <a:lnTo>
                      <a:pt x="408" y="1046"/>
                    </a:lnTo>
                    <a:lnTo>
                      <a:pt x="554" y="946"/>
                    </a:lnTo>
                    <a:lnTo>
                      <a:pt x="639" y="816"/>
                    </a:lnTo>
                    <a:lnTo>
                      <a:pt x="715" y="593"/>
                    </a:lnTo>
                    <a:lnTo>
                      <a:pt x="738" y="385"/>
                    </a:lnTo>
                    <a:lnTo>
                      <a:pt x="738" y="285"/>
                    </a:lnTo>
                    <a:lnTo>
                      <a:pt x="777" y="224"/>
                    </a:lnTo>
                    <a:lnTo>
                      <a:pt x="845" y="200"/>
                    </a:lnTo>
                    <a:lnTo>
                      <a:pt x="907" y="200"/>
                    </a:lnTo>
                    <a:lnTo>
                      <a:pt x="915" y="169"/>
                    </a:lnTo>
                    <a:lnTo>
                      <a:pt x="823" y="177"/>
                    </a:lnTo>
                    <a:lnTo>
                      <a:pt x="808" y="154"/>
                    </a:lnTo>
                    <a:lnTo>
                      <a:pt x="884" y="70"/>
                    </a:lnTo>
                    <a:lnTo>
                      <a:pt x="868" y="47"/>
                    </a:lnTo>
                    <a:lnTo>
                      <a:pt x="853" y="62"/>
                    </a:lnTo>
                    <a:lnTo>
                      <a:pt x="792" y="123"/>
                    </a:lnTo>
                    <a:lnTo>
                      <a:pt x="777" y="123"/>
                    </a:lnTo>
                    <a:lnTo>
                      <a:pt x="777" y="16"/>
                    </a:lnTo>
                    <a:lnTo>
                      <a:pt x="761" y="0"/>
                    </a:lnTo>
                    <a:lnTo>
                      <a:pt x="738" y="8"/>
                    </a:lnTo>
                    <a:lnTo>
                      <a:pt x="746" y="123"/>
                    </a:lnTo>
                    <a:lnTo>
                      <a:pt x="730" y="131"/>
                    </a:lnTo>
                    <a:lnTo>
                      <a:pt x="668" y="70"/>
                    </a:lnTo>
                    <a:lnTo>
                      <a:pt x="623" y="62"/>
                    </a:lnTo>
                    <a:lnTo>
                      <a:pt x="631" y="93"/>
                    </a:lnTo>
                    <a:lnTo>
                      <a:pt x="699" y="162"/>
                    </a:lnTo>
                    <a:lnTo>
                      <a:pt x="699" y="200"/>
                    </a:lnTo>
                    <a:lnTo>
                      <a:pt x="676" y="278"/>
                    </a:lnTo>
                    <a:lnTo>
                      <a:pt x="676" y="346"/>
                    </a:lnTo>
                    <a:lnTo>
                      <a:pt x="676" y="462"/>
                    </a:lnTo>
                    <a:lnTo>
                      <a:pt x="645" y="608"/>
                    </a:lnTo>
                    <a:lnTo>
                      <a:pt x="615" y="700"/>
                    </a:lnTo>
                    <a:lnTo>
                      <a:pt x="561" y="816"/>
                    </a:lnTo>
                    <a:lnTo>
                      <a:pt x="499" y="908"/>
                    </a:lnTo>
                    <a:lnTo>
                      <a:pt x="454" y="954"/>
                    </a:lnTo>
                    <a:lnTo>
                      <a:pt x="330" y="993"/>
                    </a:lnTo>
                    <a:lnTo>
                      <a:pt x="215" y="1008"/>
                    </a:lnTo>
                    <a:lnTo>
                      <a:pt x="99" y="1024"/>
                    </a:lnTo>
                    <a:lnTo>
                      <a:pt x="15" y="10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72" name=""/>
          <p:cNvSpPr/>
          <p:nvPr/>
        </p:nvSpPr>
        <p:spPr>
          <a:xfrm>
            <a:off x="1529640" y="2727360"/>
            <a:ext cx="5098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s the length of the shortest </a:t>
            </a:r>
            <a:br>
              <a:rPr sz="3000"/>
            </a:b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handle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path to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v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3" name=""/>
          <p:cNvSpPr/>
          <p:nvPr/>
        </p:nvSpPr>
        <p:spPr>
          <a:xfrm flipH="1">
            <a:off x="5028840" y="190512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74" name=""/>
          <p:cNvGrpSpPr/>
          <p:nvPr/>
        </p:nvGrpSpPr>
        <p:grpSpPr>
          <a:xfrm>
            <a:off x="914400" y="3657600"/>
            <a:ext cx="8047080" cy="3200400"/>
            <a:chOff x="914400" y="3657600"/>
            <a:chExt cx="8047080" cy="3200400"/>
          </a:xfrm>
        </p:grpSpPr>
        <p:pic>
          <p:nvPicPr>
            <p:cNvPr id="5575" name="" descr=""/>
            <p:cNvPicPr/>
            <p:nvPr/>
          </p:nvPicPr>
          <p:blipFill>
            <a:blip r:embed="rId4"/>
            <a:stretch/>
          </p:blipFill>
          <p:spPr>
            <a:xfrm>
              <a:off x="914400" y="3816360"/>
              <a:ext cx="6248520" cy="30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6" name=""/>
            <p:cNvSpPr/>
            <p:nvPr/>
          </p:nvSpPr>
          <p:spPr>
            <a:xfrm>
              <a:off x="2440800" y="4098960"/>
              <a:ext cx="814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33cc33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33cc33"/>
                  </a:solidFill>
                  <a:latin typeface="Times New Roman"/>
                </a:rPr>
                <a:t>(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3000" spc="-1" strike="noStrike">
                  <a:solidFill>
                    <a:srgbClr val="33cc33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3812400" y="5318280"/>
              <a:ext cx="793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33cc33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33cc33"/>
                  </a:solidFill>
                  <a:latin typeface="Times New Roman"/>
                </a:rPr>
                <a:t>(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3000" spc="-1" strike="noStrike">
                  <a:solidFill>
                    <a:srgbClr val="33cc33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3548520" y="4267080"/>
              <a:ext cx="99756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9900"/>
                  </a:solidFill>
                  <a:latin typeface="Times New Roman"/>
                </a:rPr>
                <a:t>w</a:t>
              </a:r>
              <a:r>
                <a:rPr b="0" i="1" lang="en-US" sz="3000" spc="-1" strike="noStrike" baseline="-25000">
                  <a:solidFill>
                    <a:srgbClr val="ff9900"/>
                  </a:solidFill>
                  <a:latin typeface="Times New Roman"/>
                </a:rPr>
                <a:t>&lt;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u,v</a:t>
              </a:r>
              <a:r>
                <a:rPr b="0" i="1" lang="en-US" sz="3000" spc="-1" strike="noStrike" baseline="-25000">
                  <a:solidFill>
                    <a:srgbClr val="ff99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4572000" y="3657600"/>
              <a:ext cx="281952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4159080" y="6232680"/>
              <a:ext cx="48024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33cc33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33cc33"/>
                  </a:solidFill>
                  <a:latin typeface="Times New Roman"/>
                </a:rPr>
                <a:t>(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en-US" sz="3000" spc="-1" strike="noStrike">
                  <a:solidFill>
                    <a:srgbClr val="33cc33"/>
                  </a:solidFill>
                  <a:latin typeface="Times New Roman"/>
                </a:rPr>
                <a:t>)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= min( </a:t>
              </a:r>
              <a:r>
                <a:rPr b="0" i="1" lang="en-US" sz="3000" spc="-1" strike="noStrike">
                  <a:solidFill>
                    <a:srgbClr val="33cc33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33cc33"/>
                  </a:solidFill>
                  <a:latin typeface="Times New Roman"/>
                </a:rPr>
                <a:t>(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en-US" sz="3000" spc="-1" strike="noStrike">
                  <a:solidFill>
                    <a:srgbClr val="33cc33"/>
                  </a:solidFill>
                  <a:latin typeface="Times New Roman"/>
                </a:rPr>
                <a:t>), </a:t>
              </a:r>
              <a:r>
                <a:rPr b="0" i="1" lang="en-US" sz="3000" spc="-1" strike="noStrike">
                  <a:solidFill>
                    <a:srgbClr val="33cc33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33cc33"/>
                  </a:solidFill>
                  <a:latin typeface="Times New Roman"/>
                </a:rPr>
                <a:t>(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n-US" sz="3000" spc="-1" strike="noStrike">
                  <a:solidFill>
                    <a:srgbClr val="33cc33"/>
                  </a:solidFill>
                  <a:latin typeface="Times New Roman"/>
                </a:rPr>
                <a:t>)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i="1" lang="en-US" sz="3000" spc="-1" strike="noStrike">
                  <a:solidFill>
                    <a:srgbClr val="ff9900"/>
                  </a:solidFill>
                  <a:latin typeface="Times New Roman"/>
                </a:rPr>
                <a:t>w</a:t>
              </a:r>
              <a:r>
                <a:rPr b="0" i="1" lang="en-US" sz="3000" spc="-1" strike="noStrike" baseline="-25000">
                  <a:solidFill>
                    <a:srgbClr val="ff9900"/>
                  </a:solidFill>
                  <a:latin typeface="Times New Roman"/>
                </a:rPr>
                <a:t>&lt;</a:t>
              </a:r>
              <a:r>
                <a:rPr b="0" i="1" lang="en-US" sz="3000" spc="-1" strike="noStrike" baseline="-25000">
                  <a:solidFill>
                    <a:srgbClr val="ffffff"/>
                  </a:solidFill>
                  <a:latin typeface="Times New Roman"/>
                </a:rPr>
                <a:t>u,v</a:t>
              </a:r>
              <a:r>
                <a:rPr b="0" i="1" lang="en-US" sz="3000" spc="-1" strike="noStrike" baseline="-25000">
                  <a:solidFill>
                    <a:srgbClr val="ff9900"/>
                  </a:solidFill>
                  <a:latin typeface="Times New Roman"/>
                </a:rPr>
                <a:t>&gt;</a:t>
              </a:r>
              <a:r>
                <a:rPr b="0" lang="en-US" sz="3000" spc="-1" strike="noStrike">
                  <a:solidFill>
                    <a:srgbClr val="33cc33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5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5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4T20:34:24Z</dcterms:created>
  <dc:creator>Jeff Edmonds</dc:creator>
  <dc:description/>
  <dc:language>en-US</dc:language>
  <cp:lastModifiedBy>Lauren Cowles</cp:lastModifiedBy>
  <dcterms:modified xsi:type="dcterms:W3CDTF">2008-06-18T00:23:51Z</dcterms:modified>
  <cp:revision>242</cp:revision>
  <dc:subject/>
  <dc:title>PowerPoint Presentation</dc:title>
</cp:coreProperties>
</file>