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4D82-D434-4E4A-B042-201CBA13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8F61-7B08-48B3-98DF-8910BAE6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3CE8-3373-45F1-8087-A11D12C9C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4B1F-9DD6-4DB3-B765-62343BEBE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6DD4-ADAE-4AFA-93C2-8888DFE7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E314-82B0-47D4-B9E1-EF9B5B01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A558-D1C9-4806-BFCE-0D7EDED5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5558-8226-4F57-BFDC-140A4E3E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51C4-8018-4C6B-8F32-46C15C7B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078F-B669-408D-BB1D-CF8EDC83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E36F-8415-4CAB-8BE7-DEF23178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6B1C-29BE-4CA8-9EF2-0E3249B1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321C-619D-4D44-A6E5-ACA3C9B3A35B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425680" y="1944720"/>
            <a:ext cx="4292640" cy="296856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3554280" y="2500200"/>
            <a:ext cx="2035440" cy="185760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08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3130560" y="1987560"/>
            <a:ext cx="2882880" cy="288288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09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3130560" y="1987560"/>
            <a:ext cx="2882880" cy="288288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09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2805120" y="2405160"/>
            <a:ext cx="3533760" cy="20476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3127320" y="2457360"/>
            <a:ext cx="2889360" cy="194328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2770200" y="2774880"/>
            <a:ext cx="3603600" cy="130824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12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2770200" y="2752560"/>
            <a:ext cx="3603600" cy="1352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12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3309840" y="2432160"/>
            <a:ext cx="2524320" cy="199368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13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3309840" y="2584440"/>
            <a:ext cx="2524320" cy="168912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13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3489480" y="2508120"/>
            <a:ext cx="2165040" cy="184176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14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2662200" y="2101680"/>
            <a:ext cx="3819600" cy="265464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3489480" y="2449440"/>
            <a:ext cx="2165040" cy="195912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14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3575160" y="2556000"/>
            <a:ext cx="1993680" cy="17460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14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2951280" y="3009960"/>
            <a:ext cx="3241440" cy="83808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3314880" y="2670120"/>
            <a:ext cx="2514600" cy="15177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2424240" y="2403360"/>
            <a:ext cx="4295520" cy="20512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2624040" y="1568520"/>
            <a:ext cx="3895920" cy="37209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2643120" y="1638360"/>
            <a:ext cx="3857760" cy="35812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2411280" y="2270160"/>
            <a:ext cx="4321440" cy="23176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2374920" y="2286000"/>
            <a:ext cx="4394160" cy="22860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2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2371680" y="1820880"/>
            <a:ext cx="4400640" cy="32162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2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2496960" y="2216160"/>
            <a:ext cx="4150080" cy="242568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2373480" y="1766880"/>
            <a:ext cx="4397040" cy="33242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2446200" y="2523960"/>
            <a:ext cx="4251600" cy="181008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2585880" y="2206800"/>
            <a:ext cx="3972240" cy="244440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2824200" y="2179800"/>
            <a:ext cx="3495600" cy="249840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3309840" y="2719440"/>
            <a:ext cx="2524320" cy="141912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07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3309840" y="2571840"/>
            <a:ext cx="2524320" cy="171432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07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3579840" y="2654280"/>
            <a:ext cx="1984320" cy="154944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08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23T17:16:45Z</dcterms:created>
  <dc:creator>StephenKumar, SampathKumar</dc:creator>
  <dc:description/>
  <dc:language>en-US</dc:language>
  <cp:lastModifiedBy>StephenKumar, SampathKumar</cp:lastModifiedBy>
  <dcterms:modified xsi:type="dcterms:W3CDTF">2020-04-23T17:25:08Z</dcterms:modified>
  <cp:revision>2</cp:revision>
  <dc:subject/>
  <dc:title>PowerPoint Presentation</dc:title>
</cp:coreProperties>
</file>