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CE0-B112-407C-ABF3-C112860A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7AE-D821-4665-9D3D-4D942A5C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1F8-6451-436F-8FEA-67C2316D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030-2556-49FB-8E91-A70A21D9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B39-DE46-49AD-B705-189303A3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A87-A664-474B-AB39-A125AF07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254-6BF8-4E2D-9E82-1C7DE584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5130-DA86-4608-8BEE-95A21DC0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C87-392E-4F29-819D-F77F38D7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606-21A3-4072-8A35-3D74DFFD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6DA4-37B6-45F3-BD81-8CC51571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F353-9A78-468F-93B7-ECD55E4F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B747-8774-46E9-B2C1-A9E684892313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794040" y="3017880"/>
            <a:ext cx="1555920" cy="8222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2757600" y="2755800"/>
            <a:ext cx="3628800" cy="13464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2708280" y="2548080"/>
            <a:ext cx="3727440" cy="1761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068640" y="2849400"/>
            <a:ext cx="3006720" cy="1159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4127400" y="3036960"/>
            <a:ext cx="889200" cy="78408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4167360" y="2892600"/>
            <a:ext cx="809280" cy="10728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3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297240" y="2914560"/>
            <a:ext cx="2549520" cy="102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3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492360" y="2744640"/>
            <a:ext cx="2159280" cy="13687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4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492360" y="2784600"/>
            <a:ext cx="2159280" cy="1288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4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492360" y="2610000"/>
            <a:ext cx="2159280" cy="163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4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514680" y="2662200"/>
            <a:ext cx="2114640" cy="15336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592440" y="3137040"/>
            <a:ext cx="1959120" cy="583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3T17:03:32Z</dcterms:created>
  <dc:creator>StephenKumar, SampathKumar</dc:creator>
  <dc:description/>
  <dc:language>en-US</dc:language>
  <cp:lastModifiedBy>StephenKumar, SampathKumar</cp:lastModifiedBy>
  <dcterms:modified xsi:type="dcterms:W3CDTF">2020-04-23T17:20:38Z</dcterms:modified>
  <cp:revision>2</cp:revision>
  <dc:subject/>
  <dc:title>PowerPoint Presentation</dc:title>
</cp:coreProperties>
</file>