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64C-887A-4146-9332-CD109CA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657-7EB4-4D93-BB78-B29DB22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E0E-0B85-4BBB-B5EE-024D6DCD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567-FC92-4673-9665-E453B81E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886-E43E-4748-85FE-F0289F9C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128-EAFB-4C04-9610-3619D2E3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6FC-42CB-4144-8892-F366D42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716-52BD-4C9D-89BA-BBB91CAA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0E1-236C-4FC8-8342-2958921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69B-A4DD-437D-ABD7-8845A91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8A6-7869-403F-AA4E-32235E6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324-8204-46CE-95A2-6803A7F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5F3F-22F4-4E40-B052-7F3E3B887F8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71800" y="2305080"/>
            <a:ext cx="3200400" cy="2247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427120" y="2554200"/>
            <a:ext cx="4289760" cy="1749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178080" y="2789280"/>
            <a:ext cx="2787840" cy="127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068560" y="1919160"/>
            <a:ext cx="5006880" cy="3019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06560" y="3011400"/>
            <a:ext cx="3530880" cy="835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92200" y="1662120"/>
            <a:ext cx="4359600" cy="3533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631960" y="2062080"/>
            <a:ext cx="388008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2:02Z</dcterms:created>
  <dc:creator>StephenKumar, SampathKumar</dc:creator>
  <dc:description/>
  <dc:language>en-US</dc:language>
  <cp:lastModifiedBy>StephenKumar, SampathKumar</cp:lastModifiedBy>
  <dcterms:modified xsi:type="dcterms:W3CDTF">2020-04-23T17:19:27Z</dcterms:modified>
  <cp:revision>2</cp:revision>
  <dc:subject/>
  <dc:title>PowerPoint Presentation</dc:title>
</cp:coreProperties>
</file>