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A13-7F4F-4F5F-821D-83ACA731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6F8-3E68-4E1D-8C6D-9E7A8C85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C4A-CC33-42E7-8701-3DACB3B0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A67-5EF1-44DB-ADC3-018C2950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42A-3676-4D32-B95E-B5E510DB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367-6C0B-4A5E-A083-39A88691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D83-C74A-4B8B-8EDC-7DD508E3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3BF-ED06-4E4D-9421-7C048175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749-BEC4-4E76-BC12-702508D8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049-6B64-41F1-BAAB-290D9D8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DAB-9D1E-4025-926D-AE25F65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9EA-851E-4D5C-A188-909212B2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CE5F-8957-43AD-BAD7-5907EC71E665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70200" y="2709720"/>
            <a:ext cx="1803600" cy="1438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849840" y="3138480"/>
            <a:ext cx="1444320" cy="581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76560" y="2922480"/>
            <a:ext cx="1190880" cy="1013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844800" y="2921040"/>
            <a:ext cx="1454400" cy="1015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762360" y="2919240"/>
            <a:ext cx="1619280" cy="1019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3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952720" y="2685960"/>
            <a:ext cx="323856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00:28Z</dcterms:created>
  <dc:creator>StephenKumar, SampathKumar</dc:creator>
  <dc:description/>
  <dc:language>en-US</dc:language>
  <cp:lastModifiedBy>StephenKumar, SampathKumar</cp:lastModifiedBy>
  <dcterms:modified xsi:type="dcterms:W3CDTF">2020-04-23T17:18:38Z</dcterms:modified>
  <cp:revision>2</cp:revision>
  <dc:subject/>
  <dc:title>PowerPoint Presentation</dc:title>
</cp:coreProperties>
</file>