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D771-D000-44D4-871D-F807F0F2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730-F986-48BA-9366-08D54B83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AAD8-9A10-4E16-ADA7-517CDC55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0BC-C954-4E2B-86A9-6E5968EF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CED9-57A4-43C2-9D90-B8BAC022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AE4-7F2A-43CF-BD38-3886B773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8FC-9E1B-4EBD-B730-D62F6A9D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C73-A2CE-4E44-9950-4509200D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0E8-77A8-4143-85CB-7E84BC72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0BF5-A09A-48E3-B323-995296DB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CD2-824E-4A24-A542-37239F76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8621-C06D-4CD3-AE56-735A207D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FC93-EF25-44F9-80DF-51CEFF149287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46400" y="1684440"/>
            <a:ext cx="4651200" cy="3489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8-fig8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129120" y="1662120"/>
            <a:ext cx="2885760" cy="35337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8-fig8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129120" y="2276640"/>
            <a:ext cx="2885760" cy="230472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8-fig8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130560" y="1933560"/>
            <a:ext cx="2882880" cy="2990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8-fig8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2590920" y="1886040"/>
            <a:ext cx="3962160" cy="3085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8-fig8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619440" y="2706840"/>
            <a:ext cx="1905120" cy="144432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8-fig8_06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597120" y="2711520"/>
            <a:ext cx="1949760" cy="14349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8-fig8_06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597120" y="2711520"/>
            <a:ext cx="1949760" cy="143496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8-fig8_06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3T17:22:03Z</dcterms:created>
  <dc:creator>StephenKumar, SampathKumar</dc:creator>
  <dc:description/>
  <dc:language>en-US</dc:language>
  <cp:lastModifiedBy>StephenKumar, SampathKumar</cp:lastModifiedBy>
  <dcterms:modified xsi:type="dcterms:W3CDTF">2020-04-23T17:27:22Z</dcterms:modified>
  <cp:revision>2</cp:revision>
  <dc:subject/>
  <dc:title>PowerPoint Presentation</dc:title>
</cp:coreProperties>
</file>