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54F6-794A-443F-B375-F8607886D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CA4E-3243-4155-81AC-A864C1E47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C8EE-4932-4518-8F8A-26DDCEFBD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A6F9-4778-4A7D-A2C1-CDCFA45D0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A594-4A75-47D0-83E9-91A12BD58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5189-092D-4B41-BF51-50BF58B18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42D2-20A5-431D-95E4-C5502C4FF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78B9-1B11-4351-9737-74CBE7A7A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2285-DD91-4063-A2C3-62E1B226B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E32C-1084-4411-A81D-1EE0A6AF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BD0D-0E3F-4F79-A3B6-4BEC918C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6E1D-BD0D-4322-8C6E-22C59948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8D26F-3332-4518-8E80-E1672654B41D}" type="slidenum">
              <a:rPr b="0" lang="en-US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146400" y="2708280"/>
            <a:ext cx="2851200" cy="144144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7-fig7_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3559320" y="2746440"/>
            <a:ext cx="2025360" cy="136512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7-fig7_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2766960" y="2475000"/>
            <a:ext cx="3610080" cy="1908000"/>
          </a:xfrm>
          <a:prstGeom prst="rect">
            <a:avLst/>
          </a:prstGeom>
          <a:ln w="0">
            <a:noFill/>
          </a:ln>
        </p:spPr>
      </p:pic>
      <p:sp>
        <p:nvSpPr>
          <p:cNvPr id="48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7-fig7_0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3002040" y="2278080"/>
            <a:ext cx="3139920" cy="230184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7-fig7_0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2365200" y="1992240"/>
            <a:ext cx="4413600" cy="287352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7-fig7_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2376360" y="2314440"/>
            <a:ext cx="4391280" cy="2229120"/>
          </a:xfrm>
          <a:prstGeom prst="rect">
            <a:avLst/>
          </a:prstGeom>
          <a:ln w="0">
            <a:noFill/>
          </a:ln>
        </p:spPr>
      </p:pic>
      <p:sp>
        <p:nvSpPr>
          <p:cNvPr id="57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7-fig7_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2152800" y="2136600"/>
            <a:ext cx="4838400" cy="2584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7-fig7_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23T17:20:28Z</dcterms:created>
  <dc:creator>StephenKumar, SampathKumar</dc:creator>
  <dc:description/>
  <dc:language>en-US</dc:language>
  <cp:lastModifiedBy>StephenKumar, SampathKumar</cp:lastModifiedBy>
  <dcterms:modified xsi:type="dcterms:W3CDTF">2020-04-23T17:26:41Z</dcterms:modified>
  <cp:revision>2</cp:revision>
  <dc:subject/>
  <dc:title>PowerPoint Presentation</dc:title>
</cp:coreProperties>
</file>