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D06-7957-4F57-AF56-37DE1603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ABC-13EC-46A5-9618-C8162213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A4B-5AE3-484F-B036-0B791419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5A0-40DB-4944-BDDC-6006CA6B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AF0-C8AB-4F42-8C86-11F2F181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4AE-E373-4522-A39B-29AD94B3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C11-75A2-4B49-8A7B-5E43BD6B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675-0070-4C53-84D6-457510CB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E83-5FAA-4A8A-AF5B-0396977F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32B-2CDE-40A5-8EE2-14A4CC93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613-1212-4856-BC1C-D60FE848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874-A4C8-4FD6-B5FF-7234054C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7555-9EA5-4715-A9D6-65C0E850B64A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327480" y="2446200"/>
            <a:ext cx="2489040" cy="1965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736560" y="1533600"/>
            <a:ext cx="7416720" cy="4145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894040" y="2498760"/>
            <a:ext cx="3355920" cy="1860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981160" y="2155680"/>
            <a:ext cx="3181680" cy="2546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2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921040" y="2176560"/>
            <a:ext cx="3301920" cy="25048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2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552840" y="2630520"/>
            <a:ext cx="2038320" cy="159696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511440" y="2647800"/>
            <a:ext cx="2121120" cy="1562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3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552840" y="2627280"/>
            <a:ext cx="2038320" cy="1603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3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557520" y="2631960"/>
            <a:ext cx="2028960" cy="1594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3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532320" y="2612880"/>
            <a:ext cx="2079360" cy="1632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3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471760" y="2911320"/>
            <a:ext cx="4200480" cy="1035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560760" y="2803680"/>
            <a:ext cx="2022480" cy="1250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979720" y="2265480"/>
            <a:ext cx="3184560" cy="2327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409840" y="1909800"/>
            <a:ext cx="4324320" cy="3038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3379680" y="2338560"/>
            <a:ext cx="2384640" cy="2180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170160" y="2120760"/>
            <a:ext cx="2803680" cy="26164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622600" y="2054160"/>
            <a:ext cx="3898800" cy="27496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560760" y="2652840"/>
            <a:ext cx="2022480" cy="15523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551400" y="2595600"/>
            <a:ext cx="2041200" cy="16668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102120" y="2386080"/>
            <a:ext cx="2939760" cy="20858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3068640" y="2238480"/>
            <a:ext cx="3006720" cy="23810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438280" y="1647720"/>
            <a:ext cx="4267440" cy="35625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406680" y="2639880"/>
            <a:ext cx="2330640" cy="157824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622600" y="2784600"/>
            <a:ext cx="3898800" cy="1288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2608200" y="2781360"/>
            <a:ext cx="3927600" cy="12952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2374920" y="2325600"/>
            <a:ext cx="4394160" cy="2206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3311640" y="2168640"/>
            <a:ext cx="2520720" cy="2520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8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3311640" y="2168640"/>
            <a:ext cx="2520720" cy="25207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8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3130560" y="2476440"/>
            <a:ext cx="2882880" cy="19051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3406680" y="2505240"/>
            <a:ext cx="2330640" cy="18475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0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3400560" y="2505240"/>
            <a:ext cx="2342880" cy="18475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0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3400560" y="2494080"/>
            <a:ext cx="2342880" cy="18698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0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3228840" y="2401920"/>
            <a:ext cx="2686320" cy="20541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386160" y="2808360"/>
            <a:ext cx="2371680" cy="1241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311640" y="2371680"/>
            <a:ext cx="2520720" cy="21146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2768760" y="3075120"/>
            <a:ext cx="3606480" cy="707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2770200" y="2430360"/>
            <a:ext cx="3603600" cy="19972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2803680" y="1862280"/>
            <a:ext cx="3536640" cy="31334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3139920" y="2413080"/>
            <a:ext cx="2864160" cy="20318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114720" y="2571840"/>
            <a:ext cx="2914560" cy="1714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371760" y="2395440"/>
            <a:ext cx="2400480" cy="2067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986200" y="2451240"/>
            <a:ext cx="3171600" cy="1955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770200" y="2494080"/>
            <a:ext cx="3603600" cy="1869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427120" y="2405160"/>
            <a:ext cx="4289760" cy="2047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07:35Z</dcterms:created>
  <dc:creator>StephenKumar, SampathKumar</dc:creator>
  <dc:description/>
  <dc:language>en-US</dc:language>
  <cp:lastModifiedBy>StephenKumar, SampathKumar</cp:lastModifiedBy>
  <dcterms:modified xsi:type="dcterms:W3CDTF">2020-04-23T17:22:31Z</dcterms:modified>
  <cp:revision>2</cp:revision>
  <dc:subject/>
  <dc:title>PowerPoint Presentation</dc:title>
</cp:coreProperties>
</file>