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212-515D-4843-8303-9469FC48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93E-CFFF-4F2E-926B-5D90517F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F7F-5877-469B-A32C-171DC1CD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841-87C1-4B76-9E6E-1E19E225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FF2-A2B3-4BE4-A75E-6A4953F5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E00-B578-4BF6-8517-28BCC75B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336-F250-4EAF-B431-5B8FF5CC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276-E6E8-4898-9374-3B446DC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61D-0D4E-43F8-AAC7-9C36A666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504-0711-4FAF-AE21-D89FA64F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563-6F30-4EC9-B028-F1E4DDA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8C9-8B60-48BA-8BAC-37D917E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BB1B-0BDD-49C2-BA19-708A00968B20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360" y="2260440"/>
            <a:ext cx="2159280" cy="2337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433600" y="2197080"/>
            <a:ext cx="4276800" cy="2463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411280" y="2076480"/>
            <a:ext cx="4321440" cy="2705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424240" y="2027160"/>
            <a:ext cx="4295520" cy="2803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492360" y="2355840"/>
            <a:ext cx="2159280" cy="21463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89480" y="2257560"/>
            <a:ext cx="2165040" cy="2342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770200" y="2506680"/>
            <a:ext cx="3603600" cy="1844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578400" y="2441520"/>
            <a:ext cx="1987200" cy="1974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578400" y="2440080"/>
            <a:ext cx="1987200" cy="1977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492360" y="2360520"/>
            <a:ext cx="2159280" cy="2136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770200" y="2610000"/>
            <a:ext cx="3603600" cy="163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70200" y="2532240"/>
            <a:ext cx="3603600" cy="1793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038400" y="2282760"/>
            <a:ext cx="3067200" cy="2292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038400" y="2282760"/>
            <a:ext cx="3067200" cy="2292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592360" y="2538360"/>
            <a:ext cx="3959280" cy="1781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97040" y="2454120"/>
            <a:ext cx="3949920" cy="1949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421000" y="2336760"/>
            <a:ext cx="4302000" cy="2184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19:07Z</dcterms:created>
  <dc:creator>StephenKumar, SampathKumar</dc:creator>
  <dc:description/>
  <dc:language>en-US</dc:language>
  <cp:lastModifiedBy>StephenKumar, SampathKumar</cp:lastModifiedBy>
  <dcterms:modified xsi:type="dcterms:W3CDTF">2020-04-23T17:26:00Z</dcterms:modified>
  <cp:revision>2</cp:revision>
  <dc:subject/>
  <dc:title>PowerPoint Presentation</dc:title>
</cp:coreProperties>
</file>