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F387-BC34-4800-BAEF-294567B2B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7567-4CC6-4BBD-B3F5-7958854B0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2B1F-3952-4D87-81BF-BE09B86B8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8C32-7616-4655-879E-C725D4F96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AD94-653D-47B2-BCF9-65B1EC0A9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E984-480E-4714-802D-109CA5790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CD78-39D2-44EE-A906-45CDC1BA1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BC7A-4778-439C-AB52-877414D76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231F-2147-4EC9-8870-E091D95B9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B12C-12A7-4C03-AC2B-2088201B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250E-CCE3-4121-A9CB-C5D445A0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09B8-536C-495E-9D8B-41FC52CF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6545C-1CE0-4E7D-91A6-D043363DC1F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52280" y="380880"/>
            <a:ext cx="10688760" cy="548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Deformation 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of continuous 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medium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0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0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0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086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253520" y="6095880"/>
            <a:ext cx="715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o gap is created in place where the block initially w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57600" y="3733920"/>
            <a:ext cx="1752480" cy="1218960"/>
          </a:xfrm>
          <a:prstGeom prst="rect">
            <a:avLst/>
          </a:prstGeom>
          <a:noFill/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833400" y="998640"/>
            <a:ext cx="745632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Growt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Comic Sans MS"/>
              </a:rPr>
              <a:t>of a diapir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Comic Sans MS"/>
              </a:rPr>
              <a:t>in a continuous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Comic Sans MS"/>
              </a:rPr>
              <a:t>medium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086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481120" y="6156360"/>
            <a:ext cx="631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iapir is the result of Rayleigh-Taylor instabilit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riven by density dif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266800" y="5181480"/>
            <a:ext cx="175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100 kg/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19080" y="4419720"/>
            <a:ext cx="175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200 kg/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740320" y="3429000"/>
            <a:ext cx="37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 initial perturb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724280" y="3962520"/>
            <a:ext cx="0" cy="914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838080" y="228600"/>
            <a:ext cx="0" cy="58672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16200000">
            <a:off x="-72000" y="297036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0 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0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0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0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0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34720" y="998640"/>
            <a:ext cx="8657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Rising of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buoyant rigid bloc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Comic Sans MS"/>
              </a:rPr>
              <a:t>through a continuous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Comic Sans MS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0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0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0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0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0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0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0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0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0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0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08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666600" y="1600200"/>
            <a:ext cx="175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200 kg/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838080" y="228600"/>
            <a:ext cx="0" cy="58672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16200000">
            <a:off x="-72000" y="297036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0 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657600" y="3733920"/>
            <a:ext cx="1752480" cy="12189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66600" y="3886200"/>
            <a:ext cx="175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100 kg/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61240" y="6248520"/>
            <a:ext cx="651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ormation of medium surrounding rigid b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0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0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0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0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0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0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086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073880" y="6095880"/>
            <a:ext cx="676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ontinuous velocity field during the diapiric grow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0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0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0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0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0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08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16:49:50Z</dcterms:created>
  <dc:creator>TarasG</dc:creator>
  <dc:description/>
  <dc:language>en-US</dc:language>
  <cp:lastModifiedBy>Taras Gerya</cp:lastModifiedBy>
  <dcterms:modified xsi:type="dcterms:W3CDTF">2007-05-15T12:53:50Z</dcterms:modified>
  <cp:revision>164</cp:revision>
  <dc:subject/>
  <dc:title>Kein Folientitel</dc:title>
</cp:coreProperties>
</file>