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6DA-8A2F-469E-8588-8C842DD9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905-A101-4B6E-B325-2AC5F32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FB8-DE10-4DF7-B8B4-7F260CD2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766-3A67-4644-AD9D-3A41833D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CBB-A1DD-41BD-B281-7DC69E15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231-1F61-4E10-9057-1C7424CD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D9B-8D05-4C2E-AA18-275E2E78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988-AC15-4919-B9D6-0259D75C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11F-4FA9-4FB7-9DAA-A16C4779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A86-75B8-4425-B9F1-C682A555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20E-E3CC-40F0-95BA-44894AA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B90-05DC-431D-93CF-2AD149E1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550C-8575-4010-AAE7-7886517B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Concepts: Soil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6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98640" y="1631880"/>
            <a:ext cx="53467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0000" y="573120"/>
            <a:ext cx="22050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6480" y="2481120"/>
            <a:ext cx="26510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6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0240" y="2424240"/>
            <a:ext cx="26035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82840" y="1990800"/>
            <a:ext cx="25783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20920" y="1415880"/>
            <a:ext cx="270036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63760" y="2208240"/>
            <a:ext cx="26146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25680" y="1785960"/>
            <a:ext cx="249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62320" y="1976400"/>
            <a:ext cx="2617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5:11:51Z</dcterms:created>
  <dc:creator>naveen</dc:creator>
  <dc:description/>
  <dc:language>en-US</dc:language>
  <cp:lastModifiedBy>chithiraivelr</cp:lastModifiedBy>
  <dcterms:modified xsi:type="dcterms:W3CDTF">2015-03-19T13:29:53Z</dcterms:modified>
  <cp:revision>6</cp:revision>
  <dc:subject/>
  <dc:title>Slide 1</dc:title>
</cp:coreProperties>
</file>