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BE7-43EF-4958-B8D6-19BCAE4E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0ED-4283-4D1E-B63B-16552627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36A-38FD-4268-9B2E-87B22294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010-8084-418E-BC34-366483A8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7E8-6415-4332-AEE1-AE85CCD9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606-D076-4A31-980B-E0BD49BC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8F1-C4A5-49F5-86CB-4DB8140E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528-1F68-4782-AAC7-72496961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88D-0EEB-4695-926A-1F87A770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A5E-46F3-4E72-961A-77251D10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603-08E0-40A4-BAAE-681D697F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753-A5A6-419F-8688-4A895DBB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5147-14FA-4BC3-8801-B2DC58473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5909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886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46440" y="2238480"/>
            <a:ext cx="54529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aetz_Fig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1880" y="2460600"/>
            <a:ext cx="53402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5:09:37Z</dcterms:created>
  <dc:creator>naveen</dc:creator>
  <dc:description/>
  <dc:language>en-US</dc:language>
  <cp:lastModifiedBy>chithiraivelr</cp:lastModifiedBy>
  <dcterms:modified xsi:type="dcterms:W3CDTF">2015-03-19T13:18:35Z</dcterms:modified>
  <cp:revision>6</cp:revision>
  <dc:subject/>
  <dc:title>Slide 1</dc:title>
</cp:coreProperties>
</file>