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7D14-6D90-4C39-A5FB-C1D6C5D8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1CF8-EE18-489A-9302-44788E53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230-A4D3-466F-812D-006C9CAB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20BC-DBED-479C-B69B-05AF54A9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B93-6CE8-45DE-A6B5-C214F4BA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5677-0ECD-42F4-8AAC-931DB54B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43E-5AB7-4EEA-A8A3-E019F4FB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2CC4-0D25-4C42-9CF6-C63215AF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D81-6555-4DB9-A506-38F6053C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408E-4964-4725-B901-D6C3C1BA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663-980F-451A-AC93-BF06D4E3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202-66F8-436E-92E7-5F92FB62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7CC8-6CCB-43DF-89EE-D252B4CBB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5909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8862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Concepts: Soil Minera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28840" y="1982880"/>
            <a:ext cx="2686320" cy="2892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4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67000" y="2341440"/>
            <a:ext cx="2611440" cy="2176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4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73360" y="2144880"/>
            <a:ext cx="3797280" cy="2570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unFig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05280" y="2655720"/>
            <a:ext cx="1334880" cy="15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3240" y="2400480"/>
            <a:ext cx="2657520" cy="2057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90880" y="996840"/>
            <a:ext cx="4919400" cy="4415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63720" y="1725480"/>
            <a:ext cx="5416560" cy="3408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33720" y="914400"/>
            <a:ext cx="4682880" cy="4448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52640" y="2700360"/>
            <a:ext cx="5238720" cy="1457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05120" y="2320920"/>
            <a:ext cx="5333760" cy="2216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4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82800" y="914400"/>
            <a:ext cx="4975200" cy="4487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4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05:11:01Z</dcterms:created>
  <dc:creator>naveen</dc:creator>
  <dc:description/>
  <dc:language>en-US</dc:language>
  <cp:lastModifiedBy>chithiraivelr</cp:lastModifiedBy>
  <dcterms:modified xsi:type="dcterms:W3CDTF">2015-03-19T13:28:59Z</dcterms:modified>
  <cp:revision>5</cp:revision>
  <dc:subject/>
  <dc:title>Slide 1</dc:title>
</cp:coreProperties>
</file>