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B2CE-0FB7-4863-8AC4-5AE2EDCC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6B9E-6B9A-4ECB-A4B2-24E2FB4A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B3B3-31B1-4CBB-AB21-402D16AA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0230-BB62-48CB-A163-718B6464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8246-C2C1-4512-96B4-8A875BAB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7BA5-4318-46CB-A318-6CF93906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9BFF-EC24-4F09-AEDF-9CE03883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E5D5-8757-4794-AD24-4C96DC2D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18E6-2726-4C94-9A33-4FFAB896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5665-B09E-4EB9-892B-0812E663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58F2-E965-4C9C-ACEE-FC1C46BF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2485-DBE1-414C-BCF9-24C8895B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F0CC-CDFA-433F-BD43-0A846626F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590920"/>
            <a:ext cx="853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8862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Concepts: Soil C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5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57640" y="1916280"/>
            <a:ext cx="2627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81400" y="2432160"/>
            <a:ext cx="258120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5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71640" y="2610000"/>
            <a:ext cx="54007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5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59080" y="2271600"/>
            <a:ext cx="262404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6480" y="1219320"/>
            <a:ext cx="26510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5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35320" y="1600200"/>
            <a:ext cx="267336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5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79560" y="2475000"/>
            <a:ext cx="538308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5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28880" y="2233440"/>
            <a:ext cx="53100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5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39960" y="2624040"/>
            <a:ext cx="546264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8T05:11:25Z</dcterms:created>
  <dc:creator>naveen</dc:creator>
  <dc:description/>
  <dc:language>en-US</dc:language>
  <cp:lastModifiedBy>chithiraivelr</cp:lastModifiedBy>
  <dcterms:modified xsi:type="dcterms:W3CDTF">2015-03-19T13:29:29Z</dcterms:modified>
  <cp:revision>5</cp:revision>
  <dc:subject/>
  <dc:title>Slide 1</dc:title>
</cp:coreProperties>
</file>