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238-2998-4B4E-8A00-3609AC42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99F-7AC9-4E4F-8031-69DE47C8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28D5-D126-462B-82BB-CF65AC38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980-96D1-44BD-97A5-2B6F1CC7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FD5-4C4F-499F-BE5E-9E219556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7821-6B6D-4637-B0C0-0358316C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16ED-B9DA-493E-B3B2-327D36BB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2D5-3FDE-4EEB-B159-EB84F545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EE6-A56D-4544-B4BD-C4D6192B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A30-0E1D-4398-8474-C8111470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335-66D7-4770-A43D-E58480DC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C67-5386-406B-B879-F694BD91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83ED-7369-4241-B7FB-8F66C0AD6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304920" y="25909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8600" y="38862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l_Pr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Pre1"/>
          <p:cNvPicPr/>
          <p:nvPr/>
        </p:nvPicPr>
        <p:blipFill>
          <a:blip r:embed="rId1"/>
          <a:stretch/>
        </p:blipFill>
        <p:spPr>
          <a:xfrm>
            <a:off x="1846440" y="2077920"/>
            <a:ext cx="545292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5:17:13Z</dcterms:created>
  <dc:creator>naveen</dc:creator>
  <dc:description/>
  <dc:language>en-US</dc:language>
  <cp:lastModifiedBy>praveen</cp:lastModifiedBy>
  <dcterms:modified xsi:type="dcterms:W3CDTF">2015-03-20T06:16:25Z</dcterms:modified>
  <cp:revision>6</cp:revision>
  <dc:subject/>
  <dc:title>Slide 1</dc:title>
</cp:coreProperties>
</file>