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982-15CD-4163-904B-A8EFAEE8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3C5-D3B8-4ED4-A0B6-7C78B8E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547-B92E-4980-A3B8-9836F3DC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CF0-E498-441A-8F2B-2639D5C8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072-90FF-4A66-B2E3-C29392A6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FF6-E2CE-48AE-9A5E-E740A0DB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14E-C414-4BB7-9396-4889B354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CBF-0D5A-4D59-AAF4-702DE52F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6B7-C1CB-4202-86F2-8B716092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998-B0A7-4292-97D6-67DF620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D76-F40D-4A52-A754-4163B1AF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946-73D4-4E8B-A14D-CFD4A75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EF4E-61CA-4E3A-A9BF-E30CCBCC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4.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73080" y="2257560"/>
            <a:ext cx="539784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4.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60880" y="1565280"/>
            <a:ext cx="26208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4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54360" y="1876320"/>
            <a:ext cx="5433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4.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36760" y="2602080"/>
            <a:ext cx="26704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1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59040" y="1308240"/>
            <a:ext cx="54259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1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38560" y="2241720"/>
            <a:ext cx="2666880" cy="23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68400" y="2487600"/>
            <a:ext cx="54072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1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57240" y="1631880"/>
            <a:ext cx="54295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7:19:40Z</dcterms:created>
  <dc:creator>naveen</dc:creator>
  <dc:description/>
  <dc:language>en-US</dc:language>
  <cp:lastModifiedBy>chithiraivelr</cp:lastModifiedBy>
  <dcterms:modified xsi:type="dcterms:W3CDTF">2015-03-18T11:59:42Z</dcterms:modified>
  <cp:revision>13</cp:revision>
  <dc:subject/>
  <dc:title>Slide 1</dc:title>
</cp:coreProperties>
</file>