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FDF-FA7B-4685-A201-7F1EA1F2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494-3C08-446D-84A9-D229B2AF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846-A755-49B2-A667-A7327185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9AF-B8F6-4114-B8C1-D8337A82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3E4-6559-4580-9247-915F0FFE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FE4-89BD-4E9B-A921-E595B3B7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79C-4BB1-4B27-AC79-24559B27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AAF-9BEB-4386-B350-3ECD44D7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BCE-8A9B-479C-B888-89CE91C6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55E-5BE1-4862-AFE3-CB1E0CF2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BB1-86C6-4D06-993E-9F50AEF2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DB2-4505-49A2-962C-5F5E76FA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E1A0-A617-4502-A9E4-95E5802D2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2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Fig 2"/>
          <p:cNvPicPr/>
          <p:nvPr/>
        </p:nvPicPr>
        <p:blipFill>
          <a:blip r:embed="rId1"/>
          <a:stretch/>
        </p:blipFill>
        <p:spPr>
          <a:xfrm>
            <a:off x="2514600" y="762120"/>
            <a:ext cx="4003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Fig 2"/>
          <p:cNvPicPr/>
          <p:nvPr/>
        </p:nvPicPr>
        <p:blipFill>
          <a:blip r:embed="rId1"/>
          <a:stretch/>
        </p:blipFill>
        <p:spPr>
          <a:xfrm>
            <a:off x="2540160" y="2604960"/>
            <a:ext cx="4065480" cy="1649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Fig 2"/>
          <p:cNvPicPr/>
          <p:nvPr/>
        </p:nvPicPr>
        <p:blipFill>
          <a:blip r:embed="rId1"/>
          <a:stretch/>
        </p:blipFill>
        <p:spPr>
          <a:xfrm>
            <a:off x="3533760" y="1851120"/>
            <a:ext cx="2077920" cy="3157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2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Fig 2"/>
          <p:cNvPicPr/>
          <p:nvPr/>
        </p:nvPicPr>
        <p:blipFill>
          <a:blip r:embed="rId1"/>
          <a:stretch/>
        </p:blipFill>
        <p:spPr>
          <a:xfrm>
            <a:off x="2522520" y="2735280"/>
            <a:ext cx="4098960" cy="1387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2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2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Fig 2"/>
          <p:cNvPicPr/>
          <p:nvPr/>
        </p:nvPicPr>
        <p:blipFill>
          <a:blip r:embed="rId1"/>
          <a:stretch/>
        </p:blipFill>
        <p:spPr>
          <a:xfrm>
            <a:off x="3230640" y="2263680"/>
            <a:ext cx="2682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unFig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Unfig 2"/>
          <p:cNvPicPr/>
          <p:nvPr/>
        </p:nvPicPr>
        <p:blipFill>
          <a:blip r:embed="rId1"/>
          <a:stretch/>
        </p:blipFill>
        <p:spPr>
          <a:xfrm>
            <a:off x="2590920" y="533520"/>
            <a:ext cx="3659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Unfig 2"/>
          <p:cNvPicPr/>
          <p:nvPr/>
        </p:nvPicPr>
        <p:blipFill>
          <a:blip r:embed="rId1"/>
          <a:stretch/>
        </p:blipFill>
        <p:spPr>
          <a:xfrm>
            <a:off x="1863720" y="1066680"/>
            <a:ext cx="5416560" cy="4157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unFig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5:10:09Z</dcterms:created>
  <dc:creator>naveen</dc:creator>
  <dc:description/>
  <dc:language>en-US</dc:language>
  <cp:lastModifiedBy>naveen</cp:lastModifiedBy>
  <dcterms:modified xsi:type="dcterms:W3CDTF">2015-03-18T09:42:39Z</dcterms:modified>
  <cp:revision>7</cp:revision>
  <dc:subject/>
  <dc:title>Slide 1</dc:title>
</cp:coreProperties>
</file>