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342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067C-8466-4074-B84F-B1C2914A4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0CAE-4031-4D9B-9727-BA041AD44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1868-FFCB-4C07-A3E8-A735271A6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4FA1-8C90-44B1-8FE4-FBE9FAC47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A4D1-C982-4455-965D-E4086ECCB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D340-3595-48FC-8667-9D48575F2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4088-43B9-47B5-A949-0B5CD4B85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BD95-99E1-43E7-853F-B51CAC179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E7F7-58E8-46A6-BFFE-101D9EB6A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6106-1C4F-4BBC-8908-80036D53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CA6C-D1F7-402A-9BD7-F1276278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0F79-7AD6-43C5-BF3D-77A67014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F6CF0-410D-4E62-B526-04EE81824CEE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Greatest Common Divisors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GCD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ze of Input Insta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350532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ze of pap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# of b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# of dig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lue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2666880" y="3505320"/>
            <a:ext cx="2895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- n = 2 in</a:t>
            </a:r>
            <a:r>
              <a:rPr b="0" lang="en-US" sz="2800" spc="-1" strike="noStrike" baseline="30000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- n = 17 b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- n = 5 dig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- n = 8392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410080" y="3505320"/>
            <a:ext cx="3124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66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Intui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159000" y="1143000"/>
            <a:ext cx="2860200" cy="2364120"/>
            <a:chOff x="3159000" y="1143000"/>
            <a:chExt cx="2860200" cy="2364120"/>
          </a:xfrm>
        </p:grpSpPr>
        <p:sp>
          <p:nvSpPr>
            <p:cNvPr id="215" name=""/>
            <p:cNvSpPr/>
            <p:nvPr/>
          </p:nvSpPr>
          <p:spPr>
            <a:xfrm>
              <a:off x="3997800" y="2925720"/>
              <a:ext cx="65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2’’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59000" y="1722600"/>
              <a:ext cx="1905120" cy="1143000"/>
            </a:xfrm>
            <a:prstGeom prst="horizontalScroll">
              <a:avLst>
                <a:gd name="adj" fmla="val 125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imes New Roman"/>
                </a:rPr>
                <a:t>83920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 rot="5400000">
              <a:off x="3958920" y="1149840"/>
              <a:ext cx="304920" cy="129528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922200" y="1143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32080" y="2941560"/>
              <a:ext cx="18288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292720" y="1798560"/>
              <a:ext cx="0" cy="106704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362920" y="2027160"/>
              <a:ext cx="65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1’’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ze of Input Insta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350532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ze of pap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# of b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# of dig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lue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2666880" y="3505320"/>
            <a:ext cx="2895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- n = 2 in</a:t>
            </a:r>
            <a:r>
              <a:rPr b="0" lang="en-US" sz="2800" spc="-1" strike="noStrike" baseline="30000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- n = 17 b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- n = 5 dig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- n = 8392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10080" y="3505320"/>
            <a:ext cx="3124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66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Intui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Form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3159000" y="1143000"/>
            <a:ext cx="2860200" cy="2364120"/>
            <a:chOff x="3159000" y="1143000"/>
            <a:chExt cx="2860200" cy="2364120"/>
          </a:xfrm>
        </p:grpSpPr>
        <p:sp>
          <p:nvSpPr>
            <p:cNvPr id="227" name=""/>
            <p:cNvSpPr/>
            <p:nvPr/>
          </p:nvSpPr>
          <p:spPr>
            <a:xfrm>
              <a:off x="3997800" y="2925720"/>
              <a:ext cx="65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2’’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159000" y="1722600"/>
              <a:ext cx="1905120" cy="1143000"/>
            </a:xfrm>
            <a:prstGeom prst="horizontalScroll">
              <a:avLst>
                <a:gd name="adj" fmla="val 125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imes New Roman"/>
                </a:rPr>
                <a:t>83920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 rot="5400000">
              <a:off x="3958920" y="1149840"/>
              <a:ext cx="304920" cy="129528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22200" y="1143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232080" y="2941560"/>
              <a:ext cx="18288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292720" y="1798560"/>
              <a:ext cx="0" cy="106704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362920" y="2027160"/>
              <a:ext cx="65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1’’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ze of Input Insta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350532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ze of pap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# of b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# of dig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lue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2666880" y="3505320"/>
            <a:ext cx="2895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- n = 2 in</a:t>
            </a:r>
            <a:r>
              <a:rPr b="0" lang="en-US" sz="2800" spc="-1" strike="noStrike" baseline="30000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- n = 17 b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- n = 5 dig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- n = 8392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10080" y="3505320"/>
            <a:ext cx="3124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66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Intui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Form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Reason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807880" y="5029200"/>
            <a:ext cx="30459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# of bits 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3.32 * # of dig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3159000" y="1143000"/>
            <a:ext cx="2860200" cy="2364120"/>
            <a:chOff x="3159000" y="1143000"/>
            <a:chExt cx="2860200" cy="2364120"/>
          </a:xfrm>
        </p:grpSpPr>
        <p:sp>
          <p:nvSpPr>
            <p:cNvPr id="240" name=""/>
            <p:cNvSpPr/>
            <p:nvPr/>
          </p:nvSpPr>
          <p:spPr>
            <a:xfrm>
              <a:off x="3997800" y="2925720"/>
              <a:ext cx="65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2’’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159000" y="1722600"/>
              <a:ext cx="1905120" cy="1143000"/>
            </a:xfrm>
            <a:prstGeom prst="horizontalScroll">
              <a:avLst>
                <a:gd name="adj" fmla="val 125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imes New Roman"/>
                </a:rPr>
                <a:t>83920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 rot="5400000">
              <a:off x="3958920" y="1149840"/>
              <a:ext cx="304920" cy="129528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922200" y="1143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32080" y="2941560"/>
              <a:ext cx="18288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92720" y="1798560"/>
              <a:ext cx="0" cy="106704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362920" y="2027160"/>
              <a:ext cx="65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1’’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ze of Input Insta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350532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ze of pap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# of b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# of dig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lue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666880" y="3505320"/>
            <a:ext cx="2895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- n = 2 in</a:t>
            </a:r>
            <a:r>
              <a:rPr b="0" lang="en-US" sz="2800" spc="-1" strike="noStrike" baseline="30000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- n = 17 b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- n = 5 dig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- n = 8392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410080" y="3505320"/>
            <a:ext cx="3124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66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Intui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Form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Reason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Unreason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86400" y="5638680"/>
            <a:ext cx="3657600" cy="15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# of bits =  log</a:t>
            </a:r>
            <a:r>
              <a:rPr b="0" lang="en-US" sz="2800" spc="-1" strike="noStrike" baseline="-25000">
                <a:solidFill>
                  <a:srgbClr val="00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(Value) Value =  2</a:t>
            </a:r>
            <a:r>
              <a:rPr b="0" lang="en-US" sz="2800" spc="-1" strike="noStrike" baseline="30000">
                <a:solidFill>
                  <a:srgbClr val="00ffff"/>
                </a:solidFill>
                <a:latin typeface="Times New Roman"/>
              </a:rPr>
              <a:t># of bits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3159000" y="1143000"/>
            <a:ext cx="2860200" cy="2364120"/>
            <a:chOff x="3159000" y="1143000"/>
            <a:chExt cx="2860200" cy="2364120"/>
          </a:xfrm>
        </p:grpSpPr>
        <p:sp>
          <p:nvSpPr>
            <p:cNvPr id="253" name=""/>
            <p:cNvSpPr/>
            <p:nvPr/>
          </p:nvSpPr>
          <p:spPr>
            <a:xfrm>
              <a:off x="3997800" y="2925720"/>
              <a:ext cx="65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2’’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159000" y="1722600"/>
              <a:ext cx="1905120" cy="1143000"/>
            </a:xfrm>
            <a:prstGeom prst="horizontalScroll">
              <a:avLst>
                <a:gd name="adj" fmla="val 125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imes New Roman"/>
                </a:rPr>
                <a:t>83920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 rot="5400000">
              <a:off x="3958920" y="1149840"/>
              <a:ext cx="304920" cy="129528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922200" y="1143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232080" y="2941560"/>
              <a:ext cx="18288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292720" y="1798560"/>
              <a:ext cx="0" cy="106704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62920" y="2027160"/>
              <a:ext cx="65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1’’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CD(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90520" y="1401840"/>
            <a:ext cx="2091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nput: &lt;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362320" y="1447920"/>
            <a:ext cx="368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= &lt;9999999999999,2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20400" y="1905120"/>
            <a:ext cx="104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362320" y="1905120"/>
            <a:ext cx="368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= &lt;9999999999999,2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362320" y="2362320"/>
            <a:ext cx="368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= &lt;9999999999997,2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362320" y="2819520"/>
            <a:ext cx="368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= &lt;9999999999995,2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362320" y="3276720"/>
            <a:ext cx="368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= &lt;9999999999993,2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362320" y="3733920"/>
            <a:ext cx="368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= &lt;9999999999991,2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901080" y="4691160"/>
            <a:ext cx="129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ime =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915840" y="5165640"/>
            <a:ext cx="124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ize  =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135160" y="4648320"/>
            <a:ext cx="90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O(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151360" y="5133960"/>
            <a:ext cx="2983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number of digits 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111480" y="4694400"/>
            <a:ext cx="1099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= 2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imes New Roman"/>
              </a:rPr>
              <a:t>O(</a:t>
            </a:r>
            <a:r>
              <a:rPr b="0" i="1" lang="en-US" sz="30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045400" y="5118120"/>
            <a:ext cx="1950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= O(log(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)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CD(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71760" y="1338120"/>
            <a:ext cx="1492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peedup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256400" y="1981080"/>
            <a:ext cx="270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&gt;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&lt;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323800" y="2422440"/>
            <a:ext cx="193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-2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338200" y="2803680"/>
            <a:ext cx="193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-3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352240" y="3184560"/>
            <a:ext cx="193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-4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386440" y="3733920"/>
            <a:ext cx="1845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y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27040" y="4327560"/>
            <a:ext cx="412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&lt;remainder with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329560" y="4784760"/>
            <a:ext cx="239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= &lt;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mod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309040" y="5241960"/>
            <a:ext cx="248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mod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443400" y="5181480"/>
            <a:ext cx="4481280" cy="550800"/>
            <a:chOff x="3443400" y="5181480"/>
            <a:chExt cx="4481280" cy="550800"/>
          </a:xfrm>
        </p:grpSpPr>
        <p:sp>
          <p:nvSpPr>
            <p:cNvPr id="286" name=""/>
            <p:cNvSpPr/>
            <p:nvPr/>
          </p:nvSpPr>
          <p:spPr>
            <a:xfrm>
              <a:off x="5181480" y="5181480"/>
              <a:ext cx="2743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Times New Roman"/>
                </a:rPr>
                <a:t>smaller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 than </a:t>
              </a: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443400" y="5295960"/>
              <a:ext cx="1722240" cy="193680"/>
            </a:xfrm>
            <a:custGeom>
              <a:avLst/>
              <a:gdLst/>
              <a:ahLst/>
              <a:rect l="l" t="t" r="r" b="b"/>
              <a:pathLst>
                <a:path w="1085" h="122">
                  <a:moveTo>
                    <a:pt x="1085" y="105"/>
                  </a:moveTo>
                  <a:cubicBezTo>
                    <a:pt x="1003" y="108"/>
                    <a:pt x="772" y="122"/>
                    <a:pt x="591" y="105"/>
                  </a:cubicBezTo>
                  <a:cubicBezTo>
                    <a:pt x="359" y="73"/>
                    <a:pt x="123" y="22"/>
                    <a:pt x="0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CD(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90520" y="1401840"/>
            <a:ext cx="2091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nput: &lt;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362320" y="1447920"/>
            <a:ext cx="1779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= &lt;44,64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220400" y="1905120"/>
            <a:ext cx="104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335320" y="1905120"/>
            <a:ext cx="1779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= &lt;44,64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335320" y="2346480"/>
            <a:ext cx="1779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= &lt;64,44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335320" y="2787480"/>
            <a:ext cx="1779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= &lt;44,20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334960" y="3228840"/>
            <a:ext cx="168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= &lt;20, 4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334600" y="3670200"/>
            <a:ext cx="1590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= &lt; 4, 0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3640" y="4175280"/>
            <a:ext cx="421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GCD(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) = GCD(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) = 4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4773240" y="2743200"/>
            <a:ext cx="3570840" cy="556920"/>
            <a:chOff x="4773240" y="2743200"/>
            <a:chExt cx="3570840" cy="556920"/>
          </a:xfrm>
        </p:grpSpPr>
        <p:sp>
          <p:nvSpPr>
            <p:cNvPr id="299" name=""/>
            <p:cNvSpPr/>
            <p:nvPr/>
          </p:nvSpPr>
          <p:spPr>
            <a:xfrm>
              <a:off x="4773240" y="2749320"/>
              <a:ext cx="1045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,</a:t>
              </a: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861880" y="2743200"/>
              <a:ext cx="2482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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,</a:t>
              </a: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 mod </a:t>
              </a: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5829480" y="1219320"/>
            <a:ext cx="1180800" cy="1066680"/>
            <a:chOff x="5829480" y="1219320"/>
            <a:chExt cx="1180800" cy="1066680"/>
          </a:xfrm>
        </p:grpSpPr>
        <p:sp>
          <p:nvSpPr>
            <p:cNvPr id="302" name=""/>
            <p:cNvSpPr/>
            <p:nvPr/>
          </p:nvSpPr>
          <p:spPr>
            <a:xfrm>
              <a:off x="5829480" y="1219320"/>
              <a:ext cx="1180800" cy="1066680"/>
            </a:xfrm>
            <a:custGeom>
              <a:avLst/>
              <a:gdLst/>
              <a:ahLst/>
              <a:rect l="l" t="t" r="r" b="b"/>
              <a:pathLst>
                <a:path w="2280" h="1785">
                  <a:moveTo>
                    <a:pt x="748" y="30"/>
                  </a:moveTo>
                  <a:cubicBezTo>
                    <a:pt x="881" y="60"/>
                    <a:pt x="985" y="267"/>
                    <a:pt x="1224" y="305"/>
                  </a:cubicBezTo>
                  <a:cubicBezTo>
                    <a:pt x="1463" y="343"/>
                    <a:pt x="2088" y="121"/>
                    <a:pt x="2184" y="257"/>
                  </a:cubicBezTo>
                  <a:cubicBezTo>
                    <a:pt x="2280" y="393"/>
                    <a:pt x="1873" y="945"/>
                    <a:pt x="1800" y="1121"/>
                  </a:cubicBezTo>
                  <a:cubicBezTo>
                    <a:pt x="1727" y="1297"/>
                    <a:pt x="1757" y="1253"/>
                    <a:pt x="1743" y="1313"/>
                  </a:cubicBezTo>
                  <a:cubicBezTo>
                    <a:pt x="1729" y="1373"/>
                    <a:pt x="1747" y="1440"/>
                    <a:pt x="1717" y="1479"/>
                  </a:cubicBezTo>
                  <a:cubicBezTo>
                    <a:pt x="1687" y="1518"/>
                    <a:pt x="1634" y="1537"/>
                    <a:pt x="1560" y="1549"/>
                  </a:cubicBezTo>
                  <a:cubicBezTo>
                    <a:pt x="1486" y="1561"/>
                    <a:pt x="1504" y="1536"/>
                    <a:pt x="1272" y="1553"/>
                  </a:cubicBezTo>
                  <a:cubicBezTo>
                    <a:pt x="1040" y="1570"/>
                    <a:pt x="336" y="1785"/>
                    <a:pt x="168" y="1649"/>
                  </a:cubicBezTo>
                  <a:cubicBezTo>
                    <a:pt x="0" y="1513"/>
                    <a:pt x="221" y="991"/>
                    <a:pt x="264" y="737"/>
                  </a:cubicBezTo>
                  <a:cubicBezTo>
                    <a:pt x="307" y="483"/>
                    <a:pt x="344" y="244"/>
                    <a:pt x="425" y="126"/>
                  </a:cubicBezTo>
                  <a:cubicBezTo>
                    <a:pt x="506" y="8"/>
                    <a:pt x="615" y="0"/>
                    <a:pt x="748" y="30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6015600" y="1308240"/>
              <a:ext cx="629640" cy="860400"/>
              <a:chOff x="6015600" y="1308240"/>
              <a:chExt cx="629640" cy="860400"/>
            </a:xfrm>
          </p:grpSpPr>
          <p:grpSp>
            <p:nvGrpSpPr>
              <p:cNvPr id="304" name=""/>
              <p:cNvGrpSpPr/>
              <p:nvPr/>
            </p:nvGrpSpPr>
            <p:grpSpPr>
              <a:xfrm>
                <a:off x="6015600" y="1308240"/>
                <a:ext cx="592200" cy="842400"/>
                <a:chOff x="6015600" y="1308240"/>
                <a:chExt cx="592200" cy="84240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6211080" y="1450440"/>
                  <a:ext cx="102960" cy="177840"/>
                </a:xfrm>
                <a:custGeom>
                  <a:avLst/>
                  <a:gdLst/>
                  <a:ahLst/>
                  <a:rect l="l" t="t" r="r" b="b"/>
                  <a:pathLst>
                    <a:path w="434" h="514">
                      <a:moveTo>
                        <a:pt x="132" y="186"/>
                      </a:moveTo>
                      <a:lnTo>
                        <a:pt x="157" y="114"/>
                      </a:lnTo>
                      <a:lnTo>
                        <a:pt x="189" y="42"/>
                      </a:lnTo>
                      <a:lnTo>
                        <a:pt x="236" y="6"/>
                      </a:lnTo>
                      <a:lnTo>
                        <a:pt x="302" y="0"/>
                      </a:lnTo>
                      <a:lnTo>
                        <a:pt x="355" y="24"/>
                      </a:lnTo>
                      <a:lnTo>
                        <a:pt x="393" y="63"/>
                      </a:lnTo>
                      <a:lnTo>
                        <a:pt x="421" y="135"/>
                      </a:lnTo>
                      <a:lnTo>
                        <a:pt x="434" y="222"/>
                      </a:lnTo>
                      <a:lnTo>
                        <a:pt x="434" y="312"/>
                      </a:lnTo>
                      <a:lnTo>
                        <a:pt x="412" y="411"/>
                      </a:lnTo>
                      <a:lnTo>
                        <a:pt x="355" y="474"/>
                      </a:lnTo>
                      <a:lnTo>
                        <a:pt x="299" y="514"/>
                      </a:lnTo>
                      <a:lnTo>
                        <a:pt x="245" y="510"/>
                      </a:lnTo>
                      <a:lnTo>
                        <a:pt x="198" y="468"/>
                      </a:lnTo>
                      <a:lnTo>
                        <a:pt x="157" y="396"/>
                      </a:lnTo>
                      <a:lnTo>
                        <a:pt x="129" y="333"/>
                      </a:lnTo>
                      <a:lnTo>
                        <a:pt x="129" y="252"/>
                      </a:lnTo>
                      <a:lnTo>
                        <a:pt x="0" y="234"/>
                      </a:lnTo>
                      <a:lnTo>
                        <a:pt x="16" y="189"/>
                      </a:lnTo>
                      <a:lnTo>
                        <a:pt x="132" y="18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279120" y="1308240"/>
                  <a:ext cx="134280" cy="398880"/>
                </a:xfrm>
                <a:custGeom>
                  <a:avLst/>
                  <a:gdLst/>
                  <a:ahLst/>
                  <a:rect l="l" t="t" r="r" b="b"/>
                  <a:pathLst>
                    <a:path w="566" h="1154">
                      <a:moveTo>
                        <a:pt x="13" y="1145"/>
                      </a:moveTo>
                      <a:lnTo>
                        <a:pt x="0" y="1088"/>
                      </a:lnTo>
                      <a:lnTo>
                        <a:pt x="31" y="1042"/>
                      </a:lnTo>
                      <a:lnTo>
                        <a:pt x="134" y="988"/>
                      </a:lnTo>
                      <a:lnTo>
                        <a:pt x="226" y="927"/>
                      </a:lnTo>
                      <a:lnTo>
                        <a:pt x="313" y="827"/>
                      </a:lnTo>
                      <a:lnTo>
                        <a:pt x="432" y="689"/>
                      </a:lnTo>
                      <a:lnTo>
                        <a:pt x="463" y="634"/>
                      </a:lnTo>
                      <a:lnTo>
                        <a:pt x="479" y="580"/>
                      </a:lnTo>
                      <a:lnTo>
                        <a:pt x="472" y="526"/>
                      </a:lnTo>
                      <a:lnTo>
                        <a:pt x="444" y="426"/>
                      </a:lnTo>
                      <a:lnTo>
                        <a:pt x="376" y="299"/>
                      </a:lnTo>
                      <a:lnTo>
                        <a:pt x="301" y="229"/>
                      </a:lnTo>
                      <a:lnTo>
                        <a:pt x="235" y="190"/>
                      </a:lnTo>
                      <a:lnTo>
                        <a:pt x="181" y="184"/>
                      </a:lnTo>
                      <a:lnTo>
                        <a:pt x="153" y="190"/>
                      </a:lnTo>
                      <a:lnTo>
                        <a:pt x="150" y="163"/>
                      </a:lnTo>
                      <a:lnTo>
                        <a:pt x="215" y="154"/>
                      </a:lnTo>
                      <a:lnTo>
                        <a:pt x="291" y="154"/>
                      </a:lnTo>
                      <a:lnTo>
                        <a:pt x="238" y="93"/>
                      </a:lnTo>
                      <a:lnTo>
                        <a:pt x="206" y="45"/>
                      </a:lnTo>
                      <a:lnTo>
                        <a:pt x="229" y="27"/>
                      </a:lnTo>
                      <a:lnTo>
                        <a:pt x="313" y="109"/>
                      </a:lnTo>
                      <a:lnTo>
                        <a:pt x="329" y="121"/>
                      </a:lnTo>
                      <a:lnTo>
                        <a:pt x="313" y="57"/>
                      </a:lnTo>
                      <a:lnTo>
                        <a:pt x="301" y="9"/>
                      </a:lnTo>
                      <a:lnTo>
                        <a:pt x="313" y="0"/>
                      </a:lnTo>
                      <a:lnTo>
                        <a:pt x="341" y="9"/>
                      </a:lnTo>
                      <a:lnTo>
                        <a:pt x="366" y="121"/>
                      </a:lnTo>
                      <a:lnTo>
                        <a:pt x="379" y="118"/>
                      </a:lnTo>
                      <a:lnTo>
                        <a:pt x="379" y="30"/>
                      </a:lnTo>
                      <a:lnTo>
                        <a:pt x="404" y="21"/>
                      </a:lnTo>
                      <a:lnTo>
                        <a:pt x="422" y="36"/>
                      </a:lnTo>
                      <a:lnTo>
                        <a:pt x="413" y="154"/>
                      </a:lnTo>
                      <a:lnTo>
                        <a:pt x="407" y="202"/>
                      </a:lnTo>
                      <a:lnTo>
                        <a:pt x="422" y="299"/>
                      </a:lnTo>
                      <a:lnTo>
                        <a:pt x="472" y="402"/>
                      </a:lnTo>
                      <a:lnTo>
                        <a:pt x="525" y="520"/>
                      </a:lnTo>
                      <a:lnTo>
                        <a:pt x="566" y="607"/>
                      </a:lnTo>
                      <a:lnTo>
                        <a:pt x="563" y="652"/>
                      </a:lnTo>
                      <a:lnTo>
                        <a:pt x="488" y="734"/>
                      </a:lnTo>
                      <a:lnTo>
                        <a:pt x="385" y="836"/>
                      </a:lnTo>
                      <a:lnTo>
                        <a:pt x="301" y="937"/>
                      </a:lnTo>
                      <a:lnTo>
                        <a:pt x="197" y="1070"/>
                      </a:lnTo>
                      <a:lnTo>
                        <a:pt x="112" y="1136"/>
                      </a:lnTo>
                      <a:lnTo>
                        <a:pt x="47" y="1154"/>
                      </a:lnTo>
                      <a:lnTo>
                        <a:pt x="13" y="1145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6015600" y="1680120"/>
                  <a:ext cx="245880" cy="200880"/>
                </a:xfrm>
                <a:custGeom>
                  <a:avLst/>
                  <a:gdLst/>
                  <a:ahLst/>
                  <a:rect l="l" t="t" r="r" b="b"/>
                  <a:pathLst>
                    <a:path w="1037" h="581">
                      <a:moveTo>
                        <a:pt x="210" y="468"/>
                      </a:moveTo>
                      <a:lnTo>
                        <a:pt x="361" y="462"/>
                      </a:lnTo>
                      <a:lnTo>
                        <a:pt x="498" y="444"/>
                      </a:lnTo>
                      <a:lnTo>
                        <a:pt x="583" y="423"/>
                      </a:lnTo>
                      <a:lnTo>
                        <a:pt x="705" y="354"/>
                      </a:lnTo>
                      <a:lnTo>
                        <a:pt x="792" y="288"/>
                      </a:lnTo>
                      <a:lnTo>
                        <a:pt x="906" y="207"/>
                      </a:lnTo>
                      <a:lnTo>
                        <a:pt x="959" y="156"/>
                      </a:lnTo>
                      <a:lnTo>
                        <a:pt x="1000" y="120"/>
                      </a:lnTo>
                      <a:lnTo>
                        <a:pt x="1037" y="81"/>
                      </a:lnTo>
                      <a:lnTo>
                        <a:pt x="1037" y="39"/>
                      </a:lnTo>
                      <a:lnTo>
                        <a:pt x="996" y="0"/>
                      </a:lnTo>
                      <a:lnTo>
                        <a:pt x="971" y="9"/>
                      </a:lnTo>
                      <a:lnTo>
                        <a:pt x="903" y="90"/>
                      </a:lnTo>
                      <a:lnTo>
                        <a:pt x="828" y="183"/>
                      </a:lnTo>
                      <a:lnTo>
                        <a:pt x="752" y="270"/>
                      </a:lnTo>
                      <a:lnTo>
                        <a:pt x="642" y="342"/>
                      </a:lnTo>
                      <a:lnTo>
                        <a:pt x="548" y="390"/>
                      </a:lnTo>
                      <a:lnTo>
                        <a:pt x="445" y="414"/>
                      </a:lnTo>
                      <a:lnTo>
                        <a:pt x="301" y="417"/>
                      </a:lnTo>
                      <a:lnTo>
                        <a:pt x="216" y="417"/>
                      </a:lnTo>
                      <a:lnTo>
                        <a:pt x="144" y="363"/>
                      </a:lnTo>
                      <a:lnTo>
                        <a:pt x="125" y="327"/>
                      </a:lnTo>
                      <a:lnTo>
                        <a:pt x="94" y="327"/>
                      </a:lnTo>
                      <a:lnTo>
                        <a:pt x="116" y="372"/>
                      </a:lnTo>
                      <a:lnTo>
                        <a:pt x="150" y="414"/>
                      </a:lnTo>
                      <a:lnTo>
                        <a:pt x="66" y="396"/>
                      </a:lnTo>
                      <a:lnTo>
                        <a:pt x="3" y="387"/>
                      </a:lnTo>
                      <a:lnTo>
                        <a:pt x="3" y="405"/>
                      </a:lnTo>
                      <a:lnTo>
                        <a:pt x="59" y="417"/>
                      </a:lnTo>
                      <a:lnTo>
                        <a:pt x="97" y="441"/>
                      </a:lnTo>
                      <a:lnTo>
                        <a:pt x="131" y="444"/>
                      </a:lnTo>
                      <a:lnTo>
                        <a:pt x="78" y="462"/>
                      </a:lnTo>
                      <a:lnTo>
                        <a:pt x="0" y="481"/>
                      </a:lnTo>
                      <a:lnTo>
                        <a:pt x="3" y="499"/>
                      </a:lnTo>
                      <a:lnTo>
                        <a:pt x="28" y="505"/>
                      </a:lnTo>
                      <a:lnTo>
                        <a:pt x="103" y="481"/>
                      </a:lnTo>
                      <a:lnTo>
                        <a:pt x="150" y="477"/>
                      </a:lnTo>
                      <a:lnTo>
                        <a:pt x="122" y="505"/>
                      </a:lnTo>
                      <a:lnTo>
                        <a:pt x="78" y="550"/>
                      </a:lnTo>
                      <a:lnTo>
                        <a:pt x="59" y="562"/>
                      </a:lnTo>
                      <a:lnTo>
                        <a:pt x="75" y="581"/>
                      </a:lnTo>
                      <a:lnTo>
                        <a:pt x="113" y="559"/>
                      </a:lnTo>
                      <a:lnTo>
                        <a:pt x="163" y="514"/>
                      </a:lnTo>
                      <a:lnTo>
                        <a:pt x="210" y="46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242040" y="1659600"/>
                  <a:ext cx="144000" cy="276480"/>
                </a:xfrm>
                <a:custGeom>
                  <a:avLst/>
                  <a:gdLst/>
                  <a:ahLst/>
                  <a:rect l="l" t="t" r="r" b="b"/>
                  <a:pathLst>
                    <a:path w="608" h="800">
                      <a:moveTo>
                        <a:pt x="38" y="90"/>
                      </a:moveTo>
                      <a:lnTo>
                        <a:pt x="63" y="27"/>
                      </a:lnTo>
                      <a:lnTo>
                        <a:pt x="104" y="0"/>
                      </a:lnTo>
                      <a:lnTo>
                        <a:pt x="141" y="0"/>
                      </a:lnTo>
                      <a:lnTo>
                        <a:pt x="179" y="18"/>
                      </a:lnTo>
                      <a:lnTo>
                        <a:pt x="216" y="54"/>
                      </a:lnTo>
                      <a:lnTo>
                        <a:pt x="235" y="117"/>
                      </a:lnTo>
                      <a:lnTo>
                        <a:pt x="245" y="180"/>
                      </a:lnTo>
                      <a:lnTo>
                        <a:pt x="263" y="243"/>
                      </a:lnTo>
                      <a:lnTo>
                        <a:pt x="298" y="312"/>
                      </a:lnTo>
                      <a:lnTo>
                        <a:pt x="357" y="384"/>
                      </a:lnTo>
                      <a:lnTo>
                        <a:pt x="415" y="432"/>
                      </a:lnTo>
                      <a:lnTo>
                        <a:pt x="499" y="468"/>
                      </a:lnTo>
                      <a:lnTo>
                        <a:pt x="571" y="522"/>
                      </a:lnTo>
                      <a:lnTo>
                        <a:pt x="608" y="577"/>
                      </a:lnTo>
                      <a:lnTo>
                        <a:pt x="602" y="622"/>
                      </a:lnTo>
                      <a:lnTo>
                        <a:pt x="593" y="676"/>
                      </a:lnTo>
                      <a:lnTo>
                        <a:pt x="565" y="712"/>
                      </a:lnTo>
                      <a:lnTo>
                        <a:pt x="518" y="757"/>
                      </a:lnTo>
                      <a:lnTo>
                        <a:pt x="449" y="790"/>
                      </a:lnTo>
                      <a:lnTo>
                        <a:pt x="396" y="800"/>
                      </a:lnTo>
                      <a:lnTo>
                        <a:pt x="320" y="784"/>
                      </a:lnTo>
                      <a:lnTo>
                        <a:pt x="251" y="748"/>
                      </a:lnTo>
                      <a:lnTo>
                        <a:pt x="179" y="694"/>
                      </a:lnTo>
                      <a:lnTo>
                        <a:pt x="129" y="631"/>
                      </a:lnTo>
                      <a:lnTo>
                        <a:pt x="82" y="550"/>
                      </a:lnTo>
                      <a:lnTo>
                        <a:pt x="44" y="456"/>
                      </a:lnTo>
                      <a:lnTo>
                        <a:pt x="19" y="375"/>
                      </a:lnTo>
                      <a:lnTo>
                        <a:pt x="7" y="297"/>
                      </a:lnTo>
                      <a:lnTo>
                        <a:pt x="0" y="189"/>
                      </a:lnTo>
                      <a:lnTo>
                        <a:pt x="19" y="117"/>
                      </a:lnTo>
                      <a:lnTo>
                        <a:pt x="38" y="9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6360480" y="1777680"/>
                  <a:ext cx="247320" cy="250920"/>
                </a:xfrm>
                <a:custGeom>
                  <a:avLst/>
                  <a:gdLst/>
                  <a:ahLst/>
                  <a:rect l="l" t="t" r="r" b="b"/>
                  <a:pathLst>
                    <a:path w="1043" h="726">
                      <a:moveTo>
                        <a:pt x="116" y="230"/>
                      </a:moveTo>
                      <a:lnTo>
                        <a:pt x="216" y="147"/>
                      </a:lnTo>
                      <a:lnTo>
                        <a:pt x="338" y="72"/>
                      </a:lnTo>
                      <a:lnTo>
                        <a:pt x="417" y="27"/>
                      </a:lnTo>
                      <a:lnTo>
                        <a:pt x="479" y="12"/>
                      </a:lnTo>
                      <a:lnTo>
                        <a:pt x="529" y="0"/>
                      </a:lnTo>
                      <a:lnTo>
                        <a:pt x="573" y="18"/>
                      </a:lnTo>
                      <a:lnTo>
                        <a:pt x="601" y="75"/>
                      </a:lnTo>
                      <a:lnTo>
                        <a:pt x="620" y="230"/>
                      </a:lnTo>
                      <a:lnTo>
                        <a:pt x="620" y="416"/>
                      </a:lnTo>
                      <a:lnTo>
                        <a:pt x="620" y="536"/>
                      </a:lnTo>
                      <a:lnTo>
                        <a:pt x="642" y="609"/>
                      </a:lnTo>
                      <a:lnTo>
                        <a:pt x="686" y="597"/>
                      </a:lnTo>
                      <a:lnTo>
                        <a:pt x="717" y="552"/>
                      </a:lnTo>
                      <a:lnTo>
                        <a:pt x="779" y="500"/>
                      </a:lnTo>
                      <a:lnTo>
                        <a:pt x="876" y="470"/>
                      </a:lnTo>
                      <a:lnTo>
                        <a:pt x="943" y="470"/>
                      </a:lnTo>
                      <a:lnTo>
                        <a:pt x="1043" y="488"/>
                      </a:lnTo>
                      <a:lnTo>
                        <a:pt x="1037" y="524"/>
                      </a:lnTo>
                      <a:lnTo>
                        <a:pt x="1015" y="555"/>
                      </a:lnTo>
                      <a:lnTo>
                        <a:pt x="981" y="561"/>
                      </a:lnTo>
                      <a:lnTo>
                        <a:pt x="943" y="542"/>
                      </a:lnTo>
                      <a:lnTo>
                        <a:pt x="886" y="518"/>
                      </a:lnTo>
                      <a:lnTo>
                        <a:pt x="829" y="518"/>
                      </a:lnTo>
                      <a:lnTo>
                        <a:pt x="754" y="564"/>
                      </a:lnTo>
                      <a:lnTo>
                        <a:pt x="708" y="633"/>
                      </a:lnTo>
                      <a:lnTo>
                        <a:pt x="698" y="690"/>
                      </a:lnTo>
                      <a:lnTo>
                        <a:pt x="679" y="726"/>
                      </a:lnTo>
                      <a:lnTo>
                        <a:pt x="604" y="723"/>
                      </a:lnTo>
                      <a:lnTo>
                        <a:pt x="601" y="669"/>
                      </a:lnTo>
                      <a:lnTo>
                        <a:pt x="576" y="591"/>
                      </a:lnTo>
                      <a:lnTo>
                        <a:pt x="567" y="509"/>
                      </a:lnTo>
                      <a:lnTo>
                        <a:pt x="573" y="401"/>
                      </a:lnTo>
                      <a:lnTo>
                        <a:pt x="564" y="248"/>
                      </a:lnTo>
                      <a:lnTo>
                        <a:pt x="558" y="147"/>
                      </a:lnTo>
                      <a:lnTo>
                        <a:pt x="539" y="111"/>
                      </a:lnTo>
                      <a:lnTo>
                        <a:pt x="501" y="75"/>
                      </a:lnTo>
                      <a:lnTo>
                        <a:pt x="461" y="75"/>
                      </a:lnTo>
                      <a:lnTo>
                        <a:pt x="403" y="111"/>
                      </a:lnTo>
                      <a:lnTo>
                        <a:pt x="328" y="181"/>
                      </a:lnTo>
                      <a:lnTo>
                        <a:pt x="235" y="272"/>
                      </a:lnTo>
                      <a:lnTo>
                        <a:pt x="141" y="356"/>
                      </a:lnTo>
                      <a:lnTo>
                        <a:pt x="94" y="383"/>
                      </a:lnTo>
                      <a:lnTo>
                        <a:pt x="38" y="383"/>
                      </a:lnTo>
                      <a:lnTo>
                        <a:pt x="0" y="344"/>
                      </a:lnTo>
                      <a:lnTo>
                        <a:pt x="3" y="281"/>
                      </a:lnTo>
                      <a:lnTo>
                        <a:pt x="41" y="248"/>
                      </a:lnTo>
                      <a:lnTo>
                        <a:pt x="84" y="239"/>
                      </a:lnTo>
                      <a:lnTo>
                        <a:pt x="116" y="23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6347160" y="1887120"/>
                  <a:ext cx="169200" cy="263520"/>
                </a:xfrm>
                <a:custGeom>
                  <a:avLst/>
                  <a:gdLst/>
                  <a:ahLst/>
                  <a:rect l="l" t="t" r="r" b="b"/>
                  <a:pathLst>
                    <a:path w="713" h="762">
                      <a:moveTo>
                        <a:pt x="0" y="64"/>
                      </a:moveTo>
                      <a:lnTo>
                        <a:pt x="22" y="16"/>
                      </a:lnTo>
                      <a:lnTo>
                        <a:pt x="69" y="0"/>
                      </a:lnTo>
                      <a:lnTo>
                        <a:pt x="134" y="7"/>
                      </a:lnTo>
                      <a:lnTo>
                        <a:pt x="150" y="52"/>
                      </a:lnTo>
                      <a:lnTo>
                        <a:pt x="125" y="227"/>
                      </a:lnTo>
                      <a:lnTo>
                        <a:pt x="122" y="360"/>
                      </a:lnTo>
                      <a:lnTo>
                        <a:pt x="116" y="435"/>
                      </a:lnTo>
                      <a:lnTo>
                        <a:pt x="116" y="450"/>
                      </a:lnTo>
                      <a:lnTo>
                        <a:pt x="131" y="524"/>
                      </a:lnTo>
                      <a:lnTo>
                        <a:pt x="172" y="536"/>
                      </a:lnTo>
                      <a:lnTo>
                        <a:pt x="225" y="524"/>
                      </a:lnTo>
                      <a:lnTo>
                        <a:pt x="303" y="481"/>
                      </a:lnTo>
                      <a:lnTo>
                        <a:pt x="387" y="460"/>
                      </a:lnTo>
                      <a:lnTo>
                        <a:pt x="482" y="444"/>
                      </a:lnTo>
                      <a:lnTo>
                        <a:pt x="585" y="432"/>
                      </a:lnTo>
                      <a:lnTo>
                        <a:pt x="660" y="432"/>
                      </a:lnTo>
                      <a:lnTo>
                        <a:pt x="694" y="441"/>
                      </a:lnTo>
                      <a:lnTo>
                        <a:pt x="713" y="463"/>
                      </a:lnTo>
                      <a:lnTo>
                        <a:pt x="704" y="496"/>
                      </a:lnTo>
                      <a:lnTo>
                        <a:pt x="657" y="524"/>
                      </a:lnTo>
                      <a:lnTo>
                        <a:pt x="613" y="563"/>
                      </a:lnTo>
                      <a:lnTo>
                        <a:pt x="572" y="618"/>
                      </a:lnTo>
                      <a:lnTo>
                        <a:pt x="547" y="663"/>
                      </a:lnTo>
                      <a:lnTo>
                        <a:pt x="526" y="708"/>
                      </a:lnTo>
                      <a:lnTo>
                        <a:pt x="510" y="762"/>
                      </a:lnTo>
                      <a:lnTo>
                        <a:pt x="488" y="762"/>
                      </a:lnTo>
                      <a:lnTo>
                        <a:pt x="469" y="741"/>
                      </a:lnTo>
                      <a:lnTo>
                        <a:pt x="462" y="681"/>
                      </a:lnTo>
                      <a:lnTo>
                        <a:pt x="507" y="627"/>
                      </a:lnTo>
                      <a:lnTo>
                        <a:pt x="566" y="563"/>
                      </a:lnTo>
                      <a:lnTo>
                        <a:pt x="622" y="515"/>
                      </a:lnTo>
                      <a:lnTo>
                        <a:pt x="647" y="499"/>
                      </a:lnTo>
                      <a:lnTo>
                        <a:pt x="657" y="478"/>
                      </a:lnTo>
                      <a:lnTo>
                        <a:pt x="632" y="463"/>
                      </a:lnTo>
                      <a:lnTo>
                        <a:pt x="547" y="463"/>
                      </a:lnTo>
                      <a:lnTo>
                        <a:pt x="440" y="481"/>
                      </a:lnTo>
                      <a:lnTo>
                        <a:pt x="356" y="509"/>
                      </a:lnTo>
                      <a:lnTo>
                        <a:pt x="265" y="560"/>
                      </a:lnTo>
                      <a:lnTo>
                        <a:pt x="187" y="596"/>
                      </a:lnTo>
                      <a:lnTo>
                        <a:pt x="103" y="599"/>
                      </a:lnTo>
                      <a:lnTo>
                        <a:pt x="69" y="587"/>
                      </a:lnTo>
                      <a:lnTo>
                        <a:pt x="50" y="542"/>
                      </a:lnTo>
                      <a:lnTo>
                        <a:pt x="37" y="478"/>
                      </a:lnTo>
                      <a:lnTo>
                        <a:pt x="31" y="360"/>
                      </a:lnTo>
                      <a:lnTo>
                        <a:pt x="19" y="151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6543000" y="1865520"/>
                <a:ext cx="102240" cy="303120"/>
                <a:chOff x="6543000" y="1865520"/>
                <a:chExt cx="102240" cy="30312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6564600" y="2034360"/>
                  <a:ext cx="80640" cy="37440"/>
                </a:xfrm>
                <a:custGeom>
                  <a:avLst/>
                  <a:gdLst/>
                  <a:ahLst/>
                  <a:rect l="l" t="t" r="r" b="b"/>
                  <a:pathLst>
                    <a:path w="340" h="109">
                      <a:moveTo>
                        <a:pt x="340" y="109"/>
                      </a:moveTo>
                      <a:lnTo>
                        <a:pt x="165" y="30"/>
                      </a:lnTo>
                      <a:lnTo>
                        <a:pt x="48" y="0"/>
                      </a:lnTo>
                      <a:lnTo>
                        <a:pt x="10" y="0"/>
                      </a:lnTo>
                      <a:lnTo>
                        <a:pt x="0" y="27"/>
                      </a:lnTo>
                      <a:lnTo>
                        <a:pt x="22" y="48"/>
                      </a:lnTo>
                      <a:lnTo>
                        <a:pt x="70" y="54"/>
                      </a:lnTo>
                      <a:lnTo>
                        <a:pt x="184" y="75"/>
                      </a:lnTo>
                      <a:lnTo>
                        <a:pt x="340" y="10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6543000" y="2068200"/>
                  <a:ext cx="22680" cy="100440"/>
                </a:xfrm>
                <a:custGeom>
                  <a:avLst/>
                  <a:gdLst/>
                  <a:ahLst/>
                  <a:rect l="l" t="t" r="r" b="b"/>
                  <a:pathLst>
                    <a:path w="97" h="291">
                      <a:moveTo>
                        <a:pt x="97" y="291"/>
                      </a:moveTo>
                      <a:lnTo>
                        <a:pt x="94" y="148"/>
                      </a:lnTo>
                      <a:lnTo>
                        <a:pt x="69" y="39"/>
                      </a:lnTo>
                      <a:lnTo>
                        <a:pt x="41" y="0"/>
                      </a:lnTo>
                      <a:lnTo>
                        <a:pt x="19" y="0"/>
                      </a:lnTo>
                      <a:lnTo>
                        <a:pt x="0" y="12"/>
                      </a:lnTo>
                      <a:lnTo>
                        <a:pt x="0" y="54"/>
                      </a:lnTo>
                      <a:lnTo>
                        <a:pt x="47" y="184"/>
                      </a:lnTo>
                      <a:lnTo>
                        <a:pt x="97" y="29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6576120" y="1865520"/>
                  <a:ext cx="50760" cy="38160"/>
                </a:xfrm>
                <a:custGeom>
                  <a:avLst/>
                  <a:gdLst/>
                  <a:ahLst/>
                  <a:rect l="l" t="t" r="r" b="b"/>
                  <a:pathLst>
                    <a:path w="214" h="111">
                      <a:moveTo>
                        <a:pt x="0" y="72"/>
                      </a:moveTo>
                      <a:lnTo>
                        <a:pt x="42" y="30"/>
                      </a:lnTo>
                      <a:lnTo>
                        <a:pt x="100" y="3"/>
                      </a:lnTo>
                      <a:lnTo>
                        <a:pt x="166" y="0"/>
                      </a:lnTo>
                      <a:lnTo>
                        <a:pt x="214" y="9"/>
                      </a:lnTo>
                      <a:lnTo>
                        <a:pt x="138" y="18"/>
                      </a:lnTo>
                      <a:lnTo>
                        <a:pt x="109" y="36"/>
                      </a:lnTo>
                      <a:lnTo>
                        <a:pt x="81" y="63"/>
                      </a:lnTo>
                      <a:lnTo>
                        <a:pt x="68" y="93"/>
                      </a:lnTo>
                      <a:lnTo>
                        <a:pt x="42" y="111"/>
                      </a:lnTo>
                      <a:lnTo>
                        <a:pt x="10" y="108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15" name=""/>
          <p:cNvSpPr/>
          <p:nvPr/>
        </p:nvSpPr>
        <p:spPr>
          <a:xfrm>
            <a:off x="4690440" y="2193840"/>
            <a:ext cx="380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GCD(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) = GCD(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CD(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0520" y="868320"/>
            <a:ext cx="2091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nput: &lt;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362320" y="914400"/>
            <a:ext cx="6161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= &lt;10000000000001,9999999999999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362320" y="2406600"/>
            <a:ext cx="1398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= &lt;2,1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362320" y="2863800"/>
            <a:ext cx="1398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= &lt;1,0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823040" y="5791320"/>
            <a:ext cx="2783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O(log(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)+log(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)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586800" y="5834160"/>
            <a:ext cx="4615920" cy="1025640"/>
            <a:chOff x="586800" y="5834160"/>
            <a:chExt cx="4615920" cy="1025640"/>
          </a:xfrm>
        </p:grpSpPr>
        <p:sp>
          <p:nvSpPr>
            <p:cNvPr id="323" name=""/>
            <p:cNvSpPr/>
            <p:nvPr/>
          </p:nvSpPr>
          <p:spPr>
            <a:xfrm>
              <a:off x="586800" y="5834160"/>
              <a:ext cx="1294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Time =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01560" y="6309000"/>
              <a:ext cx="1243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Size  =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821600" y="6294600"/>
              <a:ext cx="3381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 = O(log(</a:t>
              </a: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)+log(</a:t>
              </a: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))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4503240" y="5837400"/>
            <a:ext cx="121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= O(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220400" y="1371600"/>
            <a:ext cx="104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362320" y="1889280"/>
            <a:ext cx="368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= &lt;9999999999999,2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59600" y="3184560"/>
            <a:ext cx="421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GCD(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) = GCD(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) = 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73480" y="1432080"/>
            <a:ext cx="6161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= &lt;10000000000001,9999999999999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6557760" y="1676520"/>
            <a:ext cx="2388960" cy="1083960"/>
            <a:chOff x="6557760" y="1676520"/>
            <a:chExt cx="2388960" cy="1083960"/>
          </a:xfrm>
        </p:grpSpPr>
        <p:sp>
          <p:nvSpPr>
            <p:cNvPr id="332" name=""/>
            <p:cNvSpPr/>
            <p:nvPr/>
          </p:nvSpPr>
          <p:spPr>
            <a:xfrm>
              <a:off x="8534520" y="1676520"/>
              <a:ext cx="304560" cy="609480"/>
            </a:xfrm>
            <a:custGeom>
              <a:avLst/>
              <a:gdLst>
                <a:gd name="textAreaLeft" fmla="*/ 40680 w 304560"/>
                <a:gd name="textAreaRight" fmla="*/ 263880 w 304560"/>
                <a:gd name="textAreaTop" fmla="*/ 106560 h 609480"/>
                <a:gd name="textAreaBottom" fmla="*/ 44208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557760" y="2209680"/>
              <a:ext cx="2388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0000"/>
                  </a:solidFill>
                  <a:latin typeface="Times New Roman"/>
                </a:rPr>
                <a:t>Little progress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6555600" y="2057400"/>
            <a:ext cx="2655720" cy="1083960"/>
            <a:chOff x="6555600" y="2057400"/>
            <a:chExt cx="2655720" cy="1083960"/>
          </a:xfrm>
        </p:grpSpPr>
        <p:sp>
          <p:nvSpPr>
            <p:cNvPr id="335" name=""/>
            <p:cNvSpPr/>
            <p:nvPr/>
          </p:nvSpPr>
          <p:spPr>
            <a:xfrm>
              <a:off x="8534520" y="2057400"/>
              <a:ext cx="304560" cy="609480"/>
            </a:xfrm>
            <a:custGeom>
              <a:avLst/>
              <a:gdLst>
                <a:gd name="textAreaLeft" fmla="*/ 40680 w 304560"/>
                <a:gd name="textAreaRight" fmla="*/ 263880 w 304560"/>
                <a:gd name="textAreaTop" fmla="*/ 106560 h 609480"/>
                <a:gd name="textAreaBottom" fmla="*/ 44208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555600" y="2590560"/>
              <a:ext cx="2655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0000"/>
                  </a:solidFill>
                  <a:latin typeface="Times New Roman"/>
                </a:rPr>
                <a:t>Lots of progress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386640" y="1689120"/>
            <a:ext cx="8824680" cy="3798000"/>
            <a:chOff x="386640" y="1689120"/>
            <a:chExt cx="8824680" cy="3798000"/>
          </a:xfrm>
        </p:grpSpPr>
        <p:sp>
          <p:nvSpPr>
            <p:cNvPr id="338" name=""/>
            <p:cNvSpPr/>
            <p:nvPr/>
          </p:nvSpPr>
          <p:spPr>
            <a:xfrm>
              <a:off x="386640" y="4022640"/>
              <a:ext cx="7357320" cy="14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Every two iterations:</a:t>
              </a:r>
              <a:br>
                <a:rPr sz="3000"/>
              </a:b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   the value </a:t>
              </a: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 decreases by at least a factor of 2.</a:t>
              </a:r>
              <a:br>
                <a:rPr sz="3000"/>
              </a:b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   the size of </a:t>
              </a: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 decreases by at least one bit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9" name=""/>
            <p:cNvGrpSpPr/>
            <p:nvPr/>
          </p:nvGrpSpPr>
          <p:grpSpPr>
            <a:xfrm>
              <a:off x="6555600" y="1689120"/>
              <a:ext cx="2655720" cy="1434960"/>
              <a:chOff x="6555600" y="1689120"/>
              <a:chExt cx="2655720" cy="1434960"/>
            </a:xfrm>
          </p:grpSpPr>
          <p:sp>
            <p:nvSpPr>
              <p:cNvPr id="340" name=""/>
              <p:cNvSpPr/>
              <p:nvPr/>
            </p:nvSpPr>
            <p:spPr>
              <a:xfrm>
                <a:off x="8432280" y="1689120"/>
                <a:ext cx="288720" cy="1010520"/>
              </a:xfrm>
              <a:custGeom>
                <a:avLst/>
                <a:gdLst>
                  <a:gd name="textAreaLeft" fmla="*/ 38520 w 288720"/>
                  <a:gd name="textAreaRight" fmla="*/ 250200 w 288720"/>
                  <a:gd name="textAreaTop" fmla="*/ 176760 h 1010520"/>
                  <a:gd name="textAreaBottom" fmla="*/ 732600 h 1010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2682637"/>
                    <a:lnTo>
                      <a:pt x="7200" y="21168"/>
                    </a:lnTo>
                    <a:lnTo>
                      <a:pt x="0" y="17280"/>
                    </a:lnTo>
                    <a:lnTo>
                      <a:pt x="7200" y="12528"/>
                    </a:lnTo>
                    <a:lnTo>
                      <a:pt x="7200" y="14688"/>
                    </a:lnTo>
                    <a:arcTo wR="21600" hR="7560" stAng="2682637" swAng="-2325203"/>
                    <a:lnTo>
                      <a:pt x="20700" y="9720"/>
                    </a:lnTo>
                    <a:arcTo wR="21600" hR="7560" stAng="-357435" swAng="-5042565"/>
                    <a:close/>
                  </a:path>
                  <a:path fill="darkenLess"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-357435"/>
                    <a:lnTo>
                      <a:pt x="20700" y="9720"/>
                    </a:lnTo>
                    <a:arcTo wR="21600" hR="7560" stAng="-357435" swAng="-5042565"/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555600" y="2573280"/>
                <a:ext cx="2655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ff0000"/>
                    </a:solidFill>
                    <a:latin typeface="Times New Roman"/>
                  </a:rPr>
                  <a:t>Lots of progress</a:t>
                </a:r>
                <a:endParaRPr b="0" lang="en-US" sz="3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CD(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2286000" y="1905120"/>
            <a:ext cx="474336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CD(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90520" y="1401840"/>
            <a:ext cx="2091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nput: &lt;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5160" y="1812960"/>
            <a:ext cx="68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= 4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6000" y="1812960"/>
            <a:ext cx="2975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Output: GCD(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71960" y="1382760"/>
            <a:ext cx="1779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= &lt;64,44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2514600"/>
            <a:ext cx="913680" cy="1009080"/>
            <a:chOff x="457200" y="2514600"/>
            <a:chExt cx="913680" cy="1009080"/>
          </a:xfrm>
        </p:grpSpPr>
        <p:sp>
          <p:nvSpPr>
            <p:cNvPr id="48" name=""/>
            <p:cNvSpPr/>
            <p:nvPr/>
          </p:nvSpPr>
          <p:spPr>
            <a:xfrm>
              <a:off x="901440" y="2659680"/>
              <a:ext cx="245520" cy="223200"/>
            </a:xfrm>
            <a:custGeom>
              <a:avLst/>
              <a:gdLst/>
              <a:ahLst/>
              <a:rect l="l" t="t" r="r" b="b"/>
              <a:pathLst>
                <a:path w="603" h="570">
                  <a:moveTo>
                    <a:pt x="390" y="270"/>
                  </a:moveTo>
                  <a:lnTo>
                    <a:pt x="374" y="166"/>
                  </a:lnTo>
                  <a:lnTo>
                    <a:pt x="343" y="72"/>
                  </a:lnTo>
                  <a:lnTo>
                    <a:pt x="286" y="22"/>
                  </a:lnTo>
                  <a:lnTo>
                    <a:pt x="186" y="0"/>
                  </a:lnTo>
                  <a:lnTo>
                    <a:pt x="100" y="22"/>
                  </a:lnTo>
                  <a:lnTo>
                    <a:pt x="19" y="115"/>
                  </a:lnTo>
                  <a:lnTo>
                    <a:pt x="0" y="227"/>
                  </a:lnTo>
                  <a:lnTo>
                    <a:pt x="19" y="346"/>
                  </a:lnTo>
                  <a:lnTo>
                    <a:pt x="50" y="419"/>
                  </a:lnTo>
                  <a:lnTo>
                    <a:pt x="89" y="494"/>
                  </a:lnTo>
                  <a:lnTo>
                    <a:pt x="131" y="545"/>
                  </a:lnTo>
                  <a:lnTo>
                    <a:pt x="178" y="570"/>
                  </a:lnTo>
                  <a:lnTo>
                    <a:pt x="243" y="548"/>
                  </a:lnTo>
                  <a:lnTo>
                    <a:pt x="309" y="497"/>
                  </a:lnTo>
                  <a:lnTo>
                    <a:pt x="351" y="426"/>
                  </a:lnTo>
                  <a:lnTo>
                    <a:pt x="390" y="365"/>
                  </a:lnTo>
                  <a:lnTo>
                    <a:pt x="402" y="328"/>
                  </a:lnTo>
                  <a:lnTo>
                    <a:pt x="567" y="275"/>
                  </a:lnTo>
                  <a:lnTo>
                    <a:pt x="603" y="253"/>
                  </a:lnTo>
                  <a:lnTo>
                    <a:pt x="583" y="220"/>
                  </a:lnTo>
                  <a:lnTo>
                    <a:pt x="390" y="27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80120" y="2900520"/>
              <a:ext cx="253800" cy="399600"/>
            </a:xfrm>
            <a:custGeom>
              <a:avLst/>
              <a:gdLst/>
              <a:ahLst/>
              <a:rect l="l" t="t" r="r" b="b"/>
              <a:pathLst>
                <a:path w="622" h="1018">
                  <a:moveTo>
                    <a:pt x="209" y="152"/>
                  </a:moveTo>
                  <a:lnTo>
                    <a:pt x="285" y="76"/>
                  </a:lnTo>
                  <a:lnTo>
                    <a:pt x="413" y="4"/>
                  </a:lnTo>
                  <a:lnTo>
                    <a:pt x="471" y="0"/>
                  </a:lnTo>
                  <a:lnTo>
                    <a:pt x="575" y="33"/>
                  </a:lnTo>
                  <a:lnTo>
                    <a:pt x="622" y="80"/>
                  </a:lnTo>
                  <a:lnTo>
                    <a:pt x="622" y="152"/>
                  </a:lnTo>
                  <a:lnTo>
                    <a:pt x="544" y="285"/>
                  </a:lnTo>
                  <a:lnTo>
                    <a:pt x="460" y="390"/>
                  </a:lnTo>
                  <a:lnTo>
                    <a:pt x="424" y="477"/>
                  </a:lnTo>
                  <a:lnTo>
                    <a:pt x="401" y="578"/>
                  </a:lnTo>
                  <a:lnTo>
                    <a:pt x="424" y="675"/>
                  </a:lnTo>
                  <a:lnTo>
                    <a:pt x="447" y="769"/>
                  </a:lnTo>
                  <a:lnTo>
                    <a:pt x="447" y="877"/>
                  </a:lnTo>
                  <a:lnTo>
                    <a:pt x="413" y="942"/>
                  </a:lnTo>
                  <a:lnTo>
                    <a:pt x="335" y="979"/>
                  </a:lnTo>
                  <a:lnTo>
                    <a:pt x="243" y="1018"/>
                  </a:lnTo>
                  <a:lnTo>
                    <a:pt x="158" y="1018"/>
                  </a:lnTo>
                  <a:lnTo>
                    <a:pt x="100" y="989"/>
                  </a:lnTo>
                  <a:lnTo>
                    <a:pt x="24" y="870"/>
                  </a:lnTo>
                  <a:lnTo>
                    <a:pt x="0" y="748"/>
                  </a:lnTo>
                  <a:lnTo>
                    <a:pt x="8" y="589"/>
                  </a:lnTo>
                  <a:lnTo>
                    <a:pt x="66" y="390"/>
                  </a:lnTo>
                  <a:lnTo>
                    <a:pt x="123" y="261"/>
                  </a:lnTo>
                  <a:lnTo>
                    <a:pt x="209" y="15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8120" y="3226680"/>
              <a:ext cx="319320" cy="297000"/>
            </a:xfrm>
            <a:custGeom>
              <a:avLst/>
              <a:gdLst/>
              <a:ahLst/>
              <a:rect l="l" t="t" r="r" b="b"/>
              <a:pathLst>
                <a:path w="784" h="758">
                  <a:moveTo>
                    <a:pt x="0" y="72"/>
                  </a:moveTo>
                  <a:lnTo>
                    <a:pt x="65" y="0"/>
                  </a:lnTo>
                  <a:lnTo>
                    <a:pt x="163" y="0"/>
                  </a:lnTo>
                  <a:lnTo>
                    <a:pt x="344" y="18"/>
                  </a:lnTo>
                  <a:lnTo>
                    <a:pt x="557" y="28"/>
                  </a:lnTo>
                  <a:lnTo>
                    <a:pt x="638" y="62"/>
                  </a:lnTo>
                  <a:lnTo>
                    <a:pt x="672" y="104"/>
                  </a:lnTo>
                  <a:lnTo>
                    <a:pt x="680" y="169"/>
                  </a:lnTo>
                  <a:lnTo>
                    <a:pt x="656" y="238"/>
                  </a:lnTo>
                  <a:lnTo>
                    <a:pt x="591" y="342"/>
                  </a:lnTo>
                  <a:lnTo>
                    <a:pt x="506" y="429"/>
                  </a:lnTo>
                  <a:lnTo>
                    <a:pt x="440" y="508"/>
                  </a:lnTo>
                  <a:lnTo>
                    <a:pt x="414" y="569"/>
                  </a:lnTo>
                  <a:lnTo>
                    <a:pt x="394" y="613"/>
                  </a:lnTo>
                  <a:lnTo>
                    <a:pt x="401" y="646"/>
                  </a:lnTo>
                  <a:lnTo>
                    <a:pt x="406" y="667"/>
                  </a:lnTo>
                  <a:lnTo>
                    <a:pt x="483" y="667"/>
                  </a:lnTo>
                  <a:lnTo>
                    <a:pt x="603" y="649"/>
                  </a:lnTo>
                  <a:lnTo>
                    <a:pt x="680" y="649"/>
                  </a:lnTo>
                  <a:lnTo>
                    <a:pt x="761" y="678"/>
                  </a:lnTo>
                  <a:lnTo>
                    <a:pt x="784" y="714"/>
                  </a:lnTo>
                  <a:lnTo>
                    <a:pt x="761" y="747"/>
                  </a:lnTo>
                  <a:lnTo>
                    <a:pt x="726" y="758"/>
                  </a:lnTo>
                  <a:lnTo>
                    <a:pt x="672" y="743"/>
                  </a:lnTo>
                  <a:lnTo>
                    <a:pt x="599" y="703"/>
                  </a:lnTo>
                  <a:lnTo>
                    <a:pt x="521" y="710"/>
                  </a:lnTo>
                  <a:lnTo>
                    <a:pt x="394" y="732"/>
                  </a:lnTo>
                  <a:lnTo>
                    <a:pt x="356" y="725"/>
                  </a:lnTo>
                  <a:lnTo>
                    <a:pt x="336" y="700"/>
                  </a:lnTo>
                  <a:lnTo>
                    <a:pt x="336" y="639"/>
                  </a:lnTo>
                  <a:lnTo>
                    <a:pt x="336" y="552"/>
                  </a:lnTo>
                  <a:lnTo>
                    <a:pt x="390" y="486"/>
                  </a:lnTo>
                  <a:lnTo>
                    <a:pt x="471" y="389"/>
                  </a:lnTo>
                  <a:lnTo>
                    <a:pt x="541" y="303"/>
                  </a:lnTo>
                  <a:lnTo>
                    <a:pt x="588" y="238"/>
                  </a:lnTo>
                  <a:lnTo>
                    <a:pt x="611" y="181"/>
                  </a:lnTo>
                  <a:lnTo>
                    <a:pt x="599" y="148"/>
                  </a:lnTo>
                  <a:lnTo>
                    <a:pt x="568" y="108"/>
                  </a:lnTo>
                  <a:lnTo>
                    <a:pt x="521" y="97"/>
                  </a:lnTo>
                  <a:lnTo>
                    <a:pt x="471" y="97"/>
                  </a:lnTo>
                  <a:lnTo>
                    <a:pt x="359" y="97"/>
                  </a:lnTo>
                  <a:lnTo>
                    <a:pt x="193" y="126"/>
                  </a:lnTo>
                  <a:lnTo>
                    <a:pt x="70" y="137"/>
                  </a:lnTo>
                  <a:lnTo>
                    <a:pt x="20" y="126"/>
                  </a:lnTo>
                  <a:lnTo>
                    <a:pt x="0" y="108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57200" y="3155040"/>
              <a:ext cx="407520" cy="287280"/>
            </a:xfrm>
            <a:custGeom>
              <a:avLst/>
              <a:gdLst/>
              <a:ahLst/>
              <a:rect l="l" t="t" r="r" b="b"/>
              <a:pathLst>
                <a:path w="996" h="722">
                  <a:moveTo>
                    <a:pt x="811" y="300"/>
                  </a:moveTo>
                  <a:lnTo>
                    <a:pt x="827" y="206"/>
                  </a:lnTo>
                  <a:lnTo>
                    <a:pt x="884" y="170"/>
                  </a:lnTo>
                  <a:lnTo>
                    <a:pt x="954" y="163"/>
                  </a:lnTo>
                  <a:lnTo>
                    <a:pt x="996" y="206"/>
                  </a:lnTo>
                  <a:lnTo>
                    <a:pt x="977" y="288"/>
                  </a:lnTo>
                  <a:lnTo>
                    <a:pt x="939" y="400"/>
                  </a:lnTo>
                  <a:lnTo>
                    <a:pt x="861" y="527"/>
                  </a:lnTo>
                  <a:lnTo>
                    <a:pt x="764" y="635"/>
                  </a:lnTo>
                  <a:lnTo>
                    <a:pt x="683" y="693"/>
                  </a:lnTo>
                  <a:lnTo>
                    <a:pt x="595" y="722"/>
                  </a:lnTo>
                  <a:lnTo>
                    <a:pt x="509" y="711"/>
                  </a:lnTo>
                  <a:lnTo>
                    <a:pt x="444" y="678"/>
                  </a:lnTo>
                  <a:lnTo>
                    <a:pt x="420" y="624"/>
                  </a:lnTo>
                  <a:lnTo>
                    <a:pt x="394" y="531"/>
                  </a:lnTo>
                  <a:lnTo>
                    <a:pt x="363" y="358"/>
                  </a:lnTo>
                  <a:lnTo>
                    <a:pt x="339" y="239"/>
                  </a:lnTo>
                  <a:lnTo>
                    <a:pt x="339" y="98"/>
                  </a:lnTo>
                  <a:lnTo>
                    <a:pt x="324" y="73"/>
                  </a:lnTo>
                  <a:lnTo>
                    <a:pt x="278" y="66"/>
                  </a:lnTo>
                  <a:lnTo>
                    <a:pt x="224" y="105"/>
                  </a:lnTo>
                  <a:lnTo>
                    <a:pt x="174" y="170"/>
                  </a:lnTo>
                  <a:lnTo>
                    <a:pt x="115" y="206"/>
                  </a:lnTo>
                  <a:lnTo>
                    <a:pt x="27" y="206"/>
                  </a:lnTo>
                  <a:lnTo>
                    <a:pt x="0" y="184"/>
                  </a:lnTo>
                  <a:lnTo>
                    <a:pt x="0" y="149"/>
                  </a:lnTo>
                  <a:lnTo>
                    <a:pt x="39" y="115"/>
                  </a:lnTo>
                  <a:lnTo>
                    <a:pt x="81" y="127"/>
                  </a:lnTo>
                  <a:lnTo>
                    <a:pt x="120" y="119"/>
                  </a:lnTo>
                  <a:lnTo>
                    <a:pt x="190" y="73"/>
                  </a:lnTo>
                  <a:lnTo>
                    <a:pt x="258" y="22"/>
                  </a:lnTo>
                  <a:lnTo>
                    <a:pt x="324" y="8"/>
                  </a:lnTo>
                  <a:lnTo>
                    <a:pt x="417" y="0"/>
                  </a:lnTo>
                  <a:lnTo>
                    <a:pt x="420" y="40"/>
                  </a:lnTo>
                  <a:lnTo>
                    <a:pt x="398" y="83"/>
                  </a:lnTo>
                  <a:lnTo>
                    <a:pt x="394" y="195"/>
                  </a:lnTo>
                  <a:lnTo>
                    <a:pt x="420" y="343"/>
                  </a:lnTo>
                  <a:lnTo>
                    <a:pt x="464" y="487"/>
                  </a:lnTo>
                  <a:lnTo>
                    <a:pt x="501" y="573"/>
                  </a:lnTo>
                  <a:lnTo>
                    <a:pt x="560" y="614"/>
                  </a:lnTo>
                  <a:lnTo>
                    <a:pt x="618" y="614"/>
                  </a:lnTo>
                  <a:lnTo>
                    <a:pt x="676" y="573"/>
                  </a:lnTo>
                  <a:lnTo>
                    <a:pt x="753" y="483"/>
                  </a:lnTo>
                  <a:lnTo>
                    <a:pt x="803" y="354"/>
                  </a:lnTo>
                  <a:lnTo>
                    <a:pt x="811" y="3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48360" y="2514600"/>
              <a:ext cx="286200" cy="449640"/>
            </a:xfrm>
            <a:custGeom>
              <a:avLst/>
              <a:gdLst/>
              <a:ahLst/>
              <a:rect l="l" t="t" r="r" b="b"/>
              <a:pathLst>
                <a:path w="703" h="1140">
                  <a:moveTo>
                    <a:pt x="448" y="865"/>
                  </a:moveTo>
                  <a:lnTo>
                    <a:pt x="563" y="974"/>
                  </a:lnTo>
                  <a:lnTo>
                    <a:pt x="610" y="974"/>
                  </a:lnTo>
                  <a:lnTo>
                    <a:pt x="687" y="1018"/>
                  </a:lnTo>
                  <a:lnTo>
                    <a:pt x="703" y="1067"/>
                  </a:lnTo>
                  <a:lnTo>
                    <a:pt x="679" y="1133"/>
                  </a:lnTo>
                  <a:lnTo>
                    <a:pt x="617" y="1140"/>
                  </a:lnTo>
                  <a:lnTo>
                    <a:pt x="540" y="1089"/>
                  </a:lnTo>
                  <a:lnTo>
                    <a:pt x="385" y="952"/>
                  </a:lnTo>
                  <a:lnTo>
                    <a:pt x="286" y="823"/>
                  </a:lnTo>
                  <a:lnTo>
                    <a:pt x="239" y="721"/>
                  </a:lnTo>
                  <a:lnTo>
                    <a:pt x="208" y="548"/>
                  </a:lnTo>
                  <a:lnTo>
                    <a:pt x="208" y="324"/>
                  </a:lnTo>
                  <a:lnTo>
                    <a:pt x="200" y="267"/>
                  </a:lnTo>
                  <a:lnTo>
                    <a:pt x="155" y="224"/>
                  </a:lnTo>
                  <a:lnTo>
                    <a:pt x="23" y="231"/>
                  </a:lnTo>
                  <a:lnTo>
                    <a:pt x="0" y="209"/>
                  </a:lnTo>
                  <a:lnTo>
                    <a:pt x="30" y="195"/>
                  </a:lnTo>
                  <a:lnTo>
                    <a:pt x="124" y="188"/>
                  </a:lnTo>
                  <a:lnTo>
                    <a:pt x="139" y="173"/>
                  </a:lnTo>
                  <a:lnTo>
                    <a:pt x="7" y="101"/>
                  </a:lnTo>
                  <a:lnTo>
                    <a:pt x="7" y="73"/>
                  </a:lnTo>
                  <a:lnTo>
                    <a:pt x="30" y="65"/>
                  </a:lnTo>
                  <a:lnTo>
                    <a:pt x="139" y="122"/>
                  </a:lnTo>
                  <a:lnTo>
                    <a:pt x="162" y="115"/>
                  </a:lnTo>
                  <a:lnTo>
                    <a:pt x="139" y="7"/>
                  </a:lnTo>
                  <a:lnTo>
                    <a:pt x="155" y="0"/>
                  </a:lnTo>
                  <a:lnTo>
                    <a:pt x="170" y="7"/>
                  </a:lnTo>
                  <a:lnTo>
                    <a:pt x="200" y="115"/>
                  </a:lnTo>
                  <a:lnTo>
                    <a:pt x="223" y="122"/>
                  </a:lnTo>
                  <a:lnTo>
                    <a:pt x="286" y="7"/>
                  </a:lnTo>
                  <a:lnTo>
                    <a:pt x="301" y="7"/>
                  </a:lnTo>
                  <a:lnTo>
                    <a:pt x="301" y="44"/>
                  </a:lnTo>
                  <a:lnTo>
                    <a:pt x="262" y="137"/>
                  </a:lnTo>
                  <a:lnTo>
                    <a:pt x="262" y="188"/>
                  </a:lnTo>
                  <a:lnTo>
                    <a:pt x="278" y="253"/>
                  </a:lnTo>
                  <a:lnTo>
                    <a:pt x="270" y="339"/>
                  </a:lnTo>
                  <a:lnTo>
                    <a:pt x="278" y="497"/>
                  </a:lnTo>
                  <a:lnTo>
                    <a:pt x="293" y="599"/>
                  </a:lnTo>
                  <a:lnTo>
                    <a:pt x="332" y="714"/>
                  </a:lnTo>
                  <a:lnTo>
                    <a:pt x="385" y="801"/>
                  </a:lnTo>
                  <a:lnTo>
                    <a:pt x="448" y="86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97200" y="2553840"/>
              <a:ext cx="373680" cy="421560"/>
            </a:xfrm>
            <a:custGeom>
              <a:avLst/>
              <a:gdLst/>
              <a:ahLst/>
              <a:rect l="l" t="t" r="r" b="b"/>
              <a:pathLst>
                <a:path w="919" h="1067">
                  <a:moveTo>
                    <a:pt x="16" y="945"/>
                  </a:moveTo>
                  <a:lnTo>
                    <a:pt x="0" y="994"/>
                  </a:lnTo>
                  <a:lnTo>
                    <a:pt x="16" y="1067"/>
                  </a:lnTo>
                  <a:lnTo>
                    <a:pt x="70" y="1067"/>
                  </a:lnTo>
                  <a:lnTo>
                    <a:pt x="232" y="1038"/>
                  </a:lnTo>
                  <a:lnTo>
                    <a:pt x="410" y="980"/>
                  </a:lnTo>
                  <a:lnTo>
                    <a:pt x="556" y="887"/>
                  </a:lnTo>
                  <a:lnTo>
                    <a:pt x="642" y="764"/>
                  </a:lnTo>
                  <a:lnTo>
                    <a:pt x="718" y="555"/>
                  </a:lnTo>
                  <a:lnTo>
                    <a:pt x="741" y="360"/>
                  </a:lnTo>
                  <a:lnTo>
                    <a:pt x="741" y="267"/>
                  </a:lnTo>
                  <a:lnTo>
                    <a:pt x="780" y="209"/>
                  </a:lnTo>
                  <a:lnTo>
                    <a:pt x="849" y="187"/>
                  </a:lnTo>
                  <a:lnTo>
                    <a:pt x="911" y="187"/>
                  </a:lnTo>
                  <a:lnTo>
                    <a:pt x="919" y="158"/>
                  </a:lnTo>
                  <a:lnTo>
                    <a:pt x="827" y="165"/>
                  </a:lnTo>
                  <a:lnTo>
                    <a:pt x="811" y="144"/>
                  </a:lnTo>
                  <a:lnTo>
                    <a:pt x="888" y="65"/>
                  </a:lnTo>
                  <a:lnTo>
                    <a:pt x="872" y="43"/>
                  </a:lnTo>
                  <a:lnTo>
                    <a:pt x="857" y="58"/>
                  </a:lnTo>
                  <a:lnTo>
                    <a:pt x="796" y="115"/>
                  </a:lnTo>
                  <a:lnTo>
                    <a:pt x="780" y="115"/>
                  </a:lnTo>
                  <a:lnTo>
                    <a:pt x="780" y="14"/>
                  </a:lnTo>
                  <a:lnTo>
                    <a:pt x="765" y="0"/>
                  </a:lnTo>
                  <a:lnTo>
                    <a:pt x="741" y="7"/>
                  </a:lnTo>
                  <a:lnTo>
                    <a:pt x="749" y="115"/>
                  </a:lnTo>
                  <a:lnTo>
                    <a:pt x="734" y="122"/>
                  </a:lnTo>
                  <a:lnTo>
                    <a:pt x="671" y="65"/>
                  </a:lnTo>
                  <a:lnTo>
                    <a:pt x="626" y="58"/>
                  </a:lnTo>
                  <a:lnTo>
                    <a:pt x="634" y="87"/>
                  </a:lnTo>
                  <a:lnTo>
                    <a:pt x="703" y="151"/>
                  </a:lnTo>
                  <a:lnTo>
                    <a:pt x="703" y="187"/>
                  </a:lnTo>
                  <a:lnTo>
                    <a:pt x="679" y="260"/>
                  </a:lnTo>
                  <a:lnTo>
                    <a:pt x="679" y="324"/>
                  </a:lnTo>
                  <a:lnTo>
                    <a:pt x="679" y="433"/>
                  </a:lnTo>
                  <a:lnTo>
                    <a:pt x="648" y="570"/>
                  </a:lnTo>
                  <a:lnTo>
                    <a:pt x="618" y="656"/>
                  </a:lnTo>
                  <a:lnTo>
                    <a:pt x="564" y="764"/>
                  </a:lnTo>
                  <a:lnTo>
                    <a:pt x="502" y="850"/>
                  </a:lnTo>
                  <a:lnTo>
                    <a:pt x="456" y="894"/>
                  </a:lnTo>
                  <a:lnTo>
                    <a:pt x="332" y="930"/>
                  </a:lnTo>
                  <a:lnTo>
                    <a:pt x="217" y="945"/>
                  </a:lnTo>
                  <a:lnTo>
                    <a:pt x="100" y="959"/>
                  </a:lnTo>
                  <a:lnTo>
                    <a:pt x="16" y="94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533520" y="3870360"/>
            <a:ext cx="1181160" cy="1066680"/>
            <a:chOff x="533520" y="3870360"/>
            <a:chExt cx="1181160" cy="1066680"/>
          </a:xfrm>
        </p:grpSpPr>
        <p:sp>
          <p:nvSpPr>
            <p:cNvPr id="55" name=""/>
            <p:cNvSpPr/>
            <p:nvPr/>
          </p:nvSpPr>
          <p:spPr>
            <a:xfrm>
              <a:off x="533520" y="3870360"/>
              <a:ext cx="1181160" cy="1066680"/>
            </a:xfrm>
            <a:custGeom>
              <a:avLst/>
              <a:gdLst/>
              <a:ahLst/>
              <a:rect l="l" t="t" r="r" b="b"/>
              <a:pathLst>
                <a:path w="2280" h="1785">
                  <a:moveTo>
                    <a:pt x="748" y="30"/>
                  </a:moveTo>
                  <a:cubicBezTo>
                    <a:pt x="881" y="60"/>
                    <a:pt x="985" y="267"/>
                    <a:pt x="1224" y="305"/>
                  </a:cubicBezTo>
                  <a:cubicBezTo>
                    <a:pt x="1463" y="343"/>
                    <a:pt x="2088" y="121"/>
                    <a:pt x="2184" y="257"/>
                  </a:cubicBezTo>
                  <a:cubicBezTo>
                    <a:pt x="2280" y="393"/>
                    <a:pt x="1873" y="945"/>
                    <a:pt x="1800" y="1121"/>
                  </a:cubicBezTo>
                  <a:cubicBezTo>
                    <a:pt x="1727" y="1297"/>
                    <a:pt x="1757" y="1253"/>
                    <a:pt x="1743" y="1313"/>
                  </a:cubicBezTo>
                  <a:cubicBezTo>
                    <a:pt x="1729" y="1373"/>
                    <a:pt x="1747" y="1440"/>
                    <a:pt x="1717" y="1479"/>
                  </a:cubicBezTo>
                  <a:cubicBezTo>
                    <a:pt x="1687" y="1518"/>
                    <a:pt x="1634" y="1537"/>
                    <a:pt x="1560" y="1549"/>
                  </a:cubicBezTo>
                  <a:cubicBezTo>
                    <a:pt x="1486" y="1561"/>
                    <a:pt x="1504" y="1536"/>
                    <a:pt x="1272" y="1553"/>
                  </a:cubicBezTo>
                  <a:cubicBezTo>
                    <a:pt x="1040" y="1570"/>
                    <a:pt x="336" y="1785"/>
                    <a:pt x="168" y="1649"/>
                  </a:cubicBezTo>
                  <a:cubicBezTo>
                    <a:pt x="0" y="1513"/>
                    <a:pt x="221" y="991"/>
                    <a:pt x="264" y="737"/>
                  </a:cubicBezTo>
                  <a:cubicBezTo>
                    <a:pt x="307" y="483"/>
                    <a:pt x="344" y="244"/>
                    <a:pt x="425" y="126"/>
                  </a:cubicBezTo>
                  <a:cubicBezTo>
                    <a:pt x="506" y="8"/>
                    <a:pt x="615" y="0"/>
                    <a:pt x="748" y="30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720000" y="3959280"/>
              <a:ext cx="629640" cy="860400"/>
              <a:chOff x="720000" y="3959280"/>
              <a:chExt cx="629640" cy="860400"/>
            </a:xfrm>
          </p:grpSpPr>
          <p:grpSp>
            <p:nvGrpSpPr>
              <p:cNvPr id="57" name=""/>
              <p:cNvGrpSpPr/>
              <p:nvPr/>
            </p:nvGrpSpPr>
            <p:grpSpPr>
              <a:xfrm>
                <a:off x="720000" y="3959280"/>
                <a:ext cx="592560" cy="842400"/>
                <a:chOff x="720000" y="3959280"/>
                <a:chExt cx="592560" cy="84240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915480" y="4101480"/>
                  <a:ext cx="102960" cy="177840"/>
                </a:xfrm>
                <a:custGeom>
                  <a:avLst/>
                  <a:gdLst/>
                  <a:ahLst/>
                  <a:rect l="l" t="t" r="r" b="b"/>
                  <a:pathLst>
                    <a:path w="434" h="514">
                      <a:moveTo>
                        <a:pt x="132" y="186"/>
                      </a:moveTo>
                      <a:lnTo>
                        <a:pt x="157" y="114"/>
                      </a:lnTo>
                      <a:lnTo>
                        <a:pt x="189" y="42"/>
                      </a:lnTo>
                      <a:lnTo>
                        <a:pt x="236" y="6"/>
                      </a:lnTo>
                      <a:lnTo>
                        <a:pt x="302" y="0"/>
                      </a:lnTo>
                      <a:lnTo>
                        <a:pt x="355" y="24"/>
                      </a:lnTo>
                      <a:lnTo>
                        <a:pt x="393" y="63"/>
                      </a:lnTo>
                      <a:lnTo>
                        <a:pt x="421" y="135"/>
                      </a:lnTo>
                      <a:lnTo>
                        <a:pt x="434" y="222"/>
                      </a:lnTo>
                      <a:lnTo>
                        <a:pt x="434" y="312"/>
                      </a:lnTo>
                      <a:lnTo>
                        <a:pt x="412" y="411"/>
                      </a:lnTo>
                      <a:lnTo>
                        <a:pt x="355" y="474"/>
                      </a:lnTo>
                      <a:lnTo>
                        <a:pt x="299" y="514"/>
                      </a:lnTo>
                      <a:lnTo>
                        <a:pt x="245" y="510"/>
                      </a:lnTo>
                      <a:lnTo>
                        <a:pt x="198" y="468"/>
                      </a:lnTo>
                      <a:lnTo>
                        <a:pt x="157" y="396"/>
                      </a:lnTo>
                      <a:lnTo>
                        <a:pt x="129" y="333"/>
                      </a:lnTo>
                      <a:lnTo>
                        <a:pt x="129" y="252"/>
                      </a:lnTo>
                      <a:lnTo>
                        <a:pt x="0" y="234"/>
                      </a:lnTo>
                      <a:lnTo>
                        <a:pt x="16" y="189"/>
                      </a:lnTo>
                      <a:lnTo>
                        <a:pt x="132" y="18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983520" y="3959280"/>
                  <a:ext cx="134280" cy="398880"/>
                </a:xfrm>
                <a:custGeom>
                  <a:avLst/>
                  <a:gdLst/>
                  <a:ahLst/>
                  <a:rect l="l" t="t" r="r" b="b"/>
                  <a:pathLst>
                    <a:path w="566" h="1154">
                      <a:moveTo>
                        <a:pt x="13" y="1145"/>
                      </a:moveTo>
                      <a:lnTo>
                        <a:pt x="0" y="1088"/>
                      </a:lnTo>
                      <a:lnTo>
                        <a:pt x="31" y="1042"/>
                      </a:lnTo>
                      <a:lnTo>
                        <a:pt x="134" y="988"/>
                      </a:lnTo>
                      <a:lnTo>
                        <a:pt x="226" y="927"/>
                      </a:lnTo>
                      <a:lnTo>
                        <a:pt x="313" y="827"/>
                      </a:lnTo>
                      <a:lnTo>
                        <a:pt x="432" y="689"/>
                      </a:lnTo>
                      <a:lnTo>
                        <a:pt x="463" y="634"/>
                      </a:lnTo>
                      <a:lnTo>
                        <a:pt x="479" y="580"/>
                      </a:lnTo>
                      <a:lnTo>
                        <a:pt x="472" y="526"/>
                      </a:lnTo>
                      <a:lnTo>
                        <a:pt x="444" y="426"/>
                      </a:lnTo>
                      <a:lnTo>
                        <a:pt x="376" y="299"/>
                      </a:lnTo>
                      <a:lnTo>
                        <a:pt x="301" y="229"/>
                      </a:lnTo>
                      <a:lnTo>
                        <a:pt x="235" y="190"/>
                      </a:lnTo>
                      <a:lnTo>
                        <a:pt x="181" y="184"/>
                      </a:lnTo>
                      <a:lnTo>
                        <a:pt x="153" y="190"/>
                      </a:lnTo>
                      <a:lnTo>
                        <a:pt x="150" y="163"/>
                      </a:lnTo>
                      <a:lnTo>
                        <a:pt x="215" y="154"/>
                      </a:lnTo>
                      <a:lnTo>
                        <a:pt x="291" y="154"/>
                      </a:lnTo>
                      <a:lnTo>
                        <a:pt x="238" y="93"/>
                      </a:lnTo>
                      <a:lnTo>
                        <a:pt x="206" y="45"/>
                      </a:lnTo>
                      <a:lnTo>
                        <a:pt x="229" y="27"/>
                      </a:lnTo>
                      <a:lnTo>
                        <a:pt x="313" y="109"/>
                      </a:lnTo>
                      <a:lnTo>
                        <a:pt x="329" y="121"/>
                      </a:lnTo>
                      <a:lnTo>
                        <a:pt x="313" y="57"/>
                      </a:lnTo>
                      <a:lnTo>
                        <a:pt x="301" y="9"/>
                      </a:lnTo>
                      <a:lnTo>
                        <a:pt x="313" y="0"/>
                      </a:lnTo>
                      <a:lnTo>
                        <a:pt x="341" y="9"/>
                      </a:lnTo>
                      <a:lnTo>
                        <a:pt x="366" y="121"/>
                      </a:lnTo>
                      <a:lnTo>
                        <a:pt x="379" y="118"/>
                      </a:lnTo>
                      <a:lnTo>
                        <a:pt x="379" y="30"/>
                      </a:lnTo>
                      <a:lnTo>
                        <a:pt x="404" y="21"/>
                      </a:lnTo>
                      <a:lnTo>
                        <a:pt x="422" y="36"/>
                      </a:lnTo>
                      <a:lnTo>
                        <a:pt x="413" y="154"/>
                      </a:lnTo>
                      <a:lnTo>
                        <a:pt x="407" y="202"/>
                      </a:lnTo>
                      <a:lnTo>
                        <a:pt x="422" y="299"/>
                      </a:lnTo>
                      <a:lnTo>
                        <a:pt x="472" y="402"/>
                      </a:lnTo>
                      <a:lnTo>
                        <a:pt x="525" y="520"/>
                      </a:lnTo>
                      <a:lnTo>
                        <a:pt x="566" y="607"/>
                      </a:lnTo>
                      <a:lnTo>
                        <a:pt x="563" y="652"/>
                      </a:lnTo>
                      <a:lnTo>
                        <a:pt x="488" y="734"/>
                      </a:lnTo>
                      <a:lnTo>
                        <a:pt x="385" y="836"/>
                      </a:lnTo>
                      <a:lnTo>
                        <a:pt x="301" y="937"/>
                      </a:lnTo>
                      <a:lnTo>
                        <a:pt x="197" y="1070"/>
                      </a:lnTo>
                      <a:lnTo>
                        <a:pt x="112" y="1136"/>
                      </a:lnTo>
                      <a:lnTo>
                        <a:pt x="47" y="1154"/>
                      </a:lnTo>
                      <a:lnTo>
                        <a:pt x="13" y="1145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720000" y="4331160"/>
                  <a:ext cx="246240" cy="200880"/>
                </a:xfrm>
                <a:custGeom>
                  <a:avLst/>
                  <a:gdLst/>
                  <a:ahLst/>
                  <a:rect l="l" t="t" r="r" b="b"/>
                  <a:pathLst>
                    <a:path w="1037" h="581">
                      <a:moveTo>
                        <a:pt x="210" y="468"/>
                      </a:moveTo>
                      <a:lnTo>
                        <a:pt x="361" y="462"/>
                      </a:lnTo>
                      <a:lnTo>
                        <a:pt x="498" y="444"/>
                      </a:lnTo>
                      <a:lnTo>
                        <a:pt x="583" y="423"/>
                      </a:lnTo>
                      <a:lnTo>
                        <a:pt x="705" y="354"/>
                      </a:lnTo>
                      <a:lnTo>
                        <a:pt x="792" y="288"/>
                      </a:lnTo>
                      <a:lnTo>
                        <a:pt x="906" y="207"/>
                      </a:lnTo>
                      <a:lnTo>
                        <a:pt x="959" y="156"/>
                      </a:lnTo>
                      <a:lnTo>
                        <a:pt x="1000" y="120"/>
                      </a:lnTo>
                      <a:lnTo>
                        <a:pt x="1037" y="81"/>
                      </a:lnTo>
                      <a:lnTo>
                        <a:pt x="1037" y="39"/>
                      </a:lnTo>
                      <a:lnTo>
                        <a:pt x="996" y="0"/>
                      </a:lnTo>
                      <a:lnTo>
                        <a:pt x="971" y="9"/>
                      </a:lnTo>
                      <a:lnTo>
                        <a:pt x="903" y="90"/>
                      </a:lnTo>
                      <a:lnTo>
                        <a:pt x="828" y="183"/>
                      </a:lnTo>
                      <a:lnTo>
                        <a:pt x="752" y="270"/>
                      </a:lnTo>
                      <a:lnTo>
                        <a:pt x="642" y="342"/>
                      </a:lnTo>
                      <a:lnTo>
                        <a:pt x="548" y="390"/>
                      </a:lnTo>
                      <a:lnTo>
                        <a:pt x="445" y="414"/>
                      </a:lnTo>
                      <a:lnTo>
                        <a:pt x="301" y="417"/>
                      </a:lnTo>
                      <a:lnTo>
                        <a:pt x="216" y="417"/>
                      </a:lnTo>
                      <a:lnTo>
                        <a:pt x="144" y="363"/>
                      </a:lnTo>
                      <a:lnTo>
                        <a:pt x="125" y="327"/>
                      </a:lnTo>
                      <a:lnTo>
                        <a:pt x="94" y="327"/>
                      </a:lnTo>
                      <a:lnTo>
                        <a:pt x="116" y="372"/>
                      </a:lnTo>
                      <a:lnTo>
                        <a:pt x="150" y="414"/>
                      </a:lnTo>
                      <a:lnTo>
                        <a:pt x="66" y="396"/>
                      </a:lnTo>
                      <a:lnTo>
                        <a:pt x="3" y="387"/>
                      </a:lnTo>
                      <a:lnTo>
                        <a:pt x="3" y="405"/>
                      </a:lnTo>
                      <a:lnTo>
                        <a:pt x="59" y="417"/>
                      </a:lnTo>
                      <a:lnTo>
                        <a:pt x="97" y="441"/>
                      </a:lnTo>
                      <a:lnTo>
                        <a:pt x="131" y="444"/>
                      </a:lnTo>
                      <a:lnTo>
                        <a:pt x="78" y="462"/>
                      </a:lnTo>
                      <a:lnTo>
                        <a:pt x="0" y="481"/>
                      </a:lnTo>
                      <a:lnTo>
                        <a:pt x="3" y="499"/>
                      </a:lnTo>
                      <a:lnTo>
                        <a:pt x="28" y="505"/>
                      </a:lnTo>
                      <a:lnTo>
                        <a:pt x="103" y="481"/>
                      </a:lnTo>
                      <a:lnTo>
                        <a:pt x="150" y="477"/>
                      </a:lnTo>
                      <a:lnTo>
                        <a:pt x="122" y="505"/>
                      </a:lnTo>
                      <a:lnTo>
                        <a:pt x="78" y="550"/>
                      </a:lnTo>
                      <a:lnTo>
                        <a:pt x="59" y="562"/>
                      </a:lnTo>
                      <a:lnTo>
                        <a:pt x="75" y="581"/>
                      </a:lnTo>
                      <a:lnTo>
                        <a:pt x="113" y="559"/>
                      </a:lnTo>
                      <a:lnTo>
                        <a:pt x="163" y="514"/>
                      </a:lnTo>
                      <a:lnTo>
                        <a:pt x="210" y="46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946800" y="4310640"/>
                  <a:ext cx="144360" cy="276480"/>
                </a:xfrm>
                <a:custGeom>
                  <a:avLst/>
                  <a:gdLst/>
                  <a:ahLst/>
                  <a:rect l="l" t="t" r="r" b="b"/>
                  <a:pathLst>
                    <a:path w="608" h="800">
                      <a:moveTo>
                        <a:pt x="38" y="90"/>
                      </a:moveTo>
                      <a:lnTo>
                        <a:pt x="63" y="27"/>
                      </a:lnTo>
                      <a:lnTo>
                        <a:pt x="104" y="0"/>
                      </a:lnTo>
                      <a:lnTo>
                        <a:pt x="141" y="0"/>
                      </a:lnTo>
                      <a:lnTo>
                        <a:pt x="179" y="18"/>
                      </a:lnTo>
                      <a:lnTo>
                        <a:pt x="216" y="54"/>
                      </a:lnTo>
                      <a:lnTo>
                        <a:pt x="235" y="117"/>
                      </a:lnTo>
                      <a:lnTo>
                        <a:pt x="245" y="180"/>
                      </a:lnTo>
                      <a:lnTo>
                        <a:pt x="263" y="243"/>
                      </a:lnTo>
                      <a:lnTo>
                        <a:pt x="298" y="312"/>
                      </a:lnTo>
                      <a:lnTo>
                        <a:pt x="357" y="384"/>
                      </a:lnTo>
                      <a:lnTo>
                        <a:pt x="415" y="432"/>
                      </a:lnTo>
                      <a:lnTo>
                        <a:pt x="499" y="468"/>
                      </a:lnTo>
                      <a:lnTo>
                        <a:pt x="571" y="522"/>
                      </a:lnTo>
                      <a:lnTo>
                        <a:pt x="608" y="577"/>
                      </a:lnTo>
                      <a:lnTo>
                        <a:pt x="602" y="622"/>
                      </a:lnTo>
                      <a:lnTo>
                        <a:pt x="593" y="676"/>
                      </a:lnTo>
                      <a:lnTo>
                        <a:pt x="565" y="712"/>
                      </a:lnTo>
                      <a:lnTo>
                        <a:pt x="518" y="757"/>
                      </a:lnTo>
                      <a:lnTo>
                        <a:pt x="449" y="790"/>
                      </a:lnTo>
                      <a:lnTo>
                        <a:pt x="396" y="800"/>
                      </a:lnTo>
                      <a:lnTo>
                        <a:pt x="320" y="784"/>
                      </a:lnTo>
                      <a:lnTo>
                        <a:pt x="251" y="748"/>
                      </a:lnTo>
                      <a:lnTo>
                        <a:pt x="179" y="694"/>
                      </a:lnTo>
                      <a:lnTo>
                        <a:pt x="129" y="631"/>
                      </a:lnTo>
                      <a:lnTo>
                        <a:pt x="82" y="550"/>
                      </a:lnTo>
                      <a:lnTo>
                        <a:pt x="44" y="456"/>
                      </a:lnTo>
                      <a:lnTo>
                        <a:pt x="19" y="375"/>
                      </a:lnTo>
                      <a:lnTo>
                        <a:pt x="7" y="297"/>
                      </a:lnTo>
                      <a:lnTo>
                        <a:pt x="0" y="189"/>
                      </a:lnTo>
                      <a:lnTo>
                        <a:pt x="19" y="117"/>
                      </a:lnTo>
                      <a:lnTo>
                        <a:pt x="38" y="9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64880" y="4428720"/>
                  <a:ext cx="247680" cy="250920"/>
                </a:xfrm>
                <a:custGeom>
                  <a:avLst/>
                  <a:gdLst/>
                  <a:ahLst/>
                  <a:rect l="l" t="t" r="r" b="b"/>
                  <a:pathLst>
                    <a:path w="1043" h="726">
                      <a:moveTo>
                        <a:pt x="116" y="230"/>
                      </a:moveTo>
                      <a:lnTo>
                        <a:pt x="216" y="147"/>
                      </a:lnTo>
                      <a:lnTo>
                        <a:pt x="338" y="72"/>
                      </a:lnTo>
                      <a:lnTo>
                        <a:pt x="417" y="27"/>
                      </a:lnTo>
                      <a:lnTo>
                        <a:pt x="479" y="12"/>
                      </a:lnTo>
                      <a:lnTo>
                        <a:pt x="529" y="0"/>
                      </a:lnTo>
                      <a:lnTo>
                        <a:pt x="573" y="18"/>
                      </a:lnTo>
                      <a:lnTo>
                        <a:pt x="601" y="75"/>
                      </a:lnTo>
                      <a:lnTo>
                        <a:pt x="620" y="230"/>
                      </a:lnTo>
                      <a:lnTo>
                        <a:pt x="620" y="416"/>
                      </a:lnTo>
                      <a:lnTo>
                        <a:pt x="620" y="536"/>
                      </a:lnTo>
                      <a:lnTo>
                        <a:pt x="642" y="609"/>
                      </a:lnTo>
                      <a:lnTo>
                        <a:pt x="686" y="597"/>
                      </a:lnTo>
                      <a:lnTo>
                        <a:pt x="717" y="552"/>
                      </a:lnTo>
                      <a:lnTo>
                        <a:pt x="779" y="500"/>
                      </a:lnTo>
                      <a:lnTo>
                        <a:pt x="876" y="470"/>
                      </a:lnTo>
                      <a:lnTo>
                        <a:pt x="943" y="470"/>
                      </a:lnTo>
                      <a:lnTo>
                        <a:pt x="1043" y="488"/>
                      </a:lnTo>
                      <a:lnTo>
                        <a:pt x="1037" y="524"/>
                      </a:lnTo>
                      <a:lnTo>
                        <a:pt x="1015" y="555"/>
                      </a:lnTo>
                      <a:lnTo>
                        <a:pt x="981" y="561"/>
                      </a:lnTo>
                      <a:lnTo>
                        <a:pt x="943" y="542"/>
                      </a:lnTo>
                      <a:lnTo>
                        <a:pt x="886" y="518"/>
                      </a:lnTo>
                      <a:lnTo>
                        <a:pt x="829" y="518"/>
                      </a:lnTo>
                      <a:lnTo>
                        <a:pt x="754" y="564"/>
                      </a:lnTo>
                      <a:lnTo>
                        <a:pt x="708" y="633"/>
                      </a:lnTo>
                      <a:lnTo>
                        <a:pt x="698" y="690"/>
                      </a:lnTo>
                      <a:lnTo>
                        <a:pt x="679" y="726"/>
                      </a:lnTo>
                      <a:lnTo>
                        <a:pt x="604" y="723"/>
                      </a:lnTo>
                      <a:lnTo>
                        <a:pt x="601" y="669"/>
                      </a:lnTo>
                      <a:lnTo>
                        <a:pt x="576" y="591"/>
                      </a:lnTo>
                      <a:lnTo>
                        <a:pt x="567" y="509"/>
                      </a:lnTo>
                      <a:lnTo>
                        <a:pt x="573" y="401"/>
                      </a:lnTo>
                      <a:lnTo>
                        <a:pt x="564" y="248"/>
                      </a:lnTo>
                      <a:lnTo>
                        <a:pt x="558" y="147"/>
                      </a:lnTo>
                      <a:lnTo>
                        <a:pt x="539" y="111"/>
                      </a:lnTo>
                      <a:lnTo>
                        <a:pt x="501" y="75"/>
                      </a:lnTo>
                      <a:lnTo>
                        <a:pt x="461" y="75"/>
                      </a:lnTo>
                      <a:lnTo>
                        <a:pt x="403" y="111"/>
                      </a:lnTo>
                      <a:lnTo>
                        <a:pt x="328" y="181"/>
                      </a:lnTo>
                      <a:lnTo>
                        <a:pt x="235" y="272"/>
                      </a:lnTo>
                      <a:lnTo>
                        <a:pt x="141" y="356"/>
                      </a:lnTo>
                      <a:lnTo>
                        <a:pt x="94" y="383"/>
                      </a:lnTo>
                      <a:lnTo>
                        <a:pt x="38" y="383"/>
                      </a:lnTo>
                      <a:lnTo>
                        <a:pt x="0" y="344"/>
                      </a:lnTo>
                      <a:lnTo>
                        <a:pt x="3" y="281"/>
                      </a:lnTo>
                      <a:lnTo>
                        <a:pt x="41" y="248"/>
                      </a:lnTo>
                      <a:lnTo>
                        <a:pt x="84" y="239"/>
                      </a:lnTo>
                      <a:lnTo>
                        <a:pt x="116" y="23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051560" y="4538160"/>
                  <a:ext cx="169200" cy="263520"/>
                </a:xfrm>
                <a:custGeom>
                  <a:avLst/>
                  <a:gdLst/>
                  <a:ahLst/>
                  <a:rect l="l" t="t" r="r" b="b"/>
                  <a:pathLst>
                    <a:path w="713" h="762">
                      <a:moveTo>
                        <a:pt x="0" y="64"/>
                      </a:moveTo>
                      <a:lnTo>
                        <a:pt x="22" y="16"/>
                      </a:lnTo>
                      <a:lnTo>
                        <a:pt x="69" y="0"/>
                      </a:lnTo>
                      <a:lnTo>
                        <a:pt x="134" y="7"/>
                      </a:lnTo>
                      <a:lnTo>
                        <a:pt x="150" y="52"/>
                      </a:lnTo>
                      <a:lnTo>
                        <a:pt x="125" y="227"/>
                      </a:lnTo>
                      <a:lnTo>
                        <a:pt x="122" y="360"/>
                      </a:lnTo>
                      <a:lnTo>
                        <a:pt x="116" y="435"/>
                      </a:lnTo>
                      <a:lnTo>
                        <a:pt x="116" y="450"/>
                      </a:lnTo>
                      <a:lnTo>
                        <a:pt x="131" y="524"/>
                      </a:lnTo>
                      <a:lnTo>
                        <a:pt x="172" y="536"/>
                      </a:lnTo>
                      <a:lnTo>
                        <a:pt x="225" y="524"/>
                      </a:lnTo>
                      <a:lnTo>
                        <a:pt x="303" y="481"/>
                      </a:lnTo>
                      <a:lnTo>
                        <a:pt x="387" y="460"/>
                      </a:lnTo>
                      <a:lnTo>
                        <a:pt x="482" y="444"/>
                      </a:lnTo>
                      <a:lnTo>
                        <a:pt x="585" y="432"/>
                      </a:lnTo>
                      <a:lnTo>
                        <a:pt x="660" y="432"/>
                      </a:lnTo>
                      <a:lnTo>
                        <a:pt x="694" y="441"/>
                      </a:lnTo>
                      <a:lnTo>
                        <a:pt x="713" y="463"/>
                      </a:lnTo>
                      <a:lnTo>
                        <a:pt x="704" y="496"/>
                      </a:lnTo>
                      <a:lnTo>
                        <a:pt x="657" y="524"/>
                      </a:lnTo>
                      <a:lnTo>
                        <a:pt x="613" y="563"/>
                      </a:lnTo>
                      <a:lnTo>
                        <a:pt x="572" y="618"/>
                      </a:lnTo>
                      <a:lnTo>
                        <a:pt x="547" y="663"/>
                      </a:lnTo>
                      <a:lnTo>
                        <a:pt x="526" y="708"/>
                      </a:lnTo>
                      <a:lnTo>
                        <a:pt x="510" y="762"/>
                      </a:lnTo>
                      <a:lnTo>
                        <a:pt x="488" y="762"/>
                      </a:lnTo>
                      <a:lnTo>
                        <a:pt x="469" y="741"/>
                      </a:lnTo>
                      <a:lnTo>
                        <a:pt x="462" y="681"/>
                      </a:lnTo>
                      <a:lnTo>
                        <a:pt x="507" y="627"/>
                      </a:lnTo>
                      <a:lnTo>
                        <a:pt x="566" y="563"/>
                      </a:lnTo>
                      <a:lnTo>
                        <a:pt x="622" y="515"/>
                      </a:lnTo>
                      <a:lnTo>
                        <a:pt x="647" y="499"/>
                      </a:lnTo>
                      <a:lnTo>
                        <a:pt x="657" y="478"/>
                      </a:lnTo>
                      <a:lnTo>
                        <a:pt x="632" y="463"/>
                      </a:lnTo>
                      <a:lnTo>
                        <a:pt x="547" y="463"/>
                      </a:lnTo>
                      <a:lnTo>
                        <a:pt x="440" y="481"/>
                      </a:lnTo>
                      <a:lnTo>
                        <a:pt x="356" y="509"/>
                      </a:lnTo>
                      <a:lnTo>
                        <a:pt x="265" y="560"/>
                      </a:lnTo>
                      <a:lnTo>
                        <a:pt x="187" y="596"/>
                      </a:lnTo>
                      <a:lnTo>
                        <a:pt x="103" y="599"/>
                      </a:lnTo>
                      <a:lnTo>
                        <a:pt x="69" y="587"/>
                      </a:lnTo>
                      <a:lnTo>
                        <a:pt x="50" y="542"/>
                      </a:lnTo>
                      <a:lnTo>
                        <a:pt x="37" y="478"/>
                      </a:lnTo>
                      <a:lnTo>
                        <a:pt x="31" y="360"/>
                      </a:lnTo>
                      <a:lnTo>
                        <a:pt x="19" y="151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" name=""/>
              <p:cNvGrpSpPr/>
              <p:nvPr/>
            </p:nvGrpSpPr>
            <p:grpSpPr>
              <a:xfrm>
                <a:off x="1247400" y="4516560"/>
                <a:ext cx="102240" cy="303120"/>
                <a:chOff x="1247400" y="4516560"/>
                <a:chExt cx="102240" cy="3031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1269000" y="4685400"/>
                  <a:ext cx="80640" cy="37440"/>
                </a:xfrm>
                <a:custGeom>
                  <a:avLst/>
                  <a:gdLst/>
                  <a:ahLst/>
                  <a:rect l="l" t="t" r="r" b="b"/>
                  <a:pathLst>
                    <a:path w="340" h="109">
                      <a:moveTo>
                        <a:pt x="340" y="109"/>
                      </a:moveTo>
                      <a:lnTo>
                        <a:pt x="165" y="30"/>
                      </a:lnTo>
                      <a:lnTo>
                        <a:pt x="48" y="0"/>
                      </a:lnTo>
                      <a:lnTo>
                        <a:pt x="10" y="0"/>
                      </a:lnTo>
                      <a:lnTo>
                        <a:pt x="0" y="27"/>
                      </a:lnTo>
                      <a:lnTo>
                        <a:pt x="22" y="48"/>
                      </a:lnTo>
                      <a:lnTo>
                        <a:pt x="70" y="54"/>
                      </a:lnTo>
                      <a:lnTo>
                        <a:pt x="184" y="75"/>
                      </a:lnTo>
                      <a:lnTo>
                        <a:pt x="340" y="10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247400" y="4719240"/>
                  <a:ext cx="22680" cy="100440"/>
                </a:xfrm>
                <a:custGeom>
                  <a:avLst/>
                  <a:gdLst/>
                  <a:ahLst/>
                  <a:rect l="l" t="t" r="r" b="b"/>
                  <a:pathLst>
                    <a:path w="97" h="291">
                      <a:moveTo>
                        <a:pt x="97" y="291"/>
                      </a:moveTo>
                      <a:lnTo>
                        <a:pt x="94" y="148"/>
                      </a:lnTo>
                      <a:lnTo>
                        <a:pt x="69" y="39"/>
                      </a:lnTo>
                      <a:lnTo>
                        <a:pt x="41" y="0"/>
                      </a:lnTo>
                      <a:lnTo>
                        <a:pt x="19" y="0"/>
                      </a:lnTo>
                      <a:lnTo>
                        <a:pt x="0" y="12"/>
                      </a:lnTo>
                      <a:lnTo>
                        <a:pt x="0" y="54"/>
                      </a:lnTo>
                      <a:lnTo>
                        <a:pt x="47" y="184"/>
                      </a:lnTo>
                      <a:lnTo>
                        <a:pt x="97" y="29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280520" y="4516560"/>
                  <a:ext cx="50760" cy="38160"/>
                </a:xfrm>
                <a:custGeom>
                  <a:avLst/>
                  <a:gdLst/>
                  <a:ahLst/>
                  <a:rect l="l" t="t" r="r" b="b"/>
                  <a:pathLst>
                    <a:path w="214" h="111">
                      <a:moveTo>
                        <a:pt x="0" y="72"/>
                      </a:moveTo>
                      <a:lnTo>
                        <a:pt x="42" y="30"/>
                      </a:lnTo>
                      <a:lnTo>
                        <a:pt x="100" y="3"/>
                      </a:lnTo>
                      <a:lnTo>
                        <a:pt x="166" y="0"/>
                      </a:lnTo>
                      <a:lnTo>
                        <a:pt x="214" y="9"/>
                      </a:lnTo>
                      <a:lnTo>
                        <a:pt x="138" y="18"/>
                      </a:lnTo>
                      <a:lnTo>
                        <a:pt x="109" y="36"/>
                      </a:lnTo>
                      <a:lnTo>
                        <a:pt x="81" y="63"/>
                      </a:lnTo>
                      <a:lnTo>
                        <a:pt x="68" y="93"/>
                      </a:lnTo>
                      <a:lnTo>
                        <a:pt x="42" y="111"/>
                      </a:lnTo>
                      <a:lnTo>
                        <a:pt x="10" y="108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8" name=""/>
          <p:cNvSpPr/>
          <p:nvPr/>
        </p:nvSpPr>
        <p:spPr>
          <a:xfrm>
            <a:off x="2234160" y="3886200"/>
            <a:ext cx="50421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Maintain values &lt;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&gt; such that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GCD(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) = GCD(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284200" y="2438280"/>
            <a:ext cx="4072680" cy="932040"/>
            <a:chOff x="2284200" y="2438280"/>
            <a:chExt cx="4072680" cy="932040"/>
          </a:xfrm>
        </p:grpSpPr>
        <p:sp>
          <p:nvSpPr>
            <p:cNvPr id="70" name=""/>
            <p:cNvSpPr/>
            <p:nvPr/>
          </p:nvSpPr>
          <p:spPr>
            <a:xfrm>
              <a:off x="2284200" y="2819520"/>
              <a:ext cx="4072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GCD(</a:t>
              </a: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,</a:t>
              </a: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) = GCD(</a:t>
              </a: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,</a:t>
              </a: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) 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875320" y="2438280"/>
              <a:ext cx="2902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,</a:t>
              </a: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&gt; </a:t>
              </a:r>
              <a:r>
                <a:rPr b="0" lang="en-US" sz="3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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 &lt;</a:t>
              </a: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,</a:t>
              </a: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&gt; 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1901520" y="3260880"/>
            <a:ext cx="5115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GCD(64,44) = GCD(20,44) = 4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313920" y="5287320"/>
            <a:ext cx="1427400" cy="1068840"/>
            <a:chOff x="313920" y="5287320"/>
            <a:chExt cx="1427400" cy="1068840"/>
          </a:xfrm>
        </p:grpSpPr>
        <p:sp>
          <p:nvSpPr>
            <p:cNvPr id="74" name=""/>
            <p:cNvSpPr/>
            <p:nvPr/>
          </p:nvSpPr>
          <p:spPr>
            <a:xfrm rot="2359800">
              <a:off x="421200" y="5559120"/>
              <a:ext cx="782640" cy="619200"/>
            </a:xfrm>
            <a:custGeom>
              <a:avLst/>
              <a:gdLst/>
              <a:ahLst/>
              <a:rect l="l" t="t" r="r" b="b"/>
              <a:pathLst>
                <a:path w="2280" h="1785">
                  <a:moveTo>
                    <a:pt x="748" y="30"/>
                  </a:moveTo>
                  <a:cubicBezTo>
                    <a:pt x="881" y="60"/>
                    <a:pt x="985" y="267"/>
                    <a:pt x="1224" y="305"/>
                  </a:cubicBezTo>
                  <a:cubicBezTo>
                    <a:pt x="1463" y="343"/>
                    <a:pt x="2088" y="121"/>
                    <a:pt x="2184" y="257"/>
                  </a:cubicBezTo>
                  <a:cubicBezTo>
                    <a:pt x="2280" y="393"/>
                    <a:pt x="1873" y="945"/>
                    <a:pt x="1800" y="1121"/>
                  </a:cubicBezTo>
                  <a:cubicBezTo>
                    <a:pt x="1727" y="1297"/>
                    <a:pt x="1757" y="1253"/>
                    <a:pt x="1743" y="1313"/>
                  </a:cubicBezTo>
                  <a:cubicBezTo>
                    <a:pt x="1729" y="1373"/>
                    <a:pt x="1747" y="1440"/>
                    <a:pt x="1717" y="1479"/>
                  </a:cubicBezTo>
                  <a:cubicBezTo>
                    <a:pt x="1687" y="1518"/>
                    <a:pt x="1634" y="1537"/>
                    <a:pt x="1560" y="1549"/>
                  </a:cubicBezTo>
                  <a:cubicBezTo>
                    <a:pt x="1486" y="1561"/>
                    <a:pt x="1504" y="1536"/>
                    <a:pt x="1272" y="1553"/>
                  </a:cubicBezTo>
                  <a:cubicBezTo>
                    <a:pt x="1040" y="1570"/>
                    <a:pt x="336" y="1785"/>
                    <a:pt x="168" y="1649"/>
                  </a:cubicBezTo>
                  <a:cubicBezTo>
                    <a:pt x="0" y="1513"/>
                    <a:pt x="221" y="991"/>
                    <a:pt x="264" y="737"/>
                  </a:cubicBezTo>
                  <a:cubicBezTo>
                    <a:pt x="307" y="483"/>
                    <a:pt x="344" y="244"/>
                    <a:pt x="425" y="126"/>
                  </a:cubicBezTo>
                  <a:cubicBezTo>
                    <a:pt x="506" y="8"/>
                    <a:pt x="615" y="0"/>
                    <a:pt x="748" y="3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rot="2359800">
              <a:off x="1199160" y="5627160"/>
              <a:ext cx="450360" cy="449280"/>
            </a:xfrm>
            <a:custGeom>
              <a:avLst/>
              <a:gdLst/>
              <a:ahLst/>
              <a:rect l="l" t="t" r="r" b="b"/>
              <a:pathLst>
                <a:path w="1312" h="1296">
                  <a:moveTo>
                    <a:pt x="592" y="160"/>
                  </a:moveTo>
                  <a:cubicBezTo>
                    <a:pt x="408" y="256"/>
                    <a:pt x="32" y="496"/>
                    <a:pt x="16" y="640"/>
                  </a:cubicBezTo>
                  <a:cubicBezTo>
                    <a:pt x="0" y="784"/>
                    <a:pt x="296" y="928"/>
                    <a:pt x="496" y="1024"/>
                  </a:cubicBezTo>
                  <a:cubicBezTo>
                    <a:pt x="696" y="1120"/>
                    <a:pt x="1120" y="1296"/>
                    <a:pt x="1216" y="1216"/>
                  </a:cubicBezTo>
                  <a:cubicBezTo>
                    <a:pt x="1312" y="1136"/>
                    <a:pt x="1088" y="736"/>
                    <a:pt x="1072" y="544"/>
                  </a:cubicBezTo>
                  <a:cubicBezTo>
                    <a:pt x="1056" y="352"/>
                    <a:pt x="1208" y="128"/>
                    <a:pt x="1120" y="64"/>
                  </a:cubicBezTo>
                  <a:cubicBezTo>
                    <a:pt x="1032" y="0"/>
                    <a:pt x="776" y="64"/>
                    <a:pt x="592" y="160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800280" y="5287320"/>
              <a:ext cx="691200" cy="740880"/>
              <a:chOff x="800280" y="5287320"/>
              <a:chExt cx="691200" cy="740880"/>
            </a:xfrm>
          </p:grpSpPr>
          <p:sp>
            <p:nvSpPr>
              <p:cNvPr id="77" name=""/>
              <p:cNvSpPr/>
              <p:nvPr/>
            </p:nvSpPr>
            <p:spPr>
              <a:xfrm rot="21255000">
                <a:off x="1148400" y="5366520"/>
                <a:ext cx="140760" cy="116640"/>
              </a:xfrm>
              <a:custGeom>
                <a:avLst/>
                <a:gdLst/>
                <a:ahLst/>
                <a:rect l="l" t="t" r="r" b="b"/>
                <a:pathLst>
                  <a:path w="600" h="608">
                    <a:moveTo>
                      <a:pt x="388" y="289"/>
                    </a:moveTo>
                    <a:lnTo>
                      <a:pt x="372" y="177"/>
                    </a:lnTo>
                    <a:lnTo>
                      <a:pt x="341" y="78"/>
                    </a:lnTo>
                    <a:lnTo>
                      <a:pt x="284" y="24"/>
                    </a:lnTo>
                    <a:lnTo>
                      <a:pt x="185" y="0"/>
                    </a:lnTo>
                    <a:lnTo>
                      <a:pt x="100" y="24"/>
                    </a:lnTo>
                    <a:lnTo>
                      <a:pt x="19" y="123"/>
                    </a:lnTo>
                    <a:lnTo>
                      <a:pt x="0" y="243"/>
                    </a:lnTo>
                    <a:lnTo>
                      <a:pt x="19" y="370"/>
                    </a:lnTo>
                    <a:lnTo>
                      <a:pt x="50" y="447"/>
                    </a:lnTo>
                    <a:lnTo>
                      <a:pt x="88" y="528"/>
                    </a:lnTo>
                    <a:lnTo>
                      <a:pt x="130" y="582"/>
                    </a:lnTo>
                    <a:lnTo>
                      <a:pt x="177" y="608"/>
                    </a:lnTo>
                    <a:lnTo>
                      <a:pt x="242" y="585"/>
                    </a:lnTo>
                    <a:lnTo>
                      <a:pt x="307" y="531"/>
                    </a:lnTo>
                    <a:lnTo>
                      <a:pt x="349" y="455"/>
                    </a:lnTo>
                    <a:lnTo>
                      <a:pt x="388" y="390"/>
                    </a:lnTo>
                    <a:lnTo>
                      <a:pt x="400" y="351"/>
                    </a:lnTo>
                    <a:lnTo>
                      <a:pt x="565" y="293"/>
                    </a:lnTo>
                    <a:lnTo>
                      <a:pt x="600" y="270"/>
                    </a:lnTo>
                    <a:lnTo>
                      <a:pt x="580" y="235"/>
                    </a:lnTo>
                    <a:lnTo>
                      <a:pt x="388" y="28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21255000">
                <a:off x="1099800" y="5512320"/>
                <a:ext cx="144720" cy="260280"/>
              </a:xfrm>
              <a:custGeom>
                <a:avLst/>
                <a:gdLst/>
                <a:ahLst/>
                <a:rect l="l" t="t" r="r" b="b"/>
                <a:pathLst>
                  <a:path w="619" h="1085">
                    <a:moveTo>
                      <a:pt x="208" y="161"/>
                    </a:moveTo>
                    <a:lnTo>
                      <a:pt x="284" y="80"/>
                    </a:lnTo>
                    <a:lnTo>
                      <a:pt x="411" y="3"/>
                    </a:lnTo>
                    <a:lnTo>
                      <a:pt x="469" y="0"/>
                    </a:lnTo>
                    <a:lnTo>
                      <a:pt x="573" y="34"/>
                    </a:lnTo>
                    <a:lnTo>
                      <a:pt x="619" y="85"/>
                    </a:lnTo>
                    <a:lnTo>
                      <a:pt x="619" y="161"/>
                    </a:lnTo>
                    <a:lnTo>
                      <a:pt x="542" y="304"/>
                    </a:lnTo>
                    <a:lnTo>
                      <a:pt x="458" y="415"/>
                    </a:lnTo>
                    <a:lnTo>
                      <a:pt x="422" y="508"/>
                    </a:lnTo>
                    <a:lnTo>
                      <a:pt x="399" y="615"/>
                    </a:lnTo>
                    <a:lnTo>
                      <a:pt x="422" y="719"/>
                    </a:lnTo>
                    <a:lnTo>
                      <a:pt x="445" y="820"/>
                    </a:lnTo>
                    <a:lnTo>
                      <a:pt x="445" y="935"/>
                    </a:lnTo>
                    <a:lnTo>
                      <a:pt x="411" y="1005"/>
                    </a:lnTo>
                    <a:lnTo>
                      <a:pt x="334" y="1043"/>
                    </a:lnTo>
                    <a:lnTo>
                      <a:pt x="242" y="1085"/>
                    </a:lnTo>
                    <a:lnTo>
                      <a:pt x="157" y="1085"/>
                    </a:lnTo>
                    <a:lnTo>
                      <a:pt x="100" y="1054"/>
                    </a:lnTo>
                    <a:lnTo>
                      <a:pt x="23" y="927"/>
                    </a:lnTo>
                    <a:lnTo>
                      <a:pt x="0" y="797"/>
                    </a:lnTo>
                    <a:lnTo>
                      <a:pt x="8" y="628"/>
                    </a:lnTo>
                    <a:lnTo>
                      <a:pt x="65" y="415"/>
                    </a:lnTo>
                    <a:lnTo>
                      <a:pt x="123" y="277"/>
                    </a:lnTo>
                    <a:lnTo>
                      <a:pt x="208" y="16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rot="21255000">
                <a:off x="1201680" y="5725080"/>
                <a:ext cx="281520" cy="179280"/>
              </a:xfrm>
              <a:custGeom>
                <a:avLst/>
                <a:gdLst/>
                <a:ahLst/>
                <a:rect l="l" t="t" r="r" b="b"/>
                <a:pathLst>
                  <a:path w="782" h="808">
                    <a:moveTo>
                      <a:pt x="0" y="76"/>
                    </a:moveTo>
                    <a:lnTo>
                      <a:pt x="66" y="0"/>
                    </a:lnTo>
                    <a:lnTo>
                      <a:pt x="163" y="0"/>
                    </a:lnTo>
                    <a:lnTo>
                      <a:pt x="343" y="19"/>
                    </a:lnTo>
                    <a:lnTo>
                      <a:pt x="555" y="30"/>
                    </a:lnTo>
                    <a:lnTo>
                      <a:pt x="636" y="65"/>
                    </a:lnTo>
                    <a:lnTo>
                      <a:pt x="670" y="110"/>
                    </a:lnTo>
                    <a:lnTo>
                      <a:pt x="678" y="180"/>
                    </a:lnTo>
                    <a:lnTo>
                      <a:pt x="654" y="253"/>
                    </a:lnTo>
                    <a:lnTo>
                      <a:pt x="589" y="365"/>
                    </a:lnTo>
                    <a:lnTo>
                      <a:pt x="504" y="457"/>
                    </a:lnTo>
                    <a:lnTo>
                      <a:pt x="439" y="541"/>
                    </a:lnTo>
                    <a:lnTo>
                      <a:pt x="412" y="607"/>
                    </a:lnTo>
                    <a:lnTo>
                      <a:pt x="393" y="653"/>
                    </a:lnTo>
                    <a:lnTo>
                      <a:pt x="400" y="689"/>
                    </a:lnTo>
                    <a:lnTo>
                      <a:pt x="405" y="711"/>
                    </a:lnTo>
                    <a:lnTo>
                      <a:pt x="482" y="711"/>
                    </a:lnTo>
                    <a:lnTo>
                      <a:pt x="601" y="692"/>
                    </a:lnTo>
                    <a:lnTo>
                      <a:pt x="678" y="692"/>
                    </a:lnTo>
                    <a:lnTo>
                      <a:pt x="758" y="723"/>
                    </a:lnTo>
                    <a:lnTo>
                      <a:pt x="782" y="761"/>
                    </a:lnTo>
                    <a:lnTo>
                      <a:pt x="758" y="796"/>
                    </a:lnTo>
                    <a:lnTo>
                      <a:pt x="724" y="808"/>
                    </a:lnTo>
                    <a:lnTo>
                      <a:pt x="670" y="792"/>
                    </a:lnTo>
                    <a:lnTo>
                      <a:pt x="597" y="749"/>
                    </a:lnTo>
                    <a:lnTo>
                      <a:pt x="520" y="757"/>
                    </a:lnTo>
                    <a:lnTo>
                      <a:pt x="393" y="780"/>
                    </a:lnTo>
                    <a:lnTo>
                      <a:pt x="355" y="773"/>
                    </a:lnTo>
                    <a:lnTo>
                      <a:pt x="335" y="746"/>
                    </a:lnTo>
                    <a:lnTo>
                      <a:pt x="335" y="681"/>
                    </a:lnTo>
                    <a:lnTo>
                      <a:pt x="335" y="588"/>
                    </a:lnTo>
                    <a:lnTo>
                      <a:pt x="389" y="518"/>
                    </a:lnTo>
                    <a:lnTo>
                      <a:pt x="470" y="414"/>
                    </a:lnTo>
                    <a:lnTo>
                      <a:pt x="540" y="323"/>
                    </a:lnTo>
                    <a:lnTo>
                      <a:pt x="586" y="253"/>
                    </a:lnTo>
                    <a:lnTo>
                      <a:pt x="609" y="192"/>
                    </a:lnTo>
                    <a:lnTo>
                      <a:pt x="597" y="157"/>
                    </a:lnTo>
                    <a:lnTo>
                      <a:pt x="566" y="115"/>
                    </a:lnTo>
                    <a:lnTo>
                      <a:pt x="520" y="103"/>
                    </a:lnTo>
                    <a:lnTo>
                      <a:pt x="470" y="103"/>
                    </a:lnTo>
                    <a:lnTo>
                      <a:pt x="358" y="103"/>
                    </a:lnTo>
                    <a:lnTo>
                      <a:pt x="193" y="134"/>
                    </a:lnTo>
                    <a:lnTo>
                      <a:pt x="70" y="146"/>
                    </a:lnTo>
                    <a:lnTo>
                      <a:pt x="20" y="134"/>
                    </a:lnTo>
                    <a:lnTo>
                      <a:pt x="0" y="115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19838400">
                <a:off x="812880" y="5781240"/>
                <a:ext cx="402120" cy="158040"/>
              </a:xfrm>
              <a:custGeom>
                <a:avLst/>
                <a:gdLst/>
                <a:ahLst/>
                <a:rect l="l" t="t" r="r" b="b"/>
                <a:pathLst>
                  <a:path w="992" h="770">
                    <a:moveTo>
                      <a:pt x="808" y="320"/>
                    </a:moveTo>
                    <a:lnTo>
                      <a:pt x="823" y="219"/>
                    </a:lnTo>
                    <a:lnTo>
                      <a:pt x="881" y="181"/>
                    </a:lnTo>
                    <a:lnTo>
                      <a:pt x="950" y="174"/>
                    </a:lnTo>
                    <a:lnTo>
                      <a:pt x="992" y="219"/>
                    </a:lnTo>
                    <a:lnTo>
                      <a:pt x="973" y="308"/>
                    </a:lnTo>
                    <a:lnTo>
                      <a:pt x="935" y="427"/>
                    </a:lnTo>
                    <a:lnTo>
                      <a:pt x="857" y="562"/>
                    </a:lnTo>
                    <a:lnTo>
                      <a:pt x="761" y="677"/>
                    </a:lnTo>
                    <a:lnTo>
                      <a:pt x="681" y="739"/>
                    </a:lnTo>
                    <a:lnTo>
                      <a:pt x="592" y="770"/>
                    </a:lnTo>
                    <a:lnTo>
                      <a:pt x="507" y="759"/>
                    </a:lnTo>
                    <a:lnTo>
                      <a:pt x="442" y="723"/>
                    </a:lnTo>
                    <a:lnTo>
                      <a:pt x="419" y="666"/>
                    </a:lnTo>
                    <a:lnTo>
                      <a:pt x="392" y="566"/>
                    </a:lnTo>
                    <a:lnTo>
                      <a:pt x="361" y="382"/>
                    </a:lnTo>
                    <a:lnTo>
                      <a:pt x="338" y="254"/>
                    </a:lnTo>
                    <a:lnTo>
                      <a:pt x="338" y="104"/>
                    </a:lnTo>
                    <a:lnTo>
                      <a:pt x="323" y="78"/>
                    </a:lnTo>
                    <a:lnTo>
                      <a:pt x="277" y="70"/>
                    </a:lnTo>
                    <a:lnTo>
                      <a:pt x="223" y="112"/>
                    </a:lnTo>
                    <a:lnTo>
                      <a:pt x="173" y="181"/>
                    </a:lnTo>
                    <a:lnTo>
                      <a:pt x="115" y="219"/>
                    </a:lnTo>
                    <a:lnTo>
                      <a:pt x="27" y="219"/>
                    </a:lnTo>
                    <a:lnTo>
                      <a:pt x="0" y="196"/>
                    </a:lnTo>
                    <a:lnTo>
                      <a:pt x="0" y="158"/>
                    </a:lnTo>
                    <a:lnTo>
                      <a:pt x="39" y="123"/>
                    </a:lnTo>
                    <a:lnTo>
                      <a:pt x="81" y="135"/>
                    </a:lnTo>
                    <a:lnTo>
                      <a:pt x="119" y="127"/>
                    </a:lnTo>
                    <a:lnTo>
                      <a:pt x="189" y="78"/>
                    </a:lnTo>
                    <a:lnTo>
                      <a:pt x="257" y="23"/>
                    </a:lnTo>
                    <a:lnTo>
                      <a:pt x="323" y="8"/>
                    </a:lnTo>
                    <a:lnTo>
                      <a:pt x="415" y="0"/>
                    </a:lnTo>
                    <a:lnTo>
                      <a:pt x="419" y="42"/>
                    </a:lnTo>
                    <a:lnTo>
                      <a:pt x="397" y="89"/>
                    </a:lnTo>
                    <a:lnTo>
                      <a:pt x="392" y="208"/>
                    </a:lnTo>
                    <a:lnTo>
                      <a:pt x="419" y="366"/>
                    </a:lnTo>
                    <a:lnTo>
                      <a:pt x="462" y="520"/>
                    </a:lnTo>
                    <a:lnTo>
                      <a:pt x="499" y="612"/>
                    </a:lnTo>
                    <a:lnTo>
                      <a:pt x="558" y="655"/>
                    </a:lnTo>
                    <a:lnTo>
                      <a:pt x="615" y="655"/>
                    </a:lnTo>
                    <a:lnTo>
                      <a:pt x="673" y="612"/>
                    </a:lnTo>
                    <a:lnTo>
                      <a:pt x="750" y="515"/>
                    </a:lnTo>
                    <a:lnTo>
                      <a:pt x="800" y="377"/>
                    </a:lnTo>
                    <a:lnTo>
                      <a:pt x="808" y="32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1255000">
                <a:off x="1005480" y="5298480"/>
                <a:ext cx="164160" cy="291240"/>
              </a:xfrm>
              <a:custGeom>
                <a:avLst/>
                <a:gdLst/>
                <a:ahLst/>
                <a:rect l="l" t="t" r="r" b="b"/>
                <a:pathLst>
                  <a:path w="699" h="1216">
                    <a:moveTo>
                      <a:pt x="445" y="923"/>
                    </a:moveTo>
                    <a:lnTo>
                      <a:pt x="560" y="1039"/>
                    </a:lnTo>
                    <a:lnTo>
                      <a:pt x="606" y="1039"/>
                    </a:lnTo>
                    <a:lnTo>
                      <a:pt x="684" y="1086"/>
                    </a:lnTo>
                    <a:lnTo>
                      <a:pt x="699" y="1139"/>
                    </a:lnTo>
                    <a:lnTo>
                      <a:pt x="676" y="1208"/>
                    </a:lnTo>
                    <a:lnTo>
                      <a:pt x="614" y="1216"/>
                    </a:lnTo>
                    <a:lnTo>
                      <a:pt x="537" y="1162"/>
                    </a:lnTo>
                    <a:lnTo>
                      <a:pt x="383" y="1016"/>
                    </a:lnTo>
                    <a:lnTo>
                      <a:pt x="284" y="878"/>
                    </a:lnTo>
                    <a:lnTo>
                      <a:pt x="237" y="769"/>
                    </a:lnTo>
                    <a:lnTo>
                      <a:pt x="206" y="585"/>
                    </a:lnTo>
                    <a:lnTo>
                      <a:pt x="206" y="346"/>
                    </a:lnTo>
                    <a:lnTo>
                      <a:pt x="198" y="285"/>
                    </a:lnTo>
                    <a:lnTo>
                      <a:pt x="153" y="239"/>
                    </a:lnTo>
                    <a:lnTo>
                      <a:pt x="22" y="247"/>
                    </a:lnTo>
                    <a:lnTo>
                      <a:pt x="0" y="223"/>
                    </a:lnTo>
                    <a:lnTo>
                      <a:pt x="29" y="208"/>
                    </a:lnTo>
                    <a:lnTo>
                      <a:pt x="122" y="200"/>
                    </a:lnTo>
                    <a:lnTo>
                      <a:pt x="138" y="185"/>
                    </a:lnTo>
                    <a:lnTo>
                      <a:pt x="6" y="107"/>
                    </a:lnTo>
                    <a:lnTo>
                      <a:pt x="6" y="77"/>
                    </a:lnTo>
                    <a:lnTo>
                      <a:pt x="29" y="70"/>
                    </a:lnTo>
                    <a:lnTo>
                      <a:pt x="138" y="130"/>
                    </a:lnTo>
                    <a:lnTo>
                      <a:pt x="161" y="123"/>
                    </a:lnTo>
                    <a:lnTo>
                      <a:pt x="138" y="8"/>
                    </a:lnTo>
                    <a:lnTo>
                      <a:pt x="153" y="0"/>
                    </a:lnTo>
                    <a:lnTo>
                      <a:pt x="169" y="8"/>
                    </a:lnTo>
                    <a:lnTo>
                      <a:pt x="198" y="123"/>
                    </a:lnTo>
                    <a:lnTo>
                      <a:pt x="222" y="130"/>
                    </a:lnTo>
                    <a:lnTo>
                      <a:pt x="284" y="8"/>
                    </a:lnTo>
                    <a:lnTo>
                      <a:pt x="299" y="8"/>
                    </a:lnTo>
                    <a:lnTo>
                      <a:pt x="299" y="46"/>
                    </a:lnTo>
                    <a:lnTo>
                      <a:pt x="260" y="146"/>
                    </a:lnTo>
                    <a:lnTo>
                      <a:pt x="260" y="200"/>
                    </a:lnTo>
                    <a:lnTo>
                      <a:pt x="276" y="270"/>
                    </a:lnTo>
                    <a:lnTo>
                      <a:pt x="268" y="361"/>
                    </a:lnTo>
                    <a:lnTo>
                      <a:pt x="276" y="531"/>
                    </a:lnTo>
                    <a:lnTo>
                      <a:pt x="291" y="639"/>
                    </a:lnTo>
                    <a:lnTo>
                      <a:pt x="330" y="762"/>
                    </a:lnTo>
                    <a:lnTo>
                      <a:pt x="383" y="855"/>
                    </a:lnTo>
                    <a:lnTo>
                      <a:pt x="445" y="92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21255000">
                <a:off x="1201320" y="5297400"/>
                <a:ext cx="214920" cy="243000"/>
              </a:xfrm>
              <a:custGeom>
                <a:avLst/>
                <a:gdLst/>
                <a:ahLst/>
                <a:rect l="l" t="t" r="r" b="b"/>
                <a:pathLst>
                  <a:path w="915" h="1139">
                    <a:moveTo>
                      <a:pt x="15" y="1008"/>
                    </a:moveTo>
                    <a:lnTo>
                      <a:pt x="0" y="1061"/>
                    </a:lnTo>
                    <a:lnTo>
                      <a:pt x="15" y="1139"/>
                    </a:lnTo>
                    <a:lnTo>
                      <a:pt x="70" y="1139"/>
                    </a:lnTo>
                    <a:lnTo>
                      <a:pt x="231" y="1108"/>
                    </a:lnTo>
                    <a:lnTo>
                      <a:pt x="408" y="1046"/>
                    </a:lnTo>
                    <a:lnTo>
                      <a:pt x="554" y="946"/>
                    </a:lnTo>
                    <a:lnTo>
                      <a:pt x="639" y="816"/>
                    </a:lnTo>
                    <a:lnTo>
                      <a:pt x="715" y="593"/>
                    </a:lnTo>
                    <a:lnTo>
                      <a:pt x="738" y="385"/>
                    </a:lnTo>
                    <a:lnTo>
                      <a:pt x="738" y="285"/>
                    </a:lnTo>
                    <a:lnTo>
                      <a:pt x="777" y="224"/>
                    </a:lnTo>
                    <a:lnTo>
                      <a:pt x="845" y="200"/>
                    </a:lnTo>
                    <a:lnTo>
                      <a:pt x="907" y="200"/>
                    </a:lnTo>
                    <a:lnTo>
                      <a:pt x="915" y="169"/>
                    </a:lnTo>
                    <a:lnTo>
                      <a:pt x="823" y="177"/>
                    </a:lnTo>
                    <a:lnTo>
                      <a:pt x="808" y="154"/>
                    </a:lnTo>
                    <a:lnTo>
                      <a:pt x="884" y="70"/>
                    </a:lnTo>
                    <a:lnTo>
                      <a:pt x="868" y="47"/>
                    </a:lnTo>
                    <a:lnTo>
                      <a:pt x="853" y="62"/>
                    </a:lnTo>
                    <a:lnTo>
                      <a:pt x="792" y="123"/>
                    </a:lnTo>
                    <a:lnTo>
                      <a:pt x="777" y="123"/>
                    </a:lnTo>
                    <a:lnTo>
                      <a:pt x="777" y="16"/>
                    </a:lnTo>
                    <a:lnTo>
                      <a:pt x="761" y="0"/>
                    </a:lnTo>
                    <a:lnTo>
                      <a:pt x="738" y="8"/>
                    </a:lnTo>
                    <a:lnTo>
                      <a:pt x="746" y="123"/>
                    </a:lnTo>
                    <a:lnTo>
                      <a:pt x="730" y="131"/>
                    </a:lnTo>
                    <a:lnTo>
                      <a:pt x="668" y="70"/>
                    </a:lnTo>
                    <a:lnTo>
                      <a:pt x="623" y="62"/>
                    </a:lnTo>
                    <a:lnTo>
                      <a:pt x="631" y="93"/>
                    </a:lnTo>
                    <a:lnTo>
                      <a:pt x="699" y="162"/>
                    </a:lnTo>
                    <a:lnTo>
                      <a:pt x="699" y="200"/>
                    </a:lnTo>
                    <a:lnTo>
                      <a:pt x="676" y="278"/>
                    </a:lnTo>
                    <a:lnTo>
                      <a:pt x="676" y="346"/>
                    </a:lnTo>
                    <a:lnTo>
                      <a:pt x="676" y="462"/>
                    </a:lnTo>
                    <a:lnTo>
                      <a:pt x="645" y="608"/>
                    </a:lnTo>
                    <a:lnTo>
                      <a:pt x="615" y="700"/>
                    </a:lnTo>
                    <a:lnTo>
                      <a:pt x="561" y="816"/>
                    </a:lnTo>
                    <a:lnTo>
                      <a:pt x="499" y="908"/>
                    </a:lnTo>
                    <a:lnTo>
                      <a:pt x="454" y="954"/>
                    </a:lnTo>
                    <a:lnTo>
                      <a:pt x="330" y="993"/>
                    </a:lnTo>
                    <a:lnTo>
                      <a:pt x="215" y="1008"/>
                    </a:lnTo>
                    <a:lnTo>
                      <a:pt x="99" y="1024"/>
                    </a:lnTo>
                    <a:lnTo>
                      <a:pt x="15" y="100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" name=""/>
          <p:cNvGrpSpPr/>
          <p:nvPr/>
        </p:nvGrpSpPr>
        <p:grpSpPr>
          <a:xfrm>
            <a:off x="2285640" y="5013360"/>
            <a:ext cx="4529880" cy="1388880"/>
            <a:chOff x="2285640" y="5013360"/>
            <a:chExt cx="4529880" cy="1388880"/>
          </a:xfrm>
        </p:grpSpPr>
        <p:sp>
          <p:nvSpPr>
            <p:cNvPr id="84" name=""/>
            <p:cNvSpPr/>
            <p:nvPr/>
          </p:nvSpPr>
          <p:spPr>
            <a:xfrm>
              <a:off x="2285640" y="5394600"/>
              <a:ext cx="452988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GCD(</a:t>
              </a: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,</a:t>
              </a: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) = GCD(</a:t>
              </a: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,</a:t>
              </a: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) </a:t>
              </a:r>
              <a:br>
                <a:rPr sz="3000"/>
              </a:b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= GCD(</a:t>
              </a: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,</a:t>
              </a: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) = GCD(</a:t>
              </a: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x’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,</a:t>
              </a: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y’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) 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921040" y="5013360"/>
              <a:ext cx="2796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,</a:t>
              </a: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&gt; </a:t>
              </a:r>
              <a:r>
                <a:rPr b="0" lang="en-US" sz="3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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 &lt;</a:t>
              </a: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,</a:t>
              </a: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&gt; 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7620120" y="4876920"/>
            <a:ext cx="1218960" cy="1143000"/>
            <a:chOff x="7620120" y="4876920"/>
            <a:chExt cx="1218960" cy="1143000"/>
          </a:xfrm>
        </p:grpSpPr>
        <p:grpSp>
          <p:nvGrpSpPr>
            <p:cNvPr id="87" name=""/>
            <p:cNvGrpSpPr/>
            <p:nvPr/>
          </p:nvGrpSpPr>
          <p:grpSpPr>
            <a:xfrm>
              <a:off x="7620120" y="4876920"/>
              <a:ext cx="1218960" cy="1143000"/>
              <a:chOff x="7620120" y="4876920"/>
              <a:chExt cx="1218960" cy="1143000"/>
            </a:xfrm>
          </p:grpSpPr>
          <p:sp>
            <p:nvSpPr>
              <p:cNvPr id="88" name=""/>
              <p:cNvSpPr/>
              <p:nvPr/>
            </p:nvSpPr>
            <p:spPr>
              <a:xfrm>
                <a:off x="8067600" y="5524560"/>
                <a:ext cx="302040" cy="78840"/>
              </a:xfrm>
              <a:custGeom>
                <a:avLst/>
                <a:gdLst/>
                <a:ahLst/>
                <a:rect l="l" t="t" r="r" b="b"/>
                <a:pathLst>
                  <a:path w="672" h="200">
                    <a:moveTo>
                      <a:pt x="0" y="192"/>
                    </a:moveTo>
                    <a:cubicBezTo>
                      <a:pt x="184" y="96"/>
                      <a:pt x="368" y="0"/>
                      <a:pt x="432" y="0"/>
                    </a:cubicBezTo>
                    <a:cubicBezTo>
                      <a:pt x="496" y="0"/>
                      <a:pt x="344" y="184"/>
                      <a:pt x="384" y="192"/>
                    </a:cubicBezTo>
                    <a:cubicBezTo>
                      <a:pt x="424" y="200"/>
                      <a:pt x="548" y="124"/>
                      <a:pt x="672" y="48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3120" bIns="33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9" name=""/>
              <p:cNvGrpSpPr/>
              <p:nvPr/>
            </p:nvGrpSpPr>
            <p:grpSpPr>
              <a:xfrm>
                <a:off x="8088840" y="5221800"/>
                <a:ext cx="334080" cy="358560"/>
                <a:chOff x="8088840" y="5221800"/>
                <a:chExt cx="334080" cy="35856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8251200" y="5273280"/>
                  <a:ext cx="89640" cy="79200"/>
                </a:xfrm>
                <a:custGeom>
                  <a:avLst/>
                  <a:gdLst/>
                  <a:ahLst/>
                  <a:rect l="l" t="t" r="r" b="b"/>
                  <a:pathLst>
                    <a:path w="603" h="570">
                      <a:moveTo>
                        <a:pt x="390" y="270"/>
                      </a:moveTo>
                      <a:lnTo>
                        <a:pt x="374" y="166"/>
                      </a:lnTo>
                      <a:lnTo>
                        <a:pt x="343" y="72"/>
                      </a:lnTo>
                      <a:lnTo>
                        <a:pt x="286" y="22"/>
                      </a:lnTo>
                      <a:lnTo>
                        <a:pt x="186" y="0"/>
                      </a:lnTo>
                      <a:lnTo>
                        <a:pt x="100" y="22"/>
                      </a:lnTo>
                      <a:lnTo>
                        <a:pt x="19" y="115"/>
                      </a:lnTo>
                      <a:lnTo>
                        <a:pt x="0" y="227"/>
                      </a:lnTo>
                      <a:lnTo>
                        <a:pt x="19" y="346"/>
                      </a:lnTo>
                      <a:lnTo>
                        <a:pt x="50" y="419"/>
                      </a:lnTo>
                      <a:lnTo>
                        <a:pt x="89" y="494"/>
                      </a:lnTo>
                      <a:lnTo>
                        <a:pt x="131" y="545"/>
                      </a:lnTo>
                      <a:lnTo>
                        <a:pt x="178" y="570"/>
                      </a:lnTo>
                      <a:lnTo>
                        <a:pt x="243" y="548"/>
                      </a:lnTo>
                      <a:lnTo>
                        <a:pt x="309" y="497"/>
                      </a:lnTo>
                      <a:lnTo>
                        <a:pt x="351" y="426"/>
                      </a:lnTo>
                      <a:lnTo>
                        <a:pt x="390" y="365"/>
                      </a:lnTo>
                      <a:lnTo>
                        <a:pt x="402" y="328"/>
                      </a:lnTo>
                      <a:lnTo>
                        <a:pt x="567" y="275"/>
                      </a:lnTo>
                      <a:lnTo>
                        <a:pt x="603" y="253"/>
                      </a:lnTo>
                      <a:lnTo>
                        <a:pt x="583" y="220"/>
                      </a:lnTo>
                      <a:lnTo>
                        <a:pt x="390" y="27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8206920" y="5358960"/>
                  <a:ext cx="92880" cy="142200"/>
                </a:xfrm>
                <a:custGeom>
                  <a:avLst/>
                  <a:gdLst/>
                  <a:ahLst/>
                  <a:rect l="l" t="t" r="r" b="b"/>
                  <a:pathLst>
                    <a:path w="622" h="1018">
                      <a:moveTo>
                        <a:pt x="209" y="152"/>
                      </a:moveTo>
                      <a:lnTo>
                        <a:pt x="285" y="76"/>
                      </a:lnTo>
                      <a:lnTo>
                        <a:pt x="413" y="4"/>
                      </a:lnTo>
                      <a:lnTo>
                        <a:pt x="471" y="0"/>
                      </a:lnTo>
                      <a:lnTo>
                        <a:pt x="575" y="33"/>
                      </a:lnTo>
                      <a:lnTo>
                        <a:pt x="622" y="80"/>
                      </a:lnTo>
                      <a:lnTo>
                        <a:pt x="622" y="152"/>
                      </a:lnTo>
                      <a:lnTo>
                        <a:pt x="544" y="285"/>
                      </a:lnTo>
                      <a:lnTo>
                        <a:pt x="460" y="390"/>
                      </a:lnTo>
                      <a:lnTo>
                        <a:pt x="424" y="477"/>
                      </a:lnTo>
                      <a:lnTo>
                        <a:pt x="401" y="578"/>
                      </a:lnTo>
                      <a:lnTo>
                        <a:pt x="424" y="675"/>
                      </a:lnTo>
                      <a:lnTo>
                        <a:pt x="447" y="769"/>
                      </a:lnTo>
                      <a:lnTo>
                        <a:pt x="447" y="877"/>
                      </a:lnTo>
                      <a:lnTo>
                        <a:pt x="413" y="942"/>
                      </a:lnTo>
                      <a:lnTo>
                        <a:pt x="335" y="979"/>
                      </a:lnTo>
                      <a:lnTo>
                        <a:pt x="243" y="1018"/>
                      </a:lnTo>
                      <a:lnTo>
                        <a:pt x="158" y="1018"/>
                      </a:lnTo>
                      <a:lnTo>
                        <a:pt x="100" y="989"/>
                      </a:lnTo>
                      <a:lnTo>
                        <a:pt x="24" y="870"/>
                      </a:lnTo>
                      <a:lnTo>
                        <a:pt x="0" y="748"/>
                      </a:lnTo>
                      <a:lnTo>
                        <a:pt x="8" y="589"/>
                      </a:lnTo>
                      <a:lnTo>
                        <a:pt x="66" y="390"/>
                      </a:lnTo>
                      <a:lnTo>
                        <a:pt x="123" y="261"/>
                      </a:lnTo>
                      <a:lnTo>
                        <a:pt x="209" y="15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8213400" y="5474880"/>
                  <a:ext cx="116640" cy="105480"/>
                </a:xfrm>
                <a:custGeom>
                  <a:avLst/>
                  <a:gdLst/>
                  <a:ahLst/>
                  <a:rect l="l" t="t" r="r" b="b"/>
                  <a:pathLst>
                    <a:path w="784" h="758">
                      <a:moveTo>
                        <a:pt x="0" y="72"/>
                      </a:moveTo>
                      <a:lnTo>
                        <a:pt x="65" y="0"/>
                      </a:lnTo>
                      <a:lnTo>
                        <a:pt x="163" y="0"/>
                      </a:lnTo>
                      <a:lnTo>
                        <a:pt x="344" y="18"/>
                      </a:lnTo>
                      <a:lnTo>
                        <a:pt x="557" y="28"/>
                      </a:lnTo>
                      <a:lnTo>
                        <a:pt x="638" y="62"/>
                      </a:lnTo>
                      <a:lnTo>
                        <a:pt x="672" y="104"/>
                      </a:lnTo>
                      <a:lnTo>
                        <a:pt x="680" y="169"/>
                      </a:lnTo>
                      <a:lnTo>
                        <a:pt x="656" y="238"/>
                      </a:lnTo>
                      <a:lnTo>
                        <a:pt x="591" y="342"/>
                      </a:lnTo>
                      <a:lnTo>
                        <a:pt x="506" y="429"/>
                      </a:lnTo>
                      <a:lnTo>
                        <a:pt x="440" y="508"/>
                      </a:lnTo>
                      <a:lnTo>
                        <a:pt x="414" y="569"/>
                      </a:lnTo>
                      <a:lnTo>
                        <a:pt x="394" y="613"/>
                      </a:lnTo>
                      <a:lnTo>
                        <a:pt x="401" y="646"/>
                      </a:lnTo>
                      <a:lnTo>
                        <a:pt x="406" y="667"/>
                      </a:lnTo>
                      <a:lnTo>
                        <a:pt x="483" y="667"/>
                      </a:lnTo>
                      <a:lnTo>
                        <a:pt x="603" y="649"/>
                      </a:lnTo>
                      <a:lnTo>
                        <a:pt x="680" y="649"/>
                      </a:lnTo>
                      <a:lnTo>
                        <a:pt x="761" y="678"/>
                      </a:lnTo>
                      <a:lnTo>
                        <a:pt x="784" y="714"/>
                      </a:lnTo>
                      <a:lnTo>
                        <a:pt x="761" y="747"/>
                      </a:lnTo>
                      <a:lnTo>
                        <a:pt x="726" y="758"/>
                      </a:lnTo>
                      <a:lnTo>
                        <a:pt x="672" y="743"/>
                      </a:lnTo>
                      <a:lnTo>
                        <a:pt x="599" y="703"/>
                      </a:lnTo>
                      <a:lnTo>
                        <a:pt x="521" y="710"/>
                      </a:lnTo>
                      <a:lnTo>
                        <a:pt x="394" y="732"/>
                      </a:lnTo>
                      <a:lnTo>
                        <a:pt x="356" y="725"/>
                      </a:lnTo>
                      <a:lnTo>
                        <a:pt x="336" y="700"/>
                      </a:lnTo>
                      <a:lnTo>
                        <a:pt x="336" y="639"/>
                      </a:lnTo>
                      <a:lnTo>
                        <a:pt x="336" y="552"/>
                      </a:lnTo>
                      <a:lnTo>
                        <a:pt x="390" y="486"/>
                      </a:lnTo>
                      <a:lnTo>
                        <a:pt x="471" y="389"/>
                      </a:lnTo>
                      <a:lnTo>
                        <a:pt x="541" y="303"/>
                      </a:lnTo>
                      <a:lnTo>
                        <a:pt x="588" y="238"/>
                      </a:lnTo>
                      <a:lnTo>
                        <a:pt x="611" y="181"/>
                      </a:lnTo>
                      <a:lnTo>
                        <a:pt x="599" y="148"/>
                      </a:lnTo>
                      <a:lnTo>
                        <a:pt x="568" y="108"/>
                      </a:lnTo>
                      <a:lnTo>
                        <a:pt x="521" y="97"/>
                      </a:lnTo>
                      <a:lnTo>
                        <a:pt x="471" y="97"/>
                      </a:lnTo>
                      <a:lnTo>
                        <a:pt x="359" y="97"/>
                      </a:lnTo>
                      <a:lnTo>
                        <a:pt x="193" y="126"/>
                      </a:lnTo>
                      <a:lnTo>
                        <a:pt x="70" y="137"/>
                      </a:lnTo>
                      <a:lnTo>
                        <a:pt x="20" y="126"/>
                      </a:lnTo>
                      <a:lnTo>
                        <a:pt x="0" y="108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8088840" y="5449680"/>
                  <a:ext cx="149040" cy="102240"/>
                </a:xfrm>
                <a:custGeom>
                  <a:avLst/>
                  <a:gdLst/>
                  <a:ahLst/>
                  <a:rect l="l" t="t" r="r" b="b"/>
                  <a:pathLst>
                    <a:path w="996" h="722">
                      <a:moveTo>
                        <a:pt x="811" y="300"/>
                      </a:moveTo>
                      <a:lnTo>
                        <a:pt x="827" y="206"/>
                      </a:lnTo>
                      <a:lnTo>
                        <a:pt x="884" y="170"/>
                      </a:lnTo>
                      <a:lnTo>
                        <a:pt x="954" y="163"/>
                      </a:lnTo>
                      <a:lnTo>
                        <a:pt x="996" y="206"/>
                      </a:lnTo>
                      <a:lnTo>
                        <a:pt x="977" y="288"/>
                      </a:lnTo>
                      <a:lnTo>
                        <a:pt x="939" y="400"/>
                      </a:lnTo>
                      <a:lnTo>
                        <a:pt x="861" y="527"/>
                      </a:lnTo>
                      <a:lnTo>
                        <a:pt x="764" y="635"/>
                      </a:lnTo>
                      <a:lnTo>
                        <a:pt x="683" y="693"/>
                      </a:lnTo>
                      <a:lnTo>
                        <a:pt x="595" y="722"/>
                      </a:lnTo>
                      <a:lnTo>
                        <a:pt x="509" y="711"/>
                      </a:lnTo>
                      <a:lnTo>
                        <a:pt x="444" y="678"/>
                      </a:lnTo>
                      <a:lnTo>
                        <a:pt x="420" y="624"/>
                      </a:lnTo>
                      <a:lnTo>
                        <a:pt x="394" y="531"/>
                      </a:lnTo>
                      <a:lnTo>
                        <a:pt x="363" y="358"/>
                      </a:lnTo>
                      <a:lnTo>
                        <a:pt x="339" y="239"/>
                      </a:lnTo>
                      <a:lnTo>
                        <a:pt x="339" y="98"/>
                      </a:lnTo>
                      <a:lnTo>
                        <a:pt x="324" y="73"/>
                      </a:lnTo>
                      <a:lnTo>
                        <a:pt x="278" y="66"/>
                      </a:lnTo>
                      <a:lnTo>
                        <a:pt x="224" y="105"/>
                      </a:lnTo>
                      <a:lnTo>
                        <a:pt x="174" y="170"/>
                      </a:lnTo>
                      <a:lnTo>
                        <a:pt x="115" y="206"/>
                      </a:lnTo>
                      <a:lnTo>
                        <a:pt x="27" y="206"/>
                      </a:lnTo>
                      <a:lnTo>
                        <a:pt x="0" y="184"/>
                      </a:lnTo>
                      <a:lnTo>
                        <a:pt x="0" y="149"/>
                      </a:lnTo>
                      <a:lnTo>
                        <a:pt x="39" y="115"/>
                      </a:lnTo>
                      <a:lnTo>
                        <a:pt x="81" y="127"/>
                      </a:lnTo>
                      <a:lnTo>
                        <a:pt x="120" y="119"/>
                      </a:lnTo>
                      <a:lnTo>
                        <a:pt x="190" y="73"/>
                      </a:lnTo>
                      <a:lnTo>
                        <a:pt x="258" y="22"/>
                      </a:lnTo>
                      <a:lnTo>
                        <a:pt x="324" y="8"/>
                      </a:lnTo>
                      <a:lnTo>
                        <a:pt x="417" y="0"/>
                      </a:lnTo>
                      <a:lnTo>
                        <a:pt x="420" y="40"/>
                      </a:lnTo>
                      <a:lnTo>
                        <a:pt x="398" y="83"/>
                      </a:lnTo>
                      <a:lnTo>
                        <a:pt x="394" y="195"/>
                      </a:lnTo>
                      <a:lnTo>
                        <a:pt x="420" y="343"/>
                      </a:lnTo>
                      <a:lnTo>
                        <a:pt x="464" y="487"/>
                      </a:lnTo>
                      <a:lnTo>
                        <a:pt x="501" y="573"/>
                      </a:lnTo>
                      <a:lnTo>
                        <a:pt x="560" y="614"/>
                      </a:lnTo>
                      <a:lnTo>
                        <a:pt x="618" y="614"/>
                      </a:lnTo>
                      <a:lnTo>
                        <a:pt x="676" y="573"/>
                      </a:lnTo>
                      <a:lnTo>
                        <a:pt x="753" y="483"/>
                      </a:lnTo>
                      <a:lnTo>
                        <a:pt x="803" y="354"/>
                      </a:lnTo>
                      <a:lnTo>
                        <a:pt x="811" y="3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8158680" y="5221800"/>
                  <a:ext cx="104760" cy="159840"/>
                </a:xfrm>
                <a:custGeom>
                  <a:avLst/>
                  <a:gdLst/>
                  <a:ahLst/>
                  <a:rect l="l" t="t" r="r" b="b"/>
                  <a:pathLst>
                    <a:path w="703" h="1140">
                      <a:moveTo>
                        <a:pt x="448" y="865"/>
                      </a:moveTo>
                      <a:lnTo>
                        <a:pt x="563" y="974"/>
                      </a:lnTo>
                      <a:lnTo>
                        <a:pt x="610" y="974"/>
                      </a:lnTo>
                      <a:lnTo>
                        <a:pt x="687" y="1018"/>
                      </a:lnTo>
                      <a:lnTo>
                        <a:pt x="703" y="1067"/>
                      </a:lnTo>
                      <a:lnTo>
                        <a:pt x="679" y="1133"/>
                      </a:lnTo>
                      <a:lnTo>
                        <a:pt x="617" y="1140"/>
                      </a:lnTo>
                      <a:lnTo>
                        <a:pt x="540" y="1089"/>
                      </a:lnTo>
                      <a:lnTo>
                        <a:pt x="385" y="952"/>
                      </a:lnTo>
                      <a:lnTo>
                        <a:pt x="286" y="823"/>
                      </a:lnTo>
                      <a:lnTo>
                        <a:pt x="239" y="721"/>
                      </a:lnTo>
                      <a:lnTo>
                        <a:pt x="208" y="548"/>
                      </a:lnTo>
                      <a:lnTo>
                        <a:pt x="208" y="324"/>
                      </a:lnTo>
                      <a:lnTo>
                        <a:pt x="200" y="267"/>
                      </a:lnTo>
                      <a:lnTo>
                        <a:pt x="155" y="224"/>
                      </a:lnTo>
                      <a:lnTo>
                        <a:pt x="23" y="231"/>
                      </a:lnTo>
                      <a:lnTo>
                        <a:pt x="0" y="209"/>
                      </a:lnTo>
                      <a:lnTo>
                        <a:pt x="30" y="195"/>
                      </a:lnTo>
                      <a:lnTo>
                        <a:pt x="124" y="188"/>
                      </a:lnTo>
                      <a:lnTo>
                        <a:pt x="139" y="173"/>
                      </a:lnTo>
                      <a:lnTo>
                        <a:pt x="7" y="101"/>
                      </a:lnTo>
                      <a:lnTo>
                        <a:pt x="7" y="73"/>
                      </a:lnTo>
                      <a:lnTo>
                        <a:pt x="30" y="65"/>
                      </a:lnTo>
                      <a:lnTo>
                        <a:pt x="139" y="122"/>
                      </a:lnTo>
                      <a:lnTo>
                        <a:pt x="162" y="115"/>
                      </a:lnTo>
                      <a:lnTo>
                        <a:pt x="139" y="7"/>
                      </a:lnTo>
                      <a:lnTo>
                        <a:pt x="155" y="0"/>
                      </a:lnTo>
                      <a:lnTo>
                        <a:pt x="170" y="7"/>
                      </a:lnTo>
                      <a:lnTo>
                        <a:pt x="200" y="115"/>
                      </a:lnTo>
                      <a:lnTo>
                        <a:pt x="223" y="122"/>
                      </a:lnTo>
                      <a:lnTo>
                        <a:pt x="286" y="7"/>
                      </a:lnTo>
                      <a:lnTo>
                        <a:pt x="301" y="7"/>
                      </a:lnTo>
                      <a:lnTo>
                        <a:pt x="301" y="44"/>
                      </a:lnTo>
                      <a:lnTo>
                        <a:pt x="262" y="137"/>
                      </a:lnTo>
                      <a:lnTo>
                        <a:pt x="262" y="188"/>
                      </a:lnTo>
                      <a:lnTo>
                        <a:pt x="278" y="253"/>
                      </a:lnTo>
                      <a:lnTo>
                        <a:pt x="270" y="339"/>
                      </a:lnTo>
                      <a:lnTo>
                        <a:pt x="278" y="497"/>
                      </a:lnTo>
                      <a:lnTo>
                        <a:pt x="293" y="599"/>
                      </a:lnTo>
                      <a:lnTo>
                        <a:pt x="332" y="714"/>
                      </a:lnTo>
                      <a:lnTo>
                        <a:pt x="385" y="801"/>
                      </a:lnTo>
                      <a:lnTo>
                        <a:pt x="448" y="865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8286480" y="5235480"/>
                  <a:ext cx="136440" cy="149760"/>
                </a:xfrm>
                <a:custGeom>
                  <a:avLst/>
                  <a:gdLst/>
                  <a:ahLst/>
                  <a:rect l="l" t="t" r="r" b="b"/>
                  <a:pathLst>
                    <a:path w="919" h="1067">
                      <a:moveTo>
                        <a:pt x="16" y="945"/>
                      </a:moveTo>
                      <a:lnTo>
                        <a:pt x="0" y="994"/>
                      </a:lnTo>
                      <a:lnTo>
                        <a:pt x="16" y="1067"/>
                      </a:lnTo>
                      <a:lnTo>
                        <a:pt x="70" y="1067"/>
                      </a:lnTo>
                      <a:lnTo>
                        <a:pt x="232" y="1038"/>
                      </a:lnTo>
                      <a:lnTo>
                        <a:pt x="410" y="980"/>
                      </a:lnTo>
                      <a:lnTo>
                        <a:pt x="556" y="887"/>
                      </a:lnTo>
                      <a:lnTo>
                        <a:pt x="642" y="764"/>
                      </a:lnTo>
                      <a:lnTo>
                        <a:pt x="718" y="555"/>
                      </a:lnTo>
                      <a:lnTo>
                        <a:pt x="741" y="360"/>
                      </a:lnTo>
                      <a:lnTo>
                        <a:pt x="741" y="267"/>
                      </a:lnTo>
                      <a:lnTo>
                        <a:pt x="780" y="209"/>
                      </a:lnTo>
                      <a:lnTo>
                        <a:pt x="849" y="187"/>
                      </a:lnTo>
                      <a:lnTo>
                        <a:pt x="911" y="187"/>
                      </a:lnTo>
                      <a:lnTo>
                        <a:pt x="919" y="158"/>
                      </a:lnTo>
                      <a:lnTo>
                        <a:pt x="827" y="165"/>
                      </a:lnTo>
                      <a:lnTo>
                        <a:pt x="811" y="144"/>
                      </a:lnTo>
                      <a:lnTo>
                        <a:pt x="888" y="65"/>
                      </a:lnTo>
                      <a:lnTo>
                        <a:pt x="872" y="43"/>
                      </a:lnTo>
                      <a:lnTo>
                        <a:pt x="857" y="58"/>
                      </a:lnTo>
                      <a:lnTo>
                        <a:pt x="796" y="115"/>
                      </a:lnTo>
                      <a:lnTo>
                        <a:pt x="780" y="115"/>
                      </a:lnTo>
                      <a:lnTo>
                        <a:pt x="780" y="14"/>
                      </a:lnTo>
                      <a:lnTo>
                        <a:pt x="765" y="0"/>
                      </a:lnTo>
                      <a:lnTo>
                        <a:pt x="741" y="7"/>
                      </a:lnTo>
                      <a:lnTo>
                        <a:pt x="749" y="115"/>
                      </a:lnTo>
                      <a:lnTo>
                        <a:pt x="734" y="122"/>
                      </a:lnTo>
                      <a:lnTo>
                        <a:pt x="671" y="65"/>
                      </a:lnTo>
                      <a:lnTo>
                        <a:pt x="626" y="58"/>
                      </a:lnTo>
                      <a:lnTo>
                        <a:pt x="634" y="87"/>
                      </a:lnTo>
                      <a:lnTo>
                        <a:pt x="703" y="151"/>
                      </a:lnTo>
                      <a:lnTo>
                        <a:pt x="703" y="187"/>
                      </a:lnTo>
                      <a:lnTo>
                        <a:pt x="679" y="260"/>
                      </a:lnTo>
                      <a:lnTo>
                        <a:pt x="679" y="324"/>
                      </a:lnTo>
                      <a:lnTo>
                        <a:pt x="679" y="433"/>
                      </a:lnTo>
                      <a:lnTo>
                        <a:pt x="648" y="570"/>
                      </a:lnTo>
                      <a:lnTo>
                        <a:pt x="618" y="656"/>
                      </a:lnTo>
                      <a:lnTo>
                        <a:pt x="564" y="764"/>
                      </a:lnTo>
                      <a:lnTo>
                        <a:pt x="502" y="850"/>
                      </a:lnTo>
                      <a:lnTo>
                        <a:pt x="456" y="894"/>
                      </a:lnTo>
                      <a:lnTo>
                        <a:pt x="332" y="930"/>
                      </a:lnTo>
                      <a:lnTo>
                        <a:pt x="217" y="945"/>
                      </a:lnTo>
                      <a:lnTo>
                        <a:pt x="100" y="959"/>
                      </a:lnTo>
                      <a:lnTo>
                        <a:pt x="16" y="945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" name=""/>
              <p:cNvSpPr/>
              <p:nvPr/>
            </p:nvSpPr>
            <p:spPr>
              <a:xfrm>
                <a:off x="7723440" y="5297760"/>
                <a:ext cx="343800" cy="226800"/>
              </a:xfrm>
              <a:prstGeom prst="horizontalScroll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baseline="-8000">
                    <a:solidFill>
                      <a:srgbClr val="000000"/>
                    </a:solidFill>
                    <a:latin typeface="Times New Roman"/>
                  </a:rPr>
                  <a:t>79 km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895520" y="5505480"/>
                <a:ext cx="0" cy="565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391600" y="5297760"/>
                <a:ext cx="343440" cy="226800"/>
              </a:xfrm>
              <a:prstGeom prst="horizontalScroll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baseline="-8000">
                    <a:solidFill>
                      <a:srgbClr val="000000"/>
                    </a:solidFill>
                    <a:latin typeface="Times New Roman"/>
                  </a:rPr>
                  <a:t>75 km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563320" y="5505480"/>
                <a:ext cx="0" cy="565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20120" y="4876920"/>
                <a:ext cx="1218960" cy="1143000"/>
              </a:xfrm>
              <a:prstGeom prst="ellipse">
                <a:avLst/>
              </a:prstGeom>
              <a:noFill/>
              <a:ln w="633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7749000" y="4937040"/>
              <a:ext cx="580320" cy="302040"/>
              <a:chOff x="7749000" y="4937040"/>
              <a:chExt cx="580320" cy="302040"/>
            </a:xfrm>
          </p:grpSpPr>
          <p:grpSp>
            <p:nvGrpSpPr>
              <p:cNvPr id="102" name=""/>
              <p:cNvGrpSpPr/>
              <p:nvPr/>
            </p:nvGrpSpPr>
            <p:grpSpPr>
              <a:xfrm>
                <a:off x="7852320" y="4937400"/>
                <a:ext cx="343440" cy="264240"/>
                <a:chOff x="7852320" y="4937400"/>
                <a:chExt cx="343440" cy="26424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7852320" y="4937400"/>
                  <a:ext cx="343440" cy="226440"/>
                </a:xfrm>
                <a:prstGeom prst="horizontalScroll">
                  <a:avLst>
                    <a:gd name="adj" fmla="val 12500"/>
                  </a:avLst>
                </a:prstGeom>
                <a:solidFill>
                  <a:srgbClr val="ffffff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-8000">
                      <a:solidFill>
                        <a:srgbClr val="000000"/>
                      </a:solidFill>
                      <a:latin typeface="Times New Roman"/>
                    </a:rPr>
                    <a:t>Exit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8024040" y="5145120"/>
                  <a:ext cx="0" cy="5652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" name=""/>
              <p:cNvSpPr/>
              <p:nvPr/>
            </p:nvSpPr>
            <p:spPr>
              <a:xfrm flipH="1" flipV="1">
                <a:off x="7749000" y="4937040"/>
                <a:ext cx="580320" cy="3020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V="1">
                <a:off x="7749000" y="4937040"/>
                <a:ext cx="580320" cy="3020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" name=""/>
          <p:cNvSpPr/>
          <p:nvPr/>
        </p:nvSpPr>
        <p:spPr>
          <a:xfrm>
            <a:off x="7624440" y="6138720"/>
            <a:ext cx="1299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malle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CD(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90520" y="914400"/>
            <a:ext cx="2091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nput: &lt;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62320" y="960480"/>
            <a:ext cx="1779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= &lt;64,44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20400" y="1417680"/>
            <a:ext cx="104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35320" y="1417680"/>
            <a:ext cx="1779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= &lt;64,44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35320" y="2346480"/>
            <a:ext cx="1779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= &lt;44,20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35320" y="2787480"/>
            <a:ext cx="1779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= &lt;24,20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34960" y="3228840"/>
            <a:ext cx="168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= &lt; 4,20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34960" y="3670200"/>
            <a:ext cx="168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= &lt;20, 4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34960" y="4111560"/>
            <a:ext cx="168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= &lt;16, 4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34960" y="4552920"/>
            <a:ext cx="168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= &lt;12, 4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34600" y="4994280"/>
            <a:ext cx="1590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= &lt; 8, 4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34600" y="5435640"/>
            <a:ext cx="1590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= &lt; 4, 4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34600" y="5877000"/>
            <a:ext cx="1590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= &lt; 0, 4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3640" y="6262560"/>
            <a:ext cx="421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GCD(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) = GCD(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) = 4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4840" y="4784760"/>
            <a:ext cx="2433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Running time?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35320" y="1889280"/>
            <a:ext cx="1779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= &lt;20,44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5676840" y="1066680"/>
            <a:ext cx="1181160" cy="1067040"/>
            <a:chOff x="5676840" y="1066680"/>
            <a:chExt cx="1181160" cy="1067040"/>
          </a:xfrm>
        </p:grpSpPr>
        <p:sp>
          <p:nvSpPr>
            <p:cNvPr id="126" name=""/>
            <p:cNvSpPr/>
            <p:nvPr/>
          </p:nvSpPr>
          <p:spPr>
            <a:xfrm>
              <a:off x="5676840" y="1066680"/>
              <a:ext cx="1181160" cy="1067040"/>
            </a:xfrm>
            <a:custGeom>
              <a:avLst/>
              <a:gdLst/>
              <a:ahLst/>
              <a:rect l="l" t="t" r="r" b="b"/>
              <a:pathLst>
                <a:path w="2280" h="1785">
                  <a:moveTo>
                    <a:pt x="748" y="30"/>
                  </a:moveTo>
                  <a:cubicBezTo>
                    <a:pt x="881" y="60"/>
                    <a:pt x="985" y="267"/>
                    <a:pt x="1224" y="305"/>
                  </a:cubicBezTo>
                  <a:cubicBezTo>
                    <a:pt x="1463" y="343"/>
                    <a:pt x="2088" y="121"/>
                    <a:pt x="2184" y="257"/>
                  </a:cubicBezTo>
                  <a:cubicBezTo>
                    <a:pt x="2280" y="393"/>
                    <a:pt x="1873" y="945"/>
                    <a:pt x="1800" y="1121"/>
                  </a:cubicBezTo>
                  <a:cubicBezTo>
                    <a:pt x="1727" y="1297"/>
                    <a:pt x="1757" y="1253"/>
                    <a:pt x="1743" y="1313"/>
                  </a:cubicBezTo>
                  <a:cubicBezTo>
                    <a:pt x="1729" y="1373"/>
                    <a:pt x="1747" y="1440"/>
                    <a:pt x="1717" y="1479"/>
                  </a:cubicBezTo>
                  <a:cubicBezTo>
                    <a:pt x="1687" y="1518"/>
                    <a:pt x="1634" y="1537"/>
                    <a:pt x="1560" y="1549"/>
                  </a:cubicBezTo>
                  <a:cubicBezTo>
                    <a:pt x="1486" y="1561"/>
                    <a:pt x="1504" y="1536"/>
                    <a:pt x="1272" y="1553"/>
                  </a:cubicBezTo>
                  <a:cubicBezTo>
                    <a:pt x="1040" y="1570"/>
                    <a:pt x="336" y="1785"/>
                    <a:pt x="168" y="1649"/>
                  </a:cubicBezTo>
                  <a:cubicBezTo>
                    <a:pt x="0" y="1513"/>
                    <a:pt x="221" y="991"/>
                    <a:pt x="264" y="737"/>
                  </a:cubicBezTo>
                  <a:cubicBezTo>
                    <a:pt x="307" y="483"/>
                    <a:pt x="344" y="244"/>
                    <a:pt x="425" y="126"/>
                  </a:cubicBezTo>
                  <a:cubicBezTo>
                    <a:pt x="506" y="8"/>
                    <a:pt x="615" y="0"/>
                    <a:pt x="748" y="30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5863320" y="1155600"/>
              <a:ext cx="629640" cy="860400"/>
              <a:chOff x="5863320" y="1155600"/>
              <a:chExt cx="629640" cy="860400"/>
            </a:xfrm>
          </p:grpSpPr>
          <p:grpSp>
            <p:nvGrpSpPr>
              <p:cNvPr id="128" name=""/>
              <p:cNvGrpSpPr/>
              <p:nvPr/>
            </p:nvGrpSpPr>
            <p:grpSpPr>
              <a:xfrm>
                <a:off x="5863320" y="1155600"/>
                <a:ext cx="592560" cy="842760"/>
                <a:chOff x="5863320" y="1155600"/>
                <a:chExt cx="592560" cy="84276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6058800" y="1297800"/>
                  <a:ext cx="102960" cy="177840"/>
                </a:xfrm>
                <a:custGeom>
                  <a:avLst/>
                  <a:gdLst/>
                  <a:ahLst/>
                  <a:rect l="l" t="t" r="r" b="b"/>
                  <a:pathLst>
                    <a:path w="434" h="514">
                      <a:moveTo>
                        <a:pt x="132" y="186"/>
                      </a:moveTo>
                      <a:lnTo>
                        <a:pt x="157" y="114"/>
                      </a:lnTo>
                      <a:lnTo>
                        <a:pt x="189" y="42"/>
                      </a:lnTo>
                      <a:lnTo>
                        <a:pt x="236" y="6"/>
                      </a:lnTo>
                      <a:lnTo>
                        <a:pt x="302" y="0"/>
                      </a:lnTo>
                      <a:lnTo>
                        <a:pt x="355" y="24"/>
                      </a:lnTo>
                      <a:lnTo>
                        <a:pt x="393" y="63"/>
                      </a:lnTo>
                      <a:lnTo>
                        <a:pt x="421" y="135"/>
                      </a:lnTo>
                      <a:lnTo>
                        <a:pt x="434" y="222"/>
                      </a:lnTo>
                      <a:lnTo>
                        <a:pt x="434" y="312"/>
                      </a:lnTo>
                      <a:lnTo>
                        <a:pt x="412" y="411"/>
                      </a:lnTo>
                      <a:lnTo>
                        <a:pt x="355" y="474"/>
                      </a:lnTo>
                      <a:lnTo>
                        <a:pt x="299" y="514"/>
                      </a:lnTo>
                      <a:lnTo>
                        <a:pt x="245" y="510"/>
                      </a:lnTo>
                      <a:lnTo>
                        <a:pt x="198" y="468"/>
                      </a:lnTo>
                      <a:lnTo>
                        <a:pt x="157" y="396"/>
                      </a:lnTo>
                      <a:lnTo>
                        <a:pt x="129" y="333"/>
                      </a:lnTo>
                      <a:lnTo>
                        <a:pt x="129" y="252"/>
                      </a:lnTo>
                      <a:lnTo>
                        <a:pt x="0" y="234"/>
                      </a:lnTo>
                      <a:lnTo>
                        <a:pt x="16" y="189"/>
                      </a:lnTo>
                      <a:lnTo>
                        <a:pt x="132" y="18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6126840" y="1155600"/>
                  <a:ext cx="134280" cy="399240"/>
                </a:xfrm>
                <a:custGeom>
                  <a:avLst/>
                  <a:gdLst/>
                  <a:ahLst/>
                  <a:rect l="l" t="t" r="r" b="b"/>
                  <a:pathLst>
                    <a:path w="566" h="1154">
                      <a:moveTo>
                        <a:pt x="13" y="1145"/>
                      </a:moveTo>
                      <a:lnTo>
                        <a:pt x="0" y="1088"/>
                      </a:lnTo>
                      <a:lnTo>
                        <a:pt x="31" y="1042"/>
                      </a:lnTo>
                      <a:lnTo>
                        <a:pt x="134" y="988"/>
                      </a:lnTo>
                      <a:lnTo>
                        <a:pt x="226" y="927"/>
                      </a:lnTo>
                      <a:lnTo>
                        <a:pt x="313" y="827"/>
                      </a:lnTo>
                      <a:lnTo>
                        <a:pt x="432" y="689"/>
                      </a:lnTo>
                      <a:lnTo>
                        <a:pt x="463" y="634"/>
                      </a:lnTo>
                      <a:lnTo>
                        <a:pt x="479" y="580"/>
                      </a:lnTo>
                      <a:lnTo>
                        <a:pt x="472" y="526"/>
                      </a:lnTo>
                      <a:lnTo>
                        <a:pt x="444" y="426"/>
                      </a:lnTo>
                      <a:lnTo>
                        <a:pt x="376" y="299"/>
                      </a:lnTo>
                      <a:lnTo>
                        <a:pt x="301" y="229"/>
                      </a:lnTo>
                      <a:lnTo>
                        <a:pt x="235" y="190"/>
                      </a:lnTo>
                      <a:lnTo>
                        <a:pt x="181" y="184"/>
                      </a:lnTo>
                      <a:lnTo>
                        <a:pt x="153" y="190"/>
                      </a:lnTo>
                      <a:lnTo>
                        <a:pt x="150" y="163"/>
                      </a:lnTo>
                      <a:lnTo>
                        <a:pt x="215" y="154"/>
                      </a:lnTo>
                      <a:lnTo>
                        <a:pt x="291" y="154"/>
                      </a:lnTo>
                      <a:lnTo>
                        <a:pt x="238" y="93"/>
                      </a:lnTo>
                      <a:lnTo>
                        <a:pt x="206" y="45"/>
                      </a:lnTo>
                      <a:lnTo>
                        <a:pt x="229" y="27"/>
                      </a:lnTo>
                      <a:lnTo>
                        <a:pt x="313" y="109"/>
                      </a:lnTo>
                      <a:lnTo>
                        <a:pt x="329" y="121"/>
                      </a:lnTo>
                      <a:lnTo>
                        <a:pt x="313" y="57"/>
                      </a:lnTo>
                      <a:lnTo>
                        <a:pt x="301" y="9"/>
                      </a:lnTo>
                      <a:lnTo>
                        <a:pt x="313" y="0"/>
                      </a:lnTo>
                      <a:lnTo>
                        <a:pt x="341" y="9"/>
                      </a:lnTo>
                      <a:lnTo>
                        <a:pt x="366" y="121"/>
                      </a:lnTo>
                      <a:lnTo>
                        <a:pt x="379" y="118"/>
                      </a:lnTo>
                      <a:lnTo>
                        <a:pt x="379" y="30"/>
                      </a:lnTo>
                      <a:lnTo>
                        <a:pt x="404" y="21"/>
                      </a:lnTo>
                      <a:lnTo>
                        <a:pt x="422" y="36"/>
                      </a:lnTo>
                      <a:lnTo>
                        <a:pt x="413" y="154"/>
                      </a:lnTo>
                      <a:lnTo>
                        <a:pt x="407" y="202"/>
                      </a:lnTo>
                      <a:lnTo>
                        <a:pt x="422" y="299"/>
                      </a:lnTo>
                      <a:lnTo>
                        <a:pt x="472" y="402"/>
                      </a:lnTo>
                      <a:lnTo>
                        <a:pt x="525" y="520"/>
                      </a:lnTo>
                      <a:lnTo>
                        <a:pt x="566" y="607"/>
                      </a:lnTo>
                      <a:lnTo>
                        <a:pt x="563" y="652"/>
                      </a:lnTo>
                      <a:lnTo>
                        <a:pt x="488" y="734"/>
                      </a:lnTo>
                      <a:lnTo>
                        <a:pt x="385" y="836"/>
                      </a:lnTo>
                      <a:lnTo>
                        <a:pt x="301" y="937"/>
                      </a:lnTo>
                      <a:lnTo>
                        <a:pt x="197" y="1070"/>
                      </a:lnTo>
                      <a:lnTo>
                        <a:pt x="112" y="1136"/>
                      </a:lnTo>
                      <a:lnTo>
                        <a:pt x="47" y="1154"/>
                      </a:lnTo>
                      <a:lnTo>
                        <a:pt x="13" y="1145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5863320" y="1527840"/>
                  <a:ext cx="246240" cy="200880"/>
                </a:xfrm>
                <a:custGeom>
                  <a:avLst/>
                  <a:gdLst/>
                  <a:ahLst/>
                  <a:rect l="l" t="t" r="r" b="b"/>
                  <a:pathLst>
                    <a:path w="1037" h="581">
                      <a:moveTo>
                        <a:pt x="210" y="468"/>
                      </a:moveTo>
                      <a:lnTo>
                        <a:pt x="361" y="462"/>
                      </a:lnTo>
                      <a:lnTo>
                        <a:pt x="498" y="444"/>
                      </a:lnTo>
                      <a:lnTo>
                        <a:pt x="583" y="423"/>
                      </a:lnTo>
                      <a:lnTo>
                        <a:pt x="705" y="354"/>
                      </a:lnTo>
                      <a:lnTo>
                        <a:pt x="792" y="288"/>
                      </a:lnTo>
                      <a:lnTo>
                        <a:pt x="906" y="207"/>
                      </a:lnTo>
                      <a:lnTo>
                        <a:pt x="959" y="156"/>
                      </a:lnTo>
                      <a:lnTo>
                        <a:pt x="1000" y="120"/>
                      </a:lnTo>
                      <a:lnTo>
                        <a:pt x="1037" y="81"/>
                      </a:lnTo>
                      <a:lnTo>
                        <a:pt x="1037" y="39"/>
                      </a:lnTo>
                      <a:lnTo>
                        <a:pt x="996" y="0"/>
                      </a:lnTo>
                      <a:lnTo>
                        <a:pt x="971" y="9"/>
                      </a:lnTo>
                      <a:lnTo>
                        <a:pt x="903" y="90"/>
                      </a:lnTo>
                      <a:lnTo>
                        <a:pt x="828" y="183"/>
                      </a:lnTo>
                      <a:lnTo>
                        <a:pt x="752" y="270"/>
                      </a:lnTo>
                      <a:lnTo>
                        <a:pt x="642" y="342"/>
                      </a:lnTo>
                      <a:lnTo>
                        <a:pt x="548" y="390"/>
                      </a:lnTo>
                      <a:lnTo>
                        <a:pt x="445" y="414"/>
                      </a:lnTo>
                      <a:lnTo>
                        <a:pt x="301" y="417"/>
                      </a:lnTo>
                      <a:lnTo>
                        <a:pt x="216" y="417"/>
                      </a:lnTo>
                      <a:lnTo>
                        <a:pt x="144" y="363"/>
                      </a:lnTo>
                      <a:lnTo>
                        <a:pt x="125" y="327"/>
                      </a:lnTo>
                      <a:lnTo>
                        <a:pt x="94" y="327"/>
                      </a:lnTo>
                      <a:lnTo>
                        <a:pt x="116" y="372"/>
                      </a:lnTo>
                      <a:lnTo>
                        <a:pt x="150" y="414"/>
                      </a:lnTo>
                      <a:lnTo>
                        <a:pt x="66" y="396"/>
                      </a:lnTo>
                      <a:lnTo>
                        <a:pt x="3" y="387"/>
                      </a:lnTo>
                      <a:lnTo>
                        <a:pt x="3" y="405"/>
                      </a:lnTo>
                      <a:lnTo>
                        <a:pt x="59" y="417"/>
                      </a:lnTo>
                      <a:lnTo>
                        <a:pt x="97" y="441"/>
                      </a:lnTo>
                      <a:lnTo>
                        <a:pt x="131" y="444"/>
                      </a:lnTo>
                      <a:lnTo>
                        <a:pt x="78" y="462"/>
                      </a:lnTo>
                      <a:lnTo>
                        <a:pt x="0" y="481"/>
                      </a:lnTo>
                      <a:lnTo>
                        <a:pt x="3" y="499"/>
                      </a:lnTo>
                      <a:lnTo>
                        <a:pt x="28" y="505"/>
                      </a:lnTo>
                      <a:lnTo>
                        <a:pt x="103" y="481"/>
                      </a:lnTo>
                      <a:lnTo>
                        <a:pt x="150" y="477"/>
                      </a:lnTo>
                      <a:lnTo>
                        <a:pt x="122" y="505"/>
                      </a:lnTo>
                      <a:lnTo>
                        <a:pt x="78" y="550"/>
                      </a:lnTo>
                      <a:lnTo>
                        <a:pt x="59" y="562"/>
                      </a:lnTo>
                      <a:lnTo>
                        <a:pt x="75" y="581"/>
                      </a:lnTo>
                      <a:lnTo>
                        <a:pt x="113" y="559"/>
                      </a:lnTo>
                      <a:lnTo>
                        <a:pt x="163" y="514"/>
                      </a:lnTo>
                      <a:lnTo>
                        <a:pt x="210" y="46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6090120" y="1506960"/>
                  <a:ext cx="144360" cy="276840"/>
                </a:xfrm>
                <a:custGeom>
                  <a:avLst/>
                  <a:gdLst/>
                  <a:ahLst/>
                  <a:rect l="l" t="t" r="r" b="b"/>
                  <a:pathLst>
                    <a:path w="608" h="800">
                      <a:moveTo>
                        <a:pt x="38" y="90"/>
                      </a:moveTo>
                      <a:lnTo>
                        <a:pt x="63" y="27"/>
                      </a:lnTo>
                      <a:lnTo>
                        <a:pt x="104" y="0"/>
                      </a:lnTo>
                      <a:lnTo>
                        <a:pt x="141" y="0"/>
                      </a:lnTo>
                      <a:lnTo>
                        <a:pt x="179" y="18"/>
                      </a:lnTo>
                      <a:lnTo>
                        <a:pt x="216" y="54"/>
                      </a:lnTo>
                      <a:lnTo>
                        <a:pt x="235" y="117"/>
                      </a:lnTo>
                      <a:lnTo>
                        <a:pt x="245" y="180"/>
                      </a:lnTo>
                      <a:lnTo>
                        <a:pt x="263" y="243"/>
                      </a:lnTo>
                      <a:lnTo>
                        <a:pt x="298" y="312"/>
                      </a:lnTo>
                      <a:lnTo>
                        <a:pt x="357" y="384"/>
                      </a:lnTo>
                      <a:lnTo>
                        <a:pt x="415" y="432"/>
                      </a:lnTo>
                      <a:lnTo>
                        <a:pt x="499" y="468"/>
                      </a:lnTo>
                      <a:lnTo>
                        <a:pt x="571" y="522"/>
                      </a:lnTo>
                      <a:lnTo>
                        <a:pt x="608" y="577"/>
                      </a:lnTo>
                      <a:lnTo>
                        <a:pt x="602" y="622"/>
                      </a:lnTo>
                      <a:lnTo>
                        <a:pt x="593" y="676"/>
                      </a:lnTo>
                      <a:lnTo>
                        <a:pt x="565" y="712"/>
                      </a:lnTo>
                      <a:lnTo>
                        <a:pt x="518" y="757"/>
                      </a:lnTo>
                      <a:lnTo>
                        <a:pt x="449" y="790"/>
                      </a:lnTo>
                      <a:lnTo>
                        <a:pt x="396" y="800"/>
                      </a:lnTo>
                      <a:lnTo>
                        <a:pt x="320" y="784"/>
                      </a:lnTo>
                      <a:lnTo>
                        <a:pt x="251" y="748"/>
                      </a:lnTo>
                      <a:lnTo>
                        <a:pt x="179" y="694"/>
                      </a:lnTo>
                      <a:lnTo>
                        <a:pt x="129" y="631"/>
                      </a:lnTo>
                      <a:lnTo>
                        <a:pt x="82" y="550"/>
                      </a:lnTo>
                      <a:lnTo>
                        <a:pt x="44" y="456"/>
                      </a:lnTo>
                      <a:lnTo>
                        <a:pt x="19" y="375"/>
                      </a:lnTo>
                      <a:lnTo>
                        <a:pt x="7" y="297"/>
                      </a:lnTo>
                      <a:lnTo>
                        <a:pt x="0" y="189"/>
                      </a:lnTo>
                      <a:lnTo>
                        <a:pt x="19" y="117"/>
                      </a:lnTo>
                      <a:lnTo>
                        <a:pt x="38" y="9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6208200" y="1625400"/>
                  <a:ext cx="247680" cy="251280"/>
                </a:xfrm>
                <a:custGeom>
                  <a:avLst/>
                  <a:gdLst/>
                  <a:ahLst/>
                  <a:rect l="l" t="t" r="r" b="b"/>
                  <a:pathLst>
                    <a:path w="1043" h="726">
                      <a:moveTo>
                        <a:pt x="116" y="230"/>
                      </a:moveTo>
                      <a:lnTo>
                        <a:pt x="216" y="147"/>
                      </a:lnTo>
                      <a:lnTo>
                        <a:pt x="338" y="72"/>
                      </a:lnTo>
                      <a:lnTo>
                        <a:pt x="417" y="27"/>
                      </a:lnTo>
                      <a:lnTo>
                        <a:pt x="479" y="12"/>
                      </a:lnTo>
                      <a:lnTo>
                        <a:pt x="529" y="0"/>
                      </a:lnTo>
                      <a:lnTo>
                        <a:pt x="573" y="18"/>
                      </a:lnTo>
                      <a:lnTo>
                        <a:pt x="601" y="75"/>
                      </a:lnTo>
                      <a:lnTo>
                        <a:pt x="620" y="230"/>
                      </a:lnTo>
                      <a:lnTo>
                        <a:pt x="620" y="416"/>
                      </a:lnTo>
                      <a:lnTo>
                        <a:pt x="620" y="536"/>
                      </a:lnTo>
                      <a:lnTo>
                        <a:pt x="642" y="609"/>
                      </a:lnTo>
                      <a:lnTo>
                        <a:pt x="686" y="597"/>
                      </a:lnTo>
                      <a:lnTo>
                        <a:pt x="717" y="552"/>
                      </a:lnTo>
                      <a:lnTo>
                        <a:pt x="779" y="500"/>
                      </a:lnTo>
                      <a:lnTo>
                        <a:pt x="876" y="470"/>
                      </a:lnTo>
                      <a:lnTo>
                        <a:pt x="943" y="470"/>
                      </a:lnTo>
                      <a:lnTo>
                        <a:pt x="1043" y="488"/>
                      </a:lnTo>
                      <a:lnTo>
                        <a:pt x="1037" y="524"/>
                      </a:lnTo>
                      <a:lnTo>
                        <a:pt x="1015" y="555"/>
                      </a:lnTo>
                      <a:lnTo>
                        <a:pt x="981" y="561"/>
                      </a:lnTo>
                      <a:lnTo>
                        <a:pt x="943" y="542"/>
                      </a:lnTo>
                      <a:lnTo>
                        <a:pt x="886" y="518"/>
                      </a:lnTo>
                      <a:lnTo>
                        <a:pt x="829" y="518"/>
                      </a:lnTo>
                      <a:lnTo>
                        <a:pt x="754" y="564"/>
                      </a:lnTo>
                      <a:lnTo>
                        <a:pt x="708" y="633"/>
                      </a:lnTo>
                      <a:lnTo>
                        <a:pt x="698" y="690"/>
                      </a:lnTo>
                      <a:lnTo>
                        <a:pt x="679" y="726"/>
                      </a:lnTo>
                      <a:lnTo>
                        <a:pt x="604" y="723"/>
                      </a:lnTo>
                      <a:lnTo>
                        <a:pt x="601" y="669"/>
                      </a:lnTo>
                      <a:lnTo>
                        <a:pt x="576" y="591"/>
                      </a:lnTo>
                      <a:lnTo>
                        <a:pt x="567" y="509"/>
                      </a:lnTo>
                      <a:lnTo>
                        <a:pt x="573" y="401"/>
                      </a:lnTo>
                      <a:lnTo>
                        <a:pt x="564" y="248"/>
                      </a:lnTo>
                      <a:lnTo>
                        <a:pt x="558" y="147"/>
                      </a:lnTo>
                      <a:lnTo>
                        <a:pt x="539" y="111"/>
                      </a:lnTo>
                      <a:lnTo>
                        <a:pt x="501" y="75"/>
                      </a:lnTo>
                      <a:lnTo>
                        <a:pt x="461" y="75"/>
                      </a:lnTo>
                      <a:lnTo>
                        <a:pt x="403" y="111"/>
                      </a:lnTo>
                      <a:lnTo>
                        <a:pt x="328" y="181"/>
                      </a:lnTo>
                      <a:lnTo>
                        <a:pt x="235" y="272"/>
                      </a:lnTo>
                      <a:lnTo>
                        <a:pt x="141" y="356"/>
                      </a:lnTo>
                      <a:lnTo>
                        <a:pt x="94" y="383"/>
                      </a:lnTo>
                      <a:lnTo>
                        <a:pt x="38" y="383"/>
                      </a:lnTo>
                      <a:lnTo>
                        <a:pt x="0" y="344"/>
                      </a:lnTo>
                      <a:lnTo>
                        <a:pt x="3" y="281"/>
                      </a:lnTo>
                      <a:lnTo>
                        <a:pt x="41" y="248"/>
                      </a:lnTo>
                      <a:lnTo>
                        <a:pt x="84" y="239"/>
                      </a:lnTo>
                      <a:lnTo>
                        <a:pt x="116" y="23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6194880" y="1734840"/>
                  <a:ext cx="169200" cy="263520"/>
                </a:xfrm>
                <a:custGeom>
                  <a:avLst/>
                  <a:gdLst/>
                  <a:ahLst/>
                  <a:rect l="l" t="t" r="r" b="b"/>
                  <a:pathLst>
                    <a:path w="713" h="762">
                      <a:moveTo>
                        <a:pt x="0" y="64"/>
                      </a:moveTo>
                      <a:lnTo>
                        <a:pt x="22" y="16"/>
                      </a:lnTo>
                      <a:lnTo>
                        <a:pt x="69" y="0"/>
                      </a:lnTo>
                      <a:lnTo>
                        <a:pt x="134" y="7"/>
                      </a:lnTo>
                      <a:lnTo>
                        <a:pt x="150" y="52"/>
                      </a:lnTo>
                      <a:lnTo>
                        <a:pt x="125" y="227"/>
                      </a:lnTo>
                      <a:lnTo>
                        <a:pt x="122" y="360"/>
                      </a:lnTo>
                      <a:lnTo>
                        <a:pt x="116" y="435"/>
                      </a:lnTo>
                      <a:lnTo>
                        <a:pt x="116" y="450"/>
                      </a:lnTo>
                      <a:lnTo>
                        <a:pt x="131" y="524"/>
                      </a:lnTo>
                      <a:lnTo>
                        <a:pt x="172" y="536"/>
                      </a:lnTo>
                      <a:lnTo>
                        <a:pt x="225" y="524"/>
                      </a:lnTo>
                      <a:lnTo>
                        <a:pt x="303" y="481"/>
                      </a:lnTo>
                      <a:lnTo>
                        <a:pt x="387" y="460"/>
                      </a:lnTo>
                      <a:lnTo>
                        <a:pt x="482" y="444"/>
                      </a:lnTo>
                      <a:lnTo>
                        <a:pt x="585" y="432"/>
                      </a:lnTo>
                      <a:lnTo>
                        <a:pt x="660" y="432"/>
                      </a:lnTo>
                      <a:lnTo>
                        <a:pt x="694" y="441"/>
                      </a:lnTo>
                      <a:lnTo>
                        <a:pt x="713" y="463"/>
                      </a:lnTo>
                      <a:lnTo>
                        <a:pt x="704" y="496"/>
                      </a:lnTo>
                      <a:lnTo>
                        <a:pt x="657" y="524"/>
                      </a:lnTo>
                      <a:lnTo>
                        <a:pt x="613" y="563"/>
                      </a:lnTo>
                      <a:lnTo>
                        <a:pt x="572" y="618"/>
                      </a:lnTo>
                      <a:lnTo>
                        <a:pt x="547" y="663"/>
                      </a:lnTo>
                      <a:lnTo>
                        <a:pt x="526" y="708"/>
                      </a:lnTo>
                      <a:lnTo>
                        <a:pt x="510" y="762"/>
                      </a:lnTo>
                      <a:lnTo>
                        <a:pt x="488" y="762"/>
                      </a:lnTo>
                      <a:lnTo>
                        <a:pt x="469" y="741"/>
                      </a:lnTo>
                      <a:lnTo>
                        <a:pt x="462" y="681"/>
                      </a:lnTo>
                      <a:lnTo>
                        <a:pt x="507" y="627"/>
                      </a:lnTo>
                      <a:lnTo>
                        <a:pt x="566" y="563"/>
                      </a:lnTo>
                      <a:lnTo>
                        <a:pt x="622" y="515"/>
                      </a:lnTo>
                      <a:lnTo>
                        <a:pt x="647" y="499"/>
                      </a:lnTo>
                      <a:lnTo>
                        <a:pt x="657" y="478"/>
                      </a:lnTo>
                      <a:lnTo>
                        <a:pt x="632" y="463"/>
                      </a:lnTo>
                      <a:lnTo>
                        <a:pt x="547" y="463"/>
                      </a:lnTo>
                      <a:lnTo>
                        <a:pt x="440" y="481"/>
                      </a:lnTo>
                      <a:lnTo>
                        <a:pt x="356" y="509"/>
                      </a:lnTo>
                      <a:lnTo>
                        <a:pt x="265" y="560"/>
                      </a:lnTo>
                      <a:lnTo>
                        <a:pt x="187" y="596"/>
                      </a:lnTo>
                      <a:lnTo>
                        <a:pt x="103" y="599"/>
                      </a:lnTo>
                      <a:lnTo>
                        <a:pt x="69" y="587"/>
                      </a:lnTo>
                      <a:lnTo>
                        <a:pt x="50" y="542"/>
                      </a:lnTo>
                      <a:lnTo>
                        <a:pt x="37" y="478"/>
                      </a:lnTo>
                      <a:lnTo>
                        <a:pt x="31" y="360"/>
                      </a:lnTo>
                      <a:lnTo>
                        <a:pt x="19" y="151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6390720" y="1712880"/>
                <a:ext cx="102240" cy="303120"/>
                <a:chOff x="6390720" y="1712880"/>
                <a:chExt cx="102240" cy="30312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6412320" y="1882080"/>
                  <a:ext cx="80640" cy="37440"/>
                </a:xfrm>
                <a:custGeom>
                  <a:avLst/>
                  <a:gdLst/>
                  <a:ahLst/>
                  <a:rect l="l" t="t" r="r" b="b"/>
                  <a:pathLst>
                    <a:path w="340" h="109">
                      <a:moveTo>
                        <a:pt x="340" y="109"/>
                      </a:moveTo>
                      <a:lnTo>
                        <a:pt x="165" y="30"/>
                      </a:lnTo>
                      <a:lnTo>
                        <a:pt x="48" y="0"/>
                      </a:lnTo>
                      <a:lnTo>
                        <a:pt x="10" y="0"/>
                      </a:lnTo>
                      <a:lnTo>
                        <a:pt x="0" y="27"/>
                      </a:lnTo>
                      <a:lnTo>
                        <a:pt x="22" y="48"/>
                      </a:lnTo>
                      <a:lnTo>
                        <a:pt x="70" y="54"/>
                      </a:lnTo>
                      <a:lnTo>
                        <a:pt x="184" y="75"/>
                      </a:lnTo>
                      <a:lnTo>
                        <a:pt x="340" y="10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390720" y="1915560"/>
                  <a:ext cx="22680" cy="100440"/>
                </a:xfrm>
                <a:custGeom>
                  <a:avLst/>
                  <a:gdLst/>
                  <a:ahLst/>
                  <a:rect l="l" t="t" r="r" b="b"/>
                  <a:pathLst>
                    <a:path w="97" h="291">
                      <a:moveTo>
                        <a:pt x="97" y="291"/>
                      </a:moveTo>
                      <a:lnTo>
                        <a:pt x="94" y="148"/>
                      </a:lnTo>
                      <a:lnTo>
                        <a:pt x="69" y="39"/>
                      </a:lnTo>
                      <a:lnTo>
                        <a:pt x="41" y="0"/>
                      </a:lnTo>
                      <a:lnTo>
                        <a:pt x="19" y="0"/>
                      </a:lnTo>
                      <a:lnTo>
                        <a:pt x="0" y="12"/>
                      </a:lnTo>
                      <a:lnTo>
                        <a:pt x="0" y="54"/>
                      </a:lnTo>
                      <a:lnTo>
                        <a:pt x="47" y="184"/>
                      </a:lnTo>
                      <a:lnTo>
                        <a:pt x="97" y="29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423840" y="1712880"/>
                  <a:ext cx="50760" cy="38160"/>
                </a:xfrm>
                <a:custGeom>
                  <a:avLst/>
                  <a:gdLst/>
                  <a:ahLst/>
                  <a:rect l="l" t="t" r="r" b="b"/>
                  <a:pathLst>
                    <a:path w="214" h="111">
                      <a:moveTo>
                        <a:pt x="0" y="72"/>
                      </a:moveTo>
                      <a:lnTo>
                        <a:pt x="42" y="30"/>
                      </a:lnTo>
                      <a:lnTo>
                        <a:pt x="100" y="3"/>
                      </a:lnTo>
                      <a:lnTo>
                        <a:pt x="166" y="0"/>
                      </a:lnTo>
                      <a:lnTo>
                        <a:pt x="214" y="9"/>
                      </a:lnTo>
                      <a:lnTo>
                        <a:pt x="138" y="18"/>
                      </a:lnTo>
                      <a:lnTo>
                        <a:pt x="109" y="36"/>
                      </a:lnTo>
                      <a:lnTo>
                        <a:pt x="81" y="63"/>
                      </a:lnTo>
                      <a:lnTo>
                        <a:pt x="68" y="93"/>
                      </a:lnTo>
                      <a:lnTo>
                        <a:pt x="42" y="111"/>
                      </a:lnTo>
                      <a:lnTo>
                        <a:pt x="10" y="108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9" name=""/>
          <p:cNvSpPr/>
          <p:nvPr/>
        </p:nvSpPr>
        <p:spPr>
          <a:xfrm>
            <a:off x="4538160" y="2041560"/>
            <a:ext cx="380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GCD(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) = GCD(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CD(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0520" y="1401840"/>
            <a:ext cx="2091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nput: &lt;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362320" y="1447920"/>
            <a:ext cx="368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= &lt;9999999999999,2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20400" y="1905120"/>
            <a:ext cx="104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362320" y="1905120"/>
            <a:ext cx="368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= &lt;9999999999999,2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362320" y="2362320"/>
            <a:ext cx="368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= &lt;9999999999997,2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62320" y="2819520"/>
            <a:ext cx="368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= &lt;9999999999995,2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62320" y="3276720"/>
            <a:ext cx="368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= &lt;9999999999993,2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62320" y="3733920"/>
            <a:ext cx="368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= &lt;9999999999991,2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01080" y="4691160"/>
            <a:ext cx="129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ime =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22920" y="5165640"/>
            <a:ext cx="194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oly Time?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35160" y="4648320"/>
            <a:ext cx="90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O(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ime Complexity Is a Fun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fies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 how the running time depends on the size of the input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 function mapping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size” of inp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time” T(n) executed 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657600" y="4890960"/>
            <a:ext cx="1219320" cy="44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477120" y="3429000"/>
            <a:ext cx="21016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finition of Tim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# of seconds (machine dependent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# lines of code execute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# of times a specific operation is performed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(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e.g., addition)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Which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7396200" y="228600"/>
            <a:ext cx="1062000" cy="3182760"/>
          </a:xfrm>
          <a:prstGeom prst="rect">
            <a:avLst/>
          </a:prstGeom>
          <a:ln w="0">
            <a:noFill/>
          </a:ln>
        </p:spPr>
      </p:pic>
      <p:grpSp>
        <p:nvGrpSpPr>
          <p:cNvPr id="159" name=""/>
          <p:cNvGrpSpPr/>
          <p:nvPr/>
        </p:nvGrpSpPr>
        <p:grpSpPr>
          <a:xfrm>
            <a:off x="5486400" y="5181480"/>
            <a:ext cx="401400" cy="1143000"/>
            <a:chOff x="5486400" y="5181480"/>
            <a:chExt cx="401400" cy="1143000"/>
          </a:xfrm>
        </p:grpSpPr>
        <p:grpSp>
          <p:nvGrpSpPr>
            <p:cNvPr id="160" name=""/>
            <p:cNvGrpSpPr/>
            <p:nvPr/>
          </p:nvGrpSpPr>
          <p:grpSpPr>
            <a:xfrm>
              <a:off x="5486400" y="5265000"/>
              <a:ext cx="360360" cy="1059480"/>
              <a:chOff x="5486400" y="5265000"/>
              <a:chExt cx="360360" cy="1059480"/>
            </a:xfrm>
          </p:grpSpPr>
          <p:sp>
            <p:nvSpPr>
              <p:cNvPr id="161" name=""/>
              <p:cNvSpPr/>
              <p:nvPr/>
            </p:nvSpPr>
            <p:spPr>
              <a:xfrm>
                <a:off x="5577840" y="5306400"/>
                <a:ext cx="211680" cy="242280"/>
              </a:xfrm>
              <a:custGeom>
                <a:avLst/>
                <a:gdLst/>
                <a:ahLst/>
                <a:rect l="l" t="t" r="r" b="b"/>
                <a:pathLst>
                  <a:path w="538" h="525">
                    <a:moveTo>
                      <a:pt x="164" y="222"/>
                    </a:moveTo>
                    <a:lnTo>
                      <a:pt x="211" y="152"/>
                    </a:lnTo>
                    <a:lnTo>
                      <a:pt x="263" y="100"/>
                    </a:lnTo>
                    <a:lnTo>
                      <a:pt x="316" y="35"/>
                    </a:lnTo>
                    <a:lnTo>
                      <a:pt x="380" y="6"/>
                    </a:lnTo>
                    <a:lnTo>
                      <a:pt x="432" y="0"/>
                    </a:lnTo>
                    <a:lnTo>
                      <a:pt x="485" y="17"/>
                    </a:lnTo>
                    <a:lnTo>
                      <a:pt x="514" y="59"/>
                    </a:lnTo>
                    <a:lnTo>
                      <a:pt x="538" y="135"/>
                    </a:lnTo>
                    <a:lnTo>
                      <a:pt x="531" y="216"/>
                    </a:lnTo>
                    <a:lnTo>
                      <a:pt x="508" y="286"/>
                    </a:lnTo>
                    <a:lnTo>
                      <a:pt x="450" y="368"/>
                    </a:lnTo>
                    <a:lnTo>
                      <a:pt x="386" y="426"/>
                    </a:lnTo>
                    <a:lnTo>
                      <a:pt x="316" y="478"/>
                    </a:lnTo>
                    <a:lnTo>
                      <a:pt x="240" y="513"/>
                    </a:lnTo>
                    <a:lnTo>
                      <a:pt x="176" y="525"/>
                    </a:lnTo>
                    <a:lnTo>
                      <a:pt x="147" y="508"/>
                    </a:lnTo>
                    <a:lnTo>
                      <a:pt x="123" y="438"/>
                    </a:lnTo>
                    <a:lnTo>
                      <a:pt x="129" y="345"/>
                    </a:lnTo>
                    <a:lnTo>
                      <a:pt x="17" y="350"/>
                    </a:lnTo>
                    <a:lnTo>
                      <a:pt x="0" y="333"/>
                    </a:lnTo>
                    <a:lnTo>
                      <a:pt x="17" y="298"/>
                    </a:lnTo>
                    <a:lnTo>
                      <a:pt x="135" y="292"/>
                    </a:lnTo>
                    <a:lnTo>
                      <a:pt x="164" y="22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566680" y="5561640"/>
                <a:ext cx="146520" cy="356040"/>
              </a:xfrm>
              <a:custGeom>
                <a:avLst/>
                <a:gdLst/>
                <a:ahLst/>
                <a:rect l="l" t="t" r="r" b="b"/>
                <a:pathLst>
                  <a:path w="373" h="772">
                    <a:moveTo>
                      <a:pt x="106" y="65"/>
                    </a:moveTo>
                    <a:lnTo>
                      <a:pt x="158" y="18"/>
                    </a:lnTo>
                    <a:lnTo>
                      <a:pt x="239" y="0"/>
                    </a:lnTo>
                    <a:lnTo>
                      <a:pt x="309" y="12"/>
                    </a:lnTo>
                    <a:lnTo>
                      <a:pt x="361" y="59"/>
                    </a:lnTo>
                    <a:lnTo>
                      <a:pt x="373" y="94"/>
                    </a:lnTo>
                    <a:lnTo>
                      <a:pt x="373" y="141"/>
                    </a:lnTo>
                    <a:lnTo>
                      <a:pt x="350" y="182"/>
                    </a:lnTo>
                    <a:lnTo>
                      <a:pt x="309" y="252"/>
                    </a:lnTo>
                    <a:lnTo>
                      <a:pt x="292" y="334"/>
                    </a:lnTo>
                    <a:lnTo>
                      <a:pt x="286" y="403"/>
                    </a:lnTo>
                    <a:lnTo>
                      <a:pt x="303" y="479"/>
                    </a:lnTo>
                    <a:lnTo>
                      <a:pt x="350" y="549"/>
                    </a:lnTo>
                    <a:lnTo>
                      <a:pt x="367" y="619"/>
                    </a:lnTo>
                    <a:lnTo>
                      <a:pt x="361" y="683"/>
                    </a:lnTo>
                    <a:lnTo>
                      <a:pt x="327" y="737"/>
                    </a:lnTo>
                    <a:lnTo>
                      <a:pt x="280" y="766"/>
                    </a:lnTo>
                    <a:lnTo>
                      <a:pt x="222" y="772"/>
                    </a:lnTo>
                    <a:lnTo>
                      <a:pt x="152" y="772"/>
                    </a:lnTo>
                    <a:lnTo>
                      <a:pt x="100" y="742"/>
                    </a:lnTo>
                    <a:lnTo>
                      <a:pt x="46" y="654"/>
                    </a:lnTo>
                    <a:lnTo>
                      <a:pt x="12" y="578"/>
                    </a:lnTo>
                    <a:lnTo>
                      <a:pt x="0" y="462"/>
                    </a:lnTo>
                    <a:lnTo>
                      <a:pt x="12" y="357"/>
                    </a:lnTo>
                    <a:lnTo>
                      <a:pt x="35" y="246"/>
                    </a:lnTo>
                    <a:lnTo>
                      <a:pt x="71" y="135"/>
                    </a:lnTo>
                    <a:lnTo>
                      <a:pt x="106" y="6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684040" y="5573160"/>
                <a:ext cx="162720" cy="320040"/>
              </a:xfrm>
              <a:custGeom>
                <a:avLst/>
                <a:gdLst/>
                <a:ahLst/>
                <a:rect l="l" t="t" r="r" b="b"/>
                <a:pathLst>
                  <a:path w="414" h="694">
                    <a:moveTo>
                      <a:pt x="0" y="34"/>
                    </a:moveTo>
                    <a:lnTo>
                      <a:pt x="5" y="5"/>
                    </a:lnTo>
                    <a:lnTo>
                      <a:pt x="69" y="0"/>
                    </a:lnTo>
                    <a:lnTo>
                      <a:pt x="104" y="29"/>
                    </a:lnTo>
                    <a:lnTo>
                      <a:pt x="157" y="105"/>
                    </a:lnTo>
                    <a:lnTo>
                      <a:pt x="226" y="204"/>
                    </a:lnTo>
                    <a:lnTo>
                      <a:pt x="291" y="274"/>
                    </a:lnTo>
                    <a:lnTo>
                      <a:pt x="408" y="402"/>
                    </a:lnTo>
                    <a:lnTo>
                      <a:pt x="414" y="431"/>
                    </a:lnTo>
                    <a:lnTo>
                      <a:pt x="390" y="449"/>
                    </a:lnTo>
                    <a:lnTo>
                      <a:pt x="332" y="472"/>
                    </a:lnTo>
                    <a:lnTo>
                      <a:pt x="250" y="490"/>
                    </a:lnTo>
                    <a:lnTo>
                      <a:pt x="151" y="496"/>
                    </a:lnTo>
                    <a:lnTo>
                      <a:pt x="116" y="501"/>
                    </a:lnTo>
                    <a:lnTo>
                      <a:pt x="104" y="525"/>
                    </a:lnTo>
                    <a:lnTo>
                      <a:pt x="127" y="565"/>
                    </a:lnTo>
                    <a:lnTo>
                      <a:pt x="209" y="635"/>
                    </a:lnTo>
                    <a:lnTo>
                      <a:pt x="268" y="653"/>
                    </a:lnTo>
                    <a:lnTo>
                      <a:pt x="280" y="676"/>
                    </a:lnTo>
                    <a:lnTo>
                      <a:pt x="255" y="694"/>
                    </a:lnTo>
                    <a:lnTo>
                      <a:pt x="203" y="694"/>
                    </a:lnTo>
                    <a:lnTo>
                      <a:pt x="133" y="653"/>
                    </a:lnTo>
                    <a:lnTo>
                      <a:pt x="75" y="595"/>
                    </a:lnTo>
                    <a:lnTo>
                      <a:pt x="40" y="542"/>
                    </a:lnTo>
                    <a:lnTo>
                      <a:pt x="40" y="501"/>
                    </a:lnTo>
                    <a:lnTo>
                      <a:pt x="63" y="472"/>
                    </a:lnTo>
                    <a:lnTo>
                      <a:pt x="98" y="461"/>
                    </a:lnTo>
                    <a:lnTo>
                      <a:pt x="151" y="455"/>
                    </a:lnTo>
                    <a:lnTo>
                      <a:pt x="209" y="455"/>
                    </a:lnTo>
                    <a:lnTo>
                      <a:pt x="280" y="443"/>
                    </a:lnTo>
                    <a:lnTo>
                      <a:pt x="315" y="431"/>
                    </a:lnTo>
                    <a:lnTo>
                      <a:pt x="332" y="414"/>
                    </a:lnTo>
                    <a:lnTo>
                      <a:pt x="326" y="397"/>
                    </a:lnTo>
                    <a:lnTo>
                      <a:pt x="274" y="350"/>
                    </a:lnTo>
                    <a:lnTo>
                      <a:pt x="191" y="268"/>
                    </a:lnTo>
                    <a:lnTo>
                      <a:pt x="116" y="199"/>
                    </a:lnTo>
                    <a:lnTo>
                      <a:pt x="34" y="123"/>
                    </a:lnTo>
                    <a:lnTo>
                      <a:pt x="5" y="69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577840" y="5841720"/>
                <a:ext cx="176760" cy="482760"/>
              </a:xfrm>
              <a:custGeom>
                <a:avLst/>
                <a:gdLst/>
                <a:ahLst/>
                <a:rect l="l" t="t" r="r" b="b"/>
                <a:pathLst>
                  <a:path w="449" h="1046">
                    <a:moveTo>
                      <a:pt x="222" y="0"/>
                    </a:moveTo>
                    <a:lnTo>
                      <a:pt x="286" y="12"/>
                    </a:lnTo>
                    <a:lnTo>
                      <a:pt x="315" y="59"/>
                    </a:lnTo>
                    <a:lnTo>
                      <a:pt x="309" y="170"/>
                    </a:lnTo>
                    <a:lnTo>
                      <a:pt x="298" y="287"/>
                    </a:lnTo>
                    <a:lnTo>
                      <a:pt x="298" y="409"/>
                    </a:lnTo>
                    <a:lnTo>
                      <a:pt x="356" y="555"/>
                    </a:lnTo>
                    <a:lnTo>
                      <a:pt x="402" y="660"/>
                    </a:lnTo>
                    <a:lnTo>
                      <a:pt x="426" y="766"/>
                    </a:lnTo>
                    <a:lnTo>
                      <a:pt x="420" y="859"/>
                    </a:lnTo>
                    <a:lnTo>
                      <a:pt x="420" y="894"/>
                    </a:lnTo>
                    <a:lnTo>
                      <a:pt x="443" y="929"/>
                    </a:lnTo>
                    <a:lnTo>
                      <a:pt x="449" y="964"/>
                    </a:lnTo>
                    <a:lnTo>
                      <a:pt x="432" y="981"/>
                    </a:lnTo>
                    <a:lnTo>
                      <a:pt x="385" y="970"/>
                    </a:lnTo>
                    <a:lnTo>
                      <a:pt x="298" y="958"/>
                    </a:lnTo>
                    <a:lnTo>
                      <a:pt x="193" y="981"/>
                    </a:lnTo>
                    <a:lnTo>
                      <a:pt x="123" y="1022"/>
                    </a:lnTo>
                    <a:lnTo>
                      <a:pt x="88" y="1046"/>
                    </a:lnTo>
                    <a:lnTo>
                      <a:pt x="53" y="1046"/>
                    </a:lnTo>
                    <a:lnTo>
                      <a:pt x="0" y="970"/>
                    </a:lnTo>
                    <a:lnTo>
                      <a:pt x="6" y="958"/>
                    </a:lnTo>
                    <a:lnTo>
                      <a:pt x="112" y="923"/>
                    </a:lnTo>
                    <a:lnTo>
                      <a:pt x="234" y="906"/>
                    </a:lnTo>
                    <a:lnTo>
                      <a:pt x="321" y="900"/>
                    </a:lnTo>
                    <a:lnTo>
                      <a:pt x="373" y="900"/>
                    </a:lnTo>
                    <a:lnTo>
                      <a:pt x="385" y="865"/>
                    </a:lnTo>
                    <a:lnTo>
                      <a:pt x="368" y="766"/>
                    </a:lnTo>
                    <a:lnTo>
                      <a:pt x="327" y="660"/>
                    </a:lnTo>
                    <a:lnTo>
                      <a:pt x="263" y="526"/>
                    </a:lnTo>
                    <a:lnTo>
                      <a:pt x="210" y="409"/>
                    </a:lnTo>
                    <a:lnTo>
                      <a:pt x="187" y="304"/>
                    </a:lnTo>
                    <a:lnTo>
                      <a:pt x="181" y="188"/>
                    </a:lnTo>
                    <a:lnTo>
                      <a:pt x="181" y="76"/>
                    </a:lnTo>
                    <a:lnTo>
                      <a:pt x="205" y="30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491080" y="5855760"/>
                <a:ext cx="146520" cy="401400"/>
              </a:xfrm>
              <a:custGeom>
                <a:avLst/>
                <a:gdLst/>
                <a:ahLst/>
                <a:rect l="l" t="t" r="r" b="b"/>
                <a:pathLst>
                  <a:path w="373" h="870">
                    <a:moveTo>
                      <a:pt x="280" y="0"/>
                    </a:moveTo>
                    <a:lnTo>
                      <a:pt x="332" y="0"/>
                    </a:lnTo>
                    <a:lnTo>
                      <a:pt x="350" y="35"/>
                    </a:lnTo>
                    <a:lnTo>
                      <a:pt x="361" y="112"/>
                    </a:lnTo>
                    <a:lnTo>
                      <a:pt x="350" y="193"/>
                    </a:lnTo>
                    <a:lnTo>
                      <a:pt x="321" y="356"/>
                    </a:lnTo>
                    <a:lnTo>
                      <a:pt x="326" y="426"/>
                    </a:lnTo>
                    <a:lnTo>
                      <a:pt x="361" y="566"/>
                    </a:lnTo>
                    <a:lnTo>
                      <a:pt x="373" y="665"/>
                    </a:lnTo>
                    <a:lnTo>
                      <a:pt x="373" y="742"/>
                    </a:lnTo>
                    <a:lnTo>
                      <a:pt x="356" y="759"/>
                    </a:lnTo>
                    <a:lnTo>
                      <a:pt x="303" y="771"/>
                    </a:lnTo>
                    <a:lnTo>
                      <a:pt x="232" y="788"/>
                    </a:lnTo>
                    <a:lnTo>
                      <a:pt x="163" y="823"/>
                    </a:lnTo>
                    <a:lnTo>
                      <a:pt x="93" y="870"/>
                    </a:lnTo>
                    <a:lnTo>
                      <a:pt x="64" y="870"/>
                    </a:lnTo>
                    <a:lnTo>
                      <a:pt x="0" y="818"/>
                    </a:lnTo>
                    <a:lnTo>
                      <a:pt x="6" y="794"/>
                    </a:lnTo>
                    <a:lnTo>
                      <a:pt x="87" y="759"/>
                    </a:lnTo>
                    <a:lnTo>
                      <a:pt x="227" y="724"/>
                    </a:lnTo>
                    <a:lnTo>
                      <a:pt x="292" y="700"/>
                    </a:lnTo>
                    <a:lnTo>
                      <a:pt x="303" y="677"/>
                    </a:lnTo>
                    <a:lnTo>
                      <a:pt x="303" y="578"/>
                    </a:lnTo>
                    <a:lnTo>
                      <a:pt x="280" y="450"/>
                    </a:lnTo>
                    <a:lnTo>
                      <a:pt x="268" y="368"/>
                    </a:lnTo>
                    <a:lnTo>
                      <a:pt x="257" y="240"/>
                    </a:lnTo>
                    <a:lnTo>
                      <a:pt x="251" y="100"/>
                    </a:lnTo>
                    <a:lnTo>
                      <a:pt x="257" y="35"/>
                    </a:lnTo>
                    <a:lnTo>
                      <a:pt x="28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486400" y="5265000"/>
                <a:ext cx="240840" cy="357840"/>
              </a:xfrm>
              <a:custGeom>
                <a:avLst/>
                <a:gdLst/>
                <a:ahLst/>
                <a:rect l="l" t="t" r="r" b="b"/>
                <a:pathLst>
                  <a:path w="612" h="776">
                    <a:moveTo>
                      <a:pt x="326" y="776"/>
                    </a:moveTo>
                    <a:lnTo>
                      <a:pt x="355" y="740"/>
                    </a:lnTo>
                    <a:lnTo>
                      <a:pt x="344" y="688"/>
                    </a:lnTo>
                    <a:lnTo>
                      <a:pt x="321" y="618"/>
                    </a:lnTo>
                    <a:lnTo>
                      <a:pt x="232" y="536"/>
                    </a:lnTo>
                    <a:lnTo>
                      <a:pt x="145" y="461"/>
                    </a:lnTo>
                    <a:lnTo>
                      <a:pt x="104" y="379"/>
                    </a:lnTo>
                    <a:lnTo>
                      <a:pt x="87" y="251"/>
                    </a:lnTo>
                    <a:lnTo>
                      <a:pt x="186" y="216"/>
                    </a:lnTo>
                    <a:lnTo>
                      <a:pt x="344" y="199"/>
                    </a:lnTo>
                    <a:lnTo>
                      <a:pt x="408" y="205"/>
                    </a:lnTo>
                    <a:lnTo>
                      <a:pt x="425" y="222"/>
                    </a:lnTo>
                    <a:lnTo>
                      <a:pt x="454" y="193"/>
                    </a:lnTo>
                    <a:lnTo>
                      <a:pt x="443" y="164"/>
                    </a:lnTo>
                    <a:lnTo>
                      <a:pt x="460" y="111"/>
                    </a:lnTo>
                    <a:lnTo>
                      <a:pt x="507" y="64"/>
                    </a:lnTo>
                    <a:lnTo>
                      <a:pt x="542" y="52"/>
                    </a:lnTo>
                    <a:lnTo>
                      <a:pt x="588" y="81"/>
                    </a:lnTo>
                    <a:lnTo>
                      <a:pt x="612" y="52"/>
                    </a:lnTo>
                    <a:lnTo>
                      <a:pt x="571" y="0"/>
                    </a:lnTo>
                    <a:lnTo>
                      <a:pt x="518" y="0"/>
                    </a:lnTo>
                    <a:lnTo>
                      <a:pt x="454" y="29"/>
                    </a:lnTo>
                    <a:lnTo>
                      <a:pt x="414" y="105"/>
                    </a:lnTo>
                    <a:lnTo>
                      <a:pt x="361" y="141"/>
                    </a:lnTo>
                    <a:lnTo>
                      <a:pt x="280" y="152"/>
                    </a:lnTo>
                    <a:lnTo>
                      <a:pt x="133" y="170"/>
                    </a:lnTo>
                    <a:lnTo>
                      <a:pt x="17" y="205"/>
                    </a:lnTo>
                    <a:lnTo>
                      <a:pt x="0" y="234"/>
                    </a:lnTo>
                    <a:lnTo>
                      <a:pt x="11" y="327"/>
                    </a:lnTo>
                    <a:lnTo>
                      <a:pt x="52" y="455"/>
                    </a:lnTo>
                    <a:lnTo>
                      <a:pt x="110" y="560"/>
                    </a:lnTo>
                    <a:lnTo>
                      <a:pt x="168" y="653"/>
                    </a:lnTo>
                    <a:lnTo>
                      <a:pt x="221" y="717"/>
                    </a:lnTo>
                    <a:lnTo>
                      <a:pt x="274" y="764"/>
                    </a:lnTo>
                    <a:lnTo>
                      <a:pt x="326" y="77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5805720" y="5181480"/>
              <a:ext cx="82080" cy="121680"/>
              <a:chOff x="5805720" y="5181480"/>
              <a:chExt cx="82080" cy="121680"/>
            </a:xfrm>
          </p:grpSpPr>
          <p:sp>
            <p:nvSpPr>
              <p:cNvPr id="168" name=""/>
              <p:cNvSpPr/>
              <p:nvPr/>
            </p:nvSpPr>
            <p:spPr>
              <a:xfrm>
                <a:off x="5821560" y="5181480"/>
                <a:ext cx="66240" cy="88560"/>
              </a:xfrm>
              <a:custGeom>
                <a:avLst/>
                <a:gdLst/>
                <a:ahLst/>
                <a:rect l="l" t="t" r="r" b="b"/>
                <a:pathLst>
                  <a:path w="169" h="192">
                    <a:moveTo>
                      <a:pt x="52" y="12"/>
                    </a:moveTo>
                    <a:lnTo>
                      <a:pt x="99" y="0"/>
                    </a:lnTo>
                    <a:lnTo>
                      <a:pt x="157" y="17"/>
                    </a:lnTo>
                    <a:lnTo>
                      <a:pt x="169" y="58"/>
                    </a:lnTo>
                    <a:lnTo>
                      <a:pt x="163" y="111"/>
                    </a:lnTo>
                    <a:lnTo>
                      <a:pt x="134" y="145"/>
                    </a:lnTo>
                    <a:lnTo>
                      <a:pt x="93" y="151"/>
                    </a:lnTo>
                    <a:lnTo>
                      <a:pt x="52" y="151"/>
                    </a:lnTo>
                    <a:lnTo>
                      <a:pt x="34" y="169"/>
                    </a:lnTo>
                    <a:lnTo>
                      <a:pt x="34" y="180"/>
                    </a:lnTo>
                    <a:lnTo>
                      <a:pt x="23" y="192"/>
                    </a:lnTo>
                    <a:lnTo>
                      <a:pt x="0" y="186"/>
                    </a:lnTo>
                    <a:lnTo>
                      <a:pt x="5" y="157"/>
                    </a:lnTo>
                    <a:lnTo>
                      <a:pt x="23" y="134"/>
                    </a:lnTo>
                    <a:lnTo>
                      <a:pt x="58" y="116"/>
                    </a:lnTo>
                    <a:lnTo>
                      <a:pt x="93" y="122"/>
                    </a:lnTo>
                    <a:lnTo>
                      <a:pt x="122" y="116"/>
                    </a:lnTo>
                    <a:lnTo>
                      <a:pt x="139" y="87"/>
                    </a:lnTo>
                    <a:lnTo>
                      <a:pt x="139" y="52"/>
                    </a:lnTo>
                    <a:lnTo>
                      <a:pt x="122" y="35"/>
                    </a:lnTo>
                    <a:lnTo>
                      <a:pt x="99" y="35"/>
                    </a:lnTo>
                    <a:lnTo>
                      <a:pt x="75" y="41"/>
                    </a:lnTo>
                    <a:lnTo>
                      <a:pt x="58" y="52"/>
                    </a:lnTo>
                    <a:lnTo>
                      <a:pt x="40" y="41"/>
                    </a:lnTo>
                    <a:lnTo>
                      <a:pt x="52" y="1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805720" y="5281200"/>
                <a:ext cx="1908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finition of Tim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# of seconds (machine dependent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# lines of code execute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# of times a specific operation is performed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(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e.g., addition)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These are all reasonable definitions of time, because they are within a constant factor of each o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396200" y="228600"/>
            <a:ext cx="1062000" cy="31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ze of Input Instance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159000" y="1722600"/>
            <a:ext cx="1905120" cy="1143000"/>
          </a:xfrm>
          <a:prstGeom prst="horizontalScrol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8392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5715000" y="1676520"/>
            <a:ext cx="401400" cy="1143000"/>
            <a:chOff x="5715000" y="1676520"/>
            <a:chExt cx="401400" cy="1143000"/>
          </a:xfrm>
        </p:grpSpPr>
        <p:grpSp>
          <p:nvGrpSpPr>
            <p:cNvPr id="176" name=""/>
            <p:cNvGrpSpPr/>
            <p:nvPr/>
          </p:nvGrpSpPr>
          <p:grpSpPr>
            <a:xfrm>
              <a:off x="5715000" y="1760040"/>
              <a:ext cx="360360" cy="1059480"/>
              <a:chOff x="5715000" y="1760040"/>
              <a:chExt cx="360360" cy="1059480"/>
            </a:xfrm>
          </p:grpSpPr>
          <p:sp>
            <p:nvSpPr>
              <p:cNvPr id="177" name=""/>
              <p:cNvSpPr/>
              <p:nvPr/>
            </p:nvSpPr>
            <p:spPr>
              <a:xfrm>
                <a:off x="5806440" y="1801440"/>
                <a:ext cx="211680" cy="242280"/>
              </a:xfrm>
              <a:custGeom>
                <a:avLst/>
                <a:gdLst/>
                <a:ahLst/>
                <a:rect l="l" t="t" r="r" b="b"/>
                <a:pathLst>
                  <a:path w="538" h="525">
                    <a:moveTo>
                      <a:pt x="164" y="222"/>
                    </a:moveTo>
                    <a:lnTo>
                      <a:pt x="211" y="152"/>
                    </a:lnTo>
                    <a:lnTo>
                      <a:pt x="263" y="100"/>
                    </a:lnTo>
                    <a:lnTo>
                      <a:pt x="316" y="35"/>
                    </a:lnTo>
                    <a:lnTo>
                      <a:pt x="380" y="6"/>
                    </a:lnTo>
                    <a:lnTo>
                      <a:pt x="432" y="0"/>
                    </a:lnTo>
                    <a:lnTo>
                      <a:pt x="485" y="17"/>
                    </a:lnTo>
                    <a:lnTo>
                      <a:pt x="514" y="59"/>
                    </a:lnTo>
                    <a:lnTo>
                      <a:pt x="538" y="135"/>
                    </a:lnTo>
                    <a:lnTo>
                      <a:pt x="531" y="216"/>
                    </a:lnTo>
                    <a:lnTo>
                      <a:pt x="508" y="286"/>
                    </a:lnTo>
                    <a:lnTo>
                      <a:pt x="450" y="368"/>
                    </a:lnTo>
                    <a:lnTo>
                      <a:pt x="386" y="426"/>
                    </a:lnTo>
                    <a:lnTo>
                      <a:pt x="316" y="478"/>
                    </a:lnTo>
                    <a:lnTo>
                      <a:pt x="240" y="513"/>
                    </a:lnTo>
                    <a:lnTo>
                      <a:pt x="176" y="525"/>
                    </a:lnTo>
                    <a:lnTo>
                      <a:pt x="147" y="508"/>
                    </a:lnTo>
                    <a:lnTo>
                      <a:pt x="123" y="438"/>
                    </a:lnTo>
                    <a:lnTo>
                      <a:pt x="129" y="345"/>
                    </a:lnTo>
                    <a:lnTo>
                      <a:pt x="17" y="350"/>
                    </a:lnTo>
                    <a:lnTo>
                      <a:pt x="0" y="333"/>
                    </a:lnTo>
                    <a:lnTo>
                      <a:pt x="17" y="298"/>
                    </a:lnTo>
                    <a:lnTo>
                      <a:pt x="135" y="292"/>
                    </a:lnTo>
                    <a:lnTo>
                      <a:pt x="164" y="22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795280" y="2056680"/>
                <a:ext cx="146520" cy="356040"/>
              </a:xfrm>
              <a:custGeom>
                <a:avLst/>
                <a:gdLst/>
                <a:ahLst/>
                <a:rect l="l" t="t" r="r" b="b"/>
                <a:pathLst>
                  <a:path w="373" h="772">
                    <a:moveTo>
                      <a:pt x="106" y="65"/>
                    </a:moveTo>
                    <a:lnTo>
                      <a:pt x="158" y="18"/>
                    </a:lnTo>
                    <a:lnTo>
                      <a:pt x="239" y="0"/>
                    </a:lnTo>
                    <a:lnTo>
                      <a:pt x="309" y="12"/>
                    </a:lnTo>
                    <a:lnTo>
                      <a:pt x="361" y="59"/>
                    </a:lnTo>
                    <a:lnTo>
                      <a:pt x="373" y="94"/>
                    </a:lnTo>
                    <a:lnTo>
                      <a:pt x="373" y="141"/>
                    </a:lnTo>
                    <a:lnTo>
                      <a:pt x="350" y="182"/>
                    </a:lnTo>
                    <a:lnTo>
                      <a:pt x="309" y="252"/>
                    </a:lnTo>
                    <a:lnTo>
                      <a:pt x="292" y="334"/>
                    </a:lnTo>
                    <a:lnTo>
                      <a:pt x="286" y="403"/>
                    </a:lnTo>
                    <a:lnTo>
                      <a:pt x="303" y="479"/>
                    </a:lnTo>
                    <a:lnTo>
                      <a:pt x="350" y="549"/>
                    </a:lnTo>
                    <a:lnTo>
                      <a:pt x="367" y="619"/>
                    </a:lnTo>
                    <a:lnTo>
                      <a:pt x="361" y="683"/>
                    </a:lnTo>
                    <a:lnTo>
                      <a:pt x="327" y="737"/>
                    </a:lnTo>
                    <a:lnTo>
                      <a:pt x="280" y="766"/>
                    </a:lnTo>
                    <a:lnTo>
                      <a:pt x="222" y="772"/>
                    </a:lnTo>
                    <a:lnTo>
                      <a:pt x="152" y="772"/>
                    </a:lnTo>
                    <a:lnTo>
                      <a:pt x="100" y="742"/>
                    </a:lnTo>
                    <a:lnTo>
                      <a:pt x="46" y="654"/>
                    </a:lnTo>
                    <a:lnTo>
                      <a:pt x="12" y="578"/>
                    </a:lnTo>
                    <a:lnTo>
                      <a:pt x="0" y="462"/>
                    </a:lnTo>
                    <a:lnTo>
                      <a:pt x="12" y="357"/>
                    </a:lnTo>
                    <a:lnTo>
                      <a:pt x="35" y="246"/>
                    </a:lnTo>
                    <a:lnTo>
                      <a:pt x="71" y="135"/>
                    </a:lnTo>
                    <a:lnTo>
                      <a:pt x="106" y="6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912640" y="2068200"/>
                <a:ext cx="162720" cy="320040"/>
              </a:xfrm>
              <a:custGeom>
                <a:avLst/>
                <a:gdLst/>
                <a:ahLst/>
                <a:rect l="l" t="t" r="r" b="b"/>
                <a:pathLst>
                  <a:path w="414" h="694">
                    <a:moveTo>
                      <a:pt x="0" y="34"/>
                    </a:moveTo>
                    <a:lnTo>
                      <a:pt x="5" y="5"/>
                    </a:lnTo>
                    <a:lnTo>
                      <a:pt x="69" y="0"/>
                    </a:lnTo>
                    <a:lnTo>
                      <a:pt x="104" y="29"/>
                    </a:lnTo>
                    <a:lnTo>
                      <a:pt x="157" y="105"/>
                    </a:lnTo>
                    <a:lnTo>
                      <a:pt x="226" y="204"/>
                    </a:lnTo>
                    <a:lnTo>
                      <a:pt x="291" y="274"/>
                    </a:lnTo>
                    <a:lnTo>
                      <a:pt x="408" y="402"/>
                    </a:lnTo>
                    <a:lnTo>
                      <a:pt x="414" y="431"/>
                    </a:lnTo>
                    <a:lnTo>
                      <a:pt x="390" y="449"/>
                    </a:lnTo>
                    <a:lnTo>
                      <a:pt x="332" y="472"/>
                    </a:lnTo>
                    <a:lnTo>
                      <a:pt x="250" y="490"/>
                    </a:lnTo>
                    <a:lnTo>
                      <a:pt x="151" y="496"/>
                    </a:lnTo>
                    <a:lnTo>
                      <a:pt x="116" y="501"/>
                    </a:lnTo>
                    <a:lnTo>
                      <a:pt x="104" y="525"/>
                    </a:lnTo>
                    <a:lnTo>
                      <a:pt x="127" y="565"/>
                    </a:lnTo>
                    <a:lnTo>
                      <a:pt x="209" y="635"/>
                    </a:lnTo>
                    <a:lnTo>
                      <a:pt x="268" y="653"/>
                    </a:lnTo>
                    <a:lnTo>
                      <a:pt x="280" y="676"/>
                    </a:lnTo>
                    <a:lnTo>
                      <a:pt x="255" y="694"/>
                    </a:lnTo>
                    <a:lnTo>
                      <a:pt x="203" y="694"/>
                    </a:lnTo>
                    <a:lnTo>
                      <a:pt x="133" y="653"/>
                    </a:lnTo>
                    <a:lnTo>
                      <a:pt x="75" y="595"/>
                    </a:lnTo>
                    <a:lnTo>
                      <a:pt x="40" y="542"/>
                    </a:lnTo>
                    <a:lnTo>
                      <a:pt x="40" y="501"/>
                    </a:lnTo>
                    <a:lnTo>
                      <a:pt x="63" y="472"/>
                    </a:lnTo>
                    <a:lnTo>
                      <a:pt x="98" y="461"/>
                    </a:lnTo>
                    <a:lnTo>
                      <a:pt x="151" y="455"/>
                    </a:lnTo>
                    <a:lnTo>
                      <a:pt x="209" y="455"/>
                    </a:lnTo>
                    <a:lnTo>
                      <a:pt x="280" y="443"/>
                    </a:lnTo>
                    <a:lnTo>
                      <a:pt x="315" y="431"/>
                    </a:lnTo>
                    <a:lnTo>
                      <a:pt x="332" y="414"/>
                    </a:lnTo>
                    <a:lnTo>
                      <a:pt x="326" y="397"/>
                    </a:lnTo>
                    <a:lnTo>
                      <a:pt x="274" y="350"/>
                    </a:lnTo>
                    <a:lnTo>
                      <a:pt x="191" y="268"/>
                    </a:lnTo>
                    <a:lnTo>
                      <a:pt x="116" y="199"/>
                    </a:lnTo>
                    <a:lnTo>
                      <a:pt x="34" y="123"/>
                    </a:lnTo>
                    <a:lnTo>
                      <a:pt x="5" y="69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806440" y="2336760"/>
                <a:ext cx="176760" cy="482760"/>
              </a:xfrm>
              <a:custGeom>
                <a:avLst/>
                <a:gdLst/>
                <a:ahLst/>
                <a:rect l="l" t="t" r="r" b="b"/>
                <a:pathLst>
                  <a:path w="449" h="1046">
                    <a:moveTo>
                      <a:pt x="222" y="0"/>
                    </a:moveTo>
                    <a:lnTo>
                      <a:pt x="286" y="12"/>
                    </a:lnTo>
                    <a:lnTo>
                      <a:pt x="315" y="59"/>
                    </a:lnTo>
                    <a:lnTo>
                      <a:pt x="309" y="170"/>
                    </a:lnTo>
                    <a:lnTo>
                      <a:pt x="298" y="287"/>
                    </a:lnTo>
                    <a:lnTo>
                      <a:pt x="298" y="409"/>
                    </a:lnTo>
                    <a:lnTo>
                      <a:pt x="356" y="555"/>
                    </a:lnTo>
                    <a:lnTo>
                      <a:pt x="402" y="660"/>
                    </a:lnTo>
                    <a:lnTo>
                      <a:pt x="426" y="766"/>
                    </a:lnTo>
                    <a:lnTo>
                      <a:pt x="420" y="859"/>
                    </a:lnTo>
                    <a:lnTo>
                      <a:pt x="420" y="894"/>
                    </a:lnTo>
                    <a:lnTo>
                      <a:pt x="443" y="929"/>
                    </a:lnTo>
                    <a:lnTo>
                      <a:pt x="449" y="964"/>
                    </a:lnTo>
                    <a:lnTo>
                      <a:pt x="432" y="981"/>
                    </a:lnTo>
                    <a:lnTo>
                      <a:pt x="385" y="970"/>
                    </a:lnTo>
                    <a:lnTo>
                      <a:pt x="298" y="958"/>
                    </a:lnTo>
                    <a:lnTo>
                      <a:pt x="193" y="981"/>
                    </a:lnTo>
                    <a:lnTo>
                      <a:pt x="123" y="1022"/>
                    </a:lnTo>
                    <a:lnTo>
                      <a:pt x="88" y="1046"/>
                    </a:lnTo>
                    <a:lnTo>
                      <a:pt x="53" y="1046"/>
                    </a:lnTo>
                    <a:lnTo>
                      <a:pt x="0" y="970"/>
                    </a:lnTo>
                    <a:lnTo>
                      <a:pt x="6" y="958"/>
                    </a:lnTo>
                    <a:lnTo>
                      <a:pt x="112" y="923"/>
                    </a:lnTo>
                    <a:lnTo>
                      <a:pt x="234" y="906"/>
                    </a:lnTo>
                    <a:lnTo>
                      <a:pt x="321" y="900"/>
                    </a:lnTo>
                    <a:lnTo>
                      <a:pt x="373" y="900"/>
                    </a:lnTo>
                    <a:lnTo>
                      <a:pt x="385" y="865"/>
                    </a:lnTo>
                    <a:lnTo>
                      <a:pt x="368" y="766"/>
                    </a:lnTo>
                    <a:lnTo>
                      <a:pt x="327" y="660"/>
                    </a:lnTo>
                    <a:lnTo>
                      <a:pt x="263" y="526"/>
                    </a:lnTo>
                    <a:lnTo>
                      <a:pt x="210" y="409"/>
                    </a:lnTo>
                    <a:lnTo>
                      <a:pt x="187" y="304"/>
                    </a:lnTo>
                    <a:lnTo>
                      <a:pt x="181" y="188"/>
                    </a:lnTo>
                    <a:lnTo>
                      <a:pt x="181" y="76"/>
                    </a:lnTo>
                    <a:lnTo>
                      <a:pt x="205" y="30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719680" y="2350800"/>
                <a:ext cx="146520" cy="401400"/>
              </a:xfrm>
              <a:custGeom>
                <a:avLst/>
                <a:gdLst/>
                <a:ahLst/>
                <a:rect l="l" t="t" r="r" b="b"/>
                <a:pathLst>
                  <a:path w="373" h="870">
                    <a:moveTo>
                      <a:pt x="280" y="0"/>
                    </a:moveTo>
                    <a:lnTo>
                      <a:pt x="332" y="0"/>
                    </a:lnTo>
                    <a:lnTo>
                      <a:pt x="350" y="35"/>
                    </a:lnTo>
                    <a:lnTo>
                      <a:pt x="361" y="112"/>
                    </a:lnTo>
                    <a:lnTo>
                      <a:pt x="350" y="193"/>
                    </a:lnTo>
                    <a:lnTo>
                      <a:pt x="321" y="356"/>
                    </a:lnTo>
                    <a:lnTo>
                      <a:pt x="326" y="426"/>
                    </a:lnTo>
                    <a:lnTo>
                      <a:pt x="361" y="566"/>
                    </a:lnTo>
                    <a:lnTo>
                      <a:pt x="373" y="665"/>
                    </a:lnTo>
                    <a:lnTo>
                      <a:pt x="373" y="742"/>
                    </a:lnTo>
                    <a:lnTo>
                      <a:pt x="356" y="759"/>
                    </a:lnTo>
                    <a:lnTo>
                      <a:pt x="303" y="771"/>
                    </a:lnTo>
                    <a:lnTo>
                      <a:pt x="232" y="788"/>
                    </a:lnTo>
                    <a:lnTo>
                      <a:pt x="163" y="823"/>
                    </a:lnTo>
                    <a:lnTo>
                      <a:pt x="93" y="870"/>
                    </a:lnTo>
                    <a:lnTo>
                      <a:pt x="64" y="870"/>
                    </a:lnTo>
                    <a:lnTo>
                      <a:pt x="0" y="818"/>
                    </a:lnTo>
                    <a:lnTo>
                      <a:pt x="6" y="794"/>
                    </a:lnTo>
                    <a:lnTo>
                      <a:pt x="87" y="759"/>
                    </a:lnTo>
                    <a:lnTo>
                      <a:pt x="227" y="724"/>
                    </a:lnTo>
                    <a:lnTo>
                      <a:pt x="292" y="700"/>
                    </a:lnTo>
                    <a:lnTo>
                      <a:pt x="303" y="677"/>
                    </a:lnTo>
                    <a:lnTo>
                      <a:pt x="303" y="578"/>
                    </a:lnTo>
                    <a:lnTo>
                      <a:pt x="280" y="450"/>
                    </a:lnTo>
                    <a:lnTo>
                      <a:pt x="268" y="368"/>
                    </a:lnTo>
                    <a:lnTo>
                      <a:pt x="257" y="240"/>
                    </a:lnTo>
                    <a:lnTo>
                      <a:pt x="251" y="100"/>
                    </a:lnTo>
                    <a:lnTo>
                      <a:pt x="257" y="35"/>
                    </a:lnTo>
                    <a:lnTo>
                      <a:pt x="28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715000" y="1760040"/>
                <a:ext cx="240840" cy="357840"/>
              </a:xfrm>
              <a:custGeom>
                <a:avLst/>
                <a:gdLst/>
                <a:ahLst/>
                <a:rect l="l" t="t" r="r" b="b"/>
                <a:pathLst>
                  <a:path w="612" h="776">
                    <a:moveTo>
                      <a:pt x="326" y="776"/>
                    </a:moveTo>
                    <a:lnTo>
                      <a:pt x="355" y="740"/>
                    </a:lnTo>
                    <a:lnTo>
                      <a:pt x="344" y="688"/>
                    </a:lnTo>
                    <a:lnTo>
                      <a:pt x="321" y="618"/>
                    </a:lnTo>
                    <a:lnTo>
                      <a:pt x="232" y="536"/>
                    </a:lnTo>
                    <a:lnTo>
                      <a:pt x="145" y="461"/>
                    </a:lnTo>
                    <a:lnTo>
                      <a:pt x="104" y="379"/>
                    </a:lnTo>
                    <a:lnTo>
                      <a:pt x="87" y="251"/>
                    </a:lnTo>
                    <a:lnTo>
                      <a:pt x="186" y="216"/>
                    </a:lnTo>
                    <a:lnTo>
                      <a:pt x="344" y="199"/>
                    </a:lnTo>
                    <a:lnTo>
                      <a:pt x="408" y="205"/>
                    </a:lnTo>
                    <a:lnTo>
                      <a:pt x="425" y="222"/>
                    </a:lnTo>
                    <a:lnTo>
                      <a:pt x="454" y="193"/>
                    </a:lnTo>
                    <a:lnTo>
                      <a:pt x="443" y="164"/>
                    </a:lnTo>
                    <a:lnTo>
                      <a:pt x="460" y="111"/>
                    </a:lnTo>
                    <a:lnTo>
                      <a:pt x="507" y="64"/>
                    </a:lnTo>
                    <a:lnTo>
                      <a:pt x="542" y="52"/>
                    </a:lnTo>
                    <a:lnTo>
                      <a:pt x="588" y="81"/>
                    </a:lnTo>
                    <a:lnTo>
                      <a:pt x="612" y="52"/>
                    </a:lnTo>
                    <a:lnTo>
                      <a:pt x="571" y="0"/>
                    </a:lnTo>
                    <a:lnTo>
                      <a:pt x="518" y="0"/>
                    </a:lnTo>
                    <a:lnTo>
                      <a:pt x="454" y="29"/>
                    </a:lnTo>
                    <a:lnTo>
                      <a:pt x="414" y="105"/>
                    </a:lnTo>
                    <a:lnTo>
                      <a:pt x="361" y="141"/>
                    </a:lnTo>
                    <a:lnTo>
                      <a:pt x="280" y="152"/>
                    </a:lnTo>
                    <a:lnTo>
                      <a:pt x="133" y="170"/>
                    </a:lnTo>
                    <a:lnTo>
                      <a:pt x="17" y="205"/>
                    </a:lnTo>
                    <a:lnTo>
                      <a:pt x="0" y="234"/>
                    </a:lnTo>
                    <a:lnTo>
                      <a:pt x="11" y="327"/>
                    </a:lnTo>
                    <a:lnTo>
                      <a:pt x="52" y="455"/>
                    </a:lnTo>
                    <a:lnTo>
                      <a:pt x="110" y="560"/>
                    </a:lnTo>
                    <a:lnTo>
                      <a:pt x="168" y="653"/>
                    </a:lnTo>
                    <a:lnTo>
                      <a:pt x="221" y="717"/>
                    </a:lnTo>
                    <a:lnTo>
                      <a:pt x="274" y="764"/>
                    </a:lnTo>
                    <a:lnTo>
                      <a:pt x="326" y="77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6034320" y="1676520"/>
              <a:ext cx="82080" cy="121680"/>
              <a:chOff x="6034320" y="1676520"/>
              <a:chExt cx="82080" cy="121680"/>
            </a:xfrm>
          </p:grpSpPr>
          <p:sp>
            <p:nvSpPr>
              <p:cNvPr id="184" name=""/>
              <p:cNvSpPr/>
              <p:nvPr/>
            </p:nvSpPr>
            <p:spPr>
              <a:xfrm>
                <a:off x="6050160" y="1676520"/>
                <a:ext cx="66240" cy="88560"/>
              </a:xfrm>
              <a:custGeom>
                <a:avLst/>
                <a:gdLst/>
                <a:ahLst/>
                <a:rect l="l" t="t" r="r" b="b"/>
                <a:pathLst>
                  <a:path w="169" h="192">
                    <a:moveTo>
                      <a:pt x="52" y="12"/>
                    </a:moveTo>
                    <a:lnTo>
                      <a:pt x="99" y="0"/>
                    </a:lnTo>
                    <a:lnTo>
                      <a:pt x="157" y="17"/>
                    </a:lnTo>
                    <a:lnTo>
                      <a:pt x="169" y="58"/>
                    </a:lnTo>
                    <a:lnTo>
                      <a:pt x="163" y="111"/>
                    </a:lnTo>
                    <a:lnTo>
                      <a:pt x="134" y="145"/>
                    </a:lnTo>
                    <a:lnTo>
                      <a:pt x="93" y="151"/>
                    </a:lnTo>
                    <a:lnTo>
                      <a:pt x="52" y="151"/>
                    </a:lnTo>
                    <a:lnTo>
                      <a:pt x="34" y="169"/>
                    </a:lnTo>
                    <a:lnTo>
                      <a:pt x="34" y="180"/>
                    </a:lnTo>
                    <a:lnTo>
                      <a:pt x="23" y="192"/>
                    </a:lnTo>
                    <a:lnTo>
                      <a:pt x="0" y="186"/>
                    </a:lnTo>
                    <a:lnTo>
                      <a:pt x="5" y="157"/>
                    </a:lnTo>
                    <a:lnTo>
                      <a:pt x="23" y="134"/>
                    </a:lnTo>
                    <a:lnTo>
                      <a:pt x="58" y="116"/>
                    </a:lnTo>
                    <a:lnTo>
                      <a:pt x="93" y="122"/>
                    </a:lnTo>
                    <a:lnTo>
                      <a:pt x="122" y="116"/>
                    </a:lnTo>
                    <a:lnTo>
                      <a:pt x="139" y="87"/>
                    </a:lnTo>
                    <a:lnTo>
                      <a:pt x="139" y="52"/>
                    </a:lnTo>
                    <a:lnTo>
                      <a:pt x="122" y="35"/>
                    </a:lnTo>
                    <a:lnTo>
                      <a:pt x="99" y="35"/>
                    </a:lnTo>
                    <a:lnTo>
                      <a:pt x="75" y="41"/>
                    </a:lnTo>
                    <a:lnTo>
                      <a:pt x="58" y="52"/>
                    </a:lnTo>
                    <a:lnTo>
                      <a:pt x="40" y="41"/>
                    </a:lnTo>
                    <a:lnTo>
                      <a:pt x="52" y="1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034320" y="1776240"/>
                <a:ext cx="1908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ze of Input Insta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350532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ze of pap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# of b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# of dig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lue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2666880" y="3505320"/>
            <a:ext cx="2895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- n = 2 in</a:t>
            </a:r>
            <a:r>
              <a:rPr b="0" lang="en-US" sz="2800" spc="-1" strike="noStrike" baseline="30000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- n = 17 b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- n = 5 dig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- n = 8392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159000" y="1143000"/>
            <a:ext cx="2860200" cy="2364120"/>
            <a:chOff x="3159000" y="1143000"/>
            <a:chExt cx="2860200" cy="2364120"/>
          </a:xfrm>
        </p:grpSpPr>
        <p:sp>
          <p:nvSpPr>
            <p:cNvPr id="190" name=""/>
            <p:cNvSpPr/>
            <p:nvPr/>
          </p:nvSpPr>
          <p:spPr>
            <a:xfrm>
              <a:off x="3997800" y="2925720"/>
              <a:ext cx="65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2’’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159000" y="1722600"/>
              <a:ext cx="1905120" cy="1143000"/>
            </a:xfrm>
            <a:prstGeom prst="horizontalScroll">
              <a:avLst>
                <a:gd name="adj" fmla="val 125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imes New Roman"/>
                </a:rPr>
                <a:t>83920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 rot="5400000">
              <a:off x="3958920" y="1149840"/>
              <a:ext cx="304920" cy="129528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922200" y="1143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32080" y="2941560"/>
              <a:ext cx="18288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292720" y="1798560"/>
              <a:ext cx="0" cy="106704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362920" y="2027160"/>
              <a:ext cx="65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1’’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5638680" y="44197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hich are reasonabl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257800" y="3656160"/>
            <a:ext cx="306360" cy="1906560"/>
          </a:xfrm>
          <a:custGeom>
            <a:avLst/>
            <a:gdLst>
              <a:gd name="textAreaLeft" fmla="*/ 0 w 306360"/>
              <a:gd name="textAreaRight" fmla="*/ 110520 w 306360"/>
              <a:gd name="textAreaTop" fmla="*/ 49680 h 1906560"/>
              <a:gd name="textAreaBottom" fmla="*/ 1856880 h 190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8610480" y="4419720"/>
            <a:ext cx="401400" cy="1143000"/>
            <a:chOff x="8610480" y="4419720"/>
            <a:chExt cx="401400" cy="1143000"/>
          </a:xfrm>
        </p:grpSpPr>
        <p:grpSp>
          <p:nvGrpSpPr>
            <p:cNvPr id="200" name=""/>
            <p:cNvGrpSpPr/>
            <p:nvPr/>
          </p:nvGrpSpPr>
          <p:grpSpPr>
            <a:xfrm>
              <a:off x="8610480" y="4503240"/>
              <a:ext cx="360360" cy="1059480"/>
              <a:chOff x="8610480" y="4503240"/>
              <a:chExt cx="360360" cy="1059480"/>
            </a:xfrm>
          </p:grpSpPr>
          <p:sp>
            <p:nvSpPr>
              <p:cNvPr id="201" name=""/>
              <p:cNvSpPr/>
              <p:nvPr/>
            </p:nvSpPr>
            <p:spPr>
              <a:xfrm>
                <a:off x="8701920" y="4544640"/>
                <a:ext cx="211680" cy="242280"/>
              </a:xfrm>
              <a:custGeom>
                <a:avLst/>
                <a:gdLst/>
                <a:ahLst/>
                <a:rect l="l" t="t" r="r" b="b"/>
                <a:pathLst>
                  <a:path w="538" h="525">
                    <a:moveTo>
                      <a:pt x="164" y="222"/>
                    </a:moveTo>
                    <a:lnTo>
                      <a:pt x="211" y="152"/>
                    </a:lnTo>
                    <a:lnTo>
                      <a:pt x="263" y="100"/>
                    </a:lnTo>
                    <a:lnTo>
                      <a:pt x="316" y="35"/>
                    </a:lnTo>
                    <a:lnTo>
                      <a:pt x="380" y="6"/>
                    </a:lnTo>
                    <a:lnTo>
                      <a:pt x="432" y="0"/>
                    </a:lnTo>
                    <a:lnTo>
                      <a:pt x="485" y="17"/>
                    </a:lnTo>
                    <a:lnTo>
                      <a:pt x="514" y="59"/>
                    </a:lnTo>
                    <a:lnTo>
                      <a:pt x="538" y="135"/>
                    </a:lnTo>
                    <a:lnTo>
                      <a:pt x="531" y="216"/>
                    </a:lnTo>
                    <a:lnTo>
                      <a:pt x="508" y="286"/>
                    </a:lnTo>
                    <a:lnTo>
                      <a:pt x="450" y="368"/>
                    </a:lnTo>
                    <a:lnTo>
                      <a:pt x="386" y="426"/>
                    </a:lnTo>
                    <a:lnTo>
                      <a:pt x="316" y="478"/>
                    </a:lnTo>
                    <a:lnTo>
                      <a:pt x="240" y="513"/>
                    </a:lnTo>
                    <a:lnTo>
                      <a:pt x="176" y="525"/>
                    </a:lnTo>
                    <a:lnTo>
                      <a:pt x="147" y="508"/>
                    </a:lnTo>
                    <a:lnTo>
                      <a:pt x="123" y="438"/>
                    </a:lnTo>
                    <a:lnTo>
                      <a:pt x="129" y="345"/>
                    </a:lnTo>
                    <a:lnTo>
                      <a:pt x="17" y="350"/>
                    </a:lnTo>
                    <a:lnTo>
                      <a:pt x="0" y="333"/>
                    </a:lnTo>
                    <a:lnTo>
                      <a:pt x="17" y="298"/>
                    </a:lnTo>
                    <a:lnTo>
                      <a:pt x="135" y="292"/>
                    </a:lnTo>
                    <a:lnTo>
                      <a:pt x="164" y="22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690760" y="4799880"/>
                <a:ext cx="146520" cy="356040"/>
              </a:xfrm>
              <a:custGeom>
                <a:avLst/>
                <a:gdLst/>
                <a:ahLst/>
                <a:rect l="l" t="t" r="r" b="b"/>
                <a:pathLst>
                  <a:path w="373" h="772">
                    <a:moveTo>
                      <a:pt x="106" y="65"/>
                    </a:moveTo>
                    <a:lnTo>
                      <a:pt x="158" y="18"/>
                    </a:lnTo>
                    <a:lnTo>
                      <a:pt x="239" y="0"/>
                    </a:lnTo>
                    <a:lnTo>
                      <a:pt x="309" y="12"/>
                    </a:lnTo>
                    <a:lnTo>
                      <a:pt x="361" y="59"/>
                    </a:lnTo>
                    <a:lnTo>
                      <a:pt x="373" y="94"/>
                    </a:lnTo>
                    <a:lnTo>
                      <a:pt x="373" y="141"/>
                    </a:lnTo>
                    <a:lnTo>
                      <a:pt x="350" y="182"/>
                    </a:lnTo>
                    <a:lnTo>
                      <a:pt x="309" y="252"/>
                    </a:lnTo>
                    <a:lnTo>
                      <a:pt x="292" y="334"/>
                    </a:lnTo>
                    <a:lnTo>
                      <a:pt x="286" y="403"/>
                    </a:lnTo>
                    <a:lnTo>
                      <a:pt x="303" y="479"/>
                    </a:lnTo>
                    <a:lnTo>
                      <a:pt x="350" y="549"/>
                    </a:lnTo>
                    <a:lnTo>
                      <a:pt x="367" y="619"/>
                    </a:lnTo>
                    <a:lnTo>
                      <a:pt x="361" y="683"/>
                    </a:lnTo>
                    <a:lnTo>
                      <a:pt x="327" y="737"/>
                    </a:lnTo>
                    <a:lnTo>
                      <a:pt x="280" y="766"/>
                    </a:lnTo>
                    <a:lnTo>
                      <a:pt x="222" y="772"/>
                    </a:lnTo>
                    <a:lnTo>
                      <a:pt x="152" y="772"/>
                    </a:lnTo>
                    <a:lnTo>
                      <a:pt x="100" y="742"/>
                    </a:lnTo>
                    <a:lnTo>
                      <a:pt x="46" y="654"/>
                    </a:lnTo>
                    <a:lnTo>
                      <a:pt x="12" y="578"/>
                    </a:lnTo>
                    <a:lnTo>
                      <a:pt x="0" y="462"/>
                    </a:lnTo>
                    <a:lnTo>
                      <a:pt x="12" y="357"/>
                    </a:lnTo>
                    <a:lnTo>
                      <a:pt x="35" y="246"/>
                    </a:lnTo>
                    <a:lnTo>
                      <a:pt x="71" y="135"/>
                    </a:lnTo>
                    <a:lnTo>
                      <a:pt x="106" y="6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808120" y="4811400"/>
                <a:ext cx="162720" cy="320040"/>
              </a:xfrm>
              <a:custGeom>
                <a:avLst/>
                <a:gdLst/>
                <a:ahLst/>
                <a:rect l="l" t="t" r="r" b="b"/>
                <a:pathLst>
                  <a:path w="414" h="694">
                    <a:moveTo>
                      <a:pt x="0" y="34"/>
                    </a:moveTo>
                    <a:lnTo>
                      <a:pt x="5" y="5"/>
                    </a:lnTo>
                    <a:lnTo>
                      <a:pt x="69" y="0"/>
                    </a:lnTo>
                    <a:lnTo>
                      <a:pt x="104" y="29"/>
                    </a:lnTo>
                    <a:lnTo>
                      <a:pt x="157" y="105"/>
                    </a:lnTo>
                    <a:lnTo>
                      <a:pt x="226" y="204"/>
                    </a:lnTo>
                    <a:lnTo>
                      <a:pt x="291" y="274"/>
                    </a:lnTo>
                    <a:lnTo>
                      <a:pt x="408" y="402"/>
                    </a:lnTo>
                    <a:lnTo>
                      <a:pt x="414" y="431"/>
                    </a:lnTo>
                    <a:lnTo>
                      <a:pt x="390" y="449"/>
                    </a:lnTo>
                    <a:lnTo>
                      <a:pt x="332" y="472"/>
                    </a:lnTo>
                    <a:lnTo>
                      <a:pt x="250" y="490"/>
                    </a:lnTo>
                    <a:lnTo>
                      <a:pt x="151" y="496"/>
                    </a:lnTo>
                    <a:lnTo>
                      <a:pt x="116" y="501"/>
                    </a:lnTo>
                    <a:lnTo>
                      <a:pt x="104" y="525"/>
                    </a:lnTo>
                    <a:lnTo>
                      <a:pt x="127" y="565"/>
                    </a:lnTo>
                    <a:lnTo>
                      <a:pt x="209" y="635"/>
                    </a:lnTo>
                    <a:lnTo>
                      <a:pt x="268" y="653"/>
                    </a:lnTo>
                    <a:lnTo>
                      <a:pt x="280" y="676"/>
                    </a:lnTo>
                    <a:lnTo>
                      <a:pt x="255" y="694"/>
                    </a:lnTo>
                    <a:lnTo>
                      <a:pt x="203" y="694"/>
                    </a:lnTo>
                    <a:lnTo>
                      <a:pt x="133" y="653"/>
                    </a:lnTo>
                    <a:lnTo>
                      <a:pt x="75" y="595"/>
                    </a:lnTo>
                    <a:lnTo>
                      <a:pt x="40" y="542"/>
                    </a:lnTo>
                    <a:lnTo>
                      <a:pt x="40" y="501"/>
                    </a:lnTo>
                    <a:lnTo>
                      <a:pt x="63" y="472"/>
                    </a:lnTo>
                    <a:lnTo>
                      <a:pt x="98" y="461"/>
                    </a:lnTo>
                    <a:lnTo>
                      <a:pt x="151" y="455"/>
                    </a:lnTo>
                    <a:lnTo>
                      <a:pt x="209" y="455"/>
                    </a:lnTo>
                    <a:lnTo>
                      <a:pt x="280" y="443"/>
                    </a:lnTo>
                    <a:lnTo>
                      <a:pt x="315" y="431"/>
                    </a:lnTo>
                    <a:lnTo>
                      <a:pt x="332" y="414"/>
                    </a:lnTo>
                    <a:lnTo>
                      <a:pt x="326" y="397"/>
                    </a:lnTo>
                    <a:lnTo>
                      <a:pt x="274" y="350"/>
                    </a:lnTo>
                    <a:lnTo>
                      <a:pt x="191" y="268"/>
                    </a:lnTo>
                    <a:lnTo>
                      <a:pt x="116" y="199"/>
                    </a:lnTo>
                    <a:lnTo>
                      <a:pt x="34" y="123"/>
                    </a:lnTo>
                    <a:lnTo>
                      <a:pt x="5" y="69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701920" y="5079960"/>
                <a:ext cx="176760" cy="482760"/>
              </a:xfrm>
              <a:custGeom>
                <a:avLst/>
                <a:gdLst/>
                <a:ahLst/>
                <a:rect l="l" t="t" r="r" b="b"/>
                <a:pathLst>
                  <a:path w="449" h="1046">
                    <a:moveTo>
                      <a:pt x="222" y="0"/>
                    </a:moveTo>
                    <a:lnTo>
                      <a:pt x="286" y="12"/>
                    </a:lnTo>
                    <a:lnTo>
                      <a:pt x="315" y="59"/>
                    </a:lnTo>
                    <a:lnTo>
                      <a:pt x="309" y="170"/>
                    </a:lnTo>
                    <a:lnTo>
                      <a:pt x="298" y="287"/>
                    </a:lnTo>
                    <a:lnTo>
                      <a:pt x="298" y="409"/>
                    </a:lnTo>
                    <a:lnTo>
                      <a:pt x="356" y="555"/>
                    </a:lnTo>
                    <a:lnTo>
                      <a:pt x="402" y="660"/>
                    </a:lnTo>
                    <a:lnTo>
                      <a:pt x="426" y="766"/>
                    </a:lnTo>
                    <a:lnTo>
                      <a:pt x="420" y="859"/>
                    </a:lnTo>
                    <a:lnTo>
                      <a:pt x="420" y="894"/>
                    </a:lnTo>
                    <a:lnTo>
                      <a:pt x="443" y="929"/>
                    </a:lnTo>
                    <a:lnTo>
                      <a:pt x="449" y="964"/>
                    </a:lnTo>
                    <a:lnTo>
                      <a:pt x="432" y="981"/>
                    </a:lnTo>
                    <a:lnTo>
                      <a:pt x="385" y="970"/>
                    </a:lnTo>
                    <a:lnTo>
                      <a:pt x="298" y="958"/>
                    </a:lnTo>
                    <a:lnTo>
                      <a:pt x="193" y="981"/>
                    </a:lnTo>
                    <a:lnTo>
                      <a:pt x="123" y="1022"/>
                    </a:lnTo>
                    <a:lnTo>
                      <a:pt x="88" y="1046"/>
                    </a:lnTo>
                    <a:lnTo>
                      <a:pt x="53" y="1046"/>
                    </a:lnTo>
                    <a:lnTo>
                      <a:pt x="0" y="970"/>
                    </a:lnTo>
                    <a:lnTo>
                      <a:pt x="6" y="958"/>
                    </a:lnTo>
                    <a:lnTo>
                      <a:pt x="112" y="923"/>
                    </a:lnTo>
                    <a:lnTo>
                      <a:pt x="234" y="906"/>
                    </a:lnTo>
                    <a:lnTo>
                      <a:pt x="321" y="900"/>
                    </a:lnTo>
                    <a:lnTo>
                      <a:pt x="373" y="900"/>
                    </a:lnTo>
                    <a:lnTo>
                      <a:pt x="385" y="865"/>
                    </a:lnTo>
                    <a:lnTo>
                      <a:pt x="368" y="766"/>
                    </a:lnTo>
                    <a:lnTo>
                      <a:pt x="327" y="660"/>
                    </a:lnTo>
                    <a:lnTo>
                      <a:pt x="263" y="526"/>
                    </a:lnTo>
                    <a:lnTo>
                      <a:pt x="210" y="409"/>
                    </a:lnTo>
                    <a:lnTo>
                      <a:pt x="187" y="304"/>
                    </a:lnTo>
                    <a:lnTo>
                      <a:pt x="181" y="188"/>
                    </a:lnTo>
                    <a:lnTo>
                      <a:pt x="181" y="76"/>
                    </a:lnTo>
                    <a:lnTo>
                      <a:pt x="205" y="30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8615160" y="5094000"/>
                <a:ext cx="146520" cy="401400"/>
              </a:xfrm>
              <a:custGeom>
                <a:avLst/>
                <a:gdLst/>
                <a:ahLst/>
                <a:rect l="l" t="t" r="r" b="b"/>
                <a:pathLst>
                  <a:path w="373" h="870">
                    <a:moveTo>
                      <a:pt x="280" y="0"/>
                    </a:moveTo>
                    <a:lnTo>
                      <a:pt x="332" y="0"/>
                    </a:lnTo>
                    <a:lnTo>
                      <a:pt x="350" y="35"/>
                    </a:lnTo>
                    <a:lnTo>
                      <a:pt x="361" y="112"/>
                    </a:lnTo>
                    <a:lnTo>
                      <a:pt x="350" y="193"/>
                    </a:lnTo>
                    <a:lnTo>
                      <a:pt x="321" y="356"/>
                    </a:lnTo>
                    <a:lnTo>
                      <a:pt x="326" y="426"/>
                    </a:lnTo>
                    <a:lnTo>
                      <a:pt x="361" y="566"/>
                    </a:lnTo>
                    <a:lnTo>
                      <a:pt x="373" y="665"/>
                    </a:lnTo>
                    <a:lnTo>
                      <a:pt x="373" y="742"/>
                    </a:lnTo>
                    <a:lnTo>
                      <a:pt x="356" y="759"/>
                    </a:lnTo>
                    <a:lnTo>
                      <a:pt x="303" y="771"/>
                    </a:lnTo>
                    <a:lnTo>
                      <a:pt x="232" y="788"/>
                    </a:lnTo>
                    <a:lnTo>
                      <a:pt x="163" y="823"/>
                    </a:lnTo>
                    <a:lnTo>
                      <a:pt x="93" y="870"/>
                    </a:lnTo>
                    <a:lnTo>
                      <a:pt x="64" y="870"/>
                    </a:lnTo>
                    <a:lnTo>
                      <a:pt x="0" y="818"/>
                    </a:lnTo>
                    <a:lnTo>
                      <a:pt x="6" y="794"/>
                    </a:lnTo>
                    <a:lnTo>
                      <a:pt x="87" y="759"/>
                    </a:lnTo>
                    <a:lnTo>
                      <a:pt x="227" y="724"/>
                    </a:lnTo>
                    <a:lnTo>
                      <a:pt x="292" y="700"/>
                    </a:lnTo>
                    <a:lnTo>
                      <a:pt x="303" y="677"/>
                    </a:lnTo>
                    <a:lnTo>
                      <a:pt x="303" y="578"/>
                    </a:lnTo>
                    <a:lnTo>
                      <a:pt x="280" y="450"/>
                    </a:lnTo>
                    <a:lnTo>
                      <a:pt x="268" y="368"/>
                    </a:lnTo>
                    <a:lnTo>
                      <a:pt x="257" y="240"/>
                    </a:lnTo>
                    <a:lnTo>
                      <a:pt x="251" y="100"/>
                    </a:lnTo>
                    <a:lnTo>
                      <a:pt x="257" y="35"/>
                    </a:lnTo>
                    <a:lnTo>
                      <a:pt x="28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8610480" y="4503240"/>
                <a:ext cx="240840" cy="357840"/>
              </a:xfrm>
              <a:custGeom>
                <a:avLst/>
                <a:gdLst/>
                <a:ahLst/>
                <a:rect l="l" t="t" r="r" b="b"/>
                <a:pathLst>
                  <a:path w="612" h="776">
                    <a:moveTo>
                      <a:pt x="326" y="776"/>
                    </a:moveTo>
                    <a:lnTo>
                      <a:pt x="355" y="740"/>
                    </a:lnTo>
                    <a:lnTo>
                      <a:pt x="344" y="688"/>
                    </a:lnTo>
                    <a:lnTo>
                      <a:pt x="321" y="618"/>
                    </a:lnTo>
                    <a:lnTo>
                      <a:pt x="232" y="536"/>
                    </a:lnTo>
                    <a:lnTo>
                      <a:pt x="145" y="461"/>
                    </a:lnTo>
                    <a:lnTo>
                      <a:pt x="104" y="379"/>
                    </a:lnTo>
                    <a:lnTo>
                      <a:pt x="87" y="251"/>
                    </a:lnTo>
                    <a:lnTo>
                      <a:pt x="186" y="216"/>
                    </a:lnTo>
                    <a:lnTo>
                      <a:pt x="344" y="199"/>
                    </a:lnTo>
                    <a:lnTo>
                      <a:pt x="408" y="205"/>
                    </a:lnTo>
                    <a:lnTo>
                      <a:pt x="425" y="222"/>
                    </a:lnTo>
                    <a:lnTo>
                      <a:pt x="454" y="193"/>
                    </a:lnTo>
                    <a:lnTo>
                      <a:pt x="443" y="164"/>
                    </a:lnTo>
                    <a:lnTo>
                      <a:pt x="460" y="111"/>
                    </a:lnTo>
                    <a:lnTo>
                      <a:pt x="507" y="64"/>
                    </a:lnTo>
                    <a:lnTo>
                      <a:pt x="542" y="52"/>
                    </a:lnTo>
                    <a:lnTo>
                      <a:pt x="588" y="81"/>
                    </a:lnTo>
                    <a:lnTo>
                      <a:pt x="612" y="52"/>
                    </a:lnTo>
                    <a:lnTo>
                      <a:pt x="571" y="0"/>
                    </a:lnTo>
                    <a:lnTo>
                      <a:pt x="518" y="0"/>
                    </a:lnTo>
                    <a:lnTo>
                      <a:pt x="454" y="29"/>
                    </a:lnTo>
                    <a:lnTo>
                      <a:pt x="414" y="105"/>
                    </a:lnTo>
                    <a:lnTo>
                      <a:pt x="361" y="141"/>
                    </a:lnTo>
                    <a:lnTo>
                      <a:pt x="280" y="152"/>
                    </a:lnTo>
                    <a:lnTo>
                      <a:pt x="133" y="170"/>
                    </a:lnTo>
                    <a:lnTo>
                      <a:pt x="17" y="205"/>
                    </a:lnTo>
                    <a:lnTo>
                      <a:pt x="0" y="234"/>
                    </a:lnTo>
                    <a:lnTo>
                      <a:pt x="11" y="327"/>
                    </a:lnTo>
                    <a:lnTo>
                      <a:pt x="52" y="455"/>
                    </a:lnTo>
                    <a:lnTo>
                      <a:pt x="110" y="560"/>
                    </a:lnTo>
                    <a:lnTo>
                      <a:pt x="168" y="653"/>
                    </a:lnTo>
                    <a:lnTo>
                      <a:pt x="221" y="717"/>
                    </a:lnTo>
                    <a:lnTo>
                      <a:pt x="274" y="764"/>
                    </a:lnTo>
                    <a:lnTo>
                      <a:pt x="326" y="77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8929800" y="4419720"/>
              <a:ext cx="82080" cy="121680"/>
              <a:chOff x="8929800" y="4419720"/>
              <a:chExt cx="82080" cy="121680"/>
            </a:xfrm>
          </p:grpSpPr>
          <p:sp>
            <p:nvSpPr>
              <p:cNvPr id="208" name=""/>
              <p:cNvSpPr/>
              <p:nvPr/>
            </p:nvSpPr>
            <p:spPr>
              <a:xfrm>
                <a:off x="8945640" y="4419720"/>
                <a:ext cx="66240" cy="88560"/>
              </a:xfrm>
              <a:custGeom>
                <a:avLst/>
                <a:gdLst/>
                <a:ahLst/>
                <a:rect l="l" t="t" r="r" b="b"/>
                <a:pathLst>
                  <a:path w="169" h="192">
                    <a:moveTo>
                      <a:pt x="52" y="12"/>
                    </a:moveTo>
                    <a:lnTo>
                      <a:pt x="99" y="0"/>
                    </a:lnTo>
                    <a:lnTo>
                      <a:pt x="157" y="17"/>
                    </a:lnTo>
                    <a:lnTo>
                      <a:pt x="169" y="58"/>
                    </a:lnTo>
                    <a:lnTo>
                      <a:pt x="163" y="111"/>
                    </a:lnTo>
                    <a:lnTo>
                      <a:pt x="134" y="145"/>
                    </a:lnTo>
                    <a:lnTo>
                      <a:pt x="93" y="151"/>
                    </a:lnTo>
                    <a:lnTo>
                      <a:pt x="52" y="151"/>
                    </a:lnTo>
                    <a:lnTo>
                      <a:pt x="34" y="169"/>
                    </a:lnTo>
                    <a:lnTo>
                      <a:pt x="34" y="180"/>
                    </a:lnTo>
                    <a:lnTo>
                      <a:pt x="23" y="192"/>
                    </a:lnTo>
                    <a:lnTo>
                      <a:pt x="0" y="186"/>
                    </a:lnTo>
                    <a:lnTo>
                      <a:pt x="5" y="157"/>
                    </a:lnTo>
                    <a:lnTo>
                      <a:pt x="23" y="134"/>
                    </a:lnTo>
                    <a:lnTo>
                      <a:pt x="58" y="116"/>
                    </a:lnTo>
                    <a:lnTo>
                      <a:pt x="93" y="122"/>
                    </a:lnTo>
                    <a:lnTo>
                      <a:pt x="122" y="116"/>
                    </a:lnTo>
                    <a:lnTo>
                      <a:pt x="139" y="87"/>
                    </a:lnTo>
                    <a:lnTo>
                      <a:pt x="139" y="52"/>
                    </a:lnTo>
                    <a:lnTo>
                      <a:pt x="122" y="35"/>
                    </a:lnTo>
                    <a:lnTo>
                      <a:pt x="99" y="35"/>
                    </a:lnTo>
                    <a:lnTo>
                      <a:pt x="75" y="41"/>
                    </a:lnTo>
                    <a:lnTo>
                      <a:pt x="58" y="52"/>
                    </a:lnTo>
                    <a:lnTo>
                      <a:pt x="40" y="41"/>
                    </a:lnTo>
                    <a:lnTo>
                      <a:pt x="52" y="1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29800" y="4519440"/>
                <a:ext cx="1908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14T20:34:24Z</dcterms:created>
  <dc:creator>Jeff Edmonds</dc:creator>
  <dc:description/>
  <dc:language>en-US</dc:language>
  <cp:lastModifiedBy>Lauren Cowles</cp:lastModifiedBy>
  <dcterms:modified xsi:type="dcterms:W3CDTF">2008-06-18T18:09:12Z</dcterms:modified>
  <cp:revision>197</cp:revision>
  <dc:subject/>
  <dc:title>PowerPoint Presentation</dc:title>
</cp:coreProperties>
</file>