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EA7-AB19-41CD-AA2C-14D1C636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EE9-70A0-45FE-8B65-7437729F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3F3-CFC3-49DC-99A7-2B84D094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047-B39E-4249-B287-869717BF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DD3-7914-444D-85D9-998583B7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792-6242-4DF7-8666-AEDECC8A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6F9-17DF-4480-B78B-16C2115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ACB-82BD-4F1D-A067-7374AE0B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89E-E6D5-4120-A6D2-BD7A7FE1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AA3-B889-4046-B10A-6B9EFD72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A47-EF82-4454-AC01-097F336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11A-48FF-4D19-A842-5245890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47F-5DCE-4C68-B29A-FE38139591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D:\PPT job\table\9781107070783book\BROADBERRY_Tab. 3.1.jpg"/>
          <p:cNvPicPr/>
          <p:nvPr/>
        </p:nvPicPr>
        <p:blipFill>
          <a:blip r:embed="rId1"/>
          <a:stretch/>
        </p:blipFill>
        <p:spPr>
          <a:xfrm>
            <a:off x="1504800" y="2028960"/>
            <a:ext cx="61344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PPT job\table\9781107070783book\BROADBERRY_Tab. 3.8b.jpg"/>
          <p:cNvPicPr/>
          <p:nvPr/>
        </p:nvPicPr>
        <p:blipFill>
          <a:blip r:embed="rId1"/>
          <a:stretch/>
        </p:blipFill>
        <p:spPr>
          <a:xfrm>
            <a:off x="2962440" y="1219320"/>
            <a:ext cx="3219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PPT job\table\9781107070783book\BROADBERRY_Tab. 3.9.jpg"/>
          <p:cNvPicPr/>
          <p:nvPr/>
        </p:nvPicPr>
        <p:blipFill>
          <a:blip r:embed="rId1"/>
          <a:stretch/>
        </p:blipFill>
        <p:spPr>
          <a:xfrm>
            <a:off x="2362320" y="1158840"/>
            <a:ext cx="44193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PPT job\table\9781107070783book\BROADBERRY_Tab. 3.10.jpg"/>
          <p:cNvPicPr/>
          <p:nvPr/>
        </p:nvPicPr>
        <p:blipFill>
          <a:blip r:embed="rId1"/>
          <a:stretch/>
        </p:blipFill>
        <p:spPr>
          <a:xfrm>
            <a:off x="1932120" y="1131840"/>
            <a:ext cx="52797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PPT job\table\9781107070783book\BROADBERRY_Tab. 3.11.jpg"/>
          <p:cNvPicPr/>
          <p:nvPr/>
        </p:nvPicPr>
        <p:blipFill>
          <a:blip r:embed="rId1"/>
          <a:stretch/>
        </p:blipFill>
        <p:spPr>
          <a:xfrm>
            <a:off x="1884240" y="1389240"/>
            <a:ext cx="5375520" cy="40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PPT job\table\9781107070783book\BROADBERRY_Tab. 3.12.jpg"/>
          <p:cNvPicPr/>
          <p:nvPr/>
        </p:nvPicPr>
        <p:blipFill>
          <a:blip r:embed="rId1"/>
          <a:stretch/>
        </p:blipFill>
        <p:spPr>
          <a:xfrm>
            <a:off x="1811160" y="2590920"/>
            <a:ext cx="55216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PPT job\table\9781107070783book\BROADBERRY_Tab. 3.13.jpg"/>
          <p:cNvPicPr/>
          <p:nvPr/>
        </p:nvPicPr>
        <p:blipFill>
          <a:blip r:embed="rId1"/>
          <a:stretch/>
        </p:blipFill>
        <p:spPr>
          <a:xfrm>
            <a:off x="1890720" y="1393920"/>
            <a:ext cx="536256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PPT job\table\9781107070783book\BROADBERRY_Tab. 3.14.jpg"/>
          <p:cNvPicPr/>
          <p:nvPr/>
        </p:nvPicPr>
        <p:blipFill>
          <a:blip r:embed="rId1"/>
          <a:stretch/>
        </p:blipFill>
        <p:spPr>
          <a:xfrm>
            <a:off x="493560" y="1676520"/>
            <a:ext cx="8156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PPT job\table\9781107070783book\BROADBERRY_Tab. 3.15.jpg"/>
          <p:cNvPicPr/>
          <p:nvPr/>
        </p:nvPicPr>
        <p:blipFill>
          <a:blip r:embed="rId1"/>
          <a:stretch/>
        </p:blipFill>
        <p:spPr>
          <a:xfrm>
            <a:off x="1976400" y="1469880"/>
            <a:ext cx="519120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PPT job\table\9781107070783book\BROADBERRY_Tab. 3.16.jpg"/>
          <p:cNvPicPr/>
          <p:nvPr/>
        </p:nvPicPr>
        <p:blipFill>
          <a:blip r:embed="rId1"/>
          <a:stretch/>
        </p:blipFill>
        <p:spPr>
          <a:xfrm>
            <a:off x="2109960" y="1195560"/>
            <a:ext cx="4924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PPT job\table\9781107070783book\BROADBERRY_Tab. 3.17a.jpg"/>
          <p:cNvPicPr/>
          <p:nvPr/>
        </p:nvPicPr>
        <p:blipFill>
          <a:blip r:embed="rId1"/>
          <a:stretch/>
        </p:blipFill>
        <p:spPr>
          <a:xfrm>
            <a:off x="623880" y="1727280"/>
            <a:ext cx="7896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PPT job\table\9781107070783book\BROADBERRY_Tab. 3.2.jpg"/>
          <p:cNvPicPr/>
          <p:nvPr/>
        </p:nvPicPr>
        <p:blipFill>
          <a:blip r:embed="rId1"/>
          <a:stretch/>
        </p:blipFill>
        <p:spPr>
          <a:xfrm>
            <a:off x="1892160" y="1278000"/>
            <a:ext cx="53596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7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PPT job\table\9781107070783book\BROADBERRY_Tab. 3.17b.jpg"/>
          <p:cNvPicPr/>
          <p:nvPr/>
        </p:nvPicPr>
        <p:blipFill>
          <a:blip r:embed="rId1"/>
          <a:stretch/>
        </p:blipFill>
        <p:spPr>
          <a:xfrm>
            <a:off x="685800" y="1569960"/>
            <a:ext cx="7772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PPT job\table\9781107070783book\BROADBERRY_Tab. 3.18.jpg"/>
          <p:cNvPicPr/>
          <p:nvPr/>
        </p:nvPicPr>
        <p:blipFill>
          <a:blip r:embed="rId1"/>
          <a:stretch/>
        </p:blipFill>
        <p:spPr>
          <a:xfrm>
            <a:off x="1752480" y="1116000"/>
            <a:ext cx="563904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PPT job\table\9781107070783book\BROADBERRY_Tab. 3.19.jpg"/>
          <p:cNvPicPr/>
          <p:nvPr/>
        </p:nvPicPr>
        <p:blipFill>
          <a:blip r:embed="rId1"/>
          <a:stretch/>
        </p:blipFill>
        <p:spPr>
          <a:xfrm>
            <a:off x="1168560" y="1433520"/>
            <a:ext cx="6806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PPT job\table\9781107070783book\BROADBERRY_Tab. 3.20.jpg"/>
          <p:cNvPicPr/>
          <p:nvPr/>
        </p:nvPicPr>
        <p:blipFill>
          <a:blip r:embed="rId1"/>
          <a:stretch/>
        </p:blipFill>
        <p:spPr>
          <a:xfrm>
            <a:off x="2071800" y="1398600"/>
            <a:ext cx="50004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2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D:\PPT job\table\9781107070783book\BROADBERRY_Tab. 3.21a.jpg"/>
          <p:cNvPicPr/>
          <p:nvPr/>
        </p:nvPicPr>
        <p:blipFill>
          <a:blip r:embed="rId1"/>
          <a:stretch/>
        </p:blipFill>
        <p:spPr>
          <a:xfrm>
            <a:off x="1862280" y="1239840"/>
            <a:ext cx="54194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2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PPT job\table\9781107070783book\BROADBERRY_Tab. 3.21b.jpg"/>
          <p:cNvPicPr/>
          <p:nvPr/>
        </p:nvPicPr>
        <p:blipFill>
          <a:blip r:embed="rId1"/>
          <a:stretch/>
        </p:blipFill>
        <p:spPr>
          <a:xfrm>
            <a:off x="1905120" y="1176480"/>
            <a:ext cx="53337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PPT job\table\9781107070783book\BROADBERRY_Tab. 3.3.jpg"/>
          <p:cNvPicPr/>
          <p:nvPr/>
        </p:nvPicPr>
        <p:blipFill>
          <a:blip r:embed="rId1"/>
          <a:stretch/>
        </p:blipFill>
        <p:spPr>
          <a:xfrm>
            <a:off x="1104840" y="2016000"/>
            <a:ext cx="693432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PPT job\table\9781107070783book\BROADBERRY_Tab. 3.4.jpg"/>
          <p:cNvPicPr/>
          <p:nvPr/>
        </p:nvPicPr>
        <p:blipFill>
          <a:blip r:embed="rId1"/>
          <a:stretch/>
        </p:blipFill>
        <p:spPr>
          <a:xfrm>
            <a:off x="2286000" y="1177920"/>
            <a:ext cx="4572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table\9781107070783book\BROADBERRY_Tab. 3.5a.jpg"/>
          <p:cNvPicPr/>
          <p:nvPr/>
        </p:nvPicPr>
        <p:blipFill>
          <a:blip r:embed="rId1"/>
          <a:stretch/>
        </p:blipFill>
        <p:spPr>
          <a:xfrm>
            <a:off x="2976480" y="1150920"/>
            <a:ext cx="3191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PPT job\table\9781107070783book\BROADBERRY_Tab. 3.5b.jpg"/>
          <p:cNvPicPr/>
          <p:nvPr/>
        </p:nvPicPr>
        <p:blipFill>
          <a:blip r:embed="rId1"/>
          <a:stretch/>
        </p:blipFill>
        <p:spPr>
          <a:xfrm>
            <a:off x="1940040" y="1420920"/>
            <a:ext cx="52639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PPT job\table\9781107070783book\BROADBERRY_Tab. 3.6.jpg"/>
          <p:cNvPicPr/>
          <p:nvPr/>
        </p:nvPicPr>
        <p:blipFill>
          <a:blip r:embed="rId1"/>
          <a:stretch/>
        </p:blipFill>
        <p:spPr>
          <a:xfrm>
            <a:off x="2016000" y="1488960"/>
            <a:ext cx="51120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D:\PPT job\table\9781107070783book\BROADBERRY_Tab. 3.7.jpg"/>
          <p:cNvPicPr/>
          <p:nvPr/>
        </p:nvPicPr>
        <p:blipFill>
          <a:blip r:embed="rId1"/>
          <a:stretch/>
        </p:blipFill>
        <p:spPr>
          <a:xfrm>
            <a:off x="1998720" y="1474920"/>
            <a:ext cx="514656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3.8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PPT job\table\9781107070783book\BROADBERRY_Tab. 3.8a.jpg"/>
          <p:cNvPicPr/>
          <p:nvPr/>
        </p:nvPicPr>
        <p:blipFill>
          <a:blip r:embed="rId1"/>
          <a:stretch/>
        </p:blipFill>
        <p:spPr>
          <a:xfrm>
            <a:off x="1824120" y="1432080"/>
            <a:ext cx="549576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7:08:40Z</dcterms:modified>
  <cp:revision>63</cp:revision>
  <dc:subject/>
  <dc:title>PowerPoint Presentation</dc:title>
</cp:coreProperties>
</file>