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F43-439E-4D8F-B17B-916C58F0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DB3-978A-480D-A446-77CD4DEC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CCF-C1EF-44F2-AD78-68C5EA15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BE8-AF69-414B-A865-C6510F1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AF6-ADA1-46C9-8CBB-CEFE1E17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EB1-FA8C-4FC0-910B-78BF84ED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C5F-6540-4F1B-9183-F78690B4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BCC-197E-4C27-AAAF-6A5EFED7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5F3-5C6E-4262-BB60-9077184A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5C2-0979-433E-A7D0-567A236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378-F035-4332-B332-8E8928C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FF7-60E6-4EE0-8D44-88428A23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0B8-6749-4055-87D6-1CCEE894BA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D:\PPT job\table\9781107070783book\BROADBERRY_Tab. 8.1.jpg"/>
          <p:cNvPicPr/>
          <p:nvPr/>
        </p:nvPicPr>
        <p:blipFill>
          <a:blip r:embed="rId1"/>
          <a:stretch/>
        </p:blipFill>
        <p:spPr>
          <a:xfrm>
            <a:off x="380880" y="1192320"/>
            <a:ext cx="83822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JPG &amp; PPT_Tables\9781107070783book\BROADBERRY_Tab. A8.2.jpg"/>
          <p:cNvPicPr/>
          <p:nvPr/>
        </p:nvPicPr>
        <p:blipFill>
          <a:blip r:embed="rId1"/>
          <a:stretch/>
        </p:blipFill>
        <p:spPr>
          <a:xfrm>
            <a:off x="2898720" y="1060560"/>
            <a:ext cx="33465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JPG &amp; PPT_Tables\9781107070783book\BROADBERRY_Tab. A8.3.jpg"/>
          <p:cNvPicPr/>
          <p:nvPr/>
        </p:nvPicPr>
        <p:blipFill>
          <a:blip r:embed="rId1"/>
          <a:stretch/>
        </p:blipFill>
        <p:spPr>
          <a:xfrm>
            <a:off x="2922480" y="1096920"/>
            <a:ext cx="32990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JPG &amp; PPT_Tables\9781107070783book\BROADBERRY_Tab. A8.4.jpg"/>
          <p:cNvPicPr/>
          <p:nvPr/>
        </p:nvPicPr>
        <p:blipFill>
          <a:blip r:embed="rId1"/>
          <a:stretch/>
        </p:blipFill>
        <p:spPr>
          <a:xfrm>
            <a:off x="2970360" y="1162080"/>
            <a:ext cx="32032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JPG &amp; PPT_Tables\9781107070783book\BROADBERRY_Tab. A8.5.jpg"/>
          <p:cNvPicPr/>
          <p:nvPr/>
        </p:nvPicPr>
        <p:blipFill>
          <a:blip r:embed="rId1"/>
          <a:stretch/>
        </p:blipFill>
        <p:spPr>
          <a:xfrm>
            <a:off x="2932200" y="1109520"/>
            <a:ext cx="3279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JPG &amp; PPT_Tables\9781107070783book\BROADBERRY_Tab. A8.6.jpg"/>
          <p:cNvPicPr/>
          <p:nvPr/>
        </p:nvPicPr>
        <p:blipFill>
          <a:blip r:embed="rId1"/>
          <a:stretch/>
        </p:blipFill>
        <p:spPr>
          <a:xfrm>
            <a:off x="3009960" y="1217520"/>
            <a:ext cx="312588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JPG &amp; PPT_Tables\9781107070783book\BROADBERRY_Tab. A8.7.jpg"/>
          <p:cNvPicPr/>
          <p:nvPr/>
        </p:nvPicPr>
        <p:blipFill>
          <a:blip r:embed="rId1"/>
          <a:stretch/>
        </p:blipFill>
        <p:spPr>
          <a:xfrm>
            <a:off x="2932200" y="1111320"/>
            <a:ext cx="32796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D:\PPT job\table\9781107070783book\BROADBERRY_Tab. 8.2a.jpg"/>
          <p:cNvPicPr/>
          <p:nvPr/>
        </p:nvPicPr>
        <p:blipFill>
          <a:blip r:embed="rId1"/>
          <a:stretch/>
        </p:blipFill>
        <p:spPr>
          <a:xfrm>
            <a:off x="506520" y="1339920"/>
            <a:ext cx="81309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PPT job\table\9781107070783book\BROADBERRY_Tab. 8.2b.jpg"/>
          <p:cNvPicPr/>
          <p:nvPr/>
        </p:nvPicPr>
        <p:blipFill>
          <a:blip r:embed="rId1"/>
          <a:stretch/>
        </p:blipFill>
        <p:spPr>
          <a:xfrm>
            <a:off x="372960" y="2494080"/>
            <a:ext cx="83980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PPT job\table\9781107070783book\BROADBERRY_Tab. 8.3.jpg"/>
          <p:cNvPicPr/>
          <p:nvPr/>
        </p:nvPicPr>
        <p:blipFill>
          <a:blip r:embed="rId1"/>
          <a:stretch/>
        </p:blipFill>
        <p:spPr>
          <a:xfrm>
            <a:off x="1609560" y="1311120"/>
            <a:ext cx="592488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:\PPT job\table\9781107070783book\BROADBERRY_Tab. 8.4.jpg"/>
          <p:cNvPicPr/>
          <p:nvPr/>
        </p:nvPicPr>
        <p:blipFill>
          <a:blip r:embed="rId1"/>
          <a:stretch/>
        </p:blipFill>
        <p:spPr>
          <a:xfrm>
            <a:off x="1085760" y="1384200"/>
            <a:ext cx="697248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:\PPT job\table\9781107070783book\BROADBERRY_Tab. 8.5.jpg"/>
          <p:cNvPicPr/>
          <p:nvPr/>
        </p:nvPicPr>
        <p:blipFill>
          <a:blip r:embed="rId1"/>
          <a:stretch/>
        </p:blipFill>
        <p:spPr>
          <a:xfrm>
            <a:off x="1600200" y="1174680"/>
            <a:ext cx="59436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:\PPT job\table\9781107070783book\BROADBERRY_Tab. 8.6.jpg"/>
          <p:cNvPicPr/>
          <p:nvPr/>
        </p:nvPicPr>
        <p:blipFill>
          <a:blip r:embed="rId1"/>
          <a:stretch/>
        </p:blipFill>
        <p:spPr>
          <a:xfrm>
            <a:off x="1371600" y="1274760"/>
            <a:ext cx="64008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PPT job\table\9781107070783book\BROADBERRY_Tab. 8.7.jpg"/>
          <p:cNvPicPr/>
          <p:nvPr/>
        </p:nvPicPr>
        <p:blipFill>
          <a:blip r:embed="rId1"/>
          <a:stretch/>
        </p:blipFill>
        <p:spPr>
          <a:xfrm>
            <a:off x="609480" y="2295360"/>
            <a:ext cx="79250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JPG &amp; PPT_Tables\9781107070783book\BROADBERRY_Tab. A8.1.jpg"/>
          <p:cNvPicPr/>
          <p:nvPr/>
        </p:nvPicPr>
        <p:blipFill>
          <a:blip r:embed="rId1"/>
          <a:stretch/>
        </p:blipFill>
        <p:spPr>
          <a:xfrm>
            <a:off x="2489040" y="1100160"/>
            <a:ext cx="4165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9:01:19Z</dcterms:modified>
  <cp:revision>75</cp:revision>
  <dc:subject/>
  <dc:title>PowerPoint Presentation</dc:title>
</cp:coreProperties>
</file>