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D245-EAFD-469B-9893-561F558D9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58E0-A5EE-4236-91B1-992672974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00D1-8113-475C-B5B3-1FF6CD4CF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2584-8194-42E0-8DE2-8EE17B780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0B94-C481-4A04-A931-3C6D8941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EB86-FA23-4BE0-817E-22A5B2C4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695E-D279-40BD-BFFE-6F533B71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24EE-C19C-4EF5-B6F4-7CFE8AC6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3DA5-F130-45D1-87B5-F456A0C0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2F96-DFD6-47F5-B6FE-16950750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4AD8-A09C-40CB-9FE9-958DDB86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2212-1435-43E9-AD32-5E1F552E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578A-7927-4774-BC9E-08330B31CB8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7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2" descr="D:\PPT job\table\9781107070783book\Ch07\BROADBERRY_Tab. 7.1.jpg"/>
          <p:cNvPicPr/>
          <p:nvPr/>
        </p:nvPicPr>
        <p:blipFill>
          <a:blip r:embed="rId1"/>
          <a:stretch/>
        </p:blipFill>
        <p:spPr>
          <a:xfrm>
            <a:off x="1971720" y="1243080"/>
            <a:ext cx="520056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7.9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D:\PPT job\table\9781107070783book\Ch07\BROADBERRY_Tab. 7.10.jpg"/>
          <p:cNvPicPr/>
          <p:nvPr/>
        </p:nvPicPr>
        <p:blipFill>
          <a:blip r:embed="rId1"/>
          <a:stretch/>
        </p:blipFill>
        <p:spPr>
          <a:xfrm>
            <a:off x="216000" y="1219320"/>
            <a:ext cx="831348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7.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D:\PPT job\table\9781107070783book\Ch07\BROADBERRY_Tab. 7.10.jpg"/>
          <p:cNvPicPr/>
          <p:nvPr/>
        </p:nvPicPr>
        <p:blipFill>
          <a:blip r:embed="rId1"/>
          <a:stretch/>
        </p:blipFill>
        <p:spPr>
          <a:xfrm>
            <a:off x="2360520" y="1143000"/>
            <a:ext cx="4422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A7.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D:\JPG &amp; PPT_Tables\JPEG\Ch07\BROADBERRY_Tab. A7.1a.jpg"/>
          <p:cNvPicPr/>
          <p:nvPr/>
        </p:nvPicPr>
        <p:blipFill>
          <a:blip r:embed="rId1"/>
          <a:stretch/>
        </p:blipFill>
        <p:spPr>
          <a:xfrm>
            <a:off x="1963800" y="1434960"/>
            <a:ext cx="52164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A7.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D:\JPG &amp; PPT_Tables\JPEG\Ch07\BROADBERRY_Tab. A7.1b.jpg"/>
          <p:cNvPicPr/>
          <p:nvPr/>
        </p:nvPicPr>
        <p:blipFill>
          <a:blip r:embed="rId1"/>
          <a:stretch/>
        </p:blipFill>
        <p:spPr>
          <a:xfrm>
            <a:off x="1730520" y="2116080"/>
            <a:ext cx="568296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7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D:\PPT job\table\9781107070783book\Ch07\BROADBERRY_Tab. 7.2.jpg"/>
          <p:cNvPicPr/>
          <p:nvPr/>
        </p:nvPicPr>
        <p:blipFill>
          <a:blip r:embed="rId1"/>
          <a:stretch/>
        </p:blipFill>
        <p:spPr>
          <a:xfrm>
            <a:off x="1068480" y="1695600"/>
            <a:ext cx="7007040" cy="34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7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D:\PPT job\table\9781107070783book\Ch07\BROADBERRY_Tab. 7.3.jpg"/>
          <p:cNvPicPr/>
          <p:nvPr/>
        </p:nvPicPr>
        <p:blipFill>
          <a:blip r:embed="rId1"/>
          <a:stretch/>
        </p:blipFill>
        <p:spPr>
          <a:xfrm>
            <a:off x="2057400" y="1195560"/>
            <a:ext cx="5029200" cy="44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7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D:\PPT job\table\9781107070783book\Ch07\BROADBERRY_Tab. 7.4.jpg"/>
          <p:cNvPicPr/>
          <p:nvPr/>
        </p:nvPicPr>
        <p:blipFill>
          <a:blip r:embed="rId1"/>
          <a:stretch/>
        </p:blipFill>
        <p:spPr>
          <a:xfrm>
            <a:off x="2048040" y="1187280"/>
            <a:ext cx="5047920" cy="44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7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D:\PPT job\table\9781107070783book\Ch07\BROADBERRY_Tab. 7.5.jpg"/>
          <p:cNvPicPr/>
          <p:nvPr/>
        </p:nvPicPr>
        <p:blipFill>
          <a:blip r:embed="rId1"/>
          <a:stretch/>
        </p:blipFill>
        <p:spPr>
          <a:xfrm>
            <a:off x="2057400" y="1195560"/>
            <a:ext cx="5029200" cy="44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7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D:\PPT job\table\9781107070783book\Ch07\BROADBERRY_Tab. 7.6.jpg"/>
          <p:cNvPicPr/>
          <p:nvPr/>
        </p:nvPicPr>
        <p:blipFill>
          <a:blip r:embed="rId1"/>
          <a:stretch/>
        </p:blipFill>
        <p:spPr>
          <a:xfrm>
            <a:off x="685800" y="1111320"/>
            <a:ext cx="77724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7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D:\PPT job\table\9781107070783book\Ch07\BROADBERRY_Tab. 7.7.jpg"/>
          <p:cNvPicPr/>
          <p:nvPr/>
        </p:nvPicPr>
        <p:blipFill>
          <a:blip r:embed="rId1"/>
          <a:stretch/>
        </p:blipFill>
        <p:spPr>
          <a:xfrm>
            <a:off x="2057400" y="1195560"/>
            <a:ext cx="5029200" cy="44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7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D:\PPT job\table\9781107070783book\Ch07\BROADBERRY_Tab. 7.8.jpg"/>
          <p:cNvPicPr/>
          <p:nvPr/>
        </p:nvPicPr>
        <p:blipFill>
          <a:blip r:embed="rId1"/>
          <a:stretch/>
        </p:blipFill>
        <p:spPr>
          <a:xfrm>
            <a:off x="1709640" y="2019240"/>
            <a:ext cx="57247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7.9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D:\PPT job\table\9781107070783book\Ch07\BROADBERRY_Tab. 7.9.jpg"/>
          <p:cNvPicPr/>
          <p:nvPr/>
        </p:nvPicPr>
        <p:blipFill>
          <a:blip r:embed="rId1"/>
          <a:stretch/>
        </p:blipFill>
        <p:spPr>
          <a:xfrm>
            <a:off x="977760" y="1265400"/>
            <a:ext cx="7188480" cy="43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6T05:10:51Z</dcterms:created>
  <dc:creator>Saravanan Ganesan, Integra-PDY, IN</dc:creator>
  <dc:description/>
  <dc:language>en-US</dc:language>
  <cp:lastModifiedBy>gc984</cp:lastModifiedBy>
  <dcterms:modified xsi:type="dcterms:W3CDTF">2015-01-28T08:52:19Z</dcterms:modified>
  <cp:revision>72</cp:revision>
  <dc:subject/>
  <dc:title>PowerPoint Presentation</dc:title>
</cp:coreProperties>
</file>