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184-94AC-495C-BB65-3CBC8F3A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3E0-08D9-4FD7-9510-DF14158B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D9F-6ECA-4587-BD2D-B4B924C4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EA5-1CA8-4949-88C5-0A9A03C1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5B5-1EEB-42DE-8B05-7DB776D8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067-481C-47B0-9D2B-97D06588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B2C-01DA-4D44-BD1F-91FB6349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A30-4991-47BA-AEE3-D9C0C256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BCB2-302B-47CD-A0F4-8D4354D8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C64-5096-452F-B026-12B6257C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F16-FFFC-4753-8F95-82ACFAC9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C73-13F2-481C-8E53-8C44D108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9AF4-493F-489E-95F5-A3D9C98EA2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D:\PPT job\table\9781107070783book\Ch10\BROADBERRY_Tab. 10_1.jpg"/>
          <p:cNvPicPr/>
          <p:nvPr/>
        </p:nvPicPr>
        <p:blipFill>
          <a:blip r:embed="rId1"/>
          <a:stretch/>
        </p:blipFill>
        <p:spPr>
          <a:xfrm>
            <a:off x="1079640" y="2131920"/>
            <a:ext cx="698472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0.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D:\PPT job\table\9781107070783book\Ch10\BROADBERRY_Tab. 10_2a.jpg"/>
          <p:cNvPicPr/>
          <p:nvPr/>
        </p:nvPicPr>
        <p:blipFill>
          <a:blip r:embed="rId1"/>
          <a:stretch/>
        </p:blipFill>
        <p:spPr>
          <a:xfrm>
            <a:off x="915840" y="1409760"/>
            <a:ext cx="7312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0.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:\PPT job\table\9781107070783book\Ch10\BROADBERRY_Tab. 10_2b.jpg"/>
          <p:cNvPicPr/>
          <p:nvPr/>
        </p:nvPicPr>
        <p:blipFill>
          <a:blip r:embed="rId1"/>
          <a:stretch/>
        </p:blipFill>
        <p:spPr>
          <a:xfrm>
            <a:off x="536400" y="2589120"/>
            <a:ext cx="807120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8T06:53:07Z</dcterms:modified>
  <cp:revision>78</cp:revision>
  <dc:subject/>
  <dc:title>PowerPoint Presentation</dc:title>
</cp:coreProperties>
</file>