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AEF-55F9-40FD-B632-21E46AD0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854-413D-4BCD-9EA8-D5A12F3D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E95-C1DE-4DA2-91E1-16A4FDAB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E2F-AB8D-4AB7-A31A-ADE23478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EEE-C41E-40B7-943B-1B00B32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BCA-BA8D-4154-8964-D18C6809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090-4979-497C-B458-EDB6DFD3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241-CC0F-4FB9-A459-76DB6E95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7EC-3632-48BE-886A-6D18A25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280-1D3A-440E-AF92-36034EC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C19-CA12-4EA5-B1B7-EF1641F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66DC-C460-4954-9111-CDD8BEA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5B9-52A7-4B2D-8498-1B0EED1444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6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D:\PPT job\table\9781107070783book\Ch06\BROADBERRY_Tab. 6_1.jpg"/>
          <p:cNvPicPr/>
          <p:nvPr/>
        </p:nvPicPr>
        <p:blipFill>
          <a:blip r:embed="rId1"/>
          <a:stretch/>
        </p:blipFill>
        <p:spPr>
          <a:xfrm>
            <a:off x="380880" y="2398680"/>
            <a:ext cx="8382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D:\PPT job\table\9781107070783book\Ch06\BROADBERRY_Tab. 6_2.jpg"/>
          <p:cNvPicPr/>
          <p:nvPr/>
        </p:nvPicPr>
        <p:blipFill>
          <a:blip r:embed="rId1"/>
          <a:stretch/>
        </p:blipFill>
        <p:spPr>
          <a:xfrm>
            <a:off x="1981080" y="1125360"/>
            <a:ext cx="518184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5:51:45Z</dcterms:modified>
  <cp:revision>69</cp:revision>
  <dc:subject/>
  <dc:title>PowerPoint Presentation</dc:title>
</cp:coreProperties>
</file>