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2C1-A10C-4A37-BC5B-E0CDDC79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AEE-CA84-477A-B42C-F173B5A8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68E-34B7-46EC-A025-B0AFFD8A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327-F3C1-44C1-9AFD-0B5CC0CD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BD2-C3E8-4AAC-9E36-C93D5622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C7F-23FD-4BE5-B50F-A7B4EB42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2BA-015A-41D4-A50D-6EFF1EAE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7F8-7DF1-4B91-8937-3FA0C0EB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C78-7EC9-4AC2-82A1-FD978D07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3E3-7E88-47F8-B948-0F39175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31D-3C44-4DEF-8DE7-4C7FE4EB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5E6-8697-407B-994E-17E95281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537D-19BA-47AD-86A4-DCCEE37933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D:\PPT job\table\9781107070783book\BROADBERRY_Tab. 11.1.jpg"/>
          <p:cNvPicPr/>
          <p:nvPr/>
        </p:nvPicPr>
        <p:blipFill>
          <a:blip r:embed="rId1"/>
          <a:stretch/>
        </p:blipFill>
        <p:spPr>
          <a:xfrm>
            <a:off x="1254240" y="2389320"/>
            <a:ext cx="663552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D:\PPT job\table\9781107070783book\BROADBERRY_Tab. 11.2.jpg"/>
          <p:cNvPicPr/>
          <p:nvPr/>
        </p:nvPicPr>
        <p:blipFill>
          <a:blip r:embed="rId1"/>
          <a:stretch/>
        </p:blipFill>
        <p:spPr>
          <a:xfrm>
            <a:off x="1461960" y="2619360"/>
            <a:ext cx="62200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D:\PPT job\table\9781107070783book\BROADBERRY_Tab. 11.3.jpg"/>
          <p:cNvPicPr/>
          <p:nvPr/>
        </p:nvPicPr>
        <p:blipFill>
          <a:blip r:embed="rId1"/>
          <a:stretch/>
        </p:blipFill>
        <p:spPr>
          <a:xfrm>
            <a:off x="838080" y="1824120"/>
            <a:ext cx="7467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D:\PPT job\table\9781107070783book\BROADBERRY_Tab. 11.4.jpg"/>
          <p:cNvPicPr/>
          <p:nvPr/>
        </p:nvPicPr>
        <p:blipFill>
          <a:blip r:embed="rId1"/>
          <a:stretch/>
        </p:blipFill>
        <p:spPr>
          <a:xfrm>
            <a:off x="1209600" y="1833480"/>
            <a:ext cx="67248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D:\PPT job\table\9781107070783book\BROADBERRY_Tab. 11.5.jpg"/>
          <p:cNvPicPr/>
          <p:nvPr/>
        </p:nvPicPr>
        <p:blipFill>
          <a:blip r:embed="rId1"/>
          <a:stretch/>
        </p:blipFill>
        <p:spPr>
          <a:xfrm>
            <a:off x="1390680" y="1700280"/>
            <a:ext cx="6362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8T07:11:34Z</dcterms:modified>
  <cp:revision>79</cp:revision>
  <dc:subject/>
  <dc:title>PowerPoint Presentation</dc:title>
</cp:coreProperties>
</file>