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7033-FC9F-4219-83D1-09D7455F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CBA-21E3-4CC2-9268-5C4283DA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19D-4DDB-4D5F-8107-6FB317AD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309-354A-4BB6-A4AC-AD593A01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A14-37D0-44F7-A025-96CD3494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546-A58C-4E72-89CA-9224D698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10EE-C162-4991-B7A7-0720A341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8EE-C72A-4580-86C1-431E3F11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B0B-E238-41D8-AB2B-6700E208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E7A7-81CC-4254-ACE4-A54FFF22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9BA-8A76-4092-902F-9D40FDEB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241-11D3-42B7-AED1-96CD8ED5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E65E-BB58-45EA-B68D-195E0B02CA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4.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D:\PPT job\table\9781107070783book\BROADBERRY_Tab. 4.1a.jpg"/>
          <p:cNvPicPr/>
          <p:nvPr/>
        </p:nvPicPr>
        <p:blipFill>
          <a:blip r:embed="rId1"/>
          <a:stretch/>
        </p:blipFill>
        <p:spPr>
          <a:xfrm>
            <a:off x="914400" y="1212840"/>
            <a:ext cx="7315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4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D:\PPT job\table\9781107070783book\BROADBERRY_Tab. 4.7.jpg"/>
          <p:cNvPicPr/>
          <p:nvPr/>
        </p:nvPicPr>
        <p:blipFill>
          <a:blip r:embed="rId1"/>
          <a:stretch/>
        </p:blipFill>
        <p:spPr>
          <a:xfrm>
            <a:off x="1981080" y="1192320"/>
            <a:ext cx="518184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4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D:\PPT job\table\9781107070783book\BROADBERRY_Tab. 4.8.jpg"/>
          <p:cNvPicPr/>
          <p:nvPr/>
        </p:nvPicPr>
        <p:blipFill>
          <a:blip r:embed="rId1"/>
          <a:stretch/>
        </p:blipFill>
        <p:spPr>
          <a:xfrm>
            <a:off x="1828800" y="1227240"/>
            <a:ext cx="548640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4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D:\PPT job\table\9781107070783book\BROADBERRY_Tab. 4.9.jpg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4.10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D:\PPT job\table\9781107070783book\BROADBERRY_Tab. 4.10a.jpg"/>
          <p:cNvPicPr/>
          <p:nvPr/>
        </p:nvPicPr>
        <p:blipFill>
          <a:blip r:embed="rId1"/>
          <a:stretch/>
        </p:blipFill>
        <p:spPr>
          <a:xfrm>
            <a:off x="609480" y="1676520"/>
            <a:ext cx="79250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4.10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D:\PPT job\table\9781107070783book\BROADBERRY_Tab. 4.10b.jpg"/>
          <p:cNvPicPr/>
          <p:nvPr/>
        </p:nvPicPr>
        <p:blipFill>
          <a:blip r:embed="rId1"/>
          <a:stretch/>
        </p:blipFill>
        <p:spPr>
          <a:xfrm>
            <a:off x="671400" y="2676600"/>
            <a:ext cx="78012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4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D:\PPT job\table\9781107070783book\BROADBERRY_Tab. 4.11.jpg"/>
          <p:cNvPicPr/>
          <p:nvPr/>
        </p:nvPicPr>
        <p:blipFill>
          <a:blip r:embed="rId1"/>
          <a:stretch/>
        </p:blipFill>
        <p:spPr>
          <a:xfrm>
            <a:off x="771480" y="1623960"/>
            <a:ext cx="76010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4.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D:\PPT job\table\9781107070783book\BROADBERRY_Tab. 4.1b.jpg"/>
          <p:cNvPicPr/>
          <p:nvPr/>
        </p:nvPicPr>
        <p:blipFill>
          <a:blip r:embed="rId1"/>
          <a:stretch/>
        </p:blipFill>
        <p:spPr>
          <a:xfrm>
            <a:off x="725400" y="1098720"/>
            <a:ext cx="7693200" cy="46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4.1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D:\PPT job\table\9781107070783book\BROADBERRY_Tab. 4.1c.jpg"/>
          <p:cNvPicPr/>
          <p:nvPr/>
        </p:nvPicPr>
        <p:blipFill>
          <a:blip r:embed="rId1"/>
          <a:stretch/>
        </p:blipFill>
        <p:spPr>
          <a:xfrm>
            <a:off x="909720" y="1114560"/>
            <a:ext cx="732456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4.1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D:\PPT job\table\9781107070783book\BROADBERRY_Tab. 4.1d.jpg"/>
          <p:cNvPicPr/>
          <p:nvPr/>
        </p:nvPicPr>
        <p:blipFill>
          <a:blip r:embed="rId1"/>
          <a:stretch/>
        </p:blipFill>
        <p:spPr>
          <a:xfrm>
            <a:off x="668160" y="1397160"/>
            <a:ext cx="780768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4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D:\PPT job\table\9781107070783book\BROADBERRY_Tab. 4.2.jpg"/>
          <p:cNvPicPr/>
          <p:nvPr/>
        </p:nvPicPr>
        <p:blipFill>
          <a:blip r:embed="rId1"/>
          <a:stretch/>
        </p:blipFill>
        <p:spPr>
          <a:xfrm>
            <a:off x="1425600" y="1128600"/>
            <a:ext cx="629280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4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D:\PPT job\table\9781107070783book\BROADBERRY_Tab. 4.3.jpg"/>
          <p:cNvPicPr/>
          <p:nvPr/>
        </p:nvPicPr>
        <p:blipFill>
          <a:blip r:embed="rId1"/>
          <a:stretch/>
        </p:blipFill>
        <p:spPr>
          <a:xfrm>
            <a:off x="1771560" y="1303200"/>
            <a:ext cx="560088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4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D:\PPT job\table\9781107070783book\BROADBERRY_Tab. 4.4.jpg"/>
          <p:cNvPicPr/>
          <p:nvPr/>
        </p:nvPicPr>
        <p:blipFill>
          <a:blip r:embed="rId1"/>
          <a:stretch/>
        </p:blipFill>
        <p:spPr>
          <a:xfrm>
            <a:off x="974880" y="1476360"/>
            <a:ext cx="71942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D:\PPT job\table\9781107070783book\BROADBERRY_Tab. 4.5.jpg"/>
          <p:cNvPicPr/>
          <p:nvPr/>
        </p:nvPicPr>
        <p:blipFill>
          <a:blip r:embed="rId1"/>
          <a:stretch/>
        </p:blipFill>
        <p:spPr>
          <a:xfrm>
            <a:off x="1544760" y="1362240"/>
            <a:ext cx="605448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4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D:\PPT job\table\9781107070783book\BROADBERRY_Tab. 4.6.jpg"/>
          <p:cNvPicPr/>
          <p:nvPr/>
        </p:nvPicPr>
        <p:blipFill>
          <a:blip r:embed="rId1"/>
          <a:stretch/>
        </p:blipFill>
        <p:spPr>
          <a:xfrm>
            <a:off x="2120760" y="1219320"/>
            <a:ext cx="4902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6T05:10:51Z</dcterms:created>
  <dc:creator>Saravanan Ganesan, Integra-PDY, IN</dc:creator>
  <dc:description/>
  <dc:language>en-US</dc:language>
  <cp:lastModifiedBy>gc984</cp:lastModifiedBy>
  <dcterms:modified xsi:type="dcterms:W3CDTF">2015-01-28T07:09:10Z</dcterms:modified>
  <cp:revision>67</cp:revision>
  <dc:subject/>
  <dc:title>PowerPoint Presentation</dc:title>
</cp:coreProperties>
</file>