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7DC-9479-425A-9C4D-A8324308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DEA-E0E6-4B91-930F-8221D931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E65-40FE-44A4-83B3-C36E7FBA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16C-CE3B-4F32-A6C8-023E435A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C77-EF91-4824-87C1-B406728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24E-A3A7-425A-8FEF-B82A513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05F-C41B-4493-A642-EB81BA39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EA2-A73F-4DBA-89D4-D6846BB1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158-7663-4EB1-B20B-FF4A75B9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4D3-37BC-4B7A-B91A-6463502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703-D355-4BFC-83AB-B3254A21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901-A611-4F64-AB34-3FDF7EC2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FFAC-60D6-40D0-852C-B553FF5A9F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:\PPT job\table\9781107070783book\BROADBERRY_Table. 1.01.jpg"/>
          <p:cNvPicPr/>
          <p:nvPr/>
        </p:nvPicPr>
        <p:blipFill>
          <a:blip r:embed="rId1"/>
          <a:stretch/>
        </p:blipFill>
        <p:spPr>
          <a:xfrm>
            <a:off x="2068560" y="1133640"/>
            <a:ext cx="50068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D:\PPT job\table\9781107070783book\BROADBERRY_Table. 1.08b.jpg"/>
          <p:cNvPicPr/>
          <p:nvPr/>
        </p:nvPicPr>
        <p:blipFill>
          <a:blip r:embed="rId1"/>
          <a:stretch/>
        </p:blipFill>
        <p:spPr>
          <a:xfrm>
            <a:off x="1376280" y="1828800"/>
            <a:ext cx="6391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9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:\PPT job\table\9781107070783book\BROADBERRY_Table. 1.09a.jpg"/>
          <p:cNvPicPr/>
          <p:nvPr/>
        </p:nvPicPr>
        <p:blipFill>
          <a:blip r:embed="rId1"/>
          <a:stretch/>
        </p:blipFill>
        <p:spPr>
          <a:xfrm>
            <a:off x="1658880" y="1325520"/>
            <a:ext cx="58262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9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PPT job\table\9781107070783book\BROADBERRY_Table. 1.09b.jpg"/>
          <p:cNvPicPr/>
          <p:nvPr/>
        </p:nvPicPr>
        <p:blipFill>
          <a:blip r:embed="rId1"/>
          <a:stretch/>
        </p:blipFill>
        <p:spPr>
          <a:xfrm>
            <a:off x="2786040" y="1073160"/>
            <a:ext cx="35719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PPT job\table\9781107070783book\BROADBERRY_Table. 1.10.jpg"/>
          <p:cNvPicPr/>
          <p:nvPr/>
        </p:nvPicPr>
        <p:blipFill>
          <a:blip r:embed="rId1"/>
          <a:stretch/>
        </p:blipFill>
        <p:spPr>
          <a:xfrm>
            <a:off x="1544760" y="2436840"/>
            <a:ext cx="60544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D:\PPT job\table\9781107070783book\BROADBERRY_Table. 1.11.jpg"/>
          <p:cNvPicPr/>
          <p:nvPr/>
        </p:nvPicPr>
        <p:blipFill>
          <a:blip r:embed="rId1"/>
          <a:stretch/>
        </p:blipFill>
        <p:spPr>
          <a:xfrm>
            <a:off x="2144880" y="1434960"/>
            <a:ext cx="485424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PPT job\table\9781107070783book\BROADBERRY_Tab. app1.1a.jpg"/>
          <p:cNvPicPr/>
          <p:nvPr/>
        </p:nvPicPr>
        <p:blipFill>
          <a:blip r:embed="rId1"/>
          <a:stretch/>
        </p:blipFill>
        <p:spPr>
          <a:xfrm>
            <a:off x="2971800" y="1104840"/>
            <a:ext cx="3200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D:\PPT job\table\9781107070783book\BROADBERRY_Tab. app1.1b.jpg"/>
          <p:cNvPicPr/>
          <p:nvPr/>
        </p:nvPicPr>
        <p:blipFill>
          <a:blip r:embed="rId1"/>
          <a:stretch/>
        </p:blipFill>
        <p:spPr>
          <a:xfrm>
            <a:off x="3235320" y="1185840"/>
            <a:ext cx="26733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1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PPT job\table\9781107070783book\BROADBERRY_Tab. app1.1c.jpg"/>
          <p:cNvPicPr/>
          <p:nvPr/>
        </p:nvPicPr>
        <p:blipFill>
          <a:blip r:embed="rId1"/>
          <a:stretch/>
        </p:blipFill>
        <p:spPr>
          <a:xfrm>
            <a:off x="3124080" y="1170000"/>
            <a:ext cx="28958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1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PPT job\table\9781107070783book\BROADBERRY_Tab. app1.1d.jpg"/>
          <p:cNvPicPr/>
          <p:nvPr/>
        </p:nvPicPr>
        <p:blipFill>
          <a:blip r:embed="rId1"/>
          <a:stretch/>
        </p:blipFill>
        <p:spPr>
          <a:xfrm>
            <a:off x="3048120" y="1084320"/>
            <a:ext cx="304776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1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PPT job\table\9781107070783book\BROADBERRY_Tab. app1.1e.jpg"/>
          <p:cNvPicPr/>
          <p:nvPr/>
        </p:nvPicPr>
        <p:blipFill>
          <a:blip r:embed="rId1"/>
          <a:stretch/>
        </p:blipFill>
        <p:spPr>
          <a:xfrm>
            <a:off x="3124080" y="1122480"/>
            <a:ext cx="289584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D:\PPT job\table\9781107070783book\BROADBERRY_Table. 1.02.jpg"/>
          <p:cNvPicPr/>
          <p:nvPr/>
        </p:nvPicPr>
        <p:blipFill>
          <a:blip r:embed="rId1"/>
          <a:stretch/>
        </p:blipFill>
        <p:spPr>
          <a:xfrm>
            <a:off x="1471680" y="1211400"/>
            <a:ext cx="62006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1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D:\PPT job\table\9781107070783book\BROADBERRY_Tab. app1.1f.jpg"/>
          <p:cNvPicPr/>
          <p:nvPr/>
        </p:nvPicPr>
        <p:blipFill>
          <a:blip r:embed="rId1"/>
          <a:stretch/>
        </p:blipFill>
        <p:spPr>
          <a:xfrm>
            <a:off x="3276720" y="1065240"/>
            <a:ext cx="25905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1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PPT job\table\9781107070783book\BROADBERRY_Tab. app1.1g.jpg"/>
          <p:cNvPicPr/>
          <p:nvPr/>
        </p:nvPicPr>
        <p:blipFill>
          <a:blip r:embed="rId1"/>
          <a:stretch/>
        </p:blipFill>
        <p:spPr>
          <a:xfrm>
            <a:off x="3276720" y="1063800"/>
            <a:ext cx="2590560" cy="47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PPT job\table\9781107070783book\BROADBERRY_Tab. app1.1h.jpg"/>
          <p:cNvPicPr/>
          <p:nvPr/>
        </p:nvPicPr>
        <p:blipFill>
          <a:blip r:embed="rId1"/>
          <a:stretch/>
        </p:blipFill>
        <p:spPr>
          <a:xfrm>
            <a:off x="2916360" y="2690640"/>
            <a:ext cx="3311280" cy="14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D:\PPT job\table\9781107070783book\BROADBERRY_Tab. app1.2a.jpg"/>
          <p:cNvPicPr/>
          <p:nvPr/>
        </p:nvPicPr>
        <p:blipFill>
          <a:blip r:embed="rId1"/>
          <a:stretch/>
        </p:blipFill>
        <p:spPr>
          <a:xfrm>
            <a:off x="2438280" y="1096920"/>
            <a:ext cx="42674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D:\PPT job\table\9781107070783book\BROADBERRY_Tab. app1.2b.jpg"/>
          <p:cNvPicPr/>
          <p:nvPr/>
        </p:nvPicPr>
        <p:blipFill>
          <a:blip r:embed="rId1"/>
          <a:stretch/>
        </p:blipFill>
        <p:spPr>
          <a:xfrm>
            <a:off x="3186000" y="1179360"/>
            <a:ext cx="277200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2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D:\PPT job\table\9781107070783book\BROADBERRY_Tab. app1.2c.jpg"/>
          <p:cNvPicPr/>
          <p:nvPr/>
        </p:nvPicPr>
        <p:blipFill>
          <a:blip r:embed="rId1"/>
          <a:stretch/>
        </p:blipFill>
        <p:spPr>
          <a:xfrm>
            <a:off x="3160800" y="1071720"/>
            <a:ext cx="282240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D:\PPT job\table\9781107070783book\BROADBERRY_Tab. app1.2d.jpg"/>
          <p:cNvPicPr/>
          <p:nvPr/>
        </p:nvPicPr>
        <p:blipFill>
          <a:blip r:embed="rId1"/>
          <a:stretch/>
        </p:blipFill>
        <p:spPr>
          <a:xfrm>
            <a:off x="3076560" y="1077840"/>
            <a:ext cx="29908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app1.2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D:\PPT job\table\9781107070783book\BROADBERRY_Tab. app1.2e.jpg"/>
          <p:cNvPicPr/>
          <p:nvPr/>
        </p:nvPicPr>
        <p:blipFill>
          <a:blip r:embed="rId1"/>
          <a:stretch/>
        </p:blipFill>
        <p:spPr>
          <a:xfrm>
            <a:off x="2435400" y="1452600"/>
            <a:ext cx="4275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:\PPT job\table\9781107070783book\BROADBERRY_Table. 1.03.jpg"/>
          <p:cNvPicPr/>
          <p:nvPr/>
        </p:nvPicPr>
        <p:blipFill>
          <a:blip r:embed="rId1"/>
          <a:stretch/>
        </p:blipFill>
        <p:spPr>
          <a:xfrm>
            <a:off x="990720" y="1636560"/>
            <a:ext cx="716256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:\PPT job\table\9781107070783book\BROADBERRY_Table. 1.04.jpg"/>
          <p:cNvPicPr/>
          <p:nvPr/>
        </p:nvPicPr>
        <p:blipFill>
          <a:blip r:embed="rId1"/>
          <a:stretch/>
        </p:blipFill>
        <p:spPr>
          <a:xfrm>
            <a:off x="2895480" y="1147680"/>
            <a:ext cx="33530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:\PPT job\table\9781107070783book\BROADBERRY_Table. 1.05.jpg"/>
          <p:cNvPicPr/>
          <p:nvPr/>
        </p:nvPicPr>
        <p:blipFill>
          <a:blip r:embed="rId1"/>
          <a:stretch/>
        </p:blipFill>
        <p:spPr>
          <a:xfrm>
            <a:off x="2309760" y="1236600"/>
            <a:ext cx="45244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:\PPT job\table\9781107070783book\BROADBERRY_Table. 1.06.jpg"/>
          <p:cNvPicPr/>
          <p:nvPr/>
        </p:nvPicPr>
        <p:blipFill>
          <a:blip r:embed="rId1"/>
          <a:stretch/>
        </p:blipFill>
        <p:spPr>
          <a:xfrm>
            <a:off x="1376280" y="1967040"/>
            <a:ext cx="6391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7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D:\PPT job\table\9781107070783book\BROADBERRY_Table. 1.07a.jpg"/>
          <p:cNvPicPr/>
          <p:nvPr/>
        </p:nvPicPr>
        <p:blipFill>
          <a:blip r:embed="rId1"/>
          <a:stretch/>
        </p:blipFill>
        <p:spPr>
          <a:xfrm>
            <a:off x="3078000" y="1128600"/>
            <a:ext cx="298800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7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D:\PPT job\table\9781107070783book\BROADBERRY_Table. 1.07b.jpg"/>
          <p:cNvPicPr/>
          <p:nvPr/>
        </p:nvPicPr>
        <p:blipFill>
          <a:blip r:embed="rId1"/>
          <a:stretch/>
        </p:blipFill>
        <p:spPr>
          <a:xfrm>
            <a:off x="1477800" y="1879560"/>
            <a:ext cx="61884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Tab. 1.8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:\PPT job\table\9781107070783book\BROADBERRY_Table. 1.08a.jpg"/>
          <p:cNvPicPr/>
          <p:nvPr/>
        </p:nvPicPr>
        <p:blipFill>
          <a:blip r:embed="rId1"/>
          <a:stretch/>
        </p:blipFill>
        <p:spPr>
          <a:xfrm>
            <a:off x="3129120" y="1198440"/>
            <a:ext cx="2885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8T08:02:57Z</dcterms:modified>
  <cp:revision>49</cp:revision>
  <dc:subject/>
  <dc:title>PowerPoint Presentation</dc:title>
</cp:coreProperties>
</file>