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312-AF2D-43E1-A8E4-74776441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1D7-9B2E-4D0A-B400-EBA4F513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F15-843D-442F-9EB2-B6DAC5D3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ADC-EE25-491E-92B0-3196DE9E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E26-1659-4253-848F-EF60AEF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A79-C4B2-414F-BF8C-BD5088D3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88A-28E9-40A7-B30B-C34EB84D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C0A-770D-4E33-9605-DA76A242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2C9-2581-4A6D-BA18-7A3615B0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749-4159-451A-881C-64A667F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D1C-44CD-44CA-BB2E-8DA2FF9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6A8-9F05-4D52-B3C5-8AB1BE8B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323C-E3CA-44B1-8207-2D8FFCA962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D:\PPT job\table\9781107070783book\BROADBERRY_Tab. 2.1.jpg"/>
          <p:cNvPicPr/>
          <p:nvPr/>
        </p:nvPicPr>
        <p:blipFill>
          <a:blip r:embed="rId1"/>
          <a:stretch/>
        </p:blipFill>
        <p:spPr>
          <a:xfrm>
            <a:off x="1697040" y="1647720"/>
            <a:ext cx="57499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D:\PPT job\table\9781107070783book\BROADBERRY_Tab. 2.7a.jpg"/>
          <p:cNvPicPr/>
          <p:nvPr/>
        </p:nvPicPr>
        <p:blipFill>
          <a:blip r:embed="rId1"/>
          <a:stretch/>
        </p:blipFill>
        <p:spPr>
          <a:xfrm>
            <a:off x="3048120" y="1162080"/>
            <a:ext cx="30477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7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D:\PPT job\table\9781107070783book\BROADBERRY_Tab. 2.7b.jpg"/>
          <p:cNvPicPr/>
          <p:nvPr/>
        </p:nvPicPr>
        <p:blipFill>
          <a:blip r:embed="rId1"/>
          <a:stretch/>
        </p:blipFill>
        <p:spPr>
          <a:xfrm>
            <a:off x="1725480" y="1541520"/>
            <a:ext cx="569304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D:\PPT job\table\9781107070783book\BROADBERRY_Tab. 2.8.jpg"/>
          <p:cNvPicPr/>
          <p:nvPr/>
        </p:nvPicPr>
        <p:blipFill>
          <a:blip r:embed="rId1"/>
          <a:stretch/>
        </p:blipFill>
        <p:spPr>
          <a:xfrm>
            <a:off x="932040" y="2236680"/>
            <a:ext cx="72799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D:\PPT job\table\9781107070783book\BROADBERRY_Tab. 2.9.jpg"/>
          <p:cNvPicPr/>
          <p:nvPr/>
        </p:nvPicPr>
        <p:blipFill>
          <a:blip r:embed="rId1"/>
          <a:stretch/>
        </p:blipFill>
        <p:spPr>
          <a:xfrm>
            <a:off x="861840" y="2119320"/>
            <a:ext cx="7420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:\PPT job\table\9781107070783book\BROADBERRY_Tab. 2.10.jpg"/>
          <p:cNvPicPr/>
          <p:nvPr/>
        </p:nvPicPr>
        <p:blipFill>
          <a:blip r:embed="rId1"/>
          <a:stretch/>
        </p:blipFill>
        <p:spPr>
          <a:xfrm>
            <a:off x="1979640" y="1468440"/>
            <a:ext cx="5184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D:\PPT job\table\9781107070783book\BROADBERRY_Tab. 2.2.jpg"/>
          <p:cNvPicPr/>
          <p:nvPr/>
        </p:nvPicPr>
        <p:blipFill>
          <a:blip r:embed="rId1"/>
          <a:stretch/>
        </p:blipFill>
        <p:spPr>
          <a:xfrm>
            <a:off x="1647720" y="1976400"/>
            <a:ext cx="58485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:\PPT job\table\9781107070783book\BROADBERRY_Tab. 2.3.jpg"/>
          <p:cNvPicPr/>
          <p:nvPr/>
        </p:nvPicPr>
        <p:blipFill>
          <a:blip r:embed="rId1"/>
          <a:stretch/>
        </p:blipFill>
        <p:spPr>
          <a:xfrm>
            <a:off x="1787400" y="1654200"/>
            <a:ext cx="5569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3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D:\PPT job\table\9781107070783book\BROADBERRY_Tab. 2.4.jpg"/>
          <p:cNvPicPr/>
          <p:nvPr/>
        </p:nvPicPr>
        <p:blipFill>
          <a:blip r:embed="rId1"/>
          <a:stretch/>
        </p:blipFill>
        <p:spPr>
          <a:xfrm>
            <a:off x="2971800" y="1116000"/>
            <a:ext cx="32004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PPT job\table\9781107070783book\BROADBERRY_Tab. 2.4.jpg"/>
          <p:cNvPicPr/>
          <p:nvPr/>
        </p:nvPicPr>
        <p:blipFill>
          <a:blip r:embed="rId1"/>
          <a:stretch/>
        </p:blipFill>
        <p:spPr>
          <a:xfrm>
            <a:off x="2438280" y="1081080"/>
            <a:ext cx="4267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5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D:\PPT job\table\9781107070783book\BROADBERRY_Tab. 2.5a.jpg"/>
          <p:cNvPicPr/>
          <p:nvPr/>
        </p:nvPicPr>
        <p:blipFill>
          <a:blip r:embed="rId1"/>
          <a:stretch/>
        </p:blipFill>
        <p:spPr>
          <a:xfrm>
            <a:off x="2590920" y="1157400"/>
            <a:ext cx="396216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5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D:\PPT job\table\9781107070783book\BROADBERRY_Tab. 2.5b.jpg"/>
          <p:cNvPicPr/>
          <p:nvPr/>
        </p:nvPicPr>
        <p:blipFill>
          <a:blip r:embed="rId1"/>
          <a:stretch/>
        </p:blipFill>
        <p:spPr>
          <a:xfrm>
            <a:off x="2165400" y="1198440"/>
            <a:ext cx="481320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6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:\PPT job\table\9781107070783book\BROADBERRY_Tab. 2.6a.jpg"/>
          <p:cNvPicPr/>
          <p:nvPr/>
        </p:nvPicPr>
        <p:blipFill>
          <a:blip r:embed="rId1"/>
          <a:stretch/>
        </p:blipFill>
        <p:spPr>
          <a:xfrm>
            <a:off x="3048120" y="1081080"/>
            <a:ext cx="30477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2.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:\PPT job\table\9781107070783book\BROADBERRY_Tab. 2.6b.jpg"/>
          <p:cNvPicPr/>
          <p:nvPr/>
        </p:nvPicPr>
        <p:blipFill>
          <a:blip r:embed="rId1"/>
          <a:stretch/>
        </p:blipFill>
        <p:spPr>
          <a:xfrm>
            <a:off x="1647720" y="1600200"/>
            <a:ext cx="5848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7:08:13Z</dcterms:modified>
  <cp:revision>51</cp:revision>
  <dc:subject/>
  <dc:title>PowerPoint Presentation</dc:title>
</cp:coreProperties>
</file>