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72F58-E082-498C-B788-974230C55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1E40B-F70C-4954-9405-A5357C880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2915C-610D-4216-AC31-137456755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A1A48-6A90-4F78-BC78-741E9B71B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AFB2B-FDF2-4730-B82F-A4E2DCC8F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1504E-3262-4C70-87CC-BC566510B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BBACA-45ED-4F3B-89C9-2D2A791AB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95578-7DEA-4A05-B6D1-7184E2C1E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D8570-A0E8-4D5B-A697-9D2CA7876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477A0-2A21-49D9-A9EC-7B5B5000C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B74AE-9BD8-4345-B66F-0527D664C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17680-3241-4EC5-8046-1CD96E7DC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A3569-012C-4D96-BA98-B04DE4457C3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0" y="6553080"/>
            <a:ext cx="91440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Cambridge University Press 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371600" y="5791320"/>
            <a:ext cx="640080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OADBERRY_Tab. 9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4" descr="D:\PPT job\table\9781107070783book\Ch09\BROADBERRY_Tab. 9.1.jpg"/>
          <p:cNvPicPr/>
          <p:nvPr/>
        </p:nvPicPr>
        <p:blipFill>
          <a:blip r:embed="rId1"/>
          <a:stretch/>
        </p:blipFill>
        <p:spPr>
          <a:xfrm>
            <a:off x="1619280" y="1189080"/>
            <a:ext cx="5905440" cy="447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4"/>
          <p:cNvSpPr/>
          <p:nvPr/>
        </p:nvSpPr>
        <p:spPr>
          <a:xfrm>
            <a:off x="0" y="6553080"/>
            <a:ext cx="91440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Cambridge University Press 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371600" y="5791320"/>
            <a:ext cx="640080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OADBERRY_Tab. 9.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" descr="D:\PPT job\table\9781107070783book\Ch09\BROADBERRY_Tab. 9.7.jpg"/>
          <p:cNvPicPr/>
          <p:nvPr/>
        </p:nvPicPr>
        <p:blipFill>
          <a:blip r:embed="rId1"/>
          <a:stretch/>
        </p:blipFill>
        <p:spPr>
          <a:xfrm>
            <a:off x="735120" y="2627280"/>
            <a:ext cx="7673760" cy="16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4"/>
          <p:cNvSpPr/>
          <p:nvPr/>
        </p:nvSpPr>
        <p:spPr>
          <a:xfrm>
            <a:off x="0" y="6553080"/>
            <a:ext cx="91440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Cambridge University Press 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371600" y="5791320"/>
            <a:ext cx="640080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OADBERRY_Tab. 9.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2" descr="D:\PPT job\table\9781107070783book\Ch09\BROADBERRY_Tab. 9.8.jpg"/>
          <p:cNvPicPr/>
          <p:nvPr/>
        </p:nvPicPr>
        <p:blipFill>
          <a:blip r:embed="rId1"/>
          <a:stretch/>
        </p:blipFill>
        <p:spPr>
          <a:xfrm>
            <a:off x="533520" y="1752480"/>
            <a:ext cx="807696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4"/>
          <p:cNvSpPr/>
          <p:nvPr/>
        </p:nvSpPr>
        <p:spPr>
          <a:xfrm>
            <a:off x="0" y="6553080"/>
            <a:ext cx="91440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Cambridge University Press 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1371600" y="5791320"/>
            <a:ext cx="640080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OADBERRY_Tab. 9.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2" descr="D:\PPT job\table\9781107070783book\Ch09\BROADBERRY_Tab. 9.9.jpg"/>
          <p:cNvPicPr/>
          <p:nvPr/>
        </p:nvPicPr>
        <p:blipFill>
          <a:blip r:embed="rId1"/>
          <a:stretch/>
        </p:blipFill>
        <p:spPr>
          <a:xfrm>
            <a:off x="1819440" y="1339920"/>
            <a:ext cx="5505120" cy="41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4"/>
          <p:cNvSpPr/>
          <p:nvPr/>
        </p:nvSpPr>
        <p:spPr>
          <a:xfrm>
            <a:off x="0" y="6553080"/>
            <a:ext cx="91440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Cambridge University Press 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1371600" y="5791320"/>
            <a:ext cx="640080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OADBERRY_Tab. 9.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" descr="D:\PPT job\table\9781107070783book\Ch09\BROADBERRY_Tab. 9.10.jpg"/>
          <p:cNvPicPr/>
          <p:nvPr/>
        </p:nvPicPr>
        <p:blipFill>
          <a:blip r:embed="rId1"/>
          <a:stretch/>
        </p:blipFill>
        <p:spPr>
          <a:xfrm>
            <a:off x="747720" y="2266920"/>
            <a:ext cx="7648560" cy="23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"/>
          <p:cNvSpPr/>
          <p:nvPr/>
        </p:nvSpPr>
        <p:spPr>
          <a:xfrm>
            <a:off x="0" y="6553080"/>
            <a:ext cx="91440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Cambridge University Press 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371600" y="5791320"/>
            <a:ext cx="640080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OADBERRY_Tab. 9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7" descr="D:\PPT job\table\9781107070783book\Ch09\BROADBERRY_Tab. 9.2.jpg"/>
          <p:cNvPicPr/>
          <p:nvPr/>
        </p:nvPicPr>
        <p:blipFill>
          <a:blip r:embed="rId1"/>
          <a:stretch/>
        </p:blipFill>
        <p:spPr>
          <a:xfrm>
            <a:off x="801720" y="2058840"/>
            <a:ext cx="7540560" cy="27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4"/>
          <p:cNvSpPr/>
          <p:nvPr/>
        </p:nvSpPr>
        <p:spPr>
          <a:xfrm>
            <a:off x="0" y="6553080"/>
            <a:ext cx="91440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Cambridge University Press 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371600" y="5791320"/>
            <a:ext cx="640080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OADBERRY_Tab. 9.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D:\PPT job\table\9781107070783book\Ch09\BROADBERRY_Tab. 9.3.jpg"/>
          <p:cNvPicPr/>
          <p:nvPr/>
        </p:nvPicPr>
        <p:blipFill>
          <a:blip r:embed="rId1"/>
          <a:stretch/>
        </p:blipFill>
        <p:spPr>
          <a:xfrm>
            <a:off x="554040" y="1776240"/>
            <a:ext cx="8035920" cy="33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4"/>
          <p:cNvSpPr/>
          <p:nvPr/>
        </p:nvSpPr>
        <p:spPr>
          <a:xfrm>
            <a:off x="0" y="6553080"/>
            <a:ext cx="91440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Cambridge University Press 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1371600" y="5791320"/>
            <a:ext cx="640080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OADBERRY_Tab. 9.4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D:\PPT job\table\9781107070783book\Ch09\BROADBERRY_Tab. 9.4a.jpg"/>
          <p:cNvPicPr/>
          <p:nvPr/>
        </p:nvPicPr>
        <p:blipFill>
          <a:blip r:embed="rId1"/>
          <a:stretch/>
        </p:blipFill>
        <p:spPr>
          <a:xfrm>
            <a:off x="604800" y="1447920"/>
            <a:ext cx="793440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4"/>
          <p:cNvSpPr/>
          <p:nvPr/>
        </p:nvSpPr>
        <p:spPr>
          <a:xfrm>
            <a:off x="0" y="6553080"/>
            <a:ext cx="91440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Cambridge University Press 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371600" y="5791320"/>
            <a:ext cx="640080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OADBERRY_Tab. 9.4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D:\PPT job\table\9781107070783book\Ch09\BROADBERRY_Tab. 9.4b.jpg"/>
          <p:cNvPicPr/>
          <p:nvPr/>
        </p:nvPicPr>
        <p:blipFill>
          <a:blip r:embed="rId1"/>
          <a:stretch/>
        </p:blipFill>
        <p:spPr>
          <a:xfrm>
            <a:off x="490680" y="2475000"/>
            <a:ext cx="8162640" cy="19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4"/>
          <p:cNvSpPr/>
          <p:nvPr/>
        </p:nvSpPr>
        <p:spPr>
          <a:xfrm>
            <a:off x="0" y="6553080"/>
            <a:ext cx="91440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Cambridge University Press 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371600" y="5791320"/>
            <a:ext cx="640080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OADBERRY_Tab. 9.5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6" descr="D:\PPT job\table\9781107070783book\Ch09\BROADBERRY_Tab. 9.5a.jpg"/>
          <p:cNvPicPr/>
          <p:nvPr/>
        </p:nvPicPr>
        <p:blipFill>
          <a:blip r:embed="rId1"/>
          <a:stretch/>
        </p:blipFill>
        <p:spPr>
          <a:xfrm>
            <a:off x="533520" y="1409760"/>
            <a:ext cx="807696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4"/>
          <p:cNvSpPr/>
          <p:nvPr/>
        </p:nvSpPr>
        <p:spPr>
          <a:xfrm>
            <a:off x="0" y="6553080"/>
            <a:ext cx="91440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Cambridge University Press 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371600" y="5791320"/>
            <a:ext cx="640080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OADBERRY_Tab. 9.5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D:\PPT job\table\9781107070783book\Ch09\BROADBERRY_Tab. 9.5b.jpg"/>
          <p:cNvPicPr/>
          <p:nvPr/>
        </p:nvPicPr>
        <p:blipFill>
          <a:blip r:embed="rId1"/>
          <a:stretch/>
        </p:blipFill>
        <p:spPr>
          <a:xfrm>
            <a:off x="650880" y="2895480"/>
            <a:ext cx="7748640" cy="6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4"/>
          <p:cNvSpPr/>
          <p:nvPr/>
        </p:nvSpPr>
        <p:spPr>
          <a:xfrm>
            <a:off x="0" y="6553080"/>
            <a:ext cx="91440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Cambridge University Press 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371600" y="5791320"/>
            <a:ext cx="640080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OADBERRY_Tab. 9.6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D:\PPT job\table\9781107070783book\Ch09\BROADBERRY_Tab. 9.6a.jpg"/>
          <p:cNvPicPr/>
          <p:nvPr/>
        </p:nvPicPr>
        <p:blipFill>
          <a:blip r:embed="rId1"/>
          <a:stretch/>
        </p:blipFill>
        <p:spPr>
          <a:xfrm>
            <a:off x="657360" y="1371600"/>
            <a:ext cx="78292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4"/>
          <p:cNvSpPr/>
          <p:nvPr/>
        </p:nvSpPr>
        <p:spPr>
          <a:xfrm>
            <a:off x="0" y="6553080"/>
            <a:ext cx="91440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Cambridge University Press 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1371600" y="5791320"/>
            <a:ext cx="640080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OADBERRY_Tab. 9.6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2" descr="D:\PPT job\table\9781107070783book\Ch09\BROADBERRY_Tab. 9.6b.jpg"/>
          <p:cNvPicPr/>
          <p:nvPr/>
        </p:nvPicPr>
        <p:blipFill>
          <a:blip r:embed="rId1"/>
          <a:stretch/>
        </p:blipFill>
        <p:spPr>
          <a:xfrm>
            <a:off x="306360" y="3051000"/>
            <a:ext cx="8531280" cy="7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6T05:10:51Z</dcterms:created>
  <dc:creator>Saravanan Ganesan, Integra-PDY, IN</dc:creator>
  <dc:description/>
  <dc:language>en-US</dc:language>
  <cp:lastModifiedBy>gc984</cp:lastModifiedBy>
  <dcterms:modified xsi:type="dcterms:W3CDTF">2015-01-28T07:10:56Z</dcterms:modified>
  <cp:revision>77</cp:revision>
  <dc:subject/>
  <dc:title>PowerPoint Presentation</dc:title>
</cp:coreProperties>
</file>