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95E-8584-4765-92FD-49E956E0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269-9AF4-4809-B936-02698A40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BC8-1C7F-4755-A706-04BCDD88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F8F-8C97-4638-AA8B-70530B0C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2B7-8ABD-431B-98BF-B5DC172C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463-AEA9-4898-A140-02BE3F12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E71-87CD-44D2-937F-9CFAA701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B11-18BE-456B-A7CE-4538C3A9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665-E5DE-46A9-B5C0-6B111922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130-9554-43E2-8B19-F687B36B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285-AE8A-44DC-A16D-B606923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EA7-B053-4EC8-BC94-C1D66E5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178B-8B40-460D-8954-5D5BD4D652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380880"/>
            <a:ext cx="106887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Deformation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of continuous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medium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53520" y="6095880"/>
            <a:ext cx="71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 gap is created in place where the block initially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733920"/>
            <a:ext cx="1752480" cy="1218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3400" y="998640"/>
            <a:ext cx="7456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Grow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of a diapi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in a continuou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med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120" y="6156360"/>
            <a:ext cx="631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apir is the result of Rayleigh-Taylor inst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iven by density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66800" y="51814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00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9080" y="44197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00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0320" y="34290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initial pertur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38080" y="228600"/>
            <a:ext cx="0" cy="5867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72000" y="29703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4720" y="998640"/>
            <a:ext cx="865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ising o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buoyant rigid bloc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through a continuou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66600" y="16002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00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838080" y="228600"/>
            <a:ext cx="0" cy="5867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-72000" y="29703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733920"/>
            <a:ext cx="17524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66600" y="38862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00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1240" y="624852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ormation of medium surrounding rigid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73880" y="6095880"/>
            <a:ext cx="67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inuous velocity field during the diapiric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49:50Z</dcterms:created>
  <dc:creator>TarasG</dc:creator>
  <dc:description/>
  <dc:language>en-US</dc:language>
  <cp:lastModifiedBy>Taras Gerya</cp:lastModifiedBy>
  <dcterms:modified xsi:type="dcterms:W3CDTF">2007-05-15T12:53:50Z</dcterms:modified>
  <cp:revision>164</cp:revision>
  <dc:subject/>
  <dc:title>Kein Folientitel</dc:title>
</cp:coreProperties>
</file>