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3C6A-F223-4125-A95A-61F277339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80BE-C1D8-41D0-AE9E-26EB25DE3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7214-D360-4F7D-95A0-F34CD8A42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78D62-14DC-419A-BB2A-195F68C1A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8E9D-E226-4497-A11D-D68095A5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7D1B-416B-4AA4-B427-BEDFA32B5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7B66-A971-45D3-9690-C1EE03642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01CAE-A8AB-4B62-A7B7-FFCB8D80A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6D17-32C5-43FA-815D-28C183F8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465-78E8-45D2-A7B0-2FE9A11F4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14AC-AEDA-4156-AB55-B12D7F27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D5E2-20A2-4399-9B3A-F05794B00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3824-842E-486D-B15E-63AB29A271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rix Multiplication and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airs Shortest Pa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from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8248680" cy="2923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0880" y="3352680"/>
            <a:ext cx="5051520" cy="2617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5486400" y="3352680"/>
            <a:ext cx="2228760" cy="27082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152280" y="6299280"/>
            <a:ext cx="2362320" cy="365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2664000" y="6172200"/>
            <a:ext cx="6480000" cy="5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76320" y="533520"/>
            <a:ext cx="8934480" cy="17334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646280" y="2590920"/>
            <a:ext cx="3695760" cy="40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2280" y="1390680"/>
            <a:ext cx="8915400" cy="41148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83000" y="2590920"/>
            <a:ext cx="3978000" cy="14968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rix Multi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279440" y="257040"/>
            <a:ext cx="6583320" cy="634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6160" y="4680"/>
            <a:ext cx="705168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71880" y="685800"/>
            <a:ext cx="2871720" cy="27226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000080" y="3886200"/>
            <a:ext cx="3038400" cy="29019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886280" y="3879720"/>
            <a:ext cx="3038400" cy="290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371600" y="1685880"/>
            <a:ext cx="6400800" cy="34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 Pairs Shortest Pa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033640" y="528480"/>
            <a:ext cx="5076720" cy="580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782720" y="1033560"/>
            <a:ext cx="557856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9:31:43Z</dcterms:created>
  <dc:creator>Lauren Cowles</dc:creator>
  <dc:description/>
  <dc:language>en-US</dc:language>
  <cp:lastModifiedBy>Lauren Cowles</cp:lastModifiedBy>
  <dcterms:modified xsi:type="dcterms:W3CDTF">2008-06-16T19:36:08Z</dcterms:modified>
  <cp:revision>1</cp:revision>
  <dc:subject/>
  <dc:title>Matrix Multiplication and  All Pairs Shortest Path</dc:title>
</cp:coreProperties>
</file>