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5882-A98F-4206-8C38-2D2950F8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E968-E31C-41C7-9BD6-E2E47750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873D-7FB0-4C21-9860-F6B22216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84AD-AE7E-462D-A2C9-CC9422E9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05AB-F859-4ED9-9FE4-7A85CA64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1BC7-18F3-442D-B711-9720B5A8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2C65-95A1-4C1C-99FB-B76852EE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73B0-7348-422E-AFA1-889A8463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9151-DF83-4F97-B79B-D5797E54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A37B-36E0-4657-9678-EB86969C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0BAB-B557-4697-AF33-FF16EBD9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5FC2-F867-4E6A-9FAB-6530098A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E124-F0E1-464F-9231-B48C00F61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304920" y="259092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28600" y="38862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mospheric St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9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10071fig9_1.jpg"/>
          <p:cNvPicPr/>
          <p:nvPr/>
        </p:nvPicPr>
        <p:blipFill>
          <a:blip r:embed="rId1"/>
          <a:stretch/>
        </p:blipFill>
        <p:spPr>
          <a:xfrm>
            <a:off x="2556000" y="1893960"/>
            <a:ext cx="403200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9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10071fig9_2.jpg"/>
          <p:cNvPicPr/>
          <p:nvPr/>
        </p:nvPicPr>
        <p:blipFill>
          <a:blip r:embed="rId1"/>
          <a:stretch/>
        </p:blipFill>
        <p:spPr>
          <a:xfrm>
            <a:off x="2589120" y="1863720"/>
            <a:ext cx="396576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9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10071fig9_3.jpg"/>
          <p:cNvPicPr/>
          <p:nvPr/>
        </p:nvPicPr>
        <p:blipFill>
          <a:blip r:embed="rId1"/>
          <a:stretch/>
        </p:blipFill>
        <p:spPr>
          <a:xfrm>
            <a:off x="2209680" y="1171440"/>
            <a:ext cx="472464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9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10071fig9_4.jpg"/>
          <p:cNvPicPr/>
          <p:nvPr/>
        </p:nvPicPr>
        <p:blipFill>
          <a:blip r:embed="rId1"/>
          <a:stretch/>
        </p:blipFill>
        <p:spPr>
          <a:xfrm>
            <a:off x="2503440" y="1603440"/>
            <a:ext cx="413712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9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10071fig9_5.jpg"/>
          <p:cNvPicPr/>
          <p:nvPr/>
        </p:nvPicPr>
        <p:blipFill>
          <a:blip r:embed="rId1"/>
          <a:stretch/>
        </p:blipFill>
        <p:spPr>
          <a:xfrm>
            <a:off x="1547640" y="1033560"/>
            <a:ext cx="604872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9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10071fig9_6.jpg"/>
          <p:cNvPicPr/>
          <p:nvPr/>
        </p:nvPicPr>
        <p:blipFill>
          <a:blip r:embed="rId1"/>
          <a:stretch/>
        </p:blipFill>
        <p:spPr>
          <a:xfrm>
            <a:off x="2244600" y="2517840"/>
            <a:ext cx="465480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9T11:35:20Z</dcterms:created>
  <dc:creator>naveen</dc:creator>
  <dc:description/>
  <dc:language>en-US</dc:language>
  <cp:lastModifiedBy>chithiraivelr</cp:lastModifiedBy>
  <dcterms:modified xsi:type="dcterms:W3CDTF">2015-05-13T12:39:20Z</dcterms:modified>
  <cp:revision>5</cp:revision>
  <dc:subject/>
  <dc:title>Slide 1</dc:title>
</cp:coreProperties>
</file>