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706-A2C1-470E-8E35-F5F9CD73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09E-7652-42AE-883D-5F835BF6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609-68B8-4F1F-AD25-3E7A0DE0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1F4-FF9F-4BFE-9795-5C6B7196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274-CDE6-404D-B46A-6D257D64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948-098E-48B8-8000-1D0DE751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A404-F3D6-4637-A01F-F4AC2833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242-2568-4DBB-8879-6C7547DD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9DA-9BD5-4D2D-B675-D64C7910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42C-CFC3-435C-9BDC-9EAE1A6E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CE1-EC0C-4E82-A1D2-CC7FDAB2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430-AE9E-4373-A41F-69052BAA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24A7-1B6F-42F9-B969-905E5F4F9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304920" y="25909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8600" y="38862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iabatic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10071fig5_1.jpg"/>
          <p:cNvPicPr/>
          <p:nvPr/>
        </p:nvPicPr>
        <p:blipFill>
          <a:blip r:embed="rId1"/>
          <a:stretch/>
        </p:blipFill>
        <p:spPr>
          <a:xfrm>
            <a:off x="2935440" y="2432160"/>
            <a:ext cx="327312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10071fig5_2.jpg"/>
          <p:cNvPicPr/>
          <p:nvPr/>
        </p:nvPicPr>
        <p:blipFill>
          <a:blip r:embed="rId1"/>
          <a:stretch/>
        </p:blipFill>
        <p:spPr>
          <a:xfrm>
            <a:off x="2676600" y="2351160"/>
            <a:ext cx="379080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5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10071fig5_3.jpg"/>
          <p:cNvPicPr/>
          <p:nvPr/>
        </p:nvPicPr>
        <p:blipFill>
          <a:blip r:embed="rId1"/>
          <a:stretch/>
        </p:blipFill>
        <p:spPr>
          <a:xfrm>
            <a:off x="3297240" y="2517840"/>
            <a:ext cx="25495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10071fig5_4.jpg"/>
          <p:cNvPicPr/>
          <p:nvPr/>
        </p:nvPicPr>
        <p:blipFill>
          <a:blip r:embed="rId1"/>
          <a:stretch/>
        </p:blipFill>
        <p:spPr>
          <a:xfrm>
            <a:off x="2590920" y="1638360"/>
            <a:ext cx="3962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11:34:34Z</dcterms:created>
  <dc:creator>naveen</dc:creator>
  <dc:description/>
  <dc:language>en-US</dc:language>
  <cp:lastModifiedBy>chithiraivelr</cp:lastModifiedBy>
  <dcterms:modified xsi:type="dcterms:W3CDTF">2015-05-13T12:38:50Z</dcterms:modified>
  <cp:revision>5</cp:revision>
  <dc:subject/>
  <dc:title>Slide 1</dc:title>
</cp:coreProperties>
</file>