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D6DB-5D64-45F3-8C02-E9F34CC1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1AAE-130D-4CF5-9E27-6C8541A3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2A26-CD11-4914-827E-F6648713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55CE-C45F-4BA2-9A82-74E96ECE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836B-D9F0-43B8-BBC0-A7249282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EAFB-773E-4598-A3DC-FEF51327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70A-E082-4DA8-BB5F-D0669D61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2EFB-19CB-4CEC-B1B6-DBF51F33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3729-0895-433F-BC90-DF641D81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CDAD-E690-4130-9193-183E4D9F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B9FA-7143-4A25-A53F-A2506F17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3574-46C7-45B8-B800-11EA5B61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DDDF-9001-44E8-9371-7332476C7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304920" y="2590920"/>
            <a:ext cx="853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228600" y="38862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, Heat, and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10071fig3_1.jpg"/>
          <p:cNvPicPr/>
          <p:nvPr/>
        </p:nvPicPr>
        <p:blipFill>
          <a:blip r:embed="rId1"/>
          <a:stretch/>
        </p:blipFill>
        <p:spPr>
          <a:xfrm>
            <a:off x="2217600" y="2787480"/>
            <a:ext cx="4708800" cy="12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10071fig3_2.jpg"/>
          <p:cNvPicPr/>
          <p:nvPr/>
        </p:nvPicPr>
        <p:blipFill>
          <a:blip r:embed="rId1"/>
          <a:stretch/>
        </p:blipFill>
        <p:spPr>
          <a:xfrm>
            <a:off x="3832200" y="2762280"/>
            <a:ext cx="14796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10071fig3_3.jpg"/>
          <p:cNvPicPr/>
          <p:nvPr/>
        </p:nvPicPr>
        <p:blipFill>
          <a:blip r:embed="rId1"/>
          <a:stretch/>
        </p:blipFill>
        <p:spPr>
          <a:xfrm>
            <a:off x="3238560" y="2233440"/>
            <a:ext cx="2666880" cy="23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3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10071fig3_4.jpg"/>
          <p:cNvPicPr/>
          <p:nvPr/>
        </p:nvPicPr>
        <p:blipFill>
          <a:blip r:embed="rId1"/>
          <a:stretch/>
        </p:blipFill>
        <p:spPr>
          <a:xfrm>
            <a:off x="3133800" y="2465280"/>
            <a:ext cx="287640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9T11:34:05Z</dcterms:created>
  <dc:creator>naveen</dc:creator>
  <dc:description/>
  <dc:language>en-US</dc:language>
  <cp:lastModifiedBy>chithiraivelr</cp:lastModifiedBy>
  <dcterms:modified xsi:type="dcterms:W3CDTF">2015-05-13T12:38:35Z</dcterms:modified>
  <cp:revision>6</cp:revision>
  <dc:subject/>
  <dc:title>Slide 1</dc:title>
</cp:coreProperties>
</file>