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EF4-5AAB-4F52-A85D-AF89A3CB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78D-84B2-4D5F-9D90-5E9D9245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E13-2B54-442C-825F-489ECEF0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05C-EDCF-47BE-AC34-0A5CB893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506-BCD3-40E1-B375-FE36ED13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4DC-C4E7-4313-9BA9-D9510175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F28-E2D3-4C3B-9E9C-56313B3E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C89-EDA1-45C9-BDCA-F5919C36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5E7-8F63-4A03-A185-02BF90EE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9E9-001F-41B9-8A63-8ECB08B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AD8-037B-43B8-978E-F482366F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CAB-DA76-4DF1-9A7B-CDDAB015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A434-BF4B-4009-BA23-5D025572D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and Standard Atmosph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0071fig10_1.jpg"/>
          <p:cNvPicPr/>
          <p:nvPr/>
        </p:nvPicPr>
        <p:blipFill>
          <a:blip r:embed="rId1"/>
          <a:stretch/>
        </p:blipFill>
        <p:spPr>
          <a:xfrm>
            <a:off x="2271600" y="1414440"/>
            <a:ext cx="46008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10071fig10_2.jpg"/>
          <p:cNvPicPr/>
          <p:nvPr/>
        </p:nvPicPr>
        <p:blipFill>
          <a:blip r:embed="rId1"/>
          <a:stretch/>
        </p:blipFill>
        <p:spPr>
          <a:xfrm>
            <a:off x="2286000" y="1414440"/>
            <a:ext cx="4572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10071fig10_3.jpg"/>
          <p:cNvPicPr/>
          <p:nvPr/>
        </p:nvPicPr>
        <p:blipFill>
          <a:blip r:embed="rId1"/>
          <a:stretch/>
        </p:blipFill>
        <p:spPr>
          <a:xfrm>
            <a:off x="2263680" y="1403280"/>
            <a:ext cx="46166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Fig.1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0071fig10_4.jpg"/>
          <p:cNvPicPr/>
          <p:nvPr/>
        </p:nvPicPr>
        <p:blipFill>
          <a:blip r:embed="rId1"/>
          <a:stretch/>
        </p:blipFill>
        <p:spPr>
          <a:xfrm>
            <a:off x="2476440" y="1681200"/>
            <a:ext cx="41911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5:32Z</dcterms:created>
  <dc:creator>naveen</dc:creator>
  <dc:description/>
  <dc:language>en-US</dc:language>
  <cp:lastModifiedBy>chithiraivelr</cp:lastModifiedBy>
  <dcterms:modified xsi:type="dcterms:W3CDTF">2015-05-13T12:39:27Z</dcterms:modified>
  <cp:revision>5</cp:revision>
  <dc:subject/>
  <dc:title>Slide 1</dc:title>
</cp:coreProperties>
</file>