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0865-C1A7-403B-A655-9F5694B5D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CE0B-C460-4B89-98B6-E0222D6DC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0D8E-6340-425E-8AF7-5EE1C5E9B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D0F2-8E8D-4DD3-B898-A0EB0F523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F567-7A69-451D-895F-428F09F01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1E20-9221-4E75-B59B-53122F735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D309-0A73-4C63-A5E4-CE4CBEB1B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3545-7F0E-4EED-B5CC-784934249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6947-673B-4E61-AA37-99E7ABDCD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DE30-B4C6-46E1-A874-79D889E25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DFC6-8C73-47CD-B48F-E7F3B5037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1689-1FE7-46F9-83A5-AD3345418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F00C9-D265-4656-896C-1F94F4D804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304920" y="2590920"/>
            <a:ext cx="8534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ndix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228600" y="3886200"/>
            <a:ext cx="8686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rivation of the Moist Adiaba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pse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0" y="6413400"/>
            <a:ext cx="90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2"/>
          <p:cNvSpPr/>
          <p:nvPr/>
        </p:nvSpPr>
        <p:spPr>
          <a:xfrm>
            <a:off x="0" y="571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mMiller_App.7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10071app_7.jpg"/>
          <p:cNvPicPr/>
          <p:nvPr/>
        </p:nvPicPr>
        <p:blipFill>
          <a:blip r:embed="rId1"/>
          <a:stretch/>
        </p:blipFill>
        <p:spPr>
          <a:xfrm>
            <a:off x="2432160" y="1771560"/>
            <a:ext cx="427968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9T11:32:47Z</dcterms:created>
  <dc:creator>naveen</dc:creator>
  <dc:description/>
  <dc:language>en-US</dc:language>
  <cp:lastModifiedBy>chithiraivelr</cp:lastModifiedBy>
  <dcterms:modified xsi:type="dcterms:W3CDTF">2015-05-13T12:38:24Z</dcterms:modified>
  <cp:revision>7</cp:revision>
  <dc:subject/>
  <dc:title>Slide 1</dc:title>
</cp:coreProperties>
</file>