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BA0-98DF-4215-B6C7-E54F27F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704-83DD-4C3F-A6C1-580E2E75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593-20C4-4E8D-A8C3-400C2F55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017-470F-4B6E-8865-797E08EC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7A8-A1EC-4C4E-B83C-7854ADD1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0D1-E73F-45EF-8280-26393AB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EC0-D4EF-43A4-89C8-E12A3C1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A75-E088-486F-B808-154C131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5F3-757D-485B-9C13-D4644C03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B05-DFEC-4801-BF93-BDDB3EB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2B29-3250-47BF-93A3-6F2C22E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70A-B4A2-45A5-BCC8-FEA2430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B84F-5651-478A-8531-272283260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Vapor and Phase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7_1.jpg"/>
          <p:cNvPicPr/>
          <p:nvPr/>
        </p:nvPicPr>
        <p:blipFill>
          <a:blip r:embed="rId1"/>
          <a:stretch/>
        </p:blipFill>
        <p:spPr>
          <a:xfrm>
            <a:off x="3378240" y="2800440"/>
            <a:ext cx="23875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7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7_2.jpg"/>
          <p:cNvPicPr/>
          <p:nvPr/>
        </p:nvPicPr>
        <p:blipFill>
          <a:blip r:embed="rId1"/>
          <a:stretch/>
        </p:blipFill>
        <p:spPr>
          <a:xfrm>
            <a:off x="2751120" y="2252520"/>
            <a:ext cx="364176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7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7_3.jpg"/>
          <p:cNvPicPr/>
          <p:nvPr/>
        </p:nvPicPr>
        <p:blipFill>
          <a:blip r:embed="rId1"/>
          <a:stretch/>
        </p:blipFill>
        <p:spPr>
          <a:xfrm>
            <a:off x="2825640" y="2251080"/>
            <a:ext cx="3492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7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7_4.jpg"/>
          <p:cNvPicPr/>
          <p:nvPr/>
        </p:nvPicPr>
        <p:blipFill>
          <a:blip r:embed="rId1"/>
          <a:stretch/>
        </p:blipFill>
        <p:spPr>
          <a:xfrm>
            <a:off x="2022480" y="2100240"/>
            <a:ext cx="5099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4:58Z</dcterms:created>
  <dc:creator>naveen</dc:creator>
  <dc:description/>
  <dc:language>en-US</dc:language>
  <cp:lastModifiedBy>chithiraivelr</cp:lastModifiedBy>
  <dcterms:modified xsi:type="dcterms:W3CDTF">2015-05-13T12:39:05Z</dcterms:modified>
  <cp:revision>5</cp:revision>
  <dc:subject/>
  <dc:title>Slide 1</dc:title>
</cp:coreProperties>
</file>