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51D-7C97-4708-9B59-739BF152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DBF-3DF9-4C47-9FF5-7079CB32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893-7DF9-45C8-960D-6BC5C454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1C7-D148-461D-98F1-05CAC055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312-4B67-45D9-8417-74B500D8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D85-9C2F-4418-A0D8-42246323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33B-040F-43EC-9533-E65CD639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10B-C681-4376-8ECC-4AC73F4A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91B-965C-4742-8CE5-FFD3DED3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622-7150-451B-A1EF-2947FEE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141-A401-437E-8E11-CDDB4B75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5FD-CB5F-4121-BF41-F4AC0DBB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E5E3-98B2-43FF-B978-55A326372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Law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4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0071fig4_1.jpg"/>
          <p:cNvPicPr/>
          <p:nvPr/>
        </p:nvPicPr>
        <p:blipFill>
          <a:blip r:embed="rId1"/>
          <a:stretch/>
        </p:blipFill>
        <p:spPr>
          <a:xfrm>
            <a:off x="3759120" y="2838600"/>
            <a:ext cx="162576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71fig4_2.jpg"/>
          <p:cNvPicPr/>
          <p:nvPr/>
        </p:nvPicPr>
        <p:blipFill>
          <a:blip r:embed="rId1"/>
          <a:stretch/>
        </p:blipFill>
        <p:spPr>
          <a:xfrm>
            <a:off x="3171960" y="2422440"/>
            <a:ext cx="28000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4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0071fig4_3.jpg"/>
          <p:cNvPicPr/>
          <p:nvPr/>
        </p:nvPicPr>
        <p:blipFill>
          <a:blip r:embed="rId1"/>
          <a:stretch/>
        </p:blipFill>
        <p:spPr>
          <a:xfrm>
            <a:off x="2343240" y="1689120"/>
            <a:ext cx="44575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4:19Z</dcterms:created>
  <dc:creator>naveen</dc:creator>
  <dc:description/>
  <dc:language>en-US</dc:language>
  <cp:lastModifiedBy>chithiraivelr</cp:lastModifiedBy>
  <dcterms:modified xsi:type="dcterms:W3CDTF">2015-05-13T12:38:43Z</dcterms:modified>
  <cp:revision>6</cp:revision>
  <dc:subject/>
  <dc:title>Slide 1</dc:title>
</cp:coreProperties>
</file>