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738-634E-4021-9F6F-4E5F959E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837-CD9E-4D7E-88B2-93A6EEB8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19B-90F9-492E-BB4A-4EDB8354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3A5-256A-494B-AFA1-806CB9B3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355-5D29-44BC-A11F-504C7213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A78-A0FD-48BB-A398-29E07D5B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082-8700-4206-8B52-7D3EF61D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877-64B7-44E7-82A2-FF54B655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203-0355-489D-9B94-E9C134C1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32C-FE81-45FA-BFA2-C8DDC20C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BA3-88E8-468F-954A-C7E49A7A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766-7BF4-49D7-A494-6D0191C9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6832-E900-4D37-B0B0-8CCB81CCB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11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10071fig11_20.jpg"/>
          <p:cNvPicPr/>
          <p:nvPr/>
        </p:nvPicPr>
        <p:blipFill>
          <a:blip r:embed="rId1"/>
          <a:stretch/>
        </p:blipFill>
        <p:spPr>
          <a:xfrm>
            <a:off x="2344680" y="2308320"/>
            <a:ext cx="4454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11.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10071fig11_21.jpg"/>
          <p:cNvPicPr/>
          <p:nvPr/>
        </p:nvPicPr>
        <p:blipFill>
          <a:blip r:embed="rId1"/>
          <a:stretch/>
        </p:blipFill>
        <p:spPr>
          <a:xfrm>
            <a:off x="2571840" y="1771560"/>
            <a:ext cx="40003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11.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10071fig11_22.jpg"/>
          <p:cNvPicPr/>
          <p:nvPr/>
        </p:nvPicPr>
        <p:blipFill>
          <a:blip r:embed="rId1"/>
          <a:stretch/>
        </p:blipFill>
        <p:spPr>
          <a:xfrm>
            <a:off x="2208240" y="1646280"/>
            <a:ext cx="47275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11.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10071fig11_23.jpg"/>
          <p:cNvPicPr/>
          <p:nvPr/>
        </p:nvPicPr>
        <p:blipFill>
          <a:blip r:embed="rId1"/>
          <a:stretch/>
        </p:blipFill>
        <p:spPr>
          <a:xfrm>
            <a:off x="2208240" y="1646280"/>
            <a:ext cx="47275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11.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10071fig11_24.jpg"/>
          <p:cNvPicPr/>
          <p:nvPr/>
        </p:nvPicPr>
        <p:blipFill>
          <a:blip r:embed="rId1"/>
          <a:stretch/>
        </p:blipFill>
        <p:spPr>
          <a:xfrm>
            <a:off x="2208240" y="1646280"/>
            <a:ext cx="47275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11:35:43Z</dcterms:created>
  <dc:creator>naveen</dc:creator>
  <dc:description/>
  <dc:language>en-US</dc:language>
  <cp:lastModifiedBy>naveen</cp:lastModifiedBy>
  <dcterms:modified xsi:type="dcterms:W3CDTF">2015-05-11T06:31:17Z</dcterms:modified>
  <cp:revision>11</cp:revision>
  <dc:subject/>
  <dc:title>Slide 1</dc:title>
</cp:coreProperties>
</file>