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4.wmf" ContentType="image/x-wmf"/>
  <Override PartName="/ppt/media/image52.png" ContentType="image/png"/>
  <Override PartName="/ppt/media/image35.wmf" ContentType="image/x-wmf"/>
  <Override PartName="/ppt/media/image53.png" ContentType="image/png"/>
  <Override PartName="/ppt/media/image36.wmf" ContentType="image/x-wmf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38.wmf" ContentType="image/x-wmf"/>
  <Override PartName="/ppt/media/image44.png" ContentType="image/png"/>
  <Override PartName="/ppt/media/image56.png" ContentType="image/png"/>
  <Override PartName="/ppt/media/image41.png" ContentType="image/png"/>
  <Override PartName="/ppt/media/image39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3AC4-5E27-41B3-A371-CA1146336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reviewing the basic formulation of time reversal imaging and time reversal MUSIC treated in Chapter 10 of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89C-6A99-4CB3-8F28-1D1184214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3F7-3D96-45BC-B5AE-C323F21D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171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2F3-0530-4DBB-934A-76C19BDA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92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92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64D-D808-4ED8-A5D5-E5E2EEC6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88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88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2F6-A6F7-4C77-ADE8-1692C805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0FE-792E-45EB-8F83-356E0B9F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D8B-5B1B-4C81-8641-71ADE93A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92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09A-E31D-4AC9-9F1E-A3491394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240-E9EB-459F-8F2F-D53A9535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136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159-45B2-4ABC-9EC6-388728BF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92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5E2-9A5B-475E-A29E-44DA4B32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92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92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018-BA42-4D12-AAF3-2AB3C214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92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AF3-8A46-4B7C-8CA5-D55ADCF0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C6FC-60D1-4F73-BFBE-E4EC6450E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432A-C0A2-4C1C-9227-C5A7F437D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putational Time Reversa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2051"/>
          <p:cNvSpPr/>
          <p:nvPr/>
        </p:nvSpPr>
        <p:spPr>
          <a:xfrm>
            <a:off x="2059560" y="1409760"/>
            <a:ext cx="499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Anthony J. Deva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rtheaster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oston, MA 02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mail: devaney@ece.ne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054"/>
          <p:cNvSpPr/>
          <p:nvPr/>
        </p:nvSpPr>
        <p:spPr>
          <a:xfrm>
            <a:off x="3666960" y="3165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55"/>
          <p:cNvSpPr/>
          <p:nvPr/>
        </p:nvSpPr>
        <p:spPr>
          <a:xfrm>
            <a:off x="1610640" y="4027320"/>
            <a:ext cx="585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n-well resolved targets and sparse sensor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n-co-linear transmit and receive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n-reciprocal back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per resolution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CFC6-E4CA-420D-B380-E264FE5B2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cusing with Time-reversa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1922400" y="1521000"/>
            <a:ext cx="5345280" cy="2055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2"/>
          <a:stretch/>
        </p:blipFill>
        <p:spPr>
          <a:xfrm>
            <a:off x="2556000" y="3922560"/>
            <a:ext cx="4062240" cy="195768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ADF3-3E8B-46B1-A179-B6E6D908A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on-well Resolved Targ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479520" y="1224000"/>
            <a:ext cx="3427200" cy="1423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858960" y="4797360"/>
            <a:ext cx="4902120" cy="1190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3"/>
          <a:stretch/>
        </p:blipFill>
        <p:spPr>
          <a:xfrm>
            <a:off x="5773680" y="4578480"/>
            <a:ext cx="2633760" cy="18795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7"/>
          <p:cNvSpPr/>
          <p:nvPr/>
        </p:nvSpPr>
        <p:spPr>
          <a:xfrm>
            <a:off x="4005360" y="1276200"/>
            <a:ext cx="4789440" cy="7038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or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Green function vectors are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and span Signal Sub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9" descr=""/>
          <p:cNvPicPr/>
          <p:nvPr/>
        </p:nvPicPr>
        <p:blipFill>
          <a:blip r:embed="rId4"/>
          <a:stretch/>
        </p:blipFill>
        <p:spPr>
          <a:xfrm>
            <a:off x="7093080" y="2654280"/>
            <a:ext cx="1352520" cy="46368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grpSp>
        <p:nvGrpSpPr>
          <p:cNvPr id="307" name="Group 19"/>
          <p:cNvGrpSpPr/>
          <p:nvPr/>
        </p:nvGrpSpPr>
        <p:grpSpPr>
          <a:xfrm>
            <a:off x="892080" y="2967120"/>
            <a:ext cx="2438280" cy="1612800"/>
            <a:chOff x="892080" y="2967120"/>
            <a:chExt cx="2438280" cy="1612800"/>
          </a:xfrm>
        </p:grpSpPr>
        <p:sp>
          <p:nvSpPr>
            <p:cNvPr id="308" name="Oval 8"/>
            <p:cNvSpPr/>
            <p:nvPr/>
          </p:nvSpPr>
          <p:spPr>
            <a:xfrm>
              <a:off x="892080" y="2967120"/>
              <a:ext cx="2438280" cy="16128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Picture 10" descr=""/>
            <p:cNvPicPr/>
            <p:nvPr/>
          </p:nvPicPr>
          <p:blipFill>
            <a:blip r:embed="rId5"/>
            <a:stretch/>
          </p:blipFill>
          <p:spPr>
            <a:xfrm>
              <a:off x="1765080" y="4083120"/>
              <a:ext cx="83808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Freeform 11"/>
            <p:cNvSpPr/>
            <p:nvPr/>
          </p:nvSpPr>
          <p:spPr>
            <a:xfrm>
              <a:off x="1455480" y="3397320"/>
              <a:ext cx="1289160" cy="660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2006280" y="35146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2" name="Picture 15" descr=""/>
          <p:cNvPicPr/>
          <p:nvPr/>
        </p:nvPicPr>
        <p:blipFill>
          <a:blip r:embed="rId6"/>
          <a:stretch/>
        </p:blipFill>
        <p:spPr>
          <a:xfrm>
            <a:off x="4640400" y="2114640"/>
            <a:ext cx="3211200" cy="5270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7"/>
          <p:cNvSpPr/>
          <p:nvPr/>
        </p:nvSpPr>
        <p:spPr>
          <a:xfrm>
            <a:off x="3736080" y="265284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ise Sub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8" descr=""/>
          <p:cNvPicPr/>
          <p:nvPr/>
        </p:nvPicPr>
        <p:blipFill>
          <a:blip r:embed="rId7"/>
          <a:stretch/>
        </p:blipFill>
        <p:spPr>
          <a:xfrm>
            <a:off x="6029280" y="2728800"/>
            <a:ext cx="838080" cy="3542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0"/>
          <p:cNvSpPr/>
          <p:nvPr/>
        </p:nvSpPr>
        <p:spPr>
          <a:xfrm>
            <a:off x="4174200" y="3316320"/>
            <a:ext cx="3551760" cy="13136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me reversal eigen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qual to linear combination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reen function 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 non-well resolve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FDC6-6567-458F-BCDA-AD7645AAA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711360" y="241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cusing with in Non-well Resolved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5164920" y="1982880"/>
            <a:ext cx="3551760" cy="13136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me reversal eigen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qual to linear combination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reen function 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 non-well resolve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592200" y="1576440"/>
            <a:ext cx="4378320" cy="965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2"/>
          <a:stretch/>
        </p:blipFill>
        <p:spPr>
          <a:xfrm>
            <a:off x="1450800" y="2560680"/>
            <a:ext cx="2343240" cy="1104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3"/>
          <a:stretch/>
        </p:blipFill>
        <p:spPr>
          <a:xfrm>
            <a:off x="1414440" y="3830760"/>
            <a:ext cx="6149880" cy="10573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1012680" y="5197320"/>
            <a:ext cx="7252200" cy="459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e-reversal Image equal to sum of images of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C20B-E789-475F-923C-D1F480E76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915840" y="3567240"/>
            <a:ext cx="7128000" cy="2014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2"/>
          <a:stretch/>
        </p:blipFill>
        <p:spPr>
          <a:xfrm>
            <a:off x="2208240" y="2039760"/>
            <a:ext cx="4545000" cy="6876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31" name="Text Box 7"/>
          <p:cNvSpPr/>
          <p:nvPr/>
        </p:nvSpPr>
        <p:spPr>
          <a:xfrm>
            <a:off x="3342960" y="29638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Pseudo-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2049480" y="1297080"/>
            <a:ext cx="5092560" cy="3988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reen function vectors lie in Signal Sub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B900-C5C0-49CA-9EE2-C120AF47E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026" descr="FIG1_2"/>
          <p:cNvPicPr/>
          <p:nvPr/>
        </p:nvPicPr>
        <p:blipFill>
          <a:blip r:embed="rId1"/>
          <a:stretch/>
        </p:blipFill>
        <p:spPr>
          <a:xfrm>
            <a:off x="-309600" y="223920"/>
            <a:ext cx="9763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55F-F222-47DB-B02D-774B71888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026" descr="FIG1_3"/>
          <p:cNvPicPr/>
          <p:nvPr/>
        </p:nvPicPr>
        <p:blipFill>
          <a:blip r:embed="rId1"/>
          <a:stretch/>
        </p:blipFill>
        <p:spPr>
          <a:xfrm>
            <a:off x="-309600" y="223920"/>
            <a:ext cx="9763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869A-16EB-4D19-9049-A39593F8B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1026" descr="FIG1_4"/>
          <p:cNvPicPr/>
          <p:nvPr/>
        </p:nvPicPr>
        <p:blipFill>
          <a:blip r:embed="rId1"/>
          <a:stretch/>
        </p:blipFill>
        <p:spPr>
          <a:xfrm>
            <a:off x="-309600" y="223920"/>
            <a:ext cx="9763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CAAC-A7C7-4A1A-B50D-5AC339155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1026" descr="FIG1_5"/>
          <p:cNvPicPr/>
          <p:nvPr/>
        </p:nvPicPr>
        <p:blipFill>
          <a:blip r:embed="rId1"/>
          <a:stretch/>
        </p:blipFill>
        <p:spPr>
          <a:xfrm>
            <a:off x="-309600" y="223920"/>
            <a:ext cx="9763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00B4-8C02-4C94-9BB7-45AEAADA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" descr="FIG2_2"/>
          <p:cNvPicPr/>
          <p:nvPr/>
        </p:nvPicPr>
        <p:blipFill>
          <a:blip r:embed="rId1"/>
          <a:stretch/>
        </p:blipFill>
        <p:spPr>
          <a:xfrm>
            <a:off x="-309600" y="223920"/>
            <a:ext cx="9763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4967-FA94-4C2A-BBB7-2A0F813B8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2" descr="FIG2_3"/>
          <p:cNvPicPr/>
          <p:nvPr/>
        </p:nvPicPr>
        <p:blipFill>
          <a:blip r:embed="rId1"/>
          <a:stretch/>
        </p:blipFill>
        <p:spPr>
          <a:xfrm>
            <a:off x="-309600" y="223920"/>
            <a:ext cx="9763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7C69-6A3F-434F-B46C-04669E9E4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-Reversal Imag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9" name="Group 47"/>
          <p:cNvGrpSpPr/>
          <p:nvPr/>
        </p:nvGrpSpPr>
        <p:grpSpPr>
          <a:xfrm>
            <a:off x="982080" y="1679400"/>
            <a:ext cx="5694480" cy="2792160"/>
            <a:chOff x="982080" y="1679400"/>
            <a:chExt cx="5694480" cy="2792160"/>
          </a:xfrm>
        </p:grpSpPr>
        <p:sp>
          <p:nvSpPr>
            <p:cNvPr id="60" name="Rectangle 4"/>
            <p:cNvSpPr/>
            <p:nvPr/>
          </p:nvSpPr>
          <p:spPr>
            <a:xfrm>
              <a:off x="982080" y="1679400"/>
              <a:ext cx="1687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Times New Roman"/>
                </a:rPr>
                <a:t>Illumination #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1016280" y="2965320"/>
              <a:ext cx="1563480" cy="15062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5400000">
              <a:off x="1757160" y="1655280"/>
              <a:ext cx="101880" cy="1130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 rot="5400000">
              <a:off x="1544760" y="3408120"/>
              <a:ext cx="487440" cy="48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 rot="5400000">
              <a:off x="1736280" y="3630240"/>
              <a:ext cx="101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rc 12"/>
            <p:cNvSpPr/>
            <p:nvPr/>
          </p:nvSpPr>
          <p:spPr>
            <a:xfrm rot="5400000">
              <a:off x="1582560" y="2920680"/>
              <a:ext cx="451080" cy="977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798280" y="169200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Times New Roman"/>
                </a:rPr>
                <a:t>Meas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2781360" y="2965320"/>
              <a:ext cx="1563840" cy="150624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 rot="5400000">
              <a:off x="3522240" y="1655640"/>
              <a:ext cx="101880" cy="1130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 rot="5400000">
              <a:off x="3309480" y="3408120"/>
              <a:ext cx="487440" cy="48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 rot="5400000">
              <a:off x="3501720" y="3630240"/>
              <a:ext cx="101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rc 22"/>
            <p:cNvSpPr/>
            <p:nvPr/>
          </p:nvSpPr>
          <p:spPr>
            <a:xfrm rot="5400000">
              <a:off x="3347640" y="2933280"/>
              <a:ext cx="451080" cy="978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3"/>
            <p:cNvSpPr/>
            <p:nvPr/>
          </p:nvSpPr>
          <p:spPr>
            <a:xfrm flipH="1">
              <a:off x="3652920" y="2319120"/>
              <a:ext cx="463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4"/>
            <p:cNvSpPr/>
            <p:nvPr/>
          </p:nvSpPr>
          <p:spPr>
            <a:xfrm>
              <a:off x="3049560" y="2338200"/>
              <a:ext cx="39384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5"/>
            <p:cNvSpPr/>
            <p:nvPr/>
          </p:nvSpPr>
          <p:spPr>
            <a:xfrm>
              <a:off x="3551400" y="2280960"/>
              <a:ext cx="0" cy="11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6"/>
            <p:cNvSpPr/>
            <p:nvPr/>
          </p:nvSpPr>
          <p:spPr>
            <a:xfrm>
              <a:off x="4594680" y="1692000"/>
              <a:ext cx="208188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hase conjug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nd re-illumin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27"/>
            <p:cNvGrpSpPr/>
            <p:nvPr/>
          </p:nvGrpSpPr>
          <p:grpSpPr>
            <a:xfrm>
              <a:off x="4800600" y="2169720"/>
              <a:ext cx="1563480" cy="2301840"/>
              <a:chOff x="4800600" y="2169720"/>
              <a:chExt cx="1563480" cy="2301840"/>
            </a:xfrm>
          </p:grpSpPr>
          <p:sp>
            <p:nvSpPr>
              <p:cNvPr id="77" name="Freeform 28"/>
              <p:cNvSpPr/>
              <p:nvPr/>
            </p:nvSpPr>
            <p:spPr>
              <a:xfrm>
                <a:off x="4800600" y="2964960"/>
                <a:ext cx="1563480" cy="15066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29"/>
              <p:cNvSpPr/>
              <p:nvPr/>
            </p:nvSpPr>
            <p:spPr>
              <a:xfrm rot="5400000">
                <a:off x="5541840" y="1655280"/>
                <a:ext cx="101520" cy="11304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30"/>
              <p:cNvGrpSpPr/>
              <p:nvPr/>
            </p:nvGrpSpPr>
            <p:grpSpPr>
              <a:xfrm>
                <a:off x="5071680" y="2283840"/>
                <a:ext cx="1066680" cy="1612800"/>
                <a:chOff x="5071680" y="2283840"/>
                <a:chExt cx="1066680" cy="1612800"/>
              </a:xfrm>
            </p:grpSpPr>
            <p:sp>
              <p:nvSpPr>
                <p:cNvPr id="80" name="Oval 31"/>
                <p:cNvSpPr/>
                <p:nvPr/>
              </p:nvSpPr>
              <p:spPr>
                <a:xfrm rot="5400000">
                  <a:off x="5331960" y="3409200"/>
                  <a:ext cx="487440" cy="487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Oval 32"/>
                <p:cNvSpPr/>
                <p:nvPr/>
              </p:nvSpPr>
              <p:spPr>
                <a:xfrm rot="5400000">
                  <a:off x="5522400" y="3631320"/>
                  <a:ext cx="1015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Group 33"/>
                <p:cNvGrpSpPr/>
                <p:nvPr/>
              </p:nvGrpSpPr>
              <p:grpSpPr>
                <a:xfrm>
                  <a:off x="5071680" y="2283840"/>
                  <a:ext cx="1066680" cy="1366560"/>
                  <a:chOff x="5071680" y="2283840"/>
                  <a:chExt cx="1066680" cy="1366560"/>
                </a:xfrm>
              </p:grpSpPr>
              <p:sp>
                <p:nvSpPr>
                  <p:cNvPr id="83" name="Arc 34"/>
                  <p:cNvSpPr/>
                  <p:nvPr/>
                </p:nvSpPr>
                <p:spPr>
                  <a:xfrm rot="5400000">
                    <a:off x="5370120" y="2936160"/>
                    <a:ext cx="450720" cy="97776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Line 35"/>
                  <p:cNvSpPr/>
                  <p:nvPr/>
                </p:nvSpPr>
                <p:spPr>
                  <a:xfrm flipH="1">
                    <a:off x="5675040" y="2321640"/>
                    <a:ext cx="463320" cy="1092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Line 36"/>
                  <p:cNvSpPr/>
                  <p:nvPr/>
                </p:nvSpPr>
                <p:spPr>
                  <a:xfrm>
                    <a:off x="5071680" y="2340720"/>
                    <a:ext cx="393840" cy="1130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Line 37"/>
                  <p:cNvSpPr/>
                  <p:nvPr/>
                </p:nvSpPr>
                <p:spPr>
                  <a:xfrm>
                    <a:off x="5573160" y="2283840"/>
                    <a:ext cx="0" cy="111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7" name="Line 38"/>
            <p:cNvSpPr/>
            <p:nvPr/>
          </p:nvSpPr>
          <p:spPr>
            <a:xfrm>
              <a:off x="1219320" y="2552400"/>
              <a:ext cx="11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39"/>
            <p:cNvSpPr/>
            <p:nvPr/>
          </p:nvSpPr>
          <p:spPr>
            <a:xfrm>
              <a:off x="1778040" y="23619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40"/>
            <p:cNvSpPr/>
            <p:nvPr/>
          </p:nvSpPr>
          <p:spPr>
            <a:xfrm flipV="1">
              <a:off x="1905120" y="3199680"/>
              <a:ext cx="40644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1"/>
            <p:cNvSpPr/>
            <p:nvPr/>
          </p:nvSpPr>
          <p:spPr>
            <a:xfrm flipV="1">
              <a:off x="1803600" y="302184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2"/>
            <p:cNvSpPr/>
            <p:nvPr/>
          </p:nvSpPr>
          <p:spPr>
            <a:xfrm flipH="1" flipV="1">
              <a:off x="1419480" y="3148920"/>
              <a:ext cx="2570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Arc 43"/>
          <p:cNvSpPr/>
          <p:nvPr/>
        </p:nvSpPr>
        <p:spPr>
          <a:xfrm>
            <a:off x="2593800" y="2473200"/>
            <a:ext cx="1941840" cy="260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rc 45"/>
          <p:cNvSpPr/>
          <p:nvPr/>
        </p:nvSpPr>
        <p:spPr>
          <a:xfrm>
            <a:off x="4676760" y="2511360"/>
            <a:ext cx="1941480" cy="260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6"/>
          <p:cNvSpPr/>
          <p:nvPr/>
        </p:nvSpPr>
        <p:spPr>
          <a:xfrm>
            <a:off x="1558440" y="4979880"/>
            <a:ext cx="5860800" cy="7038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f more than one scatterer will converge to strong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f scatterers well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7121160" y="297324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peat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423A-55F2-4B3B-B6FE-A8740FCE6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FIG2_4"/>
          <p:cNvPicPr/>
          <p:nvPr/>
        </p:nvPicPr>
        <p:blipFill>
          <a:blip r:embed="rId1"/>
          <a:stretch/>
        </p:blipFill>
        <p:spPr>
          <a:xfrm>
            <a:off x="-309600" y="223920"/>
            <a:ext cx="9763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5E6-3EED-4D4A-B140-0BF2A6E1F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2" descr="FIG2_5"/>
          <p:cNvPicPr/>
          <p:nvPr/>
        </p:nvPicPr>
        <p:blipFill>
          <a:blip r:embed="rId1"/>
          <a:stretch/>
        </p:blipFill>
        <p:spPr>
          <a:xfrm>
            <a:off x="-309600" y="223920"/>
            <a:ext cx="9763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B428-05D0-4600-BF60-D4651652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355680" y="304920"/>
            <a:ext cx="802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eneralized Time-reversal Proc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717480" y="2970360"/>
            <a:ext cx="1360440" cy="1068120"/>
            <a:chOff x="717480" y="2970360"/>
            <a:chExt cx="1360440" cy="1068120"/>
          </a:xfrm>
        </p:grpSpPr>
        <p:sp>
          <p:nvSpPr>
            <p:cNvPr id="370" name="Oval 4"/>
            <p:cNvSpPr/>
            <p:nvPr/>
          </p:nvSpPr>
          <p:spPr>
            <a:xfrm>
              <a:off x="1742400" y="3179520"/>
              <a:ext cx="109800" cy="12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5"/>
            <p:cNvSpPr/>
            <p:nvPr/>
          </p:nvSpPr>
          <p:spPr>
            <a:xfrm rot="16200000">
              <a:off x="981720" y="3189240"/>
              <a:ext cx="12960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1254240" y="2970360"/>
              <a:ext cx="109800" cy="12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7"/>
            <p:cNvSpPr/>
            <p:nvPr/>
          </p:nvSpPr>
          <p:spPr>
            <a:xfrm>
              <a:off x="1461600" y="3049560"/>
              <a:ext cx="109800" cy="12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8"/>
            <p:cNvSpPr/>
            <p:nvPr/>
          </p:nvSpPr>
          <p:spPr>
            <a:xfrm>
              <a:off x="717480" y="3352680"/>
              <a:ext cx="109800" cy="12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9"/>
            <p:cNvSpPr/>
            <p:nvPr/>
          </p:nvSpPr>
          <p:spPr>
            <a:xfrm>
              <a:off x="1925280" y="3396240"/>
              <a:ext cx="109800" cy="12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0"/>
            <p:cNvSpPr/>
            <p:nvPr/>
          </p:nvSpPr>
          <p:spPr>
            <a:xfrm>
              <a:off x="1303200" y="3049560"/>
              <a:ext cx="109800" cy="858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1"/>
            <p:cNvSpPr/>
            <p:nvPr/>
          </p:nvSpPr>
          <p:spPr>
            <a:xfrm>
              <a:off x="1046880" y="3258720"/>
              <a:ext cx="176760" cy="69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2"/>
            <p:cNvSpPr/>
            <p:nvPr/>
          </p:nvSpPr>
          <p:spPr>
            <a:xfrm flipH="1">
              <a:off x="1882800" y="3468240"/>
              <a:ext cx="91440" cy="497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3"/>
            <p:cNvSpPr/>
            <p:nvPr/>
          </p:nvSpPr>
          <p:spPr>
            <a:xfrm flipH="1">
              <a:off x="1724040" y="3222720"/>
              <a:ext cx="54720" cy="656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4"/>
            <p:cNvSpPr/>
            <p:nvPr/>
          </p:nvSpPr>
          <p:spPr>
            <a:xfrm>
              <a:off x="790560" y="3439440"/>
              <a:ext cx="243720" cy="599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5"/>
            <p:cNvSpPr/>
            <p:nvPr/>
          </p:nvSpPr>
          <p:spPr>
            <a:xfrm>
              <a:off x="1522800" y="3136320"/>
              <a:ext cx="30240" cy="72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 rot="4414800">
              <a:off x="816840" y="3582000"/>
              <a:ext cx="17280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 rot="4435200">
              <a:off x="1095840" y="3567240"/>
              <a:ext cx="17316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 rot="5067600">
              <a:off x="1315440" y="3424680"/>
              <a:ext cx="17316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 rot="5472600">
              <a:off x="1493640" y="3417480"/>
              <a:ext cx="17316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 rot="6110400">
              <a:off x="1701360" y="3564000"/>
              <a:ext cx="172800" cy="78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 rot="6153000">
              <a:off x="1884240" y="3670200"/>
              <a:ext cx="17316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766080" y="3442320"/>
              <a:ext cx="1311840" cy="343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Line 23"/>
          <p:cNvSpPr/>
          <p:nvPr/>
        </p:nvSpPr>
        <p:spPr>
          <a:xfrm flipV="1">
            <a:off x="692280" y="2092320"/>
            <a:ext cx="0" cy="85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24"/>
          <p:cNvSpPr/>
          <p:nvPr/>
        </p:nvSpPr>
        <p:spPr>
          <a:xfrm flipV="1">
            <a:off x="984240" y="2243160"/>
            <a:ext cx="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5"/>
          <p:cNvSpPr/>
          <p:nvPr/>
        </p:nvSpPr>
        <p:spPr>
          <a:xfrm flipV="1">
            <a:off x="1271520" y="23749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26"/>
          <p:cNvSpPr/>
          <p:nvPr/>
        </p:nvSpPr>
        <p:spPr>
          <a:xfrm flipV="1">
            <a:off x="1509840" y="24890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7"/>
          <p:cNvSpPr/>
          <p:nvPr/>
        </p:nvSpPr>
        <p:spPr>
          <a:xfrm flipV="1">
            <a:off x="1808280" y="26190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8"/>
          <p:cNvSpPr/>
          <p:nvPr/>
        </p:nvSpPr>
        <p:spPr>
          <a:xfrm flipV="1">
            <a:off x="2014560" y="2770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9"/>
          <p:cNvSpPr/>
          <p:nvPr/>
        </p:nvSpPr>
        <p:spPr>
          <a:xfrm>
            <a:off x="692280" y="2098800"/>
            <a:ext cx="185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30"/>
          <p:cNvSpPr/>
          <p:nvPr/>
        </p:nvSpPr>
        <p:spPr>
          <a:xfrm>
            <a:off x="984240" y="2243160"/>
            <a:ext cx="156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31"/>
          <p:cNvSpPr/>
          <p:nvPr/>
        </p:nvSpPr>
        <p:spPr>
          <a:xfrm>
            <a:off x="1271520" y="237492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32"/>
          <p:cNvSpPr/>
          <p:nvPr/>
        </p:nvSpPr>
        <p:spPr>
          <a:xfrm>
            <a:off x="1509840" y="248904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33"/>
          <p:cNvSpPr/>
          <p:nvPr/>
        </p:nvSpPr>
        <p:spPr>
          <a:xfrm>
            <a:off x="1808280" y="261936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34"/>
          <p:cNvSpPr/>
          <p:nvPr/>
        </p:nvSpPr>
        <p:spPr>
          <a:xfrm>
            <a:off x="2014560" y="2770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35"/>
          <p:cNvSpPr/>
          <p:nvPr/>
        </p:nvSpPr>
        <p:spPr>
          <a:xfrm>
            <a:off x="614520" y="161460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ulti-stati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669960" y="4097160"/>
            <a:ext cx="2000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Return signals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7"/>
          <p:cNvSpPr/>
          <p:nvPr/>
        </p:nvSpPr>
        <p:spPr>
          <a:xfrm>
            <a:off x="2943720" y="1650960"/>
            <a:ext cx="56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Multi-static matrix K at one or more frequencies 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ll available measured data. All estimates of target pres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nd/or location are to be determined from 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4492080" y="117144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ic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9"/>
          <p:cNvSpPr/>
          <p:nvPr/>
        </p:nvSpPr>
        <p:spPr>
          <a:xfrm>
            <a:off x="4761720" y="25686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0"/>
          <p:cNvSpPr/>
          <p:nvPr/>
        </p:nvSpPr>
        <p:spPr>
          <a:xfrm>
            <a:off x="2820960" y="3086280"/>
            <a:ext cx="53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Perform a singular value decomposition (S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of K: the  singular values are related to scatterer (targ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strengths and the singular vectors to target lo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1"/>
          <p:cNvSpPr/>
          <p:nvPr/>
        </p:nvSpPr>
        <p:spPr>
          <a:xfrm>
            <a:off x="2944080" y="4076640"/>
            <a:ext cx="53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nce the SVD is performed the singular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an be employed in conventional im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backpropagation) or used in a vector sub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lgorithm such as MUSIC for target location est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42"/>
          <p:cNvSpPr/>
          <p:nvPr/>
        </p:nvSpPr>
        <p:spPr>
          <a:xfrm>
            <a:off x="597600" y="5397480"/>
            <a:ext cx="798984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 new formulation does not require the background medium to be recipr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nd applies to non-collocated transmitting and receiving sensor el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5604-F0BD-42A5-ADB1-DA81E3A59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m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3614760" y="1984320"/>
            <a:ext cx="5529240" cy="933480"/>
          </a:xfrm>
          <a:prstGeom prst="rect">
            <a:avLst/>
          </a:prstGeom>
          <a:ln w="0">
            <a:noFill/>
          </a:ln>
        </p:spPr>
      </p:pic>
      <p:sp>
        <p:nvSpPr>
          <p:cNvPr id="414" name="Line 4"/>
          <p:cNvSpPr/>
          <p:nvPr/>
        </p:nvSpPr>
        <p:spPr>
          <a:xfrm>
            <a:off x="1549440" y="2565360"/>
            <a:ext cx="914400" cy="24256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2540160" y="2387160"/>
            <a:ext cx="0" cy="2654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6"/>
          <p:cNvSpPr/>
          <p:nvPr/>
        </p:nvSpPr>
        <p:spPr>
          <a:xfrm>
            <a:off x="2833560" y="2160720"/>
            <a:ext cx="146160" cy="172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"/>
          <p:cNvSpPr/>
          <p:nvPr/>
        </p:nvSpPr>
        <p:spPr>
          <a:xfrm rot="16200000">
            <a:off x="1820160" y="2174040"/>
            <a:ext cx="1728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8"/>
          <p:cNvSpPr/>
          <p:nvPr/>
        </p:nvSpPr>
        <p:spPr>
          <a:xfrm>
            <a:off x="2182680" y="1881360"/>
            <a:ext cx="146160" cy="172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9"/>
          <p:cNvSpPr/>
          <p:nvPr/>
        </p:nvSpPr>
        <p:spPr>
          <a:xfrm>
            <a:off x="2459160" y="1987560"/>
            <a:ext cx="147600" cy="17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1467000" y="2392200"/>
            <a:ext cx="145800" cy="17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11"/>
          <p:cNvSpPr/>
          <p:nvPr/>
        </p:nvSpPr>
        <p:spPr>
          <a:xfrm>
            <a:off x="3078000" y="2449440"/>
            <a:ext cx="146160" cy="17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1238400" y="2109960"/>
            <a:ext cx="1295280" cy="3124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2533680" y="2109960"/>
            <a:ext cx="1143000" cy="3124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H="1">
            <a:off x="1238400" y="2490840"/>
            <a:ext cx="304560" cy="2743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1542960" y="2490840"/>
            <a:ext cx="2133720" cy="2743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2457360" y="51577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1238400" y="5234040"/>
            <a:ext cx="2438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366840" y="3594240"/>
            <a:ext cx="3784320" cy="253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Inhomogeneous 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1585800" y="2889360"/>
            <a:ext cx="225360" cy="304560"/>
          </a:xfrm>
          <a:prstGeom prst="pie">
            <a:avLst/>
          </a:prstGeom>
          <a:noFill/>
          <a:ln w="1908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reeform 20"/>
          <p:cNvSpPr/>
          <p:nvPr/>
        </p:nvSpPr>
        <p:spPr>
          <a:xfrm>
            <a:off x="2422440" y="2854440"/>
            <a:ext cx="236520" cy="199800"/>
          </a:xfrm>
          <a:prstGeom prst="pie">
            <a:avLst/>
          </a:prstGeom>
          <a:noFill/>
          <a:ln w="1908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179640" y="1039680"/>
            <a:ext cx="17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ting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>
            <a:off x="1155600" y="1359000"/>
            <a:ext cx="114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3124080" y="124308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ing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4"/>
          <p:cNvSpPr/>
          <p:nvPr/>
        </p:nvSpPr>
        <p:spPr>
          <a:xfrm flipH="1">
            <a:off x="2704680" y="1447920"/>
            <a:ext cx="4064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25" descr=""/>
          <p:cNvPicPr/>
          <p:nvPr/>
        </p:nvPicPr>
        <p:blipFill>
          <a:blip r:embed="rId2"/>
          <a:stretch/>
        </p:blipFill>
        <p:spPr>
          <a:xfrm>
            <a:off x="5276880" y="3699000"/>
            <a:ext cx="2703600" cy="957240"/>
          </a:xfrm>
          <a:prstGeom prst="rect">
            <a:avLst/>
          </a:prstGeom>
          <a:ln w="0">
            <a:noFill/>
          </a:ln>
        </p:spPr>
      </p:pic>
      <p:sp>
        <p:nvSpPr>
          <p:cNvPr id="436" name="Line 26"/>
          <p:cNvSpPr/>
          <p:nvPr/>
        </p:nvSpPr>
        <p:spPr>
          <a:xfrm flipH="1">
            <a:off x="4000320" y="1828800"/>
            <a:ext cx="3171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4331520" y="1662120"/>
            <a:ext cx="30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Down-going Green function 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28"/>
          <p:cNvSpPr/>
          <p:nvPr/>
        </p:nvSpPr>
        <p:spPr>
          <a:xfrm flipH="1" flipV="1">
            <a:off x="3911760" y="2844720"/>
            <a:ext cx="444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4458960" y="2957400"/>
            <a:ext cx="27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Up-going Green function 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5356080" y="328932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ulti-static Data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31" descr=""/>
          <p:cNvPicPr/>
          <p:nvPr/>
        </p:nvPicPr>
        <p:blipFill>
          <a:blip r:embed="rId3"/>
          <a:stretch/>
        </p:blipFill>
        <p:spPr>
          <a:xfrm>
            <a:off x="307800" y="3022560"/>
            <a:ext cx="1081440" cy="303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2" descr=""/>
          <p:cNvPicPr/>
          <p:nvPr/>
        </p:nvPicPr>
        <p:blipFill>
          <a:blip r:embed="rId4"/>
          <a:stretch/>
        </p:blipFill>
        <p:spPr>
          <a:xfrm>
            <a:off x="3154320" y="4659480"/>
            <a:ext cx="2176560" cy="407880"/>
          </a:xfrm>
          <a:prstGeom prst="rect">
            <a:avLst/>
          </a:prstGeom>
          <a:ln w="0">
            <a:noFill/>
          </a:ln>
        </p:spPr>
      </p:pic>
      <p:sp>
        <p:nvSpPr>
          <p:cNvPr id="443" name="Line 33"/>
          <p:cNvSpPr/>
          <p:nvPr/>
        </p:nvSpPr>
        <p:spPr>
          <a:xfrm flipH="1" flipV="1">
            <a:off x="2603520" y="4559040"/>
            <a:ext cx="4572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34" descr=""/>
          <p:cNvPicPr/>
          <p:nvPr/>
        </p:nvPicPr>
        <p:blipFill>
          <a:blip r:embed="rId5"/>
          <a:stretch/>
        </p:blipFill>
        <p:spPr>
          <a:xfrm>
            <a:off x="1623960" y="4714920"/>
            <a:ext cx="412920" cy="349200"/>
          </a:xfrm>
          <a:prstGeom prst="rect">
            <a:avLst/>
          </a:prstGeom>
          <a:ln w="0">
            <a:noFill/>
          </a:ln>
        </p:spPr>
      </p:pic>
      <p:sp>
        <p:nvSpPr>
          <p:cNvPr id="445" name="Line 35"/>
          <p:cNvSpPr/>
          <p:nvPr/>
        </p:nvSpPr>
        <p:spPr>
          <a:xfrm>
            <a:off x="2082960" y="4978440"/>
            <a:ext cx="34272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5397480" y="3695760"/>
            <a:ext cx="2451240" cy="9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3638520" y="5295960"/>
            <a:ext cx="5318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Perform a singular value decomposition (S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of K: the  singular values are related to scatterer (targ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strengths and the singular vectors to target lo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238680" y="269064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Down-g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3681000" y="435456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Up-g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1210680" y="54118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 located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41" descr=""/>
          <p:cNvPicPr/>
          <p:nvPr/>
        </p:nvPicPr>
        <p:blipFill>
          <a:blip r:embed="rId6"/>
          <a:stretch/>
        </p:blipFill>
        <p:spPr>
          <a:xfrm>
            <a:off x="2925720" y="5522760"/>
            <a:ext cx="2952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77C-342C-45CA-87BF-613261F09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ngular System of Multi-static Matrix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2262240" y="1274760"/>
            <a:ext cx="4281480" cy="112068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"/>
          <p:cNvSpPr/>
          <p:nvPr/>
        </p:nvSpPr>
        <p:spPr>
          <a:xfrm>
            <a:off x="442080" y="3071880"/>
            <a:ext cx="809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bove formulation reduces to conventional time-reversal for the case of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symmetric multi-static data matrix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reciprocal background with full multi-static capabi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1422720" y="5056200"/>
            <a:ext cx="5746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Each scatterer (target) associated with different j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 strengths proportional to eigen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 locations embedded in eigen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642720" y="162396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Norma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7"/>
          <p:cNvSpPr/>
          <p:nvPr/>
        </p:nvSpPr>
        <p:spPr>
          <a:xfrm flipH="1" flipV="1">
            <a:off x="6463800" y="1574280"/>
            <a:ext cx="685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8"/>
          <p:cNvSpPr/>
          <p:nvPr/>
        </p:nvSpPr>
        <p:spPr>
          <a:xfrm flipH="1">
            <a:off x="6616800" y="1943280"/>
            <a:ext cx="55872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9" descr=""/>
          <p:cNvPicPr/>
          <p:nvPr/>
        </p:nvPicPr>
        <p:blipFill>
          <a:blip r:embed="rId2"/>
          <a:stretch/>
        </p:blipFill>
        <p:spPr>
          <a:xfrm>
            <a:off x="1152360" y="2495520"/>
            <a:ext cx="667080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63" name="Picture 10" descr=""/>
          <p:cNvPicPr/>
          <p:nvPr/>
        </p:nvPicPr>
        <p:blipFill>
          <a:blip r:embed="rId3"/>
          <a:stretch/>
        </p:blipFill>
        <p:spPr>
          <a:xfrm>
            <a:off x="879480" y="3695760"/>
            <a:ext cx="7159680" cy="1377720"/>
          </a:xfrm>
          <a:prstGeom prst="rect">
            <a:avLst/>
          </a:prstGeom>
          <a:ln w="0">
            <a:noFill/>
          </a:ln>
        </p:spPr>
      </p:pic>
      <p:sp>
        <p:nvSpPr>
          <p:cNvPr id="464" name="Line 11"/>
          <p:cNvSpPr/>
          <p:nvPr/>
        </p:nvSpPr>
        <p:spPr>
          <a:xfrm>
            <a:off x="495360" y="3708360"/>
            <a:ext cx="807732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2"/>
          <p:cNvSpPr/>
          <p:nvPr/>
        </p:nvSpPr>
        <p:spPr>
          <a:xfrm>
            <a:off x="495360" y="6083280"/>
            <a:ext cx="82422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6FAB-F630-4454-B780-D06F35E76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VD of Multi-static Data Matrix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2224080" y="1227240"/>
            <a:ext cx="3976560" cy="1041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"/>
          <p:cNvPicPr/>
          <p:nvPr/>
        </p:nvPicPr>
        <p:blipFill>
          <a:blip r:embed="rId2"/>
          <a:stretch/>
        </p:blipFill>
        <p:spPr>
          <a:xfrm>
            <a:off x="1805040" y="2530440"/>
            <a:ext cx="4761000" cy="11556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"/>
          <p:cNvPicPr/>
          <p:nvPr/>
        </p:nvPicPr>
        <p:blipFill>
          <a:blip r:embed="rId3"/>
          <a:stretch/>
        </p:blipFill>
        <p:spPr>
          <a:xfrm>
            <a:off x="2170080" y="3841920"/>
            <a:ext cx="3919680" cy="42516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1295640" y="4624560"/>
            <a:ext cx="5746320" cy="947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Each scatterer (target) associated with different j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 strengths proportional to square of singula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 locations embedded in singular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1282680" y="2400480"/>
            <a:ext cx="584208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3239-DC6C-47A4-93B7-FEB97F68E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ector Subspace Method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981000" y="1371600"/>
            <a:ext cx="2881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Vector space of applied volt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o transmitter sensor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981000" y="1816200"/>
            <a:ext cx="2881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ector space of applied volt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 receiver sensor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1978200" y="2411280"/>
            <a:ext cx="4660560" cy="1930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2"/>
          <a:stretch/>
        </p:blipFill>
        <p:spPr>
          <a:xfrm>
            <a:off x="3924360" y="1317600"/>
            <a:ext cx="2044800" cy="1109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3"/>
          <a:stretch/>
        </p:blipFill>
        <p:spPr>
          <a:xfrm>
            <a:off x="4429080" y="4346640"/>
            <a:ext cx="4179960" cy="8478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"/>
          <p:cNvPicPr/>
          <p:nvPr/>
        </p:nvPicPr>
        <p:blipFill>
          <a:blip r:embed="rId4"/>
          <a:stretch/>
        </p:blipFill>
        <p:spPr>
          <a:xfrm>
            <a:off x="284040" y="4356000"/>
            <a:ext cx="3724560" cy="8445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9"/>
          <p:cNvSpPr/>
          <p:nvPr/>
        </p:nvSpPr>
        <p:spPr>
          <a:xfrm>
            <a:off x="191880" y="5473800"/>
            <a:ext cx="8465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USIC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is based on the fact that the complex conjugate of the downgoing Green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ectors are orthogonal to 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j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nd the upgoing Green function vectors are orthgonal to 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1599-633F-45FD-88D0-7D8BDF672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270080" y="1828800"/>
            <a:ext cx="6487920" cy="10508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4"/>
          <p:cNvSpPr/>
          <p:nvPr/>
        </p:nvSpPr>
        <p:spPr>
          <a:xfrm>
            <a:off x="3462120" y="12970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ering 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018080" y="130644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Target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6"/>
          <p:cNvSpPr/>
          <p:nvPr/>
        </p:nvSpPr>
        <p:spPr>
          <a:xfrm>
            <a:off x="2197080" y="1612800"/>
            <a:ext cx="5716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7" descr=""/>
          <p:cNvPicPr/>
          <p:nvPr/>
        </p:nvPicPr>
        <p:blipFill>
          <a:blip r:embed="rId2"/>
          <a:stretch/>
        </p:blipFill>
        <p:spPr>
          <a:xfrm>
            <a:off x="2008080" y="3844800"/>
            <a:ext cx="4175280" cy="20084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8"/>
          <p:cNvSpPr/>
          <p:nvPr/>
        </p:nvSpPr>
        <p:spPr>
          <a:xfrm>
            <a:off x="3398400" y="31892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eudo-spectr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C252-2FE1-4F6E-A5A3-C7A4B34B0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sing Mathemat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842560" y="1398600"/>
            <a:ext cx="349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,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ulti-static respons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927800" y="2019240"/>
            <a:ext cx="48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utput from array element l for unit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put at array element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7"/>
          <p:cNvSpPr/>
          <p:nvPr/>
        </p:nvSpPr>
        <p:spPr>
          <a:xfrm>
            <a:off x="7312680" y="3214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K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99"/>
          <p:cNvGrpSpPr/>
          <p:nvPr/>
        </p:nvGrpSpPr>
        <p:grpSpPr>
          <a:xfrm>
            <a:off x="952200" y="3216240"/>
            <a:ext cx="2995920" cy="2279160"/>
            <a:chOff x="952200" y="3216240"/>
            <a:chExt cx="2995920" cy="2279160"/>
          </a:xfrm>
        </p:grpSpPr>
        <p:sp>
          <p:nvSpPr>
            <p:cNvPr id="104" name="Rectangle 7"/>
            <p:cNvSpPr/>
            <p:nvPr/>
          </p:nvSpPr>
          <p:spPr>
            <a:xfrm>
              <a:off x="1187280" y="3216240"/>
              <a:ext cx="12877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llum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61"/>
            <p:cNvSpPr/>
            <p:nvPr/>
          </p:nvSpPr>
          <p:spPr>
            <a:xfrm>
              <a:off x="2660400" y="3216240"/>
              <a:ext cx="12877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89"/>
            <p:cNvGrpSpPr/>
            <p:nvPr/>
          </p:nvGrpSpPr>
          <p:grpSpPr>
            <a:xfrm>
              <a:off x="952200" y="3681360"/>
              <a:ext cx="2933640" cy="1814040"/>
              <a:chOff x="952200" y="3681360"/>
              <a:chExt cx="2933640" cy="1814040"/>
            </a:xfrm>
          </p:grpSpPr>
          <p:sp>
            <p:nvSpPr>
              <p:cNvPr id="107" name="Freeform 9"/>
              <p:cNvSpPr/>
              <p:nvPr/>
            </p:nvSpPr>
            <p:spPr>
              <a:xfrm>
                <a:off x="1212480" y="4308120"/>
                <a:ext cx="1232640" cy="11872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 rot="5400000">
                <a:off x="1796400" y="3275640"/>
                <a:ext cx="79920" cy="891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21"/>
              <p:cNvSpPr/>
              <p:nvPr/>
            </p:nvSpPr>
            <p:spPr>
              <a:xfrm>
                <a:off x="2604240" y="4308120"/>
                <a:ext cx="1232640" cy="118728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 rot="5400000">
                <a:off x="3188520" y="3275640"/>
                <a:ext cx="79920" cy="891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rc 41"/>
              <p:cNvSpPr/>
              <p:nvPr/>
            </p:nvSpPr>
            <p:spPr>
              <a:xfrm flipV="1">
                <a:off x="1274040" y="3841200"/>
                <a:ext cx="680760" cy="371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42"/>
              <p:cNvSpPr/>
              <p:nvPr/>
            </p:nvSpPr>
            <p:spPr>
              <a:xfrm>
                <a:off x="1603080" y="3762360"/>
                <a:ext cx="1080" cy="85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43"/>
              <p:cNvSpPr/>
              <p:nvPr/>
            </p:nvSpPr>
            <p:spPr>
              <a:xfrm flipH="1">
                <a:off x="952200" y="3762360"/>
                <a:ext cx="650520" cy="65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44"/>
              <p:cNvSpPr/>
              <p:nvPr/>
            </p:nvSpPr>
            <p:spPr>
              <a:xfrm>
                <a:off x="1603080" y="3772440"/>
                <a:ext cx="620640" cy="62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rc 46"/>
              <p:cNvSpPr/>
              <p:nvPr/>
            </p:nvSpPr>
            <p:spPr>
              <a:xfrm flipH="1" flipV="1">
                <a:off x="1082520" y="3902400"/>
                <a:ext cx="1061280" cy="530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47"/>
              <p:cNvSpPr/>
              <p:nvPr/>
            </p:nvSpPr>
            <p:spPr>
              <a:xfrm flipV="1">
                <a:off x="3235320" y="3777480"/>
                <a:ext cx="28008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83"/>
              <p:cNvSpPr/>
              <p:nvPr/>
            </p:nvSpPr>
            <p:spPr>
              <a:xfrm>
                <a:off x="1633320" y="4705920"/>
                <a:ext cx="530280" cy="464040"/>
              </a:xfrm>
              <a:prstGeom prst="pi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84"/>
              <p:cNvSpPr/>
              <p:nvPr/>
            </p:nvSpPr>
            <p:spPr>
              <a:xfrm>
                <a:off x="3065040" y="4726080"/>
                <a:ext cx="530640" cy="464040"/>
              </a:xfrm>
              <a:prstGeom prst="pi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85"/>
              <p:cNvSpPr/>
              <p:nvPr/>
            </p:nvSpPr>
            <p:spPr>
              <a:xfrm>
                <a:off x="2784600" y="4169160"/>
                <a:ext cx="1101240" cy="38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Text Box 87"/>
          <p:cNvSpPr/>
          <p:nvPr/>
        </p:nvSpPr>
        <p:spPr>
          <a:xfrm>
            <a:off x="5990400" y="2809800"/>
            <a:ext cx="1572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ed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citation vector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98"/>
          <p:cNvGrpSpPr/>
          <p:nvPr/>
        </p:nvGrpSpPr>
        <p:grpSpPr>
          <a:xfrm>
            <a:off x="4622760" y="3216240"/>
            <a:ext cx="2757240" cy="2277720"/>
            <a:chOff x="4622760" y="3216240"/>
            <a:chExt cx="2757240" cy="2277720"/>
          </a:xfrm>
        </p:grpSpPr>
        <p:grpSp>
          <p:nvGrpSpPr>
            <p:cNvPr id="122" name="Group 94"/>
            <p:cNvGrpSpPr/>
            <p:nvPr/>
          </p:nvGrpSpPr>
          <p:grpSpPr>
            <a:xfrm>
              <a:off x="4622760" y="3643200"/>
              <a:ext cx="2757240" cy="1850760"/>
              <a:chOff x="4622760" y="3643200"/>
              <a:chExt cx="2757240" cy="1850760"/>
            </a:xfrm>
          </p:grpSpPr>
          <p:sp>
            <p:nvSpPr>
              <p:cNvPr id="123" name="Freeform 51"/>
              <p:cNvSpPr/>
              <p:nvPr/>
            </p:nvSpPr>
            <p:spPr>
              <a:xfrm>
                <a:off x="4622760" y="4282560"/>
                <a:ext cx="1256760" cy="12114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52"/>
              <p:cNvSpPr/>
              <p:nvPr/>
            </p:nvSpPr>
            <p:spPr>
              <a:xfrm rot="5400000">
                <a:off x="5218560" y="3229560"/>
                <a:ext cx="81360" cy="908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63"/>
              <p:cNvSpPr/>
              <p:nvPr/>
            </p:nvSpPr>
            <p:spPr>
              <a:xfrm>
                <a:off x="4734720" y="3848400"/>
                <a:ext cx="1163880" cy="246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64"/>
              <p:cNvSpPr/>
              <p:nvPr/>
            </p:nvSpPr>
            <p:spPr>
              <a:xfrm flipH="1">
                <a:off x="4693680" y="3766680"/>
                <a:ext cx="33660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65"/>
              <p:cNvSpPr/>
              <p:nvPr/>
            </p:nvSpPr>
            <p:spPr>
              <a:xfrm>
                <a:off x="5245200" y="3746520"/>
                <a:ext cx="50760" cy="51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66"/>
              <p:cNvSpPr/>
              <p:nvPr/>
            </p:nvSpPr>
            <p:spPr>
              <a:xfrm flipH="1">
                <a:off x="5438880" y="3787200"/>
                <a:ext cx="204120" cy="38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75"/>
              <p:cNvSpPr/>
              <p:nvPr/>
            </p:nvSpPr>
            <p:spPr>
              <a:xfrm>
                <a:off x="6123240" y="4262040"/>
                <a:ext cx="1256760" cy="1211400"/>
              </a:xfrm>
              <a:prstGeom prst="pi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76"/>
              <p:cNvSpPr/>
              <p:nvPr/>
            </p:nvSpPr>
            <p:spPr>
              <a:xfrm rot="5400000">
                <a:off x="6739920" y="3229560"/>
                <a:ext cx="81360" cy="9086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020920" y="4739760"/>
                <a:ext cx="540720" cy="473400"/>
              </a:xfrm>
              <a:prstGeom prst="pi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90"/>
              <p:cNvSpPr/>
              <p:nvPr/>
            </p:nvSpPr>
            <p:spPr>
              <a:xfrm>
                <a:off x="6511320" y="4719240"/>
                <a:ext cx="541080" cy="473400"/>
              </a:xfrm>
              <a:prstGeom prst="pi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91"/>
              <p:cNvSpPr/>
              <p:nvPr/>
            </p:nvSpPr>
            <p:spPr>
              <a:xfrm>
                <a:off x="6112800" y="3954600"/>
                <a:ext cx="1245240" cy="39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92"/>
              <p:cNvSpPr/>
              <p:nvPr/>
            </p:nvSpPr>
            <p:spPr>
              <a:xfrm flipH="1" flipV="1">
                <a:off x="6337440" y="3848400"/>
                <a:ext cx="28548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93"/>
              <p:cNvSpPr/>
              <p:nvPr/>
            </p:nvSpPr>
            <p:spPr>
              <a:xfrm flipV="1">
                <a:off x="6807240" y="3807360"/>
                <a:ext cx="194040" cy="82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Rectangle 95"/>
            <p:cNvSpPr/>
            <p:nvPr/>
          </p:nvSpPr>
          <p:spPr>
            <a:xfrm>
              <a:off x="4665600" y="3216240"/>
              <a:ext cx="1136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bitr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llum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96"/>
            <p:cNvSpPr/>
            <p:nvPr/>
          </p:nvSpPr>
          <p:spPr>
            <a:xfrm>
              <a:off x="6134400" y="3292200"/>
              <a:ext cx="11980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ray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Line 100"/>
          <p:cNvSpPr/>
          <p:nvPr/>
        </p:nvSpPr>
        <p:spPr>
          <a:xfrm flipH="1">
            <a:off x="5778360" y="3200400"/>
            <a:ext cx="39384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B367-AEEB-44B6-950E-B18ABE172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ing it Mathematicall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720520" y="1411200"/>
            <a:ext cx="3506040" cy="1374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static response matrix =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excitation vector =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output vector =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v = K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974880" y="3247920"/>
            <a:ext cx="74116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reversal: what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ads to 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*e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*e* = K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778400" y="3976560"/>
            <a:ext cx="515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is symmetric (from reciprocity) so that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K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968840" y="4390920"/>
            <a:ext cx="50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K e)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K*e*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K e)*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697560" y="5025960"/>
            <a:ext cx="1300680" cy="459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 e =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183040" y="5716440"/>
            <a:ext cx="42541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time-reversal matrix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 = K*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63DE-F5DA-407D-BBC1-7A6138ECB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365120" y="3917880"/>
            <a:ext cx="6248520" cy="127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4991040" y="5616720"/>
            <a:ext cx="3257640" cy="534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-static Response Matrix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941720" y="5243400"/>
            <a:ext cx="3197520" cy="408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1539720" y="5232240"/>
            <a:ext cx="2995920" cy="83844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grpSp>
        <p:nvGrpSpPr>
          <p:cNvPr id="157" name="Group 23"/>
          <p:cNvGrpSpPr/>
          <p:nvPr/>
        </p:nvGrpSpPr>
        <p:grpSpPr>
          <a:xfrm>
            <a:off x="5495760" y="1811160"/>
            <a:ext cx="1517760" cy="1060560"/>
            <a:chOff x="5495760" y="1811160"/>
            <a:chExt cx="1517760" cy="1060560"/>
          </a:xfrm>
        </p:grpSpPr>
        <p:sp>
          <p:nvSpPr>
            <p:cNvPr id="158" name="Arc 10"/>
            <p:cNvSpPr/>
            <p:nvPr/>
          </p:nvSpPr>
          <p:spPr>
            <a:xfrm flipV="1">
              <a:off x="5497560" y="2035080"/>
              <a:ext cx="981000" cy="49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rc 11"/>
            <p:cNvSpPr/>
            <p:nvPr/>
          </p:nvSpPr>
          <p:spPr>
            <a:xfrm flipV="1">
              <a:off x="5607000" y="1941480"/>
              <a:ext cx="779400" cy="390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6130800" y="2120760"/>
              <a:ext cx="53352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6000840" y="217944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 flipH="1">
              <a:off x="5495760" y="2135160"/>
              <a:ext cx="3463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5905440" y="1811160"/>
              <a:ext cx="216000" cy="21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6151680" y="1882800"/>
              <a:ext cx="72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6861240" y="187776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8"/>
            <p:cNvSpPr/>
            <p:nvPr/>
          </p:nvSpPr>
          <p:spPr>
            <a:xfrm>
              <a:off x="6870600" y="240192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Group 19"/>
            <p:cNvGrpSpPr/>
            <p:nvPr/>
          </p:nvGrpSpPr>
          <p:grpSpPr>
            <a:xfrm>
              <a:off x="6756480" y="2649240"/>
              <a:ext cx="257040" cy="114480"/>
              <a:chOff x="6756480" y="2649240"/>
              <a:chExt cx="257040" cy="114480"/>
            </a:xfrm>
          </p:grpSpPr>
          <p:sp>
            <p:nvSpPr>
              <p:cNvPr id="168" name="Line 20"/>
              <p:cNvSpPr/>
              <p:nvPr/>
            </p:nvSpPr>
            <p:spPr>
              <a:xfrm flipH="1">
                <a:off x="6756480" y="264924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21"/>
              <p:cNvSpPr/>
              <p:nvPr/>
            </p:nvSpPr>
            <p:spPr>
              <a:xfrm flipH="1">
                <a:off x="6842160" y="270648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22"/>
              <p:cNvSpPr/>
              <p:nvPr/>
            </p:nvSpPr>
            <p:spPr>
              <a:xfrm flipH="1">
                <a:off x="6861240" y="2763720"/>
                <a:ext cx="6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Group 24"/>
          <p:cNvGrpSpPr/>
          <p:nvPr/>
        </p:nvGrpSpPr>
        <p:grpSpPr>
          <a:xfrm>
            <a:off x="2147760" y="1496880"/>
            <a:ext cx="1457280" cy="1349280"/>
            <a:chOff x="2147760" y="1496880"/>
            <a:chExt cx="1457280" cy="1349280"/>
          </a:xfrm>
        </p:grpSpPr>
        <p:grpSp>
          <p:nvGrpSpPr>
            <p:cNvPr id="172" name="Group 25"/>
            <p:cNvGrpSpPr/>
            <p:nvPr/>
          </p:nvGrpSpPr>
          <p:grpSpPr>
            <a:xfrm>
              <a:off x="2147760" y="1630080"/>
              <a:ext cx="1457280" cy="1216080"/>
              <a:chOff x="2147760" y="1630080"/>
              <a:chExt cx="1457280" cy="1216080"/>
            </a:xfrm>
          </p:grpSpPr>
          <p:grpSp>
            <p:nvGrpSpPr>
              <p:cNvPr id="173" name="Group 26"/>
              <p:cNvGrpSpPr/>
              <p:nvPr/>
            </p:nvGrpSpPr>
            <p:grpSpPr>
              <a:xfrm>
                <a:off x="2147760" y="1630080"/>
                <a:ext cx="1019160" cy="1095480"/>
                <a:chOff x="2147760" y="1630080"/>
                <a:chExt cx="1019160" cy="1095480"/>
              </a:xfrm>
            </p:grpSpPr>
            <p:sp>
              <p:nvSpPr>
                <p:cNvPr id="174" name="AutoShape 27"/>
                <p:cNvSpPr/>
                <p:nvPr/>
              </p:nvSpPr>
              <p:spPr>
                <a:xfrm>
                  <a:off x="2728800" y="1630080"/>
                  <a:ext cx="438120" cy="476280"/>
                </a:xfrm>
                <a:prstGeom prst="irregularSeal1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28"/>
                <p:cNvSpPr/>
                <p:nvPr/>
              </p:nvSpPr>
              <p:spPr>
                <a:xfrm flipH="1">
                  <a:off x="2242800" y="1839600"/>
                  <a:ext cx="43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29"/>
                <p:cNvSpPr/>
                <p:nvPr/>
              </p:nvSpPr>
              <p:spPr>
                <a:xfrm>
                  <a:off x="2252520" y="1839600"/>
                  <a:ext cx="0" cy="20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30"/>
                <p:cNvSpPr/>
                <p:nvPr/>
              </p:nvSpPr>
              <p:spPr>
                <a:xfrm>
                  <a:off x="2262240" y="2363400"/>
                  <a:ext cx="0" cy="23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Group 31"/>
                <p:cNvGrpSpPr/>
                <p:nvPr/>
              </p:nvGrpSpPr>
              <p:grpSpPr>
                <a:xfrm>
                  <a:off x="2147760" y="2611080"/>
                  <a:ext cx="257040" cy="114480"/>
                  <a:chOff x="2147760" y="2611080"/>
                  <a:chExt cx="257040" cy="114480"/>
                </a:xfrm>
              </p:grpSpPr>
              <p:sp>
                <p:nvSpPr>
                  <p:cNvPr id="179" name="Line 32"/>
                  <p:cNvSpPr/>
                  <p:nvPr/>
                </p:nvSpPr>
                <p:spPr>
                  <a:xfrm>
                    <a:off x="2147760" y="2611080"/>
                    <a:ext cx="257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33"/>
                  <p:cNvSpPr/>
                  <p:nvPr/>
                </p:nvSpPr>
                <p:spPr>
                  <a:xfrm>
                    <a:off x="2205000" y="266832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Line 34"/>
                  <p:cNvSpPr/>
                  <p:nvPr/>
                </p:nvSpPr>
                <p:spPr>
                  <a:xfrm>
                    <a:off x="2233440" y="2725560"/>
                    <a:ext cx="66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2" name="Arc 35"/>
              <p:cNvSpPr/>
              <p:nvPr/>
            </p:nvSpPr>
            <p:spPr>
              <a:xfrm flipV="1">
                <a:off x="2438280" y="1965960"/>
                <a:ext cx="981360" cy="490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rc 36"/>
              <p:cNvSpPr/>
              <p:nvPr/>
            </p:nvSpPr>
            <p:spPr>
              <a:xfrm flipV="1">
                <a:off x="2548080" y="1872360"/>
                <a:ext cx="779400" cy="390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37"/>
              <p:cNvSpPr/>
              <p:nvPr/>
            </p:nvSpPr>
            <p:spPr>
              <a:xfrm>
                <a:off x="3071880" y="2052360"/>
                <a:ext cx="533160" cy="53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38"/>
              <p:cNvSpPr/>
              <p:nvPr/>
            </p:nvSpPr>
            <p:spPr>
              <a:xfrm>
                <a:off x="2941560" y="2154240"/>
                <a:ext cx="0" cy="69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39"/>
              <p:cNvSpPr/>
              <p:nvPr/>
            </p:nvSpPr>
            <p:spPr>
              <a:xfrm flipH="1">
                <a:off x="2436480" y="2066760"/>
                <a:ext cx="3459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7" name="Picture 40" descr=""/>
            <p:cNvPicPr/>
            <p:nvPr/>
          </p:nvPicPr>
          <p:blipFill>
            <a:blip r:embed="rId5"/>
            <a:stretch/>
          </p:blipFill>
          <p:spPr>
            <a:xfrm>
              <a:off x="3176640" y="1496880"/>
              <a:ext cx="301680" cy="33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41" descr=""/>
          <p:cNvPicPr/>
          <p:nvPr/>
        </p:nvPicPr>
        <p:blipFill>
          <a:blip r:embed="rId6"/>
          <a:stretch/>
        </p:blipFill>
        <p:spPr>
          <a:xfrm>
            <a:off x="6148440" y="1488960"/>
            <a:ext cx="225360" cy="271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2" descr=""/>
          <p:cNvPicPr/>
          <p:nvPr/>
        </p:nvPicPr>
        <p:blipFill>
          <a:blip r:embed="rId7"/>
          <a:stretch/>
        </p:blipFill>
        <p:spPr>
          <a:xfrm>
            <a:off x="6734160" y="2049480"/>
            <a:ext cx="527040" cy="344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3"/>
          <p:cNvSpPr/>
          <p:nvPr/>
        </p:nvSpPr>
        <p:spPr>
          <a:xfrm>
            <a:off x="3606840" y="5448240"/>
            <a:ext cx="876240" cy="406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rc 44"/>
          <p:cNvSpPr/>
          <p:nvPr/>
        </p:nvSpPr>
        <p:spPr>
          <a:xfrm>
            <a:off x="4140360" y="2978280"/>
            <a:ext cx="83160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rc 45"/>
          <p:cNvSpPr/>
          <p:nvPr/>
        </p:nvSpPr>
        <p:spPr>
          <a:xfrm>
            <a:off x="4232160" y="3143160"/>
            <a:ext cx="662040" cy="3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6"/>
          <p:cNvSpPr/>
          <p:nvPr/>
        </p:nvSpPr>
        <p:spPr>
          <a:xfrm flipV="1">
            <a:off x="4676760" y="2867040"/>
            <a:ext cx="452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7"/>
          <p:cNvSpPr/>
          <p:nvPr/>
        </p:nvSpPr>
        <p:spPr>
          <a:xfrm flipV="1">
            <a:off x="4567320" y="2646360"/>
            <a:ext cx="144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8"/>
          <p:cNvSpPr/>
          <p:nvPr/>
        </p:nvSpPr>
        <p:spPr>
          <a:xfrm flipH="1" flipV="1">
            <a:off x="4138560" y="2881080"/>
            <a:ext cx="29376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9" descr=""/>
          <p:cNvPicPr/>
          <p:nvPr/>
        </p:nvPicPr>
        <p:blipFill>
          <a:blip r:embed="rId8"/>
          <a:stretch/>
        </p:blipFill>
        <p:spPr>
          <a:xfrm>
            <a:off x="4365720" y="3560760"/>
            <a:ext cx="353880" cy="320760"/>
          </a:xfrm>
          <a:prstGeom prst="rect">
            <a:avLst/>
          </a:prstGeom>
          <a:ln w="0">
            <a:noFill/>
          </a:ln>
        </p:spPr>
      </p:pic>
      <p:sp>
        <p:nvSpPr>
          <p:cNvPr id="197" name="Oval 50"/>
          <p:cNvSpPr/>
          <p:nvPr/>
        </p:nvSpPr>
        <p:spPr>
          <a:xfrm>
            <a:off x="4530600" y="340524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1"/>
          <p:cNvSpPr/>
          <p:nvPr/>
        </p:nvSpPr>
        <p:spPr>
          <a:xfrm>
            <a:off x="377640" y="3236760"/>
            <a:ext cx="22899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Linearly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imes New Roman"/>
              </a:rPr>
              <a:t>under very weak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2"/>
          <p:cNvSpPr/>
          <p:nvPr/>
        </p:nvSpPr>
        <p:spPr>
          <a:xfrm>
            <a:off x="1130400" y="3670200"/>
            <a:ext cx="38088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D1C5-0FBC-470E-8075-29F859DDC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-Reversal Matrix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425680" y="1474920"/>
            <a:ext cx="4070520" cy="2301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2114640" y="4446720"/>
            <a:ext cx="4481280" cy="1376280"/>
          </a:xfrm>
          <a:prstGeom prst="rect">
            <a:avLst/>
          </a:prstGeom>
          <a:ln w="0">
            <a:noFill/>
          </a:ln>
        </p:spPr>
      </p:pic>
      <p:sp>
        <p:nvSpPr>
          <p:cNvPr id="206" name="Line 5"/>
          <p:cNvSpPr/>
          <p:nvPr/>
        </p:nvSpPr>
        <p:spPr>
          <a:xfrm>
            <a:off x="1422360" y="4102200"/>
            <a:ext cx="58672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BC7A-131C-48F8-87FB-4083367FD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ray Point Spread Func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972080" y="3433680"/>
            <a:ext cx="5347080" cy="6148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ackpropagated field from scatterer located at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valuated at field locatio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47"/>
          <p:cNvGrpSpPr/>
          <p:nvPr/>
        </p:nvGrpSpPr>
        <p:grpSpPr>
          <a:xfrm>
            <a:off x="720720" y="1604880"/>
            <a:ext cx="8018280" cy="1515960"/>
            <a:chOff x="720720" y="1604880"/>
            <a:chExt cx="8018280" cy="1515960"/>
          </a:xfrm>
        </p:grpSpPr>
        <p:sp>
          <p:nvSpPr>
            <p:cNvPr id="213" name="Line 5"/>
            <p:cNvSpPr/>
            <p:nvPr/>
          </p:nvSpPr>
          <p:spPr>
            <a:xfrm>
              <a:off x="852480" y="1708200"/>
              <a:ext cx="36003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6"/>
            <p:cNvSpPr/>
            <p:nvPr/>
          </p:nvSpPr>
          <p:spPr>
            <a:xfrm>
              <a:off x="720720" y="161136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30120" y="161136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8"/>
            <p:cNvSpPr/>
            <p:nvPr/>
          </p:nvSpPr>
          <p:spPr>
            <a:xfrm>
              <a:off x="1739880" y="161136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9"/>
            <p:cNvSpPr/>
            <p:nvPr/>
          </p:nvSpPr>
          <p:spPr>
            <a:xfrm>
              <a:off x="2249280" y="1611360"/>
              <a:ext cx="23832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10"/>
            <p:cNvSpPr/>
            <p:nvPr/>
          </p:nvSpPr>
          <p:spPr>
            <a:xfrm>
              <a:off x="2757240" y="161136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11"/>
            <p:cNvSpPr/>
            <p:nvPr/>
          </p:nvSpPr>
          <p:spPr>
            <a:xfrm>
              <a:off x="3267000" y="161136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12"/>
            <p:cNvSpPr/>
            <p:nvPr/>
          </p:nvSpPr>
          <p:spPr>
            <a:xfrm>
              <a:off x="3776400" y="161136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>
              <a:off x="4262400" y="161136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rc 16"/>
            <p:cNvSpPr/>
            <p:nvPr/>
          </p:nvSpPr>
          <p:spPr>
            <a:xfrm>
              <a:off x="2001600" y="2423880"/>
              <a:ext cx="689040" cy="33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rc 17"/>
            <p:cNvSpPr/>
            <p:nvPr/>
          </p:nvSpPr>
          <p:spPr>
            <a:xfrm>
              <a:off x="2077920" y="2555640"/>
              <a:ext cx="547560" cy="270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 flipV="1">
              <a:off x="2446200" y="2333160"/>
              <a:ext cx="3747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 flipV="1">
              <a:off x="2354040" y="2155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 flipV="1">
              <a:off x="1999800" y="2344680"/>
              <a:ext cx="2430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Picture 22" descr=""/>
            <p:cNvPicPr/>
            <p:nvPr/>
          </p:nvPicPr>
          <p:blipFill>
            <a:blip r:embed="rId1"/>
            <a:stretch/>
          </p:blipFill>
          <p:spPr>
            <a:xfrm>
              <a:off x="2604960" y="2895480"/>
              <a:ext cx="3189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Line 25"/>
            <p:cNvSpPr/>
            <p:nvPr/>
          </p:nvSpPr>
          <p:spPr>
            <a:xfrm>
              <a:off x="5089320" y="1701720"/>
              <a:ext cx="3600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26"/>
            <p:cNvSpPr/>
            <p:nvPr/>
          </p:nvSpPr>
          <p:spPr>
            <a:xfrm>
              <a:off x="4957560" y="160488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27"/>
            <p:cNvSpPr/>
            <p:nvPr/>
          </p:nvSpPr>
          <p:spPr>
            <a:xfrm>
              <a:off x="5467320" y="160488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28"/>
            <p:cNvSpPr/>
            <p:nvPr/>
          </p:nvSpPr>
          <p:spPr>
            <a:xfrm>
              <a:off x="5976720" y="160488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29"/>
            <p:cNvSpPr/>
            <p:nvPr/>
          </p:nvSpPr>
          <p:spPr>
            <a:xfrm>
              <a:off x="6486480" y="1604880"/>
              <a:ext cx="2379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30"/>
            <p:cNvSpPr/>
            <p:nvPr/>
          </p:nvSpPr>
          <p:spPr>
            <a:xfrm>
              <a:off x="6994440" y="160488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31"/>
            <p:cNvSpPr/>
            <p:nvPr/>
          </p:nvSpPr>
          <p:spPr>
            <a:xfrm>
              <a:off x="7503840" y="160488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Oval 32"/>
            <p:cNvSpPr/>
            <p:nvPr/>
          </p:nvSpPr>
          <p:spPr>
            <a:xfrm>
              <a:off x="8013600" y="160488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33"/>
            <p:cNvSpPr/>
            <p:nvPr/>
          </p:nvSpPr>
          <p:spPr>
            <a:xfrm>
              <a:off x="8499240" y="1604880"/>
              <a:ext cx="239760" cy="23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rc 36"/>
            <p:cNvSpPr/>
            <p:nvPr/>
          </p:nvSpPr>
          <p:spPr>
            <a:xfrm>
              <a:off x="6238800" y="2417760"/>
              <a:ext cx="689040" cy="33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rc 37"/>
            <p:cNvSpPr/>
            <p:nvPr/>
          </p:nvSpPr>
          <p:spPr>
            <a:xfrm>
              <a:off x="6315120" y="2549520"/>
              <a:ext cx="547560" cy="269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38"/>
            <p:cNvSpPr/>
            <p:nvPr/>
          </p:nvSpPr>
          <p:spPr>
            <a:xfrm flipV="1">
              <a:off x="7059600" y="1980720"/>
              <a:ext cx="3744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9"/>
            <p:cNvSpPr/>
            <p:nvPr/>
          </p:nvSpPr>
          <p:spPr>
            <a:xfrm flipV="1">
              <a:off x="6576840" y="18457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40"/>
            <p:cNvSpPr/>
            <p:nvPr/>
          </p:nvSpPr>
          <p:spPr>
            <a:xfrm flipH="1" flipV="1">
              <a:off x="5805000" y="1920600"/>
              <a:ext cx="2430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41" descr=""/>
            <p:cNvPicPr/>
            <p:nvPr/>
          </p:nvPicPr>
          <p:blipFill>
            <a:blip r:embed="rId2"/>
            <a:stretch/>
          </p:blipFill>
          <p:spPr>
            <a:xfrm>
              <a:off x="6842160" y="2889000"/>
              <a:ext cx="3189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Oval 42"/>
            <p:cNvSpPr/>
            <p:nvPr/>
          </p:nvSpPr>
          <p:spPr>
            <a:xfrm>
              <a:off x="2322360" y="2886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43"/>
            <p:cNvSpPr/>
            <p:nvPr/>
          </p:nvSpPr>
          <p:spPr>
            <a:xfrm>
              <a:off x="6411960" y="2706480"/>
              <a:ext cx="334800" cy="335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Arc 44"/>
          <p:cNvSpPr/>
          <p:nvPr/>
        </p:nvSpPr>
        <p:spPr>
          <a:xfrm>
            <a:off x="5218200" y="2457360"/>
            <a:ext cx="2770200" cy="171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48" descr=""/>
          <p:cNvPicPr/>
          <p:nvPr/>
        </p:nvPicPr>
        <p:blipFill>
          <a:blip r:embed="rId3"/>
          <a:stretch/>
        </p:blipFill>
        <p:spPr>
          <a:xfrm>
            <a:off x="1692360" y="4240080"/>
            <a:ext cx="5746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8920-BFBF-4D8D-A7E3-66CAE3434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ell-resolved Targ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929240" y="3511440"/>
            <a:ext cx="5347080" cy="6148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ackpropagated field from scatterer located at 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nishes at all other scatterer lo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5356080" y="2682720"/>
            <a:ext cx="3013200" cy="5875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2419200" y="4167360"/>
            <a:ext cx="4070520" cy="1992240"/>
          </a:xfrm>
          <a:prstGeom prst="rect">
            <a:avLst/>
          </a:prstGeom>
          <a:ln w="0">
            <a:noFill/>
          </a:ln>
        </p:spPr>
      </p:pic>
      <p:sp>
        <p:nvSpPr>
          <p:cNvPr id="254" name="Line 11"/>
          <p:cNvSpPr/>
          <p:nvPr/>
        </p:nvSpPr>
        <p:spPr>
          <a:xfrm>
            <a:off x="2638440" y="1701720"/>
            <a:ext cx="360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2506680" y="1604880"/>
            <a:ext cx="239760" cy="23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3016080" y="1604880"/>
            <a:ext cx="239760" cy="23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14"/>
          <p:cNvSpPr/>
          <p:nvPr/>
        </p:nvSpPr>
        <p:spPr>
          <a:xfrm>
            <a:off x="3525840" y="1604880"/>
            <a:ext cx="239760" cy="23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5"/>
          <p:cNvSpPr/>
          <p:nvPr/>
        </p:nvSpPr>
        <p:spPr>
          <a:xfrm>
            <a:off x="4035600" y="1604880"/>
            <a:ext cx="237960" cy="23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4543560" y="1604880"/>
            <a:ext cx="239400" cy="23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5052960" y="1604880"/>
            <a:ext cx="239760" cy="23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5562720" y="1604880"/>
            <a:ext cx="239760" cy="23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048360" y="1604880"/>
            <a:ext cx="239760" cy="23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rc 20"/>
          <p:cNvSpPr/>
          <p:nvPr/>
        </p:nvSpPr>
        <p:spPr>
          <a:xfrm>
            <a:off x="3787920" y="2417760"/>
            <a:ext cx="688680" cy="336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21"/>
          <p:cNvSpPr/>
          <p:nvPr/>
        </p:nvSpPr>
        <p:spPr>
          <a:xfrm>
            <a:off x="3863880" y="2549520"/>
            <a:ext cx="547920" cy="27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2"/>
          <p:cNvSpPr/>
          <p:nvPr/>
        </p:nvSpPr>
        <p:spPr>
          <a:xfrm flipV="1">
            <a:off x="4608360" y="1980720"/>
            <a:ext cx="374760" cy="36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4125960" y="1846440"/>
            <a:ext cx="0" cy="47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4"/>
          <p:cNvSpPr/>
          <p:nvPr/>
        </p:nvSpPr>
        <p:spPr>
          <a:xfrm flipH="1" flipV="1">
            <a:off x="3354480" y="1920600"/>
            <a:ext cx="242640" cy="34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5" descr=""/>
          <p:cNvPicPr/>
          <p:nvPr/>
        </p:nvPicPr>
        <p:blipFill>
          <a:blip r:embed="rId3"/>
          <a:stretch/>
        </p:blipFill>
        <p:spPr>
          <a:xfrm>
            <a:off x="4390920" y="2889360"/>
            <a:ext cx="319320" cy="225360"/>
          </a:xfrm>
          <a:prstGeom prst="rect">
            <a:avLst/>
          </a:prstGeom>
          <a:ln w="0">
            <a:noFill/>
          </a:ln>
        </p:spPr>
      </p:pic>
      <p:sp>
        <p:nvSpPr>
          <p:cNvPr id="269" name="Oval 26"/>
          <p:cNvSpPr/>
          <p:nvPr/>
        </p:nvSpPr>
        <p:spPr>
          <a:xfrm>
            <a:off x="3960720" y="2706840"/>
            <a:ext cx="335160" cy="334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7" descr=""/>
          <p:cNvPicPr/>
          <p:nvPr/>
        </p:nvPicPr>
        <p:blipFill>
          <a:blip r:embed="rId4"/>
          <a:stretch/>
        </p:blipFill>
        <p:spPr>
          <a:xfrm>
            <a:off x="3141720" y="2765520"/>
            <a:ext cx="353880" cy="320760"/>
          </a:xfrm>
          <a:prstGeom prst="rect">
            <a:avLst/>
          </a:prstGeom>
          <a:ln w="0">
            <a:noFill/>
          </a:ln>
        </p:spPr>
      </p:pic>
      <p:sp>
        <p:nvSpPr>
          <p:cNvPr id="271" name="Oval 28"/>
          <p:cNvSpPr/>
          <p:nvPr/>
        </p:nvSpPr>
        <p:spPr>
          <a:xfrm>
            <a:off x="3435480" y="2727360"/>
            <a:ext cx="85680" cy="856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rc 29"/>
          <p:cNvSpPr/>
          <p:nvPr/>
        </p:nvSpPr>
        <p:spPr>
          <a:xfrm>
            <a:off x="2720880" y="1936800"/>
            <a:ext cx="2770200" cy="171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SA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5273-2EF6-48C1-9069-852E25377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4498920" y="1316160"/>
            <a:ext cx="2438280" cy="1612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ector Spaces for W.R.T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689040" y="1504800"/>
            <a:ext cx="2970000" cy="1430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2028960" y="30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392040" y="3917880"/>
            <a:ext cx="3799080" cy="20336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1336680" y="307980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gnal Sub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9" descr=""/>
          <p:cNvPicPr/>
          <p:nvPr/>
        </p:nvPicPr>
        <p:blipFill>
          <a:blip r:embed="rId3"/>
          <a:stretch/>
        </p:blipFill>
        <p:spPr>
          <a:xfrm>
            <a:off x="4572000" y="3917880"/>
            <a:ext cx="3375000" cy="9921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5184000" y="305928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ise Sub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11" descr=""/>
          <p:cNvPicPr/>
          <p:nvPr/>
        </p:nvPicPr>
        <p:blipFill>
          <a:blip r:embed="rId4"/>
          <a:stretch/>
        </p:blipFill>
        <p:spPr>
          <a:xfrm>
            <a:off x="830160" y="3524400"/>
            <a:ext cx="3211560" cy="527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"/>
          <p:cNvPicPr/>
          <p:nvPr/>
        </p:nvPicPr>
        <p:blipFill>
          <a:blip r:embed="rId5"/>
          <a:stretch/>
        </p:blipFill>
        <p:spPr>
          <a:xfrm>
            <a:off x="7270920" y="1968480"/>
            <a:ext cx="1352520" cy="46368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286" name="Picture 13" descr=""/>
          <p:cNvPicPr/>
          <p:nvPr/>
        </p:nvPicPr>
        <p:blipFill>
          <a:blip r:embed="rId6"/>
          <a:stretch/>
        </p:blipFill>
        <p:spPr>
          <a:xfrm>
            <a:off x="5372280" y="2432160"/>
            <a:ext cx="838080" cy="353880"/>
          </a:xfrm>
          <a:prstGeom prst="rect">
            <a:avLst/>
          </a:prstGeom>
          <a:ln w="0">
            <a:noFill/>
          </a:ln>
        </p:spPr>
      </p:pic>
      <p:sp>
        <p:nvSpPr>
          <p:cNvPr id="287" name="Freeform 15"/>
          <p:cNvSpPr/>
          <p:nvPr/>
        </p:nvSpPr>
        <p:spPr>
          <a:xfrm>
            <a:off x="5062680" y="1746360"/>
            <a:ext cx="1288800" cy="660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7" descr=""/>
          <p:cNvPicPr/>
          <p:nvPr/>
        </p:nvPicPr>
        <p:blipFill>
          <a:blip r:embed="rId7"/>
          <a:stretch/>
        </p:blipFill>
        <p:spPr>
          <a:xfrm>
            <a:off x="5800680" y="3554280"/>
            <a:ext cx="838080" cy="3542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8"/>
          <p:cNvSpPr/>
          <p:nvPr/>
        </p:nvSpPr>
        <p:spPr>
          <a:xfrm>
            <a:off x="5613480" y="18637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4519080" y="5068800"/>
            <a:ext cx="3608280" cy="100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me reversal eigen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qual to Green function 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 well resolve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1247760" y="110664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of outer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21:17:53Z</dcterms:created>
  <dc:creator>Amy</dc:creator>
  <dc:description/>
  <dc:language>en-US</dc:language>
  <cp:lastModifiedBy>tony devaney</cp:lastModifiedBy>
  <dcterms:modified xsi:type="dcterms:W3CDTF">2012-09-22T13:06:58Z</dcterms:modified>
  <cp:revision>41</cp:revision>
  <dc:subject/>
  <dc:title>No Slide Title</dc:title>
</cp:coreProperties>
</file>