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3.png" ContentType="image/png"/>
  <Override PartName="/ppt/media/image4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wmf" ContentType="image/x-wmf"/>
  <Override PartName="/ppt/media/image25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75B9-3996-4602-B408-D2E28B4AF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lk was presented at the 2005 AFOSR meeting on EM research. It covers work performed on a DARPA sponsored research project on the use of time reversal imaging for detecting targets buried in heavy clu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9925-1E79-4F65-A76B-3C699E985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8B53-5BFB-4913-8F05-5CC84B92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9BD-C3E8-41EE-841F-3979FE6A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9D7-677A-4130-8316-36D44EF8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E37-9220-46E9-8161-B4534300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688-A12B-425C-B459-139D938F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0E5-B4FA-4895-951A-D1ACBB95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20B-2549-4068-B2A6-8AEC0B7C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BC5-3696-4388-A8B5-C3F06598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7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17D2-124D-4809-B82A-7C02738F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71B-BC8B-414B-A4D8-F2C68995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2DF5-6DD3-4070-9F24-18C628BE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684-DD0A-4BFC-9C0D-3B1E7E3D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cc6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BB8D-E836-46DE-9065-3EF8BADCF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81B8-4747-4125-8638-4EE53D636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ime reversal imaging of isolated targets in heavy clutter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92480" y="1490760"/>
            <a:ext cx="5933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.J. Deva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Department of Electrical and Computer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Northeastern Univers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Boston, MA 02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Email:devaney@ece.neu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eb Site: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www.ece.neu.edu/faculty/deva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2717640" y="341964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RPA/AFOS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20200" y="4022640"/>
            <a:ext cx="7864560" cy="715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tect “target” in cluttered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ing multi-static data with time-reversal base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1335600" y="4751280"/>
            <a:ext cx="621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account for the multiple scattering to obt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urate estimates of target and clutter scattering 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522880" y="5754600"/>
            <a:ext cx="35852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Physics based signal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273D-0AF8-49ED-B764-F247CC17D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88960" y="0"/>
            <a:ext cx="7985160" cy="61848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260280" y="2857680"/>
            <a:ext cx="38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frequencies between 4.5 and 5.5 G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E766-A2A1-443A-BA1E-441AD7518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681120" y="0"/>
            <a:ext cx="7853400" cy="62866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-3240" y="2946240"/>
            <a:ext cx="38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frequencies between 4.5 and 5.5 G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41C4-62A1-4358-909F-78FF8456D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5800" y="177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ultiple Scattering Model for Point Tar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660240" y="1992240"/>
            <a:ext cx="7581960" cy="2175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444600" y="1163520"/>
            <a:ext cx="8308800" cy="8272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2894040" y="4232160"/>
            <a:ext cx="32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ldy Lax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3"/>
          <a:stretch/>
        </p:blipFill>
        <p:spPr>
          <a:xfrm>
            <a:off x="193680" y="4911840"/>
            <a:ext cx="8734320" cy="9936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636F-F81A-4D3D-8AFE-47F13DBFF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oldy-Lax Signal Model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438000" y="300024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atrix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1"/>
          <a:stretch/>
        </p:blipFill>
        <p:spPr>
          <a:xfrm>
            <a:off x="174600" y="3411360"/>
            <a:ext cx="8524800" cy="1749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2"/>
          <a:stretch/>
        </p:blipFill>
        <p:spPr>
          <a:xfrm>
            <a:off x="552600" y="1185840"/>
            <a:ext cx="8305560" cy="16876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236" name="Text Box 11"/>
          <p:cNvSpPr/>
          <p:nvPr/>
        </p:nvSpPr>
        <p:spPr>
          <a:xfrm>
            <a:off x="255240" y="5286240"/>
            <a:ext cx="8389080" cy="875880"/>
          </a:xfrm>
          <a:prstGeom prst="rect">
            <a:avLst/>
          </a:prstGeom>
          <a:solidFill>
            <a:srgbClr val="ccffff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or known x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m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hese form a coupled set that can be sol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teratively for the scattering strengths and total Gree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E270-56A8-4601-B77F-41C23A1DA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Iterative Solution 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57040" y="2960640"/>
            <a:ext cx="8886960" cy="106524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339840" y="1125360"/>
            <a:ext cx="8524800" cy="1749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"/>
          <p:cNvPicPr/>
          <p:nvPr/>
        </p:nvPicPr>
        <p:blipFill>
          <a:blip r:embed="rId3"/>
          <a:stretch/>
        </p:blipFill>
        <p:spPr>
          <a:xfrm>
            <a:off x="952560" y="4965840"/>
            <a:ext cx="6656400" cy="62388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244" name="Text Box 8"/>
          <p:cNvSpPr/>
          <p:nvPr/>
        </p:nvSpPr>
        <p:spPr>
          <a:xfrm>
            <a:off x="2536920" y="4206960"/>
            <a:ext cx="38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orted Wave Bor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BF95-22EF-44CD-8F57-FAF2CA821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Detection Algorithm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327960" y="251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685800" y="27399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19"/>
          <p:cNvGrpSpPr/>
          <p:nvPr/>
        </p:nvGrpSpPr>
        <p:grpSpPr>
          <a:xfrm>
            <a:off x="1000440" y="2511360"/>
            <a:ext cx="354600" cy="459720"/>
            <a:chOff x="1000440" y="2511360"/>
            <a:chExt cx="354600" cy="459720"/>
          </a:xfrm>
        </p:grpSpPr>
        <p:sp>
          <p:nvSpPr>
            <p:cNvPr id="252" name="Oval 8"/>
            <p:cNvSpPr/>
            <p:nvPr/>
          </p:nvSpPr>
          <p:spPr>
            <a:xfrm>
              <a:off x="1028880" y="2609640"/>
              <a:ext cx="279360" cy="27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9"/>
            <p:cNvSpPr/>
            <p:nvPr/>
          </p:nvSpPr>
          <p:spPr>
            <a:xfrm>
              <a:off x="1000440" y="251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Line 10"/>
          <p:cNvSpPr/>
          <p:nvPr/>
        </p:nvSpPr>
        <p:spPr>
          <a:xfrm flipV="1">
            <a:off x="1168560" y="290808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951120" y="322884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=AW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1397160" y="273996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1808640" y="2511360"/>
            <a:ext cx="1694160" cy="45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6"/>
          <p:cNvSpPr/>
          <p:nvPr/>
        </p:nvSpPr>
        <p:spPr>
          <a:xfrm>
            <a:off x="3505320" y="273996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3603600" y="2206800"/>
            <a:ext cx="47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4122000" y="2451240"/>
            <a:ext cx="2084040" cy="5814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rget 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21" descr=""/>
          <p:cNvPicPr/>
          <p:nvPr/>
        </p:nvPicPr>
        <p:blipFill>
          <a:blip r:embed="rId1"/>
          <a:stretch/>
        </p:blipFill>
        <p:spPr>
          <a:xfrm>
            <a:off x="1238400" y="1096920"/>
            <a:ext cx="5968800" cy="1192320"/>
          </a:xfrm>
          <a:prstGeom prst="rect">
            <a:avLst/>
          </a:prstGeom>
          <a:ln w="0">
            <a:noFill/>
          </a:ln>
        </p:spPr>
      </p:pic>
      <p:sp>
        <p:nvSpPr>
          <p:cNvPr id="262" name="Line 25"/>
          <p:cNvSpPr/>
          <p:nvPr/>
        </p:nvSpPr>
        <p:spPr>
          <a:xfrm>
            <a:off x="6235560" y="27432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6871320" y="2451240"/>
            <a:ext cx="1312920" cy="5814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8"/>
          <p:cNvSpPr/>
          <p:nvPr/>
        </p:nvSpPr>
        <p:spPr>
          <a:xfrm>
            <a:off x="196560" y="3811680"/>
            <a:ext cx="8458920" cy="673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Location estimation more tolerant to noise than target amplitude est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TR MUSIC locates target clutter locations but does not differentiate between the t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1"/>
          <p:cNvSpPr/>
          <p:nvPr/>
        </p:nvSpPr>
        <p:spPr>
          <a:xfrm>
            <a:off x="6308640" y="2263680"/>
            <a:ext cx="43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2"/>
          <p:cNvSpPr/>
          <p:nvPr/>
        </p:nvSpPr>
        <p:spPr>
          <a:xfrm>
            <a:off x="3003480" y="4675320"/>
            <a:ext cx="24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ection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3"/>
          <p:cNvSpPr/>
          <p:nvPr/>
        </p:nvSpPr>
        <p:spPr>
          <a:xfrm>
            <a:off x="721800" y="5248440"/>
            <a:ext cx="200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[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3227760" y="5286240"/>
            <a:ext cx="184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Min{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Group 42"/>
          <p:cNvGrpSpPr/>
          <p:nvPr/>
        </p:nvGrpSpPr>
        <p:grpSpPr>
          <a:xfrm>
            <a:off x="5306400" y="5095800"/>
            <a:ext cx="2825640" cy="904320"/>
            <a:chOff x="5306400" y="5095800"/>
            <a:chExt cx="2825640" cy="904320"/>
          </a:xfrm>
        </p:grpSpPr>
        <p:sp>
          <p:nvSpPr>
            <p:cNvPr id="270" name="Text Box 35"/>
            <p:cNvSpPr/>
            <p:nvPr/>
          </p:nvSpPr>
          <p:spPr>
            <a:xfrm>
              <a:off x="5306400" y="5095800"/>
              <a:ext cx="6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37"/>
            <p:cNvSpPr/>
            <p:nvPr/>
          </p:nvSpPr>
          <p:spPr>
            <a:xfrm>
              <a:off x="5930640" y="534672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38"/>
            <p:cNvSpPr/>
            <p:nvPr/>
          </p:nvSpPr>
          <p:spPr>
            <a:xfrm>
              <a:off x="6232320" y="513072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rget pres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39"/>
            <p:cNvSpPr/>
            <p:nvPr/>
          </p:nvSpPr>
          <p:spPr>
            <a:xfrm>
              <a:off x="5357160" y="5540400"/>
              <a:ext cx="6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40"/>
            <p:cNvSpPr/>
            <p:nvPr/>
          </p:nvSpPr>
          <p:spPr>
            <a:xfrm>
              <a:off x="5930640" y="5753160"/>
              <a:ext cx="33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41"/>
            <p:cNvSpPr/>
            <p:nvPr/>
          </p:nvSpPr>
          <p:spPr>
            <a:xfrm>
              <a:off x="6282360" y="5562360"/>
              <a:ext cx="18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rget not pres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Text Box 43"/>
          <p:cNvSpPr/>
          <p:nvPr/>
        </p:nvSpPr>
        <p:spPr>
          <a:xfrm>
            <a:off x="2902680" y="321300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ic time reversal im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4"/>
          <p:cNvSpPr/>
          <p:nvPr/>
        </p:nvSpPr>
        <p:spPr>
          <a:xfrm flipH="1" flipV="1">
            <a:off x="2653920" y="3009600"/>
            <a:ext cx="33012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2C6B-BDC1-41F8-AD98-90FC3021C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SVD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82" name="Picture 30" descr=""/>
          <p:cNvPicPr/>
          <p:nvPr/>
        </p:nvPicPr>
        <p:blipFill>
          <a:blip r:embed="rId1"/>
          <a:stretch/>
        </p:blipFill>
        <p:spPr>
          <a:xfrm>
            <a:off x="1562040" y="2387520"/>
            <a:ext cx="5932440" cy="1001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1" descr=""/>
          <p:cNvPicPr/>
          <p:nvPr/>
        </p:nvPicPr>
        <p:blipFill>
          <a:blip r:embed="rId2"/>
          <a:stretch/>
        </p:blipFill>
        <p:spPr>
          <a:xfrm>
            <a:off x="2070000" y="4878360"/>
            <a:ext cx="4803840" cy="69372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pic>
        <p:nvPicPr>
          <p:cNvPr id="284" name="Picture 37" descr=""/>
          <p:cNvPicPr/>
          <p:nvPr/>
        </p:nvPicPr>
        <p:blipFill>
          <a:blip r:embed="rId3"/>
          <a:stretch/>
        </p:blipFill>
        <p:spPr>
          <a:xfrm>
            <a:off x="1467000" y="995400"/>
            <a:ext cx="5968800" cy="11923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8" descr=""/>
          <p:cNvPicPr/>
          <p:nvPr/>
        </p:nvPicPr>
        <p:blipFill>
          <a:blip r:embed="rId4"/>
          <a:stretch/>
        </p:blipFill>
        <p:spPr>
          <a:xfrm>
            <a:off x="2085840" y="3562200"/>
            <a:ext cx="486576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D88D-9D66-4FE5-89A3-F5963B9F2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Subspace Processing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90" name="Picture 25" descr=""/>
          <p:cNvPicPr/>
          <p:nvPr/>
        </p:nvPicPr>
        <p:blipFill>
          <a:blip r:embed="rId1"/>
          <a:stretch/>
        </p:blipFill>
        <p:spPr>
          <a:xfrm>
            <a:off x="4780080" y="1284120"/>
            <a:ext cx="4363920" cy="630360"/>
          </a:xfrm>
          <a:prstGeom prst="rect">
            <a:avLst/>
          </a:prstGeom>
          <a:ln w="0">
            <a:noFill/>
          </a:ln>
        </p:spPr>
      </p:pic>
      <p:sp>
        <p:nvSpPr>
          <p:cNvPr id="291" name="Oval 6"/>
          <p:cNvSpPr/>
          <p:nvPr/>
        </p:nvSpPr>
        <p:spPr>
          <a:xfrm>
            <a:off x="419040" y="2239920"/>
            <a:ext cx="3938760" cy="23558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"/>
          <p:cNvSpPr/>
          <p:nvPr/>
        </p:nvSpPr>
        <p:spPr>
          <a:xfrm>
            <a:off x="4548240" y="2371680"/>
            <a:ext cx="3960720" cy="2124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8"/>
          <p:cNvSpPr/>
          <p:nvPr/>
        </p:nvSpPr>
        <p:spPr>
          <a:xfrm>
            <a:off x="663480" y="2556000"/>
            <a:ext cx="3481560" cy="99216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9"/>
          <p:cNvSpPr/>
          <p:nvPr/>
        </p:nvSpPr>
        <p:spPr>
          <a:xfrm>
            <a:off x="4917960" y="2682720"/>
            <a:ext cx="3440160" cy="8398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422640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4229640" y="40356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697320" y="2860560"/>
            <a:ext cx="3291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an{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gt;0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an{g*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5924520" y="3781440"/>
            <a:ext cx="178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an{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5040720" y="2927520"/>
            <a:ext cx="325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an{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gt;0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an{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rc 27"/>
          <p:cNvSpPr/>
          <p:nvPr/>
        </p:nvSpPr>
        <p:spPr>
          <a:xfrm rot="19816200">
            <a:off x="3538440" y="1752480"/>
            <a:ext cx="2440080" cy="2370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rc 28"/>
          <p:cNvSpPr/>
          <p:nvPr/>
        </p:nvSpPr>
        <p:spPr>
          <a:xfrm flipV="1" rot="1783800">
            <a:off x="3514680" y="2518560"/>
            <a:ext cx="2441520" cy="2370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1355400" y="3781440"/>
            <a:ext cx="176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an{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29" descr=""/>
          <p:cNvPicPr/>
          <p:nvPr/>
        </p:nvPicPr>
        <p:blipFill>
          <a:blip r:embed="rId2"/>
          <a:stretch/>
        </p:blipFill>
        <p:spPr>
          <a:xfrm>
            <a:off x="398520" y="1111320"/>
            <a:ext cx="4216320" cy="988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0"/>
          <p:cNvSpPr/>
          <p:nvPr/>
        </p:nvSpPr>
        <p:spPr>
          <a:xfrm>
            <a:off x="241920" y="5764320"/>
            <a:ext cx="8693640" cy="386280"/>
          </a:xfrm>
          <a:prstGeom prst="rect">
            <a:avLst/>
          </a:prstGeom>
          <a:solidFill>
            <a:srgbClr val="ccffff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an use background Green function as steering vector in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2" descr=""/>
          <p:cNvPicPr/>
          <p:nvPr/>
        </p:nvPicPr>
        <p:blipFill>
          <a:blip r:embed="rId3"/>
          <a:stretch/>
        </p:blipFill>
        <p:spPr>
          <a:xfrm>
            <a:off x="888840" y="4842000"/>
            <a:ext cx="7277400" cy="74124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C9A6-7225-4E83-8EDC-A16E39CE8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164880"/>
            <a:ext cx="802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seudo Spectrum (time reversal MUSIC)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8320" y="3521160"/>
            <a:ext cx="9100440" cy="19213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Compute SVD from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ackgroun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Green function as steering vector in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seudo-spectrum to locate target(s) plus clu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Jointly estimate target and clutter scattering str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and Total Gree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estimated scattering strengths in detec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8" descr=""/>
          <p:cNvPicPr/>
          <p:nvPr/>
        </p:nvPicPr>
        <p:blipFill>
          <a:blip r:embed="rId1"/>
          <a:stretch/>
        </p:blipFill>
        <p:spPr>
          <a:xfrm>
            <a:off x="1762200" y="1405080"/>
            <a:ext cx="5505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A65A-A95D-4300-A29C-C8E85BBAF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Basic Time Reversal Imaging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16" name="Picture 6" descr=""/>
          <p:cNvPicPr/>
          <p:nvPr/>
        </p:nvPicPr>
        <p:blipFill>
          <a:blip r:embed="rId1"/>
          <a:stretch/>
        </p:blipFill>
        <p:spPr>
          <a:xfrm>
            <a:off x="1557360" y="2701800"/>
            <a:ext cx="6181560" cy="2978280"/>
          </a:xfrm>
          <a:prstGeom prst="rect">
            <a:avLst/>
          </a:prstGeom>
          <a:ln w="9360">
            <a:solidFill>
              <a:srgbClr val="ccff66"/>
            </a:solidFill>
            <a:miter/>
          </a:ln>
        </p:spPr>
      </p:pic>
      <p:pic>
        <p:nvPicPr>
          <p:cNvPr id="317" name="Picture 7" descr=""/>
          <p:cNvPicPr/>
          <p:nvPr/>
        </p:nvPicPr>
        <p:blipFill>
          <a:blip r:embed="rId2"/>
          <a:stretch/>
        </p:blipFill>
        <p:spPr>
          <a:xfrm>
            <a:off x="1409760" y="1460520"/>
            <a:ext cx="663552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9E00-E5C0-4323-8478-C240A2053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DARPA Detection Problem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AutoShape 89"/>
          <p:cNvSpPr/>
          <p:nvPr/>
        </p:nvSpPr>
        <p:spPr>
          <a:xfrm>
            <a:off x="3781440" y="1351080"/>
            <a:ext cx="88920" cy="163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90"/>
          <p:cNvSpPr/>
          <p:nvPr/>
        </p:nvSpPr>
        <p:spPr>
          <a:xfrm rot="19440600">
            <a:off x="2687760" y="1884240"/>
            <a:ext cx="88920" cy="163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91"/>
          <p:cNvSpPr/>
          <p:nvPr/>
        </p:nvSpPr>
        <p:spPr>
          <a:xfrm>
            <a:off x="4479840" y="1592280"/>
            <a:ext cx="88920" cy="163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92"/>
          <p:cNvSpPr/>
          <p:nvPr/>
        </p:nvSpPr>
        <p:spPr>
          <a:xfrm rot="630600">
            <a:off x="5595480" y="1211040"/>
            <a:ext cx="88920" cy="163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93"/>
          <p:cNvSpPr/>
          <p:nvPr/>
        </p:nvSpPr>
        <p:spPr>
          <a:xfrm rot="1924200">
            <a:off x="7356240" y="1794960"/>
            <a:ext cx="88920" cy="163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94"/>
          <p:cNvSpPr/>
          <p:nvPr/>
        </p:nvSpPr>
        <p:spPr>
          <a:xfrm rot="795000">
            <a:off x="6565680" y="1592280"/>
            <a:ext cx="88920" cy="163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rc 95"/>
          <p:cNvSpPr/>
          <p:nvPr/>
        </p:nvSpPr>
        <p:spPr>
          <a:xfrm rot="5400000">
            <a:off x="3778200" y="1457280"/>
            <a:ext cx="88920" cy="1778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rc 96"/>
          <p:cNvSpPr/>
          <p:nvPr/>
        </p:nvSpPr>
        <p:spPr>
          <a:xfrm rot="5400000">
            <a:off x="3741840" y="1434240"/>
            <a:ext cx="169920" cy="2984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rc 97"/>
          <p:cNvSpPr/>
          <p:nvPr/>
        </p:nvSpPr>
        <p:spPr>
          <a:xfrm rot="5400000">
            <a:off x="3634920" y="1327320"/>
            <a:ext cx="374760" cy="74916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98"/>
          <p:cNvSpPr/>
          <p:nvPr/>
        </p:nvSpPr>
        <p:spPr>
          <a:xfrm>
            <a:off x="3797280" y="2733840"/>
            <a:ext cx="100080" cy="997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99"/>
          <p:cNvSpPr/>
          <p:nvPr/>
        </p:nvSpPr>
        <p:spPr>
          <a:xfrm>
            <a:off x="3681360" y="2631960"/>
            <a:ext cx="333360" cy="333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00"/>
          <p:cNvSpPr/>
          <p:nvPr/>
        </p:nvSpPr>
        <p:spPr>
          <a:xfrm>
            <a:off x="3533760" y="2489040"/>
            <a:ext cx="628560" cy="6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01"/>
          <p:cNvSpPr/>
          <p:nvPr/>
        </p:nvSpPr>
        <p:spPr>
          <a:xfrm>
            <a:off x="4076640" y="2898720"/>
            <a:ext cx="581040" cy="27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02"/>
          <p:cNvSpPr/>
          <p:nvPr/>
        </p:nvSpPr>
        <p:spPr>
          <a:xfrm>
            <a:off x="4835520" y="3191040"/>
            <a:ext cx="10008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103"/>
          <p:cNvSpPr/>
          <p:nvPr/>
        </p:nvSpPr>
        <p:spPr>
          <a:xfrm>
            <a:off x="4719600" y="3089160"/>
            <a:ext cx="333360" cy="333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04"/>
          <p:cNvSpPr/>
          <p:nvPr/>
        </p:nvSpPr>
        <p:spPr>
          <a:xfrm>
            <a:off x="4572000" y="2946240"/>
            <a:ext cx="628560" cy="6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105"/>
          <p:cNvSpPr/>
          <p:nvPr/>
        </p:nvSpPr>
        <p:spPr>
          <a:xfrm>
            <a:off x="3683160" y="4095720"/>
            <a:ext cx="99720" cy="1000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106"/>
          <p:cNvSpPr/>
          <p:nvPr/>
        </p:nvSpPr>
        <p:spPr>
          <a:xfrm>
            <a:off x="3567240" y="3994200"/>
            <a:ext cx="333360" cy="333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107"/>
          <p:cNvSpPr/>
          <p:nvPr/>
        </p:nvSpPr>
        <p:spPr>
          <a:xfrm>
            <a:off x="3419640" y="3851280"/>
            <a:ext cx="628560" cy="6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108"/>
          <p:cNvSpPr/>
          <p:nvPr/>
        </p:nvSpPr>
        <p:spPr>
          <a:xfrm>
            <a:off x="5654520" y="3562200"/>
            <a:ext cx="100080" cy="1000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109"/>
          <p:cNvSpPr/>
          <p:nvPr/>
        </p:nvSpPr>
        <p:spPr>
          <a:xfrm>
            <a:off x="5538960" y="3460680"/>
            <a:ext cx="333360" cy="333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10"/>
          <p:cNvSpPr/>
          <p:nvPr/>
        </p:nvSpPr>
        <p:spPr>
          <a:xfrm>
            <a:off x="5391000" y="3317760"/>
            <a:ext cx="628920" cy="6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11"/>
          <p:cNvSpPr/>
          <p:nvPr/>
        </p:nvSpPr>
        <p:spPr>
          <a:xfrm>
            <a:off x="6102360" y="2676600"/>
            <a:ext cx="100080" cy="1000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12"/>
          <p:cNvSpPr/>
          <p:nvPr/>
        </p:nvSpPr>
        <p:spPr>
          <a:xfrm>
            <a:off x="5986440" y="2575080"/>
            <a:ext cx="333360" cy="333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13"/>
          <p:cNvSpPr/>
          <p:nvPr/>
        </p:nvSpPr>
        <p:spPr>
          <a:xfrm>
            <a:off x="5838840" y="2432160"/>
            <a:ext cx="628560" cy="637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14"/>
          <p:cNvSpPr/>
          <p:nvPr/>
        </p:nvSpPr>
        <p:spPr>
          <a:xfrm flipH="1">
            <a:off x="3752640" y="3041640"/>
            <a:ext cx="75960" cy="90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15"/>
          <p:cNvSpPr/>
          <p:nvPr/>
        </p:nvSpPr>
        <p:spPr>
          <a:xfrm flipH="1">
            <a:off x="3895560" y="3432240"/>
            <a:ext cx="819360" cy="628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116"/>
          <p:cNvSpPr/>
          <p:nvPr/>
        </p:nvSpPr>
        <p:spPr>
          <a:xfrm>
            <a:off x="3324240" y="1974960"/>
            <a:ext cx="3724200" cy="495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17"/>
          <p:cNvSpPr/>
          <p:nvPr/>
        </p:nvSpPr>
        <p:spPr>
          <a:xfrm flipH="1" flipV="1">
            <a:off x="4095360" y="1955520"/>
            <a:ext cx="95400" cy="40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18"/>
          <p:cNvSpPr/>
          <p:nvPr/>
        </p:nvSpPr>
        <p:spPr>
          <a:xfrm flipH="1" flipV="1">
            <a:off x="5991120" y="1869840"/>
            <a:ext cx="85680" cy="399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9"/>
          <p:cNvSpPr/>
          <p:nvPr/>
        </p:nvSpPr>
        <p:spPr>
          <a:xfrm>
            <a:off x="304920" y="132084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 element antenna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0"/>
          <p:cNvSpPr/>
          <p:nvPr/>
        </p:nvSpPr>
        <p:spPr>
          <a:xfrm>
            <a:off x="299160" y="26542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 interacting point scatter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21"/>
          <p:cNvSpPr/>
          <p:nvPr/>
        </p:nvSpPr>
        <p:spPr>
          <a:xfrm>
            <a:off x="387720" y="295920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cattering (multipa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22"/>
          <p:cNvSpPr/>
          <p:nvPr/>
        </p:nvSpPr>
        <p:spPr>
          <a:xfrm>
            <a:off x="2031840" y="3352680"/>
            <a:ext cx="16383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23"/>
          <p:cNvSpPr/>
          <p:nvPr/>
        </p:nvSpPr>
        <p:spPr>
          <a:xfrm flipH="1">
            <a:off x="5816160" y="3378240"/>
            <a:ext cx="406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24"/>
          <p:cNvSpPr/>
          <p:nvPr/>
        </p:nvSpPr>
        <p:spPr>
          <a:xfrm flipH="1" flipV="1">
            <a:off x="6184800" y="2831760"/>
            <a:ext cx="1396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25"/>
          <p:cNvSpPr/>
          <p:nvPr/>
        </p:nvSpPr>
        <p:spPr>
          <a:xfrm flipH="1" flipV="1">
            <a:off x="5028840" y="3238560"/>
            <a:ext cx="12063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6"/>
          <p:cNvSpPr/>
          <p:nvPr/>
        </p:nvSpPr>
        <p:spPr>
          <a:xfrm>
            <a:off x="4677480" y="2463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27"/>
          <p:cNvSpPr/>
          <p:nvPr/>
        </p:nvSpPr>
        <p:spPr>
          <a:xfrm flipH="1">
            <a:off x="4915080" y="2793960"/>
            <a:ext cx="8856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28"/>
          <p:cNvSpPr/>
          <p:nvPr/>
        </p:nvSpPr>
        <p:spPr>
          <a:xfrm>
            <a:off x="6918840" y="259092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u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29"/>
          <p:cNvSpPr/>
          <p:nvPr/>
        </p:nvSpPr>
        <p:spPr>
          <a:xfrm flipH="1" flipV="1">
            <a:off x="6248520" y="2730600"/>
            <a:ext cx="59688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0"/>
          <p:cNvSpPr/>
          <p:nvPr/>
        </p:nvSpPr>
        <p:spPr>
          <a:xfrm>
            <a:off x="804600" y="4611600"/>
            <a:ext cx="765756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ake decision of whether or not target is present from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of the multistatic data matrix at one or more frequ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2"/>
          <p:cNvSpPr/>
          <p:nvPr/>
        </p:nvSpPr>
        <p:spPr>
          <a:xfrm>
            <a:off x="2195640" y="5448240"/>
            <a:ext cx="50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arget/clutter scattering strength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 classical detection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3"/>
          <p:cNvSpPr/>
          <p:nvPr/>
        </p:nvSpPr>
        <p:spPr>
          <a:xfrm>
            <a:off x="4683960" y="4114800"/>
            <a:ext cx="177012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Clutter can he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8C27-B0D5-4959-BB67-0A605D8A3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R Music and BTRI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208080" y="1909800"/>
            <a:ext cx="8935920" cy="17892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6"/>
          <p:cNvSpPr/>
          <p:nvPr/>
        </p:nvSpPr>
        <p:spPr>
          <a:xfrm>
            <a:off x="295560" y="4317840"/>
            <a:ext cx="85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Time reversal MUSIC = non-linear point transform of Basic time reversal image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A819-245F-4F1F-A636-AB912E7C2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Example I- location estimation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28" name="Picture 6" descr="coef_error3_fig1"/>
          <p:cNvPicPr/>
          <p:nvPr/>
        </p:nvPicPr>
        <p:blipFill>
          <a:blip r:embed="rId1"/>
          <a:stretch/>
        </p:blipFill>
        <p:spPr>
          <a:xfrm>
            <a:off x="833400" y="1228680"/>
            <a:ext cx="681192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6F4E-FDF7-4678-A71C-F721D890A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Example I- amplitude estimation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33" name="Picture 6" descr="coef_error3_fig2"/>
          <p:cNvPicPr/>
          <p:nvPr/>
        </p:nvPicPr>
        <p:blipFill>
          <a:blip r:embed="rId1"/>
          <a:stretch/>
        </p:blipFill>
        <p:spPr>
          <a:xfrm>
            <a:off x="888840" y="1041480"/>
            <a:ext cx="69598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90AA-FB94-41A3-83D5-0D65F71F0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Example II- location estimation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38" name="Picture 6" descr="coef_error3_fig3"/>
          <p:cNvPicPr/>
          <p:nvPr/>
        </p:nvPicPr>
        <p:blipFill>
          <a:blip r:embed="rId1"/>
          <a:stretch/>
        </p:blipFill>
        <p:spPr>
          <a:xfrm>
            <a:off x="1062000" y="1006560"/>
            <a:ext cx="69566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CDA9-F533-4E7D-888D-FB42EEF8B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Example II- amplitude estimation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43" name="Picture 5" descr="coef_error3_fig4"/>
          <p:cNvPicPr/>
          <p:nvPr/>
        </p:nvPicPr>
        <p:blipFill>
          <a:blip r:embed="rId1"/>
          <a:stretch/>
        </p:blipFill>
        <p:spPr>
          <a:xfrm>
            <a:off x="1092240" y="946080"/>
            <a:ext cx="702324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F15A-9433-42FC-AFDA-93FDE81B4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Example III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48" name="Picture 5" descr="coef_error1_fig1"/>
          <p:cNvPicPr/>
          <p:nvPr/>
        </p:nvPicPr>
        <p:blipFill>
          <a:blip r:embed="rId1"/>
          <a:stretch/>
        </p:blipFill>
        <p:spPr>
          <a:xfrm>
            <a:off x="876240" y="923760"/>
            <a:ext cx="717084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F2E5-C1C7-4BF8-B6D3-560F5A173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Example IV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53" name="Picture 5" descr="coef_error2_fig1"/>
          <p:cNvPicPr/>
          <p:nvPr/>
        </p:nvPicPr>
        <p:blipFill>
          <a:blip r:embed="rId1"/>
          <a:stretch/>
        </p:blipFill>
        <p:spPr>
          <a:xfrm>
            <a:off x="965160" y="879480"/>
            <a:ext cx="70614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C5EC-E636-457D-A501-8BD5D31A6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Example V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58" name="Picture 6" descr="coef_error2_fig2"/>
          <p:cNvPicPr/>
          <p:nvPr/>
        </p:nvPicPr>
        <p:blipFill>
          <a:blip r:embed="rId1"/>
          <a:stretch/>
        </p:blipFill>
        <p:spPr>
          <a:xfrm>
            <a:off x="1155600" y="1203480"/>
            <a:ext cx="65660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A4BE-4FB7-4893-B10F-1453ED4E1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uture Plans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1254240" y="1793880"/>
            <a:ext cx="6534360" cy="2837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al (non-point) anten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ultiple scattering and extended 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unt for multiple scattering between point tar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lectromagnetic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unt for exact single target scattering mo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unt for b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tch model to planned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istical for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B961-987B-4766-A673-0871C2BD1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57720" y="1463760"/>
            <a:ext cx="72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ging and MGTI using distributed antenna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192760" y="3429000"/>
            <a:ext cx="47710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Backscatter: Broadband, frequency d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Forward scatter: Narrow band, space d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810160" y="4446720"/>
            <a:ext cx="356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Systems of UAVs using nar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band over foli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668760" y="24289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 Sat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B7D5-CA72-4C2A-8F2F-7264505FA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Overview of Talk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216080" y="1108080"/>
            <a:ext cx="6340320" cy="2594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eneral Assumptions of Current For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napshot data”:  acquired data=single re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imple additive noise (AW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oint target with known scattering co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oint clutter targets with Gaussian amplit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calar wave case with point anten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Known background Gree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requency domain for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033720" y="38638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jor New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41560" y="4444920"/>
            <a:ext cx="841896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Extension of MUSIC to incorporate multiple scattering between targets and clu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Estimation of scattering coefficients as well as locations for pt target MS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omputation of ROC for single pt target in multiple pt clu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17880" y="5560920"/>
            <a:ext cx="636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.J. Devaney, E. Marengo and F. Gruber “Time Reversal Based Imag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Inverse Scattering of Multiply Scattering Point Targets”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AS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app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CB9D-29E5-42B3-86CE-6CC420C7B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Scattering Theory Formulation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5" name="Picture 57" descr=""/>
          <p:cNvPicPr/>
          <p:nvPr/>
        </p:nvPicPr>
        <p:blipFill>
          <a:blip r:embed="rId1"/>
          <a:stretch/>
        </p:blipFill>
        <p:spPr>
          <a:xfrm>
            <a:off x="419040" y="1100160"/>
            <a:ext cx="8309160" cy="82692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86"/>
          <p:cNvGrpSpPr/>
          <p:nvPr/>
        </p:nvGrpSpPr>
        <p:grpSpPr>
          <a:xfrm>
            <a:off x="1052640" y="1994040"/>
            <a:ext cx="6905520" cy="1600200"/>
            <a:chOff x="1052640" y="1994040"/>
            <a:chExt cx="6905520" cy="1600200"/>
          </a:xfrm>
        </p:grpSpPr>
        <p:sp>
          <p:nvSpPr>
            <p:cNvPr id="127" name="Oval 5"/>
            <p:cNvSpPr/>
            <p:nvPr/>
          </p:nvSpPr>
          <p:spPr>
            <a:xfrm>
              <a:off x="1052640" y="1994040"/>
              <a:ext cx="6905520" cy="160020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Group 73"/>
            <p:cNvGrpSpPr/>
            <p:nvPr/>
          </p:nvGrpSpPr>
          <p:grpSpPr>
            <a:xfrm>
              <a:off x="2300760" y="2308320"/>
              <a:ext cx="1136520" cy="981720"/>
              <a:chOff x="2300760" y="2308320"/>
              <a:chExt cx="1136520" cy="981720"/>
            </a:xfrm>
          </p:grpSpPr>
          <p:sp>
            <p:nvSpPr>
              <p:cNvPr id="129" name="Line 16"/>
              <p:cNvSpPr/>
              <p:nvPr/>
            </p:nvSpPr>
            <p:spPr>
              <a:xfrm>
                <a:off x="2345400" y="2431440"/>
                <a:ext cx="571680" cy="85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17"/>
              <p:cNvSpPr/>
              <p:nvPr/>
            </p:nvSpPr>
            <p:spPr>
              <a:xfrm>
                <a:off x="2406960" y="2415600"/>
                <a:ext cx="1030320" cy="8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18"/>
              <p:cNvSpPr/>
              <p:nvPr/>
            </p:nvSpPr>
            <p:spPr>
              <a:xfrm>
                <a:off x="2369880" y="2425320"/>
                <a:ext cx="60552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19"/>
              <p:cNvSpPr/>
              <p:nvPr/>
            </p:nvSpPr>
            <p:spPr>
              <a:xfrm rot="20743800">
                <a:off x="2321640" y="2354760"/>
                <a:ext cx="406080" cy="222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Line 40"/>
            <p:cNvSpPr/>
            <p:nvPr/>
          </p:nvSpPr>
          <p:spPr>
            <a:xfrm flipV="1">
              <a:off x="5200560" y="2530440"/>
              <a:ext cx="106956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41"/>
            <p:cNvSpPr/>
            <p:nvPr/>
          </p:nvSpPr>
          <p:spPr>
            <a:xfrm flipV="1">
              <a:off x="5592600" y="2591280"/>
              <a:ext cx="661680" cy="3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62"/>
            <p:cNvSpPr/>
            <p:nvPr/>
          </p:nvSpPr>
          <p:spPr>
            <a:xfrm>
              <a:off x="3109680" y="2501640"/>
              <a:ext cx="1461960" cy="91584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71"/>
            <p:cNvSpPr/>
            <p:nvPr/>
          </p:nvSpPr>
          <p:spPr>
            <a:xfrm>
              <a:off x="4278240" y="2143440"/>
              <a:ext cx="598320" cy="5688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72"/>
            <p:cNvSpPr/>
            <p:nvPr/>
          </p:nvSpPr>
          <p:spPr>
            <a:xfrm>
              <a:off x="4748040" y="3061080"/>
              <a:ext cx="598320" cy="367560"/>
            </a:xfrm>
            <a:prstGeom prst="pi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74"/>
            <p:cNvSpPr/>
            <p:nvPr/>
          </p:nvSpPr>
          <p:spPr>
            <a:xfrm>
              <a:off x="1909440" y="21628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75"/>
            <p:cNvSpPr/>
            <p:nvPr/>
          </p:nvSpPr>
          <p:spPr>
            <a:xfrm>
              <a:off x="6354360" y="22539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77"/>
            <p:cNvSpPr/>
            <p:nvPr/>
          </p:nvSpPr>
          <p:spPr>
            <a:xfrm>
              <a:off x="5270400" y="2329560"/>
              <a:ext cx="552240" cy="85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82"/>
            <p:cNvGrpSpPr/>
            <p:nvPr/>
          </p:nvGrpSpPr>
          <p:grpSpPr>
            <a:xfrm>
              <a:off x="3263760" y="2508840"/>
              <a:ext cx="952200" cy="839160"/>
              <a:chOff x="3263760" y="2508840"/>
              <a:chExt cx="952200" cy="839160"/>
            </a:xfrm>
          </p:grpSpPr>
          <p:sp>
            <p:nvSpPr>
              <p:cNvPr id="142" name="Text Box 76"/>
              <p:cNvSpPr/>
              <p:nvPr/>
            </p:nvSpPr>
            <p:spPr>
              <a:xfrm>
                <a:off x="3553200" y="2690280"/>
                <a:ext cx="41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Oval 78"/>
              <p:cNvSpPr/>
              <p:nvPr/>
            </p:nvSpPr>
            <p:spPr>
              <a:xfrm>
                <a:off x="3263760" y="2508840"/>
                <a:ext cx="952200" cy="839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Oval 79"/>
              <p:cNvSpPr/>
              <p:nvPr/>
            </p:nvSpPr>
            <p:spPr>
              <a:xfrm>
                <a:off x="3523680" y="2732400"/>
                <a:ext cx="431640" cy="380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Oval 80"/>
              <p:cNvSpPr/>
              <p:nvPr/>
            </p:nvSpPr>
            <p:spPr>
              <a:xfrm>
                <a:off x="3422160" y="2642760"/>
                <a:ext cx="634680" cy="559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Text Box 93"/>
          <p:cNvSpPr/>
          <p:nvPr/>
        </p:nvSpPr>
        <p:spPr>
          <a:xfrm>
            <a:off x="436680" y="3868560"/>
            <a:ext cx="84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ulti-static Data Matri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=“Generalized Scattering Amplitud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5"/>
          <p:cNvSpPr/>
          <p:nvPr/>
        </p:nvSpPr>
        <p:spPr>
          <a:xfrm>
            <a:off x="831960" y="5665680"/>
            <a:ext cx="73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Accounts for all multiple scattering and does not assume recipr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96" descr=""/>
          <p:cNvPicPr/>
          <p:nvPr/>
        </p:nvPicPr>
        <p:blipFill>
          <a:blip r:embed="rId2"/>
          <a:stretch/>
        </p:blipFill>
        <p:spPr>
          <a:xfrm>
            <a:off x="939960" y="4538520"/>
            <a:ext cx="744192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AB3B-9F86-42BC-8815-1D35894DF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ultiple Scattering Model for Point Target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660240" y="1992240"/>
            <a:ext cx="7581960" cy="2175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"/>
          <p:cNvPicPr/>
          <p:nvPr/>
        </p:nvPicPr>
        <p:blipFill>
          <a:blip r:embed="rId2"/>
          <a:stretch/>
        </p:blipFill>
        <p:spPr>
          <a:xfrm>
            <a:off x="444600" y="1239840"/>
            <a:ext cx="8308800" cy="82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"/>
          <p:cNvPicPr/>
          <p:nvPr/>
        </p:nvPicPr>
        <p:blipFill>
          <a:blip r:embed="rId3"/>
          <a:stretch/>
        </p:blipFill>
        <p:spPr>
          <a:xfrm>
            <a:off x="1155600" y="4754520"/>
            <a:ext cx="6731280" cy="130968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156" name="Text Box 17"/>
          <p:cNvSpPr/>
          <p:nvPr/>
        </p:nvSpPr>
        <p:spPr>
          <a:xfrm>
            <a:off x="3476520" y="440676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kgnd Green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8"/>
          <p:cNvSpPr/>
          <p:nvPr/>
        </p:nvSpPr>
        <p:spPr>
          <a:xfrm>
            <a:off x="3886200" y="4762440"/>
            <a:ext cx="22860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952600" y="44323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Green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0"/>
          <p:cNvSpPr/>
          <p:nvPr/>
        </p:nvSpPr>
        <p:spPr>
          <a:xfrm flipH="1">
            <a:off x="6171840" y="4737240"/>
            <a:ext cx="46980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713520" y="414180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lti-static data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C830-9C60-43B3-B037-C7137B71D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Basic Time Reversal Imaging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1"/>
          <a:stretch/>
        </p:blipFill>
        <p:spPr>
          <a:xfrm>
            <a:off x="1104840" y="1198440"/>
            <a:ext cx="6730920" cy="1309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2"/>
          <a:stretch/>
        </p:blipFill>
        <p:spPr>
          <a:xfrm>
            <a:off x="289080" y="2370240"/>
            <a:ext cx="8157960" cy="2638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"/>
          <p:cNvPicPr/>
          <p:nvPr/>
        </p:nvPicPr>
        <p:blipFill>
          <a:blip r:embed="rId3"/>
          <a:stretch/>
        </p:blipFill>
        <p:spPr>
          <a:xfrm>
            <a:off x="403200" y="5183280"/>
            <a:ext cx="8258040" cy="87768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168" name="Text Box 14"/>
          <p:cNvSpPr/>
          <p:nvPr/>
        </p:nvSpPr>
        <p:spPr>
          <a:xfrm>
            <a:off x="3438360" y="111744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kgnd Green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5"/>
          <p:cNvSpPr/>
          <p:nvPr/>
        </p:nvSpPr>
        <p:spPr>
          <a:xfrm>
            <a:off x="3848040" y="1473120"/>
            <a:ext cx="22860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6028920" y="111744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Green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7"/>
          <p:cNvSpPr/>
          <p:nvPr/>
        </p:nvSpPr>
        <p:spPr>
          <a:xfrm flipH="1">
            <a:off x="6133680" y="1447920"/>
            <a:ext cx="46980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4759560" y="22096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kgnd Green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66EF-9C47-43E0-9AF5-C3EA0AA53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721800" y="355932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MU Data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219320" y="1790640"/>
            <a:ext cx="88920" cy="1549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219320" y="4051440"/>
            <a:ext cx="88920" cy="1549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7"/>
          <p:cNvSpPr/>
          <p:nvPr/>
        </p:nvSpPr>
        <p:spPr>
          <a:xfrm rot="17367000">
            <a:off x="1104840" y="1854000"/>
            <a:ext cx="241200" cy="291960"/>
          </a:xfrm>
          <a:prstGeom prst="triangle">
            <a:avLst>
              <a:gd name="adj" fmla="val 50000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9"/>
          <p:cNvSpPr/>
          <p:nvPr/>
        </p:nvSpPr>
        <p:spPr>
          <a:xfrm rot="15310800">
            <a:off x="1104840" y="4901760"/>
            <a:ext cx="241200" cy="29196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47720" y="124776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1397160" y="2044800"/>
            <a:ext cx="3593880" cy="1498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4"/>
          <p:cNvSpPr/>
          <p:nvPr/>
        </p:nvSpPr>
        <p:spPr>
          <a:xfrm>
            <a:off x="4991040" y="3467160"/>
            <a:ext cx="241200" cy="241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5"/>
          <p:cNvSpPr/>
          <p:nvPr/>
        </p:nvSpPr>
        <p:spPr>
          <a:xfrm>
            <a:off x="4660920" y="3098880"/>
            <a:ext cx="241200" cy="241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16"/>
          <p:cNvSpPr/>
          <p:nvPr/>
        </p:nvSpPr>
        <p:spPr>
          <a:xfrm>
            <a:off x="4762440" y="3975120"/>
            <a:ext cx="241200" cy="241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2887200" y="14241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 frequencies: 4-6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2133720" y="1805040"/>
            <a:ext cx="50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ying number of copper pipes 1.27 cm 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1486080" y="575316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2906280" y="528624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1"/>
          <p:cNvSpPr/>
          <p:nvPr/>
        </p:nvSpPr>
        <p:spPr>
          <a:xfrm>
            <a:off x="6235560" y="2324160"/>
            <a:ext cx="317520" cy="3467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1486080" y="5905440"/>
            <a:ext cx="4698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3325320" y="5794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6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24"/>
          <p:cNvSpPr/>
          <p:nvPr/>
        </p:nvSpPr>
        <p:spPr>
          <a:xfrm rot="17367000">
            <a:off x="1117440" y="2222280"/>
            <a:ext cx="241200" cy="291960"/>
          </a:xfrm>
          <a:prstGeom prst="triangle">
            <a:avLst>
              <a:gd name="adj" fmla="val 50000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876240" y="19940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149040" y="190656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7"/>
          <p:cNvSpPr/>
          <p:nvPr/>
        </p:nvSpPr>
        <p:spPr>
          <a:xfrm>
            <a:off x="1257480" y="3594240"/>
            <a:ext cx="581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493560" y="336564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9"/>
          <p:cNvSpPr/>
          <p:nvPr/>
        </p:nvSpPr>
        <p:spPr>
          <a:xfrm flipV="1">
            <a:off x="1384200" y="3619440"/>
            <a:ext cx="365760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1445040" y="267984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trans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1482840" y="40006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3"/>
          <p:cNvSpPr/>
          <p:nvPr/>
        </p:nvSpPr>
        <p:spPr>
          <a:xfrm>
            <a:off x="4035960" y="24382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-14 tar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4"/>
          <p:cNvSpPr/>
          <p:nvPr/>
        </p:nvSpPr>
        <p:spPr>
          <a:xfrm>
            <a:off x="6805080" y="424188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rber w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5"/>
          <p:cNvSpPr/>
          <p:nvPr/>
        </p:nvSpPr>
        <p:spPr>
          <a:xfrm>
            <a:off x="3481200" y="4610160"/>
            <a:ext cx="1236960" cy="36828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-7.5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6"/>
          <p:cNvSpPr/>
          <p:nvPr/>
        </p:nvSpPr>
        <p:spPr>
          <a:xfrm>
            <a:off x="6907320" y="5270400"/>
            <a:ext cx="155232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N’T USE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Jan 05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FOSR San Antonio annu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E7D7-2B44-4A14-823A-04AD33F14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814320" y="0"/>
            <a:ext cx="7674120" cy="61117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7"/>
          <p:cNvSpPr/>
          <p:nvPr/>
        </p:nvSpPr>
        <p:spPr>
          <a:xfrm>
            <a:off x="351720" y="289548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gle frequency=5 G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14:17:17Z</dcterms:created>
  <dc:creator>anthony devaney</dc:creator>
  <dc:description/>
  <dc:language>en-US</dc:language>
  <cp:lastModifiedBy>tony devaney</cp:lastModifiedBy>
  <dcterms:modified xsi:type="dcterms:W3CDTF">2012-09-24T15:52:51Z</dcterms:modified>
  <cp:revision>126</cp:revision>
  <dc:subject/>
  <dc:title>PowerPoint Presentation</dc:title>
</cp:coreProperties>
</file>