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526-143A-47B0-A003-4DC33CE0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105-A8B9-4514-9C05-4A5557CC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7B9-1ADD-433E-9270-9A168399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784-244F-4C14-88A9-B47A09D8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19E-A3EE-4059-B582-B0468DF8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970-A5EA-4C32-9856-1975840D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C19-02C3-4961-92A0-02A74BEE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6D5-CDE7-4153-A5B6-B600A4B5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8C4-13BF-4B10-9051-013B254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397-E0AD-4257-B6FF-0CBC8D78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5AE-AA4B-447C-8FF9-131AAB89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B8E-4F52-4ABF-825D-64A2AE5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0CA8-0A85-4A12-887D-D23D98292A2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71840" y="2852640"/>
            <a:ext cx="4000320" cy="1152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390760" y="2216160"/>
            <a:ext cx="4362480" cy="2425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622600" y="2933640"/>
            <a:ext cx="389880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728800" y="2533680"/>
            <a:ext cx="3686400" cy="1790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605040" y="3170160"/>
            <a:ext cx="1933920" cy="517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565360" y="3178080"/>
            <a:ext cx="4013280" cy="501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816360" y="3124080"/>
            <a:ext cx="1511280" cy="609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635280" y="3195720"/>
            <a:ext cx="1873440" cy="46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4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121280" y="2684520"/>
            <a:ext cx="901440" cy="1488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816360" y="2681280"/>
            <a:ext cx="1511280" cy="1495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281400" y="2975040"/>
            <a:ext cx="2581200" cy="9079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600360" y="2760840"/>
            <a:ext cx="1943280" cy="13363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451320" y="3054240"/>
            <a:ext cx="2241360" cy="749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298680" y="2606760"/>
            <a:ext cx="2546640" cy="1644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085840" y="3119400"/>
            <a:ext cx="4972320" cy="619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659040" y="2967120"/>
            <a:ext cx="1825920" cy="923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467080" y="3052800"/>
            <a:ext cx="4209840" cy="752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635280" y="3094200"/>
            <a:ext cx="1873440" cy="6696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639960" y="3038400"/>
            <a:ext cx="1864080" cy="7812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816360" y="3092400"/>
            <a:ext cx="1511280" cy="673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222720" y="3254400"/>
            <a:ext cx="2698560" cy="3492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363840" y="3184560"/>
            <a:ext cx="2416320" cy="488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706920" y="2863800"/>
            <a:ext cx="1730160" cy="1130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374920" y="3213000"/>
            <a:ext cx="4394160" cy="432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436920" y="3171960"/>
            <a:ext cx="2270160" cy="5140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3371760" y="2670120"/>
            <a:ext cx="2400480" cy="15177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3532320" y="2765520"/>
            <a:ext cx="2079360" cy="13269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5042160" cy="2016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759120" y="2930400"/>
            <a:ext cx="1625760" cy="9972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3025800" y="2946240"/>
            <a:ext cx="3092400" cy="9655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695680" y="2443320"/>
            <a:ext cx="3752640" cy="19713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519280" y="2262240"/>
            <a:ext cx="4105440" cy="2333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3457440" y="2765520"/>
            <a:ext cx="2229120" cy="13269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52560" y="2670120"/>
            <a:ext cx="3638880" cy="1517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576600" y="3076560"/>
            <a:ext cx="1990800" cy="7048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3614760" y="3076560"/>
            <a:ext cx="1914480" cy="7048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3373560" y="3168720"/>
            <a:ext cx="2396880" cy="5205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3219480" y="3017880"/>
            <a:ext cx="2705040" cy="822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3381480" y="3149640"/>
            <a:ext cx="2381040" cy="5587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p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462040" y="2919240"/>
            <a:ext cx="4219920" cy="1019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81400" y="2867040"/>
            <a:ext cx="4381200" cy="1123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568680" y="2809800"/>
            <a:ext cx="2006640" cy="1238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600360" y="2728800"/>
            <a:ext cx="1943280" cy="1400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7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611520" y="3027240"/>
            <a:ext cx="1920960" cy="803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2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10:08:21Z</dcterms:created>
  <dc:creator>StephenKumar, SampathKumar</dc:creator>
  <dc:description/>
  <dc:language>en-US</dc:language>
  <cp:lastModifiedBy>StephenKumar, SampathKumar</cp:lastModifiedBy>
  <dcterms:modified xsi:type="dcterms:W3CDTF">2020-06-04T10:37:41Z</dcterms:modified>
  <cp:revision>2</cp:revision>
  <dc:subject/>
  <dc:title>PowerPoint Presentation</dc:title>
</cp:coreProperties>
</file>