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27520" y="1054080"/>
            <a:ext cx="3244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333720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1046160"/>
            <a:ext cx="46800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1347840"/>
            <a:ext cx="5942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86160" y="984240"/>
            <a:ext cx="4171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895320"/>
            <a:ext cx="24037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81240" y="939960"/>
            <a:ext cx="4753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3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995400"/>
            <a:ext cx="2668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3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3240" y="990720"/>
            <a:ext cx="2624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259560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4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25960" y="990720"/>
            <a:ext cx="26049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14880" y="990720"/>
            <a:ext cx="24764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8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54160" y="990720"/>
            <a:ext cx="321804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27:36Z</dcterms:modified>
  <cp:revision>198</cp:revision>
  <dc:subject/>
  <dc:title>CHAPTER 1</dc:title>
</cp:coreProperties>
</file>