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67280" y="6477120"/>
            <a:ext cx="3276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IN" sz="1400" spc="-1" strike="noStrike">
                <a:solidFill>
                  <a:srgbClr val="000000"/>
                </a:solidFill>
                <a:latin typeface="Arial"/>
              </a:rPr>
              <a:t>© Cambridge University Press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95280" y="30481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liminary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990720" y="541008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 Fig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0" y="963720"/>
            <a:ext cx="451656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54100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 Fig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603520" y="990720"/>
            <a:ext cx="394956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04560" y="5409720"/>
            <a:ext cx="845820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 Fig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14600" y="990720"/>
            <a:ext cx="4059360" cy="38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54100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 Fig.1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629080" y="990720"/>
            <a:ext cx="384804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7:25:42Z</dcterms:created>
  <dc:creator>sun</dc:creator>
  <dc:description/>
  <dc:language>en-US</dc:language>
  <cp:lastModifiedBy>Sun</cp:lastModifiedBy>
  <dcterms:modified xsi:type="dcterms:W3CDTF">2013-02-13T04:19:20Z</dcterms:modified>
  <cp:revision>155</cp:revision>
  <dc:subject/>
  <dc:title>CHAPTER 1</dc:title>
</cp:coreProperties>
</file>