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67280" y="6477120"/>
            <a:ext cx="3276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© Cambridge University Press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990720" y="54100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46360" y="990720"/>
            <a:ext cx="38307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5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66960" y="1025640"/>
            <a:ext cx="181944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560" y="5409720"/>
            <a:ext cx="84582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5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57600" y="990720"/>
            <a:ext cx="181944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14600" y="1065240"/>
            <a:ext cx="40957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5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90720" y="1828800"/>
            <a:ext cx="53481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5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22280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5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95480" y="900000"/>
            <a:ext cx="33544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5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1562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7:25:42Z</dcterms:created>
  <dc:creator>sun</dc:creator>
  <dc:description/>
  <dc:language>en-US</dc:language>
  <cp:lastModifiedBy>Sun</cp:lastModifiedBy>
  <dcterms:modified xsi:type="dcterms:W3CDTF">2013-02-13T04:25:36Z</dcterms:modified>
  <cp:revision>168</cp:revision>
  <dc:subject/>
  <dc:title>CHAPTER 1</dc:title>
</cp:coreProperties>
</file>