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d anneal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14640" y="914400"/>
            <a:ext cx="30812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968400"/>
            <a:ext cx="5164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890640"/>
            <a:ext cx="25225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65520" y="990720"/>
            <a:ext cx="3483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27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08240" y="990720"/>
            <a:ext cx="472608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56120" y="990720"/>
            <a:ext cx="27874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2600" y="890640"/>
            <a:ext cx="3358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66960" y="990720"/>
            <a:ext cx="1810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17600" y="982800"/>
            <a:ext cx="4716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03360" y="993600"/>
            <a:ext cx="43372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1680" y="1057320"/>
            <a:ext cx="25956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14640" y="990720"/>
            <a:ext cx="30812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4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39132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21:13Z</dcterms:modified>
  <cp:revision>184</cp:revision>
  <dc:subject/>
  <dc:title>CHAPTER 1</dc:title>
</cp:coreProperties>
</file>