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867280" y="6477120"/>
            <a:ext cx="32767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IN" sz="1400" spc="-1" strike="noStrike">
                <a:solidFill>
                  <a:srgbClr val="000000"/>
                </a:solidFill>
                <a:latin typeface="Arial"/>
              </a:rPr>
              <a:t>© Cambridge University Press 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PTER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371600" y="3048120"/>
            <a:ext cx="6400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nte Carlo metho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990720" y="541008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n Fig.3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200400" y="990720"/>
            <a:ext cx="2687760" cy="37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54100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n Fig.3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124080" y="990720"/>
            <a:ext cx="2860920" cy="37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304560" y="5409720"/>
            <a:ext cx="8458200" cy="3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n Fig.3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384720" y="990720"/>
            <a:ext cx="2330280" cy="38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54100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n Fig.3.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133720" y="1100160"/>
            <a:ext cx="4862520" cy="34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5T07:25:42Z</dcterms:created>
  <dc:creator>sun</dc:creator>
  <dc:description/>
  <dc:language>en-US</dc:language>
  <cp:lastModifiedBy>Sun</cp:lastModifiedBy>
  <dcterms:modified xsi:type="dcterms:W3CDTF">2013-02-13T04:20:48Z</dcterms:modified>
  <cp:revision>165</cp:revision>
  <dc:subject/>
  <dc:title>CHAPTER 1</dc:title>
</cp:coreProperties>
</file>