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, linear, and iterative-linear inverse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19360" y="914400"/>
            <a:ext cx="385776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7440" y="1262160"/>
            <a:ext cx="45705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90920" y="990720"/>
            <a:ext cx="39495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0480" y="1265400"/>
            <a:ext cx="43052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65640" y="990720"/>
            <a:ext cx="23493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4640" y="1066680"/>
            <a:ext cx="36561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20:02Z</dcterms:modified>
  <cp:revision>166</cp:revision>
  <dc:subject/>
  <dc:title>CHAPTER 1</dc:title>
</cp:coreProperties>
</file>