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9B2-B703-4F4A-B679-C5BBD738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AA51-8CB7-458E-802C-2C838DDF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034-65EF-4BF1-8E53-5FC0EB19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86C6-1783-4EE8-85B7-8AEF8221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6C1-B953-4D97-963F-438A620D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17F5-79B5-4D22-8CA9-F9F58269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C435-6146-4947-AFE6-57CA6FEF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822E-016B-4559-B20A-0FDE9362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96BA-EAED-45BE-ABEE-D4FAB067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9F38-4F6B-4A06-90A9-5A8AE0E6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C124-BE4D-462C-9835-C999525F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BF01-8120-42C5-9193-0916142A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99E1-915C-479B-ADF2-D0430A6E5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557520" y="2854440"/>
            <a:ext cx="2028960" cy="1149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3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3720960" y="3033720"/>
            <a:ext cx="1702080" cy="7905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3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3084480" y="2505240"/>
            <a:ext cx="2976480" cy="184752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3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081240" y="2297160"/>
            <a:ext cx="2981520" cy="22636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3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354480" y="2989440"/>
            <a:ext cx="2435040" cy="87912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3_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535200" y="2658960"/>
            <a:ext cx="2073600" cy="1540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3_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2940120" y="2265480"/>
            <a:ext cx="3263760" cy="2328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3_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427560" y="2511360"/>
            <a:ext cx="2290680" cy="183528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3_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3219480" y="2602080"/>
            <a:ext cx="2705040" cy="165384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3_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3827520" y="3112920"/>
            <a:ext cx="1488960" cy="63216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3_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3718080" y="1859040"/>
            <a:ext cx="1707840" cy="313992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3_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922480" y="2079720"/>
            <a:ext cx="3299040" cy="2698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3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2855880" y="1550880"/>
            <a:ext cx="3432240" cy="375768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3_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2855880" y="2300400"/>
            <a:ext cx="3432240" cy="225720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3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220920" y="1878120"/>
            <a:ext cx="2702160" cy="3101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3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220920" y="2100240"/>
            <a:ext cx="2702160" cy="265752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3_05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855880" y="2030400"/>
            <a:ext cx="3432240" cy="27972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3_05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606840" y="2851200"/>
            <a:ext cx="1930320" cy="11556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3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2855880" y="2075040"/>
            <a:ext cx="3433680" cy="2707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3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427560" y="2552760"/>
            <a:ext cx="2290680" cy="175248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3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30T13:21:00Z</dcterms:created>
  <dc:creator>StephenKumar, SampathKumar</dc:creator>
  <dc:description/>
  <dc:language>en-US</dc:language>
  <cp:lastModifiedBy>StephenKumar, SampathKumar</cp:lastModifiedBy>
  <dcterms:modified xsi:type="dcterms:W3CDTF">2019-10-30T14:08:12Z</dcterms:modified>
  <cp:revision>3</cp:revision>
  <dc:subject/>
  <dc:title>PowerPoint Presentation</dc:title>
</cp:coreProperties>
</file>