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44E-C0CB-49D6-9328-A4482CEA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A5D-40F3-4D9E-8CAE-20BC2D25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E34-748E-4BC7-8681-4A4042B9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402D-AC71-477B-83DD-199B6BE2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5D2-07AB-453E-B50F-47367BDA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C61-EDCB-4A9C-B576-DDAEC036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E255-0EB6-400D-A353-3A971FD2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C583-E238-4FD7-8BB8-BA621C08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9E1-DC8B-404A-9E03-7968D658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60C-94B2-4322-8E20-C77F6C53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B5E-68FE-4227-80CC-EAAA3FBC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28D-D7F2-438B-AF1C-DC9F645D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9A1B-FA10-4690-B8BB-3DF531C07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552840" y="2687760"/>
            <a:ext cx="2038320" cy="1482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076560" y="1700280"/>
            <a:ext cx="2990880" cy="345744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213000" y="2712960"/>
            <a:ext cx="2718000" cy="143352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827520" y="2273400"/>
            <a:ext cx="1488960" cy="2311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354480" y="2290680"/>
            <a:ext cx="2435040" cy="2276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354480" y="2608200"/>
            <a:ext cx="2435040" cy="164304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3427560" y="2989440"/>
            <a:ext cx="2290680" cy="87912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219480" y="2414520"/>
            <a:ext cx="2705040" cy="202896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219480" y="2728800"/>
            <a:ext cx="2705040" cy="14004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427560" y="2548080"/>
            <a:ext cx="2290680" cy="176184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3084480" y="2583000"/>
            <a:ext cx="2976480" cy="1692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720960" y="2916360"/>
            <a:ext cx="1702080" cy="102528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427560" y="3133800"/>
            <a:ext cx="2290680" cy="590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3903840" y="2770200"/>
            <a:ext cx="1338120" cy="13176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3624120" y="2370240"/>
            <a:ext cx="1895760" cy="21175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3219480" y="2637000"/>
            <a:ext cx="2705040" cy="1585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3219480" y="2527200"/>
            <a:ext cx="2705040" cy="18036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2855880" y="2338560"/>
            <a:ext cx="3433680" cy="2180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3219480" y="2714760"/>
            <a:ext cx="2705040" cy="14284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3427560" y="2511360"/>
            <a:ext cx="2290680" cy="18352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3489480" y="2401920"/>
            <a:ext cx="2165040" cy="20541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2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3427560" y="2824200"/>
            <a:ext cx="2290680" cy="12096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895560" y="2871720"/>
            <a:ext cx="1352880" cy="111456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3427560" y="2577960"/>
            <a:ext cx="2290680" cy="17020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3894120" y="2798640"/>
            <a:ext cx="1355760" cy="1262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4030560" y="2649600"/>
            <a:ext cx="1082880" cy="1558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3427560" y="2808360"/>
            <a:ext cx="2290680" cy="12412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719520" y="3171960"/>
            <a:ext cx="1704960" cy="514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719520" y="3240000"/>
            <a:ext cx="1704960" cy="37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227400" y="2271600"/>
            <a:ext cx="2689200" cy="2314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600280" y="2112840"/>
            <a:ext cx="3943440" cy="263376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557520" y="2668680"/>
            <a:ext cx="2028960" cy="1520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086280" y="2236680"/>
            <a:ext cx="2971800" cy="2386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7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30T13:09:42Z</dcterms:created>
  <dc:creator>StephenKumar, SampathKumar</dc:creator>
  <dc:description/>
  <dc:language>en-US</dc:language>
  <cp:lastModifiedBy>Anithkumar, Lakshmanan</cp:lastModifiedBy>
  <dcterms:modified xsi:type="dcterms:W3CDTF">2019-10-30T14:16:39Z</dcterms:modified>
  <cp:revision>5</cp:revision>
  <dc:subject/>
  <dc:title>PowerPoint Presentation</dc:title>
</cp:coreProperties>
</file>