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8EE9-5F3A-4C5A-B45D-AA1DF458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E205-671A-4E14-A5FF-49BF8E1A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AD4C-1895-489F-B656-30CE5262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C573-E68E-4AB2-9576-4346769A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B857-C3DC-49A5-93C5-D6106306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3B5F-9989-491C-A8A9-2F63E3F0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38F3-030F-4022-A148-C218E45D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744B-9F80-47BE-8494-E8934643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E307-6E46-4057-AB56-0F3BFC9C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E879-4045-4F42-84FE-10647E17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021B-5427-4879-AB88-8B77BA61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CCB0-BEFF-4F23-BD07-3FF45AC5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D124-0535-4819-9663-B9F56E3F2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287880" y="3121200"/>
            <a:ext cx="2568240" cy="6156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4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3430440" y="3052800"/>
            <a:ext cx="2283120" cy="7524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4_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3219480" y="1913040"/>
            <a:ext cx="2705040" cy="303372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4_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2598840" y="1928880"/>
            <a:ext cx="3946320" cy="300024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4_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2855880" y="1440000"/>
            <a:ext cx="3432240" cy="3978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4_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2851200" y="2556000"/>
            <a:ext cx="3441600" cy="1746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4_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3556080" y="2371680"/>
            <a:ext cx="2031840" cy="2114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4_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3262320" y="2773440"/>
            <a:ext cx="2619360" cy="131112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4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071880" y="2994120"/>
            <a:ext cx="3000240" cy="86976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4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855880" y="2328840"/>
            <a:ext cx="3433680" cy="2200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4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2855880" y="2489040"/>
            <a:ext cx="3433680" cy="187992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4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911320" y="2735280"/>
            <a:ext cx="3321360" cy="1387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4_06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3220920" y="2851200"/>
            <a:ext cx="2702160" cy="11556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4_06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2598840" y="2141640"/>
            <a:ext cx="3946320" cy="257652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4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2602080" y="2208240"/>
            <a:ext cx="3939840" cy="244296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4_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30T13:22:59Z</dcterms:created>
  <dc:creator>StephenKumar, SampathKumar</dc:creator>
  <dc:description/>
  <dc:language>en-US</dc:language>
  <cp:lastModifiedBy>StephenKumar, SampathKumar</cp:lastModifiedBy>
  <dcterms:modified xsi:type="dcterms:W3CDTF">2019-10-30T14:04:17Z</dcterms:modified>
  <cp:revision>3</cp:revision>
  <dc:subject/>
  <dc:title>PowerPoint Presentation</dc:title>
</cp:coreProperties>
</file>