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F13-9ECC-4F4B-A91A-32B33F6D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C4B-1684-45FF-8FF4-BEC8EA9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307-166E-43E5-940B-3074B6B5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869-7227-460B-916C-6F7DB1A8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7D9-8743-4F91-8511-B2914418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698-EB0C-4D3F-B32A-3113BF5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F4D-98A5-428A-A6CC-957140A6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A17-6301-411E-8DA7-801E862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872-117D-4B8A-82C7-4D7F474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AEA-A4BD-4AEA-AF14-63E3B9C6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586-2262-4C81-B15F-8EC863C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2CE-5FDE-4B9B-925A-09CDB0B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7787-52E0-48DB-A4F5-248BD6071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60640" y="2325600"/>
            <a:ext cx="3222720" cy="2206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287880" y="2874960"/>
            <a:ext cx="2568240" cy="1109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36920" y="2305080"/>
            <a:ext cx="2271600" cy="2247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287880" y="1504800"/>
            <a:ext cx="2568240" cy="3848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855880" y="2392200"/>
            <a:ext cx="3432240" cy="2073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084480" y="2168640"/>
            <a:ext cx="2975040" cy="2520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855880" y="1611360"/>
            <a:ext cx="3432240" cy="3635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436920" y="3111480"/>
            <a:ext cx="2270160" cy="635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4030560" y="3160800"/>
            <a:ext cx="1082880" cy="536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819600" y="3075120"/>
            <a:ext cx="1504800" cy="707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002120" y="3030480"/>
            <a:ext cx="1139760" cy="797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960720" y="2903400"/>
            <a:ext cx="1222560" cy="1051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693960" y="2954160"/>
            <a:ext cx="1757520" cy="949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962520" y="2952720"/>
            <a:ext cx="12189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543480" y="3040200"/>
            <a:ext cx="2057400" cy="777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5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24:11Z</dcterms:created>
  <dc:creator>StephenKumar, SampathKumar</dc:creator>
  <dc:description/>
  <dc:language>en-US</dc:language>
  <cp:lastModifiedBy>StephenKumar, SampathKumar</cp:lastModifiedBy>
  <dcterms:modified xsi:type="dcterms:W3CDTF">2019-10-30T14:02:18Z</dcterms:modified>
  <cp:revision>3</cp:revision>
  <dc:subject/>
  <dc:title>PowerPoint Presentation</dc:title>
</cp:coreProperties>
</file>