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011-CA21-491D-86C2-925AD3E1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414-9FFB-421B-9C49-E4179C36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FE6-2B16-475F-93B1-87FE4B79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833-467F-46ED-9029-8BC18A64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572-1C2D-4BD1-AB32-89FD36FD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CA8-C933-4C9B-B360-7AB3C73D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BD4-6096-4250-8378-42290A9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E57-29B0-46E4-AE4F-00BEB669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B17-402C-471E-847B-D7A46ADD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DFA-6C22-4621-97BD-EFDE667A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DEB-0591-4481-95C7-7270EC05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A51-DCFE-4EFB-8ED8-1734022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5E7-3E5C-4A17-B08C-74E54BDB7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719520" y="2948040"/>
            <a:ext cx="1704960" cy="961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067200" y="3019320"/>
            <a:ext cx="3009600" cy="819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871720" y="3182760"/>
            <a:ext cx="3400560" cy="492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218040" y="2963880"/>
            <a:ext cx="2709720" cy="930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219480" y="2457360"/>
            <a:ext cx="2705040" cy="1943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219480" y="1682640"/>
            <a:ext cx="2705040" cy="3492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427560" y="2043000"/>
            <a:ext cx="2290680" cy="27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3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427560" y="2836800"/>
            <a:ext cx="2288880" cy="1185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598840" y="2082960"/>
            <a:ext cx="3946320" cy="2692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602080" y="1944720"/>
            <a:ext cx="3939840" cy="29685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220920" y="2009880"/>
            <a:ext cx="2702160" cy="28382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218040" y="2075040"/>
            <a:ext cx="2709720" cy="2707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598840" y="2082960"/>
            <a:ext cx="3946320" cy="2692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855880" y="2608200"/>
            <a:ext cx="3432240" cy="1643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851200" y="2246400"/>
            <a:ext cx="3441600" cy="236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432240" y="3125880"/>
            <a:ext cx="2279520" cy="606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u5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220920" y="2976480"/>
            <a:ext cx="2702160" cy="905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030560" y="2967120"/>
            <a:ext cx="1082880" cy="923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827520" y="2627280"/>
            <a:ext cx="1488960" cy="1603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719520" y="2670120"/>
            <a:ext cx="1704960" cy="1517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598840" y="2089080"/>
            <a:ext cx="3946320" cy="2679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286080" y="2467080"/>
            <a:ext cx="2571840" cy="1923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718080" y="2238480"/>
            <a:ext cx="1707840" cy="2381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5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3:04:03Z</dcterms:created>
  <dc:creator>StephenKumar, SampathKumar</dc:creator>
  <dc:description/>
  <dc:language>en-US</dc:language>
  <cp:lastModifiedBy>Anithkumar, Lakshmanan</cp:lastModifiedBy>
  <dcterms:modified xsi:type="dcterms:W3CDTF">2019-10-30T14:02:13Z</dcterms:modified>
  <cp:revision>7</cp:revision>
  <dc:subject/>
  <dc:title>PowerPoint Presentation</dc:title>
</cp:coreProperties>
</file>