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FD2-C912-4694-8DF2-B35A54FC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DA1-8B30-43B2-96CB-640552B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481-4834-4282-9E60-269B30FF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F44-DC8B-4445-8F37-9A583A0A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D80-1E9D-4E93-B71E-22BA4982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0D4-F76C-4FDD-8182-4D7931BB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2C6-EFC6-4D24-91AE-6E4BBE4B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99A-0C25-4BED-B6B9-46521C5A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673-A433-4A45-BE66-EF0451A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B76-DF68-4AD1-B0EA-32B2884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929-1671-4703-929E-102CB92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6A5-571B-4C18-8409-6B19691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94C1-CFD0-4CDF-B9B0-F4EB1B422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960720" y="3139920"/>
            <a:ext cx="1224000" cy="578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622600" y="2333520"/>
            <a:ext cx="3898800" cy="2190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951280" y="2722680"/>
            <a:ext cx="3243240" cy="1414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32240" y="2346480"/>
            <a:ext cx="2279520" cy="2165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425760" y="3259080"/>
            <a:ext cx="2292480" cy="339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895560" y="3059280"/>
            <a:ext cx="1352880" cy="739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124160" y="3106800"/>
            <a:ext cx="895680" cy="644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720960" y="2762280"/>
            <a:ext cx="1702080" cy="1333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736800" y="3122640"/>
            <a:ext cx="167040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619440" y="2774880"/>
            <a:ext cx="1905120" cy="1308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855880" y="2619360"/>
            <a:ext cx="3433680" cy="161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022640" y="2830680"/>
            <a:ext cx="1098720" cy="1196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186000" y="2398680"/>
            <a:ext cx="2772000" cy="2060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94200" y="3021120"/>
            <a:ext cx="1155600" cy="815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718080" y="2151000"/>
            <a:ext cx="1707840" cy="2557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27560" y="1878120"/>
            <a:ext cx="2290680" cy="3101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218040" y="2576520"/>
            <a:ext cx="2707920" cy="1704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962520" y="3075120"/>
            <a:ext cx="1218960" cy="709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970440" y="3057480"/>
            <a:ext cx="1204920" cy="743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884320" y="969840"/>
            <a:ext cx="3375360" cy="4918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2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19:08Z</dcterms:created>
  <dc:creator>StephenKumar, SampathKumar</dc:creator>
  <dc:description/>
  <dc:language>en-US</dc:language>
  <cp:lastModifiedBy>StephenKumar, SampathKumar</cp:lastModifiedBy>
  <dcterms:modified xsi:type="dcterms:W3CDTF">2019-10-30T14:11:23Z</dcterms:modified>
  <cp:revision>3</cp:revision>
  <dc:subject/>
  <dc:title>PowerPoint Presentation</dc:title>
</cp:coreProperties>
</file>