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8D8-4FA6-4B18-84A4-010BE973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F0C-B1D1-4D47-BF7A-9CE48E49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1CD-6918-4108-994C-CA9D41A9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D7DE-B5AE-4B98-9542-3A228F87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EC0-F8CE-4766-B778-7C557791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A30-8748-4BB0-944E-6CD62FC6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418-FE49-4D29-993D-0F094535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86C-0D0F-4436-9F70-C2F5DD93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249-8CFD-4391-BDC6-D2B26B28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FD7-B8D7-4405-BC5C-0D56EDAF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134-1966-4961-95C9-F1FBB8B9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C38-5714-410B-B88C-7C974888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B671-495F-4905-A920-0C08D5DD0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27560" y="1847880"/>
            <a:ext cx="2290680" cy="3162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184560" y="1692360"/>
            <a:ext cx="2774880" cy="3473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017880" y="2082960"/>
            <a:ext cx="3110040" cy="2692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855880" y="1536840"/>
            <a:ext cx="3433680" cy="3784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855880" y="1808280"/>
            <a:ext cx="3432240" cy="3241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855880" y="2900520"/>
            <a:ext cx="3433680" cy="105696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855880" y="2063880"/>
            <a:ext cx="3433680" cy="2730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427560" y="2685960"/>
            <a:ext cx="2290680" cy="1486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029120" y="2730600"/>
            <a:ext cx="1085760" cy="1396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218040" y="2316240"/>
            <a:ext cx="2709720" cy="2225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219480" y="2373480"/>
            <a:ext cx="2705040" cy="2111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341520" y="2216160"/>
            <a:ext cx="2462400" cy="242568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219480" y="2516040"/>
            <a:ext cx="2705040" cy="1825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859120" y="1662120"/>
            <a:ext cx="3425760" cy="3533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857680" y="1863720"/>
            <a:ext cx="3429000" cy="3130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635280" y="2503440"/>
            <a:ext cx="1873440" cy="1852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841920" y="2932200"/>
            <a:ext cx="1460160" cy="99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554280" y="2814480"/>
            <a:ext cx="2035440" cy="1229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436920" y="1754280"/>
            <a:ext cx="2271600" cy="3349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693960" y="2538360"/>
            <a:ext cx="1757520" cy="1781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4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1:42:37Z</dcterms:created>
  <dc:creator>StephenKumar, SampathKumar</dc:creator>
  <dc:description/>
  <dc:language>en-US</dc:language>
  <cp:lastModifiedBy>Anithkumar, Lakshmanan</cp:lastModifiedBy>
  <dcterms:modified xsi:type="dcterms:W3CDTF">2019-10-30T13:55:16Z</dcterms:modified>
  <cp:revision>5</cp:revision>
  <dc:subject/>
  <dc:title>PowerPoint Presentation</dc:title>
</cp:coreProperties>
</file>