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8F1-CF5B-4478-B6B5-7B991361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F5C-1676-4787-B2C6-2ED05D23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F79-9437-41B1-9DCF-7E7DCCBD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489-C849-4FF1-9A95-8B1A0EEC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B82-84DE-4545-A3AC-7774FF55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A81-C9B2-4A38-8F28-6DA066B6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3B4-946D-4B1F-90A7-C8412870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1A3-28AD-483C-A92F-77DCDA0B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FE2-F826-49CC-8B8E-082F6971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3FB-04CC-4491-9A5F-B19E8239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7B1-C17E-4BA8-8523-3313A02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8C1-C069-4A76-BEBE-9EAC190D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E21A-7AB1-438A-AF84-6C29EE587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855880" y="1467000"/>
            <a:ext cx="3433680" cy="3924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3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3218040" y="1932120"/>
            <a:ext cx="2709720" cy="2995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3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855880" y="2571840"/>
            <a:ext cx="3433680" cy="171432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3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865600" y="2570040"/>
            <a:ext cx="3414600" cy="1719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3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695760" y="2654280"/>
            <a:ext cx="1752480" cy="1549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3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2859120" y="1852560"/>
            <a:ext cx="3425760" cy="3152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3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897360" y="2820960"/>
            <a:ext cx="1349280" cy="121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3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913200" y="2770200"/>
            <a:ext cx="1317600" cy="1317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3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219480" y="2541600"/>
            <a:ext cx="2705040" cy="1776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3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219480" y="2924280"/>
            <a:ext cx="2705040" cy="1009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3809880" y="5619600"/>
            <a:ext cx="33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3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1:40:46Z</dcterms:created>
  <dc:creator>StephenKumar, SampathKumar</dc:creator>
  <dc:description/>
  <dc:language>en-US</dc:language>
  <cp:lastModifiedBy>StephenKumar, SampathKumar</cp:lastModifiedBy>
  <dcterms:modified xsi:type="dcterms:W3CDTF">2019-10-30T13:41:51Z</dcterms:modified>
  <cp:revision>2</cp:revision>
  <dc:subject/>
  <dc:title>PowerPoint Presentation</dc:title>
</cp:coreProperties>
</file>