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01D-5C09-436A-AACD-C5984EE4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FF5-9883-43F3-9262-684BE30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052-C2CE-4C94-B0BE-7EE7AE6E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443-329B-41C0-B6D2-FECD13B8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AC9-2F08-41AE-8ADB-E2DFFBEC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B5B-1AA7-4D03-8E91-2C0E94D4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264-BE0D-432D-AC9E-C29B0C0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F69-4FCC-4270-A770-EED3438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BD6-6AEC-4A64-84D8-B800CE1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804-F76C-43C7-ACE7-E4849E3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9AA-E620-4EFD-B6BD-355FEFE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6BF-30BF-4864-B39D-B0EE326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5491-C988-476E-A7FD-7073A0564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719520" y="3116160"/>
            <a:ext cx="1704960" cy="62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084480" y="2538360"/>
            <a:ext cx="2976480" cy="1781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427560" y="2535120"/>
            <a:ext cx="229068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086280" y="274320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219480" y="2455920"/>
            <a:ext cx="2705040" cy="1947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718080" y="2335320"/>
            <a:ext cx="1707840" cy="2187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10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16:36Z</dcterms:created>
  <dc:creator>StephenKumar, SampathKumar</dc:creator>
  <dc:description/>
  <dc:language>en-US</dc:language>
  <cp:lastModifiedBy>StephenKumar, SampathKumar</cp:lastModifiedBy>
  <dcterms:modified xsi:type="dcterms:W3CDTF">2019-10-30T14:13:36Z</dcterms:modified>
  <cp:revision>3</cp:revision>
  <dc:subject/>
  <dc:title>PowerPoint Presentation</dc:title>
</cp:coreProperties>
</file>