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72E9-570D-4289-8E72-7D91F22B9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3034-3FC9-4DE6-949E-AAA18924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41D8-7474-4D9E-BC2D-E29EED121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0781-9576-4C5C-8B8B-53974D2C3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8CC3-8C6F-4132-8949-953885A4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651A-69E3-445D-A7D6-53363BA4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57D1-1B8E-4DD6-B803-808E3C40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BC54-E325-4D50-B9BA-ECCB466A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5B36-E84C-4D86-BD28-9FE83274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BD8F-799D-439C-9A98-76BFAAB1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254D-C56B-4CB6-BD1D-34A944A3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34FB-B495-47D5-930E-12040057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2920-21D2-4A60-A5A1-38972347F7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084480" y="2344680"/>
            <a:ext cx="2976480" cy="2168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9_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4143240" y="2847960"/>
            <a:ext cx="857520" cy="116208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u9_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3889440" y="3032280"/>
            <a:ext cx="1365120" cy="79344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9_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3713040" y="2895480"/>
            <a:ext cx="1719360" cy="106704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9_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3780000" y="2725560"/>
            <a:ext cx="1584000" cy="140688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9_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3213000" y="2911320"/>
            <a:ext cx="2718000" cy="103536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9_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4159080" y="3157560"/>
            <a:ext cx="825840" cy="54288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9_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4041720" y="3121200"/>
            <a:ext cx="1060560" cy="6156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9_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3720960" y="2801880"/>
            <a:ext cx="1702080" cy="125424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9_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3220920" y="2889360"/>
            <a:ext cx="2702160" cy="1079280"/>
          </a:xfrm>
          <a:prstGeom prst="rect">
            <a:avLst/>
          </a:prstGeom>
          <a:ln w="0">
            <a:noFill/>
          </a:ln>
        </p:spPr>
      </p:pic>
      <p:sp>
        <p:nvSpPr>
          <p:cNvPr id="66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9_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30T13:16:01Z</dcterms:created>
  <dc:creator>StephenKumar, SampathKumar</dc:creator>
  <dc:description/>
  <dc:language>en-US</dc:language>
  <cp:lastModifiedBy>StephenKumar, SampathKumar</cp:lastModifiedBy>
  <dcterms:modified xsi:type="dcterms:W3CDTF">2019-10-30T14:15:15Z</dcterms:modified>
  <cp:revision>3</cp:revision>
  <dc:subject/>
  <dc:title>PowerPoint Presentation</dc:title>
</cp:coreProperties>
</file>