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7D2-CF5B-4EEF-98B8-FDB97D11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A93-4E02-4F56-BD30-93FDCFFE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3B3-5FBD-4D97-92A3-C21E5E9E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61F-39D4-4AC2-A388-542CAA5B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455-3305-483A-8103-818C63CC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D33-A738-45EB-99B6-A1883C9B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599-A958-4834-ACE1-A6ADEF0C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C9F-CAA6-44B0-B3CE-9DC8845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A73-2884-41AE-A501-A1D3C927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485-2298-4090-8942-5D79A7E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5C6-F737-4783-BCF9-C1461A6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F3C-471F-4BFE-9560-384B3858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A5CD-1765-4A48-8356-512099D32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714840" y="2720880"/>
            <a:ext cx="1714320" cy="1416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2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719520" y="2682720"/>
            <a:ext cx="1704960" cy="1492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2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730680" y="2703600"/>
            <a:ext cx="1682640" cy="1452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2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4164120" y="2960640"/>
            <a:ext cx="815760" cy="936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2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726000" y="2652840"/>
            <a:ext cx="1692000" cy="1552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2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436920" y="3006720"/>
            <a:ext cx="2271600" cy="844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2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760920" y="2583000"/>
            <a:ext cx="1623960" cy="1692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046840" y="6364440"/>
            <a:ext cx="37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oke_Fig2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30T10:41:26Z</dcterms:created>
  <dc:creator>StephenKumar, SampathKumar</dc:creator>
  <dc:description/>
  <dc:language>en-US</dc:language>
  <cp:lastModifiedBy>StephenKumar, SampathKumar</cp:lastModifiedBy>
  <dcterms:modified xsi:type="dcterms:W3CDTF">2019-10-30T13:44:28Z</dcterms:modified>
  <cp:revision>2</cp:revision>
  <dc:subject/>
  <dc:title>PowerPoint Presentation</dc:title>
</cp:coreProperties>
</file>