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2AB-6C3B-4FF5-B16F-214F40F5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BCC-068F-42E7-BF5E-81EB57A8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9F6-8228-4536-8C28-201EADEF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C89-0A30-43D4-889F-207C2EB5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A0D-1F50-48DD-900A-0C348C56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DF0-F564-49CE-B384-1834A20A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9B7-81CB-45A6-B567-BB9FC673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5D-F9A3-4312-9FFF-2B4533D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E99-AD33-4923-BDC9-C7A00F93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8B8-E9A8-45AB-89D2-6984985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36D-0872-42A9-ACC0-26E69C4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95A-EDEB-4EDE-9643-F702675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DC33-6186-4AC4-ADDA-2FC40BABC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097160" y="2954160"/>
            <a:ext cx="949680" cy="949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427560" y="2332080"/>
            <a:ext cx="2290680" cy="2195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863800" y="2901960"/>
            <a:ext cx="3416400" cy="1054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962520" y="2820960"/>
            <a:ext cx="1218960" cy="1216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19480" y="2620800"/>
            <a:ext cx="2705040" cy="1616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855880" y="2092320"/>
            <a:ext cx="3433680" cy="2673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855880" y="2038320"/>
            <a:ext cx="3433680" cy="2781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220920" y="2192400"/>
            <a:ext cx="2702160" cy="2473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18040" y="2011320"/>
            <a:ext cx="2709720" cy="2835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7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216240" y="2009880"/>
            <a:ext cx="2711520" cy="28382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7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427560" y="2100240"/>
            <a:ext cx="2290680" cy="2657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4094280" y="2971800"/>
            <a:ext cx="95724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84480" y="3000240"/>
            <a:ext cx="2975040" cy="857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219480" y="2225520"/>
            <a:ext cx="2705040" cy="2406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013200" y="2247840"/>
            <a:ext cx="3117600" cy="23623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4106880" y="3029040"/>
            <a:ext cx="930240" cy="799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960720" y="3173400"/>
            <a:ext cx="1222560" cy="511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433680" y="2744640"/>
            <a:ext cx="2276640" cy="1368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084480" y="1868400"/>
            <a:ext cx="2976480" cy="3121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894120" y="2844720"/>
            <a:ext cx="1357200" cy="116856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54480" y="2373480"/>
            <a:ext cx="2435040" cy="21110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960720" y="3132000"/>
            <a:ext cx="1222560" cy="595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6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07:41Z</dcterms:created>
  <dc:creator>StephenKumar, SampathKumar</dc:creator>
  <dc:description/>
  <dc:language>en-US</dc:language>
  <cp:lastModifiedBy>Anithkumar, Lakshmanan</cp:lastModifiedBy>
  <dcterms:modified xsi:type="dcterms:W3CDTF">2019-10-30T14:12:41Z</dcterms:modified>
  <cp:revision>4</cp:revision>
  <dc:subject/>
  <dc:title>PowerPoint Presentation</dc:title>
</cp:coreProperties>
</file>