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C9-DB77-458F-8C0C-A5B3EAF9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42F-8310-4C6C-8E43-DCBB969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633-977A-4552-AD86-B0144BD9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5EE-8D2C-430D-9E0A-47EFF936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387-9B5F-4D03-A954-7F051FF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A57-B0E3-4100-B47C-A08EB496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301-668B-49E9-9969-00C8AE11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8BF-F2F5-4D91-ABDC-A4E5412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32A-6301-4515-96CE-151EC98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EE9-F8A4-4D79-BE98-2BD168E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2FA-FB05-4D69-A166-8172EA9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0A3-88CE-47A7-A1ED-F9F9701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9554-BACC-4B1D-97E0-25EE34CCC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647800" y="1973160"/>
            <a:ext cx="3848400" cy="2911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670120" y="2133720"/>
            <a:ext cx="3803760" cy="259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27560" y="2901960"/>
            <a:ext cx="2290680" cy="1054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960720" y="3079800"/>
            <a:ext cx="1222560" cy="698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55880" y="1766880"/>
            <a:ext cx="3433680" cy="332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220920" y="2503440"/>
            <a:ext cx="2702160" cy="1852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218120" y="3059280"/>
            <a:ext cx="707760" cy="739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855880" y="2763720"/>
            <a:ext cx="3432240" cy="1330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855880" y="2351160"/>
            <a:ext cx="3432240" cy="2155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220920" y="2556000"/>
            <a:ext cx="2702160" cy="174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489480" y="2357280"/>
            <a:ext cx="2165040" cy="2143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030560" y="2557440"/>
            <a:ext cx="10828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2438640" cy="812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55880" y="1449360"/>
            <a:ext cx="3433680" cy="3959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710160" y="2855880"/>
            <a:ext cx="172368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908440" y="1581120"/>
            <a:ext cx="3327120" cy="3695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909880" y="2793960"/>
            <a:ext cx="3324240" cy="1270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218040" y="1538280"/>
            <a:ext cx="2707920" cy="3781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219480" y="2459160"/>
            <a:ext cx="2705040" cy="19396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220920" y="2249640"/>
            <a:ext cx="2702160" cy="2358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427560" y="2757600"/>
            <a:ext cx="2290680" cy="1342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855880" y="2530440"/>
            <a:ext cx="3433680" cy="17971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598840" y="2557440"/>
            <a:ext cx="3946320" cy="1743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1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695760" y="2589120"/>
            <a:ext cx="1752480" cy="1679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200400" y="3206880"/>
            <a:ext cx="2743200" cy="444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427560" y="3025800"/>
            <a:ext cx="22888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211560" y="1341360"/>
            <a:ext cx="2720880" cy="4176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855880" y="2725560"/>
            <a:ext cx="3433680" cy="1406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436920" y="2543040"/>
            <a:ext cx="2271600" cy="1771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427560" y="2873520"/>
            <a:ext cx="2290680" cy="11109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3427560" y="2849400"/>
            <a:ext cx="2290680" cy="11592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5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3427560" y="2830680"/>
            <a:ext cx="2290680" cy="1196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5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855880" y="2763720"/>
            <a:ext cx="3432240" cy="13305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18040" y="2989440"/>
            <a:ext cx="2709720" cy="880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2855880" y="2417760"/>
            <a:ext cx="3432240" cy="2023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u8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075200" y="3024360"/>
            <a:ext cx="993600" cy="809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828960" y="3009960"/>
            <a:ext cx="148608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027320" y="3156120"/>
            <a:ext cx="1089360" cy="545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218040" y="2913120"/>
            <a:ext cx="2707920" cy="1031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402000" y="2984400"/>
            <a:ext cx="2340000" cy="889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8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14:33Z</dcterms:created>
  <dc:creator>StephenKumar, SampathKumar</dc:creator>
  <dc:description/>
  <dc:language>en-US</dc:language>
  <cp:lastModifiedBy>StephenKumar, SampathKumar</cp:lastModifiedBy>
  <dcterms:modified xsi:type="dcterms:W3CDTF">2019-10-30T14:19:43Z</dcterms:modified>
  <cp:revision>3</cp:revision>
  <dc:subject/>
  <dc:title>PowerPoint Presentation</dc:title>
</cp:coreProperties>
</file>