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0A9-F213-4D5A-B8BF-21683600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D64-456F-4E8D-B2A7-5E273E77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BEF-0B06-4647-B735-2F7C44FA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353-CFBF-46D6-B84E-A83ACA82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031-2832-4000-BA56-9A753C7A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9BB-575F-4085-8BA2-741BEA9E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330-C374-44D8-884F-4DCC427B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68D-3262-42DC-814A-5FDC5994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C73-B276-4824-B3B1-26606787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B8A-3543-4848-94A0-B17F6184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988-EBBD-427B-BE34-BCD60DFB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21B-0F3C-4248-8BF6-B82D462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8FE7-810F-4062-A0EA-9389D53A4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83040" y="2076480"/>
            <a:ext cx="2977920" cy="27050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489480" y="2743200"/>
            <a:ext cx="216504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855880" y="2789280"/>
            <a:ext cx="3433680" cy="1281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759120" y="1531800"/>
            <a:ext cx="1625760" cy="3794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084480" y="2820960"/>
            <a:ext cx="2976480" cy="121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489480" y="2319480"/>
            <a:ext cx="2165040" cy="2219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003560" y="2949480"/>
            <a:ext cx="1136880" cy="95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651120" y="2581200"/>
            <a:ext cx="1841760" cy="1695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084480" y="2138400"/>
            <a:ext cx="2976480" cy="2581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855880" y="2560680"/>
            <a:ext cx="3433680" cy="1738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625920" y="1708200"/>
            <a:ext cx="1892160" cy="3441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6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25:02Z</dcterms:created>
  <dc:creator>StephenKumar, SampathKumar</dc:creator>
  <dc:description/>
  <dc:language>en-US</dc:language>
  <cp:lastModifiedBy>StephenKumar, SampathKumar</cp:lastModifiedBy>
  <dcterms:modified xsi:type="dcterms:W3CDTF">2019-10-30T14:00:01Z</dcterms:modified>
  <cp:revision>2</cp:revision>
  <dc:subject/>
  <dc:title>PowerPoint Presentation</dc:title>
</cp:coreProperties>
</file>