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5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36.jpeg" ContentType="image/jpeg"/>
  <Override PartName="/ppt/media/image16.wmf" ContentType="image/x-wmf"/>
  <Override PartName="/ppt/media/image45.jpeg" ContentType="image/jpeg"/>
  <Override PartName="/ppt/media/image15.wmf" ContentType="image/x-wmf"/>
  <Override PartName="/ppt/media/image29.png" ContentType="image/png"/>
  <Override PartName="/ppt/media/image2.wmf" ContentType="image/x-wmf"/>
  <Override PartName="/ppt/media/image6.gif" ContentType="image/gif"/>
  <Override PartName="/ppt/media/chimes.wav" ContentType="audio/x-wav"/>
  <Override PartName="/ppt/media/image14.wmf" ContentType="image/x-wmf"/>
  <Override PartName="/ppt/media/image31.png" ContentType="image/png"/>
  <Override PartName="/ppt/media/image49.wmf" ContentType="image/x-wmf"/>
  <Override PartName="/ppt/media/image34.jpeg" ContentType="image/jpeg"/>
  <Override PartName="/ppt/media/image41.png" ContentType="image/png"/>
  <Override PartName="/ppt/media/image39.png" ContentType="image/png"/>
  <Override PartName="/ppt/media/image13.wmf" ContentType="image/x-wmf"/>
  <Override PartName="/ppt/media/image1.wmf" ContentType="image/x-wmf"/>
  <Override PartName="/ppt/media/image7.jpeg" ContentType="image/jpeg"/>
  <Override PartName="/ppt/media/image28.png" ContentType="image/png"/>
  <Override PartName="/ppt/media/image30.png" ContentType="image/png"/>
  <Override PartName="/ppt/media/image37.jpeg" ContentType="image/jpeg"/>
  <Override PartName="/ppt/media/image50.png" ContentType="image/png"/>
  <Override PartName="/ppt/media/image42.png" ContentType="image/png"/>
  <Override PartName="/ppt/media/image43.wmf" ContentType="image/x-wmf"/>
  <Override PartName="/ppt/media/image44.wmf" ContentType="image/x-wmf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wmf" ContentType="image/x-wmf"/>
  <Override PartName="/ppt/media/image40.png" ContentType="image/png"/>
  <Override PartName="/ppt/media/image12.png" ContentType="image/png"/>
  <Override PartName="/ppt/media/image17.wmf" ContentType="image/x-wmf"/>
  <Override PartName="/ppt/media/image9.gif" ContentType="image/gif"/>
  <Override PartName="/ppt/media/image5.wmf" ContentType="image/x-wmf"/>
  <Override PartName="/ppt/media/image35.jpeg" ContentType="image/jpeg"/>
  <Override PartName="/ppt/media/image47.png" ContentType="image/png"/>
  <Override PartName="/ppt/media/image10.png" ContentType="image/png"/>
  <Override PartName="/ppt/media/image4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0970-ACB7-4822-A5CC-81F999F5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EA9B-30B4-47EF-A654-AB822C5C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0C36-1F92-47F2-BDF3-0A5602C2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4FD-1638-4B5A-BF77-0CCC7DDD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E8A8-BB51-4BC3-AF93-9D5C1FEF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E1AA-32B0-4C71-901C-199B69EB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8918-1A65-42CA-A28A-17B40EB2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D2EE-3220-4D03-8CB5-24978C0A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-22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B228-1DE9-4E1D-856B-B024D4E0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7D8-22AF-407E-BE98-0FC8DC38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0D8-C589-47C7-AC15-007DD564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5572-5E82-4A19-BE2F-D16F7915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B8CD-FDE0-4B19-B034-E044550BCE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4267080"/>
            <a:ext cx="1828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02.xm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29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43.wmf"/><Relationship Id="rId4" Type="http://schemas.openxmlformats.org/officeDocument/2006/relationships/image" Target="../media/image24.jpeg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4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4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4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4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4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4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4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24.jpeg"/><Relationship Id="rId8" Type="http://schemas.openxmlformats.org/officeDocument/2006/relationships/image" Target="../media/image44.wmf"/><Relationship Id="rId9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4.wmf"/><Relationship Id="rId3" Type="http://schemas.openxmlformats.org/officeDocument/2006/relationships/image" Target="../media/image44.wm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4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 &amp;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7152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Network Flo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Linear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" name=""/>
          <p:cNvSpPr txBox="1"/>
          <p:nvPr/>
        </p:nvSpPr>
        <p:spPr>
          <a:xfrm>
            <a:off x="457200" y="228600"/>
            <a:ext cx="8305920" cy="533520"/>
          </a:xfrm>
          <a:prstGeom prst="rect">
            <a:avLst/>
          </a:prstGeom>
        </p:spPr>
        <p:txBody>
          <a:bodyPr wrap="none" lIns="274320" rIns="27432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How to Think about Algorithms </a:t>
            </a:r>
            <a:endParaRPr b="0" lang="en-US" sz="2400" spc="1" strike="noStrike">
              <a:ln w="6480">
                <a:solidFill>
                  <a:srgbClr val="00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514600" y="1965240"/>
            <a:ext cx="375444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819600" cy="1676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648320" y="114300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etwork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its edge capacitie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8600" y="2895480"/>
            <a:ext cx="8610480" cy="2075040"/>
            <a:chOff x="228600" y="2895480"/>
            <a:chExt cx="8610480" cy="2075040"/>
          </a:xfrm>
        </p:grpSpPr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228600" y="2895480"/>
              <a:ext cx="3886200" cy="15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267080" y="3048120"/>
              <a:ext cx="457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The max total rate of the flow is 1+2-0 = 3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7480" y="4419720"/>
              <a:ext cx="3144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flow/capacity = 2/5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65440" y="3429000"/>
              <a:ext cx="533160" cy="380880"/>
            </a:xfrm>
            <a:prstGeom prst="ellipse">
              <a:avLst/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429000" y="55008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e that total cannot be highe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ll Climb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457200" y="3105000"/>
            <a:ext cx="8559720" cy="3524400"/>
          </a:xfrm>
          <a:custGeom>
            <a:avLst/>
            <a:gdLst/>
            <a:ahLst/>
            <a:rect l="l" t="t" r="r" b="b"/>
            <a:pathLst>
              <a:path w="5392" h="2220">
                <a:moveTo>
                  <a:pt x="0" y="2206"/>
                </a:moveTo>
                <a:cubicBezTo>
                  <a:pt x="172" y="2219"/>
                  <a:pt x="327" y="2220"/>
                  <a:pt x="499" y="2108"/>
                </a:cubicBezTo>
                <a:cubicBezTo>
                  <a:pt x="671" y="1996"/>
                  <a:pt x="845" y="1681"/>
                  <a:pt x="1032" y="1535"/>
                </a:cubicBezTo>
                <a:cubicBezTo>
                  <a:pt x="1219" y="1389"/>
                  <a:pt x="1413" y="1293"/>
                  <a:pt x="1624" y="1231"/>
                </a:cubicBezTo>
                <a:cubicBezTo>
                  <a:pt x="1835" y="1169"/>
                  <a:pt x="2117" y="1196"/>
                  <a:pt x="2296" y="1160"/>
                </a:cubicBezTo>
                <a:cubicBezTo>
                  <a:pt x="2475" y="1124"/>
                  <a:pt x="2507" y="1160"/>
                  <a:pt x="2696" y="1016"/>
                </a:cubicBezTo>
                <a:cubicBezTo>
                  <a:pt x="2885" y="872"/>
                  <a:pt x="3163" y="412"/>
                  <a:pt x="3432" y="295"/>
                </a:cubicBezTo>
                <a:cubicBezTo>
                  <a:pt x="3701" y="178"/>
                  <a:pt x="3985" y="0"/>
                  <a:pt x="4312" y="311"/>
                </a:cubicBezTo>
                <a:cubicBezTo>
                  <a:pt x="4639" y="622"/>
                  <a:pt x="5167" y="1774"/>
                  <a:pt x="5392" y="215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671760" y="990720"/>
            <a:ext cx="1722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blem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8" name=""/>
          <p:cNvGrpSpPr/>
          <p:nvPr/>
        </p:nvGrpSpPr>
        <p:grpSpPr>
          <a:xfrm>
            <a:off x="3244680" y="5904720"/>
            <a:ext cx="687240" cy="878040"/>
            <a:chOff x="3244680" y="5904720"/>
            <a:chExt cx="687240" cy="878040"/>
          </a:xfrm>
        </p:grpSpPr>
        <p:sp>
          <p:nvSpPr>
            <p:cNvPr id="2399" name=""/>
            <p:cNvSpPr/>
            <p:nvPr/>
          </p:nvSpPr>
          <p:spPr>
            <a:xfrm rot="19765200">
              <a:off x="3426840" y="6047280"/>
              <a:ext cx="138240" cy="114840"/>
            </a:xfrm>
            <a:custGeom>
              <a:avLst/>
              <a:gdLst/>
              <a:ahLst/>
              <a:rect l="l" t="t" r="r" b="b"/>
              <a:pathLst>
                <a:path w="600" h="608">
                  <a:moveTo>
                    <a:pt x="388" y="289"/>
                  </a:moveTo>
                  <a:lnTo>
                    <a:pt x="372" y="177"/>
                  </a:lnTo>
                  <a:lnTo>
                    <a:pt x="341" y="78"/>
                  </a:lnTo>
                  <a:lnTo>
                    <a:pt x="284" y="24"/>
                  </a:lnTo>
                  <a:lnTo>
                    <a:pt x="185" y="0"/>
                  </a:lnTo>
                  <a:lnTo>
                    <a:pt x="100" y="24"/>
                  </a:lnTo>
                  <a:lnTo>
                    <a:pt x="19" y="123"/>
                  </a:lnTo>
                  <a:lnTo>
                    <a:pt x="0" y="243"/>
                  </a:lnTo>
                  <a:lnTo>
                    <a:pt x="19" y="370"/>
                  </a:lnTo>
                  <a:lnTo>
                    <a:pt x="50" y="447"/>
                  </a:lnTo>
                  <a:lnTo>
                    <a:pt x="88" y="528"/>
                  </a:lnTo>
                  <a:lnTo>
                    <a:pt x="130" y="582"/>
                  </a:lnTo>
                  <a:lnTo>
                    <a:pt x="177" y="608"/>
                  </a:lnTo>
                  <a:lnTo>
                    <a:pt x="242" y="585"/>
                  </a:lnTo>
                  <a:lnTo>
                    <a:pt x="307" y="531"/>
                  </a:lnTo>
                  <a:lnTo>
                    <a:pt x="349" y="455"/>
                  </a:lnTo>
                  <a:lnTo>
                    <a:pt x="388" y="390"/>
                  </a:lnTo>
                  <a:lnTo>
                    <a:pt x="400" y="351"/>
                  </a:lnTo>
                  <a:lnTo>
                    <a:pt x="565" y="293"/>
                  </a:lnTo>
                  <a:lnTo>
                    <a:pt x="600" y="270"/>
                  </a:lnTo>
                  <a:lnTo>
                    <a:pt x="580" y="235"/>
                  </a:lnTo>
                  <a:lnTo>
                    <a:pt x="388" y="2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rot="19765200">
              <a:off x="3473640" y="6188760"/>
              <a:ext cx="142200" cy="256320"/>
            </a:xfrm>
            <a:custGeom>
              <a:avLst/>
              <a:gdLst/>
              <a:ahLst/>
              <a:rect l="l" t="t" r="r" b="b"/>
              <a:pathLst>
                <a:path w="619" h="1085">
                  <a:moveTo>
                    <a:pt x="208" y="161"/>
                  </a:moveTo>
                  <a:lnTo>
                    <a:pt x="284" y="80"/>
                  </a:lnTo>
                  <a:lnTo>
                    <a:pt x="411" y="3"/>
                  </a:lnTo>
                  <a:lnTo>
                    <a:pt x="469" y="0"/>
                  </a:lnTo>
                  <a:lnTo>
                    <a:pt x="573" y="34"/>
                  </a:lnTo>
                  <a:lnTo>
                    <a:pt x="619" y="85"/>
                  </a:lnTo>
                  <a:lnTo>
                    <a:pt x="619" y="161"/>
                  </a:lnTo>
                  <a:lnTo>
                    <a:pt x="542" y="304"/>
                  </a:lnTo>
                  <a:lnTo>
                    <a:pt x="458" y="415"/>
                  </a:lnTo>
                  <a:lnTo>
                    <a:pt x="422" y="508"/>
                  </a:lnTo>
                  <a:lnTo>
                    <a:pt x="399" y="615"/>
                  </a:lnTo>
                  <a:lnTo>
                    <a:pt x="422" y="719"/>
                  </a:lnTo>
                  <a:lnTo>
                    <a:pt x="445" y="820"/>
                  </a:lnTo>
                  <a:lnTo>
                    <a:pt x="445" y="935"/>
                  </a:lnTo>
                  <a:lnTo>
                    <a:pt x="411" y="1005"/>
                  </a:lnTo>
                  <a:lnTo>
                    <a:pt x="334" y="1043"/>
                  </a:lnTo>
                  <a:lnTo>
                    <a:pt x="242" y="1085"/>
                  </a:lnTo>
                  <a:lnTo>
                    <a:pt x="157" y="1085"/>
                  </a:lnTo>
                  <a:lnTo>
                    <a:pt x="100" y="1054"/>
                  </a:lnTo>
                  <a:lnTo>
                    <a:pt x="23" y="927"/>
                  </a:lnTo>
                  <a:lnTo>
                    <a:pt x="0" y="797"/>
                  </a:lnTo>
                  <a:lnTo>
                    <a:pt x="8" y="628"/>
                  </a:lnTo>
                  <a:lnTo>
                    <a:pt x="65" y="415"/>
                  </a:lnTo>
                  <a:lnTo>
                    <a:pt x="123" y="277"/>
                  </a:lnTo>
                  <a:lnTo>
                    <a:pt x="208" y="1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 rot="19765200">
              <a:off x="3629520" y="6312960"/>
              <a:ext cx="276480" cy="176760"/>
            </a:xfrm>
            <a:custGeom>
              <a:avLst/>
              <a:gdLst/>
              <a:ahLst/>
              <a:rect l="l" t="t" r="r" b="b"/>
              <a:pathLst>
                <a:path w="782" h="808">
                  <a:moveTo>
                    <a:pt x="0" y="76"/>
                  </a:moveTo>
                  <a:lnTo>
                    <a:pt x="66" y="0"/>
                  </a:lnTo>
                  <a:lnTo>
                    <a:pt x="163" y="0"/>
                  </a:lnTo>
                  <a:lnTo>
                    <a:pt x="343" y="19"/>
                  </a:lnTo>
                  <a:lnTo>
                    <a:pt x="555" y="30"/>
                  </a:lnTo>
                  <a:lnTo>
                    <a:pt x="636" y="65"/>
                  </a:lnTo>
                  <a:lnTo>
                    <a:pt x="670" y="110"/>
                  </a:lnTo>
                  <a:lnTo>
                    <a:pt x="678" y="180"/>
                  </a:lnTo>
                  <a:lnTo>
                    <a:pt x="654" y="253"/>
                  </a:lnTo>
                  <a:lnTo>
                    <a:pt x="589" y="365"/>
                  </a:lnTo>
                  <a:lnTo>
                    <a:pt x="504" y="457"/>
                  </a:lnTo>
                  <a:lnTo>
                    <a:pt x="439" y="541"/>
                  </a:lnTo>
                  <a:lnTo>
                    <a:pt x="412" y="607"/>
                  </a:lnTo>
                  <a:lnTo>
                    <a:pt x="393" y="653"/>
                  </a:lnTo>
                  <a:lnTo>
                    <a:pt x="400" y="689"/>
                  </a:lnTo>
                  <a:lnTo>
                    <a:pt x="405" y="711"/>
                  </a:lnTo>
                  <a:lnTo>
                    <a:pt x="482" y="711"/>
                  </a:lnTo>
                  <a:lnTo>
                    <a:pt x="601" y="692"/>
                  </a:lnTo>
                  <a:lnTo>
                    <a:pt x="678" y="692"/>
                  </a:lnTo>
                  <a:lnTo>
                    <a:pt x="758" y="723"/>
                  </a:lnTo>
                  <a:lnTo>
                    <a:pt x="782" y="761"/>
                  </a:lnTo>
                  <a:lnTo>
                    <a:pt x="758" y="796"/>
                  </a:lnTo>
                  <a:lnTo>
                    <a:pt x="724" y="808"/>
                  </a:lnTo>
                  <a:lnTo>
                    <a:pt x="670" y="792"/>
                  </a:lnTo>
                  <a:lnTo>
                    <a:pt x="597" y="749"/>
                  </a:lnTo>
                  <a:lnTo>
                    <a:pt x="520" y="757"/>
                  </a:lnTo>
                  <a:lnTo>
                    <a:pt x="393" y="780"/>
                  </a:lnTo>
                  <a:lnTo>
                    <a:pt x="355" y="773"/>
                  </a:lnTo>
                  <a:lnTo>
                    <a:pt x="335" y="746"/>
                  </a:lnTo>
                  <a:lnTo>
                    <a:pt x="335" y="681"/>
                  </a:lnTo>
                  <a:lnTo>
                    <a:pt x="335" y="588"/>
                  </a:lnTo>
                  <a:lnTo>
                    <a:pt x="389" y="518"/>
                  </a:lnTo>
                  <a:lnTo>
                    <a:pt x="470" y="414"/>
                  </a:lnTo>
                  <a:lnTo>
                    <a:pt x="540" y="323"/>
                  </a:lnTo>
                  <a:lnTo>
                    <a:pt x="586" y="253"/>
                  </a:lnTo>
                  <a:lnTo>
                    <a:pt x="609" y="192"/>
                  </a:lnTo>
                  <a:lnTo>
                    <a:pt x="597" y="157"/>
                  </a:lnTo>
                  <a:lnTo>
                    <a:pt x="566" y="115"/>
                  </a:lnTo>
                  <a:lnTo>
                    <a:pt x="520" y="103"/>
                  </a:lnTo>
                  <a:lnTo>
                    <a:pt x="470" y="103"/>
                  </a:lnTo>
                  <a:lnTo>
                    <a:pt x="358" y="103"/>
                  </a:lnTo>
                  <a:lnTo>
                    <a:pt x="193" y="134"/>
                  </a:lnTo>
                  <a:lnTo>
                    <a:pt x="70" y="146"/>
                  </a:lnTo>
                  <a:lnTo>
                    <a:pt x="20" y="134"/>
                  </a:lnTo>
                  <a:lnTo>
                    <a:pt x="0" y="11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 rot="18349200">
              <a:off x="3296160" y="6499080"/>
              <a:ext cx="394920" cy="155880"/>
            </a:xfrm>
            <a:custGeom>
              <a:avLst/>
              <a:gdLst/>
              <a:ahLst/>
              <a:rect l="l" t="t" r="r" b="b"/>
              <a:pathLst>
                <a:path w="992" h="770">
                  <a:moveTo>
                    <a:pt x="808" y="320"/>
                  </a:moveTo>
                  <a:lnTo>
                    <a:pt x="823" y="219"/>
                  </a:lnTo>
                  <a:lnTo>
                    <a:pt x="881" y="181"/>
                  </a:lnTo>
                  <a:lnTo>
                    <a:pt x="950" y="174"/>
                  </a:lnTo>
                  <a:lnTo>
                    <a:pt x="992" y="219"/>
                  </a:lnTo>
                  <a:lnTo>
                    <a:pt x="973" y="308"/>
                  </a:lnTo>
                  <a:lnTo>
                    <a:pt x="935" y="427"/>
                  </a:lnTo>
                  <a:lnTo>
                    <a:pt x="857" y="562"/>
                  </a:lnTo>
                  <a:lnTo>
                    <a:pt x="761" y="677"/>
                  </a:lnTo>
                  <a:lnTo>
                    <a:pt x="681" y="739"/>
                  </a:lnTo>
                  <a:lnTo>
                    <a:pt x="592" y="770"/>
                  </a:lnTo>
                  <a:lnTo>
                    <a:pt x="507" y="759"/>
                  </a:lnTo>
                  <a:lnTo>
                    <a:pt x="442" y="723"/>
                  </a:lnTo>
                  <a:lnTo>
                    <a:pt x="419" y="666"/>
                  </a:lnTo>
                  <a:lnTo>
                    <a:pt x="392" y="566"/>
                  </a:lnTo>
                  <a:lnTo>
                    <a:pt x="361" y="382"/>
                  </a:lnTo>
                  <a:lnTo>
                    <a:pt x="338" y="254"/>
                  </a:lnTo>
                  <a:lnTo>
                    <a:pt x="338" y="104"/>
                  </a:lnTo>
                  <a:lnTo>
                    <a:pt x="323" y="78"/>
                  </a:lnTo>
                  <a:lnTo>
                    <a:pt x="277" y="70"/>
                  </a:lnTo>
                  <a:lnTo>
                    <a:pt x="223" y="112"/>
                  </a:lnTo>
                  <a:lnTo>
                    <a:pt x="173" y="181"/>
                  </a:lnTo>
                  <a:lnTo>
                    <a:pt x="115" y="219"/>
                  </a:lnTo>
                  <a:lnTo>
                    <a:pt x="27" y="219"/>
                  </a:lnTo>
                  <a:lnTo>
                    <a:pt x="0" y="196"/>
                  </a:lnTo>
                  <a:lnTo>
                    <a:pt x="0" y="158"/>
                  </a:lnTo>
                  <a:lnTo>
                    <a:pt x="39" y="123"/>
                  </a:lnTo>
                  <a:lnTo>
                    <a:pt x="81" y="135"/>
                  </a:lnTo>
                  <a:lnTo>
                    <a:pt x="119" y="127"/>
                  </a:lnTo>
                  <a:lnTo>
                    <a:pt x="189" y="78"/>
                  </a:lnTo>
                  <a:lnTo>
                    <a:pt x="257" y="23"/>
                  </a:lnTo>
                  <a:lnTo>
                    <a:pt x="323" y="8"/>
                  </a:lnTo>
                  <a:lnTo>
                    <a:pt x="415" y="0"/>
                  </a:lnTo>
                  <a:lnTo>
                    <a:pt x="419" y="42"/>
                  </a:lnTo>
                  <a:lnTo>
                    <a:pt x="397" y="89"/>
                  </a:lnTo>
                  <a:lnTo>
                    <a:pt x="392" y="208"/>
                  </a:lnTo>
                  <a:lnTo>
                    <a:pt x="419" y="366"/>
                  </a:lnTo>
                  <a:lnTo>
                    <a:pt x="462" y="520"/>
                  </a:lnTo>
                  <a:lnTo>
                    <a:pt x="499" y="612"/>
                  </a:lnTo>
                  <a:lnTo>
                    <a:pt x="558" y="655"/>
                  </a:lnTo>
                  <a:lnTo>
                    <a:pt x="615" y="655"/>
                  </a:lnTo>
                  <a:lnTo>
                    <a:pt x="673" y="612"/>
                  </a:lnTo>
                  <a:lnTo>
                    <a:pt x="750" y="515"/>
                  </a:lnTo>
                  <a:lnTo>
                    <a:pt x="800" y="377"/>
                  </a:lnTo>
                  <a:lnTo>
                    <a:pt x="808" y="3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 rot="19765200">
              <a:off x="3306240" y="6031800"/>
              <a:ext cx="161280" cy="286560"/>
            </a:xfrm>
            <a:custGeom>
              <a:avLst/>
              <a:gdLst/>
              <a:ahLst/>
              <a:rect l="l" t="t" r="r" b="b"/>
              <a:pathLst>
                <a:path w="699" h="1216">
                  <a:moveTo>
                    <a:pt x="445" y="923"/>
                  </a:moveTo>
                  <a:lnTo>
                    <a:pt x="560" y="1039"/>
                  </a:lnTo>
                  <a:lnTo>
                    <a:pt x="606" y="1039"/>
                  </a:lnTo>
                  <a:lnTo>
                    <a:pt x="684" y="1086"/>
                  </a:lnTo>
                  <a:lnTo>
                    <a:pt x="699" y="1139"/>
                  </a:lnTo>
                  <a:lnTo>
                    <a:pt x="676" y="1208"/>
                  </a:lnTo>
                  <a:lnTo>
                    <a:pt x="614" y="1216"/>
                  </a:lnTo>
                  <a:lnTo>
                    <a:pt x="537" y="1162"/>
                  </a:lnTo>
                  <a:lnTo>
                    <a:pt x="383" y="1016"/>
                  </a:lnTo>
                  <a:lnTo>
                    <a:pt x="284" y="878"/>
                  </a:lnTo>
                  <a:lnTo>
                    <a:pt x="237" y="769"/>
                  </a:lnTo>
                  <a:lnTo>
                    <a:pt x="206" y="585"/>
                  </a:lnTo>
                  <a:lnTo>
                    <a:pt x="206" y="346"/>
                  </a:lnTo>
                  <a:lnTo>
                    <a:pt x="198" y="285"/>
                  </a:lnTo>
                  <a:lnTo>
                    <a:pt x="153" y="239"/>
                  </a:lnTo>
                  <a:lnTo>
                    <a:pt x="22" y="247"/>
                  </a:lnTo>
                  <a:lnTo>
                    <a:pt x="0" y="223"/>
                  </a:lnTo>
                  <a:lnTo>
                    <a:pt x="29" y="208"/>
                  </a:lnTo>
                  <a:lnTo>
                    <a:pt x="122" y="200"/>
                  </a:lnTo>
                  <a:lnTo>
                    <a:pt x="138" y="185"/>
                  </a:lnTo>
                  <a:lnTo>
                    <a:pt x="6" y="107"/>
                  </a:lnTo>
                  <a:lnTo>
                    <a:pt x="6" y="77"/>
                  </a:lnTo>
                  <a:lnTo>
                    <a:pt x="29" y="70"/>
                  </a:lnTo>
                  <a:lnTo>
                    <a:pt x="138" y="130"/>
                  </a:lnTo>
                  <a:lnTo>
                    <a:pt x="161" y="123"/>
                  </a:lnTo>
                  <a:lnTo>
                    <a:pt x="138" y="8"/>
                  </a:lnTo>
                  <a:lnTo>
                    <a:pt x="153" y="0"/>
                  </a:lnTo>
                  <a:lnTo>
                    <a:pt x="169" y="8"/>
                  </a:lnTo>
                  <a:lnTo>
                    <a:pt x="198" y="123"/>
                  </a:lnTo>
                  <a:lnTo>
                    <a:pt x="222" y="130"/>
                  </a:lnTo>
                  <a:lnTo>
                    <a:pt x="284" y="8"/>
                  </a:lnTo>
                  <a:lnTo>
                    <a:pt x="299" y="8"/>
                  </a:lnTo>
                  <a:lnTo>
                    <a:pt x="299" y="46"/>
                  </a:lnTo>
                  <a:lnTo>
                    <a:pt x="260" y="146"/>
                  </a:lnTo>
                  <a:lnTo>
                    <a:pt x="260" y="200"/>
                  </a:lnTo>
                  <a:lnTo>
                    <a:pt x="276" y="270"/>
                  </a:lnTo>
                  <a:lnTo>
                    <a:pt x="268" y="361"/>
                  </a:lnTo>
                  <a:lnTo>
                    <a:pt x="276" y="531"/>
                  </a:lnTo>
                  <a:lnTo>
                    <a:pt x="291" y="639"/>
                  </a:lnTo>
                  <a:lnTo>
                    <a:pt x="330" y="762"/>
                  </a:lnTo>
                  <a:lnTo>
                    <a:pt x="383" y="855"/>
                  </a:lnTo>
                  <a:lnTo>
                    <a:pt x="445" y="9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rot="19765200">
              <a:off x="3468240" y="5941800"/>
              <a:ext cx="211320" cy="239400"/>
            </a:xfrm>
            <a:custGeom>
              <a:avLst/>
              <a:gdLst/>
              <a:ahLst/>
              <a:rect l="l" t="t" r="r" b="b"/>
              <a:pathLst>
                <a:path w="915" h="1139">
                  <a:moveTo>
                    <a:pt x="15" y="1008"/>
                  </a:moveTo>
                  <a:lnTo>
                    <a:pt x="0" y="1061"/>
                  </a:lnTo>
                  <a:lnTo>
                    <a:pt x="15" y="1139"/>
                  </a:lnTo>
                  <a:lnTo>
                    <a:pt x="70" y="1139"/>
                  </a:lnTo>
                  <a:lnTo>
                    <a:pt x="231" y="1108"/>
                  </a:lnTo>
                  <a:lnTo>
                    <a:pt x="408" y="1046"/>
                  </a:lnTo>
                  <a:lnTo>
                    <a:pt x="554" y="946"/>
                  </a:lnTo>
                  <a:lnTo>
                    <a:pt x="639" y="816"/>
                  </a:lnTo>
                  <a:lnTo>
                    <a:pt x="715" y="593"/>
                  </a:lnTo>
                  <a:lnTo>
                    <a:pt x="738" y="385"/>
                  </a:lnTo>
                  <a:lnTo>
                    <a:pt x="738" y="285"/>
                  </a:lnTo>
                  <a:lnTo>
                    <a:pt x="777" y="224"/>
                  </a:lnTo>
                  <a:lnTo>
                    <a:pt x="845" y="200"/>
                  </a:lnTo>
                  <a:lnTo>
                    <a:pt x="907" y="200"/>
                  </a:lnTo>
                  <a:lnTo>
                    <a:pt x="915" y="169"/>
                  </a:lnTo>
                  <a:lnTo>
                    <a:pt x="823" y="177"/>
                  </a:lnTo>
                  <a:lnTo>
                    <a:pt x="808" y="154"/>
                  </a:lnTo>
                  <a:lnTo>
                    <a:pt x="884" y="70"/>
                  </a:lnTo>
                  <a:lnTo>
                    <a:pt x="868" y="47"/>
                  </a:lnTo>
                  <a:lnTo>
                    <a:pt x="853" y="62"/>
                  </a:lnTo>
                  <a:lnTo>
                    <a:pt x="792" y="123"/>
                  </a:lnTo>
                  <a:lnTo>
                    <a:pt x="777" y="123"/>
                  </a:lnTo>
                  <a:lnTo>
                    <a:pt x="777" y="16"/>
                  </a:lnTo>
                  <a:lnTo>
                    <a:pt x="761" y="0"/>
                  </a:lnTo>
                  <a:lnTo>
                    <a:pt x="738" y="8"/>
                  </a:lnTo>
                  <a:lnTo>
                    <a:pt x="746" y="123"/>
                  </a:lnTo>
                  <a:lnTo>
                    <a:pt x="730" y="131"/>
                  </a:lnTo>
                  <a:lnTo>
                    <a:pt x="668" y="70"/>
                  </a:lnTo>
                  <a:lnTo>
                    <a:pt x="623" y="62"/>
                  </a:lnTo>
                  <a:lnTo>
                    <a:pt x="631" y="93"/>
                  </a:lnTo>
                  <a:lnTo>
                    <a:pt x="699" y="162"/>
                  </a:lnTo>
                  <a:lnTo>
                    <a:pt x="699" y="200"/>
                  </a:lnTo>
                  <a:lnTo>
                    <a:pt x="676" y="278"/>
                  </a:lnTo>
                  <a:lnTo>
                    <a:pt x="676" y="346"/>
                  </a:lnTo>
                  <a:lnTo>
                    <a:pt x="676" y="462"/>
                  </a:lnTo>
                  <a:lnTo>
                    <a:pt x="645" y="608"/>
                  </a:lnTo>
                  <a:lnTo>
                    <a:pt x="615" y="700"/>
                  </a:lnTo>
                  <a:lnTo>
                    <a:pt x="561" y="816"/>
                  </a:lnTo>
                  <a:lnTo>
                    <a:pt x="499" y="908"/>
                  </a:lnTo>
                  <a:lnTo>
                    <a:pt x="454" y="954"/>
                  </a:lnTo>
                  <a:lnTo>
                    <a:pt x="330" y="993"/>
                  </a:lnTo>
                  <a:lnTo>
                    <a:pt x="215" y="1008"/>
                  </a:lnTo>
                  <a:lnTo>
                    <a:pt x="99" y="1024"/>
                  </a:lnTo>
                  <a:lnTo>
                    <a:pt x="15" y="100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5" name=""/>
          <p:cNvSpPr/>
          <p:nvPr/>
        </p:nvSpPr>
        <p:spPr>
          <a:xfrm>
            <a:off x="1299240" y="1371600"/>
            <a:ext cx="243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unning time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1334160" y="1922400"/>
            <a:ext cx="627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each iteration you take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the biggest step possible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lg is poly tim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 number of node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nd number of bits in capaciti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each iteration you tak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path with the fewest ed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 is poly tim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number of n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0" dur="indefinite" restart="never" nodeType="tmRoot">
          <p:childTnLst>
            <p:seq>
              <p:cTn id="3111" dur="indefinite" nodeType="mainSeq">
                <p:childTnLst>
                  <p:par>
                    <p:cTn id="3112" fill="hold">
                      <p:stCondLst>
                        <p:cond delay="indefinite"/>
                      </p:stCondLst>
                      <p:childTnLst>
                        <p:par>
                          <p:cTn id="3113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2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7" dur="500" fill="hold"/>
                                        <p:tgtEl>
                                          <p:spTgt spid="2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8" fill="hold">
                      <p:stCondLst>
                        <p:cond delay="indefinite"/>
                      </p:stCondLst>
                      <p:childTnLst>
                        <p:par>
                          <p:cTn id="3119" fill="hold">
                            <p:stCondLst>
                              <p:cond delay="0"/>
                            </p:stCondLst>
                            <p:childTnLst>
                              <p:par>
                                <p:cTn id="3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2" dur="500" fill="hold"/>
                                        <p:tgtEl>
                                          <p:spTgt spid="2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3" dur="500" fill="hold"/>
                                        <p:tgtEl>
                                          <p:spTgt spid="2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4" fill="hold">
                      <p:stCondLst>
                        <p:cond delay="indefinite"/>
                      </p:stCondLst>
                      <p:childTnLst>
                        <p:par>
                          <p:cTn id="3125" fill="hold">
                            <p:stCondLst>
                              <p:cond delay="0"/>
                            </p:stCondLst>
                            <p:childTnLst>
                              <p:par>
                                <p:cTn id="3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8" dur="500" fill="hold"/>
                                        <p:tgtEl>
                                          <p:spTgt spid="2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9" dur="500" fill="hold"/>
                                        <p:tgtEl>
                                          <p:spTgt spid="2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0" fill="hold">
                      <p:stCondLst>
                        <p:cond delay="indefinite"/>
                      </p:stCondLst>
                      <p:childTnLst>
                        <p:par>
                          <p:cTn id="3131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4" dur="500" fill="hold"/>
                                        <p:tgtEl>
                                          <p:spTgt spid="2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5" dur="500" fill="hold"/>
                                        <p:tgtEl>
                                          <p:spTgt spid="2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6" fill="hold">
                      <p:stCondLst>
                        <p:cond delay="indefinite"/>
                      </p:stCondLst>
                      <p:childTnLst>
                        <p:par>
                          <p:cTn id="3137" fill="hold">
                            <p:stCondLst>
                              <p:cond delay="0"/>
                            </p:stCondLst>
                            <p:childTnLst>
                              <p:par>
                                <p:cTn id="313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22222E-006 L 0.3283 -0.47222 E">
                                      <p:cBhvr>
                                        <p:cTn id="3139" dur="2000" fill="hold"/>
                                        <p:tgtEl>
                                          <p:spTgt spid="2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4" dur="500" fill="hold"/>
                                        <p:tgtEl>
                                          <p:spTgt spid="2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5" dur="500" fill="hold"/>
                                        <p:tgtEl>
                                          <p:spTgt spid="2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6" fill="hold">
                      <p:stCondLst>
                        <p:cond delay="indefinite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2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2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2" fill="hold">
                      <p:stCondLst>
                        <p:cond delay="indefinite"/>
                      </p:stCondLst>
                      <p:childTnLst>
                        <p:par>
                          <p:cTn id="3153" fill="hold">
                            <p:stCondLst>
                              <p:cond delay="0"/>
                            </p:stCondLst>
                            <p:childTnLst>
                              <p:par>
                                <p:cTn id="3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2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2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7" name="" descr=""/>
          <p:cNvPicPr/>
          <p:nvPr/>
        </p:nvPicPr>
        <p:blipFill>
          <a:blip r:embed="rId1"/>
          <a:stretch/>
        </p:blipFill>
        <p:spPr>
          <a:xfrm>
            <a:off x="1725480" y="954000"/>
            <a:ext cx="5693040" cy="4950000"/>
          </a:xfrm>
          <a:prstGeom prst="rect">
            <a:avLst/>
          </a:prstGeom>
          <a:ln w="0">
            <a:noFill/>
          </a:ln>
        </p:spPr>
      </p:pic>
      <p:sp>
        <p:nvSpPr>
          <p:cNvPr id="2408" name=""/>
          <p:cNvSpPr/>
          <p:nvPr/>
        </p:nvSpPr>
        <p:spPr>
          <a:xfrm>
            <a:off x="2201040" y="228600"/>
            <a:ext cx="47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ing the biggest step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10" name="" descr=""/>
          <p:cNvPicPr/>
          <p:nvPr/>
        </p:nvPicPr>
        <p:blipFill>
          <a:blip r:embed="rId1"/>
          <a:stretch/>
        </p:blipFill>
        <p:spPr>
          <a:xfrm>
            <a:off x="1755720" y="1143000"/>
            <a:ext cx="563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Hotdog Probl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12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2884320" cy="2295360"/>
          </a:xfrm>
          <a:prstGeom prst="rect">
            <a:avLst/>
          </a:prstGeom>
          <a:ln w="0">
            <a:noFill/>
          </a:ln>
        </p:spPr>
      </p:pic>
      <p:sp>
        <p:nvSpPr>
          <p:cNvPr id="2413" name=""/>
          <p:cNvSpPr/>
          <p:nvPr/>
        </p:nvSpPr>
        <p:spPr>
          <a:xfrm>
            <a:off x="3733920" y="260676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n today’s prices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fast algorithm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find the cheapest hotdo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"/>
          <p:cNvSpPr/>
          <p:nvPr/>
        </p:nvSpPr>
        <p:spPr>
          <a:xfrm>
            <a:off x="304920" y="-7632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stract Out Essential Detail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287520" y="2674800"/>
            <a:ext cx="28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t: 29, 8, 1,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1023840" y="490680"/>
            <a:ext cx="6373440" cy="2296440"/>
            <a:chOff x="1023840" y="490680"/>
            <a:chExt cx="6373440" cy="2296440"/>
          </a:xfrm>
        </p:grpSpPr>
        <p:sp>
          <p:nvSpPr>
            <p:cNvPr id="2417" name=""/>
            <p:cNvSpPr/>
            <p:nvPr/>
          </p:nvSpPr>
          <p:spPr>
            <a:xfrm>
              <a:off x="1023840" y="2050920"/>
              <a:ext cx="505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mount to add:    x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,  x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,  x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,  x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 rot="18243600">
              <a:off x="3361680" y="1518120"/>
              <a:ext cx="208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por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rot="18243600">
              <a:off x="4047480" y="1441800"/>
              <a:ext cx="208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grai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rot="18243600">
              <a:off x="4795200" y="1441800"/>
              <a:ext cx="208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wa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rot="18243600">
              <a:off x="5556960" y="1238760"/>
              <a:ext cx="208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awdus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1447920" y="4275000"/>
            <a:ext cx="6656040" cy="1821240"/>
            <a:chOff x="1447920" y="4275000"/>
            <a:chExt cx="6656040" cy="1821240"/>
          </a:xfrm>
        </p:grpSpPr>
        <p:sp>
          <p:nvSpPr>
            <p:cNvPr id="2423" name=""/>
            <p:cNvSpPr/>
            <p:nvPr/>
          </p:nvSpPr>
          <p:spPr>
            <a:xfrm>
              <a:off x="3965400" y="4275000"/>
              <a:ext cx="413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3x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+ 4x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– 7x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+ 8x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³ 1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956040" y="4656240"/>
              <a:ext cx="3998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2x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- 8x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+ 4x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- 3x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³ 2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3815280" y="5037120"/>
              <a:ext cx="417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-8x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+ 2x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– 3x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- 9x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³   8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193280" y="5418000"/>
              <a:ext cx="390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+ 2x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+ 9x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- 3x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³ 3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447920" y="4295880"/>
              <a:ext cx="3352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onstraints: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oistur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protean,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8" name=""/>
          <p:cNvGrpSpPr/>
          <p:nvPr/>
        </p:nvGrpSpPr>
        <p:grpSpPr>
          <a:xfrm>
            <a:off x="1036800" y="3346560"/>
            <a:ext cx="6422400" cy="593640"/>
            <a:chOff x="1036800" y="3346560"/>
            <a:chExt cx="6422400" cy="593640"/>
          </a:xfrm>
        </p:grpSpPr>
        <p:sp>
          <p:nvSpPr>
            <p:cNvPr id="2429" name=""/>
            <p:cNvSpPr/>
            <p:nvPr/>
          </p:nvSpPr>
          <p:spPr>
            <a:xfrm>
              <a:off x="3761280" y="3360600"/>
              <a:ext cx="3697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29x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+ 8x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+ 1x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+ 2x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1036800" y="334656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ost of Hotdog: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31" name="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2841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8" dur="indefinite" restart="never" nodeType="tmRoot">
          <p:childTnLst>
            <p:seq>
              <p:cTn id="3159" dur="indefinite" nodeType="mainSeq">
                <p:childTnLst>
                  <p:par>
                    <p:cTn id="3160" fill="hold">
                      <p:stCondLst>
                        <p:cond delay="indefinite"/>
                      </p:stCondLst>
                      <p:childTnLst>
                        <p:par>
                          <p:cTn id="3161" fill="hold">
                            <p:stCondLst>
                              <p:cond delay="0"/>
                            </p:stCondLst>
                            <p:childTnLst>
                              <p:par>
                                <p:cTn id="3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4" dur="500" fill="hold"/>
                                        <p:tgtEl>
                                          <p:spTgt spid="2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5" dur="500" fill="hold"/>
                                        <p:tgtEl>
                                          <p:spTgt spid="2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6" fill="hold">
                      <p:stCondLst>
                        <p:cond delay="indefinite"/>
                      </p:stCondLst>
                      <p:childTnLst>
                        <p:par>
                          <p:cTn id="3167" fill="hold">
                            <p:stCondLst>
                              <p:cond delay="0"/>
                            </p:stCondLst>
                            <p:childTnLst>
                              <p:par>
                                <p:cTn id="3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0" dur="500" fill="hold"/>
                                        <p:tgtEl>
                                          <p:spTgt spid="2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1" dur="500" fill="hold"/>
                                        <p:tgtEl>
                                          <p:spTgt spid="2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2" fill="hold">
                      <p:stCondLst>
                        <p:cond delay="indefinite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8" fill="hold">
                      <p:stCondLst>
                        <p:cond delay="indefinite"/>
                      </p:stCondLst>
                      <p:childTnLst>
                        <p:par>
                          <p:cTn id="3179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3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"/>
          <p:cNvSpPr/>
          <p:nvPr/>
        </p:nvSpPr>
        <p:spPr>
          <a:xfrm>
            <a:off x="3965400" y="4275000"/>
            <a:ext cx="413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4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7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8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³ 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3956040" y="4656240"/>
            <a:ext cx="399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8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4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3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³ 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3815280" y="5037120"/>
            <a:ext cx="41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8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2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3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9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³   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4193280" y="5418000"/>
            <a:ext cx="390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2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9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3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³ 3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3761280" y="3360600"/>
            <a:ext cx="369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9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8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1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2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1490760" y="42670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ject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1778760" y="3346560"/>
            <a:ext cx="20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304920" y="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stract Out Essential Detail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 Fast Algorithm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3530520" y="1752480"/>
            <a:ext cx="591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decades people thought that there was no fast algorith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2" name=""/>
          <p:cNvGrpSpPr/>
          <p:nvPr/>
        </p:nvGrpSpPr>
        <p:grpSpPr>
          <a:xfrm>
            <a:off x="814320" y="1820880"/>
            <a:ext cx="2005200" cy="1608120"/>
            <a:chOff x="814320" y="1820880"/>
            <a:chExt cx="2005200" cy="1608120"/>
          </a:xfrm>
        </p:grpSpPr>
        <p:sp>
          <p:nvSpPr>
            <p:cNvPr id="2443" name=""/>
            <p:cNvSpPr/>
            <p:nvPr/>
          </p:nvSpPr>
          <p:spPr>
            <a:xfrm>
              <a:off x="1226880" y="1820880"/>
              <a:ext cx="1331280" cy="1608120"/>
            </a:xfrm>
            <a:custGeom>
              <a:avLst/>
              <a:gdLst/>
              <a:ahLst/>
              <a:rect l="l" t="t" r="r" b="b"/>
              <a:pathLst>
                <a:path w="2394" h="2892">
                  <a:moveTo>
                    <a:pt x="1813" y="2621"/>
                  </a:moveTo>
                  <a:lnTo>
                    <a:pt x="2394" y="814"/>
                  </a:lnTo>
                  <a:lnTo>
                    <a:pt x="33" y="0"/>
                  </a:lnTo>
                  <a:lnTo>
                    <a:pt x="0" y="2892"/>
                  </a:lnTo>
                  <a:lnTo>
                    <a:pt x="1813" y="2621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814320" y="2227680"/>
              <a:ext cx="2005200" cy="876240"/>
            </a:xfrm>
            <a:custGeom>
              <a:avLst/>
              <a:gdLst/>
              <a:ahLst/>
              <a:rect l="l" t="t" r="r" b="b"/>
              <a:pathLst>
                <a:path w="3605" h="1576">
                  <a:moveTo>
                    <a:pt x="736" y="84"/>
                  </a:moveTo>
                  <a:lnTo>
                    <a:pt x="756" y="73"/>
                  </a:lnTo>
                  <a:lnTo>
                    <a:pt x="778" y="62"/>
                  </a:lnTo>
                  <a:lnTo>
                    <a:pt x="800" y="55"/>
                  </a:lnTo>
                  <a:lnTo>
                    <a:pt x="823" y="47"/>
                  </a:lnTo>
                  <a:lnTo>
                    <a:pt x="845" y="42"/>
                  </a:lnTo>
                  <a:lnTo>
                    <a:pt x="869" y="36"/>
                  </a:lnTo>
                  <a:lnTo>
                    <a:pt x="891" y="31"/>
                  </a:lnTo>
                  <a:lnTo>
                    <a:pt x="915" y="27"/>
                  </a:lnTo>
                  <a:lnTo>
                    <a:pt x="920" y="25"/>
                  </a:lnTo>
                  <a:lnTo>
                    <a:pt x="924" y="27"/>
                  </a:lnTo>
                  <a:lnTo>
                    <a:pt x="930" y="27"/>
                  </a:lnTo>
                  <a:lnTo>
                    <a:pt x="933" y="23"/>
                  </a:lnTo>
                  <a:lnTo>
                    <a:pt x="955" y="20"/>
                  </a:lnTo>
                  <a:lnTo>
                    <a:pt x="979" y="18"/>
                  </a:lnTo>
                  <a:lnTo>
                    <a:pt x="1001" y="16"/>
                  </a:lnTo>
                  <a:lnTo>
                    <a:pt x="1025" y="16"/>
                  </a:lnTo>
                  <a:lnTo>
                    <a:pt x="1048" y="16"/>
                  </a:lnTo>
                  <a:lnTo>
                    <a:pt x="1072" y="18"/>
                  </a:lnTo>
                  <a:lnTo>
                    <a:pt x="1094" y="20"/>
                  </a:lnTo>
                  <a:lnTo>
                    <a:pt x="1118" y="22"/>
                  </a:lnTo>
                  <a:lnTo>
                    <a:pt x="1142" y="25"/>
                  </a:lnTo>
                  <a:lnTo>
                    <a:pt x="1165" y="29"/>
                  </a:lnTo>
                  <a:lnTo>
                    <a:pt x="1189" y="33"/>
                  </a:lnTo>
                  <a:lnTo>
                    <a:pt x="1211" y="36"/>
                  </a:lnTo>
                  <a:lnTo>
                    <a:pt x="1235" y="40"/>
                  </a:lnTo>
                  <a:lnTo>
                    <a:pt x="1257" y="44"/>
                  </a:lnTo>
                  <a:lnTo>
                    <a:pt x="1279" y="49"/>
                  </a:lnTo>
                  <a:lnTo>
                    <a:pt x="1301" y="53"/>
                  </a:lnTo>
                  <a:lnTo>
                    <a:pt x="1326" y="58"/>
                  </a:lnTo>
                  <a:lnTo>
                    <a:pt x="1354" y="66"/>
                  </a:lnTo>
                  <a:lnTo>
                    <a:pt x="1379" y="73"/>
                  </a:lnTo>
                  <a:lnTo>
                    <a:pt x="1403" y="84"/>
                  </a:lnTo>
                  <a:lnTo>
                    <a:pt x="1429" y="93"/>
                  </a:lnTo>
                  <a:lnTo>
                    <a:pt x="1453" y="104"/>
                  </a:lnTo>
                  <a:lnTo>
                    <a:pt x="1476" y="117"/>
                  </a:lnTo>
                  <a:lnTo>
                    <a:pt x="1500" y="128"/>
                  </a:lnTo>
                  <a:lnTo>
                    <a:pt x="1524" y="141"/>
                  </a:lnTo>
                  <a:lnTo>
                    <a:pt x="1548" y="153"/>
                  </a:lnTo>
                  <a:lnTo>
                    <a:pt x="1571" y="166"/>
                  </a:lnTo>
                  <a:lnTo>
                    <a:pt x="1595" y="179"/>
                  </a:lnTo>
                  <a:lnTo>
                    <a:pt x="1619" y="192"/>
                  </a:lnTo>
                  <a:lnTo>
                    <a:pt x="1643" y="203"/>
                  </a:lnTo>
                  <a:lnTo>
                    <a:pt x="1668" y="214"/>
                  </a:lnTo>
                  <a:lnTo>
                    <a:pt x="1692" y="225"/>
                  </a:lnTo>
                  <a:lnTo>
                    <a:pt x="1720" y="236"/>
                  </a:lnTo>
                  <a:lnTo>
                    <a:pt x="1749" y="247"/>
                  </a:lnTo>
                  <a:lnTo>
                    <a:pt x="1776" y="258"/>
                  </a:lnTo>
                  <a:lnTo>
                    <a:pt x="1806" y="269"/>
                  </a:lnTo>
                  <a:lnTo>
                    <a:pt x="1835" y="278"/>
                  </a:lnTo>
                  <a:lnTo>
                    <a:pt x="1864" y="289"/>
                  </a:lnTo>
                  <a:lnTo>
                    <a:pt x="1892" y="298"/>
                  </a:lnTo>
                  <a:lnTo>
                    <a:pt x="1921" y="309"/>
                  </a:lnTo>
                  <a:lnTo>
                    <a:pt x="1943" y="316"/>
                  </a:lnTo>
                  <a:lnTo>
                    <a:pt x="1965" y="322"/>
                  </a:lnTo>
                  <a:lnTo>
                    <a:pt x="1988" y="327"/>
                  </a:lnTo>
                  <a:lnTo>
                    <a:pt x="2010" y="333"/>
                  </a:lnTo>
                  <a:lnTo>
                    <a:pt x="2034" y="338"/>
                  </a:lnTo>
                  <a:lnTo>
                    <a:pt x="2058" y="342"/>
                  </a:lnTo>
                  <a:lnTo>
                    <a:pt x="2082" y="345"/>
                  </a:lnTo>
                  <a:lnTo>
                    <a:pt x="2106" y="349"/>
                  </a:lnTo>
                  <a:lnTo>
                    <a:pt x="2129" y="353"/>
                  </a:lnTo>
                  <a:lnTo>
                    <a:pt x="2153" y="356"/>
                  </a:lnTo>
                  <a:lnTo>
                    <a:pt x="2177" y="360"/>
                  </a:lnTo>
                  <a:lnTo>
                    <a:pt x="2202" y="364"/>
                  </a:lnTo>
                  <a:lnTo>
                    <a:pt x="2226" y="366"/>
                  </a:lnTo>
                  <a:lnTo>
                    <a:pt x="2250" y="369"/>
                  </a:lnTo>
                  <a:lnTo>
                    <a:pt x="2276" y="371"/>
                  </a:lnTo>
                  <a:lnTo>
                    <a:pt x="2299" y="375"/>
                  </a:lnTo>
                  <a:lnTo>
                    <a:pt x="2340" y="380"/>
                  </a:lnTo>
                  <a:lnTo>
                    <a:pt x="2378" y="384"/>
                  </a:lnTo>
                  <a:lnTo>
                    <a:pt x="2418" y="387"/>
                  </a:lnTo>
                  <a:lnTo>
                    <a:pt x="2458" y="393"/>
                  </a:lnTo>
                  <a:lnTo>
                    <a:pt x="2497" y="398"/>
                  </a:lnTo>
                  <a:lnTo>
                    <a:pt x="2537" y="402"/>
                  </a:lnTo>
                  <a:lnTo>
                    <a:pt x="2576" y="409"/>
                  </a:lnTo>
                  <a:lnTo>
                    <a:pt x="2614" y="415"/>
                  </a:lnTo>
                  <a:lnTo>
                    <a:pt x="2652" y="424"/>
                  </a:lnTo>
                  <a:lnTo>
                    <a:pt x="2691" y="431"/>
                  </a:lnTo>
                  <a:lnTo>
                    <a:pt x="2729" y="442"/>
                  </a:lnTo>
                  <a:lnTo>
                    <a:pt x="2766" y="453"/>
                  </a:lnTo>
                  <a:lnTo>
                    <a:pt x="2804" y="466"/>
                  </a:lnTo>
                  <a:lnTo>
                    <a:pt x="2839" y="481"/>
                  </a:lnTo>
                  <a:lnTo>
                    <a:pt x="2875" y="497"/>
                  </a:lnTo>
                  <a:lnTo>
                    <a:pt x="2910" y="516"/>
                  </a:lnTo>
                  <a:lnTo>
                    <a:pt x="2938" y="532"/>
                  </a:lnTo>
                  <a:lnTo>
                    <a:pt x="2961" y="552"/>
                  </a:lnTo>
                  <a:lnTo>
                    <a:pt x="2983" y="574"/>
                  </a:lnTo>
                  <a:lnTo>
                    <a:pt x="3002" y="598"/>
                  </a:lnTo>
                  <a:lnTo>
                    <a:pt x="3020" y="623"/>
                  </a:lnTo>
                  <a:lnTo>
                    <a:pt x="3035" y="651"/>
                  </a:lnTo>
                  <a:lnTo>
                    <a:pt x="3049" y="677"/>
                  </a:lnTo>
                  <a:lnTo>
                    <a:pt x="3062" y="704"/>
                  </a:lnTo>
                  <a:lnTo>
                    <a:pt x="3062" y="715"/>
                  </a:lnTo>
                  <a:lnTo>
                    <a:pt x="3062" y="724"/>
                  </a:lnTo>
                  <a:lnTo>
                    <a:pt x="3062" y="735"/>
                  </a:lnTo>
                  <a:lnTo>
                    <a:pt x="3068" y="744"/>
                  </a:lnTo>
                  <a:lnTo>
                    <a:pt x="3099" y="755"/>
                  </a:lnTo>
                  <a:lnTo>
                    <a:pt x="3130" y="766"/>
                  </a:lnTo>
                  <a:lnTo>
                    <a:pt x="3163" y="775"/>
                  </a:lnTo>
                  <a:lnTo>
                    <a:pt x="3194" y="784"/>
                  </a:lnTo>
                  <a:lnTo>
                    <a:pt x="3227" y="794"/>
                  </a:lnTo>
                  <a:lnTo>
                    <a:pt x="3258" y="801"/>
                  </a:lnTo>
                  <a:lnTo>
                    <a:pt x="3289" y="812"/>
                  </a:lnTo>
                  <a:lnTo>
                    <a:pt x="3322" y="821"/>
                  </a:lnTo>
                  <a:lnTo>
                    <a:pt x="3353" y="832"/>
                  </a:lnTo>
                  <a:lnTo>
                    <a:pt x="3384" y="843"/>
                  </a:lnTo>
                  <a:lnTo>
                    <a:pt x="3413" y="858"/>
                  </a:lnTo>
                  <a:lnTo>
                    <a:pt x="3442" y="872"/>
                  </a:lnTo>
                  <a:lnTo>
                    <a:pt x="3472" y="889"/>
                  </a:lnTo>
                  <a:lnTo>
                    <a:pt x="3499" y="907"/>
                  </a:lnTo>
                  <a:lnTo>
                    <a:pt x="3525" y="929"/>
                  </a:lnTo>
                  <a:lnTo>
                    <a:pt x="3550" y="953"/>
                  </a:lnTo>
                  <a:lnTo>
                    <a:pt x="3565" y="969"/>
                  </a:lnTo>
                  <a:lnTo>
                    <a:pt x="3580" y="989"/>
                  </a:lnTo>
                  <a:lnTo>
                    <a:pt x="3591" y="1009"/>
                  </a:lnTo>
                  <a:lnTo>
                    <a:pt x="3598" y="1031"/>
                  </a:lnTo>
                  <a:lnTo>
                    <a:pt x="3603" y="1053"/>
                  </a:lnTo>
                  <a:lnTo>
                    <a:pt x="3605" y="1075"/>
                  </a:lnTo>
                  <a:lnTo>
                    <a:pt x="3603" y="1099"/>
                  </a:lnTo>
                  <a:lnTo>
                    <a:pt x="3598" y="1121"/>
                  </a:lnTo>
                  <a:lnTo>
                    <a:pt x="3598" y="1139"/>
                  </a:lnTo>
                  <a:lnTo>
                    <a:pt x="3596" y="1156"/>
                  </a:lnTo>
                  <a:lnTo>
                    <a:pt x="3591" y="1172"/>
                  </a:lnTo>
                  <a:lnTo>
                    <a:pt x="3583" y="1187"/>
                  </a:lnTo>
                  <a:lnTo>
                    <a:pt x="3574" y="1203"/>
                  </a:lnTo>
                  <a:lnTo>
                    <a:pt x="3567" y="1218"/>
                  </a:lnTo>
                  <a:lnTo>
                    <a:pt x="3558" y="1234"/>
                  </a:lnTo>
                  <a:lnTo>
                    <a:pt x="3549" y="1249"/>
                  </a:lnTo>
                  <a:lnTo>
                    <a:pt x="3538" y="1264"/>
                  </a:lnTo>
                  <a:lnTo>
                    <a:pt x="3525" y="1276"/>
                  </a:lnTo>
                  <a:lnTo>
                    <a:pt x="3512" y="1289"/>
                  </a:lnTo>
                  <a:lnTo>
                    <a:pt x="3497" y="1300"/>
                  </a:lnTo>
                  <a:lnTo>
                    <a:pt x="3486" y="1306"/>
                  </a:lnTo>
                  <a:lnTo>
                    <a:pt x="3477" y="1313"/>
                  </a:lnTo>
                  <a:lnTo>
                    <a:pt x="3466" y="1319"/>
                  </a:lnTo>
                  <a:lnTo>
                    <a:pt x="3457" y="1326"/>
                  </a:lnTo>
                  <a:lnTo>
                    <a:pt x="3448" y="1331"/>
                  </a:lnTo>
                  <a:lnTo>
                    <a:pt x="3437" y="1335"/>
                  </a:lnTo>
                  <a:lnTo>
                    <a:pt x="3426" y="1339"/>
                  </a:lnTo>
                  <a:lnTo>
                    <a:pt x="3413" y="1341"/>
                  </a:lnTo>
                  <a:lnTo>
                    <a:pt x="3389" y="1342"/>
                  </a:lnTo>
                  <a:lnTo>
                    <a:pt x="3366" y="1341"/>
                  </a:lnTo>
                  <a:lnTo>
                    <a:pt x="3342" y="1339"/>
                  </a:lnTo>
                  <a:lnTo>
                    <a:pt x="3318" y="1335"/>
                  </a:lnTo>
                  <a:lnTo>
                    <a:pt x="3294" y="1330"/>
                  </a:lnTo>
                  <a:lnTo>
                    <a:pt x="3271" y="1324"/>
                  </a:lnTo>
                  <a:lnTo>
                    <a:pt x="3247" y="1319"/>
                  </a:lnTo>
                  <a:lnTo>
                    <a:pt x="3225" y="1313"/>
                  </a:lnTo>
                  <a:lnTo>
                    <a:pt x="3201" y="1308"/>
                  </a:lnTo>
                  <a:lnTo>
                    <a:pt x="3179" y="1298"/>
                  </a:lnTo>
                  <a:lnTo>
                    <a:pt x="3157" y="1289"/>
                  </a:lnTo>
                  <a:lnTo>
                    <a:pt x="3135" y="1280"/>
                  </a:lnTo>
                  <a:lnTo>
                    <a:pt x="3113" y="1271"/>
                  </a:lnTo>
                  <a:lnTo>
                    <a:pt x="3093" y="1260"/>
                  </a:lnTo>
                  <a:lnTo>
                    <a:pt x="3071" y="1251"/>
                  </a:lnTo>
                  <a:lnTo>
                    <a:pt x="3049" y="1244"/>
                  </a:lnTo>
                  <a:lnTo>
                    <a:pt x="3040" y="1273"/>
                  </a:lnTo>
                  <a:lnTo>
                    <a:pt x="3033" y="1300"/>
                  </a:lnTo>
                  <a:lnTo>
                    <a:pt x="3024" y="1328"/>
                  </a:lnTo>
                  <a:lnTo>
                    <a:pt x="3013" y="1353"/>
                  </a:lnTo>
                  <a:lnTo>
                    <a:pt x="3005" y="1362"/>
                  </a:lnTo>
                  <a:lnTo>
                    <a:pt x="2996" y="1373"/>
                  </a:lnTo>
                  <a:lnTo>
                    <a:pt x="2989" y="1384"/>
                  </a:lnTo>
                  <a:lnTo>
                    <a:pt x="2982" y="1394"/>
                  </a:lnTo>
                  <a:lnTo>
                    <a:pt x="2972" y="1405"/>
                  </a:lnTo>
                  <a:lnTo>
                    <a:pt x="2963" y="1414"/>
                  </a:lnTo>
                  <a:lnTo>
                    <a:pt x="2952" y="1423"/>
                  </a:lnTo>
                  <a:lnTo>
                    <a:pt x="2941" y="1430"/>
                  </a:lnTo>
                  <a:lnTo>
                    <a:pt x="2929" y="1443"/>
                  </a:lnTo>
                  <a:lnTo>
                    <a:pt x="2916" y="1454"/>
                  </a:lnTo>
                  <a:lnTo>
                    <a:pt x="2901" y="1463"/>
                  </a:lnTo>
                  <a:lnTo>
                    <a:pt x="2886" y="1470"/>
                  </a:lnTo>
                  <a:lnTo>
                    <a:pt x="2872" y="1478"/>
                  </a:lnTo>
                  <a:lnTo>
                    <a:pt x="2855" y="1485"/>
                  </a:lnTo>
                  <a:lnTo>
                    <a:pt x="2839" y="1491"/>
                  </a:lnTo>
                  <a:lnTo>
                    <a:pt x="2822" y="1496"/>
                  </a:lnTo>
                  <a:lnTo>
                    <a:pt x="2800" y="1503"/>
                  </a:lnTo>
                  <a:lnTo>
                    <a:pt x="2779" y="1511"/>
                  </a:lnTo>
                  <a:lnTo>
                    <a:pt x="2757" y="1518"/>
                  </a:lnTo>
                  <a:lnTo>
                    <a:pt x="2735" y="1525"/>
                  </a:lnTo>
                  <a:lnTo>
                    <a:pt x="2713" y="1533"/>
                  </a:lnTo>
                  <a:lnTo>
                    <a:pt x="2691" y="1540"/>
                  </a:lnTo>
                  <a:lnTo>
                    <a:pt x="2669" y="1545"/>
                  </a:lnTo>
                  <a:lnTo>
                    <a:pt x="2647" y="1553"/>
                  </a:lnTo>
                  <a:lnTo>
                    <a:pt x="2623" y="1558"/>
                  </a:lnTo>
                  <a:lnTo>
                    <a:pt x="2601" y="1562"/>
                  </a:lnTo>
                  <a:lnTo>
                    <a:pt x="2577" y="1566"/>
                  </a:lnTo>
                  <a:lnTo>
                    <a:pt x="2554" y="1569"/>
                  </a:lnTo>
                  <a:lnTo>
                    <a:pt x="2530" y="1571"/>
                  </a:lnTo>
                  <a:lnTo>
                    <a:pt x="2506" y="1573"/>
                  </a:lnTo>
                  <a:lnTo>
                    <a:pt x="2482" y="1573"/>
                  </a:lnTo>
                  <a:lnTo>
                    <a:pt x="2458" y="1571"/>
                  </a:lnTo>
                  <a:lnTo>
                    <a:pt x="2440" y="1571"/>
                  </a:lnTo>
                  <a:lnTo>
                    <a:pt x="2422" y="1571"/>
                  </a:lnTo>
                  <a:lnTo>
                    <a:pt x="2404" y="1571"/>
                  </a:lnTo>
                  <a:lnTo>
                    <a:pt x="2387" y="1571"/>
                  </a:lnTo>
                  <a:lnTo>
                    <a:pt x="2369" y="1571"/>
                  </a:lnTo>
                  <a:lnTo>
                    <a:pt x="2351" y="1571"/>
                  </a:lnTo>
                  <a:lnTo>
                    <a:pt x="2332" y="1571"/>
                  </a:lnTo>
                  <a:lnTo>
                    <a:pt x="2314" y="1573"/>
                  </a:lnTo>
                  <a:lnTo>
                    <a:pt x="2296" y="1573"/>
                  </a:lnTo>
                  <a:lnTo>
                    <a:pt x="2277" y="1575"/>
                  </a:lnTo>
                  <a:lnTo>
                    <a:pt x="2259" y="1575"/>
                  </a:lnTo>
                  <a:lnTo>
                    <a:pt x="2241" y="1575"/>
                  </a:lnTo>
                  <a:lnTo>
                    <a:pt x="2223" y="1576"/>
                  </a:lnTo>
                  <a:lnTo>
                    <a:pt x="2204" y="1576"/>
                  </a:lnTo>
                  <a:lnTo>
                    <a:pt x="2184" y="1576"/>
                  </a:lnTo>
                  <a:lnTo>
                    <a:pt x="2166" y="1576"/>
                  </a:lnTo>
                  <a:lnTo>
                    <a:pt x="2127" y="1576"/>
                  </a:lnTo>
                  <a:lnTo>
                    <a:pt x="2089" y="1576"/>
                  </a:lnTo>
                  <a:lnTo>
                    <a:pt x="2054" y="1576"/>
                  </a:lnTo>
                  <a:lnTo>
                    <a:pt x="2018" y="1576"/>
                  </a:lnTo>
                  <a:lnTo>
                    <a:pt x="1983" y="1576"/>
                  </a:lnTo>
                  <a:lnTo>
                    <a:pt x="1948" y="1575"/>
                  </a:lnTo>
                  <a:lnTo>
                    <a:pt x="1912" y="1573"/>
                  </a:lnTo>
                  <a:lnTo>
                    <a:pt x="1875" y="1569"/>
                  </a:lnTo>
                  <a:lnTo>
                    <a:pt x="1844" y="1566"/>
                  </a:lnTo>
                  <a:lnTo>
                    <a:pt x="1813" y="1560"/>
                  </a:lnTo>
                  <a:lnTo>
                    <a:pt x="1784" y="1556"/>
                  </a:lnTo>
                  <a:lnTo>
                    <a:pt x="1753" y="1551"/>
                  </a:lnTo>
                  <a:lnTo>
                    <a:pt x="1721" y="1547"/>
                  </a:lnTo>
                  <a:lnTo>
                    <a:pt x="1690" y="1542"/>
                  </a:lnTo>
                  <a:lnTo>
                    <a:pt x="1659" y="1536"/>
                  </a:lnTo>
                  <a:lnTo>
                    <a:pt x="1628" y="1531"/>
                  </a:lnTo>
                  <a:lnTo>
                    <a:pt x="1599" y="1525"/>
                  </a:lnTo>
                  <a:lnTo>
                    <a:pt x="1571" y="1522"/>
                  </a:lnTo>
                  <a:lnTo>
                    <a:pt x="1544" y="1514"/>
                  </a:lnTo>
                  <a:lnTo>
                    <a:pt x="1515" y="1509"/>
                  </a:lnTo>
                  <a:lnTo>
                    <a:pt x="1487" y="1501"/>
                  </a:lnTo>
                  <a:lnTo>
                    <a:pt x="1460" y="1494"/>
                  </a:lnTo>
                  <a:lnTo>
                    <a:pt x="1432" y="1487"/>
                  </a:lnTo>
                  <a:lnTo>
                    <a:pt x="1405" y="1480"/>
                  </a:lnTo>
                  <a:lnTo>
                    <a:pt x="1378" y="1472"/>
                  </a:lnTo>
                  <a:lnTo>
                    <a:pt x="1350" y="1463"/>
                  </a:lnTo>
                  <a:lnTo>
                    <a:pt x="1323" y="1454"/>
                  </a:lnTo>
                  <a:lnTo>
                    <a:pt x="1295" y="1445"/>
                  </a:lnTo>
                  <a:lnTo>
                    <a:pt x="1268" y="1436"/>
                  </a:lnTo>
                  <a:lnTo>
                    <a:pt x="1240" y="1426"/>
                  </a:lnTo>
                  <a:lnTo>
                    <a:pt x="1215" y="1417"/>
                  </a:lnTo>
                  <a:lnTo>
                    <a:pt x="1187" y="1408"/>
                  </a:lnTo>
                  <a:lnTo>
                    <a:pt x="1153" y="1397"/>
                  </a:lnTo>
                  <a:lnTo>
                    <a:pt x="1120" y="1384"/>
                  </a:lnTo>
                  <a:lnTo>
                    <a:pt x="1087" y="1372"/>
                  </a:lnTo>
                  <a:lnTo>
                    <a:pt x="1054" y="1357"/>
                  </a:lnTo>
                  <a:lnTo>
                    <a:pt x="1021" y="1344"/>
                  </a:lnTo>
                  <a:lnTo>
                    <a:pt x="988" y="1330"/>
                  </a:lnTo>
                  <a:lnTo>
                    <a:pt x="955" y="1313"/>
                  </a:lnTo>
                  <a:lnTo>
                    <a:pt x="924" y="1297"/>
                  </a:lnTo>
                  <a:lnTo>
                    <a:pt x="902" y="1284"/>
                  </a:lnTo>
                  <a:lnTo>
                    <a:pt x="878" y="1271"/>
                  </a:lnTo>
                  <a:lnTo>
                    <a:pt x="856" y="1256"/>
                  </a:lnTo>
                  <a:lnTo>
                    <a:pt x="834" y="1244"/>
                  </a:lnTo>
                  <a:lnTo>
                    <a:pt x="812" y="1231"/>
                  </a:lnTo>
                  <a:lnTo>
                    <a:pt x="791" y="1216"/>
                  </a:lnTo>
                  <a:lnTo>
                    <a:pt x="769" y="1203"/>
                  </a:lnTo>
                  <a:lnTo>
                    <a:pt x="747" y="1189"/>
                  </a:lnTo>
                  <a:lnTo>
                    <a:pt x="725" y="1174"/>
                  </a:lnTo>
                  <a:lnTo>
                    <a:pt x="703" y="1161"/>
                  </a:lnTo>
                  <a:lnTo>
                    <a:pt x="681" y="1147"/>
                  </a:lnTo>
                  <a:lnTo>
                    <a:pt x="659" y="1132"/>
                  </a:lnTo>
                  <a:lnTo>
                    <a:pt x="637" y="1117"/>
                  </a:lnTo>
                  <a:lnTo>
                    <a:pt x="617" y="1103"/>
                  </a:lnTo>
                  <a:lnTo>
                    <a:pt x="595" y="1086"/>
                  </a:lnTo>
                  <a:lnTo>
                    <a:pt x="573" y="1072"/>
                  </a:lnTo>
                  <a:lnTo>
                    <a:pt x="529" y="1037"/>
                  </a:lnTo>
                  <a:lnTo>
                    <a:pt x="491" y="997"/>
                  </a:lnTo>
                  <a:lnTo>
                    <a:pt x="454" y="955"/>
                  </a:lnTo>
                  <a:lnTo>
                    <a:pt x="421" y="907"/>
                  </a:lnTo>
                  <a:lnTo>
                    <a:pt x="392" y="858"/>
                  </a:lnTo>
                  <a:lnTo>
                    <a:pt x="366" y="806"/>
                  </a:lnTo>
                  <a:lnTo>
                    <a:pt x="344" y="755"/>
                  </a:lnTo>
                  <a:lnTo>
                    <a:pt x="326" y="704"/>
                  </a:lnTo>
                  <a:lnTo>
                    <a:pt x="315" y="651"/>
                  </a:lnTo>
                  <a:lnTo>
                    <a:pt x="315" y="596"/>
                  </a:lnTo>
                  <a:lnTo>
                    <a:pt x="321" y="543"/>
                  </a:lnTo>
                  <a:lnTo>
                    <a:pt x="328" y="494"/>
                  </a:lnTo>
                  <a:lnTo>
                    <a:pt x="306" y="488"/>
                  </a:lnTo>
                  <a:lnTo>
                    <a:pt x="284" y="481"/>
                  </a:lnTo>
                  <a:lnTo>
                    <a:pt x="262" y="475"/>
                  </a:lnTo>
                  <a:lnTo>
                    <a:pt x="240" y="470"/>
                  </a:lnTo>
                  <a:lnTo>
                    <a:pt x="218" y="464"/>
                  </a:lnTo>
                  <a:lnTo>
                    <a:pt x="196" y="457"/>
                  </a:lnTo>
                  <a:lnTo>
                    <a:pt x="174" y="450"/>
                  </a:lnTo>
                  <a:lnTo>
                    <a:pt x="152" y="442"/>
                  </a:lnTo>
                  <a:lnTo>
                    <a:pt x="130" y="433"/>
                  </a:lnTo>
                  <a:lnTo>
                    <a:pt x="110" y="424"/>
                  </a:lnTo>
                  <a:lnTo>
                    <a:pt x="92" y="411"/>
                  </a:lnTo>
                  <a:lnTo>
                    <a:pt x="74" y="398"/>
                  </a:lnTo>
                  <a:lnTo>
                    <a:pt x="55" y="384"/>
                  </a:lnTo>
                  <a:lnTo>
                    <a:pt x="41" y="366"/>
                  </a:lnTo>
                  <a:lnTo>
                    <a:pt x="26" y="347"/>
                  </a:lnTo>
                  <a:lnTo>
                    <a:pt x="13" y="325"/>
                  </a:lnTo>
                  <a:lnTo>
                    <a:pt x="8" y="292"/>
                  </a:lnTo>
                  <a:lnTo>
                    <a:pt x="0" y="258"/>
                  </a:lnTo>
                  <a:lnTo>
                    <a:pt x="0" y="223"/>
                  </a:lnTo>
                  <a:lnTo>
                    <a:pt x="11" y="192"/>
                  </a:lnTo>
                  <a:lnTo>
                    <a:pt x="19" y="177"/>
                  </a:lnTo>
                  <a:lnTo>
                    <a:pt x="24" y="161"/>
                  </a:lnTo>
                  <a:lnTo>
                    <a:pt x="28" y="144"/>
                  </a:lnTo>
                  <a:lnTo>
                    <a:pt x="33" y="128"/>
                  </a:lnTo>
                  <a:lnTo>
                    <a:pt x="39" y="113"/>
                  </a:lnTo>
                  <a:lnTo>
                    <a:pt x="46" y="100"/>
                  </a:lnTo>
                  <a:lnTo>
                    <a:pt x="59" y="89"/>
                  </a:lnTo>
                  <a:lnTo>
                    <a:pt x="75" y="84"/>
                  </a:lnTo>
                  <a:lnTo>
                    <a:pt x="83" y="77"/>
                  </a:lnTo>
                  <a:lnTo>
                    <a:pt x="92" y="69"/>
                  </a:lnTo>
                  <a:lnTo>
                    <a:pt x="101" y="62"/>
                  </a:lnTo>
                  <a:lnTo>
                    <a:pt x="110" y="56"/>
                  </a:lnTo>
                  <a:lnTo>
                    <a:pt x="119" y="51"/>
                  </a:lnTo>
                  <a:lnTo>
                    <a:pt x="128" y="45"/>
                  </a:lnTo>
                  <a:lnTo>
                    <a:pt x="139" y="42"/>
                  </a:lnTo>
                  <a:lnTo>
                    <a:pt x="149" y="36"/>
                  </a:lnTo>
                  <a:lnTo>
                    <a:pt x="172" y="25"/>
                  </a:lnTo>
                  <a:lnTo>
                    <a:pt x="194" y="16"/>
                  </a:lnTo>
                  <a:lnTo>
                    <a:pt x="220" y="9"/>
                  </a:lnTo>
                  <a:lnTo>
                    <a:pt x="244" y="3"/>
                  </a:lnTo>
                  <a:lnTo>
                    <a:pt x="269" y="0"/>
                  </a:lnTo>
                  <a:lnTo>
                    <a:pt x="295" y="0"/>
                  </a:lnTo>
                  <a:lnTo>
                    <a:pt x="321" y="0"/>
                  </a:lnTo>
                  <a:lnTo>
                    <a:pt x="348" y="3"/>
                  </a:lnTo>
                  <a:lnTo>
                    <a:pt x="374" y="7"/>
                  </a:lnTo>
                  <a:lnTo>
                    <a:pt x="397" y="11"/>
                  </a:lnTo>
                  <a:lnTo>
                    <a:pt x="423" y="14"/>
                  </a:lnTo>
                  <a:lnTo>
                    <a:pt x="447" y="18"/>
                  </a:lnTo>
                  <a:lnTo>
                    <a:pt x="472" y="23"/>
                  </a:lnTo>
                  <a:lnTo>
                    <a:pt x="496" y="27"/>
                  </a:lnTo>
                  <a:lnTo>
                    <a:pt x="520" y="33"/>
                  </a:lnTo>
                  <a:lnTo>
                    <a:pt x="545" y="38"/>
                  </a:lnTo>
                  <a:lnTo>
                    <a:pt x="569" y="44"/>
                  </a:lnTo>
                  <a:lnTo>
                    <a:pt x="593" y="49"/>
                  </a:lnTo>
                  <a:lnTo>
                    <a:pt x="617" y="55"/>
                  </a:lnTo>
                  <a:lnTo>
                    <a:pt x="641" y="60"/>
                  </a:lnTo>
                  <a:lnTo>
                    <a:pt x="664" y="66"/>
                  </a:lnTo>
                  <a:lnTo>
                    <a:pt x="688" y="71"/>
                  </a:lnTo>
                  <a:lnTo>
                    <a:pt x="712" y="78"/>
                  </a:lnTo>
                  <a:lnTo>
                    <a:pt x="73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856440" y="2264400"/>
              <a:ext cx="1912680" cy="668520"/>
            </a:xfrm>
            <a:custGeom>
              <a:avLst/>
              <a:gdLst/>
              <a:ahLst/>
              <a:rect l="l" t="t" r="r" b="b"/>
              <a:pathLst>
                <a:path w="3441" h="1201">
                  <a:moveTo>
                    <a:pt x="293" y="12"/>
                  </a:moveTo>
                  <a:lnTo>
                    <a:pt x="324" y="18"/>
                  </a:lnTo>
                  <a:lnTo>
                    <a:pt x="355" y="25"/>
                  </a:lnTo>
                  <a:lnTo>
                    <a:pt x="386" y="31"/>
                  </a:lnTo>
                  <a:lnTo>
                    <a:pt x="417" y="38"/>
                  </a:lnTo>
                  <a:lnTo>
                    <a:pt x="447" y="43"/>
                  </a:lnTo>
                  <a:lnTo>
                    <a:pt x="478" y="51"/>
                  </a:lnTo>
                  <a:lnTo>
                    <a:pt x="507" y="58"/>
                  </a:lnTo>
                  <a:lnTo>
                    <a:pt x="538" y="65"/>
                  </a:lnTo>
                  <a:lnTo>
                    <a:pt x="567" y="73"/>
                  </a:lnTo>
                  <a:lnTo>
                    <a:pt x="598" y="80"/>
                  </a:lnTo>
                  <a:lnTo>
                    <a:pt x="628" y="87"/>
                  </a:lnTo>
                  <a:lnTo>
                    <a:pt x="659" y="95"/>
                  </a:lnTo>
                  <a:lnTo>
                    <a:pt x="688" y="102"/>
                  </a:lnTo>
                  <a:lnTo>
                    <a:pt x="717" y="109"/>
                  </a:lnTo>
                  <a:lnTo>
                    <a:pt x="748" y="118"/>
                  </a:lnTo>
                  <a:lnTo>
                    <a:pt x="778" y="126"/>
                  </a:lnTo>
                  <a:lnTo>
                    <a:pt x="800" y="131"/>
                  </a:lnTo>
                  <a:lnTo>
                    <a:pt x="820" y="137"/>
                  </a:lnTo>
                  <a:lnTo>
                    <a:pt x="842" y="142"/>
                  </a:lnTo>
                  <a:lnTo>
                    <a:pt x="864" y="150"/>
                  </a:lnTo>
                  <a:lnTo>
                    <a:pt x="886" y="155"/>
                  </a:lnTo>
                  <a:lnTo>
                    <a:pt x="908" y="161"/>
                  </a:lnTo>
                  <a:lnTo>
                    <a:pt x="930" y="168"/>
                  </a:lnTo>
                  <a:lnTo>
                    <a:pt x="951" y="173"/>
                  </a:lnTo>
                  <a:lnTo>
                    <a:pt x="973" y="181"/>
                  </a:lnTo>
                  <a:lnTo>
                    <a:pt x="995" y="186"/>
                  </a:lnTo>
                  <a:lnTo>
                    <a:pt x="1017" y="193"/>
                  </a:lnTo>
                  <a:lnTo>
                    <a:pt x="1039" y="199"/>
                  </a:lnTo>
                  <a:lnTo>
                    <a:pt x="1061" y="206"/>
                  </a:lnTo>
                  <a:lnTo>
                    <a:pt x="1083" y="212"/>
                  </a:lnTo>
                  <a:lnTo>
                    <a:pt x="1105" y="219"/>
                  </a:lnTo>
                  <a:lnTo>
                    <a:pt x="1127" y="225"/>
                  </a:lnTo>
                  <a:lnTo>
                    <a:pt x="1184" y="241"/>
                  </a:lnTo>
                  <a:lnTo>
                    <a:pt x="1240" y="257"/>
                  </a:lnTo>
                  <a:lnTo>
                    <a:pt x="1297" y="272"/>
                  </a:lnTo>
                  <a:lnTo>
                    <a:pt x="1354" y="289"/>
                  </a:lnTo>
                  <a:lnTo>
                    <a:pt x="1411" y="303"/>
                  </a:lnTo>
                  <a:lnTo>
                    <a:pt x="1469" y="318"/>
                  </a:lnTo>
                  <a:lnTo>
                    <a:pt x="1526" y="332"/>
                  </a:lnTo>
                  <a:lnTo>
                    <a:pt x="1582" y="347"/>
                  </a:lnTo>
                  <a:lnTo>
                    <a:pt x="1639" y="362"/>
                  </a:lnTo>
                  <a:lnTo>
                    <a:pt x="1696" y="376"/>
                  </a:lnTo>
                  <a:lnTo>
                    <a:pt x="1754" y="391"/>
                  </a:lnTo>
                  <a:lnTo>
                    <a:pt x="1811" y="406"/>
                  </a:lnTo>
                  <a:lnTo>
                    <a:pt x="1868" y="420"/>
                  </a:lnTo>
                  <a:lnTo>
                    <a:pt x="1924" y="437"/>
                  </a:lnTo>
                  <a:lnTo>
                    <a:pt x="1981" y="451"/>
                  </a:lnTo>
                  <a:lnTo>
                    <a:pt x="2038" y="468"/>
                  </a:lnTo>
                  <a:lnTo>
                    <a:pt x="2100" y="486"/>
                  </a:lnTo>
                  <a:lnTo>
                    <a:pt x="2162" y="504"/>
                  </a:lnTo>
                  <a:lnTo>
                    <a:pt x="2226" y="525"/>
                  </a:lnTo>
                  <a:lnTo>
                    <a:pt x="2288" y="543"/>
                  </a:lnTo>
                  <a:lnTo>
                    <a:pt x="2351" y="561"/>
                  </a:lnTo>
                  <a:lnTo>
                    <a:pt x="2413" y="581"/>
                  </a:lnTo>
                  <a:lnTo>
                    <a:pt x="2475" y="600"/>
                  </a:lnTo>
                  <a:lnTo>
                    <a:pt x="2537" y="620"/>
                  </a:lnTo>
                  <a:lnTo>
                    <a:pt x="2599" y="638"/>
                  </a:lnTo>
                  <a:lnTo>
                    <a:pt x="2661" y="658"/>
                  </a:lnTo>
                  <a:lnTo>
                    <a:pt x="2724" y="676"/>
                  </a:lnTo>
                  <a:lnTo>
                    <a:pt x="2786" y="695"/>
                  </a:lnTo>
                  <a:lnTo>
                    <a:pt x="2850" y="713"/>
                  </a:lnTo>
                  <a:lnTo>
                    <a:pt x="2912" y="729"/>
                  </a:lnTo>
                  <a:lnTo>
                    <a:pt x="2974" y="748"/>
                  </a:lnTo>
                  <a:lnTo>
                    <a:pt x="3038" y="764"/>
                  </a:lnTo>
                  <a:lnTo>
                    <a:pt x="3058" y="770"/>
                  </a:lnTo>
                  <a:lnTo>
                    <a:pt x="3080" y="775"/>
                  </a:lnTo>
                  <a:lnTo>
                    <a:pt x="3100" y="782"/>
                  </a:lnTo>
                  <a:lnTo>
                    <a:pt x="3121" y="790"/>
                  </a:lnTo>
                  <a:lnTo>
                    <a:pt x="3141" y="797"/>
                  </a:lnTo>
                  <a:lnTo>
                    <a:pt x="3161" y="804"/>
                  </a:lnTo>
                  <a:lnTo>
                    <a:pt x="3179" y="812"/>
                  </a:lnTo>
                  <a:lnTo>
                    <a:pt x="3199" y="819"/>
                  </a:lnTo>
                  <a:lnTo>
                    <a:pt x="3219" y="828"/>
                  </a:lnTo>
                  <a:lnTo>
                    <a:pt x="3238" y="835"/>
                  </a:lnTo>
                  <a:lnTo>
                    <a:pt x="3258" y="843"/>
                  </a:lnTo>
                  <a:lnTo>
                    <a:pt x="3278" y="852"/>
                  </a:lnTo>
                  <a:lnTo>
                    <a:pt x="3296" y="859"/>
                  </a:lnTo>
                  <a:lnTo>
                    <a:pt x="3316" y="868"/>
                  </a:lnTo>
                  <a:lnTo>
                    <a:pt x="3335" y="876"/>
                  </a:lnTo>
                  <a:lnTo>
                    <a:pt x="3355" y="883"/>
                  </a:lnTo>
                  <a:lnTo>
                    <a:pt x="3384" y="900"/>
                  </a:lnTo>
                  <a:lnTo>
                    <a:pt x="3402" y="920"/>
                  </a:lnTo>
                  <a:lnTo>
                    <a:pt x="3417" y="943"/>
                  </a:lnTo>
                  <a:lnTo>
                    <a:pt x="3424" y="969"/>
                  </a:lnTo>
                  <a:lnTo>
                    <a:pt x="3428" y="998"/>
                  </a:lnTo>
                  <a:lnTo>
                    <a:pt x="3431" y="1028"/>
                  </a:lnTo>
                  <a:lnTo>
                    <a:pt x="3435" y="1055"/>
                  </a:lnTo>
                  <a:lnTo>
                    <a:pt x="3441" y="1082"/>
                  </a:lnTo>
                  <a:lnTo>
                    <a:pt x="3433" y="1103"/>
                  </a:lnTo>
                  <a:lnTo>
                    <a:pt x="3422" y="1123"/>
                  </a:lnTo>
                  <a:lnTo>
                    <a:pt x="3409" y="1141"/>
                  </a:lnTo>
                  <a:lnTo>
                    <a:pt x="3393" y="1157"/>
                  </a:lnTo>
                  <a:lnTo>
                    <a:pt x="3377" y="1172"/>
                  </a:lnTo>
                  <a:lnTo>
                    <a:pt x="3358" y="1183"/>
                  </a:lnTo>
                  <a:lnTo>
                    <a:pt x="3338" y="1192"/>
                  </a:lnTo>
                  <a:lnTo>
                    <a:pt x="3316" y="1198"/>
                  </a:lnTo>
                  <a:lnTo>
                    <a:pt x="3296" y="1201"/>
                  </a:lnTo>
                  <a:lnTo>
                    <a:pt x="3276" y="1201"/>
                  </a:lnTo>
                  <a:lnTo>
                    <a:pt x="3258" y="1201"/>
                  </a:lnTo>
                  <a:lnTo>
                    <a:pt x="3238" y="1200"/>
                  </a:lnTo>
                  <a:lnTo>
                    <a:pt x="3219" y="1196"/>
                  </a:lnTo>
                  <a:lnTo>
                    <a:pt x="3201" y="1192"/>
                  </a:lnTo>
                  <a:lnTo>
                    <a:pt x="3183" y="1187"/>
                  </a:lnTo>
                  <a:lnTo>
                    <a:pt x="3164" y="1181"/>
                  </a:lnTo>
                  <a:lnTo>
                    <a:pt x="3146" y="1176"/>
                  </a:lnTo>
                  <a:lnTo>
                    <a:pt x="3130" y="1168"/>
                  </a:lnTo>
                  <a:lnTo>
                    <a:pt x="3111" y="1161"/>
                  </a:lnTo>
                  <a:lnTo>
                    <a:pt x="3093" y="1154"/>
                  </a:lnTo>
                  <a:lnTo>
                    <a:pt x="3075" y="1146"/>
                  </a:lnTo>
                  <a:lnTo>
                    <a:pt x="3058" y="1141"/>
                  </a:lnTo>
                  <a:lnTo>
                    <a:pt x="3040" y="1134"/>
                  </a:lnTo>
                  <a:lnTo>
                    <a:pt x="3022" y="1128"/>
                  </a:lnTo>
                  <a:lnTo>
                    <a:pt x="3009" y="1117"/>
                  </a:lnTo>
                  <a:lnTo>
                    <a:pt x="2993" y="1108"/>
                  </a:lnTo>
                  <a:lnTo>
                    <a:pt x="2982" y="1097"/>
                  </a:lnTo>
                  <a:lnTo>
                    <a:pt x="2980" y="1079"/>
                  </a:lnTo>
                  <a:lnTo>
                    <a:pt x="2985" y="1064"/>
                  </a:lnTo>
                  <a:lnTo>
                    <a:pt x="2987" y="1046"/>
                  </a:lnTo>
                  <a:lnTo>
                    <a:pt x="2985" y="1028"/>
                  </a:lnTo>
                  <a:lnTo>
                    <a:pt x="2982" y="1013"/>
                  </a:lnTo>
                  <a:lnTo>
                    <a:pt x="2983" y="976"/>
                  </a:lnTo>
                  <a:lnTo>
                    <a:pt x="2980" y="942"/>
                  </a:lnTo>
                  <a:lnTo>
                    <a:pt x="2971" y="909"/>
                  </a:lnTo>
                  <a:lnTo>
                    <a:pt x="2954" y="878"/>
                  </a:lnTo>
                  <a:lnTo>
                    <a:pt x="2936" y="848"/>
                  </a:lnTo>
                  <a:lnTo>
                    <a:pt x="2912" y="823"/>
                  </a:lnTo>
                  <a:lnTo>
                    <a:pt x="2888" y="797"/>
                  </a:lnTo>
                  <a:lnTo>
                    <a:pt x="2861" y="773"/>
                  </a:lnTo>
                  <a:lnTo>
                    <a:pt x="2852" y="766"/>
                  </a:lnTo>
                  <a:lnTo>
                    <a:pt x="2843" y="760"/>
                  </a:lnTo>
                  <a:lnTo>
                    <a:pt x="2832" y="755"/>
                  </a:lnTo>
                  <a:lnTo>
                    <a:pt x="2821" y="750"/>
                  </a:lnTo>
                  <a:lnTo>
                    <a:pt x="2811" y="744"/>
                  </a:lnTo>
                  <a:lnTo>
                    <a:pt x="2800" y="740"/>
                  </a:lnTo>
                  <a:lnTo>
                    <a:pt x="2789" y="735"/>
                  </a:lnTo>
                  <a:lnTo>
                    <a:pt x="2780" y="729"/>
                  </a:lnTo>
                  <a:lnTo>
                    <a:pt x="2766" y="720"/>
                  </a:lnTo>
                  <a:lnTo>
                    <a:pt x="2749" y="713"/>
                  </a:lnTo>
                  <a:lnTo>
                    <a:pt x="2733" y="707"/>
                  </a:lnTo>
                  <a:lnTo>
                    <a:pt x="2716" y="700"/>
                  </a:lnTo>
                  <a:lnTo>
                    <a:pt x="2698" y="696"/>
                  </a:lnTo>
                  <a:lnTo>
                    <a:pt x="2680" y="691"/>
                  </a:lnTo>
                  <a:lnTo>
                    <a:pt x="2663" y="687"/>
                  </a:lnTo>
                  <a:lnTo>
                    <a:pt x="2645" y="684"/>
                  </a:lnTo>
                  <a:lnTo>
                    <a:pt x="2618" y="678"/>
                  </a:lnTo>
                  <a:lnTo>
                    <a:pt x="2588" y="675"/>
                  </a:lnTo>
                  <a:lnTo>
                    <a:pt x="2561" y="669"/>
                  </a:lnTo>
                  <a:lnTo>
                    <a:pt x="2532" y="665"/>
                  </a:lnTo>
                  <a:lnTo>
                    <a:pt x="2502" y="662"/>
                  </a:lnTo>
                  <a:lnTo>
                    <a:pt x="2475" y="658"/>
                  </a:lnTo>
                  <a:lnTo>
                    <a:pt x="2446" y="656"/>
                  </a:lnTo>
                  <a:lnTo>
                    <a:pt x="2416" y="653"/>
                  </a:lnTo>
                  <a:lnTo>
                    <a:pt x="2389" y="651"/>
                  </a:lnTo>
                  <a:lnTo>
                    <a:pt x="2360" y="647"/>
                  </a:lnTo>
                  <a:lnTo>
                    <a:pt x="2330" y="645"/>
                  </a:lnTo>
                  <a:lnTo>
                    <a:pt x="2303" y="643"/>
                  </a:lnTo>
                  <a:lnTo>
                    <a:pt x="2274" y="642"/>
                  </a:lnTo>
                  <a:lnTo>
                    <a:pt x="2244" y="640"/>
                  </a:lnTo>
                  <a:lnTo>
                    <a:pt x="2217" y="636"/>
                  </a:lnTo>
                  <a:lnTo>
                    <a:pt x="2188" y="634"/>
                  </a:lnTo>
                  <a:lnTo>
                    <a:pt x="2166" y="632"/>
                  </a:lnTo>
                  <a:lnTo>
                    <a:pt x="2142" y="631"/>
                  </a:lnTo>
                  <a:lnTo>
                    <a:pt x="2120" y="629"/>
                  </a:lnTo>
                  <a:lnTo>
                    <a:pt x="2098" y="627"/>
                  </a:lnTo>
                  <a:lnTo>
                    <a:pt x="2076" y="625"/>
                  </a:lnTo>
                  <a:lnTo>
                    <a:pt x="2054" y="621"/>
                  </a:lnTo>
                  <a:lnTo>
                    <a:pt x="2032" y="620"/>
                  </a:lnTo>
                  <a:lnTo>
                    <a:pt x="2010" y="616"/>
                  </a:lnTo>
                  <a:lnTo>
                    <a:pt x="1988" y="614"/>
                  </a:lnTo>
                  <a:lnTo>
                    <a:pt x="1966" y="611"/>
                  </a:lnTo>
                  <a:lnTo>
                    <a:pt x="1945" y="609"/>
                  </a:lnTo>
                  <a:lnTo>
                    <a:pt x="1923" y="605"/>
                  </a:lnTo>
                  <a:lnTo>
                    <a:pt x="1901" y="601"/>
                  </a:lnTo>
                  <a:lnTo>
                    <a:pt x="1879" y="598"/>
                  </a:lnTo>
                  <a:lnTo>
                    <a:pt x="1857" y="592"/>
                  </a:lnTo>
                  <a:lnTo>
                    <a:pt x="1835" y="589"/>
                  </a:lnTo>
                  <a:lnTo>
                    <a:pt x="1785" y="578"/>
                  </a:lnTo>
                  <a:lnTo>
                    <a:pt x="1738" y="567"/>
                  </a:lnTo>
                  <a:lnTo>
                    <a:pt x="1690" y="554"/>
                  </a:lnTo>
                  <a:lnTo>
                    <a:pt x="1643" y="539"/>
                  </a:lnTo>
                  <a:lnTo>
                    <a:pt x="1597" y="523"/>
                  </a:lnTo>
                  <a:lnTo>
                    <a:pt x="1550" y="506"/>
                  </a:lnTo>
                  <a:lnTo>
                    <a:pt x="1504" y="488"/>
                  </a:lnTo>
                  <a:lnTo>
                    <a:pt x="1460" y="468"/>
                  </a:lnTo>
                  <a:lnTo>
                    <a:pt x="1414" y="448"/>
                  </a:lnTo>
                  <a:lnTo>
                    <a:pt x="1370" y="426"/>
                  </a:lnTo>
                  <a:lnTo>
                    <a:pt x="1326" y="402"/>
                  </a:lnTo>
                  <a:lnTo>
                    <a:pt x="1282" y="378"/>
                  </a:lnTo>
                  <a:lnTo>
                    <a:pt x="1240" y="354"/>
                  </a:lnTo>
                  <a:lnTo>
                    <a:pt x="1197" y="329"/>
                  </a:lnTo>
                  <a:lnTo>
                    <a:pt x="1154" y="303"/>
                  </a:lnTo>
                  <a:lnTo>
                    <a:pt x="1112" y="276"/>
                  </a:lnTo>
                  <a:lnTo>
                    <a:pt x="1083" y="257"/>
                  </a:lnTo>
                  <a:lnTo>
                    <a:pt x="1054" y="241"/>
                  </a:lnTo>
                  <a:lnTo>
                    <a:pt x="1023" y="226"/>
                  </a:lnTo>
                  <a:lnTo>
                    <a:pt x="990" y="214"/>
                  </a:lnTo>
                  <a:lnTo>
                    <a:pt x="959" y="201"/>
                  </a:lnTo>
                  <a:lnTo>
                    <a:pt x="926" y="192"/>
                  </a:lnTo>
                  <a:lnTo>
                    <a:pt x="891" y="182"/>
                  </a:lnTo>
                  <a:lnTo>
                    <a:pt x="858" y="175"/>
                  </a:lnTo>
                  <a:lnTo>
                    <a:pt x="823" y="171"/>
                  </a:lnTo>
                  <a:lnTo>
                    <a:pt x="789" y="168"/>
                  </a:lnTo>
                  <a:lnTo>
                    <a:pt x="754" y="168"/>
                  </a:lnTo>
                  <a:lnTo>
                    <a:pt x="719" y="168"/>
                  </a:lnTo>
                  <a:lnTo>
                    <a:pt x="686" y="171"/>
                  </a:lnTo>
                  <a:lnTo>
                    <a:pt x="652" y="177"/>
                  </a:lnTo>
                  <a:lnTo>
                    <a:pt x="617" y="184"/>
                  </a:lnTo>
                  <a:lnTo>
                    <a:pt x="584" y="195"/>
                  </a:lnTo>
                  <a:lnTo>
                    <a:pt x="545" y="208"/>
                  </a:lnTo>
                  <a:lnTo>
                    <a:pt x="509" y="223"/>
                  </a:lnTo>
                  <a:lnTo>
                    <a:pt x="472" y="239"/>
                  </a:lnTo>
                  <a:lnTo>
                    <a:pt x="438" y="257"/>
                  </a:lnTo>
                  <a:lnTo>
                    <a:pt x="403" y="278"/>
                  </a:lnTo>
                  <a:lnTo>
                    <a:pt x="370" y="301"/>
                  </a:lnTo>
                  <a:lnTo>
                    <a:pt x="341" y="329"/>
                  </a:lnTo>
                  <a:lnTo>
                    <a:pt x="313" y="360"/>
                  </a:lnTo>
                  <a:lnTo>
                    <a:pt x="310" y="367"/>
                  </a:lnTo>
                  <a:lnTo>
                    <a:pt x="306" y="375"/>
                  </a:lnTo>
                  <a:lnTo>
                    <a:pt x="302" y="380"/>
                  </a:lnTo>
                  <a:lnTo>
                    <a:pt x="297" y="384"/>
                  </a:lnTo>
                  <a:lnTo>
                    <a:pt x="286" y="380"/>
                  </a:lnTo>
                  <a:lnTo>
                    <a:pt x="275" y="376"/>
                  </a:lnTo>
                  <a:lnTo>
                    <a:pt x="264" y="373"/>
                  </a:lnTo>
                  <a:lnTo>
                    <a:pt x="253" y="369"/>
                  </a:lnTo>
                  <a:lnTo>
                    <a:pt x="242" y="364"/>
                  </a:lnTo>
                  <a:lnTo>
                    <a:pt x="231" y="358"/>
                  </a:lnTo>
                  <a:lnTo>
                    <a:pt x="222" y="354"/>
                  </a:lnTo>
                  <a:lnTo>
                    <a:pt x="211" y="349"/>
                  </a:lnTo>
                  <a:lnTo>
                    <a:pt x="196" y="343"/>
                  </a:lnTo>
                  <a:lnTo>
                    <a:pt x="182" y="338"/>
                  </a:lnTo>
                  <a:lnTo>
                    <a:pt x="165" y="334"/>
                  </a:lnTo>
                  <a:lnTo>
                    <a:pt x="150" y="329"/>
                  </a:lnTo>
                  <a:lnTo>
                    <a:pt x="136" y="325"/>
                  </a:lnTo>
                  <a:lnTo>
                    <a:pt x="121" y="320"/>
                  </a:lnTo>
                  <a:lnTo>
                    <a:pt x="107" y="314"/>
                  </a:lnTo>
                  <a:lnTo>
                    <a:pt x="92" y="307"/>
                  </a:lnTo>
                  <a:lnTo>
                    <a:pt x="74" y="296"/>
                  </a:lnTo>
                  <a:lnTo>
                    <a:pt x="57" y="281"/>
                  </a:lnTo>
                  <a:lnTo>
                    <a:pt x="43" y="265"/>
                  </a:lnTo>
                  <a:lnTo>
                    <a:pt x="32" y="248"/>
                  </a:lnTo>
                  <a:lnTo>
                    <a:pt x="21" y="230"/>
                  </a:lnTo>
                  <a:lnTo>
                    <a:pt x="13" y="210"/>
                  </a:lnTo>
                  <a:lnTo>
                    <a:pt x="6" y="192"/>
                  </a:lnTo>
                  <a:lnTo>
                    <a:pt x="0" y="171"/>
                  </a:lnTo>
                  <a:lnTo>
                    <a:pt x="8" y="137"/>
                  </a:lnTo>
                  <a:lnTo>
                    <a:pt x="11" y="98"/>
                  </a:lnTo>
                  <a:lnTo>
                    <a:pt x="21" y="65"/>
                  </a:lnTo>
                  <a:lnTo>
                    <a:pt x="44" y="38"/>
                  </a:lnTo>
                  <a:lnTo>
                    <a:pt x="55" y="32"/>
                  </a:lnTo>
                  <a:lnTo>
                    <a:pt x="64" y="27"/>
                  </a:lnTo>
                  <a:lnTo>
                    <a:pt x="75" y="21"/>
                  </a:lnTo>
                  <a:lnTo>
                    <a:pt x="86" y="16"/>
                  </a:lnTo>
                  <a:lnTo>
                    <a:pt x="97" y="12"/>
                  </a:lnTo>
                  <a:lnTo>
                    <a:pt x="108" y="9"/>
                  </a:lnTo>
                  <a:lnTo>
                    <a:pt x="119" y="3"/>
                  </a:lnTo>
                  <a:lnTo>
                    <a:pt x="130" y="0"/>
                  </a:lnTo>
                  <a:lnTo>
                    <a:pt x="150" y="0"/>
                  </a:lnTo>
                  <a:lnTo>
                    <a:pt x="171" y="0"/>
                  </a:lnTo>
                  <a:lnTo>
                    <a:pt x="192" y="1"/>
                  </a:lnTo>
                  <a:lnTo>
                    <a:pt x="213" y="1"/>
                  </a:lnTo>
                  <a:lnTo>
                    <a:pt x="233" y="3"/>
                  </a:lnTo>
                  <a:lnTo>
                    <a:pt x="253" y="5"/>
                  </a:lnTo>
                  <a:lnTo>
                    <a:pt x="273" y="9"/>
                  </a:lnTo>
                  <a:lnTo>
                    <a:pt x="293" y="12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1282320" y="2271240"/>
              <a:ext cx="1183320" cy="354600"/>
            </a:xfrm>
            <a:custGeom>
              <a:avLst/>
              <a:gdLst/>
              <a:ahLst/>
              <a:rect l="l" t="t" r="r" b="b"/>
              <a:pathLst>
                <a:path w="2129" h="639">
                  <a:moveTo>
                    <a:pt x="433" y="37"/>
                  </a:moveTo>
                  <a:lnTo>
                    <a:pt x="448" y="41"/>
                  </a:lnTo>
                  <a:lnTo>
                    <a:pt x="462" y="46"/>
                  </a:lnTo>
                  <a:lnTo>
                    <a:pt x="475" y="53"/>
                  </a:lnTo>
                  <a:lnTo>
                    <a:pt x="490" y="61"/>
                  </a:lnTo>
                  <a:lnTo>
                    <a:pt x="503" y="68"/>
                  </a:lnTo>
                  <a:lnTo>
                    <a:pt x="515" y="75"/>
                  </a:lnTo>
                  <a:lnTo>
                    <a:pt x="530" y="81"/>
                  </a:lnTo>
                  <a:lnTo>
                    <a:pt x="545" y="84"/>
                  </a:lnTo>
                  <a:lnTo>
                    <a:pt x="556" y="92"/>
                  </a:lnTo>
                  <a:lnTo>
                    <a:pt x="569" y="97"/>
                  </a:lnTo>
                  <a:lnTo>
                    <a:pt x="580" y="105"/>
                  </a:lnTo>
                  <a:lnTo>
                    <a:pt x="590" y="110"/>
                  </a:lnTo>
                  <a:lnTo>
                    <a:pt x="601" y="116"/>
                  </a:lnTo>
                  <a:lnTo>
                    <a:pt x="612" y="121"/>
                  </a:lnTo>
                  <a:lnTo>
                    <a:pt x="625" y="127"/>
                  </a:lnTo>
                  <a:lnTo>
                    <a:pt x="636" y="132"/>
                  </a:lnTo>
                  <a:lnTo>
                    <a:pt x="654" y="141"/>
                  </a:lnTo>
                  <a:lnTo>
                    <a:pt x="673" y="149"/>
                  </a:lnTo>
                  <a:lnTo>
                    <a:pt x="693" y="158"/>
                  </a:lnTo>
                  <a:lnTo>
                    <a:pt x="711" y="165"/>
                  </a:lnTo>
                  <a:lnTo>
                    <a:pt x="729" y="172"/>
                  </a:lnTo>
                  <a:lnTo>
                    <a:pt x="750" y="181"/>
                  </a:lnTo>
                  <a:lnTo>
                    <a:pt x="768" y="189"/>
                  </a:lnTo>
                  <a:lnTo>
                    <a:pt x="788" y="196"/>
                  </a:lnTo>
                  <a:lnTo>
                    <a:pt x="806" y="203"/>
                  </a:lnTo>
                  <a:lnTo>
                    <a:pt x="826" y="211"/>
                  </a:lnTo>
                  <a:lnTo>
                    <a:pt x="845" y="218"/>
                  </a:lnTo>
                  <a:lnTo>
                    <a:pt x="863" y="225"/>
                  </a:lnTo>
                  <a:lnTo>
                    <a:pt x="883" y="233"/>
                  </a:lnTo>
                  <a:lnTo>
                    <a:pt x="901" y="240"/>
                  </a:lnTo>
                  <a:lnTo>
                    <a:pt x="922" y="247"/>
                  </a:lnTo>
                  <a:lnTo>
                    <a:pt x="940" y="255"/>
                  </a:lnTo>
                  <a:lnTo>
                    <a:pt x="971" y="266"/>
                  </a:lnTo>
                  <a:lnTo>
                    <a:pt x="1002" y="275"/>
                  </a:lnTo>
                  <a:lnTo>
                    <a:pt x="1033" y="284"/>
                  </a:lnTo>
                  <a:lnTo>
                    <a:pt x="1066" y="293"/>
                  </a:lnTo>
                  <a:lnTo>
                    <a:pt x="1097" y="300"/>
                  </a:lnTo>
                  <a:lnTo>
                    <a:pt x="1130" y="308"/>
                  </a:lnTo>
                  <a:lnTo>
                    <a:pt x="1163" y="313"/>
                  </a:lnTo>
                  <a:lnTo>
                    <a:pt x="1196" y="320"/>
                  </a:lnTo>
                  <a:lnTo>
                    <a:pt x="1229" y="326"/>
                  </a:lnTo>
                  <a:lnTo>
                    <a:pt x="1262" y="330"/>
                  </a:lnTo>
                  <a:lnTo>
                    <a:pt x="1295" y="335"/>
                  </a:lnTo>
                  <a:lnTo>
                    <a:pt x="1328" y="339"/>
                  </a:lnTo>
                  <a:lnTo>
                    <a:pt x="1360" y="342"/>
                  </a:lnTo>
                  <a:lnTo>
                    <a:pt x="1395" y="346"/>
                  </a:lnTo>
                  <a:lnTo>
                    <a:pt x="1428" y="350"/>
                  </a:lnTo>
                  <a:lnTo>
                    <a:pt x="1461" y="353"/>
                  </a:lnTo>
                  <a:lnTo>
                    <a:pt x="1496" y="357"/>
                  </a:lnTo>
                  <a:lnTo>
                    <a:pt x="1529" y="361"/>
                  </a:lnTo>
                  <a:lnTo>
                    <a:pt x="1563" y="366"/>
                  </a:lnTo>
                  <a:lnTo>
                    <a:pt x="1598" y="370"/>
                  </a:lnTo>
                  <a:lnTo>
                    <a:pt x="1633" y="374"/>
                  </a:lnTo>
                  <a:lnTo>
                    <a:pt x="1668" y="377"/>
                  </a:lnTo>
                  <a:lnTo>
                    <a:pt x="1702" y="383"/>
                  </a:lnTo>
                  <a:lnTo>
                    <a:pt x="1735" y="388"/>
                  </a:lnTo>
                  <a:lnTo>
                    <a:pt x="1768" y="394"/>
                  </a:lnTo>
                  <a:lnTo>
                    <a:pt x="1799" y="401"/>
                  </a:lnTo>
                  <a:lnTo>
                    <a:pt x="1830" y="408"/>
                  </a:lnTo>
                  <a:lnTo>
                    <a:pt x="1862" y="417"/>
                  </a:lnTo>
                  <a:lnTo>
                    <a:pt x="1893" y="428"/>
                  </a:lnTo>
                  <a:lnTo>
                    <a:pt x="1922" y="439"/>
                  </a:lnTo>
                  <a:lnTo>
                    <a:pt x="1953" y="452"/>
                  </a:lnTo>
                  <a:lnTo>
                    <a:pt x="1982" y="467"/>
                  </a:lnTo>
                  <a:lnTo>
                    <a:pt x="2004" y="480"/>
                  </a:lnTo>
                  <a:lnTo>
                    <a:pt x="2024" y="494"/>
                  </a:lnTo>
                  <a:lnTo>
                    <a:pt x="2043" y="513"/>
                  </a:lnTo>
                  <a:lnTo>
                    <a:pt x="2059" y="529"/>
                  </a:lnTo>
                  <a:lnTo>
                    <a:pt x="2074" y="549"/>
                  </a:lnTo>
                  <a:lnTo>
                    <a:pt x="2088" y="569"/>
                  </a:lnTo>
                  <a:lnTo>
                    <a:pt x="2103" y="589"/>
                  </a:lnTo>
                  <a:lnTo>
                    <a:pt x="2118" y="609"/>
                  </a:lnTo>
                  <a:lnTo>
                    <a:pt x="2129" y="639"/>
                  </a:lnTo>
                  <a:lnTo>
                    <a:pt x="2083" y="628"/>
                  </a:lnTo>
                  <a:lnTo>
                    <a:pt x="2037" y="617"/>
                  </a:lnTo>
                  <a:lnTo>
                    <a:pt x="1991" y="604"/>
                  </a:lnTo>
                  <a:lnTo>
                    <a:pt x="1946" y="593"/>
                  </a:lnTo>
                  <a:lnTo>
                    <a:pt x="1900" y="580"/>
                  </a:lnTo>
                  <a:lnTo>
                    <a:pt x="1854" y="567"/>
                  </a:lnTo>
                  <a:lnTo>
                    <a:pt x="1809" y="555"/>
                  </a:lnTo>
                  <a:lnTo>
                    <a:pt x="1763" y="542"/>
                  </a:lnTo>
                  <a:lnTo>
                    <a:pt x="1719" y="529"/>
                  </a:lnTo>
                  <a:lnTo>
                    <a:pt x="1673" y="516"/>
                  </a:lnTo>
                  <a:lnTo>
                    <a:pt x="1627" y="503"/>
                  </a:lnTo>
                  <a:lnTo>
                    <a:pt x="1582" y="491"/>
                  </a:lnTo>
                  <a:lnTo>
                    <a:pt x="1538" y="476"/>
                  </a:lnTo>
                  <a:lnTo>
                    <a:pt x="1492" y="463"/>
                  </a:lnTo>
                  <a:lnTo>
                    <a:pt x="1446" y="450"/>
                  </a:lnTo>
                  <a:lnTo>
                    <a:pt x="1403" y="436"/>
                  </a:lnTo>
                  <a:lnTo>
                    <a:pt x="1357" y="423"/>
                  </a:lnTo>
                  <a:lnTo>
                    <a:pt x="1311" y="410"/>
                  </a:lnTo>
                  <a:lnTo>
                    <a:pt x="1267" y="395"/>
                  </a:lnTo>
                  <a:lnTo>
                    <a:pt x="1221" y="383"/>
                  </a:lnTo>
                  <a:lnTo>
                    <a:pt x="1176" y="370"/>
                  </a:lnTo>
                  <a:lnTo>
                    <a:pt x="1130" y="355"/>
                  </a:lnTo>
                  <a:lnTo>
                    <a:pt x="1086" y="342"/>
                  </a:lnTo>
                  <a:lnTo>
                    <a:pt x="1040" y="330"/>
                  </a:lnTo>
                  <a:lnTo>
                    <a:pt x="995" y="317"/>
                  </a:lnTo>
                  <a:lnTo>
                    <a:pt x="949" y="304"/>
                  </a:lnTo>
                  <a:lnTo>
                    <a:pt x="905" y="291"/>
                  </a:lnTo>
                  <a:lnTo>
                    <a:pt x="859" y="280"/>
                  </a:lnTo>
                  <a:lnTo>
                    <a:pt x="814" y="267"/>
                  </a:lnTo>
                  <a:lnTo>
                    <a:pt x="768" y="256"/>
                  </a:lnTo>
                  <a:lnTo>
                    <a:pt x="722" y="244"/>
                  </a:lnTo>
                  <a:lnTo>
                    <a:pt x="676" y="233"/>
                  </a:lnTo>
                  <a:lnTo>
                    <a:pt x="633" y="222"/>
                  </a:lnTo>
                  <a:lnTo>
                    <a:pt x="590" y="211"/>
                  </a:lnTo>
                  <a:lnTo>
                    <a:pt x="548" y="198"/>
                  </a:lnTo>
                  <a:lnTo>
                    <a:pt x="506" y="185"/>
                  </a:lnTo>
                  <a:lnTo>
                    <a:pt x="464" y="172"/>
                  </a:lnTo>
                  <a:lnTo>
                    <a:pt x="422" y="159"/>
                  </a:lnTo>
                  <a:lnTo>
                    <a:pt x="380" y="145"/>
                  </a:lnTo>
                  <a:lnTo>
                    <a:pt x="338" y="132"/>
                  </a:lnTo>
                  <a:lnTo>
                    <a:pt x="296" y="119"/>
                  </a:lnTo>
                  <a:lnTo>
                    <a:pt x="254" y="105"/>
                  </a:lnTo>
                  <a:lnTo>
                    <a:pt x="212" y="92"/>
                  </a:lnTo>
                  <a:lnTo>
                    <a:pt x="170" y="79"/>
                  </a:lnTo>
                  <a:lnTo>
                    <a:pt x="128" y="66"/>
                  </a:lnTo>
                  <a:lnTo>
                    <a:pt x="86" y="53"/>
                  </a:lnTo>
                  <a:lnTo>
                    <a:pt x="44" y="42"/>
                  </a:lnTo>
                  <a:lnTo>
                    <a:pt x="0" y="31"/>
                  </a:lnTo>
                  <a:lnTo>
                    <a:pt x="14" y="24"/>
                  </a:lnTo>
                  <a:lnTo>
                    <a:pt x="31" y="17"/>
                  </a:lnTo>
                  <a:lnTo>
                    <a:pt x="47" y="13"/>
                  </a:lnTo>
                  <a:lnTo>
                    <a:pt x="66" y="8"/>
                  </a:lnTo>
                  <a:lnTo>
                    <a:pt x="84" y="6"/>
                  </a:lnTo>
                  <a:lnTo>
                    <a:pt x="102" y="2"/>
                  </a:lnTo>
                  <a:lnTo>
                    <a:pt x="119" y="2"/>
                  </a:lnTo>
                  <a:lnTo>
                    <a:pt x="137" y="0"/>
                  </a:lnTo>
                  <a:lnTo>
                    <a:pt x="155" y="0"/>
                  </a:lnTo>
                  <a:lnTo>
                    <a:pt x="173" y="0"/>
                  </a:lnTo>
                  <a:lnTo>
                    <a:pt x="192" y="0"/>
                  </a:lnTo>
                  <a:lnTo>
                    <a:pt x="212" y="0"/>
                  </a:lnTo>
                  <a:lnTo>
                    <a:pt x="230" y="2"/>
                  </a:lnTo>
                  <a:lnTo>
                    <a:pt x="248" y="4"/>
                  </a:lnTo>
                  <a:lnTo>
                    <a:pt x="267" y="8"/>
                  </a:lnTo>
                  <a:lnTo>
                    <a:pt x="285" y="9"/>
                  </a:lnTo>
                  <a:lnTo>
                    <a:pt x="303" y="13"/>
                  </a:lnTo>
                  <a:lnTo>
                    <a:pt x="322" y="15"/>
                  </a:lnTo>
                  <a:lnTo>
                    <a:pt x="340" y="19"/>
                  </a:lnTo>
                  <a:lnTo>
                    <a:pt x="360" y="22"/>
                  </a:lnTo>
                  <a:lnTo>
                    <a:pt x="378" y="26"/>
                  </a:lnTo>
                  <a:lnTo>
                    <a:pt x="397" y="30"/>
                  </a:lnTo>
                  <a:lnTo>
                    <a:pt x="415" y="33"/>
                  </a:lnTo>
                  <a:lnTo>
                    <a:pt x="433" y="37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1028880" y="2388960"/>
              <a:ext cx="1445400" cy="675000"/>
            </a:xfrm>
            <a:custGeom>
              <a:avLst/>
              <a:gdLst/>
              <a:ahLst/>
              <a:rect l="l" t="t" r="r" b="b"/>
              <a:pathLst>
                <a:path w="2599" h="1212">
                  <a:moveTo>
                    <a:pt x="520" y="11"/>
                  </a:moveTo>
                  <a:lnTo>
                    <a:pt x="551" y="20"/>
                  </a:lnTo>
                  <a:lnTo>
                    <a:pt x="582" y="29"/>
                  </a:lnTo>
                  <a:lnTo>
                    <a:pt x="613" y="42"/>
                  </a:lnTo>
                  <a:lnTo>
                    <a:pt x="642" y="54"/>
                  </a:lnTo>
                  <a:lnTo>
                    <a:pt x="672" y="67"/>
                  </a:lnTo>
                  <a:lnTo>
                    <a:pt x="701" y="82"/>
                  </a:lnTo>
                  <a:lnTo>
                    <a:pt x="728" y="98"/>
                  </a:lnTo>
                  <a:lnTo>
                    <a:pt x="758" y="113"/>
                  </a:lnTo>
                  <a:lnTo>
                    <a:pt x="785" y="129"/>
                  </a:lnTo>
                  <a:lnTo>
                    <a:pt x="812" y="146"/>
                  </a:lnTo>
                  <a:lnTo>
                    <a:pt x="840" y="162"/>
                  </a:lnTo>
                  <a:lnTo>
                    <a:pt x="869" y="179"/>
                  </a:lnTo>
                  <a:lnTo>
                    <a:pt x="897" y="195"/>
                  </a:lnTo>
                  <a:lnTo>
                    <a:pt x="926" y="210"/>
                  </a:lnTo>
                  <a:lnTo>
                    <a:pt x="955" y="225"/>
                  </a:lnTo>
                  <a:lnTo>
                    <a:pt x="984" y="239"/>
                  </a:lnTo>
                  <a:lnTo>
                    <a:pt x="1010" y="252"/>
                  </a:lnTo>
                  <a:lnTo>
                    <a:pt x="1037" y="263"/>
                  </a:lnTo>
                  <a:lnTo>
                    <a:pt x="1063" y="276"/>
                  </a:lnTo>
                  <a:lnTo>
                    <a:pt x="1090" y="289"/>
                  </a:lnTo>
                  <a:lnTo>
                    <a:pt x="1116" y="300"/>
                  </a:lnTo>
                  <a:lnTo>
                    <a:pt x="1143" y="311"/>
                  </a:lnTo>
                  <a:lnTo>
                    <a:pt x="1171" y="321"/>
                  </a:lnTo>
                  <a:lnTo>
                    <a:pt x="1198" y="332"/>
                  </a:lnTo>
                  <a:lnTo>
                    <a:pt x="1224" y="342"/>
                  </a:lnTo>
                  <a:lnTo>
                    <a:pt x="1251" y="351"/>
                  </a:lnTo>
                  <a:lnTo>
                    <a:pt x="1277" y="360"/>
                  </a:lnTo>
                  <a:lnTo>
                    <a:pt x="1304" y="369"/>
                  </a:lnTo>
                  <a:lnTo>
                    <a:pt x="1330" y="376"/>
                  </a:lnTo>
                  <a:lnTo>
                    <a:pt x="1357" y="384"/>
                  </a:lnTo>
                  <a:lnTo>
                    <a:pt x="1385" y="389"/>
                  </a:lnTo>
                  <a:lnTo>
                    <a:pt x="1412" y="396"/>
                  </a:lnTo>
                  <a:lnTo>
                    <a:pt x="1438" y="402"/>
                  </a:lnTo>
                  <a:lnTo>
                    <a:pt x="1467" y="407"/>
                  </a:lnTo>
                  <a:lnTo>
                    <a:pt x="1495" y="413"/>
                  </a:lnTo>
                  <a:lnTo>
                    <a:pt x="1522" y="417"/>
                  </a:lnTo>
                  <a:lnTo>
                    <a:pt x="1549" y="422"/>
                  </a:lnTo>
                  <a:lnTo>
                    <a:pt x="1579" y="426"/>
                  </a:lnTo>
                  <a:lnTo>
                    <a:pt x="1606" y="428"/>
                  </a:lnTo>
                  <a:lnTo>
                    <a:pt x="1635" y="431"/>
                  </a:lnTo>
                  <a:lnTo>
                    <a:pt x="1657" y="433"/>
                  </a:lnTo>
                  <a:lnTo>
                    <a:pt x="1677" y="437"/>
                  </a:lnTo>
                  <a:lnTo>
                    <a:pt x="1699" y="439"/>
                  </a:lnTo>
                  <a:lnTo>
                    <a:pt x="1721" y="442"/>
                  </a:lnTo>
                  <a:lnTo>
                    <a:pt x="1743" y="444"/>
                  </a:lnTo>
                  <a:lnTo>
                    <a:pt x="1765" y="448"/>
                  </a:lnTo>
                  <a:lnTo>
                    <a:pt x="1787" y="451"/>
                  </a:lnTo>
                  <a:lnTo>
                    <a:pt x="1809" y="453"/>
                  </a:lnTo>
                  <a:lnTo>
                    <a:pt x="1829" y="457"/>
                  </a:lnTo>
                  <a:lnTo>
                    <a:pt x="1851" y="459"/>
                  </a:lnTo>
                  <a:lnTo>
                    <a:pt x="1873" y="462"/>
                  </a:lnTo>
                  <a:lnTo>
                    <a:pt x="1895" y="464"/>
                  </a:lnTo>
                  <a:lnTo>
                    <a:pt x="1917" y="468"/>
                  </a:lnTo>
                  <a:lnTo>
                    <a:pt x="1939" y="470"/>
                  </a:lnTo>
                  <a:lnTo>
                    <a:pt x="1959" y="471"/>
                  </a:lnTo>
                  <a:lnTo>
                    <a:pt x="1981" y="473"/>
                  </a:lnTo>
                  <a:lnTo>
                    <a:pt x="2003" y="475"/>
                  </a:lnTo>
                  <a:lnTo>
                    <a:pt x="2027" y="477"/>
                  </a:lnTo>
                  <a:lnTo>
                    <a:pt x="2051" y="479"/>
                  </a:lnTo>
                  <a:lnTo>
                    <a:pt x="2072" y="481"/>
                  </a:lnTo>
                  <a:lnTo>
                    <a:pt x="2096" y="482"/>
                  </a:lnTo>
                  <a:lnTo>
                    <a:pt x="2120" y="484"/>
                  </a:lnTo>
                  <a:lnTo>
                    <a:pt x="2142" y="488"/>
                  </a:lnTo>
                  <a:lnTo>
                    <a:pt x="2166" y="490"/>
                  </a:lnTo>
                  <a:lnTo>
                    <a:pt x="2190" y="493"/>
                  </a:lnTo>
                  <a:lnTo>
                    <a:pt x="2211" y="495"/>
                  </a:lnTo>
                  <a:lnTo>
                    <a:pt x="2235" y="499"/>
                  </a:lnTo>
                  <a:lnTo>
                    <a:pt x="2257" y="503"/>
                  </a:lnTo>
                  <a:lnTo>
                    <a:pt x="2279" y="508"/>
                  </a:lnTo>
                  <a:lnTo>
                    <a:pt x="2301" y="512"/>
                  </a:lnTo>
                  <a:lnTo>
                    <a:pt x="2323" y="517"/>
                  </a:lnTo>
                  <a:lnTo>
                    <a:pt x="2345" y="523"/>
                  </a:lnTo>
                  <a:lnTo>
                    <a:pt x="2354" y="526"/>
                  </a:lnTo>
                  <a:lnTo>
                    <a:pt x="2363" y="528"/>
                  </a:lnTo>
                  <a:lnTo>
                    <a:pt x="2372" y="532"/>
                  </a:lnTo>
                  <a:lnTo>
                    <a:pt x="2382" y="534"/>
                  </a:lnTo>
                  <a:lnTo>
                    <a:pt x="2391" y="537"/>
                  </a:lnTo>
                  <a:lnTo>
                    <a:pt x="2400" y="539"/>
                  </a:lnTo>
                  <a:lnTo>
                    <a:pt x="2409" y="543"/>
                  </a:lnTo>
                  <a:lnTo>
                    <a:pt x="2418" y="546"/>
                  </a:lnTo>
                  <a:lnTo>
                    <a:pt x="2440" y="557"/>
                  </a:lnTo>
                  <a:lnTo>
                    <a:pt x="2462" y="570"/>
                  </a:lnTo>
                  <a:lnTo>
                    <a:pt x="2482" y="583"/>
                  </a:lnTo>
                  <a:lnTo>
                    <a:pt x="2502" y="600"/>
                  </a:lnTo>
                  <a:lnTo>
                    <a:pt x="2519" y="616"/>
                  </a:lnTo>
                  <a:lnTo>
                    <a:pt x="2533" y="634"/>
                  </a:lnTo>
                  <a:lnTo>
                    <a:pt x="2546" y="654"/>
                  </a:lnTo>
                  <a:lnTo>
                    <a:pt x="2557" y="676"/>
                  </a:lnTo>
                  <a:lnTo>
                    <a:pt x="2572" y="722"/>
                  </a:lnTo>
                  <a:lnTo>
                    <a:pt x="2583" y="770"/>
                  </a:lnTo>
                  <a:lnTo>
                    <a:pt x="2592" y="815"/>
                  </a:lnTo>
                  <a:lnTo>
                    <a:pt x="2599" y="863"/>
                  </a:lnTo>
                  <a:lnTo>
                    <a:pt x="2594" y="892"/>
                  </a:lnTo>
                  <a:lnTo>
                    <a:pt x="2586" y="921"/>
                  </a:lnTo>
                  <a:lnTo>
                    <a:pt x="2577" y="951"/>
                  </a:lnTo>
                  <a:lnTo>
                    <a:pt x="2566" y="978"/>
                  </a:lnTo>
                  <a:lnTo>
                    <a:pt x="2552" y="1004"/>
                  </a:lnTo>
                  <a:lnTo>
                    <a:pt x="2535" y="1029"/>
                  </a:lnTo>
                  <a:lnTo>
                    <a:pt x="2513" y="1053"/>
                  </a:lnTo>
                  <a:lnTo>
                    <a:pt x="2489" y="1073"/>
                  </a:lnTo>
                  <a:lnTo>
                    <a:pt x="2458" y="1095"/>
                  </a:lnTo>
                  <a:lnTo>
                    <a:pt x="2425" y="1114"/>
                  </a:lnTo>
                  <a:lnTo>
                    <a:pt x="2391" y="1130"/>
                  </a:lnTo>
                  <a:lnTo>
                    <a:pt x="2356" y="1145"/>
                  </a:lnTo>
                  <a:lnTo>
                    <a:pt x="2319" y="1156"/>
                  </a:lnTo>
                  <a:lnTo>
                    <a:pt x="2283" y="1167"/>
                  </a:lnTo>
                  <a:lnTo>
                    <a:pt x="2246" y="1178"/>
                  </a:lnTo>
                  <a:lnTo>
                    <a:pt x="2210" y="1187"/>
                  </a:lnTo>
                  <a:lnTo>
                    <a:pt x="2173" y="1196"/>
                  </a:lnTo>
                  <a:lnTo>
                    <a:pt x="2136" y="1201"/>
                  </a:lnTo>
                  <a:lnTo>
                    <a:pt x="2100" y="1207"/>
                  </a:lnTo>
                  <a:lnTo>
                    <a:pt x="2063" y="1209"/>
                  </a:lnTo>
                  <a:lnTo>
                    <a:pt x="2025" y="1210"/>
                  </a:lnTo>
                  <a:lnTo>
                    <a:pt x="1988" y="1212"/>
                  </a:lnTo>
                  <a:lnTo>
                    <a:pt x="1950" y="1212"/>
                  </a:lnTo>
                  <a:lnTo>
                    <a:pt x="1912" y="1210"/>
                  </a:lnTo>
                  <a:lnTo>
                    <a:pt x="1873" y="1209"/>
                  </a:lnTo>
                  <a:lnTo>
                    <a:pt x="1835" y="1209"/>
                  </a:lnTo>
                  <a:lnTo>
                    <a:pt x="1798" y="1207"/>
                  </a:lnTo>
                  <a:lnTo>
                    <a:pt x="1760" y="1205"/>
                  </a:lnTo>
                  <a:lnTo>
                    <a:pt x="1721" y="1203"/>
                  </a:lnTo>
                  <a:lnTo>
                    <a:pt x="1685" y="1203"/>
                  </a:lnTo>
                  <a:lnTo>
                    <a:pt x="1646" y="1203"/>
                  </a:lnTo>
                  <a:lnTo>
                    <a:pt x="1610" y="1203"/>
                  </a:lnTo>
                  <a:lnTo>
                    <a:pt x="1571" y="1203"/>
                  </a:lnTo>
                  <a:lnTo>
                    <a:pt x="1535" y="1203"/>
                  </a:lnTo>
                  <a:lnTo>
                    <a:pt x="1496" y="1201"/>
                  </a:lnTo>
                  <a:lnTo>
                    <a:pt x="1460" y="1200"/>
                  </a:lnTo>
                  <a:lnTo>
                    <a:pt x="1423" y="1196"/>
                  </a:lnTo>
                  <a:lnTo>
                    <a:pt x="1387" y="1190"/>
                  </a:lnTo>
                  <a:lnTo>
                    <a:pt x="1350" y="1185"/>
                  </a:lnTo>
                  <a:lnTo>
                    <a:pt x="1313" y="1179"/>
                  </a:lnTo>
                  <a:lnTo>
                    <a:pt x="1277" y="1172"/>
                  </a:lnTo>
                  <a:lnTo>
                    <a:pt x="1242" y="1165"/>
                  </a:lnTo>
                  <a:lnTo>
                    <a:pt x="1206" y="1157"/>
                  </a:lnTo>
                  <a:lnTo>
                    <a:pt x="1171" y="1150"/>
                  </a:lnTo>
                  <a:lnTo>
                    <a:pt x="1134" y="1141"/>
                  </a:lnTo>
                  <a:lnTo>
                    <a:pt x="1100" y="1132"/>
                  </a:lnTo>
                  <a:lnTo>
                    <a:pt x="1063" y="1123"/>
                  </a:lnTo>
                  <a:lnTo>
                    <a:pt x="1028" y="1114"/>
                  </a:lnTo>
                  <a:lnTo>
                    <a:pt x="1004" y="1108"/>
                  </a:lnTo>
                  <a:lnTo>
                    <a:pt x="979" y="1101"/>
                  </a:lnTo>
                  <a:lnTo>
                    <a:pt x="955" y="1093"/>
                  </a:lnTo>
                  <a:lnTo>
                    <a:pt x="931" y="1086"/>
                  </a:lnTo>
                  <a:lnTo>
                    <a:pt x="906" y="1079"/>
                  </a:lnTo>
                  <a:lnTo>
                    <a:pt x="882" y="1070"/>
                  </a:lnTo>
                  <a:lnTo>
                    <a:pt x="858" y="1062"/>
                  </a:lnTo>
                  <a:lnTo>
                    <a:pt x="834" y="1053"/>
                  </a:lnTo>
                  <a:lnTo>
                    <a:pt x="811" y="1044"/>
                  </a:lnTo>
                  <a:lnTo>
                    <a:pt x="787" y="1035"/>
                  </a:lnTo>
                  <a:lnTo>
                    <a:pt x="763" y="1026"/>
                  </a:lnTo>
                  <a:lnTo>
                    <a:pt x="741" y="1017"/>
                  </a:lnTo>
                  <a:lnTo>
                    <a:pt x="717" y="1007"/>
                  </a:lnTo>
                  <a:lnTo>
                    <a:pt x="694" y="998"/>
                  </a:lnTo>
                  <a:lnTo>
                    <a:pt x="672" y="987"/>
                  </a:lnTo>
                  <a:lnTo>
                    <a:pt x="648" y="978"/>
                  </a:lnTo>
                  <a:lnTo>
                    <a:pt x="624" y="969"/>
                  </a:lnTo>
                  <a:lnTo>
                    <a:pt x="602" y="958"/>
                  </a:lnTo>
                  <a:lnTo>
                    <a:pt x="578" y="947"/>
                  </a:lnTo>
                  <a:lnTo>
                    <a:pt x="556" y="934"/>
                  </a:lnTo>
                  <a:lnTo>
                    <a:pt x="534" y="921"/>
                  </a:lnTo>
                  <a:lnTo>
                    <a:pt x="512" y="909"/>
                  </a:lnTo>
                  <a:lnTo>
                    <a:pt x="492" y="896"/>
                  </a:lnTo>
                  <a:lnTo>
                    <a:pt x="470" y="883"/>
                  </a:lnTo>
                  <a:lnTo>
                    <a:pt x="450" y="868"/>
                  </a:lnTo>
                  <a:lnTo>
                    <a:pt x="428" y="856"/>
                  </a:lnTo>
                  <a:lnTo>
                    <a:pt x="408" y="841"/>
                  </a:lnTo>
                  <a:lnTo>
                    <a:pt x="386" y="828"/>
                  </a:lnTo>
                  <a:lnTo>
                    <a:pt x="364" y="814"/>
                  </a:lnTo>
                  <a:lnTo>
                    <a:pt x="344" y="801"/>
                  </a:lnTo>
                  <a:lnTo>
                    <a:pt x="322" y="786"/>
                  </a:lnTo>
                  <a:lnTo>
                    <a:pt x="300" y="773"/>
                  </a:lnTo>
                  <a:lnTo>
                    <a:pt x="273" y="755"/>
                  </a:lnTo>
                  <a:lnTo>
                    <a:pt x="245" y="737"/>
                  </a:lnTo>
                  <a:lnTo>
                    <a:pt x="218" y="717"/>
                  </a:lnTo>
                  <a:lnTo>
                    <a:pt x="192" y="695"/>
                  </a:lnTo>
                  <a:lnTo>
                    <a:pt x="167" y="673"/>
                  </a:lnTo>
                  <a:lnTo>
                    <a:pt x="143" y="649"/>
                  </a:lnTo>
                  <a:lnTo>
                    <a:pt x="121" y="623"/>
                  </a:lnTo>
                  <a:lnTo>
                    <a:pt x="99" y="598"/>
                  </a:lnTo>
                  <a:lnTo>
                    <a:pt x="79" y="570"/>
                  </a:lnTo>
                  <a:lnTo>
                    <a:pt x="61" y="543"/>
                  </a:lnTo>
                  <a:lnTo>
                    <a:pt x="46" y="514"/>
                  </a:lnTo>
                  <a:lnTo>
                    <a:pt x="31" y="484"/>
                  </a:lnTo>
                  <a:lnTo>
                    <a:pt x="20" y="453"/>
                  </a:lnTo>
                  <a:lnTo>
                    <a:pt x="11" y="422"/>
                  </a:lnTo>
                  <a:lnTo>
                    <a:pt x="4" y="391"/>
                  </a:lnTo>
                  <a:lnTo>
                    <a:pt x="0" y="358"/>
                  </a:lnTo>
                  <a:lnTo>
                    <a:pt x="8" y="321"/>
                  </a:lnTo>
                  <a:lnTo>
                    <a:pt x="11" y="285"/>
                  </a:lnTo>
                  <a:lnTo>
                    <a:pt x="15" y="250"/>
                  </a:lnTo>
                  <a:lnTo>
                    <a:pt x="31" y="217"/>
                  </a:lnTo>
                  <a:lnTo>
                    <a:pt x="30" y="212"/>
                  </a:lnTo>
                  <a:lnTo>
                    <a:pt x="33" y="210"/>
                  </a:lnTo>
                  <a:lnTo>
                    <a:pt x="37" y="208"/>
                  </a:lnTo>
                  <a:lnTo>
                    <a:pt x="39" y="204"/>
                  </a:lnTo>
                  <a:lnTo>
                    <a:pt x="59" y="181"/>
                  </a:lnTo>
                  <a:lnTo>
                    <a:pt x="81" y="159"/>
                  </a:lnTo>
                  <a:lnTo>
                    <a:pt x="103" y="137"/>
                  </a:lnTo>
                  <a:lnTo>
                    <a:pt x="127" y="117"/>
                  </a:lnTo>
                  <a:lnTo>
                    <a:pt x="150" y="98"/>
                  </a:lnTo>
                  <a:lnTo>
                    <a:pt x="176" y="82"/>
                  </a:lnTo>
                  <a:lnTo>
                    <a:pt x="202" y="67"/>
                  </a:lnTo>
                  <a:lnTo>
                    <a:pt x="229" y="53"/>
                  </a:lnTo>
                  <a:lnTo>
                    <a:pt x="255" y="42"/>
                  </a:lnTo>
                  <a:lnTo>
                    <a:pt x="284" y="31"/>
                  </a:lnTo>
                  <a:lnTo>
                    <a:pt x="311" y="21"/>
                  </a:lnTo>
                  <a:lnTo>
                    <a:pt x="341" y="14"/>
                  </a:lnTo>
                  <a:lnTo>
                    <a:pt x="370" y="9"/>
                  </a:lnTo>
                  <a:lnTo>
                    <a:pt x="401" y="3"/>
                  </a:lnTo>
                  <a:lnTo>
                    <a:pt x="432" y="1"/>
                  </a:lnTo>
                  <a:lnTo>
                    <a:pt x="463" y="0"/>
                  </a:lnTo>
                  <a:lnTo>
                    <a:pt x="470" y="1"/>
                  </a:lnTo>
                  <a:lnTo>
                    <a:pt x="478" y="3"/>
                  </a:lnTo>
                  <a:lnTo>
                    <a:pt x="485" y="5"/>
                  </a:lnTo>
                  <a:lnTo>
                    <a:pt x="492" y="7"/>
                  </a:lnTo>
                  <a:lnTo>
                    <a:pt x="498" y="7"/>
                  </a:lnTo>
                  <a:lnTo>
                    <a:pt x="505" y="9"/>
                  </a:lnTo>
                  <a:lnTo>
                    <a:pt x="512" y="9"/>
                  </a:lnTo>
                  <a:lnTo>
                    <a:pt x="520" y="11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8" name=""/>
          <p:cNvSpPr/>
          <p:nvPr/>
        </p:nvSpPr>
        <p:spPr>
          <a:xfrm>
            <a:off x="3530520" y="3505320"/>
            <a:ext cx="591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one was foun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3505320" y="4419720"/>
            <a:ext cx="591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oretical Computer Sc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s new algorithms every 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0" name=""/>
          <p:cNvGrpSpPr/>
          <p:nvPr/>
        </p:nvGrpSpPr>
        <p:grpSpPr>
          <a:xfrm>
            <a:off x="76320" y="4219560"/>
            <a:ext cx="3200400" cy="1368000"/>
            <a:chOff x="76320" y="4219560"/>
            <a:chExt cx="3200400" cy="1368000"/>
          </a:xfrm>
        </p:grpSpPr>
        <p:sp>
          <p:nvSpPr>
            <p:cNvPr id="2451" name=""/>
            <p:cNvSpPr/>
            <p:nvPr/>
          </p:nvSpPr>
          <p:spPr>
            <a:xfrm>
              <a:off x="1190880" y="4579920"/>
              <a:ext cx="2085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x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+ 4x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– 7x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+ 8x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³ 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1181880" y="4829040"/>
              <a:ext cx="2025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x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- 8x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+ 4x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- 3x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³ 2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080000" y="5087880"/>
              <a:ext cx="2101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-8x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+ 2x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– 3x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- 9x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³   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259280" y="5286240"/>
              <a:ext cx="1983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+ 2x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+ 9x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- 3x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³ 3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068840" y="4219560"/>
              <a:ext cx="1896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9x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+ 8x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+ 1x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+ 2x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76320" y="4632120"/>
              <a:ext cx="167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ubject to: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12040" y="4219560"/>
              <a:ext cx="118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inimize: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8" name=""/>
          <p:cNvSpPr/>
          <p:nvPr/>
        </p:nvSpPr>
        <p:spPr>
          <a:xfrm>
            <a:off x="1287000" y="335268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4" dur="indefinite" restart="never" nodeType="tmRoot">
          <p:childTnLst>
            <p:seq>
              <p:cTn id="3185" dur="indefinite" nodeType="mainSeq">
                <p:childTnLst>
                  <p:par>
                    <p:cTn id="3186" fill="hold">
                      <p:stCondLst>
                        <p:cond delay="indefinite"/>
                      </p:stCondLst>
                      <p:childTnLst>
                        <p:par>
                          <p:cTn id="3187" fill="hold">
                            <p:stCondLst>
                              <p:cond delay="0"/>
                            </p:stCondLst>
                            <p:childTnLst>
                              <p:par>
                                <p:cTn id="3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0" dur="500" fill="hold"/>
                                        <p:tgtEl>
                                          <p:spTgt spid="2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1" dur="500" fill="hold"/>
                                        <p:tgtEl>
                                          <p:spTgt spid="2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2" fill="hold">
                      <p:stCondLst>
                        <p:cond delay="indefinite"/>
                      </p:stCondLst>
                      <p:childTnLst>
                        <p:par>
                          <p:cTn id="3193" fill="hold">
                            <p:stCondLst>
                              <p:cond delay="0"/>
                            </p:stCondLst>
                            <p:childTnLst>
                              <p:par>
                                <p:cTn id="3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6" dur="1000" fill="hold"/>
                                        <p:tgtEl>
                                          <p:spTgt spid="2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7" dur="1000" fill="hold"/>
                                        <p:tgtEl>
                                          <p:spTgt spid="2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8" dur="1000" fill="hold"/>
                                        <p:tgtEl>
                                          <p:spTgt spid="2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9" dur="1000" fill="hold"/>
                                        <p:tgtEl>
                                          <p:spTgt spid="2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4" dur="500" fill="hold"/>
                                        <p:tgtEl>
                                          <p:spTgt spid="2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5" dur="500" fill="hold"/>
                                        <p:tgtEl>
                                          <p:spTgt spid="2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"/>
          <p:cNvSpPr/>
          <p:nvPr/>
        </p:nvSpPr>
        <p:spPr>
          <a:xfrm>
            <a:off x="1828800" y="2590920"/>
            <a:ext cx="2895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etwork Flow as a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near Progra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33520" y="1371600"/>
            <a:ext cx="83055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Given an instance of Network Flow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&lt;G,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&lt;u,v&gt;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express it as a Linear Program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The variable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Maximiz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Subject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2806200" y="2247840"/>
            <a:ext cx="4309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w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&lt;u,v&gt;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ach ed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1371600" y="350532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&lt;u,v&gt;: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(Flow cant exceed capac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1371600" y="39625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flow in = flow ou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276720" y="2681280"/>
            <a:ext cx="5029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6" dur="indefinite" restart="never" nodeType="tmRoot">
          <p:childTnLst>
            <p:seq>
              <p:cTn id="3207" dur="indefinite" nodeType="mainSeq">
                <p:childTnLst>
                  <p:par>
                    <p:cTn id="3208" fill="hold">
                      <p:stCondLst>
                        <p:cond delay="0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2" dur="500" fill="hold"/>
                                        <p:tgtEl>
                                          <p:spTgt spid="2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2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4" fill="hold">
                      <p:stCondLst>
                        <p:cond delay="indefinite"/>
                      </p:stCondLst>
                      <p:childTnLst>
                        <p:par>
                          <p:cTn id="3215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8" dur="500" fill="hold"/>
                                        <p:tgtEl>
                                          <p:spTgt spid="2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9" dur="500" fill="hold"/>
                                        <p:tgtEl>
                                          <p:spTgt spid="2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4" dur="500" fill="hold"/>
                                        <p:tgtEl>
                                          <p:spTgt spid="2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5" dur="500" fill="hold"/>
                                        <p:tgtEl>
                                          <p:spTgt spid="2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fill="hold">
                      <p:stCondLst>
                        <p:cond delay="indefinite"/>
                      </p:stCondLst>
                      <p:childTnLst>
                        <p:par>
                          <p:cTn id="3227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0" dur="500" fill="hold"/>
                                        <p:tgtEl>
                                          <p:spTgt spid="2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1" dur="500" fill="hold"/>
                                        <p:tgtEl>
                                          <p:spTgt spid="2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fill="hold">
                      <p:stCondLst>
                        <p:cond delay="indefinite"/>
                      </p:stCondLst>
                      <p:childTnLst>
                        <p:par>
                          <p:cTn id="3233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2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7" dur="500" fill="hold"/>
                                        <p:tgtEl>
                                          <p:spTgt spid="2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2" dur="500" fill="hold"/>
                                        <p:tgtEl>
                                          <p:spTgt spid="2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3" dur="500" fill="hold"/>
                                        <p:tgtEl>
                                          <p:spTgt spid="2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4" fill="hold">
                      <p:stCondLst>
                        <p:cond delay="indefinite"/>
                      </p:stCondLst>
                      <p:childTnLst>
                        <p:par>
                          <p:cTn id="3245" fill="hold">
                            <p:stCondLst>
                              <p:cond delay="0"/>
                            </p:stCondLst>
                            <p:childTnLst>
                              <p:par>
                                <p:cTn id="3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8" dur="500" fill="hold"/>
                                        <p:tgtEl>
                                          <p:spTgt spid="2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9" dur="500" fill="hold"/>
                                        <p:tgtEl>
                                          <p:spTgt spid="2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0" fill="hold">
                      <p:stCondLst>
                        <p:cond delay="indefinite"/>
                      </p:stCondLst>
                      <p:childTnLst>
                        <p:par>
                          <p:cTn id="3251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4" dur="500" fill="hold"/>
                                        <p:tgtEl>
                                          <p:spTgt spid="2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5" dur="500" fill="hold"/>
                                        <p:tgtEl>
                                          <p:spTgt spid="2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6" name="" descr=""/>
          <p:cNvPicPr/>
          <p:nvPr/>
        </p:nvPicPr>
        <p:blipFill>
          <a:blip r:embed="rId1"/>
          <a:stretch/>
        </p:blipFill>
        <p:spPr>
          <a:xfrm>
            <a:off x="609480" y="874800"/>
            <a:ext cx="777240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7" name="" descr=""/>
          <p:cNvPicPr/>
          <p:nvPr/>
        </p:nvPicPr>
        <p:blipFill>
          <a:blip r:embed="rId1"/>
          <a:stretch/>
        </p:blipFill>
        <p:spPr>
          <a:xfrm>
            <a:off x="533520" y="369720"/>
            <a:ext cx="8076960" cy="6118560"/>
          </a:xfrm>
          <a:prstGeom prst="rect">
            <a:avLst/>
          </a:prstGeom>
          <a:ln w="0">
            <a:noFill/>
          </a:ln>
        </p:spPr>
      </p:pic>
      <p:sp>
        <p:nvSpPr>
          <p:cNvPr id="2468" name=""/>
          <p:cNvSpPr/>
          <p:nvPr/>
        </p:nvSpPr>
        <p:spPr>
          <a:xfrm>
            <a:off x="1038240" y="242892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i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2873520" y="129528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819600" cy="1676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419720" y="2209680"/>
            <a:ext cx="48006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more flow can be push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ong the top path because th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ge &lt;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 is at capacit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ly, the edge &lt;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flow is pushed along the bottom path because this would decrease the total from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28600" y="2895480"/>
            <a:ext cx="3886200" cy="1552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3886200" cy="15526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990720" y="3429000"/>
            <a:ext cx="533160" cy="3808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16200" y="2908440"/>
            <a:ext cx="533160" cy="3808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65440" y="4241880"/>
            <a:ext cx="76176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819600" cy="16765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495680" y="3429000"/>
            <a:ext cx="4800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 is a minimum cu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 capacity is the sum of the capacities crossing the cu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1+2 = 3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 is not included in because it is going in the wrong dir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6600" y="4809960"/>
            <a:ext cx="4353120" cy="20480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3886200" cy="15526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066680" y="5587920"/>
            <a:ext cx="762120" cy="3556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92160" y="5067360"/>
            <a:ext cx="698760" cy="41904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990720" y="6324480"/>
            <a:ext cx="76176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819600" cy="1676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495680" y="3165480"/>
            <a:ext cx="48006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dges crossing forward across the cut are at capacit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crossing backwards have zero fl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always tru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6600" y="4809960"/>
            <a:ext cx="4353120" cy="2048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3886200" cy="15526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066680" y="5587920"/>
            <a:ext cx="762120" cy="3556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92160" y="5067360"/>
            <a:ext cx="698760" cy="41904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990720" y="6324480"/>
            <a:ext cx="76176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3492360"/>
            <a:ext cx="761760" cy="3556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16200" y="2971800"/>
            <a:ext cx="698400" cy="41904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914040" y="4229280"/>
            <a:ext cx="76212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819600" cy="1676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495680" y="3505320"/>
            <a:ext cx="48006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ximum flow is 1+2=3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inimum cut is 1+2=3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are always equ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6600" y="4809960"/>
            <a:ext cx="4353120" cy="20480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38862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 Application: Matc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414520" y="685800"/>
          <a:ext cx="3048120" cy="30481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</a:tblGrid>
              <a:tr h="75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5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4" name=""/>
          <p:cNvGrpSpPr/>
          <p:nvPr/>
        </p:nvGrpSpPr>
        <p:grpSpPr>
          <a:xfrm>
            <a:off x="2133720" y="762120"/>
            <a:ext cx="3857040" cy="3124080"/>
            <a:chOff x="2133720" y="762120"/>
            <a:chExt cx="3857040" cy="312408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5181480" y="2286000"/>
              <a:ext cx="6314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5267160" y="3048120"/>
              <a:ext cx="7236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3"/>
            <a:stretch/>
          </p:blipFill>
          <p:spPr>
            <a:xfrm>
              <a:off x="5181480" y="762120"/>
              <a:ext cx="60912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4"/>
            <a:stretch/>
          </p:blipFill>
          <p:spPr>
            <a:xfrm>
              <a:off x="5105160" y="1447920"/>
              <a:ext cx="47916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5"/>
            <a:stretch/>
          </p:blipFill>
          <p:spPr>
            <a:xfrm>
              <a:off x="2438280" y="762120"/>
              <a:ext cx="36792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6"/>
            <a:stretch/>
          </p:blipFill>
          <p:spPr>
            <a:xfrm>
              <a:off x="2133720" y="1600200"/>
              <a:ext cx="75384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7"/>
            <a:stretch/>
          </p:blipFill>
          <p:spPr>
            <a:xfrm>
              <a:off x="2286000" y="2286000"/>
              <a:ext cx="6058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8"/>
            <a:stretch/>
          </p:blipFill>
          <p:spPr>
            <a:xfrm>
              <a:off x="2286000" y="2971800"/>
              <a:ext cx="528120" cy="83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"/>
          <p:cNvGrpSpPr/>
          <p:nvPr/>
        </p:nvGrpSpPr>
        <p:grpSpPr>
          <a:xfrm>
            <a:off x="3479760" y="1066680"/>
            <a:ext cx="838080" cy="2286000"/>
            <a:chOff x="3479760" y="1066680"/>
            <a:chExt cx="838080" cy="2286000"/>
          </a:xfrm>
        </p:grpSpPr>
        <p:sp>
          <p:nvSpPr>
            <p:cNvPr id="244" name=""/>
            <p:cNvSpPr/>
            <p:nvPr/>
          </p:nvSpPr>
          <p:spPr>
            <a:xfrm>
              <a:off x="3555720" y="1066680"/>
              <a:ext cx="533160" cy="16002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79760" y="1828440"/>
              <a:ext cx="609480" cy="8384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555720" y="1142640"/>
              <a:ext cx="685440" cy="15242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32040" y="3352680"/>
              <a:ext cx="68544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55720" y="1066680"/>
              <a:ext cx="761760" cy="8380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79760" y="1828440"/>
              <a:ext cx="838080" cy="15242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632040" y="1142280"/>
              <a:ext cx="609120" cy="22100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479760" y="1066680"/>
            <a:ext cx="838080" cy="2286000"/>
            <a:chOff x="3479760" y="1066680"/>
            <a:chExt cx="838080" cy="2286000"/>
          </a:xfrm>
        </p:grpSpPr>
        <p:sp>
          <p:nvSpPr>
            <p:cNvPr id="252" name=""/>
            <p:cNvSpPr/>
            <p:nvPr/>
          </p:nvSpPr>
          <p:spPr>
            <a:xfrm>
              <a:off x="3479760" y="1828800"/>
              <a:ext cx="60948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556080" y="1142640"/>
              <a:ext cx="685800" cy="1523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32040" y="335268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56080" y="1066680"/>
              <a:ext cx="76176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872800" y="3648240"/>
            <a:ext cx="277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loves wh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01640" y="4129200"/>
            <a:ext cx="532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should be matched with who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as many as possible match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nobody matched twi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479760" y="1066680"/>
            <a:ext cx="838080" cy="2286000"/>
            <a:chOff x="3479760" y="1066680"/>
            <a:chExt cx="838080" cy="2286000"/>
          </a:xfrm>
        </p:grpSpPr>
        <p:sp>
          <p:nvSpPr>
            <p:cNvPr id="259" name=""/>
            <p:cNvSpPr/>
            <p:nvPr/>
          </p:nvSpPr>
          <p:spPr>
            <a:xfrm>
              <a:off x="3555720" y="1066680"/>
              <a:ext cx="53352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79760" y="1828440"/>
              <a:ext cx="838080" cy="152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632040" y="1142280"/>
              <a:ext cx="609480" cy="2210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6177960" y="1514520"/>
            <a:ext cx="293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match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an we do bett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3280" y="2438280"/>
            <a:ext cx="16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mat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 Application: Matc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92360" y="1206360"/>
            <a:ext cx="812880" cy="1422720"/>
          </a:xfrm>
          <a:custGeom>
            <a:avLst/>
            <a:gdLst/>
            <a:ahLst/>
            <a:rect l="l" t="t" r="r" b="b"/>
            <a:pathLst>
              <a:path w="512" h="896">
                <a:moveTo>
                  <a:pt x="0" y="0"/>
                </a:moveTo>
                <a:lnTo>
                  <a:pt x="512" y="896"/>
                </a:lnTo>
              </a:path>
            </a:pathLst>
          </a:custGeom>
          <a:noFill/>
          <a:ln w="381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43480" y="1892160"/>
            <a:ext cx="736560" cy="774720"/>
          </a:xfrm>
          <a:custGeom>
            <a:avLst/>
            <a:gdLst/>
            <a:ahLst/>
            <a:rect l="l" t="t" r="r" b="b"/>
            <a:pathLst>
              <a:path w="464" h="488">
                <a:moveTo>
                  <a:pt x="0" y="0"/>
                </a:moveTo>
                <a:lnTo>
                  <a:pt x="464" y="464"/>
                </a:lnTo>
                <a:lnTo>
                  <a:pt x="456" y="488"/>
                </a:lnTo>
              </a:path>
            </a:pathLst>
          </a:custGeom>
          <a:noFill/>
          <a:ln w="381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17920" y="1168560"/>
            <a:ext cx="762120" cy="1447560"/>
          </a:xfrm>
          <a:custGeom>
            <a:avLst/>
            <a:gdLst/>
            <a:ahLst/>
            <a:rect l="l" t="t" r="r" b="b"/>
            <a:pathLst>
              <a:path w="480" h="912">
                <a:moveTo>
                  <a:pt x="0" y="912"/>
                </a:moveTo>
                <a:lnTo>
                  <a:pt x="480" y="0"/>
                </a:lnTo>
              </a:path>
            </a:pathLst>
          </a:custGeom>
          <a:noFill/>
          <a:ln w="381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32040" y="3352680"/>
            <a:ext cx="6858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56080" y="1168560"/>
            <a:ext cx="723960" cy="685800"/>
          </a:xfrm>
          <a:custGeom>
            <a:avLst/>
            <a:gdLst/>
            <a:ahLst/>
            <a:rect l="l" t="t" r="r" b="b"/>
            <a:pathLst>
              <a:path w="456" h="432">
                <a:moveTo>
                  <a:pt x="0" y="0"/>
                </a:moveTo>
                <a:lnTo>
                  <a:pt x="456" y="432"/>
                </a:lnTo>
              </a:path>
            </a:pathLst>
          </a:custGeom>
          <a:noFill/>
          <a:ln w="381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92360" y="1968480"/>
            <a:ext cx="851040" cy="1333440"/>
          </a:xfrm>
          <a:custGeom>
            <a:avLst/>
            <a:gdLst/>
            <a:ahLst/>
            <a:rect l="l" t="t" r="r" b="b"/>
            <a:pathLst>
              <a:path w="536" h="840">
                <a:moveTo>
                  <a:pt x="0" y="0"/>
                </a:moveTo>
                <a:lnTo>
                  <a:pt x="536" y="840"/>
                </a:lnTo>
              </a:path>
            </a:pathLst>
          </a:custGeom>
          <a:noFill/>
          <a:ln w="381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32040" y="1206360"/>
            <a:ext cx="685800" cy="2146320"/>
          </a:xfrm>
          <a:custGeom>
            <a:avLst/>
            <a:gdLst/>
            <a:ahLst/>
            <a:rect l="l" t="t" r="r" b="b"/>
            <a:pathLst>
              <a:path w="432" h="1352">
                <a:moveTo>
                  <a:pt x="0" y="1352"/>
                </a:moveTo>
                <a:lnTo>
                  <a:pt x="432" y="0"/>
                </a:lnTo>
              </a:path>
            </a:pathLst>
          </a:custGeom>
          <a:noFill/>
          <a:ln w="381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67160" y="326376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17840" y="326376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16400" y="25909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67080" y="259092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16400" y="182880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67080" y="182880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16400" y="1066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10666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0" y="21337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21337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41200" y="191916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95840" y="191916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8280" y="2247840"/>
            <a:ext cx="1028880" cy="1067040"/>
          </a:xfrm>
          <a:custGeom>
            <a:avLst/>
            <a:gdLst/>
            <a:ahLst/>
            <a:rect l="l" t="t" r="r" b="b"/>
            <a:pathLst>
              <a:path w="648" h="672">
                <a:moveTo>
                  <a:pt x="0" y="0"/>
                </a:moveTo>
                <a:lnTo>
                  <a:pt x="648" y="672"/>
                </a:lnTo>
              </a:path>
            </a:pathLst>
          </a:custGeom>
          <a:noFill/>
          <a:ln w="381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2209680"/>
            <a:ext cx="990720" cy="444600"/>
          </a:xfrm>
          <a:custGeom>
            <a:avLst/>
            <a:gdLst/>
            <a:ahLst/>
            <a:rect l="l" t="t" r="r" b="b"/>
            <a:pathLst>
              <a:path w="624" h="280">
                <a:moveTo>
                  <a:pt x="0" y="0"/>
                </a:moveTo>
                <a:lnTo>
                  <a:pt x="624" y="280"/>
                </a:lnTo>
              </a:path>
            </a:pathLst>
          </a:custGeom>
          <a:noFill/>
          <a:ln w="381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38280" y="1917720"/>
            <a:ext cx="1003320" cy="254160"/>
          </a:xfrm>
          <a:custGeom>
            <a:avLst/>
            <a:gdLst/>
            <a:ahLst/>
            <a:rect l="l" t="t" r="r" b="b"/>
            <a:pathLst>
              <a:path w="632" h="160">
                <a:moveTo>
                  <a:pt x="0" y="160"/>
                </a:moveTo>
                <a:lnTo>
                  <a:pt x="632" y="0"/>
                </a:lnTo>
              </a:path>
            </a:pathLst>
          </a:custGeom>
          <a:noFill/>
          <a:ln w="381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13080" y="1193760"/>
            <a:ext cx="1015920" cy="965160"/>
          </a:xfrm>
          <a:custGeom>
            <a:avLst/>
            <a:gdLst/>
            <a:ahLst/>
            <a:rect l="l" t="t" r="r" b="b"/>
            <a:pathLst>
              <a:path w="640" h="608">
                <a:moveTo>
                  <a:pt x="0" y="608"/>
                </a:moveTo>
                <a:lnTo>
                  <a:pt x="640" y="0"/>
                </a:lnTo>
              </a:path>
            </a:pathLst>
          </a:custGeom>
          <a:noFill/>
          <a:ln w="381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444920" y="2209680"/>
            <a:ext cx="1028880" cy="1067040"/>
          </a:xfrm>
          <a:custGeom>
            <a:avLst/>
            <a:gdLst/>
            <a:ahLst/>
            <a:rect l="l" t="t" r="r" b="b"/>
            <a:pathLst>
              <a:path w="648" h="672">
                <a:moveTo>
                  <a:pt x="0" y="0"/>
                </a:moveTo>
                <a:lnTo>
                  <a:pt x="648" y="672"/>
                </a:lnTo>
              </a:path>
            </a:pathLst>
          </a:custGeom>
          <a:noFill/>
          <a:ln w="38160">
            <a:solidFill>
              <a:srgbClr val="00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444920" y="2171880"/>
            <a:ext cx="990720" cy="444240"/>
          </a:xfrm>
          <a:custGeom>
            <a:avLst/>
            <a:gdLst/>
            <a:ahLst/>
            <a:rect l="l" t="t" r="r" b="b"/>
            <a:pathLst>
              <a:path w="624" h="280">
                <a:moveTo>
                  <a:pt x="0" y="0"/>
                </a:moveTo>
                <a:lnTo>
                  <a:pt x="624" y="280"/>
                </a:lnTo>
              </a:path>
            </a:pathLst>
          </a:custGeom>
          <a:noFill/>
          <a:ln w="38160">
            <a:solidFill>
              <a:srgbClr val="00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444200" y="1879560"/>
            <a:ext cx="1003320" cy="254160"/>
          </a:xfrm>
          <a:custGeom>
            <a:avLst/>
            <a:gdLst/>
            <a:ahLst/>
            <a:rect l="l" t="t" r="r" b="b"/>
            <a:pathLst>
              <a:path w="632" h="160">
                <a:moveTo>
                  <a:pt x="0" y="160"/>
                </a:moveTo>
                <a:lnTo>
                  <a:pt x="632" y="0"/>
                </a:lnTo>
              </a:path>
            </a:pathLst>
          </a:custGeom>
          <a:noFill/>
          <a:ln w="38160">
            <a:solidFill>
              <a:srgbClr val="00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419720" y="1155600"/>
            <a:ext cx="1015920" cy="965160"/>
          </a:xfrm>
          <a:custGeom>
            <a:avLst/>
            <a:gdLst/>
            <a:ahLst/>
            <a:rect l="l" t="t" r="r" b="b"/>
            <a:pathLst>
              <a:path w="640" h="608">
                <a:moveTo>
                  <a:pt x="0" y="608"/>
                </a:moveTo>
                <a:lnTo>
                  <a:pt x="640" y="0"/>
                </a:lnTo>
              </a:path>
            </a:pathLst>
          </a:custGeom>
          <a:noFill/>
          <a:ln w="38160">
            <a:solidFill>
              <a:srgbClr val="00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38200" y="3657600"/>
            <a:ext cx="61070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tal flow out o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low in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atched to at most one gir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63560" y="2657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82480" y="5027760"/>
            <a:ext cx="59821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tal flow in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flow out o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rl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ched to at most one bo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06960" y="2666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73400" y="3114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49960" y="31240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762120" y="3352680"/>
            <a:ext cx="815328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80840" y="1143000"/>
            <a:ext cx="5374440" cy="21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874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rategy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ush flow in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ust make decision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et stuck and must backtrack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ifficult and time consuming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76520" y="44956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00200" y="44197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79440" y="41814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64640" y="39625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=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88760" y="4433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=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882880" y="3657600"/>
            <a:ext cx="1230840" cy="1677960"/>
            <a:chOff x="2882880" y="3657600"/>
            <a:chExt cx="1230840" cy="1677960"/>
          </a:xfrm>
        </p:grpSpPr>
        <p:sp>
          <p:nvSpPr>
            <p:cNvPr id="307" name=""/>
            <p:cNvSpPr/>
            <p:nvPr/>
          </p:nvSpPr>
          <p:spPr>
            <a:xfrm>
              <a:off x="2971800" y="4495680"/>
              <a:ext cx="9144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82880" y="4419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1800" y="41148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41280" y="365760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=1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41280" y="481500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=1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886200" y="3619440"/>
            <a:ext cx="1064880" cy="596880"/>
            <a:chOff x="3886200" y="3619440"/>
            <a:chExt cx="1064880" cy="596880"/>
          </a:xfrm>
        </p:grpSpPr>
        <p:sp>
          <p:nvSpPr>
            <p:cNvPr id="313" name=""/>
            <p:cNvSpPr/>
            <p:nvPr/>
          </p:nvSpPr>
          <p:spPr>
            <a:xfrm>
              <a:off x="3886200" y="4064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975120" y="4114440"/>
              <a:ext cx="901800" cy="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35400" y="361944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=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3074400" y="3975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=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3485880" cy="265752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1143000"/>
            <a:ext cx="6237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874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rategy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nd a path for a single drop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ush as much flow through as fit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= augment = Min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 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 Pa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 flipH="1">
            <a:off x="242640" y="3844800"/>
            <a:ext cx="2043000" cy="20224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073320" y="4584600"/>
            <a:ext cx="2946600" cy="432000"/>
          </a:xfrm>
          <a:custGeom>
            <a:avLst/>
            <a:gdLst/>
            <a:ahLst/>
            <a:rect l="l" t="t" r="r" b="b"/>
            <a:pathLst>
              <a:path w="1856" h="272">
                <a:moveTo>
                  <a:pt x="0" y="272"/>
                </a:moveTo>
                <a:lnTo>
                  <a:pt x="520" y="0"/>
                </a:lnTo>
                <a:cubicBezTo>
                  <a:pt x="753" y="0"/>
                  <a:pt x="1219" y="237"/>
                  <a:pt x="1400" y="272"/>
                </a:cubicBezTo>
                <a:cubicBezTo>
                  <a:pt x="1600" y="216"/>
                  <a:pt x="1529" y="209"/>
                  <a:pt x="1608" y="208"/>
                </a:cubicBezTo>
                <a:cubicBezTo>
                  <a:pt x="1687" y="207"/>
                  <a:pt x="1801" y="249"/>
                  <a:pt x="1856" y="27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8120" y="4673520"/>
            <a:ext cx="2946240" cy="432000"/>
          </a:xfrm>
          <a:custGeom>
            <a:avLst/>
            <a:gdLst/>
            <a:ahLst/>
            <a:rect l="l" t="t" r="r" b="b"/>
            <a:pathLst>
              <a:path w="1856" h="272">
                <a:moveTo>
                  <a:pt x="0" y="272"/>
                </a:moveTo>
                <a:lnTo>
                  <a:pt x="520" y="0"/>
                </a:lnTo>
                <a:cubicBezTo>
                  <a:pt x="753" y="0"/>
                  <a:pt x="1219" y="237"/>
                  <a:pt x="1400" y="272"/>
                </a:cubicBezTo>
                <a:cubicBezTo>
                  <a:pt x="1600" y="216"/>
                  <a:pt x="1529" y="209"/>
                  <a:pt x="1608" y="208"/>
                </a:cubicBezTo>
                <a:cubicBezTo>
                  <a:pt x="1687" y="207"/>
                  <a:pt x="1801" y="249"/>
                  <a:pt x="1856" y="272"/>
                </a:cubicBezTo>
              </a:path>
            </a:pathLst>
          </a:custGeom>
          <a:noFill/>
          <a:ln w="165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00400" y="4572000"/>
            <a:ext cx="457200" cy="3049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79480" y="1143000"/>
            <a:ext cx="6031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874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rategy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nd a path for a single drop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ush as much flow through as fit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= augment = Min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 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 Pa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14240" y="3124080"/>
            <a:ext cx="8020080" cy="20383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4786200" y="5410080"/>
            <a:ext cx="352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low/capacity = 20/2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315200" y="3733920"/>
            <a:ext cx="457200" cy="30456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541520"/>
            <a:ext cx="8534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Ingredient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Instance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possible inputs to the problem.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olutions for Instanc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ach instance has an exponentially large set of solutions.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ost of Solu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ach solution has an easy way to compute cost or valu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pecific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&lt;preCond&gt;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input is one in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&lt;postCond&gt;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valid solution with optimal cost (minimum or maximum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ptimization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52280" y="609480"/>
            <a:ext cx="8324640" cy="3581280"/>
            <a:chOff x="152280" y="609480"/>
            <a:chExt cx="8324640" cy="3581280"/>
          </a:xfrm>
        </p:grpSpPr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152280" y="609480"/>
              <a:ext cx="811512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2761920" y="2285640"/>
              <a:ext cx="571500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3337200" y="2666880"/>
            <a:ext cx="5794920" cy="40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iven Flow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struct Augmenting Graph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nd path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using BFS, DFS,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or generic search algorith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be the max amount flow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n increase along path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crease flow along path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by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.e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newF = oldF + w </a:t>
            </a:r>
            <a:r>
              <a:rPr b="0" lang="en-US" sz="3000" spc="-1" strike="noStrike">
                <a:solidFill>
                  <a:srgbClr val="00ffff"/>
                </a:solidFill>
                <a:latin typeface="Arial"/>
                <a:ea typeface="Arial"/>
              </a:rPr>
              <a:t>×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43800" y="2514600"/>
            <a:ext cx="184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62920" y="1295280"/>
            <a:ext cx="457200" cy="3049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12960" y="136368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33520" y="1019160"/>
            <a:ext cx="2438280" cy="1268280"/>
            <a:chOff x="533520" y="1019160"/>
            <a:chExt cx="2438280" cy="1268280"/>
          </a:xfrm>
        </p:grpSpPr>
        <p:sp>
          <p:nvSpPr>
            <p:cNvPr id="338" name=""/>
            <p:cNvSpPr/>
            <p:nvPr/>
          </p:nvSpPr>
          <p:spPr>
            <a:xfrm>
              <a:off x="533520" y="176688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+w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52480" y="10191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+w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09680" y="11574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+w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23880" y="14004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+w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304920" y="4807080"/>
            <a:ext cx="297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4419720"/>
            <a:ext cx="297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6333120" y="42120"/>
            <a:ext cx="1427760" cy="1069560"/>
            <a:chOff x="6333120" y="42120"/>
            <a:chExt cx="1427760" cy="1069560"/>
          </a:xfrm>
        </p:grpSpPr>
        <p:sp>
          <p:nvSpPr>
            <p:cNvPr id="345" name=""/>
            <p:cNvSpPr/>
            <p:nvPr/>
          </p:nvSpPr>
          <p:spPr>
            <a:xfrm rot="2359800">
              <a:off x="6440400" y="314280"/>
              <a:ext cx="783000" cy="61920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2359800">
              <a:off x="7218720" y="381600"/>
              <a:ext cx="450360" cy="449640"/>
            </a:xfrm>
            <a:custGeom>
              <a:avLst/>
              <a:gdLst/>
              <a:ahLst/>
              <a:rect l="l" t="t" r="r" b="b"/>
              <a:pathLst>
                <a:path w="1312" h="1296">
                  <a:moveTo>
                    <a:pt x="592" y="160"/>
                  </a:moveTo>
                  <a:cubicBezTo>
                    <a:pt x="408" y="256"/>
                    <a:pt x="32" y="496"/>
                    <a:pt x="16" y="640"/>
                  </a:cubicBezTo>
                  <a:cubicBezTo>
                    <a:pt x="0" y="784"/>
                    <a:pt x="296" y="928"/>
                    <a:pt x="496" y="1024"/>
                  </a:cubicBezTo>
                  <a:cubicBezTo>
                    <a:pt x="696" y="1120"/>
                    <a:pt x="1120" y="1296"/>
                    <a:pt x="1216" y="1216"/>
                  </a:cubicBezTo>
                  <a:cubicBezTo>
                    <a:pt x="1312" y="1136"/>
                    <a:pt x="1088" y="736"/>
                    <a:pt x="1072" y="544"/>
                  </a:cubicBezTo>
                  <a:cubicBezTo>
                    <a:pt x="1056" y="352"/>
                    <a:pt x="1208" y="128"/>
                    <a:pt x="1120" y="64"/>
                  </a:cubicBezTo>
                  <a:cubicBezTo>
                    <a:pt x="1032" y="0"/>
                    <a:pt x="776" y="64"/>
                    <a:pt x="592" y="16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819840" y="42120"/>
              <a:ext cx="691200" cy="740880"/>
              <a:chOff x="6819840" y="42120"/>
              <a:chExt cx="691200" cy="740880"/>
            </a:xfrm>
          </p:grpSpPr>
          <p:sp>
            <p:nvSpPr>
              <p:cNvPr id="348" name=""/>
              <p:cNvSpPr/>
              <p:nvPr/>
            </p:nvSpPr>
            <p:spPr>
              <a:xfrm rot="21255000">
                <a:off x="7167960" y="121320"/>
                <a:ext cx="140760" cy="11664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1255000">
                <a:off x="7119360" y="267120"/>
                <a:ext cx="144720" cy="2602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1255000">
                <a:off x="7221240" y="479880"/>
                <a:ext cx="281520" cy="17928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838400">
                <a:off x="6832440" y="536040"/>
                <a:ext cx="402120" cy="15804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1255000">
                <a:off x="7025040" y="53280"/>
                <a:ext cx="164160" cy="29124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21255000">
                <a:off x="7220880" y="52200"/>
                <a:ext cx="214920" cy="24300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457200" y="-1295280"/>
            <a:ext cx="8381880" cy="3781440"/>
            <a:chOff x="457200" y="-1295280"/>
            <a:chExt cx="8381880" cy="3781440"/>
          </a:xfrm>
        </p:grpSpPr>
        <p:pic>
          <p:nvPicPr>
            <p:cNvPr id="355" name="" descr=""/>
            <p:cNvPicPr/>
            <p:nvPr/>
          </p:nvPicPr>
          <p:blipFill>
            <a:blip r:embed="rId1"/>
            <a:stretch/>
          </p:blipFill>
          <p:spPr>
            <a:xfrm>
              <a:off x="666720" y="-657000"/>
              <a:ext cx="811512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57200" y="-1295280"/>
              <a:ext cx="83818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32440" y="2590920"/>
            <a:ext cx="5794920" cy="30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iven Flow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struct Augmenting Graph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nd path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using BFS, DFS,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or generic search algorith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o pat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op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23880" y="3886200"/>
            <a:ext cx="184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66680" y="3124080"/>
            <a:ext cx="184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62320" y="365760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333120" y="42120"/>
            <a:ext cx="1427760" cy="1069560"/>
            <a:chOff x="6333120" y="42120"/>
            <a:chExt cx="1427760" cy="1069560"/>
          </a:xfrm>
        </p:grpSpPr>
        <p:sp>
          <p:nvSpPr>
            <p:cNvPr id="363" name=""/>
            <p:cNvSpPr/>
            <p:nvPr/>
          </p:nvSpPr>
          <p:spPr>
            <a:xfrm rot="2359800">
              <a:off x="6440400" y="314280"/>
              <a:ext cx="783000" cy="61920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2359800">
              <a:off x="7218720" y="381600"/>
              <a:ext cx="450360" cy="449640"/>
            </a:xfrm>
            <a:custGeom>
              <a:avLst/>
              <a:gdLst/>
              <a:ahLst/>
              <a:rect l="l" t="t" r="r" b="b"/>
              <a:pathLst>
                <a:path w="1312" h="1296">
                  <a:moveTo>
                    <a:pt x="592" y="160"/>
                  </a:moveTo>
                  <a:cubicBezTo>
                    <a:pt x="408" y="256"/>
                    <a:pt x="32" y="496"/>
                    <a:pt x="16" y="640"/>
                  </a:cubicBezTo>
                  <a:cubicBezTo>
                    <a:pt x="0" y="784"/>
                    <a:pt x="296" y="928"/>
                    <a:pt x="496" y="1024"/>
                  </a:cubicBezTo>
                  <a:cubicBezTo>
                    <a:pt x="696" y="1120"/>
                    <a:pt x="1120" y="1296"/>
                    <a:pt x="1216" y="1216"/>
                  </a:cubicBezTo>
                  <a:cubicBezTo>
                    <a:pt x="1312" y="1136"/>
                    <a:pt x="1088" y="736"/>
                    <a:pt x="1072" y="544"/>
                  </a:cubicBezTo>
                  <a:cubicBezTo>
                    <a:pt x="1056" y="352"/>
                    <a:pt x="1208" y="128"/>
                    <a:pt x="1120" y="64"/>
                  </a:cubicBezTo>
                  <a:cubicBezTo>
                    <a:pt x="1032" y="0"/>
                    <a:pt x="776" y="64"/>
                    <a:pt x="592" y="16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6819840" y="42120"/>
              <a:ext cx="691200" cy="740880"/>
              <a:chOff x="6819840" y="42120"/>
              <a:chExt cx="691200" cy="740880"/>
            </a:xfrm>
          </p:grpSpPr>
          <p:sp>
            <p:nvSpPr>
              <p:cNvPr id="366" name=""/>
              <p:cNvSpPr/>
              <p:nvPr/>
            </p:nvSpPr>
            <p:spPr>
              <a:xfrm rot="21255000">
                <a:off x="7167960" y="121320"/>
                <a:ext cx="140760" cy="11664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21255000">
                <a:off x="7119360" y="267120"/>
                <a:ext cx="144720" cy="2602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21255000">
                <a:off x="7221240" y="479880"/>
                <a:ext cx="281520" cy="17928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9838400">
                <a:off x="6832440" y="536040"/>
                <a:ext cx="402120" cy="15804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21255000">
                <a:off x="7025040" y="53280"/>
                <a:ext cx="164160" cy="29124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21255000">
                <a:off x="7220880" y="52200"/>
                <a:ext cx="214920" cy="24300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ll Climb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57200" y="533520"/>
            <a:ext cx="1181160" cy="1066680"/>
            <a:chOff x="457200" y="533520"/>
            <a:chExt cx="1181160" cy="1066680"/>
          </a:xfrm>
        </p:grpSpPr>
        <p:sp>
          <p:nvSpPr>
            <p:cNvPr id="374" name=""/>
            <p:cNvSpPr/>
            <p:nvPr/>
          </p:nvSpPr>
          <p:spPr>
            <a:xfrm>
              <a:off x="457200" y="533520"/>
              <a:ext cx="1181160" cy="106668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643680" y="622440"/>
              <a:ext cx="629640" cy="860400"/>
              <a:chOff x="643680" y="622440"/>
              <a:chExt cx="629640" cy="86040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643680" y="622440"/>
                <a:ext cx="592560" cy="842400"/>
                <a:chOff x="643680" y="622440"/>
                <a:chExt cx="592560" cy="84240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839160" y="764640"/>
                  <a:ext cx="102960" cy="177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132" y="186"/>
                      </a:moveTo>
                      <a:lnTo>
                        <a:pt x="157" y="114"/>
                      </a:lnTo>
                      <a:lnTo>
                        <a:pt x="189" y="42"/>
                      </a:lnTo>
                      <a:lnTo>
                        <a:pt x="236" y="6"/>
                      </a:lnTo>
                      <a:lnTo>
                        <a:pt x="302" y="0"/>
                      </a:lnTo>
                      <a:lnTo>
                        <a:pt x="355" y="24"/>
                      </a:lnTo>
                      <a:lnTo>
                        <a:pt x="393" y="63"/>
                      </a:lnTo>
                      <a:lnTo>
                        <a:pt x="421" y="135"/>
                      </a:lnTo>
                      <a:lnTo>
                        <a:pt x="434" y="222"/>
                      </a:lnTo>
                      <a:lnTo>
                        <a:pt x="434" y="312"/>
                      </a:lnTo>
                      <a:lnTo>
                        <a:pt x="412" y="411"/>
                      </a:lnTo>
                      <a:lnTo>
                        <a:pt x="355" y="474"/>
                      </a:lnTo>
                      <a:lnTo>
                        <a:pt x="299" y="514"/>
                      </a:lnTo>
                      <a:lnTo>
                        <a:pt x="245" y="510"/>
                      </a:lnTo>
                      <a:lnTo>
                        <a:pt x="198" y="468"/>
                      </a:lnTo>
                      <a:lnTo>
                        <a:pt x="157" y="396"/>
                      </a:lnTo>
                      <a:lnTo>
                        <a:pt x="129" y="333"/>
                      </a:lnTo>
                      <a:lnTo>
                        <a:pt x="129" y="252"/>
                      </a:lnTo>
                      <a:lnTo>
                        <a:pt x="0" y="234"/>
                      </a:lnTo>
                      <a:lnTo>
                        <a:pt x="16" y="189"/>
                      </a:lnTo>
                      <a:lnTo>
                        <a:pt x="132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907200" y="622440"/>
                  <a:ext cx="134280" cy="398880"/>
                </a:xfrm>
                <a:custGeom>
                  <a:avLst/>
                  <a:gdLst/>
                  <a:ahLst/>
                  <a:rect l="l" t="t" r="r" b="b"/>
                  <a:pathLst>
                    <a:path w="566" h="1154">
                      <a:moveTo>
                        <a:pt x="13" y="1145"/>
                      </a:moveTo>
                      <a:lnTo>
                        <a:pt x="0" y="1088"/>
                      </a:lnTo>
                      <a:lnTo>
                        <a:pt x="31" y="1042"/>
                      </a:lnTo>
                      <a:lnTo>
                        <a:pt x="134" y="988"/>
                      </a:lnTo>
                      <a:lnTo>
                        <a:pt x="226" y="927"/>
                      </a:lnTo>
                      <a:lnTo>
                        <a:pt x="313" y="827"/>
                      </a:lnTo>
                      <a:lnTo>
                        <a:pt x="432" y="689"/>
                      </a:lnTo>
                      <a:lnTo>
                        <a:pt x="463" y="634"/>
                      </a:lnTo>
                      <a:lnTo>
                        <a:pt x="479" y="580"/>
                      </a:lnTo>
                      <a:lnTo>
                        <a:pt x="472" y="526"/>
                      </a:lnTo>
                      <a:lnTo>
                        <a:pt x="444" y="426"/>
                      </a:lnTo>
                      <a:lnTo>
                        <a:pt x="376" y="299"/>
                      </a:lnTo>
                      <a:lnTo>
                        <a:pt x="301" y="229"/>
                      </a:lnTo>
                      <a:lnTo>
                        <a:pt x="235" y="190"/>
                      </a:lnTo>
                      <a:lnTo>
                        <a:pt x="181" y="184"/>
                      </a:lnTo>
                      <a:lnTo>
                        <a:pt x="153" y="190"/>
                      </a:lnTo>
                      <a:lnTo>
                        <a:pt x="150" y="163"/>
                      </a:lnTo>
                      <a:lnTo>
                        <a:pt x="215" y="154"/>
                      </a:lnTo>
                      <a:lnTo>
                        <a:pt x="291" y="154"/>
                      </a:lnTo>
                      <a:lnTo>
                        <a:pt x="238" y="93"/>
                      </a:lnTo>
                      <a:lnTo>
                        <a:pt x="206" y="45"/>
                      </a:lnTo>
                      <a:lnTo>
                        <a:pt x="229" y="27"/>
                      </a:lnTo>
                      <a:lnTo>
                        <a:pt x="313" y="109"/>
                      </a:lnTo>
                      <a:lnTo>
                        <a:pt x="329" y="121"/>
                      </a:lnTo>
                      <a:lnTo>
                        <a:pt x="313" y="57"/>
                      </a:lnTo>
                      <a:lnTo>
                        <a:pt x="301" y="9"/>
                      </a:lnTo>
                      <a:lnTo>
                        <a:pt x="313" y="0"/>
                      </a:lnTo>
                      <a:lnTo>
                        <a:pt x="341" y="9"/>
                      </a:lnTo>
                      <a:lnTo>
                        <a:pt x="366" y="121"/>
                      </a:lnTo>
                      <a:lnTo>
                        <a:pt x="379" y="118"/>
                      </a:lnTo>
                      <a:lnTo>
                        <a:pt x="379" y="30"/>
                      </a:lnTo>
                      <a:lnTo>
                        <a:pt x="404" y="21"/>
                      </a:lnTo>
                      <a:lnTo>
                        <a:pt x="422" y="36"/>
                      </a:lnTo>
                      <a:lnTo>
                        <a:pt x="413" y="154"/>
                      </a:lnTo>
                      <a:lnTo>
                        <a:pt x="407" y="202"/>
                      </a:lnTo>
                      <a:lnTo>
                        <a:pt x="422" y="299"/>
                      </a:lnTo>
                      <a:lnTo>
                        <a:pt x="472" y="402"/>
                      </a:lnTo>
                      <a:lnTo>
                        <a:pt x="525" y="520"/>
                      </a:lnTo>
                      <a:lnTo>
                        <a:pt x="566" y="607"/>
                      </a:lnTo>
                      <a:lnTo>
                        <a:pt x="563" y="652"/>
                      </a:lnTo>
                      <a:lnTo>
                        <a:pt x="488" y="734"/>
                      </a:lnTo>
                      <a:lnTo>
                        <a:pt x="385" y="836"/>
                      </a:lnTo>
                      <a:lnTo>
                        <a:pt x="301" y="937"/>
                      </a:lnTo>
                      <a:lnTo>
                        <a:pt x="197" y="1070"/>
                      </a:lnTo>
                      <a:lnTo>
                        <a:pt x="112" y="1136"/>
                      </a:lnTo>
                      <a:lnTo>
                        <a:pt x="47" y="1154"/>
                      </a:lnTo>
                      <a:lnTo>
                        <a:pt x="13" y="1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43680" y="994320"/>
                  <a:ext cx="246240" cy="200880"/>
                </a:xfrm>
                <a:custGeom>
                  <a:avLst/>
                  <a:gdLst/>
                  <a:ahLst/>
                  <a:rect l="l" t="t" r="r" b="b"/>
                  <a:pathLst>
                    <a:path w="1037" h="581">
                      <a:moveTo>
                        <a:pt x="210" y="468"/>
                      </a:moveTo>
                      <a:lnTo>
                        <a:pt x="361" y="462"/>
                      </a:lnTo>
                      <a:lnTo>
                        <a:pt x="498" y="444"/>
                      </a:lnTo>
                      <a:lnTo>
                        <a:pt x="583" y="423"/>
                      </a:lnTo>
                      <a:lnTo>
                        <a:pt x="705" y="354"/>
                      </a:lnTo>
                      <a:lnTo>
                        <a:pt x="792" y="288"/>
                      </a:lnTo>
                      <a:lnTo>
                        <a:pt x="906" y="207"/>
                      </a:lnTo>
                      <a:lnTo>
                        <a:pt x="959" y="156"/>
                      </a:lnTo>
                      <a:lnTo>
                        <a:pt x="1000" y="120"/>
                      </a:lnTo>
                      <a:lnTo>
                        <a:pt x="1037" y="81"/>
                      </a:lnTo>
                      <a:lnTo>
                        <a:pt x="1037" y="39"/>
                      </a:lnTo>
                      <a:lnTo>
                        <a:pt x="996" y="0"/>
                      </a:lnTo>
                      <a:lnTo>
                        <a:pt x="971" y="9"/>
                      </a:lnTo>
                      <a:lnTo>
                        <a:pt x="903" y="90"/>
                      </a:lnTo>
                      <a:lnTo>
                        <a:pt x="828" y="183"/>
                      </a:lnTo>
                      <a:lnTo>
                        <a:pt x="752" y="270"/>
                      </a:lnTo>
                      <a:lnTo>
                        <a:pt x="642" y="342"/>
                      </a:lnTo>
                      <a:lnTo>
                        <a:pt x="548" y="390"/>
                      </a:lnTo>
                      <a:lnTo>
                        <a:pt x="445" y="414"/>
                      </a:lnTo>
                      <a:lnTo>
                        <a:pt x="301" y="417"/>
                      </a:lnTo>
                      <a:lnTo>
                        <a:pt x="216" y="417"/>
                      </a:lnTo>
                      <a:lnTo>
                        <a:pt x="144" y="363"/>
                      </a:lnTo>
                      <a:lnTo>
                        <a:pt x="125" y="327"/>
                      </a:lnTo>
                      <a:lnTo>
                        <a:pt x="94" y="327"/>
                      </a:lnTo>
                      <a:lnTo>
                        <a:pt x="116" y="372"/>
                      </a:lnTo>
                      <a:lnTo>
                        <a:pt x="150" y="414"/>
                      </a:lnTo>
                      <a:lnTo>
                        <a:pt x="66" y="396"/>
                      </a:lnTo>
                      <a:lnTo>
                        <a:pt x="3" y="387"/>
                      </a:lnTo>
                      <a:lnTo>
                        <a:pt x="3" y="405"/>
                      </a:lnTo>
                      <a:lnTo>
                        <a:pt x="59" y="417"/>
                      </a:lnTo>
                      <a:lnTo>
                        <a:pt x="97" y="441"/>
                      </a:lnTo>
                      <a:lnTo>
                        <a:pt x="131" y="444"/>
                      </a:lnTo>
                      <a:lnTo>
                        <a:pt x="78" y="462"/>
                      </a:lnTo>
                      <a:lnTo>
                        <a:pt x="0" y="481"/>
                      </a:lnTo>
                      <a:lnTo>
                        <a:pt x="3" y="499"/>
                      </a:lnTo>
                      <a:lnTo>
                        <a:pt x="28" y="505"/>
                      </a:lnTo>
                      <a:lnTo>
                        <a:pt x="103" y="481"/>
                      </a:lnTo>
                      <a:lnTo>
                        <a:pt x="150" y="477"/>
                      </a:lnTo>
                      <a:lnTo>
                        <a:pt x="122" y="505"/>
                      </a:lnTo>
                      <a:lnTo>
                        <a:pt x="78" y="550"/>
                      </a:lnTo>
                      <a:lnTo>
                        <a:pt x="59" y="562"/>
                      </a:lnTo>
                      <a:lnTo>
                        <a:pt x="75" y="581"/>
                      </a:lnTo>
                      <a:lnTo>
                        <a:pt x="113" y="559"/>
                      </a:lnTo>
                      <a:lnTo>
                        <a:pt x="163" y="514"/>
                      </a:lnTo>
                      <a:lnTo>
                        <a:pt x="210" y="46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70480" y="973800"/>
                  <a:ext cx="144360" cy="276480"/>
                </a:xfrm>
                <a:custGeom>
                  <a:avLst/>
                  <a:gdLst/>
                  <a:ahLst/>
                  <a:rect l="l" t="t" r="r" b="b"/>
                  <a:pathLst>
                    <a:path w="608" h="800">
                      <a:moveTo>
                        <a:pt x="38" y="90"/>
                      </a:moveTo>
                      <a:lnTo>
                        <a:pt x="63" y="27"/>
                      </a:lnTo>
                      <a:lnTo>
                        <a:pt x="104" y="0"/>
                      </a:lnTo>
                      <a:lnTo>
                        <a:pt x="141" y="0"/>
                      </a:lnTo>
                      <a:lnTo>
                        <a:pt x="179" y="18"/>
                      </a:lnTo>
                      <a:lnTo>
                        <a:pt x="216" y="54"/>
                      </a:lnTo>
                      <a:lnTo>
                        <a:pt x="235" y="117"/>
                      </a:lnTo>
                      <a:lnTo>
                        <a:pt x="245" y="180"/>
                      </a:lnTo>
                      <a:lnTo>
                        <a:pt x="263" y="243"/>
                      </a:lnTo>
                      <a:lnTo>
                        <a:pt x="298" y="312"/>
                      </a:lnTo>
                      <a:lnTo>
                        <a:pt x="357" y="384"/>
                      </a:lnTo>
                      <a:lnTo>
                        <a:pt x="415" y="432"/>
                      </a:lnTo>
                      <a:lnTo>
                        <a:pt x="499" y="468"/>
                      </a:lnTo>
                      <a:lnTo>
                        <a:pt x="571" y="522"/>
                      </a:lnTo>
                      <a:lnTo>
                        <a:pt x="608" y="577"/>
                      </a:lnTo>
                      <a:lnTo>
                        <a:pt x="602" y="622"/>
                      </a:lnTo>
                      <a:lnTo>
                        <a:pt x="593" y="676"/>
                      </a:lnTo>
                      <a:lnTo>
                        <a:pt x="565" y="712"/>
                      </a:lnTo>
                      <a:lnTo>
                        <a:pt x="518" y="757"/>
                      </a:lnTo>
                      <a:lnTo>
                        <a:pt x="449" y="790"/>
                      </a:lnTo>
                      <a:lnTo>
                        <a:pt x="396" y="800"/>
                      </a:lnTo>
                      <a:lnTo>
                        <a:pt x="320" y="784"/>
                      </a:lnTo>
                      <a:lnTo>
                        <a:pt x="251" y="748"/>
                      </a:lnTo>
                      <a:lnTo>
                        <a:pt x="179" y="694"/>
                      </a:lnTo>
                      <a:lnTo>
                        <a:pt x="129" y="631"/>
                      </a:lnTo>
                      <a:lnTo>
                        <a:pt x="82" y="550"/>
                      </a:lnTo>
                      <a:lnTo>
                        <a:pt x="44" y="456"/>
                      </a:lnTo>
                      <a:lnTo>
                        <a:pt x="19" y="375"/>
                      </a:lnTo>
                      <a:lnTo>
                        <a:pt x="7" y="297"/>
                      </a:lnTo>
                      <a:lnTo>
                        <a:pt x="0" y="189"/>
                      </a:lnTo>
                      <a:lnTo>
                        <a:pt x="19" y="117"/>
                      </a:lnTo>
                      <a:lnTo>
                        <a:pt x="38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988560" y="1091880"/>
                  <a:ext cx="247680" cy="250920"/>
                </a:xfrm>
                <a:custGeom>
                  <a:avLst/>
                  <a:gdLst/>
                  <a:ahLst/>
                  <a:rect l="l" t="t" r="r" b="b"/>
                  <a:pathLst>
                    <a:path w="1043" h="726">
                      <a:moveTo>
                        <a:pt x="116" y="230"/>
                      </a:moveTo>
                      <a:lnTo>
                        <a:pt x="216" y="147"/>
                      </a:lnTo>
                      <a:lnTo>
                        <a:pt x="338" y="72"/>
                      </a:lnTo>
                      <a:lnTo>
                        <a:pt x="417" y="27"/>
                      </a:lnTo>
                      <a:lnTo>
                        <a:pt x="479" y="12"/>
                      </a:lnTo>
                      <a:lnTo>
                        <a:pt x="529" y="0"/>
                      </a:lnTo>
                      <a:lnTo>
                        <a:pt x="573" y="18"/>
                      </a:lnTo>
                      <a:lnTo>
                        <a:pt x="601" y="75"/>
                      </a:lnTo>
                      <a:lnTo>
                        <a:pt x="620" y="230"/>
                      </a:lnTo>
                      <a:lnTo>
                        <a:pt x="620" y="416"/>
                      </a:lnTo>
                      <a:lnTo>
                        <a:pt x="620" y="536"/>
                      </a:lnTo>
                      <a:lnTo>
                        <a:pt x="642" y="609"/>
                      </a:lnTo>
                      <a:lnTo>
                        <a:pt x="686" y="597"/>
                      </a:lnTo>
                      <a:lnTo>
                        <a:pt x="717" y="552"/>
                      </a:lnTo>
                      <a:lnTo>
                        <a:pt x="779" y="500"/>
                      </a:lnTo>
                      <a:lnTo>
                        <a:pt x="876" y="470"/>
                      </a:lnTo>
                      <a:lnTo>
                        <a:pt x="943" y="470"/>
                      </a:lnTo>
                      <a:lnTo>
                        <a:pt x="1043" y="488"/>
                      </a:lnTo>
                      <a:lnTo>
                        <a:pt x="1037" y="524"/>
                      </a:lnTo>
                      <a:lnTo>
                        <a:pt x="1015" y="555"/>
                      </a:lnTo>
                      <a:lnTo>
                        <a:pt x="981" y="561"/>
                      </a:lnTo>
                      <a:lnTo>
                        <a:pt x="943" y="542"/>
                      </a:lnTo>
                      <a:lnTo>
                        <a:pt x="886" y="518"/>
                      </a:lnTo>
                      <a:lnTo>
                        <a:pt x="829" y="518"/>
                      </a:lnTo>
                      <a:lnTo>
                        <a:pt x="754" y="564"/>
                      </a:lnTo>
                      <a:lnTo>
                        <a:pt x="708" y="633"/>
                      </a:lnTo>
                      <a:lnTo>
                        <a:pt x="698" y="690"/>
                      </a:lnTo>
                      <a:lnTo>
                        <a:pt x="679" y="726"/>
                      </a:lnTo>
                      <a:lnTo>
                        <a:pt x="604" y="723"/>
                      </a:lnTo>
                      <a:lnTo>
                        <a:pt x="601" y="669"/>
                      </a:lnTo>
                      <a:lnTo>
                        <a:pt x="576" y="591"/>
                      </a:lnTo>
                      <a:lnTo>
                        <a:pt x="567" y="509"/>
                      </a:lnTo>
                      <a:lnTo>
                        <a:pt x="573" y="401"/>
                      </a:lnTo>
                      <a:lnTo>
                        <a:pt x="564" y="248"/>
                      </a:lnTo>
                      <a:lnTo>
                        <a:pt x="558" y="147"/>
                      </a:lnTo>
                      <a:lnTo>
                        <a:pt x="539" y="111"/>
                      </a:lnTo>
                      <a:lnTo>
                        <a:pt x="501" y="75"/>
                      </a:lnTo>
                      <a:lnTo>
                        <a:pt x="461" y="75"/>
                      </a:lnTo>
                      <a:lnTo>
                        <a:pt x="403" y="111"/>
                      </a:lnTo>
                      <a:lnTo>
                        <a:pt x="328" y="181"/>
                      </a:lnTo>
                      <a:lnTo>
                        <a:pt x="235" y="272"/>
                      </a:lnTo>
                      <a:lnTo>
                        <a:pt x="141" y="356"/>
                      </a:lnTo>
                      <a:lnTo>
                        <a:pt x="94" y="383"/>
                      </a:lnTo>
                      <a:lnTo>
                        <a:pt x="38" y="383"/>
                      </a:lnTo>
                      <a:lnTo>
                        <a:pt x="0" y="344"/>
                      </a:lnTo>
                      <a:lnTo>
                        <a:pt x="3" y="281"/>
                      </a:lnTo>
                      <a:lnTo>
                        <a:pt x="41" y="248"/>
                      </a:lnTo>
                      <a:lnTo>
                        <a:pt x="84" y="239"/>
                      </a:lnTo>
                      <a:lnTo>
                        <a:pt x="116" y="23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975240" y="1201320"/>
                  <a:ext cx="169200" cy="263520"/>
                </a:xfrm>
                <a:custGeom>
                  <a:avLst/>
                  <a:gdLst/>
                  <a:ahLst/>
                  <a:rect l="l" t="t" r="r" b="b"/>
                  <a:pathLst>
                    <a:path w="713" h="762">
                      <a:moveTo>
                        <a:pt x="0" y="64"/>
                      </a:moveTo>
                      <a:lnTo>
                        <a:pt x="22" y="16"/>
                      </a:lnTo>
                      <a:lnTo>
                        <a:pt x="69" y="0"/>
                      </a:lnTo>
                      <a:lnTo>
                        <a:pt x="134" y="7"/>
                      </a:lnTo>
                      <a:lnTo>
                        <a:pt x="150" y="52"/>
                      </a:lnTo>
                      <a:lnTo>
                        <a:pt x="125" y="227"/>
                      </a:lnTo>
                      <a:lnTo>
                        <a:pt x="122" y="360"/>
                      </a:lnTo>
                      <a:lnTo>
                        <a:pt x="116" y="435"/>
                      </a:lnTo>
                      <a:lnTo>
                        <a:pt x="116" y="450"/>
                      </a:lnTo>
                      <a:lnTo>
                        <a:pt x="131" y="524"/>
                      </a:lnTo>
                      <a:lnTo>
                        <a:pt x="172" y="536"/>
                      </a:lnTo>
                      <a:lnTo>
                        <a:pt x="225" y="524"/>
                      </a:lnTo>
                      <a:lnTo>
                        <a:pt x="303" y="481"/>
                      </a:lnTo>
                      <a:lnTo>
                        <a:pt x="387" y="460"/>
                      </a:lnTo>
                      <a:lnTo>
                        <a:pt x="482" y="444"/>
                      </a:lnTo>
                      <a:lnTo>
                        <a:pt x="585" y="432"/>
                      </a:lnTo>
                      <a:lnTo>
                        <a:pt x="660" y="432"/>
                      </a:lnTo>
                      <a:lnTo>
                        <a:pt x="694" y="441"/>
                      </a:lnTo>
                      <a:lnTo>
                        <a:pt x="713" y="463"/>
                      </a:lnTo>
                      <a:lnTo>
                        <a:pt x="704" y="496"/>
                      </a:lnTo>
                      <a:lnTo>
                        <a:pt x="657" y="524"/>
                      </a:lnTo>
                      <a:lnTo>
                        <a:pt x="613" y="563"/>
                      </a:lnTo>
                      <a:lnTo>
                        <a:pt x="572" y="618"/>
                      </a:lnTo>
                      <a:lnTo>
                        <a:pt x="547" y="663"/>
                      </a:lnTo>
                      <a:lnTo>
                        <a:pt x="526" y="708"/>
                      </a:lnTo>
                      <a:lnTo>
                        <a:pt x="510" y="762"/>
                      </a:lnTo>
                      <a:lnTo>
                        <a:pt x="488" y="762"/>
                      </a:lnTo>
                      <a:lnTo>
                        <a:pt x="469" y="741"/>
                      </a:lnTo>
                      <a:lnTo>
                        <a:pt x="462" y="681"/>
                      </a:lnTo>
                      <a:lnTo>
                        <a:pt x="507" y="627"/>
                      </a:lnTo>
                      <a:lnTo>
                        <a:pt x="566" y="563"/>
                      </a:lnTo>
                      <a:lnTo>
                        <a:pt x="622" y="515"/>
                      </a:lnTo>
                      <a:lnTo>
                        <a:pt x="647" y="499"/>
                      </a:lnTo>
                      <a:lnTo>
                        <a:pt x="657" y="478"/>
                      </a:lnTo>
                      <a:lnTo>
                        <a:pt x="632" y="463"/>
                      </a:lnTo>
                      <a:lnTo>
                        <a:pt x="547" y="463"/>
                      </a:lnTo>
                      <a:lnTo>
                        <a:pt x="440" y="481"/>
                      </a:lnTo>
                      <a:lnTo>
                        <a:pt x="356" y="509"/>
                      </a:lnTo>
                      <a:lnTo>
                        <a:pt x="265" y="560"/>
                      </a:lnTo>
                      <a:lnTo>
                        <a:pt x="187" y="596"/>
                      </a:lnTo>
                      <a:lnTo>
                        <a:pt x="103" y="599"/>
                      </a:lnTo>
                      <a:lnTo>
                        <a:pt x="69" y="587"/>
                      </a:lnTo>
                      <a:lnTo>
                        <a:pt x="50" y="542"/>
                      </a:lnTo>
                      <a:lnTo>
                        <a:pt x="37" y="478"/>
                      </a:lnTo>
                      <a:lnTo>
                        <a:pt x="31" y="360"/>
                      </a:lnTo>
                      <a:lnTo>
                        <a:pt x="19" y="151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1171080" y="1179720"/>
                <a:ext cx="102240" cy="303120"/>
                <a:chOff x="1171080" y="1179720"/>
                <a:chExt cx="102240" cy="3031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1192680" y="134856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340" h="109">
                      <a:moveTo>
                        <a:pt x="340" y="109"/>
                      </a:moveTo>
                      <a:lnTo>
                        <a:pt x="165" y="30"/>
                      </a:lnTo>
                      <a:lnTo>
                        <a:pt x="48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22" y="48"/>
                      </a:lnTo>
                      <a:lnTo>
                        <a:pt x="70" y="54"/>
                      </a:lnTo>
                      <a:lnTo>
                        <a:pt x="184" y="75"/>
                      </a:lnTo>
                      <a:lnTo>
                        <a:pt x="340" y="1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171080" y="1382400"/>
                  <a:ext cx="22680" cy="100440"/>
                </a:xfrm>
                <a:custGeom>
                  <a:avLst/>
                  <a:gdLst/>
                  <a:ahLst/>
                  <a:rect l="l" t="t" r="r" b="b"/>
                  <a:pathLst>
                    <a:path w="97" h="291">
                      <a:moveTo>
                        <a:pt x="97" y="291"/>
                      </a:moveTo>
                      <a:lnTo>
                        <a:pt x="94" y="148"/>
                      </a:lnTo>
                      <a:lnTo>
                        <a:pt x="69" y="39"/>
                      </a:lnTo>
                      <a:lnTo>
                        <a:pt x="41" y="0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54"/>
                      </a:lnTo>
                      <a:lnTo>
                        <a:pt x="47" y="184"/>
                      </a:lnTo>
                      <a:lnTo>
                        <a:pt x="97" y="2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204200" y="1179720"/>
                  <a:ext cx="50760" cy="38160"/>
                </a:xfrm>
                <a:custGeom>
                  <a:avLst/>
                  <a:gdLst/>
                  <a:ahLst/>
                  <a:rect l="l" t="t" r="r" b="b"/>
                  <a:pathLst>
                    <a:path w="214" h="111">
                      <a:moveTo>
                        <a:pt x="0" y="72"/>
                      </a:moveTo>
                      <a:lnTo>
                        <a:pt x="42" y="30"/>
                      </a:lnTo>
                      <a:lnTo>
                        <a:pt x="100" y="3"/>
                      </a:lnTo>
                      <a:lnTo>
                        <a:pt x="166" y="0"/>
                      </a:lnTo>
                      <a:lnTo>
                        <a:pt x="214" y="9"/>
                      </a:lnTo>
                      <a:lnTo>
                        <a:pt x="138" y="18"/>
                      </a:lnTo>
                      <a:lnTo>
                        <a:pt x="109" y="36"/>
                      </a:lnTo>
                      <a:lnTo>
                        <a:pt x="81" y="63"/>
                      </a:lnTo>
                      <a:lnTo>
                        <a:pt x="68" y="93"/>
                      </a:lnTo>
                      <a:lnTo>
                        <a:pt x="42" y="111"/>
                      </a:lnTo>
                      <a:lnTo>
                        <a:pt x="1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7" name=""/>
          <p:cNvSpPr/>
          <p:nvPr/>
        </p:nvSpPr>
        <p:spPr>
          <a:xfrm>
            <a:off x="6172200" y="3809880"/>
            <a:ext cx="5410080" cy="2895840"/>
          </a:xfrm>
          <a:custGeom>
            <a:avLst/>
            <a:gdLst/>
            <a:ahLst/>
            <a:rect l="l" t="t" r="r" b="b"/>
            <a:pathLst>
              <a:path w="4224" h="1973">
                <a:moveTo>
                  <a:pt x="0" y="1925"/>
                </a:moveTo>
                <a:cubicBezTo>
                  <a:pt x="248" y="1949"/>
                  <a:pt x="496" y="1973"/>
                  <a:pt x="720" y="1733"/>
                </a:cubicBezTo>
                <a:cubicBezTo>
                  <a:pt x="944" y="1493"/>
                  <a:pt x="1115" y="772"/>
                  <a:pt x="1344" y="485"/>
                </a:cubicBezTo>
                <a:cubicBezTo>
                  <a:pt x="1573" y="198"/>
                  <a:pt x="1848" y="0"/>
                  <a:pt x="2096" y="13"/>
                </a:cubicBezTo>
                <a:cubicBezTo>
                  <a:pt x="2344" y="26"/>
                  <a:pt x="2573" y="278"/>
                  <a:pt x="2832" y="565"/>
                </a:cubicBezTo>
                <a:cubicBezTo>
                  <a:pt x="3091" y="852"/>
                  <a:pt x="3416" y="1514"/>
                  <a:pt x="3648" y="1733"/>
                </a:cubicBezTo>
                <a:cubicBezTo>
                  <a:pt x="3880" y="1952"/>
                  <a:pt x="4048" y="1893"/>
                  <a:pt x="4224" y="1877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05120" y="5092560"/>
            <a:ext cx="4647960" cy="1600200"/>
          </a:xfrm>
          <a:custGeom>
            <a:avLst/>
            <a:gdLst/>
            <a:ahLst/>
            <a:rect l="l" t="t" r="r" b="b"/>
            <a:pathLst>
              <a:path w="4224" h="1973">
                <a:moveTo>
                  <a:pt x="0" y="1925"/>
                </a:moveTo>
                <a:cubicBezTo>
                  <a:pt x="248" y="1949"/>
                  <a:pt x="496" y="1973"/>
                  <a:pt x="720" y="1733"/>
                </a:cubicBezTo>
                <a:cubicBezTo>
                  <a:pt x="944" y="1493"/>
                  <a:pt x="1115" y="772"/>
                  <a:pt x="1344" y="485"/>
                </a:cubicBezTo>
                <a:cubicBezTo>
                  <a:pt x="1573" y="198"/>
                  <a:pt x="1848" y="0"/>
                  <a:pt x="2096" y="13"/>
                </a:cubicBezTo>
                <a:cubicBezTo>
                  <a:pt x="2344" y="26"/>
                  <a:pt x="2573" y="278"/>
                  <a:pt x="2832" y="565"/>
                </a:cubicBezTo>
                <a:cubicBezTo>
                  <a:pt x="3091" y="852"/>
                  <a:pt x="3416" y="1514"/>
                  <a:pt x="3648" y="1733"/>
                </a:cubicBezTo>
                <a:cubicBezTo>
                  <a:pt x="3880" y="1952"/>
                  <a:pt x="4048" y="1893"/>
                  <a:pt x="4224" y="1877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263040" y="5207040"/>
            <a:ext cx="699120" cy="893880"/>
            <a:chOff x="3263040" y="5207040"/>
            <a:chExt cx="699120" cy="893880"/>
          </a:xfrm>
        </p:grpSpPr>
        <p:sp>
          <p:nvSpPr>
            <p:cNvPr id="390" name=""/>
            <p:cNvSpPr/>
            <p:nvPr/>
          </p:nvSpPr>
          <p:spPr>
            <a:xfrm rot="19765200">
              <a:off x="3448080" y="5351760"/>
              <a:ext cx="140760" cy="116640"/>
            </a:xfrm>
            <a:custGeom>
              <a:avLst/>
              <a:gdLst/>
              <a:ahLst/>
              <a:rect l="l" t="t" r="r" b="b"/>
              <a:pathLst>
                <a:path w="600" h="608">
                  <a:moveTo>
                    <a:pt x="388" y="289"/>
                  </a:moveTo>
                  <a:lnTo>
                    <a:pt x="372" y="177"/>
                  </a:lnTo>
                  <a:lnTo>
                    <a:pt x="341" y="78"/>
                  </a:lnTo>
                  <a:lnTo>
                    <a:pt x="284" y="24"/>
                  </a:lnTo>
                  <a:lnTo>
                    <a:pt x="185" y="0"/>
                  </a:lnTo>
                  <a:lnTo>
                    <a:pt x="100" y="24"/>
                  </a:lnTo>
                  <a:lnTo>
                    <a:pt x="19" y="123"/>
                  </a:lnTo>
                  <a:lnTo>
                    <a:pt x="0" y="243"/>
                  </a:lnTo>
                  <a:lnTo>
                    <a:pt x="19" y="370"/>
                  </a:lnTo>
                  <a:lnTo>
                    <a:pt x="50" y="447"/>
                  </a:lnTo>
                  <a:lnTo>
                    <a:pt x="88" y="528"/>
                  </a:lnTo>
                  <a:lnTo>
                    <a:pt x="130" y="582"/>
                  </a:lnTo>
                  <a:lnTo>
                    <a:pt x="177" y="608"/>
                  </a:lnTo>
                  <a:lnTo>
                    <a:pt x="242" y="585"/>
                  </a:lnTo>
                  <a:lnTo>
                    <a:pt x="307" y="531"/>
                  </a:lnTo>
                  <a:lnTo>
                    <a:pt x="349" y="455"/>
                  </a:lnTo>
                  <a:lnTo>
                    <a:pt x="388" y="390"/>
                  </a:lnTo>
                  <a:lnTo>
                    <a:pt x="400" y="351"/>
                  </a:lnTo>
                  <a:lnTo>
                    <a:pt x="565" y="293"/>
                  </a:lnTo>
                  <a:lnTo>
                    <a:pt x="600" y="270"/>
                  </a:lnTo>
                  <a:lnTo>
                    <a:pt x="580" y="235"/>
                  </a:lnTo>
                  <a:lnTo>
                    <a:pt x="388" y="2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9765200">
              <a:off x="3495960" y="5496480"/>
              <a:ext cx="144720" cy="260640"/>
            </a:xfrm>
            <a:custGeom>
              <a:avLst/>
              <a:gdLst/>
              <a:ahLst/>
              <a:rect l="l" t="t" r="r" b="b"/>
              <a:pathLst>
                <a:path w="619" h="1085">
                  <a:moveTo>
                    <a:pt x="208" y="161"/>
                  </a:moveTo>
                  <a:lnTo>
                    <a:pt x="284" y="80"/>
                  </a:lnTo>
                  <a:lnTo>
                    <a:pt x="411" y="3"/>
                  </a:lnTo>
                  <a:lnTo>
                    <a:pt x="469" y="0"/>
                  </a:lnTo>
                  <a:lnTo>
                    <a:pt x="573" y="34"/>
                  </a:lnTo>
                  <a:lnTo>
                    <a:pt x="619" y="85"/>
                  </a:lnTo>
                  <a:lnTo>
                    <a:pt x="619" y="161"/>
                  </a:lnTo>
                  <a:lnTo>
                    <a:pt x="542" y="304"/>
                  </a:lnTo>
                  <a:lnTo>
                    <a:pt x="458" y="415"/>
                  </a:lnTo>
                  <a:lnTo>
                    <a:pt x="422" y="508"/>
                  </a:lnTo>
                  <a:lnTo>
                    <a:pt x="399" y="615"/>
                  </a:lnTo>
                  <a:lnTo>
                    <a:pt x="422" y="719"/>
                  </a:lnTo>
                  <a:lnTo>
                    <a:pt x="445" y="820"/>
                  </a:lnTo>
                  <a:lnTo>
                    <a:pt x="445" y="935"/>
                  </a:lnTo>
                  <a:lnTo>
                    <a:pt x="411" y="1005"/>
                  </a:lnTo>
                  <a:lnTo>
                    <a:pt x="334" y="1043"/>
                  </a:lnTo>
                  <a:lnTo>
                    <a:pt x="242" y="1085"/>
                  </a:lnTo>
                  <a:lnTo>
                    <a:pt x="157" y="1085"/>
                  </a:lnTo>
                  <a:lnTo>
                    <a:pt x="100" y="1054"/>
                  </a:lnTo>
                  <a:lnTo>
                    <a:pt x="23" y="927"/>
                  </a:lnTo>
                  <a:lnTo>
                    <a:pt x="0" y="797"/>
                  </a:lnTo>
                  <a:lnTo>
                    <a:pt x="8" y="628"/>
                  </a:lnTo>
                  <a:lnTo>
                    <a:pt x="65" y="415"/>
                  </a:lnTo>
                  <a:lnTo>
                    <a:pt x="123" y="277"/>
                  </a:lnTo>
                  <a:lnTo>
                    <a:pt x="208" y="1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9765200">
              <a:off x="3654360" y="5622480"/>
              <a:ext cx="281520" cy="179640"/>
            </a:xfrm>
            <a:custGeom>
              <a:avLst/>
              <a:gdLst/>
              <a:ahLst/>
              <a:rect l="l" t="t" r="r" b="b"/>
              <a:pathLst>
                <a:path w="782" h="808">
                  <a:moveTo>
                    <a:pt x="0" y="76"/>
                  </a:moveTo>
                  <a:lnTo>
                    <a:pt x="66" y="0"/>
                  </a:lnTo>
                  <a:lnTo>
                    <a:pt x="163" y="0"/>
                  </a:lnTo>
                  <a:lnTo>
                    <a:pt x="343" y="19"/>
                  </a:lnTo>
                  <a:lnTo>
                    <a:pt x="555" y="30"/>
                  </a:lnTo>
                  <a:lnTo>
                    <a:pt x="636" y="65"/>
                  </a:lnTo>
                  <a:lnTo>
                    <a:pt x="670" y="110"/>
                  </a:lnTo>
                  <a:lnTo>
                    <a:pt x="678" y="180"/>
                  </a:lnTo>
                  <a:lnTo>
                    <a:pt x="654" y="253"/>
                  </a:lnTo>
                  <a:lnTo>
                    <a:pt x="589" y="365"/>
                  </a:lnTo>
                  <a:lnTo>
                    <a:pt x="504" y="457"/>
                  </a:lnTo>
                  <a:lnTo>
                    <a:pt x="439" y="541"/>
                  </a:lnTo>
                  <a:lnTo>
                    <a:pt x="412" y="607"/>
                  </a:lnTo>
                  <a:lnTo>
                    <a:pt x="393" y="653"/>
                  </a:lnTo>
                  <a:lnTo>
                    <a:pt x="400" y="689"/>
                  </a:lnTo>
                  <a:lnTo>
                    <a:pt x="405" y="711"/>
                  </a:lnTo>
                  <a:lnTo>
                    <a:pt x="482" y="711"/>
                  </a:lnTo>
                  <a:lnTo>
                    <a:pt x="601" y="692"/>
                  </a:lnTo>
                  <a:lnTo>
                    <a:pt x="678" y="692"/>
                  </a:lnTo>
                  <a:lnTo>
                    <a:pt x="758" y="723"/>
                  </a:lnTo>
                  <a:lnTo>
                    <a:pt x="782" y="761"/>
                  </a:lnTo>
                  <a:lnTo>
                    <a:pt x="758" y="796"/>
                  </a:lnTo>
                  <a:lnTo>
                    <a:pt x="724" y="808"/>
                  </a:lnTo>
                  <a:lnTo>
                    <a:pt x="670" y="792"/>
                  </a:lnTo>
                  <a:lnTo>
                    <a:pt x="597" y="749"/>
                  </a:lnTo>
                  <a:lnTo>
                    <a:pt x="520" y="757"/>
                  </a:lnTo>
                  <a:lnTo>
                    <a:pt x="393" y="780"/>
                  </a:lnTo>
                  <a:lnTo>
                    <a:pt x="355" y="773"/>
                  </a:lnTo>
                  <a:lnTo>
                    <a:pt x="335" y="746"/>
                  </a:lnTo>
                  <a:lnTo>
                    <a:pt x="335" y="681"/>
                  </a:lnTo>
                  <a:lnTo>
                    <a:pt x="335" y="588"/>
                  </a:lnTo>
                  <a:lnTo>
                    <a:pt x="389" y="518"/>
                  </a:lnTo>
                  <a:lnTo>
                    <a:pt x="470" y="414"/>
                  </a:lnTo>
                  <a:lnTo>
                    <a:pt x="540" y="323"/>
                  </a:lnTo>
                  <a:lnTo>
                    <a:pt x="586" y="253"/>
                  </a:lnTo>
                  <a:lnTo>
                    <a:pt x="609" y="192"/>
                  </a:lnTo>
                  <a:lnTo>
                    <a:pt x="597" y="157"/>
                  </a:lnTo>
                  <a:lnTo>
                    <a:pt x="566" y="115"/>
                  </a:lnTo>
                  <a:lnTo>
                    <a:pt x="520" y="103"/>
                  </a:lnTo>
                  <a:lnTo>
                    <a:pt x="470" y="103"/>
                  </a:lnTo>
                  <a:lnTo>
                    <a:pt x="358" y="103"/>
                  </a:lnTo>
                  <a:lnTo>
                    <a:pt x="193" y="134"/>
                  </a:lnTo>
                  <a:lnTo>
                    <a:pt x="70" y="146"/>
                  </a:lnTo>
                  <a:lnTo>
                    <a:pt x="20" y="134"/>
                  </a:lnTo>
                  <a:lnTo>
                    <a:pt x="0" y="11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8349200">
              <a:off x="3314880" y="5812200"/>
              <a:ext cx="401760" cy="158400"/>
            </a:xfrm>
            <a:custGeom>
              <a:avLst/>
              <a:gdLst/>
              <a:ahLst/>
              <a:rect l="l" t="t" r="r" b="b"/>
              <a:pathLst>
                <a:path w="992" h="770">
                  <a:moveTo>
                    <a:pt x="808" y="320"/>
                  </a:moveTo>
                  <a:lnTo>
                    <a:pt x="823" y="219"/>
                  </a:lnTo>
                  <a:lnTo>
                    <a:pt x="881" y="181"/>
                  </a:lnTo>
                  <a:lnTo>
                    <a:pt x="950" y="174"/>
                  </a:lnTo>
                  <a:lnTo>
                    <a:pt x="992" y="219"/>
                  </a:lnTo>
                  <a:lnTo>
                    <a:pt x="973" y="308"/>
                  </a:lnTo>
                  <a:lnTo>
                    <a:pt x="935" y="427"/>
                  </a:lnTo>
                  <a:lnTo>
                    <a:pt x="857" y="562"/>
                  </a:lnTo>
                  <a:lnTo>
                    <a:pt x="761" y="677"/>
                  </a:lnTo>
                  <a:lnTo>
                    <a:pt x="681" y="739"/>
                  </a:lnTo>
                  <a:lnTo>
                    <a:pt x="592" y="770"/>
                  </a:lnTo>
                  <a:lnTo>
                    <a:pt x="507" y="759"/>
                  </a:lnTo>
                  <a:lnTo>
                    <a:pt x="442" y="723"/>
                  </a:lnTo>
                  <a:lnTo>
                    <a:pt x="419" y="666"/>
                  </a:lnTo>
                  <a:lnTo>
                    <a:pt x="392" y="566"/>
                  </a:lnTo>
                  <a:lnTo>
                    <a:pt x="361" y="382"/>
                  </a:lnTo>
                  <a:lnTo>
                    <a:pt x="338" y="254"/>
                  </a:lnTo>
                  <a:lnTo>
                    <a:pt x="338" y="104"/>
                  </a:lnTo>
                  <a:lnTo>
                    <a:pt x="323" y="78"/>
                  </a:lnTo>
                  <a:lnTo>
                    <a:pt x="277" y="70"/>
                  </a:lnTo>
                  <a:lnTo>
                    <a:pt x="223" y="112"/>
                  </a:lnTo>
                  <a:lnTo>
                    <a:pt x="173" y="181"/>
                  </a:lnTo>
                  <a:lnTo>
                    <a:pt x="115" y="219"/>
                  </a:lnTo>
                  <a:lnTo>
                    <a:pt x="27" y="219"/>
                  </a:lnTo>
                  <a:lnTo>
                    <a:pt x="0" y="196"/>
                  </a:lnTo>
                  <a:lnTo>
                    <a:pt x="0" y="158"/>
                  </a:lnTo>
                  <a:lnTo>
                    <a:pt x="39" y="123"/>
                  </a:lnTo>
                  <a:lnTo>
                    <a:pt x="81" y="135"/>
                  </a:lnTo>
                  <a:lnTo>
                    <a:pt x="119" y="127"/>
                  </a:lnTo>
                  <a:lnTo>
                    <a:pt x="189" y="78"/>
                  </a:lnTo>
                  <a:lnTo>
                    <a:pt x="257" y="23"/>
                  </a:lnTo>
                  <a:lnTo>
                    <a:pt x="323" y="8"/>
                  </a:lnTo>
                  <a:lnTo>
                    <a:pt x="415" y="0"/>
                  </a:lnTo>
                  <a:lnTo>
                    <a:pt x="419" y="42"/>
                  </a:lnTo>
                  <a:lnTo>
                    <a:pt x="397" y="89"/>
                  </a:lnTo>
                  <a:lnTo>
                    <a:pt x="392" y="208"/>
                  </a:lnTo>
                  <a:lnTo>
                    <a:pt x="419" y="366"/>
                  </a:lnTo>
                  <a:lnTo>
                    <a:pt x="462" y="520"/>
                  </a:lnTo>
                  <a:lnTo>
                    <a:pt x="499" y="612"/>
                  </a:lnTo>
                  <a:lnTo>
                    <a:pt x="558" y="655"/>
                  </a:lnTo>
                  <a:lnTo>
                    <a:pt x="615" y="655"/>
                  </a:lnTo>
                  <a:lnTo>
                    <a:pt x="673" y="612"/>
                  </a:lnTo>
                  <a:lnTo>
                    <a:pt x="750" y="515"/>
                  </a:lnTo>
                  <a:lnTo>
                    <a:pt x="800" y="377"/>
                  </a:lnTo>
                  <a:lnTo>
                    <a:pt x="808" y="3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19765200">
              <a:off x="3325680" y="5336280"/>
              <a:ext cx="164160" cy="291600"/>
            </a:xfrm>
            <a:custGeom>
              <a:avLst/>
              <a:gdLst/>
              <a:ahLst/>
              <a:rect l="l" t="t" r="r" b="b"/>
              <a:pathLst>
                <a:path w="699" h="1216">
                  <a:moveTo>
                    <a:pt x="445" y="923"/>
                  </a:moveTo>
                  <a:lnTo>
                    <a:pt x="560" y="1039"/>
                  </a:lnTo>
                  <a:lnTo>
                    <a:pt x="606" y="1039"/>
                  </a:lnTo>
                  <a:lnTo>
                    <a:pt x="684" y="1086"/>
                  </a:lnTo>
                  <a:lnTo>
                    <a:pt x="699" y="1139"/>
                  </a:lnTo>
                  <a:lnTo>
                    <a:pt x="676" y="1208"/>
                  </a:lnTo>
                  <a:lnTo>
                    <a:pt x="614" y="1216"/>
                  </a:lnTo>
                  <a:lnTo>
                    <a:pt x="537" y="1162"/>
                  </a:lnTo>
                  <a:lnTo>
                    <a:pt x="383" y="1016"/>
                  </a:lnTo>
                  <a:lnTo>
                    <a:pt x="284" y="878"/>
                  </a:lnTo>
                  <a:lnTo>
                    <a:pt x="237" y="769"/>
                  </a:lnTo>
                  <a:lnTo>
                    <a:pt x="206" y="585"/>
                  </a:lnTo>
                  <a:lnTo>
                    <a:pt x="206" y="346"/>
                  </a:lnTo>
                  <a:lnTo>
                    <a:pt x="198" y="285"/>
                  </a:lnTo>
                  <a:lnTo>
                    <a:pt x="153" y="239"/>
                  </a:lnTo>
                  <a:lnTo>
                    <a:pt x="22" y="247"/>
                  </a:lnTo>
                  <a:lnTo>
                    <a:pt x="0" y="223"/>
                  </a:lnTo>
                  <a:lnTo>
                    <a:pt x="29" y="208"/>
                  </a:lnTo>
                  <a:lnTo>
                    <a:pt x="122" y="200"/>
                  </a:lnTo>
                  <a:lnTo>
                    <a:pt x="138" y="185"/>
                  </a:lnTo>
                  <a:lnTo>
                    <a:pt x="6" y="107"/>
                  </a:lnTo>
                  <a:lnTo>
                    <a:pt x="6" y="77"/>
                  </a:lnTo>
                  <a:lnTo>
                    <a:pt x="29" y="70"/>
                  </a:lnTo>
                  <a:lnTo>
                    <a:pt x="138" y="130"/>
                  </a:lnTo>
                  <a:lnTo>
                    <a:pt x="161" y="123"/>
                  </a:lnTo>
                  <a:lnTo>
                    <a:pt x="138" y="8"/>
                  </a:lnTo>
                  <a:lnTo>
                    <a:pt x="153" y="0"/>
                  </a:lnTo>
                  <a:lnTo>
                    <a:pt x="169" y="8"/>
                  </a:lnTo>
                  <a:lnTo>
                    <a:pt x="198" y="123"/>
                  </a:lnTo>
                  <a:lnTo>
                    <a:pt x="222" y="130"/>
                  </a:lnTo>
                  <a:lnTo>
                    <a:pt x="284" y="8"/>
                  </a:lnTo>
                  <a:lnTo>
                    <a:pt x="299" y="8"/>
                  </a:lnTo>
                  <a:lnTo>
                    <a:pt x="299" y="46"/>
                  </a:lnTo>
                  <a:lnTo>
                    <a:pt x="260" y="146"/>
                  </a:lnTo>
                  <a:lnTo>
                    <a:pt x="260" y="200"/>
                  </a:lnTo>
                  <a:lnTo>
                    <a:pt x="276" y="270"/>
                  </a:lnTo>
                  <a:lnTo>
                    <a:pt x="268" y="361"/>
                  </a:lnTo>
                  <a:lnTo>
                    <a:pt x="276" y="531"/>
                  </a:lnTo>
                  <a:lnTo>
                    <a:pt x="291" y="639"/>
                  </a:lnTo>
                  <a:lnTo>
                    <a:pt x="330" y="762"/>
                  </a:lnTo>
                  <a:lnTo>
                    <a:pt x="383" y="855"/>
                  </a:lnTo>
                  <a:lnTo>
                    <a:pt x="445" y="9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9765200">
              <a:off x="3490560" y="5244840"/>
              <a:ext cx="214920" cy="243360"/>
            </a:xfrm>
            <a:custGeom>
              <a:avLst/>
              <a:gdLst/>
              <a:ahLst/>
              <a:rect l="l" t="t" r="r" b="b"/>
              <a:pathLst>
                <a:path w="915" h="1139">
                  <a:moveTo>
                    <a:pt x="15" y="1008"/>
                  </a:moveTo>
                  <a:lnTo>
                    <a:pt x="0" y="1061"/>
                  </a:lnTo>
                  <a:lnTo>
                    <a:pt x="15" y="1139"/>
                  </a:lnTo>
                  <a:lnTo>
                    <a:pt x="70" y="1139"/>
                  </a:lnTo>
                  <a:lnTo>
                    <a:pt x="231" y="1108"/>
                  </a:lnTo>
                  <a:lnTo>
                    <a:pt x="408" y="1046"/>
                  </a:lnTo>
                  <a:lnTo>
                    <a:pt x="554" y="946"/>
                  </a:lnTo>
                  <a:lnTo>
                    <a:pt x="639" y="816"/>
                  </a:lnTo>
                  <a:lnTo>
                    <a:pt x="715" y="593"/>
                  </a:lnTo>
                  <a:lnTo>
                    <a:pt x="738" y="385"/>
                  </a:lnTo>
                  <a:lnTo>
                    <a:pt x="738" y="285"/>
                  </a:lnTo>
                  <a:lnTo>
                    <a:pt x="777" y="224"/>
                  </a:lnTo>
                  <a:lnTo>
                    <a:pt x="845" y="200"/>
                  </a:lnTo>
                  <a:lnTo>
                    <a:pt x="907" y="200"/>
                  </a:lnTo>
                  <a:lnTo>
                    <a:pt x="915" y="169"/>
                  </a:lnTo>
                  <a:lnTo>
                    <a:pt x="823" y="177"/>
                  </a:lnTo>
                  <a:lnTo>
                    <a:pt x="808" y="154"/>
                  </a:lnTo>
                  <a:lnTo>
                    <a:pt x="884" y="70"/>
                  </a:lnTo>
                  <a:lnTo>
                    <a:pt x="868" y="47"/>
                  </a:lnTo>
                  <a:lnTo>
                    <a:pt x="853" y="62"/>
                  </a:lnTo>
                  <a:lnTo>
                    <a:pt x="792" y="123"/>
                  </a:lnTo>
                  <a:lnTo>
                    <a:pt x="777" y="123"/>
                  </a:lnTo>
                  <a:lnTo>
                    <a:pt x="777" y="16"/>
                  </a:lnTo>
                  <a:lnTo>
                    <a:pt x="761" y="0"/>
                  </a:lnTo>
                  <a:lnTo>
                    <a:pt x="738" y="8"/>
                  </a:lnTo>
                  <a:lnTo>
                    <a:pt x="746" y="123"/>
                  </a:lnTo>
                  <a:lnTo>
                    <a:pt x="730" y="131"/>
                  </a:lnTo>
                  <a:lnTo>
                    <a:pt x="668" y="70"/>
                  </a:lnTo>
                  <a:lnTo>
                    <a:pt x="623" y="62"/>
                  </a:lnTo>
                  <a:lnTo>
                    <a:pt x="631" y="93"/>
                  </a:lnTo>
                  <a:lnTo>
                    <a:pt x="699" y="162"/>
                  </a:lnTo>
                  <a:lnTo>
                    <a:pt x="699" y="200"/>
                  </a:lnTo>
                  <a:lnTo>
                    <a:pt x="676" y="278"/>
                  </a:lnTo>
                  <a:lnTo>
                    <a:pt x="676" y="346"/>
                  </a:lnTo>
                  <a:lnTo>
                    <a:pt x="676" y="462"/>
                  </a:lnTo>
                  <a:lnTo>
                    <a:pt x="645" y="608"/>
                  </a:lnTo>
                  <a:lnTo>
                    <a:pt x="615" y="700"/>
                  </a:lnTo>
                  <a:lnTo>
                    <a:pt x="561" y="816"/>
                  </a:lnTo>
                  <a:lnTo>
                    <a:pt x="499" y="908"/>
                  </a:lnTo>
                  <a:lnTo>
                    <a:pt x="454" y="954"/>
                  </a:lnTo>
                  <a:lnTo>
                    <a:pt x="330" y="993"/>
                  </a:lnTo>
                  <a:lnTo>
                    <a:pt x="215" y="1008"/>
                  </a:lnTo>
                  <a:lnTo>
                    <a:pt x="99" y="1024"/>
                  </a:lnTo>
                  <a:lnTo>
                    <a:pt x="15" y="100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429000" y="5308560"/>
            <a:ext cx="380520" cy="711000"/>
            <a:chOff x="3429000" y="5308560"/>
            <a:chExt cx="380520" cy="711000"/>
          </a:xfrm>
        </p:grpSpPr>
        <p:sp>
          <p:nvSpPr>
            <p:cNvPr id="397" name=""/>
            <p:cNvSpPr/>
            <p:nvPr/>
          </p:nvSpPr>
          <p:spPr>
            <a:xfrm>
              <a:off x="3497040" y="5308560"/>
              <a:ext cx="189000" cy="14832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29000" y="547380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57160" y="5474160"/>
              <a:ext cx="142560" cy="2458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10000" y="5663880"/>
              <a:ext cx="108720" cy="35568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28440" y="5663880"/>
              <a:ext cx="177480" cy="30024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 rot="10800000">
              <a:off x="3657240" y="547848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409760" y="669960"/>
            <a:ext cx="4064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e have a valid solutio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14160" y="1033560"/>
            <a:ext cx="396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not necessarily optimal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51160" y="2209680"/>
            <a:ext cx="394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ake a step that goes up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533520" y="1676520"/>
            <a:ext cx="761760" cy="761400"/>
            <a:chOff x="533520" y="1676520"/>
            <a:chExt cx="761760" cy="761400"/>
          </a:xfrm>
        </p:grpSpPr>
        <p:sp>
          <p:nvSpPr>
            <p:cNvPr id="407" name=""/>
            <p:cNvSpPr/>
            <p:nvPr/>
          </p:nvSpPr>
          <p:spPr>
            <a:xfrm>
              <a:off x="533520" y="1676520"/>
              <a:ext cx="761760" cy="65304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8000">
                  <a:solidFill>
                    <a:srgbClr val="000000"/>
                  </a:solidFill>
                  <a:latin typeface="Times New Roman"/>
                </a:rPr>
                <a:t>measure</a:t>
              </a:r>
              <a:br>
                <a:rPr sz="1800"/>
              </a:br>
              <a:r>
                <a:rPr b="0" lang="en-US" sz="1800" spc="-1" strike="noStrike" baseline="-8000">
                  <a:solidFill>
                    <a:srgbClr val="000000"/>
                  </a:solidFill>
                  <a:latin typeface="Times New Roman"/>
                </a:rPr>
                <a:t>progres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14040" y="2274840"/>
              <a:ext cx="0" cy="1630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450800" y="1600200"/>
            <a:ext cx="352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alue of our solutio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38480" y="594360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60720" y="4724280"/>
            <a:ext cx="1722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blem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457200" y="3962520"/>
            <a:ext cx="914400" cy="761400"/>
            <a:chOff x="457200" y="3962520"/>
            <a:chExt cx="914400" cy="761400"/>
          </a:xfrm>
        </p:grpSpPr>
        <p:sp>
          <p:nvSpPr>
            <p:cNvPr id="413" name=""/>
            <p:cNvSpPr/>
            <p:nvPr/>
          </p:nvSpPr>
          <p:spPr>
            <a:xfrm>
              <a:off x="457200" y="3962520"/>
              <a:ext cx="914400" cy="65268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 baseline="-8000">
                  <a:solidFill>
                    <a:srgbClr val="000000"/>
                  </a:solidFill>
                  <a:latin typeface="Times New Roman"/>
                </a:rPr>
                <a:t>Exi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14040" y="4560840"/>
              <a:ext cx="0" cy="1630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1458000" y="3962520"/>
            <a:ext cx="463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nt take a step that goes up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3962520" y="4470480"/>
            <a:ext cx="380520" cy="711000"/>
            <a:chOff x="3962520" y="4470480"/>
            <a:chExt cx="380520" cy="711000"/>
          </a:xfrm>
        </p:grpSpPr>
        <p:sp>
          <p:nvSpPr>
            <p:cNvPr id="417" name=""/>
            <p:cNvSpPr/>
            <p:nvPr/>
          </p:nvSpPr>
          <p:spPr>
            <a:xfrm>
              <a:off x="4030560" y="4470480"/>
              <a:ext cx="189000" cy="14832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62520" y="463572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90680" y="4635720"/>
              <a:ext cx="142560" cy="2455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43520" y="4825800"/>
              <a:ext cx="108720" cy="35568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61960" y="4825800"/>
              <a:ext cx="177480" cy="30024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 rot="10800000">
              <a:off x="4190760" y="464040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613440" y="5224320"/>
            <a:ext cx="243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unning time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460520" y="3352680"/>
            <a:ext cx="38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itially have the “zero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3505320" y="6146640"/>
            <a:ext cx="380520" cy="711000"/>
            <a:chOff x="3505320" y="6146640"/>
            <a:chExt cx="380520" cy="711000"/>
          </a:xfrm>
        </p:grpSpPr>
        <p:sp>
          <p:nvSpPr>
            <p:cNvPr id="426" name=""/>
            <p:cNvSpPr/>
            <p:nvPr/>
          </p:nvSpPr>
          <p:spPr>
            <a:xfrm>
              <a:off x="3573360" y="6146640"/>
              <a:ext cx="189000" cy="14832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05320" y="631188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33480" y="6312240"/>
              <a:ext cx="142560" cy="2458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6320" y="6501960"/>
              <a:ext cx="108720" cy="35568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04760" y="6501960"/>
              <a:ext cx="177480" cy="30024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 rot="10800000">
              <a:off x="3733560" y="631656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4425480" y="4572000"/>
            <a:ext cx="184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ocal Max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8610480" y="3174840"/>
            <a:ext cx="380880" cy="711000"/>
            <a:chOff x="8610480" y="3174840"/>
            <a:chExt cx="380880" cy="711000"/>
          </a:xfrm>
        </p:grpSpPr>
        <p:sp>
          <p:nvSpPr>
            <p:cNvPr id="434" name=""/>
            <p:cNvSpPr/>
            <p:nvPr/>
          </p:nvSpPr>
          <p:spPr>
            <a:xfrm>
              <a:off x="8678520" y="3174840"/>
              <a:ext cx="189360" cy="14832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610480" y="334008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738640" y="3340440"/>
              <a:ext cx="142560" cy="2458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691480" y="3530160"/>
              <a:ext cx="108720" cy="35568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809920" y="3530160"/>
              <a:ext cx="177480" cy="30024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 rot="10800000">
              <a:off x="8839080" y="334476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7241400" y="3809880"/>
            <a:ext cx="201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lobal Max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34120" y="5318280"/>
            <a:ext cx="3803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n our Network Flow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lgorithm get stuck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 a local maximum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04920" y="3202920"/>
            <a:ext cx="1105560" cy="874440"/>
            <a:chOff x="304920" y="3202920"/>
            <a:chExt cx="1105560" cy="874440"/>
          </a:xfrm>
        </p:grpSpPr>
        <p:grpSp>
          <p:nvGrpSpPr>
            <p:cNvPr id="443" name=""/>
            <p:cNvGrpSpPr/>
            <p:nvPr/>
          </p:nvGrpSpPr>
          <p:grpSpPr>
            <a:xfrm>
              <a:off x="304920" y="3305880"/>
              <a:ext cx="1105560" cy="771480"/>
              <a:chOff x="304920" y="3305880"/>
              <a:chExt cx="1105560" cy="771480"/>
            </a:xfrm>
          </p:grpSpPr>
          <p:sp>
            <p:nvSpPr>
              <p:cNvPr id="444" name=""/>
              <p:cNvSpPr/>
              <p:nvPr/>
            </p:nvSpPr>
            <p:spPr>
              <a:xfrm rot="2359800">
                <a:off x="705960" y="3446280"/>
                <a:ext cx="618840" cy="490320"/>
              </a:xfrm>
              <a:custGeom>
                <a:avLst/>
                <a:gdLst/>
                <a:ahLst/>
                <a:rect l="l" t="t" r="r" b="b"/>
                <a:pathLst>
                  <a:path w="2280" h="1785">
                    <a:moveTo>
                      <a:pt x="748" y="30"/>
                    </a:moveTo>
                    <a:cubicBezTo>
                      <a:pt x="881" y="60"/>
                      <a:pt x="985" y="267"/>
                      <a:pt x="1224" y="305"/>
                    </a:cubicBezTo>
                    <a:cubicBezTo>
                      <a:pt x="1463" y="343"/>
                      <a:pt x="2088" y="121"/>
                      <a:pt x="2184" y="257"/>
                    </a:cubicBezTo>
                    <a:cubicBezTo>
                      <a:pt x="2280" y="393"/>
                      <a:pt x="1873" y="945"/>
                      <a:pt x="1800" y="1121"/>
                    </a:cubicBezTo>
                    <a:cubicBezTo>
                      <a:pt x="1727" y="1297"/>
                      <a:pt x="1757" y="1253"/>
                      <a:pt x="1743" y="1313"/>
                    </a:cubicBezTo>
                    <a:cubicBezTo>
                      <a:pt x="1729" y="1373"/>
                      <a:pt x="1747" y="1440"/>
                      <a:pt x="1717" y="1479"/>
                    </a:cubicBezTo>
                    <a:cubicBezTo>
                      <a:pt x="1687" y="1518"/>
                      <a:pt x="1634" y="1537"/>
                      <a:pt x="1560" y="1549"/>
                    </a:cubicBezTo>
                    <a:cubicBezTo>
                      <a:pt x="1486" y="1561"/>
                      <a:pt x="1504" y="1536"/>
                      <a:pt x="1272" y="1553"/>
                    </a:cubicBezTo>
                    <a:cubicBezTo>
                      <a:pt x="1040" y="1570"/>
                      <a:pt x="336" y="1785"/>
                      <a:pt x="168" y="1649"/>
                    </a:cubicBezTo>
                    <a:cubicBezTo>
                      <a:pt x="0" y="1513"/>
                      <a:pt x="221" y="991"/>
                      <a:pt x="264" y="737"/>
                    </a:cubicBezTo>
                    <a:cubicBezTo>
                      <a:pt x="307" y="483"/>
                      <a:pt x="344" y="244"/>
                      <a:pt x="425" y="126"/>
                    </a:cubicBezTo>
                    <a:cubicBezTo>
                      <a:pt x="506" y="8"/>
                      <a:pt x="615" y="0"/>
                      <a:pt x="748" y="3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4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920" y="3466800"/>
                <a:ext cx="339480" cy="495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6" name=""/>
            <p:cNvGrpSpPr/>
            <p:nvPr/>
          </p:nvGrpSpPr>
          <p:grpSpPr>
            <a:xfrm>
              <a:off x="518400" y="3202920"/>
              <a:ext cx="560880" cy="601920"/>
              <a:chOff x="518400" y="3202920"/>
              <a:chExt cx="560880" cy="601920"/>
            </a:xfrm>
          </p:grpSpPr>
          <p:sp>
            <p:nvSpPr>
              <p:cNvPr id="447" name=""/>
              <p:cNvSpPr/>
              <p:nvPr/>
            </p:nvSpPr>
            <p:spPr>
              <a:xfrm rot="21255000">
                <a:off x="800640" y="3267360"/>
                <a:ext cx="114120" cy="9468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21255000">
                <a:off x="760680" y="3385800"/>
                <a:ext cx="117360" cy="21132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21255000">
                <a:off x="843840" y="3558960"/>
                <a:ext cx="228600" cy="14580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19838400">
                <a:off x="528840" y="3604320"/>
                <a:ext cx="326160" cy="12852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21255000">
                <a:off x="684720" y="3211920"/>
                <a:ext cx="133200" cy="23652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21255000">
                <a:off x="843480" y="3211200"/>
                <a:ext cx="174600" cy="19764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72000" y="2251800"/>
            <a:ext cx="1427760" cy="1069560"/>
            <a:chOff x="72000" y="2251800"/>
            <a:chExt cx="1427760" cy="1069560"/>
          </a:xfrm>
        </p:grpSpPr>
        <p:sp>
          <p:nvSpPr>
            <p:cNvPr id="454" name=""/>
            <p:cNvSpPr/>
            <p:nvPr/>
          </p:nvSpPr>
          <p:spPr>
            <a:xfrm rot="2359800">
              <a:off x="179280" y="2523960"/>
              <a:ext cx="783000" cy="61920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2359800">
              <a:off x="957600" y="2591280"/>
              <a:ext cx="450360" cy="449640"/>
            </a:xfrm>
            <a:custGeom>
              <a:avLst/>
              <a:gdLst/>
              <a:ahLst/>
              <a:rect l="l" t="t" r="r" b="b"/>
              <a:pathLst>
                <a:path w="1312" h="1296">
                  <a:moveTo>
                    <a:pt x="592" y="160"/>
                  </a:moveTo>
                  <a:cubicBezTo>
                    <a:pt x="408" y="256"/>
                    <a:pt x="32" y="496"/>
                    <a:pt x="16" y="640"/>
                  </a:cubicBezTo>
                  <a:cubicBezTo>
                    <a:pt x="0" y="784"/>
                    <a:pt x="296" y="928"/>
                    <a:pt x="496" y="1024"/>
                  </a:cubicBezTo>
                  <a:cubicBezTo>
                    <a:pt x="696" y="1120"/>
                    <a:pt x="1120" y="1296"/>
                    <a:pt x="1216" y="1216"/>
                  </a:cubicBezTo>
                  <a:cubicBezTo>
                    <a:pt x="1312" y="1136"/>
                    <a:pt x="1088" y="736"/>
                    <a:pt x="1072" y="544"/>
                  </a:cubicBezTo>
                  <a:cubicBezTo>
                    <a:pt x="1056" y="352"/>
                    <a:pt x="1208" y="128"/>
                    <a:pt x="1120" y="64"/>
                  </a:cubicBezTo>
                  <a:cubicBezTo>
                    <a:pt x="1032" y="0"/>
                    <a:pt x="776" y="64"/>
                    <a:pt x="592" y="160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558720" y="2251800"/>
              <a:ext cx="691200" cy="740880"/>
              <a:chOff x="558720" y="2251800"/>
              <a:chExt cx="691200" cy="740880"/>
            </a:xfrm>
          </p:grpSpPr>
          <p:sp>
            <p:nvSpPr>
              <p:cNvPr id="457" name=""/>
              <p:cNvSpPr/>
              <p:nvPr/>
            </p:nvSpPr>
            <p:spPr>
              <a:xfrm rot="21255000">
                <a:off x="906840" y="2331000"/>
                <a:ext cx="140760" cy="11664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21255000">
                <a:off x="858240" y="2476800"/>
                <a:ext cx="144720" cy="2602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21255000">
                <a:off x="960120" y="2689560"/>
                <a:ext cx="281520" cy="17928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19838400">
                <a:off x="571320" y="2745720"/>
                <a:ext cx="402120" cy="15804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21255000">
                <a:off x="763920" y="2262960"/>
                <a:ext cx="164160" cy="29124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21255000">
                <a:off x="959760" y="2261880"/>
                <a:ext cx="214920" cy="24300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3" name=""/>
          <p:cNvSpPr/>
          <p:nvPr/>
        </p:nvSpPr>
        <p:spPr>
          <a:xfrm>
            <a:off x="1461600" y="2735280"/>
            <a:ext cx="70236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ke small local changes to your solution to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struct a slightly better solutio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5080" y="5775480"/>
            <a:ext cx="422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you take small step,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uld be exponential tim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32880" y="2004840"/>
            <a:ext cx="3710520" cy="4472280"/>
            <a:chOff x="632880" y="2004840"/>
            <a:chExt cx="3710520" cy="4472280"/>
          </a:xfrm>
        </p:grpSpPr>
        <p:pic>
          <p:nvPicPr>
            <p:cNvPr id="467" name="" descr=""/>
            <p:cNvPicPr/>
            <p:nvPr/>
          </p:nvPicPr>
          <p:blipFill>
            <a:blip r:embed="rId1"/>
            <a:stretch/>
          </p:blipFill>
          <p:spPr>
            <a:xfrm>
              <a:off x="838080" y="2695680"/>
              <a:ext cx="31910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" descr=""/>
            <p:cNvPicPr/>
            <p:nvPr/>
          </p:nvPicPr>
          <p:blipFill>
            <a:blip r:embed="rId2"/>
            <a:stretch/>
          </p:blipFill>
          <p:spPr>
            <a:xfrm>
              <a:off x="838080" y="4857840"/>
              <a:ext cx="3505320" cy="16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672840" y="2004840"/>
              <a:ext cx="2412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Previous Inpu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2880" y="4248000"/>
              <a:ext cx="26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Previous Outpu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4443480" y="1962000"/>
            <a:ext cx="4138560" cy="2198880"/>
            <a:chOff x="4443480" y="1962000"/>
            <a:chExt cx="4138560" cy="2198880"/>
          </a:xfrm>
        </p:grpSpPr>
        <p:pic>
          <p:nvPicPr>
            <p:cNvPr id="472" name="" descr=""/>
            <p:cNvPicPr/>
            <p:nvPr/>
          </p:nvPicPr>
          <p:blipFill>
            <a:blip r:embed="rId3"/>
            <a:stretch/>
          </p:blipFill>
          <p:spPr>
            <a:xfrm>
              <a:off x="4648320" y="2695680"/>
              <a:ext cx="3933720" cy="14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4443480" y="1962000"/>
              <a:ext cx="1925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Same Inpu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2973600" y="517680"/>
            <a:ext cx="5484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n our Network Flow Algorithm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et stuck in local max?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422240" y="4251240"/>
            <a:ext cx="3959640" cy="2216160"/>
            <a:chOff x="4422240" y="4251240"/>
            <a:chExt cx="3959640" cy="2216160"/>
          </a:xfrm>
        </p:grpSpPr>
        <p:pic>
          <p:nvPicPr>
            <p:cNvPr id="476" name="" descr=""/>
            <p:cNvPicPr/>
            <p:nvPr/>
          </p:nvPicPr>
          <p:blipFill>
            <a:blip r:embed="rId4"/>
            <a:stretch/>
          </p:blipFill>
          <p:spPr>
            <a:xfrm>
              <a:off x="4724280" y="4876920"/>
              <a:ext cx="365760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4422240" y="4251240"/>
              <a:ext cx="2328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Worse Outpu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2975400" y="1414440"/>
            <a:ext cx="388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eed only one exampl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011720" y="99072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Yes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704880" y="990720"/>
            <a:ext cx="8210520" cy="28670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730080" y="3809880"/>
            <a:ext cx="817272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632880" y="2004840"/>
            <a:ext cx="3710520" cy="4472280"/>
            <a:chOff x="632880" y="2004840"/>
            <a:chExt cx="3710520" cy="4472280"/>
          </a:xfrm>
        </p:grpSpPr>
        <p:pic>
          <p:nvPicPr>
            <p:cNvPr id="485" name="" descr=""/>
            <p:cNvPicPr/>
            <p:nvPr/>
          </p:nvPicPr>
          <p:blipFill>
            <a:blip r:embed="rId1"/>
            <a:stretch/>
          </p:blipFill>
          <p:spPr>
            <a:xfrm>
              <a:off x="838080" y="2695680"/>
              <a:ext cx="31910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2"/>
            <a:stretch/>
          </p:blipFill>
          <p:spPr>
            <a:xfrm>
              <a:off x="838080" y="4857840"/>
              <a:ext cx="3505320" cy="16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672840" y="2004840"/>
              <a:ext cx="2412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Previous Inpu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2880" y="4248000"/>
              <a:ext cx="26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Previous Outpu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443480" y="1962000"/>
            <a:ext cx="4138560" cy="2198880"/>
            <a:chOff x="4443480" y="1962000"/>
            <a:chExt cx="4138560" cy="2198880"/>
          </a:xfrm>
        </p:grpSpPr>
        <p:pic>
          <p:nvPicPr>
            <p:cNvPr id="490" name="" descr=""/>
            <p:cNvPicPr/>
            <p:nvPr/>
          </p:nvPicPr>
          <p:blipFill>
            <a:blip r:embed="rId3"/>
            <a:stretch/>
          </p:blipFill>
          <p:spPr>
            <a:xfrm>
              <a:off x="4648320" y="2695680"/>
              <a:ext cx="3933720" cy="14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4443480" y="1962000"/>
              <a:ext cx="1925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Same Inpu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2971080" y="517680"/>
            <a:ext cx="3993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Yes! Our Network Flow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lgorithm can get stuck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422240" y="4251240"/>
            <a:ext cx="3959640" cy="2216160"/>
            <a:chOff x="4422240" y="4251240"/>
            <a:chExt cx="3959640" cy="2216160"/>
          </a:xfrm>
        </p:grpSpPr>
        <p:pic>
          <p:nvPicPr>
            <p:cNvPr id="494" name="" descr=""/>
            <p:cNvPicPr/>
            <p:nvPr/>
          </p:nvPicPr>
          <p:blipFill>
            <a:blip r:embed="rId4"/>
            <a:stretch/>
          </p:blipFill>
          <p:spPr>
            <a:xfrm>
              <a:off x="4724280" y="4876920"/>
              <a:ext cx="365760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422240" y="4251240"/>
              <a:ext cx="2328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Worse Outpu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2975400" y="1414440"/>
            <a:ext cx="388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eed only one exampl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ll Climb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724280" y="914400"/>
            <a:ext cx="5410440" cy="2895480"/>
          </a:xfrm>
          <a:custGeom>
            <a:avLst/>
            <a:gdLst/>
            <a:ahLst/>
            <a:rect l="l" t="t" r="r" b="b"/>
            <a:pathLst>
              <a:path w="4224" h="1973">
                <a:moveTo>
                  <a:pt x="0" y="1925"/>
                </a:moveTo>
                <a:cubicBezTo>
                  <a:pt x="248" y="1949"/>
                  <a:pt x="496" y="1973"/>
                  <a:pt x="720" y="1733"/>
                </a:cubicBezTo>
                <a:cubicBezTo>
                  <a:pt x="944" y="1493"/>
                  <a:pt x="1115" y="772"/>
                  <a:pt x="1344" y="485"/>
                </a:cubicBezTo>
                <a:cubicBezTo>
                  <a:pt x="1573" y="198"/>
                  <a:pt x="1848" y="0"/>
                  <a:pt x="2096" y="13"/>
                </a:cubicBezTo>
                <a:cubicBezTo>
                  <a:pt x="2344" y="26"/>
                  <a:pt x="2573" y="278"/>
                  <a:pt x="2832" y="565"/>
                </a:cubicBezTo>
                <a:cubicBezTo>
                  <a:pt x="3091" y="852"/>
                  <a:pt x="3416" y="1514"/>
                  <a:pt x="3648" y="1733"/>
                </a:cubicBezTo>
                <a:cubicBezTo>
                  <a:pt x="3880" y="1952"/>
                  <a:pt x="4048" y="1893"/>
                  <a:pt x="4224" y="1877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" y="2197080"/>
            <a:ext cx="4648320" cy="1600200"/>
          </a:xfrm>
          <a:custGeom>
            <a:avLst/>
            <a:gdLst/>
            <a:ahLst/>
            <a:rect l="l" t="t" r="r" b="b"/>
            <a:pathLst>
              <a:path w="4224" h="1973">
                <a:moveTo>
                  <a:pt x="0" y="1925"/>
                </a:moveTo>
                <a:cubicBezTo>
                  <a:pt x="248" y="1949"/>
                  <a:pt x="496" y="1973"/>
                  <a:pt x="720" y="1733"/>
                </a:cubicBezTo>
                <a:cubicBezTo>
                  <a:pt x="944" y="1493"/>
                  <a:pt x="1115" y="772"/>
                  <a:pt x="1344" y="485"/>
                </a:cubicBezTo>
                <a:cubicBezTo>
                  <a:pt x="1573" y="198"/>
                  <a:pt x="1848" y="0"/>
                  <a:pt x="2096" y="13"/>
                </a:cubicBezTo>
                <a:cubicBezTo>
                  <a:pt x="2344" y="26"/>
                  <a:pt x="2573" y="278"/>
                  <a:pt x="2832" y="565"/>
                </a:cubicBezTo>
                <a:cubicBezTo>
                  <a:pt x="3091" y="852"/>
                  <a:pt x="3416" y="1514"/>
                  <a:pt x="3648" y="1733"/>
                </a:cubicBezTo>
                <a:cubicBezTo>
                  <a:pt x="3880" y="1952"/>
                  <a:pt x="4048" y="1893"/>
                  <a:pt x="4224" y="1877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876920" y="5003640"/>
            <a:ext cx="380520" cy="711000"/>
            <a:chOff x="4876920" y="5003640"/>
            <a:chExt cx="380520" cy="711000"/>
          </a:xfrm>
        </p:grpSpPr>
        <p:sp>
          <p:nvSpPr>
            <p:cNvPr id="501" name=""/>
            <p:cNvSpPr/>
            <p:nvPr/>
          </p:nvSpPr>
          <p:spPr>
            <a:xfrm>
              <a:off x="4944960" y="5003640"/>
              <a:ext cx="189000" cy="14832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76920" y="516888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05080" y="5169240"/>
              <a:ext cx="142560" cy="2458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957920" y="5358960"/>
              <a:ext cx="108720" cy="35568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76360" y="5358960"/>
              <a:ext cx="177480" cy="30024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 rot="10800000">
              <a:off x="5105160" y="517356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2706120" y="609480"/>
            <a:ext cx="3766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voiding getting stuck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 a local maximu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064040" y="1066680"/>
            <a:ext cx="4394160" cy="4203720"/>
          </a:xfrm>
          <a:custGeom>
            <a:avLst/>
            <a:gdLst/>
            <a:ahLst/>
            <a:rect l="l" t="t" r="r" b="b"/>
            <a:pathLst>
              <a:path w="2768" h="2648">
                <a:moveTo>
                  <a:pt x="792" y="2648"/>
                </a:moveTo>
                <a:lnTo>
                  <a:pt x="1272" y="2504"/>
                </a:lnTo>
                <a:lnTo>
                  <a:pt x="0" y="2240"/>
                </a:lnTo>
                <a:lnTo>
                  <a:pt x="1632" y="1992"/>
                </a:lnTo>
                <a:lnTo>
                  <a:pt x="776" y="1864"/>
                </a:lnTo>
                <a:lnTo>
                  <a:pt x="1440" y="1544"/>
                </a:lnTo>
                <a:lnTo>
                  <a:pt x="1216" y="1384"/>
                </a:lnTo>
                <a:lnTo>
                  <a:pt x="2768" y="1080"/>
                </a:lnTo>
                <a:lnTo>
                  <a:pt x="1680" y="888"/>
                </a:lnTo>
                <a:lnTo>
                  <a:pt x="2488" y="568"/>
                </a:lnTo>
                <a:lnTo>
                  <a:pt x="1800" y="480"/>
                </a:lnTo>
                <a:lnTo>
                  <a:pt x="202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120760" y="2235240"/>
            <a:ext cx="4508640" cy="3035160"/>
          </a:xfrm>
          <a:custGeom>
            <a:avLst/>
            <a:gdLst/>
            <a:ahLst/>
            <a:rect l="l" t="t" r="r" b="b"/>
            <a:pathLst>
              <a:path w="2840" h="1912">
                <a:moveTo>
                  <a:pt x="2000" y="1912"/>
                </a:moveTo>
                <a:lnTo>
                  <a:pt x="2480" y="1768"/>
                </a:lnTo>
                <a:lnTo>
                  <a:pt x="1208" y="1504"/>
                </a:lnTo>
                <a:lnTo>
                  <a:pt x="2840" y="1256"/>
                </a:lnTo>
                <a:lnTo>
                  <a:pt x="1984" y="1128"/>
                </a:lnTo>
                <a:lnTo>
                  <a:pt x="1216" y="856"/>
                </a:lnTo>
                <a:lnTo>
                  <a:pt x="456" y="704"/>
                </a:lnTo>
                <a:lnTo>
                  <a:pt x="928" y="568"/>
                </a:lnTo>
                <a:lnTo>
                  <a:pt x="88" y="480"/>
                </a:lnTo>
                <a:lnTo>
                  <a:pt x="720" y="296"/>
                </a:lnTo>
                <a:lnTo>
                  <a:pt x="0" y="184"/>
                </a:lnTo>
                <a:lnTo>
                  <a:pt x="39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525720" y="3429000"/>
            <a:ext cx="266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ood Execu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362320" y="1498680"/>
            <a:ext cx="380520" cy="711000"/>
            <a:chOff x="2362320" y="1498680"/>
            <a:chExt cx="380520" cy="711000"/>
          </a:xfrm>
        </p:grpSpPr>
        <p:sp>
          <p:nvSpPr>
            <p:cNvPr id="512" name=""/>
            <p:cNvSpPr/>
            <p:nvPr/>
          </p:nvSpPr>
          <p:spPr>
            <a:xfrm>
              <a:off x="2430360" y="1498680"/>
              <a:ext cx="189000" cy="14832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62320" y="166392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90480" y="1663920"/>
              <a:ext cx="142560" cy="2455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443320" y="1854000"/>
              <a:ext cx="108720" cy="35568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561760" y="1854000"/>
              <a:ext cx="177480" cy="30024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 rot="10800000">
              <a:off x="2590560" y="166860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7086600" y="279360"/>
            <a:ext cx="380520" cy="711000"/>
            <a:chOff x="7086600" y="279360"/>
            <a:chExt cx="380520" cy="711000"/>
          </a:xfrm>
        </p:grpSpPr>
        <p:sp>
          <p:nvSpPr>
            <p:cNvPr id="519" name=""/>
            <p:cNvSpPr/>
            <p:nvPr/>
          </p:nvSpPr>
          <p:spPr>
            <a:xfrm>
              <a:off x="7154640" y="279360"/>
              <a:ext cx="189000" cy="14832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86600" y="44460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214760" y="444960"/>
              <a:ext cx="142560" cy="2458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167600" y="634680"/>
              <a:ext cx="108720" cy="35568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286040" y="634680"/>
              <a:ext cx="177480" cy="30024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 rot="10800000">
              <a:off x="7314840" y="44928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1490760" y="3429000"/>
            <a:ext cx="243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ad Execu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72240" y="4309920"/>
            <a:ext cx="5241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de better choices of direc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r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ack up an ret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ponential tim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fine a bigger ste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-249120" y="-45720"/>
            <a:ext cx="2610720" cy="3114360"/>
            <a:chOff x="-249120" y="-45720"/>
            <a:chExt cx="2610720" cy="3114360"/>
          </a:xfrm>
        </p:grpSpPr>
        <p:sp>
          <p:nvSpPr>
            <p:cNvPr id="528" name=""/>
            <p:cNvSpPr/>
            <p:nvPr/>
          </p:nvSpPr>
          <p:spPr>
            <a:xfrm rot="20710200">
              <a:off x="780120" y="363600"/>
              <a:ext cx="538200" cy="446760"/>
            </a:xfrm>
            <a:custGeom>
              <a:avLst/>
              <a:gdLst/>
              <a:ahLst/>
              <a:rect l="l" t="t" r="r" b="b"/>
              <a:pathLst>
                <a:path w="600" h="608">
                  <a:moveTo>
                    <a:pt x="388" y="289"/>
                  </a:moveTo>
                  <a:lnTo>
                    <a:pt x="372" y="177"/>
                  </a:lnTo>
                  <a:lnTo>
                    <a:pt x="341" y="78"/>
                  </a:lnTo>
                  <a:lnTo>
                    <a:pt x="284" y="24"/>
                  </a:lnTo>
                  <a:lnTo>
                    <a:pt x="185" y="0"/>
                  </a:lnTo>
                  <a:lnTo>
                    <a:pt x="100" y="24"/>
                  </a:lnTo>
                  <a:lnTo>
                    <a:pt x="19" y="123"/>
                  </a:lnTo>
                  <a:lnTo>
                    <a:pt x="0" y="243"/>
                  </a:lnTo>
                  <a:lnTo>
                    <a:pt x="19" y="370"/>
                  </a:lnTo>
                  <a:lnTo>
                    <a:pt x="50" y="447"/>
                  </a:lnTo>
                  <a:lnTo>
                    <a:pt x="88" y="528"/>
                  </a:lnTo>
                  <a:lnTo>
                    <a:pt x="130" y="582"/>
                  </a:lnTo>
                  <a:lnTo>
                    <a:pt x="177" y="608"/>
                  </a:lnTo>
                  <a:lnTo>
                    <a:pt x="242" y="585"/>
                  </a:lnTo>
                  <a:lnTo>
                    <a:pt x="307" y="531"/>
                  </a:lnTo>
                  <a:lnTo>
                    <a:pt x="349" y="455"/>
                  </a:lnTo>
                  <a:lnTo>
                    <a:pt x="388" y="390"/>
                  </a:lnTo>
                  <a:lnTo>
                    <a:pt x="400" y="351"/>
                  </a:lnTo>
                  <a:lnTo>
                    <a:pt x="565" y="293"/>
                  </a:lnTo>
                  <a:lnTo>
                    <a:pt x="600" y="270"/>
                  </a:lnTo>
                  <a:lnTo>
                    <a:pt x="580" y="235"/>
                  </a:lnTo>
                  <a:lnTo>
                    <a:pt x="388" y="2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20710200">
              <a:off x="729360" y="936720"/>
              <a:ext cx="554040" cy="996480"/>
            </a:xfrm>
            <a:custGeom>
              <a:avLst/>
              <a:gdLst/>
              <a:ahLst/>
              <a:rect l="l" t="t" r="r" b="b"/>
              <a:pathLst>
                <a:path w="619" h="1085">
                  <a:moveTo>
                    <a:pt x="208" y="161"/>
                  </a:moveTo>
                  <a:lnTo>
                    <a:pt x="284" y="80"/>
                  </a:lnTo>
                  <a:lnTo>
                    <a:pt x="411" y="3"/>
                  </a:lnTo>
                  <a:lnTo>
                    <a:pt x="469" y="0"/>
                  </a:lnTo>
                  <a:lnTo>
                    <a:pt x="573" y="34"/>
                  </a:lnTo>
                  <a:lnTo>
                    <a:pt x="619" y="85"/>
                  </a:lnTo>
                  <a:lnTo>
                    <a:pt x="619" y="161"/>
                  </a:lnTo>
                  <a:lnTo>
                    <a:pt x="542" y="304"/>
                  </a:lnTo>
                  <a:lnTo>
                    <a:pt x="458" y="415"/>
                  </a:lnTo>
                  <a:lnTo>
                    <a:pt x="422" y="508"/>
                  </a:lnTo>
                  <a:lnTo>
                    <a:pt x="399" y="615"/>
                  </a:lnTo>
                  <a:lnTo>
                    <a:pt x="422" y="719"/>
                  </a:lnTo>
                  <a:lnTo>
                    <a:pt x="445" y="820"/>
                  </a:lnTo>
                  <a:lnTo>
                    <a:pt x="445" y="935"/>
                  </a:lnTo>
                  <a:lnTo>
                    <a:pt x="411" y="1005"/>
                  </a:lnTo>
                  <a:lnTo>
                    <a:pt x="334" y="1043"/>
                  </a:lnTo>
                  <a:lnTo>
                    <a:pt x="242" y="1085"/>
                  </a:lnTo>
                  <a:lnTo>
                    <a:pt x="157" y="1085"/>
                  </a:lnTo>
                  <a:lnTo>
                    <a:pt x="100" y="1054"/>
                  </a:lnTo>
                  <a:lnTo>
                    <a:pt x="23" y="927"/>
                  </a:lnTo>
                  <a:lnTo>
                    <a:pt x="0" y="797"/>
                  </a:lnTo>
                  <a:lnTo>
                    <a:pt x="8" y="628"/>
                  </a:lnTo>
                  <a:lnTo>
                    <a:pt x="65" y="415"/>
                  </a:lnTo>
                  <a:lnTo>
                    <a:pt x="123" y="277"/>
                  </a:lnTo>
                  <a:lnTo>
                    <a:pt x="208" y="1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20710200">
              <a:off x="1215360" y="1640880"/>
              <a:ext cx="1076040" cy="687240"/>
            </a:xfrm>
            <a:custGeom>
              <a:avLst/>
              <a:gdLst/>
              <a:ahLst/>
              <a:rect l="l" t="t" r="r" b="b"/>
              <a:pathLst>
                <a:path w="782" h="808">
                  <a:moveTo>
                    <a:pt x="0" y="76"/>
                  </a:moveTo>
                  <a:lnTo>
                    <a:pt x="66" y="0"/>
                  </a:lnTo>
                  <a:lnTo>
                    <a:pt x="163" y="0"/>
                  </a:lnTo>
                  <a:lnTo>
                    <a:pt x="343" y="19"/>
                  </a:lnTo>
                  <a:lnTo>
                    <a:pt x="555" y="30"/>
                  </a:lnTo>
                  <a:lnTo>
                    <a:pt x="636" y="65"/>
                  </a:lnTo>
                  <a:lnTo>
                    <a:pt x="670" y="110"/>
                  </a:lnTo>
                  <a:lnTo>
                    <a:pt x="678" y="180"/>
                  </a:lnTo>
                  <a:lnTo>
                    <a:pt x="654" y="253"/>
                  </a:lnTo>
                  <a:lnTo>
                    <a:pt x="589" y="365"/>
                  </a:lnTo>
                  <a:lnTo>
                    <a:pt x="504" y="457"/>
                  </a:lnTo>
                  <a:lnTo>
                    <a:pt x="439" y="541"/>
                  </a:lnTo>
                  <a:lnTo>
                    <a:pt x="412" y="607"/>
                  </a:lnTo>
                  <a:lnTo>
                    <a:pt x="393" y="653"/>
                  </a:lnTo>
                  <a:lnTo>
                    <a:pt x="400" y="689"/>
                  </a:lnTo>
                  <a:lnTo>
                    <a:pt x="405" y="711"/>
                  </a:lnTo>
                  <a:lnTo>
                    <a:pt x="482" y="711"/>
                  </a:lnTo>
                  <a:lnTo>
                    <a:pt x="601" y="692"/>
                  </a:lnTo>
                  <a:lnTo>
                    <a:pt x="678" y="692"/>
                  </a:lnTo>
                  <a:lnTo>
                    <a:pt x="758" y="723"/>
                  </a:lnTo>
                  <a:lnTo>
                    <a:pt x="782" y="761"/>
                  </a:lnTo>
                  <a:lnTo>
                    <a:pt x="758" y="796"/>
                  </a:lnTo>
                  <a:lnTo>
                    <a:pt x="724" y="808"/>
                  </a:lnTo>
                  <a:lnTo>
                    <a:pt x="670" y="792"/>
                  </a:lnTo>
                  <a:lnTo>
                    <a:pt x="597" y="749"/>
                  </a:lnTo>
                  <a:lnTo>
                    <a:pt x="520" y="757"/>
                  </a:lnTo>
                  <a:lnTo>
                    <a:pt x="393" y="780"/>
                  </a:lnTo>
                  <a:lnTo>
                    <a:pt x="355" y="773"/>
                  </a:lnTo>
                  <a:lnTo>
                    <a:pt x="335" y="746"/>
                  </a:lnTo>
                  <a:lnTo>
                    <a:pt x="335" y="681"/>
                  </a:lnTo>
                  <a:lnTo>
                    <a:pt x="335" y="588"/>
                  </a:lnTo>
                  <a:lnTo>
                    <a:pt x="389" y="518"/>
                  </a:lnTo>
                  <a:lnTo>
                    <a:pt x="470" y="414"/>
                  </a:lnTo>
                  <a:lnTo>
                    <a:pt x="540" y="323"/>
                  </a:lnTo>
                  <a:lnTo>
                    <a:pt x="586" y="253"/>
                  </a:lnTo>
                  <a:lnTo>
                    <a:pt x="609" y="192"/>
                  </a:lnTo>
                  <a:lnTo>
                    <a:pt x="597" y="157"/>
                  </a:lnTo>
                  <a:lnTo>
                    <a:pt x="566" y="115"/>
                  </a:lnTo>
                  <a:lnTo>
                    <a:pt x="520" y="103"/>
                  </a:lnTo>
                  <a:lnTo>
                    <a:pt x="470" y="103"/>
                  </a:lnTo>
                  <a:lnTo>
                    <a:pt x="358" y="103"/>
                  </a:lnTo>
                  <a:lnTo>
                    <a:pt x="193" y="134"/>
                  </a:lnTo>
                  <a:lnTo>
                    <a:pt x="70" y="146"/>
                  </a:lnTo>
                  <a:lnTo>
                    <a:pt x="20" y="134"/>
                  </a:lnTo>
                  <a:lnTo>
                    <a:pt x="0" y="11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9294200">
              <a:off x="-227160" y="2050920"/>
              <a:ext cx="1536480" cy="605880"/>
            </a:xfrm>
            <a:custGeom>
              <a:avLst/>
              <a:gdLst/>
              <a:ahLst/>
              <a:rect l="l" t="t" r="r" b="b"/>
              <a:pathLst>
                <a:path w="992" h="770">
                  <a:moveTo>
                    <a:pt x="808" y="320"/>
                  </a:moveTo>
                  <a:lnTo>
                    <a:pt x="823" y="219"/>
                  </a:lnTo>
                  <a:lnTo>
                    <a:pt x="881" y="181"/>
                  </a:lnTo>
                  <a:lnTo>
                    <a:pt x="950" y="174"/>
                  </a:lnTo>
                  <a:lnTo>
                    <a:pt x="992" y="219"/>
                  </a:lnTo>
                  <a:lnTo>
                    <a:pt x="973" y="308"/>
                  </a:lnTo>
                  <a:lnTo>
                    <a:pt x="935" y="427"/>
                  </a:lnTo>
                  <a:lnTo>
                    <a:pt x="857" y="562"/>
                  </a:lnTo>
                  <a:lnTo>
                    <a:pt x="761" y="677"/>
                  </a:lnTo>
                  <a:lnTo>
                    <a:pt x="681" y="739"/>
                  </a:lnTo>
                  <a:lnTo>
                    <a:pt x="592" y="770"/>
                  </a:lnTo>
                  <a:lnTo>
                    <a:pt x="507" y="759"/>
                  </a:lnTo>
                  <a:lnTo>
                    <a:pt x="442" y="723"/>
                  </a:lnTo>
                  <a:lnTo>
                    <a:pt x="419" y="666"/>
                  </a:lnTo>
                  <a:lnTo>
                    <a:pt x="392" y="566"/>
                  </a:lnTo>
                  <a:lnTo>
                    <a:pt x="361" y="382"/>
                  </a:lnTo>
                  <a:lnTo>
                    <a:pt x="338" y="254"/>
                  </a:lnTo>
                  <a:lnTo>
                    <a:pt x="338" y="104"/>
                  </a:lnTo>
                  <a:lnTo>
                    <a:pt x="323" y="78"/>
                  </a:lnTo>
                  <a:lnTo>
                    <a:pt x="277" y="70"/>
                  </a:lnTo>
                  <a:lnTo>
                    <a:pt x="223" y="112"/>
                  </a:lnTo>
                  <a:lnTo>
                    <a:pt x="173" y="181"/>
                  </a:lnTo>
                  <a:lnTo>
                    <a:pt x="115" y="219"/>
                  </a:lnTo>
                  <a:lnTo>
                    <a:pt x="27" y="219"/>
                  </a:lnTo>
                  <a:lnTo>
                    <a:pt x="0" y="196"/>
                  </a:lnTo>
                  <a:lnTo>
                    <a:pt x="0" y="158"/>
                  </a:lnTo>
                  <a:lnTo>
                    <a:pt x="39" y="123"/>
                  </a:lnTo>
                  <a:lnTo>
                    <a:pt x="81" y="135"/>
                  </a:lnTo>
                  <a:lnTo>
                    <a:pt x="119" y="127"/>
                  </a:lnTo>
                  <a:lnTo>
                    <a:pt x="189" y="78"/>
                  </a:lnTo>
                  <a:lnTo>
                    <a:pt x="257" y="23"/>
                  </a:lnTo>
                  <a:lnTo>
                    <a:pt x="323" y="8"/>
                  </a:lnTo>
                  <a:lnTo>
                    <a:pt x="415" y="0"/>
                  </a:lnTo>
                  <a:lnTo>
                    <a:pt x="419" y="42"/>
                  </a:lnTo>
                  <a:lnTo>
                    <a:pt x="397" y="89"/>
                  </a:lnTo>
                  <a:lnTo>
                    <a:pt x="392" y="208"/>
                  </a:lnTo>
                  <a:lnTo>
                    <a:pt x="419" y="366"/>
                  </a:lnTo>
                  <a:lnTo>
                    <a:pt x="462" y="520"/>
                  </a:lnTo>
                  <a:lnTo>
                    <a:pt x="499" y="612"/>
                  </a:lnTo>
                  <a:lnTo>
                    <a:pt x="558" y="655"/>
                  </a:lnTo>
                  <a:lnTo>
                    <a:pt x="615" y="655"/>
                  </a:lnTo>
                  <a:lnTo>
                    <a:pt x="673" y="612"/>
                  </a:lnTo>
                  <a:lnTo>
                    <a:pt x="750" y="515"/>
                  </a:lnTo>
                  <a:lnTo>
                    <a:pt x="800" y="377"/>
                  </a:lnTo>
                  <a:lnTo>
                    <a:pt x="808" y="3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20710200">
              <a:off x="252360" y="179280"/>
              <a:ext cx="628200" cy="1114920"/>
            </a:xfrm>
            <a:custGeom>
              <a:avLst/>
              <a:gdLst/>
              <a:ahLst/>
              <a:rect l="l" t="t" r="r" b="b"/>
              <a:pathLst>
                <a:path w="699" h="1216">
                  <a:moveTo>
                    <a:pt x="445" y="923"/>
                  </a:moveTo>
                  <a:lnTo>
                    <a:pt x="560" y="1039"/>
                  </a:lnTo>
                  <a:lnTo>
                    <a:pt x="606" y="1039"/>
                  </a:lnTo>
                  <a:lnTo>
                    <a:pt x="684" y="1086"/>
                  </a:lnTo>
                  <a:lnTo>
                    <a:pt x="699" y="1139"/>
                  </a:lnTo>
                  <a:lnTo>
                    <a:pt x="676" y="1208"/>
                  </a:lnTo>
                  <a:lnTo>
                    <a:pt x="614" y="1216"/>
                  </a:lnTo>
                  <a:lnTo>
                    <a:pt x="537" y="1162"/>
                  </a:lnTo>
                  <a:lnTo>
                    <a:pt x="383" y="1016"/>
                  </a:lnTo>
                  <a:lnTo>
                    <a:pt x="284" y="878"/>
                  </a:lnTo>
                  <a:lnTo>
                    <a:pt x="237" y="769"/>
                  </a:lnTo>
                  <a:lnTo>
                    <a:pt x="206" y="585"/>
                  </a:lnTo>
                  <a:lnTo>
                    <a:pt x="206" y="346"/>
                  </a:lnTo>
                  <a:lnTo>
                    <a:pt x="198" y="285"/>
                  </a:lnTo>
                  <a:lnTo>
                    <a:pt x="153" y="239"/>
                  </a:lnTo>
                  <a:lnTo>
                    <a:pt x="22" y="247"/>
                  </a:lnTo>
                  <a:lnTo>
                    <a:pt x="0" y="223"/>
                  </a:lnTo>
                  <a:lnTo>
                    <a:pt x="29" y="208"/>
                  </a:lnTo>
                  <a:lnTo>
                    <a:pt x="122" y="200"/>
                  </a:lnTo>
                  <a:lnTo>
                    <a:pt x="138" y="185"/>
                  </a:lnTo>
                  <a:lnTo>
                    <a:pt x="6" y="107"/>
                  </a:lnTo>
                  <a:lnTo>
                    <a:pt x="6" y="77"/>
                  </a:lnTo>
                  <a:lnTo>
                    <a:pt x="29" y="70"/>
                  </a:lnTo>
                  <a:lnTo>
                    <a:pt x="138" y="130"/>
                  </a:lnTo>
                  <a:lnTo>
                    <a:pt x="161" y="123"/>
                  </a:lnTo>
                  <a:lnTo>
                    <a:pt x="138" y="8"/>
                  </a:lnTo>
                  <a:lnTo>
                    <a:pt x="153" y="0"/>
                  </a:lnTo>
                  <a:lnTo>
                    <a:pt x="169" y="8"/>
                  </a:lnTo>
                  <a:lnTo>
                    <a:pt x="198" y="123"/>
                  </a:lnTo>
                  <a:lnTo>
                    <a:pt x="222" y="130"/>
                  </a:lnTo>
                  <a:lnTo>
                    <a:pt x="284" y="8"/>
                  </a:lnTo>
                  <a:lnTo>
                    <a:pt x="299" y="8"/>
                  </a:lnTo>
                  <a:lnTo>
                    <a:pt x="299" y="46"/>
                  </a:lnTo>
                  <a:lnTo>
                    <a:pt x="260" y="146"/>
                  </a:lnTo>
                  <a:lnTo>
                    <a:pt x="260" y="200"/>
                  </a:lnTo>
                  <a:lnTo>
                    <a:pt x="276" y="270"/>
                  </a:lnTo>
                  <a:lnTo>
                    <a:pt x="268" y="361"/>
                  </a:lnTo>
                  <a:lnTo>
                    <a:pt x="276" y="531"/>
                  </a:lnTo>
                  <a:lnTo>
                    <a:pt x="291" y="639"/>
                  </a:lnTo>
                  <a:lnTo>
                    <a:pt x="330" y="762"/>
                  </a:lnTo>
                  <a:lnTo>
                    <a:pt x="383" y="855"/>
                  </a:lnTo>
                  <a:lnTo>
                    <a:pt x="445" y="9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20710200">
              <a:off x="975600" y="43560"/>
              <a:ext cx="821880" cy="930600"/>
            </a:xfrm>
            <a:custGeom>
              <a:avLst/>
              <a:gdLst/>
              <a:ahLst/>
              <a:rect l="l" t="t" r="r" b="b"/>
              <a:pathLst>
                <a:path w="915" h="1139">
                  <a:moveTo>
                    <a:pt x="15" y="1008"/>
                  </a:moveTo>
                  <a:lnTo>
                    <a:pt x="0" y="1061"/>
                  </a:lnTo>
                  <a:lnTo>
                    <a:pt x="15" y="1139"/>
                  </a:lnTo>
                  <a:lnTo>
                    <a:pt x="70" y="1139"/>
                  </a:lnTo>
                  <a:lnTo>
                    <a:pt x="231" y="1108"/>
                  </a:lnTo>
                  <a:lnTo>
                    <a:pt x="408" y="1046"/>
                  </a:lnTo>
                  <a:lnTo>
                    <a:pt x="554" y="946"/>
                  </a:lnTo>
                  <a:lnTo>
                    <a:pt x="639" y="816"/>
                  </a:lnTo>
                  <a:lnTo>
                    <a:pt x="715" y="593"/>
                  </a:lnTo>
                  <a:lnTo>
                    <a:pt x="738" y="385"/>
                  </a:lnTo>
                  <a:lnTo>
                    <a:pt x="738" y="285"/>
                  </a:lnTo>
                  <a:lnTo>
                    <a:pt x="777" y="224"/>
                  </a:lnTo>
                  <a:lnTo>
                    <a:pt x="845" y="200"/>
                  </a:lnTo>
                  <a:lnTo>
                    <a:pt x="907" y="200"/>
                  </a:lnTo>
                  <a:lnTo>
                    <a:pt x="915" y="169"/>
                  </a:lnTo>
                  <a:lnTo>
                    <a:pt x="823" y="177"/>
                  </a:lnTo>
                  <a:lnTo>
                    <a:pt x="808" y="154"/>
                  </a:lnTo>
                  <a:lnTo>
                    <a:pt x="884" y="70"/>
                  </a:lnTo>
                  <a:lnTo>
                    <a:pt x="868" y="47"/>
                  </a:lnTo>
                  <a:lnTo>
                    <a:pt x="853" y="62"/>
                  </a:lnTo>
                  <a:lnTo>
                    <a:pt x="792" y="123"/>
                  </a:lnTo>
                  <a:lnTo>
                    <a:pt x="777" y="123"/>
                  </a:lnTo>
                  <a:lnTo>
                    <a:pt x="777" y="16"/>
                  </a:lnTo>
                  <a:lnTo>
                    <a:pt x="761" y="0"/>
                  </a:lnTo>
                  <a:lnTo>
                    <a:pt x="738" y="8"/>
                  </a:lnTo>
                  <a:lnTo>
                    <a:pt x="746" y="123"/>
                  </a:lnTo>
                  <a:lnTo>
                    <a:pt x="730" y="131"/>
                  </a:lnTo>
                  <a:lnTo>
                    <a:pt x="668" y="70"/>
                  </a:lnTo>
                  <a:lnTo>
                    <a:pt x="623" y="62"/>
                  </a:lnTo>
                  <a:lnTo>
                    <a:pt x="631" y="93"/>
                  </a:lnTo>
                  <a:lnTo>
                    <a:pt x="699" y="162"/>
                  </a:lnTo>
                  <a:lnTo>
                    <a:pt x="699" y="200"/>
                  </a:lnTo>
                  <a:lnTo>
                    <a:pt x="676" y="278"/>
                  </a:lnTo>
                  <a:lnTo>
                    <a:pt x="676" y="346"/>
                  </a:lnTo>
                  <a:lnTo>
                    <a:pt x="676" y="462"/>
                  </a:lnTo>
                  <a:lnTo>
                    <a:pt x="645" y="608"/>
                  </a:lnTo>
                  <a:lnTo>
                    <a:pt x="615" y="700"/>
                  </a:lnTo>
                  <a:lnTo>
                    <a:pt x="561" y="816"/>
                  </a:lnTo>
                  <a:lnTo>
                    <a:pt x="499" y="908"/>
                  </a:lnTo>
                  <a:lnTo>
                    <a:pt x="454" y="954"/>
                  </a:lnTo>
                  <a:lnTo>
                    <a:pt x="330" y="993"/>
                  </a:lnTo>
                  <a:lnTo>
                    <a:pt x="215" y="1008"/>
                  </a:lnTo>
                  <a:lnTo>
                    <a:pt x="99" y="1024"/>
                  </a:lnTo>
                  <a:lnTo>
                    <a:pt x="15" y="100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ll Climb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124080" y="2514600"/>
            <a:ext cx="7632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2895480"/>
            <a:ext cx="7596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33920" y="2514600"/>
            <a:ext cx="7596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86200" y="2971800"/>
            <a:ext cx="7632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419720" y="2514600"/>
            <a:ext cx="7596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2880" y="2286000"/>
            <a:ext cx="7632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029200" y="2755800"/>
            <a:ext cx="7632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72000" y="3048120"/>
            <a:ext cx="76320" cy="7596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91120" y="3429000"/>
            <a:ext cx="7596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657600" y="3429000"/>
            <a:ext cx="7632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29000" y="2209680"/>
            <a:ext cx="7632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038480" y="2133720"/>
            <a:ext cx="76320" cy="7596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495680" y="1905120"/>
            <a:ext cx="76320" cy="7596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733920" y="1828800"/>
            <a:ext cx="7596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00400" y="1828800"/>
            <a:ext cx="7632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743200" y="2057400"/>
            <a:ext cx="7632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590920" y="2514600"/>
            <a:ext cx="7596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91120" y="1447920"/>
            <a:ext cx="75960" cy="7596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1447920"/>
            <a:ext cx="76320" cy="7596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581280" y="2108160"/>
            <a:ext cx="380880" cy="711000"/>
            <a:chOff x="3581280" y="2108160"/>
            <a:chExt cx="380880" cy="711000"/>
          </a:xfrm>
        </p:grpSpPr>
        <p:sp>
          <p:nvSpPr>
            <p:cNvPr id="555" name=""/>
            <p:cNvSpPr/>
            <p:nvPr/>
          </p:nvSpPr>
          <p:spPr>
            <a:xfrm>
              <a:off x="3649320" y="2108160"/>
              <a:ext cx="189360" cy="14832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581280" y="227340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709440" y="2273760"/>
              <a:ext cx="142560" cy="2458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662280" y="2463480"/>
              <a:ext cx="108720" cy="35568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780720" y="2463480"/>
              <a:ext cx="177480" cy="30024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 rot="10800000">
              <a:off x="3809880" y="227808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687600" y="762120"/>
            <a:ext cx="1671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ifferent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lu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89120" y="1873080"/>
            <a:ext cx="1469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urrent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lu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19520" y="2971800"/>
            <a:ext cx="7596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8120" y="3429000"/>
            <a:ext cx="7596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2971800" y="914400"/>
            <a:ext cx="6344640" cy="2378160"/>
            <a:chOff x="2971800" y="914400"/>
            <a:chExt cx="6344640" cy="2378160"/>
          </a:xfrm>
        </p:grpSpPr>
        <p:sp>
          <p:nvSpPr>
            <p:cNvPr id="566" name=""/>
            <p:cNvSpPr/>
            <p:nvPr/>
          </p:nvSpPr>
          <p:spPr>
            <a:xfrm>
              <a:off x="5420160" y="914400"/>
              <a:ext cx="389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Alg defines 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to where alg can step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i.e. what small local 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changes can be made to 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current solution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971800" y="1981080"/>
              <a:ext cx="1676520" cy="12193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3567600" y="1930320"/>
              <a:ext cx="699120" cy="893880"/>
              <a:chOff x="3567600" y="1930320"/>
              <a:chExt cx="699120" cy="893880"/>
            </a:xfrm>
          </p:grpSpPr>
          <p:sp>
            <p:nvSpPr>
              <p:cNvPr id="569" name=""/>
              <p:cNvSpPr/>
              <p:nvPr/>
            </p:nvSpPr>
            <p:spPr>
              <a:xfrm rot="19765200">
                <a:off x="3753000" y="2075040"/>
                <a:ext cx="140760" cy="11664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9765200">
                <a:off x="3800520" y="2219760"/>
                <a:ext cx="144720" cy="26064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9765200">
                <a:off x="3958920" y="2345760"/>
                <a:ext cx="281520" cy="17964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8349200">
                <a:off x="3619440" y="2535480"/>
                <a:ext cx="401760" cy="15840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9765200">
                <a:off x="3630240" y="2059560"/>
                <a:ext cx="164160" cy="29160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9765200">
                <a:off x="3795120" y="1968120"/>
                <a:ext cx="214920" cy="24336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5" name=""/>
          <p:cNvGrpSpPr/>
          <p:nvPr/>
        </p:nvGrpSpPr>
        <p:grpSpPr>
          <a:xfrm>
            <a:off x="457200" y="3151080"/>
            <a:ext cx="8559720" cy="3524400"/>
            <a:chOff x="457200" y="3151080"/>
            <a:chExt cx="8559720" cy="3524400"/>
          </a:xfrm>
        </p:grpSpPr>
        <p:sp>
          <p:nvSpPr>
            <p:cNvPr id="576" name=""/>
            <p:cNvSpPr/>
            <p:nvPr/>
          </p:nvSpPr>
          <p:spPr>
            <a:xfrm>
              <a:off x="457200" y="3151080"/>
              <a:ext cx="8559720" cy="3524400"/>
            </a:xfrm>
            <a:custGeom>
              <a:avLst/>
              <a:gdLst/>
              <a:ahLst/>
              <a:rect l="l" t="t" r="r" b="b"/>
              <a:pathLst>
                <a:path w="5392" h="2220">
                  <a:moveTo>
                    <a:pt x="0" y="2206"/>
                  </a:moveTo>
                  <a:cubicBezTo>
                    <a:pt x="172" y="2219"/>
                    <a:pt x="327" y="2220"/>
                    <a:pt x="499" y="2108"/>
                  </a:cubicBezTo>
                  <a:cubicBezTo>
                    <a:pt x="671" y="1996"/>
                    <a:pt x="845" y="1681"/>
                    <a:pt x="1032" y="1535"/>
                  </a:cubicBezTo>
                  <a:cubicBezTo>
                    <a:pt x="1219" y="1389"/>
                    <a:pt x="1432" y="1260"/>
                    <a:pt x="1624" y="1231"/>
                  </a:cubicBezTo>
                  <a:cubicBezTo>
                    <a:pt x="1816" y="1202"/>
                    <a:pt x="2012" y="1367"/>
                    <a:pt x="2184" y="1359"/>
                  </a:cubicBezTo>
                  <a:cubicBezTo>
                    <a:pt x="2356" y="1351"/>
                    <a:pt x="2448" y="1360"/>
                    <a:pt x="2656" y="1183"/>
                  </a:cubicBezTo>
                  <a:cubicBezTo>
                    <a:pt x="2864" y="1006"/>
                    <a:pt x="3156" y="440"/>
                    <a:pt x="3432" y="295"/>
                  </a:cubicBezTo>
                  <a:cubicBezTo>
                    <a:pt x="3708" y="150"/>
                    <a:pt x="3985" y="0"/>
                    <a:pt x="4312" y="311"/>
                  </a:cubicBezTo>
                  <a:cubicBezTo>
                    <a:pt x="4639" y="622"/>
                    <a:pt x="5167" y="1774"/>
                    <a:pt x="5392" y="2159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5400000">
              <a:off x="3200040" y="4191120"/>
              <a:ext cx="1143000" cy="685800"/>
            </a:xfrm>
            <a:custGeom>
              <a:avLst/>
              <a:gdLst>
                <a:gd name="textAreaLeft" fmla="*/ 178560 w 1143000"/>
                <a:gd name="textAreaRight" fmla="*/ 1000440 w 114300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042080" y="3886200"/>
              <a:ext cx="24757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This defines 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the topography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ll Climb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124080" y="2514600"/>
            <a:ext cx="7632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2895480"/>
            <a:ext cx="7596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33920" y="2514600"/>
            <a:ext cx="7596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886200" y="2971800"/>
            <a:ext cx="7632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419720" y="2514600"/>
            <a:ext cx="7596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952880" y="2286000"/>
            <a:ext cx="7632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029200" y="2755800"/>
            <a:ext cx="7632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572000" y="3048120"/>
            <a:ext cx="76320" cy="7596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3429000"/>
            <a:ext cx="7596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57600" y="3429000"/>
            <a:ext cx="7632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429000" y="2209680"/>
            <a:ext cx="7632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038480" y="2133720"/>
            <a:ext cx="76320" cy="7596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495680" y="1905120"/>
            <a:ext cx="76320" cy="7596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733920" y="1828800"/>
            <a:ext cx="7596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200400" y="1828800"/>
            <a:ext cx="7632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43200" y="2057400"/>
            <a:ext cx="7632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90920" y="2514600"/>
            <a:ext cx="7596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91120" y="1447920"/>
            <a:ext cx="75960" cy="7596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581280" y="1447920"/>
            <a:ext cx="76320" cy="7596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7600" y="762120"/>
            <a:ext cx="1671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ifferent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lu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89120" y="1873080"/>
            <a:ext cx="1469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urrent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lu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19520" y="2971800"/>
            <a:ext cx="7596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048120" y="3429000"/>
            <a:ext cx="75960" cy="763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2666880" y="1519200"/>
            <a:ext cx="5815080" cy="1757520"/>
            <a:chOff x="2666880" y="1519200"/>
            <a:chExt cx="5815080" cy="1757520"/>
          </a:xfrm>
        </p:grpSpPr>
        <p:sp>
          <p:nvSpPr>
            <p:cNvPr id="604" name=""/>
            <p:cNvSpPr/>
            <p:nvPr/>
          </p:nvSpPr>
          <p:spPr>
            <a:xfrm>
              <a:off x="5763600" y="1523880"/>
              <a:ext cx="27183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Define a slightly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bigger step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666880" y="1676520"/>
              <a:ext cx="2286000" cy="1600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3197520" y="1519200"/>
              <a:ext cx="1144440" cy="1462680"/>
              <a:chOff x="3197520" y="1519200"/>
              <a:chExt cx="1144440" cy="1462680"/>
            </a:xfrm>
          </p:grpSpPr>
          <p:sp>
            <p:nvSpPr>
              <p:cNvPr id="607" name=""/>
              <p:cNvSpPr/>
              <p:nvPr/>
            </p:nvSpPr>
            <p:spPr>
              <a:xfrm rot="19765200">
                <a:off x="3500280" y="1756080"/>
                <a:ext cx="230400" cy="19116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19765200">
                <a:off x="3578400" y="1992600"/>
                <a:ext cx="237240" cy="42660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19765200">
                <a:off x="3837960" y="2198520"/>
                <a:ext cx="460800" cy="29412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8349200">
                <a:off x="3282480" y="2509560"/>
                <a:ext cx="658080" cy="25920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19765200">
                <a:off x="3300120" y="1730160"/>
                <a:ext cx="268920" cy="47736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19765200">
                <a:off x="3570120" y="1581120"/>
                <a:ext cx="352080" cy="39816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3" name=""/>
          <p:cNvSpPr/>
          <p:nvPr/>
        </p:nvSpPr>
        <p:spPr>
          <a:xfrm>
            <a:off x="457200" y="3124080"/>
            <a:ext cx="8559720" cy="3524400"/>
          </a:xfrm>
          <a:custGeom>
            <a:avLst/>
            <a:gdLst/>
            <a:ahLst/>
            <a:rect l="l" t="t" r="r" b="b"/>
            <a:pathLst>
              <a:path w="5392" h="2220">
                <a:moveTo>
                  <a:pt x="0" y="2206"/>
                </a:moveTo>
                <a:cubicBezTo>
                  <a:pt x="172" y="2219"/>
                  <a:pt x="327" y="2220"/>
                  <a:pt x="499" y="2108"/>
                </a:cubicBezTo>
                <a:cubicBezTo>
                  <a:pt x="671" y="1996"/>
                  <a:pt x="845" y="1681"/>
                  <a:pt x="1032" y="1535"/>
                </a:cubicBezTo>
                <a:cubicBezTo>
                  <a:pt x="1219" y="1389"/>
                  <a:pt x="1432" y="1260"/>
                  <a:pt x="1624" y="1231"/>
                </a:cubicBezTo>
                <a:cubicBezTo>
                  <a:pt x="1816" y="1202"/>
                  <a:pt x="2012" y="1367"/>
                  <a:pt x="2184" y="1359"/>
                </a:cubicBezTo>
                <a:cubicBezTo>
                  <a:pt x="2356" y="1351"/>
                  <a:pt x="2448" y="1360"/>
                  <a:pt x="2656" y="1183"/>
                </a:cubicBezTo>
                <a:cubicBezTo>
                  <a:pt x="2864" y="1006"/>
                  <a:pt x="3156" y="440"/>
                  <a:pt x="3432" y="295"/>
                </a:cubicBezTo>
                <a:cubicBezTo>
                  <a:pt x="3708" y="150"/>
                  <a:pt x="3985" y="0"/>
                  <a:pt x="4312" y="311"/>
                </a:cubicBezTo>
                <a:cubicBezTo>
                  <a:pt x="4639" y="622"/>
                  <a:pt x="5167" y="1774"/>
                  <a:pt x="5392" y="215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5400000">
            <a:off x="3200040" y="41911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42080" y="3886200"/>
            <a:ext cx="247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s defines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topograph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57200" y="3124080"/>
            <a:ext cx="8559720" cy="3524400"/>
          </a:xfrm>
          <a:custGeom>
            <a:avLst/>
            <a:gdLst/>
            <a:ahLst/>
            <a:rect l="l" t="t" r="r" b="b"/>
            <a:pathLst>
              <a:path w="5392" h="2220">
                <a:moveTo>
                  <a:pt x="0" y="2206"/>
                </a:moveTo>
                <a:cubicBezTo>
                  <a:pt x="172" y="2219"/>
                  <a:pt x="327" y="2220"/>
                  <a:pt x="499" y="2108"/>
                </a:cubicBezTo>
                <a:cubicBezTo>
                  <a:pt x="671" y="1996"/>
                  <a:pt x="845" y="1681"/>
                  <a:pt x="1032" y="1535"/>
                </a:cubicBezTo>
                <a:cubicBezTo>
                  <a:pt x="1219" y="1389"/>
                  <a:pt x="1413" y="1293"/>
                  <a:pt x="1624" y="1231"/>
                </a:cubicBezTo>
                <a:cubicBezTo>
                  <a:pt x="1835" y="1169"/>
                  <a:pt x="2117" y="1196"/>
                  <a:pt x="2296" y="1160"/>
                </a:cubicBezTo>
                <a:cubicBezTo>
                  <a:pt x="2475" y="1124"/>
                  <a:pt x="2507" y="1160"/>
                  <a:pt x="2696" y="1016"/>
                </a:cubicBezTo>
                <a:cubicBezTo>
                  <a:pt x="2885" y="872"/>
                  <a:pt x="3163" y="412"/>
                  <a:pt x="3432" y="295"/>
                </a:cubicBezTo>
                <a:cubicBezTo>
                  <a:pt x="3701" y="178"/>
                  <a:pt x="3985" y="0"/>
                  <a:pt x="4312" y="311"/>
                </a:cubicBezTo>
                <a:cubicBezTo>
                  <a:pt x="4639" y="622"/>
                  <a:pt x="5167" y="1774"/>
                  <a:pt x="5392" y="215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16880" y="5910120"/>
            <a:ext cx="582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erhaps removes some local maxim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0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632880" y="2004840"/>
            <a:ext cx="3710520" cy="4472280"/>
            <a:chOff x="632880" y="2004840"/>
            <a:chExt cx="3710520" cy="4472280"/>
          </a:xfrm>
        </p:grpSpPr>
        <p:pic>
          <p:nvPicPr>
            <p:cNvPr id="620" name="" descr=""/>
            <p:cNvPicPr/>
            <p:nvPr/>
          </p:nvPicPr>
          <p:blipFill>
            <a:blip r:embed="rId1"/>
            <a:stretch/>
          </p:blipFill>
          <p:spPr>
            <a:xfrm>
              <a:off x="838080" y="2695680"/>
              <a:ext cx="31910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" descr=""/>
            <p:cNvPicPr/>
            <p:nvPr/>
          </p:nvPicPr>
          <p:blipFill>
            <a:blip r:embed="rId2"/>
            <a:stretch/>
          </p:blipFill>
          <p:spPr>
            <a:xfrm>
              <a:off x="838080" y="4857840"/>
              <a:ext cx="3505320" cy="16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672840" y="2004840"/>
              <a:ext cx="2412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Previous Inpu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2880" y="4248000"/>
              <a:ext cx="26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Previous Outpu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443480" y="1962000"/>
            <a:ext cx="4138560" cy="2198880"/>
            <a:chOff x="4443480" y="1962000"/>
            <a:chExt cx="4138560" cy="2198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tretch/>
          </p:blipFill>
          <p:spPr>
            <a:xfrm>
              <a:off x="4648320" y="2695680"/>
              <a:ext cx="3933720" cy="14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4443480" y="1962000"/>
              <a:ext cx="1925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Same Inpu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422240" y="4251240"/>
            <a:ext cx="3959640" cy="2216160"/>
            <a:chOff x="4422240" y="4251240"/>
            <a:chExt cx="3959640" cy="2216160"/>
          </a:xfrm>
        </p:grpSpPr>
        <p:pic>
          <p:nvPicPr>
            <p:cNvPr id="628" name="" descr=""/>
            <p:cNvPicPr/>
            <p:nvPr/>
          </p:nvPicPr>
          <p:blipFill>
            <a:blip r:embed="rId4"/>
            <a:stretch/>
          </p:blipFill>
          <p:spPr>
            <a:xfrm>
              <a:off x="4724280" y="4876920"/>
              <a:ext cx="365760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4422240" y="4251240"/>
              <a:ext cx="2328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Worse Outpu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5638680" y="548640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955200" y="1143000"/>
            <a:ext cx="157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Mistake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260760" y="1617840"/>
            <a:ext cx="2942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Putting 2 through </a:t>
            </a:r>
            <a:br>
              <a:rPr sz="3000"/>
            </a:b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this edg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30556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Instanc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etwork is a directed graph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dges represent pipes that carry flo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ach edge 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 has a maximum capacity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 source node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out of which flow leav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 sink node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nto which flow arriv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16200000">
            <a:off x="2829600" y="2829240"/>
            <a:ext cx="3560760" cy="449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477120" y="5105520"/>
            <a:ext cx="2361960" cy="196992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228240" y="3598920"/>
            <a:ext cx="2591280" cy="1935000"/>
            <a:chOff x="228240" y="3598920"/>
            <a:chExt cx="2591280" cy="1935000"/>
          </a:xfrm>
        </p:grpSpPr>
        <p:grpSp>
          <p:nvGrpSpPr>
            <p:cNvPr id="53" name=""/>
            <p:cNvGrpSpPr/>
            <p:nvPr/>
          </p:nvGrpSpPr>
          <p:grpSpPr>
            <a:xfrm>
              <a:off x="474840" y="3598920"/>
              <a:ext cx="2344680" cy="1935000"/>
              <a:chOff x="474840" y="3598920"/>
              <a:chExt cx="2344680" cy="1935000"/>
            </a:xfrm>
          </p:grpSpPr>
          <p:sp>
            <p:nvSpPr>
              <p:cNvPr id="54" name=""/>
              <p:cNvSpPr/>
              <p:nvPr/>
            </p:nvSpPr>
            <p:spPr>
              <a:xfrm flipH="1">
                <a:off x="474480" y="3598920"/>
                <a:ext cx="2320920" cy="1836720"/>
              </a:xfrm>
              <a:custGeom>
                <a:avLst/>
                <a:gdLst/>
                <a:ahLst/>
                <a:rect l="l" t="t" r="r" b="b"/>
                <a:pathLst>
                  <a:path w="2924" h="2314">
                    <a:moveTo>
                      <a:pt x="1167" y="80"/>
                    </a:moveTo>
                    <a:lnTo>
                      <a:pt x="1111" y="69"/>
                    </a:lnTo>
                    <a:lnTo>
                      <a:pt x="1064" y="58"/>
                    </a:lnTo>
                    <a:lnTo>
                      <a:pt x="1024" y="47"/>
                    </a:lnTo>
                    <a:lnTo>
                      <a:pt x="993" y="38"/>
                    </a:lnTo>
                    <a:lnTo>
                      <a:pt x="964" y="29"/>
                    </a:lnTo>
                    <a:lnTo>
                      <a:pt x="943" y="22"/>
                    </a:lnTo>
                    <a:lnTo>
                      <a:pt x="925" y="14"/>
                    </a:lnTo>
                    <a:lnTo>
                      <a:pt x="911" y="11"/>
                    </a:lnTo>
                    <a:lnTo>
                      <a:pt x="898" y="6"/>
                    </a:lnTo>
                    <a:lnTo>
                      <a:pt x="885" y="2"/>
                    </a:lnTo>
                    <a:lnTo>
                      <a:pt x="873" y="0"/>
                    </a:lnTo>
                    <a:lnTo>
                      <a:pt x="862" y="0"/>
                    </a:lnTo>
                    <a:lnTo>
                      <a:pt x="848" y="0"/>
                    </a:lnTo>
                    <a:lnTo>
                      <a:pt x="831" y="1"/>
                    </a:lnTo>
                    <a:lnTo>
                      <a:pt x="811" y="5"/>
                    </a:lnTo>
                    <a:lnTo>
                      <a:pt x="788" y="11"/>
                    </a:lnTo>
                    <a:lnTo>
                      <a:pt x="759" y="14"/>
                    </a:lnTo>
                    <a:lnTo>
                      <a:pt x="733" y="19"/>
                    </a:lnTo>
                    <a:lnTo>
                      <a:pt x="706" y="21"/>
                    </a:lnTo>
                    <a:lnTo>
                      <a:pt x="680" y="23"/>
                    </a:lnTo>
                    <a:lnTo>
                      <a:pt x="653" y="24"/>
                    </a:lnTo>
                    <a:lnTo>
                      <a:pt x="628" y="26"/>
                    </a:lnTo>
                    <a:lnTo>
                      <a:pt x="601" y="28"/>
                    </a:lnTo>
                    <a:lnTo>
                      <a:pt x="576" y="31"/>
                    </a:lnTo>
                    <a:lnTo>
                      <a:pt x="550" y="33"/>
                    </a:lnTo>
                    <a:lnTo>
                      <a:pt x="525" y="38"/>
                    </a:lnTo>
                    <a:lnTo>
                      <a:pt x="500" y="43"/>
                    </a:lnTo>
                    <a:lnTo>
                      <a:pt x="474" y="51"/>
                    </a:lnTo>
                    <a:lnTo>
                      <a:pt x="449" y="60"/>
                    </a:lnTo>
                    <a:lnTo>
                      <a:pt x="423" y="72"/>
                    </a:lnTo>
                    <a:lnTo>
                      <a:pt x="398" y="87"/>
                    </a:lnTo>
                    <a:lnTo>
                      <a:pt x="372" y="105"/>
                    </a:lnTo>
                    <a:lnTo>
                      <a:pt x="346" y="124"/>
                    </a:lnTo>
                    <a:lnTo>
                      <a:pt x="324" y="142"/>
                    </a:lnTo>
                    <a:lnTo>
                      <a:pt x="301" y="159"/>
                    </a:lnTo>
                    <a:lnTo>
                      <a:pt x="281" y="177"/>
                    </a:lnTo>
                    <a:lnTo>
                      <a:pt x="262" y="194"/>
                    </a:lnTo>
                    <a:lnTo>
                      <a:pt x="244" y="210"/>
                    </a:lnTo>
                    <a:lnTo>
                      <a:pt x="230" y="228"/>
                    </a:lnTo>
                    <a:lnTo>
                      <a:pt x="217" y="244"/>
                    </a:lnTo>
                    <a:lnTo>
                      <a:pt x="203" y="261"/>
                    </a:lnTo>
                    <a:lnTo>
                      <a:pt x="194" y="278"/>
                    </a:lnTo>
                    <a:lnTo>
                      <a:pt x="186" y="294"/>
                    </a:lnTo>
                    <a:lnTo>
                      <a:pt x="180" y="312"/>
                    </a:lnTo>
                    <a:lnTo>
                      <a:pt x="175" y="331"/>
                    </a:lnTo>
                    <a:lnTo>
                      <a:pt x="173" y="348"/>
                    </a:lnTo>
                    <a:lnTo>
                      <a:pt x="173" y="368"/>
                    </a:lnTo>
                    <a:lnTo>
                      <a:pt x="176" y="389"/>
                    </a:lnTo>
                    <a:lnTo>
                      <a:pt x="176" y="407"/>
                    </a:lnTo>
                    <a:lnTo>
                      <a:pt x="173" y="426"/>
                    </a:lnTo>
                    <a:lnTo>
                      <a:pt x="167" y="441"/>
                    </a:lnTo>
                    <a:lnTo>
                      <a:pt x="158" y="458"/>
                    </a:lnTo>
                    <a:lnTo>
                      <a:pt x="146" y="473"/>
                    </a:lnTo>
                    <a:lnTo>
                      <a:pt x="133" y="488"/>
                    </a:lnTo>
                    <a:lnTo>
                      <a:pt x="118" y="502"/>
                    </a:lnTo>
                    <a:lnTo>
                      <a:pt x="104" y="519"/>
                    </a:lnTo>
                    <a:lnTo>
                      <a:pt x="86" y="533"/>
                    </a:lnTo>
                    <a:lnTo>
                      <a:pt x="72" y="552"/>
                    </a:lnTo>
                    <a:lnTo>
                      <a:pt x="56" y="569"/>
                    </a:lnTo>
                    <a:lnTo>
                      <a:pt x="42" y="592"/>
                    </a:lnTo>
                    <a:lnTo>
                      <a:pt x="29" y="614"/>
                    </a:lnTo>
                    <a:lnTo>
                      <a:pt x="18" y="640"/>
                    </a:lnTo>
                    <a:lnTo>
                      <a:pt x="10" y="670"/>
                    </a:lnTo>
                    <a:lnTo>
                      <a:pt x="4" y="703"/>
                    </a:lnTo>
                    <a:lnTo>
                      <a:pt x="1" y="735"/>
                    </a:lnTo>
                    <a:lnTo>
                      <a:pt x="0" y="768"/>
                    </a:lnTo>
                    <a:lnTo>
                      <a:pt x="1" y="799"/>
                    </a:lnTo>
                    <a:lnTo>
                      <a:pt x="4" y="833"/>
                    </a:lnTo>
                    <a:lnTo>
                      <a:pt x="8" y="861"/>
                    </a:lnTo>
                    <a:lnTo>
                      <a:pt x="14" y="891"/>
                    </a:lnTo>
                    <a:lnTo>
                      <a:pt x="20" y="918"/>
                    </a:lnTo>
                    <a:lnTo>
                      <a:pt x="27" y="946"/>
                    </a:lnTo>
                    <a:lnTo>
                      <a:pt x="34" y="971"/>
                    </a:lnTo>
                    <a:lnTo>
                      <a:pt x="42" y="996"/>
                    </a:lnTo>
                    <a:lnTo>
                      <a:pt x="48" y="1018"/>
                    </a:lnTo>
                    <a:lnTo>
                      <a:pt x="56" y="1042"/>
                    </a:lnTo>
                    <a:lnTo>
                      <a:pt x="61" y="1061"/>
                    </a:lnTo>
                    <a:lnTo>
                      <a:pt x="66" y="1081"/>
                    </a:lnTo>
                    <a:lnTo>
                      <a:pt x="71" y="1100"/>
                    </a:lnTo>
                    <a:lnTo>
                      <a:pt x="73" y="1118"/>
                    </a:lnTo>
                    <a:lnTo>
                      <a:pt x="73" y="1134"/>
                    </a:lnTo>
                    <a:lnTo>
                      <a:pt x="72" y="1155"/>
                    </a:lnTo>
                    <a:lnTo>
                      <a:pt x="71" y="1178"/>
                    </a:lnTo>
                    <a:lnTo>
                      <a:pt x="68" y="1203"/>
                    </a:lnTo>
                    <a:lnTo>
                      <a:pt x="63" y="1227"/>
                    </a:lnTo>
                    <a:lnTo>
                      <a:pt x="60" y="1256"/>
                    </a:lnTo>
                    <a:lnTo>
                      <a:pt x="54" y="1286"/>
                    </a:lnTo>
                    <a:lnTo>
                      <a:pt x="50" y="1319"/>
                    </a:lnTo>
                    <a:lnTo>
                      <a:pt x="44" y="1351"/>
                    </a:lnTo>
                    <a:lnTo>
                      <a:pt x="39" y="1384"/>
                    </a:lnTo>
                    <a:lnTo>
                      <a:pt x="33" y="1420"/>
                    </a:lnTo>
                    <a:lnTo>
                      <a:pt x="29" y="1456"/>
                    </a:lnTo>
                    <a:lnTo>
                      <a:pt x="24" y="1493"/>
                    </a:lnTo>
                    <a:lnTo>
                      <a:pt x="21" y="1529"/>
                    </a:lnTo>
                    <a:lnTo>
                      <a:pt x="18" y="1567"/>
                    </a:lnTo>
                    <a:lnTo>
                      <a:pt x="16" y="1607"/>
                    </a:lnTo>
                    <a:lnTo>
                      <a:pt x="15" y="1644"/>
                    </a:lnTo>
                    <a:lnTo>
                      <a:pt x="19" y="1681"/>
                    </a:lnTo>
                    <a:lnTo>
                      <a:pt x="24" y="1717"/>
                    </a:lnTo>
                    <a:lnTo>
                      <a:pt x="32" y="1755"/>
                    </a:lnTo>
                    <a:lnTo>
                      <a:pt x="40" y="1789"/>
                    </a:lnTo>
                    <a:lnTo>
                      <a:pt x="52" y="1823"/>
                    </a:lnTo>
                    <a:lnTo>
                      <a:pt x="64" y="1855"/>
                    </a:lnTo>
                    <a:lnTo>
                      <a:pt x="77" y="1887"/>
                    </a:lnTo>
                    <a:lnTo>
                      <a:pt x="89" y="1915"/>
                    </a:lnTo>
                    <a:lnTo>
                      <a:pt x="103" y="1943"/>
                    </a:lnTo>
                    <a:lnTo>
                      <a:pt x="115" y="1967"/>
                    </a:lnTo>
                    <a:lnTo>
                      <a:pt x="128" y="1991"/>
                    </a:lnTo>
                    <a:lnTo>
                      <a:pt x="138" y="2011"/>
                    </a:lnTo>
                    <a:lnTo>
                      <a:pt x="147" y="2029"/>
                    </a:lnTo>
                    <a:lnTo>
                      <a:pt x="155" y="2045"/>
                    </a:lnTo>
                    <a:lnTo>
                      <a:pt x="161" y="2059"/>
                    </a:lnTo>
                    <a:lnTo>
                      <a:pt x="166" y="2068"/>
                    </a:lnTo>
                    <a:lnTo>
                      <a:pt x="178" y="2076"/>
                    </a:lnTo>
                    <a:lnTo>
                      <a:pt x="193" y="2084"/>
                    </a:lnTo>
                    <a:lnTo>
                      <a:pt x="212" y="2093"/>
                    </a:lnTo>
                    <a:lnTo>
                      <a:pt x="233" y="2097"/>
                    </a:lnTo>
                    <a:lnTo>
                      <a:pt x="257" y="2104"/>
                    </a:lnTo>
                    <a:lnTo>
                      <a:pt x="284" y="2107"/>
                    </a:lnTo>
                    <a:lnTo>
                      <a:pt x="312" y="2112"/>
                    </a:lnTo>
                    <a:lnTo>
                      <a:pt x="339" y="2114"/>
                    </a:lnTo>
                    <a:lnTo>
                      <a:pt x="369" y="2117"/>
                    </a:lnTo>
                    <a:lnTo>
                      <a:pt x="397" y="2118"/>
                    </a:lnTo>
                    <a:lnTo>
                      <a:pt x="425" y="2119"/>
                    </a:lnTo>
                    <a:lnTo>
                      <a:pt x="451" y="2121"/>
                    </a:lnTo>
                    <a:lnTo>
                      <a:pt x="475" y="2122"/>
                    </a:lnTo>
                    <a:lnTo>
                      <a:pt x="497" y="2122"/>
                    </a:lnTo>
                    <a:lnTo>
                      <a:pt x="517" y="2123"/>
                    </a:lnTo>
                    <a:lnTo>
                      <a:pt x="535" y="2124"/>
                    </a:lnTo>
                    <a:lnTo>
                      <a:pt x="556" y="2131"/>
                    </a:lnTo>
                    <a:lnTo>
                      <a:pt x="579" y="2139"/>
                    </a:lnTo>
                    <a:lnTo>
                      <a:pt x="605" y="2152"/>
                    </a:lnTo>
                    <a:lnTo>
                      <a:pt x="631" y="2164"/>
                    </a:lnTo>
                    <a:lnTo>
                      <a:pt x="661" y="2179"/>
                    </a:lnTo>
                    <a:lnTo>
                      <a:pt x="692" y="2196"/>
                    </a:lnTo>
                    <a:lnTo>
                      <a:pt x="726" y="2212"/>
                    </a:lnTo>
                    <a:lnTo>
                      <a:pt x="762" y="2228"/>
                    </a:lnTo>
                    <a:lnTo>
                      <a:pt x="800" y="2243"/>
                    </a:lnTo>
                    <a:lnTo>
                      <a:pt x="839" y="2258"/>
                    </a:lnTo>
                    <a:lnTo>
                      <a:pt x="883" y="2270"/>
                    </a:lnTo>
                    <a:lnTo>
                      <a:pt x="927" y="2280"/>
                    </a:lnTo>
                    <a:lnTo>
                      <a:pt x="975" y="2288"/>
                    </a:lnTo>
                    <a:lnTo>
                      <a:pt x="1024" y="2291"/>
                    </a:lnTo>
                    <a:lnTo>
                      <a:pt x="1078" y="2292"/>
                    </a:lnTo>
                    <a:lnTo>
                      <a:pt x="1127" y="2285"/>
                    </a:lnTo>
                    <a:lnTo>
                      <a:pt x="1174" y="2278"/>
                    </a:lnTo>
                    <a:lnTo>
                      <a:pt x="1217" y="2267"/>
                    </a:lnTo>
                    <a:lnTo>
                      <a:pt x="1258" y="2255"/>
                    </a:lnTo>
                    <a:lnTo>
                      <a:pt x="1293" y="2241"/>
                    </a:lnTo>
                    <a:lnTo>
                      <a:pt x="1330" y="2227"/>
                    </a:lnTo>
                    <a:lnTo>
                      <a:pt x="1365" y="2212"/>
                    </a:lnTo>
                    <a:lnTo>
                      <a:pt x="1401" y="2201"/>
                    </a:lnTo>
                    <a:lnTo>
                      <a:pt x="1434" y="2190"/>
                    </a:lnTo>
                    <a:lnTo>
                      <a:pt x="1470" y="2183"/>
                    </a:lnTo>
                    <a:lnTo>
                      <a:pt x="1507" y="2178"/>
                    </a:lnTo>
                    <a:lnTo>
                      <a:pt x="1546" y="2178"/>
                    </a:lnTo>
                    <a:lnTo>
                      <a:pt x="1590" y="2183"/>
                    </a:lnTo>
                    <a:lnTo>
                      <a:pt x="1635" y="2192"/>
                    </a:lnTo>
                    <a:lnTo>
                      <a:pt x="1685" y="2209"/>
                    </a:lnTo>
                    <a:lnTo>
                      <a:pt x="1740" y="2233"/>
                    </a:lnTo>
                    <a:lnTo>
                      <a:pt x="1794" y="2258"/>
                    </a:lnTo>
                    <a:lnTo>
                      <a:pt x="1843" y="2276"/>
                    </a:lnTo>
                    <a:lnTo>
                      <a:pt x="1887" y="2291"/>
                    </a:lnTo>
                    <a:lnTo>
                      <a:pt x="1928" y="2303"/>
                    </a:lnTo>
                    <a:lnTo>
                      <a:pt x="1965" y="2310"/>
                    </a:lnTo>
                    <a:lnTo>
                      <a:pt x="2001" y="2314"/>
                    </a:lnTo>
                    <a:lnTo>
                      <a:pt x="2033" y="2314"/>
                    </a:lnTo>
                    <a:lnTo>
                      <a:pt x="2066" y="2314"/>
                    </a:lnTo>
                    <a:lnTo>
                      <a:pt x="2096" y="2309"/>
                    </a:lnTo>
                    <a:lnTo>
                      <a:pt x="2128" y="2304"/>
                    </a:lnTo>
                    <a:lnTo>
                      <a:pt x="2161" y="2295"/>
                    </a:lnTo>
                    <a:lnTo>
                      <a:pt x="2196" y="2288"/>
                    </a:lnTo>
                    <a:lnTo>
                      <a:pt x="2232" y="2279"/>
                    </a:lnTo>
                    <a:lnTo>
                      <a:pt x="2273" y="2270"/>
                    </a:lnTo>
                    <a:lnTo>
                      <a:pt x="2315" y="2260"/>
                    </a:lnTo>
                    <a:lnTo>
                      <a:pt x="2365" y="2253"/>
                    </a:lnTo>
                    <a:lnTo>
                      <a:pt x="2412" y="2247"/>
                    </a:lnTo>
                    <a:lnTo>
                      <a:pt x="2456" y="2242"/>
                    </a:lnTo>
                    <a:lnTo>
                      <a:pt x="2496" y="2240"/>
                    </a:lnTo>
                    <a:lnTo>
                      <a:pt x="2534" y="2241"/>
                    </a:lnTo>
                    <a:lnTo>
                      <a:pt x="2565" y="2241"/>
                    </a:lnTo>
                    <a:lnTo>
                      <a:pt x="2594" y="2244"/>
                    </a:lnTo>
                    <a:lnTo>
                      <a:pt x="2620" y="2246"/>
                    </a:lnTo>
                    <a:lnTo>
                      <a:pt x="2642" y="2247"/>
                    </a:lnTo>
                    <a:lnTo>
                      <a:pt x="2661" y="2247"/>
                    </a:lnTo>
                    <a:lnTo>
                      <a:pt x="2676" y="2243"/>
                    </a:lnTo>
                    <a:lnTo>
                      <a:pt x="2690" y="2237"/>
                    </a:lnTo>
                    <a:lnTo>
                      <a:pt x="2701" y="2230"/>
                    </a:lnTo>
                    <a:lnTo>
                      <a:pt x="2708" y="2217"/>
                    </a:lnTo>
                    <a:lnTo>
                      <a:pt x="2714" y="2200"/>
                    </a:lnTo>
                    <a:lnTo>
                      <a:pt x="2717" y="2179"/>
                    </a:lnTo>
                    <a:lnTo>
                      <a:pt x="2719" y="2154"/>
                    </a:lnTo>
                    <a:lnTo>
                      <a:pt x="2719" y="2123"/>
                    </a:lnTo>
                    <a:lnTo>
                      <a:pt x="2720" y="2096"/>
                    </a:lnTo>
                    <a:lnTo>
                      <a:pt x="2722" y="2073"/>
                    </a:lnTo>
                    <a:lnTo>
                      <a:pt x="2724" y="2050"/>
                    </a:lnTo>
                    <a:lnTo>
                      <a:pt x="2727" y="2028"/>
                    </a:lnTo>
                    <a:lnTo>
                      <a:pt x="2732" y="2009"/>
                    </a:lnTo>
                    <a:lnTo>
                      <a:pt x="2735" y="1991"/>
                    </a:lnTo>
                    <a:lnTo>
                      <a:pt x="2741" y="1975"/>
                    </a:lnTo>
                    <a:lnTo>
                      <a:pt x="2745" y="1957"/>
                    </a:lnTo>
                    <a:lnTo>
                      <a:pt x="2751" y="1943"/>
                    </a:lnTo>
                    <a:lnTo>
                      <a:pt x="2757" y="1926"/>
                    </a:lnTo>
                    <a:lnTo>
                      <a:pt x="2764" y="1911"/>
                    </a:lnTo>
                    <a:lnTo>
                      <a:pt x="2769" y="1895"/>
                    </a:lnTo>
                    <a:lnTo>
                      <a:pt x="2777" y="1880"/>
                    </a:lnTo>
                    <a:lnTo>
                      <a:pt x="2783" y="1863"/>
                    </a:lnTo>
                    <a:lnTo>
                      <a:pt x="2790" y="1846"/>
                    </a:lnTo>
                    <a:lnTo>
                      <a:pt x="2798" y="1829"/>
                    </a:lnTo>
                    <a:lnTo>
                      <a:pt x="2807" y="1813"/>
                    </a:lnTo>
                    <a:lnTo>
                      <a:pt x="2816" y="1798"/>
                    </a:lnTo>
                    <a:lnTo>
                      <a:pt x="2828" y="1783"/>
                    </a:lnTo>
                    <a:lnTo>
                      <a:pt x="2839" y="1768"/>
                    </a:lnTo>
                    <a:lnTo>
                      <a:pt x="2851" y="1754"/>
                    </a:lnTo>
                    <a:lnTo>
                      <a:pt x="2863" y="1737"/>
                    </a:lnTo>
                    <a:lnTo>
                      <a:pt x="2875" y="1723"/>
                    </a:lnTo>
                    <a:lnTo>
                      <a:pt x="2884" y="1704"/>
                    </a:lnTo>
                    <a:lnTo>
                      <a:pt x="2894" y="1686"/>
                    </a:lnTo>
                    <a:lnTo>
                      <a:pt x="2903" y="1665"/>
                    </a:lnTo>
                    <a:lnTo>
                      <a:pt x="2910" y="1643"/>
                    </a:lnTo>
                    <a:lnTo>
                      <a:pt x="2914" y="1618"/>
                    </a:lnTo>
                    <a:lnTo>
                      <a:pt x="2916" y="1590"/>
                    </a:lnTo>
                    <a:lnTo>
                      <a:pt x="2916" y="1560"/>
                    </a:lnTo>
                    <a:lnTo>
                      <a:pt x="2915" y="1527"/>
                    </a:lnTo>
                    <a:lnTo>
                      <a:pt x="2911" y="1490"/>
                    </a:lnTo>
                    <a:lnTo>
                      <a:pt x="2911" y="1457"/>
                    </a:lnTo>
                    <a:lnTo>
                      <a:pt x="2911" y="1424"/>
                    </a:lnTo>
                    <a:lnTo>
                      <a:pt x="2914" y="1392"/>
                    </a:lnTo>
                    <a:lnTo>
                      <a:pt x="2916" y="1360"/>
                    </a:lnTo>
                    <a:lnTo>
                      <a:pt x="2918" y="1331"/>
                    </a:lnTo>
                    <a:lnTo>
                      <a:pt x="2921" y="1300"/>
                    </a:lnTo>
                    <a:lnTo>
                      <a:pt x="2924" y="1274"/>
                    </a:lnTo>
                    <a:lnTo>
                      <a:pt x="2923" y="1244"/>
                    </a:lnTo>
                    <a:lnTo>
                      <a:pt x="2922" y="1216"/>
                    </a:lnTo>
                    <a:lnTo>
                      <a:pt x="2917" y="1190"/>
                    </a:lnTo>
                    <a:lnTo>
                      <a:pt x="2912" y="1163"/>
                    </a:lnTo>
                    <a:lnTo>
                      <a:pt x="2901" y="1136"/>
                    </a:lnTo>
                    <a:lnTo>
                      <a:pt x="2887" y="1111"/>
                    </a:lnTo>
                    <a:lnTo>
                      <a:pt x="2871" y="1087"/>
                    </a:lnTo>
                    <a:lnTo>
                      <a:pt x="2849" y="1063"/>
                    </a:lnTo>
                    <a:lnTo>
                      <a:pt x="2824" y="1037"/>
                    </a:lnTo>
                    <a:lnTo>
                      <a:pt x="2804" y="1015"/>
                    </a:lnTo>
                    <a:lnTo>
                      <a:pt x="2786" y="993"/>
                    </a:lnTo>
                    <a:lnTo>
                      <a:pt x="2768" y="972"/>
                    </a:lnTo>
                    <a:lnTo>
                      <a:pt x="2750" y="952"/>
                    </a:lnTo>
                    <a:lnTo>
                      <a:pt x="2734" y="935"/>
                    </a:lnTo>
                    <a:lnTo>
                      <a:pt x="2714" y="918"/>
                    </a:lnTo>
                    <a:lnTo>
                      <a:pt x="2693" y="903"/>
                    </a:lnTo>
                    <a:lnTo>
                      <a:pt x="2667" y="888"/>
                    </a:lnTo>
                    <a:lnTo>
                      <a:pt x="2641" y="875"/>
                    </a:lnTo>
                    <a:lnTo>
                      <a:pt x="2608" y="861"/>
                    </a:lnTo>
                    <a:lnTo>
                      <a:pt x="2571" y="851"/>
                    </a:lnTo>
                    <a:lnTo>
                      <a:pt x="2528" y="841"/>
                    </a:lnTo>
                    <a:lnTo>
                      <a:pt x="2478" y="834"/>
                    </a:lnTo>
                    <a:lnTo>
                      <a:pt x="2421" y="826"/>
                    </a:lnTo>
                    <a:lnTo>
                      <a:pt x="2357" y="822"/>
                    </a:lnTo>
                    <a:lnTo>
                      <a:pt x="2289" y="814"/>
                    </a:lnTo>
                    <a:lnTo>
                      <a:pt x="2231" y="807"/>
                    </a:lnTo>
                    <a:lnTo>
                      <a:pt x="2175" y="797"/>
                    </a:lnTo>
                    <a:lnTo>
                      <a:pt x="2128" y="787"/>
                    </a:lnTo>
                    <a:lnTo>
                      <a:pt x="2085" y="776"/>
                    </a:lnTo>
                    <a:lnTo>
                      <a:pt x="2047" y="764"/>
                    </a:lnTo>
                    <a:lnTo>
                      <a:pt x="2015" y="750"/>
                    </a:lnTo>
                    <a:lnTo>
                      <a:pt x="1989" y="736"/>
                    </a:lnTo>
                    <a:lnTo>
                      <a:pt x="1963" y="720"/>
                    </a:lnTo>
                    <a:lnTo>
                      <a:pt x="1943" y="705"/>
                    </a:lnTo>
                    <a:lnTo>
                      <a:pt x="1926" y="688"/>
                    </a:lnTo>
                    <a:lnTo>
                      <a:pt x="1912" y="671"/>
                    </a:lnTo>
                    <a:lnTo>
                      <a:pt x="1901" y="654"/>
                    </a:lnTo>
                    <a:lnTo>
                      <a:pt x="1894" y="636"/>
                    </a:lnTo>
                    <a:lnTo>
                      <a:pt x="1887" y="619"/>
                    </a:lnTo>
                    <a:lnTo>
                      <a:pt x="1884" y="603"/>
                    </a:lnTo>
                    <a:lnTo>
                      <a:pt x="1875" y="584"/>
                    </a:lnTo>
                    <a:lnTo>
                      <a:pt x="1860" y="568"/>
                    </a:lnTo>
                    <a:lnTo>
                      <a:pt x="1839" y="554"/>
                    </a:lnTo>
                    <a:lnTo>
                      <a:pt x="1815" y="540"/>
                    </a:lnTo>
                    <a:lnTo>
                      <a:pt x="1785" y="525"/>
                    </a:lnTo>
                    <a:lnTo>
                      <a:pt x="1753" y="512"/>
                    </a:lnTo>
                    <a:lnTo>
                      <a:pt x="1719" y="499"/>
                    </a:lnTo>
                    <a:lnTo>
                      <a:pt x="1685" y="487"/>
                    </a:lnTo>
                    <a:lnTo>
                      <a:pt x="1648" y="472"/>
                    </a:lnTo>
                    <a:lnTo>
                      <a:pt x="1614" y="458"/>
                    </a:lnTo>
                    <a:lnTo>
                      <a:pt x="1581" y="442"/>
                    </a:lnTo>
                    <a:lnTo>
                      <a:pt x="1552" y="428"/>
                    </a:lnTo>
                    <a:lnTo>
                      <a:pt x="1523" y="410"/>
                    </a:lnTo>
                    <a:lnTo>
                      <a:pt x="1501" y="394"/>
                    </a:lnTo>
                    <a:lnTo>
                      <a:pt x="1483" y="374"/>
                    </a:lnTo>
                    <a:lnTo>
                      <a:pt x="1473" y="354"/>
                    </a:lnTo>
                    <a:lnTo>
                      <a:pt x="1461" y="331"/>
                    </a:lnTo>
                    <a:lnTo>
                      <a:pt x="1447" y="309"/>
                    </a:lnTo>
                    <a:lnTo>
                      <a:pt x="1428" y="285"/>
                    </a:lnTo>
                    <a:lnTo>
                      <a:pt x="1407" y="262"/>
                    </a:lnTo>
                    <a:lnTo>
                      <a:pt x="1383" y="238"/>
                    </a:lnTo>
                    <a:lnTo>
                      <a:pt x="1356" y="216"/>
                    </a:lnTo>
                    <a:lnTo>
                      <a:pt x="1330" y="194"/>
                    </a:lnTo>
                    <a:lnTo>
                      <a:pt x="1304" y="174"/>
                    </a:lnTo>
                    <a:lnTo>
                      <a:pt x="1277" y="153"/>
                    </a:lnTo>
                    <a:lnTo>
                      <a:pt x="1251" y="135"/>
                    </a:lnTo>
                    <a:lnTo>
                      <a:pt x="1228" y="118"/>
                    </a:lnTo>
                    <a:lnTo>
                      <a:pt x="1208" y="106"/>
                    </a:lnTo>
                    <a:lnTo>
                      <a:pt x="1190" y="94"/>
                    </a:lnTo>
                    <a:lnTo>
                      <a:pt x="1178" y="86"/>
                    </a:lnTo>
                    <a:lnTo>
                      <a:pt x="1168" y="81"/>
                    </a:lnTo>
                    <a:lnTo>
                      <a:pt x="1167" y="80"/>
                    </a:lnTo>
                    <a:lnTo>
                      <a:pt x="1167" y="80"/>
                    </a:lnTo>
                    <a:close/>
                  </a:path>
                </a:pathLst>
              </a:custGeom>
              <a:solidFill>
                <a:srgbClr val="d1c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478080" y="4449600"/>
                <a:ext cx="2301840" cy="803160"/>
              </a:xfrm>
              <a:custGeom>
                <a:avLst/>
                <a:gdLst/>
                <a:ahLst/>
                <a:rect l="l" t="t" r="r" b="b"/>
                <a:pathLst>
                  <a:path w="2899" h="1011">
                    <a:moveTo>
                      <a:pt x="0" y="666"/>
                    </a:moveTo>
                    <a:lnTo>
                      <a:pt x="5" y="666"/>
                    </a:lnTo>
                    <a:lnTo>
                      <a:pt x="22" y="667"/>
                    </a:lnTo>
                    <a:lnTo>
                      <a:pt x="48" y="669"/>
                    </a:lnTo>
                    <a:lnTo>
                      <a:pt x="84" y="673"/>
                    </a:lnTo>
                    <a:lnTo>
                      <a:pt x="125" y="675"/>
                    </a:lnTo>
                    <a:lnTo>
                      <a:pt x="174" y="679"/>
                    </a:lnTo>
                    <a:lnTo>
                      <a:pt x="227" y="684"/>
                    </a:lnTo>
                    <a:lnTo>
                      <a:pt x="287" y="689"/>
                    </a:lnTo>
                    <a:lnTo>
                      <a:pt x="347" y="695"/>
                    </a:lnTo>
                    <a:lnTo>
                      <a:pt x="410" y="699"/>
                    </a:lnTo>
                    <a:lnTo>
                      <a:pt x="474" y="706"/>
                    </a:lnTo>
                    <a:lnTo>
                      <a:pt x="537" y="711"/>
                    </a:lnTo>
                    <a:lnTo>
                      <a:pt x="598" y="717"/>
                    </a:lnTo>
                    <a:lnTo>
                      <a:pt x="656" y="723"/>
                    </a:lnTo>
                    <a:lnTo>
                      <a:pt x="711" y="729"/>
                    </a:lnTo>
                    <a:lnTo>
                      <a:pt x="760" y="735"/>
                    </a:lnTo>
                    <a:lnTo>
                      <a:pt x="806" y="738"/>
                    </a:lnTo>
                    <a:lnTo>
                      <a:pt x="851" y="738"/>
                    </a:lnTo>
                    <a:lnTo>
                      <a:pt x="894" y="734"/>
                    </a:lnTo>
                    <a:lnTo>
                      <a:pt x="937" y="727"/>
                    </a:lnTo>
                    <a:lnTo>
                      <a:pt x="977" y="717"/>
                    </a:lnTo>
                    <a:lnTo>
                      <a:pt x="1017" y="705"/>
                    </a:lnTo>
                    <a:lnTo>
                      <a:pt x="1053" y="689"/>
                    </a:lnTo>
                    <a:lnTo>
                      <a:pt x="1089" y="675"/>
                    </a:lnTo>
                    <a:lnTo>
                      <a:pt x="1120" y="655"/>
                    </a:lnTo>
                    <a:lnTo>
                      <a:pt x="1148" y="637"/>
                    </a:lnTo>
                    <a:lnTo>
                      <a:pt x="1175" y="618"/>
                    </a:lnTo>
                    <a:lnTo>
                      <a:pt x="1199" y="597"/>
                    </a:lnTo>
                    <a:lnTo>
                      <a:pt x="1218" y="576"/>
                    </a:lnTo>
                    <a:lnTo>
                      <a:pt x="1235" y="556"/>
                    </a:lnTo>
                    <a:lnTo>
                      <a:pt x="1247" y="536"/>
                    </a:lnTo>
                    <a:lnTo>
                      <a:pt x="1256" y="517"/>
                    </a:lnTo>
                    <a:lnTo>
                      <a:pt x="1263" y="494"/>
                    </a:lnTo>
                    <a:lnTo>
                      <a:pt x="1278" y="466"/>
                    </a:lnTo>
                    <a:lnTo>
                      <a:pt x="1296" y="434"/>
                    </a:lnTo>
                    <a:lnTo>
                      <a:pt x="1320" y="399"/>
                    </a:lnTo>
                    <a:lnTo>
                      <a:pt x="1346" y="360"/>
                    </a:lnTo>
                    <a:lnTo>
                      <a:pt x="1377" y="320"/>
                    </a:lnTo>
                    <a:lnTo>
                      <a:pt x="1411" y="279"/>
                    </a:lnTo>
                    <a:lnTo>
                      <a:pt x="1450" y="238"/>
                    </a:lnTo>
                    <a:lnTo>
                      <a:pt x="1490" y="196"/>
                    </a:lnTo>
                    <a:lnTo>
                      <a:pt x="1532" y="158"/>
                    </a:lnTo>
                    <a:lnTo>
                      <a:pt x="1575" y="121"/>
                    </a:lnTo>
                    <a:lnTo>
                      <a:pt x="1622" y="89"/>
                    </a:lnTo>
                    <a:lnTo>
                      <a:pt x="1667" y="60"/>
                    </a:lnTo>
                    <a:lnTo>
                      <a:pt x="1715" y="37"/>
                    </a:lnTo>
                    <a:lnTo>
                      <a:pt x="1764" y="18"/>
                    </a:lnTo>
                    <a:lnTo>
                      <a:pt x="1812" y="8"/>
                    </a:lnTo>
                    <a:lnTo>
                      <a:pt x="1866" y="3"/>
                    </a:lnTo>
                    <a:lnTo>
                      <a:pt x="1931" y="0"/>
                    </a:lnTo>
                    <a:lnTo>
                      <a:pt x="2005" y="0"/>
                    </a:lnTo>
                    <a:lnTo>
                      <a:pt x="2086" y="3"/>
                    </a:lnTo>
                    <a:lnTo>
                      <a:pt x="2173" y="6"/>
                    </a:lnTo>
                    <a:lnTo>
                      <a:pt x="2263" y="14"/>
                    </a:lnTo>
                    <a:lnTo>
                      <a:pt x="2352" y="22"/>
                    </a:lnTo>
                    <a:lnTo>
                      <a:pt x="2443" y="30"/>
                    </a:lnTo>
                    <a:lnTo>
                      <a:pt x="2529" y="39"/>
                    </a:lnTo>
                    <a:lnTo>
                      <a:pt x="2611" y="48"/>
                    </a:lnTo>
                    <a:lnTo>
                      <a:pt x="2686" y="56"/>
                    </a:lnTo>
                    <a:lnTo>
                      <a:pt x="2752" y="65"/>
                    </a:lnTo>
                    <a:lnTo>
                      <a:pt x="2806" y="71"/>
                    </a:lnTo>
                    <a:lnTo>
                      <a:pt x="2849" y="77"/>
                    </a:lnTo>
                    <a:lnTo>
                      <a:pt x="2874" y="81"/>
                    </a:lnTo>
                    <a:lnTo>
                      <a:pt x="2885" y="84"/>
                    </a:lnTo>
                    <a:lnTo>
                      <a:pt x="2885" y="85"/>
                    </a:lnTo>
                    <a:lnTo>
                      <a:pt x="2886" y="93"/>
                    </a:lnTo>
                    <a:lnTo>
                      <a:pt x="2886" y="98"/>
                    </a:lnTo>
                    <a:lnTo>
                      <a:pt x="2888" y="106"/>
                    </a:lnTo>
                    <a:lnTo>
                      <a:pt x="2890" y="112"/>
                    </a:lnTo>
                    <a:lnTo>
                      <a:pt x="2892" y="121"/>
                    </a:lnTo>
                    <a:lnTo>
                      <a:pt x="2893" y="129"/>
                    </a:lnTo>
                    <a:lnTo>
                      <a:pt x="2894" y="138"/>
                    </a:lnTo>
                    <a:lnTo>
                      <a:pt x="2895" y="147"/>
                    </a:lnTo>
                    <a:lnTo>
                      <a:pt x="2896" y="155"/>
                    </a:lnTo>
                    <a:lnTo>
                      <a:pt x="2897" y="164"/>
                    </a:lnTo>
                    <a:lnTo>
                      <a:pt x="2898" y="173"/>
                    </a:lnTo>
                    <a:lnTo>
                      <a:pt x="2898" y="181"/>
                    </a:lnTo>
                    <a:lnTo>
                      <a:pt x="2899" y="190"/>
                    </a:lnTo>
                    <a:lnTo>
                      <a:pt x="2888" y="186"/>
                    </a:lnTo>
                    <a:lnTo>
                      <a:pt x="2860" y="179"/>
                    </a:lnTo>
                    <a:lnTo>
                      <a:pt x="2813" y="166"/>
                    </a:lnTo>
                    <a:lnTo>
                      <a:pt x="2754" y="154"/>
                    </a:lnTo>
                    <a:lnTo>
                      <a:pt x="2679" y="139"/>
                    </a:lnTo>
                    <a:lnTo>
                      <a:pt x="2598" y="124"/>
                    </a:lnTo>
                    <a:lnTo>
                      <a:pt x="2506" y="112"/>
                    </a:lnTo>
                    <a:lnTo>
                      <a:pt x="2409" y="105"/>
                    </a:lnTo>
                    <a:lnTo>
                      <a:pt x="2307" y="99"/>
                    </a:lnTo>
                    <a:lnTo>
                      <a:pt x="2203" y="101"/>
                    </a:lnTo>
                    <a:lnTo>
                      <a:pt x="2099" y="109"/>
                    </a:lnTo>
                    <a:lnTo>
                      <a:pt x="2000" y="128"/>
                    </a:lnTo>
                    <a:lnTo>
                      <a:pt x="1902" y="154"/>
                    </a:lnTo>
                    <a:lnTo>
                      <a:pt x="1813" y="193"/>
                    </a:lnTo>
                    <a:lnTo>
                      <a:pt x="1731" y="245"/>
                    </a:lnTo>
                    <a:lnTo>
                      <a:pt x="1662" y="310"/>
                    </a:lnTo>
                    <a:lnTo>
                      <a:pt x="1605" y="381"/>
                    </a:lnTo>
                    <a:lnTo>
                      <a:pt x="1560" y="453"/>
                    </a:lnTo>
                    <a:lnTo>
                      <a:pt x="1525" y="522"/>
                    </a:lnTo>
                    <a:lnTo>
                      <a:pt x="1498" y="590"/>
                    </a:lnTo>
                    <a:lnTo>
                      <a:pt x="1472" y="654"/>
                    </a:lnTo>
                    <a:lnTo>
                      <a:pt x="1447" y="716"/>
                    </a:lnTo>
                    <a:lnTo>
                      <a:pt x="1418" y="772"/>
                    </a:lnTo>
                    <a:lnTo>
                      <a:pt x="1383" y="826"/>
                    </a:lnTo>
                    <a:lnTo>
                      <a:pt x="1335" y="873"/>
                    </a:lnTo>
                    <a:lnTo>
                      <a:pt x="1275" y="915"/>
                    </a:lnTo>
                    <a:lnTo>
                      <a:pt x="1199" y="950"/>
                    </a:lnTo>
                    <a:lnTo>
                      <a:pt x="1103" y="978"/>
                    </a:lnTo>
                    <a:lnTo>
                      <a:pt x="984" y="998"/>
                    </a:lnTo>
                    <a:lnTo>
                      <a:pt x="838" y="1010"/>
                    </a:lnTo>
                    <a:lnTo>
                      <a:pt x="662" y="1011"/>
                    </a:lnTo>
                    <a:lnTo>
                      <a:pt x="454" y="1006"/>
                    </a:lnTo>
                    <a:lnTo>
                      <a:pt x="0" y="666"/>
                    </a:lnTo>
                    <a:lnTo>
                      <a:pt x="0" y="666"/>
                    </a:lnTo>
                    <a:close/>
                  </a:path>
                </a:pathLst>
              </a:custGeom>
              <a:solidFill>
                <a:srgbClr val="bfa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1339560" y="3600360"/>
                <a:ext cx="1411560" cy="898560"/>
              </a:xfrm>
              <a:custGeom>
                <a:avLst/>
                <a:gdLst/>
                <a:ahLst/>
                <a:rect l="l" t="t" r="r" b="b"/>
                <a:pathLst>
                  <a:path w="1778" h="1132">
                    <a:moveTo>
                      <a:pt x="637" y="21"/>
                    </a:moveTo>
                    <a:lnTo>
                      <a:pt x="643" y="21"/>
                    </a:lnTo>
                    <a:lnTo>
                      <a:pt x="657" y="24"/>
                    </a:lnTo>
                    <a:lnTo>
                      <a:pt x="679" y="26"/>
                    </a:lnTo>
                    <a:lnTo>
                      <a:pt x="711" y="31"/>
                    </a:lnTo>
                    <a:lnTo>
                      <a:pt x="746" y="36"/>
                    </a:lnTo>
                    <a:lnTo>
                      <a:pt x="786" y="45"/>
                    </a:lnTo>
                    <a:lnTo>
                      <a:pt x="829" y="53"/>
                    </a:lnTo>
                    <a:lnTo>
                      <a:pt x="875" y="66"/>
                    </a:lnTo>
                    <a:lnTo>
                      <a:pt x="919" y="77"/>
                    </a:lnTo>
                    <a:lnTo>
                      <a:pt x="964" y="90"/>
                    </a:lnTo>
                    <a:lnTo>
                      <a:pt x="1005" y="105"/>
                    </a:lnTo>
                    <a:lnTo>
                      <a:pt x="1044" y="124"/>
                    </a:lnTo>
                    <a:lnTo>
                      <a:pt x="1077" y="145"/>
                    </a:lnTo>
                    <a:lnTo>
                      <a:pt x="1104" y="167"/>
                    </a:lnTo>
                    <a:lnTo>
                      <a:pt x="1122" y="192"/>
                    </a:lnTo>
                    <a:lnTo>
                      <a:pt x="1133" y="218"/>
                    </a:lnTo>
                    <a:lnTo>
                      <a:pt x="1132" y="245"/>
                    </a:lnTo>
                    <a:lnTo>
                      <a:pt x="1122" y="270"/>
                    </a:lnTo>
                    <a:lnTo>
                      <a:pt x="1104" y="293"/>
                    </a:lnTo>
                    <a:lnTo>
                      <a:pt x="1080" y="317"/>
                    </a:lnTo>
                    <a:lnTo>
                      <a:pt x="1050" y="336"/>
                    </a:lnTo>
                    <a:lnTo>
                      <a:pt x="1016" y="357"/>
                    </a:lnTo>
                    <a:lnTo>
                      <a:pt x="979" y="375"/>
                    </a:lnTo>
                    <a:lnTo>
                      <a:pt x="941" y="393"/>
                    </a:lnTo>
                    <a:lnTo>
                      <a:pt x="902" y="407"/>
                    </a:lnTo>
                    <a:lnTo>
                      <a:pt x="864" y="419"/>
                    </a:lnTo>
                    <a:lnTo>
                      <a:pt x="828" y="430"/>
                    </a:lnTo>
                    <a:lnTo>
                      <a:pt x="797" y="440"/>
                    </a:lnTo>
                    <a:lnTo>
                      <a:pt x="770" y="448"/>
                    </a:lnTo>
                    <a:lnTo>
                      <a:pt x="749" y="454"/>
                    </a:lnTo>
                    <a:lnTo>
                      <a:pt x="735" y="457"/>
                    </a:lnTo>
                    <a:lnTo>
                      <a:pt x="732" y="459"/>
                    </a:lnTo>
                    <a:lnTo>
                      <a:pt x="727" y="460"/>
                    </a:lnTo>
                    <a:lnTo>
                      <a:pt x="714" y="466"/>
                    </a:lnTo>
                    <a:lnTo>
                      <a:pt x="696" y="474"/>
                    </a:lnTo>
                    <a:lnTo>
                      <a:pt x="675" y="486"/>
                    </a:lnTo>
                    <a:lnTo>
                      <a:pt x="650" y="499"/>
                    </a:lnTo>
                    <a:lnTo>
                      <a:pt x="627" y="517"/>
                    </a:lnTo>
                    <a:lnTo>
                      <a:pt x="605" y="533"/>
                    </a:lnTo>
                    <a:lnTo>
                      <a:pt x="588" y="554"/>
                    </a:lnTo>
                    <a:lnTo>
                      <a:pt x="576" y="572"/>
                    </a:lnTo>
                    <a:lnTo>
                      <a:pt x="574" y="593"/>
                    </a:lnTo>
                    <a:lnTo>
                      <a:pt x="581" y="613"/>
                    </a:lnTo>
                    <a:lnTo>
                      <a:pt x="601" y="634"/>
                    </a:lnTo>
                    <a:lnTo>
                      <a:pt x="634" y="653"/>
                    </a:lnTo>
                    <a:lnTo>
                      <a:pt x="685" y="671"/>
                    </a:lnTo>
                    <a:lnTo>
                      <a:pt x="752" y="688"/>
                    </a:lnTo>
                    <a:lnTo>
                      <a:pt x="842" y="703"/>
                    </a:lnTo>
                    <a:lnTo>
                      <a:pt x="937" y="716"/>
                    </a:lnTo>
                    <a:lnTo>
                      <a:pt x="1024" y="727"/>
                    </a:lnTo>
                    <a:lnTo>
                      <a:pt x="1105" y="737"/>
                    </a:lnTo>
                    <a:lnTo>
                      <a:pt x="1181" y="747"/>
                    </a:lnTo>
                    <a:lnTo>
                      <a:pt x="1248" y="754"/>
                    </a:lnTo>
                    <a:lnTo>
                      <a:pt x="1309" y="763"/>
                    </a:lnTo>
                    <a:lnTo>
                      <a:pt x="1364" y="773"/>
                    </a:lnTo>
                    <a:lnTo>
                      <a:pt x="1416" y="782"/>
                    </a:lnTo>
                    <a:lnTo>
                      <a:pt x="1459" y="790"/>
                    </a:lnTo>
                    <a:lnTo>
                      <a:pt x="1499" y="800"/>
                    </a:lnTo>
                    <a:lnTo>
                      <a:pt x="1532" y="811"/>
                    </a:lnTo>
                    <a:lnTo>
                      <a:pt x="1561" y="824"/>
                    </a:lnTo>
                    <a:lnTo>
                      <a:pt x="1584" y="838"/>
                    </a:lnTo>
                    <a:lnTo>
                      <a:pt x="1603" y="855"/>
                    </a:lnTo>
                    <a:lnTo>
                      <a:pt x="1619" y="874"/>
                    </a:lnTo>
                    <a:lnTo>
                      <a:pt x="1631" y="896"/>
                    </a:lnTo>
                    <a:lnTo>
                      <a:pt x="1619" y="916"/>
                    </a:lnTo>
                    <a:lnTo>
                      <a:pt x="1573" y="936"/>
                    </a:lnTo>
                    <a:lnTo>
                      <a:pt x="1497" y="951"/>
                    </a:lnTo>
                    <a:lnTo>
                      <a:pt x="1395" y="968"/>
                    </a:lnTo>
                    <a:lnTo>
                      <a:pt x="1273" y="980"/>
                    </a:lnTo>
                    <a:lnTo>
                      <a:pt x="1134" y="992"/>
                    </a:lnTo>
                    <a:lnTo>
                      <a:pt x="986" y="1001"/>
                    </a:lnTo>
                    <a:lnTo>
                      <a:pt x="833" y="1010"/>
                    </a:lnTo>
                    <a:lnTo>
                      <a:pt x="678" y="1015"/>
                    </a:lnTo>
                    <a:lnTo>
                      <a:pt x="528" y="1021"/>
                    </a:lnTo>
                    <a:lnTo>
                      <a:pt x="386" y="1025"/>
                    </a:lnTo>
                    <a:lnTo>
                      <a:pt x="261" y="1029"/>
                    </a:lnTo>
                    <a:lnTo>
                      <a:pt x="153" y="1030"/>
                    </a:lnTo>
                    <a:lnTo>
                      <a:pt x="72" y="1032"/>
                    </a:lnTo>
                    <a:lnTo>
                      <a:pt x="18" y="1033"/>
                    </a:lnTo>
                    <a:lnTo>
                      <a:pt x="0" y="1034"/>
                    </a:lnTo>
                    <a:lnTo>
                      <a:pt x="22" y="1132"/>
                    </a:lnTo>
                    <a:lnTo>
                      <a:pt x="39" y="1132"/>
                    </a:lnTo>
                    <a:lnTo>
                      <a:pt x="90" y="1131"/>
                    </a:lnTo>
                    <a:lnTo>
                      <a:pt x="168" y="1128"/>
                    </a:lnTo>
                    <a:lnTo>
                      <a:pt x="271" y="1126"/>
                    </a:lnTo>
                    <a:lnTo>
                      <a:pt x="393" y="1121"/>
                    </a:lnTo>
                    <a:lnTo>
                      <a:pt x="530" y="1116"/>
                    </a:lnTo>
                    <a:lnTo>
                      <a:pt x="678" y="1109"/>
                    </a:lnTo>
                    <a:lnTo>
                      <a:pt x="833" y="1100"/>
                    </a:lnTo>
                    <a:lnTo>
                      <a:pt x="986" y="1089"/>
                    </a:lnTo>
                    <a:lnTo>
                      <a:pt x="1140" y="1078"/>
                    </a:lnTo>
                    <a:lnTo>
                      <a:pt x="1286" y="1064"/>
                    </a:lnTo>
                    <a:lnTo>
                      <a:pt x="1421" y="1050"/>
                    </a:lnTo>
                    <a:lnTo>
                      <a:pt x="1539" y="1031"/>
                    </a:lnTo>
                    <a:lnTo>
                      <a:pt x="1639" y="1012"/>
                    </a:lnTo>
                    <a:lnTo>
                      <a:pt x="1713" y="990"/>
                    </a:lnTo>
                    <a:lnTo>
                      <a:pt x="1758" y="965"/>
                    </a:lnTo>
                    <a:lnTo>
                      <a:pt x="1777" y="938"/>
                    </a:lnTo>
                    <a:lnTo>
                      <a:pt x="1778" y="912"/>
                    </a:lnTo>
                    <a:lnTo>
                      <a:pt x="1763" y="885"/>
                    </a:lnTo>
                    <a:lnTo>
                      <a:pt x="1736" y="858"/>
                    </a:lnTo>
                    <a:lnTo>
                      <a:pt x="1695" y="832"/>
                    </a:lnTo>
                    <a:lnTo>
                      <a:pt x="1642" y="805"/>
                    </a:lnTo>
                    <a:lnTo>
                      <a:pt x="1581" y="781"/>
                    </a:lnTo>
                    <a:lnTo>
                      <a:pt x="1513" y="758"/>
                    </a:lnTo>
                    <a:lnTo>
                      <a:pt x="1437" y="734"/>
                    </a:lnTo>
                    <a:lnTo>
                      <a:pt x="1358" y="713"/>
                    </a:lnTo>
                    <a:lnTo>
                      <a:pt x="1275" y="694"/>
                    </a:lnTo>
                    <a:lnTo>
                      <a:pt x="1192" y="679"/>
                    </a:lnTo>
                    <a:lnTo>
                      <a:pt x="1109" y="665"/>
                    </a:lnTo>
                    <a:lnTo>
                      <a:pt x="1029" y="654"/>
                    </a:lnTo>
                    <a:lnTo>
                      <a:pt x="952" y="645"/>
                    </a:lnTo>
                    <a:lnTo>
                      <a:pt x="881" y="640"/>
                    </a:lnTo>
                    <a:lnTo>
                      <a:pt x="818" y="635"/>
                    </a:lnTo>
                    <a:lnTo>
                      <a:pt x="771" y="629"/>
                    </a:lnTo>
                    <a:lnTo>
                      <a:pt x="734" y="621"/>
                    </a:lnTo>
                    <a:lnTo>
                      <a:pt x="710" y="612"/>
                    </a:lnTo>
                    <a:lnTo>
                      <a:pt x="693" y="600"/>
                    </a:lnTo>
                    <a:lnTo>
                      <a:pt x="687" y="587"/>
                    </a:lnTo>
                    <a:lnTo>
                      <a:pt x="687" y="576"/>
                    </a:lnTo>
                    <a:lnTo>
                      <a:pt x="694" y="564"/>
                    </a:lnTo>
                    <a:lnTo>
                      <a:pt x="706" y="551"/>
                    </a:lnTo>
                    <a:lnTo>
                      <a:pt x="721" y="539"/>
                    </a:lnTo>
                    <a:lnTo>
                      <a:pt x="739" y="527"/>
                    </a:lnTo>
                    <a:lnTo>
                      <a:pt x="760" y="518"/>
                    </a:lnTo>
                    <a:lnTo>
                      <a:pt x="781" y="508"/>
                    </a:lnTo>
                    <a:lnTo>
                      <a:pt x="801" y="501"/>
                    </a:lnTo>
                    <a:lnTo>
                      <a:pt x="818" y="496"/>
                    </a:lnTo>
                    <a:lnTo>
                      <a:pt x="835" y="496"/>
                    </a:lnTo>
                    <a:lnTo>
                      <a:pt x="850" y="492"/>
                    </a:lnTo>
                    <a:lnTo>
                      <a:pt x="874" y="486"/>
                    </a:lnTo>
                    <a:lnTo>
                      <a:pt x="901" y="477"/>
                    </a:lnTo>
                    <a:lnTo>
                      <a:pt x="934" y="468"/>
                    </a:lnTo>
                    <a:lnTo>
                      <a:pt x="969" y="454"/>
                    </a:lnTo>
                    <a:lnTo>
                      <a:pt x="1007" y="438"/>
                    </a:lnTo>
                    <a:lnTo>
                      <a:pt x="1044" y="422"/>
                    </a:lnTo>
                    <a:lnTo>
                      <a:pt x="1083" y="404"/>
                    </a:lnTo>
                    <a:lnTo>
                      <a:pt x="1118" y="383"/>
                    </a:lnTo>
                    <a:lnTo>
                      <a:pt x="1150" y="362"/>
                    </a:lnTo>
                    <a:lnTo>
                      <a:pt x="1180" y="340"/>
                    </a:lnTo>
                    <a:lnTo>
                      <a:pt x="1204" y="318"/>
                    </a:lnTo>
                    <a:lnTo>
                      <a:pt x="1220" y="293"/>
                    </a:lnTo>
                    <a:lnTo>
                      <a:pt x="1230" y="269"/>
                    </a:lnTo>
                    <a:lnTo>
                      <a:pt x="1231" y="245"/>
                    </a:lnTo>
                    <a:lnTo>
                      <a:pt x="1223" y="221"/>
                    </a:lnTo>
                    <a:lnTo>
                      <a:pt x="1206" y="197"/>
                    </a:lnTo>
                    <a:lnTo>
                      <a:pt x="1192" y="177"/>
                    </a:lnTo>
                    <a:lnTo>
                      <a:pt x="1175" y="160"/>
                    </a:lnTo>
                    <a:lnTo>
                      <a:pt x="1159" y="143"/>
                    </a:lnTo>
                    <a:lnTo>
                      <a:pt x="1142" y="127"/>
                    </a:lnTo>
                    <a:lnTo>
                      <a:pt x="1126" y="115"/>
                    </a:lnTo>
                    <a:lnTo>
                      <a:pt x="1110" y="103"/>
                    </a:lnTo>
                    <a:lnTo>
                      <a:pt x="1096" y="95"/>
                    </a:lnTo>
                    <a:lnTo>
                      <a:pt x="1080" y="87"/>
                    </a:lnTo>
                    <a:lnTo>
                      <a:pt x="1067" y="80"/>
                    </a:lnTo>
                    <a:lnTo>
                      <a:pt x="1055" y="74"/>
                    </a:lnTo>
                    <a:lnTo>
                      <a:pt x="1045" y="71"/>
                    </a:lnTo>
                    <a:lnTo>
                      <a:pt x="1036" y="67"/>
                    </a:lnTo>
                    <a:lnTo>
                      <a:pt x="1032" y="67"/>
                    </a:lnTo>
                    <a:lnTo>
                      <a:pt x="1027" y="66"/>
                    </a:lnTo>
                    <a:lnTo>
                      <a:pt x="1026" y="66"/>
                    </a:lnTo>
                    <a:lnTo>
                      <a:pt x="1024" y="64"/>
                    </a:lnTo>
                    <a:lnTo>
                      <a:pt x="1022" y="62"/>
                    </a:lnTo>
                    <a:lnTo>
                      <a:pt x="1015" y="58"/>
                    </a:lnTo>
                    <a:lnTo>
                      <a:pt x="1010" y="56"/>
                    </a:lnTo>
                    <a:lnTo>
                      <a:pt x="998" y="49"/>
                    </a:lnTo>
                    <a:lnTo>
                      <a:pt x="989" y="45"/>
                    </a:lnTo>
                    <a:lnTo>
                      <a:pt x="975" y="38"/>
                    </a:lnTo>
                    <a:lnTo>
                      <a:pt x="963" y="32"/>
                    </a:lnTo>
                    <a:lnTo>
                      <a:pt x="947" y="27"/>
                    </a:lnTo>
                    <a:lnTo>
                      <a:pt x="930" y="20"/>
                    </a:lnTo>
                    <a:lnTo>
                      <a:pt x="910" y="15"/>
                    </a:lnTo>
                    <a:lnTo>
                      <a:pt x="890" y="10"/>
                    </a:lnTo>
                    <a:lnTo>
                      <a:pt x="868" y="6"/>
                    </a:lnTo>
                    <a:lnTo>
                      <a:pt x="846" y="3"/>
                    </a:lnTo>
                    <a:lnTo>
                      <a:pt x="822" y="0"/>
                    </a:lnTo>
                    <a:lnTo>
                      <a:pt x="798" y="0"/>
                    </a:lnTo>
                    <a:lnTo>
                      <a:pt x="794" y="0"/>
                    </a:lnTo>
                    <a:lnTo>
                      <a:pt x="788" y="0"/>
                    </a:lnTo>
                    <a:lnTo>
                      <a:pt x="780" y="1"/>
                    </a:lnTo>
                    <a:lnTo>
                      <a:pt x="770" y="4"/>
                    </a:lnTo>
                    <a:lnTo>
                      <a:pt x="756" y="5"/>
                    </a:lnTo>
                    <a:lnTo>
                      <a:pt x="743" y="7"/>
                    </a:lnTo>
                    <a:lnTo>
                      <a:pt x="729" y="8"/>
                    </a:lnTo>
                    <a:lnTo>
                      <a:pt x="714" y="10"/>
                    </a:lnTo>
                    <a:lnTo>
                      <a:pt x="700" y="11"/>
                    </a:lnTo>
                    <a:lnTo>
                      <a:pt x="686" y="14"/>
                    </a:lnTo>
                    <a:lnTo>
                      <a:pt x="671" y="16"/>
                    </a:lnTo>
                    <a:lnTo>
                      <a:pt x="660" y="18"/>
                    </a:lnTo>
                    <a:lnTo>
                      <a:pt x="650" y="19"/>
                    </a:lnTo>
                    <a:lnTo>
                      <a:pt x="644" y="20"/>
                    </a:lnTo>
                    <a:lnTo>
                      <a:pt x="638" y="20"/>
                    </a:lnTo>
                    <a:lnTo>
                      <a:pt x="637" y="21"/>
                    </a:lnTo>
                    <a:lnTo>
                      <a:pt x="637" y="21"/>
                    </a:lnTo>
                    <a:close/>
                  </a:path>
                </a:pathLst>
              </a:custGeom>
              <a:solidFill>
                <a:srgbClr val="b39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715680" y="4840200"/>
                <a:ext cx="2103480" cy="693720"/>
              </a:xfrm>
              <a:custGeom>
                <a:avLst/>
                <a:gdLst/>
                <a:ahLst/>
                <a:rect l="l" t="t" r="r" b="b"/>
                <a:pathLst>
                  <a:path w="2650" h="874">
                    <a:moveTo>
                      <a:pt x="46" y="0"/>
                    </a:moveTo>
                    <a:lnTo>
                      <a:pt x="46" y="2"/>
                    </a:lnTo>
                    <a:lnTo>
                      <a:pt x="46" y="6"/>
                    </a:lnTo>
                    <a:lnTo>
                      <a:pt x="48" y="10"/>
                    </a:lnTo>
                    <a:lnTo>
                      <a:pt x="51" y="20"/>
                    </a:lnTo>
                    <a:lnTo>
                      <a:pt x="53" y="30"/>
                    </a:lnTo>
                    <a:lnTo>
                      <a:pt x="57" y="44"/>
                    </a:lnTo>
                    <a:lnTo>
                      <a:pt x="63" y="57"/>
                    </a:lnTo>
                    <a:lnTo>
                      <a:pt x="71" y="72"/>
                    </a:lnTo>
                    <a:lnTo>
                      <a:pt x="78" y="88"/>
                    </a:lnTo>
                    <a:lnTo>
                      <a:pt x="90" y="106"/>
                    </a:lnTo>
                    <a:lnTo>
                      <a:pt x="103" y="124"/>
                    </a:lnTo>
                    <a:lnTo>
                      <a:pt x="119" y="143"/>
                    </a:lnTo>
                    <a:lnTo>
                      <a:pt x="136" y="162"/>
                    </a:lnTo>
                    <a:lnTo>
                      <a:pt x="158" y="182"/>
                    </a:lnTo>
                    <a:lnTo>
                      <a:pt x="181" y="201"/>
                    </a:lnTo>
                    <a:lnTo>
                      <a:pt x="208" y="220"/>
                    </a:lnTo>
                    <a:lnTo>
                      <a:pt x="235" y="238"/>
                    </a:lnTo>
                    <a:lnTo>
                      <a:pt x="266" y="256"/>
                    </a:lnTo>
                    <a:lnTo>
                      <a:pt x="297" y="271"/>
                    </a:lnTo>
                    <a:lnTo>
                      <a:pt x="331" y="288"/>
                    </a:lnTo>
                    <a:lnTo>
                      <a:pt x="364" y="300"/>
                    </a:lnTo>
                    <a:lnTo>
                      <a:pt x="396" y="313"/>
                    </a:lnTo>
                    <a:lnTo>
                      <a:pt x="428" y="326"/>
                    </a:lnTo>
                    <a:lnTo>
                      <a:pt x="460" y="338"/>
                    </a:lnTo>
                    <a:lnTo>
                      <a:pt x="490" y="347"/>
                    </a:lnTo>
                    <a:lnTo>
                      <a:pt x="517" y="356"/>
                    </a:lnTo>
                    <a:lnTo>
                      <a:pt x="543" y="363"/>
                    </a:lnTo>
                    <a:lnTo>
                      <a:pt x="567" y="371"/>
                    </a:lnTo>
                    <a:lnTo>
                      <a:pt x="586" y="377"/>
                    </a:lnTo>
                    <a:lnTo>
                      <a:pt x="604" y="383"/>
                    </a:lnTo>
                    <a:lnTo>
                      <a:pt x="616" y="387"/>
                    </a:lnTo>
                    <a:lnTo>
                      <a:pt x="625" y="393"/>
                    </a:lnTo>
                    <a:lnTo>
                      <a:pt x="630" y="396"/>
                    </a:lnTo>
                    <a:lnTo>
                      <a:pt x="639" y="405"/>
                    </a:lnTo>
                    <a:lnTo>
                      <a:pt x="650" y="414"/>
                    </a:lnTo>
                    <a:lnTo>
                      <a:pt x="664" y="426"/>
                    </a:lnTo>
                    <a:lnTo>
                      <a:pt x="680" y="437"/>
                    </a:lnTo>
                    <a:lnTo>
                      <a:pt x="698" y="452"/>
                    </a:lnTo>
                    <a:lnTo>
                      <a:pt x="719" y="465"/>
                    </a:lnTo>
                    <a:lnTo>
                      <a:pt x="741" y="480"/>
                    </a:lnTo>
                    <a:lnTo>
                      <a:pt x="764" y="494"/>
                    </a:lnTo>
                    <a:lnTo>
                      <a:pt x="788" y="508"/>
                    </a:lnTo>
                    <a:lnTo>
                      <a:pt x="815" y="520"/>
                    </a:lnTo>
                    <a:lnTo>
                      <a:pt x="845" y="532"/>
                    </a:lnTo>
                    <a:lnTo>
                      <a:pt x="873" y="542"/>
                    </a:lnTo>
                    <a:lnTo>
                      <a:pt x="905" y="551"/>
                    </a:lnTo>
                    <a:lnTo>
                      <a:pt x="937" y="557"/>
                    </a:lnTo>
                    <a:lnTo>
                      <a:pt x="972" y="561"/>
                    </a:lnTo>
                    <a:lnTo>
                      <a:pt x="1008" y="561"/>
                    </a:lnTo>
                    <a:lnTo>
                      <a:pt x="1050" y="562"/>
                    </a:lnTo>
                    <a:lnTo>
                      <a:pt x="1096" y="561"/>
                    </a:lnTo>
                    <a:lnTo>
                      <a:pt x="1146" y="560"/>
                    </a:lnTo>
                    <a:lnTo>
                      <a:pt x="1197" y="558"/>
                    </a:lnTo>
                    <a:lnTo>
                      <a:pt x="1251" y="555"/>
                    </a:lnTo>
                    <a:lnTo>
                      <a:pt x="1306" y="553"/>
                    </a:lnTo>
                    <a:lnTo>
                      <a:pt x="1360" y="551"/>
                    </a:lnTo>
                    <a:lnTo>
                      <a:pt x="1412" y="548"/>
                    </a:lnTo>
                    <a:lnTo>
                      <a:pt x="1463" y="544"/>
                    </a:lnTo>
                    <a:lnTo>
                      <a:pt x="1509" y="543"/>
                    </a:lnTo>
                    <a:lnTo>
                      <a:pt x="1553" y="541"/>
                    </a:lnTo>
                    <a:lnTo>
                      <a:pt x="1592" y="539"/>
                    </a:lnTo>
                    <a:lnTo>
                      <a:pt x="1625" y="539"/>
                    </a:lnTo>
                    <a:lnTo>
                      <a:pt x="1652" y="539"/>
                    </a:lnTo>
                    <a:lnTo>
                      <a:pt x="1670" y="541"/>
                    </a:lnTo>
                    <a:lnTo>
                      <a:pt x="1688" y="543"/>
                    </a:lnTo>
                    <a:lnTo>
                      <a:pt x="1712" y="548"/>
                    </a:lnTo>
                    <a:lnTo>
                      <a:pt x="1743" y="555"/>
                    </a:lnTo>
                    <a:lnTo>
                      <a:pt x="1780" y="564"/>
                    </a:lnTo>
                    <a:lnTo>
                      <a:pt x="1817" y="573"/>
                    </a:lnTo>
                    <a:lnTo>
                      <a:pt x="1859" y="584"/>
                    </a:lnTo>
                    <a:lnTo>
                      <a:pt x="1901" y="595"/>
                    </a:lnTo>
                    <a:lnTo>
                      <a:pt x="1946" y="607"/>
                    </a:lnTo>
                    <a:lnTo>
                      <a:pt x="1987" y="619"/>
                    </a:lnTo>
                    <a:lnTo>
                      <a:pt x="2029" y="630"/>
                    </a:lnTo>
                    <a:lnTo>
                      <a:pt x="2066" y="638"/>
                    </a:lnTo>
                    <a:lnTo>
                      <a:pt x="2102" y="648"/>
                    </a:lnTo>
                    <a:lnTo>
                      <a:pt x="2131" y="657"/>
                    </a:lnTo>
                    <a:lnTo>
                      <a:pt x="2156" y="663"/>
                    </a:lnTo>
                    <a:lnTo>
                      <a:pt x="2172" y="668"/>
                    </a:lnTo>
                    <a:lnTo>
                      <a:pt x="2181" y="672"/>
                    </a:lnTo>
                    <a:lnTo>
                      <a:pt x="2190" y="672"/>
                    </a:lnTo>
                    <a:lnTo>
                      <a:pt x="2207" y="672"/>
                    </a:lnTo>
                    <a:lnTo>
                      <a:pt x="2232" y="672"/>
                    </a:lnTo>
                    <a:lnTo>
                      <a:pt x="2263" y="673"/>
                    </a:lnTo>
                    <a:lnTo>
                      <a:pt x="2298" y="673"/>
                    </a:lnTo>
                    <a:lnTo>
                      <a:pt x="2339" y="674"/>
                    </a:lnTo>
                    <a:lnTo>
                      <a:pt x="2380" y="674"/>
                    </a:lnTo>
                    <a:lnTo>
                      <a:pt x="2423" y="675"/>
                    </a:lnTo>
                    <a:lnTo>
                      <a:pt x="2465" y="675"/>
                    </a:lnTo>
                    <a:lnTo>
                      <a:pt x="2506" y="675"/>
                    </a:lnTo>
                    <a:lnTo>
                      <a:pt x="2544" y="675"/>
                    </a:lnTo>
                    <a:lnTo>
                      <a:pt x="2579" y="675"/>
                    </a:lnTo>
                    <a:lnTo>
                      <a:pt x="2607" y="675"/>
                    </a:lnTo>
                    <a:lnTo>
                      <a:pt x="2629" y="675"/>
                    </a:lnTo>
                    <a:lnTo>
                      <a:pt x="2643" y="675"/>
                    </a:lnTo>
                    <a:lnTo>
                      <a:pt x="2650" y="676"/>
                    </a:lnTo>
                    <a:lnTo>
                      <a:pt x="2647" y="676"/>
                    </a:lnTo>
                    <a:lnTo>
                      <a:pt x="2641" y="678"/>
                    </a:lnTo>
                    <a:lnTo>
                      <a:pt x="2633" y="682"/>
                    </a:lnTo>
                    <a:lnTo>
                      <a:pt x="2622" y="687"/>
                    </a:lnTo>
                    <a:lnTo>
                      <a:pt x="2607" y="693"/>
                    </a:lnTo>
                    <a:lnTo>
                      <a:pt x="2591" y="700"/>
                    </a:lnTo>
                    <a:lnTo>
                      <a:pt x="2571" y="708"/>
                    </a:lnTo>
                    <a:lnTo>
                      <a:pt x="2550" y="718"/>
                    </a:lnTo>
                    <a:lnTo>
                      <a:pt x="2526" y="727"/>
                    </a:lnTo>
                    <a:lnTo>
                      <a:pt x="2501" y="737"/>
                    </a:lnTo>
                    <a:lnTo>
                      <a:pt x="2473" y="747"/>
                    </a:lnTo>
                    <a:lnTo>
                      <a:pt x="2444" y="758"/>
                    </a:lnTo>
                    <a:lnTo>
                      <a:pt x="2413" y="768"/>
                    </a:lnTo>
                    <a:lnTo>
                      <a:pt x="2383" y="778"/>
                    </a:lnTo>
                    <a:lnTo>
                      <a:pt x="2351" y="788"/>
                    </a:lnTo>
                    <a:lnTo>
                      <a:pt x="2319" y="799"/>
                    </a:lnTo>
                    <a:lnTo>
                      <a:pt x="2287" y="809"/>
                    </a:lnTo>
                    <a:lnTo>
                      <a:pt x="2260" y="818"/>
                    </a:lnTo>
                    <a:lnTo>
                      <a:pt x="2233" y="824"/>
                    </a:lnTo>
                    <a:lnTo>
                      <a:pt x="2211" y="833"/>
                    </a:lnTo>
                    <a:lnTo>
                      <a:pt x="2189" y="839"/>
                    </a:lnTo>
                    <a:lnTo>
                      <a:pt x="2170" y="845"/>
                    </a:lnTo>
                    <a:lnTo>
                      <a:pt x="2152" y="851"/>
                    </a:lnTo>
                    <a:lnTo>
                      <a:pt x="2135" y="856"/>
                    </a:lnTo>
                    <a:lnTo>
                      <a:pt x="2117" y="861"/>
                    </a:lnTo>
                    <a:lnTo>
                      <a:pt x="2102" y="865"/>
                    </a:lnTo>
                    <a:lnTo>
                      <a:pt x="2083" y="867"/>
                    </a:lnTo>
                    <a:lnTo>
                      <a:pt x="2066" y="871"/>
                    </a:lnTo>
                    <a:lnTo>
                      <a:pt x="2045" y="872"/>
                    </a:lnTo>
                    <a:lnTo>
                      <a:pt x="2024" y="874"/>
                    </a:lnTo>
                    <a:lnTo>
                      <a:pt x="2001" y="874"/>
                    </a:lnTo>
                    <a:lnTo>
                      <a:pt x="1977" y="874"/>
                    </a:lnTo>
                    <a:lnTo>
                      <a:pt x="1946" y="874"/>
                    </a:lnTo>
                    <a:lnTo>
                      <a:pt x="1910" y="872"/>
                    </a:lnTo>
                    <a:lnTo>
                      <a:pt x="1869" y="867"/>
                    </a:lnTo>
                    <a:lnTo>
                      <a:pt x="1826" y="862"/>
                    </a:lnTo>
                    <a:lnTo>
                      <a:pt x="1778" y="855"/>
                    </a:lnTo>
                    <a:lnTo>
                      <a:pt x="1729" y="848"/>
                    </a:lnTo>
                    <a:lnTo>
                      <a:pt x="1678" y="841"/>
                    </a:lnTo>
                    <a:lnTo>
                      <a:pt x="1630" y="834"/>
                    </a:lnTo>
                    <a:lnTo>
                      <a:pt x="1579" y="824"/>
                    </a:lnTo>
                    <a:lnTo>
                      <a:pt x="1532" y="818"/>
                    </a:lnTo>
                    <a:lnTo>
                      <a:pt x="1488" y="810"/>
                    </a:lnTo>
                    <a:lnTo>
                      <a:pt x="1450" y="804"/>
                    </a:lnTo>
                    <a:lnTo>
                      <a:pt x="1415" y="799"/>
                    </a:lnTo>
                    <a:lnTo>
                      <a:pt x="1385" y="794"/>
                    </a:lnTo>
                    <a:lnTo>
                      <a:pt x="1363" y="791"/>
                    </a:lnTo>
                    <a:lnTo>
                      <a:pt x="1350" y="791"/>
                    </a:lnTo>
                    <a:lnTo>
                      <a:pt x="1339" y="791"/>
                    </a:lnTo>
                    <a:lnTo>
                      <a:pt x="1329" y="791"/>
                    </a:lnTo>
                    <a:lnTo>
                      <a:pt x="1318" y="791"/>
                    </a:lnTo>
                    <a:lnTo>
                      <a:pt x="1307" y="791"/>
                    </a:lnTo>
                    <a:lnTo>
                      <a:pt x="1293" y="791"/>
                    </a:lnTo>
                    <a:lnTo>
                      <a:pt x="1279" y="791"/>
                    </a:lnTo>
                    <a:lnTo>
                      <a:pt x="1264" y="791"/>
                    </a:lnTo>
                    <a:lnTo>
                      <a:pt x="1247" y="791"/>
                    </a:lnTo>
                    <a:lnTo>
                      <a:pt x="1226" y="790"/>
                    </a:lnTo>
                    <a:lnTo>
                      <a:pt x="1205" y="790"/>
                    </a:lnTo>
                    <a:lnTo>
                      <a:pt x="1181" y="790"/>
                    </a:lnTo>
                    <a:lnTo>
                      <a:pt x="1154" y="790"/>
                    </a:lnTo>
                    <a:lnTo>
                      <a:pt x="1124" y="789"/>
                    </a:lnTo>
                    <a:lnTo>
                      <a:pt x="1091" y="788"/>
                    </a:lnTo>
                    <a:lnTo>
                      <a:pt x="1055" y="788"/>
                    </a:lnTo>
                    <a:lnTo>
                      <a:pt x="1016" y="787"/>
                    </a:lnTo>
                    <a:lnTo>
                      <a:pt x="973" y="783"/>
                    </a:lnTo>
                    <a:lnTo>
                      <a:pt x="934" y="783"/>
                    </a:lnTo>
                    <a:lnTo>
                      <a:pt x="895" y="783"/>
                    </a:lnTo>
                    <a:lnTo>
                      <a:pt x="860" y="783"/>
                    </a:lnTo>
                    <a:lnTo>
                      <a:pt x="826" y="782"/>
                    </a:lnTo>
                    <a:lnTo>
                      <a:pt x="794" y="781"/>
                    </a:lnTo>
                    <a:lnTo>
                      <a:pt x="763" y="780"/>
                    </a:lnTo>
                    <a:lnTo>
                      <a:pt x="733" y="780"/>
                    </a:lnTo>
                    <a:lnTo>
                      <a:pt x="705" y="775"/>
                    </a:lnTo>
                    <a:lnTo>
                      <a:pt x="678" y="773"/>
                    </a:lnTo>
                    <a:lnTo>
                      <a:pt x="652" y="767"/>
                    </a:lnTo>
                    <a:lnTo>
                      <a:pt x="629" y="761"/>
                    </a:lnTo>
                    <a:lnTo>
                      <a:pt x="607" y="752"/>
                    </a:lnTo>
                    <a:lnTo>
                      <a:pt x="587" y="741"/>
                    </a:lnTo>
                    <a:lnTo>
                      <a:pt x="568" y="729"/>
                    </a:lnTo>
                    <a:lnTo>
                      <a:pt x="551" y="715"/>
                    </a:lnTo>
                    <a:lnTo>
                      <a:pt x="533" y="697"/>
                    </a:lnTo>
                    <a:lnTo>
                      <a:pt x="515" y="684"/>
                    </a:lnTo>
                    <a:lnTo>
                      <a:pt x="497" y="672"/>
                    </a:lnTo>
                    <a:lnTo>
                      <a:pt x="480" y="663"/>
                    </a:lnTo>
                    <a:lnTo>
                      <a:pt x="461" y="654"/>
                    </a:lnTo>
                    <a:lnTo>
                      <a:pt x="443" y="647"/>
                    </a:lnTo>
                    <a:lnTo>
                      <a:pt x="422" y="641"/>
                    </a:lnTo>
                    <a:lnTo>
                      <a:pt x="404" y="636"/>
                    </a:lnTo>
                    <a:lnTo>
                      <a:pt x="383" y="631"/>
                    </a:lnTo>
                    <a:lnTo>
                      <a:pt x="361" y="626"/>
                    </a:lnTo>
                    <a:lnTo>
                      <a:pt x="339" y="622"/>
                    </a:lnTo>
                    <a:lnTo>
                      <a:pt x="317" y="617"/>
                    </a:lnTo>
                    <a:lnTo>
                      <a:pt x="293" y="612"/>
                    </a:lnTo>
                    <a:lnTo>
                      <a:pt x="269" y="605"/>
                    </a:lnTo>
                    <a:lnTo>
                      <a:pt x="243" y="597"/>
                    </a:lnTo>
                    <a:lnTo>
                      <a:pt x="218" y="590"/>
                    </a:lnTo>
                    <a:lnTo>
                      <a:pt x="191" y="578"/>
                    </a:lnTo>
                    <a:lnTo>
                      <a:pt x="167" y="565"/>
                    </a:lnTo>
                    <a:lnTo>
                      <a:pt x="144" y="550"/>
                    </a:lnTo>
                    <a:lnTo>
                      <a:pt x="124" y="534"/>
                    </a:lnTo>
                    <a:lnTo>
                      <a:pt x="103" y="517"/>
                    </a:lnTo>
                    <a:lnTo>
                      <a:pt x="85" y="498"/>
                    </a:lnTo>
                    <a:lnTo>
                      <a:pt x="69" y="479"/>
                    </a:lnTo>
                    <a:lnTo>
                      <a:pt x="55" y="460"/>
                    </a:lnTo>
                    <a:lnTo>
                      <a:pt x="42" y="441"/>
                    </a:lnTo>
                    <a:lnTo>
                      <a:pt x="31" y="420"/>
                    </a:lnTo>
                    <a:lnTo>
                      <a:pt x="21" y="398"/>
                    </a:lnTo>
                    <a:lnTo>
                      <a:pt x="12" y="380"/>
                    </a:lnTo>
                    <a:lnTo>
                      <a:pt x="6" y="359"/>
                    </a:lnTo>
                    <a:lnTo>
                      <a:pt x="0" y="341"/>
                    </a:lnTo>
                    <a:lnTo>
                      <a:pt x="0" y="323"/>
                    </a:lnTo>
                    <a:lnTo>
                      <a:pt x="0" y="308"/>
                    </a:lnTo>
                    <a:lnTo>
                      <a:pt x="0" y="289"/>
                    </a:lnTo>
                    <a:lnTo>
                      <a:pt x="0" y="268"/>
                    </a:lnTo>
                    <a:lnTo>
                      <a:pt x="0" y="246"/>
                    </a:lnTo>
                    <a:lnTo>
                      <a:pt x="2" y="223"/>
                    </a:lnTo>
                    <a:lnTo>
                      <a:pt x="6" y="196"/>
                    </a:lnTo>
                    <a:lnTo>
                      <a:pt x="10" y="172"/>
                    </a:lnTo>
                    <a:lnTo>
                      <a:pt x="14" y="145"/>
                    </a:lnTo>
                    <a:lnTo>
                      <a:pt x="20" y="121"/>
                    </a:lnTo>
                    <a:lnTo>
                      <a:pt x="23" y="96"/>
                    </a:lnTo>
                    <a:lnTo>
                      <a:pt x="29" y="73"/>
                    </a:lnTo>
                    <a:lnTo>
                      <a:pt x="33" y="54"/>
                    </a:lnTo>
                    <a:lnTo>
                      <a:pt x="38" y="36"/>
                    </a:lnTo>
                    <a:lnTo>
                      <a:pt x="41" y="21"/>
                    </a:lnTo>
                    <a:lnTo>
                      <a:pt x="44" y="10"/>
                    </a:lnTo>
                    <a:lnTo>
                      <a:pt x="45" y="3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9e9e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1220760" y="3773520"/>
                <a:ext cx="1501560" cy="1299960"/>
              </a:xfrm>
              <a:custGeom>
                <a:avLst/>
                <a:gdLst/>
                <a:ahLst/>
                <a:rect l="l" t="t" r="r" b="b"/>
                <a:pathLst>
                  <a:path w="1891" h="1639">
                    <a:moveTo>
                      <a:pt x="151" y="0"/>
                    </a:moveTo>
                    <a:lnTo>
                      <a:pt x="303" y="0"/>
                    </a:lnTo>
                    <a:lnTo>
                      <a:pt x="551" y="0"/>
                    </a:lnTo>
                    <a:lnTo>
                      <a:pt x="739" y="6"/>
                    </a:lnTo>
                    <a:lnTo>
                      <a:pt x="831" y="52"/>
                    </a:lnTo>
                    <a:lnTo>
                      <a:pt x="840" y="131"/>
                    </a:lnTo>
                    <a:lnTo>
                      <a:pt x="812" y="187"/>
                    </a:lnTo>
                    <a:lnTo>
                      <a:pt x="749" y="249"/>
                    </a:lnTo>
                    <a:lnTo>
                      <a:pt x="469" y="353"/>
                    </a:lnTo>
                    <a:lnTo>
                      <a:pt x="218" y="422"/>
                    </a:lnTo>
                    <a:lnTo>
                      <a:pt x="174" y="453"/>
                    </a:lnTo>
                    <a:lnTo>
                      <a:pt x="174" y="498"/>
                    </a:lnTo>
                    <a:lnTo>
                      <a:pt x="203" y="541"/>
                    </a:lnTo>
                    <a:lnTo>
                      <a:pt x="279" y="568"/>
                    </a:lnTo>
                    <a:lnTo>
                      <a:pt x="410" y="578"/>
                    </a:lnTo>
                    <a:lnTo>
                      <a:pt x="671" y="603"/>
                    </a:lnTo>
                    <a:lnTo>
                      <a:pt x="967" y="623"/>
                    </a:lnTo>
                    <a:lnTo>
                      <a:pt x="1147" y="656"/>
                    </a:lnTo>
                    <a:lnTo>
                      <a:pt x="1292" y="696"/>
                    </a:lnTo>
                    <a:lnTo>
                      <a:pt x="1343" y="763"/>
                    </a:lnTo>
                    <a:lnTo>
                      <a:pt x="1345" y="853"/>
                    </a:lnTo>
                    <a:lnTo>
                      <a:pt x="1282" y="918"/>
                    </a:lnTo>
                    <a:lnTo>
                      <a:pt x="285" y="1126"/>
                    </a:lnTo>
                    <a:lnTo>
                      <a:pt x="257" y="1141"/>
                    </a:lnTo>
                    <a:lnTo>
                      <a:pt x="261" y="1163"/>
                    </a:lnTo>
                    <a:lnTo>
                      <a:pt x="310" y="1186"/>
                    </a:lnTo>
                    <a:lnTo>
                      <a:pt x="1020" y="1180"/>
                    </a:lnTo>
                    <a:lnTo>
                      <a:pt x="1248" y="1134"/>
                    </a:lnTo>
                    <a:lnTo>
                      <a:pt x="1891" y="1000"/>
                    </a:lnTo>
                    <a:lnTo>
                      <a:pt x="1855" y="1066"/>
                    </a:lnTo>
                    <a:lnTo>
                      <a:pt x="1697" y="1116"/>
                    </a:lnTo>
                    <a:lnTo>
                      <a:pt x="1593" y="1203"/>
                    </a:lnTo>
                    <a:lnTo>
                      <a:pt x="1525" y="1317"/>
                    </a:lnTo>
                    <a:lnTo>
                      <a:pt x="1503" y="1639"/>
                    </a:lnTo>
                    <a:lnTo>
                      <a:pt x="206" y="1330"/>
                    </a:lnTo>
                    <a:lnTo>
                      <a:pt x="45" y="1170"/>
                    </a:lnTo>
                    <a:lnTo>
                      <a:pt x="60" y="1097"/>
                    </a:lnTo>
                    <a:lnTo>
                      <a:pt x="134" y="1031"/>
                    </a:lnTo>
                    <a:lnTo>
                      <a:pt x="191" y="997"/>
                    </a:lnTo>
                    <a:lnTo>
                      <a:pt x="419" y="953"/>
                    </a:lnTo>
                    <a:lnTo>
                      <a:pt x="850" y="878"/>
                    </a:lnTo>
                    <a:lnTo>
                      <a:pt x="1028" y="847"/>
                    </a:lnTo>
                    <a:lnTo>
                      <a:pt x="1075" y="811"/>
                    </a:lnTo>
                    <a:lnTo>
                      <a:pt x="1071" y="785"/>
                    </a:lnTo>
                    <a:lnTo>
                      <a:pt x="989" y="738"/>
                    </a:lnTo>
                    <a:lnTo>
                      <a:pt x="780" y="708"/>
                    </a:lnTo>
                    <a:lnTo>
                      <a:pt x="400" y="670"/>
                    </a:lnTo>
                    <a:lnTo>
                      <a:pt x="211" y="658"/>
                    </a:lnTo>
                    <a:lnTo>
                      <a:pt x="43" y="603"/>
                    </a:lnTo>
                    <a:lnTo>
                      <a:pt x="0" y="531"/>
                    </a:lnTo>
                    <a:lnTo>
                      <a:pt x="6" y="469"/>
                    </a:lnTo>
                    <a:lnTo>
                      <a:pt x="55" y="394"/>
                    </a:lnTo>
                    <a:lnTo>
                      <a:pt x="155" y="333"/>
                    </a:lnTo>
                    <a:lnTo>
                      <a:pt x="309" y="300"/>
                    </a:lnTo>
                    <a:lnTo>
                      <a:pt x="582" y="242"/>
                    </a:lnTo>
                    <a:lnTo>
                      <a:pt x="730" y="185"/>
                    </a:lnTo>
                    <a:lnTo>
                      <a:pt x="768" y="141"/>
                    </a:lnTo>
                    <a:lnTo>
                      <a:pt x="764" y="107"/>
                    </a:lnTo>
                    <a:lnTo>
                      <a:pt x="735" y="68"/>
                    </a:lnTo>
                    <a:lnTo>
                      <a:pt x="674" y="47"/>
                    </a:lnTo>
                    <a:lnTo>
                      <a:pt x="528" y="41"/>
                    </a:lnTo>
                    <a:lnTo>
                      <a:pt x="352" y="37"/>
                    </a:lnTo>
                    <a:lnTo>
                      <a:pt x="196" y="33"/>
                    </a:lnTo>
                    <a:lnTo>
                      <a:pt x="125" y="33"/>
                    </a:lnTo>
                    <a:lnTo>
                      <a:pt x="151" y="0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9e9e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841320" y="4608360"/>
                <a:ext cx="1857240" cy="614520"/>
              </a:xfrm>
              <a:custGeom>
                <a:avLst/>
                <a:gdLst/>
                <a:ahLst/>
                <a:rect l="l" t="t" r="r" b="b"/>
                <a:pathLst>
                  <a:path w="2342" h="775">
                    <a:moveTo>
                      <a:pt x="80" y="0"/>
                    </a:moveTo>
                    <a:lnTo>
                      <a:pt x="78" y="0"/>
                    </a:lnTo>
                    <a:lnTo>
                      <a:pt x="76" y="2"/>
                    </a:lnTo>
                    <a:lnTo>
                      <a:pt x="72" y="6"/>
                    </a:lnTo>
                    <a:lnTo>
                      <a:pt x="68" y="14"/>
                    </a:lnTo>
                    <a:lnTo>
                      <a:pt x="62" y="19"/>
                    </a:lnTo>
                    <a:lnTo>
                      <a:pt x="57" y="28"/>
                    </a:lnTo>
                    <a:lnTo>
                      <a:pt x="52" y="37"/>
                    </a:lnTo>
                    <a:lnTo>
                      <a:pt x="49" y="49"/>
                    </a:lnTo>
                    <a:lnTo>
                      <a:pt x="44" y="60"/>
                    </a:lnTo>
                    <a:lnTo>
                      <a:pt x="42" y="72"/>
                    </a:lnTo>
                    <a:lnTo>
                      <a:pt x="41" y="86"/>
                    </a:lnTo>
                    <a:lnTo>
                      <a:pt x="44" y="100"/>
                    </a:lnTo>
                    <a:lnTo>
                      <a:pt x="47" y="113"/>
                    </a:lnTo>
                    <a:lnTo>
                      <a:pt x="54" y="128"/>
                    </a:lnTo>
                    <a:lnTo>
                      <a:pt x="63" y="141"/>
                    </a:lnTo>
                    <a:lnTo>
                      <a:pt x="77" y="154"/>
                    </a:lnTo>
                    <a:lnTo>
                      <a:pt x="92" y="166"/>
                    </a:lnTo>
                    <a:lnTo>
                      <a:pt x="111" y="181"/>
                    </a:lnTo>
                    <a:lnTo>
                      <a:pt x="131" y="193"/>
                    </a:lnTo>
                    <a:lnTo>
                      <a:pt x="153" y="207"/>
                    </a:lnTo>
                    <a:lnTo>
                      <a:pt x="174" y="220"/>
                    </a:lnTo>
                    <a:lnTo>
                      <a:pt x="198" y="233"/>
                    </a:lnTo>
                    <a:lnTo>
                      <a:pt x="220" y="244"/>
                    </a:lnTo>
                    <a:lnTo>
                      <a:pt x="244" y="256"/>
                    </a:lnTo>
                    <a:lnTo>
                      <a:pt x="264" y="265"/>
                    </a:lnTo>
                    <a:lnTo>
                      <a:pt x="283" y="274"/>
                    </a:lnTo>
                    <a:lnTo>
                      <a:pt x="302" y="281"/>
                    </a:lnTo>
                    <a:lnTo>
                      <a:pt x="318" y="290"/>
                    </a:lnTo>
                    <a:lnTo>
                      <a:pt x="331" y="295"/>
                    </a:lnTo>
                    <a:lnTo>
                      <a:pt x="341" y="299"/>
                    </a:lnTo>
                    <a:lnTo>
                      <a:pt x="348" y="301"/>
                    </a:lnTo>
                    <a:lnTo>
                      <a:pt x="351" y="302"/>
                    </a:lnTo>
                    <a:lnTo>
                      <a:pt x="304" y="229"/>
                    </a:lnTo>
                    <a:lnTo>
                      <a:pt x="443" y="315"/>
                    </a:lnTo>
                    <a:lnTo>
                      <a:pt x="442" y="311"/>
                    </a:lnTo>
                    <a:lnTo>
                      <a:pt x="439" y="305"/>
                    </a:lnTo>
                    <a:lnTo>
                      <a:pt x="437" y="300"/>
                    </a:lnTo>
                    <a:lnTo>
                      <a:pt x="435" y="296"/>
                    </a:lnTo>
                    <a:lnTo>
                      <a:pt x="432" y="290"/>
                    </a:lnTo>
                    <a:lnTo>
                      <a:pt x="430" y="285"/>
                    </a:lnTo>
                    <a:lnTo>
                      <a:pt x="425" y="278"/>
                    </a:lnTo>
                    <a:lnTo>
                      <a:pt x="421" y="270"/>
                    </a:lnTo>
                    <a:lnTo>
                      <a:pt x="415" y="264"/>
                    </a:lnTo>
                    <a:lnTo>
                      <a:pt x="409" y="257"/>
                    </a:lnTo>
                    <a:lnTo>
                      <a:pt x="402" y="250"/>
                    </a:lnTo>
                    <a:lnTo>
                      <a:pt x="395" y="244"/>
                    </a:lnTo>
                    <a:lnTo>
                      <a:pt x="386" y="237"/>
                    </a:lnTo>
                    <a:lnTo>
                      <a:pt x="379" y="232"/>
                    </a:lnTo>
                    <a:lnTo>
                      <a:pt x="383" y="232"/>
                    </a:lnTo>
                    <a:lnTo>
                      <a:pt x="387" y="233"/>
                    </a:lnTo>
                    <a:lnTo>
                      <a:pt x="396" y="235"/>
                    </a:lnTo>
                    <a:lnTo>
                      <a:pt x="404" y="238"/>
                    </a:lnTo>
                    <a:lnTo>
                      <a:pt x="415" y="243"/>
                    </a:lnTo>
                    <a:lnTo>
                      <a:pt x="427" y="246"/>
                    </a:lnTo>
                    <a:lnTo>
                      <a:pt x="442" y="253"/>
                    </a:lnTo>
                    <a:lnTo>
                      <a:pt x="454" y="257"/>
                    </a:lnTo>
                    <a:lnTo>
                      <a:pt x="469" y="265"/>
                    </a:lnTo>
                    <a:lnTo>
                      <a:pt x="485" y="273"/>
                    </a:lnTo>
                    <a:lnTo>
                      <a:pt x="499" y="281"/>
                    </a:lnTo>
                    <a:lnTo>
                      <a:pt x="513" y="291"/>
                    </a:lnTo>
                    <a:lnTo>
                      <a:pt x="529" y="302"/>
                    </a:lnTo>
                    <a:lnTo>
                      <a:pt x="543" y="315"/>
                    </a:lnTo>
                    <a:lnTo>
                      <a:pt x="558" y="329"/>
                    </a:lnTo>
                    <a:lnTo>
                      <a:pt x="557" y="326"/>
                    </a:lnTo>
                    <a:lnTo>
                      <a:pt x="554" y="317"/>
                    </a:lnTo>
                    <a:lnTo>
                      <a:pt x="551" y="310"/>
                    </a:lnTo>
                    <a:lnTo>
                      <a:pt x="548" y="304"/>
                    </a:lnTo>
                    <a:lnTo>
                      <a:pt x="545" y="297"/>
                    </a:lnTo>
                    <a:lnTo>
                      <a:pt x="542" y="290"/>
                    </a:lnTo>
                    <a:lnTo>
                      <a:pt x="537" y="281"/>
                    </a:lnTo>
                    <a:lnTo>
                      <a:pt x="532" y="275"/>
                    </a:lnTo>
                    <a:lnTo>
                      <a:pt x="526" y="267"/>
                    </a:lnTo>
                    <a:lnTo>
                      <a:pt x="521" y="260"/>
                    </a:lnTo>
                    <a:lnTo>
                      <a:pt x="513" y="255"/>
                    </a:lnTo>
                    <a:lnTo>
                      <a:pt x="507" y="249"/>
                    </a:lnTo>
                    <a:lnTo>
                      <a:pt x="492" y="243"/>
                    </a:lnTo>
                    <a:lnTo>
                      <a:pt x="501" y="244"/>
                    </a:lnTo>
                    <a:lnTo>
                      <a:pt x="511" y="248"/>
                    </a:lnTo>
                    <a:lnTo>
                      <a:pt x="523" y="254"/>
                    </a:lnTo>
                    <a:lnTo>
                      <a:pt x="533" y="260"/>
                    </a:lnTo>
                    <a:lnTo>
                      <a:pt x="547" y="267"/>
                    </a:lnTo>
                    <a:lnTo>
                      <a:pt x="562" y="276"/>
                    </a:lnTo>
                    <a:lnTo>
                      <a:pt x="576" y="283"/>
                    </a:lnTo>
                    <a:lnTo>
                      <a:pt x="592" y="292"/>
                    </a:lnTo>
                    <a:lnTo>
                      <a:pt x="607" y="302"/>
                    </a:lnTo>
                    <a:lnTo>
                      <a:pt x="624" y="315"/>
                    </a:lnTo>
                    <a:lnTo>
                      <a:pt x="637" y="326"/>
                    </a:lnTo>
                    <a:lnTo>
                      <a:pt x="653" y="339"/>
                    </a:lnTo>
                    <a:lnTo>
                      <a:pt x="667" y="352"/>
                    </a:lnTo>
                    <a:lnTo>
                      <a:pt x="680" y="368"/>
                    </a:lnTo>
                    <a:lnTo>
                      <a:pt x="678" y="363"/>
                    </a:lnTo>
                    <a:lnTo>
                      <a:pt x="675" y="356"/>
                    </a:lnTo>
                    <a:lnTo>
                      <a:pt x="671" y="350"/>
                    </a:lnTo>
                    <a:lnTo>
                      <a:pt x="669" y="343"/>
                    </a:lnTo>
                    <a:lnTo>
                      <a:pt x="665" y="337"/>
                    </a:lnTo>
                    <a:lnTo>
                      <a:pt x="662" y="329"/>
                    </a:lnTo>
                    <a:lnTo>
                      <a:pt x="657" y="320"/>
                    </a:lnTo>
                    <a:lnTo>
                      <a:pt x="652" y="312"/>
                    </a:lnTo>
                    <a:lnTo>
                      <a:pt x="646" y="304"/>
                    </a:lnTo>
                    <a:lnTo>
                      <a:pt x="641" y="296"/>
                    </a:lnTo>
                    <a:lnTo>
                      <a:pt x="633" y="288"/>
                    </a:lnTo>
                    <a:lnTo>
                      <a:pt x="625" y="280"/>
                    </a:lnTo>
                    <a:lnTo>
                      <a:pt x="617" y="275"/>
                    </a:lnTo>
                    <a:lnTo>
                      <a:pt x="611" y="269"/>
                    </a:lnTo>
                    <a:lnTo>
                      <a:pt x="612" y="269"/>
                    </a:lnTo>
                    <a:lnTo>
                      <a:pt x="615" y="271"/>
                    </a:lnTo>
                    <a:lnTo>
                      <a:pt x="623" y="274"/>
                    </a:lnTo>
                    <a:lnTo>
                      <a:pt x="633" y="278"/>
                    </a:lnTo>
                    <a:lnTo>
                      <a:pt x="644" y="281"/>
                    </a:lnTo>
                    <a:lnTo>
                      <a:pt x="657" y="288"/>
                    </a:lnTo>
                    <a:lnTo>
                      <a:pt x="670" y="294"/>
                    </a:lnTo>
                    <a:lnTo>
                      <a:pt x="686" y="302"/>
                    </a:lnTo>
                    <a:lnTo>
                      <a:pt x="701" y="309"/>
                    </a:lnTo>
                    <a:lnTo>
                      <a:pt x="716" y="317"/>
                    </a:lnTo>
                    <a:lnTo>
                      <a:pt x="731" y="326"/>
                    </a:lnTo>
                    <a:lnTo>
                      <a:pt x="747" y="337"/>
                    </a:lnTo>
                    <a:lnTo>
                      <a:pt x="761" y="347"/>
                    </a:lnTo>
                    <a:lnTo>
                      <a:pt x="773" y="358"/>
                    </a:lnTo>
                    <a:lnTo>
                      <a:pt x="784" y="369"/>
                    </a:lnTo>
                    <a:lnTo>
                      <a:pt x="795" y="381"/>
                    </a:lnTo>
                    <a:lnTo>
                      <a:pt x="793" y="377"/>
                    </a:lnTo>
                    <a:lnTo>
                      <a:pt x="790" y="369"/>
                    </a:lnTo>
                    <a:lnTo>
                      <a:pt x="785" y="361"/>
                    </a:lnTo>
                    <a:lnTo>
                      <a:pt x="783" y="356"/>
                    </a:lnTo>
                    <a:lnTo>
                      <a:pt x="779" y="349"/>
                    </a:lnTo>
                    <a:lnTo>
                      <a:pt x="775" y="341"/>
                    </a:lnTo>
                    <a:lnTo>
                      <a:pt x="770" y="332"/>
                    </a:lnTo>
                    <a:lnTo>
                      <a:pt x="764" y="325"/>
                    </a:lnTo>
                    <a:lnTo>
                      <a:pt x="759" y="316"/>
                    </a:lnTo>
                    <a:lnTo>
                      <a:pt x="752" y="309"/>
                    </a:lnTo>
                    <a:lnTo>
                      <a:pt x="746" y="302"/>
                    </a:lnTo>
                    <a:lnTo>
                      <a:pt x="739" y="296"/>
                    </a:lnTo>
                    <a:lnTo>
                      <a:pt x="730" y="290"/>
                    </a:lnTo>
                    <a:lnTo>
                      <a:pt x="723" y="286"/>
                    </a:lnTo>
                    <a:lnTo>
                      <a:pt x="725" y="286"/>
                    </a:lnTo>
                    <a:lnTo>
                      <a:pt x="729" y="288"/>
                    </a:lnTo>
                    <a:lnTo>
                      <a:pt x="737" y="291"/>
                    </a:lnTo>
                    <a:lnTo>
                      <a:pt x="747" y="296"/>
                    </a:lnTo>
                    <a:lnTo>
                      <a:pt x="758" y="301"/>
                    </a:lnTo>
                    <a:lnTo>
                      <a:pt x="772" y="308"/>
                    </a:lnTo>
                    <a:lnTo>
                      <a:pt x="786" y="315"/>
                    </a:lnTo>
                    <a:lnTo>
                      <a:pt x="804" y="325"/>
                    </a:lnTo>
                    <a:lnTo>
                      <a:pt x="819" y="332"/>
                    </a:lnTo>
                    <a:lnTo>
                      <a:pt x="837" y="342"/>
                    </a:lnTo>
                    <a:lnTo>
                      <a:pt x="854" y="352"/>
                    </a:lnTo>
                    <a:lnTo>
                      <a:pt x="870" y="363"/>
                    </a:lnTo>
                    <a:lnTo>
                      <a:pt x="886" y="374"/>
                    </a:lnTo>
                    <a:lnTo>
                      <a:pt x="900" y="386"/>
                    </a:lnTo>
                    <a:lnTo>
                      <a:pt x="914" y="399"/>
                    </a:lnTo>
                    <a:lnTo>
                      <a:pt x="926" y="411"/>
                    </a:lnTo>
                    <a:lnTo>
                      <a:pt x="925" y="409"/>
                    </a:lnTo>
                    <a:lnTo>
                      <a:pt x="922" y="406"/>
                    </a:lnTo>
                    <a:lnTo>
                      <a:pt x="920" y="401"/>
                    </a:lnTo>
                    <a:lnTo>
                      <a:pt x="918" y="396"/>
                    </a:lnTo>
                    <a:lnTo>
                      <a:pt x="912" y="388"/>
                    </a:lnTo>
                    <a:lnTo>
                      <a:pt x="909" y="380"/>
                    </a:lnTo>
                    <a:lnTo>
                      <a:pt x="903" y="371"/>
                    </a:lnTo>
                    <a:lnTo>
                      <a:pt x="898" y="362"/>
                    </a:lnTo>
                    <a:lnTo>
                      <a:pt x="890" y="352"/>
                    </a:lnTo>
                    <a:lnTo>
                      <a:pt x="885" y="342"/>
                    </a:lnTo>
                    <a:lnTo>
                      <a:pt x="877" y="333"/>
                    </a:lnTo>
                    <a:lnTo>
                      <a:pt x="872" y="326"/>
                    </a:lnTo>
                    <a:lnTo>
                      <a:pt x="865" y="316"/>
                    </a:lnTo>
                    <a:lnTo>
                      <a:pt x="858" y="309"/>
                    </a:lnTo>
                    <a:lnTo>
                      <a:pt x="853" y="302"/>
                    </a:lnTo>
                    <a:lnTo>
                      <a:pt x="846" y="299"/>
                    </a:lnTo>
                    <a:lnTo>
                      <a:pt x="848" y="299"/>
                    </a:lnTo>
                    <a:lnTo>
                      <a:pt x="855" y="302"/>
                    </a:lnTo>
                    <a:lnTo>
                      <a:pt x="865" y="308"/>
                    </a:lnTo>
                    <a:lnTo>
                      <a:pt x="880" y="316"/>
                    </a:lnTo>
                    <a:lnTo>
                      <a:pt x="897" y="325"/>
                    </a:lnTo>
                    <a:lnTo>
                      <a:pt x="917" y="336"/>
                    </a:lnTo>
                    <a:lnTo>
                      <a:pt x="937" y="347"/>
                    </a:lnTo>
                    <a:lnTo>
                      <a:pt x="959" y="360"/>
                    </a:lnTo>
                    <a:lnTo>
                      <a:pt x="980" y="372"/>
                    </a:lnTo>
                    <a:lnTo>
                      <a:pt x="1002" y="384"/>
                    </a:lnTo>
                    <a:lnTo>
                      <a:pt x="1022" y="396"/>
                    </a:lnTo>
                    <a:lnTo>
                      <a:pt x="1042" y="411"/>
                    </a:lnTo>
                    <a:lnTo>
                      <a:pt x="1058" y="423"/>
                    </a:lnTo>
                    <a:lnTo>
                      <a:pt x="1074" y="435"/>
                    </a:lnTo>
                    <a:lnTo>
                      <a:pt x="1085" y="446"/>
                    </a:lnTo>
                    <a:lnTo>
                      <a:pt x="1079" y="436"/>
                    </a:lnTo>
                    <a:lnTo>
                      <a:pt x="1072" y="426"/>
                    </a:lnTo>
                    <a:lnTo>
                      <a:pt x="1064" y="416"/>
                    </a:lnTo>
                    <a:lnTo>
                      <a:pt x="1055" y="404"/>
                    </a:lnTo>
                    <a:lnTo>
                      <a:pt x="1047" y="393"/>
                    </a:lnTo>
                    <a:lnTo>
                      <a:pt x="1035" y="380"/>
                    </a:lnTo>
                    <a:lnTo>
                      <a:pt x="1025" y="367"/>
                    </a:lnTo>
                    <a:lnTo>
                      <a:pt x="1014" y="354"/>
                    </a:lnTo>
                    <a:lnTo>
                      <a:pt x="1004" y="344"/>
                    </a:lnTo>
                    <a:lnTo>
                      <a:pt x="993" y="333"/>
                    </a:lnTo>
                    <a:lnTo>
                      <a:pt x="983" y="326"/>
                    </a:lnTo>
                    <a:lnTo>
                      <a:pt x="973" y="318"/>
                    </a:lnTo>
                    <a:lnTo>
                      <a:pt x="964" y="315"/>
                    </a:lnTo>
                    <a:lnTo>
                      <a:pt x="967" y="315"/>
                    </a:lnTo>
                    <a:lnTo>
                      <a:pt x="973" y="318"/>
                    </a:lnTo>
                    <a:lnTo>
                      <a:pt x="984" y="323"/>
                    </a:lnTo>
                    <a:lnTo>
                      <a:pt x="1000" y="330"/>
                    </a:lnTo>
                    <a:lnTo>
                      <a:pt x="1015" y="338"/>
                    </a:lnTo>
                    <a:lnTo>
                      <a:pt x="1035" y="349"/>
                    </a:lnTo>
                    <a:lnTo>
                      <a:pt x="1057" y="360"/>
                    </a:lnTo>
                    <a:lnTo>
                      <a:pt x="1082" y="372"/>
                    </a:lnTo>
                    <a:lnTo>
                      <a:pt x="1104" y="384"/>
                    </a:lnTo>
                    <a:lnTo>
                      <a:pt x="1127" y="398"/>
                    </a:lnTo>
                    <a:lnTo>
                      <a:pt x="1148" y="411"/>
                    </a:lnTo>
                    <a:lnTo>
                      <a:pt x="1170" y="425"/>
                    </a:lnTo>
                    <a:lnTo>
                      <a:pt x="1188" y="438"/>
                    </a:lnTo>
                    <a:lnTo>
                      <a:pt x="1205" y="452"/>
                    </a:lnTo>
                    <a:lnTo>
                      <a:pt x="1219" y="463"/>
                    </a:lnTo>
                    <a:lnTo>
                      <a:pt x="1230" y="475"/>
                    </a:lnTo>
                    <a:lnTo>
                      <a:pt x="1141" y="350"/>
                    </a:lnTo>
                    <a:lnTo>
                      <a:pt x="1371" y="496"/>
                    </a:lnTo>
                    <a:lnTo>
                      <a:pt x="1370" y="494"/>
                    </a:lnTo>
                    <a:lnTo>
                      <a:pt x="1368" y="489"/>
                    </a:lnTo>
                    <a:lnTo>
                      <a:pt x="1365" y="483"/>
                    </a:lnTo>
                    <a:lnTo>
                      <a:pt x="1360" y="475"/>
                    </a:lnTo>
                    <a:lnTo>
                      <a:pt x="1355" y="464"/>
                    </a:lnTo>
                    <a:lnTo>
                      <a:pt x="1348" y="453"/>
                    </a:lnTo>
                    <a:lnTo>
                      <a:pt x="1340" y="441"/>
                    </a:lnTo>
                    <a:lnTo>
                      <a:pt x="1333" y="428"/>
                    </a:lnTo>
                    <a:lnTo>
                      <a:pt x="1324" y="414"/>
                    </a:lnTo>
                    <a:lnTo>
                      <a:pt x="1315" y="402"/>
                    </a:lnTo>
                    <a:lnTo>
                      <a:pt x="1306" y="389"/>
                    </a:lnTo>
                    <a:lnTo>
                      <a:pt x="1298" y="378"/>
                    </a:lnTo>
                    <a:lnTo>
                      <a:pt x="1287" y="367"/>
                    </a:lnTo>
                    <a:lnTo>
                      <a:pt x="1278" y="358"/>
                    </a:lnTo>
                    <a:lnTo>
                      <a:pt x="1270" y="350"/>
                    </a:lnTo>
                    <a:lnTo>
                      <a:pt x="1262" y="347"/>
                    </a:lnTo>
                    <a:lnTo>
                      <a:pt x="1263" y="347"/>
                    </a:lnTo>
                    <a:lnTo>
                      <a:pt x="1268" y="350"/>
                    </a:lnTo>
                    <a:lnTo>
                      <a:pt x="1277" y="352"/>
                    </a:lnTo>
                    <a:lnTo>
                      <a:pt x="1289" y="359"/>
                    </a:lnTo>
                    <a:lnTo>
                      <a:pt x="1303" y="364"/>
                    </a:lnTo>
                    <a:lnTo>
                      <a:pt x="1319" y="372"/>
                    </a:lnTo>
                    <a:lnTo>
                      <a:pt x="1336" y="381"/>
                    </a:lnTo>
                    <a:lnTo>
                      <a:pt x="1355" y="391"/>
                    </a:lnTo>
                    <a:lnTo>
                      <a:pt x="1372" y="400"/>
                    </a:lnTo>
                    <a:lnTo>
                      <a:pt x="1390" y="412"/>
                    </a:lnTo>
                    <a:lnTo>
                      <a:pt x="1409" y="424"/>
                    </a:lnTo>
                    <a:lnTo>
                      <a:pt x="1427" y="436"/>
                    </a:lnTo>
                    <a:lnTo>
                      <a:pt x="1442" y="448"/>
                    </a:lnTo>
                    <a:lnTo>
                      <a:pt x="1456" y="462"/>
                    </a:lnTo>
                    <a:lnTo>
                      <a:pt x="1469" y="474"/>
                    </a:lnTo>
                    <a:lnTo>
                      <a:pt x="1477" y="488"/>
                    </a:lnTo>
                    <a:lnTo>
                      <a:pt x="1475" y="483"/>
                    </a:lnTo>
                    <a:lnTo>
                      <a:pt x="1473" y="469"/>
                    </a:lnTo>
                    <a:lnTo>
                      <a:pt x="1471" y="449"/>
                    </a:lnTo>
                    <a:lnTo>
                      <a:pt x="1470" y="424"/>
                    </a:lnTo>
                    <a:lnTo>
                      <a:pt x="1469" y="393"/>
                    </a:lnTo>
                    <a:lnTo>
                      <a:pt x="1470" y="358"/>
                    </a:lnTo>
                    <a:lnTo>
                      <a:pt x="1476" y="319"/>
                    </a:lnTo>
                    <a:lnTo>
                      <a:pt x="1486" y="280"/>
                    </a:lnTo>
                    <a:lnTo>
                      <a:pt x="1501" y="237"/>
                    </a:lnTo>
                    <a:lnTo>
                      <a:pt x="1522" y="196"/>
                    </a:lnTo>
                    <a:lnTo>
                      <a:pt x="1549" y="154"/>
                    </a:lnTo>
                    <a:lnTo>
                      <a:pt x="1586" y="117"/>
                    </a:lnTo>
                    <a:lnTo>
                      <a:pt x="1630" y="80"/>
                    </a:lnTo>
                    <a:lnTo>
                      <a:pt x="1685" y="47"/>
                    </a:lnTo>
                    <a:lnTo>
                      <a:pt x="1750" y="21"/>
                    </a:lnTo>
                    <a:lnTo>
                      <a:pt x="1829" y="0"/>
                    </a:lnTo>
                    <a:lnTo>
                      <a:pt x="1831" y="17"/>
                    </a:lnTo>
                    <a:lnTo>
                      <a:pt x="1828" y="17"/>
                    </a:lnTo>
                    <a:lnTo>
                      <a:pt x="1819" y="19"/>
                    </a:lnTo>
                    <a:lnTo>
                      <a:pt x="1806" y="22"/>
                    </a:lnTo>
                    <a:lnTo>
                      <a:pt x="1790" y="27"/>
                    </a:lnTo>
                    <a:lnTo>
                      <a:pt x="1769" y="33"/>
                    </a:lnTo>
                    <a:lnTo>
                      <a:pt x="1747" y="42"/>
                    </a:lnTo>
                    <a:lnTo>
                      <a:pt x="1722" y="51"/>
                    </a:lnTo>
                    <a:lnTo>
                      <a:pt x="1697" y="66"/>
                    </a:lnTo>
                    <a:lnTo>
                      <a:pt x="1670" y="80"/>
                    </a:lnTo>
                    <a:lnTo>
                      <a:pt x="1643" y="98"/>
                    </a:lnTo>
                    <a:lnTo>
                      <a:pt x="1618" y="118"/>
                    </a:lnTo>
                    <a:lnTo>
                      <a:pt x="1593" y="142"/>
                    </a:lnTo>
                    <a:lnTo>
                      <a:pt x="1570" y="169"/>
                    </a:lnTo>
                    <a:lnTo>
                      <a:pt x="1550" y="199"/>
                    </a:lnTo>
                    <a:lnTo>
                      <a:pt x="1534" y="232"/>
                    </a:lnTo>
                    <a:lnTo>
                      <a:pt x="1523" y="269"/>
                    </a:lnTo>
                    <a:lnTo>
                      <a:pt x="1581" y="594"/>
                    </a:lnTo>
                    <a:lnTo>
                      <a:pt x="1581" y="595"/>
                    </a:lnTo>
                    <a:lnTo>
                      <a:pt x="1584" y="600"/>
                    </a:lnTo>
                    <a:lnTo>
                      <a:pt x="1588" y="604"/>
                    </a:lnTo>
                    <a:lnTo>
                      <a:pt x="1596" y="614"/>
                    </a:lnTo>
                    <a:lnTo>
                      <a:pt x="1603" y="623"/>
                    </a:lnTo>
                    <a:lnTo>
                      <a:pt x="1613" y="634"/>
                    </a:lnTo>
                    <a:lnTo>
                      <a:pt x="1626" y="646"/>
                    </a:lnTo>
                    <a:lnTo>
                      <a:pt x="1641" y="660"/>
                    </a:lnTo>
                    <a:lnTo>
                      <a:pt x="1655" y="672"/>
                    </a:lnTo>
                    <a:lnTo>
                      <a:pt x="1674" y="684"/>
                    </a:lnTo>
                    <a:lnTo>
                      <a:pt x="1694" y="695"/>
                    </a:lnTo>
                    <a:lnTo>
                      <a:pt x="1716" y="707"/>
                    </a:lnTo>
                    <a:lnTo>
                      <a:pt x="1739" y="716"/>
                    </a:lnTo>
                    <a:lnTo>
                      <a:pt x="1766" y="725"/>
                    </a:lnTo>
                    <a:lnTo>
                      <a:pt x="1792" y="731"/>
                    </a:lnTo>
                    <a:lnTo>
                      <a:pt x="1823" y="736"/>
                    </a:lnTo>
                    <a:lnTo>
                      <a:pt x="2022" y="709"/>
                    </a:lnTo>
                    <a:lnTo>
                      <a:pt x="2022" y="708"/>
                    </a:lnTo>
                    <a:lnTo>
                      <a:pt x="2026" y="708"/>
                    </a:lnTo>
                    <a:lnTo>
                      <a:pt x="2029" y="706"/>
                    </a:lnTo>
                    <a:lnTo>
                      <a:pt x="2035" y="705"/>
                    </a:lnTo>
                    <a:lnTo>
                      <a:pt x="2040" y="702"/>
                    </a:lnTo>
                    <a:lnTo>
                      <a:pt x="2048" y="698"/>
                    </a:lnTo>
                    <a:lnTo>
                      <a:pt x="2054" y="696"/>
                    </a:lnTo>
                    <a:lnTo>
                      <a:pt x="2064" y="694"/>
                    </a:lnTo>
                    <a:lnTo>
                      <a:pt x="2072" y="688"/>
                    </a:lnTo>
                    <a:lnTo>
                      <a:pt x="2080" y="685"/>
                    </a:lnTo>
                    <a:lnTo>
                      <a:pt x="2088" y="681"/>
                    </a:lnTo>
                    <a:lnTo>
                      <a:pt x="2096" y="676"/>
                    </a:lnTo>
                    <a:lnTo>
                      <a:pt x="2102" y="672"/>
                    </a:lnTo>
                    <a:lnTo>
                      <a:pt x="2110" y="667"/>
                    </a:lnTo>
                    <a:lnTo>
                      <a:pt x="2114" y="662"/>
                    </a:lnTo>
                    <a:lnTo>
                      <a:pt x="2120" y="658"/>
                    </a:lnTo>
                    <a:lnTo>
                      <a:pt x="2252" y="534"/>
                    </a:lnTo>
                    <a:lnTo>
                      <a:pt x="2252" y="532"/>
                    </a:lnTo>
                    <a:lnTo>
                      <a:pt x="2256" y="530"/>
                    </a:lnTo>
                    <a:lnTo>
                      <a:pt x="2258" y="526"/>
                    </a:lnTo>
                    <a:lnTo>
                      <a:pt x="2265" y="521"/>
                    </a:lnTo>
                    <a:lnTo>
                      <a:pt x="2270" y="514"/>
                    </a:lnTo>
                    <a:lnTo>
                      <a:pt x="2278" y="506"/>
                    </a:lnTo>
                    <a:lnTo>
                      <a:pt x="2283" y="496"/>
                    </a:lnTo>
                    <a:lnTo>
                      <a:pt x="2292" y="486"/>
                    </a:lnTo>
                    <a:lnTo>
                      <a:pt x="2298" y="473"/>
                    </a:lnTo>
                    <a:lnTo>
                      <a:pt x="2304" y="457"/>
                    </a:lnTo>
                    <a:lnTo>
                      <a:pt x="2310" y="442"/>
                    </a:lnTo>
                    <a:lnTo>
                      <a:pt x="2315" y="424"/>
                    </a:lnTo>
                    <a:lnTo>
                      <a:pt x="2316" y="404"/>
                    </a:lnTo>
                    <a:lnTo>
                      <a:pt x="2319" y="383"/>
                    </a:lnTo>
                    <a:lnTo>
                      <a:pt x="2319" y="361"/>
                    </a:lnTo>
                    <a:lnTo>
                      <a:pt x="2316" y="338"/>
                    </a:lnTo>
                    <a:lnTo>
                      <a:pt x="2342" y="368"/>
                    </a:lnTo>
                    <a:lnTo>
                      <a:pt x="2342" y="369"/>
                    </a:lnTo>
                    <a:lnTo>
                      <a:pt x="2342" y="372"/>
                    </a:lnTo>
                    <a:lnTo>
                      <a:pt x="2342" y="379"/>
                    </a:lnTo>
                    <a:lnTo>
                      <a:pt x="2342" y="389"/>
                    </a:lnTo>
                    <a:lnTo>
                      <a:pt x="2341" y="400"/>
                    </a:lnTo>
                    <a:lnTo>
                      <a:pt x="2341" y="412"/>
                    </a:lnTo>
                    <a:lnTo>
                      <a:pt x="2339" y="425"/>
                    </a:lnTo>
                    <a:lnTo>
                      <a:pt x="2339" y="441"/>
                    </a:lnTo>
                    <a:lnTo>
                      <a:pt x="2334" y="454"/>
                    </a:lnTo>
                    <a:lnTo>
                      <a:pt x="2331" y="468"/>
                    </a:lnTo>
                    <a:lnTo>
                      <a:pt x="2326" y="483"/>
                    </a:lnTo>
                    <a:lnTo>
                      <a:pt x="2321" y="497"/>
                    </a:lnTo>
                    <a:lnTo>
                      <a:pt x="2314" y="509"/>
                    </a:lnTo>
                    <a:lnTo>
                      <a:pt x="2305" y="521"/>
                    </a:lnTo>
                    <a:lnTo>
                      <a:pt x="2295" y="530"/>
                    </a:lnTo>
                    <a:lnTo>
                      <a:pt x="2286" y="539"/>
                    </a:lnTo>
                    <a:lnTo>
                      <a:pt x="2137" y="663"/>
                    </a:lnTo>
                    <a:lnTo>
                      <a:pt x="2136" y="664"/>
                    </a:lnTo>
                    <a:lnTo>
                      <a:pt x="2134" y="669"/>
                    </a:lnTo>
                    <a:lnTo>
                      <a:pt x="2130" y="676"/>
                    </a:lnTo>
                    <a:lnTo>
                      <a:pt x="2122" y="685"/>
                    </a:lnTo>
                    <a:lnTo>
                      <a:pt x="2116" y="689"/>
                    </a:lnTo>
                    <a:lnTo>
                      <a:pt x="2110" y="694"/>
                    </a:lnTo>
                    <a:lnTo>
                      <a:pt x="2103" y="697"/>
                    </a:lnTo>
                    <a:lnTo>
                      <a:pt x="2095" y="703"/>
                    </a:lnTo>
                    <a:lnTo>
                      <a:pt x="2085" y="707"/>
                    </a:lnTo>
                    <a:lnTo>
                      <a:pt x="2074" y="710"/>
                    </a:lnTo>
                    <a:lnTo>
                      <a:pt x="2061" y="714"/>
                    </a:lnTo>
                    <a:lnTo>
                      <a:pt x="2048" y="718"/>
                    </a:lnTo>
                    <a:lnTo>
                      <a:pt x="1944" y="731"/>
                    </a:lnTo>
                    <a:lnTo>
                      <a:pt x="1894" y="754"/>
                    </a:lnTo>
                    <a:lnTo>
                      <a:pt x="1875" y="775"/>
                    </a:lnTo>
                    <a:lnTo>
                      <a:pt x="187" y="302"/>
                    </a:lnTo>
                    <a:lnTo>
                      <a:pt x="185" y="302"/>
                    </a:lnTo>
                    <a:lnTo>
                      <a:pt x="180" y="300"/>
                    </a:lnTo>
                    <a:lnTo>
                      <a:pt x="172" y="297"/>
                    </a:lnTo>
                    <a:lnTo>
                      <a:pt x="163" y="292"/>
                    </a:lnTo>
                    <a:lnTo>
                      <a:pt x="151" y="287"/>
                    </a:lnTo>
                    <a:lnTo>
                      <a:pt x="138" y="280"/>
                    </a:lnTo>
                    <a:lnTo>
                      <a:pt x="123" y="274"/>
                    </a:lnTo>
                    <a:lnTo>
                      <a:pt x="110" y="266"/>
                    </a:lnTo>
                    <a:lnTo>
                      <a:pt x="93" y="256"/>
                    </a:lnTo>
                    <a:lnTo>
                      <a:pt x="78" y="245"/>
                    </a:lnTo>
                    <a:lnTo>
                      <a:pt x="63" y="232"/>
                    </a:lnTo>
                    <a:lnTo>
                      <a:pt x="50" y="220"/>
                    </a:lnTo>
                    <a:lnTo>
                      <a:pt x="36" y="203"/>
                    </a:lnTo>
                    <a:lnTo>
                      <a:pt x="25" y="187"/>
                    </a:lnTo>
                    <a:lnTo>
                      <a:pt x="15" y="170"/>
                    </a:lnTo>
                    <a:lnTo>
                      <a:pt x="8" y="152"/>
                    </a:lnTo>
                    <a:lnTo>
                      <a:pt x="3" y="133"/>
                    </a:lnTo>
                    <a:lnTo>
                      <a:pt x="0" y="116"/>
                    </a:lnTo>
                    <a:lnTo>
                      <a:pt x="0" y="99"/>
                    </a:lnTo>
                    <a:lnTo>
                      <a:pt x="5" y="85"/>
                    </a:lnTo>
                    <a:lnTo>
                      <a:pt x="9" y="70"/>
                    </a:lnTo>
                    <a:lnTo>
                      <a:pt x="16" y="58"/>
                    </a:lnTo>
                    <a:lnTo>
                      <a:pt x="23" y="46"/>
                    </a:lnTo>
                    <a:lnTo>
                      <a:pt x="31" y="36"/>
                    </a:lnTo>
                    <a:lnTo>
                      <a:pt x="40" y="26"/>
                    </a:lnTo>
                    <a:lnTo>
                      <a:pt x="48" y="19"/>
                    </a:lnTo>
                    <a:lnTo>
                      <a:pt x="56" y="13"/>
                    </a:lnTo>
                    <a:lnTo>
                      <a:pt x="65" y="8"/>
                    </a:lnTo>
                    <a:lnTo>
                      <a:pt x="69" y="3"/>
                    </a:lnTo>
                    <a:lnTo>
                      <a:pt x="76" y="2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5c5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823680" y="4518000"/>
                <a:ext cx="119160" cy="61920"/>
              </a:xfrm>
              <a:custGeom>
                <a:avLst/>
                <a:gdLst/>
                <a:ahLst/>
                <a:rect l="l" t="t" r="r" b="b"/>
                <a:pathLst>
                  <a:path w="150" h="77">
                    <a:moveTo>
                      <a:pt x="0" y="16"/>
                    </a:moveTo>
                    <a:lnTo>
                      <a:pt x="3" y="16"/>
                    </a:lnTo>
                    <a:lnTo>
                      <a:pt x="8" y="16"/>
                    </a:lnTo>
                    <a:lnTo>
                      <a:pt x="15" y="16"/>
                    </a:lnTo>
                    <a:lnTo>
                      <a:pt x="23" y="16"/>
                    </a:lnTo>
                    <a:lnTo>
                      <a:pt x="33" y="17"/>
                    </a:lnTo>
                    <a:lnTo>
                      <a:pt x="42" y="19"/>
                    </a:lnTo>
                    <a:lnTo>
                      <a:pt x="54" y="22"/>
                    </a:lnTo>
                    <a:lnTo>
                      <a:pt x="65" y="23"/>
                    </a:lnTo>
                    <a:lnTo>
                      <a:pt x="76" y="27"/>
                    </a:lnTo>
                    <a:lnTo>
                      <a:pt x="87" y="33"/>
                    </a:lnTo>
                    <a:lnTo>
                      <a:pt x="99" y="38"/>
                    </a:lnTo>
                    <a:lnTo>
                      <a:pt x="109" y="45"/>
                    </a:lnTo>
                    <a:lnTo>
                      <a:pt x="119" y="55"/>
                    </a:lnTo>
                    <a:lnTo>
                      <a:pt x="128" y="64"/>
                    </a:lnTo>
                    <a:lnTo>
                      <a:pt x="137" y="77"/>
                    </a:lnTo>
                    <a:lnTo>
                      <a:pt x="150" y="57"/>
                    </a:lnTo>
                    <a:lnTo>
                      <a:pt x="148" y="53"/>
                    </a:lnTo>
                    <a:lnTo>
                      <a:pt x="140" y="45"/>
                    </a:lnTo>
                    <a:lnTo>
                      <a:pt x="134" y="40"/>
                    </a:lnTo>
                    <a:lnTo>
                      <a:pt x="128" y="34"/>
                    </a:lnTo>
                    <a:lnTo>
                      <a:pt x="121" y="30"/>
                    </a:lnTo>
                    <a:lnTo>
                      <a:pt x="113" y="24"/>
                    </a:lnTo>
                    <a:lnTo>
                      <a:pt x="102" y="19"/>
                    </a:lnTo>
                    <a:lnTo>
                      <a:pt x="91" y="13"/>
                    </a:lnTo>
                    <a:lnTo>
                      <a:pt x="79" y="9"/>
                    </a:lnTo>
                    <a:lnTo>
                      <a:pt x="66" y="4"/>
                    </a:lnTo>
                    <a:lnTo>
                      <a:pt x="50" y="1"/>
                    </a:lnTo>
                    <a:lnTo>
                      <a:pt x="35" y="0"/>
                    </a:lnTo>
                    <a:lnTo>
                      <a:pt x="18" y="0"/>
                    </a:lnTo>
                    <a:lnTo>
                      <a:pt x="1" y="2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1687320" y="4451400"/>
                <a:ext cx="833400" cy="225360"/>
              </a:xfrm>
              <a:custGeom>
                <a:avLst/>
                <a:gdLst/>
                <a:ahLst/>
                <a:rect l="l" t="t" r="r" b="b"/>
                <a:pathLst>
                  <a:path w="1050" h="283">
                    <a:moveTo>
                      <a:pt x="0" y="283"/>
                    </a:moveTo>
                    <a:lnTo>
                      <a:pt x="0" y="281"/>
                    </a:lnTo>
                    <a:lnTo>
                      <a:pt x="4" y="277"/>
                    </a:lnTo>
                    <a:lnTo>
                      <a:pt x="10" y="271"/>
                    </a:lnTo>
                    <a:lnTo>
                      <a:pt x="16" y="264"/>
                    </a:lnTo>
                    <a:lnTo>
                      <a:pt x="24" y="254"/>
                    </a:lnTo>
                    <a:lnTo>
                      <a:pt x="34" y="244"/>
                    </a:lnTo>
                    <a:lnTo>
                      <a:pt x="45" y="233"/>
                    </a:lnTo>
                    <a:lnTo>
                      <a:pt x="56" y="223"/>
                    </a:lnTo>
                    <a:lnTo>
                      <a:pt x="68" y="211"/>
                    </a:lnTo>
                    <a:lnTo>
                      <a:pt x="82" y="201"/>
                    </a:lnTo>
                    <a:lnTo>
                      <a:pt x="95" y="190"/>
                    </a:lnTo>
                    <a:lnTo>
                      <a:pt x="109" y="182"/>
                    </a:lnTo>
                    <a:lnTo>
                      <a:pt x="121" y="173"/>
                    </a:lnTo>
                    <a:lnTo>
                      <a:pt x="135" y="168"/>
                    </a:lnTo>
                    <a:lnTo>
                      <a:pt x="147" y="164"/>
                    </a:lnTo>
                    <a:lnTo>
                      <a:pt x="159" y="163"/>
                    </a:lnTo>
                    <a:lnTo>
                      <a:pt x="103" y="226"/>
                    </a:lnTo>
                    <a:lnTo>
                      <a:pt x="351" y="115"/>
                    </a:lnTo>
                    <a:lnTo>
                      <a:pt x="294" y="171"/>
                    </a:lnTo>
                    <a:lnTo>
                      <a:pt x="506" y="98"/>
                    </a:lnTo>
                    <a:lnTo>
                      <a:pt x="437" y="158"/>
                    </a:lnTo>
                    <a:lnTo>
                      <a:pt x="647" y="63"/>
                    </a:lnTo>
                    <a:lnTo>
                      <a:pt x="586" y="131"/>
                    </a:lnTo>
                    <a:lnTo>
                      <a:pt x="801" y="33"/>
                    </a:lnTo>
                    <a:lnTo>
                      <a:pt x="742" y="103"/>
                    </a:lnTo>
                    <a:lnTo>
                      <a:pt x="945" y="16"/>
                    </a:lnTo>
                    <a:lnTo>
                      <a:pt x="898" y="84"/>
                    </a:lnTo>
                    <a:lnTo>
                      <a:pt x="1050" y="0"/>
                    </a:lnTo>
                    <a:lnTo>
                      <a:pt x="1031" y="56"/>
                    </a:lnTo>
                    <a:lnTo>
                      <a:pt x="0" y="283"/>
                    </a:lnTo>
                    <a:lnTo>
                      <a:pt x="0" y="283"/>
                    </a:lnTo>
                    <a:close/>
                  </a:path>
                </a:pathLst>
              </a:custGeom>
              <a:solidFill>
                <a:srgbClr val="5c5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1233720" y="3770280"/>
                <a:ext cx="1494000" cy="957240"/>
              </a:xfrm>
              <a:custGeom>
                <a:avLst/>
                <a:gdLst/>
                <a:ahLst/>
                <a:rect l="l" t="t" r="r" b="b"/>
                <a:pathLst>
                  <a:path w="1883" h="1207">
                    <a:moveTo>
                      <a:pt x="156" y="0"/>
                    </a:moveTo>
                    <a:lnTo>
                      <a:pt x="122" y="41"/>
                    </a:lnTo>
                    <a:lnTo>
                      <a:pt x="659" y="55"/>
                    </a:lnTo>
                    <a:lnTo>
                      <a:pt x="663" y="55"/>
                    </a:lnTo>
                    <a:lnTo>
                      <a:pt x="669" y="55"/>
                    </a:lnTo>
                    <a:lnTo>
                      <a:pt x="677" y="57"/>
                    </a:lnTo>
                    <a:lnTo>
                      <a:pt x="684" y="58"/>
                    </a:lnTo>
                    <a:lnTo>
                      <a:pt x="694" y="62"/>
                    </a:lnTo>
                    <a:lnTo>
                      <a:pt x="705" y="63"/>
                    </a:lnTo>
                    <a:lnTo>
                      <a:pt x="716" y="68"/>
                    </a:lnTo>
                    <a:lnTo>
                      <a:pt x="726" y="72"/>
                    </a:lnTo>
                    <a:lnTo>
                      <a:pt x="736" y="77"/>
                    </a:lnTo>
                    <a:lnTo>
                      <a:pt x="744" y="84"/>
                    </a:lnTo>
                    <a:lnTo>
                      <a:pt x="753" y="91"/>
                    </a:lnTo>
                    <a:lnTo>
                      <a:pt x="760" y="98"/>
                    </a:lnTo>
                    <a:lnTo>
                      <a:pt x="764" y="108"/>
                    </a:lnTo>
                    <a:lnTo>
                      <a:pt x="767" y="119"/>
                    </a:lnTo>
                    <a:lnTo>
                      <a:pt x="768" y="131"/>
                    </a:lnTo>
                    <a:lnTo>
                      <a:pt x="764" y="142"/>
                    </a:lnTo>
                    <a:lnTo>
                      <a:pt x="758" y="153"/>
                    </a:lnTo>
                    <a:lnTo>
                      <a:pt x="748" y="164"/>
                    </a:lnTo>
                    <a:lnTo>
                      <a:pt x="737" y="175"/>
                    </a:lnTo>
                    <a:lnTo>
                      <a:pt x="722" y="184"/>
                    </a:lnTo>
                    <a:lnTo>
                      <a:pt x="706" y="194"/>
                    </a:lnTo>
                    <a:lnTo>
                      <a:pt x="691" y="202"/>
                    </a:lnTo>
                    <a:lnTo>
                      <a:pt x="674" y="211"/>
                    </a:lnTo>
                    <a:lnTo>
                      <a:pt x="657" y="216"/>
                    </a:lnTo>
                    <a:lnTo>
                      <a:pt x="640" y="223"/>
                    </a:lnTo>
                    <a:lnTo>
                      <a:pt x="626" y="227"/>
                    </a:lnTo>
                    <a:lnTo>
                      <a:pt x="613" y="233"/>
                    </a:lnTo>
                    <a:lnTo>
                      <a:pt x="600" y="235"/>
                    </a:lnTo>
                    <a:lnTo>
                      <a:pt x="592" y="238"/>
                    </a:lnTo>
                    <a:lnTo>
                      <a:pt x="586" y="241"/>
                    </a:lnTo>
                    <a:lnTo>
                      <a:pt x="585" y="242"/>
                    </a:lnTo>
                    <a:lnTo>
                      <a:pt x="191" y="321"/>
                    </a:lnTo>
                    <a:lnTo>
                      <a:pt x="189" y="321"/>
                    </a:lnTo>
                    <a:lnTo>
                      <a:pt x="182" y="324"/>
                    </a:lnTo>
                    <a:lnTo>
                      <a:pt x="173" y="327"/>
                    </a:lnTo>
                    <a:lnTo>
                      <a:pt x="160" y="331"/>
                    </a:lnTo>
                    <a:lnTo>
                      <a:pt x="145" y="337"/>
                    </a:lnTo>
                    <a:lnTo>
                      <a:pt x="128" y="345"/>
                    </a:lnTo>
                    <a:lnTo>
                      <a:pt x="111" y="353"/>
                    </a:lnTo>
                    <a:lnTo>
                      <a:pt x="93" y="367"/>
                    </a:lnTo>
                    <a:lnTo>
                      <a:pt x="75" y="379"/>
                    </a:lnTo>
                    <a:lnTo>
                      <a:pt x="56" y="394"/>
                    </a:lnTo>
                    <a:lnTo>
                      <a:pt x="41" y="411"/>
                    </a:lnTo>
                    <a:lnTo>
                      <a:pt x="27" y="432"/>
                    </a:lnTo>
                    <a:lnTo>
                      <a:pt x="14" y="453"/>
                    </a:lnTo>
                    <a:lnTo>
                      <a:pt x="6" y="477"/>
                    </a:lnTo>
                    <a:lnTo>
                      <a:pt x="0" y="503"/>
                    </a:lnTo>
                    <a:lnTo>
                      <a:pt x="0" y="534"/>
                    </a:lnTo>
                    <a:lnTo>
                      <a:pt x="6" y="560"/>
                    </a:lnTo>
                    <a:lnTo>
                      <a:pt x="20" y="586"/>
                    </a:lnTo>
                    <a:lnTo>
                      <a:pt x="42" y="606"/>
                    </a:lnTo>
                    <a:lnTo>
                      <a:pt x="70" y="624"/>
                    </a:lnTo>
                    <a:lnTo>
                      <a:pt x="102" y="640"/>
                    </a:lnTo>
                    <a:lnTo>
                      <a:pt x="138" y="652"/>
                    </a:lnTo>
                    <a:lnTo>
                      <a:pt x="177" y="661"/>
                    </a:lnTo>
                    <a:lnTo>
                      <a:pt x="217" y="670"/>
                    </a:lnTo>
                    <a:lnTo>
                      <a:pt x="255" y="675"/>
                    </a:lnTo>
                    <a:lnTo>
                      <a:pt x="294" y="679"/>
                    </a:lnTo>
                    <a:lnTo>
                      <a:pt x="330" y="681"/>
                    </a:lnTo>
                    <a:lnTo>
                      <a:pt x="363" y="683"/>
                    </a:lnTo>
                    <a:lnTo>
                      <a:pt x="389" y="683"/>
                    </a:lnTo>
                    <a:lnTo>
                      <a:pt x="410" y="684"/>
                    </a:lnTo>
                    <a:lnTo>
                      <a:pt x="425" y="684"/>
                    </a:lnTo>
                    <a:lnTo>
                      <a:pt x="430" y="685"/>
                    </a:lnTo>
                    <a:lnTo>
                      <a:pt x="930" y="736"/>
                    </a:lnTo>
                    <a:lnTo>
                      <a:pt x="932" y="736"/>
                    </a:lnTo>
                    <a:lnTo>
                      <a:pt x="938" y="737"/>
                    </a:lnTo>
                    <a:lnTo>
                      <a:pt x="946" y="739"/>
                    </a:lnTo>
                    <a:lnTo>
                      <a:pt x="960" y="744"/>
                    </a:lnTo>
                    <a:lnTo>
                      <a:pt x="974" y="746"/>
                    </a:lnTo>
                    <a:lnTo>
                      <a:pt x="989" y="751"/>
                    </a:lnTo>
                    <a:lnTo>
                      <a:pt x="1005" y="756"/>
                    </a:lnTo>
                    <a:lnTo>
                      <a:pt x="1023" y="764"/>
                    </a:lnTo>
                    <a:lnTo>
                      <a:pt x="1037" y="769"/>
                    </a:lnTo>
                    <a:lnTo>
                      <a:pt x="1050" y="776"/>
                    </a:lnTo>
                    <a:lnTo>
                      <a:pt x="1061" y="782"/>
                    </a:lnTo>
                    <a:lnTo>
                      <a:pt x="1070" y="791"/>
                    </a:lnTo>
                    <a:lnTo>
                      <a:pt x="1072" y="799"/>
                    </a:lnTo>
                    <a:lnTo>
                      <a:pt x="1072" y="807"/>
                    </a:lnTo>
                    <a:lnTo>
                      <a:pt x="1067" y="816"/>
                    </a:lnTo>
                    <a:lnTo>
                      <a:pt x="1057" y="826"/>
                    </a:lnTo>
                    <a:lnTo>
                      <a:pt x="1037" y="833"/>
                    </a:lnTo>
                    <a:lnTo>
                      <a:pt x="1013" y="841"/>
                    </a:lnTo>
                    <a:lnTo>
                      <a:pt x="982" y="850"/>
                    </a:lnTo>
                    <a:lnTo>
                      <a:pt x="947" y="860"/>
                    </a:lnTo>
                    <a:lnTo>
                      <a:pt x="910" y="868"/>
                    </a:lnTo>
                    <a:lnTo>
                      <a:pt x="869" y="875"/>
                    </a:lnTo>
                    <a:lnTo>
                      <a:pt x="828" y="884"/>
                    </a:lnTo>
                    <a:lnTo>
                      <a:pt x="786" y="892"/>
                    </a:lnTo>
                    <a:lnTo>
                      <a:pt x="745" y="897"/>
                    </a:lnTo>
                    <a:lnTo>
                      <a:pt x="706" y="904"/>
                    </a:lnTo>
                    <a:lnTo>
                      <a:pt x="670" y="908"/>
                    </a:lnTo>
                    <a:lnTo>
                      <a:pt x="640" y="915"/>
                    </a:lnTo>
                    <a:lnTo>
                      <a:pt x="614" y="918"/>
                    </a:lnTo>
                    <a:lnTo>
                      <a:pt x="593" y="922"/>
                    </a:lnTo>
                    <a:lnTo>
                      <a:pt x="580" y="924"/>
                    </a:lnTo>
                    <a:lnTo>
                      <a:pt x="577" y="925"/>
                    </a:lnTo>
                    <a:lnTo>
                      <a:pt x="572" y="925"/>
                    </a:lnTo>
                    <a:lnTo>
                      <a:pt x="562" y="927"/>
                    </a:lnTo>
                    <a:lnTo>
                      <a:pt x="545" y="929"/>
                    </a:lnTo>
                    <a:lnTo>
                      <a:pt x="523" y="934"/>
                    </a:lnTo>
                    <a:lnTo>
                      <a:pt x="498" y="937"/>
                    </a:lnTo>
                    <a:lnTo>
                      <a:pt x="468" y="943"/>
                    </a:lnTo>
                    <a:lnTo>
                      <a:pt x="437" y="949"/>
                    </a:lnTo>
                    <a:lnTo>
                      <a:pt x="405" y="955"/>
                    </a:lnTo>
                    <a:lnTo>
                      <a:pt x="370" y="960"/>
                    </a:lnTo>
                    <a:lnTo>
                      <a:pt x="338" y="966"/>
                    </a:lnTo>
                    <a:lnTo>
                      <a:pt x="306" y="973"/>
                    </a:lnTo>
                    <a:lnTo>
                      <a:pt x="279" y="978"/>
                    </a:lnTo>
                    <a:lnTo>
                      <a:pt x="251" y="984"/>
                    </a:lnTo>
                    <a:lnTo>
                      <a:pt x="230" y="988"/>
                    </a:lnTo>
                    <a:lnTo>
                      <a:pt x="213" y="992"/>
                    </a:lnTo>
                    <a:lnTo>
                      <a:pt x="203" y="997"/>
                    </a:lnTo>
                    <a:lnTo>
                      <a:pt x="195" y="999"/>
                    </a:lnTo>
                    <a:lnTo>
                      <a:pt x="187" y="1001"/>
                    </a:lnTo>
                    <a:lnTo>
                      <a:pt x="179" y="1006"/>
                    </a:lnTo>
                    <a:lnTo>
                      <a:pt x="170" y="1011"/>
                    </a:lnTo>
                    <a:lnTo>
                      <a:pt x="161" y="1016"/>
                    </a:lnTo>
                    <a:lnTo>
                      <a:pt x="153" y="1022"/>
                    </a:lnTo>
                    <a:lnTo>
                      <a:pt x="144" y="1028"/>
                    </a:lnTo>
                    <a:lnTo>
                      <a:pt x="135" y="1035"/>
                    </a:lnTo>
                    <a:lnTo>
                      <a:pt x="126" y="1041"/>
                    </a:lnTo>
                    <a:lnTo>
                      <a:pt x="117" y="1047"/>
                    </a:lnTo>
                    <a:lnTo>
                      <a:pt x="110" y="1053"/>
                    </a:lnTo>
                    <a:lnTo>
                      <a:pt x="102" y="1060"/>
                    </a:lnTo>
                    <a:lnTo>
                      <a:pt x="94" y="1065"/>
                    </a:lnTo>
                    <a:lnTo>
                      <a:pt x="89" y="1071"/>
                    </a:lnTo>
                    <a:lnTo>
                      <a:pt x="82" y="1078"/>
                    </a:lnTo>
                    <a:lnTo>
                      <a:pt x="77" y="1083"/>
                    </a:lnTo>
                    <a:lnTo>
                      <a:pt x="80" y="1109"/>
                    </a:lnTo>
                    <a:lnTo>
                      <a:pt x="81" y="1104"/>
                    </a:lnTo>
                    <a:lnTo>
                      <a:pt x="89" y="1096"/>
                    </a:lnTo>
                    <a:lnTo>
                      <a:pt x="92" y="1090"/>
                    </a:lnTo>
                    <a:lnTo>
                      <a:pt x="98" y="1083"/>
                    </a:lnTo>
                    <a:lnTo>
                      <a:pt x="105" y="1077"/>
                    </a:lnTo>
                    <a:lnTo>
                      <a:pt x="114" y="1070"/>
                    </a:lnTo>
                    <a:lnTo>
                      <a:pt x="122" y="1060"/>
                    </a:lnTo>
                    <a:lnTo>
                      <a:pt x="133" y="1052"/>
                    </a:lnTo>
                    <a:lnTo>
                      <a:pt x="143" y="1044"/>
                    </a:lnTo>
                    <a:lnTo>
                      <a:pt x="156" y="1037"/>
                    </a:lnTo>
                    <a:lnTo>
                      <a:pt x="168" y="1029"/>
                    </a:lnTo>
                    <a:lnTo>
                      <a:pt x="181" y="1023"/>
                    </a:lnTo>
                    <a:lnTo>
                      <a:pt x="196" y="1016"/>
                    </a:lnTo>
                    <a:lnTo>
                      <a:pt x="212" y="1011"/>
                    </a:lnTo>
                    <a:lnTo>
                      <a:pt x="234" y="1005"/>
                    </a:lnTo>
                    <a:lnTo>
                      <a:pt x="270" y="998"/>
                    </a:lnTo>
                    <a:lnTo>
                      <a:pt x="316" y="988"/>
                    </a:lnTo>
                    <a:lnTo>
                      <a:pt x="373" y="977"/>
                    </a:lnTo>
                    <a:lnTo>
                      <a:pt x="433" y="965"/>
                    </a:lnTo>
                    <a:lnTo>
                      <a:pt x="501" y="954"/>
                    </a:lnTo>
                    <a:lnTo>
                      <a:pt x="572" y="941"/>
                    </a:lnTo>
                    <a:lnTo>
                      <a:pt x="645" y="928"/>
                    </a:lnTo>
                    <a:lnTo>
                      <a:pt x="714" y="915"/>
                    </a:lnTo>
                    <a:lnTo>
                      <a:pt x="783" y="903"/>
                    </a:lnTo>
                    <a:lnTo>
                      <a:pt x="846" y="891"/>
                    </a:lnTo>
                    <a:lnTo>
                      <a:pt x="903" y="882"/>
                    </a:lnTo>
                    <a:lnTo>
                      <a:pt x="952" y="872"/>
                    </a:lnTo>
                    <a:lnTo>
                      <a:pt x="991" y="865"/>
                    </a:lnTo>
                    <a:lnTo>
                      <a:pt x="1016" y="861"/>
                    </a:lnTo>
                    <a:lnTo>
                      <a:pt x="1029" y="859"/>
                    </a:lnTo>
                    <a:lnTo>
                      <a:pt x="1035" y="855"/>
                    </a:lnTo>
                    <a:lnTo>
                      <a:pt x="1041" y="852"/>
                    </a:lnTo>
                    <a:lnTo>
                      <a:pt x="1049" y="848"/>
                    </a:lnTo>
                    <a:lnTo>
                      <a:pt x="1059" y="843"/>
                    </a:lnTo>
                    <a:lnTo>
                      <a:pt x="1067" y="838"/>
                    </a:lnTo>
                    <a:lnTo>
                      <a:pt x="1076" y="831"/>
                    </a:lnTo>
                    <a:lnTo>
                      <a:pt x="1082" y="824"/>
                    </a:lnTo>
                    <a:lnTo>
                      <a:pt x="1088" y="817"/>
                    </a:lnTo>
                    <a:lnTo>
                      <a:pt x="1090" y="808"/>
                    </a:lnTo>
                    <a:lnTo>
                      <a:pt x="1089" y="799"/>
                    </a:lnTo>
                    <a:lnTo>
                      <a:pt x="1085" y="789"/>
                    </a:lnTo>
                    <a:lnTo>
                      <a:pt x="1077" y="780"/>
                    </a:lnTo>
                    <a:lnTo>
                      <a:pt x="1062" y="768"/>
                    </a:lnTo>
                    <a:lnTo>
                      <a:pt x="1045" y="758"/>
                    </a:lnTo>
                    <a:lnTo>
                      <a:pt x="1020" y="747"/>
                    </a:lnTo>
                    <a:lnTo>
                      <a:pt x="991" y="736"/>
                    </a:lnTo>
                    <a:lnTo>
                      <a:pt x="985" y="735"/>
                    </a:lnTo>
                    <a:lnTo>
                      <a:pt x="974" y="734"/>
                    </a:lnTo>
                    <a:lnTo>
                      <a:pt x="955" y="729"/>
                    </a:lnTo>
                    <a:lnTo>
                      <a:pt x="931" y="726"/>
                    </a:lnTo>
                    <a:lnTo>
                      <a:pt x="900" y="721"/>
                    </a:lnTo>
                    <a:lnTo>
                      <a:pt x="865" y="715"/>
                    </a:lnTo>
                    <a:lnTo>
                      <a:pt x="826" y="709"/>
                    </a:lnTo>
                    <a:lnTo>
                      <a:pt x="785" y="704"/>
                    </a:lnTo>
                    <a:lnTo>
                      <a:pt x="740" y="698"/>
                    </a:lnTo>
                    <a:lnTo>
                      <a:pt x="692" y="692"/>
                    </a:lnTo>
                    <a:lnTo>
                      <a:pt x="642" y="686"/>
                    </a:lnTo>
                    <a:lnTo>
                      <a:pt x="594" y="681"/>
                    </a:lnTo>
                    <a:lnTo>
                      <a:pt x="545" y="675"/>
                    </a:lnTo>
                    <a:lnTo>
                      <a:pt x="496" y="673"/>
                    </a:lnTo>
                    <a:lnTo>
                      <a:pt x="449" y="670"/>
                    </a:lnTo>
                    <a:lnTo>
                      <a:pt x="406" y="670"/>
                    </a:lnTo>
                    <a:lnTo>
                      <a:pt x="400" y="669"/>
                    </a:lnTo>
                    <a:lnTo>
                      <a:pt x="389" y="669"/>
                    </a:lnTo>
                    <a:lnTo>
                      <a:pt x="372" y="667"/>
                    </a:lnTo>
                    <a:lnTo>
                      <a:pt x="348" y="666"/>
                    </a:lnTo>
                    <a:lnTo>
                      <a:pt x="320" y="664"/>
                    </a:lnTo>
                    <a:lnTo>
                      <a:pt x="290" y="661"/>
                    </a:lnTo>
                    <a:lnTo>
                      <a:pt x="255" y="656"/>
                    </a:lnTo>
                    <a:lnTo>
                      <a:pt x="222" y="652"/>
                    </a:lnTo>
                    <a:lnTo>
                      <a:pt x="187" y="644"/>
                    </a:lnTo>
                    <a:lnTo>
                      <a:pt x="153" y="635"/>
                    </a:lnTo>
                    <a:lnTo>
                      <a:pt x="121" y="625"/>
                    </a:lnTo>
                    <a:lnTo>
                      <a:pt x="91" y="613"/>
                    </a:lnTo>
                    <a:lnTo>
                      <a:pt x="65" y="598"/>
                    </a:lnTo>
                    <a:lnTo>
                      <a:pt x="44" y="581"/>
                    </a:lnTo>
                    <a:lnTo>
                      <a:pt x="30" y="560"/>
                    </a:lnTo>
                    <a:lnTo>
                      <a:pt x="22" y="539"/>
                    </a:lnTo>
                    <a:lnTo>
                      <a:pt x="20" y="515"/>
                    </a:lnTo>
                    <a:lnTo>
                      <a:pt x="20" y="494"/>
                    </a:lnTo>
                    <a:lnTo>
                      <a:pt x="26" y="474"/>
                    </a:lnTo>
                    <a:lnTo>
                      <a:pt x="33" y="455"/>
                    </a:lnTo>
                    <a:lnTo>
                      <a:pt x="43" y="438"/>
                    </a:lnTo>
                    <a:lnTo>
                      <a:pt x="54" y="421"/>
                    </a:lnTo>
                    <a:lnTo>
                      <a:pt x="69" y="407"/>
                    </a:lnTo>
                    <a:lnTo>
                      <a:pt x="84" y="394"/>
                    </a:lnTo>
                    <a:lnTo>
                      <a:pt x="100" y="381"/>
                    </a:lnTo>
                    <a:lnTo>
                      <a:pt x="115" y="371"/>
                    </a:lnTo>
                    <a:lnTo>
                      <a:pt x="131" y="361"/>
                    </a:lnTo>
                    <a:lnTo>
                      <a:pt x="146" y="353"/>
                    </a:lnTo>
                    <a:lnTo>
                      <a:pt x="160" y="347"/>
                    </a:lnTo>
                    <a:lnTo>
                      <a:pt x="174" y="341"/>
                    </a:lnTo>
                    <a:lnTo>
                      <a:pt x="185" y="338"/>
                    </a:lnTo>
                    <a:lnTo>
                      <a:pt x="194" y="337"/>
                    </a:lnTo>
                    <a:lnTo>
                      <a:pt x="203" y="334"/>
                    </a:lnTo>
                    <a:lnTo>
                      <a:pt x="221" y="330"/>
                    </a:lnTo>
                    <a:lnTo>
                      <a:pt x="243" y="326"/>
                    </a:lnTo>
                    <a:lnTo>
                      <a:pt x="271" y="320"/>
                    </a:lnTo>
                    <a:lnTo>
                      <a:pt x="301" y="315"/>
                    </a:lnTo>
                    <a:lnTo>
                      <a:pt x="334" y="308"/>
                    </a:lnTo>
                    <a:lnTo>
                      <a:pt x="368" y="302"/>
                    </a:lnTo>
                    <a:lnTo>
                      <a:pt x="404" y="295"/>
                    </a:lnTo>
                    <a:lnTo>
                      <a:pt x="437" y="288"/>
                    </a:lnTo>
                    <a:lnTo>
                      <a:pt x="470" y="282"/>
                    </a:lnTo>
                    <a:lnTo>
                      <a:pt x="500" y="275"/>
                    </a:lnTo>
                    <a:lnTo>
                      <a:pt x="529" y="271"/>
                    </a:lnTo>
                    <a:lnTo>
                      <a:pt x="552" y="266"/>
                    </a:lnTo>
                    <a:lnTo>
                      <a:pt x="568" y="263"/>
                    </a:lnTo>
                    <a:lnTo>
                      <a:pt x="580" y="261"/>
                    </a:lnTo>
                    <a:lnTo>
                      <a:pt x="585" y="261"/>
                    </a:lnTo>
                    <a:lnTo>
                      <a:pt x="587" y="260"/>
                    </a:lnTo>
                    <a:lnTo>
                      <a:pt x="593" y="258"/>
                    </a:lnTo>
                    <a:lnTo>
                      <a:pt x="603" y="256"/>
                    </a:lnTo>
                    <a:lnTo>
                      <a:pt x="615" y="254"/>
                    </a:lnTo>
                    <a:lnTo>
                      <a:pt x="629" y="248"/>
                    </a:lnTo>
                    <a:lnTo>
                      <a:pt x="647" y="244"/>
                    </a:lnTo>
                    <a:lnTo>
                      <a:pt x="664" y="237"/>
                    </a:lnTo>
                    <a:lnTo>
                      <a:pt x="683" y="232"/>
                    </a:lnTo>
                    <a:lnTo>
                      <a:pt x="702" y="223"/>
                    </a:lnTo>
                    <a:lnTo>
                      <a:pt x="720" y="213"/>
                    </a:lnTo>
                    <a:lnTo>
                      <a:pt x="736" y="202"/>
                    </a:lnTo>
                    <a:lnTo>
                      <a:pt x="752" y="191"/>
                    </a:lnTo>
                    <a:lnTo>
                      <a:pt x="764" y="178"/>
                    </a:lnTo>
                    <a:lnTo>
                      <a:pt x="774" y="164"/>
                    </a:lnTo>
                    <a:lnTo>
                      <a:pt x="781" y="149"/>
                    </a:lnTo>
                    <a:lnTo>
                      <a:pt x="784" y="132"/>
                    </a:lnTo>
                    <a:lnTo>
                      <a:pt x="781" y="115"/>
                    </a:lnTo>
                    <a:lnTo>
                      <a:pt x="775" y="100"/>
                    </a:lnTo>
                    <a:lnTo>
                      <a:pt x="767" y="87"/>
                    </a:lnTo>
                    <a:lnTo>
                      <a:pt x="758" y="77"/>
                    </a:lnTo>
                    <a:lnTo>
                      <a:pt x="746" y="67"/>
                    </a:lnTo>
                    <a:lnTo>
                      <a:pt x="734" y="61"/>
                    </a:lnTo>
                    <a:lnTo>
                      <a:pt x="721" y="54"/>
                    </a:lnTo>
                    <a:lnTo>
                      <a:pt x="708" y="51"/>
                    </a:lnTo>
                    <a:lnTo>
                      <a:pt x="694" y="46"/>
                    </a:lnTo>
                    <a:lnTo>
                      <a:pt x="681" y="43"/>
                    </a:lnTo>
                    <a:lnTo>
                      <a:pt x="669" y="41"/>
                    </a:lnTo>
                    <a:lnTo>
                      <a:pt x="659" y="39"/>
                    </a:lnTo>
                    <a:lnTo>
                      <a:pt x="648" y="38"/>
                    </a:lnTo>
                    <a:lnTo>
                      <a:pt x="641" y="38"/>
                    </a:lnTo>
                    <a:lnTo>
                      <a:pt x="637" y="38"/>
                    </a:lnTo>
                    <a:lnTo>
                      <a:pt x="637" y="39"/>
                    </a:lnTo>
                    <a:lnTo>
                      <a:pt x="140" y="31"/>
                    </a:lnTo>
                    <a:lnTo>
                      <a:pt x="157" y="13"/>
                    </a:lnTo>
                    <a:lnTo>
                      <a:pt x="161" y="12"/>
                    </a:lnTo>
                    <a:lnTo>
                      <a:pt x="180" y="11"/>
                    </a:lnTo>
                    <a:lnTo>
                      <a:pt x="208" y="10"/>
                    </a:lnTo>
                    <a:lnTo>
                      <a:pt x="245" y="10"/>
                    </a:lnTo>
                    <a:lnTo>
                      <a:pt x="288" y="9"/>
                    </a:lnTo>
                    <a:lnTo>
                      <a:pt x="337" y="7"/>
                    </a:lnTo>
                    <a:lnTo>
                      <a:pt x="390" y="7"/>
                    </a:lnTo>
                    <a:lnTo>
                      <a:pt x="447" y="9"/>
                    </a:lnTo>
                    <a:lnTo>
                      <a:pt x="502" y="9"/>
                    </a:lnTo>
                    <a:lnTo>
                      <a:pt x="557" y="10"/>
                    </a:lnTo>
                    <a:lnTo>
                      <a:pt x="610" y="11"/>
                    </a:lnTo>
                    <a:lnTo>
                      <a:pt x="660" y="14"/>
                    </a:lnTo>
                    <a:lnTo>
                      <a:pt x="704" y="16"/>
                    </a:lnTo>
                    <a:lnTo>
                      <a:pt x="741" y="22"/>
                    </a:lnTo>
                    <a:lnTo>
                      <a:pt x="770" y="27"/>
                    </a:lnTo>
                    <a:lnTo>
                      <a:pt x="789" y="36"/>
                    </a:lnTo>
                    <a:lnTo>
                      <a:pt x="800" y="44"/>
                    </a:lnTo>
                    <a:lnTo>
                      <a:pt x="812" y="53"/>
                    </a:lnTo>
                    <a:lnTo>
                      <a:pt x="819" y="63"/>
                    </a:lnTo>
                    <a:lnTo>
                      <a:pt x="828" y="75"/>
                    </a:lnTo>
                    <a:lnTo>
                      <a:pt x="833" y="86"/>
                    </a:lnTo>
                    <a:lnTo>
                      <a:pt x="836" y="99"/>
                    </a:lnTo>
                    <a:lnTo>
                      <a:pt x="838" y="112"/>
                    </a:lnTo>
                    <a:lnTo>
                      <a:pt x="839" y="127"/>
                    </a:lnTo>
                    <a:lnTo>
                      <a:pt x="836" y="140"/>
                    </a:lnTo>
                    <a:lnTo>
                      <a:pt x="831" y="153"/>
                    </a:lnTo>
                    <a:lnTo>
                      <a:pt x="826" y="167"/>
                    </a:lnTo>
                    <a:lnTo>
                      <a:pt x="819" y="181"/>
                    </a:lnTo>
                    <a:lnTo>
                      <a:pt x="808" y="194"/>
                    </a:lnTo>
                    <a:lnTo>
                      <a:pt x="797" y="208"/>
                    </a:lnTo>
                    <a:lnTo>
                      <a:pt x="782" y="220"/>
                    </a:lnTo>
                    <a:lnTo>
                      <a:pt x="766" y="233"/>
                    </a:lnTo>
                    <a:lnTo>
                      <a:pt x="746" y="244"/>
                    </a:lnTo>
                    <a:lnTo>
                      <a:pt x="724" y="256"/>
                    </a:lnTo>
                    <a:lnTo>
                      <a:pt x="698" y="268"/>
                    </a:lnTo>
                    <a:lnTo>
                      <a:pt x="671" y="281"/>
                    </a:lnTo>
                    <a:lnTo>
                      <a:pt x="642" y="290"/>
                    </a:lnTo>
                    <a:lnTo>
                      <a:pt x="614" y="302"/>
                    </a:lnTo>
                    <a:lnTo>
                      <a:pt x="583" y="311"/>
                    </a:lnTo>
                    <a:lnTo>
                      <a:pt x="555" y="321"/>
                    </a:lnTo>
                    <a:lnTo>
                      <a:pt x="525" y="329"/>
                    </a:lnTo>
                    <a:lnTo>
                      <a:pt x="500" y="338"/>
                    </a:lnTo>
                    <a:lnTo>
                      <a:pt x="477" y="344"/>
                    </a:lnTo>
                    <a:lnTo>
                      <a:pt x="454" y="351"/>
                    </a:lnTo>
                    <a:lnTo>
                      <a:pt x="437" y="356"/>
                    </a:lnTo>
                    <a:lnTo>
                      <a:pt x="425" y="360"/>
                    </a:lnTo>
                    <a:lnTo>
                      <a:pt x="416" y="362"/>
                    </a:lnTo>
                    <a:lnTo>
                      <a:pt x="414" y="362"/>
                    </a:lnTo>
                    <a:lnTo>
                      <a:pt x="410" y="362"/>
                    </a:lnTo>
                    <a:lnTo>
                      <a:pt x="404" y="362"/>
                    </a:lnTo>
                    <a:lnTo>
                      <a:pt x="391" y="363"/>
                    </a:lnTo>
                    <a:lnTo>
                      <a:pt x="377" y="367"/>
                    </a:lnTo>
                    <a:lnTo>
                      <a:pt x="359" y="370"/>
                    </a:lnTo>
                    <a:lnTo>
                      <a:pt x="341" y="373"/>
                    </a:lnTo>
                    <a:lnTo>
                      <a:pt x="320" y="378"/>
                    </a:lnTo>
                    <a:lnTo>
                      <a:pt x="299" y="386"/>
                    </a:lnTo>
                    <a:lnTo>
                      <a:pt x="275" y="391"/>
                    </a:lnTo>
                    <a:lnTo>
                      <a:pt x="254" y="399"/>
                    </a:lnTo>
                    <a:lnTo>
                      <a:pt x="233" y="409"/>
                    </a:lnTo>
                    <a:lnTo>
                      <a:pt x="216" y="420"/>
                    </a:lnTo>
                    <a:lnTo>
                      <a:pt x="199" y="431"/>
                    </a:lnTo>
                    <a:lnTo>
                      <a:pt x="186" y="444"/>
                    </a:lnTo>
                    <a:lnTo>
                      <a:pt x="176" y="460"/>
                    </a:lnTo>
                    <a:lnTo>
                      <a:pt x="170" y="477"/>
                    </a:lnTo>
                    <a:lnTo>
                      <a:pt x="168" y="492"/>
                    </a:lnTo>
                    <a:lnTo>
                      <a:pt x="170" y="507"/>
                    </a:lnTo>
                    <a:lnTo>
                      <a:pt x="177" y="519"/>
                    </a:lnTo>
                    <a:lnTo>
                      <a:pt x="186" y="531"/>
                    </a:lnTo>
                    <a:lnTo>
                      <a:pt x="196" y="540"/>
                    </a:lnTo>
                    <a:lnTo>
                      <a:pt x="209" y="550"/>
                    </a:lnTo>
                    <a:lnTo>
                      <a:pt x="224" y="558"/>
                    </a:lnTo>
                    <a:lnTo>
                      <a:pt x="239" y="565"/>
                    </a:lnTo>
                    <a:lnTo>
                      <a:pt x="254" y="570"/>
                    </a:lnTo>
                    <a:lnTo>
                      <a:pt x="270" y="573"/>
                    </a:lnTo>
                    <a:lnTo>
                      <a:pt x="283" y="577"/>
                    </a:lnTo>
                    <a:lnTo>
                      <a:pt x="296" y="581"/>
                    </a:lnTo>
                    <a:lnTo>
                      <a:pt x="306" y="582"/>
                    </a:lnTo>
                    <a:lnTo>
                      <a:pt x="316" y="583"/>
                    </a:lnTo>
                    <a:lnTo>
                      <a:pt x="321" y="583"/>
                    </a:lnTo>
                    <a:lnTo>
                      <a:pt x="324" y="585"/>
                    </a:lnTo>
                    <a:lnTo>
                      <a:pt x="933" y="633"/>
                    </a:lnTo>
                    <a:lnTo>
                      <a:pt x="935" y="633"/>
                    </a:lnTo>
                    <a:lnTo>
                      <a:pt x="946" y="634"/>
                    </a:lnTo>
                    <a:lnTo>
                      <a:pt x="963" y="635"/>
                    </a:lnTo>
                    <a:lnTo>
                      <a:pt x="985" y="639"/>
                    </a:lnTo>
                    <a:lnTo>
                      <a:pt x="1011" y="641"/>
                    </a:lnTo>
                    <a:lnTo>
                      <a:pt x="1040" y="645"/>
                    </a:lnTo>
                    <a:lnTo>
                      <a:pt x="1071" y="651"/>
                    </a:lnTo>
                    <a:lnTo>
                      <a:pt x="1106" y="656"/>
                    </a:lnTo>
                    <a:lnTo>
                      <a:pt x="1139" y="662"/>
                    </a:lnTo>
                    <a:lnTo>
                      <a:pt x="1172" y="669"/>
                    </a:lnTo>
                    <a:lnTo>
                      <a:pt x="1204" y="675"/>
                    </a:lnTo>
                    <a:lnTo>
                      <a:pt x="1234" y="684"/>
                    </a:lnTo>
                    <a:lnTo>
                      <a:pt x="1259" y="692"/>
                    </a:lnTo>
                    <a:lnTo>
                      <a:pt x="1282" y="701"/>
                    </a:lnTo>
                    <a:lnTo>
                      <a:pt x="1300" y="711"/>
                    </a:lnTo>
                    <a:lnTo>
                      <a:pt x="1312" y="723"/>
                    </a:lnTo>
                    <a:lnTo>
                      <a:pt x="1320" y="733"/>
                    </a:lnTo>
                    <a:lnTo>
                      <a:pt x="1327" y="745"/>
                    </a:lnTo>
                    <a:lnTo>
                      <a:pt x="1332" y="756"/>
                    </a:lnTo>
                    <a:lnTo>
                      <a:pt x="1338" y="769"/>
                    </a:lnTo>
                    <a:lnTo>
                      <a:pt x="1341" y="781"/>
                    </a:lnTo>
                    <a:lnTo>
                      <a:pt x="1344" y="796"/>
                    </a:lnTo>
                    <a:lnTo>
                      <a:pt x="1344" y="809"/>
                    </a:lnTo>
                    <a:lnTo>
                      <a:pt x="1345" y="823"/>
                    </a:lnTo>
                    <a:lnTo>
                      <a:pt x="1343" y="836"/>
                    </a:lnTo>
                    <a:lnTo>
                      <a:pt x="1340" y="848"/>
                    </a:lnTo>
                    <a:lnTo>
                      <a:pt x="1334" y="859"/>
                    </a:lnTo>
                    <a:lnTo>
                      <a:pt x="1329" y="871"/>
                    </a:lnTo>
                    <a:lnTo>
                      <a:pt x="1320" y="881"/>
                    </a:lnTo>
                    <a:lnTo>
                      <a:pt x="1310" y="891"/>
                    </a:lnTo>
                    <a:lnTo>
                      <a:pt x="1299" y="899"/>
                    </a:lnTo>
                    <a:lnTo>
                      <a:pt x="1287" y="907"/>
                    </a:lnTo>
                    <a:lnTo>
                      <a:pt x="1269" y="913"/>
                    </a:lnTo>
                    <a:lnTo>
                      <a:pt x="1249" y="918"/>
                    </a:lnTo>
                    <a:lnTo>
                      <a:pt x="1227" y="925"/>
                    </a:lnTo>
                    <a:lnTo>
                      <a:pt x="1204" y="932"/>
                    </a:lnTo>
                    <a:lnTo>
                      <a:pt x="1177" y="937"/>
                    </a:lnTo>
                    <a:lnTo>
                      <a:pt x="1152" y="943"/>
                    </a:lnTo>
                    <a:lnTo>
                      <a:pt x="1125" y="948"/>
                    </a:lnTo>
                    <a:lnTo>
                      <a:pt x="1101" y="954"/>
                    </a:lnTo>
                    <a:lnTo>
                      <a:pt x="1075" y="958"/>
                    </a:lnTo>
                    <a:lnTo>
                      <a:pt x="1051" y="963"/>
                    </a:lnTo>
                    <a:lnTo>
                      <a:pt x="1030" y="965"/>
                    </a:lnTo>
                    <a:lnTo>
                      <a:pt x="1013" y="969"/>
                    </a:lnTo>
                    <a:lnTo>
                      <a:pt x="997" y="971"/>
                    </a:lnTo>
                    <a:lnTo>
                      <a:pt x="985" y="974"/>
                    </a:lnTo>
                    <a:lnTo>
                      <a:pt x="978" y="975"/>
                    </a:lnTo>
                    <a:lnTo>
                      <a:pt x="976" y="976"/>
                    </a:lnTo>
                    <a:lnTo>
                      <a:pt x="269" y="1137"/>
                    </a:lnTo>
                    <a:lnTo>
                      <a:pt x="264" y="1137"/>
                    </a:lnTo>
                    <a:lnTo>
                      <a:pt x="259" y="1142"/>
                    </a:lnTo>
                    <a:lnTo>
                      <a:pt x="255" y="1145"/>
                    </a:lnTo>
                    <a:lnTo>
                      <a:pt x="254" y="1151"/>
                    </a:lnTo>
                    <a:lnTo>
                      <a:pt x="254" y="1158"/>
                    </a:lnTo>
                    <a:lnTo>
                      <a:pt x="258" y="1168"/>
                    </a:lnTo>
                    <a:lnTo>
                      <a:pt x="260" y="1173"/>
                    </a:lnTo>
                    <a:lnTo>
                      <a:pt x="264" y="1177"/>
                    </a:lnTo>
                    <a:lnTo>
                      <a:pt x="271" y="1182"/>
                    </a:lnTo>
                    <a:lnTo>
                      <a:pt x="281" y="1185"/>
                    </a:lnTo>
                    <a:lnTo>
                      <a:pt x="290" y="1188"/>
                    </a:lnTo>
                    <a:lnTo>
                      <a:pt x="301" y="1191"/>
                    </a:lnTo>
                    <a:lnTo>
                      <a:pt x="312" y="1195"/>
                    </a:lnTo>
                    <a:lnTo>
                      <a:pt x="324" y="1197"/>
                    </a:lnTo>
                    <a:lnTo>
                      <a:pt x="334" y="1198"/>
                    </a:lnTo>
                    <a:lnTo>
                      <a:pt x="345" y="1200"/>
                    </a:lnTo>
                    <a:lnTo>
                      <a:pt x="354" y="1201"/>
                    </a:lnTo>
                    <a:lnTo>
                      <a:pt x="364" y="1204"/>
                    </a:lnTo>
                    <a:lnTo>
                      <a:pt x="372" y="1205"/>
                    </a:lnTo>
                    <a:lnTo>
                      <a:pt x="377" y="1206"/>
                    </a:lnTo>
                    <a:lnTo>
                      <a:pt x="381" y="1206"/>
                    </a:lnTo>
                    <a:lnTo>
                      <a:pt x="384" y="1207"/>
                    </a:lnTo>
                    <a:lnTo>
                      <a:pt x="1024" y="1191"/>
                    </a:lnTo>
                    <a:lnTo>
                      <a:pt x="1869" y="1030"/>
                    </a:lnTo>
                    <a:lnTo>
                      <a:pt x="1883" y="999"/>
                    </a:lnTo>
                    <a:lnTo>
                      <a:pt x="1873" y="1000"/>
                    </a:lnTo>
                    <a:lnTo>
                      <a:pt x="1848" y="1006"/>
                    </a:lnTo>
                    <a:lnTo>
                      <a:pt x="1811" y="1014"/>
                    </a:lnTo>
                    <a:lnTo>
                      <a:pt x="1761" y="1025"/>
                    </a:lnTo>
                    <a:lnTo>
                      <a:pt x="1701" y="1037"/>
                    </a:lnTo>
                    <a:lnTo>
                      <a:pt x="1636" y="1052"/>
                    </a:lnTo>
                    <a:lnTo>
                      <a:pt x="1564" y="1068"/>
                    </a:lnTo>
                    <a:lnTo>
                      <a:pt x="1490" y="1084"/>
                    </a:lnTo>
                    <a:lnTo>
                      <a:pt x="1413" y="1100"/>
                    </a:lnTo>
                    <a:lnTo>
                      <a:pt x="1338" y="1116"/>
                    </a:lnTo>
                    <a:lnTo>
                      <a:pt x="1265" y="1130"/>
                    </a:lnTo>
                    <a:lnTo>
                      <a:pt x="1198" y="1144"/>
                    </a:lnTo>
                    <a:lnTo>
                      <a:pt x="1139" y="1154"/>
                    </a:lnTo>
                    <a:lnTo>
                      <a:pt x="1088" y="1163"/>
                    </a:lnTo>
                    <a:lnTo>
                      <a:pt x="1048" y="1169"/>
                    </a:lnTo>
                    <a:lnTo>
                      <a:pt x="1024" y="1173"/>
                    </a:lnTo>
                    <a:lnTo>
                      <a:pt x="999" y="1173"/>
                    </a:lnTo>
                    <a:lnTo>
                      <a:pt x="967" y="1173"/>
                    </a:lnTo>
                    <a:lnTo>
                      <a:pt x="928" y="1174"/>
                    </a:lnTo>
                    <a:lnTo>
                      <a:pt x="883" y="1175"/>
                    </a:lnTo>
                    <a:lnTo>
                      <a:pt x="831" y="1176"/>
                    </a:lnTo>
                    <a:lnTo>
                      <a:pt x="778" y="1178"/>
                    </a:lnTo>
                    <a:lnTo>
                      <a:pt x="722" y="1180"/>
                    </a:lnTo>
                    <a:lnTo>
                      <a:pt x="667" y="1183"/>
                    </a:lnTo>
                    <a:lnTo>
                      <a:pt x="609" y="1184"/>
                    </a:lnTo>
                    <a:lnTo>
                      <a:pt x="554" y="1185"/>
                    </a:lnTo>
                    <a:lnTo>
                      <a:pt x="500" y="1185"/>
                    </a:lnTo>
                    <a:lnTo>
                      <a:pt x="453" y="1185"/>
                    </a:lnTo>
                    <a:lnTo>
                      <a:pt x="408" y="1185"/>
                    </a:lnTo>
                    <a:lnTo>
                      <a:pt x="373" y="1185"/>
                    </a:lnTo>
                    <a:lnTo>
                      <a:pt x="343" y="1183"/>
                    </a:lnTo>
                    <a:lnTo>
                      <a:pt x="324" y="1180"/>
                    </a:lnTo>
                    <a:lnTo>
                      <a:pt x="309" y="1176"/>
                    </a:lnTo>
                    <a:lnTo>
                      <a:pt x="297" y="1174"/>
                    </a:lnTo>
                    <a:lnTo>
                      <a:pt x="289" y="1169"/>
                    </a:lnTo>
                    <a:lnTo>
                      <a:pt x="283" y="1166"/>
                    </a:lnTo>
                    <a:lnTo>
                      <a:pt x="275" y="1161"/>
                    </a:lnTo>
                    <a:lnTo>
                      <a:pt x="274" y="1155"/>
                    </a:lnTo>
                    <a:lnTo>
                      <a:pt x="275" y="1149"/>
                    </a:lnTo>
                    <a:lnTo>
                      <a:pt x="281" y="1146"/>
                    </a:lnTo>
                    <a:lnTo>
                      <a:pt x="284" y="1144"/>
                    </a:lnTo>
                    <a:lnTo>
                      <a:pt x="286" y="1144"/>
                    </a:lnTo>
                    <a:lnTo>
                      <a:pt x="1187" y="970"/>
                    </a:lnTo>
                    <a:lnTo>
                      <a:pt x="1188" y="969"/>
                    </a:lnTo>
                    <a:lnTo>
                      <a:pt x="1195" y="969"/>
                    </a:lnTo>
                    <a:lnTo>
                      <a:pt x="1203" y="967"/>
                    </a:lnTo>
                    <a:lnTo>
                      <a:pt x="1215" y="965"/>
                    </a:lnTo>
                    <a:lnTo>
                      <a:pt x="1228" y="962"/>
                    </a:lnTo>
                    <a:lnTo>
                      <a:pt x="1243" y="958"/>
                    </a:lnTo>
                    <a:lnTo>
                      <a:pt x="1259" y="953"/>
                    </a:lnTo>
                    <a:lnTo>
                      <a:pt x="1277" y="946"/>
                    </a:lnTo>
                    <a:lnTo>
                      <a:pt x="1292" y="936"/>
                    </a:lnTo>
                    <a:lnTo>
                      <a:pt x="1309" y="926"/>
                    </a:lnTo>
                    <a:lnTo>
                      <a:pt x="1322" y="913"/>
                    </a:lnTo>
                    <a:lnTo>
                      <a:pt x="1338" y="900"/>
                    </a:lnTo>
                    <a:lnTo>
                      <a:pt x="1349" y="882"/>
                    </a:lnTo>
                    <a:lnTo>
                      <a:pt x="1358" y="862"/>
                    </a:lnTo>
                    <a:lnTo>
                      <a:pt x="1363" y="841"/>
                    </a:lnTo>
                    <a:lnTo>
                      <a:pt x="1366" y="817"/>
                    </a:lnTo>
                    <a:lnTo>
                      <a:pt x="1364" y="791"/>
                    </a:lnTo>
                    <a:lnTo>
                      <a:pt x="1359" y="769"/>
                    </a:lnTo>
                    <a:lnTo>
                      <a:pt x="1350" y="750"/>
                    </a:lnTo>
                    <a:lnTo>
                      <a:pt x="1341" y="734"/>
                    </a:lnTo>
                    <a:lnTo>
                      <a:pt x="1328" y="718"/>
                    </a:lnTo>
                    <a:lnTo>
                      <a:pt x="1315" y="706"/>
                    </a:lnTo>
                    <a:lnTo>
                      <a:pt x="1299" y="696"/>
                    </a:lnTo>
                    <a:lnTo>
                      <a:pt x="1286" y="687"/>
                    </a:lnTo>
                    <a:lnTo>
                      <a:pt x="1270" y="680"/>
                    </a:lnTo>
                    <a:lnTo>
                      <a:pt x="1255" y="675"/>
                    </a:lnTo>
                    <a:lnTo>
                      <a:pt x="1242" y="670"/>
                    </a:lnTo>
                    <a:lnTo>
                      <a:pt x="1230" y="667"/>
                    </a:lnTo>
                    <a:lnTo>
                      <a:pt x="1218" y="664"/>
                    </a:lnTo>
                    <a:lnTo>
                      <a:pt x="1211" y="664"/>
                    </a:lnTo>
                    <a:lnTo>
                      <a:pt x="1206" y="664"/>
                    </a:lnTo>
                    <a:lnTo>
                      <a:pt x="1205" y="664"/>
                    </a:lnTo>
                    <a:lnTo>
                      <a:pt x="1202" y="663"/>
                    </a:lnTo>
                    <a:lnTo>
                      <a:pt x="1196" y="661"/>
                    </a:lnTo>
                    <a:lnTo>
                      <a:pt x="1184" y="658"/>
                    </a:lnTo>
                    <a:lnTo>
                      <a:pt x="1170" y="655"/>
                    </a:lnTo>
                    <a:lnTo>
                      <a:pt x="1151" y="651"/>
                    </a:lnTo>
                    <a:lnTo>
                      <a:pt x="1129" y="646"/>
                    </a:lnTo>
                    <a:lnTo>
                      <a:pt x="1101" y="641"/>
                    </a:lnTo>
                    <a:lnTo>
                      <a:pt x="1071" y="638"/>
                    </a:lnTo>
                    <a:lnTo>
                      <a:pt x="1037" y="631"/>
                    </a:lnTo>
                    <a:lnTo>
                      <a:pt x="1001" y="627"/>
                    </a:lnTo>
                    <a:lnTo>
                      <a:pt x="960" y="621"/>
                    </a:lnTo>
                    <a:lnTo>
                      <a:pt x="918" y="618"/>
                    </a:lnTo>
                    <a:lnTo>
                      <a:pt x="871" y="612"/>
                    </a:lnTo>
                    <a:lnTo>
                      <a:pt x="821" y="608"/>
                    </a:lnTo>
                    <a:lnTo>
                      <a:pt x="771" y="606"/>
                    </a:lnTo>
                    <a:lnTo>
                      <a:pt x="716" y="603"/>
                    </a:lnTo>
                    <a:lnTo>
                      <a:pt x="661" y="599"/>
                    </a:lnTo>
                    <a:lnTo>
                      <a:pt x="610" y="596"/>
                    </a:lnTo>
                    <a:lnTo>
                      <a:pt x="562" y="592"/>
                    </a:lnTo>
                    <a:lnTo>
                      <a:pt x="516" y="589"/>
                    </a:lnTo>
                    <a:lnTo>
                      <a:pt x="474" y="585"/>
                    </a:lnTo>
                    <a:lnTo>
                      <a:pt x="435" y="581"/>
                    </a:lnTo>
                    <a:lnTo>
                      <a:pt x="398" y="577"/>
                    </a:lnTo>
                    <a:lnTo>
                      <a:pt x="365" y="572"/>
                    </a:lnTo>
                    <a:lnTo>
                      <a:pt x="335" y="568"/>
                    </a:lnTo>
                    <a:lnTo>
                      <a:pt x="307" y="562"/>
                    </a:lnTo>
                    <a:lnTo>
                      <a:pt x="284" y="558"/>
                    </a:lnTo>
                    <a:lnTo>
                      <a:pt x="265" y="555"/>
                    </a:lnTo>
                    <a:lnTo>
                      <a:pt x="249" y="549"/>
                    </a:lnTo>
                    <a:lnTo>
                      <a:pt x="237" y="546"/>
                    </a:lnTo>
                    <a:lnTo>
                      <a:pt x="227" y="543"/>
                    </a:lnTo>
                    <a:lnTo>
                      <a:pt x="222" y="539"/>
                    </a:lnTo>
                    <a:lnTo>
                      <a:pt x="213" y="533"/>
                    </a:lnTo>
                    <a:lnTo>
                      <a:pt x="203" y="525"/>
                    </a:lnTo>
                    <a:lnTo>
                      <a:pt x="195" y="516"/>
                    </a:lnTo>
                    <a:lnTo>
                      <a:pt x="190" y="507"/>
                    </a:lnTo>
                    <a:lnTo>
                      <a:pt x="187" y="502"/>
                    </a:lnTo>
                    <a:lnTo>
                      <a:pt x="185" y="495"/>
                    </a:lnTo>
                    <a:lnTo>
                      <a:pt x="184" y="489"/>
                    </a:lnTo>
                    <a:lnTo>
                      <a:pt x="185" y="484"/>
                    </a:lnTo>
                    <a:lnTo>
                      <a:pt x="185" y="478"/>
                    </a:lnTo>
                    <a:lnTo>
                      <a:pt x="188" y="472"/>
                    </a:lnTo>
                    <a:lnTo>
                      <a:pt x="191" y="466"/>
                    </a:lnTo>
                    <a:lnTo>
                      <a:pt x="197" y="460"/>
                    </a:lnTo>
                    <a:lnTo>
                      <a:pt x="202" y="452"/>
                    </a:lnTo>
                    <a:lnTo>
                      <a:pt x="213" y="445"/>
                    </a:lnTo>
                    <a:lnTo>
                      <a:pt x="226" y="438"/>
                    </a:lnTo>
                    <a:lnTo>
                      <a:pt x="242" y="432"/>
                    </a:lnTo>
                    <a:lnTo>
                      <a:pt x="259" y="424"/>
                    </a:lnTo>
                    <a:lnTo>
                      <a:pt x="276" y="419"/>
                    </a:lnTo>
                    <a:lnTo>
                      <a:pt x="295" y="412"/>
                    </a:lnTo>
                    <a:lnTo>
                      <a:pt x="316" y="407"/>
                    </a:lnTo>
                    <a:lnTo>
                      <a:pt x="334" y="400"/>
                    </a:lnTo>
                    <a:lnTo>
                      <a:pt x="352" y="395"/>
                    </a:lnTo>
                    <a:lnTo>
                      <a:pt x="368" y="390"/>
                    </a:lnTo>
                    <a:lnTo>
                      <a:pt x="384" y="387"/>
                    </a:lnTo>
                    <a:lnTo>
                      <a:pt x="396" y="384"/>
                    </a:lnTo>
                    <a:lnTo>
                      <a:pt x="405" y="382"/>
                    </a:lnTo>
                    <a:lnTo>
                      <a:pt x="410" y="381"/>
                    </a:lnTo>
                    <a:lnTo>
                      <a:pt x="414" y="381"/>
                    </a:lnTo>
                    <a:lnTo>
                      <a:pt x="417" y="379"/>
                    </a:lnTo>
                    <a:lnTo>
                      <a:pt x="426" y="377"/>
                    </a:lnTo>
                    <a:lnTo>
                      <a:pt x="439" y="373"/>
                    </a:lnTo>
                    <a:lnTo>
                      <a:pt x="459" y="368"/>
                    </a:lnTo>
                    <a:lnTo>
                      <a:pt x="481" y="361"/>
                    </a:lnTo>
                    <a:lnTo>
                      <a:pt x="508" y="353"/>
                    </a:lnTo>
                    <a:lnTo>
                      <a:pt x="535" y="345"/>
                    </a:lnTo>
                    <a:lnTo>
                      <a:pt x="567" y="337"/>
                    </a:lnTo>
                    <a:lnTo>
                      <a:pt x="597" y="326"/>
                    </a:lnTo>
                    <a:lnTo>
                      <a:pt x="627" y="316"/>
                    </a:lnTo>
                    <a:lnTo>
                      <a:pt x="657" y="305"/>
                    </a:lnTo>
                    <a:lnTo>
                      <a:pt x="687" y="293"/>
                    </a:lnTo>
                    <a:lnTo>
                      <a:pt x="713" y="282"/>
                    </a:lnTo>
                    <a:lnTo>
                      <a:pt x="737" y="271"/>
                    </a:lnTo>
                    <a:lnTo>
                      <a:pt x="756" y="258"/>
                    </a:lnTo>
                    <a:lnTo>
                      <a:pt x="774" y="246"/>
                    </a:lnTo>
                    <a:lnTo>
                      <a:pt x="785" y="235"/>
                    </a:lnTo>
                    <a:lnTo>
                      <a:pt x="797" y="224"/>
                    </a:lnTo>
                    <a:lnTo>
                      <a:pt x="807" y="212"/>
                    </a:lnTo>
                    <a:lnTo>
                      <a:pt x="817" y="202"/>
                    </a:lnTo>
                    <a:lnTo>
                      <a:pt x="825" y="192"/>
                    </a:lnTo>
                    <a:lnTo>
                      <a:pt x="831" y="182"/>
                    </a:lnTo>
                    <a:lnTo>
                      <a:pt x="838" y="172"/>
                    </a:lnTo>
                    <a:lnTo>
                      <a:pt x="845" y="163"/>
                    </a:lnTo>
                    <a:lnTo>
                      <a:pt x="848" y="153"/>
                    </a:lnTo>
                    <a:lnTo>
                      <a:pt x="852" y="143"/>
                    </a:lnTo>
                    <a:lnTo>
                      <a:pt x="854" y="133"/>
                    </a:lnTo>
                    <a:lnTo>
                      <a:pt x="856" y="125"/>
                    </a:lnTo>
                    <a:lnTo>
                      <a:pt x="855" y="114"/>
                    </a:lnTo>
                    <a:lnTo>
                      <a:pt x="855" y="104"/>
                    </a:lnTo>
                    <a:lnTo>
                      <a:pt x="852" y="94"/>
                    </a:lnTo>
                    <a:lnTo>
                      <a:pt x="850" y="84"/>
                    </a:lnTo>
                    <a:lnTo>
                      <a:pt x="845" y="72"/>
                    </a:lnTo>
                    <a:lnTo>
                      <a:pt x="840" y="62"/>
                    </a:lnTo>
                    <a:lnTo>
                      <a:pt x="833" y="53"/>
                    </a:lnTo>
                    <a:lnTo>
                      <a:pt x="827" y="46"/>
                    </a:lnTo>
                    <a:lnTo>
                      <a:pt x="818" y="37"/>
                    </a:lnTo>
                    <a:lnTo>
                      <a:pt x="809" y="33"/>
                    </a:lnTo>
                    <a:lnTo>
                      <a:pt x="800" y="26"/>
                    </a:lnTo>
                    <a:lnTo>
                      <a:pt x="792" y="23"/>
                    </a:lnTo>
                    <a:lnTo>
                      <a:pt x="781" y="17"/>
                    </a:lnTo>
                    <a:lnTo>
                      <a:pt x="770" y="14"/>
                    </a:lnTo>
                    <a:lnTo>
                      <a:pt x="758" y="11"/>
                    </a:lnTo>
                    <a:lnTo>
                      <a:pt x="748" y="9"/>
                    </a:lnTo>
                    <a:lnTo>
                      <a:pt x="736" y="5"/>
                    </a:lnTo>
                    <a:lnTo>
                      <a:pt x="726" y="4"/>
                    </a:lnTo>
                    <a:lnTo>
                      <a:pt x="715" y="3"/>
                    </a:lnTo>
                    <a:lnTo>
                      <a:pt x="705" y="3"/>
                    </a:lnTo>
                    <a:lnTo>
                      <a:pt x="688" y="2"/>
                    </a:lnTo>
                    <a:lnTo>
                      <a:pt x="663" y="1"/>
                    </a:lnTo>
                    <a:lnTo>
                      <a:pt x="631" y="0"/>
                    </a:lnTo>
                    <a:lnTo>
                      <a:pt x="594" y="0"/>
                    </a:lnTo>
                    <a:lnTo>
                      <a:pt x="551" y="0"/>
                    </a:lnTo>
                    <a:lnTo>
                      <a:pt x="504" y="0"/>
                    </a:lnTo>
                    <a:lnTo>
                      <a:pt x="456" y="0"/>
                    </a:lnTo>
                    <a:lnTo>
                      <a:pt x="408" y="0"/>
                    </a:lnTo>
                    <a:lnTo>
                      <a:pt x="358" y="0"/>
                    </a:lnTo>
                    <a:lnTo>
                      <a:pt x="313" y="0"/>
                    </a:lnTo>
                    <a:lnTo>
                      <a:pt x="270" y="0"/>
                    </a:lnTo>
                    <a:lnTo>
                      <a:pt x="232" y="0"/>
                    </a:lnTo>
                    <a:lnTo>
                      <a:pt x="200" y="0"/>
                    </a:lnTo>
                    <a:lnTo>
                      <a:pt x="176" y="0"/>
                    </a:lnTo>
                    <a:lnTo>
                      <a:pt x="160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5c5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2401920" y="4205160"/>
                <a:ext cx="37800" cy="330120"/>
              </a:xfrm>
              <a:custGeom>
                <a:avLst/>
                <a:gdLst/>
                <a:ahLst/>
                <a:rect l="l" t="t" r="r" b="b"/>
                <a:pathLst>
                  <a:path w="47" h="416">
                    <a:moveTo>
                      <a:pt x="6" y="416"/>
                    </a:moveTo>
                    <a:lnTo>
                      <a:pt x="11" y="139"/>
                    </a:lnTo>
                    <a:lnTo>
                      <a:pt x="10" y="138"/>
                    </a:lnTo>
                    <a:lnTo>
                      <a:pt x="8" y="134"/>
                    </a:lnTo>
                    <a:lnTo>
                      <a:pt x="6" y="127"/>
                    </a:lnTo>
                    <a:lnTo>
                      <a:pt x="5" y="118"/>
                    </a:lnTo>
                    <a:lnTo>
                      <a:pt x="3" y="107"/>
                    </a:lnTo>
                    <a:lnTo>
                      <a:pt x="2" y="97"/>
                    </a:lnTo>
                    <a:lnTo>
                      <a:pt x="1" y="85"/>
                    </a:lnTo>
                    <a:lnTo>
                      <a:pt x="1" y="73"/>
                    </a:lnTo>
                    <a:lnTo>
                      <a:pt x="0" y="60"/>
                    </a:lnTo>
                    <a:lnTo>
                      <a:pt x="0" y="46"/>
                    </a:lnTo>
                    <a:lnTo>
                      <a:pt x="0" y="34"/>
                    </a:lnTo>
                    <a:lnTo>
                      <a:pt x="2" y="24"/>
                    </a:lnTo>
                    <a:lnTo>
                      <a:pt x="4" y="14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5" y="3"/>
                    </a:lnTo>
                    <a:lnTo>
                      <a:pt x="39" y="10"/>
                    </a:lnTo>
                    <a:lnTo>
                      <a:pt x="44" y="19"/>
                    </a:lnTo>
                    <a:lnTo>
                      <a:pt x="45" y="29"/>
                    </a:lnTo>
                    <a:lnTo>
                      <a:pt x="46" y="41"/>
                    </a:lnTo>
                    <a:lnTo>
                      <a:pt x="46" y="54"/>
                    </a:lnTo>
                    <a:lnTo>
                      <a:pt x="47" y="69"/>
                    </a:lnTo>
                    <a:lnTo>
                      <a:pt x="46" y="81"/>
                    </a:lnTo>
                    <a:lnTo>
                      <a:pt x="45" y="95"/>
                    </a:lnTo>
                    <a:lnTo>
                      <a:pt x="44" y="107"/>
                    </a:lnTo>
                    <a:lnTo>
                      <a:pt x="43" y="119"/>
                    </a:lnTo>
                    <a:lnTo>
                      <a:pt x="40" y="128"/>
                    </a:lnTo>
                    <a:lnTo>
                      <a:pt x="39" y="137"/>
                    </a:lnTo>
                    <a:lnTo>
                      <a:pt x="39" y="142"/>
                    </a:lnTo>
                    <a:lnTo>
                      <a:pt x="39" y="144"/>
                    </a:lnTo>
                    <a:lnTo>
                      <a:pt x="36" y="410"/>
                    </a:lnTo>
                    <a:lnTo>
                      <a:pt x="6" y="416"/>
                    </a:lnTo>
                    <a:lnTo>
                      <a:pt x="6" y="416"/>
                    </a:lnTo>
                    <a:close/>
                  </a:path>
                </a:pathLst>
              </a:custGeom>
              <a:solidFill>
                <a:srgbClr val="b34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1923840" y="4252680"/>
                <a:ext cx="71640" cy="200160"/>
              </a:xfrm>
              <a:custGeom>
                <a:avLst/>
                <a:gdLst/>
                <a:ahLst/>
                <a:rect l="l" t="t" r="r" b="b"/>
                <a:pathLst>
                  <a:path w="90" h="252">
                    <a:moveTo>
                      <a:pt x="16" y="252"/>
                    </a:moveTo>
                    <a:lnTo>
                      <a:pt x="18" y="145"/>
                    </a:lnTo>
                    <a:lnTo>
                      <a:pt x="17" y="142"/>
                    </a:lnTo>
                    <a:lnTo>
                      <a:pt x="14" y="137"/>
                    </a:lnTo>
                    <a:lnTo>
                      <a:pt x="12" y="130"/>
                    </a:lnTo>
                    <a:lnTo>
                      <a:pt x="10" y="121"/>
                    </a:lnTo>
                    <a:lnTo>
                      <a:pt x="7" y="109"/>
                    </a:lnTo>
                    <a:lnTo>
                      <a:pt x="4" y="98"/>
                    </a:lnTo>
                    <a:lnTo>
                      <a:pt x="1" y="85"/>
                    </a:lnTo>
                    <a:lnTo>
                      <a:pt x="1" y="73"/>
                    </a:lnTo>
                    <a:lnTo>
                      <a:pt x="0" y="58"/>
                    </a:lnTo>
                    <a:lnTo>
                      <a:pt x="1" y="45"/>
                    </a:lnTo>
                    <a:lnTo>
                      <a:pt x="3" y="33"/>
                    </a:lnTo>
                    <a:lnTo>
                      <a:pt x="10" y="23"/>
                    </a:lnTo>
                    <a:lnTo>
                      <a:pt x="16" y="13"/>
                    </a:lnTo>
                    <a:lnTo>
                      <a:pt x="24" y="8"/>
                    </a:lnTo>
                    <a:lnTo>
                      <a:pt x="37" y="2"/>
                    </a:lnTo>
                    <a:lnTo>
                      <a:pt x="53" y="1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7" y="1"/>
                    </a:lnTo>
                    <a:lnTo>
                      <a:pt x="72" y="3"/>
                    </a:lnTo>
                    <a:lnTo>
                      <a:pt x="79" y="6"/>
                    </a:lnTo>
                    <a:lnTo>
                      <a:pt x="83" y="10"/>
                    </a:lnTo>
                    <a:lnTo>
                      <a:pt x="87" y="18"/>
                    </a:lnTo>
                    <a:lnTo>
                      <a:pt x="90" y="21"/>
                    </a:lnTo>
                    <a:lnTo>
                      <a:pt x="87" y="21"/>
                    </a:lnTo>
                    <a:lnTo>
                      <a:pt x="85" y="25"/>
                    </a:lnTo>
                    <a:lnTo>
                      <a:pt x="82" y="30"/>
                    </a:lnTo>
                    <a:lnTo>
                      <a:pt x="80" y="36"/>
                    </a:lnTo>
                    <a:lnTo>
                      <a:pt x="74" y="43"/>
                    </a:lnTo>
                    <a:lnTo>
                      <a:pt x="70" y="53"/>
                    </a:lnTo>
                    <a:lnTo>
                      <a:pt x="65" y="62"/>
                    </a:lnTo>
                    <a:lnTo>
                      <a:pt x="62" y="73"/>
                    </a:lnTo>
                    <a:lnTo>
                      <a:pt x="58" y="83"/>
                    </a:lnTo>
                    <a:lnTo>
                      <a:pt x="55" y="93"/>
                    </a:lnTo>
                    <a:lnTo>
                      <a:pt x="53" y="103"/>
                    </a:lnTo>
                    <a:lnTo>
                      <a:pt x="54" y="114"/>
                    </a:lnTo>
                    <a:lnTo>
                      <a:pt x="55" y="123"/>
                    </a:lnTo>
                    <a:lnTo>
                      <a:pt x="59" y="130"/>
                    </a:lnTo>
                    <a:lnTo>
                      <a:pt x="65" y="137"/>
                    </a:lnTo>
                    <a:lnTo>
                      <a:pt x="74" y="145"/>
                    </a:lnTo>
                    <a:lnTo>
                      <a:pt x="72" y="147"/>
                    </a:lnTo>
                    <a:lnTo>
                      <a:pt x="65" y="154"/>
                    </a:lnTo>
                    <a:lnTo>
                      <a:pt x="56" y="158"/>
                    </a:lnTo>
                    <a:lnTo>
                      <a:pt x="53" y="160"/>
                    </a:lnTo>
                    <a:lnTo>
                      <a:pt x="53" y="244"/>
                    </a:lnTo>
                    <a:lnTo>
                      <a:pt x="16" y="252"/>
                    </a:lnTo>
                    <a:lnTo>
                      <a:pt x="16" y="252"/>
                    </a:lnTo>
                    <a:close/>
                  </a:path>
                </a:pathLst>
              </a:custGeom>
              <a:solidFill>
                <a:srgbClr val="b34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2054160" y="4462200"/>
                <a:ext cx="73080" cy="243000"/>
              </a:xfrm>
              <a:custGeom>
                <a:avLst/>
                <a:gdLst/>
                <a:ahLst/>
                <a:rect l="l" t="t" r="r" b="b"/>
                <a:pathLst>
                  <a:path w="92" h="306">
                    <a:moveTo>
                      <a:pt x="0" y="24"/>
                    </a:moveTo>
                    <a:lnTo>
                      <a:pt x="0" y="23"/>
                    </a:lnTo>
                    <a:lnTo>
                      <a:pt x="4" y="19"/>
                    </a:lnTo>
                    <a:lnTo>
                      <a:pt x="7" y="13"/>
                    </a:lnTo>
                    <a:lnTo>
                      <a:pt x="15" y="10"/>
                    </a:lnTo>
                    <a:lnTo>
                      <a:pt x="22" y="3"/>
                    </a:lnTo>
                    <a:lnTo>
                      <a:pt x="32" y="1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9" y="3"/>
                    </a:lnTo>
                    <a:lnTo>
                      <a:pt x="64" y="6"/>
                    </a:lnTo>
                    <a:lnTo>
                      <a:pt x="71" y="12"/>
                    </a:lnTo>
                    <a:lnTo>
                      <a:pt x="75" y="20"/>
                    </a:lnTo>
                    <a:lnTo>
                      <a:pt x="81" y="31"/>
                    </a:lnTo>
                    <a:lnTo>
                      <a:pt x="84" y="43"/>
                    </a:lnTo>
                    <a:lnTo>
                      <a:pt x="88" y="57"/>
                    </a:lnTo>
                    <a:lnTo>
                      <a:pt x="90" y="71"/>
                    </a:lnTo>
                    <a:lnTo>
                      <a:pt x="92" y="86"/>
                    </a:lnTo>
                    <a:lnTo>
                      <a:pt x="92" y="101"/>
                    </a:lnTo>
                    <a:lnTo>
                      <a:pt x="92" y="116"/>
                    </a:lnTo>
                    <a:lnTo>
                      <a:pt x="91" y="129"/>
                    </a:lnTo>
                    <a:lnTo>
                      <a:pt x="90" y="143"/>
                    </a:lnTo>
                    <a:lnTo>
                      <a:pt x="86" y="154"/>
                    </a:lnTo>
                    <a:lnTo>
                      <a:pt x="85" y="164"/>
                    </a:lnTo>
                    <a:lnTo>
                      <a:pt x="81" y="171"/>
                    </a:lnTo>
                    <a:lnTo>
                      <a:pt x="77" y="176"/>
                    </a:lnTo>
                    <a:lnTo>
                      <a:pt x="71" y="306"/>
                    </a:lnTo>
                    <a:lnTo>
                      <a:pt x="32" y="306"/>
                    </a:lnTo>
                    <a:lnTo>
                      <a:pt x="30" y="186"/>
                    </a:lnTo>
                    <a:lnTo>
                      <a:pt x="6" y="181"/>
                    </a:lnTo>
                    <a:lnTo>
                      <a:pt x="6" y="179"/>
                    </a:lnTo>
                    <a:lnTo>
                      <a:pt x="10" y="174"/>
                    </a:lnTo>
                    <a:lnTo>
                      <a:pt x="12" y="169"/>
                    </a:lnTo>
                    <a:lnTo>
                      <a:pt x="16" y="165"/>
                    </a:lnTo>
                    <a:lnTo>
                      <a:pt x="18" y="160"/>
                    </a:lnTo>
                    <a:lnTo>
                      <a:pt x="22" y="155"/>
                    </a:lnTo>
                    <a:lnTo>
                      <a:pt x="25" y="148"/>
                    </a:lnTo>
                    <a:lnTo>
                      <a:pt x="28" y="140"/>
                    </a:lnTo>
                    <a:lnTo>
                      <a:pt x="30" y="133"/>
                    </a:lnTo>
                    <a:lnTo>
                      <a:pt x="32" y="126"/>
                    </a:lnTo>
                    <a:lnTo>
                      <a:pt x="33" y="116"/>
                    </a:lnTo>
                    <a:lnTo>
                      <a:pt x="35" y="108"/>
                    </a:lnTo>
                    <a:lnTo>
                      <a:pt x="33" y="99"/>
                    </a:lnTo>
                    <a:lnTo>
                      <a:pt x="33" y="92"/>
                    </a:lnTo>
                    <a:lnTo>
                      <a:pt x="30" y="82"/>
                    </a:lnTo>
                    <a:lnTo>
                      <a:pt x="29" y="74"/>
                    </a:lnTo>
                    <a:lnTo>
                      <a:pt x="27" y="66"/>
                    </a:lnTo>
                    <a:lnTo>
                      <a:pt x="25" y="60"/>
                    </a:lnTo>
                    <a:lnTo>
                      <a:pt x="21" y="53"/>
                    </a:lnTo>
                    <a:lnTo>
                      <a:pt x="18" y="48"/>
                    </a:lnTo>
                    <a:lnTo>
                      <a:pt x="16" y="43"/>
                    </a:lnTo>
                    <a:lnTo>
                      <a:pt x="14" y="40"/>
                    </a:lnTo>
                    <a:lnTo>
                      <a:pt x="7" y="32"/>
                    </a:lnTo>
                    <a:lnTo>
                      <a:pt x="4" y="2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34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1627200" y="4640040"/>
                <a:ext cx="191880" cy="833400"/>
              </a:xfrm>
              <a:custGeom>
                <a:avLst/>
                <a:gdLst/>
                <a:ahLst/>
                <a:rect l="l" t="t" r="r" b="b"/>
                <a:pathLst>
                  <a:path w="243" h="1051">
                    <a:moveTo>
                      <a:pt x="243" y="10"/>
                    </a:moveTo>
                    <a:lnTo>
                      <a:pt x="240" y="8"/>
                    </a:lnTo>
                    <a:lnTo>
                      <a:pt x="233" y="7"/>
                    </a:lnTo>
                    <a:lnTo>
                      <a:pt x="222" y="5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72" y="2"/>
                    </a:lnTo>
                    <a:lnTo>
                      <a:pt x="151" y="4"/>
                    </a:lnTo>
                    <a:lnTo>
                      <a:pt x="131" y="9"/>
                    </a:lnTo>
                    <a:lnTo>
                      <a:pt x="109" y="18"/>
                    </a:lnTo>
                    <a:lnTo>
                      <a:pt x="87" y="31"/>
                    </a:lnTo>
                    <a:lnTo>
                      <a:pt x="65" y="48"/>
                    </a:lnTo>
                    <a:lnTo>
                      <a:pt x="49" y="72"/>
                    </a:lnTo>
                    <a:lnTo>
                      <a:pt x="31" y="101"/>
                    </a:lnTo>
                    <a:lnTo>
                      <a:pt x="19" y="136"/>
                    </a:lnTo>
                    <a:lnTo>
                      <a:pt x="8" y="181"/>
                    </a:lnTo>
                    <a:lnTo>
                      <a:pt x="3" y="233"/>
                    </a:lnTo>
                    <a:lnTo>
                      <a:pt x="0" y="286"/>
                    </a:lnTo>
                    <a:lnTo>
                      <a:pt x="0" y="332"/>
                    </a:lnTo>
                    <a:lnTo>
                      <a:pt x="2" y="373"/>
                    </a:lnTo>
                    <a:lnTo>
                      <a:pt x="7" y="411"/>
                    </a:lnTo>
                    <a:lnTo>
                      <a:pt x="10" y="442"/>
                    </a:lnTo>
                    <a:lnTo>
                      <a:pt x="17" y="469"/>
                    </a:lnTo>
                    <a:lnTo>
                      <a:pt x="23" y="492"/>
                    </a:lnTo>
                    <a:lnTo>
                      <a:pt x="31" y="512"/>
                    </a:lnTo>
                    <a:lnTo>
                      <a:pt x="39" y="528"/>
                    </a:lnTo>
                    <a:lnTo>
                      <a:pt x="45" y="540"/>
                    </a:lnTo>
                    <a:lnTo>
                      <a:pt x="53" y="549"/>
                    </a:lnTo>
                    <a:lnTo>
                      <a:pt x="61" y="557"/>
                    </a:lnTo>
                    <a:lnTo>
                      <a:pt x="65" y="561"/>
                    </a:lnTo>
                    <a:lnTo>
                      <a:pt x="71" y="564"/>
                    </a:lnTo>
                    <a:lnTo>
                      <a:pt x="73" y="566"/>
                    </a:lnTo>
                    <a:lnTo>
                      <a:pt x="75" y="568"/>
                    </a:lnTo>
                    <a:lnTo>
                      <a:pt x="83" y="1048"/>
                    </a:lnTo>
                    <a:lnTo>
                      <a:pt x="152" y="1051"/>
                    </a:lnTo>
                    <a:lnTo>
                      <a:pt x="156" y="564"/>
                    </a:lnTo>
                    <a:lnTo>
                      <a:pt x="155" y="562"/>
                    </a:lnTo>
                    <a:lnTo>
                      <a:pt x="153" y="557"/>
                    </a:lnTo>
                    <a:lnTo>
                      <a:pt x="147" y="548"/>
                    </a:lnTo>
                    <a:lnTo>
                      <a:pt x="143" y="537"/>
                    </a:lnTo>
                    <a:lnTo>
                      <a:pt x="135" y="521"/>
                    </a:lnTo>
                    <a:lnTo>
                      <a:pt x="128" y="503"/>
                    </a:lnTo>
                    <a:lnTo>
                      <a:pt x="122" y="484"/>
                    </a:lnTo>
                    <a:lnTo>
                      <a:pt x="115" y="461"/>
                    </a:lnTo>
                    <a:lnTo>
                      <a:pt x="109" y="436"/>
                    </a:lnTo>
                    <a:lnTo>
                      <a:pt x="102" y="411"/>
                    </a:lnTo>
                    <a:lnTo>
                      <a:pt x="96" y="382"/>
                    </a:lnTo>
                    <a:lnTo>
                      <a:pt x="93" y="353"/>
                    </a:lnTo>
                    <a:lnTo>
                      <a:pt x="90" y="321"/>
                    </a:lnTo>
                    <a:lnTo>
                      <a:pt x="91" y="290"/>
                    </a:lnTo>
                    <a:lnTo>
                      <a:pt x="93" y="257"/>
                    </a:lnTo>
                    <a:lnTo>
                      <a:pt x="99" y="225"/>
                    </a:lnTo>
                    <a:lnTo>
                      <a:pt x="104" y="192"/>
                    </a:lnTo>
                    <a:lnTo>
                      <a:pt x="113" y="163"/>
                    </a:lnTo>
                    <a:lnTo>
                      <a:pt x="122" y="135"/>
                    </a:lnTo>
                    <a:lnTo>
                      <a:pt x="134" y="113"/>
                    </a:lnTo>
                    <a:lnTo>
                      <a:pt x="145" y="93"/>
                    </a:lnTo>
                    <a:lnTo>
                      <a:pt x="157" y="77"/>
                    </a:lnTo>
                    <a:lnTo>
                      <a:pt x="169" y="61"/>
                    </a:lnTo>
                    <a:lnTo>
                      <a:pt x="183" y="49"/>
                    </a:lnTo>
                    <a:lnTo>
                      <a:pt x="194" y="38"/>
                    </a:lnTo>
                    <a:lnTo>
                      <a:pt x="205" y="30"/>
                    </a:lnTo>
                    <a:lnTo>
                      <a:pt x="215" y="23"/>
                    </a:lnTo>
                    <a:lnTo>
                      <a:pt x="225" y="18"/>
                    </a:lnTo>
                    <a:lnTo>
                      <a:pt x="232" y="14"/>
                    </a:lnTo>
                    <a:lnTo>
                      <a:pt x="238" y="11"/>
                    </a:lnTo>
                    <a:lnTo>
                      <a:pt x="241" y="10"/>
                    </a:lnTo>
                    <a:lnTo>
                      <a:pt x="243" y="10"/>
                    </a:lnTo>
                    <a:lnTo>
                      <a:pt x="243" y="10"/>
                    </a:lnTo>
                    <a:close/>
                  </a:path>
                </a:pathLst>
              </a:custGeom>
              <a:solidFill>
                <a:srgbClr val="b34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2416320" y="4689360"/>
                <a:ext cx="85680" cy="527040"/>
              </a:xfrm>
              <a:custGeom>
                <a:avLst/>
                <a:gdLst/>
                <a:ahLst/>
                <a:rect l="l" t="t" r="r" b="b"/>
                <a:pathLst>
                  <a:path w="108" h="664">
                    <a:moveTo>
                      <a:pt x="108" y="27"/>
                    </a:moveTo>
                    <a:lnTo>
                      <a:pt x="108" y="24"/>
                    </a:lnTo>
                    <a:lnTo>
                      <a:pt x="104" y="17"/>
                    </a:lnTo>
                    <a:lnTo>
                      <a:pt x="100" y="14"/>
                    </a:lnTo>
                    <a:lnTo>
                      <a:pt x="95" y="10"/>
                    </a:lnTo>
                    <a:lnTo>
                      <a:pt x="91" y="7"/>
                    </a:lnTo>
                    <a:lnTo>
                      <a:pt x="85" y="5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49" y="3"/>
                    </a:lnTo>
                    <a:lnTo>
                      <a:pt x="42" y="6"/>
                    </a:lnTo>
                    <a:lnTo>
                      <a:pt x="34" y="11"/>
                    </a:lnTo>
                    <a:lnTo>
                      <a:pt x="29" y="19"/>
                    </a:lnTo>
                    <a:lnTo>
                      <a:pt x="22" y="28"/>
                    </a:lnTo>
                    <a:lnTo>
                      <a:pt x="17" y="40"/>
                    </a:lnTo>
                    <a:lnTo>
                      <a:pt x="11" y="53"/>
                    </a:lnTo>
                    <a:lnTo>
                      <a:pt x="8" y="70"/>
                    </a:lnTo>
                    <a:lnTo>
                      <a:pt x="3" y="85"/>
                    </a:lnTo>
                    <a:lnTo>
                      <a:pt x="1" y="104"/>
                    </a:lnTo>
                    <a:lnTo>
                      <a:pt x="0" y="123"/>
                    </a:lnTo>
                    <a:lnTo>
                      <a:pt x="0" y="143"/>
                    </a:lnTo>
                    <a:lnTo>
                      <a:pt x="0" y="161"/>
                    </a:lnTo>
                    <a:lnTo>
                      <a:pt x="0" y="178"/>
                    </a:lnTo>
                    <a:lnTo>
                      <a:pt x="2" y="196"/>
                    </a:lnTo>
                    <a:lnTo>
                      <a:pt x="6" y="213"/>
                    </a:lnTo>
                    <a:lnTo>
                      <a:pt x="9" y="227"/>
                    </a:lnTo>
                    <a:lnTo>
                      <a:pt x="13" y="241"/>
                    </a:lnTo>
                    <a:lnTo>
                      <a:pt x="19" y="251"/>
                    </a:lnTo>
                    <a:lnTo>
                      <a:pt x="26" y="260"/>
                    </a:lnTo>
                    <a:lnTo>
                      <a:pt x="21" y="664"/>
                    </a:lnTo>
                    <a:lnTo>
                      <a:pt x="64" y="664"/>
                    </a:lnTo>
                    <a:lnTo>
                      <a:pt x="59" y="268"/>
                    </a:lnTo>
                    <a:lnTo>
                      <a:pt x="90" y="242"/>
                    </a:lnTo>
                    <a:lnTo>
                      <a:pt x="87" y="241"/>
                    </a:lnTo>
                    <a:lnTo>
                      <a:pt x="83" y="240"/>
                    </a:lnTo>
                    <a:lnTo>
                      <a:pt x="79" y="236"/>
                    </a:lnTo>
                    <a:lnTo>
                      <a:pt x="73" y="229"/>
                    </a:lnTo>
                    <a:lnTo>
                      <a:pt x="70" y="223"/>
                    </a:lnTo>
                    <a:lnTo>
                      <a:pt x="69" y="214"/>
                    </a:lnTo>
                    <a:lnTo>
                      <a:pt x="66" y="204"/>
                    </a:lnTo>
                    <a:lnTo>
                      <a:pt x="66" y="192"/>
                    </a:lnTo>
                    <a:lnTo>
                      <a:pt x="65" y="177"/>
                    </a:lnTo>
                    <a:lnTo>
                      <a:pt x="66" y="160"/>
                    </a:lnTo>
                    <a:lnTo>
                      <a:pt x="69" y="140"/>
                    </a:lnTo>
                    <a:lnTo>
                      <a:pt x="72" y="118"/>
                    </a:lnTo>
                    <a:lnTo>
                      <a:pt x="72" y="115"/>
                    </a:lnTo>
                    <a:lnTo>
                      <a:pt x="72" y="113"/>
                    </a:lnTo>
                    <a:lnTo>
                      <a:pt x="72" y="108"/>
                    </a:lnTo>
                    <a:lnTo>
                      <a:pt x="74" y="103"/>
                    </a:lnTo>
                    <a:lnTo>
                      <a:pt x="75" y="97"/>
                    </a:lnTo>
                    <a:lnTo>
                      <a:pt x="77" y="90"/>
                    </a:lnTo>
                    <a:lnTo>
                      <a:pt x="80" y="82"/>
                    </a:lnTo>
                    <a:lnTo>
                      <a:pt x="82" y="74"/>
                    </a:lnTo>
                    <a:lnTo>
                      <a:pt x="84" y="66"/>
                    </a:lnTo>
                    <a:lnTo>
                      <a:pt x="86" y="58"/>
                    </a:lnTo>
                    <a:lnTo>
                      <a:pt x="90" y="50"/>
                    </a:lnTo>
                    <a:lnTo>
                      <a:pt x="93" y="45"/>
                    </a:lnTo>
                    <a:lnTo>
                      <a:pt x="96" y="38"/>
                    </a:lnTo>
                    <a:lnTo>
                      <a:pt x="100" y="32"/>
                    </a:lnTo>
                    <a:lnTo>
                      <a:pt x="103" y="29"/>
                    </a:lnTo>
                    <a:lnTo>
                      <a:pt x="108" y="27"/>
                    </a:lnTo>
                    <a:lnTo>
                      <a:pt x="108" y="27"/>
                    </a:lnTo>
                    <a:close/>
                  </a:path>
                </a:pathLst>
              </a:custGeom>
              <a:solidFill>
                <a:srgbClr val="b34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2273400" y="3956040"/>
                <a:ext cx="46080" cy="266760"/>
              </a:xfrm>
              <a:custGeom>
                <a:avLst/>
                <a:gdLst/>
                <a:ahLst/>
                <a:rect l="l" t="t" r="r" b="b"/>
                <a:pathLst>
                  <a:path w="59" h="335">
                    <a:moveTo>
                      <a:pt x="20" y="335"/>
                    </a:moveTo>
                    <a:lnTo>
                      <a:pt x="20" y="116"/>
                    </a:lnTo>
                    <a:lnTo>
                      <a:pt x="18" y="112"/>
                    </a:lnTo>
                    <a:lnTo>
                      <a:pt x="13" y="104"/>
                    </a:lnTo>
                    <a:lnTo>
                      <a:pt x="10" y="97"/>
                    </a:lnTo>
                    <a:lnTo>
                      <a:pt x="8" y="92"/>
                    </a:lnTo>
                    <a:lnTo>
                      <a:pt x="6" y="84"/>
                    </a:lnTo>
                    <a:lnTo>
                      <a:pt x="5" y="77"/>
                    </a:lnTo>
                    <a:lnTo>
                      <a:pt x="1" y="69"/>
                    </a:lnTo>
                    <a:lnTo>
                      <a:pt x="1" y="60"/>
                    </a:lnTo>
                    <a:lnTo>
                      <a:pt x="0" y="51"/>
                    </a:lnTo>
                    <a:lnTo>
                      <a:pt x="2" y="43"/>
                    </a:lnTo>
                    <a:lnTo>
                      <a:pt x="5" y="34"/>
                    </a:lnTo>
                    <a:lnTo>
                      <a:pt x="9" y="24"/>
                    </a:lnTo>
                    <a:lnTo>
                      <a:pt x="15" y="17"/>
                    </a:lnTo>
                    <a:lnTo>
                      <a:pt x="22" y="11"/>
                    </a:lnTo>
                    <a:lnTo>
                      <a:pt x="30" y="4"/>
                    </a:lnTo>
                    <a:lnTo>
                      <a:pt x="37" y="1"/>
                    </a:lnTo>
                    <a:lnTo>
                      <a:pt x="43" y="0"/>
                    </a:lnTo>
                    <a:lnTo>
                      <a:pt x="49" y="1"/>
                    </a:lnTo>
                    <a:lnTo>
                      <a:pt x="55" y="6"/>
                    </a:lnTo>
                    <a:lnTo>
                      <a:pt x="59" y="9"/>
                    </a:lnTo>
                    <a:lnTo>
                      <a:pt x="57" y="11"/>
                    </a:lnTo>
                    <a:lnTo>
                      <a:pt x="52" y="20"/>
                    </a:lnTo>
                    <a:lnTo>
                      <a:pt x="48" y="24"/>
                    </a:lnTo>
                    <a:lnTo>
                      <a:pt x="44" y="32"/>
                    </a:lnTo>
                    <a:lnTo>
                      <a:pt x="42" y="39"/>
                    </a:lnTo>
                    <a:lnTo>
                      <a:pt x="40" y="48"/>
                    </a:lnTo>
                    <a:lnTo>
                      <a:pt x="37" y="56"/>
                    </a:lnTo>
                    <a:lnTo>
                      <a:pt x="34" y="64"/>
                    </a:lnTo>
                    <a:lnTo>
                      <a:pt x="33" y="72"/>
                    </a:lnTo>
                    <a:lnTo>
                      <a:pt x="34" y="81"/>
                    </a:lnTo>
                    <a:lnTo>
                      <a:pt x="34" y="86"/>
                    </a:lnTo>
                    <a:lnTo>
                      <a:pt x="39" y="94"/>
                    </a:lnTo>
                    <a:lnTo>
                      <a:pt x="43" y="98"/>
                    </a:lnTo>
                    <a:lnTo>
                      <a:pt x="50" y="104"/>
                    </a:lnTo>
                    <a:lnTo>
                      <a:pt x="50" y="106"/>
                    </a:lnTo>
                    <a:lnTo>
                      <a:pt x="45" y="113"/>
                    </a:lnTo>
                    <a:lnTo>
                      <a:pt x="41" y="117"/>
                    </a:lnTo>
                    <a:lnTo>
                      <a:pt x="40" y="118"/>
                    </a:lnTo>
                    <a:lnTo>
                      <a:pt x="41" y="333"/>
                    </a:lnTo>
                    <a:lnTo>
                      <a:pt x="20" y="335"/>
                    </a:lnTo>
                    <a:lnTo>
                      <a:pt x="20" y="335"/>
                    </a:lnTo>
                    <a:close/>
                  </a:path>
                </a:pathLst>
              </a:custGeom>
              <a:solidFill>
                <a:srgbClr val="b34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2122560" y="3770280"/>
                <a:ext cx="44640" cy="147600"/>
              </a:xfrm>
              <a:custGeom>
                <a:avLst/>
                <a:gdLst/>
                <a:ahLst/>
                <a:rect l="l" t="t" r="r" b="b"/>
                <a:pathLst>
                  <a:path w="57" h="187">
                    <a:moveTo>
                      <a:pt x="33" y="79"/>
                    </a:moveTo>
                    <a:lnTo>
                      <a:pt x="31" y="76"/>
                    </a:lnTo>
                    <a:lnTo>
                      <a:pt x="31" y="68"/>
                    </a:lnTo>
                    <a:lnTo>
                      <a:pt x="30" y="62"/>
                    </a:lnTo>
                    <a:lnTo>
                      <a:pt x="30" y="57"/>
                    </a:lnTo>
                    <a:lnTo>
                      <a:pt x="30" y="51"/>
                    </a:lnTo>
                    <a:lnTo>
                      <a:pt x="30" y="46"/>
                    </a:lnTo>
                    <a:lnTo>
                      <a:pt x="30" y="38"/>
                    </a:lnTo>
                    <a:lnTo>
                      <a:pt x="30" y="33"/>
                    </a:lnTo>
                    <a:lnTo>
                      <a:pt x="31" y="26"/>
                    </a:lnTo>
                    <a:lnTo>
                      <a:pt x="34" y="23"/>
                    </a:lnTo>
                    <a:lnTo>
                      <a:pt x="39" y="15"/>
                    </a:lnTo>
                    <a:lnTo>
                      <a:pt x="47" y="12"/>
                    </a:lnTo>
                    <a:lnTo>
                      <a:pt x="57" y="13"/>
                    </a:lnTo>
                    <a:lnTo>
                      <a:pt x="55" y="10"/>
                    </a:lnTo>
                    <a:lnTo>
                      <a:pt x="46" y="4"/>
                    </a:lnTo>
                    <a:lnTo>
                      <a:pt x="40" y="1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1" y="3"/>
                    </a:lnTo>
                    <a:lnTo>
                      <a:pt x="12" y="9"/>
                    </a:lnTo>
                    <a:lnTo>
                      <a:pt x="7" y="17"/>
                    </a:lnTo>
                    <a:lnTo>
                      <a:pt x="4" y="23"/>
                    </a:lnTo>
                    <a:lnTo>
                      <a:pt x="3" y="28"/>
                    </a:lnTo>
                    <a:lnTo>
                      <a:pt x="2" y="35"/>
                    </a:lnTo>
                    <a:lnTo>
                      <a:pt x="2" y="42"/>
                    </a:lnTo>
                    <a:lnTo>
                      <a:pt x="0" y="47"/>
                    </a:lnTo>
                    <a:lnTo>
                      <a:pt x="0" y="53"/>
                    </a:lnTo>
                    <a:lnTo>
                      <a:pt x="2" y="58"/>
                    </a:lnTo>
                    <a:lnTo>
                      <a:pt x="4" y="63"/>
                    </a:lnTo>
                    <a:lnTo>
                      <a:pt x="6" y="72"/>
                    </a:lnTo>
                    <a:lnTo>
                      <a:pt x="12" y="76"/>
                    </a:lnTo>
                    <a:lnTo>
                      <a:pt x="16" y="187"/>
                    </a:lnTo>
                    <a:lnTo>
                      <a:pt x="37" y="173"/>
                    </a:lnTo>
                    <a:lnTo>
                      <a:pt x="33" y="79"/>
                    </a:lnTo>
                    <a:lnTo>
                      <a:pt x="33" y="79"/>
                    </a:lnTo>
                    <a:close/>
                  </a:path>
                </a:pathLst>
              </a:custGeom>
              <a:solidFill>
                <a:srgbClr val="b34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2356200" y="3760560"/>
                <a:ext cx="38160" cy="168480"/>
              </a:xfrm>
              <a:custGeom>
                <a:avLst/>
                <a:gdLst/>
                <a:ahLst/>
                <a:rect l="l" t="t" r="r" b="b"/>
                <a:pathLst>
                  <a:path w="50" h="212">
                    <a:moveTo>
                      <a:pt x="12" y="212"/>
                    </a:moveTo>
                    <a:lnTo>
                      <a:pt x="11" y="63"/>
                    </a:lnTo>
                    <a:lnTo>
                      <a:pt x="9" y="59"/>
                    </a:lnTo>
                    <a:lnTo>
                      <a:pt x="6" y="51"/>
                    </a:lnTo>
                    <a:lnTo>
                      <a:pt x="2" y="43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6" y="6"/>
                    </a:lnTo>
                    <a:lnTo>
                      <a:pt x="11" y="4"/>
                    </a:lnTo>
                    <a:lnTo>
                      <a:pt x="16" y="1"/>
                    </a:lnTo>
                    <a:lnTo>
                      <a:pt x="24" y="1"/>
                    </a:lnTo>
                    <a:lnTo>
                      <a:pt x="31" y="0"/>
                    </a:lnTo>
                    <a:lnTo>
                      <a:pt x="37" y="1"/>
                    </a:lnTo>
                    <a:lnTo>
                      <a:pt x="41" y="3"/>
                    </a:lnTo>
                    <a:lnTo>
                      <a:pt x="45" y="6"/>
                    </a:lnTo>
                    <a:lnTo>
                      <a:pt x="46" y="9"/>
                    </a:lnTo>
                    <a:lnTo>
                      <a:pt x="49" y="16"/>
                    </a:lnTo>
                    <a:lnTo>
                      <a:pt x="49" y="22"/>
                    </a:lnTo>
                    <a:lnTo>
                      <a:pt x="50" y="27"/>
                    </a:lnTo>
                    <a:lnTo>
                      <a:pt x="49" y="34"/>
                    </a:lnTo>
                    <a:lnTo>
                      <a:pt x="48" y="39"/>
                    </a:lnTo>
                    <a:lnTo>
                      <a:pt x="46" y="45"/>
                    </a:lnTo>
                    <a:lnTo>
                      <a:pt x="46" y="50"/>
                    </a:lnTo>
                    <a:lnTo>
                      <a:pt x="44" y="58"/>
                    </a:lnTo>
                    <a:lnTo>
                      <a:pt x="44" y="63"/>
                    </a:lnTo>
                    <a:lnTo>
                      <a:pt x="39" y="67"/>
                    </a:lnTo>
                    <a:lnTo>
                      <a:pt x="41" y="211"/>
                    </a:lnTo>
                    <a:lnTo>
                      <a:pt x="12" y="212"/>
                    </a:lnTo>
                    <a:lnTo>
                      <a:pt x="12" y="212"/>
                    </a:lnTo>
                    <a:close/>
                  </a:path>
                </a:pathLst>
              </a:custGeom>
              <a:solidFill>
                <a:srgbClr val="b34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522880" y="3763800"/>
                <a:ext cx="33120" cy="138240"/>
              </a:xfrm>
              <a:custGeom>
                <a:avLst/>
                <a:gdLst/>
                <a:ahLst/>
                <a:rect l="l" t="t" r="r" b="b"/>
                <a:pathLst>
                  <a:path w="42" h="174">
                    <a:moveTo>
                      <a:pt x="32" y="169"/>
                    </a:moveTo>
                    <a:lnTo>
                      <a:pt x="32" y="53"/>
                    </a:lnTo>
                    <a:lnTo>
                      <a:pt x="32" y="49"/>
                    </a:lnTo>
                    <a:lnTo>
                      <a:pt x="36" y="42"/>
                    </a:lnTo>
                    <a:lnTo>
                      <a:pt x="38" y="35"/>
                    </a:lnTo>
                    <a:lnTo>
                      <a:pt x="41" y="30"/>
                    </a:lnTo>
                    <a:lnTo>
                      <a:pt x="41" y="23"/>
                    </a:lnTo>
                    <a:lnTo>
                      <a:pt x="42" y="18"/>
                    </a:lnTo>
                    <a:lnTo>
                      <a:pt x="40" y="11"/>
                    </a:lnTo>
                    <a:lnTo>
                      <a:pt x="37" y="7"/>
                    </a:lnTo>
                    <a:lnTo>
                      <a:pt x="33" y="2"/>
                    </a:lnTo>
                    <a:lnTo>
                      <a:pt x="31" y="1"/>
                    </a:lnTo>
                    <a:lnTo>
                      <a:pt x="21" y="0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4" y="9"/>
                    </a:lnTo>
                    <a:lnTo>
                      <a:pt x="2" y="14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4"/>
                    </a:lnTo>
                    <a:lnTo>
                      <a:pt x="3" y="42"/>
                    </a:lnTo>
                    <a:lnTo>
                      <a:pt x="7" y="49"/>
                    </a:lnTo>
                    <a:lnTo>
                      <a:pt x="7" y="174"/>
                    </a:lnTo>
                    <a:lnTo>
                      <a:pt x="32" y="169"/>
                    </a:lnTo>
                    <a:lnTo>
                      <a:pt x="32" y="169"/>
                    </a:lnTo>
                    <a:close/>
                  </a:path>
                </a:pathLst>
              </a:custGeom>
              <a:solidFill>
                <a:srgbClr val="b34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571480" y="4157640"/>
                <a:ext cx="93960" cy="293760"/>
              </a:xfrm>
              <a:custGeom>
                <a:avLst/>
                <a:gdLst/>
                <a:ahLst/>
                <a:rect l="l" t="t" r="r" b="b"/>
                <a:pathLst>
                  <a:path w="120" h="372">
                    <a:moveTo>
                      <a:pt x="120" y="31"/>
                    </a:moveTo>
                    <a:lnTo>
                      <a:pt x="118" y="30"/>
                    </a:lnTo>
                    <a:lnTo>
                      <a:pt x="114" y="30"/>
                    </a:lnTo>
                    <a:lnTo>
                      <a:pt x="108" y="30"/>
                    </a:lnTo>
                    <a:lnTo>
                      <a:pt x="100" y="32"/>
                    </a:lnTo>
                    <a:lnTo>
                      <a:pt x="90" y="33"/>
                    </a:lnTo>
                    <a:lnTo>
                      <a:pt x="80" y="37"/>
                    </a:lnTo>
                    <a:lnTo>
                      <a:pt x="70" y="39"/>
                    </a:lnTo>
                    <a:lnTo>
                      <a:pt x="61" y="46"/>
                    </a:lnTo>
                    <a:lnTo>
                      <a:pt x="51" y="50"/>
                    </a:lnTo>
                    <a:lnTo>
                      <a:pt x="44" y="59"/>
                    </a:lnTo>
                    <a:lnTo>
                      <a:pt x="35" y="69"/>
                    </a:lnTo>
                    <a:lnTo>
                      <a:pt x="31" y="82"/>
                    </a:lnTo>
                    <a:lnTo>
                      <a:pt x="27" y="95"/>
                    </a:lnTo>
                    <a:lnTo>
                      <a:pt x="27" y="112"/>
                    </a:lnTo>
                    <a:lnTo>
                      <a:pt x="30" y="131"/>
                    </a:lnTo>
                    <a:lnTo>
                      <a:pt x="38" y="154"/>
                    </a:lnTo>
                    <a:lnTo>
                      <a:pt x="39" y="156"/>
                    </a:lnTo>
                    <a:lnTo>
                      <a:pt x="44" y="158"/>
                    </a:lnTo>
                    <a:lnTo>
                      <a:pt x="48" y="161"/>
                    </a:lnTo>
                    <a:lnTo>
                      <a:pt x="55" y="164"/>
                    </a:lnTo>
                    <a:lnTo>
                      <a:pt x="59" y="165"/>
                    </a:lnTo>
                    <a:lnTo>
                      <a:pt x="65" y="165"/>
                    </a:lnTo>
                    <a:lnTo>
                      <a:pt x="68" y="166"/>
                    </a:lnTo>
                    <a:lnTo>
                      <a:pt x="69" y="167"/>
                    </a:lnTo>
                    <a:lnTo>
                      <a:pt x="69" y="372"/>
                    </a:lnTo>
                    <a:lnTo>
                      <a:pt x="40" y="372"/>
                    </a:lnTo>
                    <a:lnTo>
                      <a:pt x="38" y="166"/>
                    </a:lnTo>
                    <a:lnTo>
                      <a:pt x="34" y="164"/>
                    </a:lnTo>
                    <a:lnTo>
                      <a:pt x="27" y="155"/>
                    </a:lnTo>
                    <a:lnTo>
                      <a:pt x="23" y="148"/>
                    </a:lnTo>
                    <a:lnTo>
                      <a:pt x="17" y="142"/>
                    </a:lnTo>
                    <a:lnTo>
                      <a:pt x="12" y="135"/>
                    </a:lnTo>
                    <a:lnTo>
                      <a:pt x="9" y="127"/>
                    </a:lnTo>
                    <a:lnTo>
                      <a:pt x="4" y="117"/>
                    </a:lnTo>
                    <a:lnTo>
                      <a:pt x="2" y="106"/>
                    </a:lnTo>
                    <a:lnTo>
                      <a:pt x="0" y="95"/>
                    </a:lnTo>
                    <a:lnTo>
                      <a:pt x="0" y="84"/>
                    </a:lnTo>
                    <a:lnTo>
                      <a:pt x="3" y="72"/>
                    </a:lnTo>
                    <a:lnTo>
                      <a:pt x="8" y="60"/>
                    </a:lnTo>
                    <a:lnTo>
                      <a:pt x="15" y="47"/>
                    </a:lnTo>
                    <a:lnTo>
                      <a:pt x="25" y="33"/>
                    </a:lnTo>
                    <a:lnTo>
                      <a:pt x="35" y="21"/>
                    </a:lnTo>
                    <a:lnTo>
                      <a:pt x="46" y="12"/>
                    </a:lnTo>
                    <a:lnTo>
                      <a:pt x="56" y="5"/>
                    </a:lnTo>
                    <a:lnTo>
                      <a:pt x="66" y="2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8" y="2"/>
                    </a:lnTo>
                    <a:lnTo>
                      <a:pt x="94" y="5"/>
                    </a:lnTo>
                    <a:lnTo>
                      <a:pt x="100" y="8"/>
                    </a:lnTo>
                    <a:lnTo>
                      <a:pt x="104" y="12"/>
                    </a:lnTo>
                    <a:lnTo>
                      <a:pt x="109" y="16"/>
                    </a:lnTo>
                    <a:lnTo>
                      <a:pt x="113" y="21"/>
                    </a:lnTo>
                    <a:lnTo>
                      <a:pt x="118" y="27"/>
                    </a:lnTo>
                    <a:lnTo>
                      <a:pt x="120" y="31"/>
                    </a:lnTo>
                    <a:lnTo>
                      <a:pt x="120" y="31"/>
                    </a:lnTo>
                    <a:close/>
                  </a:path>
                </a:pathLst>
              </a:custGeom>
              <a:solidFill>
                <a:srgbClr val="b34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853920" y="4537080"/>
                <a:ext cx="157320" cy="56880"/>
              </a:xfrm>
              <a:custGeom>
                <a:avLst/>
                <a:gdLst/>
                <a:ahLst/>
                <a:rect l="l" t="t" r="r" b="b"/>
                <a:pathLst>
                  <a:path w="197" h="72">
                    <a:moveTo>
                      <a:pt x="5" y="43"/>
                    </a:moveTo>
                    <a:lnTo>
                      <a:pt x="0" y="18"/>
                    </a:lnTo>
                    <a:lnTo>
                      <a:pt x="10" y="18"/>
                    </a:lnTo>
                    <a:lnTo>
                      <a:pt x="11" y="38"/>
                    </a:lnTo>
                    <a:lnTo>
                      <a:pt x="36" y="35"/>
                    </a:lnTo>
                    <a:lnTo>
                      <a:pt x="34" y="8"/>
                    </a:lnTo>
                    <a:lnTo>
                      <a:pt x="44" y="5"/>
                    </a:lnTo>
                    <a:lnTo>
                      <a:pt x="45" y="31"/>
                    </a:lnTo>
                    <a:lnTo>
                      <a:pt x="62" y="30"/>
                    </a:lnTo>
                    <a:lnTo>
                      <a:pt x="62" y="0"/>
                    </a:lnTo>
                    <a:lnTo>
                      <a:pt x="74" y="4"/>
                    </a:lnTo>
                    <a:lnTo>
                      <a:pt x="72" y="33"/>
                    </a:lnTo>
                    <a:lnTo>
                      <a:pt x="93" y="38"/>
                    </a:lnTo>
                    <a:lnTo>
                      <a:pt x="96" y="10"/>
                    </a:lnTo>
                    <a:lnTo>
                      <a:pt x="110" y="14"/>
                    </a:lnTo>
                    <a:lnTo>
                      <a:pt x="103" y="39"/>
                    </a:lnTo>
                    <a:lnTo>
                      <a:pt x="125" y="48"/>
                    </a:lnTo>
                    <a:lnTo>
                      <a:pt x="131" y="21"/>
                    </a:lnTo>
                    <a:lnTo>
                      <a:pt x="145" y="25"/>
                    </a:lnTo>
                    <a:lnTo>
                      <a:pt x="133" y="49"/>
                    </a:lnTo>
                    <a:lnTo>
                      <a:pt x="149" y="54"/>
                    </a:lnTo>
                    <a:lnTo>
                      <a:pt x="156" y="31"/>
                    </a:lnTo>
                    <a:lnTo>
                      <a:pt x="168" y="35"/>
                    </a:lnTo>
                    <a:lnTo>
                      <a:pt x="154" y="57"/>
                    </a:lnTo>
                    <a:lnTo>
                      <a:pt x="175" y="64"/>
                    </a:lnTo>
                    <a:lnTo>
                      <a:pt x="182" y="41"/>
                    </a:lnTo>
                    <a:lnTo>
                      <a:pt x="197" y="51"/>
                    </a:lnTo>
                    <a:lnTo>
                      <a:pt x="180" y="72"/>
                    </a:lnTo>
                    <a:lnTo>
                      <a:pt x="120" y="54"/>
                    </a:lnTo>
                    <a:lnTo>
                      <a:pt x="59" y="43"/>
                    </a:lnTo>
                    <a:lnTo>
                      <a:pt x="5" y="43"/>
                    </a:lnTo>
                    <a:lnTo>
                      <a:pt x="5" y="43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903600" y="4605120"/>
                <a:ext cx="139680" cy="92160"/>
              </a:xfrm>
              <a:custGeom>
                <a:avLst/>
                <a:gdLst/>
                <a:ahLst/>
                <a:rect l="l" t="t" r="r" b="b"/>
                <a:pathLst>
                  <a:path w="175" h="115">
                    <a:moveTo>
                      <a:pt x="175" y="92"/>
                    </a:moveTo>
                    <a:lnTo>
                      <a:pt x="171" y="115"/>
                    </a:lnTo>
                    <a:lnTo>
                      <a:pt x="161" y="111"/>
                    </a:lnTo>
                    <a:lnTo>
                      <a:pt x="166" y="93"/>
                    </a:lnTo>
                    <a:lnTo>
                      <a:pt x="145" y="85"/>
                    </a:lnTo>
                    <a:lnTo>
                      <a:pt x="137" y="113"/>
                    </a:lnTo>
                    <a:lnTo>
                      <a:pt x="127" y="110"/>
                    </a:lnTo>
                    <a:lnTo>
                      <a:pt x="136" y="86"/>
                    </a:lnTo>
                    <a:lnTo>
                      <a:pt x="118" y="83"/>
                    </a:lnTo>
                    <a:lnTo>
                      <a:pt x="109" y="109"/>
                    </a:lnTo>
                    <a:lnTo>
                      <a:pt x="97" y="100"/>
                    </a:lnTo>
                    <a:lnTo>
                      <a:pt x="110" y="75"/>
                    </a:lnTo>
                    <a:lnTo>
                      <a:pt x="91" y="63"/>
                    </a:lnTo>
                    <a:lnTo>
                      <a:pt x="80" y="86"/>
                    </a:lnTo>
                    <a:lnTo>
                      <a:pt x="67" y="78"/>
                    </a:lnTo>
                    <a:lnTo>
                      <a:pt x="84" y="59"/>
                    </a:lnTo>
                    <a:lnTo>
                      <a:pt x="66" y="43"/>
                    </a:lnTo>
                    <a:lnTo>
                      <a:pt x="50" y="64"/>
                    </a:lnTo>
                    <a:lnTo>
                      <a:pt x="38" y="57"/>
                    </a:lnTo>
                    <a:lnTo>
                      <a:pt x="58" y="39"/>
                    </a:lnTo>
                    <a:lnTo>
                      <a:pt x="46" y="27"/>
                    </a:lnTo>
                    <a:lnTo>
                      <a:pt x="30" y="47"/>
                    </a:lnTo>
                    <a:lnTo>
                      <a:pt x="21" y="37"/>
                    </a:lnTo>
                    <a:lnTo>
                      <a:pt x="40" y="21"/>
                    </a:lnTo>
                    <a:lnTo>
                      <a:pt x="25" y="8"/>
                    </a:lnTo>
                    <a:lnTo>
                      <a:pt x="11" y="29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74" y="37"/>
                    </a:lnTo>
                    <a:lnTo>
                      <a:pt x="127" y="72"/>
                    </a:lnTo>
                    <a:lnTo>
                      <a:pt x="175" y="92"/>
                    </a:lnTo>
                    <a:lnTo>
                      <a:pt x="175" y="92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652680" y="5273640"/>
                <a:ext cx="959040" cy="260280"/>
              </a:xfrm>
              <a:custGeom>
                <a:avLst/>
                <a:gdLst/>
                <a:ahLst/>
                <a:rect l="l" t="t" r="r" b="b"/>
                <a:pathLst>
                  <a:path w="1209" h="328">
                    <a:moveTo>
                      <a:pt x="134" y="0"/>
                    </a:moveTo>
                    <a:lnTo>
                      <a:pt x="384" y="120"/>
                    </a:lnTo>
                    <a:lnTo>
                      <a:pt x="82" y="81"/>
                    </a:lnTo>
                    <a:lnTo>
                      <a:pt x="353" y="163"/>
                    </a:lnTo>
                    <a:lnTo>
                      <a:pt x="6" y="120"/>
                    </a:lnTo>
                    <a:lnTo>
                      <a:pt x="315" y="202"/>
                    </a:lnTo>
                    <a:lnTo>
                      <a:pt x="33" y="172"/>
                    </a:lnTo>
                    <a:lnTo>
                      <a:pt x="269" y="241"/>
                    </a:lnTo>
                    <a:lnTo>
                      <a:pt x="0" y="210"/>
                    </a:lnTo>
                    <a:lnTo>
                      <a:pt x="210" y="297"/>
                    </a:lnTo>
                    <a:lnTo>
                      <a:pt x="213" y="297"/>
                    </a:lnTo>
                    <a:lnTo>
                      <a:pt x="221" y="299"/>
                    </a:lnTo>
                    <a:lnTo>
                      <a:pt x="236" y="300"/>
                    </a:lnTo>
                    <a:lnTo>
                      <a:pt x="256" y="305"/>
                    </a:lnTo>
                    <a:lnTo>
                      <a:pt x="279" y="308"/>
                    </a:lnTo>
                    <a:lnTo>
                      <a:pt x="308" y="312"/>
                    </a:lnTo>
                    <a:lnTo>
                      <a:pt x="339" y="318"/>
                    </a:lnTo>
                    <a:lnTo>
                      <a:pt x="375" y="322"/>
                    </a:lnTo>
                    <a:lnTo>
                      <a:pt x="412" y="327"/>
                    </a:lnTo>
                    <a:lnTo>
                      <a:pt x="452" y="328"/>
                    </a:lnTo>
                    <a:lnTo>
                      <a:pt x="493" y="328"/>
                    </a:lnTo>
                    <a:lnTo>
                      <a:pt x="536" y="328"/>
                    </a:lnTo>
                    <a:lnTo>
                      <a:pt x="580" y="328"/>
                    </a:lnTo>
                    <a:lnTo>
                      <a:pt x="625" y="328"/>
                    </a:lnTo>
                    <a:lnTo>
                      <a:pt x="669" y="328"/>
                    </a:lnTo>
                    <a:lnTo>
                      <a:pt x="713" y="328"/>
                    </a:lnTo>
                    <a:lnTo>
                      <a:pt x="755" y="328"/>
                    </a:lnTo>
                    <a:lnTo>
                      <a:pt x="798" y="320"/>
                    </a:lnTo>
                    <a:lnTo>
                      <a:pt x="842" y="307"/>
                    </a:lnTo>
                    <a:lnTo>
                      <a:pt x="887" y="293"/>
                    </a:lnTo>
                    <a:lnTo>
                      <a:pt x="928" y="275"/>
                    </a:lnTo>
                    <a:lnTo>
                      <a:pt x="969" y="257"/>
                    </a:lnTo>
                    <a:lnTo>
                      <a:pt x="1008" y="238"/>
                    </a:lnTo>
                    <a:lnTo>
                      <a:pt x="1046" y="220"/>
                    </a:lnTo>
                    <a:lnTo>
                      <a:pt x="1079" y="200"/>
                    </a:lnTo>
                    <a:lnTo>
                      <a:pt x="1111" y="182"/>
                    </a:lnTo>
                    <a:lnTo>
                      <a:pt x="1139" y="164"/>
                    </a:lnTo>
                    <a:lnTo>
                      <a:pt x="1162" y="150"/>
                    </a:lnTo>
                    <a:lnTo>
                      <a:pt x="1182" y="137"/>
                    </a:lnTo>
                    <a:lnTo>
                      <a:pt x="1195" y="128"/>
                    </a:lnTo>
                    <a:lnTo>
                      <a:pt x="1205" y="122"/>
                    </a:lnTo>
                    <a:lnTo>
                      <a:pt x="1209" y="120"/>
                    </a:lnTo>
                    <a:lnTo>
                      <a:pt x="1203" y="119"/>
                    </a:lnTo>
                    <a:lnTo>
                      <a:pt x="1186" y="119"/>
                    </a:lnTo>
                    <a:lnTo>
                      <a:pt x="1161" y="119"/>
                    </a:lnTo>
                    <a:lnTo>
                      <a:pt x="1130" y="119"/>
                    </a:lnTo>
                    <a:lnTo>
                      <a:pt x="1091" y="119"/>
                    </a:lnTo>
                    <a:lnTo>
                      <a:pt x="1048" y="119"/>
                    </a:lnTo>
                    <a:lnTo>
                      <a:pt x="1002" y="119"/>
                    </a:lnTo>
                    <a:lnTo>
                      <a:pt x="955" y="119"/>
                    </a:lnTo>
                    <a:lnTo>
                      <a:pt x="905" y="118"/>
                    </a:lnTo>
                    <a:lnTo>
                      <a:pt x="857" y="117"/>
                    </a:lnTo>
                    <a:lnTo>
                      <a:pt x="811" y="116"/>
                    </a:lnTo>
                    <a:lnTo>
                      <a:pt x="770" y="116"/>
                    </a:lnTo>
                    <a:lnTo>
                      <a:pt x="731" y="115"/>
                    </a:lnTo>
                    <a:lnTo>
                      <a:pt x="701" y="113"/>
                    </a:lnTo>
                    <a:lnTo>
                      <a:pt x="678" y="113"/>
                    </a:lnTo>
                    <a:lnTo>
                      <a:pt x="665" y="112"/>
                    </a:lnTo>
                    <a:lnTo>
                      <a:pt x="650" y="108"/>
                    </a:lnTo>
                    <a:lnTo>
                      <a:pt x="627" y="103"/>
                    </a:lnTo>
                    <a:lnTo>
                      <a:pt x="597" y="97"/>
                    </a:lnTo>
                    <a:lnTo>
                      <a:pt x="561" y="90"/>
                    </a:lnTo>
                    <a:lnTo>
                      <a:pt x="519" y="79"/>
                    </a:lnTo>
                    <a:lnTo>
                      <a:pt x="475" y="70"/>
                    </a:lnTo>
                    <a:lnTo>
                      <a:pt x="427" y="60"/>
                    </a:lnTo>
                    <a:lnTo>
                      <a:pt x="381" y="51"/>
                    </a:lnTo>
                    <a:lnTo>
                      <a:pt x="332" y="42"/>
                    </a:lnTo>
                    <a:lnTo>
                      <a:pt x="288" y="32"/>
                    </a:lnTo>
                    <a:lnTo>
                      <a:pt x="246" y="22"/>
                    </a:lnTo>
                    <a:lnTo>
                      <a:pt x="209" y="15"/>
                    </a:lnTo>
                    <a:lnTo>
                      <a:pt x="177" y="8"/>
                    </a:lnTo>
                    <a:lnTo>
                      <a:pt x="154" y="4"/>
                    </a:lnTo>
                    <a:lnTo>
                      <a:pt x="138" y="0"/>
                    </a:lnTo>
                    <a:lnTo>
                      <a:pt x="134" y="0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7d7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4560" y="4467240"/>
              <a:ext cx="6303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 rot="5400000">
              <a:off x="636840" y="4238640"/>
              <a:ext cx="630360" cy="114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4356000" y="4800600"/>
            <a:ext cx="1138320" cy="1295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 flipH="1">
            <a:off x="4362480" y="3722760"/>
            <a:ext cx="1200240" cy="912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0" y="4098960"/>
            <a:ext cx="2046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Goal: </a:t>
            </a:r>
            <a:br>
              <a:rPr sz="3000"/>
            </a:b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Max Flo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4724280" y="4876920"/>
            <a:ext cx="3657600" cy="15904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5638680" y="548640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955200" y="1143000"/>
            <a:ext cx="157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Mistake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60760" y="1617840"/>
            <a:ext cx="2942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Putting 2 through </a:t>
            </a:r>
            <a:br>
              <a:rPr sz="3000"/>
            </a:b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this edg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640" y="1295280"/>
            <a:ext cx="61869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need to decrease the flow in this ed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if we decrease the total flow the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lgorithm might run exponential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forev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need to decrease the flow in this edg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increase the total fl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14400" y="1447920"/>
            <a:ext cx="7848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lly in each edge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see how much we can change the fl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ed Flow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llowe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hang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ople find this ha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my first attempt to explain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0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666880" y="762120"/>
            <a:ext cx="3944880" cy="1344600"/>
          </a:xfrm>
          <a:prstGeom prst="rect">
            <a:avLst/>
          </a:prstGeom>
          <a:ln w="0">
            <a:noFill/>
          </a:ln>
        </p:spPr>
      </p:pic>
      <p:grpSp>
        <p:nvGrpSpPr>
          <p:cNvPr id="643" name=""/>
          <p:cNvGrpSpPr/>
          <p:nvPr/>
        </p:nvGrpSpPr>
        <p:grpSpPr>
          <a:xfrm>
            <a:off x="3149640" y="2133720"/>
            <a:ext cx="3096360" cy="2058840"/>
            <a:chOff x="3149640" y="2133720"/>
            <a:chExt cx="3096360" cy="2058840"/>
          </a:xfrm>
        </p:grpSpPr>
        <p:sp>
          <p:nvSpPr>
            <p:cNvPr id="644" name=""/>
            <p:cNvSpPr/>
            <p:nvPr/>
          </p:nvSpPr>
          <p:spPr>
            <a:xfrm>
              <a:off x="3446280" y="33703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32280" y="33703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22600" y="3205080"/>
              <a:ext cx="2197080" cy="24156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flipV="1">
              <a:off x="3598200" y="344664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149640" y="29732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96080" y="30495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86800" y="2668680"/>
              <a:ext cx="857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0/75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161240" y="3641760"/>
              <a:ext cx="857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0/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6640" y="2133720"/>
              <a:ext cx="268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Old Flow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143000" y="4022640"/>
            <a:ext cx="2520720" cy="550800"/>
            <a:chOff x="1143000" y="4022640"/>
            <a:chExt cx="2520720" cy="550800"/>
          </a:xfrm>
        </p:grpSpPr>
        <p:sp>
          <p:nvSpPr>
            <p:cNvPr id="654" name=""/>
            <p:cNvSpPr/>
            <p:nvPr/>
          </p:nvSpPr>
          <p:spPr>
            <a:xfrm>
              <a:off x="1695240" y="4022640"/>
              <a:ext cx="1968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Walking 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143000" y="434808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802080" y="4648320"/>
            <a:ext cx="3125880" cy="2058840"/>
            <a:chOff x="802080" y="4648320"/>
            <a:chExt cx="3125880" cy="2058840"/>
          </a:xfrm>
        </p:grpSpPr>
        <p:sp>
          <p:nvSpPr>
            <p:cNvPr id="657" name=""/>
            <p:cNvSpPr/>
            <p:nvPr/>
          </p:nvSpPr>
          <p:spPr>
            <a:xfrm>
              <a:off x="1098720" y="58849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384720" y="58849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175040" y="5719680"/>
              <a:ext cx="2197080" cy="24156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 flipV="1">
              <a:off x="1250640" y="596124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02080" y="54878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48520" y="55641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743840" y="5183280"/>
              <a:ext cx="1047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10/75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813680" y="6156360"/>
              <a:ext cx="857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0/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98360" y="4648320"/>
              <a:ext cx="282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New Flow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90920" y="762120"/>
            <a:ext cx="3975120" cy="1371600"/>
            <a:chOff x="2590920" y="762120"/>
            <a:chExt cx="3975120" cy="1371600"/>
          </a:xfrm>
        </p:grpSpPr>
        <p:sp>
          <p:nvSpPr>
            <p:cNvPr id="667" name=""/>
            <p:cNvSpPr/>
            <p:nvPr/>
          </p:nvSpPr>
          <p:spPr>
            <a:xfrm>
              <a:off x="2590920" y="762120"/>
              <a:ext cx="396216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68" name="" descr=""/>
            <p:cNvPicPr/>
            <p:nvPr/>
          </p:nvPicPr>
          <p:blipFill>
            <a:blip r:embed="rId2"/>
            <a:stretch/>
          </p:blipFill>
          <p:spPr>
            <a:xfrm>
              <a:off x="2602080" y="955800"/>
              <a:ext cx="3963960" cy="110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149640" y="2133720"/>
            <a:ext cx="3096360" cy="2058840"/>
            <a:chOff x="3149640" y="2133720"/>
            <a:chExt cx="3096360" cy="2058840"/>
          </a:xfrm>
        </p:grpSpPr>
        <p:sp>
          <p:nvSpPr>
            <p:cNvPr id="671" name=""/>
            <p:cNvSpPr/>
            <p:nvPr/>
          </p:nvSpPr>
          <p:spPr>
            <a:xfrm>
              <a:off x="3446280" y="33703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732280" y="33703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522600" y="3205080"/>
              <a:ext cx="2197080" cy="24156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flipV="1">
              <a:off x="3598200" y="344664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149640" y="29732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896080" y="30495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186800" y="2668680"/>
              <a:ext cx="857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0/75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161240" y="3641760"/>
              <a:ext cx="857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0/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446640" y="2133720"/>
              <a:ext cx="268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Old Flow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5229360" y="4022640"/>
            <a:ext cx="2616480" cy="550800"/>
            <a:chOff x="5229360" y="4022640"/>
            <a:chExt cx="2616480" cy="550800"/>
          </a:xfrm>
        </p:grpSpPr>
        <p:sp>
          <p:nvSpPr>
            <p:cNvPr id="681" name=""/>
            <p:cNvSpPr/>
            <p:nvPr/>
          </p:nvSpPr>
          <p:spPr>
            <a:xfrm>
              <a:off x="5781600" y="4022640"/>
              <a:ext cx="2064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Walking  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229360" y="434808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878720" y="4648320"/>
            <a:ext cx="3125880" cy="2058840"/>
            <a:chOff x="4878720" y="4648320"/>
            <a:chExt cx="3125880" cy="2058840"/>
          </a:xfrm>
        </p:grpSpPr>
        <p:sp>
          <p:nvSpPr>
            <p:cNvPr id="684" name=""/>
            <p:cNvSpPr/>
            <p:nvPr/>
          </p:nvSpPr>
          <p:spPr>
            <a:xfrm>
              <a:off x="5175360" y="58849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461360" y="58849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251680" y="5719680"/>
              <a:ext cx="2197080" cy="24156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 flipV="1">
              <a:off x="5327280" y="596124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878720" y="54878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25160" y="55641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915880" y="5183280"/>
              <a:ext cx="857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0/75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795280" y="6156360"/>
              <a:ext cx="1047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10/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175000" y="4648320"/>
              <a:ext cx="282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New Flow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2666880" y="762120"/>
            <a:ext cx="3944880" cy="1344600"/>
            <a:chOff x="2666880" y="762120"/>
            <a:chExt cx="3944880" cy="1344600"/>
          </a:xfrm>
        </p:grpSpPr>
        <p:pic>
          <p:nvPicPr>
            <p:cNvPr id="694" name="" descr=""/>
            <p:cNvPicPr/>
            <p:nvPr/>
          </p:nvPicPr>
          <p:blipFill>
            <a:blip r:embed="rId1"/>
            <a:stretch/>
          </p:blipFill>
          <p:spPr>
            <a:xfrm>
              <a:off x="2666880" y="762120"/>
              <a:ext cx="394488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3390840" y="838080"/>
              <a:ext cx="14479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590920" y="723960"/>
            <a:ext cx="3962160" cy="1371600"/>
            <a:chOff x="2590920" y="723960"/>
            <a:chExt cx="3962160" cy="1371600"/>
          </a:xfrm>
        </p:grpSpPr>
        <p:sp>
          <p:nvSpPr>
            <p:cNvPr id="697" name=""/>
            <p:cNvSpPr/>
            <p:nvPr/>
          </p:nvSpPr>
          <p:spPr>
            <a:xfrm>
              <a:off x="2590920" y="723960"/>
              <a:ext cx="396216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98" name="" descr=""/>
            <p:cNvPicPr/>
            <p:nvPr/>
          </p:nvPicPr>
          <p:blipFill>
            <a:blip r:embed="rId2"/>
            <a:stretch/>
          </p:blipFill>
          <p:spPr>
            <a:xfrm>
              <a:off x="2590920" y="877680"/>
              <a:ext cx="3959280" cy="1128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3149640" y="2133720"/>
            <a:ext cx="3096360" cy="2058840"/>
            <a:chOff x="3149640" y="2133720"/>
            <a:chExt cx="3096360" cy="2058840"/>
          </a:xfrm>
        </p:grpSpPr>
        <p:sp>
          <p:nvSpPr>
            <p:cNvPr id="701" name=""/>
            <p:cNvSpPr/>
            <p:nvPr/>
          </p:nvSpPr>
          <p:spPr>
            <a:xfrm>
              <a:off x="3446280" y="33703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32280" y="33703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522600" y="3205080"/>
              <a:ext cx="2197080" cy="24156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 flipV="1">
              <a:off x="3598200" y="344664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149640" y="29732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896080" y="30495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86800" y="2668680"/>
              <a:ext cx="857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0/75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61240" y="3641760"/>
              <a:ext cx="857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0/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46640" y="2133720"/>
              <a:ext cx="268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Old Flow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1143000" y="4022640"/>
            <a:ext cx="2647440" cy="550800"/>
            <a:chOff x="1143000" y="4022640"/>
            <a:chExt cx="2647440" cy="550800"/>
          </a:xfrm>
        </p:grpSpPr>
        <p:sp>
          <p:nvSpPr>
            <p:cNvPr id="711" name=""/>
            <p:cNvSpPr/>
            <p:nvPr/>
          </p:nvSpPr>
          <p:spPr>
            <a:xfrm>
              <a:off x="1695600" y="4022640"/>
              <a:ext cx="2094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Walking -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43000" y="434808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802080" y="4648320"/>
            <a:ext cx="3125880" cy="2058840"/>
            <a:chOff x="802080" y="4648320"/>
            <a:chExt cx="3125880" cy="2058840"/>
          </a:xfrm>
        </p:grpSpPr>
        <p:sp>
          <p:nvSpPr>
            <p:cNvPr id="714" name=""/>
            <p:cNvSpPr/>
            <p:nvPr/>
          </p:nvSpPr>
          <p:spPr>
            <a:xfrm>
              <a:off x="1098720" y="58849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384720" y="58849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175040" y="5719680"/>
              <a:ext cx="2197080" cy="24156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flipV="1">
              <a:off x="1250640" y="596124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02080" y="54878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548520" y="55641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80840" y="5183280"/>
              <a:ext cx="1174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-10/75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13680" y="6156360"/>
              <a:ext cx="857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0/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98360" y="4648320"/>
              <a:ext cx="282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New Flow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2666880" y="762120"/>
            <a:ext cx="3944880" cy="1344600"/>
            <a:chOff x="2666880" y="762120"/>
            <a:chExt cx="3944880" cy="1344600"/>
          </a:xfrm>
        </p:grpSpPr>
        <p:pic>
          <p:nvPicPr>
            <p:cNvPr id="724" name="" descr=""/>
            <p:cNvPicPr/>
            <p:nvPr/>
          </p:nvPicPr>
          <p:blipFill>
            <a:blip r:embed="rId1"/>
            <a:stretch/>
          </p:blipFill>
          <p:spPr>
            <a:xfrm>
              <a:off x="2666880" y="762120"/>
              <a:ext cx="394488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3378240" y="774720"/>
              <a:ext cx="13716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2616120" y="749160"/>
            <a:ext cx="3962160" cy="1371600"/>
            <a:chOff x="2616120" y="749160"/>
            <a:chExt cx="3962160" cy="1371600"/>
          </a:xfrm>
        </p:grpSpPr>
        <p:sp>
          <p:nvSpPr>
            <p:cNvPr id="727" name=""/>
            <p:cNvSpPr/>
            <p:nvPr/>
          </p:nvSpPr>
          <p:spPr>
            <a:xfrm>
              <a:off x="2616120" y="749160"/>
              <a:ext cx="396216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8" name="" descr=""/>
            <p:cNvPicPr/>
            <p:nvPr/>
          </p:nvPicPr>
          <p:blipFill>
            <a:blip r:embed="rId2"/>
            <a:stretch/>
          </p:blipFill>
          <p:spPr>
            <a:xfrm>
              <a:off x="2616120" y="902880"/>
              <a:ext cx="3959280" cy="112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9" name=""/>
          <p:cNvGrpSpPr/>
          <p:nvPr/>
        </p:nvGrpSpPr>
        <p:grpSpPr>
          <a:xfrm>
            <a:off x="2381760" y="2147760"/>
            <a:ext cx="5622840" cy="4559400"/>
            <a:chOff x="2381760" y="2147760"/>
            <a:chExt cx="5622840" cy="4559400"/>
          </a:xfrm>
        </p:grpSpPr>
        <p:sp>
          <p:nvSpPr>
            <p:cNvPr id="730" name=""/>
            <p:cNvSpPr/>
            <p:nvPr/>
          </p:nvSpPr>
          <p:spPr>
            <a:xfrm>
              <a:off x="2381760" y="2147760"/>
              <a:ext cx="96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Sam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5229360" y="4022640"/>
              <a:ext cx="2616480" cy="550800"/>
              <a:chOff x="5229360" y="4022640"/>
              <a:chExt cx="2616480" cy="550800"/>
            </a:xfrm>
          </p:grpSpPr>
          <p:sp>
            <p:nvSpPr>
              <p:cNvPr id="732" name=""/>
              <p:cNvSpPr/>
              <p:nvPr/>
            </p:nvSpPr>
            <p:spPr>
              <a:xfrm>
                <a:off x="5781600" y="4022640"/>
                <a:ext cx="206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0000"/>
                    </a:solidFill>
                    <a:latin typeface="Times New Roman"/>
                  </a:rPr>
                  <a:t>Walking  10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229360" y="4348080"/>
                <a:ext cx="533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4878720" y="4648320"/>
              <a:ext cx="3125880" cy="2058840"/>
              <a:chOff x="4878720" y="4648320"/>
              <a:chExt cx="3125880" cy="2058840"/>
            </a:xfrm>
          </p:grpSpPr>
          <p:sp>
            <p:nvSpPr>
              <p:cNvPr id="735" name=""/>
              <p:cNvSpPr/>
              <p:nvPr/>
            </p:nvSpPr>
            <p:spPr>
              <a:xfrm>
                <a:off x="5175360" y="588492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461360" y="588492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251680" y="5719680"/>
                <a:ext cx="2197080" cy="241560"/>
              </a:xfrm>
              <a:custGeom>
                <a:avLst/>
                <a:gdLst/>
                <a:ahLst/>
                <a:rect l="l" t="t" r="r" b="b"/>
                <a:pathLst>
                  <a:path w="1384" h="152">
                    <a:moveTo>
                      <a:pt x="0" y="152"/>
                    </a:moveTo>
                    <a:cubicBezTo>
                      <a:pt x="196" y="84"/>
                      <a:pt x="393" y="16"/>
                      <a:pt x="624" y="8"/>
                    </a:cubicBezTo>
                    <a:cubicBezTo>
                      <a:pt x="855" y="0"/>
                      <a:pt x="1226" y="84"/>
                      <a:pt x="1384" y="104"/>
                    </a:cubicBez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 flipV="1">
                <a:off x="5327280" y="5961240"/>
                <a:ext cx="2197080" cy="241200"/>
              </a:xfrm>
              <a:custGeom>
                <a:avLst/>
                <a:gdLst/>
                <a:ahLst/>
                <a:rect l="l" t="t" r="r" b="b"/>
                <a:pathLst>
                  <a:path w="1384" h="152">
                    <a:moveTo>
                      <a:pt x="0" y="152"/>
                    </a:moveTo>
                    <a:cubicBezTo>
                      <a:pt x="196" y="84"/>
                      <a:pt x="393" y="16"/>
                      <a:pt x="624" y="8"/>
                    </a:cubicBezTo>
                    <a:cubicBezTo>
                      <a:pt x="855" y="0"/>
                      <a:pt x="1226" y="84"/>
                      <a:pt x="1384" y="104"/>
                    </a:cubicBez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878720" y="54878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5160" y="5564160"/>
                <a:ext cx="3499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915880" y="5183280"/>
                <a:ext cx="857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imes New Roman"/>
                  </a:rPr>
                  <a:t>0/75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795280" y="6156360"/>
                <a:ext cx="1047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imes New Roman"/>
                  </a:rPr>
                  <a:t>10/10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175000" y="4648320"/>
                <a:ext cx="282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imes New Roman"/>
                  </a:rPr>
                  <a:t>New Flow Graph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4" name=""/>
          <p:cNvSpPr/>
          <p:nvPr/>
        </p:nvSpPr>
        <p:spPr>
          <a:xfrm>
            <a:off x="2897280" y="5181480"/>
            <a:ext cx="19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t allo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143000" y="4022640"/>
            <a:ext cx="2647440" cy="550800"/>
            <a:chOff x="1143000" y="4022640"/>
            <a:chExt cx="2647440" cy="550800"/>
          </a:xfrm>
        </p:grpSpPr>
        <p:sp>
          <p:nvSpPr>
            <p:cNvPr id="747" name=""/>
            <p:cNvSpPr/>
            <p:nvPr/>
          </p:nvSpPr>
          <p:spPr>
            <a:xfrm>
              <a:off x="1695600" y="4022640"/>
              <a:ext cx="2094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Walking -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43000" y="434808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802080" y="4648320"/>
            <a:ext cx="3125880" cy="2058840"/>
            <a:chOff x="802080" y="4648320"/>
            <a:chExt cx="3125880" cy="2058840"/>
          </a:xfrm>
        </p:grpSpPr>
        <p:sp>
          <p:nvSpPr>
            <p:cNvPr id="750" name=""/>
            <p:cNvSpPr/>
            <p:nvPr/>
          </p:nvSpPr>
          <p:spPr>
            <a:xfrm>
              <a:off x="1098720" y="58849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384720" y="58849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75040" y="5719680"/>
              <a:ext cx="2197080" cy="24156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flipV="1">
              <a:off x="1250640" y="596124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02080" y="54878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48520" y="55641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80840" y="5183280"/>
              <a:ext cx="1174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-10/75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13680" y="6156360"/>
              <a:ext cx="857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0/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098360" y="4648320"/>
              <a:ext cx="282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New Flow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2666880" y="762120"/>
            <a:ext cx="3944880" cy="1344600"/>
            <a:chOff x="2666880" y="762120"/>
            <a:chExt cx="3944880" cy="1344600"/>
          </a:xfrm>
        </p:grpSpPr>
        <p:pic>
          <p:nvPicPr>
            <p:cNvPr id="760" name="" descr=""/>
            <p:cNvPicPr/>
            <p:nvPr/>
          </p:nvPicPr>
          <p:blipFill>
            <a:blip r:embed="rId1"/>
            <a:stretch/>
          </p:blipFill>
          <p:spPr>
            <a:xfrm>
              <a:off x="2666880" y="762120"/>
              <a:ext cx="394488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3378240" y="774720"/>
              <a:ext cx="13716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2616120" y="749160"/>
            <a:ext cx="3962160" cy="1371600"/>
            <a:chOff x="2616120" y="749160"/>
            <a:chExt cx="3962160" cy="1371600"/>
          </a:xfrm>
        </p:grpSpPr>
        <p:sp>
          <p:nvSpPr>
            <p:cNvPr id="763" name=""/>
            <p:cNvSpPr/>
            <p:nvPr/>
          </p:nvSpPr>
          <p:spPr>
            <a:xfrm>
              <a:off x="2616120" y="749160"/>
              <a:ext cx="396216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64" name="" descr=""/>
            <p:cNvPicPr/>
            <p:nvPr/>
          </p:nvPicPr>
          <p:blipFill>
            <a:blip r:embed="rId2"/>
            <a:stretch/>
          </p:blipFill>
          <p:spPr>
            <a:xfrm>
              <a:off x="2616120" y="902880"/>
              <a:ext cx="3959280" cy="112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5" name=""/>
          <p:cNvGrpSpPr/>
          <p:nvPr/>
        </p:nvGrpSpPr>
        <p:grpSpPr>
          <a:xfrm>
            <a:off x="2381760" y="2147760"/>
            <a:ext cx="5622840" cy="4559400"/>
            <a:chOff x="2381760" y="2147760"/>
            <a:chExt cx="5622840" cy="4559400"/>
          </a:xfrm>
        </p:grpSpPr>
        <p:sp>
          <p:nvSpPr>
            <p:cNvPr id="766" name=""/>
            <p:cNvSpPr/>
            <p:nvPr/>
          </p:nvSpPr>
          <p:spPr>
            <a:xfrm>
              <a:off x="2381760" y="2147760"/>
              <a:ext cx="96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Sam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5229360" y="4022640"/>
              <a:ext cx="2616480" cy="550800"/>
              <a:chOff x="5229360" y="4022640"/>
              <a:chExt cx="2616480" cy="550800"/>
            </a:xfrm>
          </p:grpSpPr>
          <p:sp>
            <p:nvSpPr>
              <p:cNvPr id="768" name=""/>
              <p:cNvSpPr/>
              <p:nvPr/>
            </p:nvSpPr>
            <p:spPr>
              <a:xfrm>
                <a:off x="5781600" y="4022640"/>
                <a:ext cx="206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0000"/>
                    </a:solidFill>
                    <a:latin typeface="Times New Roman"/>
                  </a:rPr>
                  <a:t>Walking  10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229360" y="4348080"/>
                <a:ext cx="533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4878720" y="4648320"/>
              <a:ext cx="3125880" cy="2058840"/>
              <a:chOff x="4878720" y="4648320"/>
              <a:chExt cx="3125880" cy="2058840"/>
            </a:xfrm>
          </p:grpSpPr>
          <p:sp>
            <p:nvSpPr>
              <p:cNvPr id="771" name=""/>
              <p:cNvSpPr/>
              <p:nvPr/>
            </p:nvSpPr>
            <p:spPr>
              <a:xfrm>
                <a:off x="5175360" y="588492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461360" y="588492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51680" y="5719680"/>
                <a:ext cx="2197080" cy="241560"/>
              </a:xfrm>
              <a:custGeom>
                <a:avLst/>
                <a:gdLst/>
                <a:ahLst/>
                <a:rect l="l" t="t" r="r" b="b"/>
                <a:pathLst>
                  <a:path w="1384" h="152">
                    <a:moveTo>
                      <a:pt x="0" y="152"/>
                    </a:moveTo>
                    <a:cubicBezTo>
                      <a:pt x="196" y="84"/>
                      <a:pt x="393" y="16"/>
                      <a:pt x="624" y="8"/>
                    </a:cubicBezTo>
                    <a:cubicBezTo>
                      <a:pt x="855" y="0"/>
                      <a:pt x="1226" y="84"/>
                      <a:pt x="1384" y="104"/>
                    </a:cubicBez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 flipV="1">
                <a:off x="5327280" y="5961240"/>
                <a:ext cx="2197080" cy="241200"/>
              </a:xfrm>
              <a:custGeom>
                <a:avLst/>
                <a:gdLst/>
                <a:ahLst/>
                <a:rect l="l" t="t" r="r" b="b"/>
                <a:pathLst>
                  <a:path w="1384" h="152">
                    <a:moveTo>
                      <a:pt x="0" y="152"/>
                    </a:moveTo>
                    <a:cubicBezTo>
                      <a:pt x="196" y="84"/>
                      <a:pt x="393" y="16"/>
                      <a:pt x="624" y="8"/>
                    </a:cubicBezTo>
                    <a:cubicBezTo>
                      <a:pt x="855" y="0"/>
                      <a:pt x="1226" y="84"/>
                      <a:pt x="1384" y="104"/>
                    </a:cubicBez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878720" y="54878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25160" y="5564160"/>
                <a:ext cx="3499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915880" y="5183280"/>
                <a:ext cx="857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imes New Roman"/>
                  </a:rPr>
                  <a:t>0/75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795280" y="6156360"/>
                <a:ext cx="1047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imes New Roman"/>
                  </a:rPr>
                  <a:t>10/10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175000" y="4648320"/>
                <a:ext cx="282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imes New Roman"/>
                  </a:rPr>
                  <a:t>New Flow Graph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0" name=""/>
          <p:cNvSpPr/>
          <p:nvPr/>
        </p:nvSpPr>
        <p:spPr>
          <a:xfrm>
            <a:off x="2897280" y="5181480"/>
            <a:ext cx="19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t allo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3202200" y="2282760"/>
            <a:ext cx="3096360" cy="1735200"/>
            <a:chOff x="3202200" y="2282760"/>
            <a:chExt cx="3096360" cy="1735200"/>
          </a:xfrm>
        </p:grpSpPr>
        <p:sp>
          <p:nvSpPr>
            <p:cNvPr id="782" name=""/>
            <p:cNvSpPr/>
            <p:nvPr/>
          </p:nvSpPr>
          <p:spPr>
            <a:xfrm>
              <a:off x="3498840" y="35193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784840" y="35193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575160" y="335448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202200" y="31226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948640" y="31989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433680" y="2814480"/>
              <a:ext cx="2466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&lt;u,v&gt;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[-10,75]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499560" y="2282760"/>
              <a:ext cx="2722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Eqv Flow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801240" y="3413160"/>
              <a:ext cx="17902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&lt;u,v&gt;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= -1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0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2590920" y="762120"/>
            <a:ext cx="3975120" cy="1371600"/>
            <a:chOff x="2590920" y="762120"/>
            <a:chExt cx="3975120" cy="1371600"/>
          </a:xfrm>
        </p:grpSpPr>
        <p:sp>
          <p:nvSpPr>
            <p:cNvPr id="792" name=""/>
            <p:cNvSpPr/>
            <p:nvPr/>
          </p:nvSpPr>
          <p:spPr>
            <a:xfrm>
              <a:off x="2590920" y="762120"/>
              <a:ext cx="396216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3" name="" descr=""/>
            <p:cNvPicPr/>
            <p:nvPr/>
          </p:nvPicPr>
          <p:blipFill>
            <a:blip r:embed="rId1"/>
            <a:stretch/>
          </p:blipFill>
          <p:spPr>
            <a:xfrm>
              <a:off x="2602080" y="955800"/>
              <a:ext cx="3963960" cy="110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4" name=""/>
          <p:cNvSpPr/>
          <p:nvPr/>
        </p:nvSpPr>
        <p:spPr>
          <a:xfrm>
            <a:off x="5547600" y="4648320"/>
            <a:ext cx="24886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+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≤ 7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≤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1143000" y="4022640"/>
            <a:ext cx="2514600" cy="550800"/>
            <a:chOff x="1143000" y="4022640"/>
            <a:chExt cx="2514600" cy="550800"/>
          </a:xfrm>
        </p:grpSpPr>
        <p:grpSp>
          <p:nvGrpSpPr>
            <p:cNvPr id="796" name=""/>
            <p:cNvGrpSpPr/>
            <p:nvPr/>
          </p:nvGrpSpPr>
          <p:grpSpPr>
            <a:xfrm>
              <a:off x="1143000" y="4022640"/>
              <a:ext cx="2384640" cy="550800"/>
              <a:chOff x="1143000" y="4022640"/>
              <a:chExt cx="2384640" cy="550800"/>
            </a:xfrm>
          </p:grpSpPr>
          <p:sp>
            <p:nvSpPr>
              <p:cNvPr id="797" name=""/>
              <p:cNvSpPr/>
              <p:nvPr/>
            </p:nvSpPr>
            <p:spPr>
              <a:xfrm>
                <a:off x="1694880" y="4022640"/>
                <a:ext cx="1832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0000"/>
                    </a:solidFill>
                    <a:latin typeface="Times New Roman"/>
                  </a:rPr>
                  <a:t>Walking </a:t>
                </a:r>
                <a:r>
                  <a:rPr b="0" lang="el-GR" sz="30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Δ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143000" y="4348080"/>
                <a:ext cx="5335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9" name=""/>
            <p:cNvSpPr/>
            <p:nvPr/>
          </p:nvSpPr>
          <p:spPr>
            <a:xfrm>
              <a:off x="3429000" y="44197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6730920" y="50292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781680" y="546084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803920" y="588024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802080" y="4648320"/>
            <a:ext cx="3125880" cy="2058840"/>
            <a:chOff x="802080" y="4648320"/>
            <a:chExt cx="3125880" cy="2058840"/>
          </a:xfrm>
        </p:grpSpPr>
        <p:grpSp>
          <p:nvGrpSpPr>
            <p:cNvPr id="804" name=""/>
            <p:cNvGrpSpPr/>
            <p:nvPr/>
          </p:nvGrpSpPr>
          <p:grpSpPr>
            <a:xfrm>
              <a:off x="802080" y="4648320"/>
              <a:ext cx="3125880" cy="2058840"/>
              <a:chOff x="802080" y="4648320"/>
              <a:chExt cx="3125880" cy="2058840"/>
            </a:xfrm>
          </p:grpSpPr>
          <p:sp>
            <p:nvSpPr>
              <p:cNvPr id="805" name=""/>
              <p:cNvSpPr/>
              <p:nvPr/>
            </p:nvSpPr>
            <p:spPr>
              <a:xfrm>
                <a:off x="1098720" y="588492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384720" y="588492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175040" y="5719680"/>
                <a:ext cx="2197080" cy="241560"/>
              </a:xfrm>
              <a:custGeom>
                <a:avLst/>
                <a:gdLst/>
                <a:ahLst/>
                <a:rect l="l" t="t" r="r" b="b"/>
                <a:pathLst>
                  <a:path w="1384" h="152">
                    <a:moveTo>
                      <a:pt x="0" y="152"/>
                    </a:moveTo>
                    <a:cubicBezTo>
                      <a:pt x="196" y="84"/>
                      <a:pt x="393" y="16"/>
                      <a:pt x="624" y="8"/>
                    </a:cubicBezTo>
                    <a:cubicBezTo>
                      <a:pt x="855" y="0"/>
                      <a:pt x="1226" y="84"/>
                      <a:pt x="1384" y="104"/>
                    </a:cubicBez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 flipV="1">
                <a:off x="1250640" y="5961240"/>
                <a:ext cx="2197080" cy="241200"/>
              </a:xfrm>
              <a:custGeom>
                <a:avLst/>
                <a:gdLst/>
                <a:ahLst/>
                <a:rect l="l" t="t" r="r" b="b"/>
                <a:pathLst>
                  <a:path w="1384" h="152">
                    <a:moveTo>
                      <a:pt x="0" y="152"/>
                    </a:moveTo>
                    <a:cubicBezTo>
                      <a:pt x="196" y="84"/>
                      <a:pt x="393" y="16"/>
                      <a:pt x="624" y="8"/>
                    </a:cubicBezTo>
                    <a:cubicBezTo>
                      <a:pt x="855" y="0"/>
                      <a:pt x="1226" y="84"/>
                      <a:pt x="1384" y="104"/>
                    </a:cubicBez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02080" y="54878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548520" y="5564160"/>
                <a:ext cx="3499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390680" y="5183280"/>
                <a:ext cx="17564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imes New Roman"/>
                  </a:rPr>
                  <a:t>10+</a:t>
                </a:r>
                <a:r>
                  <a:rPr b="0" lang="el-GR" sz="2800" spc="-1" strike="noStrike">
                    <a:solidFill>
                      <a:srgbClr val="ffffff"/>
                    </a:solidFill>
                    <a:latin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Times New Roman"/>
                  </a:rPr>
                  <a:t>   </a:t>
                </a:r>
                <a:r>
                  <a:rPr b="0" lang="en-US" sz="3000" spc="-1" strike="noStrike">
                    <a:solidFill>
                      <a:srgbClr val="ffffff"/>
                    </a:solidFill>
                    <a:latin typeface="Times New Roman"/>
                  </a:rPr>
                  <a:t>/75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813680" y="6156360"/>
                <a:ext cx="857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imes New Roman"/>
                  </a:rPr>
                  <a:t>0/10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098360" y="4648320"/>
                <a:ext cx="282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imes New Roman"/>
                  </a:rPr>
                  <a:t>New Flow Graph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2336760" y="55627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3202200" y="2282760"/>
            <a:ext cx="3096360" cy="1735200"/>
            <a:chOff x="3202200" y="2282760"/>
            <a:chExt cx="3096360" cy="1735200"/>
          </a:xfrm>
        </p:grpSpPr>
        <p:sp>
          <p:nvSpPr>
            <p:cNvPr id="816" name=""/>
            <p:cNvSpPr/>
            <p:nvPr/>
          </p:nvSpPr>
          <p:spPr>
            <a:xfrm>
              <a:off x="3498840" y="35193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784840" y="35193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575160" y="335448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202200" y="31226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8640" y="31989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433680" y="2814480"/>
              <a:ext cx="2466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&lt;u,v&gt;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[-10,75]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499560" y="2282760"/>
              <a:ext cx="2722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Eqv Flow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859920" y="3413160"/>
              <a:ext cx="16714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&lt;u,v&gt;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= 1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2590920" y="762120"/>
            <a:ext cx="3975120" cy="1371600"/>
            <a:chOff x="2590920" y="762120"/>
            <a:chExt cx="3975120" cy="1371600"/>
          </a:xfrm>
        </p:grpSpPr>
        <p:sp>
          <p:nvSpPr>
            <p:cNvPr id="826" name=""/>
            <p:cNvSpPr/>
            <p:nvPr/>
          </p:nvSpPr>
          <p:spPr>
            <a:xfrm>
              <a:off x="2590920" y="762120"/>
              <a:ext cx="396216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7" name="" descr=""/>
            <p:cNvPicPr/>
            <p:nvPr/>
          </p:nvPicPr>
          <p:blipFill>
            <a:blip r:embed="rId1"/>
            <a:stretch/>
          </p:blipFill>
          <p:spPr>
            <a:xfrm>
              <a:off x="2602080" y="955800"/>
              <a:ext cx="3963960" cy="110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8" name=""/>
          <p:cNvSpPr/>
          <p:nvPr/>
        </p:nvSpPr>
        <p:spPr>
          <a:xfrm>
            <a:off x="713880" y="4648320"/>
            <a:ext cx="27568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-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≥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≥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≤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917720" y="50292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981080" y="546084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952560" y="588024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4878720" y="4648320"/>
            <a:ext cx="3125880" cy="2058840"/>
            <a:chOff x="4878720" y="4648320"/>
            <a:chExt cx="3125880" cy="2058840"/>
          </a:xfrm>
        </p:grpSpPr>
        <p:grpSp>
          <p:nvGrpSpPr>
            <p:cNvPr id="833" name=""/>
            <p:cNvGrpSpPr/>
            <p:nvPr/>
          </p:nvGrpSpPr>
          <p:grpSpPr>
            <a:xfrm>
              <a:off x="4878720" y="4648320"/>
              <a:ext cx="3125880" cy="2058840"/>
              <a:chOff x="4878720" y="4648320"/>
              <a:chExt cx="3125880" cy="2058840"/>
            </a:xfrm>
          </p:grpSpPr>
          <p:sp>
            <p:nvSpPr>
              <p:cNvPr id="834" name=""/>
              <p:cNvSpPr/>
              <p:nvPr/>
            </p:nvSpPr>
            <p:spPr>
              <a:xfrm>
                <a:off x="5175360" y="588492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461360" y="588492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51680" y="5719680"/>
                <a:ext cx="2197080" cy="241560"/>
              </a:xfrm>
              <a:custGeom>
                <a:avLst/>
                <a:gdLst/>
                <a:ahLst/>
                <a:rect l="l" t="t" r="r" b="b"/>
                <a:pathLst>
                  <a:path w="1384" h="152">
                    <a:moveTo>
                      <a:pt x="0" y="152"/>
                    </a:moveTo>
                    <a:cubicBezTo>
                      <a:pt x="196" y="84"/>
                      <a:pt x="393" y="16"/>
                      <a:pt x="624" y="8"/>
                    </a:cubicBezTo>
                    <a:cubicBezTo>
                      <a:pt x="855" y="0"/>
                      <a:pt x="1226" y="84"/>
                      <a:pt x="1384" y="104"/>
                    </a:cubicBez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 flipV="1">
                <a:off x="5327280" y="5961240"/>
                <a:ext cx="2197080" cy="241200"/>
              </a:xfrm>
              <a:custGeom>
                <a:avLst/>
                <a:gdLst/>
                <a:ahLst/>
                <a:rect l="l" t="t" r="r" b="b"/>
                <a:pathLst>
                  <a:path w="1384" h="152">
                    <a:moveTo>
                      <a:pt x="0" y="152"/>
                    </a:moveTo>
                    <a:cubicBezTo>
                      <a:pt x="196" y="84"/>
                      <a:pt x="393" y="16"/>
                      <a:pt x="624" y="8"/>
                    </a:cubicBezTo>
                    <a:cubicBezTo>
                      <a:pt x="855" y="0"/>
                      <a:pt x="1226" y="84"/>
                      <a:pt x="1384" y="104"/>
                    </a:cubicBez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878720" y="54878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5160" y="5564160"/>
                <a:ext cx="3499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506920" y="5183280"/>
                <a:ext cx="16754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imes New Roman"/>
                  </a:rPr>
                  <a:t>10- </a:t>
                </a:r>
                <a:r>
                  <a:rPr b="0" lang="el-GR" sz="2800" spc="-1" strike="noStrike">
                    <a:solidFill>
                      <a:srgbClr val="ffffff"/>
                    </a:solidFill>
                    <a:latin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0" lang="en-US" sz="3000" spc="-1" strike="noStrike">
                    <a:solidFill>
                      <a:srgbClr val="ffffff"/>
                    </a:solidFill>
                    <a:latin typeface="Times New Roman"/>
                  </a:rPr>
                  <a:t>/75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890320" y="6156360"/>
                <a:ext cx="857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imes New Roman"/>
                  </a:rPr>
                  <a:t>0/10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175000" y="4648320"/>
                <a:ext cx="282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imes New Roman"/>
                  </a:rPr>
                  <a:t>New Flow Graph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3" name=""/>
            <p:cNvSpPr/>
            <p:nvPr/>
          </p:nvSpPr>
          <p:spPr>
            <a:xfrm>
              <a:off x="6400800" y="55753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5229360" y="4022640"/>
            <a:ext cx="2504880" cy="550800"/>
            <a:chOff x="5229360" y="4022640"/>
            <a:chExt cx="2504880" cy="550800"/>
          </a:xfrm>
        </p:grpSpPr>
        <p:grpSp>
          <p:nvGrpSpPr>
            <p:cNvPr id="845" name=""/>
            <p:cNvGrpSpPr/>
            <p:nvPr/>
          </p:nvGrpSpPr>
          <p:grpSpPr>
            <a:xfrm>
              <a:off x="5229360" y="4022640"/>
              <a:ext cx="2368440" cy="550800"/>
              <a:chOff x="5229360" y="4022640"/>
              <a:chExt cx="2368440" cy="550800"/>
            </a:xfrm>
          </p:grpSpPr>
          <p:sp>
            <p:nvSpPr>
              <p:cNvPr id="846" name=""/>
              <p:cNvSpPr/>
              <p:nvPr/>
            </p:nvSpPr>
            <p:spPr>
              <a:xfrm>
                <a:off x="5781960" y="4022640"/>
                <a:ext cx="1815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0000"/>
                    </a:solidFill>
                    <a:latin typeface="Times New Roman"/>
                  </a:rPr>
                  <a:t>Walking </a:t>
                </a:r>
                <a:r>
                  <a:rPr b="0" lang="el-GR" sz="2800" spc="-1" strike="noStrike">
                    <a:solidFill>
                      <a:srgbClr val="ff0000"/>
                    </a:solidFill>
                    <a:latin typeface="Times New Roman"/>
                  </a:rPr>
                  <a:t>Δ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229360" y="4348080"/>
                <a:ext cx="533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8" name=""/>
            <p:cNvSpPr/>
            <p:nvPr/>
          </p:nvSpPr>
          <p:spPr>
            <a:xfrm>
              <a:off x="7505640" y="44197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3202200" y="2282760"/>
            <a:ext cx="3096360" cy="1735200"/>
            <a:chOff x="3202200" y="2282760"/>
            <a:chExt cx="3096360" cy="1735200"/>
          </a:xfrm>
        </p:grpSpPr>
        <p:sp>
          <p:nvSpPr>
            <p:cNvPr id="850" name=""/>
            <p:cNvSpPr/>
            <p:nvPr/>
          </p:nvSpPr>
          <p:spPr>
            <a:xfrm>
              <a:off x="3498840" y="35193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784840" y="35193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575160" y="335448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202200" y="31226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948640" y="31989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33680" y="2814480"/>
              <a:ext cx="2466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&lt;u,v&gt;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[-10,75]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99560" y="2282760"/>
              <a:ext cx="2722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Eqv Flow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859920" y="3413160"/>
              <a:ext cx="16714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&lt;u,v&gt;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= 1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0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2590920" y="762120"/>
            <a:ext cx="3975120" cy="1371600"/>
            <a:chOff x="2590920" y="762120"/>
            <a:chExt cx="3975120" cy="1371600"/>
          </a:xfrm>
        </p:grpSpPr>
        <p:sp>
          <p:nvSpPr>
            <p:cNvPr id="860" name=""/>
            <p:cNvSpPr/>
            <p:nvPr/>
          </p:nvSpPr>
          <p:spPr>
            <a:xfrm>
              <a:off x="2590920" y="762120"/>
              <a:ext cx="396216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1" name="" descr=""/>
            <p:cNvPicPr/>
            <p:nvPr/>
          </p:nvPicPr>
          <p:blipFill>
            <a:blip r:embed="rId1"/>
            <a:stretch/>
          </p:blipFill>
          <p:spPr>
            <a:xfrm>
              <a:off x="2602080" y="955800"/>
              <a:ext cx="3963960" cy="110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2" name=""/>
          <p:cNvGrpSpPr/>
          <p:nvPr/>
        </p:nvGrpSpPr>
        <p:grpSpPr>
          <a:xfrm>
            <a:off x="3595320" y="5881680"/>
            <a:ext cx="2756880" cy="579600"/>
            <a:chOff x="3595320" y="5881680"/>
            <a:chExt cx="2756880" cy="579600"/>
          </a:xfrm>
        </p:grpSpPr>
        <p:sp>
          <p:nvSpPr>
            <p:cNvPr id="863" name=""/>
            <p:cNvSpPr/>
            <p:nvPr/>
          </p:nvSpPr>
          <p:spPr>
            <a:xfrm>
              <a:off x="3595320" y="5881680"/>
              <a:ext cx="275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ffffff"/>
                  </a:solidFill>
                  <a:latin typeface="Times New Roman"/>
                </a:rPr>
                <a:t>Δ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 ≤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F 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i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&gt;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+ c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i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&gt;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821400" y="623700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202200" y="2282760"/>
            <a:ext cx="3096360" cy="1735200"/>
            <a:chOff x="3202200" y="2282760"/>
            <a:chExt cx="3096360" cy="1735200"/>
          </a:xfrm>
        </p:grpSpPr>
        <p:sp>
          <p:nvSpPr>
            <p:cNvPr id="866" name=""/>
            <p:cNvSpPr/>
            <p:nvPr/>
          </p:nvSpPr>
          <p:spPr>
            <a:xfrm>
              <a:off x="3498840" y="35193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784840" y="35193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575160" y="335448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02200" y="31226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948640" y="31989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33680" y="2814480"/>
              <a:ext cx="2466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&lt;u,v&gt;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[-10,75]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99560" y="2282760"/>
              <a:ext cx="2722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Eqv Flow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859920" y="3413160"/>
              <a:ext cx="16714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&lt;u,v&gt;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= 1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3805920" y="5003640"/>
            <a:ext cx="2408040" cy="579600"/>
            <a:chOff x="3805920" y="5003640"/>
            <a:chExt cx="2408040" cy="579600"/>
          </a:xfrm>
        </p:grpSpPr>
        <p:sp>
          <p:nvSpPr>
            <p:cNvPr id="875" name=""/>
            <p:cNvSpPr/>
            <p:nvPr/>
          </p:nvSpPr>
          <p:spPr>
            <a:xfrm>
              <a:off x="3805920" y="5003640"/>
              <a:ext cx="2408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ffffff"/>
                  </a:solidFill>
                  <a:latin typeface="Times New Roman"/>
                </a:rPr>
                <a:t>Δ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≤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i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&gt;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F 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i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&gt;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022640" y="53845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3051720" y="4602240"/>
            <a:ext cx="3407040" cy="1417680"/>
            <a:chOff x="3051720" y="4602240"/>
            <a:chExt cx="3407040" cy="1417680"/>
          </a:xfrm>
        </p:grpSpPr>
        <p:sp>
          <p:nvSpPr>
            <p:cNvPr id="878" name=""/>
            <p:cNvSpPr/>
            <p:nvPr/>
          </p:nvSpPr>
          <p:spPr>
            <a:xfrm>
              <a:off x="3575160" y="5702400"/>
              <a:ext cx="152280" cy="152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861160" y="5702400"/>
              <a:ext cx="152280" cy="152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651120" y="5537160"/>
              <a:ext cx="2197080" cy="24156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3726720" y="577872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78160" y="53053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024960" y="538164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51720" y="4602240"/>
              <a:ext cx="3407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Augmentation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14400" y="1447920"/>
            <a:ext cx="7848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lly in each edge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see how much we can change the fl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ed Flow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llowe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hang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ople find this ha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try to explain ag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0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380880"/>
            <a:ext cx="82296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Instanc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etwork is a directed graph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dges represent pipes that carry flo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ach edge 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 has a maximum capacity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 source node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ut of which flow leav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 sink node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nto which flow arriv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34858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737080" y="2133720"/>
            <a:ext cx="3096360" cy="2058840"/>
            <a:chOff x="2737080" y="2133720"/>
            <a:chExt cx="3096360" cy="2058840"/>
          </a:xfrm>
        </p:grpSpPr>
        <p:sp>
          <p:nvSpPr>
            <p:cNvPr id="889" name=""/>
            <p:cNvSpPr/>
            <p:nvPr/>
          </p:nvSpPr>
          <p:spPr>
            <a:xfrm>
              <a:off x="3033720" y="33703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319720" y="33703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110040" y="3205080"/>
              <a:ext cx="2197080" cy="24156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 flipV="1">
              <a:off x="3185640" y="344664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737080" y="29732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483520" y="30495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774240" y="2668680"/>
              <a:ext cx="857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0/75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48680" y="3641760"/>
              <a:ext cx="857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0/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034800" y="2133720"/>
              <a:ext cx="201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Flow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2518200" y="4556160"/>
            <a:ext cx="3407040" cy="1922400"/>
            <a:chOff x="2518200" y="4556160"/>
            <a:chExt cx="3407040" cy="1922400"/>
          </a:xfrm>
        </p:grpSpPr>
        <p:sp>
          <p:nvSpPr>
            <p:cNvPr id="899" name=""/>
            <p:cNvSpPr/>
            <p:nvPr/>
          </p:nvSpPr>
          <p:spPr>
            <a:xfrm>
              <a:off x="3041280" y="5656320"/>
              <a:ext cx="152280" cy="152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327280" y="5656320"/>
              <a:ext cx="152280" cy="152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117600" y="5491080"/>
              <a:ext cx="2196720" cy="24156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3193920" y="5732640"/>
              <a:ext cx="219672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44280" y="52592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491080" y="53355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928680" y="49546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75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903120" y="59277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518200" y="4556160"/>
              <a:ext cx="3407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Augmentation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39448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2743200" y="838080"/>
            <a:ext cx="3963960" cy="1101960"/>
          </a:xfrm>
          <a:prstGeom prst="rect">
            <a:avLst/>
          </a:prstGeom>
          <a:ln w="0">
            <a:noFill/>
          </a:ln>
        </p:spPr>
      </p:pic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963960" y="4954680"/>
            <a:ext cx="166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75-21=5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322440" y="2133720"/>
            <a:ext cx="3096720" cy="2058840"/>
            <a:chOff x="3322440" y="2133720"/>
            <a:chExt cx="3096720" cy="2058840"/>
          </a:xfrm>
        </p:grpSpPr>
        <p:sp>
          <p:nvSpPr>
            <p:cNvPr id="913" name=""/>
            <p:cNvSpPr/>
            <p:nvPr/>
          </p:nvSpPr>
          <p:spPr>
            <a:xfrm>
              <a:off x="3619440" y="3370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905440" y="3370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695400" y="3205080"/>
              <a:ext cx="2197080" cy="24156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3771000" y="344664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22440" y="29732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069240" y="30495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264560" y="2668680"/>
              <a:ext cx="1047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21/75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334400" y="3641760"/>
              <a:ext cx="857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0/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620520" y="2133720"/>
              <a:ext cx="201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Flow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3103920" y="4556160"/>
            <a:ext cx="3407040" cy="1417680"/>
            <a:chOff x="3103920" y="4556160"/>
            <a:chExt cx="3407040" cy="1417680"/>
          </a:xfrm>
        </p:grpSpPr>
        <p:sp>
          <p:nvSpPr>
            <p:cNvPr id="923" name=""/>
            <p:cNvSpPr/>
            <p:nvPr/>
          </p:nvSpPr>
          <p:spPr>
            <a:xfrm>
              <a:off x="3627360" y="5656320"/>
              <a:ext cx="152280" cy="152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13360" y="5656320"/>
              <a:ext cx="152280" cy="152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703320" y="5491080"/>
              <a:ext cx="2197080" cy="24156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3778920" y="573264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330360" y="52592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077160" y="53355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103920" y="4556160"/>
              <a:ext cx="3407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Augmentation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2271960" y="5452920"/>
            <a:ext cx="4852800" cy="550800"/>
            <a:chOff x="2271960" y="5452920"/>
            <a:chExt cx="4852800" cy="550800"/>
          </a:xfrm>
        </p:grpSpPr>
        <p:sp>
          <p:nvSpPr>
            <p:cNvPr id="931" name=""/>
            <p:cNvSpPr/>
            <p:nvPr/>
          </p:nvSpPr>
          <p:spPr>
            <a:xfrm>
              <a:off x="2540160" y="5549760"/>
              <a:ext cx="4584600" cy="412920"/>
            </a:xfrm>
            <a:custGeom>
              <a:avLst/>
              <a:gdLst/>
              <a:ahLst/>
              <a:rect l="l" t="t" r="r" b="b"/>
              <a:pathLst>
                <a:path w="2888" h="260">
                  <a:moveTo>
                    <a:pt x="0" y="0"/>
                  </a:moveTo>
                  <a:cubicBezTo>
                    <a:pt x="119" y="23"/>
                    <a:pt x="461" y="85"/>
                    <a:pt x="712" y="128"/>
                  </a:cubicBezTo>
                  <a:cubicBezTo>
                    <a:pt x="963" y="171"/>
                    <a:pt x="1263" y="260"/>
                    <a:pt x="1504" y="256"/>
                  </a:cubicBezTo>
                  <a:cubicBezTo>
                    <a:pt x="1745" y="252"/>
                    <a:pt x="1929" y="143"/>
                    <a:pt x="2160" y="104"/>
                  </a:cubicBezTo>
                  <a:cubicBezTo>
                    <a:pt x="2391" y="65"/>
                    <a:pt x="2736" y="41"/>
                    <a:pt x="2888" y="2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271960" y="54529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2882880" y="2514600"/>
            <a:ext cx="1879200" cy="685800"/>
            <a:chOff x="2882880" y="2514600"/>
            <a:chExt cx="1879200" cy="685800"/>
          </a:xfrm>
        </p:grpSpPr>
        <p:sp>
          <p:nvSpPr>
            <p:cNvPr id="934" name=""/>
            <p:cNvSpPr/>
            <p:nvPr/>
          </p:nvSpPr>
          <p:spPr>
            <a:xfrm flipV="1">
              <a:off x="4305240" y="2743200"/>
              <a:ext cx="45684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882880" y="2514600"/>
              <a:ext cx="1665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21-10=11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3983040" y="3505320"/>
            <a:ext cx="779040" cy="685800"/>
            <a:chOff x="3983040" y="3505320"/>
            <a:chExt cx="779040" cy="685800"/>
          </a:xfrm>
        </p:grpSpPr>
        <p:sp>
          <p:nvSpPr>
            <p:cNvPr id="937" name=""/>
            <p:cNvSpPr/>
            <p:nvPr/>
          </p:nvSpPr>
          <p:spPr>
            <a:xfrm flipV="1">
              <a:off x="4305240" y="3733920"/>
              <a:ext cx="45684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983040" y="35053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4305240" y="3276360"/>
            <a:ext cx="3103560" cy="1420200"/>
            <a:chOff x="4305240" y="3276360"/>
            <a:chExt cx="3103560" cy="1420200"/>
          </a:xfrm>
        </p:grpSpPr>
        <p:grpSp>
          <p:nvGrpSpPr>
            <p:cNvPr id="940" name=""/>
            <p:cNvGrpSpPr/>
            <p:nvPr/>
          </p:nvGrpSpPr>
          <p:grpSpPr>
            <a:xfrm>
              <a:off x="4305240" y="3276360"/>
              <a:ext cx="1129320" cy="317880"/>
              <a:chOff x="4305240" y="3276360"/>
              <a:chExt cx="1129320" cy="317880"/>
            </a:xfrm>
          </p:grpSpPr>
          <p:sp>
            <p:nvSpPr>
              <p:cNvPr id="941" name=""/>
              <p:cNvSpPr/>
              <p:nvPr/>
            </p:nvSpPr>
            <p:spPr>
              <a:xfrm flipH="1">
                <a:off x="4901040" y="3289680"/>
                <a:ext cx="533160" cy="304560"/>
              </a:xfrm>
              <a:custGeom>
                <a:avLst/>
                <a:gdLst>
                  <a:gd name="textAreaLeft" fmla="*/ 71280 w 533160"/>
                  <a:gd name="textAreaRight" fmla="*/ 461880 w 533160"/>
                  <a:gd name="textAreaTop" fmla="*/ 46800 h 304560"/>
                  <a:gd name="textAreaBottom" fmla="*/ 22716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6671" stAng="-5400000" swAng="-5400000"/>
                    <a:lnTo>
                      <a:pt x="0" y="12769"/>
                    </a:lnTo>
                    <a:arcTo wR="21600" hR="6671" stAng="10800000" swAng="-2468308"/>
                    <a:lnTo>
                      <a:pt x="14400" y="21218"/>
                    </a:lnTo>
                    <a:lnTo>
                      <a:pt x="21600" y="16391"/>
                    </a:lnTo>
                    <a:lnTo>
                      <a:pt x="14400" y="10800"/>
                    </a:lnTo>
                    <a:lnTo>
                      <a:pt x="14400" y="12960"/>
                    </a:lnTo>
                    <a:arcTo wR="21600" hR="6671" stAng="8331692" swAng="1927237"/>
                    <a:lnTo>
                      <a:pt x="2388" y="9720"/>
                    </a:lnTo>
                    <a:arcTo wR="21600" hR="6671" stAng="-10258929" swAng="4858929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6671" stAng="-5400000" swAng="-5400000"/>
                    <a:lnTo>
                      <a:pt x="0" y="6671"/>
                    </a:lnTo>
                    <a:arcTo wR="21600" hR="6671" stAng="10800000" swAng="-541071"/>
                    <a:lnTo>
                      <a:pt x="2388" y="9720"/>
                    </a:lnTo>
                    <a:arcTo wR="21600" hR="6671" stAng="-10258929" swAng="4858929"/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V="1">
                <a:off x="4305240" y="3276000"/>
                <a:ext cx="533160" cy="304920"/>
              </a:xfrm>
              <a:custGeom>
                <a:avLst/>
                <a:gdLst>
                  <a:gd name="textAreaLeft" fmla="*/ 71280 w 533160"/>
                  <a:gd name="textAreaRight" fmla="*/ 461880 w 533160"/>
                  <a:gd name="textAreaTop" fmla="*/ 46440 h 304920"/>
                  <a:gd name="textAreaBottom" fmla="*/ 2271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6671" stAng="-5400000" swAng="-5400000"/>
                    <a:lnTo>
                      <a:pt x="0" y="12769"/>
                    </a:lnTo>
                    <a:arcTo wR="21600" hR="6671" stAng="10800000" swAng="-2468308"/>
                    <a:lnTo>
                      <a:pt x="14400" y="21218"/>
                    </a:lnTo>
                    <a:lnTo>
                      <a:pt x="21600" y="16391"/>
                    </a:lnTo>
                    <a:lnTo>
                      <a:pt x="14400" y="10800"/>
                    </a:lnTo>
                    <a:lnTo>
                      <a:pt x="14400" y="12960"/>
                    </a:lnTo>
                    <a:arcTo wR="21600" hR="6671" stAng="8331692" swAng="1927237"/>
                    <a:lnTo>
                      <a:pt x="2388" y="9720"/>
                    </a:lnTo>
                    <a:arcTo wR="21600" hR="6671" stAng="-10258929" swAng="4858929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6671" stAng="-5400000" swAng="-5400000"/>
                    <a:lnTo>
                      <a:pt x="0" y="6671"/>
                    </a:lnTo>
                    <a:arcTo wR="21600" hR="6671" stAng="10800000" swAng="-541071"/>
                    <a:lnTo>
                      <a:pt x="2388" y="9720"/>
                    </a:lnTo>
                    <a:arcTo wR="21600" hR="6671" stAng="-10258929" swAng="4858929"/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43" name=""/>
            <p:cNvSpPr/>
            <p:nvPr/>
          </p:nvSpPr>
          <p:spPr>
            <a:xfrm>
              <a:off x="5295600" y="3505320"/>
              <a:ext cx="211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dge shouldn’t 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ave flow in 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oth directions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3773520" y="3429000"/>
            <a:ext cx="684360" cy="685800"/>
            <a:chOff x="3773520" y="3429000"/>
            <a:chExt cx="684360" cy="685800"/>
          </a:xfrm>
        </p:grpSpPr>
        <p:sp>
          <p:nvSpPr>
            <p:cNvPr id="945" name=""/>
            <p:cNvSpPr/>
            <p:nvPr/>
          </p:nvSpPr>
          <p:spPr>
            <a:xfrm flipV="1">
              <a:off x="4000680" y="3657600"/>
              <a:ext cx="4572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773520" y="342900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7" name=""/>
          <p:cNvSpPr/>
          <p:nvPr/>
        </p:nvSpPr>
        <p:spPr>
          <a:xfrm>
            <a:off x="4383360" y="595296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818240" y="592776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3963960" y="1109520"/>
            <a:ext cx="2616480" cy="550800"/>
            <a:chOff x="3963960" y="1109520"/>
            <a:chExt cx="2616480" cy="550800"/>
          </a:xfrm>
        </p:grpSpPr>
        <p:sp>
          <p:nvSpPr>
            <p:cNvPr id="950" name=""/>
            <p:cNvSpPr/>
            <p:nvPr/>
          </p:nvSpPr>
          <p:spPr>
            <a:xfrm>
              <a:off x="4516200" y="1109520"/>
              <a:ext cx="2064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Walking  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963960" y="143496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3959280" y="685800"/>
            <a:ext cx="2647440" cy="550800"/>
            <a:chOff x="3959280" y="685800"/>
            <a:chExt cx="2647440" cy="550800"/>
          </a:xfrm>
        </p:grpSpPr>
        <p:sp>
          <p:nvSpPr>
            <p:cNvPr id="953" name=""/>
            <p:cNvSpPr/>
            <p:nvPr/>
          </p:nvSpPr>
          <p:spPr>
            <a:xfrm>
              <a:off x="4511880" y="685800"/>
              <a:ext cx="2094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Walking -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959280" y="101124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00"/>
                            </p:stCondLst>
                            <p:childTnLst>
                              <p:par>
                                <p:cTn id="13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963960" y="4954680"/>
            <a:ext cx="166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75-21=5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3322440" y="2133720"/>
            <a:ext cx="3096720" cy="2058840"/>
            <a:chOff x="3322440" y="2133720"/>
            <a:chExt cx="3096720" cy="2058840"/>
          </a:xfrm>
        </p:grpSpPr>
        <p:sp>
          <p:nvSpPr>
            <p:cNvPr id="958" name=""/>
            <p:cNvSpPr/>
            <p:nvPr/>
          </p:nvSpPr>
          <p:spPr>
            <a:xfrm>
              <a:off x="3619440" y="3370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905440" y="3370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695400" y="3205080"/>
              <a:ext cx="2197080" cy="24156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 flipV="1">
              <a:off x="3771000" y="344664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322440" y="29732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069240" y="30495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264560" y="2668680"/>
              <a:ext cx="1047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11/75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334400" y="3641760"/>
              <a:ext cx="857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0/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620520" y="2133720"/>
              <a:ext cx="201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Flow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3103920" y="4556160"/>
            <a:ext cx="3407040" cy="1417680"/>
            <a:chOff x="3103920" y="4556160"/>
            <a:chExt cx="3407040" cy="1417680"/>
          </a:xfrm>
        </p:grpSpPr>
        <p:sp>
          <p:nvSpPr>
            <p:cNvPr id="968" name=""/>
            <p:cNvSpPr/>
            <p:nvPr/>
          </p:nvSpPr>
          <p:spPr>
            <a:xfrm>
              <a:off x="3627360" y="5656320"/>
              <a:ext cx="152280" cy="152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913360" y="5656320"/>
              <a:ext cx="152280" cy="152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703320" y="5491080"/>
              <a:ext cx="2197080" cy="24156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 flipV="1">
              <a:off x="3778920" y="573264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30360" y="52592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077160" y="53355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103920" y="4556160"/>
              <a:ext cx="3407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Augmentation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2271960" y="5452920"/>
            <a:ext cx="4852800" cy="550800"/>
            <a:chOff x="2271960" y="5452920"/>
            <a:chExt cx="4852800" cy="550800"/>
          </a:xfrm>
        </p:grpSpPr>
        <p:sp>
          <p:nvSpPr>
            <p:cNvPr id="976" name=""/>
            <p:cNvSpPr/>
            <p:nvPr/>
          </p:nvSpPr>
          <p:spPr>
            <a:xfrm>
              <a:off x="2540160" y="5549760"/>
              <a:ext cx="4584600" cy="412920"/>
            </a:xfrm>
            <a:custGeom>
              <a:avLst/>
              <a:gdLst/>
              <a:ahLst/>
              <a:rect l="l" t="t" r="r" b="b"/>
              <a:pathLst>
                <a:path w="2888" h="260">
                  <a:moveTo>
                    <a:pt x="0" y="0"/>
                  </a:moveTo>
                  <a:cubicBezTo>
                    <a:pt x="119" y="23"/>
                    <a:pt x="461" y="85"/>
                    <a:pt x="712" y="128"/>
                  </a:cubicBezTo>
                  <a:cubicBezTo>
                    <a:pt x="963" y="171"/>
                    <a:pt x="1263" y="260"/>
                    <a:pt x="1504" y="256"/>
                  </a:cubicBezTo>
                  <a:cubicBezTo>
                    <a:pt x="1745" y="252"/>
                    <a:pt x="1929" y="143"/>
                    <a:pt x="2160" y="104"/>
                  </a:cubicBezTo>
                  <a:cubicBezTo>
                    <a:pt x="2391" y="65"/>
                    <a:pt x="2736" y="41"/>
                    <a:pt x="2888" y="2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71960" y="54529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4383360" y="595296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818240" y="592776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838080" y="358128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pacity of 10 not m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1"/>
          <a:stretch/>
        </p:blipFill>
        <p:spPr>
          <a:xfrm>
            <a:off x="2743200" y="838080"/>
            <a:ext cx="3963960" cy="11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0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with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2666880" y="762120"/>
            <a:ext cx="3963960" cy="1344600"/>
          </a:xfrm>
          <a:prstGeom prst="rect">
            <a:avLst/>
          </a:prstGeom>
          <a:ln w="0">
            <a:noFill/>
          </a:ln>
        </p:spPr>
      </p:pic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888000" y="4954680"/>
            <a:ext cx="166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75-21=5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3246120" y="2133720"/>
            <a:ext cx="3096720" cy="2058840"/>
            <a:chOff x="3246120" y="2133720"/>
            <a:chExt cx="3096720" cy="2058840"/>
          </a:xfrm>
        </p:grpSpPr>
        <p:sp>
          <p:nvSpPr>
            <p:cNvPr id="986" name=""/>
            <p:cNvSpPr/>
            <p:nvPr/>
          </p:nvSpPr>
          <p:spPr>
            <a:xfrm>
              <a:off x="3543120" y="3370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829120" y="3370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619080" y="3205080"/>
              <a:ext cx="2197080" cy="24156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flipV="1">
              <a:off x="3694680" y="344664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246120" y="29732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992920" y="30495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88240" y="2668680"/>
              <a:ext cx="1047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21/75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258080" y="3641760"/>
              <a:ext cx="857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0/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544200" y="2133720"/>
              <a:ext cx="201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Flow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3027960" y="4556160"/>
            <a:ext cx="3407040" cy="1417680"/>
            <a:chOff x="3027960" y="4556160"/>
            <a:chExt cx="3407040" cy="1417680"/>
          </a:xfrm>
        </p:grpSpPr>
        <p:sp>
          <p:nvSpPr>
            <p:cNvPr id="996" name=""/>
            <p:cNvSpPr/>
            <p:nvPr/>
          </p:nvSpPr>
          <p:spPr>
            <a:xfrm>
              <a:off x="3551400" y="5656320"/>
              <a:ext cx="152280" cy="152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837400" y="5656320"/>
              <a:ext cx="152280" cy="152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627360" y="5491080"/>
              <a:ext cx="2197080" cy="24156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 flipV="1">
              <a:off x="3702960" y="573264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254400" y="52592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001200" y="53355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027960" y="4556160"/>
              <a:ext cx="3407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Augmentation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2195640" y="5452920"/>
            <a:ext cx="4852800" cy="550800"/>
            <a:chOff x="2195640" y="5452920"/>
            <a:chExt cx="4852800" cy="550800"/>
          </a:xfrm>
        </p:grpSpPr>
        <p:sp>
          <p:nvSpPr>
            <p:cNvPr id="1004" name=""/>
            <p:cNvSpPr/>
            <p:nvPr/>
          </p:nvSpPr>
          <p:spPr>
            <a:xfrm>
              <a:off x="2463840" y="5549760"/>
              <a:ext cx="4584600" cy="412920"/>
            </a:xfrm>
            <a:custGeom>
              <a:avLst/>
              <a:gdLst/>
              <a:ahLst/>
              <a:rect l="l" t="t" r="r" b="b"/>
              <a:pathLst>
                <a:path w="2888" h="260">
                  <a:moveTo>
                    <a:pt x="0" y="0"/>
                  </a:moveTo>
                  <a:cubicBezTo>
                    <a:pt x="119" y="23"/>
                    <a:pt x="461" y="85"/>
                    <a:pt x="712" y="128"/>
                  </a:cubicBezTo>
                  <a:cubicBezTo>
                    <a:pt x="963" y="171"/>
                    <a:pt x="1263" y="260"/>
                    <a:pt x="1504" y="256"/>
                  </a:cubicBezTo>
                  <a:cubicBezTo>
                    <a:pt x="1745" y="252"/>
                    <a:pt x="1929" y="143"/>
                    <a:pt x="2160" y="104"/>
                  </a:cubicBezTo>
                  <a:cubicBezTo>
                    <a:pt x="2391" y="65"/>
                    <a:pt x="2736" y="41"/>
                    <a:pt x="2888" y="2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195640" y="54529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21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4307040" y="595296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742280" y="592776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62120" y="35812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pacity of 10 exc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3907080" y="3505320"/>
            <a:ext cx="779400" cy="685800"/>
            <a:chOff x="3907080" y="3505320"/>
            <a:chExt cx="779400" cy="685800"/>
          </a:xfrm>
        </p:grpSpPr>
        <p:sp>
          <p:nvSpPr>
            <p:cNvPr id="1010" name=""/>
            <p:cNvSpPr/>
            <p:nvPr/>
          </p:nvSpPr>
          <p:spPr>
            <a:xfrm flipV="1">
              <a:off x="4229280" y="3733920"/>
              <a:ext cx="4572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907080" y="35053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21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0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" descr=""/>
          <p:cNvPicPr/>
          <p:nvPr/>
        </p:nvPicPr>
        <p:blipFill>
          <a:blip r:embed="rId1"/>
          <a:stretch/>
        </p:blipFill>
        <p:spPr>
          <a:xfrm>
            <a:off x="2666880" y="762120"/>
            <a:ext cx="3963960" cy="1344600"/>
          </a:xfrm>
          <a:prstGeom prst="rect">
            <a:avLst/>
          </a:prstGeom>
          <a:ln w="0">
            <a:noFill/>
          </a:ln>
        </p:spPr>
      </p:pic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925800" y="4954680"/>
            <a:ext cx="166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75-21=5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3284280" y="2133720"/>
            <a:ext cx="3096720" cy="2058840"/>
            <a:chOff x="3284280" y="2133720"/>
            <a:chExt cx="3096720" cy="2058840"/>
          </a:xfrm>
        </p:grpSpPr>
        <p:sp>
          <p:nvSpPr>
            <p:cNvPr id="1016" name=""/>
            <p:cNvSpPr/>
            <p:nvPr/>
          </p:nvSpPr>
          <p:spPr>
            <a:xfrm>
              <a:off x="3581280" y="3370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867280" y="3370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657240" y="3205080"/>
              <a:ext cx="2197080" cy="24156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 flipV="1">
              <a:off x="3732840" y="344664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284280" y="29732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031080" y="30495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226400" y="2668680"/>
              <a:ext cx="1047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21/75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296240" y="3641760"/>
              <a:ext cx="857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0/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582360" y="2133720"/>
              <a:ext cx="201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Flow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3065760" y="4556160"/>
            <a:ext cx="3407040" cy="1417680"/>
            <a:chOff x="3065760" y="4556160"/>
            <a:chExt cx="3407040" cy="1417680"/>
          </a:xfrm>
        </p:grpSpPr>
        <p:sp>
          <p:nvSpPr>
            <p:cNvPr id="1026" name=""/>
            <p:cNvSpPr/>
            <p:nvPr/>
          </p:nvSpPr>
          <p:spPr>
            <a:xfrm>
              <a:off x="3589200" y="5656320"/>
              <a:ext cx="152280" cy="152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875200" y="5656320"/>
              <a:ext cx="152280" cy="152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665160" y="5491080"/>
              <a:ext cx="2197080" cy="24156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 flipV="1">
              <a:off x="3740760" y="573264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292200" y="52592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039000" y="53355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65760" y="4556160"/>
              <a:ext cx="3407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Augmentation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2329200" y="5452920"/>
            <a:ext cx="4757400" cy="550800"/>
            <a:chOff x="2329200" y="5452920"/>
            <a:chExt cx="4757400" cy="550800"/>
          </a:xfrm>
        </p:grpSpPr>
        <p:sp>
          <p:nvSpPr>
            <p:cNvPr id="1034" name=""/>
            <p:cNvSpPr/>
            <p:nvPr/>
          </p:nvSpPr>
          <p:spPr>
            <a:xfrm>
              <a:off x="2502000" y="5491080"/>
              <a:ext cx="4584600" cy="327240"/>
            </a:xfrm>
            <a:custGeom>
              <a:avLst/>
              <a:gdLst/>
              <a:ahLst/>
              <a:rect l="l" t="t" r="r" b="b"/>
              <a:pathLst>
                <a:path w="2888" h="206">
                  <a:moveTo>
                    <a:pt x="0" y="37"/>
                  </a:moveTo>
                  <a:cubicBezTo>
                    <a:pt x="119" y="60"/>
                    <a:pt x="457" y="170"/>
                    <a:pt x="712" y="165"/>
                  </a:cubicBezTo>
                  <a:cubicBezTo>
                    <a:pt x="967" y="160"/>
                    <a:pt x="1272" y="0"/>
                    <a:pt x="1528" y="5"/>
                  </a:cubicBezTo>
                  <a:cubicBezTo>
                    <a:pt x="1784" y="10"/>
                    <a:pt x="2021" y="188"/>
                    <a:pt x="2248" y="197"/>
                  </a:cubicBezTo>
                  <a:cubicBezTo>
                    <a:pt x="2475" y="206"/>
                    <a:pt x="2755" y="89"/>
                    <a:pt x="2888" y="6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329200" y="54529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2896560" y="2514600"/>
            <a:ext cx="1827720" cy="685800"/>
            <a:chOff x="2896560" y="2514600"/>
            <a:chExt cx="1827720" cy="685800"/>
          </a:xfrm>
        </p:grpSpPr>
        <p:sp>
          <p:nvSpPr>
            <p:cNvPr id="1037" name=""/>
            <p:cNvSpPr/>
            <p:nvPr/>
          </p:nvSpPr>
          <p:spPr>
            <a:xfrm flipV="1">
              <a:off x="4267080" y="2743200"/>
              <a:ext cx="4572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96560" y="2514600"/>
              <a:ext cx="1563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21+2=23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4057920" y="1566720"/>
            <a:ext cx="2037960" cy="550800"/>
            <a:chOff x="4057920" y="1566720"/>
            <a:chExt cx="2037960" cy="550800"/>
          </a:xfrm>
        </p:grpSpPr>
        <p:sp>
          <p:nvSpPr>
            <p:cNvPr id="1040" name=""/>
            <p:cNvSpPr/>
            <p:nvPr/>
          </p:nvSpPr>
          <p:spPr>
            <a:xfrm>
              <a:off x="4057920" y="1566720"/>
              <a:ext cx="149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Walking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562720" y="189216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0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2819520" y="685800"/>
            <a:ext cx="3941640" cy="1339920"/>
          </a:xfrm>
          <a:prstGeom prst="rect">
            <a:avLst/>
          </a:prstGeom>
          <a:ln w="0">
            <a:noFill/>
          </a:ln>
        </p:spPr>
      </p:pic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888000" y="4954680"/>
            <a:ext cx="166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75-21=5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3246120" y="2133720"/>
            <a:ext cx="3096720" cy="2058840"/>
            <a:chOff x="3246120" y="2133720"/>
            <a:chExt cx="3096720" cy="2058840"/>
          </a:xfrm>
        </p:grpSpPr>
        <p:sp>
          <p:nvSpPr>
            <p:cNvPr id="1046" name=""/>
            <p:cNvSpPr/>
            <p:nvPr/>
          </p:nvSpPr>
          <p:spPr>
            <a:xfrm>
              <a:off x="3543120" y="3370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829120" y="3370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619080" y="3205080"/>
              <a:ext cx="2197080" cy="24156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 flipV="1">
              <a:off x="3694680" y="344664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46120" y="29732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992920" y="30495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188240" y="2668680"/>
              <a:ext cx="1047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21/75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258080" y="3641760"/>
              <a:ext cx="857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0/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544200" y="2133720"/>
              <a:ext cx="201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Flow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3027960" y="4556160"/>
            <a:ext cx="3407040" cy="1417680"/>
            <a:chOff x="3027960" y="4556160"/>
            <a:chExt cx="3407040" cy="1417680"/>
          </a:xfrm>
        </p:grpSpPr>
        <p:sp>
          <p:nvSpPr>
            <p:cNvPr id="1056" name=""/>
            <p:cNvSpPr/>
            <p:nvPr/>
          </p:nvSpPr>
          <p:spPr>
            <a:xfrm>
              <a:off x="3551400" y="5656320"/>
              <a:ext cx="152280" cy="152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837400" y="5656320"/>
              <a:ext cx="152280" cy="152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627360" y="5491080"/>
              <a:ext cx="2197080" cy="24156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 flipV="1">
              <a:off x="3702960" y="573264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254400" y="52592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001200" y="53355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027960" y="4556160"/>
              <a:ext cx="3407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Augmentation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2195640" y="5452920"/>
            <a:ext cx="4852800" cy="550800"/>
            <a:chOff x="2195640" y="5452920"/>
            <a:chExt cx="4852800" cy="550800"/>
          </a:xfrm>
        </p:grpSpPr>
        <p:sp>
          <p:nvSpPr>
            <p:cNvPr id="1064" name=""/>
            <p:cNvSpPr/>
            <p:nvPr/>
          </p:nvSpPr>
          <p:spPr>
            <a:xfrm>
              <a:off x="2463840" y="5549760"/>
              <a:ext cx="4584600" cy="412920"/>
            </a:xfrm>
            <a:custGeom>
              <a:avLst/>
              <a:gdLst/>
              <a:ahLst/>
              <a:rect l="l" t="t" r="r" b="b"/>
              <a:pathLst>
                <a:path w="2888" h="260">
                  <a:moveTo>
                    <a:pt x="0" y="0"/>
                  </a:moveTo>
                  <a:cubicBezTo>
                    <a:pt x="119" y="23"/>
                    <a:pt x="461" y="85"/>
                    <a:pt x="712" y="128"/>
                  </a:cubicBezTo>
                  <a:cubicBezTo>
                    <a:pt x="963" y="171"/>
                    <a:pt x="1263" y="260"/>
                    <a:pt x="1504" y="256"/>
                  </a:cubicBezTo>
                  <a:cubicBezTo>
                    <a:pt x="1745" y="252"/>
                    <a:pt x="1929" y="143"/>
                    <a:pt x="2160" y="104"/>
                  </a:cubicBezTo>
                  <a:cubicBezTo>
                    <a:pt x="2391" y="65"/>
                    <a:pt x="2736" y="41"/>
                    <a:pt x="2888" y="2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195640" y="54529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21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2901960" y="2514600"/>
            <a:ext cx="1784520" cy="685800"/>
            <a:chOff x="2901960" y="2514600"/>
            <a:chExt cx="1784520" cy="685800"/>
          </a:xfrm>
        </p:grpSpPr>
        <p:sp>
          <p:nvSpPr>
            <p:cNvPr id="1067" name=""/>
            <p:cNvSpPr/>
            <p:nvPr/>
          </p:nvSpPr>
          <p:spPr>
            <a:xfrm flipV="1">
              <a:off x="4229280" y="2743200"/>
              <a:ext cx="4572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901960" y="2514600"/>
              <a:ext cx="147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21-21=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9" name=""/>
          <p:cNvSpPr/>
          <p:nvPr/>
        </p:nvSpPr>
        <p:spPr>
          <a:xfrm>
            <a:off x="4307040" y="595296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742280" y="592776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62120" y="34732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pacity of 10 not m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3963960" y="1109520"/>
            <a:ext cx="2616480" cy="550800"/>
            <a:chOff x="3963960" y="1109520"/>
            <a:chExt cx="2616480" cy="550800"/>
          </a:xfrm>
        </p:grpSpPr>
        <p:sp>
          <p:nvSpPr>
            <p:cNvPr id="1073" name=""/>
            <p:cNvSpPr/>
            <p:nvPr/>
          </p:nvSpPr>
          <p:spPr>
            <a:xfrm>
              <a:off x="4516200" y="1109520"/>
              <a:ext cx="2064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Walking  21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963960" y="143496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959280" y="685800"/>
            <a:ext cx="2647440" cy="550800"/>
            <a:chOff x="3959280" y="685800"/>
            <a:chExt cx="2647440" cy="550800"/>
          </a:xfrm>
        </p:grpSpPr>
        <p:sp>
          <p:nvSpPr>
            <p:cNvPr id="1076" name=""/>
            <p:cNvSpPr/>
            <p:nvPr/>
          </p:nvSpPr>
          <p:spPr>
            <a:xfrm>
              <a:off x="4511880" y="685800"/>
              <a:ext cx="2094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Walking -21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959280" y="101124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0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3959280" cy="1128960"/>
          </a:xfrm>
          <a:prstGeom prst="rect">
            <a:avLst/>
          </a:prstGeom>
          <a:ln w="0">
            <a:noFill/>
          </a:ln>
        </p:spPr>
      </p:pic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888000" y="4954680"/>
            <a:ext cx="166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75-21=5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3246120" y="2133720"/>
            <a:ext cx="3096720" cy="2058840"/>
            <a:chOff x="3246120" y="2133720"/>
            <a:chExt cx="3096720" cy="2058840"/>
          </a:xfrm>
        </p:grpSpPr>
        <p:sp>
          <p:nvSpPr>
            <p:cNvPr id="1082" name=""/>
            <p:cNvSpPr/>
            <p:nvPr/>
          </p:nvSpPr>
          <p:spPr>
            <a:xfrm>
              <a:off x="3543120" y="3370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829120" y="3370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619080" y="3205080"/>
              <a:ext cx="2197080" cy="24156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 flipV="1">
              <a:off x="3694680" y="344664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46120" y="29732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992920" y="30495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188240" y="2668680"/>
              <a:ext cx="1047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21/75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258080" y="3641760"/>
              <a:ext cx="857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0/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544200" y="2133720"/>
              <a:ext cx="201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Flow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3027960" y="4556160"/>
            <a:ext cx="3407040" cy="1417680"/>
            <a:chOff x="3027960" y="4556160"/>
            <a:chExt cx="3407040" cy="1417680"/>
          </a:xfrm>
        </p:grpSpPr>
        <p:sp>
          <p:nvSpPr>
            <p:cNvPr id="1092" name=""/>
            <p:cNvSpPr/>
            <p:nvPr/>
          </p:nvSpPr>
          <p:spPr>
            <a:xfrm>
              <a:off x="3551400" y="5656320"/>
              <a:ext cx="152280" cy="152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837400" y="5656320"/>
              <a:ext cx="152280" cy="152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627360" y="5491080"/>
              <a:ext cx="2197080" cy="24156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 flipV="1">
              <a:off x="3702960" y="573264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254400" y="52592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001200" y="53355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027960" y="4556160"/>
              <a:ext cx="3407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Augmentation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1898280" y="5452920"/>
            <a:ext cx="5150160" cy="550800"/>
            <a:chOff x="1898280" y="5452920"/>
            <a:chExt cx="5150160" cy="550800"/>
          </a:xfrm>
        </p:grpSpPr>
        <p:sp>
          <p:nvSpPr>
            <p:cNvPr id="1100" name=""/>
            <p:cNvSpPr/>
            <p:nvPr/>
          </p:nvSpPr>
          <p:spPr>
            <a:xfrm>
              <a:off x="2463840" y="5549760"/>
              <a:ext cx="4584600" cy="412920"/>
            </a:xfrm>
            <a:custGeom>
              <a:avLst/>
              <a:gdLst/>
              <a:ahLst/>
              <a:rect l="l" t="t" r="r" b="b"/>
              <a:pathLst>
                <a:path w="2888" h="260">
                  <a:moveTo>
                    <a:pt x="0" y="0"/>
                  </a:moveTo>
                  <a:cubicBezTo>
                    <a:pt x="119" y="23"/>
                    <a:pt x="461" y="85"/>
                    <a:pt x="712" y="128"/>
                  </a:cubicBezTo>
                  <a:cubicBezTo>
                    <a:pt x="963" y="171"/>
                    <a:pt x="1263" y="260"/>
                    <a:pt x="1504" y="256"/>
                  </a:cubicBezTo>
                  <a:cubicBezTo>
                    <a:pt x="1745" y="252"/>
                    <a:pt x="1929" y="143"/>
                    <a:pt x="2160" y="104"/>
                  </a:cubicBezTo>
                  <a:cubicBezTo>
                    <a:pt x="2391" y="65"/>
                    <a:pt x="2736" y="41"/>
                    <a:pt x="2888" y="2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898280" y="5452920"/>
              <a:ext cx="1157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21+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2901960" y="2514600"/>
            <a:ext cx="1784520" cy="685800"/>
            <a:chOff x="2901960" y="2514600"/>
            <a:chExt cx="1784520" cy="685800"/>
          </a:xfrm>
        </p:grpSpPr>
        <p:sp>
          <p:nvSpPr>
            <p:cNvPr id="1103" name=""/>
            <p:cNvSpPr/>
            <p:nvPr/>
          </p:nvSpPr>
          <p:spPr>
            <a:xfrm flipV="1">
              <a:off x="4229280" y="2743200"/>
              <a:ext cx="4572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901960" y="2514600"/>
              <a:ext cx="147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21-21=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3811680" y="3505320"/>
            <a:ext cx="779400" cy="685800"/>
            <a:chOff x="3811680" y="3505320"/>
            <a:chExt cx="779400" cy="685800"/>
          </a:xfrm>
        </p:grpSpPr>
        <p:sp>
          <p:nvSpPr>
            <p:cNvPr id="1106" name=""/>
            <p:cNvSpPr/>
            <p:nvPr/>
          </p:nvSpPr>
          <p:spPr>
            <a:xfrm flipV="1">
              <a:off x="4133880" y="3733920"/>
              <a:ext cx="4572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811680" y="35053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07040" y="5927760"/>
            <a:ext cx="785160" cy="576000"/>
            <a:chOff x="4307040" y="5927760"/>
            <a:chExt cx="785160" cy="576000"/>
          </a:xfrm>
        </p:grpSpPr>
        <p:sp>
          <p:nvSpPr>
            <p:cNvPr id="1109" name=""/>
            <p:cNvSpPr/>
            <p:nvPr/>
          </p:nvSpPr>
          <p:spPr>
            <a:xfrm>
              <a:off x="4307040" y="59529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742280" y="59277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3810960" y="6308640"/>
            <a:ext cx="175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21+10=3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85800" y="35812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pacity of 10 m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3963960" y="685800"/>
            <a:ext cx="2620080" cy="1007640"/>
            <a:chOff x="3963960" y="685800"/>
            <a:chExt cx="2620080" cy="1007640"/>
          </a:xfrm>
        </p:grpSpPr>
        <p:sp>
          <p:nvSpPr>
            <p:cNvPr id="1114" name=""/>
            <p:cNvSpPr/>
            <p:nvPr/>
          </p:nvSpPr>
          <p:spPr>
            <a:xfrm>
              <a:off x="4039560" y="685800"/>
              <a:ext cx="25444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Walking  21</a:t>
              </a:r>
              <a:br>
                <a:rPr sz="3000"/>
              </a:b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 and another 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963960" y="101124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0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2666880" y="762120"/>
            <a:ext cx="3963960" cy="1344600"/>
          </a:xfrm>
          <a:prstGeom prst="rect">
            <a:avLst/>
          </a:prstGeom>
          <a:ln w="0">
            <a:noFill/>
          </a:ln>
        </p:spPr>
      </p:pic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963960" y="4954680"/>
            <a:ext cx="166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75-21=5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895200" y="5927760"/>
            <a:ext cx="175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21+10=3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3322440" y="2133720"/>
            <a:ext cx="3096720" cy="2058840"/>
            <a:chOff x="3322440" y="2133720"/>
            <a:chExt cx="3096720" cy="2058840"/>
          </a:xfrm>
        </p:grpSpPr>
        <p:sp>
          <p:nvSpPr>
            <p:cNvPr id="1121" name=""/>
            <p:cNvSpPr/>
            <p:nvPr/>
          </p:nvSpPr>
          <p:spPr>
            <a:xfrm>
              <a:off x="3619440" y="3370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905440" y="3370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695400" y="3205080"/>
              <a:ext cx="2197080" cy="24156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 flipV="1">
              <a:off x="3771000" y="344664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322440" y="29732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69240" y="30495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264560" y="2668680"/>
              <a:ext cx="1047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21/75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334400" y="3641760"/>
              <a:ext cx="857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0/1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620520" y="2133720"/>
              <a:ext cx="201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Flow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3103920" y="4556160"/>
            <a:ext cx="3407040" cy="1417680"/>
            <a:chOff x="3103920" y="4556160"/>
            <a:chExt cx="3407040" cy="1417680"/>
          </a:xfrm>
        </p:grpSpPr>
        <p:sp>
          <p:nvSpPr>
            <p:cNvPr id="1131" name=""/>
            <p:cNvSpPr/>
            <p:nvPr/>
          </p:nvSpPr>
          <p:spPr>
            <a:xfrm>
              <a:off x="3627360" y="5656320"/>
              <a:ext cx="152280" cy="152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913360" y="5656320"/>
              <a:ext cx="152280" cy="152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03320" y="5491080"/>
              <a:ext cx="2197080" cy="24156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 flipV="1">
              <a:off x="3778920" y="5732640"/>
              <a:ext cx="219708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330360" y="52592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077160" y="53355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103920" y="4556160"/>
              <a:ext cx="3407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Augmentation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2271960" y="5452920"/>
            <a:ext cx="4852800" cy="550800"/>
            <a:chOff x="2271960" y="5452920"/>
            <a:chExt cx="4852800" cy="550800"/>
          </a:xfrm>
        </p:grpSpPr>
        <p:sp>
          <p:nvSpPr>
            <p:cNvPr id="1139" name=""/>
            <p:cNvSpPr/>
            <p:nvPr/>
          </p:nvSpPr>
          <p:spPr>
            <a:xfrm>
              <a:off x="2540160" y="5549760"/>
              <a:ext cx="4584600" cy="412920"/>
            </a:xfrm>
            <a:custGeom>
              <a:avLst/>
              <a:gdLst/>
              <a:ahLst/>
              <a:rect l="l" t="t" r="r" b="b"/>
              <a:pathLst>
                <a:path w="2888" h="260">
                  <a:moveTo>
                    <a:pt x="0" y="0"/>
                  </a:moveTo>
                  <a:cubicBezTo>
                    <a:pt x="119" y="23"/>
                    <a:pt x="461" y="85"/>
                    <a:pt x="712" y="128"/>
                  </a:cubicBezTo>
                  <a:cubicBezTo>
                    <a:pt x="963" y="171"/>
                    <a:pt x="1263" y="260"/>
                    <a:pt x="1504" y="256"/>
                  </a:cubicBezTo>
                  <a:cubicBezTo>
                    <a:pt x="1745" y="252"/>
                    <a:pt x="1929" y="143"/>
                    <a:pt x="2160" y="104"/>
                  </a:cubicBezTo>
                  <a:cubicBezTo>
                    <a:pt x="2391" y="65"/>
                    <a:pt x="2736" y="41"/>
                    <a:pt x="2888" y="2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271960" y="54529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2914920" y="2514600"/>
            <a:ext cx="1847160" cy="685800"/>
            <a:chOff x="2914920" y="2514600"/>
            <a:chExt cx="1847160" cy="685800"/>
          </a:xfrm>
        </p:grpSpPr>
        <p:sp>
          <p:nvSpPr>
            <p:cNvPr id="1142" name=""/>
            <p:cNvSpPr/>
            <p:nvPr/>
          </p:nvSpPr>
          <p:spPr>
            <a:xfrm flipV="1">
              <a:off x="4305240" y="2743200"/>
              <a:ext cx="45684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914920" y="2514600"/>
              <a:ext cx="1600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21-25=-4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4078080" y="3505320"/>
            <a:ext cx="684360" cy="685800"/>
            <a:chOff x="4078080" y="3505320"/>
            <a:chExt cx="684360" cy="685800"/>
          </a:xfrm>
        </p:grpSpPr>
        <p:sp>
          <p:nvSpPr>
            <p:cNvPr id="1145" name=""/>
            <p:cNvSpPr/>
            <p:nvPr/>
          </p:nvSpPr>
          <p:spPr>
            <a:xfrm flipV="1">
              <a:off x="4305240" y="3733920"/>
              <a:ext cx="4572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78080" y="35053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4078080" y="2514600"/>
            <a:ext cx="684360" cy="685800"/>
            <a:chOff x="4078080" y="2514600"/>
            <a:chExt cx="684360" cy="685800"/>
          </a:xfrm>
        </p:grpSpPr>
        <p:sp>
          <p:nvSpPr>
            <p:cNvPr id="1148" name=""/>
            <p:cNvSpPr/>
            <p:nvPr/>
          </p:nvSpPr>
          <p:spPr>
            <a:xfrm flipV="1">
              <a:off x="4305240" y="2743200"/>
              <a:ext cx="4572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078080" y="251460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4191120" y="762120"/>
            <a:ext cx="2473200" cy="550800"/>
            <a:chOff x="4191120" y="762120"/>
            <a:chExt cx="2473200" cy="550800"/>
          </a:xfrm>
        </p:grpSpPr>
        <p:sp>
          <p:nvSpPr>
            <p:cNvPr id="1151" name=""/>
            <p:cNvSpPr/>
            <p:nvPr/>
          </p:nvSpPr>
          <p:spPr>
            <a:xfrm>
              <a:off x="4695840" y="762120"/>
              <a:ext cx="1968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Walking 25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191120" y="108720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fill="hold">
                      <p:stCondLst>
                        <p:cond delay="0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" descr=""/>
          <p:cNvPicPr/>
          <p:nvPr/>
        </p:nvPicPr>
        <p:blipFill>
          <a:blip r:embed="rId1"/>
          <a:stretch/>
        </p:blipFill>
        <p:spPr>
          <a:xfrm>
            <a:off x="2895480" y="685800"/>
            <a:ext cx="3872160" cy="144936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1104840" y="47419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390840" y="47419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181160" y="4576680"/>
            <a:ext cx="2197080" cy="241560"/>
          </a:xfrm>
          <a:custGeom>
            <a:avLst/>
            <a:gdLst/>
            <a:ahLst/>
            <a:rect l="l" t="t" r="r" b="b"/>
            <a:pathLst>
              <a:path w="1384" h="152">
                <a:moveTo>
                  <a:pt x="0" y="152"/>
                </a:moveTo>
                <a:cubicBezTo>
                  <a:pt x="196" y="84"/>
                  <a:pt x="393" y="16"/>
                  <a:pt x="624" y="8"/>
                </a:cubicBezTo>
                <a:cubicBezTo>
                  <a:pt x="855" y="0"/>
                  <a:pt x="1226" y="84"/>
                  <a:pt x="1384" y="10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 flipV="1">
            <a:off x="1256760" y="4818240"/>
            <a:ext cx="2197080" cy="241200"/>
          </a:xfrm>
          <a:custGeom>
            <a:avLst/>
            <a:gdLst/>
            <a:ahLst/>
            <a:rect l="l" t="t" r="r" b="b"/>
            <a:pathLst>
              <a:path w="1384" h="152">
                <a:moveTo>
                  <a:pt x="0" y="152"/>
                </a:moveTo>
                <a:cubicBezTo>
                  <a:pt x="196" y="84"/>
                  <a:pt x="393" y="16"/>
                  <a:pt x="624" y="8"/>
                </a:cubicBezTo>
                <a:cubicBezTo>
                  <a:pt x="855" y="0"/>
                  <a:pt x="1226" y="84"/>
                  <a:pt x="1384" y="10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808200" y="43448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554640" y="442116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414800" y="4040280"/>
            <a:ext cx="1715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667520" y="5013360"/>
            <a:ext cx="11588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0/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5920" y="3505320"/>
            <a:ext cx="201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low Grap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570640" y="4818240"/>
            <a:ext cx="152280" cy="1522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856640" y="4818240"/>
            <a:ext cx="152280" cy="1522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646600" y="4653000"/>
            <a:ext cx="2197080" cy="241200"/>
          </a:xfrm>
          <a:custGeom>
            <a:avLst/>
            <a:gdLst/>
            <a:ahLst/>
            <a:rect l="l" t="t" r="r" b="b"/>
            <a:pathLst>
              <a:path w="1384" h="152">
                <a:moveTo>
                  <a:pt x="0" y="152"/>
                </a:moveTo>
                <a:cubicBezTo>
                  <a:pt x="196" y="84"/>
                  <a:pt x="393" y="16"/>
                  <a:pt x="624" y="8"/>
                </a:cubicBezTo>
                <a:cubicBezTo>
                  <a:pt x="855" y="0"/>
                  <a:pt x="1226" y="84"/>
                  <a:pt x="1384" y="104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 flipV="1">
            <a:off x="5722200" y="4894200"/>
            <a:ext cx="2197080" cy="241200"/>
          </a:xfrm>
          <a:custGeom>
            <a:avLst/>
            <a:gdLst/>
            <a:ahLst/>
            <a:rect l="l" t="t" r="r" b="b"/>
            <a:pathLst>
              <a:path w="1384" h="152">
                <a:moveTo>
                  <a:pt x="0" y="152"/>
                </a:moveTo>
                <a:cubicBezTo>
                  <a:pt x="196" y="84"/>
                  <a:pt x="393" y="16"/>
                  <a:pt x="624" y="8"/>
                </a:cubicBezTo>
                <a:cubicBezTo>
                  <a:pt x="855" y="0"/>
                  <a:pt x="1226" y="84"/>
                  <a:pt x="1384" y="104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273640" y="44211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020440" y="44974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047200" y="3718080"/>
            <a:ext cx="340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ugmentation Grap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77040" y="3870360"/>
            <a:ext cx="2012040" cy="624960"/>
            <a:chOff x="77040" y="3870360"/>
            <a:chExt cx="2012040" cy="624960"/>
          </a:xfrm>
        </p:grpSpPr>
        <p:sp>
          <p:nvSpPr>
            <p:cNvPr id="1171" name=""/>
            <p:cNvSpPr/>
            <p:nvPr/>
          </p:nvSpPr>
          <p:spPr>
            <a:xfrm flipV="1">
              <a:off x="1403280" y="4266720"/>
              <a:ext cx="6858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7040" y="3870360"/>
              <a:ext cx="13968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&gt;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4278240" y="1616040"/>
            <a:ext cx="4789440" cy="3549600"/>
            <a:chOff x="4278240" y="1616040"/>
            <a:chExt cx="4789440" cy="3549600"/>
          </a:xfrm>
        </p:grpSpPr>
        <p:grpSp>
          <p:nvGrpSpPr>
            <p:cNvPr id="1174" name=""/>
            <p:cNvGrpSpPr/>
            <p:nvPr/>
          </p:nvGrpSpPr>
          <p:grpSpPr>
            <a:xfrm>
              <a:off x="4278240" y="4614840"/>
              <a:ext cx="4789440" cy="550800"/>
              <a:chOff x="4278240" y="4614840"/>
              <a:chExt cx="4789440" cy="550800"/>
            </a:xfrm>
          </p:grpSpPr>
          <p:sp>
            <p:nvSpPr>
              <p:cNvPr id="1175" name=""/>
              <p:cNvSpPr/>
              <p:nvPr/>
            </p:nvSpPr>
            <p:spPr>
              <a:xfrm>
                <a:off x="4483080" y="4653000"/>
                <a:ext cx="4584600" cy="327240"/>
              </a:xfrm>
              <a:custGeom>
                <a:avLst/>
                <a:gdLst/>
                <a:ahLst/>
                <a:rect l="l" t="t" r="r" b="b"/>
                <a:pathLst>
                  <a:path w="2888" h="206">
                    <a:moveTo>
                      <a:pt x="0" y="37"/>
                    </a:moveTo>
                    <a:cubicBezTo>
                      <a:pt x="119" y="60"/>
                      <a:pt x="457" y="170"/>
                      <a:pt x="712" y="165"/>
                    </a:cubicBezTo>
                    <a:cubicBezTo>
                      <a:pt x="967" y="160"/>
                      <a:pt x="1272" y="0"/>
                      <a:pt x="1528" y="5"/>
                    </a:cubicBezTo>
                    <a:cubicBezTo>
                      <a:pt x="1784" y="10"/>
                      <a:pt x="2021" y="188"/>
                      <a:pt x="2248" y="197"/>
                    </a:cubicBezTo>
                    <a:cubicBezTo>
                      <a:pt x="2475" y="206"/>
                      <a:pt x="2755" y="89"/>
                      <a:pt x="2888" y="61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278240" y="461484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0000"/>
                    </a:solidFill>
                    <a:latin typeface="Times New Roman"/>
                  </a:rPr>
                  <a:t>w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4423320" y="1616040"/>
              <a:ext cx="2037960" cy="550800"/>
              <a:chOff x="4423320" y="1616040"/>
              <a:chExt cx="2037960" cy="550800"/>
            </a:xfrm>
          </p:grpSpPr>
          <p:sp>
            <p:nvSpPr>
              <p:cNvPr id="1178" name=""/>
              <p:cNvSpPr/>
              <p:nvPr/>
            </p:nvSpPr>
            <p:spPr>
              <a:xfrm>
                <a:off x="4423320" y="1616040"/>
                <a:ext cx="1491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0000"/>
                    </a:solidFill>
                    <a:latin typeface="Times New Roman"/>
                  </a:rPr>
                  <a:t>Walking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928120" y="1941480"/>
                <a:ext cx="533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0" name=""/>
          <p:cNvSpPr/>
          <p:nvPr/>
        </p:nvSpPr>
        <p:spPr>
          <a:xfrm>
            <a:off x="5894640" y="4098960"/>
            <a:ext cx="1736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862240" y="4952880"/>
            <a:ext cx="18248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488280" y="2149560"/>
            <a:ext cx="863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921120" y="2133720"/>
            <a:ext cx="9273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787840" y="2073240"/>
            <a:ext cx="863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" descr=""/>
          <p:cNvPicPr/>
          <p:nvPr/>
        </p:nvPicPr>
        <p:blipFill>
          <a:blip r:embed="rId1"/>
          <a:stretch/>
        </p:blipFill>
        <p:spPr>
          <a:xfrm>
            <a:off x="2895480" y="685800"/>
            <a:ext cx="3872160" cy="1449360"/>
          </a:xfrm>
          <a:prstGeom prst="rect">
            <a:avLst/>
          </a:prstGeom>
          <a:ln w="0">
            <a:noFill/>
          </a:ln>
        </p:spPr>
      </p:pic>
      <p:sp>
        <p:nvSpPr>
          <p:cNvPr id="1187" name=""/>
          <p:cNvSpPr/>
          <p:nvPr/>
        </p:nvSpPr>
        <p:spPr>
          <a:xfrm>
            <a:off x="1104840" y="47419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390840" y="47419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181160" y="4576680"/>
            <a:ext cx="2197080" cy="241560"/>
          </a:xfrm>
          <a:custGeom>
            <a:avLst/>
            <a:gdLst/>
            <a:ahLst/>
            <a:rect l="l" t="t" r="r" b="b"/>
            <a:pathLst>
              <a:path w="1384" h="152">
                <a:moveTo>
                  <a:pt x="0" y="152"/>
                </a:moveTo>
                <a:cubicBezTo>
                  <a:pt x="196" y="84"/>
                  <a:pt x="393" y="16"/>
                  <a:pt x="624" y="8"/>
                </a:cubicBezTo>
                <a:cubicBezTo>
                  <a:pt x="855" y="0"/>
                  <a:pt x="1226" y="84"/>
                  <a:pt x="1384" y="10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 flipV="1">
            <a:off x="1256760" y="4818240"/>
            <a:ext cx="2197080" cy="241200"/>
          </a:xfrm>
          <a:custGeom>
            <a:avLst/>
            <a:gdLst/>
            <a:ahLst/>
            <a:rect l="l" t="t" r="r" b="b"/>
            <a:pathLst>
              <a:path w="1384" h="152">
                <a:moveTo>
                  <a:pt x="0" y="152"/>
                </a:moveTo>
                <a:cubicBezTo>
                  <a:pt x="196" y="84"/>
                  <a:pt x="393" y="16"/>
                  <a:pt x="624" y="8"/>
                </a:cubicBezTo>
                <a:cubicBezTo>
                  <a:pt x="855" y="0"/>
                  <a:pt x="1226" y="84"/>
                  <a:pt x="1384" y="10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808200" y="43448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554640" y="442116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416240" y="4040280"/>
            <a:ext cx="1715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667520" y="5013360"/>
            <a:ext cx="11588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0/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105920" y="3505320"/>
            <a:ext cx="201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low Grap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570640" y="4818240"/>
            <a:ext cx="152280" cy="1522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856640" y="4818240"/>
            <a:ext cx="152280" cy="1522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646600" y="4653000"/>
            <a:ext cx="2197080" cy="241200"/>
          </a:xfrm>
          <a:custGeom>
            <a:avLst/>
            <a:gdLst/>
            <a:ahLst/>
            <a:rect l="l" t="t" r="r" b="b"/>
            <a:pathLst>
              <a:path w="1384" h="152">
                <a:moveTo>
                  <a:pt x="0" y="152"/>
                </a:moveTo>
                <a:cubicBezTo>
                  <a:pt x="196" y="84"/>
                  <a:pt x="393" y="16"/>
                  <a:pt x="624" y="8"/>
                </a:cubicBezTo>
                <a:cubicBezTo>
                  <a:pt x="855" y="0"/>
                  <a:pt x="1226" y="84"/>
                  <a:pt x="1384" y="104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 flipV="1">
            <a:off x="5722200" y="4894200"/>
            <a:ext cx="2197080" cy="241200"/>
          </a:xfrm>
          <a:custGeom>
            <a:avLst/>
            <a:gdLst/>
            <a:ahLst/>
            <a:rect l="l" t="t" r="r" b="b"/>
            <a:pathLst>
              <a:path w="1384" h="152">
                <a:moveTo>
                  <a:pt x="0" y="152"/>
                </a:moveTo>
                <a:cubicBezTo>
                  <a:pt x="196" y="84"/>
                  <a:pt x="393" y="16"/>
                  <a:pt x="624" y="8"/>
                </a:cubicBezTo>
                <a:cubicBezTo>
                  <a:pt x="855" y="0"/>
                  <a:pt x="1226" y="84"/>
                  <a:pt x="1384" y="104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273640" y="44211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8020440" y="44974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047200" y="3718080"/>
            <a:ext cx="340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ugmentation Grap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122040" y="3870360"/>
            <a:ext cx="1967040" cy="624960"/>
            <a:chOff x="122040" y="3870360"/>
            <a:chExt cx="1967040" cy="624960"/>
          </a:xfrm>
        </p:grpSpPr>
        <p:sp>
          <p:nvSpPr>
            <p:cNvPr id="1204" name=""/>
            <p:cNvSpPr/>
            <p:nvPr/>
          </p:nvSpPr>
          <p:spPr>
            <a:xfrm flipV="1">
              <a:off x="1403280" y="4266720"/>
              <a:ext cx="6858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22040" y="3870360"/>
              <a:ext cx="13082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&gt;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6" name=""/>
          <p:cNvSpPr/>
          <p:nvPr/>
        </p:nvSpPr>
        <p:spPr>
          <a:xfrm>
            <a:off x="5894640" y="4098960"/>
            <a:ext cx="1736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862240" y="4952880"/>
            <a:ext cx="18248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488280" y="2149560"/>
            <a:ext cx="863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921120" y="2133720"/>
            <a:ext cx="9273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787840" y="2073240"/>
            <a:ext cx="863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1" name=""/>
          <p:cNvGrpSpPr/>
          <p:nvPr/>
        </p:nvGrpSpPr>
        <p:grpSpPr>
          <a:xfrm>
            <a:off x="4201920" y="1600200"/>
            <a:ext cx="4789800" cy="3556080"/>
            <a:chOff x="4201920" y="1600200"/>
            <a:chExt cx="4789800" cy="3556080"/>
          </a:xfrm>
        </p:grpSpPr>
        <p:grpSp>
          <p:nvGrpSpPr>
            <p:cNvPr id="1212" name=""/>
            <p:cNvGrpSpPr/>
            <p:nvPr/>
          </p:nvGrpSpPr>
          <p:grpSpPr>
            <a:xfrm>
              <a:off x="4201920" y="4605480"/>
              <a:ext cx="4789800" cy="550800"/>
              <a:chOff x="4201920" y="4605480"/>
              <a:chExt cx="4789800" cy="550800"/>
            </a:xfrm>
          </p:grpSpPr>
          <p:sp>
            <p:nvSpPr>
              <p:cNvPr id="1213" name=""/>
              <p:cNvSpPr/>
              <p:nvPr/>
            </p:nvSpPr>
            <p:spPr>
              <a:xfrm>
                <a:off x="4406760" y="4702320"/>
                <a:ext cx="4584960" cy="441360"/>
              </a:xfrm>
              <a:custGeom>
                <a:avLst/>
                <a:gdLst/>
                <a:ahLst/>
                <a:rect l="l" t="t" r="r" b="b"/>
                <a:pathLst>
                  <a:path w="2888" h="278">
                    <a:moveTo>
                      <a:pt x="0" y="0"/>
                    </a:moveTo>
                    <a:cubicBezTo>
                      <a:pt x="129" y="21"/>
                      <a:pt x="520" y="80"/>
                      <a:pt x="776" y="126"/>
                    </a:cubicBezTo>
                    <a:cubicBezTo>
                      <a:pt x="1032" y="172"/>
                      <a:pt x="1295" y="278"/>
                      <a:pt x="1536" y="278"/>
                    </a:cubicBezTo>
                    <a:cubicBezTo>
                      <a:pt x="1777" y="278"/>
                      <a:pt x="1999" y="168"/>
                      <a:pt x="2224" y="126"/>
                    </a:cubicBezTo>
                    <a:cubicBezTo>
                      <a:pt x="2449" y="84"/>
                      <a:pt x="2750" y="45"/>
                      <a:pt x="2888" y="2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201920" y="460548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0000"/>
                    </a:solidFill>
                    <a:latin typeface="Times New Roman"/>
                  </a:rPr>
                  <a:t>w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4572000" y="1600200"/>
              <a:ext cx="2044080" cy="550800"/>
              <a:chOff x="4572000" y="1600200"/>
              <a:chExt cx="2044080" cy="550800"/>
            </a:xfrm>
          </p:grpSpPr>
          <p:sp>
            <p:nvSpPr>
              <p:cNvPr id="1216" name=""/>
              <p:cNvSpPr/>
              <p:nvPr/>
            </p:nvSpPr>
            <p:spPr>
              <a:xfrm>
                <a:off x="5124600" y="1600200"/>
                <a:ext cx="1491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0000"/>
                    </a:solidFill>
                    <a:latin typeface="Times New Roman"/>
                  </a:rPr>
                  <a:t>Walking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572000" y="1925640"/>
                <a:ext cx="533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0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2971800" cy="2892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380880"/>
            <a:ext cx="93726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olu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flow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through each edg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low can’t exceed capacity i.e.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nidirectional flo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0  and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= 0  and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62520" y="5181480"/>
            <a:ext cx="1473120" cy="167652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4127400" y="4343400"/>
            <a:ext cx="0" cy="1370880"/>
            <a:chOff x="4127400" y="4343400"/>
            <a:chExt cx="0" cy="1370880"/>
          </a:xfrm>
        </p:grpSpPr>
        <p:sp>
          <p:nvSpPr>
            <p:cNvPr id="89" name=""/>
            <p:cNvSpPr/>
            <p:nvPr/>
          </p:nvSpPr>
          <p:spPr>
            <a:xfrm>
              <a:off x="4127400" y="4343400"/>
              <a:ext cx="0" cy="63288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127400" y="5081760"/>
              <a:ext cx="0" cy="63252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096240" y="2438280"/>
            <a:ext cx="22075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me text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= -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6333120" y="42120"/>
            <a:ext cx="1427760" cy="1069560"/>
            <a:chOff x="6333120" y="42120"/>
            <a:chExt cx="1427760" cy="1069560"/>
          </a:xfrm>
        </p:grpSpPr>
        <p:sp>
          <p:nvSpPr>
            <p:cNvPr id="1221" name=""/>
            <p:cNvSpPr/>
            <p:nvPr/>
          </p:nvSpPr>
          <p:spPr>
            <a:xfrm rot="2359800">
              <a:off x="6440400" y="314280"/>
              <a:ext cx="783000" cy="61920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rot="2359800">
              <a:off x="7218720" y="381600"/>
              <a:ext cx="450360" cy="449640"/>
            </a:xfrm>
            <a:custGeom>
              <a:avLst/>
              <a:gdLst/>
              <a:ahLst/>
              <a:rect l="l" t="t" r="r" b="b"/>
              <a:pathLst>
                <a:path w="1312" h="1296">
                  <a:moveTo>
                    <a:pt x="592" y="160"/>
                  </a:moveTo>
                  <a:cubicBezTo>
                    <a:pt x="408" y="256"/>
                    <a:pt x="32" y="496"/>
                    <a:pt x="16" y="640"/>
                  </a:cubicBezTo>
                  <a:cubicBezTo>
                    <a:pt x="0" y="784"/>
                    <a:pt x="296" y="928"/>
                    <a:pt x="496" y="1024"/>
                  </a:cubicBezTo>
                  <a:cubicBezTo>
                    <a:pt x="696" y="1120"/>
                    <a:pt x="1120" y="1296"/>
                    <a:pt x="1216" y="1216"/>
                  </a:cubicBezTo>
                  <a:cubicBezTo>
                    <a:pt x="1312" y="1136"/>
                    <a:pt x="1088" y="736"/>
                    <a:pt x="1072" y="544"/>
                  </a:cubicBezTo>
                  <a:cubicBezTo>
                    <a:pt x="1056" y="352"/>
                    <a:pt x="1208" y="128"/>
                    <a:pt x="1120" y="64"/>
                  </a:cubicBezTo>
                  <a:cubicBezTo>
                    <a:pt x="1032" y="0"/>
                    <a:pt x="776" y="64"/>
                    <a:pt x="592" y="16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23" name=""/>
            <p:cNvGrpSpPr/>
            <p:nvPr/>
          </p:nvGrpSpPr>
          <p:grpSpPr>
            <a:xfrm>
              <a:off x="6819840" y="42120"/>
              <a:ext cx="691200" cy="740880"/>
              <a:chOff x="6819840" y="42120"/>
              <a:chExt cx="691200" cy="740880"/>
            </a:xfrm>
          </p:grpSpPr>
          <p:sp>
            <p:nvSpPr>
              <p:cNvPr id="1224" name=""/>
              <p:cNvSpPr/>
              <p:nvPr/>
            </p:nvSpPr>
            <p:spPr>
              <a:xfrm rot="21255000">
                <a:off x="7167960" y="121320"/>
                <a:ext cx="140760" cy="11664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rot="21255000">
                <a:off x="7119360" y="267120"/>
                <a:ext cx="144720" cy="2602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rot="21255000">
                <a:off x="7221240" y="479880"/>
                <a:ext cx="281520" cy="17928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19838400">
                <a:off x="6832440" y="536040"/>
                <a:ext cx="402120" cy="15804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rot="21255000">
                <a:off x="7025040" y="53280"/>
                <a:ext cx="164160" cy="29124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rot="21255000">
                <a:off x="7220880" y="52200"/>
                <a:ext cx="214920" cy="24300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0" name=""/>
          <p:cNvGrpSpPr/>
          <p:nvPr/>
        </p:nvGrpSpPr>
        <p:grpSpPr>
          <a:xfrm>
            <a:off x="380880" y="1828800"/>
            <a:ext cx="8305920" cy="2362320"/>
            <a:chOff x="380880" y="1828800"/>
            <a:chExt cx="8305920" cy="2362320"/>
          </a:xfrm>
        </p:grpSpPr>
        <p:pic>
          <p:nvPicPr>
            <p:cNvPr id="1231" name="" descr=""/>
            <p:cNvPicPr/>
            <p:nvPr/>
          </p:nvPicPr>
          <p:blipFill>
            <a:blip r:embed="rId3"/>
            <a:stretch/>
          </p:blipFill>
          <p:spPr>
            <a:xfrm>
              <a:off x="380880" y="1905120"/>
              <a:ext cx="8267760" cy="22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2" name=""/>
            <p:cNvSpPr/>
            <p:nvPr/>
          </p:nvSpPr>
          <p:spPr>
            <a:xfrm>
              <a:off x="380880" y="2971800"/>
              <a:ext cx="2743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048120" y="2971800"/>
              <a:ext cx="2743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1320" y="2971800"/>
              <a:ext cx="28954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80880" y="1828800"/>
              <a:ext cx="2743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>
            <a:off x="1400040" y="3200400"/>
            <a:ext cx="865836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iven Flow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struct Augmenting Graph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nd path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7" name="" descr=""/>
          <p:cNvPicPr/>
          <p:nvPr/>
        </p:nvPicPr>
        <p:blipFill>
          <a:blip r:embed="rId4"/>
          <a:stretch/>
        </p:blipFill>
        <p:spPr>
          <a:xfrm>
            <a:off x="266760" y="685800"/>
            <a:ext cx="8496360" cy="1190520"/>
          </a:xfrm>
          <a:prstGeom prst="rect">
            <a:avLst/>
          </a:prstGeom>
          <a:ln w="0">
            <a:noFill/>
          </a:ln>
        </p:spPr>
      </p:pic>
      <p:sp>
        <p:nvSpPr>
          <p:cNvPr id="1238" name=""/>
          <p:cNvSpPr/>
          <p:nvPr/>
        </p:nvSpPr>
        <p:spPr>
          <a:xfrm>
            <a:off x="8534520" y="533520"/>
            <a:ext cx="228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070080" y="1533600"/>
            <a:ext cx="66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895480" y="68580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638680" y="685800"/>
            <a:ext cx="2895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8600" y="68580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098960" y="2101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715000" y="1905120"/>
            <a:ext cx="2895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413160" y="-390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228480" y="1066680"/>
            <a:ext cx="40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we got stuck bef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0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7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267760" cy="2247840"/>
          </a:xfrm>
          <a:prstGeom prst="rect">
            <a:avLst/>
          </a:prstGeom>
          <a:ln w="0">
            <a:noFill/>
          </a:ln>
        </p:spPr>
      </p:pic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400040" y="3259080"/>
            <a:ext cx="865836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iven Flow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struct Augmenting Graph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nd path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be the max amount flow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n increase along path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crease flow along path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by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.e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newF = oldF + w </a:t>
            </a:r>
            <a:r>
              <a:rPr b="0" lang="en-US" sz="3000" spc="-1" strike="noStrike">
                <a:solidFill>
                  <a:srgbClr val="00ffff"/>
                </a:solidFill>
                <a:latin typeface="Arial"/>
                <a:ea typeface="Arial"/>
              </a:rPr>
              <a:t>×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048120" y="68580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80880" y="182880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048120" y="182880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791320" y="1828800"/>
            <a:ext cx="2895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553080" y="914400"/>
            <a:ext cx="228600" cy="3049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791320" y="685800"/>
            <a:ext cx="2895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6333120" y="42120"/>
            <a:ext cx="1427760" cy="1069560"/>
            <a:chOff x="6333120" y="42120"/>
            <a:chExt cx="1427760" cy="1069560"/>
          </a:xfrm>
        </p:grpSpPr>
        <p:sp>
          <p:nvSpPr>
            <p:cNvPr id="1257" name=""/>
            <p:cNvSpPr/>
            <p:nvPr/>
          </p:nvSpPr>
          <p:spPr>
            <a:xfrm rot="2359800">
              <a:off x="6440400" y="314280"/>
              <a:ext cx="783000" cy="61920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rot="2359800">
              <a:off x="7218720" y="381600"/>
              <a:ext cx="450360" cy="449640"/>
            </a:xfrm>
            <a:custGeom>
              <a:avLst/>
              <a:gdLst/>
              <a:ahLst/>
              <a:rect l="l" t="t" r="r" b="b"/>
              <a:pathLst>
                <a:path w="1312" h="1296">
                  <a:moveTo>
                    <a:pt x="592" y="160"/>
                  </a:moveTo>
                  <a:cubicBezTo>
                    <a:pt x="408" y="256"/>
                    <a:pt x="32" y="496"/>
                    <a:pt x="16" y="640"/>
                  </a:cubicBezTo>
                  <a:cubicBezTo>
                    <a:pt x="0" y="784"/>
                    <a:pt x="296" y="928"/>
                    <a:pt x="496" y="1024"/>
                  </a:cubicBezTo>
                  <a:cubicBezTo>
                    <a:pt x="696" y="1120"/>
                    <a:pt x="1120" y="1296"/>
                    <a:pt x="1216" y="1216"/>
                  </a:cubicBezTo>
                  <a:cubicBezTo>
                    <a:pt x="1312" y="1136"/>
                    <a:pt x="1088" y="736"/>
                    <a:pt x="1072" y="544"/>
                  </a:cubicBezTo>
                  <a:cubicBezTo>
                    <a:pt x="1056" y="352"/>
                    <a:pt x="1208" y="128"/>
                    <a:pt x="1120" y="64"/>
                  </a:cubicBezTo>
                  <a:cubicBezTo>
                    <a:pt x="1032" y="0"/>
                    <a:pt x="776" y="64"/>
                    <a:pt x="592" y="16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59" name=""/>
            <p:cNvGrpSpPr/>
            <p:nvPr/>
          </p:nvGrpSpPr>
          <p:grpSpPr>
            <a:xfrm>
              <a:off x="6819840" y="42120"/>
              <a:ext cx="691200" cy="740880"/>
              <a:chOff x="6819840" y="42120"/>
              <a:chExt cx="691200" cy="740880"/>
            </a:xfrm>
          </p:grpSpPr>
          <p:sp>
            <p:nvSpPr>
              <p:cNvPr id="1260" name=""/>
              <p:cNvSpPr/>
              <p:nvPr/>
            </p:nvSpPr>
            <p:spPr>
              <a:xfrm rot="21255000">
                <a:off x="7167960" y="121320"/>
                <a:ext cx="140760" cy="11664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rot="21255000">
                <a:off x="7119360" y="267120"/>
                <a:ext cx="144720" cy="2602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rot="21255000">
                <a:off x="7221240" y="479880"/>
                <a:ext cx="281520" cy="17928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rot="19838400">
                <a:off x="6832440" y="536040"/>
                <a:ext cx="402120" cy="15804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rot="21255000">
                <a:off x="7025040" y="53280"/>
                <a:ext cx="164160" cy="29124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rot="21255000">
                <a:off x="7220880" y="52200"/>
                <a:ext cx="214920" cy="24300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6" name=""/>
          <p:cNvGrpSpPr/>
          <p:nvPr/>
        </p:nvGrpSpPr>
        <p:grpSpPr>
          <a:xfrm>
            <a:off x="459360" y="609480"/>
            <a:ext cx="2312640" cy="1297080"/>
            <a:chOff x="459360" y="609480"/>
            <a:chExt cx="2312640" cy="1297080"/>
          </a:xfrm>
        </p:grpSpPr>
        <p:sp>
          <p:nvSpPr>
            <p:cNvPr id="1267" name=""/>
            <p:cNvSpPr/>
            <p:nvPr/>
          </p:nvSpPr>
          <p:spPr>
            <a:xfrm>
              <a:off x="459360" y="609480"/>
              <a:ext cx="63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+w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068840" y="1386000"/>
              <a:ext cx="63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+w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135520" y="762120"/>
              <a:ext cx="63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+w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0" name=""/>
          <p:cNvSpPr/>
          <p:nvPr/>
        </p:nvSpPr>
        <p:spPr>
          <a:xfrm>
            <a:off x="1142280" y="8524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297080" y="8380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0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9" dur="500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500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3" dur="500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1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1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1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1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1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1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73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296280" cy="2914560"/>
          </a:xfrm>
          <a:prstGeom prst="rect">
            <a:avLst/>
          </a:prstGeom>
          <a:ln w="0">
            <a:noFill/>
          </a:ln>
        </p:spPr>
      </p:pic>
      <p:sp>
        <p:nvSpPr>
          <p:cNvPr id="1274" name=""/>
          <p:cNvSpPr/>
          <p:nvPr/>
        </p:nvSpPr>
        <p:spPr>
          <a:xfrm>
            <a:off x="0" y="2133720"/>
            <a:ext cx="9677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124080" y="609480"/>
            <a:ext cx="3429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400800" y="609480"/>
            <a:ext cx="3429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232440" y="2590920"/>
            <a:ext cx="5794920" cy="30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iven Flow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struct Augmenting Graph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nd path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using BFS, DFS,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or generic search algorith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o pat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op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8" dur="indefinite" restart="never" nodeType="tmRoot">
          <p:childTnLst>
            <p:seq>
              <p:cTn id="1639" dur="indefinite" nodeType="mainSeq">
                <p:childTnLst>
                  <p:par>
                    <p:cTn id="1640" fill="hold">
                      <p:stCondLst>
                        <p:cond delay="0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79" name="" descr=""/>
          <p:cNvPicPr/>
          <p:nvPr/>
        </p:nvPicPr>
        <p:blipFill>
          <a:blip r:embed="rId1"/>
          <a:stretch/>
        </p:blipFill>
        <p:spPr>
          <a:xfrm>
            <a:off x="838080" y="1038240"/>
            <a:ext cx="3191040" cy="1523880"/>
          </a:xfrm>
          <a:prstGeom prst="rect">
            <a:avLst/>
          </a:prstGeom>
          <a:ln w="0">
            <a:noFill/>
          </a:ln>
        </p:spPr>
      </p:pic>
      <p:pic>
        <p:nvPicPr>
          <p:cNvPr id="1280" name="" descr=""/>
          <p:cNvPicPr/>
          <p:nvPr/>
        </p:nvPicPr>
        <p:blipFill>
          <a:blip r:embed="rId2"/>
          <a:stretch/>
        </p:blipFill>
        <p:spPr>
          <a:xfrm>
            <a:off x="4648320" y="1038240"/>
            <a:ext cx="3933720" cy="1465200"/>
          </a:xfrm>
          <a:prstGeom prst="rect">
            <a:avLst/>
          </a:prstGeom>
          <a:ln w="0">
            <a:noFill/>
          </a:ln>
        </p:spPr>
      </p:pic>
      <p:pic>
        <p:nvPicPr>
          <p:cNvPr id="1281" name="" descr=""/>
          <p:cNvPicPr/>
          <p:nvPr/>
        </p:nvPicPr>
        <p:blipFill>
          <a:blip r:embed="rId3"/>
          <a:stretch/>
        </p:blipFill>
        <p:spPr>
          <a:xfrm>
            <a:off x="838080" y="2952720"/>
            <a:ext cx="3505320" cy="1619280"/>
          </a:xfrm>
          <a:prstGeom prst="rect">
            <a:avLst/>
          </a:prstGeom>
          <a:ln w="0">
            <a:noFill/>
          </a:ln>
        </p:spPr>
      </p:pic>
      <p:pic>
        <p:nvPicPr>
          <p:cNvPr id="1282" name="" descr=""/>
          <p:cNvPicPr/>
          <p:nvPr/>
        </p:nvPicPr>
        <p:blipFill>
          <a:blip r:embed="rId4"/>
          <a:stretch/>
        </p:blipFill>
        <p:spPr>
          <a:xfrm>
            <a:off x="4724280" y="2968560"/>
            <a:ext cx="3657600" cy="1590840"/>
          </a:xfrm>
          <a:prstGeom prst="rect">
            <a:avLst/>
          </a:prstGeom>
          <a:ln w="0">
            <a:noFill/>
          </a:ln>
        </p:spPr>
      </p:pic>
      <p:pic>
        <p:nvPicPr>
          <p:cNvPr id="1283" name="" descr=""/>
          <p:cNvPicPr/>
          <p:nvPr/>
        </p:nvPicPr>
        <p:blipFill>
          <a:blip r:embed="rId5"/>
          <a:stretch/>
        </p:blipFill>
        <p:spPr>
          <a:xfrm>
            <a:off x="4724280" y="5181480"/>
            <a:ext cx="3657600" cy="1670040"/>
          </a:xfrm>
          <a:prstGeom prst="rect">
            <a:avLst/>
          </a:prstGeom>
          <a:ln w="0">
            <a:noFill/>
          </a:ln>
        </p:spPr>
      </p:pic>
      <p:sp>
        <p:nvSpPr>
          <p:cNvPr id="1284" name=""/>
          <p:cNvSpPr/>
          <p:nvPr/>
        </p:nvSpPr>
        <p:spPr>
          <a:xfrm>
            <a:off x="672840" y="500040"/>
            <a:ext cx="241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evious Inpu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32880" y="2438280"/>
            <a:ext cx="26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evious Outpu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443480" y="457200"/>
            <a:ext cx="192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ame Inpu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422240" y="2441520"/>
            <a:ext cx="232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orse Outpu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595400" y="4708440"/>
            <a:ext cx="2180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ame Outpu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9" name="" descr=""/>
          <p:cNvPicPr/>
          <p:nvPr/>
        </p:nvPicPr>
        <p:blipFill>
          <a:blip r:embed="rId1"/>
          <a:stretch/>
        </p:blipFill>
        <p:spPr>
          <a:xfrm>
            <a:off x="1279440" y="690480"/>
            <a:ext cx="658332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 Application: Matc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91" name=""/>
          <p:cNvGraphicFramePr/>
          <p:nvPr/>
        </p:nvGraphicFramePr>
        <p:xfrm>
          <a:off x="2414520" y="685800"/>
          <a:ext cx="3048120" cy="30481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</a:tblGrid>
              <a:tr h="75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5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92" name=""/>
          <p:cNvGrpSpPr/>
          <p:nvPr/>
        </p:nvGrpSpPr>
        <p:grpSpPr>
          <a:xfrm>
            <a:off x="2109960" y="762120"/>
            <a:ext cx="3857040" cy="3124080"/>
            <a:chOff x="2109960" y="762120"/>
            <a:chExt cx="3857040" cy="3124080"/>
          </a:xfrm>
        </p:grpSpPr>
        <p:pic>
          <p:nvPicPr>
            <p:cNvPr id="1293" name="" descr=""/>
            <p:cNvPicPr/>
            <p:nvPr/>
          </p:nvPicPr>
          <p:blipFill>
            <a:blip r:embed="rId1"/>
            <a:stretch/>
          </p:blipFill>
          <p:spPr>
            <a:xfrm>
              <a:off x="5157720" y="2286000"/>
              <a:ext cx="6314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4" name="" descr=""/>
            <p:cNvPicPr/>
            <p:nvPr/>
          </p:nvPicPr>
          <p:blipFill>
            <a:blip r:embed="rId2"/>
            <a:stretch/>
          </p:blipFill>
          <p:spPr>
            <a:xfrm>
              <a:off x="5243400" y="3048120"/>
              <a:ext cx="7236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5" name="" descr=""/>
            <p:cNvPicPr/>
            <p:nvPr/>
          </p:nvPicPr>
          <p:blipFill>
            <a:blip r:embed="rId3"/>
            <a:stretch/>
          </p:blipFill>
          <p:spPr>
            <a:xfrm>
              <a:off x="5157720" y="762120"/>
              <a:ext cx="60912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6" name="" descr=""/>
            <p:cNvPicPr/>
            <p:nvPr/>
          </p:nvPicPr>
          <p:blipFill>
            <a:blip r:embed="rId4"/>
            <a:stretch/>
          </p:blipFill>
          <p:spPr>
            <a:xfrm>
              <a:off x="5081400" y="1447920"/>
              <a:ext cx="47916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" descr=""/>
            <p:cNvPicPr/>
            <p:nvPr/>
          </p:nvPicPr>
          <p:blipFill>
            <a:blip r:embed="rId5"/>
            <a:stretch/>
          </p:blipFill>
          <p:spPr>
            <a:xfrm>
              <a:off x="2414520" y="762120"/>
              <a:ext cx="36792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" descr=""/>
            <p:cNvPicPr/>
            <p:nvPr/>
          </p:nvPicPr>
          <p:blipFill>
            <a:blip r:embed="rId6"/>
            <a:stretch/>
          </p:blipFill>
          <p:spPr>
            <a:xfrm>
              <a:off x="2109960" y="1600200"/>
              <a:ext cx="75384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9" name="" descr=""/>
            <p:cNvPicPr/>
            <p:nvPr/>
          </p:nvPicPr>
          <p:blipFill>
            <a:blip r:embed="rId7"/>
            <a:stretch/>
          </p:blipFill>
          <p:spPr>
            <a:xfrm>
              <a:off x="2262240" y="2286000"/>
              <a:ext cx="6058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8"/>
            <a:stretch/>
          </p:blipFill>
          <p:spPr>
            <a:xfrm>
              <a:off x="2262240" y="2971800"/>
              <a:ext cx="528120" cy="83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1" name=""/>
          <p:cNvGrpSpPr/>
          <p:nvPr/>
        </p:nvGrpSpPr>
        <p:grpSpPr>
          <a:xfrm>
            <a:off x="3479760" y="1066680"/>
            <a:ext cx="838080" cy="2286000"/>
            <a:chOff x="3479760" y="1066680"/>
            <a:chExt cx="838080" cy="2286000"/>
          </a:xfrm>
        </p:grpSpPr>
        <p:sp>
          <p:nvSpPr>
            <p:cNvPr id="1302" name=""/>
            <p:cNvSpPr/>
            <p:nvPr/>
          </p:nvSpPr>
          <p:spPr>
            <a:xfrm>
              <a:off x="3555720" y="1066680"/>
              <a:ext cx="533160" cy="16002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479760" y="1828440"/>
              <a:ext cx="609480" cy="8384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3555720" y="1142640"/>
              <a:ext cx="685440" cy="15242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632040" y="3352680"/>
              <a:ext cx="68544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555720" y="1066680"/>
              <a:ext cx="761760" cy="8380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479760" y="1828440"/>
              <a:ext cx="838080" cy="15242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3632040" y="1142280"/>
              <a:ext cx="609120" cy="22100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9" name=""/>
          <p:cNvGrpSpPr/>
          <p:nvPr/>
        </p:nvGrpSpPr>
        <p:grpSpPr>
          <a:xfrm>
            <a:off x="3479760" y="1066680"/>
            <a:ext cx="838080" cy="2286000"/>
            <a:chOff x="3479760" y="1066680"/>
            <a:chExt cx="838080" cy="2286000"/>
          </a:xfrm>
        </p:grpSpPr>
        <p:sp>
          <p:nvSpPr>
            <p:cNvPr id="1310" name=""/>
            <p:cNvSpPr/>
            <p:nvPr/>
          </p:nvSpPr>
          <p:spPr>
            <a:xfrm>
              <a:off x="3479760" y="1828800"/>
              <a:ext cx="60948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>
              <a:off x="3556080" y="1142640"/>
              <a:ext cx="685800" cy="1523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632040" y="335268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556080" y="1066680"/>
              <a:ext cx="76176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2872800" y="3648240"/>
            <a:ext cx="277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loves wh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601640" y="4129200"/>
            <a:ext cx="532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should be matched with who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as many as possible match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nobody matched twi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3479760" y="1066680"/>
            <a:ext cx="838080" cy="2286000"/>
            <a:chOff x="3479760" y="1066680"/>
            <a:chExt cx="838080" cy="2286000"/>
          </a:xfrm>
        </p:grpSpPr>
        <p:sp>
          <p:nvSpPr>
            <p:cNvPr id="1317" name=""/>
            <p:cNvSpPr/>
            <p:nvPr/>
          </p:nvSpPr>
          <p:spPr>
            <a:xfrm>
              <a:off x="3555720" y="1066680"/>
              <a:ext cx="53352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479760" y="1828440"/>
              <a:ext cx="838080" cy="152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3632040" y="1142280"/>
              <a:ext cx="609480" cy="2210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0" name=""/>
          <p:cNvSpPr/>
          <p:nvPr/>
        </p:nvSpPr>
        <p:spPr>
          <a:xfrm>
            <a:off x="6177960" y="1514520"/>
            <a:ext cx="293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match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an we do bett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173280" y="2438280"/>
            <a:ext cx="16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mat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4" dur="indefinite" restart="never" nodeType="tmRoot">
          <p:childTnLst>
            <p:seq>
              <p:cTn id="1675" dur="indefinite" nodeType="mainSeq">
                <p:childTnLst>
                  <p:par>
                    <p:cTn id="1676" fill="hold">
                      <p:stCondLst>
                        <p:cond delay="0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2" name=""/>
          <p:cNvGrpSpPr/>
          <p:nvPr/>
        </p:nvGrpSpPr>
        <p:grpSpPr>
          <a:xfrm>
            <a:off x="1346040" y="1130400"/>
            <a:ext cx="3352680" cy="2298240"/>
            <a:chOff x="1346040" y="1130400"/>
            <a:chExt cx="3352680" cy="2298240"/>
          </a:xfrm>
        </p:grpSpPr>
        <p:sp>
          <p:nvSpPr>
            <p:cNvPr id="1323" name=""/>
            <p:cNvSpPr/>
            <p:nvPr/>
          </p:nvSpPr>
          <p:spPr>
            <a:xfrm>
              <a:off x="4546440" y="212076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346040" y="212076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450880" y="2628720"/>
              <a:ext cx="15264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27200" y="327636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476440" y="189216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76440" y="11430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340080" y="11304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352680" y="181584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365280" y="2577960"/>
              <a:ext cx="15264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390840" y="32382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 Application: Matc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550960" y="1206360"/>
            <a:ext cx="812880" cy="1422720"/>
          </a:xfrm>
          <a:custGeom>
            <a:avLst/>
            <a:gdLst/>
            <a:ahLst/>
            <a:rect l="l" t="t" r="r" b="b"/>
            <a:pathLst>
              <a:path w="512" h="896">
                <a:moveTo>
                  <a:pt x="0" y="0"/>
                </a:moveTo>
                <a:lnTo>
                  <a:pt x="512" y="8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602080" y="1892160"/>
            <a:ext cx="736560" cy="774720"/>
          </a:xfrm>
          <a:custGeom>
            <a:avLst/>
            <a:gdLst/>
            <a:ahLst/>
            <a:rect l="l" t="t" r="r" b="b"/>
            <a:pathLst>
              <a:path w="464" h="488">
                <a:moveTo>
                  <a:pt x="0" y="0"/>
                </a:moveTo>
                <a:lnTo>
                  <a:pt x="464" y="464"/>
                </a:lnTo>
                <a:lnTo>
                  <a:pt x="456" y="488"/>
                </a:lnTo>
              </a:path>
            </a:pathLst>
          </a:custGeom>
          <a:noFill/>
          <a:ln w="381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576520" y="1168560"/>
            <a:ext cx="762120" cy="1447560"/>
          </a:xfrm>
          <a:custGeom>
            <a:avLst/>
            <a:gdLst/>
            <a:ahLst/>
            <a:rect l="l" t="t" r="r" b="b"/>
            <a:pathLst>
              <a:path w="480" h="912">
                <a:moveTo>
                  <a:pt x="0" y="912"/>
                </a:moveTo>
                <a:lnTo>
                  <a:pt x="480" y="0"/>
                </a:lnTo>
              </a:path>
            </a:pathLst>
          </a:custGeom>
          <a:noFill/>
          <a:ln w="381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690640" y="3352680"/>
            <a:ext cx="6858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14680" y="1168560"/>
            <a:ext cx="723960" cy="685800"/>
          </a:xfrm>
          <a:custGeom>
            <a:avLst/>
            <a:gdLst/>
            <a:ahLst/>
            <a:rect l="l" t="t" r="r" b="b"/>
            <a:pathLst>
              <a:path w="456" h="432">
                <a:moveTo>
                  <a:pt x="0" y="0"/>
                </a:moveTo>
                <a:lnTo>
                  <a:pt x="456" y="432"/>
                </a:lnTo>
              </a:path>
            </a:pathLst>
          </a:custGeom>
          <a:noFill/>
          <a:ln w="381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550960" y="1968480"/>
            <a:ext cx="851040" cy="1333440"/>
          </a:xfrm>
          <a:custGeom>
            <a:avLst/>
            <a:gdLst/>
            <a:ahLst/>
            <a:rect l="l" t="t" r="r" b="b"/>
            <a:pathLst>
              <a:path w="536" h="840">
                <a:moveTo>
                  <a:pt x="0" y="0"/>
                </a:moveTo>
                <a:lnTo>
                  <a:pt x="536" y="8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690640" y="1206360"/>
            <a:ext cx="685800" cy="2146320"/>
          </a:xfrm>
          <a:custGeom>
            <a:avLst/>
            <a:gdLst/>
            <a:ahLst/>
            <a:rect l="l" t="t" r="r" b="b"/>
            <a:pathLst>
              <a:path w="432" h="1352">
                <a:moveTo>
                  <a:pt x="0" y="1352"/>
                </a:moveTo>
                <a:lnTo>
                  <a:pt x="4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100160" y="191916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654440" y="191916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496880" y="2247840"/>
            <a:ext cx="1028880" cy="1067040"/>
          </a:xfrm>
          <a:custGeom>
            <a:avLst/>
            <a:gdLst/>
            <a:ahLst/>
            <a:rect l="l" t="t" r="r" b="b"/>
            <a:pathLst>
              <a:path w="648" h="672">
                <a:moveTo>
                  <a:pt x="0" y="0"/>
                </a:moveTo>
                <a:lnTo>
                  <a:pt x="648" y="6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496880" y="2209680"/>
            <a:ext cx="990720" cy="444600"/>
          </a:xfrm>
          <a:custGeom>
            <a:avLst/>
            <a:gdLst/>
            <a:ahLst/>
            <a:rect l="l" t="t" r="r" b="b"/>
            <a:pathLst>
              <a:path w="624" h="280">
                <a:moveTo>
                  <a:pt x="0" y="0"/>
                </a:moveTo>
                <a:lnTo>
                  <a:pt x="624" y="280"/>
                </a:lnTo>
              </a:path>
            </a:pathLst>
          </a:custGeom>
          <a:noFill/>
          <a:ln w="3816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496880" y="1917720"/>
            <a:ext cx="1003320" cy="254160"/>
          </a:xfrm>
          <a:custGeom>
            <a:avLst/>
            <a:gdLst/>
            <a:ahLst/>
            <a:rect l="l" t="t" r="r" b="b"/>
            <a:pathLst>
              <a:path w="632" h="160">
                <a:moveTo>
                  <a:pt x="0" y="160"/>
                </a:moveTo>
                <a:lnTo>
                  <a:pt x="6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471680" y="1193760"/>
            <a:ext cx="1015920" cy="965160"/>
          </a:xfrm>
          <a:custGeom>
            <a:avLst/>
            <a:gdLst/>
            <a:ahLst/>
            <a:rect l="l" t="t" r="r" b="b"/>
            <a:pathLst>
              <a:path w="640" h="608">
                <a:moveTo>
                  <a:pt x="0" y="608"/>
                </a:moveTo>
                <a:lnTo>
                  <a:pt x="6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H="1">
            <a:off x="3503520" y="2209680"/>
            <a:ext cx="1028880" cy="1067040"/>
          </a:xfrm>
          <a:custGeom>
            <a:avLst/>
            <a:gdLst/>
            <a:ahLst/>
            <a:rect l="l" t="t" r="r" b="b"/>
            <a:pathLst>
              <a:path w="648" h="672">
                <a:moveTo>
                  <a:pt x="0" y="0"/>
                </a:moveTo>
                <a:lnTo>
                  <a:pt x="648" y="6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3503520" y="2171880"/>
            <a:ext cx="990720" cy="444240"/>
          </a:xfrm>
          <a:custGeom>
            <a:avLst/>
            <a:gdLst/>
            <a:ahLst/>
            <a:rect l="l" t="t" r="r" b="b"/>
            <a:pathLst>
              <a:path w="624" h="280">
                <a:moveTo>
                  <a:pt x="0" y="0"/>
                </a:moveTo>
                <a:lnTo>
                  <a:pt x="624" y="2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H="1">
            <a:off x="3502800" y="1879560"/>
            <a:ext cx="1003320" cy="254160"/>
          </a:xfrm>
          <a:custGeom>
            <a:avLst/>
            <a:gdLst/>
            <a:ahLst/>
            <a:rect l="l" t="t" r="r" b="b"/>
            <a:pathLst>
              <a:path w="632" h="160">
                <a:moveTo>
                  <a:pt x="0" y="160"/>
                </a:moveTo>
                <a:lnTo>
                  <a:pt x="632" y="0"/>
                </a:lnTo>
              </a:path>
            </a:pathLst>
          </a:custGeom>
          <a:noFill/>
          <a:ln w="38160">
            <a:solidFill>
              <a:srgbClr val="00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3478320" y="1155600"/>
            <a:ext cx="1015920" cy="965160"/>
          </a:xfrm>
          <a:custGeom>
            <a:avLst/>
            <a:gdLst/>
            <a:ahLst/>
            <a:rect l="l" t="t" r="r" b="b"/>
            <a:pathLst>
              <a:path w="640" h="608">
                <a:moveTo>
                  <a:pt x="0" y="608"/>
                </a:moveTo>
                <a:lnTo>
                  <a:pt x="6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87640" y="106668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2" name=""/>
          <p:cNvGrpSpPr/>
          <p:nvPr/>
        </p:nvGrpSpPr>
        <p:grpSpPr>
          <a:xfrm>
            <a:off x="305640" y="3733920"/>
            <a:ext cx="5569920" cy="2603520"/>
            <a:chOff x="305640" y="3733920"/>
            <a:chExt cx="5569920" cy="2603520"/>
          </a:xfrm>
        </p:grpSpPr>
        <p:grpSp>
          <p:nvGrpSpPr>
            <p:cNvPr id="1353" name=""/>
            <p:cNvGrpSpPr/>
            <p:nvPr/>
          </p:nvGrpSpPr>
          <p:grpSpPr>
            <a:xfrm>
              <a:off x="2286000" y="4038480"/>
              <a:ext cx="3352680" cy="2298960"/>
              <a:chOff x="2286000" y="4038480"/>
              <a:chExt cx="3352680" cy="2298960"/>
            </a:xfrm>
          </p:grpSpPr>
          <p:sp>
            <p:nvSpPr>
              <p:cNvPr id="1354" name=""/>
              <p:cNvSpPr/>
              <p:nvPr/>
            </p:nvSpPr>
            <p:spPr>
              <a:xfrm>
                <a:off x="5486400" y="5029200"/>
                <a:ext cx="15228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286000" y="5029200"/>
                <a:ext cx="15228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3390840" y="553716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3467160" y="6184800"/>
                <a:ext cx="152280" cy="1526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3416400" y="4800600"/>
                <a:ext cx="15228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416400" y="4051440"/>
                <a:ext cx="15228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280040" y="4038480"/>
                <a:ext cx="152280" cy="1526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92640" y="4724280"/>
                <a:ext cx="152280" cy="1526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305240" y="54864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330800" y="6146640"/>
                <a:ext cx="152280" cy="1526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64" name=""/>
            <p:cNvSpPr/>
            <p:nvPr/>
          </p:nvSpPr>
          <p:spPr>
            <a:xfrm>
              <a:off x="3492360" y="4146480"/>
              <a:ext cx="812880" cy="1422360"/>
            </a:xfrm>
            <a:custGeom>
              <a:avLst/>
              <a:gdLst/>
              <a:ahLst/>
              <a:rect l="l" t="t" r="r" b="b"/>
              <a:pathLst>
                <a:path w="512" h="896">
                  <a:moveTo>
                    <a:pt x="0" y="0"/>
                  </a:moveTo>
                  <a:lnTo>
                    <a:pt x="512" y="896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543480" y="4832280"/>
              <a:ext cx="736560" cy="774720"/>
            </a:xfrm>
            <a:custGeom>
              <a:avLst/>
              <a:gdLst/>
              <a:ahLst/>
              <a:rect l="l" t="t" r="r" b="b"/>
              <a:pathLst>
                <a:path w="464" h="488">
                  <a:moveTo>
                    <a:pt x="0" y="0"/>
                  </a:moveTo>
                  <a:lnTo>
                    <a:pt x="464" y="464"/>
                  </a:lnTo>
                  <a:lnTo>
                    <a:pt x="456" y="48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517920" y="4108320"/>
              <a:ext cx="762120" cy="1447920"/>
            </a:xfrm>
            <a:custGeom>
              <a:avLst/>
              <a:gdLst/>
              <a:ahLst/>
              <a:rect l="l" t="t" r="r" b="b"/>
              <a:pathLst>
                <a:path w="480" h="912">
                  <a:moveTo>
                    <a:pt x="0" y="912"/>
                  </a:moveTo>
                  <a:lnTo>
                    <a:pt x="48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32040" y="6292800"/>
              <a:ext cx="685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556080" y="4108320"/>
              <a:ext cx="723960" cy="685800"/>
            </a:xfrm>
            <a:custGeom>
              <a:avLst/>
              <a:gdLst/>
              <a:ahLst/>
              <a:rect l="l" t="t" r="r" b="b"/>
              <a:pathLst>
                <a:path w="456" h="432">
                  <a:moveTo>
                    <a:pt x="0" y="0"/>
                  </a:moveTo>
                  <a:lnTo>
                    <a:pt x="456" y="43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492360" y="4908600"/>
              <a:ext cx="851040" cy="1333440"/>
            </a:xfrm>
            <a:custGeom>
              <a:avLst/>
              <a:gdLst/>
              <a:ahLst/>
              <a:rect l="l" t="t" r="r" b="b"/>
              <a:pathLst>
                <a:path w="536" h="840">
                  <a:moveTo>
                    <a:pt x="0" y="0"/>
                  </a:moveTo>
                  <a:lnTo>
                    <a:pt x="536" y="840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632040" y="4146480"/>
              <a:ext cx="685800" cy="2146320"/>
            </a:xfrm>
            <a:custGeom>
              <a:avLst/>
              <a:gdLst/>
              <a:ahLst/>
              <a:rect l="l" t="t" r="r" b="b"/>
              <a:pathLst>
                <a:path w="432" h="1352">
                  <a:moveTo>
                    <a:pt x="0" y="1352"/>
                  </a:moveTo>
                  <a:lnTo>
                    <a:pt x="432" y="0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41200" y="485928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ffff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595840" y="485928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ffff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438280" y="5187960"/>
              <a:ext cx="1028880" cy="1066680"/>
            </a:xfrm>
            <a:custGeom>
              <a:avLst/>
              <a:gdLst/>
              <a:ahLst/>
              <a:rect l="l" t="t" r="r" b="b"/>
              <a:pathLst>
                <a:path w="648" h="672">
                  <a:moveTo>
                    <a:pt x="0" y="0"/>
                  </a:moveTo>
                  <a:lnTo>
                    <a:pt x="648" y="67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438280" y="5149800"/>
              <a:ext cx="990720" cy="444600"/>
            </a:xfrm>
            <a:custGeom>
              <a:avLst/>
              <a:gdLst/>
              <a:ahLst/>
              <a:rect l="l" t="t" r="r" b="b"/>
              <a:pathLst>
                <a:path w="624" h="280">
                  <a:moveTo>
                    <a:pt x="0" y="0"/>
                  </a:moveTo>
                  <a:lnTo>
                    <a:pt x="624" y="28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438280" y="4857840"/>
              <a:ext cx="1003320" cy="253800"/>
            </a:xfrm>
            <a:custGeom>
              <a:avLst/>
              <a:gdLst/>
              <a:ahLst/>
              <a:rect l="l" t="t" r="r" b="b"/>
              <a:pathLst>
                <a:path w="632" h="160">
                  <a:moveTo>
                    <a:pt x="0" y="160"/>
                  </a:moveTo>
                  <a:lnTo>
                    <a:pt x="632" y="0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413080" y="4133880"/>
              <a:ext cx="1015920" cy="965160"/>
            </a:xfrm>
            <a:custGeom>
              <a:avLst/>
              <a:gdLst/>
              <a:ahLst/>
              <a:rect l="l" t="t" r="r" b="b"/>
              <a:pathLst>
                <a:path w="640" h="608">
                  <a:moveTo>
                    <a:pt x="0" y="608"/>
                  </a:moveTo>
                  <a:lnTo>
                    <a:pt x="640" y="0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4444920" y="5149800"/>
              <a:ext cx="1028880" cy="1066680"/>
            </a:xfrm>
            <a:custGeom>
              <a:avLst/>
              <a:gdLst/>
              <a:ahLst/>
              <a:rect l="l" t="t" r="r" b="b"/>
              <a:pathLst>
                <a:path w="648" h="672">
                  <a:moveTo>
                    <a:pt x="0" y="0"/>
                  </a:moveTo>
                  <a:lnTo>
                    <a:pt x="648" y="67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4444920" y="5111640"/>
              <a:ext cx="990720" cy="444600"/>
            </a:xfrm>
            <a:custGeom>
              <a:avLst/>
              <a:gdLst/>
              <a:ahLst/>
              <a:rect l="l" t="t" r="r" b="b"/>
              <a:pathLst>
                <a:path w="624" h="280">
                  <a:moveTo>
                    <a:pt x="0" y="0"/>
                  </a:moveTo>
                  <a:lnTo>
                    <a:pt x="624" y="280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4444200" y="4819680"/>
              <a:ext cx="1003320" cy="253800"/>
            </a:xfrm>
            <a:custGeom>
              <a:avLst/>
              <a:gdLst/>
              <a:ahLst/>
              <a:rect l="l" t="t" r="r" b="b"/>
              <a:pathLst>
                <a:path w="632" h="160">
                  <a:moveTo>
                    <a:pt x="0" y="160"/>
                  </a:moveTo>
                  <a:lnTo>
                    <a:pt x="632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4419720" y="4095720"/>
              <a:ext cx="1015920" cy="965160"/>
            </a:xfrm>
            <a:custGeom>
              <a:avLst/>
              <a:gdLst/>
              <a:ahLst/>
              <a:rect l="l" t="t" r="r" b="b"/>
              <a:pathLst>
                <a:path w="640" h="608">
                  <a:moveTo>
                    <a:pt x="0" y="608"/>
                  </a:moveTo>
                  <a:lnTo>
                    <a:pt x="640" y="0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05640" y="3733920"/>
              <a:ext cx="319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ugmentation Grap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1803240" y="3724200"/>
            <a:ext cx="6756120" cy="2524320"/>
            <a:chOff x="1803240" y="3724200"/>
            <a:chExt cx="6756120" cy="2524320"/>
          </a:xfrm>
        </p:grpSpPr>
        <p:sp>
          <p:nvSpPr>
            <p:cNvPr id="1383" name=""/>
            <p:cNvSpPr/>
            <p:nvPr/>
          </p:nvSpPr>
          <p:spPr>
            <a:xfrm>
              <a:off x="1803240" y="4051440"/>
              <a:ext cx="4280040" cy="2197080"/>
            </a:xfrm>
            <a:custGeom>
              <a:avLst/>
              <a:gdLst/>
              <a:ahLst/>
              <a:rect l="l" t="t" r="r" b="b"/>
              <a:pathLst>
                <a:path w="2696" h="1384">
                  <a:moveTo>
                    <a:pt x="0" y="624"/>
                  </a:moveTo>
                  <a:lnTo>
                    <a:pt x="368" y="632"/>
                  </a:lnTo>
                  <a:lnTo>
                    <a:pt x="1064" y="928"/>
                  </a:lnTo>
                  <a:lnTo>
                    <a:pt x="1592" y="0"/>
                  </a:lnTo>
                  <a:lnTo>
                    <a:pt x="1120" y="1384"/>
                  </a:lnTo>
                  <a:lnTo>
                    <a:pt x="1640" y="1384"/>
                  </a:lnTo>
                  <a:lnTo>
                    <a:pt x="1072" y="520"/>
                  </a:lnTo>
                  <a:lnTo>
                    <a:pt x="1584" y="992"/>
                  </a:lnTo>
                  <a:lnTo>
                    <a:pt x="1048" y="40"/>
                  </a:lnTo>
                  <a:lnTo>
                    <a:pt x="1608" y="504"/>
                  </a:lnTo>
                  <a:lnTo>
                    <a:pt x="2304" y="656"/>
                  </a:lnTo>
                  <a:lnTo>
                    <a:pt x="2696" y="6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623200" y="3724200"/>
              <a:ext cx="293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ugmentation Pat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5" name=""/>
          <p:cNvSpPr/>
          <p:nvPr/>
        </p:nvSpPr>
        <p:spPr>
          <a:xfrm>
            <a:off x="5640120" y="4357800"/>
            <a:ext cx="264672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ernat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ding ed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moving ed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ding ed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moving ed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ding ed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a edge a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4727520" y="981000"/>
            <a:ext cx="4186440" cy="2447640"/>
            <a:chOff x="4727520" y="981000"/>
            <a:chExt cx="4186440" cy="2447640"/>
          </a:xfrm>
        </p:grpSpPr>
        <p:grpSp>
          <p:nvGrpSpPr>
            <p:cNvPr id="1387" name=""/>
            <p:cNvGrpSpPr/>
            <p:nvPr/>
          </p:nvGrpSpPr>
          <p:grpSpPr>
            <a:xfrm>
              <a:off x="5079960" y="1130400"/>
              <a:ext cx="3834000" cy="2298240"/>
              <a:chOff x="5079960" y="1130400"/>
              <a:chExt cx="3834000" cy="2298240"/>
            </a:xfrm>
          </p:grpSpPr>
          <p:grpSp>
            <p:nvGrpSpPr>
              <p:cNvPr id="1388" name=""/>
              <p:cNvGrpSpPr/>
              <p:nvPr/>
            </p:nvGrpSpPr>
            <p:grpSpPr>
              <a:xfrm>
                <a:off x="5334120" y="1130400"/>
                <a:ext cx="3352680" cy="2298240"/>
                <a:chOff x="5334120" y="1130400"/>
                <a:chExt cx="3352680" cy="2298240"/>
              </a:xfrm>
            </p:grpSpPr>
            <p:sp>
              <p:nvSpPr>
                <p:cNvPr id="1389" name=""/>
                <p:cNvSpPr/>
                <p:nvPr/>
              </p:nvSpPr>
              <p:spPr>
                <a:xfrm>
                  <a:off x="8534520" y="2120760"/>
                  <a:ext cx="152280" cy="1519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5334120" y="2120760"/>
                  <a:ext cx="152280" cy="1519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6438960" y="2628720"/>
                  <a:ext cx="152640" cy="1519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6515280" y="3276360"/>
                  <a:ext cx="152280" cy="1522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6464520" y="1892160"/>
                  <a:ext cx="152280" cy="1519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464520" y="1143000"/>
                  <a:ext cx="152280" cy="1519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7328160" y="1130400"/>
                  <a:ext cx="152280" cy="1522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7340760" y="1815840"/>
                  <a:ext cx="152280" cy="1522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7353360" y="2577960"/>
                  <a:ext cx="152640" cy="1519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7378920" y="3238200"/>
                  <a:ext cx="152280" cy="1522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9" name=""/>
              <p:cNvSpPr/>
              <p:nvPr/>
            </p:nvSpPr>
            <p:spPr>
              <a:xfrm>
                <a:off x="6531120" y="1206360"/>
                <a:ext cx="812520" cy="1422720"/>
              </a:xfrm>
              <a:custGeom>
                <a:avLst/>
                <a:gdLst/>
                <a:ahLst/>
                <a:rect l="l" t="t" r="r" b="b"/>
                <a:pathLst>
                  <a:path w="512" h="896">
                    <a:moveTo>
                      <a:pt x="0" y="0"/>
                    </a:moveTo>
                    <a:lnTo>
                      <a:pt x="512" y="896"/>
                    </a:lnTo>
                  </a:path>
                </a:pathLst>
              </a:custGeom>
              <a:noFill/>
              <a:ln w="38160">
                <a:solidFill>
                  <a:srgbClr val="00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581880" y="1892160"/>
                <a:ext cx="736560" cy="774720"/>
              </a:xfrm>
              <a:custGeom>
                <a:avLst/>
                <a:gdLst/>
                <a:ahLst/>
                <a:rect l="l" t="t" r="r" b="b"/>
                <a:pathLst>
                  <a:path w="464" h="488">
                    <a:moveTo>
                      <a:pt x="0" y="0"/>
                    </a:moveTo>
                    <a:lnTo>
                      <a:pt x="464" y="464"/>
                    </a:lnTo>
                    <a:lnTo>
                      <a:pt x="456" y="488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556320" y="1168560"/>
                <a:ext cx="762120" cy="1447560"/>
              </a:xfrm>
              <a:custGeom>
                <a:avLst/>
                <a:gdLst/>
                <a:ahLst/>
                <a:rect l="l" t="t" r="r" b="b"/>
                <a:pathLst>
                  <a:path w="480" h="912">
                    <a:moveTo>
                      <a:pt x="0" y="912"/>
                    </a:moveTo>
                    <a:lnTo>
                      <a:pt x="480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670800" y="3352680"/>
                <a:ext cx="685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594480" y="1168560"/>
                <a:ext cx="723960" cy="685800"/>
              </a:xfrm>
              <a:custGeom>
                <a:avLst/>
                <a:gdLst/>
                <a:ahLst/>
                <a:rect l="l" t="t" r="r" b="b"/>
                <a:pathLst>
                  <a:path w="456" h="432">
                    <a:moveTo>
                      <a:pt x="0" y="0"/>
                    </a:moveTo>
                    <a:lnTo>
                      <a:pt x="456" y="43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531120" y="1968480"/>
                <a:ext cx="850680" cy="1333440"/>
              </a:xfrm>
              <a:custGeom>
                <a:avLst/>
                <a:gdLst/>
                <a:ahLst/>
                <a:rect l="l" t="t" r="r" b="b"/>
                <a:pathLst>
                  <a:path w="536" h="840">
                    <a:moveTo>
                      <a:pt x="0" y="0"/>
                    </a:moveTo>
                    <a:lnTo>
                      <a:pt x="536" y="840"/>
                    </a:lnTo>
                  </a:path>
                </a:pathLst>
              </a:custGeom>
              <a:noFill/>
              <a:ln w="38160">
                <a:solidFill>
                  <a:srgbClr val="00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670800" y="1206360"/>
                <a:ext cx="685800" cy="2146320"/>
              </a:xfrm>
              <a:custGeom>
                <a:avLst/>
                <a:gdLst/>
                <a:ahLst/>
                <a:rect l="l" t="t" r="r" b="b"/>
                <a:pathLst>
                  <a:path w="432" h="1352">
                    <a:moveTo>
                      <a:pt x="0" y="1352"/>
                    </a:moveTo>
                    <a:lnTo>
                      <a:pt x="432" y="0"/>
                    </a:lnTo>
                  </a:path>
                </a:pathLst>
              </a:custGeom>
              <a:noFill/>
              <a:ln w="38160">
                <a:solidFill>
                  <a:srgbClr val="00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079960" y="1919160"/>
                <a:ext cx="3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ffff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8634240" y="191916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ffff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5477040" y="2247840"/>
                <a:ext cx="1028520" cy="1067040"/>
              </a:xfrm>
              <a:custGeom>
                <a:avLst/>
                <a:gdLst/>
                <a:ahLst/>
                <a:rect l="l" t="t" r="r" b="b"/>
                <a:pathLst>
                  <a:path w="648" h="672">
                    <a:moveTo>
                      <a:pt x="0" y="0"/>
                    </a:moveTo>
                    <a:lnTo>
                      <a:pt x="648" y="67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5477040" y="2209680"/>
                <a:ext cx="990360" cy="444600"/>
              </a:xfrm>
              <a:custGeom>
                <a:avLst/>
                <a:gdLst/>
                <a:ahLst/>
                <a:rect l="l" t="t" r="r" b="b"/>
                <a:pathLst>
                  <a:path w="624" h="280">
                    <a:moveTo>
                      <a:pt x="0" y="0"/>
                    </a:moveTo>
                    <a:lnTo>
                      <a:pt x="624" y="28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5477040" y="1917720"/>
                <a:ext cx="1002960" cy="254160"/>
              </a:xfrm>
              <a:custGeom>
                <a:avLst/>
                <a:gdLst/>
                <a:ahLst/>
                <a:rect l="l" t="t" r="r" b="b"/>
                <a:pathLst>
                  <a:path w="632" h="160">
                    <a:moveTo>
                      <a:pt x="0" y="160"/>
                    </a:moveTo>
                    <a:lnTo>
                      <a:pt x="632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5451480" y="1193760"/>
                <a:ext cx="1015920" cy="965160"/>
              </a:xfrm>
              <a:custGeom>
                <a:avLst/>
                <a:gdLst/>
                <a:ahLst/>
                <a:rect l="l" t="t" r="r" b="b"/>
                <a:pathLst>
                  <a:path w="640" h="608">
                    <a:moveTo>
                      <a:pt x="0" y="608"/>
                    </a:moveTo>
                    <a:lnTo>
                      <a:pt x="640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7483320" y="2209680"/>
                <a:ext cx="1028880" cy="1067040"/>
              </a:xfrm>
              <a:custGeom>
                <a:avLst/>
                <a:gdLst/>
                <a:ahLst/>
                <a:rect l="l" t="t" r="r" b="b"/>
                <a:pathLst>
                  <a:path w="648" h="672">
                    <a:moveTo>
                      <a:pt x="0" y="0"/>
                    </a:moveTo>
                    <a:lnTo>
                      <a:pt x="648" y="67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7483320" y="2171880"/>
                <a:ext cx="990720" cy="444240"/>
              </a:xfrm>
              <a:custGeom>
                <a:avLst/>
                <a:gdLst/>
                <a:ahLst/>
                <a:rect l="l" t="t" r="r" b="b"/>
                <a:pathLst>
                  <a:path w="624" h="280">
                    <a:moveTo>
                      <a:pt x="0" y="0"/>
                    </a:moveTo>
                    <a:lnTo>
                      <a:pt x="624" y="28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>
                <a:off x="7482600" y="1879560"/>
                <a:ext cx="1003320" cy="254160"/>
              </a:xfrm>
              <a:custGeom>
                <a:avLst/>
                <a:gdLst/>
                <a:ahLst/>
                <a:rect l="l" t="t" r="r" b="b"/>
                <a:pathLst>
                  <a:path w="632" h="160">
                    <a:moveTo>
                      <a:pt x="0" y="160"/>
                    </a:moveTo>
                    <a:lnTo>
                      <a:pt x="632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7458120" y="1155600"/>
                <a:ext cx="1015920" cy="965160"/>
              </a:xfrm>
              <a:custGeom>
                <a:avLst/>
                <a:gdLst/>
                <a:ahLst/>
                <a:rect l="l" t="t" r="r" b="b"/>
                <a:pathLst>
                  <a:path w="640" h="608">
                    <a:moveTo>
                      <a:pt x="0" y="608"/>
                    </a:moveTo>
                    <a:lnTo>
                      <a:pt x="640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16" name=""/>
            <p:cNvSpPr/>
            <p:nvPr/>
          </p:nvSpPr>
          <p:spPr>
            <a:xfrm>
              <a:off x="4727520" y="981000"/>
              <a:ext cx="166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New Flow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0" dur="indefinite" restart="never" nodeType="tmRoot">
          <p:childTnLst>
            <p:seq>
              <p:cTn id="1701" dur="indefinite" nodeType="mainSeq">
                <p:childTnLst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1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1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1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1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1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1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1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1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1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1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 Application: Matc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18" name=""/>
          <p:cNvGraphicFramePr/>
          <p:nvPr/>
        </p:nvGraphicFramePr>
        <p:xfrm>
          <a:off x="2414520" y="685800"/>
          <a:ext cx="3048120" cy="30481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</a:tblGrid>
              <a:tr h="75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5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19" name=""/>
          <p:cNvGrpSpPr/>
          <p:nvPr/>
        </p:nvGrpSpPr>
        <p:grpSpPr>
          <a:xfrm>
            <a:off x="2109960" y="762120"/>
            <a:ext cx="3857040" cy="3124080"/>
            <a:chOff x="2109960" y="762120"/>
            <a:chExt cx="3857040" cy="3124080"/>
          </a:xfrm>
        </p:grpSpPr>
        <p:pic>
          <p:nvPicPr>
            <p:cNvPr id="1420" name="" descr=""/>
            <p:cNvPicPr/>
            <p:nvPr/>
          </p:nvPicPr>
          <p:blipFill>
            <a:blip r:embed="rId1"/>
            <a:stretch/>
          </p:blipFill>
          <p:spPr>
            <a:xfrm>
              <a:off x="5157720" y="2286000"/>
              <a:ext cx="6314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1" name="" descr=""/>
            <p:cNvPicPr/>
            <p:nvPr/>
          </p:nvPicPr>
          <p:blipFill>
            <a:blip r:embed="rId2"/>
            <a:stretch/>
          </p:blipFill>
          <p:spPr>
            <a:xfrm>
              <a:off x="5243400" y="3048120"/>
              <a:ext cx="7236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2" name="" descr=""/>
            <p:cNvPicPr/>
            <p:nvPr/>
          </p:nvPicPr>
          <p:blipFill>
            <a:blip r:embed="rId3"/>
            <a:stretch/>
          </p:blipFill>
          <p:spPr>
            <a:xfrm>
              <a:off x="5157720" y="762120"/>
              <a:ext cx="60912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3" name="" descr=""/>
            <p:cNvPicPr/>
            <p:nvPr/>
          </p:nvPicPr>
          <p:blipFill>
            <a:blip r:embed="rId4"/>
            <a:stretch/>
          </p:blipFill>
          <p:spPr>
            <a:xfrm>
              <a:off x="5081400" y="1447920"/>
              <a:ext cx="47916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4" name="" descr=""/>
            <p:cNvPicPr/>
            <p:nvPr/>
          </p:nvPicPr>
          <p:blipFill>
            <a:blip r:embed="rId5"/>
            <a:stretch/>
          </p:blipFill>
          <p:spPr>
            <a:xfrm>
              <a:off x="2414520" y="762120"/>
              <a:ext cx="36792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5" name="" descr=""/>
            <p:cNvPicPr/>
            <p:nvPr/>
          </p:nvPicPr>
          <p:blipFill>
            <a:blip r:embed="rId6"/>
            <a:stretch/>
          </p:blipFill>
          <p:spPr>
            <a:xfrm>
              <a:off x="2109960" y="1600200"/>
              <a:ext cx="75384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6" name="" descr=""/>
            <p:cNvPicPr/>
            <p:nvPr/>
          </p:nvPicPr>
          <p:blipFill>
            <a:blip r:embed="rId7"/>
            <a:stretch/>
          </p:blipFill>
          <p:spPr>
            <a:xfrm>
              <a:off x="2262240" y="2286000"/>
              <a:ext cx="6058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7" name="" descr=""/>
            <p:cNvPicPr/>
            <p:nvPr/>
          </p:nvPicPr>
          <p:blipFill>
            <a:blip r:embed="rId8"/>
            <a:stretch/>
          </p:blipFill>
          <p:spPr>
            <a:xfrm>
              <a:off x="2262240" y="2971800"/>
              <a:ext cx="528120" cy="83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8" name=""/>
          <p:cNvGrpSpPr/>
          <p:nvPr/>
        </p:nvGrpSpPr>
        <p:grpSpPr>
          <a:xfrm>
            <a:off x="3479760" y="1066680"/>
            <a:ext cx="838080" cy="2286000"/>
            <a:chOff x="3479760" y="1066680"/>
            <a:chExt cx="838080" cy="2286000"/>
          </a:xfrm>
        </p:grpSpPr>
        <p:sp>
          <p:nvSpPr>
            <p:cNvPr id="1429" name=""/>
            <p:cNvSpPr/>
            <p:nvPr/>
          </p:nvSpPr>
          <p:spPr>
            <a:xfrm>
              <a:off x="3555720" y="1066680"/>
              <a:ext cx="533160" cy="16002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479760" y="1828440"/>
              <a:ext cx="609480" cy="8384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3555720" y="1142640"/>
              <a:ext cx="685440" cy="15242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632040" y="3352680"/>
              <a:ext cx="68544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555720" y="1066680"/>
              <a:ext cx="761760" cy="8380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479760" y="1828440"/>
              <a:ext cx="838080" cy="15242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3632040" y="1142280"/>
              <a:ext cx="609120" cy="22100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6" name=""/>
          <p:cNvGrpSpPr/>
          <p:nvPr/>
        </p:nvGrpSpPr>
        <p:grpSpPr>
          <a:xfrm>
            <a:off x="3479760" y="1066680"/>
            <a:ext cx="838080" cy="2286000"/>
            <a:chOff x="3479760" y="1066680"/>
            <a:chExt cx="838080" cy="2286000"/>
          </a:xfrm>
        </p:grpSpPr>
        <p:sp>
          <p:nvSpPr>
            <p:cNvPr id="1437" name=""/>
            <p:cNvSpPr/>
            <p:nvPr/>
          </p:nvSpPr>
          <p:spPr>
            <a:xfrm>
              <a:off x="3479760" y="1828800"/>
              <a:ext cx="60948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3556080" y="1142640"/>
              <a:ext cx="685800" cy="1523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632040" y="335268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556080" y="1066680"/>
              <a:ext cx="76176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1" name=""/>
          <p:cNvSpPr/>
          <p:nvPr/>
        </p:nvSpPr>
        <p:spPr>
          <a:xfrm>
            <a:off x="2872800" y="3648240"/>
            <a:ext cx="277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loves wh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601640" y="4129200"/>
            <a:ext cx="532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should be matched with who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as many as possible match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nobody matched twi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479760" y="1066680"/>
            <a:ext cx="838080" cy="2286000"/>
            <a:chOff x="3479760" y="1066680"/>
            <a:chExt cx="838080" cy="2286000"/>
          </a:xfrm>
        </p:grpSpPr>
        <p:sp>
          <p:nvSpPr>
            <p:cNvPr id="1444" name=""/>
            <p:cNvSpPr/>
            <p:nvPr/>
          </p:nvSpPr>
          <p:spPr>
            <a:xfrm>
              <a:off x="3555720" y="1066680"/>
              <a:ext cx="53352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479760" y="1828440"/>
              <a:ext cx="838080" cy="152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3632040" y="1142280"/>
              <a:ext cx="609480" cy="2210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7" name=""/>
          <p:cNvSpPr/>
          <p:nvPr/>
        </p:nvSpPr>
        <p:spPr>
          <a:xfrm>
            <a:off x="6177960" y="1514520"/>
            <a:ext cx="293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match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an we do bett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172200" y="2438280"/>
            <a:ext cx="16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mat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2" dur="indefinite" restart="never" nodeType="tmRoot">
          <p:childTnLst>
            <p:seq>
              <p:cTn id="1753" dur="indefinite" nodeType="mainSeq">
                <p:childTnLst>
                  <p:par>
                    <p:cTn id="1754" fill="hold">
                      <p:stCondLst>
                        <p:cond delay="0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982880" y="974880"/>
            <a:ext cx="5484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n our Network Flow Algorithm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et stuck in local max?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987560" y="2193840"/>
            <a:ext cx="63180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eed to prov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r every input networ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r every choice of augmenting path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ximum Flow is found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173280" y="1584360"/>
            <a:ext cx="77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No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425040" y="4251240"/>
            <a:ext cx="109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How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fill="hold">
                      <p:stCondLst>
                        <p:cond delay="0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1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1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1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1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1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1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imal-Dual Hill Climb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523880" y="5468760"/>
            <a:ext cx="6667560" cy="1312920"/>
          </a:xfrm>
          <a:custGeom>
            <a:avLst/>
            <a:gdLst/>
            <a:ahLst/>
            <a:rect l="l" t="t" r="r" b="b"/>
            <a:pathLst>
              <a:path w="4200" h="827">
                <a:moveTo>
                  <a:pt x="0" y="827"/>
                </a:moveTo>
                <a:cubicBezTo>
                  <a:pt x="99" y="776"/>
                  <a:pt x="400" y="552"/>
                  <a:pt x="592" y="523"/>
                </a:cubicBezTo>
                <a:cubicBezTo>
                  <a:pt x="784" y="494"/>
                  <a:pt x="980" y="659"/>
                  <a:pt x="1152" y="651"/>
                </a:cubicBezTo>
                <a:cubicBezTo>
                  <a:pt x="1324" y="643"/>
                  <a:pt x="1389" y="573"/>
                  <a:pt x="1624" y="475"/>
                </a:cubicBezTo>
                <a:cubicBezTo>
                  <a:pt x="1859" y="377"/>
                  <a:pt x="2295" y="124"/>
                  <a:pt x="2563" y="65"/>
                </a:cubicBezTo>
                <a:cubicBezTo>
                  <a:pt x="2831" y="6"/>
                  <a:pt x="2959" y="0"/>
                  <a:pt x="3232" y="118"/>
                </a:cubicBezTo>
                <a:cubicBezTo>
                  <a:pt x="3505" y="236"/>
                  <a:pt x="3998" y="636"/>
                  <a:pt x="4200" y="772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85800" y="533412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85800" y="518148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487692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5800" y="480060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464832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85800" y="441972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426708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86640" y="822240"/>
            <a:ext cx="570960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Primal Problem: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ponential # of locations to stand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nd a highest on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Dual problem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ponential # of roof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nd a lowest on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4" name=""/>
          <p:cNvGrpSpPr/>
          <p:nvPr/>
        </p:nvGrpSpPr>
        <p:grpSpPr>
          <a:xfrm>
            <a:off x="3581280" y="5715000"/>
            <a:ext cx="380880" cy="711000"/>
            <a:chOff x="3581280" y="5715000"/>
            <a:chExt cx="380880" cy="711000"/>
          </a:xfrm>
        </p:grpSpPr>
        <p:sp>
          <p:nvSpPr>
            <p:cNvPr id="1465" name=""/>
            <p:cNvSpPr/>
            <p:nvPr/>
          </p:nvSpPr>
          <p:spPr>
            <a:xfrm>
              <a:off x="3649320" y="5715000"/>
              <a:ext cx="189360" cy="14832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581280" y="588024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709440" y="5880600"/>
              <a:ext cx="142560" cy="2458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662280" y="6070320"/>
              <a:ext cx="108720" cy="35568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780720" y="6070320"/>
              <a:ext cx="177480" cy="30024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 rot="10800000">
              <a:off x="3809880" y="588492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152280" y="4495680"/>
            <a:ext cx="533520" cy="609840"/>
            <a:chOff x="152280" y="4495680"/>
            <a:chExt cx="533520" cy="609840"/>
          </a:xfrm>
        </p:grpSpPr>
        <p:pic>
          <p:nvPicPr>
            <p:cNvPr id="1472" name="" descr=""/>
            <p:cNvPicPr/>
            <p:nvPr/>
          </p:nvPicPr>
          <p:blipFill>
            <a:blip r:embed="rId1"/>
            <a:stretch/>
          </p:blipFill>
          <p:spPr>
            <a:xfrm>
              <a:off x="152280" y="4495680"/>
              <a:ext cx="40320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3" name=""/>
            <p:cNvSpPr/>
            <p:nvPr/>
          </p:nvSpPr>
          <p:spPr>
            <a:xfrm flipV="1">
              <a:off x="533520" y="4647960"/>
              <a:ext cx="15228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2" dur="indefinite" restart="never" nodeType="tmRoot">
          <p:childTnLst>
            <p:seq>
              <p:cTn id="1823" dur="indefinite" nodeType="mainSeq">
                <p:childTnLst>
                  <p:par>
                    <p:cTn id="1824" fill="hold">
                      <p:stCondLst>
                        <p:cond delay="0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1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1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1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1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0.2375 -0.11852 E">
                                      <p:cBhvr>
                                        <p:cTn id="1847" dur="2000" fill="hold"/>
                                        <p:tgtEl>
                                          <p:spTgt spid="1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1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1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1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1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1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1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0 L -0.00416 0.1 E">
                                      <p:cBhvr>
                                        <p:cTn id="1873" dur="2000" fill="hold"/>
                                        <p:tgtEl>
                                          <p:spTgt spid="1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2971800" cy="2892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819520" y="3886200"/>
            <a:ext cx="2895480" cy="2814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380880"/>
            <a:ext cx="937260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olu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flow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through each edg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low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an’t exceed capacity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nidirectional flo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o leaks, no extra flow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imal-Dual Hill Climb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523880" y="5468760"/>
            <a:ext cx="6667560" cy="1312920"/>
          </a:xfrm>
          <a:custGeom>
            <a:avLst/>
            <a:gdLst/>
            <a:ahLst/>
            <a:rect l="l" t="t" r="r" b="b"/>
            <a:pathLst>
              <a:path w="4200" h="827">
                <a:moveTo>
                  <a:pt x="0" y="827"/>
                </a:moveTo>
                <a:cubicBezTo>
                  <a:pt x="99" y="776"/>
                  <a:pt x="400" y="552"/>
                  <a:pt x="592" y="523"/>
                </a:cubicBezTo>
                <a:cubicBezTo>
                  <a:pt x="784" y="494"/>
                  <a:pt x="980" y="659"/>
                  <a:pt x="1152" y="651"/>
                </a:cubicBezTo>
                <a:cubicBezTo>
                  <a:pt x="1324" y="643"/>
                  <a:pt x="1389" y="573"/>
                  <a:pt x="1624" y="475"/>
                </a:cubicBezTo>
                <a:cubicBezTo>
                  <a:pt x="1859" y="377"/>
                  <a:pt x="2295" y="124"/>
                  <a:pt x="2563" y="65"/>
                </a:cubicBezTo>
                <a:cubicBezTo>
                  <a:pt x="2831" y="6"/>
                  <a:pt x="2959" y="0"/>
                  <a:pt x="3232" y="118"/>
                </a:cubicBezTo>
                <a:cubicBezTo>
                  <a:pt x="3505" y="236"/>
                  <a:pt x="3998" y="636"/>
                  <a:pt x="4200" y="772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85800" y="533412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85800" y="518148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85800" y="487692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85800" y="480060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85800" y="464832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85800" y="441972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85800" y="426708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70280" y="822240"/>
            <a:ext cx="739224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Prove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very roof is above every location to stand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L height(R)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height(L)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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eight(R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height(L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 there a gap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4" name=""/>
          <p:cNvGrpSpPr/>
          <p:nvPr/>
        </p:nvGrpSpPr>
        <p:grpSpPr>
          <a:xfrm>
            <a:off x="3581280" y="5715000"/>
            <a:ext cx="380880" cy="711000"/>
            <a:chOff x="3581280" y="5715000"/>
            <a:chExt cx="380880" cy="711000"/>
          </a:xfrm>
        </p:grpSpPr>
        <p:sp>
          <p:nvSpPr>
            <p:cNvPr id="1485" name=""/>
            <p:cNvSpPr/>
            <p:nvPr/>
          </p:nvSpPr>
          <p:spPr>
            <a:xfrm>
              <a:off x="3649320" y="5715000"/>
              <a:ext cx="189360" cy="14832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581280" y="588024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709440" y="5880600"/>
              <a:ext cx="142560" cy="2458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662280" y="6070320"/>
              <a:ext cx="108720" cy="35568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780720" y="6070320"/>
              <a:ext cx="177480" cy="30024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V="1" rot="10800000">
              <a:off x="3809880" y="588492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1" name=""/>
          <p:cNvGrpSpPr/>
          <p:nvPr/>
        </p:nvGrpSpPr>
        <p:grpSpPr>
          <a:xfrm>
            <a:off x="152280" y="4495680"/>
            <a:ext cx="533520" cy="609840"/>
            <a:chOff x="152280" y="4495680"/>
            <a:chExt cx="533520" cy="609840"/>
          </a:xfrm>
        </p:grpSpPr>
        <p:pic>
          <p:nvPicPr>
            <p:cNvPr id="1492" name="" descr=""/>
            <p:cNvPicPr/>
            <p:nvPr/>
          </p:nvPicPr>
          <p:blipFill>
            <a:blip r:embed="rId1"/>
            <a:stretch/>
          </p:blipFill>
          <p:spPr>
            <a:xfrm>
              <a:off x="152280" y="4495680"/>
              <a:ext cx="40320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3" name=""/>
            <p:cNvSpPr/>
            <p:nvPr/>
          </p:nvSpPr>
          <p:spPr>
            <a:xfrm flipV="1">
              <a:off x="533520" y="4647960"/>
              <a:ext cx="15228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4" name=""/>
          <p:cNvSpPr/>
          <p:nvPr/>
        </p:nvSpPr>
        <p:spPr>
          <a:xfrm>
            <a:off x="6019920" y="532116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4" dur="indefinite" restart="never" nodeType="tmRoot">
          <p:childTnLst>
            <p:seq>
              <p:cTn id="1875" dur="indefinite" nodeType="mainSeq">
                <p:childTnLst>
                  <p:par>
                    <p:cTn id="1876" fill="hold">
                      <p:stCondLst>
                        <p:cond delay="0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1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1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0.2375 -0.11852 E">
                                      <p:cBhvr>
                                        <p:cTn id="1909" dur="2000" fill="hold"/>
                                        <p:tgtEl>
                                          <p:spTgt spid="1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0 L -0.00416 0.1 E">
                                      <p:cBhvr>
                                        <p:cTn id="1911" dur="2000" fill="hold"/>
                                        <p:tgtEl>
                                          <p:spTgt spid="1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1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1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imal-Dual Hill Climb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523880" y="5468760"/>
            <a:ext cx="6667560" cy="1312920"/>
          </a:xfrm>
          <a:custGeom>
            <a:avLst/>
            <a:gdLst/>
            <a:ahLst/>
            <a:rect l="l" t="t" r="r" b="b"/>
            <a:pathLst>
              <a:path w="4200" h="827">
                <a:moveTo>
                  <a:pt x="0" y="827"/>
                </a:moveTo>
                <a:cubicBezTo>
                  <a:pt x="99" y="776"/>
                  <a:pt x="400" y="552"/>
                  <a:pt x="592" y="523"/>
                </a:cubicBezTo>
                <a:cubicBezTo>
                  <a:pt x="784" y="494"/>
                  <a:pt x="980" y="659"/>
                  <a:pt x="1152" y="651"/>
                </a:cubicBezTo>
                <a:cubicBezTo>
                  <a:pt x="1324" y="643"/>
                  <a:pt x="1389" y="573"/>
                  <a:pt x="1624" y="475"/>
                </a:cubicBezTo>
                <a:cubicBezTo>
                  <a:pt x="1859" y="377"/>
                  <a:pt x="2295" y="124"/>
                  <a:pt x="2563" y="65"/>
                </a:cubicBezTo>
                <a:cubicBezTo>
                  <a:pt x="2831" y="6"/>
                  <a:pt x="2959" y="0"/>
                  <a:pt x="3232" y="118"/>
                </a:cubicBezTo>
                <a:cubicBezTo>
                  <a:pt x="3505" y="236"/>
                  <a:pt x="3998" y="636"/>
                  <a:pt x="4200" y="772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85800" y="533412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85800" y="518148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85800" y="487692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85800" y="480060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85800" y="464832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85800" y="441972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85800" y="426708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86640" y="1203480"/>
            <a:ext cx="7416360" cy="30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Prove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r every location to stand either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alg takes a step up  o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alg gives a reason that explains why no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by giving a ceiling of equal heigh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.e.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L [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L’ height(L’)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height(L)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R  height(R) = height(L)]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5" name=""/>
          <p:cNvGrpSpPr/>
          <p:nvPr/>
        </p:nvGrpSpPr>
        <p:grpSpPr>
          <a:xfrm>
            <a:off x="3581280" y="5715000"/>
            <a:ext cx="380880" cy="711000"/>
            <a:chOff x="3581280" y="5715000"/>
            <a:chExt cx="380880" cy="711000"/>
          </a:xfrm>
        </p:grpSpPr>
        <p:sp>
          <p:nvSpPr>
            <p:cNvPr id="1506" name=""/>
            <p:cNvSpPr/>
            <p:nvPr/>
          </p:nvSpPr>
          <p:spPr>
            <a:xfrm>
              <a:off x="3649320" y="5715000"/>
              <a:ext cx="189360" cy="14832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581280" y="588024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709440" y="5880600"/>
              <a:ext cx="142560" cy="2458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662280" y="6070320"/>
              <a:ext cx="108720" cy="35568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780720" y="6070320"/>
              <a:ext cx="177480" cy="30024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 rot="10800000">
              <a:off x="3809880" y="588492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8640" y="194400"/>
            <a:ext cx="1427760" cy="1069560"/>
            <a:chOff x="8640" y="194400"/>
            <a:chExt cx="1427760" cy="1069560"/>
          </a:xfrm>
        </p:grpSpPr>
        <p:sp>
          <p:nvSpPr>
            <p:cNvPr id="1513" name=""/>
            <p:cNvSpPr/>
            <p:nvPr/>
          </p:nvSpPr>
          <p:spPr>
            <a:xfrm rot="2359800">
              <a:off x="115920" y="466560"/>
              <a:ext cx="783000" cy="61920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rot="2359800">
              <a:off x="894240" y="533880"/>
              <a:ext cx="450360" cy="449640"/>
            </a:xfrm>
            <a:custGeom>
              <a:avLst/>
              <a:gdLst/>
              <a:ahLst/>
              <a:rect l="l" t="t" r="r" b="b"/>
              <a:pathLst>
                <a:path w="1312" h="1296">
                  <a:moveTo>
                    <a:pt x="592" y="160"/>
                  </a:moveTo>
                  <a:cubicBezTo>
                    <a:pt x="408" y="256"/>
                    <a:pt x="32" y="496"/>
                    <a:pt x="16" y="640"/>
                  </a:cubicBezTo>
                  <a:cubicBezTo>
                    <a:pt x="0" y="784"/>
                    <a:pt x="296" y="928"/>
                    <a:pt x="496" y="1024"/>
                  </a:cubicBezTo>
                  <a:cubicBezTo>
                    <a:pt x="696" y="1120"/>
                    <a:pt x="1120" y="1296"/>
                    <a:pt x="1216" y="1216"/>
                  </a:cubicBezTo>
                  <a:cubicBezTo>
                    <a:pt x="1312" y="1136"/>
                    <a:pt x="1088" y="736"/>
                    <a:pt x="1072" y="544"/>
                  </a:cubicBezTo>
                  <a:cubicBezTo>
                    <a:pt x="1056" y="352"/>
                    <a:pt x="1208" y="128"/>
                    <a:pt x="1120" y="64"/>
                  </a:cubicBezTo>
                  <a:cubicBezTo>
                    <a:pt x="1032" y="0"/>
                    <a:pt x="776" y="64"/>
                    <a:pt x="592" y="16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15" name=""/>
            <p:cNvGrpSpPr/>
            <p:nvPr/>
          </p:nvGrpSpPr>
          <p:grpSpPr>
            <a:xfrm>
              <a:off x="495360" y="194400"/>
              <a:ext cx="691200" cy="740880"/>
              <a:chOff x="495360" y="194400"/>
              <a:chExt cx="691200" cy="740880"/>
            </a:xfrm>
          </p:grpSpPr>
          <p:sp>
            <p:nvSpPr>
              <p:cNvPr id="1516" name=""/>
              <p:cNvSpPr/>
              <p:nvPr/>
            </p:nvSpPr>
            <p:spPr>
              <a:xfrm rot="21255000">
                <a:off x="843480" y="273600"/>
                <a:ext cx="140760" cy="11664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rot="21255000">
                <a:off x="794880" y="419400"/>
                <a:ext cx="144720" cy="2602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rot="21255000">
                <a:off x="896760" y="632160"/>
                <a:ext cx="281520" cy="17928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rot="19838400">
                <a:off x="507960" y="688320"/>
                <a:ext cx="402120" cy="15804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rot="21255000">
                <a:off x="700560" y="205560"/>
                <a:ext cx="164160" cy="29124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rot="21255000">
                <a:off x="896400" y="204480"/>
                <a:ext cx="214920" cy="24300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2" name=""/>
          <p:cNvSpPr/>
          <p:nvPr/>
        </p:nvSpPr>
        <p:spPr>
          <a:xfrm>
            <a:off x="306720" y="2100240"/>
            <a:ext cx="49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152280" y="6172200"/>
            <a:ext cx="8763120" cy="609480"/>
            <a:chOff x="152280" y="6172200"/>
            <a:chExt cx="8763120" cy="609480"/>
          </a:xfrm>
        </p:grpSpPr>
        <p:grpSp>
          <p:nvGrpSpPr>
            <p:cNvPr id="1524" name=""/>
            <p:cNvGrpSpPr/>
            <p:nvPr/>
          </p:nvGrpSpPr>
          <p:grpSpPr>
            <a:xfrm>
              <a:off x="152280" y="6172200"/>
              <a:ext cx="533520" cy="609480"/>
              <a:chOff x="152280" y="6172200"/>
              <a:chExt cx="533520" cy="609480"/>
            </a:xfrm>
          </p:grpSpPr>
          <p:pic>
            <p:nvPicPr>
              <p:cNvPr id="152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2280" y="6172200"/>
                <a:ext cx="40320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6" name=""/>
              <p:cNvSpPr/>
              <p:nvPr/>
            </p:nvSpPr>
            <p:spPr>
              <a:xfrm flipV="1">
                <a:off x="533520" y="6324480"/>
                <a:ext cx="152280" cy="75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7" name=""/>
            <p:cNvSpPr/>
            <p:nvPr/>
          </p:nvSpPr>
          <p:spPr>
            <a:xfrm>
              <a:off x="685800" y="6324480"/>
              <a:ext cx="822960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1919880" y="6553080"/>
            <a:ext cx="5645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R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L height(R)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height(L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9" name=""/>
          <p:cNvGrpSpPr/>
          <p:nvPr/>
        </p:nvGrpSpPr>
        <p:grpSpPr>
          <a:xfrm>
            <a:off x="6019920" y="5148360"/>
            <a:ext cx="1523160" cy="550800"/>
            <a:chOff x="6019920" y="5148360"/>
            <a:chExt cx="1523160" cy="550800"/>
          </a:xfrm>
        </p:grpSpPr>
        <p:sp>
          <p:nvSpPr>
            <p:cNvPr id="1530" name=""/>
            <p:cNvSpPr/>
            <p:nvPr/>
          </p:nvSpPr>
          <p:spPr>
            <a:xfrm>
              <a:off x="6019920" y="533412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164640" y="5148360"/>
              <a:ext cx="1378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No Gap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2" dur="indefinite" restart="never" nodeType="tmRoot">
          <p:childTnLst>
            <p:seq>
              <p:cTn id="1923" dur="indefinite" nodeType="mainSeq">
                <p:childTnLst>
                  <p:par>
                    <p:cTn id="1924" fill="hold">
                      <p:stCondLst>
                        <p:cond delay="0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1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1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1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1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0.0625 -0.04075 E">
                                      <p:cBhvr>
                                        <p:cTn id="1947" dur="2000" fill="hold"/>
                                        <p:tgtEl>
                                          <p:spTgt spid="1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1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1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1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1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1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1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fill="hold">
                      <p:stCondLst>
                        <p:cond delay="indefinite"/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-0.00416 -0.12222 E">
                                      <p:cBhvr>
                                        <p:cTn id="1987" dur="2000" fill="hold"/>
                                        <p:tgtEl>
                                          <p:spTgt spid="1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0.24583 -0.14075 E">
                                      <p:cBhvr>
                                        <p:cTn id="1989" dur="2000" fill="hold"/>
                                        <p:tgtEl>
                                          <p:spTgt spid="1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imal-Dual Hill Climb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523880" y="5468760"/>
            <a:ext cx="6667560" cy="1312920"/>
          </a:xfrm>
          <a:custGeom>
            <a:avLst/>
            <a:gdLst/>
            <a:ahLst/>
            <a:rect l="l" t="t" r="r" b="b"/>
            <a:pathLst>
              <a:path w="4200" h="827">
                <a:moveTo>
                  <a:pt x="0" y="827"/>
                </a:moveTo>
                <a:cubicBezTo>
                  <a:pt x="99" y="776"/>
                  <a:pt x="400" y="552"/>
                  <a:pt x="592" y="523"/>
                </a:cubicBezTo>
                <a:cubicBezTo>
                  <a:pt x="784" y="494"/>
                  <a:pt x="980" y="659"/>
                  <a:pt x="1152" y="651"/>
                </a:cubicBezTo>
                <a:cubicBezTo>
                  <a:pt x="1324" y="643"/>
                  <a:pt x="1389" y="573"/>
                  <a:pt x="1624" y="475"/>
                </a:cubicBezTo>
                <a:cubicBezTo>
                  <a:pt x="1859" y="377"/>
                  <a:pt x="2295" y="124"/>
                  <a:pt x="2563" y="65"/>
                </a:cubicBezTo>
                <a:cubicBezTo>
                  <a:pt x="2831" y="6"/>
                  <a:pt x="2959" y="0"/>
                  <a:pt x="3232" y="118"/>
                </a:cubicBezTo>
                <a:cubicBezTo>
                  <a:pt x="3505" y="236"/>
                  <a:pt x="3998" y="636"/>
                  <a:pt x="4200" y="772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685800" y="533412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685800" y="518148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85800" y="487692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85800" y="480060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685800" y="464832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85800" y="441972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426708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86640" y="1203480"/>
            <a:ext cx="7416360" cy="30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Prove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r every location to stand either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alg takes a step up  o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alg gives a reason that explains why no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by giving a ceiling of equal height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e.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L [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L’ height(L’)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height(L)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R  height(R) = height(L)]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2" name=""/>
          <p:cNvGrpSpPr/>
          <p:nvPr/>
        </p:nvGrpSpPr>
        <p:grpSpPr>
          <a:xfrm>
            <a:off x="8640" y="194400"/>
            <a:ext cx="1427760" cy="1069560"/>
            <a:chOff x="8640" y="194400"/>
            <a:chExt cx="1427760" cy="1069560"/>
          </a:xfrm>
        </p:grpSpPr>
        <p:sp>
          <p:nvSpPr>
            <p:cNvPr id="1543" name=""/>
            <p:cNvSpPr/>
            <p:nvPr/>
          </p:nvSpPr>
          <p:spPr>
            <a:xfrm rot="2359800">
              <a:off x="115920" y="466560"/>
              <a:ext cx="783000" cy="61920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2359800">
              <a:off x="894240" y="533880"/>
              <a:ext cx="450360" cy="449640"/>
            </a:xfrm>
            <a:custGeom>
              <a:avLst/>
              <a:gdLst/>
              <a:ahLst/>
              <a:rect l="l" t="t" r="r" b="b"/>
              <a:pathLst>
                <a:path w="1312" h="1296">
                  <a:moveTo>
                    <a:pt x="592" y="160"/>
                  </a:moveTo>
                  <a:cubicBezTo>
                    <a:pt x="408" y="256"/>
                    <a:pt x="32" y="496"/>
                    <a:pt x="16" y="640"/>
                  </a:cubicBezTo>
                  <a:cubicBezTo>
                    <a:pt x="0" y="784"/>
                    <a:pt x="296" y="928"/>
                    <a:pt x="496" y="1024"/>
                  </a:cubicBezTo>
                  <a:cubicBezTo>
                    <a:pt x="696" y="1120"/>
                    <a:pt x="1120" y="1296"/>
                    <a:pt x="1216" y="1216"/>
                  </a:cubicBezTo>
                  <a:cubicBezTo>
                    <a:pt x="1312" y="1136"/>
                    <a:pt x="1088" y="736"/>
                    <a:pt x="1072" y="544"/>
                  </a:cubicBezTo>
                  <a:cubicBezTo>
                    <a:pt x="1056" y="352"/>
                    <a:pt x="1208" y="128"/>
                    <a:pt x="1120" y="64"/>
                  </a:cubicBezTo>
                  <a:cubicBezTo>
                    <a:pt x="1032" y="0"/>
                    <a:pt x="776" y="64"/>
                    <a:pt x="592" y="16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5" name=""/>
            <p:cNvGrpSpPr/>
            <p:nvPr/>
          </p:nvGrpSpPr>
          <p:grpSpPr>
            <a:xfrm>
              <a:off x="495360" y="194400"/>
              <a:ext cx="691200" cy="740880"/>
              <a:chOff x="495360" y="194400"/>
              <a:chExt cx="691200" cy="740880"/>
            </a:xfrm>
          </p:grpSpPr>
          <p:sp>
            <p:nvSpPr>
              <p:cNvPr id="1546" name=""/>
              <p:cNvSpPr/>
              <p:nvPr/>
            </p:nvSpPr>
            <p:spPr>
              <a:xfrm rot="21255000">
                <a:off x="843480" y="273600"/>
                <a:ext cx="140760" cy="11664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rot="21255000">
                <a:off x="794880" y="419400"/>
                <a:ext cx="144720" cy="2602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rot="21255000">
                <a:off x="896760" y="632160"/>
                <a:ext cx="281520" cy="17928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rot="19838400">
                <a:off x="507960" y="688320"/>
                <a:ext cx="402120" cy="15804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rot="21255000">
                <a:off x="700560" y="205560"/>
                <a:ext cx="164160" cy="29124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rot="21255000">
                <a:off x="896400" y="204480"/>
                <a:ext cx="214920" cy="24300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2" name=""/>
          <p:cNvSpPr/>
          <p:nvPr/>
        </p:nvSpPr>
        <p:spPr>
          <a:xfrm>
            <a:off x="306720" y="2100240"/>
            <a:ext cx="49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2209680" y="5715000"/>
            <a:ext cx="380880" cy="711000"/>
            <a:chOff x="2209680" y="5715000"/>
            <a:chExt cx="380880" cy="711000"/>
          </a:xfrm>
        </p:grpSpPr>
        <p:sp>
          <p:nvSpPr>
            <p:cNvPr id="1554" name=""/>
            <p:cNvSpPr/>
            <p:nvPr/>
          </p:nvSpPr>
          <p:spPr>
            <a:xfrm>
              <a:off x="2277720" y="5715000"/>
              <a:ext cx="189360" cy="14832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209680" y="588024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337840" y="5880600"/>
              <a:ext cx="142560" cy="2458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290680" y="6070320"/>
              <a:ext cx="108720" cy="35568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409120" y="6070320"/>
              <a:ext cx="177480" cy="30024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V="1" rot="10800000">
              <a:off x="2438280" y="588492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2627280" y="5410080"/>
            <a:ext cx="4751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nt go up from this location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nd no matching ceiling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247560" y="6372360"/>
            <a:ext cx="222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Cant happen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340360" y="537696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6" dur="indefinite" restart="never" nodeType="tmRoot">
          <p:childTnLst>
            <p:seq>
              <p:cTn id="1997" dur="indefinite" nodeType="mainSeq">
                <p:childTnLst>
                  <p:par>
                    <p:cTn id="1998" fill="hold">
                      <p:stCondLst>
                        <p:cond delay="0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imal-Dual Hill Climb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85800" y="533412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5800" y="518148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5800" y="487692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85800" y="480060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85800" y="464832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441972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85800" y="426708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86640" y="1203480"/>
            <a:ext cx="7416360" cy="30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Prove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r every location to stand either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alg takes a step up  o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alg gives a reason that explains why no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by giving a ceiling of equal height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e.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L [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L’ height(L’)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height(L)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R  height(R) = height(L)]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8640" y="194400"/>
            <a:ext cx="1427760" cy="1069560"/>
            <a:chOff x="8640" y="194400"/>
            <a:chExt cx="1427760" cy="1069560"/>
          </a:xfrm>
        </p:grpSpPr>
        <p:sp>
          <p:nvSpPr>
            <p:cNvPr id="1573" name=""/>
            <p:cNvSpPr/>
            <p:nvPr/>
          </p:nvSpPr>
          <p:spPr>
            <a:xfrm rot="2359800">
              <a:off x="115920" y="466560"/>
              <a:ext cx="783000" cy="61920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rot="2359800">
              <a:off x="894240" y="533880"/>
              <a:ext cx="450360" cy="449640"/>
            </a:xfrm>
            <a:custGeom>
              <a:avLst/>
              <a:gdLst/>
              <a:ahLst/>
              <a:rect l="l" t="t" r="r" b="b"/>
              <a:pathLst>
                <a:path w="1312" h="1296">
                  <a:moveTo>
                    <a:pt x="592" y="160"/>
                  </a:moveTo>
                  <a:cubicBezTo>
                    <a:pt x="408" y="256"/>
                    <a:pt x="32" y="496"/>
                    <a:pt x="16" y="640"/>
                  </a:cubicBezTo>
                  <a:cubicBezTo>
                    <a:pt x="0" y="784"/>
                    <a:pt x="296" y="928"/>
                    <a:pt x="496" y="1024"/>
                  </a:cubicBezTo>
                  <a:cubicBezTo>
                    <a:pt x="696" y="1120"/>
                    <a:pt x="1120" y="1296"/>
                    <a:pt x="1216" y="1216"/>
                  </a:cubicBezTo>
                  <a:cubicBezTo>
                    <a:pt x="1312" y="1136"/>
                    <a:pt x="1088" y="736"/>
                    <a:pt x="1072" y="544"/>
                  </a:cubicBezTo>
                  <a:cubicBezTo>
                    <a:pt x="1056" y="352"/>
                    <a:pt x="1208" y="128"/>
                    <a:pt x="1120" y="64"/>
                  </a:cubicBezTo>
                  <a:cubicBezTo>
                    <a:pt x="1032" y="0"/>
                    <a:pt x="776" y="64"/>
                    <a:pt x="592" y="16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495360" y="194400"/>
              <a:ext cx="691200" cy="740880"/>
              <a:chOff x="495360" y="194400"/>
              <a:chExt cx="691200" cy="740880"/>
            </a:xfrm>
          </p:grpSpPr>
          <p:sp>
            <p:nvSpPr>
              <p:cNvPr id="1576" name=""/>
              <p:cNvSpPr/>
              <p:nvPr/>
            </p:nvSpPr>
            <p:spPr>
              <a:xfrm rot="21255000">
                <a:off x="843480" y="273600"/>
                <a:ext cx="140760" cy="11664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rot="21255000">
                <a:off x="794880" y="419400"/>
                <a:ext cx="144720" cy="2602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rot="21255000">
                <a:off x="896760" y="632160"/>
                <a:ext cx="281520" cy="17928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rot="19838400">
                <a:off x="507960" y="688320"/>
                <a:ext cx="402120" cy="15804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rot="21255000">
                <a:off x="700560" y="205560"/>
                <a:ext cx="164160" cy="29124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rot="21255000">
                <a:off x="896400" y="204480"/>
                <a:ext cx="214920" cy="24300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2" name=""/>
          <p:cNvSpPr/>
          <p:nvPr/>
        </p:nvSpPr>
        <p:spPr>
          <a:xfrm>
            <a:off x="306720" y="2100240"/>
            <a:ext cx="49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3" name=""/>
          <p:cNvGrpSpPr/>
          <p:nvPr/>
        </p:nvGrpSpPr>
        <p:grpSpPr>
          <a:xfrm>
            <a:off x="2209680" y="5715000"/>
            <a:ext cx="380880" cy="711000"/>
            <a:chOff x="2209680" y="5715000"/>
            <a:chExt cx="380880" cy="711000"/>
          </a:xfrm>
        </p:grpSpPr>
        <p:sp>
          <p:nvSpPr>
            <p:cNvPr id="1584" name=""/>
            <p:cNvSpPr/>
            <p:nvPr/>
          </p:nvSpPr>
          <p:spPr>
            <a:xfrm>
              <a:off x="2277720" y="5715000"/>
              <a:ext cx="189360" cy="14832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209680" y="588024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337840" y="5880600"/>
              <a:ext cx="142560" cy="2458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290680" y="6070320"/>
              <a:ext cx="108720" cy="35568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409120" y="6070320"/>
              <a:ext cx="177480" cy="30024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 rot="10800000">
              <a:off x="2438280" y="588492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1523880" y="5468760"/>
            <a:ext cx="6667560" cy="1406520"/>
            <a:chOff x="1523880" y="5468760"/>
            <a:chExt cx="6667560" cy="1406520"/>
          </a:xfrm>
        </p:grpSpPr>
        <p:sp>
          <p:nvSpPr>
            <p:cNvPr id="1591" name=""/>
            <p:cNvSpPr/>
            <p:nvPr/>
          </p:nvSpPr>
          <p:spPr>
            <a:xfrm>
              <a:off x="1523880" y="5468760"/>
              <a:ext cx="6667560" cy="1312920"/>
            </a:xfrm>
            <a:custGeom>
              <a:avLst/>
              <a:gdLst/>
              <a:ahLst/>
              <a:rect l="l" t="t" r="r" b="b"/>
              <a:pathLst>
                <a:path w="4200" h="827">
                  <a:moveTo>
                    <a:pt x="0" y="827"/>
                  </a:moveTo>
                  <a:cubicBezTo>
                    <a:pt x="99" y="776"/>
                    <a:pt x="403" y="583"/>
                    <a:pt x="592" y="523"/>
                  </a:cubicBezTo>
                  <a:cubicBezTo>
                    <a:pt x="781" y="463"/>
                    <a:pt x="964" y="496"/>
                    <a:pt x="1136" y="467"/>
                  </a:cubicBezTo>
                  <a:cubicBezTo>
                    <a:pt x="1308" y="438"/>
                    <a:pt x="1386" y="414"/>
                    <a:pt x="1624" y="347"/>
                  </a:cubicBezTo>
                  <a:cubicBezTo>
                    <a:pt x="1862" y="280"/>
                    <a:pt x="2295" y="103"/>
                    <a:pt x="2563" y="65"/>
                  </a:cubicBezTo>
                  <a:cubicBezTo>
                    <a:pt x="2831" y="27"/>
                    <a:pt x="2959" y="0"/>
                    <a:pt x="3232" y="118"/>
                  </a:cubicBezTo>
                  <a:cubicBezTo>
                    <a:pt x="3505" y="236"/>
                    <a:pt x="3998" y="636"/>
                    <a:pt x="4200" y="77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977200" y="6324480"/>
              <a:ext cx="3246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No local maximum!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2" dur="indefinite" restart="never" nodeType="tmRoot">
          <p:childTnLst>
            <p:seq>
              <p:cTn id="2023" dur="indefinite" nodeType="mainSeq">
                <p:childTnLst>
                  <p:par>
                    <p:cTn id="2024" fill="hold">
                      <p:stCondLst>
                        <p:cond delay="0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imal-Dual Hill Climb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85800" y="533412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85800" y="518148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85800" y="487692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85800" y="480060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85800" y="464832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85800" y="441972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85800" y="4559400"/>
            <a:ext cx="8229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92040" y="1019160"/>
            <a:ext cx="82501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Claim: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imal and dual have the same optimal value.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                 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eight(R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) = height(L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Proved: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R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L,  height(R)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height(L)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Proved: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lg runs until it provides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alg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alg</a:t>
            </a:r>
            <a:br>
              <a:rPr sz="3000"/>
            </a:br>
            <a:r>
              <a:rPr b="0" lang="en-US" sz="3000" spc="-1" strike="noStrike" baseline="-25000">
                <a:solidFill>
                  <a:srgbClr val="00ffff"/>
                </a:solidFill>
                <a:latin typeface="Times New Roman"/>
              </a:rPr>
              <a:t>                                            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eight(R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alg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) = height(L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alg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5638680" y="4927680"/>
            <a:ext cx="380880" cy="711000"/>
            <a:chOff x="5638680" y="4927680"/>
            <a:chExt cx="380880" cy="711000"/>
          </a:xfrm>
        </p:grpSpPr>
        <p:sp>
          <p:nvSpPr>
            <p:cNvPr id="1603" name=""/>
            <p:cNvSpPr/>
            <p:nvPr/>
          </p:nvSpPr>
          <p:spPr>
            <a:xfrm>
              <a:off x="5706720" y="4927680"/>
              <a:ext cx="189360" cy="14832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638680" y="509292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766840" y="5092920"/>
              <a:ext cx="142560" cy="2455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719680" y="5283000"/>
              <a:ext cx="108720" cy="35568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838120" y="5283000"/>
              <a:ext cx="177480" cy="30024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 rot="10800000">
              <a:off x="5867280" y="5097600"/>
              <a:ext cx="152280" cy="19944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8640" y="194400"/>
            <a:ext cx="1427760" cy="1069560"/>
            <a:chOff x="8640" y="194400"/>
            <a:chExt cx="1427760" cy="1069560"/>
          </a:xfrm>
        </p:grpSpPr>
        <p:sp>
          <p:nvSpPr>
            <p:cNvPr id="1610" name=""/>
            <p:cNvSpPr/>
            <p:nvPr/>
          </p:nvSpPr>
          <p:spPr>
            <a:xfrm rot="2359800">
              <a:off x="115920" y="466560"/>
              <a:ext cx="783000" cy="61920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rot="2359800">
              <a:off x="894240" y="533880"/>
              <a:ext cx="450360" cy="449640"/>
            </a:xfrm>
            <a:custGeom>
              <a:avLst/>
              <a:gdLst/>
              <a:ahLst/>
              <a:rect l="l" t="t" r="r" b="b"/>
              <a:pathLst>
                <a:path w="1312" h="1296">
                  <a:moveTo>
                    <a:pt x="592" y="160"/>
                  </a:moveTo>
                  <a:cubicBezTo>
                    <a:pt x="408" y="256"/>
                    <a:pt x="32" y="496"/>
                    <a:pt x="16" y="640"/>
                  </a:cubicBezTo>
                  <a:cubicBezTo>
                    <a:pt x="0" y="784"/>
                    <a:pt x="296" y="928"/>
                    <a:pt x="496" y="1024"/>
                  </a:cubicBezTo>
                  <a:cubicBezTo>
                    <a:pt x="696" y="1120"/>
                    <a:pt x="1120" y="1296"/>
                    <a:pt x="1216" y="1216"/>
                  </a:cubicBezTo>
                  <a:cubicBezTo>
                    <a:pt x="1312" y="1136"/>
                    <a:pt x="1088" y="736"/>
                    <a:pt x="1072" y="544"/>
                  </a:cubicBezTo>
                  <a:cubicBezTo>
                    <a:pt x="1056" y="352"/>
                    <a:pt x="1208" y="128"/>
                    <a:pt x="1120" y="64"/>
                  </a:cubicBezTo>
                  <a:cubicBezTo>
                    <a:pt x="1032" y="0"/>
                    <a:pt x="776" y="64"/>
                    <a:pt x="592" y="16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12" name=""/>
            <p:cNvGrpSpPr/>
            <p:nvPr/>
          </p:nvGrpSpPr>
          <p:grpSpPr>
            <a:xfrm>
              <a:off x="495360" y="194400"/>
              <a:ext cx="691200" cy="740880"/>
              <a:chOff x="495360" y="194400"/>
              <a:chExt cx="691200" cy="740880"/>
            </a:xfrm>
          </p:grpSpPr>
          <p:sp>
            <p:nvSpPr>
              <p:cNvPr id="1613" name=""/>
              <p:cNvSpPr/>
              <p:nvPr/>
            </p:nvSpPr>
            <p:spPr>
              <a:xfrm rot="21255000">
                <a:off x="843480" y="273600"/>
                <a:ext cx="140760" cy="11664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rot="21255000">
                <a:off x="794880" y="419400"/>
                <a:ext cx="144720" cy="2602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rot="21255000">
                <a:off x="896760" y="632160"/>
                <a:ext cx="281520" cy="17928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rot="19838400">
                <a:off x="507960" y="688320"/>
                <a:ext cx="402120" cy="15804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rot="21255000">
                <a:off x="700560" y="205560"/>
                <a:ext cx="164160" cy="29124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rot="21255000">
                <a:off x="896400" y="204480"/>
                <a:ext cx="214920" cy="24300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9" name=""/>
          <p:cNvGrpSpPr/>
          <p:nvPr/>
        </p:nvGrpSpPr>
        <p:grpSpPr>
          <a:xfrm>
            <a:off x="152280" y="5334120"/>
            <a:ext cx="8763120" cy="609480"/>
            <a:chOff x="152280" y="5334120"/>
            <a:chExt cx="8763120" cy="609480"/>
          </a:xfrm>
        </p:grpSpPr>
        <p:grpSp>
          <p:nvGrpSpPr>
            <p:cNvPr id="1620" name=""/>
            <p:cNvGrpSpPr/>
            <p:nvPr/>
          </p:nvGrpSpPr>
          <p:grpSpPr>
            <a:xfrm>
              <a:off x="152280" y="5334120"/>
              <a:ext cx="533520" cy="609480"/>
              <a:chOff x="152280" y="5334120"/>
              <a:chExt cx="533520" cy="609480"/>
            </a:xfrm>
          </p:grpSpPr>
          <p:pic>
            <p:nvPicPr>
              <p:cNvPr id="162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2280" y="5334120"/>
                <a:ext cx="40320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2" name=""/>
              <p:cNvSpPr/>
              <p:nvPr/>
            </p:nvSpPr>
            <p:spPr>
              <a:xfrm flipV="1">
                <a:off x="533520" y="5486400"/>
                <a:ext cx="152280" cy="75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23" name=""/>
            <p:cNvSpPr/>
            <p:nvPr/>
          </p:nvSpPr>
          <p:spPr>
            <a:xfrm>
              <a:off x="685800" y="5486400"/>
              <a:ext cx="822960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4" name=""/>
          <p:cNvGrpSpPr/>
          <p:nvPr/>
        </p:nvGrpSpPr>
        <p:grpSpPr>
          <a:xfrm>
            <a:off x="7302600" y="5318280"/>
            <a:ext cx="1523160" cy="550800"/>
            <a:chOff x="7302600" y="5318280"/>
            <a:chExt cx="1523160" cy="550800"/>
          </a:xfrm>
        </p:grpSpPr>
        <p:sp>
          <p:nvSpPr>
            <p:cNvPr id="1625" name=""/>
            <p:cNvSpPr/>
            <p:nvPr/>
          </p:nvSpPr>
          <p:spPr>
            <a:xfrm>
              <a:off x="7302600" y="550404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47320" y="5318280"/>
              <a:ext cx="1378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No Gap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7" name=""/>
          <p:cNvSpPr/>
          <p:nvPr/>
        </p:nvSpPr>
        <p:spPr>
          <a:xfrm>
            <a:off x="301680" y="3406680"/>
            <a:ext cx="23493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eight(R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562840" y="3416400"/>
            <a:ext cx="2300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eight(R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alg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677120" y="3429000"/>
            <a:ext cx="2278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eight(L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alg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7001640" y="3438360"/>
            <a:ext cx="19648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eight(L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01680" y="3794040"/>
            <a:ext cx="23493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eight(R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7001640" y="3794040"/>
            <a:ext cx="19648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eight(L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517040" y="5943600"/>
            <a:ext cx="6692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alg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witnes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that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eight(L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 no smaller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506240" y="6342120"/>
            <a:ext cx="65678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alg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witnes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that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eight(L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 no bigger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5" name=""/>
          <p:cNvGrpSpPr/>
          <p:nvPr/>
        </p:nvGrpSpPr>
        <p:grpSpPr>
          <a:xfrm>
            <a:off x="2209680" y="1828440"/>
            <a:ext cx="1981440" cy="2591280"/>
            <a:chOff x="2209680" y="1828440"/>
            <a:chExt cx="1981440" cy="2591280"/>
          </a:xfrm>
        </p:grpSpPr>
        <p:sp>
          <p:nvSpPr>
            <p:cNvPr id="1636" name=""/>
            <p:cNvSpPr/>
            <p:nvPr/>
          </p:nvSpPr>
          <p:spPr>
            <a:xfrm>
              <a:off x="2209680" y="3429000"/>
              <a:ext cx="457200" cy="990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2514600" y="1828440"/>
              <a:ext cx="167652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8" name=""/>
          <p:cNvSpPr/>
          <p:nvPr/>
        </p:nvSpPr>
        <p:spPr>
          <a:xfrm>
            <a:off x="1523880" y="5468760"/>
            <a:ext cx="6667560" cy="1312920"/>
          </a:xfrm>
          <a:custGeom>
            <a:avLst/>
            <a:gdLst/>
            <a:ahLst/>
            <a:rect l="l" t="t" r="r" b="b"/>
            <a:pathLst>
              <a:path w="4200" h="827">
                <a:moveTo>
                  <a:pt x="0" y="827"/>
                </a:moveTo>
                <a:cubicBezTo>
                  <a:pt x="99" y="776"/>
                  <a:pt x="403" y="583"/>
                  <a:pt x="592" y="523"/>
                </a:cubicBezTo>
                <a:cubicBezTo>
                  <a:pt x="781" y="463"/>
                  <a:pt x="964" y="496"/>
                  <a:pt x="1136" y="467"/>
                </a:cubicBezTo>
                <a:cubicBezTo>
                  <a:pt x="1308" y="438"/>
                  <a:pt x="1386" y="414"/>
                  <a:pt x="1624" y="347"/>
                </a:cubicBezTo>
                <a:cubicBezTo>
                  <a:pt x="1862" y="280"/>
                  <a:pt x="2295" y="103"/>
                  <a:pt x="2563" y="65"/>
                </a:cubicBezTo>
                <a:cubicBezTo>
                  <a:pt x="2831" y="27"/>
                  <a:pt x="2959" y="0"/>
                  <a:pt x="3232" y="118"/>
                </a:cubicBezTo>
                <a:cubicBezTo>
                  <a:pt x="3505" y="236"/>
                  <a:pt x="3998" y="636"/>
                  <a:pt x="4200" y="772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7692480" y="100440"/>
            <a:ext cx="1451160" cy="1415160"/>
            <a:chOff x="7692480" y="100440"/>
            <a:chExt cx="1451160" cy="1415160"/>
          </a:xfrm>
        </p:grpSpPr>
        <p:sp>
          <p:nvSpPr>
            <p:cNvPr id="1640" name=""/>
            <p:cNvSpPr/>
            <p:nvPr/>
          </p:nvSpPr>
          <p:spPr>
            <a:xfrm rot="2359800">
              <a:off x="7793280" y="576720"/>
              <a:ext cx="730800" cy="57924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41" name=""/>
            <p:cNvGrpSpPr/>
            <p:nvPr/>
          </p:nvGrpSpPr>
          <p:grpSpPr>
            <a:xfrm>
              <a:off x="7881840" y="644040"/>
              <a:ext cx="389880" cy="318240"/>
              <a:chOff x="7881840" y="644040"/>
              <a:chExt cx="389880" cy="318240"/>
            </a:xfrm>
          </p:grpSpPr>
          <p:sp>
            <p:nvSpPr>
              <p:cNvPr id="1642" name=""/>
              <p:cNvSpPr/>
              <p:nvPr/>
            </p:nvSpPr>
            <p:spPr>
              <a:xfrm>
                <a:off x="7881840" y="644040"/>
                <a:ext cx="389880" cy="27288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8000">
                    <a:solidFill>
                      <a:srgbClr val="000000"/>
                    </a:solidFill>
                    <a:latin typeface="Times New Roman"/>
                  </a:rPr>
                  <a:t>Exi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8076600" y="894240"/>
                <a:ext cx="0" cy="68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4" name=""/>
            <p:cNvSpPr/>
            <p:nvPr/>
          </p:nvSpPr>
          <p:spPr>
            <a:xfrm>
              <a:off x="7765920" y="136080"/>
              <a:ext cx="1377720" cy="1379520"/>
            </a:xfrm>
            <a:prstGeom prst="ellipse">
              <a:avLst/>
            </a:prstGeom>
            <a:noFill/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5" name="" descr=""/>
            <p:cNvPicPr/>
            <p:nvPr/>
          </p:nvPicPr>
          <p:blipFill>
            <a:blip r:embed="rId5"/>
            <a:stretch/>
          </p:blipFill>
          <p:spPr>
            <a:xfrm>
              <a:off x="8348760" y="428760"/>
              <a:ext cx="729000" cy="658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46" name=""/>
            <p:cNvGrpSpPr/>
            <p:nvPr/>
          </p:nvGrpSpPr>
          <p:grpSpPr>
            <a:xfrm>
              <a:off x="8049960" y="100440"/>
              <a:ext cx="663120" cy="710640"/>
              <a:chOff x="8049960" y="100440"/>
              <a:chExt cx="663120" cy="710640"/>
            </a:xfrm>
          </p:grpSpPr>
          <p:sp>
            <p:nvSpPr>
              <p:cNvPr id="1647" name=""/>
              <p:cNvSpPr/>
              <p:nvPr/>
            </p:nvSpPr>
            <p:spPr>
              <a:xfrm rot="21255000">
                <a:off x="8382960" y="176400"/>
                <a:ext cx="135000" cy="11196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rot="21255000">
                <a:off x="8336520" y="315720"/>
                <a:ext cx="138960" cy="24984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rot="21255000">
                <a:off x="8435520" y="520200"/>
                <a:ext cx="269640" cy="17244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rot="19838400">
                <a:off x="8062200" y="574200"/>
                <a:ext cx="385200" cy="15192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rot="21255000">
                <a:off x="8246520" y="110520"/>
                <a:ext cx="157320" cy="27972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rot="21255000">
                <a:off x="8434440" y="109800"/>
                <a:ext cx="205920" cy="23328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0" dur="indefinite" restart="never" nodeType="tmRoot">
          <p:childTnLst>
            <p:seq>
              <p:cTn id="2031" dur="indefinite" nodeType="mainSeq">
                <p:childTnLst>
                  <p:par>
                    <p:cTn id="2032" fill="hold">
                      <p:stCondLst>
                        <p:cond delay="0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1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1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3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0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10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3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819600" cy="1676520"/>
          </a:xfrm>
          <a:prstGeom prst="rect">
            <a:avLst/>
          </a:prstGeom>
          <a:ln w="0">
            <a:noFill/>
          </a:ln>
        </p:spPr>
      </p:pic>
      <p:sp>
        <p:nvSpPr>
          <p:cNvPr id="1654" name=""/>
          <p:cNvSpPr/>
          <p:nvPr/>
        </p:nvSpPr>
        <p:spPr>
          <a:xfrm>
            <a:off x="4648320" y="114300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etwork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its edge capacitie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4724280" y="309240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maximum that can flow from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2" dur="indefinite" restart="never" nodeType="tmRoot">
          <p:childTnLst>
            <p:seq>
              <p:cTn id="2113" dur="indefinite" nodeType="mainSeq">
                <p:childTnLst>
                  <p:par>
                    <p:cTn id="2114" fill="hold">
                      <p:stCondLst>
                        <p:cond delay="indefinite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7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819600" cy="1676520"/>
          </a:xfrm>
          <a:prstGeom prst="rect">
            <a:avLst/>
          </a:prstGeom>
          <a:ln w="0">
            <a:noFill/>
          </a:ln>
        </p:spPr>
      </p:pic>
      <p:sp>
        <p:nvSpPr>
          <p:cNvPr id="1658" name=""/>
          <p:cNvSpPr/>
          <p:nvPr/>
        </p:nvSpPr>
        <p:spPr>
          <a:xfrm>
            <a:off x="4648320" y="114300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etwork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its edge capacitie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228600" y="2895480"/>
            <a:ext cx="8610480" cy="2075040"/>
            <a:chOff x="228600" y="2895480"/>
            <a:chExt cx="8610480" cy="2075040"/>
          </a:xfrm>
        </p:grpSpPr>
        <p:pic>
          <p:nvPicPr>
            <p:cNvPr id="1661" name="" descr=""/>
            <p:cNvPicPr/>
            <p:nvPr/>
          </p:nvPicPr>
          <p:blipFill>
            <a:blip r:embed="rId2"/>
            <a:stretch/>
          </p:blipFill>
          <p:spPr>
            <a:xfrm>
              <a:off x="228600" y="2895480"/>
              <a:ext cx="3886200" cy="15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2" name=""/>
            <p:cNvSpPr/>
            <p:nvPr/>
          </p:nvSpPr>
          <p:spPr>
            <a:xfrm>
              <a:off x="4267080" y="3048120"/>
              <a:ext cx="457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The max total rate of the flow is 1+2-0 = 3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17480" y="4419720"/>
              <a:ext cx="3144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flow/capacity = 2/5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65440" y="3429000"/>
              <a:ext cx="533160" cy="380880"/>
            </a:xfrm>
            <a:prstGeom prst="ellipse">
              <a:avLst/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5" name=""/>
          <p:cNvSpPr/>
          <p:nvPr/>
        </p:nvSpPr>
        <p:spPr>
          <a:xfrm>
            <a:off x="3429000" y="55008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e that total can not be highe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0" dur="indefinite" restart="never" nodeType="tmRoot">
          <p:childTnLst>
            <p:seq>
              <p:cTn id="2121" dur="indefinite" nodeType="mainSeq">
                <p:childTnLst>
                  <p:par>
                    <p:cTn id="2122" fill="hold">
                      <p:stCondLst>
                        <p:cond delay="0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6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819600" cy="1676520"/>
          </a:xfrm>
          <a:prstGeom prst="rect">
            <a:avLst/>
          </a:prstGeom>
          <a:ln w="0">
            <a:noFill/>
          </a:ln>
        </p:spPr>
      </p:pic>
      <p:sp>
        <p:nvSpPr>
          <p:cNvPr id="1667" name=""/>
          <p:cNvSpPr/>
          <p:nvPr/>
        </p:nvSpPr>
        <p:spPr>
          <a:xfrm>
            <a:off x="4419720" y="2209680"/>
            <a:ext cx="48006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more flow can be push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ong the top path because th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ge &lt;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 is at capacit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ly, the edge &lt;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flow is pushed along the bottom path because this would decrease the total from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9" name="" descr=""/>
          <p:cNvPicPr/>
          <p:nvPr/>
        </p:nvPicPr>
        <p:blipFill>
          <a:blip r:embed="rId2"/>
          <a:stretch/>
        </p:blipFill>
        <p:spPr>
          <a:xfrm>
            <a:off x="228600" y="2895480"/>
            <a:ext cx="3886200" cy="1552680"/>
          </a:xfrm>
          <a:prstGeom prst="rect">
            <a:avLst/>
          </a:prstGeom>
          <a:ln w="0">
            <a:noFill/>
          </a:ln>
        </p:spPr>
      </p:pic>
      <p:pic>
        <p:nvPicPr>
          <p:cNvPr id="1670" name="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3886200" cy="1552680"/>
          </a:xfrm>
          <a:prstGeom prst="rect">
            <a:avLst/>
          </a:prstGeom>
          <a:ln w="0">
            <a:noFill/>
          </a:ln>
        </p:spPr>
      </p:pic>
      <p:sp>
        <p:nvSpPr>
          <p:cNvPr id="1671" name=""/>
          <p:cNvSpPr/>
          <p:nvPr/>
        </p:nvSpPr>
        <p:spPr>
          <a:xfrm>
            <a:off x="990720" y="3429000"/>
            <a:ext cx="533160" cy="3808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816200" y="2908440"/>
            <a:ext cx="533160" cy="3808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1765440" y="4241880"/>
            <a:ext cx="76176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0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1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1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1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1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1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1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4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819600" cy="1676520"/>
          </a:xfrm>
          <a:prstGeom prst="rect">
            <a:avLst/>
          </a:prstGeom>
          <a:ln w="0">
            <a:noFill/>
          </a:ln>
        </p:spPr>
      </p:pic>
      <p:sp>
        <p:nvSpPr>
          <p:cNvPr id="1675" name=""/>
          <p:cNvSpPr/>
          <p:nvPr/>
        </p:nvSpPr>
        <p:spPr>
          <a:xfrm>
            <a:off x="4495680" y="3429000"/>
            <a:ext cx="4800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 is a minimum cu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 capacity is the sum of the capacities crossing the cu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1+2 = 3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 is not included in because it is going in the wrong dir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6" name="" descr=""/>
          <p:cNvPicPr/>
          <p:nvPr/>
        </p:nvPicPr>
        <p:blipFill>
          <a:blip r:embed="rId2"/>
          <a:stretch/>
        </p:blipFill>
        <p:spPr>
          <a:xfrm>
            <a:off x="66600" y="4809960"/>
            <a:ext cx="4353120" cy="2048040"/>
          </a:xfrm>
          <a:prstGeom prst="rect">
            <a:avLst/>
          </a:prstGeom>
          <a:ln w="0">
            <a:noFill/>
          </a:ln>
        </p:spPr>
      </p:pic>
      <p:sp>
        <p:nvSpPr>
          <p:cNvPr id="1677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8" name="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3886200" cy="1552680"/>
          </a:xfrm>
          <a:prstGeom prst="rect">
            <a:avLst/>
          </a:prstGeom>
          <a:ln w="0">
            <a:noFill/>
          </a:ln>
        </p:spPr>
      </p:pic>
      <p:sp>
        <p:nvSpPr>
          <p:cNvPr id="1679" name=""/>
          <p:cNvSpPr/>
          <p:nvPr/>
        </p:nvSpPr>
        <p:spPr>
          <a:xfrm>
            <a:off x="1066680" y="5587920"/>
            <a:ext cx="762120" cy="3556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1892160" y="5067360"/>
            <a:ext cx="698760" cy="41904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>
            <a:off x="990720" y="6324480"/>
            <a:ext cx="76176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6" dur="indefinite" restart="never" nodeType="tmRoot">
          <p:childTnLst>
            <p:seq>
              <p:cTn id="2167" dur="indefinite" nodeType="mainSeq">
                <p:childTnLst>
                  <p:par>
                    <p:cTn id="2168" fill="hold">
                      <p:stCondLst>
                        <p:cond delay="0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1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1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1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1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1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1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2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819600" cy="1676520"/>
          </a:xfrm>
          <a:prstGeom prst="rect">
            <a:avLst/>
          </a:prstGeom>
          <a:ln w="0">
            <a:noFill/>
          </a:ln>
        </p:spPr>
      </p:pic>
      <p:sp>
        <p:nvSpPr>
          <p:cNvPr id="1683" name=""/>
          <p:cNvSpPr/>
          <p:nvPr/>
        </p:nvSpPr>
        <p:spPr>
          <a:xfrm>
            <a:off x="4495680" y="3165480"/>
            <a:ext cx="48006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dges crossing forward across the cut are at capac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crossing backwards have zero fl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always tru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2"/>
          <a:stretch/>
        </p:blipFill>
        <p:spPr>
          <a:xfrm>
            <a:off x="66600" y="4809960"/>
            <a:ext cx="4353120" cy="2048040"/>
          </a:xfrm>
          <a:prstGeom prst="rect">
            <a:avLst/>
          </a:prstGeom>
          <a:ln w="0">
            <a:noFill/>
          </a:ln>
        </p:spPr>
      </p:pic>
      <p:sp>
        <p:nvSpPr>
          <p:cNvPr id="168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6" name="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3886200" cy="1552680"/>
          </a:xfrm>
          <a:prstGeom prst="rect">
            <a:avLst/>
          </a:prstGeom>
          <a:ln w="0">
            <a:noFill/>
          </a:ln>
        </p:spPr>
      </p:pic>
      <p:sp>
        <p:nvSpPr>
          <p:cNvPr id="1687" name=""/>
          <p:cNvSpPr/>
          <p:nvPr/>
        </p:nvSpPr>
        <p:spPr>
          <a:xfrm>
            <a:off x="1066680" y="5587920"/>
            <a:ext cx="762120" cy="3556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892160" y="5067360"/>
            <a:ext cx="698760" cy="41904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H="1">
            <a:off x="990720" y="6324480"/>
            <a:ext cx="76176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990720" y="3492360"/>
            <a:ext cx="761760" cy="3556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1816200" y="2971800"/>
            <a:ext cx="698400" cy="41904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H="1">
            <a:off x="914040" y="4229280"/>
            <a:ext cx="76212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8" dur="indefinite" restart="never" nodeType="tmRoot">
          <p:childTnLst>
            <p:seq>
              <p:cTn id="2199" dur="indefinite" nodeType="mainSeq">
                <p:childTnLst>
                  <p:par>
                    <p:cTn id="2200" fill="hold">
                      <p:stCondLst>
                        <p:cond delay="0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1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1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1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1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1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1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2971800" cy="2892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380880"/>
            <a:ext cx="822960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olu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flow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through each edg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low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an’t exceed capacity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nidirectional flo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o leaks, no extra flow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r each node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: flow in = flow ou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40360" y="4267080"/>
            <a:ext cx="0" cy="457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3718080"/>
            <a:ext cx="8303040" cy="2835000"/>
            <a:chOff x="533520" y="3718080"/>
            <a:chExt cx="8303040" cy="28350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5334120" y="4583160"/>
              <a:ext cx="2361960" cy="196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"/>
            <p:cNvGrpSpPr/>
            <p:nvPr/>
          </p:nvGrpSpPr>
          <p:grpSpPr>
            <a:xfrm>
              <a:off x="533520" y="4295880"/>
              <a:ext cx="2589840" cy="1935000"/>
              <a:chOff x="533520" y="4295880"/>
              <a:chExt cx="2589840" cy="19350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778680" y="4295880"/>
                <a:ext cx="2344680" cy="1935000"/>
                <a:chOff x="778680" y="4295880"/>
                <a:chExt cx="2344680" cy="1935000"/>
              </a:xfrm>
            </p:grpSpPr>
            <p:sp>
              <p:nvSpPr>
                <p:cNvPr id="104" name=""/>
                <p:cNvSpPr/>
                <p:nvPr/>
              </p:nvSpPr>
              <p:spPr>
                <a:xfrm flipH="1">
                  <a:off x="778320" y="4295880"/>
                  <a:ext cx="2320920" cy="1836720"/>
                </a:xfrm>
                <a:custGeom>
                  <a:avLst/>
                  <a:gdLst/>
                  <a:ahLst/>
                  <a:rect l="l" t="t" r="r" b="b"/>
                  <a:pathLst>
                    <a:path w="2924" h="2314">
                      <a:moveTo>
                        <a:pt x="1167" y="80"/>
                      </a:moveTo>
                      <a:lnTo>
                        <a:pt x="1111" y="69"/>
                      </a:lnTo>
                      <a:lnTo>
                        <a:pt x="1064" y="58"/>
                      </a:lnTo>
                      <a:lnTo>
                        <a:pt x="1024" y="47"/>
                      </a:lnTo>
                      <a:lnTo>
                        <a:pt x="993" y="38"/>
                      </a:lnTo>
                      <a:lnTo>
                        <a:pt x="964" y="29"/>
                      </a:lnTo>
                      <a:lnTo>
                        <a:pt x="943" y="22"/>
                      </a:lnTo>
                      <a:lnTo>
                        <a:pt x="925" y="14"/>
                      </a:lnTo>
                      <a:lnTo>
                        <a:pt x="911" y="11"/>
                      </a:lnTo>
                      <a:lnTo>
                        <a:pt x="898" y="6"/>
                      </a:lnTo>
                      <a:lnTo>
                        <a:pt x="885" y="2"/>
                      </a:lnTo>
                      <a:lnTo>
                        <a:pt x="873" y="0"/>
                      </a:lnTo>
                      <a:lnTo>
                        <a:pt x="862" y="0"/>
                      </a:lnTo>
                      <a:lnTo>
                        <a:pt x="848" y="0"/>
                      </a:lnTo>
                      <a:lnTo>
                        <a:pt x="831" y="1"/>
                      </a:lnTo>
                      <a:lnTo>
                        <a:pt x="811" y="5"/>
                      </a:lnTo>
                      <a:lnTo>
                        <a:pt x="788" y="11"/>
                      </a:lnTo>
                      <a:lnTo>
                        <a:pt x="759" y="14"/>
                      </a:lnTo>
                      <a:lnTo>
                        <a:pt x="733" y="19"/>
                      </a:lnTo>
                      <a:lnTo>
                        <a:pt x="706" y="21"/>
                      </a:lnTo>
                      <a:lnTo>
                        <a:pt x="680" y="23"/>
                      </a:lnTo>
                      <a:lnTo>
                        <a:pt x="653" y="24"/>
                      </a:lnTo>
                      <a:lnTo>
                        <a:pt x="628" y="26"/>
                      </a:lnTo>
                      <a:lnTo>
                        <a:pt x="601" y="28"/>
                      </a:lnTo>
                      <a:lnTo>
                        <a:pt x="576" y="31"/>
                      </a:lnTo>
                      <a:lnTo>
                        <a:pt x="550" y="33"/>
                      </a:lnTo>
                      <a:lnTo>
                        <a:pt x="525" y="38"/>
                      </a:lnTo>
                      <a:lnTo>
                        <a:pt x="500" y="43"/>
                      </a:lnTo>
                      <a:lnTo>
                        <a:pt x="474" y="51"/>
                      </a:lnTo>
                      <a:lnTo>
                        <a:pt x="449" y="60"/>
                      </a:lnTo>
                      <a:lnTo>
                        <a:pt x="423" y="72"/>
                      </a:lnTo>
                      <a:lnTo>
                        <a:pt x="398" y="87"/>
                      </a:lnTo>
                      <a:lnTo>
                        <a:pt x="372" y="105"/>
                      </a:lnTo>
                      <a:lnTo>
                        <a:pt x="346" y="124"/>
                      </a:lnTo>
                      <a:lnTo>
                        <a:pt x="324" y="142"/>
                      </a:lnTo>
                      <a:lnTo>
                        <a:pt x="301" y="159"/>
                      </a:lnTo>
                      <a:lnTo>
                        <a:pt x="281" y="177"/>
                      </a:lnTo>
                      <a:lnTo>
                        <a:pt x="262" y="194"/>
                      </a:lnTo>
                      <a:lnTo>
                        <a:pt x="244" y="210"/>
                      </a:lnTo>
                      <a:lnTo>
                        <a:pt x="230" y="228"/>
                      </a:lnTo>
                      <a:lnTo>
                        <a:pt x="217" y="244"/>
                      </a:lnTo>
                      <a:lnTo>
                        <a:pt x="203" y="261"/>
                      </a:lnTo>
                      <a:lnTo>
                        <a:pt x="194" y="278"/>
                      </a:lnTo>
                      <a:lnTo>
                        <a:pt x="186" y="294"/>
                      </a:lnTo>
                      <a:lnTo>
                        <a:pt x="180" y="312"/>
                      </a:lnTo>
                      <a:lnTo>
                        <a:pt x="175" y="331"/>
                      </a:lnTo>
                      <a:lnTo>
                        <a:pt x="173" y="348"/>
                      </a:lnTo>
                      <a:lnTo>
                        <a:pt x="173" y="368"/>
                      </a:lnTo>
                      <a:lnTo>
                        <a:pt x="176" y="389"/>
                      </a:lnTo>
                      <a:lnTo>
                        <a:pt x="176" y="407"/>
                      </a:lnTo>
                      <a:lnTo>
                        <a:pt x="173" y="426"/>
                      </a:lnTo>
                      <a:lnTo>
                        <a:pt x="167" y="441"/>
                      </a:lnTo>
                      <a:lnTo>
                        <a:pt x="158" y="458"/>
                      </a:lnTo>
                      <a:lnTo>
                        <a:pt x="146" y="473"/>
                      </a:lnTo>
                      <a:lnTo>
                        <a:pt x="133" y="488"/>
                      </a:lnTo>
                      <a:lnTo>
                        <a:pt x="118" y="502"/>
                      </a:lnTo>
                      <a:lnTo>
                        <a:pt x="104" y="519"/>
                      </a:lnTo>
                      <a:lnTo>
                        <a:pt x="86" y="533"/>
                      </a:lnTo>
                      <a:lnTo>
                        <a:pt x="72" y="552"/>
                      </a:lnTo>
                      <a:lnTo>
                        <a:pt x="56" y="569"/>
                      </a:lnTo>
                      <a:lnTo>
                        <a:pt x="42" y="592"/>
                      </a:lnTo>
                      <a:lnTo>
                        <a:pt x="29" y="614"/>
                      </a:lnTo>
                      <a:lnTo>
                        <a:pt x="18" y="640"/>
                      </a:lnTo>
                      <a:lnTo>
                        <a:pt x="10" y="670"/>
                      </a:lnTo>
                      <a:lnTo>
                        <a:pt x="4" y="703"/>
                      </a:lnTo>
                      <a:lnTo>
                        <a:pt x="1" y="735"/>
                      </a:lnTo>
                      <a:lnTo>
                        <a:pt x="0" y="768"/>
                      </a:lnTo>
                      <a:lnTo>
                        <a:pt x="1" y="799"/>
                      </a:lnTo>
                      <a:lnTo>
                        <a:pt x="4" y="833"/>
                      </a:lnTo>
                      <a:lnTo>
                        <a:pt x="8" y="861"/>
                      </a:lnTo>
                      <a:lnTo>
                        <a:pt x="14" y="891"/>
                      </a:lnTo>
                      <a:lnTo>
                        <a:pt x="20" y="918"/>
                      </a:lnTo>
                      <a:lnTo>
                        <a:pt x="27" y="946"/>
                      </a:lnTo>
                      <a:lnTo>
                        <a:pt x="34" y="971"/>
                      </a:lnTo>
                      <a:lnTo>
                        <a:pt x="42" y="996"/>
                      </a:lnTo>
                      <a:lnTo>
                        <a:pt x="48" y="1018"/>
                      </a:lnTo>
                      <a:lnTo>
                        <a:pt x="56" y="1042"/>
                      </a:lnTo>
                      <a:lnTo>
                        <a:pt x="61" y="1061"/>
                      </a:lnTo>
                      <a:lnTo>
                        <a:pt x="66" y="1081"/>
                      </a:lnTo>
                      <a:lnTo>
                        <a:pt x="71" y="1100"/>
                      </a:lnTo>
                      <a:lnTo>
                        <a:pt x="73" y="1118"/>
                      </a:lnTo>
                      <a:lnTo>
                        <a:pt x="73" y="1134"/>
                      </a:lnTo>
                      <a:lnTo>
                        <a:pt x="72" y="1155"/>
                      </a:lnTo>
                      <a:lnTo>
                        <a:pt x="71" y="1178"/>
                      </a:lnTo>
                      <a:lnTo>
                        <a:pt x="68" y="1203"/>
                      </a:lnTo>
                      <a:lnTo>
                        <a:pt x="63" y="1227"/>
                      </a:lnTo>
                      <a:lnTo>
                        <a:pt x="60" y="1256"/>
                      </a:lnTo>
                      <a:lnTo>
                        <a:pt x="54" y="1286"/>
                      </a:lnTo>
                      <a:lnTo>
                        <a:pt x="50" y="1319"/>
                      </a:lnTo>
                      <a:lnTo>
                        <a:pt x="44" y="1351"/>
                      </a:lnTo>
                      <a:lnTo>
                        <a:pt x="39" y="1384"/>
                      </a:lnTo>
                      <a:lnTo>
                        <a:pt x="33" y="1420"/>
                      </a:lnTo>
                      <a:lnTo>
                        <a:pt x="29" y="1456"/>
                      </a:lnTo>
                      <a:lnTo>
                        <a:pt x="24" y="1493"/>
                      </a:lnTo>
                      <a:lnTo>
                        <a:pt x="21" y="1529"/>
                      </a:lnTo>
                      <a:lnTo>
                        <a:pt x="18" y="1567"/>
                      </a:lnTo>
                      <a:lnTo>
                        <a:pt x="16" y="1607"/>
                      </a:lnTo>
                      <a:lnTo>
                        <a:pt x="15" y="1644"/>
                      </a:lnTo>
                      <a:lnTo>
                        <a:pt x="19" y="1681"/>
                      </a:lnTo>
                      <a:lnTo>
                        <a:pt x="24" y="1717"/>
                      </a:lnTo>
                      <a:lnTo>
                        <a:pt x="32" y="1755"/>
                      </a:lnTo>
                      <a:lnTo>
                        <a:pt x="40" y="1789"/>
                      </a:lnTo>
                      <a:lnTo>
                        <a:pt x="52" y="1823"/>
                      </a:lnTo>
                      <a:lnTo>
                        <a:pt x="64" y="1855"/>
                      </a:lnTo>
                      <a:lnTo>
                        <a:pt x="77" y="1887"/>
                      </a:lnTo>
                      <a:lnTo>
                        <a:pt x="89" y="1915"/>
                      </a:lnTo>
                      <a:lnTo>
                        <a:pt x="103" y="1943"/>
                      </a:lnTo>
                      <a:lnTo>
                        <a:pt x="115" y="1967"/>
                      </a:lnTo>
                      <a:lnTo>
                        <a:pt x="128" y="1991"/>
                      </a:lnTo>
                      <a:lnTo>
                        <a:pt x="138" y="2011"/>
                      </a:lnTo>
                      <a:lnTo>
                        <a:pt x="147" y="2029"/>
                      </a:lnTo>
                      <a:lnTo>
                        <a:pt x="155" y="2045"/>
                      </a:lnTo>
                      <a:lnTo>
                        <a:pt x="161" y="2059"/>
                      </a:lnTo>
                      <a:lnTo>
                        <a:pt x="166" y="2068"/>
                      </a:lnTo>
                      <a:lnTo>
                        <a:pt x="178" y="2076"/>
                      </a:lnTo>
                      <a:lnTo>
                        <a:pt x="193" y="2084"/>
                      </a:lnTo>
                      <a:lnTo>
                        <a:pt x="212" y="2093"/>
                      </a:lnTo>
                      <a:lnTo>
                        <a:pt x="233" y="2097"/>
                      </a:lnTo>
                      <a:lnTo>
                        <a:pt x="257" y="2104"/>
                      </a:lnTo>
                      <a:lnTo>
                        <a:pt x="284" y="2107"/>
                      </a:lnTo>
                      <a:lnTo>
                        <a:pt x="312" y="2112"/>
                      </a:lnTo>
                      <a:lnTo>
                        <a:pt x="339" y="2114"/>
                      </a:lnTo>
                      <a:lnTo>
                        <a:pt x="369" y="2117"/>
                      </a:lnTo>
                      <a:lnTo>
                        <a:pt x="397" y="2118"/>
                      </a:lnTo>
                      <a:lnTo>
                        <a:pt x="425" y="2119"/>
                      </a:lnTo>
                      <a:lnTo>
                        <a:pt x="451" y="2121"/>
                      </a:lnTo>
                      <a:lnTo>
                        <a:pt x="475" y="2122"/>
                      </a:lnTo>
                      <a:lnTo>
                        <a:pt x="497" y="2122"/>
                      </a:lnTo>
                      <a:lnTo>
                        <a:pt x="517" y="2123"/>
                      </a:lnTo>
                      <a:lnTo>
                        <a:pt x="535" y="2124"/>
                      </a:lnTo>
                      <a:lnTo>
                        <a:pt x="556" y="2131"/>
                      </a:lnTo>
                      <a:lnTo>
                        <a:pt x="579" y="2139"/>
                      </a:lnTo>
                      <a:lnTo>
                        <a:pt x="605" y="2152"/>
                      </a:lnTo>
                      <a:lnTo>
                        <a:pt x="631" y="2164"/>
                      </a:lnTo>
                      <a:lnTo>
                        <a:pt x="661" y="2179"/>
                      </a:lnTo>
                      <a:lnTo>
                        <a:pt x="692" y="2196"/>
                      </a:lnTo>
                      <a:lnTo>
                        <a:pt x="726" y="2212"/>
                      </a:lnTo>
                      <a:lnTo>
                        <a:pt x="762" y="2228"/>
                      </a:lnTo>
                      <a:lnTo>
                        <a:pt x="800" y="2243"/>
                      </a:lnTo>
                      <a:lnTo>
                        <a:pt x="839" y="2258"/>
                      </a:lnTo>
                      <a:lnTo>
                        <a:pt x="883" y="2270"/>
                      </a:lnTo>
                      <a:lnTo>
                        <a:pt x="927" y="2280"/>
                      </a:lnTo>
                      <a:lnTo>
                        <a:pt x="975" y="2288"/>
                      </a:lnTo>
                      <a:lnTo>
                        <a:pt x="1024" y="2291"/>
                      </a:lnTo>
                      <a:lnTo>
                        <a:pt x="1078" y="2292"/>
                      </a:lnTo>
                      <a:lnTo>
                        <a:pt x="1127" y="2285"/>
                      </a:lnTo>
                      <a:lnTo>
                        <a:pt x="1174" y="2278"/>
                      </a:lnTo>
                      <a:lnTo>
                        <a:pt x="1217" y="2267"/>
                      </a:lnTo>
                      <a:lnTo>
                        <a:pt x="1258" y="2255"/>
                      </a:lnTo>
                      <a:lnTo>
                        <a:pt x="1293" y="2241"/>
                      </a:lnTo>
                      <a:lnTo>
                        <a:pt x="1330" y="2227"/>
                      </a:lnTo>
                      <a:lnTo>
                        <a:pt x="1365" y="2212"/>
                      </a:lnTo>
                      <a:lnTo>
                        <a:pt x="1401" y="2201"/>
                      </a:lnTo>
                      <a:lnTo>
                        <a:pt x="1434" y="2190"/>
                      </a:lnTo>
                      <a:lnTo>
                        <a:pt x="1470" y="2183"/>
                      </a:lnTo>
                      <a:lnTo>
                        <a:pt x="1507" y="2178"/>
                      </a:lnTo>
                      <a:lnTo>
                        <a:pt x="1546" y="2178"/>
                      </a:lnTo>
                      <a:lnTo>
                        <a:pt x="1590" y="2183"/>
                      </a:lnTo>
                      <a:lnTo>
                        <a:pt x="1635" y="2192"/>
                      </a:lnTo>
                      <a:lnTo>
                        <a:pt x="1685" y="2209"/>
                      </a:lnTo>
                      <a:lnTo>
                        <a:pt x="1740" y="2233"/>
                      </a:lnTo>
                      <a:lnTo>
                        <a:pt x="1794" y="2258"/>
                      </a:lnTo>
                      <a:lnTo>
                        <a:pt x="1843" y="2276"/>
                      </a:lnTo>
                      <a:lnTo>
                        <a:pt x="1887" y="2291"/>
                      </a:lnTo>
                      <a:lnTo>
                        <a:pt x="1928" y="2303"/>
                      </a:lnTo>
                      <a:lnTo>
                        <a:pt x="1965" y="2310"/>
                      </a:lnTo>
                      <a:lnTo>
                        <a:pt x="2001" y="2314"/>
                      </a:lnTo>
                      <a:lnTo>
                        <a:pt x="2033" y="2314"/>
                      </a:lnTo>
                      <a:lnTo>
                        <a:pt x="2066" y="2314"/>
                      </a:lnTo>
                      <a:lnTo>
                        <a:pt x="2096" y="2309"/>
                      </a:lnTo>
                      <a:lnTo>
                        <a:pt x="2128" y="2304"/>
                      </a:lnTo>
                      <a:lnTo>
                        <a:pt x="2161" y="2295"/>
                      </a:lnTo>
                      <a:lnTo>
                        <a:pt x="2196" y="2288"/>
                      </a:lnTo>
                      <a:lnTo>
                        <a:pt x="2232" y="2279"/>
                      </a:lnTo>
                      <a:lnTo>
                        <a:pt x="2273" y="2270"/>
                      </a:lnTo>
                      <a:lnTo>
                        <a:pt x="2315" y="2260"/>
                      </a:lnTo>
                      <a:lnTo>
                        <a:pt x="2365" y="2253"/>
                      </a:lnTo>
                      <a:lnTo>
                        <a:pt x="2412" y="2247"/>
                      </a:lnTo>
                      <a:lnTo>
                        <a:pt x="2456" y="2242"/>
                      </a:lnTo>
                      <a:lnTo>
                        <a:pt x="2496" y="2240"/>
                      </a:lnTo>
                      <a:lnTo>
                        <a:pt x="2534" y="2241"/>
                      </a:lnTo>
                      <a:lnTo>
                        <a:pt x="2565" y="2241"/>
                      </a:lnTo>
                      <a:lnTo>
                        <a:pt x="2594" y="2244"/>
                      </a:lnTo>
                      <a:lnTo>
                        <a:pt x="2620" y="2246"/>
                      </a:lnTo>
                      <a:lnTo>
                        <a:pt x="2642" y="2247"/>
                      </a:lnTo>
                      <a:lnTo>
                        <a:pt x="2661" y="2247"/>
                      </a:lnTo>
                      <a:lnTo>
                        <a:pt x="2676" y="2243"/>
                      </a:lnTo>
                      <a:lnTo>
                        <a:pt x="2690" y="2237"/>
                      </a:lnTo>
                      <a:lnTo>
                        <a:pt x="2701" y="2230"/>
                      </a:lnTo>
                      <a:lnTo>
                        <a:pt x="2708" y="2217"/>
                      </a:lnTo>
                      <a:lnTo>
                        <a:pt x="2714" y="2200"/>
                      </a:lnTo>
                      <a:lnTo>
                        <a:pt x="2717" y="2179"/>
                      </a:lnTo>
                      <a:lnTo>
                        <a:pt x="2719" y="2154"/>
                      </a:lnTo>
                      <a:lnTo>
                        <a:pt x="2719" y="2123"/>
                      </a:lnTo>
                      <a:lnTo>
                        <a:pt x="2720" y="2096"/>
                      </a:lnTo>
                      <a:lnTo>
                        <a:pt x="2722" y="2073"/>
                      </a:lnTo>
                      <a:lnTo>
                        <a:pt x="2724" y="2050"/>
                      </a:lnTo>
                      <a:lnTo>
                        <a:pt x="2727" y="2028"/>
                      </a:lnTo>
                      <a:lnTo>
                        <a:pt x="2732" y="2009"/>
                      </a:lnTo>
                      <a:lnTo>
                        <a:pt x="2735" y="1991"/>
                      </a:lnTo>
                      <a:lnTo>
                        <a:pt x="2741" y="1975"/>
                      </a:lnTo>
                      <a:lnTo>
                        <a:pt x="2745" y="1957"/>
                      </a:lnTo>
                      <a:lnTo>
                        <a:pt x="2751" y="1943"/>
                      </a:lnTo>
                      <a:lnTo>
                        <a:pt x="2757" y="1926"/>
                      </a:lnTo>
                      <a:lnTo>
                        <a:pt x="2764" y="1911"/>
                      </a:lnTo>
                      <a:lnTo>
                        <a:pt x="2769" y="1895"/>
                      </a:lnTo>
                      <a:lnTo>
                        <a:pt x="2777" y="1880"/>
                      </a:lnTo>
                      <a:lnTo>
                        <a:pt x="2783" y="1863"/>
                      </a:lnTo>
                      <a:lnTo>
                        <a:pt x="2790" y="1846"/>
                      </a:lnTo>
                      <a:lnTo>
                        <a:pt x="2798" y="1829"/>
                      </a:lnTo>
                      <a:lnTo>
                        <a:pt x="2807" y="1813"/>
                      </a:lnTo>
                      <a:lnTo>
                        <a:pt x="2816" y="1798"/>
                      </a:lnTo>
                      <a:lnTo>
                        <a:pt x="2828" y="1783"/>
                      </a:lnTo>
                      <a:lnTo>
                        <a:pt x="2839" y="1768"/>
                      </a:lnTo>
                      <a:lnTo>
                        <a:pt x="2851" y="1754"/>
                      </a:lnTo>
                      <a:lnTo>
                        <a:pt x="2863" y="1737"/>
                      </a:lnTo>
                      <a:lnTo>
                        <a:pt x="2875" y="1723"/>
                      </a:lnTo>
                      <a:lnTo>
                        <a:pt x="2884" y="1704"/>
                      </a:lnTo>
                      <a:lnTo>
                        <a:pt x="2894" y="1686"/>
                      </a:lnTo>
                      <a:lnTo>
                        <a:pt x="2903" y="1665"/>
                      </a:lnTo>
                      <a:lnTo>
                        <a:pt x="2910" y="1643"/>
                      </a:lnTo>
                      <a:lnTo>
                        <a:pt x="2914" y="1618"/>
                      </a:lnTo>
                      <a:lnTo>
                        <a:pt x="2916" y="1590"/>
                      </a:lnTo>
                      <a:lnTo>
                        <a:pt x="2916" y="1560"/>
                      </a:lnTo>
                      <a:lnTo>
                        <a:pt x="2915" y="1527"/>
                      </a:lnTo>
                      <a:lnTo>
                        <a:pt x="2911" y="1490"/>
                      </a:lnTo>
                      <a:lnTo>
                        <a:pt x="2911" y="1457"/>
                      </a:lnTo>
                      <a:lnTo>
                        <a:pt x="2911" y="1424"/>
                      </a:lnTo>
                      <a:lnTo>
                        <a:pt x="2914" y="1392"/>
                      </a:lnTo>
                      <a:lnTo>
                        <a:pt x="2916" y="1360"/>
                      </a:lnTo>
                      <a:lnTo>
                        <a:pt x="2918" y="1331"/>
                      </a:lnTo>
                      <a:lnTo>
                        <a:pt x="2921" y="1300"/>
                      </a:lnTo>
                      <a:lnTo>
                        <a:pt x="2924" y="1274"/>
                      </a:lnTo>
                      <a:lnTo>
                        <a:pt x="2923" y="1244"/>
                      </a:lnTo>
                      <a:lnTo>
                        <a:pt x="2922" y="1216"/>
                      </a:lnTo>
                      <a:lnTo>
                        <a:pt x="2917" y="1190"/>
                      </a:lnTo>
                      <a:lnTo>
                        <a:pt x="2912" y="1163"/>
                      </a:lnTo>
                      <a:lnTo>
                        <a:pt x="2901" y="1136"/>
                      </a:lnTo>
                      <a:lnTo>
                        <a:pt x="2887" y="1111"/>
                      </a:lnTo>
                      <a:lnTo>
                        <a:pt x="2871" y="1087"/>
                      </a:lnTo>
                      <a:lnTo>
                        <a:pt x="2849" y="1063"/>
                      </a:lnTo>
                      <a:lnTo>
                        <a:pt x="2824" y="1037"/>
                      </a:lnTo>
                      <a:lnTo>
                        <a:pt x="2804" y="1015"/>
                      </a:lnTo>
                      <a:lnTo>
                        <a:pt x="2786" y="993"/>
                      </a:lnTo>
                      <a:lnTo>
                        <a:pt x="2768" y="972"/>
                      </a:lnTo>
                      <a:lnTo>
                        <a:pt x="2750" y="952"/>
                      </a:lnTo>
                      <a:lnTo>
                        <a:pt x="2734" y="935"/>
                      </a:lnTo>
                      <a:lnTo>
                        <a:pt x="2714" y="918"/>
                      </a:lnTo>
                      <a:lnTo>
                        <a:pt x="2693" y="903"/>
                      </a:lnTo>
                      <a:lnTo>
                        <a:pt x="2667" y="888"/>
                      </a:lnTo>
                      <a:lnTo>
                        <a:pt x="2641" y="875"/>
                      </a:lnTo>
                      <a:lnTo>
                        <a:pt x="2608" y="861"/>
                      </a:lnTo>
                      <a:lnTo>
                        <a:pt x="2571" y="851"/>
                      </a:lnTo>
                      <a:lnTo>
                        <a:pt x="2528" y="841"/>
                      </a:lnTo>
                      <a:lnTo>
                        <a:pt x="2478" y="834"/>
                      </a:lnTo>
                      <a:lnTo>
                        <a:pt x="2421" y="826"/>
                      </a:lnTo>
                      <a:lnTo>
                        <a:pt x="2357" y="822"/>
                      </a:lnTo>
                      <a:lnTo>
                        <a:pt x="2289" y="814"/>
                      </a:lnTo>
                      <a:lnTo>
                        <a:pt x="2231" y="807"/>
                      </a:lnTo>
                      <a:lnTo>
                        <a:pt x="2175" y="797"/>
                      </a:lnTo>
                      <a:lnTo>
                        <a:pt x="2128" y="787"/>
                      </a:lnTo>
                      <a:lnTo>
                        <a:pt x="2085" y="776"/>
                      </a:lnTo>
                      <a:lnTo>
                        <a:pt x="2047" y="764"/>
                      </a:lnTo>
                      <a:lnTo>
                        <a:pt x="2015" y="750"/>
                      </a:lnTo>
                      <a:lnTo>
                        <a:pt x="1989" y="736"/>
                      </a:lnTo>
                      <a:lnTo>
                        <a:pt x="1963" y="720"/>
                      </a:lnTo>
                      <a:lnTo>
                        <a:pt x="1943" y="705"/>
                      </a:lnTo>
                      <a:lnTo>
                        <a:pt x="1926" y="688"/>
                      </a:lnTo>
                      <a:lnTo>
                        <a:pt x="1912" y="671"/>
                      </a:lnTo>
                      <a:lnTo>
                        <a:pt x="1901" y="654"/>
                      </a:lnTo>
                      <a:lnTo>
                        <a:pt x="1894" y="636"/>
                      </a:lnTo>
                      <a:lnTo>
                        <a:pt x="1887" y="619"/>
                      </a:lnTo>
                      <a:lnTo>
                        <a:pt x="1884" y="603"/>
                      </a:lnTo>
                      <a:lnTo>
                        <a:pt x="1875" y="584"/>
                      </a:lnTo>
                      <a:lnTo>
                        <a:pt x="1860" y="568"/>
                      </a:lnTo>
                      <a:lnTo>
                        <a:pt x="1839" y="554"/>
                      </a:lnTo>
                      <a:lnTo>
                        <a:pt x="1815" y="540"/>
                      </a:lnTo>
                      <a:lnTo>
                        <a:pt x="1785" y="525"/>
                      </a:lnTo>
                      <a:lnTo>
                        <a:pt x="1753" y="512"/>
                      </a:lnTo>
                      <a:lnTo>
                        <a:pt x="1719" y="499"/>
                      </a:lnTo>
                      <a:lnTo>
                        <a:pt x="1685" y="487"/>
                      </a:lnTo>
                      <a:lnTo>
                        <a:pt x="1648" y="472"/>
                      </a:lnTo>
                      <a:lnTo>
                        <a:pt x="1614" y="458"/>
                      </a:lnTo>
                      <a:lnTo>
                        <a:pt x="1581" y="442"/>
                      </a:lnTo>
                      <a:lnTo>
                        <a:pt x="1552" y="428"/>
                      </a:lnTo>
                      <a:lnTo>
                        <a:pt x="1523" y="410"/>
                      </a:lnTo>
                      <a:lnTo>
                        <a:pt x="1501" y="394"/>
                      </a:lnTo>
                      <a:lnTo>
                        <a:pt x="1483" y="374"/>
                      </a:lnTo>
                      <a:lnTo>
                        <a:pt x="1473" y="354"/>
                      </a:lnTo>
                      <a:lnTo>
                        <a:pt x="1461" y="331"/>
                      </a:lnTo>
                      <a:lnTo>
                        <a:pt x="1447" y="309"/>
                      </a:lnTo>
                      <a:lnTo>
                        <a:pt x="1428" y="285"/>
                      </a:lnTo>
                      <a:lnTo>
                        <a:pt x="1407" y="262"/>
                      </a:lnTo>
                      <a:lnTo>
                        <a:pt x="1383" y="238"/>
                      </a:lnTo>
                      <a:lnTo>
                        <a:pt x="1356" y="216"/>
                      </a:lnTo>
                      <a:lnTo>
                        <a:pt x="1330" y="194"/>
                      </a:lnTo>
                      <a:lnTo>
                        <a:pt x="1304" y="174"/>
                      </a:lnTo>
                      <a:lnTo>
                        <a:pt x="1277" y="153"/>
                      </a:lnTo>
                      <a:lnTo>
                        <a:pt x="1251" y="135"/>
                      </a:lnTo>
                      <a:lnTo>
                        <a:pt x="1228" y="118"/>
                      </a:lnTo>
                      <a:lnTo>
                        <a:pt x="1208" y="106"/>
                      </a:lnTo>
                      <a:lnTo>
                        <a:pt x="1190" y="94"/>
                      </a:lnTo>
                      <a:lnTo>
                        <a:pt x="1178" y="86"/>
                      </a:lnTo>
                      <a:lnTo>
                        <a:pt x="1168" y="81"/>
                      </a:lnTo>
                      <a:lnTo>
                        <a:pt x="1167" y="80"/>
                      </a:lnTo>
                      <a:lnTo>
                        <a:pt x="1167" y="80"/>
                      </a:lnTo>
                      <a:close/>
                    </a:path>
                  </a:pathLst>
                </a:custGeom>
                <a:solidFill>
                  <a:srgbClr val="d1c4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781920" y="5146560"/>
                  <a:ext cx="2301840" cy="803160"/>
                </a:xfrm>
                <a:custGeom>
                  <a:avLst/>
                  <a:gdLst/>
                  <a:ahLst/>
                  <a:rect l="l" t="t" r="r" b="b"/>
                  <a:pathLst>
                    <a:path w="2899" h="1011">
                      <a:moveTo>
                        <a:pt x="0" y="666"/>
                      </a:moveTo>
                      <a:lnTo>
                        <a:pt x="5" y="666"/>
                      </a:lnTo>
                      <a:lnTo>
                        <a:pt x="22" y="667"/>
                      </a:lnTo>
                      <a:lnTo>
                        <a:pt x="48" y="669"/>
                      </a:lnTo>
                      <a:lnTo>
                        <a:pt x="84" y="673"/>
                      </a:lnTo>
                      <a:lnTo>
                        <a:pt x="125" y="675"/>
                      </a:lnTo>
                      <a:lnTo>
                        <a:pt x="174" y="679"/>
                      </a:lnTo>
                      <a:lnTo>
                        <a:pt x="227" y="684"/>
                      </a:lnTo>
                      <a:lnTo>
                        <a:pt x="287" y="689"/>
                      </a:lnTo>
                      <a:lnTo>
                        <a:pt x="347" y="695"/>
                      </a:lnTo>
                      <a:lnTo>
                        <a:pt x="410" y="699"/>
                      </a:lnTo>
                      <a:lnTo>
                        <a:pt x="474" y="706"/>
                      </a:lnTo>
                      <a:lnTo>
                        <a:pt x="537" y="711"/>
                      </a:lnTo>
                      <a:lnTo>
                        <a:pt x="598" y="717"/>
                      </a:lnTo>
                      <a:lnTo>
                        <a:pt x="656" y="723"/>
                      </a:lnTo>
                      <a:lnTo>
                        <a:pt x="711" y="729"/>
                      </a:lnTo>
                      <a:lnTo>
                        <a:pt x="760" y="735"/>
                      </a:lnTo>
                      <a:lnTo>
                        <a:pt x="806" y="738"/>
                      </a:lnTo>
                      <a:lnTo>
                        <a:pt x="851" y="738"/>
                      </a:lnTo>
                      <a:lnTo>
                        <a:pt x="894" y="734"/>
                      </a:lnTo>
                      <a:lnTo>
                        <a:pt x="937" y="727"/>
                      </a:lnTo>
                      <a:lnTo>
                        <a:pt x="977" y="717"/>
                      </a:lnTo>
                      <a:lnTo>
                        <a:pt x="1017" y="705"/>
                      </a:lnTo>
                      <a:lnTo>
                        <a:pt x="1053" y="689"/>
                      </a:lnTo>
                      <a:lnTo>
                        <a:pt x="1089" y="675"/>
                      </a:lnTo>
                      <a:lnTo>
                        <a:pt x="1120" y="655"/>
                      </a:lnTo>
                      <a:lnTo>
                        <a:pt x="1148" y="637"/>
                      </a:lnTo>
                      <a:lnTo>
                        <a:pt x="1175" y="618"/>
                      </a:lnTo>
                      <a:lnTo>
                        <a:pt x="1199" y="597"/>
                      </a:lnTo>
                      <a:lnTo>
                        <a:pt x="1218" y="576"/>
                      </a:lnTo>
                      <a:lnTo>
                        <a:pt x="1235" y="556"/>
                      </a:lnTo>
                      <a:lnTo>
                        <a:pt x="1247" y="536"/>
                      </a:lnTo>
                      <a:lnTo>
                        <a:pt x="1256" y="517"/>
                      </a:lnTo>
                      <a:lnTo>
                        <a:pt x="1263" y="494"/>
                      </a:lnTo>
                      <a:lnTo>
                        <a:pt x="1278" y="466"/>
                      </a:lnTo>
                      <a:lnTo>
                        <a:pt x="1296" y="434"/>
                      </a:lnTo>
                      <a:lnTo>
                        <a:pt x="1320" y="399"/>
                      </a:lnTo>
                      <a:lnTo>
                        <a:pt x="1346" y="360"/>
                      </a:lnTo>
                      <a:lnTo>
                        <a:pt x="1377" y="320"/>
                      </a:lnTo>
                      <a:lnTo>
                        <a:pt x="1411" y="279"/>
                      </a:lnTo>
                      <a:lnTo>
                        <a:pt x="1450" y="238"/>
                      </a:lnTo>
                      <a:lnTo>
                        <a:pt x="1490" y="196"/>
                      </a:lnTo>
                      <a:lnTo>
                        <a:pt x="1532" y="158"/>
                      </a:lnTo>
                      <a:lnTo>
                        <a:pt x="1575" y="121"/>
                      </a:lnTo>
                      <a:lnTo>
                        <a:pt x="1622" y="89"/>
                      </a:lnTo>
                      <a:lnTo>
                        <a:pt x="1667" y="60"/>
                      </a:lnTo>
                      <a:lnTo>
                        <a:pt x="1715" y="37"/>
                      </a:lnTo>
                      <a:lnTo>
                        <a:pt x="1764" y="18"/>
                      </a:lnTo>
                      <a:lnTo>
                        <a:pt x="1812" y="8"/>
                      </a:lnTo>
                      <a:lnTo>
                        <a:pt x="1866" y="3"/>
                      </a:lnTo>
                      <a:lnTo>
                        <a:pt x="1931" y="0"/>
                      </a:lnTo>
                      <a:lnTo>
                        <a:pt x="2005" y="0"/>
                      </a:lnTo>
                      <a:lnTo>
                        <a:pt x="2086" y="3"/>
                      </a:lnTo>
                      <a:lnTo>
                        <a:pt x="2173" y="6"/>
                      </a:lnTo>
                      <a:lnTo>
                        <a:pt x="2263" y="14"/>
                      </a:lnTo>
                      <a:lnTo>
                        <a:pt x="2352" y="22"/>
                      </a:lnTo>
                      <a:lnTo>
                        <a:pt x="2443" y="30"/>
                      </a:lnTo>
                      <a:lnTo>
                        <a:pt x="2529" y="39"/>
                      </a:lnTo>
                      <a:lnTo>
                        <a:pt x="2611" y="48"/>
                      </a:lnTo>
                      <a:lnTo>
                        <a:pt x="2686" y="56"/>
                      </a:lnTo>
                      <a:lnTo>
                        <a:pt x="2752" y="65"/>
                      </a:lnTo>
                      <a:lnTo>
                        <a:pt x="2806" y="71"/>
                      </a:lnTo>
                      <a:lnTo>
                        <a:pt x="2849" y="77"/>
                      </a:lnTo>
                      <a:lnTo>
                        <a:pt x="2874" y="81"/>
                      </a:lnTo>
                      <a:lnTo>
                        <a:pt x="2885" y="84"/>
                      </a:lnTo>
                      <a:lnTo>
                        <a:pt x="2885" y="85"/>
                      </a:lnTo>
                      <a:lnTo>
                        <a:pt x="2886" y="93"/>
                      </a:lnTo>
                      <a:lnTo>
                        <a:pt x="2886" y="98"/>
                      </a:lnTo>
                      <a:lnTo>
                        <a:pt x="2888" y="106"/>
                      </a:lnTo>
                      <a:lnTo>
                        <a:pt x="2890" y="112"/>
                      </a:lnTo>
                      <a:lnTo>
                        <a:pt x="2892" y="121"/>
                      </a:lnTo>
                      <a:lnTo>
                        <a:pt x="2893" y="129"/>
                      </a:lnTo>
                      <a:lnTo>
                        <a:pt x="2894" y="138"/>
                      </a:lnTo>
                      <a:lnTo>
                        <a:pt x="2895" y="147"/>
                      </a:lnTo>
                      <a:lnTo>
                        <a:pt x="2896" y="155"/>
                      </a:lnTo>
                      <a:lnTo>
                        <a:pt x="2897" y="164"/>
                      </a:lnTo>
                      <a:lnTo>
                        <a:pt x="2898" y="173"/>
                      </a:lnTo>
                      <a:lnTo>
                        <a:pt x="2898" y="181"/>
                      </a:lnTo>
                      <a:lnTo>
                        <a:pt x="2899" y="190"/>
                      </a:lnTo>
                      <a:lnTo>
                        <a:pt x="2888" y="186"/>
                      </a:lnTo>
                      <a:lnTo>
                        <a:pt x="2860" y="179"/>
                      </a:lnTo>
                      <a:lnTo>
                        <a:pt x="2813" y="166"/>
                      </a:lnTo>
                      <a:lnTo>
                        <a:pt x="2754" y="154"/>
                      </a:lnTo>
                      <a:lnTo>
                        <a:pt x="2679" y="139"/>
                      </a:lnTo>
                      <a:lnTo>
                        <a:pt x="2598" y="124"/>
                      </a:lnTo>
                      <a:lnTo>
                        <a:pt x="2506" y="112"/>
                      </a:lnTo>
                      <a:lnTo>
                        <a:pt x="2409" y="105"/>
                      </a:lnTo>
                      <a:lnTo>
                        <a:pt x="2307" y="99"/>
                      </a:lnTo>
                      <a:lnTo>
                        <a:pt x="2203" y="101"/>
                      </a:lnTo>
                      <a:lnTo>
                        <a:pt x="2099" y="109"/>
                      </a:lnTo>
                      <a:lnTo>
                        <a:pt x="2000" y="128"/>
                      </a:lnTo>
                      <a:lnTo>
                        <a:pt x="1902" y="154"/>
                      </a:lnTo>
                      <a:lnTo>
                        <a:pt x="1813" y="193"/>
                      </a:lnTo>
                      <a:lnTo>
                        <a:pt x="1731" y="245"/>
                      </a:lnTo>
                      <a:lnTo>
                        <a:pt x="1662" y="310"/>
                      </a:lnTo>
                      <a:lnTo>
                        <a:pt x="1605" y="381"/>
                      </a:lnTo>
                      <a:lnTo>
                        <a:pt x="1560" y="453"/>
                      </a:lnTo>
                      <a:lnTo>
                        <a:pt x="1525" y="522"/>
                      </a:lnTo>
                      <a:lnTo>
                        <a:pt x="1498" y="590"/>
                      </a:lnTo>
                      <a:lnTo>
                        <a:pt x="1472" y="654"/>
                      </a:lnTo>
                      <a:lnTo>
                        <a:pt x="1447" y="716"/>
                      </a:lnTo>
                      <a:lnTo>
                        <a:pt x="1418" y="772"/>
                      </a:lnTo>
                      <a:lnTo>
                        <a:pt x="1383" y="826"/>
                      </a:lnTo>
                      <a:lnTo>
                        <a:pt x="1335" y="873"/>
                      </a:lnTo>
                      <a:lnTo>
                        <a:pt x="1275" y="915"/>
                      </a:lnTo>
                      <a:lnTo>
                        <a:pt x="1199" y="950"/>
                      </a:lnTo>
                      <a:lnTo>
                        <a:pt x="1103" y="978"/>
                      </a:lnTo>
                      <a:lnTo>
                        <a:pt x="984" y="998"/>
                      </a:lnTo>
                      <a:lnTo>
                        <a:pt x="838" y="1010"/>
                      </a:lnTo>
                      <a:lnTo>
                        <a:pt x="662" y="1011"/>
                      </a:lnTo>
                      <a:lnTo>
                        <a:pt x="454" y="1006"/>
                      </a:lnTo>
                      <a:lnTo>
                        <a:pt x="0" y="666"/>
                      </a:lnTo>
                      <a:lnTo>
                        <a:pt x="0" y="666"/>
                      </a:lnTo>
                      <a:close/>
                    </a:path>
                  </a:pathLst>
                </a:custGeom>
                <a:solidFill>
                  <a:srgbClr val="bfad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>
                  <a:off x="1643400" y="4297320"/>
                  <a:ext cx="1411560" cy="898560"/>
                </a:xfrm>
                <a:custGeom>
                  <a:avLst/>
                  <a:gdLst/>
                  <a:ahLst/>
                  <a:rect l="l" t="t" r="r" b="b"/>
                  <a:pathLst>
                    <a:path w="1778" h="1132">
                      <a:moveTo>
                        <a:pt x="637" y="21"/>
                      </a:moveTo>
                      <a:lnTo>
                        <a:pt x="643" y="21"/>
                      </a:lnTo>
                      <a:lnTo>
                        <a:pt x="657" y="24"/>
                      </a:lnTo>
                      <a:lnTo>
                        <a:pt x="679" y="26"/>
                      </a:lnTo>
                      <a:lnTo>
                        <a:pt x="711" y="31"/>
                      </a:lnTo>
                      <a:lnTo>
                        <a:pt x="746" y="36"/>
                      </a:lnTo>
                      <a:lnTo>
                        <a:pt x="786" y="45"/>
                      </a:lnTo>
                      <a:lnTo>
                        <a:pt x="829" y="53"/>
                      </a:lnTo>
                      <a:lnTo>
                        <a:pt x="875" y="66"/>
                      </a:lnTo>
                      <a:lnTo>
                        <a:pt x="919" y="77"/>
                      </a:lnTo>
                      <a:lnTo>
                        <a:pt x="964" y="90"/>
                      </a:lnTo>
                      <a:lnTo>
                        <a:pt x="1005" y="105"/>
                      </a:lnTo>
                      <a:lnTo>
                        <a:pt x="1044" y="124"/>
                      </a:lnTo>
                      <a:lnTo>
                        <a:pt x="1077" y="145"/>
                      </a:lnTo>
                      <a:lnTo>
                        <a:pt x="1104" y="167"/>
                      </a:lnTo>
                      <a:lnTo>
                        <a:pt x="1122" y="192"/>
                      </a:lnTo>
                      <a:lnTo>
                        <a:pt x="1133" y="218"/>
                      </a:lnTo>
                      <a:lnTo>
                        <a:pt x="1132" y="245"/>
                      </a:lnTo>
                      <a:lnTo>
                        <a:pt x="1122" y="270"/>
                      </a:lnTo>
                      <a:lnTo>
                        <a:pt x="1104" y="293"/>
                      </a:lnTo>
                      <a:lnTo>
                        <a:pt x="1080" y="317"/>
                      </a:lnTo>
                      <a:lnTo>
                        <a:pt x="1050" y="336"/>
                      </a:lnTo>
                      <a:lnTo>
                        <a:pt x="1016" y="357"/>
                      </a:lnTo>
                      <a:lnTo>
                        <a:pt x="979" y="375"/>
                      </a:lnTo>
                      <a:lnTo>
                        <a:pt x="941" y="393"/>
                      </a:lnTo>
                      <a:lnTo>
                        <a:pt x="902" y="407"/>
                      </a:lnTo>
                      <a:lnTo>
                        <a:pt x="864" y="419"/>
                      </a:lnTo>
                      <a:lnTo>
                        <a:pt x="828" y="430"/>
                      </a:lnTo>
                      <a:lnTo>
                        <a:pt x="797" y="440"/>
                      </a:lnTo>
                      <a:lnTo>
                        <a:pt x="770" y="448"/>
                      </a:lnTo>
                      <a:lnTo>
                        <a:pt x="749" y="454"/>
                      </a:lnTo>
                      <a:lnTo>
                        <a:pt x="735" y="457"/>
                      </a:lnTo>
                      <a:lnTo>
                        <a:pt x="732" y="459"/>
                      </a:lnTo>
                      <a:lnTo>
                        <a:pt x="727" y="460"/>
                      </a:lnTo>
                      <a:lnTo>
                        <a:pt x="714" y="466"/>
                      </a:lnTo>
                      <a:lnTo>
                        <a:pt x="696" y="474"/>
                      </a:lnTo>
                      <a:lnTo>
                        <a:pt x="675" y="486"/>
                      </a:lnTo>
                      <a:lnTo>
                        <a:pt x="650" y="499"/>
                      </a:lnTo>
                      <a:lnTo>
                        <a:pt x="627" y="517"/>
                      </a:lnTo>
                      <a:lnTo>
                        <a:pt x="605" y="533"/>
                      </a:lnTo>
                      <a:lnTo>
                        <a:pt x="588" y="554"/>
                      </a:lnTo>
                      <a:lnTo>
                        <a:pt x="576" y="572"/>
                      </a:lnTo>
                      <a:lnTo>
                        <a:pt x="574" y="593"/>
                      </a:lnTo>
                      <a:lnTo>
                        <a:pt x="581" y="613"/>
                      </a:lnTo>
                      <a:lnTo>
                        <a:pt x="601" y="634"/>
                      </a:lnTo>
                      <a:lnTo>
                        <a:pt x="634" y="653"/>
                      </a:lnTo>
                      <a:lnTo>
                        <a:pt x="685" y="671"/>
                      </a:lnTo>
                      <a:lnTo>
                        <a:pt x="752" y="688"/>
                      </a:lnTo>
                      <a:lnTo>
                        <a:pt x="842" y="703"/>
                      </a:lnTo>
                      <a:lnTo>
                        <a:pt x="937" y="716"/>
                      </a:lnTo>
                      <a:lnTo>
                        <a:pt x="1024" y="727"/>
                      </a:lnTo>
                      <a:lnTo>
                        <a:pt x="1105" y="737"/>
                      </a:lnTo>
                      <a:lnTo>
                        <a:pt x="1181" y="747"/>
                      </a:lnTo>
                      <a:lnTo>
                        <a:pt x="1248" y="754"/>
                      </a:lnTo>
                      <a:lnTo>
                        <a:pt x="1309" y="763"/>
                      </a:lnTo>
                      <a:lnTo>
                        <a:pt x="1364" y="773"/>
                      </a:lnTo>
                      <a:lnTo>
                        <a:pt x="1416" y="782"/>
                      </a:lnTo>
                      <a:lnTo>
                        <a:pt x="1459" y="790"/>
                      </a:lnTo>
                      <a:lnTo>
                        <a:pt x="1499" y="800"/>
                      </a:lnTo>
                      <a:lnTo>
                        <a:pt x="1532" y="811"/>
                      </a:lnTo>
                      <a:lnTo>
                        <a:pt x="1561" y="824"/>
                      </a:lnTo>
                      <a:lnTo>
                        <a:pt x="1584" y="838"/>
                      </a:lnTo>
                      <a:lnTo>
                        <a:pt x="1603" y="855"/>
                      </a:lnTo>
                      <a:lnTo>
                        <a:pt x="1619" y="874"/>
                      </a:lnTo>
                      <a:lnTo>
                        <a:pt x="1631" y="896"/>
                      </a:lnTo>
                      <a:lnTo>
                        <a:pt x="1619" y="916"/>
                      </a:lnTo>
                      <a:lnTo>
                        <a:pt x="1573" y="936"/>
                      </a:lnTo>
                      <a:lnTo>
                        <a:pt x="1497" y="951"/>
                      </a:lnTo>
                      <a:lnTo>
                        <a:pt x="1395" y="968"/>
                      </a:lnTo>
                      <a:lnTo>
                        <a:pt x="1273" y="980"/>
                      </a:lnTo>
                      <a:lnTo>
                        <a:pt x="1134" y="992"/>
                      </a:lnTo>
                      <a:lnTo>
                        <a:pt x="986" y="1001"/>
                      </a:lnTo>
                      <a:lnTo>
                        <a:pt x="833" y="1010"/>
                      </a:lnTo>
                      <a:lnTo>
                        <a:pt x="678" y="1015"/>
                      </a:lnTo>
                      <a:lnTo>
                        <a:pt x="528" y="1021"/>
                      </a:lnTo>
                      <a:lnTo>
                        <a:pt x="386" y="1025"/>
                      </a:lnTo>
                      <a:lnTo>
                        <a:pt x="261" y="1029"/>
                      </a:lnTo>
                      <a:lnTo>
                        <a:pt x="153" y="1030"/>
                      </a:lnTo>
                      <a:lnTo>
                        <a:pt x="72" y="1032"/>
                      </a:lnTo>
                      <a:lnTo>
                        <a:pt x="18" y="1033"/>
                      </a:lnTo>
                      <a:lnTo>
                        <a:pt x="0" y="1034"/>
                      </a:lnTo>
                      <a:lnTo>
                        <a:pt x="22" y="1132"/>
                      </a:lnTo>
                      <a:lnTo>
                        <a:pt x="39" y="1132"/>
                      </a:lnTo>
                      <a:lnTo>
                        <a:pt x="90" y="1131"/>
                      </a:lnTo>
                      <a:lnTo>
                        <a:pt x="168" y="1128"/>
                      </a:lnTo>
                      <a:lnTo>
                        <a:pt x="271" y="1126"/>
                      </a:lnTo>
                      <a:lnTo>
                        <a:pt x="393" y="1121"/>
                      </a:lnTo>
                      <a:lnTo>
                        <a:pt x="530" y="1116"/>
                      </a:lnTo>
                      <a:lnTo>
                        <a:pt x="678" y="1109"/>
                      </a:lnTo>
                      <a:lnTo>
                        <a:pt x="833" y="1100"/>
                      </a:lnTo>
                      <a:lnTo>
                        <a:pt x="986" y="1089"/>
                      </a:lnTo>
                      <a:lnTo>
                        <a:pt x="1140" y="1078"/>
                      </a:lnTo>
                      <a:lnTo>
                        <a:pt x="1286" y="1064"/>
                      </a:lnTo>
                      <a:lnTo>
                        <a:pt x="1421" y="1050"/>
                      </a:lnTo>
                      <a:lnTo>
                        <a:pt x="1539" y="1031"/>
                      </a:lnTo>
                      <a:lnTo>
                        <a:pt x="1639" y="1012"/>
                      </a:lnTo>
                      <a:lnTo>
                        <a:pt x="1713" y="990"/>
                      </a:lnTo>
                      <a:lnTo>
                        <a:pt x="1758" y="965"/>
                      </a:lnTo>
                      <a:lnTo>
                        <a:pt x="1777" y="938"/>
                      </a:lnTo>
                      <a:lnTo>
                        <a:pt x="1778" y="912"/>
                      </a:lnTo>
                      <a:lnTo>
                        <a:pt x="1763" y="885"/>
                      </a:lnTo>
                      <a:lnTo>
                        <a:pt x="1736" y="858"/>
                      </a:lnTo>
                      <a:lnTo>
                        <a:pt x="1695" y="832"/>
                      </a:lnTo>
                      <a:lnTo>
                        <a:pt x="1642" y="805"/>
                      </a:lnTo>
                      <a:lnTo>
                        <a:pt x="1581" y="781"/>
                      </a:lnTo>
                      <a:lnTo>
                        <a:pt x="1513" y="758"/>
                      </a:lnTo>
                      <a:lnTo>
                        <a:pt x="1437" y="734"/>
                      </a:lnTo>
                      <a:lnTo>
                        <a:pt x="1358" y="713"/>
                      </a:lnTo>
                      <a:lnTo>
                        <a:pt x="1275" y="694"/>
                      </a:lnTo>
                      <a:lnTo>
                        <a:pt x="1192" y="679"/>
                      </a:lnTo>
                      <a:lnTo>
                        <a:pt x="1109" y="665"/>
                      </a:lnTo>
                      <a:lnTo>
                        <a:pt x="1029" y="654"/>
                      </a:lnTo>
                      <a:lnTo>
                        <a:pt x="952" y="645"/>
                      </a:lnTo>
                      <a:lnTo>
                        <a:pt x="881" y="640"/>
                      </a:lnTo>
                      <a:lnTo>
                        <a:pt x="818" y="635"/>
                      </a:lnTo>
                      <a:lnTo>
                        <a:pt x="771" y="629"/>
                      </a:lnTo>
                      <a:lnTo>
                        <a:pt x="734" y="621"/>
                      </a:lnTo>
                      <a:lnTo>
                        <a:pt x="710" y="612"/>
                      </a:lnTo>
                      <a:lnTo>
                        <a:pt x="693" y="600"/>
                      </a:lnTo>
                      <a:lnTo>
                        <a:pt x="687" y="587"/>
                      </a:lnTo>
                      <a:lnTo>
                        <a:pt x="687" y="576"/>
                      </a:lnTo>
                      <a:lnTo>
                        <a:pt x="694" y="564"/>
                      </a:lnTo>
                      <a:lnTo>
                        <a:pt x="706" y="551"/>
                      </a:lnTo>
                      <a:lnTo>
                        <a:pt x="721" y="539"/>
                      </a:lnTo>
                      <a:lnTo>
                        <a:pt x="739" y="527"/>
                      </a:lnTo>
                      <a:lnTo>
                        <a:pt x="760" y="518"/>
                      </a:lnTo>
                      <a:lnTo>
                        <a:pt x="781" y="508"/>
                      </a:lnTo>
                      <a:lnTo>
                        <a:pt x="801" y="501"/>
                      </a:lnTo>
                      <a:lnTo>
                        <a:pt x="818" y="496"/>
                      </a:lnTo>
                      <a:lnTo>
                        <a:pt x="835" y="496"/>
                      </a:lnTo>
                      <a:lnTo>
                        <a:pt x="850" y="492"/>
                      </a:lnTo>
                      <a:lnTo>
                        <a:pt x="874" y="486"/>
                      </a:lnTo>
                      <a:lnTo>
                        <a:pt x="901" y="477"/>
                      </a:lnTo>
                      <a:lnTo>
                        <a:pt x="934" y="468"/>
                      </a:lnTo>
                      <a:lnTo>
                        <a:pt x="969" y="454"/>
                      </a:lnTo>
                      <a:lnTo>
                        <a:pt x="1007" y="438"/>
                      </a:lnTo>
                      <a:lnTo>
                        <a:pt x="1044" y="422"/>
                      </a:lnTo>
                      <a:lnTo>
                        <a:pt x="1083" y="404"/>
                      </a:lnTo>
                      <a:lnTo>
                        <a:pt x="1118" y="383"/>
                      </a:lnTo>
                      <a:lnTo>
                        <a:pt x="1150" y="362"/>
                      </a:lnTo>
                      <a:lnTo>
                        <a:pt x="1180" y="340"/>
                      </a:lnTo>
                      <a:lnTo>
                        <a:pt x="1204" y="318"/>
                      </a:lnTo>
                      <a:lnTo>
                        <a:pt x="1220" y="293"/>
                      </a:lnTo>
                      <a:lnTo>
                        <a:pt x="1230" y="269"/>
                      </a:lnTo>
                      <a:lnTo>
                        <a:pt x="1231" y="245"/>
                      </a:lnTo>
                      <a:lnTo>
                        <a:pt x="1223" y="221"/>
                      </a:lnTo>
                      <a:lnTo>
                        <a:pt x="1206" y="197"/>
                      </a:lnTo>
                      <a:lnTo>
                        <a:pt x="1192" y="177"/>
                      </a:lnTo>
                      <a:lnTo>
                        <a:pt x="1175" y="160"/>
                      </a:lnTo>
                      <a:lnTo>
                        <a:pt x="1159" y="143"/>
                      </a:lnTo>
                      <a:lnTo>
                        <a:pt x="1142" y="127"/>
                      </a:lnTo>
                      <a:lnTo>
                        <a:pt x="1126" y="115"/>
                      </a:lnTo>
                      <a:lnTo>
                        <a:pt x="1110" y="103"/>
                      </a:lnTo>
                      <a:lnTo>
                        <a:pt x="1096" y="95"/>
                      </a:lnTo>
                      <a:lnTo>
                        <a:pt x="1080" y="87"/>
                      </a:lnTo>
                      <a:lnTo>
                        <a:pt x="1067" y="80"/>
                      </a:lnTo>
                      <a:lnTo>
                        <a:pt x="1055" y="74"/>
                      </a:lnTo>
                      <a:lnTo>
                        <a:pt x="1045" y="71"/>
                      </a:lnTo>
                      <a:lnTo>
                        <a:pt x="1036" y="67"/>
                      </a:lnTo>
                      <a:lnTo>
                        <a:pt x="1032" y="67"/>
                      </a:lnTo>
                      <a:lnTo>
                        <a:pt x="1027" y="66"/>
                      </a:lnTo>
                      <a:lnTo>
                        <a:pt x="1026" y="66"/>
                      </a:lnTo>
                      <a:lnTo>
                        <a:pt x="1024" y="64"/>
                      </a:lnTo>
                      <a:lnTo>
                        <a:pt x="1022" y="62"/>
                      </a:lnTo>
                      <a:lnTo>
                        <a:pt x="1015" y="58"/>
                      </a:lnTo>
                      <a:lnTo>
                        <a:pt x="1010" y="56"/>
                      </a:lnTo>
                      <a:lnTo>
                        <a:pt x="998" y="49"/>
                      </a:lnTo>
                      <a:lnTo>
                        <a:pt x="989" y="45"/>
                      </a:lnTo>
                      <a:lnTo>
                        <a:pt x="975" y="38"/>
                      </a:lnTo>
                      <a:lnTo>
                        <a:pt x="963" y="32"/>
                      </a:lnTo>
                      <a:lnTo>
                        <a:pt x="947" y="27"/>
                      </a:lnTo>
                      <a:lnTo>
                        <a:pt x="930" y="20"/>
                      </a:lnTo>
                      <a:lnTo>
                        <a:pt x="910" y="15"/>
                      </a:lnTo>
                      <a:lnTo>
                        <a:pt x="890" y="10"/>
                      </a:lnTo>
                      <a:lnTo>
                        <a:pt x="868" y="6"/>
                      </a:lnTo>
                      <a:lnTo>
                        <a:pt x="846" y="3"/>
                      </a:lnTo>
                      <a:lnTo>
                        <a:pt x="822" y="0"/>
                      </a:lnTo>
                      <a:lnTo>
                        <a:pt x="798" y="0"/>
                      </a:lnTo>
                      <a:lnTo>
                        <a:pt x="794" y="0"/>
                      </a:lnTo>
                      <a:lnTo>
                        <a:pt x="788" y="0"/>
                      </a:lnTo>
                      <a:lnTo>
                        <a:pt x="780" y="1"/>
                      </a:lnTo>
                      <a:lnTo>
                        <a:pt x="770" y="4"/>
                      </a:lnTo>
                      <a:lnTo>
                        <a:pt x="756" y="5"/>
                      </a:lnTo>
                      <a:lnTo>
                        <a:pt x="743" y="7"/>
                      </a:lnTo>
                      <a:lnTo>
                        <a:pt x="729" y="8"/>
                      </a:lnTo>
                      <a:lnTo>
                        <a:pt x="714" y="10"/>
                      </a:lnTo>
                      <a:lnTo>
                        <a:pt x="700" y="11"/>
                      </a:lnTo>
                      <a:lnTo>
                        <a:pt x="686" y="14"/>
                      </a:lnTo>
                      <a:lnTo>
                        <a:pt x="671" y="16"/>
                      </a:lnTo>
                      <a:lnTo>
                        <a:pt x="660" y="18"/>
                      </a:lnTo>
                      <a:lnTo>
                        <a:pt x="650" y="19"/>
                      </a:lnTo>
                      <a:lnTo>
                        <a:pt x="644" y="20"/>
                      </a:lnTo>
                      <a:lnTo>
                        <a:pt x="638" y="20"/>
                      </a:lnTo>
                      <a:lnTo>
                        <a:pt x="637" y="21"/>
                      </a:lnTo>
                      <a:lnTo>
                        <a:pt x="637" y="21"/>
                      </a:lnTo>
                      <a:close/>
                    </a:path>
                  </a:pathLst>
                </a:custGeom>
                <a:solidFill>
                  <a:srgbClr val="b39f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>
                  <a:off x="1019520" y="5537160"/>
                  <a:ext cx="2103480" cy="693720"/>
                </a:xfrm>
                <a:custGeom>
                  <a:avLst/>
                  <a:gdLst/>
                  <a:ahLst/>
                  <a:rect l="l" t="t" r="r" b="b"/>
                  <a:pathLst>
                    <a:path w="2650" h="874">
                      <a:moveTo>
                        <a:pt x="46" y="0"/>
                      </a:moveTo>
                      <a:lnTo>
                        <a:pt x="46" y="2"/>
                      </a:lnTo>
                      <a:lnTo>
                        <a:pt x="46" y="6"/>
                      </a:lnTo>
                      <a:lnTo>
                        <a:pt x="48" y="10"/>
                      </a:lnTo>
                      <a:lnTo>
                        <a:pt x="51" y="20"/>
                      </a:lnTo>
                      <a:lnTo>
                        <a:pt x="53" y="30"/>
                      </a:lnTo>
                      <a:lnTo>
                        <a:pt x="57" y="44"/>
                      </a:lnTo>
                      <a:lnTo>
                        <a:pt x="63" y="57"/>
                      </a:lnTo>
                      <a:lnTo>
                        <a:pt x="71" y="72"/>
                      </a:lnTo>
                      <a:lnTo>
                        <a:pt x="78" y="88"/>
                      </a:lnTo>
                      <a:lnTo>
                        <a:pt x="90" y="106"/>
                      </a:lnTo>
                      <a:lnTo>
                        <a:pt x="103" y="124"/>
                      </a:lnTo>
                      <a:lnTo>
                        <a:pt x="119" y="143"/>
                      </a:lnTo>
                      <a:lnTo>
                        <a:pt x="136" y="162"/>
                      </a:lnTo>
                      <a:lnTo>
                        <a:pt x="158" y="182"/>
                      </a:lnTo>
                      <a:lnTo>
                        <a:pt x="181" y="201"/>
                      </a:lnTo>
                      <a:lnTo>
                        <a:pt x="208" y="220"/>
                      </a:lnTo>
                      <a:lnTo>
                        <a:pt x="235" y="238"/>
                      </a:lnTo>
                      <a:lnTo>
                        <a:pt x="266" y="256"/>
                      </a:lnTo>
                      <a:lnTo>
                        <a:pt x="297" y="271"/>
                      </a:lnTo>
                      <a:lnTo>
                        <a:pt x="331" y="288"/>
                      </a:lnTo>
                      <a:lnTo>
                        <a:pt x="364" y="300"/>
                      </a:lnTo>
                      <a:lnTo>
                        <a:pt x="396" y="313"/>
                      </a:lnTo>
                      <a:lnTo>
                        <a:pt x="428" y="326"/>
                      </a:lnTo>
                      <a:lnTo>
                        <a:pt x="460" y="338"/>
                      </a:lnTo>
                      <a:lnTo>
                        <a:pt x="490" y="347"/>
                      </a:lnTo>
                      <a:lnTo>
                        <a:pt x="517" y="356"/>
                      </a:lnTo>
                      <a:lnTo>
                        <a:pt x="543" y="363"/>
                      </a:lnTo>
                      <a:lnTo>
                        <a:pt x="567" y="371"/>
                      </a:lnTo>
                      <a:lnTo>
                        <a:pt x="586" y="377"/>
                      </a:lnTo>
                      <a:lnTo>
                        <a:pt x="604" y="383"/>
                      </a:lnTo>
                      <a:lnTo>
                        <a:pt x="616" y="387"/>
                      </a:lnTo>
                      <a:lnTo>
                        <a:pt x="625" y="393"/>
                      </a:lnTo>
                      <a:lnTo>
                        <a:pt x="630" y="396"/>
                      </a:lnTo>
                      <a:lnTo>
                        <a:pt x="639" y="405"/>
                      </a:lnTo>
                      <a:lnTo>
                        <a:pt x="650" y="414"/>
                      </a:lnTo>
                      <a:lnTo>
                        <a:pt x="664" y="426"/>
                      </a:lnTo>
                      <a:lnTo>
                        <a:pt x="680" y="437"/>
                      </a:lnTo>
                      <a:lnTo>
                        <a:pt x="698" y="452"/>
                      </a:lnTo>
                      <a:lnTo>
                        <a:pt x="719" y="465"/>
                      </a:lnTo>
                      <a:lnTo>
                        <a:pt x="741" y="480"/>
                      </a:lnTo>
                      <a:lnTo>
                        <a:pt x="764" y="494"/>
                      </a:lnTo>
                      <a:lnTo>
                        <a:pt x="788" y="508"/>
                      </a:lnTo>
                      <a:lnTo>
                        <a:pt x="815" y="520"/>
                      </a:lnTo>
                      <a:lnTo>
                        <a:pt x="845" y="532"/>
                      </a:lnTo>
                      <a:lnTo>
                        <a:pt x="873" y="542"/>
                      </a:lnTo>
                      <a:lnTo>
                        <a:pt x="905" y="551"/>
                      </a:lnTo>
                      <a:lnTo>
                        <a:pt x="937" y="557"/>
                      </a:lnTo>
                      <a:lnTo>
                        <a:pt x="972" y="561"/>
                      </a:lnTo>
                      <a:lnTo>
                        <a:pt x="1008" y="561"/>
                      </a:lnTo>
                      <a:lnTo>
                        <a:pt x="1050" y="562"/>
                      </a:lnTo>
                      <a:lnTo>
                        <a:pt x="1096" y="561"/>
                      </a:lnTo>
                      <a:lnTo>
                        <a:pt x="1146" y="560"/>
                      </a:lnTo>
                      <a:lnTo>
                        <a:pt x="1197" y="558"/>
                      </a:lnTo>
                      <a:lnTo>
                        <a:pt x="1251" y="555"/>
                      </a:lnTo>
                      <a:lnTo>
                        <a:pt x="1306" y="553"/>
                      </a:lnTo>
                      <a:lnTo>
                        <a:pt x="1360" y="551"/>
                      </a:lnTo>
                      <a:lnTo>
                        <a:pt x="1412" y="548"/>
                      </a:lnTo>
                      <a:lnTo>
                        <a:pt x="1463" y="544"/>
                      </a:lnTo>
                      <a:lnTo>
                        <a:pt x="1509" y="543"/>
                      </a:lnTo>
                      <a:lnTo>
                        <a:pt x="1553" y="541"/>
                      </a:lnTo>
                      <a:lnTo>
                        <a:pt x="1592" y="539"/>
                      </a:lnTo>
                      <a:lnTo>
                        <a:pt x="1625" y="539"/>
                      </a:lnTo>
                      <a:lnTo>
                        <a:pt x="1652" y="539"/>
                      </a:lnTo>
                      <a:lnTo>
                        <a:pt x="1670" y="541"/>
                      </a:lnTo>
                      <a:lnTo>
                        <a:pt x="1688" y="543"/>
                      </a:lnTo>
                      <a:lnTo>
                        <a:pt x="1712" y="548"/>
                      </a:lnTo>
                      <a:lnTo>
                        <a:pt x="1743" y="555"/>
                      </a:lnTo>
                      <a:lnTo>
                        <a:pt x="1780" y="564"/>
                      </a:lnTo>
                      <a:lnTo>
                        <a:pt x="1817" y="573"/>
                      </a:lnTo>
                      <a:lnTo>
                        <a:pt x="1859" y="584"/>
                      </a:lnTo>
                      <a:lnTo>
                        <a:pt x="1901" y="595"/>
                      </a:lnTo>
                      <a:lnTo>
                        <a:pt x="1946" y="607"/>
                      </a:lnTo>
                      <a:lnTo>
                        <a:pt x="1987" y="619"/>
                      </a:lnTo>
                      <a:lnTo>
                        <a:pt x="2029" y="630"/>
                      </a:lnTo>
                      <a:lnTo>
                        <a:pt x="2066" y="638"/>
                      </a:lnTo>
                      <a:lnTo>
                        <a:pt x="2102" y="648"/>
                      </a:lnTo>
                      <a:lnTo>
                        <a:pt x="2131" y="657"/>
                      </a:lnTo>
                      <a:lnTo>
                        <a:pt x="2156" y="663"/>
                      </a:lnTo>
                      <a:lnTo>
                        <a:pt x="2172" y="668"/>
                      </a:lnTo>
                      <a:lnTo>
                        <a:pt x="2181" y="672"/>
                      </a:lnTo>
                      <a:lnTo>
                        <a:pt x="2190" y="672"/>
                      </a:lnTo>
                      <a:lnTo>
                        <a:pt x="2207" y="672"/>
                      </a:lnTo>
                      <a:lnTo>
                        <a:pt x="2232" y="672"/>
                      </a:lnTo>
                      <a:lnTo>
                        <a:pt x="2263" y="673"/>
                      </a:lnTo>
                      <a:lnTo>
                        <a:pt x="2298" y="673"/>
                      </a:lnTo>
                      <a:lnTo>
                        <a:pt x="2339" y="674"/>
                      </a:lnTo>
                      <a:lnTo>
                        <a:pt x="2380" y="674"/>
                      </a:lnTo>
                      <a:lnTo>
                        <a:pt x="2423" y="675"/>
                      </a:lnTo>
                      <a:lnTo>
                        <a:pt x="2465" y="675"/>
                      </a:lnTo>
                      <a:lnTo>
                        <a:pt x="2506" y="675"/>
                      </a:lnTo>
                      <a:lnTo>
                        <a:pt x="2544" y="675"/>
                      </a:lnTo>
                      <a:lnTo>
                        <a:pt x="2579" y="675"/>
                      </a:lnTo>
                      <a:lnTo>
                        <a:pt x="2607" y="675"/>
                      </a:lnTo>
                      <a:lnTo>
                        <a:pt x="2629" y="675"/>
                      </a:lnTo>
                      <a:lnTo>
                        <a:pt x="2643" y="675"/>
                      </a:lnTo>
                      <a:lnTo>
                        <a:pt x="2650" y="676"/>
                      </a:lnTo>
                      <a:lnTo>
                        <a:pt x="2647" y="676"/>
                      </a:lnTo>
                      <a:lnTo>
                        <a:pt x="2641" y="678"/>
                      </a:lnTo>
                      <a:lnTo>
                        <a:pt x="2633" y="682"/>
                      </a:lnTo>
                      <a:lnTo>
                        <a:pt x="2622" y="687"/>
                      </a:lnTo>
                      <a:lnTo>
                        <a:pt x="2607" y="693"/>
                      </a:lnTo>
                      <a:lnTo>
                        <a:pt x="2591" y="700"/>
                      </a:lnTo>
                      <a:lnTo>
                        <a:pt x="2571" y="708"/>
                      </a:lnTo>
                      <a:lnTo>
                        <a:pt x="2550" y="718"/>
                      </a:lnTo>
                      <a:lnTo>
                        <a:pt x="2526" y="727"/>
                      </a:lnTo>
                      <a:lnTo>
                        <a:pt x="2501" y="737"/>
                      </a:lnTo>
                      <a:lnTo>
                        <a:pt x="2473" y="747"/>
                      </a:lnTo>
                      <a:lnTo>
                        <a:pt x="2444" y="758"/>
                      </a:lnTo>
                      <a:lnTo>
                        <a:pt x="2413" y="768"/>
                      </a:lnTo>
                      <a:lnTo>
                        <a:pt x="2383" y="778"/>
                      </a:lnTo>
                      <a:lnTo>
                        <a:pt x="2351" y="788"/>
                      </a:lnTo>
                      <a:lnTo>
                        <a:pt x="2319" y="799"/>
                      </a:lnTo>
                      <a:lnTo>
                        <a:pt x="2287" y="809"/>
                      </a:lnTo>
                      <a:lnTo>
                        <a:pt x="2260" y="818"/>
                      </a:lnTo>
                      <a:lnTo>
                        <a:pt x="2233" y="824"/>
                      </a:lnTo>
                      <a:lnTo>
                        <a:pt x="2211" y="833"/>
                      </a:lnTo>
                      <a:lnTo>
                        <a:pt x="2189" y="839"/>
                      </a:lnTo>
                      <a:lnTo>
                        <a:pt x="2170" y="845"/>
                      </a:lnTo>
                      <a:lnTo>
                        <a:pt x="2152" y="851"/>
                      </a:lnTo>
                      <a:lnTo>
                        <a:pt x="2135" y="856"/>
                      </a:lnTo>
                      <a:lnTo>
                        <a:pt x="2117" y="861"/>
                      </a:lnTo>
                      <a:lnTo>
                        <a:pt x="2102" y="865"/>
                      </a:lnTo>
                      <a:lnTo>
                        <a:pt x="2083" y="867"/>
                      </a:lnTo>
                      <a:lnTo>
                        <a:pt x="2066" y="871"/>
                      </a:lnTo>
                      <a:lnTo>
                        <a:pt x="2045" y="872"/>
                      </a:lnTo>
                      <a:lnTo>
                        <a:pt x="2024" y="874"/>
                      </a:lnTo>
                      <a:lnTo>
                        <a:pt x="2001" y="874"/>
                      </a:lnTo>
                      <a:lnTo>
                        <a:pt x="1977" y="874"/>
                      </a:lnTo>
                      <a:lnTo>
                        <a:pt x="1946" y="874"/>
                      </a:lnTo>
                      <a:lnTo>
                        <a:pt x="1910" y="872"/>
                      </a:lnTo>
                      <a:lnTo>
                        <a:pt x="1869" y="867"/>
                      </a:lnTo>
                      <a:lnTo>
                        <a:pt x="1826" y="862"/>
                      </a:lnTo>
                      <a:lnTo>
                        <a:pt x="1778" y="855"/>
                      </a:lnTo>
                      <a:lnTo>
                        <a:pt x="1729" y="848"/>
                      </a:lnTo>
                      <a:lnTo>
                        <a:pt x="1678" y="841"/>
                      </a:lnTo>
                      <a:lnTo>
                        <a:pt x="1630" y="834"/>
                      </a:lnTo>
                      <a:lnTo>
                        <a:pt x="1579" y="824"/>
                      </a:lnTo>
                      <a:lnTo>
                        <a:pt x="1532" y="818"/>
                      </a:lnTo>
                      <a:lnTo>
                        <a:pt x="1488" y="810"/>
                      </a:lnTo>
                      <a:lnTo>
                        <a:pt x="1450" y="804"/>
                      </a:lnTo>
                      <a:lnTo>
                        <a:pt x="1415" y="799"/>
                      </a:lnTo>
                      <a:lnTo>
                        <a:pt x="1385" y="794"/>
                      </a:lnTo>
                      <a:lnTo>
                        <a:pt x="1363" y="791"/>
                      </a:lnTo>
                      <a:lnTo>
                        <a:pt x="1350" y="791"/>
                      </a:lnTo>
                      <a:lnTo>
                        <a:pt x="1339" y="791"/>
                      </a:lnTo>
                      <a:lnTo>
                        <a:pt x="1329" y="791"/>
                      </a:lnTo>
                      <a:lnTo>
                        <a:pt x="1318" y="791"/>
                      </a:lnTo>
                      <a:lnTo>
                        <a:pt x="1307" y="791"/>
                      </a:lnTo>
                      <a:lnTo>
                        <a:pt x="1293" y="791"/>
                      </a:lnTo>
                      <a:lnTo>
                        <a:pt x="1279" y="791"/>
                      </a:lnTo>
                      <a:lnTo>
                        <a:pt x="1264" y="791"/>
                      </a:lnTo>
                      <a:lnTo>
                        <a:pt x="1247" y="791"/>
                      </a:lnTo>
                      <a:lnTo>
                        <a:pt x="1226" y="790"/>
                      </a:lnTo>
                      <a:lnTo>
                        <a:pt x="1205" y="790"/>
                      </a:lnTo>
                      <a:lnTo>
                        <a:pt x="1181" y="790"/>
                      </a:lnTo>
                      <a:lnTo>
                        <a:pt x="1154" y="790"/>
                      </a:lnTo>
                      <a:lnTo>
                        <a:pt x="1124" y="789"/>
                      </a:lnTo>
                      <a:lnTo>
                        <a:pt x="1091" y="788"/>
                      </a:lnTo>
                      <a:lnTo>
                        <a:pt x="1055" y="788"/>
                      </a:lnTo>
                      <a:lnTo>
                        <a:pt x="1016" y="787"/>
                      </a:lnTo>
                      <a:lnTo>
                        <a:pt x="973" y="783"/>
                      </a:lnTo>
                      <a:lnTo>
                        <a:pt x="934" y="783"/>
                      </a:lnTo>
                      <a:lnTo>
                        <a:pt x="895" y="783"/>
                      </a:lnTo>
                      <a:lnTo>
                        <a:pt x="860" y="783"/>
                      </a:lnTo>
                      <a:lnTo>
                        <a:pt x="826" y="782"/>
                      </a:lnTo>
                      <a:lnTo>
                        <a:pt x="794" y="781"/>
                      </a:lnTo>
                      <a:lnTo>
                        <a:pt x="763" y="780"/>
                      </a:lnTo>
                      <a:lnTo>
                        <a:pt x="733" y="780"/>
                      </a:lnTo>
                      <a:lnTo>
                        <a:pt x="705" y="775"/>
                      </a:lnTo>
                      <a:lnTo>
                        <a:pt x="678" y="773"/>
                      </a:lnTo>
                      <a:lnTo>
                        <a:pt x="652" y="767"/>
                      </a:lnTo>
                      <a:lnTo>
                        <a:pt x="629" y="761"/>
                      </a:lnTo>
                      <a:lnTo>
                        <a:pt x="607" y="752"/>
                      </a:lnTo>
                      <a:lnTo>
                        <a:pt x="587" y="741"/>
                      </a:lnTo>
                      <a:lnTo>
                        <a:pt x="568" y="729"/>
                      </a:lnTo>
                      <a:lnTo>
                        <a:pt x="551" y="715"/>
                      </a:lnTo>
                      <a:lnTo>
                        <a:pt x="533" y="697"/>
                      </a:lnTo>
                      <a:lnTo>
                        <a:pt x="515" y="684"/>
                      </a:lnTo>
                      <a:lnTo>
                        <a:pt x="497" y="672"/>
                      </a:lnTo>
                      <a:lnTo>
                        <a:pt x="480" y="663"/>
                      </a:lnTo>
                      <a:lnTo>
                        <a:pt x="461" y="654"/>
                      </a:lnTo>
                      <a:lnTo>
                        <a:pt x="443" y="647"/>
                      </a:lnTo>
                      <a:lnTo>
                        <a:pt x="422" y="641"/>
                      </a:lnTo>
                      <a:lnTo>
                        <a:pt x="404" y="636"/>
                      </a:lnTo>
                      <a:lnTo>
                        <a:pt x="383" y="631"/>
                      </a:lnTo>
                      <a:lnTo>
                        <a:pt x="361" y="626"/>
                      </a:lnTo>
                      <a:lnTo>
                        <a:pt x="339" y="622"/>
                      </a:lnTo>
                      <a:lnTo>
                        <a:pt x="317" y="617"/>
                      </a:lnTo>
                      <a:lnTo>
                        <a:pt x="293" y="612"/>
                      </a:lnTo>
                      <a:lnTo>
                        <a:pt x="269" y="605"/>
                      </a:lnTo>
                      <a:lnTo>
                        <a:pt x="243" y="597"/>
                      </a:lnTo>
                      <a:lnTo>
                        <a:pt x="218" y="590"/>
                      </a:lnTo>
                      <a:lnTo>
                        <a:pt x="191" y="578"/>
                      </a:lnTo>
                      <a:lnTo>
                        <a:pt x="167" y="565"/>
                      </a:lnTo>
                      <a:lnTo>
                        <a:pt x="144" y="550"/>
                      </a:lnTo>
                      <a:lnTo>
                        <a:pt x="124" y="534"/>
                      </a:lnTo>
                      <a:lnTo>
                        <a:pt x="103" y="517"/>
                      </a:lnTo>
                      <a:lnTo>
                        <a:pt x="85" y="498"/>
                      </a:lnTo>
                      <a:lnTo>
                        <a:pt x="69" y="479"/>
                      </a:lnTo>
                      <a:lnTo>
                        <a:pt x="55" y="460"/>
                      </a:lnTo>
                      <a:lnTo>
                        <a:pt x="42" y="441"/>
                      </a:lnTo>
                      <a:lnTo>
                        <a:pt x="31" y="420"/>
                      </a:lnTo>
                      <a:lnTo>
                        <a:pt x="21" y="398"/>
                      </a:lnTo>
                      <a:lnTo>
                        <a:pt x="12" y="380"/>
                      </a:lnTo>
                      <a:lnTo>
                        <a:pt x="6" y="359"/>
                      </a:lnTo>
                      <a:lnTo>
                        <a:pt x="0" y="341"/>
                      </a:lnTo>
                      <a:lnTo>
                        <a:pt x="0" y="323"/>
                      </a:lnTo>
                      <a:lnTo>
                        <a:pt x="0" y="308"/>
                      </a:lnTo>
                      <a:lnTo>
                        <a:pt x="0" y="289"/>
                      </a:lnTo>
                      <a:lnTo>
                        <a:pt x="0" y="268"/>
                      </a:lnTo>
                      <a:lnTo>
                        <a:pt x="0" y="246"/>
                      </a:lnTo>
                      <a:lnTo>
                        <a:pt x="2" y="223"/>
                      </a:lnTo>
                      <a:lnTo>
                        <a:pt x="6" y="196"/>
                      </a:lnTo>
                      <a:lnTo>
                        <a:pt x="10" y="172"/>
                      </a:lnTo>
                      <a:lnTo>
                        <a:pt x="14" y="145"/>
                      </a:lnTo>
                      <a:lnTo>
                        <a:pt x="20" y="121"/>
                      </a:lnTo>
                      <a:lnTo>
                        <a:pt x="23" y="96"/>
                      </a:lnTo>
                      <a:lnTo>
                        <a:pt x="29" y="73"/>
                      </a:lnTo>
                      <a:lnTo>
                        <a:pt x="33" y="54"/>
                      </a:lnTo>
                      <a:lnTo>
                        <a:pt x="38" y="36"/>
                      </a:lnTo>
                      <a:lnTo>
                        <a:pt x="41" y="21"/>
                      </a:lnTo>
                      <a:lnTo>
                        <a:pt x="44" y="10"/>
                      </a:lnTo>
                      <a:lnTo>
                        <a:pt x="45" y="3"/>
                      </a:lnTo>
                      <a:lnTo>
                        <a:pt x="46" y="0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9e9e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H="1">
                  <a:off x="1524600" y="4470480"/>
                  <a:ext cx="1501560" cy="1299960"/>
                </a:xfrm>
                <a:custGeom>
                  <a:avLst/>
                  <a:gdLst/>
                  <a:ahLst/>
                  <a:rect l="l" t="t" r="r" b="b"/>
                  <a:pathLst>
                    <a:path w="1891" h="1639">
                      <a:moveTo>
                        <a:pt x="151" y="0"/>
                      </a:moveTo>
                      <a:lnTo>
                        <a:pt x="303" y="0"/>
                      </a:lnTo>
                      <a:lnTo>
                        <a:pt x="551" y="0"/>
                      </a:lnTo>
                      <a:lnTo>
                        <a:pt x="739" y="6"/>
                      </a:lnTo>
                      <a:lnTo>
                        <a:pt x="831" y="52"/>
                      </a:lnTo>
                      <a:lnTo>
                        <a:pt x="840" y="131"/>
                      </a:lnTo>
                      <a:lnTo>
                        <a:pt x="812" y="187"/>
                      </a:lnTo>
                      <a:lnTo>
                        <a:pt x="749" y="249"/>
                      </a:lnTo>
                      <a:lnTo>
                        <a:pt x="469" y="353"/>
                      </a:lnTo>
                      <a:lnTo>
                        <a:pt x="218" y="422"/>
                      </a:lnTo>
                      <a:lnTo>
                        <a:pt x="174" y="453"/>
                      </a:lnTo>
                      <a:lnTo>
                        <a:pt x="174" y="498"/>
                      </a:lnTo>
                      <a:lnTo>
                        <a:pt x="203" y="541"/>
                      </a:lnTo>
                      <a:lnTo>
                        <a:pt x="279" y="568"/>
                      </a:lnTo>
                      <a:lnTo>
                        <a:pt x="410" y="578"/>
                      </a:lnTo>
                      <a:lnTo>
                        <a:pt x="671" y="603"/>
                      </a:lnTo>
                      <a:lnTo>
                        <a:pt x="967" y="623"/>
                      </a:lnTo>
                      <a:lnTo>
                        <a:pt x="1147" y="656"/>
                      </a:lnTo>
                      <a:lnTo>
                        <a:pt x="1292" y="696"/>
                      </a:lnTo>
                      <a:lnTo>
                        <a:pt x="1343" y="763"/>
                      </a:lnTo>
                      <a:lnTo>
                        <a:pt x="1345" y="853"/>
                      </a:lnTo>
                      <a:lnTo>
                        <a:pt x="1282" y="918"/>
                      </a:lnTo>
                      <a:lnTo>
                        <a:pt x="285" y="1126"/>
                      </a:lnTo>
                      <a:lnTo>
                        <a:pt x="257" y="1141"/>
                      </a:lnTo>
                      <a:lnTo>
                        <a:pt x="261" y="1163"/>
                      </a:lnTo>
                      <a:lnTo>
                        <a:pt x="310" y="1186"/>
                      </a:lnTo>
                      <a:lnTo>
                        <a:pt x="1020" y="1180"/>
                      </a:lnTo>
                      <a:lnTo>
                        <a:pt x="1248" y="1134"/>
                      </a:lnTo>
                      <a:lnTo>
                        <a:pt x="1891" y="1000"/>
                      </a:lnTo>
                      <a:lnTo>
                        <a:pt x="1855" y="1066"/>
                      </a:lnTo>
                      <a:lnTo>
                        <a:pt x="1697" y="1116"/>
                      </a:lnTo>
                      <a:lnTo>
                        <a:pt x="1593" y="1203"/>
                      </a:lnTo>
                      <a:lnTo>
                        <a:pt x="1525" y="1317"/>
                      </a:lnTo>
                      <a:lnTo>
                        <a:pt x="1503" y="1639"/>
                      </a:lnTo>
                      <a:lnTo>
                        <a:pt x="206" y="1330"/>
                      </a:lnTo>
                      <a:lnTo>
                        <a:pt x="45" y="1170"/>
                      </a:lnTo>
                      <a:lnTo>
                        <a:pt x="60" y="1097"/>
                      </a:lnTo>
                      <a:lnTo>
                        <a:pt x="134" y="1031"/>
                      </a:lnTo>
                      <a:lnTo>
                        <a:pt x="191" y="997"/>
                      </a:lnTo>
                      <a:lnTo>
                        <a:pt x="419" y="953"/>
                      </a:lnTo>
                      <a:lnTo>
                        <a:pt x="850" y="878"/>
                      </a:lnTo>
                      <a:lnTo>
                        <a:pt x="1028" y="847"/>
                      </a:lnTo>
                      <a:lnTo>
                        <a:pt x="1075" y="811"/>
                      </a:lnTo>
                      <a:lnTo>
                        <a:pt x="1071" y="785"/>
                      </a:lnTo>
                      <a:lnTo>
                        <a:pt x="989" y="738"/>
                      </a:lnTo>
                      <a:lnTo>
                        <a:pt x="780" y="708"/>
                      </a:lnTo>
                      <a:lnTo>
                        <a:pt x="400" y="670"/>
                      </a:lnTo>
                      <a:lnTo>
                        <a:pt x="211" y="658"/>
                      </a:lnTo>
                      <a:lnTo>
                        <a:pt x="43" y="603"/>
                      </a:lnTo>
                      <a:lnTo>
                        <a:pt x="0" y="531"/>
                      </a:lnTo>
                      <a:lnTo>
                        <a:pt x="6" y="469"/>
                      </a:lnTo>
                      <a:lnTo>
                        <a:pt x="55" y="394"/>
                      </a:lnTo>
                      <a:lnTo>
                        <a:pt x="155" y="333"/>
                      </a:lnTo>
                      <a:lnTo>
                        <a:pt x="309" y="300"/>
                      </a:lnTo>
                      <a:lnTo>
                        <a:pt x="582" y="242"/>
                      </a:lnTo>
                      <a:lnTo>
                        <a:pt x="730" y="185"/>
                      </a:lnTo>
                      <a:lnTo>
                        <a:pt x="768" y="141"/>
                      </a:lnTo>
                      <a:lnTo>
                        <a:pt x="764" y="107"/>
                      </a:lnTo>
                      <a:lnTo>
                        <a:pt x="735" y="68"/>
                      </a:lnTo>
                      <a:lnTo>
                        <a:pt x="674" y="47"/>
                      </a:lnTo>
                      <a:lnTo>
                        <a:pt x="528" y="41"/>
                      </a:lnTo>
                      <a:lnTo>
                        <a:pt x="352" y="37"/>
                      </a:lnTo>
                      <a:lnTo>
                        <a:pt x="196" y="33"/>
                      </a:lnTo>
                      <a:lnTo>
                        <a:pt x="125" y="33"/>
                      </a:lnTo>
                      <a:lnTo>
                        <a:pt x="151" y="0"/>
                      </a:lnTo>
                      <a:lnTo>
                        <a:pt x="151" y="0"/>
                      </a:lnTo>
                      <a:close/>
                    </a:path>
                  </a:pathLst>
                </a:custGeom>
                <a:solidFill>
                  <a:srgbClr val="9e9e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>
                  <a:off x="1145160" y="5305320"/>
                  <a:ext cx="1857240" cy="614520"/>
                </a:xfrm>
                <a:custGeom>
                  <a:avLst/>
                  <a:gdLst/>
                  <a:ahLst/>
                  <a:rect l="l" t="t" r="r" b="b"/>
                  <a:pathLst>
                    <a:path w="2342" h="775">
                      <a:moveTo>
                        <a:pt x="80" y="0"/>
                      </a:moveTo>
                      <a:lnTo>
                        <a:pt x="78" y="0"/>
                      </a:lnTo>
                      <a:lnTo>
                        <a:pt x="76" y="2"/>
                      </a:lnTo>
                      <a:lnTo>
                        <a:pt x="72" y="6"/>
                      </a:lnTo>
                      <a:lnTo>
                        <a:pt x="68" y="14"/>
                      </a:lnTo>
                      <a:lnTo>
                        <a:pt x="62" y="19"/>
                      </a:lnTo>
                      <a:lnTo>
                        <a:pt x="57" y="28"/>
                      </a:lnTo>
                      <a:lnTo>
                        <a:pt x="52" y="37"/>
                      </a:lnTo>
                      <a:lnTo>
                        <a:pt x="49" y="49"/>
                      </a:lnTo>
                      <a:lnTo>
                        <a:pt x="44" y="60"/>
                      </a:lnTo>
                      <a:lnTo>
                        <a:pt x="42" y="72"/>
                      </a:lnTo>
                      <a:lnTo>
                        <a:pt x="41" y="86"/>
                      </a:lnTo>
                      <a:lnTo>
                        <a:pt x="44" y="100"/>
                      </a:lnTo>
                      <a:lnTo>
                        <a:pt x="47" y="113"/>
                      </a:lnTo>
                      <a:lnTo>
                        <a:pt x="54" y="128"/>
                      </a:lnTo>
                      <a:lnTo>
                        <a:pt x="63" y="141"/>
                      </a:lnTo>
                      <a:lnTo>
                        <a:pt x="77" y="154"/>
                      </a:lnTo>
                      <a:lnTo>
                        <a:pt x="92" y="166"/>
                      </a:lnTo>
                      <a:lnTo>
                        <a:pt x="111" y="181"/>
                      </a:lnTo>
                      <a:lnTo>
                        <a:pt x="131" y="193"/>
                      </a:lnTo>
                      <a:lnTo>
                        <a:pt x="153" y="207"/>
                      </a:lnTo>
                      <a:lnTo>
                        <a:pt x="174" y="220"/>
                      </a:lnTo>
                      <a:lnTo>
                        <a:pt x="198" y="233"/>
                      </a:lnTo>
                      <a:lnTo>
                        <a:pt x="220" y="244"/>
                      </a:lnTo>
                      <a:lnTo>
                        <a:pt x="244" y="256"/>
                      </a:lnTo>
                      <a:lnTo>
                        <a:pt x="264" y="265"/>
                      </a:lnTo>
                      <a:lnTo>
                        <a:pt x="283" y="274"/>
                      </a:lnTo>
                      <a:lnTo>
                        <a:pt x="302" y="281"/>
                      </a:lnTo>
                      <a:lnTo>
                        <a:pt x="318" y="290"/>
                      </a:lnTo>
                      <a:lnTo>
                        <a:pt x="331" y="295"/>
                      </a:lnTo>
                      <a:lnTo>
                        <a:pt x="341" y="299"/>
                      </a:lnTo>
                      <a:lnTo>
                        <a:pt x="348" y="301"/>
                      </a:lnTo>
                      <a:lnTo>
                        <a:pt x="351" y="302"/>
                      </a:lnTo>
                      <a:lnTo>
                        <a:pt x="304" y="229"/>
                      </a:lnTo>
                      <a:lnTo>
                        <a:pt x="443" y="315"/>
                      </a:lnTo>
                      <a:lnTo>
                        <a:pt x="442" y="311"/>
                      </a:lnTo>
                      <a:lnTo>
                        <a:pt x="439" y="305"/>
                      </a:lnTo>
                      <a:lnTo>
                        <a:pt x="437" y="300"/>
                      </a:lnTo>
                      <a:lnTo>
                        <a:pt x="435" y="296"/>
                      </a:lnTo>
                      <a:lnTo>
                        <a:pt x="432" y="290"/>
                      </a:lnTo>
                      <a:lnTo>
                        <a:pt x="430" y="285"/>
                      </a:lnTo>
                      <a:lnTo>
                        <a:pt x="425" y="278"/>
                      </a:lnTo>
                      <a:lnTo>
                        <a:pt x="421" y="270"/>
                      </a:lnTo>
                      <a:lnTo>
                        <a:pt x="415" y="264"/>
                      </a:lnTo>
                      <a:lnTo>
                        <a:pt x="409" y="257"/>
                      </a:lnTo>
                      <a:lnTo>
                        <a:pt x="402" y="250"/>
                      </a:lnTo>
                      <a:lnTo>
                        <a:pt x="395" y="244"/>
                      </a:lnTo>
                      <a:lnTo>
                        <a:pt x="386" y="237"/>
                      </a:lnTo>
                      <a:lnTo>
                        <a:pt x="379" y="232"/>
                      </a:lnTo>
                      <a:lnTo>
                        <a:pt x="383" y="232"/>
                      </a:lnTo>
                      <a:lnTo>
                        <a:pt x="387" y="233"/>
                      </a:lnTo>
                      <a:lnTo>
                        <a:pt x="396" y="235"/>
                      </a:lnTo>
                      <a:lnTo>
                        <a:pt x="404" y="238"/>
                      </a:lnTo>
                      <a:lnTo>
                        <a:pt x="415" y="243"/>
                      </a:lnTo>
                      <a:lnTo>
                        <a:pt x="427" y="246"/>
                      </a:lnTo>
                      <a:lnTo>
                        <a:pt x="442" y="253"/>
                      </a:lnTo>
                      <a:lnTo>
                        <a:pt x="454" y="257"/>
                      </a:lnTo>
                      <a:lnTo>
                        <a:pt x="469" y="265"/>
                      </a:lnTo>
                      <a:lnTo>
                        <a:pt x="485" y="273"/>
                      </a:lnTo>
                      <a:lnTo>
                        <a:pt x="499" y="281"/>
                      </a:lnTo>
                      <a:lnTo>
                        <a:pt x="513" y="291"/>
                      </a:lnTo>
                      <a:lnTo>
                        <a:pt x="529" y="302"/>
                      </a:lnTo>
                      <a:lnTo>
                        <a:pt x="543" y="315"/>
                      </a:lnTo>
                      <a:lnTo>
                        <a:pt x="558" y="329"/>
                      </a:lnTo>
                      <a:lnTo>
                        <a:pt x="557" y="326"/>
                      </a:lnTo>
                      <a:lnTo>
                        <a:pt x="554" y="317"/>
                      </a:lnTo>
                      <a:lnTo>
                        <a:pt x="551" y="310"/>
                      </a:lnTo>
                      <a:lnTo>
                        <a:pt x="548" y="304"/>
                      </a:lnTo>
                      <a:lnTo>
                        <a:pt x="545" y="297"/>
                      </a:lnTo>
                      <a:lnTo>
                        <a:pt x="542" y="290"/>
                      </a:lnTo>
                      <a:lnTo>
                        <a:pt x="537" y="281"/>
                      </a:lnTo>
                      <a:lnTo>
                        <a:pt x="532" y="275"/>
                      </a:lnTo>
                      <a:lnTo>
                        <a:pt x="526" y="267"/>
                      </a:lnTo>
                      <a:lnTo>
                        <a:pt x="521" y="260"/>
                      </a:lnTo>
                      <a:lnTo>
                        <a:pt x="513" y="255"/>
                      </a:lnTo>
                      <a:lnTo>
                        <a:pt x="507" y="249"/>
                      </a:lnTo>
                      <a:lnTo>
                        <a:pt x="492" y="243"/>
                      </a:lnTo>
                      <a:lnTo>
                        <a:pt x="501" y="244"/>
                      </a:lnTo>
                      <a:lnTo>
                        <a:pt x="511" y="248"/>
                      </a:lnTo>
                      <a:lnTo>
                        <a:pt x="523" y="254"/>
                      </a:lnTo>
                      <a:lnTo>
                        <a:pt x="533" y="260"/>
                      </a:lnTo>
                      <a:lnTo>
                        <a:pt x="547" y="267"/>
                      </a:lnTo>
                      <a:lnTo>
                        <a:pt x="562" y="276"/>
                      </a:lnTo>
                      <a:lnTo>
                        <a:pt x="576" y="283"/>
                      </a:lnTo>
                      <a:lnTo>
                        <a:pt x="592" y="292"/>
                      </a:lnTo>
                      <a:lnTo>
                        <a:pt x="607" y="302"/>
                      </a:lnTo>
                      <a:lnTo>
                        <a:pt x="624" y="315"/>
                      </a:lnTo>
                      <a:lnTo>
                        <a:pt x="637" y="326"/>
                      </a:lnTo>
                      <a:lnTo>
                        <a:pt x="653" y="339"/>
                      </a:lnTo>
                      <a:lnTo>
                        <a:pt x="667" y="352"/>
                      </a:lnTo>
                      <a:lnTo>
                        <a:pt x="680" y="368"/>
                      </a:lnTo>
                      <a:lnTo>
                        <a:pt x="678" y="363"/>
                      </a:lnTo>
                      <a:lnTo>
                        <a:pt x="675" y="356"/>
                      </a:lnTo>
                      <a:lnTo>
                        <a:pt x="671" y="350"/>
                      </a:lnTo>
                      <a:lnTo>
                        <a:pt x="669" y="343"/>
                      </a:lnTo>
                      <a:lnTo>
                        <a:pt x="665" y="337"/>
                      </a:lnTo>
                      <a:lnTo>
                        <a:pt x="662" y="329"/>
                      </a:lnTo>
                      <a:lnTo>
                        <a:pt x="657" y="320"/>
                      </a:lnTo>
                      <a:lnTo>
                        <a:pt x="652" y="312"/>
                      </a:lnTo>
                      <a:lnTo>
                        <a:pt x="646" y="304"/>
                      </a:lnTo>
                      <a:lnTo>
                        <a:pt x="641" y="296"/>
                      </a:lnTo>
                      <a:lnTo>
                        <a:pt x="633" y="288"/>
                      </a:lnTo>
                      <a:lnTo>
                        <a:pt x="625" y="280"/>
                      </a:lnTo>
                      <a:lnTo>
                        <a:pt x="617" y="275"/>
                      </a:lnTo>
                      <a:lnTo>
                        <a:pt x="611" y="269"/>
                      </a:lnTo>
                      <a:lnTo>
                        <a:pt x="612" y="269"/>
                      </a:lnTo>
                      <a:lnTo>
                        <a:pt x="615" y="271"/>
                      </a:lnTo>
                      <a:lnTo>
                        <a:pt x="623" y="274"/>
                      </a:lnTo>
                      <a:lnTo>
                        <a:pt x="633" y="278"/>
                      </a:lnTo>
                      <a:lnTo>
                        <a:pt x="644" y="281"/>
                      </a:lnTo>
                      <a:lnTo>
                        <a:pt x="657" y="288"/>
                      </a:lnTo>
                      <a:lnTo>
                        <a:pt x="670" y="294"/>
                      </a:lnTo>
                      <a:lnTo>
                        <a:pt x="686" y="302"/>
                      </a:lnTo>
                      <a:lnTo>
                        <a:pt x="701" y="309"/>
                      </a:lnTo>
                      <a:lnTo>
                        <a:pt x="716" y="317"/>
                      </a:lnTo>
                      <a:lnTo>
                        <a:pt x="731" y="326"/>
                      </a:lnTo>
                      <a:lnTo>
                        <a:pt x="747" y="337"/>
                      </a:lnTo>
                      <a:lnTo>
                        <a:pt x="761" y="347"/>
                      </a:lnTo>
                      <a:lnTo>
                        <a:pt x="773" y="358"/>
                      </a:lnTo>
                      <a:lnTo>
                        <a:pt x="784" y="369"/>
                      </a:lnTo>
                      <a:lnTo>
                        <a:pt x="795" y="381"/>
                      </a:lnTo>
                      <a:lnTo>
                        <a:pt x="793" y="377"/>
                      </a:lnTo>
                      <a:lnTo>
                        <a:pt x="790" y="369"/>
                      </a:lnTo>
                      <a:lnTo>
                        <a:pt x="785" y="361"/>
                      </a:lnTo>
                      <a:lnTo>
                        <a:pt x="783" y="356"/>
                      </a:lnTo>
                      <a:lnTo>
                        <a:pt x="779" y="349"/>
                      </a:lnTo>
                      <a:lnTo>
                        <a:pt x="775" y="341"/>
                      </a:lnTo>
                      <a:lnTo>
                        <a:pt x="770" y="332"/>
                      </a:lnTo>
                      <a:lnTo>
                        <a:pt x="764" y="325"/>
                      </a:lnTo>
                      <a:lnTo>
                        <a:pt x="759" y="316"/>
                      </a:lnTo>
                      <a:lnTo>
                        <a:pt x="752" y="309"/>
                      </a:lnTo>
                      <a:lnTo>
                        <a:pt x="746" y="302"/>
                      </a:lnTo>
                      <a:lnTo>
                        <a:pt x="739" y="296"/>
                      </a:lnTo>
                      <a:lnTo>
                        <a:pt x="730" y="290"/>
                      </a:lnTo>
                      <a:lnTo>
                        <a:pt x="723" y="286"/>
                      </a:lnTo>
                      <a:lnTo>
                        <a:pt x="725" y="286"/>
                      </a:lnTo>
                      <a:lnTo>
                        <a:pt x="729" y="288"/>
                      </a:lnTo>
                      <a:lnTo>
                        <a:pt x="737" y="291"/>
                      </a:lnTo>
                      <a:lnTo>
                        <a:pt x="747" y="296"/>
                      </a:lnTo>
                      <a:lnTo>
                        <a:pt x="758" y="301"/>
                      </a:lnTo>
                      <a:lnTo>
                        <a:pt x="772" y="308"/>
                      </a:lnTo>
                      <a:lnTo>
                        <a:pt x="786" y="315"/>
                      </a:lnTo>
                      <a:lnTo>
                        <a:pt x="804" y="325"/>
                      </a:lnTo>
                      <a:lnTo>
                        <a:pt x="819" y="332"/>
                      </a:lnTo>
                      <a:lnTo>
                        <a:pt x="837" y="342"/>
                      </a:lnTo>
                      <a:lnTo>
                        <a:pt x="854" y="352"/>
                      </a:lnTo>
                      <a:lnTo>
                        <a:pt x="870" y="363"/>
                      </a:lnTo>
                      <a:lnTo>
                        <a:pt x="886" y="374"/>
                      </a:lnTo>
                      <a:lnTo>
                        <a:pt x="900" y="386"/>
                      </a:lnTo>
                      <a:lnTo>
                        <a:pt x="914" y="399"/>
                      </a:lnTo>
                      <a:lnTo>
                        <a:pt x="926" y="411"/>
                      </a:lnTo>
                      <a:lnTo>
                        <a:pt x="925" y="409"/>
                      </a:lnTo>
                      <a:lnTo>
                        <a:pt x="922" y="406"/>
                      </a:lnTo>
                      <a:lnTo>
                        <a:pt x="920" y="401"/>
                      </a:lnTo>
                      <a:lnTo>
                        <a:pt x="918" y="396"/>
                      </a:lnTo>
                      <a:lnTo>
                        <a:pt x="912" y="388"/>
                      </a:lnTo>
                      <a:lnTo>
                        <a:pt x="909" y="380"/>
                      </a:lnTo>
                      <a:lnTo>
                        <a:pt x="903" y="371"/>
                      </a:lnTo>
                      <a:lnTo>
                        <a:pt x="898" y="362"/>
                      </a:lnTo>
                      <a:lnTo>
                        <a:pt x="890" y="352"/>
                      </a:lnTo>
                      <a:lnTo>
                        <a:pt x="885" y="342"/>
                      </a:lnTo>
                      <a:lnTo>
                        <a:pt x="877" y="333"/>
                      </a:lnTo>
                      <a:lnTo>
                        <a:pt x="872" y="326"/>
                      </a:lnTo>
                      <a:lnTo>
                        <a:pt x="865" y="316"/>
                      </a:lnTo>
                      <a:lnTo>
                        <a:pt x="858" y="309"/>
                      </a:lnTo>
                      <a:lnTo>
                        <a:pt x="853" y="302"/>
                      </a:lnTo>
                      <a:lnTo>
                        <a:pt x="846" y="299"/>
                      </a:lnTo>
                      <a:lnTo>
                        <a:pt x="848" y="299"/>
                      </a:lnTo>
                      <a:lnTo>
                        <a:pt x="855" y="302"/>
                      </a:lnTo>
                      <a:lnTo>
                        <a:pt x="865" y="308"/>
                      </a:lnTo>
                      <a:lnTo>
                        <a:pt x="880" y="316"/>
                      </a:lnTo>
                      <a:lnTo>
                        <a:pt x="897" y="325"/>
                      </a:lnTo>
                      <a:lnTo>
                        <a:pt x="917" y="336"/>
                      </a:lnTo>
                      <a:lnTo>
                        <a:pt x="937" y="347"/>
                      </a:lnTo>
                      <a:lnTo>
                        <a:pt x="959" y="360"/>
                      </a:lnTo>
                      <a:lnTo>
                        <a:pt x="980" y="372"/>
                      </a:lnTo>
                      <a:lnTo>
                        <a:pt x="1002" y="384"/>
                      </a:lnTo>
                      <a:lnTo>
                        <a:pt x="1022" y="396"/>
                      </a:lnTo>
                      <a:lnTo>
                        <a:pt x="1042" y="411"/>
                      </a:lnTo>
                      <a:lnTo>
                        <a:pt x="1058" y="423"/>
                      </a:lnTo>
                      <a:lnTo>
                        <a:pt x="1074" y="435"/>
                      </a:lnTo>
                      <a:lnTo>
                        <a:pt x="1085" y="446"/>
                      </a:lnTo>
                      <a:lnTo>
                        <a:pt x="1079" y="436"/>
                      </a:lnTo>
                      <a:lnTo>
                        <a:pt x="1072" y="426"/>
                      </a:lnTo>
                      <a:lnTo>
                        <a:pt x="1064" y="416"/>
                      </a:lnTo>
                      <a:lnTo>
                        <a:pt x="1055" y="404"/>
                      </a:lnTo>
                      <a:lnTo>
                        <a:pt x="1047" y="393"/>
                      </a:lnTo>
                      <a:lnTo>
                        <a:pt x="1035" y="380"/>
                      </a:lnTo>
                      <a:lnTo>
                        <a:pt x="1025" y="367"/>
                      </a:lnTo>
                      <a:lnTo>
                        <a:pt x="1014" y="354"/>
                      </a:lnTo>
                      <a:lnTo>
                        <a:pt x="1004" y="344"/>
                      </a:lnTo>
                      <a:lnTo>
                        <a:pt x="993" y="333"/>
                      </a:lnTo>
                      <a:lnTo>
                        <a:pt x="983" y="326"/>
                      </a:lnTo>
                      <a:lnTo>
                        <a:pt x="973" y="318"/>
                      </a:lnTo>
                      <a:lnTo>
                        <a:pt x="964" y="315"/>
                      </a:lnTo>
                      <a:lnTo>
                        <a:pt x="967" y="315"/>
                      </a:lnTo>
                      <a:lnTo>
                        <a:pt x="973" y="318"/>
                      </a:lnTo>
                      <a:lnTo>
                        <a:pt x="984" y="323"/>
                      </a:lnTo>
                      <a:lnTo>
                        <a:pt x="1000" y="330"/>
                      </a:lnTo>
                      <a:lnTo>
                        <a:pt x="1015" y="338"/>
                      </a:lnTo>
                      <a:lnTo>
                        <a:pt x="1035" y="349"/>
                      </a:lnTo>
                      <a:lnTo>
                        <a:pt x="1057" y="360"/>
                      </a:lnTo>
                      <a:lnTo>
                        <a:pt x="1082" y="372"/>
                      </a:lnTo>
                      <a:lnTo>
                        <a:pt x="1104" y="384"/>
                      </a:lnTo>
                      <a:lnTo>
                        <a:pt x="1127" y="398"/>
                      </a:lnTo>
                      <a:lnTo>
                        <a:pt x="1148" y="411"/>
                      </a:lnTo>
                      <a:lnTo>
                        <a:pt x="1170" y="425"/>
                      </a:lnTo>
                      <a:lnTo>
                        <a:pt x="1188" y="438"/>
                      </a:lnTo>
                      <a:lnTo>
                        <a:pt x="1205" y="452"/>
                      </a:lnTo>
                      <a:lnTo>
                        <a:pt x="1219" y="463"/>
                      </a:lnTo>
                      <a:lnTo>
                        <a:pt x="1230" y="475"/>
                      </a:lnTo>
                      <a:lnTo>
                        <a:pt x="1141" y="350"/>
                      </a:lnTo>
                      <a:lnTo>
                        <a:pt x="1371" y="496"/>
                      </a:lnTo>
                      <a:lnTo>
                        <a:pt x="1370" y="494"/>
                      </a:lnTo>
                      <a:lnTo>
                        <a:pt x="1368" y="489"/>
                      </a:lnTo>
                      <a:lnTo>
                        <a:pt x="1365" y="483"/>
                      </a:lnTo>
                      <a:lnTo>
                        <a:pt x="1360" y="475"/>
                      </a:lnTo>
                      <a:lnTo>
                        <a:pt x="1355" y="464"/>
                      </a:lnTo>
                      <a:lnTo>
                        <a:pt x="1348" y="453"/>
                      </a:lnTo>
                      <a:lnTo>
                        <a:pt x="1340" y="441"/>
                      </a:lnTo>
                      <a:lnTo>
                        <a:pt x="1333" y="428"/>
                      </a:lnTo>
                      <a:lnTo>
                        <a:pt x="1324" y="414"/>
                      </a:lnTo>
                      <a:lnTo>
                        <a:pt x="1315" y="402"/>
                      </a:lnTo>
                      <a:lnTo>
                        <a:pt x="1306" y="389"/>
                      </a:lnTo>
                      <a:lnTo>
                        <a:pt x="1298" y="378"/>
                      </a:lnTo>
                      <a:lnTo>
                        <a:pt x="1287" y="367"/>
                      </a:lnTo>
                      <a:lnTo>
                        <a:pt x="1278" y="358"/>
                      </a:lnTo>
                      <a:lnTo>
                        <a:pt x="1270" y="350"/>
                      </a:lnTo>
                      <a:lnTo>
                        <a:pt x="1262" y="347"/>
                      </a:lnTo>
                      <a:lnTo>
                        <a:pt x="1263" y="347"/>
                      </a:lnTo>
                      <a:lnTo>
                        <a:pt x="1268" y="350"/>
                      </a:lnTo>
                      <a:lnTo>
                        <a:pt x="1277" y="352"/>
                      </a:lnTo>
                      <a:lnTo>
                        <a:pt x="1289" y="359"/>
                      </a:lnTo>
                      <a:lnTo>
                        <a:pt x="1303" y="364"/>
                      </a:lnTo>
                      <a:lnTo>
                        <a:pt x="1319" y="372"/>
                      </a:lnTo>
                      <a:lnTo>
                        <a:pt x="1336" y="381"/>
                      </a:lnTo>
                      <a:lnTo>
                        <a:pt x="1355" y="391"/>
                      </a:lnTo>
                      <a:lnTo>
                        <a:pt x="1372" y="400"/>
                      </a:lnTo>
                      <a:lnTo>
                        <a:pt x="1390" y="412"/>
                      </a:lnTo>
                      <a:lnTo>
                        <a:pt x="1409" y="424"/>
                      </a:lnTo>
                      <a:lnTo>
                        <a:pt x="1427" y="436"/>
                      </a:lnTo>
                      <a:lnTo>
                        <a:pt x="1442" y="448"/>
                      </a:lnTo>
                      <a:lnTo>
                        <a:pt x="1456" y="462"/>
                      </a:lnTo>
                      <a:lnTo>
                        <a:pt x="1469" y="474"/>
                      </a:lnTo>
                      <a:lnTo>
                        <a:pt x="1477" y="488"/>
                      </a:lnTo>
                      <a:lnTo>
                        <a:pt x="1475" y="483"/>
                      </a:lnTo>
                      <a:lnTo>
                        <a:pt x="1473" y="469"/>
                      </a:lnTo>
                      <a:lnTo>
                        <a:pt x="1471" y="449"/>
                      </a:lnTo>
                      <a:lnTo>
                        <a:pt x="1470" y="424"/>
                      </a:lnTo>
                      <a:lnTo>
                        <a:pt x="1469" y="393"/>
                      </a:lnTo>
                      <a:lnTo>
                        <a:pt x="1470" y="358"/>
                      </a:lnTo>
                      <a:lnTo>
                        <a:pt x="1476" y="319"/>
                      </a:lnTo>
                      <a:lnTo>
                        <a:pt x="1486" y="280"/>
                      </a:lnTo>
                      <a:lnTo>
                        <a:pt x="1501" y="237"/>
                      </a:lnTo>
                      <a:lnTo>
                        <a:pt x="1522" y="196"/>
                      </a:lnTo>
                      <a:lnTo>
                        <a:pt x="1549" y="154"/>
                      </a:lnTo>
                      <a:lnTo>
                        <a:pt x="1586" y="117"/>
                      </a:lnTo>
                      <a:lnTo>
                        <a:pt x="1630" y="80"/>
                      </a:lnTo>
                      <a:lnTo>
                        <a:pt x="1685" y="47"/>
                      </a:lnTo>
                      <a:lnTo>
                        <a:pt x="1750" y="21"/>
                      </a:lnTo>
                      <a:lnTo>
                        <a:pt x="1829" y="0"/>
                      </a:lnTo>
                      <a:lnTo>
                        <a:pt x="1831" y="17"/>
                      </a:lnTo>
                      <a:lnTo>
                        <a:pt x="1828" y="17"/>
                      </a:lnTo>
                      <a:lnTo>
                        <a:pt x="1819" y="19"/>
                      </a:lnTo>
                      <a:lnTo>
                        <a:pt x="1806" y="22"/>
                      </a:lnTo>
                      <a:lnTo>
                        <a:pt x="1790" y="27"/>
                      </a:lnTo>
                      <a:lnTo>
                        <a:pt x="1769" y="33"/>
                      </a:lnTo>
                      <a:lnTo>
                        <a:pt x="1747" y="42"/>
                      </a:lnTo>
                      <a:lnTo>
                        <a:pt x="1722" y="51"/>
                      </a:lnTo>
                      <a:lnTo>
                        <a:pt x="1697" y="66"/>
                      </a:lnTo>
                      <a:lnTo>
                        <a:pt x="1670" y="80"/>
                      </a:lnTo>
                      <a:lnTo>
                        <a:pt x="1643" y="98"/>
                      </a:lnTo>
                      <a:lnTo>
                        <a:pt x="1618" y="118"/>
                      </a:lnTo>
                      <a:lnTo>
                        <a:pt x="1593" y="142"/>
                      </a:lnTo>
                      <a:lnTo>
                        <a:pt x="1570" y="169"/>
                      </a:lnTo>
                      <a:lnTo>
                        <a:pt x="1550" y="199"/>
                      </a:lnTo>
                      <a:lnTo>
                        <a:pt x="1534" y="232"/>
                      </a:lnTo>
                      <a:lnTo>
                        <a:pt x="1523" y="269"/>
                      </a:lnTo>
                      <a:lnTo>
                        <a:pt x="1581" y="594"/>
                      </a:lnTo>
                      <a:lnTo>
                        <a:pt x="1581" y="595"/>
                      </a:lnTo>
                      <a:lnTo>
                        <a:pt x="1584" y="600"/>
                      </a:lnTo>
                      <a:lnTo>
                        <a:pt x="1588" y="604"/>
                      </a:lnTo>
                      <a:lnTo>
                        <a:pt x="1596" y="614"/>
                      </a:lnTo>
                      <a:lnTo>
                        <a:pt x="1603" y="623"/>
                      </a:lnTo>
                      <a:lnTo>
                        <a:pt x="1613" y="634"/>
                      </a:lnTo>
                      <a:lnTo>
                        <a:pt x="1626" y="646"/>
                      </a:lnTo>
                      <a:lnTo>
                        <a:pt x="1641" y="660"/>
                      </a:lnTo>
                      <a:lnTo>
                        <a:pt x="1655" y="672"/>
                      </a:lnTo>
                      <a:lnTo>
                        <a:pt x="1674" y="684"/>
                      </a:lnTo>
                      <a:lnTo>
                        <a:pt x="1694" y="695"/>
                      </a:lnTo>
                      <a:lnTo>
                        <a:pt x="1716" y="707"/>
                      </a:lnTo>
                      <a:lnTo>
                        <a:pt x="1739" y="716"/>
                      </a:lnTo>
                      <a:lnTo>
                        <a:pt x="1766" y="725"/>
                      </a:lnTo>
                      <a:lnTo>
                        <a:pt x="1792" y="731"/>
                      </a:lnTo>
                      <a:lnTo>
                        <a:pt x="1823" y="736"/>
                      </a:lnTo>
                      <a:lnTo>
                        <a:pt x="2022" y="709"/>
                      </a:lnTo>
                      <a:lnTo>
                        <a:pt x="2022" y="708"/>
                      </a:lnTo>
                      <a:lnTo>
                        <a:pt x="2026" y="708"/>
                      </a:lnTo>
                      <a:lnTo>
                        <a:pt x="2029" y="706"/>
                      </a:lnTo>
                      <a:lnTo>
                        <a:pt x="2035" y="705"/>
                      </a:lnTo>
                      <a:lnTo>
                        <a:pt x="2040" y="702"/>
                      </a:lnTo>
                      <a:lnTo>
                        <a:pt x="2048" y="698"/>
                      </a:lnTo>
                      <a:lnTo>
                        <a:pt x="2054" y="696"/>
                      </a:lnTo>
                      <a:lnTo>
                        <a:pt x="2064" y="694"/>
                      </a:lnTo>
                      <a:lnTo>
                        <a:pt x="2072" y="688"/>
                      </a:lnTo>
                      <a:lnTo>
                        <a:pt x="2080" y="685"/>
                      </a:lnTo>
                      <a:lnTo>
                        <a:pt x="2088" y="681"/>
                      </a:lnTo>
                      <a:lnTo>
                        <a:pt x="2096" y="676"/>
                      </a:lnTo>
                      <a:lnTo>
                        <a:pt x="2102" y="672"/>
                      </a:lnTo>
                      <a:lnTo>
                        <a:pt x="2110" y="667"/>
                      </a:lnTo>
                      <a:lnTo>
                        <a:pt x="2114" y="662"/>
                      </a:lnTo>
                      <a:lnTo>
                        <a:pt x="2120" y="658"/>
                      </a:lnTo>
                      <a:lnTo>
                        <a:pt x="2252" y="534"/>
                      </a:lnTo>
                      <a:lnTo>
                        <a:pt x="2252" y="532"/>
                      </a:lnTo>
                      <a:lnTo>
                        <a:pt x="2256" y="530"/>
                      </a:lnTo>
                      <a:lnTo>
                        <a:pt x="2258" y="526"/>
                      </a:lnTo>
                      <a:lnTo>
                        <a:pt x="2265" y="521"/>
                      </a:lnTo>
                      <a:lnTo>
                        <a:pt x="2270" y="514"/>
                      </a:lnTo>
                      <a:lnTo>
                        <a:pt x="2278" y="506"/>
                      </a:lnTo>
                      <a:lnTo>
                        <a:pt x="2283" y="496"/>
                      </a:lnTo>
                      <a:lnTo>
                        <a:pt x="2292" y="486"/>
                      </a:lnTo>
                      <a:lnTo>
                        <a:pt x="2298" y="473"/>
                      </a:lnTo>
                      <a:lnTo>
                        <a:pt x="2304" y="457"/>
                      </a:lnTo>
                      <a:lnTo>
                        <a:pt x="2310" y="442"/>
                      </a:lnTo>
                      <a:lnTo>
                        <a:pt x="2315" y="424"/>
                      </a:lnTo>
                      <a:lnTo>
                        <a:pt x="2316" y="404"/>
                      </a:lnTo>
                      <a:lnTo>
                        <a:pt x="2319" y="383"/>
                      </a:lnTo>
                      <a:lnTo>
                        <a:pt x="2319" y="361"/>
                      </a:lnTo>
                      <a:lnTo>
                        <a:pt x="2316" y="338"/>
                      </a:lnTo>
                      <a:lnTo>
                        <a:pt x="2342" y="368"/>
                      </a:lnTo>
                      <a:lnTo>
                        <a:pt x="2342" y="369"/>
                      </a:lnTo>
                      <a:lnTo>
                        <a:pt x="2342" y="372"/>
                      </a:lnTo>
                      <a:lnTo>
                        <a:pt x="2342" y="379"/>
                      </a:lnTo>
                      <a:lnTo>
                        <a:pt x="2342" y="389"/>
                      </a:lnTo>
                      <a:lnTo>
                        <a:pt x="2341" y="400"/>
                      </a:lnTo>
                      <a:lnTo>
                        <a:pt x="2341" y="412"/>
                      </a:lnTo>
                      <a:lnTo>
                        <a:pt x="2339" y="425"/>
                      </a:lnTo>
                      <a:lnTo>
                        <a:pt x="2339" y="441"/>
                      </a:lnTo>
                      <a:lnTo>
                        <a:pt x="2334" y="454"/>
                      </a:lnTo>
                      <a:lnTo>
                        <a:pt x="2331" y="468"/>
                      </a:lnTo>
                      <a:lnTo>
                        <a:pt x="2326" y="483"/>
                      </a:lnTo>
                      <a:lnTo>
                        <a:pt x="2321" y="497"/>
                      </a:lnTo>
                      <a:lnTo>
                        <a:pt x="2314" y="509"/>
                      </a:lnTo>
                      <a:lnTo>
                        <a:pt x="2305" y="521"/>
                      </a:lnTo>
                      <a:lnTo>
                        <a:pt x="2295" y="530"/>
                      </a:lnTo>
                      <a:lnTo>
                        <a:pt x="2286" y="539"/>
                      </a:lnTo>
                      <a:lnTo>
                        <a:pt x="2137" y="663"/>
                      </a:lnTo>
                      <a:lnTo>
                        <a:pt x="2136" y="664"/>
                      </a:lnTo>
                      <a:lnTo>
                        <a:pt x="2134" y="669"/>
                      </a:lnTo>
                      <a:lnTo>
                        <a:pt x="2130" y="676"/>
                      </a:lnTo>
                      <a:lnTo>
                        <a:pt x="2122" y="685"/>
                      </a:lnTo>
                      <a:lnTo>
                        <a:pt x="2116" y="689"/>
                      </a:lnTo>
                      <a:lnTo>
                        <a:pt x="2110" y="694"/>
                      </a:lnTo>
                      <a:lnTo>
                        <a:pt x="2103" y="697"/>
                      </a:lnTo>
                      <a:lnTo>
                        <a:pt x="2095" y="703"/>
                      </a:lnTo>
                      <a:lnTo>
                        <a:pt x="2085" y="707"/>
                      </a:lnTo>
                      <a:lnTo>
                        <a:pt x="2074" y="710"/>
                      </a:lnTo>
                      <a:lnTo>
                        <a:pt x="2061" y="714"/>
                      </a:lnTo>
                      <a:lnTo>
                        <a:pt x="2048" y="718"/>
                      </a:lnTo>
                      <a:lnTo>
                        <a:pt x="1944" y="731"/>
                      </a:lnTo>
                      <a:lnTo>
                        <a:pt x="1894" y="754"/>
                      </a:lnTo>
                      <a:lnTo>
                        <a:pt x="1875" y="775"/>
                      </a:lnTo>
                      <a:lnTo>
                        <a:pt x="187" y="302"/>
                      </a:lnTo>
                      <a:lnTo>
                        <a:pt x="185" y="302"/>
                      </a:lnTo>
                      <a:lnTo>
                        <a:pt x="180" y="300"/>
                      </a:lnTo>
                      <a:lnTo>
                        <a:pt x="172" y="297"/>
                      </a:lnTo>
                      <a:lnTo>
                        <a:pt x="163" y="292"/>
                      </a:lnTo>
                      <a:lnTo>
                        <a:pt x="151" y="287"/>
                      </a:lnTo>
                      <a:lnTo>
                        <a:pt x="138" y="280"/>
                      </a:lnTo>
                      <a:lnTo>
                        <a:pt x="123" y="274"/>
                      </a:lnTo>
                      <a:lnTo>
                        <a:pt x="110" y="266"/>
                      </a:lnTo>
                      <a:lnTo>
                        <a:pt x="93" y="256"/>
                      </a:lnTo>
                      <a:lnTo>
                        <a:pt x="78" y="245"/>
                      </a:lnTo>
                      <a:lnTo>
                        <a:pt x="63" y="232"/>
                      </a:lnTo>
                      <a:lnTo>
                        <a:pt x="50" y="220"/>
                      </a:lnTo>
                      <a:lnTo>
                        <a:pt x="36" y="203"/>
                      </a:lnTo>
                      <a:lnTo>
                        <a:pt x="25" y="187"/>
                      </a:lnTo>
                      <a:lnTo>
                        <a:pt x="15" y="170"/>
                      </a:lnTo>
                      <a:lnTo>
                        <a:pt x="8" y="152"/>
                      </a:lnTo>
                      <a:lnTo>
                        <a:pt x="3" y="133"/>
                      </a:lnTo>
                      <a:lnTo>
                        <a:pt x="0" y="116"/>
                      </a:lnTo>
                      <a:lnTo>
                        <a:pt x="0" y="99"/>
                      </a:lnTo>
                      <a:lnTo>
                        <a:pt x="5" y="85"/>
                      </a:lnTo>
                      <a:lnTo>
                        <a:pt x="9" y="70"/>
                      </a:lnTo>
                      <a:lnTo>
                        <a:pt x="16" y="58"/>
                      </a:lnTo>
                      <a:lnTo>
                        <a:pt x="23" y="46"/>
                      </a:lnTo>
                      <a:lnTo>
                        <a:pt x="31" y="36"/>
                      </a:lnTo>
                      <a:lnTo>
                        <a:pt x="40" y="26"/>
                      </a:lnTo>
                      <a:lnTo>
                        <a:pt x="48" y="19"/>
                      </a:lnTo>
                      <a:lnTo>
                        <a:pt x="56" y="13"/>
                      </a:lnTo>
                      <a:lnTo>
                        <a:pt x="65" y="8"/>
                      </a:lnTo>
                      <a:lnTo>
                        <a:pt x="69" y="3"/>
                      </a:lnTo>
                      <a:lnTo>
                        <a:pt x="76" y="2"/>
                      </a:lnTo>
                      <a:lnTo>
                        <a:pt x="78" y="0"/>
                      </a:lnTo>
                      <a:lnTo>
                        <a:pt x="80" y="0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5c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>
                  <a:off x="1127520" y="5214960"/>
                  <a:ext cx="119160" cy="61920"/>
                </a:xfrm>
                <a:custGeom>
                  <a:avLst/>
                  <a:gdLst/>
                  <a:ahLst/>
                  <a:rect l="l" t="t" r="r" b="b"/>
                  <a:pathLst>
                    <a:path w="150" h="77">
                      <a:moveTo>
                        <a:pt x="0" y="16"/>
                      </a:moveTo>
                      <a:lnTo>
                        <a:pt x="3" y="16"/>
                      </a:lnTo>
                      <a:lnTo>
                        <a:pt x="8" y="16"/>
                      </a:lnTo>
                      <a:lnTo>
                        <a:pt x="15" y="16"/>
                      </a:lnTo>
                      <a:lnTo>
                        <a:pt x="23" y="16"/>
                      </a:lnTo>
                      <a:lnTo>
                        <a:pt x="33" y="17"/>
                      </a:lnTo>
                      <a:lnTo>
                        <a:pt x="42" y="19"/>
                      </a:lnTo>
                      <a:lnTo>
                        <a:pt x="54" y="22"/>
                      </a:lnTo>
                      <a:lnTo>
                        <a:pt x="65" y="23"/>
                      </a:lnTo>
                      <a:lnTo>
                        <a:pt x="76" y="27"/>
                      </a:lnTo>
                      <a:lnTo>
                        <a:pt x="87" y="33"/>
                      </a:lnTo>
                      <a:lnTo>
                        <a:pt x="99" y="38"/>
                      </a:lnTo>
                      <a:lnTo>
                        <a:pt x="109" y="45"/>
                      </a:lnTo>
                      <a:lnTo>
                        <a:pt x="119" y="55"/>
                      </a:lnTo>
                      <a:lnTo>
                        <a:pt x="128" y="64"/>
                      </a:lnTo>
                      <a:lnTo>
                        <a:pt x="137" y="77"/>
                      </a:lnTo>
                      <a:lnTo>
                        <a:pt x="150" y="57"/>
                      </a:lnTo>
                      <a:lnTo>
                        <a:pt x="148" y="53"/>
                      </a:lnTo>
                      <a:lnTo>
                        <a:pt x="140" y="45"/>
                      </a:lnTo>
                      <a:lnTo>
                        <a:pt x="134" y="40"/>
                      </a:lnTo>
                      <a:lnTo>
                        <a:pt x="128" y="34"/>
                      </a:lnTo>
                      <a:lnTo>
                        <a:pt x="121" y="30"/>
                      </a:lnTo>
                      <a:lnTo>
                        <a:pt x="113" y="24"/>
                      </a:lnTo>
                      <a:lnTo>
                        <a:pt x="102" y="19"/>
                      </a:lnTo>
                      <a:lnTo>
                        <a:pt x="91" y="13"/>
                      </a:lnTo>
                      <a:lnTo>
                        <a:pt x="79" y="9"/>
                      </a:lnTo>
                      <a:lnTo>
                        <a:pt x="66" y="4"/>
                      </a:lnTo>
                      <a:lnTo>
                        <a:pt x="50" y="1"/>
                      </a:lnTo>
                      <a:lnTo>
                        <a:pt x="35" y="0"/>
                      </a:lnTo>
                      <a:lnTo>
                        <a:pt x="18" y="0"/>
                      </a:lnTo>
                      <a:lnTo>
                        <a:pt x="1" y="2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4d36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>
                  <a:off x="1991160" y="5148360"/>
                  <a:ext cx="833400" cy="225360"/>
                </a:xfrm>
                <a:custGeom>
                  <a:avLst/>
                  <a:gdLst/>
                  <a:ahLst/>
                  <a:rect l="l" t="t" r="r" b="b"/>
                  <a:pathLst>
                    <a:path w="1050" h="283">
                      <a:moveTo>
                        <a:pt x="0" y="283"/>
                      </a:moveTo>
                      <a:lnTo>
                        <a:pt x="0" y="281"/>
                      </a:lnTo>
                      <a:lnTo>
                        <a:pt x="4" y="277"/>
                      </a:lnTo>
                      <a:lnTo>
                        <a:pt x="10" y="271"/>
                      </a:lnTo>
                      <a:lnTo>
                        <a:pt x="16" y="264"/>
                      </a:lnTo>
                      <a:lnTo>
                        <a:pt x="24" y="254"/>
                      </a:lnTo>
                      <a:lnTo>
                        <a:pt x="34" y="244"/>
                      </a:lnTo>
                      <a:lnTo>
                        <a:pt x="45" y="233"/>
                      </a:lnTo>
                      <a:lnTo>
                        <a:pt x="56" y="223"/>
                      </a:lnTo>
                      <a:lnTo>
                        <a:pt x="68" y="211"/>
                      </a:lnTo>
                      <a:lnTo>
                        <a:pt x="82" y="201"/>
                      </a:lnTo>
                      <a:lnTo>
                        <a:pt x="95" y="190"/>
                      </a:lnTo>
                      <a:lnTo>
                        <a:pt x="109" y="182"/>
                      </a:lnTo>
                      <a:lnTo>
                        <a:pt x="121" y="173"/>
                      </a:lnTo>
                      <a:lnTo>
                        <a:pt x="135" y="168"/>
                      </a:lnTo>
                      <a:lnTo>
                        <a:pt x="147" y="164"/>
                      </a:lnTo>
                      <a:lnTo>
                        <a:pt x="159" y="163"/>
                      </a:lnTo>
                      <a:lnTo>
                        <a:pt x="103" y="226"/>
                      </a:lnTo>
                      <a:lnTo>
                        <a:pt x="351" y="115"/>
                      </a:lnTo>
                      <a:lnTo>
                        <a:pt x="294" y="171"/>
                      </a:lnTo>
                      <a:lnTo>
                        <a:pt x="506" y="98"/>
                      </a:lnTo>
                      <a:lnTo>
                        <a:pt x="437" y="158"/>
                      </a:lnTo>
                      <a:lnTo>
                        <a:pt x="647" y="63"/>
                      </a:lnTo>
                      <a:lnTo>
                        <a:pt x="586" y="131"/>
                      </a:lnTo>
                      <a:lnTo>
                        <a:pt x="801" y="33"/>
                      </a:lnTo>
                      <a:lnTo>
                        <a:pt x="742" y="103"/>
                      </a:lnTo>
                      <a:lnTo>
                        <a:pt x="945" y="16"/>
                      </a:lnTo>
                      <a:lnTo>
                        <a:pt x="898" y="84"/>
                      </a:lnTo>
                      <a:lnTo>
                        <a:pt x="1050" y="0"/>
                      </a:lnTo>
                      <a:lnTo>
                        <a:pt x="1031" y="56"/>
                      </a:lnTo>
                      <a:lnTo>
                        <a:pt x="0" y="283"/>
                      </a:lnTo>
                      <a:lnTo>
                        <a:pt x="0" y="283"/>
                      </a:lnTo>
                      <a:close/>
                    </a:path>
                  </a:pathLst>
                </a:custGeom>
                <a:solidFill>
                  <a:srgbClr val="5c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1537560" y="4467240"/>
                  <a:ext cx="1494000" cy="957240"/>
                </a:xfrm>
                <a:custGeom>
                  <a:avLst/>
                  <a:gdLst/>
                  <a:ahLst/>
                  <a:rect l="l" t="t" r="r" b="b"/>
                  <a:pathLst>
                    <a:path w="1883" h="1207">
                      <a:moveTo>
                        <a:pt x="156" y="0"/>
                      </a:moveTo>
                      <a:lnTo>
                        <a:pt x="122" y="41"/>
                      </a:lnTo>
                      <a:lnTo>
                        <a:pt x="659" y="55"/>
                      </a:lnTo>
                      <a:lnTo>
                        <a:pt x="663" y="55"/>
                      </a:lnTo>
                      <a:lnTo>
                        <a:pt x="669" y="55"/>
                      </a:lnTo>
                      <a:lnTo>
                        <a:pt x="677" y="57"/>
                      </a:lnTo>
                      <a:lnTo>
                        <a:pt x="684" y="58"/>
                      </a:lnTo>
                      <a:lnTo>
                        <a:pt x="694" y="62"/>
                      </a:lnTo>
                      <a:lnTo>
                        <a:pt x="705" y="63"/>
                      </a:lnTo>
                      <a:lnTo>
                        <a:pt x="716" y="68"/>
                      </a:lnTo>
                      <a:lnTo>
                        <a:pt x="726" y="72"/>
                      </a:lnTo>
                      <a:lnTo>
                        <a:pt x="736" y="77"/>
                      </a:lnTo>
                      <a:lnTo>
                        <a:pt x="744" y="84"/>
                      </a:lnTo>
                      <a:lnTo>
                        <a:pt x="753" y="91"/>
                      </a:lnTo>
                      <a:lnTo>
                        <a:pt x="760" y="98"/>
                      </a:lnTo>
                      <a:lnTo>
                        <a:pt x="764" y="108"/>
                      </a:lnTo>
                      <a:lnTo>
                        <a:pt x="767" y="119"/>
                      </a:lnTo>
                      <a:lnTo>
                        <a:pt x="768" y="131"/>
                      </a:lnTo>
                      <a:lnTo>
                        <a:pt x="764" y="142"/>
                      </a:lnTo>
                      <a:lnTo>
                        <a:pt x="758" y="153"/>
                      </a:lnTo>
                      <a:lnTo>
                        <a:pt x="748" y="164"/>
                      </a:lnTo>
                      <a:lnTo>
                        <a:pt x="737" y="175"/>
                      </a:lnTo>
                      <a:lnTo>
                        <a:pt x="722" y="184"/>
                      </a:lnTo>
                      <a:lnTo>
                        <a:pt x="706" y="194"/>
                      </a:lnTo>
                      <a:lnTo>
                        <a:pt x="691" y="202"/>
                      </a:lnTo>
                      <a:lnTo>
                        <a:pt x="674" y="211"/>
                      </a:lnTo>
                      <a:lnTo>
                        <a:pt x="657" y="216"/>
                      </a:lnTo>
                      <a:lnTo>
                        <a:pt x="640" y="223"/>
                      </a:lnTo>
                      <a:lnTo>
                        <a:pt x="626" y="227"/>
                      </a:lnTo>
                      <a:lnTo>
                        <a:pt x="613" y="233"/>
                      </a:lnTo>
                      <a:lnTo>
                        <a:pt x="600" y="235"/>
                      </a:lnTo>
                      <a:lnTo>
                        <a:pt x="592" y="238"/>
                      </a:lnTo>
                      <a:lnTo>
                        <a:pt x="586" y="241"/>
                      </a:lnTo>
                      <a:lnTo>
                        <a:pt x="585" y="242"/>
                      </a:lnTo>
                      <a:lnTo>
                        <a:pt x="191" y="321"/>
                      </a:lnTo>
                      <a:lnTo>
                        <a:pt x="189" y="321"/>
                      </a:lnTo>
                      <a:lnTo>
                        <a:pt x="182" y="324"/>
                      </a:lnTo>
                      <a:lnTo>
                        <a:pt x="173" y="327"/>
                      </a:lnTo>
                      <a:lnTo>
                        <a:pt x="160" y="331"/>
                      </a:lnTo>
                      <a:lnTo>
                        <a:pt x="145" y="337"/>
                      </a:lnTo>
                      <a:lnTo>
                        <a:pt x="128" y="345"/>
                      </a:lnTo>
                      <a:lnTo>
                        <a:pt x="111" y="353"/>
                      </a:lnTo>
                      <a:lnTo>
                        <a:pt x="93" y="367"/>
                      </a:lnTo>
                      <a:lnTo>
                        <a:pt x="75" y="379"/>
                      </a:lnTo>
                      <a:lnTo>
                        <a:pt x="56" y="394"/>
                      </a:lnTo>
                      <a:lnTo>
                        <a:pt x="41" y="411"/>
                      </a:lnTo>
                      <a:lnTo>
                        <a:pt x="27" y="432"/>
                      </a:lnTo>
                      <a:lnTo>
                        <a:pt x="14" y="453"/>
                      </a:lnTo>
                      <a:lnTo>
                        <a:pt x="6" y="477"/>
                      </a:lnTo>
                      <a:lnTo>
                        <a:pt x="0" y="503"/>
                      </a:lnTo>
                      <a:lnTo>
                        <a:pt x="0" y="534"/>
                      </a:lnTo>
                      <a:lnTo>
                        <a:pt x="6" y="560"/>
                      </a:lnTo>
                      <a:lnTo>
                        <a:pt x="20" y="586"/>
                      </a:lnTo>
                      <a:lnTo>
                        <a:pt x="42" y="606"/>
                      </a:lnTo>
                      <a:lnTo>
                        <a:pt x="70" y="624"/>
                      </a:lnTo>
                      <a:lnTo>
                        <a:pt x="102" y="640"/>
                      </a:lnTo>
                      <a:lnTo>
                        <a:pt x="138" y="652"/>
                      </a:lnTo>
                      <a:lnTo>
                        <a:pt x="177" y="661"/>
                      </a:lnTo>
                      <a:lnTo>
                        <a:pt x="217" y="670"/>
                      </a:lnTo>
                      <a:lnTo>
                        <a:pt x="255" y="675"/>
                      </a:lnTo>
                      <a:lnTo>
                        <a:pt x="294" y="679"/>
                      </a:lnTo>
                      <a:lnTo>
                        <a:pt x="330" y="681"/>
                      </a:lnTo>
                      <a:lnTo>
                        <a:pt x="363" y="683"/>
                      </a:lnTo>
                      <a:lnTo>
                        <a:pt x="389" y="683"/>
                      </a:lnTo>
                      <a:lnTo>
                        <a:pt x="410" y="684"/>
                      </a:lnTo>
                      <a:lnTo>
                        <a:pt x="425" y="684"/>
                      </a:lnTo>
                      <a:lnTo>
                        <a:pt x="430" y="685"/>
                      </a:lnTo>
                      <a:lnTo>
                        <a:pt x="930" y="736"/>
                      </a:lnTo>
                      <a:lnTo>
                        <a:pt x="932" y="736"/>
                      </a:lnTo>
                      <a:lnTo>
                        <a:pt x="938" y="737"/>
                      </a:lnTo>
                      <a:lnTo>
                        <a:pt x="946" y="739"/>
                      </a:lnTo>
                      <a:lnTo>
                        <a:pt x="960" y="744"/>
                      </a:lnTo>
                      <a:lnTo>
                        <a:pt x="974" y="746"/>
                      </a:lnTo>
                      <a:lnTo>
                        <a:pt x="989" y="751"/>
                      </a:lnTo>
                      <a:lnTo>
                        <a:pt x="1005" y="756"/>
                      </a:lnTo>
                      <a:lnTo>
                        <a:pt x="1023" y="764"/>
                      </a:lnTo>
                      <a:lnTo>
                        <a:pt x="1037" y="769"/>
                      </a:lnTo>
                      <a:lnTo>
                        <a:pt x="1050" y="776"/>
                      </a:lnTo>
                      <a:lnTo>
                        <a:pt x="1061" y="782"/>
                      </a:lnTo>
                      <a:lnTo>
                        <a:pt x="1070" y="791"/>
                      </a:lnTo>
                      <a:lnTo>
                        <a:pt x="1072" y="799"/>
                      </a:lnTo>
                      <a:lnTo>
                        <a:pt x="1072" y="807"/>
                      </a:lnTo>
                      <a:lnTo>
                        <a:pt x="1067" y="816"/>
                      </a:lnTo>
                      <a:lnTo>
                        <a:pt x="1057" y="826"/>
                      </a:lnTo>
                      <a:lnTo>
                        <a:pt x="1037" y="833"/>
                      </a:lnTo>
                      <a:lnTo>
                        <a:pt x="1013" y="841"/>
                      </a:lnTo>
                      <a:lnTo>
                        <a:pt x="982" y="850"/>
                      </a:lnTo>
                      <a:lnTo>
                        <a:pt x="947" y="860"/>
                      </a:lnTo>
                      <a:lnTo>
                        <a:pt x="910" y="868"/>
                      </a:lnTo>
                      <a:lnTo>
                        <a:pt x="869" y="875"/>
                      </a:lnTo>
                      <a:lnTo>
                        <a:pt x="828" y="884"/>
                      </a:lnTo>
                      <a:lnTo>
                        <a:pt x="786" y="892"/>
                      </a:lnTo>
                      <a:lnTo>
                        <a:pt x="745" y="897"/>
                      </a:lnTo>
                      <a:lnTo>
                        <a:pt x="706" y="904"/>
                      </a:lnTo>
                      <a:lnTo>
                        <a:pt x="670" y="908"/>
                      </a:lnTo>
                      <a:lnTo>
                        <a:pt x="640" y="915"/>
                      </a:lnTo>
                      <a:lnTo>
                        <a:pt x="614" y="918"/>
                      </a:lnTo>
                      <a:lnTo>
                        <a:pt x="593" y="922"/>
                      </a:lnTo>
                      <a:lnTo>
                        <a:pt x="580" y="924"/>
                      </a:lnTo>
                      <a:lnTo>
                        <a:pt x="577" y="925"/>
                      </a:lnTo>
                      <a:lnTo>
                        <a:pt x="572" y="925"/>
                      </a:lnTo>
                      <a:lnTo>
                        <a:pt x="562" y="927"/>
                      </a:lnTo>
                      <a:lnTo>
                        <a:pt x="545" y="929"/>
                      </a:lnTo>
                      <a:lnTo>
                        <a:pt x="523" y="934"/>
                      </a:lnTo>
                      <a:lnTo>
                        <a:pt x="498" y="937"/>
                      </a:lnTo>
                      <a:lnTo>
                        <a:pt x="468" y="943"/>
                      </a:lnTo>
                      <a:lnTo>
                        <a:pt x="437" y="949"/>
                      </a:lnTo>
                      <a:lnTo>
                        <a:pt x="405" y="955"/>
                      </a:lnTo>
                      <a:lnTo>
                        <a:pt x="370" y="960"/>
                      </a:lnTo>
                      <a:lnTo>
                        <a:pt x="338" y="966"/>
                      </a:lnTo>
                      <a:lnTo>
                        <a:pt x="306" y="973"/>
                      </a:lnTo>
                      <a:lnTo>
                        <a:pt x="279" y="978"/>
                      </a:lnTo>
                      <a:lnTo>
                        <a:pt x="251" y="984"/>
                      </a:lnTo>
                      <a:lnTo>
                        <a:pt x="230" y="988"/>
                      </a:lnTo>
                      <a:lnTo>
                        <a:pt x="213" y="992"/>
                      </a:lnTo>
                      <a:lnTo>
                        <a:pt x="203" y="997"/>
                      </a:lnTo>
                      <a:lnTo>
                        <a:pt x="195" y="999"/>
                      </a:lnTo>
                      <a:lnTo>
                        <a:pt x="187" y="1001"/>
                      </a:lnTo>
                      <a:lnTo>
                        <a:pt x="179" y="1006"/>
                      </a:lnTo>
                      <a:lnTo>
                        <a:pt x="170" y="1011"/>
                      </a:lnTo>
                      <a:lnTo>
                        <a:pt x="161" y="1016"/>
                      </a:lnTo>
                      <a:lnTo>
                        <a:pt x="153" y="1022"/>
                      </a:lnTo>
                      <a:lnTo>
                        <a:pt x="144" y="1028"/>
                      </a:lnTo>
                      <a:lnTo>
                        <a:pt x="135" y="1035"/>
                      </a:lnTo>
                      <a:lnTo>
                        <a:pt x="126" y="1041"/>
                      </a:lnTo>
                      <a:lnTo>
                        <a:pt x="117" y="1047"/>
                      </a:lnTo>
                      <a:lnTo>
                        <a:pt x="110" y="1053"/>
                      </a:lnTo>
                      <a:lnTo>
                        <a:pt x="102" y="1060"/>
                      </a:lnTo>
                      <a:lnTo>
                        <a:pt x="94" y="1065"/>
                      </a:lnTo>
                      <a:lnTo>
                        <a:pt x="89" y="1071"/>
                      </a:lnTo>
                      <a:lnTo>
                        <a:pt x="82" y="1078"/>
                      </a:lnTo>
                      <a:lnTo>
                        <a:pt x="77" y="1083"/>
                      </a:lnTo>
                      <a:lnTo>
                        <a:pt x="80" y="1109"/>
                      </a:lnTo>
                      <a:lnTo>
                        <a:pt x="81" y="1104"/>
                      </a:lnTo>
                      <a:lnTo>
                        <a:pt x="89" y="1096"/>
                      </a:lnTo>
                      <a:lnTo>
                        <a:pt x="92" y="1090"/>
                      </a:lnTo>
                      <a:lnTo>
                        <a:pt x="98" y="1083"/>
                      </a:lnTo>
                      <a:lnTo>
                        <a:pt x="105" y="1077"/>
                      </a:lnTo>
                      <a:lnTo>
                        <a:pt x="114" y="1070"/>
                      </a:lnTo>
                      <a:lnTo>
                        <a:pt x="122" y="1060"/>
                      </a:lnTo>
                      <a:lnTo>
                        <a:pt x="133" y="1052"/>
                      </a:lnTo>
                      <a:lnTo>
                        <a:pt x="143" y="1044"/>
                      </a:lnTo>
                      <a:lnTo>
                        <a:pt x="156" y="1037"/>
                      </a:lnTo>
                      <a:lnTo>
                        <a:pt x="168" y="1029"/>
                      </a:lnTo>
                      <a:lnTo>
                        <a:pt x="181" y="1023"/>
                      </a:lnTo>
                      <a:lnTo>
                        <a:pt x="196" y="1016"/>
                      </a:lnTo>
                      <a:lnTo>
                        <a:pt x="212" y="1011"/>
                      </a:lnTo>
                      <a:lnTo>
                        <a:pt x="234" y="1005"/>
                      </a:lnTo>
                      <a:lnTo>
                        <a:pt x="270" y="998"/>
                      </a:lnTo>
                      <a:lnTo>
                        <a:pt x="316" y="988"/>
                      </a:lnTo>
                      <a:lnTo>
                        <a:pt x="373" y="977"/>
                      </a:lnTo>
                      <a:lnTo>
                        <a:pt x="433" y="965"/>
                      </a:lnTo>
                      <a:lnTo>
                        <a:pt x="501" y="954"/>
                      </a:lnTo>
                      <a:lnTo>
                        <a:pt x="572" y="941"/>
                      </a:lnTo>
                      <a:lnTo>
                        <a:pt x="645" y="928"/>
                      </a:lnTo>
                      <a:lnTo>
                        <a:pt x="714" y="915"/>
                      </a:lnTo>
                      <a:lnTo>
                        <a:pt x="783" y="903"/>
                      </a:lnTo>
                      <a:lnTo>
                        <a:pt x="846" y="891"/>
                      </a:lnTo>
                      <a:lnTo>
                        <a:pt x="903" y="882"/>
                      </a:lnTo>
                      <a:lnTo>
                        <a:pt x="952" y="872"/>
                      </a:lnTo>
                      <a:lnTo>
                        <a:pt x="991" y="865"/>
                      </a:lnTo>
                      <a:lnTo>
                        <a:pt x="1016" y="861"/>
                      </a:lnTo>
                      <a:lnTo>
                        <a:pt x="1029" y="859"/>
                      </a:lnTo>
                      <a:lnTo>
                        <a:pt x="1035" y="855"/>
                      </a:lnTo>
                      <a:lnTo>
                        <a:pt x="1041" y="852"/>
                      </a:lnTo>
                      <a:lnTo>
                        <a:pt x="1049" y="848"/>
                      </a:lnTo>
                      <a:lnTo>
                        <a:pt x="1059" y="843"/>
                      </a:lnTo>
                      <a:lnTo>
                        <a:pt x="1067" y="838"/>
                      </a:lnTo>
                      <a:lnTo>
                        <a:pt x="1076" y="831"/>
                      </a:lnTo>
                      <a:lnTo>
                        <a:pt x="1082" y="824"/>
                      </a:lnTo>
                      <a:lnTo>
                        <a:pt x="1088" y="817"/>
                      </a:lnTo>
                      <a:lnTo>
                        <a:pt x="1090" y="808"/>
                      </a:lnTo>
                      <a:lnTo>
                        <a:pt x="1089" y="799"/>
                      </a:lnTo>
                      <a:lnTo>
                        <a:pt x="1085" y="789"/>
                      </a:lnTo>
                      <a:lnTo>
                        <a:pt x="1077" y="780"/>
                      </a:lnTo>
                      <a:lnTo>
                        <a:pt x="1062" y="768"/>
                      </a:lnTo>
                      <a:lnTo>
                        <a:pt x="1045" y="758"/>
                      </a:lnTo>
                      <a:lnTo>
                        <a:pt x="1020" y="747"/>
                      </a:lnTo>
                      <a:lnTo>
                        <a:pt x="991" y="736"/>
                      </a:lnTo>
                      <a:lnTo>
                        <a:pt x="985" y="735"/>
                      </a:lnTo>
                      <a:lnTo>
                        <a:pt x="974" y="734"/>
                      </a:lnTo>
                      <a:lnTo>
                        <a:pt x="955" y="729"/>
                      </a:lnTo>
                      <a:lnTo>
                        <a:pt x="931" y="726"/>
                      </a:lnTo>
                      <a:lnTo>
                        <a:pt x="900" y="721"/>
                      </a:lnTo>
                      <a:lnTo>
                        <a:pt x="865" y="715"/>
                      </a:lnTo>
                      <a:lnTo>
                        <a:pt x="826" y="709"/>
                      </a:lnTo>
                      <a:lnTo>
                        <a:pt x="785" y="704"/>
                      </a:lnTo>
                      <a:lnTo>
                        <a:pt x="740" y="698"/>
                      </a:lnTo>
                      <a:lnTo>
                        <a:pt x="692" y="692"/>
                      </a:lnTo>
                      <a:lnTo>
                        <a:pt x="642" y="686"/>
                      </a:lnTo>
                      <a:lnTo>
                        <a:pt x="594" y="681"/>
                      </a:lnTo>
                      <a:lnTo>
                        <a:pt x="545" y="675"/>
                      </a:lnTo>
                      <a:lnTo>
                        <a:pt x="496" y="673"/>
                      </a:lnTo>
                      <a:lnTo>
                        <a:pt x="449" y="670"/>
                      </a:lnTo>
                      <a:lnTo>
                        <a:pt x="406" y="670"/>
                      </a:lnTo>
                      <a:lnTo>
                        <a:pt x="400" y="669"/>
                      </a:lnTo>
                      <a:lnTo>
                        <a:pt x="389" y="669"/>
                      </a:lnTo>
                      <a:lnTo>
                        <a:pt x="372" y="667"/>
                      </a:lnTo>
                      <a:lnTo>
                        <a:pt x="348" y="666"/>
                      </a:lnTo>
                      <a:lnTo>
                        <a:pt x="320" y="664"/>
                      </a:lnTo>
                      <a:lnTo>
                        <a:pt x="290" y="661"/>
                      </a:lnTo>
                      <a:lnTo>
                        <a:pt x="255" y="656"/>
                      </a:lnTo>
                      <a:lnTo>
                        <a:pt x="222" y="652"/>
                      </a:lnTo>
                      <a:lnTo>
                        <a:pt x="187" y="644"/>
                      </a:lnTo>
                      <a:lnTo>
                        <a:pt x="153" y="635"/>
                      </a:lnTo>
                      <a:lnTo>
                        <a:pt x="121" y="625"/>
                      </a:lnTo>
                      <a:lnTo>
                        <a:pt x="91" y="613"/>
                      </a:lnTo>
                      <a:lnTo>
                        <a:pt x="65" y="598"/>
                      </a:lnTo>
                      <a:lnTo>
                        <a:pt x="44" y="581"/>
                      </a:lnTo>
                      <a:lnTo>
                        <a:pt x="30" y="560"/>
                      </a:lnTo>
                      <a:lnTo>
                        <a:pt x="22" y="539"/>
                      </a:lnTo>
                      <a:lnTo>
                        <a:pt x="20" y="515"/>
                      </a:lnTo>
                      <a:lnTo>
                        <a:pt x="20" y="494"/>
                      </a:lnTo>
                      <a:lnTo>
                        <a:pt x="26" y="474"/>
                      </a:lnTo>
                      <a:lnTo>
                        <a:pt x="33" y="455"/>
                      </a:lnTo>
                      <a:lnTo>
                        <a:pt x="43" y="438"/>
                      </a:lnTo>
                      <a:lnTo>
                        <a:pt x="54" y="421"/>
                      </a:lnTo>
                      <a:lnTo>
                        <a:pt x="69" y="407"/>
                      </a:lnTo>
                      <a:lnTo>
                        <a:pt x="84" y="394"/>
                      </a:lnTo>
                      <a:lnTo>
                        <a:pt x="100" y="381"/>
                      </a:lnTo>
                      <a:lnTo>
                        <a:pt x="115" y="371"/>
                      </a:lnTo>
                      <a:lnTo>
                        <a:pt x="131" y="361"/>
                      </a:lnTo>
                      <a:lnTo>
                        <a:pt x="146" y="353"/>
                      </a:lnTo>
                      <a:lnTo>
                        <a:pt x="160" y="347"/>
                      </a:lnTo>
                      <a:lnTo>
                        <a:pt x="174" y="341"/>
                      </a:lnTo>
                      <a:lnTo>
                        <a:pt x="185" y="338"/>
                      </a:lnTo>
                      <a:lnTo>
                        <a:pt x="194" y="337"/>
                      </a:lnTo>
                      <a:lnTo>
                        <a:pt x="203" y="334"/>
                      </a:lnTo>
                      <a:lnTo>
                        <a:pt x="221" y="330"/>
                      </a:lnTo>
                      <a:lnTo>
                        <a:pt x="243" y="326"/>
                      </a:lnTo>
                      <a:lnTo>
                        <a:pt x="271" y="320"/>
                      </a:lnTo>
                      <a:lnTo>
                        <a:pt x="301" y="315"/>
                      </a:lnTo>
                      <a:lnTo>
                        <a:pt x="334" y="308"/>
                      </a:lnTo>
                      <a:lnTo>
                        <a:pt x="368" y="302"/>
                      </a:lnTo>
                      <a:lnTo>
                        <a:pt x="404" y="295"/>
                      </a:lnTo>
                      <a:lnTo>
                        <a:pt x="437" y="288"/>
                      </a:lnTo>
                      <a:lnTo>
                        <a:pt x="470" y="282"/>
                      </a:lnTo>
                      <a:lnTo>
                        <a:pt x="500" y="275"/>
                      </a:lnTo>
                      <a:lnTo>
                        <a:pt x="529" y="271"/>
                      </a:lnTo>
                      <a:lnTo>
                        <a:pt x="552" y="266"/>
                      </a:lnTo>
                      <a:lnTo>
                        <a:pt x="568" y="263"/>
                      </a:lnTo>
                      <a:lnTo>
                        <a:pt x="580" y="261"/>
                      </a:lnTo>
                      <a:lnTo>
                        <a:pt x="585" y="261"/>
                      </a:lnTo>
                      <a:lnTo>
                        <a:pt x="587" y="260"/>
                      </a:lnTo>
                      <a:lnTo>
                        <a:pt x="593" y="258"/>
                      </a:lnTo>
                      <a:lnTo>
                        <a:pt x="603" y="256"/>
                      </a:lnTo>
                      <a:lnTo>
                        <a:pt x="615" y="254"/>
                      </a:lnTo>
                      <a:lnTo>
                        <a:pt x="629" y="248"/>
                      </a:lnTo>
                      <a:lnTo>
                        <a:pt x="647" y="244"/>
                      </a:lnTo>
                      <a:lnTo>
                        <a:pt x="664" y="237"/>
                      </a:lnTo>
                      <a:lnTo>
                        <a:pt x="683" y="232"/>
                      </a:lnTo>
                      <a:lnTo>
                        <a:pt x="702" y="223"/>
                      </a:lnTo>
                      <a:lnTo>
                        <a:pt x="720" y="213"/>
                      </a:lnTo>
                      <a:lnTo>
                        <a:pt x="736" y="202"/>
                      </a:lnTo>
                      <a:lnTo>
                        <a:pt x="752" y="191"/>
                      </a:lnTo>
                      <a:lnTo>
                        <a:pt x="764" y="178"/>
                      </a:lnTo>
                      <a:lnTo>
                        <a:pt x="774" y="164"/>
                      </a:lnTo>
                      <a:lnTo>
                        <a:pt x="781" y="149"/>
                      </a:lnTo>
                      <a:lnTo>
                        <a:pt x="784" y="132"/>
                      </a:lnTo>
                      <a:lnTo>
                        <a:pt x="781" y="115"/>
                      </a:lnTo>
                      <a:lnTo>
                        <a:pt x="775" y="100"/>
                      </a:lnTo>
                      <a:lnTo>
                        <a:pt x="767" y="87"/>
                      </a:lnTo>
                      <a:lnTo>
                        <a:pt x="758" y="77"/>
                      </a:lnTo>
                      <a:lnTo>
                        <a:pt x="746" y="67"/>
                      </a:lnTo>
                      <a:lnTo>
                        <a:pt x="734" y="61"/>
                      </a:lnTo>
                      <a:lnTo>
                        <a:pt x="721" y="54"/>
                      </a:lnTo>
                      <a:lnTo>
                        <a:pt x="708" y="51"/>
                      </a:lnTo>
                      <a:lnTo>
                        <a:pt x="694" y="46"/>
                      </a:lnTo>
                      <a:lnTo>
                        <a:pt x="681" y="43"/>
                      </a:lnTo>
                      <a:lnTo>
                        <a:pt x="669" y="41"/>
                      </a:lnTo>
                      <a:lnTo>
                        <a:pt x="659" y="39"/>
                      </a:lnTo>
                      <a:lnTo>
                        <a:pt x="648" y="38"/>
                      </a:lnTo>
                      <a:lnTo>
                        <a:pt x="641" y="38"/>
                      </a:lnTo>
                      <a:lnTo>
                        <a:pt x="637" y="38"/>
                      </a:lnTo>
                      <a:lnTo>
                        <a:pt x="637" y="39"/>
                      </a:lnTo>
                      <a:lnTo>
                        <a:pt x="140" y="31"/>
                      </a:lnTo>
                      <a:lnTo>
                        <a:pt x="157" y="13"/>
                      </a:lnTo>
                      <a:lnTo>
                        <a:pt x="161" y="12"/>
                      </a:lnTo>
                      <a:lnTo>
                        <a:pt x="180" y="11"/>
                      </a:lnTo>
                      <a:lnTo>
                        <a:pt x="208" y="10"/>
                      </a:lnTo>
                      <a:lnTo>
                        <a:pt x="245" y="10"/>
                      </a:lnTo>
                      <a:lnTo>
                        <a:pt x="288" y="9"/>
                      </a:lnTo>
                      <a:lnTo>
                        <a:pt x="337" y="7"/>
                      </a:lnTo>
                      <a:lnTo>
                        <a:pt x="390" y="7"/>
                      </a:lnTo>
                      <a:lnTo>
                        <a:pt x="447" y="9"/>
                      </a:lnTo>
                      <a:lnTo>
                        <a:pt x="502" y="9"/>
                      </a:lnTo>
                      <a:lnTo>
                        <a:pt x="557" y="10"/>
                      </a:lnTo>
                      <a:lnTo>
                        <a:pt x="610" y="11"/>
                      </a:lnTo>
                      <a:lnTo>
                        <a:pt x="660" y="14"/>
                      </a:lnTo>
                      <a:lnTo>
                        <a:pt x="704" y="16"/>
                      </a:lnTo>
                      <a:lnTo>
                        <a:pt x="741" y="22"/>
                      </a:lnTo>
                      <a:lnTo>
                        <a:pt x="770" y="27"/>
                      </a:lnTo>
                      <a:lnTo>
                        <a:pt x="789" y="36"/>
                      </a:lnTo>
                      <a:lnTo>
                        <a:pt x="800" y="44"/>
                      </a:lnTo>
                      <a:lnTo>
                        <a:pt x="812" y="53"/>
                      </a:lnTo>
                      <a:lnTo>
                        <a:pt x="819" y="63"/>
                      </a:lnTo>
                      <a:lnTo>
                        <a:pt x="828" y="75"/>
                      </a:lnTo>
                      <a:lnTo>
                        <a:pt x="833" y="86"/>
                      </a:lnTo>
                      <a:lnTo>
                        <a:pt x="836" y="99"/>
                      </a:lnTo>
                      <a:lnTo>
                        <a:pt x="838" y="112"/>
                      </a:lnTo>
                      <a:lnTo>
                        <a:pt x="839" y="127"/>
                      </a:lnTo>
                      <a:lnTo>
                        <a:pt x="836" y="140"/>
                      </a:lnTo>
                      <a:lnTo>
                        <a:pt x="831" y="153"/>
                      </a:lnTo>
                      <a:lnTo>
                        <a:pt x="826" y="167"/>
                      </a:lnTo>
                      <a:lnTo>
                        <a:pt x="819" y="181"/>
                      </a:lnTo>
                      <a:lnTo>
                        <a:pt x="808" y="194"/>
                      </a:lnTo>
                      <a:lnTo>
                        <a:pt x="797" y="208"/>
                      </a:lnTo>
                      <a:lnTo>
                        <a:pt x="782" y="220"/>
                      </a:lnTo>
                      <a:lnTo>
                        <a:pt x="766" y="233"/>
                      </a:lnTo>
                      <a:lnTo>
                        <a:pt x="746" y="244"/>
                      </a:lnTo>
                      <a:lnTo>
                        <a:pt x="724" y="256"/>
                      </a:lnTo>
                      <a:lnTo>
                        <a:pt x="698" y="268"/>
                      </a:lnTo>
                      <a:lnTo>
                        <a:pt x="671" y="281"/>
                      </a:lnTo>
                      <a:lnTo>
                        <a:pt x="642" y="290"/>
                      </a:lnTo>
                      <a:lnTo>
                        <a:pt x="614" y="302"/>
                      </a:lnTo>
                      <a:lnTo>
                        <a:pt x="583" y="311"/>
                      </a:lnTo>
                      <a:lnTo>
                        <a:pt x="555" y="321"/>
                      </a:lnTo>
                      <a:lnTo>
                        <a:pt x="525" y="329"/>
                      </a:lnTo>
                      <a:lnTo>
                        <a:pt x="500" y="338"/>
                      </a:lnTo>
                      <a:lnTo>
                        <a:pt x="477" y="344"/>
                      </a:lnTo>
                      <a:lnTo>
                        <a:pt x="454" y="351"/>
                      </a:lnTo>
                      <a:lnTo>
                        <a:pt x="437" y="356"/>
                      </a:lnTo>
                      <a:lnTo>
                        <a:pt x="425" y="360"/>
                      </a:lnTo>
                      <a:lnTo>
                        <a:pt x="416" y="362"/>
                      </a:lnTo>
                      <a:lnTo>
                        <a:pt x="414" y="362"/>
                      </a:lnTo>
                      <a:lnTo>
                        <a:pt x="410" y="362"/>
                      </a:lnTo>
                      <a:lnTo>
                        <a:pt x="404" y="362"/>
                      </a:lnTo>
                      <a:lnTo>
                        <a:pt x="391" y="363"/>
                      </a:lnTo>
                      <a:lnTo>
                        <a:pt x="377" y="367"/>
                      </a:lnTo>
                      <a:lnTo>
                        <a:pt x="359" y="370"/>
                      </a:lnTo>
                      <a:lnTo>
                        <a:pt x="341" y="373"/>
                      </a:lnTo>
                      <a:lnTo>
                        <a:pt x="320" y="378"/>
                      </a:lnTo>
                      <a:lnTo>
                        <a:pt x="299" y="386"/>
                      </a:lnTo>
                      <a:lnTo>
                        <a:pt x="275" y="391"/>
                      </a:lnTo>
                      <a:lnTo>
                        <a:pt x="254" y="399"/>
                      </a:lnTo>
                      <a:lnTo>
                        <a:pt x="233" y="409"/>
                      </a:lnTo>
                      <a:lnTo>
                        <a:pt x="216" y="420"/>
                      </a:lnTo>
                      <a:lnTo>
                        <a:pt x="199" y="431"/>
                      </a:lnTo>
                      <a:lnTo>
                        <a:pt x="186" y="444"/>
                      </a:lnTo>
                      <a:lnTo>
                        <a:pt x="176" y="460"/>
                      </a:lnTo>
                      <a:lnTo>
                        <a:pt x="170" y="477"/>
                      </a:lnTo>
                      <a:lnTo>
                        <a:pt x="168" y="492"/>
                      </a:lnTo>
                      <a:lnTo>
                        <a:pt x="170" y="507"/>
                      </a:lnTo>
                      <a:lnTo>
                        <a:pt x="177" y="519"/>
                      </a:lnTo>
                      <a:lnTo>
                        <a:pt x="186" y="531"/>
                      </a:lnTo>
                      <a:lnTo>
                        <a:pt x="196" y="540"/>
                      </a:lnTo>
                      <a:lnTo>
                        <a:pt x="209" y="550"/>
                      </a:lnTo>
                      <a:lnTo>
                        <a:pt x="224" y="558"/>
                      </a:lnTo>
                      <a:lnTo>
                        <a:pt x="239" y="565"/>
                      </a:lnTo>
                      <a:lnTo>
                        <a:pt x="254" y="570"/>
                      </a:lnTo>
                      <a:lnTo>
                        <a:pt x="270" y="573"/>
                      </a:lnTo>
                      <a:lnTo>
                        <a:pt x="283" y="577"/>
                      </a:lnTo>
                      <a:lnTo>
                        <a:pt x="296" y="581"/>
                      </a:lnTo>
                      <a:lnTo>
                        <a:pt x="306" y="582"/>
                      </a:lnTo>
                      <a:lnTo>
                        <a:pt x="316" y="583"/>
                      </a:lnTo>
                      <a:lnTo>
                        <a:pt x="321" y="583"/>
                      </a:lnTo>
                      <a:lnTo>
                        <a:pt x="324" y="585"/>
                      </a:lnTo>
                      <a:lnTo>
                        <a:pt x="933" y="633"/>
                      </a:lnTo>
                      <a:lnTo>
                        <a:pt x="935" y="633"/>
                      </a:lnTo>
                      <a:lnTo>
                        <a:pt x="946" y="634"/>
                      </a:lnTo>
                      <a:lnTo>
                        <a:pt x="963" y="635"/>
                      </a:lnTo>
                      <a:lnTo>
                        <a:pt x="985" y="639"/>
                      </a:lnTo>
                      <a:lnTo>
                        <a:pt x="1011" y="641"/>
                      </a:lnTo>
                      <a:lnTo>
                        <a:pt x="1040" y="645"/>
                      </a:lnTo>
                      <a:lnTo>
                        <a:pt x="1071" y="651"/>
                      </a:lnTo>
                      <a:lnTo>
                        <a:pt x="1106" y="656"/>
                      </a:lnTo>
                      <a:lnTo>
                        <a:pt x="1139" y="662"/>
                      </a:lnTo>
                      <a:lnTo>
                        <a:pt x="1172" y="669"/>
                      </a:lnTo>
                      <a:lnTo>
                        <a:pt x="1204" y="675"/>
                      </a:lnTo>
                      <a:lnTo>
                        <a:pt x="1234" y="684"/>
                      </a:lnTo>
                      <a:lnTo>
                        <a:pt x="1259" y="692"/>
                      </a:lnTo>
                      <a:lnTo>
                        <a:pt x="1282" y="701"/>
                      </a:lnTo>
                      <a:lnTo>
                        <a:pt x="1300" y="711"/>
                      </a:lnTo>
                      <a:lnTo>
                        <a:pt x="1312" y="723"/>
                      </a:lnTo>
                      <a:lnTo>
                        <a:pt x="1320" y="733"/>
                      </a:lnTo>
                      <a:lnTo>
                        <a:pt x="1327" y="745"/>
                      </a:lnTo>
                      <a:lnTo>
                        <a:pt x="1332" y="756"/>
                      </a:lnTo>
                      <a:lnTo>
                        <a:pt x="1338" y="769"/>
                      </a:lnTo>
                      <a:lnTo>
                        <a:pt x="1341" y="781"/>
                      </a:lnTo>
                      <a:lnTo>
                        <a:pt x="1344" y="796"/>
                      </a:lnTo>
                      <a:lnTo>
                        <a:pt x="1344" y="809"/>
                      </a:lnTo>
                      <a:lnTo>
                        <a:pt x="1345" y="823"/>
                      </a:lnTo>
                      <a:lnTo>
                        <a:pt x="1343" y="836"/>
                      </a:lnTo>
                      <a:lnTo>
                        <a:pt x="1340" y="848"/>
                      </a:lnTo>
                      <a:lnTo>
                        <a:pt x="1334" y="859"/>
                      </a:lnTo>
                      <a:lnTo>
                        <a:pt x="1329" y="871"/>
                      </a:lnTo>
                      <a:lnTo>
                        <a:pt x="1320" y="881"/>
                      </a:lnTo>
                      <a:lnTo>
                        <a:pt x="1310" y="891"/>
                      </a:lnTo>
                      <a:lnTo>
                        <a:pt x="1299" y="899"/>
                      </a:lnTo>
                      <a:lnTo>
                        <a:pt x="1287" y="907"/>
                      </a:lnTo>
                      <a:lnTo>
                        <a:pt x="1269" y="913"/>
                      </a:lnTo>
                      <a:lnTo>
                        <a:pt x="1249" y="918"/>
                      </a:lnTo>
                      <a:lnTo>
                        <a:pt x="1227" y="925"/>
                      </a:lnTo>
                      <a:lnTo>
                        <a:pt x="1204" y="932"/>
                      </a:lnTo>
                      <a:lnTo>
                        <a:pt x="1177" y="937"/>
                      </a:lnTo>
                      <a:lnTo>
                        <a:pt x="1152" y="943"/>
                      </a:lnTo>
                      <a:lnTo>
                        <a:pt x="1125" y="948"/>
                      </a:lnTo>
                      <a:lnTo>
                        <a:pt x="1101" y="954"/>
                      </a:lnTo>
                      <a:lnTo>
                        <a:pt x="1075" y="958"/>
                      </a:lnTo>
                      <a:lnTo>
                        <a:pt x="1051" y="963"/>
                      </a:lnTo>
                      <a:lnTo>
                        <a:pt x="1030" y="965"/>
                      </a:lnTo>
                      <a:lnTo>
                        <a:pt x="1013" y="969"/>
                      </a:lnTo>
                      <a:lnTo>
                        <a:pt x="997" y="971"/>
                      </a:lnTo>
                      <a:lnTo>
                        <a:pt x="985" y="974"/>
                      </a:lnTo>
                      <a:lnTo>
                        <a:pt x="978" y="975"/>
                      </a:lnTo>
                      <a:lnTo>
                        <a:pt x="976" y="976"/>
                      </a:lnTo>
                      <a:lnTo>
                        <a:pt x="269" y="1137"/>
                      </a:lnTo>
                      <a:lnTo>
                        <a:pt x="264" y="1137"/>
                      </a:lnTo>
                      <a:lnTo>
                        <a:pt x="259" y="1142"/>
                      </a:lnTo>
                      <a:lnTo>
                        <a:pt x="255" y="1145"/>
                      </a:lnTo>
                      <a:lnTo>
                        <a:pt x="254" y="1151"/>
                      </a:lnTo>
                      <a:lnTo>
                        <a:pt x="254" y="1158"/>
                      </a:lnTo>
                      <a:lnTo>
                        <a:pt x="258" y="1168"/>
                      </a:lnTo>
                      <a:lnTo>
                        <a:pt x="260" y="1173"/>
                      </a:lnTo>
                      <a:lnTo>
                        <a:pt x="264" y="1177"/>
                      </a:lnTo>
                      <a:lnTo>
                        <a:pt x="271" y="1182"/>
                      </a:lnTo>
                      <a:lnTo>
                        <a:pt x="281" y="1185"/>
                      </a:lnTo>
                      <a:lnTo>
                        <a:pt x="290" y="1188"/>
                      </a:lnTo>
                      <a:lnTo>
                        <a:pt x="301" y="1191"/>
                      </a:lnTo>
                      <a:lnTo>
                        <a:pt x="312" y="1195"/>
                      </a:lnTo>
                      <a:lnTo>
                        <a:pt x="324" y="1197"/>
                      </a:lnTo>
                      <a:lnTo>
                        <a:pt x="334" y="1198"/>
                      </a:lnTo>
                      <a:lnTo>
                        <a:pt x="345" y="1200"/>
                      </a:lnTo>
                      <a:lnTo>
                        <a:pt x="354" y="1201"/>
                      </a:lnTo>
                      <a:lnTo>
                        <a:pt x="364" y="1204"/>
                      </a:lnTo>
                      <a:lnTo>
                        <a:pt x="372" y="1205"/>
                      </a:lnTo>
                      <a:lnTo>
                        <a:pt x="377" y="1206"/>
                      </a:lnTo>
                      <a:lnTo>
                        <a:pt x="381" y="1206"/>
                      </a:lnTo>
                      <a:lnTo>
                        <a:pt x="384" y="1207"/>
                      </a:lnTo>
                      <a:lnTo>
                        <a:pt x="1024" y="1191"/>
                      </a:lnTo>
                      <a:lnTo>
                        <a:pt x="1869" y="1030"/>
                      </a:lnTo>
                      <a:lnTo>
                        <a:pt x="1883" y="999"/>
                      </a:lnTo>
                      <a:lnTo>
                        <a:pt x="1873" y="1000"/>
                      </a:lnTo>
                      <a:lnTo>
                        <a:pt x="1848" y="1006"/>
                      </a:lnTo>
                      <a:lnTo>
                        <a:pt x="1811" y="1014"/>
                      </a:lnTo>
                      <a:lnTo>
                        <a:pt x="1761" y="1025"/>
                      </a:lnTo>
                      <a:lnTo>
                        <a:pt x="1701" y="1037"/>
                      </a:lnTo>
                      <a:lnTo>
                        <a:pt x="1636" y="1052"/>
                      </a:lnTo>
                      <a:lnTo>
                        <a:pt x="1564" y="1068"/>
                      </a:lnTo>
                      <a:lnTo>
                        <a:pt x="1490" y="1084"/>
                      </a:lnTo>
                      <a:lnTo>
                        <a:pt x="1413" y="1100"/>
                      </a:lnTo>
                      <a:lnTo>
                        <a:pt x="1338" y="1116"/>
                      </a:lnTo>
                      <a:lnTo>
                        <a:pt x="1265" y="1130"/>
                      </a:lnTo>
                      <a:lnTo>
                        <a:pt x="1198" y="1144"/>
                      </a:lnTo>
                      <a:lnTo>
                        <a:pt x="1139" y="1154"/>
                      </a:lnTo>
                      <a:lnTo>
                        <a:pt x="1088" y="1163"/>
                      </a:lnTo>
                      <a:lnTo>
                        <a:pt x="1048" y="1169"/>
                      </a:lnTo>
                      <a:lnTo>
                        <a:pt x="1024" y="1173"/>
                      </a:lnTo>
                      <a:lnTo>
                        <a:pt x="999" y="1173"/>
                      </a:lnTo>
                      <a:lnTo>
                        <a:pt x="967" y="1173"/>
                      </a:lnTo>
                      <a:lnTo>
                        <a:pt x="928" y="1174"/>
                      </a:lnTo>
                      <a:lnTo>
                        <a:pt x="883" y="1175"/>
                      </a:lnTo>
                      <a:lnTo>
                        <a:pt x="831" y="1176"/>
                      </a:lnTo>
                      <a:lnTo>
                        <a:pt x="778" y="1178"/>
                      </a:lnTo>
                      <a:lnTo>
                        <a:pt x="722" y="1180"/>
                      </a:lnTo>
                      <a:lnTo>
                        <a:pt x="667" y="1183"/>
                      </a:lnTo>
                      <a:lnTo>
                        <a:pt x="609" y="1184"/>
                      </a:lnTo>
                      <a:lnTo>
                        <a:pt x="554" y="1185"/>
                      </a:lnTo>
                      <a:lnTo>
                        <a:pt x="500" y="1185"/>
                      </a:lnTo>
                      <a:lnTo>
                        <a:pt x="453" y="1185"/>
                      </a:lnTo>
                      <a:lnTo>
                        <a:pt x="408" y="1185"/>
                      </a:lnTo>
                      <a:lnTo>
                        <a:pt x="373" y="1185"/>
                      </a:lnTo>
                      <a:lnTo>
                        <a:pt x="343" y="1183"/>
                      </a:lnTo>
                      <a:lnTo>
                        <a:pt x="324" y="1180"/>
                      </a:lnTo>
                      <a:lnTo>
                        <a:pt x="309" y="1176"/>
                      </a:lnTo>
                      <a:lnTo>
                        <a:pt x="297" y="1174"/>
                      </a:lnTo>
                      <a:lnTo>
                        <a:pt x="289" y="1169"/>
                      </a:lnTo>
                      <a:lnTo>
                        <a:pt x="283" y="1166"/>
                      </a:lnTo>
                      <a:lnTo>
                        <a:pt x="275" y="1161"/>
                      </a:lnTo>
                      <a:lnTo>
                        <a:pt x="274" y="1155"/>
                      </a:lnTo>
                      <a:lnTo>
                        <a:pt x="275" y="1149"/>
                      </a:lnTo>
                      <a:lnTo>
                        <a:pt x="281" y="1146"/>
                      </a:lnTo>
                      <a:lnTo>
                        <a:pt x="284" y="1144"/>
                      </a:lnTo>
                      <a:lnTo>
                        <a:pt x="286" y="1144"/>
                      </a:lnTo>
                      <a:lnTo>
                        <a:pt x="1187" y="970"/>
                      </a:lnTo>
                      <a:lnTo>
                        <a:pt x="1188" y="969"/>
                      </a:lnTo>
                      <a:lnTo>
                        <a:pt x="1195" y="969"/>
                      </a:lnTo>
                      <a:lnTo>
                        <a:pt x="1203" y="967"/>
                      </a:lnTo>
                      <a:lnTo>
                        <a:pt x="1215" y="965"/>
                      </a:lnTo>
                      <a:lnTo>
                        <a:pt x="1228" y="962"/>
                      </a:lnTo>
                      <a:lnTo>
                        <a:pt x="1243" y="958"/>
                      </a:lnTo>
                      <a:lnTo>
                        <a:pt x="1259" y="953"/>
                      </a:lnTo>
                      <a:lnTo>
                        <a:pt x="1277" y="946"/>
                      </a:lnTo>
                      <a:lnTo>
                        <a:pt x="1292" y="936"/>
                      </a:lnTo>
                      <a:lnTo>
                        <a:pt x="1309" y="926"/>
                      </a:lnTo>
                      <a:lnTo>
                        <a:pt x="1322" y="913"/>
                      </a:lnTo>
                      <a:lnTo>
                        <a:pt x="1338" y="900"/>
                      </a:lnTo>
                      <a:lnTo>
                        <a:pt x="1349" y="882"/>
                      </a:lnTo>
                      <a:lnTo>
                        <a:pt x="1358" y="862"/>
                      </a:lnTo>
                      <a:lnTo>
                        <a:pt x="1363" y="841"/>
                      </a:lnTo>
                      <a:lnTo>
                        <a:pt x="1366" y="817"/>
                      </a:lnTo>
                      <a:lnTo>
                        <a:pt x="1364" y="791"/>
                      </a:lnTo>
                      <a:lnTo>
                        <a:pt x="1359" y="769"/>
                      </a:lnTo>
                      <a:lnTo>
                        <a:pt x="1350" y="750"/>
                      </a:lnTo>
                      <a:lnTo>
                        <a:pt x="1341" y="734"/>
                      </a:lnTo>
                      <a:lnTo>
                        <a:pt x="1328" y="718"/>
                      </a:lnTo>
                      <a:lnTo>
                        <a:pt x="1315" y="706"/>
                      </a:lnTo>
                      <a:lnTo>
                        <a:pt x="1299" y="696"/>
                      </a:lnTo>
                      <a:lnTo>
                        <a:pt x="1286" y="687"/>
                      </a:lnTo>
                      <a:lnTo>
                        <a:pt x="1270" y="680"/>
                      </a:lnTo>
                      <a:lnTo>
                        <a:pt x="1255" y="675"/>
                      </a:lnTo>
                      <a:lnTo>
                        <a:pt x="1242" y="670"/>
                      </a:lnTo>
                      <a:lnTo>
                        <a:pt x="1230" y="667"/>
                      </a:lnTo>
                      <a:lnTo>
                        <a:pt x="1218" y="664"/>
                      </a:lnTo>
                      <a:lnTo>
                        <a:pt x="1211" y="664"/>
                      </a:lnTo>
                      <a:lnTo>
                        <a:pt x="1206" y="664"/>
                      </a:lnTo>
                      <a:lnTo>
                        <a:pt x="1205" y="664"/>
                      </a:lnTo>
                      <a:lnTo>
                        <a:pt x="1202" y="663"/>
                      </a:lnTo>
                      <a:lnTo>
                        <a:pt x="1196" y="661"/>
                      </a:lnTo>
                      <a:lnTo>
                        <a:pt x="1184" y="658"/>
                      </a:lnTo>
                      <a:lnTo>
                        <a:pt x="1170" y="655"/>
                      </a:lnTo>
                      <a:lnTo>
                        <a:pt x="1151" y="651"/>
                      </a:lnTo>
                      <a:lnTo>
                        <a:pt x="1129" y="646"/>
                      </a:lnTo>
                      <a:lnTo>
                        <a:pt x="1101" y="641"/>
                      </a:lnTo>
                      <a:lnTo>
                        <a:pt x="1071" y="638"/>
                      </a:lnTo>
                      <a:lnTo>
                        <a:pt x="1037" y="631"/>
                      </a:lnTo>
                      <a:lnTo>
                        <a:pt x="1001" y="627"/>
                      </a:lnTo>
                      <a:lnTo>
                        <a:pt x="960" y="621"/>
                      </a:lnTo>
                      <a:lnTo>
                        <a:pt x="918" y="618"/>
                      </a:lnTo>
                      <a:lnTo>
                        <a:pt x="871" y="612"/>
                      </a:lnTo>
                      <a:lnTo>
                        <a:pt x="821" y="608"/>
                      </a:lnTo>
                      <a:lnTo>
                        <a:pt x="771" y="606"/>
                      </a:lnTo>
                      <a:lnTo>
                        <a:pt x="716" y="603"/>
                      </a:lnTo>
                      <a:lnTo>
                        <a:pt x="661" y="599"/>
                      </a:lnTo>
                      <a:lnTo>
                        <a:pt x="610" y="596"/>
                      </a:lnTo>
                      <a:lnTo>
                        <a:pt x="562" y="592"/>
                      </a:lnTo>
                      <a:lnTo>
                        <a:pt x="516" y="589"/>
                      </a:lnTo>
                      <a:lnTo>
                        <a:pt x="474" y="585"/>
                      </a:lnTo>
                      <a:lnTo>
                        <a:pt x="435" y="581"/>
                      </a:lnTo>
                      <a:lnTo>
                        <a:pt x="398" y="577"/>
                      </a:lnTo>
                      <a:lnTo>
                        <a:pt x="365" y="572"/>
                      </a:lnTo>
                      <a:lnTo>
                        <a:pt x="335" y="568"/>
                      </a:lnTo>
                      <a:lnTo>
                        <a:pt x="307" y="562"/>
                      </a:lnTo>
                      <a:lnTo>
                        <a:pt x="284" y="558"/>
                      </a:lnTo>
                      <a:lnTo>
                        <a:pt x="265" y="555"/>
                      </a:lnTo>
                      <a:lnTo>
                        <a:pt x="249" y="549"/>
                      </a:lnTo>
                      <a:lnTo>
                        <a:pt x="237" y="546"/>
                      </a:lnTo>
                      <a:lnTo>
                        <a:pt x="227" y="543"/>
                      </a:lnTo>
                      <a:lnTo>
                        <a:pt x="222" y="539"/>
                      </a:lnTo>
                      <a:lnTo>
                        <a:pt x="213" y="533"/>
                      </a:lnTo>
                      <a:lnTo>
                        <a:pt x="203" y="525"/>
                      </a:lnTo>
                      <a:lnTo>
                        <a:pt x="195" y="516"/>
                      </a:lnTo>
                      <a:lnTo>
                        <a:pt x="190" y="507"/>
                      </a:lnTo>
                      <a:lnTo>
                        <a:pt x="187" y="502"/>
                      </a:lnTo>
                      <a:lnTo>
                        <a:pt x="185" y="495"/>
                      </a:lnTo>
                      <a:lnTo>
                        <a:pt x="184" y="489"/>
                      </a:lnTo>
                      <a:lnTo>
                        <a:pt x="185" y="484"/>
                      </a:lnTo>
                      <a:lnTo>
                        <a:pt x="185" y="478"/>
                      </a:lnTo>
                      <a:lnTo>
                        <a:pt x="188" y="472"/>
                      </a:lnTo>
                      <a:lnTo>
                        <a:pt x="191" y="466"/>
                      </a:lnTo>
                      <a:lnTo>
                        <a:pt x="197" y="460"/>
                      </a:lnTo>
                      <a:lnTo>
                        <a:pt x="202" y="452"/>
                      </a:lnTo>
                      <a:lnTo>
                        <a:pt x="213" y="445"/>
                      </a:lnTo>
                      <a:lnTo>
                        <a:pt x="226" y="438"/>
                      </a:lnTo>
                      <a:lnTo>
                        <a:pt x="242" y="432"/>
                      </a:lnTo>
                      <a:lnTo>
                        <a:pt x="259" y="424"/>
                      </a:lnTo>
                      <a:lnTo>
                        <a:pt x="276" y="419"/>
                      </a:lnTo>
                      <a:lnTo>
                        <a:pt x="295" y="412"/>
                      </a:lnTo>
                      <a:lnTo>
                        <a:pt x="316" y="407"/>
                      </a:lnTo>
                      <a:lnTo>
                        <a:pt x="334" y="400"/>
                      </a:lnTo>
                      <a:lnTo>
                        <a:pt x="352" y="395"/>
                      </a:lnTo>
                      <a:lnTo>
                        <a:pt x="368" y="390"/>
                      </a:lnTo>
                      <a:lnTo>
                        <a:pt x="384" y="387"/>
                      </a:lnTo>
                      <a:lnTo>
                        <a:pt x="396" y="384"/>
                      </a:lnTo>
                      <a:lnTo>
                        <a:pt x="405" y="382"/>
                      </a:lnTo>
                      <a:lnTo>
                        <a:pt x="410" y="381"/>
                      </a:lnTo>
                      <a:lnTo>
                        <a:pt x="414" y="381"/>
                      </a:lnTo>
                      <a:lnTo>
                        <a:pt x="417" y="379"/>
                      </a:lnTo>
                      <a:lnTo>
                        <a:pt x="426" y="377"/>
                      </a:lnTo>
                      <a:lnTo>
                        <a:pt x="439" y="373"/>
                      </a:lnTo>
                      <a:lnTo>
                        <a:pt x="459" y="368"/>
                      </a:lnTo>
                      <a:lnTo>
                        <a:pt x="481" y="361"/>
                      </a:lnTo>
                      <a:lnTo>
                        <a:pt x="508" y="353"/>
                      </a:lnTo>
                      <a:lnTo>
                        <a:pt x="535" y="345"/>
                      </a:lnTo>
                      <a:lnTo>
                        <a:pt x="567" y="337"/>
                      </a:lnTo>
                      <a:lnTo>
                        <a:pt x="597" y="326"/>
                      </a:lnTo>
                      <a:lnTo>
                        <a:pt x="627" y="316"/>
                      </a:lnTo>
                      <a:lnTo>
                        <a:pt x="657" y="305"/>
                      </a:lnTo>
                      <a:lnTo>
                        <a:pt x="687" y="293"/>
                      </a:lnTo>
                      <a:lnTo>
                        <a:pt x="713" y="282"/>
                      </a:lnTo>
                      <a:lnTo>
                        <a:pt x="737" y="271"/>
                      </a:lnTo>
                      <a:lnTo>
                        <a:pt x="756" y="258"/>
                      </a:lnTo>
                      <a:lnTo>
                        <a:pt x="774" y="246"/>
                      </a:lnTo>
                      <a:lnTo>
                        <a:pt x="785" y="235"/>
                      </a:lnTo>
                      <a:lnTo>
                        <a:pt x="797" y="224"/>
                      </a:lnTo>
                      <a:lnTo>
                        <a:pt x="807" y="212"/>
                      </a:lnTo>
                      <a:lnTo>
                        <a:pt x="817" y="202"/>
                      </a:lnTo>
                      <a:lnTo>
                        <a:pt x="825" y="192"/>
                      </a:lnTo>
                      <a:lnTo>
                        <a:pt x="831" y="182"/>
                      </a:lnTo>
                      <a:lnTo>
                        <a:pt x="838" y="172"/>
                      </a:lnTo>
                      <a:lnTo>
                        <a:pt x="845" y="163"/>
                      </a:lnTo>
                      <a:lnTo>
                        <a:pt x="848" y="153"/>
                      </a:lnTo>
                      <a:lnTo>
                        <a:pt x="852" y="143"/>
                      </a:lnTo>
                      <a:lnTo>
                        <a:pt x="854" y="133"/>
                      </a:lnTo>
                      <a:lnTo>
                        <a:pt x="856" y="125"/>
                      </a:lnTo>
                      <a:lnTo>
                        <a:pt x="855" y="114"/>
                      </a:lnTo>
                      <a:lnTo>
                        <a:pt x="855" y="104"/>
                      </a:lnTo>
                      <a:lnTo>
                        <a:pt x="852" y="94"/>
                      </a:lnTo>
                      <a:lnTo>
                        <a:pt x="850" y="84"/>
                      </a:lnTo>
                      <a:lnTo>
                        <a:pt x="845" y="72"/>
                      </a:lnTo>
                      <a:lnTo>
                        <a:pt x="840" y="62"/>
                      </a:lnTo>
                      <a:lnTo>
                        <a:pt x="833" y="53"/>
                      </a:lnTo>
                      <a:lnTo>
                        <a:pt x="827" y="46"/>
                      </a:lnTo>
                      <a:lnTo>
                        <a:pt x="818" y="37"/>
                      </a:lnTo>
                      <a:lnTo>
                        <a:pt x="809" y="33"/>
                      </a:lnTo>
                      <a:lnTo>
                        <a:pt x="800" y="26"/>
                      </a:lnTo>
                      <a:lnTo>
                        <a:pt x="792" y="23"/>
                      </a:lnTo>
                      <a:lnTo>
                        <a:pt x="781" y="17"/>
                      </a:lnTo>
                      <a:lnTo>
                        <a:pt x="770" y="14"/>
                      </a:lnTo>
                      <a:lnTo>
                        <a:pt x="758" y="11"/>
                      </a:lnTo>
                      <a:lnTo>
                        <a:pt x="748" y="9"/>
                      </a:lnTo>
                      <a:lnTo>
                        <a:pt x="736" y="5"/>
                      </a:lnTo>
                      <a:lnTo>
                        <a:pt x="726" y="4"/>
                      </a:lnTo>
                      <a:lnTo>
                        <a:pt x="715" y="3"/>
                      </a:lnTo>
                      <a:lnTo>
                        <a:pt x="705" y="3"/>
                      </a:lnTo>
                      <a:lnTo>
                        <a:pt x="688" y="2"/>
                      </a:lnTo>
                      <a:lnTo>
                        <a:pt x="663" y="1"/>
                      </a:lnTo>
                      <a:lnTo>
                        <a:pt x="631" y="0"/>
                      </a:lnTo>
                      <a:lnTo>
                        <a:pt x="594" y="0"/>
                      </a:lnTo>
                      <a:lnTo>
                        <a:pt x="551" y="0"/>
                      </a:lnTo>
                      <a:lnTo>
                        <a:pt x="504" y="0"/>
                      </a:lnTo>
                      <a:lnTo>
                        <a:pt x="456" y="0"/>
                      </a:lnTo>
                      <a:lnTo>
                        <a:pt x="408" y="0"/>
                      </a:lnTo>
                      <a:lnTo>
                        <a:pt x="358" y="0"/>
                      </a:lnTo>
                      <a:lnTo>
                        <a:pt x="313" y="0"/>
                      </a:lnTo>
                      <a:lnTo>
                        <a:pt x="270" y="0"/>
                      </a:lnTo>
                      <a:lnTo>
                        <a:pt x="232" y="0"/>
                      </a:lnTo>
                      <a:lnTo>
                        <a:pt x="200" y="0"/>
                      </a:lnTo>
                      <a:lnTo>
                        <a:pt x="176" y="0"/>
                      </a:lnTo>
                      <a:lnTo>
                        <a:pt x="160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5c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>
                  <a:off x="2705760" y="4902120"/>
                  <a:ext cx="37800" cy="330120"/>
                </a:xfrm>
                <a:custGeom>
                  <a:avLst/>
                  <a:gdLst/>
                  <a:ahLst/>
                  <a:rect l="l" t="t" r="r" b="b"/>
                  <a:pathLst>
                    <a:path w="47" h="416">
                      <a:moveTo>
                        <a:pt x="6" y="416"/>
                      </a:moveTo>
                      <a:lnTo>
                        <a:pt x="11" y="139"/>
                      </a:lnTo>
                      <a:lnTo>
                        <a:pt x="10" y="138"/>
                      </a:lnTo>
                      <a:lnTo>
                        <a:pt x="8" y="134"/>
                      </a:lnTo>
                      <a:lnTo>
                        <a:pt x="6" y="127"/>
                      </a:lnTo>
                      <a:lnTo>
                        <a:pt x="5" y="118"/>
                      </a:lnTo>
                      <a:lnTo>
                        <a:pt x="3" y="107"/>
                      </a:lnTo>
                      <a:lnTo>
                        <a:pt x="2" y="97"/>
                      </a:lnTo>
                      <a:lnTo>
                        <a:pt x="1" y="85"/>
                      </a:lnTo>
                      <a:lnTo>
                        <a:pt x="1" y="73"/>
                      </a:lnTo>
                      <a:lnTo>
                        <a:pt x="0" y="60"/>
                      </a:lnTo>
                      <a:lnTo>
                        <a:pt x="0" y="46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4"/>
                      </a:lnTo>
                      <a:lnTo>
                        <a:pt x="10" y="8"/>
                      </a:lnTo>
                      <a:lnTo>
                        <a:pt x="15" y="2"/>
                      </a:lnTo>
                      <a:lnTo>
                        <a:pt x="24" y="0"/>
                      </a:lnTo>
                      <a:lnTo>
                        <a:pt x="29" y="0"/>
                      </a:lnTo>
                      <a:lnTo>
                        <a:pt x="35" y="3"/>
                      </a:lnTo>
                      <a:lnTo>
                        <a:pt x="39" y="10"/>
                      </a:lnTo>
                      <a:lnTo>
                        <a:pt x="44" y="19"/>
                      </a:lnTo>
                      <a:lnTo>
                        <a:pt x="45" y="29"/>
                      </a:lnTo>
                      <a:lnTo>
                        <a:pt x="46" y="41"/>
                      </a:lnTo>
                      <a:lnTo>
                        <a:pt x="46" y="54"/>
                      </a:lnTo>
                      <a:lnTo>
                        <a:pt x="47" y="69"/>
                      </a:lnTo>
                      <a:lnTo>
                        <a:pt x="46" y="81"/>
                      </a:lnTo>
                      <a:lnTo>
                        <a:pt x="45" y="95"/>
                      </a:lnTo>
                      <a:lnTo>
                        <a:pt x="44" y="107"/>
                      </a:lnTo>
                      <a:lnTo>
                        <a:pt x="43" y="119"/>
                      </a:lnTo>
                      <a:lnTo>
                        <a:pt x="40" y="128"/>
                      </a:lnTo>
                      <a:lnTo>
                        <a:pt x="39" y="137"/>
                      </a:lnTo>
                      <a:lnTo>
                        <a:pt x="39" y="142"/>
                      </a:lnTo>
                      <a:lnTo>
                        <a:pt x="39" y="144"/>
                      </a:lnTo>
                      <a:lnTo>
                        <a:pt x="36" y="410"/>
                      </a:lnTo>
                      <a:lnTo>
                        <a:pt x="6" y="416"/>
                      </a:lnTo>
                      <a:lnTo>
                        <a:pt x="6" y="416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>
                  <a:off x="2227680" y="4949640"/>
                  <a:ext cx="71640" cy="200160"/>
                </a:xfrm>
                <a:custGeom>
                  <a:avLst/>
                  <a:gdLst/>
                  <a:ahLst/>
                  <a:rect l="l" t="t" r="r" b="b"/>
                  <a:pathLst>
                    <a:path w="90" h="252">
                      <a:moveTo>
                        <a:pt x="16" y="252"/>
                      </a:moveTo>
                      <a:lnTo>
                        <a:pt x="18" y="145"/>
                      </a:lnTo>
                      <a:lnTo>
                        <a:pt x="17" y="142"/>
                      </a:lnTo>
                      <a:lnTo>
                        <a:pt x="14" y="137"/>
                      </a:lnTo>
                      <a:lnTo>
                        <a:pt x="12" y="130"/>
                      </a:lnTo>
                      <a:lnTo>
                        <a:pt x="10" y="121"/>
                      </a:lnTo>
                      <a:lnTo>
                        <a:pt x="7" y="109"/>
                      </a:lnTo>
                      <a:lnTo>
                        <a:pt x="4" y="98"/>
                      </a:lnTo>
                      <a:lnTo>
                        <a:pt x="1" y="85"/>
                      </a:lnTo>
                      <a:lnTo>
                        <a:pt x="1" y="73"/>
                      </a:lnTo>
                      <a:lnTo>
                        <a:pt x="0" y="58"/>
                      </a:lnTo>
                      <a:lnTo>
                        <a:pt x="1" y="45"/>
                      </a:lnTo>
                      <a:lnTo>
                        <a:pt x="3" y="33"/>
                      </a:lnTo>
                      <a:lnTo>
                        <a:pt x="10" y="23"/>
                      </a:lnTo>
                      <a:lnTo>
                        <a:pt x="16" y="13"/>
                      </a:lnTo>
                      <a:lnTo>
                        <a:pt x="24" y="8"/>
                      </a:lnTo>
                      <a:lnTo>
                        <a:pt x="37" y="2"/>
                      </a:lnTo>
                      <a:lnTo>
                        <a:pt x="53" y="1"/>
                      </a:lnTo>
                      <a:lnTo>
                        <a:pt x="58" y="0"/>
                      </a:lnTo>
                      <a:lnTo>
                        <a:pt x="63" y="0"/>
                      </a:lnTo>
                      <a:lnTo>
                        <a:pt x="67" y="1"/>
                      </a:lnTo>
                      <a:lnTo>
                        <a:pt x="72" y="3"/>
                      </a:lnTo>
                      <a:lnTo>
                        <a:pt x="79" y="6"/>
                      </a:lnTo>
                      <a:lnTo>
                        <a:pt x="83" y="10"/>
                      </a:lnTo>
                      <a:lnTo>
                        <a:pt x="87" y="18"/>
                      </a:lnTo>
                      <a:lnTo>
                        <a:pt x="90" y="21"/>
                      </a:lnTo>
                      <a:lnTo>
                        <a:pt x="87" y="21"/>
                      </a:lnTo>
                      <a:lnTo>
                        <a:pt x="85" y="25"/>
                      </a:lnTo>
                      <a:lnTo>
                        <a:pt x="82" y="30"/>
                      </a:lnTo>
                      <a:lnTo>
                        <a:pt x="80" y="36"/>
                      </a:lnTo>
                      <a:lnTo>
                        <a:pt x="74" y="43"/>
                      </a:lnTo>
                      <a:lnTo>
                        <a:pt x="70" y="53"/>
                      </a:lnTo>
                      <a:lnTo>
                        <a:pt x="65" y="62"/>
                      </a:lnTo>
                      <a:lnTo>
                        <a:pt x="62" y="73"/>
                      </a:lnTo>
                      <a:lnTo>
                        <a:pt x="58" y="83"/>
                      </a:lnTo>
                      <a:lnTo>
                        <a:pt x="55" y="93"/>
                      </a:lnTo>
                      <a:lnTo>
                        <a:pt x="53" y="103"/>
                      </a:lnTo>
                      <a:lnTo>
                        <a:pt x="54" y="114"/>
                      </a:lnTo>
                      <a:lnTo>
                        <a:pt x="55" y="123"/>
                      </a:lnTo>
                      <a:lnTo>
                        <a:pt x="59" y="130"/>
                      </a:lnTo>
                      <a:lnTo>
                        <a:pt x="65" y="137"/>
                      </a:lnTo>
                      <a:lnTo>
                        <a:pt x="74" y="145"/>
                      </a:lnTo>
                      <a:lnTo>
                        <a:pt x="72" y="147"/>
                      </a:lnTo>
                      <a:lnTo>
                        <a:pt x="65" y="154"/>
                      </a:lnTo>
                      <a:lnTo>
                        <a:pt x="56" y="158"/>
                      </a:lnTo>
                      <a:lnTo>
                        <a:pt x="53" y="160"/>
                      </a:lnTo>
                      <a:lnTo>
                        <a:pt x="53" y="244"/>
                      </a:lnTo>
                      <a:lnTo>
                        <a:pt x="16" y="252"/>
                      </a:lnTo>
                      <a:lnTo>
                        <a:pt x="16" y="252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>
                  <a:off x="2358000" y="5159160"/>
                  <a:ext cx="73080" cy="243000"/>
                </a:xfrm>
                <a:custGeom>
                  <a:avLst/>
                  <a:gdLst/>
                  <a:ahLst/>
                  <a:rect l="l" t="t" r="r" b="b"/>
                  <a:pathLst>
                    <a:path w="92" h="306">
                      <a:moveTo>
                        <a:pt x="0" y="24"/>
                      </a:moveTo>
                      <a:lnTo>
                        <a:pt x="0" y="23"/>
                      </a:lnTo>
                      <a:lnTo>
                        <a:pt x="4" y="19"/>
                      </a:lnTo>
                      <a:lnTo>
                        <a:pt x="7" y="13"/>
                      </a:lnTo>
                      <a:lnTo>
                        <a:pt x="15" y="10"/>
                      </a:lnTo>
                      <a:lnTo>
                        <a:pt x="22" y="3"/>
                      </a:lnTo>
                      <a:lnTo>
                        <a:pt x="32" y="1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51" y="0"/>
                      </a:lnTo>
                      <a:lnTo>
                        <a:pt x="59" y="3"/>
                      </a:lnTo>
                      <a:lnTo>
                        <a:pt x="64" y="6"/>
                      </a:lnTo>
                      <a:lnTo>
                        <a:pt x="71" y="12"/>
                      </a:lnTo>
                      <a:lnTo>
                        <a:pt x="75" y="20"/>
                      </a:lnTo>
                      <a:lnTo>
                        <a:pt x="81" y="31"/>
                      </a:lnTo>
                      <a:lnTo>
                        <a:pt x="84" y="43"/>
                      </a:lnTo>
                      <a:lnTo>
                        <a:pt x="88" y="57"/>
                      </a:lnTo>
                      <a:lnTo>
                        <a:pt x="90" y="71"/>
                      </a:lnTo>
                      <a:lnTo>
                        <a:pt x="92" y="86"/>
                      </a:lnTo>
                      <a:lnTo>
                        <a:pt x="92" y="101"/>
                      </a:lnTo>
                      <a:lnTo>
                        <a:pt x="92" y="116"/>
                      </a:lnTo>
                      <a:lnTo>
                        <a:pt x="91" y="129"/>
                      </a:lnTo>
                      <a:lnTo>
                        <a:pt x="90" y="143"/>
                      </a:lnTo>
                      <a:lnTo>
                        <a:pt x="86" y="154"/>
                      </a:lnTo>
                      <a:lnTo>
                        <a:pt x="85" y="164"/>
                      </a:lnTo>
                      <a:lnTo>
                        <a:pt x="81" y="171"/>
                      </a:lnTo>
                      <a:lnTo>
                        <a:pt x="77" y="176"/>
                      </a:lnTo>
                      <a:lnTo>
                        <a:pt x="71" y="306"/>
                      </a:lnTo>
                      <a:lnTo>
                        <a:pt x="32" y="306"/>
                      </a:lnTo>
                      <a:lnTo>
                        <a:pt x="30" y="186"/>
                      </a:lnTo>
                      <a:lnTo>
                        <a:pt x="6" y="181"/>
                      </a:lnTo>
                      <a:lnTo>
                        <a:pt x="6" y="179"/>
                      </a:lnTo>
                      <a:lnTo>
                        <a:pt x="10" y="174"/>
                      </a:lnTo>
                      <a:lnTo>
                        <a:pt x="12" y="169"/>
                      </a:lnTo>
                      <a:lnTo>
                        <a:pt x="16" y="165"/>
                      </a:lnTo>
                      <a:lnTo>
                        <a:pt x="18" y="160"/>
                      </a:lnTo>
                      <a:lnTo>
                        <a:pt x="22" y="155"/>
                      </a:lnTo>
                      <a:lnTo>
                        <a:pt x="25" y="148"/>
                      </a:lnTo>
                      <a:lnTo>
                        <a:pt x="28" y="140"/>
                      </a:lnTo>
                      <a:lnTo>
                        <a:pt x="30" y="133"/>
                      </a:lnTo>
                      <a:lnTo>
                        <a:pt x="32" y="126"/>
                      </a:lnTo>
                      <a:lnTo>
                        <a:pt x="33" y="116"/>
                      </a:lnTo>
                      <a:lnTo>
                        <a:pt x="35" y="108"/>
                      </a:lnTo>
                      <a:lnTo>
                        <a:pt x="33" y="99"/>
                      </a:lnTo>
                      <a:lnTo>
                        <a:pt x="33" y="92"/>
                      </a:lnTo>
                      <a:lnTo>
                        <a:pt x="30" y="82"/>
                      </a:lnTo>
                      <a:lnTo>
                        <a:pt x="29" y="74"/>
                      </a:lnTo>
                      <a:lnTo>
                        <a:pt x="27" y="66"/>
                      </a:lnTo>
                      <a:lnTo>
                        <a:pt x="25" y="60"/>
                      </a:lnTo>
                      <a:lnTo>
                        <a:pt x="21" y="53"/>
                      </a:lnTo>
                      <a:lnTo>
                        <a:pt x="18" y="48"/>
                      </a:lnTo>
                      <a:lnTo>
                        <a:pt x="16" y="43"/>
                      </a:lnTo>
                      <a:lnTo>
                        <a:pt x="14" y="40"/>
                      </a:lnTo>
                      <a:lnTo>
                        <a:pt x="7" y="32"/>
                      </a:lnTo>
                      <a:lnTo>
                        <a:pt x="4" y="28"/>
                      </a:lnTo>
                      <a:lnTo>
                        <a:pt x="0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>
                  <a:off x="1931040" y="5337000"/>
                  <a:ext cx="191880" cy="833400"/>
                </a:xfrm>
                <a:custGeom>
                  <a:avLst/>
                  <a:gdLst/>
                  <a:ahLst/>
                  <a:rect l="l" t="t" r="r" b="b"/>
                  <a:pathLst>
                    <a:path w="243" h="1051">
                      <a:moveTo>
                        <a:pt x="243" y="10"/>
                      </a:moveTo>
                      <a:lnTo>
                        <a:pt x="240" y="8"/>
                      </a:lnTo>
                      <a:lnTo>
                        <a:pt x="233" y="7"/>
                      </a:lnTo>
                      <a:lnTo>
                        <a:pt x="222" y="5"/>
                      </a:lnTo>
                      <a:lnTo>
                        <a:pt x="208" y="3"/>
                      </a:lnTo>
                      <a:lnTo>
                        <a:pt x="190" y="0"/>
                      </a:lnTo>
                      <a:lnTo>
                        <a:pt x="172" y="2"/>
                      </a:lnTo>
                      <a:lnTo>
                        <a:pt x="151" y="4"/>
                      </a:lnTo>
                      <a:lnTo>
                        <a:pt x="131" y="9"/>
                      </a:lnTo>
                      <a:lnTo>
                        <a:pt x="109" y="18"/>
                      </a:lnTo>
                      <a:lnTo>
                        <a:pt x="87" y="31"/>
                      </a:lnTo>
                      <a:lnTo>
                        <a:pt x="65" y="48"/>
                      </a:lnTo>
                      <a:lnTo>
                        <a:pt x="49" y="72"/>
                      </a:lnTo>
                      <a:lnTo>
                        <a:pt x="31" y="101"/>
                      </a:lnTo>
                      <a:lnTo>
                        <a:pt x="19" y="136"/>
                      </a:lnTo>
                      <a:lnTo>
                        <a:pt x="8" y="181"/>
                      </a:lnTo>
                      <a:lnTo>
                        <a:pt x="3" y="233"/>
                      </a:lnTo>
                      <a:lnTo>
                        <a:pt x="0" y="286"/>
                      </a:lnTo>
                      <a:lnTo>
                        <a:pt x="0" y="332"/>
                      </a:lnTo>
                      <a:lnTo>
                        <a:pt x="2" y="373"/>
                      </a:lnTo>
                      <a:lnTo>
                        <a:pt x="7" y="411"/>
                      </a:lnTo>
                      <a:lnTo>
                        <a:pt x="10" y="442"/>
                      </a:lnTo>
                      <a:lnTo>
                        <a:pt x="17" y="469"/>
                      </a:lnTo>
                      <a:lnTo>
                        <a:pt x="23" y="492"/>
                      </a:lnTo>
                      <a:lnTo>
                        <a:pt x="31" y="512"/>
                      </a:lnTo>
                      <a:lnTo>
                        <a:pt x="39" y="528"/>
                      </a:lnTo>
                      <a:lnTo>
                        <a:pt x="45" y="540"/>
                      </a:lnTo>
                      <a:lnTo>
                        <a:pt x="53" y="549"/>
                      </a:lnTo>
                      <a:lnTo>
                        <a:pt x="61" y="557"/>
                      </a:lnTo>
                      <a:lnTo>
                        <a:pt x="65" y="561"/>
                      </a:lnTo>
                      <a:lnTo>
                        <a:pt x="71" y="564"/>
                      </a:lnTo>
                      <a:lnTo>
                        <a:pt x="73" y="566"/>
                      </a:lnTo>
                      <a:lnTo>
                        <a:pt x="75" y="568"/>
                      </a:lnTo>
                      <a:lnTo>
                        <a:pt x="83" y="1048"/>
                      </a:lnTo>
                      <a:lnTo>
                        <a:pt x="152" y="1051"/>
                      </a:lnTo>
                      <a:lnTo>
                        <a:pt x="156" y="564"/>
                      </a:lnTo>
                      <a:lnTo>
                        <a:pt x="155" y="562"/>
                      </a:lnTo>
                      <a:lnTo>
                        <a:pt x="153" y="557"/>
                      </a:lnTo>
                      <a:lnTo>
                        <a:pt x="147" y="548"/>
                      </a:lnTo>
                      <a:lnTo>
                        <a:pt x="143" y="537"/>
                      </a:lnTo>
                      <a:lnTo>
                        <a:pt x="135" y="521"/>
                      </a:lnTo>
                      <a:lnTo>
                        <a:pt x="128" y="503"/>
                      </a:lnTo>
                      <a:lnTo>
                        <a:pt x="122" y="484"/>
                      </a:lnTo>
                      <a:lnTo>
                        <a:pt x="115" y="461"/>
                      </a:lnTo>
                      <a:lnTo>
                        <a:pt x="109" y="436"/>
                      </a:lnTo>
                      <a:lnTo>
                        <a:pt x="102" y="411"/>
                      </a:lnTo>
                      <a:lnTo>
                        <a:pt x="96" y="382"/>
                      </a:lnTo>
                      <a:lnTo>
                        <a:pt x="93" y="353"/>
                      </a:lnTo>
                      <a:lnTo>
                        <a:pt x="90" y="321"/>
                      </a:lnTo>
                      <a:lnTo>
                        <a:pt x="91" y="290"/>
                      </a:lnTo>
                      <a:lnTo>
                        <a:pt x="93" y="257"/>
                      </a:lnTo>
                      <a:lnTo>
                        <a:pt x="99" y="225"/>
                      </a:lnTo>
                      <a:lnTo>
                        <a:pt x="104" y="192"/>
                      </a:lnTo>
                      <a:lnTo>
                        <a:pt x="113" y="163"/>
                      </a:lnTo>
                      <a:lnTo>
                        <a:pt x="122" y="135"/>
                      </a:lnTo>
                      <a:lnTo>
                        <a:pt x="134" y="113"/>
                      </a:lnTo>
                      <a:lnTo>
                        <a:pt x="145" y="93"/>
                      </a:lnTo>
                      <a:lnTo>
                        <a:pt x="157" y="77"/>
                      </a:lnTo>
                      <a:lnTo>
                        <a:pt x="169" y="61"/>
                      </a:lnTo>
                      <a:lnTo>
                        <a:pt x="183" y="49"/>
                      </a:lnTo>
                      <a:lnTo>
                        <a:pt x="194" y="38"/>
                      </a:lnTo>
                      <a:lnTo>
                        <a:pt x="205" y="30"/>
                      </a:lnTo>
                      <a:lnTo>
                        <a:pt x="215" y="23"/>
                      </a:lnTo>
                      <a:lnTo>
                        <a:pt x="225" y="18"/>
                      </a:lnTo>
                      <a:lnTo>
                        <a:pt x="232" y="14"/>
                      </a:lnTo>
                      <a:lnTo>
                        <a:pt x="238" y="11"/>
                      </a:lnTo>
                      <a:lnTo>
                        <a:pt x="241" y="10"/>
                      </a:lnTo>
                      <a:lnTo>
                        <a:pt x="243" y="10"/>
                      </a:lnTo>
                      <a:lnTo>
                        <a:pt x="243" y="10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>
                  <a:off x="2720160" y="5386320"/>
                  <a:ext cx="85680" cy="527040"/>
                </a:xfrm>
                <a:custGeom>
                  <a:avLst/>
                  <a:gdLst/>
                  <a:ahLst/>
                  <a:rect l="l" t="t" r="r" b="b"/>
                  <a:pathLst>
                    <a:path w="108" h="664">
                      <a:moveTo>
                        <a:pt x="108" y="27"/>
                      </a:moveTo>
                      <a:lnTo>
                        <a:pt x="108" y="24"/>
                      </a:lnTo>
                      <a:lnTo>
                        <a:pt x="104" y="17"/>
                      </a:lnTo>
                      <a:lnTo>
                        <a:pt x="100" y="14"/>
                      </a:lnTo>
                      <a:lnTo>
                        <a:pt x="95" y="10"/>
                      </a:lnTo>
                      <a:lnTo>
                        <a:pt x="91" y="7"/>
                      </a:lnTo>
                      <a:lnTo>
                        <a:pt x="85" y="5"/>
                      </a:lnTo>
                      <a:lnTo>
                        <a:pt x="77" y="3"/>
                      </a:lnTo>
                      <a:lnTo>
                        <a:pt x="71" y="0"/>
                      </a:lnTo>
                      <a:lnTo>
                        <a:pt x="63" y="0"/>
                      </a:lnTo>
                      <a:lnTo>
                        <a:pt x="58" y="1"/>
                      </a:lnTo>
                      <a:lnTo>
                        <a:pt x="49" y="3"/>
                      </a:lnTo>
                      <a:lnTo>
                        <a:pt x="42" y="6"/>
                      </a:lnTo>
                      <a:lnTo>
                        <a:pt x="34" y="11"/>
                      </a:lnTo>
                      <a:lnTo>
                        <a:pt x="29" y="19"/>
                      </a:lnTo>
                      <a:lnTo>
                        <a:pt x="22" y="28"/>
                      </a:lnTo>
                      <a:lnTo>
                        <a:pt x="17" y="40"/>
                      </a:lnTo>
                      <a:lnTo>
                        <a:pt x="11" y="53"/>
                      </a:lnTo>
                      <a:lnTo>
                        <a:pt x="8" y="70"/>
                      </a:lnTo>
                      <a:lnTo>
                        <a:pt x="3" y="85"/>
                      </a:lnTo>
                      <a:lnTo>
                        <a:pt x="1" y="104"/>
                      </a:lnTo>
                      <a:lnTo>
                        <a:pt x="0" y="123"/>
                      </a:lnTo>
                      <a:lnTo>
                        <a:pt x="0" y="143"/>
                      </a:lnTo>
                      <a:lnTo>
                        <a:pt x="0" y="161"/>
                      </a:lnTo>
                      <a:lnTo>
                        <a:pt x="0" y="178"/>
                      </a:lnTo>
                      <a:lnTo>
                        <a:pt x="2" y="196"/>
                      </a:lnTo>
                      <a:lnTo>
                        <a:pt x="6" y="213"/>
                      </a:lnTo>
                      <a:lnTo>
                        <a:pt x="9" y="227"/>
                      </a:lnTo>
                      <a:lnTo>
                        <a:pt x="13" y="241"/>
                      </a:lnTo>
                      <a:lnTo>
                        <a:pt x="19" y="251"/>
                      </a:lnTo>
                      <a:lnTo>
                        <a:pt x="26" y="260"/>
                      </a:lnTo>
                      <a:lnTo>
                        <a:pt x="21" y="664"/>
                      </a:lnTo>
                      <a:lnTo>
                        <a:pt x="64" y="664"/>
                      </a:lnTo>
                      <a:lnTo>
                        <a:pt x="59" y="268"/>
                      </a:lnTo>
                      <a:lnTo>
                        <a:pt x="90" y="242"/>
                      </a:lnTo>
                      <a:lnTo>
                        <a:pt x="87" y="241"/>
                      </a:lnTo>
                      <a:lnTo>
                        <a:pt x="83" y="240"/>
                      </a:lnTo>
                      <a:lnTo>
                        <a:pt x="79" y="236"/>
                      </a:lnTo>
                      <a:lnTo>
                        <a:pt x="73" y="229"/>
                      </a:lnTo>
                      <a:lnTo>
                        <a:pt x="70" y="223"/>
                      </a:lnTo>
                      <a:lnTo>
                        <a:pt x="69" y="214"/>
                      </a:lnTo>
                      <a:lnTo>
                        <a:pt x="66" y="204"/>
                      </a:lnTo>
                      <a:lnTo>
                        <a:pt x="66" y="192"/>
                      </a:lnTo>
                      <a:lnTo>
                        <a:pt x="65" y="177"/>
                      </a:lnTo>
                      <a:lnTo>
                        <a:pt x="66" y="160"/>
                      </a:lnTo>
                      <a:lnTo>
                        <a:pt x="69" y="140"/>
                      </a:lnTo>
                      <a:lnTo>
                        <a:pt x="72" y="118"/>
                      </a:lnTo>
                      <a:lnTo>
                        <a:pt x="72" y="115"/>
                      </a:lnTo>
                      <a:lnTo>
                        <a:pt x="72" y="113"/>
                      </a:lnTo>
                      <a:lnTo>
                        <a:pt x="72" y="108"/>
                      </a:lnTo>
                      <a:lnTo>
                        <a:pt x="74" y="103"/>
                      </a:lnTo>
                      <a:lnTo>
                        <a:pt x="75" y="97"/>
                      </a:lnTo>
                      <a:lnTo>
                        <a:pt x="77" y="90"/>
                      </a:lnTo>
                      <a:lnTo>
                        <a:pt x="80" y="82"/>
                      </a:lnTo>
                      <a:lnTo>
                        <a:pt x="82" y="74"/>
                      </a:lnTo>
                      <a:lnTo>
                        <a:pt x="84" y="66"/>
                      </a:lnTo>
                      <a:lnTo>
                        <a:pt x="86" y="58"/>
                      </a:lnTo>
                      <a:lnTo>
                        <a:pt x="90" y="50"/>
                      </a:lnTo>
                      <a:lnTo>
                        <a:pt x="93" y="45"/>
                      </a:lnTo>
                      <a:lnTo>
                        <a:pt x="96" y="38"/>
                      </a:lnTo>
                      <a:lnTo>
                        <a:pt x="100" y="32"/>
                      </a:lnTo>
                      <a:lnTo>
                        <a:pt x="103" y="29"/>
                      </a:lnTo>
                      <a:lnTo>
                        <a:pt x="108" y="27"/>
                      </a:lnTo>
                      <a:lnTo>
                        <a:pt x="108" y="27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>
                  <a:off x="2577240" y="4653000"/>
                  <a:ext cx="46080" cy="266760"/>
                </a:xfrm>
                <a:custGeom>
                  <a:avLst/>
                  <a:gdLst/>
                  <a:ahLst/>
                  <a:rect l="l" t="t" r="r" b="b"/>
                  <a:pathLst>
                    <a:path w="59" h="335">
                      <a:moveTo>
                        <a:pt x="20" y="335"/>
                      </a:moveTo>
                      <a:lnTo>
                        <a:pt x="20" y="116"/>
                      </a:lnTo>
                      <a:lnTo>
                        <a:pt x="18" y="112"/>
                      </a:lnTo>
                      <a:lnTo>
                        <a:pt x="13" y="104"/>
                      </a:lnTo>
                      <a:lnTo>
                        <a:pt x="10" y="97"/>
                      </a:lnTo>
                      <a:lnTo>
                        <a:pt x="8" y="92"/>
                      </a:lnTo>
                      <a:lnTo>
                        <a:pt x="6" y="84"/>
                      </a:lnTo>
                      <a:lnTo>
                        <a:pt x="5" y="77"/>
                      </a:lnTo>
                      <a:lnTo>
                        <a:pt x="1" y="69"/>
                      </a:lnTo>
                      <a:lnTo>
                        <a:pt x="1" y="60"/>
                      </a:lnTo>
                      <a:lnTo>
                        <a:pt x="0" y="51"/>
                      </a:lnTo>
                      <a:lnTo>
                        <a:pt x="2" y="43"/>
                      </a:lnTo>
                      <a:lnTo>
                        <a:pt x="5" y="34"/>
                      </a:lnTo>
                      <a:lnTo>
                        <a:pt x="9" y="24"/>
                      </a:lnTo>
                      <a:lnTo>
                        <a:pt x="15" y="17"/>
                      </a:lnTo>
                      <a:lnTo>
                        <a:pt x="22" y="11"/>
                      </a:lnTo>
                      <a:lnTo>
                        <a:pt x="30" y="4"/>
                      </a:lnTo>
                      <a:lnTo>
                        <a:pt x="37" y="1"/>
                      </a:lnTo>
                      <a:lnTo>
                        <a:pt x="43" y="0"/>
                      </a:lnTo>
                      <a:lnTo>
                        <a:pt x="49" y="1"/>
                      </a:lnTo>
                      <a:lnTo>
                        <a:pt x="55" y="6"/>
                      </a:lnTo>
                      <a:lnTo>
                        <a:pt x="59" y="9"/>
                      </a:lnTo>
                      <a:lnTo>
                        <a:pt x="57" y="11"/>
                      </a:lnTo>
                      <a:lnTo>
                        <a:pt x="52" y="20"/>
                      </a:lnTo>
                      <a:lnTo>
                        <a:pt x="48" y="24"/>
                      </a:lnTo>
                      <a:lnTo>
                        <a:pt x="44" y="32"/>
                      </a:lnTo>
                      <a:lnTo>
                        <a:pt x="42" y="39"/>
                      </a:lnTo>
                      <a:lnTo>
                        <a:pt x="40" y="48"/>
                      </a:lnTo>
                      <a:lnTo>
                        <a:pt x="37" y="56"/>
                      </a:lnTo>
                      <a:lnTo>
                        <a:pt x="34" y="64"/>
                      </a:lnTo>
                      <a:lnTo>
                        <a:pt x="33" y="72"/>
                      </a:lnTo>
                      <a:lnTo>
                        <a:pt x="34" y="81"/>
                      </a:lnTo>
                      <a:lnTo>
                        <a:pt x="34" y="86"/>
                      </a:lnTo>
                      <a:lnTo>
                        <a:pt x="39" y="94"/>
                      </a:lnTo>
                      <a:lnTo>
                        <a:pt x="43" y="98"/>
                      </a:lnTo>
                      <a:lnTo>
                        <a:pt x="50" y="104"/>
                      </a:lnTo>
                      <a:lnTo>
                        <a:pt x="50" y="106"/>
                      </a:lnTo>
                      <a:lnTo>
                        <a:pt x="45" y="113"/>
                      </a:lnTo>
                      <a:lnTo>
                        <a:pt x="41" y="117"/>
                      </a:lnTo>
                      <a:lnTo>
                        <a:pt x="40" y="118"/>
                      </a:lnTo>
                      <a:lnTo>
                        <a:pt x="41" y="333"/>
                      </a:lnTo>
                      <a:lnTo>
                        <a:pt x="20" y="335"/>
                      </a:lnTo>
                      <a:lnTo>
                        <a:pt x="20" y="335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>
                  <a:off x="2426400" y="4467240"/>
                  <a:ext cx="44640" cy="147600"/>
                </a:xfrm>
                <a:custGeom>
                  <a:avLst/>
                  <a:gdLst/>
                  <a:ahLst/>
                  <a:rect l="l" t="t" r="r" b="b"/>
                  <a:pathLst>
                    <a:path w="57" h="187">
                      <a:moveTo>
                        <a:pt x="33" y="79"/>
                      </a:moveTo>
                      <a:lnTo>
                        <a:pt x="31" y="76"/>
                      </a:lnTo>
                      <a:lnTo>
                        <a:pt x="31" y="68"/>
                      </a:lnTo>
                      <a:lnTo>
                        <a:pt x="30" y="62"/>
                      </a:lnTo>
                      <a:lnTo>
                        <a:pt x="30" y="57"/>
                      </a:lnTo>
                      <a:lnTo>
                        <a:pt x="30" y="51"/>
                      </a:lnTo>
                      <a:lnTo>
                        <a:pt x="30" y="46"/>
                      </a:lnTo>
                      <a:lnTo>
                        <a:pt x="30" y="38"/>
                      </a:lnTo>
                      <a:lnTo>
                        <a:pt x="30" y="33"/>
                      </a:lnTo>
                      <a:lnTo>
                        <a:pt x="31" y="26"/>
                      </a:lnTo>
                      <a:lnTo>
                        <a:pt x="34" y="23"/>
                      </a:lnTo>
                      <a:lnTo>
                        <a:pt x="39" y="15"/>
                      </a:lnTo>
                      <a:lnTo>
                        <a:pt x="47" y="12"/>
                      </a:lnTo>
                      <a:lnTo>
                        <a:pt x="57" y="13"/>
                      </a:lnTo>
                      <a:lnTo>
                        <a:pt x="55" y="10"/>
                      </a:lnTo>
                      <a:lnTo>
                        <a:pt x="46" y="4"/>
                      </a:lnTo>
                      <a:lnTo>
                        <a:pt x="40" y="1"/>
                      </a:lnTo>
                      <a:lnTo>
                        <a:pt x="35" y="0"/>
                      </a:lnTo>
                      <a:lnTo>
                        <a:pt x="28" y="0"/>
                      </a:lnTo>
                      <a:lnTo>
                        <a:pt x="21" y="3"/>
                      </a:lnTo>
                      <a:lnTo>
                        <a:pt x="12" y="9"/>
                      </a:lnTo>
                      <a:lnTo>
                        <a:pt x="7" y="17"/>
                      </a:lnTo>
                      <a:lnTo>
                        <a:pt x="4" y="23"/>
                      </a:lnTo>
                      <a:lnTo>
                        <a:pt x="3" y="28"/>
                      </a:lnTo>
                      <a:lnTo>
                        <a:pt x="2" y="35"/>
                      </a:lnTo>
                      <a:lnTo>
                        <a:pt x="2" y="42"/>
                      </a:lnTo>
                      <a:lnTo>
                        <a:pt x="0" y="47"/>
                      </a:lnTo>
                      <a:lnTo>
                        <a:pt x="0" y="53"/>
                      </a:lnTo>
                      <a:lnTo>
                        <a:pt x="2" y="58"/>
                      </a:lnTo>
                      <a:lnTo>
                        <a:pt x="4" y="63"/>
                      </a:lnTo>
                      <a:lnTo>
                        <a:pt x="6" y="72"/>
                      </a:lnTo>
                      <a:lnTo>
                        <a:pt x="12" y="76"/>
                      </a:lnTo>
                      <a:lnTo>
                        <a:pt x="16" y="187"/>
                      </a:lnTo>
                      <a:lnTo>
                        <a:pt x="37" y="173"/>
                      </a:lnTo>
                      <a:lnTo>
                        <a:pt x="33" y="79"/>
                      </a:lnTo>
                      <a:lnTo>
                        <a:pt x="33" y="79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2660040" y="4457520"/>
                  <a:ext cx="38160" cy="168480"/>
                </a:xfrm>
                <a:custGeom>
                  <a:avLst/>
                  <a:gdLst/>
                  <a:ahLst/>
                  <a:rect l="l" t="t" r="r" b="b"/>
                  <a:pathLst>
                    <a:path w="50" h="212">
                      <a:moveTo>
                        <a:pt x="12" y="212"/>
                      </a:moveTo>
                      <a:lnTo>
                        <a:pt x="11" y="63"/>
                      </a:lnTo>
                      <a:lnTo>
                        <a:pt x="9" y="59"/>
                      </a:lnTo>
                      <a:lnTo>
                        <a:pt x="6" y="51"/>
                      </a:lnTo>
                      <a:lnTo>
                        <a:pt x="2" y="43"/>
                      </a:lnTo>
                      <a:lnTo>
                        <a:pt x="0" y="33"/>
                      </a:lnTo>
                      <a:lnTo>
                        <a:pt x="0" y="27"/>
                      </a:lnTo>
                      <a:lnTo>
                        <a:pt x="0" y="21"/>
                      </a:lnTo>
                      <a:lnTo>
                        <a:pt x="0" y="16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1" y="4"/>
                      </a:lnTo>
                      <a:lnTo>
                        <a:pt x="16" y="1"/>
                      </a:lnTo>
                      <a:lnTo>
                        <a:pt x="24" y="1"/>
                      </a:lnTo>
                      <a:lnTo>
                        <a:pt x="31" y="0"/>
                      </a:lnTo>
                      <a:lnTo>
                        <a:pt x="37" y="1"/>
                      </a:lnTo>
                      <a:lnTo>
                        <a:pt x="41" y="3"/>
                      </a:lnTo>
                      <a:lnTo>
                        <a:pt x="45" y="6"/>
                      </a:lnTo>
                      <a:lnTo>
                        <a:pt x="46" y="9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50" y="27"/>
                      </a:lnTo>
                      <a:lnTo>
                        <a:pt x="49" y="34"/>
                      </a:lnTo>
                      <a:lnTo>
                        <a:pt x="48" y="39"/>
                      </a:lnTo>
                      <a:lnTo>
                        <a:pt x="46" y="45"/>
                      </a:lnTo>
                      <a:lnTo>
                        <a:pt x="46" y="50"/>
                      </a:lnTo>
                      <a:lnTo>
                        <a:pt x="44" y="58"/>
                      </a:lnTo>
                      <a:lnTo>
                        <a:pt x="44" y="63"/>
                      </a:lnTo>
                      <a:lnTo>
                        <a:pt x="39" y="67"/>
                      </a:lnTo>
                      <a:lnTo>
                        <a:pt x="41" y="211"/>
                      </a:lnTo>
                      <a:lnTo>
                        <a:pt x="12" y="212"/>
                      </a:lnTo>
                      <a:lnTo>
                        <a:pt x="12" y="212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2826720" y="4460760"/>
                  <a:ext cx="33120" cy="138240"/>
                </a:xfrm>
                <a:custGeom>
                  <a:avLst/>
                  <a:gdLst/>
                  <a:ahLst/>
                  <a:rect l="l" t="t" r="r" b="b"/>
                  <a:pathLst>
                    <a:path w="42" h="174">
                      <a:moveTo>
                        <a:pt x="32" y="169"/>
                      </a:moveTo>
                      <a:lnTo>
                        <a:pt x="32" y="53"/>
                      </a:lnTo>
                      <a:lnTo>
                        <a:pt x="32" y="49"/>
                      </a:lnTo>
                      <a:lnTo>
                        <a:pt x="36" y="42"/>
                      </a:lnTo>
                      <a:lnTo>
                        <a:pt x="38" y="35"/>
                      </a:lnTo>
                      <a:lnTo>
                        <a:pt x="41" y="30"/>
                      </a:lnTo>
                      <a:lnTo>
                        <a:pt x="41" y="23"/>
                      </a:lnTo>
                      <a:lnTo>
                        <a:pt x="42" y="18"/>
                      </a:lnTo>
                      <a:lnTo>
                        <a:pt x="40" y="11"/>
                      </a:lnTo>
                      <a:lnTo>
                        <a:pt x="37" y="7"/>
                      </a:lnTo>
                      <a:lnTo>
                        <a:pt x="33" y="2"/>
                      </a:lnTo>
                      <a:lnTo>
                        <a:pt x="31" y="1"/>
                      </a:lnTo>
                      <a:lnTo>
                        <a:pt x="21" y="0"/>
                      </a:lnTo>
                      <a:lnTo>
                        <a:pt x="11" y="2"/>
                      </a:lnTo>
                      <a:lnTo>
                        <a:pt x="7" y="4"/>
                      </a:lnTo>
                      <a:lnTo>
                        <a:pt x="4" y="9"/>
                      </a:lnTo>
                      <a:lnTo>
                        <a:pt x="2" y="14"/>
                      </a:lnTo>
                      <a:lnTo>
                        <a:pt x="1" y="21"/>
                      </a:lnTo>
                      <a:lnTo>
                        <a:pt x="0" y="26"/>
                      </a:lnTo>
                      <a:lnTo>
                        <a:pt x="1" y="34"/>
                      </a:lnTo>
                      <a:lnTo>
                        <a:pt x="3" y="42"/>
                      </a:lnTo>
                      <a:lnTo>
                        <a:pt x="7" y="49"/>
                      </a:lnTo>
                      <a:lnTo>
                        <a:pt x="7" y="174"/>
                      </a:lnTo>
                      <a:lnTo>
                        <a:pt x="32" y="169"/>
                      </a:lnTo>
                      <a:lnTo>
                        <a:pt x="32" y="169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>
                  <a:off x="2875320" y="4854600"/>
                  <a:ext cx="93960" cy="293760"/>
                </a:xfrm>
                <a:custGeom>
                  <a:avLst/>
                  <a:gdLst/>
                  <a:ahLst/>
                  <a:rect l="l" t="t" r="r" b="b"/>
                  <a:pathLst>
                    <a:path w="120" h="372">
                      <a:moveTo>
                        <a:pt x="120" y="31"/>
                      </a:moveTo>
                      <a:lnTo>
                        <a:pt x="118" y="30"/>
                      </a:lnTo>
                      <a:lnTo>
                        <a:pt x="114" y="30"/>
                      </a:lnTo>
                      <a:lnTo>
                        <a:pt x="108" y="30"/>
                      </a:lnTo>
                      <a:lnTo>
                        <a:pt x="100" y="32"/>
                      </a:lnTo>
                      <a:lnTo>
                        <a:pt x="90" y="33"/>
                      </a:lnTo>
                      <a:lnTo>
                        <a:pt x="80" y="37"/>
                      </a:lnTo>
                      <a:lnTo>
                        <a:pt x="70" y="39"/>
                      </a:lnTo>
                      <a:lnTo>
                        <a:pt x="61" y="46"/>
                      </a:lnTo>
                      <a:lnTo>
                        <a:pt x="51" y="50"/>
                      </a:lnTo>
                      <a:lnTo>
                        <a:pt x="44" y="59"/>
                      </a:lnTo>
                      <a:lnTo>
                        <a:pt x="35" y="69"/>
                      </a:lnTo>
                      <a:lnTo>
                        <a:pt x="31" y="82"/>
                      </a:lnTo>
                      <a:lnTo>
                        <a:pt x="27" y="95"/>
                      </a:lnTo>
                      <a:lnTo>
                        <a:pt x="27" y="112"/>
                      </a:lnTo>
                      <a:lnTo>
                        <a:pt x="30" y="131"/>
                      </a:lnTo>
                      <a:lnTo>
                        <a:pt x="38" y="154"/>
                      </a:lnTo>
                      <a:lnTo>
                        <a:pt x="39" y="156"/>
                      </a:lnTo>
                      <a:lnTo>
                        <a:pt x="44" y="158"/>
                      </a:lnTo>
                      <a:lnTo>
                        <a:pt x="48" y="161"/>
                      </a:lnTo>
                      <a:lnTo>
                        <a:pt x="55" y="164"/>
                      </a:lnTo>
                      <a:lnTo>
                        <a:pt x="59" y="165"/>
                      </a:lnTo>
                      <a:lnTo>
                        <a:pt x="65" y="165"/>
                      </a:lnTo>
                      <a:lnTo>
                        <a:pt x="68" y="166"/>
                      </a:lnTo>
                      <a:lnTo>
                        <a:pt x="69" y="167"/>
                      </a:lnTo>
                      <a:lnTo>
                        <a:pt x="69" y="372"/>
                      </a:lnTo>
                      <a:lnTo>
                        <a:pt x="40" y="372"/>
                      </a:lnTo>
                      <a:lnTo>
                        <a:pt x="38" y="166"/>
                      </a:lnTo>
                      <a:lnTo>
                        <a:pt x="34" y="164"/>
                      </a:lnTo>
                      <a:lnTo>
                        <a:pt x="27" y="155"/>
                      </a:lnTo>
                      <a:lnTo>
                        <a:pt x="23" y="148"/>
                      </a:lnTo>
                      <a:lnTo>
                        <a:pt x="17" y="142"/>
                      </a:lnTo>
                      <a:lnTo>
                        <a:pt x="12" y="135"/>
                      </a:lnTo>
                      <a:lnTo>
                        <a:pt x="9" y="127"/>
                      </a:lnTo>
                      <a:lnTo>
                        <a:pt x="4" y="117"/>
                      </a:lnTo>
                      <a:lnTo>
                        <a:pt x="2" y="106"/>
                      </a:lnTo>
                      <a:lnTo>
                        <a:pt x="0" y="95"/>
                      </a:lnTo>
                      <a:lnTo>
                        <a:pt x="0" y="84"/>
                      </a:lnTo>
                      <a:lnTo>
                        <a:pt x="3" y="72"/>
                      </a:lnTo>
                      <a:lnTo>
                        <a:pt x="8" y="60"/>
                      </a:lnTo>
                      <a:lnTo>
                        <a:pt x="15" y="47"/>
                      </a:lnTo>
                      <a:lnTo>
                        <a:pt x="25" y="33"/>
                      </a:lnTo>
                      <a:lnTo>
                        <a:pt x="35" y="21"/>
                      </a:lnTo>
                      <a:lnTo>
                        <a:pt x="46" y="12"/>
                      </a:lnTo>
                      <a:lnTo>
                        <a:pt x="56" y="5"/>
                      </a:lnTo>
                      <a:lnTo>
                        <a:pt x="66" y="2"/>
                      </a:lnTo>
                      <a:lnTo>
                        <a:pt x="72" y="0"/>
                      </a:lnTo>
                      <a:lnTo>
                        <a:pt x="80" y="0"/>
                      </a:lnTo>
                      <a:lnTo>
                        <a:pt x="88" y="2"/>
                      </a:lnTo>
                      <a:lnTo>
                        <a:pt x="94" y="5"/>
                      </a:lnTo>
                      <a:lnTo>
                        <a:pt x="100" y="8"/>
                      </a:lnTo>
                      <a:lnTo>
                        <a:pt x="104" y="12"/>
                      </a:lnTo>
                      <a:lnTo>
                        <a:pt x="109" y="16"/>
                      </a:lnTo>
                      <a:lnTo>
                        <a:pt x="113" y="21"/>
                      </a:lnTo>
                      <a:lnTo>
                        <a:pt x="118" y="27"/>
                      </a:lnTo>
                      <a:lnTo>
                        <a:pt x="120" y="31"/>
                      </a:lnTo>
                      <a:lnTo>
                        <a:pt x="120" y="31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>
                  <a:off x="1157760" y="5234040"/>
                  <a:ext cx="157320" cy="56880"/>
                </a:xfrm>
                <a:custGeom>
                  <a:avLst/>
                  <a:gdLst/>
                  <a:ahLst/>
                  <a:rect l="l" t="t" r="r" b="b"/>
                  <a:pathLst>
                    <a:path w="197" h="72">
                      <a:moveTo>
                        <a:pt x="5" y="43"/>
                      </a:moveTo>
                      <a:lnTo>
                        <a:pt x="0" y="18"/>
                      </a:lnTo>
                      <a:lnTo>
                        <a:pt x="10" y="18"/>
                      </a:lnTo>
                      <a:lnTo>
                        <a:pt x="11" y="38"/>
                      </a:lnTo>
                      <a:lnTo>
                        <a:pt x="36" y="35"/>
                      </a:lnTo>
                      <a:lnTo>
                        <a:pt x="34" y="8"/>
                      </a:lnTo>
                      <a:lnTo>
                        <a:pt x="44" y="5"/>
                      </a:lnTo>
                      <a:lnTo>
                        <a:pt x="45" y="31"/>
                      </a:lnTo>
                      <a:lnTo>
                        <a:pt x="62" y="30"/>
                      </a:lnTo>
                      <a:lnTo>
                        <a:pt x="62" y="0"/>
                      </a:lnTo>
                      <a:lnTo>
                        <a:pt x="74" y="4"/>
                      </a:lnTo>
                      <a:lnTo>
                        <a:pt x="72" y="33"/>
                      </a:lnTo>
                      <a:lnTo>
                        <a:pt x="93" y="38"/>
                      </a:lnTo>
                      <a:lnTo>
                        <a:pt x="96" y="10"/>
                      </a:lnTo>
                      <a:lnTo>
                        <a:pt x="110" y="14"/>
                      </a:lnTo>
                      <a:lnTo>
                        <a:pt x="103" y="39"/>
                      </a:lnTo>
                      <a:lnTo>
                        <a:pt x="125" y="48"/>
                      </a:lnTo>
                      <a:lnTo>
                        <a:pt x="131" y="21"/>
                      </a:lnTo>
                      <a:lnTo>
                        <a:pt x="145" y="25"/>
                      </a:lnTo>
                      <a:lnTo>
                        <a:pt x="133" y="49"/>
                      </a:lnTo>
                      <a:lnTo>
                        <a:pt x="149" y="54"/>
                      </a:lnTo>
                      <a:lnTo>
                        <a:pt x="156" y="31"/>
                      </a:lnTo>
                      <a:lnTo>
                        <a:pt x="168" y="35"/>
                      </a:lnTo>
                      <a:lnTo>
                        <a:pt x="154" y="57"/>
                      </a:lnTo>
                      <a:lnTo>
                        <a:pt x="175" y="64"/>
                      </a:lnTo>
                      <a:lnTo>
                        <a:pt x="182" y="41"/>
                      </a:lnTo>
                      <a:lnTo>
                        <a:pt x="197" y="51"/>
                      </a:lnTo>
                      <a:lnTo>
                        <a:pt x="180" y="72"/>
                      </a:lnTo>
                      <a:lnTo>
                        <a:pt x="120" y="54"/>
                      </a:lnTo>
                      <a:lnTo>
                        <a:pt x="59" y="43"/>
                      </a:lnTo>
                      <a:lnTo>
                        <a:pt x="5" y="43"/>
                      </a:lnTo>
                      <a:lnTo>
                        <a:pt x="5" y="43"/>
                      </a:lnTo>
                      <a:close/>
                    </a:path>
                  </a:pathLst>
                </a:custGeom>
                <a:solidFill>
                  <a:srgbClr val="4d36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1207440" y="5302080"/>
                  <a:ext cx="139680" cy="92160"/>
                </a:xfrm>
                <a:custGeom>
                  <a:avLst/>
                  <a:gdLst/>
                  <a:ahLst/>
                  <a:rect l="l" t="t" r="r" b="b"/>
                  <a:pathLst>
                    <a:path w="175" h="115">
                      <a:moveTo>
                        <a:pt x="175" y="92"/>
                      </a:moveTo>
                      <a:lnTo>
                        <a:pt x="171" y="115"/>
                      </a:lnTo>
                      <a:lnTo>
                        <a:pt x="161" y="111"/>
                      </a:lnTo>
                      <a:lnTo>
                        <a:pt x="166" y="93"/>
                      </a:lnTo>
                      <a:lnTo>
                        <a:pt x="145" y="85"/>
                      </a:lnTo>
                      <a:lnTo>
                        <a:pt x="137" y="113"/>
                      </a:lnTo>
                      <a:lnTo>
                        <a:pt x="127" y="110"/>
                      </a:lnTo>
                      <a:lnTo>
                        <a:pt x="136" y="86"/>
                      </a:lnTo>
                      <a:lnTo>
                        <a:pt x="118" y="83"/>
                      </a:lnTo>
                      <a:lnTo>
                        <a:pt x="109" y="109"/>
                      </a:lnTo>
                      <a:lnTo>
                        <a:pt x="97" y="100"/>
                      </a:lnTo>
                      <a:lnTo>
                        <a:pt x="110" y="75"/>
                      </a:lnTo>
                      <a:lnTo>
                        <a:pt x="91" y="63"/>
                      </a:lnTo>
                      <a:lnTo>
                        <a:pt x="80" y="86"/>
                      </a:lnTo>
                      <a:lnTo>
                        <a:pt x="67" y="78"/>
                      </a:lnTo>
                      <a:lnTo>
                        <a:pt x="84" y="59"/>
                      </a:lnTo>
                      <a:lnTo>
                        <a:pt x="66" y="43"/>
                      </a:lnTo>
                      <a:lnTo>
                        <a:pt x="50" y="64"/>
                      </a:lnTo>
                      <a:lnTo>
                        <a:pt x="38" y="57"/>
                      </a:lnTo>
                      <a:lnTo>
                        <a:pt x="58" y="39"/>
                      </a:lnTo>
                      <a:lnTo>
                        <a:pt x="46" y="27"/>
                      </a:lnTo>
                      <a:lnTo>
                        <a:pt x="30" y="47"/>
                      </a:lnTo>
                      <a:lnTo>
                        <a:pt x="21" y="37"/>
                      </a:lnTo>
                      <a:lnTo>
                        <a:pt x="40" y="21"/>
                      </a:lnTo>
                      <a:lnTo>
                        <a:pt x="25" y="8"/>
                      </a:lnTo>
                      <a:lnTo>
                        <a:pt x="11" y="29"/>
                      </a:lnTo>
                      <a:lnTo>
                        <a:pt x="0" y="13"/>
                      </a:lnTo>
                      <a:lnTo>
                        <a:pt x="23" y="0"/>
                      </a:lnTo>
                      <a:lnTo>
                        <a:pt x="74" y="37"/>
                      </a:lnTo>
                      <a:lnTo>
                        <a:pt x="127" y="72"/>
                      </a:lnTo>
                      <a:lnTo>
                        <a:pt x="175" y="92"/>
                      </a:lnTo>
                      <a:lnTo>
                        <a:pt x="175" y="92"/>
                      </a:lnTo>
                      <a:close/>
                    </a:path>
                  </a:pathLst>
                </a:custGeom>
                <a:solidFill>
                  <a:srgbClr val="4d36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956520" y="5970600"/>
                  <a:ext cx="959040" cy="260280"/>
                </a:xfrm>
                <a:custGeom>
                  <a:avLst/>
                  <a:gdLst/>
                  <a:ahLst/>
                  <a:rect l="l" t="t" r="r" b="b"/>
                  <a:pathLst>
                    <a:path w="1209" h="328">
                      <a:moveTo>
                        <a:pt x="134" y="0"/>
                      </a:moveTo>
                      <a:lnTo>
                        <a:pt x="384" y="120"/>
                      </a:lnTo>
                      <a:lnTo>
                        <a:pt x="82" y="81"/>
                      </a:lnTo>
                      <a:lnTo>
                        <a:pt x="353" y="163"/>
                      </a:lnTo>
                      <a:lnTo>
                        <a:pt x="6" y="120"/>
                      </a:lnTo>
                      <a:lnTo>
                        <a:pt x="315" y="202"/>
                      </a:lnTo>
                      <a:lnTo>
                        <a:pt x="33" y="172"/>
                      </a:lnTo>
                      <a:lnTo>
                        <a:pt x="269" y="241"/>
                      </a:lnTo>
                      <a:lnTo>
                        <a:pt x="0" y="210"/>
                      </a:lnTo>
                      <a:lnTo>
                        <a:pt x="210" y="297"/>
                      </a:lnTo>
                      <a:lnTo>
                        <a:pt x="213" y="297"/>
                      </a:lnTo>
                      <a:lnTo>
                        <a:pt x="221" y="299"/>
                      </a:lnTo>
                      <a:lnTo>
                        <a:pt x="236" y="300"/>
                      </a:lnTo>
                      <a:lnTo>
                        <a:pt x="256" y="305"/>
                      </a:lnTo>
                      <a:lnTo>
                        <a:pt x="279" y="308"/>
                      </a:lnTo>
                      <a:lnTo>
                        <a:pt x="308" y="312"/>
                      </a:lnTo>
                      <a:lnTo>
                        <a:pt x="339" y="318"/>
                      </a:lnTo>
                      <a:lnTo>
                        <a:pt x="375" y="322"/>
                      </a:lnTo>
                      <a:lnTo>
                        <a:pt x="412" y="327"/>
                      </a:lnTo>
                      <a:lnTo>
                        <a:pt x="452" y="328"/>
                      </a:lnTo>
                      <a:lnTo>
                        <a:pt x="493" y="328"/>
                      </a:lnTo>
                      <a:lnTo>
                        <a:pt x="536" y="328"/>
                      </a:lnTo>
                      <a:lnTo>
                        <a:pt x="580" y="328"/>
                      </a:lnTo>
                      <a:lnTo>
                        <a:pt x="625" y="328"/>
                      </a:lnTo>
                      <a:lnTo>
                        <a:pt x="669" y="328"/>
                      </a:lnTo>
                      <a:lnTo>
                        <a:pt x="713" y="328"/>
                      </a:lnTo>
                      <a:lnTo>
                        <a:pt x="755" y="328"/>
                      </a:lnTo>
                      <a:lnTo>
                        <a:pt x="798" y="320"/>
                      </a:lnTo>
                      <a:lnTo>
                        <a:pt x="842" y="307"/>
                      </a:lnTo>
                      <a:lnTo>
                        <a:pt x="887" y="293"/>
                      </a:lnTo>
                      <a:lnTo>
                        <a:pt x="928" y="275"/>
                      </a:lnTo>
                      <a:lnTo>
                        <a:pt x="969" y="257"/>
                      </a:lnTo>
                      <a:lnTo>
                        <a:pt x="1008" y="238"/>
                      </a:lnTo>
                      <a:lnTo>
                        <a:pt x="1046" y="220"/>
                      </a:lnTo>
                      <a:lnTo>
                        <a:pt x="1079" y="200"/>
                      </a:lnTo>
                      <a:lnTo>
                        <a:pt x="1111" y="182"/>
                      </a:lnTo>
                      <a:lnTo>
                        <a:pt x="1139" y="164"/>
                      </a:lnTo>
                      <a:lnTo>
                        <a:pt x="1162" y="150"/>
                      </a:lnTo>
                      <a:lnTo>
                        <a:pt x="1182" y="137"/>
                      </a:lnTo>
                      <a:lnTo>
                        <a:pt x="1195" y="128"/>
                      </a:lnTo>
                      <a:lnTo>
                        <a:pt x="1205" y="122"/>
                      </a:lnTo>
                      <a:lnTo>
                        <a:pt x="1209" y="120"/>
                      </a:lnTo>
                      <a:lnTo>
                        <a:pt x="1203" y="119"/>
                      </a:lnTo>
                      <a:lnTo>
                        <a:pt x="1186" y="119"/>
                      </a:lnTo>
                      <a:lnTo>
                        <a:pt x="1161" y="119"/>
                      </a:lnTo>
                      <a:lnTo>
                        <a:pt x="1130" y="119"/>
                      </a:lnTo>
                      <a:lnTo>
                        <a:pt x="1091" y="119"/>
                      </a:lnTo>
                      <a:lnTo>
                        <a:pt x="1048" y="119"/>
                      </a:lnTo>
                      <a:lnTo>
                        <a:pt x="1002" y="119"/>
                      </a:lnTo>
                      <a:lnTo>
                        <a:pt x="955" y="119"/>
                      </a:lnTo>
                      <a:lnTo>
                        <a:pt x="905" y="118"/>
                      </a:lnTo>
                      <a:lnTo>
                        <a:pt x="857" y="117"/>
                      </a:lnTo>
                      <a:lnTo>
                        <a:pt x="811" y="116"/>
                      </a:lnTo>
                      <a:lnTo>
                        <a:pt x="770" y="116"/>
                      </a:lnTo>
                      <a:lnTo>
                        <a:pt x="731" y="115"/>
                      </a:lnTo>
                      <a:lnTo>
                        <a:pt x="701" y="113"/>
                      </a:lnTo>
                      <a:lnTo>
                        <a:pt x="678" y="113"/>
                      </a:lnTo>
                      <a:lnTo>
                        <a:pt x="665" y="112"/>
                      </a:lnTo>
                      <a:lnTo>
                        <a:pt x="650" y="108"/>
                      </a:lnTo>
                      <a:lnTo>
                        <a:pt x="627" y="103"/>
                      </a:lnTo>
                      <a:lnTo>
                        <a:pt x="597" y="97"/>
                      </a:lnTo>
                      <a:lnTo>
                        <a:pt x="561" y="90"/>
                      </a:lnTo>
                      <a:lnTo>
                        <a:pt x="519" y="79"/>
                      </a:lnTo>
                      <a:lnTo>
                        <a:pt x="475" y="70"/>
                      </a:lnTo>
                      <a:lnTo>
                        <a:pt x="427" y="60"/>
                      </a:lnTo>
                      <a:lnTo>
                        <a:pt x="381" y="51"/>
                      </a:lnTo>
                      <a:lnTo>
                        <a:pt x="332" y="42"/>
                      </a:lnTo>
                      <a:lnTo>
                        <a:pt x="288" y="32"/>
                      </a:lnTo>
                      <a:lnTo>
                        <a:pt x="246" y="22"/>
                      </a:lnTo>
                      <a:lnTo>
                        <a:pt x="209" y="15"/>
                      </a:lnTo>
                      <a:lnTo>
                        <a:pt x="177" y="8"/>
                      </a:lnTo>
                      <a:lnTo>
                        <a:pt x="154" y="4"/>
                      </a:lnTo>
                      <a:lnTo>
                        <a:pt x="138" y="0"/>
                      </a:lnTo>
                      <a:lnTo>
                        <a:pt x="134" y="0"/>
                      </a:lnTo>
                      <a:lnTo>
                        <a:pt x="134" y="0"/>
                      </a:lnTo>
                      <a:close/>
                    </a:path>
                  </a:pathLst>
                </a:custGeom>
                <a:solidFill>
                  <a:srgbClr val="7d7d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26" name="" descr=""/>
              <p:cNvPicPr/>
              <p:nvPr/>
            </p:nvPicPr>
            <p:blipFill>
              <a:blip r:embed="rId3"/>
              <a:stretch/>
            </p:blipFill>
            <p:spPr>
              <a:xfrm rot="5400000">
                <a:off x="789480" y="5164200"/>
                <a:ext cx="630360" cy="114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4"/>
              <a:stretch/>
            </p:blipFill>
            <p:spPr>
              <a:xfrm rot="5400000">
                <a:off x="941400" y="4935600"/>
                <a:ext cx="630360" cy="1142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8" name=""/>
            <p:cNvSpPr/>
            <p:nvPr/>
          </p:nvSpPr>
          <p:spPr>
            <a:xfrm>
              <a:off x="5871240" y="3718080"/>
              <a:ext cx="2965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Except for 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and 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3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819600" cy="1676520"/>
          </a:xfrm>
          <a:prstGeom prst="rect">
            <a:avLst/>
          </a:prstGeom>
          <a:ln w="0">
            <a:noFill/>
          </a:ln>
        </p:spPr>
      </p:pic>
      <p:sp>
        <p:nvSpPr>
          <p:cNvPr id="1694" name=""/>
          <p:cNvSpPr/>
          <p:nvPr/>
        </p:nvSpPr>
        <p:spPr>
          <a:xfrm>
            <a:off x="4495680" y="3505320"/>
            <a:ext cx="48006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ximum flow is 1+2=3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inimum cut is 1+2=3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are always equ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5" name="" descr=""/>
          <p:cNvPicPr/>
          <p:nvPr/>
        </p:nvPicPr>
        <p:blipFill>
          <a:blip r:embed="rId2"/>
          <a:stretch/>
        </p:blipFill>
        <p:spPr>
          <a:xfrm>
            <a:off x="66600" y="4809960"/>
            <a:ext cx="4353120" cy="2048040"/>
          </a:xfrm>
          <a:prstGeom prst="rect">
            <a:avLst/>
          </a:prstGeom>
          <a:ln w="0">
            <a:noFill/>
          </a:ln>
        </p:spPr>
      </p:pic>
      <p:sp>
        <p:nvSpPr>
          <p:cNvPr id="1696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7" name="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38862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0" dur="indefinite" restart="never" nodeType="tmRoot">
          <p:childTnLst>
            <p:seq>
              <p:cTn id="2231" dur="indefinite" nodeType="mainSeq">
                <p:childTnLst>
                  <p:par>
                    <p:cTn id="2232" fill="hold">
                      <p:stCondLst>
                        <p:cond delay="0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1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1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1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1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1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1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imal-Dual 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699" name=""/>
          <p:cNvGrpSpPr/>
          <p:nvPr/>
        </p:nvGrpSpPr>
        <p:grpSpPr>
          <a:xfrm>
            <a:off x="685800" y="993600"/>
            <a:ext cx="7162560" cy="2892600"/>
            <a:chOff x="685800" y="993600"/>
            <a:chExt cx="7162560" cy="2892600"/>
          </a:xfrm>
        </p:grpSpPr>
        <p:pic>
          <p:nvPicPr>
            <p:cNvPr id="1700" name="" descr=""/>
            <p:cNvPicPr/>
            <p:nvPr/>
          </p:nvPicPr>
          <p:blipFill>
            <a:blip r:embed="rId1"/>
            <a:stretch/>
          </p:blipFill>
          <p:spPr>
            <a:xfrm>
              <a:off x="2971800" y="993600"/>
              <a:ext cx="2971800" cy="28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1" name=""/>
            <p:cNvSpPr/>
            <p:nvPr/>
          </p:nvSpPr>
          <p:spPr>
            <a:xfrm>
              <a:off x="4292640" y="1374480"/>
              <a:ext cx="0" cy="4572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02" name=""/>
            <p:cNvGrpSpPr/>
            <p:nvPr/>
          </p:nvGrpSpPr>
          <p:grpSpPr>
            <a:xfrm>
              <a:off x="685800" y="1403280"/>
              <a:ext cx="2589840" cy="1935000"/>
              <a:chOff x="685800" y="1403280"/>
              <a:chExt cx="2589840" cy="1935000"/>
            </a:xfrm>
          </p:grpSpPr>
          <p:grpSp>
            <p:nvGrpSpPr>
              <p:cNvPr id="1703" name=""/>
              <p:cNvGrpSpPr/>
              <p:nvPr/>
            </p:nvGrpSpPr>
            <p:grpSpPr>
              <a:xfrm>
                <a:off x="930960" y="1403280"/>
                <a:ext cx="2344680" cy="1935000"/>
                <a:chOff x="930960" y="1403280"/>
                <a:chExt cx="2344680" cy="1935000"/>
              </a:xfrm>
            </p:grpSpPr>
            <p:sp>
              <p:nvSpPr>
                <p:cNvPr id="1704" name=""/>
                <p:cNvSpPr/>
                <p:nvPr/>
              </p:nvSpPr>
              <p:spPr>
                <a:xfrm flipH="1">
                  <a:off x="930600" y="1403280"/>
                  <a:ext cx="2320920" cy="1836720"/>
                </a:xfrm>
                <a:custGeom>
                  <a:avLst/>
                  <a:gdLst/>
                  <a:ahLst/>
                  <a:rect l="l" t="t" r="r" b="b"/>
                  <a:pathLst>
                    <a:path w="2924" h="2314">
                      <a:moveTo>
                        <a:pt x="1167" y="80"/>
                      </a:moveTo>
                      <a:lnTo>
                        <a:pt x="1111" y="69"/>
                      </a:lnTo>
                      <a:lnTo>
                        <a:pt x="1064" y="58"/>
                      </a:lnTo>
                      <a:lnTo>
                        <a:pt x="1024" y="47"/>
                      </a:lnTo>
                      <a:lnTo>
                        <a:pt x="993" y="38"/>
                      </a:lnTo>
                      <a:lnTo>
                        <a:pt x="964" y="29"/>
                      </a:lnTo>
                      <a:lnTo>
                        <a:pt x="943" y="22"/>
                      </a:lnTo>
                      <a:lnTo>
                        <a:pt x="925" y="14"/>
                      </a:lnTo>
                      <a:lnTo>
                        <a:pt x="911" y="11"/>
                      </a:lnTo>
                      <a:lnTo>
                        <a:pt x="898" y="6"/>
                      </a:lnTo>
                      <a:lnTo>
                        <a:pt x="885" y="2"/>
                      </a:lnTo>
                      <a:lnTo>
                        <a:pt x="873" y="0"/>
                      </a:lnTo>
                      <a:lnTo>
                        <a:pt x="862" y="0"/>
                      </a:lnTo>
                      <a:lnTo>
                        <a:pt x="848" y="0"/>
                      </a:lnTo>
                      <a:lnTo>
                        <a:pt x="831" y="1"/>
                      </a:lnTo>
                      <a:lnTo>
                        <a:pt x="811" y="5"/>
                      </a:lnTo>
                      <a:lnTo>
                        <a:pt x="788" y="11"/>
                      </a:lnTo>
                      <a:lnTo>
                        <a:pt x="759" y="14"/>
                      </a:lnTo>
                      <a:lnTo>
                        <a:pt x="733" y="19"/>
                      </a:lnTo>
                      <a:lnTo>
                        <a:pt x="706" y="21"/>
                      </a:lnTo>
                      <a:lnTo>
                        <a:pt x="680" y="23"/>
                      </a:lnTo>
                      <a:lnTo>
                        <a:pt x="653" y="24"/>
                      </a:lnTo>
                      <a:lnTo>
                        <a:pt x="628" y="26"/>
                      </a:lnTo>
                      <a:lnTo>
                        <a:pt x="601" y="28"/>
                      </a:lnTo>
                      <a:lnTo>
                        <a:pt x="576" y="31"/>
                      </a:lnTo>
                      <a:lnTo>
                        <a:pt x="550" y="33"/>
                      </a:lnTo>
                      <a:lnTo>
                        <a:pt x="525" y="38"/>
                      </a:lnTo>
                      <a:lnTo>
                        <a:pt x="500" y="43"/>
                      </a:lnTo>
                      <a:lnTo>
                        <a:pt x="474" y="51"/>
                      </a:lnTo>
                      <a:lnTo>
                        <a:pt x="449" y="60"/>
                      </a:lnTo>
                      <a:lnTo>
                        <a:pt x="423" y="72"/>
                      </a:lnTo>
                      <a:lnTo>
                        <a:pt x="398" y="87"/>
                      </a:lnTo>
                      <a:lnTo>
                        <a:pt x="372" y="105"/>
                      </a:lnTo>
                      <a:lnTo>
                        <a:pt x="346" y="124"/>
                      </a:lnTo>
                      <a:lnTo>
                        <a:pt x="324" y="142"/>
                      </a:lnTo>
                      <a:lnTo>
                        <a:pt x="301" y="159"/>
                      </a:lnTo>
                      <a:lnTo>
                        <a:pt x="281" y="177"/>
                      </a:lnTo>
                      <a:lnTo>
                        <a:pt x="262" y="194"/>
                      </a:lnTo>
                      <a:lnTo>
                        <a:pt x="244" y="210"/>
                      </a:lnTo>
                      <a:lnTo>
                        <a:pt x="230" y="228"/>
                      </a:lnTo>
                      <a:lnTo>
                        <a:pt x="217" y="244"/>
                      </a:lnTo>
                      <a:lnTo>
                        <a:pt x="203" y="261"/>
                      </a:lnTo>
                      <a:lnTo>
                        <a:pt x="194" y="278"/>
                      </a:lnTo>
                      <a:lnTo>
                        <a:pt x="186" y="294"/>
                      </a:lnTo>
                      <a:lnTo>
                        <a:pt x="180" y="312"/>
                      </a:lnTo>
                      <a:lnTo>
                        <a:pt x="175" y="331"/>
                      </a:lnTo>
                      <a:lnTo>
                        <a:pt x="173" y="348"/>
                      </a:lnTo>
                      <a:lnTo>
                        <a:pt x="173" y="368"/>
                      </a:lnTo>
                      <a:lnTo>
                        <a:pt x="176" y="389"/>
                      </a:lnTo>
                      <a:lnTo>
                        <a:pt x="176" y="407"/>
                      </a:lnTo>
                      <a:lnTo>
                        <a:pt x="173" y="426"/>
                      </a:lnTo>
                      <a:lnTo>
                        <a:pt x="167" y="441"/>
                      </a:lnTo>
                      <a:lnTo>
                        <a:pt x="158" y="458"/>
                      </a:lnTo>
                      <a:lnTo>
                        <a:pt x="146" y="473"/>
                      </a:lnTo>
                      <a:lnTo>
                        <a:pt x="133" y="488"/>
                      </a:lnTo>
                      <a:lnTo>
                        <a:pt x="118" y="502"/>
                      </a:lnTo>
                      <a:lnTo>
                        <a:pt x="104" y="519"/>
                      </a:lnTo>
                      <a:lnTo>
                        <a:pt x="86" y="533"/>
                      </a:lnTo>
                      <a:lnTo>
                        <a:pt x="72" y="552"/>
                      </a:lnTo>
                      <a:lnTo>
                        <a:pt x="56" y="569"/>
                      </a:lnTo>
                      <a:lnTo>
                        <a:pt x="42" y="592"/>
                      </a:lnTo>
                      <a:lnTo>
                        <a:pt x="29" y="614"/>
                      </a:lnTo>
                      <a:lnTo>
                        <a:pt x="18" y="640"/>
                      </a:lnTo>
                      <a:lnTo>
                        <a:pt x="10" y="670"/>
                      </a:lnTo>
                      <a:lnTo>
                        <a:pt x="4" y="703"/>
                      </a:lnTo>
                      <a:lnTo>
                        <a:pt x="1" y="735"/>
                      </a:lnTo>
                      <a:lnTo>
                        <a:pt x="0" y="768"/>
                      </a:lnTo>
                      <a:lnTo>
                        <a:pt x="1" y="799"/>
                      </a:lnTo>
                      <a:lnTo>
                        <a:pt x="4" y="833"/>
                      </a:lnTo>
                      <a:lnTo>
                        <a:pt x="8" y="861"/>
                      </a:lnTo>
                      <a:lnTo>
                        <a:pt x="14" y="891"/>
                      </a:lnTo>
                      <a:lnTo>
                        <a:pt x="20" y="918"/>
                      </a:lnTo>
                      <a:lnTo>
                        <a:pt x="27" y="946"/>
                      </a:lnTo>
                      <a:lnTo>
                        <a:pt x="34" y="971"/>
                      </a:lnTo>
                      <a:lnTo>
                        <a:pt x="42" y="996"/>
                      </a:lnTo>
                      <a:lnTo>
                        <a:pt x="48" y="1018"/>
                      </a:lnTo>
                      <a:lnTo>
                        <a:pt x="56" y="1042"/>
                      </a:lnTo>
                      <a:lnTo>
                        <a:pt x="61" y="1061"/>
                      </a:lnTo>
                      <a:lnTo>
                        <a:pt x="66" y="1081"/>
                      </a:lnTo>
                      <a:lnTo>
                        <a:pt x="71" y="1100"/>
                      </a:lnTo>
                      <a:lnTo>
                        <a:pt x="73" y="1118"/>
                      </a:lnTo>
                      <a:lnTo>
                        <a:pt x="73" y="1134"/>
                      </a:lnTo>
                      <a:lnTo>
                        <a:pt x="72" y="1155"/>
                      </a:lnTo>
                      <a:lnTo>
                        <a:pt x="71" y="1178"/>
                      </a:lnTo>
                      <a:lnTo>
                        <a:pt x="68" y="1203"/>
                      </a:lnTo>
                      <a:lnTo>
                        <a:pt x="63" y="1227"/>
                      </a:lnTo>
                      <a:lnTo>
                        <a:pt x="60" y="1256"/>
                      </a:lnTo>
                      <a:lnTo>
                        <a:pt x="54" y="1286"/>
                      </a:lnTo>
                      <a:lnTo>
                        <a:pt x="50" y="1319"/>
                      </a:lnTo>
                      <a:lnTo>
                        <a:pt x="44" y="1351"/>
                      </a:lnTo>
                      <a:lnTo>
                        <a:pt x="39" y="1384"/>
                      </a:lnTo>
                      <a:lnTo>
                        <a:pt x="33" y="1420"/>
                      </a:lnTo>
                      <a:lnTo>
                        <a:pt x="29" y="1456"/>
                      </a:lnTo>
                      <a:lnTo>
                        <a:pt x="24" y="1493"/>
                      </a:lnTo>
                      <a:lnTo>
                        <a:pt x="21" y="1529"/>
                      </a:lnTo>
                      <a:lnTo>
                        <a:pt x="18" y="1567"/>
                      </a:lnTo>
                      <a:lnTo>
                        <a:pt x="16" y="1607"/>
                      </a:lnTo>
                      <a:lnTo>
                        <a:pt x="15" y="1644"/>
                      </a:lnTo>
                      <a:lnTo>
                        <a:pt x="19" y="1681"/>
                      </a:lnTo>
                      <a:lnTo>
                        <a:pt x="24" y="1717"/>
                      </a:lnTo>
                      <a:lnTo>
                        <a:pt x="32" y="1755"/>
                      </a:lnTo>
                      <a:lnTo>
                        <a:pt x="40" y="1789"/>
                      </a:lnTo>
                      <a:lnTo>
                        <a:pt x="52" y="1823"/>
                      </a:lnTo>
                      <a:lnTo>
                        <a:pt x="64" y="1855"/>
                      </a:lnTo>
                      <a:lnTo>
                        <a:pt x="77" y="1887"/>
                      </a:lnTo>
                      <a:lnTo>
                        <a:pt x="89" y="1915"/>
                      </a:lnTo>
                      <a:lnTo>
                        <a:pt x="103" y="1943"/>
                      </a:lnTo>
                      <a:lnTo>
                        <a:pt x="115" y="1967"/>
                      </a:lnTo>
                      <a:lnTo>
                        <a:pt x="128" y="1991"/>
                      </a:lnTo>
                      <a:lnTo>
                        <a:pt x="138" y="2011"/>
                      </a:lnTo>
                      <a:lnTo>
                        <a:pt x="147" y="2029"/>
                      </a:lnTo>
                      <a:lnTo>
                        <a:pt x="155" y="2045"/>
                      </a:lnTo>
                      <a:lnTo>
                        <a:pt x="161" y="2059"/>
                      </a:lnTo>
                      <a:lnTo>
                        <a:pt x="166" y="2068"/>
                      </a:lnTo>
                      <a:lnTo>
                        <a:pt x="178" y="2076"/>
                      </a:lnTo>
                      <a:lnTo>
                        <a:pt x="193" y="2084"/>
                      </a:lnTo>
                      <a:lnTo>
                        <a:pt x="212" y="2093"/>
                      </a:lnTo>
                      <a:lnTo>
                        <a:pt x="233" y="2097"/>
                      </a:lnTo>
                      <a:lnTo>
                        <a:pt x="257" y="2104"/>
                      </a:lnTo>
                      <a:lnTo>
                        <a:pt x="284" y="2107"/>
                      </a:lnTo>
                      <a:lnTo>
                        <a:pt x="312" y="2112"/>
                      </a:lnTo>
                      <a:lnTo>
                        <a:pt x="339" y="2114"/>
                      </a:lnTo>
                      <a:lnTo>
                        <a:pt x="369" y="2117"/>
                      </a:lnTo>
                      <a:lnTo>
                        <a:pt x="397" y="2118"/>
                      </a:lnTo>
                      <a:lnTo>
                        <a:pt x="425" y="2119"/>
                      </a:lnTo>
                      <a:lnTo>
                        <a:pt x="451" y="2121"/>
                      </a:lnTo>
                      <a:lnTo>
                        <a:pt x="475" y="2122"/>
                      </a:lnTo>
                      <a:lnTo>
                        <a:pt x="497" y="2122"/>
                      </a:lnTo>
                      <a:lnTo>
                        <a:pt x="517" y="2123"/>
                      </a:lnTo>
                      <a:lnTo>
                        <a:pt x="535" y="2124"/>
                      </a:lnTo>
                      <a:lnTo>
                        <a:pt x="556" y="2131"/>
                      </a:lnTo>
                      <a:lnTo>
                        <a:pt x="579" y="2139"/>
                      </a:lnTo>
                      <a:lnTo>
                        <a:pt x="605" y="2152"/>
                      </a:lnTo>
                      <a:lnTo>
                        <a:pt x="631" y="2164"/>
                      </a:lnTo>
                      <a:lnTo>
                        <a:pt x="661" y="2179"/>
                      </a:lnTo>
                      <a:lnTo>
                        <a:pt x="692" y="2196"/>
                      </a:lnTo>
                      <a:lnTo>
                        <a:pt x="726" y="2212"/>
                      </a:lnTo>
                      <a:lnTo>
                        <a:pt x="762" y="2228"/>
                      </a:lnTo>
                      <a:lnTo>
                        <a:pt x="800" y="2243"/>
                      </a:lnTo>
                      <a:lnTo>
                        <a:pt x="839" y="2258"/>
                      </a:lnTo>
                      <a:lnTo>
                        <a:pt x="883" y="2270"/>
                      </a:lnTo>
                      <a:lnTo>
                        <a:pt x="927" y="2280"/>
                      </a:lnTo>
                      <a:lnTo>
                        <a:pt x="975" y="2288"/>
                      </a:lnTo>
                      <a:lnTo>
                        <a:pt x="1024" y="2291"/>
                      </a:lnTo>
                      <a:lnTo>
                        <a:pt x="1078" y="2292"/>
                      </a:lnTo>
                      <a:lnTo>
                        <a:pt x="1127" y="2285"/>
                      </a:lnTo>
                      <a:lnTo>
                        <a:pt x="1174" y="2278"/>
                      </a:lnTo>
                      <a:lnTo>
                        <a:pt x="1217" y="2267"/>
                      </a:lnTo>
                      <a:lnTo>
                        <a:pt x="1258" y="2255"/>
                      </a:lnTo>
                      <a:lnTo>
                        <a:pt x="1293" y="2241"/>
                      </a:lnTo>
                      <a:lnTo>
                        <a:pt x="1330" y="2227"/>
                      </a:lnTo>
                      <a:lnTo>
                        <a:pt x="1365" y="2212"/>
                      </a:lnTo>
                      <a:lnTo>
                        <a:pt x="1401" y="2201"/>
                      </a:lnTo>
                      <a:lnTo>
                        <a:pt x="1434" y="2190"/>
                      </a:lnTo>
                      <a:lnTo>
                        <a:pt x="1470" y="2183"/>
                      </a:lnTo>
                      <a:lnTo>
                        <a:pt x="1507" y="2178"/>
                      </a:lnTo>
                      <a:lnTo>
                        <a:pt x="1546" y="2178"/>
                      </a:lnTo>
                      <a:lnTo>
                        <a:pt x="1590" y="2183"/>
                      </a:lnTo>
                      <a:lnTo>
                        <a:pt x="1635" y="2192"/>
                      </a:lnTo>
                      <a:lnTo>
                        <a:pt x="1685" y="2209"/>
                      </a:lnTo>
                      <a:lnTo>
                        <a:pt x="1740" y="2233"/>
                      </a:lnTo>
                      <a:lnTo>
                        <a:pt x="1794" y="2258"/>
                      </a:lnTo>
                      <a:lnTo>
                        <a:pt x="1843" y="2276"/>
                      </a:lnTo>
                      <a:lnTo>
                        <a:pt x="1887" y="2291"/>
                      </a:lnTo>
                      <a:lnTo>
                        <a:pt x="1928" y="2303"/>
                      </a:lnTo>
                      <a:lnTo>
                        <a:pt x="1965" y="2310"/>
                      </a:lnTo>
                      <a:lnTo>
                        <a:pt x="2001" y="2314"/>
                      </a:lnTo>
                      <a:lnTo>
                        <a:pt x="2033" y="2314"/>
                      </a:lnTo>
                      <a:lnTo>
                        <a:pt x="2066" y="2314"/>
                      </a:lnTo>
                      <a:lnTo>
                        <a:pt x="2096" y="2309"/>
                      </a:lnTo>
                      <a:lnTo>
                        <a:pt x="2128" y="2304"/>
                      </a:lnTo>
                      <a:lnTo>
                        <a:pt x="2161" y="2295"/>
                      </a:lnTo>
                      <a:lnTo>
                        <a:pt x="2196" y="2288"/>
                      </a:lnTo>
                      <a:lnTo>
                        <a:pt x="2232" y="2279"/>
                      </a:lnTo>
                      <a:lnTo>
                        <a:pt x="2273" y="2270"/>
                      </a:lnTo>
                      <a:lnTo>
                        <a:pt x="2315" y="2260"/>
                      </a:lnTo>
                      <a:lnTo>
                        <a:pt x="2365" y="2253"/>
                      </a:lnTo>
                      <a:lnTo>
                        <a:pt x="2412" y="2247"/>
                      </a:lnTo>
                      <a:lnTo>
                        <a:pt x="2456" y="2242"/>
                      </a:lnTo>
                      <a:lnTo>
                        <a:pt x="2496" y="2240"/>
                      </a:lnTo>
                      <a:lnTo>
                        <a:pt x="2534" y="2241"/>
                      </a:lnTo>
                      <a:lnTo>
                        <a:pt x="2565" y="2241"/>
                      </a:lnTo>
                      <a:lnTo>
                        <a:pt x="2594" y="2244"/>
                      </a:lnTo>
                      <a:lnTo>
                        <a:pt x="2620" y="2246"/>
                      </a:lnTo>
                      <a:lnTo>
                        <a:pt x="2642" y="2247"/>
                      </a:lnTo>
                      <a:lnTo>
                        <a:pt x="2661" y="2247"/>
                      </a:lnTo>
                      <a:lnTo>
                        <a:pt x="2676" y="2243"/>
                      </a:lnTo>
                      <a:lnTo>
                        <a:pt x="2690" y="2237"/>
                      </a:lnTo>
                      <a:lnTo>
                        <a:pt x="2701" y="2230"/>
                      </a:lnTo>
                      <a:lnTo>
                        <a:pt x="2708" y="2217"/>
                      </a:lnTo>
                      <a:lnTo>
                        <a:pt x="2714" y="2200"/>
                      </a:lnTo>
                      <a:lnTo>
                        <a:pt x="2717" y="2179"/>
                      </a:lnTo>
                      <a:lnTo>
                        <a:pt x="2719" y="2154"/>
                      </a:lnTo>
                      <a:lnTo>
                        <a:pt x="2719" y="2123"/>
                      </a:lnTo>
                      <a:lnTo>
                        <a:pt x="2720" y="2096"/>
                      </a:lnTo>
                      <a:lnTo>
                        <a:pt x="2722" y="2073"/>
                      </a:lnTo>
                      <a:lnTo>
                        <a:pt x="2724" y="2050"/>
                      </a:lnTo>
                      <a:lnTo>
                        <a:pt x="2727" y="2028"/>
                      </a:lnTo>
                      <a:lnTo>
                        <a:pt x="2732" y="2009"/>
                      </a:lnTo>
                      <a:lnTo>
                        <a:pt x="2735" y="1991"/>
                      </a:lnTo>
                      <a:lnTo>
                        <a:pt x="2741" y="1975"/>
                      </a:lnTo>
                      <a:lnTo>
                        <a:pt x="2745" y="1957"/>
                      </a:lnTo>
                      <a:lnTo>
                        <a:pt x="2751" y="1943"/>
                      </a:lnTo>
                      <a:lnTo>
                        <a:pt x="2757" y="1926"/>
                      </a:lnTo>
                      <a:lnTo>
                        <a:pt x="2764" y="1911"/>
                      </a:lnTo>
                      <a:lnTo>
                        <a:pt x="2769" y="1895"/>
                      </a:lnTo>
                      <a:lnTo>
                        <a:pt x="2777" y="1880"/>
                      </a:lnTo>
                      <a:lnTo>
                        <a:pt x="2783" y="1863"/>
                      </a:lnTo>
                      <a:lnTo>
                        <a:pt x="2790" y="1846"/>
                      </a:lnTo>
                      <a:lnTo>
                        <a:pt x="2798" y="1829"/>
                      </a:lnTo>
                      <a:lnTo>
                        <a:pt x="2807" y="1813"/>
                      </a:lnTo>
                      <a:lnTo>
                        <a:pt x="2816" y="1798"/>
                      </a:lnTo>
                      <a:lnTo>
                        <a:pt x="2828" y="1783"/>
                      </a:lnTo>
                      <a:lnTo>
                        <a:pt x="2839" y="1768"/>
                      </a:lnTo>
                      <a:lnTo>
                        <a:pt x="2851" y="1754"/>
                      </a:lnTo>
                      <a:lnTo>
                        <a:pt x="2863" y="1737"/>
                      </a:lnTo>
                      <a:lnTo>
                        <a:pt x="2875" y="1723"/>
                      </a:lnTo>
                      <a:lnTo>
                        <a:pt x="2884" y="1704"/>
                      </a:lnTo>
                      <a:lnTo>
                        <a:pt x="2894" y="1686"/>
                      </a:lnTo>
                      <a:lnTo>
                        <a:pt x="2903" y="1665"/>
                      </a:lnTo>
                      <a:lnTo>
                        <a:pt x="2910" y="1643"/>
                      </a:lnTo>
                      <a:lnTo>
                        <a:pt x="2914" y="1618"/>
                      </a:lnTo>
                      <a:lnTo>
                        <a:pt x="2916" y="1590"/>
                      </a:lnTo>
                      <a:lnTo>
                        <a:pt x="2916" y="1560"/>
                      </a:lnTo>
                      <a:lnTo>
                        <a:pt x="2915" y="1527"/>
                      </a:lnTo>
                      <a:lnTo>
                        <a:pt x="2911" y="1490"/>
                      </a:lnTo>
                      <a:lnTo>
                        <a:pt x="2911" y="1457"/>
                      </a:lnTo>
                      <a:lnTo>
                        <a:pt x="2911" y="1424"/>
                      </a:lnTo>
                      <a:lnTo>
                        <a:pt x="2914" y="1392"/>
                      </a:lnTo>
                      <a:lnTo>
                        <a:pt x="2916" y="1360"/>
                      </a:lnTo>
                      <a:lnTo>
                        <a:pt x="2918" y="1331"/>
                      </a:lnTo>
                      <a:lnTo>
                        <a:pt x="2921" y="1300"/>
                      </a:lnTo>
                      <a:lnTo>
                        <a:pt x="2924" y="1274"/>
                      </a:lnTo>
                      <a:lnTo>
                        <a:pt x="2923" y="1244"/>
                      </a:lnTo>
                      <a:lnTo>
                        <a:pt x="2922" y="1216"/>
                      </a:lnTo>
                      <a:lnTo>
                        <a:pt x="2917" y="1190"/>
                      </a:lnTo>
                      <a:lnTo>
                        <a:pt x="2912" y="1163"/>
                      </a:lnTo>
                      <a:lnTo>
                        <a:pt x="2901" y="1136"/>
                      </a:lnTo>
                      <a:lnTo>
                        <a:pt x="2887" y="1111"/>
                      </a:lnTo>
                      <a:lnTo>
                        <a:pt x="2871" y="1087"/>
                      </a:lnTo>
                      <a:lnTo>
                        <a:pt x="2849" y="1063"/>
                      </a:lnTo>
                      <a:lnTo>
                        <a:pt x="2824" y="1037"/>
                      </a:lnTo>
                      <a:lnTo>
                        <a:pt x="2804" y="1015"/>
                      </a:lnTo>
                      <a:lnTo>
                        <a:pt x="2786" y="993"/>
                      </a:lnTo>
                      <a:lnTo>
                        <a:pt x="2768" y="972"/>
                      </a:lnTo>
                      <a:lnTo>
                        <a:pt x="2750" y="952"/>
                      </a:lnTo>
                      <a:lnTo>
                        <a:pt x="2734" y="935"/>
                      </a:lnTo>
                      <a:lnTo>
                        <a:pt x="2714" y="918"/>
                      </a:lnTo>
                      <a:lnTo>
                        <a:pt x="2693" y="903"/>
                      </a:lnTo>
                      <a:lnTo>
                        <a:pt x="2667" y="888"/>
                      </a:lnTo>
                      <a:lnTo>
                        <a:pt x="2641" y="875"/>
                      </a:lnTo>
                      <a:lnTo>
                        <a:pt x="2608" y="861"/>
                      </a:lnTo>
                      <a:lnTo>
                        <a:pt x="2571" y="851"/>
                      </a:lnTo>
                      <a:lnTo>
                        <a:pt x="2528" y="841"/>
                      </a:lnTo>
                      <a:lnTo>
                        <a:pt x="2478" y="834"/>
                      </a:lnTo>
                      <a:lnTo>
                        <a:pt x="2421" y="826"/>
                      </a:lnTo>
                      <a:lnTo>
                        <a:pt x="2357" y="822"/>
                      </a:lnTo>
                      <a:lnTo>
                        <a:pt x="2289" y="814"/>
                      </a:lnTo>
                      <a:lnTo>
                        <a:pt x="2231" y="807"/>
                      </a:lnTo>
                      <a:lnTo>
                        <a:pt x="2175" y="797"/>
                      </a:lnTo>
                      <a:lnTo>
                        <a:pt x="2128" y="787"/>
                      </a:lnTo>
                      <a:lnTo>
                        <a:pt x="2085" y="776"/>
                      </a:lnTo>
                      <a:lnTo>
                        <a:pt x="2047" y="764"/>
                      </a:lnTo>
                      <a:lnTo>
                        <a:pt x="2015" y="750"/>
                      </a:lnTo>
                      <a:lnTo>
                        <a:pt x="1989" y="736"/>
                      </a:lnTo>
                      <a:lnTo>
                        <a:pt x="1963" y="720"/>
                      </a:lnTo>
                      <a:lnTo>
                        <a:pt x="1943" y="705"/>
                      </a:lnTo>
                      <a:lnTo>
                        <a:pt x="1926" y="688"/>
                      </a:lnTo>
                      <a:lnTo>
                        <a:pt x="1912" y="671"/>
                      </a:lnTo>
                      <a:lnTo>
                        <a:pt x="1901" y="654"/>
                      </a:lnTo>
                      <a:lnTo>
                        <a:pt x="1894" y="636"/>
                      </a:lnTo>
                      <a:lnTo>
                        <a:pt x="1887" y="619"/>
                      </a:lnTo>
                      <a:lnTo>
                        <a:pt x="1884" y="603"/>
                      </a:lnTo>
                      <a:lnTo>
                        <a:pt x="1875" y="584"/>
                      </a:lnTo>
                      <a:lnTo>
                        <a:pt x="1860" y="568"/>
                      </a:lnTo>
                      <a:lnTo>
                        <a:pt x="1839" y="554"/>
                      </a:lnTo>
                      <a:lnTo>
                        <a:pt x="1815" y="540"/>
                      </a:lnTo>
                      <a:lnTo>
                        <a:pt x="1785" y="525"/>
                      </a:lnTo>
                      <a:lnTo>
                        <a:pt x="1753" y="512"/>
                      </a:lnTo>
                      <a:lnTo>
                        <a:pt x="1719" y="499"/>
                      </a:lnTo>
                      <a:lnTo>
                        <a:pt x="1685" y="487"/>
                      </a:lnTo>
                      <a:lnTo>
                        <a:pt x="1648" y="472"/>
                      </a:lnTo>
                      <a:lnTo>
                        <a:pt x="1614" y="458"/>
                      </a:lnTo>
                      <a:lnTo>
                        <a:pt x="1581" y="442"/>
                      </a:lnTo>
                      <a:lnTo>
                        <a:pt x="1552" y="428"/>
                      </a:lnTo>
                      <a:lnTo>
                        <a:pt x="1523" y="410"/>
                      </a:lnTo>
                      <a:lnTo>
                        <a:pt x="1501" y="394"/>
                      </a:lnTo>
                      <a:lnTo>
                        <a:pt x="1483" y="374"/>
                      </a:lnTo>
                      <a:lnTo>
                        <a:pt x="1473" y="354"/>
                      </a:lnTo>
                      <a:lnTo>
                        <a:pt x="1461" y="331"/>
                      </a:lnTo>
                      <a:lnTo>
                        <a:pt x="1447" y="309"/>
                      </a:lnTo>
                      <a:lnTo>
                        <a:pt x="1428" y="285"/>
                      </a:lnTo>
                      <a:lnTo>
                        <a:pt x="1407" y="262"/>
                      </a:lnTo>
                      <a:lnTo>
                        <a:pt x="1383" y="238"/>
                      </a:lnTo>
                      <a:lnTo>
                        <a:pt x="1356" y="216"/>
                      </a:lnTo>
                      <a:lnTo>
                        <a:pt x="1330" y="194"/>
                      </a:lnTo>
                      <a:lnTo>
                        <a:pt x="1304" y="174"/>
                      </a:lnTo>
                      <a:lnTo>
                        <a:pt x="1277" y="153"/>
                      </a:lnTo>
                      <a:lnTo>
                        <a:pt x="1251" y="135"/>
                      </a:lnTo>
                      <a:lnTo>
                        <a:pt x="1228" y="118"/>
                      </a:lnTo>
                      <a:lnTo>
                        <a:pt x="1208" y="106"/>
                      </a:lnTo>
                      <a:lnTo>
                        <a:pt x="1190" y="94"/>
                      </a:lnTo>
                      <a:lnTo>
                        <a:pt x="1178" y="86"/>
                      </a:lnTo>
                      <a:lnTo>
                        <a:pt x="1168" y="81"/>
                      </a:lnTo>
                      <a:lnTo>
                        <a:pt x="1167" y="80"/>
                      </a:lnTo>
                      <a:lnTo>
                        <a:pt x="1167" y="80"/>
                      </a:lnTo>
                      <a:close/>
                    </a:path>
                  </a:pathLst>
                </a:custGeom>
                <a:solidFill>
                  <a:srgbClr val="d1c4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 flipH="1">
                  <a:off x="934200" y="2253960"/>
                  <a:ext cx="2301840" cy="803160"/>
                </a:xfrm>
                <a:custGeom>
                  <a:avLst/>
                  <a:gdLst/>
                  <a:ahLst/>
                  <a:rect l="l" t="t" r="r" b="b"/>
                  <a:pathLst>
                    <a:path w="2899" h="1011">
                      <a:moveTo>
                        <a:pt x="0" y="666"/>
                      </a:moveTo>
                      <a:lnTo>
                        <a:pt x="5" y="666"/>
                      </a:lnTo>
                      <a:lnTo>
                        <a:pt x="22" y="667"/>
                      </a:lnTo>
                      <a:lnTo>
                        <a:pt x="48" y="669"/>
                      </a:lnTo>
                      <a:lnTo>
                        <a:pt x="84" y="673"/>
                      </a:lnTo>
                      <a:lnTo>
                        <a:pt x="125" y="675"/>
                      </a:lnTo>
                      <a:lnTo>
                        <a:pt x="174" y="679"/>
                      </a:lnTo>
                      <a:lnTo>
                        <a:pt x="227" y="684"/>
                      </a:lnTo>
                      <a:lnTo>
                        <a:pt x="287" y="689"/>
                      </a:lnTo>
                      <a:lnTo>
                        <a:pt x="347" y="695"/>
                      </a:lnTo>
                      <a:lnTo>
                        <a:pt x="410" y="699"/>
                      </a:lnTo>
                      <a:lnTo>
                        <a:pt x="474" y="706"/>
                      </a:lnTo>
                      <a:lnTo>
                        <a:pt x="537" y="711"/>
                      </a:lnTo>
                      <a:lnTo>
                        <a:pt x="598" y="717"/>
                      </a:lnTo>
                      <a:lnTo>
                        <a:pt x="656" y="723"/>
                      </a:lnTo>
                      <a:lnTo>
                        <a:pt x="711" y="729"/>
                      </a:lnTo>
                      <a:lnTo>
                        <a:pt x="760" y="735"/>
                      </a:lnTo>
                      <a:lnTo>
                        <a:pt x="806" y="738"/>
                      </a:lnTo>
                      <a:lnTo>
                        <a:pt x="851" y="738"/>
                      </a:lnTo>
                      <a:lnTo>
                        <a:pt x="894" y="734"/>
                      </a:lnTo>
                      <a:lnTo>
                        <a:pt x="937" y="727"/>
                      </a:lnTo>
                      <a:lnTo>
                        <a:pt x="977" y="717"/>
                      </a:lnTo>
                      <a:lnTo>
                        <a:pt x="1017" y="705"/>
                      </a:lnTo>
                      <a:lnTo>
                        <a:pt x="1053" y="689"/>
                      </a:lnTo>
                      <a:lnTo>
                        <a:pt x="1089" y="675"/>
                      </a:lnTo>
                      <a:lnTo>
                        <a:pt x="1120" y="655"/>
                      </a:lnTo>
                      <a:lnTo>
                        <a:pt x="1148" y="637"/>
                      </a:lnTo>
                      <a:lnTo>
                        <a:pt x="1175" y="618"/>
                      </a:lnTo>
                      <a:lnTo>
                        <a:pt x="1199" y="597"/>
                      </a:lnTo>
                      <a:lnTo>
                        <a:pt x="1218" y="576"/>
                      </a:lnTo>
                      <a:lnTo>
                        <a:pt x="1235" y="556"/>
                      </a:lnTo>
                      <a:lnTo>
                        <a:pt x="1247" y="536"/>
                      </a:lnTo>
                      <a:lnTo>
                        <a:pt x="1256" y="517"/>
                      </a:lnTo>
                      <a:lnTo>
                        <a:pt x="1263" y="494"/>
                      </a:lnTo>
                      <a:lnTo>
                        <a:pt x="1278" y="466"/>
                      </a:lnTo>
                      <a:lnTo>
                        <a:pt x="1296" y="434"/>
                      </a:lnTo>
                      <a:lnTo>
                        <a:pt x="1320" y="399"/>
                      </a:lnTo>
                      <a:lnTo>
                        <a:pt x="1346" y="360"/>
                      </a:lnTo>
                      <a:lnTo>
                        <a:pt x="1377" y="320"/>
                      </a:lnTo>
                      <a:lnTo>
                        <a:pt x="1411" y="279"/>
                      </a:lnTo>
                      <a:lnTo>
                        <a:pt x="1450" y="238"/>
                      </a:lnTo>
                      <a:lnTo>
                        <a:pt x="1490" y="196"/>
                      </a:lnTo>
                      <a:lnTo>
                        <a:pt x="1532" y="158"/>
                      </a:lnTo>
                      <a:lnTo>
                        <a:pt x="1575" y="121"/>
                      </a:lnTo>
                      <a:lnTo>
                        <a:pt x="1622" y="89"/>
                      </a:lnTo>
                      <a:lnTo>
                        <a:pt x="1667" y="60"/>
                      </a:lnTo>
                      <a:lnTo>
                        <a:pt x="1715" y="37"/>
                      </a:lnTo>
                      <a:lnTo>
                        <a:pt x="1764" y="18"/>
                      </a:lnTo>
                      <a:lnTo>
                        <a:pt x="1812" y="8"/>
                      </a:lnTo>
                      <a:lnTo>
                        <a:pt x="1866" y="3"/>
                      </a:lnTo>
                      <a:lnTo>
                        <a:pt x="1931" y="0"/>
                      </a:lnTo>
                      <a:lnTo>
                        <a:pt x="2005" y="0"/>
                      </a:lnTo>
                      <a:lnTo>
                        <a:pt x="2086" y="3"/>
                      </a:lnTo>
                      <a:lnTo>
                        <a:pt x="2173" y="6"/>
                      </a:lnTo>
                      <a:lnTo>
                        <a:pt x="2263" y="14"/>
                      </a:lnTo>
                      <a:lnTo>
                        <a:pt x="2352" y="22"/>
                      </a:lnTo>
                      <a:lnTo>
                        <a:pt x="2443" y="30"/>
                      </a:lnTo>
                      <a:lnTo>
                        <a:pt x="2529" y="39"/>
                      </a:lnTo>
                      <a:lnTo>
                        <a:pt x="2611" y="48"/>
                      </a:lnTo>
                      <a:lnTo>
                        <a:pt x="2686" y="56"/>
                      </a:lnTo>
                      <a:lnTo>
                        <a:pt x="2752" y="65"/>
                      </a:lnTo>
                      <a:lnTo>
                        <a:pt x="2806" y="71"/>
                      </a:lnTo>
                      <a:lnTo>
                        <a:pt x="2849" y="77"/>
                      </a:lnTo>
                      <a:lnTo>
                        <a:pt x="2874" y="81"/>
                      </a:lnTo>
                      <a:lnTo>
                        <a:pt x="2885" y="84"/>
                      </a:lnTo>
                      <a:lnTo>
                        <a:pt x="2885" y="85"/>
                      </a:lnTo>
                      <a:lnTo>
                        <a:pt x="2886" y="93"/>
                      </a:lnTo>
                      <a:lnTo>
                        <a:pt x="2886" y="98"/>
                      </a:lnTo>
                      <a:lnTo>
                        <a:pt x="2888" y="106"/>
                      </a:lnTo>
                      <a:lnTo>
                        <a:pt x="2890" y="112"/>
                      </a:lnTo>
                      <a:lnTo>
                        <a:pt x="2892" y="121"/>
                      </a:lnTo>
                      <a:lnTo>
                        <a:pt x="2893" y="129"/>
                      </a:lnTo>
                      <a:lnTo>
                        <a:pt x="2894" y="138"/>
                      </a:lnTo>
                      <a:lnTo>
                        <a:pt x="2895" y="147"/>
                      </a:lnTo>
                      <a:lnTo>
                        <a:pt x="2896" y="155"/>
                      </a:lnTo>
                      <a:lnTo>
                        <a:pt x="2897" y="164"/>
                      </a:lnTo>
                      <a:lnTo>
                        <a:pt x="2898" y="173"/>
                      </a:lnTo>
                      <a:lnTo>
                        <a:pt x="2898" y="181"/>
                      </a:lnTo>
                      <a:lnTo>
                        <a:pt x="2899" y="190"/>
                      </a:lnTo>
                      <a:lnTo>
                        <a:pt x="2888" y="186"/>
                      </a:lnTo>
                      <a:lnTo>
                        <a:pt x="2860" y="179"/>
                      </a:lnTo>
                      <a:lnTo>
                        <a:pt x="2813" y="166"/>
                      </a:lnTo>
                      <a:lnTo>
                        <a:pt x="2754" y="154"/>
                      </a:lnTo>
                      <a:lnTo>
                        <a:pt x="2679" y="139"/>
                      </a:lnTo>
                      <a:lnTo>
                        <a:pt x="2598" y="124"/>
                      </a:lnTo>
                      <a:lnTo>
                        <a:pt x="2506" y="112"/>
                      </a:lnTo>
                      <a:lnTo>
                        <a:pt x="2409" y="105"/>
                      </a:lnTo>
                      <a:lnTo>
                        <a:pt x="2307" y="99"/>
                      </a:lnTo>
                      <a:lnTo>
                        <a:pt x="2203" y="101"/>
                      </a:lnTo>
                      <a:lnTo>
                        <a:pt x="2099" y="109"/>
                      </a:lnTo>
                      <a:lnTo>
                        <a:pt x="2000" y="128"/>
                      </a:lnTo>
                      <a:lnTo>
                        <a:pt x="1902" y="154"/>
                      </a:lnTo>
                      <a:lnTo>
                        <a:pt x="1813" y="193"/>
                      </a:lnTo>
                      <a:lnTo>
                        <a:pt x="1731" y="245"/>
                      </a:lnTo>
                      <a:lnTo>
                        <a:pt x="1662" y="310"/>
                      </a:lnTo>
                      <a:lnTo>
                        <a:pt x="1605" y="381"/>
                      </a:lnTo>
                      <a:lnTo>
                        <a:pt x="1560" y="453"/>
                      </a:lnTo>
                      <a:lnTo>
                        <a:pt x="1525" y="522"/>
                      </a:lnTo>
                      <a:lnTo>
                        <a:pt x="1498" y="590"/>
                      </a:lnTo>
                      <a:lnTo>
                        <a:pt x="1472" y="654"/>
                      </a:lnTo>
                      <a:lnTo>
                        <a:pt x="1447" y="716"/>
                      </a:lnTo>
                      <a:lnTo>
                        <a:pt x="1418" y="772"/>
                      </a:lnTo>
                      <a:lnTo>
                        <a:pt x="1383" y="826"/>
                      </a:lnTo>
                      <a:lnTo>
                        <a:pt x="1335" y="873"/>
                      </a:lnTo>
                      <a:lnTo>
                        <a:pt x="1275" y="915"/>
                      </a:lnTo>
                      <a:lnTo>
                        <a:pt x="1199" y="950"/>
                      </a:lnTo>
                      <a:lnTo>
                        <a:pt x="1103" y="978"/>
                      </a:lnTo>
                      <a:lnTo>
                        <a:pt x="984" y="998"/>
                      </a:lnTo>
                      <a:lnTo>
                        <a:pt x="838" y="1010"/>
                      </a:lnTo>
                      <a:lnTo>
                        <a:pt x="662" y="1011"/>
                      </a:lnTo>
                      <a:lnTo>
                        <a:pt x="454" y="1006"/>
                      </a:lnTo>
                      <a:lnTo>
                        <a:pt x="0" y="666"/>
                      </a:lnTo>
                      <a:lnTo>
                        <a:pt x="0" y="666"/>
                      </a:lnTo>
                      <a:close/>
                    </a:path>
                  </a:pathLst>
                </a:custGeom>
                <a:solidFill>
                  <a:srgbClr val="bfad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 flipH="1">
                  <a:off x="1795680" y="1404720"/>
                  <a:ext cx="1411560" cy="898560"/>
                </a:xfrm>
                <a:custGeom>
                  <a:avLst/>
                  <a:gdLst/>
                  <a:ahLst/>
                  <a:rect l="l" t="t" r="r" b="b"/>
                  <a:pathLst>
                    <a:path w="1778" h="1132">
                      <a:moveTo>
                        <a:pt x="637" y="21"/>
                      </a:moveTo>
                      <a:lnTo>
                        <a:pt x="643" y="21"/>
                      </a:lnTo>
                      <a:lnTo>
                        <a:pt x="657" y="24"/>
                      </a:lnTo>
                      <a:lnTo>
                        <a:pt x="679" y="26"/>
                      </a:lnTo>
                      <a:lnTo>
                        <a:pt x="711" y="31"/>
                      </a:lnTo>
                      <a:lnTo>
                        <a:pt x="746" y="36"/>
                      </a:lnTo>
                      <a:lnTo>
                        <a:pt x="786" y="45"/>
                      </a:lnTo>
                      <a:lnTo>
                        <a:pt x="829" y="53"/>
                      </a:lnTo>
                      <a:lnTo>
                        <a:pt x="875" y="66"/>
                      </a:lnTo>
                      <a:lnTo>
                        <a:pt x="919" y="77"/>
                      </a:lnTo>
                      <a:lnTo>
                        <a:pt x="964" y="90"/>
                      </a:lnTo>
                      <a:lnTo>
                        <a:pt x="1005" y="105"/>
                      </a:lnTo>
                      <a:lnTo>
                        <a:pt x="1044" y="124"/>
                      </a:lnTo>
                      <a:lnTo>
                        <a:pt x="1077" y="145"/>
                      </a:lnTo>
                      <a:lnTo>
                        <a:pt x="1104" y="167"/>
                      </a:lnTo>
                      <a:lnTo>
                        <a:pt x="1122" y="192"/>
                      </a:lnTo>
                      <a:lnTo>
                        <a:pt x="1133" y="218"/>
                      </a:lnTo>
                      <a:lnTo>
                        <a:pt x="1132" y="245"/>
                      </a:lnTo>
                      <a:lnTo>
                        <a:pt x="1122" y="270"/>
                      </a:lnTo>
                      <a:lnTo>
                        <a:pt x="1104" y="293"/>
                      </a:lnTo>
                      <a:lnTo>
                        <a:pt x="1080" y="317"/>
                      </a:lnTo>
                      <a:lnTo>
                        <a:pt x="1050" y="336"/>
                      </a:lnTo>
                      <a:lnTo>
                        <a:pt x="1016" y="357"/>
                      </a:lnTo>
                      <a:lnTo>
                        <a:pt x="979" y="375"/>
                      </a:lnTo>
                      <a:lnTo>
                        <a:pt x="941" y="393"/>
                      </a:lnTo>
                      <a:lnTo>
                        <a:pt x="902" y="407"/>
                      </a:lnTo>
                      <a:lnTo>
                        <a:pt x="864" y="419"/>
                      </a:lnTo>
                      <a:lnTo>
                        <a:pt x="828" y="430"/>
                      </a:lnTo>
                      <a:lnTo>
                        <a:pt x="797" y="440"/>
                      </a:lnTo>
                      <a:lnTo>
                        <a:pt x="770" y="448"/>
                      </a:lnTo>
                      <a:lnTo>
                        <a:pt x="749" y="454"/>
                      </a:lnTo>
                      <a:lnTo>
                        <a:pt x="735" y="457"/>
                      </a:lnTo>
                      <a:lnTo>
                        <a:pt x="732" y="459"/>
                      </a:lnTo>
                      <a:lnTo>
                        <a:pt x="727" y="460"/>
                      </a:lnTo>
                      <a:lnTo>
                        <a:pt x="714" y="466"/>
                      </a:lnTo>
                      <a:lnTo>
                        <a:pt x="696" y="474"/>
                      </a:lnTo>
                      <a:lnTo>
                        <a:pt x="675" y="486"/>
                      </a:lnTo>
                      <a:lnTo>
                        <a:pt x="650" y="499"/>
                      </a:lnTo>
                      <a:lnTo>
                        <a:pt x="627" y="517"/>
                      </a:lnTo>
                      <a:lnTo>
                        <a:pt x="605" y="533"/>
                      </a:lnTo>
                      <a:lnTo>
                        <a:pt x="588" y="554"/>
                      </a:lnTo>
                      <a:lnTo>
                        <a:pt x="576" y="572"/>
                      </a:lnTo>
                      <a:lnTo>
                        <a:pt x="574" y="593"/>
                      </a:lnTo>
                      <a:lnTo>
                        <a:pt x="581" y="613"/>
                      </a:lnTo>
                      <a:lnTo>
                        <a:pt x="601" y="634"/>
                      </a:lnTo>
                      <a:lnTo>
                        <a:pt x="634" y="653"/>
                      </a:lnTo>
                      <a:lnTo>
                        <a:pt x="685" y="671"/>
                      </a:lnTo>
                      <a:lnTo>
                        <a:pt x="752" y="688"/>
                      </a:lnTo>
                      <a:lnTo>
                        <a:pt x="842" y="703"/>
                      </a:lnTo>
                      <a:lnTo>
                        <a:pt x="937" y="716"/>
                      </a:lnTo>
                      <a:lnTo>
                        <a:pt x="1024" y="727"/>
                      </a:lnTo>
                      <a:lnTo>
                        <a:pt x="1105" y="737"/>
                      </a:lnTo>
                      <a:lnTo>
                        <a:pt x="1181" y="747"/>
                      </a:lnTo>
                      <a:lnTo>
                        <a:pt x="1248" y="754"/>
                      </a:lnTo>
                      <a:lnTo>
                        <a:pt x="1309" y="763"/>
                      </a:lnTo>
                      <a:lnTo>
                        <a:pt x="1364" y="773"/>
                      </a:lnTo>
                      <a:lnTo>
                        <a:pt x="1416" y="782"/>
                      </a:lnTo>
                      <a:lnTo>
                        <a:pt x="1459" y="790"/>
                      </a:lnTo>
                      <a:lnTo>
                        <a:pt x="1499" y="800"/>
                      </a:lnTo>
                      <a:lnTo>
                        <a:pt x="1532" y="811"/>
                      </a:lnTo>
                      <a:lnTo>
                        <a:pt x="1561" y="824"/>
                      </a:lnTo>
                      <a:lnTo>
                        <a:pt x="1584" y="838"/>
                      </a:lnTo>
                      <a:lnTo>
                        <a:pt x="1603" y="855"/>
                      </a:lnTo>
                      <a:lnTo>
                        <a:pt x="1619" y="874"/>
                      </a:lnTo>
                      <a:lnTo>
                        <a:pt x="1631" y="896"/>
                      </a:lnTo>
                      <a:lnTo>
                        <a:pt x="1619" y="916"/>
                      </a:lnTo>
                      <a:lnTo>
                        <a:pt x="1573" y="936"/>
                      </a:lnTo>
                      <a:lnTo>
                        <a:pt x="1497" y="951"/>
                      </a:lnTo>
                      <a:lnTo>
                        <a:pt x="1395" y="968"/>
                      </a:lnTo>
                      <a:lnTo>
                        <a:pt x="1273" y="980"/>
                      </a:lnTo>
                      <a:lnTo>
                        <a:pt x="1134" y="992"/>
                      </a:lnTo>
                      <a:lnTo>
                        <a:pt x="986" y="1001"/>
                      </a:lnTo>
                      <a:lnTo>
                        <a:pt x="833" y="1010"/>
                      </a:lnTo>
                      <a:lnTo>
                        <a:pt x="678" y="1015"/>
                      </a:lnTo>
                      <a:lnTo>
                        <a:pt x="528" y="1021"/>
                      </a:lnTo>
                      <a:lnTo>
                        <a:pt x="386" y="1025"/>
                      </a:lnTo>
                      <a:lnTo>
                        <a:pt x="261" y="1029"/>
                      </a:lnTo>
                      <a:lnTo>
                        <a:pt x="153" y="1030"/>
                      </a:lnTo>
                      <a:lnTo>
                        <a:pt x="72" y="1032"/>
                      </a:lnTo>
                      <a:lnTo>
                        <a:pt x="18" y="1033"/>
                      </a:lnTo>
                      <a:lnTo>
                        <a:pt x="0" y="1034"/>
                      </a:lnTo>
                      <a:lnTo>
                        <a:pt x="22" y="1132"/>
                      </a:lnTo>
                      <a:lnTo>
                        <a:pt x="39" y="1132"/>
                      </a:lnTo>
                      <a:lnTo>
                        <a:pt x="90" y="1131"/>
                      </a:lnTo>
                      <a:lnTo>
                        <a:pt x="168" y="1128"/>
                      </a:lnTo>
                      <a:lnTo>
                        <a:pt x="271" y="1126"/>
                      </a:lnTo>
                      <a:lnTo>
                        <a:pt x="393" y="1121"/>
                      </a:lnTo>
                      <a:lnTo>
                        <a:pt x="530" y="1116"/>
                      </a:lnTo>
                      <a:lnTo>
                        <a:pt x="678" y="1109"/>
                      </a:lnTo>
                      <a:lnTo>
                        <a:pt x="833" y="1100"/>
                      </a:lnTo>
                      <a:lnTo>
                        <a:pt x="986" y="1089"/>
                      </a:lnTo>
                      <a:lnTo>
                        <a:pt x="1140" y="1078"/>
                      </a:lnTo>
                      <a:lnTo>
                        <a:pt x="1286" y="1064"/>
                      </a:lnTo>
                      <a:lnTo>
                        <a:pt x="1421" y="1050"/>
                      </a:lnTo>
                      <a:lnTo>
                        <a:pt x="1539" y="1031"/>
                      </a:lnTo>
                      <a:lnTo>
                        <a:pt x="1639" y="1012"/>
                      </a:lnTo>
                      <a:lnTo>
                        <a:pt x="1713" y="990"/>
                      </a:lnTo>
                      <a:lnTo>
                        <a:pt x="1758" y="965"/>
                      </a:lnTo>
                      <a:lnTo>
                        <a:pt x="1777" y="938"/>
                      </a:lnTo>
                      <a:lnTo>
                        <a:pt x="1778" y="912"/>
                      </a:lnTo>
                      <a:lnTo>
                        <a:pt x="1763" y="885"/>
                      </a:lnTo>
                      <a:lnTo>
                        <a:pt x="1736" y="858"/>
                      </a:lnTo>
                      <a:lnTo>
                        <a:pt x="1695" y="832"/>
                      </a:lnTo>
                      <a:lnTo>
                        <a:pt x="1642" y="805"/>
                      </a:lnTo>
                      <a:lnTo>
                        <a:pt x="1581" y="781"/>
                      </a:lnTo>
                      <a:lnTo>
                        <a:pt x="1513" y="758"/>
                      </a:lnTo>
                      <a:lnTo>
                        <a:pt x="1437" y="734"/>
                      </a:lnTo>
                      <a:lnTo>
                        <a:pt x="1358" y="713"/>
                      </a:lnTo>
                      <a:lnTo>
                        <a:pt x="1275" y="694"/>
                      </a:lnTo>
                      <a:lnTo>
                        <a:pt x="1192" y="679"/>
                      </a:lnTo>
                      <a:lnTo>
                        <a:pt x="1109" y="665"/>
                      </a:lnTo>
                      <a:lnTo>
                        <a:pt x="1029" y="654"/>
                      </a:lnTo>
                      <a:lnTo>
                        <a:pt x="952" y="645"/>
                      </a:lnTo>
                      <a:lnTo>
                        <a:pt x="881" y="640"/>
                      </a:lnTo>
                      <a:lnTo>
                        <a:pt x="818" y="635"/>
                      </a:lnTo>
                      <a:lnTo>
                        <a:pt x="771" y="629"/>
                      </a:lnTo>
                      <a:lnTo>
                        <a:pt x="734" y="621"/>
                      </a:lnTo>
                      <a:lnTo>
                        <a:pt x="710" y="612"/>
                      </a:lnTo>
                      <a:lnTo>
                        <a:pt x="693" y="600"/>
                      </a:lnTo>
                      <a:lnTo>
                        <a:pt x="687" y="587"/>
                      </a:lnTo>
                      <a:lnTo>
                        <a:pt x="687" y="576"/>
                      </a:lnTo>
                      <a:lnTo>
                        <a:pt x="694" y="564"/>
                      </a:lnTo>
                      <a:lnTo>
                        <a:pt x="706" y="551"/>
                      </a:lnTo>
                      <a:lnTo>
                        <a:pt x="721" y="539"/>
                      </a:lnTo>
                      <a:lnTo>
                        <a:pt x="739" y="527"/>
                      </a:lnTo>
                      <a:lnTo>
                        <a:pt x="760" y="518"/>
                      </a:lnTo>
                      <a:lnTo>
                        <a:pt x="781" y="508"/>
                      </a:lnTo>
                      <a:lnTo>
                        <a:pt x="801" y="501"/>
                      </a:lnTo>
                      <a:lnTo>
                        <a:pt x="818" y="496"/>
                      </a:lnTo>
                      <a:lnTo>
                        <a:pt x="835" y="496"/>
                      </a:lnTo>
                      <a:lnTo>
                        <a:pt x="850" y="492"/>
                      </a:lnTo>
                      <a:lnTo>
                        <a:pt x="874" y="486"/>
                      </a:lnTo>
                      <a:lnTo>
                        <a:pt x="901" y="477"/>
                      </a:lnTo>
                      <a:lnTo>
                        <a:pt x="934" y="468"/>
                      </a:lnTo>
                      <a:lnTo>
                        <a:pt x="969" y="454"/>
                      </a:lnTo>
                      <a:lnTo>
                        <a:pt x="1007" y="438"/>
                      </a:lnTo>
                      <a:lnTo>
                        <a:pt x="1044" y="422"/>
                      </a:lnTo>
                      <a:lnTo>
                        <a:pt x="1083" y="404"/>
                      </a:lnTo>
                      <a:lnTo>
                        <a:pt x="1118" y="383"/>
                      </a:lnTo>
                      <a:lnTo>
                        <a:pt x="1150" y="362"/>
                      </a:lnTo>
                      <a:lnTo>
                        <a:pt x="1180" y="340"/>
                      </a:lnTo>
                      <a:lnTo>
                        <a:pt x="1204" y="318"/>
                      </a:lnTo>
                      <a:lnTo>
                        <a:pt x="1220" y="293"/>
                      </a:lnTo>
                      <a:lnTo>
                        <a:pt x="1230" y="269"/>
                      </a:lnTo>
                      <a:lnTo>
                        <a:pt x="1231" y="245"/>
                      </a:lnTo>
                      <a:lnTo>
                        <a:pt x="1223" y="221"/>
                      </a:lnTo>
                      <a:lnTo>
                        <a:pt x="1206" y="197"/>
                      </a:lnTo>
                      <a:lnTo>
                        <a:pt x="1192" y="177"/>
                      </a:lnTo>
                      <a:lnTo>
                        <a:pt x="1175" y="160"/>
                      </a:lnTo>
                      <a:lnTo>
                        <a:pt x="1159" y="143"/>
                      </a:lnTo>
                      <a:lnTo>
                        <a:pt x="1142" y="127"/>
                      </a:lnTo>
                      <a:lnTo>
                        <a:pt x="1126" y="115"/>
                      </a:lnTo>
                      <a:lnTo>
                        <a:pt x="1110" y="103"/>
                      </a:lnTo>
                      <a:lnTo>
                        <a:pt x="1096" y="95"/>
                      </a:lnTo>
                      <a:lnTo>
                        <a:pt x="1080" y="87"/>
                      </a:lnTo>
                      <a:lnTo>
                        <a:pt x="1067" y="80"/>
                      </a:lnTo>
                      <a:lnTo>
                        <a:pt x="1055" y="74"/>
                      </a:lnTo>
                      <a:lnTo>
                        <a:pt x="1045" y="71"/>
                      </a:lnTo>
                      <a:lnTo>
                        <a:pt x="1036" y="67"/>
                      </a:lnTo>
                      <a:lnTo>
                        <a:pt x="1032" y="67"/>
                      </a:lnTo>
                      <a:lnTo>
                        <a:pt x="1027" y="66"/>
                      </a:lnTo>
                      <a:lnTo>
                        <a:pt x="1026" y="66"/>
                      </a:lnTo>
                      <a:lnTo>
                        <a:pt x="1024" y="64"/>
                      </a:lnTo>
                      <a:lnTo>
                        <a:pt x="1022" y="62"/>
                      </a:lnTo>
                      <a:lnTo>
                        <a:pt x="1015" y="58"/>
                      </a:lnTo>
                      <a:lnTo>
                        <a:pt x="1010" y="56"/>
                      </a:lnTo>
                      <a:lnTo>
                        <a:pt x="998" y="49"/>
                      </a:lnTo>
                      <a:lnTo>
                        <a:pt x="989" y="45"/>
                      </a:lnTo>
                      <a:lnTo>
                        <a:pt x="975" y="38"/>
                      </a:lnTo>
                      <a:lnTo>
                        <a:pt x="963" y="32"/>
                      </a:lnTo>
                      <a:lnTo>
                        <a:pt x="947" y="27"/>
                      </a:lnTo>
                      <a:lnTo>
                        <a:pt x="930" y="20"/>
                      </a:lnTo>
                      <a:lnTo>
                        <a:pt x="910" y="15"/>
                      </a:lnTo>
                      <a:lnTo>
                        <a:pt x="890" y="10"/>
                      </a:lnTo>
                      <a:lnTo>
                        <a:pt x="868" y="6"/>
                      </a:lnTo>
                      <a:lnTo>
                        <a:pt x="846" y="3"/>
                      </a:lnTo>
                      <a:lnTo>
                        <a:pt x="822" y="0"/>
                      </a:lnTo>
                      <a:lnTo>
                        <a:pt x="798" y="0"/>
                      </a:lnTo>
                      <a:lnTo>
                        <a:pt x="794" y="0"/>
                      </a:lnTo>
                      <a:lnTo>
                        <a:pt x="788" y="0"/>
                      </a:lnTo>
                      <a:lnTo>
                        <a:pt x="780" y="1"/>
                      </a:lnTo>
                      <a:lnTo>
                        <a:pt x="770" y="4"/>
                      </a:lnTo>
                      <a:lnTo>
                        <a:pt x="756" y="5"/>
                      </a:lnTo>
                      <a:lnTo>
                        <a:pt x="743" y="7"/>
                      </a:lnTo>
                      <a:lnTo>
                        <a:pt x="729" y="8"/>
                      </a:lnTo>
                      <a:lnTo>
                        <a:pt x="714" y="10"/>
                      </a:lnTo>
                      <a:lnTo>
                        <a:pt x="700" y="11"/>
                      </a:lnTo>
                      <a:lnTo>
                        <a:pt x="686" y="14"/>
                      </a:lnTo>
                      <a:lnTo>
                        <a:pt x="671" y="16"/>
                      </a:lnTo>
                      <a:lnTo>
                        <a:pt x="660" y="18"/>
                      </a:lnTo>
                      <a:lnTo>
                        <a:pt x="650" y="19"/>
                      </a:lnTo>
                      <a:lnTo>
                        <a:pt x="644" y="20"/>
                      </a:lnTo>
                      <a:lnTo>
                        <a:pt x="638" y="20"/>
                      </a:lnTo>
                      <a:lnTo>
                        <a:pt x="637" y="21"/>
                      </a:lnTo>
                      <a:lnTo>
                        <a:pt x="637" y="21"/>
                      </a:lnTo>
                      <a:close/>
                    </a:path>
                  </a:pathLst>
                </a:custGeom>
                <a:solidFill>
                  <a:srgbClr val="b39f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 flipH="1">
                  <a:off x="1171800" y="2644560"/>
                  <a:ext cx="2103480" cy="693720"/>
                </a:xfrm>
                <a:custGeom>
                  <a:avLst/>
                  <a:gdLst/>
                  <a:ahLst/>
                  <a:rect l="l" t="t" r="r" b="b"/>
                  <a:pathLst>
                    <a:path w="2650" h="874">
                      <a:moveTo>
                        <a:pt x="46" y="0"/>
                      </a:moveTo>
                      <a:lnTo>
                        <a:pt x="46" y="2"/>
                      </a:lnTo>
                      <a:lnTo>
                        <a:pt x="46" y="6"/>
                      </a:lnTo>
                      <a:lnTo>
                        <a:pt x="48" y="10"/>
                      </a:lnTo>
                      <a:lnTo>
                        <a:pt x="51" y="20"/>
                      </a:lnTo>
                      <a:lnTo>
                        <a:pt x="53" y="30"/>
                      </a:lnTo>
                      <a:lnTo>
                        <a:pt x="57" y="44"/>
                      </a:lnTo>
                      <a:lnTo>
                        <a:pt x="63" y="57"/>
                      </a:lnTo>
                      <a:lnTo>
                        <a:pt x="71" y="72"/>
                      </a:lnTo>
                      <a:lnTo>
                        <a:pt x="78" y="88"/>
                      </a:lnTo>
                      <a:lnTo>
                        <a:pt x="90" y="106"/>
                      </a:lnTo>
                      <a:lnTo>
                        <a:pt x="103" y="124"/>
                      </a:lnTo>
                      <a:lnTo>
                        <a:pt x="119" y="143"/>
                      </a:lnTo>
                      <a:lnTo>
                        <a:pt x="136" y="162"/>
                      </a:lnTo>
                      <a:lnTo>
                        <a:pt x="158" y="182"/>
                      </a:lnTo>
                      <a:lnTo>
                        <a:pt x="181" y="201"/>
                      </a:lnTo>
                      <a:lnTo>
                        <a:pt x="208" y="220"/>
                      </a:lnTo>
                      <a:lnTo>
                        <a:pt x="235" y="238"/>
                      </a:lnTo>
                      <a:lnTo>
                        <a:pt x="266" y="256"/>
                      </a:lnTo>
                      <a:lnTo>
                        <a:pt x="297" y="271"/>
                      </a:lnTo>
                      <a:lnTo>
                        <a:pt x="331" y="288"/>
                      </a:lnTo>
                      <a:lnTo>
                        <a:pt x="364" y="300"/>
                      </a:lnTo>
                      <a:lnTo>
                        <a:pt x="396" y="313"/>
                      </a:lnTo>
                      <a:lnTo>
                        <a:pt x="428" y="326"/>
                      </a:lnTo>
                      <a:lnTo>
                        <a:pt x="460" y="338"/>
                      </a:lnTo>
                      <a:lnTo>
                        <a:pt x="490" y="347"/>
                      </a:lnTo>
                      <a:lnTo>
                        <a:pt x="517" y="356"/>
                      </a:lnTo>
                      <a:lnTo>
                        <a:pt x="543" y="363"/>
                      </a:lnTo>
                      <a:lnTo>
                        <a:pt x="567" y="371"/>
                      </a:lnTo>
                      <a:lnTo>
                        <a:pt x="586" y="377"/>
                      </a:lnTo>
                      <a:lnTo>
                        <a:pt x="604" y="383"/>
                      </a:lnTo>
                      <a:lnTo>
                        <a:pt x="616" y="387"/>
                      </a:lnTo>
                      <a:lnTo>
                        <a:pt x="625" y="393"/>
                      </a:lnTo>
                      <a:lnTo>
                        <a:pt x="630" y="396"/>
                      </a:lnTo>
                      <a:lnTo>
                        <a:pt x="639" y="405"/>
                      </a:lnTo>
                      <a:lnTo>
                        <a:pt x="650" y="414"/>
                      </a:lnTo>
                      <a:lnTo>
                        <a:pt x="664" y="426"/>
                      </a:lnTo>
                      <a:lnTo>
                        <a:pt x="680" y="437"/>
                      </a:lnTo>
                      <a:lnTo>
                        <a:pt x="698" y="452"/>
                      </a:lnTo>
                      <a:lnTo>
                        <a:pt x="719" y="465"/>
                      </a:lnTo>
                      <a:lnTo>
                        <a:pt x="741" y="480"/>
                      </a:lnTo>
                      <a:lnTo>
                        <a:pt x="764" y="494"/>
                      </a:lnTo>
                      <a:lnTo>
                        <a:pt x="788" y="508"/>
                      </a:lnTo>
                      <a:lnTo>
                        <a:pt x="815" y="520"/>
                      </a:lnTo>
                      <a:lnTo>
                        <a:pt x="845" y="532"/>
                      </a:lnTo>
                      <a:lnTo>
                        <a:pt x="873" y="542"/>
                      </a:lnTo>
                      <a:lnTo>
                        <a:pt x="905" y="551"/>
                      </a:lnTo>
                      <a:lnTo>
                        <a:pt x="937" y="557"/>
                      </a:lnTo>
                      <a:lnTo>
                        <a:pt x="972" y="561"/>
                      </a:lnTo>
                      <a:lnTo>
                        <a:pt x="1008" y="561"/>
                      </a:lnTo>
                      <a:lnTo>
                        <a:pt x="1050" y="562"/>
                      </a:lnTo>
                      <a:lnTo>
                        <a:pt x="1096" y="561"/>
                      </a:lnTo>
                      <a:lnTo>
                        <a:pt x="1146" y="560"/>
                      </a:lnTo>
                      <a:lnTo>
                        <a:pt x="1197" y="558"/>
                      </a:lnTo>
                      <a:lnTo>
                        <a:pt x="1251" y="555"/>
                      </a:lnTo>
                      <a:lnTo>
                        <a:pt x="1306" y="553"/>
                      </a:lnTo>
                      <a:lnTo>
                        <a:pt x="1360" y="551"/>
                      </a:lnTo>
                      <a:lnTo>
                        <a:pt x="1412" y="548"/>
                      </a:lnTo>
                      <a:lnTo>
                        <a:pt x="1463" y="544"/>
                      </a:lnTo>
                      <a:lnTo>
                        <a:pt x="1509" y="543"/>
                      </a:lnTo>
                      <a:lnTo>
                        <a:pt x="1553" y="541"/>
                      </a:lnTo>
                      <a:lnTo>
                        <a:pt x="1592" y="539"/>
                      </a:lnTo>
                      <a:lnTo>
                        <a:pt x="1625" y="539"/>
                      </a:lnTo>
                      <a:lnTo>
                        <a:pt x="1652" y="539"/>
                      </a:lnTo>
                      <a:lnTo>
                        <a:pt x="1670" y="541"/>
                      </a:lnTo>
                      <a:lnTo>
                        <a:pt x="1688" y="543"/>
                      </a:lnTo>
                      <a:lnTo>
                        <a:pt x="1712" y="548"/>
                      </a:lnTo>
                      <a:lnTo>
                        <a:pt x="1743" y="555"/>
                      </a:lnTo>
                      <a:lnTo>
                        <a:pt x="1780" y="564"/>
                      </a:lnTo>
                      <a:lnTo>
                        <a:pt x="1817" y="573"/>
                      </a:lnTo>
                      <a:lnTo>
                        <a:pt x="1859" y="584"/>
                      </a:lnTo>
                      <a:lnTo>
                        <a:pt x="1901" y="595"/>
                      </a:lnTo>
                      <a:lnTo>
                        <a:pt x="1946" y="607"/>
                      </a:lnTo>
                      <a:lnTo>
                        <a:pt x="1987" y="619"/>
                      </a:lnTo>
                      <a:lnTo>
                        <a:pt x="2029" y="630"/>
                      </a:lnTo>
                      <a:lnTo>
                        <a:pt x="2066" y="638"/>
                      </a:lnTo>
                      <a:lnTo>
                        <a:pt x="2102" y="648"/>
                      </a:lnTo>
                      <a:lnTo>
                        <a:pt x="2131" y="657"/>
                      </a:lnTo>
                      <a:lnTo>
                        <a:pt x="2156" y="663"/>
                      </a:lnTo>
                      <a:lnTo>
                        <a:pt x="2172" y="668"/>
                      </a:lnTo>
                      <a:lnTo>
                        <a:pt x="2181" y="672"/>
                      </a:lnTo>
                      <a:lnTo>
                        <a:pt x="2190" y="672"/>
                      </a:lnTo>
                      <a:lnTo>
                        <a:pt x="2207" y="672"/>
                      </a:lnTo>
                      <a:lnTo>
                        <a:pt x="2232" y="672"/>
                      </a:lnTo>
                      <a:lnTo>
                        <a:pt x="2263" y="673"/>
                      </a:lnTo>
                      <a:lnTo>
                        <a:pt x="2298" y="673"/>
                      </a:lnTo>
                      <a:lnTo>
                        <a:pt x="2339" y="674"/>
                      </a:lnTo>
                      <a:lnTo>
                        <a:pt x="2380" y="674"/>
                      </a:lnTo>
                      <a:lnTo>
                        <a:pt x="2423" y="675"/>
                      </a:lnTo>
                      <a:lnTo>
                        <a:pt x="2465" y="675"/>
                      </a:lnTo>
                      <a:lnTo>
                        <a:pt x="2506" y="675"/>
                      </a:lnTo>
                      <a:lnTo>
                        <a:pt x="2544" y="675"/>
                      </a:lnTo>
                      <a:lnTo>
                        <a:pt x="2579" y="675"/>
                      </a:lnTo>
                      <a:lnTo>
                        <a:pt x="2607" y="675"/>
                      </a:lnTo>
                      <a:lnTo>
                        <a:pt x="2629" y="675"/>
                      </a:lnTo>
                      <a:lnTo>
                        <a:pt x="2643" y="675"/>
                      </a:lnTo>
                      <a:lnTo>
                        <a:pt x="2650" y="676"/>
                      </a:lnTo>
                      <a:lnTo>
                        <a:pt x="2647" y="676"/>
                      </a:lnTo>
                      <a:lnTo>
                        <a:pt x="2641" y="678"/>
                      </a:lnTo>
                      <a:lnTo>
                        <a:pt x="2633" y="682"/>
                      </a:lnTo>
                      <a:lnTo>
                        <a:pt x="2622" y="687"/>
                      </a:lnTo>
                      <a:lnTo>
                        <a:pt x="2607" y="693"/>
                      </a:lnTo>
                      <a:lnTo>
                        <a:pt x="2591" y="700"/>
                      </a:lnTo>
                      <a:lnTo>
                        <a:pt x="2571" y="708"/>
                      </a:lnTo>
                      <a:lnTo>
                        <a:pt x="2550" y="718"/>
                      </a:lnTo>
                      <a:lnTo>
                        <a:pt x="2526" y="727"/>
                      </a:lnTo>
                      <a:lnTo>
                        <a:pt x="2501" y="737"/>
                      </a:lnTo>
                      <a:lnTo>
                        <a:pt x="2473" y="747"/>
                      </a:lnTo>
                      <a:lnTo>
                        <a:pt x="2444" y="758"/>
                      </a:lnTo>
                      <a:lnTo>
                        <a:pt x="2413" y="768"/>
                      </a:lnTo>
                      <a:lnTo>
                        <a:pt x="2383" y="778"/>
                      </a:lnTo>
                      <a:lnTo>
                        <a:pt x="2351" y="788"/>
                      </a:lnTo>
                      <a:lnTo>
                        <a:pt x="2319" y="799"/>
                      </a:lnTo>
                      <a:lnTo>
                        <a:pt x="2287" y="809"/>
                      </a:lnTo>
                      <a:lnTo>
                        <a:pt x="2260" y="818"/>
                      </a:lnTo>
                      <a:lnTo>
                        <a:pt x="2233" y="824"/>
                      </a:lnTo>
                      <a:lnTo>
                        <a:pt x="2211" y="833"/>
                      </a:lnTo>
                      <a:lnTo>
                        <a:pt x="2189" y="839"/>
                      </a:lnTo>
                      <a:lnTo>
                        <a:pt x="2170" y="845"/>
                      </a:lnTo>
                      <a:lnTo>
                        <a:pt x="2152" y="851"/>
                      </a:lnTo>
                      <a:lnTo>
                        <a:pt x="2135" y="856"/>
                      </a:lnTo>
                      <a:lnTo>
                        <a:pt x="2117" y="861"/>
                      </a:lnTo>
                      <a:lnTo>
                        <a:pt x="2102" y="865"/>
                      </a:lnTo>
                      <a:lnTo>
                        <a:pt x="2083" y="867"/>
                      </a:lnTo>
                      <a:lnTo>
                        <a:pt x="2066" y="871"/>
                      </a:lnTo>
                      <a:lnTo>
                        <a:pt x="2045" y="872"/>
                      </a:lnTo>
                      <a:lnTo>
                        <a:pt x="2024" y="874"/>
                      </a:lnTo>
                      <a:lnTo>
                        <a:pt x="2001" y="874"/>
                      </a:lnTo>
                      <a:lnTo>
                        <a:pt x="1977" y="874"/>
                      </a:lnTo>
                      <a:lnTo>
                        <a:pt x="1946" y="874"/>
                      </a:lnTo>
                      <a:lnTo>
                        <a:pt x="1910" y="872"/>
                      </a:lnTo>
                      <a:lnTo>
                        <a:pt x="1869" y="867"/>
                      </a:lnTo>
                      <a:lnTo>
                        <a:pt x="1826" y="862"/>
                      </a:lnTo>
                      <a:lnTo>
                        <a:pt x="1778" y="855"/>
                      </a:lnTo>
                      <a:lnTo>
                        <a:pt x="1729" y="848"/>
                      </a:lnTo>
                      <a:lnTo>
                        <a:pt x="1678" y="841"/>
                      </a:lnTo>
                      <a:lnTo>
                        <a:pt x="1630" y="834"/>
                      </a:lnTo>
                      <a:lnTo>
                        <a:pt x="1579" y="824"/>
                      </a:lnTo>
                      <a:lnTo>
                        <a:pt x="1532" y="818"/>
                      </a:lnTo>
                      <a:lnTo>
                        <a:pt x="1488" y="810"/>
                      </a:lnTo>
                      <a:lnTo>
                        <a:pt x="1450" y="804"/>
                      </a:lnTo>
                      <a:lnTo>
                        <a:pt x="1415" y="799"/>
                      </a:lnTo>
                      <a:lnTo>
                        <a:pt x="1385" y="794"/>
                      </a:lnTo>
                      <a:lnTo>
                        <a:pt x="1363" y="791"/>
                      </a:lnTo>
                      <a:lnTo>
                        <a:pt x="1350" y="791"/>
                      </a:lnTo>
                      <a:lnTo>
                        <a:pt x="1339" y="791"/>
                      </a:lnTo>
                      <a:lnTo>
                        <a:pt x="1329" y="791"/>
                      </a:lnTo>
                      <a:lnTo>
                        <a:pt x="1318" y="791"/>
                      </a:lnTo>
                      <a:lnTo>
                        <a:pt x="1307" y="791"/>
                      </a:lnTo>
                      <a:lnTo>
                        <a:pt x="1293" y="791"/>
                      </a:lnTo>
                      <a:lnTo>
                        <a:pt x="1279" y="791"/>
                      </a:lnTo>
                      <a:lnTo>
                        <a:pt x="1264" y="791"/>
                      </a:lnTo>
                      <a:lnTo>
                        <a:pt x="1247" y="791"/>
                      </a:lnTo>
                      <a:lnTo>
                        <a:pt x="1226" y="790"/>
                      </a:lnTo>
                      <a:lnTo>
                        <a:pt x="1205" y="790"/>
                      </a:lnTo>
                      <a:lnTo>
                        <a:pt x="1181" y="790"/>
                      </a:lnTo>
                      <a:lnTo>
                        <a:pt x="1154" y="790"/>
                      </a:lnTo>
                      <a:lnTo>
                        <a:pt x="1124" y="789"/>
                      </a:lnTo>
                      <a:lnTo>
                        <a:pt x="1091" y="788"/>
                      </a:lnTo>
                      <a:lnTo>
                        <a:pt x="1055" y="788"/>
                      </a:lnTo>
                      <a:lnTo>
                        <a:pt x="1016" y="787"/>
                      </a:lnTo>
                      <a:lnTo>
                        <a:pt x="973" y="783"/>
                      </a:lnTo>
                      <a:lnTo>
                        <a:pt x="934" y="783"/>
                      </a:lnTo>
                      <a:lnTo>
                        <a:pt x="895" y="783"/>
                      </a:lnTo>
                      <a:lnTo>
                        <a:pt x="860" y="783"/>
                      </a:lnTo>
                      <a:lnTo>
                        <a:pt x="826" y="782"/>
                      </a:lnTo>
                      <a:lnTo>
                        <a:pt x="794" y="781"/>
                      </a:lnTo>
                      <a:lnTo>
                        <a:pt x="763" y="780"/>
                      </a:lnTo>
                      <a:lnTo>
                        <a:pt x="733" y="780"/>
                      </a:lnTo>
                      <a:lnTo>
                        <a:pt x="705" y="775"/>
                      </a:lnTo>
                      <a:lnTo>
                        <a:pt x="678" y="773"/>
                      </a:lnTo>
                      <a:lnTo>
                        <a:pt x="652" y="767"/>
                      </a:lnTo>
                      <a:lnTo>
                        <a:pt x="629" y="761"/>
                      </a:lnTo>
                      <a:lnTo>
                        <a:pt x="607" y="752"/>
                      </a:lnTo>
                      <a:lnTo>
                        <a:pt x="587" y="741"/>
                      </a:lnTo>
                      <a:lnTo>
                        <a:pt x="568" y="729"/>
                      </a:lnTo>
                      <a:lnTo>
                        <a:pt x="551" y="715"/>
                      </a:lnTo>
                      <a:lnTo>
                        <a:pt x="533" y="697"/>
                      </a:lnTo>
                      <a:lnTo>
                        <a:pt x="515" y="684"/>
                      </a:lnTo>
                      <a:lnTo>
                        <a:pt x="497" y="672"/>
                      </a:lnTo>
                      <a:lnTo>
                        <a:pt x="480" y="663"/>
                      </a:lnTo>
                      <a:lnTo>
                        <a:pt x="461" y="654"/>
                      </a:lnTo>
                      <a:lnTo>
                        <a:pt x="443" y="647"/>
                      </a:lnTo>
                      <a:lnTo>
                        <a:pt x="422" y="641"/>
                      </a:lnTo>
                      <a:lnTo>
                        <a:pt x="404" y="636"/>
                      </a:lnTo>
                      <a:lnTo>
                        <a:pt x="383" y="631"/>
                      </a:lnTo>
                      <a:lnTo>
                        <a:pt x="361" y="626"/>
                      </a:lnTo>
                      <a:lnTo>
                        <a:pt x="339" y="622"/>
                      </a:lnTo>
                      <a:lnTo>
                        <a:pt x="317" y="617"/>
                      </a:lnTo>
                      <a:lnTo>
                        <a:pt x="293" y="612"/>
                      </a:lnTo>
                      <a:lnTo>
                        <a:pt x="269" y="605"/>
                      </a:lnTo>
                      <a:lnTo>
                        <a:pt x="243" y="597"/>
                      </a:lnTo>
                      <a:lnTo>
                        <a:pt x="218" y="590"/>
                      </a:lnTo>
                      <a:lnTo>
                        <a:pt x="191" y="578"/>
                      </a:lnTo>
                      <a:lnTo>
                        <a:pt x="167" y="565"/>
                      </a:lnTo>
                      <a:lnTo>
                        <a:pt x="144" y="550"/>
                      </a:lnTo>
                      <a:lnTo>
                        <a:pt x="124" y="534"/>
                      </a:lnTo>
                      <a:lnTo>
                        <a:pt x="103" y="517"/>
                      </a:lnTo>
                      <a:lnTo>
                        <a:pt x="85" y="498"/>
                      </a:lnTo>
                      <a:lnTo>
                        <a:pt x="69" y="479"/>
                      </a:lnTo>
                      <a:lnTo>
                        <a:pt x="55" y="460"/>
                      </a:lnTo>
                      <a:lnTo>
                        <a:pt x="42" y="441"/>
                      </a:lnTo>
                      <a:lnTo>
                        <a:pt x="31" y="420"/>
                      </a:lnTo>
                      <a:lnTo>
                        <a:pt x="21" y="398"/>
                      </a:lnTo>
                      <a:lnTo>
                        <a:pt x="12" y="380"/>
                      </a:lnTo>
                      <a:lnTo>
                        <a:pt x="6" y="359"/>
                      </a:lnTo>
                      <a:lnTo>
                        <a:pt x="0" y="341"/>
                      </a:lnTo>
                      <a:lnTo>
                        <a:pt x="0" y="323"/>
                      </a:lnTo>
                      <a:lnTo>
                        <a:pt x="0" y="308"/>
                      </a:lnTo>
                      <a:lnTo>
                        <a:pt x="0" y="289"/>
                      </a:lnTo>
                      <a:lnTo>
                        <a:pt x="0" y="268"/>
                      </a:lnTo>
                      <a:lnTo>
                        <a:pt x="0" y="246"/>
                      </a:lnTo>
                      <a:lnTo>
                        <a:pt x="2" y="223"/>
                      </a:lnTo>
                      <a:lnTo>
                        <a:pt x="6" y="196"/>
                      </a:lnTo>
                      <a:lnTo>
                        <a:pt x="10" y="172"/>
                      </a:lnTo>
                      <a:lnTo>
                        <a:pt x="14" y="145"/>
                      </a:lnTo>
                      <a:lnTo>
                        <a:pt x="20" y="121"/>
                      </a:lnTo>
                      <a:lnTo>
                        <a:pt x="23" y="96"/>
                      </a:lnTo>
                      <a:lnTo>
                        <a:pt x="29" y="73"/>
                      </a:lnTo>
                      <a:lnTo>
                        <a:pt x="33" y="54"/>
                      </a:lnTo>
                      <a:lnTo>
                        <a:pt x="38" y="36"/>
                      </a:lnTo>
                      <a:lnTo>
                        <a:pt x="41" y="21"/>
                      </a:lnTo>
                      <a:lnTo>
                        <a:pt x="44" y="10"/>
                      </a:lnTo>
                      <a:lnTo>
                        <a:pt x="45" y="3"/>
                      </a:lnTo>
                      <a:lnTo>
                        <a:pt x="46" y="0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9e9e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 flipH="1">
                  <a:off x="1676880" y="1577880"/>
                  <a:ext cx="1501560" cy="1299960"/>
                </a:xfrm>
                <a:custGeom>
                  <a:avLst/>
                  <a:gdLst/>
                  <a:ahLst/>
                  <a:rect l="l" t="t" r="r" b="b"/>
                  <a:pathLst>
                    <a:path w="1891" h="1639">
                      <a:moveTo>
                        <a:pt x="151" y="0"/>
                      </a:moveTo>
                      <a:lnTo>
                        <a:pt x="303" y="0"/>
                      </a:lnTo>
                      <a:lnTo>
                        <a:pt x="551" y="0"/>
                      </a:lnTo>
                      <a:lnTo>
                        <a:pt x="739" y="6"/>
                      </a:lnTo>
                      <a:lnTo>
                        <a:pt x="831" y="52"/>
                      </a:lnTo>
                      <a:lnTo>
                        <a:pt x="840" y="131"/>
                      </a:lnTo>
                      <a:lnTo>
                        <a:pt x="812" y="187"/>
                      </a:lnTo>
                      <a:lnTo>
                        <a:pt x="749" y="249"/>
                      </a:lnTo>
                      <a:lnTo>
                        <a:pt x="469" y="353"/>
                      </a:lnTo>
                      <a:lnTo>
                        <a:pt x="218" y="422"/>
                      </a:lnTo>
                      <a:lnTo>
                        <a:pt x="174" y="453"/>
                      </a:lnTo>
                      <a:lnTo>
                        <a:pt x="174" y="498"/>
                      </a:lnTo>
                      <a:lnTo>
                        <a:pt x="203" y="541"/>
                      </a:lnTo>
                      <a:lnTo>
                        <a:pt x="279" y="568"/>
                      </a:lnTo>
                      <a:lnTo>
                        <a:pt x="410" y="578"/>
                      </a:lnTo>
                      <a:lnTo>
                        <a:pt x="671" y="603"/>
                      </a:lnTo>
                      <a:lnTo>
                        <a:pt x="967" y="623"/>
                      </a:lnTo>
                      <a:lnTo>
                        <a:pt x="1147" y="656"/>
                      </a:lnTo>
                      <a:lnTo>
                        <a:pt x="1292" y="696"/>
                      </a:lnTo>
                      <a:lnTo>
                        <a:pt x="1343" y="763"/>
                      </a:lnTo>
                      <a:lnTo>
                        <a:pt x="1345" y="853"/>
                      </a:lnTo>
                      <a:lnTo>
                        <a:pt x="1282" y="918"/>
                      </a:lnTo>
                      <a:lnTo>
                        <a:pt x="285" y="1126"/>
                      </a:lnTo>
                      <a:lnTo>
                        <a:pt x="257" y="1141"/>
                      </a:lnTo>
                      <a:lnTo>
                        <a:pt x="261" y="1163"/>
                      </a:lnTo>
                      <a:lnTo>
                        <a:pt x="310" y="1186"/>
                      </a:lnTo>
                      <a:lnTo>
                        <a:pt x="1020" y="1180"/>
                      </a:lnTo>
                      <a:lnTo>
                        <a:pt x="1248" y="1134"/>
                      </a:lnTo>
                      <a:lnTo>
                        <a:pt x="1891" y="1000"/>
                      </a:lnTo>
                      <a:lnTo>
                        <a:pt x="1855" y="1066"/>
                      </a:lnTo>
                      <a:lnTo>
                        <a:pt x="1697" y="1116"/>
                      </a:lnTo>
                      <a:lnTo>
                        <a:pt x="1593" y="1203"/>
                      </a:lnTo>
                      <a:lnTo>
                        <a:pt x="1525" y="1317"/>
                      </a:lnTo>
                      <a:lnTo>
                        <a:pt x="1503" y="1639"/>
                      </a:lnTo>
                      <a:lnTo>
                        <a:pt x="206" y="1330"/>
                      </a:lnTo>
                      <a:lnTo>
                        <a:pt x="45" y="1170"/>
                      </a:lnTo>
                      <a:lnTo>
                        <a:pt x="60" y="1097"/>
                      </a:lnTo>
                      <a:lnTo>
                        <a:pt x="134" y="1031"/>
                      </a:lnTo>
                      <a:lnTo>
                        <a:pt x="191" y="997"/>
                      </a:lnTo>
                      <a:lnTo>
                        <a:pt x="419" y="953"/>
                      </a:lnTo>
                      <a:lnTo>
                        <a:pt x="850" y="878"/>
                      </a:lnTo>
                      <a:lnTo>
                        <a:pt x="1028" y="847"/>
                      </a:lnTo>
                      <a:lnTo>
                        <a:pt x="1075" y="811"/>
                      </a:lnTo>
                      <a:lnTo>
                        <a:pt x="1071" y="785"/>
                      </a:lnTo>
                      <a:lnTo>
                        <a:pt x="989" y="738"/>
                      </a:lnTo>
                      <a:lnTo>
                        <a:pt x="780" y="708"/>
                      </a:lnTo>
                      <a:lnTo>
                        <a:pt x="400" y="670"/>
                      </a:lnTo>
                      <a:lnTo>
                        <a:pt x="211" y="658"/>
                      </a:lnTo>
                      <a:lnTo>
                        <a:pt x="43" y="603"/>
                      </a:lnTo>
                      <a:lnTo>
                        <a:pt x="0" y="531"/>
                      </a:lnTo>
                      <a:lnTo>
                        <a:pt x="6" y="469"/>
                      </a:lnTo>
                      <a:lnTo>
                        <a:pt x="55" y="394"/>
                      </a:lnTo>
                      <a:lnTo>
                        <a:pt x="155" y="333"/>
                      </a:lnTo>
                      <a:lnTo>
                        <a:pt x="309" y="300"/>
                      </a:lnTo>
                      <a:lnTo>
                        <a:pt x="582" y="242"/>
                      </a:lnTo>
                      <a:lnTo>
                        <a:pt x="730" y="185"/>
                      </a:lnTo>
                      <a:lnTo>
                        <a:pt x="768" y="141"/>
                      </a:lnTo>
                      <a:lnTo>
                        <a:pt x="764" y="107"/>
                      </a:lnTo>
                      <a:lnTo>
                        <a:pt x="735" y="68"/>
                      </a:lnTo>
                      <a:lnTo>
                        <a:pt x="674" y="47"/>
                      </a:lnTo>
                      <a:lnTo>
                        <a:pt x="528" y="41"/>
                      </a:lnTo>
                      <a:lnTo>
                        <a:pt x="352" y="37"/>
                      </a:lnTo>
                      <a:lnTo>
                        <a:pt x="196" y="33"/>
                      </a:lnTo>
                      <a:lnTo>
                        <a:pt x="125" y="33"/>
                      </a:lnTo>
                      <a:lnTo>
                        <a:pt x="151" y="0"/>
                      </a:lnTo>
                      <a:lnTo>
                        <a:pt x="151" y="0"/>
                      </a:lnTo>
                      <a:close/>
                    </a:path>
                  </a:pathLst>
                </a:custGeom>
                <a:solidFill>
                  <a:srgbClr val="9e9e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 flipH="1">
                  <a:off x="1297440" y="2412720"/>
                  <a:ext cx="1857240" cy="614520"/>
                </a:xfrm>
                <a:custGeom>
                  <a:avLst/>
                  <a:gdLst/>
                  <a:ahLst/>
                  <a:rect l="l" t="t" r="r" b="b"/>
                  <a:pathLst>
                    <a:path w="2342" h="775">
                      <a:moveTo>
                        <a:pt x="80" y="0"/>
                      </a:moveTo>
                      <a:lnTo>
                        <a:pt x="78" y="0"/>
                      </a:lnTo>
                      <a:lnTo>
                        <a:pt x="76" y="2"/>
                      </a:lnTo>
                      <a:lnTo>
                        <a:pt x="72" y="6"/>
                      </a:lnTo>
                      <a:lnTo>
                        <a:pt x="68" y="14"/>
                      </a:lnTo>
                      <a:lnTo>
                        <a:pt x="62" y="19"/>
                      </a:lnTo>
                      <a:lnTo>
                        <a:pt x="57" y="28"/>
                      </a:lnTo>
                      <a:lnTo>
                        <a:pt x="52" y="37"/>
                      </a:lnTo>
                      <a:lnTo>
                        <a:pt x="49" y="49"/>
                      </a:lnTo>
                      <a:lnTo>
                        <a:pt x="44" y="60"/>
                      </a:lnTo>
                      <a:lnTo>
                        <a:pt x="42" y="72"/>
                      </a:lnTo>
                      <a:lnTo>
                        <a:pt x="41" y="86"/>
                      </a:lnTo>
                      <a:lnTo>
                        <a:pt x="44" y="100"/>
                      </a:lnTo>
                      <a:lnTo>
                        <a:pt x="47" y="113"/>
                      </a:lnTo>
                      <a:lnTo>
                        <a:pt x="54" y="128"/>
                      </a:lnTo>
                      <a:lnTo>
                        <a:pt x="63" y="141"/>
                      </a:lnTo>
                      <a:lnTo>
                        <a:pt x="77" y="154"/>
                      </a:lnTo>
                      <a:lnTo>
                        <a:pt x="92" y="166"/>
                      </a:lnTo>
                      <a:lnTo>
                        <a:pt x="111" y="181"/>
                      </a:lnTo>
                      <a:lnTo>
                        <a:pt x="131" y="193"/>
                      </a:lnTo>
                      <a:lnTo>
                        <a:pt x="153" y="207"/>
                      </a:lnTo>
                      <a:lnTo>
                        <a:pt x="174" y="220"/>
                      </a:lnTo>
                      <a:lnTo>
                        <a:pt x="198" y="233"/>
                      </a:lnTo>
                      <a:lnTo>
                        <a:pt x="220" y="244"/>
                      </a:lnTo>
                      <a:lnTo>
                        <a:pt x="244" y="256"/>
                      </a:lnTo>
                      <a:lnTo>
                        <a:pt x="264" y="265"/>
                      </a:lnTo>
                      <a:lnTo>
                        <a:pt x="283" y="274"/>
                      </a:lnTo>
                      <a:lnTo>
                        <a:pt x="302" y="281"/>
                      </a:lnTo>
                      <a:lnTo>
                        <a:pt x="318" y="290"/>
                      </a:lnTo>
                      <a:lnTo>
                        <a:pt x="331" y="295"/>
                      </a:lnTo>
                      <a:lnTo>
                        <a:pt x="341" y="299"/>
                      </a:lnTo>
                      <a:lnTo>
                        <a:pt x="348" y="301"/>
                      </a:lnTo>
                      <a:lnTo>
                        <a:pt x="351" y="302"/>
                      </a:lnTo>
                      <a:lnTo>
                        <a:pt x="304" y="229"/>
                      </a:lnTo>
                      <a:lnTo>
                        <a:pt x="443" y="315"/>
                      </a:lnTo>
                      <a:lnTo>
                        <a:pt x="442" y="311"/>
                      </a:lnTo>
                      <a:lnTo>
                        <a:pt x="439" y="305"/>
                      </a:lnTo>
                      <a:lnTo>
                        <a:pt x="437" y="300"/>
                      </a:lnTo>
                      <a:lnTo>
                        <a:pt x="435" y="296"/>
                      </a:lnTo>
                      <a:lnTo>
                        <a:pt x="432" y="290"/>
                      </a:lnTo>
                      <a:lnTo>
                        <a:pt x="430" y="285"/>
                      </a:lnTo>
                      <a:lnTo>
                        <a:pt x="425" y="278"/>
                      </a:lnTo>
                      <a:lnTo>
                        <a:pt x="421" y="270"/>
                      </a:lnTo>
                      <a:lnTo>
                        <a:pt x="415" y="264"/>
                      </a:lnTo>
                      <a:lnTo>
                        <a:pt x="409" y="257"/>
                      </a:lnTo>
                      <a:lnTo>
                        <a:pt x="402" y="250"/>
                      </a:lnTo>
                      <a:lnTo>
                        <a:pt x="395" y="244"/>
                      </a:lnTo>
                      <a:lnTo>
                        <a:pt x="386" y="237"/>
                      </a:lnTo>
                      <a:lnTo>
                        <a:pt x="379" y="232"/>
                      </a:lnTo>
                      <a:lnTo>
                        <a:pt x="383" y="232"/>
                      </a:lnTo>
                      <a:lnTo>
                        <a:pt x="387" y="233"/>
                      </a:lnTo>
                      <a:lnTo>
                        <a:pt x="396" y="235"/>
                      </a:lnTo>
                      <a:lnTo>
                        <a:pt x="404" y="238"/>
                      </a:lnTo>
                      <a:lnTo>
                        <a:pt x="415" y="243"/>
                      </a:lnTo>
                      <a:lnTo>
                        <a:pt x="427" y="246"/>
                      </a:lnTo>
                      <a:lnTo>
                        <a:pt x="442" y="253"/>
                      </a:lnTo>
                      <a:lnTo>
                        <a:pt x="454" y="257"/>
                      </a:lnTo>
                      <a:lnTo>
                        <a:pt x="469" y="265"/>
                      </a:lnTo>
                      <a:lnTo>
                        <a:pt x="485" y="273"/>
                      </a:lnTo>
                      <a:lnTo>
                        <a:pt x="499" y="281"/>
                      </a:lnTo>
                      <a:lnTo>
                        <a:pt x="513" y="291"/>
                      </a:lnTo>
                      <a:lnTo>
                        <a:pt x="529" y="302"/>
                      </a:lnTo>
                      <a:lnTo>
                        <a:pt x="543" y="315"/>
                      </a:lnTo>
                      <a:lnTo>
                        <a:pt x="558" y="329"/>
                      </a:lnTo>
                      <a:lnTo>
                        <a:pt x="557" y="326"/>
                      </a:lnTo>
                      <a:lnTo>
                        <a:pt x="554" y="317"/>
                      </a:lnTo>
                      <a:lnTo>
                        <a:pt x="551" y="310"/>
                      </a:lnTo>
                      <a:lnTo>
                        <a:pt x="548" y="304"/>
                      </a:lnTo>
                      <a:lnTo>
                        <a:pt x="545" y="297"/>
                      </a:lnTo>
                      <a:lnTo>
                        <a:pt x="542" y="290"/>
                      </a:lnTo>
                      <a:lnTo>
                        <a:pt x="537" y="281"/>
                      </a:lnTo>
                      <a:lnTo>
                        <a:pt x="532" y="275"/>
                      </a:lnTo>
                      <a:lnTo>
                        <a:pt x="526" y="267"/>
                      </a:lnTo>
                      <a:lnTo>
                        <a:pt x="521" y="260"/>
                      </a:lnTo>
                      <a:lnTo>
                        <a:pt x="513" y="255"/>
                      </a:lnTo>
                      <a:lnTo>
                        <a:pt x="507" y="249"/>
                      </a:lnTo>
                      <a:lnTo>
                        <a:pt x="492" y="243"/>
                      </a:lnTo>
                      <a:lnTo>
                        <a:pt x="501" y="244"/>
                      </a:lnTo>
                      <a:lnTo>
                        <a:pt x="511" y="248"/>
                      </a:lnTo>
                      <a:lnTo>
                        <a:pt x="523" y="254"/>
                      </a:lnTo>
                      <a:lnTo>
                        <a:pt x="533" y="260"/>
                      </a:lnTo>
                      <a:lnTo>
                        <a:pt x="547" y="267"/>
                      </a:lnTo>
                      <a:lnTo>
                        <a:pt x="562" y="276"/>
                      </a:lnTo>
                      <a:lnTo>
                        <a:pt x="576" y="283"/>
                      </a:lnTo>
                      <a:lnTo>
                        <a:pt x="592" y="292"/>
                      </a:lnTo>
                      <a:lnTo>
                        <a:pt x="607" y="302"/>
                      </a:lnTo>
                      <a:lnTo>
                        <a:pt x="624" y="315"/>
                      </a:lnTo>
                      <a:lnTo>
                        <a:pt x="637" y="326"/>
                      </a:lnTo>
                      <a:lnTo>
                        <a:pt x="653" y="339"/>
                      </a:lnTo>
                      <a:lnTo>
                        <a:pt x="667" y="352"/>
                      </a:lnTo>
                      <a:lnTo>
                        <a:pt x="680" y="368"/>
                      </a:lnTo>
                      <a:lnTo>
                        <a:pt x="678" y="363"/>
                      </a:lnTo>
                      <a:lnTo>
                        <a:pt x="675" y="356"/>
                      </a:lnTo>
                      <a:lnTo>
                        <a:pt x="671" y="350"/>
                      </a:lnTo>
                      <a:lnTo>
                        <a:pt x="669" y="343"/>
                      </a:lnTo>
                      <a:lnTo>
                        <a:pt x="665" y="337"/>
                      </a:lnTo>
                      <a:lnTo>
                        <a:pt x="662" y="329"/>
                      </a:lnTo>
                      <a:lnTo>
                        <a:pt x="657" y="320"/>
                      </a:lnTo>
                      <a:lnTo>
                        <a:pt x="652" y="312"/>
                      </a:lnTo>
                      <a:lnTo>
                        <a:pt x="646" y="304"/>
                      </a:lnTo>
                      <a:lnTo>
                        <a:pt x="641" y="296"/>
                      </a:lnTo>
                      <a:lnTo>
                        <a:pt x="633" y="288"/>
                      </a:lnTo>
                      <a:lnTo>
                        <a:pt x="625" y="280"/>
                      </a:lnTo>
                      <a:lnTo>
                        <a:pt x="617" y="275"/>
                      </a:lnTo>
                      <a:lnTo>
                        <a:pt x="611" y="269"/>
                      </a:lnTo>
                      <a:lnTo>
                        <a:pt x="612" y="269"/>
                      </a:lnTo>
                      <a:lnTo>
                        <a:pt x="615" y="271"/>
                      </a:lnTo>
                      <a:lnTo>
                        <a:pt x="623" y="274"/>
                      </a:lnTo>
                      <a:lnTo>
                        <a:pt x="633" y="278"/>
                      </a:lnTo>
                      <a:lnTo>
                        <a:pt x="644" y="281"/>
                      </a:lnTo>
                      <a:lnTo>
                        <a:pt x="657" y="288"/>
                      </a:lnTo>
                      <a:lnTo>
                        <a:pt x="670" y="294"/>
                      </a:lnTo>
                      <a:lnTo>
                        <a:pt x="686" y="302"/>
                      </a:lnTo>
                      <a:lnTo>
                        <a:pt x="701" y="309"/>
                      </a:lnTo>
                      <a:lnTo>
                        <a:pt x="716" y="317"/>
                      </a:lnTo>
                      <a:lnTo>
                        <a:pt x="731" y="326"/>
                      </a:lnTo>
                      <a:lnTo>
                        <a:pt x="747" y="337"/>
                      </a:lnTo>
                      <a:lnTo>
                        <a:pt x="761" y="347"/>
                      </a:lnTo>
                      <a:lnTo>
                        <a:pt x="773" y="358"/>
                      </a:lnTo>
                      <a:lnTo>
                        <a:pt x="784" y="369"/>
                      </a:lnTo>
                      <a:lnTo>
                        <a:pt x="795" y="381"/>
                      </a:lnTo>
                      <a:lnTo>
                        <a:pt x="793" y="377"/>
                      </a:lnTo>
                      <a:lnTo>
                        <a:pt x="790" y="369"/>
                      </a:lnTo>
                      <a:lnTo>
                        <a:pt x="785" y="361"/>
                      </a:lnTo>
                      <a:lnTo>
                        <a:pt x="783" y="356"/>
                      </a:lnTo>
                      <a:lnTo>
                        <a:pt x="779" y="349"/>
                      </a:lnTo>
                      <a:lnTo>
                        <a:pt x="775" y="341"/>
                      </a:lnTo>
                      <a:lnTo>
                        <a:pt x="770" y="332"/>
                      </a:lnTo>
                      <a:lnTo>
                        <a:pt x="764" y="325"/>
                      </a:lnTo>
                      <a:lnTo>
                        <a:pt x="759" y="316"/>
                      </a:lnTo>
                      <a:lnTo>
                        <a:pt x="752" y="309"/>
                      </a:lnTo>
                      <a:lnTo>
                        <a:pt x="746" y="302"/>
                      </a:lnTo>
                      <a:lnTo>
                        <a:pt x="739" y="296"/>
                      </a:lnTo>
                      <a:lnTo>
                        <a:pt x="730" y="290"/>
                      </a:lnTo>
                      <a:lnTo>
                        <a:pt x="723" y="286"/>
                      </a:lnTo>
                      <a:lnTo>
                        <a:pt x="725" y="286"/>
                      </a:lnTo>
                      <a:lnTo>
                        <a:pt x="729" y="288"/>
                      </a:lnTo>
                      <a:lnTo>
                        <a:pt x="737" y="291"/>
                      </a:lnTo>
                      <a:lnTo>
                        <a:pt x="747" y="296"/>
                      </a:lnTo>
                      <a:lnTo>
                        <a:pt x="758" y="301"/>
                      </a:lnTo>
                      <a:lnTo>
                        <a:pt x="772" y="308"/>
                      </a:lnTo>
                      <a:lnTo>
                        <a:pt x="786" y="315"/>
                      </a:lnTo>
                      <a:lnTo>
                        <a:pt x="804" y="325"/>
                      </a:lnTo>
                      <a:lnTo>
                        <a:pt x="819" y="332"/>
                      </a:lnTo>
                      <a:lnTo>
                        <a:pt x="837" y="342"/>
                      </a:lnTo>
                      <a:lnTo>
                        <a:pt x="854" y="352"/>
                      </a:lnTo>
                      <a:lnTo>
                        <a:pt x="870" y="363"/>
                      </a:lnTo>
                      <a:lnTo>
                        <a:pt x="886" y="374"/>
                      </a:lnTo>
                      <a:lnTo>
                        <a:pt x="900" y="386"/>
                      </a:lnTo>
                      <a:lnTo>
                        <a:pt x="914" y="399"/>
                      </a:lnTo>
                      <a:lnTo>
                        <a:pt x="926" y="411"/>
                      </a:lnTo>
                      <a:lnTo>
                        <a:pt x="925" y="409"/>
                      </a:lnTo>
                      <a:lnTo>
                        <a:pt x="922" y="406"/>
                      </a:lnTo>
                      <a:lnTo>
                        <a:pt x="920" y="401"/>
                      </a:lnTo>
                      <a:lnTo>
                        <a:pt x="918" y="396"/>
                      </a:lnTo>
                      <a:lnTo>
                        <a:pt x="912" y="388"/>
                      </a:lnTo>
                      <a:lnTo>
                        <a:pt x="909" y="380"/>
                      </a:lnTo>
                      <a:lnTo>
                        <a:pt x="903" y="371"/>
                      </a:lnTo>
                      <a:lnTo>
                        <a:pt x="898" y="362"/>
                      </a:lnTo>
                      <a:lnTo>
                        <a:pt x="890" y="352"/>
                      </a:lnTo>
                      <a:lnTo>
                        <a:pt x="885" y="342"/>
                      </a:lnTo>
                      <a:lnTo>
                        <a:pt x="877" y="333"/>
                      </a:lnTo>
                      <a:lnTo>
                        <a:pt x="872" y="326"/>
                      </a:lnTo>
                      <a:lnTo>
                        <a:pt x="865" y="316"/>
                      </a:lnTo>
                      <a:lnTo>
                        <a:pt x="858" y="309"/>
                      </a:lnTo>
                      <a:lnTo>
                        <a:pt x="853" y="302"/>
                      </a:lnTo>
                      <a:lnTo>
                        <a:pt x="846" y="299"/>
                      </a:lnTo>
                      <a:lnTo>
                        <a:pt x="848" y="299"/>
                      </a:lnTo>
                      <a:lnTo>
                        <a:pt x="855" y="302"/>
                      </a:lnTo>
                      <a:lnTo>
                        <a:pt x="865" y="308"/>
                      </a:lnTo>
                      <a:lnTo>
                        <a:pt x="880" y="316"/>
                      </a:lnTo>
                      <a:lnTo>
                        <a:pt x="897" y="325"/>
                      </a:lnTo>
                      <a:lnTo>
                        <a:pt x="917" y="336"/>
                      </a:lnTo>
                      <a:lnTo>
                        <a:pt x="937" y="347"/>
                      </a:lnTo>
                      <a:lnTo>
                        <a:pt x="959" y="360"/>
                      </a:lnTo>
                      <a:lnTo>
                        <a:pt x="980" y="372"/>
                      </a:lnTo>
                      <a:lnTo>
                        <a:pt x="1002" y="384"/>
                      </a:lnTo>
                      <a:lnTo>
                        <a:pt x="1022" y="396"/>
                      </a:lnTo>
                      <a:lnTo>
                        <a:pt x="1042" y="411"/>
                      </a:lnTo>
                      <a:lnTo>
                        <a:pt x="1058" y="423"/>
                      </a:lnTo>
                      <a:lnTo>
                        <a:pt x="1074" y="435"/>
                      </a:lnTo>
                      <a:lnTo>
                        <a:pt x="1085" y="446"/>
                      </a:lnTo>
                      <a:lnTo>
                        <a:pt x="1079" y="436"/>
                      </a:lnTo>
                      <a:lnTo>
                        <a:pt x="1072" y="426"/>
                      </a:lnTo>
                      <a:lnTo>
                        <a:pt x="1064" y="416"/>
                      </a:lnTo>
                      <a:lnTo>
                        <a:pt x="1055" y="404"/>
                      </a:lnTo>
                      <a:lnTo>
                        <a:pt x="1047" y="393"/>
                      </a:lnTo>
                      <a:lnTo>
                        <a:pt x="1035" y="380"/>
                      </a:lnTo>
                      <a:lnTo>
                        <a:pt x="1025" y="367"/>
                      </a:lnTo>
                      <a:lnTo>
                        <a:pt x="1014" y="354"/>
                      </a:lnTo>
                      <a:lnTo>
                        <a:pt x="1004" y="344"/>
                      </a:lnTo>
                      <a:lnTo>
                        <a:pt x="993" y="333"/>
                      </a:lnTo>
                      <a:lnTo>
                        <a:pt x="983" y="326"/>
                      </a:lnTo>
                      <a:lnTo>
                        <a:pt x="973" y="318"/>
                      </a:lnTo>
                      <a:lnTo>
                        <a:pt x="964" y="315"/>
                      </a:lnTo>
                      <a:lnTo>
                        <a:pt x="967" y="315"/>
                      </a:lnTo>
                      <a:lnTo>
                        <a:pt x="973" y="318"/>
                      </a:lnTo>
                      <a:lnTo>
                        <a:pt x="984" y="323"/>
                      </a:lnTo>
                      <a:lnTo>
                        <a:pt x="1000" y="330"/>
                      </a:lnTo>
                      <a:lnTo>
                        <a:pt x="1015" y="338"/>
                      </a:lnTo>
                      <a:lnTo>
                        <a:pt x="1035" y="349"/>
                      </a:lnTo>
                      <a:lnTo>
                        <a:pt x="1057" y="360"/>
                      </a:lnTo>
                      <a:lnTo>
                        <a:pt x="1082" y="372"/>
                      </a:lnTo>
                      <a:lnTo>
                        <a:pt x="1104" y="384"/>
                      </a:lnTo>
                      <a:lnTo>
                        <a:pt x="1127" y="398"/>
                      </a:lnTo>
                      <a:lnTo>
                        <a:pt x="1148" y="411"/>
                      </a:lnTo>
                      <a:lnTo>
                        <a:pt x="1170" y="425"/>
                      </a:lnTo>
                      <a:lnTo>
                        <a:pt x="1188" y="438"/>
                      </a:lnTo>
                      <a:lnTo>
                        <a:pt x="1205" y="452"/>
                      </a:lnTo>
                      <a:lnTo>
                        <a:pt x="1219" y="463"/>
                      </a:lnTo>
                      <a:lnTo>
                        <a:pt x="1230" y="475"/>
                      </a:lnTo>
                      <a:lnTo>
                        <a:pt x="1141" y="350"/>
                      </a:lnTo>
                      <a:lnTo>
                        <a:pt x="1371" y="496"/>
                      </a:lnTo>
                      <a:lnTo>
                        <a:pt x="1370" y="494"/>
                      </a:lnTo>
                      <a:lnTo>
                        <a:pt x="1368" y="489"/>
                      </a:lnTo>
                      <a:lnTo>
                        <a:pt x="1365" y="483"/>
                      </a:lnTo>
                      <a:lnTo>
                        <a:pt x="1360" y="475"/>
                      </a:lnTo>
                      <a:lnTo>
                        <a:pt x="1355" y="464"/>
                      </a:lnTo>
                      <a:lnTo>
                        <a:pt x="1348" y="453"/>
                      </a:lnTo>
                      <a:lnTo>
                        <a:pt x="1340" y="441"/>
                      </a:lnTo>
                      <a:lnTo>
                        <a:pt x="1333" y="428"/>
                      </a:lnTo>
                      <a:lnTo>
                        <a:pt x="1324" y="414"/>
                      </a:lnTo>
                      <a:lnTo>
                        <a:pt x="1315" y="402"/>
                      </a:lnTo>
                      <a:lnTo>
                        <a:pt x="1306" y="389"/>
                      </a:lnTo>
                      <a:lnTo>
                        <a:pt x="1298" y="378"/>
                      </a:lnTo>
                      <a:lnTo>
                        <a:pt x="1287" y="367"/>
                      </a:lnTo>
                      <a:lnTo>
                        <a:pt x="1278" y="358"/>
                      </a:lnTo>
                      <a:lnTo>
                        <a:pt x="1270" y="350"/>
                      </a:lnTo>
                      <a:lnTo>
                        <a:pt x="1262" y="347"/>
                      </a:lnTo>
                      <a:lnTo>
                        <a:pt x="1263" y="347"/>
                      </a:lnTo>
                      <a:lnTo>
                        <a:pt x="1268" y="350"/>
                      </a:lnTo>
                      <a:lnTo>
                        <a:pt x="1277" y="352"/>
                      </a:lnTo>
                      <a:lnTo>
                        <a:pt x="1289" y="359"/>
                      </a:lnTo>
                      <a:lnTo>
                        <a:pt x="1303" y="364"/>
                      </a:lnTo>
                      <a:lnTo>
                        <a:pt x="1319" y="372"/>
                      </a:lnTo>
                      <a:lnTo>
                        <a:pt x="1336" y="381"/>
                      </a:lnTo>
                      <a:lnTo>
                        <a:pt x="1355" y="391"/>
                      </a:lnTo>
                      <a:lnTo>
                        <a:pt x="1372" y="400"/>
                      </a:lnTo>
                      <a:lnTo>
                        <a:pt x="1390" y="412"/>
                      </a:lnTo>
                      <a:lnTo>
                        <a:pt x="1409" y="424"/>
                      </a:lnTo>
                      <a:lnTo>
                        <a:pt x="1427" y="436"/>
                      </a:lnTo>
                      <a:lnTo>
                        <a:pt x="1442" y="448"/>
                      </a:lnTo>
                      <a:lnTo>
                        <a:pt x="1456" y="462"/>
                      </a:lnTo>
                      <a:lnTo>
                        <a:pt x="1469" y="474"/>
                      </a:lnTo>
                      <a:lnTo>
                        <a:pt x="1477" y="488"/>
                      </a:lnTo>
                      <a:lnTo>
                        <a:pt x="1475" y="483"/>
                      </a:lnTo>
                      <a:lnTo>
                        <a:pt x="1473" y="469"/>
                      </a:lnTo>
                      <a:lnTo>
                        <a:pt x="1471" y="449"/>
                      </a:lnTo>
                      <a:lnTo>
                        <a:pt x="1470" y="424"/>
                      </a:lnTo>
                      <a:lnTo>
                        <a:pt x="1469" y="393"/>
                      </a:lnTo>
                      <a:lnTo>
                        <a:pt x="1470" y="358"/>
                      </a:lnTo>
                      <a:lnTo>
                        <a:pt x="1476" y="319"/>
                      </a:lnTo>
                      <a:lnTo>
                        <a:pt x="1486" y="280"/>
                      </a:lnTo>
                      <a:lnTo>
                        <a:pt x="1501" y="237"/>
                      </a:lnTo>
                      <a:lnTo>
                        <a:pt x="1522" y="196"/>
                      </a:lnTo>
                      <a:lnTo>
                        <a:pt x="1549" y="154"/>
                      </a:lnTo>
                      <a:lnTo>
                        <a:pt x="1586" y="117"/>
                      </a:lnTo>
                      <a:lnTo>
                        <a:pt x="1630" y="80"/>
                      </a:lnTo>
                      <a:lnTo>
                        <a:pt x="1685" y="47"/>
                      </a:lnTo>
                      <a:lnTo>
                        <a:pt x="1750" y="21"/>
                      </a:lnTo>
                      <a:lnTo>
                        <a:pt x="1829" y="0"/>
                      </a:lnTo>
                      <a:lnTo>
                        <a:pt x="1831" y="17"/>
                      </a:lnTo>
                      <a:lnTo>
                        <a:pt x="1828" y="17"/>
                      </a:lnTo>
                      <a:lnTo>
                        <a:pt x="1819" y="19"/>
                      </a:lnTo>
                      <a:lnTo>
                        <a:pt x="1806" y="22"/>
                      </a:lnTo>
                      <a:lnTo>
                        <a:pt x="1790" y="27"/>
                      </a:lnTo>
                      <a:lnTo>
                        <a:pt x="1769" y="33"/>
                      </a:lnTo>
                      <a:lnTo>
                        <a:pt x="1747" y="42"/>
                      </a:lnTo>
                      <a:lnTo>
                        <a:pt x="1722" y="51"/>
                      </a:lnTo>
                      <a:lnTo>
                        <a:pt x="1697" y="66"/>
                      </a:lnTo>
                      <a:lnTo>
                        <a:pt x="1670" y="80"/>
                      </a:lnTo>
                      <a:lnTo>
                        <a:pt x="1643" y="98"/>
                      </a:lnTo>
                      <a:lnTo>
                        <a:pt x="1618" y="118"/>
                      </a:lnTo>
                      <a:lnTo>
                        <a:pt x="1593" y="142"/>
                      </a:lnTo>
                      <a:lnTo>
                        <a:pt x="1570" y="169"/>
                      </a:lnTo>
                      <a:lnTo>
                        <a:pt x="1550" y="199"/>
                      </a:lnTo>
                      <a:lnTo>
                        <a:pt x="1534" y="232"/>
                      </a:lnTo>
                      <a:lnTo>
                        <a:pt x="1523" y="269"/>
                      </a:lnTo>
                      <a:lnTo>
                        <a:pt x="1581" y="594"/>
                      </a:lnTo>
                      <a:lnTo>
                        <a:pt x="1581" y="595"/>
                      </a:lnTo>
                      <a:lnTo>
                        <a:pt x="1584" y="600"/>
                      </a:lnTo>
                      <a:lnTo>
                        <a:pt x="1588" y="604"/>
                      </a:lnTo>
                      <a:lnTo>
                        <a:pt x="1596" y="614"/>
                      </a:lnTo>
                      <a:lnTo>
                        <a:pt x="1603" y="623"/>
                      </a:lnTo>
                      <a:lnTo>
                        <a:pt x="1613" y="634"/>
                      </a:lnTo>
                      <a:lnTo>
                        <a:pt x="1626" y="646"/>
                      </a:lnTo>
                      <a:lnTo>
                        <a:pt x="1641" y="660"/>
                      </a:lnTo>
                      <a:lnTo>
                        <a:pt x="1655" y="672"/>
                      </a:lnTo>
                      <a:lnTo>
                        <a:pt x="1674" y="684"/>
                      </a:lnTo>
                      <a:lnTo>
                        <a:pt x="1694" y="695"/>
                      </a:lnTo>
                      <a:lnTo>
                        <a:pt x="1716" y="707"/>
                      </a:lnTo>
                      <a:lnTo>
                        <a:pt x="1739" y="716"/>
                      </a:lnTo>
                      <a:lnTo>
                        <a:pt x="1766" y="725"/>
                      </a:lnTo>
                      <a:lnTo>
                        <a:pt x="1792" y="731"/>
                      </a:lnTo>
                      <a:lnTo>
                        <a:pt x="1823" y="736"/>
                      </a:lnTo>
                      <a:lnTo>
                        <a:pt x="2022" y="709"/>
                      </a:lnTo>
                      <a:lnTo>
                        <a:pt x="2022" y="708"/>
                      </a:lnTo>
                      <a:lnTo>
                        <a:pt x="2026" y="708"/>
                      </a:lnTo>
                      <a:lnTo>
                        <a:pt x="2029" y="706"/>
                      </a:lnTo>
                      <a:lnTo>
                        <a:pt x="2035" y="705"/>
                      </a:lnTo>
                      <a:lnTo>
                        <a:pt x="2040" y="702"/>
                      </a:lnTo>
                      <a:lnTo>
                        <a:pt x="2048" y="698"/>
                      </a:lnTo>
                      <a:lnTo>
                        <a:pt x="2054" y="696"/>
                      </a:lnTo>
                      <a:lnTo>
                        <a:pt x="2064" y="694"/>
                      </a:lnTo>
                      <a:lnTo>
                        <a:pt x="2072" y="688"/>
                      </a:lnTo>
                      <a:lnTo>
                        <a:pt x="2080" y="685"/>
                      </a:lnTo>
                      <a:lnTo>
                        <a:pt x="2088" y="681"/>
                      </a:lnTo>
                      <a:lnTo>
                        <a:pt x="2096" y="676"/>
                      </a:lnTo>
                      <a:lnTo>
                        <a:pt x="2102" y="672"/>
                      </a:lnTo>
                      <a:lnTo>
                        <a:pt x="2110" y="667"/>
                      </a:lnTo>
                      <a:lnTo>
                        <a:pt x="2114" y="662"/>
                      </a:lnTo>
                      <a:lnTo>
                        <a:pt x="2120" y="658"/>
                      </a:lnTo>
                      <a:lnTo>
                        <a:pt x="2252" y="534"/>
                      </a:lnTo>
                      <a:lnTo>
                        <a:pt x="2252" y="532"/>
                      </a:lnTo>
                      <a:lnTo>
                        <a:pt x="2256" y="530"/>
                      </a:lnTo>
                      <a:lnTo>
                        <a:pt x="2258" y="526"/>
                      </a:lnTo>
                      <a:lnTo>
                        <a:pt x="2265" y="521"/>
                      </a:lnTo>
                      <a:lnTo>
                        <a:pt x="2270" y="514"/>
                      </a:lnTo>
                      <a:lnTo>
                        <a:pt x="2278" y="506"/>
                      </a:lnTo>
                      <a:lnTo>
                        <a:pt x="2283" y="496"/>
                      </a:lnTo>
                      <a:lnTo>
                        <a:pt x="2292" y="486"/>
                      </a:lnTo>
                      <a:lnTo>
                        <a:pt x="2298" y="473"/>
                      </a:lnTo>
                      <a:lnTo>
                        <a:pt x="2304" y="457"/>
                      </a:lnTo>
                      <a:lnTo>
                        <a:pt x="2310" y="442"/>
                      </a:lnTo>
                      <a:lnTo>
                        <a:pt x="2315" y="424"/>
                      </a:lnTo>
                      <a:lnTo>
                        <a:pt x="2316" y="404"/>
                      </a:lnTo>
                      <a:lnTo>
                        <a:pt x="2319" y="383"/>
                      </a:lnTo>
                      <a:lnTo>
                        <a:pt x="2319" y="361"/>
                      </a:lnTo>
                      <a:lnTo>
                        <a:pt x="2316" y="338"/>
                      </a:lnTo>
                      <a:lnTo>
                        <a:pt x="2342" y="368"/>
                      </a:lnTo>
                      <a:lnTo>
                        <a:pt x="2342" y="369"/>
                      </a:lnTo>
                      <a:lnTo>
                        <a:pt x="2342" y="372"/>
                      </a:lnTo>
                      <a:lnTo>
                        <a:pt x="2342" y="379"/>
                      </a:lnTo>
                      <a:lnTo>
                        <a:pt x="2342" y="389"/>
                      </a:lnTo>
                      <a:lnTo>
                        <a:pt x="2341" y="400"/>
                      </a:lnTo>
                      <a:lnTo>
                        <a:pt x="2341" y="412"/>
                      </a:lnTo>
                      <a:lnTo>
                        <a:pt x="2339" y="425"/>
                      </a:lnTo>
                      <a:lnTo>
                        <a:pt x="2339" y="441"/>
                      </a:lnTo>
                      <a:lnTo>
                        <a:pt x="2334" y="454"/>
                      </a:lnTo>
                      <a:lnTo>
                        <a:pt x="2331" y="468"/>
                      </a:lnTo>
                      <a:lnTo>
                        <a:pt x="2326" y="483"/>
                      </a:lnTo>
                      <a:lnTo>
                        <a:pt x="2321" y="497"/>
                      </a:lnTo>
                      <a:lnTo>
                        <a:pt x="2314" y="509"/>
                      </a:lnTo>
                      <a:lnTo>
                        <a:pt x="2305" y="521"/>
                      </a:lnTo>
                      <a:lnTo>
                        <a:pt x="2295" y="530"/>
                      </a:lnTo>
                      <a:lnTo>
                        <a:pt x="2286" y="539"/>
                      </a:lnTo>
                      <a:lnTo>
                        <a:pt x="2137" y="663"/>
                      </a:lnTo>
                      <a:lnTo>
                        <a:pt x="2136" y="664"/>
                      </a:lnTo>
                      <a:lnTo>
                        <a:pt x="2134" y="669"/>
                      </a:lnTo>
                      <a:lnTo>
                        <a:pt x="2130" y="676"/>
                      </a:lnTo>
                      <a:lnTo>
                        <a:pt x="2122" y="685"/>
                      </a:lnTo>
                      <a:lnTo>
                        <a:pt x="2116" y="689"/>
                      </a:lnTo>
                      <a:lnTo>
                        <a:pt x="2110" y="694"/>
                      </a:lnTo>
                      <a:lnTo>
                        <a:pt x="2103" y="697"/>
                      </a:lnTo>
                      <a:lnTo>
                        <a:pt x="2095" y="703"/>
                      </a:lnTo>
                      <a:lnTo>
                        <a:pt x="2085" y="707"/>
                      </a:lnTo>
                      <a:lnTo>
                        <a:pt x="2074" y="710"/>
                      </a:lnTo>
                      <a:lnTo>
                        <a:pt x="2061" y="714"/>
                      </a:lnTo>
                      <a:lnTo>
                        <a:pt x="2048" y="718"/>
                      </a:lnTo>
                      <a:lnTo>
                        <a:pt x="1944" y="731"/>
                      </a:lnTo>
                      <a:lnTo>
                        <a:pt x="1894" y="754"/>
                      </a:lnTo>
                      <a:lnTo>
                        <a:pt x="1875" y="775"/>
                      </a:lnTo>
                      <a:lnTo>
                        <a:pt x="187" y="302"/>
                      </a:lnTo>
                      <a:lnTo>
                        <a:pt x="185" y="302"/>
                      </a:lnTo>
                      <a:lnTo>
                        <a:pt x="180" y="300"/>
                      </a:lnTo>
                      <a:lnTo>
                        <a:pt x="172" y="297"/>
                      </a:lnTo>
                      <a:lnTo>
                        <a:pt x="163" y="292"/>
                      </a:lnTo>
                      <a:lnTo>
                        <a:pt x="151" y="287"/>
                      </a:lnTo>
                      <a:lnTo>
                        <a:pt x="138" y="280"/>
                      </a:lnTo>
                      <a:lnTo>
                        <a:pt x="123" y="274"/>
                      </a:lnTo>
                      <a:lnTo>
                        <a:pt x="110" y="266"/>
                      </a:lnTo>
                      <a:lnTo>
                        <a:pt x="93" y="256"/>
                      </a:lnTo>
                      <a:lnTo>
                        <a:pt x="78" y="245"/>
                      </a:lnTo>
                      <a:lnTo>
                        <a:pt x="63" y="232"/>
                      </a:lnTo>
                      <a:lnTo>
                        <a:pt x="50" y="220"/>
                      </a:lnTo>
                      <a:lnTo>
                        <a:pt x="36" y="203"/>
                      </a:lnTo>
                      <a:lnTo>
                        <a:pt x="25" y="187"/>
                      </a:lnTo>
                      <a:lnTo>
                        <a:pt x="15" y="170"/>
                      </a:lnTo>
                      <a:lnTo>
                        <a:pt x="8" y="152"/>
                      </a:lnTo>
                      <a:lnTo>
                        <a:pt x="3" y="133"/>
                      </a:lnTo>
                      <a:lnTo>
                        <a:pt x="0" y="116"/>
                      </a:lnTo>
                      <a:lnTo>
                        <a:pt x="0" y="99"/>
                      </a:lnTo>
                      <a:lnTo>
                        <a:pt x="5" y="85"/>
                      </a:lnTo>
                      <a:lnTo>
                        <a:pt x="9" y="70"/>
                      </a:lnTo>
                      <a:lnTo>
                        <a:pt x="16" y="58"/>
                      </a:lnTo>
                      <a:lnTo>
                        <a:pt x="23" y="46"/>
                      </a:lnTo>
                      <a:lnTo>
                        <a:pt x="31" y="36"/>
                      </a:lnTo>
                      <a:lnTo>
                        <a:pt x="40" y="26"/>
                      </a:lnTo>
                      <a:lnTo>
                        <a:pt x="48" y="19"/>
                      </a:lnTo>
                      <a:lnTo>
                        <a:pt x="56" y="13"/>
                      </a:lnTo>
                      <a:lnTo>
                        <a:pt x="65" y="8"/>
                      </a:lnTo>
                      <a:lnTo>
                        <a:pt x="69" y="3"/>
                      </a:lnTo>
                      <a:lnTo>
                        <a:pt x="76" y="2"/>
                      </a:lnTo>
                      <a:lnTo>
                        <a:pt x="78" y="0"/>
                      </a:lnTo>
                      <a:lnTo>
                        <a:pt x="80" y="0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5c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 flipH="1">
                  <a:off x="1279800" y="2322360"/>
                  <a:ext cx="119160" cy="61920"/>
                </a:xfrm>
                <a:custGeom>
                  <a:avLst/>
                  <a:gdLst/>
                  <a:ahLst/>
                  <a:rect l="l" t="t" r="r" b="b"/>
                  <a:pathLst>
                    <a:path w="150" h="77">
                      <a:moveTo>
                        <a:pt x="0" y="16"/>
                      </a:moveTo>
                      <a:lnTo>
                        <a:pt x="3" y="16"/>
                      </a:lnTo>
                      <a:lnTo>
                        <a:pt x="8" y="16"/>
                      </a:lnTo>
                      <a:lnTo>
                        <a:pt x="15" y="16"/>
                      </a:lnTo>
                      <a:lnTo>
                        <a:pt x="23" y="16"/>
                      </a:lnTo>
                      <a:lnTo>
                        <a:pt x="33" y="17"/>
                      </a:lnTo>
                      <a:lnTo>
                        <a:pt x="42" y="19"/>
                      </a:lnTo>
                      <a:lnTo>
                        <a:pt x="54" y="22"/>
                      </a:lnTo>
                      <a:lnTo>
                        <a:pt x="65" y="23"/>
                      </a:lnTo>
                      <a:lnTo>
                        <a:pt x="76" y="27"/>
                      </a:lnTo>
                      <a:lnTo>
                        <a:pt x="87" y="33"/>
                      </a:lnTo>
                      <a:lnTo>
                        <a:pt x="99" y="38"/>
                      </a:lnTo>
                      <a:lnTo>
                        <a:pt x="109" y="45"/>
                      </a:lnTo>
                      <a:lnTo>
                        <a:pt x="119" y="55"/>
                      </a:lnTo>
                      <a:lnTo>
                        <a:pt x="128" y="64"/>
                      </a:lnTo>
                      <a:lnTo>
                        <a:pt x="137" y="77"/>
                      </a:lnTo>
                      <a:lnTo>
                        <a:pt x="150" y="57"/>
                      </a:lnTo>
                      <a:lnTo>
                        <a:pt x="148" y="53"/>
                      </a:lnTo>
                      <a:lnTo>
                        <a:pt x="140" y="45"/>
                      </a:lnTo>
                      <a:lnTo>
                        <a:pt x="134" y="40"/>
                      </a:lnTo>
                      <a:lnTo>
                        <a:pt x="128" y="34"/>
                      </a:lnTo>
                      <a:lnTo>
                        <a:pt x="121" y="30"/>
                      </a:lnTo>
                      <a:lnTo>
                        <a:pt x="113" y="24"/>
                      </a:lnTo>
                      <a:lnTo>
                        <a:pt x="102" y="19"/>
                      </a:lnTo>
                      <a:lnTo>
                        <a:pt x="91" y="13"/>
                      </a:lnTo>
                      <a:lnTo>
                        <a:pt x="79" y="9"/>
                      </a:lnTo>
                      <a:lnTo>
                        <a:pt x="66" y="4"/>
                      </a:lnTo>
                      <a:lnTo>
                        <a:pt x="50" y="1"/>
                      </a:lnTo>
                      <a:lnTo>
                        <a:pt x="35" y="0"/>
                      </a:lnTo>
                      <a:lnTo>
                        <a:pt x="18" y="0"/>
                      </a:lnTo>
                      <a:lnTo>
                        <a:pt x="1" y="2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4d36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 flipH="1">
                  <a:off x="2143440" y="2255760"/>
                  <a:ext cx="833400" cy="225360"/>
                </a:xfrm>
                <a:custGeom>
                  <a:avLst/>
                  <a:gdLst/>
                  <a:ahLst/>
                  <a:rect l="l" t="t" r="r" b="b"/>
                  <a:pathLst>
                    <a:path w="1050" h="283">
                      <a:moveTo>
                        <a:pt x="0" y="283"/>
                      </a:moveTo>
                      <a:lnTo>
                        <a:pt x="0" y="281"/>
                      </a:lnTo>
                      <a:lnTo>
                        <a:pt x="4" y="277"/>
                      </a:lnTo>
                      <a:lnTo>
                        <a:pt x="10" y="271"/>
                      </a:lnTo>
                      <a:lnTo>
                        <a:pt x="16" y="264"/>
                      </a:lnTo>
                      <a:lnTo>
                        <a:pt x="24" y="254"/>
                      </a:lnTo>
                      <a:lnTo>
                        <a:pt x="34" y="244"/>
                      </a:lnTo>
                      <a:lnTo>
                        <a:pt x="45" y="233"/>
                      </a:lnTo>
                      <a:lnTo>
                        <a:pt x="56" y="223"/>
                      </a:lnTo>
                      <a:lnTo>
                        <a:pt x="68" y="211"/>
                      </a:lnTo>
                      <a:lnTo>
                        <a:pt x="82" y="201"/>
                      </a:lnTo>
                      <a:lnTo>
                        <a:pt x="95" y="190"/>
                      </a:lnTo>
                      <a:lnTo>
                        <a:pt x="109" y="182"/>
                      </a:lnTo>
                      <a:lnTo>
                        <a:pt x="121" y="173"/>
                      </a:lnTo>
                      <a:lnTo>
                        <a:pt x="135" y="168"/>
                      </a:lnTo>
                      <a:lnTo>
                        <a:pt x="147" y="164"/>
                      </a:lnTo>
                      <a:lnTo>
                        <a:pt x="159" y="163"/>
                      </a:lnTo>
                      <a:lnTo>
                        <a:pt x="103" y="226"/>
                      </a:lnTo>
                      <a:lnTo>
                        <a:pt x="351" y="115"/>
                      </a:lnTo>
                      <a:lnTo>
                        <a:pt x="294" y="171"/>
                      </a:lnTo>
                      <a:lnTo>
                        <a:pt x="506" y="98"/>
                      </a:lnTo>
                      <a:lnTo>
                        <a:pt x="437" y="158"/>
                      </a:lnTo>
                      <a:lnTo>
                        <a:pt x="647" y="63"/>
                      </a:lnTo>
                      <a:lnTo>
                        <a:pt x="586" y="131"/>
                      </a:lnTo>
                      <a:lnTo>
                        <a:pt x="801" y="33"/>
                      </a:lnTo>
                      <a:lnTo>
                        <a:pt x="742" y="103"/>
                      </a:lnTo>
                      <a:lnTo>
                        <a:pt x="945" y="16"/>
                      </a:lnTo>
                      <a:lnTo>
                        <a:pt x="898" y="84"/>
                      </a:lnTo>
                      <a:lnTo>
                        <a:pt x="1050" y="0"/>
                      </a:lnTo>
                      <a:lnTo>
                        <a:pt x="1031" y="56"/>
                      </a:lnTo>
                      <a:lnTo>
                        <a:pt x="0" y="283"/>
                      </a:lnTo>
                      <a:lnTo>
                        <a:pt x="0" y="283"/>
                      </a:lnTo>
                      <a:close/>
                    </a:path>
                  </a:pathLst>
                </a:custGeom>
                <a:solidFill>
                  <a:srgbClr val="5c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 flipH="1">
                  <a:off x="1689840" y="1574640"/>
                  <a:ext cx="1494000" cy="957240"/>
                </a:xfrm>
                <a:custGeom>
                  <a:avLst/>
                  <a:gdLst/>
                  <a:ahLst/>
                  <a:rect l="l" t="t" r="r" b="b"/>
                  <a:pathLst>
                    <a:path w="1883" h="1207">
                      <a:moveTo>
                        <a:pt x="156" y="0"/>
                      </a:moveTo>
                      <a:lnTo>
                        <a:pt x="122" y="41"/>
                      </a:lnTo>
                      <a:lnTo>
                        <a:pt x="659" y="55"/>
                      </a:lnTo>
                      <a:lnTo>
                        <a:pt x="663" y="55"/>
                      </a:lnTo>
                      <a:lnTo>
                        <a:pt x="669" y="55"/>
                      </a:lnTo>
                      <a:lnTo>
                        <a:pt x="677" y="57"/>
                      </a:lnTo>
                      <a:lnTo>
                        <a:pt x="684" y="58"/>
                      </a:lnTo>
                      <a:lnTo>
                        <a:pt x="694" y="62"/>
                      </a:lnTo>
                      <a:lnTo>
                        <a:pt x="705" y="63"/>
                      </a:lnTo>
                      <a:lnTo>
                        <a:pt x="716" y="68"/>
                      </a:lnTo>
                      <a:lnTo>
                        <a:pt x="726" y="72"/>
                      </a:lnTo>
                      <a:lnTo>
                        <a:pt x="736" y="77"/>
                      </a:lnTo>
                      <a:lnTo>
                        <a:pt x="744" y="84"/>
                      </a:lnTo>
                      <a:lnTo>
                        <a:pt x="753" y="91"/>
                      </a:lnTo>
                      <a:lnTo>
                        <a:pt x="760" y="98"/>
                      </a:lnTo>
                      <a:lnTo>
                        <a:pt x="764" y="108"/>
                      </a:lnTo>
                      <a:lnTo>
                        <a:pt x="767" y="119"/>
                      </a:lnTo>
                      <a:lnTo>
                        <a:pt x="768" y="131"/>
                      </a:lnTo>
                      <a:lnTo>
                        <a:pt x="764" y="142"/>
                      </a:lnTo>
                      <a:lnTo>
                        <a:pt x="758" y="153"/>
                      </a:lnTo>
                      <a:lnTo>
                        <a:pt x="748" y="164"/>
                      </a:lnTo>
                      <a:lnTo>
                        <a:pt x="737" y="175"/>
                      </a:lnTo>
                      <a:lnTo>
                        <a:pt x="722" y="184"/>
                      </a:lnTo>
                      <a:lnTo>
                        <a:pt x="706" y="194"/>
                      </a:lnTo>
                      <a:lnTo>
                        <a:pt x="691" y="202"/>
                      </a:lnTo>
                      <a:lnTo>
                        <a:pt x="674" y="211"/>
                      </a:lnTo>
                      <a:lnTo>
                        <a:pt x="657" y="216"/>
                      </a:lnTo>
                      <a:lnTo>
                        <a:pt x="640" y="223"/>
                      </a:lnTo>
                      <a:lnTo>
                        <a:pt x="626" y="227"/>
                      </a:lnTo>
                      <a:lnTo>
                        <a:pt x="613" y="233"/>
                      </a:lnTo>
                      <a:lnTo>
                        <a:pt x="600" y="235"/>
                      </a:lnTo>
                      <a:lnTo>
                        <a:pt x="592" y="238"/>
                      </a:lnTo>
                      <a:lnTo>
                        <a:pt x="586" y="241"/>
                      </a:lnTo>
                      <a:lnTo>
                        <a:pt x="585" y="242"/>
                      </a:lnTo>
                      <a:lnTo>
                        <a:pt x="191" y="321"/>
                      </a:lnTo>
                      <a:lnTo>
                        <a:pt x="189" y="321"/>
                      </a:lnTo>
                      <a:lnTo>
                        <a:pt x="182" y="324"/>
                      </a:lnTo>
                      <a:lnTo>
                        <a:pt x="173" y="327"/>
                      </a:lnTo>
                      <a:lnTo>
                        <a:pt x="160" y="331"/>
                      </a:lnTo>
                      <a:lnTo>
                        <a:pt x="145" y="337"/>
                      </a:lnTo>
                      <a:lnTo>
                        <a:pt x="128" y="345"/>
                      </a:lnTo>
                      <a:lnTo>
                        <a:pt x="111" y="353"/>
                      </a:lnTo>
                      <a:lnTo>
                        <a:pt x="93" y="367"/>
                      </a:lnTo>
                      <a:lnTo>
                        <a:pt x="75" y="379"/>
                      </a:lnTo>
                      <a:lnTo>
                        <a:pt x="56" y="394"/>
                      </a:lnTo>
                      <a:lnTo>
                        <a:pt x="41" y="411"/>
                      </a:lnTo>
                      <a:lnTo>
                        <a:pt x="27" y="432"/>
                      </a:lnTo>
                      <a:lnTo>
                        <a:pt x="14" y="453"/>
                      </a:lnTo>
                      <a:lnTo>
                        <a:pt x="6" y="477"/>
                      </a:lnTo>
                      <a:lnTo>
                        <a:pt x="0" y="503"/>
                      </a:lnTo>
                      <a:lnTo>
                        <a:pt x="0" y="534"/>
                      </a:lnTo>
                      <a:lnTo>
                        <a:pt x="6" y="560"/>
                      </a:lnTo>
                      <a:lnTo>
                        <a:pt x="20" y="586"/>
                      </a:lnTo>
                      <a:lnTo>
                        <a:pt x="42" y="606"/>
                      </a:lnTo>
                      <a:lnTo>
                        <a:pt x="70" y="624"/>
                      </a:lnTo>
                      <a:lnTo>
                        <a:pt x="102" y="640"/>
                      </a:lnTo>
                      <a:lnTo>
                        <a:pt x="138" y="652"/>
                      </a:lnTo>
                      <a:lnTo>
                        <a:pt x="177" y="661"/>
                      </a:lnTo>
                      <a:lnTo>
                        <a:pt x="217" y="670"/>
                      </a:lnTo>
                      <a:lnTo>
                        <a:pt x="255" y="675"/>
                      </a:lnTo>
                      <a:lnTo>
                        <a:pt x="294" y="679"/>
                      </a:lnTo>
                      <a:lnTo>
                        <a:pt x="330" y="681"/>
                      </a:lnTo>
                      <a:lnTo>
                        <a:pt x="363" y="683"/>
                      </a:lnTo>
                      <a:lnTo>
                        <a:pt x="389" y="683"/>
                      </a:lnTo>
                      <a:lnTo>
                        <a:pt x="410" y="684"/>
                      </a:lnTo>
                      <a:lnTo>
                        <a:pt x="425" y="684"/>
                      </a:lnTo>
                      <a:lnTo>
                        <a:pt x="430" y="685"/>
                      </a:lnTo>
                      <a:lnTo>
                        <a:pt x="930" y="736"/>
                      </a:lnTo>
                      <a:lnTo>
                        <a:pt x="932" y="736"/>
                      </a:lnTo>
                      <a:lnTo>
                        <a:pt x="938" y="737"/>
                      </a:lnTo>
                      <a:lnTo>
                        <a:pt x="946" y="739"/>
                      </a:lnTo>
                      <a:lnTo>
                        <a:pt x="960" y="744"/>
                      </a:lnTo>
                      <a:lnTo>
                        <a:pt x="974" y="746"/>
                      </a:lnTo>
                      <a:lnTo>
                        <a:pt x="989" y="751"/>
                      </a:lnTo>
                      <a:lnTo>
                        <a:pt x="1005" y="756"/>
                      </a:lnTo>
                      <a:lnTo>
                        <a:pt x="1023" y="764"/>
                      </a:lnTo>
                      <a:lnTo>
                        <a:pt x="1037" y="769"/>
                      </a:lnTo>
                      <a:lnTo>
                        <a:pt x="1050" y="776"/>
                      </a:lnTo>
                      <a:lnTo>
                        <a:pt x="1061" y="782"/>
                      </a:lnTo>
                      <a:lnTo>
                        <a:pt x="1070" y="791"/>
                      </a:lnTo>
                      <a:lnTo>
                        <a:pt x="1072" y="799"/>
                      </a:lnTo>
                      <a:lnTo>
                        <a:pt x="1072" y="807"/>
                      </a:lnTo>
                      <a:lnTo>
                        <a:pt x="1067" y="816"/>
                      </a:lnTo>
                      <a:lnTo>
                        <a:pt x="1057" y="826"/>
                      </a:lnTo>
                      <a:lnTo>
                        <a:pt x="1037" y="833"/>
                      </a:lnTo>
                      <a:lnTo>
                        <a:pt x="1013" y="841"/>
                      </a:lnTo>
                      <a:lnTo>
                        <a:pt x="982" y="850"/>
                      </a:lnTo>
                      <a:lnTo>
                        <a:pt x="947" y="860"/>
                      </a:lnTo>
                      <a:lnTo>
                        <a:pt x="910" y="868"/>
                      </a:lnTo>
                      <a:lnTo>
                        <a:pt x="869" y="875"/>
                      </a:lnTo>
                      <a:lnTo>
                        <a:pt x="828" y="884"/>
                      </a:lnTo>
                      <a:lnTo>
                        <a:pt x="786" y="892"/>
                      </a:lnTo>
                      <a:lnTo>
                        <a:pt x="745" y="897"/>
                      </a:lnTo>
                      <a:lnTo>
                        <a:pt x="706" y="904"/>
                      </a:lnTo>
                      <a:lnTo>
                        <a:pt x="670" y="908"/>
                      </a:lnTo>
                      <a:lnTo>
                        <a:pt x="640" y="915"/>
                      </a:lnTo>
                      <a:lnTo>
                        <a:pt x="614" y="918"/>
                      </a:lnTo>
                      <a:lnTo>
                        <a:pt x="593" y="922"/>
                      </a:lnTo>
                      <a:lnTo>
                        <a:pt x="580" y="924"/>
                      </a:lnTo>
                      <a:lnTo>
                        <a:pt x="577" y="925"/>
                      </a:lnTo>
                      <a:lnTo>
                        <a:pt x="572" y="925"/>
                      </a:lnTo>
                      <a:lnTo>
                        <a:pt x="562" y="927"/>
                      </a:lnTo>
                      <a:lnTo>
                        <a:pt x="545" y="929"/>
                      </a:lnTo>
                      <a:lnTo>
                        <a:pt x="523" y="934"/>
                      </a:lnTo>
                      <a:lnTo>
                        <a:pt x="498" y="937"/>
                      </a:lnTo>
                      <a:lnTo>
                        <a:pt x="468" y="943"/>
                      </a:lnTo>
                      <a:lnTo>
                        <a:pt x="437" y="949"/>
                      </a:lnTo>
                      <a:lnTo>
                        <a:pt x="405" y="955"/>
                      </a:lnTo>
                      <a:lnTo>
                        <a:pt x="370" y="960"/>
                      </a:lnTo>
                      <a:lnTo>
                        <a:pt x="338" y="966"/>
                      </a:lnTo>
                      <a:lnTo>
                        <a:pt x="306" y="973"/>
                      </a:lnTo>
                      <a:lnTo>
                        <a:pt x="279" y="978"/>
                      </a:lnTo>
                      <a:lnTo>
                        <a:pt x="251" y="984"/>
                      </a:lnTo>
                      <a:lnTo>
                        <a:pt x="230" y="988"/>
                      </a:lnTo>
                      <a:lnTo>
                        <a:pt x="213" y="992"/>
                      </a:lnTo>
                      <a:lnTo>
                        <a:pt x="203" y="997"/>
                      </a:lnTo>
                      <a:lnTo>
                        <a:pt x="195" y="999"/>
                      </a:lnTo>
                      <a:lnTo>
                        <a:pt x="187" y="1001"/>
                      </a:lnTo>
                      <a:lnTo>
                        <a:pt x="179" y="1006"/>
                      </a:lnTo>
                      <a:lnTo>
                        <a:pt x="170" y="1011"/>
                      </a:lnTo>
                      <a:lnTo>
                        <a:pt x="161" y="1016"/>
                      </a:lnTo>
                      <a:lnTo>
                        <a:pt x="153" y="1022"/>
                      </a:lnTo>
                      <a:lnTo>
                        <a:pt x="144" y="1028"/>
                      </a:lnTo>
                      <a:lnTo>
                        <a:pt x="135" y="1035"/>
                      </a:lnTo>
                      <a:lnTo>
                        <a:pt x="126" y="1041"/>
                      </a:lnTo>
                      <a:lnTo>
                        <a:pt x="117" y="1047"/>
                      </a:lnTo>
                      <a:lnTo>
                        <a:pt x="110" y="1053"/>
                      </a:lnTo>
                      <a:lnTo>
                        <a:pt x="102" y="1060"/>
                      </a:lnTo>
                      <a:lnTo>
                        <a:pt x="94" y="1065"/>
                      </a:lnTo>
                      <a:lnTo>
                        <a:pt x="89" y="1071"/>
                      </a:lnTo>
                      <a:lnTo>
                        <a:pt x="82" y="1078"/>
                      </a:lnTo>
                      <a:lnTo>
                        <a:pt x="77" y="1083"/>
                      </a:lnTo>
                      <a:lnTo>
                        <a:pt x="80" y="1109"/>
                      </a:lnTo>
                      <a:lnTo>
                        <a:pt x="81" y="1104"/>
                      </a:lnTo>
                      <a:lnTo>
                        <a:pt x="89" y="1096"/>
                      </a:lnTo>
                      <a:lnTo>
                        <a:pt x="92" y="1090"/>
                      </a:lnTo>
                      <a:lnTo>
                        <a:pt x="98" y="1083"/>
                      </a:lnTo>
                      <a:lnTo>
                        <a:pt x="105" y="1077"/>
                      </a:lnTo>
                      <a:lnTo>
                        <a:pt x="114" y="1070"/>
                      </a:lnTo>
                      <a:lnTo>
                        <a:pt x="122" y="1060"/>
                      </a:lnTo>
                      <a:lnTo>
                        <a:pt x="133" y="1052"/>
                      </a:lnTo>
                      <a:lnTo>
                        <a:pt x="143" y="1044"/>
                      </a:lnTo>
                      <a:lnTo>
                        <a:pt x="156" y="1037"/>
                      </a:lnTo>
                      <a:lnTo>
                        <a:pt x="168" y="1029"/>
                      </a:lnTo>
                      <a:lnTo>
                        <a:pt x="181" y="1023"/>
                      </a:lnTo>
                      <a:lnTo>
                        <a:pt x="196" y="1016"/>
                      </a:lnTo>
                      <a:lnTo>
                        <a:pt x="212" y="1011"/>
                      </a:lnTo>
                      <a:lnTo>
                        <a:pt x="234" y="1005"/>
                      </a:lnTo>
                      <a:lnTo>
                        <a:pt x="270" y="998"/>
                      </a:lnTo>
                      <a:lnTo>
                        <a:pt x="316" y="988"/>
                      </a:lnTo>
                      <a:lnTo>
                        <a:pt x="373" y="977"/>
                      </a:lnTo>
                      <a:lnTo>
                        <a:pt x="433" y="965"/>
                      </a:lnTo>
                      <a:lnTo>
                        <a:pt x="501" y="954"/>
                      </a:lnTo>
                      <a:lnTo>
                        <a:pt x="572" y="941"/>
                      </a:lnTo>
                      <a:lnTo>
                        <a:pt x="645" y="928"/>
                      </a:lnTo>
                      <a:lnTo>
                        <a:pt x="714" y="915"/>
                      </a:lnTo>
                      <a:lnTo>
                        <a:pt x="783" y="903"/>
                      </a:lnTo>
                      <a:lnTo>
                        <a:pt x="846" y="891"/>
                      </a:lnTo>
                      <a:lnTo>
                        <a:pt x="903" y="882"/>
                      </a:lnTo>
                      <a:lnTo>
                        <a:pt x="952" y="872"/>
                      </a:lnTo>
                      <a:lnTo>
                        <a:pt x="991" y="865"/>
                      </a:lnTo>
                      <a:lnTo>
                        <a:pt x="1016" y="861"/>
                      </a:lnTo>
                      <a:lnTo>
                        <a:pt x="1029" y="859"/>
                      </a:lnTo>
                      <a:lnTo>
                        <a:pt x="1035" y="855"/>
                      </a:lnTo>
                      <a:lnTo>
                        <a:pt x="1041" y="852"/>
                      </a:lnTo>
                      <a:lnTo>
                        <a:pt x="1049" y="848"/>
                      </a:lnTo>
                      <a:lnTo>
                        <a:pt x="1059" y="843"/>
                      </a:lnTo>
                      <a:lnTo>
                        <a:pt x="1067" y="838"/>
                      </a:lnTo>
                      <a:lnTo>
                        <a:pt x="1076" y="831"/>
                      </a:lnTo>
                      <a:lnTo>
                        <a:pt x="1082" y="824"/>
                      </a:lnTo>
                      <a:lnTo>
                        <a:pt x="1088" y="817"/>
                      </a:lnTo>
                      <a:lnTo>
                        <a:pt x="1090" y="808"/>
                      </a:lnTo>
                      <a:lnTo>
                        <a:pt x="1089" y="799"/>
                      </a:lnTo>
                      <a:lnTo>
                        <a:pt x="1085" y="789"/>
                      </a:lnTo>
                      <a:lnTo>
                        <a:pt x="1077" y="780"/>
                      </a:lnTo>
                      <a:lnTo>
                        <a:pt x="1062" y="768"/>
                      </a:lnTo>
                      <a:lnTo>
                        <a:pt x="1045" y="758"/>
                      </a:lnTo>
                      <a:lnTo>
                        <a:pt x="1020" y="747"/>
                      </a:lnTo>
                      <a:lnTo>
                        <a:pt x="991" y="736"/>
                      </a:lnTo>
                      <a:lnTo>
                        <a:pt x="985" y="735"/>
                      </a:lnTo>
                      <a:lnTo>
                        <a:pt x="974" y="734"/>
                      </a:lnTo>
                      <a:lnTo>
                        <a:pt x="955" y="729"/>
                      </a:lnTo>
                      <a:lnTo>
                        <a:pt x="931" y="726"/>
                      </a:lnTo>
                      <a:lnTo>
                        <a:pt x="900" y="721"/>
                      </a:lnTo>
                      <a:lnTo>
                        <a:pt x="865" y="715"/>
                      </a:lnTo>
                      <a:lnTo>
                        <a:pt x="826" y="709"/>
                      </a:lnTo>
                      <a:lnTo>
                        <a:pt x="785" y="704"/>
                      </a:lnTo>
                      <a:lnTo>
                        <a:pt x="740" y="698"/>
                      </a:lnTo>
                      <a:lnTo>
                        <a:pt x="692" y="692"/>
                      </a:lnTo>
                      <a:lnTo>
                        <a:pt x="642" y="686"/>
                      </a:lnTo>
                      <a:lnTo>
                        <a:pt x="594" y="681"/>
                      </a:lnTo>
                      <a:lnTo>
                        <a:pt x="545" y="675"/>
                      </a:lnTo>
                      <a:lnTo>
                        <a:pt x="496" y="673"/>
                      </a:lnTo>
                      <a:lnTo>
                        <a:pt x="449" y="670"/>
                      </a:lnTo>
                      <a:lnTo>
                        <a:pt x="406" y="670"/>
                      </a:lnTo>
                      <a:lnTo>
                        <a:pt x="400" y="669"/>
                      </a:lnTo>
                      <a:lnTo>
                        <a:pt x="389" y="669"/>
                      </a:lnTo>
                      <a:lnTo>
                        <a:pt x="372" y="667"/>
                      </a:lnTo>
                      <a:lnTo>
                        <a:pt x="348" y="666"/>
                      </a:lnTo>
                      <a:lnTo>
                        <a:pt x="320" y="664"/>
                      </a:lnTo>
                      <a:lnTo>
                        <a:pt x="290" y="661"/>
                      </a:lnTo>
                      <a:lnTo>
                        <a:pt x="255" y="656"/>
                      </a:lnTo>
                      <a:lnTo>
                        <a:pt x="222" y="652"/>
                      </a:lnTo>
                      <a:lnTo>
                        <a:pt x="187" y="644"/>
                      </a:lnTo>
                      <a:lnTo>
                        <a:pt x="153" y="635"/>
                      </a:lnTo>
                      <a:lnTo>
                        <a:pt x="121" y="625"/>
                      </a:lnTo>
                      <a:lnTo>
                        <a:pt x="91" y="613"/>
                      </a:lnTo>
                      <a:lnTo>
                        <a:pt x="65" y="598"/>
                      </a:lnTo>
                      <a:lnTo>
                        <a:pt x="44" y="581"/>
                      </a:lnTo>
                      <a:lnTo>
                        <a:pt x="30" y="560"/>
                      </a:lnTo>
                      <a:lnTo>
                        <a:pt x="22" y="539"/>
                      </a:lnTo>
                      <a:lnTo>
                        <a:pt x="20" y="515"/>
                      </a:lnTo>
                      <a:lnTo>
                        <a:pt x="20" y="494"/>
                      </a:lnTo>
                      <a:lnTo>
                        <a:pt x="26" y="474"/>
                      </a:lnTo>
                      <a:lnTo>
                        <a:pt x="33" y="455"/>
                      </a:lnTo>
                      <a:lnTo>
                        <a:pt x="43" y="438"/>
                      </a:lnTo>
                      <a:lnTo>
                        <a:pt x="54" y="421"/>
                      </a:lnTo>
                      <a:lnTo>
                        <a:pt x="69" y="407"/>
                      </a:lnTo>
                      <a:lnTo>
                        <a:pt x="84" y="394"/>
                      </a:lnTo>
                      <a:lnTo>
                        <a:pt x="100" y="381"/>
                      </a:lnTo>
                      <a:lnTo>
                        <a:pt x="115" y="371"/>
                      </a:lnTo>
                      <a:lnTo>
                        <a:pt x="131" y="361"/>
                      </a:lnTo>
                      <a:lnTo>
                        <a:pt x="146" y="353"/>
                      </a:lnTo>
                      <a:lnTo>
                        <a:pt x="160" y="347"/>
                      </a:lnTo>
                      <a:lnTo>
                        <a:pt x="174" y="341"/>
                      </a:lnTo>
                      <a:lnTo>
                        <a:pt x="185" y="338"/>
                      </a:lnTo>
                      <a:lnTo>
                        <a:pt x="194" y="337"/>
                      </a:lnTo>
                      <a:lnTo>
                        <a:pt x="203" y="334"/>
                      </a:lnTo>
                      <a:lnTo>
                        <a:pt x="221" y="330"/>
                      </a:lnTo>
                      <a:lnTo>
                        <a:pt x="243" y="326"/>
                      </a:lnTo>
                      <a:lnTo>
                        <a:pt x="271" y="320"/>
                      </a:lnTo>
                      <a:lnTo>
                        <a:pt x="301" y="315"/>
                      </a:lnTo>
                      <a:lnTo>
                        <a:pt x="334" y="308"/>
                      </a:lnTo>
                      <a:lnTo>
                        <a:pt x="368" y="302"/>
                      </a:lnTo>
                      <a:lnTo>
                        <a:pt x="404" y="295"/>
                      </a:lnTo>
                      <a:lnTo>
                        <a:pt x="437" y="288"/>
                      </a:lnTo>
                      <a:lnTo>
                        <a:pt x="470" y="282"/>
                      </a:lnTo>
                      <a:lnTo>
                        <a:pt x="500" y="275"/>
                      </a:lnTo>
                      <a:lnTo>
                        <a:pt x="529" y="271"/>
                      </a:lnTo>
                      <a:lnTo>
                        <a:pt x="552" y="266"/>
                      </a:lnTo>
                      <a:lnTo>
                        <a:pt x="568" y="263"/>
                      </a:lnTo>
                      <a:lnTo>
                        <a:pt x="580" y="261"/>
                      </a:lnTo>
                      <a:lnTo>
                        <a:pt x="585" y="261"/>
                      </a:lnTo>
                      <a:lnTo>
                        <a:pt x="587" y="260"/>
                      </a:lnTo>
                      <a:lnTo>
                        <a:pt x="593" y="258"/>
                      </a:lnTo>
                      <a:lnTo>
                        <a:pt x="603" y="256"/>
                      </a:lnTo>
                      <a:lnTo>
                        <a:pt x="615" y="254"/>
                      </a:lnTo>
                      <a:lnTo>
                        <a:pt x="629" y="248"/>
                      </a:lnTo>
                      <a:lnTo>
                        <a:pt x="647" y="244"/>
                      </a:lnTo>
                      <a:lnTo>
                        <a:pt x="664" y="237"/>
                      </a:lnTo>
                      <a:lnTo>
                        <a:pt x="683" y="232"/>
                      </a:lnTo>
                      <a:lnTo>
                        <a:pt x="702" y="223"/>
                      </a:lnTo>
                      <a:lnTo>
                        <a:pt x="720" y="213"/>
                      </a:lnTo>
                      <a:lnTo>
                        <a:pt x="736" y="202"/>
                      </a:lnTo>
                      <a:lnTo>
                        <a:pt x="752" y="191"/>
                      </a:lnTo>
                      <a:lnTo>
                        <a:pt x="764" y="178"/>
                      </a:lnTo>
                      <a:lnTo>
                        <a:pt x="774" y="164"/>
                      </a:lnTo>
                      <a:lnTo>
                        <a:pt x="781" y="149"/>
                      </a:lnTo>
                      <a:lnTo>
                        <a:pt x="784" y="132"/>
                      </a:lnTo>
                      <a:lnTo>
                        <a:pt x="781" y="115"/>
                      </a:lnTo>
                      <a:lnTo>
                        <a:pt x="775" y="100"/>
                      </a:lnTo>
                      <a:lnTo>
                        <a:pt x="767" y="87"/>
                      </a:lnTo>
                      <a:lnTo>
                        <a:pt x="758" y="77"/>
                      </a:lnTo>
                      <a:lnTo>
                        <a:pt x="746" y="67"/>
                      </a:lnTo>
                      <a:lnTo>
                        <a:pt x="734" y="61"/>
                      </a:lnTo>
                      <a:lnTo>
                        <a:pt x="721" y="54"/>
                      </a:lnTo>
                      <a:lnTo>
                        <a:pt x="708" y="51"/>
                      </a:lnTo>
                      <a:lnTo>
                        <a:pt x="694" y="46"/>
                      </a:lnTo>
                      <a:lnTo>
                        <a:pt x="681" y="43"/>
                      </a:lnTo>
                      <a:lnTo>
                        <a:pt x="669" y="41"/>
                      </a:lnTo>
                      <a:lnTo>
                        <a:pt x="659" y="39"/>
                      </a:lnTo>
                      <a:lnTo>
                        <a:pt x="648" y="38"/>
                      </a:lnTo>
                      <a:lnTo>
                        <a:pt x="641" y="38"/>
                      </a:lnTo>
                      <a:lnTo>
                        <a:pt x="637" y="38"/>
                      </a:lnTo>
                      <a:lnTo>
                        <a:pt x="637" y="39"/>
                      </a:lnTo>
                      <a:lnTo>
                        <a:pt x="140" y="31"/>
                      </a:lnTo>
                      <a:lnTo>
                        <a:pt x="157" y="13"/>
                      </a:lnTo>
                      <a:lnTo>
                        <a:pt x="161" y="12"/>
                      </a:lnTo>
                      <a:lnTo>
                        <a:pt x="180" y="11"/>
                      </a:lnTo>
                      <a:lnTo>
                        <a:pt x="208" y="10"/>
                      </a:lnTo>
                      <a:lnTo>
                        <a:pt x="245" y="10"/>
                      </a:lnTo>
                      <a:lnTo>
                        <a:pt x="288" y="9"/>
                      </a:lnTo>
                      <a:lnTo>
                        <a:pt x="337" y="7"/>
                      </a:lnTo>
                      <a:lnTo>
                        <a:pt x="390" y="7"/>
                      </a:lnTo>
                      <a:lnTo>
                        <a:pt x="447" y="9"/>
                      </a:lnTo>
                      <a:lnTo>
                        <a:pt x="502" y="9"/>
                      </a:lnTo>
                      <a:lnTo>
                        <a:pt x="557" y="10"/>
                      </a:lnTo>
                      <a:lnTo>
                        <a:pt x="610" y="11"/>
                      </a:lnTo>
                      <a:lnTo>
                        <a:pt x="660" y="14"/>
                      </a:lnTo>
                      <a:lnTo>
                        <a:pt x="704" y="16"/>
                      </a:lnTo>
                      <a:lnTo>
                        <a:pt x="741" y="22"/>
                      </a:lnTo>
                      <a:lnTo>
                        <a:pt x="770" y="27"/>
                      </a:lnTo>
                      <a:lnTo>
                        <a:pt x="789" y="36"/>
                      </a:lnTo>
                      <a:lnTo>
                        <a:pt x="800" y="44"/>
                      </a:lnTo>
                      <a:lnTo>
                        <a:pt x="812" y="53"/>
                      </a:lnTo>
                      <a:lnTo>
                        <a:pt x="819" y="63"/>
                      </a:lnTo>
                      <a:lnTo>
                        <a:pt x="828" y="75"/>
                      </a:lnTo>
                      <a:lnTo>
                        <a:pt x="833" y="86"/>
                      </a:lnTo>
                      <a:lnTo>
                        <a:pt x="836" y="99"/>
                      </a:lnTo>
                      <a:lnTo>
                        <a:pt x="838" y="112"/>
                      </a:lnTo>
                      <a:lnTo>
                        <a:pt x="839" y="127"/>
                      </a:lnTo>
                      <a:lnTo>
                        <a:pt x="836" y="140"/>
                      </a:lnTo>
                      <a:lnTo>
                        <a:pt x="831" y="153"/>
                      </a:lnTo>
                      <a:lnTo>
                        <a:pt x="826" y="167"/>
                      </a:lnTo>
                      <a:lnTo>
                        <a:pt x="819" y="181"/>
                      </a:lnTo>
                      <a:lnTo>
                        <a:pt x="808" y="194"/>
                      </a:lnTo>
                      <a:lnTo>
                        <a:pt x="797" y="208"/>
                      </a:lnTo>
                      <a:lnTo>
                        <a:pt x="782" y="220"/>
                      </a:lnTo>
                      <a:lnTo>
                        <a:pt x="766" y="233"/>
                      </a:lnTo>
                      <a:lnTo>
                        <a:pt x="746" y="244"/>
                      </a:lnTo>
                      <a:lnTo>
                        <a:pt x="724" y="256"/>
                      </a:lnTo>
                      <a:lnTo>
                        <a:pt x="698" y="268"/>
                      </a:lnTo>
                      <a:lnTo>
                        <a:pt x="671" y="281"/>
                      </a:lnTo>
                      <a:lnTo>
                        <a:pt x="642" y="290"/>
                      </a:lnTo>
                      <a:lnTo>
                        <a:pt x="614" y="302"/>
                      </a:lnTo>
                      <a:lnTo>
                        <a:pt x="583" y="311"/>
                      </a:lnTo>
                      <a:lnTo>
                        <a:pt x="555" y="321"/>
                      </a:lnTo>
                      <a:lnTo>
                        <a:pt x="525" y="329"/>
                      </a:lnTo>
                      <a:lnTo>
                        <a:pt x="500" y="338"/>
                      </a:lnTo>
                      <a:lnTo>
                        <a:pt x="477" y="344"/>
                      </a:lnTo>
                      <a:lnTo>
                        <a:pt x="454" y="351"/>
                      </a:lnTo>
                      <a:lnTo>
                        <a:pt x="437" y="356"/>
                      </a:lnTo>
                      <a:lnTo>
                        <a:pt x="425" y="360"/>
                      </a:lnTo>
                      <a:lnTo>
                        <a:pt x="416" y="362"/>
                      </a:lnTo>
                      <a:lnTo>
                        <a:pt x="414" y="362"/>
                      </a:lnTo>
                      <a:lnTo>
                        <a:pt x="410" y="362"/>
                      </a:lnTo>
                      <a:lnTo>
                        <a:pt x="404" y="362"/>
                      </a:lnTo>
                      <a:lnTo>
                        <a:pt x="391" y="363"/>
                      </a:lnTo>
                      <a:lnTo>
                        <a:pt x="377" y="367"/>
                      </a:lnTo>
                      <a:lnTo>
                        <a:pt x="359" y="370"/>
                      </a:lnTo>
                      <a:lnTo>
                        <a:pt x="341" y="373"/>
                      </a:lnTo>
                      <a:lnTo>
                        <a:pt x="320" y="378"/>
                      </a:lnTo>
                      <a:lnTo>
                        <a:pt x="299" y="386"/>
                      </a:lnTo>
                      <a:lnTo>
                        <a:pt x="275" y="391"/>
                      </a:lnTo>
                      <a:lnTo>
                        <a:pt x="254" y="399"/>
                      </a:lnTo>
                      <a:lnTo>
                        <a:pt x="233" y="409"/>
                      </a:lnTo>
                      <a:lnTo>
                        <a:pt x="216" y="420"/>
                      </a:lnTo>
                      <a:lnTo>
                        <a:pt x="199" y="431"/>
                      </a:lnTo>
                      <a:lnTo>
                        <a:pt x="186" y="444"/>
                      </a:lnTo>
                      <a:lnTo>
                        <a:pt x="176" y="460"/>
                      </a:lnTo>
                      <a:lnTo>
                        <a:pt x="170" y="477"/>
                      </a:lnTo>
                      <a:lnTo>
                        <a:pt x="168" y="492"/>
                      </a:lnTo>
                      <a:lnTo>
                        <a:pt x="170" y="507"/>
                      </a:lnTo>
                      <a:lnTo>
                        <a:pt x="177" y="519"/>
                      </a:lnTo>
                      <a:lnTo>
                        <a:pt x="186" y="531"/>
                      </a:lnTo>
                      <a:lnTo>
                        <a:pt x="196" y="540"/>
                      </a:lnTo>
                      <a:lnTo>
                        <a:pt x="209" y="550"/>
                      </a:lnTo>
                      <a:lnTo>
                        <a:pt x="224" y="558"/>
                      </a:lnTo>
                      <a:lnTo>
                        <a:pt x="239" y="565"/>
                      </a:lnTo>
                      <a:lnTo>
                        <a:pt x="254" y="570"/>
                      </a:lnTo>
                      <a:lnTo>
                        <a:pt x="270" y="573"/>
                      </a:lnTo>
                      <a:lnTo>
                        <a:pt x="283" y="577"/>
                      </a:lnTo>
                      <a:lnTo>
                        <a:pt x="296" y="581"/>
                      </a:lnTo>
                      <a:lnTo>
                        <a:pt x="306" y="582"/>
                      </a:lnTo>
                      <a:lnTo>
                        <a:pt x="316" y="583"/>
                      </a:lnTo>
                      <a:lnTo>
                        <a:pt x="321" y="583"/>
                      </a:lnTo>
                      <a:lnTo>
                        <a:pt x="324" y="585"/>
                      </a:lnTo>
                      <a:lnTo>
                        <a:pt x="933" y="633"/>
                      </a:lnTo>
                      <a:lnTo>
                        <a:pt x="935" y="633"/>
                      </a:lnTo>
                      <a:lnTo>
                        <a:pt x="946" y="634"/>
                      </a:lnTo>
                      <a:lnTo>
                        <a:pt x="963" y="635"/>
                      </a:lnTo>
                      <a:lnTo>
                        <a:pt x="985" y="639"/>
                      </a:lnTo>
                      <a:lnTo>
                        <a:pt x="1011" y="641"/>
                      </a:lnTo>
                      <a:lnTo>
                        <a:pt x="1040" y="645"/>
                      </a:lnTo>
                      <a:lnTo>
                        <a:pt x="1071" y="651"/>
                      </a:lnTo>
                      <a:lnTo>
                        <a:pt x="1106" y="656"/>
                      </a:lnTo>
                      <a:lnTo>
                        <a:pt x="1139" y="662"/>
                      </a:lnTo>
                      <a:lnTo>
                        <a:pt x="1172" y="669"/>
                      </a:lnTo>
                      <a:lnTo>
                        <a:pt x="1204" y="675"/>
                      </a:lnTo>
                      <a:lnTo>
                        <a:pt x="1234" y="684"/>
                      </a:lnTo>
                      <a:lnTo>
                        <a:pt x="1259" y="692"/>
                      </a:lnTo>
                      <a:lnTo>
                        <a:pt x="1282" y="701"/>
                      </a:lnTo>
                      <a:lnTo>
                        <a:pt x="1300" y="711"/>
                      </a:lnTo>
                      <a:lnTo>
                        <a:pt x="1312" y="723"/>
                      </a:lnTo>
                      <a:lnTo>
                        <a:pt x="1320" y="733"/>
                      </a:lnTo>
                      <a:lnTo>
                        <a:pt x="1327" y="745"/>
                      </a:lnTo>
                      <a:lnTo>
                        <a:pt x="1332" y="756"/>
                      </a:lnTo>
                      <a:lnTo>
                        <a:pt x="1338" y="769"/>
                      </a:lnTo>
                      <a:lnTo>
                        <a:pt x="1341" y="781"/>
                      </a:lnTo>
                      <a:lnTo>
                        <a:pt x="1344" y="796"/>
                      </a:lnTo>
                      <a:lnTo>
                        <a:pt x="1344" y="809"/>
                      </a:lnTo>
                      <a:lnTo>
                        <a:pt x="1345" y="823"/>
                      </a:lnTo>
                      <a:lnTo>
                        <a:pt x="1343" y="836"/>
                      </a:lnTo>
                      <a:lnTo>
                        <a:pt x="1340" y="848"/>
                      </a:lnTo>
                      <a:lnTo>
                        <a:pt x="1334" y="859"/>
                      </a:lnTo>
                      <a:lnTo>
                        <a:pt x="1329" y="871"/>
                      </a:lnTo>
                      <a:lnTo>
                        <a:pt x="1320" y="881"/>
                      </a:lnTo>
                      <a:lnTo>
                        <a:pt x="1310" y="891"/>
                      </a:lnTo>
                      <a:lnTo>
                        <a:pt x="1299" y="899"/>
                      </a:lnTo>
                      <a:lnTo>
                        <a:pt x="1287" y="907"/>
                      </a:lnTo>
                      <a:lnTo>
                        <a:pt x="1269" y="913"/>
                      </a:lnTo>
                      <a:lnTo>
                        <a:pt x="1249" y="918"/>
                      </a:lnTo>
                      <a:lnTo>
                        <a:pt x="1227" y="925"/>
                      </a:lnTo>
                      <a:lnTo>
                        <a:pt x="1204" y="932"/>
                      </a:lnTo>
                      <a:lnTo>
                        <a:pt x="1177" y="937"/>
                      </a:lnTo>
                      <a:lnTo>
                        <a:pt x="1152" y="943"/>
                      </a:lnTo>
                      <a:lnTo>
                        <a:pt x="1125" y="948"/>
                      </a:lnTo>
                      <a:lnTo>
                        <a:pt x="1101" y="954"/>
                      </a:lnTo>
                      <a:lnTo>
                        <a:pt x="1075" y="958"/>
                      </a:lnTo>
                      <a:lnTo>
                        <a:pt x="1051" y="963"/>
                      </a:lnTo>
                      <a:lnTo>
                        <a:pt x="1030" y="965"/>
                      </a:lnTo>
                      <a:lnTo>
                        <a:pt x="1013" y="969"/>
                      </a:lnTo>
                      <a:lnTo>
                        <a:pt x="997" y="971"/>
                      </a:lnTo>
                      <a:lnTo>
                        <a:pt x="985" y="974"/>
                      </a:lnTo>
                      <a:lnTo>
                        <a:pt x="978" y="975"/>
                      </a:lnTo>
                      <a:lnTo>
                        <a:pt x="976" y="976"/>
                      </a:lnTo>
                      <a:lnTo>
                        <a:pt x="269" y="1137"/>
                      </a:lnTo>
                      <a:lnTo>
                        <a:pt x="264" y="1137"/>
                      </a:lnTo>
                      <a:lnTo>
                        <a:pt x="259" y="1142"/>
                      </a:lnTo>
                      <a:lnTo>
                        <a:pt x="255" y="1145"/>
                      </a:lnTo>
                      <a:lnTo>
                        <a:pt x="254" y="1151"/>
                      </a:lnTo>
                      <a:lnTo>
                        <a:pt x="254" y="1158"/>
                      </a:lnTo>
                      <a:lnTo>
                        <a:pt x="258" y="1168"/>
                      </a:lnTo>
                      <a:lnTo>
                        <a:pt x="260" y="1173"/>
                      </a:lnTo>
                      <a:lnTo>
                        <a:pt x="264" y="1177"/>
                      </a:lnTo>
                      <a:lnTo>
                        <a:pt x="271" y="1182"/>
                      </a:lnTo>
                      <a:lnTo>
                        <a:pt x="281" y="1185"/>
                      </a:lnTo>
                      <a:lnTo>
                        <a:pt x="290" y="1188"/>
                      </a:lnTo>
                      <a:lnTo>
                        <a:pt x="301" y="1191"/>
                      </a:lnTo>
                      <a:lnTo>
                        <a:pt x="312" y="1195"/>
                      </a:lnTo>
                      <a:lnTo>
                        <a:pt x="324" y="1197"/>
                      </a:lnTo>
                      <a:lnTo>
                        <a:pt x="334" y="1198"/>
                      </a:lnTo>
                      <a:lnTo>
                        <a:pt x="345" y="1200"/>
                      </a:lnTo>
                      <a:lnTo>
                        <a:pt x="354" y="1201"/>
                      </a:lnTo>
                      <a:lnTo>
                        <a:pt x="364" y="1204"/>
                      </a:lnTo>
                      <a:lnTo>
                        <a:pt x="372" y="1205"/>
                      </a:lnTo>
                      <a:lnTo>
                        <a:pt x="377" y="1206"/>
                      </a:lnTo>
                      <a:lnTo>
                        <a:pt x="381" y="1206"/>
                      </a:lnTo>
                      <a:lnTo>
                        <a:pt x="384" y="1207"/>
                      </a:lnTo>
                      <a:lnTo>
                        <a:pt x="1024" y="1191"/>
                      </a:lnTo>
                      <a:lnTo>
                        <a:pt x="1869" y="1030"/>
                      </a:lnTo>
                      <a:lnTo>
                        <a:pt x="1883" y="999"/>
                      </a:lnTo>
                      <a:lnTo>
                        <a:pt x="1873" y="1000"/>
                      </a:lnTo>
                      <a:lnTo>
                        <a:pt x="1848" y="1006"/>
                      </a:lnTo>
                      <a:lnTo>
                        <a:pt x="1811" y="1014"/>
                      </a:lnTo>
                      <a:lnTo>
                        <a:pt x="1761" y="1025"/>
                      </a:lnTo>
                      <a:lnTo>
                        <a:pt x="1701" y="1037"/>
                      </a:lnTo>
                      <a:lnTo>
                        <a:pt x="1636" y="1052"/>
                      </a:lnTo>
                      <a:lnTo>
                        <a:pt x="1564" y="1068"/>
                      </a:lnTo>
                      <a:lnTo>
                        <a:pt x="1490" y="1084"/>
                      </a:lnTo>
                      <a:lnTo>
                        <a:pt x="1413" y="1100"/>
                      </a:lnTo>
                      <a:lnTo>
                        <a:pt x="1338" y="1116"/>
                      </a:lnTo>
                      <a:lnTo>
                        <a:pt x="1265" y="1130"/>
                      </a:lnTo>
                      <a:lnTo>
                        <a:pt x="1198" y="1144"/>
                      </a:lnTo>
                      <a:lnTo>
                        <a:pt x="1139" y="1154"/>
                      </a:lnTo>
                      <a:lnTo>
                        <a:pt x="1088" y="1163"/>
                      </a:lnTo>
                      <a:lnTo>
                        <a:pt x="1048" y="1169"/>
                      </a:lnTo>
                      <a:lnTo>
                        <a:pt x="1024" y="1173"/>
                      </a:lnTo>
                      <a:lnTo>
                        <a:pt x="999" y="1173"/>
                      </a:lnTo>
                      <a:lnTo>
                        <a:pt x="967" y="1173"/>
                      </a:lnTo>
                      <a:lnTo>
                        <a:pt x="928" y="1174"/>
                      </a:lnTo>
                      <a:lnTo>
                        <a:pt x="883" y="1175"/>
                      </a:lnTo>
                      <a:lnTo>
                        <a:pt x="831" y="1176"/>
                      </a:lnTo>
                      <a:lnTo>
                        <a:pt x="778" y="1178"/>
                      </a:lnTo>
                      <a:lnTo>
                        <a:pt x="722" y="1180"/>
                      </a:lnTo>
                      <a:lnTo>
                        <a:pt x="667" y="1183"/>
                      </a:lnTo>
                      <a:lnTo>
                        <a:pt x="609" y="1184"/>
                      </a:lnTo>
                      <a:lnTo>
                        <a:pt x="554" y="1185"/>
                      </a:lnTo>
                      <a:lnTo>
                        <a:pt x="500" y="1185"/>
                      </a:lnTo>
                      <a:lnTo>
                        <a:pt x="453" y="1185"/>
                      </a:lnTo>
                      <a:lnTo>
                        <a:pt x="408" y="1185"/>
                      </a:lnTo>
                      <a:lnTo>
                        <a:pt x="373" y="1185"/>
                      </a:lnTo>
                      <a:lnTo>
                        <a:pt x="343" y="1183"/>
                      </a:lnTo>
                      <a:lnTo>
                        <a:pt x="324" y="1180"/>
                      </a:lnTo>
                      <a:lnTo>
                        <a:pt x="309" y="1176"/>
                      </a:lnTo>
                      <a:lnTo>
                        <a:pt x="297" y="1174"/>
                      </a:lnTo>
                      <a:lnTo>
                        <a:pt x="289" y="1169"/>
                      </a:lnTo>
                      <a:lnTo>
                        <a:pt x="283" y="1166"/>
                      </a:lnTo>
                      <a:lnTo>
                        <a:pt x="275" y="1161"/>
                      </a:lnTo>
                      <a:lnTo>
                        <a:pt x="274" y="1155"/>
                      </a:lnTo>
                      <a:lnTo>
                        <a:pt x="275" y="1149"/>
                      </a:lnTo>
                      <a:lnTo>
                        <a:pt x="281" y="1146"/>
                      </a:lnTo>
                      <a:lnTo>
                        <a:pt x="284" y="1144"/>
                      </a:lnTo>
                      <a:lnTo>
                        <a:pt x="286" y="1144"/>
                      </a:lnTo>
                      <a:lnTo>
                        <a:pt x="1187" y="970"/>
                      </a:lnTo>
                      <a:lnTo>
                        <a:pt x="1188" y="969"/>
                      </a:lnTo>
                      <a:lnTo>
                        <a:pt x="1195" y="969"/>
                      </a:lnTo>
                      <a:lnTo>
                        <a:pt x="1203" y="967"/>
                      </a:lnTo>
                      <a:lnTo>
                        <a:pt x="1215" y="965"/>
                      </a:lnTo>
                      <a:lnTo>
                        <a:pt x="1228" y="962"/>
                      </a:lnTo>
                      <a:lnTo>
                        <a:pt x="1243" y="958"/>
                      </a:lnTo>
                      <a:lnTo>
                        <a:pt x="1259" y="953"/>
                      </a:lnTo>
                      <a:lnTo>
                        <a:pt x="1277" y="946"/>
                      </a:lnTo>
                      <a:lnTo>
                        <a:pt x="1292" y="936"/>
                      </a:lnTo>
                      <a:lnTo>
                        <a:pt x="1309" y="926"/>
                      </a:lnTo>
                      <a:lnTo>
                        <a:pt x="1322" y="913"/>
                      </a:lnTo>
                      <a:lnTo>
                        <a:pt x="1338" y="900"/>
                      </a:lnTo>
                      <a:lnTo>
                        <a:pt x="1349" y="882"/>
                      </a:lnTo>
                      <a:lnTo>
                        <a:pt x="1358" y="862"/>
                      </a:lnTo>
                      <a:lnTo>
                        <a:pt x="1363" y="841"/>
                      </a:lnTo>
                      <a:lnTo>
                        <a:pt x="1366" y="817"/>
                      </a:lnTo>
                      <a:lnTo>
                        <a:pt x="1364" y="791"/>
                      </a:lnTo>
                      <a:lnTo>
                        <a:pt x="1359" y="769"/>
                      </a:lnTo>
                      <a:lnTo>
                        <a:pt x="1350" y="750"/>
                      </a:lnTo>
                      <a:lnTo>
                        <a:pt x="1341" y="734"/>
                      </a:lnTo>
                      <a:lnTo>
                        <a:pt x="1328" y="718"/>
                      </a:lnTo>
                      <a:lnTo>
                        <a:pt x="1315" y="706"/>
                      </a:lnTo>
                      <a:lnTo>
                        <a:pt x="1299" y="696"/>
                      </a:lnTo>
                      <a:lnTo>
                        <a:pt x="1286" y="687"/>
                      </a:lnTo>
                      <a:lnTo>
                        <a:pt x="1270" y="680"/>
                      </a:lnTo>
                      <a:lnTo>
                        <a:pt x="1255" y="675"/>
                      </a:lnTo>
                      <a:lnTo>
                        <a:pt x="1242" y="670"/>
                      </a:lnTo>
                      <a:lnTo>
                        <a:pt x="1230" y="667"/>
                      </a:lnTo>
                      <a:lnTo>
                        <a:pt x="1218" y="664"/>
                      </a:lnTo>
                      <a:lnTo>
                        <a:pt x="1211" y="664"/>
                      </a:lnTo>
                      <a:lnTo>
                        <a:pt x="1206" y="664"/>
                      </a:lnTo>
                      <a:lnTo>
                        <a:pt x="1205" y="664"/>
                      </a:lnTo>
                      <a:lnTo>
                        <a:pt x="1202" y="663"/>
                      </a:lnTo>
                      <a:lnTo>
                        <a:pt x="1196" y="661"/>
                      </a:lnTo>
                      <a:lnTo>
                        <a:pt x="1184" y="658"/>
                      </a:lnTo>
                      <a:lnTo>
                        <a:pt x="1170" y="655"/>
                      </a:lnTo>
                      <a:lnTo>
                        <a:pt x="1151" y="651"/>
                      </a:lnTo>
                      <a:lnTo>
                        <a:pt x="1129" y="646"/>
                      </a:lnTo>
                      <a:lnTo>
                        <a:pt x="1101" y="641"/>
                      </a:lnTo>
                      <a:lnTo>
                        <a:pt x="1071" y="638"/>
                      </a:lnTo>
                      <a:lnTo>
                        <a:pt x="1037" y="631"/>
                      </a:lnTo>
                      <a:lnTo>
                        <a:pt x="1001" y="627"/>
                      </a:lnTo>
                      <a:lnTo>
                        <a:pt x="960" y="621"/>
                      </a:lnTo>
                      <a:lnTo>
                        <a:pt x="918" y="618"/>
                      </a:lnTo>
                      <a:lnTo>
                        <a:pt x="871" y="612"/>
                      </a:lnTo>
                      <a:lnTo>
                        <a:pt x="821" y="608"/>
                      </a:lnTo>
                      <a:lnTo>
                        <a:pt x="771" y="606"/>
                      </a:lnTo>
                      <a:lnTo>
                        <a:pt x="716" y="603"/>
                      </a:lnTo>
                      <a:lnTo>
                        <a:pt x="661" y="599"/>
                      </a:lnTo>
                      <a:lnTo>
                        <a:pt x="610" y="596"/>
                      </a:lnTo>
                      <a:lnTo>
                        <a:pt x="562" y="592"/>
                      </a:lnTo>
                      <a:lnTo>
                        <a:pt x="516" y="589"/>
                      </a:lnTo>
                      <a:lnTo>
                        <a:pt x="474" y="585"/>
                      </a:lnTo>
                      <a:lnTo>
                        <a:pt x="435" y="581"/>
                      </a:lnTo>
                      <a:lnTo>
                        <a:pt x="398" y="577"/>
                      </a:lnTo>
                      <a:lnTo>
                        <a:pt x="365" y="572"/>
                      </a:lnTo>
                      <a:lnTo>
                        <a:pt x="335" y="568"/>
                      </a:lnTo>
                      <a:lnTo>
                        <a:pt x="307" y="562"/>
                      </a:lnTo>
                      <a:lnTo>
                        <a:pt x="284" y="558"/>
                      </a:lnTo>
                      <a:lnTo>
                        <a:pt x="265" y="555"/>
                      </a:lnTo>
                      <a:lnTo>
                        <a:pt x="249" y="549"/>
                      </a:lnTo>
                      <a:lnTo>
                        <a:pt x="237" y="546"/>
                      </a:lnTo>
                      <a:lnTo>
                        <a:pt x="227" y="543"/>
                      </a:lnTo>
                      <a:lnTo>
                        <a:pt x="222" y="539"/>
                      </a:lnTo>
                      <a:lnTo>
                        <a:pt x="213" y="533"/>
                      </a:lnTo>
                      <a:lnTo>
                        <a:pt x="203" y="525"/>
                      </a:lnTo>
                      <a:lnTo>
                        <a:pt x="195" y="516"/>
                      </a:lnTo>
                      <a:lnTo>
                        <a:pt x="190" y="507"/>
                      </a:lnTo>
                      <a:lnTo>
                        <a:pt x="187" y="502"/>
                      </a:lnTo>
                      <a:lnTo>
                        <a:pt x="185" y="495"/>
                      </a:lnTo>
                      <a:lnTo>
                        <a:pt x="184" y="489"/>
                      </a:lnTo>
                      <a:lnTo>
                        <a:pt x="185" y="484"/>
                      </a:lnTo>
                      <a:lnTo>
                        <a:pt x="185" y="478"/>
                      </a:lnTo>
                      <a:lnTo>
                        <a:pt x="188" y="472"/>
                      </a:lnTo>
                      <a:lnTo>
                        <a:pt x="191" y="466"/>
                      </a:lnTo>
                      <a:lnTo>
                        <a:pt x="197" y="460"/>
                      </a:lnTo>
                      <a:lnTo>
                        <a:pt x="202" y="452"/>
                      </a:lnTo>
                      <a:lnTo>
                        <a:pt x="213" y="445"/>
                      </a:lnTo>
                      <a:lnTo>
                        <a:pt x="226" y="438"/>
                      </a:lnTo>
                      <a:lnTo>
                        <a:pt x="242" y="432"/>
                      </a:lnTo>
                      <a:lnTo>
                        <a:pt x="259" y="424"/>
                      </a:lnTo>
                      <a:lnTo>
                        <a:pt x="276" y="419"/>
                      </a:lnTo>
                      <a:lnTo>
                        <a:pt x="295" y="412"/>
                      </a:lnTo>
                      <a:lnTo>
                        <a:pt x="316" y="407"/>
                      </a:lnTo>
                      <a:lnTo>
                        <a:pt x="334" y="400"/>
                      </a:lnTo>
                      <a:lnTo>
                        <a:pt x="352" y="395"/>
                      </a:lnTo>
                      <a:lnTo>
                        <a:pt x="368" y="390"/>
                      </a:lnTo>
                      <a:lnTo>
                        <a:pt x="384" y="387"/>
                      </a:lnTo>
                      <a:lnTo>
                        <a:pt x="396" y="384"/>
                      </a:lnTo>
                      <a:lnTo>
                        <a:pt x="405" y="382"/>
                      </a:lnTo>
                      <a:lnTo>
                        <a:pt x="410" y="381"/>
                      </a:lnTo>
                      <a:lnTo>
                        <a:pt x="414" y="381"/>
                      </a:lnTo>
                      <a:lnTo>
                        <a:pt x="417" y="379"/>
                      </a:lnTo>
                      <a:lnTo>
                        <a:pt x="426" y="377"/>
                      </a:lnTo>
                      <a:lnTo>
                        <a:pt x="439" y="373"/>
                      </a:lnTo>
                      <a:lnTo>
                        <a:pt x="459" y="368"/>
                      </a:lnTo>
                      <a:lnTo>
                        <a:pt x="481" y="361"/>
                      </a:lnTo>
                      <a:lnTo>
                        <a:pt x="508" y="353"/>
                      </a:lnTo>
                      <a:lnTo>
                        <a:pt x="535" y="345"/>
                      </a:lnTo>
                      <a:lnTo>
                        <a:pt x="567" y="337"/>
                      </a:lnTo>
                      <a:lnTo>
                        <a:pt x="597" y="326"/>
                      </a:lnTo>
                      <a:lnTo>
                        <a:pt x="627" y="316"/>
                      </a:lnTo>
                      <a:lnTo>
                        <a:pt x="657" y="305"/>
                      </a:lnTo>
                      <a:lnTo>
                        <a:pt x="687" y="293"/>
                      </a:lnTo>
                      <a:lnTo>
                        <a:pt x="713" y="282"/>
                      </a:lnTo>
                      <a:lnTo>
                        <a:pt x="737" y="271"/>
                      </a:lnTo>
                      <a:lnTo>
                        <a:pt x="756" y="258"/>
                      </a:lnTo>
                      <a:lnTo>
                        <a:pt x="774" y="246"/>
                      </a:lnTo>
                      <a:lnTo>
                        <a:pt x="785" y="235"/>
                      </a:lnTo>
                      <a:lnTo>
                        <a:pt x="797" y="224"/>
                      </a:lnTo>
                      <a:lnTo>
                        <a:pt x="807" y="212"/>
                      </a:lnTo>
                      <a:lnTo>
                        <a:pt x="817" y="202"/>
                      </a:lnTo>
                      <a:lnTo>
                        <a:pt x="825" y="192"/>
                      </a:lnTo>
                      <a:lnTo>
                        <a:pt x="831" y="182"/>
                      </a:lnTo>
                      <a:lnTo>
                        <a:pt x="838" y="172"/>
                      </a:lnTo>
                      <a:lnTo>
                        <a:pt x="845" y="163"/>
                      </a:lnTo>
                      <a:lnTo>
                        <a:pt x="848" y="153"/>
                      </a:lnTo>
                      <a:lnTo>
                        <a:pt x="852" y="143"/>
                      </a:lnTo>
                      <a:lnTo>
                        <a:pt x="854" y="133"/>
                      </a:lnTo>
                      <a:lnTo>
                        <a:pt x="856" y="125"/>
                      </a:lnTo>
                      <a:lnTo>
                        <a:pt x="855" y="114"/>
                      </a:lnTo>
                      <a:lnTo>
                        <a:pt x="855" y="104"/>
                      </a:lnTo>
                      <a:lnTo>
                        <a:pt x="852" y="94"/>
                      </a:lnTo>
                      <a:lnTo>
                        <a:pt x="850" y="84"/>
                      </a:lnTo>
                      <a:lnTo>
                        <a:pt x="845" y="72"/>
                      </a:lnTo>
                      <a:lnTo>
                        <a:pt x="840" y="62"/>
                      </a:lnTo>
                      <a:lnTo>
                        <a:pt x="833" y="53"/>
                      </a:lnTo>
                      <a:lnTo>
                        <a:pt x="827" y="46"/>
                      </a:lnTo>
                      <a:lnTo>
                        <a:pt x="818" y="37"/>
                      </a:lnTo>
                      <a:lnTo>
                        <a:pt x="809" y="33"/>
                      </a:lnTo>
                      <a:lnTo>
                        <a:pt x="800" y="26"/>
                      </a:lnTo>
                      <a:lnTo>
                        <a:pt x="792" y="23"/>
                      </a:lnTo>
                      <a:lnTo>
                        <a:pt x="781" y="17"/>
                      </a:lnTo>
                      <a:lnTo>
                        <a:pt x="770" y="14"/>
                      </a:lnTo>
                      <a:lnTo>
                        <a:pt x="758" y="11"/>
                      </a:lnTo>
                      <a:lnTo>
                        <a:pt x="748" y="9"/>
                      </a:lnTo>
                      <a:lnTo>
                        <a:pt x="736" y="5"/>
                      </a:lnTo>
                      <a:lnTo>
                        <a:pt x="726" y="4"/>
                      </a:lnTo>
                      <a:lnTo>
                        <a:pt x="715" y="3"/>
                      </a:lnTo>
                      <a:lnTo>
                        <a:pt x="705" y="3"/>
                      </a:lnTo>
                      <a:lnTo>
                        <a:pt x="688" y="2"/>
                      </a:lnTo>
                      <a:lnTo>
                        <a:pt x="663" y="1"/>
                      </a:lnTo>
                      <a:lnTo>
                        <a:pt x="631" y="0"/>
                      </a:lnTo>
                      <a:lnTo>
                        <a:pt x="594" y="0"/>
                      </a:lnTo>
                      <a:lnTo>
                        <a:pt x="551" y="0"/>
                      </a:lnTo>
                      <a:lnTo>
                        <a:pt x="504" y="0"/>
                      </a:lnTo>
                      <a:lnTo>
                        <a:pt x="456" y="0"/>
                      </a:lnTo>
                      <a:lnTo>
                        <a:pt x="408" y="0"/>
                      </a:lnTo>
                      <a:lnTo>
                        <a:pt x="358" y="0"/>
                      </a:lnTo>
                      <a:lnTo>
                        <a:pt x="313" y="0"/>
                      </a:lnTo>
                      <a:lnTo>
                        <a:pt x="270" y="0"/>
                      </a:lnTo>
                      <a:lnTo>
                        <a:pt x="232" y="0"/>
                      </a:lnTo>
                      <a:lnTo>
                        <a:pt x="200" y="0"/>
                      </a:lnTo>
                      <a:lnTo>
                        <a:pt x="176" y="0"/>
                      </a:lnTo>
                      <a:lnTo>
                        <a:pt x="160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5c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 flipH="1">
                  <a:off x="2858040" y="2009520"/>
                  <a:ext cx="37800" cy="330120"/>
                </a:xfrm>
                <a:custGeom>
                  <a:avLst/>
                  <a:gdLst/>
                  <a:ahLst/>
                  <a:rect l="l" t="t" r="r" b="b"/>
                  <a:pathLst>
                    <a:path w="47" h="416">
                      <a:moveTo>
                        <a:pt x="6" y="416"/>
                      </a:moveTo>
                      <a:lnTo>
                        <a:pt x="11" y="139"/>
                      </a:lnTo>
                      <a:lnTo>
                        <a:pt x="10" y="138"/>
                      </a:lnTo>
                      <a:lnTo>
                        <a:pt x="8" y="134"/>
                      </a:lnTo>
                      <a:lnTo>
                        <a:pt x="6" y="127"/>
                      </a:lnTo>
                      <a:lnTo>
                        <a:pt x="5" y="118"/>
                      </a:lnTo>
                      <a:lnTo>
                        <a:pt x="3" y="107"/>
                      </a:lnTo>
                      <a:lnTo>
                        <a:pt x="2" y="97"/>
                      </a:lnTo>
                      <a:lnTo>
                        <a:pt x="1" y="85"/>
                      </a:lnTo>
                      <a:lnTo>
                        <a:pt x="1" y="73"/>
                      </a:lnTo>
                      <a:lnTo>
                        <a:pt x="0" y="60"/>
                      </a:lnTo>
                      <a:lnTo>
                        <a:pt x="0" y="46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4"/>
                      </a:lnTo>
                      <a:lnTo>
                        <a:pt x="10" y="8"/>
                      </a:lnTo>
                      <a:lnTo>
                        <a:pt x="15" y="2"/>
                      </a:lnTo>
                      <a:lnTo>
                        <a:pt x="24" y="0"/>
                      </a:lnTo>
                      <a:lnTo>
                        <a:pt x="29" y="0"/>
                      </a:lnTo>
                      <a:lnTo>
                        <a:pt x="35" y="3"/>
                      </a:lnTo>
                      <a:lnTo>
                        <a:pt x="39" y="10"/>
                      </a:lnTo>
                      <a:lnTo>
                        <a:pt x="44" y="19"/>
                      </a:lnTo>
                      <a:lnTo>
                        <a:pt x="45" y="29"/>
                      </a:lnTo>
                      <a:lnTo>
                        <a:pt x="46" y="41"/>
                      </a:lnTo>
                      <a:lnTo>
                        <a:pt x="46" y="54"/>
                      </a:lnTo>
                      <a:lnTo>
                        <a:pt x="47" y="69"/>
                      </a:lnTo>
                      <a:lnTo>
                        <a:pt x="46" y="81"/>
                      </a:lnTo>
                      <a:lnTo>
                        <a:pt x="45" y="95"/>
                      </a:lnTo>
                      <a:lnTo>
                        <a:pt x="44" y="107"/>
                      </a:lnTo>
                      <a:lnTo>
                        <a:pt x="43" y="119"/>
                      </a:lnTo>
                      <a:lnTo>
                        <a:pt x="40" y="128"/>
                      </a:lnTo>
                      <a:lnTo>
                        <a:pt x="39" y="137"/>
                      </a:lnTo>
                      <a:lnTo>
                        <a:pt x="39" y="142"/>
                      </a:lnTo>
                      <a:lnTo>
                        <a:pt x="39" y="144"/>
                      </a:lnTo>
                      <a:lnTo>
                        <a:pt x="36" y="410"/>
                      </a:lnTo>
                      <a:lnTo>
                        <a:pt x="6" y="416"/>
                      </a:lnTo>
                      <a:lnTo>
                        <a:pt x="6" y="416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 flipH="1">
                  <a:off x="2379960" y="2057040"/>
                  <a:ext cx="71640" cy="200160"/>
                </a:xfrm>
                <a:custGeom>
                  <a:avLst/>
                  <a:gdLst/>
                  <a:ahLst/>
                  <a:rect l="l" t="t" r="r" b="b"/>
                  <a:pathLst>
                    <a:path w="90" h="252">
                      <a:moveTo>
                        <a:pt x="16" y="252"/>
                      </a:moveTo>
                      <a:lnTo>
                        <a:pt x="18" y="145"/>
                      </a:lnTo>
                      <a:lnTo>
                        <a:pt x="17" y="142"/>
                      </a:lnTo>
                      <a:lnTo>
                        <a:pt x="14" y="137"/>
                      </a:lnTo>
                      <a:lnTo>
                        <a:pt x="12" y="130"/>
                      </a:lnTo>
                      <a:lnTo>
                        <a:pt x="10" y="121"/>
                      </a:lnTo>
                      <a:lnTo>
                        <a:pt x="7" y="109"/>
                      </a:lnTo>
                      <a:lnTo>
                        <a:pt x="4" y="98"/>
                      </a:lnTo>
                      <a:lnTo>
                        <a:pt x="1" y="85"/>
                      </a:lnTo>
                      <a:lnTo>
                        <a:pt x="1" y="73"/>
                      </a:lnTo>
                      <a:lnTo>
                        <a:pt x="0" y="58"/>
                      </a:lnTo>
                      <a:lnTo>
                        <a:pt x="1" y="45"/>
                      </a:lnTo>
                      <a:lnTo>
                        <a:pt x="3" y="33"/>
                      </a:lnTo>
                      <a:lnTo>
                        <a:pt x="10" y="23"/>
                      </a:lnTo>
                      <a:lnTo>
                        <a:pt x="16" y="13"/>
                      </a:lnTo>
                      <a:lnTo>
                        <a:pt x="24" y="8"/>
                      </a:lnTo>
                      <a:lnTo>
                        <a:pt x="37" y="2"/>
                      </a:lnTo>
                      <a:lnTo>
                        <a:pt x="53" y="1"/>
                      </a:lnTo>
                      <a:lnTo>
                        <a:pt x="58" y="0"/>
                      </a:lnTo>
                      <a:lnTo>
                        <a:pt x="63" y="0"/>
                      </a:lnTo>
                      <a:lnTo>
                        <a:pt x="67" y="1"/>
                      </a:lnTo>
                      <a:lnTo>
                        <a:pt x="72" y="3"/>
                      </a:lnTo>
                      <a:lnTo>
                        <a:pt x="79" y="6"/>
                      </a:lnTo>
                      <a:lnTo>
                        <a:pt x="83" y="10"/>
                      </a:lnTo>
                      <a:lnTo>
                        <a:pt x="87" y="18"/>
                      </a:lnTo>
                      <a:lnTo>
                        <a:pt x="90" y="21"/>
                      </a:lnTo>
                      <a:lnTo>
                        <a:pt x="87" y="21"/>
                      </a:lnTo>
                      <a:lnTo>
                        <a:pt x="85" y="25"/>
                      </a:lnTo>
                      <a:lnTo>
                        <a:pt x="82" y="30"/>
                      </a:lnTo>
                      <a:lnTo>
                        <a:pt x="80" y="36"/>
                      </a:lnTo>
                      <a:lnTo>
                        <a:pt x="74" y="43"/>
                      </a:lnTo>
                      <a:lnTo>
                        <a:pt x="70" y="53"/>
                      </a:lnTo>
                      <a:lnTo>
                        <a:pt x="65" y="62"/>
                      </a:lnTo>
                      <a:lnTo>
                        <a:pt x="62" y="73"/>
                      </a:lnTo>
                      <a:lnTo>
                        <a:pt x="58" y="83"/>
                      </a:lnTo>
                      <a:lnTo>
                        <a:pt x="55" y="93"/>
                      </a:lnTo>
                      <a:lnTo>
                        <a:pt x="53" y="103"/>
                      </a:lnTo>
                      <a:lnTo>
                        <a:pt x="54" y="114"/>
                      </a:lnTo>
                      <a:lnTo>
                        <a:pt x="55" y="123"/>
                      </a:lnTo>
                      <a:lnTo>
                        <a:pt x="59" y="130"/>
                      </a:lnTo>
                      <a:lnTo>
                        <a:pt x="65" y="137"/>
                      </a:lnTo>
                      <a:lnTo>
                        <a:pt x="74" y="145"/>
                      </a:lnTo>
                      <a:lnTo>
                        <a:pt x="72" y="147"/>
                      </a:lnTo>
                      <a:lnTo>
                        <a:pt x="65" y="154"/>
                      </a:lnTo>
                      <a:lnTo>
                        <a:pt x="56" y="158"/>
                      </a:lnTo>
                      <a:lnTo>
                        <a:pt x="53" y="160"/>
                      </a:lnTo>
                      <a:lnTo>
                        <a:pt x="53" y="244"/>
                      </a:lnTo>
                      <a:lnTo>
                        <a:pt x="16" y="252"/>
                      </a:lnTo>
                      <a:lnTo>
                        <a:pt x="16" y="252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 flipH="1">
                  <a:off x="2510280" y="2266560"/>
                  <a:ext cx="73080" cy="243000"/>
                </a:xfrm>
                <a:custGeom>
                  <a:avLst/>
                  <a:gdLst/>
                  <a:ahLst/>
                  <a:rect l="l" t="t" r="r" b="b"/>
                  <a:pathLst>
                    <a:path w="92" h="306">
                      <a:moveTo>
                        <a:pt x="0" y="24"/>
                      </a:moveTo>
                      <a:lnTo>
                        <a:pt x="0" y="23"/>
                      </a:lnTo>
                      <a:lnTo>
                        <a:pt x="4" y="19"/>
                      </a:lnTo>
                      <a:lnTo>
                        <a:pt x="7" y="13"/>
                      </a:lnTo>
                      <a:lnTo>
                        <a:pt x="15" y="10"/>
                      </a:lnTo>
                      <a:lnTo>
                        <a:pt x="22" y="3"/>
                      </a:lnTo>
                      <a:lnTo>
                        <a:pt x="32" y="1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51" y="0"/>
                      </a:lnTo>
                      <a:lnTo>
                        <a:pt x="59" y="3"/>
                      </a:lnTo>
                      <a:lnTo>
                        <a:pt x="64" y="6"/>
                      </a:lnTo>
                      <a:lnTo>
                        <a:pt x="71" y="12"/>
                      </a:lnTo>
                      <a:lnTo>
                        <a:pt x="75" y="20"/>
                      </a:lnTo>
                      <a:lnTo>
                        <a:pt x="81" y="31"/>
                      </a:lnTo>
                      <a:lnTo>
                        <a:pt x="84" y="43"/>
                      </a:lnTo>
                      <a:lnTo>
                        <a:pt x="88" y="57"/>
                      </a:lnTo>
                      <a:lnTo>
                        <a:pt x="90" y="71"/>
                      </a:lnTo>
                      <a:lnTo>
                        <a:pt x="92" y="86"/>
                      </a:lnTo>
                      <a:lnTo>
                        <a:pt x="92" y="101"/>
                      </a:lnTo>
                      <a:lnTo>
                        <a:pt x="92" y="116"/>
                      </a:lnTo>
                      <a:lnTo>
                        <a:pt x="91" y="129"/>
                      </a:lnTo>
                      <a:lnTo>
                        <a:pt x="90" y="143"/>
                      </a:lnTo>
                      <a:lnTo>
                        <a:pt x="86" y="154"/>
                      </a:lnTo>
                      <a:lnTo>
                        <a:pt x="85" y="164"/>
                      </a:lnTo>
                      <a:lnTo>
                        <a:pt x="81" y="171"/>
                      </a:lnTo>
                      <a:lnTo>
                        <a:pt x="77" y="176"/>
                      </a:lnTo>
                      <a:lnTo>
                        <a:pt x="71" y="306"/>
                      </a:lnTo>
                      <a:lnTo>
                        <a:pt x="32" y="306"/>
                      </a:lnTo>
                      <a:lnTo>
                        <a:pt x="30" y="186"/>
                      </a:lnTo>
                      <a:lnTo>
                        <a:pt x="6" y="181"/>
                      </a:lnTo>
                      <a:lnTo>
                        <a:pt x="6" y="179"/>
                      </a:lnTo>
                      <a:lnTo>
                        <a:pt x="10" y="174"/>
                      </a:lnTo>
                      <a:lnTo>
                        <a:pt x="12" y="169"/>
                      </a:lnTo>
                      <a:lnTo>
                        <a:pt x="16" y="165"/>
                      </a:lnTo>
                      <a:lnTo>
                        <a:pt x="18" y="160"/>
                      </a:lnTo>
                      <a:lnTo>
                        <a:pt x="22" y="155"/>
                      </a:lnTo>
                      <a:lnTo>
                        <a:pt x="25" y="148"/>
                      </a:lnTo>
                      <a:lnTo>
                        <a:pt x="28" y="140"/>
                      </a:lnTo>
                      <a:lnTo>
                        <a:pt x="30" y="133"/>
                      </a:lnTo>
                      <a:lnTo>
                        <a:pt x="32" y="126"/>
                      </a:lnTo>
                      <a:lnTo>
                        <a:pt x="33" y="116"/>
                      </a:lnTo>
                      <a:lnTo>
                        <a:pt x="35" y="108"/>
                      </a:lnTo>
                      <a:lnTo>
                        <a:pt x="33" y="99"/>
                      </a:lnTo>
                      <a:lnTo>
                        <a:pt x="33" y="92"/>
                      </a:lnTo>
                      <a:lnTo>
                        <a:pt x="30" y="82"/>
                      </a:lnTo>
                      <a:lnTo>
                        <a:pt x="29" y="74"/>
                      </a:lnTo>
                      <a:lnTo>
                        <a:pt x="27" y="66"/>
                      </a:lnTo>
                      <a:lnTo>
                        <a:pt x="25" y="60"/>
                      </a:lnTo>
                      <a:lnTo>
                        <a:pt x="21" y="53"/>
                      </a:lnTo>
                      <a:lnTo>
                        <a:pt x="18" y="48"/>
                      </a:lnTo>
                      <a:lnTo>
                        <a:pt x="16" y="43"/>
                      </a:lnTo>
                      <a:lnTo>
                        <a:pt x="14" y="40"/>
                      </a:lnTo>
                      <a:lnTo>
                        <a:pt x="7" y="32"/>
                      </a:lnTo>
                      <a:lnTo>
                        <a:pt x="4" y="28"/>
                      </a:lnTo>
                      <a:lnTo>
                        <a:pt x="0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 flipH="1">
                  <a:off x="2083320" y="2444400"/>
                  <a:ext cx="191880" cy="833400"/>
                </a:xfrm>
                <a:custGeom>
                  <a:avLst/>
                  <a:gdLst/>
                  <a:ahLst/>
                  <a:rect l="l" t="t" r="r" b="b"/>
                  <a:pathLst>
                    <a:path w="243" h="1051">
                      <a:moveTo>
                        <a:pt x="243" y="10"/>
                      </a:moveTo>
                      <a:lnTo>
                        <a:pt x="240" y="8"/>
                      </a:lnTo>
                      <a:lnTo>
                        <a:pt x="233" y="7"/>
                      </a:lnTo>
                      <a:lnTo>
                        <a:pt x="222" y="5"/>
                      </a:lnTo>
                      <a:lnTo>
                        <a:pt x="208" y="3"/>
                      </a:lnTo>
                      <a:lnTo>
                        <a:pt x="190" y="0"/>
                      </a:lnTo>
                      <a:lnTo>
                        <a:pt x="172" y="2"/>
                      </a:lnTo>
                      <a:lnTo>
                        <a:pt x="151" y="4"/>
                      </a:lnTo>
                      <a:lnTo>
                        <a:pt x="131" y="9"/>
                      </a:lnTo>
                      <a:lnTo>
                        <a:pt x="109" y="18"/>
                      </a:lnTo>
                      <a:lnTo>
                        <a:pt x="87" y="31"/>
                      </a:lnTo>
                      <a:lnTo>
                        <a:pt x="65" y="48"/>
                      </a:lnTo>
                      <a:lnTo>
                        <a:pt x="49" y="72"/>
                      </a:lnTo>
                      <a:lnTo>
                        <a:pt x="31" y="101"/>
                      </a:lnTo>
                      <a:lnTo>
                        <a:pt x="19" y="136"/>
                      </a:lnTo>
                      <a:lnTo>
                        <a:pt x="8" y="181"/>
                      </a:lnTo>
                      <a:lnTo>
                        <a:pt x="3" y="233"/>
                      </a:lnTo>
                      <a:lnTo>
                        <a:pt x="0" y="286"/>
                      </a:lnTo>
                      <a:lnTo>
                        <a:pt x="0" y="332"/>
                      </a:lnTo>
                      <a:lnTo>
                        <a:pt x="2" y="373"/>
                      </a:lnTo>
                      <a:lnTo>
                        <a:pt x="7" y="411"/>
                      </a:lnTo>
                      <a:lnTo>
                        <a:pt x="10" y="442"/>
                      </a:lnTo>
                      <a:lnTo>
                        <a:pt x="17" y="469"/>
                      </a:lnTo>
                      <a:lnTo>
                        <a:pt x="23" y="492"/>
                      </a:lnTo>
                      <a:lnTo>
                        <a:pt x="31" y="512"/>
                      </a:lnTo>
                      <a:lnTo>
                        <a:pt x="39" y="528"/>
                      </a:lnTo>
                      <a:lnTo>
                        <a:pt x="45" y="540"/>
                      </a:lnTo>
                      <a:lnTo>
                        <a:pt x="53" y="549"/>
                      </a:lnTo>
                      <a:lnTo>
                        <a:pt x="61" y="557"/>
                      </a:lnTo>
                      <a:lnTo>
                        <a:pt x="65" y="561"/>
                      </a:lnTo>
                      <a:lnTo>
                        <a:pt x="71" y="564"/>
                      </a:lnTo>
                      <a:lnTo>
                        <a:pt x="73" y="566"/>
                      </a:lnTo>
                      <a:lnTo>
                        <a:pt x="75" y="568"/>
                      </a:lnTo>
                      <a:lnTo>
                        <a:pt x="83" y="1048"/>
                      </a:lnTo>
                      <a:lnTo>
                        <a:pt x="152" y="1051"/>
                      </a:lnTo>
                      <a:lnTo>
                        <a:pt x="156" y="564"/>
                      </a:lnTo>
                      <a:lnTo>
                        <a:pt x="155" y="562"/>
                      </a:lnTo>
                      <a:lnTo>
                        <a:pt x="153" y="557"/>
                      </a:lnTo>
                      <a:lnTo>
                        <a:pt x="147" y="548"/>
                      </a:lnTo>
                      <a:lnTo>
                        <a:pt x="143" y="537"/>
                      </a:lnTo>
                      <a:lnTo>
                        <a:pt x="135" y="521"/>
                      </a:lnTo>
                      <a:lnTo>
                        <a:pt x="128" y="503"/>
                      </a:lnTo>
                      <a:lnTo>
                        <a:pt x="122" y="484"/>
                      </a:lnTo>
                      <a:lnTo>
                        <a:pt x="115" y="461"/>
                      </a:lnTo>
                      <a:lnTo>
                        <a:pt x="109" y="436"/>
                      </a:lnTo>
                      <a:lnTo>
                        <a:pt x="102" y="411"/>
                      </a:lnTo>
                      <a:lnTo>
                        <a:pt x="96" y="382"/>
                      </a:lnTo>
                      <a:lnTo>
                        <a:pt x="93" y="353"/>
                      </a:lnTo>
                      <a:lnTo>
                        <a:pt x="90" y="321"/>
                      </a:lnTo>
                      <a:lnTo>
                        <a:pt x="91" y="290"/>
                      </a:lnTo>
                      <a:lnTo>
                        <a:pt x="93" y="257"/>
                      </a:lnTo>
                      <a:lnTo>
                        <a:pt x="99" y="225"/>
                      </a:lnTo>
                      <a:lnTo>
                        <a:pt x="104" y="192"/>
                      </a:lnTo>
                      <a:lnTo>
                        <a:pt x="113" y="163"/>
                      </a:lnTo>
                      <a:lnTo>
                        <a:pt x="122" y="135"/>
                      </a:lnTo>
                      <a:lnTo>
                        <a:pt x="134" y="113"/>
                      </a:lnTo>
                      <a:lnTo>
                        <a:pt x="145" y="93"/>
                      </a:lnTo>
                      <a:lnTo>
                        <a:pt x="157" y="77"/>
                      </a:lnTo>
                      <a:lnTo>
                        <a:pt x="169" y="61"/>
                      </a:lnTo>
                      <a:lnTo>
                        <a:pt x="183" y="49"/>
                      </a:lnTo>
                      <a:lnTo>
                        <a:pt x="194" y="38"/>
                      </a:lnTo>
                      <a:lnTo>
                        <a:pt x="205" y="30"/>
                      </a:lnTo>
                      <a:lnTo>
                        <a:pt x="215" y="23"/>
                      </a:lnTo>
                      <a:lnTo>
                        <a:pt x="225" y="18"/>
                      </a:lnTo>
                      <a:lnTo>
                        <a:pt x="232" y="14"/>
                      </a:lnTo>
                      <a:lnTo>
                        <a:pt x="238" y="11"/>
                      </a:lnTo>
                      <a:lnTo>
                        <a:pt x="241" y="10"/>
                      </a:lnTo>
                      <a:lnTo>
                        <a:pt x="243" y="10"/>
                      </a:lnTo>
                      <a:lnTo>
                        <a:pt x="243" y="10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 flipH="1">
                  <a:off x="2872440" y="2493720"/>
                  <a:ext cx="85680" cy="527040"/>
                </a:xfrm>
                <a:custGeom>
                  <a:avLst/>
                  <a:gdLst/>
                  <a:ahLst/>
                  <a:rect l="l" t="t" r="r" b="b"/>
                  <a:pathLst>
                    <a:path w="108" h="664">
                      <a:moveTo>
                        <a:pt x="108" y="27"/>
                      </a:moveTo>
                      <a:lnTo>
                        <a:pt x="108" y="24"/>
                      </a:lnTo>
                      <a:lnTo>
                        <a:pt x="104" y="17"/>
                      </a:lnTo>
                      <a:lnTo>
                        <a:pt x="100" y="14"/>
                      </a:lnTo>
                      <a:lnTo>
                        <a:pt x="95" y="10"/>
                      </a:lnTo>
                      <a:lnTo>
                        <a:pt x="91" y="7"/>
                      </a:lnTo>
                      <a:lnTo>
                        <a:pt x="85" y="5"/>
                      </a:lnTo>
                      <a:lnTo>
                        <a:pt x="77" y="3"/>
                      </a:lnTo>
                      <a:lnTo>
                        <a:pt x="71" y="0"/>
                      </a:lnTo>
                      <a:lnTo>
                        <a:pt x="63" y="0"/>
                      </a:lnTo>
                      <a:lnTo>
                        <a:pt x="58" y="1"/>
                      </a:lnTo>
                      <a:lnTo>
                        <a:pt x="49" y="3"/>
                      </a:lnTo>
                      <a:lnTo>
                        <a:pt x="42" y="6"/>
                      </a:lnTo>
                      <a:lnTo>
                        <a:pt x="34" y="11"/>
                      </a:lnTo>
                      <a:lnTo>
                        <a:pt x="29" y="19"/>
                      </a:lnTo>
                      <a:lnTo>
                        <a:pt x="22" y="28"/>
                      </a:lnTo>
                      <a:lnTo>
                        <a:pt x="17" y="40"/>
                      </a:lnTo>
                      <a:lnTo>
                        <a:pt x="11" y="53"/>
                      </a:lnTo>
                      <a:lnTo>
                        <a:pt x="8" y="70"/>
                      </a:lnTo>
                      <a:lnTo>
                        <a:pt x="3" y="85"/>
                      </a:lnTo>
                      <a:lnTo>
                        <a:pt x="1" y="104"/>
                      </a:lnTo>
                      <a:lnTo>
                        <a:pt x="0" y="123"/>
                      </a:lnTo>
                      <a:lnTo>
                        <a:pt x="0" y="143"/>
                      </a:lnTo>
                      <a:lnTo>
                        <a:pt x="0" y="161"/>
                      </a:lnTo>
                      <a:lnTo>
                        <a:pt x="0" y="178"/>
                      </a:lnTo>
                      <a:lnTo>
                        <a:pt x="2" y="196"/>
                      </a:lnTo>
                      <a:lnTo>
                        <a:pt x="6" y="213"/>
                      </a:lnTo>
                      <a:lnTo>
                        <a:pt x="9" y="227"/>
                      </a:lnTo>
                      <a:lnTo>
                        <a:pt x="13" y="241"/>
                      </a:lnTo>
                      <a:lnTo>
                        <a:pt x="19" y="251"/>
                      </a:lnTo>
                      <a:lnTo>
                        <a:pt x="26" y="260"/>
                      </a:lnTo>
                      <a:lnTo>
                        <a:pt x="21" y="664"/>
                      </a:lnTo>
                      <a:lnTo>
                        <a:pt x="64" y="664"/>
                      </a:lnTo>
                      <a:lnTo>
                        <a:pt x="59" y="268"/>
                      </a:lnTo>
                      <a:lnTo>
                        <a:pt x="90" y="242"/>
                      </a:lnTo>
                      <a:lnTo>
                        <a:pt x="87" y="241"/>
                      </a:lnTo>
                      <a:lnTo>
                        <a:pt x="83" y="240"/>
                      </a:lnTo>
                      <a:lnTo>
                        <a:pt x="79" y="236"/>
                      </a:lnTo>
                      <a:lnTo>
                        <a:pt x="73" y="229"/>
                      </a:lnTo>
                      <a:lnTo>
                        <a:pt x="70" y="223"/>
                      </a:lnTo>
                      <a:lnTo>
                        <a:pt x="69" y="214"/>
                      </a:lnTo>
                      <a:lnTo>
                        <a:pt x="66" y="204"/>
                      </a:lnTo>
                      <a:lnTo>
                        <a:pt x="66" y="192"/>
                      </a:lnTo>
                      <a:lnTo>
                        <a:pt x="65" y="177"/>
                      </a:lnTo>
                      <a:lnTo>
                        <a:pt x="66" y="160"/>
                      </a:lnTo>
                      <a:lnTo>
                        <a:pt x="69" y="140"/>
                      </a:lnTo>
                      <a:lnTo>
                        <a:pt x="72" y="118"/>
                      </a:lnTo>
                      <a:lnTo>
                        <a:pt x="72" y="115"/>
                      </a:lnTo>
                      <a:lnTo>
                        <a:pt x="72" y="113"/>
                      </a:lnTo>
                      <a:lnTo>
                        <a:pt x="72" y="108"/>
                      </a:lnTo>
                      <a:lnTo>
                        <a:pt x="74" y="103"/>
                      </a:lnTo>
                      <a:lnTo>
                        <a:pt x="75" y="97"/>
                      </a:lnTo>
                      <a:lnTo>
                        <a:pt x="77" y="90"/>
                      </a:lnTo>
                      <a:lnTo>
                        <a:pt x="80" y="82"/>
                      </a:lnTo>
                      <a:lnTo>
                        <a:pt x="82" y="74"/>
                      </a:lnTo>
                      <a:lnTo>
                        <a:pt x="84" y="66"/>
                      </a:lnTo>
                      <a:lnTo>
                        <a:pt x="86" y="58"/>
                      </a:lnTo>
                      <a:lnTo>
                        <a:pt x="90" y="50"/>
                      </a:lnTo>
                      <a:lnTo>
                        <a:pt x="93" y="45"/>
                      </a:lnTo>
                      <a:lnTo>
                        <a:pt x="96" y="38"/>
                      </a:lnTo>
                      <a:lnTo>
                        <a:pt x="100" y="32"/>
                      </a:lnTo>
                      <a:lnTo>
                        <a:pt x="103" y="29"/>
                      </a:lnTo>
                      <a:lnTo>
                        <a:pt x="108" y="27"/>
                      </a:lnTo>
                      <a:lnTo>
                        <a:pt x="108" y="27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 flipH="1">
                  <a:off x="2729520" y="1760400"/>
                  <a:ext cx="46080" cy="266760"/>
                </a:xfrm>
                <a:custGeom>
                  <a:avLst/>
                  <a:gdLst/>
                  <a:ahLst/>
                  <a:rect l="l" t="t" r="r" b="b"/>
                  <a:pathLst>
                    <a:path w="59" h="335">
                      <a:moveTo>
                        <a:pt x="20" y="335"/>
                      </a:moveTo>
                      <a:lnTo>
                        <a:pt x="20" y="116"/>
                      </a:lnTo>
                      <a:lnTo>
                        <a:pt x="18" y="112"/>
                      </a:lnTo>
                      <a:lnTo>
                        <a:pt x="13" y="104"/>
                      </a:lnTo>
                      <a:lnTo>
                        <a:pt x="10" y="97"/>
                      </a:lnTo>
                      <a:lnTo>
                        <a:pt x="8" y="92"/>
                      </a:lnTo>
                      <a:lnTo>
                        <a:pt x="6" y="84"/>
                      </a:lnTo>
                      <a:lnTo>
                        <a:pt x="5" y="77"/>
                      </a:lnTo>
                      <a:lnTo>
                        <a:pt x="1" y="69"/>
                      </a:lnTo>
                      <a:lnTo>
                        <a:pt x="1" y="60"/>
                      </a:lnTo>
                      <a:lnTo>
                        <a:pt x="0" y="51"/>
                      </a:lnTo>
                      <a:lnTo>
                        <a:pt x="2" y="43"/>
                      </a:lnTo>
                      <a:lnTo>
                        <a:pt x="5" y="34"/>
                      </a:lnTo>
                      <a:lnTo>
                        <a:pt x="9" y="24"/>
                      </a:lnTo>
                      <a:lnTo>
                        <a:pt x="15" y="17"/>
                      </a:lnTo>
                      <a:lnTo>
                        <a:pt x="22" y="11"/>
                      </a:lnTo>
                      <a:lnTo>
                        <a:pt x="30" y="4"/>
                      </a:lnTo>
                      <a:lnTo>
                        <a:pt x="37" y="1"/>
                      </a:lnTo>
                      <a:lnTo>
                        <a:pt x="43" y="0"/>
                      </a:lnTo>
                      <a:lnTo>
                        <a:pt x="49" y="1"/>
                      </a:lnTo>
                      <a:lnTo>
                        <a:pt x="55" y="6"/>
                      </a:lnTo>
                      <a:lnTo>
                        <a:pt x="59" y="9"/>
                      </a:lnTo>
                      <a:lnTo>
                        <a:pt x="57" y="11"/>
                      </a:lnTo>
                      <a:lnTo>
                        <a:pt x="52" y="20"/>
                      </a:lnTo>
                      <a:lnTo>
                        <a:pt x="48" y="24"/>
                      </a:lnTo>
                      <a:lnTo>
                        <a:pt x="44" y="32"/>
                      </a:lnTo>
                      <a:lnTo>
                        <a:pt x="42" y="39"/>
                      </a:lnTo>
                      <a:lnTo>
                        <a:pt x="40" y="48"/>
                      </a:lnTo>
                      <a:lnTo>
                        <a:pt x="37" y="56"/>
                      </a:lnTo>
                      <a:lnTo>
                        <a:pt x="34" y="64"/>
                      </a:lnTo>
                      <a:lnTo>
                        <a:pt x="33" y="72"/>
                      </a:lnTo>
                      <a:lnTo>
                        <a:pt x="34" y="81"/>
                      </a:lnTo>
                      <a:lnTo>
                        <a:pt x="34" y="86"/>
                      </a:lnTo>
                      <a:lnTo>
                        <a:pt x="39" y="94"/>
                      </a:lnTo>
                      <a:lnTo>
                        <a:pt x="43" y="98"/>
                      </a:lnTo>
                      <a:lnTo>
                        <a:pt x="50" y="104"/>
                      </a:lnTo>
                      <a:lnTo>
                        <a:pt x="50" y="106"/>
                      </a:lnTo>
                      <a:lnTo>
                        <a:pt x="45" y="113"/>
                      </a:lnTo>
                      <a:lnTo>
                        <a:pt x="41" y="117"/>
                      </a:lnTo>
                      <a:lnTo>
                        <a:pt x="40" y="118"/>
                      </a:lnTo>
                      <a:lnTo>
                        <a:pt x="41" y="333"/>
                      </a:lnTo>
                      <a:lnTo>
                        <a:pt x="20" y="335"/>
                      </a:lnTo>
                      <a:lnTo>
                        <a:pt x="20" y="335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 flipH="1">
                  <a:off x="2578680" y="1574640"/>
                  <a:ext cx="44640" cy="147600"/>
                </a:xfrm>
                <a:custGeom>
                  <a:avLst/>
                  <a:gdLst/>
                  <a:ahLst/>
                  <a:rect l="l" t="t" r="r" b="b"/>
                  <a:pathLst>
                    <a:path w="57" h="187">
                      <a:moveTo>
                        <a:pt x="33" y="79"/>
                      </a:moveTo>
                      <a:lnTo>
                        <a:pt x="31" y="76"/>
                      </a:lnTo>
                      <a:lnTo>
                        <a:pt x="31" y="68"/>
                      </a:lnTo>
                      <a:lnTo>
                        <a:pt x="30" y="62"/>
                      </a:lnTo>
                      <a:lnTo>
                        <a:pt x="30" y="57"/>
                      </a:lnTo>
                      <a:lnTo>
                        <a:pt x="30" y="51"/>
                      </a:lnTo>
                      <a:lnTo>
                        <a:pt x="30" y="46"/>
                      </a:lnTo>
                      <a:lnTo>
                        <a:pt x="30" y="38"/>
                      </a:lnTo>
                      <a:lnTo>
                        <a:pt x="30" y="33"/>
                      </a:lnTo>
                      <a:lnTo>
                        <a:pt x="31" y="26"/>
                      </a:lnTo>
                      <a:lnTo>
                        <a:pt x="34" y="23"/>
                      </a:lnTo>
                      <a:lnTo>
                        <a:pt x="39" y="15"/>
                      </a:lnTo>
                      <a:lnTo>
                        <a:pt x="47" y="12"/>
                      </a:lnTo>
                      <a:lnTo>
                        <a:pt x="57" y="13"/>
                      </a:lnTo>
                      <a:lnTo>
                        <a:pt x="55" y="10"/>
                      </a:lnTo>
                      <a:lnTo>
                        <a:pt x="46" y="4"/>
                      </a:lnTo>
                      <a:lnTo>
                        <a:pt x="40" y="1"/>
                      </a:lnTo>
                      <a:lnTo>
                        <a:pt x="35" y="0"/>
                      </a:lnTo>
                      <a:lnTo>
                        <a:pt x="28" y="0"/>
                      </a:lnTo>
                      <a:lnTo>
                        <a:pt x="21" y="3"/>
                      </a:lnTo>
                      <a:lnTo>
                        <a:pt x="12" y="9"/>
                      </a:lnTo>
                      <a:lnTo>
                        <a:pt x="7" y="17"/>
                      </a:lnTo>
                      <a:lnTo>
                        <a:pt x="4" y="23"/>
                      </a:lnTo>
                      <a:lnTo>
                        <a:pt x="3" y="28"/>
                      </a:lnTo>
                      <a:lnTo>
                        <a:pt x="2" y="35"/>
                      </a:lnTo>
                      <a:lnTo>
                        <a:pt x="2" y="42"/>
                      </a:lnTo>
                      <a:lnTo>
                        <a:pt x="0" y="47"/>
                      </a:lnTo>
                      <a:lnTo>
                        <a:pt x="0" y="53"/>
                      </a:lnTo>
                      <a:lnTo>
                        <a:pt x="2" y="58"/>
                      </a:lnTo>
                      <a:lnTo>
                        <a:pt x="4" y="63"/>
                      </a:lnTo>
                      <a:lnTo>
                        <a:pt x="6" y="72"/>
                      </a:lnTo>
                      <a:lnTo>
                        <a:pt x="12" y="76"/>
                      </a:lnTo>
                      <a:lnTo>
                        <a:pt x="16" y="187"/>
                      </a:lnTo>
                      <a:lnTo>
                        <a:pt x="37" y="173"/>
                      </a:lnTo>
                      <a:lnTo>
                        <a:pt x="33" y="79"/>
                      </a:lnTo>
                      <a:lnTo>
                        <a:pt x="33" y="79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 flipH="1">
                  <a:off x="2812320" y="1564920"/>
                  <a:ext cx="38160" cy="168480"/>
                </a:xfrm>
                <a:custGeom>
                  <a:avLst/>
                  <a:gdLst/>
                  <a:ahLst/>
                  <a:rect l="l" t="t" r="r" b="b"/>
                  <a:pathLst>
                    <a:path w="50" h="212">
                      <a:moveTo>
                        <a:pt x="12" y="212"/>
                      </a:moveTo>
                      <a:lnTo>
                        <a:pt x="11" y="63"/>
                      </a:lnTo>
                      <a:lnTo>
                        <a:pt x="9" y="59"/>
                      </a:lnTo>
                      <a:lnTo>
                        <a:pt x="6" y="51"/>
                      </a:lnTo>
                      <a:lnTo>
                        <a:pt x="2" y="43"/>
                      </a:lnTo>
                      <a:lnTo>
                        <a:pt x="0" y="33"/>
                      </a:lnTo>
                      <a:lnTo>
                        <a:pt x="0" y="27"/>
                      </a:lnTo>
                      <a:lnTo>
                        <a:pt x="0" y="21"/>
                      </a:lnTo>
                      <a:lnTo>
                        <a:pt x="0" y="16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1" y="4"/>
                      </a:lnTo>
                      <a:lnTo>
                        <a:pt x="16" y="1"/>
                      </a:lnTo>
                      <a:lnTo>
                        <a:pt x="24" y="1"/>
                      </a:lnTo>
                      <a:lnTo>
                        <a:pt x="31" y="0"/>
                      </a:lnTo>
                      <a:lnTo>
                        <a:pt x="37" y="1"/>
                      </a:lnTo>
                      <a:lnTo>
                        <a:pt x="41" y="3"/>
                      </a:lnTo>
                      <a:lnTo>
                        <a:pt x="45" y="6"/>
                      </a:lnTo>
                      <a:lnTo>
                        <a:pt x="46" y="9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50" y="27"/>
                      </a:lnTo>
                      <a:lnTo>
                        <a:pt x="49" y="34"/>
                      </a:lnTo>
                      <a:lnTo>
                        <a:pt x="48" y="39"/>
                      </a:lnTo>
                      <a:lnTo>
                        <a:pt x="46" y="45"/>
                      </a:lnTo>
                      <a:lnTo>
                        <a:pt x="46" y="50"/>
                      </a:lnTo>
                      <a:lnTo>
                        <a:pt x="44" y="58"/>
                      </a:lnTo>
                      <a:lnTo>
                        <a:pt x="44" y="63"/>
                      </a:lnTo>
                      <a:lnTo>
                        <a:pt x="39" y="67"/>
                      </a:lnTo>
                      <a:lnTo>
                        <a:pt x="41" y="211"/>
                      </a:lnTo>
                      <a:lnTo>
                        <a:pt x="12" y="212"/>
                      </a:lnTo>
                      <a:lnTo>
                        <a:pt x="12" y="212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 flipH="1">
                  <a:off x="2979000" y="1568160"/>
                  <a:ext cx="33120" cy="138240"/>
                </a:xfrm>
                <a:custGeom>
                  <a:avLst/>
                  <a:gdLst/>
                  <a:ahLst/>
                  <a:rect l="l" t="t" r="r" b="b"/>
                  <a:pathLst>
                    <a:path w="42" h="174">
                      <a:moveTo>
                        <a:pt x="32" y="169"/>
                      </a:moveTo>
                      <a:lnTo>
                        <a:pt x="32" y="53"/>
                      </a:lnTo>
                      <a:lnTo>
                        <a:pt x="32" y="49"/>
                      </a:lnTo>
                      <a:lnTo>
                        <a:pt x="36" y="42"/>
                      </a:lnTo>
                      <a:lnTo>
                        <a:pt x="38" y="35"/>
                      </a:lnTo>
                      <a:lnTo>
                        <a:pt x="41" y="30"/>
                      </a:lnTo>
                      <a:lnTo>
                        <a:pt x="41" y="23"/>
                      </a:lnTo>
                      <a:lnTo>
                        <a:pt x="42" y="18"/>
                      </a:lnTo>
                      <a:lnTo>
                        <a:pt x="40" y="11"/>
                      </a:lnTo>
                      <a:lnTo>
                        <a:pt x="37" y="7"/>
                      </a:lnTo>
                      <a:lnTo>
                        <a:pt x="33" y="2"/>
                      </a:lnTo>
                      <a:lnTo>
                        <a:pt x="31" y="1"/>
                      </a:lnTo>
                      <a:lnTo>
                        <a:pt x="21" y="0"/>
                      </a:lnTo>
                      <a:lnTo>
                        <a:pt x="11" y="2"/>
                      </a:lnTo>
                      <a:lnTo>
                        <a:pt x="7" y="4"/>
                      </a:lnTo>
                      <a:lnTo>
                        <a:pt x="4" y="9"/>
                      </a:lnTo>
                      <a:lnTo>
                        <a:pt x="2" y="14"/>
                      </a:lnTo>
                      <a:lnTo>
                        <a:pt x="1" y="21"/>
                      </a:lnTo>
                      <a:lnTo>
                        <a:pt x="0" y="26"/>
                      </a:lnTo>
                      <a:lnTo>
                        <a:pt x="1" y="34"/>
                      </a:lnTo>
                      <a:lnTo>
                        <a:pt x="3" y="42"/>
                      </a:lnTo>
                      <a:lnTo>
                        <a:pt x="7" y="49"/>
                      </a:lnTo>
                      <a:lnTo>
                        <a:pt x="7" y="174"/>
                      </a:lnTo>
                      <a:lnTo>
                        <a:pt x="32" y="169"/>
                      </a:lnTo>
                      <a:lnTo>
                        <a:pt x="32" y="169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 flipH="1">
                  <a:off x="3027600" y="1962000"/>
                  <a:ext cx="93960" cy="293760"/>
                </a:xfrm>
                <a:custGeom>
                  <a:avLst/>
                  <a:gdLst/>
                  <a:ahLst/>
                  <a:rect l="l" t="t" r="r" b="b"/>
                  <a:pathLst>
                    <a:path w="120" h="372">
                      <a:moveTo>
                        <a:pt x="120" y="31"/>
                      </a:moveTo>
                      <a:lnTo>
                        <a:pt x="118" y="30"/>
                      </a:lnTo>
                      <a:lnTo>
                        <a:pt x="114" y="30"/>
                      </a:lnTo>
                      <a:lnTo>
                        <a:pt x="108" y="30"/>
                      </a:lnTo>
                      <a:lnTo>
                        <a:pt x="100" y="32"/>
                      </a:lnTo>
                      <a:lnTo>
                        <a:pt x="90" y="33"/>
                      </a:lnTo>
                      <a:lnTo>
                        <a:pt x="80" y="37"/>
                      </a:lnTo>
                      <a:lnTo>
                        <a:pt x="70" y="39"/>
                      </a:lnTo>
                      <a:lnTo>
                        <a:pt x="61" y="46"/>
                      </a:lnTo>
                      <a:lnTo>
                        <a:pt x="51" y="50"/>
                      </a:lnTo>
                      <a:lnTo>
                        <a:pt x="44" y="59"/>
                      </a:lnTo>
                      <a:lnTo>
                        <a:pt x="35" y="69"/>
                      </a:lnTo>
                      <a:lnTo>
                        <a:pt x="31" y="82"/>
                      </a:lnTo>
                      <a:lnTo>
                        <a:pt x="27" y="95"/>
                      </a:lnTo>
                      <a:lnTo>
                        <a:pt x="27" y="112"/>
                      </a:lnTo>
                      <a:lnTo>
                        <a:pt x="30" y="131"/>
                      </a:lnTo>
                      <a:lnTo>
                        <a:pt x="38" y="154"/>
                      </a:lnTo>
                      <a:lnTo>
                        <a:pt x="39" y="156"/>
                      </a:lnTo>
                      <a:lnTo>
                        <a:pt x="44" y="158"/>
                      </a:lnTo>
                      <a:lnTo>
                        <a:pt x="48" y="161"/>
                      </a:lnTo>
                      <a:lnTo>
                        <a:pt x="55" y="164"/>
                      </a:lnTo>
                      <a:lnTo>
                        <a:pt x="59" y="165"/>
                      </a:lnTo>
                      <a:lnTo>
                        <a:pt x="65" y="165"/>
                      </a:lnTo>
                      <a:lnTo>
                        <a:pt x="68" y="166"/>
                      </a:lnTo>
                      <a:lnTo>
                        <a:pt x="69" y="167"/>
                      </a:lnTo>
                      <a:lnTo>
                        <a:pt x="69" y="372"/>
                      </a:lnTo>
                      <a:lnTo>
                        <a:pt x="40" y="372"/>
                      </a:lnTo>
                      <a:lnTo>
                        <a:pt x="38" y="166"/>
                      </a:lnTo>
                      <a:lnTo>
                        <a:pt x="34" y="164"/>
                      </a:lnTo>
                      <a:lnTo>
                        <a:pt x="27" y="155"/>
                      </a:lnTo>
                      <a:lnTo>
                        <a:pt x="23" y="148"/>
                      </a:lnTo>
                      <a:lnTo>
                        <a:pt x="17" y="142"/>
                      </a:lnTo>
                      <a:lnTo>
                        <a:pt x="12" y="135"/>
                      </a:lnTo>
                      <a:lnTo>
                        <a:pt x="9" y="127"/>
                      </a:lnTo>
                      <a:lnTo>
                        <a:pt x="4" y="117"/>
                      </a:lnTo>
                      <a:lnTo>
                        <a:pt x="2" y="106"/>
                      </a:lnTo>
                      <a:lnTo>
                        <a:pt x="0" y="95"/>
                      </a:lnTo>
                      <a:lnTo>
                        <a:pt x="0" y="84"/>
                      </a:lnTo>
                      <a:lnTo>
                        <a:pt x="3" y="72"/>
                      </a:lnTo>
                      <a:lnTo>
                        <a:pt x="8" y="60"/>
                      </a:lnTo>
                      <a:lnTo>
                        <a:pt x="15" y="47"/>
                      </a:lnTo>
                      <a:lnTo>
                        <a:pt x="25" y="33"/>
                      </a:lnTo>
                      <a:lnTo>
                        <a:pt x="35" y="21"/>
                      </a:lnTo>
                      <a:lnTo>
                        <a:pt x="46" y="12"/>
                      </a:lnTo>
                      <a:lnTo>
                        <a:pt x="56" y="5"/>
                      </a:lnTo>
                      <a:lnTo>
                        <a:pt x="66" y="2"/>
                      </a:lnTo>
                      <a:lnTo>
                        <a:pt x="72" y="0"/>
                      </a:lnTo>
                      <a:lnTo>
                        <a:pt x="80" y="0"/>
                      </a:lnTo>
                      <a:lnTo>
                        <a:pt x="88" y="2"/>
                      </a:lnTo>
                      <a:lnTo>
                        <a:pt x="94" y="5"/>
                      </a:lnTo>
                      <a:lnTo>
                        <a:pt x="100" y="8"/>
                      </a:lnTo>
                      <a:lnTo>
                        <a:pt x="104" y="12"/>
                      </a:lnTo>
                      <a:lnTo>
                        <a:pt x="109" y="16"/>
                      </a:lnTo>
                      <a:lnTo>
                        <a:pt x="113" y="21"/>
                      </a:lnTo>
                      <a:lnTo>
                        <a:pt x="118" y="27"/>
                      </a:lnTo>
                      <a:lnTo>
                        <a:pt x="120" y="31"/>
                      </a:lnTo>
                      <a:lnTo>
                        <a:pt x="120" y="31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 flipH="1">
                  <a:off x="1310040" y="2341440"/>
                  <a:ext cx="157320" cy="56880"/>
                </a:xfrm>
                <a:custGeom>
                  <a:avLst/>
                  <a:gdLst/>
                  <a:ahLst/>
                  <a:rect l="l" t="t" r="r" b="b"/>
                  <a:pathLst>
                    <a:path w="197" h="72">
                      <a:moveTo>
                        <a:pt x="5" y="43"/>
                      </a:moveTo>
                      <a:lnTo>
                        <a:pt x="0" y="18"/>
                      </a:lnTo>
                      <a:lnTo>
                        <a:pt x="10" y="18"/>
                      </a:lnTo>
                      <a:lnTo>
                        <a:pt x="11" y="38"/>
                      </a:lnTo>
                      <a:lnTo>
                        <a:pt x="36" y="35"/>
                      </a:lnTo>
                      <a:lnTo>
                        <a:pt x="34" y="8"/>
                      </a:lnTo>
                      <a:lnTo>
                        <a:pt x="44" y="5"/>
                      </a:lnTo>
                      <a:lnTo>
                        <a:pt x="45" y="31"/>
                      </a:lnTo>
                      <a:lnTo>
                        <a:pt x="62" y="30"/>
                      </a:lnTo>
                      <a:lnTo>
                        <a:pt x="62" y="0"/>
                      </a:lnTo>
                      <a:lnTo>
                        <a:pt x="74" y="4"/>
                      </a:lnTo>
                      <a:lnTo>
                        <a:pt x="72" y="33"/>
                      </a:lnTo>
                      <a:lnTo>
                        <a:pt x="93" y="38"/>
                      </a:lnTo>
                      <a:lnTo>
                        <a:pt x="96" y="10"/>
                      </a:lnTo>
                      <a:lnTo>
                        <a:pt x="110" y="14"/>
                      </a:lnTo>
                      <a:lnTo>
                        <a:pt x="103" y="39"/>
                      </a:lnTo>
                      <a:lnTo>
                        <a:pt x="125" y="48"/>
                      </a:lnTo>
                      <a:lnTo>
                        <a:pt x="131" y="21"/>
                      </a:lnTo>
                      <a:lnTo>
                        <a:pt x="145" y="25"/>
                      </a:lnTo>
                      <a:lnTo>
                        <a:pt x="133" y="49"/>
                      </a:lnTo>
                      <a:lnTo>
                        <a:pt x="149" y="54"/>
                      </a:lnTo>
                      <a:lnTo>
                        <a:pt x="156" y="31"/>
                      </a:lnTo>
                      <a:lnTo>
                        <a:pt x="168" y="35"/>
                      </a:lnTo>
                      <a:lnTo>
                        <a:pt x="154" y="57"/>
                      </a:lnTo>
                      <a:lnTo>
                        <a:pt x="175" y="64"/>
                      </a:lnTo>
                      <a:lnTo>
                        <a:pt x="182" y="41"/>
                      </a:lnTo>
                      <a:lnTo>
                        <a:pt x="197" y="51"/>
                      </a:lnTo>
                      <a:lnTo>
                        <a:pt x="180" y="72"/>
                      </a:lnTo>
                      <a:lnTo>
                        <a:pt x="120" y="54"/>
                      </a:lnTo>
                      <a:lnTo>
                        <a:pt x="59" y="43"/>
                      </a:lnTo>
                      <a:lnTo>
                        <a:pt x="5" y="43"/>
                      </a:lnTo>
                      <a:lnTo>
                        <a:pt x="5" y="43"/>
                      </a:lnTo>
                      <a:close/>
                    </a:path>
                  </a:pathLst>
                </a:custGeom>
                <a:solidFill>
                  <a:srgbClr val="4d36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 flipH="1">
                  <a:off x="1359720" y="2409480"/>
                  <a:ext cx="139680" cy="92160"/>
                </a:xfrm>
                <a:custGeom>
                  <a:avLst/>
                  <a:gdLst/>
                  <a:ahLst/>
                  <a:rect l="l" t="t" r="r" b="b"/>
                  <a:pathLst>
                    <a:path w="175" h="115">
                      <a:moveTo>
                        <a:pt x="175" y="92"/>
                      </a:moveTo>
                      <a:lnTo>
                        <a:pt x="171" y="115"/>
                      </a:lnTo>
                      <a:lnTo>
                        <a:pt x="161" y="111"/>
                      </a:lnTo>
                      <a:lnTo>
                        <a:pt x="166" y="93"/>
                      </a:lnTo>
                      <a:lnTo>
                        <a:pt x="145" y="85"/>
                      </a:lnTo>
                      <a:lnTo>
                        <a:pt x="137" y="113"/>
                      </a:lnTo>
                      <a:lnTo>
                        <a:pt x="127" y="110"/>
                      </a:lnTo>
                      <a:lnTo>
                        <a:pt x="136" y="86"/>
                      </a:lnTo>
                      <a:lnTo>
                        <a:pt x="118" y="83"/>
                      </a:lnTo>
                      <a:lnTo>
                        <a:pt x="109" y="109"/>
                      </a:lnTo>
                      <a:lnTo>
                        <a:pt x="97" y="100"/>
                      </a:lnTo>
                      <a:lnTo>
                        <a:pt x="110" y="75"/>
                      </a:lnTo>
                      <a:lnTo>
                        <a:pt x="91" y="63"/>
                      </a:lnTo>
                      <a:lnTo>
                        <a:pt x="80" y="86"/>
                      </a:lnTo>
                      <a:lnTo>
                        <a:pt x="67" y="78"/>
                      </a:lnTo>
                      <a:lnTo>
                        <a:pt x="84" y="59"/>
                      </a:lnTo>
                      <a:lnTo>
                        <a:pt x="66" y="43"/>
                      </a:lnTo>
                      <a:lnTo>
                        <a:pt x="50" y="64"/>
                      </a:lnTo>
                      <a:lnTo>
                        <a:pt x="38" y="57"/>
                      </a:lnTo>
                      <a:lnTo>
                        <a:pt x="58" y="39"/>
                      </a:lnTo>
                      <a:lnTo>
                        <a:pt x="46" y="27"/>
                      </a:lnTo>
                      <a:lnTo>
                        <a:pt x="30" y="47"/>
                      </a:lnTo>
                      <a:lnTo>
                        <a:pt x="21" y="37"/>
                      </a:lnTo>
                      <a:lnTo>
                        <a:pt x="40" y="21"/>
                      </a:lnTo>
                      <a:lnTo>
                        <a:pt x="25" y="8"/>
                      </a:lnTo>
                      <a:lnTo>
                        <a:pt x="11" y="29"/>
                      </a:lnTo>
                      <a:lnTo>
                        <a:pt x="0" y="13"/>
                      </a:lnTo>
                      <a:lnTo>
                        <a:pt x="23" y="0"/>
                      </a:lnTo>
                      <a:lnTo>
                        <a:pt x="74" y="37"/>
                      </a:lnTo>
                      <a:lnTo>
                        <a:pt x="127" y="72"/>
                      </a:lnTo>
                      <a:lnTo>
                        <a:pt x="175" y="92"/>
                      </a:lnTo>
                      <a:lnTo>
                        <a:pt x="175" y="92"/>
                      </a:lnTo>
                      <a:close/>
                    </a:path>
                  </a:pathLst>
                </a:custGeom>
                <a:solidFill>
                  <a:srgbClr val="4d36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 flipH="1">
                  <a:off x="1108800" y="3078000"/>
                  <a:ext cx="959040" cy="260280"/>
                </a:xfrm>
                <a:custGeom>
                  <a:avLst/>
                  <a:gdLst/>
                  <a:ahLst/>
                  <a:rect l="l" t="t" r="r" b="b"/>
                  <a:pathLst>
                    <a:path w="1209" h="328">
                      <a:moveTo>
                        <a:pt x="134" y="0"/>
                      </a:moveTo>
                      <a:lnTo>
                        <a:pt x="384" y="120"/>
                      </a:lnTo>
                      <a:lnTo>
                        <a:pt x="82" y="81"/>
                      </a:lnTo>
                      <a:lnTo>
                        <a:pt x="353" y="163"/>
                      </a:lnTo>
                      <a:lnTo>
                        <a:pt x="6" y="120"/>
                      </a:lnTo>
                      <a:lnTo>
                        <a:pt x="315" y="202"/>
                      </a:lnTo>
                      <a:lnTo>
                        <a:pt x="33" y="172"/>
                      </a:lnTo>
                      <a:lnTo>
                        <a:pt x="269" y="241"/>
                      </a:lnTo>
                      <a:lnTo>
                        <a:pt x="0" y="210"/>
                      </a:lnTo>
                      <a:lnTo>
                        <a:pt x="210" y="297"/>
                      </a:lnTo>
                      <a:lnTo>
                        <a:pt x="213" y="297"/>
                      </a:lnTo>
                      <a:lnTo>
                        <a:pt x="221" y="299"/>
                      </a:lnTo>
                      <a:lnTo>
                        <a:pt x="236" y="300"/>
                      </a:lnTo>
                      <a:lnTo>
                        <a:pt x="256" y="305"/>
                      </a:lnTo>
                      <a:lnTo>
                        <a:pt x="279" y="308"/>
                      </a:lnTo>
                      <a:lnTo>
                        <a:pt x="308" y="312"/>
                      </a:lnTo>
                      <a:lnTo>
                        <a:pt x="339" y="318"/>
                      </a:lnTo>
                      <a:lnTo>
                        <a:pt x="375" y="322"/>
                      </a:lnTo>
                      <a:lnTo>
                        <a:pt x="412" y="327"/>
                      </a:lnTo>
                      <a:lnTo>
                        <a:pt x="452" y="328"/>
                      </a:lnTo>
                      <a:lnTo>
                        <a:pt x="493" y="328"/>
                      </a:lnTo>
                      <a:lnTo>
                        <a:pt x="536" y="328"/>
                      </a:lnTo>
                      <a:lnTo>
                        <a:pt x="580" y="328"/>
                      </a:lnTo>
                      <a:lnTo>
                        <a:pt x="625" y="328"/>
                      </a:lnTo>
                      <a:lnTo>
                        <a:pt x="669" y="328"/>
                      </a:lnTo>
                      <a:lnTo>
                        <a:pt x="713" y="328"/>
                      </a:lnTo>
                      <a:lnTo>
                        <a:pt x="755" y="328"/>
                      </a:lnTo>
                      <a:lnTo>
                        <a:pt x="798" y="320"/>
                      </a:lnTo>
                      <a:lnTo>
                        <a:pt x="842" y="307"/>
                      </a:lnTo>
                      <a:lnTo>
                        <a:pt x="887" y="293"/>
                      </a:lnTo>
                      <a:lnTo>
                        <a:pt x="928" y="275"/>
                      </a:lnTo>
                      <a:lnTo>
                        <a:pt x="969" y="257"/>
                      </a:lnTo>
                      <a:lnTo>
                        <a:pt x="1008" y="238"/>
                      </a:lnTo>
                      <a:lnTo>
                        <a:pt x="1046" y="220"/>
                      </a:lnTo>
                      <a:lnTo>
                        <a:pt x="1079" y="200"/>
                      </a:lnTo>
                      <a:lnTo>
                        <a:pt x="1111" y="182"/>
                      </a:lnTo>
                      <a:lnTo>
                        <a:pt x="1139" y="164"/>
                      </a:lnTo>
                      <a:lnTo>
                        <a:pt x="1162" y="150"/>
                      </a:lnTo>
                      <a:lnTo>
                        <a:pt x="1182" y="137"/>
                      </a:lnTo>
                      <a:lnTo>
                        <a:pt x="1195" y="128"/>
                      </a:lnTo>
                      <a:lnTo>
                        <a:pt x="1205" y="122"/>
                      </a:lnTo>
                      <a:lnTo>
                        <a:pt x="1209" y="120"/>
                      </a:lnTo>
                      <a:lnTo>
                        <a:pt x="1203" y="119"/>
                      </a:lnTo>
                      <a:lnTo>
                        <a:pt x="1186" y="119"/>
                      </a:lnTo>
                      <a:lnTo>
                        <a:pt x="1161" y="119"/>
                      </a:lnTo>
                      <a:lnTo>
                        <a:pt x="1130" y="119"/>
                      </a:lnTo>
                      <a:lnTo>
                        <a:pt x="1091" y="119"/>
                      </a:lnTo>
                      <a:lnTo>
                        <a:pt x="1048" y="119"/>
                      </a:lnTo>
                      <a:lnTo>
                        <a:pt x="1002" y="119"/>
                      </a:lnTo>
                      <a:lnTo>
                        <a:pt x="955" y="119"/>
                      </a:lnTo>
                      <a:lnTo>
                        <a:pt x="905" y="118"/>
                      </a:lnTo>
                      <a:lnTo>
                        <a:pt x="857" y="117"/>
                      </a:lnTo>
                      <a:lnTo>
                        <a:pt x="811" y="116"/>
                      </a:lnTo>
                      <a:lnTo>
                        <a:pt x="770" y="116"/>
                      </a:lnTo>
                      <a:lnTo>
                        <a:pt x="731" y="115"/>
                      </a:lnTo>
                      <a:lnTo>
                        <a:pt x="701" y="113"/>
                      </a:lnTo>
                      <a:lnTo>
                        <a:pt x="678" y="113"/>
                      </a:lnTo>
                      <a:lnTo>
                        <a:pt x="665" y="112"/>
                      </a:lnTo>
                      <a:lnTo>
                        <a:pt x="650" y="108"/>
                      </a:lnTo>
                      <a:lnTo>
                        <a:pt x="627" y="103"/>
                      </a:lnTo>
                      <a:lnTo>
                        <a:pt x="597" y="97"/>
                      </a:lnTo>
                      <a:lnTo>
                        <a:pt x="561" y="90"/>
                      </a:lnTo>
                      <a:lnTo>
                        <a:pt x="519" y="79"/>
                      </a:lnTo>
                      <a:lnTo>
                        <a:pt x="475" y="70"/>
                      </a:lnTo>
                      <a:lnTo>
                        <a:pt x="427" y="60"/>
                      </a:lnTo>
                      <a:lnTo>
                        <a:pt x="381" y="51"/>
                      </a:lnTo>
                      <a:lnTo>
                        <a:pt x="332" y="42"/>
                      </a:lnTo>
                      <a:lnTo>
                        <a:pt x="288" y="32"/>
                      </a:lnTo>
                      <a:lnTo>
                        <a:pt x="246" y="22"/>
                      </a:lnTo>
                      <a:lnTo>
                        <a:pt x="209" y="15"/>
                      </a:lnTo>
                      <a:lnTo>
                        <a:pt x="177" y="8"/>
                      </a:lnTo>
                      <a:lnTo>
                        <a:pt x="154" y="4"/>
                      </a:lnTo>
                      <a:lnTo>
                        <a:pt x="138" y="0"/>
                      </a:lnTo>
                      <a:lnTo>
                        <a:pt x="134" y="0"/>
                      </a:lnTo>
                      <a:lnTo>
                        <a:pt x="134" y="0"/>
                      </a:lnTo>
                      <a:close/>
                    </a:path>
                  </a:pathLst>
                </a:custGeom>
                <a:solidFill>
                  <a:srgbClr val="7d7d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26" name="" descr=""/>
              <p:cNvPicPr/>
              <p:nvPr/>
            </p:nvPicPr>
            <p:blipFill>
              <a:blip r:embed="rId2"/>
              <a:stretch/>
            </p:blipFill>
            <p:spPr>
              <a:xfrm rot="5400000">
                <a:off x="941760" y="2271600"/>
                <a:ext cx="630360" cy="114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7" name="" descr=""/>
              <p:cNvPicPr/>
              <p:nvPr/>
            </p:nvPicPr>
            <p:blipFill>
              <a:blip r:embed="rId3"/>
              <a:stretch/>
            </p:blipFill>
            <p:spPr>
              <a:xfrm rot="5400000">
                <a:off x="1093680" y="2043000"/>
                <a:ext cx="630360" cy="114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28" name=""/>
            <p:cNvGrpSpPr/>
            <p:nvPr/>
          </p:nvGrpSpPr>
          <p:grpSpPr>
            <a:xfrm>
              <a:off x="1447560" y="2212920"/>
              <a:ext cx="614160" cy="609480"/>
              <a:chOff x="1447560" y="2212920"/>
              <a:chExt cx="614160" cy="609480"/>
            </a:xfrm>
          </p:grpSpPr>
          <p:sp>
            <p:nvSpPr>
              <p:cNvPr id="1729" name=""/>
              <p:cNvSpPr/>
              <p:nvPr/>
            </p:nvSpPr>
            <p:spPr>
              <a:xfrm flipH="1">
                <a:off x="1671480" y="2431440"/>
                <a:ext cx="358560" cy="263520"/>
              </a:xfrm>
              <a:custGeom>
                <a:avLst/>
                <a:gdLst/>
                <a:ahLst/>
                <a:rect l="l" t="t" r="r" b="b"/>
                <a:pathLst>
                  <a:path w="676" h="493">
                    <a:moveTo>
                      <a:pt x="0" y="322"/>
                    </a:moveTo>
                    <a:lnTo>
                      <a:pt x="222" y="0"/>
                    </a:lnTo>
                    <a:lnTo>
                      <a:pt x="380" y="0"/>
                    </a:lnTo>
                    <a:lnTo>
                      <a:pt x="676" y="220"/>
                    </a:lnTo>
                    <a:lnTo>
                      <a:pt x="672" y="289"/>
                    </a:lnTo>
                    <a:lnTo>
                      <a:pt x="500" y="426"/>
                    </a:lnTo>
                    <a:lnTo>
                      <a:pt x="132" y="493"/>
                    </a:lnTo>
                    <a:lnTo>
                      <a:pt x="0" y="322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c99b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H="1">
                <a:off x="1447560" y="2212920"/>
                <a:ext cx="419040" cy="358560"/>
              </a:xfrm>
              <a:custGeom>
                <a:avLst/>
                <a:gdLst/>
                <a:ahLst/>
                <a:rect l="l" t="t" r="r" b="b"/>
                <a:pathLst>
                  <a:path w="789" h="671">
                    <a:moveTo>
                      <a:pt x="0" y="257"/>
                    </a:moveTo>
                    <a:lnTo>
                      <a:pt x="1" y="253"/>
                    </a:lnTo>
                    <a:lnTo>
                      <a:pt x="8" y="244"/>
                    </a:lnTo>
                    <a:lnTo>
                      <a:pt x="18" y="232"/>
                    </a:lnTo>
                    <a:lnTo>
                      <a:pt x="31" y="216"/>
                    </a:lnTo>
                    <a:lnTo>
                      <a:pt x="46" y="195"/>
                    </a:lnTo>
                    <a:lnTo>
                      <a:pt x="66" y="174"/>
                    </a:lnTo>
                    <a:lnTo>
                      <a:pt x="88" y="149"/>
                    </a:lnTo>
                    <a:lnTo>
                      <a:pt x="114" y="126"/>
                    </a:lnTo>
                    <a:lnTo>
                      <a:pt x="140" y="101"/>
                    </a:lnTo>
                    <a:lnTo>
                      <a:pt x="169" y="77"/>
                    </a:lnTo>
                    <a:lnTo>
                      <a:pt x="199" y="55"/>
                    </a:lnTo>
                    <a:lnTo>
                      <a:pt x="232" y="37"/>
                    </a:lnTo>
                    <a:lnTo>
                      <a:pt x="264" y="20"/>
                    </a:lnTo>
                    <a:lnTo>
                      <a:pt x="299" y="9"/>
                    </a:lnTo>
                    <a:lnTo>
                      <a:pt x="333" y="1"/>
                    </a:lnTo>
                    <a:lnTo>
                      <a:pt x="368" y="0"/>
                    </a:lnTo>
                    <a:lnTo>
                      <a:pt x="486" y="12"/>
                    </a:lnTo>
                    <a:lnTo>
                      <a:pt x="624" y="91"/>
                    </a:lnTo>
                    <a:lnTo>
                      <a:pt x="624" y="92"/>
                    </a:lnTo>
                    <a:lnTo>
                      <a:pt x="627" y="95"/>
                    </a:lnTo>
                    <a:lnTo>
                      <a:pt x="631" y="103"/>
                    </a:lnTo>
                    <a:lnTo>
                      <a:pt x="638" y="114"/>
                    </a:lnTo>
                    <a:lnTo>
                      <a:pt x="645" y="125"/>
                    </a:lnTo>
                    <a:lnTo>
                      <a:pt x="653" y="139"/>
                    </a:lnTo>
                    <a:lnTo>
                      <a:pt x="662" y="153"/>
                    </a:lnTo>
                    <a:lnTo>
                      <a:pt x="671" y="170"/>
                    </a:lnTo>
                    <a:lnTo>
                      <a:pt x="680" y="186"/>
                    </a:lnTo>
                    <a:lnTo>
                      <a:pt x="688" y="205"/>
                    </a:lnTo>
                    <a:lnTo>
                      <a:pt x="695" y="221"/>
                    </a:lnTo>
                    <a:lnTo>
                      <a:pt x="704" y="239"/>
                    </a:lnTo>
                    <a:lnTo>
                      <a:pt x="709" y="255"/>
                    </a:lnTo>
                    <a:lnTo>
                      <a:pt x="714" y="271"/>
                    </a:lnTo>
                    <a:lnTo>
                      <a:pt x="716" y="286"/>
                    </a:lnTo>
                    <a:lnTo>
                      <a:pt x="719" y="301"/>
                    </a:lnTo>
                    <a:lnTo>
                      <a:pt x="718" y="306"/>
                    </a:lnTo>
                    <a:lnTo>
                      <a:pt x="715" y="314"/>
                    </a:lnTo>
                    <a:lnTo>
                      <a:pt x="712" y="323"/>
                    </a:lnTo>
                    <a:lnTo>
                      <a:pt x="709" y="333"/>
                    </a:lnTo>
                    <a:lnTo>
                      <a:pt x="704" y="342"/>
                    </a:lnTo>
                    <a:lnTo>
                      <a:pt x="700" y="352"/>
                    </a:lnTo>
                    <a:lnTo>
                      <a:pt x="694" y="362"/>
                    </a:lnTo>
                    <a:lnTo>
                      <a:pt x="691" y="374"/>
                    </a:lnTo>
                    <a:lnTo>
                      <a:pt x="684" y="385"/>
                    </a:lnTo>
                    <a:lnTo>
                      <a:pt x="680" y="397"/>
                    </a:lnTo>
                    <a:lnTo>
                      <a:pt x="676" y="409"/>
                    </a:lnTo>
                    <a:lnTo>
                      <a:pt x="672" y="425"/>
                    </a:lnTo>
                    <a:lnTo>
                      <a:pt x="669" y="438"/>
                    </a:lnTo>
                    <a:lnTo>
                      <a:pt x="667" y="452"/>
                    </a:lnTo>
                    <a:lnTo>
                      <a:pt x="667" y="468"/>
                    </a:lnTo>
                    <a:lnTo>
                      <a:pt x="668" y="484"/>
                    </a:lnTo>
                    <a:lnTo>
                      <a:pt x="669" y="492"/>
                    </a:lnTo>
                    <a:lnTo>
                      <a:pt x="672" y="501"/>
                    </a:lnTo>
                    <a:lnTo>
                      <a:pt x="678" y="511"/>
                    </a:lnTo>
                    <a:lnTo>
                      <a:pt x="687" y="523"/>
                    </a:lnTo>
                    <a:lnTo>
                      <a:pt x="695" y="535"/>
                    </a:lnTo>
                    <a:lnTo>
                      <a:pt x="705" y="547"/>
                    </a:lnTo>
                    <a:lnTo>
                      <a:pt x="716" y="559"/>
                    </a:lnTo>
                    <a:lnTo>
                      <a:pt x="729" y="573"/>
                    </a:lnTo>
                    <a:lnTo>
                      <a:pt x="740" y="584"/>
                    </a:lnTo>
                    <a:lnTo>
                      <a:pt x="751" y="595"/>
                    </a:lnTo>
                    <a:lnTo>
                      <a:pt x="761" y="604"/>
                    </a:lnTo>
                    <a:lnTo>
                      <a:pt x="771" y="614"/>
                    </a:lnTo>
                    <a:lnTo>
                      <a:pt x="777" y="621"/>
                    </a:lnTo>
                    <a:lnTo>
                      <a:pt x="784" y="627"/>
                    </a:lnTo>
                    <a:lnTo>
                      <a:pt x="787" y="630"/>
                    </a:lnTo>
                    <a:lnTo>
                      <a:pt x="789" y="632"/>
                    </a:lnTo>
                    <a:lnTo>
                      <a:pt x="506" y="671"/>
                    </a:lnTo>
                    <a:lnTo>
                      <a:pt x="407" y="566"/>
                    </a:lnTo>
                    <a:lnTo>
                      <a:pt x="4" y="347"/>
                    </a:lnTo>
                    <a:lnTo>
                      <a:pt x="0" y="257"/>
                    </a:lnTo>
                    <a:lnTo>
                      <a:pt x="0" y="257"/>
                    </a:lnTo>
                    <a:close/>
                  </a:path>
                </a:pathLst>
              </a:custGeom>
              <a:solidFill>
                <a:srgbClr val="cf8f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1568520" y="2264040"/>
                <a:ext cx="238680" cy="284760"/>
              </a:xfrm>
              <a:custGeom>
                <a:avLst/>
                <a:gdLst/>
                <a:ahLst/>
                <a:rect l="l" t="t" r="r" b="b"/>
                <a:pathLst>
                  <a:path w="448" h="534">
                    <a:moveTo>
                      <a:pt x="183" y="534"/>
                    </a:moveTo>
                    <a:lnTo>
                      <a:pt x="0" y="440"/>
                    </a:lnTo>
                    <a:lnTo>
                      <a:pt x="58" y="269"/>
                    </a:lnTo>
                    <a:lnTo>
                      <a:pt x="107" y="148"/>
                    </a:lnTo>
                    <a:lnTo>
                      <a:pt x="179" y="64"/>
                    </a:lnTo>
                    <a:lnTo>
                      <a:pt x="274" y="6"/>
                    </a:lnTo>
                    <a:lnTo>
                      <a:pt x="370" y="0"/>
                    </a:lnTo>
                    <a:lnTo>
                      <a:pt x="448" y="12"/>
                    </a:lnTo>
                    <a:lnTo>
                      <a:pt x="399" y="328"/>
                    </a:lnTo>
                    <a:lnTo>
                      <a:pt x="273" y="376"/>
                    </a:lnTo>
                    <a:lnTo>
                      <a:pt x="183" y="534"/>
                    </a:lnTo>
                    <a:lnTo>
                      <a:pt x="183" y="534"/>
                    </a:lnTo>
                    <a:close/>
                  </a:path>
                </a:pathLst>
              </a:custGeom>
              <a:solidFill>
                <a:srgbClr val="f79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>
                <a:off x="1602360" y="2338560"/>
                <a:ext cx="132480" cy="72360"/>
              </a:xfrm>
              <a:custGeom>
                <a:avLst/>
                <a:gdLst/>
                <a:ahLst/>
                <a:rect l="l" t="t" r="r" b="b"/>
                <a:pathLst>
                  <a:path w="251" h="136">
                    <a:moveTo>
                      <a:pt x="0" y="18"/>
                    </a:moveTo>
                    <a:lnTo>
                      <a:pt x="59" y="0"/>
                    </a:lnTo>
                    <a:lnTo>
                      <a:pt x="145" y="13"/>
                    </a:lnTo>
                    <a:lnTo>
                      <a:pt x="251" y="61"/>
                    </a:lnTo>
                    <a:lnTo>
                      <a:pt x="251" y="136"/>
                    </a:lnTo>
                    <a:lnTo>
                      <a:pt x="131" y="128"/>
                    </a:lnTo>
                    <a:lnTo>
                      <a:pt x="52" y="77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7f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>
                <a:off x="1529280" y="2215080"/>
                <a:ext cx="363600" cy="348840"/>
              </a:xfrm>
              <a:custGeom>
                <a:avLst/>
                <a:gdLst/>
                <a:ahLst/>
                <a:rect l="l" t="t" r="r" b="b"/>
                <a:pathLst>
                  <a:path w="686" h="655">
                    <a:moveTo>
                      <a:pt x="354" y="0"/>
                    </a:moveTo>
                    <a:lnTo>
                      <a:pt x="352" y="0"/>
                    </a:lnTo>
                    <a:lnTo>
                      <a:pt x="343" y="3"/>
                    </a:lnTo>
                    <a:lnTo>
                      <a:pt x="330" y="7"/>
                    </a:lnTo>
                    <a:lnTo>
                      <a:pt x="312" y="14"/>
                    </a:lnTo>
                    <a:lnTo>
                      <a:pt x="291" y="21"/>
                    </a:lnTo>
                    <a:lnTo>
                      <a:pt x="267" y="32"/>
                    </a:lnTo>
                    <a:lnTo>
                      <a:pt x="240" y="46"/>
                    </a:lnTo>
                    <a:lnTo>
                      <a:pt x="214" y="63"/>
                    </a:lnTo>
                    <a:lnTo>
                      <a:pt x="183" y="82"/>
                    </a:lnTo>
                    <a:lnTo>
                      <a:pt x="154" y="105"/>
                    </a:lnTo>
                    <a:lnTo>
                      <a:pt x="124" y="132"/>
                    </a:lnTo>
                    <a:lnTo>
                      <a:pt x="95" y="162"/>
                    </a:lnTo>
                    <a:lnTo>
                      <a:pt x="68" y="195"/>
                    </a:lnTo>
                    <a:lnTo>
                      <a:pt x="42" y="233"/>
                    </a:lnTo>
                    <a:lnTo>
                      <a:pt x="19" y="275"/>
                    </a:lnTo>
                    <a:lnTo>
                      <a:pt x="0" y="322"/>
                    </a:lnTo>
                    <a:lnTo>
                      <a:pt x="51" y="420"/>
                    </a:lnTo>
                    <a:lnTo>
                      <a:pt x="36" y="458"/>
                    </a:lnTo>
                    <a:lnTo>
                      <a:pt x="108" y="542"/>
                    </a:lnTo>
                    <a:lnTo>
                      <a:pt x="103" y="589"/>
                    </a:lnTo>
                    <a:lnTo>
                      <a:pt x="188" y="655"/>
                    </a:lnTo>
                    <a:lnTo>
                      <a:pt x="187" y="647"/>
                    </a:lnTo>
                    <a:lnTo>
                      <a:pt x="187" y="628"/>
                    </a:lnTo>
                    <a:lnTo>
                      <a:pt x="187" y="600"/>
                    </a:lnTo>
                    <a:lnTo>
                      <a:pt x="190" y="563"/>
                    </a:lnTo>
                    <a:lnTo>
                      <a:pt x="195" y="519"/>
                    </a:lnTo>
                    <a:lnTo>
                      <a:pt x="202" y="470"/>
                    </a:lnTo>
                    <a:lnTo>
                      <a:pt x="211" y="418"/>
                    </a:lnTo>
                    <a:lnTo>
                      <a:pt x="227" y="366"/>
                    </a:lnTo>
                    <a:lnTo>
                      <a:pt x="244" y="312"/>
                    </a:lnTo>
                    <a:lnTo>
                      <a:pt x="268" y="264"/>
                    </a:lnTo>
                    <a:lnTo>
                      <a:pt x="298" y="217"/>
                    </a:lnTo>
                    <a:lnTo>
                      <a:pt x="334" y="176"/>
                    </a:lnTo>
                    <a:lnTo>
                      <a:pt x="377" y="143"/>
                    </a:lnTo>
                    <a:lnTo>
                      <a:pt x="428" y="119"/>
                    </a:lnTo>
                    <a:lnTo>
                      <a:pt x="487" y="107"/>
                    </a:lnTo>
                    <a:lnTo>
                      <a:pt x="556" y="108"/>
                    </a:lnTo>
                    <a:lnTo>
                      <a:pt x="574" y="123"/>
                    </a:lnTo>
                    <a:lnTo>
                      <a:pt x="573" y="124"/>
                    </a:lnTo>
                    <a:lnTo>
                      <a:pt x="573" y="128"/>
                    </a:lnTo>
                    <a:lnTo>
                      <a:pt x="571" y="134"/>
                    </a:lnTo>
                    <a:lnTo>
                      <a:pt x="571" y="143"/>
                    </a:lnTo>
                    <a:lnTo>
                      <a:pt x="569" y="153"/>
                    </a:lnTo>
                    <a:lnTo>
                      <a:pt x="566" y="165"/>
                    </a:lnTo>
                    <a:lnTo>
                      <a:pt x="563" y="177"/>
                    </a:lnTo>
                    <a:lnTo>
                      <a:pt x="560" y="192"/>
                    </a:lnTo>
                    <a:lnTo>
                      <a:pt x="555" y="204"/>
                    </a:lnTo>
                    <a:lnTo>
                      <a:pt x="551" y="217"/>
                    </a:lnTo>
                    <a:lnTo>
                      <a:pt x="546" y="228"/>
                    </a:lnTo>
                    <a:lnTo>
                      <a:pt x="542" y="240"/>
                    </a:lnTo>
                    <a:lnTo>
                      <a:pt x="536" y="249"/>
                    </a:lnTo>
                    <a:lnTo>
                      <a:pt x="530" y="257"/>
                    </a:lnTo>
                    <a:lnTo>
                      <a:pt x="523" y="264"/>
                    </a:lnTo>
                    <a:lnTo>
                      <a:pt x="515" y="267"/>
                    </a:lnTo>
                    <a:lnTo>
                      <a:pt x="513" y="265"/>
                    </a:lnTo>
                    <a:lnTo>
                      <a:pt x="504" y="261"/>
                    </a:lnTo>
                    <a:lnTo>
                      <a:pt x="499" y="258"/>
                    </a:lnTo>
                    <a:lnTo>
                      <a:pt x="493" y="255"/>
                    </a:lnTo>
                    <a:lnTo>
                      <a:pt x="488" y="252"/>
                    </a:lnTo>
                    <a:lnTo>
                      <a:pt x="481" y="250"/>
                    </a:lnTo>
                    <a:lnTo>
                      <a:pt x="475" y="247"/>
                    </a:lnTo>
                    <a:lnTo>
                      <a:pt x="468" y="244"/>
                    </a:lnTo>
                    <a:lnTo>
                      <a:pt x="461" y="240"/>
                    </a:lnTo>
                    <a:lnTo>
                      <a:pt x="457" y="239"/>
                    </a:lnTo>
                    <a:lnTo>
                      <a:pt x="447" y="235"/>
                    </a:lnTo>
                    <a:lnTo>
                      <a:pt x="443" y="234"/>
                    </a:lnTo>
                    <a:lnTo>
                      <a:pt x="437" y="236"/>
                    </a:lnTo>
                    <a:lnTo>
                      <a:pt x="434" y="244"/>
                    </a:lnTo>
                    <a:lnTo>
                      <a:pt x="430" y="249"/>
                    </a:lnTo>
                    <a:lnTo>
                      <a:pt x="428" y="255"/>
                    </a:lnTo>
                    <a:lnTo>
                      <a:pt x="426" y="262"/>
                    </a:lnTo>
                    <a:lnTo>
                      <a:pt x="426" y="270"/>
                    </a:lnTo>
                    <a:lnTo>
                      <a:pt x="424" y="276"/>
                    </a:lnTo>
                    <a:lnTo>
                      <a:pt x="425" y="285"/>
                    </a:lnTo>
                    <a:lnTo>
                      <a:pt x="425" y="290"/>
                    </a:lnTo>
                    <a:lnTo>
                      <a:pt x="428" y="299"/>
                    </a:lnTo>
                    <a:lnTo>
                      <a:pt x="431" y="304"/>
                    </a:lnTo>
                    <a:lnTo>
                      <a:pt x="437" y="310"/>
                    </a:lnTo>
                    <a:lnTo>
                      <a:pt x="444" y="314"/>
                    </a:lnTo>
                    <a:lnTo>
                      <a:pt x="452" y="320"/>
                    </a:lnTo>
                    <a:lnTo>
                      <a:pt x="460" y="321"/>
                    </a:lnTo>
                    <a:lnTo>
                      <a:pt x="469" y="323"/>
                    </a:lnTo>
                    <a:lnTo>
                      <a:pt x="477" y="323"/>
                    </a:lnTo>
                    <a:lnTo>
                      <a:pt x="483" y="324"/>
                    </a:lnTo>
                    <a:lnTo>
                      <a:pt x="490" y="323"/>
                    </a:lnTo>
                    <a:lnTo>
                      <a:pt x="496" y="322"/>
                    </a:lnTo>
                    <a:lnTo>
                      <a:pt x="500" y="321"/>
                    </a:lnTo>
                    <a:lnTo>
                      <a:pt x="504" y="320"/>
                    </a:lnTo>
                    <a:lnTo>
                      <a:pt x="511" y="314"/>
                    </a:lnTo>
                    <a:lnTo>
                      <a:pt x="517" y="311"/>
                    </a:lnTo>
                    <a:lnTo>
                      <a:pt x="519" y="308"/>
                    </a:lnTo>
                    <a:lnTo>
                      <a:pt x="521" y="308"/>
                    </a:lnTo>
                    <a:lnTo>
                      <a:pt x="523" y="310"/>
                    </a:lnTo>
                    <a:lnTo>
                      <a:pt x="529" y="317"/>
                    </a:lnTo>
                    <a:lnTo>
                      <a:pt x="532" y="321"/>
                    </a:lnTo>
                    <a:lnTo>
                      <a:pt x="535" y="329"/>
                    </a:lnTo>
                    <a:lnTo>
                      <a:pt x="536" y="338"/>
                    </a:lnTo>
                    <a:lnTo>
                      <a:pt x="538" y="348"/>
                    </a:lnTo>
                    <a:lnTo>
                      <a:pt x="536" y="348"/>
                    </a:lnTo>
                    <a:lnTo>
                      <a:pt x="532" y="351"/>
                    </a:lnTo>
                    <a:lnTo>
                      <a:pt x="528" y="351"/>
                    </a:lnTo>
                    <a:lnTo>
                      <a:pt x="525" y="353"/>
                    </a:lnTo>
                    <a:lnTo>
                      <a:pt x="520" y="355"/>
                    </a:lnTo>
                    <a:lnTo>
                      <a:pt x="514" y="356"/>
                    </a:lnTo>
                    <a:lnTo>
                      <a:pt x="508" y="357"/>
                    </a:lnTo>
                    <a:lnTo>
                      <a:pt x="501" y="359"/>
                    </a:lnTo>
                    <a:lnTo>
                      <a:pt x="492" y="360"/>
                    </a:lnTo>
                    <a:lnTo>
                      <a:pt x="485" y="362"/>
                    </a:lnTo>
                    <a:lnTo>
                      <a:pt x="473" y="362"/>
                    </a:lnTo>
                    <a:lnTo>
                      <a:pt x="464" y="363"/>
                    </a:lnTo>
                    <a:lnTo>
                      <a:pt x="451" y="363"/>
                    </a:lnTo>
                    <a:lnTo>
                      <a:pt x="439" y="363"/>
                    </a:lnTo>
                    <a:lnTo>
                      <a:pt x="429" y="364"/>
                    </a:lnTo>
                    <a:lnTo>
                      <a:pt x="423" y="371"/>
                    </a:lnTo>
                    <a:lnTo>
                      <a:pt x="418" y="375"/>
                    </a:lnTo>
                    <a:lnTo>
                      <a:pt x="415" y="382"/>
                    </a:lnTo>
                    <a:lnTo>
                      <a:pt x="412" y="388"/>
                    </a:lnTo>
                    <a:lnTo>
                      <a:pt x="410" y="396"/>
                    </a:lnTo>
                    <a:lnTo>
                      <a:pt x="407" y="403"/>
                    </a:lnTo>
                    <a:lnTo>
                      <a:pt x="405" y="412"/>
                    </a:lnTo>
                    <a:lnTo>
                      <a:pt x="403" y="419"/>
                    </a:lnTo>
                    <a:lnTo>
                      <a:pt x="402" y="428"/>
                    </a:lnTo>
                    <a:lnTo>
                      <a:pt x="400" y="437"/>
                    </a:lnTo>
                    <a:lnTo>
                      <a:pt x="400" y="446"/>
                    </a:lnTo>
                    <a:lnTo>
                      <a:pt x="400" y="455"/>
                    </a:lnTo>
                    <a:lnTo>
                      <a:pt x="400" y="464"/>
                    </a:lnTo>
                    <a:lnTo>
                      <a:pt x="398" y="472"/>
                    </a:lnTo>
                    <a:lnTo>
                      <a:pt x="396" y="481"/>
                    </a:lnTo>
                    <a:lnTo>
                      <a:pt x="392" y="491"/>
                    </a:lnTo>
                    <a:lnTo>
                      <a:pt x="389" y="503"/>
                    </a:lnTo>
                    <a:lnTo>
                      <a:pt x="383" y="514"/>
                    </a:lnTo>
                    <a:lnTo>
                      <a:pt x="377" y="527"/>
                    </a:lnTo>
                    <a:lnTo>
                      <a:pt x="371" y="538"/>
                    </a:lnTo>
                    <a:lnTo>
                      <a:pt x="365" y="550"/>
                    </a:lnTo>
                    <a:lnTo>
                      <a:pt x="356" y="559"/>
                    </a:lnTo>
                    <a:lnTo>
                      <a:pt x="349" y="569"/>
                    </a:lnTo>
                    <a:lnTo>
                      <a:pt x="340" y="576"/>
                    </a:lnTo>
                    <a:lnTo>
                      <a:pt x="331" y="584"/>
                    </a:lnTo>
                    <a:lnTo>
                      <a:pt x="321" y="587"/>
                    </a:lnTo>
                    <a:lnTo>
                      <a:pt x="312" y="592"/>
                    </a:lnTo>
                    <a:lnTo>
                      <a:pt x="302" y="592"/>
                    </a:lnTo>
                    <a:lnTo>
                      <a:pt x="293" y="591"/>
                    </a:lnTo>
                    <a:lnTo>
                      <a:pt x="282" y="587"/>
                    </a:lnTo>
                    <a:lnTo>
                      <a:pt x="274" y="584"/>
                    </a:lnTo>
                    <a:lnTo>
                      <a:pt x="265" y="580"/>
                    </a:lnTo>
                    <a:lnTo>
                      <a:pt x="259" y="576"/>
                    </a:lnTo>
                    <a:lnTo>
                      <a:pt x="252" y="572"/>
                    </a:lnTo>
                    <a:lnTo>
                      <a:pt x="247" y="568"/>
                    </a:lnTo>
                    <a:lnTo>
                      <a:pt x="241" y="565"/>
                    </a:lnTo>
                    <a:lnTo>
                      <a:pt x="239" y="562"/>
                    </a:lnTo>
                    <a:lnTo>
                      <a:pt x="231" y="554"/>
                    </a:lnTo>
                    <a:lnTo>
                      <a:pt x="228" y="550"/>
                    </a:lnTo>
                    <a:lnTo>
                      <a:pt x="227" y="545"/>
                    </a:lnTo>
                    <a:lnTo>
                      <a:pt x="221" y="561"/>
                    </a:lnTo>
                    <a:lnTo>
                      <a:pt x="223" y="562"/>
                    </a:lnTo>
                    <a:lnTo>
                      <a:pt x="228" y="568"/>
                    </a:lnTo>
                    <a:lnTo>
                      <a:pt x="238" y="575"/>
                    </a:lnTo>
                    <a:lnTo>
                      <a:pt x="251" y="585"/>
                    </a:lnTo>
                    <a:lnTo>
                      <a:pt x="266" y="595"/>
                    </a:lnTo>
                    <a:lnTo>
                      <a:pt x="284" y="607"/>
                    </a:lnTo>
                    <a:lnTo>
                      <a:pt x="304" y="617"/>
                    </a:lnTo>
                    <a:lnTo>
                      <a:pt x="326" y="627"/>
                    </a:lnTo>
                    <a:lnTo>
                      <a:pt x="349" y="634"/>
                    </a:lnTo>
                    <a:lnTo>
                      <a:pt x="373" y="637"/>
                    </a:lnTo>
                    <a:lnTo>
                      <a:pt x="397" y="636"/>
                    </a:lnTo>
                    <a:lnTo>
                      <a:pt x="423" y="633"/>
                    </a:lnTo>
                    <a:lnTo>
                      <a:pt x="446" y="623"/>
                    </a:lnTo>
                    <a:lnTo>
                      <a:pt x="470" y="606"/>
                    </a:lnTo>
                    <a:lnTo>
                      <a:pt x="492" y="583"/>
                    </a:lnTo>
                    <a:lnTo>
                      <a:pt x="515" y="552"/>
                    </a:lnTo>
                    <a:lnTo>
                      <a:pt x="514" y="549"/>
                    </a:lnTo>
                    <a:lnTo>
                      <a:pt x="508" y="544"/>
                    </a:lnTo>
                    <a:lnTo>
                      <a:pt x="503" y="541"/>
                    </a:lnTo>
                    <a:lnTo>
                      <a:pt x="498" y="539"/>
                    </a:lnTo>
                    <a:lnTo>
                      <a:pt x="492" y="535"/>
                    </a:lnTo>
                    <a:lnTo>
                      <a:pt x="487" y="533"/>
                    </a:lnTo>
                    <a:lnTo>
                      <a:pt x="479" y="530"/>
                    </a:lnTo>
                    <a:lnTo>
                      <a:pt x="472" y="527"/>
                    </a:lnTo>
                    <a:lnTo>
                      <a:pt x="467" y="522"/>
                    </a:lnTo>
                    <a:lnTo>
                      <a:pt x="461" y="519"/>
                    </a:lnTo>
                    <a:lnTo>
                      <a:pt x="451" y="511"/>
                    </a:lnTo>
                    <a:lnTo>
                      <a:pt x="446" y="505"/>
                    </a:lnTo>
                    <a:lnTo>
                      <a:pt x="546" y="530"/>
                    </a:lnTo>
                    <a:lnTo>
                      <a:pt x="566" y="468"/>
                    </a:lnTo>
                    <a:lnTo>
                      <a:pt x="569" y="468"/>
                    </a:lnTo>
                    <a:lnTo>
                      <a:pt x="574" y="471"/>
                    </a:lnTo>
                    <a:lnTo>
                      <a:pt x="577" y="472"/>
                    </a:lnTo>
                    <a:lnTo>
                      <a:pt x="583" y="475"/>
                    </a:lnTo>
                    <a:lnTo>
                      <a:pt x="588" y="477"/>
                    </a:lnTo>
                    <a:lnTo>
                      <a:pt x="595" y="480"/>
                    </a:lnTo>
                    <a:lnTo>
                      <a:pt x="599" y="481"/>
                    </a:lnTo>
                    <a:lnTo>
                      <a:pt x="606" y="484"/>
                    </a:lnTo>
                    <a:lnTo>
                      <a:pt x="612" y="485"/>
                    </a:lnTo>
                    <a:lnTo>
                      <a:pt x="617" y="487"/>
                    </a:lnTo>
                    <a:lnTo>
                      <a:pt x="623" y="488"/>
                    </a:lnTo>
                    <a:lnTo>
                      <a:pt x="628" y="489"/>
                    </a:lnTo>
                    <a:lnTo>
                      <a:pt x="634" y="489"/>
                    </a:lnTo>
                    <a:lnTo>
                      <a:pt x="639" y="489"/>
                    </a:lnTo>
                    <a:lnTo>
                      <a:pt x="640" y="486"/>
                    </a:lnTo>
                    <a:lnTo>
                      <a:pt x="643" y="482"/>
                    </a:lnTo>
                    <a:lnTo>
                      <a:pt x="643" y="476"/>
                    </a:lnTo>
                    <a:lnTo>
                      <a:pt x="644" y="469"/>
                    </a:lnTo>
                    <a:lnTo>
                      <a:pt x="641" y="459"/>
                    </a:lnTo>
                    <a:lnTo>
                      <a:pt x="640" y="449"/>
                    </a:lnTo>
                    <a:lnTo>
                      <a:pt x="638" y="439"/>
                    </a:lnTo>
                    <a:lnTo>
                      <a:pt x="636" y="429"/>
                    </a:lnTo>
                    <a:lnTo>
                      <a:pt x="632" y="417"/>
                    </a:lnTo>
                    <a:lnTo>
                      <a:pt x="628" y="407"/>
                    </a:lnTo>
                    <a:lnTo>
                      <a:pt x="626" y="397"/>
                    </a:lnTo>
                    <a:lnTo>
                      <a:pt x="624" y="388"/>
                    </a:lnTo>
                    <a:lnTo>
                      <a:pt x="620" y="378"/>
                    </a:lnTo>
                    <a:lnTo>
                      <a:pt x="618" y="372"/>
                    </a:lnTo>
                    <a:lnTo>
                      <a:pt x="617" y="366"/>
                    </a:lnTo>
                    <a:lnTo>
                      <a:pt x="617" y="364"/>
                    </a:lnTo>
                    <a:lnTo>
                      <a:pt x="617" y="360"/>
                    </a:lnTo>
                    <a:lnTo>
                      <a:pt x="622" y="354"/>
                    </a:lnTo>
                    <a:lnTo>
                      <a:pt x="627" y="346"/>
                    </a:lnTo>
                    <a:lnTo>
                      <a:pt x="635" y="339"/>
                    </a:lnTo>
                    <a:lnTo>
                      <a:pt x="643" y="328"/>
                    </a:lnTo>
                    <a:lnTo>
                      <a:pt x="651" y="315"/>
                    </a:lnTo>
                    <a:lnTo>
                      <a:pt x="661" y="302"/>
                    </a:lnTo>
                    <a:lnTo>
                      <a:pt x="670" y="288"/>
                    </a:lnTo>
                    <a:lnTo>
                      <a:pt x="676" y="271"/>
                    </a:lnTo>
                    <a:lnTo>
                      <a:pt x="682" y="254"/>
                    </a:lnTo>
                    <a:lnTo>
                      <a:pt x="686" y="235"/>
                    </a:lnTo>
                    <a:lnTo>
                      <a:pt x="686" y="216"/>
                    </a:lnTo>
                    <a:lnTo>
                      <a:pt x="684" y="194"/>
                    </a:lnTo>
                    <a:lnTo>
                      <a:pt x="677" y="173"/>
                    </a:lnTo>
                    <a:lnTo>
                      <a:pt x="666" y="151"/>
                    </a:lnTo>
                    <a:lnTo>
                      <a:pt x="651" y="129"/>
                    </a:lnTo>
                    <a:lnTo>
                      <a:pt x="674" y="88"/>
                    </a:lnTo>
                    <a:lnTo>
                      <a:pt x="672" y="86"/>
                    </a:lnTo>
                    <a:lnTo>
                      <a:pt x="670" y="83"/>
                    </a:lnTo>
                    <a:lnTo>
                      <a:pt x="666" y="78"/>
                    </a:lnTo>
                    <a:lnTo>
                      <a:pt x="661" y="73"/>
                    </a:lnTo>
                    <a:lnTo>
                      <a:pt x="654" y="67"/>
                    </a:lnTo>
                    <a:lnTo>
                      <a:pt x="646" y="60"/>
                    </a:lnTo>
                    <a:lnTo>
                      <a:pt x="636" y="52"/>
                    </a:lnTo>
                    <a:lnTo>
                      <a:pt x="626" y="45"/>
                    </a:lnTo>
                    <a:lnTo>
                      <a:pt x="613" y="36"/>
                    </a:lnTo>
                    <a:lnTo>
                      <a:pt x="599" y="29"/>
                    </a:lnTo>
                    <a:lnTo>
                      <a:pt x="584" y="21"/>
                    </a:lnTo>
                    <a:lnTo>
                      <a:pt x="570" y="16"/>
                    </a:lnTo>
                    <a:lnTo>
                      <a:pt x="551" y="9"/>
                    </a:lnTo>
                    <a:lnTo>
                      <a:pt x="533" y="6"/>
                    </a:lnTo>
                    <a:lnTo>
                      <a:pt x="513" y="3"/>
                    </a:lnTo>
                    <a:lnTo>
                      <a:pt x="492" y="3"/>
                    </a:lnTo>
                    <a:lnTo>
                      <a:pt x="496" y="4"/>
                    </a:lnTo>
                    <a:lnTo>
                      <a:pt x="500" y="5"/>
                    </a:lnTo>
                    <a:lnTo>
                      <a:pt x="507" y="8"/>
                    </a:lnTo>
                    <a:lnTo>
                      <a:pt x="513" y="9"/>
                    </a:lnTo>
                    <a:lnTo>
                      <a:pt x="522" y="13"/>
                    </a:lnTo>
                    <a:lnTo>
                      <a:pt x="531" y="17"/>
                    </a:lnTo>
                    <a:lnTo>
                      <a:pt x="541" y="21"/>
                    </a:lnTo>
                    <a:lnTo>
                      <a:pt x="550" y="26"/>
                    </a:lnTo>
                    <a:lnTo>
                      <a:pt x="560" y="31"/>
                    </a:lnTo>
                    <a:lnTo>
                      <a:pt x="570" y="36"/>
                    </a:lnTo>
                    <a:lnTo>
                      <a:pt x="580" y="42"/>
                    </a:lnTo>
                    <a:lnTo>
                      <a:pt x="587" y="48"/>
                    </a:lnTo>
                    <a:lnTo>
                      <a:pt x="596" y="55"/>
                    </a:lnTo>
                    <a:lnTo>
                      <a:pt x="604" y="61"/>
                    </a:lnTo>
                    <a:lnTo>
                      <a:pt x="611" y="69"/>
                    </a:lnTo>
                    <a:lnTo>
                      <a:pt x="607" y="67"/>
                    </a:lnTo>
                    <a:lnTo>
                      <a:pt x="599" y="66"/>
                    </a:lnTo>
                    <a:lnTo>
                      <a:pt x="594" y="63"/>
                    </a:lnTo>
                    <a:lnTo>
                      <a:pt x="588" y="62"/>
                    </a:lnTo>
                    <a:lnTo>
                      <a:pt x="583" y="60"/>
                    </a:lnTo>
                    <a:lnTo>
                      <a:pt x="576" y="59"/>
                    </a:lnTo>
                    <a:lnTo>
                      <a:pt x="570" y="56"/>
                    </a:lnTo>
                    <a:lnTo>
                      <a:pt x="562" y="55"/>
                    </a:lnTo>
                    <a:lnTo>
                      <a:pt x="555" y="53"/>
                    </a:lnTo>
                    <a:lnTo>
                      <a:pt x="549" y="52"/>
                    </a:lnTo>
                    <a:lnTo>
                      <a:pt x="542" y="50"/>
                    </a:lnTo>
                    <a:lnTo>
                      <a:pt x="538" y="49"/>
                    </a:lnTo>
                    <a:lnTo>
                      <a:pt x="531" y="49"/>
                    </a:lnTo>
                    <a:lnTo>
                      <a:pt x="528" y="49"/>
                    </a:lnTo>
                    <a:lnTo>
                      <a:pt x="524" y="62"/>
                    </a:lnTo>
                    <a:lnTo>
                      <a:pt x="527" y="62"/>
                    </a:lnTo>
                    <a:lnTo>
                      <a:pt x="536" y="63"/>
                    </a:lnTo>
                    <a:lnTo>
                      <a:pt x="542" y="63"/>
                    </a:lnTo>
                    <a:lnTo>
                      <a:pt x="549" y="65"/>
                    </a:lnTo>
                    <a:lnTo>
                      <a:pt x="556" y="66"/>
                    </a:lnTo>
                    <a:lnTo>
                      <a:pt x="565" y="68"/>
                    </a:lnTo>
                    <a:lnTo>
                      <a:pt x="573" y="69"/>
                    </a:lnTo>
                    <a:lnTo>
                      <a:pt x="582" y="72"/>
                    </a:lnTo>
                    <a:lnTo>
                      <a:pt x="590" y="76"/>
                    </a:lnTo>
                    <a:lnTo>
                      <a:pt x="597" y="78"/>
                    </a:lnTo>
                    <a:lnTo>
                      <a:pt x="604" y="81"/>
                    </a:lnTo>
                    <a:lnTo>
                      <a:pt x="611" y="86"/>
                    </a:lnTo>
                    <a:lnTo>
                      <a:pt x="616" y="90"/>
                    </a:lnTo>
                    <a:lnTo>
                      <a:pt x="619" y="95"/>
                    </a:lnTo>
                    <a:lnTo>
                      <a:pt x="616" y="93"/>
                    </a:lnTo>
                    <a:lnTo>
                      <a:pt x="606" y="91"/>
                    </a:lnTo>
                    <a:lnTo>
                      <a:pt x="592" y="88"/>
                    </a:lnTo>
                    <a:lnTo>
                      <a:pt x="572" y="84"/>
                    </a:lnTo>
                    <a:lnTo>
                      <a:pt x="549" y="81"/>
                    </a:lnTo>
                    <a:lnTo>
                      <a:pt x="522" y="80"/>
                    </a:lnTo>
                    <a:lnTo>
                      <a:pt x="492" y="82"/>
                    </a:lnTo>
                    <a:lnTo>
                      <a:pt x="461" y="89"/>
                    </a:lnTo>
                    <a:lnTo>
                      <a:pt x="427" y="97"/>
                    </a:lnTo>
                    <a:lnTo>
                      <a:pt x="393" y="112"/>
                    </a:lnTo>
                    <a:lnTo>
                      <a:pt x="358" y="132"/>
                    </a:lnTo>
                    <a:lnTo>
                      <a:pt x="325" y="160"/>
                    </a:lnTo>
                    <a:lnTo>
                      <a:pt x="292" y="194"/>
                    </a:lnTo>
                    <a:lnTo>
                      <a:pt x="262" y="239"/>
                    </a:lnTo>
                    <a:lnTo>
                      <a:pt x="234" y="291"/>
                    </a:lnTo>
                    <a:lnTo>
                      <a:pt x="209" y="356"/>
                    </a:lnTo>
                    <a:lnTo>
                      <a:pt x="208" y="354"/>
                    </a:lnTo>
                    <a:lnTo>
                      <a:pt x="208" y="349"/>
                    </a:lnTo>
                    <a:lnTo>
                      <a:pt x="207" y="341"/>
                    </a:lnTo>
                    <a:lnTo>
                      <a:pt x="208" y="332"/>
                    </a:lnTo>
                    <a:lnTo>
                      <a:pt x="208" y="319"/>
                    </a:lnTo>
                    <a:lnTo>
                      <a:pt x="211" y="304"/>
                    </a:lnTo>
                    <a:lnTo>
                      <a:pt x="215" y="288"/>
                    </a:lnTo>
                    <a:lnTo>
                      <a:pt x="220" y="271"/>
                    </a:lnTo>
                    <a:lnTo>
                      <a:pt x="227" y="252"/>
                    </a:lnTo>
                    <a:lnTo>
                      <a:pt x="237" y="231"/>
                    </a:lnTo>
                    <a:lnTo>
                      <a:pt x="249" y="210"/>
                    </a:lnTo>
                    <a:lnTo>
                      <a:pt x="265" y="191"/>
                    </a:lnTo>
                    <a:lnTo>
                      <a:pt x="283" y="168"/>
                    </a:lnTo>
                    <a:lnTo>
                      <a:pt x="307" y="147"/>
                    </a:lnTo>
                    <a:lnTo>
                      <a:pt x="331" y="125"/>
                    </a:lnTo>
                    <a:lnTo>
                      <a:pt x="363" y="105"/>
                    </a:lnTo>
                    <a:lnTo>
                      <a:pt x="342" y="94"/>
                    </a:lnTo>
                    <a:lnTo>
                      <a:pt x="339" y="95"/>
                    </a:lnTo>
                    <a:lnTo>
                      <a:pt x="333" y="100"/>
                    </a:lnTo>
                    <a:lnTo>
                      <a:pt x="324" y="104"/>
                    </a:lnTo>
                    <a:lnTo>
                      <a:pt x="314" y="113"/>
                    </a:lnTo>
                    <a:lnTo>
                      <a:pt x="301" y="124"/>
                    </a:lnTo>
                    <a:lnTo>
                      <a:pt x="287" y="136"/>
                    </a:lnTo>
                    <a:lnTo>
                      <a:pt x="271" y="152"/>
                    </a:lnTo>
                    <a:lnTo>
                      <a:pt x="255" y="171"/>
                    </a:lnTo>
                    <a:lnTo>
                      <a:pt x="238" y="187"/>
                    </a:lnTo>
                    <a:lnTo>
                      <a:pt x="220" y="208"/>
                    </a:lnTo>
                    <a:lnTo>
                      <a:pt x="205" y="229"/>
                    </a:lnTo>
                    <a:lnTo>
                      <a:pt x="190" y="254"/>
                    </a:lnTo>
                    <a:lnTo>
                      <a:pt x="176" y="278"/>
                    </a:lnTo>
                    <a:lnTo>
                      <a:pt x="165" y="304"/>
                    </a:lnTo>
                    <a:lnTo>
                      <a:pt x="156" y="332"/>
                    </a:lnTo>
                    <a:lnTo>
                      <a:pt x="150" y="361"/>
                    </a:lnTo>
                    <a:lnTo>
                      <a:pt x="150" y="359"/>
                    </a:lnTo>
                    <a:lnTo>
                      <a:pt x="148" y="356"/>
                    </a:lnTo>
                    <a:lnTo>
                      <a:pt x="147" y="349"/>
                    </a:lnTo>
                    <a:lnTo>
                      <a:pt x="146" y="342"/>
                    </a:lnTo>
                    <a:lnTo>
                      <a:pt x="145" y="332"/>
                    </a:lnTo>
                    <a:lnTo>
                      <a:pt x="145" y="321"/>
                    </a:lnTo>
                    <a:lnTo>
                      <a:pt x="146" y="308"/>
                    </a:lnTo>
                    <a:lnTo>
                      <a:pt x="150" y="293"/>
                    </a:lnTo>
                    <a:lnTo>
                      <a:pt x="151" y="277"/>
                    </a:lnTo>
                    <a:lnTo>
                      <a:pt x="156" y="261"/>
                    </a:lnTo>
                    <a:lnTo>
                      <a:pt x="162" y="243"/>
                    </a:lnTo>
                    <a:lnTo>
                      <a:pt x="172" y="226"/>
                    </a:lnTo>
                    <a:lnTo>
                      <a:pt x="183" y="206"/>
                    </a:lnTo>
                    <a:lnTo>
                      <a:pt x="197" y="188"/>
                    </a:lnTo>
                    <a:lnTo>
                      <a:pt x="214" y="170"/>
                    </a:lnTo>
                    <a:lnTo>
                      <a:pt x="235" y="151"/>
                    </a:lnTo>
                    <a:lnTo>
                      <a:pt x="208" y="146"/>
                    </a:lnTo>
                    <a:lnTo>
                      <a:pt x="206" y="146"/>
                    </a:lnTo>
                    <a:lnTo>
                      <a:pt x="204" y="149"/>
                    </a:lnTo>
                    <a:lnTo>
                      <a:pt x="197" y="154"/>
                    </a:lnTo>
                    <a:lnTo>
                      <a:pt x="192" y="161"/>
                    </a:lnTo>
                    <a:lnTo>
                      <a:pt x="183" y="170"/>
                    </a:lnTo>
                    <a:lnTo>
                      <a:pt x="174" y="178"/>
                    </a:lnTo>
                    <a:lnTo>
                      <a:pt x="164" y="189"/>
                    </a:lnTo>
                    <a:lnTo>
                      <a:pt x="154" y="203"/>
                    </a:lnTo>
                    <a:lnTo>
                      <a:pt x="143" y="215"/>
                    </a:lnTo>
                    <a:lnTo>
                      <a:pt x="132" y="229"/>
                    </a:lnTo>
                    <a:lnTo>
                      <a:pt x="122" y="243"/>
                    </a:lnTo>
                    <a:lnTo>
                      <a:pt x="113" y="258"/>
                    </a:lnTo>
                    <a:lnTo>
                      <a:pt x="103" y="273"/>
                    </a:lnTo>
                    <a:lnTo>
                      <a:pt x="96" y="288"/>
                    </a:lnTo>
                    <a:lnTo>
                      <a:pt x="90" y="304"/>
                    </a:lnTo>
                    <a:lnTo>
                      <a:pt x="87" y="321"/>
                    </a:lnTo>
                    <a:lnTo>
                      <a:pt x="85" y="318"/>
                    </a:lnTo>
                    <a:lnTo>
                      <a:pt x="85" y="311"/>
                    </a:lnTo>
                    <a:lnTo>
                      <a:pt x="85" y="300"/>
                    </a:lnTo>
                    <a:lnTo>
                      <a:pt x="87" y="287"/>
                    </a:lnTo>
                    <a:lnTo>
                      <a:pt x="89" y="269"/>
                    </a:lnTo>
                    <a:lnTo>
                      <a:pt x="93" y="250"/>
                    </a:lnTo>
                    <a:lnTo>
                      <a:pt x="101" y="229"/>
                    </a:lnTo>
                    <a:lnTo>
                      <a:pt x="111" y="206"/>
                    </a:lnTo>
                    <a:lnTo>
                      <a:pt x="123" y="182"/>
                    </a:lnTo>
                    <a:lnTo>
                      <a:pt x="140" y="156"/>
                    </a:lnTo>
                    <a:lnTo>
                      <a:pt x="161" y="130"/>
                    </a:lnTo>
                    <a:lnTo>
                      <a:pt x="187" y="105"/>
                    </a:lnTo>
                    <a:lnTo>
                      <a:pt x="218" y="79"/>
                    </a:lnTo>
                    <a:lnTo>
                      <a:pt x="256" y="56"/>
                    </a:lnTo>
                    <a:lnTo>
                      <a:pt x="298" y="32"/>
                    </a:lnTo>
                    <a:lnTo>
                      <a:pt x="350" y="13"/>
                    </a:lnTo>
                    <a:lnTo>
                      <a:pt x="354" y="0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1648080" y="2332440"/>
                <a:ext cx="92160" cy="85320"/>
              </a:xfrm>
              <a:custGeom>
                <a:avLst/>
                <a:gdLst/>
                <a:ahLst/>
                <a:rect l="l" t="t" r="r" b="b"/>
                <a:pathLst>
                  <a:path w="172" h="160">
                    <a:moveTo>
                      <a:pt x="172" y="145"/>
                    </a:moveTo>
                    <a:lnTo>
                      <a:pt x="157" y="138"/>
                    </a:lnTo>
                    <a:lnTo>
                      <a:pt x="142" y="132"/>
                    </a:lnTo>
                    <a:lnTo>
                      <a:pt x="129" y="125"/>
                    </a:lnTo>
                    <a:lnTo>
                      <a:pt x="119" y="120"/>
                    </a:lnTo>
                    <a:lnTo>
                      <a:pt x="108" y="112"/>
                    </a:lnTo>
                    <a:lnTo>
                      <a:pt x="100" y="107"/>
                    </a:lnTo>
                    <a:lnTo>
                      <a:pt x="90" y="100"/>
                    </a:lnTo>
                    <a:lnTo>
                      <a:pt x="84" y="94"/>
                    </a:lnTo>
                    <a:lnTo>
                      <a:pt x="76" y="88"/>
                    </a:lnTo>
                    <a:lnTo>
                      <a:pt x="69" y="80"/>
                    </a:lnTo>
                    <a:lnTo>
                      <a:pt x="63" y="73"/>
                    </a:lnTo>
                    <a:lnTo>
                      <a:pt x="56" y="67"/>
                    </a:lnTo>
                    <a:lnTo>
                      <a:pt x="50" y="60"/>
                    </a:lnTo>
                    <a:lnTo>
                      <a:pt x="43" y="54"/>
                    </a:lnTo>
                    <a:lnTo>
                      <a:pt x="36" y="48"/>
                    </a:lnTo>
                    <a:lnTo>
                      <a:pt x="30" y="43"/>
                    </a:lnTo>
                    <a:lnTo>
                      <a:pt x="30" y="40"/>
                    </a:lnTo>
                    <a:lnTo>
                      <a:pt x="32" y="36"/>
                    </a:lnTo>
                    <a:lnTo>
                      <a:pt x="34" y="33"/>
                    </a:lnTo>
                    <a:lnTo>
                      <a:pt x="39" y="30"/>
                    </a:lnTo>
                    <a:lnTo>
                      <a:pt x="42" y="27"/>
                    </a:lnTo>
                    <a:lnTo>
                      <a:pt x="48" y="25"/>
                    </a:lnTo>
                    <a:lnTo>
                      <a:pt x="54" y="22"/>
                    </a:lnTo>
                    <a:lnTo>
                      <a:pt x="63" y="20"/>
                    </a:lnTo>
                    <a:lnTo>
                      <a:pt x="72" y="19"/>
                    </a:lnTo>
                    <a:lnTo>
                      <a:pt x="83" y="19"/>
                    </a:lnTo>
                    <a:lnTo>
                      <a:pt x="94" y="19"/>
                    </a:lnTo>
                    <a:lnTo>
                      <a:pt x="109" y="22"/>
                    </a:lnTo>
                    <a:lnTo>
                      <a:pt x="125" y="25"/>
                    </a:lnTo>
                    <a:lnTo>
                      <a:pt x="145" y="30"/>
                    </a:lnTo>
                    <a:lnTo>
                      <a:pt x="162" y="15"/>
                    </a:lnTo>
                    <a:lnTo>
                      <a:pt x="160" y="14"/>
                    </a:lnTo>
                    <a:lnTo>
                      <a:pt x="158" y="13"/>
                    </a:lnTo>
                    <a:lnTo>
                      <a:pt x="155" y="10"/>
                    </a:lnTo>
                    <a:lnTo>
                      <a:pt x="149" y="9"/>
                    </a:lnTo>
                    <a:lnTo>
                      <a:pt x="142" y="7"/>
                    </a:lnTo>
                    <a:lnTo>
                      <a:pt x="134" y="5"/>
                    </a:lnTo>
                    <a:lnTo>
                      <a:pt x="124" y="3"/>
                    </a:lnTo>
                    <a:lnTo>
                      <a:pt x="115" y="3"/>
                    </a:lnTo>
                    <a:lnTo>
                      <a:pt x="103" y="0"/>
                    </a:lnTo>
                    <a:lnTo>
                      <a:pt x="90" y="0"/>
                    </a:lnTo>
                    <a:lnTo>
                      <a:pt x="77" y="2"/>
                    </a:lnTo>
                    <a:lnTo>
                      <a:pt x="64" y="5"/>
                    </a:lnTo>
                    <a:lnTo>
                      <a:pt x="47" y="7"/>
                    </a:lnTo>
                    <a:lnTo>
                      <a:pt x="32" y="12"/>
                    </a:lnTo>
                    <a:lnTo>
                      <a:pt x="16" y="18"/>
                    </a:lnTo>
                    <a:lnTo>
                      <a:pt x="0" y="28"/>
                    </a:lnTo>
                    <a:lnTo>
                      <a:pt x="1" y="31"/>
                    </a:lnTo>
                    <a:lnTo>
                      <a:pt x="3" y="35"/>
                    </a:lnTo>
                    <a:lnTo>
                      <a:pt x="8" y="41"/>
                    </a:lnTo>
                    <a:lnTo>
                      <a:pt x="10" y="47"/>
                    </a:lnTo>
                    <a:lnTo>
                      <a:pt x="16" y="55"/>
                    </a:lnTo>
                    <a:lnTo>
                      <a:pt x="22" y="65"/>
                    </a:lnTo>
                    <a:lnTo>
                      <a:pt x="31" y="76"/>
                    </a:lnTo>
                    <a:lnTo>
                      <a:pt x="40" y="85"/>
                    </a:lnTo>
                    <a:lnTo>
                      <a:pt x="51" y="96"/>
                    </a:lnTo>
                    <a:lnTo>
                      <a:pt x="62" y="107"/>
                    </a:lnTo>
                    <a:lnTo>
                      <a:pt x="76" y="119"/>
                    </a:lnTo>
                    <a:lnTo>
                      <a:pt x="89" y="129"/>
                    </a:lnTo>
                    <a:lnTo>
                      <a:pt x="106" y="140"/>
                    </a:lnTo>
                    <a:lnTo>
                      <a:pt x="123" y="150"/>
                    </a:lnTo>
                    <a:lnTo>
                      <a:pt x="142" y="160"/>
                    </a:lnTo>
                    <a:lnTo>
                      <a:pt x="172" y="145"/>
                    </a:lnTo>
                    <a:lnTo>
                      <a:pt x="172" y="145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1594080" y="2305800"/>
                <a:ext cx="79560" cy="41400"/>
              </a:xfrm>
              <a:custGeom>
                <a:avLst/>
                <a:gdLst/>
                <a:ahLst/>
                <a:rect l="l" t="t" r="r" b="b"/>
                <a:pathLst>
                  <a:path w="150" h="77">
                    <a:moveTo>
                      <a:pt x="0" y="16"/>
                    </a:moveTo>
                    <a:lnTo>
                      <a:pt x="3" y="16"/>
                    </a:lnTo>
                    <a:lnTo>
                      <a:pt x="8" y="16"/>
                    </a:lnTo>
                    <a:lnTo>
                      <a:pt x="15" y="16"/>
                    </a:lnTo>
                    <a:lnTo>
                      <a:pt x="23" y="16"/>
                    </a:lnTo>
                    <a:lnTo>
                      <a:pt x="33" y="17"/>
                    </a:lnTo>
                    <a:lnTo>
                      <a:pt x="42" y="19"/>
                    </a:lnTo>
                    <a:lnTo>
                      <a:pt x="54" y="22"/>
                    </a:lnTo>
                    <a:lnTo>
                      <a:pt x="65" y="23"/>
                    </a:lnTo>
                    <a:lnTo>
                      <a:pt x="76" y="27"/>
                    </a:lnTo>
                    <a:lnTo>
                      <a:pt x="87" y="33"/>
                    </a:lnTo>
                    <a:lnTo>
                      <a:pt x="99" y="38"/>
                    </a:lnTo>
                    <a:lnTo>
                      <a:pt x="109" y="45"/>
                    </a:lnTo>
                    <a:lnTo>
                      <a:pt x="119" y="55"/>
                    </a:lnTo>
                    <a:lnTo>
                      <a:pt x="128" y="64"/>
                    </a:lnTo>
                    <a:lnTo>
                      <a:pt x="137" y="77"/>
                    </a:lnTo>
                    <a:lnTo>
                      <a:pt x="150" y="57"/>
                    </a:lnTo>
                    <a:lnTo>
                      <a:pt x="148" y="53"/>
                    </a:lnTo>
                    <a:lnTo>
                      <a:pt x="140" y="45"/>
                    </a:lnTo>
                    <a:lnTo>
                      <a:pt x="134" y="40"/>
                    </a:lnTo>
                    <a:lnTo>
                      <a:pt x="128" y="34"/>
                    </a:lnTo>
                    <a:lnTo>
                      <a:pt x="121" y="30"/>
                    </a:lnTo>
                    <a:lnTo>
                      <a:pt x="113" y="24"/>
                    </a:lnTo>
                    <a:lnTo>
                      <a:pt x="102" y="19"/>
                    </a:lnTo>
                    <a:lnTo>
                      <a:pt x="91" y="13"/>
                    </a:lnTo>
                    <a:lnTo>
                      <a:pt x="79" y="9"/>
                    </a:lnTo>
                    <a:lnTo>
                      <a:pt x="66" y="4"/>
                    </a:lnTo>
                    <a:lnTo>
                      <a:pt x="50" y="1"/>
                    </a:lnTo>
                    <a:lnTo>
                      <a:pt x="35" y="0"/>
                    </a:lnTo>
                    <a:lnTo>
                      <a:pt x="18" y="0"/>
                    </a:lnTo>
                    <a:lnTo>
                      <a:pt x="1" y="2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1569960" y="2422080"/>
                <a:ext cx="491400" cy="400320"/>
              </a:xfrm>
              <a:custGeom>
                <a:avLst/>
                <a:gdLst/>
                <a:ahLst/>
                <a:rect l="l" t="t" r="r" b="b"/>
                <a:pathLst>
                  <a:path w="925" h="750">
                    <a:moveTo>
                      <a:pt x="783" y="423"/>
                    </a:moveTo>
                    <a:lnTo>
                      <a:pt x="691" y="458"/>
                    </a:lnTo>
                    <a:lnTo>
                      <a:pt x="606" y="421"/>
                    </a:lnTo>
                    <a:lnTo>
                      <a:pt x="607" y="418"/>
                    </a:lnTo>
                    <a:lnTo>
                      <a:pt x="613" y="416"/>
                    </a:lnTo>
                    <a:lnTo>
                      <a:pt x="621" y="411"/>
                    </a:lnTo>
                    <a:lnTo>
                      <a:pt x="632" y="405"/>
                    </a:lnTo>
                    <a:lnTo>
                      <a:pt x="643" y="396"/>
                    </a:lnTo>
                    <a:lnTo>
                      <a:pt x="659" y="387"/>
                    </a:lnTo>
                    <a:lnTo>
                      <a:pt x="672" y="376"/>
                    </a:lnTo>
                    <a:lnTo>
                      <a:pt x="689" y="365"/>
                    </a:lnTo>
                    <a:lnTo>
                      <a:pt x="703" y="351"/>
                    </a:lnTo>
                    <a:lnTo>
                      <a:pt x="717" y="338"/>
                    </a:lnTo>
                    <a:lnTo>
                      <a:pt x="730" y="321"/>
                    </a:lnTo>
                    <a:lnTo>
                      <a:pt x="741" y="304"/>
                    </a:lnTo>
                    <a:lnTo>
                      <a:pt x="751" y="286"/>
                    </a:lnTo>
                    <a:lnTo>
                      <a:pt x="756" y="267"/>
                    </a:lnTo>
                    <a:lnTo>
                      <a:pt x="758" y="247"/>
                    </a:lnTo>
                    <a:lnTo>
                      <a:pt x="757" y="226"/>
                    </a:lnTo>
                    <a:lnTo>
                      <a:pt x="726" y="235"/>
                    </a:lnTo>
                    <a:lnTo>
                      <a:pt x="727" y="238"/>
                    </a:lnTo>
                    <a:lnTo>
                      <a:pt x="727" y="244"/>
                    </a:lnTo>
                    <a:lnTo>
                      <a:pt x="728" y="251"/>
                    </a:lnTo>
                    <a:lnTo>
                      <a:pt x="727" y="259"/>
                    </a:lnTo>
                    <a:lnTo>
                      <a:pt x="726" y="270"/>
                    </a:lnTo>
                    <a:lnTo>
                      <a:pt x="722" y="281"/>
                    </a:lnTo>
                    <a:lnTo>
                      <a:pt x="718" y="296"/>
                    </a:lnTo>
                    <a:lnTo>
                      <a:pt x="711" y="308"/>
                    </a:lnTo>
                    <a:lnTo>
                      <a:pt x="702" y="323"/>
                    </a:lnTo>
                    <a:lnTo>
                      <a:pt x="689" y="338"/>
                    </a:lnTo>
                    <a:lnTo>
                      <a:pt x="673" y="352"/>
                    </a:lnTo>
                    <a:lnTo>
                      <a:pt x="653" y="366"/>
                    </a:lnTo>
                    <a:lnTo>
                      <a:pt x="630" y="381"/>
                    </a:lnTo>
                    <a:lnTo>
                      <a:pt x="601" y="394"/>
                    </a:lnTo>
                    <a:lnTo>
                      <a:pt x="569" y="408"/>
                    </a:lnTo>
                    <a:lnTo>
                      <a:pt x="535" y="400"/>
                    </a:lnTo>
                    <a:lnTo>
                      <a:pt x="627" y="308"/>
                    </a:lnTo>
                    <a:lnTo>
                      <a:pt x="612" y="292"/>
                    </a:lnTo>
                    <a:lnTo>
                      <a:pt x="609" y="293"/>
                    </a:lnTo>
                    <a:lnTo>
                      <a:pt x="604" y="298"/>
                    </a:lnTo>
                    <a:lnTo>
                      <a:pt x="596" y="306"/>
                    </a:lnTo>
                    <a:lnTo>
                      <a:pt x="585" y="317"/>
                    </a:lnTo>
                    <a:lnTo>
                      <a:pt x="570" y="328"/>
                    </a:lnTo>
                    <a:lnTo>
                      <a:pt x="553" y="342"/>
                    </a:lnTo>
                    <a:lnTo>
                      <a:pt x="533" y="358"/>
                    </a:lnTo>
                    <a:lnTo>
                      <a:pt x="512" y="373"/>
                    </a:lnTo>
                    <a:lnTo>
                      <a:pt x="486" y="387"/>
                    </a:lnTo>
                    <a:lnTo>
                      <a:pt x="460" y="403"/>
                    </a:lnTo>
                    <a:lnTo>
                      <a:pt x="431" y="416"/>
                    </a:lnTo>
                    <a:lnTo>
                      <a:pt x="401" y="429"/>
                    </a:lnTo>
                    <a:lnTo>
                      <a:pt x="369" y="439"/>
                    </a:lnTo>
                    <a:lnTo>
                      <a:pt x="336" y="447"/>
                    </a:lnTo>
                    <a:lnTo>
                      <a:pt x="302" y="453"/>
                    </a:lnTo>
                    <a:lnTo>
                      <a:pt x="266" y="455"/>
                    </a:lnTo>
                    <a:lnTo>
                      <a:pt x="96" y="318"/>
                    </a:lnTo>
                    <a:lnTo>
                      <a:pt x="98" y="316"/>
                    </a:lnTo>
                    <a:lnTo>
                      <a:pt x="105" y="312"/>
                    </a:lnTo>
                    <a:lnTo>
                      <a:pt x="115" y="306"/>
                    </a:lnTo>
                    <a:lnTo>
                      <a:pt x="129" y="298"/>
                    </a:lnTo>
                    <a:lnTo>
                      <a:pt x="146" y="286"/>
                    </a:lnTo>
                    <a:lnTo>
                      <a:pt x="164" y="274"/>
                    </a:lnTo>
                    <a:lnTo>
                      <a:pt x="182" y="258"/>
                    </a:lnTo>
                    <a:lnTo>
                      <a:pt x="203" y="243"/>
                    </a:lnTo>
                    <a:lnTo>
                      <a:pt x="220" y="223"/>
                    </a:lnTo>
                    <a:lnTo>
                      <a:pt x="238" y="201"/>
                    </a:lnTo>
                    <a:lnTo>
                      <a:pt x="253" y="177"/>
                    </a:lnTo>
                    <a:lnTo>
                      <a:pt x="267" y="153"/>
                    </a:lnTo>
                    <a:lnTo>
                      <a:pt x="276" y="126"/>
                    </a:lnTo>
                    <a:lnTo>
                      <a:pt x="283" y="98"/>
                    </a:lnTo>
                    <a:lnTo>
                      <a:pt x="284" y="68"/>
                    </a:lnTo>
                    <a:lnTo>
                      <a:pt x="280" y="37"/>
                    </a:lnTo>
                    <a:lnTo>
                      <a:pt x="381" y="32"/>
                    </a:lnTo>
                    <a:lnTo>
                      <a:pt x="379" y="29"/>
                    </a:lnTo>
                    <a:lnTo>
                      <a:pt x="375" y="24"/>
                    </a:lnTo>
                    <a:lnTo>
                      <a:pt x="369" y="19"/>
                    </a:lnTo>
                    <a:lnTo>
                      <a:pt x="365" y="16"/>
                    </a:lnTo>
                    <a:lnTo>
                      <a:pt x="358" y="13"/>
                    </a:lnTo>
                    <a:lnTo>
                      <a:pt x="353" y="9"/>
                    </a:lnTo>
                    <a:lnTo>
                      <a:pt x="342" y="5"/>
                    </a:lnTo>
                    <a:lnTo>
                      <a:pt x="332" y="3"/>
                    </a:lnTo>
                    <a:lnTo>
                      <a:pt x="319" y="0"/>
                    </a:lnTo>
                    <a:lnTo>
                      <a:pt x="307" y="0"/>
                    </a:lnTo>
                    <a:lnTo>
                      <a:pt x="292" y="0"/>
                    </a:lnTo>
                    <a:lnTo>
                      <a:pt x="275" y="3"/>
                    </a:lnTo>
                    <a:lnTo>
                      <a:pt x="258" y="6"/>
                    </a:lnTo>
                    <a:lnTo>
                      <a:pt x="238" y="14"/>
                    </a:lnTo>
                    <a:lnTo>
                      <a:pt x="215" y="19"/>
                    </a:lnTo>
                    <a:lnTo>
                      <a:pt x="197" y="26"/>
                    </a:lnTo>
                    <a:lnTo>
                      <a:pt x="179" y="32"/>
                    </a:lnTo>
                    <a:lnTo>
                      <a:pt x="162" y="39"/>
                    </a:lnTo>
                    <a:lnTo>
                      <a:pt x="147" y="47"/>
                    </a:lnTo>
                    <a:lnTo>
                      <a:pt x="134" y="54"/>
                    </a:lnTo>
                    <a:lnTo>
                      <a:pt x="122" y="60"/>
                    </a:lnTo>
                    <a:lnTo>
                      <a:pt x="112" y="68"/>
                    </a:lnTo>
                    <a:lnTo>
                      <a:pt x="101" y="72"/>
                    </a:lnTo>
                    <a:lnTo>
                      <a:pt x="92" y="79"/>
                    </a:lnTo>
                    <a:lnTo>
                      <a:pt x="85" y="84"/>
                    </a:lnTo>
                    <a:lnTo>
                      <a:pt x="80" y="89"/>
                    </a:lnTo>
                    <a:lnTo>
                      <a:pt x="72" y="96"/>
                    </a:lnTo>
                    <a:lnTo>
                      <a:pt x="70" y="98"/>
                    </a:lnTo>
                    <a:lnTo>
                      <a:pt x="67" y="98"/>
                    </a:lnTo>
                    <a:lnTo>
                      <a:pt x="65" y="102"/>
                    </a:lnTo>
                    <a:lnTo>
                      <a:pt x="59" y="107"/>
                    </a:lnTo>
                    <a:lnTo>
                      <a:pt x="54" y="117"/>
                    </a:lnTo>
                    <a:lnTo>
                      <a:pt x="45" y="125"/>
                    </a:lnTo>
                    <a:lnTo>
                      <a:pt x="39" y="139"/>
                    </a:lnTo>
                    <a:lnTo>
                      <a:pt x="31" y="153"/>
                    </a:lnTo>
                    <a:lnTo>
                      <a:pt x="23" y="170"/>
                    </a:lnTo>
                    <a:lnTo>
                      <a:pt x="15" y="187"/>
                    </a:lnTo>
                    <a:lnTo>
                      <a:pt x="10" y="208"/>
                    </a:lnTo>
                    <a:lnTo>
                      <a:pt x="4" y="230"/>
                    </a:lnTo>
                    <a:lnTo>
                      <a:pt x="2" y="256"/>
                    </a:lnTo>
                    <a:lnTo>
                      <a:pt x="0" y="280"/>
                    </a:lnTo>
                    <a:lnTo>
                      <a:pt x="2" y="309"/>
                    </a:lnTo>
                    <a:lnTo>
                      <a:pt x="7" y="339"/>
                    </a:lnTo>
                    <a:lnTo>
                      <a:pt x="14" y="370"/>
                    </a:lnTo>
                    <a:lnTo>
                      <a:pt x="15" y="373"/>
                    </a:lnTo>
                    <a:lnTo>
                      <a:pt x="18" y="377"/>
                    </a:lnTo>
                    <a:lnTo>
                      <a:pt x="21" y="385"/>
                    </a:lnTo>
                    <a:lnTo>
                      <a:pt x="23" y="393"/>
                    </a:lnTo>
                    <a:lnTo>
                      <a:pt x="30" y="402"/>
                    </a:lnTo>
                    <a:lnTo>
                      <a:pt x="34" y="412"/>
                    </a:lnTo>
                    <a:lnTo>
                      <a:pt x="43" y="424"/>
                    </a:lnTo>
                    <a:lnTo>
                      <a:pt x="49" y="435"/>
                    </a:lnTo>
                    <a:lnTo>
                      <a:pt x="57" y="447"/>
                    </a:lnTo>
                    <a:lnTo>
                      <a:pt x="66" y="459"/>
                    </a:lnTo>
                    <a:lnTo>
                      <a:pt x="77" y="473"/>
                    </a:lnTo>
                    <a:lnTo>
                      <a:pt x="87" y="484"/>
                    </a:lnTo>
                    <a:lnTo>
                      <a:pt x="99" y="495"/>
                    </a:lnTo>
                    <a:lnTo>
                      <a:pt x="112" y="505"/>
                    </a:lnTo>
                    <a:lnTo>
                      <a:pt x="126" y="515"/>
                    </a:lnTo>
                    <a:lnTo>
                      <a:pt x="321" y="596"/>
                    </a:lnTo>
                    <a:lnTo>
                      <a:pt x="322" y="599"/>
                    </a:lnTo>
                    <a:lnTo>
                      <a:pt x="326" y="606"/>
                    </a:lnTo>
                    <a:lnTo>
                      <a:pt x="328" y="612"/>
                    </a:lnTo>
                    <a:lnTo>
                      <a:pt x="330" y="617"/>
                    </a:lnTo>
                    <a:lnTo>
                      <a:pt x="335" y="624"/>
                    </a:lnTo>
                    <a:lnTo>
                      <a:pt x="340" y="631"/>
                    </a:lnTo>
                    <a:lnTo>
                      <a:pt x="344" y="637"/>
                    </a:lnTo>
                    <a:lnTo>
                      <a:pt x="350" y="644"/>
                    </a:lnTo>
                    <a:lnTo>
                      <a:pt x="356" y="651"/>
                    </a:lnTo>
                    <a:lnTo>
                      <a:pt x="363" y="656"/>
                    </a:lnTo>
                    <a:lnTo>
                      <a:pt x="368" y="660"/>
                    </a:lnTo>
                    <a:lnTo>
                      <a:pt x="375" y="664"/>
                    </a:lnTo>
                    <a:lnTo>
                      <a:pt x="381" y="667"/>
                    </a:lnTo>
                    <a:lnTo>
                      <a:pt x="389" y="670"/>
                    </a:lnTo>
                    <a:lnTo>
                      <a:pt x="390" y="673"/>
                    </a:lnTo>
                    <a:lnTo>
                      <a:pt x="396" y="681"/>
                    </a:lnTo>
                    <a:lnTo>
                      <a:pt x="398" y="687"/>
                    </a:lnTo>
                    <a:lnTo>
                      <a:pt x="402" y="694"/>
                    </a:lnTo>
                    <a:lnTo>
                      <a:pt x="407" y="700"/>
                    </a:lnTo>
                    <a:lnTo>
                      <a:pt x="412" y="709"/>
                    </a:lnTo>
                    <a:lnTo>
                      <a:pt x="417" y="715"/>
                    </a:lnTo>
                    <a:lnTo>
                      <a:pt x="421" y="721"/>
                    </a:lnTo>
                    <a:lnTo>
                      <a:pt x="427" y="728"/>
                    </a:lnTo>
                    <a:lnTo>
                      <a:pt x="432" y="735"/>
                    </a:lnTo>
                    <a:lnTo>
                      <a:pt x="437" y="740"/>
                    </a:lnTo>
                    <a:lnTo>
                      <a:pt x="442" y="744"/>
                    </a:lnTo>
                    <a:lnTo>
                      <a:pt x="445" y="747"/>
                    </a:lnTo>
                    <a:lnTo>
                      <a:pt x="451" y="750"/>
                    </a:lnTo>
                    <a:lnTo>
                      <a:pt x="456" y="750"/>
                    </a:lnTo>
                    <a:lnTo>
                      <a:pt x="463" y="750"/>
                    </a:lnTo>
                    <a:lnTo>
                      <a:pt x="468" y="749"/>
                    </a:lnTo>
                    <a:lnTo>
                      <a:pt x="471" y="747"/>
                    </a:lnTo>
                    <a:lnTo>
                      <a:pt x="473" y="743"/>
                    </a:lnTo>
                    <a:lnTo>
                      <a:pt x="474" y="738"/>
                    </a:lnTo>
                    <a:lnTo>
                      <a:pt x="473" y="731"/>
                    </a:lnTo>
                    <a:lnTo>
                      <a:pt x="471" y="723"/>
                    </a:lnTo>
                    <a:lnTo>
                      <a:pt x="469" y="718"/>
                    </a:lnTo>
                    <a:lnTo>
                      <a:pt x="468" y="712"/>
                    </a:lnTo>
                    <a:lnTo>
                      <a:pt x="465" y="707"/>
                    </a:lnTo>
                    <a:lnTo>
                      <a:pt x="463" y="701"/>
                    </a:lnTo>
                    <a:lnTo>
                      <a:pt x="460" y="695"/>
                    </a:lnTo>
                    <a:lnTo>
                      <a:pt x="458" y="688"/>
                    </a:lnTo>
                    <a:lnTo>
                      <a:pt x="455" y="683"/>
                    </a:lnTo>
                    <a:lnTo>
                      <a:pt x="454" y="676"/>
                    </a:lnTo>
                    <a:lnTo>
                      <a:pt x="451" y="670"/>
                    </a:lnTo>
                    <a:lnTo>
                      <a:pt x="449" y="664"/>
                    </a:lnTo>
                    <a:lnTo>
                      <a:pt x="447" y="659"/>
                    </a:lnTo>
                    <a:lnTo>
                      <a:pt x="445" y="656"/>
                    </a:lnTo>
                    <a:lnTo>
                      <a:pt x="443" y="651"/>
                    </a:lnTo>
                    <a:lnTo>
                      <a:pt x="443" y="648"/>
                    </a:lnTo>
                    <a:lnTo>
                      <a:pt x="443" y="646"/>
                    </a:lnTo>
                    <a:lnTo>
                      <a:pt x="444" y="645"/>
                    </a:lnTo>
                    <a:lnTo>
                      <a:pt x="447" y="643"/>
                    </a:lnTo>
                    <a:lnTo>
                      <a:pt x="453" y="645"/>
                    </a:lnTo>
                    <a:lnTo>
                      <a:pt x="454" y="645"/>
                    </a:lnTo>
                    <a:lnTo>
                      <a:pt x="456" y="649"/>
                    </a:lnTo>
                    <a:lnTo>
                      <a:pt x="460" y="653"/>
                    </a:lnTo>
                    <a:lnTo>
                      <a:pt x="464" y="660"/>
                    </a:lnTo>
                    <a:lnTo>
                      <a:pt x="468" y="666"/>
                    </a:lnTo>
                    <a:lnTo>
                      <a:pt x="472" y="674"/>
                    </a:lnTo>
                    <a:lnTo>
                      <a:pt x="479" y="683"/>
                    </a:lnTo>
                    <a:lnTo>
                      <a:pt x="484" y="691"/>
                    </a:lnTo>
                    <a:lnTo>
                      <a:pt x="490" y="698"/>
                    </a:lnTo>
                    <a:lnTo>
                      <a:pt x="495" y="707"/>
                    </a:lnTo>
                    <a:lnTo>
                      <a:pt x="501" y="712"/>
                    </a:lnTo>
                    <a:lnTo>
                      <a:pt x="508" y="720"/>
                    </a:lnTo>
                    <a:lnTo>
                      <a:pt x="514" y="723"/>
                    </a:lnTo>
                    <a:lnTo>
                      <a:pt x="522" y="727"/>
                    </a:lnTo>
                    <a:lnTo>
                      <a:pt x="527" y="729"/>
                    </a:lnTo>
                    <a:lnTo>
                      <a:pt x="535" y="729"/>
                    </a:lnTo>
                    <a:lnTo>
                      <a:pt x="538" y="725"/>
                    </a:lnTo>
                    <a:lnTo>
                      <a:pt x="542" y="720"/>
                    </a:lnTo>
                    <a:lnTo>
                      <a:pt x="543" y="712"/>
                    </a:lnTo>
                    <a:lnTo>
                      <a:pt x="544" y="706"/>
                    </a:lnTo>
                    <a:lnTo>
                      <a:pt x="542" y="697"/>
                    </a:lnTo>
                    <a:lnTo>
                      <a:pt x="541" y="688"/>
                    </a:lnTo>
                    <a:lnTo>
                      <a:pt x="537" y="679"/>
                    </a:lnTo>
                    <a:lnTo>
                      <a:pt x="535" y="672"/>
                    </a:lnTo>
                    <a:lnTo>
                      <a:pt x="531" y="663"/>
                    </a:lnTo>
                    <a:lnTo>
                      <a:pt x="526" y="653"/>
                    </a:lnTo>
                    <a:lnTo>
                      <a:pt x="523" y="645"/>
                    </a:lnTo>
                    <a:lnTo>
                      <a:pt x="520" y="639"/>
                    </a:lnTo>
                    <a:lnTo>
                      <a:pt x="516" y="632"/>
                    </a:lnTo>
                    <a:lnTo>
                      <a:pt x="514" y="628"/>
                    </a:lnTo>
                    <a:lnTo>
                      <a:pt x="513" y="625"/>
                    </a:lnTo>
                    <a:lnTo>
                      <a:pt x="514" y="625"/>
                    </a:lnTo>
                    <a:lnTo>
                      <a:pt x="520" y="630"/>
                    </a:lnTo>
                    <a:lnTo>
                      <a:pt x="527" y="633"/>
                    </a:lnTo>
                    <a:lnTo>
                      <a:pt x="537" y="639"/>
                    </a:lnTo>
                    <a:lnTo>
                      <a:pt x="546" y="645"/>
                    </a:lnTo>
                    <a:lnTo>
                      <a:pt x="556" y="652"/>
                    </a:lnTo>
                    <a:lnTo>
                      <a:pt x="564" y="657"/>
                    </a:lnTo>
                    <a:lnTo>
                      <a:pt x="569" y="663"/>
                    </a:lnTo>
                    <a:lnTo>
                      <a:pt x="571" y="666"/>
                    </a:lnTo>
                    <a:lnTo>
                      <a:pt x="578" y="670"/>
                    </a:lnTo>
                    <a:lnTo>
                      <a:pt x="585" y="674"/>
                    </a:lnTo>
                    <a:lnTo>
                      <a:pt x="592" y="676"/>
                    </a:lnTo>
                    <a:lnTo>
                      <a:pt x="600" y="677"/>
                    </a:lnTo>
                    <a:lnTo>
                      <a:pt x="607" y="678"/>
                    </a:lnTo>
                    <a:lnTo>
                      <a:pt x="612" y="677"/>
                    </a:lnTo>
                    <a:lnTo>
                      <a:pt x="617" y="676"/>
                    </a:lnTo>
                    <a:lnTo>
                      <a:pt x="617" y="674"/>
                    </a:lnTo>
                    <a:lnTo>
                      <a:pt x="617" y="669"/>
                    </a:lnTo>
                    <a:lnTo>
                      <a:pt x="615" y="663"/>
                    </a:lnTo>
                    <a:lnTo>
                      <a:pt x="612" y="658"/>
                    </a:lnTo>
                    <a:lnTo>
                      <a:pt x="607" y="649"/>
                    </a:lnTo>
                    <a:lnTo>
                      <a:pt x="604" y="641"/>
                    </a:lnTo>
                    <a:lnTo>
                      <a:pt x="597" y="631"/>
                    </a:lnTo>
                    <a:lnTo>
                      <a:pt x="592" y="622"/>
                    </a:lnTo>
                    <a:lnTo>
                      <a:pt x="585" y="611"/>
                    </a:lnTo>
                    <a:lnTo>
                      <a:pt x="578" y="602"/>
                    </a:lnTo>
                    <a:lnTo>
                      <a:pt x="570" y="592"/>
                    </a:lnTo>
                    <a:lnTo>
                      <a:pt x="564" y="582"/>
                    </a:lnTo>
                    <a:lnTo>
                      <a:pt x="557" y="573"/>
                    </a:lnTo>
                    <a:lnTo>
                      <a:pt x="550" y="566"/>
                    </a:lnTo>
                    <a:lnTo>
                      <a:pt x="545" y="560"/>
                    </a:lnTo>
                    <a:lnTo>
                      <a:pt x="539" y="557"/>
                    </a:lnTo>
                    <a:lnTo>
                      <a:pt x="534" y="551"/>
                    </a:lnTo>
                    <a:lnTo>
                      <a:pt x="527" y="549"/>
                    </a:lnTo>
                    <a:lnTo>
                      <a:pt x="523" y="547"/>
                    </a:lnTo>
                    <a:lnTo>
                      <a:pt x="518" y="547"/>
                    </a:lnTo>
                    <a:lnTo>
                      <a:pt x="511" y="547"/>
                    </a:lnTo>
                    <a:lnTo>
                      <a:pt x="505" y="551"/>
                    </a:lnTo>
                    <a:lnTo>
                      <a:pt x="501" y="555"/>
                    </a:lnTo>
                    <a:lnTo>
                      <a:pt x="497" y="560"/>
                    </a:lnTo>
                    <a:lnTo>
                      <a:pt x="496" y="563"/>
                    </a:lnTo>
                    <a:lnTo>
                      <a:pt x="496" y="565"/>
                    </a:lnTo>
                    <a:lnTo>
                      <a:pt x="484" y="571"/>
                    </a:lnTo>
                    <a:lnTo>
                      <a:pt x="481" y="566"/>
                    </a:lnTo>
                    <a:lnTo>
                      <a:pt x="474" y="559"/>
                    </a:lnTo>
                    <a:lnTo>
                      <a:pt x="469" y="554"/>
                    </a:lnTo>
                    <a:lnTo>
                      <a:pt x="464" y="551"/>
                    </a:lnTo>
                    <a:lnTo>
                      <a:pt x="459" y="549"/>
                    </a:lnTo>
                    <a:lnTo>
                      <a:pt x="454" y="550"/>
                    </a:lnTo>
                    <a:lnTo>
                      <a:pt x="443" y="555"/>
                    </a:lnTo>
                    <a:lnTo>
                      <a:pt x="438" y="564"/>
                    </a:lnTo>
                    <a:lnTo>
                      <a:pt x="433" y="571"/>
                    </a:lnTo>
                    <a:lnTo>
                      <a:pt x="432" y="575"/>
                    </a:lnTo>
                    <a:lnTo>
                      <a:pt x="358" y="524"/>
                    </a:lnTo>
                    <a:lnTo>
                      <a:pt x="451" y="497"/>
                    </a:lnTo>
                    <a:lnTo>
                      <a:pt x="625" y="522"/>
                    </a:lnTo>
                    <a:lnTo>
                      <a:pt x="623" y="522"/>
                    </a:lnTo>
                    <a:lnTo>
                      <a:pt x="622" y="526"/>
                    </a:lnTo>
                    <a:lnTo>
                      <a:pt x="621" y="530"/>
                    </a:lnTo>
                    <a:lnTo>
                      <a:pt x="620" y="536"/>
                    </a:lnTo>
                    <a:lnTo>
                      <a:pt x="619" y="541"/>
                    </a:lnTo>
                    <a:lnTo>
                      <a:pt x="618" y="547"/>
                    </a:lnTo>
                    <a:lnTo>
                      <a:pt x="618" y="551"/>
                    </a:lnTo>
                    <a:lnTo>
                      <a:pt x="619" y="557"/>
                    </a:lnTo>
                    <a:lnTo>
                      <a:pt x="621" y="560"/>
                    </a:lnTo>
                    <a:lnTo>
                      <a:pt x="627" y="569"/>
                    </a:lnTo>
                    <a:lnTo>
                      <a:pt x="636" y="576"/>
                    </a:lnTo>
                    <a:lnTo>
                      <a:pt x="646" y="586"/>
                    </a:lnTo>
                    <a:lnTo>
                      <a:pt x="654" y="594"/>
                    </a:lnTo>
                    <a:lnTo>
                      <a:pt x="664" y="603"/>
                    </a:lnTo>
                    <a:lnTo>
                      <a:pt x="672" y="609"/>
                    </a:lnTo>
                    <a:lnTo>
                      <a:pt x="681" y="614"/>
                    </a:lnTo>
                    <a:lnTo>
                      <a:pt x="685" y="614"/>
                    </a:lnTo>
                    <a:lnTo>
                      <a:pt x="692" y="614"/>
                    </a:lnTo>
                    <a:lnTo>
                      <a:pt x="696" y="611"/>
                    </a:lnTo>
                    <a:lnTo>
                      <a:pt x="701" y="607"/>
                    </a:lnTo>
                    <a:lnTo>
                      <a:pt x="700" y="601"/>
                    </a:lnTo>
                    <a:lnTo>
                      <a:pt x="695" y="592"/>
                    </a:lnTo>
                    <a:lnTo>
                      <a:pt x="692" y="585"/>
                    </a:lnTo>
                    <a:lnTo>
                      <a:pt x="686" y="581"/>
                    </a:lnTo>
                    <a:lnTo>
                      <a:pt x="680" y="573"/>
                    </a:lnTo>
                    <a:lnTo>
                      <a:pt x="672" y="566"/>
                    </a:lnTo>
                    <a:lnTo>
                      <a:pt x="695" y="550"/>
                    </a:lnTo>
                    <a:lnTo>
                      <a:pt x="699" y="551"/>
                    </a:lnTo>
                    <a:lnTo>
                      <a:pt x="703" y="553"/>
                    </a:lnTo>
                    <a:lnTo>
                      <a:pt x="709" y="557"/>
                    </a:lnTo>
                    <a:lnTo>
                      <a:pt x="715" y="559"/>
                    </a:lnTo>
                    <a:lnTo>
                      <a:pt x="723" y="563"/>
                    </a:lnTo>
                    <a:lnTo>
                      <a:pt x="732" y="568"/>
                    </a:lnTo>
                    <a:lnTo>
                      <a:pt x="741" y="572"/>
                    </a:lnTo>
                    <a:lnTo>
                      <a:pt x="749" y="576"/>
                    </a:lnTo>
                    <a:lnTo>
                      <a:pt x="758" y="581"/>
                    </a:lnTo>
                    <a:lnTo>
                      <a:pt x="766" y="584"/>
                    </a:lnTo>
                    <a:lnTo>
                      <a:pt x="775" y="589"/>
                    </a:lnTo>
                    <a:lnTo>
                      <a:pt x="782" y="592"/>
                    </a:lnTo>
                    <a:lnTo>
                      <a:pt x="788" y="594"/>
                    </a:lnTo>
                    <a:lnTo>
                      <a:pt x="794" y="596"/>
                    </a:lnTo>
                    <a:lnTo>
                      <a:pt x="798" y="599"/>
                    </a:lnTo>
                    <a:lnTo>
                      <a:pt x="804" y="599"/>
                    </a:lnTo>
                    <a:lnTo>
                      <a:pt x="810" y="597"/>
                    </a:lnTo>
                    <a:lnTo>
                      <a:pt x="814" y="594"/>
                    </a:lnTo>
                    <a:lnTo>
                      <a:pt x="818" y="593"/>
                    </a:lnTo>
                    <a:lnTo>
                      <a:pt x="822" y="584"/>
                    </a:lnTo>
                    <a:lnTo>
                      <a:pt x="826" y="580"/>
                    </a:lnTo>
                    <a:lnTo>
                      <a:pt x="822" y="574"/>
                    </a:lnTo>
                    <a:lnTo>
                      <a:pt x="816" y="569"/>
                    </a:lnTo>
                    <a:lnTo>
                      <a:pt x="810" y="563"/>
                    </a:lnTo>
                    <a:lnTo>
                      <a:pt x="806" y="560"/>
                    </a:lnTo>
                    <a:lnTo>
                      <a:pt x="800" y="555"/>
                    </a:lnTo>
                    <a:lnTo>
                      <a:pt x="796" y="552"/>
                    </a:lnTo>
                    <a:lnTo>
                      <a:pt x="789" y="547"/>
                    </a:lnTo>
                    <a:lnTo>
                      <a:pt x="784" y="543"/>
                    </a:lnTo>
                    <a:lnTo>
                      <a:pt x="778" y="539"/>
                    </a:lnTo>
                    <a:lnTo>
                      <a:pt x="775" y="536"/>
                    </a:lnTo>
                    <a:lnTo>
                      <a:pt x="767" y="531"/>
                    </a:lnTo>
                    <a:lnTo>
                      <a:pt x="765" y="530"/>
                    </a:lnTo>
                    <a:lnTo>
                      <a:pt x="768" y="530"/>
                    </a:lnTo>
                    <a:lnTo>
                      <a:pt x="772" y="531"/>
                    </a:lnTo>
                    <a:lnTo>
                      <a:pt x="777" y="533"/>
                    </a:lnTo>
                    <a:lnTo>
                      <a:pt x="783" y="536"/>
                    </a:lnTo>
                    <a:lnTo>
                      <a:pt x="789" y="537"/>
                    </a:lnTo>
                    <a:lnTo>
                      <a:pt x="797" y="540"/>
                    </a:lnTo>
                    <a:lnTo>
                      <a:pt x="806" y="543"/>
                    </a:lnTo>
                    <a:lnTo>
                      <a:pt x="814" y="545"/>
                    </a:lnTo>
                    <a:lnTo>
                      <a:pt x="821" y="547"/>
                    </a:lnTo>
                    <a:lnTo>
                      <a:pt x="829" y="549"/>
                    </a:lnTo>
                    <a:lnTo>
                      <a:pt x="837" y="551"/>
                    </a:lnTo>
                    <a:lnTo>
                      <a:pt x="843" y="552"/>
                    </a:lnTo>
                    <a:lnTo>
                      <a:pt x="850" y="554"/>
                    </a:lnTo>
                    <a:lnTo>
                      <a:pt x="856" y="555"/>
                    </a:lnTo>
                    <a:lnTo>
                      <a:pt x="859" y="557"/>
                    </a:lnTo>
                    <a:lnTo>
                      <a:pt x="869" y="552"/>
                    </a:lnTo>
                    <a:lnTo>
                      <a:pt x="878" y="544"/>
                    </a:lnTo>
                    <a:lnTo>
                      <a:pt x="882" y="534"/>
                    </a:lnTo>
                    <a:lnTo>
                      <a:pt x="884" y="528"/>
                    </a:lnTo>
                    <a:lnTo>
                      <a:pt x="881" y="524"/>
                    </a:lnTo>
                    <a:lnTo>
                      <a:pt x="879" y="523"/>
                    </a:lnTo>
                    <a:lnTo>
                      <a:pt x="874" y="520"/>
                    </a:lnTo>
                    <a:lnTo>
                      <a:pt x="869" y="517"/>
                    </a:lnTo>
                    <a:lnTo>
                      <a:pt x="862" y="512"/>
                    </a:lnTo>
                    <a:lnTo>
                      <a:pt x="856" y="509"/>
                    </a:lnTo>
                    <a:lnTo>
                      <a:pt x="848" y="503"/>
                    </a:lnTo>
                    <a:lnTo>
                      <a:pt x="841" y="500"/>
                    </a:lnTo>
                    <a:lnTo>
                      <a:pt x="832" y="496"/>
                    </a:lnTo>
                    <a:lnTo>
                      <a:pt x="825" y="491"/>
                    </a:lnTo>
                    <a:lnTo>
                      <a:pt x="818" y="488"/>
                    </a:lnTo>
                    <a:lnTo>
                      <a:pt x="812" y="485"/>
                    </a:lnTo>
                    <a:lnTo>
                      <a:pt x="807" y="481"/>
                    </a:lnTo>
                    <a:lnTo>
                      <a:pt x="804" y="479"/>
                    </a:lnTo>
                    <a:lnTo>
                      <a:pt x="800" y="478"/>
                    </a:lnTo>
                    <a:lnTo>
                      <a:pt x="816" y="471"/>
                    </a:lnTo>
                    <a:lnTo>
                      <a:pt x="820" y="474"/>
                    </a:lnTo>
                    <a:lnTo>
                      <a:pt x="824" y="476"/>
                    </a:lnTo>
                    <a:lnTo>
                      <a:pt x="831" y="479"/>
                    </a:lnTo>
                    <a:lnTo>
                      <a:pt x="837" y="482"/>
                    </a:lnTo>
                    <a:lnTo>
                      <a:pt x="846" y="488"/>
                    </a:lnTo>
                    <a:lnTo>
                      <a:pt x="856" y="490"/>
                    </a:lnTo>
                    <a:lnTo>
                      <a:pt x="866" y="496"/>
                    </a:lnTo>
                    <a:lnTo>
                      <a:pt x="874" y="499"/>
                    </a:lnTo>
                    <a:lnTo>
                      <a:pt x="883" y="502"/>
                    </a:lnTo>
                    <a:lnTo>
                      <a:pt x="892" y="505"/>
                    </a:lnTo>
                    <a:lnTo>
                      <a:pt x="901" y="508"/>
                    </a:lnTo>
                    <a:lnTo>
                      <a:pt x="908" y="508"/>
                    </a:lnTo>
                    <a:lnTo>
                      <a:pt x="914" y="508"/>
                    </a:lnTo>
                    <a:lnTo>
                      <a:pt x="919" y="506"/>
                    </a:lnTo>
                    <a:lnTo>
                      <a:pt x="923" y="502"/>
                    </a:lnTo>
                    <a:lnTo>
                      <a:pt x="924" y="494"/>
                    </a:lnTo>
                    <a:lnTo>
                      <a:pt x="925" y="488"/>
                    </a:lnTo>
                    <a:lnTo>
                      <a:pt x="924" y="481"/>
                    </a:lnTo>
                    <a:lnTo>
                      <a:pt x="923" y="478"/>
                    </a:lnTo>
                    <a:lnTo>
                      <a:pt x="915" y="474"/>
                    </a:lnTo>
                    <a:lnTo>
                      <a:pt x="910" y="471"/>
                    </a:lnTo>
                    <a:lnTo>
                      <a:pt x="904" y="468"/>
                    </a:lnTo>
                    <a:lnTo>
                      <a:pt x="900" y="467"/>
                    </a:lnTo>
                    <a:lnTo>
                      <a:pt x="893" y="464"/>
                    </a:lnTo>
                    <a:lnTo>
                      <a:pt x="888" y="461"/>
                    </a:lnTo>
                    <a:lnTo>
                      <a:pt x="880" y="458"/>
                    </a:lnTo>
                    <a:lnTo>
                      <a:pt x="874" y="455"/>
                    </a:lnTo>
                    <a:lnTo>
                      <a:pt x="869" y="454"/>
                    </a:lnTo>
                    <a:lnTo>
                      <a:pt x="867" y="454"/>
                    </a:lnTo>
                    <a:lnTo>
                      <a:pt x="860" y="450"/>
                    </a:lnTo>
                    <a:lnTo>
                      <a:pt x="853" y="448"/>
                    </a:lnTo>
                    <a:lnTo>
                      <a:pt x="843" y="444"/>
                    </a:lnTo>
                    <a:lnTo>
                      <a:pt x="835" y="440"/>
                    </a:lnTo>
                    <a:lnTo>
                      <a:pt x="825" y="436"/>
                    </a:lnTo>
                    <a:lnTo>
                      <a:pt x="818" y="433"/>
                    </a:lnTo>
                    <a:lnTo>
                      <a:pt x="811" y="431"/>
                    </a:lnTo>
                    <a:lnTo>
                      <a:pt x="810" y="431"/>
                    </a:lnTo>
                    <a:lnTo>
                      <a:pt x="783" y="423"/>
                    </a:lnTo>
                    <a:lnTo>
                      <a:pt x="783" y="423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1614960" y="2318400"/>
                <a:ext cx="105120" cy="38160"/>
              </a:xfrm>
              <a:custGeom>
                <a:avLst/>
                <a:gdLst/>
                <a:ahLst/>
                <a:rect l="l" t="t" r="r" b="b"/>
                <a:pathLst>
                  <a:path w="197" h="72">
                    <a:moveTo>
                      <a:pt x="5" y="43"/>
                    </a:moveTo>
                    <a:lnTo>
                      <a:pt x="0" y="18"/>
                    </a:lnTo>
                    <a:lnTo>
                      <a:pt x="10" y="18"/>
                    </a:lnTo>
                    <a:lnTo>
                      <a:pt x="11" y="38"/>
                    </a:lnTo>
                    <a:lnTo>
                      <a:pt x="36" y="35"/>
                    </a:lnTo>
                    <a:lnTo>
                      <a:pt x="34" y="8"/>
                    </a:lnTo>
                    <a:lnTo>
                      <a:pt x="44" y="5"/>
                    </a:lnTo>
                    <a:lnTo>
                      <a:pt x="45" y="31"/>
                    </a:lnTo>
                    <a:lnTo>
                      <a:pt x="62" y="30"/>
                    </a:lnTo>
                    <a:lnTo>
                      <a:pt x="62" y="0"/>
                    </a:lnTo>
                    <a:lnTo>
                      <a:pt x="74" y="4"/>
                    </a:lnTo>
                    <a:lnTo>
                      <a:pt x="72" y="33"/>
                    </a:lnTo>
                    <a:lnTo>
                      <a:pt x="93" y="38"/>
                    </a:lnTo>
                    <a:lnTo>
                      <a:pt x="96" y="10"/>
                    </a:lnTo>
                    <a:lnTo>
                      <a:pt x="110" y="14"/>
                    </a:lnTo>
                    <a:lnTo>
                      <a:pt x="103" y="39"/>
                    </a:lnTo>
                    <a:lnTo>
                      <a:pt x="125" y="48"/>
                    </a:lnTo>
                    <a:lnTo>
                      <a:pt x="131" y="21"/>
                    </a:lnTo>
                    <a:lnTo>
                      <a:pt x="145" y="25"/>
                    </a:lnTo>
                    <a:lnTo>
                      <a:pt x="133" y="49"/>
                    </a:lnTo>
                    <a:lnTo>
                      <a:pt x="149" y="54"/>
                    </a:lnTo>
                    <a:lnTo>
                      <a:pt x="156" y="31"/>
                    </a:lnTo>
                    <a:lnTo>
                      <a:pt x="168" y="35"/>
                    </a:lnTo>
                    <a:lnTo>
                      <a:pt x="154" y="57"/>
                    </a:lnTo>
                    <a:lnTo>
                      <a:pt x="175" y="64"/>
                    </a:lnTo>
                    <a:lnTo>
                      <a:pt x="182" y="41"/>
                    </a:lnTo>
                    <a:lnTo>
                      <a:pt x="197" y="51"/>
                    </a:lnTo>
                    <a:lnTo>
                      <a:pt x="180" y="72"/>
                    </a:lnTo>
                    <a:lnTo>
                      <a:pt x="120" y="54"/>
                    </a:lnTo>
                    <a:lnTo>
                      <a:pt x="59" y="43"/>
                    </a:lnTo>
                    <a:lnTo>
                      <a:pt x="5" y="43"/>
                    </a:lnTo>
                    <a:lnTo>
                      <a:pt x="5" y="43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H="1">
                <a:off x="1647360" y="2364120"/>
                <a:ext cx="93240" cy="61920"/>
              </a:xfrm>
              <a:custGeom>
                <a:avLst/>
                <a:gdLst/>
                <a:ahLst/>
                <a:rect l="l" t="t" r="r" b="b"/>
                <a:pathLst>
                  <a:path w="175" h="115">
                    <a:moveTo>
                      <a:pt x="175" y="92"/>
                    </a:moveTo>
                    <a:lnTo>
                      <a:pt x="171" y="115"/>
                    </a:lnTo>
                    <a:lnTo>
                      <a:pt x="161" y="111"/>
                    </a:lnTo>
                    <a:lnTo>
                      <a:pt x="166" y="93"/>
                    </a:lnTo>
                    <a:lnTo>
                      <a:pt x="145" y="85"/>
                    </a:lnTo>
                    <a:lnTo>
                      <a:pt x="137" y="113"/>
                    </a:lnTo>
                    <a:lnTo>
                      <a:pt x="127" y="110"/>
                    </a:lnTo>
                    <a:lnTo>
                      <a:pt x="136" y="86"/>
                    </a:lnTo>
                    <a:lnTo>
                      <a:pt x="118" y="83"/>
                    </a:lnTo>
                    <a:lnTo>
                      <a:pt x="109" y="109"/>
                    </a:lnTo>
                    <a:lnTo>
                      <a:pt x="97" y="100"/>
                    </a:lnTo>
                    <a:lnTo>
                      <a:pt x="110" y="75"/>
                    </a:lnTo>
                    <a:lnTo>
                      <a:pt x="91" y="63"/>
                    </a:lnTo>
                    <a:lnTo>
                      <a:pt x="80" y="86"/>
                    </a:lnTo>
                    <a:lnTo>
                      <a:pt x="67" y="78"/>
                    </a:lnTo>
                    <a:lnTo>
                      <a:pt x="84" y="59"/>
                    </a:lnTo>
                    <a:lnTo>
                      <a:pt x="66" y="43"/>
                    </a:lnTo>
                    <a:lnTo>
                      <a:pt x="50" y="64"/>
                    </a:lnTo>
                    <a:lnTo>
                      <a:pt x="38" y="57"/>
                    </a:lnTo>
                    <a:lnTo>
                      <a:pt x="58" y="39"/>
                    </a:lnTo>
                    <a:lnTo>
                      <a:pt x="46" y="27"/>
                    </a:lnTo>
                    <a:lnTo>
                      <a:pt x="30" y="47"/>
                    </a:lnTo>
                    <a:lnTo>
                      <a:pt x="21" y="37"/>
                    </a:lnTo>
                    <a:lnTo>
                      <a:pt x="40" y="21"/>
                    </a:lnTo>
                    <a:lnTo>
                      <a:pt x="25" y="8"/>
                    </a:lnTo>
                    <a:lnTo>
                      <a:pt x="11" y="29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74" y="37"/>
                    </a:lnTo>
                    <a:lnTo>
                      <a:pt x="127" y="72"/>
                    </a:lnTo>
                    <a:lnTo>
                      <a:pt x="175" y="92"/>
                    </a:lnTo>
                    <a:lnTo>
                      <a:pt x="175" y="92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9" name=""/>
            <p:cNvGrpSpPr/>
            <p:nvPr/>
          </p:nvGrpSpPr>
          <p:grpSpPr>
            <a:xfrm>
              <a:off x="5486400" y="1690560"/>
              <a:ext cx="2361960" cy="1969920"/>
              <a:chOff x="5486400" y="1690560"/>
              <a:chExt cx="2361960" cy="1969920"/>
            </a:xfrm>
          </p:grpSpPr>
          <p:pic>
            <p:nvPicPr>
              <p:cNvPr id="174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0" y="1690560"/>
                <a:ext cx="2361960" cy="1969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41" name=""/>
              <p:cNvGrpSpPr/>
              <p:nvPr/>
            </p:nvGrpSpPr>
            <p:grpSpPr>
              <a:xfrm>
                <a:off x="6629400" y="3029760"/>
                <a:ext cx="685800" cy="553680"/>
                <a:chOff x="6629400" y="3029760"/>
                <a:chExt cx="685800" cy="553680"/>
              </a:xfrm>
            </p:grpSpPr>
            <p:pic>
              <p:nvPicPr>
                <p:cNvPr id="1742" name="" descr=""/>
                <p:cNvPicPr/>
                <p:nvPr/>
              </p:nvPicPr>
              <p:blipFill>
                <a:blip r:embed="rId5"/>
                <a:stretch/>
              </p:blipFill>
              <p:spPr>
                <a:xfrm flipH="1" rot="16200000">
                  <a:off x="6809400" y="3077640"/>
                  <a:ext cx="406440" cy="60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3" name="" descr=""/>
                <p:cNvPicPr/>
                <p:nvPr/>
              </p:nvPicPr>
              <p:blipFill>
                <a:blip r:embed="rId6"/>
                <a:stretch/>
              </p:blipFill>
              <p:spPr>
                <a:xfrm flipH="1" rot="16200000">
                  <a:off x="6728760" y="2930400"/>
                  <a:ext cx="406440" cy="605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744" name=""/>
            <p:cNvGrpSpPr/>
            <p:nvPr/>
          </p:nvGrpSpPr>
          <p:grpSpPr>
            <a:xfrm>
              <a:off x="3124080" y="1374120"/>
              <a:ext cx="304920" cy="457560"/>
              <a:chOff x="3124080" y="1374120"/>
              <a:chExt cx="304920" cy="457560"/>
            </a:xfrm>
          </p:grpSpPr>
          <p:sp>
            <p:nvSpPr>
              <p:cNvPr id="1745" name=""/>
              <p:cNvSpPr/>
              <p:nvPr/>
            </p:nvSpPr>
            <p:spPr>
              <a:xfrm flipV="1">
                <a:off x="3124080" y="1374120"/>
                <a:ext cx="30492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124080" y="16030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124080" y="1603080"/>
                <a:ext cx="30492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3124080" y="1348920"/>
              <a:ext cx="304920" cy="559080"/>
              <a:chOff x="3124080" y="1348920"/>
              <a:chExt cx="304920" cy="559080"/>
            </a:xfrm>
          </p:grpSpPr>
          <p:sp>
            <p:nvSpPr>
              <p:cNvPr id="1749" name=""/>
              <p:cNvSpPr/>
              <p:nvPr/>
            </p:nvSpPr>
            <p:spPr>
              <a:xfrm flipV="1">
                <a:off x="3124080" y="1348920"/>
                <a:ext cx="30492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124080" y="162864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124080" y="1679400"/>
                <a:ext cx="30492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2" name=""/>
          <p:cNvSpPr/>
          <p:nvPr/>
        </p:nvSpPr>
        <p:spPr>
          <a:xfrm>
            <a:off x="785520" y="4343400"/>
            <a:ext cx="435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Primal Problem: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x Flo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808560" y="4937040"/>
            <a:ext cx="241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Dual Problem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431160" y="5410080"/>
            <a:ext cx="146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in Cu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359520" y="4927680"/>
            <a:ext cx="506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hat are the roofs to the flows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886200" y="762120"/>
            <a:ext cx="1397160" cy="3492360"/>
          </a:xfrm>
          <a:custGeom>
            <a:avLst/>
            <a:gdLst/>
            <a:ahLst/>
            <a:rect l="l" t="t" r="r" b="b"/>
            <a:pathLst>
              <a:path w="880" h="2200">
                <a:moveTo>
                  <a:pt x="0" y="2200"/>
                </a:moveTo>
                <a:cubicBezTo>
                  <a:pt x="0" y="2200"/>
                  <a:pt x="440" y="1704"/>
                  <a:pt x="440" y="1432"/>
                </a:cubicBezTo>
                <a:cubicBezTo>
                  <a:pt x="440" y="1160"/>
                  <a:pt x="408" y="1024"/>
                  <a:pt x="440" y="760"/>
                </a:cubicBezTo>
                <a:cubicBezTo>
                  <a:pt x="472" y="496"/>
                  <a:pt x="788" y="158"/>
                  <a:pt x="880" y="0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0" dur="indefinite" restart="never" nodeType="tmRoot">
          <p:childTnLst>
            <p:seq>
              <p:cTn id="2251" dur="indefinite" nodeType="mainSeq">
                <p:childTnLst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"/>
          <p:cNvSpPr/>
          <p:nvPr/>
        </p:nvSpPr>
        <p:spPr>
          <a:xfrm>
            <a:off x="533520" y="3808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Instanc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etwork is a directed graph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node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ges represent pipes that carry 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edge &lt;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 has a maximum capacit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8" name="" descr=""/>
          <p:cNvPicPr/>
          <p:nvPr/>
        </p:nvPicPr>
        <p:blipFill>
          <a:blip r:embed="rId1"/>
          <a:stretch/>
        </p:blipFill>
        <p:spPr>
          <a:xfrm rot="16200000">
            <a:off x="2829600" y="2829240"/>
            <a:ext cx="3560760" cy="4495680"/>
          </a:xfrm>
          <a:prstGeom prst="rect">
            <a:avLst/>
          </a:prstGeom>
          <a:ln w="0">
            <a:noFill/>
          </a:ln>
        </p:spPr>
      </p:pic>
      <p:pic>
        <p:nvPicPr>
          <p:cNvPr id="1759" name="" descr=""/>
          <p:cNvPicPr/>
          <p:nvPr/>
        </p:nvPicPr>
        <p:blipFill>
          <a:blip r:embed="rId2"/>
          <a:stretch/>
        </p:blipFill>
        <p:spPr>
          <a:xfrm>
            <a:off x="4356000" y="4800600"/>
            <a:ext cx="1138320" cy="1295280"/>
          </a:xfrm>
          <a:prstGeom prst="rect">
            <a:avLst/>
          </a:prstGeom>
          <a:ln w="0">
            <a:noFill/>
          </a:ln>
        </p:spPr>
      </p:pic>
      <p:pic>
        <p:nvPicPr>
          <p:cNvPr id="1760" name="" descr=""/>
          <p:cNvPicPr/>
          <p:nvPr/>
        </p:nvPicPr>
        <p:blipFill>
          <a:blip r:embed="rId3"/>
          <a:stretch/>
        </p:blipFill>
        <p:spPr>
          <a:xfrm flipH="1">
            <a:off x="4362480" y="3722760"/>
            <a:ext cx="1200240" cy="912600"/>
          </a:xfrm>
          <a:prstGeom prst="rect">
            <a:avLst/>
          </a:prstGeom>
          <a:ln w="0">
            <a:noFill/>
          </a:ln>
        </p:spPr>
      </p:pic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n C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2336760" y="3276720"/>
            <a:ext cx="4595040" cy="3674880"/>
            <a:chOff x="2336760" y="3276720"/>
            <a:chExt cx="4595040" cy="3674880"/>
          </a:xfrm>
        </p:grpSpPr>
        <p:sp>
          <p:nvSpPr>
            <p:cNvPr id="1763" name=""/>
            <p:cNvSpPr/>
            <p:nvPr/>
          </p:nvSpPr>
          <p:spPr>
            <a:xfrm>
              <a:off x="2336760" y="3276720"/>
              <a:ext cx="328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6645960" y="6400800"/>
              <a:ext cx="285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2" dur="indefinite" restart="never" nodeType="tmRoot">
          <p:childTnLst>
            <p:seq>
              <p:cTn id="2283" dur="indefinite" nodeType="mainSeq">
                <p:childTnLst>
                  <p:par>
                    <p:cTn id="2284" fill="hold">
                      <p:stCondLst>
                        <p:cond delay="0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1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1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1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1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8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1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1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1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1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"/>
          <p:cNvSpPr/>
          <p:nvPr/>
        </p:nvSpPr>
        <p:spPr>
          <a:xfrm>
            <a:off x="533520" y="380880"/>
            <a:ext cx="7924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Instanc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etwork is a directed graph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node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ges represent pipes that carry 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edge &lt;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 has a maximum capacit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n C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67" name="" descr=""/>
          <p:cNvPicPr/>
          <p:nvPr/>
        </p:nvPicPr>
        <p:blipFill>
          <a:blip r:embed="rId1"/>
          <a:stretch/>
        </p:blipFill>
        <p:spPr>
          <a:xfrm>
            <a:off x="2895480" y="3429000"/>
            <a:ext cx="34862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/>
          <p:nvPr/>
        </p:nvSpPr>
        <p:spPr>
          <a:xfrm>
            <a:off x="533520" y="380880"/>
            <a:ext cx="74674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olu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= partition of nodes 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 with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 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9" name="" descr=""/>
          <p:cNvPicPr/>
          <p:nvPr/>
        </p:nvPicPr>
        <p:blipFill>
          <a:blip r:embed="rId1"/>
          <a:stretch/>
        </p:blipFill>
        <p:spPr>
          <a:xfrm rot="16200000">
            <a:off x="2829600" y="2829240"/>
            <a:ext cx="3560760" cy="4495680"/>
          </a:xfrm>
          <a:prstGeom prst="rect">
            <a:avLst/>
          </a:prstGeom>
          <a:ln w="0">
            <a:noFill/>
          </a:ln>
        </p:spPr>
      </p:pic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n C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771" name=""/>
          <p:cNvGrpSpPr/>
          <p:nvPr/>
        </p:nvGrpSpPr>
        <p:grpSpPr>
          <a:xfrm>
            <a:off x="2336760" y="3276720"/>
            <a:ext cx="4595040" cy="3674880"/>
            <a:chOff x="2336760" y="3276720"/>
            <a:chExt cx="4595040" cy="3674880"/>
          </a:xfrm>
        </p:grpSpPr>
        <p:sp>
          <p:nvSpPr>
            <p:cNvPr id="1772" name=""/>
            <p:cNvSpPr/>
            <p:nvPr/>
          </p:nvSpPr>
          <p:spPr>
            <a:xfrm>
              <a:off x="2336760" y="3276720"/>
              <a:ext cx="328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645960" y="6400800"/>
              <a:ext cx="285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2133720" y="2625840"/>
            <a:ext cx="5235120" cy="4079880"/>
            <a:chOff x="2133720" y="2625840"/>
            <a:chExt cx="5235120" cy="4079880"/>
          </a:xfrm>
        </p:grpSpPr>
        <p:sp>
          <p:nvSpPr>
            <p:cNvPr id="1775" name=""/>
            <p:cNvSpPr/>
            <p:nvPr/>
          </p:nvSpPr>
          <p:spPr>
            <a:xfrm>
              <a:off x="2133720" y="3048120"/>
              <a:ext cx="5105160" cy="3657600"/>
            </a:xfrm>
            <a:custGeom>
              <a:avLst/>
              <a:gdLst/>
              <a:ahLst/>
              <a:rect l="l" t="t" r="r" b="b"/>
              <a:pathLst>
                <a:path w="3216" h="2304">
                  <a:moveTo>
                    <a:pt x="0" y="2304"/>
                  </a:moveTo>
                  <a:cubicBezTo>
                    <a:pt x="208" y="2195"/>
                    <a:pt x="961" y="1909"/>
                    <a:pt x="1248" y="1648"/>
                  </a:cubicBezTo>
                  <a:cubicBezTo>
                    <a:pt x="1535" y="1387"/>
                    <a:pt x="1392" y="1011"/>
                    <a:pt x="1720" y="736"/>
                  </a:cubicBezTo>
                  <a:cubicBezTo>
                    <a:pt x="2048" y="461"/>
                    <a:pt x="2904" y="153"/>
                    <a:pt x="3216" y="0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792400" y="2625840"/>
              <a:ext cx="45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954840" y="318456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8" name=""/>
          <p:cNvGrpSpPr/>
          <p:nvPr/>
        </p:nvGrpSpPr>
        <p:grpSpPr>
          <a:xfrm>
            <a:off x="1523880" y="2895480"/>
            <a:ext cx="6851520" cy="3964320"/>
            <a:chOff x="1523880" y="2895480"/>
            <a:chExt cx="6851520" cy="3964320"/>
          </a:xfrm>
        </p:grpSpPr>
        <p:grpSp>
          <p:nvGrpSpPr>
            <p:cNvPr id="1779" name=""/>
            <p:cNvGrpSpPr/>
            <p:nvPr/>
          </p:nvGrpSpPr>
          <p:grpSpPr>
            <a:xfrm>
              <a:off x="1523880" y="2895480"/>
              <a:ext cx="951120" cy="1164240"/>
              <a:chOff x="1523880" y="2895480"/>
              <a:chExt cx="951120" cy="1164240"/>
            </a:xfrm>
          </p:grpSpPr>
          <p:pic>
            <p:nvPicPr>
              <p:cNvPr id="178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3880" y="2895480"/>
                <a:ext cx="951120" cy="85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1" name=""/>
              <p:cNvSpPr/>
              <p:nvPr/>
            </p:nvSpPr>
            <p:spPr>
              <a:xfrm>
                <a:off x="1560600" y="3660840"/>
                <a:ext cx="70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or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2" name=""/>
            <p:cNvGrpSpPr/>
            <p:nvPr/>
          </p:nvGrpSpPr>
          <p:grpSpPr>
            <a:xfrm>
              <a:off x="6858000" y="5697360"/>
              <a:ext cx="1517400" cy="1162440"/>
              <a:chOff x="6858000" y="5697360"/>
              <a:chExt cx="1517400" cy="1162440"/>
            </a:xfrm>
          </p:grpSpPr>
          <p:pic>
            <p:nvPicPr>
              <p:cNvPr id="178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149960" y="5697360"/>
                <a:ext cx="950760" cy="85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4" name=""/>
              <p:cNvSpPr/>
              <p:nvPr/>
            </p:nvSpPr>
            <p:spPr>
              <a:xfrm>
                <a:off x="6858000" y="6460920"/>
                <a:ext cx="151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UC Berkeley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5" name=""/>
          <p:cNvGrpSpPr/>
          <p:nvPr/>
        </p:nvGrpSpPr>
        <p:grpSpPr>
          <a:xfrm>
            <a:off x="6086520" y="2651040"/>
            <a:ext cx="2407320" cy="1100160"/>
            <a:chOff x="6086520" y="2651040"/>
            <a:chExt cx="2407320" cy="1100160"/>
          </a:xfrm>
        </p:grpSpPr>
        <p:sp>
          <p:nvSpPr>
            <p:cNvPr id="1786" name=""/>
            <p:cNvSpPr/>
            <p:nvPr/>
          </p:nvSpPr>
          <p:spPr>
            <a:xfrm>
              <a:off x="6086520" y="2651040"/>
              <a:ext cx="1634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= Canada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238520" y="3200400"/>
              <a:ext cx="1255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= USA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2" dur="indefinite" restart="never" nodeType="tmRoot">
          <p:childTnLst>
            <p:seq>
              <p:cTn id="2333" dur="indefinite" nodeType="mainSeq">
                <p:childTnLst>
                  <p:par>
                    <p:cTn id="2334" fill="hold">
                      <p:stCondLst>
                        <p:cond delay="0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1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1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1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1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" descr=""/>
          <p:cNvPicPr/>
          <p:nvPr/>
        </p:nvPicPr>
        <p:blipFill>
          <a:blip r:embed="rId1"/>
          <a:stretch/>
        </p:blipFill>
        <p:spPr>
          <a:xfrm rot="16200000">
            <a:off x="2829600" y="2829240"/>
            <a:ext cx="3560760" cy="4495680"/>
          </a:xfrm>
          <a:prstGeom prst="rect">
            <a:avLst/>
          </a:prstGeom>
          <a:ln w="0">
            <a:noFill/>
          </a:ln>
        </p:spPr>
      </p:pic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n C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2336760" y="3276720"/>
            <a:ext cx="4595040" cy="3674880"/>
            <a:chOff x="2336760" y="3276720"/>
            <a:chExt cx="4595040" cy="3674880"/>
          </a:xfrm>
        </p:grpSpPr>
        <p:sp>
          <p:nvSpPr>
            <p:cNvPr id="1791" name=""/>
            <p:cNvSpPr/>
            <p:nvPr/>
          </p:nvSpPr>
          <p:spPr>
            <a:xfrm>
              <a:off x="2336760" y="3276720"/>
              <a:ext cx="328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645960" y="6400800"/>
              <a:ext cx="285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1523880" y="2895480"/>
            <a:ext cx="6851520" cy="3964320"/>
            <a:chOff x="1523880" y="2895480"/>
            <a:chExt cx="6851520" cy="3964320"/>
          </a:xfrm>
        </p:grpSpPr>
        <p:grpSp>
          <p:nvGrpSpPr>
            <p:cNvPr id="1794" name=""/>
            <p:cNvGrpSpPr/>
            <p:nvPr/>
          </p:nvGrpSpPr>
          <p:grpSpPr>
            <a:xfrm>
              <a:off x="1523880" y="2895480"/>
              <a:ext cx="951120" cy="1164240"/>
              <a:chOff x="1523880" y="2895480"/>
              <a:chExt cx="951120" cy="1164240"/>
            </a:xfrm>
          </p:grpSpPr>
          <p:pic>
            <p:nvPicPr>
              <p:cNvPr id="179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3880" y="2895480"/>
                <a:ext cx="951120" cy="85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6" name=""/>
              <p:cNvSpPr/>
              <p:nvPr/>
            </p:nvSpPr>
            <p:spPr>
              <a:xfrm>
                <a:off x="1560600" y="3660840"/>
                <a:ext cx="70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or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7" name=""/>
            <p:cNvGrpSpPr/>
            <p:nvPr/>
          </p:nvGrpSpPr>
          <p:grpSpPr>
            <a:xfrm>
              <a:off x="6858000" y="5697360"/>
              <a:ext cx="1517400" cy="1162440"/>
              <a:chOff x="6858000" y="5697360"/>
              <a:chExt cx="1517400" cy="1162440"/>
            </a:xfrm>
          </p:grpSpPr>
          <p:pic>
            <p:nvPicPr>
              <p:cNvPr id="179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149960" y="5697360"/>
                <a:ext cx="950760" cy="85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9" name=""/>
              <p:cNvSpPr/>
              <p:nvPr/>
            </p:nvSpPr>
            <p:spPr>
              <a:xfrm>
                <a:off x="6858000" y="6460920"/>
                <a:ext cx="151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UC Berkeley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0" name=""/>
          <p:cNvGrpSpPr/>
          <p:nvPr/>
        </p:nvGrpSpPr>
        <p:grpSpPr>
          <a:xfrm>
            <a:off x="1219320" y="2438280"/>
            <a:ext cx="3807000" cy="2514600"/>
            <a:chOff x="1219320" y="2438280"/>
            <a:chExt cx="3807000" cy="2514600"/>
          </a:xfrm>
        </p:grpSpPr>
        <p:sp>
          <p:nvSpPr>
            <p:cNvPr id="1801" name=""/>
            <p:cNvSpPr/>
            <p:nvPr/>
          </p:nvSpPr>
          <p:spPr>
            <a:xfrm>
              <a:off x="1219320" y="2438280"/>
              <a:ext cx="3276360" cy="2514600"/>
            </a:xfrm>
            <a:prstGeom prst="ellipse">
              <a:avLst/>
            </a:prstGeom>
            <a:noFill/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682800" y="3733920"/>
              <a:ext cx="134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Ontario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3" name=""/>
          <p:cNvSpPr/>
          <p:nvPr/>
        </p:nvSpPr>
        <p:spPr>
          <a:xfrm>
            <a:off x="533520" y="380880"/>
            <a:ext cx="74674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olu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= partition of nodes 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 with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 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4" dur="indefinite" restart="never" nodeType="tmRoot">
          <p:childTnLst>
            <p:seq>
              <p:cTn id="2365" dur="indefinite" nodeType="mainSeq">
                <p:childTnLst>
                  <p:par>
                    <p:cTn id="2366" fill="hold">
                      <p:stCondLst>
                        <p:cond delay="0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fill="hold">
                            <p:stCondLst>
                              <p:cond delay="500"/>
                            </p:stCondLst>
                            <p:childTnLst>
                              <p:par>
                                <p:cTn id="23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4" name="" descr=""/>
          <p:cNvPicPr/>
          <p:nvPr/>
        </p:nvPicPr>
        <p:blipFill>
          <a:blip r:embed="rId1"/>
          <a:stretch/>
        </p:blipFill>
        <p:spPr>
          <a:xfrm rot="16200000">
            <a:off x="2829600" y="2829240"/>
            <a:ext cx="3560760" cy="4495680"/>
          </a:xfrm>
          <a:prstGeom prst="rect">
            <a:avLst/>
          </a:prstGeom>
          <a:ln w="0">
            <a:noFill/>
          </a:ln>
        </p:spPr>
      </p:pic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n C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06" name=""/>
          <p:cNvGrpSpPr/>
          <p:nvPr/>
        </p:nvGrpSpPr>
        <p:grpSpPr>
          <a:xfrm>
            <a:off x="2336760" y="3276720"/>
            <a:ext cx="4595040" cy="3674880"/>
            <a:chOff x="2336760" y="3276720"/>
            <a:chExt cx="4595040" cy="3674880"/>
          </a:xfrm>
        </p:grpSpPr>
        <p:sp>
          <p:nvSpPr>
            <p:cNvPr id="1807" name=""/>
            <p:cNvSpPr/>
            <p:nvPr/>
          </p:nvSpPr>
          <p:spPr>
            <a:xfrm>
              <a:off x="2336760" y="3276720"/>
              <a:ext cx="328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645960" y="6400800"/>
              <a:ext cx="285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1523880" y="2895480"/>
            <a:ext cx="6851520" cy="3964320"/>
            <a:chOff x="1523880" y="2895480"/>
            <a:chExt cx="6851520" cy="3964320"/>
          </a:xfrm>
        </p:grpSpPr>
        <p:grpSp>
          <p:nvGrpSpPr>
            <p:cNvPr id="1810" name=""/>
            <p:cNvGrpSpPr/>
            <p:nvPr/>
          </p:nvGrpSpPr>
          <p:grpSpPr>
            <a:xfrm>
              <a:off x="1523880" y="2895480"/>
              <a:ext cx="951120" cy="1164240"/>
              <a:chOff x="1523880" y="2895480"/>
              <a:chExt cx="951120" cy="1164240"/>
            </a:xfrm>
          </p:grpSpPr>
          <p:pic>
            <p:nvPicPr>
              <p:cNvPr id="18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3880" y="2895480"/>
                <a:ext cx="951120" cy="85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2" name=""/>
              <p:cNvSpPr/>
              <p:nvPr/>
            </p:nvSpPr>
            <p:spPr>
              <a:xfrm>
                <a:off x="1560600" y="3660840"/>
                <a:ext cx="70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or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6858000" y="5697360"/>
              <a:ext cx="1517400" cy="1162440"/>
              <a:chOff x="6858000" y="5697360"/>
              <a:chExt cx="1517400" cy="1162440"/>
            </a:xfrm>
          </p:grpSpPr>
          <p:pic>
            <p:nvPicPr>
              <p:cNvPr id="18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149960" y="5697360"/>
                <a:ext cx="950760" cy="85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5" name=""/>
              <p:cNvSpPr/>
              <p:nvPr/>
            </p:nvSpPr>
            <p:spPr>
              <a:xfrm>
                <a:off x="6858000" y="6460920"/>
                <a:ext cx="151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UC Berkeley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6" name=""/>
          <p:cNvGrpSpPr/>
          <p:nvPr/>
        </p:nvGrpSpPr>
        <p:grpSpPr>
          <a:xfrm>
            <a:off x="1371600" y="2666880"/>
            <a:ext cx="2892600" cy="1905120"/>
            <a:chOff x="1371600" y="2666880"/>
            <a:chExt cx="2892600" cy="1905120"/>
          </a:xfrm>
        </p:grpSpPr>
        <p:sp>
          <p:nvSpPr>
            <p:cNvPr id="1817" name=""/>
            <p:cNvSpPr/>
            <p:nvPr/>
          </p:nvSpPr>
          <p:spPr>
            <a:xfrm>
              <a:off x="1371600" y="2666880"/>
              <a:ext cx="2438280" cy="1905120"/>
            </a:xfrm>
            <a:prstGeom prst="ellipse">
              <a:avLst/>
            </a:prstGeom>
            <a:noFill/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856600" y="2938320"/>
              <a:ext cx="1407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Toronto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9" name=""/>
          <p:cNvSpPr/>
          <p:nvPr/>
        </p:nvSpPr>
        <p:spPr>
          <a:xfrm>
            <a:off x="533520" y="380880"/>
            <a:ext cx="74674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olu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= partition of nodes 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 with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 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7" dur="indefinite" restart="never" nodeType="tmRoot">
          <p:childTnLst>
            <p:seq>
              <p:cTn id="2378" dur="indefinite" nodeType="mainSeq">
                <p:childTnLst>
                  <p:par>
                    <p:cTn id="2379" fill="hold">
                      <p:stCondLst>
                        <p:cond delay="0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5" fill="hold">
                            <p:stCondLst>
                              <p:cond delay="500"/>
                            </p:stCondLst>
                            <p:childTnLst>
                              <p:par>
                                <p:cTn id="2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9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0" name="" descr=""/>
          <p:cNvPicPr/>
          <p:nvPr/>
        </p:nvPicPr>
        <p:blipFill>
          <a:blip r:embed="rId1"/>
          <a:stretch/>
        </p:blipFill>
        <p:spPr>
          <a:xfrm rot="16200000">
            <a:off x="2829600" y="2829240"/>
            <a:ext cx="3560760" cy="4495680"/>
          </a:xfrm>
          <a:prstGeom prst="rect">
            <a:avLst/>
          </a:prstGeom>
          <a:ln w="0">
            <a:noFill/>
          </a:ln>
        </p:spPr>
      </p:pic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n C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22" name=""/>
          <p:cNvGrpSpPr/>
          <p:nvPr/>
        </p:nvGrpSpPr>
        <p:grpSpPr>
          <a:xfrm>
            <a:off x="2336760" y="3276720"/>
            <a:ext cx="4595040" cy="3674880"/>
            <a:chOff x="2336760" y="3276720"/>
            <a:chExt cx="4595040" cy="3674880"/>
          </a:xfrm>
        </p:grpSpPr>
        <p:sp>
          <p:nvSpPr>
            <p:cNvPr id="1823" name=""/>
            <p:cNvSpPr/>
            <p:nvPr/>
          </p:nvSpPr>
          <p:spPr>
            <a:xfrm>
              <a:off x="2336760" y="3276720"/>
              <a:ext cx="328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645960" y="6400800"/>
              <a:ext cx="285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5" name=""/>
          <p:cNvGrpSpPr/>
          <p:nvPr/>
        </p:nvGrpSpPr>
        <p:grpSpPr>
          <a:xfrm>
            <a:off x="1523880" y="2895480"/>
            <a:ext cx="6851520" cy="3964320"/>
            <a:chOff x="1523880" y="2895480"/>
            <a:chExt cx="6851520" cy="3964320"/>
          </a:xfrm>
        </p:grpSpPr>
        <p:grpSp>
          <p:nvGrpSpPr>
            <p:cNvPr id="1826" name=""/>
            <p:cNvGrpSpPr/>
            <p:nvPr/>
          </p:nvGrpSpPr>
          <p:grpSpPr>
            <a:xfrm>
              <a:off x="1523880" y="2895480"/>
              <a:ext cx="951120" cy="1164240"/>
              <a:chOff x="1523880" y="2895480"/>
              <a:chExt cx="951120" cy="1164240"/>
            </a:xfrm>
          </p:grpSpPr>
          <p:pic>
            <p:nvPicPr>
              <p:cNvPr id="18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3880" y="2895480"/>
                <a:ext cx="951120" cy="85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>
                <a:off x="1560600" y="3660840"/>
                <a:ext cx="70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or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9" name=""/>
            <p:cNvGrpSpPr/>
            <p:nvPr/>
          </p:nvGrpSpPr>
          <p:grpSpPr>
            <a:xfrm>
              <a:off x="6858000" y="5697360"/>
              <a:ext cx="1517400" cy="1162440"/>
              <a:chOff x="6858000" y="5697360"/>
              <a:chExt cx="1517400" cy="1162440"/>
            </a:xfrm>
          </p:grpSpPr>
          <p:pic>
            <p:nvPicPr>
              <p:cNvPr id="183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149960" y="5697360"/>
                <a:ext cx="950760" cy="85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1" name=""/>
              <p:cNvSpPr/>
              <p:nvPr/>
            </p:nvSpPr>
            <p:spPr>
              <a:xfrm>
                <a:off x="6858000" y="6460920"/>
                <a:ext cx="151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UC Berkeley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2" name=""/>
          <p:cNvGrpSpPr/>
          <p:nvPr/>
        </p:nvGrpSpPr>
        <p:grpSpPr>
          <a:xfrm>
            <a:off x="1295280" y="2743200"/>
            <a:ext cx="2032200" cy="1359000"/>
            <a:chOff x="1295280" y="2743200"/>
            <a:chExt cx="2032200" cy="1359000"/>
          </a:xfrm>
        </p:grpSpPr>
        <p:sp>
          <p:nvSpPr>
            <p:cNvPr id="1833" name=""/>
            <p:cNvSpPr/>
            <p:nvPr/>
          </p:nvSpPr>
          <p:spPr>
            <a:xfrm>
              <a:off x="1295280" y="2959200"/>
              <a:ext cx="1219320" cy="1143000"/>
            </a:xfrm>
            <a:prstGeom prst="ellipse">
              <a:avLst/>
            </a:prstGeom>
            <a:noFill/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363400" y="2743200"/>
              <a:ext cx="964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York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5" name=""/>
          <p:cNvSpPr/>
          <p:nvPr/>
        </p:nvSpPr>
        <p:spPr>
          <a:xfrm>
            <a:off x="533520" y="380880"/>
            <a:ext cx="74674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olu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= partition of nodes 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 with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 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0" dur="indefinite" restart="never" nodeType="tmRoot">
          <p:childTnLst>
            <p:seq>
              <p:cTn id="2391" dur="indefinite" nodeType="mainSeq">
                <p:childTnLst>
                  <p:par>
                    <p:cTn id="2392" fill="hold">
                      <p:stCondLst>
                        <p:cond delay="0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6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2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6" name="" descr=""/>
          <p:cNvPicPr/>
          <p:nvPr/>
        </p:nvPicPr>
        <p:blipFill>
          <a:blip r:embed="rId1"/>
          <a:stretch/>
        </p:blipFill>
        <p:spPr>
          <a:xfrm rot="16200000">
            <a:off x="2829600" y="2829240"/>
            <a:ext cx="3560760" cy="4495680"/>
          </a:xfrm>
          <a:prstGeom prst="rect">
            <a:avLst/>
          </a:prstGeom>
          <a:ln w="0">
            <a:noFill/>
          </a:ln>
        </p:spPr>
      </p:pic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n C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2336760" y="3276720"/>
            <a:ext cx="4595040" cy="3674880"/>
            <a:chOff x="2336760" y="3276720"/>
            <a:chExt cx="4595040" cy="3674880"/>
          </a:xfrm>
        </p:grpSpPr>
        <p:sp>
          <p:nvSpPr>
            <p:cNvPr id="1839" name=""/>
            <p:cNvSpPr/>
            <p:nvPr/>
          </p:nvSpPr>
          <p:spPr>
            <a:xfrm>
              <a:off x="2336760" y="3276720"/>
              <a:ext cx="328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645960" y="6400800"/>
              <a:ext cx="285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1523880" y="2895480"/>
            <a:ext cx="6851520" cy="3964320"/>
            <a:chOff x="1523880" y="2895480"/>
            <a:chExt cx="6851520" cy="3964320"/>
          </a:xfrm>
        </p:grpSpPr>
        <p:grpSp>
          <p:nvGrpSpPr>
            <p:cNvPr id="1842" name=""/>
            <p:cNvGrpSpPr/>
            <p:nvPr/>
          </p:nvGrpSpPr>
          <p:grpSpPr>
            <a:xfrm>
              <a:off x="1523880" y="2895480"/>
              <a:ext cx="951120" cy="1164240"/>
              <a:chOff x="1523880" y="2895480"/>
              <a:chExt cx="951120" cy="1164240"/>
            </a:xfrm>
          </p:grpSpPr>
          <p:pic>
            <p:nvPicPr>
              <p:cNvPr id="184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3880" y="2895480"/>
                <a:ext cx="951120" cy="85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4" name=""/>
              <p:cNvSpPr/>
              <p:nvPr/>
            </p:nvSpPr>
            <p:spPr>
              <a:xfrm>
                <a:off x="1560600" y="3660840"/>
                <a:ext cx="70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or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"/>
            <p:cNvGrpSpPr/>
            <p:nvPr/>
          </p:nvGrpSpPr>
          <p:grpSpPr>
            <a:xfrm>
              <a:off x="6858000" y="5697360"/>
              <a:ext cx="1517400" cy="1162440"/>
              <a:chOff x="6858000" y="5697360"/>
              <a:chExt cx="1517400" cy="1162440"/>
            </a:xfrm>
          </p:grpSpPr>
          <p:pic>
            <p:nvPicPr>
              <p:cNvPr id="184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149960" y="5697360"/>
                <a:ext cx="950760" cy="85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7" name=""/>
              <p:cNvSpPr/>
              <p:nvPr/>
            </p:nvSpPr>
            <p:spPr>
              <a:xfrm>
                <a:off x="6858000" y="6460920"/>
                <a:ext cx="151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UC Berkeley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8" name=""/>
          <p:cNvGrpSpPr/>
          <p:nvPr/>
        </p:nvGrpSpPr>
        <p:grpSpPr>
          <a:xfrm>
            <a:off x="6934320" y="5499000"/>
            <a:ext cx="2032920" cy="1359000"/>
            <a:chOff x="6934320" y="5499000"/>
            <a:chExt cx="2032920" cy="1359000"/>
          </a:xfrm>
        </p:grpSpPr>
        <p:sp>
          <p:nvSpPr>
            <p:cNvPr id="1849" name=""/>
            <p:cNvSpPr/>
            <p:nvPr/>
          </p:nvSpPr>
          <p:spPr>
            <a:xfrm>
              <a:off x="6934320" y="5715000"/>
              <a:ext cx="1219320" cy="1143000"/>
            </a:xfrm>
            <a:prstGeom prst="ellipse">
              <a:avLst/>
            </a:prstGeom>
            <a:noFill/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001720" y="5499000"/>
              <a:ext cx="965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UCB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1" name=""/>
          <p:cNvSpPr/>
          <p:nvPr/>
        </p:nvSpPr>
        <p:spPr>
          <a:xfrm>
            <a:off x="533520" y="380880"/>
            <a:ext cx="74674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olu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= partition of nodes 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 with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 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3" dur="indefinite" restart="never" nodeType="tmRoot">
          <p:childTnLst>
            <p:seq>
              <p:cTn id="2404" dur="indefinite" nodeType="mainSeq">
                <p:childTnLst>
                  <p:par>
                    <p:cTn id="2405" fill="hold">
                      <p:stCondLst>
                        <p:cond delay="0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500"/>
                            </p:stCondLst>
                            <p:childTnLst>
                              <p:par>
                                <p:cTn id="2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4" dur="5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2" name="" descr=""/>
          <p:cNvPicPr/>
          <p:nvPr/>
        </p:nvPicPr>
        <p:blipFill>
          <a:blip r:embed="rId1"/>
          <a:stretch/>
        </p:blipFill>
        <p:spPr>
          <a:xfrm rot="16200000">
            <a:off x="2829600" y="2829240"/>
            <a:ext cx="3560760" cy="4495680"/>
          </a:xfrm>
          <a:prstGeom prst="rect">
            <a:avLst/>
          </a:prstGeom>
          <a:ln w="0">
            <a:noFill/>
          </a:ln>
        </p:spPr>
      </p:pic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n C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54" name=""/>
          <p:cNvGrpSpPr/>
          <p:nvPr/>
        </p:nvGrpSpPr>
        <p:grpSpPr>
          <a:xfrm>
            <a:off x="2336760" y="3276720"/>
            <a:ext cx="4595040" cy="3674880"/>
            <a:chOff x="2336760" y="3276720"/>
            <a:chExt cx="4595040" cy="3674880"/>
          </a:xfrm>
        </p:grpSpPr>
        <p:sp>
          <p:nvSpPr>
            <p:cNvPr id="1855" name=""/>
            <p:cNvSpPr/>
            <p:nvPr/>
          </p:nvSpPr>
          <p:spPr>
            <a:xfrm>
              <a:off x="2336760" y="3276720"/>
              <a:ext cx="328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645960" y="6400800"/>
              <a:ext cx="285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7" name=""/>
          <p:cNvGrpSpPr/>
          <p:nvPr/>
        </p:nvGrpSpPr>
        <p:grpSpPr>
          <a:xfrm>
            <a:off x="1523880" y="2895480"/>
            <a:ext cx="6851520" cy="3964320"/>
            <a:chOff x="1523880" y="2895480"/>
            <a:chExt cx="6851520" cy="3964320"/>
          </a:xfrm>
        </p:grpSpPr>
        <p:grpSp>
          <p:nvGrpSpPr>
            <p:cNvPr id="1858" name=""/>
            <p:cNvGrpSpPr/>
            <p:nvPr/>
          </p:nvGrpSpPr>
          <p:grpSpPr>
            <a:xfrm>
              <a:off x="1523880" y="2895480"/>
              <a:ext cx="951120" cy="1164240"/>
              <a:chOff x="1523880" y="2895480"/>
              <a:chExt cx="951120" cy="1164240"/>
            </a:xfrm>
          </p:grpSpPr>
          <p:pic>
            <p:nvPicPr>
              <p:cNvPr id="185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3880" y="2895480"/>
                <a:ext cx="951120" cy="85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0" name=""/>
              <p:cNvSpPr/>
              <p:nvPr/>
            </p:nvSpPr>
            <p:spPr>
              <a:xfrm>
                <a:off x="1560600" y="3660840"/>
                <a:ext cx="70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or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6858000" y="5697360"/>
              <a:ext cx="1517400" cy="1162440"/>
              <a:chOff x="6858000" y="5697360"/>
              <a:chExt cx="1517400" cy="1162440"/>
            </a:xfrm>
          </p:grpSpPr>
          <p:pic>
            <p:nvPicPr>
              <p:cNvPr id="186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149960" y="5697360"/>
                <a:ext cx="950760" cy="85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3" name=""/>
              <p:cNvSpPr/>
              <p:nvPr/>
            </p:nvSpPr>
            <p:spPr>
              <a:xfrm>
                <a:off x="6858000" y="6460920"/>
                <a:ext cx="151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UC Berkeley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4" name=""/>
          <p:cNvGrpSpPr/>
          <p:nvPr/>
        </p:nvGrpSpPr>
        <p:grpSpPr>
          <a:xfrm>
            <a:off x="6019920" y="4952880"/>
            <a:ext cx="2969640" cy="1905120"/>
            <a:chOff x="6019920" y="4952880"/>
            <a:chExt cx="2969640" cy="1905120"/>
          </a:xfrm>
        </p:grpSpPr>
        <p:sp>
          <p:nvSpPr>
            <p:cNvPr id="1865" name=""/>
            <p:cNvSpPr/>
            <p:nvPr/>
          </p:nvSpPr>
          <p:spPr>
            <a:xfrm>
              <a:off x="6019920" y="4952880"/>
              <a:ext cx="2438280" cy="1905120"/>
            </a:xfrm>
            <a:prstGeom prst="ellipse">
              <a:avLst/>
            </a:prstGeom>
            <a:noFill/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434360" y="5224320"/>
              <a:ext cx="155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Berkeley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7" name=""/>
          <p:cNvSpPr/>
          <p:nvPr/>
        </p:nvSpPr>
        <p:spPr>
          <a:xfrm>
            <a:off x="533520" y="380880"/>
            <a:ext cx="74674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olu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= partition of nodes 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 with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 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6" dur="indefinite" restart="never" nodeType="tmRoot">
          <p:childTnLst>
            <p:seq>
              <p:cTn id="2417" dur="indefinite" nodeType="mainSeq">
                <p:childTnLst>
                  <p:par>
                    <p:cTn id="2418" fill="hold">
                      <p:stCondLst>
                        <p:cond delay="0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3" dur="5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4" fill="hold">
                            <p:stCondLst>
                              <p:cond delay="500"/>
                            </p:stCondLst>
                            <p:childTnLst>
                              <p:par>
                                <p:cTn id="2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2971800" cy="2892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380880"/>
            <a:ext cx="93726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Value of Solu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ow fro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to the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us flow from the network back into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e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flow from network in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inus flow back i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40360" y="4267080"/>
            <a:ext cx="0" cy="457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33520" y="4295880"/>
            <a:ext cx="2589840" cy="1935000"/>
            <a:chOff x="533520" y="4295880"/>
            <a:chExt cx="2589840" cy="1935000"/>
          </a:xfrm>
        </p:grpSpPr>
        <p:grpSp>
          <p:nvGrpSpPr>
            <p:cNvPr id="134" name=""/>
            <p:cNvGrpSpPr/>
            <p:nvPr/>
          </p:nvGrpSpPr>
          <p:grpSpPr>
            <a:xfrm>
              <a:off x="778680" y="4295880"/>
              <a:ext cx="2344680" cy="1935000"/>
              <a:chOff x="778680" y="4295880"/>
              <a:chExt cx="2344680" cy="1935000"/>
            </a:xfrm>
          </p:grpSpPr>
          <p:sp>
            <p:nvSpPr>
              <p:cNvPr id="135" name=""/>
              <p:cNvSpPr/>
              <p:nvPr/>
            </p:nvSpPr>
            <p:spPr>
              <a:xfrm flipH="1">
                <a:off x="778320" y="4295880"/>
                <a:ext cx="2320920" cy="1836720"/>
              </a:xfrm>
              <a:custGeom>
                <a:avLst/>
                <a:gdLst/>
                <a:ahLst/>
                <a:rect l="l" t="t" r="r" b="b"/>
                <a:pathLst>
                  <a:path w="2924" h="2314">
                    <a:moveTo>
                      <a:pt x="1167" y="80"/>
                    </a:moveTo>
                    <a:lnTo>
                      <a:pt x="1111" y="69"/>
                    </a:lnTo>
                    <a:lnTo>
                      <a:pt x="1064" y="58"/>
                    </a:lnTo>
                    <a:lnTo>
                      <a:pt x="1024" y="47"/>
                    </a:lnTo>
                    <a:lnTo>
                      <a:pt x="993" y="38"/>
                    </a:lnTo>
                    <a:lnTo>
                      <a:pt x="964" y="29"/>
                    </a:lnTo>
                    <a:lnTo>
                      <a:pt x="943" y="22"/>
                    </a:lnTo>
                    <a:lnTo>
                      <a:pt x="925" y="14"/>
                    </a:lnTo>
                    <a:lnTo>
                      <a:pt x="911" y="11"/>
                    </a:lnTo>
                    <a:lnTo>
                      <a:pt x="898" y="6"/>
                    </a:lnTo>
                    <a:lnTo>
                      <a:pt x="885" y="2"/>
                    </a:lnTo>
                    <a:lnTo>
                      <a:pt x="873" y="0"/>
                    </a:lnTo>
                    <a:lnTo>
                      <a:pt x="862" y="0"/>
                    </a:lnTo>
                    <a:lnTo>
                      <a:pt x="848" y="0"/>
                    </a:lnTo>
                    <a:lnTo>
                      <a:pt x="831" y="1"/>
                    </a:lnTo>
                    <a:lnTo>
                      <a:pt x="811" y="5"/>
                    </a:lnTo>
                    <a:lnTo>
                      <a:pt x="788" y="11"/>
                    </a:lnTo>
                    <a:lnTo>
                      <a:pt x="759" y="14"/>
                    </a:lnTo>
                    <a:lnTo>
                      <a:pt x="733" y="19"/>
                    </a:lnTo>
                    <a:lnTo>
                      <a:pt x="706" y="21"/>
                    </a:lnTo>
                    <a:lnTo>
                      <a:pt x="680" y="23"/>
                    </a:lnTo>
                    <a:lnTo>
                      <a:pt x="653" y="24"/>
                    </a:lnTo>
                    <a:lnTo>
                      <a:pt x="628" y="26"/>
                    </a:lnTo>
                    <a:lnTo>
                      <a:pt x="601" y="28"/>
                    </a:lnTo>
                    <a:lnTo>
                      <a:pt x="576" y="31"/>
                    </a:lnTo>
                    <a:lnTo>
                      <a:pt x="550" y="33"/>
                    </a:lnTo>
                    <a:lnTo>
                      <a:pt x="525" y="38"/>
                    </a:lnTo>
                    <a:lnTo>
                      <a:pt x="500" y="43"/>
                    </a:lnTo>
                    <a:lnTo>
                      <a:pt x="474" y="51"/>
                    </a:lnTo>
                    <a:lnTo>
                      <a:pt x="449" y="60"/>
                    </a:lnTo>
                    <a:lnTo>
                      <a:pt x="423" y="72"/>
                    </a:lnTo>
                    <a:lnTo>
                      <a:pt x="398" y="87"/>
                    </a:lnTo>
                    <a:lnTo>
                      <a:pt x="372" y="105"/>
                    </a:lnTo>
                    <a:lnTo>
                      <a:pt x="346" y="124"/>
                    </a:lnTo>
                    <a:lnTo>
                      <a:pt x="324" y="142"/>
                    </a:lnTo>
                    <a:lnTo>
                      <a:pt x="301" y="159"/>
                    </a:lnTo>
                    <a:lnTo>
                      <a:pt x="281" y="177"/>
                    </a:lnTo>
                    <a:lnTo>
                      <a:pt x="262" y="194"/>
                    </a:lnTo>
                    <a:lnTo>
                      <a:pt x="244" y="210"/>
                    </a:lnTo>
                    <a:lnTo>
                      <a:pt x="230" y="228"/>
                    </a:lnTo>
                    <a:lnTo>
                      <a:pt x="217" y="244"/>
                    </a:lnTo>
                    <a:lnTo>
                      <a:pt x="203" y="261"/>
                    </a:lnTo>
                    <a:lnTo>
                      <a:pt x="194" y="278"/>
                    </a:lnTo>
                    <a:lnTo>
                      <a:pt x="186" y="294"/>
                    </a:lnTo>
                    <a:lnTo>
                      <a:pt x="180" y="312"/>
                    </a:lnTo>
                    <a:lnTo>
                      <a:pt x="175" y="331"/>
                    </a:lnTo>
                    <a:lnTo>
                      <a:pt x="173" y="348"/>
                    </a:lnTo>
                    <a:lnTo>
                      <a:pt x="173" y="368"/>
                    </a:lnTo>
                    <a:lnTo>
                      <a:pt x="176" y="389"/>
                    </a:lnTo>
                    <a:lnTo>
                      <a:pt x="176" y="407"/>
                    </a:lnTo>
                    <a:lnTo>
                      <a:pt x="173" y="426"/>
                    </a:lnTo>
                    <a:lnTo>
                      <a:pt x="167" y="441"/>
                    </a:lnTo>
                    <a:lnTo>
                      <a:pt x="158" y="458"/>
                    </a:lnTo>
                    <a:lnTo>
                      <a:pt x="146" y="473"/>
                    </a:lnTo>
                    <a:lnTo>
                      <a:pt x="133" y="488"/>
                    </a:lnTo>
                    <a:lnTo>
                      <a:pt x="118" y="502"/>
                    </a:lnTo>
                    <a:lnTo>
                      <a:pt x="104" y="519"/>
                    </a:lnTo>
                    <a:lnTo>
                      <a:pt x="86" y="533"/>
                    </a:lnTo>
                    <a:lnTo>
                      <a:pt x="72" y="552"/>
                    </a:lnTo>
                    <a:lnTo>
                      <a:pt x="56" y="569"/>
                    </a:lnTo>
                    <a:lnTo>
                      <a:pt x="42" y="592"/>
                    </a:lnTo>
                    <a:lnTo>
                      <a:pt x="29" y="614"/>
                    </a:lnTo>
                    <a:lnTo>
                      <a:pt x="18" y="640"/>
                    </a:lnTo>
                    <a:lnTo>
                      <a:pt x="10" y="670"/>
                    </a:lnTo>
                    <a:lnTo>
                      <a:pt x="4" y="703"/>
                    </a:lnTo>
                    <a:lnTo>
                      <a:pt x="1" y="735"/>
                    </a:lnTo>
                    <a:lnTo>
                      <a:pt x="0" y="768"/>
                    </a:lnTo>
                    <a:lnTo>
                      <a:pt x="1" y="799"/>
                    </a:lnTo>
                    <a:lnTo>
                      <a:pt x="4" y="833"/>
                    </a:lnTo>
                    <a:lnTo>
                      <a:pt x="8" y="861"/>
                    </a:lnTo>
                    <a:lnTo>
                      <a:pt x="14" y="891"/>
                    </a:lnTo>
                    <a:lnTo>
                      <a:pt x="20" y="918"/>
                    </a:lnTo>
                    <a:lnTo>
                      <a:pt x="27" y="946"/>
                    </a:lnTo>
                    <a:lnTo>
                      <a:pt x="34" y="971"/>
                    </a:lnTo>
                    <a:lnTo>
                      <a:pt x="42" y="996"/>
                    </a:lnTo>
                    <a:lnTo>
                      <a:pt x="48" y="1018"/>
                    </a:lnTo>
                    <a:lnTo>
                      <a:pt x="56" y="1042"/>
                    </a:lnTo>
                    <a:lnTo>
                      <a:pt x="61" y="1061"/>
                    </a:lnTo>
                    <a:lnTo>
                      <a:pt x="66" y="1081"/>
                    </a:lnTo>
                    <a:lnTo>
                      <a:pt x="71" y="1100"/>
                    </a:lnTo>
                    <a:lnTo>
                      <a:pt x="73" y="1118"/>
                    </a:lnTo>
                    <a:lnTo>
                      <a:pt x="73" y="1134"/>
                    </a:lnTo>
                    <a:lnTo>
                      <a:pt x="72" y="1155"/>
                    </a:lnTo>
                    <a:lnTo>
                      <a:pt x="71" y="1178"/>
                    </a:lnTo>
                    <a:lnTo>
                      <a:pt x="68" y="1203"/>
                    </a:lnTo>
                    <a:lnTo>
                      <a:pt x="63" y="1227"/>
                    </a:lnTo>
                    <a:lnTo>
                      <a:pt x="60" y="1256"/>
                    </a:lnTo>
                    <a:lnTo>
                      <a:pt x="54" y="1286"/>
                    </a:lnTo>
                    <a:lnTo>
                      <a:pt x="50" y="1319"/>
                    </a:lnTo>
                    <a:lnTo>
                      <a:pt x="44" y="1351"/>
                    </a:lnTo>
                    <a:lnTo>
                      <a:pt x="39" y="1384"/>
                    </a:lnTo>
                    <a:lnTo>
                      <a:pt x="33" y="1420"/>
                    </a:lnTo>
                    <a:lnTo>
                      <a:pt x="29" y="1456"/>
                    </a:lnTo>
                    <a:lnTo>
                      <a:pt x="24" y="1493"/>
                    </a:lnTo>
                    <a:lnTo>
                      <a:pt x="21" y="1529"/>
                    </a:lnTo>
                    <a:lnTo>
                      <a:pt x="18" y="1567"/>
                    </a:lnTo>
                    <a:lnTo>
                      <a:pt x="16" y="1607"/>
                    </a:lnTo>
                    <a:lnTo>
                      <a:pt x="15" y="1644"/>
                    </a:lnTo>
                    <a:lnTo>
                      <a:pt x="19" y="1681"/>
                    </a:lnTo>
                    <a:lnTo>
                      <a:pt x="24" y="1717"/>
                    </a:lnTo>
                    <a:lnTo>
                      <a:pt x="32" y="1755"/>
                    </a:lnTo>
                    <a:lnTo>
                      <a:pt x="40" y="1789"/>
                    </a:lnTo>
                    <a:lnTo>
                      <a:pt x="52" y="1823"/>
                    </a:lnTo>
                    <a:lnTo>
                      <a:pt x="64" y="1855"/>
                    </a:lnTo>
                    <a:lnTo>
                      <a:pt x="77" y="1887"/>
                    </a:lnTo>
                    <a:lnTo>
                      <a:pt x="89" y="1915"/>
                    </a:lnTo>
                    <a:lnTo>
                      <a:pt x="103" y="1943"/>
                    </a:lnTo>
                    <a:lnTo>
                      <a:pt x="115" y="1967"/>
                    </a:lnTo>
                    <a:lnTo>
                      <a:pt x="128" y="1991"/>
                    </a:lnTo>
                    <a:lnTo>
                      <a:pt x="138" y="2011"/>
                    </a:lnTo>
                    <a:lnTo>
                      <a:pt x="147" y="2029"/>
                    </a:lnTo>
                    <a:lnTo>
                      <a:pt x="155" y="2045"/>
                    </a:lnTo>
                    <a:lnTo>
                      <a:pt x="161" y="2059"/>
                    </a:lnTo>
                    <a:lnTo>
                      <a:pt x="166" y="2068"/>
                    </a:lnTo>
                    <a:lnTo>
                      <a:pt x="178" y="2076"/>
                    </a:lnTo>
                    <a:lnTo>
                      <a:pt x="193" y="2084"/>
                    </a:lnTo>
                    <a:lnTo>
                      <a:pt x="212" y="2093"/>
                    </a:lnTo>
                    <a:lnTo>
                      <a:pt x="233" y="2097"/>
                    </a:lnTo>
                    <a:lnTo>
                      <a:pt x="257" y="2104"/>
                    </a:lnTo>
                    <a:lnTo>
                      <a:pt x="284" y="2107"/>
                    </a:lnTo>
                    <a:lnTo>
                      <a:pt x="312" y="2112"/>
                    </a:lnTo>
                    <a:lnTo>
                      <a:pt x="339" y="2114"/>
                    </a:lnTo>
                    <a:lnTo>
                      <a:pt x="369" y="2117"/>
                    </a:lnTo>
                    <a:lnTo>
                      <a:pt x="397" y="2118"/>
                    </a:lnTo>
                    <a:lnTo>
                      <a:pt x="425" y="2119"/>
                    </a:lnTo>
                    <a:lnTo>
                      <a:pt x="451" y="2121"/>
                    </a:lnTo>
                    <a:lnTo>
                      <a:pt x="475" y="2122"/>
                    </a:lnTo>
                    <a:lnTo>
                      <a:pt x="497" y="2122"/>
                    </a:lnTo>
                    <a:lnTo>
                      <a:pt x="517" y="2123"/>
                    </a:lnTo>
                    <a:lnTo>
                      <a:pt x="535" y="2124"/>
                    </a:lnTo>
                    <a:lnTo>
                      <a:pt x="556" y="2131"/>
                    </a:lnTo>
                    <a:lnTo>
                      <a:pt x="579" y="2139"/>
                    </a:lnTo>
                    <a:lnTo>
                      <a:pt x="605" y="2152"/>
                    </a:lnTo>
                    <a:lnTo>
                      <a:pt x="631" y="2164"/>
                    </a:lnTo>
                    <a:lnTo>
                      <a:pt x="661" y="2179"/>
                    </a:lnTo>
                    <a:lnTo>
                      <a:pt x="692" y="2196"/>
                    </a:lnTo>
                    <a:lnTo>
                      <a:pt x="726" y="2212"/>
                    </a:lnTo>
                    <a:lnTo>
                      <a:pt x="762" y="2228"/>
                    </a:lnTo>
                    <a:lnTo>
                      <a:pt x="800" y="2243"/>
                    </a:lnTo>
                    <a:lnTo>
                      <a:pt x="839" y="2258"/>
                    </a:lnTo>
                    <a:lnTo>
                      <a:pt x="883" y="2270"/>
                    </a:lnTo>
                    <a:lnTo>
                      <a:pt x="927" y="2280"/>
                    </a:lnTo>
                    <a:lnTo>
                      <a:pt x="975" y="2288"/>
                    </a:lnTo>
                    <a:lnTo>
                      <a:pt x="1024" y="2291"/>
                    </a:lnTo>
                    <a:lnTo>
                      <a:pt x="1078" y="2292"/>
                    </a:lnTo>
                    <a:lnTo>
                      <a:pt x="1127" y="2285"/>
                    </a:lnTo>
                    <a:lnTo>
                      <a:pt x="1174" y="2278"/>
                    </a:lnTo>
                    <a:lnTo>
                      <a:pt x="1217" y="2267"/>
                    </a:lnTo>
                    <a:lnTo>
                      <a:pt x="1258" y="2255"/>
                    </a:lnTo>
                    <a:lnTo>
                      <a:pt x="1293" y="2241"/>
                    </a:lnTo>
                    <a:lnTo>
                      <a:pt x="1330" y="2227"/>
                    </a:lnTo>
                    <a:lnTo>
                      <a:pt x="1365" y="2212"/>
                    </a:lnTo>
                    <a:lnTo>
                      <a:pt x="1401" y="2201"/>
                    </a:lnTo>
                    <a:lnTo>
                      <a:pt x="1434" y="2190"/>
                    </a:lnTo>
                    <a:lnTo>
                      <a:pt x="1470" y="2183"/>
                    </a:lnTo>
                    <a:lnTo>
                      <a:pt x="1507" y="2178"/>
                    </a:lnTo>
                    <a:lnTo>
                      <a:pt x="1546" y="2178"/>
                    </a:lnTo>
                    <a:lnTo>
                      <a:pt x="1590" y="2183"/>
                    </a:lnTo>
                    <a:lnTo>
                      <a:pt x="1635" y="2192"/>
                    </a:lnTo>
                    <a:lnTo>
                      <a:pt x="1685" y="2209"/>
                    </a:lnTo>
                    <a:lnTo>
                      <a:pt x="1740" y="2233"/>
                    </a:lnTo>
                    <a:lnTo>
                      <a:pt x="1794" y="2258"/>
                    </a:lnTo>
                    <a:lnTo>
                      <a:pt x="1843" y="2276"/>
                    </a:lnTo>
                    <a:lnTo>
                      <a:pt x="1887" y="2291"/>
                    </a:lnTo>
                    <a:lnTo>
                      <a:pt x="1928" y="2303"/>
                    </a:lnTo>
                    <a:lnTo>
                      <a:pt x="1965" y="2310"/>
                    </a:lnTo>
                    <a:lnTo>
                      <a:pt x="2001" y="2314"/>
                    </a:lnTo>
                    <a:lnTo>
                      <a:pt x="2033" y="2314"/>
                    </a:lnTo>
                    <a:lnTo>
                      <a:pt x="2066" y="2314"/>
                    </a:lnTo>
                    <a:lnTo>
                      <a:pt x="2096" y="2309"/>
                    </a:lnTo>
                    <a:lnTo>
                      <a:pt x="2128" y="2304"/>
                    </a:lnTo>
                    <a:lnTo>
                      <a:pt x="2161" y="2295"/>
                    </a:lnTo>
                    <a:lnTo>
                      <a:pt x="2196" y="2288"/>
                    </a:lnTo>
                    <a:lnTo>
                      <a:pt x="2232" y="2279"/>
                    </a:lnTo>
                    <a:lnTo>
                      <a:pt x="2273" y="2270"/>
                    </a:lnTo>
                    <a:lnTo>
                      <a:pt x="2315" y="2260"/>
                    </a:lnTo>
                    <a:lnTo>
                      <a:pt x="2365" y="2253"/>
                    </a:lnTo>
                    <a:lnTo>
                      <a:pt x="2412" y="2247"/>
                    </a:lnTo>
                    <a:lnTo>
                      <a:pt x="2456" y="2242"/>
                    </a:lnTo>
                    <a:lnTo>
                      <a:pt x="2496" y="2240"/>
                    </a:lnTo>
                    <a:lnTo>
                      <a:pt x="2534" y="2241"/>
                    </a:lnTo>
                    <a:lnTo>
                      <a:pt x="2565" y="2241"/>
                    </a:lnTo>
                    <a:lnTo>
                      <a:pt x="2594" y="2244"/>
                    </a:lnTo>
                    <a:lnTo>
                      <a:pt x="2620" y="2246"/>
                    </a:lnTo>
                    <a:lnTo>
                      <a:pt x="2642" y="2247"/>
                    </a:lnTo>
                    <a:lnTo>
                      <a:pt x="2661" y="2247"/>
                    </a:lnTo>
                    <a:lnTo>
                      <a:pt x="2676" y="2243"/>
                    </a:lnTo>
                    <a:lnTo>
                      <a:pt x="2690" y="2237"/>
                    </a:lnTo>
                    <a:lnTo>
                      <a:pt x="2701" y="2230"/>
                    </a:lnTo>
                    <a:lnTo>
                      <a:pt x="2708" y="2217"/>
                    </a:lnTo>
                    <a:lnTo>
                      <a:pt x="2714" y="2200"/>
                    </a:lnTo>
                    <a:lnTo>
                      <a:pt x="2717" y="2179"/>
                    </a:lnTo>
                    <a:lnTo>
                      <a:pt x="2719" y="2154"/>
                    </a:lnTo>
                    <a:lnTo>
                      <a:pt x="2719" y="2123"/>
                    </a:lnTo>
                    <a:lnTo>
                      <a:pt x="2720" y="2096"/>
                    </a:lnTo>
                    <a:lnTo>
                      <a:pt x="2722" y="2073"/>
                    </a:lnTo>
                    <a:lnTo>
                      <a:pt x="2724" y="2050"/>
                    </a:lnTo>
                    <a:lnTo>
                      <a:pt x="2727" y="2028"/>
                    </a:lnTo>
                    <a:lnTo>
                      <a:pt x="2732" y="2009"/>
                    </a:lnTo>
                    <a:lnTo>
                      <a:pt x="2735" y="1991"/>
                    </a:lnTo>
                    <a:lnTo>
                      <a:pt x="2741" y="1975"/>
                    </a:lnTo>
                    <a:lnTo>
                      <a:pt x="2745" y="1957"/>
                    </a:lnTo>
                    <a:lnTo>
                      <a:pt x="2751" y="1943"/>
                    </a:lnTo>
                    <a:lnTo>
                      <a:pt x="2757" y="1926"/>
                    </a:lnTo>
                    <a:lnTo>
                      <a:pt x="2764" y="1911"/>
                    </a:lnTo>
                    <a:lnTo>
                      <a:pt x="2769" y="1895"/>
                    </a:lnTo>
                    <a:lnTo>
                      <a:pt x="2777" y="1880"/>
                    </a:lnTo>
                    <a:lnTo>
                      <a:pt x="2783" y="1863"/>
                    </a:lnTo>
                    <a:lnTo>
                      <a:pt x="2790" y="1846"/>
                    </a:lnTo>
                    <a:lnTo>
                      <a:pt x="2798" y="1829"/>
                    </a:lnTo>
                    <a:lnTo>
                      <a:pt x="2807" y="1813"/>
                    </a:lnTo>
                    <a:lnTo>
                      <a:pt x="2816" y="1798"/>
                    </a:lnTo>
                    <a:lnTo>
                      <a:pt x="2828" y="1783"/>
                    </a:lnTo>
                    <a:lnTo>
                      <a:pt x="2839" y="1768"/>
                    </a:lnTo>
                    <a:lnTo>
                      <a:pt x="2851" y="1754"/>
                    </a:lnTo>
                    <a:lnTo>
                      <a:pt x="2863" y="1737"/>
                    </a:lnTo>
                    <a:lnTo>
                      <a:pt x="2875" y="1723"/>
                    </a:lnTo>
                    <a:lnTo>
                      <a:pt x="2884" y="1704"/>
                    </a:lnTo>
                    <a:lnTo>
                      <a:pt x="2894" y="1686"/>
                    </a:lnTo>
                    <a:lnTo>
                      <a:pt x="2903" y="1665"/>
                    </a:lnTo>
                    <a:lnTo>
                      <a:pt x="2910" y="1643"/>
                    </a:lnTo>
                    <a:lnTo>
                      <a:pt x="2914" y="1618"/>
                    </a:lnTo>
                    <a:lnTo>
                      <a:pt x="2916" y="1590"/>
                    </a:lnTo>
                    <a:lnTo>
                      <a:pt x="2916" y="1560"/>
                    </a:lnTo>
                    <a:lnTo>
                      <a:pt x="2915" y="1527"/>
                    </a:lnTo>
                    <a:lnTo>
                      <a:pt x="2911" y="1490"/>
                    </a:lnTo>
                    <a:lnTo>
                      <a:pt x="2911" y="1457"/>
                    </a:lnTo>
                    <a:lnTo>
                      <a:pt x="2911" y="1424"/>
                    </a:lnTo>
                    <a:lnTo>
                      <a:pt x="2914" y="1392"/>
                    </a:lnTo>
                    <a:lnTo>
                      <a:pt x="2916" y="1360"/>
                    </a:lnTo>
                    <a:lnTo>
                      <a:pt x="2918" y="1331"/>
                    </a:lnTo>
                    <a:lnTo>
                      <a:pt x="2921" y="1300"/>
                    </a:lnTo>
                    <a:lnTo>
                      <a:pt x="2924" y="1274"/>
                    </a:lnTo>
                    <a:lnTo>
                      <a:pt x="2923" y="1244"/>
                    </a:lnTo>
                    <a:lnTo>
                      <a:pt x="2922" y="1216"/>
                    </a:lnTo>
                    <a:lnTo>
                      <a:pt x="2917" y="1190"/>
                    </a:lnTo>
                    <a:lnTo>
                      <a:pt x="2912" y="1163"/>
                    </a:lnTo>
                    <a:lnTo>
                      <a:pt x="2901" y="1136"/>
                    </a:lnTo>
                    <a:lnTo>
                      <a:pt x="2887" y="1111"/>
                    </a:lnTo>
                    <a:lnTo>
                      <a:pt x="2871" y="1087"/>
                    </a:lnTo>
                    <a:lnTo>
                      <a:pt x="2849" y="1063"/>
                    </a:lnTo>
                    <a:lnTo>
                      <a:pt x="2824" y="1037"/>
                    </a:lnTo>
                    <a:lnTo>
                      <a:pt x="2804" y="1015"/>
                    </a:lnTo>
                    <a:lnTo>
                      <a:pt x="2786" y="993"/>
                    </a:lnTo>
                    <a:lnTo>
                      <a:pt x="2768" y="972"/>
                    </a:lnTo>
                    <a:lnTo>
                      <a:pt x="2750" y="952"/>
                    </a:lnTo>
                    <a:lnTo>
                      <a:pt x="2734" y="935"/>
                    </a:lnTo>
                    <a:lnTo>
                      <a:pt x="2714" y="918"/>
                    </a:lnTo>
                    <a:lnTo>
                      <a:pt x="2693" y="903"/>
                    </a:lnTo>
                    <a:lnTo>
                      <a:pt x="2667" y="888"/>
                    </a:lnTo>
                    <a:lnTo>
                      <a:pt x="2641" y="875"/>
                    </a:lnTo>
                    <a:lnTo>
                      <a:pt x="2608" y="861"/>
                    </a:lnTo>
                    <a:lnTo>
                      <a:pt x="2571" y="851"/>
                    </a:lnTo>
                    <a:lnTo>
                      <a:pt x="2528" y="841"/>
                    </a:lnTo>
                    <a:lnTo>
                      <a:pt x="2478" y="834"/>
                    </a:lnTo>
                    <a:lnTo>
                      <a:pt x="2421" y="826"/>
                    </a:lnTo>
                    <a:lnTo>
                      <a:pt x="2357" y="822"/>
                    </a:lnTo>
                    <a:lnTo>
                      <a:pt x="2289" y="814"/>
                    </a:lnTo>
                    <a:lnTo>
                      <a:pt x="2231" y="807"/>
                    </a:lnTo>
                    <a:lnTo>
                      <a:pt x="2175" y="797"/>
                    </a:lnTo>
                    <a:lnTo>
                      <a:pt x="2128" y="787"/>
                    </a:lnTo>
                    <a:lnTo>
                      <a:pt x="2085" y="776"/>
                    </a:lnTo>
                    <a:lnTo>
                      <a:pt x="2047" y="764"/>
                    </a:lnTo>
                    <a:lnTo>
                      <a:pt x="2015" y="750"/>
                    </a:lnTo>
                    <a:lnTo>
                      <a:pt x="1989" y="736"/>
                    </a:lnTo>
                    <a:lnTo>
                      <a:pt x="1963" y="720"/>
                    </a:lnTo>
                    <a:lnTo>
                      <a:pt x="1943" y="705"/>
                    </a:lnTo>
                    <a:lnTo>
                      <a:pt x="1926" y="688"/>
                    </a:lnTo>
                    <a:lnTo>
                      <a:pt x="1912" y="671"/>
                    </a:lnTo>
                    <a:lnTo>
                      <a:pt x="1901" y="654"/>
                    </a:lnTo>
                    <a:lnTo>
                      <a:pt x="1894" y="636"/>
                    </a:lnTo>
                    <a:lnTo>
                      <a:pt x="1887" y="619"/>
                    </a:lnTo>
                    <a:lnTo>
                      <a:pt x="1884" y="603"/>
                    </a:lnTo>
                    <a:lnTo>
                      <a:pt x="1875" y="584"/>
                    </a:lnTo>
                    <a:lnTo>
                      <a:pt x="1860" y="568"/>
                    </a:lnTo>
                    <a:lnTo>
                      <a:pt x="1839" y="554"/>
                    </a:lnTo>
                    <a:lnTo>
                      <a:pt x="1815" y="540"/>
                    </a:lnTo>
                    <a:lnTo>
                      <a:pt x="1785" y="525"/>
                    </a:lnTo>
                    <a:lnTo>
                      <a:pt x="1753" y="512"/>
                    </a:lnTo>
                    <a:lnTo>
                      <a:pt x="1719" y="499"/>
                    </a:lnTo>
                    <a:lnTo>
                      <a:pt x="1685" y="487"/>
                    </a:lnTo>
                    <a:lnTo>
                      <a:pt x="1648" y="472"/>
                    </a:lnTo>
                    <a:lnTo>
                      <a:pt x="1614" y="458"/>
                    </a:lnTo>
                    <a:lnTo>
                      <a:pt x="1581" y="442"/>
                    </a:lnTo>
                    <a:lnTo>
                      <a:pt x="1552" y="428"/>
                    </a:lnTo>
                    <a:lnTo>
                      <a:pt x="1523" y="410"/>
                    </a:lnTo>
                    <a:lnTo>
                      <a:pt x="1501" y="394"/>
                    </a:lnTo>
                    <a:lnTo>
                      <a:pt x="1483" y="374"/>
                    </a:lnTo>
                    <a:lnTo>
                      <a:pt x="1473" y="354"/>
                    </a:lnTo>
                    <a:lnTo>
                      <a:pt x="1461" y="331"/>
                    </a:lnTo>
                    <a:lnTo>
                      <a:pt x="1447" y="309"/>
                    </a:lnTo>
                    <a:lnTo>
                      <a:pt x="1428" y="285"/>
                    </a:lnTo>
                    <a:lnTo>
                      <a:pt x="1407" y="262"/>
                    </a:lnTo>
                    <a:lnTo>
                      <a:pt x="1383" y="238"/>
                    </a:lnTo>
                    <a:lnTo>
                      <a:pt x="1356" y="216"/>
                    </a:lnTo>
                    <a:lnTo>
                      <a:pt x="1330" y="194"/>
                    </a:lnTo>
                    <a:lnTo>
                      <a:pt x="1304" y="174"/>
                    </a:lnTo>
                    <a:lnTo>
                      <a:pt x="1277" y="153"/>
                    </a:lnTo>
                    <a:lnTo>
                      <a:pt x="1251" y="135"/>
                    </a:lnTo>
                    <a:lnTo>
                      <a:pt x="1228" y="118"/>
                    </a:lnTo>
                    <a:lnTo>
                      <a:pt x="1208" y="106"/>
                    </a:lnTo>
                    <a:lnTo>
                      <a:pt x="1190" y="94"/>
                    </a:lnTo>
                    <a:lnTo>
                      <a:pt x="1178" y="86"/>
                    </a:lnTo>
                    <a:lnTo>
                      <a:pt x="1168" y="81"/>
                    </a:lnTo>
                    <a:lnTo>
                      <a:pt x="1167" y="80"/>
                    </a:lnTo>
                    <a:lnTo>
                      <a:pt x="1167" y="80"/>
                    </a:lnTo>
                    <a:close/>
                  </a:path>
                </a:pathLst>
              </a:custGeom>
              <a:solidFill>
                <a:srgbClr val="d1c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781920" y="5146560"/>
                <a:ext cx="2301840" cy="803160"/>
              </a:xfrm>
              <a:custGeom>
                <a:avLst/>
                <a:gdLst/>
                <a:ahLst/>
                <a:rect l="l" t="t" r="r" b="b"/>
                <a:pathLst>
                  <a:path w="2899" h="1011">
                    <a:moveTo>
                      <a:pt x="0" y="666"/>
                    </a:moveTo>
                    <a:lnTo>
                      <a:pt x="5" y="666"/>
                    </a:lnTo>
                    <a:lnTo>
                      <a:pt x="22" y="667"/>
                    </a:lnTo>
                    <a:lnTo>
                      <a:pt x="48" y="669"/>
                    </a:lnTo>
                    <a:lnTo>
                      <a:pt x="84" y="673"/>
                    </a:lnTo>
                    <a:lnTo>
                      <a:pt x="125" y="675"/>
                    </a:lnTo>
                    <a:lnTo>
                      <a:pt x="174" y="679"/>
                    </a:lnTo>
                    <a:lnTo>
                      <a:pt x="227" y="684"/>
                    </a:lnTo>
                    <a:lnTo>
                      <a:pt x="287" y="689"/>
                    </a:lnTo>
                    <a:lnTo>
                      <a:pt x="347" y="695"/>
                    </a:lnTo>
                    <a:lnTo>
                      <a:pt x="410" y="699"/>
                    </a:lnTo>
                    <a:lnTo>
                      <a:pt x="474" y="706"/>
                    </a:lnTo>
                    <a:lnTo>
                      <a:pt x="537" y="711"/>
                    </a:lnTo>
                    <a:lnTo>
                      <a:pt x="598" y="717"/>
                    </a:lnTo>
                    <a:lnTo>
                      <a:pt x="656" y="723"/>
                    </a:lnTo>
                    <a:lnTo>
                      <a:pt x="711" y="729"/>
                    </a:lnTo>
                    <a:lnTo>
                      <a:pt x="760" y="735"/>
                    </a:lnTo>
                    <a:lnTo>
                      <a:pt x="806" y="738"/>
                    </a:lnTo>
                    <a:lnTo>
                      <a:pt x="851" y="738"/>
                    </a:lnTo>
                    <a:lnTo>
                      <a:pt x="894" y="734"/>
                    </a:lnTo>
                    <a:lnTo>
                      <a:pt x="937" y="727"/>
                    </a:lnTo>
                    <a:lnTo>
                      <a:pt x="977" y="717"/>
                    </a:lnTo>
                    <a:lnTo>
                      <a:pt x="1017" y="705"/>
                    </a:lnTo>
                    <a:lnTo>
                      <a:pt x="1053" y="689"/>
                    </a:lnTo>
                    <a:lnTo>
                      <a:pt x="1089" y="675"/>
                    </a:lnTo>
                    <a:lnTo>
                      <a:pt x="1120" y="655"/>
                    </a:lnTo>
                    <a:lnTo>
                      <a:pt x="1148" y="637"/>
                    </a:lnTo>
                    <a:lnTo>
                      <a:pt x="1175" y="618"/>
                    </a:lnTo>
                    <a:lnTo>
                      <a:pt x="1199" y="597"/>
                    </a:lnTo>
                    <a:lnTo>
                      <a:pt x="1218" y="576"/>
                    </a:lnTo>
                    <a:lnTo>
                      <a:pt x="1235" y="556"/>
                    </a:lnTo>
                    <a:lnTo>
                      <a:pt x="1247" y="536"/>
                    </a:lnTo>
                    <a:lnTo>
                      <a:pt x="1256" y="517"/>
                    </a:lnTo>
                    <a:lnTo>
                      <a:pt x="1263" y="494"/>
                    </a:lnTo>
                    <a:lnTo>
                      <a:pt x="1278" y="466"/>
                    </a:lnTo>
                    <a:lnTo>
                      <a:pt x="1296" y="434"/>
                    </a:lnTo>
                    <a:lnTo>
                      <a:pt x="1320" y="399"/>
                    </a:lnTo>
                    <a:lnTo>
                      <a:pt x="1346" y="360"/>
                    </a:lnTo>
                    <a:lnTo>
                      <a:pt x="1377" y="320"/>
                    </a:lnTo>
                    <a:lnTo>
                      <a:pt x="1411" y="279"/>
                    </a:lnTo>
                    <a:lnTo>
                      <a:pt x="1450" y="238"/>
                    </a:lnTo>
                    <a:lnTo>
                      <a:pt x="1490" y="196"/>
                    </a:lnTo>
                    <a:lnTo>
                      <a:pt x="1532" y="158"/>
                    </a:lnTo>
                    <a:lnTo>
                      <a:pt x="1575" y="121"/>
                    </a:lnTo>
                    <a:lnTo>
                      <a:pt x="1622" y="89"/>
                    </a:lnTo>
                    <a:lnTo>
                      <a:pt x="1667" y="60"/>
                    </a:lnTo>
                    <a:lnTo>
                      <a:pt x="1715" y="37"/>
                    </a:lnTo>
                    <a:lnTo>
                      <a:pt x="1764" y="18"/>
                    </a:lnTo>
                    <a:lnTo>
                      <a:pt x="1812" y="8"/>
                    </a:lnTo>
                    <a:lnTo>
                      <a:pt x="1866" y="3"/>
                    </a:lnTo>
                    <a:lnTo>
                      <a:pt x="1931" y="0"/>
                    </a:lnTo>
                    <a:lnTo>
                      <a:pt x="2005" y="0"/>
                    </a:lnTo>
                    <a:lnTo>
                      <a:pt x="2086" y="3"/>
                    </a:lnTo>
                    <a:lnTo>
                      <a:pt x="2173" y="6"/>
                    </a:lnTo>
                    <a:lnTo>
                      <a:pt x="2263" y="14"/>
                    </a:lnTo>
                    <a:lnTo>
                      <a:pt x="2352" y="22"/>
                    </a:lnTo>
                    <a:lnTo>
                      <a:pt x="2443" y="30"/>
                    </a:lnTo>
                    <a:lnTo>
                      <a:pt x="2529" y="39"/>
                    </a:lnTo>
                    <a:lnTo>
                      <a:pt x="2611" y="48"/>
                    </a:lnTo>
                    <a:lnTo>
                      <a:pt x="2686" y="56"/>
                    </a:lnTo>
                    <a:lnTo>
                      <a:pt x="2752" y="65"/>
                    </a:lnTo>
                    <a:lnTo>
                      <a:pt x="2806" y="71"/>
                    </a:lnTo>
                    <a:lnTo>
                      <a:pt x="2849" y="77"/>
                    </a:lnTo>
                    <a:lnTo>
                      <a:pt x="2874" y="81"/>
                    </a:lnTo>
                    <a:lnTo>
                      <a:pt x="2885" y="84"/>
                    </a:lnTo>
                    <a:lnTo>
                      <a:pt x="2885" y="85"/>
                    </a:lnTo>
                    <a:lnTo>
                      <a:pt x="2886" y="93"/>
                    </a:lnTo>
                    <a:lnTo>
                      <a:pt x="2886" y="98"/>
                    </a:lnTo>
                    <a:lnTo>
                      <a:pt x="2888" y="106"/>
                    </a:lnTo>
                    <a:lnTo>
                      <a:pt x="2890" y="112"/>
                    </a:lnTo>
                    <a:lnTo>
                      <a:pt x="2892" y="121"/>
                    </a:lnTo>
                    <a:lnTo>
                      <a:pt x="2893" y="129"/>
                    </a:lnTo>
                    <a:lnTo>
                      <a:pt x="2894" y="138"/>
                    </a:lnTo>
                    <a:lnTo>
                      <a:pt x="2895" y="147"/>
                    </a:lnTo>
                    <a:lnTo>
                      <a:pt x="2896" y="155"/>
                    </a:lnTo>
                    <a:lnTo>
                      <a:pt x="2897" y="164"/>
                    </a:lnTo>
                    <a:lnTo>
                      <a:pt x="2898" y="173"/>
                    </a:lnTo>
                    <a:lnTo>
                      <a:pt x="2898" y="181"/>
                    </a:lnTo>
                    <a:lnTo>
                      <a:pt x="2899" y="190"/>
                    </a:lnTo>
                    <a:lnTo>
                      <a:pt x="2888" y="186"/>
                    </a:lnTo>
                    <a:lnTo>
                      <a:pt x="2860" y="179"/>
                    </a:lnTo>
                    <a:lnTo>
                      <a:pt x="2813" y="166"/>
                    </a:lnTo>
                    <a:lnTo>
                      <a:pt x="2754" y="154"/>
                    </a:lnTo>
                    <a:lnTo>
                      <a:pt x="2679" y="139"/>
                    </a:lnTo>
                    <a:lnTo>
                      <a:pt x="2598" y="124"/>
                    </a:lnTo>
                    <a:lnTo>
                      <a:pt x="2506" y="112"/>
                    </a:lnTo>
                    <a:lnTo>
                      <a:pt x="2409" y="105"/>
                    </a:lnTo>
                    <a:lnTo>
                      <a:pt x="2307" y="99"/>
                    </a:lnTo>
                    <a:lnTo>
                      <a:pt x="2203" y="101"/>
                    </a:lnTo>
                    <a:lnTo>
                      <a:pt x="2099" y="109"/>
                    </a:lnTo>
                    <a:lnTo>
                      <a:pt x="2000" y="128"/>
                    </a:lnTo>
                    <a:lnTo>
                      <a:pt x="1902" y="154"/>
                    </a:lnTo>
                    <a:lnTo>
                      <a:pt x="1813" y="193"/>
                    </a:lnTo>
                    <a:lnTo>
                      <a:pt x="1731" y="245"/>
                    </a:lnTo>
                    <a:lnTo>
                      <a:pt x="1662" y="310"/>
                    </a:lnTo>
                    <a:lnTo>
                      <a:pt x="1605" y="381"/>
                    </a:lnTo>
                    <a:lnTo>
                      <a:pt x="1560" y="453"/>
                    </a:lnTo>
                    <a:lnTo>
                      <a:pt x="1525" y="522"/>
                    </a:lnTo>
                    <a:lnTo>
                      <a:pt x="1498" y="590"/>
                    </a:lnTo>
                    <a:lnTo>
                      <a:pt x="1472" y="654"/>
                    </a:lnTo>
                    <a:lnTo>
                      <a:pt x="1447" y="716"/>
                    </a:lnTo>
                    <a:lnTo>
                      <a:pt x="1418" y="772"/>
                    </a:lnTo>
                    <a:lnTo>
                      <a:pt x="1383" y="826"/>
                    </a:lnTo>
                    <a:lnTo>
                      <a:pt x="1335" y="873"/>
                    </a:lnTo>
                    <a:lnTo>
                      <a:pt x="1275" y="915"/>
                    </a:lnTo>
                    <a:lnTo>
                      <a:pt x="1199" y="950"/>
                    </a:lnTo>
                    <a:lnTo>
                      <a:pt x="1103" y="978"/>
                    </a:lnTo>
                    <a:lnTo>
                      <a:pt x="984" y="998"/>
                    </a:lnTo>
                    <a:lnTo>
                      <a:pt x="838" y="1010"/>
                    </a:lnTo>
                    <a:lnTo>
                      <a:pt x="662" y="1011"/>
                    </a:lnTo>
                    <a:lnTo>
                      <a:pt x="454" y="1006"/>
                    </a:lnTo>
                    <a:lnTo>
                      <a:pt x="0" y="666"/>
                    </a:lnTo>
                    <a:lnTo>
                      <a:pt x="0" y="666"/>
                    </a:lnTo>
                    <a:close/>
                  </a:path>
                </a:pathLst>
              </a:custGeom>
              <a:solidFill>
                <a:srgbClr val="bfa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1643400" y="4297320"/>
                <a:ext cx="1411560" cy="898560"/>
              </a:xfrm>
              <a:custGeom>
                <a:avLst/>
                <a:gdLst/>
                <a:ahLst/>
                <a:rect l="l" t="t" r="r" b="b"/>
                <a:pathLst>
                  <a:path w="1778" h="1132">
                    <a:moveTo>
                      <a:pt x="637" y="21"/>
                    </a:moveTo>
                    <a:lnTo>
                      <a:pt x="643" y="21"/>
                    </a:lnTo>
                    <a:lnTo>
                      <a:pt x="657" y="24"/>
                    </a:lnTo>
                    <a:lnTo>
                      <a:pt x="679" y="26"/>
                    </a:lnTo>
                    <a:lnTo>
                      <a:pt x="711" y="31"/>
                    </a:lnTo>
                    <a:lnTo>
                      <a:pt x="746" y="36"/>
                    </a:lnTo>
                    <a:lnTo>
                      <a:pt x="786" y="45"/>
                    </a:lnTo>
                    <a:lnTo>
                      <a:pt x="829" y="53"/>
                    </a:lnTo>
                    <a:lnTo>
                      <a:pt x="875" y="66"/>
                    </a:lnTo>
                    <a:lnTo>
                      <a:pt x="919" y="77"/>
                    </a:lnTo>
                    <a:lnTo>
                      <a:pt x="964" y="90"/>
                    </a:lnTo>
                    <a:lnTo>
                      <a:pt x="1005" y="105"/>
                    </a:lnTo>
                    <a:lnTo>
                      <a:pt x="1044" y="124"/>
                    </a:lnTo>
                    <a:lnTo>
                      <a:pt x="1077" y="145"/>
                    </a:lnTo>
                    <a:lnTo>
                      <a:pt x="1104" y="167"/>
                    </a:lnTo>
                    <a:lnTo>
                      <a:pt x="1122" y="192"/>
                    </a:lnTo>
                    <a:lnTo>
                      <a:pt x="1133" y="218"/>
                    </a:lnTo>
                    <a:lnTo>
                      <a:pt x="1132" y="245"/>
                    </a:lnTo>
                    <a:lnTo>
                      <a:pt x="1122" y="270"/>
                    </a:lnTo>
                    <a:lnTo>
                      <a:pt x="1104" y="293"/>
                    </a:lnTo>
                    <a:lnTo>
                      <a:pt x="1080" y="317"/>
                    </a:lnTo>
                    <a:lnTo>
                      <a:pt x="1050" y="336"/>
                    </a:lnTo>
                    <a:lnTo>
                      <a:pt x="1016" y="357"/>
                    </a:lnTo>
                    <a:lnTo>
                      <a:pt x="979" y="375"/>
                    </a:lnTo>
                    <a:lnTo>
                      <a:pt x="941" y="393"/>
                    </a:lnTo>
                    <a:lnTo>
                      <a:pt x="902" y="407"/>
                    </a:lnTo>
                    <a:lnTo>
                      <a:pt x="864" y="419"/>
                    </a:lnTo>
                    <a:lnTo>
                      <a:pt x="828" y="430"/>
                    </a:lnTo>
                    <a:lnTo>
                      <a:pt x="797" y="440"/>
                    </a:lnTo>
                    <a:lnTo>
                      <a:pt x="770" y="448"/>
                    </a:lnTo>
                    <a:lnTo>
                      <a:pt x="749" y="454"/>
                    </a:lnTo>
                    <a:lnTo>
                      <a:pt x="735" y="457"/>
                    </a:lnTo>
                    <a:lnTo>
                      <a:pt x="732" y="459"/>
                    </a:lnTo>
                    <a:lnTo>
                      <a:pt x="727" y="460"/>
                    </a:lnTo>
                    <a:lnTo>
                      <a:pt x="714" y="466"/>
                    </a:lnTo>
                    <a:lnTo>
                      <a:pt x="696" y="474"/>
                    </a:lnTo>
                    <a:lnTo>
                      <a:pt x="675" y="486"/>
                    </a:lnTo>
                    <a:lnTo>
                      <a:pt x="650" y="499"/>
                    </a:lnTo>
                    <a:lnTo>
                      <a:pt x="627" y="517"/>
                    </a:lnTo>
                    <a:lnTo>
                      <a:pt x="605" y="533"/>
                    </a:lnTo>
                    <a:lnTo>
                      <a:pt x="588" y="554"/>
                    </a:lnTo>
                    <a:lnTo>
                      <a:pt x="576" y="572"/>
                    </a:lnTo>
                    <a:lnTo>
                      <a:pt x="574" y="593"/>
                    </a:lnTo>
                    <a:lnTo>
                      <a:pt x="581" y="613"/>
                    </a:lnTo>
                    <a:lnTo>
                      <a:pt x="601" y="634"/>
                    </a:lnTo>
                    <a:lnTo>
                      <a:pt x="634" y="653"/>
                    </a:lnTo>
                    <a:lnTo>
                      <a:pt x="685" y="671"/>
                    </a:lnTo>
                    <a:lnTo>
                      <a:pt x="752" y="688"/>
                    </a:lnTo>
                    <a:lnTo>
                      <a:pt x="842" y="703"/>
                    </a:lnTo>
                    <a:lnTo>
                      <a:pt x="937" y="716"/>
                    </a:lnTo>
                    <a:lnTo>
                      <a:pt x="1024" y="727"/>
                    </a:lnTo>
                    <a:lnTo>
                      <a:pt x="1105" y="737"/>
                    </a:lnTo>
                    <a:lnTo>
                      <a:pt x="1181" y="747"/>
                    </a:lnTo>
                    <a:lnTo>
                      <a:pt x="1248" y="754"/>
                    </a:lnTo>
                    <a:lnTo>
                      <a:pt x="1309" y="763"/>
                    </a:lnTo>
                    <a:lnTo>
                      <a:pt x="1364" y="773"/>
                    </a:lnTo>
                    <a:lnTo>
                      <a:pt x="1416" y="782"/>
                    </a:lnTo>
                    <a:lnTo>
                      <a:pt x="1459" y="790"/>
                    </a:lnTo>
                    <a:lnTo>
                      <a:pt x="1499" y="800"/>
                    </a:lnTo>
                    <a:lnTo>
                      <a:pt x="1532" y="811"/>
                    </a:lnTo>
                    <a:lnTo>
                      <a:pt x="1561" y="824"/>
                    </a:lnTo>
                    <a:lnTo>
                      <a:pt x="1584" y="838"/>
                    </a:lnTo>
                    <a:lnTo>
                      <a:pt x="1603" y="855"/>
                    </a:lnTo>
                    <a:lnTo>
                      <a:pt x="1619" y="874"/>
                    </a:lnTo>
                    <a:lnTo>
                      <a:pt x="1631" y="896"/>
                    </a:lnTo>
                    <a:lnTo>
                      <a:pt x="1619" y="916"/>
                    </a:lnTo>
                    <a:lnTo>
                      <a:pt x="1573" y="936"/>
                    </a:lnTo>
                    <a:lnTo>
                      <a:pt x="1497" y="951"/>
                    </a:lnTo>
                    <a:lnTo>
                      <a:pt x="1395" y="968"/>
                    </a:lnTo>
                    <a:lnTo>
                      <a:pt x="1273" y="980"/>
                    </a:lnTo>
                    <a:lnTo>
                      <a:pt x="1134" y="992"/>
                    </a:lnTo>
                    <a:lnTo>
                      <a:pt x="986" y="1001"/>
                    </a:lnTo>
                    <a:lnTo>
                      <a:pt x="833" y="1010"/>
                    </a:lnTo>
                    <a:lnTo>
                      <a:pt x="678" y="1015"/>
                    </a:lnTo>
                    <a:lnTo>
                      <a:pt x="528" y="1021"/>
                    </a:lnTo>
                    <a:lnTo>
                      <a:pt x="386" y="1025"/>
                    </a:lnTo>
                    <a:lnTo>
                      <a:pt x="261" y="1029"/>
                    </a:lnTo>
                    <a:lnTo>
                      <a:pt x="153" y="1030"/>
                    </a:lnTo>
                    <a:lnTo>
                      <a:pt x="72" y="1032"/>
                    </a:lnTo>
                    <a:lnTo>
                      <a:pt x="18" y="1033"/>
                    </a:lnTo>
                    <a:lnTo>
                      <a:pt x="0" y="1034"/>
                    </a:lnTo>
                    <a:lnTo>
                      <a:pt x="22" y="1132"/>
                    </a:lnTo>
                    <a:lnTo>
                      <a:pt x="39" y="1132"/>
                    </a:lnTo>
                    <a:lnTo>
                      <a:pt x="90" y="1131"/>
                    </a:lnTo>
                    <a:lnTo>
                      <a:pt x="168" y="1128"/>
                    </a:lnTo>
                    <a:lnTo>
                      <a:pt x="271" y="1126"/>
                    </a:lnTo>
                    <a:lnTo>
                      <a:pt x="393" y="1121"/>
                    </a:lnTo>
                    <a:lnTo>
                      <a:pt x="530" y="1116"/>
                    </a:lnTo>
                    <a:lnTo>
                      <a:pt x="678" y="1109"/>
                    </a:lnTo>
                    <a:lnTo>
                      <a:pt x="833" y="1100"/>
                    </a:lnTo>
                    <a:lnTo>
                      <a:pt x="986" y="1089"/>
                    </a:lnTo>
                    <a:lnTo>
                      <a:pt x="1140" y="1078"/>
                    </a:lnTo>
                    <a:lnTo>
                      <a:pt x="1286" y="1064"/>
                    </a:lnTo>
                    <a:lnTo>
                      <a:pt x="1421" y="1050"/>
                    </a:lnTo>
                    <a:lnTo>
                      <a:pt x="1539" y="1031"/>
                    </a:lnTo>
                    <a:lnTo>
                      <a:pt x="1639" y="1012"/>
                    </a:lnTo>
                    <a:lnTo>
                      <a:pt x="1713" y="990"/>
                    </a:lnTo>
                    <a:lnTo>
                      <a:pt x="1758" y="965"/>
                    </a:lnTo>
                    <a:lnTo>
                      <a:pt x="1777" y="938"/>
                    </a:lnTo>
                    <a:lnTo>
                      <a:pt x="1778" y="912"/>
                    </a:lnTo>
                    <a:lnTo>
                      <a:pt x="1763" y="885"/>
                    </a:lnTo>
                    <a:lnTo>
                      <a:pt x="1736" y="858"/>
                    </a:lnTo>
                    <a:lnTo>
                      <a:pt x="1695" y="832"/>
                    </a:lnTo>
                    <a:lnTo>
                      <a:pt x="1642" y="805"/>
                    </a:lnTo>
                    <a:lnTo>
                      <a:pt x="1581" y="781"/>
                    </a:lnTo>
                    <a:lnTo>
                      <a:pt x="1513" y="758"/>
                    </a:lnTo>
                    <a:lnTo>
                      <a:pt x="1437" y="734"/>
                    </a:lnTo>
                    <a:lnTo>
                      <a:pt x="1358" y="713"/>
                    </a:lnTo>
                    <a:lnTo>
                      <a:pt x="1275" y="694"/>
                    </a:lnTo>
                    <a:lnTo>
                      <a:pt x="1192" y="679"/>
                    </a:lnTo>
                    <a:lnTo>
                      <a:pt x="1109" y="665"/>
                    </a:lnTo>
                    <a:lnTo>
                      <a:pt x="1029" y="654"/>
                    </a:lnTo>
                    <a:lnTo>
                      <a:pt x="952" y="645"/>
                    </a:lnTo>
                    <a:lnTo>
                      <a:pt x="881" y="640"/>
                    </a:lnTo>
                    <a:lnTo>
                      <a:pt x="818" y="635"/>
                    </a:lnTo>
                    <a:lnTo>
                      <a:pt x="771" y="629"/>
                    </a:lnTo>
                    <a:lnTo>
                      <a:pt x="734" y="621"/>
                    </a:lnTo>
                    <a:lnTo>
                      <a:pt x="710" y="612"/>
                    </a:lnTo>
                    <a:lnTo>
                      <a:pt x="693" y="600"/>
                    </a:lnTo>
                    <a:lnTo>
                      <a:pt x="687" y="587"/>
                    </a:lnTo>
                    <a:lnTo>
                      <a:pt x="687" y="576"/>
                    </a:lnTo>
                    <a:lnTo>
                      <a:pt x="694" y="564"/>
                    </a:lnTo>
                    <a:lnTo>
                      <a:pt x="706" y="551"/>
                    </a:lnTo>
                    <a:lnTo>
                      <a:pt x="721" y="539"/>
                    </a:lnTo>
                    <a:lnTo>
                      <a:pt x="739" y="527"/>
                    </a:lnTo>
                    <a:lnTo>
                      <a:pt x="760" y="518"/>
                    </a:lnTo>
                    <a:lnTo>
                      <a:pt x="781" y="508"/>
                    </a:lnTo>
                    <a:lnTo>
                      <a:pt x="801" y="501"/>
                    </a:lnTo>
                    <a:lnTo>
                      <a:pt x="818" y="496"/>
                    </a:lnTo>
                    <a:lnTo>
                      <a:pt x="835" y="496"/>
                    </a:lnTo>
                    <a:lnTo>
                      <a:pt x="850" y="492"/>
                    </a:lnTo>
                    <a:lnTo>
                      <a:pt x="874" y="486"/>
                    </a:lnTo>
                    <a:lnTo>
                      <a:pt x="901" y="477"/>
                    </a:lnTo>
                    <a:lnTo>
                      <a:pt x="934" y="468"/>
                    </a:lnTo>
                    <a:lnTo>
                      <a:pt x="969" y="454"/>
                    </a:lnTo>
                    <a:lnTo>
                      <a:pt x="1007" y="438"/>
                    </a:lnTo>
                    <a:lnTo>
                      <a:pt x="1044" y="422"/>
                    </a:lnTo>
                    <a:lnTo>
                      <a:pt x="1083" y="404"/>
                    </a:lnTo>
                    <a:lnTo>
                      <a:pt x="1118" y="383"/>
                    </a:lnTo>
                    <a:lnTo>
                      <a:pt x="1150" y="362"/>
                    </a:lnTo>
                    <a:lnTo>
                      <a:pt x="1180" y="340"/>
                    </a:lnTo>
                    <a:lnTo>
                      <a:pt x="1204" y="318"/>
                    </a:lnTo>
                    <a:lnTo>
                      <a:pt x="1220" y="293"/>
                    </a:lnTo>
                    <a:lnTo>
                      <a:pt x="1230" y="269"/>
                    </a:lnTo>
                    <a:lnTo>
                      <a:pt x="1231" y="245"/>
                    </a:lnTo>
                    <a:lnTo>
                      <a:pt x="1223" y="221"/>
                    </a:lnTo>
                    <a:lnTo>
                      <a:pt x="1206" y="197"/>
                    </a:lnTo>
                    <a:lnTo>
                      <a:pt x="1192" y="177"/>
                    </a:lnTo>
                    <a:lnTo>
                      <a:pt x="1175" y="160"/>
                    </a:lnTo>
                    <a:lnTo>
                      <a:pt x="1159" y="143"/>
                    </a:lnTo>
                    <a:lnTo>
                      <a:pt x="1142" y="127"/>
                    </a:lnTo>
                    <a:lnTo>
                      <a:pt x="1126" y="115"/>
                    </a:lnTo>
                    <a:lnTo>
                      <a:pt x="1110" y="103"/>
                    </a:lnTo>
                    <a:lnTo>
                      <a:pt x="1096" y="95"/>
                    </a:lnTo>
                    <a:lnTo>
                      <a:pt x="1080" y="87"/>
                    </a:lnTo>
                    <a:lnTo>
                      <a:pt x="1067" y="80"/>
                    </a:lnTo>
                    <a:lnTo>
                      <a:pt x="1055" y="74"/>
                    </a:lnTo>
                    <a:lnTo>
                      <a:pt x="1045" y="71"/>
                    </a:lnTo>
                    <a:lnTo>
                      <a:pt x="1036" y="67"/>
                    </a:lnTo>
                    <a:lnTo>
                      <a:pt x="1032" y="67"/>
                    </a:lnTo>
                    <a:lnTo>
                      <a:pt x="1027" y="66"/>
                    </a:lnTo>
                    <a:lnTo>
                      <a:pt x="1026" y="66"/>
                    </a:lnTo>
                    <a:lnTo>
                      <a:pt x="1024" y="64"/>
                    </a:lnTo>
                    <a:lnTo>
                      <a:pt x="1022" y="62"/>
                    </a:lnTo>
                    <a:lnTo>
                      <a:pt x="1015" y="58"/>
                    </a:lnTo>
                    <a:lnTo>
                      <a:pt x="1010" y="56"/>
                    </a:lnTo>
                    <a:lnTo>
                      <a:pt x="998" y="49"/>
                    </a:lnTo>
                    <a:lnTo>
                      <a:pt x="989" y="45"/>
                    </a:lnTo>
                    <a:lnTo>
                      <a:pt x="975" y="38"/>
                    </a:lnTo>
                    <a:lnTo>
                      <a:pt x="963" y="32"/>
                    </a:lnTo>
                    <a:lnTo>
                      <a:pt x="947" y="27"/>
                    </a:lnTo>
                    <a:lnTo>
                      <a:pt x="930" y="20"/>
                    </a:lnTo>
                    <a:lnTo>
                      <a:pt x="910" y="15"/>
                    </a:lnTo>
                    <a:lnTo>
                      <a:pt x="890" y="10"/>
                    </a:lnTo>
                    <a:lnTo>
                      <a:pt x="868" y="6"/>
                    </a:lnTo>
                    <a:lnTo>
                      <a:pt x="846" y="3"/>
                    </a:lnTo>
                    <a:lnTo>
                      <a:pt x="822" y="0"/>
                    </a:lnTo>
                    <a:lnTo>
                      <a:pt x="798" y="0"/>
                    </a:lnTo>
                    <a:lnTo>
                      <a:pt x="794" y="0"/>
                    </a:lnTo>
                    <a:lnTo>
                      <a:pt x="788" y="0"/>
                    </a:lnTo>
                    <a:lnTo>
                      <a:pt x="780" y="1"/>
                    </a:lnTo>
                    <a:lnTo>
                      <a:pt x="770" y="4"/>
                    </a:lnTo>
                    <a:lnTo>
                      <a:pt x="756" y="5"/>
                    </a:lnTo>
                    <a:lnTo>
                      <a:pt x="743" y="7"/>
                    </a:lnTo>
                    <a:lnTo>
                      <a:pt x="729" y="8"/>
                    </a:lnTo>
                    <a:lnTo>
                      <a:pt x="714" y="10"/>
                    </a:lnTo>
                    <a:lnTo>
                      <a:pt x="700" y="11"/>
                    </a:lnTo>
                    <a:lnTo>
                      <a:pt x="686" y="14"/>
                    </a:lnTo>
                    <a:lnTo>
                      <a:pt x="671" y="16"/>
                    </a:lnTo>
                    <a:lnTo>
                      <a:pt x="660" y="18"/>
                    </a:lnTo>
                    <a:lnTo>
                      <a:pt x="650" y="19"/>
                    </a:lnTo>
                    <a:lnTo>
                      <a:pt x="644" y="20"/>
                    </a:lnTo>
                    <a:lnTo>
                      <a:pt x="638" y="20"/>
                    </a:lnTo>
                    <a:lnTo>
                      <a:pt x="637" y="21"/>
                    </a:lnTo>
                    <a:lnTo>
                      <a:pt x="637" y="21"/>
                    </a:lnTo>
                    <a:close/>
                  </a:path>
                </a:pathLst>
              </a:custGeom>
              <a:solidFill>
                <a:srgbClr val="b39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1019520" y="5537160"/>
                <a:ext cx="2103480" cy="693720"/>
              </a:xfrm>
              <a:custGeom>
                <a:avLst/>
                <a:gdLst/>
                <a:ahLst/>
                <a:rect l="l" t="t" r="r" b="b"/>
                <a:pathLst>
                  <a:path w="2650" h="874">
                    <a:moveTo>
                      <a:pt x="46" y="0"/>
                    </a:moveTo>
                    <a:lnTo>
                      <a:pt x="46" y="2"/>
                    </a:lnTo>
                    <a:lnTo>
                      <a:pt x="46" y="6"/>
                    </a:lnTo>
                    <a:lnTo>
                      <a:pt x="48" y="10"/>
                    </a:lnTo>
                    <a:lnTo>
                      <a:pt x="51" y="20"/>
                    </a:lnTo>
                    <a:lnTo>
                      <a:pt x="53" y="30"/>
                    </a:lnTo>
                    <a:lnTo>
                      <a:pt x="57" y="44"/>
                    </a:lnTo>
                    <a:lnTo>
                      <a:pt x="63" y="57"/>
                    </a:lnTo>
                    <a:lnTo>
                      <a:pt x="71" y="72"/>
                    </a:lnTo>
                    <a:lnTo>
                      <a:pt x="78" y="88"/>
                    </a:lnTo>
                    <a:lnTo>
                      <a:pt x="90" y="106"/>
                    </a:lnTo>
                    <a:lnTo>
                      <a:pt x="103" y="124"/>
                    </a:lnTo>
                    <a:lnTo>
                      <a:pt x="119" y="143"/>
                    </a:lnTo>
                    <a:lnTo>
                      <a:pt x="136" y="162"/>
                    </a:lnTo>
                    <a:lnTo>
                      <a:pt x="158" y="182"/>
                    </a:lnTo>
                    <a:lnTo>
                      <a:pt x="181" y="201"/>
                    </a:lnTo>
                    <a:lnTo>
                      <a:pt x="208" y="220"/>
                    </a:lnTo>
                    <a:lnTo>
                      <a:pt x="235" y="238"/>
                    </a:lnTo>
                    <a:lnTo>
                      <a:pt x="266" y="256"/>
                    </a:lnTo>
                    <a:lnTo>
                      <a:pt x="297" y="271"/>
                    </a:lnTo>
                    <a:lnTo>
                      <a:pt x="331" y="288"/>
                    </a:lnTo>
                    <a:lnTo>
                      <a:pt x="364" y="300"/>
                    </a:lnTo>
                    <a:lnTo>
                      <a:pt x="396" y="313"/>
                    </a:lnTo>
                    <a:lnTo>
                      <a:pt x="428" y="326"/>
                    </a:lnTo>
                    <a:lnTo>
                      <a:pt x="460" y="338"/>
                    </a:lnTo>
                    <a:lnTo>
                      <a:pt x="490" y="347"/>
                    </a:lnTo>
                    <a:lnTo>
                      <a:pt x="517" y="356"/>
                    </a:lnTo>
                    <a:lnTo>
                      <a:pt x="543" y="363"/>
                    </a:lnTo>
                    <a:lnTo>
                      <a:pt x="567" y="371"/>
                    </a:lnTo>
                    <a:lnTo>
                      <a:pt x="586" y="377"/>
                    </a:lnTo>
                    <a:lnTo>
                      <a:pt x="604" y="383"/>
                    </a:lnTo>
                    <a:lnTo>
                      <a:pt x="616" y="387"/>
                    </a:lnTo>
                    <a:lnTo>
                      <a:pt x="625" y="393"/>
                    </a:lnTo>
                    <a:lnTo>
                      <a:pt x="630" y="396"/>
                    </a:lnTo>
                    <a:lnTo>
                      <a:pt x="639" y="405"/>
                    </a:lnTo>
                    <a:lnTo>
                      <a:pt x="650" y="414"/>
                    </a:lnTo>
                    <a:lnTo>
                      <a:pt x="664" y="426"/>
                    </a:lnTo>
                    <a:lnTo>
                      <a:pt x="680" y="437"/>
                    </a:lnTo>
                    <a:lnTo>
                      <a:pt x="698" y="452"/>
                    </a:lnTo>
                    <a:lnTo>
                      <a:pt x="719" y="465"/>
                    </a:lnTo>
                    <a:lnTo>
                      <a:pt x="741" y="480"/>
                    </a:lnTo>
                    <a:lnTo>
                      <a:pt x="764" y="494"/>
                    </a:lnTo>
                    <a:lnTo>
                      <a:pt x="788" y="508"/>
                    </a:lnTo>
                    <a:lnTo>
                      <a:pt x="815" y="520"/>
                    </a:lnTo>
                    <a:lnTo>
                      <a:pt x="845" y="532"/>
                    </a:lnTo>
                    <a:lnTo>
                      <a:pt x="873" y="542"/>
                    </a:lnTo>
                    <a:lnTo>
                      <a:pt x="905" y="551"/>
                    </a:lnTo>
                    <a:lnTo>
                      <a:pt x="937" y="557"/>
                    </a:lnTo>
                    <a:lnTo>
                      <a:pt x="972" y="561"/>
                    </a:lnTo>
                    <a:lnTo>
                      <a:pt x="1008" y="561"/>
                    </a:lnTo>
                    <a:lnTo>
                      <a:pt x="1050" y="562"/>
                    </a:lnTo>
                    <a:lnTo>
                      <a:pt x="1096" y="561"/>
                    </a:lnTo>
                    <a:lnTo>
                      <a:pt x="1146" y="560"/>
                    </a:lnTo>
                    <a:lnTo>
                      <a:pt x="1197" y="558"/>
                    </a:lnTo>
                    <a:lnTo>
                      <a:pt x="1251" y="555"/>
                    </a:lnTo>
                    <a:lnTo>
                      <a:pt x="1306" y="553"/>
                    </a:lnTo>
                    <a:lnTo>
                      <a:pt x="1360" y="551"/>
                    </a:lnTo>
                    <a:lnTo>
                      <a:pt x="1412" y="548"/>
                    </a:lnTo>
                    <a:lnTo>
                      <a:pt x="1463" y="544"/>
                    </a:lnTo>
                    <a:lnTo>
                      <a:pt x="1509" y="543"/>
                    </a:lnTo>
                    <a:lnTo>
                      <a:pt x="1553" y="541"/>
                    </a:lnTo>
                    <a:lnTo>
                      <a:pt x="1592" y="539"/>
                    </a:lnTo>
                    <a:lnTo>
                      <a:pt x="1625" y="539"/>
                    </a:lnTo>
                    <a:lnTo>
                      <a:pt x="1652" y="539"/>
                    </a:lnTo>
                    <a:lnTo>
                      <a:pt x="1670" y="541"/>
                    </a:lnTo>
                    <a:lnTo>
                      <a:pt x="1688" y="543"/>
                    </a:lnTo>
                    <a:lnTo>
                      <a:pt x="1712" y="548"/>
                    </a:lnTo>
                    <a:lnTo>
                      <a:pt x="1743" y="555"/>
                    </a:lnTo>
                    <a:lnTo>
                      <a:pt x="1780" y="564"/>
                    </a:lnTo>
                    <a:lnTo>
                      <a:pt x="1817" y="573"/>
                    </a:lnTo>
                    <a:lnTo>
                      <a:pt x="1859" y="584"/>
                    </a:lnTo>
                    <a:lnTo>
                      <a:pt x="1901" y="595"/>
                    </a:lnTo>
                    <a:lnTo>
                      <a:pt x="1946" y="607"/>
                    </a:lnTo>
                    <a:lnTo>
                      <a:pt x="1987" y="619"/>
                    </a:lnTo>
                    <a:lnTo>
                      <a:pt x="2029" y="630"/>
                    </a:lnTo>
                    <a:lnTo>
                      <a:pt x="2066" y="638"/>
                    </a:lnTo>
                    <a:lnTo>
                      <a:pt x="2102" y="648"/>
                    </a:lnTo>
                    <a:lnTo>
                      <a:pt x="2131" y="657"/>
                    </a:lnTo>
                    <a:lnTo>
                      <a:pt x="2156" y="663"/>
                    </a:lnTo>
                    <a:lnTo>
                      <a:pt x="2172" y="668"/>
                    </a:lnTo>
                    <a:lnTo>
                      <a:pt x="2181" y="672"/>
                    </a:lnTo>
                    <a:lnTo>
                      <a:pt x="2190" y="672"/>
                    </a:lnTo>
                    <a:lnTo>
                      <a:pt x="2207" y="672"/>
                    </a:lnTo>
                    <a:lnTo>
                      <a:pt x="2232" y="672"/>
                    </a:lnTo>
                    <a:lnTo>
                      <a:pt x="2263" y="673"/>
                    </a:lnTo>
                    <a:lnTo>
                      <a:pt x="2298" y="673"/>
                    </a:lnTo>
                    <a:lnTo>
                      <a:pt x="2339" y="674"/>
                    </a:lnTo>
                    <a:lnTo>
                      <a:pt x="2380" y="674"/>
                    </a:lnTo>
                    <a:lnTo>
                      <a:pt x="2423" y="675"/>
                    </a:lnTo>
                    <a:lnTo>
                      <a:pt x="2465" y="675"/>
                    </a:lnTo>
                    <a:lnTo>
                      <a:pt x="2506" y="675"/>
                    </a:lnTo>
                    <a:lnTo>
                      <a:pt x="2544" y="675"/>
                    </a:lnTo>
                    <a:lnTo>
                      <a:pt x="2579" y="675"/>
                    </a:lnTo>
                    <a:lnTo>
                      <a:pt x="2607" y="675"/>
                    </a:lnTo>
                    <a:lnTo>
                      <a:pt x="2629" y="675"/>
                    </a:lnTo>
                    <a:lnTo>
                      <a:pt x="2643" y="675"/>
                    </a:lnTo>
                    <a:lnTo>
                      <a:pt x="2650" y="676"/>
                    </a:lnTo>
                    <a:lnTo>
                      <a:pt x="2647" y="676"/>
                    </a:lnTo>
                    <a:lnTo>
                      <a:pt x="2641" y="678"/>
                    </a:lnTo>
                    <a:lnTo>
                      <a:pt x="2633" y="682"/>
                    </a:lnTo>
                    <a:lnTo>
                      <a:pt x="2622" y="687"/>
                    </a:lnTo>
                    <a:lnTo>
                      <a:pt x="2607" y="693"/>
                    </a:lnTo>
                    <a:lnTo>
                      <a:pt x="2591" y="700"/>
                    </a:lnTo>
                    <a:lnTo>
                      <a:pt x="2571" y="708"/>
                    </a:lnTo>
                    <a:lnTo>
                      <a:pt x="2550" y="718"/>
                    </a:lnTo>
                    <a:lnTo>
                      <a:pt x="2526" y="727"/>
                    </a:lnTo>
                    <a:lnTo>
                      <a:pt x="2501" y="737"/>
                    </a:lnTo>
                    <a:lnTo>
                      <a:pt x="2473" y="747"/>
                    </a:lnTo>
                    <a:lnTo>
                      <a:pt x="2444" y="758"/>
                    </a:lnTo>
                    <a:lnTo>
                      <a:pt x="2413" y="768"/>
                    </a:lnTo>
                    <a:lnTo>
                      <a:pt x="2383" y="778"/>
                    </a:lnTo>
                    <a:lnTo>
                      <a:pt x="2351" y="788"/>
                    </a:lnTo>
                    <a:lnTo>
                      <a:pt x="2319" y="799"/>
                    </a:lnTo>
                    <a:lnTo>
                      <a:pt x="2287" y="809"/>
                    </a:lnTo>
                    <a:lnTo>
                      <a:pt x="2260" y="818"/>
                    </a:lnTo>
                    <a:lnTo>
                      <a:pt x="2233" y="824"/>
                    </a:lnTo>
                    <a:lnTo>
                      <a:pt x="2211" y="833"/>
                    </a:lnTo>
                    <a:lnTo>
                      <a:pt x="2189" y="839"/>
                    </a:lnTo>
                    <a:lnTo>
                      <a:pt x="2170" y="845"/>
                    </a:lnTo>
                    <a:lnTo>
                      <a:pt x="2152" y="851"/>
                    </a:lnTo>
                    <a:lnTo>
                      <a:pt x="2135" y="856"/>
                    </a:lnTo>
                    <a:lnTo>
                      <a:pt x="2117" y="861"/>
                    </a:lnTo>
                    <a:lnTo>
                      <a:pt x="2102" y="865"/>
                    </a:lnTo>
                    <a:lnTo>
                      <a:pt x="2083" y="867"/>
                    </a:lnTo>
                    <a:lnTo>
                      <a:pt x="2066" y="871"/>
                    </a:lnTo>
                    <a:lnTo>
                      <a:pt x="2045" y="872"/>
                    </a:lnTo>
                    <a:lnTo>
                      <a:pt x="2024" y="874"/>
                    </a:lnTo>
                    <a:lnTo>
                      <a:pt x="2001" y="874"/>
                    </a:lnTo>
                    <a:lnTo>
                      <a:pt x="1977" y="874"/>
                    </a:lnTo>
                    <a:lnTo>
                      <a:pt x="1946" y="874"/>
                    </a:lnTo>
                    <a:lnTo>
                      <a:pt x="1910" y="872"/>
                    </a:lnTo>
                    <a:lnTo>
                      <a:pt x="1869" y="867"/>
                    </a:lnTo>
                    <a:lnTo>
                      <a:pt x="1826" y="862"/>
                    </a:lnTo>
                    <a:lnTo>
                      <a:pt x="1778" y="855"/>
                    </a:lnTo>
                    <a:lnTo>
                      <a:pt x="1729" y="848"/>
                    </a:lnTo>
                    <a:lnTo>
                      <a:pt x="1678" y="841"/>
                    </a:lnTo>
                    <a:lnTo>
                      <a:pt x="1630" y="834"/>
                    </a:lnTo>
                    <a:lnTo>
                      <a:pt x="1579" y="824"/>
                    </a:lnTo>
                    <a:lnTo>
                      <a:pt x="1532" y="818"/>
                    </a:lnTo>
                    <a:lnTo>
                      <a:pt x="1488" y="810"/>
                    </a:lnTo>
                    <a:lnTo>
                      <a:pt x="1450" y="804"/>
                    </a:lnTo>
                    <a:lnTo>
                      <a:pt x="1415" y="799"/>
                    </a:lnTo>
                    <a:lnTo>
                      <a:pt x="1385" y="794"/>
                    </a:lnTo>
                    <a:lnTo>
                      <a:pt x="1363" y="791"/>
                    </a:lnTo>
                    <a:lnTo>
                      <a:pt x="1350" y="791"/>
                    </a:lnTo>
                    <a:lnTo>
                      <a:pt x="1339" y="791"/>
                    </a:lnTo>
                    <a:lnTo>
                      <a:pt x="1329" y="791"/>
                    </a:lnTo>
                    <a:lnTo>
                      <a:pt x="1318" y="791"/>
                    </a:lnTo>
                    <a:lnTo>
                      <a:pt x="1307" y="791"/>
                    </a:lnTo>
                    <a:lnTo>
                      <a:pt x="1293" y="791"/>
                    </a:lnTo>
                    <a:lnTo>
                      <a:pt x="1279" y="791"/>
                    </a:lnTo>
                    <a:lnTo>
                      <a:pt x="1264" y="791"/>
                    </a:lnTo>
                    <a:lnTo>
                      <a:pt x="1247" y="791"/>
                    </a:lnTo>
                    <a:lnTo>
                      <a:pt x="1226" y="790"/>
                    </a:lnTo>
                    <a:lnTo>
                      <a:pt x="1205" y="790"/>
                    </a:lnTo>
                    <a:lnTo>
                      <a:pt x="1181" y="790"/>
                    </a:lnTo>
                    <a:lnTo>
                      <a:pt x="1154" y="790"/>
                    </a:lnTo>
                    <a:lnTo>
                      <a:pt x="1124" y="789"/>
                    </a:lnTo>
                    <a:lnTo>
                      <a:pt x="1091" y="788"/>
                    </a:lnTo>
                    <a:lnTo>
                      <a:pt x="1055" y="788"/>
                    </a:lnTo>
                    <a:lnTo>
                      <a:pt x="1016" y="787"/>
                    </a:lnTo>
                    <a:lnTo>
                      <a:pt x="973" y="783"/>
                    </a:lnTo>
                    <a:lnTo>
                      <a:pt x="934" y="783"/>
                    </a:lnTo>
                    <a:lnTo>
                      <a:pt x="895" y="783"/>
                    </a:lnTo>
                    <a:lnTo>
                      <a:pt x="860" y="783"/>
                    </a:lnTo>
                    <a:lnTo>
                      <a:pt x="826" y="782"/>
                    </a:lnTo>
                    <a:lnTo>
                      <a:pt x="794" y="781"/>
                    </a:lnTo>
                    <a:lnTo>
                      <a:pt x="763" y="780"/>
                    </a:lnTo>
                    <a:lnTo>
                      <a:pt x="733" y="780"/>
                    </a:lnTo>
                    <a:lnTo>
                      <a:pt x="705" y="775"/>
                    </a:lnTo>
                    <a:lnTo>
                      <a:pt x="678" y="773"/>
                    </a:lnTo>
                    <a:lnTo>
                      <a:pt x="652" y="767"/>
                    </a:lnTo>
                    <a:lnTo>
                      <a:pt x="629" y="761"/>
                    </a:lnTo>
                    <a:lnTo>
                      <a:pt x="607" y="752"/>
                    </a:lnTo>
                    <a:lnTo>
                      <a:pt x="587" y="741"/>
                    </a:lnTo>
                    <a:lnTo>
                      <a:pt x="568" y="729"/>
                    </a:lnTo>
                    <a:lnTo>
                      <a:pt x="551" y="715"/>
                    </a:lnTo>
                    <a:lnTo>
                      <a:pt x="533" y="697"/>
                    </a:lnTo>
                    <a:lnTo>
                      <a:pt x="515" y="684"/>
                    </a:lnTo>
                    <a:lnTo>
                      <a:pt x="497" y="672"/>
                    </a:lnTo>
                    <a:lnTo>
                      <a:pt x="480" y="663"/>
                    </a:lnTo>
                    <a:lnTo>
                      <a:pt x="461" y="654"/>
                    </a:lnTo>
                    <a:lnTo>
                      <a:pt x="443" y="647"/>
                    </a:lnTo>
                    <a:lnTo>
                      <a:pt x="422" y="641"/>
                    </a:lnTo>
                    <a:lnTo>
                      <a:pt x="404" y="636"/>
                    </a:lnTo>
                    <a:lnTo>
                      <a:pt x="383" y="631"/>
                    </a:lnTo>
                    <a:lnTo>
                      <a:pt x="361" y="626"/>
                    </a:lnTo>
                    <a:lnTo>
                      <a:pt x="339" y="622"/>
                    </a:lnTo>
                    <a:lnTo>
                      <a:pt x="317" y="617"/>
                    </a:lnTo>
                    <a:lnTo>
                      <a:pt x="293" y="612"/>
                    </a:lnTo>
                    <a:lnTo>
                      <a:pt x="269" y="605"/>
                    </a:lnTo>
                    <a:lnTo>
                      <a:pt x="243" y="597"/>
                    </a:lnTo>
                    <a:lnTo>
                      <a:pt x="218" y="590"/>
                    </a:lnTo>
                    <a:lnTo>
                      <a:pt x="191" y="578"/>
                    </a:lnTo>
                    <a:lnTo>
                      <a:pt x="167" y="565"/>
                    </a:lnTo>
                    <a:lnTo>
                      <a:pt x="144" y="550"/>
                    </a:lnTo>
                    <a:lnTo>
                      <a:pt x="124" y="534"/>
                    </a:lnTo>
                    <a:lnTo>
                      <a:pt x="103" y="517"/>
                    </a:lnTo>
                    <a:lnTo>
                      <a:pt x="85" y="498"/>
                    </a:lnTo>
                    <a:lnTo>
                      <a:pt x="69" y="479"/>
                    </a:lnTo>
                    <a:lnTo>
                      <a:pt x="55" y="460"/>
                    </a:lnTo>
                    <a:lnTo>
                      <a:pt x="42" y="441"/>
                    </a:lnTo>
                    <a:lnTo>
                      <a:pt x="31" y="420"/>
                    </a:lnTo>
                    <a:lnTo>
                      <a:pt x="21" y="398"/>
                    </a:lnTo>
                    <a:lnTo>
                      <a:pt x="12" y="380"/>
                    </a:lnTo>
                    <a:lnTo>
                      <a:pt x="6" y="359"/>
                    </a:lnTo>
                    <a:lnTo>
                      <a:pt x="0" y="341"/>
                    </a:lnTo>
                    <a:lnTo>
                      <a:pt x="0" y="323"/>
                    </a:lnTo>
                    <a:lnTo>
                      <a:pt x="0" y="308"/>
                    </a:lnTo>
                    <a:lnTo>
                      <a:pt x="0" y="289"/>
                    </a:lnTo>
                    <a:lnTo>
                      <a:pt x="0" y="268"/>
                    </a:lnTo>
                    <a:lnTo>
                      <a:pt x="0" y="246"/>
                    </a:lnTo>
                    <a:lnTo>
                      <a:pt x="2" y="223"/>
                    </a:lnTo>
                    <a:lnTo>
                      <a:pt x="6" y="196"/>
                    </a:lnTo>
                    <a:lnTo>
                      <a:pt x="10" y="172"/>
                    </a:lnTo>
                    <a:lnTo>
                      <a:pt x="14" y="145"/>
                    </a:lnTo>
                    <a:lnTo>
                      <a:pt x="20" y="121"/>
                    </a:lnTo>
                    <a:lnTo>
                      <a:pt x="23" y="96"/>
                    </a:lnTo>
                    <a:lnTo>
                      <a:pt x="29" y="73"/>
                    </a:lnTo>
                    <a:lnTo>
                      <a:pt x="33" y="54"/>
                    </a:lnTo>
                    <a:lnTo>
                      <a:pt x="38" y="36"/>
                    </a:lnTo>
                    <a:lnTo>
                      <a:pt x="41" y="21"/>
                    </a:lnTo>
                    <a:lnTo>
                      <a:pt x="44" y="10"/>
                    </a:lnTo>
                    <a:lnTo>
                      <a:pt x="45" y="3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9e9e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524600" y="4470480"/>
                <a:ext cx="1501560" cy="1299960"/>
              </a:xfrm>
              <a:custGeom>
                <a:avLst/>
                <a:gdLst/>
                <a:ahLst/>
                <a:rect l="l" t="t" r="r" b="b"/>
                <a:pathLst>
                  <a:path w="1891" h="1639">
                    <a:moveTo>
                      <a:pt x="151" y="0"/>
                    </a:moveTo>
                    <a:lnTo>
                      <a:pt x="303" y="0"/>
                    </a:lnTo>
                    <a:lnTo>
                      <a:pt x="551" y="0"/>
                    </a:lnTo>
                    <a:lnTo>
                      <a:pt x="739" y="6"/>
                    </a:lnTo>
                    <a:lnTo>
                      <a:pt x="831" y="52"/>
                    </a:lnTo>
                    <a:lnTo>
                      <a:pt x="840" y="131"/>
                    </a:lnTo>
                    <a:lnTo>
                      <a:pt x="812" y="187"/>
                    </a:lnTo>
                    <a:lnTo>
                      <a:pt x="749" y="249"/>
                    </a:lnTo>
                    <a:lnTo>
                      <a:pt x="469" y="353"/>
                    </a:lnTo>
                    <a:lnTo>
                      <a:pt x="218" y="422"/>
                    </a:lnTo>
                    <a:lnTo>
                      <a:pt x="174" y="453"/>
                    </a:lnTo>
                    <a:lnTo>
                      <a:pt x="174" y="498"/>
                    </a:lnTo>
                    <a:lnTo>
                      <a:pt x="203" y="541"/>
                    </a:lnTo>
                    <a:lnTo>
                      <a:pt x="279" y="568"/>
                    </a:lnTo>
                    <a:lnTo>
                      <a:pt x="410" y="578"/>
                    </a:lnTo>
                    <a:lnTo>
                      <a:pt x="671" y="603"/>
                    </a:lnTo>
                    <a:lnTo>
                      <a:pt x="967" y="623"/>
                    </a:lnTo>
                    <a:lnTo>
                      <a:pt x="1147" y="656"/>
                    </a:lnTo>
                    <a:lnTo>
                      <a:pt x="1292" y="696"/>
                    </a:lnTo>
                    <a:lnTo>
                      <a:pt x="1343" y="763"/>
                    </a:lnTo>
                    <a:lnTo>
                      <a:pt x="1345" y="853"/>
                    </a:lnTo>
                    <a:lnTo>
                      <a:pt x="1282" y="918"/>
                    </a:lnTo>
                    <a:lnTo>
                      <a:pt x="285" y="1126"/>
                    </a:lnTo>
                    <a:lnTo>
                      <a:pt x="257" y="1141"/>
                    </a:lnTo>
                    <a:lnTo>
                      <a:pt x="261" y="1163"/>
                    </a:lnTo>
                    <a:lnTo>
                      <a:pt x="310" y="1186"/>
                    </a:lnTo>
                    <a:lnTo>
                      <a:pt x="1020" y="1180"/>
                    </a:lnTo>
                    <a:lnTo>
                      <a:pt x="1248" y="1134"/>
                    </a:lnTo>
                    <a:lnTo>
                      <a:pt x="1891" y="1000"/>
                    </a:lnTo>
                    <a:lnTo>
                      <a:pt x="1855" y="1066"/>
                    </a:lnTo>
                    <a:lnTo>
                      <a:pt x="1697" y="1116"/>
                    </a:lnTo>
                    <a:lnTo>
                      <a:pt x="1593" y="1203"/>
                    </a:lnTo>
                    <a:lnTo>
                      <a:pt x="1525" y="1317"/>
                    </a:lnTo>
                    <a:lnTo>
                      <a:pt x="1503" y="1639"/>
                    </a:lnTo>
                    <a:lnTo>
                      <a:pt x="206" y="1330"/>
                    </a:lnTo>
                    <a:lnTo>
                      <a:pt x="45" y="1170"/>
                    </a:lnTo>
                    <a:lnTo>
                      <a:pt x="60" y="1097"/>
                    </a:lnTo>
                    <a:lnTo>
                      <a:pt x="134" y="1031"/>
                    </a:lnTo>
                    <a:lnTo>
                      <a:pt x="191" y="997"/>
                    </a:lnTo>
                    <a:lnTo>
                      <a:pt x="419" y="953"/>
                    </a:lnTo>
                    <a:lnTo>
                      <a:pt x="850" y="878"/>
                    </a:lnTo>
                    <a:lnTo>
                      <a:pt x="1028" y="847"/>
                    </a:lnTo>
                    <a:lnTo>
                      <a:pt x="1075" y="811"/>
                    </a:lnTo>
                    <a:lnTo>
                      <a:pt x="1071" y="785"/>
                    </a:lnTo>
                    <a:lnTo>
                      <a:pt x="989" y="738"/>
                    </a:lnTo>
                    <a:lnTo>
                      <a:pt x="780" y="708"/>
                    </a:lnTo>
                    <a:lnTo>
                      <a:pt x="400" y="670"/>
                    </a:lnTo>
                    <a:lnTo>
                      <a:pt x="211" y="658"/>
                    </a:lnTo>
                    <a:lnTo>
                      <a:pt x="43" y="603"/>
                    </a:lnTo>
                    <a:lnTo>
                      <a:pt x="0" y="531"/>
                    </a:lnTo>
                    <a:lnTo>
                      <a:pt x="6" y="469"/>
                    </a:lnTo>
                    <a:lnTo>
                      <a:pt x="55" y="394"/>
                    </a:lnTo>
                    <a:lnTo>
                      <a:pt x="155" y="333"/>
                    </a:lnTo>
                    <a:lnTo>
                      <a:pt x="309" y="300"/>
                    </a:lnTo>
                    <a:lnTo>
                      <a:pt x="582" y="242"/>
                    </a:lnTo>
                    <a:lnTo>
                      <a:pt x="730" y="185"/>
                    </a:lnTo>
                    <a:lnTo>
                      <a:pt x="768" y="141"/>
                    </a:lnTo>
                    <a:lnTo>
                      <a:pt x="764" y="107"/>
                    </a:lnTo>
                    <a:lnTo>
                      <a:pt x="735" y="68"/>
                    </a:lnTo>
                    <a:lnTo>
                      <a:pt x="674" y="47"/>
                    </a:lnTo>
                    <a:lnTo>
                      <a:pt x="528" y="41"/>
                    </a:lnTo>
                    <a:lnTo>
                      <a:pt x="352" y="37"/>
                    </a:lnTo>
                    <a:lnTo>
                      <a:pt x="196" y="33"/>
                    </a:lnTo>
                    <a:lnTo>
                      <a:pt x="125" y="33"/>
                    </a:lnTo>
                    <a:lnTo>
                      <a:pt x="151" y="0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9e9e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1145160" y="5305320"/>
                <a:ext cx="1857240" cy="614520"/>
              </a:xfrm>
              <a:custGeom>
                <a:avLst/>
                <a:gdLst/>
                <a:ahLst/>
                <a:rect l="l" t="t" r="r" b="b"/>
                <a:pathLst>
                  <a:path w="2342" h="775">
                    <a:moveTo>
                      <a:pt x="80" y="0"/>
                    </a:moveTo>
                    <a:lnTo>
                      <a:pt x="78" y="0"/>
                    </a:lnTo>
                    <a:lnTo>
                      <a:pt x="76" y="2"/>
                    </a:lnTo>
                    <a:lnTo>
                      <a:pt x="72" y="6"/>
                    </a:lnTo>
                    <a:lnTo>
                      <a:pt x="68" y="14"/>
                    </a:lnTo>
                    <a:lnTo>
                      <a:pt x="62" y="19"/>
                    </a:lnTo>
                    <a:lnTo>
                      <a:pt x="57" y="28"/>
                    </a:lnTo>
                    <a:lnTo>
                      <a:pt x="52" y="37"/>
                    </a:lnTo>
                    <a:lnTo>
                      <a:pt x="49" y="49"/>
                    </a:lnTo>
                    <a:lnTo>
                      <a:pt x="44" y="60"/>
                    </a:lnTo>
                    <a:lnTo>
                      <a:pt x="42" y="72"/>
                    </a:lnTo>
                    <a:lnTo>
                      <a:pt x="41" y="86"/>
                    </a:lnTo>
                    <a:lnTo>
                      <a:pt x="44" y="100"/>
                    </a:lnTo>
                    <a:lnTo>
                      <a:pt x="47" y="113"/>
                    </a:lnTo>
                    <a:lnTo>
                      <a:pt x="54" y="128"/>
                    </a:lnTo>
                    <a:lnTo>
                      <a:pt x="63" y="141"/>
                    </a:lnTo>
                    <a:lnTo>
                      <a:pt x="77" y="154"/>
                    </a:lnTo>
                    <a:lnTo>
                      <a:pt x="92" y="166"/>
                    </a:lnTo>
                    <a:lnTo>
                      <a:pt x="111" y="181"/>
                    </a:lnTo>
                    <a:lnTo>
                      <a:pt x="131" y="193"/>
                    </a:lnTo>
                    <a:lnTo>
                      <a:pt x="153" y="207"/>
                    </a:lnTo>
                    <a:lnTo>
                      <a:pt x="174" y="220"/>
                    </a:lnTo>
                    <a:lnTo>
                      <a:pt x="198" y="233"/>
                    </a:lnTo>
                    <a:lnTo>
                      <a:pt x="220" y="244"/>
                    </a:lnTo>
                    <a:lnTo>
                      <a:pt x="244" y="256"/>
                    </a:lnTo>
                    <a:lnTo>
                      <a:pt x="264" y="265"/>
                    </a:lnTo>
                    <a:lnTo>
                      <a:pt x="283" y="274"/>
                    </a:lnTo>
                    <a:lnTo>
                      <a:pt x="302" y="281"/>
                    </a:lnTo>
                    <a:lnTo>
                      <a:pt x="318" y="290"/>
                    </a:lnTo>
                    <a:lnTo>
                      <a:pt x="331" y="295"/>
                    </a:lnTo>
                    <a:lnTo>
                      <a:pt x="341" y="299"/>
                    </a:lnTo>
                    <a:lnTo>
                      <a:pt x="348" y="301"/>
                    </a:lnTo>
                    <a:lnTo>
                      <a:pt x="351" y="302"/>
                    </a:lnTo>
                    <a:lnTo>
                      <a:pt x="304" y="229"/>
                    </a:lnTo>
                    <a:lnTo>
                      <a:pt x="443" y="315"/>
                    </a:lnTo>
                    <a:lnTo>
                      <a:pt x="442" y="311"/>
                    </a:lnTo>
                    <a:lnTo>
                      <a:pt x="439" y="305"/>
                    </a:lnTo>
                    <a:lnTo>
                      <a:pt x="437" y="300"/>
                    </a:lnTo>
                    <a:lnTo>
                      <a:pt x="435" y="296"/>
                    </a:lnTo>
                    <a:lnTo>
                      <a:pt x="432" y="290"/>
                    </a:lnTo>
                    <a:lnTo>
                      <a:pt x="430" y="285"/>
                    </a:lnTo>
                    <a:lnTo>
                      <a:pt x="425" y="278"/>
                    </a:lnTo>
                    <a:lnTo>
                      <a:pt x="421" y="270"/>
                    </a:lnTo>
                    <a:lnTo>
                      <a:pt x="415" y="264"/>
                    </a:lnTo>
                    <a:lnTo>
                      <a:pt x="409" y="257"/>
                    </a:lnTo>
                    <a:lnTo>
                      <a:pt x="402" y="250"/>
                    </a:lnTo>
                    <a:lnTo>
                      <a:pt x="395" y="244"/>
                    </a:lnTo>
                    <a:lnTo>
                      <a:pt x="386" y="237"/>
                    </a:lnTo>
                    <a:lnTo>
                      <a:pt x="379" y="232"/>
                    </a:lnTo>
                    <a:lnTo>
                      <a:pt x="383" y="232"/>
                    </a:lnTo>
                    <a:lnTo>
                      <a:pt x="387" y="233"/>
                    </a:lnTo>
                    <a:lnTo>
                      <a:pt x="396" y="235"/>
                    </a:lnTo>
                    <a:lnTo>
                      <a:pt x="404" y="238"/>
                    </a:lnTo>
                    <a:lnTo>
                      <a:pt x="415" y="243"/>
                    </a:lnTo>
                    <a:lnTo>
                      <a:pt x="427" y="246"/>
                    </a:lnTo>
                    <a:lnTo>
                      <a:pt x="442" y="253"/>
                    </a:lnTo>
                    <a:lnTo>
                      <a:pt x="454" y="257"/>
                    </a:lnTo>
                    <a:lnTo>
                      <a:pt x="469" y="265"/>
                    </a:lnTo>
                    <a:lnTo>
                      <a:pt x="485" y="273"/>
                    </a:lnTo>
                    <a:lnTo>
                      <a:pt x="499" y="281"/>
                    </a:lnTo>
                    <a:lnTo>
                      <a:pt x="513" y="291"/>
                    </a:lnTo>
                    <a:lnTo>
                      <a:pt x="529" y="302"/>
                    </a:lnTo>
                    <a:lnTo>
                      <a:pt x="543" y="315"/>
                    </a:lnTo>
                    <a:lnTo>
                      <a:pt x="558" y="329"/>
                    </a:lnTo>
                    <a:lnTo>
                      <a:pt x="557" y="326"/>
                    </a:lnTo>
                    <a:lnTo>
                      <a:pt x="554" y="317"/>
                    </a:lnTo>
                    <a:lnTo>
                      <a:pt x="551" y="310"/>
                    </a:lnTo>
                    <a:lnTo>
                      <a:pt x="548" y="304"/>
                    </a:lnTo>
                    <a:lnTo>
                      <a:pt x="545" y="297"/>
                    </a:lnTo>
                    <a:lnTo>
                      <a:pt x="542" y="290"/>
                    </a:lnTo>
                    <a:lnTo>
                      <a:pt x="537" y="281"/>
                    </a:lnTo>
                    <a:lnTo>
                      <a:pt x="532" y="275"/>
                    </a:lnTo>
                    <a:lnTo>
                      <a:pt x="526" y="267"/>
                    </a:lnTo>
                    <a:lnTo>
                      <a:pt x="521" y="260"/>
                    </a:lnTo>
                    <a:lnTo>
                      <a:pt x="513" y="255"/>
                    </a:lnTo>
                    <a:lnTo>
                      <a:pt x="507" y="249"/>
                    </a:lnTo>
                    <a:lnTo>
                      <a:pt x="492" y="243"/>
                    </a:lnTo>
                    <a:lnTo>
                      <a:pt x="501" y="244"/>
                    </a:lnTo>
                    <a:lnTo>
                      <a:pt x="511" y="248"/>
                    </a:lnTo>
                    <a:lnTo>
                      <a:pt x="523" y="254"/>
                    </a:lnTo>
                    <a:lnTo>
                      <a:pt x="533" y="260"/>
                    </a:lnTo>
                    <a:lnTo>
                      <a:pt x="547" y="267"/>
                    </a:lnTo>
                    <a:lnTo>
                      <a:pt x="562" y="276"/>
                    </a:lnTo>
                    <a:lnTo>
                      <a:pt x="576" y="283"/>
                    </a:lnTo>
                    <a:lnTo>
                      <a:pt x="592" y="292"/>
                    </a:lnTo>
                    <a:lnTo>
                      <a:pt x="607" y="302"/>
                    </a:lnTo>
                    <a:lnTo>
                      <a:pt x="624" y="315"/>
                    </a:lnTo>
                    <a:lnTo>
                      <a:pt x="637" y="326"/>
                    </a:lnTo>
                    <a:lnTo>
                      <a:pt x="653" y="339"/>
                    </a:lnTo>
                    <a:lnTo>
                      <a:pt x="667" y="352"/>
                    </a:lnTo>
                    <a:lnTo>
                      <a:pt x="680" y="368"/>
                    </a:lnTo>
                    <a:lnTo>
                      <a:pt x="678" y="363"/>
                    </a:lnTo>
                    <a:lnTo>
                      <a:pt x="675" y="356"/>
                    </a:lnTo>
                    <a:lnTo>
                      <a:pt x="671" y="350"/>
                    </a:lnTo>
                    <a:lnTo>
                      <a:pt x="669" y="343"/>
                    </a:lnTo>
                    <a:lnTo>
                      <a:pt x="665" y="337"/>
                    </a:lnTo>
                    <a:lnTo>
                      <a:pt x="662" y="329"/>
                    </a:lnTo>
                    <a:lnTo>
                      <a:pt x="657" y="320"/>
                    </a:lnTo>
                    <a:lnTo>
                      <a:pt x="652" y="312"/>
                    </a:lnTo>
                    <a:lnTo>
                      <a:pt x="646" y="304"/>
                    </a:lnTo>
                    <a:lnTo>
                      <a:pt x="641" y="296"/>
                    </a:lnTo>
                    <a:lnTo>
                      <a:pt x="633" y="288"/>
                    </a:lnTo>
                    <a:lnTo>
                      <a:pt x="625" y="280"/>
                    </a:lnTo>
                    <a:lnTo>
                      <a:pt x="617" y="275"/>
                    </a:lnTo>
                    <a:lnTo>
                      <a:pt x="611" y="269"/>
                    </a:lnTo>
                    <a:lnTo>
                      <a:pt x="612" y="269"/>
                    </a:lnTo>
                    <a:lnTo>
                      <a:pt x="615" y="271"/>
                    </a:lnTo>
                    <a:lnTo>
                      <a:pt x="623" y="274"/>
                    </a:lnTo>
                    <a:lnTo>
                      <a:pt x="633" y="278"/>
                    </a:lnTo>
                    <a:lnTo>
                      <a:pt x="644" y="281"/>
                    </a:lnTo>
                    <a:lnTo>
                      <a:pt x="657" y="288"/>
                    </a:lnTo>
                    <a:lnTo>
                      <a:pt x="670" y="294"/>
                    </a:lnTo>
                    <a:lnTo>
                      <a:pt x="686" y="302"/>
                    </a:lnTo>
                    <a:lnTo>
                      <a:pt x="701" y="309"/>
                    </a:lnTo>
                    <a:lnTo>
                      <a:pt x="716" y="317"/>
                    </a:lnTo>
                    <a:lnTo>
                      <a:pt x="731" y="326"/>
                    </a:lnTo>
                    <a:lnTo>
                      <a:pt x="747" y="337"/>
                    </a:lnTo>
                    <a:lnTo>
                      <a:pt x="761" y="347"/>
                    </a:lnTo>
                    <a:lnTo>
                      <a:pt x="773" y="358"/>
                    </a:lnTo>
                    <a:lnTo>
                      <a:pt x="784" y="369"/>
                    </a:lnTo>
                    <a:lnTo>
                      <a:pt x="795" y="381"/>
                    </a:lnTo>
                    <a:lnTo>
                      <a:pt x="793" y="377"/>
                    </a:lnTo>
                    <a:lnTo>
                      <a:pt x="790" y="369"/>
                    </a:lnTo>
                    <a:lnTo>
                      <a:pt x="785" y="361"/>
                    </a:lnTo>
                    <a:lnTo>
                      <a:pt x="783" y="356"/>
                    </a:lnTo>
                    <a:lnTo>
                      <a:pt x="779" y="349"/>
                    </a:lnTo>
                    <a:lnTo>
                      <a:pt x="775" y="341"/>
                    </a:lnTo>
                    <a:lnTo>
                      <a:pt x="770" y="332"/>
                    </a:lnTo>
                    <a:lnTo>
                      <a:pt x="764" y="325"/>
                    </a:lnTo>
                    <a:lnTo>
                      <a:pt x="759" y="316"/>
                    </a:lnTo>
                    <a:lnTo>
                      <a:pt x="752" y="309"/>
                    </a:lnTo>
                    <a:lnTo>
                      <a:pt x="746" y="302"/>
                    </a:lnTo>
                    <a:lnTo>
                      <a:pt x="739" y="296"/>
                    </a:lnTo>
                    <a:lnTo>
                      <a:pt x="730" y="290"/>
                    </a:lnTo>
                    <a:lnTo>
                      <a:pt x="723" y="286"/>
                    </a:lnTo>
                    <a:lnTo>
                      <a:pt x="725" y="286"/>
                    </a:lnTo>
                    <a:lnTo>
                      <a:pt x="729" y="288"/>
                    </a:lnTo>
                    <a:lnTo>
                      <a:pt x="737" y="291"/>
                    </a:lnTo>
                    <a:lnTo>
                      <a:pt x="747" y="296"/>
                    </a:lnTo>
                    <a:lnTo>
                      <a:pt x="758" y="301"/>
                    </a:lnTo>
                    <a:lnTo>
                      <a:pt x="772" y="308"/>
                    </a:lnTo>
                    <a:lnTo>
                      <a:pt x="786" y="315"/>
                    </a:lnTo>
                    <a:lnTo>
                      <a:pt x="804" y="325"/>
                    </a:lnTo>
                    <a:lnTo>
                      <a:pt x="819" y="332"/>
                    </a:lnTo>
                    <a:lnTo>
                      <a:pt x="837" y="342"/>
                    </a:lnTo>
                    <a:lnTo>
                      <a:pt x="854" y="352"/>
                    </a:lnTo>
                    <a:lnTo>
                      <a:pt x="870" y="363"/>
                    </a:lnTo>
                    <a:lnTo>
                      <a:pt x="886" y="374"/>
                    </a:lnTo>
                    <a:lnTo>
                      <a:pt x="900" y="386"/>
                    </a:lnTo>
                    <a:lnTo>
                      <a:pt x="914" y="399"/>
                    </a:lnTo>
                    <a:lnTo>
                      <a:pt x="926" y="411"/>
                    </a:lnTo>
                    <a:lnTo>
                      <a:pt x="925" y="409"/>
                    </a:lnTo>
                    <a:lnTo>
                      <a:pt x="922" y="406"/>
                    </a:lnTo>
                    <a:lnTo>
                      <a:pt x="920" y="401"/>
                    </a:lnTo>
                    <a:lnTo>
                      <a:pt x="918" y="396"/>
                    </a:lnTo>
                    <a:lnTo>
                      <a:pt x="912" y="388"/>
                    </a:lnTo>
                    <a:lnTo>
                      <a:pt x="909" y="380"/>
                    </a:lnTo>
                    <a:lnTo>
                      <a:pt x="903" y="371"/>
                    </a:lnTo>
                    <a:lnTo>
                      <a:pt x="898" y="362"/>
                    </a:lnTo>
                    <a:lnTo>
                      <a:pt x="890" y="352"/>
                    </a:lnTo>
                    <a:lnTo>
                      <a:pt x="885" y="342"/>
                    </a:lnTo>
                    <a:lnTo>
                      <a:pt x="877" y="333"/>
                    </a:lnTo>
                    <a:lnTo>
                      <a:pt x="872" y="326"/>
                    </a:lnTo>
                    <a:lnTo>
                      <a:pt x="865" y="316"/>
                    </a:lnTo>
                    <a:lnTo>
                      <a:pt x="858" y="309"/>
                    </a:lnTo>
                    <a:lnTo>
                      <a:pt x="853" y="302"/>
                    </a:lnTo>
                    <a:lnTo>
                      <a:pt x="846" y="299"/>
                    </a:lnTo>
                    <a:lnTo>
                      <a:pt x="848" y="299"/>
                    </a:lnTo>
                    <a:lnTo>
                      <a:pt x="855" y="302"/>
                    </a:lnTo>
                    <a:lnTo>
                      <a:pt x="865" y="308"/>
                    </a:lnTo>
                    <a:lnTo>
                      <a:pt x="880" y="316"/>
                    </a:lnTo>
                    <a:lnTo>
                      <a:pt x="897" y="325"/>
                    </a:lnTo>
                    <a:lnTo>
                      <a:pt x="917" y="336"/>
                    </a:lnTo>
                    <a:lnTo>
                      <a:pt x="937" y="347"/>
                    </a:lnTo>
                    <a:lnTo>
                      <a:pt x="959" y="360"/>
                    </a:lnTo>
                    <a:lnTo>
                      <a:pt x="980" y="372"/>
                    </a:lnTo>
                    <a:lnTo>
                      <a:pt x="1002" y="384"/>
                    </a:lnTo>
                    <a:lnTo>
                      <a:pt x="1022" y="396"/>
                    </a:lnTo>
                    <a:lnTo>
                      <a:pt x="1042" y="411"/>
                    </a:lnTo>
                    <a:lnTo>
                      <a:pt x="1058" y="423"/>
                    </a:lnTo>
                    <a:lnTo>
                      <a:pt x="1074" y="435"/>
                    </a:lnTo>
                    <a:lnTo>
                      <a:pt x="1085" y="446"/>
                    </a:lnTo>
                    <a:lnTo>
                      <a:pt x="1079" y="436"/>
                    </a:lnTo>
                    <a:lnTo>
                      <a:pt x="1072" y="426"/>
                    </a:lnTo>
                    <a:lnTo>
                      <a:pt x="1064" y="416"/>
                    </a:lnTo>
                    <a:lnTo>
                      <a:pt x="1055" y="404"/>
                    </a:lnTo>
                    <a:lnTo>
                      <a:pt x="1047" y="393"/>
                    </a:lnTo>
                    <a:lnTo>
                      <a:pt x="1035" y="380"/>
                    </a:lnTo>
                    <a:lnTo>
                      <a:pt x="1025" y="367"/>
                    </a:lnTo>
                    <a:lnTo>
                      <a:pt x="1014" y="354"/>
                    </a:lnTo>
                    <a:lnTo>
                      <a:pt x="1004" y="344"/>
                    </a:lnTo>
                    <a:lnTo>
                      <a:pt x="993" y="333"/>
                    </a:lnTo>
                    <a:lnTo>
                      <a:pt x="983" y="326"/>
                    </a:lnTo>
                    <a:lnTo>
                      <a:pt x="973" y="318"/>
                    </a:lnTo>
                    <a:lnTo>
                      <a:pt x="964" y="315"/>
                    </a:lnTo>
                    <a:lnTo>
                      <a:pt x="967" y="315"/>
                    </a:lnTo>
                    <a:lnTo>
                      <a:pt x="973" y="318"/>
                    </a:lnTo>
                    <a:lnTo>
                      <a:pt x="984" y="323"/>
                    </a:lnTo>
                    <a:lnTo>
                      <a:pt x="1000" y="330"/>
                    </a:lnTo>
                    <a:lnTo>
                      <a:pt x="1015" y="338"/>
                    </a:lnTo>
                    <a:lnTo>
                      <a:pt x="1035" y="349"/>
                    </a:lnTo>
                    <a:lnTo>
                      <a:pt x="1057" y="360"/>
                    </a:lnTo>
                    <a:lnTo>
                      <a:pt x="1082" y="372"/>
                    </a:lnTo>
                    <a:lnTo>
                      <a:pt x="1104" y="384"/>
                    </a:lnTo>
                    <a:lnTo>
                      <a:pt x="1127" y="398"/>
                    </a:lnTo>
                    <a:lnTo>
                      <a:pt x="1148" y="411"/>
                    </a:lnTo>
                    <a:lnTo>
                      <a:pt x="1170" y="425"/>
                    </a:lnTo>
                    <a:lnTo>
                      <a:pt x="1188" y="438"/>
                    </a:lnTo>
                    <a:lnTo>
                      <a:pt x="1205" y="452"/>
                    </a:lnTo>
                    <a:lnTo>
                      <a:pt x="1219" y="463"/>
                    </a:lnTo>
                    <a:lnTo>
                      <a:pt x="1230" y="475"/>
                    </a:lnTo>
                    <a:lnTo>
                      <a:pt x="1141" y="350"/>
                    </a:lnTo>
                    <a:lnTo>
                      <a:pt x="1371" y="496"/>
                    </a:lnTo>
                    <a:lnTo>
                      <a:pt x="1370" y="494"/>
                    </a:lnTo>
                    <a:lnTo>
                      <a:pt x="1368" y="489"/>
                    </a:lnTo>
                    <a:lnTo>
                      <a:pt x="1365" y="483"/>
                    </a:lnTo>
                    <a:lnTo>
                      <a:pt x="1360" y="475"/>
                    </a:lnTo>
                    <a:lnTo>
                      <a:pt x="1355" y="464"/>
                    </a:lnTo>
                    <a:lnTo>
                      <a:pt x="1348" y="453"/>
                    </a:lnTo>
                    <a:lnTo>
                      <a:pt x="1340" y="441"/>
                    </a:lnTo>
                    <a:lnTo>
                      <a:pt x="1333" y="428"/>
                    </a:lnTo>
                    <a:lnTo>
                      <a:pt x="1324" y="414"/>
                    </a:lnTo>
                    <a:lnTo>
                      <a:pt x="1315" y="402"/>
                    </a:lnTo>
                    <a:lnTo>
                      <a:pt x="1306" y="389"/>
                    </a:lnTo>
                    <a:lnTo>
                      <a:pt x="1298" y="378"/>
                    </a:lnTo>
                    <a:lnTo>
                      <a:pt x="1287" y="367"/>
                    </a:lnTo>
                    <a:lnTo>
                      <a:pt x="1278" y="358"/>
                    </a:lnTo>
                    <a:lnTo>
                      <a:pt x="1270" y="350"/>
                    </a:lnTo>
                    <a:lnTo>
                      <a:pt x="1262" y="347"/>
                    </a:lnTo>
                    <a:lnTo>
                      <a:pt x="1263" y="347"/>
                    </a:lnTo>
                    <a:lnTo>
                      <a:pt x="1268" y="350"/>
                    </a:lnTo>
                    <a:lnTo>
                      <a:pt x="1277" y="352"/>
                    </a:lnTo>
                    <a:lnTo>
                      <a:pt x="1289" y="359"/>
                    </a:lnTo>
                    <a:lnTo>
                      <a:pt x="1303" y="364"/>
                    </a:lnTo>
                    <a:lnTo>
                      <a:pt x="1319" y="372"/>
                    </a:lnTo>
                    <a:lnTo>
                      <a:pt x="1336" y="381"/>
                    </a:lnTo>
                    <a:lnTo>
                      <a:pt x="1355" y="391"/>
                    </a:lnTo>
                    <a:lnTo>
                      <a:pt x="1372" y="400"/>
                    </a:lnTo>
                    <a:lnTo>
                      <a:pt x="1390" y="412"/>
                    </a:lnTo>
                    <a:lnTo>
                      <a:pt x="1409" y="424"/>
                    </a:lnTo>
                    <a:lnTo>
                      <a:pt x="1427" y="436"/>
                    </a:lnTo>
                    <a:lnTo>
                      <a:pt x="1442" y="448"/>
                    </a:lnTo>
                    <a:lnTo>
                      <a:pt x="1456" y="462"/>
                    </a:lnTo>
                    <a:lnTo>
                      <a:pt x="1469" y="474"/>
                    </a:lnTo>
                    <a:lnTo>
                      <a:pt x="1477" y="488"/>
                    </a:lnTo>
                    <a:lnTo>
                      <a:pt x="1475" y="483"/>
                    </a:lnTo>
                    <a:lnTo>
                      <a:pt x="1473" y="469"/>
                    </a:lnTo>
                    <a:lnTo>
                      <a:pt x="1471" y="449"/>
                    </a:lnTo>
                    <a:lnTo>
                      <a:pt x="1470" y="424"/>
                    </a:lnTo>
                    <a:lnTo>
                      <a:pt x="1469" y="393"/>
                    </a:lnTo>
                    <a:lnTo>
                      <a:pt x="1470" y="358"/>
                    </a:lnTo>
                    <a:lnTo>
                      <a:pt x="1476" y="319"/>
                    </a:lnTo>
                    <a:lnTo>
                      <a:pt x="1486" y="280"/>
                    </a:lnTo>
                    <a:lnTo>
                      <a:pt x="1501" y="237"/>
                    </a:lnTo>
                    <a:lnTo>
                      <a:pt x="1522" y="196"/>
                    </a:lnTo>
                    <a:lnTo>
                      <a:pt x="1549" y="154"/>
                    </a:lnTo>
                    <a:lnTo>
                      <a:pt x="1586" y="117"/>
                    </a:lnTo>
                    <a:lnTo>
                      <a:pt x="1630" y="80"/>
                    </a:lnTo>
                    <a:lnTo>
                      <a:pt x="1685" y="47"/>
                    </a:lnTo>
                    <a:lnTo>
                      <a:pt x="1750" y="21"/>
                    </a:lnTo>
                    <a:lnTo>
                      <a:pt x="1829" y="0"/>
                    </a:lnTo>
                    <a:lnTo>
                      <a:pt x="1831" y="17"/>
                    </a:lnTo>
                    <a:lnTo>
                      <a:pt x="1828" y="17"/>
                    </a:lnTo>
                    <a:lnTo>
                      <a:pt x="1819" y="19"/>
                    </a:lnTo>
                    <a:lnTo>
                      <a:pt x="1806" y="22"/>
                    </a:lnTo>
                    <a:lnTo>
                      <a:pt x="1790" y="27"/>
                    </a:lnTo>
                    <a:lnTo>
                      <a:pt x="1769" y="33"/>
                    </a:lnTo>
                    <a:lnTo>
                      <a:pt x="1747" y="42"/>
                    </a:lnTo>
                    <a:lnTo>
                      <a:pt x="1722" y="51"/>
                    </a:lnTo>
                    <a:lnTo>
                      <a:pt x="1697" y="66"/>
                    </a:lnTo>
                    <a:lnTo>
                      <a:pt x="1670" y="80"/>
                    </a:lnTo>
                    <a:lnTo>
                      <a:pt x="1643" y="98"/>
                    </a:lnTo>
                    <a:lnTo>
                      <a:pt x="1618" y="118"/>
                    </a:lnTo>
                    <a:lnTo>
                      <a:pt x="1593" y="142"/>
                    </a:lnTo>
                    <a:lnTo>
                      <a:pt x="1570" y="169"/>
                    </a:lnTo>
                    <a:lnTo>
                      <a:pt x="1550" y="199"/>
                    </a:lnTo>
                    <a:lnTo>
                      <a:pt x="1534" y="232"/>
                    </a:lnTo>
                    <a:lnTo>
                      <a:pt x="1523" y="269"/>
                    </a:lnTo>
                    <a:lnTo>
                      <a:pt x="1581" y="594"/>
                    </a:lnTo>
                    <a:lnTo>
                      <a:pt x="1581" y="595"/>
                    </a:lnTo>
                    <a:lnTo>
                      <a:pt x="1584" y="600"/>
                    </a:lnTo>
                    <a:lnTo>
                      <a:pt x="1588" y="604"/>
                    </a:lnTo>
                    <a:lnTo>
                      <a:pt x="1596" y="614"/>
                    </a:lnTo>
                    <a:lnTo>
                      <a:pt x="1603" y="623"/>
                    </a:lnTo>
                    <a:lnTo>
                      <a:pt x="1613" y="634"/>
                    </a:lnTo>
                    <a:lnTo>
                      <a:pt x="1626" y="646"/>
                    </a:lnTo>
                    <a:lnTo>
                      <a:pt x="1641" y="660"/>
                    </a:lnTo>
                    <a:lnTo>
                      <a:pt x="1655" y="672"/>
                    </a:lnTo>
                    <a:lnTo>
                      <a:pt x="1674" y="684"/>
                    </a:lnTo>
                    <a:lnTo>
                      <a:pt x="1694" y="695"/>
                    </a:lnTo>
                    <a:lnTo>
                      <a:pt x="1716" y="707"/>
                    </a:lnTo>
                    <a:lnTo>
                      <a:pt x="1739" y="716"/>
                    </a:lnTo>
                    <a:lnTo>
                      <a:pt x="1766" y="725"/>
                    </a:lnTo>
                    <a:lnTo>
                      <a:pt x="1792" y="731"/>
                    </a:lnTo>
                    <a:lnTo>
                      <a:pt x="1823" y="736"/>
                    </a:lnTo>
                    <a:lnTo>
                      <a:pt x="2022" y="709"/>
                    </a:lnTo>
                    <a:lnTo>
                      <a:pt x="2022" y="708"/>
                    </a:lnTo>
                    <a:lnTo>
                      <a:pt x="2026" y="708"/>
                    </a:lnTo>
                    <a:lnTo>
                      <a:pt x="2029" y="706"/>
                    </a:lnTo>
                    <a:lnTo>
                      <a:pt x="2035" y="705"/>
                    </a:lnTo>
                    <a:lnTo>
                      <a:pt x="2040" y="702"/>
                    </a:lnTo>
                    <a:lnTo>
                      <a:pt x="2048" y="698"/>
                    </a:lnTo>
                    <a:lnTo>
                      <a:pt x="2054" y="696"/>
                    </a:lnTo>
                    <a:lnTo>
                      <a:pt x="2064" y="694"/>
                    </a:lnTo>
                    <a:lnTo>
                      <a:pt x="2072" y="688"/>
                    </a:lnTo>
                    <a:lnTo>
                      <a:pt x="2080" y="685"/>
                    </a:lnTo>
                    <a:lnTo>
                      <a:pt x="2088" y="681"/>
                    </a:lnTo>
                    <a:lnTo>
                      <a:pt x="2096" y="676"/>
                    </a:lnTo>
                    <a:lnTo>
                      <a:pt x="2102" y="672"/>
                    </a:lnTo>
                    <a:lnTo>
                      <a:pt x="2110" y="667"/>
                    </a:lnTo>
                    <a:lnTo>
                      <a:pt x="2114" y="662"/>
                    </a:lnTo>
                    <a:lnTo>
                      <a:pt x="2120" y="658"/>
                    </a:lnTo>
                    <a:lnTo>
                      <a:pt x="2252" y="534"/>
                    </a:lnTo>
                    <a:lnTo>
                      <a:pt x="2252" y="532"/>
                    </a:lnTo>
                    <a:lnTo>
                      <a:pt x="2256" y="530"/>
                    </a:lnTo>
                    <a:lnTo>
                      <a:pt x="2258" y="526"/>
                    </a:lnTo>
                    <a:lnTo>
                      <a:pt x="2265" y="521"/>
                    </a:lnTo>
                    <a:lnTo>
                      <a:pt x="2270" y="514"/>
                    </a:lnTo>
                    <a:lnTo>
                      <a:pt x="2278" y="506"/>
                    </a:lnTo>
                    <a:lnTo>
                      <a:pt x="2283" y="496"/>
                    </a:lnTo>
                    <a:lnTo>
                      <a:pt x="2292" y="486"/>
                    </a:lnTo>
                    <a:lnTo>
                      <a:pt x="2298" y="473"/>
                    </a:lnTo>
                    <a:lnTo>
                      <a:pt x="2304" y="457"/>
                    </a:lnTo>
                    <a:lnTo>
                      <a:pt x="2310" y="442"/>
                    </a:lnTo>
                    <a:lnTo>
                      <a:pt x="2315" y="424"/>
                    </a:lnTo>
                    <a:lnTo>
                      <a:pt x="2316" y="404"/>
                    </a:lnTo>
                    <a:lnTo>
                      <a:pt x="2319" y="383"/>
                    </a:lnTo>
                    <a:lnTo>
                      <a:pt x="2319" y="361"/>
                    </a:lnTo>
                    <a:lnTo>
                      <a:pt x="2316" y="338"/>
                    </a:lnTo>
                    <a:lnTo>
                      <a:pt x="2342" y="368"/>
                    </a:lnTo>
                    <a:lnTo>
                      <a:pt x="2342" y="369"/>
                    </a:lnTo>
                    <a:lnTo>
                      <a:pt x="2342" y="372"/>
                    </a:lnTo>
                    <a:lnTo>
                      <a:pt x="2342" y="379"/>
                    </a:lnTo>
                    <a:lnTo>
                      <a:pt x="2342" y="389"/>
                    </a:lnTo>
                    <a:lnTo>
                      <a:pt x="2341" y="400"/>
                    </a:lnTo>
                    <a:lnTo>
                      <a:pt x="2341" y="412"/>
                    </a:lnTo>
                    <a:lnTo>
                      <a:pt x="2339" y="425"/>
                    </a:lnTo>
                    <a:lnTo>
                      <a:pt x="2339" y="441"/>
                    </a:lnTo>
                    <a:lnTo>
                      <a:pt x="2334" y="454"/>
                    </a:lnTo>
                    <a:lnTo>
                      <a:pt x="2331" y="468"/>
                    </a:lnTo>
                    <a:lnTo>
                      <a:pt x="2326" y="483"/>
                    </a:lnTo>
                    <a:lnTo>
                      <a:pt x="2321" y="497"/>
                    </a:lnTo>
                    <a:lnTo>
                      <a:pt x="2314" y="509"/>
                    </a:lnTo>
                    <a:lnTo>
                      <a:pt x="2305" y="521"/>
                    </a:lnTo>
                    <a:lnTo>
                      <a:pt x="2295" y="530"/>
                    </a:lnTo>
                    <a:lnTo>
                      <a:pt x="2286" y="539"/>
                    </a:lnTo>
                    <a:lnTo>
                      <a:pt x="2137" y="663"/>
                    </a:lnTo>
                    <a:lnTo>
                      <a:pt x="2136" y="664"/>
                    </a:lnTo>
                    <a:lnTo>
                      <a:pt x="2134" y="669"/>
                    </a:lnTo>
                    <a:lnTo>
                      <a:pt x="2130" y="676"/>
                    </a:lnTo>
                    <a:lnTo>
                      <a:pt x="2122" y="685"/>
                    </a:lnTo>
                    <a:lnTo>
                      <a:pt x="2116" y="689"/>
                    </a:lnTo>
                    <a:lnTo>
                      <a:pt x="2110" y="694"/>
                    </a:lnTo>
                    <a:lnTo>
                      <a:pt x="2103" y="697"/>
                    </a:lnTo>
                    <a:lnTo>
                      <a:pt x="2095" y="703"/>
                    </a:lnTo>
                    <a:lnTo>
                      <a:pt x="2085" y="707"/>
                    </a:lnTo>
                    <a:lnTo>
                      <a:pt x="2074" y="710"/>
                    </a:lnTo>
                    <a:lnTo>
                      <a:pt x="2061" y="714"/>
                    </a:lnTo>
                    <a:lnTo>
                      <a:pt x="2048" y="718"/>
                    </a:lnTo>
                    <a:lnTo>
                      <a:pt x="1944" y="731"/>
                    </a:lnTo>
                    <a:lnTo>
                      <a:pt x="1894" y="754"/>
                    </a:lnTo>
                    <a:lnTo>
                      <a:pt x="1875" y="775"/>
                    </a:lnTo>
                    <a:lnTo>
                      <a:pt x="187" y="302"/>
                    </a:lnTo>
                    <a:lnTo>
                      <a:pt x="185" y="302"/>
                    </a:lnTo>
                    <a:lnTo>
                      <a:pt x="180" y="300"/>
                    </a:lnTo>
                    <a:lnTo>
                      <a:pt x="172" y="297"/>
                    </a:lnTo>
                    <a:lnTo>
                      <a:pt x="163" y="292"/>
                    </a:lnTo>
                    <a:lnTo>
                      <a:pt x="151" y="287"/>
                    </a:lnTo>
                    <a:lnTo>
                      <a:pt x="138" y="280"/>
                    </a:lnTo>
                    <a:lnTo>
                      <a:pt x="123" y="274"/>
                    </a:lnTo>
                    <a:lnTo>
                      <a:pt x="110" y="266"/>
                    </a:lnTo>
                    <a:lnTo>
                      <a:pt x="93" y="256"/>
                    </a:lnTo>
                    <a:lnTo>
                      <a:pt x="78" y="245"/>
                    </a:lnTo>
                    <a:lnTo>
                      <a:pt x="63" y="232"/>
                    </a:lnTo>
                    <a:lnTo>
                      <a:pt x="50" y="220"/>
                    </a:lnTo>
                    <a:lnTo>
                      <a:pt x="36" y="203"/>
                    </a:lnTo>
                    <a:lnTo>
                      <a:pt x="25" y="187"/>
                    </a:lnTo>
                    <a:lnTo>
                      <a:pt x="15" y="170"/>
                    </a:lnTo>
                    <a:lnTo>
                      <a:pt x="8" y="152"/>
                    </a:lnTo>
                    <a:lnTo>
                      <a:pt x="3" y="133"/>
                    </a:lnTo>
                    <a:lnTo>
                      <a:pt x="0" y="116"/>
                    </a:lnTo>
                    <a:lnTo>
                      <a:pt x="0" y="99"/>
                    </a:lnTo>
                    <a:lnTo>
                      <a:pt x="5" y="85"/>
                    </a:lnTo>
                    <a:lnTo>
                      <a:pt x="9" y="70"/>
                    </a:lnTo>
                    <a:lnTo>
                      <a:pt x="16" y="58"/>
                    </a:lnTo>
                    <a:lnTo>
                      <a:pt x="23" y="46"/>
                    </a:lnTo>
                    <a:lnTo>
                      <a:pt x="31" y="36"/>
                    </a:lnTo>
                    <a:lnTo>
                      <a:pt x="40" y="26"/>
                    </a:lnTo>
                    <a:lnTo>
                      <a:pt x="48" y="19"/>
                    </a:lnTo>
                    <a:lnTo>
                      <a:pt x="56" y="13"/>
                    </a:lnTo>
                    <a:lnTo>
                      <a:pt x="65" y="8"/>
                    </a:lnTo>
                    <a:lnTo>
                      <a:pt x="69" y="3"/>
                    </a:lnTo>
                    <a:lnTo>
                      <a:pt x="76" y="2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5c5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127520" y="5214960"/>
                <a:ext cx="119160" cy="61920"/>
              </a:xfrm>
              <a:custGeom>
                <a:avLst/>
                <a:gdLst/>
                <a:ahLst/>
                <a:rect l="l" t="t" r="r" b="b"/>
                <a:pathLst>
                  <a:path w="150" h="77">
                    <a:moveTo>
                      <a:pt x="0" y="16"/>
                    </a:moveTo>
                    <a:lnTo>
                      <a:pt x="3" y="16"/>
                    </a:lnTo>
                    <a:lnTo>
                      <a:pt x="8" y="16"/>
                    </a:lnTo>
                    <a:lnTo>
                      <a:pt x="15" y="16"/>
                    </a:lnTo>
                    <a:lnTo>
                      <a:pt x="23" y="16"/>
                    </a:lnTo>
                    <a:lnTo>
                      <a:pt x="33" y="17"/>
                    </a:lnTo>
                    <a:lnTo>
                      <a:pt x="42" y="19"/>
                    </a:lnTo>
                    <a:lnTo>
                      <a:pt x="54" y="22"/>
                    </a:lnTo>
                    <a:lnTo>
                      <a:pt x="65" y="23"/>
                    </a:lnTo>
                    <a:lnTo>
                      <a:pt x="76" y="27"/>
                    </a:lnTo>
                    <a:lnTo>
                      <a:pt x="87" y="33"/>
                    </a:lnTo>
                    <a:lnTo>
                      <a:pt x="99" y="38"/>
                    </a:lnTo>
                    <a:lnTo>
                      <a:pt x="109" y="45"/>
                    </a:lnTo>
                    <a:lnTo>
                      <a:pt x="119" y="55"/>
                    </a:lnTo>
                    <a:lnTo>
                      <a:pt x="128" y="64"/>
                    </a:lnTo>
                    <a:lnTo>
                      <a:pt x="137" y="77"/>
                    </a:lnTo>
                    <a:lnTo>
                      <a:pt x="150" y="57"/>
                    </a:lnTo>
                    <a:lnTo>
                      <a:pt x="148" y="53"/>
                    </a:lnTo>
                    <a:lnTo>
                      <a:pt x="140" y="45"/>
                    </a:lnTo>
                    <a:lnTo>
                      <a:pt x="134" y="40"/>
                    </a:lnTo>
                    <a:lnTo>
                      <a:pt x="128" y="34"/>
                    </a:lnTo>
                    <a:lnTo>
                      <a:pt x="121" y="30"/>
                    </a:lnTo>
                    <a:lnTo>
                      <a:pt x="113" y="24"/>
                    </a:lnTo>
                    <a:lnTo>
                      <a:pt x="102" y="19"/>
                    </a:lnTo>
                    <a:lnTo>
                      <a:pt x="91" y="13"/>
                    </a:lnTo>
                    <a:lnTo>
                      <a:pt x="79" y="9"/>
                    </a:lnTo>
                    <a:lnTo>
                      <a:pt x="66" y="4"/>
                    </a:lnTo>
                    <a:lnTo>
                      <a:pt x="50" y="1"/>
                    </a:lnTo>
                    <a:lnTo>
                      <a:pt x="35" y="0"/>
                    </a:lnTo>
                    <a:lnTo>
                      <a:pt x="18" y="0"/>
                    </a:lnTo>
                    <a:lnTo>
                      <a:pt x="1" y="2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1991160" y="5148360"/>
                <a:ext cx="833400" cy="225360"/>
              </a:xfrm>
              <a:custGeom>
                <a:avLst/>
                <a:gdLst/>
                <a:ahLst/>
                <a:rect l="l" t="t" r="r" b="b"/>
                <a:pathLst>
                  <a:path w="1050" h="283">
                    <a:moveTo>
                      <a:pt x="0" y="283"/>
                    </a:moveTo>
                    <a:lnTo>
                      <a:pt x="0" y="281"/>
                    </a:lnTo>
                    <a:lnTo>
                      <a:pt x="4" y="277"/>
                    </a:lnTo>
                    <a:lnTo>
                      <a:pt x="10" y="271"/>
                    </a:lnTo>
                    <a:lnTo>
                      <a:pt x="16" y="264"/>
                    </a:lnTo>
                    <a:lnTo>
                      <a:pt x="24" y="254"/>
                    </a:lnTo>
                    <a:lnTo>
                      <a:pt x="34" y="244"/>
                    </a:lnTo>
                    <a:lnTo>
                      <a:pt x="45" y="233"/>
                    </a:lnTo>
                    <a:lnTo>
                      <a:pt x="56" y="223"/>
                    </a:lnTo>
                    <a:lnTo>
                      <a:pt x="68" y="211"/>
                    </a:lnTo>
                    <a:lnTo>
                      <a:pt x="82" y="201"/>
                    </a:lnTo>
                    <a:lnTo>
                      <a:pt x="95" y="190"/>
                    </a:lnTo>
                    <a:lnTo>
                      <a:pt x="109" y="182"/>
                    </a:lnTo>
                    <a:lnTo>
                      <a:pt x="121" y="173"/>
                    </a:lnTo>
                    <a:lnTo>
                      <a:pt x="135" y="168"/>
                    </a:lnTo>
                    <a:lnTo>
                      <a:pt x="147" y="164"/>
                    </a:lnTo>
                    <a:lnTo>
                      <a:pt x="159" y="163"/>
                    </a:lnTo>
                    <a:lnTo>
                      <a:pt x="103" y="226"/>
                    </a:lnTo>
                    <a:lnTo>
                      <a:pt x="351" y="115"/>
                    </a:lnTo>
                    <a:lnTo>
                      <a:pt x="294" y="171"/>
                    </a:lnTo>
                    <a:lnTo>
                      <a:pt x="506" y="98"/>
                    </a:lnTo>
                    <a:lnTo>
                      <a:pt x="437" y="158"/>
                    </a:lnTo>
                    <a:lnTo>
                      <a:pt x="647" y="63"/>
                    </a:lnTo>
                    <a:lnTo>
                      <a:pt x="586" y="131"/>
                    </a:lnTo>
                    <a:lnTo>
                      <a:pt x="801" y="33"/>
                    </a:lnTo>
                    <a:lnTo>
                      <a:pt x="742" y="103"/>
                    </a:lnTo>
                    <a:lnTo>
                      <a:pt x="945" y="16"/>
                    </a:lnTo>
                    <a:lnTo>
                      <a:pt x="898" y="84"/>
                    </a:lnTo>
                    <a:lnTo>
                      <a:pt x="1050" y="0"/>
                    </a:lnTo>
                    <a:lnTo>
                      <a:pt x="1031" y="56"/>
                    </a:lnTo>
                    <a:lnTo>
                      <a:pt x="0" y="283"/>
                    </a:lnTo>
                    <a:lnTo>
                      <a:pt x="0" y="283"/>
                    </a:lnTo>
                    <a:close/>
                  </a:path>
                </a:pathLst>
              </a:custGeom>
              <a:solidFill>
                <a:srgbClr val="5c5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1537560" y="4467240"/>
                <a:ext cx="1494000" cy="957240"/>
              </a:xfrm>
              <a:custGeom>
                <a:avLst/>
                <a:gdLst/>
                <a:ahLst/>
                <a:rect l="l" t="t" r="r" b="b"/>
                <a:pathLst>
                  <a:path w="1883" h="1207">
                    <a:moveTo>
                      <a:pt x="156" y="0"/>
                    </a:moveTo>
                    <a:lnTo>
                      <a:pt x="122" y="41"/>
                    </a:lnTo>
                    <a:lnTo>
                      <a:pt x="659" y="55"/>
                    </a:lnTo>
                    <a:lnTo>
                      <a:pt x="663" y="55"/>
                    </a:lnTo>
                    <a:lnTo>
                      <a:pt x="669" y="55"/>
                    </a:lnTo>
                    <a:lnTo>
                      <a:pt x="677" y="57"/>
                    </a:lnTo>
                    <a:lnTo>
                      <a:pt x="684" y="58"/>
                    </a:lnTo>
                    <a:lnTo>
                      <a:pt x="694" y="62"/>
                    </a:lnTo>
                    <a:lnTo>
                      <a:pt x="705" y="63"/>
                    </a:lnTo>
                    <a:lnTo>
                      <a:pt x="716" y="68"/>
                    </a:lnTo>
                    <a:lnTo>
                      <a:pt x="726" y="72"/>
                    </a:lnTo>
                    <a:lnTo>
                      <a:pt x="736" y="77"/>
                    </a:lnTo>
                    <a:lnTo>
                      <a:pt x="744" y="84"/>
                    </a:lnTo>
                    <a:lnTo>
                      <a:pt x="753" y="91"/>
                    </a:lnTo>
                    <a:lnTo>
                      <a:pt x="760" y="98"/>
                    </a:lnTo>
                    <a:lnTo>
                      <a:pt x="764" y="108"/>
                    </a:lnTo>
                    <a:lnTo>
                      <a:pt x="767" y="119"/>
                    </a:lnTo>
                    <a:lnTo>
                      <a:pt x="768" y="131"/>
                    </a:lnTo>
                    <a:lnTo>
                      <a:pt x="764" y="142"/>
                    </a:lnTo>
                    <a:lnTo>
                      <a:pt x="758" y="153"/>
                    </a:lnTo>
                    <a:lnTo>
                      <a:pt x="748" y="164"/>
                    </a:lnTo>
                    <a:lnTo>
                      <a:pt x="737" y="175"/>
                    </a:lnTo>
                    <a:lnTo>
                      <a:pt x="722" y="184"/>
                    </a:lnTo>
                    <a:lnTo>
                      <a:pt x="706" y="194"/>
                    </a:lnTo>
                    <a:lnTo>
                      <a:pt x="691" y="202"/>
                    </a:lnTo>
                    <a:lnTo>
                      <a:pt x="674" y="211"/>
                    </a:lnTo>
                    <a:lnTo>
                      <a:pt x="657" y="216"/>
                    </a:lnTo>
                    <a:lnTo>
                      <a:pt x="640" y="223"/>
                    </a:lnTo>
                    <a:lnTo>
                      <a:pt x="626" y="227"/>
                    </a:lnTo>
                    <a:lnTo>
                      <a:pt x="613" y="233"/>
                    </a:lnTo>
                    <a:lnTo>
                      <a:pt x="600" y="235"/>
                    </a:lnTo>
                    <a:lnTo>
                      <a:pt x="592" y="238"/>
                    </a:lnTo>
                    <a:lnTo>
                      <a:pt x="586" y="241"/>
                    </a:lnTo>
                    <a:lnTo>
                      <a:pt x="585" y="242"/>
                    </a:lnTo>
                    <a:lnTo>
                      <a:pt x="191" y="321"/>
                    </a:lnTo>
                    <a:lnTo>
                      <a:pt x="189" y="321"/>
                    </a:lnTo>
                    <a:lnTo>
                      <a:pt x="182" y="324"/>
                    </a:lnTo>
                    <a:lnTo>
                      <a:pt x="173" y="327"/>
                    </a:lnTo>
                    <a:lnTo>
                      <a:pt x="160" y="331"/>
                    </a:lnTo>
                    <a:lnTo>
                      <a:pt x="145" y="337"/>
                    </a:lnTo>
                    <a:lnTo>
                      <a:pt x="128" y="345"/>
                    </a:lnTo>
                    <a:lnTo>
                      <a:pt x="111" y="353"/>
                    </a:lnTo>
                    <a:lnTo>
                      <a:pt x="93" y="367"/>
                    </a:lnTo>
                    <a:lnTo>
                      <a:pt x="75" y="379"/>
                    </a:lnTo>
                    <a:lnTo>
                      <a:pt x="56" y="394"/>
                    </a:lnTo>
                    <a:lnTo>
                      <a:pt x="41" y="411"/>
                    </a:lnTo>
                    <a:lnTo>
                      <a:pt x="27" y="432"/>
                    </a:lnTo>
                    <a:lnTo>
                      <a:pt x="14" y="453"/>
                    </a:lnTo>
                    <a:lnTo>
                      <a:pt x="6" y="477"/>
                    </a:lnTo>
                    <a:lnTo>
                      <a:pt x="0" y="503"/>
                    </a:lnTo>
                    <a:lnTo>
                      <a:pt x="0" y="534"/>
                    </a:lnTo>
                    <a:lnTo>
                      <a:pt x="6" y="560"/>
                    </a:lnTo>
                    <a:lnTo>
                      <a:pt x="20" y="586"/>
                    </a:lnTo>
                    <a:lnTo>
                      <a:pt x="42" y="606"/>
                    </a:lnTo>
                    <a:lnTo>
                      <a:pt x="70" y="624"/>
                    </a:lnTo>
                    <a:lnTo>
                      <a:pt x="102" y="640"/>
                    </a:lnTo>
                    <a:lnTo>
                      <a:pt x="138" y="652"/>
                    </a:lnTo>
                    <a:lnTo>
                      <a:pt x="177" y="661"/>
                    </a:lnTo>
                    <a:lnTo>
                      <a:pt x="217" y="670"/>
                    </a:lnTo>
                    <a:lnTo>
                      <a:pt x="255" y="675"/>
                    </a:lnTo>
                    <a:lnTo>
                      <a:pt x="294" y="679"/>
                    </a:lnTo>
                    <a:lnTo>
                      <a:pt x="330" y="681"/>
                    </a:lnTo>
                    <a:lnTo>
                      <a:pt x="363" y="683"/>
                    </a:lnTo>
                    <a:lnTo>
                      <a:pt x="389" y="683"/>
                    </a:lnTo>
                    <a:lnTo>
                      <a:pt x="410" y="684"/>
                    </a:lnTo>
                    <a:lnTo>
                      <a:pt x="425" y="684"/>
                    </a:lnTo>
                    <a:lnTo>
                      <a:pt x="430" y="685"/>
                    </a:lnTo>
                    <a:lnTo>
                      <a:pt x="930" y="736"/>
                    </a:lnTo>
                    <a:lnTo>
                      <a:pt x="932" y="736"/>
                    </a:lnTo>
                    <a:lnTo>
                      <a:pt x="938" y="737"/>
                    </a:lnTo>
                    <a:lnTo>
                      <a:pt x="946" y="739"/>
                    </a:lnTo>
                    <a:lnTo>
                      <a:pt x="960" y="744"/>
                    </a:lnTo>
                    <a:lnTo>
                      <a:pt x="974" y="746"/>
                    </a:lnTo>
                    <a:lnTo>
                      <a:pt x="989" y="751"/>
                    </a:lnTo>
                    <a:lnTo>
                      <a:pt x="1005" y="756"/>
                    </a:lnTo>
                    <a:lnTo>
                      <a:pt x="1023" y="764"/>
                    </a:lnTo>
                    <a:lnTo>
                      <a:pt x="1037" y="769"/>
                    </a:lnTo>
                    <a:lnTo>
                      <a:pt x="1050" y="776"/>
                    </a:lnTo>
                    <a:lnTo>
                      <a:pt x="1061" y="782"/>
                    </a:lnTo>
                    <a:lnTo>
                      <a:pt x="1070" y="791"/>
                    </a:lnTo>
                    <a:lnTo>
                      <a:pt x="1072" y="799"/>
                    </a:lnTo>
                    <a:lnTo>
                      <a:pt x="1072" y="807"/>
                    </a:lnTo>
                    <a:lnTo>
                      <a:pt x="1067" y="816"/>
                    </a:lnTo>
                    <a:lnTo>
                      <a:pt x="1057" y="826"/>
                    </a:lnTo>
                    <a:lnTo>
                      <a:pt x="1037" y="833"/>
                    </a:lnTo>
                    <a:lnTo>
                      <a:pt x="1013" y="841"/>
                    </a:lnTo>
                    <a:lnTo>
                      <a:pt x="982" y="850"/>
                    </a:lnTo>
                    <a:lnTo>
                      <a:pt x="947" y="860"/>
                    </a:lnTo>
                    <a:lnTo>
                      <a:pt x="910" y="868"/>
                    </a:lnTo>
                    <a:lnTo>
                      <a:pt x="869" y="875"/>
                    </a:lnTo>
                    <a:lnTo>
                      <a:pt x="828" y="884"/>
                    </a:lnTo>
                    <a:lnTo>
                      <a:pt x="786" y="892"/>
                    </a:lnTo>
                    <a:lnTo>
                      <a:pt x="745" y="897"/>
                    </a:lnTo>
                    <a:lnTo>
                      <a:pt x="706" y="904"/>
                    </a:lnTo>
                    <a:lnTo>
                      <a:pt x="670" y="908"/>
                    </a:lnTo>
                    <a:lnTo>
                      <a:pt x="640" y="915"/>
                    </a:lnTo>
                    <a:lnTo>
                      <a:pt x="614" y="918"/>
                    </a:lnTo>
                    <a:lnTo>
                      <a:pt x="593" y="922"/>
                    </a:lnTo>
                    <a:lnTo>
                      <a:pt x="580" y="924"/>
                    </a:lnTo>
                    <a:lnTo>
                      <a:pt x="577" y="925"/>
                    </a:lnTo>
                    <a:lnTo>
                      <a:pt x="572" y="925"/>
                    </a:lnTo>
                    <a:lnTo>
                      <a:pt x="562" y="927"/>
                    </a:lnTo>
                    <a:lnTo>
                      <a:pt x="545" y="929"/>
                    </a:lnTo>
                    <a:lnTo>
                      <a:pt x="523" y="934"/>
                    </a:lnTo>
                    <a:lnTo>
                      <a:pt x="498" y="937"/>
                    </a:lnTo>
                    <a:lnTo>
                      <a:pt x="468" y="943"/>
                    </a:lnTo>
                    <a:lnTo>
                      <a:pt x="437" y="949"/>
                    </a:lnTo>
                    <a:lnTo>
                      <a:pt x="405" y="955"/>
                    </a:lnTo>
                    <a:lnTo>
                      <a:pt x="370" y="960"/>
                    </a:lnTo>
                    <a:lnTo>
                      <a:pt x="338" y="966"/>
                    </a:lnTo>
                    <a:lnTo>
                      <a:pt x="306" y="973"/>
                    </a:lnTo>
                    <a:lnTo>
                      <a:pt x="279" y="978"/>
                    </a:lnTo>
                    <a:lnTo>
                      <a:pt x="251" y="984"/>
                    </a:lnTo>
                    <a:lnTo>
                      <a:pt x="230" y="988"/>
                    </a:lnTo>
                    <a:lnTo>
                      <a:pt x="213" y="992"/>
                    </a:lnTo>
                    <a:lnTo>
                      <a:pt x="203" y="997"/>
                    </a:lnTo>
                    <a:lnTo>
                      <a:pt x="195" y="999"/>
                    </a:lnTo>
                    <a:lnTo>
                      <a:pt x="187" y="1001"/>
                    </a:lnTo>
                    <a:lnTo>
                      <a:pt x="179" y="1006"/>
                    </a:lnTo>
                    <a:lnTo>
                      <a:pt x="170" y="1011"/>
                    </a:lnTo>
                    <a:lnTo>
                      <a:pt x="161" y="1016"/>
                    </a:lnTo>
                    <a:lnTo>
                      <a:pt x="153" y="1022"/>
                    </a:lnTo>
                    <a:lnTo>
                      <a:pt x="144" y="1028"/>
                    </a:lnTo>
                    <a:lnTo>
                      <a:pt x="135" y="1035"/>
                    </a:lnTo>
                    <a:lnTo>
                      <a:pt x="126" y="1041"/>
                    </a:lnTo>
                    <a:lnTo>
                      <a:pt x="117" y="1047"/>
                    </a:lnTo>
                    <a:lnTo>
                      <a:pt x="110" y="1053"/>
                    </a:lnTo>
                    <a:lnTo>
                      <a:pt x="102" y="1060"/>
                    </a:lnTo>
                    <a:lnTo>
                      <a:pt x="94" y="1065"/>
                    </a:lnTo>
                    <a:lnTo>
                      <a:pt x="89" y="1071"/>
                    </a:lnTo>
                    <a:lnTo>
                      <a:pt x="82" y="1078"/>
                    </a:lnTo>
                    <a:lnTo>
                      <a:pt x="77" y="1083"/>
                    </a:lnTo>
                    <a:lnTo>
                      <a:pt x="80" y="1109"/>
                    </a:lnTo>
                    <a:lnTo>
                      <a:pt x="81" y="1104"/>
                    </a:lnTo>
                    <a:lnTo>
                      <a:pt x="89" y="1096"/>
                    </a:lnTo>
                    <a:lnTo>
                      <a:pt x="92" y="1090"/>
                    </a:lnTo>
                    <a:lnTo>
                      <a:pt x="98" y="1083"/>
                    </a:lnTo>
                    <a:lnTo>
                      <a:pt x="105" y="1077"/>
                    </a:lnTo>
                    <a:lnTo>
                      <a:pt x="114" y="1070"/>
                    </a:lnTo>
                    <a:lnTo>
                      <a:pt x="122" y="1060"/>
                    </a:lnTo>
                    <a:lnTo>
                      <a:pt x="133" y="1052"/>
                    </a:lnTo>
                    <a:lnTo>
                      <a:pt x="143" y="1044"/>
                    </a:lnTo>
                    <a:lnTo>
                      <a:pt x="156" y="1037"/>
                    </a:lnTo>
                    <a:lnTo>
                      <a:pt x="168" y="1029"/>
                    </a:lnTo>
                    <a:lnTo>
                      <a:pt x="181" y="1023"/>
                    </a:lnTo>
                    <a:lnTo>
                      <a:pt x="196" y="1016"/>
                    </a:lnTo>
                    <a:lnTo>
                      <a:pt x="212" y="1011"/>
                    </a:lnTo>
                    <a:lnTo>
                      <a:pt x="234" y="1005"/>
                    </a:lnTo>
                    <a:lnTo>
                      <a:pt x="270" y="998"/>
                    </a:lnTo>
                    <a:lnTo>
                      <a:pt x="316" y="988"/>
                    </a:lnTo>
                    <a:lnTo>
                      <a:pt x="373" y="977"/>
                    </a:lnTo>
                    <a:lnTo>
                      <a:pt x="433" y="965"/>
                    </a:lnTo>
                    <a:lnTo>
                      <a:pt x="501" y="954"/>
                    </a:lnTo>
                    <a:lnTo>
                      <a:pt x="572" y="941"/>
                    </a:lnTo>
                    <a:lnTo>
                      <a:pt x="645" y="928"/>
                    </a:lnTo>
                    <a:lnTo>
                      <a:pt x="714" y="915"/>
                    </a:lnTo>
                    <a:lnTo>
                      <a:pt x="783" y="903"/>
                    </a:lnTo>
                    <a:lnTo>
                      <a:pt x="846" y="891"/>
                    </a:lnTo>
                    <a:lnTo>
                      <a:pt x="903" y="882"/>
                    </a:lnTo>
                    <a:lnTo>
                      <a:pt x="952" y="872"/>
                    </a:lnTo>
                    <a:lnTo>
                      <a:pt x="991" y="865"/>
                    </a:lnTo>
                    <a:lnTo>
                      <a:pt x="1016" y="861"/>
                    </a:lnTo>
                    <a:lnTo>
                      <a:pt x="1029" y="859"/>
                    </a:lnTo>
                    <a:lnTo>
                      <a:pt x="1035" y="855"/>
                    </a:lnTo>
                    <a:lnTo>
                      <a:pt x="1041" y="852"/>
                    </a:lnTo>
                    <a:lnTo>
                      <a:pt x="1049" y="848"/>
                    </a:lnTo>
                    <a:lnTo>
                      <a:pt x="1059" y="843"/>
                    </a:lnTo>
                    <a:lnTo>
                      <a:pt x="1067" y="838"/>
                    </a:lnTo>
                    <a:lnTo>
                      <a:pt x="1076" y="831"/>
                    </a:lnTo>
                    <a:lnTo>
                      <a:pt x="1082" y="824"/>
                    </a:lnTo>
                    <a:lnTo>
                      <a:pt x="1088" y="817"/>
                    </a:lnTo>
                    <a:lnTo>
                      <a:pt x="1090" y="808"/>
                    </a:lnTo>
                    <a:lnTo>
                      <a:pt x="1089" y="799"/>
                    </a:lnTo>
                    <a:lnTo>
                      <a:pt x="1085" y="789"/>
                    </a:lnTo>
                    <a:lnTo>
                      <a:pt x="1077" y="780"/>
                    </a:lnTo>
                    <a:lnTo>
                      <a:pt x="1062" y="768"/>
                    </a:lnTo>
                    <a:lnTo>
                      <a:pt x="1045" y="758"/>
                    </a:lnTo>
                    <a:lnTo>
                      <a:pt x="1020" y="747"/>
                    </a:lnTo>
                    <a:lnTo>
                      <a:pt x="991" y="736"/>
                    </a:lnTo>
                    <a:lnTo>
                      <a:pt x="985" y="735"/>
                    </a:lnTo>
                    <a:lnTo>
                      <a:pt x="974" y="734"/>
                    </a:lnTo>
                    <a:lnTo>
                      <a:pt x="955" y="729"/>
                    </a:lnTo>
                    <a:lnTo>
                      <a:pt x="931" y="726"/>
                    </a:lnTo>
                    <a:lnTo>
                      <a:pt x="900" y="721"/>
                    </a:lnTo>
                    <a:lnTo>
                      <a:pt x="865" y="715"/>
                    </a:lnTo>
                    <a:lnTo>
                      <a:pt x="826" y="709"/>
                    </a:lnTo>
                    <a:lnTo>
                      <a:pt x="785" y="704"/>
                    </a:lnTo>
                    <a:lnTo>
                      <a:pt x="740" y="698"/>
                    </a:lnTo>
                    <a:lnTo>
                      <a:pt x="692" y="692"/>
                    </a:lnTo>
                    <a:lnTo>
                      <a:pt x="642" y="686"/>
                    </a:lnTo>
                    <a:lnTo>
                      <a:pt x="594" y="681"/>
                    </a:lnTo>
                    <a:lnTo>
                      <a:pt x="545" y="675"/>
                    </a:lnTo>
                    <a:lnTo>
                      <a:pt x="496" y="673"/>
                    </a:lnTo>
                    <a:lnTo>
                      <a:pt x="449" y="670"/>
                    </a:lnTo>
                    <a:lnTo>
                      <a:pt x="406" y="670"/>
                    </a:lnTo>
                    <a:lnTo>
                      <a:pt x="400" y="669"/>
                    </a:lnTo>
                    <a:lnTo>
                      <a:pt x="389" y="669"/>
                    </a:lnTo>
                    <a:lnTo>
                      <a:pt x="372" y="667"/>
                    </a:lnTo>
                    <a:lnTo>
                      <a:pt x="348" y="666"/>
                    </a:lnTo>
                    <a:lnTo>
                      <a:pt x="320" y="664"/>
                    </a:lnTo>
                    <a:lnTo>
                      <a:pt x="290" y="661"/>
                    </a:lnTo>
                    <a:lnTo>
                      <a:pt x="255" y="656"/>
                    </a:lnTo>
                    <a:lnTo>
                      <a:pt x="222" y="652"/>
                    </a:lnTo>
                    <a:lnTo>
                      <a:pt x="187" y="644"/>
                    </a:lnTo>
                    <a:lnTo>
                      <a:pt x="153" y="635"/>
                    </a:lnTo>
                    <a:lnTo>
                      <a:pt x="121" y="625"/>
                    </a:lnTo>
                    <a:lnTo>
                      <a:pt x="91" y="613"/>
                    </a:lnTo>
                    <a:lnTo>
                      <a:pt x="65" y="598"/>
                    </a:lnTo>
                    <a:lnTo>
                      <a:pt x="44" y="581"/>
                    </a:lnTo>
                    <a:lnTo>
                      <a:pt x="30" y="560"/>
                    </a:lnTo>
                    <a:lnTo>
                      <a:pt x="22" y="539"/>
                    </a:lnTo>
                    <a:lnTo>
                      <a:pt x="20" y="515"/>
                    </a:lnTo>
                    <a:lnTo>
                      <a:pt x="20" y="494"/>
                    </a:lnTo>
                    <a:lnTo>
                      <a:pt x="26" y="474"/>
                    </a:lnTo>
                    <a:lnTo>
                      <a:pt x="33" y="455"/>
                    </a:lnTo>
                    <a:lnTo>
                      <a:pt x="43" y="438"/>
                    </a:lnTo>
                    <a:lnTo>
                      <a:pt x="54" y="421"/>
                    </a:lnTo>
                    <a:lnTo>
                      <a:pt x="69" y="407"/>
                    </a:lnTo>
                    <a:lnTo>
                      <a:pt x="84" y="394"/>
                    </a:lnTo>
                    <a:lnTo>
                      <a:pt x="100" y="381"/>
                    </a:lnTo>
                    <a:lnTo>
                      <a:pt x="115" y="371"/>
                    </a:lnTo>
                    <a:lnTo>
                      <a:pt x="131" y="361"/>
                    </a:lnTo>
                    <a:lnTo>
                      <a:pt x="146" y="353"/>
                    </a:lnTo>
                    <a:lnTo>
                      <a:pt x="160" y="347"/>
                    </a:lnTo>
                    <a:lnTo>
                      <a:pt x="174" y="341"/>
                    </a:lnTo>
                    <a:lnTo>
                      <a:pt x="185" y="338"/>
                    </a:lnTo>
                    <a:lnTo>
                      <a:pt x="194" y="337"/>
                    </a:lnTo>
                    <a:lnTo>
                      <a:pt x="203" y="334"/>
                    </a:lnTo>
                    <a:lnTo>
                      <a:pt x="221" y="330"/>
                    </a:lnTo>
                    <a:lnTo>
                      <a:pt x="243" y="326"/>
                    </a:lnTo>
                    <a:lnTo>
                      <a:pt x="271" y="320"/>
                    </a:lnTo>
                    <a:lnTo>
                      <a:pt x="301" y="315"/>
                    </a:lnTo>
                    <a:lnTo>
                      <a:pt x="334" y="308"/>
                    </a:lnTo>
                    <a:lnTo>
                      <a:pt x="368" y="302"/>
                    </a:lnTo>
                    <a:lnTo>
                      <a:pt x="404" y="295"/>
                    </a:lnTo>
                    <a:lnTo>
                      <a:pt x="437" y="288"/>
                    </a:lnTo>
                    <a:lnTo>
                      <a:pt x="470" y="282"/>
                    </a:lnTo>
                    <a:lnTo>
                      <a:pt x="500" y="275"/>
                    </a:lnTo>
                    <a:lnTo>
                      <a:pt x="529" y="271"/>
                    </a:lnTo>
                    <a:lnTo>
                      <a:pt x="552" y="266"/>
                    </a:lnTo>
                    <a:lnTo>
                      <a:pt x="568" y="263"/>
                    </a:lnTo>
                    <a:lnTo>
                      <a:pt x="580" y="261"/>
                    </a:lnTo>
                    <a:lnTo>
                      <a:pt x="585" y="261"/>
                    </a:lnTo>
                    <a:lnTo>
                      <a:pt x="587" y="260"/>
                    </a:lnTo>
                    <a:lnTo>
                      <a:pt x="593" y="258"/>
                    </a:lnTo>
                    <a:lnTo>
                      <a:pt x="603" y="256"/>
                    </a:lnTo>
                    <a:lnTo>
                      <a:pt x="615" y="254"/>
                    </a:lnTo>
                    <a:lnTo>
                      <a:pt x="629" y="248"/>
                    </a:lnTo>
                    <a:lnTo>
                      <a:pt x="647" y="244"/>
                    </a:lnTo>
                    <a:lnTo>
                      <a:pt x="664" y="237"/>
                    </a:lnTo>
                    <a:lnTo>
                      <a:pt x="683" y="232"/>
                    </a:lnTo>
                    <a:lnTo>
                      <a:pt x="702" y="223"/>
                    </a:lnTo>
                    <a:lnTo>
                      <a:pt x="720" y="213"/>
                    </a:lnTo>
                    <a:lnTo>
                      <a:pt x="736" y="202"/>
                    </a:lnTo>
                    <a:lnTo>
                      <a:pt x="752" y="191"/>
                    </a:lnTo>
                    <a:lnTo>
                      <a:pt x="764" y="178"/>
                    </a:lnTo>
                    <a:lnTo>
                      <a:pt x="774" y="164"/>
                    </a:lnTo>
                    <a:lnTo>
                      <a:pt x="781" y="149"/>
                    </a:lnTo>
                    <a:lnTo>
                      <a:pt x="784" y="132"/>
                    </a:lnTo>
                    <a:lnTo>
                      <a:pt x="781" y="115"/>
                    </a:lnTo>
                    <a:lnTo>
                      <a:pt x="775" y="100"/>
                    </a:lnTo>
                    <a:lnTo>
                      <a:pt x="767" y="87"/>
                    </a:lnTo>
                    <a:lnTo>
                      <a:pt x="758" y="77"/>
                    </a:lnTo>
                    <a:lnTo>
                      <a:pt x="746" y="67"/>
                    </a:lnTo>
                    <a:lnTo>
                      <a:pt x="734" y="61"/>
                    </a:lnTo>
                    <a:lnTo>
                      <a:pt x="721" y="54"/>
                    </a:lnTo>
                    <a:lnTo>
                      <a:pt x="708" y="51"/>
                    </a:lnTo>
                    <a:lnTo>
                      <a:pt x="694" y="46"/>
                    </a:lnTo>
                    <a:lnTo>
                      <a:pt x="681" y="43"/>
                    </a:lnTo>
                    <a:lnTo>
                      <a:pt x="669" y="41"/>
                    </a:lnTo>
                    <a:lnTo>
                      <a:pt x="659" y="39"/>
                    </a:lnTo>
                    <a:lnTo>
                      <a:pt x="648" y="38"/>
                    </a:lnTo>
                    <a:lnTo>
                      <a:pt x="641" y="38"/>
                    </a:lnTo>
                    <a:lnTo>
                      <a:pt x="637" y="38"/>
                    </a:lnTo>
                    <a:lnTo>
                      <a:pt x="637" y="39"/>
                    </a:lnTo>
                    <a:lnTo>
                      <a:pt x="140" y="31"/>
                    </a:lnTo>
                    <a:lnTo>
                      <a:pt x="157" y="13"/>
                    </a:lnTo>
                    <a:lnTo>
                      <a:pt x="161" y="12"/>
                    </a:lnTo>
                    <a:lnTo>
                      <a:pt x="180" y="11"/>
                    </a:lnTo>
                    <a:lnTo>
                      <a:pt x="208" y="10"/>
                    </a:lnTo>
                    <a:lnTo>
                      <a:pt x="245" y="10"/>
                    </a:lnTo>
                    <a:lnTo>
                      <a:pt x="288" y="9"/>
                    </a:lnTo>
                    <a:lnTo>
                      <a:pt x="337" y="7"/>
                    </a:lnTo>
                    <a:lnTo>
                      <a:pt x="390" y="7"/>
                    </a:lnTo>
                    <a:lnTo>
                      <a:pt x="447" y="9"/>
                    </a:lnTo>
                    <a:lnTo>
                      <a:pt x="502" y="9"/>
                    </a:lnTo>
                    <a:lnTo>
                      <a:pt x="557" y="10"/>
                    </a:lnTo>
                    <a:lnTo>
                      <a:pt x="610" y="11"/>
                    </a:lnTo>
                    <a:lnTo>
                      <a:pt x="660" y="14"/>
                    </a:lnTo>
                    <a:lnTo>
                      <a:pt x="704" y="16"/>
                    </a:lnTo>
                    <a:lnTo>
                      <a:pt x="741" y="22"/>
                    </a:lnTo>
                    <a:lnTo>
                      <a:pt x="770" y="27"/>
                    </a:lnTo>
                    <a:lnTo>
                      <a:pt x="789" y="36"/>
                    </a:lnTo>
                    <a:lnTo>
                      <a:pt x="800" y="44"/>
                    </a:lnTo>
                    <a:lnTo>
                      <a:pt x="812" y="53"/>
                    </a:lnTo>
                    <a:lnTo>
                      <a:pt x="819" y="63"/>
                    </a:lnTo>
                    <a:lnTo>
                      <a:pt x="828" y="75"/>
                    </a:lnTo>
                    <a:lnTo>
                      <a:pt x="833" y="86"/>
                    </a:lnTo>
                    <a:lnTo>
                      <a:pt x="836" y="99"/>
                    </a:lnTo>
                    <a:lnTo>
                      <a:pt x="838" y="112"/>
                    </a:lnTo>
                    <a:lnTo>
                      <a:pt x="839" y="127"/>
                    </a:lnTo>
                    <a:lnTo>
                      <a:pt x="836" y="140"/>
                    </a:lnTo>
                    <a:lnTo>
                      <a:pt x="831" y="153"/>
                    </a:lnTo>
                    <a:lnTo>
                      <a:pt x="826" y="167"/>
                    </a:lnTo>
                    <a:lnTo>
                      <a:pt x="819" y="181"/>
                    </a:lnTo>
                    <a:lnTo>
                      <a:pt x="808" y="194"/>
                    </a:lnTo>
                    <a:lnTo>
                      <a:pt x="797" y="208"/>
                    </a:lnTo>
                    <a:lnTo>
                      <a:pt x="782" y="220"/>
                    </a:lnTo>
                    <a:lnTo>
                      <a:pt x="766" y="233"/>
                    </a:lnTo>
                    <a:lnTo>
                      <a:pt x="746" y="244"/>
                    </a:lnTo>
                    <a:lnTo>
                      <a:pt x="724" y="256"/>
                    </a:lnTo>
                    <a:lnTo>
                      <a:pt x="698" y="268"/>
                    </a:lnTo>
                    <a:lnTo>
                      <a:pt x="671" y="281"/>
                    </a:lnTo>
                    <a:lnTo>
                      <a:pt x="642" y="290"/>
                    </a:lnTo>
                    <a:lnTo>
                      <a:pt x="614" y="302"/>
                    </a:lnTo>
                    <a:lnTo>
                      <a:pt x="583" y="311"/>
                    </a:lnTo>
                    <a:lnTo>
                      <a:pt x="555" y="321"/>
                    </a:lnTo>
                    <a:lnTo>
                      <a:pt x="525" y="329"/>
                    </a:lnTo>
                    <a:lnTo>
                      <a:pt x="500" y="338"/>
                    </a:lnTo>
                    <a:lnTo>
                      <a:pt x="477" y="344"/>
                    </a:lnTo>
                    <a:lnTo>
                      <a:pt x="454" y="351"/>
                    </a:lnTo>
                    <a:lnTo>
                      <a:pt x="437" y="356"/>
                    </a:lnTo>
                    <a:lnTo>
                      <a:pt x="425" y="360"/>
                    </a:lnTo>
                    <a:lnTo>
                      <a:pt x="416" y="362"/>
                    </a:lnTo>
                    <a:lnTo>
                      <a:pt x="414" y="362"/>
                    </a:lnTo>
                    <a:lnTo>
                      <a:pt x="410" y="362"/>
                    </a:lnTo>
                    <a:lnTo>
                      <a:pt x="404" y="362"/>
                    </a:lnTo>
                    <a:lnTo>
                      <a:pt x="391" y="363"/>
                    </a:lnTo>
                    <a:lnTo>
                      <a:pt x="377" y="367"/>
                    </a:lnTo>
                    <a:lnTo>
                      <a:pt x="359" y="370"/>
                    </a:lnTo>
                    <a:lnTo>
                      <a:pt x="341" y="373"/>
                    </a:lnTo>
                    <a:lnTo>
                      <a:pt x="320" y="378"/>
                    </a:lnTo>
                    <a:lnTo>
                      <a:pt x="299" y="386"/>
                    </a:lnTo>
                    <a:lnTo>
                      <a:pt x="275" y="391"/>
                    </a:lnTo>
                    <a:lnTo>
                      <a:pt x="254" y="399"/>
                    </a:lnTo>
                    <a:lnTo>
                      <a:pt x="233" y="409"/>
                    </a:lnTo>
                    <a:lnTo>
                      <a:pt x="216" y="420"/>
                    </a:lnTo>
                    <a:lnTo>
                      <a:pt x="199" y="431"/>
                    </a:lnTo>
                    <a:lnTo>
                      <a:pt x="186" y="444"/>
                    </a:lnTo>
                    <a:lnTo>
                      <a:pt x="176" y="460"/>
                    </a:lnTo>
                    <a:lnTo>
                      <a:pt x="170" y="477"/>
                    </a:lnTo>
                    <a:lnTo>
                      <a:pt x="168" y="492"/>
                    </a:lnTo>
                    <a:lnTo>
                      <a:pt x="170" y="507"/>
                    </a:lnTo>
                    <a:lnTo>
                      <a:pt x="177" y="519"/>
                    </a:lnTo>
                    <a:lnTo>
                      <a:pt x="186" y="531"/>
                    </a:lnTo>
                    <a:lnTo>
                      <a:pt x="196" y="540"/>
                    </a:lnTo>
                    <a:lnTo>
                      <a:pt x="209" y="550"/>
                    </a:lnTo>
                    <a:lnTo>
                      <a:pt x="224" y="558"/>
                    </a:lnTo>
                    <a:lnTo>
                      <a:pt x="239" y="565"/>
                    </a:lnTo>
                    <a:lnTo>
                      <a:pt x="254" y="570"/>
                    </a:lnTo>
                    <a:lnTo>
                      <a:pt x="270" y="573"/>
                    </a:lnTo>
                    <a:lnTo>
                      <a:pt x="283" y="577"/>
                    </a:lnTo>
                    <a:lnTo>
                      <a:pt x="296" y="581"/>
                    </a:lnTo>
                    <a:lnTo>
                      <a:pt x="306" y="582"/>
                    </a:lnTo>
                    <a:lnTo>
                      <a:pt x="316" y="583"/>
                    </a:lnTo>
                    <a:lnTo>
                      <a:pt x="321" y="583"/>
                    </a:lnTo>
                    <a:lnTo>
                      <a:pt x="324" y="585"/>
                    </a:lnTo>
                    <a:lnTo>
                      <a:pt x="933" y="633"/>
                    </a:lnTo>
                    <a:lnTo>
                      <a:pt x="935" y="633"/>
                    </a:lnTo>
                    <a:lnTo>
                      <a:pt x="946" y="634"/>
                    </a:lnTo>
                    <a:lnTo>
                      <a:pt x="963" y="635"/>
                    </a:lnTo>
                    <a:lnTo>
                      <a:pt x="985" y="639"/>
                    </a:lnTo>
                    <a:lnTo>
                      <a:pt x="1011" y="641"/>
                    </a:lnTo>
                    <a:lnTo>
                      <a:pt x="1040" y="645"/>
                    </a:lnTo>
                    <a:lnTo>
                      <a:pt x="1071" y="651"/>
                    </a:lnTo>
                    <a:lnTo>
                      <a:pt x="1106" y="656"/>
                    </a:lnTo>
                    <a:lnTo>
                      <a:pt x="1139" y="662"/>
                    </a:lnTo>
                    <a:lnTo>
                      <a:pt x="1172" y="669"/>
                    </a:lnTo>
                    <a:lnTo>
                      <a:pt x="1204" y="675"/>
                    </a:lnTo>
                    <a:lnTo>
                      <a:pt x="1234" y="684"/>
                    </a:lnTo>
                    <a:lnTo>
                      <a:pt x="1259" y="692"/>
                    </a:lnTo>
                    <a:lnTo>
                      <a:pt x="1282" y="701"/>
                    </a:lnTo>
                    <a:lnTo>
                      <a:pt x="1300" y="711"/>
                    </a:lnTo>
                    <a:lnTo>
                      <a:pt x="1312" y="723"/>
                    </a:lnTo>
                    <a:lnTo>
                      <a:pt x="1320" y="733"/>
                    </a:lnTo>
                    <a:lnTo>
                      <a:pt x="1327" y="745"/>
                    </a:lnTo>
                    <a:lnTo>
                      <a:pt x="1332" y="756"/>
                    </a:lnTo>
                    <a:lnTo>
                      <a:pt x="1338" y="769"/>
                    </a:lnTo>
                    <a:lnTo>
                      <a:pt x="1341" y="781"/>
                    </a:lnTo>
                    <a:lnTo>
                      <a:pt x="1344" y="796"/>
                    </a:lnTo>
                    <a:lnTo>
                      <a:pt x="1344" y="809"/>
                    </a:lnTo>
                    <a:lnTo>
                      <a:pt x="1345" y="823"/>
                    </a:lnTo>
                    <a:lnTo>
                      <a:pt x="1343" y="836"/>
                    </a:lnTo>
                    <a:lnTo>
                      <a:pt x="1340" y="848"/>
                    </a:lnTo>
                    <a:lnTo>
                      <a:pt x="1334" y="859"/>
                    </a:lnTo>
                    <a:lnTo>
                      <a:pt x="1329" y="871"/>
                    </a:lnTo>
                    <a:lnTo>
                      <a:pt x="1320" y="881"/>
                    </a:lnTo>
                    <a:lnTo>
                      <a:pt x="1310" y="891"/>
                    </a:lnTo>
                    <a:lnTo>
                      <a:pt x="1299" y="899"/>
                    </a:lnTo>
                    <a:lnTo>
                      <a:pt x="1287" y="907"/>
                    </a:lnTo>
                    <a:lnTo>
                      <a:pt x="1269" y="913"/>
                    </a:lnTo>
                    <a:lnTo>
                      <a:pt x="1249" y="918"/>
                    </a:lnTo>
                    <a:lnTo>
                      <a:pt x="1227" y="925"/>
                    </a:lnTo>
                    <a:lnTo>
                      <a:pt x="1204" y="932"/>
                    </a:lnTo>
                    <a:lnTo>
                      <a:pt x="1177" y="937"/>
                    </a:lnTo>
                    <a:lnTo>
                      <a:pt x="1152" y="943"/>
                    </a:lnTo>
                    <a:lnTo>
                      <a:pt x="1125" y="948"/>
                    </a:lnTo>
                    <a:lnTo>
                      <a:pt x="1101" y="954"/>
                    </a:lnTo>
                    <a:lnTo>
                      <a:pt x="1075" y="958"/>
                    </a:lnTo>
                    <a:lnTo>
                      <a:pt x="1051" y="963"/>
                    </a:lnTo>
                    <a:lnTo>
                      <a:pt x="1030" y="965"/>
                    </a:lnTo>
                    <a:lnTo>
                      <a:pt x="1013" y="969"/>
                    </a:lnTo>
                    <a:lnTo>
                      <a:pt x="997" y="971"/>
                    </a:lnTo>
                    <a:lnTo>
                      <a:pt x="985" y="974"/>
                    </a:lnTo>
                    <a:lnTo>
                      <a:pt x="978" y="975"/>
                    </a:lnTo>
                    <a:lnTo>
                      <a:pt x="976" y="976"/>
                    </a:lnTo>
                    <a:lnTo>
                      <a:pt x="269" y="1137"/>
                    </a:lnTo>
                    <a:lnTo>
                      <a:pt x="264" y="1137"/>
                    </a:lnTo>
                    <a:lnTo>
                      <a:pt x="259" y="1142"/>
                    </a:lnTo>
                    <a:lnTo>
                      <a:pt x="255" y="1145"/>
                    </a:lnTo>
                    <a:lnTo>
                      <a:pt x="254" y="1151"/>
                    </a:lnTo>
                    <a:lnTo>
                      <a:pt x="254" y="1158"/>
                    </a:lnTo>
                    <a:lnTo>
                      <a:pt x="258" y="1168"/>
                    </a:lnTo>
                    <a:lnTo>
                      <a:pt x="260" y="1173"/>
                    </a:lnTo>
                    <a:lnTo>
                      <a:pt x="264" y="1177"/>
                    </a:lnTo>
                    <a:lnTo>
                      <a:pt x="271" y="1182"/>
                    </a:lnTo>
                    <a:lnTo>
                      <a:pt x="281" y="1185"/>
                    </a:lnTo>
                    <a:lnTo>
                      <a:pt x="290" y="1188"/>
                    </a:lnTo>
                    <a:lnTo>
                      <a:pt x="301" y="1191"/>
                    </a:lnTo>
                    <a:lnTo>
                      <a:pt x="312" y="1195"/>
                    </a:lnTo>
                    <a:lnTo>
                      <a:pt x="324" y="1197"/>
                    </a:lnTo>
                    <a:lnTo>
                      <a:pt x="334" y="1198"/>
                    </a:lnTo>
                    <a:lnTo>
                      <a:pt x="345" y="1200"/>
                    </a:lnTo>
                    <a:lnTo>
                      <a:pt x="354" y="1201"/>
                    </a:lnTo>
                    <a:lnTo>
                      <a:pt x="364" y="1204"/>
                    </a:lnTo>
                    <a:lnTo>
                      <a:pt x="372" y="1205"/>
                    </a:lnTo>
                    <a:lnTo>
                      <a:pt x="377" y="1206"/>
                    </a:lnTo>
                    <a:lnTo>
                      <a:pt x="381" y="1206"/>
                    </a:lnTo>
                    <a:lnTo>
                      <a:pt x="384" y="1207"/>
                    </a:lnTo>
                    <a:lnTo>
                      <a:pt x="1024" y="1191"/>
                    </a:lnTo>
                    <a:lnTo>
                      <a:pt x="1869" y="1030"/>
                    </a:lnTo>
                    <a:lnTo>
                      <a:pt x="1883" y="999"/>
                    </a:lnTo>
                    <a:lnTo>
                      <a:pt x="1873" y="1000"/>
                    </a:lnTo>
                    <a:lnTo>
                      <a:pt x="1848" y="1006"/>
                    </a:lnTo>
                    <a:lnTo>
                      <a:pt x="1811" y="1014"/>
                    </a:lnTo>
                    <a:lnTo>
                      <a:pt x="1761" y="1025"/>
                    </a:lnTo>
                    <a:lnTo>
                      <a:pt x="1701" y="1037"/>
                    </a:lnTo>
                    <a:lnTo>
                      <a:pt x="1636" y="1052"/>
                    </a:lnTo>
                    <a:lnTo>
                      <a:pt x="1564" y="1068"/>
                    </a:lnTo>
                    <a:lnTo>
                      <a:pt x="1490" y="1084"/>
                    </a:lnTo>
                    <a:lnTo>
                      <a:pt x="1413" y="1100"/>
                    </a:lnTo>
                    <a:lnTo>
                      <a:pt x="1338" y="1116"/>
                    </a:lnTo>
                    <a:lnTo>
                      <a:pt x="1265" y="1130"/>
                    </a:lnTo>
                    <a:lnTo>
                      <a:pt x="1198" y="1144"/>
                    </a:lnTo>
                    <a:lnTo>
                      <a:pt x="1139" y="1154"/>
                    </a:lnTo>
                    <a:lnTo>
                      <a:pt x="1088" y="1163"/>
                    </a:lnTo>
                    <a:lnTo>
                      <a:pt x="1048" y="1169"/>
                    </a:lnTo>
                    <a:lnTo>
                      <a:pt x="1024" y="1173"/>
                    </a:lnTo>
                    <a:lnTo>
                      <a:pt x="999" y="1173"/>
                    </a:lnTo>
                    <a:lnTo>
                      <a:pt x="967" y="1173"/>
                    </a:lnTo>
                    <a:lnTo>
                      <a:pt x="928" y="1174"/>
                    </a:lnTo>
                    <a:lnTo>
                      <a:pt x="883" y="1175"/>
                    </a:lnTo>
                    <a:lnTo>
                      <a:pt x="831" y="1176"/>
                    </a:lnTo>
                    <a:lnTo>
                      <a:pt x="778" y="1178"/>
                    </a:lnTo>
                    <a:lnTo>
                      <a:pt x="722" y="1180"/>
                    </a:lnTo>
                    <a:lnTo>
                      <a:pt x="667" y="1183"/>
                    </a:lnTo>
                    <a:lnTo>
                      <a:pt x="609" y="1184"/>
                    </a:lnTo>
                    <a:lnTo>
                      <a:pt x="554" y="1185"/>
                    </a:lnTo>
                    <a:lnTo>
                      <a:pt x="500" y="1185"/>
                    </a:lnTo>
                    <a:lnTo>
                      <a:pt x="453" y="1185"/>
                    </a:lnTo>
                    <a:lnTo>
                      <a:pt x="408" y="1185"/>
                    </a:lnTo>
                    <a:lnTo>
                      <a:pt x="373" y="1185"/>
                    </a:lnTo>
                    <a:lnTo>
                      <a:pt x="343" y="1183"/>
                    </a:lnTo>
                    <a:lnTo>
                      <a:pt x="324" y="1180"/>
                    </a:lnTo>
                    <a:lnTo>
                      <a:pt x="309" y="1176"/>
                    </a:lnTo>
                    <a:lnTo>
                      <a:pt x="297" y="1174"/>
                    </a:lnTo>
                    <a:lnTo>
                      <a:pt x="289" y="1169"/>
                    </a:lnTo>
                    <a:lnTo>
                      <a:pt x="283" y="1166"/>
                    </a:lnTo>
                    <a:lnTo>
                      <a:pt x="275" y="1161"/>
                    </a:lnTo>
                    <a:lnTo>
                      <a:pt x="274" y="1155"/>
                    </a:lnTo>
                    <a:lnTo>
                      <a:pt x="275" y="1149"/>
                    </a:lnTo>
                    <a:lnTo>
                      <a:pt x="281" y="1146"/>
                    </a:lnTo>
                    <a:lnTo>
                      <a:pt x="284" y="1144"/>
                    </a:lnTo>
                    <a:lnTo>
                      <a:pt x="286" y="1144"/>
                    </a:lnTo>
                    <a:lnTo>
                      <a:pt x="1187" y="970"/>
                    </a:lnTo>
                    <a:lnTo>
                      <a:pt x="1188" y="969"/>
                    </a:lnTo>
                    <a:lnTo>
                      <a:pt x="1195" y="969"/>
                    </a:lnTo>
                    <a:lnTo>
                      <a:pt x="1203" y="967"/>
                    </a:lnTo>
                    <a:lnTo>
                      <a:pt x="1215" y="965"/>
                    </a:lnTo>
                    <a:lnTo>
                      <a:pt x="1228" y="962"/>
                    </a:lnTo>
                    <a:lnTo>
                      <a:pt x="1243" y="958"/>
                    </a:lnTo>
                    <a:lnTo>
                      <a:pt x="1259" y="953"/>
                    </a:lnTo>
                    <a:lnTo>
                      <a:pt x="1277" y="946"/>
                    </a:lnTo>
                    <a:lnTo>
                      <a:pt x="1292" y="936"/>
                    </a:lnTo>
                    <a:lnTo>
                      <a:pt x="1309" y="926"/>
                    </a:lnTo>
                    <a:lnTo>
                      <a:pt x="1322" y="913"/>
                    </a:lnTo>
                    <a:lnTo>
                      <a:pt x="1338" y="900"/>
                    </a:lnTo>
                    <a:lnTo>
                      <a:pt x="1349" y="882"/>
                    </a:lnTo>
                    <a:lnTo>
                      <a:pt x="1358" y="862"/>
                    </a:lnTo>
                    <a:lnTo>
                      <a:pt x="1363" y="841"/>
                    </a:lnTo>
                    <a:lnTo>
                      <a:pt x="1366" y="817"/>
                    </a:lnTo>
                    <a:lnTo>
                      <a:pt x="1364" y="791"/>
                    </a:lnTo>
                    <a:lnTo>
                      <a:pt x="1359" y="769"/>
                    </a:lnTo>
                    <a:lnTo>
                      <a:pt x="1350" y="750"/>
                    </a:lnTo>
                    <a:lnTo>
                      <a:pt x="1341" y="734"/>
                    </a:lnTo>
                    <a:lnTo>
                      <a:pt x="1328" y="718"/>
                    </a:lnTo>
                    <a:lnTo>
                      <a:pt x="1315" y="706"/>
                    </a:lnTo>
                    <a:lnTo>
                      <a:pt x="1299" y="696"/>
                    </a:lnTo>
                    <a:lnTo>
                      <a:pt x="1286" y="687"/>
                    </a:lnTo>
                    <a:lnTo>
                      <a:pt x="1270" y="680"/>
                    </a:lnTo>
                    <a:lnTo>
                      <a:pt x="1255" y="675"/>
                    </a:lnTo>
                    <a:lnTo>
                      <a:pt x="1242" y="670"/>
                    </a:lnTo>
                    <a:lnTo>
                      <a:pt x="1230" y="667"/>
                    </a:lnTo>
                    <a:lnTo>
                      <a:pt x="1218" y="664"/>
                    </a:lnTo>
                    <a:lnTo>
                      <a:pt x="1211" y="664"/>
                    </a:lnTo>
                    <a:lnTo>
                      <a:pt x="1206" y="664"/>
                    </a:lnTo>
                    <a:lnTo>
                      <a:pt x="1205" y="664"/>
                    </a:lnTo>
                    <a:lnTo>
                      <a:pt x="1202" y="663"/>
                    </a:lnTo>
                    <a:lnTo>
                      <a:pt x="1196" y="661"/>
                    </a:lnTo>
                    <a:lnTo>
                      <a:pt x="1184" y="658"/>
                    </a:lnTo>
                    <a:lnTo>
                      <a:pt x="1170" y="655"/>
                    </a:lnTo>
                    <a:lnTo>
                      <a:pt x="1151" y="651"/>
                    </a:lnTo>
                    <a:lnTo>
                      <a:pt x="1129" y="646"/>
                    </a:lnTo>
                    <a:lnTo>
                      <a:pt x="1101" y="641"/>
                    </a:lnTo>
                    <a:lnTo>
                      <a:pt x="1071" y="638"/>
                    </a:lnTo>
                    <a:lnTo>
                      <a:pt x="1037" y="631"/>
                    </a:lnTo>
                    <a:lnTo>
                      <a:pt x="1001" y="627"/>
                    </a:lnTo>
                    <a:lnTo>
                      <a:pt x="960" y="621"/>
                    </a:lnTo>
                    <a:lnTo>
                      <a:pt x="918" y="618"/>
                    </a:lnTo>
                    <a:lnTo>
                      <a:pt x="871" y="612"/>
                    </a:lnTo>
                    <a:lnTo>
                      <a:pt x="821" y="608"/>
                    </a:lnTo>
                    <a:lnTo>
                      <a:pt x="771" y="606"/>
                    </a:lnTo>
                    <a:lnTo>
                      <a:pt x="716" y="603"/>
                    </a:lnTo>
                    <a:lnTo>
                      <a:pt x="661" y="599"/>
                    </a:lnTo>
                    <a:lnTo>
                      <a:pt x="610" y="596"/>
                    </a:lnTo>
                    <a:lnTo>
                      <a:pt x="562" y="592"/>
                    </a:lnTo>
                    <a:lnTo>
                      <a:pt x="516" y="589"/>
                    </a:lnTo>
                    <a:lnTo>
                      <a:pt x="474" y="585"/>
                    </a:lnTo>
                    <a:lnTo>
                      <a:pt x="435" y="581"/>
                    </a:lnTo>
                    <a:lnTo>
                      <a:pt x="398" y="577"/>
                    </a:lnTo>
                    <a:lnTo>
                      <a:pt x="365" y="572"/>
                    </a:lnTo>
                    <a:lnTo>
                      <a:pt x="335" y="568"/>
                    </a:lnTo>
                    <a:lnTo>
                      <a:pt x="307" y="562"/>
                    </a:lnTo>
                    <a:lnTo>
                      <a:pt x="284" y="558"/>
                    </a:lnTo>
                    <a:lnTo>
                      <a:pt x="265" y="555"/>
                    </a:lnTo>
                    <a:lnTo>
                      <a:pt x="249" y="549"/>
                    </a:lnTo>
                    <a:lnTo>
                      <a:pt x="237" y="546"/>
                    </a:lnTo>
                    <a:lnTo>
                      <a:pt x="227" y="543"/>
                    </a:lnTo>
                    <a:lnTo>
                      <a:pt x="222" y="539"/>
                    </a:lnTo>
                    <a:lnTo>
                      <a:pt x="213" y="533"/>
                    </a:lnTo>
                    <a:lnTo>
                      <a:pt x="203" y="525"/>
                    </a:lnTo>
                    <a:lnTo>
                      <a:pt x="195" y="516"/>
                    </a:lnTo>
                    <a:lnTo>
                      <a:pt x="190" y="507"/>
                    </a:lnTo>
                    <a:lnTo>
                      <a:pt x="187" y="502"/>
                    </a:lnTo>
                    <a:lnTo>
                      <a:pt x="185" y="495"/>
                    </a:lnTo>
                    <a:lnTo>
                      <a:pt x="184" y="489"/>
                    </a:lnTo>
                    <a:lnTo>
                      <a:pt x="185" y="484"/>
                    </a:lnTo>
                    <a:lnTo>
                      <a:pt x="185" y="478"/>
                    </a:lnTo>
                    <a:lnTo>
                      <a:pt x="188" y="472"/>
                    </a:lnTo>
                    <a:lnTo>
                      <a:pt x="191" y="466"/>
                    </a:lnTo>
                    <a:lnTo>
                      <a:pt x="197" y="460"/>
                    </a:lnTo>
                    <a:lnTo>
                      <a:pt x="202" y="452"/>
                    </a:lnTo>
                    <a:lnTo>
                      <a:pt x="213" y="445"/>
                    </a:lnTo>
                    <a:lnTo>
                      <a:pt x="226" y="438"/>
                    </a:lnTo>
                    <a:lnTo>
                      <a:pt x="242" y="432"/>
                    </a:lnTo>
                    <a:lnTo>
                      <a:pt x="259" y="424"/>
                    </a:lnTo>
                    <a:lnTo>
                      <a:pt x="276" y="419"/>
                    </a:lnTo>
                    <a:lnTo>
                      <a:pt x="295" y="412"/>
                    </a:lnTo>
                    <a:lnTo>
                      <a:pt x="316" y="407"/>
                    </a:lnTo>
                    <a:lnTo>
                      <a:pt x="334" y="400"/>
                    </a:lnTo>
                    <a:lnTo>
                      <a:pt x="352" y="395"/>
                    </a:lnTo>
                    <a:lnTo>
                      <a:pt x="368" y="390"/>
                    </a:lnTo>
                    <a:lnTo>
                      <a:pt x="384" y="387"/>
                    </a:lnTo>
                    <a:lnTo>
                      <a:pt x="396" y="384"/>
                    </a:lnTo>
                    <a:lnTo>
                      <a:pt x="405" y="382"/>
                    </a:lnTo>
                    <a:lnTo>
                      <a:pt x="410" y="381"/>
                    </a:lnTo>
                    <a:lnTo>
                      <a:pt x="414" y="381"/>
                    </a:lnTo>
                    <a:lnTo>
                      <a:pt x="417" y="379"/>
                    </a:lnTo>
                    <a:lnTo>
                      <a:pt x="426" y="377"/>
                    </a:lnTo>
                    <a:lnTo>
                      <a:pt x="439" y="373"/>
                    </a:lnTo>
                    <a:lnTo>
                      <a:pt x="459" y="368"/>
                    </a:lnTo>
                    <a:lnTo>
                      <a:pt x="481" y="361"/>
                    </a:lnTo>
                    <a:lnTo>
                      <a:pt x="508" y="353"/>
                    </a:lnTo>
                    <a:lnTo>
                      <a:pt x="535" y="345"/>
                    </a:lnTo>
                    <a:lnTo>
                      <a:pt x="567" y="337"/>
                    </a:lnTo>
                    <a:lnTo>
                      <a:pt x="597" y="326"/>
                    </a:lnTo>
                    <a:lnTo>
                      <a:pt x="627" y="316"/>
                    </a:lnTo>
                    <a:lnTo>
                      <a:pt x="657" y="305"/>
                    </a:lnTo>
                    <a:lnTo>
                      <a:pt x="687" y="293"/>
                    </a:lnTo>
                    <a:lnTo>
                      <a:pt x="713" y="282"/>
                    </a:lnTo>
                    <a:lnTo>
                      <a:pt x="737" y="271"/>
                    </a:lnTo>
                    <a:lnTo>
                      <a:pt x="756" y="258"/>
                    </a:lnTo>
                    <a:lnTo>
                      <a:pt x="774" y="246"/>
                    </a:lnTo>
                    <a:lnTo>
                      <a:pt x="785" y="235"/>
                    </a:lnTo>
                    <a:lnTo>
                      <a:pt x="797" y="224"/>
                    </a:lnTo>
                    <a:lnTo>
                      <a:pt x="807" y="212"/>
                    </a:lnTo>
                    <a:lnTo>
                      <a:pt x="817" y="202"/>
                    </a:lnTo>
                    <a:lnTo>
                      <a:pt x="825" y="192"/>
                    </a:lnTo>
                    <a:lnTo>
                      <a:pt x="831" y="182"/>
                    </a:lnTo>
                    <a:lnTo>
                      <a:pt x="838" y="172"/>
                    </a:lnTo>
                    <a:lnTo>
                      <a:pt x="845" y="163"/>
                    </a:lnTo>
                    <a:lnTo>
                      <a:pt x="848" y="153"/>
                    </a:lnTo>
                    <a:lnTo>
                      <a:pt x="852" y="143"/>
                    </a:lnTo>
                    <a:lnTo>
                      <a:pt x="854" y="133"/>
                    </a:lnTo>
                    <a:lnTo>
                      <a:pt x="856" y="125"/>
                    </a:lnTo>
                    <a:lnTo>
                      <a:pt x="855" y="114"/>
                    </a:lnTo>
                    <a:lnTo>
                      <a:pt x="855" y="104"/>
                    </a:lnTo>
                    <a:lnTo>
                      <a:pt x="852" y="94"/>
                    </a:lnTo>
                    <a:lnTo>
                      <a:pt x="850" y="84"/>
                    </a:lnTo>
                    <a:lnTo>
                      <a:pt x="845" y="72"/>
                    </a:lnTo>
                    <a:lnTo>
                      <a:pt x="840" y="62"/>
                    </a:lnTo>
                    <a:lnTo>
                      <a:pt x="833" y="53"/>
                    </a:lnTo>
                    <a:lnTo>
                      <a:pt x="827" y="46"/>
                    </a:lnTo>
                    <a:lnTo>
                      <a:pt x="818" y="37"/>
                    </a:lnTo>
                    <a:lnTo>
                      <a:pt x="809" y="33"/>
                    </a:lnTo>
                    <a:lnTo>
                      <a:pt x="800" y="26"/>
                    </a:lnTo>
                    <a:lnTo>
                      <a:pt x="792" y="23"/>
                    </a:lnTo>
                    <a:lnTo>
                      <a:pt x="781" y="17"/>
                    </a:lnTo>
                    <a:lnTo>
                      <a:pt x="770" y="14"/>
                    </a:lnTo>
                    <a:lnTo>
                      <a:pt x="758" y="11"/>
                    </a:lnTo>
                    <a:lnTo>
                      <a:pt x="748" y="9"/>
                    </a:lnTo>
                    <a:lnTo>
                      <a:pt x="736" y="5"/>
                    </a:lnTo>
                    <a:lnTo>
                      <a:pt x="726" y="4"/>
                    </a:lnTo>
                    <a:lnTo>
                      <a:pt x="715" y="3"/>
                    </a:lnTo>
                    <a:lnTo>
                      <a:pt x="705" y="3"/>
                    </a:lnTo>
                    <a:lnTo>
                      <a:pt x="688" y="2"/>
                    </a:lnTo>
                    <a:lnTo>
                      <a:pt x="663" y="1"/>
                    </a:lnTo>
                    <a:lnTo>
                      <a:pt x="631" y="0"/>
                    </a:lnTo>
                    <a:lnTo>
                      <a:pt x="594" y="0"/>
                    </a:lnTo>
                    <a:lnTo>
                      <a:pt x="551" y="0"/>
                    </a:lnTo>
                    <a:lnTo>
                      <a:pt x="504" y="0"/>
                    </a:lnTo>
                    <a:lnTo>
                      <a:pt x="456" y="0"/>
                    </a:lnTo>
                    <a:lnTo>
                      <a:pt x="408" y="0"/>
                    </a:lnTo>
                    <a:lnTo>
                      <a:pt x="358" y="0"/>
                    </a:lnTo>
                    <a:lnTo>
                      <a:pt x="313" y="0"/>
                    </a:lnTo>
                    <a:lnTo>
                      <a:pt x="270" y="0"/>
                    </a:lnTo>
                    <a:lnTo>
                      <a:pt x="232" y="0"/>
                    </a:lnTo>
                    <a:lnTo>
                      <a:pt x="200" y="0"/>
                    </a:lnTo>
                    <a:lnTo>
                      <a:pt x="176" y="0"/>
                    </a:lnTo>
                    <a:lnTo>
                      <a:pt x="160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5c5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705760" y="4902120"/>
                <a:ext cx="37800" cy="330120"/>
              </a:xfrm>
              <a:custGeom>
                <a:avLst/>
                <a:gdLst/>
                <a:ahLst/>
                <a:rect l="l" t="t" r="r" b="b"/>
                <a:pathLst>
                  <a:path w="47" h="416">
                    <a:moveTo>
                      <a:pt x="6" y="416"/>
                    </a:moveTo>
                    <a:lnTo>
                      <a:pt x="11" y="139"/>
                    </a:lnTo>
                    <a:lnTo>
                      <a:pt x="10" y="138"/>
                    </a:lnTo>
                    <a:lnTo>
                      <a:pt x="8" y="134"/>
                    </a:lnTo>
                    <a:lnTo>
                      <a:pt x="6" y="127"/>
                    </a:lnTo>
                    <a:lnTo>
                      <a:pt x="5" y="118"/>
                    </a:lnTo>
                    <a:lnTo>
                      <a:pt x="3" y="107"/>
                    </a:lnTo>
                    <a:lnTo>
                      <a:pt x="2" y="97"/>
                    </a:lnTo>
                    <a:lnTo>
                      <a:pt x="1" y="85"/>
                    </a:lnTo>
                    <a:lnTo>
                      <a:pt x="1" y="73"/>
                    </a:lnTo>
                    <a:lnTo>
                      <a:pt x="0" y="60"/>
                    </a:lnTo>
                    <a:lnTo>
                      <a:pt x="0" y="46"/>
                    </a:lnTo>
                    <a:lnTo>
                      <a:pt x="0" y="34"/>
                    </a:lnTo>
                    <a:lnTo>
                      <a:pt x="2" y="24"/>
                    </a:lnTo>
                    <a:lnTo>
                      <a:pt x="4" y="14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5" y="3"/>
                    </a:lnTo>
                    <a:lnTo>
                      <a:pt x="39" y="10"/>
                    </a:lnTo>
                    <a:lnTo>
                      <a:pt x="44" y="19"/>
                    </a:lnTo>
                    <a:lnTo>
                      <a:pt x="45" y="29"/>
                    </a:lnTo>
                    <a:lnTo>
                      <a:pt x="46" y="41"/>
                    </a:lnTo>
                    <a:lnTo>
                      <a:pt x="46" y="54"/>
                    </a:lnTo>
                    <a:lnTo>
                      <a:pt x="47" y="69"/>
                    </a:lnTo>
                    <a:lnTo>
                      <a:pt x="46" y="81"/>
                    </a:lnTo>
                    <a:lnTo>
                      <a:pt x="45" y="95"/>
                    </a:lnTo>
                    <a:lnTo>
                      <a:pt x="44" y="107"/>
                    </a:lnTo>
                    <a:lnTo>
                      <a:pt x="43" y="119"/>
                    </a:lnTo>
                    <a:lnTo>
                      <a:pt x="40" y="128"/>
                    </a:lnTo>
                    <a:lnTo>
                      <a:pt x="39" y="137"/>
                    </a:lnTo>
                    <a:lnTo>
                      <a:pt x="39" y="142"/>
                    </a:lnTo>
                    <a:lnTo>
                      <a:pt x="39" y="144"/>
                    </a:lnTo>
                    <a:lnTo>
                      <a:pt x="36" y="410"/>
                    </a:lnTo>
                    <a:lnTo>
                      <a:pt x="6" y="416"/>
                    </a:lnTo>
                    <a:lnTo>
                      <a:pt x="6" y="416"/>
                    </a:lnTo>
                    <a:close/>
                  </a:path>
                </a:pathLst>
              </a:custGeom>
              <a:solidFill>
                <a:srgbClr val="b34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227680" y="4949640"/>
                <a:ext cx="71640" cy="200160"/>
              </a:xfrm>
              <a:custGeom>
                <a:avLst/>
                <a:gdLst/>
                <a:ahLst/>
                <a:rect l="l" t="t" r="r" b="b"/>
                <a:pathLst>
                  <a:path w="90" h="252">
                    <a:moveTo>
                      <a:pt x="16" y="252"/>
                    </a:moveTo>
                    <a:lnTo>
                      <a:pt x="18" y="145"/>
                    </a:lnTo>
                    <a:lnTo>
                      <a:pt x="17" y="142"/>
                    </a:lnTo>
                    <a:lnTo>
                      <a:pt x="14" y="137"/>
                    </a:lnTo>
                    <a:lnTo>
                      <a:pt x="12" y="130"/>
                    </a:lnTo>
                    <a:lnTo>
                      <a:pt x="10" y="121"/>
                    </a:lnTo>
                    <a:lnTo>
                      <a:pt x="7" y="109"/>
                    </a:lnTo>
                    <a:lnTo>
                      <a:pt x="4" y="98"/>
                    </a:lnTo>
                    <a:lnTo>
                      <a:pt x="1" y="85"/>
                    </a:lnTo>
                    <a:lnTo>
                      <a:pt x="1" y="73"/>
                    </a:lnTo>
                    <a:lnTo>
                      <a:pt x="0" y="58"/>
                    </a:lnTo>
                    <a:lnTo>
                      <a:pt x="1" y="45"/>
                    </a:lnTo>
                    <a:lnTo>
                      <a:pt x="3" y="33"/>
                    </a:lnTo>
                    <a:lnTo>
                      <a:pt x="10" y="23"/>
                    </a:lnTo>
                    <a:lnTo>
                      <a:pt x="16" y="13"/>
                    </a:lnTo>
                    <a:lnTo>
                      <a:pt x="24" y="8"/>
                    </a:lnTo>
                    <a:lnTo>
                      <a:pt x="37" y="2"/>
                    </a:lnTo>
                    <a:lnTo>
                      <a:pt x="53" y="1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7" y="1"/>
                    </a:lnTo>
                    <a:lnTo>
                      <a:pt x="72" y="3"/>
                    </a:lnTo>
                    <a:lnTo>
                      <a:pt x="79" y="6"/>
                    </a:lnTo>
                    <a:lnTo>
                      <a:pt x="83" y="10"/>
                    </a:lnTo>
                    <a:lnTo>
                      <a:pt x="87" y="18"/>
                    </a:lnTo>
                    <a:lnTo>
                      <a:pt x="90" y="21"/>
                    </a:lnTo>
                    <a:lnTo>
                      <a:pt x="87" y="21"/>
                    </a:lnTo>
                    <a:lnTo>
                      <a:pt x="85" y="25"/>
                    </a:lnTo>
                    <a:lnTo>
                      <a:pt x="82" y="30"/>
                    </a:lnTo>
                    <a:lnTo>
                      <a:pt x="80" y="36"/>
                    </a:lnTo>
                    <a:lnTo>
                      <a:pt x="74" y="43"/>
                    </a:lnTo>
                    <a:lnTo>
                      <a:pt x="70" y="53"/>
                    </a:lnTo>
                    <a:lnTo>
                      <a:pt x="65" y="62"/>
                    </a:lnTo>
                    <a:lnTo>
                      <a:pt x="62" y="73"/>
                    </a:lnTo>
                    <a:lnTo>
                      <a:pt x="58" y="83"/>
                    </a:lnTo>
                    <a:lnTo>
                      <a:pt x="55" y="93"/>
                    </a:lnTo>
                    <a:lnTo>
                      <a:pt x="53" y="103"/>
                    </a:lnTo>
                    <a:lnTo>
                      <a:pt x="54" y="114"/>
                    </a:lnTo>
                    <a:lnTo>
                      <a:pt x="55" y="123"/>
                    </a:lnTo>
                    <a:lnTo>
                      <a:pt x="59" y="130"/>
                    </a:lnTo>
                    <a:lnTo>
                      <a:pt x="65" y="137"/>
                    </a:lnTo>
                    <a:lnTo>
                      <a:pt x="74" y="145"/>
                    </a:lnTo>
                    <a:lnTo>
                      <a:pt x="72" y="147"/>
                    </a:lnTo>
                    <a:lnTo>
                      <a:pt x="65" y="154"/>
                    </a:lnTo>
                    <a:lnTo>
                      <a:pt x="56" y="158"/>
                    </a:lnTo>
                    <a:lnTo>
                      <a:pt x="53" y="160"/>
                    </a:lnTo>
                    <a:lnTo>
                      <a:pt x="53" y="244"/>
                    </a:lnTo>
                    <a:lnTo>
                      <a:pt x="16" y="252"/>
                    </a:lnTo>
                    <a:lnTo>
                      <a:pt x="16" y="252"/>
                    </a:lnTo>
                    <a:close/>
                  </a:path>
                </a:pathLst>
              </a:custGeom>
              <a:solidFill>
                <a:srgbClr val="b34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2358000" y="5159160"/>
                <a:ext cx="73080" cy="243000"/>
              </a:xfrm>
              <a:custGeom>
                <a:avLst/>
                <a:gdLst/>
                <a:ahLst/>
                <a:rect l="l" t="t" r="r" b="b"/>
                <a:pathLst>
                  <a:path w="92" h="306">
                    <a:moveTo>
                      <a:pt x="0" y="24"/>
                    </a:moveTo>
                    <a:lnTo>
                      <a:pt x="0" y="23"/>
                    </a:lnTo>
                    <a:lnTo>
                      <a:pt x="4" y="19"/>
                    </a:lnTo>
                    <a:lnTo>
                      <a:pt x="7" y="13"/>
                    </a:lnTo>
                    <a:lnTo>
                      <a:pt x="15" y="10"/>
                    </a:lnTo>
                    <a:lnTo>
                      <a:pt x="22" y="3"/>
                    </a:lnTo>
                    <a:lnTo>
                      <a:pt x="32" y="1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9" y="3"/>
                    </a:lnTo>
                    <a:lnTo>
                      <a:pt x="64" y="6"/>
                    </a:lnTo>
                    <a:lnTo>
                      <a:pt x="71" y="12"/>
                    </a:lnTo>
                    <a:lnTo>
                      <a:pt x="75" y="20"/>
                    </a:lnTo>
                    <a:lnTo>
                      <a:pt x="81" y="31"/>
                    </a:lnTo>
                    <a:lnTo>
                      <a:pt x="84" y="43"/>
                    </a:lnTo>
                    <a:lnTo>
                      <a:pt x="88" y="57"/>
                    </a:lnTo>
                    <a:lnTo>
                      <a:pt x="90" y="71"/>
                    </a:lnTo>
                    <a:lnTo>
                      <a:pt x="92" y="86"/>
                    </a:lnTo>
                    <a:lnTo>
                      <a:pt x="92" y="101"/>
                    </a:lnTo>
                    <a:lnTo>
                      <a:pt x="92" y="116"/>
                    </a:lnTo>
                    <a:lnTo>
                      <a:pt x="91" y="129"/>
                    </a:lnTo>
                    <a:lnTo>
                      <a:pt x="90" y="143"/>
                    </a:lnTo>
                    <a:lnTo>
                      <a:pt x="86" y="154"/>
                    </a:lnTo>
                    <a:lnTo>
                      <a:pt x="85" y="164"/>
                    </a:lnTo>
                    <a:lnTo>
                      <a:pt x="81" y="171"/>
                    </a:lnTo>
                    <a:lnTo>
                      <a:pt x="77" y="176"/>
                    </a:lnTo>
                    <a:lnTo>
                      <a:pt x="71" y="306"/>
                    </a:lnTo>
                    <a:lnTo>
                      <a:pt x="32" y="306"/>
                    </a:lnTo>
                    <a:lnTo>
                      <a:pt x="30" y="186"/>
                    </a:lnTo>
                    <a:lnTo>
                      <a:pt x="6" y="181"/>
                    </a:lnTo>
                    <a:lnTo>
                      <a:pt x="6" y="179"/>
                    </a:lnTo>
                    <a:lnTo>
                      <a:pt x="10" y="174"/>
                    </a:lnTo>
                    <a:lnTo>
                      <a:pt x="12" y="169"/>
                    </a:lnTo>
                    <a:lnTo>
                      <a:pt x="16" y="165"/>
                    </a:lnTo>
                    <a:lnTo>
                      <a:pt x="18" y="160"/>
                    </a:lnTo>
                    <a:lnTo>
                      <a:pt x="22" y="155"/>
                    </a:lnTo>
                    <a:lnTo>
                      <a:pt x="25" y="148"/>
                    </a:lnTo>
                    <a:lnTo>
                      <a:pt x="28" y="140"/>
                    </a:lnTo>
                    <a:lnTo>
                      <a:pt x="30" y="133"/>
                    </a:lnTo>
                    <a:lnTo>
                      <a:pt x="32" y="126"/>
                    </a:lnTo>
                    <a:lnTo>
                      <a:pt x="33" y="116"/>
                    </a:lnTo>
                    <a:lnTo>
                      <a:pt x="35" y="108"/>
                    </a:lnTo>
                    <a:lnTo>
                      <a:pt x="33" y="99"/>
                    </a:lnTo>
                    <a:lnTo>
                      <a:pt x="33" y="92"/>
                    </a:lnTo>
                    <a:lnTo>
                      <a:pt x="30" y="82"/>
                    </a:lnTo>
                    <a:lnTo>
                      <a:pt x="29" y="74"/>
                    </a:lnTo>
                    <a:lnTo>
                      <a:pt x="27" y="66"/>
                    </a:lnTo>
                    <a:lnTo>
                      <a:pt x="25" y="60"/>
                    </a:lnTo>
                    <a:lnTo>
                      <a:pt x="21" y="53"/>
                    </a:lnTo>
                    <a:lnTo>
                      <a:pt x="18" y="48"/>
                    </a:lnTo>
                    <a:lnTo>
                      <a:pt x="16" y="43"/>
                    </a:lnTo>
                    <a:lnTo>
                      <a:pt x="14" y="40"/>
                    </a:lnTo>
                    <a:lnTo>
                      <a:pt x="7" y="32"/>
                    </a:lnTo>
                    <a:lnTo>
                      <a:pt x="4" y="2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34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1931040" y="5337000"/>
                <a:ext cx="191880" cy="833400"/>
              </a:xfrm>
              <a:custGeom>
                <a:avLst/>
                <a:gdLst/>
                <a:ahLst/>
                <a:rect l="l" t="t" r="r" b="b"/>
                <a:pathLst>
                  <a:path w="243" h="1051">
                    <a:moveTo>
                      <a:pt x="243" y="10"/>
                    </a:moveTo>
                    <a:lnTo>
                      <a:pt x="240" y="8"/>
                    </a:lnTo>
                    <a:lnTo>
                      <a:pt x="233" y="7"/>
                    </a:lnTo>
                    <a:lnTo>
                      <a:pt x="222" y="5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72" y="2"/>
                    </a:lnTo>
                    <a:lnTo>
                      <a:pt x="151" y="4"/>
                    </a:lnTo>
                    <a:lnTo>
                      <a:pt x="131" y="9"/>
                    </a:lnTo>
                    <a:lnTo>
                      <a:pt x="109" y="18"/>
                    </a:lnTo>
                    <a:lnTo>
                      <a:pt x="87" y="31"/>
                    </a:lnTo>
                    <a:lnTo>
                      <a:pt x="65" y="48"/>
                    </a:lnTo>
                    <a:lnTo>
                      <a:pt x="49" y="72"/>
                    </a:lnTo>
                    <a:lnTo>
                      <a:pt x="31" y="101"/>
                    </a:lnTo>
                    <a:lnTo>
                      <a:pt x="19" y="136"/>
                    </a:lnTo>
                    <a:lnTo>
                      <a:pt x="8" y="181"/>
                    </a:lnTo>
                    <a:lnTo>
                      <a:pt x="3" y="233"/>
                    </a:lnTo>
                    <a:lnTo>
                      <a:pt x="0" y="286"/>
                    </a:lnTo>
                    <a:lnTo>
                      <a:pt x="0" y="332"/>
                    </a:lnTo>
                    <a:lnTo>
                      <a:pt x="2" y="373"/>
                    </a:lnTo>
                    <a:lnTo>
                      <a:pt x="7" y="411"/>
                    </a:lnTo>
                    <a:lnTo>
                      <a:pt x="10" y="442"/>
                    </a:lnTo>
                    <a:lnTo>
                      <a:pt x="17" y="469"/>
                    </a:lnTo>
                    <a:lnTo>
                      <a:pt x="23" y="492"/>
                    </a:lnTo>
                    <a:lnTo>
                      <a:pt x="31" y="512"/>
                    </a:lnTo>
                    <a:lnTo>
                      <a:pt x="39" y="528"/>
                    </a:lnTo>
                    <a:lnTo>
                      <a:pt x="45" y="540"/>
                    </a:lnTo>
                    <a:lnTo>
                      <a:pt x="53" y="549"/>
                    </a:lnTo>
                    <a:lnTo>
                      <a:pt x="61" y="557"/>
                    </a:lnTo>
                    <a:lnTo>
                      <a:pt x="65" y="561"/>
                    </a:lnTo>
                    <a:lnTo>
                      <a:pt x="71" y="564"/>
                    </a:lnTo>
                    <a:lnTo>
                      <a:pt x="73" y="566"/>
                    </a:lnTo>
                    <a:lnTo>
                      <a:pt x="75" y="568"/>
                    </a:lnTo>
                    <a:lnTo>
                      <a:pt x="83" y="1048"/>
                    </a:lnTo>
                    <a:lnTo>
                      <a:pt x="152" y="1051"/>
                    </a:lnTo>
                    <a:lnTo>
                      <a:pt x="156" y="564"/>
                    </a:lnTo>
                    <a:lnTo>
                      <a:pt x="155" y="562"/>
                    </a:lnTo>
                    <a:lnTo>
                      <a:pt x="153" y="557"/>
                    </a:lnTo>
                    <a:lnTo>
                      <a:pt x="147" y="548"/>
                    </a:lnTo>
                    <a:lnTo>
                      <a:pt x="143" y="537"/>
                    </a:lnTo>
                    <a:lnTo>
                      <a:pt x="135" y="521"/>
                    </a:lnTo>
                    <a:lnTo>
                      <a:pt x="128" y="503"/>
                    </a:lnTo>
                    <a:lnTo>
                      <a:pt x="122" y="484"/>
                    </a:lnTo>
                    <a:lnTo>
                      <a:pt x="115" y="461"/>
                    </a:lnTo>
                    <a:lnTo>
                      <a:pt x="109" y="436"/>
                    </a:lnTo>
                    <a:lnTo>
                      <a:pt x="102" y="411"/>
                    </a:lnTo>
                    <a:lnTo>
                      <a:pt x="96" y="382"/>
                    </a:lnTo>
                    <a:lnTo>
                      <a:pt x="93" y="353"/>
                    </a:lnTo>
                    <a:lnTo>
                      <a:pt x="90" y="321"/>
                    </a:lnTo>
                    <a:lnTo>
                      <a:pt x="91" y="290"/>
                    </a:lnTo>
                    <a:lnTo>
                      <a:pt x="93" y="257"/>
                    </a:lnTo>
                    <a:lnTo>
                      <a:pt x="99" y="225"/>
                    </a:lnTo>
                    <a:lnTo>
                      <a:pt x="104" y="192"/>
                    </a:lnTo>
                    <a:lnTo>
                      <a:pt x="113" y="163"/>
                    </a:lnTo>
                    <a:lnTo>
                      <a:pt x="122" y="135"/>
                    </a:lnTo>
                    <a:lnTo>
                      <a:pt x="134" y="113"/>
                    </a:lnTo>
                    <a:lnTo>
                      <a:pt x="145" y="93"/>
                    </a:lnTo>
                    <a:lnTo>
                      <a:pt x="157" y="77"/>
                    </a:lnTo>
                    <a:lnTo>
                      <a:pt x="169" y="61"/>
                    </a:lnTo>
                    <a:lnTo>
                      <a:pt x="183" y="49"/>
                    </a:lnTo>
                    <a:lnTo>
                      <a:pt x="194" y="38"/>
                    </a:lnTo>
                    <a:lnTo>
                      <a:pt x="205" y="30"/>
                    </a:lnTo>
                    <a:lnTo>
                      <a:pt x="215" y="23"/>
                    </a:lnTo>
                    <a:lnTo>
                      <a:pt x="225" y="18"/>
                    </a:lnTo>
                    <a:lnTo>
                      <a:pt x="232" y="14"/>
                    </a:lnTo>
                    <a:lnTo>
                      <a:pt x="238" y="11"/>
                    </a:lnTo>
                    <a:lnTo>
                      <a:pt x="241" y="10"/>
                    </a:lnTo>
                    <a:lnTo>
                      <a:pt x="243" y="10"/>
                    </a:lnTo>
                    <a:lnTo>
                      <a:pt x="243" y="10"/>
                    </a:lnTo>
                    <a:close/>
                  </a:path>
                </a:pathLst>
              </a:custGeom>
              <a:solidFill>
                <a:srgbClr val="b34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720160" y="5386320"/>
                <a:ext cx="85680" cy="527040"/>
              </a:xfrm>
              <a:custGeom>
                <a:avLst/>
                <a:gdLst/>
                <a:ahLst/>
                <a:rect l="l" t="t" r="r" b="b"/>
                <a:pathLst>
                  <a:path w="108" h="664">
                    <a:moveTo>
                      <a:pt x="108" y="27"/>
                    </a:moveTo>
                    <a:lnTo>
                      <a:pt x="108" y="24"/>
                    </a:lnTo>
                    <a:lnTo>
                      <a:pt x="104" y="17"/>
                    </a:lnTo>
                    <a:lnTo>
                      <a:pt x="100" y="14"/>
                    </a:lnTo>
                    <a:lnTo>
                      <a:pt x="95" y="10"/>
                    </a:lnTo>
                    <a:lnTo>
                      <a:pt x="91" y="7"/>
                    </a:lnTo>
                    <a:lnTo>
                      <a:pt x="85" y="5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49" y="3"/>
                    </a:lnTo>
                    <a:lnTo>
                      <a:pt x="42" y="6"/>
                    </a:lnTo>
                    <a:lnTo>
                      <a:pt x="34" y="11"/>
                    </a:lnTo>
                    <a:lnTo>
                      <a:pt x="29" y="19"/>
                    </a:lnTo>
                    <a:lnTo>
                      <a:pt x="22" y="28"/>
                    </a:lnTo>
                    <a:lnTo>
                      <a:pt x="17" y="40"/>
                    </a:lnTo>
                    <a:lnTo>
                      <a:pt x="11" y="53"/>
                    </a:lnTo>
                    <a:lnTo>
                      <a:pt x="8" y="70"/>
                    </a:lnTo>
                    <a:lnTo>
                      <a:pt x="3" y="85"/>
                    </a:lnTo>
                    <a:lnTo>
                      <a:pt x="1" y="104"/>
                    </a:lnTo>
                    <a:lnTo>
                      <a:pt x="0" y="123"/>
                    </a:lnTo>
                    <a:lnTo>
                      <a:pt x="0" y="143"/>
                    </a:lnTo>
                    <a:lnTo>
                      <a:pt x="0" y="161"/>
                    </a:lnTo>
                    <a:lnTo>
                      <a:pt x="0" y="178"/>
                    </a:lnTo>
                    <a:lnTo>
                      <a:pt x="2" y="196"/>
                    </a:lnTo>
                    <a:lnTo>
                      <a:pt x="6" y="213"/>
                    </a:lnTo>
                    <a:lnTo>
                      <a:pt x="9" y="227"/>
                    </a:lnTo>
                    <a:lnTo>
                      <a:pt x="13" y="241"/>
                    </a:lnTo>
                    <a:lnTo>
                      <a:pt x="19" y="251"/>
                    </a:lnTo>
                    <a:lnTo>
                      <a:pt x="26" y="260"/>
                    </a:lnTo>
                    <a:lnTo>
                      <a:pt x="21" y="664"/>
                    </a:lnTo>
                    <a:lnTo>
                      <a:pt x="64" y="664"/>
                    </a:lnTo>
                    <a:lnTo>
                      <a:pt x="59" y="268"/>
                    </a:lnTo>
                    <a:lnTo>
                      <a:pt x="90" y="242"/>
                    </a:lnTo>
                    <a:lnTo>
                      <a:pt x="87" y="241"/>
                    </a:lnTo>
                    <a:lnTo>
                      <a:pt x="83" y="240"/>
                    </a:lnTo>
                    <a:lnTo>
                      <a:pt x="79" y="236"/>
                    </a:lnTo>
                    <a:lnTo>
                      <a:pt x="73" y="229"/>
                    </a:lnTo>
                    <a:lnTo>
                      <a:pt x="70" y="223"/>
                    </a:lnTo>
                    <a:lnTo>
                      <a:pt x="69" y="214"/>
                    </a:lnTo>
                    <a:lnTo>
                      <a:pt x="66" y="204"/>
                    </a:lnTo>
                    <a:lnTo>
                      <a:pt x="66" y="192"/>
                    </a:lnTo>
                    <a:lnTo>
                      <a:pt x="65" y="177"/>
                    </a:lnTo>
                    <a:lnTo>
                      <a:pt x="66" y="160"/>
                    </a:lnTo>
                    <a:lnTo>
                      <a:pt x="69" y="140"/>
                    </a:lnTo>
                    <a:lnTo>
                      <a:pt x="72" y="118"/>
                    </a:lnTo>
                    <a:lnTo>
                      <a:pt x="72" y="115"/>
                    </a:lnTo>
                    <a:lnTo>
                      <a:pt x="72" y="113"/>
                    </a:lnTo>
                    <a:lnTo>
                      <a:pt x="72" y="108"/>
                    </a:lnTo>
                    <a:lnTo>
                      <a:pt x="74" y="103"/>
                    </a:lnTo>
                    <a:lnTo>
                      <a:pt x="75" y="97"/>
                    </a:lnTo>
                    <a:lnTo>
                      <a:pt x="77" y="90"/>
                    </a:lnTo>
                    <a:lnTo>
                      <a:pt x="80" y="82"/>
                    </a:lnTo>
                    <a:lnTo>
                      <a:pt x="82" y="74"/>
                    </a:lnTo>
                    <a:lnTo>
                      <a:pt x="84" y="66"/>
                    </a:lnTo>
                    <a:lnTo>
                      <a:pt x="86" y="58"/>
                    </a:lnTo>
                    <a:lnTo>
                      <a:pt x="90" y="50"/>
                    </a:lnTo>
                    <a:lnTo>
                      <a:pt x="93" y="45"/>
                    </a:lnTo>
                    <a:lnTo>
                      <a:pt x="96" y="38"/>
                    </a:lnTo>
                    <a:lnTo>
                      <a:pt x="100" y="32"/>
                    </a:lnTo>
                    <a:lnTo>
                      <a:pt x="103" y="29"/>
                    </a:lnTo>
                    <a:lnTo>
                      <a:pt x="108" y="27"/>
                    </a:lnTo>
                    <a:lnTo>
                      <a:pt x="108" y="27"/>
                    </a:lnTo>
                    <a:close/>
                  </a:path>
                </a:pathLst>
              </a:custGeom>
              <a:solidFill>
                <a:srgbClr val="b34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2577240" y="4653000"/>
                <a:ext cx="46080" cy="266760"/>
              </a:xfrm>
              <a:custGeom>
                <a:avLst/>
                <a:gdLst/>
                <a:ahLst/>
                <a:rect l="l" t="t" r="r" b="b"/>
                <a:pathLst>
                  <a:path w="59" h="335">
                    <a:moveTo>
                      <a:pt x="20" y="335"/>
                    </a:moveTo>
                    <a:lnTo>
                      <a:pt x="20" y="116"/>
                    </a:lnTo>
                    <a:lnTo>
                      <a:pt x="18" y="112"/>
                    </a:lnTo>
                    <a:lnTo>
                      <a:pt x="13" y="104"/>
                    </a:lnTo>
                    <a:lnTo>
                      <a:pt x="10" y="97"/>
                    </a:lnTo>
                    <a:lnTo>
                      <a:pt x="8" y="92"/>
                    </a:lnTo>
                    <a:lnTo>
                      <a:pt x="6" y="84"/>
                    </a:lnTo>
                    <a:lnTo>
                      <a:pt x="5" y="77"/>
                    </a:lnTo>
                    <a:lnTo>
                      <a:pt x="1" y="69"/>
                    </a:lnTo>
                    <a:lnTo>
                      <a:pt x="1" y="60"/>
                    </a:lnTo>
                    <a:lnTo>
                      <a:pt x="0" y="51"/>
                    </a:lnTo>
                    <a:lnTo>
                      <a:pt x="2" y="43"/>
                    </a:lnTo>
                    <a:lnTo>
                      <a:pt x="5" y="34"/>
                    </a:lnTo>
                    <a:lnTo>
                      <a:pt x="9" y="24"/>
                    </a:lnTo>
                    <a:lnTo>
                      <a:pt x="15" y="17"/>
                    </a:lnTo>
                    <a:lnTo>
                      <a:pt x="22" y="11"/>
                    </a:lnTo>
                    <a:lnTo>
                      <a:pt x="30" y="4"/>
                    </a:lnTo>
                    <a:lnTo>
                      <a:pt x="37" y="1"/>
                    </a:lnTo>
                    <a:lnTo>
                      <a:pt x="43" y="0"/>
                    </a:lnTo>
                    <a:lnTo>
                      <a:pt x="49" y="1"/>
                    </a:lnTo>
                    <a:lnTo>
                      <a:pt x="55" y="6"/>
                    </a:lnTo>
                    <a:lnTo>
                      <a:pt x="59" y="9"/>
                    </a:lnTo>
                    <a:lnTo>
                      <a:pt x="57" y="11"/>
                    </a:lnTo>
                    <a:lnTo>
                      <a:pt x="52" y="20"/>
                    </a:lnTo>
                    <a:lnTo>
                      <a:pt x="48" y="24"/>
                    </a:lnTo>
                    <a:lnTo>
                      <a:pt x="44" y="32"/>
                    </a:lnTo>
                    <a:lnTo>
                      <a:pt x="42" y="39"/>
                    </a:lnTo>
                    <a:lnTo>
                      <a:pt x="40" y="48"/>
                    </a:lnTo>
                    <a:lnTo>
                      <a:pt x="37" y="56"/>
                    </a:lnTo>
                    <a:lnTo>
                      <a:pt x="34" y="64"/>
                    </a:lnTo>
                    <a:lnTo>
                      <a:pt x="33" y="72"/>
                    </a:lnTo>
                    <a:lnTo>
                      <a:pt x="34" y="81"/>
                    </a:lnTo>
                    <a:lnTo>
                      <a:pt x="34" y="86"/>
                    </a:lnTo>
                    <a:lnTo>
                      <a:pt x="39" y="94"/>
                    </a:lnTo>
                    <a:lnTo>
                      <a:pt x="43" y="98"/>
                    </a:lnTo>
                    <a:lnTo>
                      <a:pt x="50" y="104"/>
                    </a:lnTo>
                    <a:lnTo>
                      <a:pt x="50" y="106"/>
                    </a:lnTo>
                    <a:lnTo>
                      <a:pt x="45" y="113"/>
                    </a:lnTo>
                    <a:lnTo>
                      <a:pt x="41" y="117"/>
                    </a:lnTo>
                    <a:lnTo>
                      <a:pt x="40" y="118"/>
                    </a:lnTo>
                    <a:lnTo>
                      <a:pt x="41" y="333"/>
                    </a:lnTo>
                    <a:lnTo>
                      <a:pt x="20" y="335"/>
                    </a:lnTo>
                    <a:lnTo>
                      <a:pt x="20" y="335"/>
                    </a:lnTo>
                    <a:close/>
                  </a:path>
                </a:pathLst>
              </a:custGeom>
              <a:solidFill>
                <a:srgbClr val="b34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2426400" y="4467240"/>
                <a:ext cx="44640" cy="147600"/>
              </a:xfrm>
              <a:custGeom>
                <a:avLst/>
                <a:gdLst/>
                <a:ahLst/>
                <a:rect l="l" t="t" r="r" b="b"/>
                <a:pathLst>
                  <a:path w="57" h="187">
                    <a:moveTo>
                      <a:pt x="33" y="79"/>
                    </a:moveTo>
                    <a:lnTo>
                      <a:pt x="31" y="76"/>
                    </a:lnTo>
                    <a:lnTo>
                      <a:pt x="31" y="68"/>
                    </a:lnTo>
                    <a:lnTo>
                      <a:pt x="30" y="62"/>
                    </a:lnTo>
                    <a:lnTo>
                      <a:pt x="30" y="57"/>
                    </a:lnTo>
                    <a:lnTo>
                      <a:pt x="30" y="51"/>
                    </a:lnTo>
                    <a:lnTo>
                      <a:pt x="30" y="46"/>
                    </a:lnTo>
                    <a:lnTo>
                      <a:pt x="30" y="38"/>
                    </a:lnTo>
                    <a:lnTo>
                      <a:pt x="30" y="33"/>
                    </a:lnTo>
                    <a:lnTo>
                      <a:pt x="31" y="26"/>
                    </a:lnTo>
                    <a:lnTo>
                      <a:pt x="34" y="23"/>
                    </a:lnTo>
                    <a:lnTo>
                      <a:pt x="39" y="15"/>
                    </a:lnTo>
                    <a:lnTo>
                      <a:pt x="47" y="12"/>
                    </a:lnTo>
                    <a:lnTo>
                      <a:pt x="57" y="13"/>
                    </a:lnTo>
                    <a:lnTo>
                      <a:pt x="55" y="10"/>
                    </a:lnTo>
                    <a:lnTo>
                      <a:pt x="46" y="4"/>
                    </a:lnTo>
                    <a:lnTo>
                      <a:pt x="40" y="1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1" y="3"/>
                    </a:lnTo>
                    <a:lnTo>
                      <a:pt x="12" y="9"/>
                    </a:lnTo>
                    <a:lnTo>
                      <a:pt x="7" y="17"/>
                    </a:lnTo>
                    <a:lnTo>
                      <a:pt x="4" y="23"/>
                    </a:lnTo>
                    <a:lnTo>
                      <a:pt x="3" y="28"/>
                    </a:lnTo>
                    <a:lnTo>
                      <a:pt x="2" y="35"/>
                    </a:lnTo>
                    <a:lnTo>
                      <a:pt x="2" y="42"/>
                    </a:lnTo>
                    <a:lnTo>
                      <a:pt x="0" y="47"/>
                    </a:lnTo>
                    <a:lnTo>
                      <a:pt x="0" y="53"/>
                    </a:lnTo>
                    <a:lnTo>
                      <a:pt x="2" y="58"/>
                    </a:lnTo>
                    <a:lnTo>
                      <a:pt x="4" y="63"/>
                    </a:lnTo>
                    <a:lnTo>
                      <a:pt x="6" y="72"/>
                    </a:lnTo>
                    <a:lnTo>
                      <a:pt x="12" y="76"/>
                    </a:lnTo>
                    <a:lnTo>
                      <a:pt x="16" y="187"/>
                    </a:lnTo>
                    <a:lnTo>
                      <a:pt x="37" y="173"/>
                    </a:lnTo>
                    <a:lnTo>
                      <a:pt x="33" y="79"/>
                    </a:lnTo>
                    <a:lnTo>
                      <a:pt x="33" y="79"/>
                    </a:lnTo>
                    <a:close/>
                  </a:path>
                </a:pathLst>
              </a:custGeom>
              <a:solidFill>
                <a:srgbClr val="b34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2660040" y="4457520"/>
                <a:ext cx="38160" cy="168480"/>
              </a:xfrm>
              <a:custGeom>
                <a:avLst/>
                <a:gdLst/>
                <a:ahLst/>
                <a:rect l="l" t="t" r="r" b="b"/>
                <a:pathLst>
                  <a:path w="50" h="212">
                    <a:moveTo>
                      <a:pt x="12" y="212"/>
                    </a:moveTo>
                    <a:lnTo>
                      <a:pt x="11" y="63"/>
                    </a:lnTo>
                    <a:lnTo>
                      <a:pt x="9" y="59"/>
                    </a:lnTo>
                    <a:lnTo>
                      <a:pt x="6" y="51"/>
                    </a:lnTo>
                    <a:lnTo>
                      <a:pt x="2" y="43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6" y="6"/>
                    </a:lnTo>
                    <a:lnTo>
                      <a:pt x="11" y="4"/>
                    </a:lnTo>
                    <a:lnTo>
                      <a:pt x="16" y="1"/>
                    </a:lnTo>
                    <a:lnTo>
                      <a:pt x="24" y="1"/>
                    </a:lnTo>
                    <a:lnTo>
                      <a:pt x="31" y="0"/>
                    </a:lnTo>
                    <a:lnTo>
                      <a:pt x="37" y="1"/>
                    </a:lnTo>
                    <a:lnTo>
                      <a:pt x="41" y="3"/>
                    </a:lnTo>
                    <a:lnTo>
                      <a:pt x="45" y="6"/>
                    </a:lnTo>
                    <a:lnTo>
                      <a:pt x="46" y="9"/>
                    </a:lnTo>
                    <a:lnTo>
                      <a:pt x="49" y="16"/>
                    </a:lnTo>
                    <a:lnTo>
                      <a:pt x="49" y="22"/>
                    </a:lnTo>
                    <a:lnTo>
                      <a:pt x="50" y="27"/>
                    </a:lnTo>
                    <a:lnTo>
                      <a:pt x="49" y="34"/>
                    </a:lnTo>
                    <a:lnTo>
                      <a:pt x="48" y="39"/>
                    </a:lnTo>
                    <a:lnTo>
                      <a:pt x="46" y="45"/>
                    </a:lnTo>
                    <a:lnTo>
                      <a:pt x="46" y="50"/>
                    </a:lnTo>
                    <a:lnTo>
                      <a:pt x="44" y="58"/>
                    </a:lnTo>
                    <a:lnTo>
                      <a:pt x="44" y="63"/>
                    </a:lnTo>
                    <a:lnTo>
                      <a:pt x="39" y="67"/>
                    </a:lnTo>
                    <a:lnTo>
                      <a:pt x="41" y="211"/>
                    </a:lnTo>
                    <a:lnTo>
                      <a:pt x="12" y="212"/>
                    </a:lnTo>
                    <a:lnTo>
                      <a:pt x="12" y="212"/>
                    </a:lnTo>
                    <a:close/>
                  </a:path>
                </a:pathLst>
              </a:custGeom>
              <a:solidFill>
                <a:srgbClr val="b34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2826720" y="4460760"/>
                <a:ext cx="33120" cy="138240"/>
              </a:xfrm>
              <a:custGeom>
                <a:avLst/>
                <a:gdLst/>
                <a:ahLst/>
                <a:rect l="l" t="t" r="r" b="b"/>
                <a:pathLst>
                  <a:path w="42" h="174">
                    <a:moveTo>
                      <a:pt x="32" y="169"/>
                    </a:moveTo>
                    <a:lnTo>
                      <a:pt x="32" y="53"/>
                    </a:lnTo>
                    <a:lnTo>
                      <a:pt x="32" y="49"/>
                    </a:lnTo>
                    <a:lnTo>
                      <a:pt x="36" y="42"/>
                    </a:lnTo>
                    <a:lnTo>
                      <a:pt x="38" y="35"/>
                    </a:lnTo>
                    <a:lnTo>
                      <a:pt x="41" y="30"/>
                    </a:lnTo>
                    <a:lnTo>
                      <a:pt x="41" y="23"/>
                    </a:lnTo>
                    <a:lnTo>
                      <a:pt x="42" y="18"/>
                    </a:lnTo>
                    <a:lnTo>
                      <a:pt x="40" y="11"/>
                    </a:lnTo>
                    <a:lnTo>
                      <a:pt x="37" y="7"/>
                    </a:lnTo>
                    <a:lnTo>
                      <a:pt x="33" y="2"/>
                    </a:lnTo>
                    <a:lnTo>
                      <a:pt x="31" y="1"/>
                    </a:lnTo>
                    <a:lnTo>
                      <a:pt x="21" y="0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4" y="9"/>
                    </a:lnTo>
                    <a:lnTo>
                      <a:pt x="2" y="14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4"/>
                    </a:lnTo>
                    <a:lnTo>
                      <a:pt x="3" y="42"/>
                    </a:lnTo>
                    <a:lnTo>
                      <a:pt x="7" y="49"/>
                    </a:lnTo>
                    <a:lnTo>
                      <a:pt x="7" y="174"/>
                    </a:lnTo>
                    <a:lnTo>
                      <a:pt x="32" y="169"/>
                    </a:lnTo>
                    <a:lnTo>
                      <a:pt x="32" y="169"/>
                    </a:lnTo>
                    <a:close/>
                  </a:path>
                </a:pathLst>
              </a:custGeom>
              <a:solidFill>
                <a:srgbClr val="b34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2875320" y="4854600"/>
                <a:ext cx="93960" cy="293760"/>
              </a:xfrm>
              <a:custGeom>
                <a:avLst/>
                <a:gdLst/>
                <a:ahLst/>
                <a:rect l="l" t="t" r="r" b="b"/>
                <a:pathLst>
                  <a:path w="120" h="372">
                    <a:moveTo>
                      <a:pt x="120" y="31"/>
                    </a:moveTo>
                    <a:lnTo>
                      <a:pt x="118" y="30"/>
                    </a:lnTo>
                    <a:lnTo>
                      <a:pt x="114" y="30"/>
                    </a:lnTo>
                    <a:lnTo>
                      <a:pt x="108" y="30"/>
                    </a:lnTo>
                    <a:lnTo>
                      <a:pt x="100" y="32"/>
                    </a:lnTo>
                    <a:lnTo>
                      <a:pt x="90" y="33"/>
                    </a:lnTo>
                    <a:lnTo>
                      <a:pt x="80" y="37"/>
                    </a:lnTo>
                    <a:lnTo>
                      <a:pt x="70" y="39"/>
                    </a:lnTo>
                    <a:lnTo>
                      <a:pt x="61" y="46"/>
                    </a:lnTo>
                    <a:lnTo>
                      <a:pt x="51" y="50"/>
                    </a:lnTo>
                    <a:lnTo>
                      <a:pt x="44" y="59"/>
                    </a:lnTo>
                    <a:lnTo>
                      <a:pt x="35" y="69"/>
                    </a:lnTo>
                    <a:lnTo>
                      <a:pt x="31" y="82"/>
                    </a:lnTo>
                    <a:lnTo>
                      <a:pt x="27" y="95"/>
                    </a:lnTo>
                    <a:lnTo>
                      <a:pt x="27" y="112"/>
                    </a:lnTo>
                    <a:lnTo>
                      <a:pt x="30" y="131"/>
                    </a:lnTo>
                    <a:lnTo>
                      <a:pt x="38" y="154"/>
                    </a:lnTo>
                    <a:lnTo>
                      <a:pt x="39" y="156"/>
                    </a:lnTo>
                    <a:lnTo>
                      <a:pt x="44" y="158"/>
                    </a:lnTo>
                    <a:lnTo>
                      <a:pt x="48" y="161"/>
                    </a:lnTo>
                    <a:lnTo>
                      <a:pt x="55" y="164"/>
                    </a:lnTo>
                    <a:lnTo>
                      <a:pt x="59" y="165"/>
                    </a:lnTo>
                    <a:lnTo>
                      <a:pt x="65" y="165"/>
                    </a:lnTo>
                    <a:lnTo>
                      <a:pt x="68" y="166"/>
                    </a:lnTo>
                    <a:lnTo>
                      <a:pt x="69" y="167"/>
                    </a:lnTo>
                    <a:lnTo>
                      <a:pt x="69" y="372"/>
                    </a:lnTo>
                    <a:lnTo>
                      <a:pt x="40" y="372"/>
                    </a:lnTo>
                    <a:lnTo>
                      <a:pt x="38" y="166"/>
                    </a:lnTo>
                    <a:lnTo>
                      <a:pt x="34" y="164"/>
                    </a:lnTo>
                    <a:lnTo>
                      <a:pt x="27" y="155"/>
                    </a:lnTo>
                    <a:lnTo>
                      <a:pt x="23" y="148"/>
                    </a:lnTo>
                    <a:lnTo>
                      <a:pt x="17" y="142"/>
                    </a:lnTo>
                    <a:lnTo>
                      <a:pt x="12" y="135"/>
                    </a:lnTo>
                    <a:lnTo>
                      <a:pt x="9" y="127"/>
                    </a:lnTo>
                    <a:lnTo>
                      <a:pt x="4" y="117"/>
                    </a:lnTo>
                    <a:lnTo>
                      <a:pt x="2" y="106"/>
                    </a:lnTo>
                    <a:lnTo>
                      <a:pt x="0" y="95"/>
                    </a:lnTo>
                    <a:lnTo>
                      <a:pt x="0" y="84"/>
                    </a:lnTo>
                    <a:lnTo>
                      <a:pt x="3" y="72"/>
                    </a:lnTo>
                    <a:lnTo>
                      <a:pt x="8" y="60"/>
                    </a:lnTo>
                    <a:lnTo>
                      <a:pt x="15" y="47"/>
                    </a:lnTo>
                    <a:lnTo>
                      <a:pt x="25" y="33"/>
                    </a:lnTo>
                    <a:lnTo>
                      <a:pt x="35" y="21"/>
                    </a:lnTo>
                    <a:lnTo>
                      <a:pt x="46" y="12"/>
                    </a:lnTo>
                    <a:lnTo>
                      <a:pt x="56" y="5"/>
                    </a:lnTo>
                    <a:lnTo>
                      <a:pt x="66" y="2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8" y="2"/>
                    </a:lnTo>
                    <a:lnTo>
                      <a:pt x="94" y="5"/>
                    </a:lnTo>
                    <a:lnTo>
                      <a:pt x="100" y="8"/>
                    </a:lnTo>
                    <a:lnTo>
                      <a:pt x="104" y="12"/>
                    </a:lnTo>
                    <a:lnTo>
                      <a:pt x="109" y="16"/>
                    </a:lnTo>
                    <a:lnTo>
                      <a:pt x="113" y="21"/>
                    </a:lnTo>
                    <a:lnTo>
                      <a:pt x="118" y="27"/>
                    </a:lnTo>
                    <a:lnTo>
                      <a:pt x="120" y="31"/>
                    </a:lnTo>
                    <a:lnTo>
                      <a:pt x="120" y="31"/>
                    </a:lnTo>
                    <a:close/>
                  </a:path>
                </a:pathLst>
              </a:custGeom>
              <a:solidFill>
                <a:srgbClr val="b34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157760" y="5234040"/>
                <a:ext cx="157320" cy="56880"/>
              </a:xfrm>
              <a:custGeom>
                <a:avLst/>
                <a:gdLst/>
                <a:ahLst/>
                <a:rect l="l" t="t" r="r" b="b"/>
                <a:pathLst>
                  <a:path w="197" h="72">
                    <a:moveTo>
                      <a:pt x="5" y="43"/>
                    </a:moveTo>
                    <a:lnTo>
                      <a:pt x="0" y="18"/>
                    </a:lnTo>
                    <a:lnTo>
                      <a:pt x="10" y="18"/>
                    </a:lnTo>
                    <a:lnTo>
                      <a:pt x="11" y="38"/>
                    </a:lnTo>
                    <a:lnTo>
                      <a:pt x="36" y="35"/>
                    </a:lnTo>
                    <a:lnTo>
                      <a:pt x="34" y="8"/>
                    </a:lnTo>
                    <a:lnTo>
                      <a:pt x="44" y="5"/>
                    </a:lnTo>
                    <a:lnTo>
                      <a:pt x="45" y="31"/>
                    </a:lnTo>
                    <a:lnTo>
                      <a:pt x="62" y="30"/>
                    </a:lnTo>
                    <a:lnTo>
                      <a:pt x="62" y="0"/>
                    </a:lnTo>
                    <a:lnTo>
                      <a:pt x="74" y="4"/>
                    </a:lnTo>
                    <a:lnTo>
                      <a:pt x="72" y="33"/>
                    </a:lnTo>
                    <a:lnTo>
                      <a:pt x="93" y="38"/>
                    </a:lnTo>
                    <a:lnTo>
                      <a:pt x="96" y="10"/>
                    </a:lnTo>
                    <a:lnTo>
                      <a:pt x="110" y="14"/>
                    </a:lnTo>
                    <a:lnTo>
                      <a:pt x="103" y="39"/>
                    </a:lnTo>
                    <a:lnTo>
                      <a:pt x="125" y="48"/>
                    </a:lnTo>
                    <a:lnTo>
                      <a:pt x="131" y="21"/>
                    </a:lnTo>
                    <a:lnTo>
                      <a:pt x="145" y="25"/>
                    </a:lnTo>
                    <a:lnTo>
                      <a:pt x="133" y="49"/>
                    </a:lnTo>
                    <a:lnTo>
                      <a:pt x="149" y="54"/>
                    </a:lnTo>
                    <a:lnTo>
                      <a:pt x="156" y="31"/>
                    </a:lnTo>
                    <a:lnTo>
                      <a:pt x="168" y="35"/>
                    </a:lnTo>
                    <a:lnTo>
                      <a:pt x="154" y="57"/>
                    </a:lnTo>
                    <a:lnTo>
                      <a:pt x="175" y="64"/>
                    </a:lnTo>
                    <a:lnTo>
                      <a:pt x="182" y="41"/>
                    </a:lnTo>
                    <a:lnTo>
                      <a:pt x="197" y="51"/>
                    </a:lnTo>
                    <a:lnTo>
                      <a:pt x="180" y="72"/>
                    </a:lnTo>
                    <a:lnTo>
                      <a:pt x="120" y="54"/>
                    </a:lnTo>
                    <a:lnTo>
                      <a:pt x="59" y="43"/>
                    </a:lnTo>
                    <a:lnTo>
                      <a:pt x="5" y="43"/>
                    </a:lnTo>
                    <a:lnTo>
                      <a:pt x="5" y="43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1207440" y="5302080"/>
                <a:ext cx="139680" cy="92160"/>
              </a:xfrm>
              <a:custGeom>
                <a:avLst/>
                <a:gdLst/>
                <a:ahLst/>
                <a:rect l="l" t="t" r="r" b="b"/>
                <a:pathLst>
                  <a:path w="175" h="115">
                    <a:moveTo>
                      <a:pt x="175" y="92"/>
                    </a:moveTo>
                    <a:lnTo>
                      <a:pt x="171" y="115"/>
                    </a:lnTo>
                    <a:lnTo>
                      <a:pt x="161" y="111"/>
                    </a:lnTo>
                    <a:lnTo>
                      <a:pt x="166" y="93"/>
                    </a:lnTo>
                    <a:lnTo>
                      <a:pt x="145" y="85"/>
                    </a:lnTo>
                    <a:lnTo>
                      <a:pt x="137" y="113"/>
                    </a:lnTo>
                    <a:lnTo>
                      <a:pt x="127" y="110"/>
                    </a:lnTo>
                    <a:lnTo>
                      <a:pt x="136" y="86"/>
                    </a:lnTo>
                    <a:lnTo>
                      <a:pt x="118" y="83"/>
                    </a:lnTo>
                    <a:lnTo>
                      <a:pt x="109" y="109"/>
                    </a:lnTo>
                    <a:lnTo>
                      <a:pt x="97" y="100"/>
                    </a:lnTo>
                    <a:lnTo>
                      <a:pt x="110" y="75"/>
                    </a:lnTo>
                    <a:lnTo>
                      <a:pt x="91" y="63"/>
                    </a:lnTo>
                    <a:lnTo>
                      <a:pt x="80" y="86"/>
                    </a:lnTo>
                    <a:lnTo>
                      <a:pt x="67" y="78"/>
                    </a:lnTo>
                    <a:lnTo>
                      <a:pt x="84" y="59"/>
                    </a:lnTo>
                    <a:lnTo>
                      <a:pt x="66" y="43"/>
                    </a:lnTo>
                    <a:lnTo>
                      <a:pt x="50" y="64"/>
                    </a:lnTo>
                    <a:lnTo>
                      <a:pt x="38" y="57"/>
                    </a:lnTo>
                    <a:lnTo>
                      <a:pt x="58" y="39"/>
                    </a:lnTo>
                    <a:lnTo>
                      <a:pt x="46" y="27"/>
                    </a:lnTo>
                    <a:lnTo>
                      <a:pt x="30" y="47"/>
                    </a:lnTo>
                    <a:lnTo>
                      <a:pt x="21" y="37"/>
                    </a:lnTo>
                    <a:lnTo>
                      <a:pt x="40" y="21"/>
                    </a:lnTo>
                    <a:lnTo>
                      <a:pt x="25" y="8"/>
                    </a:lnTo>
                    <a:lnTo>
                      <a:pt x="11" y="29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74" y="37"/>
                    </a:lnTo>
                    <a:lnTo>
                      <a:pt x="127" y="72"/>
                    </a:lnTo>
                    <a:lnTo>
                      <a:pt x="175" y="92"/>
                    </a:lnTo>
                    <a:lnTo>
                      <a:pt x="175" y="92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956520" y="5970600"/>
                <a:ext cx="959040" cy="260280"/>
              </a:xfrm>
              <a:custGeom>
                <a:avLst/>
                <a:gdLst/>
                <a:ahLst/>
                <a:rect l="l" t="t" r="r" b="b"/>
                <a:pathLst>
                  <a:path w="1209" h="328">
                    <a:moveTo>
                      <a:pt x="134" y="0"/>
                    </a:moveTo>
                    <a:lnTo>
                      <a:pt x="384" y="120"/>
                    </a:lnTo>
                    <a:lnTo>
                      <a:pt x="82" y="81"/>
                    </a:lnTo>
                    <a:lnTo>
                      <a:pt x="353" y="163"/>
                    </a:lnTo>
                    <a:lnTo>
                      <a:pt x="6" y="120"/>
                    </a:lnTo>
                    <a:lnTo>
                      <a:pt x="315" y="202"/>
                    </a:lnTo>
                    <a:lnTo>
                      <a:pt x="33" y="172"/>
                    </a:lnTo>
                    <a:lnTo>
                      <a:pt x="269" y="241"/>
                    </a:lnTo>
                    <a:lnTo>
                      <a:pt x="0" y="210"/>
                    </a:lnTo>
                    <a:lnTo>
                      <a:pt x="210" y="297"/>
                    </a:lnTo>
                    <a:lnTo>
                      <a:pt x="213" y="297"/>
                    </a:lnTo>
                    <a:lnTo>
                      <a:pt x="221" y="299"/>
                    </a:lnTo>
                    <a:lnTo>
                      <a:pt x="236" y="300"/>
                    </a:lnTo>
                    <a:lnTo>
                      <a:pt x="256" y="305"/>
                    </a:lnTo>
                    <a:lnTo>
                      <a:pt x="279" y="308"/>
                    </a:lnTo>
                    <a:lnTo>
                      <a:pt x="308" y="312"/>
                    </a:lnTo>
                    <a:lnTo>
                      <a:pt x="339" y="318"/>
                    </a:lnTo>
                    <a:lnTo>
                      <a:pt x="375" y="322"/>
                    </a:lnTo>
                    <a:lnTo>
                      <a:pt x="412" y="327"/>
                    </a:lnTo>
                    <a:lnTo>
                      <a:pt x="452" y="328"/>
                    </a:lnTo>
                    <a:lnTo>
                      <a:pt x="493" y="328"/>
                    </a:lnTo>
                    <a:lnTo>
                      <a:pt x="536" y="328"/>
                    </a:lnTo>
                    <a:lnTo>
                      <a:pt x="580" y="328"/>
                    </a:lnTo>
                    <a:lnTo>
                      <a:pt x="625" y="328"/>
                    </a:lnTo>
                    <a:lnTo>
                      <a:pt x="669" y="328"/>
                    </a:lnTo>
                    <a:lnTo>
                      <a:pt x="713" y="328"/>
                    </a:lnTo>
                    <a:lnTo>
                      <a:pt x="755" y="328"/>
                    </a:lnTo>
                    <a:lnTo>
                      <a:pt x="798" y="320"/>
                    </a:lnTo>
                    <a:lnTo>
                      <a:pt x="842" y="307"/>
                    </a:lnTo>
                    <a:lnTo>
                      <a:pt x="887" y="293"/>
                    </a:lnTo>
                    <a:lnTo>
                      <a:pt x="928" y="275"/>
                    </a:lnTo>
                    <a:lnTo>
                      <a:pt x="969" y="257"/>
                    </a:lnTo>
                    <a:lnTo>
                      <a:pt x="1008" y="238"/>
                    </a:lnTo>
                    <a:lnTo>
                      <a:pt x="1046" y="220"/>
                    </a:lnTo>
                    <a:lnTo>
                      <a:pt x="1079" y="200"/>
                    </a:lnTo>
                    <a:lnTo>
                      <a:pt x="1111" y="182"/>
                    </a:lnTo>
                    <a:lnTo>
                      <a:pt x="1139" y="164"/>
                    </a:lnTo>
                    <a:lnTo>
                      <a:pt x="1162" y="150"/>
                    </a:lnTo>
                    <a:lnTo>
                      <a:pt x="1182" y="137"/>
                    </a:lnTo>
                    <a:lnTo>
                      <a:pt x="1195" y="128"/>
                    </a:lnTo>
                    <a:lnTo>
                      <a:pt x="1205" y="122"/>
                    </a:lnTo>
                    <a:lnTo>
                      <a:pt x="1209" y="120"/>
                    </a:lnTo>
                    <a:lnTo>
                      <a:pt x="1203" y="119"/>
                    </a:lnTo>
                    <a:lnTo>
                      <a:pt x="1186" y="119"/>
                    </a:lnTo>
                    <a:lnTo>
                      <a:pt x="1161" y="119"/>
                    </a:lnTo>
                    <a:lnTo>
                      <a:pt x="1130" y="119"/>
                    </a:lnTo>
                    <a:lnTo>
                      <a:pt x="1091" y="119"/>
                    </a:lnTo>
                    <a:lnTo>
                      <a:pt x="1048" y="119"/>
                    </a:lnTo>
                    <a:lnTo>
                      <a:pt x="1002" y="119"/>
                    </a:lnTo>
                    <a:lnTo>
                      <a:pt x="955" y="119"/>
                    </a:lnTo>
                    <a:lnTo>
                      <a:pt x="905" y="118"/>
                    </a:lnTo>
                    <a:lnTo>
                      <a:pt x="857" y="117"/>
                    </a:lnTo>
                    <a:lnTo>
                      <a:pt x="811" y="116"/>
                    </a:lnTo>
                    <a:lnTo>
                      <a:pt x="770" y="116"/>
                    </a:lnTo>
                    <a:lnTo>
                      <a:pt x="731" y="115"/>
                    </a:lnTo>
                    <a:lnTo>
                      <a:pt x="701" y="113"/>
                    </a:lnTo>
                    <a:lnTo>
                      <a:pt x="678" y="113"/>
                    </a:lnTo>
                    <a:lnTo>
                      <a:pt x="665" y="112"/>
                    </a:lnTo>
                    <a:lnTo>
                      <a:pt x="650" y="108"/>
                    </a:lnTo>
                    <a:lnTo>
                      <a:pt x="627" y="103"/>
                    </a:lnTo>
                    <a:lnTo>
                      <a:pt x="597" y="97"/>
                    </a:lnTo>
                    <a:lnTo>
                      <a:pt x="561" y="90"/>
                    </a:lnTo>
                    <a:lnTo>
                      <a:pt x="519" y="79"/>
                    </a:lnTo>
                    <a:lnTo>
                      <a:pt x="475" y="70"/>
                    </a:lnTo>
                    <a:lnTo>
                      <a:pt x="427" y="60"/>
                    </a:lnTo>
                    <a:lnTo>
                      <a:pt x="381" y="51"/>
                    </a:lnTo>
                    <a:lnTo>
                      <a:pt x="332" y="42"/>
                    </a:lnTo>
                    <a:lnTo>
                      <a:pt x="288" y="32"/>
                    </a:lnTo>
                    <a:lnTo>
                      <a:pt x="246" y="22"/>
                    </a:lnTo>
                    <a:lnTo>
                      <a:pt x="209" y="15"/>
                    </a:lnTo>
                    <a:lnTo>
                      <a:pt x="177" y="8"/>
                    </a:lnTo>
                    <a:lnTo>
                      <a:pt x="154" y="4"/>
                    </a:lnTo>
                    <a:lnTo>
                      <a:pt x="138" y="0"/>
                    </a:lnTo>
                    <a:lnTo>
                      <a:pt x="134" y="0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7d7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 rot="5400000">
              <a:off x="789480" y="5164200"/>
              <a:ext cx="630360" cy="11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 rot="5400000">
              <a:off x="941400" y="4935600"/>
              <a:ext cx="630360" cy="114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"/>
          <p:cNvSpPr/>
          <p:nvPr/>
        </p:nvSpPr>
        <p:spPr>
          <a:xfrm>
            <a:off x="4293360" y="1892160"/>
            <a:ext cx="15825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295280" y="5105520"/>
            <a:ext cx="614160" cy="609480"/>
            <a:chOff x="1295280" y="5105520"/>
            <a:chExt cx="614160" cy="609480"/>
          </a:xfrm>
        </p:grpSpPr>
        <p:sp>
          <p:nvSpPr>
            <p:cNvPr id="161" name=""/>
            <p:cNvSpPr/>
            <p:nvPr/>
          </p:nvSpPr>
          <p:spPr>
            <a:xfrm flipH="1">
              <a:off x="1519200" y="5324040"/>
              <a:ext cx="358560" cy="263520"/>
            </a:xfrm>
            <a:custGeom>
              <a:avLst/>
              <a:gdLst/>
              <a:ahLst/>
              <a:rect l="l" t="t" r="r" b="b"/>
              <a:pathLst>
                <a:path w="676" h="493">
                  <a:moveTo>
                    <a:pt x="0" y="322"/>
                  </a:moveTo>
                  <a:lnTo>
                    <a:pt x="222" y="0"/>
                  </a:lnTo>
                  <a:lnTo>
                    <a:pt x="380" y="0"/>
                  </a:lnTo>
                  <a:lnTo>
                    <a:pt x="676" y="220"/>
                  </a:lnTo>
                  <a:lnTo>
                    <a:pt x="672" y="289"/>
                  </a:lnTo>
                  <a:lnTo>
                    <a:pt x="500" y="426"/>
                  </a:lnTo>
                  <a:lnTo>
                    <a:pt x="132" y="493"/>
                  </a:lnTo>
                  <a:lnTo>
                    <a:pt x="0" y="322"/>
                  </a:lnTo>
                  <a:lnTo>
                    <a:pt x="0" y="322"/>
                  </a:lnTo>
                  <a:close/>
                </a:path>
              </a:pathLst>
            </a:custGeom>
            <a:solidFill>
              <a:srgbClr val="c99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295280" y="5105520"/>
              <a:ext cx="419040" cy="358560"/>
            </a:xfrm>
            <a:custGeom>
              <a:avLst/>
              <a:gdLst/>
              <a:ahLst/>
              <a:rect l="l" t="t" r="r" b="b"/>
              <a:pathLst>
                <a:path w="789" h="671">
                  <a:moveTo>
                    <a:pt x="0" y="257"/>
                  </a:moveTo>
                  <a:lnTo>
                    <a:pt x="1" y="253"/>
                  </a:lnTo>
                  <a:lnTo>
                    <a:pt x="8" y="244"/>
                  </a:lnTo>
                  <a:lnTo>
                    <a:pt x="18" y="232"/>
                  </a:lnTo>
                  <a:lnTo>
                    <a:pt x="31" y="216"/>
                  </a:lnTo>
                  <a:lnTo>
                    <a:pt x="46" y="195"/>
                  </a:lnTo>
                  <a:lnTo>
                    <a:pt x="66" y="174"/>
                  </a:lnTo>
                  <a:lnTo>
                    <a:pt x="88" y="149"/>
                  </a:lnTo>
                  <a:lnTo>
                    <a:pt x="114" y="126"/>
                  </a:lnTo>
                  <a:lnTo>
                    <a:pt x="140" y="101"/>
                  </a:lnTo>
                  <a:lnTo>
                    <a:pt x="169" y="77"/>
                  </a:lnTo>
                  <a:lnTo>
                    <a:pt x="199" y="55"/>
                  </a:lnTo>
                  <a:lnTo>
                    <a:pt x="232" y="37"/>
                  </a:lnTo>
                  <a:lnTo>
                    <a:pt x="264" y="20"/>
                  </a:lnTo>
                  <a:lnTo>
                    <a:pt x="299" y="9"/>
                  </a:lnTo>
                  <a:lnTo>
                    <a:pt x="333" y="1"/>
                  </a:lnTo>
                  <a:lnTo>
                    <a:pt x="368" y="0"/>
                  </a:lnTo>
                  <a:lnTo>
                    <a:pt x="486" y="12"/>
                  </a:lnTo>
                  <a:lnTo>
                    <a:pt x="624" y="91"/>
                  </a:lnTo>
                  <a:lnTo>
                    <a:pt x="624" y="92"/>
                  </a:lnTo>
                  <a:lnTo>
                    <a:pt x="627" y="95"/>
                  </a:lnTo>
                  <a:lnTo>
                    <a:pt x="631" y="103"/>
                  </a:lnTo>
                  <a:lnTo>
                    <a:pt x="638" y="114"/>
                  </a:lnTo>
                  <a:lnTo>
                    <a:pt x="645" y="125"/>
                  </a:lnTo>
                  <a:lnTo>
                    <a:pt x="653" y="139"/>
                  </a:lnTo>
                  <a:lnTo>
                    <a:pt x="662" y="153"/>
                  </a:lnTo>
                  <a:lnTo>
                    <a:pt x="671" y="170"/>
                  </a:lnTo>
                  <a:lnTo>
                    <a:pt x="680" y="186"/>
                  </a:lnTo>
                  <a:lnTo>
                    <a:pt x="688" y="205"/>
                  </a:lnTo>
                  <a:lnTo>
                    <a:pt x="695" y="221"/>
                  </a:lnTo>
                  <a:lnTo>
                    <a:pt x="704" y="239"/>
                  </a:lnTo>
                  <a:lnTo>
                    <a:pt x="709" y="255"/>
                  </a:lnTo>
                  <a:lnTo>
                    <a:pt x="714" y="271"/>
                  </a:lnTo>
                  <a:lnTo>
                    <a:pt x="716" y="286"/>
                  </a:lnTo>
                  <a:lnTo>
                    <a:pt x="719" y="301"/>
                  </a:lnTo>
                  <a:lnTo>
                    <a:pt x="718" y="306"/>
                  </a:lnTo>
                  <a:lnTo>
                    <a:pt x="715" y="314"/>
                  </a:lnTo>
                  <a:lnTo>
                    <a:pt x="712" y="323"/>
                  </a:lnTo>
                  <a:lnTo>
                    <a:pt x="709" y="333"/>
                  </a:lnTo>
                  <a:lnTo>
                    <a:pt x="704" y="342"/>
                  </a:lnTo>
                  <a:lnTo>
                    <a:pt x="700" y="352"/>
                  </a:lnTo>
                  <a:lnTo>
                    <a:pt x="694" y="362"/>
                  </a:lnTo>
                  <a:lnTo>
                    <a:pt x="691" y="374"/>
                  </a:lnTo>
                  <a:lnTo>
                    <a:pt x="684" y="385"/>
                  </a:lnTo>
                  <a:lnTo>
                    <a:pt x="680" y="397"/>
                  </a:lnTo>
                  <a:lnTo>
                    <a:pt x="676" y="409"/>
                  </a:lnTo>
                  <a:lnTo>
                    <a:pt x="672" y="425"/>
                  </a:lnTo>
                  <a:lnTo>
                    <a:pt x="669" y="438"/>
                  </a:lnTo>
                  <a:lnTo>
                    <a:pt x="667" y="452"/>
                  </a:lnTo>
                  <a:lnTo>
                    <a:pt x="667" y="468"/>
                  </a:lnTo>
                  <a:lnTo>
                    <a:pt x="668" y="484"/>
                  </a:lnTo>
                  <a:lnTo>
                    <a:pt x="669" y="492"/>
                  </a:lnTo>
                  <a:lnTo>
                    <a:pt x="672" y="501"/>
                  </a:lnTo>
                  <a:lnTo>
                    <a:pt x="678" y="511"/>
                  </a:lnTo>
                  <a:lnTo>
                    <a:pt x="687" y="523"/>
                  </a:lnTo>
                  <a:lnTo>
                    <a:pt x="695" y="535"/>
                  </a:lnTo>
                  <a:lnTo>
                    <a:pt x="705" y="547"/>
                  </a:lnTo>
                  <a:lnTo>
                    <a:pt x="716" y="559"/>
                  </a:lnTo>
                  <a:lnTo>
                    <a:pt x="729" y="573"/>
                  </a:lnTo>
                  <a:lnTo>
                    <a:pt x="740" y="584"/>
                  </a:lnTo>
                  <a:lnTo>
                    <a:pt x="751" y="595"/>
                  </a:lnTo>
                  <a:lnTo>
                    <a:pt x="761" y="604"/>
                  </a:lnTo>
                  <a:lnTo>
                    <a:pt x="771" y="614"/>
                  </a:lnTo>
                  <a:lnTo>
                    <a:pt x="777" y="621"/>
                  </a:lnTo>
                  <a:lnTo>
                    <a:pt x="784" y="627"/>
                  </a:lnTo>
                  <a:lnTo>
                    <a:pt x="787" y="630"/>
                  </a:lnTo>
                  <a:lnTo>
                    <a:pt x="789" y="632"/>
                  </a:lnTo>
                  <a:lnTo>
                    <a:pt x="506" y="671"/>
                  </a:lnTo>
                  <a:lnTo>
                    <a:pt x="407" y="566"/>
                  </a:lnTo>
                  <a:lnTo>
                    <a:pt x="4" y="347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cf8f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416240" y="5156640"/>
              <a:ext cx="238680" cy="284760"/>
            </a:xfrm>
            <a:custGeom>
              <a:avLst/>
              <a:gdLst/>
              <a:ahLst/>
              <a:rect l="l" t="t" r="r" b="b"/>
              <a:pathLst>
                <a:path w="448" h="534">
                  <a:moveTo>
                    <a:pt x="183" y="534"/>
                  </a:moveTo>
                  <a:lnTo>
                    <a:pt x="0" y="440"/>
                  </a:lnTo>
                  <a:lnTo>
                    <a:pt x="58" y="269"/>
                  </a:lnTo>
                  <a:lnTo>
                    <a:pt x="107" y="148"/>
                  </a:lnTo>
                  <a:lnTo>
                    <a:pt x="179" y="64"/>
                  </a:lnTo>
                  <a:lnTo>
                    <a:pt x="274" y="6"/>
                  </a:lnTo>
                  <a:lnTo>
                    <a:pt x="370" y="0"/>
                  </a:lnTo>
                  <a:lnTo>
                    <a:pt x="448" y="12"/>
                  </a:lnTo>
                  <a:lnTo>
                    <a:pt x="399" y="328"/>
                  </a:lnTo>
                  <a:lnTo>
                    <a:pt x="273" y="376"/>
                  </a:lnTo>
                  <a:lnTo>
                    <a:pt x="183" y="534"/>
                  </a:lnTo>
                  <a:lnTo>
                    <a:pt x="183" y="534"/>
                  </a:lnTo>
                  <a:close/>
                </a:path>
              </a:pathLst>
            </a:custGeom>
            <a:solidFill>
              <a:srgbClr val="f79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450080" y="5231160"/>
              <a:ext cx="132480" cy="72360"/>
            </a:xfrm>
            <a:custGeom>
              <a:avLst/>
              <a:gdLst/>
              <a:ahLst/>
              <a:rect l="l" t="t" r="r" b="b"/>
              <a:pathLst>
                <a:path w="251" h="136">
                  <a:moveTo>
                    <a:pt x="0" y="18"/>
                  </a:moveTo>
                  <a:lnTo>
                    <a:pt x="59" y="0"/>
                  </a:lnTo>
                  <a:lnTo>
                    <a:pt x="145" y="13"/>
                  </a:lnTo>
                  <a:lnTo>
                    <a:pt x="251" y="61"/>
                  </a:lnTo>
                  <a:lnTo>
                    <a:pt x="251" y="136"/>
                  </a:lnTo>
                  <a:lnTo>
                    <a:pt x="131" y="128"/>
                  </a:lnTo>
                  <a:lnTo>
                    <a:pt x="52" y="77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7f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377000" y="5107680"/>
              <a:ext cx="363600" cy="348840"/>
            </a:xfrm>
            <a:custGeom>
              <a:avLst/>
              <a:gdLst/>
              <a:ahLst/>
              <a:rect l="l" t="t" r="r" b="b"/>
              <a:pathLst>
                <a:path w="686" h="655">
                  <a:moveTo>
                    <a:pt x="354" y="0"/>
                  </a:moveTo>
                  <a:lnTo>
                    <a:pt x="352" y="0"/>
                  </a:lnTo>
                  <a:lnTo>
                    <a:pt x="343" y="3"/>
                  </a:lnTo>
                  <a:lnTo>
                    <a:pt x="330" y="7"/>
                  </a:lnTo>
                  <a:lnTo>
                    <a:pt x="312" y="14"/>
                  </a:lnTo>
                  <a:lnTo>
                    <a:pt x="291" y="21"/>
                  </a:lnTo>
                  <a:lnTo>
                    <a:pt x="267" y="32"/>
                  </a:lnTo>
                  <a:lnTo>
                    <a:pt x="240" y="46"/>
                  </a:lnTo>
                  <a:lnTo>
                    <a:pt x="214" y="63"/>
                  </a:lnTo>
                  <a:lnTo>
                    <a:pt x="183" y="82"/>
                  </a:lnTo>
                  <a:lnTo>
                    <a:pt x="154" y="105"/>
                  </a:lnTo>
                  <a:lnTo>
                    <a:pt x="124" y="132"/>
                  </a:lnTo>
                  <a:lnTo>
                    <a:pt x="95" y="162"/>
                  </a:lnTo>
                  <a:lnTo>
                    <a:pt x="68" y="195"/>
                  </a:lnTo>
                  <a:lnTo>
                    <a:pt x="42" y="233"/>
                  </a:lnTo>
                  <a:lnTo>
                    <a:pt x="19" y="275"/>
                  </a:lnTo>
                  <a:lnTo>
                    <a:pt x="0" y="322"/>
                  </a:lnTo>
                  <a:lnTo>
                    <a:pt x="51" y="420"/>
                  </a:lnTo>
                  <a:lnTo>
                    <a:pt x="36" y="458"/>
                  </a:lnTo>
                  <a:lnTo>
                    <a:pt x="108" y="542"/>
                  </a:lnTo>
                  <a:lnTo>
                    <a:pt x="103" y="589"/>
                  </a:lnTo>
                  <a:lnTo>
                    <a:pt x="188" y="655"/>
                  </a:lnTo>
                  <a:lnTo>
                    <a:pt x="187" y="647"/>
                  </a:lnTo>
                  <a:lnTo>
                    <a:pt x="187" y="628"/>
                  </a:lnTo>
                  <a:lnTo>
                    <a:pt x="187" y="600"/>
                  </a:lnTo>
                  <a:lnTo>
                    <a:pt x="190" y="563"/>
                  </a:lnTo>
                  <a:lnTo>
                    <a:pt x="195" y="519"/>
                  </a:lnTo>
                  <a:lnTo>
                    <a:pt x="202" y="470"/>
                  </a:lnTo>
                  <a:lnTo>
                    <a:pt x="211" y="418"/>
                  </a:lnTo>
                  <a:lnTo>
                    <a:pt x="227" y="366"/>
                  </a:lnTo>
                  <a:lnTo>
                    <a:pt x="244" y="312"/>
                  </a:lnTo>
                  <a:lnTo>
                    <a:pt x="268" y="264"/>
                  </a:lnTo>
                  <a:lnTo>
                    <a:pt x="298" y="217"/>
                  </a:lnTo>
                  <a:lnTo>
                    <a:pt x="334" y="176"/>
                  </a:lnTo>
                  <a:lnTo>
                    <a:pt x="377" y="143"/>
                  </a:lnTo>
                  <a:lnTo>
                    <a:pt x="428" y="119"/>
                  </a:lnTo>
                  <a:lnTo>
                    <a:pt x="487" y="107"/>
                  </a:lnTo>
                  <a:lnTo>
                    <a:pt x="556" y="108"/>
                  </a:lnTo>
                  <a:lnTo>
                    <a:pt x="574" y="123"/>
                  </a:lnTo>
                  <a:lnTo>
                    <a:pt x="573" y="124"/>
                  </a:lnTo>
                  <a:lnTo>
                    <a:pt x="573" y="128"/>
                  </a:lnTo>
                  <a:lnTo>
                    <a:pt x="571" y="134"/>
                  </a:lnTo>
                  <a:lnTo>
                    <a:pt x="571" y="143"/>
                  </a:lnTo>
                  <a:lnTo>
                    <a:pt x="569" y="153"/>
                  </a:lnTo>
                  <a:lnTo>
                    <a:pt x="566" y="165"/>
                  </a:lnTo>
                  <a:lnTo>
                    <a:pt x="563" y="177"/>
                  </a:lnTo>
                  <a:lnTo>
                    <a:pt x="560" y="192"/>
                  </a:lnTo>
                  <a:lnTo>
                    <a:pt x="555" y="204"/>
                  </a:lnTo>
                  <a:lnTo>
                    <a:pt x="551" y="217"/>
                  </a:lnTo>
                  <a:lnTo>
                    <a:pt x="546" y="228"/>
                  </a:lnTo>
                  <a:lnTo>
                    <a:pt x="542" y="240"/>
                  </a:lnTo>
                  <a:lnTo>
                    <a:pt x="536" y="249"/>
                  </a:lnTo>
                  <a:lnTo>
                    <a:pt x="530" y="257"/>
                  </a:lnTo>
                  <a:lnTo>
                    <a:pt x="523" y="264"/>
                  </a:lnTo>
                  <a:lnTo>
                    <a:pt x="515" y="267"/>
                  </a:lnTo>
                  <a:lnTo>
                    <a:pt x="513" y="265"/>
                  </a:lnTo>
                  <a:lnTo>
                    <a:pt x="504" y="261"/>
                  </a:lnTo>
                  <a:lnTo>
                    <a:pt x="499" y="258"/>
                  </a:lnTo>
                  <a:lnTo>
                    <a:pt x="493" y="255"/>
                  </a:lnTo>
                  <a:lnTo>
                    <a:pt x="488" y="252"/>
                  </a:lnTo>
                  <a:lnTo>
                    <a:pt x="481" y="250"/>
                  </a:lnTo>
                  <a:lnTo>
                    <a:pt x="475" y="247"/>
                  </a:lnTo>
                  <a:lnTo>
                    <a:pt x="468" y="244"/>
                  </a:lnTo>
                  <a:lnTo>
                    <a:pt x="461" y="240"/>
                  </a:lnTo>
                  <a:lnTo>
                    <a:pt x="457" y="239"/>
                  </a:lnTo>
                  <a:lnTo>
                    <a:pt x="447" y="235"/>
                  </a:lnTo>
                  <a:lnTo>
                    <a:pt x="443" y="234"/>
                  </a:lnTo>
                  <a:lnTo>
                    <a:pt x="437" y="236"/>
                  </a:lnTo>
                  <a:lnTo>
                    <a:pt x="434" y="244"/>
                  </a:lnTo>
                  <a:lnTo>
                    <a:pt x="430" y="249"/>
                  </a:lnTo>
                  <a:lnTo>
                    <a:pt x="428" y="255"/>
                  </a:lnTo>
                  <a:lnTo>
                    <a:pt x="426" y="262"/>
                  </a:lnTo>
                  <a:lnTo>
                    <a:pt x="426" y="270"/>
                  </a:lnTo>
                  <a:lnTo>
                    <a:pt x="424" y="276"/>
                  </a:lnTo>
                  <a:lnTo>
                    <a:pt x="425" y="285"/>
                  </a:lnTo>
                  <a:lnTo>
                    <a:pt x="425" y="290"/>
                  </a:lnTo>
                  <a:lnTo>
                    <a:pt x="428" y="299"/>
                  </a:lnTo>
                  <a:lnTo>
                    <a:pt x="431" y="304"/>
                  </a:lnTo>
                  <a:lnTo>
                    <a:pt x="437" y="310"/>
                  </a:lnTo>
                  <a:lnTo>
                    <a:pt x="444" y="314"/>
                  </a:lnTo>
                  <a:lnTo>
                    <a:pt x="452" y="320"/>
                  </a:lnTo>
                  <a:lnTo>
                    <a:pt x="460" y="321"/>
                  </a:lnTo>
                  <a:lnTo>
                    <a:pt x="469" y="323"/>
                  </a:lnTo>
                  <a:lnTo>
                    <a:pt x="477" y="323"/>
                  </a:lnTo>
                  <a:lnTo>
                    <a:pt x="483" y="324"/>
                  </a:lnTo>
                  <a:lnTo>
                    <a:pt x="490" y="323"/>
                  </a:lnTo>
                  <a:lnTo>
                    <a:pt x="496" y="322"/>
                  </a:lnTo>
                  <a:lnTo>
                    <a:pt x="500" y="321"/>
                  </a:lnTo>
                  <a:lnTo>
                    <a:pt x="504" y="320"/>
                  </a:lnTo>
                  <a:lnTo>
                    <a:pt x="511" y="314"/>
                  </a:lnTo>
                  <a:lnTo>
                    <a:pt x="517" y="311"/>
                  </a:lnTo>
                  <a:lnTo>
                    <a:pt x="519" y="308"/>
                  </a:lnTo>
                  <a:lnTo>
                    <a:pt x="521" y="308"/>
                  </a:lnTo>
                  <a:lnTo>
                    <a:pt x="523" y="310"/>
                  </a:lnTo>
                  <a:lnTo>
                    <a:pt x="529" y="317"/>
                  </a:lnTo>
                  <a:lnTo>
                    <a:pt x="532" y="321"/>
                  </a:lnTo>
                  <a:lnTo>
                    <a:pt x="535" y="329"/>
                  </a:lnTo>
                  <a:lnTo>
                    <a:pt x="536" y="338"/>
                  </a:lnTo>
                  <a:lnTo>
                    <a:pt x="538" y="348"/>
                  </a:lnTo>
                  <a:lnTo>
                    <a:pt x="536" y="348"/>
                  </a:lnTo>
                  <a:lnTo>
                    <a:pt x="532" y="351"/>
                  </a:lnTo>
                  <a:lnTo>
                    <a:pt x="528" y="351"/>
                  </a:lnTo>
                  <a:lnTo>
                    <a:pt x="525" y="353"/>
                  </a:lnTo>
                  <a:lnTo>
                    <a:pt x="520" y="355"/>
                  </a:lnTo>
                  <a:lnTo>
                    <a:pt x="514" y="356"/>
                  </a:lnTo>
                  <a:lnTo>
                    <a:pt x="508" y="357"/>
                  </a:lnTo>
                  <a:lnTo>
                    <a:pt x="501" y="359"/>
                  </a:lnTo>
                  <a:lnTo>
                    <a:pt x="492" y="360"/>
                  </a:lnTo>
                  <a:lnTo>
                    <a:pt x="485" y="362"/>
                  </a:lnTo>
                  <a:lnTo>
                    <a:pt x="473" y="362"/>
                  </a:lnTo>
                  <a:lnTo>
                    <a:pt x="464" y="363"/>
                  </a:lnTo>
                  <a:lnTo>
                    <a:pt x="451" y="363"/>
                  </a:lnTo>
                  <a:lnTo>
                    <a:pt x="439" y="363"/>
                  </a:lnTo>
                  <a:lnTo>
                    <a:pt x="429" y="364"/>
                  </a:lnTo>
                  <a:lnTo>
                    <a:pt x="423" y="371"/>
                  </a:lnTo>
                  <a:lnTo>
                    <a:pt x="418" y="375"/>
                  </a:lnTo>
                  <a:lnTo>
                    <a:pt x="415" y="382"/>
                  </a:lnTo>
                  <a:lnTo>
                    <a:pt x="412" y="388"/>
                  </a:lnTo>
                  <a:lnTo>
                    <a:pt x="410" y="396"/>
                  </a:lnTo>
                  <a:lnTo>
                    <a:pt x="407" y="403"/>
                  </a:lnTo>
                  <a:lnTo>
                    <a:pt x="405" y="412"/>
                  </a:lnTo>
                  <a:lnTo>
                    <a:pt x="403" y="419"/>
                  </a:lnTo>
                  <a:lnTo>
                    <a:pt x="402" y="428"/>
                  </a:lnTo>
                  <a:lnTo>
                    <a:pt x="400" y="437"/>
                  </a:lnTo>
                  <a:lnTo>
                    <a:pt x="400" y="446"/>
                  </a:lnTo>
                  <a:lnTo>
                    <a:pt x="400" y="455"/>
                  </a:lnTo>
                  <a:lnTo>
                    <a:pt x="400" y="464"/>
                  </a:lnTo>
                  <a:lnTo>
                    <a:pt x="398" y="472"/>
                  </a:lnTo>
                  <a:lnTo>
                    <a:pt x="396" y="481"/>
                  </a:lnTo>
                  <a:lnTo>
                    <a:pt x="392" y="491"/>
                  </a:lnTo>
                  <a:lnTo>
                    <a:pt x="389" y="503"/>
                  </a:lnTo>
                  <a:lnTo>
                    <a:pt x="383" y="514"/>
                  </a:lnTo>
                  <a:lnTo>
                    <a:pt x="377" y="527"/>
                  </a:lnTo>
                  <a:lnTo>
                    <a:pt x="371" y="538"/>
                  </a:lnTo>
                  <a:lnTo>
                    <a:pt x="365" y="550"/>
                  </a:lnTo>
                  <a:lnTo>
                    <a:pt x="356" y="559"/>
                  </a:lnTo>
                  <a:lnTo>
                    <a:pt x="349" y="569"/>
                  </a:lnTo>
                  <a:lnTo>
                    <a:pt x="340" y="576"/>
                  </a:lnTo>
                  <a:lnTo>
                    <a:pt x="331" y="584"/>
                  </a:lnTo>
                  <a:lnTo>
                    <a:pt x="321" y="587"/>
                  </a:lnTo>
                  <a:lnTo>
                    <a:pt x="312" y="592"/>
                  </a:lnTo>
                  <a:lnTo>
                    <a:pt x="302" y="592"/>
                  </a:lnTo>
                  <a:lnTo>
                    <a:pt x="293" y="591"/>
                  </a:lnTo>
                  <a:lnTo>
                    <a:pt x="282" y="587"/>
                  </a:lnTo>
                  <a:lnTo>
                    <a:pt x="274" y="584"/>
                  </a:lnTo>
                  <a:lnTo>
                    <a:pt x="265" y="580"/>
                  </a:lnTo>
                  <a:lnTo>
                    <a:pt x="259" y="576"/>
                  </a:lnTo>
                  <a:lnTo>
                    <a:pt x="252" y="572"/>
                  </a:lnTo>
                  <a:lnTo>
                    <a:pt x="247" y="568"/>
                  </a:lnTo>
                  <a:lnTo>
                    <a:pt x="241" y="565"/>
                  </a:lnTo>
                  <a:lnTo>
                    <a:pt x="239" y="562"/>
                  </a:lnTo>
                  <a:lnTo>
                    <a:pt x="231" y="554"/>
                  </a:lnTo>
                  <a:lnTo>
                    <a:pt x="228" y="550"/>
                  </a:lnTo>
                  <a:lnTo>
                    <a:pt x="227" y="545"/>
                  </a:lnTo>
                  <a:lnTo>
                    <a:pt x="221" y="561"/>
                  </a:lnTo>
                  <a:lnTo>
                    <a:pt x="223" y="562"/>
                  </a:lnTo>
                  <a:lnTo>
                    <a:pt x="228" y="568"/>
                  </a:lnTo>
                  <a:lnTo>
                    <a:pt x="238" y="575"/>
                  </a:lnTo>
                  <a:lnTo>
                    <a:pt x="251" y="585"/>
                  </a:lnTo>
                  <a:lnTo>
                    <a:pt x="266" y="595"/>
                  </a:lnTo>
                  <a:lnTo>
                    <a:pt x="284" y="607"/>
                  </a:lnTo>
                  <a:lnTo>
                    <a:pt x="304" y="617"/>
                  </a:lnTo>
                  <a:lnTo>
                    <a:pt x="326" y="627"/>
                  </a:lnTo>
                  <a:lnTo>
                    <a:pt x="349" y="634"/>
                  </a:lnTo>
                  <a:lnTo>
                    <a:pt x="373" y="637"/>
                  </a:lnTo>
                  <a:lnTo>
                    <a:pt x="397" y="636"/>
                  </a:lnTo>
                  <a:lnTo>
                    <a:pt x="423" y="633"/>
                  </a:lnTo>
                  <a:lnTo>
                    <a:pt x="446" y="623"/>
                  </a:lnTo>
                  <a:lnTo>
                    <a:pt x="470" y="606"/>
                  </a:lnTo>
                  <a:lnTo>
                    <a:pt x="492" y="583"/>
                  </a:lnTo>
                  <a:lnTo>
                    <a:pt x="515" y="552"/>
                  </a:lnTo>
                  <a:lnTo>
                    <a:pt x="514" y="549"/>
                  </a:lnTo>
                  <a:lnTo>
                    <a:pt x="508" y="544"/>
                  </a:lnTo>
                  <a:lnTo>
                    <a:pt x="503" y="541"/>
                  </a:lnTo>
                  <a:lnTo>
                    <a:pt x="498" y="539"/>
                  </a:lnTo>
                  <a:lnTo>
                    <a:pt x="492" y="535"/>
                  </a:lnTo>
                  <a:lnTo>
                    <a:pt x="487" y="533"/>
                  </a:lnTo>
                  <a:lnTo>
                    <a:pt x="479" y="530"/>
                  </a:lnTo>
                  <a:lnTo>
                    <a:pt x="472" y="527"/>
                  </a:lnTo>
                  <a:lnTo>
                    <a:pt x="467" y="522"/>
                  </a:lnTo>
                  <a:lnTo>
                    <a:pt x="461" y="519"/>
                  </a:lnTo>
                  <a:lnTo>
                    <a:pt x="451" y="511"/>
                  </a:lnTo>
                  <a:lnTo>
                    <a:pt x="446" y="505"/>
                  </a:lnTo>
                  <a:lnTo>
                    <a:pt x="546" y="530"/>
                  </a:lnTo>
                  <a:lnTo>
                    <a:pt x="566" y="468"/>
                  </a:lnTo>
                  <a:lnTo>
                    <a:pt x="569" y="468"/>
                  </a:lnTo>
                  <a:lnTo>
                    <a:pt x="574" y="471"/>
                  </a:lnTo>
                  <a:lnTo>
                    <a:pt x="577" y="472"/>
                  </a:lnTo>
                  <a:lnTo>
                    <a:pt x="583" y="475"/>
                  </a:lnTo>
                  <a:lnTo>
                    <a:pt x="588" y="477"/>
                  </a:lnTo>
                  <a:lnTo>
                    <a:pt x="595" y="480"/>
                  </a:lnTo>
                  <a:lnTo>
                    <a:pt x="599" y="481"/>
                  </a:lnTo>
                  <a:lnTo>
                    <a:pt x="606" y="484"/>
                  </a:lnTo>
                  <a:lnTo>
                    <a:pt x="612" y="485"/>
                  </a:lnTo>
                  <a:lnTo>
                    <a:pt x="617" y="487"/>
                  </a:lnTo>
                  <a:lnTo>
                    <a:pt x="623" y="488"/>
                  </a:lnTo>
                  <a:lnTo>
                    <a:pt x="628" y="489"/>
                  </a:lnTo>
                  <a:lnTo>
                    <a:pt x="634" y="489"/>
                  </a:lnTo>
                  <a:lnTo>
                    <a:pt x="639" y="489"/>
                  </a:lnTo>
                  <a:lnTo>
                    <a:pt x="640" y="486"/>
                  </a:lnTo>
                  <a:lnTo>
                    <a:pt x="643" y="482"/>
                  </a:lnTo>
                  <a:lnTo>
                    <a:pt x="643" y="476"/>
                  </a:lnTo>
                  <a:lnTo>
                    <a:pt x="644" y="469"/>
                  </a:lnTo>
                  <a:lnTo>
                    <a:pt x="641" y="459"/>
                  </a:lnTo>
                  <a:lnTo>
                    <a:pt x="640" y="449"/>
                  </a:lnTo>
                  <a:lnTo>
                    <a:pt x="638" y="439"/>
                  </a:lnTo>
                  <a:lnTo>
                    <a:pt x="636" y="429"/>
                  </a:lnTo>
                  <a:lnTo>
                    <a:pt x="632" y="417"/>
                  </a:lnTo>
                  <a:lnTo>
                    <a:pt x="628" y="407"/>
                  </a:lnTo>
                  <a:lnTo>
                    <a:pt x="626" y="397"/>
                  </a:lnTo>
                  <a:lnTo>
                    <a:pt x="624" y="388"/>
                  </a:lnTo>
                  <a:lnTo>
                    <a:pt x="620" y="378"/>
                  </a:lnTo>
                  <a:lnTo>
                    <a:pt x="618" y="372"/>
                  </a:lnTo>
                  <a:lnTo>
                    <a:pt x="617" y="366"/>
                  </a:lnTo>
                  <a:lnTo>
                    <a:pt x="617" y="364"/>
                  </a:lnTo>
                  <a:lnTo>
                    <a:pt x="617" y="360"/>
                  </a:lnTo>
                  <a:lnTo>
                    <a:pt x="622" y="354"/>
                  </a:lnTo>
                  <a:lnTo>
                    <a:pt x="627" y="346"/>
                  </a:lnTo>
                  <a:lnTo>
                    <a:pt x="635" y="339"/>
                  </a:lnTo>
                  <a:lnTo>
                    <a:pt x="643" y="328"/>
                  </a:lnTo>
                  <a:lnTo>
                    <a:pt x="651" y="315"/>
                  </a:lnTo>
                  <a:lnTo>
                    <a:pt x="661" y="302"/>
                  </a:lnTo>
                  <a:lnTo>
                    <a:pt x="670" y="288"/>
                  </a:lnTo>
                  <a:lnTo>
                    <a:pt x="676" y="271"/>
                  </a:lnTo>
                  <a:lnTo>
                    <a:pt x="682" y="254"/>
                  </a:lnTo>
                  <a:lnTo>
                    <a:pt x="686" y="235"/>
                  </a:lnTo>
                  <a:lnTo>
                    <a:pt x="686" y="216"/>
                  </a:lnTo>
                  <a:lnTo>
                    <a:pt x="684" y="194"/>
                  </a:lnTo>
                  <a:lnTo>
                    <a:pt x="677" y="173"/>
                  </a:lnTo>
                  <a:lnTo>
                    <a:pt x="666" y="151"/>
                  </a:lnTo>
                  <a:lnTo>
                    <a:pt x="651" y="129"/>
                  </a:lnTo>
                  <a:lnTo>
                    <a:pt x="674" y="88"/>
                  </a:lnTo>
                  <a:lnTo>
                    <a:pt x="672" y="86"/>
                  </a:lnTo>
                  <a:lnTo>
                    <a:pt x="670" y="83"/>
                  </a:lnTo>
                  <a:lnTo>
                    <a:pt x="666" y="78"/>
                  </a:lnTo>
                  <a:lnTo>
                    <a:pt x="661" y="73"/>
                  </a:lnTo>
                  <a:lnTo>
                    <a:pt x="654" y="67"/>
                  </a:lnTo>
                  <a:lnTo>
                    <a:pt x="646" y="60"/>
                  </a:lnTo>
                  <a:lnTo>
                    <a:pt x="636" y="52"/>
                  </a:lnTo>
                  <a:lnTo>
                    <a:pt x="626" y="45"/>
                  </a:lnTo>
                  <a:lnTo>
                    <a:pt x="613" y="36"/>
                  </a:lnTo>
                  <a:lnTo>
                    <a:pt x="599" y="29"/>
                  </a:lnTo>
                  <a:lnTo>
                    <a:pt x="584" y="21"/>
                  </a:lnTo>
                  <a:lnTo>
                    <a:pt x="570" y="16"/>
                  </a:lnTo>
                  <a:lnTo>
                    <a:pt x="551" y="9"/>
                  </a:lnTo>
                  <a:lnTo>
                    <a:pt x="533" y="6"/>
                  </a:lnTo>
                  <a:lnTo>
                    <a:pt x="513" y="3"/>
                  </a:lnTo>
                  <a:lnTo>
                    <a:pt x="492" y="3"/>
                  </a:lnTo>
                  <a:lnTo>
                    <a:pt x="496" y="4"/>
                  </a:lnTo>
                  <a:lnTo>
                    <a:pt x="500" y="5"/>
                  </a:lnTo>
                  <a:lnTo>
                    <a:pt x="507" y="8"/>
                  </a:lnTo>
                  <a:lnTo>
                    <a:pt x="513" y="9"/>
                  </a:lnTo>
                  <a:lnTo>
                    <a:pt x="522" y="13"/>
                  </a:lnTo>
                  <a:lnTo>
                    <a:pt x="531" y="17"/>
                  </a:lnTo>
                  <a:lnTo>
                    <a:pt x="541" y="21"/>
                  </a:lnTo>
                  <a:lnTo>
                    <a:pt x="550" y="26"/>
                  </a:lnTo>
                  <a:lnTo>
                    <a:pt x="560" y="31"/>
                  </a:lnTo>
                  <a:lnTo>
                    <a:pt x="570" y="36"/>
                  </a:lnTo>
                  <a:lnTo>
                    <a:pt x="580" y="42"/>
                  </a:lnTo>
                  <a:lnTo>
                    <a:pt x="587" y="48"/>
                  </a:lnTo>
                  <a:lnTo>
                    <a:pt x="596" y="55"/>
                  </a:lnTo>
                  <a:lnTo>
                    <a:pt x="604" y="61"/>
                  </a:lnTo>
                  <a:lnTo>
                    <a:pt x="611" y="69"/>
                  </a:lnTo>
                  <a:lnTo>
                    <a:pt x="607" y="67"/>
                  </a:lnTo>
                  <a:lnTo>
                    <a:pt x="599" y="66"/>
                  </a:lnTo>
                  <a:lnTo>
                    <a:pt x="594" y="63"/>
                  </a:lnTo>
                  <a:lnTo>
                    <a:pt x="588" y="62"/>
                  </a:lnTo>
                  <a:lnTo>
                    <a:pt x="583" y="60"/>
                  </a:lnTo>
                  <a:lnTo>
                    <a:pt x="576" y="59"/>
                  </a:lnTo>
                  <a:lnTo>
                    <a:pt x="570" y="56"/>
                  </a:lnTo>
                  <a:lnTo>
                    <a:pt x="562" y="55"/>
                  </a:lnTo>
                  <a:lnTo>
                    <a:pt x="555" y="53"/>
                  </a:lnTo>
                  <a:lnTo>
                    <a:pt x="549" y="52"/>
                  </a:lnTo>
                  <a:lnTo>
                    <a:pt x="542" y="50"/>
                  </a:lnTo>
                  <a:lnTo>
                    <a:pt x="538" y="49"/>
                  </a:lnTo>
                  <a:lnTo>
                    <a:pt x="531" y="49"/>
                  </a:lnTo>
                  <a:lnTo>
                    <a:pt x="528" y="49"/>
                  </a:lnTo>
                  <a:lnTo>
                    <a:pt x="524" y="62"/>
                  </a:lnTo>
                  <a:lnTo>
                    <a:pt x="527" y="62"/>
                  </a:lnTo>
                  <a:lnTo>
                    <a:pt x="536" y="63"/>
                  </a:lnTo>
                  <a:lnTo>
                    <a:pt x="542" y="63"/>
                  </a:lnTo>
                  <a:lnTo>
                    <a:pt x="549" y="65"/>
                  </a:lnTo>
                  <a:lnTo>
                    <a:pt x="556" y="66"/>
                  </a:lnTo>
                  <a:lnTo>
                    <a:pt x="565" y="68"/>
                  </a:lnTo>
                  <a:lnTo>
                    <a:pt x="573" y="69"/>
                  </a:lnTo>
                  <a:lnTo>
                    <a:pt x="582" y="72"/>
                  </a:lnTo>
                  <a:lnTo>
                    <a:pt x="590" y="76"/>
                  </a:lnTo>
                  <a:lnTo>
                    <a:pt x="597" y="78"/>
                  </a:lnTo>
                  <a:lnTo>
                    <a:pt x="604" y="81"/>
                  </a:lnTo>
                  <a:lnTo>
                    <a:pt x="611" y="86"/>
                  </a:lnTo>
                  <a:lnTo>
                    <a:pt x="616" y="90"/>
                  </a:lnTo>
                  <a:lnTo>
                    <a:pt x="619" y="95"/>
                  </a:lnTo>
                  <a:lnTo>
                    <a:pt x="616" y="93"/>
                  </a:lnTo>
                  <a:lnTo>
                    <a:pt x="606" y="91"/>
                  </a:lnTo>
                  <a:lnTo>
                    <a:pt x="592" y="88"/>
                  </a:lnTo>
                  <a:lnTo>
                    <a:pt x="572" y="84"/>
                  </a:lnTo>
                  <a:lnTo>
                    <a:pt x="549" y="81"/>
                  </a:lnTo>
                  <a:lnTo>
                    <a:pt x="522" y="80"/>
                  </a:lnTo>
                  <a:lnTo>
                    <a:pt x="492" y="82"/>
                  </a:lnTo>
                  <a:lnTo>
                    <a:pt x="461" y="89"/>
                  </a:lnTo>
                  <a:lnTo>
                    <a:pt x="427" y="97"/>
                  </a:lnTo>
                  <a:lnTo>
                    <a:pt x="393" y="112"/>
                  </a:lnTo>
                  <a:lnTo>
                    <a:pt x="358" y="132"/>
                  </a:lnTo>
                  <a:lnTo>
                    <a:pt x="325" y="160"/>
                  </a:lnTo>
                  <a:lnTo>
                    <a:pt x="292" y="194"/>
                  </a:lnTo>
                  <a:lnTo>
                    <a:pt x="262" y="239"/>
                  </a:lnTo>
                  <a:lnTo>
                    <a:pt x="234" y="291"/>
                  </a:lnTo>
                  <a:lnTo>
                    <a:pt x="209" y="356"/>
                  </a:lnTo>
                  <a:lnTo>
                    <a:pt x="208" y="354"/>
                  </a:lnTo>
                  <a:lnTo>
                    <a:pt x="208" y="349"/>
                  </a:lnTo>
                  <a:lnTo>
                    <a:pt x="207" y="341"/>
                  </a:lnTo>
                  <a:lnTo>
                    <a:pt x="208" y="332"/>
                  </a:lnTo>
                  <a:lnTo>
                    <a:pt x="208" y="319"/>
                  </a:lnTo>
                  <a:lnTo>
                    <a:pt x="211" y="304"/>
                  </a:lnTo>
                  <a:lnTo>
                    <a:pt x="215" y="288"/>
                  </a:lnTo>
                  <a:lnTo>
                    <a:pt x="220" y="271"/>
                  </a:lnTo>
                  <a:lnTo>
                    <a:pt x="227" y="252"/>
                  </a:lnTo>
                  <a:lnTo>
                    <a:pt x="237" y="231"/>
                  </a:lnTo>
                  <a:lnTo>
                    <a:pt x="249" y="210"/>
                  </a:lnTo>
                  <a:lnTo>
                    <a:pt x="265" y="191"/>
                  </a:lnTo>
                  <a:lnTo>
                    <a:pt x="283" y="168"/>
                  </a:lnTo>
                  <a:lnTo>
                    <a:pt x="307" y="147"/>
                  </a:lnTo>
                  <a:lnTo>
                    <a:pt x="331" y="125"/>
                  </a:lnTo>
                  <a:lnTo>
                    <a:pt x="363" y="105"/>
                  </a:lnTo>
                  <a:lnTo>
                    <a:pt x="342" y="94"/>
                  </a:lnTo>
                  <a:lnTo>
                    <a:pt x="339" y="95"/>
                  </a:lnTo>
                  <a:lnTo>
                    <a:pt x="333" y="100"/>
                  </a:lnTo>
                  <a:lnTo>
                    <a:pt x="324" y="104"/>
                  </a:lnTo>
                  <a:lnTo>
                    <a:pt x="314" y="113"/>
                  </a:lnTo>
                  <a:lnTo>
                    <a:pt x="301" y="124"/>
                  </a:lnTo>
                  <a:lnTo>
                    <a:pt x="287" y="136"/>
                  </a:lnTo>
                  <a:lnTo>
                    <a:pt x="271" y="152"/>
                  </a:lnTo>
                  <a:lnTo>
                    <a:pt x="255" y="171"/>
                  </a:lnTo>
                  <a:lnTo>
                    <a:pt x="238" y="187"/>
                  </a:lnTo>
                  <a:lnTo>
                    <a:pt x="220" y="208"/>
                  </a:lnTo>
                  <a:lnTo>
                    <a:pt x="205" y="229"/>
                  </a:lnTo>
                  <a:lnTo>
                    <a:pt x="190" y="254"/>
                  </a:lnTo>
                  <a:lnTo>
                    <a:pt x="176" y="278"/>
                  </a:lnTo>
                  <a:lnTo>
                    <a:pt x="165" y="304"/>
                  </a:lnTo>
                  <a:lnTo>
                    <a:pt x="156" y="332"/>
                  </a:lnTo>
                  <a:lnTo>
                    <a:pt x="150" y="361"/>
                  </a:lnTo>
                  <a:lnTo>
                    <a:pt x="150" y="359"/>
                  </a:lnTo>
                  <a:lnTo>
                    <a:pt x="148" y="356"/>
                  </a:lnTo>
                  <a:lnTo>
                    <a:pt x="147" y="349"/>
                  </a:lnTo>
                  <a:lnTo>
                    <a:pt x="146" y="342"/>
                  </a:lnTo>
                  <a:lnTo>
                    <a:pt x="145" y="332"/>
                  </a:lnTo>
                  <a:lnTo>
                    <a:pt x="145" y="321"/>
                  </a:lnTo>
                  <a:lnTo>
                    <a:pt x="146" y="308"/>
                  </a:lnTo>
                  <a:lnTo>
                    <a:pt x="150" y="293"/>
                  </a:lnTo>
                  <a:lnTo>
                    <a:pt x="151" y="277"/>
                  </a:lnTo>
                  <a:lnTo>
                    <a:pt x="156" y="261"/>
                  </a:lnTo>
                  <a:lnTo>
                    <a:pt x="162" y="243"/>
                  </a:lnTo>
                  <a:lnTo>
                    <a:pt x="172" y="226"/>
                  </a:lnTo>
                  <a:lnTo>
                    <a:pt x="183" y="206"/>
                  </a:lnTo>
                  <a:lnTo>
                    <a:pt x="197" y="188"/>
                  </a:lnTo>
                  <a:lnTo>
                    <a:pt x="214" y="170"/>
                  </a:lnTo>
                  <a:lnTo>
                    <a:pt x="235" y="151"/>
                  </a:lnTo>
                  <a:lnTo>
                    <a:pt x="208" y="146"/>
                  </a:lnTo>
                  <a:lnTo>
                    <a:pt x="206" y="146"/>
                  </a:lnTo>
                  <a:lnTo>
                    <a:pt x="204" y="149"/>
                  </a:lnTo>
                  <a:lnTo>
                    <a:pt x="197" y="154"/>
                  </a:lnTo>
                  <a:lnTo>
                    <a:pt x="192" y="161"/>
                  </a:lnTo>
                  <a:lnTo>
                    <a:pt x="183" y="170"/>
                  </a:lnTo>
                  <a:lnTo>
                    <a:pt x="174" y="178"/>
                  </a:lnTo>
                  <a:lnTo>
                    <a:pt x="164" y="189"/>
                  </a:lnTo>
                  <a:lnTo>
                    <a:pt x="154" y="203"/>
                  </a:lnTo>
                  <a:lnTo>
                    <a:pt x="143" y="215"/>
                  </a:lnTo>
                  <a:lnTo>
                    <a:pt x="132" y="229"/>
                  </a:lnTo>
                  <a:lnTo>
                    <a:pt x="122" y="243"/>
                  </a:lnTo>
                  <a:lnTo>
                    <a:pt x="113" y="258"/>
                  </a:lnTo>
                  <a:lnTo>
                    <a:pt x="103" y="273"/>
                  </a:lnTo>
                  <a:lnTo>
                    <a:pt x="96" y="288"/>
                  </a:lnTo>
                  <a:lnTo>
                    <a:pt x="90" y="304"/>
                  </a:lnTo>
                  <a:lnTo>
                    <a:pt x="87" y="321"/>
                  </a:lnTo>
                  <a:lnTo>
                    <a:pt x="85" y="318"/>
                  </a:lnTo>
                  <a:lnTo>
                    <a:pt x="85" y="311"/>
                  </a:lnTo>
                  <a:lnTo>
                    <a:pt x="85" y="300"/>
                  </a:lnTo>
                  <a:lnTo>
                    <a:pt x="87" y="287"/>
                  </a:lnTo>
                  <a:lnTo>
                    <a:pt x="89" y="269"/>
                  </a:lnTo>
                  <a:lnTo>
                    <a:pt x="93" y="250"/>
                  </a:lnTo>
                  <a:lnTo>
                    <a:pt x="101" y="229"/>
                  </a:lnTo>
                  <a:lnTo>
                    <a:pt x="111" y="206"/>
                  </a:lnTo>
                  <a:lnTo>
                    <a:pt x="123" y="182"/>
                  </a:lnTo>
                  <a:lnTo>
                    <a:pt x="140" y="156"/>
                  </a:lnTo>
                  <a:lnTo>
                    <a:pt x="161" y="130"/>
                  </a:lnTo>
                  <a:lnTo>
                    <a:pt x="187" y="105"/>
                  </a:lnTo>
                  <a:lnTo>
                    <a:pt x="218" y="79"/>
                  </a:lnTo>
                  <a:lnTo>
                    <a:pt x="256" y="56"/>
                  </a:lnTo>
                  <a:lnTo>
                    <a:pt x="298" y="32"/>
                  </a:lnTo>
                  <a:lnTo>
                    <a:pt x="350" y="13"/>
                  </a:lnTo>
                  <a:lnTo>
                    <a:pt x="354" y="0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4d3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95800" y="5225040"/>
              <a:ext cx="92160" cy="85320"/>
            </a:xfrm>
            <a:custGeom>
              <a:avLst/>
              <a:gdLst/>
              <a:ahLst/>
              <a:rect l="l" t="t" r="r" b="b"/>
              <a:pathLst>
                <a:path w="172" h="160">
                  <a:moveTo>
                    <a:pt x="172" y="145"/>
                  </a:moveTo>
                  <a:lnTo>
                    <a:pt x="157" y="138"/>
                  </a:lnTo>
                  <a:lnTo>
                    <a:pt x="142" y="132"/>
                  </a:lnTo>
                  <a:lnTo>
                    <a:pt x="129" y="125"/>
                  </a:lnTo>
                  <a:lnTo>
                    <a:pt x="119" y="120"/>
                  </a:lnTo>
                  <a:lnTo>
                    <a:pt x="108" y="112"/>
                  </a:lnTo>
                  <a:lnTo>
                    <a:pt x="100" y="107"/>
                  </a:lnTo>
                  <a:lnTo>
                    <a:pt x="90" y="100"/>
                  </a:lnTo>
                  <a:lnTo>
                    <a:pt x="84" y="94"/>
                  </a:lnTo>
                  <a:lnTo>
                    <a:pt x="76" y="88"/>
                  </a:lnTo>
                  <a:lnTo>
                    <a:pt x="69" y="80"/>
                  </a:lnTo>
                  <a:lnTo>
                    <a:pt x="63" y="73"/>
                  </a:lnTo>
                  <a:lnTo>
                    <a:pt x="56" y="67"/>
                  </a:lnTo>
                  <a:lnTo>
                    <a:pt x="50" y="60"/>
                  </a:lnTo>
                  <a:lnTo>
                    <a:pt x="43" y="54"/>
                  </a:lnTo>
                  <a:lnTo>
                    <a:pt x="36" y="48"/>
                  </a:lnTo>
                  <a:lnTo>
                    <a:pt x="30" y="43"/>
                  </a:lnTo>
                  <a:lnTo>
                    <a:pt x="30" y="40"/>
                  </a:lnTo>
                  <a:lnTo>
                    <a:pt x="32" y="36"/>
                  </a:lnTo>
                  <a:lnTo>
                    <a:pt x="34" y="33"/>
                  </a:lnTo>
                  <a:lnTo>
                    <a:pt x="39" y="30"/>
                  </a:lnTo>
                  <a:lnTo>
                    <a:pt x="42" y="27"/>
                  </a:lnTo>
                  <a:lnTo>
                    <a:pt x="48" y="25"/>
                  </a:lnTo>
                  <a:lnTo>
                    <a:pt x="54" y="22"/>
                  </a:lnTo>
                  <a:lnTo>
                    <a:pt x="63" y="20"/>
                  </a:lnTo>
                  <a:lnTo>
                    <a:pt x="72" y="19"/>
                  </a:lnTo>
                  <a:lnTo>
                    <a:pt x="83" y="19"/>
                  </a:lnTo>
                  <a:lnTo>
                    <a:pt x="94" y="19"/>
                  </a:lnTo>
                  <a:lnTo>
                    <a:pt x="109" y="22"/>
                  </a:lnTo>
                  <a:lnTo>
                    <a:pt x="125" y="25"/>
                  </a:lnTo>
                  <a:lnTo>
                    <a:pt x="145" y="30"/>
                  </a:lnTo>
                  <a:lnTo>
                    <a:pt x="162" y="15"/>
                  </a:lnTo>
                  <a:lnTo>
                    <a:pt x="160" y="14"/>
                  </a:lnTo>
                  <a:lnTo>
                    <a:pt x="158" y="13"/>
                  </a:lnTo>
                  <a:lnTo>
                    <a:pt x="155" y="10"/>
                  </a:lnTo>
                  <a:lnTo>
                    <a:pt x="149" y="9"/>
                  </a:lnTo>
                  <a:lnTo>
                    <a:pt x="142" y="7"/>
                  </a:lnTo>
                  <a:lnTo>
                    <a:pt x="134" y="5"/>
                  </a:lnTo>
                  <a:lnTo>
                    <a:pt x="124" y="3"/>
                  </a:lnTo>
                  <a:lnTo>
                    <a:pt x="115" y="3"/>
                  </a:lnTo>
                  <a:lnTo>
                    <a:pt x="103" y="0"/>
                  </a:lnTo>
                  <a:lnTo>
                    <a:pt x="90" y="0"/>
                  </a:lnTo>
                  <a:lnTo>
                    <a:pt x="77" y="2"/>
                  </a:lnTo>
                  <a:lnTo>
                    <a:pt x="64" y="5"/>
                  </a:lnTo>
                  <a:lnTo>
                    <a:pt x="47" y="7"/>
                  </a:lnTo>
                  <a:lnTo>
                    <a:pt x="32" y="12"/>
                  </a:lnTo>
                  <a:lnTo>
                    <a:pt x="16" y="18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3" y="35"/>
                  </a:lnTo>
                  <a:lnTo>
                    <a:pt x="8" y="41"/>
                  </a:lnTo>
                  <a:lnTo>
                    <a:pt x="10" y="47"/>
                  </a:lnTo>
                  <a:lnTo>
                    <a:pt x="16" y="55"/>
                  </a:lnTo>
                  <a:lnTo>
                    <a:pt x="22" y="65"/>
                  </a:lnTo>
                  <a:lnTo>
                    <a:pt x="31" y="76"/>
                  </a:lnTo>
                  <a:lnTo>
                    <a:pt x="40" y="85"/>
                  </a:lnTo>
                  <a:lnTo>
                    <a:pt x="51" y="96"/>
                  </a:lnTo>
                  <a:lnTo>
                    <a:pt x="62" y="107"/>
                  </a:lnTo>
                  <a:lnTo>
                    <a:pt x="76" y="119"/>
                  </a:lnTo>
                  <a:lnTo>
                    <a:pt x="89" y="129"/>
                  </a:lnTo>
                  <a:lnTo>
                    <a:pt x="106" y="140"/>
                  </a:lnTo>
                  <a:lnTo>
                    <a:pt x="123" y="150"/>
                  </a:lnTo>
                  <a:lnTo>
                    <a:pt x="142" y="160"/>
                  </a:lnTo>
                  <a:lnTo>
                    <a:pt x="172" y="145"/>
                  </a:lnTo>
                  <a:lnTo>
                    <a:pt x="172" y="145"/>
                  </a:lnTo>
                  <a:close/>
                </a:path>
              </a:pathLst>
            </a:custGeom>
            <a:solidFill>
              <a:srgbClr val="4d3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441800" y="5198400"/>
              <a:ext cx="79560" cy="41400"/>
            </a:xfrm>
            <a:custGeom>
              <a:avLst/>
              <a:gdLst/>
              <a:ahLst/>
              <a:rect l="l" t="t" r="r" b="b"/>
              <a:pathLst>
                <a:path w="150" h="77">
                  <a:moveTo>
                    <a:pt x="0" y="16"/>
                  </a:moveTo>
                  <a:lnTo>
                    <a:pt x="3" y="16"/>
                  </a:lnTo>
                  <a:lnTo>
                    <a:pt x="8" y="16"/>
                  </a:lnTo>
                  <a:lnTo>
                    <a:pt x="15" y="16"/>
                  </a:lnTo>
                  <a:lnTo>
                    <a:pt x="23" y="16"/>
                  </a:lnTo>
                  <a:lnTo>
                    <a:pt x="33" y="17"/>
                  </a:lnTo>
                  <a:lnTo>
                    <a:pt x="42" y="19"/>
                  </a:lnTo>
                  <a:lnTo>
                    <a:pt x="54" y="22"/>
                  </a:lnTo>
                  <a:lnTo>
                    <a:pt x="65" y="23"/>
                  </a:lnTo>
                  <a:lnTo>
                    <a:pt x="76" y="27"/>
                  </a:lnTo>
                  <a:lnTo>
                    <a:pt x="87" y="33"/>
                  </a:lnTo>
                  <a:lnTo>
                    <a:pt x="99" y="38"/>
                  </a:lnTo>
                  <a:lnTo>
                    <a:pt x="109" y="45"/>
                  </a:lnTo>
                  <a:lnTo>
                    <a:pt x="119" y="55"/>
                  </a:lnTo>
                  <a:lnTo>
                    <a:pt x="128" y="64"/>
                  </a:lnTo>
                  <a:lnTo>
                    <a:pt x="137" y="77"/>
                  </a:lnTo>
                  <a:lnTo>
                    <a:pt x="150" y="57"/>
                  </a:lnTo>
                  <a:lnTo>
                    <a:pt x="148" y="53"/>
                  </a:lnTo>
                  <a:lnTo>
                    <a:pt x="140" y="45"/>
                  </a:lnTo>
                  <a:lnTo>
                    <a:pt x="134" y="40"/>
                  </a:lnTo>
                  <a:lnTo>
                    <a:pt x="128" y="34"/>
                  </a:lnTo>
                  <a:lnTo>
                    <a:pt x="121" y="30"/>
                  </a:lnTo>
                  <a:lnTo>
                    <a:pt x="113" y="24"/>
                  </a:lnTo>
                  <a:lnTo>
                    <a:pt x="102" y="19"/>
                  </a:lnTo>
                  <a:lnTo>
                    <a:pt x="91" y="13"/>
                  </a:lnTo>
                  <a:lnTo>
                    <a:pt x="79" y="9"/>
                  </a:lnTo>
                  <a:lnTo>
                    <a:pt x="66" y="4"/>
                  </a:lnTo>
                  <a:lnTo>
                    <a:pt x="50" y="1"/>
                  </a:lnTo>
                  <a:lnTo>
                    <a:pt x="35" y="0"/>
                  </a:lnTo>
                  <a:lnTo>
                    <a:pt x="18" y="0"/>
                  </a:lnTo>
                  <a:lnTo>
                    <a:pt x="1" y="2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4d3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417680" y="5314680"/>
              <a:ext cx="491400" cy="400320"/>
            </a:xfrm>
            <a:custGeom>
              <a:avLst/>
              <a:gdLst/>
              <a:ahLst/>
              <a:rect l="l" t="t" r="r" b="b"/>
              <a:pathLst>
                <a:path w="925" h="750">
                  <a:moveTo>
                    <a:pt x="783" y="423"/>
                  </a:moveTo>
                  <a:lnTo>
                    <a:pt x="691" y="458"/>
                  </a:lnTo>
                  <a:lnTo>
                    <a:pt x="606" y="421"/>
                  </a:lnTo>
                  <a:lnTo>
                    <a:pt x="607" y="418"/>
                  </a:lnTo>
                  <a:lnTo>
                    <a:pt x="613" y="416"/>
                  </a:lnTo>
                  <a:lnTo>
                    <a:pt x="621" y="411"/>
                  </a:lnTo>
                  <a:lnTo>
                    <a:pt x="632" y="405"/>
                  </a:lnTo>
                  <a:lnTo>
                    <a:pt x="643" y="396"/>
                  </a:lnTo>
                  <a:lnTo>
                    <a:pt x="659" y="387"/>
                  </a:lnTo>
                  <a:lnTo>
                    <a:pt x="672" y="376"/>
                  </a:lnTo>
                  <a:lnTo>
                    <a:pt x="689" y="365"/>
                  </a:lnTo>
                  <a:lnTo>
                    <a:pt x="703" y="351"/>
                  </a:lnTo>
                  <a:lnTo>
                    <a:pt x="717" y="338"/>
                  </a:lnTo>
                  <a:lnTo>
                    <a:pt x="730" y="321"/>
                  </a:lnTo>
                  <a:lnTo>
                    <a:pt x="741" y="304"/>
                  </a:lnTo>
                  <a:lnTo>
                    <a:pt x="751" y="286"/>
                  </a:lnTo>
                  <a:lnTo>
                    <a:pt x="756" y="267"/>
                  </a:lnTo>
                  <a:lnTo>
                    <a:pt x="758" y="247"/>
                  </a:lnTo>
                  <a:lnTo>
                    <a:pt x="757" y="226"/>
                  </a:lnTo>
                  <a:lnTo>
                    <a:pt x="726" y="235"/>
                  </a:lnTo>
                  <a:lnTo>
                    <a:pt x="727" y="238"/>
                  </a:lnTo>
                  <a:lnTo>
                    <a:pt x="727" y="244"/>
                  </a:lnTo>
                  <a:lnTo>
                    <a:pt x="728" y="251"/>
                  </a:lnTo>
                  <a:lnTo>
                    <a:pt x="727" y="259"/>
                  </a:lnTo>
                  <a:lnTo>
                    <a:pt x="726" y="270"/>
                  </a:lnTo>
                  <a:lnTo>
                    <a:pt x="722" y="281"/>
                  </a:lnTo>
                  <a:lnTo>
                    <a:pt x="718" y="296"/>
                  </a:lnTo>
                  <a:lnTo>
                    <a:pt x="711" y="308"/>
                  </a:lnTo>
                  <a:lnTo>
                    <a:pt x="702" y="323"/>
                  </a:lnTo>
                  <a:lnTo>
                    <a:pt x="689" y="338"/>
                  </a:lnTo>
                  <a:lnTo>
                    <a:pt x="673" y="352"/>
                  </a:lnTo>
                  <a:lnTo>
                    <a:pt x="653" y="366"/>
                  </a:lnTo>
                  <a:lnTo>
                    <a:pt x="630" y="381"/>
                  </a:lnTo>
                  <a:lnTo>
                    <a:pt x="601" y="394"/>
                  </a:lnTo>
                  <a:lnTo>
                    <a:pt x="569" y="408"/>
                  </a:lnTo>
                  <a:lnTo>
                    <a:pt x="535" y="400"/>
                  </a:lnTo>
                  <a:lnTo>
                    <a:pt x="627" y="308"/>
                  </a:lnTo>
                  <a:lnTo>
                    <a:pt x="612" y="292"/>
                  </a:lnTo>
                  <a:lnTo>
                    <a:pt x="609" y="293"/>
                  </a:lnTo>
                  <a:lnTo>
                    <a:pt x="604" y="298"/>
                  </a:lnTo>
                  <a:lnTo>
                    <a:pt x="596" y="306"/>
                  </a:lnTo>
                  <a:lnTo>
                    <a:pt x="585" y="317"/>
                  </a:lnTo>
                  <a:lnTo>
                    <a:pt x="570" y="328"/>
                  </a:lnTo>
                  <a:lnTo>
                    <a:pt x="553" y="342"/>
                  </a:lnTo>
                  <a:lnTo>
                    <a:pt x="533" y="358"/>
                  </a:lnTo>
                  <a:lnTo>
                    <a:pt x="512" y="373"/>
                  </a:lnTo>
                  <a:lnTo>
                    <a:pt x="486" y="387"/>
                  </a:lnTo>
                  <a:lnTo>
                    <a:pt x="460" y="403"/>
                  </a:lnTo>
                  <a:lnTo>
                    <a:pt x="431" y="416"/>
                  </a:lnTo>
                  <a:lnTo>
                    <a:pt x="401" y="429"/>
                  </a:lnTo>
                  <a:lnTo>
                    <a:pt x="369" y="439"/>
                  </a:lnTo>
                  <a:lnTo>
                    <a:pt x="336" y="447"/>
                  </a:lnTo>
                  <a:lnTo>
                    <a:pt x="302" y="453"/>
                  </a:lnTo>
                  <a:lnTo>
                    <a:pt x="266" y="455"/>
                  </a:lnTo>
                  <a:lnTo>
                    <a:pt x="96" y="318"/>
                  </a:lnTo>
                  <a:lnTo>
                    <a:pt x="98" y="316"/>
                  </a:lnTo>
                  <a:lnTo>
                    <a:pt x="105" y="312"/>
                  </a:lnTo>
                  <a:lnTo>
                    <a:pt x="115" y="306"/>
                  </a:lnTo>
                  <a:lnTo>
                    <a:pt x="129" y="298"/>
                  </a:lnTo>
                  <a:lnTo>
                    <a:pt x="146" y="286"/>
                  </a:lnTo>
                  <a:lnTo>
                    <a:pt x="164" y="274"/>
                  </a:lnTo>
                  <a:lnTo>
                    <a:pt x="182" y="258"/>
                  </a:lnTo>
                  <a:lnTo>
                    <a:pt x="203" y="243"/>
                  </a:lnTo>
                  <a:lnTo>
                    <a:pt x="220" y="223"/>
                  </a:lnTo>
                  <a:lnTo>
                    <a:pt x="238" y="201"/>
                  </a:lnTo>
                  <a:lnTo>
                    <a:pt x="253" y="177"/>
                  </a:lnTo>
                  <a:lnTo>
                    <a:pt x="267" y="153"/>
                  </a:lnTo>
                  <a:lnTo>
                    <a:pt x="276" y="126"/>
                  </a:lnTo>
                  <a:lnTo>
                    <a:pt x="283" y="98"/>
                  </a:lnTo>
                  <a:lnTo>
                    <a:pt x="284" y="68"/>
                  </a:lnTo>
                  <a:lnTo>
                    <a:pt x="280" y="37"/>
                  </a:lnTo>
                  <a:lnTo>
                    <a:pt x="381" y="32"/>
                  </a:lnTo>
                  <a:lnTo>
                    <a:pt x="379" y="29"/>
                  </a:lnTo>
                  <a:lnTo>
                    <a:pt x="375" y="24"/>
                  </a:lnTo>
                  <a:lnTo>
                    <a:pt x="369" y="19"/>
                  </a:lnTo>
                  <a:lnTo>
                    <a:pt x="365" y="16"/>
                  </a:lnTo>
                  <a:lnTo>
                    <a:pt x="358" y="13"/>
                  </a:lnTo>
                  <a:lnTo>
                    <a:pt x="353" y="9"/>
                  </a:lnTo>
                  <a:lnTo>
                    <a:pt x="342" y="5"/>
                  </a:lnTo>
                  <a:lnTo>
                    <a:pt x="332" y="3"/>
                  </a:lnTo>
                  <a:lnTo>
                    <a:pt x="319" y="0"/>
                  </a:lnTo>
                  <a:lnTo>
                    <a:pt x="307" y="0"/>
                  </a:lnTo>
                  <a:lnTo>
                    <a:pt x="292" y="0"/>
                  </a:lnTo>
                  <a:lnTo>
                    <a:pt x="275" y="3"/>
                  </a:lnTo>
                  <a:lnTo>
                    <a:pt x="258" y="6"/>
                  </a:lnTo>
                  <a:lnTo>
                    <a:pt x="238" y="14"/>
                  </a:lnTo>
                  <a:lnTo>
                    <a:pt x="215" y="19"/>
                  </a:lnTo>
                  <a:lnTo>
                    <a:pt x="197" y="26"/>
                  </a:lnTo>
                  <a:lnTo>
                    <a:pt x="179" y="32"/>
                  </a:lnTo>
                  <a:lnTo>
                    <a:pt x="162" y="39"/>
                  </a:lnTo>
                  <a:lnTo>
                    <a:pt x="147" y="47"/>
                  </a:lnTo>
                  <a:lnTo>
                    <a:pt x="134" y="54"/>
                  </a:lnTo>
                  <a:lnTo>
                    <a:pt x="122" y="60"/>
                  </a:lnTo>
                  <a:lnTo>
                    <a:pt x="112" y="68"/>
                  </a:lnTo>
                  <a:lnTo>
                    <a:pt x="101" y="72"/>
                  </a:lnTo>
                  <a:lnTo>
                    <a:pt x="92" y="79"/>
                  </a:lnTo>
                  <a:lnTo>
                    <a:pt x="85" y="84"/>
                  </a:lnTo>
                  <a:lnTo>
                    <a:pt x="80" y="89"/>
                  </a:lnTo>
                  <a:lnTo>
                    <a:pt x="72" y="96"/>
                  </a:lnTo>
                  <a:lnTo>
                    <a:pt x="70" y="98"/>
                  </a:lnTo>
                  <a:lnTo>
                    <a:pt x="67" y="98"/>
                  </a:lnTo>
                  <a:lnTo>
                    <a:pt x="65" y="102"/>
                  </a:lnTo>
                  <a:lnTo>
                    <a:pt x="59" y="107"/>
                  </a:lnTo>
                  <a:lnTo>
                    <a:pt x="54" y="117"/>
                  </a:lnTo>
                  <a:lnTo>
                    <a:pt x="45" y="125"/>
                  </a:lnTo>
                  <a:lnTo>
                    <a:pt x="39" y="139"/>
                  </a:lnTo>
                  <a:lnTo>
                    <a:pt x="31" y="153"/>
                  </a:lnTo>
                  <a:lnTo>
                    <a:pt x="23" y="170"/>
                  </a:lnTo>
                  <a:lnTo>
                    <a:pt x="15" y="187"/>
                  </a:lnTo>
                  <a:lnTo>
                    <a:pt x="10" y="208"/>
                  </a:lnTo>
                  <a:lnTo>
                    <a:pt x="4" y="230"/>
                  </a:lnTo>
                  <a:lnTo>
                    <a:pt x="2" y="256"/>
                  </a:lnTo>
                  <a:lnTo>
                    <a:pt x="0" y="280"/>
                  </a:lnTo>
                  <a:lnTo>
                    <a:pt x="2" y="309"/>
                  </a:lnTo>
                  <a:lnTo>
                    <a:pt x="7" y="339"/>
                  </a:lnTo>
                  <a:lnTo>
                    <a:pt x="14" y="370"/>
                  </a:lnTo>
                  <a:lnTo>
                    <a:pt x="15" y="373"/>
                  </a:lnTo>
                  <a:lnTo>
                    <a:pt x="18" y="377"/>
                  </a:lnTo>
                  <a:lnTo>
                    <a:pt x="21" y="385"/>
                  </a:lnTo>
                  <a:lnTo>
                    <a:pt x="23" y="393"/>
                  </a:lnTo>
                  <a:lnTo>
                    <a:pt x="30" y="402"/>
                  </a:lnTo>
                  <a:lnTo>
                    <a:pt x="34" y="412"/>
                  </a:lnTo>
                  <a:lnTo>
                    <a:pt x="43" y="424"/>
                  </a:lnTo>
                  <a:lnTo>
                    <a:pt x="49" y="435"/>
                  </a:lnTo>
                  <a:lnTo>
                    <a:pt x="57" y="447"/>
                  </a:lnTo>
                  <a:lnTo>
                    <a:pt x="66" y="459"/>
                  </a:lnTo>
                  <a:lnTo>
                    <a:pt x="77" y="473"/>
                  </a:lnTo>
                  <a:lnTo>
                    <a:pt x="87" y="484"/>
                  </a:lnTo>
                  <a:lnTo>
                    <a:pt x="99" y="495"/>
                  </a:lnTo>
                  <a:lnTo>
                    <a:pt x="112" y="505"/>
                  </a:lnTo>
                  <a:lnTo>
                    <a:pt x="126" y="515"/>
                  </a:lnTo>
                  <a:lnTo>
                    <a:pt x="321" y="596"/>
                  </a:lnTo>
                  <a:lnTo>
                    <a:pt x="322" y="599"/>
                  </a:lnTo>
                  <a:lnTo>
                    <a:pt x="326" y="606"/>
                  </a:lnTo>
                  <a:lnTo>
                    <a:pt x="328" y="612"/>
                  </a:lnTo>
                  <a:lnTo>
                    <a:pt x="330" y="617"/>
                  </a:lnTo>
                  <a:lnTo>
                    <a:pt x="335" y="624"/>
                  </a:lnTo>
                  <a:lnTo>
                    <a:pt x="340" y="631"/>
                  </a:lnTo>
                  <a:lnTo>
                    <a:pt x="344" y="637"/>
                  </a:lnTo>
                  <a:lnTo>
                    <a:pt x="350" y="644"/>
                  </a:lnTo>
                  <a:lnTo>
                    <a:pt x="356" y="651"/>
                  </a:lnTo>
                  <a:lnTo>
                    <a:pt x="363" y="656"/>
                  </a:lnTo>
                  <a:lnTo>
                    <a:pt x="368" y="660"/>
                  </a:lnTo>
                  <a:lnTo>
                    <a:pt x="375" y="664"/>
                  </a:lnTo>
                  <a:lnTo>
                    <a:pt x="381" y="667"/>
                  </a:lnTo>
                  <a:lnTo>
                    <a:pt x="389" y="670"/>
                  </a:lnTo>
                  <a:lnTo>
                    <a:pt x="390" y="673"/>
                  </a:lnTo>
                  <a:lnTo>
                    <a:pt x="396" y="681"/>
                  </a:lnTo>
                  <a:lnTo>
                    <a:pt x="398" y="687"/>
                  </a:lnTo>
                  <a:lnTo>
                    <a:pt x="402" y="694"/>
                  </a:lnTo>
                  <a:lnTo>
                    <a:pt x="407" y="700"/>
                  </a:lnTo>
                  <a:lnTo>
                    <a:pt x="412" y="709"/>
                  </a:lnTo>
                  <a:lnTo>
                    <a:pt x="417" y="715"/>
                  </a:lnTo>
                  <a:lnTo>
                    <a:pt x="421" y="721"/>
                  </a:lnTo>
                  <a:lnTo>
                    <a:pt x="427" y="728"/>
                  </a:lnTo>
                  <a:lnTo>
                    <a:pt x="432" y="735"/>
                  </a:lnTo>
                  <a:lnTo>
                    <a:pt x="437" y="740"/>
                  </a:lnTo>
                  <a:lnTo>
                    <a:pt x="442" y="744"/>
                  </a:lnTo>
                  <a:lnTo>
                    <a:pt x="445" y="747"/>
                  </a:lnTo>
                  <a:lnTo>
                    <a:pt x="451" y="750"/>
                  </a:lnTo>
                  <a:lnTo>
                    <a:pt x="456" y="750"/>
                  </a:lnTo>
                  <a:lnTo>
                    <a:pt x="463" y="750"/>
                  </a:lnTo>
                  <a:lnTo>
                    <a:pt x="468" y="749"/>
                  </a:lnTo>
                  <a:lnTo>
                    <a:pt x="471" y="747"/>
                  </a:lnTo>
                  <a:lnTo>
                    <a:pt x="473" y="743"/>
                  </a:lnTo>
                  <a:lnTo>
                    <a:pt x="474" y="738"/>
                  </a:lnTo>
                  <a:lnTo>
                    <a:pt x="473" y="731"/>
                  </a:lnTo>
                  <a:lnTo>
                    <a:pt x="471" y="723"/>
                  </a:lnTo>
                  <a:lnTo>
                    <a:pt x="469" y="718"/>
                  </a:lnTo>
                  <a:lnTo>
                    <a:pt x="468" y="712"/>
                  </a:lnTo>
                  <a:lnTo>
                    <a:pt x="465" y="707"/>
                  </a:lnTo>
                  <a:lnTo>
                    <a:pt x="463" y="701"/>
                  </a:lnTo>
                  <a:lnTo>
                    <a:pt x="460" y="695"/>
                  </a:lnTo>
                  <a:lnTo>
                    <a:pt x="458" y="688"/>
                  </a:lnTo>
                  <a:lnTo>
                    <a:pt x="455" y="683"/>
                  </a:lnTo>
                  <a:lnTo>
                    <a:pt x="454" y="676"/>
                  </a:lnTo>
                  <a:lnTo>
                    <a:pt x="451" y="670"/>
                  </a:lnTo>
                  <a:lnTo>
                    <a:pt x="449" y="664"/>
                  </a:lnTo>
                  <a:lnTo>
                    <a:pt x="447" y="659"/>
                  </a:lnTo>
                  <a:lnTo>
                    <a:pt x="445" y="656"/>
                  </a:lnTo>
                  <a:lnTo>
                    <a:pt x="443" y="651"/>
                  </a:lnTo>
                  <a:lnTo>
                    <a:pt x="443" y="648"/>
                  </a:lnTo>
                  <a:lnTo>
                    <a:pt x="443" y="646"/>
                  </a:lnTo>
                  <a:lnTo>
                    <a:pt x="444" y="645"/>
                  </a:lnTo>
                  <a:lnTo>
                    <a:pt x="447" y="643"/>
                  </a:lnTo>
                  <a:lnTo>
                    <a:pt x="453" y="645"/>
                  </a:lnTo>
                  <a:lnTo>
                    <a:pt x="454" y="645"/>
                  </a:lnTo>
                  <a:lnTo>
                    <a:pt x="456" y="649"/>
                  </a:lnTo>
                  <a:lnTo>
                    <a:pt x="460" y="653"/>
                  </a:lnTo>
                  <a:lnTo>
                    <a:pt x="464" y="660"/>
                  </a:lnTo>
                  <a:lnTo>
                    <a:pt x="468" y="666"/>
                  </a:lnTo>
                  <a:lnTo>
                    <a:pt x="472" y="674"/>
                  </a:lnTo>
                  <a:lnTo>
                    <a:pt x="479" y="683"/>
                  </a:lnTo>
                  <a:lnTo>
                    <a:pt x="484" y="691"/>
                  </a:lnTo>
                  <a:lnTo>
                    <a:pt x="490" y="698"/>
                  </a:lnTo>
                  <a:lnTo>
                    <a:pt x="495" y="707"/>
                  </a:lnTo>
                  <a:lnTo>
                    <a:pt x="501" y="712"/>
                  </a:lnTo>
                  <a:lnTo>
                    <a:pt x="508" y="720"/>
                  </a:lnTo>
                  <a:lnTo>
                    <a:pt x="514" y="723"/>
                  </a:lnTo>
                  <a:lnTo>
                    <a:pt x="522" y="727"/>
                  </a:lnTo>
                  <a:lnTo>
                    <a:pt x="527" y="729"/>
                  </a:lnTo>
                  <a:lnTo>
                    <a:pt x="535" y="729"/>
                  </a:lnTo>
                  <a:lnTo>
                    <a:pt x="538" y="725"/>
                  </a:lnTo>
                  <a:lnTo>
                    <a:pt x="542" y="720"/>
                  </a:lnTo>
                  <a:lnTo>
                    <a:pt x="543" y="712"/>
                  </a:lnTo>
                  <a:lnTo>
                    <a:pt x="544" y="706"/>
                  </a:lnTo>
                  <a:lnTo>
                    <a:pt x="542" y="697"/>
                  </a:lnTo>
                  <a:lnTo>
                    <a:pt x="541" y="688"/>
                  </a:lnTo>
                  <a:lnTo>
                    <a:pt x="537" y="679"/>
                  </a:lnTo>
                  <a:lnTo>
                    <a:pt x="535" y="672"/>
                  </a:lnTo>
                  <a:lnTo>
                    <a:pt x="531" y="663"/>
                  </a:lnTo>
                  <a:lnTo>
                    <a:pt x="526" y="653"/>
                  </a:lnTo>
                  <a:lnTo>
                    <a:pt x="523" y="645"/>
                  </a:lnTo>
                  <a:lnTo>
                    <a:pt x="520" y="639"/>
                  </a:lnTo>
                  <a:lnTo>
                    <a:pt x="516" y="632"/>
                  </a:lnTo>
                  <a:lnTo>
                    <a:pt x="514" y="628"/>
                  </a:lnTo>
                  <a:lnTo>
                    <a:pt x="513" y="625"/>
                  </a:lnTo>
                  <a:lnTo>
                    <a:pt x="514" y="625"/>
                  </a:lnTo>
                  <a:lnTo>
                    <a:pt x="520" y="630"/>
                  </a:lnTo>
                  <a:lnTo>
                    <a:pt x="527" y="633"/>
                  </a:lnTo>
                  <a:lnTo>
                    <a:pt x="537" y="639"/>
                  </a:lnTo>
                  <a:lnTo>
                    <a:pt x="546" y="645"/>
                  </a:lnTo>
                  <a:lnTo>
                    <a:pt x="556" y="652"/>
                  </a:lnTo>
                  <a:lnTo>
                    <a:pt x="564" y="657"/>
                  </a:lnTo>
                  <a:lnTo>
                    <a:pt x="569" y="663"/>
                  </a:lnTo>
                  <a:lnTo>
                    <a:pt x="571" y="666"/>
                  </a:lnTo>
                  <a:lnTo>
                    <a:pt x="578" y="670"/>
                  </a:lnTo>
                  <a:lnTo>
                    <a:pt x="585" y="674"/>
                  </a:lnTo>
                  <a:lnTo>
                    <a:pt x="592" y="676"/>
                  </a:lnTo>
                  <a:lnTo>
                    <a:pt x="600" y="677"/>
                  </a:lnTo>
                  <a:lnTo>
                    <a:pt x="607" y="678"/>
                  </a:lnTo>
                  <a:lnTo>
                    <a:pt x="612" y="677"/>
                  </a:lnTo>
                  <a:lnTo>
                    <a:pt x="617" y="676"/>
                  </a:lnTo>
                  <a:lnTo>
                    <a:pt x="617" y="674"/>
                  </a:lnTo>
                  <a:lnTo>
                    <a:pt x="617" y="669"/>
                  </a:lnTo>
                  <a:lnTo>
                    <a:pt x="615" y="663"/>
                  </a:lnTo>
                  <a:lnTo>
                    <a:pt x="612" y="658"/>
                  </a:lnTo>
                  <a:lnTo>
                    <a:pt x="607" y="649"/>
                  </a:lnTo>
                  <a:lnTo>
                    <a:pt x="604" y="641"/>
                  </a:lnTo>
                  <a:lnTo>
                    <a:pt x="597" y="631"/>
                  </a:lnTo>
                  <a:lnTo>
                    <a:pt x="592" y="622"/>
                  </a:lnTo>
                  <a:lnTo>
                    <a:pt x="585" y="611"/>
                  </a:lnTo>
                  <a:lnTo>
                    <a:pt x="578" y="602"/>
                  </a:lnTo>
                  <a:lnTo>
                    <a:pt x="570" y="592"/>
                  </a:lnTo>
                  <a:lnTo>
                    <a:pt x="564" y="582"/>
                  </a:lnTo>
                  <a:lnTo>
                    <a:pt x="557" y="573"/>
                  </a:lnTo>
                  <a:lnTo>
                    <a:pt x="550" y="566"/>
                  </a:lnTo>
                  <a:lnTo>
                    <a:pt x="545" y="560"/>
                  </a:lnTo>
                  <a:lnTo>
                    <a:pt x="539" y="557"/>
                  </a:lnTo>
                  <a:lnTo>
                    <a:pt x="534" y="551"/>
                  </a:lnTo>
                  <a:lnTo>
                    <a:pt x="527" y="549"/>
                  </a:lnTo>
                  <a:lnTo>
                    <a:pt x="523" y="547"/>
                  </a:lnTo>
                  <a:lnTo>
                    <a:pt x="518" y="547"/>
                  </a:lnTo>
                  <a:lnTo>
                    <a:pt x="511" y="547"/>
                  </a:lnTo>
                  <a:lnTo>
                    <a:pt x="505" y="551"/>
                  </a:lnTo>
                  <a:lnTo>
                    <a:pt x="501" y="555"/>
                  </a:lnTo>
                  <a:lnTo>
                    <a:pt x="497" y="560"/>
                  </a:lnTo>
                  <a:lnTo>
                    <a:pt x="496" y="563"/>
                  </a:lnTo>
                  <a:lnTo>
                    <a:pt x="496" y="565"/>
                  </a:lnTo>
                  <a:lnTo>
                    <a:pt x="484" y="571"/>
                  </a:lnTo>
                  <a:lnTo>
                    <a:pt x="481" y="566"/>
                  </a:lnTo>
                  <a:lnTo>
                    <a:pt x="474" y="559"/>
                  </a:lnTo>
                  <a:lnTo>
                    <a:pt x="469" y="554"/>
                  </a:lnTo>
                  <a:lnTo>
                    <a:pt x="464" y="551"/>
                  </a:lnTo>
                  <a:lnTo>
                    <a:pt x="459" y="549"/>
                  </a:lnTo>
                  <a:lnTo>
                    <a:pt x="454" y="550"/>
                  </a:lnTo>
                  <a:lnTo>
                    <a:pt x="443" y="555"/>
                  </a:lnTo>
                  <a:lnTo>
                    <a:pt x="438" y="564"/>
                  </a:lnTo>
                  <a:lnTo>
                    <a:pt x="433" y="571"/>
                  </a:lnTo>
                  <a:lnTo>
                    <a:pt x="432" y="575"/>
                  </a:lnTo>
                  <a:lnTo>
                    <a:pt x="358" y="524"/>
                  </a:lnTo>
                  <a:lnTo>
                    <a:pt x="451" y="497"/>
                  </a:lnTo>
                  <a:lnTo>
                    <a:pt x="625" y="522"/>
                  </a:lnTo>
                  <a:lnTo>
                    <a:pt x="623" y="522"/>
                  </a:lnTo>
                  <a:lnTo>
                    <a:pt x="622" y="526"/>
                  </a:lnTo>
                  <a:lnTo>
                    <a:pt x="621" y="530"/>
                  </a:lnTo>
                  <a:lnTo>
                    <a:pt x="620" y="536"/>
                  </a:lnTo>
                  <a:lnTo>
                    <a:pt x="619" y="541"/>
                  </a:lnTo>
                  <a:lnTo>
                    <a:pt x="618" y="547"/>
                  </a:lnTo>
                  <a:lnTo>
                    <a:pt x="618" y="551"/>
                  </a:lnTo>
                  <a:lnTo>
                    <a:pt x="619" y="557"/>
                  </a:lnTo>
                  <a:lnTo>
                    <a:pt x="621" y="560"/>
                  </a:lnTo>
                  <a:lnTo>
                    <a:pt x="627" y="569"/>
                  </a:lnTo>
                  <a:lnTo>
                    <a:pt x="636" y="576"/>
                  </a:lnTo>
                  <a:lnTo>
                    <a:pt x="646" y="586"/>
                  </a:lnTo>
                  <a:lnTo>
                    <a:pt x="654" y="594"/>
                  </a:lnTo>
                  <a:lnTo>
                    <a:pt x="664" y="603"/>
                  </a:lnTo>
                  <a:lnTo>
                    <a:pt x="672" y="609"/>
                  </a:lnTo>
                  <a:lnTo>
                    <a:pt x="681" y="614"/>
                  </a:lnTo>
                  <a:lnTo>
                    <a:pt x="685" y="614"/>
                  </a:lnTo>
                  <a:lnTo>
                    <a:pt x="692" y="614"/>
                  </a:lnTo>
                  <a:lnTo>
                    <a:pt x="696" y="611"/>
                  </a:lnTo>
                  <a:lnTo>
                    <a:pt x="701" y="607"/>
                  </a:lnTo>
                  <a:lnTo>
                    <a:pt x="700" y="601"/>
                  </a:lnTo>
                  <a:lnTo>
                    <a:pt x="695" y="592"/>
                  </a:lnTo>
                  <a:lnTo>
                    <a:pt x="692" y="585"/>
                  </a:lnTo>
                  <a:lnTo>
                    <a:pt x="686" y="581"/>
                  </a:lnTo>
                  <a:lnTo>
                    <a:pt x="680" y="573"/>
                  </a:lnTo>
                  <a:lnTo>
                    <a:pt x="672" y="566"/>
                  </a:lnTo>
                  <a:lnTo>
                    <a:pt x="695" y="550"/>
                  </a:lnTo>
                  <a:lnTo>
                    <a:pt x="699" y="551"/>
                  </a:lnTo>
                  <a:lnTo>
                    <a:pt x="703" y="553"/>
                  </a:lnTo>
                  <a:lnTo>
                    <a:pt x="709" y="557"/>
                  </a:lnTo>
                  <a:lnTo>
                    <a:pt x="715" y="559"/>
                  </a:lnTo>
                  <a:lnTo>
                    <a:pt x="723" y="563"/>
                  </a:lnTo>
                  <a:lnTo>
                    <a:pt x="732" y="568"/>
                  </a:lnTo>
                  <a:lnTo>
                    <a:pt x="741" y="572"/>
                  </a:lnTo>
                  <a:lnTo>
                    <a:pt x="749" y="576"/>
                  </a:lnTo>
                  <a:lnTo>
                    <a:pt x="758" y="581"/>
                  </a:lnTo>
                  <a:lnTo>
                    <a:pt x="766" y="584"/>
                  </a:lnTo>
                  <a:lnTo>
                    <a:pt x="775" y="589"/>
                  </a:lnTo>
                  <a:lnTo>
                    <a:pt x="782" y="592"/>
                  </a:lnTo>
                  <a:lnTo>
                    <a:pt x="788" y="594"/>
                  </a:lnTo>
                  <a:lnTo>
                    <a:pt x="794" y="596"/>
                  </a:lnTo>
                  <a:lnTo>
                    <a:pt x="798" y="599"/>
                  </a:lnTo>
                  <a:lnTo>
                    <a:pt x="804" y="599"/>
                  </a:lnTo>
                  <a:lnTo>
                    <a:pt x="810" y="597"/>
                  </a:lnTo>
                  <a:lnTo>
                    <a:pt x="814" y="594"/>
                  </a:lnTo>
                  <a:lnTo>
                    <a:pt x="818" y="593"/>
                  </a:lnTo>
                  <a:lnTo>
                    <a:pt x="822" y="584"/>
                  </a:lnTo>
                  <a:lnTo>
                    <a:pt x="826" y="580"/>
                  </a:lnTo>
                  <a:lnTo>
                    <a:pt x="822" y="574"/>
                  </a:lnTo>
                  <a:lnTo>
                    <a:pt x="816" y="569"/>
                  </a:lnTo>
                  <a:lnTo>
                    <a:pt x="810" y="563"/>
                  </a:lnTo>
                  <a:lnTo>
                    <a:pt x="806" y="560"/>
                  </a:lnTo>
                  <a:lnTo>
                    <a:pt x="800" y="555"/>
                  </a:lnTo>
                  <a:lnTo>
                    <a:pt x="796" y="552"/>
                  </a:lnTo>
                  <a:lnTo>
                    <a:pt x="789" y="547"/>
                  </a:lnTo>
                  <a:lnTo>
                    <a:pt x="784" y="543"/>
                  </a:lnTo>
                  <a:lnTo>
                    <a:pt x="778" y="539"/>
                  </a:lnTo>
                  <a:lnTo>
                    <a:pt x="775" y="536"/>
                  </a:lnTo>
                  <a:lnTo>
                    <a:pt x="767" y="531"/>
                  </a:lnTo>
                  <a:lnTo>
                    <a:pt x="765" y="530"/>
                  </a:lnTo>
                  <a:lnTo>
                    <a:pt x="768" y="530"/>
                  </a:lnTo>
                  <a:lnTo>
                    <a:pt x="772" y="531"/>
                  </a:lnTo>
                  <a:lnTo>
                    <a:pt x="777" y="533"/>
                  </a:lnTo>
                  <a:lnTo>
                    <a:pt x="783" y="536"/>
                  </a:lnTo>
                  <a:lnTo>
                    <a:pt x="789" y="537"/>
                  </a:lnTo>
                  <a:lnTo>
                    <a:pt x="797" y="540"/>
                  </a:lnTo>
                  <a:lnTo>
                    <a:pt x="806" y="543"/>
                  </a:lnTo>
                  <a:lnTo>
                    <a:pt x="814" y="545"/>
                  </a:lnTo>
                  <a:lnTo>
                    <a:pt x="821" y="547"/>
                  </a:lnTo>
                  <a:lnTo>
                    <a:pt x="829" y="549"/>
                  </a:lnTo>
                  <a:lnTo>
                    <a:pt x="837" y="551"/>
                  </a:lnTo>
                  <a:lnTo>
                    <a:pt x="843" y="552"/>
                  </a:lnTo>
                  <a:lnTo>
                    <a:pt x="850" y="554"/>
                  </a:lnTo>
                  <a:lnTo>
                    <a:pt x="856" y="555"/>
                  </a:lnTo>
                  <a:lnTo>
                    <a:pt x="859" y="557"/>
                  </a:lnTo>
                  <a:lnTo>
                    <a:pt x="869" y="552"/>
                  </a:lnTo>
                  <a:lnTo>
                    <a:pt x="878" y="544"/>
                  </a:lnTo>
                  <a:lnTo>
                    <a:pt x="882" y="534"/>
                  </a:lnTo>
                  <a:lnTo>
                    <a:pt x="884" y="528"/>
                  </a:lnTo>
                  <a:lnTo>
                    <a:pt x="881" y="524"/>
                  </a:lnTo>
                  <a:lnTo>
                    <a:pt x="879" y="523"/>
                  </a:lnTo>
                  <a:lnTo>
                    <a:pt x="874" y="520"/>
                  </a:lnTo>
                  <a:lnTo>
                    <a:pt x="869" y="517"/>
                  </a:lnTo>
                  <a:lnTo>
                    <a:pt x="862" y="512"/>
                  </a:lnTo>
                  <a:lnTo>
                    <a:pt x="856" y="509"/>
                  </a:lnTo>
                  <a:lnTo>
                    <a:pt x="848" y="503"/>
                  </a:lnTo>
                  <a:lnTo>
                    <a:pt x="841" y="500"/>
                  </a:lnTo>
                  <a:lnTo>
                    <a:pt x="832" y="496"/>
                  </a:lnTo>
                  <a:lnTo>
                    <a:pt x="825" y="491"/>
                  </a:lnTo>
                  <a:lnTo>
                    <a:pt x="818" y="488"/>
                  </a:lnTo>
                  <a:lnTo>
                    <a:pt x="812" y="485"/>
                  </a:lnTo>
                  <a:lnTo>
                    <a:pt x="807" y="481"/>
                  </a:lnTo>
                  <a:lnTo>
                    <a:pt x="804" y="479"/>
                  </a:lnTo>
                  <a:lnTo>
                    <a:pt x="800" y="478"/>
                  </a:lnTo>
                  <a:lnTo>
                    <a:pt x="816" y="471"/>
                  </a:lnTo>
                  <a:lnTo>
                    <a:pt x="820" y="474"/>
                  </a:lnTo>
                  <a:lnTo>
                    <a:pt x="824" y="476"/>
                  </a:lnTo>
                  <a:lnTo>
                    <a:pt x="831" y="479"/>
                  </a:lnTo>
                  <a:lnTo>
                    <a:pt x="837" y="482"/>
                  </a:lnTo>
                  <a:lnTo>
                    <a:pt x="846" y="488"/>
                  </a:lnTo>
                  <a:lnTo>
                    <a:pt x="856" y="490"/>
                  </a:lnTo>
                  <a:lnTo>
                    <a:pt x="866" y="496"/>
                  </a:lnTo>
                  <a:lnTo>
                    <a:pt x="874" y="499"/>
                  </a:lnTo>
                  <a:lnTo>
                    <a:pt x="883" y="502"/>
                  </a:lnTo>
                  <a:lnTo>
                    <a:pt x="892" y="505"/>
                  </a:lnTo>
                  <a:lnTo>
                    <a:pt x="901" y="508"/>
                  </a:lnTo>
                  <a:lnTo>
                    <a:pt x="908" y="508"/>
                  </a:lnTo>
                  <a:lnTo>
                    <a:pt x="914" y="508"/>
                  </a:lnTo>
                  <a:lnTo>
                    <a:pt x="919" y="506"/>
                  </a:lnTo>
                  <a:lnTo>
                    <a:pt x="923" y="502"/>
                  </a:lnTo>
                  <a:lnTo>
                    <a:pt x="924" y="494"/>
                  </a:lnTo>
                  <a:lnTo>
                    <a:pt x="925" y="488"/>
                  </a:lnTo>
                  <a:lnTo>
                    <a:pt x="924" y="481"/>
                  </a:lnTo>
                  <a:lnTo>
                    <a:pt x="923" y="478"/>
                  </a:lnTo>
                  <a:lnTo>
                    <a:pt x="915" y="474"/>
                  </a:lnTo>
                  <a:lnTo>
                    <a:pt x="910" y="471"/>
                  </a:lnTo>
                  <a:lnTo>
                    <a:pt x="904" y="468"/>
                  </a:lnTo>
                  <a:lnTo>
                    <a:pt x="900" y="467"/>
                  </a:lnTo>
                  <a:lnTo>
                    <a:pt x="893" y="464"/>
                  </a:lnTo>
                  <a:lnTo>
                    <a:pt x="888" y="461"/>
                  </a:lnTo>
                  <a:lnTo>
                    <a:pt x="880" y="458"/>
                  </a:lnTo>
                  <a:lnTo>
                    <a:pt x="874" y="455"/>
                  </a:lnTo>
                  <a:lnTo>
                    <a:pt x="869" y="454"/>
                  </a:lnTo>
                  <a:lnTo>
                    <a:pt x="867" y="454"/>
                  </a:lnTo>
                  <a:lnTo>
                    <a:pt x="860" y="450"/>
                  </a:lnTo>
                  <a:lnTo>
                    <a:pt x="853" y="448"/>
                  </a:lnTo>
                  <a:lnTo>
                    <a:pt x="843" y="444"/>
                  </a:lnTo>
                  <a:lnTo>
                    <a:pt x="835" y="440"/>
                  </a:lnTo>
                  <a:lnTo>
                    <a:pt x="825" y="436"/>
                  </a:lnTo>
                  <a:lnTo>
                    <a:pt x="818" y="433"/>
                  </a:lnTo>
                  <a:lnTo>
                    <a:pt x="811" y="431"/>
                  </a:lnTo>
                  <a:lnTo>
                    <a:pt x="810" y="431"/>
                  </a:lnTo>
                  <a:lnTo>
                    <a:pt x="783" y="423"/>
                  </a:lnTo>
                  <a:lnTo>
                    <a:pt x="783" y="423"/>
                  </a:lnTo>
                  <a:close/>
                </a:path>
              </a:pathLst>
            </a:custGeom>
            <a:solidFill>
              <a:srgbClr val="4d3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462680" y="5211000"/>
              <a:ext cx="105120" cy="38160"/>
            </a:xfrm>
            <a:custGeom>
              <a:avLst/>
              <a:gdLst/>
              <a:ahLst/>
              <a:rect l="l" t="t" r="r" b="b"/>
              <a:pathLst>
                <a:path w="197" h="72">
                  <a:moveTo>
                    <a:pt x="5" y="43"/>
                  </a:moveTo>
                  <a:lnTo>
                    <a:pt x="0" y="18"/>
                  </a:lnTo>
                  <a:lnTo>
                    <a:pt x="10" y="18"/>
                  </a:lnTo>
                  <a:lnTo>
                    <a:pt x="11" y="38"/>
                  </a:lnTo>
                  <a:lnTo>
                    <a:pt x="36" y="35"/>
                  </a:lnTo>
                  <a:lnTo>
                    <a:pt x="34" y="8"/>
                  </a:lnTo>
                  <a:lnTo>
                    <a:pt x="44" y="5"/>
                  </a:lnTo>
                  <a:lnTo>
                    <a:pt x="45" y="31"/>
                  </a:lnTo>
                  <a:lnTo>
                    <a:pt x="62" y="30"/>
                  </a:lnTo>
                  <a:lnTo>
                    <a:pt x="62" y="0"/>
                  </a:lnTo>
                  <a:lnTo>
                    <a:pt x="74" y="4"/>
                  </a:lnTo>
                  <a:lnTo>
                    <a:pt x="72" y="33"/>
                  </a:lnTo>
                  <a:lnTo>
                    <a:pt x="93" y="38"/>
                  </a:lnTo>
                  <a:lnTo>
                    <a:pt x="96" y="10"/>
                  </a:lnTo>
                  <a:lnTo>
                    <a:pt x="110" y="14"/>
                  </a:lnTo>
                  <a:lnTo>
                    <a:pt x="103" y="39"/>
                  </a:lnTo>
                  <a:lnTo>
                    <a:pt x="125" y="48"/>
                  </a:lnTo>
                  <a:lnTo>
                    <a:pt x="131" y="21"/>
                  </a:lnTo>
                  <a:lnTo>
                    <a:pt x="145" y="25"/>
                  </a:lnTo>
                  <a:lnTo>
                    <a:pt x="133" y="49"/>
                  </a:lnTo>
                  <a:lnTo>
                    <a:pt x="149" y="54"/>
                  </a:lnTo>
                  <a:lnTo>
                    <a:pt x="156" y="31"/>
                  </a:lnTo>
                  <a:lnTo>
                    <a:pt x="168" y="35"/>
                  </a:lnTo>
                  <a:lnTo>
                    <a:pt x="154" y="57"/>
                  </a:lnTo>
                  <a:lnTo>
                    <a:pt x="175" y="64"/>
                  </a:lnTo>
                  <a:lnTo>
                    <a:pt x="182" y="41"/>
                  </a:lnTo>
                  <a:lnTo>
                    <a:pt x="197" y="51"/>
                  </a:lnTo>
                  <a:lnTo>
                    <a:pt x="180" y="72"/>
                  </a:lnTo>
                  <a:lnTo>
                    <a:pt x="120" y="54"/>
                  </a:lnTo>
                  <a:lnTo>
                    <a:pt x="59" y="43"/>
                  </a:lnTo>
                  <a:lnTo>
                    <a:pt x="5" y="43"/>
                  </a:lnTo>
                  <a:lnTo>
                    <a:pt x="5" y="43"/>
                  </a:lnTo>
                  <a:close/>
                </a:path>
              </a:pathLst>
            </a:custGeom>
            <a:solidFill>
              <a:srgbClr val="4d3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495080" y="5256720"/>
              <a:ext cx="93240" cy="61920"/>
            </a:xfrm>
            <a:custGeom>
              <a:avLst/>
              <a:gdLst/>
              <a:ahLst/>
              <a:rect l="l" t="t" r="r" b="b"/>
              <a:pathLst>
                <a:path w="175" h="115">
                  <a:moveTo>
                    <a:pt x="175" y="92"/>
                  </a:moveTo>
                  <a:lnTo>
                    <a:pt x="171" y="115"/>
                  </a:lnTo>
                  <a:lnTo>
                    <a:pt x="161" y="111"/>
                  </a:lnTo>
                  <a:lnTo>
                    <a:pt x="166" y="93"/>
                  </a:lnTo>
                  <a:lnTo>
                    <a:pt x="145" y="85"/>
                  </a:lnTo>
                  <a:lnTo>
                    <a:pt x="137" y="113"/>
                  </a:lnTo>
                  <a:lnTo>
                    <a:pt x="127" y="110"/>
                  </a:lnTo>
                  <a:lnTo>
                    <a:pt x="136" y="86"/>
                  </a:lnTo>
                  <a:lnTo>
                    <a:pt x="118" y="83"/>
                  </a:lnTo>
                  <a:lnTo>
                    <a:pt x="109" y="109"/>
                  </a:lnTo>
                  <a:lnTo>
                    <a:pt x="97" y="100"/>
                  </a:lnTo>
                  <a:lnTo>
                    <a:pt x="110" y="75"/>
                  </a:lnTo>
                  <a:lnTo>
                    <a:pt x="91" y="63"/>
                  </a:lnTo>
                  <a:lnTo>
                    <a:pt x="80" y="86"/>
                  </a:lnTo>
                  <a:lnTo>
                    <a:pt x="67" y="78"/>
                  </a:lnTo>
                  <a:lnTo>
                    <a:pt x="84" y="59"/>
                  </a:lnTo>
                  <a:lnTo>
                    <a:pt x="66" y="43"/>
                  </a:lnTo>
                  <a:lnTo>
                    <a:pt x="50" y="64"/>
                  </a:lnTo>
                  <a:lnTo>
                    <a:pt x="38" y="57"/>
                  </a:lnTo>
                  <a:lnTo>
                    <a:pt x="58" y="39"/>
                  </a:lnTo>
                  <a:lnTo>
                    <a:pt x="46" y="27"/>
                  </a:lnTo>
                  <a:lnTo>
                    <a:pt x="30" y="47"/>
                  </a:lnTo>
                  <a:lnTo>
                    <a:pt x="21" y="37"/>
                  </a:lnTo>
                  <a:lnTo>
                    <a:pt x="40" y="21"/>
                  </a:lnTo>
                  <a:lnTo>
                    <a:pt x="25" y="8"/>
                  </a:lnTo>
                  <a:lnTo>
                    <a:pt x="11" y="29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74" y="37"/>
                  </a:lnTo>
                  <a:lnTo>
                    <a:pt x="127" y="72"/>
                  </a:lnTo>
                  <a:lnTo>
                    <a:pt x="175" y="92"/>
                  </a:lnTo>
                  <a:lnTo>
                    <a:pt x="175" y="92"/>
                  </a:lnTo>
                  <a:close/>
                </a:path>
              </a:pathLst>
            </a:custGeom>
            <a:solidFill>
              <a:srgbClr val="4d3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-25920" y="3413160"/>
            <a:ext cx="279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What about </a:t>
            </a:r>
            <a:br>
              <a:rPr sz="3000"/>
            </a:b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flow back into </a:t>
            </a: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334120" y="4583160"/>
            <a:ext cx="2361960" cy="1969920"/>
            <a:chOff x="5334120" y="4583160"/>
            <a:chExt cx="2361960" cy="1969920"/>
          </a:xfrm>
        </p:grpSpPr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5334120" y="4583160"/>
              <a:ext cx="2361960" cy="196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" name=""/>
            <p:cNvGrpSpPr/>
            <p:nvPr/>
          </p:nvGrpSpPr>
          <p:grpSpPr>
            <a:xfrm>
              <a:off x="6477120" y="5922360"/>
              <a:ext cx="685800" cy="553680"/>
              <a:chOff x="6477120" y="5922360"/>
              <a:chExt cx="685800" cy="553680"/>
            </a:xfrm>
          </p:grpSpPr>
          <p:pic>
            <p:nvPicPr>
              <p:cNvPr id="175" name="" descr="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6657120" y="5970240"/>
                <a:ext cx="40644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6"/>
              <a:stretch/>
            </p:blipFill>
            <p:spPr>
              <a:xfrm flipH="1" rot="16200000">
                <a:off x="6576480" y="5823000"/>
                <a:ext cx="406440" cy="605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7" name=""/>
          <p:cNvGrpSpPr/>
          <p:nvPr/>
        </p:nvGrpSpPr>
        <p:grpSpPr>
          <a:xfrm>
            <a:off x="2971800" y="4266720"/>
            <a:ext cx="304920" cy="457560"/>
            <a:chOff x="2971800" y="4266720"/>
            <a:chExt cx="304920" cy="457560"/>
          </a:xfrm>
        </p:grpSpPr>
        <p:sp>
          <p:nvSpPr>
            <p:cNvPr id="178" name=""/>
            <p:cNvSpPr/>
            <p:nvPr/>
          </p:nvSpPr>
          <p:spPr>
            <a:xfrm flipV="1">
              <a:off x="2971800" y="426672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71800" y="4495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49568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997360" y="4241520"/>
            <a:ext cx="304560" cy="559080"/>
            <a:chOff x="2997360" y="4241520"/>
            <a:chExt cx="304560" cy="559080"/>
          </a:xfrm>
        </p:grpSpPr>
        <p:sp>
          <p:nvSpPr>
            <p:cNvPr id="182" name=""/>
            <p:cNvSpPr/>
            <p:nvPr/>
          </p:nvSpPr>
          <p:spPr>
            <a:xfrm flipV="1">
              <a:off x="2997360" y="4241520"/>
              <a:ext cx="3045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997360" y="452124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97360" y="4572000"/>
              <a:ext cx="3045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945480" y="3946680"/>
            <a:ext cx="2046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Goal: </a:t>
            </a:r>
            <a:br>
              <a:rPr sz="3000"/>
            </a:b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Max Flo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8" name="" descr=""/>
          <p:cNvPicPr/>
          <p:nvPr/>
        </p:nvPicPr>
        <p:blipFill>
          <a:blip r:embed="rId1"/>
          <a:stretch/>
        </p:blipFill>
        <p:spPr>
          <a:xfrm rot="16200000">
            <a:off x="2829600" y="2829240"/>
            <a:ext cx="3560760" cy="4495680"/>
          </a:xfrm>
          <a:prstGeom prst="rect">
            <a:avLst/>
          </a:prstGeom>
          <a:ln w="0">
            <a:noFill/>
          </a:ln>
        </p:spPr>
      </p:pic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n C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70" name=""/>
          <p:cNvGrpSpPr/>
          <p:nvPr/>
        </p:nvGrpSpPr>
        <p:grpSpPr>
          <a:xfrm>
            <a:off x="2336760" y="3276720"/>
            <a:ext cx="4595040" cy="3674880"/>
            <a:chOff x="2336760" y="3276720"/>
            <a:chExt cx="4595040" cy="3674880"/>
          </a:xfrm>
        </p:grpSpPr>
        <p:sp>
          <p:nvSpPr>
            <p:cNvPr id="1871" name=""/>
            <p:cNvSpPr/>
            <p:nvPr/>
          </p:nvSpPr>
          <p:spPr>
            <a:xfrm>
              <a:off x="2336760" y="3276720"/>
              <a:ext cx="328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645960" y="6400800"/>
              <a:ext cx="285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1523880" y="2895480"/>
            <a:ext cx="6851520" cy="3964320"/>
            <a:chOff x="1523880" y="2895480"/>
            <a:chExt cx="6851520" cy="3964320"/>
          </a:xfrm>
        </p:grpSpPr>
        <p:grpSp>
          <p:nvGrpSpPr>
            <p:cNvPr id="1874" name=""/>
            <p:cNvGrpSpPr/>
            <p:nvPr/>
          </p:nvGrpSpPr>
          <p:grpSpPr>
            <a:xfrm>
              <a:off x="1523880" y="2895480"/>
              <a:ext cx="951120" cy="1164240"/>
              <a:chOff x="1523880" y="2895480"/>
              <a:chExt cx="951120" cy="1164240"/>
            </a:xfrm>
          </p:grpSpPr>
          <p:pic>
            <p:nvPicPr>
              <p:cNvPr id="187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3880" y="2895480"/>
                <a:ext cx="951120" cy="85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6" name=""/>
              <p:cNvSpPr/>
              <p:nvPr/>
            </p:nvSpPr>
            <p:spPr>
              <a:xfrm>
                <a:off x="1560600" y="3660840"/>
                <a:ext cx="70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or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6858000" y="5697360"/>
              <a:ext cx="1517400" cy="1162440"/>
              <a:chOff x="6858000" y="5697360"/>
              <a:chExt cx="1517400" cy="1162440"/>
            </a:xfrm>
          </p:grpSpPr>
          <p:pic>
            <p:nvPicPr>
              <p:cNvPr id="187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149960" y="5697360"/>
                <a:ext cx="950760" cy="85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9" name=""/>
              <p:cNvSpPr/>
              <p:nvPr/>
            </p:nvSpPr>
            <p:spPr>
              <a:xfrm>
                <a:off x="6858000" y="6460920"/>
                <a:ext cx="151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UC Berkeley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0" name=""/>
          <p:cNvGrpSpPr/>
          <p:nvPr/>
        </p:nvGrpSpPr>
        <p:grpSpPr>
          <a:xfrm>
            <a:off x="2235240" y="2625840"/>
            <a:ext cx="6299280" cy="4233600"/>
            <a:chOff x="2235240" y="2625840"/>
            <a:chExt cx="6299280" cy="4233600"/>
          </a:xfrm>
        </p:grpSpPr>
        <p:sp>
          <p:nvSpPr>
            <p:cNvPr id="1881" name=""/>
            <p:cNvSpPr/>
            <p:nvPr/>
          </p:nvSpPr>
          <p:spPr>
            <a:xfrm>
              <a:off x="2235240" y="3427560"/>
              <a:ext cx="6299280" cy="3282840"/>
            </a:xfrm>
            <a:custGeom>
              <a:avLst/>
              <a:gdLst/>
              <a:ahLst/>
              <a:rect l="l" t="t" r="r" b="b"/>
              <a:pathLst>
                <a:path w="3968" h="2068">
                  <a:moveTo>
                    <a:pt x="0" y="377"/>
                  </a:moveTo>
                  <a:cubicBezTo>
                    <a:pt x="75" y="444"/>
                    <a:pt x="373" y="778"/>
                    <a:pt x="448" y="777"/>
                  </a:cubicBezTo>
                  <a:cubicBezTo>
                    <a:pt x="523" y="776"/>
                    <a:pt x="385" y="349"/>
                    <a:pt x="448" y="369"/>
                  </a:cubicBezTo>
                  <a:cubicBezTo>
                    <a:pt x="511" y="389"/>
                    <a:pt x="835" y="780"/>
                    <a:pt x="824" y="897"/>
                  </a:cubicBezTo>
                  <a:cubicBezTo>
                    <a:pt x="813" y="1014"/>
                    <a:pt x="441" y="945"/>
                    <a:pt x="384" y="1073"/>
                  </a:cubicBezTo>
                  <a:cubicBezTo>
                    <a:pt x="327" y="1201"/>
                    <a:pt x="428" y="1642"/>
                    <a:pt x="480" y="1665"/>
                  </a:cubicBezTo>
                  <a:cubicBezTo>
                    <a:pt x="532" y="1688"/>
                    <a:pt x="652" y="1164"/>
                    <a:pt x="696" y="1209"/>
                  </a:cubicBezTo>
                  <a:cubicBezTo>
                    <a:pt x="740" y="1254"/>
                    <a:pt x="689" y="1806"/>
                    <a:pt x="744" y="1937"/>
                  </a:cubicBezTo>
                  <a:cubicBezTo>
                    <a:pt x="799" y="2068"/>
                    <a:pt x="999" y="2054"/>
                    <a:pt x="1024" y="1993"/>
                  </a:cubicBezTo>
                  <a:cubicBezTo>
                    <a:pt x="1049" y="1932"/>
                    <a:pt x="869" y="1666"/>
                    <a:pt x="896" y="1569"/>
                  </a:cubicBezTo>
                  <a:cubicBezTo>
                    <a:pt x="923" y="1472"/>
                    <a:pt x="1100" y="1345"/>
                    <a:pt x="1184" y="1409"/>
                  </a:cubicBezTo>
                  <a:cubicBezTo>
                    <a:pt x="1268" y="1473"/>
                    <a:pt x="1307" y="1894"/>
                    <a:pt x="1400" y="1953"/>
                  </a:cubicBezTo>
                  <a:cubicBezTo>
                    <a:pt x="1493" y="2012"/>
                    <a:pt x="1713" y="1905"/>
                    <a:pt x="1744" y="1761"/>
                  </a:cubicBezTo>
                  <a:cubicBezTo>
                    <a:pt x="1775" y="1617"/>
                    <a:pt x="1757" y="1349"/>
                    <a:pt x="1584" y="1089"/>
                  </a:cubicBezTo>
                  <a:cubicBezTo>
                    <a:pt x="1411" y="829"/>
                    <a:pt x="719" y="374"/>
                    <a:pt x="704" y="201"/>
                  </a:cubicBezTo>
                  <a:cubicBezTo>
                    <a:pt x="689" y="28"/>
                    <a:pt x="1337" y="0"/>
                    <a:pt x="1496" y="49"/>
                  </a:cubicBezTo>
                  <a:cubicBezTo>
                    <a:pt x="1655" y="98"/>
                    <a:pt x="1481" y="448"/>
                    <a:pt x="1656" y="497"/>
                  </a:cubicBezTo>
                  <a:cubicBezTo>
                    <a:pt x="1831" y="546"/>
                    <a:pt x="2473" y="240"/>
                    <a:pt x="2544" y="345"/>
                  </a:cubicBezTo>
                  <a:cubicBezTo>
                    <a:pt x="2615" y="450"/>
                    <a:pt x="2099" y="869"/>
                    <a:pt x="2080" y="1129"/>
                  </a:cubicBezTo>
                  <a:cubicBezTo>
                    <a:pt x="2061" y="1389"/>
                    <a:pt x="2345" y="1828"/>
                    <a:pt x="2432" y="1905"/>
                  </a:cubicBezTo>
                  <a:cubicBezTo>
                    <a:pt x="2519" y="1982"/>
                    <a:pt x="2597" y="1766"/>
                    <a:pt x="2600" y="1593"/>
                  </a:cubicBezTo>
                  <a:cubicBezTo>
                    <a:pt x="2603" y="1420"/>
                    <a:pt x="2220" y="877"/>
                    <a:pt x="2448" y="865"/>
                  </a:cubicBezTo>
                  <a:cubicBezTo>
                    <a:pt x="2676" y="853"/>
                    <a:pt x="3651" y="1384"/>
                    <a:pt x="3968" y="1521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792400" y="2625840"/>
              <a:ext cx="45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203800" y="630864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533520" y="380880"/>
            <a:ext cx="74674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olu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= partition of nodes 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 with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 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9" dur="indefinite" restart="never" nodeType="tmRoot">
          <p:childTnLst>
            <p:seq>
              <p:cTn id="2430" dur="indefinite" nodeType="mainSeq">
                <p:childTnLst>
                  <p:par>
                    <p:cTn id="2431" fill="hold">
                      <p:stCondLst>
                        <p:cond delay="0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500"/>
                            </p:stCondLst>
                            <p:childTnLst>
                              <p:par>
                                <p:cTn id="24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0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"/>
          <p:cNvSpPr/>
          <p:nvPr/>
        </p:nvSpPr>
        <p:spPr>
          <a:xfrm>
            <a:off x="533520" y="609480"/>
            <a:ext cx="6933960" cy="15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Value Solutio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&lt;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gt;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p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= how much can flow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6" name="" descr=""/>
          <p:cNvPicPr/>
          <p:nvPr/>
        </p:nvPicPr>
        <p:blipFill>
          <a:blip r:embed="rId1"/>
          <a:stretch/>
        </p:blipFill>
        <p:spPr>
          <a:xfrm rot="16200000">
            <a:off x="2829600" y="2829240"/>
            <a:ext cx="3560760" cy="4495680"/>
          </a:xfrm>
          <a:prstGeom prst="rect">
            <a:avLst/>
          </a:prstGeom>
          <a:ln w="0">
            <a:noFill/>
          </a:ln>
        </p:spPr>
      </p:pic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n C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2336760" y="327672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645960" y="640080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0" name=""/>
          <p:cNvGrpSpPr/>
          <p:nvPr/>
        </p:nvGrpSpPr>
        <p:grpSpPr>
          <a:xfrm>
            <a:off x="2133720" y="2625840"/>
            <a:ext cx="5235120" cy="4079880"/>
            <a:chOff x="2133720" y="2625840"/>
            <a:chExt cx="5235120" cy="4079880"/>
          </a:xfrm>
        </p:grpSpPr>
        <p:sp>
          <p:nvSpPr>
            <p:cNvPr id="1891" name=""/>
            <p:cNvSpPr/>
            <p:nvPr/>
          </p:nvSpPr>
          <p:spPr>
            <a:xfrm>
              <a:off x="2133720" y="3048120"/>
              <a:ext cx="5105160" cy="3657600"/>
            </a:xfrm>
            <a:custGeom>
              <a:avLst/>
              <a:gdLst/>
              <a:ahLst/>
              <a:rect l="l" t="t" r="r" b="b"/>
              <a:pathLst>
                <a:path w="3216" h="2304">
                  <a:moveTo>
                    <a:pt x="0" y="2304"/>
                  </a:moveTo>
                  <a:cubicBezTo>
                    <a:pt x="208" y="2195"/>
                    <a:pt x="961" y="1909"/>
                    <a:pt x="1248" y="1648"/>
                  </a:cubicBezTo>
                  <a:cubicBezTo>
                    <a:pt x="1535" y="1387"/>
                    <a:pt x="1392" y="1011"/>
                    <a:pt x="1720" y="736"/>
                  </a:cubicBezTo>
                  <a:cubicBezTo>
                    <a:pt x="2048" y="461"/>
                    <a:pt x="2904" y="153"/>
                    <a:pt x="3216" y="0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792400" y="2625840"/>
              <a:ext cx="45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954840" y="318456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3657600" y="4114800"/>
            <a:ext cx="1600200" cy="1981080"/>
            <a:chOff x="3657600" y="4114800"/>
            <a:chExt cx="1600200" cy="1981080"/>
          </a:xfrm>
        </p:grpSpPr>
        <p:sp>
          <p:nvSpPr>
            <p:cNvPr id="1895" name=""/>
            <p:cNvSpPr/>
            <p:nvPr/>
          </p:nvSpPr>
          <p:spPr>
            <a:xfrm>
              <a:off x="3657600" y="5562720"/>
              <a:ext cx="533520" cy="53316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962520" y="5334120"/>
              <a:ext cx="533160" cy="53316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191120" y="4952880"/>
              <a:ext cx="533160" cy="53352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343400" y="4419720"/>
              <a:ext cx="533520" cy="53316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724280" y="4114800"/>
              <a:ext cx="533520" cy="53352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853080" y="4538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726080" y="525780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2" name=""/>
          <p:cNvSpPr/>
          <p:nvPr/>
        </p:nvSpPr>
        <p:spPr>
          <a:xfrm>
            <a:off x="763200" y="2209680"/>
            <a:ext cx="1748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Goal: </a:t>
            </a:r>
            <a:br>
              <a:rPr sz="3000"/>
            </a:b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Min Cu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2" dur="indefinite" restart="never" nodeType="tmRoot">
          <p:childTnLst>
            <p:seq>
              <p:cTn id="2443" dur="indefinite" nodeType="mainSeq">
                <p:childTnLst>
                  <p:par>
                    <p:cTn id="2444" fill="hold">
                      <p:stCondLst>
                        <p:cond delay="0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1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1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1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1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1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1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"/>
          <p:cNvSpPr/>
          <p:nvPr/>
        </p:nvSpPr>
        <p:spPr>
          <a:xfrm>
            <a:off x="0" y="380880"/>
            <a:ext cx="853452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eore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ll Networks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ate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Mi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p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Prove: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rate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ap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x Flow = Min C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905" name=""/>
          <p:cNvGrpSpPr/>
          <p:nvPr/>
        </p:nvGrpSpPr>
        <p:grpSpPr>
          <a:xfrm>
            <a:off x="1066680" y="4343400"/>
            <a:ext cx="5867280" cy="2435040"/>
            <a:chOff x="1066680" y="4343400"/>
            <a:chExt cx="5867280" cy="2435040"/>
          </a:xfrm>
        </p:grpSpPr>
        <p:pic>
          <p:nvPicPr>
            <p:cNvPr id="1906" name="" descr=""/>
            <p:cNvPicPr/>
            <p:nvPr/>
          </p:nvPicPr>
          <p:blipFill>
            <a:blip r:embed="rId1"/>
            <a:stretch/>
          </p:blipFill>
          <p:spPr>
            <a:xfrm>
              <a:off x="2939400" y="4722480"/>
              <a:ext cx="2434320" cy="20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7" name=""/>
            <p:cNvSpPr/>
            <p:nvPr/>
          </p:nvSpPr>
          <p:spPr>
            <a:xfrm>
              <a:off x="4021200" y="4993200"/>
              <a:ext cx="0" cy="3247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08" name=""/>
            <p:cNvGrpSpPr/>
            <p:nvPr/>
          </p:nvGrpSpPr>
          <p:grpSpPr>
            <a:xfrm>
              <a:off x="1066680" y="5013360"/>
              <a:ext cx="2121840" cy="1375920"/>
              <a:chOff x="1066680" y="5013360"/>
              <a:chExt cx="2121840" cy="1375920"/>
            </a:xfrm>
          </p:grpSpPr>
          <p:grpSp>
            <p:nvGrpSpPr>
              <p:cNvPr id="1909" name=""/>
              <p:cNvGrpSpPr/>
              <p:nvPr/>
            </p:nvGrpSpPr>
            <p:grpSpPr>
              <a:xfrm>
                <a:off x="1267920" y="5013360"/>
                <a:ext cx="1920600" cy="1375920"/>
                <a:chOff x="1267920" y="5013360"/>
                <a:chExt cx="1920600" cy="1375920"/>
              </a:xfrm>
            </p:grpSpPr>
            <p:sp>
              <p:nvSpPr>
                <p:cNvPr id="1910" name=""/>
                <p:cNvSpPr/>
                <p:nvPr/>
              </p:nvSpPr>
              <p:spPr>
                <a:xfrm flipH="1">
                  <a:off x="1267560" y="5013360"/>
                  <a:ext cx="1901160" cy="1305720"/>
                </a:xfrm>
                <a:custGeom>
                  <a:avLst/>
                  <a:gdLst/>
                  <a:ahLst/>
                  <a:rect l="l" t="t" r="r" b="b"/>
                  <a:pathLst>
                    <a:path w="2924" h="2314">
                      <a:moveTo>
                        <a:pt x="1167" y="80"/>
                      </a:moveTo>
                      <a:lnTo>
                        <a:pt x="1111" y="69"/>
                      </a:lnTo>
                      <a:lnTo>
                        <a:pt x="1064" y="58"/>
                      </a:lnTo>
                      <a:lnTo>
                        <a:pt x="1024" y="47"/>
                      </a:lnTo>
                      <a:lnTo>
                        <a:pt x="993" y="38"/>
                      </a:lnTo>
                      <a:lnTo>
                        <a:pt x="964" y="29"/>
                      </a:lnTo>
                      <a:lnTo>
                        <a:pt x="943" y="22"/>
                      </a:lnTo>
                      <a:lnTo>
                        <a:pt x="925" y="14"/>
                      </a:lnTo>
                      <a:lnTo>
                        <a:pt x="911" y="11"/>
                      </a:lnTo>
                      <a:lnTo>
                        <a:pt x="898" y="6"/>
                      </a:lnTo>
                      <a:lnTo>
                        <a:pt x="885" y="2"/>
                      </a:lnTo>
                      <a:lnTo>
                        <a:pt x="873" y="0"/>
                      </a:lnTo>
                      <a:lnTo>
                        <a:pt x="862" y="0"/>
                      </a:lnTo>
                      <a:lnTo>
                        <a:pt x="848" y="0"/>
                      </a:lnTo>
                      <a:lnTo>
                        <a:pt x="831" y="1"/>
                      </a:lnTo>
                      <a:lnTo>
                        <a:pt x="811" y="5"/>
                      </a:lnTo>
                      <a:lnTo>
                        <a:pt x="788" y="11"/>
                      </a:lnTo>
                      <a:lnTo>
                        <a:pt x="759" y="14"/>
                      </a:lnTo>
                      <a:lnTo>
                        <a:pt x="733" y="19"/>
                      </a:lnTo>
                      <a:lnTo>
                        <a:pt x="706" y="21"/>
                      </a:lnTo>
                      <a:lnTo>
                        <a:pt x="680" y="23"/>
                      </a:lnTo>
                      <a:lnTo>
                        <a:pt x="653" y="24"/>
                      </a:lnTo>
                      <a:lnTo>
                        <a:pt x="628" y="26"/>
                      </a:lnTo>
                      <a:lnTo>
                        <a:pt x="601" y="28"/>
                      </a:lnTo>
                      <a:lnTo>
                        <a:pt x="576" y="31"/>
                      </a:lnTo>
                      <a:lnTo>
                        <a:pt x="550" y="33"/>
                      </a:lnTo>
                      <a:lnTo>
                        <a:pt x="525" y="38"/>
                      </a:lnTo>
                      <a:lnTo>
                        <a:pt x="500" y="43"/>
                      </a:lnTo>
                      <a:lnTo>
                        <a:pt x="474" y="51"/>
                      </a:lnTo>
                      <a:lnTo>
                        <a:pt x="449" y="60"/>
                      </a:lnTo>
                      <a:lnTo>
                        <a:pt x="423" y="72"/>
                      </a:lnTo>
                      <a:lnTo>
                        <a:pt x="398" y="87"/>
                      </a:lnTo>
                      <a:lnTo>
                        <a:pt x="372" y="105"/>
                      </a:lnTo>
                      <a:lnTo>
                        <a:pt x="346" y="124"/>
                      </a:lnTo>
                      <a:lnTo>
                        <a:pt x="324" y="142"/>
                      </a:lnTo>
                      <a:lnTo>
                        <a:pt x="301" y="159"/>
                      </a:lnTo>
                      <a:lnTo>
                        <a:pt x="281" y="177"/>
                      </a:lnTo>
                      <a:lnTo>
                        <a:pt x="262" y="194"/>
                      </a:lnTo>
                      <a:lnTo>
                        <a:pt x="244" y="210"/>
                      </a:lnTo>
                      <a:lnTo>
                        <a:pt x="230" y="228"/>
                      </a:lnTo>
                      <a:lnTo>
                        <a:pt x="217" y="244"/>
                      </a:lnTo>
                      <a:lnTo>
                        <a:pt x="203" y="261"/>
                      </a:lnTo>
                      <a:lnTo>
                        <a:pt x="194" y="278"/>
                      </a:lnTo>
                      <a:lnTo>
                        <a:pt x="186" y="294"/>
                      </a:lnTo>
                      <a:lnTo>
                        <a:pt x="180" y="312"/>
                      </a:lnTo>
                      <a:lnTo>
                        <a:pt x="175" y="331"/>
                      </a:lnTo>
                      <a:lnTo>
                        <a:pt x="173" y="348"/>
                      </a:lnTo>
                      <a:lnTo>
                        <a:pt x="173" y="368"/>
                      </a:lnTo>
                      <a:lnTo>
                        <a:pt x="176" y="389"/>
                      </a:lnTo>
                      <a:lnTo>
                        <a:pt x="176" y="407"/>
                      </a:lnTo>
                      <a:lnTo>
                        <a:pt x="173" y="426"/>
                      </a:lnTo>
                      <a:lnTo>
                        <a:pt x="167" y="441"/>
                      </a:lnTo>
                      <a:lnTo>
                        <a:pt x="158" y="458"/>
                      </a:lnTo>
                      <a:lnTo>
                        <a:pt x="146" y="473"/>
                      </a:lnTo>
                      <a:lnTo>
                        <a:pt x="133" y="488"/>
                      </a:lnTo>
                      <a:lnTo>
                        <a:pt x="118" y="502"/>
                      </a:lnTo>
                      <a:lnTo>
                        <a:pt x="104" y="519"/>
                      </a:lnTo>
                      <a:lnTo>
                        <a:pt x="86" y="533"/>
                      </a:lnTo>
                      <a:lnTo>
                        <a:pt x="72" y="552"/>
                      </a:lnTo>
                      <a:lnTo>
                        <a:pt x="56" y="569"/>
                      </a:lnTo>
                      <a:lnTo>
                        <a:pt x="42" y="592"/>
                      </a:lnTo>
                      <a:lnTo>
                        <a:pt x="29" y="614"/>
                      </a:lnTo>
                      <a:lnTo>
                        <a:pt x="18" y="640"/>
                      </a:lnTo>
                      <a:lnTo>
                        <a:pt x="10" y="670"/>
                      </a:lnTo>
                      <a:lnTo>
                        <a:pt x="4" y="703"/>
                      </a:lnTo>
                      <a:lnTo>
                        <a:pt x="1" y="735"/>
                      </a:lnTo>
                      <a:lnTo>
                        <a:pt x="0" y="768"/>
                      </a:lnTo>
                      <a:lnTo>
                        <a:pt x="1" y="799"/>
                      </a:lnTo>
                      <a:lnTo>
                        <a:pt x="4" y="833"/>
                      </a:lnTo>
                      <a:lnTo>
                        <a:pt x="8" y="861"/>
                      </a:lnTo>
                      <a:lnTo>
                        <a:pt x="14" y="891"/>
                      </a:lnTo>
                      <a:lnTo>
                        <a:pt x="20" y="918"/>
                      </a:lnTo>
                      <a:lnTo>
                        <a:pt x="27" y="946"/>
                      </a:lnTo>
                      <a:lnTo>
                        <a:pt x="34" y="971"/>
                      </a:lnTo>
                      <a:lnTo>
                        <a:pt x="42" y="996"/>
                      </a:lnTo>
                      <a:lnTo>
                        <a:pt x="48" y="1018"/>
                      </a:lnTo>
                      <a:lnTo>
                        <a:pt x="56" y="1042"/>
                      </a:lnTo>
                      <a:lnTo>
                        <a:pt x="61" y="1061"/>
                      </a:lnTo>
                      <a:lnTo>
                        <a:pt x="66" y="1081"/>
                      </a:lnTo>
                      <a:lnTo>
                        <a:pt x="71" y="1100"/>
                      </a:lnTo>
                      <a:lnTo>
                        <a:pt x="73" y="1118"/>
                      </a:lnTo>
                      <a:lnTo>
                        <a:pt x="73" y="1134"/>
                      </a:lnTo>
                      <a:lnTo>
                        <a:pt x="72" y="1155"/>
                      </a:lnTo>
                      <a:lnTo>
                        <a:pt x="71" y="1178"/>
                      </a:lnTo>
                      <a:lnTo>
                        <a:pt x="68" y="1203"/>
                      </a:lnTo>
                      <a:lnTo>
                        <a:pt x="63" y="1227"/>
                      </a:lnTo>
                      <a:lnTo>
                        <a:pt x="60" y="1256"/>
                      </a:lnTo>
                      <a:lnTo>
                        <a:pt x="54" y="1286"/>
                      </a:lnTo>
                      <a:lnTo>
                        <a:pt x="50" y="1319"/>
                      </a:lnTo>
                      <a:lnTo>
                        <a:pt x="44" y="1351"/>
                      </a:lnTo>
                      <a:lnTo>
                        <a:pt x="39" y="1384"/>
                      </a:lnTo>
                      <a:lnTo>
                        <a:pt x="33" y="1420"/>
                      </a:lnTo>
                      <a:lnTo>
                        <a:pt x="29" y="1456"/>
                      </a:lnTo>
                      <a:lnTo>
                        <a:pt x="24" y="1493"/>
                      </a:lnTo>
                      <a:lnTo>
                        <a:pt x="21" y="1529"/>
                      </a:lnTo>
                      <a:lnTo>
                        <a:pt x="18" y="1567"/>
                      </a:lnTo>
                      <a:lnTo>
                        <a:pt x="16" y="1607"/>
                      </a:lnTo>
                      <a:lnTo>
                        <a:pt x="15" y="1644"/>
                      </a:lnTo>
                      <a:lnTo>
                        <a:pt x="19" y="1681"/>
                      </a:lnTo>
                      <a:lnTo>
                        <a:pt x="24" y="1717"/>
                      </a:lnTo>
                      <a:lnTo>
                        <a:pt x="32" y="1755"/>
                      </a:lnTo>
                      <a:lnTo>
                        <a:pt x="40" y="1789"/>
                      </a:lnTo>
                      <a:lnTo>
                        <a:pt x="52" y="1823"/>
                      </a:lnTo>
                      <a:lnTo>
                        <a:pt x="64" y="1855"/>
                      </a:lnTo>
                      <a:lnTo>
                        <a:pt x="77" y="1887"/>
                      </a:lnTo>
                      <a:lnTo>
                        <a:pt x="89" y="1915"/>
                      </a:lnTo>
                      <a:lnTo>
                        <a:pt x="103" y="1943"/>
                      </a:lnTo>
                      <a:lnTo>
                        <a:pt x="115" y="1967"/>
                      </a:lnTo>
                      <a:lnTo>
                        <a:pt x="128" y="1991"/>
                      </a:lnTo>
                      <a:lnTo>
                        <a:pt x="138" y="2011"/>
                      </a:lnTo>
                      <a:lnTo>
                        <a:pt x="147" y="2029"/>
                      </a:lnTo>
                      <a:lnTo>
                        <a:pt x="155" y="2045"/>
                      </a:lnTo>
                      <a:lnTo>
                        <a:pt x="161" y="2059"/>
                      </a:lnTo>
                      <a:lnTo>
                        <a:pt x="166" y="2068"/>
                      </a:lnTo>
                      <a:lnTo>
                        <a:pt x="178" y="2076"/>
                      </a:lnTo>
                      <a:lnTo>
                        <a:pt x="193" y="2084"/>
                      </a:lnTo>
                      <a:lnTo>
                        <a:pt x="212" y="2093"/>
                      </a:lnTo>
                      <a:lnTo>
                        <a:pt x="233" y="2097"/>
                      </a:lnTo>
                      <a:lnTo>
                        <a:pt x="257" y="2104"/>
                      </a:lnTo>
                      <a:lnTo>
                        <a:pt x="284" y="2107"/>
                      </a:lnTo>
                      <a:lnTo>
                        <a:pt x="312" y="2112"/>
                      </a:lnTo>
                      <a:lnTo>
                        <a:pt x="339" y="2114"/>
                      </a:lnTo>
                      <a:lnTo>
                        <a:pt x="369" y="2117"/>
                      </a:lnTo>
                      <a:lnTo>
                        <a:pt x="397" y="2118"/>
                      </a:lnTo>
                      <a:lnTo>
                        <a:pt x="425" y="2119"/>
                      </a:lnTo>
                      <a:lnTo>
                        <a:pt x="451" y="2121"/>
                      </a:lnTo>
                      <a:lnTo>
                        <a:pt x="475" y="2122"/>
                      </a:lnTo>
                      <a:lnTo>
                        <a:pt x="497" y="2122"/>
                      </a:lnTo>
                      <a:lnTo>
                        <a:pt x="517" y="2123"/>
                      </a:lnTo>
                      <a:lnTo>
                        <a:pt x="535" y="2124"/>
                      </a:lnTo>
                      <a:lnTo>
                        <a:pt x="556" y="2131"/>
                      </a:lnTo>
                      <a:lnTo>
                        <a:pt x="579" y="2139"/>
                      </a:lnTo>
                      <a:lnTo>
                        <a:pt x="605" y="2152"/>
                      </a:lnTo>
                      <a:lnTo>
                        <a:pt x="631" y="2164"/>
                      </a:lnTo>
                      <a:lnTo>
                        <a:pt x="661" y="2179"/>
                      </a:lnTo>
                      <a:lnTo>
                        <a:pt x="692" y="2196"/>
                      </a:lnTo>
                      <a:lnTo>
                        <a:pt x="726" y="2212"/>
                      </a:lnTo>
                      <a:lnTo>
                        <a:pt x="762" y="2228"/>
                      </a:lnTo>
                      <a:lnTo>
                        <a:pt x="800" y="2243"/>
                      </a:lnTo>
                      <a:lnTo>
                        <a:pt x="839" y="2258"/>
                      </a:lnTo>
                      <a:lnTo>
                        <a:pt x="883" y="2270"/>
                      </a:lnTo>
                      <a:lnTo>
                        <a:pt x="927" y="2280"/>
                      </a:lnTo>
                      <a:lnTo>
                        <a:pt x="975" y="2288"/>
                      </a:lnTo>
                      <a:lnTo>
                        <a:pt x="1024" y="2291"/>
                      </a:lnTo>
                      <a:lnTo>
                        <a:pt x="1078" y="2292"/>
                      </a:lnTo>
                      <a:lnTo>
                        <a:pt x="1127" y="2285"/>
                      </a:lnTo>
                      <a:lnTo>
                        <a:pt x="1174" y="2278"/>
                      </a:lnTo>
                      <a:lnTo>
                        <a:pt x="1217" y="2267"/>
                      </a:lnTo>
                      <a:lnTo>
                        <a:pt x="1258" y="2255"/>
                      </a:lnTo>
                      <a:lnTo>
                        <a:pt x="1293" y="2241"/>
                      </a:lnTo>
                      <a:lnTo>
                        <a:pt x="1330" y="2227"/>
                      </a:lnTo>
                      <a:lnTo>
                        <a:pt x="1365" y="2212"/>
                      </a:lnTo>
                      <a:lnTo>
                        <a:pt x="1401" y="2201"/>
                      </a:lnTo>
                      <a:lnTo>
                        <a:pt x="1434" y="2190"/>
                      </a:lnTo>
                      <a:lnTo>
                        <a:pt x="1470" y="2183"/>
                      </a:lnTo>
                      <a:lnTo>
                        <a:pt x="1507" y="2178"/>
                      </a:lnTo>
                      <a:lnTo>
                        <a:pt x="1546" y="2178"/>
                      </a:lnTo>
                      <a:lnTo>
                        <a:pt x="1590" y="2183"/>
                      </a:lnTo>
                      <a:lnTo>
                        <a:pt x="1635" y="2192"/>
                      </a:lnTo>
                      <a:lnTo>
                        <a:pt x="1685" y="2209"/>
                      </a:lnTo>
                      <a:lnTo>
                        <a:pt x="1740" y="2233"/>
                      </a:lnTo>
                      <a:lnTo>
                        <a:pt x="1794" y="2258"/>
                      </a:lnTo>
                      <a:lnTo>
                        <a:pt x="1843" y="2276"/>
                      </a:lnTo>
                      <a:lnTo>
                        <a:pt x="1887" y="2291"/>
                      </a:lnTo>
                      <a:lnTo>
                        <a:pt x="1928" y="2303"/>
                      </a:lnTo>
                      <a:lnTo>
                        <a:pt x="1965" y="2310"/>
                      </a:lnTo>
                      <a:lnTo>
                        <a:pt x="2001" y="2314"/>
                      </a:lnTo>
                      <a:lnTo>
                        <a:pt x="2033" y="2314"/>
                      </a:lnTo>
                      <a:lnTo>
                        <a:pt x="2066" y="2314"/>
                      </a:lnTo>
                      <a:lnTo>
                        <a:pt x="2096" y="2309"/>
                      </a:lnTo>
                      <a:lnTo>
                        <a:pt x="2128" y="2304"/>
                      </a:lnTo>
                      <a:lnTo>
                        <a:pt x="2161" y="2295"/>
                      </a:lnTo>
                      <a:lnTo>
                        <a:pt x="2196" y="2288"/>
                      </a:lnTo>
                      <a:lnTo>
                        <a:pt x="2232" y="2279"/>
                      </a:lnTo>
                      <a:lnTo>
                        <a:pt x="2273" y="2270"/>
                      </a:lnTo>
                      <a:lnTo>
                        <a:pt x="2315" y="2260"/>
                      </a:lnTo>
                      <a:lnTo>
                        <a:pt x="2365" y="2253"/>
                      </a:lnTo>
                      <a:lnTo>
                        <a:pt x="2412" y="2247"/>
                      </a:lnTo>
                      <a:lnTo>
                        <a:pt x="2456" y="2242"/>
                      </a:lnTo>
                      <a:lnTo>
                        <a:pt x="2496" y="2240"/>
                      </a:lnTo>
                      <a:lnTo>
                        <a:pt x="2534" y="2241"/>
                      </a:lnTo>
                      <a:lnTo>
                        <a:pt x="2565" y="2241"/>
                      </a:lnTo>
                      <a:lnTo>
                        <a:pt x="2594" y="2244"/>
                      </a:lnTo>
                      <a:lnTo>
                        <a:pt x="2620" y="2246"/>
                      </a:lnTo>
                      <a:lnTo>
                        <a:pt x="2642" y="2247"/>
                      </a:lnTo>
                      <a:lnTo>
                        <a:pt x="2661" y="2247"/>
                      </a:lnTo>
                      <a:lnTo>
                        <a:pt x="2676" y="2243"/>
                      </a:lnTo>
                      <a:lnTo>
                        <a:pt x="2690" y="2237"/>
                      </a:lnTo>
                      <a:lnTo>
                        <a:pt x="2701" y="2230"/>
                      </a:lnTo>
                      <a:lnTo>
                        <a:pt x="2708" y="2217"/>
                      </a:lnTo>
                      <a:lnTo>
                        <a:pt x="2714" y="2200"/>
                      </a:lnTo>
                      <a:lnTo>
                        <a:pt x="2717" y="2179"/>
                      </a:lnTo>
                      <a:lnTo>
                        <a:pt x="2719" y="2154"/>
                      </a:lnTo>
                      <a:lnTo>
                        <a:pt x="2719" y="2123"/>
                      </a:lnTo>
                      <a:lnTo>
                        <a:pt x="2720" y="2096"/>
                      </a:lnTo>
                      <a:lnTo>
                        <a:pt x="2722" y="2073"/>
                      </a:lnTo>
                      <a:lnTo>
                        <a:pt x="2724" y="2050"/>
                      </a:lnTo>
                      <a:lnTo>
                        <a:pt x="2727" y="2028"/>
                      </a:lnTo>
                      <a:lnTo>
                        <a:pt x="2732" y="2009"/>
                      </a:lnTo>
                      <a:lnTo>
                        <a:pt x="2735" y="1991"/>
                      </a:lnTo>
                      <a:lnTo>
                        <a:pt x="2741" y="1975"/>
                      </a:lnTo>
                      <a:lnTo>
                        <a:pt x="2745" y="1957"/>
                      </a:lnTo>
                      <a:lnTo>
                        <a:pt x="2751" y="1943"/>
                      </a:lnTo>
                      <a:lnTo>
                        <a:pt x="2757" y="1926"/>
                      </a:lnTo>
                      <a:lnTo>
                        <a:pt x="2764" y="1911"/>
                      </a:lnTo>
                      <a:lnTo>
                        <a:pt x="2769" y="1895"/>
                      </a:lnTo>
                      <a:lnTo>
                        <a:pt x="2777" y="1880"/>
                      </a:lnTo>
                      <a:lnTo>
                        <a:pt x="2783" y="1863"/>
                      </a:lnTo>
                      <a:lnTo>
                        <a:pt x="2790" y="1846"/>
                      </a:lnTo>
                      <a:lnTo>
                        <a:pt x="2798" y="1829"/>
                      </a:lnTo>
                      <a:lnTo>
                        <a:pt x="2807" y="1813"/>
                      </a:lnTo>
                      <a:lnTo>
                        <a:pt x="2816" y="1798"/>
                      </a:lnTo>
                      <a:lnTo>
                        <a:pt x="2828" y="1783"/>
                      </a:lnTo>
                      <a:lnTo>
                        <a:pt x="2839" y="1768"/>
                      </a:lnTo>
                      <a:lnTo>
                        <a:pt x="2851" y="1754"/>
                      </a:lnTo>
                      <a:lnTo>
                        <a:pt x="2863" y="1737"/>
                      </a:lnTo>
                      <a:lnTo>
                        <a:pt x="2875" y="1723"/>
                      </a:lnTo>
                      <a:lnTo>
                        <a:pt x="2884" y="1704"/>
                      </a:lnTo>
                      <a:lnTo>
                        <a:pt x="2894" y="1686"/>
                      </a:lnTo>
                      <a:lnTo>
                        <a:pt x="2903" y="1665"/>
                      </a:lnTo>
                      <a:lnTo>
                        <a:pt x="2910" y="1643"/>
                      </a:lnTo>
                      <a:lnTo>
                        <a:pt x="2914" y="1618"/>
                      </a:lnTo>
                      <a:lnTo>
                        <a:pt x="2916" y="1590"/>
                      </a:lnTo>
                      <a:lnTo>
                        <a:pt x="2916" y="1560"/>
                      </a:lnTo>
                      <a:lnTo>
                        <a:pt x="2915" y="1527"/>
                      </a:lnTo>
                      <a:lnTo>
                        <a:pt x="2911" y="1490"/>
                      </a:lnTo>
                      <a:lnTo>
                        <a:pt x="2911" y="1457"/>
                      </a:lnTo>
                      <a:lnTo>
                        <a:pt x="2911" y="1424"/>
                      </a:lnTo>
                      <a:lnTo>
                        <a:pt x="2914" y="1392"/>
                      </a:lnTo>
                      <a:lnTo>
                        <a:pt x="2916" y="1360"/>
                      </a:lnTo>
                      <a:lnTo>
                        <a:pt x="2918" y="1331"/>
                      </a:lnTo>
                      <a:lnTo>
                        <a:pt x="2921" y="1300"/>
                      </a:lnTo>
                      <a:lnTo>
                        <a:pt x="2924" y="1274"/>
                      </a:lnTo>
                      <a:lnTo>
                        <a:pt x="2923" y="1244"/>
                      </a:lnTo>
                      <a:lnTo>
                        <a:pt x="2922" y="1216"/>
                      </a:lnTo>
                      <a:lnTo>
                        <a:pt x="2917" y="1190"/>
                      </a:lnTo>
                      <a:lnTo>
                        <a:pt x="2912" y="1163"/>
                      </a:lnTo>
                      <a:lnTo>
                        <a:pt x="2901" y="1136"/>
                      </a:lnTo>
                      <a:lnTo>
                        <a:pt x="2887" y="1111"/>
                      </a:lnTo>
                      <a:lnTo>
                        <a:pt x="2871" y="1087"/>
                      </a:lnTo>
                      <a:lnTo>
                        <a:pt x="2849" y="1063"/>
                      </a:lnTo>
                      <a:lnTo>
                        <a:pt x="2824" y="1037"/>
                      </a:lnTo>
                      <a:lnTo>
                        <a:pt x="2804" y="1015"/>
                      </a:lnTo>
                      <a:lnTo>
                        <a:pt x="2786" y="993"/>
                      </a:lnTo>
                      <a:lnTo>
                        <a:pt x="2768" y="972"/>
                      </a:lnTo>
                      <a:lnTo>
                        <a:pt x="2750" y="952"/>
                      </a:lnTo>
                      <a:lnTo>
                        <a:pt x="2734" y="935"/>
                      </a:lnTo>
                      <a:lnTo>
                        <a:pt x="2714" y="918"/>
                      </a:lnTo>
                      <a:lnTo>
                        <a:pt x="2693" y="903"/>
                      </a:lnTo>
                      <a:lnTo>
                        <a:pt x="2667" y="888"/>
                      </a:lnTo>
                      <a:lnTo>
                        <a:pt x="2641" y="875"/>
                      </a:lnTo>
                      <a:lnTo>
                        <a:pt x="2608" y="861"/>
                      </a:lnTo>
                      <a:lnTo>
                        <a:pt x="2571" y="851"/>
                      </a:lnTo>
                      <a:lnTo>
                        <a:pt x="2528" y="841"/>
                      </a:lnTo>
                      <a:lnTo>
                        <a:pt x="2478" y="834"/>
                      </a:lnTo>
                      <a:lnTo>
                        <a:pt x="2421" y="826"/>
                      </a:lnTo>
                      <a:lnTo>
                        <a:pt x="2357" y="822"/>
                      </a:lnTo>
                      <a:lnTo>
                        <a:pt x="2289" y="814"/>
                      </a:lnTo>
                      <a:lnTo>
                        <a:pt x="2231" y="807"/>
                      </a:lnTo>
                      <a:lnTo>
                        <a:pt x="2175" y="797"/>
                      </a:lnTo>
                      <a:lnTo>
                        <a:pt x="2128" y="787"/>
                      </a:lnTo>
                      <a:lnTo>
                        <a:pt x="2085" y="776"/>
                      </a:lnTo>
                      <a:lnTo>
                        <a:pt x="2047" y="764"/>
                      </a:lnTo>
                      <a:lnTo>
                        <a:pt x="2015" y="750"/>
                      </a:lnTo>
                      <a:lnTo>
                        <a:pt x="1989" y="736"/>
                      </a:lnTo>
                      <a:lnTo>
                        <a:pt x="1963" y="720"/>
                      </a:lnTo>
                      <a:lnTo>
                        <a:pt x="1943" y="705"/>
                      </a:lnTo>
                      <a:lnTo>
                        <a:pt x="1926" y="688"/>
                      </a:lnTo>
                      <a:lnTo>
                        <a:pt x="1912" y="671"/>
                      </a:lnTo>
                      <a:lnTo>
                        <a:pt x="1901" y="654"/>
                      </a:lnTo>
                      <a:lnTo>
                        <a:pt x="1894" y="636"/>
                      </a:lnTo>
                      <a:lnTo>
                        <a:pt x="1887" y="619"/>
                      </a:lnTo>
                      <a:lnTo>
                        <a:pt x="1884" y="603"/>
                      </a:lnTo>
                      <a:lnTo>
                        <a:pt x="1875" y="584"/>
                      </a:lnTo>
                      <a:lnTo>
                        <a:pt x="1860" y="568"/>
                      </a:lnTo>
                      <a:lnTo>
                        <a:pt x="1839" y="554"/>
                      </a:lnTo>
                      <a:lnTo>
                        <a:pt x="1815" y="540"/>
                      </a:lnTo>
                      <a:lnTo>
                        <a:pt x="1785" y="525"/>
                      </a:lnTo>
                      <a:lnTo>
                        <a:pt x="1753" y="512"/>
                      </a:lnTo>
                      <a:lnTo>
                        <a:pt x="1719" y="499"/>
                      </a:lnTo>
                      <a:lnTo>
                        <a:pt x="1685" y="487"/>
                      </a:lnTo>
                      <a:lnTo>
                        <a:pt x="1648" y="472"/>
                      </a:lnTo>
                      <a:lnTo>
                        <a:pt x="1614" y="458"/>
                      </a:lnTo>
                      <a:lnTo>
                        <a:pt x="1581" y="442"/>
                      </a:lnTo>
                      <a:lnTo>
                        <a:pt x="1552" y="428"/>
                      </a:lnTo>
                      <a:lnTo>
                        <a:pt x="1523" y="410"/>
                      </a:lnTo>
                      <a:lnTo>
                        <a:pt x="1501" y="394"/>
                      </a:lnTo>
                      <a:lnTo>
                        <a:pt x="1483" y="374"/>
                      </a:lnTo>
                      <a:lnTo>
                        <a:pt x="1473" y="354"/>
                      </a:lnTo>
                      <a:lnTo>
                        <a:pt x="1461" y="331"/>
                      </a:lnTo>
                      <a:lnTo>
                        <a:pt x="1447" y="309"/>
                      </a:lnTo>
                      <a:lnTo>
                        <a:pt x="1428" y="285"/>
                      </a:lnTo>
                      <a:lnTo>
                        <a:pt x="1407" y="262"/>
                      </a:lnTo>
                      <a:lnTo>
                        <a:pt x="1383" y="238"/>
                      </a:lnTo>
                      <a:lnTo>
                        <a:pt x="1356" y="216"/>
                      </a:lnTo>
                      <a:lnTo>
                        <a:pt x="1330" y="194"/>
                      </a:lnTo>
                      <a:lnTo>
                        <a:pt x="1304" y="174"/>
                      </a:lnTo>
                      <a:lnTo>
                        <a:pt x="1277" y="153"/>
                      </a:lnTo>
                      <a:lnTo>
                        <a:pt x="1251" y="135"/>
                      </a:lnTo>
                      <a:lnTo>
                        <a:pt x="1228" y="118"/>
                      </a:lnTo>
                      <a:lnTo>
                        <a:pt x="1208" y="106"/>
                      </a:lnTo>
                      <a:lnTo>
                        <a:pt x="1190" y="94"/>
                      </a:lnTo>
                      <a:lnTo>
                        <a:pt x="1178" y="86"/>
                      </a:lnTo>
                      <a:lnTo>
                        <a:pt x="1168" y="81"/>
                      </a:lnTo>
                      <a:lnTo>
                        <a:pt x="1167" y="80"/>
                      </a:lnTo>
                      <a:lnTo>
                        <a:pt x="1167" y="80"/>
                      </a:lnTo>
                      <a:close/>
                    </a:path>
                  </a:pathLst>
                </a:custGeom>
                <a:solidFill>
                  <a:srgbClr val="d1c4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 flipH="1">
                  <a:off x="1270440" y="5618160"/>
                  <a:ext cx="1885680" cy="570960"/>
                </a:xfrm>
                <a:custGeom>
                  <a:avLst/>
                  <a:gdLst/>
                  <a:ahLst/>
                  <a:rect l="l" t="t" r="r" b="b"/>
                  <a:pathLst>
                    <a:path w="2899" h="1011">
                      <a:moveTo>
                        <a:pt x="0" y="666"/>
                      </a:moveTo>
                      <a:lnTo>
                        <a:pt x="5" y="666"/>
                      </a:lnTo>
                      <a:lnTo>
                        <a:pt x="22" y="667"/>
                      </a:lnTo>
                      <a:lnTo>
                        <a:pt x="48" y="669"/>
                      </a:lnTo>
                      <a:lnTo>
                        <a:pt x="84" y="673"/>
                      </a:lnTo>
                      <a:lnTo>
                        <a:pt x="125" y="675"/>
                      </a:lnTo>
                      <a:lnTo>
                        <a:pt x="174" y="679"/>
                      </a:lnTo>
                      <a:lnTo>
                        <a:pt x="227" y="684"/>
                      </a:lnTo>
                      <a:lnTo>
                        <a:pt x="287" y="689"/>
                      </a:lnTo>
                      <a:lnTo>
                        <a:pt x="347" y="695"/>
                      </a:lnTo>
                      <a:lnTo>
                        <a:pt x="410" y="699"/>
                      </a:lnTo>
                      <a:lnTo>
                        <a:pt x="474" y="706"/>
                      </a:lnTo>
                      <a:lnTo>
                        <a:pt x="537" y="711"/>
                      </a:lnTo>
                      <a:lnTo>
                        <a:pt x="598" y="717"/>
                      </a:lnTo>
                      <a:lnTo>
                        <a:pt x="656" y="723"/>
                      </a:lnTo>
                      <a:lnTo>
                        <a:pt x="711" y="729"/>
                      </a:lnTo>
                      <a:lnTo>
                        <a:pt x="760" y="735"/>
                      </a:lnTo>
                      <a:lnTo>
                        <a:pt x="806" y="738"/>
                      </a:lnTo>
                      <a:lnTo>
                        <a:pt x="851" y="738"/>
                      </a:lnTo>
                      <a:lnTo>
                        <a:pt x="894" y="734"/>
                      </a:lnTo>
                      <a:lnTo>
                        <a:pt x="937" y="727"/>
                      </a:lnTo>
                      <a:lnTo>
                        <a:pt x="977" y="717"/>
                      </a:lnTo>
                      <a:lnTo>
                        <a:pt x="1017" y="705"/>
                      </a:lnTo>
                      <a:lnTo>
                        <a:pt x="1053" y="689"/>
                      </a:lnTo>
                      <a:lnTo>
                        <a:pt x="1089" y="675"/>
                      </a:lnTo>
                      <a:lnTo>
                        <a:pt x="1120" y="655"/>
                      </a:lnTo>
                      <a:lnTo>
                        <a:pt x="1148" y="637"/>
                      </a:lnTo>
                      <a:lnTo>
                        <a:pt x="1175" y="618"/>
                      </a:lnTo>
                      <a:lnTo>
                        <a:pt x="1199" y="597"/>
                      </a:lnTo>
                      <a:lnTo>
                        <a:pt x="1218" y="576"/>
                      </a:lnTo>
                      <a:lnTo>
                        <a:pt x="1235" y="556"/>
                      </a:lnTo>
                      <a:lnTo>
                        <a:pt x="1247" y="536"/>
                      </a:lnTo>
                      <a:lnTo>
                        <a:pt x="1256" y="517"/>
                      </a:lnTo>
                      <a:lnTo>
                        <a:pt x="1263" y="494"/>
                      </a:lnTo>
                      <a:lnTo>
                        <a:pt x="1278" y="466"/>
                      </a:lnTo>
                      <a:lnTo>
                        <a:pt x="1296" y="434"/>
                      </a:lnTo>
                      <a:lnTo>
                        <a:pt x="1320" y="399"/>
                      </a:lnTo>
                      <a:lnTo>
                        <a:pt x="1346" y="360"/>
                      </a:lnTo>
                      <a:lnTo>
                        <a:pt x="1377" y="320"/>
                      </a:lnTo>
                      <a:lnTo>
                        <a:pt x="1411" y="279"/>
                      </a:lnTo>
                      <a:lnTo>
                        <a:pt x="1450" y="238"/>
                      </a:lnTo>
                      <a:lnTo>
                        <a:pt x="1490" y="196"/>
                      </a:lnTo>
                      <a:lnTo>
                        <a:pt x="1532" y="158"/>
                      </a:lnTo>
                      <a:lnTo>
                        <a:pt x="1575" y="121"/>
                      </a:lnTo>
                      <a:lnTo>
                        <a:pt x="1622" y="89"/>
                      </a:lnTo>
                      <a:lnTo>
                        <a:pt x="1667" y="60"/>
                      </a:lnTo>
                      <a:lnTo>
                        <a:pt x="1715" y="37"/>
                      </a:lnTo>
                      <a:lnTo>
                        <a:pt x="1764" y="18"/>
                      </a:lnTo>
                      <a:lnTo>
                        <a:pt x="1812" y="8"/>
                      </a:lnTo>
                      <a:lnTo>
                        <a:pt x="1866" y="3"/>
                      </a:lnTo>
                      <a:lnTo>
                        <a:pt x="1931" y="0"/>
                      </a:lnTo>
                      <a:lnTo>
                        <a:pt x="2005" y="0"/>
                      </a:lnTo>
                      <a:lnTo>
                        <a:pt x="2086" y="3"/>
                      </a:lnTo>
                      <a:lnTo>
                        <a:pt x="2173" y="6"/>
                      </a:lnTo>
                      <a:lnTo>
                        <a:pt x="2263" y="14"/>
                      </a:lnTo>
                      <a:lnTo>
                        <a:pt x="2352" y="22"/>
                      </a:lnTo>
                      <a:lnTo>
                        <a:pt x="2443" y="30"/>
                      </a:lnTo>
                      <a:lnTo>
                        <a:pt x="2529" y="39"/>
                      </a:lnTo>
                      <a:lnTo>
                        <a:pt x="2611" y="48"/>
                      </a:lnTo>
                      <a:lnTo>
                        <a:pt x="2686" y="56"/>
                      </a:lnTo>
                      <a:lnTo>
                        <a:pt x="2752" y="65"/>
                      </a:lnTo>
                      <a:lnTo>
                        <a:pt x="2806" y="71"/>
                      </a:lnTo>
                      <a:lnTo>
                        <a:pt x="2849" y="77"/>
                      </a:lnTo>
                      <a:lnTo>
                        <a:pt x="2874" y="81"/>
                      </a:lnTo>
                      <a:lnTo>
                        <a:pt x="2885" y="84"/>
                      </a:lnTo>
                      <a:lnTo>
                        <a:pt x="2885" y="85"/>
                      </a:lnTo>
                      <a:lnTo>
                        <a:pt x="2886" y="93"/>
                      </a:lnTo>
                      <a:lnTo>
                        <a:pt x="2886" y="98"/>
                      </a:lnTo>
                      <a:lnTo>
                        <a:pt x="2888" y="106"/>
                      </a:lnTo>
                      <a:lnTo>
                        <a:pt x="2890" y="112"/>
                      </a:lnTo>
                      <a:lnTo>
                        <a:pt x="2892" y="121"/>
                      </a:lnTo>
                      <a:lnTo>
                        <a:pt x="2893" y="129"/>
                      </a:lnTo>
                      <a:lnTo>
                        <a:pt x="2894" y="138"/>
                      </a:lnTo>
                      <a:lnTo>
                        <a:pt x="2895" y="147"/>
                      </a:lnTo>
                      <a:lnTo>
                        <a:pt x="2896" y="155"/>
                      </a:lnTo>
                      <a:lnTo>
                        <a:pt x="2897" y="164"/>
                      </a:lnTo>
                      <a:lnTo>
                        <a:pt x="2898" y="173"/>
                      </a:lnTo>
                      <a:lnTo>
                        <a:pt x="2898" y="181"/>
                      </a:lnTo>
                      <a:lnTo>
                        <a:pt x="2899" y="190"/>
                      </a:lnTo>
                      <a:lnTo>
                        <a:pt x="2888" y="186"/>
                      </a:lnTo>
                      <a:lnTo>
                        <a:pt x="2860" y="179"/>
                      </a:lnTo>
                      <a:lnTo>
                        <a:pt x="2813" y="166"/>
                      </a:lnTo>
                      <a:lnTo>
                        <a:pt x="2754" y="154"/>
                      </a:lnTo>
                      <a:lnTo>
                        <a:pt x="2679" y="139"/>
                      </a:lnTo>
                      <a:lnTo>
                        <a:pt x="2598" y="124"/>
                      </a:lnTo>
                      <a:lnTo>
                        <a:pt x="2506" y="112"/>
                      </a:lnTo>
                      <a:lnTo>
                        <a:pt x="2409" y="105"/>
                      </a:lnTo>
                      <a:lnTo>
                        <a:pt x="2307" y="99"/>
                      </a:lnTo>
                      <a:lnTo>
                        <a:pt x="2203" y="101"/>
                      </a:lnTo>
                      <a:lnTo>
                        <a:pt x="2099" y="109"/>
                      </a:lnTo>
                      <a:lnTo>
                        <a:pt x="2000" y="128"/>
                      </a:lnTo>
                      <a:lnTo>
                        <a:pt x="1902" y="154"/>
                      </a:lnTo>
                      <a:lnTo>
                        <a:pt x="1813" y="193"/>
                      </a:lnTo>
                      <a:lnTo>
                        <a:pt x="1731" y="245"/>
                      </a:lnTo>
                      <a:lnTo>
                        <a:pt x="1662" y="310"/>
                      </a:lnTo>
                      <a:lnTo>
                        <a:pt x="1605" y="381"/>
                      </a:lnTo>
                      <a:lnTo>
                        <a:pt x="1560" y="453"/>
                      </a:lnTo>
                      <a:lnTo>
                        <a:pt x="1525" y="522"/>
                      </a:lnTo>
                      <a:lnTo>
                        <a:pt x="1498" y="590"/>
                      </a:lnTo>
                      <a:lnTo>
                        <a:pt x="1472" y="654"/>
                      </a:lnTo>
                      <a:lnTo>
                        <a:pt x="1447" y="716"/>
                      </a:lnTo>
                      <a:lnTo>
                        <a:pt x="1418" y="772"/>
                      </a:lnTo>
                      <a:lnTo>
                        <a:pt x="1383" y="826"/>
                      </a:lnTo>
                      <a:lnTo>
                        <a:pt x="1335" y="873"/>
                      </a:lnTo>
                      <a:lnTo>
                        <a:pt x="1275" y="915"/>
                      </a:lnTo>
                      <a:lnTo>
                        <a:pt x="1199" y="950"/>
                      </a:lnTo>
                      <a:lnTo>
                        <a:pt x="1103" y="978"/>
                      </a:lnTo>
                      <a:lnTo>
                        <a:pt x="984" y="998"/>
                      </a:lnTo>
                      <a:lnTo>
                        <a:pt x="838" y="1010"/>
                      </a:lnTo>
                      <a:lnTo>
                        <a:pt x="662" y="1011"/>
                      </a:lnTo>
                      <a:lnTo>
                        <a:pt x="454" y="1006"/>
                      </a:lnTo>
                      <a:lnTo>
                        <a:pt x="0" y="666"/>
                      </a:lnTo>
                      <a:lnTo>
                        <a:pt x="0" y="666"/>
                      </a:lnTo>
                      <a:close/>
                    </a:path>
                  </a:pathLst>
                </a:custGeom>
                <a:solidFill>
                  <a:srgbClr val="bfad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 flipH="1">
                  <a:off x="1976760" y="5014440"/>
                  <a:ext cx="1156320" cy="638640"/>
                </a:xfrm>
                <a:custGeom>
                  <a:avLst/>
                  <a:gdLst/>
                  <a:ahLst/>
                  <a:rect l="l" t="t" r="r" b="b"/>
                  <a:pathLst>
                    <a:path w="1778" h="1132">
                      <a:moveTo>
                        <a:pt x="637" y="21"/>
                      </a:moveTo>
                      <a:lnTo>
                        <a:pt x="643" y="21"/>
                      </a:lnTo>
                      <a:lnTo>
                        <a:pt x="657" y="24"/>
                      </a:lnTo>
                      <a:lnTo>
                        <a:pt x="679" y="26"/>
                      </a:lnTo>
                      <a:lnTo>
                        <a:pt x="711" y="31"/>
                      </a:lnTo>
                      <a:lnTo>
                        <a:pt x="746" y="36"/>
                      </a:lnTo>
                      <a:lnTo>
                        <a:pt x="786" y="45"/>
                      </a:lnTo>
                      <a:lnTo>
                        <a:pt x="829" y="53"/>
                      </a:lnTo>
                      <a:lnTo>
                        <a:pt x="875" y="66"/>
                      </a:lnTo>
                      <a:lnTo>
                        <a:pt x="919" y="77"/>
                      </a:lnTo>
                      <a:lnTo>
                        <a:pt x="964" y="90"/>
                      </a:lnTo>
                      <a:lnTo>
                        <a:pt x="1005" y="105"/>
                      </a:lnTo>
                      <a:lnTo>
                        <a:pt x="1044" y="124"/>
                      </a:lnTo>
                      <a:lnTo>
                        <a:pt x="1077" y="145"/>
                      </a:lnTo>
                      <a:lnTo>
                        <a:pt x="1104" y="167"/>
                      </a:lnTo>
                      <a:lnTo>
                        <a:pt x="1122" y="192"/>
                      </a:lnTo>
                      <a:lnTo>
                        <a:pt x="1133" y="218"/>
                      </a:lnTo>
                      <a:lnTo>
                        <a:pt x="1132" y="245"/>
                      </a:lnTo>
                      <a:lnTo>
                        <a:pt x="1122" y="270"/>
                      </a:lnTo>
                      <a:lnTo>
                        <a:pt x="1104" y="293"/>
                      </a:lnTo>
                      <a:lnTo>
                        <a:pt x="1080" y="317"/>
                      </a:lnTo>
                      <a:lnTo>
                        <a:pt x="1050" y="336"/>
                      </a:lnTo>
                      <a:lnTo>
                        <a:pt x="1016" y="357"/>
                      </a:lnTo>
                      <a:lnTo>
                        <a:pt x="979" y="375"/>
                      </a:lnTo>
                      <a:lnTo>
                        <a:pt x="941" y="393"/>
                      </a:lnTo>
                      <a:lnTo>
                        <a:pt x="902" y="407"/>
                      </a:lnTo>
                      <a:lnTo>
                        <a:pt x="864" y="419"/>
                      </a:lnTo>
                      <a:lnTo>
                        <a:pt x="828" y="430"/>
                      </a:lnTo>
                      <a:lnTo>
                        <a:pt x="797" y="440"/>
                      </a:lnTo>
                      <a:lnTo>
                        <a:pt x="770" y="448"/>
                      </a:lnTo>
                      <a:lnTo>
                        <a:pt x="749" y="454"/>
                      </a:lnTo>
                      <a:lnTo>
                        <a:pt x="735" y="457"/>
                      </a:lnTo>
                      <a:lnTo>
                        <a:pt x="732" y="459"/>
                      </a:lnTo>
                      <a:lnTo>
                        <a:pt x="727" y="460"/>
                      </a:lnTo>
                      <a:lnTo>
                        <a:pt x="714" y="466"/>
                      </a:lnTo>
                      <a:lnTo>
                        <a:pt x="696" y="474"/>
                      </a:lnTo>
                      <a:lnTo>
                        <a:pt x="675" y="486"/>
                      </a:lnTo>
                      <a:lnTo>
                        <a:pt x="650" y="499"/>
                      </a:lnTo>
                      <a:lnTo>
                        <a:pt x="627" y="517"/>
                      </a:lnTo>
                      <a:lnTo>
                        <a:pt x="605" y="533"/>
                      </a:lnTo>
                      <a:lnTo>
                        <a:pt x="588" y="554"/>
                      </a:lnTo>
                      <a:lnTo>
                        <a:pt x="576" y="572"/>
                      </a:lnTo>
                      <a:lnTo>
                        <a:pt x="574" y="593"/>
                      </a:lnTo>
                      <a:lnTo>
                        <a:pt x="581" y="613"/>
                      </a:lnTo>
                      <a:lnTo>
                        <a:pt x="601" y="634"/>
                      </a:lnTo>
                      <a:lnTo>
                        <a:pt x="634" y="653"/>
                      </a:lnTo>
                      <a:lnTo>
                        <a:pt x="685" y="671"/>
                      </a:lnTo>
                      <a:lnTo>
                        <a:pt x="752" y="688"/>
                      </a:lnTo>
                      <a:lnTo>
                        <a:pt x="842" y="703"/>
                      </a:lnTo>
                      <a:lnTo>
                        <a:pt x="937" y="716"/>
                      </a:lnTo>
                      <a:lnTo>
                        <a:pt x="1024" y="727"/>
                      </a:lnTo>
                      <a:lnTo>
                        <a:pt x="1105" y="737"/>
                      </a:lnTo>
                      <a:lnTo>
                        <a:pt x="1181" y="747"/>
                      </a:lnTo>
                      <a:lnTo>
                        <a:pt x="1248" y="754"/>
                      </a:lnTo>
                      <a:lnTo>
                        <a:pt x="1309" y="763"/>
                      </a:lnTo>
                      <a:lnTo>
                        <a:pt x="1364" y="773"/>
                      </a:lnTo>
                      <a:lnTo>
                        <a:pt x="1416" y="782"/>
                      </a:lnTo>
                      <a:lnTo>
                        <a:pt x="1459" y="790"/>
                      </a:lnTo>
                      <a:lnTo>
                        <a:pt x="1499" y="800"/>
                      </a:lnTo>
                      <a:lnTo>
                        <a:pt x="1532" y="811"/>
                      </a:lnTo>
                      <a:lnTo>
                        <a:pt x="1561" y="824"/>
                      </a:lnTo>
                      <a:lnTo>
                        <a:pt x="1584" y="838"/>
                      </a:lnTo>
                      <a:lnTo>
                        <a:pt x="1603" y="855"/>
                      </a:lnTo>
                      <a:lnTo>
                        <a:pt x="1619" y="874"/>
                      </a:lnTo>
                      <a:lnTo>
                        <a:pt x="1631" y="896"/>
                      </a:lnTo>
                      <a:lnTo>
                        <a:pt x="1619" y="916"/>
                      </a:lnTo>
                      <a:lnTo>
                        <a:pt x="1573" y="936"/>
                      </a:lnTo>
                      <a:lnTo>
                        <a:pt x="1497" y="951"/>
                      </a:lnTo>
                      <a:lnTo>
                        <a:pt x="1395" y="968"/>
                      </a:lnTo>
                      <a:lnTo>
                        <a:pt x="1273" y="980"/>
                      </a:lnTo>
                      <a:lnTo>
                        <a:pt x="1134" y="992"/>
                      </a:lnTo>
                      <a:lnTo>
                        <a:pt x="986" y="1001"/>
                      </a:lnTo>
                      <a:lnTo>
                        <a:pt x="833" y="1010"/>
                      </a:lnTo>
                      <a:lnTo>
                        <a:pt x="678" y="1015"/>
                      </a:lnTo>
                      <a:lnTo>
                        <a:pt x="528" y="1021"/>
                      </a:lnTo>
                      <a:lnTo>
                        <a:pt x="386" y="1025"/>
                      </a:lnTo>
                      <a:lnTo>
                        <a:pt x="261" y="1029"/>
                      </a:lnTo>
                      <a:lnTo>
                        <a:pt x="153" y="1030"/>
                      </a:lnTo>
                      <a:lnTo>
                        <a:pt x="72" y="1032"/>
                      </a:lnTo>
                      <a:lnTo>
                        <a:pt x="18" y="1033"/>
                      </a:lnTo>
                      <a:lnTo>
                        <a:pt x="0" y="1034"/>
                      </a:lnTo>
                      <a:lnTo>
                        <a:pt x="22" y="1132"/>
                      </a:lnTo>
                      <a:lnTo>
                        <a:pt x="39" y="1132"/>
                      </a:lnTo>
                      <a:lnTo>
                        <a:pt x="90" y="1131"/>
                      </a:lnTo>
                      <a:lnTo>
                        <a:pt x="168" y="1128"/>
                      </a:lnTo>
                      <a:lnTo>
                        <a:pt x="271" y="1126"/>
                      </a:lnTo>
                      <a:lnTo>
                        <a:pt x="393" y="1121"/>
                      </a:lnTo>
                      <a:lnTo>
                        <a:pt x="530" y="1116"/>
                      </a:lnTo>
                      <a:lnTo>
                        <a:pt x="678" y="1109"/>
                      </a:lnTo>
                      <a:lnTo>
                        <a:pt x="833" y="1100"/>
                      </a:lnTo>
                      <a:lnTo>
                        <a:pt x="986" y="1089"/>
                      </a:lnTo>
                      <a:lnTo>
                        <a:pt x="1140" y="1078"/>
                      </a:lnTo>
                      <a:lnTo>
                        <a:pt x="1286" y="1064"/>
                      </a:lnTo>
                      <a:lnTo>
                        <a:pt x="1421" y="1050"/>
                      </a:lnTo>
                      <a:lnTo>
                        <a:pt x="1539" y="1031"/>
                      </a:lnTo>
                      <a:lnTo>
                        <a:pt x="1639" y="1012"/>
                      </a:lnTo>
                      <a:lnTo>
                        <a:pt x="1713" y="990"/>
                      </a:lnTo>
                      <a:lnTo>
                        <a:pt x="1758" y="965"/>
                      </a:lnTo>
                      <a:lnTo>
                        <a:pt x="1777" y="938"/>
                      </a:lnTo>
                      <a:lnTo>
                        <a:pt x="1778" y="912"/>
                      </a:lnTo>
                      <a:lnTo>
                        <a:pt x="1763" y="885"/>
                      </a:lnTo>
                      <a:lnTo>
                        <a:pt x="1736" y="858"/>
                      </a:lnTo>
                      <a:lnTo>
                        <a:pt x="1695" y="832"/>
                      </a:lnTo>
                      <a:lnTo>
                        <a:pt x="1642" y="805"/>
                      </a:lnTo>
                      <a:lnTo>
                        <a:pt x="1581" y="781"/>
                      </a:lnTo>
                      <a:lnTo>
                        <a:pt x="1513" y="758"/>
                      </a:lnTo>
                      <a:lnTo>
                        <a:pt x="1437" y="734"/>
                      </a:lnTo>
                      <a:lnTo>
                        <a:pt x="1358" y="713"/>
                      </a:lnTo>
                      <a:lnTo>
                        <a:pt x="1275" y="694"/>
                      </a:lnTo>
                      <a:lnTo>
                        <a:pt x="1192" y="679"/>
                      </a:lnTo>
                      <a:lnTo>
                        <a:pt x="1109" y="665"/>
                      </a:lnTo>
                      <a:lnTo>
                        <a:pt x="1029" y="654"/>
                      </a:lnTo>
                      <a:lnTo>
                        <a:pt x="952" y="645"/>
                      </a:lnTo>
                      <a:lnTo>
                        <a:pt x="881" y="640"/>
                      </a:lnTo>
                      <a:lnTo>
                        <a:pt x="818" y="635"/>
                      </a:lnTo>
                      <a:lnTo>
                        <a:pt x="771" y="629"/>
                      </a:lnTo>
                      <a:lnTo>
                        <a:pt x="734" y="621"/>
                      </a:lnTo>
                      <a:lnTo>
                        <a:pt x="710" y="612"/>
                      </a:lnTo>
                      <a:lnTo>
                        <a:pt x="693" y="600"/>
                      </a:lnTo>
                      <a:lnTo>
                        <a:pt x="687" y="587"/>
                      </a:lnTo>
                      <a:lnTo>
                        <a:pt x="687" y="576"/>
                      </a:lnTo>
                      <a:lnTo>
                        <a:pt x="694" y="564"/>
                      </a:lnTo>
                      <a:lnTo>
                        <a:pt x="706" y="551"/>
                      </a:lnTo>
                      <a:lnTo>
                        <a:pt x="721" y="539"/>
                      </a:lnTo>
                      <a:lnTo>
                        <a:pt x="739" y="527"/>
                      </a:lnTo>
                      <a:lnTo>
                        <a:pt x="760" y="518"/>
                      </a:lnTo>
                      <a:lnTo>
                        <a:pt x="781" y="508"/>
                      </a:lnTo>
                      <a:lnTo>
                        <a:pt x="801" y="501"/>
                      </a:lnTo>
                      <a:lnTo>
                        <a:pt x="818" y="496"/>
                      </a:lnTo>
                      <a:lnTo>
                        <a:pt x="835" y="496"/>
                      </a:lnTo>
                      <a:lnTo>
                        <a:pt x="850" y="492"/>
                      </a:lnTo>
                      <a:lnTo>
                        <a:pt x="874" y="486"/>
                      </a:lnTo>
                      <a:lnTo>
                        <a:pt x="901" y="477"/>
                      </a:lnTo>
                      <a:lnTo>
                        <a:pt x="934" y="468"/>
                      </a:lnTo>
                      <a:lnTo>
                        <a:pt x="969" y="454"/>
                      </a:lnTo>
                      <a:lnTo>
                        <a:pt x="1007" y="438"/>
                      </a:lnTo>
                      <a:lnTo>
                        <a:pt x="1044" y="422"/>
                      </a:lnTo>
                      <a:lnTo>
                        <a:pt x="1083" y="404"/>
                      </a:lnTo>
                      <a:lnTo>
                        <a:pt x="1118" y="383"/>
                      </a:lnTo>
                      <a:lnTo>
                        <a:pt x="1150" y="362"/>
                      </a:lnTo>
                      <a:lnTo>
                        <a:pt x="1180" y="340"/>
                      </a:lnTo>
                      <a:lnTo>
                        <a:pt x="1204" y="318"/>
                      </a:lnTo>
                      <a:lnTo>
                        <a:pt x="1220" y="293"/>
                      </a:lnTo>
                      <a:lnTo>
                        <a:pt x="1230" y="269"/>
                      </a:lnTo>
                      <a:lnTo>
                        <a:pt x="1231" y="245"/>
                      </a:lnTo>
                      <a:lnTo>
                        <a:pt x="1223" y="221"/>
                      </a:lnTo>
                      <a:lnTo>
                        <a:pt x="1206" y="197"/>
                      </a:lnTo>
                      <a:lnTo>
                        <a:pt x="1192" y="177"/>
                      </a:lnTo>
                      <a:lnTo>
                        <a:pt x="1175" y="160"/>
                      </a:lnTo>
                      <a:lnTo>
                        <a:pt x="1159" y="143"/>
                      </a:lnTo>
                      <a:lnTo>
                        <a:pt x="1142" y="127"/>
                      </a:lnTo>
                      <a:lnTo>
                        <a:pt x="1126" y="115"/>
                      </a:lnTo>
                      <a:lnTo>
                        <a:pt x="1110" y="103"/>
                      </a:lnTo>
                      <a:lnTo>
                        <a:pt x="1096" y="95"/>
                      </a:lnTo>
                      <a:lnTo>
                        <a:pt x="1080" y="87"/>
                      </a:lnTo>
                      <a:lnTo>
                        <a:pt x="1067" y="80"/>
                      </a:lnTo>
                      <a:lnTo>
                        <a:pt x="1055" y="74"/>
                      </a:lnTo>
                      <a:lnTo>
                        <a:pt x="1045" y="71"/>
                      </a:lnTo>
                      <a:lnTo>
                        <a:pt x="1036" y="67"/>
                      </a:lnTo>
                      <a:lnTo>
                        <a:pt x="1032" y="67"/>
                      </a:lnTo>
                      <a:lnTo>
                        <a:pt x="1027" y="66"/>
                      </a:lnTo>
                      <a:lnTo>
                        <a:pt x="1026" y="66"/>
                      </a:lnTo>
                      <a:lnTo>
                        <a:pt x="1024" y="64"/>
                      </a:lnTo>
                      <a:lnTo>
                        <a:pt x="1022" y="62"/>
                      </a:lnTo>
                      <a:lnTo>
                        <a:pt x="1015" y="58"/>
                      </a:lnTo>
                      <a:lnTo>
                        <a:pt x="1010" y="56"/>
                      </a:lnTo>
                      <a:lnTo>
                        <a:pt x="998" y="49"/>
                      </a:lnTo>
                      <a:lnTo>
                        <a:pt x="989" y="45"/>
                      </a:lnTo>
                      <a:lnTo>
                        <a:pt x="975" y="38"/>
                      </a:lnTo>
                      <a:lnTo>
                        <a:pt x="963" y="32"/>
                      </a:lnTo>
                      <a:lnTo>
                        <a:pt x="947" y="27"/>
                      </a:lnTo>
                      <a:lnTo>
                        <a:pt x="930" y="20"/>
                      </a:lnTo>
                      <a:lnTo>
                        <a:pt x="910" y="15"/>
                      </a:lnTo>
                      <a:lnTo>
                        <a:pt x="890" y="10"/>
                      </a:lnTo>
                      <a:lnTo>
                        <a:pt x="868" y="6"/>
                      </a:lnTo>
                      <a:lnTo>
                        <a:pt x="846" y="3"/>
                      </a:lnTo>
                      <a:lnTo>
                        <a:pt x="822" y="0"/>
                      </a:lnTo>
                      <a:lnTo>
                        <a:pt x="798" y="0"/>
                      </a:lnTo>
                      <a:lnTo>
                        <a:pt x="794" y="0"/>
                      </a:lnTo>
                      <a:lnTo>
                        <a:pt x="788" y="0"/>
                      </a:lnTo>
                      <a:lnTo>
                        <a:pt x="780" y="1"/>
                      </a:lnTo>
                      <a:lnTo>
                        <a:pt x="770" y="4"/>
                      </a:lnTo>
                      <a:lnTo>
                        <a:pt x="756" y="5"/>
                      </a:lnTo>
                      <a:lnTo>
                        <a:pt x="743" y="7"/>
                      </a:lnTo>
                      <a:lnTo>
                        <a:pt x="729" y="8"/>
                      </a:lnTo>
                      <a:lnTo>
                        <a:pt x="714" y="10"/>
                      </a:lnTo>
                      <a:lnTo>
                        <a:pt x="700" y="11"/>
                      </a:lnTo>
                      <a:lnTo>
                        <a:pt x="686" y="14"/>
                      </a:lnTo>
                      <a:lnTo>
                        <a:pt x="671" y="16"/>
                      </a:lnTo>
                      <a:lnTo>
                        <a:pt x="660" y="18"/>
                      </a:lnTo>
                      <a:lnTo>
                        <a:pt x="650" y="19"/>
                      </a:lnTo>
                      <a:lnTo>
                        <a:pt x="644" y="20"/>
                      </a:lnTo>
                      <a:lnTo>
                        <a:pt x="638" y="20"/>
                      </a:lnTo>
                      <a:lnTo>
                        <a:pt x="637" y="21"/>
                      </a:lnTo>
                      <a:lnTo>
                        <a:pt x="637" y="21"/>
                      </a:lnTo>
                      <a:close/>
                    </a:path>
                  </a:pathLst>
                </a:custGeom>
                <a:solidFill>
                  <a:srgbClr val="b39f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 flipH="1">
                  <a:off x="1465560" y="5896080"/>
                  <a:ext cx="1722960" cy="492840"/>
                </a:xfrm>
                <a:custGeom>
                  <a:avLst/>
                  <a:gdLst/>
                  <a:ahLst/>
                  <a:rect l="l" t="t" r="r" b="b"/>
                  <a:pathLst>
                    <a:path w="2650" h="874">
                      <a:moveTo>
                        <a:pt x="46" y="0"/>
                      </a:moveTo>
                      <a:lnTo>
                        <a:pt x="46" y="2"/>
                      </a:lnTo>
                      <a:lnTo>
                        <a:pt x="46" y="6"/>
                      </a:lnTo>
                      <a:lnTo>
                        <a:pt x="48" y="10"/>
                      </a:lnTo>
                      <a:lnTo>
                        <a:pt x="51" y="20"/>
                      </a:lnTo>
                      <a:lnTo>
                        <a:pt x="53" y="30"/>
                      </a:lnTo>
                      <a:lnTo>
                        <a:pt x="57" y="44"/>
                      </a:lnTo>
                      <a:lnTo>
                        <a:pt x="63" y="57"/>
                      </a:lnTo>
                      <a:lnTo>
                        <a:pt x="71" y="72"/>
                      </a:lnTo>
                      <a:lnTo>
                        <a:pt x="78" y="88"/>
                      </a:lnTo>
                      <a:lnTo>
                        <a:pt x="90" y="106"/>
                      </a:lnTo>
                      <a:lnTo>
                        <a:pt x="103" y="124"/>
                      </a:lnTo>
                      <a:lnTo>
                        <a:pt x="119" y="143"/>
                      </a:lnTo>
                      <a:lnTo>
                        <a:pt x="136" y="162"/>
                      </a:lnTo>
                      <a:lnTo>
                        <a:pt x="158" y="182"/>
                      </a:lnTo>
                      <a:lnTo>
                        <a:pt x="181" y="201"/>
                      </a:lnTo>
                      <a:lnTo>
                        <a:pt x="208" y="220"/>
                      </a:lnTo>
                      <a:lnTo>
                        <a:pt x="235" y="238"/>
                      </a:lnTo>
                      <a:lnTo>
                        <a:pt x="266" y="256"/>
                      </a:lnTo>
                      <a:lnTo>
                        <a:pt x="297" y="271"/>
                      </a:lnTo>
                      <a:lnTo>
                        <a:pt x="331" y="288"/>
                      </a:lnTo>
                      <a:lnTo>
                        <a:pt x="364" y="300"/>
                      </a:lnTo>
                      <a:lnTo>
                        <a:pt x="396" y="313"/>
                      </a:lnTo>
                      <a:lnTo>
                        <a:pt x="428" y="326"/>
                      </a:lnTo>
                      <a:lnTo>
                        <a:pt x="460" y="338"/>
                      </a:lnTo>
                      <a:lnTo>
                        <a:pt x="490" y="347"/>
                      </a:lnTo>
                      <a:lnTo>
                        <a:pt x="517" y="356"/>
                      </a:lnTo>
                      <a:lnTo>
                        <a:pt x="543" y="363"/>
                      </a:lnTo>
                      <a:lnTo>
                        <a:pt x="567" y="371"/>
                      </a:lnTo>
                      <a:lnTo>
                        <a:pt x="586" y="377"/>
                      </a:lnTo>
                      <a:lnTo>
                        <a:pt x="604" y="383"/>
                      </a:lnTo>
                      <a:lnTo>
                        <a:pt x="616" y="387"/>
                      </a:lnTo>
                      <a:lnTo>
                        <a:pt x="625" y="393"/>
                      </a:lnTo>
                      <a:lnTo>
                        <a:pt x="630" y="396"/>
                      </a:lnTo>
                      <a:lnTo>
                        <a:pt x="639" y="405"/>
                      </a:lnTo>
                      <a:lnTo>
                        <a:pt x="650" y="414"/>
                      </a:lnTo>
                      <a:lnTo>
                        <a:pt x="664" y="426"/>
                      </a:lnTo>
                      <a:lnTo>
                        <a:pt x="680" y="437"/>
                      </a:lnTo>
                      <a:lnTo>
                        <a:pt x="698" y="452"/>
                      </a:lnTo>
                      <a:lnTo>
                        <a:pt x="719" y="465"/>
                      </a:lnTo>
                      <a:lnTo>
                        <a:pt x="741" y="480"/>
                      </a:lnTo>
                      <a:lnTo>
                        <a:pt x="764" y="494"/>
                      </a:lnTo>
                      <a:lnTo>
                        <a:pt x="788" y="508"/>
                      </a:lnTo>
                      <a:lnTo>
                        <a:pt x="815" y="520"/>
                      </a:lnTo>
                      <a:lnTo>
                        <a:pt x="845" y="532"/>
                      </a:lnTo>
                      <a:lnTo>
                        <a:pt x="873" y="542"/>
                      </a:lnTo>
                      <a:lnTo>
                        <a:pt x="905" y="551"/>
                      </a:lnTo>
                      <a:lnTo>
                        <a:pt x="937" y="557"/>
                      </a:lnTo>
                      <a:lnTo>
                        <a:pt x="972" y="561"/>
                      </a:lnTo>
                      <a:lnTo>
                        <a:pt x="1008" y="561"/>
                      </a:lnTo>
                      <a:lnTo>
                        <a:pt x="1050" y="562"/>
                      </a:lnTo>
                      <a:lnTo>
                        <a:pt x="1096" y="561"/>
                      </a:lnTo>
                      <a:lnTo>
                        <a:pt x="1146" y="560"/>
                      </a:lnTo>
                      <a:lnTo>
                        <a:pt x="1197" y="558"/>
                      </a:lnTo>
                      <a:lnTo>
                        <a:pt x="1251" y="555"/>
                      </a:lnTo>
                      <a:lnTo>
                        <a:pt x="1306" y="553"/>
                      </a:lnTo>
                      <a:lnTo>
                        <a:pt x="1360" y="551"/>
                      </a:lnTo>
                      <a:lnTo>
                        <a:pt x="1412" y="548"/>
                      </a:lnTo>
                      <a:lnTo>
                        <a:pt x="1463" y="544"/>
                      </a:lnTo>
                      <a:lnTo>
                        <a:pt x="1509" y="543"/>
                      </a:lnTo>
                      <a:lnTo>
                        <a:pt x="1553" y="541"/>
                      </a:lnTo>
                      <a:lnTo>
                        <a:pt x="1592" y="539"/>
                      </a:lnTo>
                      <a:lnTo>
                        <a:pt x="1625" y="539"/>
                      </a:lnTo>
                      <a:lnTo>
                        <a:pt x="1652" y="539"/>
                      </a:lnTo>
                      <a:lnTo>
                        <a:pt x="1670" y="541"/>
                      </a:lnTo>
                      <a:lnTo>
                        <a:pt x="1688" y="543"/>
                      </a:lnTo>
                      <a:lnTo>
                        <a:pt x="1712" y="548"/>
                      </a:lnTo>
                      <a:lnTo>
                        <a:pt x="1743" y="555"/>
                      </a:lnTo>
                      <a:lnTo>
                        <a:pt x="1780" y="564"/>
                      </a:lnTo>
                      <a:lnTo>
                        <a:pt x="1817" y="573"/>
                      </a:lnTo>
                      <a:lnTo>
                        <a:pt x="1859" y="584"/>
                      </a:lnTo>
                      <a:lnTo>
                        <a:pt x="1901" y="595"/>
                      </a:lnTo>
                      <a:lnTo>
                        <a:pt x="1946" y="607"/>
                      </a:lnTo>
                      <a:lnTo>
                        <a:pt x="1987" y="619"/>
                      </a:lnTo>
                      <a:lnTo>
                        <a:pt x="2029" y="630"/>
                      </a:lnTo>
                      <a:lnTo>
                        <a:pt x="2066" y="638"/>
                      </a:lnTo>
                      <a:lnTo>
                        <a:pt x="2102" y="648"/>
                      </a:lnTo>
                      <a:lnTo>
                        <a:pt x="2131" y="657"/>
                      </a:lnTo>
                      <a:lnTo>
                        <a:pt x="2156" y="663"/>
                      </a:lnTo>
                      <a:lnTo>
                        <a:pt x="2172" y="668"/>
                      </a:lnTo>
                      <a:lnTo>
                        <a:pt x="2181" y="672"/>
                      </a:lnTo>
                      <a:lnTo>
                        <a:pt x="2190" y="672"/>
                      </a:lnTo>
                      <a:lnTo>
                        <a:pt x="2207" y="672"/>
                      </a:lnTo>
                      <a:lnTo>
                        <a:pt x="2232" y="672"/>
                      </a:lnTo>
                      <a:lnTo>
                        <a:pt x="2263" y="673"/>
                      </a:lnTo>
                      <a:lnTo>
                        <a:pt x="2298" y="673"/>
                      </a:lnTo>
                      <a:lnTo>
                        <a:pt x="2339" y="674"/>
                      </a:lnTo>
                      <a:lnTo>
                        <a:pt x="2380" y="674"/>
                      </a:lnTo>
                      <a:lnTo>
                        <a:pt x="2423" y="675"/>
                      </a:lnTo>
                      <a:lnTo>
                        <a:pt x="2465" y="675"/>
                      </a:lnTo>
                      <a:lnTo>
                        <a:pt x="2506" y="675"/>
                      </a:lnTo>
                      <a:lnTo>
                        <a:pt x="2544" y="675"/>
                      </a:lnTo>
                      <a:lnTo>
                        <a:pt x="2579" y="675"/>
                      </a:lnTo>
                      <a:lnTo>
                        <a:pt x="2607" y="675"/>
                      </a:lnTo>
                      <a:lnTo>
                        <a:pt x="2629" y="675"/>
                      </a:lnTo>
                      <a:lnTo>
                        <a:pt x="2643" y="675"/>
                      </a:lnTo>
                      <a:lnTo>
                        <a:pt x="2650" y="676"/>
                      </a:lnTo>
                      <a:lnTo>
                        <a:pt x="2647" y="676"/>
                      </a:lnTo>
                      <a:lnTo>
                        <a:pt x="2641" y="678"/>
                      </a:lnTo>
                      <a:lnTo>
                        <a:pt x="2633" y="682"/>
                      </a:lnTo>
                      <a:lnTo>
                        <a:pt x="2622" y="687"/>
                      </a:lnTo>
                      <a:lnTo>
                        <a:pt x="2607" y="693"/>
                      </a:lnTo>
                      <a:lnTo>
                        <a:pt x="2591" y="700"/>
                      </a:lnTo>
                      <a:lnTo>
                        <a:pt x="2571" y="708"/>
                      </a:lnTo>
                      <a:lnTo>
                        <a:pt x="2550" y="718"/>
                      </a:lnTo>
                      <a:lnTo>
                        <a:pt x="2526" y="727"/>
                      </a:lnTo>
                      <a:lnTo>
                        <a:pt x="2501" y="737"/>
                      </a:lnTo>
                      <a:lnTo>
                        <a:pt x="2473" y="747"/>
                      </a:lnTo>
                      <a:lnTo>
                        <a:pt x="2444" y="758"/>
                      </a:lnTo>
                      <a:lnTo>
                        <a:pt x="2413" y="768"/>
                      </a:lnTo>
                      <a:lnTo>
                        <a:pt x="2383" y="778"/>
                      </a:lnTo>
                      <a:lnTo>
                        <a:pt x="2351" y="788"/>
                      </a:lnTo>
                      <a:lnTo>
                        <a:pt x="2319" y="799"/>
                      </a:lnTo>
                      <a:lnTo>
                        <a:pt x="2287" y="809"/>
                      </a:lnTo>
                      <a:lnTo>
                        <a:pt x="2260" y="818"/>
                      </a:lnTo>
                      <a:lnTo>
                        <a:pt x="2233" y="824"/>
                      </a:lnTo>
                      <a:lnTo>
                        <a:pt x="2211" y="833"/>
                      </a:lnTo>
                      <a:lnTo>
                        <a:pt x="2189" y="839"/>
                      </a:lnTo>
                      <a:lnTo>
                        <a:pt x="2170" y="845"/>
                      </a:lnTo>
                      <a:lnTo>
                        <a:pt x="2152" y="851"/>
                      </a:lnTo>
                      <a:lnTo>
                        <a:pt x="2135" y="856"/>
                      </a:lnTo>
                      <a:lnTo>
                        <a:pt x="2117" y="861"/>
                      </a:lnTo>
                      <a:lnTo>
                        <a:pt x="2102" y="865"/>
                      </a:lnTo>
                      <a:lnTo>
                        <a:pt x="2083" y="867"/>
                      </a:lnTo>
                      <a:lnTo>
                        <a:pt x="2066" y="871"/>
                      </a:lnTo>
                      <a:lnTo>
                        <a:pt x="2045" y="872"/>
                      </a:lnTo>
                      <a:lnTo>
                        <a:pt x="2024" y="874"/>
                      </a:lnTo>
                      <a:lnTo>
                        <a:pt x="2001" y="874"/>
                      </a:lnTo>
                      <a:lnTo>
                        <a:pt x="1977" y="874"/>
                      </a:lnTo>
                      <a:lnTo>
                        <a:pt x="1946" y="874"/>
                      </a:lnTo>
                      <a:lnTo>
                        <a:pt x="1910" y="872"/>
                      </a:lnTo>
                      <a:lnTo>
                        <a:pt x="1869" y="867"/>
                      </a:lnTo>
                      <a:lnTo>
                        <a:pt x="1826" y="862"/>
                      </a:lnTo>
                      <a:lnTo>
                        <a:pt x="1778" y="855"/>
                      </a:lnTo>
                      <a:lnTo>
                        <a:pt x="1729" y="848"/>
                      </a:lnTo>
                      <a:lnTo>
                        <a:pt x="1678" y="841"/>
                      </a:lnTo>
                      <a:lnTo>
                        <a:pt x="1630" y="834"/>
                      </a:lnTo>
                      <a:lnTo>
                        <a:pt x="1579" y="824"/>
                      </a:lnTo>
                      <a:lnTo>
                        <a:pt x="1532" y="818"/>
                      </a:lnTo>
                      <a:lnTo>
                        <a:pt x="1488" y="810"/>
                      </a:lnTo>
                      <a:lnTo>
                        <a:pt x="1450" y="804"/>
                      </a:lnTo>
                      <a:lnTo>
                        <a:pt x="1415" y="799"/>
                      </a:lnTo>
                      <a:lnTo>
                        <a:pt x="1385" y="794"/>
                      </a:lnTo>
                      <a:lnTo>
                        <a:pt x="1363" y="791"/>
                      </a:lnTo>
                      <a:lnTo>
                        <a:pt x="1350" y="791"/>
                      </a:lnTo>
                      <a:lnTo>
                        <a:pt x="1339" y="791"/>
                      </a:lnTo>
                      <a:lnTo>
                        <a:pt x="1329" y="791"/>
                      </a:lnTo>
                      <a:lnTo>
                        <a:pt x="1318" y="791"/>
                      </a:lnTo>
                      <a:lnTo>
                        <a:pt x="1307" y="791"/>
                      </a:lnTo>
                      <a:lnTo>
                        <a:pt x="1293" y="791"/>
                      </a:lnTo>
                      <a:lnTo>
                        <a:pt x="1279" y="791"/>
                      </a:lnTo>
                      <a:lnTo>
                        <a:pt x="1264" y="791"/>
                      </a:lnTo>
                      <a:lnTo>
                        <a:pt x="1247" y="791"/>
                      </a:lnTo>
                      <a:lnTo>
                        <a:pt x="1226" y="790"/>
                      </a:lnTo>
                      <a:lnTo>
                        <a:pt x="1205" y="790"/>
                      </a:lnTo>
                      <a:lnTo>
                        <a:pt x="1181" y="790"/>
                      </a:lnTo>
                      <a:lnTo>
                        <a:pt x="1154" y="790"/>
                      </a:lnTo>
                      <a:lnTo>
                        <a:pt x="1124" y="789"/>
                      </a:lnTo>
                      <a:lnTo>
                        <a:pt x="1091" y="788"/>
                      </a:lnTo>
                      <a:lnTo>
                        <a:pt x="1055" y="788"/>
                      </a:lnTo>
                      <a:lnTo>
                        <a:pt x="1016" y="787"/>
                      </a:lnTo>
                      <a:lnTo>
                        <a:pt x="973" y="783"/>
                      </a:lnTo>
                      <a:lnTo>
                        <a:pt x="934" y="783"/>
                      </a:lnTo>
                      <a:lnTo>
                        <a:pt x="895" y="783"/>
                      </a:lnTo>
                      <a:lnTo>
                        <a:pt x="860" y="783"/>
                      </a:lnTo>
                      <a:lnTo>
                        <a:pt x="826" y="782"/>
                      </a:lnTo>
                      <a:lnTo>
                        <a:pt x="794" y="781"/>
                      </a:lnTo>
                      <a:lnTo>
                        <a:pt x="763" y="780"/>
                      </a:lnTo>
                      <a:lnTo>
                        <a:pt x="733" y="780"/>
                      </a:lnTo>
                      <a:lnTo>
                        <a:pt x="705" y="775"/>
                      </a:lnTo>
                      <a:lnTo>
                        <a:pt x="678" y="773"/>
                      </a:lnTo>
                      <a:lnTo>
                        <a:pt x="652" y="767"/>
                      </a:lnTo>
                      <a:lnTo>
                        <a:pt x="629" y="761"/>
                      </a:lnTo>
                      <a:lnTo>
                        <a:pt x="607" y="752"/>
                      </a:lnTo>
                      <a:lnTo>
                        <a:pt x="587" y="741"/>
                      </a:lnTo>
                      <a:lnTo>
                        <a:pt x="568" y="729"/>
                      </a:lnTo>
                      <a:lnTo>
                        <a:pt x="551" y="715"/>
                      </a:lnTo>
                      <a:lnTo>
                        <a:pt x="533" y="697"/>
                      </a:lnTo>
                      <a:lnTo>
                        <a:pt x="515" y="684"/>
                      </a:lnTo>
                      <a:lnTo>
                        <a:pt x="497" y="672"/>
                      </a:lnTo>
                      <a:lnTo>
                        <a:pt x="480" y="663"/>
                      </a:lnTo>
                      <a:lnTo>
                        <a:pt x="461" y="654"/>
                      </a:lnTo>
                      <a:lnTo>
                        <a:pt x="443" y="647"/>
                      </a:lnTo>
                      <a:lnTo>
                        <a:pt x="422" y="641"/>
                      </a:lnTo>
                      <a:lnTo>
                        <a:pt x="404" y="636"/>
                      </a:lnTo>
                      <a:lnTo>
                        <a:pt x="383" y="631"/>
                      </a:lnTo>
                      <a:lnTo>
                        <a:pt x="361" y="626"/>
                      </a:lnTo>
                      <a:lnTo>
                        <a:pt x="339" y="622"/>
                      </a:lnTo>
                      <a:lnTo>
                        <a:pt x="317" y="617"/>
                      </a:lnTo>
                      <a:lnTo>
                        <a:pt x="293" y="612"/>
                      </a:lnTo>
                      <a:lnTo>
                        <a:pt x="269" y="605"/>
                      </a:lnTo>
                      <a:lnTo>
                        <a:pt x="243" y="597"/>
                      </a:lnTo>
                      <a:lnTo>
                        <a:pt x="218" y="590"/>
                      </a:lnTo>
                      <a:lnTo>
                        <a:pt x="191" y="578"/>
                      </a:lnTo>
                      <a:lnTo>
                        <a:pt x="167" y="565"/>
                      </a:lnTo>
                      <a:lnTo>
                        <a:pt x="144" y="550"/>
                      </a:lnTo>
                      <a:lnTo>
                        <a:pt x="124" y="534"/>
                      </a:lnTo>
                      <a:lnTo>
                        <a:pt x="103" y="517"/>
                      </a:lnTo>
                      <a:lnTo>
                        <a:pt x="85" y="498"/>
                      </a:lnTo>
                      <a:lnTo>
                        <a:pt x="69" y="479"/>
                      </a:lnTo>
                      <a:lnTo>
                        <a:pt x="55" y="460"/>
                      </a:lnTo>
                      <a:lnTo>
                        <a:pt x="42" y="441"/>
                      </a:lnTo>
                      <a:lnTo>
                        <a:pt x="31" y="420"/>
                      </a:lnTo>
                      <a:lnTo>
                        <a:pt x="21" y="398"/>
                      </a:lnTo>
                      <a:lnTo>
                        <a:pt x="12" y="380"/>
                      </a:lnTo>
                      <a:lnTo>
                        <a:pt x="6" y="359"/>
                      </a:lnTo>
                      <a:lnTo>
                        <a:pt x="0" y="341"/>
                      </a:lnTo>
                      <a:lnTo>
                        <a:pt x="0" y="323"/>
                      </a:lnTo>
                      <a:lnTo>
                        <a:pt x="0" y="308"/>
                      </a:lnTo>
                      <a:lnTo>
                        <a:pt x="0" y="289"/>
                      </a:lnTo>
                      <a:lnTo>
                        <a:pt x="0" y="268"/>
                      </a:lnTo>
                      <a:lnTo>
                        <a:pt x="0" y="246"/>
                      </a:lnTo>
                      <a:lnTo>
                        <a:pt x="2" y="223"/>
                      </a:lnTo>
                      <a:lnTo>
                        <a:pt x="6" y="196"/>
                      </a:lnTo>
                      <a:lnTo>
                        <a:pt x="10" y="172"/>
                      </a:lnTo>
                      <a:lnTo>
                        <a:pt x="14" y="145"/>
                      </a:lnTo>
                      <a:lnTo>
                        <a:pt x="20" y="121"/>
                      </a:lnTo>
                      <a:lnTo>
                        <a:pt x="23" y="96"/>
                      </a:lnTo>
                      <a:lnTo>
                        <a:pt x="29" y="73"/>
                      </a:lnTo>
                      <a:lnTo>
                        <a:pt x="33" y="54"/>
                      </a:lnTo>
                      <a:lnTo>
                        <a:pt x="38" y="36"/>
                      </a:lnTo>
                      <a:lnTo>
                        <a:pt x="41" y="21"/>
                      </a:lnTo>
                      <a:lnTo>
                        <a:pt x="44" y="10"/>
                      </a:lnTo>
                      <a:lnTo>
                        <a:pt x="45" y="3"/>
                      </a:lnTo>
                      <a:lnTo>
                        <a:pt x="46" y="0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9e9e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 flipH="1">
                  <a:off x="1878840" y="5137560"/>
                  <a:ext cx="1230120" cy="924120"/>
                </a:xfrm>
                <a:custGeom>
                  <a:avLst/>
                  <a:gdLst/>
                  <a:ahLst/>
                  <a:rect l="l" t="t" r="r" b="b"/>
                  <a:pathLst>
                    <a:path w="1891" h="1639">
                      <a:moveTo>
                        <a:pt x="151" y="0"/>
                      </a:moveTo>
                      <a:lnTo>
                        <a:pt x="303" y="0"/>
                      </a:lnTo>
                      <a:lnTo>
                        <a:pt x="551" y="0"/>
                      </a:lnTo>
                      <a:lnTo>
                        <a:pt x="739" y="6"/>
                      </a:lnTo>
                      <a:lnTo>
                        <a:pt x="831" y="52"/>
                      </a:lnTo>
                      <a:lnTo>
                        <a:pt x="840" y="131"/>
                      </a:lnTo>
                      <a:lnTo>
                        <a:pt x="812" y="187"/>
                      </a:lnTo>
                      <a:lnTo>
                        <a:pt x="749" y="249"/>
                      </a:lnTo>
                      <a:lnTo>
                        <a:pt x="469" y="353"/>
                      </a:lnTo>
                      <a:lnTo>
                        <a:pt x="218" y="422"/>
                      </a:lnTo>
                      <a:lnTo>
                        <a:pt x="174" y="453"/>
                      </a:lnTo>
                      <a:lnTo>
                        <a:pt x="174" y="498"/>
                      </a:lnTo>
                      <a:lnTo>
                        <a:pt x="203" y="541"/>
                      </a:lnTo>
                      <a:lnTo>
                        <a:pt x="279" y="568"/>
                      </a:lnTo>
                      <a:lnTo>
                        <a:pt x="410" y="578"/>
                      </a:lnTo>
                      <a:lnTo>
                        <a:pt x="671" y="603"/>
                      </a:lnTo>
                      <a:lnTo>
                        <a:pt x="967" y="623"/>
                      </a:lnTo>
                      <a:lnTo>
                        <a:pt x="1147" y="656"/>
                      </a:lnTo>
                      <a:lnTo>
                        <a:pt x="1292" y="696"/>
                      </a:lnTo>
                      <a:lnTo>
                        <a:pt x="1343" y="763"/>
                      </a:lnTo>
                      <a:lnTo>
                        <a:pt x="1345" y="853"/>
                      </a:lnTo>
                      <a:lnTo>
                        <a:pt x="1282" y="918"/>
                      </a:lnTo>
                      <a:lnTo>
                        <a:pt x="285" y="1126"/>
                      </a:lnTo>
                      <a:lnTo>
                        <a:pt x="257" y="1141"/>
                      </a:lnTo>
                      <a:lnTo>
                        <a:pt x="261" y="1163"/>
                      </a:lnTo>
                      <a:lnTo>
                        <a:pt x="310" y="1186"/>
                      </a:lnTo>
                      <a:lnTo>
                        <a:pt x="1020" y="1180"/>
                      </a:lnTo>
                      <a:lnTo>
                        <a:pt x="1248" y="1134"/>
                      </a:lnTo>
                      <a:lnTo>
                        <a:pt x="1891" y="1000"/>
                      </a:lnTo>
                      <a:lnTo>
                        <a:pt x="1855" y="1066"/>
                      </a:lnTo>
                      <a:lnTo>
                        <a:pt x="1697" y="1116"/>
                      </a:lnTo>
                      <a:lnTo>
                        <a:pt x="1593" y="1203"/>
                      </a:lnTo>
                      <a:lnTo>
                        <a:pt x="1525" y="1317"/>
                      </a:lnTo>
                      <a:lnTo>
                        <a:pt x="1503" y="1639"/>
                      </a:lnTo>
                      <a:lnTo>
                        <a:pt x="206" y="1330"/>
                      </a:lnTo>
                      <a:lnTo>
                        <a:pt x="45" y="1170"/>
                      </a:lnTo>
                      <a:lnTo>
                        <a:pt x="60" y="1097"/>
                      </a:lnTo>
                      <a:lnTo>
                        <a:pt x="134" y="1031"/>
                      </a:lnTo>
                      <a:lnTo>
                        <a:pt x="191" y="997"/>
                      </a:lnTo>
                      <a:lnTo>
                        <a:pt x="419" y="953"/>
                      </a:lnTo>
                      <a:lnTo>
                        <a:pt x="850" y="878"/>
                      </a:lnTo>
                      <a:lnTo>
                        <a:pt x="1028" y="847"/>
                      </a:lnTo>
                      <a:lnTo>
                        <a:pt x="1075" y="811"/>
                      </a:lnTo>
                      <a:lnTo>
                        <a:pt x="1071" y="785"/>
                      </a:lnTo>
                      <a:lnTo>
                        <a:pt x="989" y="738"/>
                      </a:lnTo>
                      <a:lnTo>
                        <a:pt x="780" y="708"/>
                      </a:lnTo>
                      <a:lnTo>
                        <a:pt x="400" y="670"/>
                      </a:lnTo>
                      <a:lnTo>
                        <a:pt x="211" y="658"/>
                      </a:lnTo>
                      <a:lnTo>
                        <a:pt x="43" y="603"/>
                      </a:lnTo>
                      <a:lnTo>
                        <a:pt x="0" y="531"/>
                      </a:lnTo>
                      <a:lnTo>
                        <a:pt x="6" y="469"/>
                      </a:lnTo>
                      <a:lnTo>
                        <a:pt x="55" y="394"/>
                      </a:lnTo>
                      <a:lnTo>
                        <a:pt x="155" y="333"/>
                      </a:lnTo>
                      <a:lnTo>
                        <a:pt x="309" y="300"/>
                      </a:lnTo>
                      <a:lnTo>
                        <a:pt x="582" y="242"/>
                      </a:lnTo>
                      <a:lnTo>
                        <a:pt x="730" y="185"/>
                      </a:lnTo>
                      <a:lnTo>
                        <a:pt x="768" y="141"/>
                      </a:lnTo>
                      <a:lnTo>
                        <a:pt x="764" y="107"/>
                      </a:lnTo>
                      <a:lnTo>
                        <a:pt x="735" y="68"/>
                      </a:lnTo>
                      <a:lnTo>
                        <a:pt x="674" y="47"/>
                      </a:lnTo>
                      <a:lnTo>
                        <a:pt x="528" y="41"/>
                      </a:lnTo>
                      <a:lnTo>
                        <a:pt x="352" y="37"/>
                      </a:lnTo>
                      <a:lnTo>
                        <a:pt x="196" y="33"/>
                      </a:lnTo>
                      <a:lnTo>
                        <a:pt x="125" y="33"/>
                      </a:lnTo>
                      <a:lnTo>
                        <a:pt x="151" y="0"/>
                      </a:lnTo>
                      <a:lnTo>
                        <a:pt x="151" y="0"/>
                      </a:lnTo>
                      <a:close/>
                    </a:path>
                  </a:pathLst>
                </a:custGeom>
                <a:solidFill>
                  <a:srgbClr val="9e9e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 flipH="1">
                  <a:off x="1568520" y="5731200"/>
                  <a:ext cx="1521360" cy="436680"/>
                </a:xfrm>
                <a:custGeom>
                  <a:avLst/>
                  <a:gdLst/>
                  <a:ahLst/>
                  <a:rect l="l" t="t" r="r" b="b"/>
                  <a:pathLst>
                    <a:path w="2342" h="775">
                      <a:moveTo>
                        <a:pt x="80" y="0"/>
                      </a:moveTo>
                      <a:lnTo>
                        <a:pt x="78" y="0"/>
                      </a:lnTo>
                      <a:lnTo>
                        <a:pt x="76" y="2"/>
                      </a:lnTo>
                      <a:lnTo>
                        <a:pt x="72" y="6"/>
                      </a:lnTo>
                      <a:lnTo>
                        <a:pt x="68" y="14"/>
                      </a:lnTo>
                      <a:lnTo>
                        <a:pt x="62" y="19"/>
                      </a:lnTo>
                      <a:lnTo>
                        <a:pt x="57" y="28"/>
                      </a:lnTo>
                      <a:lnTo>
                        <a:pt x="52" y="37"/>
                      </a:lnTo>
                      <a:lnTo>
                        <a:pt x="49" y="49"/>
                      </a:lnTo>
                      <a:lnTo>
                        <a:pt x="44" y="60"/>
                      </a:lnTo>
                      <a:lnTo>
                        <a:pt x="42" y="72"/>
                      </a:lnTo>
                      <a:lnTo>
                        <a:pt x="41" y="86"/>
                      </a:lnTo>
                      <a:lnTo>
                        <a:pt x="44" y="100"/>
                      </a:lnTo>
                      <a:lnTo>
                        <a:pt x="47" y="113"/>
                      </a:lnTo>
                      <a:lnTo>
                        <a:pt x="54" y="128"/>
                      </a:lnTo>
                      <a:lnTo>
                        <a:pt x="63" y="141"/>
                      </a:lnTo>
                      <a:lnTo>
                        <a:pt x="77" y="154"/>
                      </a:lnTo>
                      <a:lnTo>
                        <a:pt x="92" y="166"/>
                      </a:lnTo>
                      <a:lnTo>
                        <a:pt x="111" y="181"/>
                      </a:lnTo>
                      <a:lnTo>
                        <a:pt x="131" y="193"/>
                      </a:lnTo>
                      <a:lnTo>
                        <a:pt x="153" y="207"/>
                      </a:lnTo>
                      <a:lnTo>
                        <a:pt x="174" y="220"/>
                      </a:lnTo>
                      <a:lnTo>
                        <a:pt x="198" y="233"/>
                      </a:lnTo>
                      <a:lnTo>
                        <a:pt x="220" y="244"/>
                      </a:lnTo>
                      <a:lnTo>
                        <a:pt x="244" y="256"/>
                      </a:lnTo>
                      <a:lnTo>
                        <a:pt x="264" y="265"/>
                      </a:lnTo>
                      <a:lnTo>
                        <a:pt x="283" y="274"/>
                      </a:lnTo>
                      <a:lnTo>
                        <a:pt x="302" y="281"/>
                      </a:lnTo>
                      <a:lnTo>
                        <a:pt x="318" y="290"/>
                      </a:lnTo>
                      <a:lnTo>
                        <a:pt x="331" y="295"/>
                      </a:lnTo>
                      <a:lnTo>
                        <a:pt x="341" y="299"/>
                      </a:lnTo>
                      <a:lnTo>
                        <a:pt x="348" y="301"/>
                      </a:lnTo>
                      <a:lnTo>
                        <a:pt x="351" y="302"/>
                      </a:lnTo>
                      <a:lnTo>
                        <a:pt x="304" y="229"/>
                      </a:lnTo>
                      <a:lnTo>
                        <a:pt x="443" y="315"/>
                      </a:lnTo>
                      <a:lnTo>
                        <a:pt x="442" y="311"/>
                      </a:lnTo>
                      <a:lnTo>
                        <a:pt x="439" y="305"/>
                      </a:lnTo>
                      <a:lnTo>
                        <a:pt x="437" y="300"/>
                      </a:lnTo>
                      <a:lnTo>
                        <a:pt x="435" y="296"/>
                      </a:lnTo>
                      <a:lnTo>
                        <a:pt x="432" y="290"/>
                      </a:lnTo>
                      <a:lnTo>
                        <a:pt x="430" y="285"/>
                      </a:lnTo>
                      <a:lnTo>
                        <a:pt x="425" y="278"/>
                      </a:lnTo>
                      <a:lnTo>
                        <a:pt x="421" y="270"/>
                      </a:lnTo>
                      <a:lnTo>
                        <a:pt x="415" y="264"/>
                      </a:lnTo>
                      <a:lnTo>
                        <a:pt x="409" y="257"/>
                      </a:lnTo>
                      <a:lnTo>
                        <a:pt x="402" y="250"/>
                      </a:lnTo>
                      <a:lnTo>
                        <a:pt x="395" y="244"/>
                      </a:lnTo>
                      <a:lnTo>
                        <a:pt x="386" y="237"/>
                      </a:lnTo>
                      <a:lnTo>
                        <a:pt x="379" y="232"/>
                      </a:lnTo>
                      <a:lnTo>
                        <a:pt x="383" y="232"/>
                      </a:lnTo>
                      <a:lnTo>
                        <a:pt x="387" y="233"/>
                      </a:lnTo>
                      <a:lnTo>
                        <a:pt x="396" y="235"/>
                      </a:lnTo>
                      <a:lnTo>
                        <a:pt x="404" y="238"/>
                      </a:lnTo>
                      <a:lnTo>
                        <a:pt x="415" y="243"/>
                      </a:lnTo>
                      <a:lnTo>
                        <a:pt x="427" y="246"/>
                      </a:lnTo>
                      <a:lnTo>
                        <a:pt x="442" y="253"/>
                      </a:lnTo>
                      <a:lnTo>
                        <a:pt x="454" y="257"/>
                      </a:lnTo>
                      <a:lnTo>
                        <a:pt x="469" y="265"/>
                      </a:lnTo>
                      <a:lnTo>
                        <a:pt x="485" y="273"/>
                      </a:lnTo>
                      <a:lnTo>
                        <a:pt x="499" y="281"/>
                      </a:lnTo>
                      <a:lnTo>
                        <a:pt x="513" y="291"/>
                      </a:lnTo>
                      <a:lnTo>
                        <a:pt x="529" y="302"/>
                      </a:lnTo>
                      <a:lnTo>
                        <a:pt x="543" y="315"/>
                      </a:lnTo>
                      <a:lnTo>
                        <a:pt x="558" y="329"/>
                      </a:lnTo>
                      <a:lnTo>
                        <a:pt x="557" y="326"/>
                      </a:lnTo>
                      <a:lnTo>
                        <a:pt x="554" y="317"/>
                      </a:lnTo>
                      <a:lnTo>
                        <a:pt x="551" y="310"/>
                      </a:lnTo>
                      <a:lnTo>
                        <a:pt x="548" y="304"/>
                      </a:lnTo>
                      <a:lnTo>
                        <a:pt x="545" y="297"/>
                      </a:lnTo>
                      <a:lnTo>
                        <a:pt x="542" y="290"/>
                      </a:lnTo>
                      <a:lnTo>
                        <a:pt x="537" y="281"/>
                      </a:lnTo>
                      <a:lnTo>
                        <a:pt x="532" y="275"/>
                      </a:lnTo>
                      <a:lnTo>
                        <a:pt x="526" y="267"/>
                      </a:lnTo>
                      <a:lnTo>
                        <a:pt x="521" y="260"/>
                      </a:lnTo>
                      <a:lnTo>
                        <a:pt x="513" y="255"/>
                      </a:lnTo>
                      <a:lnTo>
                        <a:pt x="507" y="249"/>
                      </a:lnTo>
                      <a:lnTo>
                        <a:pt x="492" y="243"/>
                      </a:lnTo>
                      <a:lnTo>
                        <a:pt x="501" y="244"/>
                      </a:lnTo>
                      <a:lnTo>
                        <a:pt x="511" y="248"/>
                      </a:lnTo>
                      <a:lnTo>
                        <a:pt x="523" y="254"/>
                      </a:lnTo>
                      <a:lnTo>
                        <a:pt x="533" y="260"/>
                      </a:lnTo>
                      <a:lnTo>
                        <a:pt x="547" y="267"/>
                      </a:lnTo>
                      <a:lnTo>
                        <a:pt x="562" y="276"/>
                      </a:lnTo>
                      <a:lnTo>
                        <a:pt x="576" y="283"/>
                      </a:lnTo>
                      <a:lnTo>
                        <a:pt x="592" y="292"/>
                      </a:lnTo>
                      <a:lnTo>
                        <a:pt x="607" y="302"/>
                      </a:lnTo>
                      <a:lnTo>
                        <a:pt x="624" y="315"/>
                      </a:lnTo>
                      <a:lnTo>
                        <a:pt x="637" y="326"/>
                      </a:lnTo>
                      <a:lnTo>
                        <a:pt x="653" y="339"/>
                      </a:lnTo>
                      <a:lnTo>
                        <a:pt x="667" y="352"/>
                      </a:lnTo>
                      <a:lnTo>
                        <a:pt x="680" y="368"/>
                      </a:lnTo>
                      <a:lnTo>
                        <a:pt x="678" y="363"/>
                      </a:lnTo>
                      <a:lnTo>
                        <a:pt x="675" y="356"/>
                      </a:lnTo>
                      <a:lnTo>
                        <a:pt x="671" y="350"/>
                      </a:lnTo>
                      <a:lnTo>
                        <a:pt x="669" y="343"/>
                      </a:lnTo>
                      <a:lnTo>
                        <a:pt x="665" y="337"/>
                      </a:lnTo>
                      <a:lnTo>
                        <a:pt x="662" y="329"/>
                      </a:lnTo>
                      <a:lnTo>
                        <a:pt x="657" y="320"/>
                      </a:lnTo>
                      <a:lnTo>
                        <a:pt x="652" y="312"/>
                      </a:lnTo>
                      <a:lnTo>
                        <a:pt x="646" y="304"/>
                      </a:lnTo>
                      <a:lnTo>
                        <a:pt x="641" y="296"/>
                      </a:lnTo>
                      <a:lnTo>
                        <a:pt x="633" y="288"/>
                      </a:lnTo>
                      <a:lnTo>
                        <a:pt x="625" y="280"/>
                      </a:lnTo>
                      <a:lnTo>
                        <a:pt x="617" y="275"/>
                      </a:lnTo>
                      <a:lnTo>
                        <a:pt x="611" y="269"/>
                      </a:lnTo>
                      <a:lnTo>
                        <a:pt x="612" y="269"/>
                      </a:lnTo>
                      <a:lnTo>
                        <a:pt x="615" y="271"/>
                      </a:lnTo>
                      <a:lnTo>
                        <a:pt x="623" y="274"/>
                      </a:lnTo>
                      <a:lnTo>
                        <a:pt x="633" y="278"/>
                      </a:lnTo>
                      <a:lnTo>
                        <a:pt x="644" y="281"/>
                      </a:lnTo>
                      <a:lnTo>
                        <a:pt x="657" y="288"/>
                      </a:lnTo>
                      <a:lnTo>
                        <a:pt x="670" y="294"/>
                      </a:lnTo>
                      <a:lnTo>
                        <a:pt x="686" y="302"/>
                      </a:lnTo>
                      <a:lnTo>
                        <a:pt x="701" y="309"/>
                      </a:lnTo>
                      <a:lnTo>
                        <a:pt x="716" y="317"/>
                      </a:lnTo>
                      <a:lnTo>
                        <a:pt x="731" y="326"/>
                      </a:lnTo>
                      <a:lnTo>
                        <a:pt x="747" y="337"/>
                      </a:lnTo>
                      <a:lnTo>
                        <a:pt x="761" y="347"/>
                      </a:lnTo>
                      <a:lnTo>
                        <a:pt x="773" y="358"/>
                      </a:lnTo>
                      <a:lnTo>
                        <a:pt x="784" y="369"/>
                      </a:lnTo>
                      <a:lnTo>
                        <a:pt x="795" y="381"/>
                      </a:lnTo>
                      <a:lnTo>
                        <a:pt x="793" y="377"/>
                      </a:lnTo>
                      <a:lnTo>
                        <a:pt x="790" y="369"/>
                      </a:lnTo>
                      <a:lnTo>
                        <a:pt x="785" y="361"/>
                      </a:lnTo>
                      <a:lnTo>
                        <a:pt x="783" y="356"/>
                      </a:lnTo>
                      <a:lnTo>
                        <a:pt x="779" y="349"/>
                      </a:lnTo>
                      <a:lnTo>
                        <a:pt x="775" y="341"/>
                      </a:lnTo>
                      <a:lnTo>
                        <a:pt x="770" y="332"/>
                      </a:lnTo>
                      <a:lnTo>
                        <a:pt x="764" y="325"/>
                      </a:lnTo>
                      <a:lnTo>
                        <a:pt x="759" y="316"/>
                      </a:lnTo>
                      <a:lnTo>
                        <a:pt x="752" y="309"/>
                      </a:lnTo>
                      <a:lnTo>
                        <a:pt x="746" y="302"/>
                      </a:lnTo>
                      <a:lnTo>
                        <a:pt x="739" y="296"/>
                      </a:lnTo>
                      <a:lnTo>
                        <a:pt x="730" y="290"/>
                      </a:lnTo>
                      <a:lnTo>
                        <a:pt x="723" y="286"/>
                      </a:lnTo>
                      <a:lnTo>
                        <a:pt x="725" y="286"/>
                      </a:lnTo>
                      <a:lnTo>
                        <a:pt x="729" y="288"/>
                      </a:lnTo>
                      <a:lnTo>
                        <a:pt x="737" y="291"/>
                      </a:lnTo>
                      <a:lnTo>
                        <a:pt x="747" y="296"/>
                      </a:lnTo>
                      <a:lnTo>
                        <a:pt x="758" y="301"/>
                      </a:lnTo>
                      <a:lnTo>
                        <a:pt x="772" y="308"/>
                      </a:lnTo>
                      <a:lnTo>
                        <a:pt x="786" y="315"/>
                      </a:lnTo>
                      <a:lnTo>
                        <a:pt x="804" y="325"/>
                      </a:lnTo>
                      <a:lnTo>
                        <a:pt x="819" y="332"/>
                      </a:lnTo>
                      <a:lnTo>
                        <a:pt x="837" y="342"/>
                      </a:lnTo>
                      <a:lnTo>
                        <a:pt x="854" y="352"/>
                      </a:lnTo>
                      <a:lnTo>
                        <a:pt x="870" y="363"/>
                      </a:lnTo>
                      <a:lnTo>
                        <a:pt x="886" y="374"/>
                      </a:lnTo>
                      <a:lnTo>
                        <a:pt x="900" y="386"/>
                      </a:lnTo>
                      <a:lnTo>
                        <a:pt x="914" y="399"/>
                      </a:lnTo>
                      <a:lnTo>
                        <a:pt x="926" y="411"/>
                      </a:lnTo>
                      <a:lnTo>
                        <a:pt x="925" y="409"/>
                      </a:lnTo>
                      <a:lnTo>
                        <a:pt x="922" y="406"/>
                      </a:lnTo>
                      <a:lnTo>
                        <a:pt x="920" y="401"/>
                      </a:lnTo>
                      <a:lnTo>
                        <a:pt x="918" y="396"/>
                      </a:lnTo>
                      <a:lnTo>
                        <a:pt x="912" y="388"/>
                      </a:lnTo>
                      <a:lnTo>
                        <a:pt x="909" y="380"/>
                      </a:lnTo>
                      <a:lnTo>
                        <a:pt x="903" y="371"/>
                      </a:lnTo>
                      <a:lnTo>
                        <a:pt x="898" y="362"/>
                      </a:lnTo>
                      <a:lnTo>
                        <a:pt x="890" y="352"/>
                      </a:lnTo>
                      <a:lnTo>
                        <a:pt x="885" y="342"/>
                      </a:lnTo>
                      <a:lnTo>
                        <a:pt x="877" y="333"/>
                      </a:lnTo>
                      <a:lnTo>
                        <a:pt x="872" y="326"/>
                      </a:lnTo>
                      <a:lnTo>
                        <a:pt x="865" y="316"/>
                      </a:lnTo>
                      <a:lnTo>
                        <a:pt x="858" y="309"/>
                      </a:lnTo>
                      <a:lnTo>
                        <a:pt x="853" y="302"/>
                      </a:lnTo>
                      <a:lnTo>
                        <a:pt x="846" y="299"/>
                      </a:lnTo>
                      <a:lnTo>
                        <a:pt x="848" y="299"/>
                      </a:lnTo>
                      <a:lnTo>
                        <a:pt x="855" y="302"/>
                      </a:lnTo>
                      <a:lnTo>
                        <a:pt x="865" y="308"/>
                      </a:lnTo>
                      <a:lnTo>
                        <a:pt x="880" y="316"/>
                      </a:lnTo>
                      <a:lnTo>
                        <a:pt x="897" y="325"/>
                      </a:lnTo>
                      <a:lnTo>
                        <a:pt x="917" y="336"/>
                      </a:lnTo>
                      <a:lnTo>
                        <a:pt x="937" y="347"/>
                      </a:lnTo>
                      <a:lnTo>
                        <a:pt x="959" y="360"/>
                      </a:lnTo>
                      <a:lnTo>
                        <a:pt x="980" y="372"/>
                      </a:lnTo>
                      <a:lnTo>
                        <a:pt x="1002" y="384"/>
                      </a:lnTo>
                      <a:lnTo>
                        <a:pt x="1022" y="396"/>
                      </a:lnTo>
                      <a:lnTo>
                        <a:pt x="1042" y="411"/>
                      </a:lnTo>
                      <a:lnTo>
                        <a:pt x="1058" y="423"/>
                      </a:lnTo>
                      <a:lnTo>
                        <a:pt x="1074" y="435"/>
                      </a:lnTo>
                      <a:lnTo>
                        <a:pt x="1085" y="446"/>
                      </a:lnTo>
                      <a:lnTo>
                        <a:pt x="1079" y="436"/>
                      </a:lnTo>
                      <a:lnTo>
                        <a:pt x="1072" y="426"/>
                      </a:lnTo>
                      <a:lnTo>
                        <a:pt x="1064" y="416"/>
                      </a:lnTo>
                      <a:lnTo>
                        <a:pt x="1055" y="404"/>
                      </a:lnTo>
                      <a:lnTo>
                        <a:pt x="1047" y="393"/>
                      </a:lnTo>
                      <a:lnTo>
                        <a:pt x="1035" y="380"/>
                      </a:lnTo>
                      <a:lnTo>
                        <a:pt x="1025" y="367"/>
                      </a:lnTo>
                      <a:lnTo>
                        <a:pt x="1014" y="354"/>
                      </a:lnTo>
                      <a:lnTo>
                        <a:pt x="1004" y="344"/>
                      </a:lnTo>
                      <a:lnTo>
                        <a:pt x="993" y="333"/>
                      </a:lnTo>
                      <a:lnTo>
                        <a:pt x="983" y="326"/>
                      </a:lnTo>
                      <a:lnTo>
                        <a:pt x="973" y="318"/>
                      </a:lnTo>
                      <a:lnTo>
                        <a:pt x="964" y="315"/>
                      </a:lnTo>
                      <a:lnTo>
                        <a:pt x="967" y="315"/>
                      </a:lnTo>
                      <a:lnTo>
                        <a:pt x="973" y="318"/>
                      </a:lnTo>
                      <a:lnTo>
                        <a:pt x="984" y="323"/>
                      </a:lnTo>
                      <a:lnTo>
                        <a:pt x="1000" y="330"/>
                      </a:lnTo>
                      <a:lnTo>
                        <a:pt x="1015" y="338"/>
                      </a:lnTo>
                      <a:lnTo>
                        <a:pt x="1035" y="349"/>
                      </a:lnTo>
                      <a:lnTo>
                        <a:pt x="1057" y="360"/>
                      </a:lnTo>
                      <a:lnTo>
                        <a:pt x="1082" y="372"/>
                      </a:lnTo>
                      <a:lnTo>
                        <a:pt x="1104" y="384"/>
                      </a:lnTo>
                      <a:lnTo>
                        <a:pt x="1127" y="398"/>
                      </a:lnTo>
                      <a:lnTo>
                        <a:pt x="1148" y="411"/>
                      </a:lnTo>
                      <a:lnTo>
                        <a:pt x="1170" y="425"/>
                      </a:lnTo>
                      <a:lnTo>
                        <a:pt x="1188" y="438"/>
                      </a:lnTo>
                      <a:lnTo>
                        <a:pt x="1205" y="452"/>
                      </a:lnTo>
                      <a:lnTo>
                        <a:pt x="1219" y="463"/>
                      </a:lnTo>
                      <a:lnTo>
                        <a:pt x="1230" y="475"/>
                      </a:lnTo>
                      <a:lnTo>
                        <a:pt x="1141" y="350"/>
                      </a:lnTo>
                      <a:lnTo>
                        <a:pt x="1371" y="496"/>
                      </a:lnTo>
                      <a:lnTo>
                        <a:pt x="1370" y="494"/>
                      </a:lnTo>
                      <a:lnTo>
                        <a:pt x="1368" y="489"/>
                      </a:lnTo>
                      <a:lnTo>
                        <a:pt x="1365" y="483"/>
                      </a:lnTo>
                      <a:lnTo>
                        <a:pt x="1360" y="475"/>
                      </a:lnTo>
                      <a:lnTo>
                        <a:pt x="1355" y="464"/>
                      </a:lnTo>
                      <a:lnTo>
                        <a:pt x="1348" y="453"/>
                      </a:lnTo>
                      <a:lnTo>
                        <a:pt x="1340" y="441"/>
                      </a:lnTo>
                      <a:lnTo>
                        <a:pt x="1333" y="428"/>
                      </a:lnTo>
                      <a:lnTo>
                        <a:pt x="1324" y="414"/>
                      </a:lnTo>
                      <a:lnTo>
                        <a:pt x="1315" y="402"/>
                      </a:lnTo>
                      <a:lnTo>
                        <a:pt x="1306" y="389"/>
                      </a:lnTo>
                      <a:lnTo>
                        <a:pt x="1298" y="378"/>
                      </a:lnTo>
                      <a:lnTo>
                        <a:pt x="1287" y="367"/>
                      </a:lnTo>
                      <a:lnTo>
                        <a:pt x="1278" y="358"/>
                      </a:lnTo>
                      <a:lnTo>
                        <a:pt x="1270" y="350"/>
                      </a:lnTo>
                      <a:lnTo>
                        <a:pt x="1262" y="347"/>
                      </a:lnTo>
                      <a:lnTo>
                        <a:pt x="1263" y="347"/>
                      </a:lnTo>
                      <a:lnTo>
                        <a:pt x="1268" y="350"/>
                      </a:lnTo>
                      <a:lnTo>
                        <a:pt x="1277" y="352"/>
                      </a:lnTo>
                      <a:lnTo>
                        <a:pt x="1289" y="359"/>
                      </a:lnTo>
                      <a:lnTo>
                        <a:pt x="1303" y="364"/>
                      </a:lnTo>
                      <a:lnTo>
                        <a:pt x="1319" y="372"/>
                      </a:lnTo>
                      <a:lnTo>
                        <a:pt x="1336" y="381"/>
                      </a:lnTo>
                      <a:lnTo>
                        <a:pt x="1355" y="391"/>
                      </a:lnTo>
                      <a:lnTo>
                        <a:pt x="1372" y="400"/>
                      </a:lnTo>
                      <a:lnTo>
                        <a:pt x="1390" y="412"/>
                      </a:lnTo>
                      <a:lnTo>
                        <a:pt x="1409" y="424"/>
                      </a:lnTo>
                      <a:lnTo>
                        <a:pt x="1427" y="436"/>
                      </a:lnTo>
                      <a:lnTo>
                        <a:pt x="1442" y="448"/>
                      </a:lnTo>
                      <a:lnTo>
                        <a:pt x="1456" y="462"/>
                      </a:lnTo>
                      <a:lnTo>
                        <a:pt x="1469" y="474"/>
                      </a:lnTo>
                      <a:lnTo>
                        <a:pt x="1477" y="488"/>
                      </a:lnTo>
                      <a:lnTo>
                        <a:pt x="1475" y="483"/>
                      </a:lnTo>
                      <a:lnTo>
                        <a:pt x="1473" y="469"/>
                      </a:lnTo>
                      <a:lnTo>
                        <a:pt x="1471" y="449"/>
                      </a:lnTo>
                      <a:lnTo>
                        <a:pt x="1470" y="424"/>
                      </a:lnTo>
                      <a:lnTo>
                        <a:pt x="1469" y="393"/>
                      </a:lnTo>
                      <a:lnTo>
                        <a:pt x="1470" y="358"/>
                      </a:lnTo>
                      <a:lnTo>
                        <a:pt x="1476" y="319"/>
                      </a:lnTo>
                      <a:lnTo>
                        <a:pt x="1486" y="280"/>
                      </a:lnTo>
                      <a:lnTo>
                        <a:pt x="1501" y="237"/>
                      </a:lnTo>
                      <a:lnTo>
                        <a:pt x="1522" y="196"/>
                      </a:lnTo>
                      <a:lnTo>
                        <a:pt x="1549" y="154"/>
                      </a:lnTo>
                      <a:lnTo>
                        <a:pt x="1586" y="117"/>
                      </a:lnTo>
                      <a:lnTo>
                        <a:pt x="1630" y="80"/>
                      </a:lnTo>
                      <a:lnTo>
                        <a:pt x="1685" y="47"/>
                      </a:lnTo>
                      <a:lnTo>
                        <a:pt x="1750" y="21"/>
                      </a:lnTo>
                      <a:lnTo>
                        <a:pt x="1829" y="0"/>
                      </a:lnTo>
                      <a:lnTo>
                        <a:pt x="1831" y="17"/>
                      </a:lnTo>
                      <a:lnTo>
                        <a:pt x="1828" y="17"/>
                      </a:lnTo>
                      <a:lnTo>
                        <a:pt x="1819" y="19"/>
                      </a:lnTo>
                      <a:lnTo>
                        <a:pt x="1806" y="22"/>
                      </a:lnTo>
                      <a:lnTo>
                        <a:pt x="1790" y="27"/>
                      </a:lnTo>
                      <a:lnTo>
                        <a:pt x="1769" y="33"/>
                      </a:lnTo>
                      <a:lnTo>
                        <a:pt x="1747" y="42"/>
                      </a:lnTo>
                      <a:lnTo>
                        <a:pt x="1722" y="51"/>
                      </a:lnTo>
                      <a:lnTo>
                        <a:pt x="1697" y="66"/>
                      </a:lnTo>
                      <a:lnTo>
                        <a:pt x="1670" y="80"/>
                      </a:lnTo>
                      <a:lnTo>
                        <a:pt x="1643" y="98"/>
                      </a:lnTo>
                      <a:lnTo>
                        <a:pt x="1618" y="118"/>
                      </a:lnTo>
                      <a:lnTo>
                        <a:pt x="1593" y="142"/>
                      </a:lnTo>
                      <a:lnTo>
                        <a:pt x="1570" y="169"/>
                      </a:lnTo>
                      <a:lnTo>
                        <a:pt x="1550" y="199"/>
                      </a:lnTo>
                      <a:lnTo>
                        <a:pt x="1534" y="232"/>
                      </a:lnTo>
                      <a:lnTo>
                        <a:pt x="1523" y="269"/>
                      </a:lnTo>
                      <a:lnTo>
                        <a:pt x="1581" y="594"/>
                      </a:lnTo>
                      <a:lnTo>
                        <a:pt x="1581" y="595"/>
                      </a:lnTo>
                      <a:lnTo>
                        <a:pt x="1584" y="600"/>
                      </a:lnTo>
                      <a:lnTo>
                        <a:pt x="1588" y="604"/>
                      </a:lnTo>
                      <a:lnTo>
                        <a:pt x="1596" y="614"/>
                      </a:lnTo>
                      <a:lnTo>
                        <a:pt x="1603" y="623"/>
                      </a:lnTo>
                      <a:lnTo>
                        <a:pt x="1613" y="634"/>
                      </a:lnTo>
                      <a:lnTo>
                        <a:pt x="1626" y="646"/>
                      </a:lnTo>
                      <a:lnTo>
                        <a:pt x="1641" y="660"/>
                      </a:lnTo>
                      <a:lnTo>
                        <a:pt x="1655" y="672"/>
                      </a:lnTo>
                      <a:lnTo>
                        <a:pt x="1674" y="684"/>
                      </a:lnTo>
                      <a:lnTo>
                        <a:pt x="1694" y="695"/>
                      </a:lnTo>
                      <a:lnTo>
                        <a:pt x="1716" y="707"/>
                      </a:lnTo>
                      <a:lnTo>
                        <a:pt x="1739" y="716"/>
                      </a:lnTo>
                      <a:lnTo>
                        <a:pt x="1766" y="725"/>
                      </a:lnTo>
                      <a:lnTo>
                        <a:pt x="1792" y="731"/>
                      </a:lnTo>
                      <a:lnTo>
                        <a:pt x="1823" y="736"/>
                      </a:lnTo>
                      <a:lnTo>
                        <a:pt x="2022" y="709"/>
                      </a:lnTo>
                      <a:lnTo>
                        <a:pt x="2022" y="708"/>
                      </a:lnTo>
                      <a:lnTo>
                        <a:pt x="2026" y="708"/>
                      </a:lnTo>
                      <a:lnTo>
                        <a:pt x="2029" y="706"/>
                      </a:lnTo>
                      <a:lnTo>
                        <a:pt x="2035" y="705"/>
                      </a:lnTo>
                      <a:lnTo>
                        <a:pt x="2040" y="702"/>
                      </a:lnTo>
                      <a:lnTo>
                        <a:pt x="2048" y="698"/>
                      </a:lnTo>
                      <a:lnTo>
                        <a:pt x="2054" y="696"/>
                      </a:lnTo>
                      <a:lnTo>
                        <a:pt x="2064" y="694"/>
                      </a:lnTo>
                      <a:lnTo>
                        <a:pt x="2072" y="688"/>
                      </a:lnTo>
                      <a:lnTo>
                        <a:pt x="2080" y="685"/>
                      </a:lnTo>
                      <a:lnTo>
                        <a:pt x="2088" y="681"/>
                      </a:lnTo>
                      <a:lnTo>
                        <a:pt x="2096" y="676"/>
                      </a:lnTo>
                      <a:lnTo>
                        <a:pt x="2102" y="672"/>
                      </a:lnTo>
                      <a:lnTo>
                        <a:pt x="2110" y="667"/>
                      </a:lnTo>
                      <a:lnTo>
                        <a:pt x="2114" y="662"/>
                      </a:lnTo>
                      <a:lnTo>
                        <a:pt x="2120" y="658"/>
                      </a:lnTo>
                      <a:lnTo>
                        <a:pt x="2252" y="534"/>
                      </a:lnTo>
                      <a:lnTo>
                        <a:pt x="2252" y="532"/>
                      </a:lnTo>
                      <a:lnTo>
                        <a:pt x="2256" y="530"/>
                      </a:lnTo>
                      <a:lnTo>
                        <a:pt x="2258" y="526"/>
                      </a:lnTo>
                      <a:lnTo>
                        <a:pt x="2265" y="521"/>
                      </a:lnTo>
                      <a:lnTo>
                        <a:pt x="2270" y="514"/>
                      </a:lnTo>
                      <a:lnTo>
                        <a:pt x="2278" y="506"/>
                      </a:lnTo>
                      <a:lnTo>
                        <a:pt x="2283" y="496"/>
                      </a:lnTo>
                      <a:lnTo>
                        <a:pt x="2292" y="486"/>
                      </a:lnTo>
                      <a:lnTo>
                        <a:pt x="2298" y="473"/>
                      </a:lnTo>
                      <a:lnTo>
                        <a:pt x="2304" y="457"/>
                      </a:lnTo>
                      <a:lnTo>
                        <a:pt x="2310" y="442"/>
                      </a:lnTo>
                      <a:lnTo>
                        <a:pt x="2315" y="424"/>
                      </a:lnTo>
                      <a:lnTo>
                        <a:pt x="2316" y="404"/>
                      </a:lnTo>
                      <a:lnTo>
                        <a:pt x="2319" y="383"/>
                      </a:lnTo>
                      <a:lnTo>
                        <a:pt x="2319" y="361"/>
                      </a:lnTo>
                      <a:lnTo>
                        <a:pt x="2316" y="338"/>
                      </a:lnTo>
                      <a:lnTo>
                        <a:pt x="2342" y="368"/>
                      </a:lnTo>
                      <a:lnTo>
                        <a:pt x="2342" y="369"/>
                      </a:lnTo>
                      <a:lnTo>
                        <a:pt x="2342" y="372"/>
                      </a:lnTo>
                      <a:lnTo>
                        <a:pt x="2342" y="379"/>
                      </a:lnTo>
                      <a:lnTo>
                        <a:pt x="2342" y="389"/>
                      </a:lnTo>
                      <a:lnTo>
                        <a:pt x="2341" y="400"/>
                      </a:lnTo>
                      <a:lnTo>
                        <a:pt x="2341" y="412"/>
                      </a:lnTo>
                      <a:lnTo>
                        <a:pt x="2339" y="425"/>
                      </a:lnTo>
                      <a:lnTo>
                        <a:pt x="2339" y="441"/>
                      </a:lnTo>
                      <a:lnTo>
                        <a:pt x="2334" y="454"/>
                      </a:lnTo>
                      <a:lnTo>
                        <a:pt x="2331" y="468"/>
                      </a:lnTo>
                      <a:lnTo>
                        <a:pt x="2326" y="483"/>
                      </a:lnTo>
                      <a:lnTo>
                        <a:pt x="2321" y="497"/>
                      </a:lnTo>
                      <a:lnTo>
                        <a:pt x="2314" y="509"/>
                      </a:lnTo>
                      <a:lnTo>
                        <a:pt x="2305" y="521"/>
                      </a:lnTo>
                      <a:lnTo>
                        <a:pt x="2295" y="530"/>
                      </a:lnTo>
                      <a:lnTo>
                        <a:pt x="2286" y="539"/>
                      </a:lnTo>
                      <a:lnTo>
                        <a:pt x="2137" y="663"/>
                      </a:lnTo>
                      <a:lnTo>
                        <a:pt x="2136" y="664"/>
                      </a:lnTo>
                      <a:lnTo>
                        <a:pt x="2134" y="669"/>
                      </a:lnTo>
                      <a:lnTo>
                        <a:pt x="2130" y="676"/>
                      </a:lnTo>
                      <a:lnTo>
                        <a:pt x="2122" y="685"/>
                      </a:lnTo>
                      <a:lnTo>
                        <a:pt x="2116" y="689"/>
                      </a:lnTo>
                      <a:lnTo>
                        <a:pt x="2110" y="694"/>
                      </a:lnTo>
                      <a:lnTo>
                        <a:pt x="2103" y="697"/>
                      </a:lnTo>
                      <a:lnTo>
                        <a:pt x="2095" y="703"/>
                      </a:lnTo>
                      <a:lnTo>
                        <a:pt x="2085" y="707"/>
                      </a:lnTo>
                      <a:lnTo>
                        <a:pt x="2074" y="710"/>
                      </a:lnTo>
                      <a:lnTo>
                        <a:pt x="2061" y="714"/>
                      </a:lnTo>
                      <a:lnTo>
                        <a:pt x="2048" y="718"/>
                      </a:lnTo>
                      <a:lnTo>
                        <a:pt x="1944" y="731"/>
                      </a:lnTo>
                      <a:lnTo>
                        <a:pt x="1894" y="754"/>
                      </a:lnTo>
                      <a:lnTo>
                        <a:pt x="1875" y="775"/>
                      </a:lnTo>
                      <a:lnTo>
                        <a:pt x="187" y="302"/>
                      </a:lnTo>
                      <a:lnTo>
                        <a:pt x="185" y="302"/>
                      </a:lnTo>
                      <a:lnTo>
                        <a:pt x="180" y="300"/>
                      </a:lnTo>
                      <a:lnTo>
                        <a:pt x="172" y="297"/>
                      </a:lnTo>
                      <a:lnTo>
                        <a:pt x="163" y="292"/>
                      </a:lnTo>
                      <a:lnTo>
                        <a:pt x="151" y="287"/>
                      </a:lnTo>
                      <a:lnTo>
                        <a:pt x="138" y="280"/>
                      </a:lnTo>
                      <a:lnTo>
                        <a:pt x="123" y="274"/>
                      </a:lnTo>
                      <a:lnTo>
                        <a:pt x="110" y="266"/>
                      </a:lnTo>
                      <a:lnTo>
                        <a:pt x="93" y="256"/>
                      </a:lnTo>
                      <a:lnTo>
                        <a:pt x="78" y="245"/>
                      </a:lnTo>
                      <a:lnTo>
                        <a:pt x="63" y="232"/>
                      </a:lnTo>
                      <a:lnTo>
                        <a:pt x="50" y="220"/>
                      </a:lnTo>
                      <a:lnTo>
                        <a:pt x="36" y="203"/>
                      </a:lnTo>
                      <a:lnTo>
                        <a:pt x="25" y="187"/>
                      </a:lnTo>
                      <a:lnTo>
                        <a:pt x="15" y="170"/>
                      </a:lnTo>
                      <a:lnTo>
                        <a:pt x="8" y="152"/>
                      </a:lnTo>
                      <a:lnTo>
                        <a:pt x="3" y="133"/>
                      </a:lnTo>
                      <a:lnTo>
                        <a:pt x="0" y="116"/>
                      </a:lnTo>
                      <a:lnTo>
                        <a:pt x="0" y="99"/>
                      </a:lnTo>
                      <a:lnTo>
                        <a:pt x="5" y="85"/>
                      </a:lnTo>
                      <a:lnTo>
                        <a:pt x="9" y="70"/>
                      </a:lnTo>
                      <a:lnTo>
                        <a:pt x="16" y="58"/>
                      </a:lnTo>
                      <a:lnTo>
                        <a:pt x="23" y="46"/>
                      </a:lnTo>
                      <a:lnTo>
                        <a:pt x="31" y="36"/>
                      </a:lnTo>
                      <a:lnTo>
                        <a:pt x="40" y="26"/>
                      </a:lnTo>
                      <a:lnTo>
                        <a:pt x="48" y="19"/>
                      </a:lnTo>
                      <a:lnTo>
                        <a:pt x="56" y="13"/>
                      </a:lnTo>
                      <a:lnTo>
                        <a:pt x="65" y="8"/>
                      </a:lnTo>
                      <a:lnTo>
                        <a:pt x="69" y="3"/>
                      </a:lnTo>
                      <a:lnTo>
                        <a:pt x="76" y="2"/>
                      </a:lnTo>
                      <a:lnTo>
                        <a:pt x="78" y="0"/>
                      </a:lnTo>
                      <a:lnTo>
                        <a:pt x="80" y="0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5c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 flipH="1">
                  <a:off x="1553760" y="5666760"/>
                  <a:ext cx="97560" cy="43920"/>
                </a:xfrm>
                <a:custGeom>
                  <a:avLst/>
                  <a:gdLst/>
                  <a:ahLst/>
                  <a:rect l="l" t="t" r="r" b="b"/>
                  <a:pathLst>
                    <a:path w="150" h="77">
                      <a:moveTo>
                        <a:pt x="0" y="16"/>
                      </a:moveTo>
                      <a:lnTo>
                        <a:pt x="3" y="16"/>
                      </a:lnTo>
                      <a:lnTo>
                        <a:pt x="8" y="16"/>
                      </a:lnTo>
                      <a:lnTo>
                        <a:pt x="15" y="16"/>
                      </a:lnTo>
                      <a:lnTo>
                        <a:pt x="23" y="16"/>
                      </a:lnTo>
                      <a:lnTo>
                        <a:pt x="33" y="17"/>
                      </a:lnTo>
                      <a:lnTo>
                        <a:pt x="42" y="19"/>
                      </a:lnTo>
                      <a:lnTo>
                        <a:pt x="54" y="22"/>
                      </a:lnTo>
                      <a:lnTo>
                        <a:pt x="65" y="23"/>
                      </a:lnTo>
                      <a:lnTo>
                        <a:pt x="76" y="27"/>
                      </a:lnTo>
                      <a:lnTo>
                        <a:pt x="87" y="33"/>
                      </a:lnTo>
                      <a:lnTo>
                        <a:pt x="99" y="38"/>
                      </a:lnTo>
                      <a:lnTo>
                        <a:pt x="109" y="45"/>
                      </a:lnTo>
                      <a:lnTo>
                        <a:pt x="119" y="55"/>
                      </a:lnTo>
                      <a:lnTo>
                        <a:pt x="128" y="64"/>
                      </a:lnTo>
                      <a:lnTo>
                        <a:pt x="137" y="77"/>
                      </a:lnTo>
                      <a:lnTo>
                        <a:pt x="150" y="57"/>
                      </a:lnTo>
                      <a:lnTo>
                        <a:pt x="148" y="53"/>
                      </a:lnTo>
                      <a:lnTo>
                        <a:pt x="140" y="45"/>
                      </a:lnTo>
                      <a:lnTo>
                        <a:pt x="134" y="40"/>
                      </a:lnTo>
                      <a:lnTo>
                        <a:pt x="128" y="34"/>
                      </a:lnTo>
                      <a:lnTo>
                        <a:pt x="121" y="30"/>
                      </a:lnTo>
                      <a:lnTo>
                        <a:pt x="113" y="24"/>
                      </a:lnTo>
                      <a:lnTo>
                        <a:pt x="102" y="19"/>
                      </a:lnTo>
                      <a:lnTo>
                        <a:pt x="91" y="13"/>
                      </a:lnTo>
                      <a:lnTo>
                        <a:pt x="79" y="9"/>
                      </a:lnTo>
                      <a:lnTo>
                        <a:pt x="66" y="4"/>
                      </a:lnTo>
                      <a:lnTo>
                        <a:pt x="50" y="1"/>
                      </a:lnTo>
                      <a:lnTo>
                        <a:pt x="35" y="0"/>
                      </a:lnTo>
                      <a:lnTo>
                        <a:pt x="18" y="0"/>
                      </a:lnTo>
                      <a:lnTo>
                        <a:pt x="1" y="2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4d36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 flipH="1">
                  <a:off x="2261520" y="5619600"/>
                  <a:ext cx="682560" cy="160200"/>
                </a:xfrm>
                <a:custGeom>
                  <a:avLst/>
                  <a:gdLst/>
                  <a:ahLst/>
                  <a:rect l="l" t="t" r="r" b="b"/>
                  <a:pathLst>
                    <a:path w="1050" h="283">
                      <a:moveTo>
                        <a:pt x="0" y="283"/>
                      </a:moveTo>
                      <a:lnTo>
                        <a:pt x="0" y="281"/>
                      </a:lnTo>
                      <a:lnTo>
                        <a:pt x="4" y="277"/>
                      </a:lnTo>
                      <a:lnTo>
                        <a:pt x="10" y="271"/>
                      </a:lnTo>
                      <a:lnTo>
                        <a:pt x="16" y="264"/>
                      </a:lnTo>
                      <a:lnTo>
                        <a:pt x="24" y="254"/>
                      </a:lnTo>
                      <a:lnTo>
                        <a:pt x="34" y="244"/>
                      </a:lnTo>
                      <a:lnTo>
                        <a:pt x="45" y="233"/>
                      </a:lnTo>
                      <a:lnTo>
                        <a:pt x="56" y="223"/>
                      </a:lnTo>
                      <a:lnTo>
                        <a:pt x="68" y="211"/>
                      </a:lnTo>
                      <a:lnTo>
                        <a:pt x="82" y="201"/>
                      </a:lnTo>
                      <a:lnTo>
                        <a:pt x="95" y="190"/>
                      </a:lnTo>
                      <a:lnTo>
                        <a:pt x="109" y="182"/>
                      </a:lnTo>
                      <a:lnTo>
                        <a:pt x="121" y="173"/>
                      </a:lnTo>
                      <a:lnTo>
                        <a:pt x="135" y="168"/>
                      </a:lnTo>
                      <a:lnTo>
                        <a:pt x="147" y="164"/>
                      </a:lnTo>
                      <a:lnTo>
                        <a:pt x="159" y="163"/>
                      </a:lnTo>
                      <a:lnTo>
                        <a:pt x="103" y="226"/>
                      </a:lnTo>
                      <a:lnTo>
                        <a:pt x="351" y="115"/>
                      </a:lnTo>
                      <a:lnTo>
                        <a:pt x="294" y="171"/>
                      </a:lnTo>
                      <a:lnTo>
                        <a:pt x="506" y="98"/>
                      </a:lnTo>
                      <a:lnTo>
                        <a:pt x="437" y="158"/>
                      </a:lnTo>
                      <a:lnTo>
                        <a:pt x="647" y="63"/>
                      </a:lnTo>
                      <a:lnTo>
                        <a:pt x="586" y="131"/>
                      </a:lnTo>
                      <a:lnTo>
                        <a:pt x="801" y="33"/>
                      </a:lnTo>
                      <a:lnTo>
                        <a:pt x="742" y="103"/>
                      </a:lnTo>
                      <a:lnTo>
                        <a:pt x="945" y="16"/>
                      </a:lnTo>
                      <a:lnTo>
                        <a:pt x="898" y="84"/>
                      </a:lnTo>
                      <a:lnTo>
                        <a:pt x="1050" y="0"/>
                      </a:lnTo>
                      <a:lnTo>
                        <a:pt x="1031" y="56"/>
                      </a:lnTo>
                      <a:lnTo>
                        <a:pt x="0" y="283"/>
                      </a:lnTo>
                      <a:lnTo>
                        <a:pt x="0" y="283"/>
                      </a:lnTo>
                      <a:close/>
                    </a:path>
                  </a:pathLst>
                </a:custGeom>
                <a:solidFill>
                  <a:srgbClr val="5c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 flipH="1">
                  <a:off x="1889640" y="5135400"/>
                  <a:ext cx="1223640" cy="680400"/>
                </a:xfrm>
                <a:custGeom>
                  <a:avLst/>
                  <a:gdLst/>
                  <a:ahLst/>
                  <a:rect l="l" t="t" r="r" b="b"/>
                  <a:pathLst>
                    <a:path w="1883" h="1207">
                      <a:moveTo>
                        <a:pt x="156" y="0"/>
                      </a:moveTo>
                      <a:lnTo>
                        <a:pt x="122" y="41"/>
                      </a:lnTo>
                      <a:lnTo>
                        <a:pt x="659" y="55"/>
                      </a:lnTo>
                      <a:lnTo>
                        <a:pt x="663" y="55"/>
                      </a:lnTo>
                      <a:lnTo>
                        <a:pt x="669" y="55"/>
                      </a:lnTo>
                      <a:lnTo>
                        <a:pt x="677" y="57"/>
                      </a:lnTo>
                      <a:lnTo>
                        <a:pt x="684" y="58"/>
                      </a:lnTo>
                      <a:lnTo>
                        <a:pt x="694" y="62"/>
                      </a:lnTo>
                      <a:lnTo>
                        <a:pt x="705" y="63"/>
                      </a:lnTo>
                      <a:lnTo>
                        <a:pt x="716" y="68"/>
                      </a:lnTo>
                      <a:lnTo>
                        <a:pt x="726" y="72"/>
                      </a:lnTo>
                      <a:lnTo>
                        <a:pt x="736" y="77"/>
                      </a:lnTo>
                      <a:lnTo>
                        <a:pt x="744" y="84"/>
                      </a:lnTo>
                      <a:lnTo>
                        <a:pt x="753" y="91"/>
                      </a:lnTo>
                      <a:lnTo>
                        <a:pt x="760" y="98"/>
                      </a:lnTo>
                      <a:lnTo>
                        <a:pt x="764" y="108"/>
                      </a:lnTo>
                      <a:lnTo>
                        <a:pt x="767" y="119"/>
                      </a:lnTo>
                      <a:lnTo>
                        <a:pt x="768" y="131"/>
                      </a:lnTo>
                      <a:lnTo>
                        <a:pt x="764" y="142"/>
                      </a:lnTo>
                      <a:lnTo>
                        <a:pt x="758" y="153"/>
                      </a:lnTo>
                      <a:lnTo>
                        <a:pt x="748" y="164"/>
                      </a:lnTo>
                      <a:lnTo>
                        <a:pt x="737" y="175"/>
                      </a:lnTo>
                      <a:lnTo>
                        <a:pt x="722" y="184"/>
                      </a:lnTo>
                      <a:lnTo>
                        <a:pt x="706" y="194"/>
                      </a:lnTo>
                      <a:lnTo>
                        <a:pt x="691" y="202"/>
                      </a:lnTo>
                      <a:lnTo>
                        <a:pt x="674" y="211"/>
                      </a:lnTo>
                      <a:lnTo>
                        <a:pt x="657" y="216"/>
                      </a:lnTo>
                      <a:lnTo>
                        <a:pt x="640" y="223"/>
                      </a:lnTo>
                      <a:lnTo>
                        <a:pt x="626" y="227"/>
                      </a:lnTo>
                      <a:lnTo>
                        <a:pt x="613" y="233"/>
                      </a:lnTo>
                      <a:lnTo>
                        <a:pt x="600" y="235"/>
                      </a:lnTo>
                      <a:lnTo>
                        <a:pt x="592" y="238"/>
                      </a:lnTo>
                      <a:lnTo>
                        <a:pt x="586" y="241"/>
                      </a:lnTo>
                      <a:lnTo>
                        <a:pt x="585" y="242"/>
                      </a:lnTo>
                      <a:lnTo>
                        <a:pt x="191" y="321"/>
                      </a:lnTo>
                      <a:lnTo>
                        <a:pt x="189" y="321"/>
                      </a:lnTo>
                      <a:lnTo>
                        <a:pt x="182" y="324"/>
                      </a:lnTo>
                      <a:lnTo>
                        <a:pt x="173" y="327"/>
                      </a:lnTo>
                      <a:lnTo>
                        <a:pt x="160" y="331"/>
                      </a:lnTo>
                      <a:lnTo>
                        <a:pt x="145" y="337"/>
                      </a:lnTo>
                      <a:lnTo>
                        <a:pt x="128" y="345"/>
                      </a:lnTo>
                      <a:lnTo>
                        <a:pt x="111" y="353"/>
                      </a:lnTo>
                      <a:lnTo>
                        <a:pt x="93" y="367"/>
                      </a:lnTo>
                      <a:lnTo>
                        <a:pt x="75" y="379"/>
                      </a:lnTo>
                      <a:lnTo>
                        <a:pt x="56" y="394"/>
                      </a:lnTo>
                      <a:lnTo>
                        <a:pt x="41" y="411"/>
                      </a:lnTo>
                      <a:lnTo>
                        <a:pt x="27" y="432"/>
                      </a:lnTo>
                      <a:lnTo>
                        <a:pt x="14" y="453"/>
                      </a:lnTo>
                      <a:lnTo>
                        <a:pt x="6" y="477"/>
                      </a:lnTo>
                      <a:lnTo>
                        <a:pt x="0" y="503"/>
                      </a:lnTo>
                      <a:lnTo>
                        <a:pt x="0" y="534"/>
                      </a:lnTo>
                      <a:lnTo>
                        <a:pt x="6" y="560"/>
                      </a:lnTo>
                      <a:lnTo>
                        <a:pt x="20" y="586"/>
                      </a:lnTo>
                      <a:lnTo>
                        <a:pt x="42" y="606"/>
                      </a:lnTo>
                      <a:lnTo>
                        <a:pt x="70" y="624"/>
                      </a:lnTo>
                      <a:lnTo>
                        <a:pt x="102" y="640"/>
                      </a:lnTo>
                      <a:lnTo>
                        <a:pt x="138" y="652"/>
                      </a:lnTo>
                      <a:lnTo>
                        <a:pt x="177" y="661"/>
                      </a:lnTo>
                      <a:lnTo>
                        <a:pt x="217" y="670"/>
                      </a:lnTo>
                      <a:lnTo>
                        <a:pt x="255" y="675"/>
                      </a:lnTo>
                      <a:lnTo>
                        <a:pt x="294" y="679"/>
                      </a:lnTo>
                      <a:lnTo>
                        <a:pt x="330" y="681"/>
                      </a:lnTo>
                      <a:lnTo>
                        <a:pt x="363" y="683"/>
                      </a:lnTo>
                      <a:lnTo>
                        <a:pt x="389" y="683"/>
                      </a:lnTo>
                      <a:lnTo>
                        <a:pt x="410" y="684"/>
                      </a:lnTo>
                      <a:lnTo>
                        <a:pt x="425" y="684"/>
                      </a:lnTo>
                      <a:lnTo>
                        <a:pt x="430" y="685"/>
                      </a:lnTo>
                      <a:lnTo>
                        <a:pt x="930" y="736"/>
                      </a:lnTo>
                      <a:lnTo>
                        <a:pt x="932" y="736"/>
                      </a:lnTo>
                      <a:lnTo>
                        <a:pt x="938" y="737"/>
                      </a:lnTo>
                      <a:lnTo>
                        <a:pt x="946" y="739"/>
                      </a:lnTo>
                      <a:lnTo>
                        <a:pt x="960" y="744"/>
                      </a:lnTo>
                      <a:lnTo>
                        <a:pt x="974" y="746"/>
                      </a:lnTo>
                      <a:lnTo>
                        <a:pt x="989" y="751"/>
                      </a:lnTo>
                      <a:lnTo>
                        <a:pt x="1005" y="756"/>
                      </a:lnTo>
                      <a:lnTo>
                        <a:pt x="1023" y="764"/>
                      </a:lnTo>
                      <a:lnTo>
                        <a:pt x="1037" y="769"/>
                      </a:lnTo>
                      <a:lnTo>
                        <a:pt x="1050" y="776"/>
                      </a:lnTo>
                      <a:lnTo>
                        <a:pt x="1061" y="782"/>
                      </a:lnTo>
                      <a:lnTo>
                        <a:pt x="1070" y="791"/>
                      </a:lnTo>
                      <a:lnTo>
                        <a:pt x="1072" y="799"/>
                      </a:lnTo>
                      <a:lnTo>
                        <a:pt x="1072" y="807"/>
                      </a:lnTo>
                      <a:lnTo>
                        <a:pt x="1067" y="816"/>
                      </a:lnTo>
                      <a:lnTo>
                        <a:pt x="1057" y="826"/>
                      </a:lnTo>
                      <a:lnTo>
                        <a:pt x="1037" y="833"/>
                      </a:lnTo>
                      <a:lnTo>
                        <a:pt x="1013" y="841"/>
                      </a:lnTo>
                      <a:lnTo>
                        <a:pt x="982" y="850"/>
                      </a:lnTo>
                      <a:lnTo>
                        <a:pt x="947" y="860"/>
                      </a:lnTo>
                      <a:lnTo>
                        <a:pt x="910" y="868"/>
                      </a:lnTo>
                      <a:lnTo>
                        <a:pt x="869" y="875"/>
                      </a:lnTo>
                      <a:lnTo>
                        <a:pt x="828" y="884"/>
                      </a:lnTo>
                      <a:lnTo>
                        <a:pt x="786" y="892"/>
                      </a:lnTo>
                      <a:lnTo>
                        <a:pt x="745" y="897"/>
                      </a:lnTo>
                      <a:lnTo>
                        <a:pt x="706" y="904"/>
                      </a:lnTo>
                      <a:lnTo>
                        <a:pt x="670" y="908"/>
                      </a:lnTo>
                      <a:lnTo>
                        <a:pt x="640" y="915"/>
                      </a:lnTo>
                      <a:lnTo>
                        <a:pt x="614" y="918"/>
                      </a:lnTo>
                      <a:lnTo>
                        <a:pt x="593" y="922"/>
                      </a:lnTo>
                      <a:lnTo>
                        <a:pt x="580" y="924"/>
                      </a:lnTo>
                      <a:lnTo>
                        <a:pt x="577" y="925"/>
                      </a:lnTo>
                      <a:lnTo>
                        <a:pt x="572" y="925"/>
                      </a:lnTo>
                      <a:lnTo>
                        <a:pt x="562" y="927"/>
                      </a:lnTo>
                      <a:lnTo>
                        <a:pt x="545" y="929"/>
                      </a:lnTo>
                      <a:lnTo>
                        <a:pt x="523" y="934"/>
                      </a:lnTo>
                      <a:lnTo>
                        <a:pt x="498" y="937"/>
                      </a:lnTo>
                      <a:lnTo>
                        <a:pt x="468" y="943"/>
                      </a:lnTo>
                      <a:lnTo>
                        <a:pt x="437" y="949"/>
                      </a:lnTo>
                      <a:lnTo>
                        <a:pt x="405" y="955"/>
                      </a:lnTo>
                      <a:lnTo>
                        <a:pt x="370" y="960"/>
                      </a:lnTo>
                      <a:lnTo>
                        <a:pt x="338" y="966"/>
                      </a:lnTo>
                      <a:lnTo>
                        <a:pt x="306" y="973"/>
                      </a:lnTo>
                      <a:lnTo>
                        <a:pt x="279" y="978"/>
                      </a:lnTo>
                      <a:lnTo>
                        <a:pt x="251" y="984"/>
                      </a:lnTo>
                      <a:lnTo>
                        <a:pt x="230" y="988"/>
                      </a:lnTo>
                      <a:lnTo>
                        <a:pt x="213" y="992"/>
                      </a:lnTo>
                      <a:lnTo>
                        <a:pt x="203" y="997"/>
                      </a:lnTo>
                      <a:lnTo>
                        <a:pt x="195" y="999"/>
                      </a:lnTo>
                      <a:lnTo>
                        <a:pt x="187" y="1001"/>
                      </a:lnTo>
                      <a:lnTo>
                        <a:pt x="179" y="1006"/>
                      </a:lnTo>
                      <a:lnTo>
                        <a:pt x="170" y="1011"/>
                      </a:lnTo>
                      <a:lnTo>
                        <a:pt x="161" y="1016"/>
                      </a:lnTo>
                      <a:lnTo>
                        <a:pt x="153" y="1022"/>
                      </a:lnTo>
                      <a:lnTo>
                        <a:pt x="144" y="1028"/>
                      </a:lnTo>
                      <a:lnTo>
                        <a:pt x="135" y="1035"/>
                      </a:lnTo>
                      <a:lnTo>
                        <a:pt x="126" y="1041"/>
                      </a:lnTo>
                      <a:lnTo>
                        <a:pt x="117" y="1047"/>
                      </a:lnTo>
                      <a:lnTo>
                        <a:pt x="110" y="1053"/>
                      </a:lnTo>
                      <a:lnTo>
                        <a:pt x="102" y="1060"/>
                      </a:lnTo>
                      <a:lnTo>
                        <a:pt x="94" y="1065"/>
                      </a:lnTo>
                      <a:lnTo>
                        <a:pt x="89" y="1071"/>
                      </a:lnTo>
                      <a:lnTo>
                        <a:pt x="82" y="1078"/>
                      </a:lnTo>
                      <a:lnTo>
                        <a:pt x="77" y="1083"/>
                      </a:lnTo>
                      <a:lnTo>
                        <a:pt x="80" y="1109"/>
                      </a:lnTo>
                      <a:lnTo>
                        <a:pt x="81" y="1104"/>
                      </a:lnTo>
                      <a:lnTo>
                        <a:pt x="89" y="1096"/>
                      </a:lnTo>
                      <a:lnTo>
                        <a:pt x="92" y="1090"/>
                      </a:lnTo>
                      <a:lnTo>
                        <a:pt x="98" y="1083"/>
                      </a:lnTo>
                      <a:lnTo>
                        <a:pt x="105" y="1077"/>
                      </a:lnTo>
                      <a:lnTo>
                        <a:pt x="114" y="1070"/>
                      </a:lnTo>
                      <a:lnTo>
                        <a:pt x="122" y="1060"/>
                      </a:lnTo>
                      <a:lnTo>
                        <a:pt x="133" y="1052"/>
                      </a:lnTo>
                      <a:lnTo>
                        <a:pt x="143" y="1044"/>
                      </a:lnTo>
                      <a:lnTo>
                        <a:pt x="156" y="1037"/>
                      </a:lnTo>
                      <a:lnTo>
                        <a:pt x="168" y="1029"/>
                      </a:lnTo>
                      <a:lnTo>
                        <a:pt x="181" y="1023"/>
                      </a:lnTo>
                      <a:lnTo>
                        <a:pt x="196" y="1016"/>
                      </a:lnTo>
                      <a:lnTo>
                        <a:pt x="212" y="1011"/>
                      </a:lnTo>
                      <a:lnTo>
                        <a:pt x="234" y="1005"/>
                      </a:lnTo>
                      <a:lnTo>
                        <a:pt x="270" y="998"/>
                      </a:lnTo>
                      <a:lnTo>
                        <a:pt x="316" y="988"/>
                      </a:lnTo>
                      <a:lnTo>
                        <a:pt x="373" y="977"/>
                      </a:lnTo>
                      <a:lnTo>
                        <a:pt x="433" y="965"/>
                      </a:lnTo>
                      <a:lnTo>
                        <a:pt x="501" y="954"/>
                      </a:lnTo>
                      <a:lnTo>
                        <a:pt x="572" y="941"/>
                      </a:lnTo>
                      <a:lnTo>
                        <a:pt x="645" y="928"/>
                      </a:lnTo>
                      <a:lnTo>
                        <a:pt x="714" y="915"/>
                      </a:lnTo>
                      <a:lnTo>
                        <a:pt x="783" y="903"/>
                      </a:lnTo>
                      <a:lnTo>
                        <a:pt x="846" y="891"/>
                      </a:lnTo>
                      <a:lnTo>
                        <a:pt x="903" y="882"/>
                      </a:lnTo>
                      <a:lnTo>
                        <a:pt x="952" y="872"/>
                      </a:lnTo>
                      <a:lnTo>
                        <a:pt x="991" y="865"/>
                      </a:lnTo>
                      <a:lnTo>
                        <a:pt x="1016" y="861"/>
                      </a:lnTo>
                      <a:lnTo>
                        <a:pt x="1029" y="859"/>
                      </a:lnTo>
                      <a:lnTo>
                        <a:pt x="1035" y="855"/>
                      </a:lnTo>
                      <a:lnTo>
                        <a:pt x="1041" y="852"/>
                      </a:lnTo>
                      <a:lnTo>
                        <a:pt x="1049" y="848"/>
                      </a:lnTo>
                      <a:lnTo>
                        <a:pt x="1059" y="843"/>
                      </a:lnTo>
                      <a:lnTo>
                        <a:pt x="1067" y="838"/>
                      </a:lnTo>
                      <a:lnTo>
                        <a:pt x="1076" y="831"/>
                      </a:lnTo>
                      <a:lnTo>
                        <a:pt x="1082" y="824"/>
                      </a:lnTo>
                      <a:lnTo>
                        <a:pt x="1088" y="817"/>
                      </a:lnTo>
                      <a:lnTo>
                        <a:pt x="1090" y="808"/>
                      </a:lnTo>
                      <a:lnTo>
                        <a:pt x="1089" y="799"/>
                      </a:lnTo>
                      <a:lnTo>
                        <a:pt x="1085" y="789"/>
                      </a:lnTo>
                      <a:lnTo>
                        <a:pt x="1077" y="780"/>
                      </a:lnTo>
                      <a:lnTo>
                        <a:pt x="1062" y="768"/>
                      </a:lnTo>
                      <a:lnTo>
                        <a:pt x="1045" y="758"/>
                      </a:lnTo>
                      <a:lnTo>
                        <a:pt x="1020" y="747"/>
                      </a:lnTo>
                      <a:lnTo>
                        <a:pt x="991" y="736"/>
                      </a:lnTo>
                      <a:lnTo>
                        <a:pt x="985" y="735"/>
                      </a:lnTo>
                      <a:lnTo>
                        <a:pt x="974" y="734"/>
                      </a:lnTo>
                      <a:lnTo>
                        <a:pt x="955" y="729"/>
                      </a:lnTo>
                      <a:lnTo>
                        <a:pt x="931" y="726"/>
                      </a:lnTo>
                      <a:lnTo>
                        <a:pt x="900" y="721"/>
                      </a:lnTo>
                      <a:lnTo>
                        <a:pt x="865" y="715"/>
                      </a:lnTo>
                      <a:lnTo>
                        <a:pt x="826" y="709"/>
                      </a:lnTo>
                      <a:lnTo>
                        <a:pt x="785" y="704"/>
                      </a:lnTo>
                      <a:lnTo>
                        <a:pt x="740" y="698"/>
                      </a:lnTo>
                      <a:lnTo>
                        <a:pt x="692" y="692"/>
                      </a:lnTo>
                      <a:lnTo>
                        <a:pt x="642" y="686"/>
                      </a:lnTo>
                      <a:lnTo>
                        <a:pt x="594" y="681"/>
                      </a:lnTo>
                      <a:lnTo>
                        <a:pt x="545" y="675"/>
                      </a:lnTo>
                      <a:lnTo>
                        <a:pt x="496" y="673"/>
                      </a:lnTo>
                      <a:lnTo>
                        <a:pt x="449" y="670"/>
                      </a:lnTo>
                      <a:lnTo>
                        <a:pt x="406" y="670"/>
                      </a:lnTo>
                      <a:lnTo>
                        <a:pt x="400" y="669"/>
                      </a:lnTo>
                      <a:lnTo>
                        <a:pt x="389" y="669"/>
                      </a:lnTo>
                      <a:lnTo>
                        <a:pt x="372" y="667"/>
                      </a:lnTo>
                      <a:lnTo>
                        <a:pt x="348" y="666"/>
                      </a:lnTo>
                      <a:lnTo>
                        <a:pt x="320" y="664"/>
                      </a:lnTo>
                      <a:lnTo>
                        <a:pt x="290" y="661"/>
                      </a:lnTo>
                      <a:lnTo>
                        <a:pt x="255" y="656"/>
                      </a:lnTo>
                      <a:lnTo>
                        <a:pt x="222" y="652"/>
                      </a:lnTo>
                      <a:lnTo>
                        <a:pt x="187" y="644"/>
                      </a:lnTo>
                      <a:lnTo>
                        <a:pt x="153" y="635"/>
                      </a:lnTo>
                      <a:lnTo>
                        <a:pt x="121" y="625"/>
                      </a:lnTo>
                      <a:lnTo>
                        <a:pt x="91" y="613"/>
                      </a:lnTo>
                      <a:lnTo>
                        <a:pt x="65" y="598"/>
                      </a:lnTo>
                      <a:lnTo>
                        <a:pt x="44" y="581"/>
                      </a:lnTo>
                      <a:lnTo>
                        <a:pt x="30" y="560"/>
                      </a:lnTo>
                      <a:lnTo>
                        <a:pt x="22" y="539"/>
                      </a:lnTo>
                      <a:lnTo>
                        <a:pt x="20" y="515"/>
                      </a:lnTo>
                      <a:lnTo>
                        <a:pt x="20" y="494"/>
                      </a:lnTo>
                      <a:lnTo>
                        <a:pt x="26" y="474"/>
                      </a:lnTo>
                      <a:lnTo>
                        <a:pt x="33" y="455"/>
                      </a:lnTo>
                      <a:lnTo>
                        <a:pt x="43" y="438"/>
                      </a:lnTo>
                      <a:lnTo>
                        <a:pt x="54" y="421"/>
                      </a:lnTo>
                      <a:lnTo>
                        <a:pt x="69" y="407"/>
                      </a:lnTo>
                      <a:lnTo>
                        <a:pt x="84" y="394"/>
                      </a:lnTo>
                      <a:lnTo>
                        <a:pt x="100" y="381"/>
                      </a:lnTo>
                      <a:lnTo>
                        <a:pt x="115" y="371"/>
                      </a:lnTo>
                      <a:lnTo>
                        <a:pt x="131" y="361"/>
                      </a:lnTo>
                      <a:lnTo>
                        <a:pt x="146" y="353"/>
                      </a:lnTo>
                      <a:lnTo>
                        <a:pt x="160" y="347"/>
                      </a:lnTo>
                      <a:lnTo>
                        <a:pt x="174" y="341"/>
                      </a:lnTo>
                      <a:lnTo>
                        <a:pt x="185" y="338"/>
                      </a:lnTo>
                      <a:lnTo>
                        <a:pt x="194" y="337"/>
                      </a:lnTo>
                      <a:lnTo>
                        <a:pt x="203" y="334"/>
                      </a:lnTo>
                      <a:lnTo>
                        <a:pt x="221" y="330"/>
                      </a:lnTo>
                      <a:lnTo>
                        <a:pt x="243" y="326"/>
                      </a:lnTo>
                      <a:lnTo>
                        <a:pt x="271" y="320"/>
                      </a:lnTo>
                      <a:lnTo>
                        <a:pt x="301" y="315"/>
                      </a:lnTo>
                      <a:lnTo>
                        <a:pt x="334" y="308"/>
                      </a:lnTo>
                      <a:lnTo>
                        <a:pt x="368" y="302"/>
                      </a:lnTo>
                      <a:lnTo>
                        <a:pt x="404" y="295"/>
                      </a:lnTo>
                      <a:lnTo>
                        <a:pt x="437" y="288"/>
                      </a:lnTo>
                      <a:lnTo>
                        <a:pt x="470" y="282"/>
                      </a:lnTo>
                      <a:lnTo>
                        <a:pt x="500" y="275"/>
                      </a:lnTo>
                      <a:lnTo>
                        <a:pt x="529" y="271"/>
                      </a:lnTo>
                      <a:lnTo>
                        <a:pt x="552" y="266"/>
                      </a:lnTo>
                      <a:lnTo>
                        <a:pt x="568" y="263"/>
                      </a:lnTo>
                      <a:lnTo>
                        <a:pt x="580" y="261"/>
                      </a:lnTo>
                      <a:lnTo>
                        <a:pt x="585" y="261"/>
                      </a:lnTo>
                      <a:lnTo>
                        <a:pt x="587" y="260"/>
                      </a:lnTo>
                      <a:lnTo>
                        <a:pt x="593" y="258"/>
                      </a:lnTo>
                      <a:lnTo>
                        <a:pt x="603" y="256"/>
                      </a:lnTo>
                      <a:lnTo>
                        <a:pt x="615" y="254"/>
                      </a:lnTo>
                      <a:lnTo>
                        <a:pt x="629" y="248"/>
                      </a:lnTo>
                      <a:lnTo>
                        <a:pt x="647" y="244"/>
                      </a:lnTo>
                      <a:lnTo>
                        <a:pt x="664" y="237"/>
                      </a:lnTo>
                      <a:lnTo>
                        <a:pt x="683" y="232"/>
                      </a:lnTo>
                      <a:lnTo>
                        <a:pt x="702" y="223"/>
                      </a:lnTo>
                      <a:lnTo>
                        <a:pt x="720" y="213"/>
                      </a:lnTo>
                      <a:lnTo>
                        <a:pt x="736" y="202"/>
                      </a:lnTo>
                      <a:lnTo>
                        <a:pt x="752" y="191"/>
                      </a:lnTo>
                      <a:lnTo>
                        <a:pt x="764" y="178"/>
                      </a:lnTo>
                      <a:lnTo>
                        <a:pt x="774" y="164"/>
                      </a:lnTo>
                      <a:lnTo>
                        <a:pt x="781" y="149"/>
                      </a:lnTo>
                      <a:lnTo>
                        <a:pt x="784" y="132"/>
                      </a:lnTo>
                      <a:lnTo>
                        <a:pt x="781" y="115"/>
                      </a:lnTo>
                      <a:lnTo>
                        <a:pt x="775" y="100"/>
                      </a:lnTo>
                      <a:lnTo>
                        <a:pt x="767" y="87"/>
                      </a:lnTo>
                      <a:lnTo>
                        <a:pt x="758" y="77"/>
                      </a:lnTo>
                      <a:lnTo>
                        <a:pt x="746" y="67"/>
                      </a:lnTo>
                      <a:lnTo>
                        <a:pt x="734" y="61"/>
                      </a:lnTo>
                      <a:lnTo>
                        <a:pt x="721" y="54"/>
                      </a:lnTo>
                      <a:lnTo>
                        <a:pt x="708" y="51"/>
                      </a:lnTo>
                      <a:lnTo>
                        <a:pt x="694" y="46"/>
                      </a:lnTo>
                      <a:lnTo>
                        <a:pt x="681" y="43"/>
                      </a:lnTo>
                      <a:lnTo>
                        <a:pt x="669" y="41"/>
                      </a:lnTo>
                      <a:lnTo>
                        <a:pt x="659" y="39"/>
                      </a:lnTo>
                      <a:lnTo>
                        <a:pt x="648" y="38"/>
                      </a:lnTo>
                      <a:lnTo>
                        <a:pt x="641" y="38"/>
                      </a:lnTo>
                      <a:lnTo>
                        <a:pt x="637" y="38"/>
                      </a:lnTo>
                      <a:lnTo>
                        <a:pt x="637" y="39"/>
                      </a:lnTo>
                      <a:lnTo>
                        <a:pt x="140" y="31"/>
                      </a:lnTo>
                      <a:lnTo>
                        <a:pt x="157" y="13"/>
                      </a:lnTo>
                      <a:lnTo>
                        <a:pt x="161" y="12"/>
                      </a:lnTo>
                      <a:lnTo>
                        <a:pt x="180" y="11"/>
                      </a:lnTo>
                      <a:lnTo>
                        <a:pt x="208" y="10"/>
                      </a:lnTo>
                      <a:lnTo>
                        <a:pt x="245" y="10"/>
                      </a:lnTo>
                      <a:lnTo>
                        <a:pt x="288" y="9"/>
                      </a:lnTo>
                      <a:lnTo>
                        <a:pt x="337" y="7"/>
                      </a:lnTo>
                      <a:lnTo>
                        <a:pt x="390" y="7"/>
                      </a:lnTo>
                      <a:lnTo>
                        <a:pt x="447" y="9"/>
                      </a:lnTo>
                      <a:lnTo>
                        <a:pt x="502" y="9"/>
                      </a:lnTo>
                      <a:lnTo>
                        <a:pt x="557" y="10"/>
                      </a:lnTo>
                      <a:lnTo>
                        <a:pt x="610" y="11"/>
                      </a:lnTo>
                      <a:lnTo>
                        <a:pt x="660" y="14"/>
                      </a:lnTo>
                      <a:lnTo>
                        <a:pt x="704" y="16"/>
                      </a:lnTo>
                      <a:lnTo>
                        <a:pt x="741" y="22"/>
                      </a:lnTo>
                      <a:lnTo>
                        <a:pt x="770" y="27"/>
                      </a:lnTo>
                      <a:lnTo>
                        <a:pt x="789" y="36"/>
                      </a:lnTo>
                      <a:lnTo>
                        <a:pt x="800" y="44"/>
                      </a:lnTo>
                      <a:lnTo>
                        <a:pt x="812" y="53"/>
                      </a:lnTo>
                      <a:lnTo>
                        <a:pt x="819" y="63"/>
                      </a:lnTo>
                      <a:lnTo>
                        <a:pt x="828" y="75"/>
                      </a:lnTo>
                      <a:lnTo>
                        <a:pt x="833" y="86"/>
                      </a:lnTo>
                      <a:lnTo>
                        <a:pt x="836" y="99"/>
                      </a:lnTo>
                      <a:lnTo>
                        <a:pt x="838" y="112"/>
                      </a:lnTo>
                      <a:lnTo>
                        <a:pt x="839" y="127"/>
                      </a:lnTo>
                      <a:lnTo>
                        <a:pt x="836" y="140"/>
                      </a:lnTo>
                      <a:lnTo>
                        <a:pt x="831" y="153"/>
                      </a:lnTo>
                      <a:lnTo>
                        <a:pt x="826" y="167"/>
                      </a:lnTo>
                      <a:lnTo>
                        <a:pt x="819" y="181"/>
                      </a:lnTo>
                      <a:lnTo>
                        <a:pt x="808" y="194"/>
                      </a:lnTo>
                      <a:lnTo>
                        <a:pt x="797" y="208"/>
                      </a:lnTo>
                      <a:lnTo>
                        <a:pt x="782" y="220"/>
                      </a:lnTo>
                      <a:lnTo>
                        <a:pt x="766" y="233"/>
                      </a:lnTo>
                      <a:lnTo>
                        <a:pt x="746" y="244"/>
                      </a:lnTo>
                      <a:lnTo>
                        <a:pt x="724" y="256"/>
                      </a:lnTo>
                      <a:lnTo>
                        <a:pt x="698" y="268"/>
                      </a:lnTo>
                      <a:lnTo>
                        <a:pt x="671" y="281"/>
                      </a:lnTo>
                      <a:lnTo>
                        <a:pt x="642" y="290"/>
                      </a:lnTo>
                      <a:lnTo>
                        <a:pt x="614" y="302"/>
                      </a:lnTo>
                      <a:lnTo>
                        <a:pt x="583" y="311"/>
                      </a:lnTo>
                      <a:lnTo>
                        <a:pt x="555" y="321"/>
                      </a:lnTo>
                      <a:lnTo>
                        <a:pt x="525" y="329"/>
                      </a:lnTo>
                      <a:lnTo>
                        <a:pt x="500" y="338"/>
                      </a:lnTo>
                      <a:lnTo>
                        <a:pt x="477" y="344"/>
                      </a:lnTo>
                      <a:lnTo>
                        <a:pt x="454" y="351"/>
                      </a:lnTo>
                      <a:lnTo>
                        <a:pt x="437" y="356"/>
                      </a:lnTo>
                      <a:lnTo>
                        <a:pt x="425" y="360"/>
                      </a:lnTo>
                      <a:lnTo>
                        <a:pt x="416" y="362"/>
                      </a:lnTo>
                      <a:lnTo>
                        <a:pt x="414" y="362"/>
                      </a:lnTo>
                      <a:lnTo>
                        <a:pt x="410" y="362"/>
                      </a:lnTo>
                      <a:lnTo>
                        <a:pt x="404" y="362"/>
                      </a:lnTo>
                      <a:lnTo>
                        <a:pt x="391" y="363"/>
                      </a:lnTo>
                      <a:lnTo>
                        <a:pt x="377" y="367"/>
                      </a:lnTo>
                      <a:lnTo>
                        <a:pt x="359" y="370"/>
                      </a:lnTo>
                      <a:lnTo>
                        <a:pt x="341" y="373"/>
                      </a:lnTo>
                      <a:lnTo>
                        <a:pt x="320" y="378"/>
                      </a:lnTo>
                      <a:lnTo>
                        <a:pt x="299" y="386"/>
                      </a:lnTo>
                      <a:lnTo>
                        <a:pt x="275" y="391"/>
                      </a:lnTo>
                      <a:lnTo>
                        <a:pt x="254" y="399"/>
                      </a:lnTo>
                      <a:lnTo>
                        <a:pt x="233" y="409"/>
                      </a:lnTo>
                      <a:lnTo>
                        <a:pt x="216" y="420"/>
                      </a:lnTo>
                      <a:lnTo>
                        <a:pt x="199" y="431"/>
                      </a:lnTo>
                      <a:lnTo>
                        <a:pt x="186" y="444"/>
                      </a:lnTo>
                      <a:lnTo>
                        <a:pt x="176" y="460"/>
                      </a:lnTo>
                      <a:lnTo>
                        <a:pt x="170" y="477"/>
                      </a:lnTo>
                      <a:lnTo>
                        <a:pt x="168" y="492"/>
                      </a:lnTo>
                      <a:lnTo>
                        <a:pt x="170" y="507"/>
                      </a:lnTo>
                      <a:lnTo>
                        <a:pt x="177" y="519"/>
                      </a:lnTo>
                      <a:lnTo>
                        <a:pt x="186" y="531"/>
                      </a:lnTo>
                      <a:lnTo>
                        <a:pt x="196" y="540"/>
                      </a:lnTo>
                      <a:lnTo>
                        <a:pt x="209" y="550"/>
                      </a:lnTo>
                      <a:lnTo>
                        <a:pt x="224" y="558"/>
                      </a:lnTo>
                      <a:lnTo>
                        <a:pt x="239" y="565"/>
                      </a:lnTo>
                      <a:lnTo>
                        <a:pt x="254" y="570"/>
                      </a:lnTo>
                      <a:lnTo>
                        <a:pt x="270" y="573"/>
                      </a:lnTo>
                      <a:lnTo>
                        <a:pt x="283" y="577"/>
                      </a:lnTo>
                      <a:lnTo>
                        <a:pt x="296" y="581"/>
                      </a:lnTo>
                      <a:lnTo>
                        <a:pt x="306" y="582"/>
                      </a:lnTo>
                      <a:lnTo>
                        <a:pt x="316" y="583"/>
                      </a:lnTo>
                      <a:lnTo>
                        <a:pt x="321" y="583"/>
                      </a:lnTo>
                      <a:lnTo>
                        <a:pt x="324" y="585"/>
                      </a:lnTo>
                      <a:lnTo>
                        <a:pt x="933" y="633"/>
                      </a:lnTo>
                      <a:lnTo>
                        <a:pt x="935" y="633"/>
                      </a:lnTo>
                      <a:lnTo>
                        <a:pt x="946" y="634"/>
                      </a:lnTo>
                      <a:lnTo>
                        <a:pt x="963" y="635"/>
                      </a:lnTo>
                      <a:lnTo>
                        <a:pt x="985" y="639"/>
                      </a:lnTo>
                      <a:lnTo>
                        <a:pt x="1011" y="641"/>
                      </a:lnTo>
                      <a:lnTo>
                        <a:pt x="1040" y="645"/>
                      </a:lnTo>
                      <a:lnTo>
                        <a:pt x="1071" y="651"/>
                      </a:lnTo>
                      <a:lnTo>
                        <a:pt x="1106" y="656"/>
                      </a:lnTo>
                      <a:lnTo>
                        <a:pt x="1139" y="662"/>
                      </a:lnTo>
                      <a:lnTo>
                        <a:pt x="1172" y="669"/>
                      </a:lnTo>
                      <a:lnTo>
                        <a:pt x="1204" y="675"/>
                      </a:lnTo>
                      <a:lnTo>
                        <a:pt x="1234" y="684"/>
                      </a:lnTo>
                      <a:lnTo>
                        <a:pt x="1259" y="692"/>
                      </a:lnTo>
                      <a:lnTo>
                        <a:pt x="1282" y="701"/>
                      </a:lnTo>
                      <a:lnTo>
                        <a:pt x="1300" y="711"/>
                      </a:lnTo>
                      <a:lnTo>
                        <a:pt x="1312" y="723"/>
                      </a:lnTo>
                      <a:lnTo>
                        <a:pt x="1320" y="733"/>
                      </a:lnTo>
                      <a:lnTo>
                        <a:pt x="1327" y="745"/>
                      </a:lnTo>
                      <a:lnTo>
                        <a:pt x="1332" y="756"/>
                      </a:lnTo>
                      <a:lnTo>
                        <a:pt x="1338" y="769"/>
                      </a:lnTo>
                      <a:lnTo>
                        <a:pt x="1341" y="781"/>
                      </a:lnTo>
                      <a:lnTo>
                        <a:pt x="1344" y="796"/>
                      </a:lnTo>
                      <a:lnTo>
                        <a:pt x="1344" y="809"/>
                      </a:lnTo>
                      <a:lnTo>
                        <a:pt x="1345" y="823"/>
                      </a:lnTo>
                      <a:lnTo>
                        <a:pt x="1343" y="836"/>
                      </a:lnTo>
                      <a:lnTo>
                        <a:pt x="1340" y="848"/>
                      </a:lnTo>
                      <a:lnTo>
                        <a:pt x="1334" y="859"/>
                      </a:lnTo>
                      <a:lnTo>
                        <a:pt x="1329" y="871"/>
                      </a:lnTo>
                      <a:lnTo>
                        <a:pt x="1320" y="881"/>
                      </a:lnTo>
                      <a:lnTo>
                        <a:pt x="1310" y="891"/>
                      </a:lnTo>
                      <a:lnTo>
                        <a:pt x="1299" y="899"/>
                      </a:lnTo>
                      <a:lnTo>
                        <a:pt x="1287" y="907"/>
                      </a:lnTo>
                      <a:lnTo>
                        <a:pt x="1269" y="913"/>
                      </a:lnTo>
                      <a:lnTo>
                        <a:pt x="1249" y="918"/>
                      </a:lnTo>
                      <a:lnTo>
                        <a:pt x="1227" y="925"/>
                      </a:lnTo>
                      <a:lnTo>
                        <a:pt x="1204" y="932"/>
                      </a:lnTo>
                      <a:lnTo>
                        <a:pt x="1177" y="937"/>
                      </a:lnTo>
                      <a:lnTo>
                        <a:pt x="1152" y="943"/>
                      </a:lnTo>
                      <a:lnTo>
                        <a:pt x="1125" y="948"/>
                      </a:lnTo>
                      <a:lnTo>
                        <a:pt x="1101" y="954"/>
                      </a:lnTo>
                      <a:lnTo>
                        <a:pt x="1075" y="958"/>
                      </a:lnTo>
                      <a:lnTo>
                        <a:pt x="1051" y="963"/>
                      </a:lnTo>
                      <a:lnTo>
                        <a:pt x="1030" y="965"/>
                      </a:lnTo>
                      <a:lnTo>
                        <a:pt x="1013" y="969"/>
                      </a:lnTo>
                      <a:lnTo>
                        <a:pt x="997" y="971"/>
                      </a:lnTo>
                      <a:lnTo>
                        <a:pt x="985" y="974"/>
                      </a:lnTo>
                      <a:lnTo>
                        <a:pt x="978" y="975"/>
                      </a:lnTo>
                      <a:lnTo>
                        <a:pt x="976" y="976"/>
                      </a:lnTo>
                      <a:lnTo>
                        <a:pt x="269" y="1137"/>
                      </a:lnTo>
                      <a:lnTo>
                        <a:pt x="264" y="1137"/>
                      </a:lnTo>
                      <a:lnTo>
                        <a:pt x="259" y="1142"/>
                      </a:lnTo>
                      <a:lnTo>
                        <a:pt x="255" y="1145"/>
                      </a:lnTo>
                      <a:lnTo>
                        <a:pt x="254" y="1151"/>
                      </a:lnTo>
                      <a:lnTo>
                        <a:pt x="254" y="1158"/>
                      </a:lnTo>
                      <a:lnTo>
                        <a:pt x="258" y="1168"/>
                      </a:lnTo>
                      <a:lnTo>
                        <a:pt x="260" y="1173"/>
                      </a:lnTo>
                      <a:lnTo>
                        <a:pt x="264" y="1177"/>
                      </a:lnTo>
                      <a:lnTo>
                        <a:pt x="271" y="1182"/>
                      </a:lnTo>
                      <a:lnTo>
                        <a:pt x="281" y="1185"/>
                      </a:lnTo>
                      <a:lnTo>
                        <a:pt x="290" y="1188"/>
                      </a:lnTo>
                      <a:lnTo>
                        <a:pt x="301" y="1191"/>
                      </a:lnTo>
                      <a:lnTo>
                        <a:pt x="312" y="1195"/>
                      </a:lnTo>
                      <a:lnTo>
                        <a:pt x="324" y="1197"/>
                      </a:lnTo>
                      <a:lnTo>
                        <a:pt x="334" y="1198"/>
                      </a:lnTo>
                      <a:lnTo>
                        <a:pt x="345" y="1200"/>
                      </a:lnTo>
                      <a:lnTo>
                        <a:pt x="354" y="1201"/>
                      </a:lnTo>
                      <a:lnTo>
                        <a:pt x="364" y="1204"/>
                      </a:lnTo>
                      <a:lnTo>
                        <a:pt x="372" y="1205"/>
                      </a:lnTo>
                      <a:lnTo>
                        <a:pt x="377" y="1206"/>
                      </a:lnTo>
                      <a:lnTo>
                        <a:pt x="381" y="1206"/>
                      </a:lnTo>
                      <a:lnTo>
                        <a:pt x="384" y="1207"/>
                      </a:lnTo>
                      <a:lnTo>
                        <a:pt x="1024" y="1191"/>
                      </a:lnTo>
                      <a:lnTo>
                        <a:pt x="1869" y="1030"/>
                      </a:lnTo>
                      <a:lnTo>
                        <a:pt x="1883" y="999"/>
                      </a:lnTo>
                      <a:lnTo>
                        <a:pt x="1873" y="1000"/>
                      </a:lnTo>
                      <a:lnTo>
                        <a:pt x="1848" y="1006"/>
                      </a:lnTo>
                      <a:lnTo>
                        <a:pt x="1811" y="1014"/>
                      </a:lnTo>
                      <a:lnTo>
                        <a:pt x="1761" y="1025"/>
                      </a:lnTo>
                      <a:lnTo>
                        <a:pt x="1701" y="1037"/>
                      </a:lnTo>
                      <a:lnTo>
                        <a:pt x="1636" y="1052"/>
                      </a:lnTo>
                      <a:lnTo>
                        <a:pt x="1564" y="1068"/>
                      </a:lnTo>
                      <a:lnTo>
                        <a:pt x="1490" y="1084"/>
                      </a:lnTo>
                      <a:lnTo>
                        <a:pt x="1413" y="1100"/>
                      </a:lnTo>
                      <a:lnTo>
                        <a:pt x="1338" y="1116"/>
                      </a:lnTo>
                      <a:lnTo>
                        <a:pt x="1265" y="1130"/>
                      </a:lnTo>
                      <a:lnTo>
                        <a:pt x="1198" y="1144"/>
                      </a:lnTo>
                      <a:lnTo>
                        <a:pt x="1139" y="1154"/>
                      </a:lnTo>
                      <a:lnTo>
                        <a:pt x="1088" y="1163"/>
                      </a:lnTo>
                      <a:lnTo>
                        <a:pt x="1048" y="1169"/>
                      </a:lnTo>
                      <a:lnTo>
                        <a:pt x="1024" y="1173"/>
                      </a:lnTo>
                      <a:lnTo>
                        <a:pt x="999" y="1173"/>
                      </a:lnTo>
                      <a:lnTo>
                        <a:pt x="967" y="1173"/>
                      </a:lnTo>
                      <a:lnTo>
                        <a:pt x="928" y="1174"/>
                      </a:lnTo>
                      <a:lnTo>
                        <a:pt x="883" y="1175"/>
                      </a:lnTo>
                      <a:lnTo>
                        <a:pt x="831" y="1176"/>
                      </a:lnTo>
                      <a:lnTo>
                        <a:pt x="778" y="1178"/>
                      </a:lnTo>
                      <a:lnTo>
                        <a:pt x="722" y="1180"/>
                      </a:lnTo>
                      <a:lnTo>
                        <a:pt x="667" y="1183"/>
                      </a:lnTo>
                      <a:lnTo>
                        <a:pt x="609" y="1184"/>
                      </a:lnTo>
                      <a:lnTo>
                        <a:pt x="554" y="1185"/>
                      </a:lnTo>
                      <a:lnTo>
                        <a:pt x="500" y="1185"/>
                      </a:lnTo>
                      <a:lnTo>
                        <a:pt x="453" y="1185"/>
                      </a:lnTo>
                      <a:lnTo>
                        <a:pt x="408" y="1185"/>
                      </a:lnTo>
                      <a:lnTo>
                        <a:pt x="373" y="1185"/>
                      </a:lnTo>
                      <a:lnTo>
                        <a:pt x="343" y="1183"/>
                      </a:lnTo>
                      <a:lnTo>
                        <a:pt x="324" y="1180"/>
                      </a:lnTo>
                      <a:lnTo>
                        <a:pt x="309" y="1176"/>
                      </a:lnTo>
                      <a:lnTo>
                        <a:pt x="297" y="1174"/>
                      </a:lnTo>
                      <a:lnTo>
                        <a:pt x="289" y="1169"/>
                      </a:lnTo>
                      <a:lnTo>
                        <a:pt x="283" y="1166"/>
                      </a:lnTo>
                      <a:lnTo>
                        <a:pt x="275" y="1161"/>
                      </a:lnTo>
                      <a:lnTo>
                        <a:pt x="274" y="1155"/>
                      </a:lnTo>
                      <a:lnTo>
                        <a:pt x="275" y="1149"/>
                      </a:lnTo>
                      <a:lnTo>
                        <a:pt x="281" y="1146"/>
                      </a:lnTo>
                      <a:lnTo>
                        <a:pt x="284" y="1144"/>
                      </a:lnTo>
                      <a:lnTo>
                        <a:pt x="286" y="1144"/>
                      </a:lnTo>
                      <a:lnTo>
                        <a:pt x="1187" y="970"/>
                      </a:lnTo>
                      <a:lnTo>
                        <a:pt x="1188" y="969"/>
                      </a:lnTo>
                      <a:lnTo>
                        <a:pt x="1195" y="969"/>
                      </a:lnTo>
                      <a:lnTo>
                        <a:pt x="1203" y="967"/>
                      </a:lnTo>
                      <a:lnTo>
                        <a:pt x="1215" y="965"/>
                      </a:lnTo>
                      <a:lnTo>
                        <a:pt x="1228" y="962"/>
                      </a:lnTo>
                      <a:lnTo>
                        <a:pt x="1243" y="958"/>
                      </a:lnTo>
                      <a:lnTo>
                        <a:pt x="1259" y="953"/>
                      </a:lnTo>
                      <a:lnTo>
                        <a:pt x="1277" y="946"/>
                      </a:lnTo>
                      <a:lnTo>
                        <a:pt x="1292" y="936"/>
                      </a:lnTo>
                      <a:lnTo>
                        <a:pt x="1309" y="926"/>
                      </a:lnTo>
                      <a:lnTo>
                        <a:pt x="1322" y="913"/>
                      </a:lnTo>
                      <a:lnTo>
                        <a:pt x="1338" y="900"/>
                      </a:lnTo>
                      <a:lnTo>
                        <a:pt x="1349" y="882"/>
                      </a:lnTo>
                      <a:lnTo>
                        <a:pt x="1358" y="862"/>
                      </a:lnTo>
                      <a:lnTo>
                        <a:pt x="1363" y="841"/>
                      </a:lnTo>
                      <a:lnTo>
                        <a:pt x="1366" y="817"/>
                      </a:lnTo>
                      <a:lnTo>
                        <a:pt x="1364" y="791"/>
                      </a:lnTo>
                      <a:lnTo>
                        <a:pt x="1359" y="769"/>
                      </a:lnTo>
                      <a:lnTo>
                        <a:pt x="1350" y="750"/>
                      </a:lnTo>
                      <a:lnTo>
                        <a:pt x="1341" y="734"/>
                      </a:lnTo>
                      <a:lnTo>
                        <a:pt x="1328" y="718"/>
                      </a:lnTo>
                      <a:lnTo>
                        <a:pt x="1315" y="706"/>
                      </a:lnTo>
                      <a:lnTo>
                        <a:pt x="1299" y="696"/>
                      </a:lnTo>
                      <a:lnTo>
                        <a:pt x="1286" y="687"/>
                      </a:lnTo>
                      <a:lnTo>
                        <a:pt x="1270" y="680"/>
                      </a:lnTo>
                      <a:lnTo>
                        <a:pt x="1255" y="675"/>
                      </a:lnTo>
                      <a:lnTo>
                        <a:pt x="1242" y="670"/>
                      </a:lnTo>
                      <a:lnTo>
                        <a:pt x="1230" y="667"/>
                      </a:lnTo>
                      <a:lnTo>
                        <a:pt x="1218" y="664"/>
                      </a:lnTo>
                      <a:lnTo>
                        <a:pt x="1211" y="664"/>
                      </a:lnTo>
                      <a:lnTo>
                        <a:pt x="1206" y="664"/>
                      </a:lnTo>
                      <a:lnTo>
                        <a:pt x="1205" y="664"/>
                      </a:lnTo>
                      <a:lnTo>
                        <a:pt x="1202" y="663"/>
                      </a:lnTo>
                      <a:lnTo>
                        <a:pt x="1196" y="661"/>
                      </a:lnTo>
                      <a:lnTo>
                        <a:pt x="1184" y="658"/>
                      </a:lnTo>
                      <a:lnTo>
                        <a:pt x="1170" y="655"/>
                      </a:lnTo>
                      <a:lnTo>
                        <a:pt x="1151" y="651"/>
                      </a:lnTo>
                      <a:lnTo>
                        <a:pt x="1129" y="646"/>
                      </a:lnTo>
                      <a:lnTo>
                        <a:pt x="1101" y="641"/>
                      </a:lnTo>
                      <a:lnTo>
                        <a:pt x="1071" y="638"/>
                      </a:lnTo>
                      <a:lnTo>
                        <a:pt x="1037" y="631"/>
                      </a:lnTo>
                      <a:lnTo>
                        <a:pt x="1001" y="627"/>
                      </a:lnTo>
                      <a:lnTo>
                        <a:pt x="960" y="621"/>
                      </a:lnTo>
                      <a:lnTo>
                        <a:pt x="918" y="618"/>
                      </a:lnTo>
                      <a:lnTo>
                        <a:pt x="871" y="612"/>
                      </a:lnTo>
                      <a:lnTo>
                        <a:pt x="821" y="608"/>
                      </a:lnTo>
                      <a:lnTo>
                        <a:pt x="771" y="606"/>
                      </a:lnTo>
                      <a:lnTo>
                        <a:pt x="716" y="603"/>
                      </a:lnTo>
                      <a:lnTo>
                        <a:pt x="661" y="599"/>
                      </a:lnTo>
                      <a:lnTo>
                        <a:pt x="610" y="596"/>
                      </a:lnTo>
                      <a:lnTo>
                        <a:pt x="562" y="592"/>
                      </a:lnTo>
                      <a:lnTo>
                        <a:pt x="516" y="589"/>
                      </a:lnTo>
                      <a:lnTo>
                        <a:pt x="474" y="585"/>
                      </a:lnTo>
                      <a:lnTo>
                        <a:pt x="435" y="581"/>
                      </a:lnTo>
                      <a:lnTo>
                        <a:pt x="398" y="577"/>
                      </a:lnTo>
                      <a:lnTo>
                        <a:pt x="365" y="572"/>
                      </a:lnTo>
                      <a:lnTo>
                        <a:pt x="335" y="568"/>
                      </a:lnTo>
                      <a:lnTo>
                        <a:pt x="307" y="562"/>
                      </a:lnTo>
                      <a:lnTo>
                        <a:pt x="284" y="558"/>
                      </a:lnTo>
                      <a:lnTo>
                        <a:pt x="265" y="555"/>
                      </a:lnTo>
                      <a:lnTo>
                        <a:pt x="249" y="549"/>
                      </a:lnTo>
                      <a:lnTo>
                        <a:pt x="237" y="546"/>
                      </a:lnTo>
                      <a:lnTo>
                        <a:pt x="227" y="543"/>
                      </a:lnTo>
                      <a:lnTo>
                        <a:pt x="222" y="539"/>
                      </a:lnTo>
                      <a:lnTo>
                        <a:pt x="213" y="533"/>
                      </a:lnTo>
                      <a:lnTo>
                        <a:pt x="203" y="525"/>
                      </a:lnTo>
                      <a:lnTo>
                        <a:pt x="195" y="516"/>
                      </a:lnTo>
                      <a:lnTo>
                        <a:pt x="190" y="507"/>
                      </a:lnTo>
                      <a:lnTo>
                        <a:pt x="187" y="502"/>
                      </a:lnTo>
                      <a:lnTo>
                        <a:pt x="185" y="495"/>
                      </a:lnTo>
                      <a:lnTo>
                        <a:pt x="184" y="489"/>
                      </a:lnTo>
                      <a:lnTo>
                        <a:pt x="185" y="484"/>
                      </a:lnTo>
                      <a:lnTo>
                        <a:pt x="185" y="478"/>
                      </a:lnTo>
                      <a:lnTo>
                        <a:pt x="188" y="472"/>
                      </a:lnTo>
                      <a:lnTo>
                        <a:pt x="191" y="466"/>
                      </a:lnTo>
                      <a:lnTo>
                        <a:pt x="197" y="460"/>
                      </a:lnTo>
                      <a:lnTo>
                        <a:pt x="202" y="452"/>
                      </a:lnTo>
                      <a:lnTo>
                        <a:pt x="213" y="445"/>
                      </a:lnTo>
                      <a:lnTo>
                        <a:pt x="226" y="438"/>
                      </a:lnTo>
                      <a:lnTo>
                        <a:pt x="242" y="432"/>
                      </a:lnTo>
                      <a:lnTo>
                        <a:pt x="259" y="424"/>
                      </a:lnTo>
                      <a:lnTo>
                        <a:pt x="276" y="419"/>
                      </a:lnTo>
                      <a:lnTo>
                        <a:pt x="295" y="412"/>
                      </a:lnTo>
                      <a:lnTo>
                        <a:pt x="316" y="407"/>
                      </a:lnTo>
                      <a:lnTo>
                        <a:pt x="334" y="400"/>
                      </a:lnTo>
                      <a:lnTo>
                        <a:pt x="352" y="395"/>
                      </a:lnTo>
                      <a:lnTo>
                        <a:pt x="368" y="390"/>
                      </a:lnTo>
                      <a:lnTo>
                        <a:pt x="384" y="387"/>
                      </a:lnTo>
                      <a:lnTo>
                        <a:pt x="396" y="384"/>
                      </a:lnTo>
                      <a:lnTo>
                        <a:pt x="405" y="382"/>
                      </a:lnTo>
                      <a:lnTo>
                        <a:pt x="410" y="381"/>
                      </a:lnTo>
                      <a:lnTo>
                        <a:pt x="414" y="381"/>
                      </a:lnTo>
                      <a:lnTo>
                        <a:pt x="417" y="379"/>
                      </a:lnTo>
                      <a:lnTo>
                        <a:pt x="426" y="377"/>
                      </a:lnTo>
                      <a:lnTo>
                        <a:pt x="439" y="373"/>
                      </a:lnTo>
                      <a:lnTo>
                        <a:pt x="459" y="368"/>
                      </a:lnTo>
                      <a:lnTo>
                        <a:pt x="481" y="361"/>
                      </a:lnTo>
                      <a:lnTo>
                        <a:pt x="508" y="353"/>
                      </a:lnTo>
                      <a:lnTo>
                        <a:pt x="535" y="345"/>
                      </a:lnTo>
                      <a:lnTo>
                        <a:pt x="567" y="337"/>
                      </a:lnTo>
                      <a:lnTo>
                        <a:pt x="597" y="326"/>
                      </a:lnTo>
                      <a:lnTo>
                        <a:pt x="627" y="316"/>
                      </a:lnTo>
                      <a:lnTo>
                        <a:pt x="657" y="305"/>
                      </a:lnTo>
                      <a:lnTo>
                        <a:pt x="687" y="293"/>
                      </a:lnTo>
                      <a:lnTo>
                        <a:pt x="713" y="282"/>
                      </a:lnTo>
                      <a:lnTo>
                        <a:pt x="737" y="271"/>
                      </a:lnTo>
                      <a:lnTo>
                        <a:pt x="756" y="258"/>
                      </a:lnTo>
                      <a:lnTo>
                        <a:pt x="774" y="246"/>
                      </a:lnTo>
                      <a:lnTo>
                        <a:pt x="785" y="235"/>
                      </a:lnTo>
                      <a:lnTo>
                        <a:pt x="797" y="224"/>
                      </a:lnTo>
                      <a:lnTo>
                        <a:pt x="807" y="212"/>
                      </a:lnTo>
                      <a:lnTo>
                        <a:pt x="817" y="202"/>
                      </a:lnTo>
                      <a:lnTo>
                        <a:pt x="825" y="192"/>
                      </a:lnTo>
                      <a:lnTo>
                        <a:pt x="831" y="182"/>
                      </a:lnTo>
                      <a:lnTo>
                        <a:pt x="838" y="172"/>
                      </a:lnTo>
                      <a:lnTo>
                        <a:pt x="845" y="163"/>
                      </a:lnTo>
                      <a:lnTo>
                        <a:pt x="848" y="153"/>
                      </a:lnTo>
                      <a:lnTo>
                        <a:pt x="852" y="143"/>
                      </a:lnTo>
                      <a:lnTo>
                        <a:pt x="854" y="133"/>
                      </a:lnTo>
                      <a:lnTo>
                        <a:pt x="856" y="125"/>
                      </a:lnTo>
                      <a:lnTo>
                        <a:pt x="855" y="114"/>
                      </a:lnTo>
                      <a:lnTo>
                        <a:pt x="855" y="104"/>
                      </a:lnTo>
                      <a:lnTo>
                        <a:pt x="852" y="94"/>
                      </a:lnTo>
                      <a:lnTo>
                        <a:pt x="850" y="84"/>
                      </a:lnTo>
                      <a:lnTo>
                        <a:pt x="845" y="72"/>
                      </a:lnTo>
                      <a:lnTo>
                        <a:pt x="840" y="62"/>
                      </a:lnTo>
                      <a:lnTo>
                        <a:pt x="833" y="53"/>
                      </a:lnTo>
                      <a:lnTo>
                        <a:pt x="827" y="46"/>
                      </a:lnTo>
                      <a:lnTo>
                        <a:pt x="818" y="37"/>
                      </a:lnTo>
                      <a:lnTo>
                        <a:pt x="809" y="33"/>
                      </a:lnTo>
                      <a:lnTo>
                        <a:pt x="800" y="26"/>
                      </a:lnTo>
                      <a:lnTo>
                        <a:pt x="792" y="23"/>
                      </a:lnTo>
                      <a:lnTo>
                        <a:pt x="781" y="17"/>
                      </a:lnTo>
                      <a:lnTo>
                        <a:pt x="770" y="14"/>
                      </a:lnTo>
                      <a:lnTo>
                        <a:pt x="758" y="11"/>
                      </a:lnTo>
                      <a:lnTo>
                        <a:pt x="748" y="9"/>
                      </a:lnTo>
                      <a:lnTo>
                        <a:pt x="736" y="5"/>
                      </a:lnTo>
                      <a:lnTo>
                        <a:pt x="726" y="4"/>
                      </a:lnTo>
                      <a:lnTo>
                        <a:pt x="715" y="3"/>
                      </a:lnTo>
                      <a:lnTo>
                        <a:pt x="705" y="3"/>
                      </a:lnTo>
                      <a:lnTo>
                        <a:pt x="688" y="2"/>
                      </a:lnTo>
                      <a:lnTo>
                        <a:pt x="663" y="1"/>
                      </a:lnTo>
                      <a:lnTo>
                        <a:pt x="631" y="0"/>
                      </a:lnTo>
                      <a:lnTo>
                        <a:pt x="594" y="0"/>
                      </a:lnTo>
                      <a:lnTo>
                        <a:pt x="551" y="0"/>
                      </a:lnTo>
                      <a:lnTo>
                        <a:pt x="504" y="0"/>
                      </a:lnTo>
                      <a:lnTo>
                        <a:pt x="456" y="0"/>
                      </a:lnTo>
                      <a:lnTo>
                        <a:pt x="408" y="0"/>
                      </a:lnTo>
                      <a:lnTo>
                        <a:pt x="358" y="0"/>
                      </a:lnTo>
                      <a:lnTo>
                        <a:pt x="313" y="0"/>
                      </a:lnTo>
                      <a:lnTo>
                        <a:pt x="270" y="0"/>
                      </a:lnTo>
                      <a:lnTo>
                        <a:pt x="232" y="0"/>
                      </a:lnTo>
                      <a:lnTo>
                        <a:pt x="200" y="0"/>
                      </a:lnTo>
                      <a:lnTo>
                        <a:pt x="176" y="0"/>
                      </a:lnTo>
                      <a:lnTo>
                        <a:pt x="160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5c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 flipH="1">
                  <a:off x="2846880" y="5444640"/>
                  <a:ext cx="30960" cy="234360"/>
                </a:xfrm>
                <a:custGeom>
                  <a:avLst/>
                  <a:gdLst/>
                  <a:ahLst/>
                  <a:rect l="l" t="t" r="r" b="b"/>
                  <a:pathLst>
                    <a:path w="47" h="416">
                      <a:moveTo>
                        <a:pt x="6" y="416"/>
                      </a:moveTo>
                      <a:lnTo>
                        <a:pt x="11" y="139"/>
                      </a:lnTo>
                      <a:lnTo>
                        <a:pt x="10" y="138"/>
                      </a:lnTo>
                      <a:lnTo>
                        <a:pt x="8" y="134"/>
                      </a:lnTo>
                      <a:lnTo>
                        <a:pt x="6" y="127"/>
                      </a:lnTo>
                      <a:lnTo>
                        <a:pt x="5" y="118"/>
                      </a:lnTo>
                      <a:lnTo>
                        <a:pt x="3" y="107"/>
                      </a:lnTo>
                      <a:lnTo>
                        <a:pt x="2" y="97"/>
                      </a:lnTo>
                      <a:lnTo>
                        <a:pt x="1" y="85"/>
                      </a:lnTo>
                      <a:lnTo>
                        <a:pt x="1" y="73"/>
                      </a:lnTo>
                      <a:lnTo>
                        <a:pt x="0" y="60"/>
                      </a:lnTo>
                      <a:lnTo>
                        <a:pt x="0" y="46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4"/>
                      </a:lnTo>
                      <a:lnTo>
                        <a:pt x="10" y="8"/>
                      </a:lnTo>
                      <a:lnTo>
                        <a:pt x="15" y="2"/>
                      </a:lnTo>
                      <a:lnTo>
                        <a:pt x="24" y="0"/>
                      </a:lnTo>
                      <a:lnTo>
                        <a:pt x="29" y="0"/>
                      </a:lnTo>
                      <a:lnTo>
                        <a:pt x="35" y="3"/>
                      </a:lnTo>
                      <a:lnTo>
                        <a:pt x="39" y="10"/>
                      </a:lnTo>
                      <a:lnTo>
                        <a:pt x="44" y="19"/>
                      </a:lnTo>
                      <a:lnTo>
                        <a:pt x="45" y="29"/>
                      </a:lnTo>
                      <a:lnTo>
                        <a:pt x="46" y="41"/>
                      </a:lnTo>
                      <a:lnTo>
                        <a:pt x="46" y="54"/>
                      </a:lnTo>
                      <a:lnTo>
                        <a:pt x="47" y="69"/>
                      </a:lnTo>
                      <a:lnTo>
                        <a:pt x="46" y="81"/>
                      </a:lnTo>
                      <a:lnTo>
                        <a:pt x="45" y="95"/>
                      </a:lnTo>
                      <a:lnTo>
                        <a:pt x="44" y="107"/>
                      </a:lnTo>
                      <a:lnTo>
                        <a:pt x="43" y="119"/>
                      </a:lnTo>
                      <a:lnTo>
                        <a:pt x="40" y="128"/>
                      </a:lnTo>
                      <a:lnTo>
                        <a:pt x="39" y="137"/>
                      </a:lnTo>
                      <a:lnTo>
                        <a:pt x="39" y="142"/>
                      </a:lnTo>
                      <a:lnTo>
                        <a:pt x="39" y="144"/>
                      </a:lnTo>
                      <a:lnTo>
                        <a:pt x="36" y="410"/>
                      </a:lnTo>
                      <a:lnTo>
                        <a:pt x="6" y="416"/>
                      </a:lnTo>
                      <a:lnTo>
                        <a:pt x="6" y="416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 flipH="1">
                  <a:off x="2454840" y="5478120"/>
                  <a:ext cx="58680" cy="142200"/>
                </a:xfrm>
                <a:custGeom>
                  <a:avLst/>
                  <a:gdLst/>
                  <a:ahLst/>
                  <a:rect l="l" t="t" r="r" b="b"/>
                  <a:pathLst>
                    <a:path w="90" h="252">
                      <a:moveTo>
                        <a:pt x="16" y="252"/>
                      </a:moveTo>
                      <a:lnTo>
                        <a:pt x="18" y="145"/>
                      </a:lnTo>
                      <a:lnTo>
                        <a:pt x="17" y="142"/>
                      </a:lnTo>
                      <a:lnTo>
                        <a:pt x="14" y="137"/>
                      </a:lnTo>
                      <a:lnTo>
                        <a:pt x="12" y="130"/>
                      </a:lnTo>
                      <a:lnTo>
                        <a:pt x="10" y="121"/>
                      </a:lnTo>
                      <a:lnTo>
                        <a:pt x="7" y="109"/>
                      </a:lnTo>
                      <a:lnTo>
                        <a:pt x="4" y="98"/>
                      </a:lnTo>
                      <a:lnTo>
                        <a:pt x="1" y="85"/>
                      </a:lnTo>
                      <a:lnTo>
                        <a:pt x="1" y="73"/>
                      </a:lnTo>
                      <a:lnTo>
                        <a:pt x="0" y="58"/>
                      </a:lnTo>
                      <a:lnTo>
                        <a:pt x="1" y="45"/>
                      </a:lnTo>
                      <a:lnTo>
                        <a:pt x="3" y="33"/>
                      </a:lnTo>
                      <a:lnTo>
                        <a:pt x="10" y="23"/>
                      </a:lnTo>
                      <a:lnTo>
                        <a:pt x="16" y="13"/>
                      </a:lnTo>
                      <a:lnTo>
                        <a:pt x="24" y="8"/>
                      </a:lnTo>
                      <a:lnTo>
                        <a:pt x="37" y="2"/>
                      </a:lnTo>
                      <a:lnTo>
                        <a:pt x="53" y="1"/>
                      </a:lnTo>
                      <a:lnTo>
                        <a:pt x="58" y="0"/>
                      </a:lnTo>
                      <a:lnTo>
                        <a:pt x="63" y="0"/>
                      </a:lnTo>
                      <a:lnTo>
                        <a:pt x="67" y="1"/>
                      </a:lnTo>
                      <a:lnTo>
                        <a:pt x="72" y="3"/>
                      </a:lnTo>
                      <a:lnTo>
                        <a:pt x="79" y="6"/>
                      </a:lnTo>
                      <a:lnTo>
                        <a:pt x="83" y="10"/>
                      </a:lnTo>
                      <a:lnTo>
                        <a:pt x="87" y="18"/>
                      </a:lnTo>
                      <a:lnTo>
                        <a:pt x="90" y="21"/>
                      </a:lnTo>
                      <a:lnTo>
                        <a:pt x="87" y="21"/>
                      </a:lnTo>
                      <a:lnTo>
                        <a:pt x="85" y="25"/>
                      </a:lnTo>
                      <a:lnTo>
                        <a:pt x="82" y="30"/>
                      </a:lnTo>
                      <a:lnTo>
                        <a:pt x="80" y="36"/>
                      </a:lnTo>
                      <a:lnTo>
                        <a:pt x="74" y="43"/>
                      </a:lnTo>
                      <a:lnTo>
                        <a:pt x="70" y="53"/>
                      </a:lnTo>
                      <a:lnTo>
                        <a:pt x="65" y="62"/>
                      </a:lnTo>
                      <a:lnTo>
                        <a:pt x="62" y="73"/>
                      </a:lnTo>
                      <a:lnTo>
                        <a:pt x="58" y="83"/>
                      </a:lnTo>
                      <a:lnTo>
                        <a:pt x="55" y="93"/>
                      </a:lnTo>
                      <a:lnTo>
                        <a:pt x="53" y="103"/>
                      </a:lnTo>
                      <a:lnTo>
                        <a:pt x="54" y="114"/>
                      </a:lnTo>
                      <a:lnTo>
                        <a:pt x="55" y="123"/>
                      </a:lnTo>
                      <a:lnTo>
                        <a:pt x="59" y="130"/>
                      </a:lnTo>
                      <a:lnTo>
                        <a:pt x="65" y="137"/>
                      </a:lnTo>
                      <a:lnTo>
                        <a:pt x="74" y="145"/>
                      </a:lnTo>
                      <a:lnTo>
                        <a:pt x="72" y="147"/>
                      </a:lnTo>
                      <a:lnTo>
                        <a:pt x="65" y="154"/>
                      </a:lnTo>
                      <a:lnTo>
                        <a:pt x="56" y="158"/>
                      </a:lnTo>
                      <a:lnTo>
                        <a:pt x="53" y="160"/>
                      </a:lnTo>
                      <a:lnTo>
                        <a:pt x="53" y="244"/>
                      </a:lnTo>
                      <a:lnTo>
                        <a:pt x="16" y="252"/>
                      </a:lnTo>
                      <a:lnTo>
                        <a:pt x="16" y="252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 flipH="1">
                  <a:off x="2562120" y="5627160"/>
                  <a:ext cx="59760" cy="172440"/>
                </a:xfrm>
                <a:custGeom>
                  <a:avLst/>
                  <a:gdLst/>
                  <a:ahLst/>
                  <a:rect l="l" t="t" r="r" b="b"/>
                  <a:pathLst>
                    <a:path w="92" h="306">
                      <a:moveTo>
                        <a:pt x="0" y="24"/>
                      </a:moveTo>
                      <a:lnTo>
                        <a:pt x="0" y="23"/>
                      </a:lnTo>
                      <a:lnTo>
                        <a:pt x="4" y="19"/>
                      </a:lnTo>
                      <a:lnTo>
                        <a:pt x="7" y="13"/>
                      </a:lnTo>
                      <a:lnTo>
                        <a:pt x="15" y="10"/>
                      </a:lnTo>
                      <a:lnTo>
                        <a:pt x="22" y="3"/>
                      </a:lnTo>
                      <a:lnTo>
                        <a:pt x="32" y="1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51" y="0"/>
                      </a:lnTo>
                      <a:lnTo>
                        <a:pt x="59" y="3"/>
                      </a:lnTo>
                      <a:lnTo>
                        <a:pt x="64" y="6"/>
                      </a:lnTo>
                      <a:lnTo>
                        <a:pt x="71" y="12"/>
                      </a:lnTo>
                      <a:lnTo>
                        <a:pt x="75" y="20"/>
                      </a:lnTo>
                      <a:lnTo>
                        <a:pt x="81" y="31"/>
                      </a:lnTo>
                      <a:lnTo>
                        <a:pt x="84" y="43"/>
                      </a:lnTo>
                      <a:lnTo>
                        <a:pt x="88" y="57"/>
                      </a:lnTo>
                      <a:lnTo>
                        <a:pt x="90" y="71"/>
                      </a:lnTo>
                      <a:lnTo>
                        <a:pt x="92" y="86"/>
                      </a:lnTo>
                      <a:lnTo>
                        <a:pt x="92" y="101"/>
                      </a:lnTo>
                      <a:lnTo>
                        <a:pt x="92" y="116"/>
                      </a:lnTo>
                      <a:lnTo>
                        <a:pt x="91" y="129"/>
                      </a:lnTo>
                      <a:lnTo>
                        <a:pt x="90" y="143"/>
                      </a:lnTo>
                      <a:lnTo>
                        <a:pt x="86" y="154"/>
                      </a:lnTo>
                      <a:lnTo>
                        <a:pt x="85" y="164"/>
                      </a:lnTo>
                      <a:lnTo>
                        <a:pt x="81" y="171"/>
                      </a:lnTo>
                      <a:lnTo>
                        <a:pt x="77" y="176"/>
                      </a:lnTo>
                      <a:lnTo>
                        <a:pt x="71" y="306"/>
                      </a:lnTo>
                      <a:lnTo>
                        <a:pt x="32" y="306"/>
                      </a:lnTo>
                      <a:lnTo>
                        <a:pt x="30" y="186"/>
                      </a:lnTo>
                      <a:lnTo>
                        <a:pt x="6" y="181"/>
                      </a:lnTo>
                      <a:lnTo>
                        <a:pt x="6" y="179"/>
                      </a:lnTo>
                      <a:lnTo>
                        <a:pt x="10" y="174"/>
                      </a:lnTo>
                      <a:lnTo>
                        <a:pt x="12" y="169"/>
                      </a:lnTo>
                      <a:lnTo>
                        <a:pt x="16" y="165"/>
                      </a:lnTo>
                      <a:lnTo>
                        <a:pt x="18" y="160"/>
                      </a:lnTo>
                      <a:lnTo>
                        <a:pt x="22" y="155"/>
                      </a:lnTo>
                      <a:lnTo>
                        <a:pt x="25" y="148"/>
                      </a:lnTo>
                      <a:lnTo>
                        <a:pt x="28" y="140"/>
                      </a:lnTo>
                      <a:lnTo>
                        <a:pt x="30" y="133"/>
                      </a:lnTo>
                      <a:lnTo>
                        <a:pt x="32" y="126"/>
                      </a:lnTo>
                      <a:lnTo>
                        <a:pt x="33" y="116"/>
                      </a:lnTo>
                      <a:lnTo>
                        <a:pt x="35" y="108"/>
                      </a:lnTo>
                      <a:lnTo>
                        <a:pt x="33" y="99"/>
                      </a:lnTo>
                      <a:lnTo>
                        <a:pt x="33" y="92"/>
                      </a:lnTo>
                      <a:lnTo>
                        <a:pt x="30" y="82"/>
                      </a:lnTo>
                      <a:lnTo>
                        <a:pt x="29" y="74"/>
                      </a:lnTo>
                      <a:lnTo>
                        <a:pt x="27" y="66"/>
                      </a:lnTo>
                      <a:lnTo>
                        <a:pt x="25" y="60"/>
                      </a:lnTo>
                      <a:lnTo>
                        <a:pt x="21" y="53"/>
                      </a:lnTo>
                      <a:lnTo>
                        <a:pt x="18" y="48"/>
                      </a:lnTo>
                      <a:lnTo>
                        <a:pt x="16" y="43"/>
                      </a:lnTo>
                      <a:lnTo>
                        <a:pt x="14" y="40"/>
                      </a:lnTo>
                      <a:lnTo>
                        <a:pt x="7" y="32"/>
                      </a:lnTo>
                      <a:lnTo>
                        <a:pt x="4" y="28"/>
                      </a:lnTo>
                      <a:lnTo>
                        <a:pt x="0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 flipH="1">
                  <a:off x="2212560" y="5753520"/>
                  <a:ext cx="156960" cy="592200"/>
                </a:xfrm>
                <a:custGeom>
                  <a:avLst/>
                  <a:gdLst/>
                  <a:ahLst/>
                  <a:rect l="l" t="t" r="r" b="b"/>
                  <a:pathLst>
                    <a:path w="243" h="1051">
                      <a:moveTo>
                        <a:pt x="243" y="10"/>
                      </a:moveTo>
                      <a:lnTo>
                        <a:pt x="240" y="8"/>
                      </a:lnTo>
                      <a:lnTo>
                        <a:pt x="233" y="7"/>
                      </a:lnTo>
                      <a:lnTo>
                        <a:pt x="222" y="5"/>
                      </a:lnTo>
                      <a:lnTo>
                        <a:pt x="208" y="3"/>
                      </a:lnTo>
                      <a:lnTo>
                        <a:pt x="190" y="0"/>
                      </a:lnTo>
                      <a:lnTo>
                        <a:pt x="172" y="2"/>
                      </a:lnTo>
                      <a:lnTo>
                        <a:pt x="151" y="4"/>
                      </a:lnTo>
                      <a:lnTo>
                        <a:pt x="131" y="9"/>
                      </a:lnTo>
                      <a:lnTo>
                        <a:pt x="109" y="18"/>
                      </a:lnTo>
                      <a:lnTo>
                        <a:pt x="87" y="31"/>
                      </a:lnTo>
                      <a:lnTo>
                        <a:pt x="65" y="48"/>
                      </a:lnTo>
                      <a:lnTo>
                        <a:pt x="49" y="72"/>
                      </a:lnTo>
                      <a:lnTo>
                        <a:pt x="31" y="101"/>
                      </a:lnTo>
                      <a:lnTo>
                        <a:pt x="19" y="136"/>
                      </a:lnTo>
                      <a:lnTo>
                        <a:pt x="8" y="181"/>
                      </a:lnTo>
                      <a:lnTo>
                        <a:pt x="3" y="233"/>
                      </a:lnTo>
                      <a:lnTo>
                        <a:pt x="0" y="286"/>
                      </a:lnTo>
                      <a:lnTo>
                        <a:pt x="0" y="332"/>
                      </a:lnTo>
                      <a:lnTo>
                        <a:pt x="2" y="373"/>
                      </a:lnTo>
                      <a:lnTo>
                        <a:pt x="7" y="411"/>
                      </a:lnTo>
                      <a:lnTo>
                        <a:pt x="10" y="442"/>
                      </a:lnTo>
                      <a:lnTo>
                        <a:pt x="17" y="469"/>
                      </a:lnTo>
                      <a:lnTo>
                        <a:pt x="23" y="492"/>
                      </a:lnTo>
                      <a:lnTo>
                        <a:pt x="31" y="512"/>
                      </a:lnTo>
                      <a:lnTo>
                        <a:pt x="39" y="528"/>
                      </a:lnTo>
                      <a:lnTo>
                        <a:pt x="45" y="540"/>
                      </a:lnTo>
                      <a:lnTo>
                        <a:pt x="53" y="549"/>
                      </a:lnTo>
                      <a:lnTo>
                        <a:pt x="61" y="557"/>
                      </a:lnTo>
                      <a:lnTo>
                        <a:pt x="65" y="561"/>
                      </a:lnTo>
                      <a:lnTo>
                        <a:pt x="71" y="564"/>
                      </a:lnTo>
                      <a:lnTo>
                        <a:pt x="73" y="566"/>
                      </a:lnTo>
                      <a:lnTo>
                        <a:pt x="75" y="568"/>
                      </a:lnTo>
                      <a:lnTo>
                        <a:pt x="83" y="1048"/>
                      </a:lnTo>
                      <a:lnTo>
                        <a:pt x="152" y="1051"/>
                      </a:lnTo>
                      <a:lnTo>
                        <a:pt x="156" y="564"/>
                      </a:lnTo>
                      <a:lnTo>
                        <a:pt x="155" y="562"/>
                      </a:lnTo>
                      <a:lnTo>
                        <a:pt x="153" y="557"/>
                      </a:lnTo>
                      <a:lnTo>
                        <a:pt x="147" y="548"/>
                      </a:lnTo>
                      <a:lnTo>
                        <a:pt x="143" y="537"/>
                      </a:lnTo>
                      <a:lnTo>
                        <a:pt x="135" y="521"/>
                      </a:lnTo>
                      <a:lnTo>
                        <a:pt x="128" y="503"/>
                      </a:lnTo>
                      <a:lnTo>
                        <a:pt x="122" y="484"/>
                      </a:lnTo>
                      <a:lnTo>
                        <a:pt x="115" y="461"/>
                      </a:lnTo>
                      <a:lnTo>
                        <a:pt x="109" y="436"/>
                      </a:lnTo>
                      <a:lnTo>
                        <a:pt x="102" y="411"/>
                      </a:lnTo>
                      <a:lnTo>
                        <a:pt x="96" y="382"/>
                      </a:lnTo>
                      <a:lnTo>
                        <a:pt x="93" y="353"/>
                      </a:lnTo>
                      <a:lnTo>
                        <a:pt x="90" y="321"/>
                      </a:lnTo>
                      <a:lnTo>
                        <a:pt x="91" y="290"/>
                      </a:lnTo>
                      <a:lnTo>
                        <a:pt x="93" y="257"/>
                      </a:lnTo>
                      <a:lnTo>
                        <a:pt x="99" y="225"/>
                      </a:lnTo>
                      <a:lnTo>
                        <a:pt x="104" y="192"/>
                      </a:lnTo>
                      <a:lnTo>
                        <a:pt x="113" y="163"/>
                      </a:lnTo>
                      <a:lnTo>
                        <a:pt x="122" y="135"/>
                      </a:lnTo>
                      <a:lnTo>
                        <a:pt x="134" y="113"/>
                      </a:lnTo>
                      <a:lnTo>
                        <a:pt x="145" y="93"/>
                      </a:lnTo>
                      <a:lnTo>
                        <a:pt x="157" y="77"/>
                      </a:lnTo>
                      <a:lnTo>
                        <a:pt x="169" y="61"/>
                      </a:lnTo>
                      <a:lnTo>
                        <a:pt x="183" y="49"/>
                      </a:lnTo>
                      <a:lnTo>
                        <a:pt x="194" y="38"/>
                      </a:lnTo>
                      <a:lnTo>
                        <a:pt x="205" y="30"/>
                      </a:lnTo>
                      <a:lnTo>
                        <a:pt x="215" y="23"/>
                      </a:lnTo>
                      <a:lnTo>
                        <a:pt x="225" y="18"/>
                      </a:lnTo>
                      <a:lnTo>
                        <a:pt x="232" y="14"/>
                      </a:lnTo>
                      <a:lnTo>
                        <a:pt x="238" y="11"/>
                      </a:lnTo>
                      <a:lnTo>
                        <a:pt x="241" y="10"/>
                      </a:lnTo>
                      <a:lnTo>
                        <a:pt x="243" y="10"/>
                      </a:lnTo>
                      <a:lnTo>
                        <a:pt x="243" y="10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 flipH="1">
                  <a:off x="2858760" y="5788800"/>
                  <a:ext cx="69840" cy="374400"/>
                </a:xfrm>
                <a:custGeom>
                  <a:avLst/>
                  <a:gdLst/>
                  <a:ahLst/>
                  <a:rect l="l" t="t" r="r" b="b"/>
                  <a:pathLst>
                    <a:path w="108" h="664">
                      <a:moveTo>
                        <a:pt x="108" y="27"/>
                      </a:moveTo>
                      <a:lnTo>
                        <a:pt x="108" y="24"/>
                      </a:lnTo>
                      <a:lnTo>
                        <a:pt x="104" y="17"/>
                      </a:lnTo>
                      <a:lnTo>
                        <a:pt x="100" y="14"/>
                      </a:lnTo>
                      <a:lnTo>
                        <a:pt x="95" y="10"/>
                      </a:lnTo>
                      <a:lnTo>
                        <a:pt x="91" y="7"/>
                      </a:lnTo>
                      <a:lnTo>
                        <a:pt x="85" y="5"/>
                      </a:lnTo>
                      <a:lnTo>
                        <a:pt x="77" y="3"/>
                      </a:lnTo>
                      <a:lnTo>
                        <a:pt x="71" y="0"/>
                      </a:lnTo>
                      <a:lnTo>
                        <a:pt x="63" y="0"/>
                      </a:lnTo>
                      <a:lnTo>
                        <a:pt x="58" y="1"/>
                      </a:lnTo>
                      <a:lnTo>
                        <a:pt x="49" y="3"/>
                      </a:lnTo>
                      <a:lnTo>
                        <a:pt x="42" y="6"/>
                      </a:lnTo>
                      <a:lnTo>
                        <a:pt x="34" y="11"/>
                      </a:lnTo>
                      <a:lnTo>
                        <a:pt x="29" y="19"/>
                      </a:lnTo>
                      <a:lnTo>
                        <a:pt x="22" y="28"/>
                      </a:lnTo>
                      <a:lnTo>
                        <a:pt x="17" y="40"/>
                      </a:lnTo>
                      <a:lnTo>
                        <a:pt x="11" y="53"/>
                      </a:lnTo>
                      <a:lnTo>
                        <a:pt x="8" y="70"/>
                      </a:lnTo>
                      <a:lnTo>
                        <a:pt x="3" y="85"/>
                      </a:lnTo>
                      <a:lnTo>
                        <a:pt x="1" y="104"/>
                      </a:lnTo>
                      <a:lnTo>
                        <a:pt x="0" y="123"/>
                      </a:lnTo>
                      <a:lnTo>
                        <a:pt x="0" y="143"/>
                      </a:lnTo>
                      <a:lnTo>
                        <a:pt x="0" y="161"/>
                      </a:lnTo>
                      <a:lnTo>
                        <a:pt x="0" y="178"/>
                      </a:lnTo>
                      <a:lnTo>
                        <a:pt x="2" y="196"/>
                      </a:lnTo>
                      <a:lnTo>
                        <a:pt x="6" y="213"/>
                      </a:lnTo>
                      <a:lnTo>
                        <a:pt x="9" y="227"/>
                      </a:lnTo>
                      <a:lnTo>
                        <a:pt x="13" y="241"/>
                      </a:lnTo>
                      <a:lnTo>
                        <a:pt x="19" y="251"/>
                      </a:lnTo>
                      <a:lnTo>
                        <a:pt x="26" y="260"/>
                      </a:lnTo>
                      <a:lnTo>
                        <a:pt x="21" y="664"/>
                      </a:lnTo>
                      <a:lnTo>
                        <a:pt x="64" y="664"/>
                      </a:lnTo>
                      <a:lnTo>
                        <a:pt x="59" y="268"/>
                      </a:lnTo>
                      <a:lnTo>
                        <a:pt x="90" y="242"/>
                      </a:lnTo>
                      <a:lnTo>
                        <a:pt x="87" y="241"/>
                      </a:lnTo>
                      <a:lnTo>
                        <a:pt x="83" y="240"/>
                      </a:lnTo>
                      <a:lnTo>
                        <a:pt x="79" y="236"/>
                      </a:lnTo>
                      <a:lnTo>
                        <a:pt x="73" y="229"/>
                      </a:lnTo>
                      <a:lnTo>
                        <a:pt x="70" y="223"/>
                      </a:lnTo>
                      <a:lnTo>
                        <a:pt x="69" y="214"/>
                      </a:lnTo>
                      <a:lnTo>
                        <a:pt x="66" y="204"/>
                      </a:lnTo>
                      <a:lnTo>
                        <a:pt x="66" y="192"/>
                      </a:lnTo>
                      <a:lnTo>
                        <a:pt x="65" y="177"/>
                      </a:lnTo>
                      <a:lnTo>
                        <a:pt x="66" y="160"/>
                      </a:lnTo>
                      <a:lnTo>
                        <a:pt x="69" y="140"/>
                      </a:lnTo>
                      <a:lnTo>
                        <a:pt x="72" y="118"/>
                      </a:lnTo>
                      <a:lnTo>
                        <a:pt x="72" y="115"/>
                      </a:lnTo>
                      <a:lnTo>
                        <a:pt x="72" y="113"/>
                      </a:lnTo>
                      <a:lnTo>
                        <a:pt x="72" y="108"/>
                      </a:lnTo>
                      <a:lnTo>
                        <a:pt x="74" y="103"/>
                      </a:lnTo>
                      <a:lnTo>
                        <a:pt x="75" y="97"/>
                      </a:lnTo>
                      <a:lnTo>
                        <a:pt x="77" y="90"/>
                      </a:lnTo>
                      <a:lnTo>
                        <a:pt x="80" y="82"/>
                      </a:lnTo>
                      <a:lnTo>
                        <a:pt x="82" y="74"/>
                      </a:lnTo>
                      <a:lnTo>
                        <a:pt x="84" y="66"/>
                      </a:lnTo>
                      <a:lnTo>
                        <a:pt x="86" y="58"/>
                      </a:lnTo>
                      <a:lnTo>
                        <a:pt x="90" y="50"/>
                      </a:lnTo>
                      <a:lnTo>
                        <a:pt x="93" y="45"/>
                      </a:lnTo>
                      <a:lnTo>
                        <a:pt x="96" y="38"/>
                      </a:lnTo>
                      <a:lnTo>
                        <a:pt x="100" y="32"/>
                      </a:lnTo>
                      <a:lnTo>
                        <a:pt x="103" y="29"/>
                      </a:lnTo>
                      <a:lnTo>
                        <a:pt x="108" y="27"/>
                      </a:lnTo>
                      <a:lnTo>
                        <a:pt x="108" y="27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 flipH="1">
                  <a:off x="2741760" y="5267520"/>
                  <a:ext cx="37440" cy="189360"/>
                </a:xfrm>
                <a:custGeom>
                  <a:avLst/>
                  <a:gdLst/>
                  <a:ahLst/>
                  <a:rect l="l" t="t" r="r" b="b"/>
                  <a:pathLst>
                    <a:path w="59" h="335">
                      <a:moveTo>
                        <a:pt x="20" y="335"/>
                      </a:moveTo>
                      <a:lnTo>
                        <a:pt x="20" y="116"/>
                      </a:lnTo>
                      <a:lnTo>
                        <a:pt x="18" y="112"/>
                      </a:lnTo>
                      <a:lnTo>
                        <a:pt x="13" y="104"/>
                      </a:lnTo>
                      <a:lnTo>
                        <a:pt x="10" y="97"/>
                      </a:lnTo>
                      <a:lnTo>
                        <a:pt x="8" y="92"/>
                      </a:lnTo>
                      <a:lnTo>
                        <a:pt x="6" y="84"/>
                      </a:lnTo>
                      <a:lnTo>
                        <a:pt x="5" y="77"/>
                      </a:lnTo>
                      <a:lnTo>
                        <a:pt x="1" y="69"/>
                      </a:lnTo>
                      <a:lnTo>
                        <a:pt x="1" y="60"/>
                      </a:lnTo>
                      <a:lnTo>
                        <a:pt x="0" y="51"/>
                      </a:lnTo>
                      <a:lnTo>
                        <a:pt x="2" y="43"/>
                      </a:lnTo>
                      <a:lnTo>
                        <a:pt x="5" y="34"/>
                      </a:lnTo>
                      <a:lnTo>
                        <a:pt x="9" y="24"/>
                      </a:lnTo>
                      <a:lnTo>
                        <a:pt x="15" y="17"/>
                      </a:lnTo>
                      <a:lnTo>
                        <a:pt x="22" y="11"/>
                      </a:lnTo>
                      <a:lnTo>
                        <a:pt x="30" y="4"/>
                      </a:lnTo>
                      <a:lnTo>
                        <a:pt x="37" y="1"/>
                      </a:lnTo>
                      <a:lnTo>
                        <a:pt x="43" y="0"/>
                      </a:lnTo>
                      <a:lnTo>
                        <a:pt x="49" y="1"/>
                      </a:lnTo>
                      <a:lnTo>
                        <a:pt x="55" y="6"/>
                      </a:lnTo>
                      <a:lnTo>
                        <a:pt x="59" y="9"/>
                      </a:lnTo>
                      <a:lnTo>
                        <a:pt x="57" y="11"/>
                      </a:lnTo>
                      <a:lnTo>
                        <a:pt x="52" y="20"/>
                      </a:lnTo>
                      <a:lnTo>
                        <a:pt x="48" y="24"/>
                      </a:lnTo>
                      <a:lnTo>
                        <a:pt x="44" y="32"/>
                      </a:lnTo>
                      <a:lnTo>
                        <a:pt x="42" y="39"/>
                      </a:lnTo>
                      <a:lnTo>
                        <a:pt x="40" y="48"/>
                      </a:lnTo>
                      <a:lnTo>
                        <a:pt x="37" y="56"/>
                      </a:lnTo>
                      <a:lnTo>
                        <a:pt x="34" y="64"/>
                      </a:lnTo>
                      <a:lnTo>
                        <a:pt x="33" y="72"/>
                      </a:lnTo>
                      <a:lnTo>
                        <a:pt x="34" y="81"/>
                      </a:lnTo>
                      <a:lnTo>
                        <a:pt x="34" y="86"/>
                      </a:lnTo>
                      <a:lnTo>
                        <a:pt x="39" y="94"/>
                      </a:lnTo>
                      <a:lnTo>
                        <a:pt x="43" y="98"/>
                      </a:lnTo>
                      <a:lnTo>
                        <a:pt x="50" y="104"/>
                      </a:lnTo>
                      <a:lnTo>
                        <a:pt x="50" y="106"/>
                      </a:lnTo>
                      <a:lnTo>
                        <a:pt x="45" y="113"/>
                      </a:lnTo>
                      <a:lnTo>
                        <a:pt x="41" y="117"/>
                      </a:lnTo>
                      <a:lnTo>
                        <a:pt x="40" y="118"/>
                      </a:lnTo>
                      <a:lnTo>
                        <a:pt x="41" y="333"/>
                      </a:lnTo>
                      <a:lnTo>
                        <a:pt x="20" y="335"/>
                      </a:lnTo>
                      <a:lnTo>
                        <a:pt x="20" y="335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 flipH="1">
                  <a:off x="2617560" y="5135400"/>
                  <a:ext cx="36360" cy="104760"/>
                </a:xfrm>
                <a:custGeom>
                  <a:avLst/>
                  <a:gdLst/>
                  <a:ahLst/>
                  <a:rect l="l" t="t" r="r" b="b"/>
                  <a:pathLst>
                    <a:path w="57" h="187">
                      <a:moveTo>
                        <a:pt x="33" y="79"/>
                      </a:moveTo>
                      <a:lnTo>
                        <a:pt x="31" y="76"/>
                      </a:lnTo>
                      <a:lnTo>
                        <a:pt x="31" y="68"/>
                      </a:lnTo>
                      <a:lnTo>
                        <a:pt x="30" y="62"/>
                      </a:lnTo>
                      <a:lnTo>
                        <a:pt x="30" y="57"/>
                      </a:lnTo>
                      <a:lnTo>
                        <a:pt x="30" y="51"/>
                      </a:lnTo>
                      <a:lnTo>
                        <a:pt x="30" y="46"/>
                      </a:lnTo>
                      <a:lnTo>
                        <a:pt x="30" y="38"/>
                      </a:lnTo>
                      <a:lnTo>
                        <a:pt x="30" y="33"/>
                      </a:lnTo>
                      <a:lnTo>
                        <a:pt x="31" y="26"/>
                      </a:lnTo>
                      <a:lnTo>
                        <a:pt x="34" y="23"/>
                      </a:lnTo>
                      <a:lnTo>
                        <a:pt x="39" y="15"/>
                      </a:lnTo>
                      <a:lnTo>
                        <a:pt x="47" y="12"/>
                      </a:lnTo>
                      <a:lnTo>
                        <a:pt x="57" y="13"/>
                      </a:lnTo>
                      <a:lnTo>
                        <a:pt x="55" y="10"/>
                      </a:lnTo>
                      <a:lnTo>
                        <a:pt x="46" y="4"/>
                      </a:lnTo>
                      <a:lnTo>
                        <a:pt x="40" y="1"/>
                      </a:lnTo>
                      <a:lnTo>
                        <a:pt x="35" y="0"/>
                      </a:lnTo>
                      <a:lnTo>
                        <a:pt x="28" y="0"/>
                      </a:lnTo>
                      <a:lnTo>
                        <a:pt x="21" y="3"/>
                      </a:lnTo>
                      <a:lnTo>
                        <a:pt x="12" y="9"/>
                      </a:lnTo>
                      <a:lnTo>
                        <a:pt x="7" y="17"/>
                      </a:lnTo>
                      <a:lnTo>
                        <a:pt x="4" y="23"/>
                      </a:lnTo>
                      <a:lnTo>
                        <a:pt x="3" y="28"/>
                      </a:lnTo>
                      <a:lnTo>
                        <a:pt x="2" y="35"/>
                      </a:lnTo>
                      <a:lnTo>
                        <a:pt x="2" y="42"/>
                      </a:lnTo>
                      <a:lnTo>
                        <a:pt x="0" y="47"/>
                      </a:lnTo>
                      <a:lnTo>
                        <a:pt x="0" y="53"/>
                      </a:lnTo>
                      <a:lnTo>
                        <a:pt x="2" y="58"/>
                      </a:lnTo>
                      <a:lnTo>
                        <a:pt x="4" y="63"/>
                      </a:lnTo>
                      <a:lnTo>
                        <a:pt x="6" y="72"/>
                      </a:lnTo>
                      <a:lnTo>
                        <a:pt x="12" y="76"/>
                      </a:lnTo>
                      <a:lnTo>
                        <a:pt x="16" y="187"/>
                      </a:lnTo>
                      <a:lnTo>
                        <a:pt x="37" y="173"/>
                      </a:lnTo>
                      <a:lnTo>
                        <a:pt x="33" y="79"/>
                      </a:lnTo>
                      <a:lnTo>
                        <a:pt x="33" y="79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 flipH="1">
                  <a:off x="2809440" y="5128560"/>
                  <a:ext cx="30960" cy="119520"/>
                </a:xfrm>
                <a:custGeom>
                  <a:avLst/>
                  <a:gdLst/>
                  <a:ahLst/>
                  <a:rect l="l" t="t" r="r" b="b"/>
                  <a:pathLst>
                    <a:path w="50" h="212">
                      <a:moveTo>
                        <a:pt x="12" y="212"/>
                      </a:moveTo>
                      <a:lnTo>
                        <a:pt x="11" y="63"/>
                      </a:lnTo>
                      <a:lnTo>
                        <a:pt x="9" y="59"/>
                      </a:lnTo>
                      <a:lnTo>
                        <a:pt x="6" y="51"/>
                      </a:lnTo>
                      <a:lnTo>
                        <a:pt x="2" y="43"/>
                      </a:lnTo>
                      <a:lnTo>
                        <a:pt x="0" y="33"/>
                      </a:lnTo>
                      <a:lnTo>
                        <a:pt x="0" y="27"/>
                      </a:lnTo>
                      <a:lnTo>
                        <a:pt x="0" y="21"/>
                      </a:lnTo>
                      <a:lnTo>
                        <a:pt x="0" y="16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1" y="4"/>
                      </a:lnTo>
                      <a:lnTo>
                        <a:pt x="16" y="1"/>
                      </a:lnTo>
                      <a:lnTo>
                        <a:pt x="24" y="1"/>
                      </a:lnTo>
                      <a:lnTo>
                        <a:pt x="31" y="0"/>
                      </a:lnTo>
                      <a:lnTo>
                        <a:pt x="37" y="1"/>
                      </a:lnTo>
                      <a:lnTo>
                        <a:pt x="41" y="3"/>
                      </a:lnTo>
                      <a:lnTo>
                        <a:pt x="45" y="6"/>
                      </a:lnTo>
                      <a:lnTo>
                        <a:pt x="46" y="9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50" y="27"/>
                      </a:lnTo>
                      <a:lnTo>
                        <a:pt x="49" y="34"/>
                      </a:lnTo>
                      <a:lnTo>
                        <a:pt x="48" y="39"/>
                      </a:lnTo>
                      <a:lnTo>
                        <a:pt x="46" y="45"/>
                      </a:lnTo>
                      <a:lnTo>
                        <a:pt x="46" y="50"/>
                      </a:lnTo>
                      <a:lnTo>
                        <a:pt x="44" y="58"/>
                      </a:lnTo>
                      <a:lnTo>
                        <a:pt x="44" y="63"/>
                      </a:lnTo>
                      <a:lnTo>
                        <a:pt x="39" y="67"/>
                      </a:lnTo>
                      <a:lnTo>
                        <a:pt x="41" y="211"/>
                      </a:lnTo>
                      <a:lnTo>
                        <a:pt x="12" y="212"/>
                      </a:lnTo>
                      <a:lnTo>
                        <a:pt x="12" y="212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 flipH="1">
                  <a:off x="2945520" y="5130720"/>
                  <a:ext cx="27000" cy="98280"/>
                </a:xfrm>
                <a:custGeom>
                  <a:avLst/>
                  <a:gdLst/>
                  <a:ahLst/>
                  <a:rect l="l" t="t" r="r" b="b"/>
                  <a:pathLst>
                    <a:path w="42" h="174">
                      <a:moveTo>
                        <a:pt x="32" y="169"/>
                      </a:moveTo>
                      <a:lnTo>
                        <a:pt x="32" y="53"/>
                      </a:lnTo>
                      <a:lnTo>
                        <a:pt x="32" y="49"/>
                      </a:lnTo>
                      <a:lnTo>
                        <a:pt x="36" y="42"/>
                      </a:lnTo>
                      <a:lnTo>
                        <a:pt x="38" y="35"/>
                      </a:lnTo>
                      <a:lnTo>
                        <a:pt x="41" y="30"/>
                      </a:lnTo>
                      <a:lnTo>
                        <a:pt x="41" y="23"/>
                      </a:lnTo>
                      <a:lnTo>
                        <a:pt x="42" y="18"/>
                      </a:lnTo>
                      <a:lnTo>
                        <a:pt x="40" y="11"/>
                      </a:lnTo>
                      <a:lnTo>
                        <a:pt x="37" y="7"/>
                      </a:lnTo>
                      <a:lnTo>
                        <a:pt x="33" y="2"/>
                      </a:lnTo>
                      <a:lnTo>
                        <a:pt x="31" y="1"/>
                      </a:lnTo>
                      <a:lnTo>
                        <a:pt x="21" y="0"/>
                      </a:lnTo>
                      <a:lnTo>
                        <a:pt x="11" y="2"/>
                      </a:lnTo>
                      <a:lnTo>
                        <a:pt x="7" y="4"/>
                      </a:lnTo>
                      <a:lnTo>
                        <a:pt x="4" y="9"/>
                      </a:lnTo>
                      <a:lnTo>
                        <a:pt x="2" y="14"/>
                      </a:lnTo>
                      <a:lnTo>
                        <a:pt x="1" y="21"/>
                      </a:lnTo>
                      <a:lnTo>
                        <a:pt x="0" y="26"/>
                      </a:lnTo>
                      <a:lnTo>
                        <a:pt x="1" y="34"/>
                      </a:lnTo>
                      <a:lnTo>
                        <a:pt x="3" y="42"/>
                      </a:lnTo>
                      <a:lnTo>
                        <a:pt x="7" y="49"/>
                      </a:lnTo>
                      <a:lnTo>
                        <a:pt x="7" y="174"/>
                      </a:lnTo>
                      <a:lnTo>
                        <a:pt x="32" y="169"/>
                      </a:lnTo>
                      <a:lnTo>
                        <a:pt x="32" y="169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 flipH="1">
                  <a:off x="2985840" y="5410800"/>
                  <a:ext cx="76680" cy="208800"/>
                </a:xfrm>
                <a:custGeom>
                  <a:avLst/>
                  <a:gdLst/>
                  <a:ahLst/>
                  <a:rect l="l" t="t" r="r" b="b"/>
                  <a:pathLst>
                    <a:path w="120" h="372">
                      <a:moveTo>
                        <a:pt x="120" y="31"/>
                      </a:moveTo>
                      <a:lnTo>
                        <a:pt x="118" y="30"/>
                      </a:lnTo>
                      <a:lnTo>
                        <a:pt x="114" y="30"/>
                      </a:lnTo>
                      <a:lnTo>
                        <a:pt x="108" y="30"/>
                      </a:lnTo>
                      <a:lnTo>
                        <a:pt x="100" y="32"/>
                      </a:lnTo>
                      <a:lnTo>
                        <a:pt x="90" y="33"/>
                      </a:lnTo>
                      <a:lnTo>
                        <a:pt x="80" y="37"/>
                      </a:lnTo>
                      <a:lnTo>
                        <a:pt x="70" y="39"/>
                      </a:lnTo>
                      <a:lnTo>
                        <a:pt x="61" y="46"/>
                      </a:lnTo>
                      <a:lnTo>
                        <a:pt x="51" y="50"/>
                      </a:lnTo>
                      <a:lnTo>
                        <a:pt x="44" y="59"/>
                      </a:lnTo>
                      <a:lnTo>
                        <a:pt x="35" y="69"/>
                      </a:lnTo>
                      <a:lnTo>
                        <a:pt x="31" y="82"/>
                      </a:lnTo>
                      <a:lnTo>
                        <a:pt x="27" y="95"/>
                      </a:lnTo>
                      <a:lnTo>
                        <a:pt x="27" y="112"/>
                      </a:lnTo>
                      <a:lnTo>
                        <a:pt x="30" y="131"/>
                      </a:lnTo>
                      <a:lnTo>
                        <a:pt x="38" y="154"/>
                      </a:lnTo>
                      <a:lnTo>
                        <a:pt x="39" y="156"/>
                      </a:lnTo>
                      <a:lnTo>
                        <a:pt x="44" y="158"/>
                      </a:lnTo>
                      <a:lnTo>
                        <a:pt x="48" y="161"/>
                      </a:lnTo>
                      <a:lnTo>
                        <a:pt x="55" y="164"/>
                      </a:lnTo>
                      <a:lnTo>
                        <a:pt x="59" y="165"/>
                      </a:lnTo>
                      <a:lnTo>
                        <a:pt x="65" y="165"/>
                      </a:lnTo>
                      <a:lnTo>
                        <a:pt x="68" y="166"/>
                      </a:lnTo>
                      <a:lnTo>
                        <a:pt x="69" y="167"/>
                      </a:lnTo>
                      <a:lnTo>
                        <a:pt x="69" y="372"/>
                      </a:lnTo>
                      <a:lnTo>
                        <a:pt x="40" y="372"/>
                      </a:lnTo>
                      <a:lnTo>
                        <a:pt x="38" y="166"/>
                      </a:lnTo>
                      <a:lnTo>
                        <a:pt x="34" y="164"/>
                      </a:lnTo>
                      <a:lnTo>
                        <a:pt x="27" y="155"/>
                      </a:lnTo>
                      <a:lnTo>
                        <a:pt x="23" y="148"/>
                      </a:lnTo>
                      <a:lnTo>
                        <a:pt x="17" y="142"/>
                      </a:lnTo>
                      <a:lnTo>
                        <a:pt x="12" y="135"/>
                      </a:lnTo>
                      <a:lnTo>
                        <a:pt x="9" y="127"/>
                      </a:lnTo>
                      <a:lnTo>
                        <a:pt x="4" y="117"/>
                      </a:lnTo>
                      <a:lnTo>
                        <a:pt x="2" y="106"/>
                      </a:lnTo>
                      <a:lnTo>
                        <a:pt x="0" y="95"/>
                      </a:lnTo>
                      <a:lnTo>
                        <a:pt x="0" y="84"/>
                      </a:lnTo>
                      <a:lnTo>
                        <a:pt x="3" y="72"/>
                      </a:lnTo>
                      <a:lnTo>
                        <a:pt x="8" y="60"/>
                      </a:lnTo>
                      <a:lnTo>
                        <a:pt x="15" y="47"/>
                      </a:lnTo>
                      <a:lnTo>
                        <a:pt x="25" y="33"/>
                      </a:lnTo>
                      <a:lnTo>
                        <a:pt x="35" y="21"/>
                      </a:lnTo>
                      <a:lnTo>
                        <a:pt x="46" y="12"/>
                      </a:lnTo>
                      <a:lnTo>
                        <a:pt x="56" y="5"/>
                      </a:lnTo>
                      <a:lnTo>
                        <a:pt x="66" y="2"/>
                      </a:lnTo>
                      <a:lnTo>
                        <a:pt x="72" y="0"/>
                      </a:lnTo>
                      <a:lnTo>
                        <a:pt x="80" y="0"/>
                      </a:lnTo>
                      <a:lnTo>
                        <a:pt x="88" y="2"/>
                      </a:lnTo>
                      <a:lnTo>
                        <a:pt x="94" y="5"/>
                      </a:lnTo>
                      <a:lnTo>
                        <a:pt x="100" y="8"/>
                      </a:lnTo>
                      <a:lnTo>
                        <a:pt x="104" y="12"/>
                      </a:lnTo>
                      <a:lnTo>
                        <a:pt x="109" y="16"/>
                      </a:lnTo>
                      <a:lnTo>
                        <a:pt x="113" y="21"/>
                      </a:lnTo>
                      <a:lnTo>
                        <a:pt x="118" y="27"/>
                      </a:lnTo>
                      <a:lnTo>
                        <a:pt x="120" y="31"/>
                      </a:lnTo>
                      <a:lnTo>
                        <a:pt x="120" y="31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 flipH="1">
                  <a:off x="1578600" y="5680440"/>
                  <a:ext cx="128880" cy="40320"/>
                </a:xfrm>
                <a:custGeom>
                  <a:avLst/>
                  <a:gdLst/>
                  <a:ahLst/>
                  <a:rect l="l" t="t" r="r" b="b"/>
                  <a:pathLst>
                    <a:path w="197" h="72">
                      <a:moveTo>
                        <a:pt x="5" y="43"/>
                      </a:moveTo>
                      <a:lnTo>
                        <a:pt x="0" y="18"/>
                      </a:lnTo>
                      <a:lnTo>
                        <a:pt x="10" y="18"/>
                      </a:lnTo>
                      <a:lnTo>
                        <a:pt x="11" y="38"/>
                      </a:lnTo>
                      <a:lnTo>
                        <a:pt x="36" y="35"/>
                      </a:lnTo>
                      <a:lnTo>
                        <a:pt x="34" y="8"/>
                      </a:lnTo>
                      <a:lnTo>
                        <a:pt x="44" y="5"/>
                      </a:lnTo>
                      <a:lnTo>
                        <a:pt x="45" y="31"/>
                      </a:lnTo>
                      <a:lnTo>
                        <a:pt x="62" y="30"/>
                      </a:lnTo>
                      <a:lnTo>
                        <a:pt x="62" y="0"/>
                      </a:lnTo>
                      <a:lnTo>
                        <a:pt x="74" y="4"/>
                      </a:lnTo>
                      <a:lnTo>
                        <a:pt x="72" y="33"/>
                      </a:lnTo>
                      <a:lnTo>
                        <a:pt x="93" y="38"/>
                      </a:lnTo>
                      <a:lnTo>
                        <a:pt x="96" y="10"/>
                      </a:lnTo>
                      <a:lnTo>
                        <a:pt x="110" y="14"/>
                      </a:lnTo>
                      <a:lnTo>
                        <a:pt x="103" y="39"/>
                      </a:lnTo>
                      <a:lnTo>
                        <a:pt x="125" y="48"/>
                      </a:lnTo>
                      <a:lnTo>
                        <a:pt x="131" y="21"/>
                      </a:lnTo>
                      <a:lnTo>
                        <a:pt x="145" y="25"/>
                      </a:lnTo>
                      <a:lnTo>
                        <a:pt x="133" y="49"/>
                      </a:lnTo>
                      <a:lnTo>
                        <a:pt x="149" y="54"/>
                      </a:lnTo>
                      <a:lnTo>
                        <a:pt x="156" y="31"/>
                      </a:lnTo>
                      <a:lnTo>
                        <a:pt x="168" y="35"/>
                      </a:lnTo>
                      <a:lnTo>
                        <a:pt x="154" y="57"/>
                      </a:lnTo>
                      <a:lnTo>
                        <a:pt x="175" y="64"/>
                      </a:lnTo>
                      <a:lnTo>
                        <a:pt x="182" y="41"/>
                      </a:lnTo>
                      <a:lnTo>
                        <a:pt x="197" y="51"/>
                      </a:lnTo>
                      <a:lnTo>
                        <a:pt x="180" y="72"/>
                      </a:lnTo>
                      <a:lnTo>
                        <a:pt x="120" y="54"/>
                      </a:lnTo>
                      <a:lnTo>
                        <a:pt x="59" y="43"/>
                      </a:lnTo>
                      <a:lnTo>
                        <a:pt x="5" y="43"/>
                      </a:lnTo>
                      <a:lnTo>
                        <a:pt x="5" y="43"/>
                      </a:lnTo>
                      <a:close/>
                    </a:path>
                  </a:pathLst>
                </a:custGeom>
                <a:solidFill>
                  <a:srgbClr val="4d36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 flipH="1">
                  <a:off x="1618920" y="5728680"/>
                  <a:ext cx="114120" cy="65520"/>
                </a:xfrm>
                <a:custGeom>
                  <a:avLst/>
                  <a:gdLst/>
                  <a:ahLst/>
                  <a:rect l="l" t="t" r="r" b="b"/>
                  <a:pathLst>
                    <a:path w="175" h="115">
                      <a:moveTo>
                        <a:pt x="175" y="92"/>
                      </a:moveTo>
                      <a:lnTo>
                        <a:pt x="171" y="115"/>
                      </a:lnTo>
                      <a:lnTo>
                        <a:pt x="161" y="111"/>
                      </a:lnTo>
                      <a:lnTo>
                        <a:pt x="166" y="93"/>
                      </a:lnTo>
                      <a:lnTo>
                        <a:pt x="145" y="85"/>
                      </a:lnTo>
                      <a:lnTo>
                        <a:pt x="137" y="113"/>
                      </a:lnTo>
                      <a:lnTo>
                        <a:pt x="127" y="110"/>
                      </a:lnTo>
                      <a:lnTo>
                        <a:pt x="136" y="86"/>
                      </a:lnTo>
                      <a:lnTo>
                        <a:pt x="118" y="83"/>
                      </a:lnTo>
                      <a:lnTo>
                        <a:pt x="109" y="109"/>
                      </a:lnTo>
                      <a:lnTo>
                        <a:pt x="97" y="100"/>
                      </a:lnTo>
                      <a:lnTo>
                        <a:pt x="110" y="75"/>
                      </a:lnTo>
                      <a:lnTo>
                        <a:pt x="91" y="63"/>
                      </a:lnTo>
                      <a:lnTo>
                        <a:pt x="80" y="86"/>
                      </a:lnTo>
                      <a:lnTo>
                        <a:pt x="67" y="78"/>
                      </a:lnTo>
                      <a:lnTo>
                        <a:pt x="84" y="59"/>
                      </a:lnTo>
                      <a:lnTo>
                        <a:pt x="66" y="43"/>
                      </a:lnTo>
                      <a:lnTo>
                        <a:pt x="50" y="64"/>
                      </a:lnTo>
                      <a:lnTo>
                        <a:pt x="38" y="57"/>
                      </a:lnTo>
                      <a:lnTo>
                        <a:pt x="58" y="39"/>
                      </a:lnTo>
                      <a:lnTo>
                        <a:pt x="46" y="27"/>
                      </a:lnTo>
                      <a:lnTo>
                        <a:pt x="30" y="47"/>
                      </a:lnTo>
                      <a:lnTo>
                        <a:pt x="21" y="37"/>
                      </a:lnTo>
                      <a:lnTo>
                        <a:pt x="40" y="21"/>
                      </a:lnTo>
                      <a:lnTo>
                        <a:pt x="25" y="8"/>
                      </a:lnTo>
                      <a:lnTo>
                        <a:pt x="11" y="29"/>
                      </a:lnTo>
                      <a:lnTo>
                        <a:pt x="0" y="13"/>
                      </a:lnTo>
                      <a:lnTo>
                        <a:pt x="23" y="0"/>
                      </a:lnTo>
                      <a:lnTo>
                        <a:pt x="74" y="37"/>
                      </a:lnTo>
                      <a:lnTo>
                        <a:pt x="127" y="72"/>
                      </a:lnTo>
                      <a:lnTo>
                        <a:pt x="175" y="92"/>
                      </a:lnTo>
                      <a:lnTo>
                        <a:pt x="175" y="92"/>
                      </a:lnTo>
                      <a:close/>
                    </a:path>
                  </a:pathLst>
                </a:custGeom>
                <a:solidFill>
                  <a:srgbClr val="4d36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 flipH="1">
                  <a:off x="1413720" y="6204240"/>
                  <a:ext cx="785520" cy="185040"/>
                </a:xfrm>
                <a:custGeom>
                  <a:avLst/>
                  <a:gdLst/>
                  <a:ahLst/>
                  <a:rect l="l" t="t" r="r" b="b"/>
                  <a:pathLst>
                    <a:path w="1209" h="328">
                      <a:moveTo>
                        <a:pt x="134" y="0"/>
                      </a:moveTo>
                      <a:lnTo>
                        <a:pt x="384" y="120"/>
                      </a:lnTo>
                      <a:lnTo>
                        <a:pt x="82" y="81"/>
                      </a:lnTo>
                      <a:lnTo>
                        <a:pt x="353" y="163"/>
                      </a:lnTo>
                      <a:lnTo>
                        <a:pt x="6" y="120"/>
                      </a:lnTo>
                      <a:lnTo>
                        <a:pt x="315" y="202"/>
                      </a:lnTo>
                      <a:lnTo>
                        <a:pt x="33" y="172"/>
                      </a:lnTo>
                      <a:lnTo>
                        <a:pt x="269" y="241"/>
                      </a:lnTo>
                      <a:lnTo>
                        <a:pt x="0" y="210"/>
                      </a:lnTo>
                      <a:lnTo>
                        <a:pt x="210" y="297"/>
                      </a:lnTo>
                      <a:lnTo>
                        <a:pt x="213" y="297"/>
                      </a:lnTo>
                      <a:lnTo>
                        <a:pt x="221" y="299"/>
                      </a:lnTo>
                      <a:lnTo>
                        <a:pt x="236" y="300"/>
                      </a:lnTo>
                      <a:lnTo>
                        <a:pt x="256" y="305"/>
                      </a:lnTo>
                      <a:lnTo>
                        <a:pt x="279" y="308"/>
                      </a:lnTo>
                      <a:lnTo>
                        <a:pt x="308" y="312"/>
                      </a:lnTo>
                      <a:lnTo>
                        <a:pt x="339" y="318"/>
                      </a:lnTo>
                      <a:lnTo>
                        <a:pt x="375" y="322"/>
                      </a:lnTo>
                      <a:lnTo>
                        <a:pt x="412" y="327"/>
                      </a:lnTo>
                      <a:lnTo>
                        <a:pt x="452" y="328"/>
                      </a:lnTo>
                      <a:lnTo>
                        <a:pt x="493" y="328"/>
                      </a:lnTo>
                      <a:lnTo>
                        <a:pt x="536" y="328"/>
                      </a:lnTo>
                      <a:lnTo>
                        <a:pt x="580" y="328"/>
                      </a:lnTo>
                      <a:lnTo>
                        <a:pt x="625" y="328"/>
                      </a:lnTo>
                      <a:lnTo>
                        <a:pt x="669" y="328"/>
                      </a:lnTo>
                      <a:lnTo>
                        <a:pt x="713" y="328"/>
                      </a:lnTo>
                      <a:lnTo>
                        <a:pt x="755" y="328"/>
                      </a:lnTo>
                      <a:lnTo>
                        <a:pt x="798" y="320"/>
                      </a:lnTo>
                      <a:lnTo>
                        <a:pt x="842" y="307"/>
                      </a:lnTo>
                      <a:lnTo>
                        <a:pt x="887" y="293"/>
                      </a:lnTo>
                      <a:lnTo>
                        <a:pt x="928" y="275"/>
                      </a:lnTo>
                      <a:lnTo>
                        <a:pt x="969" y="257"/>
                      </a:lnTo>
                      <a:lnTo>
                        <a:pt x="1008" y="238"/>
                      </a:lnTo>
                      <a:lnTo>
                        <a:pt x="1046" y="220"/>
                      </a:lnTo>
                      <a:lnTo>
                        <a:pt x="1079" y="200"/>
                      </a:lnTo>
                      <a:lnTo>
                        <a:pt x="1111" y="182"/>
                      </a:lnTo>
                      <a:lnTo>
                        <a:pt x="1139" y="164"/>
                      </a:lnTo>
                      <a:lnTo>
                        <a:pt x="1162" y="150"/>
                      </a:lnTo>
                      <a:lnTo>
                        <a:pt x="1182" y="137"/>
                      </a:lnTo>
                      <a:lnTo>
                        <a:pt x="1195" y="128"/>
                      </a:lnTo>
                      <a:lnTo>
                        <a:pt x="1205" y="122"/>
                      </a:lnTo>
                      <a:lnTo>
                        <a:pt x="1209" y="120"/>
                      </a:lnTo>
                      <a:lnTo>
                        <a:pt x="1203" y="119"/>
                      </a:lnTo>
                      <a:lnTo>
                        <a:pt x="1186" y="119"/>
                      </a:lnTo>
                      <a:lnTo>
                        <a:pt x="1161" y="119"/>
                      </a:lnTo>
                      <a:lnTo>
                        <a:pt x="1130" y="119"/>
                      </a:lnTo>
                      <a:lnTo>
                        <a:pt x="1091" y="119"/>
                      </a:lnTo>
                      <a:lnTo>
                        <a:pt x="1048" y="119"/>
                      </a:lnTo>
                      <a:lnTo>
                        <a:pt x="1002" y="119"/>
                      </a:lnTo>
                      <a:lnTo>
                        <a:pt x="955" y="119"/>
                      </a:lnTo>
                      <a:lnTo>
                        <a:pt x="905" y="118"/>
                      </a:lnTo>
                      <a:lnTo>
                        <a:pt x="857" y="117"/>
                      </a:lnTo>
                      <a:lnTo>
                        <a:pt x="811" y="116"/>
                      </a:lnTo>
                      <a:lnTo>
                        <a:pt x="770" y="116"/>
                      </a:lnTo>
                      <a:lnTo>
                        <a:pt x="731" y="115"/>
                      </a:lnTo>
                      <a:lnTo>
                        <a:pt x="701" y="113"/>
                      </a:lnTo>
                      <a:lnTo>
                        <a:pt x="678" y="113"/>
                      </a:lnTo>
                      <a:lnTo>
                        <a:pt x="665" y="112"/>
                      </a:lnTo>
                      <a:lnTo>
                        <a:pt x="650" y="108"/>
                      </a:lnTo>
                      <a:lnTo>
                        <a:pt x="627" y="103"/>
                      </a:lnTo>
                      <a:lnTo>
                        <a:pt x="597" y="97"/>
                      </a:lnTo>
                      <a:lnTo>
                        <a:pt x="561" y="90"/>
                      </a:lnTo>
                      <a:lnTo>
                        <a:pt x="519" y="79"/>
                      </a:lnTo>
                      <a:lnTo>
                        <a:pt x="475" y="70"/>
                      </a:lnTo>
                      <a:lnTo>
                        <a:pt x="427" y="60"/>
                      </a:lnTo>
                      <a:lnTo>
                        <a:pt x="381" y="51"/>
                      </a:lnTo>
                      <a:lnTo>
                        <a:pt x="332" y="42"/>
                      </a:lnTo>
                      <a:lnTo>
                        <a:pt x="288" y="32"/>
                      </a:lnTo>
                      <a:lnTo>
                        <a:pt x="246" y="22"/>
                      </a:lnTo>
                      <a:lnTo>
                        <a:pt x="209" y="15"/>
                      </a:lnTo>
                      <a:lnTo>
                        <a:pt x="177" y="8"/>
                      </a:lnTo>
                      <a:lnTo>
                        <a:pt x="154" y="4"/>
                      </a:lnTo>
                      <a:lnTo>
                        <a:pt x="138" y="0"/>
                      </a:lnTo>
                      <a:lnTo>
                        <a:pt x="134" y="0"/>
                      </a:lnTo>
                      <a:lnTo>
                        <a:pt x="134" y="0"/>
                      </a:lnTo>
                      <a:close/>
                    </a:path>
                  </a:pathLst>
                </a:custGeom>
                <a:solidFill>
                  <a:srgbClr val="7d7d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932" name="" descr=""/>
              <p:cNvPicPr/>
              <p:nvPr/>
            </p:nvPicPr>
            <p:blipFill>
              <a:blip r:embed="rId2"/>
              <a:stretch/>
            </p:blipFill>
            <p:spPr>
              <a:xfrm rot="5400000">
                <a:off x="1310760" y="5569560"/>
                <a:ext cx="447840" cy="93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3" name="" descr=""/>
              <p:cNvPicPr/>
              <p:nvPr/>
            </p:nvPicPr>
            <p:blipFill>
              <a:blip r:embed="rId3"/>
              <a:stretch/>
            </p:blipFill>
            <p:spPr>
              <a:xfrm rot="5400000">
                <a:off x="1435320" y="5406840"/>
                <a:ext cx="447840" cy="936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34" name=""/>
            <p:cNvGrpSpPr/>
            <p:nvPr/>
          </p:nvGrpSpPr>
          <p:grpSpPr>
            <a:xfrm>
              <a:off x="1690200" y="5589360"/>
              <a:ext cx="503640" cy="432720"/>
              <a:chOff x="1690200" y="5589360"/>
              <a:chExt cx="503640" cy="432720"/>
            </a:xfrm>
          </p:grpSpPr>
          <p:sp>
            <p:nvSpPr>
              <p:cNvPr id="1935" name=""/>
              <p:cNvSpPr/>
              <p:nvPr/>
            </p:nvSpPr>
            <p:spPr>
              <a:xfrm flipH="1">
                <a:off x="1873080" y="5744880"/>
                <a:ext cx="293400" cy="187200"/>
              </a:xfrm>
              <a:custGeom>
                <a:avLst/>
                <a:gdLst/>
                <a:ahLst/>
                <a:rect l="l" t="t" r="r" b="b"/>
                <a:pathLst>
                  <a:path w="676" h="493">
                    <a:moveTo>
                      <a:pt x="0" y="322"/>
                    </a:moveTo>
                    <a:lnTo>
                      <a:pt x="222" y="0"/>
                    </a:lnTo>
                    <a:lnTo>
                      <a:pt x="380" y="0"/>
                    </a:lnTo>
                    <a:lnTo>
                      <a:pt x="676" y="220"/>
                    </a:lnTo>
                    <a:lnTo>
                      <a:pt x="672" y="289"/>
                    </a:lnTo>
                    <a:lnTo>
                      <a:pt x="500" y="426"/>
                    </a:lnTo>
                    <a:lnTo>
                      <a:pt x="132" y="493"/>
                    </a:lnTo>
                    <a:lnTo>
                      <a:pt x="0" y="322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c99b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 flipH="1">
                <a:off x="1689840" y="5589360"/>
                <a:ext cx="343080" cy="254880"/>
              </a:xfrm>
              <a:custGeom>
                <a:avLst/>
                <a:gdLst/>
                <a:ahLst/>
                <a:rect l="l" t="t" r="r" b="b"/>
                <a:pathLst>
                  <a:path w="789" h="671">
                    <a:moveTo>
                      <a:pt x="0" y="257"/>
                    </a:moveTo>
                    <a:lnTo>
                      <a:pt x="1" y="253"/>
                    </a:lnTo>
                    <a:lnTo>
                      <a:pt x="8" y="244"/>
                    </a:lnTo>
                    <a:lnTo>
                      <a:pt x="18" y="232"/>
                    </a:lnTo>
                    <a:lnTo>
                      <a:pt x="31" y="216"/>
                    </a:lnTo>
                    <a:lnTo>
                      <a:pt x="46" y="195"/>
                    </a:lnTo>
                    <a:lnTo>
                      <a:pt x="66" y="174"/>
                    </a:lnTo>
                    <a:lnTo>
                      <a:pt x="88" y="149"/>
                    </a:lnTo>
                    <a:lnTo>
                      <a:pt x="114" y="126"/>
                    </a:lnTo>
                    <a:lnTo>
                      <a:pt x="140" y="101"/>
                    </a:lnTo>
                    <a:lnTo>
                      <a:pt x="169" y="77"/>
                    </a:lnTo>
                    <a:lnTo>
                      <a:pt x="199" y="55"/>
                    </a:lnTo>
                    <a:lnTo>
                      <a:pt x="232" y="37"/>
                    </a:lnTo>
                    <a:lnTo>
                      <a:pt x="264" y="20"/>
                    </a:lnTo>
                    <a:lnTo>
                      <a:pt x="299" y="9"/>
                    </a:lnTo>
                    <a:lnTo>
                      <a:pt x="333" y="1"/>
                    </a:lnTo>
                    <a:lnTo>
                      <a:pt x="368" y="0"/>
                    </a:lnTo>
                    <a:lnTo>
                      <a:pt x="486" y="12"/>
                    </a:lnTo>
                    <a:lnTo>
                      <a:pt x="624" y="91"/>
                    </a:lnTo>
                    <a:lnTo>
                      <a:pt x="624" y="92"/>
                    </a:lnTo>
                    <a:lnTo>
                      <a:pt x="627" y="95"/>
                    </a:lnTo>
                    <a:lnTo>
                      <a:pt x="631" y="103"/>
                    </a:lnTo>
                    <a:lnTo>
                      <a:pt x="638" y="114"/>
                    </a:lnTo>
                    <a:lnTo>
                      <a:pt x="645" y="125"/>
                    </a:lnTo>
                    <a:lnTo>
                      <a:pt x="653" y="139"/>
                    </a:lnTo>
                    <a:lnTo>
                      <a:pt x="662" y="153"/>
                    </a:lnTo>
                    <a:lnTo>
                      <a:pt x="671" y="170"/>
                    </a:lnTo>
                    <a:lnTo>
                      <a:pt x="680" y="186"/>
                    </a:lnTo>
                    <a:lnTo>
                      <a:pt x="688" y="205"/>
                    </a:lnTo>
                    <a:lnTo>
                      <a:pt x="695" y="221"/>
                    </a:lnTo>
                    <a:lnTo>
                      <a:pt x="704" y="239"/>
                    </a:lnTo>
                    <a:lnTo>
                      <a:pt x="709" y="255"/>
                    </a:lnTo>
                    <a:lnTo>
                      <a:pt x="714" y="271"/>
                    </a:lnTo>
                    <a:lnTo>
                      <a:pt x="716" y="286"/>
                    </a:lnTo>
                    <a:lnTo>
                      <a:pt x="719" y="301"/>
                    </a:lnTo>
                    <a:lnTo>
                      <a:pt x="718" y="306"/>
                    </a:lnTo>
                    <a:lnTo>
                      <a:pt x="715" y="314"/>
                    </a:lnTo>
                    <a:lnTo>
                      <a:pt x="712" y="323"/>
                    </a:lnTo>
                    <a:lnTo>
                      <a:pt x="709" y="333"/>
                    </a:lnTo>
                    <a:lnTo>
                      <a:pt x="704" y="342"/>
                    </a:lnTo>
                    <a:lnTo>
                      <a:pt x="700" y="352"/>
                    </a:lnTo>
                    <a:lnTo>
                      <a:pt x="694" y="362"/>
                    </a:lnTo>
                    <a:lnTo>
                      <a:pt x="691" y="374"/>
                    </a:lnTo>
                    <a:lnTo>
                      <a:pt x="684" y="385"/>
                    </a:lnTo>
                    <a:lnTo>
                      <a:pt x="680" y="397"/>
                    </a:lnTo>
                    <a:lnTo>
                      <a:pt x="676" y="409"/>
                    </a:lnTo>
                    <a:lnTo>
                      <a:pt x="672" y="425"/>
                    </a:lnTo>
                    <a:lnTo>
                      <a:pt x="669" y="438"/>
                    </a:lnTo>
                    <a:lnTo>
                      <a:pt x="667" y="452"/>
                    </a:lnTo>
                    <a:lnTo>
                      <a:pt x="667" y="468"/>
                    </a:lnTo>
                    <a:lnTo>
                      <a:pt x="668" y="484"/>
                    </a:lnTo>
                    <a:lnTo>
                      <a:pt x="669" y="492"/>
                    </a:lnTo>
                    <a:lnTo>
                      <a:pt x="672" y="501"/>
                    </a:lnTo>
                    <a:lnTo>
                      <a:pt x="678" y="511"/>
                    </a:lnTo>
                    <a:lnTo>
                      <a:pt x="687" y="523"/>
                    </a:lnTo>
                    <a:lnTo>
                      <a:pt x="695" y="535"/>
                    </a:lnTo>
                    <a:lnTo>
                      <a:pt x="705" y="547"/>
                    </a:lnTo>
                    <a:lnTo>
                      <a:pt x="716" y="559"/>
                    </a:lnTo>
                    <a:lnTo>
                      <a:pt x="729" y="573"/>
                    </a:lnTo>
                    <a:lnTo>
                      <a:pt x="740" y="584"/>
                    </a:lnTo>
                    <a:lnTo>
                      <a:pt x="751" y="595"/>
                    </a:lnTo>
                    <a:lnTo>
                      <a:pt x="761" y="604"/>
                    </a:lnTo>
                    <a:lnTo>
                      <a:pt x="771" y="614"/>
                    </a:lnTo>
                    <a:lnTo>
                      <a:pt x="777" y="621"/>
                    </a:lnTo>
                    <a:lnTo>
                      <a:pt x="784" y="627"/>
                    </a:lnTo>
                    <a:lnTo>
                      <a:pt x="787" y="630"/>
                    </a:lnTo>
                    <a:lnTo>
                      <a:pt x="789" y="632"/>
                    </a:lnTo>
                    <a:lnTo>
                      <a:pt x="506" y="671"/>
                    </a:lnTo>
                    <a:lnTo>
                      <a:pt x="407" y="566"/>
                    </a:lnTo>
                    <a:lnTo>
                      <a:pt x="4" y="347"/>
                    </a:lnTo>
                    <a:lnTo>
                      <a:pt x="0" y="257"/>
                    </a:lnTo>
                    <a:lnTo>
                      <a:pt x="0" y="257"/>
                    </a:lnTo>
                    <a:close/>
                  </a:path>
                </a:pathLst>
              </a:custGeom>
              <a:solidFill>
                <a:srgbClr val="cf8f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H="1">
                <a:off x="1789560" y="5625720"/>
                <a:ext cx="195480" cy="202320"/>
              </a:xfrm>
              <a:custGeom>
                <a:avLst/>
                <a:gdLst/>
                <a:ahLst/>
                <a:rect l="l" t="t" r="r" b="b"/>
                <a:pathLst>
                  <a:path w="448" h="534">
                    <a:moveTo>
                      <a:pt x="183" y="534"/>
                    </a:moveTo>
                    <a:lnTo>
                      <a:pt x="0" y="440"/>
                    </a:lnTo>
                    <a:lnTo>
                      <a:pt x="58" y="269"/>
                    </a:lnTo>
                    <a:lnTo>
                      <a:pt x="107" y="148"/>
                    </a:lnTo>
                    <a:lnTo>
                      <a:pt x="179" y="64"/>
                    </a:lnTo>
                    <a:lnTo>
                      <a:pt x="274" y="6"/>
                    </a:lnTo>
                    <a:lnTo>
                      <a:pt x="370" y="0"/>
                    </a:lnTo>
                    <a:lnTo>
                      <a:pt x="448" y="12"/>
                    </a:lnTo>
                    <a:lnTo>
                      <a:pt x="399" y="328"/>
                    </a:lnTo>
                    <a:lnTo>
                      <a:pt x="273" y="376"/>
                    </a:lnTo>
                    <a:lnTo>
                      <a:pt x="183" y="534"/>
                    </a:lnTo>
                    <a:lnTo>
                      <a:pt x="183" y="534"/>
                    </a:lnTo>
                    <a:close/>
                  </a:path>
                </a:pathLst>
              </a:custGeom>
              <a:solidFill>
                <a:srgbClr val="f79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flipH="1">
                <a:off x="1816560" y="5678640"/>
                <a:ext cx="108360" cy="51480"/>
              </a:xfrm>
              <a:custGeom>
                <a:avLst/>
                <a:gdLst/>
                <a:ahLst/>
                <a:rect l="l" t="t" r="r" b="b"/>
                <a:pathLst>
                  <a:path w="251" h="136">
                    <a:moveTo>
                      <a:pt x="0" y="18"/>
                    </a:moveTo>
                    <a:lnTo>
                      <a:pt x="59" y="0"/>
                    </a:lnTo>
                    <a:lnTo>
                      <a:pt x="145" y="13"/>
                    </a:lnTo>
                    <a:lnTo>
                      <a:pt x="251" y="61"/>
                    </a:lnTo>
                    <a:lnTo>
                      <a:pt x="251" y="136"/>
                    </a:lnTo>
                    <a:lnTo>
                      <a:pt x="131" y="128"/>
                    </a:lnTo>
                    <a:lnTo>
                      <a:pt x="52" y="77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7f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H="1">
                <a:off x="1756800" y="5590800"/>
                <a:ext cx="297720" cy="248040"/>
              </a:xfrm>
              <a:custGeom>
                <a:avLst/>
                <a:gdLst/>
                <a:ahLst/>
                <a:rect l="l" t="t" r="r" b="b"/>
                <a:pathLst>
                  <a:path w="686" h="655">
                    <a:moveTo>
                      <a:pt x="354" y="0"/>
                    </a:moveTo>
                    <a:lnTo>
                      <a:pt x="352" y="0"/>
                    </a:lnTo>
                    <a:lnTo>
                      <a:pt x="343" y="3"/>
                    </a:lnTo>
                    <a:lnTo>
                      <a:pt x="330" y="7"/>
                    </a:lnTo>
                    <a:lnTo>
                      <a:pt x="312" y="14"/>
                    </a:lnTo>
                    <a:lnTo>
                      <a:pt x="291" y="21"/>
                    </a:lnTo>
                    <a:lnTo>
                      <a:pt x="267" y="32"/>
                    </a:lnTo>
                    <a:lnTo>
                      <a:pt x="240" y="46"/>
                    </a:lnTo>
                    <a:lnTo>
                      <a:pt x="214" y="63"/>
                    </a:lnTo>
                    <a:lnTo>
                      <a:pt x="183" y="82"/>
                    </a:lnTo>
                    <a:lnTo>
                      <a:pt x="154" y="105"/>
                    </a:lnTo>
                    <a:lnTo>
                      <a:pt x="124" y="132"/>
                    </a:lnTo>
                    <a:lnTo>
                      <a:pt x="95" y="162"/>
                    </a:lnTo>
                    <a:lnTo>
                      <a:pt x="68" y="195"/>
                    </a:lnTo>
                    <a:lnTo>
                      <a:pt x="42" y="233"/>
                    </a:lnTo>
                    <a:lnTo>
                      <a:pt x="19" y="275"/>
                    </a:lnTo>
                    <a:lnTo>
                      <a:pt x="0" y="322"/>
                    </a:lnTo>
                    <a:lnTo>
                      <a:pt x="51" y="420"/>
                    </a:lnTo>
                    <a:lnTo>
                      <a:pt x="36" y="458"/>
                    </a:lnTo>
                    <a:lnTo>
                      <a:pt x="108" y="542"/>
                    </a:lnTo>
                    <a:lnTo>
                      <a:pt x="103" y="589"/>
                    </a:lnTo>
                    <a:lnTo>
                      <a:pt x="188" y="655"/>
                    </a:lnTo>
                    <a:lnTo>
                      <a:pt x="187" y="647"/>
                    </a:lnTo>
                    <a:lnTo>
                      <a:pt x="187" y="628"/>
                    </a:lnTo>
                    <a:lnTo>
                      <a:pt x="187" y="600"/>
                    </a:lnTo>
                    <a:lnTo>
                      <a:pt x="190" y="563"/>
                    </a:lnTo>
                    <a:lnTo>
                      <a:pt x="195" y="519"/>
                    </a:lnTo>
                    <a:lnTo>
                      <a:pt x="202" y="470"/>
                    </a:lnTo>
                    <a:lnTo>
                      <a:pt x="211" y="418"/>
                    </a:lnTo>
                    <a:lnTo>
                      <a:pt x="227" y="366"/>
                    </a:lnTo>
                    <a:lnTo>
                      <a:pt x="244" y="312"/>
                    </a:lnTo>
                    <a:lnTo>
                      <a:pt x="268" y="264"/>
                    </a:lnTo>
                    <a:lnTo>
                      <a:pt x="298" y="217"/>
                    </a:lnTo>
                    <a:lnTo>
                      <a:pt x="334" y="176"/>
                    </a:lnTo>
                    <a:lnTo>
                      <a:pt x="377" y="143"/>
                    </a:lnTo>
                    <a:lnTo>
                      <a:pt x="428" y="119"/>
                    </a:lnTo>
                    <a:lnTo>
                      <a:pt x="487" y="107"/>
                    </a:lnTo>
                    <a:lnTo>
                      <a:pt x="556" y="108"/>
                    </a:lnTo>
                    <a:lnTo>
                      <a:pt x="574" y="123"/>
                    </a:lnTo>
                    <a:lnTo>
                      <a:pt x="573" y="124"/>
                    </a:lnTo>
                    <a:lnTo>
                      <a:pt x="573" y="128"/>
                    </a:lnTo>
                    <a:lnTo>
                      <a:pt x="571" y="134"/>
                    </a:lnTo>
                    <a:lnTo>
                      <a:pt x="571" y="143"/>
                    </a:lnTo>
                    <a:lnTo>
                      <a:pt x="569" y="153"/>
                    </a:lnTo>
                    <a:lnTo>
                      <a:pt x="566" y="165"/>
                    </a:lnTo>
                    <a:lnTo>
                      <a:pt x="563" y="177"/>
                    </a:lnTo>
                    <a:lnTo>
                      <a:pt x="560" y="192"/>
                    </a:lnTo>
                    <a:lnTo>
                      <a:pt x="555" y="204"/>
                    </a:lnTo>
                    <a:lnTo>
                      <a:pt x="551" y="217"/>
                    </a:lnTo>
                    <a:lnTo>
                      <a:pt x="546" y="228"/>
                    </a:lnTo>
                    <a:lnTo>
                      <a:pt x="542" y="240"/>
                    </a:lnTo>
                    <a:lnTo>
                      <a:pt x="536" y="249"/>
                    </a:lnTo>
                    <a:lnTo>
                      <a:pt x="530" y="257"/>
                    </a:lnTo>
                    <a:lnTo>
                      <a:pt x="523" y="264"/>
                    </a:lnTo>
                    <a:lnTo>
                      <a:pt x="515" y="267"/>
                    </a:lnTo>
                    <a:lnTo>
                      <a:pt x="513" y="265"/>
                    </a:lnTo>
                    <a:lnTo>
                      <a:pt x="504" y="261"/>
                    </a:lnTo>
                    <a:lnTo>
                      <a:pt x="499" y="258"/>
                    </a:lnTo>
                    <a:lnTo>
                      <a:pt x="493" y="255"/>
                    </a:lnTo>
                    <a:lnTo>
                      <a:pt x="488" y="252"/>
                    </a:lnTo>
                    <a:lnTo>
                      <a:pt x="481" y="250"/>
                    </a:lnTo>
                    <a:lnTo>
                      <a:pt x="475" y="247"/>
                    </a:lnTo>
                    <a:lnTo>
                      <a:pt x="468" y="244"/>
                    </a:lnTo>
                    <a:lnTo>
                      <a:pt x="461" y="240"/>
                    </a:lnTo>
                    <a:lnTo>
                      <a:pt x="457" y="239"/>
                    </a:lnTo>
                    <a:lnTo>
                      <a:pt x="447" y="235"/>
                    </a:lnTo>
                    <a:lnTo>
                      <a:pt x="443" y="234"/>
                    </a:lnTo>
                    <a:lnTo>
                      <a:pt x="437" y="236"/>
                    </a:lnTo>
                    <a:lnTo>
                      <a:pt x="434" y="244"/>
                    </a:lnTo>
                    <a:lnTo>
                      <a:pt x="430" y="249"/>
                    </a:lnTo>
                    <a:lnTo>
                      <a:pt x="428" y="255"/>
                    </a:lnTo>
                    <a:lnTo>
                      <a:pt x="426" y="262"/>
                    </a:lnTo>
                    <a:lnTo>
                      <a:pt x="426" y="270"/>
                    </a:lnTo>
                    <a:lnTo>
                      <a:pt x="424" y="276"/>
                    </a:lnTo>
                    <a:lnTo>
                      <a:pt x="425" y="285"/>
                    </a:lnTo>
                    <a:lnTo>
                      <a:pt x="425" y="290"/>
                    </a:lnTo>
                    <a:lnTo>
                      <a:pt x="428" y="299"/>
                    </a:lnTo>
                    <a:lnTo>
                      <a:pt x="431" y="304"/>
                    </a:lnTo>
                    <a:lnTo>
                      <a:pt x="437" y="310"/>
                    </a:lnTo>
                    <a:lnTo>
                      <a:pt x="444" y="314"/>
                    </a:lnTo>
                    <a:lnTo>
                      <a:pt x="452" y="320"/>
                    </a:lnTo>
                    <a:lnTo>
                      <a:pt x="460" y="321"/>
                    </a:lnTo>
                    <a:lnTo>
                      <a:pt x="469" y="323"/>
                    </a:lnTo>
                    <a:lnTo>
                      <a:pt x="477" y="323"/>
                    </a:lnTo>
                    <a:lnTo>
                      <a:pt x="483" y="324"/>
                    </a:lnTo>
                    <a:lnTo>
                      <a:pt x="490" y="323"/>
                    </a:lnTo>
                    <a:lnTo>
                      <a:pt x="496" y="322"/>
                    </a:lnTo>
                    <a:lnTo>
                      <a:pt x="500" y="321"/>
                    </a:lnTo>
                    <a:lnTo>
                      <a:pt x="504" y="320"/>
                    </a:lnTo>
                    <a:lnTo>
                      <a:pt x="511" y="314"/>
                    </a:lnTo>
                    <a:lnTo>
                      <a:pt x="517" y="311"/>
                    </a:lnTo>
                    <a:lnTo>
                      <a:pt x="519" y="308"/>
                    </a:lnTo>
                    <a:lnTo>
                      <a:pt x="521" y="308"/>
                    </a:lnTo>
                    <a:lnTo>
                      <a:pt x="523" y="310"/>
                    </a:lnTo>
                    <a:lnTo>
                      <a:pt x="529" y="317"/>
                    </a:lnTo>
                    <a:lnTo>
                      <a:pt x="532" y="321"/>
                    </a:lnTo>
                    <a:lnTo>
                      <a:pt x="535" y="329"/>
                    </a:lnTo>
                    <a:lnTo>
                      <a:pt x="536" y="338"/>
                    </a:lnTo>
                    <a:lnTo>
                      <a:pt x="538" y="348"/>
                    </a:lnTo>
                    <a:lnTo>
                      <a:pt x="536" y="348"/>
                    </a:lnTo>
                    <a:lnTo>
                      <a:pt x="532" y="351"/>
                    </a:lnTo>
                    <a:lnTo>
                      <a:pt x="528" y="351"/>
                    </a:lnTo>
                    <a:lnTo>
                      <a:pt x="525" y="353"/>
                    </a:lnTo>
                    <a:lnTo>
                      <a:pt x="520" y="355"/>
                    </a:lnTo>
                    <a:lnTo>
                      <a:pt x="514" y="356"/>
                    </a:lnTo>
                    <a:lnTo>
                      <a:pt x="508" y="357"/>
                    </a:lnTo>
                    <a:lnTo>
                      <a:pt x="501" y="359"/>
                    </a:lnTo>
                    <a:lnTo>
                      <a:pt x="492" y="360"/>
                    </a:lnTo>
                    <a:lnTo>
                      <a:pt x="485" y="362"/>
                    </a:lnTo>
                    <a:lnTo>
                      <a:pt x="473" y="362"/>
                    </a:lnTo>
                    <a:lnTo>
                      <a:pt x="464" y="363"/>
                    </a:lnTo>
                    <a:lnTo>
                      <a:pt x="451" y="363"/>
                    </a:lnTo>
                    <a:lnTo>
                      <a:pt x="439" y="363"/>
                    </a:lnTo>
                    <a:lnTo>
                      <a:pt x="429" y="364"/>
                    </a:lnTo>
                    <a:lnTo>
                      <a:pt x="423" y="371"/>
                    </a:lnTo>
                    <a:lnTo>
                      <a:pt x="418" y="375"/>
                    </a:lnTo>
                    <a:lnTo>
                      <a:pt x="415" y="382"/>
                    </a:lnTo>
                    <a:lnTo>
                      <a:pt x="412" y="388"/>
                    </a:lnTo>
                    <a:lnTo>
                      <a:pt x="410" y="396"/>
                    </a:lnTo>
                    <a:lnTo>
                      <a:pt x="407" y="403"/>
                    </a:lnTo>
                    <a:lnTo>
                      <a:pt x="405" y="412"/>
                    </a:lnTo>
                    <a:lnTo>
                      <a:pt x="403" y="419"/>
                    </a:lnTo>
                    <a:lnTo>
                      <a:pt x="402" y="428"/>
                    </a:lnTo>
                    <a:lnTo>
                      <a:pt x="400" y="437"/>
                    </a:lnTo>
                    <a:lnTo>
                      <a:pt x="400" y="446"/>
                    </a:lnTo>
                    <a:lnTo>
                      <a:pt x="400" y="455"/>
                    </a:lnTo>
                    <a:lnTo>
                      <a:pt x="400" y="464"/>
                    </a:lnTo>
                    <a:lnTo>
                      <a:pt x="398" y="472"/>
                    </a:lnTo>
                    <a:lnTo>
                      <a:pt x="396" y="481"/>
                    </a:lnTo>
                    <a:lnTo>
                      <a:pt x="392" y="491"/>
                    </a:lnTo>
                    <a:lnTo>
                      <a:pt x="389" y="503"/>
                    </a:lnTo>
                    <a:lnTo>
                      <a:pt x="383" y="514"/>
                    </a:lnTo>
                    <a:lnTo>
                      <a:pt x="377" y="527"/>
                    </a:lnTo>
                    <a:lnTo>
                      <a:pt x="371" y="538"/>
                    </a:lnTo>
                    <a:lnTo>
                      <a:pt x="365" y="550"/>
                    </a:lnTo>
                    <a:lnTo>
                      <a:pt x="356" y="559"/>
                    </a:lnTo>
                    <a:lnTo>
                      <a:pt x="349" y="569"/>
                    </a:lnTo>
                    <a:lnTo>
                      <a:pt x="340" y="576"/>
                    </a:lnTo>
                    <a:lnTo>
                      <a:pt x="331" y="584"/>
                    </a:lnTo>
                    <a:lnTo>
                      <a:pt x="321" y="587"/>
                    </a:lnTo>
                    <a:lnTo>
                      <a:pt x="312" y="592"/>
                    </a:lnTo>
                    <a:lnTo>
                      <a:pt x="302" y="592"/>
                    </a:lnTo>
                    <a:lnTo>
                      <a:pt x="293" y="591"/>
                    </a:lnTo>
                    <a:lnTo>
                      <a:pt x="282" y="587"/>
                    </a:lnTo>
                    <a:lnTo>
                      <a:pt x="274" y="584"/>
                    </a:lnTo>
                    <a:lnTo>
                      <a:pt x="265" y="580"/>
                    </a:lnTo>
                    <a:lnTo>
                      <a:pt x="259" y="576"/>
                    </a:lnTo>
                    <a:lnTo>
                      <a:pt x="252" y="572"/>
                    </a:lnTo>
                    <a:lnTo>
                      <a:pt x="247" y="568"/>
                    </a:lnTo>
                    <a:lnTo>
                      <a:pt x="241" y="565"/>
                    </a:lnTo>
                    <a:lnTo>
                      <a:pt x="239" y="562"/>
                    </a:lnTo>
                    <a:lnTo>
                      <a:pt x="231" y="554"/>
                    </a:lnTo>
                    <a:lnTo>
                      <a:pt x="228" y="550"/>
                    </a:lnTo>
                    <a:lnTo>
                      <a:pt x="227" y="545"/>
                    </a:lnTo>
                    <a:lnTo>
                      <a:pt x="221" y="561"/>
                    </a:lnTo>
                    <a:lnTo>
                      <a:pt x="223" y="562"/>
                    </a:lnTo>
                    <a:lnTo>
                      <a:pt x="228" y="568"/>
                    </a:lnTo>
                    <a:lnTo>
                      <a:pt x="238" y="575"/>
                    </a:lnTo>
                    <a:lnTo>
                      <a:pt x="251" y="585"/>
                    </a:lnTo>
                    <a:lnTo>
                      <a:pt x="266" y="595"/>
                    </a:lnTo>
                    <a:lnTo>
                      <a:pt x="284" y="607"/>
                    </a:lnTo>
                    <a:lnTo>
                      <a:pt x="304" y="617"/>
                    </a:lnTo>
                    <a:lnTo>
                      <a:pt x="326" y="627"/>
                    </a:lnTo>
                    <a:lnTo>
                      <a:pt x="349" y="634"/>
                    </a:lnTo>
                    <a:lnTo>
                      <a:pt x="373" y="637"/>
                    </a:lnTo>
                    <a:lnTo>
                      <a:pt x="397" y="636"/>
                    </a:lnTo>
                    <a:lnTo>
                      <a:pt x="423" y="633"/>
                    </a:lnTo>
                    <a:lnTo>
                      <a:pt x="446" y="623"/>
                    </a:lnTo>
                    <a:lnTo>
                      <a:pt x="470" y="606"/>
                    </a:lnTo>
                    <a:lnTo>
                      <a:pt x="492" y="583"/>
                    </a:lnTo>
                    <a:lnTo>
                      <a:pt x="515" y="552"/>
                    </a:lnTo>
                    <a:lnTo>
                      <a:pt x="514" y="549"/>
                    </a:lnTo>
                    <a:lnTo>
                      <a:pt x="508" y="544"/>
                    </a:lnTo>
                    <a:lnTo>
                      <a:pt x="503" y="541"/>
                    </a:lnTo>
                    <a:lnTo>
                      <a:pt x="498" y="539"/>
                    </a:lnTo>
                    <a:lnTo>
                      <a:pt x="492" y="535"/>
                    </a:lnTo>
                    <a:lnTo>
                      <a:pt x="487" y="533"/>
                    </a:lnTo>
                    <a:lnTo>
                      <a:pt x="479" y="530"/>
                    </a:lnTo>
                    <a:lnTo>
                      <a:pt x="472" y="527"/>
                    </a:lnTo>
                    <a:lnTo>
                      <a:pt x="467" y="522"/>
                    </a:lnTo>
                    <a:lnTo>
                      <a:pt x="461" y="519"/>
                    </a:lnTo>
                    <a:lnTo>
                      <a:pt x="451" y="511"/>
                    </a:lnTo>
                    <a:lnTo>
                      <a:pt x="446" y="505"/>
                    </a:lnTo>
                    <a:lnTo>
                      <a:pt x="546" y="530"/>
                    </a:lnTo>
                    <a:lnTo>
                      <a:pt x="566" y="468"/>
                    </a:lnTo>
                    <a:lnTo>
                      <a:pt x="569" y="468"/>
                    </a:lnTo>
                    <a:lnTo>
                      <a:pt x="574" y="471"/>
                    </a:lnTo>
                    <a:lnTo>
                      <a:pt x="577" y="472"/>
                    </a:lnTo>
                    <a:lnTo>
                      <a:pt x="583" y="475"/>
                    </a:lnTo>
                    <a:lnTo>
                      <a:pt x="588" y="477"/>
                    </a:lnTo>
                    <a:lnTo>
                      <a:pt x="595" y="480"/>
                    </a:lnTo>
                    <a:lnTo>
                      <a:pt x="599" y="481"/>
                    </a:lnTo>
                    <a:lnTo>
                      <a:pt x="606" y="484"/>
                    </a:lnTo>
                    <a:lnTo>
                      <a:pt x="612" y="485"/>
                    </a:lnTo>
                    <a:lnTo>
                      <a:pt x="617" y="487"/>
                    </a:lnTo>
                    <a:lnTo>
                      <a:pt x="623" y="488"/>
                    </a:lnTo>
                    <a:lnTo>
                      <a:pt x="628" y="489"/>
                    </a:lnTo>
                    <a:lnTo>
                      <a:pt x="634" y="489"/>
                    </a:lnTo>
                    <a:lnTo>
                      <a:pt x="639" y="489"/>
                    </a:lnTo>
                    <a:lnTo>
                      <a:pt x="640" y="486"/>
                    </a:lnTo>
                    <a:lnTo>
                      <a:pt x="643" y="482"/>
                    </a:lnTo>
                    <a:lnTo>
                      <a:pt x="643" y="476"/>
                    </a:lnTo>
                    <a:lnTo>
                      <a:pt x="644" y="469"/>
                    </a:lnTo>
                    <a:lnTo>
                      <a:pt x="641" y="459"/>
                    </a:lnTo>
                    <a:lnTo>
                      <a:pt x="640" y="449"/>
                    </a:lnTo>
                    <a:lnTo>
                      <a:pt x="638" y="439"/>
                    </a:lnTo>
                    <a:lnTo>
                      <a:pt x="636" y="429"/>
                    </a:lnTo>
                    <a:lnTo>
                      <a:pt x="632" y="417"/>
                    </a:lnTo>
                    <a:lnTo>
                      <a:pt x="628" y="407"/>
                    </a:lnTo>
                    <a:lnTo>
                      <a:pt x="626" y="397"/>
                    </a:lnTo>
                    <a:lnTo>
                      <a:pt x="624" y="388"/>
                    </a:lnTo>
                    <a:lnTo>
                      <a:pt x="620" y="378"/>
                    </a:lnTo>
                    <a:lnTo>
                      <a:pt x="618" y="372"/>
                    </a:lnTo>
                    <a:lnTo>
                      <a:pt x="617" y="366"/>
                    </a:lnTo>
                    <a:lnTo>
                      <a:pt x="617" y="364"/>
                    </a:lnTo>
                    <a:lnTo>
                      <a:pt x="617" y="360"/>
                    </a:lnTo>
                    <a:lnTo>
                      <a:pt x="622" y="354"/>
                    </a:lnTo>
                    <a:lnTo>
                      <a:pt x="627" y="346"/>
                    </a:lnTo>
                    <a:lnTo>
                      <a:pt x="635" y="339"/>
                    </a:lnTo>
                    <a:lnTo>
                      <a:pt x="643" y="328"/>
                    </a:lnTo>
                    <a:lnTo>
                      <a:pt x="651" y="315"/>
                    </a:lnTo>
                    <a:lnTo>
                      <a:pt x="661" y="302"/>
                    </a:lnTo>
                    <a:lnTo>
                      <a:pt x="670" y="288"/>
                    </a:lnTo>
                    <a:lnTo>
                      <a:pt x="676" y="271"/>
                    </a:lnTo>
                    <a:lnTo>
                      <a:pt x="682" y="254"/>
                    </a:lnTo>
                    <a:lnTo>
                      <a:pt x="686" y="235"/>
                    </a:lnTo>
                    <a:lnTo>
                      <a:pt x="686" y="216"/>
                    </a:lnTo>
                    <a:lnTo>
                      <a:pt x="684" y="194"/>
                    </a:lnTo>
                    <a:lnTo>
                      <a:pt x="677" y="173"/>
                    </a:lnTo>
                    <a:lnTo>
                      <a:pt x="666" y="151"/>
                    </a:lnTo>
                    <a:lnTo>
                      <a:pt x="651" y="129"/>
                    </a:lnTo>
                    <a:lnTo>
                      <a:pt x="674" y="88"/>
                    </a:lnTo>
                    <a:lnTo>
                      <a:pt x="672" y="86"/>
                    </a:lnTo>
                    <a:lnTo>
                      <a:pt x="670" y="83"/>
                    </a:lnTo>
                    <a:lnTo>
                      <a:pt x="666" y="78"/>
                    </a:lnTo>
                    <a:lnTo>
                      <a:pt x="661" y="73"/>
                    </a:lnTo>
                    <a:lnTo>
                      <a:pt x="654" y="67"/>
                    </a:lnTo>
                    <a:lnTo>
                      <a:pt x="646" y="60"/>
                    </a:lnTo>
                    <a:lnTo>
                      <a:pt x="636" y="52"/>
                    </a:lnTo>
                    <a:lnTo>
                      <a:pt x="626" y="45"/>
                    </a:lnTo>
                    <a:lnTo>
                      <a:pt x="613" y="36"/>
                    </a:lnTo>
                    <a:lnTo>
                      <a:pt x="599" y="29"/>
                    </a:lnTo>
                    <a:lnTo>
                      <a:pt x="584" y="21"/>
                    </a:lnTo>
                    <a:lnTo>
                      <a:pt x="570" y="16"/>
                    </a:lnTo>
                    <a:lnTo>
                      <a:pt x="551" y="9"/>
                    </a:lnTo>
                    <a:lnTo>
                      <a:pt x="533" y="6"/>
                    </a:lnTo>
                    <a:lnTo>
                      <a:pt x="513" y="3"/>
                    </a:lnTo>
                    <a:lnTo>
                      <a:pt x="492" y="3"/>
                    </a:lnTo>
                    <a:lnTo>
                      <a:pt x="496" y="4"/>
                    </a:lnTo>
                    <a:lnTo>
                      <a:pt x="500" y="5"/>
                    </a:lnTo>
                    <a:lnTo>
                      <a:pt x="507" y="8"/>
                    </a:lnTo>
                    <a:lnTo>
                      <a:pt x="513" y="9"/>
                    </a:lnTo>
                    <a:lnTo>
                      <a:pt x="522" y="13"/>
                    </a:lnTo>
                    <a:lnTo>
                      <a:pt x="531" y="17"/>
                    </a:lnTo>
                    <a:lnTo>
                      <a:pt x="541" y="21"/>
                    </a:lnTo>
                    <a:lnTo>
                      <a:pt x="550" y="26"/>
                    </a:lnTo>
                    <a:lnTo>
                      <a:pt x="560" y="31"/>
                    </a:lnTo>
                    <a:lnTo>
                      <a:pt x="570" y="36"/>
                    </a:lnTo>
                    <a:lnTo>
                      <a:pt x="580" y="42"/>
                    </a:lnTo>
                    <a:lnTo>
                      <a:pt x="587" y="48"/>
                    </a:lnTo>
                    <a:lnTo>
                      <a:pt x="596" y="55"/>
                    </a:lnTo>
                    <a:lnTo>
                      <a:pt x="604" y="61"/>
                    </a:lnTo>
                    <a:lnTo>
                      <a:pt x="611" y="69"/>
                    </a:lnTo>
                    <a:lnTo>
                      <a:pt x="607" y="67"/>
                    </a:lnTo>
                    <a:lnTo>
                      <a:pt x="599" y="66"/>
                    </a:lnTo>
                    <a:lnTo>
                      <a:pt x="594" y="63"/>
                    </a:lnTo>
                    <a:lnTo>
                      <a:pt x="588" y="62"/>
                    </a:lnTo>
                    <a:lnTo>
                      <a:pt x="583" y="60"/>
                    </a:lnTo>
                    <a:lnTo>
                      <a:pt x="576" y="59"/>
                    </a:lnTo>
                    <a:lnTo>
                      <a:pt x="570" y="56"/>
                    </a:lnTo>
                    <a:lnTo>
                      <a:pt x="562" y="55"/>
                    </a:lnTo>
                    <a:lnTo>
                      <a:pt x="555" y="53"/>
                    </a:lnTo>
                    <a:lnTo>
                      <a:pt x="549" y="52"/>
                    </a:lnTo>
                    <a:lnTo>
                      <a:pt x="542" y="50"/>
                    </a:lnTo>
                    <a:lnTo>
                      <a:pt x="538" y="49"/>
                    </a:lnTo>
                    <a:lnTo>
                      <a:pt x="531" y="49"/>
                    </a:lnTo>
                    <a:lnTo>
                      <a:pt x="528" y="49"/>
                    </a:lnTo>
                    <a:lnTo>
                      <a:pt x="524" y="62"/>
                    </a:lnTo>
                    <a:lnTo>
                      <a:pt x="527" y="62"/>
                    </a:lnTo>
                    <a:lnTo>
                      <a:pt x="536" y="63"/>
                    </a:lnTo>
                    <a:lnTo>
                      <a:pt x="542" y="63"/>
                    </a:lnTo>
                    <a:lnTo>
                      <a:pt x="549" y="65"/>
                    </a:lnTo>
                    <a:lnTo>
                      <a:pt x="556" y="66"/>
                    </a:lnTo>
                    <a:lnTo>
                      <a:pt x="565" y="68"/>
                    </a:lnTo>
                    <a:lnTo>
                      <a:pt x="573" y="69"/>
                    </a:lnTo>
                    <a:lnTo>
                      <a:pt x="582" y="72"/>
                    </a:lnTo>
                    <a:lnTo>
                      <a:pt x="590" y="76"/>
                    </a:lnTo>
                    <a:lnTo>
                      <a:pt x="597" y="78"/>
                    </a:lnTo>
                    <a:lnTo>
                      <a:pt x="604" y="81"/>
                    </a:lnTo>
                    <a:lnTo>
                      <a:pt x="611" y="86"/>
                    </a:lnTo>
                    <a:lnTo>
                      <a:pt x="616" y="90"/>
                    </a:lnTo>
                    <a:lnTo>
                      <a:pt x="619" y="95"/>
                    </a:lnTo>
                    <a:lnTo>
                      <a:pt x="616" y="93"/>
                    </a:lnTo>
                    <a:lnTo>
                      <a:pt x="606" y="91"/>
                    </a:lnTo>
                    <a:lnTo>
                      <a:pt x="592" y="88"/>
                    </a:lnTo>
                    <a:lnTo>
                      <a:pt x="572" y="84"/>
                    </a:lnTo>
                    <a:lnTo>
                      <a:pt x="549" y="81"/>
                    </a:lnTo>
                    <a:lnTo>
                      <a:pt x="522" y="80"/>
                    </a:lnTo>
                    <a:lnTo>
                      <a:pt x="492" y="82"/>
                    </a:lnTo>
                    <a:lnTo>
                      <a:pt x="461" y="89"/>
                    </a:lnTo>
                    <a:lnTo>
                      <a:pt x="427" y="97"/>
                    </a:lnTo>
                    <a:lnTo>
                      <a:pt x="393" y="112"/>
                    </a:lnTo>
                    <a:lnTo>
                      <a:pt x="358" y="132"/>
                    </a:lnTo>
                    <a:lnTo>
                      <a:pt x="325" y="160"/>
                    </a:lnTo>
                    <a:lnTo>
                      <a:pt x="292" y="194"/>
                    </a:lnTo>
                    <a:lnTo>
                      <a:pt x="262" y="239"/>
                    </a:lnTo>
                    <a:lnTo>
                      <a:pt x="234" y="291"/>
                    </a:lnTo>
                    <a:lnTo>
                      <a:pt x="209" y="356"/>
                    </a:lnTo>
                    <a:lnTo>
                      <a:pt x="208" y="354"/>
                    </a:lnTo>
                    <a:lnTo>
                      <a:pt x="208" y="349"/>
                    </a:lnTo>
                    <a:lnTo>
                      <a:pt x="207" y="341"/>
                    </a:lnTo>
                    <a:lnTo>
                      <a:pt x="208" y="332"/>
                    </a:lnTo>
                    <a:lnTo>
                      <a:pt x="208" y="319"/>
                    </a:lnTo>
                    <a:lnTo>
                      <a:pt x="211" y="304"/>
                    </a:lnTo>
                    <a:lnTo>
                      <a:pt x="215" y="288"/>
                    </a:lnTo>
                    <a:lnTo>
                      <a:pt x="220" y="271"/>
                    </a:lnTo>
                    <a:lnTo>
                      <a:pt x="227" y="252"/>
                    </a:lnTo>
                    <a:lnTo>
                      <a:pt x="237" y="231"/>
                    </a:lnTo>
                    <a:lnTo>
                      <a:pt x="249" y="210"/>
                    </a:lnTo>
                    <a:lnTo>
                      <a:pt x="265" y="191"/>
                    </a:lnTo>
                    <a:lnTo>
                      <a:pt x="283" y="168"/>
                    </a:lnTo>
                    <a:lnTo>
                      <a:pt x="307" y="147"/>
                    </a:lnTo>
                    <a:lnTo>
                      <a:pt x="331" y="125"/>
                    </a:lnTo>
                    <a:lnTo>
                      <a:pt x="363" y="105"/>
                    </a:lnTo>
                    <a:lnTo>
                      <a:pt x="342" y="94"/>
                    </a:lnTo>
                    <a:lnTo>
                      <a:pt x="339" y="95"/>
                    </a:lnTo>
                    <a:lnTo>
                      <a:pt x="333" y="100"/>
                    </a:lnTo>
                    <a:lnTo>
                      <a:pt x="324" y="104"/>
                    </a:lnTo>
                    <a:lnTo>
                      <a:pt x="314" y="113"/>
                    </a:lnTo>
                    <a:lnTo>
                      <a:pt x="301" y="124"/>
                    </a:lnTo>
                    <a:lnTo>
                      <a:pt x="287" y="136"/>
                    </a:lnTo>
                    <a:lnTo>
                      <a:pt x="271" y="152"/>
                    </a:lnTo>
                    <a:lnTo>
                      <a:pt x="255" y="171"/>
                    </a:lnTo>
                    <a:lnTo>
                      <a:pt x="238" y="187"/>
                    </a:lnTo>
                    <a:lnTo>
                      <a:pt x="220" y="208"/>
                    </a:lnTo>
                    <a:lnTo>
                      <a:pt x="205" y="229"/>
                    </a:lnTo>
                    <a:lnTo>
                      <a:pt x="190" y="254"/>
                    </a:lnTo>
                    <a:lnTo>
                      <a:pt x="176" y="278"/>
                    </a:lnTo>
                    <a:lnTo>
                      <a:pt x="165" y="304"/>
                    </a:lnTo>
                    <a:lnTo>
                      <a:pt x="156" y="332"/>
                    </a:lnTo>
                    <a:lnTo>
                      <a:pt x="150" y="361"/>
                    </a:lnTo>
                    <a:lnTo>
                      <a:pt x="150" y="359"/>
                    </a:lnTo>
                    <a:lnTo>
                      <a:pt x="148" y="356"/>
                    </a:lnTo>
                    <a:lnTo>
                      <a:pt x="147" y="349"/>
                    </a:lnTo>
                    <a:lnTo>
                      <a:pt x="146" y="342"/>
                    </a:lnTo>
                    <a:lnTo>
                      <a:pt x="145" y="332"/>
                    </a:lnTo>
                    <a:lnTo>
                      <a:pt x="145" y="321"/>
                    </a:lnTo>
                    <a:lnTo>
                      <a:pt x="146" y="308"/>
                    </a:lnTo>
                    <a:lnTo>
                      <a:pt x="150" y="293"/>
                    </a:lnTo>
                    <a:lnTo>
                      <a:pt x="151" y="277"/>
                    </a:lnTo>
                    <a:lnTo>
                      <a:pt x="156" y="261"/>
                    </a:lnTo>
                    <a:lnTo>
                      <a:pt x="162" y="243"/>
                    </a:lnTo>
                    <a:lnTo>
                      <a:pt x="172" y="226"/>
                    </a:lnTo>
                    <a:lnTo>
                      <a:pt x="183" y="206"/>
                    </a:lnTo>
                    <a:lnTo>
                      <a:pt x="197" y="188"/>
                    </a:lnTo>
                    <a:lnTo>
                      <a:pt x="214" y="170"/>
                    </a:lnTo>
                    <a:lnTo>
                      <a:pt x="235" y="151"/>
                    </a:lnTo>
                    <a:lnTo>
                      <a:pt x="208" y="146"/>
                    </a:lnTo>
                    <a:lnTo>
                      <a:pt x="206" y="146"/>
                    </a:lnTo>
                    <a:lnTo>
                      <a:pt x="204" y="149"/>
                    </a:lnTo>
                    <a:lnTo>
                      <a:pt x="197" y="154"/>
                    </a:lnTo>
                    <a:lnTo>
                      <a:pt x="192" y="161"/>
                    </a:lnTo>
                    <a:lnTo>
                      <a:pt x="183" y="170"/>
                    </a:lnTo>
                    <a:lnTo>
                      <a:pt x="174" y="178"/>
                    </a:lnTo>
                    <a:lnTo>
                      <a:pt x="164" y="189"/>
                    </a:lnTo>
                    <a:lnTo>
                      <a:pt x="154" y="203"/>
                    </a:lnTo>
                    <a:lnTo>
                      <a:pt x="143" y="215"/>
                    </a:lnTo>
                    <a:lnTo>
                      <a:pt x="132" y="229"/>
                    </a:lnTo>
                    <a:lnTo>
                      <a:pt x="122" y="243"/>
                    </a:lnTo>
                    <a:lnTo>
                      <a:pt x="113" y="258"/>
                    </a:lnTo>
                    <a:lnTo>
                      <a:pt x="103" y="273"/>
                    </a:lnTo>
                    <a:lnTo>
                      <a:pt x="96" y="288"/>
                    </a:lnTo>
                    <a:lnTo>
                      <a:pt x="90" y="304"/>
                    </a:lnTo>
                    <a:lnTo>
                      <a:pt x="87" y="321"/>
                    </a:lnTo>
                    <a:lnTo>
                      <a:pt x="85" y="318"/>
                    </a:lnTo>
                    <a:lnTo>
                      <a:pt x="85" y="311"/>
                    </a:lnTo>
                    <a:lnTo>
                      <a:pt x="85" y="300"/>
                    </a:lnTo>
                    <a:lnTo>
                      <a:pt x="87" y="287"/>
                    </a:lnTo>
                    <a:lnTo>
                      <a:pt x="89" y="269"/>
                    </a:lnTo>
                    <a:lnTo>
                      <a:pt x="93" y="250"/>
                    </a:lnTo>
                    <a:lnTo>
                      <a:pt x="101" y="229"/>
                    </a:lnTo>
                    <a:lnTo>
                      <a:pt x="111" y="206"/>
                    </a:lnTo>
                    <a:lnTo>
                      <a:pt x="123" y="182"/>
                    </a:lnTo>
                    <a:lnTo>
                      <a:pt x="140" y="156"/>
                    </a:lnTo>
                    <a:lnTo>
                      <a:pt x="161" y="130"/>
                    </a:lnTo>
                    <a:lnTo>
                      <a:pt x="187" y="105"/>
                    </a:lnTo>
                    <a:lnTo>
                      <a:pt x="218" y="79"/>
                    </a:lnTo>
                    <a:lnTo>
                      <a:pt x="256" y="56"/>
                    </a:lnTo>
                    <a:lnTo>
                      <a:pt x="298" y="32"/>
                    </a:lnTo>
                    <a:lnTo>
                      <a:pt x="350" y="13"/>
                    </a:lnTo>
                    <a:lnTo>
                      <a:pt x="354" y="0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flipH="1">
                <a:off x="1854000" y="5674320"/>
                <a:ext cx="75240" cy="60480"/>
              </a:xfrm>
              <a:custGeom>
                <a:avLst/>
                <a:gdLst/>
                <a:ahLst/>
                <a:rect l="l" t="t" r="r" b="b"/>
                <a:pathLst>
                  <a:path w="172" h="160">
                    <a:moveTo>
                      <a:pt x="172" y="145"/>
                    </a:moveTo>
                    <a:lnTo>
                      <a:pt x="157" y="138"/>
                    </a:lnTo>
                    <a:lnTo>
                      <a:pt x="142" y="132"/>
                    </a:lnTo>
                    <a:lnTo>
                      <a:pt x="129" y="125"/>
                    </a:lnTo>
                    <a:lnTo>
                      <a:pt x="119" y="120"/>
                    </a:lnTo>
                    <a:lnTo>
                      <a:pt x="108" y="112"/>
                    </a:lnTo>
                    <a:lnTo>
                      <a:pt x="100" y="107"/>
                    </a:lnTo>
                    <a:lnTo>
                      <a:pt x="90" y="100"/>
                    </a:lnTo>
                    <a:lnTo>
                      <a:pt x="84" y="94"/>
                    </a:lnTo>
                    <a:lnTo>
                      <a:pt x="76" y="88"/>
                    </a:lnTo>
                    <a:lnTo>
                      <a:pt x="69" y="80"/>
                    </a:lnTo>
                    <a:lnTo>
                      <a:pt x="63" y="73"/>
                    </a:lnTo>
                    <a:lnTo>
                      <a:pt x="56" y="67"/>
                    </a:lnTo>
                    <a:lnTo>
                      <a:pt x="50" y="60"/>
                    </a:lnTo>
                    <a:lnTo>
                      <a:pt x="43" y="54"/>
                    </a:lnTo>
                    <a:lnTo>
                      <a:pt x="36" y="48"/>
                    </a:lnTo>
                    <a:lnTo>
                      <a:pt x="30" y="43"/>
                    </a:lnTo>
                    <a:lnTo>
                      <a:pt x="30" y="40"/>
                    </a:lnTo>
                    <a:lnTo>
                      <a:pt x="32" y="36"/>
                    </a:lnTo>
                    <a:lnTo>
                      <a:pt x="34" y="33"/>
                    </a:lnTo>
                    <a:lnTo>
                      <a:pt x="39" y="30"/>
                    </a:lnTo>
                    <a:lnTo>
                      <a:pt x="42" y="27"/>
                    </a:lnTo>
                    <a:lnTo>
                      <a:pt x="48" y="25"/>
                    </a:lnTo>
                    <a:lnTo>
                      <a:pt x="54" y="22"/>
                    </a:lnTo>
                    <a:lnTo>
                      <a:pt x="63" y="20"/>
                    </a:lnTo>
                    <a:lnTo>
                      <a:pt x="72" y="19"/>
                    </a:lnTo>
                    <a:lnTo>
                      <a:pt x="83" y="19"/>
                    </a:lnTo>
                    <a:lnTo>
                      <a:pt x="94" y="19"/>
                    </a:lnTo>
                    <a:lnTo>
                      <a:pt x="109" y="22"/>
                    </a:lnTo>
                    <a:lnTo>
                      <a:pt x="125" y="25"/>
                    </a:lnTo>
                    <a:lnTo>
                      <a:pt x="145" y="30"/>
                    </a:lnTo>
                    <a:lnTo>
                      <a:pt x="162" y="15"/>
                    </a:lnTo>
                    <a:lnTo>
                      <a:pt x="160" y="14"/>
                    </a:lnTo>
                    <a:lnTo>
                      <a:pt x="158" y="13"/>
                    </a:lnTo>
                    <a:lnTo>
                      <a:pt x="155" y="10"/>
                    </a:lnTo>
                    <a:lnTo>
                      <a:pt x="149" y="9"/>
                    </a:lnTo>
                    <a:lnTo>
                      <a:pt x="142" y="7"/>
                    </a:lnTo>
                    <a:lnTo>
                      <a:pt x="134" y="5"/>
                    </a:lnTo>
                    <a:lnTo>
                      <a:pt x="124" y="3"/>
                    </a:lnTo>
                    <a:lnTo>
                      <a:pt x="115" y="3"/>
                    </a:lnTo>
                    <a:lnTo>
                      <a:pt x="103" y="0"/>
                    </a:lnTo>
                    <a:lnTo>
                      <a:pt x="90" y="0"/>
                    </a:lnTo>
                    <a:lnTo>
                      <a:pt x="77" y="2"/>
                    </a:lnTo>
                    <a:lnTo>
                      <a:pt x="64" y="5"/>
                    </a:lnTo>
                    <a:lnTo>
                      <a:pt x="47" y="7"/>
                    </a:lnTo>
                    <a:lnTo>
                      <a:pt x="32" y="12"/>
                    </a:lnTo>
                    <a:lnTo>
                      <a:pt x="16" y="18"/>
                    </a:lnTo>
                    <a:lnTo>
                      <a:pt x="0" y="28"/>
                    </a:lnTo>
                    <a:lnTo>
                      <a:pt x="1" y="31"/>
                    </a:lnTo>
                    <a:lnTo>
                      <a:pt x="3" y="35"/>
                    </a:lnTo>
                    <a:lnTo>
                      <a:pt x="8" y="41"/>
                    </a:lnTo>
                    <a:lnTo>
                      <a:pt x="10" y="47"/>
                    </a:lnTo>
                    <a:lnTo>
                      <a:pt x="16" y="55"/>
                    </a:lnTo>
                    <a:lnTo>
                      <a:pt x="22" y="65"/>
                    </a:lnTo>
                    <a:lnTo>
                      <a:pt x="31" y="76"/>
                    </a:lnTo>
                    <a:lnTo>
                      <a:pt x="40" y="85"/>
                    </a:lnTo>
                    <a:lnTo>
                      <a:pt x="51" y="96"/>
                    </a:lnTo>
                    <a:lnTo>
                      <a:pt x="62" y="107"/>
                    </a:lnTo>
                    <a:lnTo>
                      <a:pt x="76" y="119"/>
                    </a:lnTo>
                    <a:lnTo>
                      <a:pt x="89" y="129"/>
                    </a:lnTo>
                    <a:lnTo>
                      <a:pt x="106" y="140"/>
                    </a:lnTo>
                    <a:lnTo>
                      <a:pt x="123" y="150"/>
                    </a:lnTo>
                    <a:lnTo>
                      <a:pt x="142" y="160"/>
                    </a:lnTo>
                    <a:lnTo>
                      <a:pt x="172" y="145"/>
                    </a:lnTo>
                    <a:lnTo>
                      <a:pt x="172" y="145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flipH="1">
                <a:off x="1810440" y="5655240"/>
                <a:ext cx="65160" cy="29520"/>
              </a:xfrm>
              <a:custGeom>
                <a:avLst/>
                <a:gdLst/>
                <a:ahLst/>
                <a:rect l="l" t="t" r="r" b="b"/>
                <a:pathLst>
                  <a:path w="150" h="77">
                    <a:moveTo>
                      <a:pt x="0" y="16"/>
                    </a:moveTo>
                    <a:lnTo>
                      <a:pt x="3" y="16"/>
                    </a:lnTo>
                    <a:lnTo>
                      <a:pt x="8" y="16"/>
                    </a:lnTo>
                    <a:lnTo>
                      <a:pt x="15" y="16"/>
                    </a:lnTo>
                    <a:lnTo>
                      <a:pt x="23" y="16"/>
                    </a:lnTo>
                    <a:lnTo>
                      <a:pt x="33" y="17"/>
                    </a:lnTo>
                    <a:lnTo>
                      <a:pt x="42" y="19"/>
                    </a:lnTo>
                    <a:lnTo>
                      <a:pt x="54" y="22"/>
                    </a:lnTo>
                    <a:lnTo>
                      <a:pt x="65" y="23"/>
                    </a:lnTo>
                    <a:lnTo>
                      <a:pt x="76" y="27"/>
                    </a:lnTo>
                    <a:lnTo>
                      <a:pt x="87" y="33"/>
                    </a:lnTo>
                    <a:lnTo>
                      <a:pt x="99" y="38"/>
                    </a:lnTo>
                    <a:lnTo>
                      <a:pt x="109" y="45"/>
                    </a:lnTo>
                    <a:lnTo>
                      <a:pt x="119" y="55"/>
                    </a:lnTo>
                    <a:lnTo>
                      <a:pt x="128" y="64"/>
                    </a:lnTo>
                    <a:lnTo>
                      <a:pt x="137" y="77"/>
                    </a:lnTo>
                    <a:lnTo>
                      <a:pt x="150" y="57"/>
                    </a:lnTo>
                    <a:lnTo>
                      <a:pt x="148" y="53"/>
                    </a:lnTo>
                    <a:lnTo>
                      <a:pt x="140" y="45"/>
                    </a:lnTo>
                    <a:lnTo>
                      <a:pt x="134" y="40"/>
                    </a:lnTo>
                    <a:lnTo>
                      <a:pt x="128" y="34"/>
                    </a:lnTo>
                    <a:lnTo>
                      <a:pt x="121" y="30"/>
                    </a:lnTo>
                    <a:lnTo>
                      <a:pt x="113" y="24"/>
                    </a:lnTo>
                    <a:lnTo>
                      <a:pt x="102" y="19"/>
                    </a:lnTo>
                    <a:lnTo>
                      <a:pt x="91" y="13"/>
                    </a:lnTo>
                    <a:lnTo>
                      <a:pt x="79" y="9"/>
                    </a:lnTo>
                    <a:lnTo>
                      <a:pt x="66" y="4"/>
                    </a:lnTo>
                    <a:lnTo>
                      <a:pt x="50" y="1"/>
                    </a:lnTo>
                    <a:lnTo>
                      <a:pt x="35" y="0"/>
                    </a:lnTo>
                    <a:lnTo>
                      <a:pt x="18" y="0"/>
                    </a:lnTo>
                    <a:lnTo>
                      <a:pt x="1" y="2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flipH="1">
                <a:off x="1791360" y="5737680"/>
                <a:ext cx="402480" cy="284400"/>
              </a:xfrm>
              <a:custGeom>
                <a:avLst/>
                <a:gdLst/>
                <a:ahLst/>
                <a:rect l="l" t="t" r="r" b="b"/>
                <a:pathLst>
                  <a:path w="925" h="750">
                    <a:moveTo>
                      <a:pt x="783" y="423"/>
                    </a:moveTo>
                    <a:lnTo>
                      <a:pt x="691" y="458"/>
                    </a:lnTo>
                    <a:lnTo>
                      <a:pt x="606" y="421"/>
                    </a:lnTo>
                    <a:lnTo>
                      <a:pt x="607" y="418"/>
                    </a:lnTo>
                    <a:lnTo>
                      <a:pt x="613" y="416"/>
                    </a:lnTo>
                    <a:lnTo>
                      <a:pt x="621" y="411"/>
                    </a:lnTo>
                    <a:lnTo>
                      <a:pt x="632" y="405"/>
                    </a:lnTo>
                    <a:lnTo>
                      <a:pt x="643" y="396"/>
                    </a:lnTo>
                    <a:lnTo>
                      <a:pt x="659" y="387"/>
                    </a:lnTo>
                    <a:lnTo>
                      <a:pt x="672" y="376"/>
                    </a:lnTo>
                    <a:lnTo>
                      <a:pt x="689" y="365"/>
                    </a:lnTo>
                    <a:lnTo>
                      <a:pt x="703" y="351"/>
                    </a:lnTo>
                    <a:lnTo>
                      <a:pt x="717" y="338"/>
                    </a:lnTo>
                    <a:lnTo>
                      <a:pt x="730" y="321"/>
                    </a:lnTo>
                    <a:lnTo>
                      <a:pt x="741" y="304"/>
                    </a:lnTo>
                    <a:lnTo>
                      <a:pt x="751" y="286"/>
                    </a:lnTo>
                    <a:lnTo>
                      <a:pt x="756" y="267"/>
                    </a:lnTo>
                    <a:lnTo>
                      <a:pt x="758" y="247"/>
                    </a:lnTo>
                    <a:lnTo>
                      <a:pt x="757" y="226"/>
                    </a:lnTo>
                    <a:lnTo>
                      <a:pt x="726" y="235"/>
                    </a:lnTo>
                    <a:lnTo>
                      <a:pt x="727" y="238"/>
                    </a:lnTo>
                    <a:lnTo>
                      <a:pt x="727" y="244"/>
                    </a:lnTo>
                    <a:lnTo>
                      <a:pt x="728" y="251"/>
                    </a:lnTo>
                    <a:lnTo>
                      <a:pt x="727" y="259"/>
                    </a:lnTo>
                    <a:lnTo>
                      <a:pt x="726" y="270"/>
                    </a:lnTo>
                    <a:lnTo>
                      <a:pt x="722" y="281"/>
                    </a:lnTo>
                    <a:lnTo>
                      <a:pt x="718" y="296"/>
                    </a:lnTo>
                    <a:lnTo>
                      <a:pt x="711" y="308"/>
                    </a:lnTo>
                    <a:lnTo>
                      <a:pt x="702" y="323"/>
                    </a:lnTo>
                    <a:lnTo>
                      <a:pt x="689" y="338"/>
                    </a:lnTo>
                    <a:lnTo>
                      <a:pt x="673" y="352"/>
                    </a:lnTo>
                    <a:lnTo>
                      <a:pt x="653" y="366"/>
                    </a:lnTo>
                    <a:lnTo>
                      <a:pt x="630" y="381"/>
                    </a:lnTo>
                    <a:lnTo>
                      <a:pt x="601" y="394"/>
                    </a:lnTo>
                    <a:lnTo>
                      <a:pt x="569" y="408"/>
                    </a:lnTo>
                    <a:lnTo>
                      <a:pt x="535" y="400"/>
                    </a:lnTo>
                    <a:lnTo>
                      <a:pt x="627" y="308"/>
                    </a:lnTo>
                    <a:lnTo>
                      <a:pt x="612" y="292"/>
                    </a:lnTo>
                    <a:lnTo>
                      <a:pt x="609" y="293"/>
                    </a:lnTo>
                    <a:lnTo>
                      <a:pt x="604" y="298"/>
                    </a:lnTo>
                    <a:lnTo>
                      <a:pt x="596" y="306"/>
                    </a:lnTo>
                    <a:lnTo>
                      <a:pt x="585" y="317"/>
                    </a:lnTo>
                    <a:lnTo>
                      <a:pt x="570" y="328"/>
                    </a:lnTo>
                    <a:lnTo>
                      <a:pt x="553" y="342"/>
                    </a:lnTo>
                    <a:lnTo>
                      <a:pt x="533" y="358"/>
                    </a:lnTo>
                    <a:lnTo>
                      <a:pt x="512" y="373"/>
                    </a:lnTo>
                    <a:lnTo>
                      <a:pt x="486" y="387"/>
                    </a:lnTo>
                    <a:lnTo>
                      <a:pt x="460" y="403"/>
                    </a:lnTo>
                    <a:lnTo>
                      <a:pt x="431" y="416"/>
                    </a:lnTo>
                    <a:lnTo>
                      <a:pt x="401" y="429"/>
                    </a:lnTo>
                    <a:lnTo>
                      <a:pt x="369" y="439"/>
                    </a:lnTo>
                    <a:lnTo>
                      <a:pt x="336" y="447"/>
                    </a:lnTo>
                    <a:lnTo>
                      <a:pt x="302" y="453"/>
                    </a:lnTo>
                    <a:lnTo>
                      <a:pt x="266" y="455"/>
                    </a:lnTo>
                    <a:lnTo>
                      <a:pt x="96" y="318"/>
                    </a:lnTo>
                    <a:lnTo>
                      <a:pt x="98" y="316"/>
                    </a:lnTo>
                    <a:lnTo>
                      <a:pt x="105" y="312"/>
                    </a:lnTo>
                    <a:lnTo>
                      <a:pt x="115" y="306"/>
                    </a:lnTo>
                    <a:lnTo>
                      <a:pt x="129" y="298"/>
                    </a:lnTo>
                    <a:lnTo>
                      <a:pt x="146" y="286"/>
                    </a:lnTo>
                    <a:lnTo>
                      <a:pt x="164" y="274"/>
                    </a:lnTo>
                    <a:lnTo>
                      <a:pt x="182" y="258"/>
                    </a:lnTo>
                    <a:lnTo>
                      <a:pt x="203" y="243"/>
                    </a:lnTo>
                    <a:lnTo>
                      <a:pt x="220" y="223"/>
                    </a:lnTo>
                    <a:lnTo>
                      <a:pt x="238" y="201"/>
                    </a:lnTo>
                    <a:lnTo>
                      <a:pt x="253" y="177"/>
                    </a:lnTo>
                    <a:lnTo>
                      <a:pt x="267" y="153"/>
                    </a:lnTo>
                    <a:lnTo>
                      <a:pt x="276" y="126"/>
                    </a:lnTo>
                    <a:lnTo>
                      <a:pt x="283" y="98"/>
                    </a:lnTo>
                    <a:lnTo>
                      <a:pt x="284" y="68"/>
                    </a:lnTo>
                    <a:lnTo>
                      <a:pt x="280" y="37"/>
                    </a:lnTo>
                    <a:lnTo>
                      <a:pt x="381" y="32"/>
                    </a:lnTo>
                    <a:lnTo>
                      <a:pt x="379" y="29"/>
                    </a:lnTo>
                    <a:lnTo>
                      <a:pt x="375" y="24"/>
                    </a:lnTo>
                    <a:lnTo>
                      <a:pt x="369" y="19"/>
                    </a:lnTo>
                    <a:lnTo>
                      <a:pt x="365" y="16"/>
                    </a:lnTo>
                    <a:lnTo>
                      <a:pt x="358" y="13"/>
                    </a:lnTo>
                    <a:lnTo>
                      <a:pt x="353" y="9"/>
                    </a:lnTo>
                    <a:lnTo>
                      <a:pt x="342" y="5"/>
                    </a:lnTo>
                    <a:lnTo>
                      <a:pt x="332" y="3"/>
                    </a:lnTo>
                    <a:lnTo>
                      <a:pt x="319" y="0"/>
                    </a:lnTo>
                    <a:lnTo>
                      <a:pt x="307" y="0"/>
                    </a:lnTo>
                    <a:lnTo>
                      <a:pt x="292" y="0"/>
                    </a:lnTo>
                    <a:lnTo>
                      <a:pt x="275" y="3"/>
                    </a:lnTo>
                    <a:lnTo>
                      <a:pt x="258" y="6"/>
                    </a:lnTo>
                    <a:lnTo>
                      <a:pt x="238" y="14"/>
                    </a:lnTo>
                    <a:lnTo>
                      <a:pt x="215" y="19"/>
                    </a:lnTo>
                    <a:lnTo>
                      <a:pt x="197" y="26"/>
                    </a:lnTo>
                    <a:lnTo>
                      <a:pt x="179" y="32"/>
                    </a:lnTo>
                    <a:lnTo>
                      <a:pt x="162" y="39"/>
                    </a:lnTo>
                    <a:lnTo>
                      <a:pt x="147" y="47"/>
                    </a:lnTo>
                    <a:lnTo>
                      <a:pt x="134" y="54"/>
                    </a:lnTo>
                    <a:lnTo>
                      <a:pt x="122" y="60"/>
                    </a:lnTo>
                    <a:lnTo>
                      <a:pt x="112" y="68"/>
                    </a:lnTo>
                    <a:lnTo>
                      <a:pt x="101" y="72"/>
                    </a:lnTo>
                    <a:lnTo>
                      <a:pt x="92" y="79"/>
                    </a:lnTo>
                    <a:lnTo>
                      <a:pt x="85" y="84"/>
                    </a:lnTo>
                    <a:lnTo>
                      <a:pt x="80" y="89"/>
                    </a:lnTo>
                    <a:lnTo>
                      <a:pt x="72" y="96"/>
                    </a:lnTo>
                    <a:lnTo>
                      <a:pt x="70" y="98"/>
                    </a:lnTo>
                    <a:lnTo>
                      <a:pt x="67" y="98"/>
                    </a:lnTo>
                    <a:lnTo>
                      <a:pt x="65" y="102"/>
                    </a:lnTo>
                    <a:lnTo>
                      <a:pt x="59" y="107"/>
                    </a:lnTo>
                    <a:lnTo>
                      <a:pt x="54" y="117"/>
                    </a:lnTo>
                    <a:lnTo>
                      <a:pt x="45" y="125"/>
                    </a:lnTo>
                    <a:lnTo>
                      <a:pt x="39" y="139"/>
                    </a:lnTo>
                    <a:lnTo>
                      <a:pt x="31" y="153"/>
                    </a:lnTo>
                    <a:lnTo>
                      <a:pt x="23" y="170"/>
                    </a:lnTo>
                    <a:lnTo>
                      <a:pt x="15" y="187"/>
                    </a:lnTo>
                    <a:lnTo>
                      <a:pt x="10" y="208"/>
                    </a:lnTo>
                    <a:lnTo>
                      <a:pt x="4" y="230"/>
                    </a:lnTo>
                    <a:lnTo>
                      <a:pt x="2" y="256"/>
                    </a:lnTo>
                    <a:lnTo>
                      <a:pt x="0" y="280"/>
                    </a:lnTo>
                    <a:lnTo>
                      <a:pt x="2" y="309"/>
                    </a:lnTo>
                    <a:lnTo>
                      <a:pt x="7" y="339"/>
                    </a:lnTo>
                    <a:lnTo>
                      <a:pt x="14" y="370"/>
                    </a:lnTo>
                    <a:lnTo>
                      <a:pt x="15" y="373"/>
                    </a:lnTo>
                    <a:lnTo>
                      <a:pt x="18" y="377"/>
                    </a:lnTo>
                    <a:lnTo>
                      <a:pt x="21" y="385"/>
                    </a:lnTo>
                    <a:lnTo>
                      <a:pt x="23" y="393"/>
                    </a:lnTo>
                    <a:lnTo>
                      <a:pt x="30" y="402"/>
                    </a:lnTo>
                    <a:lnTo>
                      <a:pt x="34" y="412"/>
                    </a:lnTo>
                    <a:lnTo>
                      <a:pt x="43" y="424"/>
                    </a:lnTo>
                    <a:lnTo>
                      <a:pt x="49" y="435"/>
                    </a:lnTo>
                    <a:lnTo>
                      <a:pt x="57" y="447"/>
                    </a:lnTo>
                    <a:lnTo>
                      <a:pt x="66" y="459"/>
                    </a:lnTo>
                    <a:lnTo>
                      <a:pt x="77" y="473"/>
                    </a:lnTo>
                    <a:lnTo>
                      <a:pt x="87" y="484"/>
                    </a:lnTo>
                    <a:lnTo>
                      <a:pt x="99" y="495"/>
                    </a:lnTo>
                    <a:lnTo>
                      <a:pt x="112" y="505"/>
                    </a:lnTo>
                    <a:lnTo>
                      <a:pt x="126" y="515"/>
                    </a:lnTo>
                    <a:lnTo>
                      <a:pt x="321" y="596"/>
                    </a:lnTo>
                    <a:lnTo>
                      <a:pt x="322" y="599"/>
                    </a:lnTo>
                    <a:lnTo>
                      <a:pt x="326" y="606"/>
                    </a:lnTo>
                    <a:lnTo>
                      <a:pt x="328" y="612"/>
                    </a:lnTo>
                    <a:lnTo>
                      <a:pt x="330" y="617"/>
                    </a:lnTo>
                    <a:lnTo>
                      <a:pt x="335" y="624"/>
                    </a:lnTo>
                    <a:lnTo>
                      <a:pt x="340" y="631"/>
                    </a:lnTo>
                    <a:lnTo>
                      <a:pt x="344" y="637"/>
                    </a:lnTo>
                    <a:lnTo>
                      <a:pt x="350" y="644"/>
                    </a:lnTo>
                    <a:lnTo>
                      <a:pt x="356" y="651"/>
                    </a:lnTo>
                    <a:lnTo>
                      <a:pt x="363" y="656"/>
                    </a:lnTo>
                    <a:lnTo>
                      <a:pt x="368" y="660"/>
                    </a:lnTo>
                    <a:lnTo>
                      <a:pt x="375" y="664"/>
                    </a:lnTo>
                    <a:lnTo>
                      <a:pt x="381" y="667"/>
                    </a:lnTo>
                    <a:lnTo>
                      <a:pt x="389" y="670"/>
                    </a:lnTo>
                    <a:lnTo>
                      <a:pt x="390" y="673"/>
                    </a:lnTo>
                    <a:lnTo>
                      <a:pt x="396" y="681"/>
                    </a:lnTo>
                    <a:lnTo>
                      <a:pt x="398" y="687"/>
                    </a:lnTo>
                    <a:lnTo>
                      <a:pt x="402" y="694"/>
                    </a:lnTo>
                    <a:lnTo>
                      <a:pt x="407" y="700"/>
                    </a:lnTo>
                    <a:lnTo>
                      <a:pt x="412" y="709"/>
                    </a:lnTo>
                    <a:lnTo>
                      <a:pt x="417" y="715"/>
                    </a:lnTo>
                    <a:lnTo>
                      <a:pt x="421" y="721"/>
                    </a:lnTo>
                    <a:lnTo>
                      <a:pt x="427" y="728"/>
                    </a:lnTo>
                    <a:lnTo>
                      <a:pt x="432" y="735"/>
                    </a:lnTo>
                    <a:lnTo>
                      <a:pt x="437" y="740"/>
                    </a:lnTo>
                    <a:lnTo>
                      <a:pt x="442" y="744"/>
                    </a:lnTo>
                    <a:lnTo>
                      <a:pt x="445" y="747"/>
                    </a:lnTo>
                    <a:lnTo>
                      <a:pt x="451" y="750"/>
                    </a:lnTo>
                    <a:lnTo>
                      <a:pt x="456" y="750"/>
                    </a:lnTo>
                    <a:lnTo>
                      <a:pt x="463" y="750"/>
                    </a:lnTo>
                    <a:lnTo>
                      <a:pt x="468" y="749"/>
                    </a:lnTo>
                    <a:lnTo>
                      <a:pt x="471" y="747"/>
                    </a:lnTo>
                    <a:lnTo>
                      <a:pt x="473" y="743"/>
                    </a:lnTo>
                    <a:lnTo>
                      <a:pt x="474" y="738"/>
                    </a:lnTo>
                    <a:lnTo>
                      <a:pt x="473" y="731"/>
                    </a:lnTo>
                    <a:lnTo>
                      <a:pt x="471" y="723"/>
                    </a:lnTo>
                    <a:lnTo>
                      <a:pt x="469" y="718"/>
                    </a:lnTo>
                    <a:lnTo>
                      <a:pt x="468" y="712"/>
                    </a:lnTo>
                    <a:lnTo>
                      <a:pt x="465" y="707"/>
                    </a:lnTo>
                    <a:lnTo>
                      <a:pt x="463" y="701"/>
                    </a:lnTo>
                    <a:lnTo>
                      <a:pt x="460" y="695"/>
                    </a:lnTo>
                    <a:lnTo>
                      <a:pt x="458" y="688"/>
                    </a:lnTo>
                    <a:lnTo>
                      <a:pt x="455" y="683"/>
                    </a:lnTo>
                    <a:lnTo>
                      <a:pt x="454" y="676"/>
                    </a:lnTo>
                    <a:lnTo>
                      <a:pt x="451" y="670"/>
                    </a:lnTo>
                    <a:lnTo>
                      <a:pt x="449" y="664"/>
                    </a:lnTo>
                    <a:lnTo>
                      <a:pt x="447" y="659"/>
                    </a:lnTo>
                    <a:lnTo>
                      <a:pt x="445" y="656"/>
                    </a:lnTo>
                    <a:lnTo>
                      <a:pt x="443" y="651"/>
                    </a:lnTo>
                    <a:lnTo>
                      <a:pt x="443" y="648"/>
                    </a:lnTo>
                    <a:lnTo>
                      <a:pt x="443" y="646"/>
                    </a:lnTo>
                    <a:lnTo>
                      <a:pt x="444" y="645"/>
                    </a:lnTo>
                    <a:lnTo>
                      <a:pt x="447" y="643"/>
                    </a:lnTo>
                    <a:lnTo>
                      <a:pt x="453" y="645"/>
                    </a:lnTo>
                    <a:lnTo>
                      <a:pt x="454" y="645"/>
                    </a:lnTo>
                    <a:lnTo>
                      <a:pt x="456" y="649"/>
                    </a:lnTo>
                    <a:lnTo>
                      <a:pt x="460" y="653"/>
                    </a:lnTo>
                    <a:lnTo>
                      <a:pt x="464" y="660"/>
                    </a:lnTo>
                    <a:lnTo>
                      <a:pt x="468" y="666"/>
                    </a:lnTo>
                    <a:lnTo>
                      <a:pt x="472" y="674"/>
                    </a:lnTo>
                    <a:lnTo>
                      <a:pt x="479" y="683"/>
                    </a:lnTo>
                    <a:lnTo>
                      <a:pt x="484" y="691"/>
                    </a:lnTo>
                    <a:lnTo>
                      <a:pt x="490" y="698"/>
                    </a:lnTo>
                    <a:lnTo>
                      <a:pt x="495" y="707"/>
                    </a:lnTo>
                    <a:lnTo>
                      <a:pt x="501" y="712"/>
                    </a:lnTo>
                    <a:lnTo>
                      <a:pt x="508" y="720"/>
                    </a:lnTo>
                    <a:lnTo>
                      <a:pt x="514" y="723"/>
                    </a:lnTo>
                    <a:lnTo>
                      <a:pt x="522" y="727"/>
                    </a:lnTo>
                    <a:lnTo>
                      <a:pt x="527" y="729"/>
                    </a:lnTo>
                    <a:lnTo>
                      <a:pt x="535" y="729"/>
                    </a:lnTo>
                    <a:lnTo>
                      <a:pt x="538" y="725"/>
                    </a:lnTo>
                    <a:lnTo>
                      <a:pt x="542" y="720"/>
                    </a:lnTo>
                    <a:lnTo>
                      <a:pt x="543" y="712"/>
                    </a:lnTo>
                    <a:lnTo>
                      <a:pt x="544" y="706"/>
                    </a:lnTo>
                    <a:lnTo>
                      <a:pt x="542" y="697"/>
                    </a:lnTo>
                    <a:lnTo>
                      <a:pt x="541" y="688"/>
                    </a:lnTo>
                    <a:lnTo>
                      <a:pt x="537" y="679"/>
                    </a:lnTo>
                    <a:lnTo>
                      <a:pt x="535" y="672"/>
                    </a:lnTo>
                    <a:lnTo>
                      <a:pt x="531" y="663"/>
                    </a:lnTo>
                    <a:lnTo>
                      <a:pt x="526" y="653"/>
                    </a:lnTo>
                    <a:lnTo>
                      <a:pt x="523" y="645"/>
                    </a:lnTo>
                    <a:lnTo>
                      <a:pt x="520" y="639"/>
                    </a:lnTo>
                    <a:lnTo>
                      <a:pt x="516" y="632"/>
                    </a:lnTo>
                    <a:lnTo>
                      <a:pt x="514" y="628"/>
                    </a:lnTo>
                    <a:lnTo>
                      <a:pt x="513" y="625"/>
                    </a:lnTo>
                    <a:lnTo>
                      <a:pt x="514" y="625"/>
                    </a:lnTo>
                    <a:lnTo>
                      <a:pt x="520" y="630"/>
                    </a:lnTo>
                    <a:lnTo>
                      <a:pt x="527" y="633"/>
                    </a:lnTo>
                    <a:lnTo>
                      <a:pt x="537" y="639"/>
                    </a:lnTo>
                    <a:lnTo>
                      <a:pt x="546" y="645"/>
                    </a:lnTo>
                    <a:lnTo>
                      <a:pt x="556" y="652"/>
                    </a:lnTo>
                    <a:lnTo>
                      <a:pt x="564" y="657"/>
                    </a:lnTo>
                    <a:lnTo>
                      <a:pt x="569" y="663"/>
                    </a:lnTo>
                    <a:lnTo>
                      <a:pt x="571" y="666"/>
                    </a:lnTo>
                    <a:lnTo>
                      <a:pt x="578" y="670"/>
                    </a:lnTo>
                    <a:lnTo>
                      <a:pt x="585" y="674"/>
                    </a:lnTo>
                    <a:lnTo>
                      <a:pt x="592" y="676"/>
                    </a:lnTo>
                    <a:lnTo>
                      <a:pt x="600" y="677"/>
                    </a:lnTo>
                    <a:lnTo>
                      <a:pt x="607" y="678"/>
                    </a:lnTo>
                    <a:lnTo>
                      <a:pt x="612" y="677"/>
                    </a:lnTo>
                    <a:lnTo>
                      <a:pt x="617" y="676"/>
                    </a:lnTo>
                    <a:lnTo>
                      <a:pt x="617" y="674"/>
                    </a:lnTo>
                    <a:lnTo>
                      <a:pt x="617" y="669"/>
                    </a:lnTo>
                    <a:lnTo>
                      <a:pt x="615" y="663"/>
                    </a:lnTo>
                    <a:lnTo>
                      <a:pt x="612" y="658"/>
                    </a:lnTo>
                    <a:lnTo>
                      <a:pt x="607" y="649"/>
                    </a:lnTo>
                    <a:lnTo>
                      <a:pt x="604" y="641"/>
                    </a:lnTo>
                    <a:lnTo>
                      <a:pt x="597" y="631"/>
                    </a:lnTo>
                    <a:lnTo>
                      <a:pt x="592" y="622"/>
                    </a:lnTo>
                    <a:lnTo>
                      <a:pt x="585" y="611"/>
                    </a:lnTo>
                    <a:lnTo>
                      <a:pt x="578" y="602"/>
                    </a:lnTo>
                    <a:lnTo>
                      <a:pt x="570" y="592"/>
                    </a:lnTo>
                    <a:lnTo>
                      <a:pt x="564" y="582"/>
                    </a:lnTo>
                    <a:lnTo>
                      <a:pt x="557" y="573"/>
                    </a:lnTo>
                    <a:lnTo>
                      <a:pt x="550" y="566"/>
                    </a:lnTo>
                    <a:lnTo>
                      <a:pt x="545" y="560"/>
                    </a:lnTo>
                    <a:lnTo>
                      <a:pt x="539" y="557"/>
                    </a:lnTo>
                    <a:lnTo>
                      <a:pt x="534" y="551"/>
                    </a:lnTo>
                    <a:lnTo>
                      <a:pt x="527" y="549"/>
                    </a:lnTo>
                    <a:lnTo>
                      <a:pt x="523" y="547"/>
                    </a:lnTo>
                    <a:lnTo>
                      <a:pt x="518" y="547"/>
                    </a:lnTo>
                    <a:lnTo>
                      <a:pt x="511" y="547"/>
                    </a:lnTo>
                    <a:lnTo>
                      <a:pt x="505" y="551"/>
                    </a:lnTo>
                    <a:lnTo>
                      <a:pt x="501" y="555"/>
                    </a:lnTo>
                    <a:lnTo>
                      <a:pt x="497" y="560"/>
                    </a:lnTo>
                    <a:lnTo>
                      <a:pt x="496" y="563"/>
                    </a:lnTo>
                    <a:lnTo>
                      <a:pt x="496" y="565"/>
                    </a:lnTo>
                    <a:lnTo>
                      <a:pt x="484" y="571"/>
                    </a:lnTo>
                    <a:lnTo>
                      <a:pt x="481" y="566"/>
                    </a:lnTo>
                    <a:lnTo>
                      <a:pt x="474" y="559"/>
                    </a:lnTo>
                    <a:lnTo>
                      <a:pt x="469" y="554"/>
                    </a:lnTo>
                    <a:lnTo>
                      <a:pt x="464" y="551"/>
                    </a:lnTo>
                    <a:lnTo>
                      <a:pt x="459" y="549"/>
                    </a:lnTo>
                    <a:lnTo>
                      <a:pt x="454" y="550"/>
                    </a:lnTo>
                    <a:lnTo>
                      <a:pt x="443" y="555"/>
                    </a:lnTo>
                    <a:lnTo>
                      <a:pt x="438" y="564"/>
                    </a:lnTo>
                    <a:lnTo>
                      <a:pt x="433" y="571"/>
                    </a:lnTo>
                    <a:lnTo>
                      <a:pt x="432" y="575"/>
                    </a:lnTo>
                    <a:lnTo>
                      <a:pt x="358" y="524"/>
                    </a:lnTo>
                    <a:lnTo>
                      <a:pt x="451" y="497"/>
                    </a:lnTo>
                    <a:lnTo>
                      <a:pt x="625" y="522"/>
                    </a:lnTo>
                    <a:lnTo>
                      <a:pt x="623" y="522"/>
                    </a:lnTo>
                    <a:lnTo>
                      <a:pt x="622" y="526"/>
                    </a:lnTo>
                    <a:lnTo>
                      <a:pt x="621" y="530"/>
                    </a:lnTo>
                    <a:lnTo>
                      <a:pt x="620" y="536"/>
                    </a:lnTo>
                    <a:lnTo>
                      <a:pt x="619" y="541"/>
                    </a:lnTo>
                    <a:lnTo>
                      <a:pt x="618" y="547"/>
                    </a:lnTo>
                    <a:lnTo>
                      <a:pt x="618" y="551"/>
                    </a:lnTo>
                    <a:lnTo>
                      <a:pt x="619" y="557"/>
                    </a:lnTo>
                    <a:lnTo>
                      <a:pt x="621" y="560"/>
                    </a:lnTo>
                    <a:lnTo>
                      <a:pt x="627" y="569"/>
                    </a:lnTo>
                    <a:lnTo>
                      <a:pt x="636" y="576"/>
                    </a:lnTo>
                    <a:lnTo>
                      <a:pt x="646" y="586"/>
                    </a:lnTo>
                    <a:lnTo>
                      <a:pt x="654" y="594"/>
                    </a:lnTo>
                    <a:lnTo>
                      <a:pt x="664" y="603"/>
                    </a:lnTo>
                    <a:lnTo>
                      <a:pt x="672" y="609"/>
                    </a:lnTo>
                    <a:lnTo>
                      <a:pt x="681" y="614"/>
                    </a:lnTo>
                    <a:lnTo>
                      <a:pt x="685" y="614"/>
                    </a:lnTo>
                    <a:lnTo>
                      <a:pt x="692" y="614"/>
                    </a:lnTo>
                    <a:lnTo>
                      <a:pt x="696" y="611"/>
                    </a:lnTo>
                    <a:lnTo>
                      <a:pt x="701" y="607"/>
                    </a:lnTo>
                    <a:lnTo>
                      <a:pt x="700" y="601"/>
                    </a:lnTo>
                    <a:lnTo>
                      <a:pt x="695" y="592"/>
                    </a:lnTo>
                    <a:lnTo>
                      <a:pt x="692" y="585"/>
                    </a:lnTo>
                    <a:lnTo>
                      <a:pt x="686" y="581"/>
                    </a:lnTo>
                    <a:lnTo>
                      <a:pt x="680" y="573"/>
                    </a:lnTo>
                    <a:lnTo>
                      <a:pt x="672" y="566"/>
                    </a:lnTo>
                    <a:lnTo>
                      <a:pt x="695" y="550"/>
                    </a:lnTo>
                    <a:lnTo>
                      <a:pt x="699" y="551"/>
                    </a:lnTo>
                    <a:lnTo>
                      <a:pt x="703" y="553"/>
                    </a:lnTo>
                    <a:lnTo>
                      <a:pt x="709" y="557"/>
                    </a:lnTo>
                    <a:lnTo>
                      <a:pt x="715" y="559"/>
                    </a:lnTo>
                    <a:lnTo>
                      <a:pt x="723" y="563"/>
                    </a:lnTo>
                    <a:lnTo>
                      <a:pt x="732" y="568"/>
                    </a:lnTo>
                    <a:lnTo>
                      <a:pt x="741" y="572"/>
                    </a:lnTo>
                    <a:lnTo>
                      <a:pt x="749" y="576"/>
                    </a:lnTo>
                    <a:lnTo>
                      <a:pt x="758" y="581"/>
                    </a:lnTo>
                    <a:lnTo>
                      <a:pt x="766" y="584"/>
                    </a:lnTo>
                    <a:lnTo>
                      <a:pt x="775" y="589"/>
                    </a:lnTo>
                    <a:lnTo>
                      <a:pt x="782" y="592"/>
                    </a:lnTo>
                    <a:lnTo>
                      <a:pt x="788" y="594"/>
                    </a:lnTo>
                    <a:lnTo>
                      <a:pt x="794" y="596"/>
                    </a:lnTo>
                    <a:lnTo>
                      <a:pt x="798" y="599"/>
                    </a:lnTo>
                    <a:lnTo>
                      <a:pt x="804" y="599"/>
                    </a:lnTo>
                    <a:lnTo>
                      <a:pt x="810" y="597"/>
                    </a:lnTo>
                    <a:lnTo>
                      <a:pt x="814" y="594"/>
                    </a:lnTo>
                    <a:lnTo>
                      <a:pt x="818" y="593"/>
                    </a:lnTo>
                    <a:lnTo>
                      <a:pt x="822" y="584"/>
                    </a:lnTo>
                    <a:lnTo>
                      <a:pt x="826" y="580"/>
                    </a:lnTo>
                    <a:lnTo>
                      <a:pt x="822" y="574"/>
                    </a:lnTo>
                    <a:lnTo>
                      <a:pt x="816" y="569"/>
                    </a:lnTo>
                    <a:lnTo>
                      <a:pt x="810" y="563"/>
                    </a:lnTo>
                    <a:lnTo>
                      <a:pt x="806" y="560"/>
                    </a:lnTo>
                    <a:lnTo>
                      <a:pt x="800" y="555"/>
                    </a:lnTo>
                    <a:lnTo>
                      <a:pt x="796" y="552"/>
                    </a:lnTo>
                    <a:lnTo>
                      <a:pt x="789" y="547"/>
                    </a:lnTo>
                    <a:lnTo>
                      <a:pt x="784" y="543"/>
                    </a:lnTo>
                    <a:lnTo>
                      <a:pt x="778" y="539"/>
                    </a:lnTo>
                    <a:lnTo>
                      <a:pt x="775" y="536"/>
                    </a:lnTo>
                    <a:lnTo>
                      <a:pt x="767" y="531"/>
                    </a:lnTo>
                    <a:lnTo>
                      <a:pt x="765" y="530"/>
                    </a:lnTo>
                    <a:lnTo>
                      <a:pt x="768" y="530"/>
                    </a:lnTo>
                    <a:lnTo>
                      <a:pt x="772" y="531"/>
                    </a:lnTo>
                    <a:lnTo>
                      <a:pt x="777" y="533"/>
                    </a:lnTo>
                    <a:lnTo>
                      <a:pt x="783" y="536"/>
                    </a:lnTo>
                    <a:lnTo>
                      <a:pt x="789" y="537"/>
                    </a:lnTo>
                    <a:lnTo>
                      <a:pt x="797" y="540"/>
                    </a:lnTo>
                    <a:lnTo>
                      <a:pt x="806" y="543"/>
                    </a:lnTo>
                    <a:lnTo>
                      <a:pt x="814" y="545"/>
                    </a:lnTo>
                    <a:lnTo>
                      <a:pt x="821" y="547"/>
                    </a:lnTo>
                    <a:lnTo>
                      <a:pt x="829" y="549"/>
                    </a:lnTo>
                    <a:lnTo>
                      <a:pt x="837" y="551"/>
                    </a:lnTo>
                    <a:lnTo>
                      <a:pt x="843" y="552"/>
                    </a:lnTo>
                    <a:lnTo>
                      <a:pt x="850" y="554"/>
                    </a:lnTo>
                    <a:lnTo>
                      <a:pt x="856" y="555"/>
                    </a:lnTo>
                    <a:lnTo>
                      <a:pt x="859" y="557"/>
                    </a:lnTo>
                    <a:lnTo>
                      <a:pt x="869" y="552"/>
                    </a:lnTo>
                    <a:lnTo>
                      <a:pt x="878" y="544"/>
                    </a:lnTo>
                    <a:lnTo>
                      <a:pt x="882" y="534"/>
                    </a:lnTo>
                    <a:lnTo>
                      <a:pt x="884" y="528"/>
                    </a:lnTo>
                    <a:lnTo>
                      <a:pt x="881" y="524"/>
                    </a:lnTo>
                    <a:lnTo>
                      <a:pt x="879" y="523"/>
                    </a:lnTo>
                    <a:lnTo>
                      <a:pt x="874" y="520"/>
                    </a:lnTo>
                    <a:lnTo>
                      <a:pt x="869" y="517"/>
                    </a:lnTo>
                    <a:lnTo>
                      <a:pt x="862" y="512"/>
                    </a:lnTo>
                    <a:lnTo>
                      <a:pt x="856" y="509"/>
                    </a:lnTo>
                    <a:lnTo>
                      <a:pt x="848" y="503"/>
                    </a:lnTo>
                    <a:lnTo>
                      <a:pt x="841" y="500"/>
                    </a:lnTo>
                    <a:lnTo>
                      <a:pt x="832" y="496"/>
                    </a:lnTo>
                    <a:lnTo>
                      <a:pt x="825" y="491"/>
                    </a:lnTo>
                    <a:lnTo>
                      <a:pt x="818" y="488"/>
                    </a:lnTo>
                    <a:lnTo>
                      <a:pt x="812" y="485"/>
                    </a:lnTo>
                    <a:lnTo>
                      <a:pt x="807" y="481"/>
                    </a:lnTo>
                    <a:lnTo>
                      <a:pt x="804" y="479"/>
                    </a:lnTo>
                    <a:lnTo>
                      <a:pt x="800" y="478"/>
                    </a:lnTo>
                    <a:lnTo>
                      <a:pt x="816" y="471"/>
                    </a:lnTo>
                    <a:lnTo>
                      <a:pt x="820" y="474"/>
                    </a:lnTo>
                    <a:lnTo>
                      <a:pt x="824" y="476"/>
                    </a:lnTo>
                    <a:lnTo>
                      <a:pt x="831" y="479"/>
                    </a:lnTo>
                    <a:lnTo>
                      <a:pt x="837" y="482"/>
                    </a:lnTo>
                    <a:lnTo>
                      <a:pt x="846" y="488"/>
                    </a:lnTo>
                    <a:lnTo>
                      <a:pt x="856" y="490"/>
                    </a:lnTo>
                    <a:lnTo>
                      <a:pt x="866" y="496"/>
                    </a:lnTo>
                    <a:lnTo>
                      <a:pt x="874" y="499"/>
                    </a:lnTo>
                    <a:lnTo>
                      <a:pt x="883" y="502"/>
                    </a:lnTo>
                    <a:lnTo>
                      <a:pt x="892" y="505"/>
                    </a:lnTo>
                    <a:lnTo>
                      <a:pt x="901" y="508"/>
                    </a:lnTo>
                    <a:lnTo>
                      <a:pt x="908" y="508"/>
                    </a:lnTo>
                    <a:lnTo>
                      <a:pt x="914" y="508"/>
                    </a:lnTo>
                    <a:lnTo>
                      <a:pt x="919" y="506"/>
                    </a:lnTo>
                    <a:lnTo>
                      <a:pt x="923" y="502"/>
                    </a:lnTo>
                    <a:lnTo>
                      <a:pt x="924" y="494"/>
                    </a:lnTo>
                    <a:lnTo>
                      <a:pt x="925" y="488"/>
                    </a:lnTo>
                    <a:lnTo>
                      <a:pt x="924" y="481"/>
                    </a:lnTo>
                    <a:lnTo>
                      <a:pt x="923" y="478"/>
                    </a:lnTo>
                    <a:lnTo>
                      <a:pt x="915" y="474"/>
                    </a:lnTo>
                    <a:lnTo>
                      <a:pt x="910" y="471"/>
                    </a:lnTo>
                    <a:lnTo>
                      <a:pt x="904" y="468"/>
                    </a:lnTo>
                    <a:lnTo>
                      <a:pt x="900" y="467"/>
                    </a:lnTo>
                    <a:lnTo>
                      <a:pt x="893" y="464"/>
                    </a:lnTo>
                    <a:lnTo>
                      <a:pt x="888" y="461"/>
                    </a:lnTo>
                    <a:lnTo>
                      <a:pt x="880" y="458"/>
                    </a:lnTo>
                    <a:lnTo>
                      <a:pt x="874" y="455"/>
                    </a:lnTo>
                    <a:lnTo>
                      <a:pt x="869" y="454"/>
                    </a:lnTo>
                    <a:lnTo>
                      <a:pt x="867" y="454"/>
                    </a:lnTo>
                    <a:lnTo>
                      <a:pt x="860" y="450"/>
                    </a:lnTo>
                    <a:lnTo>
                      <a:pt x="853" y="448"/>
                    </a:lnTo>
                    <a:lnTo>
                      <a:pt x="843" y="444"/>
                    </a:lnTo>
                    <a:lnTo>
                      <a:pt x="835" y="440"/>
                    </a:lnTo>
                    <a:lnTo>
                      <a:pt x="825" y="436"/>
                    </a:lnTo>
                    <a:lnTo>
                      <a:pt x="818" y="433"/>
                    </a:lnTo>
                    <a:lnTo>
                      <a:pt x="811" y="431"/>
                    </a:lnTo>
                    <a:lnTo>
                      <a:pt x="810" y="431"/>
                    </a:lnTo>
                    <a:lnTo>
                      <a:pt x="783" y="423"/>
                    </a:lnTo>
                    <a:lnTo>
                      <a:pt x="783" y="423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H="1">
                <a:off x="1827000" y="5664240"/>
                <a:ext cx="86040" cy="27000"/>
              </a:xfrm>
              <a:custGeom>
                <a:avLst/>
                <a:gdLst/>
                <a:ahLst/>
                <a:rect l="l" t="t" r="r" b="b"/>
                <a:pathLst>
                  <a:path w="197" h="72">
                    <a:moveTo>
                      <a:pt x="5" y="43"/>
                    </a:moveTo>
                    <a:lnTo>
                      <a:pt x="0" y="18"/>
                    </a:lnTo>
                    <a:lnTo>
                      <a:pt x="10" y="18"/>
                    </a:lnTo>
                    <a:lnTo>
                      <a:pt x="11" y="38"/>
                    </a:lnTo>
                    <a:lnTo>
                      <a:pt x="36" y="35"/>
                    </a:lnTo>
                    <a:lnTo>
                      <a:pt x="34" y="8"/>
                    </a:lnTo>
                    <a:lnTo>
                      <a:pt x="44" y="5"/>
                    </a:lnTo>
                    <a:lnTo>
                      <a:pt x="45" y="31"/>
                    </a:lnTo>
                    <a:lnTo>
                      <a:pt x="62" y="30"/>
                    </a:lnTo>
                    <a:lnTo>
                      <a:pt x="62" y="0"/>
                    </a:lnTo>
                    <a:lnTo>
                      <a:pt x="74" y="4"/>
                    </a:lnTo>
                    <a:lnTo>
                      <a:pt x="72" y="33"/>
                    </a:lnTo>
                    <a:lnTo>
                      <a:pt x="93" y="38"/>
                    </a:lnTo>
                    <a:lnTo>
                      <a:pt x="96" y="10"/>
                    </a:lnTo>
                    <a:lnTo>
                      <a:pt x="110" y="14"/>
                    </a:lnTo>
                    <a:lnTo>
                      <a:pt x="103" y="39"/>
                    </a:lnTo>
                    <a:lnTo>
                      <a:pt x="125" y="48"/>
                    </a:lnTo>
                    <a:lnTo>
                      <a:pt x="131" y="21"/>
                    </a:lnTo>
                    <a:lnTo>
                      <a:pt x="145" y="25"/>
                    </a:lnTo>
                    <a:lnTo>
                      <a:pt x="133" y="49"/>
                    </a:lnTo>
                    <a:lnTo>
                      <a:pt x="149" y="54"/>
                    </a:lnTo>
                    <a:lnTo>
                      <a:pt x="156" y="31"/>
                    </a:lnTo>
                    <a:lnTo>
                      <a:pt x="168" y="35"/>
                    </a:lnTo>
                    <a:lnTo>
                      <a:pt x="154" y="57"/>
                    </a:lnTo>
                    <a:lnTo>
                      <a:pt x="175" y="64"/>
                    </a:lnTo>
                    <a:lnTo>
                      <a:pt x="182" y="41"/>
                    </a:lnTo>
                    <a:lnTo>
                      <a:pt x="197" y="51"/>
                    </a:lnTo>
                    <a:lnTo>
                      <a:pt x="180" y="72"/>
                    </a:lnTo>
                    <a:lnTo>
                      <a:pt x="120" y="54"/>
                    </a:lnTo>
                    <a:lnTo>
                      <a:pt x="59" y="43"/>
                    </a:lnTo>
                    <a:lnTo>
                      <a:pt x="5" y="43"/>
                    </a:lnTo>
                    <a:lnTo>
                      <a:pt x="5" y="43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flipH="1">
                <a:off x="1854720" y="5697000"/>
                <a:ext cx="76320" cy="43920"/>
              </a:xfrm>
              <a:custGeom>
                <a:avLst/>
                <a:gdLst/>
                <a:ahLst/>
                <a:rect l="l" t="t" r="r" b="b"/>
                <a:pathLst>
                  <a:path w="175" h="115">
                    <a:moveTo>
                      <a:pt x="175" y="92"/>
                    </a:moveTo>
                    <a:lnTo>
                      <a:pt x="171" y="115"/>
                    </a:lnTo>
                    <a:lnTo>
                      <a:pt x="161" y="111"/>
                    </a:lnTo>
                    <a:lnTo>
                      <a:pt x="166" y="93"/>
                    </a:lnTo>
                    <a:lnTo>
                      <a:pt x="145" y="85"/>
                    </a:lnTo>
                    <a:lnTo>
                      <a:pt x="137" y="113"/>
                    </a:lnTo>
                    <a:lnTo>
                      <a:pt x="127" y="110"/>
                    </a:lnTo>
                    <a:lnTo>
                      <a:pt x="136" y="86"/>
                    </a:lnTo>
                    <a:lnTo>
                      <a:pt x="118" y="83"/>
                    </a:lnTo>
                    <a:lnTo>
                      <a:pt x="109" y="109"/>
                    </a:lnTo>
                    <a:lnTo>
                      <a:pt x="97" y="100"/>
                    </a:lnTo>
                    <a:lnTo>
                      <a:pt x="110" y="75"/>
                    </a:lnTo>
                    <a:lnTo>
                      <a:pt x="91" y="63"/>
                    </a:lnTo>
                    <a:lnTo>
                      <a:pt x="80" y="86"/>
                    </a:lnTo>
                    <a:lnTo>
                      <a:pt x="67" y="78"/>
                    </a:lnTo>
                    <a:lnTo>
                      <a:pt x="84" y="59"/>
                    </a:lnTo>
                    <a:lnTo>
                      <a:pt x="66" y="43"/>
                    </a:lnTo>
                    <a:lnTo>
                      <a:pt x="50" y="64"/>
                    </a:lnTo>
                    <a:lnTo>
                      <a:pt x="38" y="57"/>
                    </a:lnTo>
                    <a:lnTo>
                      <a:pt x="58" y="39"/>
                    </a:lnTo>
                    <a:lnTo>
                      <a:pt x="46" y="27"/>
                    </a:lnTo>
                    <a:lnTo>
                      <a:pt x="30" y="47"/>
                    </a:lnTo>
                    <a:lnTo>
                      <a:pt x="21" y="37"/>
                    </a:lnTo>
                    <a:lnTo>
                      <a:pt x="40" y="21"/>
                    </a:lnTo>
                    <a:lnTo>
                      <a:pt x="25" y="8"/>
                    </a:lnTo>
                    <a:lnTo>
                      <a:pt x="11" y="29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74" y="37"/>
                    </a:lnTo>
                    <a:lnTo>
                      <a:pt x="127" y="72"/>
                    </a:lnTo>
                    <a:lnTo>
                      <a:pt x="175" y="92"/>
                    </a:lnTo>
                    <a:lnTo>
                      <a:pt x="175" y="92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5" name=""/>
            <p:cNvGrpSpPr/>
            <p:nvPr/>
          </p:nvGrpSpPr>
          <p:grpSpPr>
            <a:xfrm>
              <a:off x="4999320" y="5217840"/>
              <a:ext cx="1934640" cy="1400040"/>
              <a:chOff x="4999320" y="5217840"/>
              <a:chExt cx="1934640" cy="1400040"/>
            </a:xfrm>
          </p:grpSpPr>
          <p:pic>
            <p:nvPicPr>
              <p:cNvPr id="19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9320" y="5217840"/>
                <a:ext cx="1934640" cy="1400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47" name=""/>
              <p:cNvGrpSpPr/>
              <p:nvPr/>
            </p:nvGrpSpPr>
            <p:grpSpPr>
              <a:xfrm>
                <a:off x="5935680" y="6170040"/>
                <a:ext cx="561600" cy="393480"/>
                <a:chOff x="5935680" y="6170040"/>
                <a:chExt cx="561600" cy="393480"/>
              </a:xfrm>
            </p:grpSpPr>
            <p:pic>
              <p:nvPicPr>
                <p:cNvPr id="1948" name="" descr=""/>
                <p:cNvPicPr/>
                <p:nvPr/>
              </p:nvPicPr>
              <p:blipFill>
                <a:blip r:embed="rId5"/>
                <a:stretch/>
              </p:blipFill>
              <p:spPr>
                <a:xfrm flipH="1" rot="16200000">
                  <a:off x="6104880" y="6171120"/>
                  <a:ext cx="288720" cy="49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9" name="" descr=""/>
                <p:cNvPicPr/>
                <p:nvPr/>
              </p:nvPicPr>
              <p:blipFill>
                <a:blip r:embed="rId6"/>
                <a:stretch/>
              </p:blipFill>
              <p:spPr>
                <a:xfrm flipH="1" rot="16200000">
                  <a:off x="6039000" y="6066360"/>
                  <a:ext cx="288720" cy="495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950" name=""/>
            <p:cNvGrpSpPr/>
            <p:nvPr/>
          </p:nvGrpSpPr>
          <p:grpSpPr>
            <a:xfrm>
              <a:off x="2751840" y="4343400"/>
              <a:ext cx="3195720" cy="2328840"/>
              <a:chOff x="2751840" y="4343400"/>
              <a:chExt cx="3195720" cy="2328840"/>
            </a:xfrm>
          </p:grpSpPr>
          <p:sp>
            <p:nvSpPr>
              <p:cNvPr id="1951" name=""/>
              <p:cNvSpPr/>
              <p:nvPr/>
            </p:nvSpPr>
            <p:spPr>
              <a:xfrm>
                <a:off x="2751840" y="4584240"/>
                <a:ext cx="3034080" cy="2088000"/>
              </a:xfrm>
              <a:custGeom>
                <a:avLst/>
                <a:gdLst/>
                <a:ahLst/>
                <a:rect l="l" t="t" r="r" b="b"/>
                <a:pathLst>
                  <a:path w="3216" h="2304">
                    <a:moveTo>
                      <a:pt x="0" y="2304"/>
                    </a:moveTo>
                    <a:cubicBezTo>
                      <a:pt x="208" y="2195"/>
                      <a:pt x="961" y="1909"/>
                      <a:pt x="1248" y="1648"/>
                    </a:cubicBezTo>
                    <a:cubicBezTo>
                      <a:pt x="1535" y="1387"/>
                      <a:pt x="1392" y="1011"/>
                      <a:pt x="1720" y="736"/>
                    </a:cubicBezTo>
                    <a:cubicBezTo>
                      <a:pt x="2048" y="461"/>
                      <a:pt x="2904" y="153"/>
                      <a:pt x="3216" y="0"/>
                    </a:cubicBezTo>
                  </a:path>
                </a:pathLst>
              </a:custGeom>
              <a:noFill/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834080" y="434340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533560" y="466236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4" name=""/>
            <p:cNvGrpSpPr/>
            <p:nvPr/>
          </p:nvGrpSpPr>
          <p:grpSpPr>
            <a:xfrm>
              <a:off x="3694680" y="5163840"/>
              <a:ext cx="951480" cy="1202760"/>
              <a:chOff x="3694680" y="5163840"/>
              <a:chExt cx="951480" cy="1202760"/>
            </a:xfrm>
          </p:grpSpPr>
          <p:sp>
            <p:nvSpPr>
              <p:cNvPr id="1955" name=""/>
              <p:cNvSpPr/>
              <p:nvPr/>
            </p:nvSpPr>
            <p:spPr>
              <a:xfrm>
                <a:off x="3694680" y="5989680"/>
                <a:ext cx="317160" cy="303840"/>
              </a:xfrm>
              <a:prstGeom prst="line">
                <a:avLst/>
              </a:prstGeom>
              <a:ln w="38160">
                <a:solidFill>
                  <a:srgbClr val="cc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3875760" y="5859360"/>
                <a:ext cx="317160" cy="303840"/>
              </a:xfrm>
              <a:prstGeom prst="line">
                <a:avLst/>
              </a:prstGeom>
              <a:ln w="38160">
                <a:solidFill>
                  <a:srgbClr val="cc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011840" y="5641920"/>
                <a:ext cx="317160" cy="304200"/>
              </a:xfrm>
              <a:prstGeom prst="line">
                <a:avLst/>
              </a:prstGeom>
              <a:ln w="38160">
                <a:solidFill>
                  <a:srgbClr val="cc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102560" y="5337720"/>
                <a:ext cx="317160" cy="303840"/>
              </a:xfrm>
              <a:prstGeom prst="line">
                <a:avLst/>
              </a:prstGeom>
              <a:ln w="38160">
                <a:solidFill>
                  <a:srgbClr val="cc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329000" y="5163840"/>
                <a:ext cx="317160" cy="304200"/>
              </a:xfrm>
              <a:prstGeom prst="line">
                <a:avLst/>
              </a:prstGeom>
              <a:ln w="38160">
                <a:solidFill>
                  <a:srgbClr val="cc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3736080" y="54046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265640" y="5815800"/>
                <a:ext cx="3499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2" name=""/>
          <p:cNvSpPr/>
          <p:nvPr/>
        </p:nvSpPr>
        <p:spPr>
          <a:xfrm>
            <a:off x="2160" y="2038320"/>
            <a:ext cx="848052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874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Prove: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flow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alg eith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nds a better flow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r finds cut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such that rate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= cap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lg stops with an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for which rate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= cap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witnesses that the optimal flow cant be les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witnesses that it cant be mor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3" name=""/>
          <p:cNvGrpSpPr/>
          <p:nvPr/>
        </p:nvGrpSpPr>
        <p:grpSpPr>
          <a:xfrm>
            <a:off x="7692480" y="100440"/>
            <a:ext cx="1451160" cy="1415160"/>
            <a:chOff x="7692480" y="100440"/>
            <a:chExt cx="1451160" cy="1415160"/>
          </a:xfrm>
        </p:grpSpPr>
        <p:sp>
          <p:nvSpPr>
            <p:cNvPr id="1964" name=""/>
            <p:cNvSpPr/>
            <p:nvPr/>
          </p:nvSpPr>
          <p:spPr>
            <a:xfrm rot="2359800">
              <a:off x="7793280" y="576720"/>
              <a:ext cx="730800" cy="57924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5" name=""/>
            <p:cNvGrpSpPr/>
            <p:nvPr/>
          </p:nvGrpSpPr>
          <p:grpSpPr>
            <a:xfrm>
              <a:off x="7881840" y="644040"/>
              <a:ext cx="389880" cy="318240"/>
              <a:chOff x="7881840" y="644040"/>
              <a:chExt cx="389880" cy="318240"/>
            </a:xfrm>
          </p:grpSpPr>
          <p:sp>
            <p:nvSpPr>
              <p:cNvPr id="1966" name=""/>
              <p:cNvSpPr/>
              <p:nvPr/>
            </p:nvSpPr>
            <p:spPr>
              <a:xfrm>
                <a:off x="7881840" y="644040"/>
                <a:ext cx="389880" cy="27288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8000">
                    <a:solidFill>
                      <a:srgbClr val="000000"/>
                    </a:solidFill>
                    <a:latin typeface="Times New Roman"/>
                  </a:rPr>
                  <a:t>Exi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8076600" y="894240"/>
                <a:ext cx="0" cy="68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68" name=""/>
            <p:cNvSpPr/>
            <p:nvPr/>
          </p:nvSpPr>
          <p:spPr>
            <a:xfrm>
              <a:off x="7765920" y="136080"/>
              <a:ext cx="1377720" cy="1379520"/>
            </a:xfrm>
            <a:prstGeom prst="ellipse">
              <a:avLst/>
            </a:prstGeom>
            <a:noFill/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69" name="" descr=""/>
            <p:cNvPicPr/>
            <p:nvPr/>
          </p:nvPicPr>
          <p:blipFill>
            <a:blip r:embed="rId8"/>
            <a:stretch/>
          </p:blipFill>
          <p:spPr>
            <a:xfrm>
              <a:off x="8348760" y="428760"/>
              <a:ext cx="729000" cy="658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0" name=""/>
            <p:cNvGrpSpPr/>
            <p:nvPr/>
          </p:nvGrpSpPr>
          <p:grpSpPr>
            <a:xfrm>
              <a:off x="8049960" y="100440"/>
              <a:ext cx="663120" cy="710640"/>
              <a:chOff x="8049960" y="100440"/>
              <a:chExt cx="663120" cy="710640"/>
            </a:xfrm>
          </p:grpSpPr>
          <p:sp>
            <p:nvSpPr>
              <p:cNvPr id="1971" name=""/>
              <p:cNvSpPr/>
              <p:nvPr/>
            </p:nvSpPr>
            <p:spPr>
              <a:xfrm rot="21255000">
                <a:off x="8382960" y="176400"/>
                <a:ext cx="135000" cy="11196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rot="21255000">
                <a:off x="8336520" y="315720"/>
                <a:ext cx="138960" cy="24984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rot="21255000">
                <a:off x="8435520" y="520200"/>
                <a:ext cx="269640" cy="17244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rot="19838400">
                <a:off x="8062200" y="574200"/>
                <a:ext cx="385200" cy="15192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rot="21255000">
                <a:off x="8246520" y="110520"/>
                <a:ext cx="157320" cy="27972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rot="21255000">
                <a:off x="8434440" y="109800"/>
                <a:ext cx="205920" cy="23328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2" dur="indefinite" restart="never" nodeType="tmRoot">
          <p:childTnLst>
            <p:seq>
              <p:cTn id="2473" dur="indefinite" nodeType="mainSeq">
                <p:childTnLst>
                  <p:par>
                    <p:cTn id="2474" fill="hold">
                      <p:stCondLst>
                        <p:cond delay="0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1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1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1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1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1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1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1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1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1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1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1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1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1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1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1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1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19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19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"/>
          <p:cNvSpPr/>
          <p:nvPr/>
        </p:nvSpPr>
        <p:spPr>
          <a:xfrm>
            <a:off x="914400" y="914400"/>
            <a:ext cx="93726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     = how much can flow from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 Flow from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inus flow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Lemma: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 rate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ap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x Flow = Min C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838080" y="457200"/>
            <a:ext cx="9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Prove: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low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u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rate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ap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0" name="" descr=""/>
          <p:cNvPicPr/>
          <p:nvPr/>
        </p:nvPicPr>
        <p:blipFill>
          <a:blip r:embed="rId1"/>
          <a:stretch/>
        </p:blipFill>
        <p:spPr>
          <a:xfrm rot="16200000">
            <a:off x="2866320" y="4104360"/>
            <a:ext cx="2395440" cy="3013200"/>
          </a:xfrm>
          <a:prstGeom prst="rect">
            <a:avLst/>
          </a:prstGeom>
          <a:ln w="0">
            <a:noFill/>
          </a:ln>
        </p:spPr>
      </p:pic>
      <p:grpSp>
        <p:nvGrpSpPr>
          <p:cNvPr id="1981" name=""/>
          <p:cNvGrpSpPr/>
          <p:nvPr/>
        </p:nvGrpSpPr>
        <p:grpSpPr>
          <a:xfrm>
            <a:off x="2485800" y="4400640"/>
            <a:ext cx="3180600" cy="2651400"/>
            <a:chOff x="2485800" y="4400640"/>
            <a:chExt cx="3180600" cy="2651400"/>
          </a:xfrm>
        </p:grpSpPr>
        <p:sp>
          <p:nvSpPr>
            <p:cNvPr id="1982" name=""/>
            <p:cNvSpPr/>
            <p:nvPr/>
          </p:nvSpPr>
          <p:spPr>
            <a:xfrm>
              <a:off x="2485800" y="4400640"/>
              <a:ext cx="328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380560" y="6501240"/>
              <a:ext cx="285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4" name=""/>
          <p:cNvSpPr/>
          <p:nvPr/>
        </p:nvSpPr>
        <p:spPr>
          <a:xfrm>
            <a:off x="2403360" y="4246560"/>
            <a:ext cx="3422880" cy="2459160"/>
          </a:xfrm>
          <a:custGeom>
            <a:avLst/>
            <a:gdLst/>
            <a:ahLst/>
            <a:rect l="l" t="t" r="r" b="b"/>
            <a:pathLst>
              <a:path w="3216" h="2304">
                <a:moveTo>
                  <a:pt x="0" y="2304"/>
                </a:moveTo>
                <a:cubicBezTo>
                  <a:pt x="208" y="2195"/>
                  <a:pt x="961" y="1909"/>
                  <a:pt x="1248" y="1648"/>
                </a:cubicBezTo>
                <a:cubicBezTo>
                  <a:pt x="1535" y="1387"/>
                  <a:pt x="1392" y="1011"/>
                  <a:pt x="1720" y="736"/>
                </a:cubicBezTo>
                <a:cubicBezTo>
                  <a:pt x="2048" y="461"/>
                  <a:pt x="2904" y="153"/>
                  <a:pt x="3216" y="0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3764880" y="396252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5567400" y="433872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1904760" y="4143240"/>
            <a:ext cx="728640" cy="912600"/>
            <a:chOff x="1904760" y="4143240"/>
            <a:chExt cx="728640" cy="912600"/>
          </a:xfrm>
        </p:grpSpPr>
        <p:pic>
          <p:nvPicPr>
            <p:cNvPr id="1988" name="" descr=""/>
            <p:cNvPicPr/>
            <p:nvPr/>
          </p:nvPicPr>
          <p:blipFill>
            <a:blip r:embed="rId2"/>
            <a:stretch/>
          </p:blipFill>
          <p:spPr>
            <a:xfrm>
              <a:off x="1995480" y="4143240"/>
              <a:ext cx="63792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9" name=""/>
            <p:cNvSpPr/>
            <p:nvPr/>
          </p:nvSpPr>
          <p:spPr>
            <a:xfrm>
              <a:off x="1904760" y="465696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0" name=""/>
          <p:cNvGrpSpPr/>
          <p:nvPr/>
        </p:nvGrpSpPr>
        <p:grpSpPr>
          <a:xfrm>
            <a:off x="5522040" y="6027840"/>
            <a:ext cx="1517400" cy="911160"/>
            <a:chOff x="5522040" y="6027840"/>
            <a:chExt cx="1517400" cy="911160"/>
          </a:xfrm>
        </p:grpSpPr>
        <p:pic>
          <p:nvPicPr>
            <p:cNvPr id="1991" name="" descr=""/>
            <p:cNvPicPr/>
            <p:nvPr/>
          </p:nvPicPr>
          <p:blipFill>
            <a:blip r:embed="rId3"/>
            <a:stretch/>
          </p:blipFill>
          <p:spPr>
            <a:xfrm>
              <a:off x="5966280" y="6027840"/>
              <a:ext cx="637560" cy="57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2" name=""/>
            <p:cNvSpPr/>
            <p:nvPr/>
          </p:nvSpPr>
          <p:spPr>
            <a:xfrm>
              <a:off x="5522040" y="6540120"/>
              <a:ext cx="151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UC Berkele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3" name=""/>
          <p:cNvSpPr/>
          <p:nvPr/>
        </p:nvSpPr>
        <p:spPr>
          <a:xfrm>
            <a:off x="4097520" y="3979800"/>
            <a:ext cx="163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Canad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820840" y="4348080"/>
            <a:ext cx="125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US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5" name=""/>
          <p:cNvGrpSpPr/>
          <p:nvPr/>
        </p:nvGrpSpPr>
        <p:grpSpPr>
          <a:xfrm>
            <a:off x="3420360" y="4646160"/>
            <a:ext cx="952920" cy="1526040"/>
            <a:chOff x="3420360" y="4646160"/>
            <a:chExt cx="952920" cy="1526040"/>
          </a:xfrm>
        </p:grpSpPr>
        <p:sp>
          <p:nvSpPr>
            <p:cNvPr id="1996" name=""/>
            <p:cNvSpPr/>
            <p:nvPr/>
          </p:nvSpPr>
          <p:spPr>
            <a:xfrm flipH="1" flipV="1">
              <a:off x="4144680" y="4756320"/>
              <a:ext cx="2286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 flipV="1">
              <a:off x="3992400" y="4984920"/>
              <a:ext cx="30492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 flipV="1">
              <a:off x="3840480" y="5136840"/>
              <a:ext cx="3808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687840" y="5365800"/>
              <a:ext cx="45720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535560" y="58672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687840" y="5746680"/>
              <a:ext cx="381240" cy="120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H="1" flipV="1">
              <a:off x="3594960" y="4646160"/>
              <a:ext cx="395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H="1" flipV="1">
              <a:off x="3420000" y="5270040"/>
              <a:ext cx="3423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3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4648320" y="318132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&amp;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5" name=""/>
          <p:cNvGrpSpPr/>
          <p:nvPr/>
        </p:nvGrpSpPr>
        <p:grpSpPr>
          <a:xfrm>
            <a:off x="355680" y="3213000"/>
            <a:ext cx="4100400" cy="1858680"/>
            <a:chOff x="355680" y="3213000"/>
            <a:chExt cx="4100400" cy="1858680"/>
          </a:xfrm>
        </p:grpSpPr>
        <p:sp>
          <p:nvSpPr>
            <p:cNvPr id="2006" name=""/>
            <p:cNvSpPr/>
            <p:nvPr/>
          </p:nvSpPr>
          <p:spPr>
            <a:xfrm>
              <a:off x="355680" y="3213000"/>
              <a:ext cx="41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o leaks, no extra flow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07" name="" descr=""/>
            <p:cNvPicPr/>
            <p:nvPr/>
          </p:nvPicPr>
          <p:blipFill>
            <a:blip r:embed="rId4"/>
            <a:stretch/>
          </p:blipFill>
          <p:spPr>
            <a:xfrm>
              <a:off x="457200" y="3885840"/>
              <a:ext cx="1219320" cy="11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8" name=""/>
          <p:cNvSpPr/>
          <p:nvPr/>
        </p:nvSpPr>
        <p:spPr>
          <a:xfrm>
            <a:off x="3886200" y="3048120"/>
            <a:ext cx="2590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2514600" y="3048120"/>
            <a:ext cx="2590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4" dur="indefinite" restart="never" nodeType="tmRoot">
          <p:childTnLst>
            <p:seq>
              <p:cTn id="2535" dur="indefinite" nodeType="mainSeq">
                <p:childTnLst>
                  <p:par>
                    <p:cTn id="2536" fill="hold">
                      <p:stCondLst>
                        <p:cond delay="0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1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1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1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1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1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1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6" dur="500" fill="hold"/>
                                        <p:tgtEl>
                                          <p:spTgt spid="1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1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0" dur="5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1" dur="5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6" dur="500" fill="hold"/>
                                        <p:tgtEl>
                                          <p:spTgt spid="1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7" dur="500" fill="hold"/>
                                        <p:tgtEl>
                                          <p:spTgt spid="1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2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3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8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9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4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"/>
          <p:cNvSpPr/>
          <p:nvPr/>
        </p:nvSpPr>
        <p:spPr>
          <a:xfrm>
            <a:off x="380880" y="609480"/>
            <a:ext cx="845820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Lemma: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te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 rate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Proof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 induction on the size o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Base cas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&lt;{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{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 Flow from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nto the network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               minus flow from the network back in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rate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  where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= &lt;{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}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{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}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x Flow = Min C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12" name="" descr=""/>
          <p:cNvPicPr/>
          <p:nvPr/>
        </p:nvPicPr>
        <p:blipFill>
          <a:blip r:embed="rId1"/>
          <a:stretch/>
        </p:blipFill>
        <p:spPr>
          <a:xfrm rot="16200000">
            <a:off x="2866320" y="4104360"/>
            <a:ext cx="2395440" cy="3013200"/>
          </a:xfrm>
          <a:prstGeom prst="rect">
            <a:avLst/>
          </a:prstGeom>
          <a:ln w="0">
            <a:noFill/>
          </a:ln>
        </p:spPr>
      </p:pic>
      <p:grpSp>
        <p:nvGrpSpPr>
          <p:cNvPr id="2013" name=""/>
          <p:cNvGrpSpPr/>
          <p:nvPr/>
        </p:nvGrpSpPr>
        <p:grpSpPr>
          <a:xfrm>
            <a:off x="2485800" y="4400640"/>
            <a:ext cx="3180600" cy="2651400"/>
            <a:chOff x="2485800" y="4400640"/>
            <a:chExt cx="3180600" cy="2651400"/>
          </a:xfrm>
        </p:grpSpPr>
        <p:sp>
          <p:nvSpPr>
            <p:cNvPr id="2014" name=""/>
            <p:cNvSpPr/>
            <p:nvPr/>
          </p:nvSpPr>
          <p:spPr>
            <a:xfrm>
              <a:off x="2485800" y="4400640"/>
              <a:ext cx="328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380560" y="6501240"/>
              <a:ext cx="285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1904760" y="4143240"/>
            <a:ext cx="728640" cy="912600"/>
            <a:chOff x="1904760" y="4143240"/>
            <a:chExt cx="728640" cy="912600"/>
          </a:xfrm>
        </p:grpSpPr>
        <p:pic>
          <p:nvPicPr>
            <p:cNvPr id="2017" name="" descr=""/>
            <p:cNvPicPr/>
            <p:nvPr/>
          </p:nvPicPr>
          <p:blipFill>
            <a:blip r:embed="rId2"/>
            <a:stretch/>
          </p:blipFill>
          <p:spPr>
            <a:xfrm>
              <a:off x="1995480" y="4143240"/>
              <a:ext cx="63792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8" name=""/>
            <p:cNvSpPr/>
            <p:nvPr/>
          </p:nvSpPr>
          <p:spPr>
            <a:xfrm>
              <a:off x="1904760" y="465696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9" name=""/>
          <p:cNvGrpSpPr/>
          <p:nvPr/>
        </p:nvGrpSpPr>
        <p:grpSpPr>
          <a:xfrm>
            <a:off x="5522040" y="6027840"/>
            <a:ext cx="1517400" cy="911160"/>
            <a:chOff x="5522040" y="6027840"/>
            <a:chExt cx="1517400" cy="911160"/>
          </a:xfrm>
        </p:grpSpPr>
        <p:pic>
          <p:nvPicPr>
            <p:cNvPr id="2020" name="" descr=""/>
            <p:cNvPicPr/>
            <p:nvPr/>
          </p:nvPicPr>
          <p:blipFill>
            <a:blip r:embed="rId3"/>
            <a:stretch/>
          </p:blipFill>
          <p:spPr>
            <a:xfrm>
              <a:off x="5966280" y="6027840"/>
              <a:ext cx="637560" cy="57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1" name=""/>
            <p:cNvSpPr/>
            <p:nvPr/>
          </p:nvSpPr>
          <p:spPr>
            <a:xfrm>
              <a:off x="5522040" y="6540120"/>
              <a:ext cx="151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UC Berkele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22" name=""/>
          <p:cNvSpPr/>
          <p:nvPr/>
        </p:nvSpPr>
        <p:spPr>
          <a:xfrm>
            <a:off x="1752480" y="4070520"/>
            <a:ext cx="957240" cy="954000"/>
          </a:xfrm>
          <a:prstGeom prst="ellipse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3" name=""/>
          <p:cNvGrpSpPr/>
          <p:nvPr/>
        </p:nvGrpSpPr>
        <p:grpSpPr>
          <a:xfrm>
            <a:off x="2390760" y="4176720"/>
            <a:ext cx="795600" cy="1159200"/>
            <a:chOff x="2390760" y="4176720"/>
            <a:chExt cx="795600" cy="1159200"/>
          </a:xfrm>
        </p:grpSpPr>
        <p:sp>
          <p:nvSpPr>
            <p:cNvPr id="2024" name=""/>
            <p:cNvSpPr/>
            <p:nvPr/>
          </p:nvSpPr>
          <p:spPr>
            <a:xfrm>
              <a:off x="2390760" y="4904280"/>
              <a:ext cx="191160" cy="297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454480" y="4785120"/>
              <a:ext cx="254880" cy="237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518200" y="4725360"/>
              <a:ext cx="318600" cy="178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 flipV="1">
              <a:off x="2581920" y="4606200"/>
              <a:ext cx="382320" cy="11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2517840" y="4188960"/>
              <a:ext cx="254520" cy="11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H="1">
              <a:off x="2581920" y="4427640"/>
              <a:ext cx="318960" cy="59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790720" y="4176720"/>
              <a:ext cx="395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679840" y="47851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6" dur="indefinite" restart="never" nodeType="tmRoot">
          <p:childTnLst>
            <p:seq>
              <p:cTn id="2597" dur="indefinite" nodeType="mainSeq">
                <p:childTnLst>
                  <p:par>
                    <p:cTn id="2598" fill="hold">
                      <p:stCondLst>
                        <p:cond delay="0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2" dur="500" fill="hold"/>
                                        <p:tgtEl>
                                          <p:spTgt spid="2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3" dur="500" fill="hold"/>
                                        <p:tgtEl>
                                          <p:spTgt spid="2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2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2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4" dur="500" fill="hold"/>
                                        <p:tgtEl>
                                          <p:spTgt spid="2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2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0" dur="500" fill="hold"/>
                                        <p:tgtEl>
                                          <p:spTgt spid="2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2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20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7" dur="500" fill="hold"/>
                                        <p:tgtEl>
                                          <p:spTgt spid="20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20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20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0" dur="5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1" dur="5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"/>
          <p:cNvSpPr/>
          <p:nvPr/>
        </p:nvSpPr>
        <p:spPr>
          <a:xfrm>
            <a:off x="457200" y="609480"/>
            <a:ext cx="9372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Lemma: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te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 rate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Proof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 induction on the size o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Base cas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&lt;{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{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Inductive step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ove nodes acros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e at a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x Flow = Min C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59280" y="5043600"/>
            <a:ext cx="35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w in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Flow 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1901520" y="5424480"/>
            <a:ext cx="58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nce, flow across cut does not chan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433600" y="6019920"/>
            <a:ext cx="42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 rate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ap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7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6201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2" dur="indefinite" restart="never" nodeType="tmRoot">
          <p:childTnLst>
            <p:seq>
              <p:cTn id="2643" dur="indefinite" nodeType="mainSeq">
                <p:childTnLst>
                  <p:par>
                    <p:cTn id="2644" fill="hold">
                      <p:stCondLst>
                        <p:cond delay="0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6" fill="hold">
                            <p:stCondLst>
                              <p:cond delay="500"/>
                            </p:stCondLst>
                            <p:childTnLst>
                              <p:par>
                                <p:cTn id="26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9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5" dur="5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"/>
          <p:cNvSpPr/>
          <p:nvPr/>
        </p:nvSpPr>
        <p:spPr>
          <a:xfrm>
            <a:off x="0" y="380880"/>
            <a:ext cx="9144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eore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ll Networks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ate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Mi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p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Prove: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rate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ap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x Flow = Min C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040" name=""/>
          <p:cNvGrpSpPr/>
          <p:nvPr/>
        </p:nvGrpSpPr>
        <p:grpSpPr>
          <a:xfrm>
            <a:off x="1066680" y="4343400"/>
            <a:ext cx="5867280" cy="2435040"/>
            <a:chOff x="1066680" y="4343400"/>
            <a:chExt cx="5867280" cy="2435040"/>
          </a:xfrm>
        </p:grpSpPr>
        <p:pic>
          <p:nvPicPr>
            <p:cNvPr id="2041" name="" descr=""/>
            <p:cNvPicPr/>
            <p:nvPr/>
          </p:nvPicPr>
          <p:blipFill>
            <a:blip r:embed="rId1"/>
            <a:stretch/>
          </p:blipFill>
          <p:spPr>
            <a:xfrm>
              <a:off x="2939400" y="4722480"/>
              <a:ext cx="2434320" cy="20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2" name=""/>
            <p:cNvSpPr/>
            <p:nvPr/>
          </p:nvSpPr>
          <p:spPr>
            <a:xfrm>
              <a:off x="4021200" y="4993200"/>
              <a:ext cx="0" cy="3247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43" name=""/>
            <p:cNvGrpSpPr/>
            <p:nvPr/>
          </p:nvGrpSpPr>
          <p:grpSpPr>
            <a:xfrm>
              <a:off x="1066680" y="5013360"/>
              <a:ext cx="2121840" cy="1375920"/>
              <a:chOff x="1066680" y="5013360"/>
              <a:chExt cx="2121840" cy="1375920"/>
            </a:xfrm>
          </p:grpSpPr>
          <p:grpSp>
            <p:nvGrpSpPr>
              <p:cNvPr id="2044" name=""/>
              <p:cNvGrpSpPr/>
              <p:nvPr/>
            </p:nvGrpSpPr>
            <p:grpSpPr>
              <a:xfrm>
                <a:off x="1267920" y="5013360"/>
                <a:ext cx="1920600" cy="1375920"/>
                <a:chOff x="1267920" y="5013360"/>
                <a:chExt cx="1920600" cy="1375920"/>
              </a:xfrm>
            </p:grpSpPr>
            <p:sp>
              <p:nvSpPr>
                <p:cNvPr id="2045" name=""/>
                <p:cNvSpPr/>
                <p:nvPr/>
              </p:nvSpPr>
              <p:spPr>
                <a:xfrm flipH="1">
                  <a:off x="1267560" y="5013360"/>
                  <a:ext cx="1901160" cy="1305720"/>
                </a:xfrm>
                <a:custGeom>
                  <a:avLst/>
                  <a:gdLst/>
                  <a:ahLst/>
                  <a:rect l="l" t="t" r="r" b="b"/>
                  <a:pathLst>
                    <a:path w="2924" h="2314">
                      <a:moveTo>
                        <a:pt x="1167" y="80"/>
                      </a:moveTo>
                      <a:lnTo>
                        <a:pt x="1111" y="69"/>
                      </a:lnTo>
                      <a:lnTo>
                        <a:pt x="1064" y="58"/>
                      </a:lnTo>
                      <a:lnTo>
                        <a:pt x="1024" y="47"/>
                      </a:lnTo>
                      <a:lnTo>
                        <a:pt x="993" y="38"/>
                      </a:lnTo>
                      <a:lnTo>
                        <a:pt x="964" y="29"/>
                      </a:lnTo>
                      <a:lnTo>
                        <a:pt x="943" y="22"/>
                      </a:lnTo>
                      <a:lnTo>
                        <a:pt x="925" y="14"/>
                      </a:lnTo>
                      <a:lnTo>
                        <a:pt x="911" y="11"/>
                      </a:lnTo>
                      <a:lnTo>
                        <a:pt x="898" y="6"/>
                      </a:lnTo>
                      <a:lnTo>
                        <a:pt x="885" y="2"/>
                      </a:lnTo>
                      <a:lnTo>
                        <a:pt x="873" y="0"/>
                      </a:lnTo>
                      <a:lnTo>
                        <a:pt x="862" y="0"/>
                      </a:lnTo>
                      <a:lnTo>
                        <a:pt x="848" y="0"/>
                      </a:lnTo>
                      <a:lnTo>
                        <a:pt x="831" y="1"/>
                      </a:lnTo>
                      <a:lnTo>
                        <a:pt x="811" y="5"/>
                      </a:lnTo>
                      <a:lnTo>
                        <a:pt x="788" y="11"/>
                      </a:lnTo>
                      <a:lnTo>
                        <a:pt x="759" y="14"/>
                      </a:lnTo>
                      <a:lnTo>
                        <a:pt x="733" y="19"/>
                      </a:lnTo>
                      <a:lnTo>
                        <a:pt x="706" y="21"/>
                      </a:lnTo>
                      <a:lnTo>
                        <a:pt x="680" y="23"/>
                      </a:lnTo>
                      <a:lnTo>
                        <a:pt x="653" y="24"/>
                      </a:lnTo>
                      <a:lnTo>
                        <a:pt x="628" y="26"/>
                      </a:lnTo>
                      <a:lnTo>
                        <a:pt x="601" y="28"/>
                      </a:lnTo>
                      <a:lnTo>
                        <a:pt x="576" y="31"/>
                      </a:lnTo>
                      <a:lnTo>
                        <a:pt x="550" y="33"/>
                      </a:lnTo>
                      <a:lnTo>
                        <a:pt x="525" y="38"/>
                      </a:lnTo>
                      <a:lnTo>
                        <a:pt x="500" y="43"/>
                      </a:lnTo>
                      <a:lnTo>
                        <a:pt x="474" y="51"/>
                      </a:lnTo>
                      <a:lnTo>
                        <a:pt x="449" y="60"/>
                      </a:lnTo>
                      <a:lnTo>
                        <a:pt x="423" y="72"/>
                      </a:lnTo>
                      <a:lnTo>
                        <a:pt x="398" y="87"/>
                      </a:lnTo>
                      <a:lnTo>
                        <a:pt x="372" y="105"/>
                      </a:lnTo>
                      <a:lnTo>
                        <a:pt x="346" y="124"/>
                      </a:lnTo>
                      <a:lnTo>
                        <a:pt x="324" y="142"/>
                      </a:lnTo>
                      <a:lnTo>
                        <a:pt x="301" y="159"/>
                      </a:lnTo>
                      <a:lnTo>
                        <a:pt x="281" y="177"/>
                      </a:lnTo>
                      <a:lnTo>
                        <a:pt x="262" y="194"/>
                      </a:lnTo>
                      <a:lnTo>
                        <a:pt x="244" y="210"/>
                      </a:lnTo>
                      <a:lnTo>
                        <a:pt x="230" y="228"/>
                      </a:lnTo>
                      <a:lnTo>
                        <a:pt x="217" y="244"/>
                      </a:lnTo>
                      <a:lnTo>
                        <a:pt x="203" y="261"/>
                      </a:lnTo>
                      <a:lnTo>
                        <a:pt x="194" y="278"/>
                      </a:lnTo>
                      <a:lnTo>
                        <a:pt x="186" y="294"/>
                      </a:lnTo>
                      <a:lnTo>
                        <a:pt x="180" y="312"/>
                      </a:lnTo>
                      <a:lnTo>
                        <a:pt x="175" y="331"/>
                      </a:lnTo>
                      <a:lnTo>
                        <a:pt x="173" y="348"/>
                      </a:lnTo>
                      <a:lnTo>
                        <a:pt x="173" y="368"/>
                      </a:lnTo>
                      <a:lnTo>
                        <a:pt x="176" y="389"/>
                      </a:lnTo>
                      <a:lnTo>
                        <a:pt x="176" y="407"/>
                      </a:lnTo>
                      <a:lnTo>
                        <a:pt x="173" y="426"/>
                      </a:lnTo>
                      <a:lnTo>
                        <a:pt x="167" y="441"/>
                      </a:lnTo>
                      <a:lnTo>
                        <a:pt x="158" y="458"/>
                      </a:lnTo>
                      <a:lnTo>
                        <a:pt x="146" y="473"/>
                      </a:lnTo>
                      <a:lnTo>
                        <a:pt x="133" y="488"/>
                      </a:lnTo>
                      <a:lnTo>
                        <a:pt x="118" y="502"/>
                      </a:lnTo>
                      <a:lnTo>
                        <a:pt x="104" y="519"/>
                      </a:lnTo>
                      <a:lnTo>
                        <a:pt x="86" y="533"/>
                      </a:lnTo>
                      <a:lnTo>
                        <a:pt x="72" y="552"/>
                      </a:lnTo>
                      <a:lnTo>
                        <a:pt x="56" y="569"/>
                      </a:lnTo>
                      <a:lnTo>
                        <a:pt x="42" y="592"/>
                      </a:lnTo>
                      <a:lnTo>
                        <a:pt x="29" y="614"/>
                      </a:lnTo>
                      <a:lnTo>
                        <a:pt x="18" y="640"/>
                      </a:lnTo>
                      <a:lnTo>
                        <a:pt x="10" y="670"/>
                      </a:lnTo>
                      <a:lnTo>
                        <a:pt x="4" y="703"/>
                      </a:lnTo>
                      <a:lnTo>
                        <a:pt x="1" y="735"/>
                      </a:lnTo>
                      <a:lnTo>
                        <a:pt x="0" y="768"/>
                      </a:lnTo>
                      <a:lnTo>
                        <a:pt x="1" y="799"/>
                      </a:lnTo>
                      <a:lnTo>
                        <a:pt x="4" y="833"/>
                      </a:lnTo>
                      <a:lnTo>
                        <a:pt x="8" y="861"/>
                      </a:lnTo>
                      <a:lnTo>
                        <a:pt x="14" y="891"/>
                      </a:lnTo>
                      <a:lnTo>
                        <a:pt x="20" y="918"/>
                      </a:lnTo>
                      <a:lnTo>
                        <a:pt x="27" y="946"/>
                      </a:lnTo>
                      <a:lnTo>
                        <a:pt x="34" y="971"/>
                      </a:lnTo>
                      <a:lnTo>
                        <a:pt x="42" y="996"/>
                      </a:lnTo>
                      <a:lnTo>
                        <a:pt x="48" y="1018"/>
                      </a:lnTo>
                      <a:lnTo>
                        <a:pt x="56" y="1042"/>
                      </a:lnTo>
                      <a:lnTo>
                        <a:pt x="61" y="1061"/>
                      </a:lnTo>
                      <a:lnTo>
                        <a:pt x="66" y="1081"/>
                      </a:lnTo>
                      <a:lnTo>
                        <a:pt x="71" y="1100"/>
                      </a:lnTo>
                      <a:lnTo>
                        <a:pt x="73" y="1118"/>
                      </a:lnTo>
                      <a:lnTo>
                        <a:pt x="73" y="1134"/>
                      </a:lnTo>
                      <a:lnTo>
                        <a:pt x="72" y="1155"/>
                      </a:lnTo>
                      <a:lnTo>
                        <a:pt x="71" y="1178"/>
                      </a:lnTo>
                      <a:lnTo>
                        <a:pt x="68" y="1203"/>
                      </a:lnTo>
                      <a:lnTo>
                        <a:pt x="63" y="1227"/>
                      </a:lnTo>
                      <a:lnTo>
                        <a:pt x="60" y="1256"/>
                      </a:lnTo>
                      <a:lnTo>
                        <a:pt x="54" y="1286"/>
                      </a:lnTo>
                      <a:lnTo>
                        <a:pt x="50" y="1319"/>
                      </a:lnTo>
                      <a:lnTo>
                        <a:pt x="44" y="1351"/>
                      </a:lnTo>
                      <a:lnTo>
                        <a:pt x="39" y="1384"/>
                      </a:lnTo>
                      <a:lnTo>
                        <a:pt x="33" y="1420"/>
                      </a:lnTo>
                      <a:lnTo>
                        <a:pt x="29" y="1456"/>
                      </a:lnTo>
                      <a:lnTo>
                        <a:pt x="24" y="1493"/>
                      </a:lnTo>
                      <a:lnTo>
                        <a:pt x="21" y="1529"/>
                      </a:lnTo>
                      <a:lnTo>
                        <a:pt x="18" y="1567"/>
                      </a:lnTo>
                      <a:lnTo>
                        <a:pt x="16" y="1607"/>
                      </a:lnTo>
                      <a:lnTo>
                        <a:pt x="15" y="1644"/>
                      </a:lnTo>
                      <a:lnTo>
                        <a:pt x="19" y="1681"/>
                      </a:lnTo>
                      <a:lnTo>
                        <a:pt x="24" y="1717"/>
                      </a:lnTo>
                      <a:lnTo>
                        <a:pt x="32" y="1755"/>
                      </a:lnTo>
                      <a:lnTo>
                        <a:pt x="40" y="1789"/>
                      </a:lnTo>
                      <a:lnTo>
                        <a:pt x="52" y="1823"/>
                      </a:lnTo>
                      <a:lnTo>
                        <a:pt x="64" y="1855"/>
                      </a:lnTo>
                      <a:lnTo>
                        <a:pt x="77" y="1887"/>
                      </a:lnTo>
                      <a:lnTo>
                        <a:pt x="89" y="1915"/>
                      </a:lnTo>
                      <a:lnTo>
                        <a:pt x="103" y="1943"/>
                      </a:lnTo>
                      <a:lnTo>
                        <a:pt x="115" y="1967"/>
                      </a:lnTo>
                      <a:lnTo>
                        <a:pt x="128" y="1991"/>
                      </a:lnTo>
                      <a:lnTo>
                        <a:pt x="138" y="2011"/>
                      </a:lnTo>
                      <a:lnTo>
                        <a:pt x="147" y="2029"/>
                      </a:lnTo>
                      <a:lnTo>
                        <a:pt x="155" y="2045"/>
                      </a:lnTo>
                      <a:lnTo>
                        <a:pt x="161" y="2059"/>
                      </a:lnTo>
                      <a:lnTo>
                        <a:pt x="166" y="2068"/>
                      </a:lnTo>
                      <a:lnTo>
                        <a:pt x="178" y="2076"/>
                      </a:lnTo>
                      <a:lnTo>
                        <a:pt x="193" y="2084"/>
                      </a:lnTo>
                      <a:lnTo>
                        <a:pt x="212" y="2093"/>
                      </a:lnTo>
                      <a:lnTo>
                        <a:pt x="233" y="2097"/>
                      </a:lnTo>
                      <a:lnTo>
                        <a:pt x="257" y="2104"/>
                      </a:lnTo>
                      <a:lnTo>
                        <a:pt x="284" y="2107"/>
                      </a:lnTo>
                      <a:lnTo>
                        <a:pt x="312" y="2112"/>
                      </a:lnTo>
                      <a:lnTo>
                        <a:pt x="339" y="2114"/>
                      </a:lnTo>
                      <a:lnTo>
                        <a:pt x="369" y="2117"/>
                      </a:lnTo>
                      <a:lnTo>
                        <a:pt x="397" y="2118"/>
                      </a:lnTo>
                      <a:lnTo>
                        <a:pt x="425" y="2119"/>
                      </a:lnTo>
                      <a:lnTo>
                        <a:pt x="451" y="2121"/>
                      </a:lnTo>
                      <a:lnTo>
                        <a:pt x="475" y="2122"/>
                      </a:lnTo>
                      <a:lnTo>
                        <a:pt x="497" y="2122"/>
                      </a:lnTo>
                      <a:lnTo>
                        <a:pt x="517" y="2123"/>
                      </a:lnTo>
                      <a:lnTo>
                        <a:pt x="535" y="2124"/>
                      </a:lnTo>
                      <a:lnTo>
                        <a:pt x="556" y="2131"/>
                      </a:lnTo>
                      <a:lnTo>
                        <a:pt x="579" y="2139"/>
                      </a:lnTo>
                      <a:lnTo>
                        <a:pt x="605" y="2152"/>
                      </a:lnTo>
                      <a:lnTo>
                        <a:pt x="631" y="2164"/>
                      </a:lnTo>
                      <a:lnTo>
                        <a:pt x="661" y="2179"/>
                      </a:lnTo>
                      <a:lnTo>
                        <a:pt x="692" y="2196"/>
                      </a:lnTo>
                      <a:lnTo>
                        <a:pt x="726" y="2212"/>
                      </a:lnTo>
                      <a:lnTo>
                        <a:pt x="762" y="2228"/>
                      </a:lnTo>
                      <a:lnTo>
                        <a:pt x="800" y="2243"/>
                      </a:lnTo>
                      <a:lnTo>
                        <a:pt x="839" y="2258"/>
                      </a:lnTo>
                      <a:lnTo>
                        <a:pt x="883" y="2270"/>
                      </a:lnTo>
                      <a:lnTo>
                        <a:pt x="927" y="2280"/>
                      </a:lnTo>
                      <a:lnTo>
                        <a:pt x="975" y="2288"/>
                      </a:lnTo>
                      <a:lnTo>
                        <a:pt x="1024" y="2291"/>
                      </a:lnTo>
                      <a:lnTo>
                        <a:pt x="1078" y="2292"/>
                      </a:lnTo>
                      <a:lnTo>
                        <a:pt x="1127" y="2285"/>
                      </a:lnTo>
                      <a:lnTo>
                        <a:pt x="1174" y="2278"/>
                      </a:lnTo>
                      <a:lnTo>
                        <a:pt x="1217" y="2267"/>
                      </a:lnTo>
                      <a:lnTo>
                        <a:pt x="1258" y="2255"/>
                      </a:lnTo>
                      <a:lnTo>
                        <a:pt x="1293" y="2241"/>
                      </a:lnTo>
                      <a:lnTo>
                        <a:pt x="1330" y="2227"/>
                      </a:lnTo>
                      <a:lnTo>
                        <a:pt x="1365" y="2212"/>
                      </a:lnTo>
                      <a:lnTo>
                        <a:pt x="1401" y="2201"/>
                      </a:lnTo>
                      <a:lnTo>
                        <a:pt x="1434" y="2190"/>
                      </a:lnTo>
                      <a:lnTo>
                        <a:pt x="1470" y="2183"/>
                      </a:lnTo>
                      <a:lnTo>
                        <a:pt x="1507" y="2178"/>
                      </a:lnTo>
                      <a:lnTo>
                        <a:pt x="1546" y="2178"/>
                      </a:lnTo>
                      <a:lnTo>
                        <a:pt x="1590" y="2183"/>
                      </a:lnTo>
                      <a:lnTo>
                        <a:pt x="1635" y="2192"/>
                      </a:lnTo>
                      <a:lnTo>
                        <a:pt x="1685" y="2209"/>
                      </a:lnTo>
                      <a:lnTo>
                        <a:pt x="1740" y="2233"/>
                      </a:lnTo>
                      <a:lnTo>
                        <a:pt x="1794" y="2258"/>
                      </a:lnTo>
                      <a:lnTo>
                        <a:pt x="1843" y="2276"/>
                      </a:lnTo>
                      <a:lnTo>
                        <a:pt x="1887" y="2291"/>
                      </a:lnTo>
                      <a:lnTo>
                        <a:pt x="1928" y="2303"/>
                      </a:lnTo>
                      <a:lnTo>
                        <a:pt x="1965" y="2310"/>
                      </a:lnTo>
                      <a:lnTo>
                        <a:pt x="2001" y="2314"/>
                      </a:lnTo>
                      <a:lnTo>
                        <a:pt x="2033" y="2314"/>
                      </a:lnTo>
                      <a:lnTo>
                        <a:pt x="2066" y="2314"/>
                      </a:lnTo>
                      <a:lnTo>
                        <a:pt x="2096" y="2309"/>
                      </a:lnTo>
                      <a:lnTo>
                        <a:pt x="2128" y="2304"/>
                      </a:lnTo>
                      <a:lnTo>
                        <a:pt x="2161" y="2295"/>
                      </a:lnTo>
                      <a:lnTo>
                        <a:pt x="2196" y="2288"/>
                      </a:lnTo>
                      <a:lnTo>
                        <a:pt x="2232" y="2279"/>
                      </a:lnTo>
                      <a:lnTo>
                        <a:pt x="2273" y="2270"/>
                      </a:lnTo>
                      <a:lnTo>
                        <a:pt x="2315" y="2260"/>
                      </a:lnTo>
                      <a:lnTo>
                        <a:pt x="2365" y="2253"/>
                      </a:lnTo>
                      <a:lnTo>
                        <a:pt x="2412" y="2247"/>
                      </a:lnTo>
                      <a:lnTo>
                        <a:pt x="2456" y="2242"/>
                      </a:lnTo>
                      <a:lnTo>
                        <a:pt x="2496" y="2240"/>
                      </a:lnTo>
                      <a:lnTo>
                        <a:pt x="2534" y="2241"/>
                      </a:lnTo>
                      <a:lnTo>
                        <a:pt x="2565" y="2241"/>
                      </a:lnTo>
                      <a:lnTo>
                        <a:pt x="2594" y="2244"/>
                      </a:lnTo>
                      <a:lnTo>
                        <a:pt x="2620" y="2246"/>
                      </a:lnTo>
                      <a:lnTo>
                        <a:pt x="2642" y="2247"/>
                      </a:lnTo>
                      <a:lnTo>
                        <a:pt x="2661" y="2247"/>
                      </a:lnTo>
                      <a:lnTo>
                        <a:pt x="2676" y="2243"/>
                      </a:lnTo>
                      <a:lnTo>
                        <a:pt x="2690" y="2237"/>
                      </a:lnTo>
                      <a:lnTo>
                        <a:pt x="2701" y="2230"/>
                      </a:lnTo>
                      <a:lnTo>
                        <a:pt x="2708" y="2217"/>
                      </a:lnTo>
                      <a:lnTo>
                        <a:pt x="2714" y="2200"/>
                      </a:lnTo>
                      <a:lnTo>
                        <a:pt x="2717" y="2179"/>
                      </a:lnTo>
                      <a:lnTo>
                        <a:pt x="2719" y="2154"/>
                      </a:lnTo>
                      <a:lnTo>
                        <a:pt x="2719" y="2123"/>
                      </a:lnTo>
                      <a:lnTo>
                        <a:pt x="2720" y="2096"/>
                      </a:lnTo>
                      <a:lnTo>
                        <a:pt x="2722" y="2073"/>
                      </a:lnTo>
                      <a:lnTo>
                        <a:pt x="2724" y="2050"/>
                      </a:lnTo>
                      <a:lnTo>
                        <a:pt x="2727" y="2028"/>
                      </a:lnTo>
                      <a:lnTo>
                        <a:pt x="2732" y="2009"/>
                      </a:lnTo>
                      <a:lnTo>
                        <a:pt x="2735" y="1991"/>
                      </a:lnTo>
                      <a:lnTo>
                        <a:pt x="2741" y="1975"/>
                      </a:lnTo>
                      <a:lnTo>
                        <a:pt x="2745" y="1957"/>
                      </a:lnTo>
                      <a:lnTo>
                        <a:pt x="2751" y="1943"/>
                      </a:lnTo>
                      <a:lnTo>
                        <a:pt x="2757" y="1926"/>
                      </a:lnTo>
                      <a:lnTo>
                        <a:pt x="2764" y="1911"/>
                      </a:lnTo>
                      <a:lnTo>
                        <a:pt x="2769" y="1895"/>
                      </a:lnTo>
                      <a:lnTo>
                        <a:pt x="2777" y="1880"/>
                      </a:lnTo>
                      <a:lnTo>
                        <a:pt x="2783" y="1863"/>
                      </a:lnTo>
                      <a:lnTo>
                        <a:pt x="2790" y="1846"/>
                      </a:lnTo>
                      <a:lnTo>
                        <a:pt x="2798" y="1829"/>
                      </a:lnTo>
                      <a:lnTo>
                        <a:pt x="2807" y="1813"/>
                      </a:lnTo>
                      <a:lnTo>
                        <a:pt x="2816" y="1798"/>
                      </a:lnTo>
                      <a:lnTo>
                        <a:pt x="2828" y="1783"/>
                      </a:lnTo>
                      <a:lnTo>
                        <a:pt x="2839" y="1768"/>
                      </a:lnTo>
                      <a:lnTo>
                        <a:pt x="2851" y="1754"/>
                      </a:lnTo>
                      <a:lnTo>
                        <a:pt x="2863" y="1737"/>
                      </a:lnTo>
                      <a:lnTo>
                        <a:pt x="2875" y="1723"/>
                      </a:lnTo>
                      <a:lnTo>
                        <a:pt x="2884" y="1704"/>
                      </a:lnTo>
                      <a:lnTo>
                        <a:pt x="2894" y="1686"/>
                      </a:lnTo>
                      <a:lnTo>
                        <a:pt x="2903" y="1665"/>
                      </a:lnTo>
                      <a:lnTo>
                        <a:pt x="2910" y="1643"/>
                      </a:lnTo>
                      <a:lnTo>
                        <a:pt x="2914" y="1618"/>
                      </a:lnTo>
                      <a:lnTo>
                        <a:pt x="2916" y="1590"/>
                      </a:lnTo>
                      <a:lnTo>
                        <a:pt x="2916" y="1560"/>
                      </a:lnTo>
                      <a:lnTo>
                        <a:pt x="2915" y="1527"/>
                      </a:lnTo>
                      <a:lnTo>
                        <a:pt x="2911" y="1490"/>
                      </a:lnTo>
                      <a:lnTo>
                        <a:pt x="2911" y="1457"/>
                      </a:lnTo>
                      <a:lnTo>
                        <a:pt x="2911" y="1424"/>
                      </a:lnTo>
                      <a:lnTo>
                        <a:pt x="2914" y="1392"/>
                      </a:lnTo>
                      <a:lnTo>
                        <a:pt x="2916" y="1360"/>
                      </a:lnTo>
                      <a:lnTo>
                        <a:pt x="2918" y="1331"/>
                      </a:lnTo>
                      <a:lnTo>
                        <a:pt x="2921" y="1300"/>
                      </a:lnTo>
                      <a:lnTo>
                        <a:pt x="2924" y="1274"/>
                      </a:lnTo>
                      <a:lnTo>
                        <a:pt x="2923" y="1244"/>
                      </a:lnTo>
                      <a:lnTo>
                        <a:pt x="2922" y="1216"/>
                      </a:lnTo>
                      <a:lnTo>
                        <a:pt x="2917" y="1190"/>
                      </a:lnTo>
                      <a:lnTo>
                        <a:pt x="2912" y="1163"/>
                      </a:lnTo>
                      <a:lnTo>
                        <a:pt x="2901" y="1136"/>
                      </a:lnTo>
                      <a:lnTo>
                        <a:pt x="2887" y="1111"/>
                      </a:lnTo>
                      <a:lnTo>
                        <a:pt x="2871" y="1087"/>
                      </a:lnTo>
                      <a:lnTo>
                        <a:pt x="2849" y="1063"/>
                      </a:lnTo>
                      <a:lnTo>
                        <a:pt x="2824" y="1037"/>
                      </a:lnTo>
                      <a:lnTo>
                        <a:pt x="2804" y="1015"/>
                      </a:lnTo>
                      <a:lnTo>
                        <a:pt x="2786" y="993"/>
                      </a:lnTo>
                      <a:lnTo>
                        <a:pt x="2768" y="972"/>
                      </a:lnTo>
                      <a:lnTo>
                        <a:pt x="2750" y="952"/>
                      </a:lnTo>
                      <a:lnTo>
                        <a:pt x="2734" y="935"/>
                      </a:lnTo>
                      <a:lnTo>
                        <a:pt x="2714" y="918"/>
                      </a:lnTo>
                      <a:lnTo>
                        <a:pt x="2693" y="903"/>
                      </a:lnTo>
                      <a:lnTo>
                        <a:pt x="2667" y="888"/>
                      </a:lnTo>
                      <a:lnTo>
                        <a:pt x="2641" y="875"/>
                      </a:lnTo>
                      <a:lnTo>
                        <a:pt x="2608" y="861"/>
                      </a:lnTo>
                      <a:lnTo>
                        <a:pt x="2571" y="851"/>
                      </a:lnTo>
                      <a:lnTo>
                        <a:pt x="2528" y="841"/>
                      </a:lnTo>
                      <a:lnTo>
                        <a:pt x="2478" y="834"/>
                      </a:lnTo>
                      <a:lnTo>
                        <a:pt x="2421" y="826"/>
                      </a:lnTo>
                      <a:lnTo>
                        <a:pt x="2357" y="822"/>
                      </a:lnTo>
                      <a:lnTo>
                        <a:pt x="2289" y="814"/>
                      </a:lnTo>
                      <a:lnTo>
                        <a:pt x="2231" y="807"/>
                      </a:lnTo>
                      <a:lnTo>
                        <a:pt x="2175" y="797"/>
                      </a:lnTo>
                      <a:lnTo>
                        <a:pt x="2128" y="787"/>
                      </a:lnTo>
                      <a:lnTo>
                        <a:pt x="2085" y="776"/>
                      </a:lnTo>
                      <a:lnTo>
                        <a:pt x="2047" y="764"/>
                      </a:lnTo>
                      <a:lnTo>
                        <a:pt x="2015" y="750"/>
                      </a:lnTo>
                      <a:lnTo>
                        <a:pt x="1989" y="736"/>
                      </a:lnTo>
                      <a:lnTo>
                        <a:pt x="1963" y="720"/>
                      </a:lnTo>
                      <a:lnTo>
                        <a:pt x="1943" y="705"/>
                      </a:lnTo>
                      <a:lnTo>
                        <a:pt x="1926" y="688"/>
                      </a:lnTo>
                      <a:lnTo>
                        <a:pt x="1912" y="671"/>
                      </a:lnTo>
                      <a:lnTo>
                        <a:pt x="1901" y="654"/>
                      </a:lnTo>
                      <a:lnTo>
                        <a:pt x="1894" y="636"/>
                      </a:lnTo>
                      <a:lnTo>
                        <a:pt x="1887" y="619"/>
                      </a:lnTo>
                      <a:lnTo>
                        <a:pt x="1884" y="603"/>
                      </a:lnTo>
                      <a:lnTo>
                        <a:pt x="1875" y="584"/>
                      </a:lnTo>
                      <a:lnTo>
                        <a:pt x="1860" y="568"/>
                      </a:lnTo>
                      <a:lnTo>
                        <a:pt x="1839" y="554"/>
                      </a:lnTo>
                      <a:lnTo>
                        <a:pt x="1815" y="540"/>
                      </a:lnTo>
                      <a:lnTo>
                        <a:pt x="1785" y="525"/>
                      </a:lnTo>
                      <a:lnTo>
                        <a:pt x="1753" y="512"/>
                      </a:lnTo>
                      <a:lnTo>
                        <a:pt x="1719" y="499"/>
                      </a:lnTo>
                      <a:lnTo>
                        <a:pt x="1685" y="487"/>
                      </a:lnTo>
                      <a:lnTo>
                        <a:pt x="1648" y="472"/>
                      </a:lnTo>
                      <a:lnTo>
                        <a:pt x="1614" y="458"/>
                      </a:lnTo>
                      <a:lnTo>
                        <a:pt x="1581" y="442"/>
                      </a:lnTo>
                      <a:lnTo>
                        <a:pt x="1552" y="428"/>
                      </a:lnTo>
                      <a:lnTo>
                        <a:pt x="1523" y="410"/>
                      </a:lnTo>
                      <a:lnTo>
                        <a:pt x="1501" y="394"/>
                      </a:lnTo>
                      <a:lnTo>
                        <a:pt x="1483" y="374"/>
                      </a:lnTo>
                      <a:lnTo>
                        <a:pt x="1473" y="354"/>
                      </a:lnTo>
                      <a:lnTo>
                        <a:pt x="1461" y="331"/>
                      </a:lnTo>
                      <a:lnTo>
                        <a:pt x="1447" y="309"/>
                      </a:lnTo>
                      <a:lnTo>
                        <a:pt x="1428" y="285"/>
                      </a:lnTo>
                      <a:lnTo>
                        <a:pt x="1407" y="262"/>
                      </a:lnTo>
                      <a:lnTo>
                        <a:pt x="1383" y="238"/>
                      </a:lnTo>
                      <a:lnTo>
                        <a:pt x="1356" y="216"/>
                      </a:lnTo>
                      <a:lnTo>
                        <a:pt x="1330" y="194"/>
                      </a:lnTo>
                      <a:lnTo>
                        <a:pt x="1304" y="174"/>
                      </a:lnTo>
                      <a:lnTo>
                        <a:pt x="1277" y="153"/>
                      </a:lnTo>
                      <a:lnTo>
                        <a:pt x="1251" y="135"/>
                      </a:lnTo>
                      <a:lnTo>
                        <a:pt x="1228" y="118"/>
                      </a:lnTo>
                      <a:lnTo>
                        <a:pt x="1208" y="106"/>
                      </a:lnTo>
                      <a:lnTo>
                        <a:pt x="1190" y="94"/>
                      </a:lnTo>
                      <a:lnTo>
                        <a:pt x="1178" y="86"/>
                      </a:lnTo>
                      <a:lnTo>
                        <a:pt x="1168" y="81"/>
                      </a:lnTo>
                      <a:lnTo>
                        <a:pt x="1167" y="80"/>
                      </a:lnTo>
                      <a:lnTo>
                        <a:pt x="1167" y="80"/>
                      </a:lnTo>
                      <a:close/>
                    </a:path>
                  </a:pathLst>
                </a:custGeom>
                <a:solidFill>
                  <a:srgbClr val="d1c4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H="1">
                  <a:off x="1270440" y="5618160"/>
                  <a:ext cx="1885680" cy="570960"/>
                </a:xfrm>
                <a:custGeom>
                  <a:avLst/>
                  <a:gdLst/>
                  <a:ahLst/>
                  <a:rect l="l" t="t" r="r" b="b"/>
                  <a:pathLst>
                    <a:path w="2899" h="1011">
                      <a:moveTo>
                        <a:pt x="0" y="666"/>
                      </a:moveTo>
                      <a:lnTo>
                        <a:pt x="5" y="666"/>
                      </a:lnTo>
                      <a:lnTo>
                        <a:pt x="22" y="667"/>
                      </a:lnTo>
                      <a:lnTo>
                        <a:pt x="48" y="669"/>
                      </a:lnTo>
                      <a:lnTo>
                        <a:pt x="84" y="673"/>
                      </a:lnTo>
                      <a:lnTo>
                        <a:pt x="125" y="675"/>
                      </a:lnTo>
                      <a:lnTo>
                        <a:pt x="174" y="679"/>
                      </a:lnTo>
                      <a:lnTo>
                        <a:pt x="227" y="684"/>
                      </a:lnTo>
                      <a:lnTo>
                        <a:pt x="287" y="689"/>
                      </a:lnTo>
                      <a:lnTo>
                        <a:pt x="347" y="695"/>
                      </a:lnTo>
                      <a:lnTo>
                        <a:pt x="410" y="699"/>
                      </a:lnTo>
                      <a:lnTo>
                        <a:pt x="474" y="706"/>
                      </a:lnTo>
                      <a:lnTo>
                        <a:pt x="537" y="711"/>
                      </a:lnTo>
                      <a:lnTo>
                        <a:pt x="598" y="717"/>
                      </a:lnTo>
                      <a:lnTo>
                        <a:pt x="656" y="723"/>
                      </a:lnTo>
                      <a:lnTo>
                        <a:pt x="711" y="729"/>
                      </a:lnTo>
                      <a:lnTo>
                        <a:pt x="760" y="735"/>
                      </a:lnTo>
                      <a:lnTo>
                        <a:pt x="806" y="738"/>
                      </a:lnTo>
                      <a:lnTo>
                        <a:pt x="851" y="738"/>
                      </a:lnTo>
                      <a:lnTo>
                        <a:pt x="894" y="734"/>
                      </a:lnTo>
                      <a:lnTo>
                        <a:pt x="937" y="727"/>
                      </a:lnTo>
                      <a:lnTo>
                        <a:pt x="977" y="717"/>
                      </a:lnTo>
                      <a:lnTo>
                        <a:pt x="1017" y="705"/>
                      </a:lnTo>
                      <a:lnTo>
                        <a:pt x="1053" y="689"/>
                      </a:lnTo>
                      <a:lnTo>
                        <a:pt x="1089" y="675"/>
                      </a:lnTo>
                      <a:lnTo>
                        <a:pt x="1120" y="655"/>
                      </a:lnTo>
                      <a:lnTo>
                        <a:pt x="1148" y="637"/>
                      </a:lnTo>
                      <a:lnTo>
                        <a:pt x="1175" y="618"/>
                      </a:lnTo>
                      <a:lnTo>
                        <a:pt x="1199" y="597"/>
                      </a:lnTo>
                      <a:lnTo>
                        <a:pt x="1218" y="576"/>
                      </a:lnTo>
                      <a:lnTo>
                        <a:pt x="1235" y="556"/>
                      </a:lnTo>
                      <a:lnTo>
                        <a:pt x="1247" y="536"/>
                      </a:lnTo>
                      <a:lnTo>
                        <a:pt x="1256" y="517"/>
                      </a:lnTo>
                      <a:lnTo>
                        <a:pt x="1263" y="494"/>
                      </a:lnTo>
                      <a:lnTo>
                        <a:pt x="1278" y="466"/>
                      </a:lnTo>
                      <a:lnTo>
                        <a:pt x="1296" y="434"/>
                      </a:lnTo>
                      <a:lnTo>
                        <a:pt x="1320" y="399"/>
                      </a:lnTo>
                      <a:lnTo>
                        <a:pt x="1346" y="360"/>
                      </a:lnTo>
                      <a:lnTo>
                        <a:pt x="1377" y="320"/>
                      </a:lnTo>
                      <a:lnTo>
                        <a:pt x="1411" y="279"/>
                      </a:lnTo>
                      <a:lnTo>
                        <a:pt x="1450" y="238"/>
                      </a:lnTo>
                      <a:lnTo>
                        <a:pt x="1490" y="196"/>
                      </a:lnTo>
                      <a:lnTo>
                        <a:pt x="1532" y="158"/>
                      </a:lnTo>
                      <a:lnTo>
                        <a:pt x="1575" y="121"/>
                      </a:lnTo>
                      <a:lnTo>
                        <a:pt x="1622" y="89"/>
                      </a:lnTo>
                      <a:lnTo>
                        <a:pt x="1667" y="60"/>
                      </a:lnTo>
                      <a:lnTo>
                        <a:pt x="1715" y="37"/>
                      </a:lnTo>
                      <a:lnTo>
                        <a:pt x="1764" y="18"/>
                      </a:lnTo>
                      <a:lnTo>
                        <a:pt x="1812" y="8"/>
                      </a:lnTo>
                      <a:lnTo>
                        <a:pt x="1866" y="3"/>
                      </a:lnTo>
                      <a:lnTo>
                        <a:pt x="1931" y="0"/>
                      </a:lnTo>
                      <a:lnTo>
                        <a:pt x="2005" y="0"/>
                      </a:lnTo>
                      <a:lnTo>
                        <a:pt x="2086" y="3"/>
                      </a:lnTo>
                      <a:lnTo>
                        <a:pt x="2173" y="6"/>
                      </a:lnTo>
                      <a:lnTo>
                        <a:pt x="2263" y="14"/>
                      </a:lnTo>
                      <a:lnTo>
                        <a:pt x="2352" y="22"/>
                      </a:lnTo>
                      <a:lnTo>
                        <a:pt x="2443" y="30"/>
                      </a:lnTo>
                      <a:lnTo>
                        <a:pt x="2529" y="39"/>
                      </a:lnTo>
                      <a:lnTo>
                        <a:pt x="2611" y="48"/>
                      </a:lnTo>
                      <a:lnTo>
                        <a:pt x="2686" y="56"/>
                      </a:lnTo>
                      <a:lnTo>
                        <a:pt x="2752" y="65"/>
                      </a:lnTo>
                      <a:lnTo>
                        <a:pt x="2806" y="71"/>
                      </a:lnTo>
                      <a:lnTo>
                        <a:pt x="2849" y="77"/>
                      </a:lnTo>
                      <a:lnTo>
                        <a:pt x="2874" y="81"/>
                      </a:lnTo>
                      <a:lnTo>
                        <a:pt x="2885" y="84"/>
                      </a:lnTo>
                      <a:lnTo>
                        <a:pt x="2885" y="85"/>
                      </a:lnTo>
                      <a:lnTo>
                        <a:pt x="2886" y="93"/>
                      </a:lnTo>
                      <a:lnTo>
                        <a:pt x="2886" y="98"/>
                      </a:lnTo>
                      <a:lnTo>
                        <a:pt x="2888" y="106"/>
                      </a:lnTo>
                      <a:lnTo>
                        <a:pt x="2890" y="112"/>
                      </a:lnTo>
                      <a:lnTo>
                        <a:pt x="2892" y="121"/>
                      </a:lnTo>
                      <a:lnTo>
                        <a:pt x="2893" y="129"/>
                      </a:lnTo>
                      <a:lnTo>
                        <a:pt x="2894" y="138"/>
                      </a:lnTo>
                      <a:lnTo>
                        <a:pt x="2895" y="147"/>
                      </a:lnTo>
                      <a:lnTo>
                        <a:pt x="2896" y="155"/>
                      </a:lnTo>
                      <a:lnTo>
                        <a:pt x="2897" y="164"/>
                      </a:lnTo>
                      <a:lnTo>
                        <a:pt x="2898" y="173"/>
                      </a:lnTo>
                      <a:lnTo>
                        <a:pt x="2898" y="181"/>
                      </a:lnTo>
                      <a:lnTo>
                        <a:pt x="2899" y="190"/>
                      </a:lnTo>
                      <a:lnTo>
                        <a:pt x="2888" y="186"/>
                      </a:lnTo>
                      <a:lnTo>
                        <a:pt x="2860" y="179"/>
                      </a:lnTo>
                      <a:lnTo>
                        <a:pt x="2813" y="166"/>
                      </a:lnTo>
                      <a:lnTo>
                        <a:pt x="2754" y="154"/>
                      </a:lnTo>
                      <a:lnTo>
                        <a:pt x="2679" y="139"/>
                      </a:lnTo>
                      <a:lnTo>
                        <a:pt x="2598" y="124"/>
                      </a:lnTo>
                      <a:lnTo>
                        <a:pt x="2506" y="112"/>
                      </a:lnTo>
                      <a:lnTo>
                        <a:pt x="2409" y="105"/>
                      </a:lnTo>
                      <a:lnTo>
                        <a:pt x="2307" y="99"/>
                      </a:lnTo>
                      <a:lnTo>
                        <a:pt x="2203" y="101"/>
                      </a:lnTo>
                      <a:lnTo>
                        <a:pt x="2099" y="109"/>
                      </a:lnTo>
                      <a:lnTo>
                        <a:pt x="2000" y="128"/>
                      </a:lnTo>
                      <a:lnTo>
                        <a:pt x="1902" y="154"/>
                      </a:lnTo>
                      <a:lnTo>
                        <a:pt x="1813" y="193"/>
                      </a:lnTo>
                      <a:lnTo>
                        <a:pt x="1731" y="245"/>
                      </a:lnTo>
                      <a:lnTo>
                        <a:pt x="1662" y="310"/>
                      </a:lnTo>
                      <a:lnTo>
                        <a:pt x="1605" y="381"/>
                      </a:lnTo>
                      <a:lnTo>
                        <a:pt x="1560" y="453"/>
                      </a:lnTo>
                      <a:lnTo>
                        <a:pt x="1525" y="522"/>
                      </a:lnTo>
                      <a:lnTo>
                        <a:pt x="1498" y="590"/>
                      </a:lnTo>
                      <a:lnTo>
                        <a:pt x="1472" y="654"/>
                      </a:lnTo>
                      <a:lnTo>
                        <a:pt x="1447" y="716"/>
                      </a:lnTo>
                      <a:lnTo>
                        <a:pt x="1418" y="772"/>
                      </a:lnTo>
                      <a:lnTo>
                        <a:pt x="1383" y="826"/>
                      </a:lnTo>
                      <a:lnTo>
                        <a:pt x="1335" y="873"/>
                      </a:lnTo>
                      <a:lnTo>
                        <a:pt x="1275" y="915"/>
                      </a:lnTo>
                      <a:lnTo>
                        <a:pt x="1199" y="950"/>
                      </a:lnTo>
                      <a:lnTo>
                        <a:pt x="1103" y="978"/>
                      </a:lnTo>
                      <a:lnTo>
                        <a:pt x="984" y="998"/>
                      </a:lnTo>
                      <a:lnTo>
                        <a:pt x="838" y="1010"/>
                      </a:lnTo>
                      <a:lnTo>
                        <a:pt x="662" y="1011"/>
                      </a:lnTo>
                      <a:lnTo>
                        <a:pt x="454" y="1006"/>
                      </a:lnTo>
                      <a:lnTo>
                        <a:pt x="0" y="666"/>
                      </a:lnTo>
                      <a:lnTo>
                        <a:pt x="0" y="666"/>
                      </a:lnTo>
                      <a:close/>
                    </a:path>
                  </a:pathLst>
                </a:custGeom>
                <a:solidFill>
                  <a:srgbClr val="bfad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H="1">
                  <a:off x="1976760" y="5014440"/>
                  <a:ext cx="1156320" cy="638640"/>
                </a:xfrm>
                <a:custGeom>
                  <a:avLst/>
                  <a:gdLst/>
                  <a:ahLst/>
                  <a:rect l="l" t="t" r="r" b="b"/>
                  <a:pathLst>
                    <a:path w="1778" h="1132">
                      <a:moveTo>
                        <a:pt x="637" y="21"/>
                      </a:moveTo>
                      <a:lnTo>
                        <a:pt x="643" y="21"/>
                      </a:lnTo>
                      <a:lnTo>
                        <a:pt x="657" y="24"/>
                      </a:lnTo>
                      <a:lnTo>
                        <a:pt x="679" y="26"/>
                      </a:lnTo>
                      <a:lnTo>
                        <a:pt x="711" y="31"/>
                      </a:lnTo>
                      <a:lnTo>
                        <a:pt x="746" y="36"/>
                      </a:lnTo>
                      <a:lnTo>
                        <a:pt x="786" y="45"/>
                      </a:lnTo>
                      <a:lnTo>
                        <a:pt x="829" y="53"/>
                      </a:lnTo>
                      <a:lnTo>
                        <a:pt x="875" y="66"/>
                      </a:lnTo>
                      <a:lnTo>
                        <a:pt x="919" y="77"/>
                      </a:lnTo>
                      <a:lnTo>
                        <a:pt x="964" y="90"/>
                      </a:lnTo>
                      <a:lnTo>
                        <a:pt x="1005" y="105"/>
                      </a:lnTo>
                      <a:lnTo>
                        <a:pt x="1044" y="124"/>
                      </a:lnTo>
                      <a:lnTo>
                        <a:pt x="1077" y="145"/>
                      </a:lnTo>
                      <a:lnTo>
                        <a:pt x="1104" y="167"/>
                      </a:lnTo>
                      <a:lnTo>
                        <a:pt x="1122" y="192"/>
                      </a:lnTo>
                      <a:lnTo>
                        <a:pt x="1133" y="218"/>
                      </a:lnTo>
                      <a:lnTo>
                        <a:pt x="1132" y="245"/>
                      </a:lnTo>
                      <a:lnTo>
                        <a:pt x="1122" y="270"/>
                      </a:lnTo>
                      <a:lnTo>
                        <a:pt x="1104" y="293"/>
                      </a:lnTo>
                      <a:lnTo>
                        <a:pt x="1080" y="317"/>
                      </a:lnTo>
                      <a:lnTo>
                        <a:pt x="1050" y="336"/>
                      </a:lnTo>
                      <a:lnTo>
                        <a:pt x="1016" y="357"/>
                      </a:lnTo>
                      <a:lnTo>
                        <a:pt x="979" y="375"/>
                      </a:lnTo>
                      <a:lnTo>
                        <a:pt x="941" y="393"/>
                      </a:lnTo>
                      <a:lnTo>
                        <a:pt x="902" y="407"/>
                      </a:lnTo>
                      <a:lnTo>
                        <a:pt x="864" y="419"/>
                      </a:lnTo>
                      <a:lnTo>
                        <a:pt x="828" y="430"/>
                      </a:lnTo>
                      <a:lnTo>
                        <a:pt x="797" y="440"/>
                      </a:lnTo>
                      <a:lnTo>
                        <a:pt x="770" y="448"/>
                      </a:lnTo>
                      <a:lnTo>
                        <a:pt x="749" y="454"/>
                      </a:lnTo>
                      <a:lnTo>
                        <a:pt x="735" y="457"/>
                      </a:lnTo>
                      <a:lnTo>
                        <a:pt x="732" y="459"/>
                      </a:lnTo>
                      <a:lnTo>
                        <a:pt x="727" y="460"/>
                      </a:lnTo>
                      <a:lnTo>
                        <a:pt x="714" y="466"/>
                      </a:lnTo>
                      <a:lnTo>
                        <a:pt x="696" y="474"/>
                      </a:lnTo>
                      <a:lnTo>
                        <a:pt x="675" y="486"/>
                      </a:lnTo>
                      <a:lnTo>
                        <a:pt x="650" y="499"/>
                      </a:lnTo>
                      <a:lnTo>
                        <a:pt x="627" y="517"/>
                      </a:lnTo>
                      <a:lnTo>
                        <a:pt x="605" y="533"/>
                      </a:lnTo>
                      <a:lnTo>
                        <a:pt x="588" y="554"/>
                      </a:lnTo>
                      <a:lnTo>
                        <a:pt x="576" y="572"/>
                      </a:lnTo>
                      <a:lnTo>
                        <a:pt x="574" y="593"/>
                      </a:lnTo>
                      <a:lnTo>
                        <a:pt x="581" y="613"/>
                      </a:lnTo>
                      <a:lnTo>
                        <a:pt x="601" y="634"/>
                      </a:lnTo>
                      <a:lnTo>
                        <a:pt x="634" y="653"/>
                      </a:lnTo>
                      <a:lnTo>
                        <a:pt x="685" y="671"/>
                      </a:lnTo>
                      <a:lnTo>
                        <a:pt x="752" y="688"/>
                      </a:lnTo>
                      <a:lnTo>
                        <a:pt x="842" y="703"/>
                      </a:lnTo>
                      <a:lnTo>
                        <a:pt x="937" y="716"/>
                      </a:lnTo>
                      <a:lnTo>
                        <a:pt x="1024" y="727"/>
                      </a:lnTo>
                      <a:lnTo>
                        <a:pt x="1105" y="737"/>
                      </a:lnTo>
                      <a:lnTo>
                        <a:pt x="1181" y="747"/>
                      </a:lnTo>
                      <a:lnTo>
                        <a:pt x="1248" y="754"/>
                      </a:lnTo>
                      <a:lnTo>
                        <a:pt x="1309" y="763"/>
                      </a:lnTo>
                      <a:lnTo>
                        <a:pt x="1364" y="773"/>
                      </a:lnTo>
                      <a:lnTo>
                        <a:pt x="1416" y="782"/>
                      </a:lnTo>
                      <a:lnTo>
                        <a:pt x="1459" y="790"/>
                      </a:lnTo>
                      <a:lnTo>
                        <a:pt x="1499" y="800"/>
                      </a:lnTo>
                      <a:lnTo>
                        <a:pt x="1532" y="811"/>
                      </a:lnTo>
                      <a:lnTo>
                        <a:pt x="1561" y="824"/>
                      </a:lnTo>
                      <a:lnTo>
                        <a:pt x="1584" y="838"/>
                      </a:lnTo>
                      <a:lnTo>
                        <a:pt x="1603" y="855"/>
                      </a:lnTo>
                      <a:lnTo>
                        <a:pt x="1619" y="874"/>
                      </a:lnTo>
                      <a:lnTo>
                        <a:pt x="1631" y="896"/>
                      </a:lnTo>
                      <a:lnTo>
                        <a:pt x="1619" y="916"/>
                      </a:lnTo>
                      <a:lnTo>
                        <a:pt x="1573" y="936"/>
                      </a:lnTo>
                      <a:lnTo>
                        <a:pt x="1497" y="951"/>
                      </a:lnTo>
                      <a:lnTo>
                        <a:pt x="1395" y="968"/>
                      </a:lnTo>
                      <a:lnTo>
                        <a:pt x="1273" y="980"/>
                      </a:lnTo>
                      <a:lnTo>
                        <a:pt x="1134" y="992"/>
                      </a:lnTo>
                      <a:lnTo>
                        <a:pt x="986" y="1001"/>
                      </a:lnTo>
                      <a:lnTo>
                        <a:pt x="833" y="1010"/>
                      </a:lnTo>
                      <a:lnTo>
                        <a:pt x="678" y="1015"/>
                      </a:lnTo>
                      <a:lnTo>
                        <a:pt x="528" y="1021"/>
                      </a:lnTo>
                      <a:lnTo>
                        <a:pt x="386" y="1025"/>
                      </a:lnTo>
                      <a:lnTo>
                        <a:pt x="261" y="1029"/>
                      </a:lnTo>
                      <a:lnTo>
                        <a:pt x="153" y="1030"/>
                      </a:lnTo>
                      <a:lnTo>
                        <a:pt x="72" y="1032"/>
                      </a:lnTo>
                      <a:lnTo>
                        <a:pt x="18" y="1033"/>
                      </a:lnTo>
                      <a:lnTo>
                        <a:pt x="0" y="1034"/>
                      </a:lnTo>
                      <a:lnTo>
                        <a:pt x="22" y="1132"/>
                      </a:lnTo>
                      <a:lnTo>
                        <a:pt x="39" y="1132"/>
                      </a:lnTo>
                      <a:lnTo>
                        <a:pt x="90" y="1131"/>
                      </a:lnTo>
                      <a:lnTo>
                        <a:pt x="168" y="1128"/>
                      </a:lnTo>
                      <a:lnTo>
                        <a:pt x="271" y="1126"/>
                      </a:lnTo>
                      <a:lnTo>
                        <a:pt x="393" y="1121"/>
                      </a:lnTo>
                      <a:lnTo>
                        <a:pt x="530" y="1116"/>
                      </a:lnTo>
                      <a:lnTo>
                        <a:pt x="678" y="1109"/>
                      </a:lnTo>
                      <a:lnTo>
                        <a:pt x="833" y="1100"/>
                      </a:lnTo>
                      <a:lnTo>
                        <a:pt x="986" y="1089"/>
                      </a:lnTo>
                      <a:lnTo>
                        <a:pt x="1140" y="1078"/>
                      </a:lnTo>
                      <a:lnTo>
                        <a:pt x="1286" y="1064"/>
                      </a:lnTo>
                      <a:lnTo>
                        <a:pt x="1421" y="1050"/>
                      </a:lnTo>
                      <a:lnTo>
                        <a:pt x="1539" y="1031"/>
                      </a:lnTo>
                      <a:lnTo>
                        <a:pt x="1639" y="1012"/>
                      </a:lnTo>
                      <a:lnTo>
                        <a:pt x="1713" y="990"/>
                      </a:lnTo>
                      <a:lnTo>
                        <a:pt x="1758" y="965"/>
                      </a:lnTo>
                      <a:lnTo>
                        <a:pt x="1777" y="938"/>
                      </a:lnTo>
                      <a:lnTo>
                        <a:pt x="1778" y="912"/>
                      </a:lnTo>
                      <a:lnTo>
                        <a:pt x="1763" y="885"/>
                      </a:lnTo>
                      <a:lnTo>
                        <a:pt x="1736" y="858"/>
                      </a:lnTo>
                      <a:lnTo>
                        <a:pt x="1695" y="832"/>
                      </a:lnTo>
                      <a:lnTo>
                        <a:pt x="1642" y="805"/>
                      </a:lnTo>
                      <a:lnTo>
                        <a:pt x="1581" y="781"/>
                      </a:lnTo>
                      <a:lnTo>
                        <a:pt x="1513" y="758"/>
                      </a:lnTo>
                      <a:lnTo>
                        <a:pt x="1437" y="734"/>
                      </a:lnTo>
                      <a:lnTo>
                        <a:pt x="1358" y="713"/>
                      </a:lnTo>
                      <a:lnTo>
                        <a:pt x="1275" y="694"/>
                      </a:lnTo>
                      <a:lnTo>
                        <a:pt x="1192" y="679"/>
                      </a:lnTo>
                      <a:lnTo>
                        <a:pt x="1109" y="665"/>
                      </a:lnTo>
                      <a:lnTo>
                        <a:pt x="1029" y="654"/>
                      </a:lnTo>
                      <a:lnTo>
                        <a:pt x="952" y="645"/>
                      </a:lnTo>
                      <a:lnTo>
                        <a:pt x="881" y="640"/>
                      </a:lnTo>
                      <a:lnTo>
                        <a:pt x="818" y="635"/>
                      </a:lnTo>
                      <a:lnTo>
                        <a:pt x="771" y="629"/>
                      </a:lnTo>
                      <a:lnTo>
                        <a:pt x="734" y="621"/>
                      </a:lnTo>
                      <a:lnTo>
                        <a:pt x="710" y="612"/>
                      </a:lnTo>
                      <a:lnTo>
                        <a:pt x="693" y="600"/>
                      </a:lnTo>
                      <a:lnTo>
                        <a:pt x="687" y="587"/>
                      </a:lnTo>
                      <a:lnTo>
                        <a:pt x="687" y="576"/>
                      </a:lnTo>
                      <a:lnTo>
                        <a:pt x="694" y="564"/>
                      </a:lnTo>
                      <a:lnTo>
                        <a:pt x="706" y="551"/>
                      </a:lnTo>
                      <a:lnTo>
                        <a:pt x="721" y="539"/>
                      </a:lnTo>
                      <a:lnTo>
                        <a:pt x="739" y="527"/>
                      </a:lnTo>
                      <a:lnTo>
                        <a:pt x="760" y="518"/>
                      </a:lnTo>
                      <a:lnTo>
                        <a:pt x="781" y="508"/>
                      </a:lnTo>
                      <a:lnTo>
                        <a:pt x="801" y="501"/>
                      </a:lnTo>
                      <a:lnTo>
                        <a:pt x="818" y="496"/>
                      </a:lnTo>
                      <a:lnTo>
                        <a:pt x="835" y="496"/>
                      </a:lnTo>
                      <a:lnTo>
                        <a:pt x="850" y="492"/>
                      </a:lnTo>
                      <a:lnTo>
                        <a:pt x="874" y="486"/>
                      </a:lnTo>
                      <a:lnTo>
                        <a:pt x="901" y="477"/>
                      </a:lnTo>
                      <a:lnTo>
                        <a:pt x="934" y="468"/>
                      </a:lnTo>
                      <a:lnTo>
                        <a:pt x="969" y="454"/>
                      </a:lnTo>
                      <a:lnTo>
                        <a:pt x="1007" y="438"/>
                      </a:lnTo>
                      <a:lnTo>
                        <a:pt x="1044" y="422"/>
                      </a:lnTo>
                      <a:lnTo>
                        <a:pt x="1083" y="404"/>
                      </a:lnTo>
                      <a:lnTo>
                        <a:pt x="1118" y="383"/>
                      </a:lnTo>
                      <a:lnTo>
                        <a:pt x="1150" y="362"/>
                      </a:lnTo>
                      <a:lnTo>
                        <a:pt x="1180" y="340"/>
                      </a:lnTo>
                      <a:lnTo>
                        <a:pt x="1204" y="318"/>
                      </a:lnTo>
                      <a:lnTo>
                        <a:pt x="1220" y="293"/>
                      </a:lnTo>
                      <a:lnTo>
                        <a:pt x="1230" y="269"/>
                      </a:lnTo>
                      <a:lnTo>
                        <a:pt x="1231" y="245"/>
                      </a:lnTo>
                      <a:lnTo>
                        <a:pt x="1223" y="221"/>
                      </a:lnTo>
                      <a:lnTo>
                        <a:pt x="1206" y="197"/>
                      </a:lnTo>
                      <a:lnTo>
                        <a:pt x="1192" y="177"/>
                      </a:lnTo>
                      <a:lnTo>
                        <a:pt x="1175" y="160"/>
                      </a:lnTo>
                      <a:lnTo>
                        <a:pt x="1159" y="143"/>
                      </a:lnTo>
                      <a:lnTo>
                        <a:pt x="1142" y="127"/>
                      </a:lnTo>
                      <a:lnTo>
                        <a:pt x="1126" y="115"/>
                      </a:lnTo>
                      <a:lnTo>
                        <a:pt x="1110" y="103"/>
                      </a:lnTo>
                      <a:lnTo>
                        <a:pt x="1096" y="95"/>
                      </a:lnTo>
                      <a:lnTo>
                        <a:pt x="1080" y="87"/>
                      </a:lnTo>
                      <a:lnTo>
                        <a:pt x="1067" y="80"/>
                      </a:lnTo>
                      <a:lnTo>
                        <a:pt x="1055" y="74"/>
                      </a:lnTo>
                      <a:lnTo>
                        <a:pt x="1045" y="71"/>
                      </a:lnTo>
                      <a:lnTo>
                        <a:pt x="1036" y="67"/>
                      </a:lnTo>
                      <a:lnTo>
                        <a:pt x="1032" y="67"/>
                      </a:lnTo>
                      <a:lnTo>
                        <a:pt x="1027" y="66"/>
                      </a:lnTo>
                      <a:lnTo>
                        <a:pt x="1026" y="66"/>
                      </a:lnTo>
                      <a:lnTo>
                        <a:pt x="1024" y="64"/>
                      </a:lnTo>
                      <a:lnTo>
                        <a:pt x="1022" y="62"/>
                      </a:lnTo>
                      <a:lnTo>
                        <a:pt x="1015" y="58"/>
                      </a:lnTo>
                      <a:lnTo>
                        <a:pt x="1010" y="56"/>
                      </a:lnTo>
                      <a:lnTo>
                        <a:pt x="998" y="49"/>
                      </a:lnTo>
                      <a:lnTo>
                        <a:pt x="989" y="45"/>
                      </a:lnTo>
                      <a:lnTo>
                        <a:pt x="975" y="38"/>
                      </a:lnTo>
                      <a:lnTo>
                        <a:pt x="963" y="32"/>
                      </a:lnTo>
                      <a:lnTo>
                        <a:pt x="947" y="27"/>
                      </a:lnTo>
                      <a:lnTo>
                        <a:pt x="930" y="20"/>
                      </a:lnTo>
                      <a:lnTo>
                        <a:pt x="910" y="15"/>
                      </a:lnTo>
                      <a:lnTo>
                        <a:pt x="890" y="10"/>
                      </a:lnTo>
                      <a:lnTo>
                        <a:pt x="868" y="6"/>
                      </a:lnTo>
                      <a:lnTo>
                        <a:pt x="846" y="3"/>
                      </a:lnTo>
                      <a:lnTo>
                        <a:pt x="822" y="0"/>
                      </a:lnTo>
                      <a:lnTo>
                        <a:pt x="798" y="0"/>
                      </a:lnTo>
                      <a:lnTo>
                        <a:pt x="794" y="0"/>
                      </a:lnTo>
                      <a:lnTo>
                        <a:pt x="788" y="0"/>
                      </a:lnTo>
                      <a:lnTo>
                        <a:pt x="780" y="1"/>
                      </a:lnTo>
                      <a:lnTo>
                        <a:pt x="770" y="4"/>
                      </a:lnTo>
                      <a:lnTo>
                        <a:pt x="756" y="5"/>
                      </a:lnTo>
                      <a:lnTo>
                        <a:pt x="743" y="7"/>
                      </a:lnTo>
                      <a:lnTo>
                        <a:pt x="729" y="8"/>
                      </a:lnTo>
                      <a:lnTo>
                        <a:pt x="714" y="10"/>
                      </a:lnTo>
                      <a:lnTo>
                        <a:pt x="700" y="11"/>
                      </a:lnTo>
                      <a:lnTo>
                        <a:pt x="686" y="14"/>
                      </a:lnTo>
                      <a:lnTo>
                        <a:pt x="671" y="16"/>
                      </a:lnTo>
                      <a:lnTo>
                        <a:pt x="660" y="18"/>
                      </a:lnTo>
                      <a:lnTo>
                        <a:pt x="650" y="19"/>
                      </a:lnTo>
                      <a:lnTo>
                        <a:pt x="644" y="20"/>
                      </a:lnTo>
                      <a:lnTo>
                        <a:pt x="638" y="20"/>
                      </a:lnTo>
                      <a:lnTo>
                        <a:pt x="637" y="21"/>
                      </a:lnTo>
                      <a:lnTo>
                        <a:pt x="637" y="21"/>
                      </a:lnTo>
                      <a:close/>
                    </a:path>
                  </a:pathLst>
                </a:custGeom>
                <a:solidFill>
                  <a:srgbClr val="b39f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 flipH="1">
                  <a:off x="1465560" y="5896080"/>
                  <a:ext cx="1722960" cy="492840"/>
                </a:xfrm>
                <a:custGeom>
                  <a:avLst/>
                  <a:gdLst/>
                  <a:ahLst/>
                  <a:rect l="l" t="t" r="r" b="b"/>
                  <a:pathLst>
                    <a:path w="2650" h="874">
                      <a:moveTo>
                        <a:pt x="46" y="0"/>
                      </a:moveTo>
                      <a:lnTo>
                        <a:pt x="46" y="2"/>
                      </a:lnTo>
                      <a:lnTo>
                        <a:pt x="46" y="6"/>
                      </a:lnTo>
                      <a:lnTo>
                        <a:pt x="48" y="10"/>
                      </a:lnTo>
                      <a:lnTo>
                        <a:pt x="51" y="20"/>
                      </a:lnTo>
                      <a:lnTo>
                        <a:pt x="53" y="30"/>
                      </a:lnTo>
                      <a:lnTo>
                        <a:pt x="57" y="44"/>
                      </a:lnTo>
                      <a:lnTo>
                        <a:pt x="63" y="57"/>
                      </a:lnTo>
                      <a:lnTo>
                        <a:pt x="71" y="72"/>
                      </a:lnTo>
                      <a:lnTo>
                        <a:pt x="78" y="88"/>
                      </a:lnTo>
                      <a:lnTo>
                        <a:pt x="90" y="106"/>
                      </a:lnTo>
                      <a:lnTo>
                        <a:pt x="103" y="124"/>
                      </a:lnTo>
                      <a:lnTo>
                        <a:pt x="119" y="143"/>
                      </a:lnTo>
                      <a:lnTo>
                        <a:pt x="136" y="162"/>
                      </a:lnTo>
                      <a:lnTo>
                        <a:pt x="158" y="182"/>
                      </a:lnTo>
                      <a:lnTo>
                        <a:pt x="181" y="201"/>
                      </a:lnTo>
                      <a:lnTo>
                        <a:pt x="208" y="220"/>
                      </a:lnTo>
                      <a:lnTo>
                        <a:pt x="235" y="238"/>
                      </a:lnTo>
                      <a:lnTo>
                        <a:pt x="266" y="256"/>
                      </a:lnTo>
                      <a:lnTo>
                        <a:pt x="297" y="271"/>
                      </a:lnTo>
                      <a:lnTo>
                        <a:pt x="331" y="288"/>
                      </a:lnTo>
                      <a:lnTo>
                        <a:pt x="364" y="300"/>
                      </a:lnTo>
                      <a:lnTo>
                        <a:pt x="396" y="313"/>
                      </a:lnTo>
                      <a:lnTo>
                        <a:pt x="428" y="326"/>
                      </a:lnTo>
                      <a:lnTo>
                        <a:pt x="460" y="338"/>
                      </a:lnTo>
                      <a:lnTo>
                        <a:pt x="490" y="347"/>
                      </a:lnTo>
                      <a:lnTo>
                        <a:pt x="517" y="356"/>
                      </a:lnTo>
                      <a:lnTo>
                        <a:pt x="543" y="363"/>
                      </a:lnTo>
                      <a:lnTo>
                        <a:pt x="567" y="371"/>
                      </a:lnTo>
                      <a:lnTo>
                        <a:pt x="586" y="377"/>
                      </a:lnTo>
                      <a:lnTo>
                        <a:pt x="604" y="383"/>
                      </a:lnTo>
                      <a:lnTo>
                        <a:pt x="616" y="387"/>
                      </a:lnTo>
                      <a:lnTo>
                        <a:pt x="625" y="393"/>
                      </a:lnTo>
                      <a:lnTo>
                        <a:pt x="630" y="396"/>
                      </a:lnTo>
                      <a:lnTo>
                        <a:pt x="639" y="405"/>
                      </a:lnTo>
                      <a:lnTo>
                        <a:pt x="650" y="414"/>
                      </a:lnTo>
                      <a:lnTo>
                        <a:pt x="664" y="426"/>
                      </a:lnTo>
                      <a:lnTo>
                        <a:pt x="680" y="437"/>
                      </a:lnTo>
                      <a:lnTo>
                        <a:pt x="698" y="452"/>
                      </a:lnTo>
                      <a:lnTo>
                        <a:pt x="719" y="465"/>
                      </a:lnTo>
                      <a:lnTo>
                        <a:pt x="741" y="480"/>
                      </a:lnTo>
                      <a:lnTo>
                        <a:pt x="764" y="494"/>
                      </a:lnTo>
                      <a:lnTo>
                        <a:pt x="788" y="508"/>
                      </a:lnTo>
                      <a:lnTo>
                        <a:pt x="815" y="520"/>
                      </a:lnTo>
                      <a:lnTo>
                        <a:pt x="845" y="532"/>
                      </a:lnTo>
                      <a:lnTo>
                        <a:pt x="873" y="542"/>
                      </a:lnTo>
                      <a:lnTo>
                        <a:pt x="905" y="551"/>
                      </a:lnTo>
                      <a:lnTo>
                        <a:pt x="937" y="557"/>
                      </a:lnTo>
                      <a:lnTo>
                        <a:pt x="972" y="561"/>
                      </a:lnTo>
                      <a:lnTo>
                        <a:pt x="1008" y="561"/>
                      </a:lnTo>
                      <a:lnTo>
                        <a:pt x="1050" y="562"/>
                      </a:lnTo>
                      <a:lnTo>
                        <a:pt x="1096" y="561"/>
                      </a:lnTo>
                      <a:lnTo>
                        <a:pt x="1146" y="560"/>
                      </a:lnTo>
                      <a:lnTo>
                        <a:pt x="1197" y="558"/>
                      </a:lnTo>
                      <a:lnTo>
                        <a:pt x="1251" y="555"/>
                      </a:lnTo>
                      <a:lnTo>
                        <a:pt x="1306" y="553"/>
                      </a:lnTo>
                      <a:lnTo>
                        <a:pt x="1360" y="551"/>
                      </a:lnTo>
                      <a:lnTo>
                        <a:pt x="1412" y="548"/>
                      </a:lnTo>
                      <a:lnTo>
                        <a:pt x="1463" y="544"/>
                      </a:lnTo>
                      <a:lnTo>
                        <a:pt x="1509" y="543"/>
                      </a:lnTo>
                      <a:lnTo>
                        <a:pt x="1553" y="541"/>
                      </a:lnTo>
                      <a:lnTo>
                        <a:pt x="1592" y="539"/>
                      </a:lnTo>
                      <a:lnTo>
                        <a:pt x="1625" y="539"/>
                      </a:lnTo>
                      <a:lnTo>
                        <a:pt x="1652" y="539"/>
                      </a:lnTo>
                      <a:lnTo>
                        <a:pt x="1670" y="541"/>
                      </a:lnTo>
                      <a:lnTo>
                        <a:pt x="1688" y="543"/>
                      </a:lnTo>
                      <a:lnTo>
                        <a:pt x="1712" y="548"/>
                      </a:lnTo>
                      <a:lnTo>
                        <a:pt x="1743" y="555"/>
                      </a:lnTo>
                      <a:lnTo>
                        <a:pt x="1780" y="564"/>
                      </a:lnTo>
                      <a:lnTo>
                        <a:pt x="1817" y="573"/>
                      </a:lnTo>
                      <a:lnTo>
                        <a:pt x="1859" y="584"/>
                      </a:lnTo>
                      <a:lnTo>
                        <a:pt x="1901" y="595"/>
                      </a:lnTo>
                      <a:lnTo>
                        <a:pt x="1946" y="607"/>
                      </a:lnTo>
                      <a:lnTo>
                        <a:pt x="1987" y="619"/>
                      </a:lnTo>
                      <a:lnTo>
                        <a:pt x="2029" y="630"/>
                      </a:lnTo>
                      <a:lnTo>
                        <a:pt x="2066" y="638"/>
                      </a:lnTo>
                      <a:lnTo>
                        <a:pt x="2102" y="648"/>
                      </a:lnTo>
                      <a:lnTo>
                        <a:pt x="2131" y="657"/>
                      </a:lnTo>
                      <a:lnTo>
                        <a:pt x="2156" y="663"/>
                      </a:lnTo>
                      <a:lnTo>
                        <a:pt x="2172" y="668"/>
                      </a:lnTo>
                      <a:lnTo>
                        <a:pt x="2181" y="672"/>
                      </a:lnTo>
                      <a:lnTo>
                        <a:pt x="2190" y="672"/>
                      </a:lnTo>
                      <a:lnTo>
                        <a:pt x="2207" y="672"/>
                      </a:lnTo>
                      <a:lnTo>
                        <a:pt x="2232" y="672"/>
                      </a:lnTo>
                      <a:lnTo>
                        <a:pt x="2263" y="673"/>
                      </a:lnTo>
                      <a:lnTo>
                        <a:pt x="2298" y="673"/>
                      </a:lnTo>
                      <a:lnTo>
                        <a:pt x="2339" y="674"/>
                      </a:lnTo>
                      <a:lnTo>
                        <a:pt x="2380" y="674"/>
                      </a:lnTo>
                      <a:lnTo>
                        <a:pt x="2423" y="675"/>
                      </a:lnTo>
                      <a:lnTo>
                        <a:pt x="2465" y="675"/>
                      </a:lnTo>
                      <a:lnTo>
                        <a:pt x="2506" y="675"/>
                      </a:lnTo>
                      <a:lnTo>
                        <a:pt x="2544" y="675"/>
                      </a:lnTo>
                      <a:lnTo>
                        <a:pt x="2579" y="675"/>
                      </a:lnTo>
                      <a:lnTo>
                        <a:pt x="2607" y="675"/>
                      </a:lnTo>
                      <a:lnTo>
                        <a:pt x="2629" y="675"/>
                      </a:lnTo>
                      <a:lnTo>
                        <a:pt x="2643" y="675"/>
                      </a:lnTo>
                      <a:lnTo>
                        <a:pt x="2650" y="676"/>
                      </a:lnTo>
                      <a:lnTo>
                        <a:pt x="2647" y="676"/>
                      </a:lnTo>
                      <a:lnTo>
                        <a:pt x="2641" y="678"/>
                      </a:lnTo>
                      <a:lnTo>
                        <a:pt x="2633" y="682"/>
                      </a:lnTo>
                      <a:lnTo>
                        <a:pt x="2622" y="687"/>
                      </a:lnTo>
                      <a:lnTo>
                        <a:pt x="2607" y="693"/>
                      </a:lnTo>
                      <a:lnTo>
                        <a:pt x="2591" y="700"/>
                      </a:lnTo>
                      <a:lnTo>
                        <a:pt x="2571" y="708"/>
                      </a:lnTo>
                      <a:lnTo>
                        <a:pt x="2550" y="718"/>
                      </a:lnTo>
                      <a:lnTo>
                        <a:pt x="2526" y="727"/>
                      </a:lnTo>
                      <a:lnTo>
                        <a:pt x="2501" y="737"/>
                      </a:lnTo>
                      <a:lnTo>
                        <a:pt x="2473" y="747"/>
                      </a:lnTo>
                      <a:lnTo>
                        <a:pt x="2444" y="758"/>
                      </a:lnTo>
                      <a:lnTo>
                        <a:pt x="2413" y="768"/>
                      </a:lnTo>
                      <a:lnTo>
                        <a:pt x="2383" y="778"/>
                      </a:lnTo>
                      <a:lnTo>
                        <a:pt x="2351" y="788"/>
                      </a:lnTo>
                      <a:lnTo>
                        <a:pt x="2319" y="799"/>
                      </a:lnTo>
                      <a:lnTo>
                        <a:pt x="2287" y="809"/>
                      </a:lnTo>
                      <a:lnTo>
                        <a:pt x="2260" y="818"/>
                      </a:lnTo>
                      <a:lnTo>
                        <a:pt x="2233" y="824"/>
                      </a:lnTo>
                      <a:lnTo>
                        <a:pt x="2211" y="833"/>
                      </a:lnTo>
                      <a:lnTo>
                        <a:pt x="2189" y="839"/>
                      </a:lnTo>
                      <a:lnTo>
                        <a:pt x="2170" y="845"/>
                      </a:lnTo>
                      <a:lnTo>
                        <a:pt x="2152" y="851"/>
                      </a:lnTo>
                      <a:lnTo>
                        <a:pt x="2135" y="856"/>
                      </a:lnTo>
                      <a:lnTo>
                        <a:pt x="2117" y="861"/>
                      </a:lnTo>
                      <a:lnTo>
                        <a:pt x="2102" y="865"/>
                      </a:lnTo>
                      <a:lnTo>
                        <a:pt x="2083" y="867"/>
                      </a:lnTo>
                      <a:lnTo>
                        <a:pt x="2066" y="871"/>
                      </a:lnTo>
                      <a:lnTo>
                        <a:pt x="2045" y="872"/>
                      </a:lnTo>
                      <a:lnTo>
                        <a:pt x="2024" y="874"/>
                      </a:lnTo>
                      <a:lnTo>
                        <a:pt x="2001" y="874"/>
                      </a:lnTo>
                      <a:lnTo>
                        <a:pt x="1977" y="874"/>
                      </a:lnTo>
                      <a:lnTo>
                        <a:pt x="1946" y="874"/>
                      </a:lnTo>
                      <a:lnTo>
                        <a:pt x="1910" y="872"/>
                      </a:lnTo>
                      <a:lnTo>
                        <a:pt x="1869" y="867"/>
                      </a:lnTo>
                      <a:lnTo>
                        <a:pt x="1826" y="862"/>
                      </a:lnTo>
                      <a:lnTo>
                        <a:pt x="1778" y="855"/>
                      </a:lnTo>
                      <a:lnTo>
                        <a:pt x="1729" y="848"/>
                      </a:lnTo>
                      <a:lnTo>
                        <a:pt x="1678" y="841"/>
                      </a:lnTo>
                      <a:lnTo>
                        <a:pt x="1630" y="834"/>
                      </a:lnTo>
                      <a:lnTo>
                        <a:pt x="1579" y="824"/>
                      </a:lnTo>
                      <a:lnTo>
                        <a:pt x="1532" y="818"/>
                      </a:lnTo>
                      <a:lnTo>
                        <a:pt x="1488" y="810"/>
                      </a:lnTo>
                      <a:lnTo>
                        <a:pt x="1450" y="804"/>
                      </a:lnTo>
                      <a:lnTo>
                        <a:pt x="1415" y="799"/>
                      </a:lnTo>
                      <a:lnTo>
                        <a:pt x="1385" y="794"/>
                      </a:lnTo>
                      <a:lnTo>
                        <a:pt x="1363" y="791"/>
                      </a:lnTo>
                      <a:lnTo>
                        <a:pt x="1350" y="791"/>
                      </a:lnTo>
                      <a:lnTo>
                        <a:pt x="1339" y="791"/>
                      </a:lnTo>
                      <a:lnTo>
                        <a:pt x="1329" y="791"/>
                      </a:lnTo>
                      <a:lnTo>
                        <a:pt x="1318" y="791"/>
                      </a:lnTo>
                      <a:lnTo>
                        <a:pt x="1307" y="791"/>
                      </a:lnTo>
                      <a:lnTo>
                        <a:pt x="1293" y="791"/>
                      </a:lnTo>
                      <a:lnTo>
                        <a:pt x="1279" y="791"/>
                      </a:lnTo>
                      <a:lnTo>
                        <a:pt x="1264" y="791"/>
                      </a:lnTo>
                      <a:lnTo>
                        <a:pt x="1247" y="791"/>
                      </a:lnTo>
                      <a:lnTo>
                        <a:pt x="1226" y="790"/>
                      </a:lnTo>
                      <a:lnTo>
                        <a:pt x="1205" y="790"/>
                      </a:lnTo>
                      <a:lnTo>
                        <a:pt x="1181" y="790"/>
                      </a:lnTo>
                      <a:lnTo>
                        <a:pt x="1154" y="790"/>
                      </a:lnTo>
                      <a:lnTo>
                        <a:pt x="1124" y="789"/>
                      </a:lnTo>
                      <a:lnTo>
                        <a:pt x="1091" y="788"/>
                      </a:lnTo>
                      <a:lnTo>
                        <a:pt x="1055" y="788"/>
                      </a:lnTo>
                      <a:lnTo>
                        <a:pt x="1016" y="787"/>
                      </a:lnTo>
                      <a:lnTo>
                        <a:pt x="973" y="783"/>
                      </a:lnTo>
                      <a:lnTo>
                        <a:pt x="934" y="783"/>
                      </a:lnTo>
                      <a:lnTo>
                        <a:pt x="895" y="783"/>
                      </a:lnTo>
                      <a:lnTo>
                        <a:pt x="860" y="783"/>
                      </a:lnTo>
                      <a:lnTo>
                        <a:pt x="826" y="782"/>
                      </a:lnTo>
                      <a:lnTo>
                        <a:pt x="794" y="781"/>
                      </a:lnTo>
                      <a:lnTo>
                        <a:pt x="763" y="780"/>
                      </a:lnTo>
                      <a:lnTo>
                        <a:pt x="733" y="780"/>
                      </a:lnTo>
                      <a:lnTo>
                        <a:pt x="705" y="775"/>
                      </a:lnTo>
                      <a:lnTo>
                        <a:pt x="678" y="773"/>
                      </a:lnTo>
                      <a:lnTo>
                        <a:pt x="652" y="767"/>
                      </a:lnTo>
                      <a:lnTo>
                        <a:pt x="629" y="761"/>
                      </a:lnTo>
                      <a:lnTo>
                        <a:pt x="607" y="752"/>
                      </a:lnTo>
                      <a:lnTo>
                        <a:pt x="587" y="741"/>
                      </a:lnTo>
                      <a:lnTo>
                        <a:pt x="568" y="729"/>
                      </a:lnTo>
                      <a:lnTo>
                        <a:pt x="551" y="715"/>
                      </a:lnTo>
                      <a:lnTo>
                        <a:pt x="533" y="697"/>
                      </a:lnTo>
                      <a:lnTo>
                        <a:pt x="515" y="684"/>
                      </a:lnTo>
                      <a:lnTo>
                        <a:pt x="497" y="672"/>
                      </a:lnTo>
                      <a:lnTo>
                        <a:pt x="480" y="663"/>
                      </a:lnTo>
                      <a:lnTo>
                        <a:pt x="461" y="654"/>
                      </a:lnTo>
                      <a:lnTo>
                        <a:pt x="443" y="647"/>
                      </a:lnTo>
                      <a:lnTo>
                        <a:pt x="422" y="641"/>
                      </a:lnTo>
                      <a:lnTo>
                        <a:pt x="404" y="636"/>
                      </a:lnTo>
                      <a:lnTo>
                        <a:pt x="383" y="631"/>
                      </a:lnTo>
                      <a:lnTo>
                        <a:pt x="361" y="626"/>
                      </a:lnTo>
                      <a:lnTo>
                        <a:pt x="339" y="622"/>
                      </a:lnTo>
                      <a:lnTo>
                        <a:pt x="317" y="617"/>
                      </a:lnTo>
                      <a:lnTo>
                        <a:pt x="293" y="612"/>
                      </a:lnTo>
                      <a:lnTo>
                        <a:pt x="269" y="605"/>
                      </a:lnTo>
                      <a:lnTo>
                        <a:pt x="243" y="597"/>
                      </a:lnTo>
                      <a:lnTo>
                        <a:pt x="218" y="590"/>
                      </a:lnTo>
                      <a:lnTo>
                        <a:pt x="191" y="578"/>
                      </a:lnTo>
                      <a:lnTo>
                        <a:pt x="167" y="565"/>
                      </a:lnTo>
                      <a:lnTo>
                        <a:pt x="144" y="550"/>
                      </a:lnTo>
                      <a:lnTo>
                        <a:pt x="124" y="534"/>
                      </a:lnTo>
                      <a:lnTo>
                        <a:pt x="103" y="517"/>
                      </a:lnTo>
                      <a:lnTo>
                        <a:pt x="85" y="498"/>
                      </a:lnTo>
                      <a:lnTo>
                        <a:pt x="69" y="479"/>
                      </a:lnTo>
                      <a:lnTo>
                        <a:pt x="55" y="460"/>
                      </a:lnTo>
                      <a:lnTo>
                        <a:pt x="42" y="441"/>
                      </a:lnTo>
                      <a:lnTo>
                        <a:pt x="31" y="420"/>
                      </a:lnTo>
                      <a:lnTo>
                        <a:pt x="21" y="398"/>
                      </a:lnTo>
                      <a:lnTo>
                        <a:pt x="12" y="380"/>
                      </a:lnTo>
                      <a:lnTo>
                        <a:pt x="6" y="359"/>
                      </a:lnTo>
                      <a:lnTo>
                        <a:pt x="0" y="341"/>
                      </a:lnTo>
                      <a:lnTo>
                        <a:pt x="0" y="323"/>
                      </a:lnTo>
                      <a:lnTo>
                        <a:pt x="0" y="308"/>
                      </a:lnTo>
                      <a:lnTo>
                        <a:pt x="0" y="289"/>
                      </a:lnTo>
                      <a:lnTo>
                        <a:pt x="0" y="268"/>
                      </a:lnTo>
                      <a:lnTo>
                        <a:pt x="0" y="246"/>
                      </a:lnTo>
                      <a:lnTo>
                        <a:pt x="2" y="223"/>
                      </a:lnTo>
                      <a:lnTo>
                        <a:pt x="6" y="196"/>
                      </a:lnTo>
                      <a:lnTo>
                        <a:pt x="10" y="172"/>
                      </a:lnTo>
                      <a:lnTo>
                        <a:pt x="14" y="145"/>
                      </a:lnTo>
                      <a:lnTo>
                        <a:pt x="20" y="121"/>
                      </a:lnTo>
                      <a:lnTo>
                        <a:pt x="23" y="96"/>
                      </a:lnTo>
                      <a:lnTo>
                        <a:pt x="29" y="73"/>
                      </a:lnTo>
                      <a:lnTo>
                        <a:pt x="33" y="54"/>
                      </a:lnTo>
                      <a:lnTo>
                        <a:pt x="38" y="36"/>
                      </a:lnTo>
                      <a:lnTo>
                        <a:pt x="41" y="21"/>
                      </a:lnTo>
                      <a:lnTo>
                        <a:pt x="44" y="10"/>
                      </a:lnTo>
                      <a:lnTo>
                        <a:pt x="45" y="3"/>
                      </a:lnTo>
                      <a:lnTo>
                        <a:pt x="46" y="0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9e9e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flipH="1">
                  <a:off x="1878840" y="5137560"/>
                  <a:ext cx="1230120" cy="924120"/>
                </a:xfrm>
                <a:custGeom>
                  <a:avLst/>
                  <a:gdLst/>
                  <a:ahLst/>
                  <a:rect l="l" t="t" r="r" b="b"/>
                  <a:pathLst>
                    <a:path w="1891" h="1639">
                      <a:moveTo>
                        <a:pt x="151" y="0"/>
                      </a:moveTo>
                      <a:lnTo>
                        <a:pt x="303" y="0"/>
                      </a:lnTo>
                      <a:lnTo>
                        <a:pt x="551" y="0"/>
                      </a:lnTo>
                      <a:lnTo>
                        <a:pt x="739" y="6"/>
                      </a:lnTo>
                      <a:lnTo>
                        <a:pt x="831" y="52"/>
                      </a:lnTo>
                      <a:lnTo>
                        <a:pt x="840" y="131"/>
                      </a:lnTo>
                      <a:lnTo>
                        <a:pt x="812" y="187"/>
                      </a:lnTo>
                      <a:lnTo>
                        <a:pt x="749" y="249"/>
                      </a:lnTo>
                      <a:lnTo>
                        <a:pt x="469" y="353"/>
                      </a:lnTo>
                      <a:lnTo>
                        <a:pt x="218" y="422"/>
                      </a:lnTo>
                      <a:lnTo>
                        <a:pt x="174" y="453"/>
                      </a:lnTo>
                      <a:lnTo>
                        <a:pt x="174" y="498"/>
                      </a:lnTo>
                      <a:lnTo>
                        <a:pt x="203" y="541"/>
                      </a:lnTo>
                      <a:lnTo>
                        <a:pt x="279" y="568"/>
                      </a:lnTo>
                      <a:lnTo>
                        <a:pt x="410" y="578"/>
                      </a:lnTo>
                      <a:lnTo>
                        <a:pt x="671" y="603"/>
                      </a:lnTo>
                      <a:lnTo>
                        <a:pt x="967" y="623"/>
                      </a:lnTo>
                      <a:lnTo>
                        <a:pt x="1147" y="656"/>
                      </a:lnTo>
                      <a:lnTo>
                        <a:pt x="1292" y="696"/>
                      </a:lnTo>
                      <a:lnTo>
                        <a:pt x="1343" y="763"/>
                      </a:lnTo>
                      <a:lnTo>
                        <a:pt x="1345" y="853"/>
                      </a:lnTo>
                      <a:lnTo>
                        <a:pt x="1282" y="918"/>
                      </a:lnTo>
                      <a:lnTo>
                        <a:pt x="285" y="1126"/>
                      </a:lnTo>
                      <a:lnTo>
                        <a:pt x="257" y="1141"/>
                      </a:lnTo>
                      <a:lnTo>
                        <a:pt x="261" y="1163"/>
                      </a:lnTo>
                      <a:lnTo>
                        <a:pt x="310" y="1186"/>
                      </a:lnTo>
                      <a:lnTo>
                        <a:pt x="1020" y="1180"/>
                      </a:lnTo>
                      <a:lnTo>
                        <a:pt x="1248" y="1134"/>
                      </a:lnTo>
                      <a:lnTo>
                        <a:pt x="1891" y="1000"/>
                      </a:lnTo>
                      <a:lnTo>
                        <a:pt x="1855" y="1066"/>
                      </a:lnTo>
                      <a:lnTo>
                        <a:pt x="1697" y="1116"/>
                      </a:lnTo>
                      <a:lnTo>
                        <a:pt x="1593" y="1203"/>
                      </a:lnTo>
                      <a:lnTo>
                        <a:pt x="1525" y="1317"/>
                      </a:lnTo>
                      <a:lnTo>
                        <a:pt x="1503" y="1639"/>
                      </a:lnTo>
                      <a:lnTo>
                        <a:pt x="206" y="1330"/>
                      </a:lnTo>
                      <a:lnTo>
                        <a:pt x="45" y="1170"/>
                      </a:lnTo>
                      <a:lnTo>
                        <a:pt x="60" y="1097"/>
                      </a:lnTo>
                      <a:lnTo>
                        <a:pt x="134" y="1031"/>
                      </a:lnTo>
                      <a:lnTo>
                        <a:pt x="191" y="997"/>
                      </a:lnTo>
                      <a:lnTo>
                        <a:pt x="419" y="953"/>
                      </a:lnTo>
                      <a:lnTo>
                        <a:pt x="850" y="878"/>
                      </a:lnTo>
                      <a:lnTo>
                        <a:pt x="1028" y="847"/>
                      </a:lnTo>
                      <a:lnTo>
                        <a:pt x="1075" y="811"/>
                      </a:lnTo>
                      <a:lnTo>
                        <a:pt x="1071" y="785"/>
                      </a:lnTo>
                      <a:lnTo>
                        <a:pt x="989" y="738"/>
                      </a:lnTo>
                      <a:lnTo>
                        <a:pt x="780" y="708"/>
                      </a:lnTo>
                      <a:lnTo>
                        <a:pt x="400" y="670"/>
                      </a:lnTo>
                      <a:lnTo>
                        <a:pt x="211" y="658"/>
                      </a:lnTo>
                      <a:lnTo>
                        <a:pt x="43" y="603"/>
                      </a:lnTo>
                      <a:lnTo>
                        <a:pt x="0" y="531"/>
                      </a:lnTo>
                      <a:lnTo>
                        <a:pt x="6" y="469"/>
                      </a:lnTo>
                      <a:lnTo>
                        <a:pt x="55" y="394"/>
                      </a:lnTo>
                      <a:lnTo>
                        <a:pt x="155" y="333"/>
                      </a:lnTo>
                      <a:lnTo>
                        <a:pt x="309" y="300"/>
                      </a:lnTo>
                      <a:lnTo>
                        <a:pt x="582" y="242"/>
                      </a:lnTo>
                      <a:lnTo>
                        <a:pt x="730" y="185"/>
                      </a:lnTo>
                      <a:lnTo>
                        <a:pt x="768" y="141"/>
                      </a:lnTo>
                      <a:lnTo>
                        <a:pt x="764" y="107"/>
                      </a:lnTo>
                      <a:lnTo>
                        <a:pt x="735" y="68"/>
                      </a:lnTo>
                      <a:lnTo>
                        <a:pt x="674" y="47"/>
                      </a:lnTo>
                      <a:lnTo>
                        <a:pt x="528" y="41"/>
                      </a:lnTo>
                      <a:lnTo>
                        <a:pt x="352" y="37"/>
                      </a:lnTo>
                      <a:lnTo>
                        <a:pt x="196" y="33"/>
                      </a:lnTo>
                      <a:lnTo>
                        <a:pt x="125" y="33"/>
                      </a:lnTo>
                      <a:lnTo>
                        <a:pt x="151" y="0"/>
                      </a:lnTo>
                      <a:lnTo>
                        <a:pt x="151" y="0"/>
                      </a:lnTo>
                      <a:close/>
                    </a:path>
                  </a:pathLst>
                </a:custGeom>
                <a:solidFill>
                  <a:srgbClr val="9e9e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H="1">
                  <a:off x="1568520" y="5731200"/>
                  <a:ext cx="1521360" cy="436680"/>
                </a:xfrm>
                <a:custGeom>
                  <a:avLst/>
                  <a:gdLst/>
                  <a:ahLst/>
                  <a:rect l="l" t="t" r="r" b="b"/>
                  <a:pathLst>
                    <a:path w="2342" h="775">
                      <a:moveTo>
                        <a:pt x="80" y="0"/>
                      </a:moveTo>
                      <a:lnTo>
                        <a:pt x="78" y="0"/>
                      </a:lnTo>
                      <a:lnTo>
                        <a:pt x="76" y="2"/>
                      </a:lnTo>
                      <a:lnTo>
                        <a:pt x="72" y="6"/>
                      </a:lnTo>
                      <a:lnTo>
                        <a:pt x="68" y="14"/>
                      </a:lnTo>
                      <a:lnTo>
                        <a:pt x="62" y="19"/>
                      </a:lnTo>
                      <a:lnTo>
                        <a:pt x="57" y="28"/>
                      </a:lnTo>
                      <a:lnTo>
                        <a:pt x="52" y="37"/>
                      </a:lnTo>
                      <a:lnTo>
                        <a:pt x="49" y="49"/>
                      </a:lnTo>
                      <a:lnTo>
                        <a:pt x="44" y="60"/>
                      </a:lnTo>
                      <a:lnTo>
                        <a:pt x="42" y="72"/>
                      </a:lnTo>
                      <a:lnTo>
                        <a:pt x="41" y="86"/>
                      </a:lnTo>
                      <a:lnTo>
                        <a:pt x="44" y="100"/>
                      </a:lnTo>
                      <a:lnTo>
                        <a:pt x="47" y="113"/>
                      </a:lnTo>
                      <a:lnTo>
                        <a:pt x="54" y="128"/>
                      </a:lnTo>
                      <a:lnTo>
                        <a:pt x="63" y="141"/>
                      </a:lnTo>
                      <a:lnTo>
                        <a:pt x="77" y="154"/>
                      </a:lnTo>
                      <a:lnTo>
                        <a:pt x="92" y="166"/>
                      </a:lnTo>
                      <a:lnTo>
                        <a:pt x="111" y="181"/>
                      </a:lnTo>
                      <a:lnTo>
                        <a:pt x="131" y="193"/>
                      </a:lnTo>
                      <a:lnTo>
                        <a:pt x="153" y="207"/>
                      </a:lnTo>
                      <a:lnTo>
                        <a:pt x="174" y="220"/>
                      </a:lnTo>
                      <a:lnTo>
                        <a:pt x="198" y="233"/>
                      </a:lnTo>
                      <a:lnTo>
                        <a:pt x="220" y="244"/>
                      </a:lnTo>
                      <a:lnTo>
                        <a:pt x="244" y="256"/>
                      </a:lnTo>
                      <a:lnTo>
                        <a:pt x="264" y="265"/>
                      </a:lnTo>
                      <a:lnTo>
                        <a:pt x="283" y="274"/>
                      </a:lnTo>
                      <a:lnTo>
                        <a:pt x="302" y="281"/>
                      </a:lnTo>
                      <a:lnTo>
                        <a:pt x="318" y="290"/>
                      </a:lnTo>
                      <a:lnTo>
                        <a:pt x="331" y="295"/>
                      </a:lnTo>
                      <a:lnTo>
                        <a:pt x="341" y="299"/>
                      </a:lnTo>
                      <a:lnTo>
                        <a:pt x="348" y="301"/>
                      </a:lnTo>
                      <a:lnTo>
                        <a:pt x="351" y="302"/>
                      </a:lnTo>
                      <a:lnTo>
                        <a:pt x="304" y="229"/>
                      </a:lnTo>
                      <a:lnTo>
                        <a:pt x="443" y="315"/>
                      </a:lnTo>
                      <a:lnTo>
                        <a:pt x="442" y="311"/>
                      </a:lnTo>
                      <a:lnTo>
                        <a:pt x="439" y="305"/>
                      </a:lnTo>
                      <a:lnTo>
                        <a:pt x="437" y="300"/>
                      </a:lnTo>
                      <a:lnTo>
                        <a:pt x="435" y="296"/>
                      </a:lnTo>
                      <a:lnTo>
                        <a:pt x="432" y="290"/>
                      </a:lnTo>
                      <a:lnTo>
                        <a:pt x="430" y="285"/>
                      </a:lnTo>
                      <a:lnTo>
                        <a:pt x="425" y="278"/>
                      </a:lnTo>
                      <a:lnTo>
                        <a:pt x="421" y="270"/>
                      </a:lnTo>
                      <a:lnTo>
                        <a:pt x="415" y="264"/>
                      </a:lnTo>
                      <a:lnTo>
                        <a:pt x="409" y="257"/>
                      </a:lnTo>
                      <a:lnTo>
                        <a:pt x="402" y="250"/>
                      </a:lnTo>
                      <a:lnTo>
                        <a:pt x="395" y="244"/>
                      </a:lnTo>
                      <a:lnTo>
                        <a:pt x="386" y="237"/>
                      </a:lnTo>
                      <a:lnTo>
                        <a:pt x="379" y="232"/>
                      </a:lnTo>
                      <a:lnTo>
                        <a:pt x="383" y="232"/>
                      </a:lnTo>
                      <a:lnTo>
                        <a:pt x="387" y="233"/>
                      </a:lnTo>
                      <a:lnTo>
                        <a:pt x="396" y="235"/>
                      </a:lnTo>
                      <a:lnTo>
                        <a:pt x="404" y="238"/>
                      </a:lnTo>
                      <a:lnTo>
                        <a:pt x="415" y="243"/>
                      </a:lnTo>
                      <a:lnTo>
                        <a:pt x="427" y="246"/>
                      </a:lnTo>
                      <a:lnTo>
                        <a:pt x="442" y="253"/>
                      </a:lnTo>
                      <a:lnTo>
                        <a:pt x="454" y="257"/>
                      </a:lnTo>
                      <a:lnTo>
                        <a:pt x="469" y="265"/>
                      </a:lnTo>
                      <a:lnTo>
                        <a:pt x="485" y="273"/>
                      </a:lnTo>
                      <a:lnTo>
                        <a:pt x="499" y="281"/>
                      </a:lnTo>
                      <a:lnTo>
                        <a:pt x="513" y="291"/>
                      </a:lnTo>
                      <a:lnTo>
                        <a:pt x="529" y="302"/>
                      </a:lnTo>
                      <a:lnTo>
                        <a:pt x="543" y="315"/>
                      </a:lnTo>
                      <a:lnTo>
                        <a:pt x="558" y="329"/>
                      </a:lnTo>
                      <a:lnTo>
                        <a:pt x="557" y="326"/>
                      </a:lnTo>
                      <a:lnTo>
                        <a:pt x="554" y="317"/>
                      </a:lnTo>
                      <a:lnTo>
                        <a:pt x="551" y="310"/>
                      </a:lnTo>
                      <a:lnTo>
                        <a:pt x="548" y="304"/>
                      </a:lnTo>
                      <a:lnTo>
                        <a:pt x="545" y="297"/>
                      </a:lnTo>
                      <a:lnTo>
                        <a:pt x="542" y="290"/>
                      </a:lnTo>
                      <a:lnTo>
                        <a:pt x="537" y="281"/>
                      </a:lnTo>
                      <a:lnTo>
                        <a:pt x="532" y="275"/>
                      </a:lnTo>
                      <a:lnTo>
                        <a:pt x="526" y="267"/>
                      </a:lnTo>
                      <a:lnTo>
                        <a:pt x="521" y="260"/>
                      </a:lnTo>
                      <a:lnTo>
                        <a:pt x="513" y="255"/>
                      </a:lnTo>
                      <a:lnTo>
                        <a:pt x="507" y="249"/>
                      </a:lnTo>
                      <a:lnTo>
                        <a:pt x="492" y="243"/>
                      </a:lnTo>
                      <a:lnTo>
                        <a:pt x="501" y="244"/>
                      </a:lnTo>
                      <a:lnTo>
                        <a:pt x="511" y="248"/>
                      </a:lnTo>
                      <a:lnTo>
                        <a:pt x="523" y="254"/>
                      </a:lnTo>
                      <a:lnTo>
                        <a:pt x="533" y="260"/>
                      </a:lnTo>
                      <a:lnTo>
                        <a:pt x="547" y="267"/>
                      </a:lnTo>
                      <a:lnTo>
                        <a:pt x="562" y="276"/>
                      </a:lnTo>
                      <a:lnTo>
                        <a:pt x="576" y="283"/>
                      </a:lnTo>
                      <a:lnTo>
                        <a:pt x="592" y="292"/>
                      </a:lnTo>
                      <a:lnTo>
                        <a:pt x="607" y="302"/>
                      </a:lnTo>
                      <a:lnTo>
                        <a:pt x="624" y="315"/>
                      </a:lnTo>
                      <a:lnTo>
                        <a:pt x="637" y="326"/>
                      </a:lnTo>
                      <a:lnTo>
                        <a:pt x="653" y="339"/>
                      </a:lnTo>
                      <a:lnTo>
                        <a:pt x="667" y="352"/>
                      </a:lnTo>
                      <a:lnTo>
                        <a:pt x="680" y="368"/>
                      </a:lnTo>
                      <a:lnTo>
                        <a:pt x="678" y="363"/>
                      </a:lnTo>
                      <a:lnTo>
                        <a:pt x="675" y="356"/>
                      </a:lnTo>
                      <a:lnTo>
                        <a:pt x="671" y="350"/>
                      </a:lnTo>
                      <a:lnTo>
                        <a:pt x="669" y="343"/>
                      </a:lnTo>
                      <a:lnTo>
                        <a:pt x="665" y="337"/>
                      </a:lnTo>
                      <a:lnTo>
                        <a:pt x="662" y="329"/>
                      </a:lnTo>
                      <a:lnTo>
                        <a:pt x="657" y="320"/>
                      </a:lnTo>
                      <a:lnTo>
                        <a:pt x="652" y="312"/>
                      </a:lnTo>
                      <a:lnTo>
                        <a:pt x="646" y="304"/>
                      </a:lnTo>
                      <a:lnTo>
                        <a:pt x="641" y="296"/>
                      </a:lnTo>
                      <a:lnTo>
                        <a:pt x="633" y="288"/>
                      </a:lnTo>
                      <a:lnTo>
                        <a:pt x="625" y="280"/>
                      </a:lnTo>
                      <a:lnTo>
                        <a:pt x="617" y="275"/>
                      </a:lnTo>
                      <a:lnTo>
                        <a:pt x="611" y="269"/>
                      </a:lnTo>
                      <a:lnTo>
                        <a:pt x="612" y="269"/>
                      </a:lnTo>
                      <a:lnTo>
                        <a:pt x="615" y="271"/>
                      </a:lnTo>
                      <a:lnTo>
                        <a:pt x="623" y="274"/>
                      </a:lnTo>
                      <a:lnTo>
                        <a:pt x="633" y="278"/>
                      </a:lnTo>
                      <a:lnTo>
                        <a:pt x="644" y="281"/>
                      </a:lnTo>
                      <a:lnTo>
                        <a:pt x="657" y="288"/>
                      </a:lnTo>
                      <a:lnTo>
                        <a:pt x="670" y="294"/>
                      </a:lnTo>
                      <a:lnTo>
                        <a:pt x="686" y="302"/>
                      </a:lnTo>
                      <a:lnTo>
                        <a:pt x="701" y="309"/>
                      </a:lnTo>
                      <a:lnTo>
                        <a:pt x="716" y="317"/>
                      </a:lnTo>
                      <a:lnTo>
                        <a:pt x="731" y="326"/>
                      </a:lnTo>
                      <a:lnTo>
                        <a:pt x="747" y="337"/>
                      </a:lnTo>
                      <a:lnTo>
                        <a:pt x="761" y="347"/>
                      </a:lnTo>
                      <a:lnTo>
                        <a:pt x="773" y="358"/>
                      </a:lnTo>
                      <a:lnTo>
                        <a:pt x="784" y="369"/>
                      </a:lnTo>
                      <a:lnTo>
                        <a:pt x="795" y="381"/>
                      </a:lnTo>
                      <a:lnTo>
                        <a:pt x="793" y="377"/>
                      </a:lnTo>
                      <a:lnTo>
                        <a:pt x="790" y="369"/>
                      </a:lnTo>
                      <a:lnTo>
                        <a:pt x="785" y="361"/>
                      </a:lnTo>
                      <a:lnTo>
                        <a:pt x="783" y="356"/>
                      </a:lnTo>
                      <a:lnTo>
                        <a:pt x="779" y="349"/>
                      </a:lnTo>
                      <a:lnTo>
                        <a:pt x="775" y="341"/>
                      </a:lnTo>
                      <a:lnTo>
                        <a:pt x="770" y="332"/>
                      </a:lnTo>
                      <a:lnTo>
                        <a:pt x="764" y="325"/>
                      </a:lnTo>
                      <a:lnTo>
                        <a:pt x="759" y="316"/>
                      </a:lnTo>
                      <a:lnTo>
                        <a:pt x="752" y="309"/>
                      </a:lnTo>
                      <a:lnTo>
                        <a:pt x="746" y="302"/>
                      </a:lnTo>
                      <a:lnTo>
                        <a:pt x="739" y="296"/>
                      </a:lnTo>
                      <a:lnTo>
                        <a:pt x="730" y="290"/>
                      </a:lnTo>
                      <a:lnTo>
                        <a:pt x="723" y="286"/>
                      </a:lnTo>
                      <a:lnTo>
                        <a:pt x="725" y="286"/>
                      </a:lnTo>
                      <a:lnTo>
                        <a:pt x="729" y="288"/>
                      </a:lnTo>
                      <a:lnTo>
                        <a:pt x="737" y="291"/>
                      </a:lnTo>
                      <a:lnTo>
                        <a:pt x="747" y="296"/>
                      </a:lnTo>
                      <a:lnTo>
                        <a:pt x="758" y="301"/>
                      </a:lnTo>
                      <a:lnTo>
                        <a:pt x="772" y="308"/>
                      </a:lnTo>
                      <a:lnTo>
                        <a:pt x="786" y="315"/>
                      </a:lnTo>
                      <a:lnTo>
                        <a:pt x="804" y="325"/>
                      </a:lnTo>
                      <a:lnTo>
                        <a:pt x="819" y="332"/>
                      </a:lnTo>
                      <a:lnTo>
                        <a:pt x="837" y="342"/>
                      </a:lnTo>
                      <a:lnTo>
                        <a:pt x="854" y="352"/>
                      </a:lnTo>
                      <a:lnTo>
                        <a:pt x="870" y="363"/>
                      </a:lnTo>
                      <a:lnTo>
                        <a:pt x="886" y="374"/>
                      </a:lnTo>
                      <a:lnTo>
                        <a:pt x="900" y="386"/>
                      </a:lnTo>
                      <a:lnTo>
                        <a:pt x="914" y="399"/>
                      </a:lnTo>
                      <a:lnTo>
                        <a:pt x="926" y="411"/>
                      </a:lnTo>
                      <a:lnTo>
                        <a:pt x="925" y="409"/>
                      </a:lnTo>
                      <a:lnTo>
                        <a:pt x="922" y="406"/>
                      </a:lnTo>
                      <a:lnTo>
                        <a:pt x="920" y="401"/>
                      </a:lnTo>
                      <a:lnTo>
                        <a:pt x="918" y="396"/>
                      </a:lnTo>
                      <a:lnTo>
                        <a:pt x="912" y="388"/>
                      </a:lnTo>
                      <a:lnTo>
                        <a:pt x="909" y="380"/>
                      </a:lnTo>
                      <a:lnTo>
                        <a:pt x="903" y="371"/>
                      </a:lnTo>
                      <a:lnTo>
                        <a:pt x="898" y="362"/>
                      </a:lnTo>
                      <a:lnTo>
                        <a:pt x="890" y="352"/>
                      </a:lnTo>
                      <a:lnTo>
                        <a:pt x="885" y="342"/>
                      </a:lnTo>
                      <a:lnTo>
                        <a:pt x="877" y="333"/>
                      </a:lnTo>
                      <a:lnTo>
                        <a:pt x="872" y="326"/>
                      </a:lnTo>
                      <a:lnTo>
                        <a:pt x="865" y="316"/>
                      </a:lnTo>
                      <a:lnTo>
                        <a:pt x="858" y="309"/>
                      </a:lnTo>
                      <a:lnTo>
                        <a:pt x="853" y="302"/>
                      </a:lnTo>
                      <a:lnTo>
                        <a:pt x="846" y="299"/>
                      </a:lnTo>
                      <a:lnTo>
                        <a:pt x="848" y="299"/>
                      </a:lnTo>
                      <a:lnTo>
                        <a:pt x="855" y="302"/>
                      </a:lnTo>
                      <a:lnTo>
                        <a:pt x="865" y="308"/>
                      </a:lnTo>
                      <a:lnTo>
                        <a:pt x="880" y="316"/>
                      </a:lnTo>
                      <a:lnTo>
                        <a:pt x="897" y="325"/>
                      </a:lnTo>
                      <a:lnTo>
                        <a:pt x="917" y="336"/>
                      </a:lnTo>
                      <a:lnTo>
                        <a:pt x="937" y="347"/>
                      </a:lnTo>
                      <a:lnTo>
                        <a:pt x="959" y="360"/>
                      </a:lnTo>
                      <a:lnTo>
                        <a:pt x="980" y="372"/>
                      </a:lnTo>
                      <a:lnTo>
                        <a:pt x="1002" y="384"/>
                      </a:lnTo>
                      <a:lnTo>
                        <a:pt x="1022" y="396"/>
                      </a:lnTo>
                      <a:lnTo>
                        <a:pt x="1042" y="411"/>
                      </a:lnTo>
                      <a:lnTo>
                        <a:pt x="1058" y="423"/>
                      </a:lnTo>
                      <a:lnTo>
                        <a:pt x="1074" y="435"/>
                      </a:lnTo>
                      <a:lnTo>
                        <a:pt x="1085" y="446"/>
                      </a:lnTo>
                      <a:lnTo>
                        <a:pt x="1079" y="436"/>
                      </a:lnTo>
                      <a:lnTo>
                        <a:pt x="1072" y="426"/>
                      </a:lnTo>
                      <a:lnTo>
                        <a:pt x="1064" y="416"/>
                      </a:lnTo>
                      <a:lnTo>
                        <a:pt x="1055" y="404"/>
                      </a:lnTo>
                      <a:lnTo>
                        <a:pt x="1047" y="393"/>
                      </a:lnTo>
                      <a:lnTo>
                        <a:pt x="1035" y="380"/>
                      </a:lnTo>
                      <a:lnTo>
                        <a:pt x="1025" y="367"/>
                      </a:lnTo>
                      <a:lnTo>
                        <a:pt x="1014" y="354"/>
                      </a:lnTo>
                      <a:lnTo>
                        <a:pt x="1004" y="344"/>
                      </a:lnTo>
                      <a:lnTo>
                        <a:pt x="993" y="333"/>
                      </a:lnTo>
                      <a:lnTo>
                        <a:pt x="983" y="326"/>
                      </a:lnTo>
                      <a:lnTo>
                        <a:pt x="973" y="318"/>
                      </a:lnTo>
                      <a:lnTo>
                        <a:pt x="964" y="315"/>
                      </a:lnTo>
                      <a:lnTo>
                        <a:pt x="967" y="315"/>
                      </a:lnTo>
                      <a:lnTo>
                        <a:pt x="973" y="318"/>
                      </a:lnTo>
                      <a:lnTo>
                        <a:pt x="984" y="323"/>
                      </a:lnTo>
                      <a:lnTo>
                        <a:pt x="1000" y="330"/>
                      </a:lnTo>
                      <a:lnTo>
                        <a:pt x="1015" y="338"/>
                      </a:lnTo>
                      <a:lnTo>
                        <a:pt x="1035" y="349"/>
                      </a:lnTo>
                      <a:lnTo>
                        <a:pt x="1057" y="360"/>
                      </a:lnTo>
                      <a:lnTo>
                        <a:pt x="1082" y="372"/>
                      </a:lnTo>
                      <a:lnTo>
                        <a:pt x="1104" y="384"/>
                      </a:lnTo>
                      <a:lnTo>
                        <a:pt x="1127" y="398"/>
                      </a:lnTo>
                      <a:lnTo>
                        <a:pt x="1148" y="411"/>
                      </a:lnTo>
                      <a:lnTo>
                        <a:pt x="1170" y="425"/>
                      </a:lnTo>
                      <a:lnTo>
                        <a:pt x="1188" y="438"/>
                      </a:lnTo>
                      <a:lnTo>
                        <a:pt x="1205" y="452"/>
                      </a:lnTo>
                      <a:lnTo>
                        <a:pt x="1219" y="463"/>
                      </a:lnTo>
                      <a:lnTo>
                        <a:pt x="1230" y="475"/>
                      </a:lnTo>
                      <a:lnTo>
                        <a:pt x="1141" y="350"/>
                      </a:lnTo>
                      <a:lnTo>
                        <a:pt x="1371" y="496"/>
                      </a:lnTo>
                      <a:lnTo>
                        <a:pt x="1370" y="494"/>
                      </a:lnTo>
                      <a:lnTo>
                        <a:pt x="1368" y="489"/>
                      </a:lnTo>
                      <a:lnTo>
                        <a:pt x="1365" y="483"/>
                      </a:lnTo>
                      <a:lnTo>
                        <a:pt x="1360" y="475"/>
                      </a:lnTo>
                      <a:lnTo>
                        <a:pt x="1355" y="464"/>
                      </a:lnTo>
                      <a:lnTo>
                        <a:pt x="1348" y="453"/>
                      </a:lnTo>
                      <a:lnTo>
                        <a:pt x="1340" y="441"/>
                      </a:lnTo>
                      <a:lnTo>
                        <a:pt x="1333" y="428"/>
                      </a:lnTo>
                      <a:lnTo>
                        <a:pt x="1324" y="414"/>
                      </a:lnTo>
                      <a:lnTo>
                        <a:pt x="1315" y="402"/>
                      </a:lnTo>
                      <a:lnTo>
                        <a:pt x="1306" y="389"/>
                      </a:lnTo>
                      <a:lnTo>
                        <a:pt x="1298" y="378"/>
                      </a:lnTo>
                      <a:lnTo>
                        <a:pt x="1287" y="367"/>
                      </a:lnTo>
                      <a:lnTo>
                        <a:pt x="1278" y="358"/>
                      </a:lnTo>
                      <a:lnTo>
                        <a:pt x="1270" y="350"/>
                      </a:lnTo>
                      <a:lnTo>
                        <a:pt x="1262" y="347"/>
                      </a:lnTo>
                      <a:lnTo>
                        <a:pt x="1263" y="347"/>
                      </a:lnTo>
                      <a:lnTo>
                        <a:pt x="1268" y="350"/>
                      </a:lnTo>
                      <a:lnTo>
                        <a:pt x="1277" y="352"/>
                      </a:lnTo>
                      <a:lnTo>
                        <a:pt x="1289" y="359"/>
                      </a:lnTo>
                      <a:lnTo>
                        <a:pt x="1303" y="364"/>
                      </a:lnTo>
                      <a:lnTo>
                        <a:pt x="1319" y="372"/>
                      </a:lnTo>
                      <a:lnTo>
                        <a:pt x="1336" y="381"/>
                      </a:lnTo>
                      <a:lnTo>
                        <a:pt x="1355" y="391"/>
                      </a:lnTo>
                      <a:lnTo>
                        <a:pt x="1372" y="400"/>
                      </a:lnTo>
                      <a:lnTo>
                        <a:pt x="1390" y="412"/>
                      </a:lnTo>
                      <a:lnTo>
                        <a:pt x="1409" y="424"/>
                      </a:lnTo>
                      <a:lnTo>
                        <a:pt x="1427" y="436"/>
                      </a:lnTo>
                      <a:lnTo>
                        <a:pt x="1442" y="448"/>
                      </a:lnTo>
                      <a:lnTo>
                        <a:pt x="1456" y="462"/>
                      </a:lnTo>
                      <a:lnTo>
                        <a:pt x="1469" y="474"/>
                      </a:lnTo>
                      <a:lnTo>
                        <a:pt x="1477" y="488"/>
                      </a:lnTo>
                      <a:lnTo>
                        <a:pt x="1475" y="483"/>
                      </a:lnTo>
                      <a:lnTo>
                        <a:pt x="1473" y="469"/>
                      </a:lnTo>
                      <a:lnTo>
                        <a:pt x="1471" y="449"/>
                      </a:lnTo>
                      <a:lnTo>
                        <a:pt x="1470" y="424"/>
                      </a:lnTo>
                      <a:lnTo>
                        <a:pt x="1469" y="393"/>
                      </a:lnTo>
                      <a:lnTo>
                        <a:pt x="1470" y="358"/>
                      </a:lnTo>
                      <a:lnTo>
                        <a:pt x="1476" y="319"/>
                      </a:lnTo>
                      <a:lnTo>
                        <a:pt x="1486" y="280"/>
                      </a:lnTo>
                      <a:lnTo>
                        <a:pt x="1501" y="237"/>
                      </a:lnTo>
                      <a:lnTo>
                        <a:pt x="1522" y="196"/>
                      </a:lnTo>
                      <a:lnTo>
                        <a:pt x="1549" y="154"/>
                      </a:lnTo>
                      <a:lnTo>
                        <a:pt x="1586" y="117"/>
                      </a:lnTo>
                      <a:lnTo>
                        <a:pt x="1630" y="80"/>
                      </a:lnTo>
                      <a:lnTo>
                        <a:pt x="1685" y="47"/>
                      </a:lnTo>
                      <a:lnTo>
                        <a:pt x="1750" y="21"/>
                      </a:lnTo>
                      <a:lnTo>
                        <a:pt x="1829" y="0"/>
                      </a:lnTo>
                      <a:lnTo>
                        <a:pt x="1831" y="17"/>
                      </a:lnTo>
                      <a:lnTo>
                        <a:pt x="1828" y="17"/>
                      </a:lnTo>
                      <a:lnTo>
                        <a:pt x="1819" y="19"/>
                      </a:lnTo>
                      <a:lnTo>
                        <a:pt x="1806" y="22"/>
                      </a:lnTo>
                      <a:lnTo>
                        <a:pt x="1790" y="27"/>
                      </a:lnTo>
                      <a:lnTo>
                        <a:pt x="1769" y="33"/>
                      </a:lnTo>
                      <a:lnTo>
                        <a:pt x="1747" y="42"/>
                      </a:lnTo>
                      <a:lnTo>
                        <a:pt x="1722" y="51"/>
                      </a:lnTo>
                      <a:lnTo>
                        <a:pt x="1697" y="66"/>
                      </a:lnTo>
                      <a:lnTo>
                        <a:pt x="1670" y="80"/>
                      </a:lnTo>
                      <a:lnTo>
                        <a:pt x="1643" y="98"/>
                      </a:lnTo>
                      <a:lnTo>
                        <a:pt x="1618" y="118"/>
                      </a:lnTo>
                      <a:lnTo>
                        <a:pt x="1593" y="142"/>
                      </a:lnTo>
                      <a:lnTo>
                        <a:pt x="1570" y="169"/>
                      </a:lnTo>
                      <a:lnTo>
                        <a:pt x="1550" y="199"/>
                      </a:lnTo>
                      <a:lnTo>
                        <a:pt x="1534" y="232"/>
                      </a:lnTo>
                      <a:lnTo>
                        <a:pt x="1523" y="269"/>
                      </a:lnTo>
                      <a:lnTo>
                        <a:pt x="1581" y="594"/>
                      </a:lnTo>
                      <a:lnTo>
                        <a:pt x="1581" y="595"/>
                      </a:lnTo>
                      <a:lnTo>
                        <a:pt x="1584" y="600"/>
                      </a:lnTo>
                      <a:lnTo>
                        <a:pt x="1588" y="604"/>
                      </a:lnTo>
                      <a:lnTo>
                        <a:pt x="1596" y="614"/>
                      </a:lnTo>
                      <a:lnTo>
                        <a:pt x="1603" y="623"/>
                      </a:lnTo>
                      <a:lnTo>
                        <a:pt x="1613" y="634"/>
                      </a:lnTo>
                      <a:lnTo>
                        <a:pt x="1626" y="646"/>
                      </a:lnTo>
                      <a:lnTo>
                        <a:pt x="1641" y="660"/>
                      </a:lnTo>
                      <a:lnTo>
                        <a:pt x="1655" y="672"/>
                      </a:lnTo>
                      <a:lnTo>
                        <a:pt x="1674" y="684"/>
                      </a:lnTo>
                      <a:lnTo>
                        <a:pt x="1694" y="695"/>
                      </a:lnTo>
                      <a:lnTo>
                        <a:pt x="1716" y="707"/>
                      </a:lnTo>
                      <a:lnTo>
                        <a:pt x="1739" y="716"/>
                      </a:lnTo>
                      <a:lnTo>
                        <a:pt x="1766" y="725"/>
                      </a:lnTo>
                      <a:lnTo>
                        <a:pt x="1792" y="731"/>
                      </a:lnTo>
                      <a:lnTo>
                        <a:pt x="1823" y="736"/>
                      </a:lnTo>
                      <a:lnTo>
                        <a:pt x="2022" y="709"/>
                      </a:lnTo>
                      <a:lnTo>
                        <a:pt x="2022" y="708"/>
                      </a:lnTo>
                      <a:lnTo>
                        <a:pt x="2026" y="708"/>
                      </a:lnTo>
                      <a:lnTo>
                        <a:pt x="2029" y="706"/>
                      </a:lnTo>
                      <a:lnTo>
                        <a:pt x="2035" y="705"/>
                      </a:lnTo>
                      <a:lnTo>
                        <a:pt x="2040" y="702"/>
                      </a:lnTo>
                      <a:lnTo>
                        <a:pt x="2048" y="698"/>
                      </a:lnTo>
                      <a:lnTo>
                        <a:pt x="2054" y="696"/>
                      </a:lnTo>
                      <a:lnTo>
                        <a:pt x="2064" y="694"/>
                      </a:lnTo>
                      <a:lnTo>
                        <a:pt x="2072" y="688"/>
                      </a:lnTo>
                      <a:lnTo>
                        <a:pt x="2080" y="685"/>
                      </a:lnTo>
                      <a:lnTo>
                        <a:pt x="2088" y="681"/>
                      </a:lnTo>
                      <a:lnTo>
                        <a:pt x="2096" y="676"/>
                      </a:lnTo>
                      <a:lnTo>
                        <a:pt x="2102" y="672"/>
                      </a:lnTo>
                      <a:lnTo>
                        <a:pt x="2110" y="667"/>
                      </a:lnTo>
                      <a:lnTo>
                        <a:pt x="2114" y="662"/>
                      </a:lnTo>
                      <a:lnTo>
                        <a:pt x="2120" y="658"/>
                      </a:lnTo>
                      <a:lnTo>
                        <a:pt x="2252" y="534"/>
                      </a:lnTo>
                      <a:lnTo>
                        <a:pt x="2252" y="532"/>
                      </a:lnTo>
                      <a:lnTo>
                        <a:pt x="2256" y="530"/>
                      </a:lnTo>
                      <a:lnTo>
                        <a:pt x="2258" y="526"/>
                      </a:lnTo>
                      <a:lnTo>
                        <a:pt x="2265" y="521"/>
                      </a:lnTo>
                      <a:lnTo>
                        <a:pt x="2270" y="514"/>
                      </a:lnTo>
                      <a:lnTo>
                        <a:pt x="2278" y="506"/>
                      </a:lnTo>
                      <a:lnTo>
                        <a:pt x="2283" y="496"/>
                      </a:lnTo>
                      <a:lnTo>
                        <a:pt x="2292" y="486"/>
                      </a:lnTo>
                      <a:lnTo>
                        <a:pt x="2298" y="473"/>
                      </a:lnTo>
                      <a:lnTo>
                        <a:pt x="2304" y="457"/>
                      </a:lnTo>
                      <a:lnTo>
                        <a:pt x="2310" y="442"/>
                      </a:lnTo>
                      <a:lnTo>
                        <a:pt x="2315" y="424"/>
                      </a:lnTo>
                      <a:lnTo>
                        <a:pt x="2316" y="404"/>
                      </a:lnTo>
                      <a:lnTo>
                        <a:pt x="2319" y="383"/>
                      </a:lnTo>
                      <a:lnTo>
                        <a:pt x="2319" y="361"/>
                      </a:lnTo>
                      <a:lnTo>
                        <a:pt x="2316" y="338"/>
                      </a:lnTo>
                      <a:lnTo>
                        <a:pt x="2342" y="368"/>
                      </a:lnTo>
                      <a:lnTo>
                        <a:pt x="2342" y="369"/>
                      </a:lnTo>
                      <a:lnTo>
                        <a:pt x="2342" y="372"/>
                      </a:lnTo>
                      <a:lnTo>
                        <a:pt x="2342" y="379"/>
                      </a:lnTo>
                      <a:lnTo>
                        <a:pt x="2342" y="389"/>
                      </a:lnTo>
                      <a:lnTo>
                        <a:pt x="2341" y="400"/>
                      </a:lnTo>
                      <a:lnTo>
                        <a:pt x="2341" y="412"/>
                      </a:lnTo>
                      <a:lnTo>
                        <a:pt x="2339" y="425"/>
                      </a:lnTo>
                      <a:lnTo>
                        <a:pt x="2339" y="441"/>
                      </a:lnTo>
                      <a:lnTo>
                        <a:pt x="2334" y="454"/>
                      </a:lnTo>
                      <a:lnTo>
                        <a:pt x="2331" y="468"/>
                      </a:lnTo>
                      <a:lnTo>
                        <a:pt x="2326" y="483"/>
                      </a:lnTo>
                      <a:lnTo>
                        <a:pt x="2321" y="497"/>
                      </a:lnTo>
                      <a:lnTo>
                        <a:pt x="2314" y="509"/>
                      </a:lnTo>
                      <a:lnTo>
                        <a:pt x="2305" y="521"/>
                      </a:lnTo>
                      <a:lnTo>
                        <a:pt x="2295" y="530"/>
                      </a:lnTo>
                      <a:lnTo>
                        <a:pt x="2286" y="539"/>
                      </a:lnTo>
                      <a:lnTo>
                        <a:pt x="2137" y="663"/>
                      </a:lnTo>
                      <a:lnTo>
                        <a:pt x="2136" y="664"/>
                      </a:lnTo>
                      <a:lnTo>
                        <a:pt x="2134" y="669"/>
                      </a:lnTo>
                      <a:lnTo>
                        <a:pt x="2130" y="676"/>
                      </a:lnTo>
                      <a:lnTo>
                        <a:pt x="2122" y="685"/>
                      </a:lnTo>
                      <a:lnTo>
                        <a:pt x="2116" y="689"/>
                      </a:lnTo>
                      <a:lnTo>
                        <a:pt x="2110" y="694"/>
                      </a:lnTo>
                      <a:lnTo>
                        <a:pt x="2103" y="697"/>
                      </a:lnTo>
                      <a:lnTo>
                        <a:pt x="2095" y="703"/>
                      </a:lnTo>
                      <a:lnTo>
                        <a:pt x="2085" y="707"/>
                      </a:lnTo>
                      <a:lnTo>
                        <a:pt x="2074" y="710"/>
                      </a:lnTo>
                      <a:lnTo>
                        <a:pt x="2061" y="714"/>
                      </a:lnTo>
                      <a:lnTo>
                        <a:pt x="2048" y="718"/>
                      </a:lnTo>
                      <a:lnTo>
                        <a:pt x="1944" y="731"/>
                      </a:lnTo>
                      <a:lnTo>
                        <a:pt x="1894" y="754"/>
                      </a:lnTo>
                      <a:lnTo>
                        <a:pt x="1875" y="775"/>
                      </a:lnTo>
                      <a:lnTo>
                        <a:pt x="187" y="302"/>
                      </a:lnTo>
                      <a:lnTo>
                        <a:pt x="185" y="302"/>
                      </a:lnTo>
                      <a:lnTo>
                        <a:pt x="180" y="300"/>
                      </a:lnTo>
                      <a:lnTo>
                        <a:pt x="172" y="297"/>
                      </a:lnTo>
                      <a:lnTo>
                        <a:pt x="163" y="292"/>
                      </a:lnTo>
                      <a:lnTo>
                        <a:pt x="151" y="287"/>
                      </a:lnTo>
                      <a:lnTo>
                        <a:pt x="138" y="280"/>
                      </a:lnTo>
                      <a:lnTo>
                        <a:pt x="123" y="274"/>
                      </a:lnTo>
                      <a:lnTo>
                        <a:pt x="110" y="266"/>
                      </a:lnTo>
                      <a:lnTo>
                        <a:pt x="93" y="256"/>
                      </a:lnTo>
                      <a:lnTo>
                        <a:pt x="78" y="245"/>
                      </a:lnTo>
                      <a:lnTo>
                        <a:pt x="63" y="232"/>
                      </a:lnTo>
                      <a:lnTo>
                        <a:pt x="50" y="220"/>
                      </a:lnTo>
                      <a:lnTo>
                        <a:pt x="36" y="203"/>
                      </a:lnTo>
                      <a:lnTo>
                        <a:pt x="25" y="187"/>
                      </a:lnTo>
                      <a:lnTo>
                        <a:pt x="15" y="170"/>
                      </a:lnTo>
                      <a:lnTo>
                        <a:pt x="8" y="152"/>
                      </a:lnTo>
                      <a:lnTo>
                        <a:pt x="3" y="133"/>
                      </a:lnTo>
                      <a:lnTo>
                        <a:pt x="0" y="116"/>
                      </a:lnTo>
                      <a:lnTo>
                        <a:pt x="0" y="99"/>
                      </a:lnTo>
                      <a:lnTo>
                        <a:pt x="5" y="85"/>
                      </a:lnTo>
                      <a:lnTo>
                        <a:pt x="9" y="70"/>
                      </a:lnTo>
                      <a:lnTo>
                        <a:pt x="16" y="58"/>
                      </a:lnTo>
                      <a:lnTo>
                        <a:pt x="23" y="46"/>
                      </a:lnTo>
                      <a:lnTo>
                        <a:pt x="31" y="36"/>
                      </a:lnTo>
                      <a:lnTo>
                        <a:pt x="40" y="26"/>
                      </a:lnTo>
                      <a:lnTo>
                        <a:pt x="48" y="19"/>
                      </a:lnTo>
                      <a:lnTo>
                        <a:pt x="56" y="13"/>
                      </a:lnTo>
                      <a:lnTo>
                        <a:pt x="65" y="8"/>
                      </a:lnTo>
                      <a:lnTo>
                        <a:pt x="69" y="3"/>
                      </a:lnTo>
                      <a:lnTo>
                        <a:pt x="76" y="2"/>
                      </a:lnTo>
                      <a:lnTo>
                        <a:pt x="78" y="0"/>
                      </a:lnTo>
                      <a:lnTo>
                        <a:pt x="80" y="0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5c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H="1">
                  <a:off x="1553760" y="5666760"/>
                  <a:ext cx="97560" cy="43920"/>
                </a:xfrm>
                <a:custGeom>
                  <a:avLst/>
                  <a:gdLst/>
                  <a:ahLst/>
                  <a:rect l="l" t="t" r="r" b="b"/>
                  <a:pathLst>
                    <a:path w="150" h="77">
                      <a:moveTo>
                        <a:pt x="0" y="16"/>
                      </a:moveTo>
                      <a:lnTo>
                        <a:pt x="3" y="16"/>
                      </a:lnTo>
                      <a:lnTo>
                        <a:pt x="8" y="16"/>
                      </a:lnTo>
                      <a:lnTo>
                        <a:pt x="15" y="16"/>
                      </a:lnTo>
                      <a:lnTo>
                        <a:pt x="23" y="16"/>
                      </a:lnTo>
                      <a:lnTo>
                        <a:pt x="33" y="17"/>
                      </a:lnTo>
                      <a:lnTo>
                        <a:pt x="42" y="19"/>
                      </a:lnTo>
                      <a:lnTo>
                        <a:pt x="54" y="22"/>
                      </a:lnTo>
                      <a:lnTo>
                        <a:pt x="65" y="23"/>
                      </a:lnTo>
                      <a:lnTo>
                        <a:pt x="76" y="27"/>
                      </a:lnTo>
                      <a:lnTo>
                        <a:pt x="87" y="33"/>
                      </a:lnTo>
                      <a:lnTo>
                        <a:pt x="99" y="38"/>
                      </a:lnTo>
                      <a:lnTo>
                        <a:pt x="109" y="45"/>
                      </a:lnTo>
                      <a:lnTo>
                        <a:pt x="119" y="55"/>
                      </a:lnTo>
                      <a:lnTo>
                        <a:pt x="128" y="64"/>
                      </a:lnTo>
                      <a:lnTo>
                        <a:pt x="137" y="77"/>
                      </a:lnTo>
                      <a:lnTo>
                        <a:pt x="150" y="57"/>
                      </a:lnTo>
                      <a:lnTo>
                        <a:pt x="148" y="53"/>
                      </a:lnTo>
                      <a:lnTo>
                        <a:pt x="140" y="45"/>
                      </a:lnTo>
                      <a:lnTo>
                        <a:pt x="134" y="40"/>
                      </a:lnTo>
                      <a:lnTo>
                        <a:pt x="128" y="34"/>
                      </a:lnTo>
                      <a:lnTo>
                        <a:pt x="121" y="30"/>
                      </a:lnTo>
                      <a:lnTo>
                        <a:pt x="113" y="24"/>
                      </a:lnTo>
                      <a:lnTo>
                        <a:pt x="102" y="19"/>
                      </a:lnTo>
                      <a:lnTo>
                        <a:pt x="91" y="13"/>
                      </a:lnTo>
                      <a:lnTo>
                        <a:pt x="79" y="9"/>
                      </a:lnTo>
                      <a:lnTo>
                        <a:pt x="66" y="4"/>
                      </a:lnTo>
                      <a:lnTo>
                        <a:pt x="50" y="1"/>
                      </a:lnTo>
                      <a:lnTo>
                        <a:pt x="35" y="0"/>
                      </a:lnTo>
                      <a:lnTo>
                        <a:pt x="18" y="0"/>
                      </a:lnTo>
                      <a:lnTo>
                        <a:pt x="1" y="2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4d36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H="1">
                  <a:off x="2261520" y="5619600"/>
                  <a:ext cx="682560" cy="160200"/>
                </a:xfrm>
                <a:custGeom>
                  <a:avLst/>
                  <a:gdLst/>
                  <a:ahLst/>
                  <a:rect l="l" t="t" r="r" b="b"/>
                  <a:pathLst>
                    <a:path w="1050" h="283">
                      <a:moveTo>
                        <a:pt x="0" y="283"/>
                      </a:moveTo>
                      <a:lnTo>
                        <a:pt x="0" y="281"/>
                      </a:lnTo>
                      <a:lnTo>
                        <a:pt x="4" y="277"/>
                      </a:lnTo>
                      <a:lnTo>
                        <a:pt x="10" y="271"/>
                      </a:lnTo>
                      <a:lnTo>
                        <a:pt x="16" y="264"/>
                      </a:lnTo>
                      <a:lnTo>
                        <a:pt x="24" y="254"/>
                      </a:lnTo>
                      <a:lnTo>
                        <a:pt x="34" y="244"/>
                      </a:lnTo>
                      <a:lnTo>
                        <a:pt x="45" y="233"/>
                      </a:lnTo>
                      <a:lnTo>
                        <a:pt x="56" y="223"/>
                      </a:lnTo>
                      <a:lnTo>
                        <a:pt x="68" y="211"/>
                      </a:lnTo>
                      <a:lnTo>
                        <a:pt x="82" y="201"/>
                      </a:lnTo>
                      <a:lnTo>
                        <a:pt x="95" y="190"/>
                      </a:lnTo>
                      <a:lnTo>
                        <a:pt x="109" y="182"/>
                      </a:lnTo>
                      <a:lnTo>
                        <a:pt x="121" y="173"/>
                      </a:lnTo>
                      <a:lnTo>
                        <a:pt x="135" y="168"/>
                      </a:lnTo>
                      <a:lnTo>
                        <a:pt x="147" y="164"/>
                      </a:lnTo>
                      <a:lnTo>
                        <a:pt x="159" y="163"/>
                      </a:lnTo>
                      <a:lnTo>
                        <a:pt x="103" y="226"/>
                      </a:lnTo>
                      <a:lnTo>
                        <a:pt x="351" y="115"/>
                      </a:lnTo>
                      <a:lnTo>
                        <a:pt x="294" y="171"/>
                      </a:lnTo>
                      <a:lnTo>
                        <a:pt x="506" y="98"/>
                      </a:lnTo>
                      <a:lnTo>
                        <a:pt x="437" y="158"/>
                      </a:lnTo>
                      <a:lnTo>
                        <a:pt x="647" y="63"/>
                      </a:lnTo>
                      <a:lnTo>
                        <a:pt x="586" y="131"/>
                      </a:lnTo>
                      <a:lnTo>
                        <a:pt x="801" y="33"/>
                      </a:lnTo>
                      <a:lnTo>
                        <a:pt x="742" y="103"/>
                      </a:lnTo>
                      <a:lnTo>
                        <a:pt x="945" y="16"/>
                      </a:lnTo>
                      <a:lnTo>
                        <a:pt x="898" y="84"/>
                      </a:lnTo>
                      <a:lnTo>
                        <a:pt x="1050" y="0"/>
                      </a:lnTo>
                      <a:lnTo>
                        <a:pt x="1031" y="56"/>
                      </a:lnTo>
                      <a:lnTo>
                        <a:pt x="0" y="283"/>
                      </a:lnTo>
                      <a:lnTo>
                        <a:pt x="0" y="283"/>
                      </a:lnTo>
                      <a:close/>
                    </a:path>
                  </a:pathLst>
                </a:custGeom>
                <a:solidFill>
                  <a:srgbClr val="5c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H="1">
                  <a:off x="1889640" y="5135400"/>
                  <a:ext cx="1223640" cy="680400"/>
                </a:xfrm>
                <a:custGeom>
                  <a:avLst/>
                  <a:gdLst/>
                  <a:ahLst/>
                  <a:rect l="l" t="t" r="r" b="b"/>
                  <a:pathLst>
                    <a:path w="1883" h="1207">
                      <a:moveTo>
                        <a:pt x="156" y="0"/>
                      </a:moveTo>
                      <a:lnTo>
                        <a:pt x="122" y="41"/>
                      </a:lnTo>
                      <a:lnTo>
                        <a:pt x="659" y="55"/>
                      </a:lnTo>
                      <a:lnTo>
                        <a:pt x="663" y="55"/>
                      </a:lnTo>
                      <a:lnTo>
                        <a:pt x="669" y="55"/>
                      </a:lnTo>
                      <a:lnTo>
                        <a:pt x="677" y="57"/>
                      </a:lnTo>
                      <a:lnTo>
                        <a:pt x="684" y="58"/>
                      </a:lnTo>
                      <a:lnTo>
                        <a:pt x="694" y="62"/>
                      </a:lnTo>
                      <a:lnTo>
                        <a:pt x="705" y="63"/>
                      </a:lnTo>
                      <a:lnTo>
                        <a:pt x="716" y="68"/>
                      </a:lnTo>
                      <a:lnTo>
                        <a:pt x="726" y="72"/>
                      </a:lnTo>
                      <a:lnTo>
                        <a:pt x="736" y="77"/>
                      </a:lnTo>
                      <a:lnTo>
                        <a:pt x="744" y="84"/>
                      </a:lnTo>
                      <a:lnTo>
                        <a:pt x="753" y="91"/>
                      </a:lnTo>
                      <a:lnTo>
                        <a:pt x="760" y="98"/>
                      </a:lnTo>
                      <a:lnTo>
                        <a:pt x="764" y="108"/>
                      </a:lnTo>
                      <a:lnTo>
                        <a:pt x="767" y="119"/>
                      </a:lnTo>
                      <a:lnTo>
                        <a:pt x="768" y="131"/>
                      </a:lnTo>
                      <a:lnTo>
                        <a:pt x="764" y="142"/>
                      </a:lnTo>
                      <a:lnTo>
                        <a:pt x="758" y="153"/>
                      </a:lnTo>
                      <a:lnTo>
                        <a:pt x="748" y="164"/>
                      </a:lnTo>
                      <a:lnTo>
                        <a:pt x="737" y="175"/>
                      </a:lnTo>
                      <a:lnTo>
                        <a:pt x="722" y="184"/>
                      </a:lnTo>
                      <a:lnTo>
                        <a:pt x="706" y="194"/>
                      </a:lnTo>
                      <a:lnTo>
                        <a:pt x="691" y="202"/>
                      </a:lnTo>
                      <a:lnTo>
                        <a:pt x="674" y="211"/>
                      </a:lnTo>
                      <a:lnTo>
                        <a:pt x="657" y="216"/>
                      </a:lnTo>
                      <a:lnTo>
                        <a:pt x="640" y="223"/>
                      </a:lnTo>
                      <a:lnTo>
                        <a:pt x="626" y="227"/>
                      </a:lnTo>
                      <a:lnTo>
                        <a:pt x="613" y="233"/>
                      </a:lnTo>
                      <a:lnTo>
                        <a:pt x="600" y="235"/>
                      </a:lnTo>
                      <a:lnTo>
                        <a:pt x="592" y="238"/>
                      </a:lnTo>
                      <a:lnTo>
                        <a:pt x="586" y="241"/>
                      </a:lnTo>
                      <a:lnTo>
                        <a:pt x="585" y="242"/>
                      </a:lnTo>
                      <a:lnTo>
                        <a:pt x="191" y="321"/>
                      </a:lnTo>
                      <a:lnTo>
                        <a:pt x="189" y="321"/>
                      </a:lnTo>
                      <a:lnTo>
                        <a:pt x="182" y="324"/>
                      </a:lnTo>
                      <a:lnTo>
                        <a:pt x="173" y="327"/>
                      </a:lnTo>
                      <a:lnTo>
                        <a:pt x="160" y="331"/>
                      </a:lnTo>
                      <a:lnTo>
                        <a:pt x="145" y="337"/>
                      </a:lnTo>
                      <a:lnTo>
                        <a:pt x="128" y="345"/>
                      </a:lnTo>
                      <a:lnTo>
                        <a:pt x="111" y="353"/>
                      </a:lnTo>
                      <a:lnTo>
                        <a:pt x="93" y="367"/>
                      </a:lnTo>
                      <a:lnTo>
                        <a:pt x="75" y="379"/>
                      </a:lnTo>
                      <a:lnTo>
                        <a:pt x="56" y="394"/>
                      </a:lnTo>
                      <a:lnTo>
                        <a:pt x="41" y="411"/>
                      </a:lnTo>
                      <a:lnTo>
                        <a:pt x="27" y="432"/>
                      </a:lnTo>
                      <a:lnTo>
                        <a:pt x="14" y="453"/>
                      </a:lnTo>
                      <a:lnTo>
                        <a:pt x="6" y="477"/>
                      </a:lnTo>
                      <a:lnTo>
                        <a:pt x="0" y="503"/>
                      </a:lnTo>
                      <a:lnTo>
                        <a:pt x="0" y="534"/>
                      </a:lnTo>
                      <a:lnTo>
                        <a:pt x="6" y="560"/>
                      </a:lnTo>
                      <a:lnTo>
                        <a:pt x="20" y="586"/>
                      </a:lnTo>
                      <a:lnTo>
                        <a:pt x="42" y="606"/>
                      </a:lnTo>
                      <a:lnTo>
                        <a:pt x="70" y="624"/>
                      </a:lnTo>
                      <a:lnTo>
                        <a:pt x="102" y="640"/>
                      </a:lnTo>
                      <a:lnTo>
                        <a:pt x="138" y="652"/>
                      </a:lnTo>
                      <a:lnTo>
                        <a:pt x="177" y="661"/>
                      </a:lnTo>
                      <a:lnTo>
                        <a:pt x="217" y="670"/>
                      </a:lnTo>
                      <a:lnTo>
                        <a:pt x="255" y="675"/>
                      </a:lnTo>
                      <a:lnTo>
                        <a:pt x="294" y="679"/>
                      </a:lnTo>
                      <a:lnTo>
                        <a:pt x="330" y="681"/>
                      </a:lnTo>
                      <a:lnTo>
                        <a:pt x="363" y="683"/>
                      </a:lnTo>
                      <a:lnTo>
                        <a:pt x="389" y="683"/>
                      </a:lnTo>
                      <a:lnTo>
                        <a:pt x="410" y="684"/>
                      </a:lnTo>
                      <a:lnTo>
                        <a:pt x="425" y="684"/>
                      </a:lnTo>
                      <a:lnTo>
                        <a:pt x="430" y="685"/>
                      </a:lnTo>
                      <a:lnTo>
                        <a:pt x="930" y="736"/>
                      </a:lnTo>
                      <a:lnTo>
                        <a:pt x="932" y="736"/>
                      </a:lnTo>
                      <a:lnTo>
                        <a:pt x="938" y="737"/>
                      </a:lnTo>
                      <a:lnTo>
                        <a:pt x="946" y="739"/>
                      </a:lnTo>
                      <a:lnTo>
                        <a:pt x="960" y="744"/>
                      </a:lnTo>
                      <a:lnTo>
                        <a:pt x="974" y="746"/>
                      </a:lnTo>
                      <a:lnTo>
                        <a:pt x="989" y="751"/>
                      </a:lnTo>
                      <a:lnTo>
                        <a:pt x="1005" y="756"/>
                      </a:lnTo>
                      <a:lnTo>
                        <a:pt x="1023" y="764"/>
                      </a:lnTo>
                      <a:lnTo>
                        <a:pt x="1037" y="769"/>
                      </a:lnTo>
                      <a:lnTo>
                        <a:pt x="1050" y="776"/>
                      </a:lnTo>
                      <a:lnTo>
                        <a:pt x="1061" y="782"/>
                      </a:lnTo>
                      <a:lnTo>
                        <a:pt x="1070" y="791"/>
                      </a:lnTo>
                      <a:lnTo>
                        <a:pt x="1072" y="799"/>
                      </a:lnTo>
                      <a:lnTo>
                        <a:pt x="1072" y="807"/>
                      </a:lnTo>
                      <a:lnTo>
                        <a:pt x="1067" y="816"/>
                      </a:lnTo>
                      <a:lnTo>
                        <a:pt x="1057" y="826"/>
                      </a:lnTo>
                      <a:lnTo>
                        <a:pt x="1037" y="833"/>
                      </a:lnTo>
                      <a:lnTo>
                        <a:pt x="1013" y="841"/>
                      </a:lnTo>
                      <a:lnTo>
                        <a:pt x="982" y="850"/>
                      </a:lnTo>
                      <a:lnTo>
                        <a:pt x="947" y="860"/>
                      </a:lnTo>
                      <a:lnTo>
                        <a:pt x="910" y="868"/>
                      </a:lnTo>
                      <a:lnTo>
                        <a:pt x="869" y="875"/>
                      </a:lnTo>
                      <a:lnTo>
                        <a:pt x="828" y="884"/>
                      </a:lnTo>
                      <a:lnTo>
                        <a:pt x="786" y="892"/>
                      </a:lnTo>
                      <a:lnTo>
                        <a:pt x="745" y="897"/>
                      </a:lnTo>
                      <a:lnTo>
                        <a:pt x="706" y="904"/>
                      </a:lnTo>
                      <a:lnTo>
                        <a:pt x="670" y="908"/>
                      </a:lnTo>
                      <a:lnTo>
                        <a:pt x="640" y="915"/>
                      </a:lnTo>
                      <a:lnTo>
                        <a:pt x="614" y="918"/>
                      </a:lnTo>
                      <a:lnTo>
                        <a:pt x="593" y="922"/>
                      </a:lnTo>
                      <a:lnTo>
                        <a:pt x="580" y="924"/>
                      </a:lnTo>
                      <a:lnTo>
                        <a:pt x="577" y="925"/>
                      </a:lnTo>
                      <a:lnTo>
                        <a:pt x="572" y="925"/>
                      </a:lnTo>
                      <a:lnTo>
                        <a:pt x="562" y="927"/>
                      </a:lnTo>
                      <a:lnTo>
                        <a:pt x="545" y="929"/>
                      </a:lnTo>
                      <a:lnTo>
                        <a:pt x="523" y="934"/>
                      </a:lnTo>
                      <a:lnTo>
                        <a:pt x="498" y="937"/>
                      </a:lnTo>
                      <a:lnTo>
                        <a:pt x="468" y="943"/>
                      </a:lnTo>
                      <a:lnTo>
                        <a:pt x="437" y="949"/>
                      </a:lnTo>
                      <a:lnTo>
                        <a:pt x="405" y="955"/>
                      </a:lnTo>
                      <a:lnTo>
                        <a:pt x="370" y="960"/>
                      </a:lnTo>
                      <a:lnTo>
                        <a:pt x="338" y="966"/>
                      </a:lnTo>
                      <a:lnTo>
                        <a:pt x="306" y="973"/>
                      </a:lnTo>
                      <a:lnTo>
                        <a:pt x="279" y="978"/>
                      </a:lnTo>
                      <a:lnTo>
                        <a:pt x="251" y="984"/>
                      </a:lnTo>
                      <a:lnTo>
                        <a:pt x="230" y="988"/>
                      </a:lnTo>
                      <a:lnTo>
                        <a:pt x="213" y="992"/>
                      </a:lnTo>
                      <a:lnTo>
                        <a:pt x="203" y="997"/>
                      </a:lnTo>
                      <a:lnTo>
                        <a:pt x="195" y="999"/>
                      </a:lnTo>
                      <a:lnTo>
                        <a:pt x="187" y="1001"/>
                      </a:lnTo>
                      <a:lnTo>
                        <a:pt x="179" y="1006"/>
                      </a:lnTo>
                      <a:lnTo>
                        <a:pt x="170" y="1011"/>
                      </a:lnTo>
                      <a:lnTo>
                        <a:pt x="161" y="1016"/>
                      </a:lnTo>
                      <a:lnTo>
                        <a:pt x="153" y="1022"/>
                      </a:lnTo>
                      <a:lnTo>
                        <a:pt x="144" y="1028"/>
                      </a:lnTo>
                      <a:lnTo>
                        <a:pt x="135" y="1035"/>
                      </a:lnTo>
                      <a:lnTo>
                        <a:pt x="126" y="1041"/>
                      </a:lnTo>
                      <a:lnTo>
                        <a:pt x="117" y="1047"/>
                      </a:lnTo>
                      <a:lnTo>
                        <a:pt x="110" y="1053"/>
                      </a:lnTo>
                      <a:lnTo>
                        <a:pt x="102" y="1060"/>
                      </a:lnTo>
                      <a:lnTo>
                        <a:pt x="94" y="1065"/>
                      </a:lnTo>
                      <a:lnTo>
                        <a:pt x="89" y="1071"/>
                      </a:lnTo>
                      <a:lnTo>
                        <a:pt x="82" y="1078"/>
                      </a:lnTo>
                      <a:lnTo>
                        <a:pt x="77" y="1083"/>
                      </a:lnTo>
                      <a:lnTo>
                        <a:pt x="80" y="1109"/>
                      </a:lnTo>
                      <a:lnTo>
                        <a:pt x="81" y="1104"/>
                      </a:lnTo>
                      <a:lnTo>
                        <a:pt x="89" y="1096"/>
                      </a:lnTo>
                      <a:lnTo>
                        <a:pt x="92" y="1090"/>
                      </a:lnTo>
                      <a:lnTo>
                        <a:pt x="98" y="1083"/>
                      </a:lnTo>
                      <a:lnTo>
                        <a:pt x="105" y="1077"/>
                      </a:lnTo>
                      <a:lnTo>
                        <a:pt x="114" y="1070"/>
                      </a:lnTo>
                      <a:lnTo>
                        <a:pt x="122" y="1060"/>
                      </a:lnTo>
                      <a:lnTo>
                        <a:pt x="133" y="1052"/>
                      </a:lnTo>
                      <a:lnTo>
                        <a:pt x="143" y="1044"/>
                      </a:lnTo>
                      <a:lnTo>
                        <a:pt x="156" y="1037"/>
                      </a:lnTo>
                      <a:lnTo>
                        <a:pt x="168" y="1029"/>
                      </a:lnTo>
                      <a:lnTo>
                        <a:pt x="181" y="1023"/>
                      </a:lnTo>
                      <a:lnTo>
                        <a:pt x="196" y="1016"/>
                      </a:lnTo>
                      <a:lnTo>
                        <a:pt x="212" y="1011"/>
                      </a:lnTo>
                      <a:lnTo>
                        <a:pt x="234" y="1005"/>
                      </a:lnTo>
                      <a:lnTo>
                        <a:pt x="270" y="998"/>
                      </a:lnTo>
                      <a:lnTo>
                        <a:pt x="316" y="988"/>
                      </a:lnTo>
                      <a:lnTo>
                        <a:pt x="373" y="977"/>
                      </a:lnTo>
                      <a:lnTo>
                        <a:pt x="433" y="965"/>
                      </a:lnTo>
                      <a:lnTo>
                        <a:pt x="501" y="954"/>
                      </a:lnTo>
                      <a:lnTo>
                        <a:pt x="572" y="941"/>
                      </a:lnTo>
                      <a:lnTo>
                        <a:pt x="645" y="928"/>
                      </a:lnTo>
                      <a:lnTo>
                        <a:pt x="714" y="915"/>
                      </a:lnTo>
                      <a:lnTo>
                        <a:pt x="783" y="903"/>
                      </a:lnTo>
                      <a:lnTo>
                        <a:pt x="846" y="891"/>
                      </a:lnTo>
                      <a:lnTo>
                        <a:pt x="903" y="882"/>
                      </a:lnTo>
                      <a:lnTo>
                        <a:pt x="952" y="872"/>
                      </a:lnTo>
                      <a:lnTo>
                        <a:pt x="991" y="865"/>
                      </a:lnTo>
                      <a:lnTo>
                        <a:pt x="1016" y="861"/>
                      </a:lnTo>
                      <a:lnTo>
                        <a:pt x="1029" y="859"/>
                      </a:lnTo>
                      <a:lnTo>
                        <a:pt x="1035" y="855"/>
                      </a:lnTo>
                      <a:lnTo>
                        <a:pt x="1041" y="852"/>
                      </a:lnTo>
                      <a:lnTo>
                        <a:pt x="1049" y="848"/>
                      </a:lnTo>
                      <a:lnTo>
                        <a:pt x="1059" y="843"/>
                      </a:lnTo>
                      <a:lnTo>
                        <a:pt x="1067" y="838"/>
                      </a:lnTo>
                      <a:lnTo>
                        <a:pt x="1076" y="831"/>
                      </a:lnTo>
                      <a:lnTo>
                        <a:pt x="1082" y="824"/>
                      </a:lnTo>
                      <a:lnTo>
                        <a:pt x="1088" y="817"/>
                      </a:lnTo>
                      <a:lnTo>
                        <a:pt x="1090" y="808"/>
                      </a:lnTo>
                      <a:lnTo>
                        <a:pt x="1089" y="799"/>
                      </a:lnTo>
                      <a:lnTo>
                        <a:pt x="1085" y="789"/>
                      </a:lnTo>
                      <a:lnTo>
                        <a:pt x="1077" y="780"/>
                      </a:lnTo>
                      <a:lnTo>
                        <a:pt x="1062" y="768"/>
                      </a:lnTo>
                      <a:lnTo>
                        <a:pt x="1045" y="758"/>
                      </a:lnTo>
                      <a:lnTo>
                        <a:pt x="1020" y="747"/>
                      </a:lnTo>
                      <a:lnTo>
                        <a:pt x="991" y="736"/>
                      </a:lnTo>
                      <a:lnTo>
                        <a:pt x="985" y="735"/>
                      </a:lnTo>
                      <a:lnTo>
                        <a:pt x="974" y="734"/>
                      </a:lnTo>
                      <a:lnTo>
                        <a:pt x="955" y="729"/>
                      </a:lnTo>
                      <a:lnTo>
                        <a:pt x="931" y="726"/>
                      </a:lnTo>
                      <a:lnTo>
                        <a:pt x="900" y="721"/>
                      </a:lnTo>
                      <a:lnTo>
                        <a:pt x="865" y="715"/>
                      </a:lnTo>
                      <a:lnTo>
                        <a:pt x="826" y="709"/>
                      </a:lnTo>
                      <a:lnTo>
                        <a:pt x="785" y="704"/>
                      </a:lnTo>
                      <a:lnTo>
                        <a:pt x="740" y="698"/>
                      </a:lnTo>
                      <a:lnTo>
                        <a:pt x="692" y="692"/>
                      </a:lnTo>
                      <a:lnTo>
                        <a:pt x="642" y="686"/>
                      </a:lnTo>
                      <a:lnTo>
                        <a:pt x="594" y="681"/>
                      </a:lnTo>
                      <a:lnTo>
                        <a:pt x="545" y="675"/>
                      </a:lnTo>
                      <a:lnTo>
                        <a:pt x="496" y="673"/>
                      </a:lnTo>
                      <a:lnTo>
                        <a:pt x="449" y="670"/>
                      </a:lnTo>
                      <a:lnTo>
                        <a:pt x="406" y="670"/>
                      </a:lnTo>
                      <a:lnTo>
                        <a:pt x="400" y="669"/>
                      </a:lnTo>
                      <a:lnTo>
                        <a:pt x="389" y="669"/>
                      </a:lnTo>
                      <a:lnTo>
                        <a:pt x="372" y="667"/>
                      </a:lnTo>
                      <a:lnTo>
                        <a:pt x="348" y="666"/>
                      </a:lnTo>
                      <a:lnTo>
                        <a:pt x="320" y="664"/>
                      </a:lnTo>
                      <a:lnTo>
                        <a:pt x="290" y="661"/>
                      </a:lnTo>
                      <a:lnTo>
                        <a:pt x="255" y="656"/>
                      </a:lnTo>
                      <a:lnTo>
                        <a:pt x="222" y="652"/>
                      </a:lnTo>
                      <a:lnTo>
                        <a:pt x="187" y="644"/>
                      </a:lnTo>
                      <a:lnTo>
                        <a:pt x="153" y="635"/>
                      </a:lnTo>
                      <a:lnTo>
                        <a:pt x="121" y="625"/>
                      </a:lnTo>
                      <a:lnTo>
                        <a:pt x="91" y="613"/>
                      </a:lnTo>
                      <a:lnTo>
                        <a:pt x="65" y="598"/>
                      </a:lnTo>
                      <a:lnTo>
                        <a:pt x="44" y="581"/>
                      </a:lnTo>
                      <a:lnTo>
                        <a:pt x="30" y="560"/>
                      </a:lnTo>
                      <a:lnTo>
                        <a:pt x="22" y="539"/>
                      </a:lnTo>
                      <a:lnTo>
                        <a:pt x="20" y="515"/>
                      </a:lnTo>
                      <a:lnTo>
                        <a:pt x="20" y="494"/>
                      </a:lnTo>
                      <a:lnTo>
                        <a:pt x="26" y="474"/>
                      </a:lnTo>
                      <a:lnTo>
                        <a:pt x="33" y="455"/>
                      </a:lnTo>
                      <a:lnTo>
                        <a:pt x="43" y="438"/>
                      </a:lnTo>
                      <a:lnTo>
                        <a:pt x="54" y="421"/>
                      </a:lnTo>
                      <a:lnTo>
                        <a:pt x="69" y="407"/>
                      </a:lnTo>
                      <a:lnTo>
                        <a:pt x="84" y="394"/>
                      </a:lnTo>
                      <a:lnTo>
                        <a:pt x="100" y="381"/>
                      </a:lnTo>
                      <a:lnTo>
                        <a:pt x="115" y="371"/>
                      </a:lnTo>
                      <a:lnTo>
                        <a:pt x="131" y="361"/>
                      </a:lnTo>
                      <a:lnTo>
                        <a:pt x="146" y="353"/>
                      </a:lnTo>
                      <a:lnTo>
                        <a:pt x="160" y="347"/>
                      </a:lnTo>
                      <a:lnTo>
                        <a:pt x="174" y="341"/>
                      </a:lnTo>
                      <a:lnTo>
                        <a:pt x="185" y="338"/>
                      </a:lnTo>
                      <a:lnTo>
                        <a:pt x="194" y="337"/>
                      </a:lnTo>
                      <a:lnTo>
                        <a:pt x="203" y="334"/>
                      </a:lnTo>
                      <a:lnTo>
                        <a:pt x="221" y="330"/>
                      </a:lnTo>
                      <a:lnTo>
                        <a:pt x="243" y="326"/>
                      </a:lnTo>
                      <a:lnTo>
                        <a:pt x="271" y="320"/>
                      </a:lnTo>
                      <a:lnTo>
                        <a:pt x="301" y="315"/>
                      </a:lnTo>
                      <a:lnTo>
                        <a:pt x="334" y="308"/>
                      </a:lnTo>
                      <a:lnTo>
                        <a:pt x="368" y="302"/>
                      </a:lnTo>
                      <a:lnTo>
                        <a:pt x="404" y="295"/>
                      </a:lnTo>
                      <a:lnTo>
                        <a:pt x="437" y="288"/>
                      </a:lnTo>
                      <a:lnTo>
                        <a:pt x="470" y="282"/>
                      </a:lnTo>
                      <a:lnTo>
                        <a:pt x="500" y="275"/>
                      </a:lnTo>
                      <a:lnTo>
                        <a:pt x="529" y="271"/>
                      </a:lnTo>
                      <a:lnTo>
                        <a:pt x="552" y="266"/>
                      </a:lnTo>
                      <a:lnTo>
                        <a:pt x="568" y="263"/>
                      </a:lnTo>
                      <a:lnTo>
                        <a:pt x="580" y="261"/>
                      </a:lnTo>
                      <a:lnTo>
                        <a:pt x="585" y="261"/>
                      </a:lnTo>
                      <a:lnTo>
                        <a:pt x="587" y="260"/>
                      </a:lnTo>
                      <a:lnTo>
                        <a:pt x="593" y="258"/>
                      </a:lnTo>
                      <a:lnTo>
                        <a:pt x="603" y="256"/>
                      </a:lnTo>
                      <a:lnTo>
                        <a:pt x="615" y="254"/>
                      </a:lnTo>
                      <a:lnTo>
                        <a:pt x="629" y="248"/>
                      </a:lnTo>
                      <a:lnTo>
                        <a:pt x="647" y="244"/>
                      </a:lnTo>
                      <a:lnTo>
                        <a:pt x="664" y="237"/>
                      </a:lnTo>
                      <a:lnTo>
                        <a:pt x="683" y="232"/>
                      </a:lnTo>
                      <a:lnTo>
                        <a:pt x="702" y="223"/>
                      </a:lnTo>
                      <a:lnTo>
                        <a:pt x="720" y="213"/>
                      </a:lnTo>
                      <a:lnTo>
                        <a:pt x="736" y="202"/>
                      </a:lnTo>
                      <a:lnTo>
                        <a:pt x="752" y="191"/>
                      </a:lnTo>
                      <a:lnTo>
                        <a:pt x="764" y="178"/>
                      </a:lnTo>
                      <a:lnTo>
                        <a:pt x="774" y="164"/>
                      </a:lnTo>
                      <a:lnTo>
                        <a:pt x="781" y="149"/>
                      </a:lnTo>
                      <a:lnTo>
                        <a:pt x="784" y="132"/>
                      </a:lnTo>
                      <a:lnTo>
                        <a:pt x="781" y="115"/>
                      </a:lnTo>
                      <a:lnTo>
                        <a:pt x="775" y="100"/>
                      </a:lnTo>
                      <a:lnTo>
                        <a:pt x="767" y="87"/>
                      </a:lnTo>
                      <a:lnTo>
                        <a:pt x="758" y="77"/>
                      </a:lnTo>
                      <a:lnTo>
                        <a:pt x="746" y="67"/>
                      </a:lnTo>
                      <a:lnTo>
                        <a:pt x="734" y="61"/>
                      </a:lnTo>
                      <a:lnTo>
                        <a:pt x="721" y="54"/>
                      </a:lnTo>
                      <a:lnTo>
                        <a:pt x="708" y="51"/>
                      </a:lnTo>
                      <a:lnTo>
                        <a:pt x="694" y="46"/>
                      </a:lnTo>
                      <a:lnTo>
                        <a:pt x="681" y="43"/>
                      </a:lnTo>
                      <a:lnTo>
                        <a:pt x="669" y="41"/>
                      </a:lnTo>
                      <a:lnTo>
                        <a:pt x="659" y="39"/>
                      </a:lnTo>
                      <a:lnTo>
                        <a:pt x="648" y="38"/>
                      </a:lnTo>
                      <a:lnTo>
                        <a:pt x="641" y="38"/>
                      </a:lnTo>
                      <a:lnTo>
                        <a:pt x="637" y="38"/>
                      </a:lnTo>
                      <a:lnTo>
                        <a:pt x="637" y="39"/>
                      </a:lnTo>
                      <a:lnTo>
                        <a:pt x="140" y="31"/>
                      </a:lnTo>
                      <a:lnTo>
                        <a:pt x="157" y="13"/>
                      </a:lnTo>
                      <a:lnTo>
                        <a:pt x="161" y="12"/>
                      </a:lnTo>
                      <a:lnTo>
                        <a:pt x="180" y="11"/>
                      </a:lnTo>
                      <a:lnTo>
                        <a:pt x="208" y="10"/>
                      </a:lnTo>
                      <a:lnTo>
                        <a:pt x="245" y="10"/>
                      </a:lnTo>
                      <a:lnTo>
                        <a:pt x="288" y="9"/>
                      </a:lnTo>
                      <a:lnTo>
                        <a:pt x="337" y="7"/>
                      </a:lnTo>
                      <a:lnTo>
                        <a:pt x="390" y="7"/>
                      </a:lnTo>
                      <a:lnTo>
                        <a:pt x="447" y="9"/>
                      </a:lnTo>
                      <a:lnTo>
                        <a:pt x="502" y="9"/>
                      </a:lnTo>
                      <a:lnTo>
                        <a:pt x="557" y="10"/>
                      </a:lnTo>
                      <a:lnTo>
                        <a:pt x="610" y="11"/>
                      </a:lnTo>
                      <a:lnTo>
                        <a:pt x="660" y="14"/>
                      </a:lnTo>
                      <a:lnTo>
                        <a:pt x="704" y="16"/>
                      </a:lnTo>
                      <a:lnTo>
                        <a:pt x="741" y="22"/>
                      </a:lnTo>
                      <a:lnTo>
                        <a:pt x="770" y="27"/>
                      </a:lnTo>
                      <a:lnTo>
                        <a:pt x="789" y="36"/>
                      </a:lnTo>
                      <a:lnTo>
                        <a:pt x="800" y="44"/>
                      </a:lnTo>
                      <a:lnTo>
                        <a:pt x="812" y="53"/>
                      </a:lnTo>
                      <a:lnTo>
                        <a:pt x="819" y="63"/>
                      </a:lnTo>
                      <a:lnTo>
                        <a:pt x="828" y="75"/>
                      </a:lnTo>
                      <a:lnTo>
                        <a:pt x="833" y="86"/>
                      </a:lnTo>
                      <a:lnTo>
                        <a:pt x="836" y="99"/>
                      </a:lnTo>
                      <a:lnTo>
                        <a:pt x="838" y="112"/>
                      </a:lnTo>
                      <a:lnTo>
                        <a:pt x="839" y="127"/>
                      </a:lnTo>
                      <a:lnTo>
                        <a:pt x="836" y="140"/>
                      </a:lnTo>
                      <a:lnTo>
                        <a:pt x="831" y="153"/>
                      </a:lnTo>
                      <a:lnTo>
                        <a:pt x="826" y="167"/>
                      </a:lnTo>
                      <a:lnTo>
                        <a:pt x="819" y="181"/>
                      </a:lnTo>
                      <a:lnTo>
                        <a:pt x="808" y="194"/>
                      </a:lnTo>
                      <a:lnTo>
                        <a:pt x="797" y="208"/>
                      </a:lnTo>
                      <a:lnTo>
                        <a:pt x="782" y="220"/>
                      </a:lnTo>
                      <a:lnTo>
                        <a:pt x="766" y="233"/>
                      </a:lnTo>
                      <a:lnTo>
                        <a:pt x="746" y="244"/>
                      </a:lnTo>
                      <a:lnTo>
                        <a:pt x="724" y="256"/>
                      </a:lnTo>
                      <a:lnTo>
                        <a:pt x="698" y="268"/>
                      </a:lnTo>
                      <a:lnTo>
                        <a:pt x="671" y="281"/>
                      </a:lnTo>
                      <a:lnTo>
                        <a:pt x="642" y="290"/>
                      </a:lnTo>
                      <a:lnTo>
                        <a:pt x="614" y="302"/>
                      </a:lnTo>
                      <a:lnTo>
                        <a:pt x="583" y="311"/>
                      </a:lnTo>
                      <a:lnTo>
                        <a:pt x="555" y="321"/>
                      </a:lnTo>
                      <a:lnTo>
                        <a:pt x="525" y="329"/>
                      </a:lnTo>
                      <a:lnTo>
                        <a:pt x="500" y="338"/>
                      </a:lnTo>
                      <a:lnTo>
                        <a:pt x="477" y="344"/>
                      </a:lnTo>
                      <a:lnTo>
                        <a:pt x="454" y="351"/>
                      </a:lnTo>
                      <a:lnTo>
                        <a:pt x="437" y="356"/>
                      </a:lnTo>
                      <a:lnTo>
                        <a:pt x="425" y="360"/>
                      </a:lnTo>
                      <a:lnTo>
                        <a:pt x="416" y="362"/>
                      </a:lnTo>
                      <a:lnTo>
                        <a:pt x="414" y="362"/>
                      </a:lnTo>
                      <a:lnTo>
                        <a:pt x="410" y="362"/>
                      </a:lnTo>
                      <a:lnTo>
                        <a:pt x="404" y="362"/>
                      </a:lnTo>
                      <a:lnTo>
                        <a:pt x="391" y="363"/>
                      </a:lnTo>
                      <a:lnTo>
                        <a:pt x="377" y="367"/>
                      </a:lnTo>
                      <a:lnTo>
                        <a:pt x="359" y="370"/>
                      </a:lnTo>
                      <a:lnTo>
                        <a:pt x="341" y="373"/>
                      </a:lnTo>
                      <a:lnTo>
                        <a:pt x="320" y="378"/>
                      </a:lnTo>
                      <a:lnTo>
                        <a:pt x="299" y="386"/>
                      </a:lnTo>
                      <a:lnTo>
                        <a:pt x="275" y="391"/>
                      </a:lnTo>
                      <a:lnTo>
                        <a:pt x="254" y="399"/>
                      </a:lnTo>
                      <a:lnTo>
                        <a:pt x="233" y="409"/>
                      </a:lnTo>
                      <a:lnTo>
                        <a:pt x="216" y="420"/>
                      </a:lnTo>
                      <a:lnTo>
                        <a:pt x="199" y="431"/>
                      </a:lnTo>
                      <a:lnTo>
                        <a:pt x="186" y="444"/>
                      </a:lnTo>
                      <a:lnTo>
                        <a:pt x="176" y="460"/>
                      </a:lnTo>
                      <a:lnTo>
                        <a:pt x="170" y="477"/>
                      </a:lnTo>
                      <a:lnTo>
                        <a:pt x="168" y="492"/>
                      </a:lnTo>
                      <a:lnTo>
                        <a:pt x="170" y="507"/>
                      </a:lnTo>
                      <a:lnTo>
                        <a:pt x="177" y="519"/>
                      </a:lnTo>
                      <a:lnTo>
                        <a:pt x="186" y="531"/>
                      </a:lnTo>
                      <a:lnTo>
                        <a:pt x="196" y="540"/>
                      </a:lnTo>
                      <a:lnTo>
                        <a:pt x="209" y="550"/>
                      </a:lnTo>
                      <a:lnTo>
                        <a:pt x="224" y="558"/>
                      </a:lnTo>
                      <a:lnTo>
                        <a:pt x="239" y="565"/>
                      </a:lnTo>
                      <a:lnTo>
                        <a:pt x="254" y="570"/>
                      </a:lnTo>
                      <a:lnTo>
                        <a:pt x="270" y="573"/>
                      </a:lnTo>
                      <a:lnTo>
                        <a:pt x="283" y="577"/>
                      </a:lnTo>
                      <a:lnTo>
                        <a:pt x="296" y="581"/>
                      </a:lnTo>
                      <a:lnTo>
                        <a:pt x="306" y="582"/>
                      </a:lnTo>
                      <a:lnTo>
                        <a:pt x="316" y="583"/>
                      </a:lnTo>
                      <a:lnTo>
                        <a:pt x="321" y="583"/>
                      </a:lnTo>
                      <a:lnTo>
                        <a:pt x="324" y="585"/>
                      </a:lnTo>
                      <a:lnTo>
                        <a:pt x="933" y="633"/>
                      </a:lnTo>
                      <a:lnTo>
                        <a:pt x="935" y="633"/>
                      </a:lnTo>
                      <a:lnTo>
                        <a:pt x="946" y="634"/>
                      </a:lnTo>
                      <a:lnTo>
                        <a:pt x="963" y="635"/>
                      </a:lnTo>
                      <a:lnTo>
                        <a:pt x="985" y="639"/>
                      </a:lnTo>
                      <a:lnTo>
                        <a:pt x="1011" y="641"/>
                      </a:lnTo>
                      <a:lnTo>
                        <a:pt x="1040" y="645"/>
                      </a:lnTo>
                      <a:lnTo>
                        <a:pt x="1071" y="651"/>
                      </a:lnTo>
                      <a:lnTo>
                        <a:pt x="1106" y="656"/>
                      </a:lnTo>
                      <a:lnTo>
                        <a:pt x="1139" y="662"/>
                      </a:lnTo>
                      <a:lnTo>
                        <a:pt x="1172" y="669"/>
                      </a:lnTo>
                      <a:lnTo>
                        <a:pt x="1204" y="675"/>
                      </a:lnTo>
                      <a:lnTo>
                        <a:pt x="1234" y="684"/>
                      </a:lnTo>
                      <a:lnTo>
                        <a:pt x="1259" y="692"/>
                      </a:lnTo>
                      <a:lnTo>
                        <a:pt x="1282" y="701"/>
                      </a:lnTo>
                      <a:lnTo>
                        <a:pt x="1300" y="711"/>
                      </a:lnTo>
                      <a:lnTo>
                        <a:pt x="1312" y="723"/>
                      </a:lnTo>
                      <a:lnTo>
                        <a:pt x="1320" y="733"/>
                      </a:lnTo>
                      <a:lnTo>
                        <a:pt x="1327" y="745"/>
                      </a:lnTo>
                      <a:lnTo>
                        <a:pt x="1332" y="756"/>
                      </a:lnTo>
                      <a:lnTo>
                        <a:pt x="1338" y="769"/>
                      </a:lnTo>
                      <a:lnTo>
                        <a:pt x="1341" y="781"/>
                      </a:lnTo>
                      <a:lnTo>
                        <a:pt x="1344" y="796"/>
                      </a:lnTo>
                      <a:lnTo>
                        <a:pt x="1344" y="809"/>
                      </a:lnTo>
                      <a:lnTo>
                        <a:pt x="1345" y="823"/>
                      </a:lnTo>
                      <a:lnTo>
                        <a:pt x="1343" y="836"/>
                      </a:lnTo>
                      <a:lnTo>
                        <a:pt x="1340" y="848"/>
                      </a:lnTo>
                      <a:lnTo>
                        <a:pt x="1334" y="859"/>
                      </a:lnTo>
                      <a:lnTo>
                        <a:pt x="1329" y="871"/>
                      </a:lnTo>
                      <a:lnTo>
                        <a:pt x="1320" y="881"/>
                      </a:lnTo>
                      <a:lnTo>
                        <a:pt x="1310" y="891"/>
                      </a:lnTo>
                      <a:lnTo>
                        <a:pt x="1299" y="899"/>
                      </a:lnTo>
                      <a:lnTo>
                        <a:pt x="1287" y="907"/>
                      </a:lnTo>
                      <a:lnTo>
                        <a:pt x="1269" y="913"/>
                      </a:lnTo>
                      <a:lnTo>
                        <a:pt x="1249" y="918"/>
                      </a:lnTo>
                      <a:lnTo>
                        <a:pt x="1227" y="925"/>
                      </a:lnTo>
                      <a:lnTo>
                        <a:pt x="1204" y="932"/>
                      </a:lnTo>
                      <a:lnTo>
                        <a:pt x="1177" y="937"/>
                      </a:lnTo>
                      <a:lnTo>
                        <a:pt x="1152" y="943"/>
                      </a:lnTo>
                      <a:lnTo>
                        <a:pt x="1125" y="948"/>
                      </a:lnTo>
                      <a:lnTo>
                        <a:pt x="1101" y="954"/>
                      </a:lnTo>
                      <a:lnTo>
                        <a:pt x="1075" y="958"/>
                      </a:lnTo>
                      <a:lnTo>
                        <a:pt x="1051" y="963"/>
                      </a:lnTo>
                      <a:lnTo>
                        <a:pt x="1030" y="965"/>
                      </a:lnTo>
                      <a:lnTo>
                        <a:pt x="1013" y="969"/>
                      </a:lnTo>
                      <a:lnTo>
                        <a:pt x="997" y="971"/>
                      </a:lnTo>
                      <a:lnTo>
                        <a:pt x="985" y="974"/>
                      </a:lnTo>
                      <a:lnTo>
                        <a:pt x="978" y="975"/>
                      </a:lnTo>
                      <a:lnTo>
                        <a:pt x="976" y="976"/>
                      </a:lnTo>
                      <a:lnTo>
                        <a:pt x="269" y="1137"/>
                      </a:lnTo>
                      <a:lnTo>
                        <a:pt x="264" y="1137"/>
                      </a:lnTo>
                      <a:lnTo>
                        <a:pt x="259" y="1142"/>
                      </a:lnTo>
                      <a:lnTo>
                        <a:pt x="255" y="1145"/>
                      </a:lnTo>
                      <a:lnTo>
                        <a:pt x="254" y="1151"/>
                      </a:lnTo>
                      <a:lnTo>
                        <a:pt x="254" y="1158"/>
                      </a:lnTo>
                      <a:lnTo>
                        <a:pt x="258" y="1168"/>
                      </a:lnTo>
                      <a:lnTo>
                        <a:pt x="260" y="1173"/>
                      </a:lnTo>
                      <a:lnTo>
                        <a:pt x="264" y="1177"/>
                      </a:lnTo>
                      <a:lnTo>
                        <a:pt x="271" y="1182"/>
                      </a:lnTo>
                      <a:lnTo>
                        <a:pt x="281" y="1185"/>
                      </a:lnTo>
                      <a:lnTo>
                        <a:pt x="290" y="1188"/>
                      </a:lnTo>
                      <a:lnTo>
                        <a:pt x="301" y="1191"/>
                      </a:lnTo>
                      <a:lnTo>
                        <a:pt x="312" y="1195"/>
                      </a:lnTo>
                      <a:lnTo>
                        <a:pt x="324" y="1197"/>
                      </a:lnTo>
                      <a:lnTo>
                        <a:pt x="334" y="1198"/>
                      </a:lnTo>
                      <a:lnTo>
                        <a:pt x="345" y="1200"/>
                      </a:lnTo>
                      <a:lnTo>
                        <a:pt x="354" y="1201"/>
                      </a:lnTo>
                      <a:lnTo>
                        <a:pt x="364" y="1204"/>
                      </a:lnTo>
                      <a:lnTo>
                        <a:pt x="372" y="1205"/>
                      </a:lnTo>
                      <a:lnTo>
                        <a:pt x="377" y="1206"/>
                      </a:lnTo>
                      <a:lnTo>
                        <a:pt x="381" y="1206"/>
                      </a:lnTo>
                      <a:lnTo>
                        <a:pt x="384" y="1207"/>
                      </a:lnTo>
                      <a:lnTo>
                        <a:pt x="1024" y="1191"/>
                      </a:lnTo>
                      <a:lnTo>
                        <a:pt x="1869" y="1030"/>
                      </a:lnTo>
                      <a:lnTo>
                        <a:pt x="1883" y="999"/>
                      </a:lnTo>
                      <a:lnTo>
                        <a:pt x="1873" y="1000"/>
                      </a:lnTo>
                      <a:lnTo>
                        <a:pt x="1848" y="1006"/>
                      </a:lnTo>
                      <a:lnTo>
                        <a:pt x="1811" y="1014"/>
                      </a:lnTo>
                      <a:lnTo>
                        <a:pt x="1761" y="1025"/>
                      </a:lnTo>
                      <a:lnTo>
                        <a:pt x="1701" y="1037"/>
                      </a:lnTo>
                      <a:lnTo>
                        <a:pt x="1636" y="1052"/>
                      </a:lnTo>
                      <a:lnTo>
                        <a:pt x="1564" y="1068"/>
                      </a:lnTo>
                      <a:lnTo>
                        <a:pt x="1490" y="1084"/>
                      </a:lnTo>
                      <a:lnTo>
                        <a:pt x="1413" y="1100"/>
                      </a:lnTo>
                      <a:lnTo>
                        <a:pt x="1338" y="1116"/>
                      </a:lnTo>
                      <a:lnTo>
                        <a:pt x="1265" y="1130"/>
                      </a:lnTo>
                      <a:lnTo>
                        <a:pt x="1198" y="1144"/>
                      </a:lnTo>
                      <a:lnTo>
                        <a:pt x="1139" y="1154"/>
                      </a:lnTo>
                      <a:lnTo>
                        <a:pt x="1088" y="1163"/>
                      </a:lnTo>
                      <a:lnTo>
                        <a:pt x="1048" y="1169"/>
                      </a:lnTo>
                      <a:lnTo>
                        <a:pt x="1024" y="1173"/>
                      </a:lnTo>
                      <a:lnTo>
                        <a:pt x="999" y="1173"/>
                      </a:lnTo>
                      <a:lnTo>
                        <a:pt x="967" y="1173"/>
                      </a:lnTo>
                      <a:lnTo>
                        <a:pt x="928" y="1174"/>
                      </a:lnTo>
                      <a:lnTo>
                        <a:pt x="883" y="1175"/>
                      </a:lnTo>
                      <a:lnTo>
                        <a:pt x="831" y="1176"/>
                      </a:lnTo>
                      <a:lnTo>
                        <a:pt x="778" y="1178"/>
                      </a:lnTo>
                      <a:lnTo>
                        <a:pt x="722" y="1180"/>
                      </a:lnTo>
                      <a:lnTo>
                        <a:pt x="667" y="1183"/>
                      </a:lnTo>
                      <a:lnTo>
                        <a:pt x="609" y="1184"/>
                      </a:lnTo>
                      <a:lnTo>
                        <a:pt x="554" y="1185"/>
                      </a:lnTo>
                      <a:lnTo>
                        <a:pt x="500" y="1185"/>
                      </a:lnTo>
                      <a:lnTo>
                        <a:pt x="453" y="1185"/>
                      </a:lnTo>
                      <a:lnTo>
                        <a:pt x="408" y="1185"/>
                      </a:lnTo>
                      <a:lnTo>
                        <a:pt x="373" y="1185"/>
                      </a:lnTo>
                      <a:lnTo>
                        <a:pt x="343" y="1183"/>
                      </a:lnTo>
                      <a:lnTo>
                        <a:pt x="324" y="1180"/>
                      </a:lnTo>
                      <a:lnTo>
                        <a:pt x="309" y="1176"/>
                      </a:lnTo>
                      <a:lnTo>
                        <a:pt x="297" y="1174"/>
                      </a:lnTo>
                      <a:lnTo>
                        <a:pt x="289" y="1169"/>
                      </a:lnTo>
                      <a:lnTo>
                        <a:pt x="283" y="1166"/>
                      </a:lnTo>
                      <a:lnTo>
                        <a:pt x="275" y="1161"/>
                      </a:lnTo>
                      <a:lnTo>
                        <a:pt x="274" y="1155"/>
                      </a:lnTo>
                      <a:lnTo>
                        <a:pt x="275" y="1149"/>
                      </a:lnTo>
                      <a:lnTo>
                        <a:pt x="281" y="1146"/>
                      </a:lnTo>
                      <a:lnTo>
                        <a:pt x="284" y="1144"/>
                      </a:lnTo>
                      <a:lnTo>
                        <a:pt x="286" y="1144"/>
                      </a:lnTo>
                      <a:lnTo>
                        <a:pt x="1187" y="970"/>
                      </a:lnTo>
                      <a:lnTo>
                        <a:pt x="1188" y="969"/>
                      </a:lnTo>
                      <a:lnTo>
                        <a:pt x="1195" y="969"/>
                      </a:lnTo>
                      <a:lnTo>
                        <a:pt x="1203" y="967"/>
                      </a:lnTo>
                      <a:lnTo>
                        <a:pt x="1215" y="965"/>
                      </a:lnTo>
                      <a:lnTo>
                        <a:pt x="1228" y="962"/>
                      </a:lnTo>
                      <a:lnTo>
                        <a:pt x="1243" y="958"/>
                      </a:lnTo>
                      <a:lnTo>
                        <a:pt x="1259" y="953"/>
                      </a:lnTo>
                      <a:lnTo>
                        <a:pt x="1277" y="946"/>
                      </a:lnTo>
                      <a:lnTo>
                        <a:pt x="1292" y="936"/>
                      </a:lnTo>
                      <a:lnTo>
                        <a:pt x="1309" y="926"/>
                      </a:lnTo>
                      <a:lnTo>
                        <a:pt x="1322" y="913"/>
                      </a:lnTo>
                      <a:lnTo>
                        <a:pt x="1338" y="900"/>
                      </a:lnTo>
                      <a:lnTo>
                        <a:pt x="1349" y="882"/>
                      </a:lnTo>
                      <a:lnTo>
                        <a:pt x="1358" y="862"/>
                      </a:lnTo>
                      <a:lnTo>
                        <a:pt x="1363" y="841"/>
                      </a:lnTo>
                      <a:lnTo>
                        <a:pt x="1366" y="817"/>
                      </a:lnTo>
                      <a:lnTo>
                        <a:pt x="1364" y="791"/>
                      </a:lnTo>
                      <a:lnTo>
                        <a:pt x="1359" y="769"/>
                      </a:lnTo>
                      <a:lnTo>
                        <a:pt x="1350" y="750"/>
                      </a:lnTo>
                      <a:lnTo>
                        <a:pt x="1341" y="734"/>
                      </a:lnTo>
                      <a:lnTo>
                        <a:pt x="1328" y="718"/>
                      </a:lnTo>
                      <a:lnTo>
                        <a:pt x="1315" y="706"/>
                      </a:lnTo>
                      <a:lnTo>
                        <a:pt x="1299" y="696"/>
                      </a:lnTo>
                      <a:lnTo>
                        <a:pt x="1286" y="687"/>
                      </a:lnTo>
                      <a:lnTo>
                        <a:pt x="1270" y="680"/>
                      </a:lnTo>
                      <a:lnTo>
                        <a:pt x="1255" y="675"/>
                      </a:lnTo>
                      <a:lnTo>
                        <a:pt x="1242" y="670"/>
                      </a:lnTo>
                      <a:lnTo>
                        <a:pt x="1230" y="667"/>
                      </a:lnTo>
                      <a:lnTo>
                        <a:pt x="1218" y="664"/>
                      </a:lnTo>
                      <a:lnTo>
                        <a:pt x="1211" y="664"/>
                      </a:lnTo>
                      <a:lnTo>
                        <a:pt x="1206" y="664"/>
                      </a:lnTo>
                      <a:lnTo>
                        <a:pt x="1205" y="664"/>
                      </a:lnTo>
                      <a:lnTo>
                        <a:pt x="1202" y="663"/>
                      </a:lnTo>
                      <a:lnTo>
                        <a:pt x="1196" y="661"/>
                      </a:lnTo>
                      <a:lnTo>
                        <a:pt x="1184" y="658"/>
                      </a:lnTo>
                      <a:lnTo>
                        <a:pt x="1170" y="655"/>
                      </a:lnTo>
                      <a:lnTo>
                        <a:pt x="1151" y="651"/>
                      </a:lnTo>
                      <a:lnTo>
                        <a:pt x="1129" y="646"/>
                      </a:lnTo>
                      <a:lnTo>
                        <a:pt x="1101" y="641"/>
                      </a:lnTo>
                      <a:lnTo>
                        <a:pt x="1071" y="638"/>
                      </a:lnTo>
                      <a:lnTo>
                        <a:pt x="1037" y="631"/>
                      </a:lnTo>
                      <a:lnTo>
                        <a:pt x="1001" y="627"/>
                      </a:lnTo>
                      <a:lnTo>
                        <a:pt x="960" y="621"/>
                      </a:lnTo>
                      <a:lnTo>
                        <a:pt x="918" y="618"/>
                      </a:lnTo>
                      <a:lnTo>
                        <a:pt x="871" y="612"/>
                      </a:lnTo>
                      <a:lnTo>
                        <a:pt x="821" y="608"/>
                      </a:lnTo>
                      <a:lnTo>
                        <a:pt x="771" y="606"/>
                      </a:lnTo>
                      <a:lnTo>
                        <a:pt x="716" y="603"/>
                      </a:lnTo>
                      <a:lnTo>
                        <a:pt x="661" y="599"/>
                      </a:lnTo>
                      <a:lnTo>
                        <a:pt x="610" y="596"/>
                      </a:lnTo>
                      <a:lnTo>
                        <a:pt x="562" y="592"/>
                      </a:lnTo>
                      <a:lnTo>
                        <a:pt x="516" y="589"/>
                      </a:lnTo>
                      <a:lnTo>
                        <a:pt x="474" y="585"/>
                      </a:lnTo>
                      <a:lnTo>
                        <a:pt x="435" y="581"/>
                      </a:lnTo>
                      <a:lnTo>
                        <a:pt x="398" y="577"/>
                      </a:lnTo>
                      <a:lnTo>
                        <a:pt x="365" y="572"/>
                      </a:lnTo>
                      <a:lnTo>
                        <a:pt x="335" y="568"/>
                      </a:lnTo>
                      <a:lnTo>
                        <a:pt x="307" y="562"/>
                      </a:lnTo>
                      <a:lnTo>
                        <a:pt x="284" y="558"/>
                      </a:lnTo>
                      <a:lnTo>
                        <a:pt x="265" y="555"/>
                      </a:lnTo>
                      <a:lnTo>
                        <a:pt x="249" y="549"/>
                      </a:lnTo>
                      <a:lnTo>
                        <a:pt x="237" y="546"/>
                      </a:lnTo>
                      <a:lnTo>
                        <a:pt x="227" y="543"/>
                      </a:lnTo>
                      <a:lnTo>
                        <a:pt x="222" y="539"/>
                      </a:lnTo>
                      <a:lnTo>
                        <a:pt x="213" y="533"/>
                      </a:lnTo>
                      <a:lnTo>
                        <a:pt x="203" y="525"/>
                      </a:lnTo>
                      <a:lnTo>
                        <a:pt x="195" y="516"/>
                      </a:lnTo>
                      <a:lnTo>
                        <a:pt x="190" y="507"/>
                      </a:lnTo>
                      <a:lnTo>
                        <a:pt x="187" y="502"/>
                      </a:lnTo>
                      <a:lnTo>
                        <a:pt x="185" y="495"/>
                      </a:lnTo>
                      <a:lnTo>
                        <a:pt x="184" y="489"/>
                      </a:lnTo>
                      <a:lnTo>
                        <a:pt x="185" y="484"/>
                      </a:lnTo>
                      <a:lnTo>
                        <a:pt x="185" y="478"/>
                      </a:lnTo>
                      <a:lnTo>
                        <a:pt x="188" y="472"/>
                      </a:lnTo>
                      <a:lnTo>
                        <a:pt x="191" y="466"/>
                      </a:lnTo>
                      <a:lnTo>
                        <a:pt x="197" y="460"/>
                      </a:lnTo>
                      <a:lnTo>
                        <a:pt x="202" y="452"/>
                      </a:lnTo>
                      <a:lnTo>
                        <a:pt x="213" y="445"/>
                      </a:lnTo>
                      <a:lnTo>
                        <a:pt x="226" y="438"/>
                      </a:lnTo>
                      <a:lnTo>
                        <a:pt x="242" y="432"/>
                      </a:lnTo>
                      <a:lnTo>
                        <a:pt x="259" y="424"/>
                      </a:lnTo>
                      <a:lnTo>
                        <a:pt x="276" y="419"/>
                      </a:lnTo>
                      <a:lnTo>
                        <a:pt x="295" y="412"/>
                      </a:lnTo>
                      <a:lnTo>
                        <a:pt x="316" y="407"/>
                      </a:lnTo>
                      <a:lnTo>
                        <a:pt x="334" y="400"/>
                      </a:lnTo>
                      <a:lnTo>
                        <a:pt x="352" y="395"/>
                      </a:lnTo>
                      <a:lnTo>
                        <a:pt x="368" y="390"/>
                      </a:lnTo>
                      <a:lnTo>
                        <a:pt x="384" y="387"/>
                      </a:lnTo>
                      <a:lnTo>
                        <a:pt x="396" y="384"/>
                      </a:lnTo>
                      <a:lnTo>
                        <a:pt x="405" y="382"/>
                      </a:lnTo>
                      <a:lnTo>
                        <a:pt x="410" y="381"/>
                      </a:lnTo>
                      <a:lnTo>
                        <a:pt x="414" y="381"/>
                      </a:lnTo>
                      <a:lnTo>
                        <a:pt x="417" y="379"/>
                      </a:lnTo>
                      <a:lnTo>
                        <a:pt x="426" y="377"/>
                      </a:lnTo>
                      <a:lnTo>
                        <a:pt x="439" y="373"/>
                      </a:lnTo>
                      <a:lnTo>
                        <a:pt x="459" y="368"/>
                      </a:lnTo>
                      <a:lnTo>
                        <a:pt x="481" y="361"/>
                      </a:lnTo>
                      <a:lnTo>
                        <a:pt x="508" y="353"/>
                      </a:lnTo>
                      <a:lnTo>
                        <a:pt x="535" y="345"/>
                      </a:lnTo>
                      <a:lnTo>
                        <a:pt x="567" y="337"/>
                      </a:lnTo>
                      <a:lnTo>
                        <a:pt x="597" y="326"/>
                      </a:lnTo>
                      <a:lnTo>
                        <a:pt x="627" y="316"/>
                      </a:lnTo>
                      <a:lnTo>
                        <a:pt x="657" y="305"/>
                      </a:lnTo>
                      <a:lnTo>
                        <a:pt x="687" y="293"/>
                      </a:lnTo>
                      <a:lnTo>
                        <a:pt x="713" y="282"/>
                      </a:lnTo>
                      <a:lnTo>
                        <a:pt x="737" y="271"/>
                      </a:lnTo>
                      <a:lnTo>
                        <a:pt x="756" y="258"/>
                      </a:lnTo>
                      <a:lnTo>
                        <a:pt x="774" y="246"/>
                      </a:lnTo>
                      <a:lnTo>
                        <a:pt x="785" y="235"/>
                      </a:lnTo>
                      <a:lnTo>
                        <a:pt x="797" y="224"/>
                      </a:lnTo>
                      <a:lnTo>
                        <a:pt x="807" y="212"/>
                      </a:lnTo>
                      <a:lnTo>
                        <a:pt x="817" y="202"/>
                      </a:lnTo>
                      <a:lnTo>
                        <a:pt x="825" y="192"/>
                      </a:lnTo>
                      <a:lnTo>
                        <a:pt x="831" y="182"/>
                      </a:lnTo>
                      <a:lnTo>
                        <a:pt x="838" y="172"/>
                      </a:lnTo>
                      <a:lnTo>
                        <a:pt x="845" y="163"/>
                      </a:lnTo>
                      <a:lnTo>
                        <a:pt x="848" y="153"/>
                      </a:lnTo>
                      <a:lnTo>
                        <a:pt x="852" y="143"/>
                      </a:lnTo>
                      <a:lnTo>
                        <a:pt x="854" y="133"/>
                      </a:lnTo>
                      <a:lnTo>
                        <a:pt x="856" y="125"/>
                      </a:lnTo>
                      <a:lnTo>
                        <a:pt x="855" y="114"/>
                      </a:lnTo>
                      <a:lnTo>
                        <a:pt x="855" y="104"/>
                      </a:lnTo>
                      <a:lnTo>
                        <a:pt x="852" y="94"/>
                      </a:lnTo>
                      <a:lnTo>
                        <a:pt x="850" y="84"/>
                      </a:lnTo>
                      <a:lnTo>
                        <a:pt x="845" y="72"/>
                      </a:lnTo>
                      <a:lnTo>
                        <a:pt x="840" y="62"/>
                      </a:lnTo>
                      <a:lnTo>
                        <a:pt x="833" y="53"/>
                      </a:lnTo>
                      <a:lnTo>
                        <a:pt x="827" y="46"/>
                      </a:lnTo>
                      <a:lnTo>
                        <a:pt x="818" y="37"/>
                      </a:lnTo>
                      <a:lnTo>
                        <a:pt x="809" y="33"/>
                      </a:lnTo>
                      <a:lnTo>
                        <a:pt x="800" y="26"/>
                      </a:lnTo>
                      <a:lnTo>
                        <a:pt x="792" y="23"/>
                      </a:lnTo>
                      <a:lnTo>
                        <a:pt x="781" y="17"/>
                      </a:lnTo>
                      <a:lnTo>
                        <a:pt x="770" y="14"/>
                      </a:lnTo>
                      <a:lnTo>
                        <a:pt x="758" y="11"/>
                      </a:lnTo>
                      <a:lnTo>
                        <a:pt x="748" y="9"/>
                      </a:lnTo>
                      <a:lnTo>
                        <a:pt x="736" y="5"/>
                      </a:lnTo>
                      <a:lnTo>
                        <a:pt x="726" y="4"/>
                      </a:lnTo>
                      <a:lnTo>
                        <a:pt x="715" y="3"/>
                      </a:lnTo>
                      <a:lnTo>
                        <a:pt x="705" y="3"/>
                      </a:lnTo>
                      <a:lnTo>
                        <a:pt x="688" y="2"/>
                      </a:lnTo>
                      <a:lnTo>
                        <a:pt x="663" y="1"/>
                      </a:lnTo>
                      <a:lnTo>
                        <a:pt x="631" y="0"/>
                      </a:lnTo>
                      <a:lnTo>
                        <a:pt x="594" y="0"/>
                      </a:lnTo>
                      <a:lnTo>
                        <a:pt x="551" y="0"/>
                      </a:lnTo>
                      <a:lnTo>
                        <a:pt x="504" y="0"/>
                      </a:lnTo>
                      <a:lnTo>
                        <a:pt x="456" y="0"/>
                      </a:lnTo>
                      <a:lnTo>
                        <a:pt x="408" y="0"/>
                      </a:lnTo>
                      <a:lnTo>
                        <a:pt x="358" y="0"/>
                      </a:lnTo>
                      <a:lnTo>
                        <a:pt x="313" y="0"/>
                      </a:lnTo>
                      <a:lnTo>
                        <a:pt x="270" y="0"/>
                      </a:lnTo>
                      <a:lnTo>
                        <a:pt x="232" y="0"/>
                      </a:lnTo>
                      <a:lnTo>
                        <a:pt x="200" y="0"/>
                      </a:lnTo>
                      <a:lnTo>
                        <a:pt x="176" y="0"/>
                      </a:lnTo>
                      <a:lnTo>
                        <a:pt x="160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5c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H="1">
                  <a:off x="2846880" y="5444640"/>
                  <a:ext cx="30960" cy="234360"/>
                </a:xfrm>
                <a:custGeom>
                  <a:avLst/>
                  <a:gdLst/>
                  <a:ahLst/>
                  <a:rect l="l" t="t" r="r" b="b"/>
                  <a:pathLst>
                    <a:path w="47" h="416">
                      <a:moveTo>
                        <a:pt x="6" y="416"/>
                      </a:moveTo>
                      <a:lnTo>
                        <a:pt x="11" y="139"/>
                      </a:lnTo>
                      <a:lnTo>
                        <a:pt x="10" y="138"/>
                      </a:lnTo>
                      <a:lnTo>
                        <a:pt x="8" y="134"/>
                      </a:lnTo>
                      <a:lnTo>
                        <a:pt x="6" y="127"/>
                      </a:lnTo>
                      <a:lnTo>
                        <a:pt x="5" y="118"/>
                      </a:lnTo>
                      <a:lnTo>
                        <a:pt x="3" y="107"/>
                      </a:lnTo>
                      <a:lnTo>
                        <a:pt x="2" y="97"/>
                      </a:lnTo>
                      <a:lnTo>
                        <a:pt x="1" y="85"/>
                      </a:lnTo>
                      <a:lnTo>
                        <a:pt x="1" y="73"/>
                      </a:lnTo>
                      <a:lnTo>
                        <a:pt x="0" y="60"/>
                      </a:lnTo>
                      <a:lnTo>
                        <a:pt x="0" y="46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4"/>
                      </a:lnTo>
                      <a:lnTo>
                        <a:pt x="10" y="8"/>
                      </a:lnTo>
                      <a:lnTo>
                        <a:pt x="15" y="2"/>
                      </a:lnTo>
                      <a:lnTo>
                        <a:pt x="24" y="0"/>
                      </a:lnTo>
                      <a:lnTo>
                        <a:pt x="29" y="0"/>
                      </a:lnTo>
                      <a:lnTo>
                        <a:pt x="35" y="3"/>
                      </a:lnTo>
                      <a:lnTo>
                        <a:pt x="39" y="10"/>
                      </a:lnTo>
                      <a:lnTo>
                        <a:pt x="44" y="19"/>
                      </a:lnTo>
                      <a:lnTo>
                        <a:pt x="45" y="29"/>
                      </a:lnTo>
                      <a:lnTo>
                        <a:pt x="46" y="41"/>
                      </a:lnTo>
                      <a:lnTo>
                        <a:pt x="46" y="54"/>
                      </a:lnTo>
                      <a:lnTo>
                        <a:pt x="47" y="69"/>
                      </a:lnTo>
                      <a:lnTo>
                        <a:pt x="46" y="81"/>
                      </a:lnTo>
                      <a:lnTo>
                        <a:pt x="45" y="95"/>
                      </a:lnTo>
                      <a:lnTo>
                        <a:pt x="44" y="107"/>
                      </a:lnTo>
                      <a:lnTo>
                        <a:pt x="43" y="119"/>
                      </a:lnTo>
                      <a:lnTo>
                        <a:pt x="40" y="128"/>
                      </a:lnTo>
                      <a:lnTo>
                        <a:pt x="39" y="137"/>
                      </a:lnTo>
                      <a:lnTo>
                        <a:pt x="39" y="142"/>
                      </a:lnTo>
                      <a:lnTo>
                        <a:pt x="39" y="144"/>
                      </a:lnTo>
                      <a:lnTo>
                        <a:pt x="36" y="410"/>
                      </a:lnTo>
                      <a:lnTo>
                        <a:pt x="6" y="416"/>
                      </a:lnTo>
                      <a:lnTo>
                        <a:pt x="6" y="416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H="1">
                  <a:off x="2454840" y="5478120"/>
                  <a:ext cx="58680" cy="142200"/>
                </a:xfrm>
                <a:custGeom>
                  <a:avLst/>
                  <a:gdLst/>
                  <a:ahLst/>
                  <a:rect l="l" t="t" r="r" b="b"/>
                  <a:pathLst>
                    <a:path w="90" h="252">
                      <a:moveTo>
                        <a:pt x="16" y="252"/>
                      </a:moveTo>
                      <a:lnTo>
                        <a:pt x="18" y="145"/>
                      </a:lnTo>
                      <a:lnTo>
                        <a:pt x="17" y="142"/>
                      </a:lnTo>
                      <a:lnTo>
                        <a:pt x="14" y="137"/>
                      </a:lnTo>
                      <a:lnTo>
                        <a:pt x="12" y="130"/>
                      </a:lnTo>
                      <a:lnTo>
                        <a:pt x="10" y="121"/>
                      </a:lnTo>
                      <a:lnTo>
                        <a:pt x="7" y="109"/>
                      </a:lnTo>
                      <a:lnTo>
                        <a:pt x="4" y="98"/>
                      </a:lnTo>
                      <a:lnTo>
                        <a:pt x="1" y="85"/>
                      </a:lnTo>
                      <a:lnTo>
                        <a:pt x="1" y="73"/>
                      </a:lnTo>
                      <a:lnTo>
                        <a:pt x="0" y="58"/>
                      </a:lnTo>
                      <a:lnTo>
                        <a:pt x="1" y="45"/>
                      </a:lnTo>
                      <a:lnTo>
                        <a:pt x="3" y="33"/>
                      </a:lnTo>
                      <a:lnTo>
                        <a:pt x="10" y="23"/>
                      </a:lnTo>
                      <a:lnTo>
                        <a:pt x="16" y="13"/>
                      </a:lnTo>
                      <a:lnTo>
                        <a:pt x="24" y="8"/>
                      </a:lnTo>
                      <a:lnTo>
                        <a:pt x="37" y="2"/>
                      </a:lnTo>
                      <a:lnTo>
                        <a:pt x="53" y="1"/>
                      </a:lnTo>
                      <a:lnTo>
                        <a:pt x="58" y="0"/>
                      </a:lnTo>
                      <a:lnTo>
                        <a:pt x="63" y="0"/>
                      </a:lnTo>
                      <a:lnTo>
                        <a:pt x="67" y="1"/>
                      </a:lnTo>
                      <a:lnTo>
                        <a:pt x="72" y="3"/>
                      </a:lnTo>
                      <a:lnTo>
                        <a:pt x="79" y="6"/>
                      </a:lnTo>
                      <a:lnTo>
                        <a:pt x="83" y="10"/>
                      </a:lnTo>
                      <a:lnTo>
                        <a:pt x="87" y="18"/>
                      </a:lnTo>
                      <a:lnTo>
                        <a:pt x="90" y="21"/>
                      </a:lnTo>
                      <a:lnTo>
                        <a:pt x="87" y="21"/>
                      </a:lnTo>
                      <a:lnTo>
                        <a:pt x="85" y="25"/>
                      </a:lnTo>
                      <a:lnTo>
                        <a:pt x="82" y="30"/>
                      </a:lnTo>
                      <a:lnTo>
                        <a:pt x="80" y="36"/>
                      </a:lnTo>
                      <a:lnTo>
                        <a:pt x="74" y="43"/>
                      </a:lnTo>
                      <a:lnTo>
                        <a:pt x="70" y="53"/>
                      </a:lnTo>
                      <a:lnTo>
                        <a:pt x="65" y="62"/>
                      </a:lnTo>
                      <a:lnTo>
                        <a:pt x="62" y="73"/>
                      </a:lnTo>
                      <a:lnTo>
                        <a:pt x="58" y="83"/>
                      </a:lnTo>
                      <a:lnTo>
                        <a:pt x="55" y="93"/>
                      </a:lnTo>
                      <a:lnTo>
                        <a:pt x="53" y="103"/>
                      </a:lnTo>
                      <a:lnTo>
                        <a:pt x="54" y="114"/>
                      </a:lnTo>
                      <a:lnTo>
                        <a:pt x="55" y="123"/>
                      </a:lnTo>
                      <a:lnTo>
                        <a:pt x="59" y="130"/>
                      </a:lnTo>
                      <a:lnTo>
                        <a:pt x="65" y="137"/>
                      </a:lnTo>
                      <a:lnTo>
                        <a:pt x="74" y="145"/>
                      </a:lnTo>
                      <a:lnTo>
                        <a:pt x="72" y="147"/>
                      </a:lnTo>
                      <a:lnTo>
                        <a:pt x="65" y="154"/>
                      </a:lnTo>
                      <a:lnTo>
                        <a:pt x="56" y="158"/>
                      </a:lnTo>
                      <a:lnTo>
                        <a:pt x="53" y="160"/>
                      </a:lnTo>
                      <a:lnTo>
                        <a:pt x="53" y="244"/>
                      </a:lnTo>
                      <a:lnTo>
                        <a:pt x="16" y="252"/>
                      </a:lnTo>
                      <a:lnTo>
                        <a:pt x="16" y="252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H="1">
                  <a:off x="2562120" y="5627160"/>
                  <a:ext cx="59760" cy="172440"/>
                </a:xfrm>
                <a:custGeom>
                  <a:avLst/>
                  <a:gdLst/>
                  <a:ahLst/>
                  <a:rect l="l" t="t" r="r" b="b"/>
                  <a:pathLst>
                    <a:path w="92" h="306">
                      <a:moveTo>
                        <a:pt x="0" y="24"/>
                      </a:moveTo>
                      <a:lnTo>
                        <a:pt x="0" y="23"/>
                      </a:lnTo>
                      <a:lnTo>
                        <a:pt x="4" y="19"/>
                      </a:lnTo>
                      <a:lnTo>
                        <a:pt x="7" y="13"/>
                      </a:lnTo>
                      <a:lnTo>
                        <a:pt x="15" y="10"/>
                      </a:lnTo>
                      <a:lnTo>
                        <a:pt x="22" y="3"/>
                      </a:lnTo>
                      <a:lnTo>
                        <a:pt x="32" y="1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51" y="0"/>
                      </a:lnTo>
                      <a:lnTo>
                        <a:pt x="59" y="3"/>
                      </a:lnTo>
                      <a:lnTo>
                        <a:pt x="64" y="6"/>
                      </a:lnTo>
                      <a:lnTo>
                        <a:pt x="71" y="12"/>
                      </a:lnTo>
                      <a:lnTo>
                        <a:pt x="75" y="20"/>
                      </a:lnTo>
                      <a:lnTo>
                        <a:pt x="81" y="31"/>
                      </a:lnTo>
                      <a:lnTo>
                        <a:pt x="84" y="43"/>
                      </a:lnTo>
                      <a:lnTo>
                        <a:pt x="88" y="57"/>
                      </a:lnTo>
                      <a:lnTo>
                        <a:pt x="90" y="71"/>
                      </a:lnTo>
                      <a:lnTo>
                        <a:pt x="92" y="86"/>
                      </a:lnTo>
                      <a:lnTo>
                        <a:pt x="92" y="101"/>
                      </a:lnTo>
                      <a:lnTo>
                        <a:pt x="92" y="116"/>
                      </a:lnTo>
                      <a:lnTo>
                        <a:pt x="91" y="129"/>
                      </a:lnTo>
                      <a:lnTo>
                        <a:pt x="90" y="143"/>
                      </a:lnTo>
                      <a:lnTo>
                        <a:pt x="86" y="154"/>
                      </a:lnTo>
                      <a:lnTo>
                        <a:pt x="85" y="164"/>
                      </a:lnTo>
                      <a:lnTo>
                        <a:pt x="81" y="171"/>
                      </a:lnTo>
                      <a:lnTo>
                        <a:pt x="77" y="176"/>
                      </a:lnTo>
                      <a:lnTo>
                        <a:pt x="71" y="306"/>
                      </a:lnTo>
                      <a:lnTo>
                        <a:pt x="32" y="306"/>
                      </a:lnTo>
                      <a:lnTo>
                        <a:pt x="30" y="186"/>
                      </a:lnTo>
                      <a:lnTo>
                        <a:pt x="6" y="181"/>
                      </a:lnTo>
                      <a:lnTo>
                        <a:pt x="6" y="179"/>
                      </a:lnTo>
                      <a:lnTo>
                        <a:pt x="10" y="174"/>
                      </a:lnTo>
                      <a:lnTo>
                        <a:pt x="12" y="169"/>
                      </a:lnTo>
                      <a:lnTo>
                        <a:pt x="16" y="165"/>
                      </a:lnTo>
                      <a:lnTo>
                        <a:pt x="18" y="160"/>
                      </a:lnTo>
                      <a:lnTo>
                        <a:pt x="22" y="155"/>
                      </a:lnTo>
                      <a:lnTo>
                        <a:pt x="25" y="148"/>
                      </a:lnTo>
                      <a:lnTo>
                        <a:pt x="28" y="140"/>
                      </a:lnTo>
                      <a:lnTo>
                        <a:pt x="30" y="133"/>
                      </a:lnTo>
                      <a:lnTo>
                        <a:pt x="32" y="126"/>
                      </a:lnTo>
                      <a:lnTo>
                        <a:pt x="33" y="116"/>
                      </a:lnTo>
                      <a:lnTo>
                        <a:pt x="35" y="108"/>
                      </a:lnTo>
                      <a:lnTo>
                        <a:pt x="33" y="99"/>
                      </a:lnTo>
                      <a:lnTo>
                        <a:pt x="33" y="92"/>
                      </a:lnTo>
                      <a:lnTo>
                        <a:pt x="30" y="82"/>
                      </a:lnTo>
                      <a:lnTo>
                        <a:pt x="29" y="74"/>
                      </a:lnTo>
                      <a:lnTo>
                        <a:pt x="27" y="66"/>
                      </a:lnTo>
                      <a:lnTo>
                        <a:pt x="25" y="60"/>
                      </a:lnTo>
                      <a:lnTo>
                        <a:pt x="21" y="53"/>
                      </a:lnTo>
                      <a:lnTo>
                        <a:pt x="18" y="48"/>
                      </a:lnTo>
                      <a:lnTo>
                        <a:pt x="16" y="43"/>
                      </a:lnTo>
                      <a:lnTo>
                        <a:pt x="14" y="40"/>
                      </a:lnTo>
                      <a:lnTo>
                        <a:pt x="7" y="32"/>
                      </a:lnTo>
                      <a:lnTo>
                        <a:pt x="4" y="28"/>
                      </a:lnTo>
                      <a:lnTo>
                        <a:pt x="0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H="1">
                  <a:off x="2212560" y="5753520"/>
                  <a:ext cx="156960" cy="592200"/>
                </a:xfrm>
                <a:custGeom>
                  <a:avLst/>
                  <a:gdLst/>
                  <a:ahLst/>
                  <a:rect l="l" t="t" r="r" b="b"/>
                  <a:pathLst>
                    <a:path w="243" h="1051">
                      <a:moveTo>
                        <a:pt x="243" y="10"/>
                      </a:moveTo>
                      <a:lnTo>
                        <a:pt x="240" y="8"/>
                      </a:lnTo>
                      <a:lnTo>
                        <a:pt x="233" y="7"/>
                      </a:lnTo>
                      <a:lnTo>
                        <a:pt x="222" y="5"/>
                      </a:lnTo>
                      <a:lnTo>
                        <a:pt x="208" y="3"/>
                      </a:lnTo>
                      <a:lnTo>
                        <a:pt x="190" y="0"/>
                      </a:lnTo>
                      <a:lnTo>
                        <a:pt x="172" y="2"/>
                      </a:lnTo>
                      <a:lnTo>
                        <a:pt x="151" y="4"/>
                      </a:lnTo>
                      <a:lnTo>
                        <a:pt x="131" y="9"/>
                      </a:lnTo>
                      <a:lnTo>
                        <a:pt x="109" y="18"/>
                      </a:lnTo>
                      <a:lnTo>
                        <a:pt x="87" y="31"/>
                      </a:lnTo>
                      <a:lnTo>
                        <a:pt x="65" y="48"/>
                      </a:lnTo>
                      <a:lnTo>
                        <a:pt x="49" y="72"/>
                      </a:lnTo>
                      <a:lnTo>
                        <a:pt x="31" y="101"/>
                      </a:lnTo>
                      <a:lnTo>
                        <a:pt x="19" y="136"/>
                      </a:lnTo>
                      <a:lnTo>
                        <a:pt x="8" y="181"/>
                      </a:lnTo>
                      <a:lnTo>
                        <a:pt x="3" y="233"/>
                      </a:lnTo>
                      <a:lnTo>
                        <a:pt x="0" y="286"/>
                      </a:lnTo>
                      <a:lnTo>
                        <a:pt x="0" y="332"/>
                      </a:lnTo>
                      <a:lnTo>
                        <a:pt x="2" y="373"/>
                      </a:lnTo>
                      <a:lnTo>
                        <a:pt x="7" y="411"/>
                      </a:lnTo>
                      <a:lnTo>
                        <a:pt x="10" y="442"/>
                      </a:lnTo>
                      <a:lnTo>
                        <a:pt x="17" y="469"/>
                      </a:lnTo>
                      <a:lnTo>
                        <a:pt x="23" y="492"/>
                      </a:lnTo>
                      <a:lnTo>
                        <a:pt x="31" y="512"/>
                      </a:lnTo>
                      <a:lnTo>
                        <a:pt x="39" y="528"/>
                      </a:lnTo>
                      <a:lnTo>
                        <a:pt x="45" y="540"/>
                      </a:lnTo>
                      <a:lnTo>
                        <a:pt x="53" y="549"/>
                      </a:lnTo>
                      <a:lnTo>
                        <a:pt x="61" y="557"/>
                      </a:lnTo>
                      <a:lnTo>
                        <a:pt x="65" y="561"/>
                      </a:lnTo>
                      <a:lnTo>
                        <a:pt x="71" y="564"/>
                      </a:lnTo>
                      <a:lnTo>
                        <a:pt x="73" y="566"/>
                      </a:lnTo>
                      <a:lnTo>
                        <a:pt x="75" y="568"/>
                      </a:lnTo>
                      <a:lnTo>
                        <a:pt x="83" y="1048"/>
                      </a:lnTo>
                      <a:lnTo>
                        <a:pt x="152" y="1051"/>
                      </a:lnTo>
                      <a:lnTo>
                        <a:pt x="156" y="564"/>
                      </a:lnTo>
                      <a:lnTo>
                        <a:pt x="155" y="562"/>
                      </a:lnTo>
                      <a:lnTo>
                        <a:pt x="153" y="557"/>
                      </a:lnTo>
                      <a:lnTo>
                        <a:pt x="147" y="548"/>
                      </a:lnTo>
                      <a:lnTo>
                        <a:pt x="143" y="537"/>
                      </a:lnTo>
                      <a:lnTo>
                        <a:pt x="135" y="521"/>
                      </a:lnTo>
                      <a:lnTo>
                        <a:pt x="128" y="503"/>
                      </a:lnTo>
                      <a:lnTo>
                        <a:pt x="122" y="484"/>
                      </a:lnTo>
                      <a:lnTo>
                        <a:pt x="115" y="461"/>
                      </a:lnTo>
                      <a:lnTo>
                        <a:pt x="109" y="436"/>
                      </a:lnTo>
                      <a:lnTo>
                        <a:pt x="102" y="411"/>
                      </a:lnTo>
                      <a:lnTo>
                        <a:pt x="96" y="382"/>
                      </a:lnTo>
                      <a:lnTo>
                        <a:pt x="93" y="353"/>
                      </a:lnTo>
                      <a:lnTo>
                        <a:pt x="90" y="321"/>
                      </a:lnTo>
                      <a:lnTo>
                        <a:pt x="91" y="290"/>
                      </a:lnTo>
                      <a:lnTo>
                        <a:pt x="93" y="257"/>
                      </a:lnTo>
                      <a:lnTo>
                        <a:pt x="99" y="225"/>
                      </a:lnTo>
                      <a:lnTo>
                        <a:pt x="104" y="192"/>
                      </a:lnTo>
                      <a:lnTo>
                        <a:pt x="113" y="163"/>
                      </a:lnTo>
                      <a:lnTo>
                        <a:pt x="122" y="135"/>
                      </a:lnTo>
                      <a:lnTo>
                        <a:pt x="134" y="113"/>
                      </a:lnTo>
                      <a:lnTo>
                        <a:pt x="145" y="93"/>
                      </a:lnTo>
                      <a:lnTo>
                        <a:pt x="157" y="77"/>
                      </a:lnTo>
                      <a:lnTo>
                        <a:pt x="169" y="61"/>
                      </a:lnTo>
                      <a:lnTo>
                        <a:pt x="183" y="49"/>
                      </a:lnTo>
                      <a:lnTo>
                        <a:pt x="194" y="38"/>
                      </a:lnTo>
                      <a:lnTo>
                        <a:pt x="205" y="30"/>
                      </a:lnTo>
                      <a:lnTo>
                        <a:pt x="215" y="23"/>
                      </a:lnTo>
                      <a:lnTo>
                        <a:pt x="225" y="18"/>
                      </a:lnTo>
                      <a:lnTo>
                        <a:pt x="232" y="14"/>
                      </a:lnTo>
                      <a:lnTo>
                        <a:pt x="238" y="11"/>
                      </a:lnTo>
                      <a:lnTo>
                        <a:pt x="241" y="10"/>
                      </a:lnTo>
                      <a:lnTo>
                        <a:pt x="243" y="10"/>
                      </a:lnTo>
                      <a:lnTo>
                        <a:pt x="243" y="10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H="1">
                  <a:off x="2858760" y="5788800"/>
                  <a:ext cx="69840" cy="374400"/>
                </a:xfrm>
                <a:custGeom>
                  <a:avLst/>
                  <a:gdLst/>
                  <a:ahLst/>
                  <a:rect l="l" t="t" r="r" b="b"/>
                  <a:pathLst>
                    <a:path w="108" h="664">
                      <a:moveTo>
                        <a:pt x="108" y="27"/>
                      </a:moveTo>
                      <a:lnTo>
                        <a:pt x="108" y="24"/>
                      </a:lnTo>
                      <a:lnTo>
                        <a:pt x="104" y="17"/>
                      </a:lnTo>
                      <a:lnTo>
                        <a:pt x="100" y="14"/>
                      </a:lnTo>
                      <a:lnTo>
                        <a:pt x="95" y="10"/>
                      </a:lnTo>
                      <a:lnTo>
                        <a:pt x="91" y="7"/>
                      </a:lnTo>
                      <a:lnTo>
                        <a:pt x="85" y="5"/>
                      </a:lnTo>
                      <a:lnTo>
                        <a:pt x="77" y="3"/>
                      </a:lnTo>
                      <a:lnTo>
                        <a:pt x="71" y="0"/>
                      </a:lnTo>
                      <a:lnTo>
                        <a:pt x="63" y="0"/>
                      </a:lnTo>
                      <a:lnTo>
                        <a:pt x="58" y="1"/>
                      </a:lnTo>
                      <a:lnTo>
                        <a:pt x="49" y="3"/>
                      </a:lnTo>
                      <a:lnTo>
                        <a:pt x="42" y="6"/>
                      </a:lnTo>
                      <a:lnTo>
                        <a:pt x="34" y="11"/>
                      </a:lnTo>
                      <a:lnTo>
                        <a:pt x="29" y="19"/>
                      </a:lnTo>
                      <a:lnTo>
                        <a:pt x="22" y="28"/>
                      </a:lnTo>
                      <a:lnTo>
                        <a:pt x="17" y="40"/>
                      </a:lnTo>
                      <a:lnTo>
                        <a:pt x="11" y="53"/>
                      </a:lnTo>
                      <a:lnTo>
                        <a:pt x="8" y="70"/>
                      </a:lnTo>
                      <a:lnTo>
                        <a:pt x="3" y="85"/>
                      </a:lnTo>
                      <a:lnTo>
                        <a:pt x="1" y="104"/>
                      </a:lnTo>
                      <a:lnTo>
                        <a:pt x="0" y="123"/>
                      </a:lnTo>
                      <a:lnTo>
                        <a:pt x="0" y="143"/>
                      </a:lnTo>
                      <a:lnTo>
                        <a:pt x="0" y="161"/>
                      </a:lnTo>
                      <a:lnTo>
                        <a:pt x="0" y="178"/>
                      </a:lnTo>
                      <a:lnTo>
                        <a:pt x="2" y="196"/>
                      </a:lnTo>
                      <a:lnTo>
                        <a:pt x="6" y="213"/>
                      </a:lnTo>
                      <a:lnTo>
                        <a:pt x="9" y="227"/>
                      </a:lnTo>
                      <a:lnTo>
                        <a:pt x="13" y="241"/>
                      </a:lnTo>
                      <a:lnTo>
                        <a:pt x="19" y="251"/>
                      </a:lnTo>
                      <a:lnTo>
                        <a:pt x="26" y="260"/>
                      </a:lnTo>
                      <a:lnTo>
                        <a:pt x="21" y="664"/>
                      </a:lnTo>
                      <a:lnTo>
                        <a:pt x="64" y="664"/>
                      </a:lnTo>
                      <a:lnTo>
                        <a:pt x="59" y="268"/>
                      </a:lnTo>
                      <a:lnTo>
                        <a:pt x="90" y="242"/>
                      </a:lnTo>
                      <a:lnTo>
                        <a:pt x="87" y="241"/>
                      </a:lnTo>
                      <a:lnTo>
                        <a:pt x="83" y="240"/>
                      </a:lnTo>
                      <a:lnTo>
                        <a:pt x="79" y="236"/>
                      </a:lnTo>
                      <a:lnTo>
                        <a:pt x="73" y="229"/>
                      </a:lnTo>
                      <a:lnTo>
                        <a:pt x="70" y="223"/>
                      </a:lnTo>
                      <a:lnTo>
                        <a:pt x="69" y="214"/>
                      </a:lnTo>
                      <a:lnTo>
                        <a:pt x="66" y="204"/>
                      </a:lnTo>
                      <a:lnTo>
                        <a:pt x="66" y="192"/>
                      </a:lnTo>
                      <a:lnTo>
                        <a:pt x="65" y="177"/>
                      </a:lnTo>
                      <a:lnTo>
                        <a:pt x="66" y="160"/>
                      </a:lnTo>
                      <a:lnTo>
                        <a:pt x="69" y="140"/>
                      </a:lnTo>
                      <a:lnTo>
                        <a:pt x="72" y="118"/>
                      </a:lnTo>
                      <a:lnTo>
                        <a:pt x="72" y="115"/>
                      </a:lnTo>
                      <a:lnTo>
                        <a:pt x="72" y="113"/>
                      </a:lnTo>
                      <a:lnTo>
                        <a:pt x="72" y="108"/>
                      </a:lnTo>
                      <a:lnTo>
                        <a:pt x="74" y="103"/>
                      </a:lnTo>
                      <a:lnTo>
                        <a:pt x="75" y="97"/>
                      </a:lnTo>
                      <a:lnTo>
                        <a:pt x="77" y="90"/>
                      </a:lnTo>
                      <a:lnTo>
                        <a:pt x="80" y="82"/>
                      </a:lnTo>
                      <a:lnTo>
                        <a:pt x="82" y="74"/>
                      </a:lnTo>
                      <a:lnTo>
                        <a:pt x="84" y="66"/>
                      </a:lnTo>
                      <a:lnTo>
                        <a:pt x="86" y="58"/>
                      </a:lnTo>
                      <a:lnTo>
                        <a:pt x="90" y="50"/>
                      </a:lnTo>
                      <a:lnTo>
                        <a:pt x="93" y="45"/>
                      </a:lnTo>
                      <a:lnTo>
                        <a:pt x="96" y="38"/>
                      </a:lnTo>
                      <a:lnTo>
                        <a:pt x="100" y="32"/>
                      </a:lnTo>
                      <a:lnTo>
                        <a:pt x="103" y="29"/>
                      </a:lnTo>
                      <a:lnTo>
                        <a:pt x="108" y="27"/>
                      </a:lnTo>
                      <a:lnTo>
                        <a:pt x="108" y="27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H="1">
                  <a:off x="2741760" y="5267520"/>
                  <a:ext cx="37440" cy="189360"/>
                </a:xfrm>
                <a:custGeom>
                  <a:avLst/>
                  <a:gdLst/>
                  <a:ahLst/>
                  <a:rect l="l" t="t" r="r" b="b"/>
                  <a:pathLst>
                    <a:path w="59" h="335">
                      <a:moveTo>
                        <a:pt x="20" y="335"/>
                      </a:moveTo>
                      <a:lnTo>
                        <a:pt x="20" y="116"/>
                      </a:lnTo>
                      <a:lnTo>
                        <a:pt x="18" y="112"/>
                      </a:lnTo>
                      <a:lnTo>
                        <a:pt x="13" y="104"/>
                      </a:lnTo>
                      <a:lnTo>
                        <a:pt x="10" y="97"/>
                      </a:lnTo>
                      <a:lnTo>
                        <a:pt x="8" y="92"/>
                      </a:lnTo>
                      <a:lnTo>
                        <a:pt x="6" y="84"/>
                      </a:lnTo>
                      <a:lnTo>
                        <a:pt x="5" y="77"/>
                      </a:lnTo>
                      <a:lnTo>
                        <a:pt x="1" y="69"/>
                      </a:lnTo>
                      <a:lnTo>
                        <a:pt x="1" y="60"/>
                      </a:lnTo>
                      <a:lnTo>
                        <a:pt x="0" y="51"/>
                      </a:lnTo>
                      <a:lnTo>
                        <a:pt x="2" y="43"/>
                      </a:lnTo>
                      <a:lnTo>
                        <a:pt x="5" y="34"/>
                      </a:lnTo>
                      <a:lnTo>
                        <a:pt x="9" y="24"/>
                      </a:lnTo>
                      <a:lnTo>
                        <a:pt x="15" y="17"/>
                      </a:lnTo>
                      <a:lnTo>
                        <a:pt x="22" y="11"/>
                      </a:lnTo>
                      <a:lnTo>
                        <a:pt x="30" y="4"/>
                      </a:lnTo>
                      <a:lnTo>
                        <a:pt x="37" y="1"/>
                      </a:lnTo>
                      <a:lnTo>
                        <a:pt x="43" y="0"/>
                      </a:lnTo>
                      <a:lnTo>
                        <a:pt x="49" y="1"/>
                      </a:lnTo>
                      <a:lnTo>
                        <a:pt x="55" y="6"/>
                      </a:lnTo>
                      <a:lnTo>
                        <a:pt x="59" y="9"/>
                      </a:lnTo>
                      <a:lnTo>
                        <a:pt x="57" y="11"/>
                      </a:lnTo>
                      <a:lnTo>
                        <a:pt x="52" y="20"/>
                      </a:lnTo>
                      <a:lnTo>
                        <a:pt x="48" y="24"/>
                      </a:lnTo>
                      <a:lnTo>
                        <a:pt x="44" y="32"/>
                      </a:lnTo>
                      <a:lnTo>
                        <a:pt x="42" y="39"/>
                      </a:lnTo>
                      <a:lnTo>
                        <a:pt x="40" y="48"/>
                      </a:lnTo>
                      <a:lnTo>
                        <a:pt x="37" y="56"/>
                      </a:lnTo>
                      <a:lnTo>
                        <a:pt x="34" y="64"/>
                      </a:lnTo>
                      <a:lnTo>
                        <a:pt x="33" y="72"/>
                      </a:lnTo>
                      <a:lnTo>
                        <a:pt x="34" y="81"/>
                      </a:lnTo>
                      <a:lnTo>
                        <a:pt x="34" y="86"/>
                      </a:lnTo>
                      <a:lnTo>
                        <a:pt x="39" y="94"/>
                      </a:lnTo>
                      <a:lnTo>
                        <a:pt x="43" y="98"/>
                      </a:lnTo>
                      <a:lnTo>
                        <a:pt x="50" y="104"/>
                      </a:lnTo>
                      <a:lnTo>
                        <a:pt x="50" y="106"/>
                      </a:lnTo>
                      <a:lnTo>
                        <a:pt x="45" y="113"/>
                      </a:lnTo>
                      <a:lnTo>
                        <a:pt x="41" y="117"/>
                      </a:lnTo>
                      <a:lnTo>
                        <a:pt x="40" y="118"/>
                      </a:lnTo>
                      <a:lnTo>
                        <a:pt x="41" y="333"/>
                      </a:lnTo>
                      <a:lnTo>
                        <a:pt x="20" y="335"/>
                      </a:lnTo>
                      <a:lnTo>
                        <a:pt x="20" y="335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H="1">
                  <a:off x="2617560" y="5135400"/>
                  <a:ext cx="36360" cy="104760"/>
                </a:xfrm>
                <a:custGeom>
                  <a:avLst/>
                  <a:gdLst/>
                  <a:ahLst/>
                  <a:rect l="l" t="t" r="r" b="b"/>
                  <a:pathLst>
                    <a:path w="57" h="187">
                      <a:moveTo>
                        <a:pt x="33" y="79"/>
                      </a:moveTo>
                      <a:lnTo>
                        <a:pt x="31" y="76"/>
                      </a:lnTo>
                      <a:lnTo>
                        <a:pt x="31" y="68"/>
                      </a:lnTo>
                      <a:lnTo>
                        <a:pt x="30" y="62"/>
                      </a:lnTo>
                      <a:lnTo>
                        <a:pt x="30" y="57"/>
                      </a:lnTo>
                      <a:lnTo>
                        <a:pt x="30" y="51"/>
                      </a:lnTo>
                      <a:lnTo>
                        <a:pt x="30" y="46"/>
                      </a:lnTo>
                      <a:lnTo>
                        <a:pt x="30" y="38"/>
                      </a:lnTo>
                      <a:lnTo>
                        <a:pt x="30" y="33"/>
                      </a:lnTo>
                      <a:lnTo>
                        <a:pt x="31" y="26"/>
                      </a:lnTo>
                      <a:lnTo>
                        <a:pt x="34" y="23"/>
                      </a:lnTo>
                      <a:lnTo>
                        <a:pt x="39" y="15"/>
                      </a:lnTo>
                      <a:lnTo>
                        <a:pt x="47" y="12"/>
                      </a:lnTo>
                      <a:lnTo>
                        <a:pt x="57" y="13"/>
                      </a:lnTo>
                      <a:lnTo>
                        <a:pt x="55" y="10"/>
                      </a:lnTo>
                      <a:lnTo>
                        <a:pt x="46" y="4"/>
                      </a:lnTo>
                      <a:lnTo>
                        <a:pt x="40" y="1"/>
                      </a:lnTo>
                      <a:lnTo>
                        <a:pt x="35" y="0"/>
                      </a:lnTo>
                      <a:lnTo>
                        <a:pt x="28" y="0"/>
                      </a:lnTo>
                      <a:lnTo>
                        <a:pt x="21" y="3"/>
                      </a:lnTo>
                      <a:lnTo>
                        <a:pt x="12" y="9"/>
                      </a:lnTo>
                      <a:lnTo>
                        <a:pt x="7" y="17"/>
                      </a:lnTo>
                      <a:lnTo>
                        <a:pt x="4" y="23"/>
                      </a:lnTo>
                      <a:lnTo>
                        <a:pt x="3" y="28"/>
                      </a:lnTo>
                      <a:lnTo>
                        <a:pt x="2" y="35"/>
                      </a:lnTo>
                      <a:lnTo>
                        <a:pt x="2" y="42"/>
                      </a:lnTo>
                      <a:lnTo>
                        <a:pt x="0" y="47"/>
                      </a:lnTo>
                      <a:lnTo>
                        <a:pt x="0" y="53"/>
                      </a:lnTo>
                      <a:lnTo>
                        <a:pt x="2" y="58"/>
                      </a:lnTo>
                      <a:lnTo>
                        <a:pt x="4" y="63"/>
                      </a:lnTo>
                      <a:lnTo>
                        <a:pt x="6" y="72"/>
                      </a:lnTo>
                      <a:lnTo>
                        <a:pt x="12" y="76"/>
                      </a:lnTo>
                      <a:lnTo>
                        <a:pt x="16" y="187"/>
                      </a:lnTo>
                      <a:lnTo>
                        <a:pt x="37" y="173"/>
                      </a:lnTo>
                      <a:lnTo>
                        <a:pt x="33" y="79"/>
                      </a:lnTo>
                      <a:lnTo>
                        <a:pt x="33" y="79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H="1">
                  <a:off x="2809440" y="5128560"/>
                  <a:ext cx="30960" cy="119520"/>
                </a:xfrm>
                <a:custGeom>
                  <a:avLst/>
                  <a:gdLst/>
                  <a:ahLst/>
                  <a:rect l="l" t="t" r="r" b="b"/>
                  <a:pathLst>
                    <a:path w="50" h="212">
                      <a:moveTo>
                        <a:pt x="12" y="212"/>
                      </a:moveTo>
                      <a:lnTo>
                        <a:pt x="11" y="63"/>
                      </a:lnTo>
                      <a:lnTo>
                        <a:pt x="9" y="59"/>
                      </a:lnTo>
                      <a:lnTo>
                        <a:pt x="6" y="51"/>
                      </a:lnTo>
                      <a:lnTo>
                        <a:pt x="2" y="43"/>
                      </a:lnTo>
                      <a:lnTo>
                        <a:pt x="0" y="33"/>
                      </a:lnTo>
                      <a:lnTo>
                        <a:pt x="0" y="27"/>
                      </a:lnTo>
                      <a:lnTo>
                        <a:pt x="0" y="21"/>
                      </a:lnTo>
                      <a:lnTo>
                        <a:pt x="0" y="16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1" y="4"/>
                      </a:lnTo>
                      <a:lnTo>
                        <a:pt x="16" y="1"/>
                      </a:lnTo>
                      <a:lnTo>
                        <a:pt x="24" y="1"/>
                      </a:lnTo>
                      <a:lnTo>
                        <a:pt x="31" y="0"/>
                      </a:lnTo>
                      <a:lnTo>
                        <a:pt x="37" y="1"/>
                      </a:lnTo>
                      <a:lnTo>
                        <a:pt x="41" y="3"/>
                      </a:lnTo>
                      <a:lnTo>
                        <a:pt x="45" y="6"/>
                      </a:lnTo>
                      <a:lnTo>
                        <a:pt x="46" y="9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50" y="27"/>
                      </a:lnTo>
                      <a:lnTo>
                        <a:pt x="49" y="34"/>
                      </a:lnTo>
                      <a:lnTo>
                        <a:pt x="48" y="39"/>
                      </a:lnTo>
                      <a:lnTo>
                        <a:pt x="46" y="45"/>
                      </a:lnTo>
                      <a:lnTo>
                        <a:pt x="46" y="50"/>
                      </a:lnTo>
                      <a:lnTo>
                        <a:pt x="44" y="58"/>
                      </a:lnTo>
                      <a:lnTo>
                        <a:pt x="44" y="63"/>
                      </a:lnTo>
                      <a:lnTo>
                        <a:pt x="39" y="67"/>
                      </a:lnTo>
                      <a:lnTo>
                        <a:pt x="41" y="211"/>
                      </a:lnTo>
                      <a:lnTo>
                        <a:pt x="12" y="212"/>
                      </a:lnTo>
                      <a:lnTo>
                        <a:pt x="12" y="212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H="1">
                  <a:off x="2945520" y="5130720"/>
                  <a:ext cx="27000" cy="98280"/>
                </a:xfrm>
                <a:custGeom>
                  <a:avLst/>
                  <a:gdLst/>
                  <a:ahLst/>
                  <a:rect l="l" t="t" r="r" b="b"/>
                  <a:pathLst>
                    <a:path w="42" h="174">
                      <a:moveTo>
                        <a:pt x="32" y="169"/>
                      </a:moveTo>
                      <a:lnTo>
                        <a:pt x="32" y="53"/>
                      </a:lnTo>
                      <a:lnTo>
                        <a:pt x="32" y="49"/>
                      </a:lnTo>
                      <a:lnTo>
                        <a:pt x="36" y="42"/>
                      </a:lnTo>
                      <a:lnTo>
                        <a:pt x="38" y="35"/>
                      </a:lnTo>
                      <a:lnTo>
                        <a:pt x="41" y="30"/>
                      </a:lnTo>
                      <a:lnTo>
                        <a:pt x="41" y="23"/>
                      </a:lnTo>
                      <a:lnTo>
                        <a:pt x="42" y="18"/>
                      </a:lnTo>
                      <a:lnTo>
                        <a:pt x="40" y="11"/>
                      </a:lnTo>
                      <a:lnTo>
                        <a:pt x="37" y="7"/>
                      </a:lnTo>
                      <a:lnTo>
                        <a:pt x="33" y="2"/>
                      </a:lnTo>
                      <a:lnTo>
                        <a:pt x="31" y="1"/>
                      </a:lnTo>
                      <a:lnTo>
                        <a:pt x="21" y="0"/>
                      </a:lnTo>
                      <a:lnTo>
                        <a:pt x="11" y="2"/>
                      </a:lnTo>
                      <a:lnTo>
                        <a:pt x="7" y="4"/>
                      </a:lnTo>
                      <a:lnTo>
                        <a:pt x="4" y="9"/>
                      </a:lnTo>
                      <a:lnTo>
                        <a:pt x="2" y="14"/>
                      </a:lnTo>
                      <a:lnTo>
                        <a:pt x="1" y="21"/>
                      </a:lnTo>
                      <a:lnTo>
                        <a:pt x="0" y="26"/>
                      </a:lnTo>
                      <a:lnTo>
                        <a:pt x="1" y="34"/>
                      </a:lnTo>
                      <a:lnTo>
                        <a:pt x="3" y="42"/>
                      </a:lnTo>
                      <a:lnTo>
                        <a:pt x="7" y="49"/>
                      </a:lnTo>
                      <a:lnTo>
                        <a:pt x="7" y="174"/>
                      </a:lnTo>
                      <a:lnTo>
                        <a:pt x="32" y="169"/>
                      </a:lnTo>
                      <a:lnTo>
                        <a:pt x="32" y="169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H="1">
                  <a:off x="2985840" y="5410800"/>
                  <a:ext cx="76680" cy="208800"/>
                </a:xfrm>
                <a:custGeom>
                  <a:avLst/>
                  <a:gdLst/>
                  <a:ahLst/>
                  <a:rect l="l" t="t" r="r" b="b"/>
                  <a:pathLst>
                    <a:path w="120" h="372">
                      <a:moveTo>
                        <a:pt x="120" y="31"/>
                      </a:moveTo>
                      <a:lnTo>
                        <a:pt x="118" y="30"/>
                      </a:lnTo>
                      <a:lnTo>
                        <a:pt x="114" y="30"/>
                      </a:lnTo>
                      <a:lnTo>
                        <a:pt x="108" y="30"/>
                      </a:lnTo>
                      <a:lnTo>
                        <a:pt x="100" y="32"/>
                      </a:lnTo>
                      <a:lnTo>
                        <a:pt x="90" y="33"/>
                      </a:lnTo>
                      <a:lnTo>
                        <a:pt x="80" y="37"/>
                      </a:lnTo>
                      <a:lnTo>
                        <a:pt x="70" y="39"/>
                      </a:lnTo>
                      <a:lnTo>
                        <a:pt x="61" y="46"/>
                      </a:lnTo>
                      <a:lnTo>
                        <a:pt x="51" y="50"/>
                      </a:lnTo>
                      <a:lnTo>
                        <a:pt x="44" y="59"/>
                      </a:lnTo>
                      <a:lnTo>
                        <a:pt x="35" y="69"/>
                      </a:lnTo>
                      <a:lnTo>
                        <a:pt x="31" y="82"/>
                      </a:lnTo>
                      <a:lnTo>
                        <a:pt x="27" y="95"/>
                      </a:lnTo>
                      <a:lnTo>
                        <a:pt x="27" y="112"/>
                      </a:lnTo>
                      <a:lnTo>
                        <a:pt x="30" y="131"/>
                      </a:lnTo>
                      <a:lnTo>
                        <a:pt x="38" y="154"/>
                      </a:lnTo>
                      <a:lnTo>
                        <a:pt x="39" y="156"/>
                      </a:lnTo>
                      <a:lnTo>
                        <a:pt x="44" y="158"/>
                      </a:lnTo>
                      <a:lnTo>
                        <a:pt x="48" y="161"/>
                      </a:lnTo>
                      <a:lnTo>
                        <a:pt x="55" y="164"/>
                      </a:lnTo>
                      <a:lnTo>
                        <a:pt x="59" y="165"/>
                      </a:lnTo>
                      <a:lnTo>
                        <a:pt x="65" y="165"/>
                      </a:lnTo>
                      <a:lnTo>
                        <a:pt x="68" y="166"/>
                      </a:lnTo>
                      <a:lnTo>
                        <a:pt x="69" y="167"/>
                      </a:lnTo>
                      <a:lnTo>
                        <a:pt x="69" y="372"/>
                      </a:lnTo>
                      <a:lnTo>
                        <a:pt x="40" y="372"/>
                      </a:lnTo>
                      <a:lnTo>
                        <a:pt x="38" y="166"/>
                      </a:lnTo>
                      <a:lnTo>
                        <a:pt x="34" y="164"/>
                      </a:lnTo>
                      <a:lnTo>
                        <a:pt x="27" y="155"/>
                      </a:lnTo>
                      <a:lnTo>
                        <a:pt x="23" y="148"/>
                      </a:lnTo>
                      <a:lnTo>
                        <a:pt x="17" y="142"/>
                      </a:lnTo>
                      <a:lnTo>
                        <a:pt x="12" y="135"/>
                      </a:lnTo>
                      <a:lnTo>
                        <a:pt x="9" y="127"/>
                      </a:lnTo>
                      <a:lnTo>
                        <a:pt x="4" y="117"/>
                      </a:lnTo>
                      <a:lnTo>
                        <a:pt x="2" y="106"/>
                      </a:lnTo>
                      <a:lnTo>
                        <a:pt x="0" y="95"/>
                      </a:lnTo>
                      <a:lnTo>
                        <a:pt x="0" y="84"/>
                      </a:lnTo>
                      <a:lnTo>
                        <a:pt x="3" y="72"/>
                      </a:lnTo>
                      <a:lnTo>
                        <a:pt x="8" y="60"/>
                      </a:lnTo>
                      <a:lnTo>
                        <a:pt x="15" y="47"/>
                      </a:lnTo>
                      <a:lnTo>
                        <a:pt x="25" y="33"/>
                      </a:lnTo>
                      <a:lnTo>
                        <a:pt x="35" y="21"/>
                      </a:lnTo>
                      <a:lnTo>
                        <a:pt x="46" y="12"/>
                      </a:lnTo>
                      <a:lnTo>
                        <a:pt x="56" y="5"/>
                      </a:lnTo>
                      <a:lnTo>
                        <a:pt x="66" y="2"/>
                      </a:lnTo>
                      <a:lnTo>
                        <a:pt x="72" y="0"/>
                      </a:lnTo>
                      <a:lnTo>
                        <a:pt x="80" y="0"/>
                      </a:lnTo>
                      <a:lnTo>
                        <a:pt x="88" y="2"/>
                      </a:lnTo>
                      <a:lnTo>
                        <a:pt x="94" y="5"/>
                      </a:lnTo>
                      <a:lnTo>
                        <a:pt x="100" y="8"/>
                      </a:lnTo>
                      <a:lnTo>
                        <a:pt x="104" y="12"/>
                      </a:lnTo>
                      <a:lnTo>
                        <a:pt x="109" y="16"/>
                      </a:lnTo>
                      <a:lnTo>
                        <a:pt x="113" y="21"/>
                      </a:lnTo>
                      <a:lnTo>
                        <a:pt x="118" y="27"/>
                      </a:lnTo>
                      <a:lnTo>
                        <a:pt x="120" y="31"/>
                      </a:lnTo>
                      <a:lnTo>
                        <a:pt x="120" y="31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H="1">
                  <a:off x="1578600" y="5680440"/>
                  <a:ext cx="128880" cy="40320"/>
                </a:xfrm>
                <a:custGeom>
                  <a:avLst/>
                  <a:gdLst/>
                  <a:ahLst/>
                  <a:rect l="l" t="t" r="r" b="b"/>
                  <a:pathLst>
                    <a:path w="197" h="72">
                      <a:moveTo>
                        <a:pt x="5" y="43"/>
                      </a:moveTo>
                      <a:lnTo>
                        <a:pt x="0" y="18"/>
                      </a:lnTo>
                      <a:lnTo>
                        <a:pt x="10" y="18"/>
                      </a:lnTo>
                      <a:lnTo>
                        <a:pt x="11" y="38"/>
                      </a:lnTo>
                      <a:lnTo>
                        <a:pt x="36" y="35"/>
                      </a:lnTo>
                      <a:lnTo>
                        <a:pt x="34" y="8"/>
                      </a:lnTo>
                      <a:lnTo>
                        <a:pt x="44" y="5"/>
                      </a:lnTo>
                      <a:lnTo>
                        <a:pt x="45" y="31"/>
                      </a:lnTo>
                      <a:lnTo>
                        <a:pt x="62" y="30"/>
                      </a:lnTo>
                      <a:lnTo>
                        <a:pt x="62" y="0"/>
                      </a:lnTo>
                      <a:lnTo>
                        <a:pt x="74" y="4"/>
                      </a:lnTo>
                      <a:lnTo>
                        <a:pt x="72" y="33"/>
                      </a:lnTo>
                      <a:lnTo>
                        <a:pt x="93" y="38"/>
                      </a:lnTo>
                      <a:lnTo>
                        <a:pt x="96" y="10"/>
                      </a:lnTo>
                      <a:lnTo>
                        <a:pt x="110" y="14"/>
                      </a:lnTo>
                      <a:lnTo>
                        <a:pt x="103" y="39"/>
                      </a:lnTo>
                      <a:lnTo>
                        <a:pt x="125" y="48"/>
                      </a:lnTo>
                      <a:lnTo>
                        <a:pt x="131" y="21"/>
                      </a:lnTo>
                      <a:lnTo>
                        <a:pt x="145" y="25"/>
                      </a:lnTo>
                      <a:lnTo>
                        <a:pt x="133" y="49"/>
                      </a:lnTo>
                      <a:lnTo>
                        <a:pt x="149" y="54"/>
                      </a:lnTo>
                      <a:lnTo>
                        <a:pt x="156" y="31"/>
                      </a:lnTo>
                      <a:lnTo>
                        <a:pt x="168" y="35"/>
                      </a:lnTo>
                      <a:lnTo>
                        <a:pt x="154" y="57"/>
                      </a:lnTo>
                      <a:lnTo>
                        <a:pt x="175" y="64"/>
                      </a:lnTo>
                      <a:lnTo>
                        <a:pt x="182" y="41"/>
                      </a:lnTo>
                      <a:lnTo>
                        <a:pt x="197" y="51"/>
                      </a:lnTo>
                      <a:lnTo>
                        <a:pt x="180" y="72"/>
                      </a:lnTo>
                      <a:lnTo>
                        <a:pt x="120" y="54"/>
                      </a:lnTo>
                      <a:lnTo>
                        <a:pt x="59" y="43"/>
                      </a:lnTo>
                      <a:lnTo>
                        <a:pt x="5" y="43"/>
                      </a:lnTo>
                      <a:lnTo>
                        <a:pt x="5" y="43"/>
                      </a:lnTo>
                      <a:close/>
                    </a:path>
                  </a:pathLst>
                </a:custGeom>
                <a:solidFill>
                  <a:srgbClr val="4d36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H="1">
                  <a:off x="1618920" y="5728680"/>
                  <a:ext cx="114120" cy="65520"/>
                </a:xfrm>
                <a:custGeom>
                  <a:avLst/>
                  <a:gdLst/>
                  <a:ahLst/>
                  <a:rect l="l" t="t" r="r" b="b"/>
                  <a:pathLst>
                    <a:path w="175" h="115">
                      <a:moveTo>
                        <a:pt x="175" y="92"/>
                      </a:moveTo>
                      <a:lnTo>
                        <a:pt x="171" y="115"/>
                      </a:lnTo>
                      <a:lnTo>
                        <a:pt x="161" y="111"/>
                      </a:lnTo>
                      <a:lnTo>
                        <a:pt x="166" y="93"/>
                      </a:lnTo>
                      <a:lnTo>
                        <a:pt x="145" y="85"/>
                      </a:lnTo>
                      <a:lnTo>
                        <a:pt x="137" y="113"/>
                      </a:lnTo>
                      <a:lnTo>
                        <a:pt x="127" y="110"/>
                      </a:lnTo>
                      <a:lnTo>
                        <a:pt x="136" y="86"/>
                      </a:lnTo>
                      <a:lnTo>
                        <a:pt x="118" y="83"/>
                      </a:lnTo>
                      <a:lnTo>
                        <a:pt x="109" y="109"/>
                      </a:lnTo>
                      <a:lnTo>
                        <a:pt x="97" y="100"/>
                      </a:lnTo>
                      <a:lnTo>
                        <a:pt x="110" y="75"/>
                      </a:lnTo>
                      <a:lnTo>
                        <a:pt x="91" y="63"/>
                      </a:lnTo>
                      <a:lnTo>
                        <a:pt x="80" y="86"/>
                      </a:lnTo>
                      <a:lnTo>
                        <a:pt x="67" y="78"/>
                      </a:lnTo>
                      <a:lnTo>
                        <a:pt x="84" y="59"/>
                      </a:lnTo>
                      <a:lnTo>
                        <a:pt x="66" y="43"/>
                      </a:lnTo>
                      <a:lnTo>
                        <a:pt x="50" y="64"/>
                      </a:lnTo>
                      <a:lnTo>
                        <a:pt x="38" y="57"/>
                      </a:lnTo>
                      <a:lnTo>
                        <a:pt x="58" y="39"/>
                      </a:lnTo>
                      <a:lnTo>
                        <a:pt x="46" y="27"/>
                      </a:lnTo>
                      <a:lnTo>
                        <a:pt x="30" y="47"/>
                      </a:lnTo>
                      <a:lnTo>
                        <a:pt x="21" y="37"/>
                      </a:lnTo>
                      <a:lnTo>
                        <a:pt x="40" y="21"/>
                      </a:lnTo>
                      <a:lnTo>
                        <a:pt x="25" y="8"/>
                      </a:lnTo>
                      <a:lnTo>
                        <a:pt x="11" y="29"/>
                      </a:lnTo>
                      <a:lnTo>
                        <a:pt x="0" y="13"/>
                      </a:lnTo>
                      <a:lnTo>
                        <a:pt x="23" y="0"/>
                      </a:lnTo>
                      <a:lnTo>
                        <a:pt x="74" y="37"/>
                      </a:lnTo>
                      <a:lnTo>
                        <a:pt x="127" y="72"/>
                      </a:lnTo>
                      <a:lnTo>
                        <a:pt x="175" y="92"/>
                      </a:lnTo>
                      <a:lnTo>
                        <a:pt x="175" y="92"/>
                      </a:lnTo>
                      <a:close/>
                    </a:path>
                  </a:pathLst>
                </a:custGeom>
                <a:solidFill>
                  <a:srgbClr val="4d36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H="1">
                  <a:off x="1413720" y="6204240"/>
                  <a:ext cx="785520" cy="185040"/>
                </a:xfrm>
                <a:custGeom>
                  <a:avLst/>
                  <a:gdLst/>
                  <a:ahLst/>
                  <a:rect l="l" t="t" r="r" b="b"/>
                  <a:pathLst>
                    <a:path w="1209" h="328">
                      <a:moveTo>
                        <a:pt x="134" y="0"/>
                      </a:moveTo>
                      <a:lnTo>
                        <a:pt x="384" y="120"/>
                      </a:lnTo>
                      <a:lnTo>
                        <a:pt x="82" y="81"/>
                      </a:lnTo>
                      <a:lnTo>
                        <a:pt x="353" y="163"/>
                      </a:lnTo>
                      <a:lnTo>
                        <a:pt x="6" y="120"/>
                      </a:lnTo>
                      <a:lnTo>
                        <a:pt x="315" y="202"/>
                      </a:lnTo>
                      <a:lnTo>
                        <a:pt x="33" y="172"/>
                      </a:lnTo>
                      <a:lnTo>
                        <a:pt x="269" y="241"/>
                      </a:lnTo>
                      <a:lnTo>
                        <a:pt x="0" y="210"/>
                      </a:lnTo>
                      <a:lnTo>
                        <a:pt x="210" y="297"/>
                      </a:lnTo>
                      <a:lnTo>
                        <a:pt x="213" y="297"/>
                      </a:lnTo>
                      <a:lnTo>
                        <a:pt x="221" y="299"/>
                      </a:lnTo>
                      <a:lnTo>
                        <a:pt x="236" y="300"/>
                      </a:lnTo>
                      <a:lnTo>
                        <a:pt x="256" y="305"/>
                      </a:lnTo>
                      <a:lnTo>
                        <a:pt x="279" y="308"/>
                      </a:lnTo>
                      <a:lnTo>
                        <a:pt x="308" y="312"/>
                      </a:lnTo>
                      <a:lnTo>
                        <a:pt x="339" y="318"/>
                      </a:lnTo>
                      <a:lnTo>
                        <a:pt x="375" y="322"/>
                      </a:lnTo>
                      <a:lnTo>
                        <a:pt x="412" y="327"/>
                      </a:lnTo>
                      <a:lnTo>
                        <a:pt x="452" y="328"/>
                      </a:lnTo>
                      <a:lnTo>
                        <a:pt x="493" y="328"/>
                      </a:lnTo>
                      <a:lnTo>
                        <a:pt x="536" y="328"/>
                      </a:lnTo>
                      <a:lnTo>
                        <a:pt x="580" y="328"/>
                      </a:lnTo>
                      <a:lnTo>
                        <a:pt x="625" y="328"/>
                      </a:lnTo>
                      <a:lnTo>
                        <a:pt x="669" y="328"/>
                      </a:lnTo>
                      <a:lnTo>
                        <a:pt x="713" y="328"/>
                      </a:lnTo>
                      <a:lnTo>
                        <a:pt x="755" y="328"/>
                      </a:lnTo>
                      <a:lnTo>
                        <a:pt x="798" y="320"/>
                      </a:lnTo>
                      <a:lnTo>
                        <a:pt x="842" y="307"/>
                      </a:lnTo>
                      <a:lnTo>
                        <a:pt x="887" y="293"/>
                      </a:lnTo>
                      <a:lnTo>
                        <a:pt x="928" y="275"/>
                      </a:lnTo>
                      <a:lnTo>
                        <a:pt x="969" y="257"/>
                      </a:lnTo>
                      <a:lnTo>
                        <a:pt x="1008" y="238"/>
                      </a:lnTo>
                      <a:lnTo>
                        <a:pt x="1046" y="220"/>
                      </a:lnTo>
                      <a:lnTo>
                        <a:pt x="1079" y="200"/>
                      </a:lnTo>
                      <a:lnTo>
                        <a:pt x="1111" y="182"/>
                      </a:lnTo>
                      <a:lnTo>
                        <a:pt x="1139" y="164"/>
                      </a:lnTo>
                      <a:lnTo>
                        <a:pt x="1162" y="150"/>
                      </a:lnTo>
                      <a:lnTo>
                        <a:pt x="1182" y="137"/>
                      </a:lnTo>
                      <a:lnTo>
                        <a:pt x="1195" y="128"/>
                      </a:lnTo>
                      <a:lnTo>
                        <a:pt x="1205" y="122"/>
                      </a:lnTo>
                      <a:lnTo>
                        <a:pt x="1209" y="120"/>
                      </a:lnTo>
                      <a:lnTo>
                        <a:pt x="1203" y="119"/>
                      </a:lnTo>
                      <a:lnTo>
                        <a:pt x="1186" y="119"/>
                      </a:lnTo>
                      <a:lnTo>
                        <a:pt x="1161" y="119"/>
                      </a:lnTo>
                      <a:lnTo>
                        <a:pt x="1130" y="119"/>
                      </a:lnTo>
                      <a:lnTo>
                        <a:pt x="1091" y="119"/>
                      </a:lnTo>
                      <a:lnTo>
                        <a:pt x="1048" y="119"/>
                      </a:lnTo>
                      <a:lnTo>
                        <a:pt x="1002" y="119"/>
                      </a:lnTo>
                      <a:lnTo>
                        <a:pt x="955" y="119"/>
                      </a:lnTo>
                      <a:lnTo>
                        <a:pt x="905" y="118"/>
                      </a:lnTo>
                      <a:lnTo>
                        <a:pt x="857" y="117"/>
                      </a:lnTo>
                      <a:lnTo>
                        <a:pt x="811" y="116"/>
                      </a:lnTo>
                      <a:lnTo>
                        <a:pt x="770" y="116"/>
                      </a:lnTo>
                      <a:lnTo>
                        <a:pt x="731" y="115"/>
                      </a:lnTo>
                      <a:lnTo>
                        <a:pt x="701" y="113"/>
                      </a:lnTo>
                      <a:lnTo>
                        <a:pt x="678" y="113"/>
                      </a:lnTo>
                      <a:lnTo>
                        <a:pt x="665" y="112"/>
                      </a:lnTo>
                      <a:lnTo>
                        <a:pt x="650" y="108"/>
                      </a:lnTo>
                      <a:lnTo>
                        <a:pt x="627" y="103"/>
                      </a:lnTo>
                      <a:lnTo>
                        <a:pt x="597" y="97"/>
                      </a:lnTo>
                      <a:lnTo>
                        <a:pt x="561" y="90"/>
                      </a:lnTo>
                      <a:lnTo>
                        <a:pt x="519" y="79"/>
                      </a:lnTo>
                      <a:lnTo>
                        <a:pt x="475" y="70"/>
                      </a:lnTo>
                      <a:lnTo>
                        <a:pt x="427" y="60"/>
                      </a:lnTo>
                      <a:lnTo>
                        <a:pt x="381" y="51"/>
                      </a:lnTo>
                      <a:lnTo>
                        <a:pt x="332" y="42"/>
                      </a:lnTo>
                      <a:lnTo>
                        <a:pt x="288" y="32"/>
                      </a:lnTo>
                      <a:lnTo>
                        <a:pt x="246" y="22"/>
                      </a:lnTo>
                      <a:lnTo>
                        <a:pt x="209" y="15"/>
                      </a:lnTo>
                      <a:lnTo>
                        <a:pt x="177" y="8"/>
                      </a:lnTo>
                      <a:lnTo>
                        <a:pt x="154" y="4"/>
                      </a:lnTo>
                      <a:lnTo>
                        <a:pt x="138" y="0"/>
                      </a:lnTo>
                      <a:lnTo>
                        <a:pt x="134" y="0"/>
                      </a:lnTo>
                      <a:lnTo>
                        <a:pt x="134" y="0"/>
                      </a:lnTo>
                      <a:close/>
                    </a:path>
                  </a:pathLst>
                </a:custGeom>
                <a:solidFill>
                  <a:srgbClr val="7d7d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67" name="" descr=""/>
              <p:cNvPicPr/>
              <p:nvPr/>
            </p:nvPicPr>
            <p:blipFill>
              <a:blip r:embed="rId2"/>
              <a:stretch/>
            </p:blipFill>
            <p:spPr>
              <a:xfrm rot="5400000">
                <a:off x="1310760" y="5569560"/>
                <a:ext cx="447840" cy="93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8" name="" descr=""/>
              <p:cNvPicPr/>
              <p:nvPr/>
            </p:nvPicPr>
            <p:blipFill>
              <a:blip r:embed="rId3"/>
              <a:stretch/>
            </p:blipFill>
            <p:spPr>
              <a:xfrm rot="5400000">
                <a:off x="1435320" y="5406840"/>
                <a:ext cx="447840" cy="936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69" name=""/>
            <p:cNvGrpSpPr/>
            <p:nvPr/>
          </p:nvGrpSpPr>
          <p:grpSpPr>
            <a:xfrm>
              <a:off x="1690200" y="5589360"/>
              <a:ext cx="503640" cy="432720"/>
              <a:chOff x="1690200" y="5589360"/>
              <a:chExt cx="503640" cy="432720"/>
            </a:xfrm>
          </p:grpSpPr>
          <p:sp>
            <p:nvSpPr>
              <p:cNvPr id="2070" name=""/>
              <p:cNvSpPr/>
              <p:nvPr/>
            </p:nvSpPr>
            <p:spPr>
              <a:xfrm flipH="1">
                <a:off x="1873080" y="5744880"/>
                <a:ext cx="293400" cy="187200"/>
              </a:xfrm>
              <a:custGeom>
                <a:avLst/>
                <a:gdLst/>
                <a:ahLst/>
                <a:rect l="l" t="t" r="r" b="b"/>
                <a:pathLst>
                  <a:path w="676" h="493">
                    <a:moveTo>
                      <a:pt x="0" y="322"/>
                    </a:moveTo>
                    <a:lnTo>
                      <a:pt x="222" y="0"/>
                    </a:lnTo>
                    <a:lnTo>
                      <a:pt x="380" y="0"/>
                    </a:lnTo>
                    <a:lnTo>
                      <a:pt x="676" y="220"/>
                    </a:lnTo>
                    <a:lnTo>
                      <a:pt x="672" y="289"/>
                    </a:lnTo>
                    <a:lnTo>
                      <a:pt x="500" y="426"/>
                    </a:lnTo>
                    <a:lnTo>
                      <a:pt x="132" y="493"/>
                    </a:lnTo>
                    <a:lnTo>
                      <a:pt x="0" y="322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c99b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H="1">
                <a:off x="1689840" y="5589360"/>
                <a:ext cx="343080" cy="254880"/>
              </a:xfrm>
              <a:custGeom>
                <a:avLst/>
                <a:gdLst/>
                <a:ahLst/>
                <a:rect l="l" t="t" r="r" b="b"/>
                <a:pathLst>
                  <a:path w="789" h="671">
                    <a:moveTo>
                      <a:pt x="0" y="257"/>
                    </a:moveTo>
                    <a:lnTo>
                      <a:pt x="1" y="253"/>
                    </a:lnTo>
                    <a:lnTo>
                      <a:pt x="8" y="244"/>
                    </a:lnTo>
                    <a:lnTo>
                      <a:pt x="18" y="232"/>
                    </a:lnTo>
                    <a:lnTo>
                      <a:pt x="31" y="216"/>
                    </a:lnTo>
                    <a:lnTo>
                      <a:pt x="46" y="195"/>
                    </a:lnTo>
                    <a:lnTo>
                      <a:pt x="66" y="174"/>
                    </a:lnTo>
                    <a:lnTo>
                      <a:pt x="88" y="149"/>
                    </a:lnTo>
                    <a:lnTo>
                      <a:pt x="114" y="126"/>
                    </a:lnTo>
                    <a:lnTo>
                      <a:pt x="140" y="101"/>
                    </a:lnTo>
                    <a:lnTo>
                      <a:pt x="169" y="77"/>
                    </a:lnTo>
                    <a:lnTo>
                      <a:pt x="199" y="55"/>
                    </a:lnTo>
                    <a:lnTo>
                      <a:pt x="232" y="37"/>
                    </a:lnTo>
                    <a:lnTo>
                      <a:pt x="264" y="20"/>
                    </a:lnTo>
                    <a:lnTo>
                      <a:pt x="299" y="9"/>
                    </a:lnTo>
                    <a:lnTo>
                      <a:pt x="333" y="1"/>
                    </a:lnTo>
                    <a:lnTo>
                      <a:pt x="368" y="0"/>
                    </a:lnTo>
                    <a:lnTo>
                      <a:pt x="486" y="12"/>
                    </a:lnTo>
                    <a:lnTo>
                      <a:pt x="624" y="91"/>
                    </a:lnTo>
                    <a:lnTo>
                      <a:pt x="624" y="92"/>
                    </a:lnTo>
                    <a:lnTo>
                      <a:pt x="627" y="95"/>
                    </a:lnTo>
                    <a:lnTo>
                      <a:pt x="631" y="103"/>
                    </a:lnTo>
                    <a:lnTo>
                      <a:pt x="638" y="114"/>
                    </a:lnTo>
                    <a:lnTo>
                      <a:pt x="645" y="125"/>
                    </a:lnTo>
                    <a:lnTo>
                      <a:pt x="653" y="139"/>
                    </a:lnTo>
                    <a:lnTo>
                      <a:pt x="662" y="153"/>
                    </a:lnTo>
                    <a:lnTo>
                      <a:pt x="671" y="170"/>
                    </a:lnTo>
                    <a:lnTo>
                      <a:pt x="680" y="186"/>
                    </a:lnTo>
                    <a:lnTo>
                      <a:pt x="688" y="205"/>
                    </a:lnTo>
                    <a:lnTo>
                      <a:pt x="695" y="221"/>
                    </a:lnTo>
                    <a:lnTo>
                      <a:pt x="704" y="239"/>
                    </a:lnTo>
                    <a:lnTo>
                      <a:pt x="709" y="255"/>
                    </a:lnTo>
                    <a:lnTo>
                      <a:pt x="714" y="271"/>
                    </a:lnTo>
                    <a:lnTo>
                      <a:pt x="716" y="286"/>
                    </a:lnTo>
                    <a:lnTo>
                      <a:pt x="719" y="301"/>
                    </a:lnTo>
                    <a:lnTo>
                      <a:pt x="718" y="306"/>
                    </a:lnTo>
                    <a:lnTo>
                      <a:pt x="715" y="314"/>
                    </a:lnTo>
                    <a:lnTo>
                      <a:pt x="712" y="323"/>
                    </a:lnTo>
                    <a:lnTo>
                      <a:pt x="709" y="333"/>
                    </a:lnTo>
                    <a:lnTo>
                      <a:pt x="704" y="342"/>
                    </a:lnTo>
                    <a:lnTo>
                      <a:pt x="700" y="352"/>
                    </a:lnTo>
                    <a:lnTo>
                      <a:pt x="694" y="362"/>
                    </a:lnTo>
                    <a:lnTo>
                      <a:pt x="691" y="374"/>
                    </a:lnTo>
                    <a:lnTo>
                      <a:pt x="684" y="385"/>
                    </a:lnTo>
                    <a:lnTo>
                      <a:pt x="680" y="397"/>
                    </a:lnTo>
                    <a:lnTo>
                      <a:pt x="676" y="409"/>
                    </a:lnTo>
                    <a:lnTo>
                      <a:pt x="672" y="425"/>
                    </a:lnTo>
                    <a:lnTo>
                      <a:pt x="669" y="438"/>
                    </a:lnTo>
                    <a:lnTo>
                      <a:pt x="667" y="452"/>
                    </a:lnTo>
                    <a:lnTo>
                      <a:pt x="667" y="468"/>
                    </a:lnTo>
                    <a:lnTo>
                      <a:pt x="668" y="484"/>
                    </a:lnTo>
                    <a:lnTo>
                      <a:pt x="669" y="492"/>
                    </a:lnTo>
                    <a:lnTo>
                      <a:pt x="672" y="501"/>
                    </a:lnTo>
                    <a:lnTo>
                      <a:pt x="678" y="511"/>
                    </a:lnTo>
                    <a:lnTo>
                      <a:pt x="687" y="523"/>
                    </a:lnTo>
                    <a:lnTo>
                      <a:pt x="695" y="535"/>
                    </a:lnTo>
                    <a:lnTo>
                      <a:pt x="705" y="547"/>
                    </a:lnTo>
                    <a:lnTo>
                      <a:pt x="716" y="559"/>
                    </a:lnTo>
                    <a:lnTo>
                      <a:pt x="729" y="573"/>
                    </a:lnTo>
                    <a:lnTo>
                      <a:pt x="740" y="584"/>
                    </a:lnTo>
                    <a:lnTo>
                      <a:pt x="751" y="595"/>
                    </a:lnTo>
                    <a:lnTo>
                      <a:pt x="761" y="604"/>
                    </a:lnTo>
                    <a:lnTo>
                      <a:pt x="771" y="614"/>
                    </a:lnTo>
                    <a:lnTo>
                      <a:pt x="777" y="621"/>
                    </a:lnTo>
                    <a:lnTo>
                      <a:pt x="784" y="627"/>
                    </a:lnTo>
                    <a:lnTo>
                      <a:pt x="787" y="630"/>
                    </a:lnTo>
                    <a:lnTo>
                      <a:pt x="789" y="632"/>
                    </a:lnTo>
                    <a:lnTo>
                      <a:pt x="506" y="671"/>
                    </a:lnTo>
                    <a:lnTo>
                      <a:pt x="407" y="566"/>
                    </a:lnTo>
                    <a:lnTo>
                      <a:pt x="4" y="347"/>
                    </a:lnTo>
                    <a:lnTo>
                      <a:pt x="0" y="257"/>
                    </a:lnTo>
                    <a:lnTo>
                      <a:pt x="0" y="257"/>
                    </a:lnTo>
                    <a:close/>
                  </a:path>
                </a:pathLst>
              </a:custGeom>
              <a:solidFill>
                <a:srgbClr val="cf8f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flipH="1">
                <a:off x="1789560" y="5625720"/>
                <a:ext cx="195480" cy="202320"/>
              </a:xfrm>
              <a:custGeom>
                <a:avLst/>
                <a:gdLst/>
                <a:ahLst/>
                <a:rect l="l" t="t" r="r" b="b"/>
                <a:pathLst>
                  <a:path w="448" h="534">
                    <a:moveTo>
                      <a:pt x="183" y="534"/>
                    </a:moveTo>
                    <a:lnTo>
                      <a:pt x="0" y="440"/>
                    </a:lnTo>
                    <a:lnTo>
                      <a:pt x="58" y="269"/>
                    </a:lnTo>
                    <a:lnTo>
                      <a:pt x="107" y="148"/>
                    </a:lnTo>
                    <a:lnTo>
                      <a:pt x="179" y="64"/>
                    </a:lnTo>
                    <a:lnTo>
                      <a:pt x="274" y="6"/>
                    </a:lnTo>
                    <a:lnTo>
                      <a:pt x="370" y="0"/>
                    </a:lnTo>
                    <a:lnTo>
                      <a:pt x="448" y="12"/>
                    </a:lnTo>
                    <a:lnTo>
                      <a:pt x="399" y="328"/>
                    </a:lnTo>
                    <a:lnTo>
                      <a:pt x="273" y="376"/>
                    </a:lnTo>
                    <a:lnTo>
                      <a:pt x="183" y="534"/>
                    </a:lnTo>
                    <a:lnTo>
                      <a:pt x="183" y="534"/>
                    </a:lnTo>
                    <a:close/>
                  </a:path>
                </a:pathLst>
              </a:custGeom>
              <a:solidFill>
                <a:srgbClr val="f79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H="1">
                <a:off x="1816560" y="5678640"/>
                <a:ext cx="108360" cy="51480"/>
              </a:xfrm>
              <a:custGeom>
                <a:avLst/>
                <a:gdLst/>
                <a:ahLst/>
                <a:rect l="l" t="t" r="r" b="b"/>
                <a:pathLst>
                  <a:path w="251" h="136">
                    <a:moveTo>
                      <a:pt x="0" y="18"/>
                    </a:moveTo>
                    <a:lnTo>
                      <a:pt x="59" y="0"/>
                    </a:lnTo>
                    <a:lnTo>
                      <a:pt x="145" y="13"/>
                    </a:lnTo>
                    <a:lnTo>
                      <a:pt x="251" y="61"/>
                    </a:lnTo>
                    <a:lnTo>
                      <a:pt x="251" y="136"/>
                    </a:lnTo>
                    <a:lnTo>
                      <a:pt x="131" y="128"/>
                    </a:lnTo>
                    <a:lnTo>
                      <a:pt x="52" y="77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7f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H="1">
                <a:off x="1756800" y="5590800"/>
                <a:ext cx="297720" cy="248040"/>
              </a:xfrm>
              <a:custGeom>
                <a:avLst/>
                <a:gdLst/>
                <a:ahLst/>
                <a:rect l="l" t="t" r="r" b="b"/>
                <a:pathLst>
                  <a:path w="686" h="655">
                    <a:moveTo>
                      <a:pt x="354" y="0"/>
                    </a:moveTo>
                    <a:lnTo>
                      <a:pt x="352" y="0"/>
                    </a:lnTo>
                    <a:lnTo>
                      <a:pt x="343" y="3"/>
                    </a:lnTo>
                    <a:lnTo>
                      <a:pt x="330" y="7"/>
                    </a:lnTo>
                    <a:lnTo>
                      <a:pt x="312" y="14"/>
                    </a:lnTo>
                    <a:lnTo>
                      <a:pt x="291" y="21"/>
                    </a:lnTo>
                    <a:lnTo>
                      <a:pt x="267" y="32"/>
                    </a:lnTo>
                    <a:lnTo>
                      <a:pt x="240" y="46"/>
                    </a:lnTo>
                    <a:lnTo>
                      <a:pt x="214" y="63"/>
                    </a:lnTo>
                    <a:lnTo>
                      <a:pt x="183" y="82"/>
                    </a:lnTo>
                    <a:lnTo>
                      <a:pt x="154" y="105"/>
                    </a:lnTo>
                    <a:lnTo>
                      <a:pt x="124" y="132"/>
                    </a:lnTo>
                    <a:lnTo>
                      <a:pt x="95" y="162"/>
                    </a:lnTo>
                    <a:lnTo>
                      <a:pt x="68" y="195"/>
                    </a:lnTo>
                    <a:lnTo>
                      <a:pt x="42" y="233"/>
                    </a:lnTo>
                    <a:lnTo>
                      <a:pt x="19" y="275"/>
                    </a:lnTo>
                    <a:lnTo>
                      <a:pt x="0" y="322"/>
                    </a:lnTo>
                    <a:lnTo>
                      <a:pt x="51" y="420"/>
                    </a:lnTo>
                    <a:lnTo>
                      <a:pt x="36" y="458"/>
                    </a:lnTo>
                    <a:lnTo>
                      <a:pt x="108" y="542"/>
                    </a:lnTo>
                    <a:lnTo>
                      <a:pt x="103" y="589"/>
                    </a:lnTo>
                    <a:lnTo>
                      <a:pt x="188" y="655"/>
                    </a:lnTo>
                    <a:lnTo>
                      <a:pt x="187" y="647"/>
                    </a:lnTo>
                    <a:lnTo>
                      <a:pt x="187" y="628"/>
                    </a:lnTo>
                    <a:lnTo>
                      <a:pt x="187" y="600"/>
                    </a:lnTo>
                    <a:lnTo>
                      <a:pt x="190" y="563"/>
                    </a:lnTo>
                    <a:lnTo>
                      <a:pt x="195" y="519"/>
                    </a:lnTo>
                    <a:lnTo>
                      <a:pt x="202" y="470"/>
                    </a:lnTo>
                    <a:lnTo>
                      <a:pt x="211" y="418"/>
                    </a:lnTo>
                    <a:lnTo>
                      <a:pt x="227" y="366"/>
                    </a:lnTo>
                    <a:lnTo>
                      <a:pt x="244" y="312"/>
                    </a:lnTo>
                    <a:lnTo>
                      <a:pt x="268" y="264"/>
                    </a:lnTo>
                    <a:lnTo>
                      <a:pt x="298" y="217"/>
                    </a:lnTo>
                    <a:lnTo>
                      <a:pt x="334" y="176"/>
                    </a:lnTo>
                    <a:lnTo>
                      <a:pt x="377" y="143"/>
                    </a:lnTo>
                    <a:lnTo>
                      <a:pt x="428" y="119"/>
                    </a:lnTo>
                    <a:lnTo>
                      <a:pt x="487" y="107"/>
                    </a:lnTo>
                    <a:lnTo>
                      <a:pt x="556" y="108"/>
                    </a:lnTo>
                    <a:lnTo>
                      <a:pt x="574" y="123"/>
                    </a:lnTo>
                    <a:lnTo>
                      <a:pt x="573" y="124"/>
                    </a:lnTo>
                    <a:lnTo>
                      <a:pt x="573" y="128"/>
                    </a:lnTo>
                    <a:lnTo>
                      <a:pt x="571" y="134"/>
                    </a:lnTo>
                    <a:lnTo>
                      <a:pt x="571" y="143"/>
                    </a:lnTo>
                    <a:lnTo>
                      <a:pt x="569" y="153"/>
                    </a:lnTo>
                    <a:lnTo>
                      <a:pt x="566" y="165"/>
                    </a:lnTo>
                    <a:lnTo>
                      <a:pt x="563" y="177"/>
                    </a:lnTo>
                    <a:lnTo>
                      <a:pt x="560" y="192"/>
                    </a:lnTo>
                    <a:lnTo>
                      <a:pt x="555" y="204"/>
                    </a:lnTo>
                    <a:lnTo>
                      <a:pt x="551" y="217"/>
                    </a:lnTo>
                    <a:lnTo>
                      <a:pt x="546" y="228"/>
                    </a:lnTo>
                    <a:lnTo>
                      <a:pt x="542" y="240"/>
                    </a:lnTo>
                    <a:lnTo>
                      <a:pt x="536" y="249"/>
                    </a:lnTo>
                    <a:lnTo>
                      <a:pt x="530" y="257"/>
                    </a:lnTo>
                    <a:lnTo>
                      <a:pt x="523" y="264"/>
                    </a:lnTo>
                    <a:lnTo>
                      <a:pt x="515" y="267"/>
                    </a:lnTo>
                    <a:lnTo>
                      <a:pt x="513" y="265"/>
                    </a:lnTo>
                    <a:lnTo>
                      <a:pt x="504" y="261"/>
                    </a:lnTo>
                    <a:lnTo>
                      <a:pt x="499" y="258"/>
                    </a:lnTo>
                    <a:lnTo>
                      <a:pt x="493" y="255"/>
                    </a:lnTo>
                    <a:lnTo>
                      <a:pt x="488" y="252"/>
                    </a:lnTo>
                    <a:lnTo>
                      <a:pt x="481" y="250"/>
                    </a:lnTo>
                    <a:lnTo>
                      <a:pt x="475" y="247"/>
                    </a:lnTo>
                    <a:lnTo>
                      <a:pt x="468" y="244"/>
                    </a:lnTo>
                    <a:lnTo>
                      <a:pt x="461" y="240"/>
                    </a:lnTo>
                    <a:lnTo>
                      <a:pt x="457" y="239"/>
                    </a:lnTo>
                    <a:lnTo>
                      <a:pt x="447" y="235"/>
                    </a:lnTo>
                    <a:lnTo>
                      <a:pt x="443" y="234"/>
                    </a:lnTo>
                    <a:lnTo>
                      <a:pt x="437" y="236"/>
                    </a:lnTo>
                    <a:lnTo>
                      <a:pt x="434" y="244"/>
                    </a:lnTo>
                    <a:lnTo>
                      <a:pt x="430" y="249"/>
                    </a:lnTo>
                    <a:lnTo>
                      <a:pt x="428" y="255"/>
                    </a:lnTo>
                    <a:lnTo>
                      <a:pt x="426" y="262"/>
                    </a:lnTo>
                    <a:lnTo>
                      <a:pt x="426" y="270"/>
                    </a:lnTo>
                    <a:lnTo>
                      <a:pt x="424" y="276"/>
                    </a:lnTo>
                    <a:lnTo>
                      <a:pt x="425" y="285"/>
                    </a:lnTo>
                    <a:lnTo>
                      <a:pt x="425" y="290"/>
                    </a:lnTo>
                    <a:lnTo>
                      <a:pt x="428" y="299"/>
                    </a:lnTo>
                    <a:lnTo>
                      <a:pt x="431" y="304"/>
                    </a:lnTo>
                    <a:lnTo>
                      <a:pt x="437" y="310"/>
                    </a:lnTo>
                    <a:lnTo>
                      <a:pt x="444" y="314"/>
                    </a:lnTo>
                    <a:lnTo>
                      <a:pt x="452" y="320"/>
                    </a:lnTo>
                    <a:lnTo>
                      <a:pt x="460" y="321"/>
                    </a:lnTo>
                    <a:lnTo>
                      <a:pt x="469" y="323"/>
                    </a:lnTo>
                    <a:lnTo>
                      <a:pt x="477" y="323"/>
                    </a:lnTo>
                    <a:lnTo>
                      <a:pt x="483" y="324"/>
                    </a:lnTo>
                    <a:lnTo>
                      <a:pt x="490" y="323"/>
                    </a:lnTo>
                    <a:lnTo>
                      <a:pt x="496" y="322"/>
                    </a:lnTo>
                    <a:lnTo>
                      <a:pt x="500" y="321"/>
                    </a:lnTo>
                    <a:lnTo>
                      <a:pt x="504" y="320"/>
                    </a:lnTo>
                    <a:lnTo>
                      <a:pt x="511" y="314"/>
                    </a:lnTo>
                    <a:lnTo>
                      <a:pt x="517" y="311"/>
                    </a:lnTo>
                    <a:lnTo>
                      <a:pt x="519" y="308"/>
                    </a:lnTo>
                    <a:lnTo>
                      <a:pt x="521" y="308"/>
                    </a:lnTo>
                    <a:lnTo>
                      <a:pt x="523" y="310"/>
                    </a:lnTo>
                    <a:lnTo>
                      <a:pt x="529" y="317"/>
                    </a:lnTo>
                    <a:lnTo>
                      <a:pt x="532" y="321"/>
                    </a:lnTo>
                    <a:lnTo>
                      <a:pt x="535" y="329"/>
                    </a:lnTo>
                    <a:lnTo>
                      <a:pt x="536" y="338"/>
                    </a:lnTo>
                    <a:lnTo>
                      <a:pt x="538" y="348"/>
                    </a:lnTo>
                    <a:lnTo>
                      <a:pt x="536" y="348"/>
                    </a:lnTo>
                    <a:lnTo>
                      <a:pt x="532" y="351"/>
                    </a:lnTo>
                    <a:lnTo>
                      <a:pt x="528" y="351"/>
                    </a:lnTo>
                    <a:lnTo>
                      <a:pt x="525" y="353"/>
                    </a:lnTo>
                    <a:lnTo>
                      <a:pt x="520" y="355"/>
                    </a:lnTo>
                    <a:lnTo>
                      <a:pt x="514" y="356"/>
                    </a:lnTo>
                    <a:lnTo>
                      <a:pt x="508" y="357"/>
                    </a:lnTo>
                    <a:lnTo>
                      <a:pt x="501" y="359"/>
                    </a:lnTo>
                    <a:lnTo>
                      <a:pt x="492" y="360"/>
                    </a:lnTo>
                    <a:lnTo>
                      <a:pt x="485" y="362"/>
                    </a:lnTo>
                    <a:lnTo>
                      <a:pt x="473" y="362"/>
                    </a:lnTo>
                    <a:lnTo>
                      <a:pt x="464" y="363"/>
                    </a:lnTo>
                    <a:lnTo>
                      <a:pt x="451" y="363"/>
                    </a:lnTo>
                    <a:lnTo>
                      <a:pt x="439" y="363"/>
                    </a:lnTo>
                    <a:lnTo>
                      <a:pt x="429" y="364"/>
                    </a:lnTo>
                    <a:lnTo>
                      <a:pt x="423" y="371"/>
                    </a:lnTo>
                    <a:lnTo>
                      <a:pt x="418" y="375"/>
                    </a:lnTo>
                    <a:lnTo>
                      <a:pt x="415" y="382"/>
                    </a:lnTo>
                    <a:lnTo>
                      <a:pt x="412" y="388"/>
                    </a:lnTo>
                    <a:lnTo>
                      <a:pt x="410" y="396"/>
                    </a:lnTo>
                    <a:lnTo>
                      <a:pt x="407" y="403"/>
                    </a:lnTo>
                    <a:lnTo>
                      <a:pt x="405" y="412"/>
                    </a:lnTo>
                    <a:lnTo>
                      <a:pt x="403" y="419"/>
                    </a:lnTo>
                    <a:lnTo>
                      <a:pt x="402" y="428"/>
                    </a:lnTo>
                    <a:lnTo>
                      <a:pt x="400" y="437"/>
                    </a:lnTo>
                    <a:lnTo>
                      <a:pt x="400" y="446"/>
                    </a:lnTo>
                    <a:lnTo>
                      <a:pt x="400" y="455"/>
                    </a:lnTo>
                    <a:lnTo>
                      <a:pt x="400" y="464"/>
                    </a:lnTo>
                    <a:lnTo>
                      <a:pt x="398" y="472"/>
                    </a:lnTo>
                    <a:lnTo>
                      <a:pt x="396" y="481"/>
                    </a:lnTo>
                    <a:lnTo>
                      <a:pt x="392" y="491"/>
                    </a:lnTo>
                    <a:lnTo>
                      <a:pt x="389" y="503"/>
                    </a:lnTo>
                    <a:lnTo>
                      <a:pt x="383" y="514"/>
                    </a:lnTo>
                    <a:lnTo>
                      <a:pt x="377" y="527"/>
                    </a:lnTo>
                    <a:lnTo>
                      <a:pt x="371" y="538"/>
                    </a:lnTo>
                    <a:lnTo>
                      <a:pt x="365" y="550"/>
                    </a:lnTo>
                    <a:lnTo>
                      <a:pt x="356" y="559"/>
                    </a:lnTo>
                    <a:lnTo>
                      <a:pt x="349" y="569"/>
                    </a:lnTo>
                    <a:lnTo>
                      <a:pt x="340" y="576"/>
                    </a:lnTo>
                    <a:lnTo>
                      <a:pt x="331" y="584"/>
                    </a:lnTo>
                    <a:lnTo>
                      <a:pt x="321" y="587"/>
                    </a:lnTo>
                    <a:lnTo>
                      <a:pt x="312" y="592"/>
                    </a:lnTo>
                    <a:lnTo>
                      <a:pt x="302" y="592"/>
                    </a:lnTo>
                    <a:lnTo>
                      <a:pt x="293" y="591"/>
                    </a:lnTo>
                    <a:lnTo>
                      <a:pt x="282" y="587"/>
                    </a:lnTo>
                    <a:lnTo>
                      <a:pt x="274" y="584"/>
                    </a:lnTo>
                    <a:lnTo>
                      <a:pt x="265" y="580"/>
                    </a:lnTo>
                    <a:lnTo>
                      <a:pt x="259" y="576"/>
                    </a:lnTo>
                    <a:lnTo>
                      <a:pt x="252" y="572"/>
                    </a:lnTo>
                    <a:lnTo>
                      <a:pt x="247" y="568"/>
                    </a:lnTo>
                    <a:lnTo>
                      <a:pt x="241" y="565"/>
                    </a:lnTo>
                    <a:lnTo>
                      <a:pt x="239" y="562"/>
                    </a:lnTo>
                    <a:lnTo>
                      <a:pt x="231" y="554"/>
                    </a:lnTo>
                    <a:lnTo>
                      <a:pt x="228" y="550"/>
                    </a:lnTo>
                    <a:lnTo>
                      <a:pt x="227" y="545"/>
                    </a:lnTo>
                    <a:lnTo>
                      <a:pt x="221" y="561"/>
                    </a:lnTo>
                    <a:lnTo>
                      <a:pt x="223" y="562"/>
                    </a:lnTo>
                    <a:lnTo>
                      <a:pt x="228" y="568"/>
                    </a:lnTo>
                    <a:lnTo>
                      <a:pt x="238" y="575"/>
                    </a:lnTo>
                    <a:lnTo>
                      <a:pt x="251" y="585"/>
                    </a:lnTo>
                    <a:lnTo>
                      <a:pt x="266" y="595"/>
                    </a:lnTo>
                    <a:lnTo>
                      <a:pt x="284" y="607"/>
                    </a:lnTo>
                    <a:lnTo>
                      <a:pt x="304" y="617"/>
                    </a:lnTo>
                    <a:lnTo>
                      <a:pt x="326" y="627"/>
                    </a:lnTo>
                    <a:lnTo>
                      <a:pt x="349" y="634"/>
                    </a:lnTo>
                    <a:lnTo>
                      <a:pt x="373" y="637"/>
                    </a:lnTo>
                    <a:lnTo>
                      <a:pt x="397" y="636"/>
                    </a:lnTo>
                    <a:lnTo>
                      <a:pt x="423" y="633"/>
                    </a:lnTo>
                    <a:lnTo>
                      <a:pt x="446" y="623"/>
                    </a:lnTo>
                    <a:lnTo>
                      <a:pt x="470" y="606"/>
                    </a:lnTo>
                    <a:lnTo>
                      <a:pt x="492" y="583"/>
                    </a:lnTo>
                    <a:lnTo>
                      <a:pt x="515" y="552"/>
                    </a:lnTo>
                    <a:lnTo>
                      <a:pt x="514" y="549"/>
                    </a:lnTo>
                    <a:lnTo>
                      <a:pt x="508" y="544"/>
                    </a:lnTo>
                    <a:lnTo>
                      <a:pt x="503" y="541"/>
                    </a:lnTo>
                    <a:lnTo>
                      <a:pt x="498" y="539"/>
                    </a:lnTo>
                    <a:lnTo>
                      <a:pt x="492" y="535"/>
                    </a:lnTo>
                    <a:lnTo>
                      <a:pt x="487" y="533"/>
                    </a:lnTo>
                    <a:lnTo>
                      <a:pt x="479" y="530"/>
                    </a:lnTo>
                    <a:lnTo>
                      <a:pt x="472" y="527"/>
                    </a:lnTo>
                    <a:lnTo>
                      <a:pt x="467" y="522"/>
                    </a:lnTo>
                    <a:lnTo>
                      <a:pt x="461" y="519"/>
                    </a:lnTo>
                    <a:lnTo>
                      <a:pt x="451" y="511"/>
                    </a:lnTo>
                    <a:lnTo>
                      <a:pt x="446" y="505"/>
                    </a:lnTo>
                    <a:lnTo>
                      <a:pt x="546" y="530"/>
                    </a:lnTo>
                    <a:lnTo>
                      <a:pt x="566" y="468"/>
                    </a:lnTo>
                    <a:lnTo>
                      <a:pt x="569" y="468"/>
                    </a:lnTo>
                    <a:lnTo>
                      <a:pt x="574" y="471"/>
                    </a:lnTo>
                    <a:lnTo>
                      <a:pt x="577" y="472"/>
                    </a:lnTo>
                    <a:lnTo>
                      <a:pt x="583" y="475"/>
                    </a:lnTo>
                    <a:lnTo>
                      <a:pt x="588" y="477"/>
                    </a:lnTo>
                    <a:lnTo>
                      <a:pt x="595" y="480"/>
                    </a:lnTo>
                    <a:lnTo>
                      <a:pt x="599" y="481"/>
                    </a:lnTo>
                    <a:lnTo>
                      <a:pt x="606" y="484"/>
                    </a:lnTo>
                    <a:lnTo>
                      <a:pt x="612" y="485"/>
                    </a:lnTo>
                    <a:lnTo>
                      <a:pt x="617" y="487"/>
                    </a:lnTo>
                    <a:lnTo>
                      <a:pt x="623" y="488"/>
                    </a:lnTo>
                    <a:lnTo>
                      <a:pt x="628" y="489"/>
                    </a:lnTo>
                    <a:lnTo>
                      <a:pt x="634" y="489"/>
                    </a:lnTo>
                    <a:lnTo>
                      <a:pt x="639" y="489"/>
                    </a:lnTo>
                    <a:lnTo>
                      <a:pt x="640" y="486"/>
                    </a:lnTo>
                    <a:lnTo>
                      <a:pt x="643" y="482"/>
                    </a:lnTo>
                    <a:lnTo>
                      <a:pt x="643" y="476"/>
                    </a:lnTo>
                    <a:lnTo>
                      <a:pt x="644" y="469"/>
                    </a:lnTo>
                    <a:lnTo>
                      <a:pt x="641" y="459"/>
                    </a:lnTo>
                    <a:lnTo>
                      <a:pt x="640" y="449"/>
                    </a:lnTo>
                    <a:lnTo>
                      <a:pt x="638" y="439"/>
                    </a:lnTo>
                    <a:lnTo>
                      <a:pt x="636" y="429"/>
                    </a:lnTo>
                    <a:lnTo>
                      <a:pt x="632" y="417"/>
                    </a:lnTo>
                    <a:lnTo>
                      <a:pt x="628" y="407"/>
                    </a:lnTo>
                    <a:lnTo>
                      <a:pt x="626" y="397"/>
                    </a:lnTo>
                    <a:lnTo>
                      <a:pt x="624" y="388"/>
                    </a:lnTo>
                    <a:lnTo>
                      <a:pt x="620" y="378"/>
                    </a:lnTo>
                    <a:lnTo>
                      <a:pt x="618" y="372"/>
                    </a:lnTo>
                    <a:lnTo>
                      <a:pt x="617" y="366"/>
                    </a:lnTo>
                    <a:lnTo>
                      <a:pt x="617" y="364"/>
                    </a:lnTo>
                    <a:lnTo>
                      <a:pt x="617" y="360"/>
                    </a:lnTo>
                    <a:lnTo>
                      <a:pt x="622" y="354"/>
                    </a:lnTo>
                    <a:lnTo>
                      <a:pt x="627" y="346"/>
                    </a:lnTo>
                    <a:lnTo>
                      <a:pt x="635" y="339"/>
                    </a:lnTo>
                    <a:lnTo>
                      <a:pt x="643" y="328"/>
                    </a:lnTo>
                    <a:lnTo>
                      <a:pt x="651" y="315"/>
                    </a:lnTo>
                    <a:lnTo>
                      <a:pt x="661" y="302"/>
                    </a:lnTo>
                    <a:lnTo>
                      <a:pt x="670" y="288"/>
                    </a:lnTo>
                    <a:lnTo>
                      <a:pt x="676" y="271"/>
                    </a:lnTo>
                    <a:lnTo>
                      <a:pt x="682" y="254"/>
                    </a:lnTo>
                    <a:lnTo>
                      <a:pt x="686" y="235"/>
                    </a:lnTo>
                    <a:lnTo>
                      <a:pt x="686" y="216"/>
                    </a:lnTo>
                    <a:lnTo>
                      <a:pt x="684" y="194"/>
                    </a:lnTo>
                    <a:lnTo>
                      <a:pt x="677" y="173"/>
                    </a:lnTo>
                    <a:lnTo>
                      <a:pt x="666" y="151"/>
                    </a:lnTo>
                    <a:lnTo>
                      <a:pt x="651" y="129"/>
                    </a:lnTo>
                    <a:lnTo>
                      <a:pt x="674" y="88"/>
                    </a:lnTo>
                    <a:lnTo>
                      <a:pt x="672" y="86"/>
                    </a:lnTo>
                    <a:lnTo>
                      <a:pt x="670" y="83"/>
                    </a:lnTo>
                    <a:lnTo>
                      <a:pt x="666" y="78"/>
                    </a:lnTo>
                    <a:lnTo>
                      <a:pt x="661" y="73"/>
                    </a:lnTo>
                    <a:lnTo>
                      <a:pt x="654" y="67"/>
                    </a:lnTo>
                    <a:lnTo>
                      <a:pt x="646" y="60"/>
                    </a:lnTo>
                    <a:lnTo>
                      <a:pt x="636" y="52"/>
                    </a:lnTo>
                    <a:lnTo>
                      <a:pt x="626" y="45"/>
                    </a:lnTo>
                    <a:lnTo>
                      <a:pt x="613" y="36"/>
                    </a:lnTo>
                    <a:lnTo>
                      <a:pt x="599" y="29"/>
                    </a:lnTo>
                    <a:lnTo>
                      <a:pt x="584" y="21"/>
                    </a:lnTo>
                    <a:lnTo>
                      <a:pt x="570" y="16"/>
                    </a:lnTo>
                    <a:lnTo>
                      <a:pt x="551" y="9"/>
                    </a:lnTo>
                    <a:lnTo>
                      <a:pt x="533" y="6"/>
                    </a:lnTo>
                    <a:lnTo>
                      <a:pt x="513" y="3"/>
                    </a:lnTo>
                    <a:lnTo>
                      <a:pt x="492" y="3"/>
                    </a:lnTo>
                    <a:lnTo>
                      <a:pt x="496" y="4"/>
                    </a:lnTo>
                    <a:lnTo>
                      <a:pt x="500" y="5"/>
                    </a:lnTo>
                    <a:lnTo>
                      <a:pt x="507" y="8"/>
                    </a:lnTo>
                    <a:lnTo>
                      <a:pt x="513" y="9"/>
                    </a:lnTo>
                    <a:lnTo>
                      <a:pt x="522" y="13"/>
                    </a:lnTo>
                    <a:lnTo>
                      <a:pt x="531" y="17"/>
                    </a:lnTo>
                    <a:lnTo>
                      <a:pt x="541" y="21"/>
                    </a:lnTo>
                    <a:lnTo>
                      <a:pt x="550" y="26"/>
                    </a:lnTo>
                    <a:lnTo>
                      <a:pt x="560" y="31"/>
                    </a:lnTo>
                    <a:lnTo>
                      <a:pt x="570" y="36"/>
                    </a:lnTo>
                    <a:lnTo>
                      <a:pt x="580" y="42"/>
                    </a:lnTo>
                    <a:lnTo>
                      <a:pt x="587" y="48"/>
                    </a:lnTo>
                    <a:lnTo>
                      <a:pt x="596" y="55"/>
                    </a:lnTo>
                    <a:lnTo>
                      <a:pt x="604" y="61"/>
                    </a:lnTo>
                    <a:lnTo>
                      <a:pt x="611" y="69"/>
                    </a:lnTo>
                    <a:lnTo>
                      <a:pt x="607" y="67"/>
                    </a:lnTo>
                    <a:lnTo>
                      <a:pt x="599" y="66"/>
                    </a:lnTo>
                    <a:lnTo>
                      <a:pt x="594" y="63"/>
                    </a:lnTo>
                    <a:lnTo>
                      <a:pt x="588" y="62"/>
                    </a:lnTo>
                    <a:lnTo>
                      <a:pt x="583" y="60"/>
                    </a:lnTo>
                    <a:lnTo>
                      <a:pt x="576" y="59"/>
                    </a:lnTo>
                    <a:lnTo>
                      <a:pt x="570" y="56"/>
                    </a:lnTo>
                    <a:lnTo>
                      <a:pt x="562" y="55"/>
                    </a:lnTo>
                    <a:lnTo>
                      <a:pt x="555" y="53"/>
                    </a:lnTo>
                    <a:lnTo>
                      <a:pt x="549" y="52"/>
                    </a:lnTo>
                    <a:lnTo>
                      <a:pt x="542" y="50"/>
                    </a:lnTo>
                    <a:lnTo>
                      <a:pt x="538" y="49"/>
                    </a:lnTo>
                    <a:lnTo>
                      <a:pt x="531" y="49"/>
                    </a:lnTo>
                    <a:lnTo>
                      <a:pt x="528" y="49"/>
                    </a:lnTo>
                    <a:lnTo>
                      <a:pt x="524" y="62"/>
                    </a:lnTo>
                    <a:lnTo>
                      <a:pt x="527" y="62"/>
                    </a:lnTo>
                    <a:lnTo>
                      <a:pt x="536" y="63"/>
                    </a:lnTo>
                    <a:lnTo>
                      <a:pt x="542" y="63"/>
                    </a:lnTo>
                    <a:lnTo>
                      <a:pt x="549" y="65"/>
                    </a:lnTo>
                    <a:lnTo>
                      <a:pt x="556" y="66"/>
                    </a:lnTo>
                    <a:lnTo>
                      <a:pt x="565" y="68"/>
                    </a:lnTo>
                    <a:lnTo>
                      <a:pt x="573" y="69"/>
                    </a:lnTo>
                    <a:lnTo>
                      <a:pt x="582" y="72"/>
                    </a:lnTo>
                    <a:lnTo>
                      <a:pt x="590" y="76"/>
                    </a:lnTo>
                    <a:lnTo>
                      <a:pt x="597" y="78"/>
                    </a:lnTo>
                    <a:lnTo>
                      <a:pt x="604" y="81"/>
                    </a:lnTo>
                    <a:lnTo>
                      <a:pt x="611" y="86"/>
                    </a:lnTo>
                    <a:lnTo>
                      <a:pt x="616" y="90"/>
                    </a:lnTo>
                    <a:lnTo>
                      <a:pt x="619" y="95"/>
                    </a:lnTo>
                    <a:lnTo>
                      <a:pt x="616" y="93"/>
                    </a:lnTo>
                    <a:lnTo>
                      <a:pt x="606" y="91"/>
                    </a:lnTo>
                    <a:lnTo>
                      <a:pt x="592" y="88"/>
                    </a:lnTo>
                    <a:lnTo>
                      <a:pt x="572" y="84"/>
                    </a:lnTo>
                    <a:lnTo>
                      <a:pt x="549" y="81"/>
                    </a:lnTo>
                    <a:lnTo>
                      <a:pt x="522" y="80"/>
                    </a:lnTo>
                    <a:lnTo>
                      <a:pt x="492" y="82"/>
                    </a:lnTo>
                    <a:lnTo>
                      <a:pt x="461" y="89"/>
                    </a:lnTo>
                    <a:lnTo>
                      <a:pt x="427" y="97"/>
                    </a:lnTo>
                    <a:lnTo>
                      <a:pt x="393" y="112"/>
                    </a:lnTo>
                    <a:lnTo>
                      <a:pt x="358" y="132"/>
                    </a:lnTo>
                    <a:lnTo>
                      <a:pt x="325" y="160"/>
                    </a:lnTo>
                    <a:lnTo>
                      <a:pt x="292" y="194"/>
                    </a:lnTo>
                    <a:lnTo>
                      <a:pt x="262" y="239"/>
                    </a:lnTo>
                    <a:lnTo>
                      <a:pt x="234" y="291"/>
                    </a:lnTo>
                    <a:lnTo>
                      <a:pt x="209" y="356"/>
                    </a:lnTo>
                    <a:lnTo>
                      <a:pt x="208" y="354"/>
                    </a:lnTo>
                    <a:lnTo>
                      <a:pt x="208" y="349"/>
                    </a:lnTo>
                    <a:lnTo>
                      <a:pt x="207" y="341"/>
                    </a:lnTo>
                    <a:lnTo>
                      <a:pt x="208" y="332"/>
                    </a:lnTo>
                    <a:lnTo>
                      <a:pt x="208" y="319"/>
                    </a:lnTo>
                    <a:lnTo>
                      <a:pt x="211" y="304"/>
                    </a:lnTo>
                    <a:lnTo>
                      <a:pt x="215" y="288"/>
                    </a:lnTo>
                    <a:lnTo>
                      <a:pt x="220" y="271"/>
                    </a:lnTo>
                    <a:lnTo>
                      <a:pt x="227" y="252"/>
                    </a:lnTo>
                    <a:lnTo>
                      <a:pt x="237" y="231"/>
                    </a:lnTo>
                    <a:lnTo>
                      <a:pt x="249" y="210"/>
                    </a:lnTo>
                    <a:lnTo>
                      <a:pt x="265" y="191"/>
                    </a:lnTo>
                    <a:lnTo>
                      <a:pt x="283" y="168"/>
                    </a:lnTo>
                    <a:lnTo>
                      <a:pt x="307" y="147"/>
                    </a:lnTo>
                    <a:lnTo>
                      <a:pt x="331" y="125"/>
                    </a:lnTo>
                    <a:lnTo>
                      <a:pt x="363" y="105"/>
                    </a:lnTo>
                    <a:lnTo>
                      <a:pt x="342" y="94"/>
                    </a:lnTo>
                    <a:lnTo>
                      <a:pt x="339" y="95"/>
                    </a:lnTo>
                    <a:lnTo>
                      <a:pt x="333" y="100"/>
                    </a:lnTo>
                    <a:lnTo>
                      <a:pt x="324" y="104"/>
                    </a:lnTo>
                    <a:lnTo>
                      <a:pt x="314" y="113"/>
                    </a:lnTo>
                    <a:lnTo>
                      <a:pt x="301" y="124"/>
                    </a:lnTo>
                    <a:lnTo>
                      <a:pt x="287" y="136"/>
                    </a:lnTo>
                    <a:lnTo>
                      <a:pt x="271" y="152"/>
                    </a:lnTo>
                    <a:lnTo>
                      <a:pt x="255" y="171"/>
                    </a:lnTo>
                    <a:lnTo>
                      <a:pt x="238" y="187"/>
                    </a:lnTo>
                    <a:lnTo>
                      <a:pt x="220" y="208"/>
                    </a:lnTo>
                    <a:lnTo>
                      <a:pt x="205" y="229"/>
                    </a:lnTo>
                    <a:lnTo>
                      <a:pt x="190" y="254"/>
                    </a:lnTo>
                    <a:lnTo>
                      <a:pt x="176" y="278"/>
                    </a:lnTo>
                    <a:lnTo>
                      <a:pt x="165" y="304"/>
                    </a:lnTo>
                    <a:lnTo>
                      <a:pt x="156" y="332"/>
                    </a:lnTo>
                    <a:lnTo>
                      <a:pt x="150" y="361"/>
                    </a:lnTo>
                    <a:lnTo>
                      <a:pt x="150" y="359"/>
                    </a:lnTo>
                    <a:lnTo>
                      <a:pt x="148" y="356"/>
                    </a:lnTo>
                    <a:lnTo>
                      <a:pt x="147" y="349"/>
                    </a:lnTo>
                    <a:lnTo>
                      <a:pt x="146" y="342"/>
                    </a:lnTo>
                    <a:lnTo>
                      <a:pt x="145" y="332"/>
                    </a:lnTo>
                    <a:lnTo>
                      <a:pt x="145" y="321"/>
                    </a:lnTo>
                    <a:lnTo>
                      <a:pt x="146" y="308"/>
                    </a:lnTo>
                    <a:lnTo>
                      <a:pt x="150" y="293"/>
                    </a:lnTo>
                    <a:lnTo>
                      <a:pt x="151" y="277"/>
                    </a:lnTo>
                    <a:lnTo>
                      <a:pt x="156" y="261"/>
                    </a:lnTo>
                    <a:lnTo>
                      <a:pt x="162" y="243"/>
                    </a:lnTo>
                    <a:lnTo>
                      <a:pt x="172" y="226"/>
                    </a:lnTo>
                    <a:lnTo>
                      <a:pt x="183" y="206"/>
                    </a:lnTo>
                    <a:lnTo>
                      <a:pt x="197" y="188"/>
                    </a:lnTo>
                    <a:lnTo>
                      <a:pt x="214" y="170"/>
                    </a:lnTo>
                    <a:lnTo>
                      <a:pt x="235" y="151"/>
                    </a:lnTo>
                    <a:lnTo>
                      <a:pt x="208" y="146"/>
                    </a:lnTo>
                    <a:lnTo>
                      <a:pt x="206" y="146"/>
                    </a:lnTo>
                    <a:lnTo>
                      <a:pt x="204" y="149"/>
                    </a:lnTo>
                    <a:lnTo>
                      <a:pt x="197" y="154"/>
                    </a:lnTo>
                    <a:lnTo>
                      <a:pt x="192" y="161"/>
                    </a:lnTo>
                    <a:lnTo>
                      <a:pt x="183" y="170"/>
                    </a:lnTo>
                    <a:lnTo>
                      <a:pt x="174" y="178"/>
                    </a:lnTo>
                    <a:lnTo>
                      <a:pt x="164" y="189"/>
                    </a:lnTo>
                    <a:lnTo>
                      <a:pt x="154" y="203"/>
                    </a:lnTo>
                    <a:lnTo>
                      <a:pt x="143" y="215"/>
                    </a:lnTo>
                    <a:lnTo>
                      <a:pt x="132" y="229"/>
                    </a:lnTo>
                    <a:lnTo>
                      <a:pt x="122" y="243"/>
                    </a:lnTo>
                    <a:lnTo>
                      <a:pt x="113" y="258"/>
                    </a:lnTo>
                    <a:lnTo>
                      <a:pt x="103" y="273"/>
                    </a:lnTo>
                    <a:lnTo>
                      <a:pt x="96" y="288"/>
                    </a:lnTo>
                    <a:lnTo>
                      <a:pt x="90" y="304"/>
                    </a:lnTo>
                    <a:lnTo>
                      <a:pt x="87" y="321"/>
                    </a:lnTo>
                    <a:lnTo>
                      <a:pt x="85" y="318"/>
                    </a:lnTo>
                    <a:lnTo>
                      <a:pt x="85" y="311"/>
                    </a:lnTo>
                    <a:lnTo>
                      <a:pt x="85" y="300"/>
                    </a:lnTo>
                    <a:lnTo>
                      <a:pt x="87" y="287"/>
                    </a:lnTo>
                    <a:lnTo>
                      <a:pt x="89" y="269"/>
                    </a:lnTo>
                    <a:lnTo>
                      <a:pt x="93" y="250"/>
                    </a:lnTo>
                    <a:lnTo>
                      <a:pt x="101" y="229"/>
                    </a:lnTo>
                    <a:lnTo>
                      <a:pt x="111" y="206"/>
                    </a:lnTo>
                    <a:lnTo>
                      <a:pt x="123" y="182"/>
                    </a:lnTo>
                    <a:lnTo>
                      <a:pt x="140" y="156"/>
                    </a:lnTo>
                    <a:lnTo>
                      <a:pt x="161" y="130"/>
                    </a:lnTo>
                    <a:lnTo>
                      <a:pt x="187" y="105"/>
                    </a:lnTo>
                    <a:lnTo>
                      <a:pt x="218" y="79"/>
                    </a:lnTo>
                    <a:lnTo>
                      <a:pt x="256" y="56"/>
                    </a:lnTo>
                    <a:lnTo>
                      <a:pt x="298" y="32"/>
                    </a:lnTo>
                    <a:lnTo>
                      <a:pt x="350" y="13"/>
                    </a:lnTo>
                    <a:lnTo>
                      <a:pt x="354" y="0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H="1">
                <a:off x="1854000" y="5674320"/>
                <a:ext cx="75240" cy="60480"/>
              </a:xfrm>
              <a:custGeom>
                <a:avLst/>
                <a:gdLst/>
                <a:ahLst/>
                <a:rect l="l" t="t" r="r" b="b"/>
                <a:pathLst>
                  <a:path w="172" h="160">
                    <a:moveTo>
                      <a:pt x="172" y="145"/>
                    </a:moveTo>
                    <a:lnTo>
                      <a:pt x="157" y="138"/>
                    </a:lnTo>
                    <a:lnTo>
                      <a:pt x="142" y="132"/>
                    </a:lnTo>
                    <a:lnTo>
                      <a:pt x="129" y="125"/>
                    </a:lnTo>
                    <a:lnTo>
                      <a:pt x="119" y="120"/>
                    </a:lnTo>
                    <a:lnTo>
                      <a:pt x="108" y="112"/>
                    </a:lnTo>
                    <a:lnTo>
                      <a:pt x="100" y="107"/>
                    </a:lnTo>
                    <a:lnTo>
                      <a:pt x="90" y="100"/>
                    </a:lnTo>
                    <a:lnTo>
                      <a:pt x="84" y="94"/>
                    </a:lnTo>
                    <a:lnTo>
                      <a:pt x="76" y="88"/>
                    </a:lnTo>
                    <a:lnTo>
                      <a:pt x="69" y="80"/>
                    </a:lnTo>
                    <a:lnTo>
                      <a:pt x="63" y="73"/>
                    </a:lnTo>
                    <a:lnTo>
                      <a:pt x="56" y="67"/>
                    </a:lnTo>
                    <a:lnTo>
                      <a:pt x="50" y="60"/>
                    </a:lnTo>
                    <a:lnTo>
                      <a:pt x="43" y="54"/>
                    </a:lnTo>
                    <a:lnTo>
                      <a:pt x="36" y="48"/>
                    </a:lnTo>
                    <a:lnTo>
                      <a:pt x="30" y="43"/>
                    </a:lnTo>
                    <a:lnTo>
                      <a:pt x="30" y="40"/>
                    </a:lnTo>
                    <a:lnTo>
                      <a:pt x="32" y="36"/>
                    </a:lnTo>
                    <a:lnTo>
                      <a:pt x="34" y="33"/>
                    </a:lnTo>
                    <a:lnTo>
                      <a:pt x="39" y="30"/>
                    </a:lnTo>
                    <a:lnTo>
                      <a:pt x="42" y="27"/>
                    </a:lnTo>
                    <a:lnTo>
                      <a:pt x="48" y="25"/>
                    </a:lnTo>
                    <a:lnTo>
                      <a:pt x="54" y="22"/>
                    </a:lnTo>
                    <a:lnTo>
                      <a:pt x="63" y="20"/>
                    </a:lnTo>
                    <a:lnTo>
                      <a:pt x="72" y="19"/>
                    </a:lnTo>
                    <a:lnTo>
                      <a:pt x="83" y="19"/>
                    </a:lnTo>
                    <a:lnTo>
                      <a:pt x="94" y="19"/>
                    </a:lnTo>
                    <a:lnTo>
                      <a:pt x="109" y="22"/>
                    </a:lnTo>
                    <a:lnTo>
                      <a:pt x="125" y="25"/>
                    </a:lnTo>
                    <a:lnTo>
                      <a:pt x="145" y="30"/>
                    </a:lnTo>
                    <a:lnTo>
                      <a:pt x="162" y="15"/>
                    </a:lnTo>
                    <a:lnTo>
                      <a:pt x="160" y="14"/>
                    </a:lnTo>
                    <a:lnTo>
                      <a:pt x="158" y="13"/>
                    </a:lnTo>
                    <a:lnTo>
                      <a:pt x="155" y="10"/>
                    </a:lnTo>
                    <a:lnTo>
                      <a:pt x="149" y="9"/>
                    </a:lnTo>
                    <a:lnTo>
                      <a:pt x="142" y="7"/>
                    </a:lnTo>
                    <a:lnTo>
                      <a:pt x="134" y="5"/>
                    </a:lnTo>
                    <a:lnTo>
                      <a:pt x="124" y="3"/>
                    </a:lnTo>
                    <a:lnTo>
                      <a:pt x="115" y="3"/>
                    </a:lnTo>
                    <a:lnTo>
                      <a:pt x="103" y="0"/>
                    </a:lnTo>
                    <a:lnTo>
                      <a:pt x="90" y="0"/>
                    </a:lnTo>
                    <a:lnTo>
                      <a:pt x="77" y="2"/>
                    </a:lnTo>
                    <a:lnTo>
                      <a:pt x="64" y="5"/>
                    </a:lnTo>
                    <a:lnTo>
                      <a:pt x="47" y="7"/>
                    </a:lnTo>
                    <a:lnTo>
                      <a:pt x="32" y="12"/>
                    </a:lnTo>
                    <a:lnTo>
                      <a:pt x="16" y="18"/>
                    </a:lnTo>
                    <a:lnTo>
                      <a:pt x="0" y="28"/>
                    </a:lnTo>
                    <a:lnTo>
                      <a:pt x="1" y="31"/>
                    </a:lnTo>
                    <a:lnTo>
                      <a:pt x="3" y="35"/>
                    </a:lnTo>
                    <a:lnTo>
                      <a:pt x="8" y="41"/>
                    </a:lnTo>
                    <a:lnTo>
                      <a:pt x="10" y="47"/>
                    </a:lnTo>
                    <a:lnTo>
                      <a:pt x="16" y="55"/>
                    </a:lnTo>
                    <a:lnTo>
                      <a:pt x="22" y="65"/>
                    </a:lnTo>
                    <a:lnTo>
                      <a:pt x="31" y="76"/>
                    </a:lnTo>
                    <a:lnTo>
                      <a:pt x="40" y="85"/>
                    </a:lnTo>
                    <a:lnTo>
                      <a:pt x="51" y="96"/>
                    </a:lnTo>
                    <a:lnTo>
                      <a:pt x="62" y="107"/>
                    </a:lnTo>
                    <a:lnTo>
                      <a:pt x="76" y="119"/>
                    </a:lnTo>
                    <a:lnTo>
                      <a:pt x="89" y="129"/>
                    </a:lnTo>
                    <a:lnTo>
                      <a:pt x="106" y="140"/>
                    </a:lnTo>
                    <a:lnTo>
                      <a:pt x="123" y="150"/>
                    </a:lnTo>
                    <a:lnTo>
                      <a:pt x="142" y="160"/>
                    </a:lnTo>
                    <a:lnTo>
                      <a:pt x="172" y="145"/>
                    </a:lnTo>
                    <a:lnTo>
                      <a:pt x="172" y="145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flipH="1">
                <a:off x="1810440" y="5655240"/>
                <a:ext cx="65160" cy="29520"/>
              </a:xfrm>
              <a:custGeom>
                <a:avLst/>
                <a:gdLst/>
                <a:ahLst/>
                <a:rect l="l" t="t" r="r" b="b"/>
                <a:pathLst>
                  <a:path w="150" h="77">
                    <a:moveTo>
                      <a:pt x="0" y="16"/>
                    </a:moveTo>
                    <a:lnTo>
                      <a:pt x="3" y="16"/>
                    </a:lnTo>
                    <a:lnTo>
                      <a:pt x="8" y="16"/>
                    </a:lnTo>
                    <a:lnTo>
                      <a:pt x="15" y="16"/>
                    </a:lnTo>
                    <a:lnTo>
                      <a:pt x="23" y="16"/>
                    </a:lnTo>
                    <a:lnTo>
                      <a:pt x="33" y="17"/>
                    </a:lnTo>
                    <a:lnTo>
                      <a:pt x="42" y="19"/>
                    </a:lnTo>
                    <a:lnTo>
                      <a:pt x="54" y="22"/>
                    </a:lnTo>
                    <a:lnTo>
                      <a:pt x="65" y="23"/>
                    </a:lnTo>
                    <a:lnTo>
                      <a:pt x="76" y="27"/>
                    </a:lnTo>
                    <a:lnTo>
                      <a:pt x="87" y="33"/>
                    </a:lnTo>
                    <a:lnTo>
                      <a:pt x="99" y="38"/>
                    </a:lnTo>
                    <a:lnTo>
                      <a:pt x="109" y="45"/>
                    </a:lnTo>
                    <a:lnTo>
                      <a:pt x="119" y="55"/>
                    </a:lnTo>
                    <a:lnTo>
                      <a:pt x="128" y="64"/>
                    </a:lnTo>
                    <a:lnTo>
                      <a:pt x="137" y="77"/>
                    </a:lnTo>
                    <a:lnTo>
                      <a:pt x="150" y="57"/>
                    </a:lnTo>
                    <a:lnTo>
                      <a:pt x="148" y="53"/>
                    </a:lnTo>
                    <a:lnTo>
                      <a:pt x="140" y="45"/>
                    </a:lnTo>
                    <a:lnTo>
                      <a:pt x="134" y="40"/>
                    </a:lnTo>
                    <a:lnTo>
                      <a:pt x="128" y="34"/>
                    </a:lnTo>
                    <a:lnTo>
                      <a:pt x="121" y="30"/>
                    </a:lnTo>
                    <a:lnTo>
                      <a:pt x="113" y="24"/>
                    </a:lnTo>
                    <a:lnTo>
                      <a:pt x="102" y="19"/>
                    </a:lnTo>
                    <a:lnTo>
                      <a:pt x="91" y="13"/>
                    </a:lnTo>
                    <a:lnTo>
                      <a:pt x="79" y="9"/>
                    </a:lnTo>
                    <a:lnTo>
                      <a:pt x="66" y="4"/>
                    </a:lnTo>
                    <a:lnTo>
                      <a:pt x="50" y="1"/>
                    </a:lnTo>
                    <a:lnTo>
                      <a:pt x="35" y="0"/>
                    </a:lnTo>
                    <a:lnTo>
                      <a:pt x="18" y="0"/>
                    </a:lnTo>
                    <a:lnTo>
                      <a:pt x="1" y="2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H="1">
                <a:off x="1791360" y="5737680"/>
                <a:ext cx="402480" cy="284400"/>
              </a:xfrm>
              <a:custGeom>
                <a:avLst/>
                <a:gdLst/>
                <a:ahLst/>
                <a:rect l="l" t="t" r="r" b="b"/>
                <a:pathLst>
                  <a:path w="925" h="750">
                    <a:moveTo>
                      <a:pt x="783" y="423"/>
                    </a:moveTo>
                    <a:lnTo>
                      <a:pt x="691" y="458"/>
                    </a:lnTo>
                    <a:lnTo>
                      <a:pt x="606" y="421"/>
                    </a:lnTo>
                    <a:lnTo>
                      <a:pt x="607" y="418"/>
                    </a:lnTo>
                    <a:lnTo>
                      <a:pt x="613" y="416"/>
                    </a:lnTo>
                    <a:lnTo>
                      <a:pt x="621" y="411"/>
                    </a:lnTo>
                    <a:lnTo>
                      <a:pt x="632" y="405"/>
                    </a:lnTo>
                    <a:lnTo>
                      <a:pt x="643" y="396"/>
                    </a:lnTo>
                    <a:lnTo>
                      <a:pt x="659" y="387"/>
                    </a:lnTo>
                    <a:lnTo>
                      <a:pt x="672" y="376"/>
                    </a:lnTo>
                    <a:lnTo>
                      <a:pt x="689" y="365"/>
                    </a:lnTo>
                    <a:lnTo>
                      <a:pt x="703" y="351"/>
                    </a:lnTo>
                    <a:lnTo>
                      <a:pt x="717" y="338"/>
                    </a:lnTo>
                    <a:lnTo>
                      <a:pt x="730" y="321"/>
                    </a:lnTo>
                    <a:lnTo>
                      <a:pt x="741" y="304"/>
                    </a:lnTo>
                    <a:lnTo>
                      <a:pt x="751" y="286"/>
                    </a:lnTo>
                    <a:lnTo>
                      <a:pt x="756" y="267"/>
                    </a:lnTo>
                    <a:lnTo>
                      <a:pt x="758" y="247"/>
                    </a:lnTo>
                    <a:lnTo>
                      <a:pt x="757" y="226"/>
                    </a:lnTo>
                    <a:lnTo>
                      <a:pt x="726" y="235"/>
                    </a:lnTo>
                    <a:lnTo>
                      <a:pt x="727" y="238"/>
                    </a:lnTo>
                    <a:lnTo>
                      <a:pt x="727" y="244"/>
                    </a:lnTo>
                    <a:lnTo>
                      <a:pt x="728" y="251"/>
                    </a:lnTo>
                    <a:lnTo>
                      <a:pt x="727" y="259"/>
                    </a:lnTo>
                    <a:lnTo>
                      <a:pt x="726" y="270"/>
                    </a:lnTo>
                    <a:lnTo>
                      <a:pt x="722" y="281"/>
                    </a:lnTo>
                    <a:lnTo>
                      <a:pt x="718" y="296"/>
                    </a:lnTo>
                    <a:lnTo>
                      <a:pt x="711" y="308"/>
                    </a:lnTo>
                    <a:lnTo>
                      <a:pt x="702" y="323"/>
                    </a:lnTo>
                    <a:lnTo>
                      <a:pt x="689" y="338"/>
                    </a:lnTo>
                    <a:lnTo>
                      <a:pt x="673" y="352"/>
                    </a:lnTo>
                    <a:lnTo>
                      <a:pt x="653" y="366"/>
                    </a:lnTo>
                    <a:lnTo>
                      <a:pt x="630" y="381"/>
                    </a:lnTo>
                    <a:lnTo>
                      <a:pt x="601" y="394"/>
                    </a:lnTo>
                    <a:lnTo>
                      <a:pt x="569" y="408"/>
                    </a:lnTo>
                    <a:lnTo>
                      <a:pt x="535" y="400"/>
                    </a:lnTo>
                    <a:lnTo>
                      <a:pt x="627" y="308"/>
                    </a:lnTo>
                    <a:lnTo>
                      <a:pt x="612" y="292"/>
                    </a:lnTo>
                    <a:lnTo>
                      <a:pt x="609" y="293"/>
                    </a:lnTo>
                    <a:lnTo>
                      <a:pt x="604" y="298"/>
                    </a:lnTo>
                    <a:lnTo>
                      <a:pt x="596" y="306"/>
                    </a:lnTo>
                    <a:lnTo>
                      <a:pt x="585" y="317"/>
                    </a:lnTo>
                    <a:lnTo>
                      <a:pt x="570" y="328"/>
                    </a:lnTo>
                    <a:lnTo>
                      <a:pt x="553" y="342"/>
                    </a:lnTo>
                    <a:lnTo>
                      <a:pt x="533" y="358"/>
                    </a:lnTo>
                    <a:lnTo>
                      <a:pt x="512" y="373"/>
                    </a:lnTo>
                    <a:lnTo>
                      <a:pt x="486" y="387"/>
                    </a:lnTo>
                    <a:lnTo>
                      <a:pt x="460" y="403"/>
                    </a:lnTo>
                    <a:lnTo>
                      <a:pt x="431" y="416"/>
                    </a:lnTo>
                    <a:lnTo>
                      <a:pt x="401" y="429"/>
                    </a:lnTo>
                    <a:lnTo>
                      <a:pt x="369" y="439"/>
                    </a:lnTo>
                    <a:lnTo>
                      <a:pt x="336" y="447"/>
                    </a:lnTo>
                    <a:lnTo>
                      <a:pt x="302" y="453"/>
                    </a:lnTo>
                    <a:lnTo>
                      <a:pt x="266" y="455"/>
                    </a:lnTo>
                    <a:lnTo>
                      <a:pt x="96" y="318"/>
                    </a:lnTo>
                    <a:lnTo>
                      <a:pt x="98" y="316"/>
                    </a:lnTo>
                    <a:lnTo>
                      <a:pt x="105" y="312"/>
                    </a:lnTo>
                    <a:lnTo>
                      <a:pt x="115" y="306"/>
                    </a:lnTo>
                    <a:lnTo>
                      <a:pt x="129" y="298"/>
                    </a:lnTo>
                    <a:lnTo>
                      <a:pt x="146" y="286"/>
                    </a:lnTo>
                    <a:lnTo>
                      <a:pt x="164" y="274"/>
                    </a:lnTo>
                    <a:lnTo>
                      <a:pt x="182" y="258"/>
                    </a:lnTo>
                    <a:lnTo>
                      <a:pt x="203" y="243"/>
                    </a:lnTo>
                    <a:lnTo>
                      <a:pt x="220" y="223"/>
                    </a:lnTo>
                    <a:lnTo>
                      <a:pt x="238" y="201"/>
                    </a:lnTo>
                    <a:lnTo>
                      <a:pt x="253" y="177"/>
                    </a:lnTo>
                    <a:lnTo>
                      <a:pt x="267" y="153"/>
                    </a:lnTo>
                    <a:lnTo>
                      <a:pt x="276" y="126"/>
                    </a:lnTo>
                    <a:lnTo>
                      <a:pt x="283" y="98"/>
                    </a:lnTo>
                    <a:lnTo>
                      <a:pt x="284" y="68"/>
                    </a:lnTo>
                    <a:lnTo>
                      <a:pt x="280" y="37"/>
                    </a:lnTo>
                    <a:lnTo>
                      <a:pt x="381" y="32"/>
                    </a:lnTo>
                    <a:lnTo>
                      <a:pt x="379" y="29"/>
                    </a:lnTo>
                    <a:lnTo>
                      <a:pt x="375" y="24"/>
                    </a:lnTo>
                    <a:lnTo>
                      <a:pt x="369" y="19"/>
                    </a:lnTo>
                    <a:lnTo>
                      <a:pt x="365" y="16"/>
                    </a:lnTo>
                    <a:lnTo>
                      <a:pt x="358" y="13"/>
                    </a:lnTo>
                    <a:lnTo>
                      <a:pt x="353" y="9"/>
                    </a:lnTo>
                    <a:lnTo>
                      <a:pt x="342" y="5"/>
                    </a:lnTo>
                    <a:lnTo>
                      <a:pt x="332" y="3"/>
                    </a:lnTo>
                    <a:lnTo>
                      <a:pt x="319" y="0"/>
                    </a:lnTo>
                    <a:lnTo>
                      <a:pt x="307" y="0"/>
                    </a:lnTo>
                    <a:lnTo>
                      <a:pt x="292" y="0"/>
                    </a:lnTo>
                    <a:lnTo>
                      <a:pt x="275" y="3"/>
                    </a:lnTo>
                    <a:lnTo>
                      <a:pt x="258" y="6"/>
                    </a:lnTo>
                    <a:lnTo>
                      <a:pt x="238" y="14"/>
                    </a:lnTo>
                    <a:lnTo>
                      <a:pt x="215" y="19"/>
                    </a:lnTo>
                    <a:lnTo>
                      <a:pt x="197" y="26"/>
                    </a:lnTo>
                    <a:lnTo>
                      <a:pt x="179" y="32"/>
                    </a:lnTo>
                    <a:lnTo>
                      <a:pt x="162" y="39"/>
                    </a:lnTo>
                    <a:lnTo>
                      <a:pt x="147" y="47"/>
                    </a:lnTo>
                    <a:lnTo>
                      <a:pt x="134" y="54"/>
                    </a:lnTo>
                    <a:lnTo>
                      <a:pt x="122" y="60"/>
                    </a:lnTo>
                    <a:lnTo>
                      <a:pt x="112" y="68"/>
                    </a:lnTo>
                    <a:lnTo>
                      <a:pt x="101" y="72"/>
                    </a:lnTo>
                    <a:lnTo>
                      <a:pt x="92" y="79"/>
                    </a:lnTo>
                    <a:lnTo>
                      <a:pt x="85" y="84"/>
                    </a:lnTo>
                    <a:lnTo>
                      <a:pt x="80" y="89"/>
                    </a:lnTo>
                    <a:lnTo>
                      <a:pt x="72" y="96"/>
                    </a:lnTo>
                    <a:lnTo>
                      <a:pt x="70" y="98"/>
                    </a:lnTo>
                    <a:lnTo>
                      <a:pt x="67" y="98"/>
                    </a:lnTo>
                    <a:lnTo>
                      <a:pt x="65" y="102"/>
                    </a:lnTo>
                    <a:lnTo>
                      <a:pt x="59" y="107"/>
                    </a:lnTo>
                    <a:lnTo>
                      <a:pt x="54" y="117"/>
                    </a:lnTo>
                    <a:lnTo>
                      <a:pt x="45" y="125"/>
                    </a:lnTo>
                    <a:lnTo>
                      <a:pt x="39" y="139"/>
                    </a:lnTo>
                    <a:lnTo>
                      <a:pt x="31" y="153"/>
                    </a:lnTo>
                    <a:lnTo>
                      <a:pt x="23" y="170"/>
                    </a:lnTo>
                    <a:lnTo>
                      <a:pt x="15" y="187"/>
                    </a:lnTo>
                    <a:lnTo>
                      <a:pt x="10" y="208"/>
                    </a:lnTo>
                    <a:lnTo>
                      <a:pt x="4" y="230"/>
                    </a:lnTo>
                    <a:lnTo>
                      <a:pt x="2" y="256"/>
                    </a:lnTo>
                    <a:lnTo>
                      <a:pt x="0" y="280"/>
                    </a:lnTo>
                    <a:lnTo>
                      <a:pt x="2" y="309"/>
                    </a:lnTo>
                    <a:lnTo>
                      <a:pt x="7" y="339"/>
                    </a:lnTo>
                    <a:lnTo>
                      <a:pt x="14" y="370"/>
                    </a:lnTo>
                    <a:lnTo>
                      <a:pt x="15" y="373"/>
                    </a:lnTo>
                    <a:lnTo>
                      <a:pt x="18" y="377"/>
                    </a:lnTo>
                    <a:lnTo>
                      <a:pt x="21" y="385"/>
                    </a:lnTo>
                    <a:lnTo>
                      <a:pt x="23" y="393"/>
                    </a:lnTo>
                    <a:lnTo>
                      <a:pt x="30" y="402"/>
                    </a:lnTo>
                    <a:lnTo>
                      <a:pt x="34" y="412"/>
                    </a:lnTo>
                    <a:lnTo>
                      <a:pt x="43" y="424"/>
                    </a:lnTo>
                    <a:lnTo>
                      <a:pt x="49" y="435"/>
                    </a:lnTo>
                    <a:lnTo>
                      <a:pt x="57" y="447"/>
                    </a:lnTo>
                    <a:lnTo>
                      <a:pt x="66" y="459"/>
                    </a:lnTo>
                    <a:lnTo>
                      <a:pt x="77" y="473"/>
                    </a:lnTo>
                    <a:lnTo>
                      <a:pt x="87" y="484"/>
                    </a:lnTo>
                    <a:lnTo>
                      <a:pt x="99" y="495"/>
                    </a:lnTo>
                    <a:lnTo>
                      <a:pt x="112" y="505"/>
                    </a:lnTo>
                    <a:lnTo>
                      <a:pt x="126" y="515"/>
                    </a:lnTo>
                    <a:lnTo>
                      <a:pt x="321" y="596"/>
                    </a:lnTo>
                    <a:lnTo>
                      <a:pt x="322" y="599"/>
                    </a:lnTo>
                    <a:lnTo>
                      <a:pt x="326" y="606"/>
                    </a:lnTo>
                    <a:lnTo>
                      <a:pt x="328" y="612"/>
                    </a:lnTo>
                    <a:lnTo>
                      <a:pt x="330" y="617"/>
                    </a:lnTo>
                    <a:lnTo>
                      <a:pt x="335" y="624"/>
                    </a:lnTo>
                    <a:lnTo>
                      <a:pt x="340" y="631"/>
                    </a:lnTo>
                    <a:lnTo>
                      <a:pt x="344" y="637"/>
                    </a:lnTo>
                    <a:lnTo>
                      <a:pt x="350" y="644"/>
                    </a:lnTo>
                    <a:lnTo>
                      <a:pt x="356" y="651"/>
                    </a:lnTo>
                    <a:lnTo>
                      <a:pt x="363" y="656"/>
                    </a:lnTo>
                    <a:lnTo>
                      <a:pt x="368" y="660"/>
                    </a:lnTo>
                    <a:lnTo>
                      <a:pt x="375" y="664"/>
                    </a:lnTo>
                    <a:lnTo>
                      <a:pt x="381" y="667"/>
                    </a:lnTo>
                    <a:lnTo>
                      <a:pt x="389" y="670"/>
                    </a:lnTo>
                    <a:lnTo>
                      <a:pt x="390" y="673"/>
                    </a:lnTo>
                    <a:lnTo>
                      <a:pt x="396" y="681"/>
                    </a:lnTo>
                    <a:lnTo>
                      <a:pt x="398" y="687"/>
                    </a:lnTo>
                    <a:lnTo>
                      <a:pt x="402" y="694"/>
                    </a:lnTo>
                    <a:lnTo>
                      <a:pt x="407" y="700"/>
                    </a:lnTo>
                    <a:lnTo>
                      <a:pt x="412" y="709"/>
                    </a:lnTo>
                    <a:lnTo>
                      <a:pt x="417" y="715"/>
                    </a:lnTo>
                    <a:lnTo>
                      <a:pt x="421" y="721"/>
                    </a:lnTo>
                    <a:lnTo>
                      <a:pt x="427" y="728"/>
                    </a:lnTo>
                    <a:lnTo>
                      <a:pt x="432" y="735"/>
                    </a:lnTo>
                    <a:lnTo>
                      <a:pt x="437" y="740"/>
                    </a:lnTo>
                    <a:lnTo>
                      <a:pt x="442" y="744"/>
                    </a:lnTo>
                    <a:lnTo>
                      <a:pt x="445" y="747"/>
                    </a:lnTo>
                    <a:lnTo>
                      <a:pt x="451" y="750"/>
                    </a:lnTo>
                    <a:lnTo>
                      <a:pt x="456" y="750"/>
                    </a:lnTo>
                    <a:lnTo>
                      <a:pt x="463" y="750"/>
                    </a:lnTo>
                    <a:lnTo>
                      <a:pt x="468" y="749"/>
                    </a:lnTo>
                    <a:lnTo>
                      <a:pt x="471" y="747"/>
                    </a:lnTo>
                    <a:lnTo>
                      <a:pt x="473" y="743"/>
                    </a:lnTo>
                    <a:lnTo>
                      <a:pt x="474" y="738"/>
                    </a:lnTo>
                    <a:lnTo>
                      <a:pt x="473" y="731"/>
                    </a:lnTo>
                    <a:lnTo>
                      <a:pt x="471" y="723"/>
                    </a:lnTo>
                    <a:lnTo>
                      <a:pt x="469" y="718"/>
                    </a:lnTo>
                    <a:lnTo>
                      <a:pt x="468" y="712"/>
                    </a:lnTo>
                    <a:lnTo>
                      <a:pt x="465" y="707"/>
                    </a:lnTo>
                    <a:lnTo>
                      <a:pt x="463" y="701"/>
                    </a:lnTo>
                    <a:lnTo>
                      <a:pt x="460" y="695"/>
                    </a:lnTo>
                    <a:lnTo>
                      <a:pt x="458" y="688"/>
                    </a:lnTo>
                    <a:lnTo>
                      <a:pt x="455" y="683"/>
                    </a:lnTo>
                    <a:lnTo>
                      <a:pt x="454" y="676"/>
                    </a:lnTo>
                    <a:lnTo>
                      <a:pt x="451" y="670"/>
                    </a:lnTo>
                    <a:lnTo>
                      <a:pt x="449" y="664"/>
                    </a:lnTo>
                    <a:lnTo>
                      <a:pt x="447" y="659"/>
                    </a:lnTo>
                    <a:lnTo>
                      <a:pt x="445" y="656"/>
                    </a:lnTo>
                    <a:lnTo>
                      <a:pt x="443" y="651"/>
                    </a:lnTo>
                    <a:lnTo>
                      <a:pt x="443" y="648"/>
                    </a:lnTo>
                    <a:lnTo>
                      <a:pt x="443" y="646"/>
                    </a:lnTo>
                    <a:lnTo>
                      <a:pt x="444" y="645"/>
                    </a:lnTo>
                    <a:lnTo>
                      <a:pt x="447" y="643"/>
                    </a:lnTo>
                    <a:lnTo>
                      <a:pt x="453" y="645"/>
                    </a:lnTo>
                    <a:lnTo>
                      <a:pt x="454" y="645"/>
                    </a:lnTo>
                    <a:lnTo>
                      <a:pt x="456" y="649"/>
                    </a:lnTo>
                    <a:lnTo>
                      <a:pt x="460" y="653"/>
                    </a:lnTo>
                    <a:lnTo>
                      <a:pt x="464" y="660"/>
                    </a:lnTo>
                    <a:lnTo>
                      <a:pt x="468" y="666"/>
                    </a:lnTo>
                    <a:lnTo>
                      <a:pt x="472" y="674"/>
                    </a:lnTo>
                    <a:lnTo>
                      <a:pt x="479" y="683"/>
                    </a:lnTo>
                    <a:lnTo>
                      <a:pt x="484" y="691"/>
                    </a:lnTo>
                    <a:lnTo>
                      <a:pt x="490" y="698"/>
                    </a:lnTo>
                    <a:lnTo>
                      <a:pt x="495" y="707"/>
                    </a:lnTo>
                    <a:lnTo>
                      <a:pt x="501" y="712"/>
                    </a:lnTo>
                    <a:lnTo>
                      <a:pt x="508" y="720"/>
                    </a:lnTo>
                    <a:lnTo>
                      <a:pt x="514" y="723"/>
                    </a:lnTo>
                    <a:lnTo>
                      <a:pt x="522" y="727"/>
                    </a:lnTo>
                    <a:lnTo>
                      <a:pt x="527" y="729"/>
                    </a:lnTo>
                    <a:lnTo>
                      <a:pt x="535" y="729"/>
                    </a:lnTo>
                    <a:lnTo>
                      <a:pt x="538" y="725"/>
                    </a:lnTo>
                    <a:lnTo>
                      <a:pt x="542" y="720"/>
                    </a:lnTo>
                    <a:lnTo>
                      <a:pt x="543" y="712"/>
                    </a:lnTo>
                    <a:lnTo>
                      <a:pt x="544" y="706"/>
                    </a:lnTo>
                    <a:lnTo>
                      <a:pt x="542" y="697"/>
                    </a:lnTo>
                    <a:lnTo>
                      <a:pt x="541" y="688"/>
                    </a:lnTo>
                    <a:lnTo>
                      <a:pt x="537" y="679"/>
                    </a:lnTo>
                    <a:lnTo>
                      <a:pt x="535" y="672"/>
                    </a:lnTo>
                    <a:lnTo>
                      <a:pt x="531" y="663"/>
                    </a:lnTo>
                    <a:lnTo>
                      <a:pt x="526" y="653"/>
                    </a:lnTo>
                    <a:lnTo>
                      <a:pt x="523" y="645"/>
                    </a:lnTo>
                    <a:lnTo>
                      <a:pt x="520" y="639"/>
                    </a:lnTo>
                    <a:lnTo>
                      <a:pt x="516" y="632"/>
                    </a:lnTo>
                    <a:lnTo>
                      <a:pt x="514" y="628"/>
                    </a:lnTo>
                    <a:lnTo>
                      <a:pt x="513" y="625"/>
                    </a:lnTo>
                    <a:lnTo>
                      <a:pt x="514" y="625"/>
                    </a:lnTo>
                    <a:lnTo>
                      <a:pt x="520" y="630"/>
                    </a:lnTo>
                    <a:lnTo>
                      <a:pt x="527" y="633"/>
                    </a:lnTo>
                    <a:lnTo>
                      <a:pt x="537" y="639"/>
                    </a:lnTo>
                    <a:lnTo>
                      <a:pt x="546" y="645"/>
                    </a:lnTo>
                    <a:lnTo>
                      <a:pt x="556" y="652"/>
                    </a:lnTo>
                    <a:lnTo>
                      <a:pt x="564" y="657"/>
                    </a:lnTo>
                    <a:lnTo>
                      <a:pt x="569" y="663"/>
                    </a:lnTo>
                    <a:lnTo>
                      <a:pt x="571" y="666"/>
                    </a:lnTo>
                    <a:lnTo>
                      <a:pt x="578" y="670"/>
                    </a:lnTo>
                    <a:lnTo>
                      <a:pt x="585" y="674"/>
                    </a:lnTo>
                    <a:lnTo>
                      <a:pt x="592" y="676"/>
                    </a:lnTo>
                    <a:lnTo>
                      <a:pt x="600" y="677"/>
                    </a:lnTo>
                    <a:lnTo>
                      <a:pt x="607" y="678"/>
                    </a:lnTo>
                    <a:lnTo>
                      <a:pt x="612" y="677"/>
                    </a:lnTo>
                    <a:lnTo>
                      <a:pt x="617" y="676"/>
                    </a:lnTo>
                    <a:lnTo>
                      <a:pt x="617" y="674"/>
                    </a:lnTo>
                    <a:lnTo>
                      <a:pt x="617" y="669"/>
                    </a:lnTo>
                    <a:lnTo>
                      <a:pt x="615" y="663"/>
                    </a:lnTo>
                    <a:lnTo>
                      <a:pt x="612" y="658"/>
                    </a:lnTo>
                    <a:lnTo>
                      <a:pt x="607" y="649"/>
                    </a:lnTo>
                    <a:lnTo>
                      <a:pt x="604" y="641"/>
                    </a:lnTo>
                    <a:lnTo>
                      <a:pt x="597" y="631"/>
                    </a:lnTo>
                    <a:lnTo>
                      <a:pt x="592" y="622"/>
                    </a:lnTo>
                    <a:lnTo>
                      <a:pt x="585" y="611"/>
                    </a:lnTo>
                    <a:lnTo>
                      <a:pt x="578" y="602"/>
                    </a:lnTo>
                    <a:lnTo>
                      <a:pt x="570" y="592"/>
                    </a:lnTo>
                    <a:lnTo>
                      <a:pt x="564" y="582"/>
                    </a:lnTo>
                    <a:lnTo>
                      <a:pt x="557" y="573"/>
                    </a:lnTo>
                    <a:lnTo>
                      <a:pt x="550" y="566"/>
                    </a:lnTo>
                    <a:lnTo>
                      <a:pt x="545" y="560"/>
                    </a:lnTo>
                    <a:lnTo>
                      <a:pt x="539" y="557"/>
                    </a:lnTo>
                    <a:lnTo>
                      <a:pt x="534" y="551"/>
                    </a:lnTo>
                    <a:lnTo>
                      <a:pt x="527" y="549"/>
                    </a:lnTo>
                    <a:lnTo>
                      <a:pt x="523" y="547"/>
                    </a:lnTo>
                    <a:lnTo>
                      <a:pt x="518" y="547"/>
                    </a:lnTo>
                    <a:lnTo>
                      <a:pt x="511" y="547"/>
                    </a:lnTo>
                    <a:lnTo>
                      <a:pt x="505" y="551"/>
                    </a:lnTo>
                    <a:lnTo>
                      <a:pt x="501" y="555"/>
                    </a:lnTo>
                    <a:lnTo>
                      <a:pt x="497" y="560"/>
                    </a:lnTo>
                    <a:lnTo>
                      <a:pt x="496" y="563"/>
                    </a:lnTo>
                    <a:lnTo>
                      <a:pt x="496" y="565"/>
                    </a:lnTo>
                    <a:lnTo>
                      <a:pt x="484" y="571"/>
                    </a:lnTo>
                    <a:lnTo>
                      <a:pt x="481" y="566"/>
                    </a:lnTo>
                    <a:lnTo>
                      <a:pt x="474" y="559"/>
                    </a:lnTo>
                    <a:lnTo>
                      <a:pt x="469" y="554"/>
                    </a:lnTo>
                    <a:lnTo>
                      <a:pt x="464" y="551"/>
                    </a:lnTo>
                    <a:lnTo>
                      <a:pt x="459" y="549"/>
                    </a:lnTo>
                    <a:lnTo>
                      <a:pt x="454" y="550"/>
                    </a:lnTo>
                    <a:lnTo>
                      <a:pt x="443" y="555"/>
                    </a:lnTo>
                    <a:lnTo>
                      <a:pt x="438" y="564"/>
                    </a:lnTo>
                    <a:lnTo>
                      <a:pt x="433" y="571"/>
                    </a:lnTo>
                    <a:lnTo>
                      <a:pt x="432" y="575"/>
                    </a:lnTo>
                    <a:lnTo>
                      <a:pt x="358" y="524"/>
                    </a:lnTo>
                    <a:lnTo>
                      <a:pt x="451" y="497"/>
                    </a:lnTo>
                    <a:lnTo>
                      <a:pt x="625" y="522"/>
                    </a:lnTo>
                    <a:lnTo>
                      <a:pt x="623" y="522"/>
                    </a:lnTo>
                    <a:lnTo>
                      <a:pt x="622" y="526"/>
                    </a:lnTo>
                    <a:lnTo>
                      <a:pt x="621" y="530"/>
                    </a:lnTo>
                    <a:lnTo>
                      <a:pt x="620" y="536"/>
                    </a:lnTo>
                    <a:lnTo>
                      <a:pt x="619" y="541"/>
                    </a:lnTo>
                    <a:lnTo>
                      <a:pt x="618" y="547"/>
                    </a:lnTo>
                    <a:lnTo>
                      <a:pt x="618" y="551"/>
                    </a:lnTo>
                    <a:lnTo>
                      <a:pt x="619" y="557"/>
                    </a:lnTo>
                    <a:lnTo>
                      <a:pt x="621" y="560"/>
                    </a:lnTo>
                    <a:lnTo>
                      <a:pt x="627" y="569"/>
                    </a:lnTo>
                    <a:lnTo>
                      <a:pt x="636" y="576"/>
                    </a:lnTo>
                    <a:lnTo>
                      <a:pt x="646" y="586"/>
                    </a:lnTo>
                    <a:lnTo>
                      <a:pt x="654" y="594"/>
                    </a:lnTo>
                    <a:lnTo>
                      <a:pt x="664" y="603"/>
                    </a:lnTo>
                    <a:lnTo>
                      <a:pt x="672" y="609"/>
                    </a:lnTo>
                    <a:lnTo>
                      <a:pt x="681" y="614"/>
                    </a:lnTo>
                    <a:lnTo>
                      <a:pt x="685" y="614"/>
                    </a:lnTo>
                    <a:lnTo>
                      <a:pt x="692" y="614"/>
                    </a:lnTo>
                    <a:lnTo>
                      <a:pt x="696" y="611"/>
                    </a:lnTo>
                    <a:lnTo>
                      <a:pt x="701" y="607"/>
                    </a:lnTo>
                    <a:lnTo>
                      <a:pt x="700" y="601"/>
                    </a:lnTo>
                    <a:lnTo>
                      <a:pt x="695" y="592"/>
                    </a:lnTo>
                    <a:lnTo>
                      <a:pt x="692" y="585"/>
                    </a:lnTo>
                    <a:lnTo>
                      <a:pt x="686" y="581"/>
                    </a:lnTo>
                    <a:lnTo>
                      <a:pt x="680" y="573"/>
                    </a:lnTo>
                    <a:lnTo>
                      <a:pt x="672" y="566"/>
                    </a:lnTo>
                    <a:lnTo>
                      <a:pt x="695" y="550"/>
                    </a:lnTo>
                    <a:lnTo>
                      <a:pt x="699" y="551"/>
                    </a:lnTo>
                    <a:lnTo>
                      <a:pt x="703" y="553"/>
                    </a:lnTo>
                    <a:lnTo>
                      <a:pt x="709" y="557"/>
                    </a:lnTo>
                    <a:lnTo>
                      <a:pt x="715" y="559"/>
                    </a:lnTo>
                    <a:lnTo>
                      <a:pt x="723" y="563"/>
                    </a:lnTo>
                    <a:lnTo>
                      <a:pt x="732" y="568"/>
                    </a:lnTo>
                    <a:lnTo>
                      <a:pt x="741" y="572"/>
                    </a:lnTo>
                    <a:lnTo>
                      <a:pt x="749" y="576"/>
                    </a:lnTo>
                    <a:lnTo>
                      <a:pt x="758" y="581"/>
                    </a:lnTo>
                    <a:lnTo>
                      <a:pt x="766" y="584"/>
                    </a:lnTo>
                    <a:lnTo>
                      <a:pt x="775" y="589"/>
                    </a:lnTo>
                    <a:lnTo>
                      <a:pt x="782" y="592"/>
                    </a:lnTo>
                    <a:lnTo>
                      <a:pt x="788" y="594"/>
                    </a:lnTo>
                    <a:lnTo>
                      <a:pt x="794" y="596"/>
                    </a:lnTo>
                    <a:lnTo>
                      <a:pt x="798" y="599"/>
                    </a:lnTo>
                    <a:lnTo>
                      <a:pt x="804" y="599"/>
                    </a:lnTo>
                    <a:lnTo>
                      <a:pt x="810" y="597"/>
                    </a:lnTo>
                    <a:lnTo>
                      <a:pt x="814" y="594"/>
                    </a:lnTo>
                    <a:lnTo>
                      <a:pt x="818" y="593"/>
                    </a:lnTo>
                    <a:lnTo>
                      <a:pt x="822" y="584"/>
                    </a:lnTo>
                    <a:lnTo>
                      <a:pt x="826" y="580"/>
                    </a:lnTo>
                    <a:lnTo>
                      <a:pt x="822" y="574"/>
                    </a:lnTo>
                    <a:lnTo>
                      <a:pt x="816" y="569"/>
                    </a:lnTo>
                    <a:lnTo>
                      <a:pt x="810" y="563"/>
                    </a:lnTo>
                    <a:lnTo>
                      <a:pt x="806" y="560"/>
                    </a:lnTo>
                    <a:lnTo>
                      <a:pt x="800" y="555"/>
                    </a:lnTo>
                    <a:lnTo>
                      <a:pt x="796" y="552"/>
                    </a:lnTo>
                    <a:lnTo>
                      <a:pt x="789" y="547"/>
                    </a:lnTo>
                    <a:lnTo>
                      <a:pt x="784" y="543"/>
                    </a:lnTo>
                    <a:lnTo>
                      <a:pt x="778" y="539"/>
                    </a:lnTo>
                    <a:lnTo>
                      <a:pt x="775" y="536"/>
                    </a:lnTo>
                    <a:lnTo>
                      <a:pt x="767" y="531"/>
                    </a:lnTo>
                    <a:lnTo>
                      <a:pt x="765" y="530"/>
                    </a:lnTo>
                    <a:lnTo>
                      <a:pt x="768" y="530"/>
                    </a:lnTo>
                    <a:lnTo>
                      <a:pt x="772" y="531"/>
                    </a:lnTo>
                    <a:lnTo>
                      <a:pt x="777" y="533"/>
                    </a:lnTo>
                    <a:lnTo>
                      <a:pt x="783" y="536"/>
                    </a:lnTo>
                    <a:lnTo>
                      <a:pt x="789" y="537"/>
                    </a:lnTo>
                    <a:lnTo>
                      <a:pt x="797" y="540"/>
                    </a:lnTo>
                    <a:lnTo>
                      <a:pt x="806" y="543"/>
                    </a:lnTo>
                    <a:lnTo>
                      <a:pt x="814" y="545"/>
                    </a:lnTo>
                    <a:lnTo>
                      <a:pt x="821" y="547"/>
                    </a:lnTo>
                    <a:lnTo>
                      <a:pt x="829" y="549"/>
                    </a:lnTo>
                    <a:lnTo>
                      <a:pt x="837" y="551"/>
                    </a:lnTo>
                    <a:lnTo>
                      <a:pt x="843" y="552"/>
                    </a:lnTo>
                    <a:lnTo>
                      <a:pt x="850" y="554"/>
                    </a:lnTo>
                    <a:lnTo>
                      <a:pt x="856" y="555"/>
                    </a:lnTo>
                    <a:lnTo>
                      <a:pt x="859" y="557"/>
                    </a:lnTo>
                    <a:lnTo>
                      <a:pt x="869" y="552"/>
                    </a:lnTo>
                    <a:lnTo>
                      <a:pt x="878" y="544"/>
                    </a:lnTo>
                    <a:lnTo>
                      <a:pt x="882" y="534"/>
                    </a:lnTo>
                    <a:lnTo>
                      <a:pt x="884" y="528"/>
                    </a:lnTo>
                    <a:lnTo>
                      <a:pt x="881" y="524"/>
                    </a:lnTo>
                    <a:lnTo>
                      <a:pt x="879" y="523"/>
                    </a:lnTo>
                    <a:lnTo>
                      <a:pt x="874" y="520"/>
                    </a:lnTo>
                    <a:lnTo>
                      <a:pt x="869" y="517"/>
                    </a:lnTo>
                    <a:lnTo>
                      <a:pt x="862" y="512"/>
                    </a:lnTo>
                    <a:lnTo>
                      <a:pt x="856" y="509"/>
                    </a:lnTo>
                    <a:lnTo>
                      <a:pt x="848" y="503"/>
                    </a:lnTo>
                    <a:lnTo>
                      <a:pt x="841" y="500"/>
                    </a:lnTo>
                    <a:lnTo>
                      <a:pt x="832" y="496"/>
                    </a:lnTo>
                    <a:lnTo>
                      <a:pt x="825" y="491"/>
                    </a:lnTo>
                    <a:lnTo>
                      <a:pt x="818" y="488"/>
                    </a:lnTo>
                    <a:lnTo>
                      <a:pt x="812" y="485"/>
                    </a:lnTo>
                    <a:lnTo>
                      <a:pt x="807" y="481"/>
                    </a:lnTo>
                    <a:lnTo>
                      <a:pt x="804" y="479"/>
                    </a:lnTo>
                    <a:lnTo>
                      <a:pt x="800" y="478"/>
                    </a:lnTo>
                    <a:lnTo>
                      <a:pt x="816" y="471"/>
                    </a:lnTo>
                    <a:lnTo>
                      <a:pt x="820" y="474"/>
                    </a:lnTo>
                    <a:lnTo>
                      <a:pt x="824" y="476"/>
                    </a:lnTo>
                    <a:lnTo>
                      <a:pt x="831" y="479"/>
                    </a:lnTo>
                    <a:lnTo>
                      <a:pt x="837" y="482"/>
                    </a:lnTo>
                    <a:lnTo>
                      <a:pt x="846" y="488"/>
                    </a:lnTo>
                    <a:lnTo>
                      <a:pt x="856" y="490"/>
                    </a:lnTo>
                    <a:lnTo>
                      <a:pt x="866" y="496"/>
                    </a:lnTo>
                    <a:lnTo>
                      <a:pt x="874" y="499"/>
                    </a:lnTo>
                    <a:lnTo>
                      <a:pt x="883" y="502"/>
                    </a:lnTo>
                    <a:lnTo>
                      <a:pt x="892" y="505"/>
                    </a:lnTo>
                    <a:lnTo>
                      <a:pt x="901" y="508"/>
                    </a:lnTo>
                    <a:lnTo>
                      <a:pt x="908" y="508"/>
                    </a:lnTo>
                    <a:lnTo>
                      <a:pt x="914" y="508"/>
                    </a:lnTo>
                    <a:lnTo>
                      <a:pt x="919" y="506"/>
                    </a:lnTo>
                    <a:lnTo>
                      <a:pt x="923" y="502"/>
                    </a:lnTo>
                    <a:lnTo>
                      <a:pt x="924" y="494"/>
                    </a:lnTo>
                    <a:lnTo>
                      <a:pt x="925" y="488"/>
                    </a:lnTo>
                    <a:lnTo>
                      <a:pt x="924" y="481"/>
                    </a:lnTo>
                    <a:lnTo>
                      <a:pt x="923" y="478"/>
                    </a:lnTo>
                    <a:lnTo>
                      <a:pt x="915" y="474"/>
                    </a:lnTo>
                    <a:lnTo>
                      <a:pt x="910" y="471"/>
                    </a:lnTo>
                    <a:lnTo>
                      <a:pt x="904" y="468"/>
                    </a:lnTo>
                    <a:lnTo>
                      <a:pt x="900" y="467"/>
                    </a:lnTo>
                    <a:lnTo>
                      <a:pt x="893" y="464"/>
                    </a:lnTo>
                    <a:lnTo>
                      <a:pt x="888" y="461"/>
                    </a:lnTo>
                    <a:lnTo>
                      <a:pt x="880" y="458"/>
                    </a:lnTo>
                    <a:lnTo>
                      <a:pt x="874" y="455"/>
                    </a:lnTo>
                    <a:lnTo>
                      <a:pt x="869" y="454"/>
                    </a:lnTo>
                    <a:lnTo>
                      <a:pt x="867" y="454"/>
                    </a:lnTo>
                    <a:lnTo>
                      <a:pt x="860" y="450"/>
                    </a:lnTo>
                    <a:lnTo>
                      <a:pt x="853" y="448"/>
                    </a:lnTo>
                    <a:lnTo>
                      <a:pt x="843" y="444"/>
                    </a:lnTo>
                    <a:lnTo>
                      <a:pt x="835" y="440"/>
                    </a:lnTo>
                    <a:lnTo>
                      <a:pt x="825" y="436"/>
                    </a:lnTo>
                    <a:lnTo>
                      <a:pt x="818" y="433"/>
                    </a:lnTo>
                    <a:lnTo>
                      <a:pt x="811" y="431"/>
                    </a:lnTo>
                    <a:lnTo>
                      <a:pt x="810" y="431"/>
                    </a:lnTo>
                    <a:lnTo>
                      <a:pt x="783" y="423"/>
                    </a:lnTo>
                    <a:lnTo>
                      <a:pt x="783" y="423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H="1">
                <a:off x="1827000" y="5664240"/>
                <a:ext cx="86040" cy="27000"/>
              </a:xfrm>
              <a:custGeom>
                <a:avLst/>
                <a:gdLst/>
                <a:ahLst/>
                <a:rect l="l" t="t" r="r" b="b"/>
                <a:pathLst>
                  <a:path w="197" h="72">
                    <a:moveTo>
                      <a:pt x="5" y="43"/>
                    </a:moveTo>
                    <a:lnTo>
                      <a:pt x="0" y="18"/>
                    </a:lnTo>
                    <a:lnTo>
                      <a:pt x="10" y="18"/>
                    </a:lnTo>
                    <a:lnTo>
                      <a:pt x="11" y="38"/>
                    </a:lnTo>
                    <a:lnTo>
                      <a:pt x="36" y="35"/>
                    </a:lnTo>
                    <a:lnTo>
                      <a:pt x="34" y="8"/>
                    </a:lnTo>
                    <a:lnTo>
                      <a:pt x="44" y="5"/>
                    </a:lnTo>
                    <a:lnTo>
                      <a:pt x="45" y="31"/>
                    </a:lnTo>
                    <a:lnTo>
                      <a:pt x="62" y="30"/>
                    </a:lnTo>
                    <a:lnTo>
                      <a:pt x="62" y="0"/>
                    </a:lnTo>
                    <a:lnTo>
                      <a:pt x="74" y="4"/>
                    </a:lnTo>
                    <a:lnTo>
                      <a:pt x="72" y="33"/>
                    </a:lnTo>
                    <a:lnTo>
                      <a:pt x="93" y="38"/>
                    </a:lnTo>
                    <a:lnTo>
                      <a:pt x="96" y="10"/>
                    </a:lnTo>
                    <a:lnTo>
                      <a:pt x="110" y="14"/>
                    </a:lnTo>
                    <a:lnTo>
                      <a:pt x="103" y="39"/>
                    </a:lnTo>
                    <a:lnTo>
                      <a:pt x="125" y="48"/>
                    </a:lnTo>
                    <a:lnTo>
                      <a:pt x="131" y="21"/>
                    </a:lnTo>
                    <a:lnTo>
                      <a:pt x="145" y="25"/>
                    </a:lnTo>
                    <a:lnTo>
                      <a:pt x="133" y="49"/>
                    </a:lnTo>
                    <a:lnTo>
                      <a:pt x="149" y="54"/>
                    </a:lnTo>
                    <a:lnTo>
                      <a:pt x="156" y="31"/>
                    </a:lnTo>
                    <a:lnTo>
                      <a:pt x="168" y="35"/>
                    </a:lnTo>
                    <a:lnTo>
                      <a:pt x="154" y="57"/>
                    </a:lnTo>
                    <a:lnTo>
                      <a:pt x="175" y="64"/>
                    </a:lnTo>
                    <a:lnTo>
                      <a:pt x="182" y="41"/>
                    </a:lnTo>
                    <a:lnTo>
                      <a:pt x="197" y="51"/>
                    </a:lnTo>
                    <a:lnTo>
                      <a:pt x="180" y="72"/>
                    </a:lnTo>
                    <a:lnTo>
                      <a:pt x="120" y="54"/>
                    </a:lnTo>
                    <a:lnTo>
                      <a:pt x="59" y="43"/>
                    </a:lnTo>
                    <a:lnTo>
                      <a:pt x="5" y="43"/>
                    </a:lnTo>
                    <a:lnTo>
                      <a:pt x="5" y="43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H="1">
                <a:off x="1854720" y="5697000"/>
                <a:ext cx="76320" cy="43920"/>
              </a:xfrm>
              <a:custGeom>
                <a:avLst/>
                <a:gdLst/>
                <a:ahLst/>
                <a:rect l="l" t="t" r="r" b="b"/>
                <a:pathLst>
                  <a:path w="175" h="115">
                    <a:moveTo>
                      <a:pt x="175" y="92"/>
                    </a:moveTo>
                    <a:lnTo>
                      <a:pt x="171" y="115"/>
                    </a:lnTo>
                    <a:lnTo>
                      <a:pt x="161" y="111"/>
                    </a:lnTo>
                    <a:lnTo>
                      <a:pt x="166" y="93"/>
                    </a:lnTo>
                    <a:lnTo>
                      <a:pt x="145" y="85"/>
                    </a:lnTo>
                    <a:lnTo>
                      <a:pt x="137" y="113"/>
                    </a:lnTo>
                    <a:lnTo>
                      <a:pt x="127" y="110"/>
                    </a:lnTo>
                    <a:lnTo>
                      <a:pt x="136" y="86"/>
                    </a:lnTo>
                    <a:lnTo>
                      <a:pt x="118" y="83"/>
                    </a:lnTo>
                    <a:lnTo>
                      <a:pt x="109" y="109"/>
                    </a:lnTo>
                    <a:lnTo>
                      <a:pt x="97" y="100"/>
                    </a:lnTo>
                    <a:lnTo>
                      <a:pt x="110" y="75"/>
                    </a:lnTo>
                    <a:lnTo>
                      <a:pt x="91" y="63"/>
                    </a:lnTo>
                    <a:lnTo>
                      <a:pt x="80" y="86"/>
                    </a:lnTo>
                    <a:lnTo>
                      <a:pt x="67" y="78"/>
                    </a:lnTo>
                    <a:lnTo>
                      <a:pt x="84" y="59"/>
                    </a:lnTo>
                    <a:lnTo>
                      <a:pt x="66" y="43"/>
                    </a:lnTo>
                    <a:lnTo>
                      <a:pt x="50" y="64"/>
                    </a:lnTo>
                    <a:lnTo>
                      <a:pt x="38" y="57"/>
                    </a:lnTo>
                    <a:lnTo>
                      <a:pt x="58" y="39"/>
                    </a:lnTo>
                    <a:lnTo>
                      <a:pt x="46" y="27"/>
                    </a:lnTo>
                    <a:lnTo>
                      <a:pt x="30" y="47"/>
                    </a:lnTo>
                    <a:lnTo>
                      <a:pt x="21" y="37"/>
                    </a:lnTo>
                    <a:lnTo>
                      <a:pt x="40" y="21"/>
                    </a:lnTo>
                    <a:lnTo>
                      <a:pt x="25" y="8"/>
                    </a:lnTo>
                    <a:lnTo>
                      <a:pt x="11" y="29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74" y="37"/>
                    </a:lnTo>
                    <a:lnTo>
                      <a:pt x="127" y="72"/>
                    </a:lnTo>
                    <a:lnTo>
                      <a:pt x="175" y="92"/>
                    </a:lnTo>
                    <a:lnTo>
                      <a:pt x="175" y="92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0" name=""/>
            <p:cNvGrpSpPr/>
            <p:nvPr/>
          </p:nvGrpSpPr>
          <p:grpSpPr>
            <a:xfrm>
              <a:off x="4999320" y="5217840"/>
              <a:ext cx="1934640" cy="1400040"/>
              <a:chOff x="4999320" y="5217840"/>
              <a:chExt cx="1934640" cy="1400040"/>
            </a:xfrm>
          </p:grpSpPr>
          <p:pic>
            <p:nvPicPr>
              <p:cNvPr id="208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9320" y="5217840"/>
                <a:ext cx="1934640" cy="1400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82" name=""/>
              <p:cNvGrpSpPr/>
              <p:nvPr/>
            </p:nvGrpSpPr>
            <p:grpSpPr>
              <a:xfrm>
                <a:off x="5935680" y="6170040"/>
                <a:ext cx="561600" cy="393480"/>
                <a:chOff x="5935680" y="6170040"/>
                <a:chExt cx="561600" cy="393480"/>
              </a:xfrm>
            </p:grpSpPr>
            <p:pic>
              <p:nvPicPr>
                <p:cNvPr id="2083" name="" descr=""/>
                <p:cNvPicPr/>
                <p:nvPr/>
              </p:nvPicPr>
              <p:blipFill>
                <a:blip r:embed="rId5"/>
                <a:stretch/>
              </p:blipFill>
              <p:spPr>
                <a:xfrm flipH="1" rot="16200000">
                  <a:off x="6104880" y="6171120"/>
                  <a:ext cx="288720" cy="49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4" name="" descr=""/>
                <p:cNvPicPr/>
                <p:nvPr/>
              </p:nvPicPr>
              <p:blipFill>
                <a:blip r:embed="rId6"/>
                <a:stretch/>
              </p:blipFill>
              <p:spPr>
                <a:xfrm flipH="1" rot="16200000">
                  <a:off x="6039000" y="6066360"/>
                  <a:ext cx="288720" cy="495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085" name=""/>
            <p:cNvGrpSpPr/>
            <p:nvPr/>
          </p:nvGrpSpPr>
          <p:grpSpPr>
            <a:xfrm>
              <a:off x="2751840" y="4343400"/>
              <a:ext cx="3195720" cy="2328840"/>
              <a:chOff x="2751840" y="4343400"/>
              <a:chExt cx="3195720" cy="2328840"/>
            </a:xfrm>
          </p:grpSpPr>
          <p:sp>
            <p:nvSpPr>
              <p:cNvPr id="2086" name=""/>
              <p:cNvSpPr/>
              <p:nvPr/>
            </p:nvSpPr>
            <p:spPr>
              <a:xfrm>
                <a:off x="2751840" y="4584240"/>
                <a:ext cx="3034080" cy="2088000"/>
              </a:xfrm>
              <a:custGeom>
                <a:avLst/>
                <a:gdLst/>
                <a:ahLst/>
                <a:rect l="l" t="t" r="r" b="b"/>
                <a:pathLst>
                  <a:path w="3216" h="2304">
                    <a:moveTo>
                      <a:pt x="0" y="2304"/>
                    </a:moveTo>
                    <a:cubicBezTo>
                      <a:pt x="208" y="2195"/>
                      <a:pt x="961" y="1909"/>
                      <a:pt x="1248" y="1648"/>
                    </a:cubicBezTo>
                    <a:cubicBezTo>
                      <a:pt x="1535" y="1387"/>
                      <a:pt x="1392" y="1011"/>
                      <a:pt x="1720" y="736"/>
                    </a:cubicBezTo>
                    <a:cubicBezTo>
                      <a:pt x="2048" y="461"/>
                      <a:pt x="2904" y="153"/>
                      <a:pt x="3216" y="0"/>
                    </a:cubicBezTo>
                  </a:path>
                </a:pathLst>
              </a:custGeom>
              <a:noFill/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4834080" y="434340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533560" y="466236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9" name=""/>
            <p:cNvGrpSpPr/>
            <p:nvPr/>
          </p:nvGrpSpPr>
          <p:grpSpPr>
            <a:xfrm>
              <a:off x="3694680" y="5163840"/>
              <a:ext cx="951480" cy="1202760"/>
              <a:chOff x="3694680" y="5163840"/>
              <a:chExt cx="951480" cy="1202760"/>
            </a:xfrm>
          </p:grpSpPr>
          <p:sp>
            <p:nvSpPr>
              <p:cNvPr id="2090" name=""/>
              <p:cNvSpPr/>
              <p:nvPr/>
            </p:nvSpPr>
            <p:spPr>
              <a:xfrm>
                <a:off x="3694680" y="5989680"/>
                <a:ext cx="317160" cy="303840"/>
              </a:xfrm>
              <a:prstGeom prst="line">
                <a:avLst/>
              </a:prstGeom>
              <a:ln w="38160">
                <a:solidFill>
                  <a:srgbClr val="cc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875760" y="5859360"/>
                <a:ext cx="317160" cy="303840"/>
              </a:xfrm>
              <a:prstGeom prst="line">
                <a:avLst/>
              </a:prstGeom>
              <a:ln w="38160">
                <a:solidFill>
                  <a:srgbClr val="cc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4011840" y="5641920"/>
                <a:ext cx="317160" cy="304200"/>
              </a:xfrm>
              <a:prstGeom prst="line">
                <a:avLst/>
              </a:prstGeom>
              <a:ln w="38160">
                <a:solidFill>
                  <a:srgbClr val="cc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4102560" y="5337720"/>
                <a:ext cx="317160" cy="303840"/>
              </a:xfrm>
              <a:prstGeom prst="line">
                <a:avLst/>
              </a:prstGeom>
              <a:ln w="38160">
                <a:solidFill>
                  <a:srgbClr val="cc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4329000" y="5163840"/>
                <a:ext cx="317160" cy="304200"/>
              </a:xfrm>
              <a:prstGeom prst="line">
                <a:avLst/>
              </a:prstGeom>
              <a:ln w="38160">
                <a:solidFill>
                  <a:srgbClr val="cc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3736080" y="54046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4265640" y="5815800"/>
                <a:ext cx="3499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7" name=""/>
          <p:cNvSpPr/>
          <p:nvPr/>
        </p:nvSpPr>
        <p:spPr>
          <a:xfrm>
            <a:off x="4680" y="2038320"/>
            <a:ext cx="691200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874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Prove: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flow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alg eith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nds a better flow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r finds cut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such that rate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= cap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5181480" y="15238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44"/>
                </a:moveTo>
                <a:lnTo>
                  <a:pt x="56" y="192"/>
                </a:lnTo>
                <a:lnTo>
                  <a:pt x="1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7" dur="indefinite" restart="never" nodeType="tmRoot">
          <p:childTnLst>
            <p:seq>
              <p:cTn id="2668" dur="indefinite" nodeType="mainSeq">
                <p:childTnLst>
                  <p:par>
                    <p:cTn id="2669" fill="hold">
                      <p:stCondLst>
                        <p:cond delay="0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2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4" dur="500" fill="hold"/>
                                        <p:tgtEl>
                                          <p:spTgt spid="2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7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2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2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2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2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20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20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9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2248200"/>
          </a:xfrm>
          <a:prstGeom prst="rect">
            <a:avLst/>
          </a:prstGeom>
          <a:ln w="0">
            <a:noFill/>
          </a:ln>
        </p:spPr>
      </p:pic>
      <p:sp>
        <p:nvSpPr>
          <p:cNvPr id="2100" name=""/>
          <p:cNvSpPr/>
          <p:nvPr/>
        </p:nvSpPr>
        <p:spPr>
          <a:xfrm>
            <a:off x="1143000" y="3335400"/>
            <a:ext cx="865836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iven Flow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struct Augmenting Graph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nd path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be the max amount flow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n increase along path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crease flow along path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by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.e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newF = oldF + w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×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4327560" y="958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2414520" y="1668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4632480" y="2178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5943600" y="3200400"/>
            <a:ext cx="2895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6553080" y="914400"/>
            <a:ext cx="228600" cy="3049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5943600" y="2895480"/>
            <a:ext cx="2895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7" name=""/>
          <p:cNvGrpSpPr/>
          <p:nvPr/>
        </p:nvGrpSpPr>
        <p:grpSpPr>
          <a:xfrm>
            <a:off x="6942960" y="42120"/>
            <a:ext cx="1427760" cy="1069200"/>
            <a:chOff x="6942960" y="42120"/>
            <a:chExt cx="1427760" cy="1069200"/>
          </a:xfrm>
        </p:grpSpPr>
        <p:sp>
          <p:nvSpPr>
            <p:cNvPr id="2108" name=""/>
            <p:cNvSpPr/>
            <p:nvPr/>
          </p:nvSpPr>
          <p:spPr>
            <a:xfrm rot="2359800">
              <a:off x="7050240" y="314280"/>
              <a:ext cx="782640" cy="61920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rot="2359800">
              <a:off x="7828560" y="381600"/>
              <a:ext cx="450360" cy="449640"/>
            </a:xfrm>
            <a:custGeom>
              <a:avLst/>
              <a:gdLst/>
              <a:ahLst/>
              <a:rect l="l" t="t" r="r" b="b"/>
              <a:pathLst>
                <a:path w="1312" h="1296">
                  <a:moveTo>
                    <a:pt x="592" y="160"/>
                  </a:moveTo>
                  <a:cubicBezTo>
                    <a:pt x="408" y="256"/>
                    <a:pt x="32" y="496"/>
                    <a:pt x="16" y="640"/>
                  </a:cubicBezTo>
                  <a:cubicBezTo>
                    <a:pt x="0" y="784"/>
                    <a:pt x="296" y="928"/>
                    <a:pt x="496" y="1024"/>
                  </a:cubicBezTo>
                  <a:cubicBezTo>
                    <a:pt x="696" y="1120"/>
                    <a:pt x="1120" y="1296"/>
                    <a:pt x="1216" y="1216"/>
                  </a:cubicBezTo>
                  <a:cubicBezTo>
                    <a:pt x="1312" y="1136"/>
                    <a:pt x="1088" y="736"/>
                    <a:pt x="1072" y="544"/>
                  </a:cubicBezTo>
                  <a:cubicBezTo>
                    <a:pt x="1056" y="352"/>
                    <a:pt x="1208" y="128"/>
                    <a:pt x="1120" y="64"/>
                  </a:cubicBezTo>
                  <a:cubicBezTo>
                    <a:pt x="1032" y="0"/>
                    <a:pt x="776" y="64"/>
                    <a:pt x="592" y="16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10" name=""/>
            <p:cNvGrpSpPr/>
            <p:nvPr/>
          </p:nvGrpSpPr>
          <p:grpSpPr>
            <a:xfrm>
              <a:off x="7429680" y="42120"/>
              <a:ext cx="691200" cy="740880"/>
              <a:chOff x="7429680" y="42120"/>
              <a:chExt cx="691200" cy="740880"/>
            </a:xfrm>
          </p:grpSpPr>
          <p:sp>
            <p:nvSpPr>
              <p:cNvPr id="2111" name=""/>
              <p:cNvSpPr/>
              <p:nvPr/>
            </p:nvSpPr>
            <p:spPr>
              <a:xfrm rot="21255000">
                <a:off x="7777800" y="121320"/>
                <a:ext cx="140760" cy="11664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 rot="21255000">
                <a:off x="7729200" y="267120"/>
                <a:ext cx="144720" cy="2602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rot="21255000">
                <a:off x="7831080" y="479880"/>
                <a:ext cx="281520" cy="17928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rot="19838400">
                <a:off x="7442280" y="536040"/>
                <a:ext cx="402120" cy="15804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rot="21255000">
                <a:off x="7634880" y="53280"/>
                <a:ext cx="164160" cy="29124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rot="21255000">
                <a:off x="7830720" y="52200"/>
                <a:ext cx="214920" cy="24300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7" name=""/>
          <p:cNvGrpSpPr/>
          <p:nvPr/>
        </p:nvGrpSpPr>
        <p:grpSpPr>
          <a:xfrm>
            <a:off x="459360" y="609480"/>
            <a:ext cx="2312640" cy="1297080"/>
            <a:chOff x="459360" y="609480"/>
            <a:chExt cx="2312640" cy="1297080"/>
          </a:xfrm>
        </p:grpSpPr>
        <p:sp>
          <p:nvSpPr>
            <p:cNvPr id="2118" name=""/>
            <p:cNvSpPr/>
            <p:nvPr/>
          </p:nvSpPr>
          <p:spPr>
            <a:xfrm>
              <a:off x="459360" y="609480"/>
              <a:ext cx="63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+w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068840" y="1386000"/>
              <a:ext cx="63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+w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135520" y="762120"/>
              <a:ext cx="63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+w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1" name=""/>
          <p:cNvSpPr/>
          <p:nvPr/>
        </p:nvSpPr>
        <p:spPr>
          <a:xfrm>
            <a:off x="1142280" y="8524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660680" y="958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x Flow = Min C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7" dur="indefinite" restart="never" nodeType="tmRoot">
          <p:childTnLst>
            <p:seq>
              <p:cTn id="2698" dur="indefinite" nodeType="mainSeq">
                <p:childTnLst>
                  <p:par>
                    <p:cTn id="2699" fill="hold">
                      <p:stCondLst>
                        <p:cond delay="0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2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4" dur="500" fill="hold"/>
                                        <p:tgtEl>
                                          <p:spTgt spid="2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1" dur="500" fill="hold"/>
                                        <p:tgtEl>
                                          <p:spTgt spid="2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2" dur="500" fill="hold"/>
                                        <p:tgtEl>
                                          <p:spTgt spid="2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2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2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2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2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1" dur="500" fill="hold"/>
                                        <p:tgtEl>
                                          <p:spTgt spid="2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2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7" dur="500" fill="hold"/>
                                        <p:tgtEl>
                                          <p:spTgt spid="2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2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2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2" dur="500" fill="hold"/>
                                        <p:tgtEl>
                                          <p:spTgt spid="2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5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4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296280" cy="2914920"/>
          </a:xfrm>
          <a:prstGeom prst="rect">
            <a:avLst/>
          </a:prstGeom>
          <a:ln w="0">
            <a:noFill/>
          </a:ln>
        </p:spPr>
      </p:pic>
      <p:sp>
        <p:nvSpPr>
          <p:cNvPr id="2125" name=""/>
          <p:cNvSpPr/>
          <p:nvPr/>
        </p:nvSpPr>
        <p:spPr>
          <a:xfrm>
            <a:off x="-228600" y="4419720"/>
            <a:ext cx="990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0" y="3505320"/>
            <a:ext cx="342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6400800" y="3733920"/>
            <a:ext cx="342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5715000" y="6095880"/>
            <a:ext cx="342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1231920" y="3855960"/>
            <a:ext cx="5807160" cy="30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iven Flow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struct Augmenting Graph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nd path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using BFS, DFS,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or generic search algorith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o pat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o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0" name=""/>
          <p:cNvGrpSpPr/>
          <p:nvPr/>
        </p:nvGrpSpPr>
        <p:grpSpPr>
          <a:xfrm>
            <a:off x="7234920" y="194400"/>
            <a:ext cx="1427760" cy="1069560"/>
            <a:chOff x="7234920" y="194400"/>
            <a:chExt cx="1427760" cy="1069560"/>
          </a:xfrm>
        </p:grpSpPr>
        <p:sp>
          <p:nvSpPr>
            <p:cNvPr id="2131" name=""/>
            <p:cNvSpPr/>
            <p:nvPr/>
          </p:nvSpPr>
          <p:spPr>
            <a:xfrm rot="2359800">
              <a:off x="7342200" y="466560"/>
              <a:ext cx="783000" cy="61920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 rot="2359800">
              <a:off x="8120520" y="533880"/>
              <a:ext cx="450360" cy="449640"/>
            </a:xfrm>
            <a:custGeom>
              <a:avLst/>
              <a:gdLst/>
              <a:ahLst/>
              <a:rect l="l" t="t" r="r" b="b"/>
              <a:pathLst>
                <a:path w="1312" h="1296">
                  <a:moveTo>
                    <a:pt x="592" y="160"/>
                  </a:moveTo>
                  <a:cubicBezTo>
                    <a:pt x="408" y="256"/>
                    <a:pt x="32" y="496"/>
                    <a:pt x="16" y="640"/>
                  </a:cubicBezTo>
                  <a:cubicBezTo>
                    <a:pt x="0" y="784"/>
                    <a:pt x="296" y="928"/>
                    <a:pt x="496" y="1024"/>
                  </a:cubicBezTo>
                  <a:cubicBezTo>
                    <a:pt x="696" y="1120"/>
                    <a:pt x="1120" y="1296"/>
                    <a:pt x="1216" y="1216"/>
                  </a:cubicBezTo>
                  <a:cubicBezTo>
                    <a:pt x="1312" y="1136"/>
                    <a:pt x="1088" y="736"/>
                    <a:pt x="1072" y="544"/>
                  </a:cubicBezTo>
                  <a:cubicBezTo>
                    <a:pt x="1056" y="352"/>
                    <a:pt x="1208" y="128"/>
                    <a:pt x="1120" y="64"/>
                  </a:cubicBezTo>
                  <a:cubicBezTo>
                    <a:pt x="1032" y="0"/>
                    <a:pt x="776" y="64"/>
                    <a:pt x="592" y="16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33" name=""/>
            <p:cNvGrpSpPr/>
            <p:nvPr/>
          </p:nvGrpSpPr>
          <p:grpSpPr>
            <a:xfrm>
              <a:off x="7721640" y="194400"/>
              <a:ext cx="691200" cy="740880"/>
              <a:chOff x="7721640" y="194400"/>
              <a:chExt cx="691200" cy="740880"/>
            </a:xfrm>
          </p:grpSpPr>
          <p:sp>
            <p:nvSpPr>
              <p:cNvPr id="2134" name=""/>
              <p:cNvSpPr/>
              <p:nvPr/>
            </p:nvSpPr>
            <p:spPr>
              <a:xfrm rot="21255000">
                <a:off x="8069760" y="273600"/>
                <a:ext cx="140760" cy="11664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rot="21255000">
                <a:off x="8021160" y="419400"/>
                <a:ext cx="144720" cy="2602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rot="21255000">
                <a:off x="8123040" y="632160"/>
                <a:ext cx="281520" cy="17928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rot="19838400">
                <a:off x="7734240" y="688320"/>
                <a:ext cx="402120" cy="15804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rot="21255000">
                <a:off x="7926840" y="205560"/>
                <a:ext cx="164160" cy="29124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rot="21255000">
                <a:off x="8122680" y="204480"/>
                <a:ext cx="214920" cy="24300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x Flow = Min C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 flipV="1">
            <a:off x="1752480" y="64771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5" dur="indefinite" restart="never" nodeType="tmRoot">
          <p:childTnLst>
            <p:seq>
              <p:cTn id="2756" dur="indefinite" nodeType="mainSeq">
                <p:childTnLst>
                  <p:par>
                    <p:cTn id="2757" fill="hold">
                      <p:stCondLst>
                        <p:cond delay="0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1" dur="500" fill="hold"/>
                                        <p:tgtEl>
                                          <p:spTgt spid="2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2" dur="500" fill="hold"/>
                                        <p:tgtEl>
                                          <p:spTgt spid="2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5" fill="hold">
                      <p:stCondLst>
                        <p:cond delay="indefinite"/>
                      </p:stCondLst>
                      <p:childTnLst>
                        <p:par>
                          <p:cTn id="2766" fill="hold">
                            <p:stCondLst>
                              <p:cond delay="0"/>
                            </p:stCondLst>
                            <p:childTnLst>
                              <p:par>
                                <p:cTn id="2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2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2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3" fill="hold">
                      <p:stCondLst>
                        <p:cond delay="indefinite"/>
                      </p:stCondLst>
                      <p:childTnLst>
                        <p:par>
                          <p:cTn id="2774" fill="hold">
                            <p:stCondLst>
                              <p:cond delay="0"/>
                            </p:stCondLst>
                            <p:childTnLst>
                              <p:par>
                                <p:cTn id="2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2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8" dur="500" fill="hold"/>
                                        <p:tgtEl>
                                          <p:spTgt spid="2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2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4" dur="500" fill="hold"/>
                                        <p:tgtEl>
                                          <p:spTgt spid="2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fill="hold">
                      <p:stCondLst>
                        <p:cond delay="indefinite"/>
                      </p:stCondLst>
                      <p:childTnLst>
                        <p:par>
                          <p:cTn id="2788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1" dur="500" fill="hold"/>
                                        <p:tgtEl>
                                          <p:spTgt spid="2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2" dur="500" fill="hold"/>
                                        <p:tgtEl>
                                          <p:spTgt spid="2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7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2" name="" descr=""/>
          <p:cNvPicPr/>
          <p:nvPr/>
        </p:nvPicPr>
        <p:blipFill>
          <a:blip r:embed="rId1"/>
          <a:stretch/>
        </p:blipFill>
        <p:spPr>
          <a:xfrm>
            <a:off x="0" y="1003320"/>
            <a:ext cx="9296280" cy="2914560"/>
          </a:xfrm>
          <a:prstGeom prst="rect">
            <a:avLst/>
          </a:prstGeom>
          <a:ln w="0">
            <a:noFill/>
          </a:ln>
        </p:spPr>
      </p:pic>
      <p:sp>
        <p:nvSpPr>
          <p:cNvPr id="2143" name=""/>
          <p:cNvSpPr/>
          <p:nvPr/>
        </p:nvSpPr>
        <p:spPr>
          <a:xfrm>
            <a:off x="0" y="4114800"/>
            <a:ext cx="990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221480" y="3868560"/>
            <a:ext cx="7018560" cy="31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alg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be this final flow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et cut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alg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=&lt;U,V&gt;,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e the nodes reachable from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augmented grap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Claim: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ate(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l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 = cap(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l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5" name=""/>
          <p:cNvGrpSpPr/>
          <p:nvPr/>
        </p:nvGrpSpPr>
        <p:grpSpPr>
          <a:xfrm>
            <a:off x="7234920" y="194400"/>
            <a:ext cx="1427760" cy="1069560"/>
            <a:chOff x="7234920" y="194400"/>
            <a:chExt cx="1427760" cy="1069560"/>
          </a:xfrm>
        </p:grpSpPr>
        <p:sp>
          <p:nvSpPr>
            <p:cNvPr id="2146" name=""/>
            <p:cNvSpPr/>
            <p:nvPr/>
          </p:nvSpPr>
          <p:spPr>
            <a:xfrm rot="2359800">
              <a:off x="7342200" y="466560"/>
              <a:ext cx="783000" cy="61920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rot="2359800">
              <a:off x="8120520" y="533880"/>
              <a:ext cx="450360" cy="449640"/>
            </a:xfrm>
            <a:custGeom>
              <a:avLst/>
              <a:gdLst/>
              <a:ahLst/>
              <a:rect l="l" t="t" r="r" b="b"/>
              <a:pathLst>
                <a:path w="1312" h="1296">
                  <a:moveTo>
                    <a:pt x="592" y="160"/>
                  </a:moveTo>
                  <a:cubicBezTo>
                    <a:pt x="408" y="256"/>
                    <a:pt x="32" y="496"/>
                    <a:pt x="16" y="640"/>
                  </a:cubicBezTo>
                  <a:cubicBezTo>
                    <a:pt x="0" y="784"/>
                    <a:pt x="296" y="928"/>
                    <a:pt x="496" y="1024"/>
                  </a:cubicBezTo>
                  <a:cubicBezTo>
                    <a:pt x="696" y="1120"/>
                    <a:pt x="1120" y="1296"/>
                    <a:pt x="1216" y="1216"/>
                  </a:cubicBezTo>
                  <a:cubicBezTo>
                    <a:pt x="1312" y="1136"/>
                    <a:pt x="1088" y="736"/>
                    <a:pt x="1072" y="544"/>
                  </a:cubicBezTo>
                  <a:cubicBezTo>
                    <a:pt x="1056" y="352"/>
                    <a:pt x="1208" y="128"/>
                    <a:pt x="1120" y="64"/>
                  </a:cubicBezTo>
                  <a:cubicBezTo>
                    <a:pt x="1032" y="0"/>
                    <a:pt x="776" y="64"/>
                    <a:pt x="592" y="16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48" name=""/>
            <p:cNvGrpSpPr/>
            <p:nvPr/>
          </p:nvGrpSpPr>
          <p:grpSpPr>
            <a:xfrm>
              <a:off x="7721640" y="194400"/>
              <a:ext cx="691200" cy="740880"/>
              <a:chOff x="7721640" y="194400"/>
              <a:chExt cx="691200" cy="740880"/>
            </a:xfrm>
          </p:grpSpPr>
          <p:sp>
            <p:nvSpPr>
              <p:cNvPr id="2149" name=""/>
              <p:cNvSpPr/>
              <p:nvPr/>
            </p:nvSpPr>
            <p:spPr>
              <a:xfrm rot="21255000">
                <a:off x="8069760" y="273600"/>
                <a:ext cx="140760" cy="11664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rot="21255000">
                <a:off x="8021160" y="419400"/>
                <a:ext cx="144720" cy="2602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rot="21255000">
                <a:off x="8123040" y="632160"/>
                <a:ext cx="281520" cy="17928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rot="19838400">
                <a:off x="7734240" y="688320"/>
                <a:ext cx="402120" cy="15804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rot="21255000">
                <a:off x="7926840" y="205560"/>
                <a:ext cx="164160" cy="29124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rot="21255000">
                <a:off x="8122680" y="204480"/>
                <a:ext cx="214920" cy="24300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x Flow = Min C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302400" y="2590920"/>
            <a:ext cx="245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d example because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ight conta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tha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9" dur="indefinite" restart="never" nodeType="tmRoot">
          <p:childTnLst>
            <p:seq>
              <p:cTn id="2800" dur="indefinite" nodeType="mainSeq">
                <p:childTnLst>
                  <p:par>
                    <p:cTn id="2801" fill="hold">
                      <p:stCondLst>
                        <p:cond delay="0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2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6" dur="500" fill="hold"/>
                                        <p:tgtEl>
                                          <p:spTgt spid="2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7" fill="hold">
                      <p:stCondLst>
                        <p:cond delay="indefinite"/>
                      </p:stCondLst>
                      <p:childTnLst>
                        <p:par>
                          <p:cTn id="2808" fill="hold">
                            <p:stCondLst>
                              <p:cond delay="0"/>
                            </p:stCondLst>
                            <p:childTnLst>
                              <p:par>
                                <p:cTn id="2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2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2" dur="500" fill="hold"/>
                                        <p:tgtEl>
                                          <p:spTgt spid="2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2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8" dur="500" fill="hold"/>
                                        <p:tgtEl>
                                          <p:spTgt spid="2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1" dur="500" fill="hold"/>
                                        <p:tgtEl>
                                          <p:spTgt spid="2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2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5" fill="hold">
                      <p:stCondLst>
                        <p:cond delay="indefinite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9" dur="5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0" dur="5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5" dur="500" fill="hold"/>
                                        <p:tgtEl>
                                          <p:spTgt spid="2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6" dur="500" fill="hold"/>
                                        <p:tgtEl>
                                          <p:spTgt spid="2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819600" cy="1676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48320" y="114300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etwork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its edge capacitie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309240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maximum that can flow from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x Flow = Min C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838080" y="457200"/>
            <a:ext cx="624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Prov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l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 cap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l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9" name=""/>
          <p:cNvGrpSpPr/>
          <p:nvPr/>
        </p:nvGrpSpPr>
        <p:grpSpPr>
          <a:xfrm>
            <a:off x="838080" y="1063800"/>
            <a:ext cx="6324840" cy="901800"/>
            <a:chOff x="838080" y="1063800"/>
            <a:chExt cx="6324840" cy="901800"/>
          </a:xfrm>
        </p:grpSpPr>
        <p:sp>
          <p:nvSpPr>
            <p:cNvPr id="2160" name=""/>
            <p:cNvSpPr/>
            <p:nvPr/>
          </p:nvSpPr>
          <p:spPr>
            <a:xfrm>
              <a:off x="838080" y="1386000"/>
              <a:ext cx="6324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99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Prove: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rate(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alg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i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alg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) = cap(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i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alg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rot="5400000">
              <a:off x="1743120" y="99360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7" dur="indefinite" restart="never" nodeType="tmRoot">
          <p:childTnLst>
            <p:seq>
              <p:cTn id="2838" dur="indefinite" nodeType="mainSeq">
                <p:childTnLst>
                  <p:par>
                    <p:cTn id="2839" fill="hold">
                      <p:stCondLst>
                        <p:cond delay="0"/>
                      </p:stCondLst>
                      <p:childTnLst>
                        <p:par>
                          <p:cTn id="2840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3" dur="500" fill="hold"/>
                                        <p:tgtEl>
                                          <p:spTgt spid="2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4" dur="500" fill="hold"/>
                                        <p:tgtEl>
                                          <p:spTgt spid="2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9" dur="50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0" dur="50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"/>
          <p:cNvSpPr/>
          <p:nvPr/>
        </p:nvSpPr>
        <p:spPr>
          <a:xfrm>
            <a:off x="914400" y="914400"/>
            <a:ext cx="75438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     = how much can flow from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 Flow from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inus flow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x Flow = Min C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838080" y="45720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Prov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l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l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 cap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al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2133720" y="4572000"/>
            <a:ext cx="10666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6" name=""/>
          <p:cNvGrpSpPr/>
          <p:nvPr/>
        </p:nvGrpSpPr>
        <p:grpSpPr>
          <a:xfrm>
            <a:off x="1028880" y="4410000"/>
            <a:ext cx="1333440" cy="758880"/>
            <a:chOff x="1028880" y="4410000"/>
            <a:chExt cx="1333440" cy="758880"/>
          </a:xfrm>
        </p:grpSpPr>
        <p:sp>
          <p:nvSpPr>
            <p:cNvPr id="2167" name=""/>
            <p:cNvSpPr/>
            <p:nvPr/>
          </p:nvSpPr>
          <p:spPr>
            <a:xfrm>
              <a:off x="1295280" y="4559400"/>
              <a:ext cx="1067040" cy="609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028880" y="441000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9" name=""/>
          <p:cNvGrpSpPr/>
          <p:nvPr/>
        </p:nvGrpSpPr>
        <p:grpSpPr>
          <a:xfrm>
            <a:off x="823680" y="3184560"/>
            <a:ext cx="3416760" cy="3444840"/>
            <a:chOff x="823680" y="3184560"/>
            <a:chExt cx="3416760" cy="3444840"/>
          </a:xfrm>
        </p:grpSpPr>
        <p:sp>
          <p:nvSpPr>
            <p:cNvPr id="2170" name=""/>
            <p:cNvSpPr/>
            <p:nvPr/>
          </p:nvSpPr>
          <p:spPr>
            <a:xfrm>
              <a:off x="1419840" y="5394240"/>
              <a:ext cx="200736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u’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v’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&gt;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u’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v’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127880" y="5199120"/>
              <a:ext cx="16416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589920" y="5156280"/>
              <a:ext cx="16416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210320" y="5033880"/>
              <a:ext cx="2365920" cy="24156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823680" y="48020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779640" y="483552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27840" y="4497480"/>
              <a:ext cx="17150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&gt;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545120" y="3184560"/>
              <a:ext cx="201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Flow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2620440" y="3809880"/>
              <a:ext cx="107640" cy="2819520"/>
            </a:xfrm>
            <a:custGeom>
              <a:avLst/>
              <a:gdLst/>
              <a:ahLst/>
              <a:rect l="l" t="t" r="r" b="b"/>
              <a:pathLst>
                <a:path w="3216" h="2304">
                  <a:moveTo>
                    <a:pt x="0" y="2304"/>
                  </a:moveTo>
                  <a:cubicBezTo>
                    <a:pt x="208" y="2195"/>
                    <a:pt x="961" y="1909"/>
                    <a:pt x="1248" y="1648"/>
                  </a:cubicBezTo>
                  <a:cubicBezTo>
                    <a:pt x="1535" y="1387"/>
                    <a:pt x="1392" y="1011"/>
                    <a:pt x="1720" y="736"/>
                  </a:cubicBezTo>
                  <a:cubicBezTo>
                    <a:pt x="2048" y="461"/>
                    <a:pt x="2904" y="153"/>
                    <a:pt x="3216" y="0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198880" y="3641760"/>
              <a:ext cx="45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851200" y="365760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162080" y="6111720"/>
              <a:ext cx="16416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624120" y="6035760"/>
              <a:ext cx="16416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347120" y="5931000"/>
              <a:ext cx="236592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824040" y="5715000"/>
              <a:ext cx="476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’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742560" y="571500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’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6" name=""/>
          <p:cNvGrpSpPr/>
          <p:nvPr/>
        </p:nvGrpSpPr>
        <p:grpSpPr>
          <a:xfrm>
            <a:off x="1033560" y="5257800"/>
            <a:ext cx="1292040" cy="758880"/>
            <a:chOff x="1033560" y="5257800"/>
            <a:chExt cx="1292040" cy="758880"/>
          </a:xfrm>
        </p:grpSpPr>
        <p:sp>
          <p:nvSpPr>
            <p:cNvPr id="2187" name=""/>
            <p:cNvSpPr/>
            <p:nvPr/>
          </p:nvSpPr>
          <p:spPr>
            <a:xfrm>
              <a:off x="1258560" y="5407200"/>
              <a:ext cx="1067040" cy="609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033560" y="52578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1" dur="indefinite" restart="never" nodeType="tmRoot">
          <p:childTnLst>
            <p:seq>
              <p:cTn id="2852" dur="indefinite" nodeType="mainSeq">
                <p:childTnLst>
                  <p:par>
                    <p:cTn id="2853" fill="hold">
                      <p:stCondLst>
                        <p:cond delay="0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7" dur="500" fill="hold"/>
                                        <p:tgtEl>
                                          <p:spTgt spid="2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8" dur="500" fill="hold"/>
                                        <p:tgtEl>
                                          <p:spTgt spid="2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3" dur="500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4" dur="500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9" dur="500" fill="hold"/>
                                        <p:tgtEl>
                                          <p:spTgt spid="2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0" dur="500" fill="hold"/>
                                        <p:tgtEl>
                                          <p:spTgt spid="2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4" dur="500" fill="hold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2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0" dur="500" fill="hold"/>
                                        <p:tgtEl>
                                          <p:spTgt spid="2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3" dur="500" fill="hold"/>
                                        <p:tgtEl>
                                          <p:spTgt spid="2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2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9" dur="500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3" dur="500" fill="hold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4" dur="500" fill="hold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x Flow = Min C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190" name=""/>
          <p:cNvGrpSpPr/>
          <p:nvPr/>
        </p:nvGrpSpPr>
        <p:grpSpPr>
          <a:xfrm>
            <a:off x="823680" y="3184560"/>
            <a:ext cx="3416760" cy="3444840"/>
            <a:chOff x="823680" y="3184560"/>
            <a:chExt cx="3416760" cy="3444840"/>
          </a:xfrm>
        </p:grpSpPr>
        <p:sp>
          <p:nvSpPr>
            <p:cNvPr id="2191" name=""/>
            <p:cNvSpPr/>
            <p:nvPr/>
          </p:nvSpPr>
          <p:spPr>
            <a:xfrm>
              <a:off x="1420920" y="5394240"/>
              <a:ext cx="200736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u’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v’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&gt;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u’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v’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127880" y="5199120"/>
              <a:ext cx="16416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589920" y="5156280"/>
              <a:ext cx="16416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210320" y="5033880"/>
              <a:ext cx="2365920" cy="24156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823680" y="48020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779640" y="483552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528560" y="4497480"/>
              <a:ext cx="17150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&gt;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545120" y="3184560"/>
              <a:ext cx="201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Flow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620440" y="3809880"/>
              <a:ext cx="107640" cy="2819520"/>
            </a:xfrm>
            <a:custGeom>
              <a:avLst/>
              <a:gdLst/>
              <a:ahLst/>
              <a:rect l="l" t="t" r="r" b="b"/>
              <a:pathLst>
                <a:path w="3216" h="2304">
                  <a:moveTo>
                    <a:pt x="0" y="2304"/>
                  </a:moveTo>
                  <a:cubicBezTo>
                    <a:pt x="208" y="2195"/>
                    <a:pt x="961" y="1909"/>
                    <a:pt x="1248" y="1648"/>
                  </a:cubicBezTo>
                  <a:cubicBezTo>
                    <a:pt x="1535" y="1387"/>
                    <a:pt x="1392" y="1011"/>
                    <a:pt x="1720" y="736"/>
                  </a:cubicBezTo>
                  <a:cubicBezTo>
                    <a:pt x="2048" y="461"/>
                    <a:pt x="2904" y="153"/>
                    <a:pt x="3216" y="0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198880" y="3641760"/>
              <a:ext cx="45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851200" y="365760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162080" y="6111720"/>
              <a:ext cx="16416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624120" y="6035760"/>
              <a:ext cx="16416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47120" y="5931000"/>
              <a:ext cx="2365920" cy="241200"/>
            </a:xfrm>
            <a:custGeom>
              <a:avLst/>
              <a:gdLst/>
              <a:ahLst/>
              <a:rect l="l" t="t" r="r" b="b"/>
              <a:pathLst>
                <a:path w="1384" h="152">
                  <a:moveTo>
                    <a:pt x="0" y="152"/>
                  </a:moveTo>
                  <a:cubicBezTo>
                    <a:pt x="196" y="84"/>
                    <a:pt x="393" y="16"/>
                    <a:pt x="624" y="8"/>
                  </a:cubicBezTo>
                  <a:cubicBezTo>
                    <a:pt x="855" y="0"/>
                    <a:pt x="1226" y="84"/>
                    <a:pt x="1384" y="1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824040" y="5715000"/>
              <a:ext cx="476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’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742560" y="571500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’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7" name=""/>
          <p:cNvSpPr/>
          <p:nvPr/>
        </p:nvSpPr>
        <p:spPr>
          <a:xfrm>
            <a:off x="1981080" y="914400"/>
            <a:ext cx="3657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8" name=""/>
          <p:cNvGrpSpPr/>
          <p:nvPr/>
        </p:nvGrpSpPr>
        <p:grpSpPr>
          <a:xfrm>
            <a:off x="1068480" y="4129200"/>
            <a:ext cx="2171520" cy="1887480"/>
            <a:chOff x="1068480" y="4129200"/>
            <a:chExt cx="2171520" cy="1887480"/>
          </a:xfrm>
        </p:grpSpPr>
        <p:sp>
          <p:nvSpPr>
            <p:cNvPr id="2209" name=""/>
            <p:cNvSpPr/>
            <p:nvPr/>
          </p:nvSpPr>
          <p:spPr>
            <a:xfrm>
              <a:off x="1529640" y="4129200"/>
              <a:ext cx="170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need equ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644480" y="5029200"/>
              <a:ext cx="155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need zer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173320" y="4572000"/>
              <a:ext cx="1066680" cy="609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1068480" y="4410000"/>
              <a:ext cx="1333440" cy="758880"/>
              <a:chOff x="1068480" y="4410000"/>
              <a:chExt cx="1333440" cy="758880"/>
            </a:xfrm>
          </p:grpSpPr>
          <p:sp>
            <p:nvSpPr>
              <p:cNvPr id="2213" name=""/>
              <p:cNvSpPr/>
              <p:nvPr/>
            </p:nvSpPr>
            <p:spPr>
              <a:xfrm>
                <a:off x="1334880" y="4559400"/>
                <a:ext cx="1067040" cy="6094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1068480" y="441000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15" name=""/>
            <p:cNvGrpSpPr/>
            <p:nvPr/>
          </p:nvGrpSpPr>
          <p:grpSpPr>
            <a:xfrm>
              <a:off x="1073160" y="5257800"/>
              <a:ext cx="1292040" cy="758880"/>
              <a:chOff x="1073160" y="5257800"/>
              <a:chExt cx="1292040" cy="758880"/>
            </a:xfrm>
          </p:grpSpPr>
          <p:sp>
            <p:nvSpPr>
              <p:cNvPr id="2216" name=""/>
              <p:cNvSpPr/>
              <p:nvPr/>
            </p:nvSpPr>
            <p:spPr>
              <a:xfrm>
                <a:off x="1298160" y="5407200"/>
                <a:ext cx="1067040" cy="6094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1073160" y="525780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8" name=""/>
          <p:cNvSpPr/>
          <p:nvPr/>
        </p:nvSpPr>
        <p:spPr>
          <a:xfrm>
            <a:off x="914400" y="914400"/>
            <a:ext cx="75438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     = how much can flow from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 Flow from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inus flow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838080" y="45720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Prov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l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l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 cap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l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5" dur="indefinite" restart="never" nodeType="tmRoot">
          <p:childTnLst>
            <p:seq>
              <p:cTn id="2896" dur="indefinite" nodeType="mainSeq">
                <p:childTnLst>
                  <p:par>
                    <p:cTn id="2897" fill="hold">
                      <p:stCondLst>
                        <p:cond delay="0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1" dur="500" fill="hold"/>
                                        <p:tgtEl>
                                          <p:spTgt spid="2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2" dur="500" fill="hold"/>
                                        <p:tgtEl>
                                          <p:spTgt spid="2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3" fill="hold">
                            <p:stCondLst>
                              <p:cond delay="500"/>
                            </p:stCondLst>
                            <p:childTnLst>
                              <p:par>
                                <p:cTn id="29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6" dur="500" fill="hold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7" dur="500" fill="hold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2" dur="500" fill="hold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3" dur="500" fill="hold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4" fill="hold">
                      <p:stCondLst>
                        <p:cond delay="indefinite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8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9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x Flow = Min C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1104840" y="5199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390840" y="515628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1181160" y="5033880"/>
            <a:ext cx="2197080" cy="241560"/>
          </a:xfrm>
          <a:custGeom>
            <a:avLst/>
            <a:gdLst/>
            <a:ahLst/>
            <a:rect l="l" t="t" r="r" b="b"/>
            <a:pathLst>
              <a:path w="1384" h="152">
                <a:moveTo>
                  <a:pt x="0" y="152"/>
                </a:moveTo>
                <a:cubicBezTo>
                  <a:pt x="196" y="84"/>
                  <a:pt x="393" y="16"/>
                  <a:pt x="624" y="8"/>
                </a:cubicBezTo>
                <a:cubicBezTo>
                  <a:pt x="855" y="0"/>
                  <a:pt x="1226" y="84"/>
                  <a:pt x="1384" y="10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808200" y="4802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554640" y="48355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1416240" y="4497480"/>
            <a:ext cx="1715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491840" y="3184560"/>
            <a:ext cx="201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low Grap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646600" y="4973760"/>
            <a:ext cx="2197080" cy="241200"/>
          </a:xfrm>
          <a:custGeom>
            <a:avLst/>
            <a:gdLst/>
            <a:ahLst/>
            <a:rect l="l" t="t" r="r" b="b"/>
            <a:pathLst>
              <a:path w="1384" h="152">
                <a:moveTo>
                  <a:pt x="0" y="152"/>
                </a:moveTo>
                <a:cubicBezTo>
                  <a:pt x="196" y="84"/>
                  <a:pt x="393" y="16"/>
                  <a:pt x="624" y="8"/>
                </a:cubicBezTo>
                <a:cubicBezTo>
                  <a:pt x="855" y="0"/>
                  <a:pt x="1226" y="84"/>
                  <a:pt x="1384" y="104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894640" y="4419720"/>
            <a:ext cx="1736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718960" y="6156360"/>
            <a:ext cx="2117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’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’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’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’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1" name=""/>
          <p:cNvGrpSpPr/>
          <p:nvPr/>
        </p:nvGrpSpPr>
        <p:grpSpPr>
          <a:xfrm>
            <a:off x="2084040" y="3641760"/>
            <a:ext cx="1019160" cy="2987640"/>
            <a:chOff x="2084040" y="3641760"/>
            <a:chExt cx="1019160" cy="2987640"/>
          </a:xfrm>
        </p:grpSpPr>
        <p:sp>
          <p:nvSpPr>
            <p:cNvPr id="2232" name=""/>
            <p:cNvSpPr/>
            <p:nvPr/>
          </p:nvSpPr>
          <p:spPr>
            <a:xfrm>
              <a:off x="2490840" y="3809880"/>
              <a:ext cx="100080" cy="2819520"/>
            </a:xfrm>
            <a:custGeom>
              <a:avLst/>
              <a:gdLst/>
              <a:ahLst/>
              <a:rect l="l" t="t" r="r" b="b"/>
              <a:pathLst>
                <a:path w="3216" h="2304">
                  <a:moveTo>
                    <a:pt x="0" y="2304"/>
                  </a:moveTo>
                  <a:cubicBezTo>
                    <a:pt x="208" y="2195"/>
                    <a:pt x="961" y="1909"/>
                    <a:pt x="1248" y="1648"/>
                  </a:cubicBezTo>
                  <a:cubicBezTo>
                    <a:pt x="1535" y="1387"/>
                    <a:pt x="1392" y="1011"/>
                    <a:pt x="1720" y="736"/>
                  </a:cubicBezTo>
                  <a:cubicBezTo>
                    <a:pt x="2048" y="461"/>
                    <a:pt x="2904" y="153"/>
                    <a:pt x="3216" y="0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084040" y="3641760"/>
              <a:ext cx="45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689200" y="365760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5" name=""/>
          <p:cNvSpPr/>
          <p:nvPr/>
        </p:nvSpPr>
        <p:spPr>
          <a:xfrm>
            <a:off x="1136520" y="611172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422520" y="603576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1308240" y="5931000"/>
            <a:ext cx="2197080" cy="241200"/>
          </a:xfrm>
          <a:custGeom>
            <a:avLst/>
            <a:gdLst/>
            <a:ahLst/>
            <a:rect l="l" t="t" r="r" b="b"/>
            <a:pathLst>
              <a:path w="1384" h="152">
                <a:moveTo>
                  <a:pt x="0" y="152"/>
                </a:moveTo>
                <a:cubicBezTo>
                  <a:pt x="196" y="84"/>
                  <a:pt x="393" y="16"/>
                  <a:pt x="624" y="8"/>
                </a:cubicBezTo>
                <a:cubicBezTo>
                  <a:pt x="855" y="0"/>
                  <a:pt x="1226" y="84"/>
                  <a:pt x="1384" y="10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05320" y="5715000"/>
            <a:ext cx="47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’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3515040" y="5715000"/>
            <a:ext cx="49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’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1305360" y="5394240"/>
            <a:ext cx="20073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’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’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’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’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flipH="1" flipV="1">
            <a:off x="5701680" y="5943600"/>
            <a:ext cx="2197080" cy="241200"/>
          </a:xfrm>
          <a:custGeom>
            <a:avLst/>
            <a:gdLst/>
            <a:ahLst/>
            <a:rect l="l" t="t" r="r" b="b"/>
            <a:pathLst>
              <a:path w="1384" h="152">
                <a:moveTo>
                  <a:pt x="0" y="152"/>
                </a:moveTo>
                <a:cubicBezTo>
                  <a:pt x="196" y="84"/>
                  <a:pt x="393" y="16"/>
                  <a:pt x="624" y="8"/>
                </a:cubicBezTo>
                <a:cubicBezTo>
                  <a:pt x="855" y="0"/>
                  <a:pt x="1226" y="84"/>
                  <a:pt x="1384" y="104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2" name=""/>
          <p:cNvGrpSpPr/>
          <p:nvPr/>
        </p:nvGrpSpPr>
        <p:grpSpPr>
          <a:xfrm>
            <a:off x="5185440" y="3200400"/>
            <a:ext cx="3407040" cy="3432240"/>
            <a:chOff x="5185440" y="3200400"/>
            <a:chExt cx="3407040" cy="3432240"/>
          </a:xfrm>
        </p:grpSpPr>
        <p:grpSp>
          <p:nvGrpSpPr>
            <p:cNvPr id="2243" name=""/>
            <p:cNvGrpSpPr/>
            <p:nvPr/>
          </p:nvGrpSpPr>
          <p:grpSpPr>
            <a:xfrm>
              <a:off x="5273640" y="4741920"/>
              <a:ext cx="449280" cy="550800"/>
              <a:chOff x="5273640" y="4741920"/>
              <a:chExt cx="449280" cy="550800"/>
            </a:xfrm>
          </p:grpSpPr>
          <p:sp>
            <p:nvSpPr>
              <p:cNvPr id="2244" name=""/>
              <p:cNvSpPr/>
              <p:nvPr/>
            </p:nvSpPr>
            <p:spPr>
              <a:xfrm>
                <a:off x="5570640" y="5138640"/>
                <a:ext cx="152280" cy="15264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273640" y="47419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46" name=""/>
            <p:cNvSpPr/>
            <p:nvPr/>
          </p:nvSpPr>
          <p:spPr>
            <a:xfrm>
              <a:off x="5185440" y="3200400"/>
              <a:ext cx="3407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Augmentation Grap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47" name=""/>
            <p:cNvGrpSpPr/>
            <p:nvPr/>
          </p:nvGrpSpPr>
          <p:grpSpPr>
            <a:xfrm>
              <a:off x="6577920" y="3645000"/>
              <a:ext cx="1019160" cy="2987640"/>
              <a:chOff x="6577920" y="3645000"/>
              <a:chExt cx="1019160" cy="2987640"/>
            </a:xfrm>
          </p:grpSpPr>
          <p:sp>
            <p:nvSpPr>
              <p:cNvPr id="2248" name=""/>
              <p:cNvSpPr/>
              <p:nvPr/>
            </p:nvSpPr>
            <p:spPr>
              <a:xfrm>
                <a:off x="6984720" y="3813120"/>
                <a:ext cx="100080" cy="2819520"/>
              </a:xfrm>
              <a:custGeom>
                <a:avLst/>
                <a:gdLst/>
                <a:ahLst/>
                <a:rect l="l" t="t" r="r" b="b"/>
                <a:pathLst>
                  <a:path w="3216" h="2304">
                    <a:moveTo>
                      <a:pt x="0" y="2304"/>
                    </a:moveTo>
                    <a:cubicBezTo>
                      <a:pt x="208" y="2195"/>
                      <a:pt x="961" y="1909"/>
                      <a:pt x="1248" y="1648"/>
                    </a:cubicBezTo>
                    <a:cubicBezTo>
                      <a:pt x="1535" y="1387"/>
                      <a:pt x="1392" y="1011"/>
                      <a:pt x="1720" y="736"/>
                    </a:cubicBezTo>
                    <a:cubicBezTo>
                      <a:pt x="2048" y="461"/>
                      <a:pt x="2904" y="153"/>
                      <a:pt x="3216" y="0"/>
                    </a:cubicBezTo>
                  </a:path>
                </a:pathLst>
              </a:custGeom>
              <a:noFill/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6577920" y="364500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183080" y="366084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1" name=""/>
            <p:cNvGrpSpPr/>
            <p:nvPr/>
          </p:nvGrpSpPr>
          <p:grpSpPr>
            <a:xfrm>
              <a:off x="5232960" y="5533920"/>
              <a:ext cx="501120" cy="550800"/>
              <a:chOff x="5232960" y="5533920"/>
              <a:chExt cx="501120" cy="550800"/>
            </a:xfrm>
          </p:grpSpPr>
          <p:sp>
            <p:nvSpPr>
              <p:cNvPr id="2252" name=""/>
              <p:cNvSpPr/>
              <p:nvPr/>
            </p:nvSpPr>
            <p:spPr>
              <a:xfrm>
                <a:off x="5581800" y="5931000"/>
                <a:ext cx="152280" cy="15228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5232960" y="5533920"/>
                <a:ext cx="476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v’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4" name=""/>
            <p:cNvGrpSpPr/>
            <p:nvPr/>
          </p:nvGrpSpPr>
          <p:grpSpPr>
            <a:xfrm>
              <a:off x="7856640" y="4818240"/>
              <a:ext cx="601200" cy="1295280"/>
              <a:chOff x="7856640" y="4818240"/>
              <a:chExt cx="601200" cy="1295280"/>
            </a:xfrm>
          </p:grpSpPr>
          <p:sp>
            <p:nvSpPr>
              <p:cNvPr id="2255" name=""/>
              <p:cNvSpPr/>
              <p:nvPr/>
            </p:nvSpPr>
            <p:spPr>
              <a:xfrm>
                <a:off x="7856640" y="5138640"/>
                <a:ext cx="152280" cy="15264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8020440" y="4818240"/>
                <a:ext cx="3499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867800" y="5883120"/>
                <a:ext cx="152280" cy="15264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959960" y="55627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u’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59" name=""/>
          <p:cNvSpPr/>
          <p:nvPr/>
        </p:nvSpPr>
        <p:spPr>
          <a:xfrm>
            <a:off x="3867840" y="36576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chable from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468920" y="3672000"/>
            <a:ext cx="9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n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325200" y="4114800"/>
            <a:ext cx="15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ed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2" name=""/>
          <p:cNvGrpSpPr/>
          <p:nvPr/>
        </p:nvGrpSpPr>
        <p:grpSpPr>
          <a:xfrm>
            <a:off x="7605720" y="4562640"/>
            <a:ext cx="850680" cy="2282400"/>
            <a:chOff x="7605720" y="4562640"/>
            <a:chExt cx="850680" cy="2282400"/>
          </a:xfrm>
        </p:grpSpPr>
        <p:sp>
          <p:nvSpPr>
            <p:cNvPr id="2263" name=""/>
            <p:cNvSpPr/>
            <p:nvPr/>
          </p:nvSpPr>
          <p:spPr>
            <a:xfrm>
              <a:off x="7605720" y="4562640"/>
              <a:ext cx="55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=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897680" y="6324480"/>
              <a:ext cx="55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=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5" name=""/>
          <p:cNvGrpSpPr/>
          <p:nvPr/>
        </p:nvGrpSpPr>
        <p:grpSpPr>
          <a:xfrm>
            <a:off x="1028880" y="4129200"/>
            <a:ext cx="2171520" cy="1052280"/>
            <a:chOff x="1028880" y="4129200"/>
            <a:chExt cx="2171520" cy="1052280"/>
          </a:xfrm>
        </p:grpSpPr>
        <p:sp>
          <p:nvSpPr>
            <p:cNvPr id="2266" name=""/>
            <p:cNvSpPr/>
            <p:nvPr/>
          </p:nvSpPr>
          <p:spPr>
            <a:xfrm>
              <a:off x="1490040" y="4129200"/>
              <a:ext cx="170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need equ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133720" y="4572000"/>
              <a:ext cx="1066680" cy="609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8" name=""/>
            <p:cNvGrpSpPr/>
            <p:nvPr/>
          </p:nvGrpSpPr>
          <p:grpSpPr>
            <a:xfrm>
              <a:off x="1028880" y="4410000"/>
              <a:ext cx="1333440" cy="758880"/>
              <a:chOff x="1028880" y="4410000"/>
              <a:chExt cx="1333440" cy="758880"/>
            </a:xfrm>
          </p:grpSpPr>
          <p:sp>
            <p:nvSpPr>
              <p:cNvPr id="2269" name=""/>
              <p:cNvSpPr/>
              <p:nvPr/>
            </p:nvSpPr>
            <p:spPr>
              <a:xfrm>
                <a:off x="1295280" y="4559400"/>
                <a:ext cx="1067040" cy="6094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028880" y="441000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1" name=""/>
          <p:cNvGrpSpPr/>
          <p:nvPr/>
        </p:nvGrpSpPr>
        <p:grpSpPr>
          <a:xfrm>
            <a:off x="1033560" y="5029200"/>
            <a:ext cx="2122200" cy="987480"/>
            <a:chOff x="1033560" y="5029200"/>
            <a:chExt cx="2122200" cy="987480"/>
          </a:xfrm>
        </p:grpSpPr>
        <p:sp>
          <p:nvSpPr>
            <p:cNvPr id="2272" name=""/>
            <p:cNvSpPr/>
            <p:nvPr/>
          </p:nvSpPr>
          <p:spPr>
            <a:xfrm>
              <a:off x="1604880" y="5029200"/>
              <a:ext cx="155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need zer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3" name=""/>
            <p:cNvGrpSpPr/>
            <p:nvPr/>
          </p:nvGrpSpPr>
          <p:grpSpPr>
            <a:xfrm>
              <a:off x="1033560" y="5257800"/>
              <a:ext cx="1292040" cy="758880"/>
              <a:chOff x="1033560" y="5257800"/>
              <a:chExt cx="1292040" cy="758880"/>
            </a:xfrm>
          </p:grpSpPr>
          <p:sp>
            <p:nvSpPr>
              <p:cNvPr id="2274" name=""/>
              <p:cNvSpPr/>
              <p:nvPr/>
            </p:nvSpPr>
            <p:spPr>
              <a:xfrm>
                <a:off x="1258560" y="5407200"/>
                <a:ext cx="1067040" cy="6094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1033560" y="525780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76" name=""/>
          <p:cNvSpPr/>
          <p:nvPr/>
        </p:nvSpPr>
        <p:spPr>
          <a:xfrm>
            <a:off x="1676520" y="380880"/>
            <a:ext cx="43434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914400" y="914400"/>
            <a:ext cx="75438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     = how much can flow from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 Flow from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inus flow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838080" y="45720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Prov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l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l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 cap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l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0" dur="indefinite" restart="never" nodeType="tmRoot">
          <p:childTnLst>
            <p:seq>
              <p:cTn id="2921" dur="indefinite" nodeType="mainSeq">
                <p:childTnLst>
                  <p:par>
                    <p:cTn id="2922" fill="hold">
                      <p:stCondLst>
                        <p:cond delay="0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1" dur="500" fill="hold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fill="hold">
                      <p:stCondLst>
                        <p:cond delay="indefinite"/>
                      </p:stCondLst>
                      <p:childTnLst>
                        <p:par>
                          <p:cTn id="2934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fill="hold">
                      <p:stCondLst>
                        <p:cond delay="indefinite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2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2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1" fill="hold">
                      <p:stCondLst>
                        <p:cond delay="indefinite"/>
                      </p:stCondLst>
                      <p:childTnLst>
                        <p:par>
                          <p:cTn id="2952" fill="hold">
                            <p:stCondLst>
                              <p:cond delay="0"/>
                            </p:stCondLst>
                            <p:childTnLst>
                              <p:par>
                                <p:cTn id="29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1" dur="500" fill="hold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7" dur="500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9" fill="hold">
                            <p:stCondLst>
                              <p:cond delay="500"/>
                            </p:stCondLst>
                            <p:childTnLst>
                              <p:par>
                                <p:cTn id="29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2" dur="500" fill="hold"/>
                                        <p:tgtEl>
                                          <p:spTgt spid="2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3" dur="500" fill="hold"/>
                                        <p:tgtEl>
                                          <p:spTgt spid="2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4" fill="hold">
                      <p:stCondLst>
                        <p:cond delay="indefinite"/>
                      </p:stCondLst>
                      <p:childTnLst>
                        <p:par>
                          <p:cTn id="2975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8" dur="500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fill="hold">
                      <p:stCondLst>
                        <p:cond delay="indefinite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4" dur="500" fill="hold"/>
                                        <p:tgtEl>
                                          <p:spTgt spid="2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5" dur="500" fill="hold"/>
                                        <p:tgtEl>
                                          <p:spTgt spid="2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6" fill="hold">
                      <p:stCondLst>
                        <p:cond delay="indefinite"/>
                      </p:stCondLst>
                      <p:childTnLst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0" dur="10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1" dur="10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10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3" dur="10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fill="hold">
                      <p:stCondLst>
                        <p:cond delay="indefinite"/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8" dur="100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9" dur="100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0" dur="100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1" dur="100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2" fill="hold">
                      <p:stCondLst>
                        <p:cond delay="indefinite"/>
                      </p:stCondLst>
                      <p:childTnLst>
                        <p:par>
                          <p:cTn id="3003" fill="hold">
                            <p:stCondLst>
                              <p:cond delay="0"/>
                            </p:stCondLst>
                            <p:childTnLst>
                              <p:par>
                                <p:cTn id="30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6" dur="1000" fill="hold"/>
                                        <p:tgtEl>
                                          <p:spTgt spid="2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7" dur="1000" fill="hold"/>
                                        <p:tgtEl>
                                          <p:spTgt spid="2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8" dur="1000" fill="hold"/>
                                        <p:tgtEl>
                                          <p:spTgt spid="2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1000" fill="hold"/>
                                        <p:tgtEl>
                                          <p:spTgt spid="2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"/>
          <p:cNvSpPr/>
          <p:nvPr/>
        </p:nvSpPr>
        <p:spPr>
          <a:xfrm>
            <a:off x="0" y="380880"/>
            <a:ext cx="883908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eore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ll Networks   Ma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ate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Mi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Prove: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rate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ap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x Flow = Min C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281" name=""/>
          <p:cNvGrpSpPr/>
          <p:nvPr/>
        </p:nvGrpSpPr>
        <p:grpSpPr>
          <a:xfrm>
            <a:off x="1066680" y="4343400"/>
            <a:ext cx="5867280" cy="2435040"/>
            <a:chOff x="1066680" y="4343400"/>
            <a:chExt cx="5867280" cy="2435040"/>
          </a:xfrm>
        </p:grpSpPr>
        <p:pic>
          <p:nvPicPr>
            <p:cNvPr id="2282" name="" descr=""/>
            <p:cNvPicPr/>
            <p:nvPr/>
          </p:nvPicPr>
          <p:blipFill>
            <a:blip r:embed="rId1"/>
            <a:stretch/>
          </p:blipFill>
          <p:spPr>
            <a:xfrm>
              <a:off x="2939400" y="4722480"/>
              <a:ext cx="2434320" cy="20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3" name=""/>
            <p:cNvSpPr/>
            <p:nvPr/>
          </p:nvSpPr>
          <p:spPr>
            <a:xfrm>
              <a:off x="4021200" y="4993200"/>
              <a:ext cx="0" cy="3247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84" name=""/>
            <p:cNvGrpSpPr/>
            <p:nvPr/>
          </p:nvGrpSpPr>
          <p:grpSpPr>
            <a:xfrm>
              <a:off x="1066680" y="5013360"/>
              <a:ext cx="2121840" cy="1375920"/>
              <a:chOff x="1066680" y="5013360"/>
              <a:chExt cx="2121840" cy="1375920"/>
            </a:xfrm>
          </p:grpSpPr>
          <p:grpSp>
            <p:nvGrpSpPr>
              <p:cNvPr id="2285" name=""/>
              <p:cNvGrpSpPr/>
              <p:nvPr/>
            </p:nvGrpSpPr>
            <p:grpSpPr>
              <a:xfrm>
                <a:off x="1267920" y="5013360"/>
                <a:ext cx="1920600" cy="1375920"/>
                <a:chOff x="1267920" y="5013360"/>
                <a:chExt cx="1920600" cy="1375920"/>
              </a:xfrm>
            </p:grpSpPr>
            <p:sp>
              <p:nvSpPr>
                <p:cNvPr id="2286" name=""/>
                <p:cNvSpPr/>
                <p:nvPr/>
              </p:nvSpPr>
              <p:spPr>
                <a:xfrm flipH="1">
                  <a:off x="1267560" y="5013360"/>
                  <a:ext cx="1901160" cy="1305720"/>
                </a:xfrm>
                <a:custGeom>
                  <a:avLst/>
                  <a:gdLst/>
                  <a:ahLst/>
                  <a:rect l="l" t="t" r="r" b="b"/>
                  <a:pathLst>
                    <a:path w="2924" h="2314">
                      <a:moveTo>
                        <a:pt x="1167" y="80"/>
                      </a:moveTo>
                      <a:lnTo>
                        <a:pt x="1111" y="69"/>
                      </a:lnTo>
                      <a:lnTo>
                        <a:pt x="1064" y="58"/>
                      </a:lnTo>
                      <a:lnTo>
                        <a:pt x="1024" y="47"/>
                      </a:lnTo>
                      <a:lnTo>
                        <a:pt x="993" y="38"/>
                      </a:lnTo>
                      <a:lnTo>
                        <a:pt x="964" y="29"/>
                      </a:lnTo>
                      <a:lnTo>
                        <a:pt x="943" y="22"/>
                      </a:lnTo>
                      <a:lnTo>
                        <a:pt x="925" y="14"/>
                      </a:lnTo>
                      <a:lnTo>
                        <a:pt x="911" y="11"/>
                      </a:lnTo>
                      <a:lnTo>
                        <a:pt x="898" y="6"/>
                      </a:lnTo>
                      <a:lnTo>
                        <a:pt x="885" y="2"/>
                      </a:lnTo>
                      <a:lnTo>
                        <a:pt x="873" y="0"/>
                      </a:lnTo>
                      <a:lnTo>
                        <a:pt x="862" y="0"/>
                      </a:lnTo>
                      <a:lnTo>
                        <a:pt x="848" y="0"/>
                      </a:lnTo>
                      <a:lnTo>
                        <a:pt x="831" y="1"/>
                      </a:lnTo>
                      <a:lnTo>
                        <a:pt x="811" y="5"/>
                      </a:lnTo>
                      <a:lnTo>
                        <a:pt x="788" y="11"/>
                      </a:lnTo>
                      <a:lnTo>
                        <a:pt x="759" y="14"/>
                      </a:lnTo>
                      <a:lnTo>
                        <a:pt x="733" y="19"/>
                      </a:lnTo>
                      <a:lnTo>
                        <a:pt x="706" y="21"/>
                      </a:lnTo>
                      <a:lnTo>
                        <a:pt x="680" y="23"/>
                      </a:lnTo>
                      <a:lnTo>
                        <a:pt x="653" y="24"/>
                      </a:lnTo>
                      <a:lnTo>
                        <a:pt x="628" y="26"/>
                      </a:lnTo>
                      <a:lnTo>
                        <a:pt x="601" y="28"/>
                      </a:lnTo>
                      <a:lnTo>
                        <a:pt x="576" y="31"/>
                      </a:lnTo>
                      <a:lnTo>
                        <a:pt x="550" y="33"/>
                      </a:lnTo>
                      <a:lnTo>
                        <a:pt x="525" y="38"/>
                      </a:lnTo>
                      <a:lnTo>
                        <a:pt x="500" y="43"/>
                      </a:lnTo>
                      <a:lnTo>
                        <a:pt x="474" y="51"/>
                      </a:lnTo>
                      <a:lnTo>
                        <a:pt x="449" y="60"/>
                      </a:lnTo>
                      <a:lnTo>
                        <a:pt x="423" y="72"/>
                      </a:lnTo>
                      <a:lnTo>
                        <a:pt x="398" y="87"/>
                      </a:lnTo>
                      <a:lnTo>
                        <a:pt x="372" y="105"/>
                      </a:lnTo>
                      <a:lnTo>
                        <a:pt x="346" y="124"/>
                      </a:lnTo>
                      <a:lnTo>
                        <a:pt x="324" y="142"/>
                      </a:lnTo>
                      <a:lnTo>
                        <a:pt x="301" y="159"/>
                      </a:lnTo>
                      <a:lnTo>
                        <a:pt x="281" y="177"/>
                      </a:lnTo>
                      <a:lnTo>
                        <a:pt x="262" y="194"/>
                      </a:lnTo>
                      <a:lnTo>
                        <a:pt x="244" y="210"/>
                      </a:lnTo>
                      <a:lnTo>
                        <a:pt x="230" y="228"/>
                      </a:lnTo>
                      <a:lnTo>
                        <a:pt x="217" y="244"/>
                      </a:lnTo>
                      <a:lnTo>
                        <a:pt x="203" y="261"/>
                      </a:lnTo>
                      <a:lnTo>
                        <a:pt x="194" y="278"/>
                      </a:lnTo>
                      <a:lnTo>
                        <a:pt x="186" y="294"/>
                      </a:lnTo>
                      <a:lnTo>
                        <a:pt x="180" y="312"/>
                      </a:lnTo>
                      <a:lnTo>
                        <a:pt x="175" y="331"/>
                      </a:lnTo>
                      <a:lnTo>
                        <a:pt x="173" y="348"/>
                      </a:lnTo>
                      <a:lnTo>
                        <a:pt x="173" y="368"/>
                      </a:lnTo>
                      <a:lnTo>
                        <a:pt x="176" y="389"/>
                      </a:lnTo>
                      <a:lnTo>
                        <a:pt x="176" y="407"/>
                      </a:lnTo>
                      <a:lnTo>
                        <a:pt x="173" y="426"/>
                      </a:lnTo>
                      <a:lnTo>
                        <a:pt x="167" y="441"/>
                      </a:lnTo>
                      <a:lnTo>
                        <a:pt x="158" y="458"/>
                      </a:lnTo>
                      <a:lnTo>
                        <a:pt x="146" y="473"/>
                      </a:lnTo>
                      <a:lnTo>
                        <a:pt x="133" y="488"/>
                      </a:lnTo>
                      <a:lnTo>
                        <a:pt x="118" y="502"/>
                      </a:lnTo>
                      <a:lnTo>
                        <a:pt x="104" y="519"/>
                      </a:lnTo>
                      <a:lnTo>
                        <a:pt x="86" y="533"/>
                      </a:lnTo>
                      <a:lnTo>
                        <a:pt x="72" y="552"/>
                      </a:lnTo>
                      <a:lnTo>
                        <a:pt x="56" y="569"/>
                      </a:lnTo>
                      <a:lnTo>
                        <a:pt x="42" y="592"/>
                      </a:lnTo>
                      <a:lnTo>
                        <a:pt x="29" y="614"/>
                      </a:lnTo>
                      <a:lnTo>
                        <a:pt x="18" y="640"/>
                      </a:lnTo>
                      <a:lnTo>
                        <a:pt x="10" y="670"/>
                      </a:lnTo>
                      <a:lnTo>
                        <a:pt x="4" y="703"/>
                      </a:lnTo>
                      <a:lnTo>
                        <a:pt x="1" y="735"/>
                      </a:lnTo>
                      <a:lnTo>
                        <a:pt x="0" y="768"/>
                      </a:lnTo>
                      <a:lnTo>
                        <a:pt x="1" y="799"/>
                      </a:lnTo>
                      <a:lnTo>
                        <a:pt x="4" y="833"/>
                      </a:lnTo>
                      <a:lnTo>
                        <a:pt x="8" y="861"/>
                      </a:lnTo>
                      <a:lnTo>
                        <a:pt x="14" y="891"/>
                      </a:lnTo>
                      <a:lnTo>
                        <a:pt x="20" y="918"/>
                      </a:lnTo>
                      <a:lnTo>
                        <a:pt x="27" y="946"/>
                      </a:lnTo>
                      <a:lnTo>
                        <a:pt x="34" y="971"/>
                      </a:lnTo>
                      <a:lnTo>
                        <a:pt x="42" y="996"/>
                      </a:lnTo>
                      <a:lnTo>
                        <a:pt x="48" y="1018"/>
                      </a:lnTo>
                      <a:lnTo>
                        <a:pt x="56" y="1042"/>
                      </a:lnTo>
                      <a:lnTo>
                        <a:pt x="61" y="1061"/>
                      </a:lnTo>
                      <a:lnTo>
                        <a:pt x="66" y="1081"/>
                      </a:lnTo>
                      <a:lnTo>
                        <a:pt x="71" y="1100"/>
                      </a:lnTo>
                      <a:lnTo>
                        <a:pt x="73" y="1118"/>
                      </a:lnTo>
                      <a:lnTo>
                        <a:pt x="73" y="1134"/>
                      </a:lnTo>
                      <a:lnTo>
                        <a:pt x="72" y="1155"/>
                      </a:lnTo>
                      <a:lnTo>
                        <a:pt x="71" y="1178"/>
                      </a:lnTo>
                      <a:lnTo>
                        <a:pt x="68" y="1203"/>
                      </a:lnTo>
                      <a:lnTo>
                        <a:pt x="63" y="1227"/>
                      </a:lnTo>
                      <a:lnTo>
                        <a:pt x="60" y="1256"/>
                      </a:lnTo>
                      <a:lnTo>
                        <a:pt x="54" y="1286"/>
                      </a:lnTo>
                      <a:lnTo>
                        <a:pt x="50" y="1319"/>
                      </a:lnTo>
                      <a:lnTo>
                        <a:pt x="44" y="1351"/>
                      </a:lnTo>
                      <a:lnTo>
                        <a:pt x="39" y="1384"/>
                      </a:lnTo>
                      <a:lnTo>
                        <a:pt x="33" y="1420"/>
                      </a:lnTo>
                      <a:lnTo>
                        <a:pt x="29" y="1456"/>
                      </a:lnTo>
                      <a:lnTo>
                        <a:pt x="24" y="1493"/>
                      </a:lnTo>
                      <a:lnTo>
                        <a:pt x="21" y="1529"/>
                      </a:lnTo>
                      <a:lnTo>
                        <a:pt x="18" y="1567"/>
                      </a:lnTo>
                      <a:lnTo>
                        <a:pt x="16" y="1607"/>
                      </a:lnTo>
                      <a:lnTo>
                        <a:pt x="15" y="1644"/>
                      </a:lnTo>
                      <a:lnTo>
                        <a:pt x="19" y="1681"/>
                      </a:lnTo>
                      <a:lnTo>
                        <a:pt x="24" y="1717"/>
                      </a:lnTo>
                      <a:lnTo>
                        <a:pt x="32" y="1755"/>
                      </a:lnTo>
                      <a:lnTo>
                        <a:pt x="40" y="1789"/>
                      </a:lnTo>
                      <a:lnTo>
                        <a:pt x="52" y="1823"/>
                      </a:lnTo>
                      <a:lnTo>
                        <a:pt x="64" y="1855"/>
                      </a:lnTo>
                      <a:lnTo>
                        <a:pt x="77" y="1887"/>
                      </a:lnTo>
                      <a:lnTo>
                        <a:pt x="89" y="1915"/>
                      </a:lnTo>
                      <a:lnTo>
                        <a:pt x="103" y="1943"/>
                      </a:lnTo>
                      <a:lnTo>
                        <a:pt x="115" y="1967"/>
                      </a:lnTo>
                      <a:lnTo>
                        <a:pt x="128" y="1991"/>
                      </a:lnTo>
                      <a:lnTo>
                        <a:pt x="138" y="2011"/>
                      </a:lnTo>
                      <a:lnTo>
                        <a:pt x="147" y="2029"/>
                      </a:lnTo>
                      <a:lnTo>
                        <a:pt x="155" y="2045"/>
                      </a:lnTo>
                      <a:lnTo>
                        <a:pt x="161" y="2059"/>
                      </a:lnTo>
                      <a:lnTo>
                        <a:pt x="166" y="2068"/>
                      </a:lnTo>
                      <a:lnTo>
                        <a:pt x="178" y="2076"/>
                      </a:lnTo>
                      <a:lnTo>
                        <a:pt x="193" y="2084"/>
                      </a:lnTo>
                      <a:lnTo>
                        <a:pt x="212" y="2093"/>
                      </a:lnTo>
                      <a:lnTo>
                        <a:pt x="233" y="2097"/>
                      </a:lnTo>
                      <a:lnTo>
                        <a:pt x="257" y="2104"/>
                      </a:lnTo>
                      <a:lnTo>
                        <a:pt x="284" y="2107"/>
                      </a:lnTo>
                      <a:lnTo>
                        <a:pt x="312" y="2112"/>
                      </a:lnTo>
                      <a:lnTo>
                        <a:pt x="339" y="2114"/>
                      </a:lnTo>
                      <a:lnTo>
                        <a:pt x="369" y="2117"/>
                      </a:lnTo>
                      <a:lnTo>
                        <a:pt x="397" y="2118"/>
                      </a:lnTo>
                      <a:lnTo>
                        <a:pt x="425" y="2119"/>
                      </a:lnTo>
                      <a:lnTo>
                        <a:pt x="451" y="2121"/>
                      </a:lnTo>
                      <a:lnTo>
                        <a:pt x="475" y="2122"/>
                      </a:lnTo>
                      <a:lnTo>
                        <a:pt x="497" y="2122"/>
                      </a:lnTo>
                      <a:lnTo>
                        <a:pt x="517" y="2123"/>
                      </a:lnTo>
                      <a:lnTo>
                        <a:pt x="535" y="2124"/>
                      </a:lnTo>
                      <a:lnTo>
                        <a:pt x="556" y="2131"/>
                      </a:lnTo>
                      <a:lnTo>
                        <a:pt x="579" y="2139"/>
                      </a:lnTo>
                      <a:lnTo>
                        <a:pt x="605" y="2152"/>
                      </a:lnTo>
                      <a:lnTo>
                        <a:pt x="631" y="2164"/>
                      </a:lnTo>
                      <a:lnTo>
                        <a:pt x="661" y="2179"/>
                      </a:lnTo>
                      <a:lnTo>
                        <a:pt x="692" y="2196"/>
                      </a:lnTo>
                      <a:lnTo>
                        <a:pt x="726" y="2212"/>
                      </a:lnTo>
                      <a:lnTo>
                        <a:pt x="762" y="2228"/>
                      </a:lnTo>
                      <a:lnTo>
                        <a:pt x="800" y="2243"/>
                      </a:lnTo>
                      <a:lnTo>
                        <a:pt x="839" y="2258"/>
                      </a:lnTo>
                      <a:lnTo>
                        <a:pt x="883" y="2270"/>
                      </a:lnTo>
                      <a:lnTo>
                        <a:pt x="927" y="2280"/>
                      </a:lnTo>
                      <a:lnTo>
                        <a:pt x="975" y="2288"/>
                      </a:lnTo>
                      <a:lnTo>
                        <a:pt x="1024" y="2291"/>
                      </a:lnTo>
                      <a:lnTo>
                        <a:pt x="1078" y="2292"/>
                      </a:lnTo>
                      <a:lnTo>
                        <a:pt x="1127" y="2285"/>
                      </a:lnTo>
                      <a:lnTo>
                        <a:pt x="1174" y="2278"/>
                      </a:lnTo>
                      <a:lnTo>
                        <a:pt x="1217" y="2267"/>
                      </a:lnTo>
                      <a:lnTo>
                        <a:pt x="1258" y="2255"/>
                      </a:lnTo>
                      <a:lnTo>
                        <a:pt x="1293" y="2241"/>
                      </a:lnTo>
                      <a:lnTo>
                        <a:pt x="1330" y="2227"/>
                      </a:lnTo>
                      <a:lnTo>
                        <a:pt x="1365" y="2212"/>
                      </a:lnTo>
                      <a:lnTo>
                        <a:pt x="1401" y="2201"/>
                      </a:lnTo>
                      <a:lnTo>
                        <a:pt x="1434" y="2190"/>
                      </a:lnTo>
                      <a:lnTo>
                        <a:pt x="1470" y="2183"/>
                      </a:lnTo>
                      <a:lnTo>
                        <a:pt x="1507" y="2178"/>
                      </a:lnTo>
                      <a:lnTo>
                        <a:pt x="1546" y="2178"/>
                      </a:lnTo>
                      <a:lnTo>
                        <a:pt x="1590" y="2183"/>
                      </a:lnTo>
                      <a:lnTo>
                        <a:pt x="1635" y="2192"/>
                      </a:lnTo>
                      <a:lnTo>
                        <a:pt x="1685" y="2209"/>
                      </a:lnTo>
                      <a:lnTo>
                        <a:pt x="1740" y="2233"/>
                      </a:lnTo>
                      <a:lnTo>
                        <a:pt x="1794" y="2258"/>
                      </a:lnTo>
                      <a:lnTo>
                        <a:pt x="1843" y="2276"/>
                      </a:lnTo>
                      <a:lnTo>
                        <a:pt x="1887" y="2291"/>
                      </a:lnTo>
                      <a:lnTo>
                        <a:pt x="1928" y="2303"/>
                      </a:lnTo>
                      <a:lnTo>
                        <a:pt x="1965" y="2310"/>
                      </a:lnTo>
                      <a:lnTo>
                        <a:pt x="2001" y="2314"/>
                      </a:lnTo>
                      <a:lnTo>
                        <a:pt x="2033" y="2314"/>
                      </a:lnTo>
                      <a:lnTo>
                        <a:pt x="2066" y="2314"/>
                      </a:lnTo>
                      <a:lnTo>
                        <a:pt x="2096" y="2309"/>
                      </a:lnTo>
                      <a:lnTo>
                        <a:pt x="2128" y="2304"/>
                      </a:lnTo>
                      <a:lnTo>
                        <a:pt x="2161" y="2295"/>
                      </a:lnTo>
                      <a:lnTo>
                        <a:pt x="2196" y="2288"/>
                      </a:lnTo>
                      <a:lnTo>
                        <a:pt x="2232" y="2279"/>
                      </a:lnTo>
                      <a:lnTo>
                        <a:pt x="2273" y="2270"/>
                      </a:lnTo>
                      <a:lnTo>
                        <a:pt x="2315" y="2260"/>
                      </a:lnTo>
                      <a:lnTo>
                        <a:pt x="2365" y="2253"/>
                      </a:lnTo>
                      <a:lnTo>
                        <a:pt x="2412" y="2247"/>
                      </a:lnTo>
                      <a:lnTo>
                        <a:pt x="2456" y="2242"/>
                      </a:lnTo>
                      <a:lnTo>
                        <a:pt x="2496" y="2240"/>
                      </a:lnTo>
                      <a:lnTo>
                        <a:pt x="2534" y="2241"/>
                      </a:lnTo>
                      <a:lnTo>
                        <a:pt x="2565" y="2241"/>
                      </a:lnTo>
                      <a:lnTo>
                        <a:pt x="2594" y="2244"/>
                      </a:lnTo>
                      <a:lnTo>
                        <a:pt x="2620" y="2246"/>
                      </a:lnTo>
                      <a:lnTo>
                        <a:pt x="2642" y="2247"/>
                      </a:lnTo>
                      <a:lnTo>
                        <a:pt x="2661" y="2247"/>
                      </a:lnTo>
                      <a:lnTo>
                        <a:pt x="2676" y="2243"/>
                      </a:lnTo>
                      <a:lnTo>
                        <a:pt x="2690" y="2237"/>
                      </a:lnTo>
                      <a:lnTo>
                        <a:pt x="2701" y="2230"/>
                      </a:lnTo>
                      <a:lnTo>
                        <a:pt x="2708" y="2217"/>
                      </a:lnTo>
                      <a:lnTo>
                        <a:pt x="2714" y="2200"/>
                      </a:lnTo>
                      <a:lnTo>
                        <a:pt x="2717" y="2179"/>
                      </a:lnTo>
                      <a:lnTo>
                        <a:pt x="2719" y="2154"/>
                      </a:lnTo>
                      <a:lnTo>
                        <a:pt x="2719" y="2123"/>
                      </a:lnTo>
                      <a:lnTo>
                        <a:pt x="2720" y="2096"/>
                      </a:lnTo>
                      <a:lnTo>
                        <a:pt x="2722" y="2073"/>
                      </a:lnTo>
                      <a:lnTo>
                        <a:pt x="2724" y="2050"/>
                      </a:lnTo>
                      <a:lnTo>
                        <a:pt x="2727" y="2028"/>
                      </a:lnTo>
                      <a:lnTo>
                        <a:pt x="2732" y="2009"/>
                      </a:lnTo>
                      <a:lnTo>
                        <a:pt x="2735" y="1991"/>
                      </a:lnTo>
                      <a:lnTo>
                        <a:pt x="2741" y="1975"/>
                      </a:lnTo>
                      <a:lnTo>
                        <a:pt x="2745" y="1957"/>
                      </a:lnTo>
                      <a:lnTo>
                        <a:pt x="2751" y="1943"/>
                      </a:lnTo>
                      <a:lnTo>
                        <a:pt x="2757" y="1926"/>
                      </a:lnTo>
                      <a:lnTo>
                        <a:pt x="2764" y="1911"/>
                      </a:lnTo>
                      <a:lnTo>
                        <a:pt x="2769" y="1895"/>
                      </a:lnTo>
                      <a:lnTo>
                        <a:pt x="2777" y="1880"/>
                      </a:lnTo>
                      <a:lnTo>
                        <a:pt x="2783" y="1863"/>
                      </a:lnTo>
                      <a:lnTo>
                        <a:pt x="2790" y="1846"/>
                      </a:lnTo>
                      <a:lnTo>
                        <a:pt x="2798" y="1829"/>
                      </a:lnTo>
                      <a:lnTo>
                        <a:pt x="2807" y="1813"/>
                      </a:lnTo>
                      <a:lnTo>
                        <a:pt x="2816" y="1798"/>
                      </a:lnTo>
                      <a:lnTo>
                        <a:pt x="2828" y="1783"/>
                      </a:lnTo>
                      <a:lnTo>
                        <a:pt x="2839" y="1768"/>
                      </a:lnTo>
                      <a:lnTo>
                        <a:pt x="2851" y="1754"/>
                      </a:lnTo>
                      <a:lnTo>
                        <a:pt x="2863" y="1737"/>
                      </a:lnTo>
                      <a:lnTo>
                        <a:pt x="2875" y="1723"/>
                      </a:lnTo>
                      <a:lnTo>
                        <a:pt x="2884" y="1704"/>
                      </a:lnTo>
                      <a:lnTo>
                        <a:pt x="2894" y="1686"/>
                      </a:lnTo>
                      <a:lnTo>
                        <a:pt x="2903" y="1665"/>
                      </a:lnTo>
                      <a:lnTo>
                        <a:pt x="2910" y="1643"/>
                      </a:lnTo>
                      <a:lnTo>
                        <a:pt x="2914" y="1618"/>
                      </a:lnTo>
                      <a:lnTo>
                        <a:pt x="2916" y="1590"/>
                      </a:lnTo>
                      <a:lnTo>
                        <a:pt x="2916" y="1560"/>
                      </a:lnTo>
                      <a:lnTo>
                        <a:pt x="2915" y="1527"/>
                      </a:lnTo>
                      <a:lnTo>
                        <a:pt x="2911" y="1490"/>
                      </a:lnTo>
                      <a:lnTo>
                        <a:pt x="2911" y="1457"/>
                      </a:lnTo>
                      <a:lnTo>
                        <a:pt x="2911" y="1424"/>
                      </a:lnTo>
                      <a:lnTo>
                        <a:pt x="2914" y="1392"/>
                      </a:lnTo>
                      <a:lnTo>
                        <a:pt x="2916" y="1360"/>
                      </a:lnTo>
                      <a:lnTo>
                        <a:pt x="2918" y="1331"/>
                      </a:lnTo>
                      <a:lnTo>
                        <a:pt x="2921" y="1300"/>
                      </a:lnTo>
                      <a:lnTo>
                        <a:pt x="2924" y="1274"/>
                      </a:lnTo>
                      <a:lnTo>
                        <a:pt x="2923" y="1244"/>
                      </a:lnTo>
                      <a:lnTo>
                        <a:pt x="2922" y="1216"/>
                      </a:lnTo>
                      <a:lnTo>
                        <a:pt x="2917" y="1190"/>
                      </a:lnTo>
                      <a:lnTo>
                        <a:pt x="2912" y="1163"/>
                      </a:lnTo>
                      <a:lnTo>
                        <a:pt x="2901" y="1136"/>
                      </a:lnTo>
                      <a:lnTo>
                        <a:pt x="2887" y="1111"/>
                      </a:lnTo>
                      <a:lnTo>
                        <a:pt x="2871" y="1087"/>
                      </a:lnTo>
                      <a:lnTo>
                        <a:pt x="2849" y="1063"/>
                      </a:lnTo>
                      <a:lnTo>
                        <a:pt x="2824" y="1037"/>
                      </a:lnTo>
                      <a:lnTo>
                        <a:pt x="2804" y="1015"/>
                      </a:lnTo>
                      <a:lnTo>
                        <a:pt x="2786" y="993"/>
                      </a:lnTo>
                      <a:lnTo>
                        <a:pt x="2768" y="972"/>
                      </a:lnTo>
                      <a:lnTo>
                        <a:pt x="2750" y="952"/>
                      </a:lnTo>
                      <a:lnTo>
                        <a:pt x="2734" y="935"/>
                      </a:lnTo>
                      <a:lnTo>
                        <a:pt x="2714" y="918"/>
                      </a:lnTo>
                      <a:lnTo>
                        <a:pt x="2693" y="903"/>
                      </a:lnTo>
                      <a:lnTo>
                        <a:pt x="2667" y="888"/>
                      </a:lnTo>
                      <a:lnTo>
                        <a:pt x="2641" y="875"/>
                      </a:lnTo>
                      <a:lnTo>
                        <a:pt x="2608" y="861"/>
                      </a:lnTo>
                      <a:lnTo>
                        <a:pt x="2571" y="851"/>
                      </a:lnTo>
                      <a:lnTo>
                        <a:pt x="2528" y="841"/>
                      </a:lnTo>
                      <a:lnTo>
                        <a:pt x="2478" y="834"/>
                      </a:lnTo>
                      <a:lnTo>
                        <a:pt x="2421" y="826"/>
                      </a:lnTo>
                      <a:lnTo>
                        <a:pt x="2357" y="822"/>
                      </a:lnTo>
                      <a:lnTo>
                        <a:pt x="2289" y="814"/>
                      </a:lnTo>
                      <a:lnTo>
                        <a:pt x="2231" y="807"/>
                      </a:lnTo>
                      <a:lnTo>
                        <a:pt x="2175" y="797"/>
                      </a:lnTo>
                      <a:lnTo>
                        <a:pt x="2128" y="787"/>
                      </a:lnTo>
                      <a:lnTo>
                        <a:pt x="2085" y="776"/>
                      </a:lnTo>
                      <a:lnTo>
                        <a:pt x="2047" y="764"/>
                      </a:lnTo>
                      <a:lnTo>
                        <a:pt x="2015" y="750"/>
                      </a:lnTo>
                      <a:lnTo>
                        <a:pt x="1989" y="736"/>
                      </a:lnTo>
                      <a:lnTo>
                        <a:pt x="1963" y="720"/>
                      </a:lnTo>
                      <a:lnTo>
                        <a:pt x="1943" y="705"/>
                      </a:lnTo>
                      <a:lnTo>
                        <a:pt x="1926" y="688"/>
                      </a:lnTo>
                      <a:lnTo>
                        <a:pt x="1912" y="671"/>
                      </a:lnTo>
                      <a:lnTo>
                        <a:pt x="1901" y="654"/>
                      </a:lnTo>
                      <a:lnTo>
                        <a:pt x="1894" y="636"/>
                      </a:lnTo>
                      <a:lnTo>
                        <a:pt x="1887" y="619"/>
                      </a:lnTo>
                      <a:lnTo>
                        <a:pt x="1884" y="603"/>
                      </a:lnTo>
                      <a:lnTo>
                        <a:pt x="1875" y="584"/>
                      </a:lnTo>
                      <a:lnTo>
                        <a:pt x="1860" y="568"/>
                      </a:lnTo>
                      <a:lnTo>
                        <a:pt x="1839" y="554"/>
                      </a:lnTo>
                      <a:lnTo>
                        <a:pt x="1815" y="540"/>
                      </a:lnTo>
                      <a:lnTo>
                        <a:pt x="1785" y="525"/>
                      </a:lnTo>
                      <a:lnTo>
                        <a:pt x="1753" y="512"/>
                      </a:lnTo>
                      <a:lnTo>
                        <a:pt x="1719" y="499"/>
                      </a:lnTo>
                      <a:lnTo>
                        <a:pt x="1685" y="487"/>
                      </a:lnTo>
                      <a:lnTo>
                        <a:pt x="1648" y="472"/>
                      </a:lnTo>
                      <a:lnTo>
                        <a:pt x="1614" y="458"/>
                      </a:lnTo>
                      <a:lnTo>
                        <a:pt x="1581" y="442"/>
                      </a:lnTo>
                      <a:lnTo>
                        <a:pt x="1552" y="428"/>
                      </a:lnTo>
                      <a:lnTo>
                        <a:pt x="1523" y="410"/>
                      </a:lnTo>
                      <a:lnTo>
                        <a:pt x="1501" y="394"/>
                      </a:lnTo>
                      <a:lnTo>
                        <a:pt x="1483" y="374"/>
                      </a:lnTo>
                      <a:lnTo>
                        <a:pt x="1473" y="354"/>
                      </a:lnTo>
                      <a:lnTo>
                        <a:pt x="1461" y="331"/>
                      </a:lnTo>
                      <a:lnTo>
                        <a:pt x="1447" y="309"/>
                      </a:lnTo>
                      <a:lnTo>
                        <a:pt x="1428" y="285"/>
                      </a:lnTo>
                      <a:lnTo>
                        <a:pt x="1407" y="262"/>
                      </a:lnTo>
                      <a:lnTo>
                        <a:pt x="1383" y="238"/>
                      </a:lnTo>
                      <a:lnTo>
                        <a:pt x="1356" y="216"/>
                      </a:lnTo>
                      <a:lnTo>
                        <a:pt x="1330" y="194"/>
                      </a:lnTo>
                      <a:lnTo>
                        <a:pt x="1304" y="174"/>
                      </a:lnTo>
                      <a:lnTo>
                        <a:pt x="1277" y="153"/>
                      </a:lnTo>
                      <a:lnTo>
                        <a:pt x="1251" y="135"/>
                      </a:lnTo>
                      <a:lnTo>
                        <a:pt x="1228" y="118"/>
                      </a:lnTo>
                      <a:lnTo>
                        <a:pt x="1208" y="106"/>
                      </a:lnTo>
                      <a:lnTo>
                        <a:pt x="1190" y="94"/>
                      </a:lnTo>
                      <a:lnTo>
                        <a:pt x="1178" y="86"/>
                      </a:lnTo>
                      <a:lnTo>
                        <a:pt x="1168" y="81"/>
                      </a:lnTo>
                      <a:lnTo>
                        <a:pt x="1167" y="80"/>
                      </a:lnTo>
                      <a:lnTo>
                        <a:pt x="1167" y="80"/>
                      </a:lnTo>
                      <a:close/>
                    </a:path>
                  </a:pathLst>
                </a:custGeom>
                <a:solidFill>
                  <a:srgbClr val="d1c4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 flipH="1">
                  <a:off x="1270440" y="5618160"/>
                  <a:ext cx="1885680" cy="570960"/>
                </a:xfrm>
                <a:custGeom>
                  <a:avLst/>
                  <a:gdLst/>
                  <a:ahLst/>
                  <a:rect l="l" t="t" r="r" b="b"/>
                  <a:pathLst>
                    <a:path w="2899" h="1011">
                      <a:moveTo>
                        <a:pt x="0" y="666"/>
                      </a:moveTo>
                      <a:lnTo>
                        <a:pt x="5" y="666"/>
                      </a:lnTo>
                      <a:lnTo>
                        <a:pt x="22" y="667"/>
                      </a:lnTo>
                      <a:lnTo>
                        <a:pt x="48" y="669"/>
                      </a:lnTo>
                      <a:lnTo>
                        <a:pt x="84" y="673"/>
                      </a:lnTo>
                      <a:lnTo>
                        <a:pt x="125" y="675"/>
                      </a:lnTo>
                      <a:lnTo>
                        <a:pt x="174" y="679"/>
                      </a:lnTo>
                      <a:lnTo>
                        <a:pt x="227" y="684"/>
                      </a:lnTo>
                      <a:lnTo>
                        <a:pt x="287" y="689"/>
                      </a:lnTo>
                      <a:lnTo>
                        <a:pt x="347" y="695"/>
                      </a:lnTo>
                      <a:lnTo>
                        <a:pt x="410" y="699"/>
                      </a:lnTo>
                      <a:lnTo>
                        <a:pt x="474" y="706"/>
                      </a:lnTo>
                      <a:lnTo>
                        <a:pt x="537" y="711"/>
                      </a:lnTo>
                      <a:lnTo>
                        <a:pt x="598" y="717"/>
                      </a:lnTo>
                      <a:lnTo>
                        <a:pt x="656" y="723"/>
                      </a:lnTo>
                      <a:lnTo>
                        <a:pt x="711" y="729"/>
                      </a:lnTo>
                      <a:lnTo>
                        <a:pt x="760" y="735"/>
                      </a:lnTo>
                      <a:lnTo>
                        <a:pt x="806" y="738"/>
                      </a:lnTo>
                      <a:lnTo>
                        <a:pt x="851" y="738"/>
                      </a:lnTo>
                      <a:lnTo>
                        <a:pt x="894" y="734"/>
                      </a:lnTo>
                      <a:lnTo>
                        <a:pt x="937" y="727"/>
                      </a:lnTo>
                      <a:lnTo>
                        <a:pt x="977" y="717"/>
                      </a:lnTo>
                      <a:lnTo>
                        <a:pt x="1017" y="705"/>
                      </a:lnTo>
                      <a:lnTo>
                        <a:pt x="1053" y="689"/>
                      </a:lnTo>
                      <a:lnTo>
                        <a:pt x="1089" y="675"/>
                      </a:lnTo>
                      <a:lnTo>
                        <a:pt x="1120" y="655"/>
                      </a:lnTo>
                      <a:lnTo>
                        <a:pt x="1148" y="637"/>
                      </a:lnTo>
                      <a:lnTo>
                        <a:pt x="1175" y="618"/>
                      </a:lnTo>
                      <a:lnTo>
                        <a:pt x="1199" y="597"/>
                      </a:lnTo>
                      <a:lnTo>
                        <a:pt x="1218" y="576"/>
                      </a:lnTo>
                      <a:lnTo>
                        <a:pt x="1235" y="556"/>
                      </a:lnTo>
                      <a:lnTo>
                        <a:pt x="1247" y="536"/>
                      </a:lnTo>
                      <a:lnTo>
                        <a:pt x="1256" y="517"/>
                      </a:lnTo>
                      <a:lnTo>
                        <a:pt x="1263" y="494"/>
                      </a:lnTo>
                      <a:lnTo>
                        <a:pt x="1278" y="466"/>
                      </a:lnTo>
                      <a:lnTo>
                        <a:pt x="1296" y="434"/>
                      </a:lnTo>
                      <a:lnTo>
                        <a:pt x="1320" y="399"/>
                      </a:lnTo>
                      <a:lnTo>
                        <a:pt x="1346" y="360"/>
                      </a:lnTo>
                      <a:lnTo>
                        <a:pt x="1377" y="320"/>
                      </a:lnTo>
                      <a:lnTo>
                        <a:pt x="1411" y="279"/>
                      </a:lnTo>
                      <a:lnTo>
                        <a:pt x="1450" y="238"/>
                      </a:lnTo>
                      <a:lnTo>
                        <a:pt x="1490" y="196"/>
                      </a:lnTo>
                      <a:lnTo>
                        <a:pt x="1532" y="158"/>
                      </a:lnTo>
                      <a:lnTo>
                        <a:pt x="1575" y="121"/>
                      </a:lnTo>
                      <a:lnTo>
                        <a:pt x="1622" y="89"/>
                      </a:lnTo>
                      <a:lnTo>
                        <a:pt x="1667" y="60"/>
                      </a:lnTo>
                      <a:lnTo>
                        <a:pt x="1715" y="37"/>
                      </a:lnTo>
                      <a:lnTo>
                        <a:pt x="1764" y="18"/>
                      </a:lnTo>
                      <a:lnTo>
                        <a:pt x="1812" y="8"/>
                      </a:lnTo>
                      <a:lnTo>
                        <a:pt x="1866" y="3"/>
                      </a:lnTo>
                      <a:lnTo>
                        <a:pt x="1931" y="0"/>
                      </a:lnTo>
                      <a:lnTo>
                        <a:pt x="2005" y="0"/>
                      </a:lnTo>
                      <a:lnTo>
                        <a:pt x="2086" y="3"/>
                      </a:lnTo>
                      <a:lnTo>
                        <a:pt x="2173" y="6"/>
                      </a:lnTo>
                      <a:lnTo>
                        <a:pt x="2263" y="14"/>
                      </a:lnTo>
                      <a:lnTo>
                        <a:pt x="2352" y="22"/>
                      </a:lnTo>
                      <a:lnTo>
                        <a:pt x="2443" y="30"/>
                      </a:lnTo>
                      <a:lnTo>
                        <a:pt x="2529" y="39"/>
                      </a:lnTo>
                      <a:lnTo>
                        <a:pt x="2611" y="48"/>
                      </a:lnTo>
                      <a:lnTo>
                        <a:pt x="2686" y="56"/>
                      </a:lnTo>
                      <a:lnTo>
                        <a:pt x="2752" y="65"/>
                      </a:lnTo>
                      <a:lnTo>
                        <a:pt x="2806" y="71"/>
                      </a:lnTo>
                      <a:lnTo>
                        <a:pt x="2849" y="77"/>
                      </a:lnTo>
                      <a:lnTo>
                        <a:pt x="2874" y="81"/>
                      </a:lnTo>
                      <a:lnTo>
                        <a:pt x="2885" y="84"/>
                      </a:lnTo>
                      <a:lnTo>
                        <a:pt x="2885" y="85"/>
                      </a:lnTo>
                      <a:lnTo>
                        <a:pt x="2886" y="93"/>
                      </a:lnTo>
                      <a:lnTo>
                        <a:pt x="2886" y="98"/>
                      </a:lnTo>
                      <a:lnTo>
                        <a:pt x="2888" y="106"/>
                      </a:lnTo>
                      <a:lnTo>
                        <a:pt x="2890" y="112"/>
                      </a:lnTo>
                      <a:lnTo>
                        <a:pt x="2892" y="121"/>
                      </a:lnTo>
                      <a:lnTo>
                        <a:pt x="2893" y="129"/>
                      </a:lnTo>
                      <a:lnTo>
                        <a:pt x="2894" y="138"/>
                      </a:lnTo>
                      <a:lnTo>
                        <a:pt x="2895" y="147"/>
                      </a:lnTo>
                      <a:lnTo>
                        <a:pt x="2896" y="155"/>
                      </a:lnTo>
                      <a:lnTo>
                        <a:pt x="2897" y="164"/>
                      </a:lnTo>
                      <a:lnTo>
                        <a:pt x="2898" y="173"/>
                      </a:lnTo>
                      <a:lnTo>
                        <a:pt x="2898" y="181"/>
                      </a:lnTo>
                      <a:lnTo>
                        <a:pt x="2899" y="190"/>
                      </a:lnTo>
                      <a:lnTo>
                        <a:pt x="2888" y="186"/>
                      </a:lnTo>
                      <a:lnTo>
                        <a:pt x="2860" y="179"/>
                      </a:lnTo>
                      <a:lnTo>
                        <a:pt x="2813" y="166"/>
                      </a:lnTo>
                      <a:lnTo>
                        <a:pt x="2754" y="154"/>
                      </a:lnTo>
                      <a:lnTo>
                        <a:pt x="2679" y="139"/>
                      </a:lnTo>
                      <a:lnTo>
                        <a:pt x="2598" y="124"/>
                      </a:lnTo>
                      <a:lnTo>
                        <a:pt x="2506" y="112"/>
                      </a:lnTo>
                      <a:lnTo>
                        <a:pt x="2409" y="105"/>
                      </a:lnTo>
                      <a:lnTo>
                        <a:pt x="2307" y="99"/>
                      </a:lnTo>
                      <a:lnTo>
                        <a:pt x="2203" y="101"/>
                      </a:lnTo>
                      <a:lnTo>
                        <a:pt x="2099" y="109"/>
                      </a:lnTo>
                      <a:lnTo>
                        <a:pt x="2000" y="128"/>
                      </a:lnTo>
                      <a:lnTo>
                        <a:pt x="1902" y="154"/>
                      </a:lnTo>
                      <a:lnTo>
                        <a:pt x="1813" y="193"/>
                      </a:lnTo>
                      <a:lnTo>
                        <a:pt x="1731" y="245"/>
                      </a:lnTo>
                      <a:lnTo>
                        <a:pt x="1662" y="310"/>
                      </a:lnTo>
                      <a:lnTo>
                        <a:pt x="1605" y="381"/>
                      </a:lnTo>
                      <a:lnTo>
                        <a:pt x="1560" y="453"/>
                      </a:lnTo>
                      <a:lnTo>
                        <a:pt x="1525" y="522"/>
                      </a:lnTo>
                      <a:lnTo>
                        <a:pt x="1498" y="590"/>
                      </a:lnTo>
                      <a:lnTo>
                        <a:pt x="1472" y="654"/>
                      </a:lnTo>
                      <a:lnTo>
                        <a:pt x="1447" y="716"/>
                      </a:lnTo>
                      <a:lnTo>
                        <a:pt x="1418" y="772"/>
                      </a:lnTo>
                      <a:lnTo>
                        <a:pt x="1383" y="826"/>
                      </a:lnTo>
                      <a:lnTo>
                        <a:pt x="1335" y="873"/>
                      </a:lnTo>
                      <a:lnTo>
                        <a:pt x="1275" y="915"/>
                      </a:lnTo>
                      <a:lnTo>
                        <a:pt x="1199" y="950"/>
                      </a:lnTo>
                      <a:lnTo>
                        <a:pt x="1103" y="978"/>
                      </a:lnTo>
                      <a:lnTo>
                        <a:pt x="984" y="998"/>
                      </a:lnTo>
                      <a:lnTo>
                        <a:pt x="838" y="1010"/>
                      </a:lnTo>
                      <a:lnTo>
                        <a:pt x="662" y="1011"/>
                      </a:lnTo>
                      <a:lnTo>
                        <a:pt x="454" y="1006"/>
                      </a:lnTo>
                      <a:lnTo>
                        <a:pt x="0" y="666"/>
                      </a:lnTo>
                      <a:lnTo>
                        <a:pt x="0" y="666"/>
                      </a:lnTo>
                      <a:close/>
                    </a:path>
                  </a:pathLst>
                </a:custGeom>
                <a:solidFill>
                  <a:srgbClr val="bfad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 flipH="1">
                  <a:off x="1976760" y="5014440"/>
                  <a:ext cx="1156320" cy="638640"/>
                </a:xfrm>
                <a:custGeom>
                  <a:avLst/>
                  <a:gdLst/>
                  <a:ahLst/>
                  <a:rect l="l" t="t" r="r" b="b"/>
                  <a:pathLst>
                    <a:path w="1778" h="1132">
                      <a:moveTo>
                        <a:pt x="637" y="21"/>
                      </a:moveTo>
                      <a:lnTo>
                        <a:pt x="643" y="21"/>
                      </a:lnTo>
                      <a:lnTo>
                        <a:pt x="657" y="24"/>
                      </a:lnTo>
                      <a:lnTo>
                        <a:pt x="679" y="26"/>
                      </a:lnTo>
                      <a:lnTo>
                        <a:pt x="711" y="31"/>
                      </a:lnTo>
                      <a:lnTo>
                        <a:pt x="746" y="36"/>
                      </a:lnTo>
                      <a:lnTo>
                        <a:pt x="786" y="45"/>
                      </a:lnTo>
                      <a:lnTo>
                        <a:pt x="829" y="53"/>
                      </a:lnTo>
                      <a:lnTo>
                        <a:pt x="875" y="66"/>
                      </a:lnTo>
                      <a:lnTo>
                        <a:pt x="919" y="77"/>
                      </a:lnTo>
                      <a:lnTo>
                        <a:pt x="964" y="90"/>
                      </a:lnTo>
                      <a:lnTo>
                        <a:pt x="1005" y="105"/>
                      </a:lnTo>
                      <a:lnTo>
                        <a:pt x="1044" y="124"/>
                      </a:lnTo>
                      <a:lnTo>
                        <a:pt x="1077" y="145"/>
                      </a:lnTo>
                      <a:lnTo>
                        <a:pt x="1104" y="167"/>
                      </a:lnTo>
                      <a:lnTo>
                        <a:pt x="1122" y="192"/>
                      </a:lnTo>
                      <a:lnTo>
                        <a:pt x="1133" y="218"/>
                      </a:lnTo>
                      <a:lnTo>
                        <a:pt x="1132" y="245"/>
                      </a:lnTo>
                      <a:lnTo>
                        <a:pt x="1122" y="270"/>
                      </a:lnTo>
                      <a:lnTo>
                        <a:pt x="1104" y="293"/>
                      </a:lnTo>
                      <a:lnTo>
                        <a:pt x="1080" y="317"/>
                      </a:lnTo>
                      <a:lnTo>
                        <a:pt x="1050" y="336"/>
                      </a:lnTo>
                      <a:lnTo>
                        <a:pt x="1016" y="357"/>
                      </a:lnTo>
                      <a:lnTo>
                        <a:pt x="979" y="375"/>
                      </a:lnTo>
                      <a:lnTo>
                        <a:pt x="941" y="393"/>
                      </a:lnTo>
                      <a:lnTo>
                        <a:pt x="902" y="407"/>
                      </a:lnTo>
                      <a:lnTo>
                        <a:pt x="864" y="419"/>
                      </a:lnTo>
                      <a:lnTo>
                        <a:pt x="828" y="430"/>
                      </a:lnTo>
                      <a:lnTo>
                        <a:pt x="797" y="440"/>
                      </a:lnTo>
                      <a:lnTo>
                        <a:pt x="770" y="448"/>
                      </a:lnTo>
                      <a:lnTo>
                        <a:pt x="749" y="454"/>
                      </a:lnTo>
                      <a:lnTo>
                        <a:pt x="735" y="457"/>
                      </a:lnTo>
                      <a:lnTo>
                        <a:pt x="732" y="459"/>
                      </a:lnTo>
                      <a:lnTo>
                        <a:pt x="727" y="460"/>
                      </a:lnTo>
                      <a:lnTo>
                        <a:pt x="714" y="466"/>
                      </a:lnTo>
                      <a:lnTo>
                        <a:pt x="696" y="474"/>
                      </a:lnTo>
                      <a:lnTo>
                        <a:pt x="675" y="486"/>
                      </a:lnTo>
                      <a:lnTo>
                        <a:pt x="650" y="499"/>
                      </a:lnTo>
                      <a:lnTo>
                        <a:pt x="627" y="517"/>
                      </a:lnTo>
                      <a:lnTo>
                        <a:pt x="605" y="533"/>
                      </a:lnTo>
                      <a:lnTo>
                        <a:pt x="588" y="554"/>
                      </a:lnTo>
                      <a:lnTo>
                        <a:pt x="576" y="572"/>
                      </a:lnTo>
                      <a:lnTo>
                        <a:pt x="574" y="593"/>
                      </a:lnTo>
                      <a:lnTo>
                        <a:pt x="581" y="613"/>
                      </a:lnTo>
                      <a:lnTo>
                        <a:pt x="601" y="634"/>
                      </a:lnTo>
                      <a:lnTo>
                        <a:pt x="634" y="653"/>
                      </a:lnTo>
                      <a:lnTo>
                        <a:pt x="685" y="671"/>
                      </a:lnTo>
                      <a:lnTo>
                        <a:pt x="752" y="688"/>
                      </a:lnTo>
                      <a:lnTo>
                        <a:pt x="842" y="703"/>
                      </a:lnTo>
                      <a:lnTo>
                        <a:pt x="937" y="716"/>
                      </a:lnTo>
                      <a:lnTo>
                        <a:pt x="1024" y="727"/>
                      </a:lnTo>
                      <a:lnTo>
                        <a:pt x="1105" y="737"/>
                      </a:lnTo>
                      <a:lnTo>
                        <a:pt x="1181" y="747"/>
                      </a:lnTo>
                      <a:lnTo>
                        <a:pt x="1248" y="754"/>
                      </a:lnTo>
                      <a:lnTo>
                        <a:pt x="1309" y="763"/>
                      </a:lnTo>
                      <a:lnTo>
                        <a:pt x="1364" y="773"/>
                      </a:lnTo>
                      <a:lnTo>
                        <a:pt x="1416" y="782"/>
                      </a:lnTo>
                      <a:lnTo>
                        <a:pt x="1459" y="790"/>
                      </a:lnTo>
                      <a:lnTo>
                        <a:pt x="1499" y="800"/>
                      </a:lnTo>
                      <a:lnTo>
                        <a:pt x="1532" y="811"/>
                      </a:lnTo>
                      <a:lnTo>
                        <a:pt x="1561" y="824"/>
                      </a:lnTo>
                      <a:lnTo>
                        <a:pt x="1584" y="838"/>
                      </a:lnTo>
                      <a:lnTo>
                        <a:pt x="1603" y="855"/>
                      </a:lnTo>
                      <a:lnTo>
                        <a:pt x="1619" y="874"/>
                      </a:lnTo>
                      <a:lnTo>
                        <a:pt x="1631" y="896"/>
                      </a:lnTo>
                      <a:lnTo>
                        <a:pt x="1619" y="916"/>
                      </a:lnTo>
                      <a:lnTo>
                        <a:pt x="1573" y="936"/>
                      </a:lnTo>
                      <a:lnTo>
                        <a:pt x="1497" y="951"/>
                      </a:lnTo>
                      <a:lnTo>
                        <a:pt x="1395" y="968"/>
                      </a:lnTo>
                      <a:lnTo>
                        <a:pt x="1273" y="980"/>
                      </a:lnTo>
                      <a:lnTo>
                        <a:pt x="1134" y="992"/>
                      </a:lnTo>
                      <a:lnTo>
                        <a:pt x="986" y="1001"/>
                      </a:lnTo>
                      <a:lnTo>
                        <a:pt x="833" y="1010"/>
                      </a:lnTo>
                      <a:lnTo>
                        <a:pt x="678" y="1015"/>
                      </a:lnTo>
                      <a:lnTo>
                        <a:pt x="528" y="1021"/>
                      </a:lnTo>
                      <a:lnTo>
                        <a:pt x="386" y="1025"/>
                      </a:lnTo>
                      <a:lnTo>
                        <a:pt x="261" y="1029"/>
                      </a:lnTo>
                      <a:lnTo>
                        <a:pt x="153" y="1030"/>
                      </a:lnTo>
                      <a:lnTo>
                        <a:pt x="72" y="1032"/>
                      </a:lnTo>
                      <a:lnTo>
                        <a:pt x="18" y="1033"/>
                      </a:lnTo>
                      <a:lnTo>
                        <a:pt x="0" y="1034"/>
                      </a:lnTo>
                      <a:lnTo>
                        <a:pt x="22" y="1132"/>
                      </a:lnTo>
                      <a:lnTo>
                        <a:pt x="39" y="1132"/>
                      </a:lnTo>
                      <a:lnTo>
                        <a:pt x="90" y="1131"/>
                      </a:lnTo>
                      <a:lnTo>
                        <a:pt x="168" y="1128"/>
                      </a:lnTo>
                      <a:lnTo>
                        <a:pt x="271" y="1126"/>
                      </a:lnTo>
                      <a:lnTo>
                        <a:pt x="393" y="1121"/>
                      </a:lnTo>
                      <a:lnTo>
                        <a:pt x="530" y="1116"/>
                      </a:lnTo>
                      <a:lnTo>
                        <a:pt x="678" y="1109"/>
                      </a:lnTo>
                      <a:lnTo>
                        <a:pt x="833" y="1100"/>
                      </a:lnTo>
                      <a:lnTo>
                        <a:pt x="986" y="1089"/>
                      </a:lnTo>
                      <a:lnTo>
                        <a:pt x="1140" y="1078"/>
                      </a:lnTo>
                      <a:lnTo>
                        <a:pt x="1286" y="1064"/>
                      </a:lnTo>
                      <a:lnTo>
                        <a:pt x="1421" y="1050"/>
                      </a:lnTo>
                      <a:lnTo>
                        <a:pt x="1539" y="1031"/>
                      </a:lnTo>
                      <a:lnTo>
                        <a:pt x="1639" y="1012"/>
                      </a:lnTo>
                      <a:lnTo>
                        <a:pt x="1713" y="990"/>
                      </a:lnTo>
                      <a:lnTo>
                        <a:pt x="1758" y="965"/>
                      </a:lnTo>
                      <a:lnTo>
                        <a:pt x="1777" y="938"/>
                      </a:lnTo>
                      <a:lnTo>
                        <a:pt x="1778" y="912"/>
                      </a:lnTo>
                      <a:lnTo>
                        <a:pt x="1763" y="885"/>
                      </a:lnTo>
                      <a:lnTo>
                        <a:pt x="1736" y="858"/>
                      </a:lnTo>
                      <a:lnTo>
                        <a:pt x="1695" y="832"/>
                      </a:lnTo>
                      <a:lnTo>
                        <a:pt x="1642" y="805"/>
                      </a:lnTo>
                      <a:lnTo>
                        <a:pt x="1581" y="781"/>
                      </a:lnTo>
                      <a:lnTo>
                        <a:pt x="1513" y="758"/>
                      </a:lnTo>
                      <a:lnTo>
                        <a:pt x="1437" y="734"/>
                      </a:lnTo>
                      <a:lnTo>
                        <a:pt x="1358" y="713"/>
                      </a:lnTo>
                      <a:lnTo>
                        <a:pt x="1275" y="694"/>
                      </a:lnTo>
                      <a:lnTo>
                        <a:pt x="1192" y="679"/>
                      </a:lnTo>
                      <a:lnTo>
                        <a:pt x="1109" y="665"/>
                      </a:lnTo>
                      <a:lnTo>
                        <a:pt x="1029" y="654"/>
                      </a:lnTo>
                      <a:lnTo>
                        <a:pt x="952" y="645"/>
                      </a:lnTo>
                      <a:lnTo>
                        <a:pt x="881" y="640"/>
                      </a:lnTo>
                      <a:lnTo>
                        <a:pt x="818" y="635"/>
                      </a:lnTo>
                      <a:lnTo>
                        <a:pt x="771" y="629"/>
                      </a:lnTo>
                      <a:lnTo>
                        <a:pt x="734" y="621"/>
                      </a:lnTo>
                      <a:lnTo>
                        <a:pt x="710" y="612"/>
                      </a:lnTo>
                      <a:lnTo>
                        <a:pt x="693" y="600"/>
                      </a:lnTo>
                      <a:lnTo>
                        <a:pt x="687" y="587"/>
                      </a:lnTo>
                      <a:lnTo>
                        <a:pt x="687" y="576"/>
                      </a:lnTo>
                      <a:lnTo>
                        <a:pt x="694" y="564"/>
                      </a:lnTo>
                      <a:lnTo>
                        <a:pt x="706" y="551"/>
                      </a:lnTo>
                      <a:lnTo>
                        <a:pt x="721" y="539"/>
                      </a:lnTo>
                      <a:lnTo>
                        <a:pt x="739" y="527"/>
                      </a:lnTo>
                      <a:lnTo>
                        <a:pt x="760" y="518"/>
                      </a:lnTo>
                      <a:lnTo>
                        <a:pt x="781" y="508"/>
                      </a:lnTo>
                      <a:lnTo>
                        <a:pt x="801" y="501"/>
                      </a:lnTo>
                      <a:lnTo>
                        <a:pt x="818" y="496"/>
                      </a:lnTo>
                      <a:lnTo>
                        <a:pt x="835" y="496"/>
                      </a:lnTo>
                      <a:lnTo>
                        <a:pt x="850" y="492"/>
                      </a:lnTo>
                      <a:lnTo>
                        <a:pt x="874" y="486"/>
                      </a:lnTo>
                      <a:lnTo>
                        <a:pt x="901" y="477"/>
                      </a:lnTo>
                      <a:lnTo>
                        <a:pt x="934" y="468"/>
                      </a:lnTo>
                      <a:lnTo>
                        <a:pt x="969" y="454"/>
                      </a:lnTo>
                      <a:lnTo>
                        <a:pt x="1007" y="438"/>
                      </a:lnTo>
                      <a:lnTo>
                        <a:pt x="1044" y="422"/>
                      </a:lnTo>
                      <a:lnTo>
                        <a:pt x="1083" y="404"/>
                      </a:lnTo>
                      <a:lnTo>
                        <a:pt x="1118" y="383"/>
                      </a:lnTo>
                      <a:lnTo>
                        <a:pt x="1150" y="362"/>
                      </a:lnTo>
                      <a:lnTo>
                        <a:pt x="1180" y="340"/>
                      </a:lnTo>
                      <a:lnTo>
                        <a:pt x="1204" y="318"/>
                      </a:lnTo>
                      <a:lnTo>
                        <a:pt x="1220" y="293"/>
                      </a:lnTo>
                      <a:lnTo>
                        <a:pt x="1230" y="269"/>
                      </a:lnTo>
                      <a:lnTo>
                        <a:pt x="1231" y="245"/>
                      </a:lnTo>
                      <a:lnTo>
                        <a:pt x="1223" y="221"/>
                      </a:lnTo>
                      <a:lnTo>
                        <a:pt x="1206" y="197"/>
                      </a:lnTo>
                      <a:lnTo>
                        <a:pt x="1192" y="177"/>
                      </a:lnTo>
                      <a:lnTo>
                        <a:pt x="1175" y="160"/>
                      </a:lnTo>
                      <a:lnTo>
                        <a:pt x="1159" y="143"/>
                      </a:lnTo>
                      <a:lnTo>
                        <a:pt x="1142" y="127"/>
                      </a:lnTo>
                      <a:lnTo>
                        <a:pt x="1126" y="115"/>
                      </a:lnTo>
                      <a:lnTo>
                        <a:pt x="1110" y="103"/>
                      </a:lnTo>
                      <a:lnTo>
                        <a:pt x="1096" y="95"/>
                      </a:lnTo>
                      <a:lnTo>
                        <a:pt x="1080" y="87"/>
                      </a:lnTo>
                      <a:lnTo>
                        <a:pt x="1067" y="80"/>
                      </a:lnTo>
                      <a:lnTo>
                        <a:pt x="1055" y="74"/>
                      </a:lnTo>
                      <a:lnTo>
                        <a:pt x="1045" y="71"/>
                      </a:lnTo>
                      <a:lnTo>
                        <a:pt x="1036" y="67"/>
                      </a:lnTo>
                      <a:lnTo>
                        <a:pt x="1032" y="67"/>
                      </a:lnTo>
                      <a:lnTo>
                        <a:pt x="1027" y="66"/>
                      </a:lnTo>
                      <a:lnTo>
                        <a:pt x="1026" y="66"/>
                      </a:lnTo>
                      <a:lnTo>
                        <a:pt x="1024" y="64"/>
                      </a:lnTo>
                      <a:lnTo>
                        <a:pt x="1022" y="62"/>
                      </a:lnTo>
                      <a:lnTo>
                        <a:pt x="1015" y="58"/>
                      </a:lnTo>
                      <a:lnTo>
                        <a:pt x="1010" y="56"/>
                      </a:lnTo>
                      <a:lnTo>
                        <a:pt x="998" y="49"/>
                      </a:lnTo>
                      <a:lnTo>
                        <a:pt x="989" y="45"/>
                      </a:lnTo>
                      <a:lnTo>
                        <a:pt x="975" y="38"/>
                      </a:lnTo>
                      <a:lnTo>
                        <a:pt x="963" y="32"/>
                      </a:lnTo>
                      <a:lnTo>
                        <a:pt x="947" y="27"/>
                      </a:lnTo>
                      <a:lnTo>
                        <a:pt x="930" y="20"/>
                      </a:lnTo>
                      <a:lnTo>
                        <a:pt x="910" y="15"/>
                      </a:lnTo>
                      <a:lnTo>
                        <a:pt x="890" y="10"/>
                      </a:lnTo>
                      <a:lnTo>
                        <a:pt x="868" y="6"/>
                      </a:lnTo>
                      <a:lnTo>
                        <a:pt x="846" y="3"/>
                      </a:lnTo>
                      <a:lnTo>
                        <a:pt x="822" y="0"/>
                      </a:lnTo>
                      <a:lnTo>
                        <a:pt x="798" y="0"/>
                      </a:lnTo>
                      <a:lnTo>
                        <a:pt x="794" y="0"/>
                      </a:lnTo>
                      <a:lnTo>
                        <a:pt x="788" y="0"/>
                      </a:lnTo>
                      <a:lnTo>
                        <a:pt x="780" y="1"/>
                      </a:lnTo>
                      <a:lnTo>
                        <a:pt x="770" y="4"/>
                      </a:lnTo>
                      <a:lnTo>
                        <a:pt x="756" y="5"/>
                      </a:lnTo>
                      <a:lnTo>
                        <a:pt x="743" y="7"/>
                      </a:lnTo>
                      <a:lnTo>
                        <a:pt x="729" y="8"/>
                      </a:lnTo>
                      <a:lnTo>
                        <a:pt x="714" y="10"/>
                      </a:lnTo>
                      <a:lnTo>
                        <a:pt x="700" y="11"/>
                      </a:lnTo>
                      <a:lnTo>
                        <a:pt x="686" y="14"/>
                      </a:lnTo>
                      <a:lnTo>
                        <a:pt x="671" y="16"/>
                      </a:lnTo>
                      <a:lnTo>
                        <a:pt x="660" y="18"/>
                      </a:lnTo>
                      <a:lnTo>
                        <a:pt x="650" y="19"/>
                      </a:lnTo>
                      <a:lnTo>
                        <a:pt x="644" y="20"/>
                      </a:lnTo>
                      <a:lnTo>
                        <a:pt x="638" y="20"/>
                      </a:lnTo>
                      <a:lnTo>
                        <a:pt x="637" y="21"/>
                      </a:lnTo>
                      <a:lnTo>
                        <a:pt x="637" y="21"/>
                      </a:lnTo>
                      <a:close/>
                    </a:path>
                  </a:pathLst>
                </a:custGeom>
                <a:solidFill>
                  <a:srgbClr val="b39f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 flipH="1">
                  <a:off x="1465560" y="5896080"/>
                  <a:ext cx="1722960" cy="492840"/>
                </a:xfrm>
                <a:custGeom>
                  <a:avLst/>
                  <a:gdLst/>
                  <a:ahLst/>
                  <a:rect l="l" t="t" r="r" b="b"/>
                  <a:pathLst>
                    <a:path w="2650" h="874">
                      <a:moveTo>
                        <a:pt x="46" y="0"/>
                      </a:moveTo>
                      <a:lnTo>
                        <a:pt x="46" y="2"/>
                      </a:lnTo>
                      <a:lnTo>
                        <a:pt x="46" y="6"/>
                      </a:lnTo>
                      <a:lnTo>
                        <a:pt x="48" y="10"/>
                      </a:lnTo>
                      <a:lnTo>
                        <a:pt x="51" y="20"/>
                      </a:lnTo>
                      <a:lnTo>
                        <a:pt x="53" y="30"/>
                      </a:lnTo>
                      <a:lnTo>
                        <a:pt x="57" y="44"/>
                      </a:lnTo>
                      <a:lnTo>
                        <a:pt x="63" y="57"/>
                      </a:lnTo>
                      <a:lnTo>
                        <a:pt x="71" y="72"/>
                      </a:lnTo>
                      <a:lnTo>
                        <a:pt x="78" y="88"/>
                      </a:lnTo>
                      <a:lnTo>
                        <a:pt x="90" y="106"/>
                      </a:lnTo>
                      <a:lnTo>
                        <a:pt x="103" y="124"/>
                      </a:lnTo>
                      <a:lnTo>
                        <a:pt x="119" y="143"/>
                      </a:lnTo>
                      <a:lnTo>
                        <a:pt x="136" y="162"/>
                      </a:lnTo>
                      <a:lnTo>
                        <a:pt x="158" y="182"/>
                      </a:lnTo>
                      <a:lnTo>
                        <a:pt x="181" y="201"/>
                      </a:lnTo>
                      <a:lnTo>
                        <a:pt x="208" y="220"/>
                      </a:lnTo>
                      <a:lnTo>
                        <a:pt x="235" y="238"/>
                      </a:lnTo>
                      <a:lnTo>
                        <a:pt x="266" y="256"/>
                      </a:lnTo>
                      <a:lnTo>
                        <a:pt x="297" y="271"/>
                      </a:lnTo>
                      <a:lnTo>
                        <a:pt x="331" y="288"/>
                      </a:lnTo>
                      <a:lnTo>
                        <a:pt x="364" y="300"/>
                      </a:lnTo>
                      <a:lnTo>
                        <a:pt x="396" y="313"/>
                      </a:lnTo>
                      <a:lnTo>
                        <a:pt x="428" y="326"/>
                      </a:lnTo>
                      <a:lnTo>
                        <a:pt x="460" y="338"/>
                      </a:lnTo>
                      <a:lnTo>
                        <a:pt x="490" y="347"/>
                      </a:lnTo>
                      <a:lnTo>
                        <a:pt x="517" y="356"/>
                      </a:lnTo>
                      <a:lnTo>
                        <a:pt x="543" y="363"/>
                      </a:lnTo>
                      <a:lnTo>
                        <a:pt x="567" y="371"/>
                      </a:lnTo>
                      <a:lnTo>
                        <a:pt x="586" y="377"/>
                      </a:lnTo>
                      <a:lnTo>
                        <a:pt x="604" y="383"/>
                      </a:lnTo>
                      <a:lnTo>
                        <a:pt x="616" y="387"/>
                      </a:lnTo>
                      <a:lnTo>
                        <a:pt x="625" y="393"/>
                      </a:lnTo>
                      <a:lnTo>
                        <a:pt x="630" y="396"/>
                      </a:lnTo>
                      <a:lnTo>
                        <a:pt x="639" y="405"/>
                      </a:lnTo>
                      <a:lnTo>
                        <a:pt x="650" y="414"/>
                      </a:lnTo>
                      <a:lnTo>
                        <a:pt x="664" y="426"/>
                      </a:lnTo>
                      <a:lnTo>
                        <a:pt x="680" y="437"/>
                      </a:lnTo>
                      <a:lnTo>
                        <a:pt x="698" y="452"/>
                      </a:lnTo>
                      <a:lnTo>
                        <a:pt x="719" y="465"/>
                      </a:lnTo>
                      <a:lnTo>
                        <a:pt x="741" y="480"/>
                      </a:lnTo>
                      <a:lnTo>
                        <a:pt x="764" y="494"/>
                      </a:lnTo>
                      <a:lnTo>
                        <a:pt x="788" y="508"/>
                      </a:lnTo>
                      <a:lnTo>
                        <a:pt x="815" y="520"/>
                      </a:lnTo>
                      <a:lnTo>
                        <a:pt x="845" y="532"/>
                      </a:lnTo>
                      <a:lnTo>
                        <a:pt x="873" y="542"/>
                      </a:lnTo>
                      <a:lnTo>
                        <a:pt x="905" y="551"/>
                      </a:lnTo>
                      <a:lnTo>
                        <a:pt x="937" y="557"/>
                      </a:lnTo>
                      <a:lnTo>
                        <a:pt x="972" y="561"/>
                      </a:lnTo>
                      <a:lnTo>
                        <a:pt x="1008" y="561"/>
                      </a:lnTo>
                      <a:lnTo>
                        <a:pt x="1050" y="562"/>
                      </a:lnTo>
                      <a:lnTo>
                        <a:pt x="1096" y="561"/>
                      </a:lnTo>
                      <a:lnTo>
                        <a:pt x="1146" y="560"/>
                      </a:lnTo>
                      <a:lnTo>
                        <a:pt x="1197" y="558"/>
                      </a:lnTo>
                      <a:lnTo>
                        <a:pt x="1251" y="555"/>
                      </a:lnTo>
                      <a:lnTo>
                        <a:pt x="1306" y="553"/>
                      </a:lnTo>
                      <a:lnTo>
                        <a:pt x="1360" y="551"/>
                      </a:lnTo>
                      <a:lnTo>
                        <a:pt x="1412" y="548"/>
                      </a:lnTo>
                      <a:lnTo>
                        <a:pt x="1463" y="544"/>
                      </a:lnTo>
                      <a:lnTo>
                        <a:pt x="1509" y="543"/>
                      </a:lnTo>
                      <a:lnTo>
                        <a:pt x="1553" y="541"/>
                      </a:lnTo>
                      <a:lnTo>
                        <a:pt x="1592" y="539"/>
                      </a:lnTo>
                      <a:lnTo>
                        <a:pt x="1625" y="539"/>
                      </a:lnTo>
                      <a:lnTo>
                        <a:pt x="1652" y="539"/>
                      </a:lnTo>
                      <a:lnTo>
                        <a:pt x="1670" y="541"/>
                      </a:lnTo>
                      <a:lnTo>
                        <a:pt x="1688" y="543"/>
                      </a:lnTo>
                      <a:lnTo>
                        <a:pt x="1712" y="548"/>
                      </a:lnTo>
                      <a:lnTo>
                        <a:pt x="1743" y="555"/>
                      </a:lnTo>
                      <a:lnTo>
                        <a:pt x="1780" y="564"/>
                      </a:lnTo>
                      <a:lnTo>
                        <a:pt x="1817" y="573"/>
                      </a:lnTo>
                      <a:lnTo>
                        <a:pt x="1859" y="584"/>
                      </a:lnTo>
                      <a:lnTo>
                        <a:pt x="1901" y="595"/>
                      </a:lnTo>
                      <a:lnTo>
                        <a:pt x="1946" y="607"/>
                      </a:lnTo>
                      <a:lnTo>
                        <a:pt x="1987" y="619"/>
                      </a:lnTo>
                      <a:lnTo>
                        <a:pt x="2029" y="630"/>
                      </a:lnTo>
                      <a:lnTo>
                        <a:pt x="2066" y="638"/>
                      </a:lnTo>
                      <a:lnTo>
                        <a:pt x="2102" y="648"/>
                      </a:lnTo>
                      <a:lnTo>
                        <a:pt x="2131" y="657"/>
                      </a:lnTo>
                      <a:lnTo>
                        <a:pt x="2156" y="663"/>
                      </a:lnTo>
                      <a:lnTo>
                        <a:pt x="2172" y="668"/>
                      </a:lnTo>
                      <a:lnTo>
                        <a:pt x="2181" y="672"/>
                      </a:lnTo>
                      <a:lnTo>
                        <a:pt x="2190" y="672"/>
                      </a:lnTo>
                      <a:lnTo>
                        <a:pt x="2207" y="672"/>
                      </a:lnTo>
                      <a:lnTo>
                        <a:pt x="2232" y="672"/>
                      </a:lnTo>
                      <a:lnTo>
                        <a:pt x="2263" y="673"/>
                      </a:lnTo>
                      <a:lnTo>
                        <a:pt x="2298" y="673"/>
                      </a:lnTo>
                      <a:lnTo>
                        <a:pt x="2339" y="674"/>
                      </a:lnTo>
                      <a:lnTo>
                        <a:pt x="2380" y="674"/>
                      </a:lnTo>
                      <a:lnTo>
                        <a:pt x="2423" y="675"/>
                      </a:lnTo>
                      <a:lnTo>
                        <a:pt x="2465" y="675"/>
                      </a:lnTo>
                      <a:lnTo>
                        <a:pt x="2506" y="675"/>
                      </a:lnTo>
                      <a:lnTo>
                        <a:pt x="2544" y="675"/>
                      </a:lnTo>
                      <a:lnTo>
                        <a:pt x="2579" y="675"/>
                      </a:lnTo>
                      <a:lnTo>
                        <a:pt x="2607" y="675"/>
                      </a:lnTo>
                      <a:lnTo>
                        <a:pt x="2629" y="675"/>
                      </a:lnTo>
                      <a:lnTo>
                        <a:pt x="2643" y="675"/>
                      </a:lnTo>
                      <a:lnTo>
                        <a:pt x="2650" y="676"/>
                      </a:lnTo>
                      <a:lnTo>
                        <a:pt x="2647" y="676"/>
                      </a:lnTo>
                      <a:lnTo>
                        <a:pt x="2641" y="678"/>
                      </a:lnTo>
                      <a:lnTo>
                        <a:pt x="2633" y="682"/>
                      </a:lnTo>
                      <a:lnTo>
                        <a:pt x="2622" y="687"/>
                      </a:lnTo>
                      <a:lnTo>
                        <a:pt x="2607" y="693"/>
                      </a:lnTo>
                      <a:lnTo>
                        <a:pt x="2591" y="700"/>
                      </a:lnTo>
                      <a:lnTo>
                        <a:pt x="2571" y="708"/>
                      </a:lnTo>
                      <a:lnTo>
                        <a:pt x="2550" y="718"/>
                      </a:lnTo>
                      <a:lnTo>
                        <a:pt x="2526" y="727"/>
                      </a:lnTo>
                      <a:lnTo>
                        <a:pt x="2501" y="737"/>
                      </a:lnTo>
                      <a:lnTo>
                        <a:pt x="2473" y="747"/>
                      </a:lnTo>
                      <a:lnTo>
                        <a:pt x="2444" y="758"/>
                      </a:lnTo>
                      <a:lnTo>
                        <a:pt x="2413" y="768"/>
                      </a:lnTo>
                      <a:lnTo>
                        <a:pt x="2383" y="778"/>
                      </a:lnTo>
                      <a:lnTo>
                        <a:pt x="2351" y="788"/>
                      </a:lnTo>
                      <a:lnTo>
                        <a:pt x="2319" y="799"/>
                      </a:lnTo>
                      <a:lnTo>
                        <a:pt x="2287" y="809"/>
                      </a:lnTo>
                      <a:lnTo>
                        <a:pt x="2260" y="818"/>
                      </a:lnTo>
                      <a:lnTo>
                        <a:pt x="2233" y="824"/>
                      </a:lnTo>
                      <a:lnTo>
                        <a:pt x="2211" y="833"/>
                      </a:lnTo>
                      <a:lnTo>
                        <a:pt x="2189" y="839"/>
                      </a:lnTo>
                      <a:lnTo>
                        <a:pt x="2170" y="845"/>
                      </a:lnTo>
                      <a:lnTo>
                        <a:pt x="2152" y="851"/>
                      </a:lnTo>
                      <a:lnTo>
                        <a:pt x="2135" y="856"/>
                      </a:lnTo>
                      <a:lnTo>
                        <a:pt x="2117" y="861"/>
                      </a:lnTo>
                      <a:lnTo>
                        <a:pt x="2102" y="865"/>
                      </a:lnTo>
                      <a:lnTo>
                        <a:pt x="2083" y="867"/>
                      </a:lnTo>
                      <a:lnTo>
                        <a:pt x="2066" y="871"/>
                      </a:lnTo>
                      <a:lnTo>
                        <a:pt x="2045" y="872"/>
                      </a:lnTo>
                      <a:lnTo>
                        <a:pt x="2024" y="874"/>
                      </a:lnTo>
                      <a:lnTo>
                        <a:pt x="2001" y="874"/>
                      </a:lnTo>
                      <a:lnTo>
                        <a:pt x="1977" y="874"/>
                      </a:lnTo>
                      <a:lnTo>
                        <a:pt x="1946" y="874"/>
                      </a:lnTo>
                      <a:lnTo>
                        <a:pt x="1910" y="872"/>
                      </a:lnTo>
                      <a:lnTo>
                        <a:pt x="1869" y="867"/>
                      </a:lnTo>
                      <a:lnTo>
                        <a:pt x="1826" y="862"/>
                      </a:lnTo>
                      <a:lnTo>
                        <a:pt x="1778" y="855"/>
                      </a:lnTo>
                      <a:lnTo>
                        <a:pt x="1729" y="848"/>
                      </a:lnTo>
                      <a:lnTo>
                        <a:pt x="1678" y="841"/>
                      </a:lnTo>
                      <a:lnTo>
                        <a:pt x="1630" y="834"/>
                      </a:lnTo>
                      <a:lnTo>
                        <a:pt x="1579" y="824"/>
                      </a:lnTo>
                      <a:lnTo>
                        <a:pt x="1532" y="818"/>
                      </a:lnTo>
                      <a:lnTo>
                        <a:pt x="1488" y="810"/>
                      </a:lnTo>
                      <a:lnTo>
                        <a:pt x="1450" y="804"/>
                      </a:lnTo>
                      <a:lnTo>
                        <a:pt x="1415" y="799"/>
                      </a:lnTo>
                      <a:lnTo>
                        <a:pt x="1385" y="794"/>
                      </a:lnTo>
                      <a:lnTo>
                        <a:pt x="1363" y="791"/>
                      </a:lnTo>
                      <a:lnTo>
                        <a:pt x="1350" y="791"/>
                      </a:lnTo>
                      <a:lnTo>
                        <a:pt x="1339" y="791"/>
                      </a:lnTo>
                      <a:lnTo>
                        <a:pt x="1329" y="791"/>
                      </a:lnTo>
                      <a:lnTo>
                        <a:pt x="1318" y="791"/>
                      </a:lnTo>
                      <a:lnTo>
                        <a:pt x="1307" y="791"/>
                      </a:lnTo>
                      <a:lnTo>
                        <a:pt x="1293" y="791"/>
                      </a:lnTo>
                      <a:lnTo>
                        <a:pt x="1279" y="791"/>
                      </a:lnTo>
                      <a:lnTo>
                        <a:pt x="1264" y="791"/>
                      </a:lnTo>
                      <a:lnTo>
                        <a:pt x="1247" y="791"/>
                      </a:lnTo>
                      <a:lnTo>
                        <a:pt x="1226" y="790"/>
                      </a:lnTo>
                      <a:lnTo>
                        <a:pt x="1205" y="790"/>
                      </a:lnTo>
                      <a:lnTo>
                        <a:pt x="1181" y="790"/>
                      </a:lnTo>
                      <a:lnTo>
                        <a:pt x="1154" y="790"/>
                      </a:lnTo>
                      <a:lnTo>
                        <a:pt x="1124" y="789"/>
                      </a:lnTo>
                      <a:lnTo>
                        <a:pt x="1091" y="788"/>
                      </a:lnTo>
                      <a:lnTo>
                        <a:pt x="1055" y="788"/>
                      </a:lnTo>
                      <a:lnTo>
                        <a:pt x="1016" y="787"/>
                      </a:lnTo>
                      <a:lnTo>
                        <a:pt x="973" y="783"/>
                      </a:lnTo>
                      <a:lnTo>
                        <a:pt x="934" y="783"/>
                      </a:lnTo>
                      <a:lnTo>
                        <a:pt x="895" y="783"/>
                      </a:lnTo>
                      <a:lnTo>
                        <a:pt x="860" y="783"/>
                      </a:lnTo>
                      <a:lnTo>
                        <a:pt x="826" y="782"/>
                      </a:lnTo>
                      <a:lnTo>
                        <a:pt x="794" y="781"/>
                      </a:lnTo>
                      <a:lnTo>
                        <a:pt x="763" y="780"/>
                      </a:lnTo>
                      <a:lnTo>
                        <a:pt x="733" y="780"/>
                      </a:lnTo>
                      <a:lnTo>
                        <a:pt x="705" y="775"/>
                      </a:lnTo>
                      <a:lnTo>
                        <a:pt x="678" y="773"/>
                      </a:lnTo>
                      <a:lnTo>
                        <a:pt x="652" y="767"/>
                      </a:lnTo>
                      <a:lnTo>
                        <a:pt x="629" y="761"/>
                      </a:lnTo>
                      <a:lnTo>
                        <a:pt x="607" y="752"/>
                      </a:lnTo>
                      <a:lnTo>
                        <a:pt x="587" y="741"/>
                      </a:lnTo>
                      <a:lnTo>
                        <a:pt x="568" y="729"/>
                      </a:lnTo>
                      <a:lnTo>
                        <a:pt x="551" y="715"/>
                      </a:lnTo>
                      <a:lnTo>
                        <a:pt x="533" y="697"/>
                      </a:lnTo>
                      <a:lnTo>
                        <a:pt x="515" y="684"/>
                      </a:lnTo>
                      <a:lnTo>
                        <a:pt x="497" y="672"/>
                      </a:lnTo>
                      <a:lnTo>
                        <a:pt x="480" y="663"/>
                      </a:lnTo>
                      <a:lnTo>
                        <a:pt x="461" y="654"/>
                      </a:lnTo>
                      <a:lnTo>
                        <a:pt x="443" y="647"/>
                      </a:lnTo>
                      <a:lnTo>
                        <a:pt x="422" y="641"/>
                      </a:lnTo>
                      <a:lnTo>
                        <a:pt x="404" y="636"/>
                      </a:lnTo>
                      <a:lnTo>
                        <a:pt x="383" y="631"/>
                      </a:lnTo>
                      <a:lnTo>
                        <a:pt x="361" y="626"/>
                      </a:lnTo>
                      <a:lnTo>
                        <a:pt x="339" y="622"/>
                      </a:lnTo>
                      <a:lnTo>
                        <a:pt x="317" y="617"/>
                      </a:lnTo>
                      <a:lnTo>
                        <a:pt x="293" y="612"/>
                      </a:lnTo>
                      <a:lnTo>
                        <a:pt x="269" y="605"/>
                      </a:lnTo>
                      <a:lnTo>
                        <a:pt x="243" y="597"/>
                      </a:lnTo>
                      <a:lnTo>
                        <a:pt x="218" y="590"/>
                      </a:lnTo>
                      <a:lnTo>
                        <a:pt x="191" y="578"/>
                      </a:lnTo>
                      <a:lnTo>
                        <a:pt x="167" y="565"/>
                      </a:lnTo>
                      <a:lnTo>
                        <a:pt x="144" y="550"/>
                      </a:lnTo>
                      <a:lnTo>
                        <a:pt x="124" y="534"/>
                      </a:lnTo>
                      <a:lnTo>
                        <a:pt x="103" y="517"/>
                      </a:lnTo>
                      <a:lnTo>
                        <a:pt x="85" y="498"/>
                      </a:lnTo>
                      <a:lnTo>
                        <a:pt x="69" y="479"/>
                      </a:lnTo>
                      <a:lnTo>
                        <a:pt x="55" y="460"/>
                      </a:lnTo>
                      <a:lnTo>
                        <a:pt x="42" y="441"/>
                      </a:lnTo>
                      <a:lnTo>
                        <a:pt x="31" y="420"/>
                      </a:lnTo>
                      <a:lnTo>
                        <a:pt x="21" y="398"/>
                      </a:lnTo>
                      <a:lnTo>
                        <a:pt x="12" y="380"/>
                      </a:lnTo>
                      <a:lnTo>
                        <a:pt x="6" y="359"/>
                      </a:lnTo>
                      <a:lnTo>
                        <a:pt x="0" y="341"/>
                      </a:lnTo>
                      <a:lnTo>
                        <a:pt x="0" y="323"/>
                      </a:lnTo>
                      <a:lnTo>
                        <a:pt x="0" y="308"/>
                      </a:lnTo>
                      <a:lnTo>
                        <a:pt x="0" y="289"/>
                      </a:lnTo>
                      <a:lnTo>
                        <a:pt x="0" y="268"/>
                      </a:lnTo>
                      <a:lnTo>
                        <a:pt x="0" y="246"/>
                      </a:lnTo>
                      <a:lnTo>
                        <a:pt x="2" y="223"/>
                      </a:lnTo>
                      <a:lnTo>
                        <a:pt x="6" y="196"/>
                      </a:lnTo>
                      <a:lnTo>
                        <a:pt x="10" y="172"/>
                      </a:lnTo>
                      <a:lnTo>
                        <a:pt x="14" y="145"/>
                      </a:lnTo>
                      <a:lnTo>
                        <a:pt x="20" y="121"/>
                      </a:lnTo>
                      <a:lnTo>
                        <a:pt x="23" y="96"/>
                      </a:lnTo>
                      <a:lnTo>
                        <a:pt x="29" y="73"/>
                      </a:lnTo>
                      <a:lnTo>
                        <a:pt x="33" y="54"/>
                      </a:lnTo>
                      <a:lnTo>
                        <a:pt x="38" y="36"/>
                      </a:lnTo>
                      <a:lnTo>
                        <a:pt x="41" y="21"/>
                      </a:lnTo>
                      <a:lnTo>
                        <a:pt x="44" y="10"/>
                      </a:lnTo>
                      <a:lnTo>
                        <a:pt x="45" y="3"/>
                      </a:lnTo>
                      <a:lnTo>
                        <a:pt x="46" y="0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9e9e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 flipH="1">
                  <a:off x="1878840" y="5137560"/>
                  <a:ext cx="1230120" cy="924120"/>
                </a:xfrm>
                <a:custGeom>
                  <a:avLst/>
                  <a:gdLst/>
                  <a:ahLst/>
                  <a:rect l="l" t="t" r="r" b="b"/>
                  <a:pathLst>
                    <a:path w="1891" h="1639">
                      <a:moveTo>
                        <a:pt x="151" y="0"/>
                      </a:moveTo>
                      <a:lnTo>
                        <a:pt x="303" y="0"/>
                      </a:lnTo>
                      <a:lnTo>
                        <a:pt x="551" y="0"/>
                      </a:lnTo>
                      <a:lnTo>
                        <a:pt x="739" y="6"/>
                      </a:lnTo>
                      <a:lnTo>
                        <a:pt x="831" y="52"/>
                      </a:lnTo>
                      <a:lnTo>
                        <a:pt x="840" y="131"/>
                      </a:lnTo>
                      <a:lnTo>
                        <a:pt x="812" y="187"/>
                      </a:lnTo>
                      <a:lnTo>
                        <a:pt x="749" y="249"/>
                      </a:lnTo>
                      <a:lnTo>
                        <a:pt x="469" y="353"/>
                      </a:lnTo>
                      <a:lnTo>
                        <a:pt x="218" y="422"/>
                      </a:lnTo>
                      <a:lnTo>
                        <a:pt x="174" y="453"/>
                      </a:lnTo>
                      <a:lnTo>
                        <a:pt x="174" y="498"/>
                      </a:lnTo>
                      <a:lnTo>
                        <a:pt x="203" y="541"/>
                      </a:lnTo>
                      <a:lnTo>
                        <a:pt x="279" y="568"/>
                      </a:lnTo>
                      <a:lnTo>
                        <a:pt x="410" y="578"/>
                      </a:lnTo>
                      <a:lnTo>
                        <a:pt x="671" y="603"/>
                      </a:lnTo>
                      <a:lnTo>
                        <a:pt x="967" y="623"/>
                      </a:lnTo>
                      <a:lnTo>
                        <a:pt x="1147" y="656"/>
                      </a:lnTo>
                      <a:lnTo>
                        <a:pt x="1292" y="696"/>
                      </a:lnTo>
                      <a:lnTo>
                        <a:pt x="1343" y="763"/>
                      </a:lnTo>
                      <a:lnTo>
                        <a:pt x="1345" y="853"/>
                      </a:lnTo>
                      <a:lnTo>
                        <a:pt x="1282" y="918"/>
                      </a:lnTo>
                      <a:lnTo>
                        <a:pt x="285" y="1126"/>
                      </a:lnTo>
                      <a:lnTo>
                        <a:pt x="257" y="1141"/>
                      </a:lnTo>
                      <a:lnTo>
                        <a:pt x="261" y="1163"/>
                      </a:lnTo>
                      <a:lnTo>
                        <a:pt x="310" y="1186"/>
                      </a:lnTo>
                      <a:lnTo>
                        <a:pt x="1020" y="1180"/>
                      </a:lnTo>
                      <a:lnTo>
                        <a:pt x="1248" y="1134"/>
                      </a:lnTo>
                      <a:lnTo>
                        <a:pt x="1891" y="1000"/>
                      </a:lnTo>
                      <a:lnTo>
                        <a:pt x="1855" y="1066"/>
                      </a:lnTo>
                      <a:lnTo>
                        <a:pt x="1697" y="1116"/>
                      </a:lnTo>
                      <a:lnTo>
                        <a:pt x="1593" y="1203"/>
                      </a:lnTo>
                      <a:lnTo>
                        <a:pt x="1525" y="1317"/>
                      </a:lnTo>
                      <a:lnTo>
                        <a:pt x="1503" y="1639"/>
                      </a:lnTo>
                      <a:lnTo>
                        <a:pt x="206" y="1330"/>
                      </a:lnTo>
                      <a:lnTo>
                        <a:pt x="45" y="1170"/>
                      </a:lnTo>
                      <a:lnTo>
                        <a:pt x="60" y="1097"/>
                      </a:lnTo>
                      <a:lnTo>
                        <a:pt x="134" y="1031"/>
                      </a:lnTo>
                      <a:lnTo>
                        <a:pt x="191" y="997"/>
                      </a:lnTo>
                      <a:lnTo>
                        <a:pt x="419" y="953"/>
                      </a:lnTo>
                      <a:lnTo>
                        <a:pt x="850" y="878"/>
                      </a:lnTo>
                      <a:lnTo>
                        <a:pt x="1028" y="847"/>
                      </a:lnTo>
                      <a:lnTo>
                        <a:pt x="1075" y="811"/>
                      </a:lnTo>
                      <a:lnTo>
                        <a:pt x="1071" y="785"/>
                      </a:lnTo>
                      <a:lnTo>
                        <a:pt x="989" y="738"/>
                      </a:lnTo>
                      <a:lnTo>
                        <a:pt x="780" y="708"/>
                      </a:lnTo>
                      <a:lnTo>
                        <a:pt x="400" y="670"/>
                      </a:lnTo>
                      <a:lnTo>
                        <a:pt x="211" y="658"/>
                      </a:lnTo>
                      <a:lnTo>
                        <a:pt x="43" y="603"/>
                      </a:lnTo>
                      <a:lnTo>
                        <a:pt x="0" y="531"/>
                      </a:lnTo>
                      <a:lnTo>
                        <a:pt x="6" y="469"/>
                      </a:lnTo>
                      <a:lnTo>
                        <a:pt x="55" y="394"/>
                      </a:lnTo>
                      <a:lnTo>
                        <a:pt x="155" y="333"/>
                      </a:lnTo>
                      <a:lnTo>
                        <a:pt x="309" y="300"/>
                      </a:lnTo>
                      <a:lnTo>
                        <a:pt x="582" y="242"/>
                      </a:lnTo>
                      <a:lnTo>
                        <a:pt x="730" y="185"/>
                      </a:lnTo>
                      <a:lnTo>
                        <a:pt x="768" y="141"/>
                      </a:lnTo>
                      <a:lnTo>
                        <a:pt x="764" y="107"/>
                      </a:lnTo>
                      <a:lnTo>
                        <a:pt x="735" y="68"/>
                      </a:lnTo>
                      <a:lnTo>
                        <a:pt x="674" y="47"/>
                      </a:lnTo>
                      <a:lnTo>
                        <a:pt x="528" y="41"/>
                      </a:lnTo>
                      <a:lnTo>
                        <a:pt x="352" y="37"/>
                      </a:lnTo>
                      <a:lnTo>
                        <a:pt x="196" y="33"/>
                      </a:lnTo>
                      <a:lnTo>
                        <a:pt x="125" y="33"/>
                      </a:lnTo>
                      <a:lnTo>
                        <a:pt x="151" y="0"/>
                      </a:lnTo>
                      <a:lnTo>
                        <a:pt x="151" y="0"/>
                      </a:lnTo>
                      <a:close/>
                    </a:path>
                  </a:pathLst>
                </a:custGeom>
                <a:solidFill>
                  <a:srgbClr val="9e9e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 flipH="1">
                  <a:off x="1568520" y="5731200"/>
                  <a:ext cx="1521360" cy="436680"/>
                </a:xfrm>
                <a:custGeom>
                  <a:avLst/>
                  <a:gdLst/>
                  <a:ahLst/>
                  <a:rect l="l" t="t" r="r" b="b"/>
                  <a:pathLst>
                    <a:path w="2342" h="775">
                      <a:moveTo>
                        <a:pt x="80" y="0"/>
                      </a:moveTo>
                      <a:lnTo>
                        <a:pt x="78" y="0"/>
                      </a:lnTo>
                      <a:lnTo>
                        <a:pt x="76" y="2"/>
                      </a:lnTo>
                      <a:lnTo>
                        <a:pt x="72" y="6"/>
                      </a:lnTo>
                      <a:lnTo>
                        <a:pt x="68" y="14"/>
                      </a:lnTo>
                      <a:lnTo>
                        <a:pt x="62" y="19"/>
                      </a:lnTo>
                      <a:lnTo>
                        <a:pt x="57" y="28"/>
                      </a:lnTo>
                      <a:lnTo>
                        <a:pt x="52" y="37"/>
                      </a:lnTo>
                      <a:lnTo>
                        <a:pt x="49" y="49"/>
                      </a:lnTo>
                      <a:lnTo>
                        <a:pt x="44" y="60"/>
                      </a:lnTo>
                      <a:lnTo>
                        <a:pt x="42" y="72"/>
                      </a:lnTo>
                      <a:lnTo>
                        <a:pt x="41" y="86"/>
                      </a:lnTo>
                      <a:lnTo>
                        <a:pt x="44" y="100"/>
                      </a:lnTo>
                      <a:lnTo>
                        <a:pt x="47" y="113"/>
                      </a:lnTo>
                      <a:lnTo>
                        <a:pt x="54" y="128"/>
                      </a:lnTo>
                      <a:lnTo>
                        <a:pt x="63" y="141"/>
                      </a:lnTo>
                      <a:lnTo>
                        <a:pt x="77" y="154"/>
                      </a:lnTo>
                      <a:lnTo>
                        <a:pt x="92" y="166"/>
                      </a:lnTo>
                      <a:lnTo>
                        <a:pt x="111" y="181"/>
                      </a:lnTo>
                      <a:lnTo>
                        <a:pt x="131" y="193"/>
                      </a:lnTo>
                      <a:lnTo>
                        <a:pt x="153" y="207"/>
                      </a:lnTo>
                      <a:lnTo>
                        <a:pt x="174" y="220"/>
                      </a:lnTo>
                      <a:lnTo>
                        <a:pt x="198" y="233"/>
                      </a:lnTo>
                      <a:lnTo>
                        <a:pt x="220" y="244"/>
                      </a:lnTo>
                      <a:lnTo>
                        <a:pt x="244" y="256"/>
                      </a:lnTo>
                      <a:lnTo>
                        <a:pt x="264" y="265"/>
                      </a:lnTo>
                      <a:lnTo>
                        <a:pt x="283" y="274"/>
                      </a:lnTo>
                      <a:lnTo>
                        <a:pt x="302" y="281"/>
                      </a:lnTo>
                      <a:lnTo>
                        <a:pt x="318" y="290"/>
                      </a:lnTo>
                      <a:lnTo>
                        <a:pt x="331" y="295"/>
                      </a:lnTo>
                      <a:lnTo>
                        <a:pt x="341" y="299"/>
                      </a:lnTo>
                      <a:lnTo>
                        <a:pt x="348" y="301"/>
                      </a:lnTo>
                      <a:lnTo>
                        <a:pt x="351" y="302"/>
                      </a:lnTo>
                      <a:lnTo>
                        <a:pt x="304" y="229"/>
                      </a:lnTo>
                      <a:lnTo>
                        <a:pt x="443" y="315"/>
                      </a:lnTo>
                      <a:lnTo>
                        <a:pt x="442" y="311"/>
                      </a:lnTo>
                      <a:lnTo>
                        <a:pt x="439" y="305"/>
                      </a:lnTo>
                      <a:lnTo>
                        <a:pt x="437" y="300"/>
                      </a:lnTo>
                      <a:lnTo>
                        <a:pt x="435" y="296"/>
                      </a:lnTo>
                      <a:lnTo>
                        <a:pt x="432" y="290"/>
                      </a:lnTo>
                      <a:lnTo>
                        <a:pt x="430" y="285"/>
                      </a:lnTo>
                      <a:lnTo>
                        <a:pt x="425" y="278"/>
                      </a:lnTo>
                      <a:lnTo>
                        <a:pt x="421" y="270"/>
                      </a:lnTo>
                      <a:lnTo>
                        <a:pt x="415" y="264"/>
                      </a:lnTo>
                      <a:lnTo>
                        <a:pt x="409" y="257"/>
                      </a:lnTo>
                      <a:lnTo>
                        <a:pt x="402" y="250"/>
                      </a:lnTo>
                      <a:lnTo>
                        <a:pt x="395" y="244"/>
                      </a:lnTo>
                      <a:lnTo>
                        <a:pt x="386" y="237"/>
                      </a:lnTo>
                      <a:lnTo>
                        <a:pt x="379" y="232"/>
                      </a:lnTo>
                      <a:lnTo>
                        <a:pt x="383" y="232"/>
                      </a:lnTo>
                      <a:lnTo>
                        <a:pt x="387" y="233"/>
                      </a:lnTo>
                      <a:lnTo>
                        <a:pt x="396" y="235"/>
                      </a:lnTo>
                      <a:lnTo>
                        <a:pt x="404" y="238"/>
                      </a:lnTo>
                      <a:lnTo>
                        <a:pt x="415" y="243"/>
                      </a:lnTo>
                      <a:lnTo>
                        <a:pt x="427" y="246"/>
                      </a:lnTo>
                      <a:lnTo>
                        <a:pt x="442" y="253"/>
                      </a:lnTo>
                      <a:lnTo>
                        <a:pt x="454" y="257"/>
                      </a:lnTo>
                      <a:lnTo>
                        <a:pt x="469" y="265"/>
                      </a:lnTo>
                      <a:lnTo>
                        <a:pt x="485" y="273"/>
                      </a:lnTo>
                      <a:lnTo>
                        <a:pt x="499" y="281"/>
                      </a:lnTo>
                      <a:lnTo>
                        <a:pt x="513" y="291"/>
                      </a:lnTo>
                      <a:lnTo>
                        <a:pt x="529" y="302"/>
                      </a:lnTo>
                      <a:lnTo>
                        <a:pt x="543" y="315"/>
                      </a:lnTo>
                      <a:lnTo>
                        <a:pt x="558" y="329"/>
                      </a:lnTo>
                      <a:lnTo>
                        <a:pt x="557" y="326"/>
                      </a:lnTo>
                      <a:lnTo>
                        <a:pt x="554" y="317"/>
                      </a:lnTo>
                      <a:lnTo>
                        <a:pt x="551" y="310"/>
                      </a:lnTo>
                      <a:lnTo>
                        <a:pt x="548" y="304"/>
                      </a:lnTo>
                      <a:lnTo>
                        <a:pt x="545" y="297"/>
                      </a:lnTo>
                      <a:lnTo>
                        <a:pt x="542" y="290"/>
                      </a:lnTo>
                      <a:lnTo>
                        <a:pt x="537" y="281"/>
                      </a:lnTo>
                      <a:lnTo>
                        <a:pt x="532" y="275"/>
                      </a:lnTo>
                      <a:lnTo>
                        <a:pt x="526" y="267"/>
                      </a:lnTo>
                      <a:lnTo>
                        <a:pt x="521" y="260"/>
                      </a:lnTo>
                      <a:lnTo>
                        <a:pt x="513" y="255"/>
                      </a:lnTo>
                      <a:lnTo>
                        <a:pt x="507" y="249"/>
                      </a:lnTo>
                      <a:lnTo>
                        <a:pt x="492" y="243"/>
                      </a:lnTo>
                      <a:lnTo>
                        <a:pt x="501" y="244"/>
                      </a:lnTo>
                      <a:lnTo>
                        <a:pt x="511" y="248"/>
                      </a:lnTo>
                      <a:lnTo>
                        <a:pt x="523" y="254"/>
                      </a:lnTo>
                      <a:lnTo>
                        <a:pt x="533" y="260"/>
                      </a:lnTo>
                      <a:lnTo>
                        <a:pt x="547" y="267"/>
                      </a:lnTo>
                      <a:lnTo>
                        <a:pt x="562" y="276"/>
                      </a:lnTo>
                      <a:lnTo>
                        <a:pt x="576" y="283"/>
                      </a:lnTo>
                      <a:lnTo>
                        <a:pt x="592" y="292"/>
                      </a:lnTo>
                      <a:lnTo>
                        <a:pt x="607" y="302"/>
                      </a:lnTo>
                      <a:lnTo>
                        <a:pt x="624" y="315"/>
                      </a:lnTo>
                      <a:lnTo>
                        <a:pt x="637" y="326"/>
                      </a:lnTo>
                      <a:lnTo>
                        <a:pt x="653" y="339"/>
                      </a:lnTo>
                      <a:lnTo>
                        <a:pt x="667" y="352"/>
                      </a:lnTo>
                      <a:lnTo>
                        <a:pt x="680" y="368"/>
                      </a:lnTo>
                      <a:lnTo>
                        <a:pt x="678" y="363"/>
                      </a:lnTo>
                      <a:lnTo>
                        <a:pt x="675" y="356"/>
                      </a:lnTo>
                      <a:lnTo>
                        <a:pt x="671" y="350"/>
                      </a:lnTo>
                      <a:lnTo>
                        <a:pt x="669" y="343"/>
                      </a:lnTo>
                      <a:lnTo>
                        <a:pt x="665" y="337"/>
                      </a:lnTo>
                      <a:lnTo>
                        <a:pt x="662" y="329"/>
                      </a:lnTo>
                      <a:lnTo>
                        <a:pt x="657" y="320"/>
                      </a:lnTo>
                      <a:lnTo>
                        <a:pt x="652" y="312"/>
                      </a:lnTo>
                      <a:lnTo>
                        <a:pt x="646" y="304"/>
                      </a:lnTo>
                      <a:lnTo>
                        <a:pt x="641" y="296"/>
                      </a:lnTo>
                      <a:lnTo>
                        <a:pt x="633" y="288"/>
                      </a:lnTo>
                      <a:lnTo>
                        <a:pt x="625" y="280"/>
                      </a:lnTo>
                      <a:lnTo>
                        <a:pt x="617" y="275"/>
                      </a:lnTo>
                      <a:lnTo>
                        <a:pt x="611" y="269"/>
                      </a:lnTo>
                      <a:lnTo>
                        <a:pt x="612" y="269"/>
                      </a:lnTo>
                      <a:lnTo>
                        <a:pt x="615" y="271"/>
                      </a:lnTo>
                      <a:lnTo>
                        <a:pt x="623" y="274"/>
                      </a:lnTo>
                      <a:lnTo>
                        <a:pt x="633" y="278"/>
                      </a:lnTo>
                      <a:lnTo>
                        <a:pt x="644" y="281"/>
                      </a:lnTo>
                      <a:lnTo>
                        <a:pt x="657" y="288"/>
                      </a:lnTo>
                      <a:lnTo>
                        <a:pt x="670" y="294"/>
                      </a:lnTo>
                      <a:lnTo>
                        <a:pt x="686" y="302"/>
                      </a:lnTo>
                      <a:lnTo>
                        <a:pt x="701" y="309"/>
                      </a:lnTo>
                      <a:lnTo>
                        <a:pt x="716" y="317"/>
                      </a:lnTo>
                      <a:lnTo>
                        <a:pt x="731" y="326"/>
                      </a:lnTo>
                      <a:lnTo>
                        <a:pt x="747" y="337"/>
                      </a:lnTo>
                      <a:lnTo>
                        <a:pt x="761" y="347"/>
                      </a:lnTo>
                      <a:lnTo>
                        <a:pt x="773" y="358"/>
                      </a:lnTo>
                      <a:lnTo>
                        <a:pt x="784" y="369"/>
                      </a:lnTo>
                      <a:lnTo>
                        <a:pt x="795" y="381"/>
                      </a:lnTo>
                      <a:lnTo>
                        <a:pt x="793" y="377"/>
                      </a:lnTo>
                      <a:lnTo>
                        <a:pt x="790" y="369"/>
                      </a:lnTo>
                      <a:lnTo>
                        <a:pt x="785" y="361"/>
                      </a:lnTo>
                      <a:lnTo>
                        <a:pt x="783" y="356"/>
                      </a:lnTo>
                      <a:lnTo>
                        <a:pt x="779" y="349"/>
                      </a:lnTo>
                      <a:lnTo>
                        <a:pt x="775" y="341"/>
                      </a:lnTo>
                      <a:lnTo>
                        <a:pt x="770" y="332"/>
                      </a:lnTo>
                      <a:lnTo>
                        <a:pt x="764" y="325"/>
                      </a:lnTo>
                      <a:lnTo>
                        <a:pt x="759" y="316"/>
                      </a:lnTo>
                      <a:lnTo>
                        <a:pt x="752" y="309"/>
                      </a:lnTo>
                      <a:lnTo>
                        <a:pt x="746" y="302"/>
                      </a:lnTo>
                      <a:lnTo>
                        <a:pt x="739" y="296"/>
                      </a:lnTo>
                      <a:lnTo>
                        <a:pt x="730" y="290"/>
                      </a:lnTo>
                      <a:lnTo>
                        <a:pt x="723" y="286"/>
                      </a:lnTo>
                      <a:lnTo>
                        <a:pt x="725" y="286"/>
                      </a:lnTo>
                      <a:lnTo>
                        <a:pt x="729" y="288"/>
                      </a:lnTo>
                      <a:lnTo>
                        <a:pt x="737" y="291"/>
                      </a:lnTo>
                      <a:lnTo>
                        <a:pt x="747" y="296"/>
                      </a:lnTo>
                      <a:lnTo>
                        <a:pt x="758" y="301"/>
                      </a:lnTo>
                      <a:lnTo>
                        <a:pt x="772" y="308"/>
                      </a:lnTo>
                      <a:lnTo>
                        <a:pt x="786" y="315"/>
                      </a:lnTo>
                      <a:lnTo>
                        <a:pt x="804" y="325"/>
                      </a:lnTo>
                      <a:lnTo>
                        <a:pt x="819" y="332"/>
                      </a:lnTo>
                      <a:lnTo>
                        <a:pt x="837" y="342"/>
                      </a:lnTo>
                      <a:lnTo>
                        <a:pt x="854" y="352"/>
                      </a:lnTo>
                      <a:lnTo>
                        <a:pt x="870" y="363"/>
                      </a:lnTo>
                      <a:lnTo>
                        <a:pt x="886" y="374"/>
                      </a:lnTo>
                      <a:lnTo>
                        <a:pt x="900" y="386"/>
                      </a:lnTo>
                      <a:lnTo>
                        <a:pt x="914" y="399"/>
                      </a:lnTo>
                      <a:lnTo>
                        <a:pt x="926" y="411"/>
                      </a:lnTo>
                      <a:lnTo>
                        <a:pt x="925" y="409"/>
                      </a:lnTo>
                      <a:lnTo>
                        <a:pt x="922" y="406"/>
                      </a:lnTo>
                      <a:lnTo>
                        <a:pt x="920" y="401"/>
                      </a:lnTo>
                      <a:lnTo>
                        <a:pt x="918" y="396"/>
                      </a:lnTo>
                      <a:lnTo>
                        <a:pt x="912" y="388"/>
                      </a:lnTo>
                      <a:lnTo>
                        <a:pt x="909" y="380"/>
                      </a:lnTo>
                      <a:lnTo>
                        <a:pt x="903" y="371"/>
                      </a:lnTo>
                      <a:lnTo>
                        <a:pt x="898" y="362"/>
                      </a:lnTo>
                      <a:lnTo>
                        <a:pt x="890" y="352"/>
                      </a:lnTo>
                      <a:lnTo>
                        <a:pt x="885" y="342"/>
                      </a:lnTo>
                      <a:lnTo>
                        <a:pt x="877" y="333"/>
                      </a:lnTo>
                      <a:lnTo>
                        <a:pt x="872" y="326"/>
                      </a:lnTo>
                      <a:lnTo>
                        <a:pt x="865" y="316"/>
                      </a:lnTo>
                      <a:lnTo>
                        <a:pt x="858" y="309"/>
                      </a:lnTo>
                      <a:lnTo>
                        <a:pt x="853" y="302"/>
                      </a:lnTo>
                      <a:lnTo>
                        <a:pt x="846" y="299"/>
                      </a:lnTo>
                      <a:lnTo>
                        <a:pt x="848" y="299"/>
                      </a:lnTo>
                      <a:lnTo>
                        <a:pt x="855" y="302"/>
                      </a:lnTo>
                      <a:lnTo>
                        <a:pt x="865" y="308"/>
                      </a:lnTo>
                      <a:lnTo>
                        <a:pt x="880" y="316"/>
                      </a:lnTo>
                      <a:lnTo>
                        <a:pt x="897" y="325"/>
                      </a:lnTo>
                      <a:lnTo>
                        <a:pt x="917" y="336"/>
                      </a:lnTo>
                      <a:lnTo>
                        <a:pt x="937" y="347"/>
                      </a:lnTo>
                      <a:lnTo>
                        <a:pt x="959" y="360"/>
                      </a:lnTo>
                      <a:lnTo>
                        <a:pt x="980" y="372"/>
                      </a:lnTo>
                      <a:lnTo>
                        <a:pt x="1002" y="384"/>
                      </a:lnTo>
                      <a:lnTo>
                        <a:pt x="1022" y="396"/>
                      </a:lnTo>
                      <a:lnTo>
                        <a:pt x="1042" y="411"/>
                      </a:lnTo>
                      <a:lnTo>
                        <a:pt x="1058" y="423"/>
                      </a:lnTo>
                      <a:lnTo>
                        <a:pt x="1074" y="435"/>
                      </a:lnTo>
                      <a:lnTo>
                        <a:pt x="1085" y="446"/>
                      </a:lnTo>
                      <a:lnTo>
                        <a:pt x="1079" y="436"/>
                      </a:lnTo>
                      <a:lnTo>
                        <a:pt x="1072" y="426"/>
                      </a:lnTo>
                      <a:lnTo>
                        <a:pt x="1064" y="416"/>
                      </a:lnTo>
                      <a:lnTo>
                        <a:pt x="1055" y="404"/>
                      </a:lnTo>
                      <a:lnTo>
                        <a:pt x="1047" y="393"/>
                      </a:lnTo>
                      <a:lnTo>
                        <a:pt x="1035" y="380"/>
                      </a:lnTo>
                      <a:lnTo>
                        <a:pt x="1025" y="367"/>
                      </a:lnTo>
                      <a:lnTo>
                        <a:pt x="1014" y="354"/>
                      </a:lnTo>
                      <a:lnTo>
                        <a:pt x="1004" y="344"/>
                      </a:lnTo>
                      <a:lnTo>
                        <a:pt x="993" y="333"/>
                      </a:lnTo>
                      <a:lnTo>
                        <a:pt x="983" y="326"/>
                      </a:lnTo>
                      <a:lnTo>
                        <a:pt x="973" y="318"/>
                      </a:lnTo>
                      <a:lnTo>
                        <a:pt x="964" y="315"/>
                      </a:lnTo>
                      <a:lnTo>
                        <a:pt x="967" y="315"/>
                      </a:lnTo>
                      <a:lnTo>
                        <a:pt x="973" y="318"/>
                      </a:lnTo>
                      <a:lnTo>
                        <a:pt x="984" y="323"/>
                      </a:lnTo>
                      <a:lnTo>
                        <a:pt x="1000" y="330"/>
                      </a:lnTo>
                      <a:lnTo>
                        <a:pt x="1015" y="338"/>
                      </a:lnTo>
                      <a:lnTo>
                        <a:pt x="1035" y="349"/>
                      </a:lnTo>
                      <a:lnTo>
                        <a:pt x="1057" y="360"/>
                      </a:lnTo>
                      <a:lnTo>
                        <a:pt x="1082" y="372"/>
                      </a:lnTo>
                      <a:lnTo>
                        <a:pt x="1104" y="384"/>
                      </a:lnTo>
                      <a:lnTo>
                        <a:pt x="1127" y="398"/>
                      </a:lnTo>
                      <a:lnTo>
                        <a:pt x="1148" y="411"/>
                      </a:lnTo>
                      <a:lnTo>
                        <a:pt x="1170" y="425"/>
                      </a:lnTo>
                      <a:lnTo>
                        <a:pt x="1188" y="438"/>
                      </a:lnTo>
                      <a:lnTo>
                        <a:pt x="1205" y="452"/>
                      </a:lnTo>
                      <a:lnTo>
                        <a:pt x="1219" y="463"/>
                      </a:lnTo>
                      <a:lnTo>
                        <a:pt x="1230" y="475"/>
                      </a:lnTo>
                      <a:lnTo>
                        <a:pt x="1141" y="350"/>
                      </a:lnTo>
                      <a:lnTo>
                        <a:pt x="1371" y="496"/>
                      </a:lnTo>
                      <a:lnTo>
                        <a:pt x="1370" y="494"/>
                      </a:lnTo>
                      <a:lnTo>
                        <a:pt x="1368" y="489"/>
                      </a:lnTo>
                      <a:lnTo>
                        <a:pt x="1365" y="483"/>
                      </a:lnTo>
                      <a:lnTo>
                        <a:pt x="1360" y="475"/>
                      </a:lnTo>
                      <a:lnTo>
                        <a:pt x="1355" y="464"/>
                      </a:lnTo>
                      <a:lnTo>
                        <a:pt x="1348" y="453"/>
                      </a:lnTo>
                      <a:lnTo>
                        <a:pt x="1340" y="441"/>
                      </a:lnTo>
                      <a:lnTo>
                        <a:pt x="1333" y="428"/>
                      </a:lnTo>
                      <a:lnTo>
                        <a:pt x="1324" y="414"/>
                      </a:lnTo>
                      <a:lnTo>
                        <a:pt x="1315" y="402"/>
                      </a:lnTo>
                      <a:lnTo>
                        <a:pt x="1306" y="389"/>
                      </a:lnTo>
                      <a:lnTo>
                        <a:pt x="1298" y="378"/>
                      </a:lnTo>
                      <a:lnTo>
                        <a:pt x="1287" y="367"/>
                      </a:lnTo>
                      <a:lnTo>
                        <a:pt x="1278" y="358"/>
                      </a:lnTo>
                      <a:lnTo>
                        <a:pt x="1270" y="350"/>
                      </a:lnTo>
                      <a:lnTo>
                        <a:pt x="1262" y="347"/>
                      </a:lnTo>
                      <a:lnTo>
                        <a:pt x="1263" y="347"/>
                      </a:lnTo>
                      <a:lnTo>
                        <a:pt x="1268" y="350"/>
                      </a:lnTo>
                      <a:lnTo>
                        <a:pt x="1277" y="352"/>
                      </a:lnTo>
                      <a:lnTo>
                        <a:pt x="1289" y="359"/>
                      </a:lnTo>
                      <a:lnTo>
                        <a:pt x="1303" y="364"/>
                      </a:lnTo>
                      <a:lnTo>
                        <a:pt x="1319" y="372"/>
                      </a:lnTo>
                      <a:lnTo>
                        <a:pt x="1336" y="381"/>
                      </a:lnTo>
                      <a:lnTo>
                        <a:pt x="1355" y="391"/>
                      </a:lnTo>
                      <a:lnTo>
                        <a:pt x="1372" y="400"/>
                      </a:lnTo>
                      <a:lnTo>
                        <a:pt x="1390" y="412"/>
                      </a:lnTo>
                      <a:lnTo>
                        <a:pt x="1409" y="424"/>
                      </a:lnTo>
                      <a:lnTo>
                        <a:pt x="1427" y="436"/>
                      </a:lnTo>
                      <a:lnTo>
                        <a:pt x="1442" y="448"/>
                      </a:lnTo>
                      <a:lnTo>
                        <a:pt x="1456" y="462"/>
                      </a:lnTo>
                      <a:lnTo>
                        <a:pt x="1469" y="474"/>
                      </a:lnTo>
                      <a:lnTo>
                        <a:pt x="1477" y="488"/>
                      </a:lnTo>
                      <a:lnTo>
                        <a:pt x="1475" y="483"/>
                      </a:lnTo>
                      <a:lnTo>
                        <a:pt x="1473" y="469"/>
                      </a:lnTo>
                      <a:lnTo>
                        <a:pt x="1471" y="449"/>
                      </a:lnTo>
                      <a:lnTo>
                        <a:pt x="1470" y="424"/>
                      </a:lnTo>
                      <a:lnTo>
                        <a:pt x="1469" y="393"/>
                      </a:lnTo>
                      <a:lnTo>
                        <a:pt x="1470" y="358"/>
                      </a:lnTo>
                      <a:lnTo>
                        <a:pt x="1476" y="319"/>
                      </a:lnTo>
                      <a:lnTo>
                        <a:pt x="1486" y="280"/>
                      </a:lnTo>
                      <a:lnTo>
                        <a:pt x="1501" y="237"/>
                      </a:lnTo>
                      <a:lnTo>
                        <a:pt x="1522" y="196"/>
                      </a:lnTo>
                      <a:lnTo>
                        <a:pt x="1549" y="154"/>
                      </a:lnTo>
                      <a:lnTo>
                        <a:pt x="1586" y="117"/>
                      </a:lnTo>
                      <a:lnTo>
                        <a:pt x="1630" y="80"/>
                      </a:lnTo>
                      <a:lnTo>
                        <a:pt x="1685" y="47"/>
                      </a:lnTo>
                      <a:lnTo>
                        <a:pt x="1750" y="21"/>
                      </a:lnTo>
                      <a:lnTo>
                        <a:pt x="1829" y="0"/>
                      </a:lnTo>
                      <a:lnTo>
                        <a:pt x="1831" y="17"/>
                      </a:lnTo>
                      <a:lnTo>
                        <a:pt x="1828" y="17"/>
                      </a:lnTo>
                      <a:lnTo>
                        <a:pt x="1819" y="19"/>
                      </a:lnTo>
                      <a:lnTo>
                        <a:pt x="1806" y="22"/>
                      </a:lnTo>
                      <a:lnTo>
                        <a:pt x="1790" y="27"/>
                      </a:lnTo>
                      <a:lnTo>
                        <a:pt x="1769" y="33"/>
                      </a:lnTo>
                      <a:lnTo>
                        <a:pt x="1747" y="42"/>
                      </a:lnTo>
                      <a:lnTo>
                        <a:pt x="1722" y="51"/>
                      </a:lnTo>
                      <a:lnTo>
                        <a:pt x="1697" y="66"/>
                      </a:lnTo>
                      <a:lnTo>
                        <a:pt x="1670" y="80"/>
                      </a:lnTo>
                      <a:lnTo>
                        <a:pt x="1643" y="98"/>
                      </a:lnTo>
                      <a:lnTo>
                        <a:pt x="1618" y="118"/>
                      </a:lnTo>
                      <a:lnTo>
                        <a:pt x="1593" y="142"/>
                      </a:lnTo>
                      <a:lnTo>
                        <a:pt x="1570" y="169"/>
                      </a:lnTo>
                      <a:lnTo>
                        <a:pt x="1550" y="199"/>
                      </a:lnTo>
                      <a:lnTo>
                        <a:pt x="1534" y="232"/>
                      </a:lnTo>
                      <a:lnTo>
                        <a:pt x="1523" y="269"/>
                      </a:lnTo>
                      <a:lnTo>
                        <a:pt x="1581" y="594"/>
                      </a:lnTo>
                      <a:lnTo>
                        <a:pt x="1581" y="595"/>
                      </a:lnTo>
                      <a:lnTo>
                        <a:pt x="1584" y="600"/>
                      </a:lnTo>
                      <a:lnTo>
                        <a:pt x="1588" y="604"/>
                      </a:lnTo>
                      <a:lnTo>
                        <a:pt x="1596" y="614"/>
                      </a:lnTo>
                      <a:lnTo>
                        <a:pt x="1603" y="623"/>
                      </a:lnTo>
                      <a:lnTo>
                        <a:pt x="1613" y="634"/>
                      </a:lnTo>
                      <a:lnTo>
                        <a:pt x="1626" y="646"/>
                      </a:lnTo>
                      <a:lnTo>
                        <a:pt x="1641" y="660"/>
                      </a:lnTo>
                      <a:lnTo>
                        <a:pt x="1655" y="672"/>
                      </a:lnTo>
                      <a:lnTo>
                        <a:pt x="1674" y="684"/>
                      </a:lnTo>
                      <a:lnTo>
                        <a:pt x="1694" y="695"/>
                      </a:lnTo>
                      <a:lnTo>
                        <a:pt x="1716" y="707"/>
                      </a:lnTo>
                      <a:lnTo>
                        <a:pt x="1739" y="716"/>
                      </a:lnTo>
                      <a:lnTo>
                        <a:pt x="1766" y="725"/>
                      </a:lnTo>
                      <a:lnTo>
                        <a:pt x="1792" y="731"/>
                      </a:lnTo>
                      <a:lnTo>
                        <a:pt x="1823" y="736"/>
                      </a:lnTo>
                      <a:lnTo>
                        <a:pt x="2022" y="709"/>
                      </a:lnTo>
                      <a:lnTo>
                        <a:pt x="2022" y="708"/>
                      </a:lnTo>
                      <a:lnTo>
                        <a:pt x="2026" y="708"/>
                      </a:lnTo>
                      <a:lnTo>
                        <a:pt x="2029" y="706"/>
                      </a:lnTo>
                      <a:lnTo>
                        <a:pt x="2035" y="705"/>
                      </a:lnTo>
                      <a:lnTo>
                        <a:pt x="2040" y="702"/>
                      </a:lnTo>
                      <a:lnTo>
                        <a:pt x="2048" y="698"/>
                      </a:lnTo>
                      <a:lnTo>
                        <a:pt x="2054" y="696"/>
                      </a:lnTo>
                      <a:lnTo>
                        <a:pt x="2064" y="694"/>
                      </a:lnTo>
                      <a:lnTo>
                        <a:pt x="2072" y="688"/>
                      </a:lnTo>
                      <a:lnTo>
                        <a:pt x="2080" y="685"/>
                      </a:lnTo>
                      <a:lnTo>
                        <a:pt x="2088" y="681"/>
                      </a:lnTo>
                      <a:lnTo>
                        <a:pt x="2096" y="676"/>
                      </a:lnTo>
                      <a:lnTo>
                        <a:pt x="2102" y="672"/>
                      </a:lnTo>
                      <a:lnTo>
                        <a:pt x="2110" y="667"/>
                      </a:lnTo>
                      <a:lnTo>
                        <a:pt x="2114" y="662"/>
                      </a:lnTo>
                      <a:lnTo>
                        <a:pt x="2120" y="658"/>
                      </a:lnTo>
                      <a:lnTo>
                        <a:pt x="2252" y="534"/>
                      </a:lnTo>
                      <a:lnTo>
                        <a:pt x="2252" y="532"/>
                      </a:lnTo>
                      <a:lnTo>
                        <a:pt x="2256" y="530"/>
                      </a:lnTo>
                      <a:lnTo>
                        <a:pt x="2258" y="526"/>
                      </a:lnTo>
                      <a:lnTo>
                        <a:pt x="2265" y="521"/>
                      </a:lnTo>
                      <a:lnTo>
                        <a:pt x="2270" y="514"/>
                      </a:lnTo>
                      <a:lnTo>
                        <a:pt x="2278" y="506"/>
                      </a:lnTo>
                      <a:lnTo>
                        <a:pt x="2283" y="496"/>
                      </a:lnTo>
                      <a:lnTo>
                        <a:pt x="2292" y="486"/>
                      </a:lnTo>
                      <a:lnTo>
                        <a:pt x="2298" y="473"/>
                      </a:lnTo>
                      <a:lnTo>
                        <a:pt x="2304" y="457"/>
                      </a:lnTo>
                      <a:lnTo>
                        <a:pt x="2310" y="442"/>
                      </a:lnTo>
                      <a:lnTo>
                        <a:pt x="2315" y="424"/>
                      </a:lnTo>
                      <a:lnTo>
                        <a:pt x="2316" y="404"/>
                      </a:lnTo>
                      <a:lnTo>
                        <a:pt x="2319" y="383"/>
                      </a:lnTo>
                      <a:lnTo>
                        <a:pt x="2319" y="361"/>
                      </a:lnTo>
                      <a:lnTo>
                        <a:pt x="2316" y="338"/>
                      </a:lnTo>
                      <a:lnTo>
                        <a:pt x="2342" y="368"/>
                      </a:lnTo>
                      <a:lnTo>
                        <a:pt x="2342" y="369"/>
                      </a:lnTo>
                      <a:lnTo>
                        <a:pt x="2342" y="372"/>
                      </a:lnTo>
                      <a:lnTo>
                        <a:pt x="2342" y="379"/>
                      </a:lnTo>
                      <a:lnTo>
                        <a:pt x="2342" y="389"/>
                      </a:lnTo>
                      <a:lnTo>
                        <a:pt x="2341" y="400"/>
                      </a:lnTo>
                      <a:lnTo>
                        <a:pt x="2341" y="412"/>
                      </a:lnTo>
                      <a:lnTo>
                        <a:pt x="2339" y="425"/>
                      </a:lnTo>
                      <a:lnTo>
                        <a:pt x="2339" y="441"/>
                      </a:lnTo>
                      <a:lnTo>
                        <a:pt x="2334" y="454"/>
                      </a:lnTo>
                      <a:lnTo>
                        <a:pt x="2331" y="468"/>
                      </a:lnTo>
                      <a:lnTo>
                        <a:pt x="2326" y="483"/>
                      </a:lnTo>
                      <a:lnTo>
                        <a:pt x="2321" y="497"/>
                      </a:lnTo>
                      <a:lnTo>
                        <a:pt x="2314" y="509"/>
                      </a:lnTo>
                      <a:lnTo>
                        <a:pt x="2305" y="521"/>
                      </a:lnTo>
                      <a:lnTo>
                        <a:pt x="2295" y="530"/>
                      </a:lnTo>
                      <a:lnTo>
                        <a:pt x="2286" y="539"/>
                      </a:lnTo>
                      <a:lnTo>
                        <a:pt x="2137" y="663"/>
                      </a:lnTo>
                      <a:lnTo>
                        <a:pt x="2136" y="664"/>
                      </a:lnTo>
                      <a:lnTo>
                        <a:pt x="2134" y="669"/>
                      </a:lnTo>
                      <a:lnTo>
                        <a:pt x="2130" y="676"/>
                      </a:lnTo>
                      <a:lnTo>
                        <a:pt x="2122" y="685"/>
                      </a:lnTo>
                      <a:lnTo>
                        <a:pt x="2116" y="689"/>
                      </a:lnTo>
                      <a:lnTo>
                        <a:pt x="2110" y="694"/>
                      </a:lnTo>
                      <a:lnTo>
                        <a:pt x="2103" y="697"/>
                      </a:lnTo>
                      <a:lnTo>
                        <a:pt x="2095" y="703"/>
                      </a:lnTo>
                      <a:lnTo>
                        <a:pt x="2085" y="707"/>
                      </a:lnTo>
                      <a:lnTo>
                        <a:pt x="2074" y="710"/>
                      </a:lnTo>
                      <a:lnTo>
                        <a:pt x="2061" y="714"/>
                      </a:lnTo>
                      <a:lnTo>
                        <a:pt x="2048" y="718"/>
                      </a:lnTo>
                      <a:lnTo>
                        <a:pt x="1944" y="731"/>
                      </a:lnTo>
                      <a:lnTo>
                        <a:pt x="1894" y="754"/>
                      </a:lnTo>
                      <a:lnTo>
                        <a:pt x="1875" y="775"/>
                      </a:lnTo>
                      <a:lnTo>
                        <a:pt x="187" y="302"/>
                      </a:lnTo>
                      <a:lnTo>
                        <a:pt x="185" y="302"/>
                      </a:lnTo>
                      <a:lnTo>
                        <a:pt x="180" y="300"/>
                      </a:lnTo>
                      <a:lnTo>
                        <a:pt x="172" y="297"/>
                      </a:lnTo>
                      <a:lnTo>
                        <a:pt x="163" y="292"/>
                      </a:lnTo>
                      <a:lnTo>
                        <a:pt x="151" y="287"/>
                      </a:lnTo>
                      <a:lnTo>
                        <a:pt x="138" y="280"/>
                      </a:lnTo>
                      <a:lnTo>
                        <a:pt x="123" y="274"/>
                      </a:lnTo>
                      <a:lnTo>
                        <a:pt x="110" y="266"/>
                      </a:lnTo>
                      <a:lnTo>
                        <a:pt x="93" y="256"/>
                      </a:lnTo>
                      <a:lnTo>
                        <a:pt x="78" y="245"/>
                      </a:lnTo>
                      <a:lnTo>
                        <a:pt x="63" y="232"/>
                      </a:lnTo>
                      <a:lnTo>
                        <a:pt x="50" y="220"/>
                      </a:lnTo>
                      <a:lnTo>
                        <a:pt x="36" y="203"/>
                      </a:lnTo>
                      <a:lnTo>
                        <a:pt x="25" y="187"/>
                      </a:lnTo>
                      <a:lnTo>
                        <a:pt x="15" y="170"/>
                      </a:lnTo>
                      <a:lnTo>
                        <a:pt x="8" y="152"/>
                      </a:lnTo>
                      <a:lnTo>
                        <a:pt x="3" y="133"/>
                      </a:lnTo>
                      <a:lnTo>
                        <a:pt x="0" y="116"/>
                      </a:lnTo>
                      <a:lnTo>
                        <a:pt x="0" y="99"/>
                      </a:lnTo>
                      <a:lnTo>
                        <a:pt x="5" y="85"/>
                      </a:lnTo>
                      <a:lnTo>
                        <a:pt x="9" y="70"/>
                      </a:lnTo>
                      <a:lnTo>
                        <a:pt x="16" y="58"/>
                      </a:lnTo>
                      <a:lnTo>
                        <a:pt x="23" y="46"/>
                      </a:lnTo>
                      <a:lnTo>
                        <a:pt x="31" y="36"/>
                      </a:lnTo>
                      <a:lnTo>
                        <a:pt x="40" y="26"/>
                      </a:lnTo>
                      <a:lnTo>
                        <a:pt x="48" y="19"/>
                      </a:lnTo>
                      <a:lnTo>
                        <a:pt x="56" y="13"/>
                      </a:lnTo>
                      <a:lnTo>
                        <a:pt x="65" y="8"/>
                      </a:lnTo>
                      <a:lnTo>
                        <a:pt x="69" y="3"/>
                      </a:lnTo>
                      <a:lnTo>
                        <a:pt x="76" y="2"/>
                      </a:lnTo>
                      <a:lnTo>
                        <a:pt x="78" y="0"/>
                      </a:lnTo>
                      <a:lnTo>
                        <a:pt x="80" y="0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5c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 flipH="1">
                  <a:off x="1553760" y="5666760"/>
                  <a:ext cx="97560" cy="43920"/>
                </a:xfrm>
                <a:custGeom>
                  <a:avLst/>
                  <a:gdLst/>
                  <a:ahLst/>
                  <a:rect l="l" t="t" r="r" b="b"/>
                  <a:pathLst>
                    <a:path w="150" h="77">
                      <a:moveTo>
                        <a:pt x="0" y="16"/>
                      </a:moveTo>
                      <a:lnTo>
                        <a:pt x="3" y="16"/>
                      </a:lnTo>
                      <a:lnTo>
                        <a:pt x="8" y="16"/>
                      </a:lnTo>
                      <a:lnTo>
                        <a:pt x="15" y="16"/>
                      </a:lnTo>
                      <a:lnTo>
                        <a:pt x="23" y="16"/>
                      </a:lnTo>
                      <a:lnTo>
                        <a:pt x="33" y="17"/>
                      </a:lnTo>
                      <a:lnTo>
                        <a:pt x="42" y="19"/>
                      </a:lnTo>
                      <a:lnTo>
                        <a:pt x="54" y="22"/>
                      </a:lnTo>
                      <a:lnTo>
                        <a:pt x="65" y="23"/>
                      </a:lnTo>
                      <a:lnTo>
                        <a:pt x="76" y="27"/>
                      </a:lnTo>
                      <a:lnTo>
                        <a:pt x="87" y="33"/>
                      </a:lnTo>
                      <a:lnTo>
                        <a:pt x="99" y="38"/>
                      </a:lnTo>
                      <a:lnTo>
                        <a:pt x="109" y="45"/>
                      </a:lnTo>
                      <a:lnTo>
                        <a:pt x="119" y="55"/>
                      </a:lnTo>
                      <a:lnTo>
                        <a:pt x="128" y="64"/>
                      </a:lnTo>
                      <a:lnTo>
                        <a:pt x="137" y="77"/>
                      </a:lnTo>
                      <a:lnTo>
                        <a:pt x="150" y="57"/>
                      </a:lnTo>
                      <a:lnTo>
                        <a:pt x="148" y="53"/>
                      </a:lnTo>
                      <a:lnTo>
                        <a:pt x="140" y="45"/>
                      </a:lnTo>
                      <a:lnTo>
                        <a:pt x="134" y="40"/>
                      </a:lnTo>
                      <a:lnTo>
                        <a:pt x="128" y="34"/>
                      </a:lnTo>
                      <a:lnTo>
                        <a:pt x="121" y="30"/>
                      </a:lnTo>
                      <a:lnTo>
                        <a:pt x="113" y="24"/>
                      </a:lnTo>
                      <a:lnTo>
                        <a:pt x="102" y="19"/>
                      </a:lnTo>
                      <a:lnTo>
                        <a:pt x="91" y="13"/>
                      </a:lnTo>
                      <a:lnTo>
                        <a:pt x="79" y="9"/>
                      </a:lnTo>
                      <a:lnTo>
                        <a:pt x="66" y="4"/>
                      </a:lnTo>
                      <a:lnTo>
                        <a:pt x="50" y="1"/>
                      </a:lnTo>
                      <a:lnTo>
                        <a:pt x="35" y="0"/>
                      </a:lnTo>
                      <a:lnTo>
                        <a:pt x="18" y="0"/>
                      </a:lnTo>
                      <a:lnTo>
                        <a:pt x="1" y="2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4d36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 flipH="1">
                  <a:off x="2261520" y="5619600"/>
                  <a:ext cx="682560" cy="160200"/>
                </a:xfrm>
                <a:custGeom>
                  <a:avLst/>
                  <a:gdLst/>
                  <a:ahLst/>
                  <a:rect l="l" t="t" r="r" b="b"/>
                  <a:pathLst>
                    <a:path w="1050" h="283">
                      <a:moveTo>
                        <a:pt x="0" y="283"/>
                      </a:moveTo>
                      <a:lnTo>
                        <a:pt x="0" y="281"/>
                      </a:lnTo>
                      <a:lnTo>
                        <a:pt x="4" y="277"/>
                      </a:lnTo>
                      <a:lnTo>
                        <a:pt x="10" y="271"/>
                      </a:lnTo>
                      <a:lnTo>
                        <a:pt x="16" y="264"/>
                      </a:lnTo>
                      <a:lnTo>
                        <a:pt x="24" y="254"/>
                      </a:lnTo>
                      <a:lnTo>
                        <a:pt x="34" y="244"/>
                      </a:lnTo>
                      <a:lnTo>
                        <a:pt x="45" y="233"/>
                      </a:lnTo>
                      <a:lnTo>
                        <a:pt x="56" y="223"/>
                      </a:lnTo>
                      <a:lnTo>
                        <a:pt x="68" y="211"/>
                      </a:lnTo>
                      <a:lnTo>
                        <a:pt x="82" y="201"/>
                      </a:lnTo>
                      <a:lnTo>
                        <a:pt x="95" y="190"/>
                      </a:lnTo>
                      <a:lnTo>
                        <a:pt x="109" y="182"/>
                      </a:lnTo>
                      <a:lnTo>
                        <a:pt x="121" y="173"/>
                      </a:lnTo>
                      <a:lnTo>
                        <a:pt x="135" y="168"/>
                      </a:lnTo>
                      <a:lnTo>
                        <a:pt x="147" y="164"/>
                      </a:lnTo>
                      <a:lnTo>
                        <a:pt x="159" y="163"/>
                      </a:lnTo>
                      <a:lnTo>
                        <a:pt x="103" y="226"/>
                      </a:lnTo>
                      <a:lnTo>
                        <a:pt x="351" y="115"/>
                      </a:lnTo>
                      <a:lnTo>
                        <a:pt x="294" y="171"/>
                      </a:lnTo>
                      <a:lnTo>
                        <a:pt x="506" y="98"/>
                      </a:lnTo>
                      <a:lnTo>
                        <a:pt x="437" y="158"/>
                      </a:lnTo>
                      <a:lnTo>
                        <a:pt x="647" y="63"/>
                      </a:lnTo>
                      <a:lnTo>
                        <a:pt x="586" y="131"/>
                      </a:lnTo>
                      <a:lnTo>
                        <a:pt x="801" y="33"/>
                      </a:lnTo>
                      <a:lnTo>
                        <a:pt x="742" y="103"/>
                      </a:lnTo>
                      <a:lnTo>
                        <a:pt x="945" y="16"/>
                      </a:lnTo>
                      <a:lnTo>
                        <a:pt x="898" y="84"/>
                      </a:lnTo>
                      <a:lnTo>
                        <a:pt x="1050" y="0"/>
                      </a:lnTo>
                      <a:lnTo>
                        <a:pt x="1031" y="56"/>
                      </a:lnTo>
                      <a:lnTo>
                        <a:pt x="0" y="283"/>
                      </a:lnTo>
                      <a:lnTo>
                        <a:pt x="0" y="283"/>
                      </a:lnTo>
                      <a:close/>
                    </a:path>
                  </a:pathLst>
                </a:custGeom>
                <a:solidFill>
                  <a:srgbClr val="5c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 flipH="1">
                  <a:off x="1889640" y="5135400"/>
                  <a:ext cx="1223640" cy="680400"/>
                </a:xfrm>
                <a:custGeom>
                  <a:avLst/>
                  <a:gdLst/>
                  <a:ahLst/>
                  <a:rect l="l" t="t" r="r" b="b"/>
                  <a:pathLst>
                    <a:path w="1883" h="1207">
                      <a:moveTo>
                        <a:pt x="156" y="0"/>
                      </a:moveTo>
                      <a:lnTo>
                        <a:pt x="122" y="41"/>
                      </a:lnTo>
                      <a:lnTo>
                        <a:pt x="659" y="55"/>
                      </a:lnTo>
                      <a:lnTo>
                        <a:pt x="663" y="55"/>
                      </a:lnTo>
                      <a:lnTo>
                        <a:pt x="669" y="55"/>
                      </a:lnTo>
                      <a:lnTo>
                        <a:pt x="677" y="57"/>
                      </a:lnTo>
                      <a:lnTo>
                        <a:pt x="684" y="58"/>
                      </a:lnTo>
                      <a:lnTo>
                        <a:pt x="694" y="62"/>
                      </a:lnTo>
                      <a:lnTo>
                        <a:pt x="705" y="63"/>
                      </a:lnTo>
                      <a:lnTo>
                        <a:pt x="716" y="68"/>
                      </a:lnTo>
                      <a:lnTo>
                        <a:pt x="726" y="72"/>
                      </a:lnTo>
                      <a:lnTo>
                        <a:pt x="736" y="77"/>
                      </a:lnTo>
                      <a:lnTo>
                        <a:pt x="744" y="84"/>
                      </a:lnTo>
                      <a:lnTo>
                        <a:pt x="753" y="91"/>
                      </a:lnTo>
                      <a:lnTo>
                        <a:pt x="760" y="98"/>
                      </a:lnTo>
                      <a:lnTo>
                        <a:pt x="764" y="108"/>
                      </a:lnTo>
                      <a:lnTo>
                        <a:pt x="767" y="119"/>
                      </a:lnTo>
                      <a:lnTo>
                        <a:pt x="768" y="131"/>
                      </a:lnTo>
                      <a:lnTo>
                        <a:pt x="764" y="142"/>
                      </a:lnTo>
                      <a:lnTo>
                        <a:pt x="758" y="153"/>
                      </a:lnTo>
                      <a:lnTo>
                        <a:pt x="748" y="164"/>
                      </a:lnTo>
                      <a:lnTo>
                        <a:pt x="737" y="175"/>
                      </a:lnTo>
                      <a:lnTo>
                        <a:pt x="722" y="184"/>
                      </a:lnTo>
                      <a:lnTo>
                        <a:pt x="706" y="194"/>
                      </a:lnTo>
                      <a:lnTo>
                        <a:pt x="691" y="202"/>
                      </a:lnTo>
                      <a:lnTo>
                        <a:pt x="674" y="211"/>
                      </a:lnTo>
                      <a:lnTo>
                        <a:pt x="657" y="216"/>
                      </a:lnTo>
                      <a:lnTo>
                        <a:pt x="640" y="223"/>
                      </a:lnTo>
                      <a:lnTo>
                        <a:pt x="626" y="227"/>
                      </a:lnTo>
                      <a:lnTo>
                        <a:pt x="613" y="233"/>
                      </a:lnTo>
                      <a:lnTo>
                        <a:pt x="600" y="235"/>
                      </a:lnTo>
                      <a:lnTo>
                        <a:pt x="592" y="238"/>
                      </a:lnTo>
                      <a:lnTo>
                        <a:pt x="586" y="241"/>
                      </a:lnTo>
                      <a:lnTo>
                        <a:pt x="585" y="242"/>
                      </a:lnTo>
                      <a:lnTo>
                        <a:pt x="191" y="321"/>
                      </a:lnTo>
                      <a:lnTo>
                        <a:pt x="189" y="321"/>
                      </a:lnTo>
                      <a:lnTo>
                        <a:pt x="182" y="324"/>
                      </a:lnTo>
                      <a:lnTo>
                        <a:pt x="173" y="327"/>
                      </a:lnTo>
                      <a:lnTo>
                        <a:pt x="160" y="331"/>
                      </a:lnTo>
                      <a:lnTo>
                        <a:pt x="145" y="337"/>
                      </a:lnTo>
                      <a:lnTo>
                        <a:pt x="128" y="345"/>
                      </a:lnTo>
                      <a:lnTo>
                        <a:pt x="111" y="353"/>
                      </a:lnTo>
                      <a:lnTo>
                        <a:pt x="93" y="367"/>
                      </a:lnTo>
                      <a:lnTo>
                        <a:pt x="75" y="379"/>
                      </a:lnTo>
                      <a:lnTo>
                        <a:pt x="56" y="394"/>
                      </a:lnTo>
                      <a:lnTo>
                        <a:pt x="41" y="411"/>
                      </a:lnTo>
                      <a:lnTo>
                        <a:pt x="27" y="432"/>
                      </a:lnTo>
                      <a:lnTo>
                        <a:pt x="14" y="453"/>
                      </a:lnTo>
                      <a:lnTo>
                        <a:pt x="6" y="477"/>
                      </a:lnTo>
                      <a:lnTo>
                        <a:pt x="0" y="503"/>
                      </a:lnTo>
                      <a:lnTo>
                        <a:pt x="0" y="534"/>
                      </a:lnTo>
                      <a:lnTo>
                        <a:pt x="6" y="560"/>
                      </a:lnTo>
                      <a:lnTo>
                        <a:pt x="20" y="586"/>
                      </a:lnTo>
                      <a:lnTo>
                        <a:pt x="42" y="606"/>
                      </a:lnTo>
                      <a:lnTo>
                        <a:pt x="70" y="624"/>
                      </a:lnTo>
                      <a:lnTo>
                        <a:pt x="102" y="640"/>
                      </a:lnTo>
                      <a:lnTo>
                        <a:pt x="138" y="652"/>
                      </a:lnTo>
                      <a:lnTo>
                        <a:pt x="177" y="661"/>
                      </a:lnTo>
                      <a:lnTo>
                        <a:pt x="217" y="670"/>
                      </a:lnTo>
                      <a:lnTo>
                        <a:pt x="255" y="675"/>
                      </a:lnTo>
                      <a:lnTo>
                        <a:pt x="294" y="679"/>
                      </a:lnTo>
                      <a:lnTo>
                        <a:pt x="330" y="681"/>
                      </a:lnTo>
                      <a:lnTo>
                        <a:pt x="363" y="683"/>
                      </a:lnTo>
                      <a:lnTo>
                        <a:pt x="389" y="683"/>
                      </a:lnTo>
                      <a:lnTo>
                        <a:pt x="410" y="684"/>
                      </a:lnTo>
                      <a:lnTo>
                        <a:pt x="425" y="684"/>
                      </a:lnTo>
                      <a:lnTo>
                        <a:pt x="430" y="685"/>
                      </a:lnTo>
                      <a:lnTo>
                        <a:pt x="930" y="736"/>
                      </a:lnTo>
                      <a:lnTo>
                        <a:pt x="932" y="736"/>
                      </a:lnTo>
                      <a:lnTo>
                        <a:pt x="938" y="737"/>
                      </a:lnTo>
                      <a:lnTo>
                        <a:pt x="946" y="739"/>
                      </a:lnTo>
                      <a:lnTo>
                        <a:pt x="960" y="744"/>
                      </a:lnTo>
                      <a:lnTo>
                        <a:pt x="974" y="746"/>
                      </a:lnTo>
                      <a:lnTo>
                        <a:pt x="989" y="751"/>
                      </a:lnTo>
                      <a:lnTo>
                        <a:pt x="1005" y="756"/>
                      </a:lnTo>
                      <a:lnTo>
                        <a:pt x="1023" y="764"/>
                      </a:lnTo>
                      <a:lnTo>
                        <a:pt x="1037" y="769"/>
                      </a:lnTo>
                      <a:lnTo>
                        <a:pt x="1050" y="776"/>
                      </a:lnTo>
                      <a:lnTo>
                        <a:pt x="1061" y="782"/>
                      </a:lnTo>
                      <a:lnTo>
                        <a:pt x="1070" y="791"/>
                      </a:lnTo>
                      <a:lnTo>
                        <a:pt x="1072" y="799"/>
                      </a:lnTo>
                      <a:lnTo>
                        <a:pt x="1072" y="807"/>
                      </a:lnTo>
                      <a:lnTo>
                        <a:pt x="1067" y="816"/>
                      </a:lnTo>
                      <a:lnTo>
                        <a:pt x="1057" y="826"/>
                      </a:lnTo>
                      <a:lnTo>
                        <a:pt x="1037" y="833"/>
                      </a:lnTo>
                      <a:lnTo>
                        <a:pt x="1013" y="841"/>
                      </a:lnTo>
                      <a:lnTo>
                        <a:pt x="982" y="850"/>
                      </a:lnTo>
                      <a:lnTo>
                        <a:pt x="947" y="860"/>
                      </a:lnTo>
                      <a:lnTo>
                        <a:pt x="910" y="868"/>
                      </a:lnTo>
                      <a:lnTo>
                        <a:pt x="869" y="875"/>
                      </a:lnTo>
                      <a:lnTo>
                        <a:pt x="828" y="884"/>
                      </a:lnTo>
                      <a:lnTo>
                        <a:pt x="786" y="892"/>
                      </a:lnTo>
                      <a:lnTo>
                        <a:pt x="745" y="897"/>
                      </a:lnTo>
                      <a:lnTo>
                        <a:pt x="706" y="904"/>
                      </a:lnTo>
                      <a:lnTo>
                        <a:pt x="670" y="908"/>
                      </a:lnTo>
                      <a:lnTo>
                        <a:pt x="640" y="915"/>
                      </a:lnTo>
                      <a:lnTo>
                        <a:pt x="614" y="918"/>
                      </a:lnTo>
                      <a:lnTo>
                        <a:pt x="593" y="922"/>
                      </a:lnTo>
                      <a:lnTo>
                        <a:pt x="580" y="924"/>
                      </a:lnTo>
                      <a:lnTo>
                        <a:pt x="577" y="925"/>
                      </a:lnTo>
                      <a:lnTo>
                        <a:pt x="572" y="925"/>
                      </a:lnTo>
                      <a:lnTo>
                        <a:pt x="562" y="927"/>
                      </a:lnTo>
                      <a:lnTo>
                        <a:pt x="545" y="929"/>
                      </a:lnTo>
                      <a:lnTo>
                        <a:pt x="523" y="934"/>
                      </a:lnTo>
                      <a:lnTo>
                        <a:pt x="498" y="937"/>
                      </a:lnTo>
                      <a:lnTo>
                        <a:pt x="468" y="943"/>
                      </a:lnTo>
                      <a:lnTo>
                        <a:pt x="437" y="949"/>
                      </a:lnTo>
                      <a:lnTo>
                        <a:pt x="405" y="955"/>
                      </a:lnTo>
                      <a:lnTo>
                        <a:pt x="370" y="960"/>
                      </a:lnTo>
                      <a:lnTo>
                        <a:pt x="338" y="966"/>
                      </a:lnTo>
                      <a:lnTo>
                        <a:pt x="306" y="973"/>
                      </a:lnTo>
                      <a:lnTo>
                        <a:pt x="279" y="978"/>
                      </a:lnTo>
                      <a:lnTo>
                        <a:pt x="251" y="984"/>
                      </a:lnTo>
                      <a:lnTo>
                        <a:pt x="230" y="988"/>
                      </a:lnTo>
                      <a:lnTo>
                        <a:pt x="213" y="992"/>
                      </a:lnTo>
                      <a:lnTo>
                        <a:pt x="203" y="997"/>
                      </a:lnTo>
                      <a:lnTo>
                        <a:pt x="195" y="999"/>
                      </a:lnTo>
                      <a:lnTo>
                        <a:pt x="187" y="1001"/>
                      </a:lnTo>
                      <a:lnTo>
                        <a:pt x="179" y="1006"/>
                      </a:lnTo>
                      <a:lnTo>
                        <a:pt x="170" y="1011"/>
                      </a:lnTo>
                      <a:lnTo>
                        <a:pt x="161" y="1016"/>
                      </a:lnTo>
                      <a:lnTo>
                        <a:pt x="153" y="1022"/>
                      </a:lnTo>
                      <a:lnTo>
                        <a:pt x="144" y="1028"/>
                      </a:lnTo>
                      <a:lnTo>
                        <a:pt x="135" y="1035"/>
                      </a:lnTo>
                      <a:lnTo>
                        <a:pt x="126" y="1041"/>
                      </a:lnTo>
                      <a:lnTo>
                        <a:pt x="117" y="1047"/>
                      </a:lnTo>
                      <a:lnTo>
                        <a:pt x="110" y="1053"/>
                      </a:lnTo>
                      <a:lnTo>
                        <a:pt x="102" y="1060"/>
                      </a:lnTo>
                      <a:lnTo>
                        <a:pt x="94" y="1065"/>
                      </a:lnTo>
                      <a:lnTo>
                        <a:pt x="89" y="1071"/>
                      </a:lnTo>
                      <a:lnTo>
                        <a:pt x="82" y="1078"/>
                      </a:lnTo>
                      <a:lnTo>
                        <a:pt x="77" y="1083"/>
                      </a:lnTo>
                      <a:lnTo>
                        <a:pt x="80" y="1109"/>
                      </a:lnTo>
                      <a:lnTo>
                        <a:pt x="81" y="1104"/>
                      </a:lnTo>
                      <a:lnTo>
                        <a:pt x="89" y="1096"/>
                      </a:lnTo>
                      <a:lnTo>
                        <a:pt x="92" y="1090"/>
                      </a:lnTo>
                      <a:lnTo>
                        <a:pt x="98" y="1083"/>
                      </a:lnTo>
                      <a:lnTo>
                        <a:pt x="105" y="1077"/>
                      </a:lnTo>
                      <a:lnTo>
                        <a:pt x="114" y="1070"/>
                      </a:lnTo>
                      <a:lnTo>
                        <a:pt x="122" y="1060"/>
                      </a:lnTo>
                      <a:lnTo>
                        <a:pt x="133" y="1052"/>
                      </a:lnTo>
                      <a:lnTo>
                        <a:pt x="143" y="1044"/>
                      </a:lnTo>
                      <a:lnTo>
                        <a:pt x="156" y="1037"/>
                      </a:lnTo>
                      <a:lnTo>
                        <a:pt x="168" y="1029"/>
                      </a:lnTo>
                      <a:lnTo>
                        <a:pt x="181" y="1023"/>
                      </a:lnTo>
                      <a:lnTo>
                        <a:pt x="196" y="1016"/>
                      </a:lnTo>
                      <a:lnTo>
                        <a:pt x="212" y="1011"/>
                      </a:lnTo>
                      <a:lnTo>
                        <a:pt x="234" y="1005"/>
                      </a:lnTo>
                      <a:lnTo>
                        <a:pt x="270" y="998"/>
                      </a:lnTo>
                      <a:lnTo>
                        <a:pt x="316" y="988"/>
                      </a:lnTo>
                      <a:lnTo>
                        <a:pt x="373" y="977"/>
                      </a:lnTo>
                      <a:lnTo>
                        <a:pt x="433" y="965"/>
                      </a:lnTo>
                      <a:lnTo>
                        <a:pt x="501" y="954"/>
                      </a:lnTo>
                      <a:lnTo>
                        <a:pt x="572" y="941"/>
                      </a:lnTo>
                      <a:lnTo>
                        <a:pt x="645" y="928"/>
                      </a:lnTo>
                      <a:lnTo>
                        <a:pt x="714" y="915"/>
                      </a:lnTo>
                      <a:lnTo>
                        <a:pt x="783" y="903"/>
                      </a:lnTo>
                      <a:lnTo>
                        <a:pt x="846" y="891"/>
                      </a:lnTo>
                      <a:lnTo>
                        <a:pt x="903" y="882"/>
                      </a:lnTo>
                      <a:lnTo>
                        <a:pt x="952" y="872"/>
                      </a:lnTo>
                      <a:lnTo>
                        <a:pt x="991" y="865"/>
                      </a:lnTo>
                      <a:lnTo>
                        <a:pt x="1016" y="861"/>
                      </a:lnTo>
                      <a:lnTo>
                        <a:pt x="1029" y="859"/>
                      </a:lnTo>
                      <a:lnTo>
                        <a:pt x="1035" y="855"/>
                      </a:lnTo>
                      <a:lnTo>
                        <a:pt x="1041" y="852"/>
                      </a:lnTo>
                      <a:lnTo>
                        <a:pt x="1049" y="848"/>
                      </a:lnTo>
                      <a:lnTo>
                        <a:pt x="1059" y="843"/>
                      </a:lnTo>
                      <a:lnTo>
                        <a:pt x="1067" y="838"/>
                      </a:lnTo>
                      <a:lnTo>
                        <a:pt x="1076" y="831"/>
                      </a:lnTo>
                      <a:lnTo>
                        <a:pt x="1082" y="824"/>
                      </a:lnTo>
                      <a:lnTo>
                        <a:pt x="1088" y="817"/>
                      </a:lnTo>
                      <a:lnTo>
                        <a:pt x="1090" y="808"/>
                      </a:lnTo>
                      <a:lnTo>
                        <a:pt x="1089" y="799"/>
                      </a:lnTo>
                      <a:lnTo>
                        <a:pt x="1085" y="789"/>
                      </a:lnTo>
                      <a:lnTo>
                        <a:pt x="1077" y="780"/>
                      </a:lnTo>
                      <a:lnTo>
                        <a:pt x="1062" y="768"/>
                      </a:lnTo>
                      <a:lnTo>
                        <a:pt x="1045" y="758"/>
                      </a:lnTo>
                      <a:lnTo>
                        <a:pt x="1020" y="747"/>
                      </a:lnTo>
                      <a:lnTo>
                        <a:pt x="991" y="736"/>
                      </a:lnTo>
                      <a:lnTo>
                        <a:pt x="985" y="735"/>
                      </a:lnTo>
                      <a:lnTo>
                        <a:pt x="974" y="734"/>
                      </a:lnTo>
                      <a:lnTo>
                        <a:pt x="955" y="729"/>
                      </a:lnTo>
                      <a:lnTo>
                        <a:pt x="931" y="726"/>
                      </a:lnTo>
                      <a:lnTo>
                        <a:pt x="900" y="721"/>
                      </a:lnTo>
                      <a:lnTo>
                        <a:pt x="865" y="715"/>
                      </a:lnTo>
                      <a:lnTo>
                        <a:pt x="826" y="709"/>
                      </a:lnTo>
                      <a:lnTo>
                        <a:pt x="785" y="704"/>
                      </a:lnTo>
                      <a:lnTo>
                        <a:pt x="740" y="698"/>
                      </a:lnTo>
                      <a:lnTo>
                        <a:pt x="692" y="692"/>
                      </a:lnTo>
                      <a:lnTo>
                        <a:pt x="642" y="686"/>
                      </a:lnTo>
                      <a:lnTo>
                        <a:pt x="594" y="681"/>
                      </a:lnTo>
                      <a:lnTo>
                        <a:pt x="545" y="675"/>
                      </a:lnTo>
                      <a:lnTo>
                        <a:pt x="496" y="673"/>
                      </a:lnTo>
                      <a:lnTo>
                        <a:pt x="449" y="670"/>
                      </a:lnTo>
                      <a:lnTo>
                        <a:pt x="406" y="670"/>
                      </a:lnTo>
                      <a:lnTo>
                        <a:pt x="400" y="669"/>
                      </a:lnTo>
                      <a:lnTo>
                        <a:pt x="389" y="669"/>
                      </a:lnTo>
                      <a:lnTo>
                        <a:pt x="372" y="667"/>
                      </a:lnTo>
                      <a:lnTo>
                        <a:pt x="348" y="666"/>
                      </a:lnTo>
                      <a:lnTo>
                        <a:pt x="320" y="664"/>
                      </a:lnTo>
                      <a:lnTo>
                        <a:pt x="290" y="661"/>
                      </a:lnTo>
                      <a:lnTo>
                        <a:pt x="255" y="656"/>
                      </a:lnTo>
                      <a:lnTo>
                        <a:pt x="222" y="652"/>
                      </a:lnTo>
                      <a:lnTo>
                        <a:pt x="187" y="644"/>
                      </a:lnTo>
                      <a:lnTo>
                        <a:pt x="153" y="635"/>
                      </a:lnTo>
                      <a:lnTo>
                        <a:pt x="121" y="625"/>
                      </a:lnTo>
                      <a:lnTo>
                        <a:pt x="91" y="613"/>
                      </a:lnTo>
                      <a:lnTo>
                        <a:pt x="65" y="598"/>
                      </a:lnTo>
                      <a:lnTo>
                        <a:pt x="44" y="581"/>
                      </a:lnTo>
                      <a:lnTo>
                        <a:pt x="30" y="560"/>
                      </a:lnTo>
                      <a:lnTo>
                        <a:pt x="22" y="539"/>
                      </a:lnTo>
                      <a:lnTo>
                        <a:pt x="20" y="515"/>
                      </a:lnTo>
                      <a:lnTo>
                        <a:pt x="20" y="494"/>
                      </a:lnTo>
                      <a:lnTo>
                        <a:pt x="26" y="474"/>
                      </a:lnTo>
                      <a:lnTo>
                        <a:pt x="33" y="455"/>
                      </a:lnTo>
                      <a:lnTo>
                        <a:pt x="43" y="438"/>
                      </a:lnTo>
                      <a:lnTo>
                        <a:pt x="54" y="421"/>
                      </a:lnTo>
                      <a:lnTo>
                        <a:pt x="69" y="407"/>
                      </a:lnTo>
                      <a:lnTo>
                        <a:pt x="84" y="394"/>
                      </a:lnTo>
                      <a:lnTo>
                        <a:pt x="100" y="381"/>
                      </a:lnTo>
                      <a:lnTo>
                        <a:pt x="115" y="371"/>
                      </a:lnTo>
                      <a:lnTo>
                        <a:pt x="131" y="361"/>
                      </a:lnTo>
                      <a:lnTo>
                        <a:pt x="146" y="353"/>
                      </a:lnTo>
                      <a:lnTo>
                        <a:pt x="160" y="347"/>
                      </a:lnTo>
                      <a:lnTo>
                        <a:pt x="174" y="341"/>
                      </a:lnTo>
                      <a:lnTo>
                        <a:pt x="185" y="338"/>
                      </a:lnTo>
                      <a:lnTo>
                        <a:pt x="194" y="337"/>
                      </a:lnTo>
                      <a:lnTo>
                        <a:pt x="203" y="334"/>
                      </a:lnTo>
                      <a:lnTo>
                        <a:pt x="221" y="330"/>
                      </a:lnTo>
                      <a:lnTo>
                        <a:pt x="243" y="326"/>
                      </a:lnTo>
                      <a:lnTo>
                        <a:pt x="271" y="320"/>
                      </a:lnTo>
                      <a:lnTo>
                        <a:pt x="301" y="315"/>
                      </a:lnTo>
                      <a:lnTo>
                        <a:pt x="334" y="308"/>
                      </a:lnTo>
                      <a:lnTo>
                        <a:pt x="368" y="302"/>
                      </a:lnTo>
                      <a:lnTo>
                        <a:pt x="404" y="295"/>
                      </a:lnTo>
                      <a:lnTo>
                        <a:pt x="437" y="288"/>
                      </a:lnTo>
                      <a:lnTo>
                        <a:pt x="470" y="282"/>
                      </a:lnTo>
                      <a:lnTo>
                        <a:pt x="500" y="275"/>
                      </a:lnTo>
                      <a:lnTo>
                        <a:pt x="529" y="271"/>
                      </a:lnTo>
                      <a:lnTo>
                        <a:pt x="552" y="266"/>
                      </a:lnTo>
                      <a:lnTo>
                        <a:pt x="568" y="263"/>
                      </a:lnTo>
                      <a:lnTo>
                        <a:pt x="580" y="261"/>
                      </a:lnTo>
                      <a:lnTo>
                        <a:pt x="585" y="261"/>
                      </a:lnTo>
                      <a:lnTo>
                        <a:pt x="587" y="260"/>
                      </a:lnTo>
                      <a:lnTo>
                        <a:pt x="593" y="258"/>
                      </a:lnTo>
                      <a:lnTo>
                        <a:pt x="603" y="256"/>
                      </a:lnTo>
                      <a:lnTo>
                        <a:pt x="615" y="254"/>
                      </a:lnTo>
                      <a:lnTo>
                        <a:pt x="629" y="248"/>
                      </a:lnTo>
                      <a:lnTo>
                        <a:pt x="647" y="244"/>
                      </a:lnTo>
                      <a:lnTo>
                        <a:pt x="664" y="237"/>
                      </a:lnTo>
                      <a:lnTo>
                        <a:pt x="683" y="232"/>
                      </a:lnTo>
                      <a:lnTo>
                        <a:pt x="702" y="223"/>
                      </a:lnTo>
                      <a:lnTo>
                        <a:pt x="720" y="213"/>
                      </a:lnTo>
                      <a:lnTo>
                        <a:pt x="736" y="202"/>
                      </a:lnTo>
                      <a:lnTo>
                        <a:pt x="752" y="191"/>
                      </a:lnTo>
                      <a:lnTo>
                        <a:pt x="764" y="178"/>
                      </a:lnTo>
                      <a:lnTo>
                        <a:pt x="774" y="164"/>
                      </a:lnTo>
                      <a:lnTo>
                        <a:pt x="781" y="149"/>
                      </a:lnTo>
                      <a:lnTo>
                        <a:pt x="784" y="132"/>
                      </a:lnTo>
                      <a:lnTo>
                        <a:pt x="781" y="115"/>
                      </a:lnTo>
                      <a:lnTo>
                        <a:pt x="775" y="100"/>
                      </a:lnTo>
                      <a:lnTo>
                        <a:pt x="767" y="87"/>
                      </a:lnTo>
                      <a:lnTo>
                        <a:pt x="758" y="77"/>
                      </a:lnTo>
                      <a:lnTo>
                        <a:pt x="746" y="67"/>
                      </a:lnTo>
                      <a:lnTo>
                        <a:pt x="734" y="61"/>
                      </a:lnTo>
                      <a:lnTo>
                        <a:pt x="721" y="54"/>
                      </a:lnTo>
                      <a:lnTo>
                        <a:pt x="708" y="51"/>
                      </a:lnTo>
                      <a:lnTo>
                        <a:pt x="694" y="46"/>
                      </a:lnTo>
                      <a:lnTo>
                        <a:pt x="681" y="43"/>
                      </a:lnTo>
                      <a:lnTo>
                        <a:pt x="669" y="41"/>
                      </a:lnTo>
                      <a:lnTo>
                        <a:pt x="659" y="39"/>
                      </a:lnTo>
                      <a:lnTo>
                        <a:pt x="648" y="38"/>
                      </a:lnTo>
                      <a:lnTo>
                        <a:pt x="641" y="38"/>
                      </a:lnTo>
                      <a:lnTo>
                        <a:pt x="637" y="38"/>
                      </a:lnTo>
                      <a:lnTo>
                        <a:pt x="637" y="39"/>
                      </a:lnTo>
                      <a:lnTo>
                        <a:pt x="140" y="31"/>
                      </a:lnTo>
                      <a:lnTo>
                        <a:pt x="157" y="13"/>
                      </a:lnTo>
                      <a:lnTo>
                        <a:pt x="161" y="12"/>
                      </a:lnTo>
                      <a:lnTo>
                        <a:pt x="180" y="11"/>
                      </a:lnTo>
                      <a:lnTo>
                        <a:pt x="208" y="10"/>
                      </a:lnTo>
                      <a:lnTo>
                        <a:pt x="245" y="10"/>
                      </a:lnTo>
                      <a:lnTo>
                        <a:pt x="288" y="9"/>
                      </a:lnTo>
                      <a:lnTo>
                        <a:pt x="337" y="7"/>
                      </a:lnTo>
                      <a:lnTo>
                        <a:pt x="390" y="7"/>
                      </a:lnTo>
                      <a:lnTo>
                        <a:pt x="447" y="9"/>
                      </a:lnTo>
                      <a:lnTo>
                        <a:pt x="502" y="9"/>
                      </a:lnTo>
                      <a:lnTo>
                        <a:pt x="557" y="10"/>
                      </a:lnTo>
                      <a:lnTo>
                        <a:pt x="610" y="11"/>
                      </a:lnTo>
                      <a:lnTo>
                        <a:pt x="660" y="14"/>
                      </a:lnTo>
                      <a:lnTo>
                        <a:pt x="704" y="16"/>
                      </a:lnTo>
                      <a:lnTo>
                        <a:pt x="741" y="22"/>
                      </a:lnTo>
                      <a:lnTo>
                        <a:pt x="770" y="27"/>
                      </a:lnTo>
                      <a:lnTo>
                        <a:pt x="789" y="36"/>
                      </a:lnTo>
                      <a:lnTo>
                        <a:pt x="800" y="44"/>
                      </a:lnTo>
                      <a:lnTo>
                        <a:pt x="812" y="53"/>
                      </a:lnTo>
                      <a:lnTo>
                        <a:pt x="819" y="63"/>
                      </a:lnTo>
                      <a:lnTo>
                        <a:pt x="828" y="75"/>
                      </a:lnTo>
                      <a:lnTo>
                        <a:pt x="833" y="86"/>
                      </a:lnTo>
                      <a:lnTo>
                        <a:pt x="836" y="99"/>
                      </a:lnTo>
                      <a:lnTo>
                        <a:pt x="838" y="112"/>
                      </a:lnTo>
                      <a:lnTo>
                        <a:pt x="839" y="127"/>
                      </a:lnTo>
                      <a:lnTo>
                        <a:pt x="836" y="140"/>
                      </a:lnTo>
                      <a:lnTo>
                        <a:pt x="831" y="153"/>
                      </a:lnTo>
                      <a:lnTo>
                        <a:pt x="826" y="167"/>
                      </a:lnTo>
                      <a:lnTo>
                        <a:pt x="819" y="181"/>
                      </a:lnTo>
                      <a:lnTo>
                        <a:pt x="808" y="194"/>
                      </a:lnTo>
                      <a:lnTo>
                        <a:pt x="797" y="208"/>
                      </a:lnTo>
                      <a:lnTo>
                        <a:pt x="782" y="220"/>
                      </a:lnTo>
                      <a:lnTo>
                        <a:pt x="766" y="233"/>
                      </a:lnTo>
                      <a:lnTo>
                        <a:pt x="746" y="244"/>
                      </a:lnTo>
                      <a:lnTo>
                        <a:pt x="724" y="256"/>
                      </a:lnTo>
                      <a:lnTo>
                        <a:pt x="698" y="268"/>
                      </a:lnTo>
                      <a:lnTo>
                        <a:pt x="671" y="281"/>
                      </a:lnTo>
                      <a:lnTo>
                        <a:pt x="642" y="290"/>
                      </a:lnTo>
                      <a:lnTo>
                        <a:pt x="614" y="302"/>
                      </a:lnTo>
                      <a:lnTo>
                        <a:pt x="583" y="311"/>
                      </a:lnTo>
                      <a:lnTo>
                        <a:pt x="555" y="321"/>
                      </a:lnTo>
                      <a:lnTo>
                        <a:pt x="525" y="329"/>
                      </a:lnTo>
                      <a:lnTo>
                        <a:pt x="500" y="338"/>
                      </a:lnTo>
                      <a:lnTo>
                        <a:pt x="477" y="344"/>
                      </a:lnTo>
                      <a:lnTo>
                        <a:pt x="454" y="351"/>
                      </a:lnTo>
                      <a:lnTo>
                        <a:pt x="437" y="356"/>
                      </a:lnTo>
                      <a:lnTo>
                        <a:pt x="425" y="360"/>
                      </a:lnTo>
                      <a:lnTo>
                        <a:pt x="416" y="362"/>
                      </a:lnTo>
                      <a:lnTo>
                        <a:pt x="414" y="362"/>
                      </a:lnTo>
                      <a:lnTo>
                        <a:pt x="410" y="362"/>
                      </a:lnTo>
                      <a:lnTo>
                        <a:pt x="404" y="362"/>
                      </a:lnTo>
                      <a:lnTo>
                        <a:pt x="391" y="363"/>
                      </a:lnTo>
                      <a:lnTo>
                        <a:pt x="377" y="367"/>
                      </a:lnTo>
                      <a:lnTo>
                        <a:pt x="359" y="370"/>
                      </a:lnTo>
                      <a:lnTo>
                        <a:pt x="341" y="373"/>
                      </a:lnTo>
                      <a:lnTo>
                        <a:pt x="320" y="378"/>
                      </a:lnTo>
                      <a:lnTo>
                        <a:pt x="299" y="386"/>
                      </a:lnTo>
                      <a:lnTo>
                        <a:pt x="275" y="391"/>
                      </a:lnTo>
                      <a:lnTo>
                        <a:pt x="254" y="399"/>
                      </a:lnTo>
                      <a:lnTo>
                        <a:pt x="233" y="409"/>
                      </a:lnTo>
                      <a:lnTo>
                        <a:pt x="216" y="420"/>
                      </a:lnTo>
                      <a:lnTo>
                        <a:pt x="199" y="431"/>
                      </a:lnTo>
                      <a:lnTo>
                        <a:pt x="186" y="444"/>
                      </a:lnTo>
                      <a:lnTo>
                        <a:pt x="176" y="460"/>
                      </a:lnTo>
                      <a:lnTo>
                        <a:pt x="170" y="477"/>
                      </a:lnTo>
                      <a:lnTo>
                        <a:pt x="168" y="492"/>
                      </a:lnTo>
                      <a:lnTo>
                        <a:pt x="170" y="507"/>
                      </a:lnTo>
                      <a:lnTo>
                        <a:pt x="177" y="519"/>
                      </a:lnTo>
                      <a:lnTo>
                        <a:pt x="186" y="531"/>
                      </a:lnTo>
                      <a:lnTo>
                        <a:pt x="196" y="540"/>
                      </a:lnTo>
                      <a:lnTo>
                        <a:pt x="209" y="550"/>
                      </a:lnTo>
                      <a:lnTo>
                        <a:pt x="224" y="558"/>
                      </a:lnTo>
                      <a:lnTo>
                        <a:pt x="239" y="565"/>
                      </a:lnTo>
                      <a:lnTo>
                        <a:pt x="254" y="570"/>
                      </a:lnTo>
                      <a:lnTo>
                        <a:pt x="270" y="573"/>
                      </a:lnTo>
                      <a:lnTo>
                        <a:pt x="283" y="577"/>
                      </a:lnTo>
                      <a:lnTo>
                        <a:pt x="296" y="581"/>
                      </a:lnTo>
                      <a:lnTo>
                        <a:pt x="306" y="582"/>
                      </a:lnTo>
                      <a:lnTo>
                        <a:pt x="316" y="583"/>
                      </a:lnTo>
                      <a:lnTo>
                        <a:pt x="321" y="583"/>
                      </a:lnTo>
                      <a:lnTo>
                        <a:pt x="324" y="585"/>
                      </a:lnTo>
                      <a:lnTo>
                        <a:pt x="933" y="633"/>
                      </a:lnTo>
                      <a:lnTo>
                        <a:pt x="935" y="633"/>
                      </a:lnTo>
                      <a:lnTo>
                        <a:pt x="946" y="634"/>
                      </a:lnTo>
                      <a:lnTo>
                        <a:pt x="963" y="635"/>
                      </a:lnTo>
                      <a:lnTo>
                        <a:pt x="985" y="639"/>
                      </a:lnTo>
                      <a:lnTo>
                        <a:pt x="1011" y="641"/>
                      </a:lnTo>
                      <a:lnTo>
                        <a:pt x="1040" y="645"/>
                      </a:lnTo>
                      <a:lnTo>
                        <a:pt x="1071" y="651"/>
                      </a:lnTo>
                      <a:lnTo>
                        <a:pt x="1106" y="656"/>
                      </a:lnTo>
                      <a:lnTo>
                        <a:pt x="1139" y="662"/>
                      </a:lnTo>
                      <a:lnTo>
                        <a:pt x="1172" y="669"/>
                      </a:lnTo>
                      <a:lnTo>
                        <a:pt x="1204" y="675"/>
                      </a:lnTo>
                      <a:lnTo>
                        <a:pt x="1234" y="684"/>
                      </a:lnTo>
                      <a:lnTo>
                        <a:pt x="1259" y="692"/>
                      </a:lnTo>
                      <a:lnTo>
                        <a:pt x="1282" y="701"/>
                      </a:lnTo>
                      <a:lnTo>
                        <a:pt x="1300" y="711"/>
                      </a:lnTo>
                      <a:lnTo>
                        <a:pt x="1312" y="723"/>
                      </a:lnTo>
                      <a:lnTo>
                        <a:pt x="1320" y="733"/>
                      </a:lnTo>
                      <a:lnTo>
                        <a:pt x="1327" y="745"/>
                      </a:lnTo>
                      <a:lnTo>
                        <a:pt x="1332" y="756"/>
                      </a:lnTo>
                      <a:lnTo>
                        <a:pt x="1338" y="769"/>
                      </a:lnTo>
                      <a:lnTo>
                        <a:pt x="1341" y="781"/>
                      </a:lnTo>
                      <a:lnTo>
                        <a:pt x="1344" y="796"/>
                      </a:lnTo>
                      <a:lnTo>
                        <a:pt x="1344" y="809"/>
                      </a:lnTo>
                      <a:lnTo>
                        <a:pt x="1345" y="823"/>
                      </a:lnTo>
                      <a:lnTo>
                        <a:pt x="1343" y="836"/>
                      </a:lnTo>
                      <a:lnTo>
                        <a:pt x="1340" y="848"/>
                      </a:lnTo>
                      <a:lnTo>
                        <a:pt x="1334" y="859"/>
                      </a:lnTo>
                      <a:lnTo>
                        <a:pt x="1329" y="871"/>
                      </a:lnTo>
                      <a:lnTo>
                        <a:pt x="1320" y="881"/>
                      </a:lnTo>
                      <a:lnTo>
                        <a:pt x="1310" y="891"/>
                      </a:lnTo>
                      <a:lnTo>
                        <a:pt x="1299" y="899"/>
                      </a:lnTo>
                      <a:lnTo>
                        <a:pt x="1287" y="907"/>
                      </a:lnTo>
                      <a:lnTo>
                        <a:pt x="1269" y="913"/>
                      </a:lnTo>
                      <a:lnTo>
                        <a:pt x="1249" y="918"/>
                      </a:lnTo>
                      <a:lnTo>
                        <a:pt x="1227" y="925"/>
                      </a:lnTo>
                      <a:lnTo>
                        <a:pt x="1204" y="932"/>
                      </a:lnTo>
                      <a:lnTo>
                        <a:pt x="1177" y="937"/>
                      </a:lnTo>
                      <a:lnTo>
                        <a:pt x="1152" y="943"/>
                      </a:lnTo>
                      <a:lnTo>
                        <a:pt x="1125" y="948"/>
                      </a:lnTo>
                      <a:lnTo>
                        <a:pt x="1101" y="954"/>
                      </a:lnTo>
                      <a:lnTo>
                        <a:pt x="1075" y="958"/>
                      </a:lnTo>
                      <a:lnTo>
                        <a:pt x="1051" y="963"/>
                      </a:lnTo>
                      <a:lnTo>
                        <a:pt x="1030" y="965"/>
                      </a:lnTo>
                      <a:lnTo>
                        <a:pt x="1013" y="969"/>
                      </a:lnTo>
                      <a:lnTo>
                        <a:pt x="997" y="971"/>
                      </a:lnTo>
                      <a:lnTo>
                        <a:pt x="985" y="974"/>
                      </a:lnTo>
                      <a:lnTo>
                        <a:pt x="978" y="975"/>
                      </a:lnTo>
                      <a:lnTo>
                        <a:pt x="976" y="976"/>
                      </a:lnTo>
                      <a:lnTo>
                        <a:pt x="269" y="1137"/>
                      </a:lnTo>
                      <a:lnTo>
                        <a:pt x="264" y="1137"/>
                      </a:lnTo>
                      <a:lnTo>
                        <a:pt x="259" y="1142"/>
                      </a:lnTo>
                      <a:lnTo>
                        <a:pt x="255" y="1145"/>
                      </a:lnTo>
                      <a:lnTo>
                        <a:pt x="254" y="1151"/>
                      </a:lnTo>
                      <a:lnTo>
                        <a:pt x="254" y="1158"/>
                      </a:lnTo>
                      <a:lnTo>
                        <a:pt x="258" y="1168"/>
                      </a:lnTo>
                      <a:lnTo>
                        <a:pt x="260" y="1173"/>
                      </a:lnTo>
                      <a:lnTo>
                        <a:pt x="264" y="1177"/>
                      </a:lnTo>
                      <a:lnTo>
                        <a:pt x="271" y="1182"/>
                      </a:lnTo>
                      <a:lnTo>
                        <a:pt x="281" y="1185"/>
                      </a:lnTo>
                      <a:lnTo>
                        <a:pt x="290" y="1188"/>
                      </a:lnTo>
                      <a:lnTo>
                        <a:pt x="301" y="1191"/>
                      </a:lnTo>
                      <a:lnTo>
                        <a:pt x="312" y="1195"/>
                      </a:lnTo>
                      <a:lnTo>
                        <a:pt x="324" y="1197"/>
                      </a:lnTo>
                      <a:lnTo>
                        <a:pt x="334" y="1198"/>
                      </a:lnTo>
                      <a:lnTo>
                        <a:pt x="345" y="1200"/>
                      </a:lnTo>
                      <a:lnTo>
                        <a:pt x="354" y="1201"/>
                      </a:lnTo>
                      <a:lnTo>
                        <a:pt x="364" y="1204"/>
                      </a:lnTo>
                      <a:lnTo>
                        <a:pt x="372" y="1205"/>
                      </a:lnTo>
                      <a:lnTo>
                        <a:pt x="377" y="1206"/>
                      </a:lnTo>
                      <a:lnTo>
                        <a:pt x="381" y="1206"/>
                      </a:lnTo>
                      <a:lnTo>
                        <a:pt x="384" y="1207"/>
                      </a:lnTo>
                      <a:lnTo>
                        <a:pt x="1024" y="1191"/>
                      </a:lnTo>
                      <a:lnTo>
                        <a:pt x="1869" y="1030"/>
                      </a:lnTo>
                      <a:lnTo>
                        <a:pt x="1883" y="999"/>
                      </a:lnTo>
                      <a:lnTo>
                        <a:pt x="1873" y="1000"/>
                      </a:lnTo>
                      <a:lnTo>
                        <a:pt x="1848" y="1006"/>
                      </a:lnTo>
                      <a:lnTo>
                        <a:pt x="1811" y="1014"/>
                      </a:lnTo>
                      <a:lnTo>
                        <a:pt x="1761" y="1025"/>
                      </a:lnTo>
                      <a:lnTo>
                        <a:pt x="1701" y="1037"/>
                      </a:lnTo>
                      <a:lnTo>
                        <a:pt x="1636" y="1052"/>
                      </a:lnTo>
                      <a:lnTo>
                        <a:pt x="1564" y="1068"/>
                      </a:lnTo>
                      <a:lnTo>
                        <a:pt x="1490" y="1084"/>
                      </a:lnTo>
                      <a:lnTo>
                        <a:pt x="1413" y="1100"/>
                      </a:lnTo>
                      <a:lnTo>
                        <a:pt x="1338" y="1116"/>
                      </a:lnTo>
                      <a:lnTo>
                        <a:pt x="1265" y="1130"/>
                      </a:lnTo>
                      <a:lnTo>
                        <a:pt x="1198" y="1144"/>
                      </a:lnTo>
                      <a:lnTo>
                        <a:pt x="1139" y="1154"/>
                      </a:lnTo>
                      <a:lnTo>
                        <a:pt x="1088" y="1163"/>
                      </a:lnTo>
                      <a:lnTo>
                        <a:pt x="1048" y="1169"/>
                      </a:lnTo>
                      <a:lnTo>
                        <a:pt x="1024" y="1173"/>
                      </a:lnTo>
                      <a:lnTo>
                        <a:pt x="999" y="1173"/>
                      </a:lnTo>
                      <a:lnTo>
                        <a:pt x="967" y="1173"/>
                      </a:lnTo>
                      <a:lnTo>
                        <a:pt x="928" y="1174"/>
                      </a:lnTo>
                      <a:lnTo>
                        <a:pt x="883" y="1175"/>
                      </a:lnTo>
                      <a:lnTo>
                        <a:pt x="831" y="1176"/>
                      </a:lnTo>
                      <a:lnTo>
                        <a:pt x="778" y="1178"/>
                      </a:lnTo>
                      <a:lnTo>
                        <a:pt x="722" y="1180"/>
                      </a:lnTo>
                      <a:lnTo>
                        <a:pt x="667" y="1183"/>
                      </a:lnTo>
                      <a:lnTo>
                        <a:pt x="609" y="1184"/>
                      </a:lnTo>
                      <a:lnTo>
                        <a:pt x="554" y="1185"/>
                      </a:lnTo>
                      <a:lnTo>
                        <a:pt x="500" y="1185"/>
                      </a:lnTo>
                      <a:lnTo>
                        <a:pt x="453" y="1185"/>
                      </a:lnTo>
                      <a:lnTo>
                        <a:pt x="408" y="1185"/>
                      </a:lnTo>
                      <a:lnTo>
                        <a:pt x="373" y="1185"/>
                      </a:lnTo>
                      <a:lnTo>
                        <a:pt x="343" y="1183"/>
                      </a:lnTo>
                      <a:lnTo>
                        <a:pt x="324" y="1180"/>
                      </a:lnTo>
                      <a:lnTo>
                        <a:pt x="309" y="1176"/>
                      </a:lnTo>
                      <a:lnTo>
                        <a:pt x="297" y="1174"/>
                      </a:lnTo>
                      <a:lnTo>
                        <a:pt x="289" y="1169"/>
                      </a:lnTo>
                      <a:lnTo>
                        <a:pt x="283" y="1166"/>
                      </a:lnTo>
                      <a:lnTo>
                        <a:pt x="275" y="1161"/>
                      </a:lnTo>
                      <a:lnTo>
                        <a:pt x="274" y="1155"/>
                      </a:lnTo>
                      <a:lnTo>
                        <a:pt x="275" y="1149"/>
                      </a:lnTo>
                      <a:lnTo>
                        <a:pt x="281" y="1146"/>
                      </a:lnTo>
                      <a:lnTo>
                        <a:pt x="284" y="1144"/>
                      </a:lnTo>
                      <a:lnTo>
                        <a:pt x="286" y="1144"/>
                      </a:lnTo>
                      <a:lnTo>
                        <a:pt x="1187" y="970"/>
                      </a:lnTo>
                      <a:lnTo>
                        <a:pt x="1188" y="969"/>
                      </a:lnTo>
                      <a:lnTo>
                        <a:pt x="1195" y="969"/>
                      </a:lnTo>
                      <a:lnTo>
                        <a:pt x="1203" y="967"/>
                      </a:lnTo>
                      <a:lnTo>
                        <a:pt x="1215" y="965"/>
                      </a:lnTo>
                      <a:lnTo>
                        <a:pt x="1228" y="962"/>
                      </a:lnTo>
                      <a:lnTo>
                        <a:pt x="1243" y="958"/>
                      </a:lnTo>
                      <a:lnTo>
                        <a:pt x="1259" y="953"/>
                      </a:lnTo>
                      <a:lnTo>
                        <a:pt x="1277" y="946"/>
                      </a:lnTo>
                      <a:lnTo>
                        <a:pt x="1292" y="936"/>
                      </a:lnTo>
                      <a:lnTo>
                        <a:pt x="1309" y="926"/>
                      </a:lnTo>
                      <a:lnTo>
                        <a:pt x="1322" y="913"/>
                      </a:lnTo>
                      <a:lnTo>
                        <a:pt x="1338" y="900"/>
                      </a:lnTo>
                      <a:lnTo>
                        <a:pt x="1349" y="882"/>
                      </a:lnTo>
                      <a:lnTo>
                        <a:pt x="1358" y="862"/>
                      </a:lnTo>
                      <a:lnTo>
                        <a:pt x="1363" y="841"/>
                      </a:lnTo>
                      <a:lnTo>
                        <a:pt x="1366" y="817"/>
                      </a:lnTo>
                      <a:lnTo>
                        <a:pt x="1364" y="791"/>
                      </a:lnTo>
                      <a:lnTo>
                        <a:pt x="1359" y="769"/>
                      </a:lnTo>
                      <a:lnTo>
                        <a:pt x="1350" y="750"/>
                      </a:lnTo>
                      <a:lnTo>
                        <a:pt x="1341" y="734"/>
                      </a:lnTo>
                      <a:lnTo>
                        <a:pt x="1328" y="718"/>
                      </a:lnTo>
                      <a:lnTo>
                        <a:pt x="1315" y="706"/>
                      </a:lnTo>
                      <a:lnTo>
                        <a:pt x="1299" y="696"/>
                      </a:lnTo>
                      <a:lnTo>
                        <a:pt x="1286" y="687"/>
                      </a:lnTo>
                      <a:lnTo>
                        <a:pt x="1270" y="680"/>
                      </a:lnTo>
                      <a:lnTo>
                        <a:pt x="1255" y="675"/>
                      </a:lnTo>
                      <a:lnTo>
                        <a:pt x="1242" y="670"/>
                      </a:lnTo>
                      <a:lnTo>
                        <a:pt x="1230" y="667"/>
                      </a:lnTo>
                      <a:lnTo>
                        <a:pt x="1218" y="664"/>
                      </a:lnTo>
                      <a:lnTo>
                        <a:pt x="1211" y="664"/>
                      </a:lnTo>
                      <a:lnTo>
                        <a:pt x="1206" y="664"/>
                      </a:lnTo>
                      <a:lnTo>
                        <a:pt x="1205" y="664"/>
                      </a:lnTo>
                      <a:lnTo>
                        <a:pt x="1202" y="663"/>
                      </a:lnTo>
                      <a:lnTo>
                        <a:pt x="1196" y="661"/>
                      </a:lnTo>
                      <a:lnTo>
                        <a:pt x="1184" y="658"/>
                      </a:lnTo>
                      <a:lnTo>
                        <a:pt x="1170" y="655"/>
                      </a:lnTo>
                      <a:lnTo>
                        <a:pt x="1151" y="651"/>
                      </a:lnTo>
                      <a:lnTo>
                        <a:pt x="1129" y="646"/>
                      </a:lnTo>
                      <a:lnTo>
                        <a:pt x="1101" y="641"/>
                      </a:lnTo>
                      <a:lnTo>
                        <a:pt x="1071" y="638"/>
                      </a:lnTo>
                      <a:lnTo>
                        <a:pt x="1037" y="631"/>
                      </a:lnTo>
                      <a:lnTo>
                        <a:pt x="1001" y="627"/>
                      </a:lnTo>
                      <a:lnTo>
                        <a:pt x="960" y="621"/>
                      </a:lnTo>
                      <a:lnTo>
                        <a:pt x="918" y="618"/>
                      </a:lnTo>
                      <a:lnTo>
                        <a:pt x="871" y="612"/>
                      </a:lnTo>
                      <a:lnTo>
                        <a:pt x="821" y="608"/>
                      </a:lnTo>
                      <a:lnTo>
                        <a:pt x="771" y="606"/>
                      </a:lnTo>
                      <a:lnTo>
                        <a:pt x="716" y="603"/>
                      </a:lnTo>
                      <a:lnTo>
                        <a:pt x="661" y="599"/>
                      </a:lnTo>
                      <a:lnTo>
                        <a:pt x="610" y="596"/>
                      </a:lnTo>
                      <a:lnTo>
                        <a:pt x="562" y="592"/>
                      </a:lnTo>
                      <a:lnTo>
                        <a:pt x="516" y="589"/>
                      </a:lnTo>
                      <a:lnTo>
                        <a:pt x="474" y="585"/>
                      </a:lnTo>
                      <a:lnTo>
                        <a:pt x="435" y="581"/>
                      </a:lnTo>
                      <a:lnTo>
                        <a:pt x="398" y="577"/>
                      </a:lnTo>
                      <a:lnTo>
                        <a:pt x="365" y="572"/>
                      </a:lnTo>
                      <a:lnTo>
                        <a:pt x="335" y="568"/>
                      </a:lnTo>
                      <a:lnTo>
                        <a:pt x="307" y="562"/>
                      </a:lnTo>
                      <a:lnTo>
                        <a:pt x="284" y="558"/>
                      </a:lnTo>
                      <a:lnTo>
                        <a:pt x="265" y="555"/>
                      </a:lnTo>
                      <a:lnTo>
                        <a:pt x="249" y="549"/>
                      </a:lnTo>
                      <a:lnTo>
                        <a:pt x="237" y="546"/>
                      </a:lnTo>
                      <a:lnTo>
                        <a:pt x="227" y="543"/>
                      </a:lnTo>
                      <a:lnTo>
                        <a:pt x="222" y="539"/>
                      </a:lnTo>
                      <a:lnTo>
                        <a:pt x="213" y="533"/>
                      </a:lnTo>
                      <a:lnTo>
                        <a:pt x="203" y="525"/>
                      </a:lnTo>
                      <a:lnTo>
                        <a:pt x="195" y="516"/>
                      </a:lnTo>
                      <a:lnTo>
                        <a:pt x="190" y="507"/>
                      </a:lnTo>
                      <a:lnTo>
                        <a:pt x="187" y="502"/>
                      </a:lnTo>
                      <a:lnTo>
                        <a:pt x="185" y="495"/>
                      </a:lnTo>
                      <a:lnTo>
                        <a:pt x="184" y="489"/>
                      </a:lnTo>
                      <a:lnTo>
                        <a:pt x="185" y="484"/>
                      </a:lnTo>
                      <a:lnTo>
                        <a:pt x="185" y="478"/>
                      </a:lnTo>
                      <a:lnTo>
                        <a:pt x="188" y="472"/>
                      </a:lnTo>
                      <a:lnTo>
                        <a:pt x="191" y="466"/>
                      </a:lnTo>
                      <a:lnTo>
                        <a:pt x="197" y="460"/>
                      </a:lnTo>
                      <a:lnTo>
                        <a:pt x="202" y="452"/>
                      </a:lnTo>
                      <a:lnTo>
                        <a:pt x="213" y="445"/>
                      </a:lnTo>
                      <a:lnTo>
                        <a:pt x="226" y="438"/>
                      </a:lnTo>
                      <a:lnTo>
                        <a:pt x="242" y="432"/>
                      </a:lnTo>
                      <a:lnTo>
                        <a:pt x="259" y="424"/>
                      </a:lnTo>
                      <a:lnTo>
                        <a:pt x="276" y="419"/>
                      </a:lnTo>
                      <a:lnTo>
                        <a:pt x="295" y="412"/>
                      </a:lnTo>
                      <a:lnTo>
                        <a:pt x="316" y="407"/>
                      </a:lnTo>
                      <a:lnTo>
                        <a:pt x="334" y="400"/>
                      </a:lnTo>
                      <a:lnTo>
                        <a:pt x="352" y="395"/>
                      </a:lnTo>
                      <a:lnTo>
                        <a:pt x="368" y="390"/>
                      </a:lnTo>
                      <a:lnTo>
                        <a:pt x="384" y="387"/>
                      </a:lnTo>
                      <a:lnTo>
                        <a:pt x="396" y="384"/>
                      </a:lnTo>
                      <a:lnTo>
                        <a:pt x="405" y="382"/>
                      </a:lnTo>
                      <a:lnTo>
                        <a:pt x="410" y="381"/>
                      </a:lnTo>
                      <a:lnTo>
                        <a:pt x="414" y="381"/>
                      </a:lnTo>
                      <a:lnTo>
                        <a:pt x="417" y="379"/>
                      </a:lnTo>
                      <a:lnTo>
                        <a:pt x="426" y="377"/>
                      </a:lnTo>
                      <a:lnTo>
                        <a:pt x="439" y="373"/>
                      </a:lnTo>
                      <a:lnTo>
                        <a:pt x="459" y="368"/>
                      </a:lnTo>
                      <a:lnTo>
                        <a:pt x="481" y="361"/>
                      </a:lnTo>
                      <a:lnTo>
                        <a:pt x="508" y="353"/>
                      </a:lnTo>
                      <a:lnTo>
                        <a:pt x="535" y="345"/>
                      </a:lnTo>
                      <a:lnTo>
                        <a:pt x="567" y="337"/>
                      </a:lnTo>
                      <a:lnTo>
                        <a:pt x="597" y="326"/>
                      </a:lnTo>
                      <a:lnTo>
                        <a:pt x="627" y="316"/>
                      </a:lnTo>
                      <a:lnTo>
                        <a:pt x="657" y="305"/>
                      </a:lnTo>
                      <a:lnTo>
                        <a:pt x="687" y="293"/>
                      </a:lnTo>
                      <a:lnTo>
                        <a:pt x="713" y="282"/>
                      </a:lnTo>
                      <a:lnTo>
                        <a:pt x="737" y="271"/>
                      </a:lnTo>
                      <a:lnTo>
                        <a:pt x="756" y="258"/>
                      </a:lnTo>
                      <a:lnTo>
                        <a:pt x="774" y="246"/>
                      </a:lnTo>
                      <a:lnTo>
                        <a:pt x="785" y="235"/>
                      </a:lnTo>
                      <a:lnTo>
                        <a:pt x="797" y="224"/>
                      </a:lnTo>
                      <a:lnTo>
                        <a:pt x="807" y="212"/>
                      </a:lnTo>
                      <a:lnTo>
                        <a:pt x="817" y="202"/>
                      </a:lnTo>
                      <a:lnTo>
                        <a:pt x="825" y="192"/>
                      </a:lnTo>
                      <a:lnTo>
                        <a:pt x="831" y="182"/>
                      </a:lnTo>
                      <a:lnTo>
                        <a:pt x="838" y="172"/>
                      </a:lnTo>
                      <a:lnTo>
                        <a:pt x="845" y="163"/>
                      </a:lnTo>
                      <a:lnTo>
                        <a:pt x="848" y="153"/>
                      </a:lnTo>
                      <a:lnTo>
                        <a:pt x="852" y="143"/>
                      </a:lnTo>
                      <a:lnTo>
                        <a:pt x="854" y="133"/>
                      </a:lnTo>
                      <a:lnTo>
                        <a:pt x="856" y="125"/>
                      </a:lnTo>
                      <a:lnTo>
                        <a:pt x="855" y="114"/>
                      </a:lnTo>
                      <a:lnTo>
                        <a:pt x="855" y="104"/>
                      </a:lnTo>
                      <a:lnTo>
                        <a:pt x="852" y="94"/>
                      </a:lnTo>
                      <a:lnTo>
                        <a:pt x="850" y="84"/>
                      </a:lnTo>
                      <a:lnTo>
                        <a:pt x="845" y="72"/>
                      </a:lnTo>
                      <a:lnTo>
                        <a:pt x="840" y="62"/>
                      </a:lnTo>
                      <a:lnTo>
                        <a:pt x="833" y="53"/>
                      </a:lnTo>
                      <a:lnTo>
                        <a:pt x="827" y="46"/>
                      </a:lnTo>
                      <a:lnTo>
                        <a:pt x="818" y="37"/>
                      </a:lnTo>
                      <a:lnTo>
                        <a:pt x="809" y="33"/>
                      </a:lnTo>
                      <a:lnTo>
                        <a:pt x="800" y="26"/>
                      </a:lnTo>
                      <a:lnTo>
                        <a:pt x="792" y="23"/>
                      </a:lnTo>
                      <a:lnTo>
                        <a:pt x="781" y="17"/>
                      </a:lnTo>
                      <a:lnTo>
                        <a:pt x="770" y="14"/>
                      </a:lnTo>
                      <a:lnTo>
                        <a:pt x="758" y="11"/>
                      </a:lnTo>
                      <a:lnTo>
                        <a:pt x="748" y="9"/>
                      </a:lnTo>
                      <a:lnTo>
                        <a:pt x="736" y="5"/>
                      </a:lnTo>
                      <a:lnTo>
                        <a:pt x="726" y="4"/>
                      </a:lnTo>
                      <a:lnTo>
                        <a:pt x="715" y="3"/>
                      </a:lnTo>
                      <a:lnTo>
                        <a:pt x="705" y="3"/>
                      </a:lnTo>
                      <a:lnTo>
                        <a:pt x="688" y="2"/>
                      </a:lnTo>
                      <a:lnTo>
                        <a:pt x="663" y="1"/>
                      </a:lnTo>
                      <a:lnTo>
                        <a:pt x="631" y="0"/>
                      </a:lnTo>
                      <a:lnTo>
                        <a:pt x="594" y="0"/>
                      </a:lnTo>
                      <a:lnTo>
                        <a:pt x="551" y="0"/>
                      </a:lnTo>
                      <a:lnTo>
                        <a:pt x="504" y="0"/>
                      </a:lnTo>
                      <a:lnTo>
                        <a:pt x="456" y="0"/>
                      </a:lnTo>
                      <a:lnTo>
                        <a:pt x="408" y="0"/>
                      </a:lnTo>
                      <a:lnTo>
                        <a:pt x="358" y="0"/>
                      </a:lnTo>
                      <a:lnTo>
                        <a:pt x="313" y="0"/>
                      </a:lnTo>
                      <a:lnTo>
                        <a:pt x="270" y="0"/>
                      </a:lnTo>
                      <a:lnTo>
                        <a:pt x="232" y="0"/>
                      </a:lnTo>
                      <a:lnTo>
                        <a:pt x="200" y="0"/>
                      </a:lnTo>
                      <a:lnTo>
                        <a:pt x="176" y="0"/>
                      </a:lnTo>
                      <a:lnTo>
                        <a:pt x="160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5c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 flipH="1">
                  <a:off x="2846880" y="5444640"/>
                  <a:ext cx="30960" cy="234360"/>
                </a:xfrm>
                <a:custGeom>
                  <a:avLst/>
                  <a:gdLst/>
                  <a:ahLst/>
                  <a:rect l="l" t="t" r="r" b="b"/>
                  <a:pathLst>
                    <a:path w="47" h="416">
                      <a:moveTo>
                        <a:pt x="6" y="416"/>
                      </a:moveTo>
                      <a:lnTo>
                        <a:pt x="11" y="139"/>
                      </a:lnTo>
                      <a:lnTo>
                        <a:pt x="10" y="138"/>
                      </a:lnTo>
                      <a:lnTo>
                        <a:pt x="8" y="134"/>
                      </a:lnTo>
                      <a:lnTo>
                        <a:pt x="6" y="127"/>
                      </a:lnTo>
                      <a:lnTo>
                        <a:pt x="5" y="118"/>
                      </a:lnTo>
                      <a:lnTo>
                        <a:pt x="3" y="107"/>
                      </a:lnTo>
                      <a:lnTo>
                        <a:pt x="2" y="97"/>
                      </a:lnTo>
                      <a:lnTo>
                        <a:pt x="1" y="85"/>
                      </a:lnTo>
                      <a:lnTo>
                        <a:pt x="1" y="73"/>
                      </a:lnTo>
                      <a:lnTo>
                        <a:pt x="0" y="60"/>
                      </a:lnTo>
                      <a:lnTo>
                        <a:pt x="0" y="46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4"/>
                      </a:lnTo>
                      <a:lnTo>
                        <a:pt x="10" y="8"/>
                      </a:lnTo>
                      <a:lnTo>
                        <a:pt x="15" y="2"/>
                      </a:lnTo>
                      <a:lnTo>
                        <a:pt x="24" y="0"/>
                      </a:lnTo>
                      <a:lnTo>
                        <a:pt x="29" y="0"/>
                      </a:lnTo>
                      <a:lnTo>
                        <a:pt x="35" y="3"/>
                      </a:lnTo>
                      <a:lnTo>
                        <a:pt x="39" y="10"/>
                      </a:lnTo>
                      <a:lnTo>
                        <a:pt x="44" y="19"/>
                      </a:lnTo>
                      <a:lnTo>
                        <a:pt x="45" y="29"/>
                      </a:lnTo>
                      <a:lnTo>
                        <a:pt x="46" y="41"/>
                      </a:lnTo>
                      <a:lnTo>
                        <a:pt x="46" y="54"/>
                      </a:lnTo>
                      <a:lnTo>
                        <a:pt x="47" y="69"/>
                      </a:lnTo>
                      <a:lnTo>
                        <a:pt x="46" y="81"/>
                      </a:lnTo>
                      <a:lnTo>
                        <a:pt x="45" y="95"/>
                      </a:lnTo>
                      <a:lnTo>
                        <a:pt x="44" y="107"/>
                      </a:lnTo>
                      <a:lnTo>
                        <a:pt x="43" y="119"/>
                      </a:lnTo>
                      <a:lnTo>
                        <a:pt x="40" y="128"/>
                      </a:lnTo>
                      <a:lnTo>
                        <a:pt x="39" y="137"/>
                      </a:lnTo>
                      <a:lnTo>
                        <a:pt x="39" y="142"/>
                      </a:lnTo>
                      <a:lnTo>
                        <a:pt x="39" y="144"/>
                      </a:lnTo>
                      <a:lnTo>
                        <a:pt x="36" y="410"/>
                      </a:lnTo>
                      <a:lnTo>
                        <a:pt x="6" y="416"/>
                      </a:lnTo>
                      <a:lnTo>
                        <a:pt x="6" y="416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 flipH="1">
                  <a:off x="2454840" y="5478120"/>
                  <a:ext cx="58680" cy="142200"/>
                </a:xfrm>
                <a:custGeom>
                  <a:avLst/>
                  <a:gdLst/>
                  <a:ahLst/>
                  <a:rect l="l" t="t" r="r" b="b"/>
                  <a:pathLst>
                    <a:path w="90" h="252">
                      <a:moveTo>
                        <a:pt x="16" y="252"/>
                      </a:moveTo>
                      <a:lnTo>
                        <a:pt x="18" y="145"/>
                      </a:lnTo>
                      <a:lnTo>
                        <a:pt x="17" y="142"/>
                      </a:lnTo>
                      <a:lnTo>
                        <a:pt x="14" y="137"/>
                      </a:lnTo>
                      <a:lnTo>
                        <a:pt x="12" y="130"/>
                      </a:lnTo>
                      <a:lnTo>
                        <a:pt x="10" y="121"/>
                      </a:lnTo>
                      <a:lnTo>
                        <a:pt x="7" y="109"/>
                      </a:lnTo>
                      <a:lnTo>
                        <a:pt x="4" y="98"/>
                      </a:lnTo>
                      <a:lnTo>
                        <a:pt x="1" y="85"/>
                      </a:lnTo>
                      <a:lnTo>
                        <a:pt x="1" y="73"/>
                      </a:lnTo>
                      <a:lnTo>
                        <a:pt x="0" y="58"/>
                      </a:lnTo>
                      <a:lnTo>
                        <a:pt x="1" y="45"/>
                      </a:lnTo>
                      <a:lnTo>
                        <a:pt x="3" y="33"/>
                      </a:lnTo>
                      <a:lnTo>
                        <a:pt x="10" y="23"/>
                      </a:lnTo>
                      <a:lnTo>
                        <a:pt x="16" y="13"/>
                      </a:lnTo>
                      <a:lnTo>
                        <a:pt x="24" y="8"/>
                      </a:lnTo>
                      <a:lnTo>
                        <a:pt x="37" y="2"/>
                      </a:lnTo>
                      <a:lnTo>
                        <a:pt x="53" y="1"/>
                      </a:lnTo>
                      <a:lnTo>
                        <a:pt x="58" y="0"/>
                      </a:lnTo>
                      <a:lnTo>
                        <a:pt x="63" y="0"/>
                      </a:lnTo>
                      <a:lnTo>
                        <a:pt x="67" y="1"/>
                      </a:lnTo>
                      <a:lnTo>
                        <a:pt x="72" y="3"/>
                      </a:lnTo>
                      <a:lnTo>
                        <a:pt x="79" y="6"/>
                      </a:lnTo>
                      <a:lnTo>
                        <a:pt x="83" y="10"/>
                      </a:lnTo>
                      <a:lnTo>
                        <a:pt x="87" y="18"/>
                      </a:lnTo>
                      <a:lnTo>
                        <a:pt x="90" y="21"/>
                      </a:lnTo>
                      <a:lnTo>
                        <a:pt x="87" y="21"/>
                      </a:lnTo>
                      <a:lnTo>
                        <a:pt x="85" y="25"/>
                      </a:lnTo>
                      <a:lnTo>
                        <a:pt x="82" y="30"/>
                      </a:lnTo>
                      <a:lnTo>
                        <a:pt x="80" y="36"/>
                      </a:lnTo>
                      <a:lnTo>
                        <a:pt x="74" y="43"/>
                      </a:lnTo>
                      <a:lnTo>
                        <a:pt x="70" y="53"/>
                      </a:lnTo>
                      <a:lnTo>
                        <a:pt x="65" y="62"/>
                      </a:lnTo>
                      <a:lnTo>
                        <a:pt x="62" y="73"/>
                      </a:lnTo>
                      <a:lnTo>
                        <a:pt x="58" y="83"/>
                      </a:lnTo>
                      <a:lnTo>
                        <a:pt x="55" y="93"/>
                      </a:lnTo>
                      <a:lnTo>
                        <a:pt x="53" y="103"/>
                      </a:lnTo>
                      <a:lnTo>
                        <a:pt x="54" y="114"/>
                      </a:lnTo>
                      <a:lnTo>
                        <a:pt x="55" y="123"/>
                      </a:lnTo>
                      <a:lnTo>
                        <a:pt x="59" y="130"/>
                      </a:lnTo>
                      <a:lnTo>
                        <a:pt x="65" y="137"/>
                      </a:lnTo>
                      <a:lnTo>
                        <a:pt x="74" y="145"/>
                      </a:lnTo>
                      <a:lnTo>
                        <a:pt x="72" y="147"/>
                      </a:lnTo>
                      <a:lnTo>
                        <a:pt x="65" y="154"/>
                      </a:lnTo>
                      <a:lnTo>
                        <a:pt x="56" y="158"/>
                      </a:lnTo>
                      <a:lnTo>
                        <a:pt x="53" y="160"/>
                      </a:lnTo>
                      <a:lnTo>
                        <a:pt x="53" y="244"/>
                      </a:lnTo>
                      <a:lnTo>
                        <a:pt x="16" y="252"/>
                      </a:lnTo>
                      <a:lnTo>
                        <a:pt x="16" y="252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 flipH="1">
                  <a:off x="2562120" y="5627160"/>
                  <a:ext cx="59760" cy="172440"/>
                </a:xfrm>
                <a:custGeom>
                  <a:avLst/>
                  <a:gdLst/>
                  <a:ahLst/>
                  <a:rect l="l" t="t" r="r" b="b"/>
                  <a:pathLst>
                    <a:path w="92" h="306">
                      <a:moveTo>
                        <a:pt x="0" y="24"/>
                      </a:moveTo>
                      <a:lnTo>
                        <a:pt x="0" y="23"/>
                      </a:lnTo>
                      <a:lnTo>
                        <a:pt x="4" y="19"/>
                      </a:lnTo>
                      <a:lnTo>
                        <a:pt x="7" y="13"/>
                      </a:lnTo>
                      <a:lnTo>
                        <a:pt x="15" y="10"/>
                      </a:lnTo>
                      <a:lnTo>
                        <a:pt x="22" y="3"/>
                      </a:lnTo>
                      <a:lnTo>
                        <a:pt x="32" y="1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51" y="0"/>
                      </a:lnTo>
                      <a:lnTo>
                        <a:pt x="59" y="3"/>
                      </a:lnTo>
                      <a:lnTo>
                        <a:pt x="64" y="6"/>
                      </a:lnTo>
                      <a:lnTo>
                        <a:pt x="71" y="12"/>
                      </a:lnTo>
                      <a:lnTo>
                        <a:pt x="75" y="20"/>
                      </a:lnTo>
                      <a:lnTo>
                        <a:pt x="81" y="31"/>
                      </a:lnTo>
                      <a:lnTo>
                        <a:pt x="84" y="43"/>
                      </a:lnTo>
                      <a:lnTo>
                        <a:pt x="88" y="57"/>
                      </a:lnTo>
                      <a:lnTo>
                        <a:pt x="90" y="71"/>
                      </a:lnTo>
                      <a:lnTo>
                        <a:pt x="92" y="86"/>
                      </a:lnTo>
                      <a:lnTo>
                        <a:pt x="92" y="101"/>
                      </a:lnTo>
                      <a:lnTo>
                        <a:pt x="92" y="116"/>
                      </a:lnTo>
                      <a:lnTo>
                        <a:pt x="91" y="129"/>
                      </a:lnTo>
                      <a:lnTo>
                        <a:pt x="90" y="143"/>
                      </a:lnTo>
                      <a:lnTo>
                        <a:pt x="86" y="154"/>
                      </a:lnTo>
                      <a:lnTo>
                        <a:pt x="85" y="164"/>
                      </a:lnTo>
                      <a:lnTo>
                        <a:pt x="81" y="171"/>
                      </a:lnTo>
                      <a:lnTo>
                        <a:pt x="77" y="176"/>
                      </a:lnTo>
                      <a:lnTo>
                        <a:pt x="71" y="306"/>
                      </a:lnTo>
                      <a:lnTo>
                        <a:pt x="32" y="306"/>
                      </a:lnTo>
                      <a:lnTo>
                        <a:pt x="30" y="186"/>
                      </a:lnTo>
                      <a:lnTo>
                        <a:pt x="6" y="181"/>
                      </a:lnTo>
                      <a:lnTo>
                        <a:pt x="6" y="179"/>
                      </a:lnTo>
                      <a:lnTo>
                        <a:pt x="10" y="174"/>
                      </a:lnTo>
                      <a:lnTo>
                        <a:pt x="12" y="169"/>
                      </a:lnTo>
                      <a:lnTo>
                        <a:pt x="16" y="165"/>
                      </a:lnTo>
                      <a:lnTo>
                        <a:pt x="18" y="160"/>
                      </a:lnTo>
                      <a:lnTo>
                        <a:pt x="22" y="155"/>
                      </a:lnTo>
                      <a:lnTo>
                        <a:pt x="25" y="148"/>
                      </a:lnTo>
                      <a:lnTo>
                        <a:pt x="28" y="140"/>
                      </a:lnTo>
                      <a:lnTo>
                        <a:pt x="30" y="133"/>
                      </a:lnTo>
                      <a:lnTo>
                        <a:pt x="32" y="126"/>
                      </a:lnTo>
                      <a:lnTo>
                        <a:pt x="33" y="116"/>
                      </a:lnTo>
                      <a:lnTo>
                        <a:pt x="35" y="108"/>
                      </a:lnTo>
                      <a:lnTo>
                        <a:pt x="33" y="99"/>
                      </a:lnTo>
                      <a:lnTo>
                        <a:pt x="33" y="92"/>
                      </a:lnTo>
                      <a:lnTo>
                        <a:pt x="30" y="82"/>
                      </a:lnTo>
                      <a:lnTo>
                        <a:pt x="29" y="74"/>
                      </a:lnTo>
                      <a:lnTo>
                        <a:pt x="27" y="66"/>
                      </a:lnTo>
                      <a:lnTo>
                        <a:pt x="25" y="60"/>
                      </a:lnTo>
                      <a:lnTo>
                        <a:pt x="21" y="53"/>
                      </a:lnTo>
                      <a:lnTo>
                        <a:pt x="18" y="48"/>
                      </a:lnTo>
                      <a:lnTo>
                        <a:pt x="16" y="43"/>
                      </a:lnTo>
                      <a:lnTo>
                        <a:pt x="14" y="40"/>
                      </a:lnTo>
                      <a:lnTo>
                        <a:pt x="7" y="32"/>
                      </a:lnTo>
                      <a:lnTo>
                        <a:pt x="4" y="28"/>
                      </a:lnTo>
                      <a:lnTo>
                        <a:pt x="0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 flipH="1">
                  <a:off x="2212560" y="5753520"/>
                  <a:ext cx="156960" cy="592200"/>
                </a:xfrm>
                <a:custGeom>
                  <a:avLst/>
                  <a:gdLst/>
                  <a:ahLst/>
                  <a:rect l="l" t="t" r="r" b="b"/>
                  <a:pathLst>
                    <a:path w="243" h="1051">
                      <a:moveTo>
                        <a:pt x="243" y="10"/>
                      </a:moveTo>
                      <a:lnTo>
                        <a:pt x="240" y="8"/>
                      </a:lnTo>
                      <a:lnTo>
                        <a:pt x="233" y="7"/>
                      </a:lnTo>
                      <a:lnTo>
                        <a:pt x="222" y="5"/>
                      </a:lnTo>
                      <a:lnTo>
                        <a:pt x="208" y="3"/>
                      </a:lnTo>
                      <a:lnTo>
                        <a:pt x="190" y="0"/>
                      </a:lnTo>
                      <a:lnTo>
                        <a:pt x="172" y="2"/>
                      </a:lnTo>
                      <a:lnTo>
                        <a:pt x="151" y="4"/>
                      </a:lnTo>
                      <a:lnTo>
                        <a:pt x="131" y="9"/>
                      </a:lnTo>
                      <a:lnTo>
                        <a:pt x="109" y="18"/>
                      </a:lnTo>
                      <a:lnTo>
                        <a:pt x="87" y="31"/>
                      </a:lnTo>
                      <a:lnTo>
                        <a:pt x="65" y="48"/>
                      </a:lnTo>
                      <a:lnTo>
                        <a:pt x="49" y="72"/>
                      </a:lnTo>
                      <a:lnTo>
                        <a:pt x="31" y="101"/>
                      </a:lnTo>
                      <a:lnTo>
                        <a:pt x="19" y="136"/>
                      </a:lnTo>
                      <a:lnTo>
                        <a:pt x="8" y="181"/>
                      </a:lnTo>
                      <a:lnTo>
                        <a:pt x="3" y="233"/>
                      </a:lnTo>
                      <a:lnTo>
                        <a:pt x="0" y="286"/>
                      </a:lnTo>
                      <a:lnTo>
                        <a:pt x="0" y="332"/>
                      </a:lnTo>
                      <a:lnTo>
                        <a:pt x="2" y="373"/>
                      </a:lnTo>
                      <a:lnTo>
                        <a:pt x="7" y="411"/>
                      </a:lnTo>
                      <a:lnTo>
                        <a:pt x="10" y="442"/>
                      </a:lnTo>
                      <a:lnTo>
                        <a:pt x="17" y="469"/>
                      </a:lnTo>
                      <a:lnTo>
                        <a:pt x="23" y="492"/>
                      </a:lnTo>
                      <a:lnTo>
                        <a:pt x="31" y="512"/>
                      </a:lnTo>
                      <a:lnTo>
                        <a:pt x="39" y="528"/>
                      </a:lnTo>
                      <a:lnTo>
                        <a:pt x="45" y="540"/>
                      </a:lnTo>
                      <a:lnTo>
                        <a:pt x="53" y="549"/>
                      </a:lnTo>
                      <a:lnTo>
                        <a:pt x="61" y="557"/>
                      </a:lnTo>
                      <a:lnTo>
                        <a:pt x="65" y="561"/>
                      </a:lnTo>
                      <a:lnTo>
                        <a:pt x="71" y="564"/>
                      </a:lnTo>
                      <a:lnTo>
                        <a:pt x="73" y="566"/>
                      </a:lnTo>
                      <a:lnTo>
                        <a:pt x="75" y="568"/>
                      </a:lnTo>
                      <a:lnTo>
                        <a:pt x="83" y="1048"/>
                      </a:lnTo>
                      <a:lnTo>
                        <a:pt x="152" y="1051"/>
                      </a:lnTo>
                      <a:lnTo>
                        <a:pt x="156" y="564"/>
                      </a:lnTo>
                      <a:lnTo>
                        <a:pt x="155" y="562"/>
                      </a:lnTo>
                      <a:lnTo>
                        <a:pt x="153" y="557"/>
                      </a:lnTo>
                      <a:lnTo>
                        <a:pt x="147" y="548"/>
                      </a:lnTo>
                      <a:lnTo>
                        <a:pt x="143" y="537"/>
                      </a:lnTo>
                      <a:lnTo>
                        <a:pt x="135" y="521"/>
                      </a:lnTo>
                      <a:lnTo>
                        <a:pt x="128" y="503"/>
                      </a:lnTo>
                      <a:lnTo>
                        <a:pt x="122" y="484"/>
                      </a:lnTo>
                      <a:lnTo>
                        <a:pt x="115" y="461"/>
                      </a:lnTo>
                      <a:lnTo>
                        <a:pt x="109" y="436"/>
                      </a:lnTo>
                      <a:lnTo>
                        <a:pt x="102" y="411"/>
                      </a:lnTo>
                      <a:lnTo>
                        <a:pt x="96" y="382"/>
                      </a:lnTo>
                      <a:lnTo>
                        <a:pt x="93" y="353"/>
                      </a:lnTo>
                      <a:lnTo>
                        <a:pt x="90" y="321"/>
                      </a:lnTo>
                      <a:lnTo>
                        <a:pt x="91" y="290"/>
                      </a:lnTo>
                      <a:lnTo>
                        <a:pt x="93" y="257"/>
                      </a:lnTo>
                      <a:lnTo>
                        <a:pt x="99" y="225"/>
                      </a:lnTo>
                      <a:lnTo>
                        <a:pt x="104" y="192"/>
                      </a:lnTo>
                      <a:lnTo>
                        <a:pt x="113" y="163"/>
                      </a:lnTo>
                      <a:lnTo>
                        <a:pt x="122" y="135"/>
                      </a:lnTo>
                      <a:lnTo>
                        <a:pt x="134" y="113"/>
                      </a:lnTo>
                      <a:lnTo>
                        <a:pt x="145" y="93"/>
                      </a:lnTo>
                      <a:lnTo>
                        <a:pt x="157" y="77"/>
                      </a:lnTo>
                      <a:lnTo>
                        <a:pt x="169" y="61"/>
                      </a:lnTo>
                      <a:lnTo>
                        <a:pt x="183" y="49"/>
                      </a:lnTo>
                      <a:lnTo>
                        <a:pt x="194" y="38"/>
                      </a:lnTo>
                      <a:lnTo>
                        <a:pt x="205" y="30"/>
                      </a:lnTo>
                      <a:lnTo>
                        <a:pt x="215" y="23"/>
                      </a:lnTo>
                      <a:lnTo>
                        <a:pt x="225" y="18"/>
                      </a:lnTo>
                      <a:lnTo>
                        <a:pt x="232" y="14"/>
                      </a:lnTo>
                      <a:lnTo>
                        <a:pt x="238" y="11"/>
                      </a:lnTo>
                      <a:lnTo>
                        <a:pt x="241" y="10"/>
                      </a:lnTo>
                      <a:lnTo>
                        <a:pt x="243" y="10"/>
                      </a:lnTo>
                      <a:lnTo>
                        <a:pt x="243" y="10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 flipH="1">
                  <a:off x="2858760" y="5788800"/>
                  <a:ext cx="69840" cy="374400"/>
                </a:xfrm>
                <a:custGeom>
                  <a:avLst/>
                  <a:gdLst/>
                  <a:ahLst/>
                  <a:rect l="l" t="t" r="r" b="b"/>
                  <a:pathLst>
                    <a:path w="108" h="664">
                      <a:moveTo>
                        <a:pt x="108" y="27"/>
                      </a:moveTo>
                      <a:lnTo>
                        <a:pt x="108" y="24"/>
                      </a:lnTo>
                      <a:lnTo>
                        <a:pt x="104" y="17"/>
                      </a:lnTo>
                      <a:lnTo>
                        <a:pt x="100" y="14"/>
                      </a:lnTo>
                      <a:lnTo>
                        <a:pt x="95" y="10"/>
                      </a:lnTo>
                      <a:lnTo>
                        <a:pt x="91" y="7"/>
                      </a:lnTo>
                      <a:lnTo>
                        <a:pt x="85" y="5"/>
                      </a:lnTo>
                      <a:lnTo>
                        <a:pt x="77" y="3"/>
                      </a:lnTo>
                      <a:lnTo>
                        <a:pt x="71" y="0"/>
                      </a:lnTo>
                      <a:lnTo>
                        <a:pt x="63" y="0"/>
                      </a:lnTo>
                      <a:lnTo>
                        <a:pt x="58" y="1"/>
                      </a:lnTo>
                      <a:lnTo>
                        <a:pt x="49" y="3"/>
                      </a:lnTo>
                      <a:lnTo>
                        <a:pt x="42" y="6"/>
                      </a:lnTo>
                      <a:lnTo>
                        <a:pt x="34" y="11"/>
                      </a:lnTo>
                      <a:lnTo>
                        <a:pt x="29" y="19"/>
                      </a:lnTo>
                      <a:lnTo>
                        <a:pt x="22" y="28"/>
                      </a:lnTo>
                      <a:lnTo>
                        <a:pt x="17" y="40"/>
                      </a:lnTo>
                      <a:lnTo>
                        <a:pt x="11" y="53"/>
                      </a:lnTo>
                      <a:lnTo>
                        <a:pt x="8" y="70"/>
                      </a:lnTo>
                      <a:lnTo>
                        <a:pt x="3" y="85"/>
                      </a:lnTo>
                      <a:lnTo>
                        <a:pt x="1" y="104"/>
                      </a:lnTo>
                      <a:lnTo>
                        <a:pt x="0" y="123"/>
                      </a:lnTo>
                      <a:lnTo>
                        <a:pt x="0" y="143"/>
                      </a:lnTo>
                      <a:lnTo>
                        <a:pt x="0" y="161"/>
                      </a:lnTo>
                      <a:lnTo>
                        <a:pt x="0" y="178"/>
                      </a:lnTo>
                      <a:lnTo>
                        <a:pt x="2" y="196"/>
                      </a:lnTo>
                      <a:lnTo>
                        <a:pt x="6" y="213"/>
                      </a:lnTo>
                      <a:lnTo>
                        <a:pt x="9" y="227"/>
                      </a:lnTo>
                      <a:lnTo>
                        <a:pt x="13" y="241"/>
                      </a:lnTo>
                      <a:lnTo>
                        <a:pt x="19" y="251"/>
                      </a:lnTo>
                      <a:lnTo>
                        <a:pt x="26" y="260"/>
                      </a:lnTo>
                      <a:lnTo>
                        <a:pt x="21" y="664"/>
                      </a:lnTo>
                      <a:lnTo>
                        <a:pt x="64" y="664"/>
                      </a:lnTo>
                      <a:lnTo>
                        <a:pt x="59" y="268"/>
                      </a:lnTo>
                      <a:lnTo>
                        <a:pt x="90" y="242"/>
                      </a:lnTo>
                      <a:lnTo>
                        <a:pt x="87" y="241"/>
                      </a:lnTo>
                      <a:lnTo>
                        <a:pt x="83" y="240"/>
                      </a:lnTo>
                      <a:lnTo>
                        <a:pt x="79" y="236"/>
                      </a:lnTo>
                      <a:lnTo>
                        <a:pt x="73" y="229"/>
                      </a:lnTo>
                      <a:lnTo>
                        <a:pt x="70" y="223"/>
                      </a:lnTo>
                      <a:lnTo>
                        <a:pt x="69" y="214"/>
                      </a:lnTo>
                      <a:lnTo>
                        <a:pt x="66" y="204"/>
                      </a:lnTo>
                      <a:lnTo>
                        <a:pt x="66" y="192"/>
                      </a:lnTo>
                      <a:lnTo>
                        <a:pt x="65" y="177"/>
                      </a:lnTo>
                      <a:lnTo>
                        <a:pt x="66" y="160"/>
                      </a:lnTo>
                      <a:lnTo>
                        <a:pt x="69" y="140"/>
                      </a:lnTo>
                      <a:lnTo>
                        <a:pt x="72" y="118"/>
                      </a:lnTo>
                      <a:lnTo>
                        <a:pt x="72" y="115"/>
                      </a:lnTo>
                      <a:lnTo>
                        <a:pt x="72" y="113"/>
                      </a:lnTo>
                      <a:lnTo>
                        <a:pt x="72" y="108"/>
                      </a:lnTo>
                      <a:lnTo>
                        <a:pt x="74" y="103"/>
                      </a:lnTo>
                      <a:lnTo>
                        <a:pt x="75" y="97"/>
                      </a:lnTo>
                      <a:lnTo>
                        <a:pt x="77" y="90"/>
                      </a:lnTo>
                      <a:lnTo>
                        <a:pt x="80" y="82"/>
                      </a:lnTo>
                      <a:lnTo>
                        <a:pt x="82" y="74"/>
                      </a:lnTo>
                      <a:lnTo>
                        <a:pt x="84" y="66"/>
                      </a:lnTo>
                      <a:lnTo>
                        <a:pt x="86" y="58"/>
                      </a:lnTo>
                      <a:lnTo>
                        <a:pt x="90" y="50"/>
                      </a:lnTo>
                      <a:lnTo>
                        <a:pt x="93" y="45"/>
                      </a:lnTo>
                      <a:lnTo>
                        <a:pt x="96" y="38"/>
                      </a:lnTo>
                      <a:lnTo>
                        <a:pt x="100" y="32"/>
                      </a:lnTo>
                      <a:lnTo>
                        <a:pt x="103" y="29"/>
                      </a:lnTo>
                      <a:lnTo>
                        <a:pt x="108" y="27"/>
                      </a:lnTo>
                      <a:lnTo>
                        <a:pt x="108" y="27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 flipH="1">
                  <a:off x="2741760" y="5267520"/>
                  <a:ext cx="37440" cy="189360"/>
                </a:xfrm>
                <a:custGeom>
                  <a:avLst/>
                  <a:gdLst/>
                  <a:ahLst/>
                  <a:rect l="l" t="t" r="r" b="b"/>
                  <a:pathLst>
                    <a:path w="59" h="335">
                      <a:moveTo>
                        <a:pt x="20" y="335"/>
                      </a:moveTo>
                      <a:lnTo>
                        <a:pt x="20" y="116"/>
                      </a:lnTo>
                      <a:lnTo>
                        <a:pt x="18" y="112"/>
                      </a:lnTo>
                      <a:lnTo>
                        <a:pt x="13" y="104"/>
                      </a:lnTo>
                      <a:lnTo>
                        <a:pt x="10" y="97"/>
                      </a:lnTo>
                      <a:lnTo>
                        <a:pt x="8" y="92"/>
                      </a:lnTo>
                      <a:lnTo>
                        <a:pt x="6" y="84"/>
                      </a:lnTo>
                      <a:lnTo>
                        <a:pt x="5" y="77"/>
                      </a:lnTo>
                      <a:lnTo>
                        <a:pt x="1" y="69"/>
                      </a:lnTo>
                      <a:lnTo>
                        <a:pt x="1" y="60"/>
                      </a:lnTo>
                      <a:lnTo>
                        <a:pt x="0" y="51"/>
                      </a:lnTo>
                      <a:lnTo>
                        <a:pt x="2" y="43"/>
                      </a:lnTo>
                      <a:lnTo>
                        <a:pt x="5" y="34"/>
                      </a:lnTo>
                      <a:lnTo>
                        <a:pt x="9" y="24"/>
                      </a:lnTo>
                      <a:lnTo>
                        <a:pt x="15" y="17"/>
                      </a:lnTo>
                      <a:lnTo>
                        <a:pt x="22" y="11"/>
                      </a:lnTo>
                      <a:lnTo>
                        <a:pt x="30" y="4"/>
                      </a:lnTo>
                      <a:lnTo>
                        <a:pt x="37" y="1"/>
                      </a:lnTo>
                      <a:lnTo>
                        <a:pt x="43" y="0"/>
                      </a:lnTo>
                      <a:lnTo>
                        <a:pt x="49" y="1"/>
                      </a:lnTo>
                      <a:lnTo>
                        <a:pt x="55" y="6"/>
                      </a:lnTo>
                      <a:lnTo>
                        <a:pt x="59" y="9"/>
                      </a:lnTo>
                      <a:lnTo>
                        <a:pt x="57" y="11"/>
                      </a:lnTo>
                      <a:lnTo>
                        <a:pt x="52" y="20"/>
                      </a:lnTo>
                      <a:lnTo>
                        <a:pt x="48" y="24"/>
                      </a:lnTo>
                      <a:lnTo>
                        <a:pt x="44" y="32"/>
                      </a:lnTo>
                      <a:lnTo>
                        <a:pt x="42" y="39"/>
                      </a:lnTo>
                      <a:lnTo>
                        <a:pt x="40" y="48"/>
                      </a:lnTo>
                      <a:lnTo>
                        <a:pt x="37" y="56"/>
                      </a:lnTo>
                      <a:lnTo>
                        <a:pt x="34" y="64"/>
                      </a:lnTo>
                      <a:lnTo>
                        <a:pt x="33" y="72"/>
                      </a:lnTo>
                      <a:lnTo>
                        <a:pt x="34" y="81"/>
                      </a:lnTo>
                      <a:lnTo>
                        <a:pt x="34" y="86"/>
                      </a:lnTo>
                      <a:lnTo>
                        <a:pt x="39" y="94"/>
                      </a:lnTo>
                      <a:lnTo>
                        <a:pt x="43" y="98"/>
                      </a:lnTo>
                      <a:lnTo>
                        <a:pt x="50" y="104"/>
                      </a:lnTo>
                      <a:lnTo>
                        <a:pt x="50" y="106"/>
                      </a:lnTo>
                      <a:lnTo>
                        <a:pt x="45" y="113"/>
                      </a:lnTo>
                      <a:lnTo>
                        <a:pt x="41" y="117"/>
                      </a:lnTo>
                      <a:lnTo>
                        <a:pt x="40" y="118"/>
                      </a:lnTo>
                      <a:lnTo>
                        <a:pt x="41" y="333"/>
                      </a:lnTo>
                      <a:lnTo>
                        <a:pt x="20" y="335"/>
                      </a:lnTo>
                      <a:lnTo>
                        <a:pt x="20" y="335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 flipH="1">
                  <a:off x="2617560" y="5135400"/>
                  <a:ext cx="36360" cy="104760"/>
                </a:xfrm>
                <a:custGeom>
                  <a:avLst/>
                  <a:gdLst/>
                  <a:ahLst/>
                  <a:rect l="l" t="t" r="r" b="b"/>
                  <a:pathLst>
                    <a:path w="57" h="187">
                      <a:moveTo>
                        <a:pt x="33" y="79"/>
                      </a:moveTo>
                      <a:lnTo>
                        <a:pt x="31" y="76"/>
                      </a:lnTo>
                      <a:lnTo>
                        <a:pt x="31" y="68"/>
                      </a:lnTo>
                      <a:lnTo>
                        <a:pt x="30" y="62"/>
                      </a:lnTo>
                      <a:lnTo>
                        <a:pt x="30" y="57"/>
                      </a:lnTo>
                      <a:lnTo>
                        <a:pt x="30" y="51"/>
                      </a:lnTo>
                      <a:lnTo>
                        <a:pt x="30" y="46"/>
                      </a:lnTo>
                      <a:lnTo>
                        <a:pt x="30" y="38"/>
                      </a:lnTo>
                      <a:lnTo>
                        <a:pt x="30" y="33"/>
                      </a:lnTo>
                      <a:lnTo>
                        <a:pt x="31" y="26"/>
                      </a:lnTo>
                      <a:lnTo>
                        <a:pt x="34" y="23"/>
                      </a:lnTo>
                      <a:lnTo>
                        <a:pt x="39" y="15"/>
                      </a:lnTo>
                      <a:lnTo>
                        <a:pt x="47" y="12"/>
                      </a:lnTo>
                      <a:lnTo>
                        <a:pt x="57" y="13"/>
                      </a:lnTo>
                      <a:lnTo>
                        <a:pt x="55" y="10"/>
                      </a:lnTo>
                      <a:lnTo>
                        <a:pt x="46" y="4"/>
                      </a:lnTo>
                      <a:lnTo>
                        <a:pt x="40" y="1"/>
                      </a:lnTo>
                      <a:lnTo>
                        <a:pt x="35" y="0"/>
                      </a:lnTo>
                      <a:lnTo>
                        <a:pt x="28" y="0"/>
                      </a:lnTo>
                      <a:lnTo>
                        <a:pt x="21" y="3"/>
                      </a:lnTo>
                      <a:lnTo>
                        <a:pt x="12" y="9"/>
                      </a:lnTo>
                      <a:lnTo>
                        <a:pt x="7" y="17"/>
                      </a:lnTo>
                      <a:lnTo>
                        <a:pt x="4" y="23"/>
                      </a:lnTo>
                      <a:lnTo>
                        <a:pt x="3" y="28"/>
                      </a:lnTo>
                      <a:lnTo>
                        <a:pt x="2" y="35"/>
                      </a:lnTo>
                      <a:lnTo>
                        <a:pt x="2" y="42"/>
                      </a:lnTo>
                      <a:lnTo>
                        <a:pt x="0" y="47"/>
                      </a:lnTo>
                      <a:lnTo>
                        <a:pt x="0" y="53"/>
                      </a:lnTo>
                      <a:lnTo>
                        <a:pt x="2" y="58"/>
                      </a:lnTo>
                      <a:lnTo>
                        <a:pt x="4" y="63"/>
                      </a:lnTo>
                      <a:lnTo>
                        <a:pt x="6" y="72"/>
                      </a:lnTo>
                      <a:lnTo>
                        <a:pt x="12" y="76"/>
                      </a:lnTo>
                      <a:lnTo>
                        <a:pt x="16" y="187"/>
                      </a:lnTo>
                      <a:lnTo>
                        <a:pt x="37" y="173"/>
                      </a:lnTo>
                      <a:lnTo>
                        <a:pt x="33" y="79"/>
                      </a:lnTo>
                      <a:lnTo>
                        <a:pt x="33" y="79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 flipH="1">
                  <a:off x="2809440" y="5128560"/>
                  <a:ext cx="30960" cy="119520"/>
                </a:xfrm>
                <a:custGeom>
                  <a:avLst/>
                  <a:gdLst/>
                  <a:ahLst/>
                  <a:rect l="l" t="t" r="r" b="b"/>
                  <a:pathLst>
                    <a:path w="50" h="212">
                      <a:moveTo>
                        <a:pt x="12" y="212"/>
                      </a:moveTo>
                      <a:lnTo>
                        <a:pt x="11" y="63"/>
                      </a:lnTo>
                      <a:lnTo>
                        <a:pt x="9" y="59"/>
                      </a:lnTo>
                      <a:lnTo>
                        <a:pt x="6" y="51"/>
                      </a:lnTo>
                      <a:lnTo>
                        <a:pt x="2" y="43"/>
                      </a:lnTo>
                      <a:lnTo>
                        <a:pt x="0" y="33"/>
                      </a:lnTo>
                      <a:lnTo>
                        <a:pt x="0" y="27"/>
                      </a:lnTo>
                      <a:lnTo>
                        <a:pt x="0" y="21"/>
                      </a:lnTo>
                      <a:lnTo>
                        <a:pt x="0" y="16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1" y="4"/>
                      </a:lnTo>
                      <a:lnTo>
                        <a:pt x="16" y="1"/>
                      </a:lnTo>
                      <a:lnTo>
                        <a:pt x="24" y="1"/>
                      </a:lnTo>
                      <a:lnTo>
                        <a:pt x="31" y="0"/>
                      </a:lnTo>
                      <a:lnTo>
                        <a:pt x="37" y="1"/>
                      </a:lnTo>
                      <a:lnTo>
                        <a:pt x="41" y="3"/>
                      </a:lnTo>
                      <a:lnTo>
                        <a:pt x="45" y="6"/>
                      </a:lnTo>
                      <a:lnTo>
                        <a:pt x="46" y="9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50" y="27"/>
                      </a:lnTo>
                      <a:lnTo>
                        <a:pt x="49" y="34"/>
                      </a:lnTo>
                      <a:lnTo>
                        <a:pt x="48" y="39"/>
                      </a:lnTo>
                      <a:lnTo>
                        <a:pt x="46" y="45"/>
                      </a:lnTo>
                      <a:lnTo>
                        <a:pt x="46" y="50"/>
                      </a:lnTo>
                      <a:lnTo>
                        <a:pt x="44" y="58"/>
                      </a:lnTo>
                      <a:lnTo>
                        <a:pt x="44" y="63"/>
                      </a:lnTo>
                      <a:lnTo>
                        <a:pt x="39" y="67"/>
                      </a:lnTo>
                      <a:lnTo>
                        <a:pt x="41" y="211"/>
                      </a:lnTo>
                      <a:lnTo>
                        <a:pt x="12" y="212"/>
                      </a:lnTo>
                      <a:lnTo>
                        <a:pt x="12" y="212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 flipH="1">
                  <a:off x="2945520" y="5130720"/>
                  <a:ext cx="27000" cy="98280"/>
                </a:xfrm>
                <a:custGeom>
                  <a:avLst/>
                  <a:gdLst/>
                  <a:ahLst/>
                  <a:rect l="l" t="t" r="r" b="b"/>
                  <a:pathLst>
                    <a:path w="42" h="174">
                      <a:moveTo>
                        <a:pt x="32" y="169"/>
                      </a:moveTo>
                      <a:lnTo>
                        <a:pt x="32" y="53"/>
                      </a:lnTo>
                      <a:lnTo>
                        <a:pt x="32" y="49"/>
                      </a:lnTo>
                      <a:lnTo>
                        <a:pt x="36" y="42"/>
                      </a:lnTo>
                      <a:lnTo>
                        <a:pt x="38" y="35"/>
                      </a:lnTo>
                      <a:lnTo>
                        <a:pt x="41" y="30"/>
                      </a:lnTo>
                      <a:lnTo>
                        <a:pt x="41" y="23"/>
                      </a:lnTo>
                      <a:lnTo>
                        <a:pt x="42" y="18"/>
                      </a:lnTo>
                      <a:lnTo>
                        <a:pt x="40" y="11"/>
                      </a:lnTo>
                      <a:lnTo>
                        <a:pt x="37" y="7"/>
                      </a:lnTo>
                      <a:lnTo>
                        <a:pt x="33" y="2"/>
                      </a:lnTo>
                      <a:lnTo>
                        <a:pt x="31" y="1"/>
                      </a:lnTo>
                      <a:lnTo>
                        <a:pt x="21" y="0"/>
                      </a:lnTo>
                      <a:lnTo>
                        <a:pt x="11" y="2"/>
                      </a:lnTo>
                      <a:lnTo>
                        <a:pt x="7" y="4"/>
                      </a:lnTo>
                      <a:lnTo>
                        <a:pt x="4" y="9"/>
                      </a:lnTo>
                      <a:lnTo>
                        <a:pt x="2" y="14"/>
                      </a:lnTo>
                      <a:lnTo>
                        <a:pt x="1" y="21"/>
                      </a:lnTo>
                      <a:lnTo>
                        <a:pt x="0" y="26"/>
                      </a:lnTo>
                      <a:lnTo>
                        <a:pt x="1" y="34"/>
                      </a:lnTo>
                      <a:lnTo>
                        <a:pt x="3" y="42"/>
                      </a:lnTo>
                      <a:lnTo>
                        <a:pt x="7" y="49"/>
                      </a:lnTo>
                      <a:lnTo>
                        <a:pt x="7" y="174"/>
                      </a:lnTo>
                      <a:lnTo>
                        <a:pt x="32" y="169"/>
                      </a:lnTo>
                      <a:lnTo>
                        <a:pt x="32" y="169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 flipH="1">
                  <a:off x="2985840" y="5410800"/>
                  <a:ext cx="76680" cy="208800"/>
                </a:xfrm>
                <a:custGeom>
                  <a:avLst/>
                  <a:gdLst/>
                  <a:ahLst/>
                  <a:rect l="l" t="t" r="r" b="b"/>
                  <a:pathLst>
                    <a:path w="120" h="372">
                      <a:moveTo>
                        <a:pt x="120" y="31"/>
                      </a:moveTo>
                      <a:lnTo>
                        <a:pt x="118" y="30"/>
                      </a:lnTo>
                      <a:lnTo>
                        <a:pt x="114" y="30"/>
                      </a:lnTo>
                      <a:lnTo>
                        <a:pt x="108" y="30"/>
                      </a:lnTo>
                      <a:lnTo>
                        <a:pt x="100" y="32"/>
                      </a:lnTo>
                      <a:lnTo>
                        <a:pt x="90" y="33"/>
                      </a:lnTo>
                      <a:lnTo>
                        <a:pt x="80" y="37"/>
                      </a:lnTo>
                      <a:lnTo>
                        <a:pt x="70" y="39"/>
                      </a:lnTo>
                      <a:lnTo>
                        <a:pt x="61" y="46"/>
                      </a:lnTo>
                      <a:lnTo>
                        <a:pt x="51" y="50"/>
                      </a:lnTo>
                      <a:lnTo>
                        <a:pt x="44" y="59"/>
                      </a:lnTo>
                      <a:lnTo>
                        <a:pt x="35" y="69"/>
                      </a:lnTo>
                      <a:lnTo>
                        <a:pt x="31" y="82"/>
                      </a:lnTo>
                      <a:lnTo>
                        <a:pt x="27" y="95"/>
                      </a:lnTo>
                      <a:lnTo>
                        <a:pt x="27" y="112"/>
                      </a:lnTo>
                      <a:lnTo>
                        <a:pt x="30" y="131"/>
                      </a:lnTo>
                      <a:lnTo>
                        <a:pt x="38" y="154"/>
                      </a:lnTo>
                      <a:lnTo>
                        <a:pt x="39" y="156"/>
                      </a:lnTo>
                      <a:lnTo>
                        <a:pt x="44" y="158"/>
                      </a:lnTo>
                      <a:lnTo>
                        <a:pt x="48" y="161"/>
                      </a:lnTo>
                      <a:lnTo>
                        <a:pt x="55" y="164"/>
                      </a:lnTo>
                      <a:lnTo>
                        <a:pt x="59" y="165"/>
                      </a:lnTo>
                      <a:lnTo>
                        <a:pt x="65" y="165"/>
                      </a:lnTo>
                      <a:lnTo>
                        <a:pt x="68" y="166"/>
                      </a:lnTo>
                      <a:lnTo>
                        <a:pt x="69" y="167"/>
                      </a:lnTo>
                      <a:lnTo>
                        <a:pt x="69" y="372"/>
                      </a:lnTo>
                      <a:lnTo>
                        <a:pt x="40" y="372"/>
                      </a:lnTo>
                      <a:lnTo>
                        <a:pt x="38" y="166"/>
                      </a:lnTo>
                      <a:lnTo>
                        <a:pt x="34" y="164"/>
                      </a:lnTo>
                      <a:lnTo>
                        <a:pt x="27" y="155"/>
                      </a:lnTo>
                      <a:lnTo>
                        <a:pt x="23" y="148"/>
                      </a:lnTo>
                      <a:lnTo>
                        <a:pt x="17" y="142"/>
                      </a:lnTo>
                      <a:lnTo>
                        <a:pt x="12" y="135"/>
                      </a:lnTo>
                      <a:lnTo>
                        <a:pt x="9" y="127"/>
                      </a:lnTo>
                      <a:lnTo>
                        <a:pt x="4" y="117"/>
                      </a:lnTo>
                      <a:lnTo>
                        <a:pt x="2" y="106"/>
                      </a:lnTo>
                      <a:lnTo>
                        <a:pt x="0" y="95"/>
                      </a:lnTo>
                      <a:lnTo>
                        <a:pt x="0" y="84"/>
                      </a:lnTo>
                      <a:lnTo>
                        <a:pt x="3" y="72"/>
                      </a:lnTo>
                      <a:lnTo>
                        <a:pt x="8" y="60"/>
                      </a:lnTo>
                      <a:lnTo>
                        <a:pt x="15" y="47"/>
                      </a:lnTo>
                      <a:lnTo>
                        <a:pt x="25" y="33"/>
                      </a:lnTo>
                      <a:lnTo>
                        <a:pt x="35" y="21"/>
                      </a:lnTo>
                      <a:lnTo>
                        <a:pt x="46" y="12"/>
                      </a:lnTo>
                      <a:lnTo>
                        <a:pt x="56" y="5"/>
                      </a:lnTo>
                      <a:lnTo>
                        <a:pt x="66" y="2"/>
                      </a:lnTo>
                      <a:lnTo>
                        <a:pt x="72" y="0"/>
                      </a:lnTo>
                      <a:lnTo>
                        <a:pt x="80" y="0"/>
                      </a:lnTo>
                      <a:lnTo>
                        <a:pt x="88" y="2"/>
                      </a:lnTo>
                      <a:lnTo>
                        <a:pt x="94" y="5"/>
                      </a:lnTo>
                      <a:lnTo>
                        <a:pt x="100" y="8"/>
                      </a:lnTo>
                      <a:lnTo>
                        <a:pt x="104" y="12"/>
                      </a:lnTo>
                      <a:lnTo>
                        <a:pt x="109" y="16"/>
                      </a:lnTo>
                      <a:lnTo>
                        <a:pt x="113" y="21"/>
                      </a:lnTo>
                      <a:lnTo>
                        <a:pt x="118" y="27"/>
                      </a:lnTo>
                      <a:lnTo>
                        <a:pt x="120" y="31"/>
                      </a:lnTo>
                      <a:lnTo>
                        <a:pt x="120" y="31"/>
                      </a:lnTo>
                      <a:close/>
                    </a:path>
                  </a:pathLst>
                </a:custGeom>
                <a:solidFill>
                  <a:srgbClr val="b343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 flipH="1">
                  <a:off x="1578600" y="5680440"/>
                  <a:ext cx="128880" cy="40320"/>
                </a:xfrm>
                <a:custGeom>
                  <a:avLst/>
                  <a:gdLst/>
                  <a:ahLst/>
                  <a:rect l="l" t="t" r="r" b="b"/>
                  <a:pathLst>
                    <a:path w="197" h="72">
                      <a:moveTo>
                        <a:pt x="5" y="43"/>
                      </a:moveTo>
                      <a:lnTo>
                        <a:pt x="0" y="18"/>
                      </a:lnTo>
                      <a:lnTo>
                        <a:pt x="10" y="18"/>
                      </a:lnTo>
                      <a:lnTo>
                        <a:pt x="11" y="38"/>
                      </a:lnTo>
                      <a:lnTo>
                        <a:pt x="36" y="35"/>
                      </a:lnTo>
                      <a:lnTo>
                        <a:pt x="34" y="8"/>
                      </a:lnTo>
                      <a:lnTo>
                        <a:pt x="44" y="5"/>
                      </a:lnTo>
                      <a:lnTo>
                        <a:pt x="45" y="31"/>
                      </a:lnTo>
                      <a:lnTo>
                        <a:pt x="62" y="30"/>
                      </a:lnTo>
                      <a:lnTo>
                        <a:pt x="62" y="0"/>
                      </a:lnTo>
                      <a:lnTo>
                        <a:pt x="74" y="4"/>
                      </a:lnTo>
                      <a:lnTo>
                        <a:pt x="72" y="33"/>
                      </a:lnTo>
                      <a:lnTo>
                        <a:pt x="93" y="38"/>
                      </a:lnTo>
                      <a:lnTo>
                        <a:pt x="96" y="10"/>
                      </a:lnTo>
                      <a:lnTo>
                        <a:pt x="110" y="14"/>
                      </a:lnTo>
                      <a:lnTo>
                        <a:pt x="103" y="39"/>
                      </a:lnTo>
                      <a:lnTo>
                        <a:pt x="125" y="48"/>
                      </a:lnTo>
                      <a:lnTo>
                        <a:pt x="131" y="21"/>
                      </a:lnTo>
                      <a:lnTo>
                        <a:pt x="145" y="25"/>
                      </a:lnTo>
                      <a:lnTo>
                        <a:pt x="133" y="49"/>
                      </a:lnTo>
                      <a:lnTo>
                        <a:pt x="149" y="54"/>
                      </a:lnTo>
                      <a:lnTo>
                        <a:pt x="156" y="31"/>
                      </a:lnTo>
                      <a:lnTo>
                        <a:pt x="168" y="35"/>
                      </a:lnTo>
                      <a:lnTo>
                        <a:pt x="154" y="57"/>
                      </a:lnTo>
                      <a:lnTo>
                        <a:pt x="175" y="64"/>
                      </a:lnTo>
                      <a:lnTo>
                        <a:pt x="182" y="41"/>
                      </a:lnTo>
                      <a:lnTo>
                        <a:pt x="197" y="51"/>
                      </a:lnTo>
                      <a:lnTo>
                        <a:pt x="180" y="72"/>
                      </a:lnTo>
                      <a:lnTo>
                        <a:pt x="120" y="54"/>
                      </a:lnTo>
                      <a:lnTo>
                        <a:pt x="59" y="43"/>
                      </a:lnTo>
                      <a:lnTo>
                        <a:pt x="5" y="43"/>
                      </a:lnTo>
                      <a:lnTo>
                        <a:pt x="5" y="43"/>
                      </a:lnTo>
                      <a:close/>
                    </a:path>
                  </a:pathLst>
                </a:custGeom>
                <a:solidFill>
                  <a:srgbClr val="4d36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 flipH="1">
                  <a:off x="1618920" y="5728680"/>
                  <a:ext cx="114120" cy="65520"/>
                </a:xfrm>
                <a:custGeom>
                  <a:avLst/>
                  <a:gdLst/>
                  <a:ahLst/>
                  <a:rect l="l" t="t" r="r" b="b"/>
                  <a:pathLst>
                    <a:path w="175" h="115">
                      <a:moveTo>
                        <a:pt x="175" y="92"/>
                      </a:moveTo>
                      <a:lnTo>
                        <a:pt x="171" y="115"/>
                      </a:lnTo>
                      <a:lnTo>
                        <a:pt x="161" y="111"/>
                      </a:lnTo>
                      <a:lnTo>
                        <a:pt x="166" y="93"/>
                      </a:lnTo>
                      <a:lnTo>
                        <a:pt x="145" y="85"/>
                      </a:lnTo>
                      <a:lnTo>
                        <a:pt x="137" y="113"/>
                      </a:lnTo>
                      <a:lnTo>
                        <a:pt x="127" y="110"/>
                      </a:lnTo>
                      <a:lnTo>
                        <a:pt x="136" y="86"/>
                      </a:lnTo>
                      <a:lnTo>
                        <a:pt x="118" y="83"/>
                      </a:lnTo>
                      <a:lnTo>
                        <a:pt x="109" y="109"/>
                      </a:lnTo>
                      <a:lnTo>
                        <a:pt x="97" y="100"/>
                      </a:lnTo>
                      <a:lnTo>
                        <a:pt x="110" y="75"/>
                      </a:lnTo>
                      <a:lnTo>
                        <a:pt x="91" y="63"/>
                      </a:lnTo>
                      <a:lnTo>
                        <a:pt x="80" y="86"/>
                      </a:lnTo>
                      <a:lnTo>
                        <a:pt x="67" y="78"/>
                      </a:lnTo>
                      <a:lnTo>
                        <a:pt x="84" y="59"/>
                      </a:lnTo>
                      <a:lnTo>
                        <a:pt x="66" y="43"/>
                      </a:lnTo>
                      <a:lnTo>
                        <a:pt x="50" y="64"/>
                      </a:lnTo>
                      <a:lnTo>
                        <a:pt x="38" y="57"/>
                      </a:lnTo>
                      <a:lnTo>
                        <a:pt x="58" y="39"/>
                      </a:lnTo>
                      <a:lnTo>
                        <a:pt x="46" y="27"/>
                      </a:lnTo>
                      <a:lnTo>
                        <a:pt x="30" y="47"/>
                      </a:lnTo>
                      <a:lnTo>
                        <a:pt x="21" y="37"/>
                      </a:lnTo>
                      <a:lnTo>
                        <a:pt x="40" y="21"/>
                      </a:lnTo>
                      <a:lnTo>
                        <a:pt x="25" y="8"/>
                      </a:lnTo>
                      <a:lnTo>
                        <a:pt x="11" y="29"/>
                      </a:lnTo>
                      <a:lnTo>
                        <a:pt x="0" y="13"/>
                      </a:lnTo>
                      <a:lnTo>
                        <a:pt x="23" y="0"/>
                      </a:lnTo>
                      <a:lnTo>
                        <a:pt x="74" y="37"/>
                      </a:lnTo>
                      <a:lnTo>
                        <a:pt x="127" y="72"/>
                      </a:lnTo>
                      <a:lnTo>
                        <a:pt x="175" y="92"/>
                      </a:lnTo>
                      <a:lnTo>
                        <a:pt x="175" y="92"/>
                      </a:lnTo>
                      <a:close/>
                    </a:path>
                  </a:pathLst>
                </a:custGeom>
                <a:solidFill>
                  <a:srgbClr val="4d36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 flipH="1">
                  <a:off x="1413720" y="6204240"/>
                  <a:ext cx="785520" cy="185040"/>
                </a:xfrm>
                <a:custGeom>
                  <a:avLst/>
                  <a:gdLst/>
                  <a:ahLst/>
                  <a:rect l="l" t="t" r="r" b="b"/>
                  <a:pathLst>
                    <a:path w="1209" h="328">
                      <a:moveTo>
                        <a:pt x="134" y="0"/>
                      </a:moveTo>
                      <a:lnTo>
                        <a:pt x="384" y="120"/>
                      </a:lnTo>
                      <a:lnTo>
                        <a:pt x="82" y="81"/>
                      </a:lnTo>
                      <a:lnTo>
                        <a:pt x="353" y="163"/>
                      </a:lnTo>
                      <a:lnTo>
                        <a:pt x="6" y="120"/>
                      </a:lnTo>
                      <a:lnTo>
                        <a:pt x="315" y="202"/>
                      </a:lnTo>
                      <a:lnTo>
                        <a:pt x="33" y="172"/>
                      </a:lnTo>
                      <a:lnTo>
                        <a:pt x="269" y="241"/>
                      </a:lnTo>
                      <a:lnTo>
                        <a:pt x="0" y="210"/>
                      </a:lnTo>
                      <a:lnTo>
                        <a:pt x="210" y="297"/>
                      </a:lnTo>
                      <a:lnTo>
                        <a:pt x="213" y="297"/>
                      </a:lnTo>
                      <a:lnTo>
                        <a:pt x="221" y="299"/>
                      </a:lnTo>
                      <a:lnTo>
                        <a:pt x="236" y="300"/>
                      </a:lnTo>
                      <a:lnTo>
                        <a:pt x="256" y="305"/>
                      </a:lnTo>
                      <a:lnTo>
                        <a:pt x="279" y="308"/>
                      </a:lnTo>
                      <a:lnTo>
                        <a:pt x="308" y="312"/>
                      </a:lnTo>
                      <a:lnTo>
                        <a:pt x="339" y="318"/>
                      </a:lnTo>
                      <a:lnTo>
                        <a:pt x="375" y="322"/>
                      </a:lnTo>
                      <a:lnTo>
                        <a:pt x="412" y="327"/>
                      </a:lnTo>
                      <a:lnTo>
                        <a:pt x="452" y="328"/>
                      </a:lnTo>
                      <a:lnTo>
                        <a:pt x="493" y="328"/>
                      </a:lnTo>
                      <a:lnTo>
                        <a:pt x="536" y="328"/>
                      </a:lnTo>
                      <a:lnTo>
                        <a:pt x="580" y="328"/>
                      </a:lnTo>
                      <a:lnTo>
                        <a:pt x="625" y="328"/>
                      </a:lnTo>
                      <a:lnTo>
                        <a:pt x="669" y="328"/>
                      </a:lnTo>
                      <a:lnTo>
                        <a:pt x="713" y="328"/>
                      </a:lnTo>
                      <a:lnTo>
                        <a:pt x="755" y="328"/>
                      </a:lnTo>
                      <a:lnTo>
                        <a:pt x="798" y="320"/>
                      </a:lnTo>
                      <a:lnTo>
                        <a:pt x="842" y="307"/>
                      </a:lnTo>
                      <a:lnTo>
                        <a:pt x="887" y="293"/>
                      </a:lnTo>
                      <a:lnTo>
                        <a:pt x="928" y="275"/>
                      </a:lnTo>
                      <a:lnTo>
                        <a:pt x="969" y="257"/>
                      </a:lnTo>
                      <a:lnTo>
                        <a:pt x="1008" y="238"/>
                      </a:lnTo>
                      <a:lnTo>
                        <a:pt x="1046" y="220"/>
                      </a:lnTo>
                      <a:lnTo>
                        <a:pt x="1079" y="200"/>
                      </a:lnTo>
                      <a:lnTo>
                        <a:pt x="1111" y="182"/>
                      </a:lnTo>
                      <a:lnTo>
                        <a:pt x="1139" y="164"/>
                      </a:lnTo>
                      <a:lnTo>
                        <a:pt x="1162" y="150"/>
                      </a:lnTo>
                      <a:lnTo>
                        <a:pt x="1182" y="137"/>
                      </a:lnTo>
                      <a:lnTo>
                        <a:pt x="1195" y="128"/>
                      </a:lnTo>
                      <a:lnTo>
                        <a:pt x="1205" y="122"/>
                      </a:lnTo>
                      <a:lnTo>
                        <a:pt x="1209" y="120"/>
                      </a:lnTo>
                      <a:lnTo>
                        <a:pt x="1203" y="119"/>
                      </a:lnTo>
                      <a:lnTo>
                        <a:pt x="1186" y="119"/>
                      </a:lnTo>
                      <a:lnTo>
                        <a:pt x="1161" y="119"/>
                      </a:lnTo>
                      <a:lnTo>
                        <a:pt x="1130" y="119"/>
                      </a:lnTo>
                      <a:lnTo>
                        <a:pt x="1091" y="119"/>
                      </a:lnTo>
                      <a:lnTo>
                        <a:pt x="1048" y="119"/>
                      </a:lnTo>
                      <a:lnTo>
                        <a:pt x="1002" y="119"/>
                      </a:lnTo>
                      <a:lnTo>
                        <a:pt x="955" y="119"/>
                      </a:lnTo>
                      <a:lnTo>
                        <a:pt x="905" y="118"/>
                      </a:lnTo>
                      <a:lnTo>
                        <a:pt x="857" y="117"/>
                      </a:lnTo>
                      <a:lnTo>
                        <a:pt x="811" y="116"/>
                      </a:lnTo>
                      <a:lnTo>
                        <a:pt x="770" y="116"/>
                      </a:lnTo>
                      <a:lnTo>
                        <a:pt x="731" y="115"/>
                      </a:lnTo>
                      <a:lnTo>
                        <a:pt x="701" y="113"/>
                      </a:lnTo>
                      <a:lnTo>
                        <a:pt x="678" y="113"/>
                      </a:lnTo>
                      <a:lnTo>
                        <a:pt x="665" y="112"/>
                      </a:lnTo>
                      <a:lnTo>
                        <a:pt x="650" y="108"/>
                      </a:lnTo>
                      <a:lnTo>
                        <a:pt x="627" y="103"/>
                      </a:lnTo>
                      <a:lnTo>
                        <a:pt x="597" y="97"/>
                      </a:lnTo>
                      <a:lnTo>
                        <a:pt x="561" y="90"/>
                      </a:lnTo>
                      <a:lnTo>
                        <a:pt x="519" y="79"/>
                      </a:lnTo>
                      <a:lnTo>
                        <a:pt x="475" y="70"/>
                      </a:lnTo>
                      <a:lnTo>
                        <a:pt x="427" y="60"/>
                      </a:lnTo>
                      <a:lnTo>
                        <a:pt x="381" y="51"/>
                      </a:lnTo>
                      <a:lnTo>
                        <a:pt x="332" y="42"/>
                      </a:lnTo>
                      <a:lnTo>
                        <a:pt x="288" y="32"/>
                      </a:lnTo>
                      <a:lnTo>
                        <a:pt x="246" y="22"/>
                      </a:lnTo>
                      <a:lnTo>
                        <a:pt x="209" y="15"/>
                      </a:lnTo>
                      <a:lnTo>
                        <a:pt x="177" y="8"/>
                      </a:lnTo>
                      <a:lnTo>
                        <a:pt x="154" y="4"/>
                      </a:lnTo>
                      <a:lnTo>
                        <a:pt x="138" y="0"/>
                      </a:lnTo>
                      <a:lnTo>
                        <a:pt x="134" y="0"/>
                      </a:lnTo>
                      <a:lnTo>
                        <a:pt x="134" y="0"/>
                      </a:lnTo>
                      <a:close/>
                    </a:path>
                  </a:pathLst>
                </a:custGeom>
                <a:solidFill>
                  <a:srgbClr val="7d7d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308" name="" descr=""/>
              <p:cNvPicPr/>
              <p:nvPr/>
            </p:nvPicPr>
            <p:blipFill>
              <a:blip r:embed="rId2"/>
              <a:stretch/>
            </p:blipFill>
            <p:spPr>
              <a:xfrm rot="5400000">
                <a:off x="1310760" y="5569560"/>
                <a:ext cx="447840" cy="93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9" name="" descr=""/>
              <p:cNvPicPr/>
              <p:nvPr/>
            </p:nvPicPr>
            <p:blipFill>
              <a:blip r:embed="rId3"/>
              <a:stretch/>
            </p:blipFill>
            <p:spPr>
              <a:xfrm rot="5400000">
                <a:off x="1435320" y="5406840"/>
                <a:ext cx="447840" cy="936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10" name=""/>
            <p:cNvGrpSpPr/>
            <p:nvPr/>
          </p:nvGrpSpPr>
          <p:grpSpPr>
            <a:xfrm>
              <a:off x="1690200" y="5589360"/>
              <a:ext cx="503640" cy="432720"/>
              <a:chOff x="1690200" y="5589360"/>
              <a:chExt cx="503640" cy="432720"/>
            </a:xfrm>
          </p:grpSpPr>
          <p:sp>
            <p:nvSpPr>
              <p:cNvPr id="2311" name=""/>
              <p:cNvSpPr/>
              <p:nvPr/>
            </p:nvSpPr>
            <p:spPr>
              <a:xfrm flipH="1">
                <a:off x="1873080" y="5744880"/>
                <a:ext cx="293400" cy="187200"/>
              </a:xfrm>
              <a:custGeom>
                <a:avLst/>
                <a:gdLst/>
                <a:ahLst/>
                <a:rect l="l" t="t" r="r" b="b"/>
                <a:pathLst>
                  <a:path w="676" h="493">
                    <a:moveTo>
                      <a:pt x="0" y="322"/>
                    </a:moveTo>
                    <a:lnTo>
                      <a:pt x="222" y="0"/>
                    </a:lnTo>
                    <a:lnTo>
                      <a:pt x="380" y="0"/>
                    </a:lnTo>
                    <a:lnTo>
                      <a:pt x="676" y="220"/>
                    </a:lnTo>
                    <a:lnTo>
                      <a:pt x="672" y="289"/>
                    </a:lnTo>
                    <a:lnTo>
                      <a:pt x="500" y="426"/>
                    </a:lnTo>
                    <a:lnTo>
                      <a:pt x="132" y="493"/>
                    </a:lnTo>
                    <a:lnTo>
                      <a:pt x="0" y="322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c99b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H="1">
                <a:off x="1689840" y="5589360"/>
                <a:ext cx="343080" cy="254880"/>
              </a:xfrm>
              <a:custGeom>
                <a:avLst/>
                <a:gdLst/>
                <a:ahLst/>
                <a:rect l="l" t="t" r="r" b="b"/>
                <a:pathLst>
                  <a:path w="789" h="671">
                    <a:moveTo>
                      <a:pt x="0" y="257"/>
                    </a:moveTo>
                    <a:lnTo>
                      <a:pt x="1" y="253"/>
                    </a:lnTo>
                    <a:lnTo>
                      <a:pt x="8" y="244"/>
                    </a:lnTo>
                    <a:lnTo>
                      <a:pt x="18" y="232"/>
                    </a:lnTo>
                    <a:lnTo>
                      <a:pt x="31" y="216"/>
                    </a:lnTo>
                    <a:lnTo>
                      <a:pt x="46" y="195"/>
                    </a:lnTo>
                    <a:lnTo>
                      <a:pt x="66" y="174"/>
                    </a:lnTo>
                    <a:lnTo>
                      <a:pt x="88" y="149"/>
                    </a:lnTo>
                    <a:lnTo>
                      <a:pt x="114" y="126"/>
                    </a:lnTo>
                    <a:lnTo>
                      <a:pt x="140" y="101"/>
                    </a:lnTo>
                    <a:lnTo>
                      <a:pt x="169" y="77"/>
                    </a:lnTo>
                    <a:lnTo>
                      <a:pt x="199" y="55"/>
                    </a:lnTo>
                    <a:lnTo>
                      <a:pt x="232" y="37"/>
                    </a:lnTo>
                    <a:lnTo>
                      <a:pt x="264" y="20"/>
                    </a:lnTo>
                    <a:lnTo>
                      <a:pt x="299" y="9"/>
                    </a:lnTo>
                    <a:lnTo>
                      <a:pt x="333" y="1"/>
                    </a:lnTo>
                    <a:lnTo>
                      <a:pt x="368" y="0"/>
                    </a:lnTo>
                    <a:lnTo>
                      <a:pt x="486" y="12"/>
                    </a:lnTo>
                    <a:lnTo>
                      <a:pt x="624" y="91"/>
                    </a:lnTo>
                    <a:lnTo>
                      <a:pt x="624" y="92"/>
                    </a:lnTo>
                    <a:lnTo>
                      <a:pt x="627" y="95"/>
                    </a:lnTo>
                    <a:lnTo>
                      <a:pt x="631" y="103"/>
                    </a:lnTo>
                    <a:lnTo>
                      <a:pt x="638" y="114"/>
                    </a:lnTo>
                    <a:lnTo>
                      <a:pt x="645" y="125"/>
                    </a:lnTo>
                    <a:lnTo>
                      <a:pt x="653" y="139"/>
                    </a:lnTo>
                    <a:lnTo>
                      <a:pt x="662" y="153"/>
                    </a:lnTo>
                    <a:lnTo>
                      <a:pt x="671" y="170"/>
                    </a:lnTo>
                    <a:lnTo>
                      <a:pt x="680" y="186"/>
                    </a:lnTo>
                    <a:lnTo>
                      <a:pt x="688" y="205"/>
                    </a:lnTo>
                    <a:lnTo>
                      <a:pt x="695" y="221"/>
                    </a:lnTo>
                    <a:lnTo>
                      <a:pt x="704" y="239"/>
                    </a:lnTo>
                    <a:lnTo>
                      <a:pt x="709" y="255"/>
                    </a:lnTo>
                    <a:lnTo>
                      <a:pt x="714" y="271"/>
                    </a:lnTo>
                    <a:lnTo>
                      <a:pt x="716" y="286"/>
                    </a:lnTo>
                    <a:lnTo>
                      <a:pt x="719" y="301"/>
                    </a:lnTo>
                    <a:lnTo>
                      <a:pt x="718" y="306"/>
                    </a:lnTo>
                    <a:lnTo>
                      <a:pt x="715" y="314"/>
                    </a:lnTo>
                    <a:lnTo>
                      <a:pt x="712" y="323"/>
                    </a:lnTo>
                    <a:lnTo>
                      <a:pt x="709" y="333"/>
                    </a:lnTo>
                    <a:lnTo>
                      <a:pt x="704" y="342"/>
                    </a:lnTo>
                    <a:lnTo>
                      <a:pt x="700" y="352"/>
                    </a:lnTo>
                    <a:lnTo>
                      <a:pt x="694" y="362"/>
                    </a:lnTo>
                    <a:lnTo>
                      <a:pt x="691" y="374"/>
                    </a:lnTo>
                    <a:lnTo>
                      <a:pt x="684" y="385"/>
                    </a:lnTo>
                    <a:lnTo>
                      <a:pt x="680" y="397"/>
                    </a:lnTo>
                    <a:lnTo>
                      <a:pt x="676" y="409"/>
                    </a:lnTo>
                    <a:lnTo>
                      <a:pt x="672" y="425"/>
                    </a:lnTo>
                    <a:lnTo>
                      <a:pt x="669" y="438"/>
                    </a:lnTo>
                    <a:lnTo>
                      <a:pt x="667" y="452"/>
                    </a:lnTo>
                    <a:lnTo>
                      <a:pt x="667" y="468"/>
                    </a:lnTo>
                    <a:lnTo>
                      <a:pt x="668" y="484"/>
                    </a:lnTo>
                    <a:lnTo>
                      <a:pt x="669" y="492"/>
                    </a:lnTo>
                    <a:lnTo>
                      <a:pt x="672" y="501"/>
                    </a:lnTo>
                    <a:lnTo>
                      <a:pt x="678" y="511"/>
                    </a:lnTo>
                    <a:lnTo>
                      <a:pt x="687" y="523"/>
                    </a:lnTo>
                    <a:lnTo>
                      <a:pt x="695" y="535"/>
                    </a:lnTo>
                    <a:lnTo>
                      <a:pt x="705" y="547"/>
                    </a:lnTo>
                    <a:lnTo>
                      <a:pt x="716" y="559"/>
                    </a:lnTo>
                    <a:lnTo>
                      <a:pt x="729" y="573"/>
                    </a:lnTo>
                    <a:lnTo>
                      <a:pt x="740" y="584"/>
                    </a:lnTo>
                    <a:lnTo>
                      <a:pt x="751" y="595"/>
                    </a:lnTo>
                    <a:lnTo>
                      <a:pt x="761" y="604"/>
                    </a:lnTo>
                    <a:lnTo>
                      <a:pt x="771" y="614"/>
                    </a:lnTo>
                    <a:lnTo>
                      <a:pt x="777" y="621"/>
                    </a:lnTo>
                    <a:lnTo>
                      <a:pt x="784" y="627"/>
                    </a:lnTo>
                    <a:lnTo>
                      <a:pt x="787" y="630"/>
                    </a:lnTo>
                    <a:lnTo>
                      <a:pt x="789" y="632"/>
                    </a:lnTo>
                    <a:lnTo>
                      <a:pt x="506" y="671"/>
                    </a:lnTo>
                    <a:lnTo>
                      <a:pt x="407" y="566"/>
                    </a:lnTo>
                    <a:lnTo>
                      <a:pt x="4" y="347"/>
                    </a:lnTo>
                    <a:lnTo>
                      <a:pt x="0" y="257"/>
                    </a:lnTo>
                    <a:lnTo>
                      <a:pt x="0" y="257"/>
                    </a:lnTo>
                    <a:close/>
                  </a:path>
                </a:pathLst>
              </a:custGeom>
              <a:solidFill>
                <a:srgbClr val="cf8f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H="1">
                <a:off x="1789560" y="5625720"/>
                <a:ext cx="195480" cy="202320"/>
              </a:xfrm>
              <a:custGeom>
                <a:avLst/>
                <a:gdLst/>
                <a:ahLst/>
                <a:rect l="l" t="t" r="r" b="b"/>
                <a:pathLst>
                  <a:path w="448" h="534">
                    <a:moveTo>
                      <a:pt x="183" y="534"/>
                    </a:moveTo>
                    <a:lnTo>
                      <a:pt x="0" y="440"/>
                    </a:lnTo>
                    <a:lnTo>
                      <a:pt x="58" y="269"/>
                    </a:lnTo>
                    <a:lnTo>
                      <a:pt x="107" y="148"/>
                    </a:lnTo>
                    <a:lnTo>
                      <a:pt x="179" y="64"/>
                    </a:lnTo>
                    <a:lnTo>
                      <a:pt x="274" y="6"/>
                    </a:lnTo>
                    <a:lnTo>
                      <a:pt x="370" y="0"/>
                    </a:lnTo>
                    <a:lnTo>
                      <a:pt x="448" y="12"/>
                    </a:lnTo>
                    <a:lnTo>
                      <a:pt x="399" y="328"/>
                    </a:lnTo>
                    <a:lnTo>
                      <a:pt x="273" y="376"/>
                    </a:lnTo>
                    <a:lnTo>
                      <a:pt x="183" y="534"/>
                    </a:lnTo>
                    <a:lnTo>
                      <a:pt x="183" y="534"/>
                    </a:lnTo>
                    <a:close/>
                  </a:path>
                </a:pathLst>
              </a:custGeom>
              <a:solidFill>
                <a:srgbClr val="f79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H="1">
                <a:off x="1816560" y="5678640"/>
                <a:ext cx="108360" cy="51480"/>
              </a:xfrm>
              <a:custGeom>
                <a:avLst/>
                <a:gdLst/>
                <a:ahLst/>
                <a:rect l="l" t="t" r="r" b="b"/>
                <a:pathLst>
                  <a:path w="251" h="136">
                    <a:moveTo>
                      <a:pt x="0" y="18"/>
                    </a:moveTo>
                    <a:lnTo>
                      <a:pt x="59" y="0"/>
                    </a:lnTo>
                    <a:lnTo>
                      <a:pt x="145" y="13"/>
                    </a:lnTo>
                    <a:lnTo>
                      <a:pt x="251" y="61"/>
                    </a:lnTo>
                    <a:lnTo>
                      <a:pt x="251" y="136"/>
                    </a:lnTo>
                    <a:lnTo>
                      <a:pt x="131" y="128"/>
                    </a:lnTo>
                    <a:lnTo>
                      <a:pt x="52" y="77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7f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flipH="1">
                <a:off x="1756800" y="5590800"/>
                <a:ext cx="297720" cy="248040"/>
              </a:xfrm>
              <a:custGeom>
                <a:avLst/>
                <a:gdLst/>
                <a:ahLst/>
                <a:rect l="l" t="t" r="r" b="b"/>
                <a:pathLst>
                  <a:path w="686" h="655">
                    <a:moveTo>
                      <a:pt x="354" y="0"/>
                    </a:moveTo>
                    <a:lnTo>
                      <a:pt x="352" y="0"/>
                    </a:lnTo>
                    <a:lnTo>
                      <a:pt x="343" y="3"/>
                    </a:lnTo>
                    <a:lnTo>
                      <a:pt x="330" y="7"/>
                    </a:lnTo>
                    <a:lnTo>
                      <a:pt x="312" y="14"/>
                    </a:lnTo>
                    <a:lnTo>
                      <a:pt x="291" y="21"/>
                    </a:lnTo>
                    <a:lnTo>
                      <a:pt x="267" y="32"/>
                    </a:lnTo>
                    <a:lnTo>
                      <a:pt x="240" y="46"/>
                    </a:lnTo>
                    <a:lnTo>
                      <a:pt x="214" y="63"/>
                    </a:lnTo>
                    <a:lnTo>
                      <a:pt x="183" y="82"/>
                    </a:lnTo>
                    <a:lnTo>
                      <a:pt x="154" y="105"/>
                    </a:lnTo>
                    <a:lnTo>
                      <a:pt x="124" y="132"/>
                    </a:lnTo>
                    <a:lnTo>
                      <a:pt x="95" y="162"/>
                    </a:lnTo>
                    <a:lnTo>
                      <a:pt x="68" y="195"/>
                    </a:lnTo>
                    <a:lnTo>
                      <a:pt x="42" y="233"/>
                    </a:lnTo>
                    <a:lnTo>
                      <a:pt x="19" y="275"/>
                    </a:lnTo>
                    <a:lnTo>
                      <a:pt x="0" y="322"/>
                    </a:lnTo>
                    <a:lnTo>
                      <a:pt x="51" y="420"/>
                    </a:lnTo>
                    <a:lnTo>
                      <a:pt x="36" y="458"/>
                    </a:lnTo>
                    <a:lnTo>
                      <a:pt x="108" y="542"/>
                    </a:lnTo>
                    <a:lnTo>
                      <a:pt x="103" y="589"/>
                    </a:lnTo>
                    <a:lnTo>
                      <a:pt x="188" y="655"/>
                    </a:lnTo>
                    <a:lnTo>
                      <a:pt x="187" y="647"/>
                    </a:lnTo>
                    <a:lnTo>
                      <a:pt x="187" y="628"/>
                    </a:lnTo>
                    <a:lnTo>
                      <a:pt x="187" y="600"/>
                    </a:lnTo>
                    <a:lnTo>
                      <a:pt x="190" y="563"/>
                    </a:lnTo>
                    <a:lnTo>
                      <a:pt x="195" y="519"/>
                    </a:lnTo>
                    <a:lnTo>
                      <a:pt x="202" y="470"/>
                    </a:lnTo>
                    <a:lnTo>
                      <a:pt x="211" y="418"/>
                    </a:lnTo>
                    <a:lnTo>
                      <a:pt x="227" y="366"/>
                    </a:lnTo>
                    <a:lnTo>
                      <a:pt x="244" y="312"/>
                    </a:lnTo>
                    <a:lnTo>
                      <a:pt x="268" y="264"/>
                    </a:lnTo>
                    <a:lnTo>
                      <a:pt x="298" y="217"/>
                    </a:lnTo>
                    <a:lnTo>
                      <a:pt x="334" y="176"/>
                    </a:lnTo>
                    <a:lnTo>
                      <a:pt x="377" y="143"/>
                    </a:lnTo>
                    <a:lnTo>
                      <a:pt x="428" y="119"/>
                    </a:lnTo>
                    <a:lnTo>
                      <a:pt x="487" y="107"/>
                    </a:lnTo>
                    <a:lnTo>
                      <a:pt x="556" y="108"/>
                    </a:lnTo>
                    <a:lnTo>
                      <a:pt x="574" y="123"/>
                    </a:lnTo>
                    <a:lnTo>
                      <a:pt x="573" y="124"/>
                    </a:lnTo>
                    <a:lnTo>
                      <a:pt x="573" y="128"/>
                    </a:lnTo>
                    <a:lnTo>
                      <a:pt x="571" y="134"/>
                    </a:lnTo>
                    <a:lnTo>
                      <a:pt x="571" y="143"/>
                    </a:lnTo>
                    <a:lnTo>
                      <a:pt x="569" y="153"/>
                    </a:lnTo>
                    <a:lnTo>
                      <a:pt x="566" y="165"/>
                    </a:lnTo>
                    <a:lnTo>
                      <a:pt x="563" y="177"/>
                    </a:lnTo>
                    <a:lnTo>
                      <a:pt x="560" y="192"/>
                    </a:lnTo>
                    <a:lnTo>
                      <a:pt x="555" y="204"/>
                    </a:lnTo>
                    <a:lnTo>
                      <a:pt x="551" y="217"/>
                    </a:lnTo>
                    <a:lnTo>
                      <a:pt x="546" y="228"/>
                    </a:lnTo>
                    <a:lnTo>
                      <a:pt x="542" y="240"/>
                    </a:lnTo>
                    <a:lnTo>
                      <a:pt x="536" y="249"/>
                    </a:lnTo>
                    <a:lnTo>
                      <a:pt x="530" y="257"/>
                    </a:lnTo>
                    <a:lnTo>
                      <a:pt x="523" y="264"/>
                    </a:lnTo>
                    <a:lnTo>
                      <a:pt x="515" y="267"/>
                    </a:lnTo>
                    <a:lnTo>
                      <a:pt x="513" y="265"/>
                    </a:lnTo>
                    <a:lnTo>
                      <a:pt x="504" y="261"/>
                    </a:lnTo>
                    <a:lnTo>
                      <a:pt x="499" y="258"/>
                    </a:lnTo>
                    <a:lnTo>
                      <a:pt x="493" y="255"/>
                    </a:lnTo>
                    <a:lnTo>
                      <a:pt x="488" y="252"/>
                    </a:lnTo>
                    <a:lnTo>
                      <a:pt x="481" y="250"/>
                    </a:lnTo>
                    <a:lnTo>
                      <a:pt x="475" y="247"/>
                    </a:lnTo>
                    <a:lnTo>
                      <a:pt x="468" y="244"/>
                    </a:lnTo>
                    <a:lnTo>
                      <a:pt x="461" y="240"/>
                    </a:lnTo>
                    <a:lnTo>
                      <a:pt x="457" y="239"/>
                    </a:lnTo>
                    <a:lnTo>
                      <a:pt x="447" y="235"/>
                    </a:lnTo>
                    <a:lnTo>
                      <a:pt x="443" y="234"/>
                    </a:lnTo>
                    <a:lnTo>
                      <a:pt x="437" y="236"/>
                    </a:lnTo>
                    <a:lnTo>
                      <a:pt x="434" y="244"/>
                    </a:lnTo>
                    <a:lnTo>
                      <a:pt x="430" y="249"/>
                    </a:lnTo>
                    <a:lnTo>
                      <a:pt x="428" y="255"/>
                    </a:lnTo>
                    <a:lnTo>
                      <a:pt x="426" y="262"/>
                    </a:lnTo>
                    <a:lnTo>
                      <a:pt x="426" y="270"/>
                    </a:lnTo>
                    <a:lnTo>
                      <a:pt x="424" y="276"/>
                    </a:lnTo>
                    <a:lnTo>
                      <a:pt x="425" y="285"/>
                    </a:lnTo>
                    <a:lnTo>
                      <a:pt x="425" y="290"/>
                    </a:lnTo>
                    <a:lnTo>
                      <a:pt x="428" y="299"/>
                    </a:lnTo>
                    <a:lnTo>
                      <a:pt x="431" y="304"/>
                    </a:lnTo>
                    <a:lnTo>
                      <a:pt x="437" y="310"/>
                    </a:lnTo>
                    <a:lnTo>
                      <a:pt x="444" y="314"/>
                    </a:lnTo>
                    <a:lnTo>
                      <a:pt x="452" y="320"/>
                    </a:lnTo>
                    <a:lnTo>
                      <a:pt x="460" y="321"/>
                    </a:lnTo>
                    <a:lnTo>
                      <a:pt x="469" y="323"/>
                    </a:lnTo>
                    <a:lnTo>
                      <a:pt x="477" y="323"/>
                    </a:lnTo>
                    <a:lnTo>
                      <a:pt x="483" y="324"/>
                    </a:lnTo>
                    <a:lnTo>
                      <a:pt x="490" y="323"/>
                    </a:lnTo>
                    <a:lnTo>
                      <a:pt x="496" y="322"/>
                    </a:lnTo>
                    <a:lnTo>
                      <a:pt x="500" y="321"/>
                    </a:lnTo>
                    <a:lnTo>
                      <a:pt x="504" y="320"/>
                    </a:lnTo>
                    <a:lnTo>
                      <a:pt x="511" y="314"/>
                    </a:lnTo>
                    <a:lnTo>
                      <a:pt x="517" y="311"/>
                    </a:lnTo>
                    <a:lnTo>
                      <a:pt x="519" y="308"/>
                    </a:lnTo>
                    <a:lnTo>
                      <a:pt x="521" y="308"/>
                    </a:lnTo>
                    <a:lnTo>
                      <a:pt x="523" y="310"/>
                    </a:lnTo>
                    <a:lnTo>
                      <a:pt x="529" y="317"/>
                    </a:lnTo>
                    <a:lnTo>
                      <a:pt x="532" y="321"/>
                    </a:lnTo>
                    <a:lnTo>
                      <a:pt x="535" y="329"/>
                    </a:lnTo>
                    <a:lnTo>
                      <a:pt x="536" y="338"/>
                    </a:lnTo>
                    <a:lnTo>
                      <a:pt x="538" y="348"/>
                    </a:lnTo>
                    <a:lnTo>
                      <a:pt x="536" y="348"/>
                    </a:lnTo>
                    <a:lnTo>
                      <a:pt x="532" y="351"/>
                    </a:lnTo>
                    <a:lnTo>
                      <a:pt x="528" y="351"/>
                    </a:lnTo>
                    <a:lnTo>
                      <a:pt x="525" y="353"/>
                    </a:lnTo>
                    <a:lnTo>
                      <a:pt x="520" y="355"/>
                    </a:lnTo>
                    <a:lnTo>
                      <a:pt x="514" y="356"/>
                    </a:lnTo>
                    <a:lnTo>
                      <a:pt x="508" y="357"/>
                    </a:lnTo>
                    <a:lnTo>
                      <a:pt x="501" y="359"/>
                    </a:lnTo>
                    <a:lnTo>
                      <a:pt x="492" y="360"/>
                    </a:lnTo>
                    <a:lnTo>
                      <a:pt x="485" y="362"/>
                    </a:lnTo>
                    <a:lnTo>
                      <a:pt x="473" y="362"/>
                    </a:lnTo>
                    <a:lnTo>
                      <a:pt x="464" y="363"/>
                    </a:lnTo>
                    <a:lnTo>
                      <a:pt x="451" y="363"/>
                    </a:lnTo>
                    <a:lnTo>
                      <a:pt x="439" y="363"/>
                    </a:lnTo>
                    <a:lnTo>
                      <a:pt x="429" y="364"/>
                    </a:lnTo>
                    <a:lnTo>
                      <a:pt x="423" y="371"/>
                    </a:lnTo>
                    <a:lnTo>
                      <a:pt x="418" y="375"/>
                    </a:lnTo>
                    <a:lnTo>
                      <a:pt x="415" y="382"/>
                    </a:lnTo>
                    <a:lnTo>
                      <a:pt x="412" y="388"/>
                    </a:lnTo>
                    <a:lnTo>
                      <a:pt x="410" y="396"/>
                    </a:lnTo>
                    <a:lnTo>
                      <a:pt x="407" y="403"/>
                    </a:lnTo>
                    <a:lnTo>
                      <a:pt x="405" y="412"/>
                    </a:lnTo>
                    <a:lnTo>
                      <a:pt x="403" y="419"/>
                    </a:lnTo>
                    <a:lnTo>
                      <a:pt x="402" y="428"/>
                    </a:lnTo>
                    <a:lnTo>
                      <a:pt x="400" y="437"/>
                    </a:lnTo>
                    <a:lnTo>
                      <a:pt x="400" y="446"/>
                    </a:lnTo>
                    <a:lnTo>
                      <a:pt x="400" y="455"/>
                    </a:lnTo>
                    <a:lnTo>
                      <a:pt x="400" y="464"/>
                    </a:lnTo>
                    <a:lnTo>
                      <a:pt x="398" y="472"/>
                    </a:lnTo>
                    <a:lnTo>
                      <a:pt x="396" y="481"/>
                    </a:lnTo>
                    <a:lnTo>
                      <a:pt x="392" y="491"/>
                    </a:lnTo>
                    <a:lnTo>
                      <a:pt x="389" y="503"/>
                    </a:lnTo>
                    <a:lnTo>
                      <a:pt x="383" y="514"/>
                    </a:lnTo>
                    <a:lnTo>
                      <a:pt x="377" y="527"/>
                    </a:lnTo>
                    <a:lnTo>
                      <a:pt x="371" y="538"/>
                    </a:lnTo>
                    <a:lnTo>
                      <a:pt x="365" y="550"/>
                    </a:lnTo>
                    <a:lnTo>
                      <a:pt x="356" y="559"/>
                    </a:lnTo>
                    <a:lnTo>
                      <a:pt x="349" y="569"/>
                    </a:lnTo>
                    <a:lnTo>
                      <a:pt x="340" y="576"/>
                    </a:lnTo>
                    <a:lnTo>
                      <a:pt x="331" y="584"/>
                    </a:lnTo>
                    <a:lnTo>
                      <a:pt x="321" y="587"/>
                    </a:lnTo>
                    <a:lnTo>
                      <a:pt x="312" y="592"/>
                    </a:lnTo>
                    <a:lnTo>
                      <a:pt x="302" y="592"/>
                    </a:lnTo>
                    <a:lnTo>
                      <a:pt x="293" y="591"/>
                    </a:lnTo>
                    <a:lnTo>
                      <a:pt x="282" y="587"/>
                    </a:lnTo>
                    <a:lnTo>
                      <a:pt x="274" y="584"/>
                    </a:lnTo>
                    <a:lnTo>
                      <a:pt x="265" y="580"/>
                    </a:lnTo>
                    <a:lnTo>
                      <a:pt x="259" y="576"/>
                    </a:lnTo>
                    <a:lnTo>
                      <a:pt x="252" y="572"/>
                    </a:lnTo>
                    <a:lnTo>
                      <a:pt x="247" y="568"/>
                    </a:lnTo>
                    <a:lnTo>
                      <a:pt x="241" y="565"/>
                    </a:lnTo>
                    <a:lnTo>
                      <a:pt x="239" y="562"/>
                    </a:lnTo>
                    <a:lnTo>
                      <a:pt x="231" y="554"/>
                    </a:lnTo>
                    <a:lnTo>
                      <a:pt x="228" y="550"/>
                    </a:lnTo>
                    <a:lnTo>
                      <a:pt x="227" y="545"/>
                    </a:lnTo>
                    <a:lnTo>
                      <a:pt x="221" y="561"/>
                    </a:lnTo>
                    <a:lnTo>
                      <a:pt x="223" y="562"/>
                    </a:lnTo>
                    <a:lnTo>
                      <a:pt x="228" y="568"/>
                    </a:lnTo>
                    <a:lnTo>
                      <a:pt x="238" y="575"/>
                    </a:lnTo>
                    <a:lnTo>
                      <a:pt x="251" y="585"/>
                    </a:lnTo>
                    <a:lnTo>
                      <a:pt x="266" y="595"/>
                    </a:lnTo>
                    <a:lnTo>
                      <a:pt x="284" y="607"/>
                    </a:lnTo>
                    <a:lnTo>
                      <a:pt x="304" y="617"/>
                    </a:lnTo>
                    <a:lnTo>
                      <a:pt x="326" y="627"/>
                    </a:lnTo>
                    <a:lnTo>
                      <a:pt x="349" y="634"/>
                    </a:lnTo>
                    <a:lnTo>
                      <a:pt x="373" y="637"/>
                    </a:lnTo>
                    <a:lnTo>
                      <a:pt x="397" y="636"/>
                    </a:lnTo>
                    <a:lnTo>
                      <a:pt x="423" y="633"/>
                    </a:lnTo>
                    <a:lnTo>
                      <a:pt x="446" y="623"/>
                    </a:lnTo>
                    <a:lnTo>
                      <a:pt x="470" y="606"/>
                    </a:lnTo>
                    <a:lnTo>
                      <a:pt x="492" y="583"/>
                    </a:lnTo>
                    <a:lnTo>
                      <a:pt x="515" y="552"/>
                    </a:lnTo>
                    <a:lnTo>
                      <a:pt x="514" y="549"/>
                    </a:lnTo>
                    <a:lnTo>
                      <a:pt x="508" y="544"/>
                    </a:lnTo>
                    <a:lnTo>
                      <a:pt x="503" y="541"/>
                    </a:lnTo>
                    <a:lnTo>
                      <a:pt x="498" y="539"/>
                    </a:lnTo>
                    <a:lnTo>
                      <a:pt x="492" y="535"/>
                    </a:lnTo>
                    <a:lnTo>
                      <a:pt x="487" y="533"/>
                    </a:lnTo>
                    <a:lnTo>
                      <a:pt x="479" y="530"/>
                    </a:lnTo>
                    <a:lnTo>
                      <a:pt x="472" y="527"/>
                    </a:lnTo>
                    <a:lnTo>
                      <a:pt x="467" y="522"/>
                    </a:lnTo>
                    <a:lnTo>
                      <a:pt x="461" y="519"/>
                    </a:lnTo>
                    <a:lnTo>
                      <a:pt x="451" y="511"/>
                    </a:lnTo>
                    <a:lnTo>
                      <a:pt x="446" y="505"/>
                    </a:lnTo>
                    <a:lnTo>
                      <a:pt x="546" y="530"/>
                    </a:lnTo>
                    <a:lnTo>
                      <a:pt x="566" y="468"/>
                    </a:lnTo>
                    <a:lnTo>
                      <a:pt x="569" y="468"/>
                    </a:lnTo>
                    <a:lnTo>
                      <a:pt x="574" y="471"/>
                    </a:lnTo>
                    <a:lnTo>
                      <a:pt x="577" y="472"/>
                    </a:lnTo>
                    <a:lnTo>
                      <a:pt x="583" y="475"/>
                    </a:lnTo>
                    <a:lnTo>
                      <a:pt x="588" y="477"/>
                    </a:lnTo>
                    <a:lnTo>
                      <a:pt x="595" y="480"/>
                    </a:lnTo>
                    <a:lnTo>
                      <a:pt x="599" y="481"/>
                    </a:lnTo>
                    <a:lnTo>
                      <a:pt x="606" y="484"/>
                    </a:lnTo>
                    <a:lnTo>
                      <a:pt x="612" y="485"/>
                    </a:lnTo>
                    <a:lnTo>
                      <a:pt x="617" y="487"/>
                    </a:lnTo>
                    <a:lnTo>
                      <a:pt x="623" y="488"/>
                    </a:lnTo>
                    <a:lnTo>
                      <a:pt x="628" y="489"/>
                    </a:lnTo>
                    <a:lnTo>
                      <a:pt x="634" y="489"/>
                    </a:lnTo>
                    <a:lnTo>
                      <a:pt x="639" y="489"/>
                    </a:lnTo>
                    <a:lnTo>
                      <a:pt x="640" y="486"/>
                    </a:lnTo>
                    <a:lnTo>
                      <a:pt x="643" y="482"/>
                    </a:lnTo>
                    <a:lnTo>
                      <a:pt x="643" y="476"/>
                    </a:lnTo>
                    <a:lnTo>
                      <a:pt x="644" y="469"/>
                    </a:lnTo>
                    <a:lnTo>
                      <a:pt x="641" y="459"/>
                    </a:lnTo>
                    <a:lnTo>
                      <a:pt x="640" y="449"/>
                    </a:lnTo>
                    <a:lnTo>
                      <a:pt x="638" y="439"/>
                    </a:lnTo>
                    <a:lnTo>
                      <a:pt x="636" y="429"/>
                    </a:lnTo>
                    <a:lnTo>
                      <a:pt x="632" y="417"/>
                    </a:lnTo>
                    <a:lnTo>
                      <a:pt x="628" y="407"/>
                    </a:lnTo>
                    <a:lnTo>
                      <a:pt x="626" y="397"/>
                    </a:lnTo>
                    <a:lnTo>
                      <a:pt x="624" y="388"/>
                    </a:lnTo>
                    <a:lnTo>
                      <a:pt x="620" y="378"/>
                    </a:lnTo>
                    <a:lnTo>
                      <a:pt x="618" y="372"/>
                    </a:lnTo>
                    <a:lnTo>
                      <a:pt x="617" y="366"/>
                    </a:lnTo>
                    <a:lnTo>
                      <a:pt x="617" y="364"/>
                    </a:lnTo>
                    <a:lnTo>
                      <a:pt x="617" y="360"/>
                    </a:lnTo>
                    <a:lnTo>
                      <a:pt x="622" y="354"/>
                    </a:lnTo>
                    <a:lnTo>
                      <a:pt x="627" y="346"/>
                    </a:lnTo>
                    <a:lnTo>
                      <a:pt x="635" y="339"/>
                    </a:lnTo>
                    <a:lnTo>
                      <a:pt x="643" y="328"/>
                    </a:lnTo>
                    <a:lnTo>
                      <a:pt x="651" y="315"/>
                    </a:lnTo>
                    <a:lnTo>
                      <a:pt x="661" y="302"/>
                    </a:lnTo>
                    <a:lnTo>
                      <a:pt x="670" y="288"/>
                    </a:lnTo>
                    <a:lnTo>
                      <a:pt x="676" y="271"/>
                    </a:lnTo>
                    <a:lnTo>
                      <a:pt x="682" y="254"/>
                    </a:lnTo>
                    <a:lnTo>
                      <a:pt x="686" y="235"/>
                    </a:lnTo>
                    <a:lnTo>
                      <a:pt x="686" y="216"/>
                    </a:lnTo>
                    <a:lnTo>
                      <a:pt x="684" y="194"/>
                    </a:lnTo>
                    <a:lnTo>
                      <a:pt x="677" y="173"/>
                    </a:lnTo>
                    <a:lnTo>
                      <a:pt x="666" y="151"/>
                    </a:lnTo>
                    <a:lnTo>
                      <a:pt x="651" y="129"/>
                    </a:lnTo>
                    <a:lnTo>
                      <a:pt x="674" y="88"/>
                    </a:lnTo>
                    <a:lnTo>
                      <a:pt x="672" y="86"/>
                    </a:lnTo>
                    <a:lnTo>
                      <a:pt x="670" y="83"/>
                    </a:lnTo>
                    <a:lnTo>
                      <a:pt x="666" y="78"/>
                    </a:lnTo>
                    <a:lnTo>
                      <a:pt x="661" y="73"/>
                    </a:lnTo>
                    <a:lnTo>
                      <a:pt x="654" y="67"/>
                    </a:lnTo>
                    <a:lnTo>
                      <a:pt x="646" y="60"/>
                    </a:lnTo>
                    <a:lnTo>
                      <a:pt x="636" y="52"/>
                    </a:lnTo>
                    <a:lnTo>
                      <a:pt x="626" y="45"/>
                    </a:lnTo>
                    <a:lnTo>
                      <a:pt x="613" y="36"/>
                    </a:lnTo>
                    <a:lnTo>
                      <a:pt x="599" y="29"/>
                    </a:lnTo>
                    <a:lnTo>
                      <a:pt x="584" y="21"/>
                    </a:lnTo>
                    <a:lnTo>
                      <a:pt x="570" y="16"/>
                    </a:lnTo>
                    <a:lnTo>
                      <a:pt x="551" y="9"/>
                    </a:lnTo>
                    <a:lnTo>
                      <a:pt x="533" y="6"/>
                    </a:lnTo>
                    <a:lnTo>
                      <a:pt x="513" y="3"/>
                    </a:lnTo>
                    <a:lnTo>
                      <a:pt x="492" y="3"/>
                    </a:lnTo>
                    <a:lnTo>
                      <a:pt x="496" y="4"/>
                    </a:lnTo>
                    <a:lnTo>
                      <a:pt x="500" y="5"/>
                    </a:lnTo>
                    <a:lnTo>
                      <a:pt x="507" y="8"/>
                    </a:lnTo>
                    <a:lnTo>
                      <a:pt x="513" y="9"/>
                    </a:lnTo>
                    <a:lnTo>
                      <a:pt x="522" y="13"/>
                    </a:lnTo>
                    <a:lnTo>
                      <a:pt x="531" y="17"/>
                    </a:lnTo>
                    <a:lnTo>
                      <a:pt x="541" y="21"/>
                    </a:lnTo>
                    <a:lnTo>
                      <a:pt x="550" y="26"/>
                    </a:lnTo>
                    <a:lnTo>
                      <a:pt x="560" y="31"/>
                    </a:lnTo>
                    <a:lnTo>
                      <a:pt x="570" y="36"/>
                    </a:lnTo>
                    <a:lnTo>
                      <a:pt x="580" y="42"/>
                    </a:lnTo>
                    <a:lnTo>
                      <a:pt x="587" y="48"/>
                    </a:lnTo>
                    <a:lnTo>
                      <a:pt x="596" y="55"/>
                    </a:lnTo>
                    <a:lnTo>
                      <a:pt x="604" y="61"/>
                    </a:lnTo>
                    <a:lnTo>
                      <a:pt x="611" y="69"/>
                    </a:lnTo>
                    <a:lnTo>
                      <a:pt x="607" y="67"/>
                    </a:lnTo>
                    <a:lnTo>
                      <a:pt x="599" y="66"/>
                    </a:lnTo>
                    <a:lnTo>
                      <a:pt x="594" y="63"/>
                    </a:lnTo>
                    <a:lnTo>
                      <a:pt x="588" y="62"/>
                    </a:lnTo>
                    <a:lnTo>
                      <a:pt x="583" y="60"/>
                    </a:lnTo>
                    <a:lnTo>
                      <a:pt x="576" y="59"/>
                    </a:lnTo>
                    <a:lnTo>
                      <a:pt x="570" y="56"/>
                    </a:lnTo>
                    <a:lnTo>
                      <a:pt x="562" y="55"/>
                    </a:lnTo>
                    <a:lnTo>
                      <a:pt x="555" y="53"/>
                    </a:lnTo>
                    <a:lnTo>
                      <a:pt x="549" y="52"/>
                    </a:lnTo>
                    <a:lnTo>
                      <a:pt x="542" y="50"/>
                    </a:lnTo>
                    <a:lnTo>
                      <a:pt x="538" y="49"/>
                    </a:lnTo>
                    <a:lnTo>
                      <a:pt x="531" y="49"/>
                    </a:lnTo>
                    <a:lnTo>
                      <a:pt x="528" y="49"/>
                    </a:lnTo>
                    <a:lnTo>
                      <a:pt x="524" y="62"/>
                    </a:lnTo>
                    <a:lnTo>
                      <a:pt x="527" y="62"/>
                    </a:lnTo>
                    <a:lnTo>
                      <a:pt x="536" y="63"/>
                    </a:lnTo>
                    <a:lnTo>
                      <a:pt x="542" y="63"/>
                    </a:lnTo>
                    <a:lnTo>
                      <a:pt x="549" y="65"/>
                    </a:lnTo>
                    <a:lnTo>
                      <a:pt x="556" y="66"/>
                    </a:lnTo>
                    <a:lnTo>
                      <a:pt x="565" y="68"/>
                    </a:lnTo>
                    <a:lnTo>
                      <a:pt x="573" y="69"/>
                    </a:lnTo>
                    <a:lnTo>
                      <a:pt x="582" y="72"/>
                    </a:lnTo>
                    <a:lnTo>
                      <a:pt x="590" y="76"/>
                    </a:lnTo>
                    <a:lnTo>
                      <a:pt x="597" y="78"/>
                    </a:lnTo>
                    <a:lnTo>
                      <a:pt x="604" y="81"/>
                    </a:lnTo>
                    <a:lnTo>
                      <a:pt x="611" y="86"/>
                    </a:lnTo>
                    <a:lnTo>
                      <a:pt x="616" y="90"/>
                    </a:lnTo>
                    <a:lnTo>
                      <a:pt x="619" y="95"/>
                    </a:lnTo>
                    <a:lnTo>
                      <a:pt x="616" y="93"/>
                    </a:lnTo>
                    <a:lnTo>
                      <a:pt x="606" y="91"/>
                    </a:lnTo>
                    <a:lnTo>
                      <a:pt x="592" y="88"/>
                    </a:lnTo>
                    <a:lnTo>
                      <a:pt x="572" y="84"/>
                    </a:lnTo>
                    <a:lnTo>
                      <a:pt x="549" y="81"/>
                    </a:lnTo>
                    <a:lnTo>
                      <a:pt x="522" y="80"/>
                    </a:lnTo>
                    <a:lnTo>
                      <a:pt x="492" y="82"/>
                    </a:lnTo>
                    <a:lnTo>
                      <a:pt x="461" y="89"/>
                    </a:lnTo>
                    <a:lnTo>
                      <a:pt x="427" y="97"/>
                    </a:lnTo>
                    <a:lnTo>
                      <a:pt x="393" y="112"/>
                    </a:lnTo>
                    <a:lnTo>
                      <a:pt x="358" y="132"/>
                    </a:lnTo>
                    <a:lnTo>
                      <a:pt x="325" y="160"/>
                    </a:lnTo>
                    <a:lnTo>
                      <a:pt x="292" y="194"/>
                    </a:lnTo>
                    <a:lnTo>
                      <a:pt x="262" y="239"/>
                    </a:lnTo>
                    <a:lnTo>
                      <a:pt x="234" y="291"/>
                    </a:lnTo>
                    <a:lnTo>
                      <a:pt x="209" y="356"/>
                    </a:lnTo>
                    <a:lnTo>
                      <a:pt x="208" y="354"/>
                    </a:lnTo>
                    <a:lnTo>
                      <a:pt x="208" y="349"/>
                    </a:lnTo>
                    <a:lnTo>
                      <a:pt x="207" y="341"/>
                    </a:lnTo>
                    <a:lnTo>
                      <a:pt x="208" y="332"/>
                    </a:lnTo>
                    <a:lnTo>
                      <a:pt x="208" y="319"/>
                    </a:lnTo>
                    <a:lnTo>
                      <a:pt x="211" y="304"/>
                    </a:lnTo>
                    <a:lnTo>
                      <a:pt x="215" y="288"/>
                    </a:lnTo>
                    <a:lnTo>
                      <a:pt x="220" y="271"/>
                    </a:lnTo>
                    <a:lnTo>
                      <a:pt x="227" y="252"/>
                    </a:lnTo>
                    <a:lnTo>
                      <a:pt x="237" y="231"/>
                    </a:lnTo>
                    <a:lnTo>
                      <a:pt x="249" y="210"/>
                    </a:lnTo>
                    <a:lnTo>
                      <a:pt x="265" y="191"/>
                    </a:lnTo>
                    <a:lnTo>
                      <a:pt x="283" y="168"/>
                    </a:lnTo>
                    <a:lnTo>
                      <a:pt x="307" y="147"/>
                    </a:lnTo>
                    <a:lnTo>
                      <a:pt x="331" y="125"/>
                    </a:lnTo>
                    <a:lnTo>
                      <a:pt x="363" y="105"/>
                    </a:lnTo>
                    <a:lnTo>
                      <a:pt x="342" y="94"/>
                    </a:lnTo>
                    <a:lnTo>
                      <a:pt x="339" y="95"/>
                    </a:lnTo>
                    <a:lnTo>
                      <a:pt x="333" y="100"/>
                    </a:lnTo>
                    <a:lnTo>
                      <a:pt x="324" y="104"/>
                    </a:lnTo>
                    <a:lnTo>
                      <a:pt x="314" y="113"/>
                    </a:lnTo>
                    <a:lnTo>
                      <a:pt x="301" y="124"/>
                    </a:lnTo>
                    <a:lnTo>
                      <a:pt x="287" y="136"/>
                    </a:lnTo>
                    <a:lnTo>
                      <a:pt x="271" y="152"/>
                    </a:lnTo>
                    <a:lnTo>
                      <a:pt x="255" y="171"/>
                    </a:lnTo>
                    <a:lnTo>
                      <a:pt x="238" y="187"/>
                    </a:lnTo>
                    <a:lnTo>
                      <a:pt x="220" y="208"/>
                    </a:lnTo>
                    <a:lnTo>
                      <a:pt x="205" y="229"/>
                    </a:lnTo>
                    <a:lnTo>
                      <a:pt x="190" y="254"/>
                    </a:lnTo>
                    <a:lnTo>
                      <a:pt x="176" y="278"/>
                    </a:lnTo>
                    <a:lnTo>
                      <a:pt x="165" y="304"/>
                    </a:lnTo>
                    <a:lnTo>
                      <a:pt x="156" y="332"/>
                    </a:lnTo>
                    <a:lnTo>
                      <a:pt x="150" y="361"/>
                    </a:lnTo>
                    <a:lnTo>
                      <a:pt x="150" y="359"/>
                    </a:lnTo>
                    <a:lnTo>
                      <a:pt x="148" y="356"/>
                    </a:lnTo>
                    <a:lnTo>
                      <a:pt x="147" y="349"/>
                    </a:lnTo>
                    <a:lnTo>
                      <a:pt x="146" y="342"/>
                    </a:lnTo>
                    <a:lnTo>
                      <a:pt x="145" y="332"/>
                    </a:lnTo>
                    <a:lnTo>
                      <a:pt x="145" y="321"/>
                    </a:lnTo>
                    <a:lnTo>
                      <a:pt x="146" y="308"/>
                    </a:lnTo>
                    <a:lnTo>
                      <a:pt x="150" y="293"/>
                    </a:lnTo>
                    <a:lnTo>
                      <a:pt x="151" y="277"/>
                    </a:lnTo>
                    <a:lnTo>
                      <a:pt x="156" y="261"/>
                    </a:lnTo>
                    <a:lnTo>
                      <a:pt x="162" y="243"/>
                    </a:lnTo>
                    <a:lnTo>
                      <a:pt x="172" y="226"/>
                    </a:lnTo>
                    <a:lnTo>
                      <a:pt x="183" y="206"/>
                    </a:lnTo>
                    <a:lnTo>
                      <a:pt x="197" y="188"/>
                    </a:lnTo>
                    <a:lnTo>
                      <a:pt x="214" y="170"/>
                    </a:lnTo>
                    <a:lnTo>
                      <a:pt x="235" y="151"/>
                    </a:lnTo>
                    <a:lnTo>
                      <a:pt x="208" y="146"/>
                    </a:lnTo>
                    <a:lnTo>
                      <a:pt x="206" y="146"/>
                    </a:lnTo>
                    <a:lnTo>
                      <a:pt x="204" y="149"/>
                    </a:lnTo>
                    <a:lnTo>
                      <a:pt x="197" y="154"/>
                    </a:lnTo>
                    <a:lnTo>
                      <a:pt x="192" y="161"/>
                    </a:lnTo>
                    <a:lnTo>
                      <a:pt x="183" y="170"/>
                    </a:lnTo>
                    <a:lnTo>
                      <a:pt x="174" y="178"/>
                    </a:lnTo>
                    <a:lnTo>
                      <a:pt x="164" y="189"/>
                    </a:lnTo>
                    <a:lnTo>
                      <a:pt x="154" y="203"/>
                    </a:lnTo>
                    <a:lnTo>
                      <a:pt x="143" y="215"/>
                    </a:lnTo>
                    <a:lnTo>
                      <a:pt x="132" y="229"/>
                    </a:lnTo>
                    <a:lnTo>
                      <a:pt x="122" y="243"/>
                    </a:lnTo>
                    <a:lnTo>
                      <a:pt x="113" y="258"/>
                    </a:lnTo>
                    <a:lnTo>
                      <a:pt x="103" y="273"/>
                    </a:lnTo>
                    <a:lnTo>
                      <a:pt x="96" y="288"/>
                    </a:lnTo>
                    <a:lnTo>
                      <a:pt x="90" y="304"/>
                    </a:lnTo>
                    <a:lnTo>
                      <a:pt x="87" y="321"/>
                    </a:lnTo>
                    <a:lnTo>
                      <a:pt x="85" y="318"/>
                    </a:lnTo>
                    <a:lnTo>
                      <a:pt x="85" y="311"/>
                    </a:lnTo>
                    <a:lnTo>
                      <a:pt x="85" y="300"/>
                    </a:lnTo>
                    <a:lnTo>
                      <a:pt x="87" y="287"/>
                    </a:lnTo>
                    <a:lnTo>
                      <a:pt x="89" y="269"/>
                    </a:lnTo>
                    <a:lnTo>
                      <a:pt x="93" y="250"/>
                    </a:lnTo>
                    <a:lnTo>
                      <a:pt x="101" y="229"/>
                    </a:lnTo>
                    <a:lnTo>
                      <a:pt x="111" y="206"/>
                    </a:lnTo>
                    <a:lnTo>
                      <a:pt x="123" y="182"/>
                    </a:lnTo>
                    <a:lnTo>
                      <a:pt x="140" y="156"/>
                    </a:lnTo>
                    <a:lnTo>
                      <a:pt x="161" y="130"/>
                    </a:lnTo>
                    <a:lnTo>
                      <a:pt x="187" y="105"/>
                    </a:lnTo>
                    <a:lnTo>
                      <a:pt x="218" y="79"/>
                    </a:lnTo>
                    <a:lnTo>
                      <a:pt x="256" y="56"/>
                    </a:lnTo>
                    <a:lnTo>
                      <a:pt x="298" y="32"/>
                    </a:lnTo>
                    <a:lnTo>
                      <a:pt x="350" y="13"/>
                    </a:lnTo>
                    <a:lnTo>
                      <a:pt x="354" y="0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>
                <a:off x="1854000" y="5674320"/>
                <a:ext cx="75240" cy="60480"/>
              </a:xfrm>
              <a:custGeom>
                <a:avLst/>
                <a:gdLst/>
                <a:ahLst/>
                <a:rect l="l" t="t" r="r" b="b"/>
                <a:pathLst>
                  <a:path w="172" h="160">
                    <a:moveTo>
                      <a:pt x="172" y="145"/>
                    </a:moveTo>
                    <a:lnTo>
                      <a:pt x="157" y="138"/>
                    </a:lnTo>
                    <a:lnTo>
                      <a:pt x="142" y="132"/>
                    </a:lnTo>
                    <a:lnTo>
                      <a:pt x="129" y="125"/>
                    </a:lnTo>
                    <a:lnTo>
                      <a:pt x="119" y="120"/>
                    </a:lnTo>
                    <a:lnTo>
                      <a:pt x="108" y="112"/>
                    </a:lnTo>
                    <a:lnTo>
                      <a:pt x="100" y="107"/>
                    </a:lnTo>
                    <a:lnTo>
                      <a:pt x="90" y="100"/>
                    </a:lnTo>
                    <a:lnTo>
                      <a:pt x="84" y="94"/>
                    </a:lnTo>
                    <a:lnTo>
                      <a:pt x="76" y="88"/>
                    </a:lnTo>
                    <a:lnTo>
                      <a:pt x="69" y="80"/>
                    </a:lnTo>
                    <a:lnTo>
                      <a:pt x="63" y="73"/>
                    </a:lnTo>
                    <a:lnTo>
                      <a:pt x="56" y="67"/>
                    </a:lnTo>
                    <a:lnTo>
                      <a:pt x="50" y="60"/>
                    </a:lnTo>
                    <a:lnTo>
                      <a:pt x="43" y="54"/>
                    </a:lnTo>
                    <a:lnTo>
                      <a:pt x="36" y="48"/>
                    </a:lnTo>
                    <a:lnTo>
                      <a:pt x="30" y="43"/>
                    </a:lnTo>
                    <a:lnTo>
                      <a:pt x="30" y="40"/>
                    </a:lnTo>
                    <a:lnTo>
                      <a:pt x="32" y="36"/>
                    </a:lnTo>
                    <a:lnTo>
                      <a:pt x="34" y="33"/>
                    </a:lnTo>
                    <a:lnTo>
                      <a:pt x="39" y="30"/>
                    </a:lnTo>
                    <a:lnTo>
                      <a:pt x="42" y="27"/>
                    </a:lnTo>
                    <a:lnTo>
                      <a:pt x="48" y="25"/>
                    </a:lnTo>
                    <a:lnTo>
                      <a:pt x="54" y="22"/>
                    </a:lnTo>
                    <a:lnTo>
                      <a:pt x="63" y="20"/>
                    </a:lnTo>
                    <a:lnTo>
                      <a:pt x="72" y="19"/>
                    </a:lnTo>
                    <a:lnTo>
                      <a:pt x="83" y="19"/>
                    </a:lnTo>
                    <a:lnTo>
                      <a:pt x="94" y="19"/>
                    </a:lnTo>
                    <a:lnTo>
                      <a:pt x="109" y="22"/>
                    </a:lnTo>
                    <a:lnTo>
                      <a:pt x="125" y="25"/>
                    </a:lnTo>
                    <a:lnTo>
                      <a:pt x="145" y="30"/>
                    </a:lnTo>
                    <a:lnTo>
                      <a:pt x="162" y="15"/>
                    </a:lnTo>
                    <a:lnTo>
                      <a:pt x="160" y="14"/>
                    </a:lnTo>
                    <a:lnTo>
                      <a:pt x="158" y="13"/>
                    </a:lnTo>
                    <a:lnTo>
                      <a:pt x="155" y="10"/>
                    </a:lnTo>
                    <a:lnTo>
                      <a:pt x="149" y="9"/>
                    </a:lnTo>
                    <a:lnTo>
                      <a:pt x="142" y="7"/>
                    </a:lnTo>
                    <a:lnTo>
                      <a:pt x="134" y="5"/>
                    </a:lnTo>
                    <a:lnTo>
                      <a:pt x="124" y="3"/>
                    </a:lnTo>
                    <a:lnTo>
                      <a:pt x="115" y="3"/>
                    </a:lnTo>
                    <a:lnTo>
                      <a:pt x="103" y="0"/>
                    </a:lnTo>
                    <a:lnTo>
                      <a:pt x="90" y="0"/>
                    </a:lnTo>
                    <a:lnTo>
                      <a:pt x="77" y="2"/>
                    </a:lnTo>
                    <a:lnTo>
                      <a:pt x="64" y="5"/>
                    </a:lnTo>
                    <a:lnTo>
                      <a:pt x="47" y="7"/>
                    </a:lnTo>
                    <a:lnTo>
                      <a:pt x="32" y="12"/>
                    </a:lnTo>
                    <a:lnTo>
                      <a:pt x="16" y="18"/>
                    </a:lnTo>
                    <a:lnTo>
                      <a:pt x="0" y="28"/>
                    </a:lnTo>
                    <a:lnTo>
                      <a:pt x="1" y="31"/>
                    </a:lnTo>
                    <a:lnTo>
                      <a:pt x="3" y="35"/>
                    </a:lnTo>
                    <a:lnTo>
                      <a:pt x="8" y="41"/>
                    </a:lnTo>
                    <a:lnTo>
                      <a:pt x="10" y="47"/>
                    </a:lnTo>
                    <a:lnTo>
                      <a:pt x="16" y="55"/>
                    </a:lnTo>
                    <a:lnTo>
                      <a:pt x="22" y="65"/>
                    </a:lnTo>
                    <a:lnTo>
                      <a:pt x="31" y="76"/>
                    </a:lnTo>
                    <a:lnTo>
                      <a:pt x="40" y="85"/>
                    </a:lnTo>
                    <a:lnTo>
                      <a:pt x="51" y="96"/>
                    </a:lnTo>
                    <a:lnTo>
                      <a:pt x="62" y="107"/>
                    </a:lnTo>
                    <a:lnTo>
                      <a:pt x="76" y="119"/>
                    </a:lnTo>
                    <a:lnTo>
                      <a:pt x="89" y="129"/>
                    </a:lnTo>
                    <a:lnTo>
                      <a:pt x="106" y="140"/>
                    </a:lnTo>
                    <a:lnTo>
                      <a:pt x="123" y="150"/>
                    </a:lnTo>
                    <a:lnTo>
                      <a:pt x="142" y="160"/>
                    </a:lnTo>
                    <a:lnTo>
                      <a:pt x="172" y="145"/>
                    </a:lnTo>
                    <a:lnTo>
                      <a:pt x="172" y="145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flipH="1">
                <a:off x="1810440" y="5655240"/>
                <a:ext cx="65160" cy="29520"/>
              </a:xfrm>
              <a:custGeom>
                <a:avLst/>
                <a:gdLst/>
                <a:ahLst/>
                <a:rect l="l" t="t" r="r" b="b"/>
                <a:pathLst>
                  <a:path w="150" h="77">
                    <a:moveTo>
                      <a:pt x="0" y="16"/>
                    </a:moveTo>
                    <a:lnTo>
                      <a:pt x="3" y="16"/>
                    </a:lnTo>
                    <a:lnTo>
                      <a:pt x="8" y="16"/>
                    </a:lnTo>
                    <a:lnTo>
                      <a:pt x="15" y="16"/>
                    </a:lnTo>
                    <a:lnTo>
                      <a:pt x="23" y="16"/>
                    </a:lnTo>
                    <a:lnTo>
                      <a:pt x="33" y="17"/>
                    </a:lnTo>
                    <a:lnTo>
                      <a:pt x="42" y="19"/>
                    </a:lnTo>
                    <a:lnTo>
                      <a:pt x="54" y="22"/>
                    </a:lnTo>
                    <a:lnTo>
                      <a:pt x="65" y="23"/>
                    </a:lnTo>
                    <a:lnTo>
                      <a:pt x="76" y="27"/>
                    </a:lnTo>
                    <a:lnTo>
                      <a:pt x="87" y="33"/>
                    </a:lnTo>
                    <a:lnTo>
                      <a:pt x="99" y="38"/>
                    </a:lnTo>
                    <a:lnTo>
                      <a:pt x="109" y="45"/>
                    </a:lnTo>
                    <a:lnTo>
                      <a:pt x="119" y="55"/>
                    </a:lnTo>
                    <a:lnTo>
                      <a:pt x="128" y="64"/>
                    </a:lnTo>
                    <a:lnTo>
                      <a:pt x="137" y="77"/>
                    </a:lnTo>
                    <a:lnTo>
                      <a:pt x="150" y="57"/>
                    </a:lnTo>
                    <a:lnTo>
                      <a:pt x="148" y="53"/>
                    </a:lnTo>
                    <a:lnTo>
                      <a:pt x="140" y="45"/>
                    </a:lnTo>
                    <a:lnTo>
                      <a:pt x="134" y="40"/>
                    </a:lnTo>
                    <a:lnTo>
                      <a:pt x="128" y="34"/>
                    </a:lnTo>
                    <a:lnTo>
                      <a:pt x="121" y="30"/>
                    </a:lnTo>
                    <a:lnTo>
                      <a:pt x="113" y="24"/>
                    </a:lnTo>
                    <a:lnTo>
                      <a:pt x="102" y="19"/>
                    </a:lnTo>
                    <a:lnTo>
                      <a:pt x="91" y="13"/>
                    </a:lnTo>
                    <a:lnTo>
                      <a:pt x="79" y="9"/>
                    </a:lnTo>
                    <a:lnTo>
                      <a:pt x="66" y="4"/>
                    </a:lnTo>
                    <a:lnTo>
                      <a:pt x="50" y="1"/>
                    </a:lnTo>
                    <a:lnTo>
                      <a:pt x="35" y="0"/>
                    </a:lnTo>
                    <a:lnTo>
                      <a:pt x="18" y="0"/>
                    </a:lnTo>
                    <a:lnTo>
                      <a:pt x="1" y="2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flipH="1">
                <a:off x="1791360" y="5737680"/>
                <a:ext cx="402480" cy="284400"/>
              </a:xfrm>
              <a:custGeom>
                <a:avLst/>
                <a:gdLst/>
                <a:ahLst/>
                <a:rect l="l" t="t" r="r" b="b"/>
                <a:pathLst>
                  <a:path w="925" h="750">
                    <a:moveTo>
                      <a:pt x="783" y="423"/>
                    </a:moveTo>
                    <a:lnTo>
                      <a:pt x="691" y="458"/>
                    </a:lnTo>
                    <a:lnTo>
                      <a:pt x="606" y="421"/>
                    </a:lnTo>
                    <a:lnTo>
                      <a:pt x="607" y="418"/>
                    </a:lnTo>
                    <a:lnTo>
                      <a:pt x="613" y="416"/>
                    </a:lnTo>
                    <a:lnTo>
                      <a:pt x="621" y="411"/>
                    </a:lnTo>
                    <a:lnTo>
                      <a:pt x="632" y="405"/>
                    </a:lnTo>
                    <a:lnTo>
                      <a:pt x="643" y="396"/>
                    </a:lnTo>
                    <a:lnTo>
                      <a:pt x="659" y="387"/>
                    </a:lnTo>
                    <a:lnTo>
                      <a:pt x="672" y="376"/>
                    </a:lnTo>
                    <a:lnTo>
                      <a:pt x="689" y="365"/>
                    </a:lnTo>
                    <a:lnTo>
                      <a:pt x="703" y="351"/>
                    </a:lnTo>
                    <a:lnTo>
                      <a:pt x="717" y="338"/>
                    </a:lnTo>
                    <a:lnTo>
                      <a:pt x="730" y="321"/>
                    </a:lnTo>
                    <a:lnTo>
                      <a:pt x="741" y="304"/>
                    </a:lnTo>
                    <a:lnTo>
                      <a:pt x="751" y="286"/>
                    </a:lnTo>
                    <a:lnTo>
                      <a:pt x="756" y="267"/>
                    </a:lnTo>
                    <a:lnTo>
                      <a:pt x="758" y="247"/>
                    </a:lnTo>
                    <a:lnTo>
                      <a:pt x="757" y="226"/>
                    </a:lnTo>
                    <a:lnTo>
                      <a:pt x="726" y="235"/>
                    </a:lnTo>
                    <a:lnTo>
                      <a:pt x="727" y="238"/>
                    </a:lnTo>
                    <a:lnTo>
                      <a:pt x="727" y="244"/>
                    </a:lnTo>
                    <a:lnTo>
                      <a:pt x="728" y="251"/>
                    </a:lnTo>
                    <a:lnTo>
                      <a:pt x="727" y="259"/>
                    </a:lnTo>
                    <a:lnTo>
                      <a:pt x="726" y="270"/>
                    </a:lnTo>
                    <a:lnTo>
                      <a:pt x="722" y="281"/>
                    </a:lnTo>
                    <a:lnTo>
                      <a:pt x="718" y="296"/>
                    </a:lnTo>
                    <a:lnTo>
                      <a:pt x="711" y="308"/>
                    </a:lnTo>
                    <a:lnTo>
                      <a:pt x="702" y="323"/>
                    </a:lnTo>
                    <a:lnTo>
                      <a:pt x="689" y="338"/>
                    </a:lnTo>
                    <a:lnTo>
                      <a:pt x="673" y="352"/>
                    </a:lnTo>
                    <a:lnTo>
                      <a:pt x="653" y="366"/>
                    </a:lnTo>
                    <a:lnTo>
                      <a:pt x="630" y="381"/>
                    </a:lnTo>
                    <a:lnTo>
                      <a:pt x="601" y="394"/>
                    </a:lnTo>
                    <a:lnTo>
                      <a:pt x="569" y="408"/>
                    </a:lnTo>
                    <a:lnTo>
                      <a:pt x="535" y="400"/>
                    </a:lnTo>
                    <a:lnTo>
                      <a:pt x="627" y="308"/>
                    </a:lnTo>
                    <a:lnTo>
                      <a:pt x="612" y="292"/>
                    </a:lnTo>
                    <a:lnTo>
                      <a:pt x="609" y="293"/>
                    </a:lnTo>
                    <a:lnTo>
                      <a:pt x="604" y="298"/>
                    </a:lnTo>
                    <a:lnTo>
                      <a:pt x="596" y="306"/>
                    </a:lnTo>
                    <a:lnTo>
                      <a:pt x="585" y="317"/>
                    </a:lnTo>
                    <a:lnTo>
                      <a:pt x="570" y="328"/>
                    </a:lnTo>
                    <a:lnTo>
                      <a:pt x="553" y="342"/>
                    </a:lnTo>
                    <a:lnTo>
                      <a:pt x="533" y="358"/>
                    </a:lnTo>
                    <a:lnTo>
                      <a:pt x="512" y="373"/>
                    </a:lnTo>
                    <a:lnTo>
                      <a:pt x="486" y="387"/>
                    </a:lnTo>
                    <a:lnTo>
                      <a:pt x="460" y="403"/>
                    </a:lnTo>
                    <a:lnTo>
                      <a:pt x="431" y="416"/>
                    </a:lnTo>
                    <a:lnTo>
                      <a:pt x="401" y="429"/>
                    </a:lnTo>
                    <a:lnTo>
                      <a:pt x="369" y="439"/>
                    </a:lnTo>
                    <a:lnTo>
                      <a:pt x="336" y="447"/>
                    </a:lnTo>
                    <a:lnTo>
                      <a:pt x="302" y="453"/>
                    </a:lnTo>
                    <a:lnTo>
                      <a:pt x="266" y="455"/>
                    </a:lnTo>
                    <a:lnTo>
                      <a:pt x="96" y="318"/>
                    </a:lnTo>
                    <a:lnTo>
                      <a:pt x="98" y="316"/>
                    </a:lnTo>
                    <a:lnTo>
                      <a:pt x="105" y="312"/>
                    </a:lnTo>
                    <a:lnTo>
                      <a:pt x="115" y="306"/>
                    </a:lnTo>
                    <a:lnTo>
                      <a:pt x="129" y="298"/>
                    </a:lnTo>
                    <a:lnTo>
                      <a:pt x="146" y="286"/>
                    </a:lnTo>
                    <a:lnTo>
                      <a:pt x="164" y="274"/>
                    </a:lnTo>
                    <a:lnTo>
                      <a:pt x="182" y="258"/>
                    </a:lnTo>
                    <a:lnTo>
                      <a:pt x="203" y="243"/>
                    </a:lnTo>
                    <a:lnTo>
                      <a:pt x="220" y="223"/>
                    </a:lnTo>
                    <a:lnTo>
                      <a:pt x="238" y="201"/>
                    </a:lnTo>
                    <a:lnTo>
                      <a:pt x="253" y="177"/>
                    </a:lnTo>
                    <a:lnTo>
                      <a:pt x="267" y="153"/>
                    </a:lnTo>
                    <a:lnTo>
                      <a:pt x="276" y="126"/>
                    </a:lnTo>
                    <a:lnTo>
                      <a:pt x="283" y="98"/>
                    </a:lnTo>
                    <a:lnTo>
                      <a:pt x="284" y="68"/>
                    </a:lnTo>
                    <a:lnTo>
                      <a:pt x="280" y="37"/>
                    </a:lnTo>
                    <a:lnTo>
                      <a:pt x="381" y="32"/>
                    </a:lnTo>
                    <a:lnTo>
                      <a:pt x="379" y="29"/>
                    </a:lnTo>
                    <a:lnTo>
                      <a:pt x="375" y="24"/>
                    </a:lnTo>
                    <a:lnTo>
                      <a:pt x="369" y="19"/>
                    </a:lnTo>
                    <a:lnTo>
                      <a:pt x="365" y="16"/>
                    </a:lnTo>
                    <a:lnTo>
                      <a:pt x="358" y="13"/>
                    </a:lnTo>
                    <a:lnTo>
                      <a:pt x="353" y="9"/>
                    </a:lnTo>
                    <a:lnTo>
                      <a:pt x="342" y="5"/>
                    </a:lnTo>
                    <a:lnTo>
                      <a:pt x="332" y="3"/>
                    </a:lnTo>
                    <a:lnTo>
                      <a:pt x="319" y="0"/>
                    </a:lnTo>
                    <a:lnTo>
                      <a:pt x="307" y="0"/>
                    </a:lnTo>
                    <a:lnTo>
                      <a:pt x="292" y="0"/>
                    </a:lnTo>
                    <a:lnTo>
                      <a:pt x="275" y="3"/>
                    </a:lnTo>
                    <a:lnTo>
                      <a:pt x="258" y="6"/>
                    </a:lnTo>
                    <a:lnTo>
                      <a:pt x="238" y="14"/>
                    </a:lnTo>
                    <a:lnTo>
                      <a:pt x="215" y="19"/>
                    </a:lnTo>
                    <a:lnTo>
                      <a:pt x="197" y="26"/>
                    </a:lnTo>
                    <a:lnTo>
                      <a:pt x="179" y="32"/>
                    </a:lnTo>
                    <a:lnTo>
                      <a:pt x="162" y="39"/>
                    </a:lnTo>
                    <a:lnTo>
                      <a:pt x="147" y="47"/>
                    </a:lnTo>
                    <a:lnTo>
                      <a:pt x="134" y="54"/>
                    </a:lnTo>
                    <a:lnTo>
                      <a:pt x="122" y="60"/>
                    </a:lnTo>
                    <a:lnTo>
                      <a:pt x="112" y="68"/>
                    </a:lnTo>
                    <a:lnTo>
                      <a:pt x="101" y="72"/>
                    </a:lnTo>
                    <a:lnTo>
                      <a:pt x="92" y="79"/>
                    </a:lnTo>
                    <a:lnTo>
                      <a:pt x="85" y="84"/>
                    </a:lnTo>
                    <a:lnTo>
                      <a:pt x="80" y="89"/>
                    </a:lnTo>
                    <a:lnTo>
                      <a:pt x="72" y="96"/>
                    </a:lnTo>
                    <a:lnTo>
                      <a:pt x="70" y="98"/>
                    </a:lnTo>
                    <a:lnTo>
                      <a:pt x="67" y="98"/>
                    </a:lnTo>
                    <a:lnTo>
                      <a:pt x="65" y="102"/>
                    </a:lnTo>
                    <a:lnTo>
                      <a:pt x="59" y="107"/>
                    </a:lnTo>
                    <a:lnTo>
                      <a:pt x="54" y="117"/>
                    </a:lnTo>
                    <a:lnTo>
                      <a:pt x="45" y="125"/>
                    </a:lnTo>
                    <a:lnTo>
                      <a:pt x="39" y="139"/>
                    </a:lnTo>
                    <a:lnTo>
                      <a:pt x="31" y="153"/>
                    </a:lnTo>
                    <a:lnTo>
                      <a:pt x="23" y="170"/>
                    </a:lnTo>
                    <a:lnTo>
                      <a:pt x="15" y="187"/>
                    </a:lnTo>
                    <a:lnTo>
                      <a:pt x="10" y="208"/>
                    </a:lnTo>
                    <a:lnTo>
                      <a:pt x="4" y="230"/>
                    </a:lnTo>
                    <a:lnTo>
                      <a:pt x="2" y="256"/>
                    </a:lnTo>
                    <a:lnTo>
                      <a:pt x="0" y="280"/>
                    </a:lnTo>
                    <a:lnTo>
                      <a:pt x="2" y="309"/>
                    </a:lnTo>
                    <a:lnTo>
                      <a:pt x="7" y="339"/>
                    </a:lnTo>
                    <a:lnTo>
                      <a:pt x="14" y="370"/>
                    </a:lnTo>
                    <a:lnTo>
                      <a:pt x="15" y="373"/>
                    </a:lnTo>
                    <a:lnTo>
                      <a:pt x="18" y="377"/>
                    </a:lnTo>
                    <a:lnTo>
                      <a:pt x="21" y="385"/>
                    </a:lnTo>
                    <a:lnTo>
                      <a:pt x="23" y="393"/>
                    </a:lnTo>
                    <a:lnTo>
                      <a:pt x="30" y="402"/>
                    </a:lnTo>
                    <a:lnTo>
                      <a:pt x="34" y="412"/>
                    </a:lnTo>
                    <a:lnTo>
                      <a:pt x="43" y="424"/>
                    </a:lnTo>
                    <a:lnTo>
                      <a:pt x="49" y="435"/>
                    </a:lnTo>
                    <a:lnTo>
                      <a:pt x="57" y="447"/>
                    </a:lnTo>
                    <a:lnTo>
                      <a:pt x="66" y="459"/>
                    </a:lnTo>
                    <a:lnTo>
                      <a:pt x="77" y="473"/>
                    </a:lnTo>
                    <a:lnTo>
                      <a:pt x="87" y="484"/>
                    </a:lnTo>
                    <a:lnTo>
                      <a:pt x="99" y="495"/>
                    </a:lnTo>
                    <a:lnTo>
                      <a:pt x="112" y="505"/>
                    </a:lnTo>
                    <a:lnTo>
                      <a:pt x="126" y="515"/>
                    </a:lnTo>
                    <a:lnTo>
                      <a:pt x="321" y="596"/>
                    </a:lnTo>
                    <a:lnTo>
                      <a:pt x="322" y="599"/>
                    </a:lnTo>
                    <a:lnTo>
                      <a:pt x="326" y="606"/>
                    </a:lnTo>
                    <a:lnTo>
                      <a:pt x="328" y="612"/>
                    </a:lnTo>
                    <a:lnTo>
                      <a:pt x="330" y="617"/>
                    </a:lnTo>
                    <a:lnTo>
                      <a:pt x="335" y="624"/>
                    </a:lnTo>
                    <a:lnTo>
                      <a:pt x="340" y="631"/>
                    </a:lnTo>
                    <a:lnTo>
                      <a:pt x="344" y="637"/>
                    </a:lnTo>
                    <a:lnTo>
                      <a:pt x="350" y="644"/>
                    </a:lnTo>
                    <a:lnTo>
                      <a:pt x="356" y="651"/>
                    </a:lnTo>
                    <a:lnTo>
                      <a:pt x="363" y="656"/>
                    </a:lnTo>
                    <a:lnTo>
                      <a:pt x="368" y="660"/>
                    </a:lnTo>
                    <a:lnTo>
                      <a:pt x="375" y="664"/>
                    </a:lnTo>
                    <a:lnTo>
                      <a:pt x="381" y="667"/>
                    </a:lnTo>
                    <a:lnTo>
                      <a:pt x="389" y="670"/>
                    </a:lnTo>
                    <a:lnTo>
                      <a:pt x="390" y="673"/>
                    </a:lnTo>
                    <a:lnTo>
                      <a:pt x="396" y="681"/>
                    </a:lnTo>
                    <a:lnTo>
                      <a:pt x="398" y="687"/>
                    </a:lnTo>
                    <a:lnTo>
                      <a:pt x="402" y="694"/>
                    </a:lnTo>
                    <a:lnTo>
                      <a:pt x="407" y="700"/>
                    </a:lnTo>
                    <a:lnTo>
                      <a:pt x="412" y="709"/>
                    </a:lnTo>
                    <a:lnTo>
                      <a:pt x="417" y="715"/>
                    </a:lnTo>
                    <a:lnTo>
                      <a:pt x="421" y="721"/>
                    </a:lnTo>
                    <a:lnTo>
                      <a:pt x="427" y="728"/>
                    </a:lnTo>
                    <a:lnTo>
                      <a:pt x="432" y="735"/>
                    </a:lnTo>
                    <a:lnTo>
                      <a:pt x="437" y="740"/>
                    </a:lnTo>
                    <a:lnTo>
                      <a:pt x="442" y="744"/>
                    </a:lnTo>
                    <a:lnTo>
                      <a:pt x="445" y="747"/>
                    </a:lnTo>
                    <a:lnTo>
                      <a:pt x="451" y="750"/>
                    </a:lnTo>
                    <a:lnTo>
                      <a:pt x="456" y="750"/>
                    </a:lnTo>
                    <a:lnTo>
                      <a:pt x="463" y="750"/>
                    </a:lnTo>
                    <a:lnTo>
                      <a:pt x="468" y="749"/>
                    </a:lnTo>
                    <a:lnTo>
                      <a:pt x="471" y="747"/>
                    </a:lnTo>
                    <a:lnTo>
                      <a:pt x="473" y="743"/>
                    </a:lnTo>
                    <a:lnTo>
                      <a:pt x="474" y="738"/>
                    </a:lnTo>
                    <a:lnTo>
                      <a:pt x="473" y="731"/>
                    </a:lnTo>
                    <a:lnTo>
                      <a:pt x="471" y="723"/>
                    </a:lnTo>
                    <a:lnTo>
                      <a:pt x="469" y="718"/>
                    </a:lnTo>
                    <a:lnTo>
                      <a:pt x="468" y="712"/>
                    </a:lnTo>
                    <a:lnTo>
                      <a:pt x="465" y="707"/>
                    </a:lnTo>
                    <a:lnTo>
                      <a:pt x="463" y="701"/>
                    </a:lnTo>
                    <a:lnTo>
                      <a:pt x="460" y="695"/>
                    </a:lnTo>
                    <a:lnTo>
                      <a:pt x="458" y="688"/>
                    </a:lnTo>
                    <a:lnTo>
                      <a:pt x="455" y="683"/>
                    </a:lnTo>
                    <a:lnTo>
                      <a:pt x="454" y="676"/>
                    </a:lnTo>
                    <a:lnTo>
                      <a:pt x="451" y="670"/>
                    </a:lnTo>
                    <a:lnTo>
                      <a:pt x="449" y="664"/>
                    </a:lnTo>
                    <a:lnTo>
                      <a:pt x="447" y="659"/>
                    </a:lnTo>
                    <a:lnTo>
                      <a:pt x="445" y="656"/>
                    </a:lnTo>
                    <a:lnTo>
                      <a:pt x="443" y="651"/>
                    </a:lnTo>
                    <a:lnTo>
                      <a:pt x="443" y="648"/>
                    </a:lnTo>
                    <a:lnTo>
                      <a:pt x="443" y="646"/>
                    </a:lnTo>
                    <a:lnTo>
                      <a:pt x="444" y="645"/>
                    </a:lnTo>
                    <a:lnTo>
                      <a:pt x="447" y="643"/>
                    </a:lnTo>
                    <a:lnTo>
                      <a:pt x="453" y="645"/>
                    </a:lnTo>
                    <a:lnTo>
                      <a:pt x="454" y="645"/>
                    </a:lnTo>
                    <a:lnTo>
                      <a:pt x="456" y="649"/>
                    </a:lnTo>
                    <a:lnTo>
                      <a:pt x="460" y="653"/>
                    </a:lnTo>
                    <a:lnTo>
                      <a:pt x="464" y="660"/>
                    </a:lnTo>
                    <a:lnTo>
                      <a:pt x="468" y="666"/>
                    </a:lnTo>
                    <a:lnTo>
                      <a:pt x="472" y="674"/>
                    </a:lnTo>
                    <a:lnTo>
                      <a:pt x="479" y="683"/>
                    </a:lnTo>
                    <a:lnTo>
                      <a:pt x="484" y="691"/>
                    </a:lnTo>
                    <a:lnTo>
                      <a:pt x="490" y="698"/>
                    </a:lnTo>
                    <a:lnTo>
                      <a:pt x="495" y="707"/>
                    </a:lnTo>
                    <a:lnTo>
                      <a:pt x="501" y="712"/>
                    </a:lnTo>
                    <a:lnTo>
                      <a:pt x="508" y="720"/>
                    </a:lnTo>
                    <a:lnTo>
                      <a:pt x="514" y="723"/>
                    </a:lnTo>
                    <a:lnTo>
                      <a:pt x="522" y="727"/>
                    </a:lnTo>
                    <a:lnTo>
                      <a:pt x="527" y="729"/>
                    </a:lnTo>
                    <a:lnTo>
                      <a:pt x="535" y="729"/>
                    </a:lnTo>
                    <a:lnTo>
                      <a:pt x="538" y="725"/>
                    </a:lnTo>
                    <a:lnTo>
                      <a:pt x="542" y="720"/>
                    </a:lnTo>
                    <a:lnTo>
                      <a:pt x="543" y="712"/>
                    </a:lnTo>
                    <a:lnTo>
                      <a:pt x="544" y="706"/>
                    </a:lnTo>
                    <a:lnTo>
                      <a:pt x="542" y="697"/>
                    </a:lnTo>
                    <a:lnTo>
                      <a:pt x="541" y="688"/>
                    </a:lnTo>
                    <a:lnTo>
                      <a:pt x="537" y="679"/>
                    </a:lnTo>
                    <a:lnTo>
                      <a:pt x="535" y="672"/>
                    </a:lnTo>
                    <a:lnTo>
                      <a:pt x="531" y="663"/>
                    </a:lnTo>
                    <a:lnTo>
                      <a:pt x="526" y="653"/>
                    </a:lnTo>
                    <a:lnTo>
                      <a:pt x="523" y="645"/>
                    </a:lnTo>
                    <a:lnTo>
                      <a:pt x="520" y="639"/>
                    </a:lnTo>
                    <a:lnTo>
                      <a:pt x="516" y="632"/>
                    </a:lnTo>
                    <a:lnTo>
                      <a:pt x="514" y="628"/>
                    </a:lnTo>
                    <a:lnTo>
                      <a:pt x="513" y="625"/>
                    </a:lnTo>
                    <a:lnTo>
                      <a:pt x="514" y="625"/>
                    </a:lnTo>
                    <a:lnTo>
                      <a:pt x="520" y="630"/>
                    </a:lnTo>
                    <a:lnTo>
                      <a:pt x="527" y="633"/>
                    </a:lnTo>
                    <a:lnTo>
                      <a:pt x="537" y="639"/>
                    </a:lnTo>
                    <a:lnTo>
                      <a:pt x="546" y="645"/>
                    </a:lnTo>
                    <a:lnTo>
                      <a:pt x="556" y="652"/>
                    </a:lnTo>
                    <a:lnTo>
                      <a:pt x="564" y="657"/>
                    </a:lnTo>
                    <a:lnTo>
                      <a:pt x="569" y="663"/>
                    </a:lnTo>
                    <a:lnTo>
                      <a:pt x="571" y="666"/>
                    </a:lnTo>
                    <a:lnTo>
                      <a:pt x="578" y="670"/>
                    </a:lnTo>
                    <a:lnTo>
                      <a:pt x="585" y="674"/>
                    </a:lnTo>
                    <a:lnTo>
                      <a:pt x="592" y="676"/>
                    </a:lnTo>
                    <a:lnTo>
                      <a:pt x="600" y="677"/>
                    </a:lnTo>
                    <a:lnTo>
                      <a:pt x="607" y="678"/>
                    </a:lnTo>
                    <a:lnTo>
                      <a:pt x="612" y="677"/>
                    </a:lnTo>
                    <a:lnTo>
                      <a:pt x="617" y="676"/>
                    </a:lnTo>
                    <a:lnTo>
                      <a:pt x="617" y="674"/>
                    </a:lnTo>
                    <a:lnTo>
                      <a:pt x="617" y="669"/>
                    </a:lnTo>
                    <a:lnTo>
                      <a:pt x="615" y="663"/>
                    </a:lnTo>
                    <a:lnTo>
                      <a:pt x="612" y="658"/>
                    </a:lnTo>
                    <a:lnTo>
                      <a:pt x="607" y="649"/>
                    </a:lnTo>
                    <a:lnTo>
                      <a:pt x="604" y="641"/>
                    </a:lnTo>
                    <a:lnTo>
                      <a:pt x="597" y="631"/>
                    </a:lnTo>
                    <a:lnTo>
                      <a:pt x="592" y="622"/>
                    </a:lnTo>
                    <a:lnTo>
                      <a:pt x="585" y="611"/>
                    </a:lnTo>
                    <a:lnTo>
                      <a:pt x="578" y="602"/>
                    </a:lnTo>
                    <a:lnTo>
                      <a:pt x="570" y="592"/>
                    </a:lnTo>
                    <a:lnTo>
                      <a:pt x="564" y="582"/>
                    </a:lnTo>
                    <a:lnTo>
                      <a:pt x="557" y="573"/>
                    </a:lnTo>
                    <a:lnTo>
                      <a:pt x="550" y="566"/>
                    </a:lnTo>
                    <a:lnTo>
                      <a:pt x="545" y="560"/>
                    </a:lnTo>
                    <a:lnTo>
                      <a:pt x="539" y="557"/>
                    </a:lnTo>
                    <a:lnTo>
                      <a:pt x="534" y="551"/>
                    </a:lnTo>
                    <a:lnTo>
                      <a:pt x="527" y="549"/>
                    </a:lnTo>
                    <a:lnTo>
                      <a:pt x="523" y="547"/>
                    </a:lnTo>
                    <a:lnTo>
                      <a:pt x="518" y="547"/>
                    </a:lnTo>
                    <a:lnTo>
                      <a:pt x="511" y="547"/>
                    </a:lnTo>
                    <a:lnTo>
                      <a:pt x="505" y="551"/>
                    </a:lnTo>
                    <a:lnTo>
                      <a:pt x="501" y="555"/>
                    </a:lnTo>
                    <a:lnTo>
                      <a:pt x="497" y="560"/>
                    </a:lnTo>
                    <a:lnTo>
                      <a:pt x="496" y="563"/>
                    </a:lnTo>
                    <a:lnTo>
                      <a:pt x="496" y="565"/>
                    </a:lnTo>
                    <a:lnTo>
                      <a:pt x="484" y="571"/>
                    </a:lnTo>
                    <a:lnTo>
                      <a:pt x="481" y="566"/>
                    </a:lnTo>
                    <a:lnTo>
                      <a:pt x="474" y="559"/>
                    </a:lnTo>
                    <a:lnTo>
                      <a:pt x="469" y="554"/>
                    </a:lnTo>
                    <a:lnTo>
                      <a:pt x="464" y="551"/>
                    </a:lnTo>
                    <a:lnTo>
                      <a:pt x="459" y="549"/>
                    </a:lnTo>
                    <a:lnTo>
                      <a:pt x="454" y="550"/>
                    </a:lnTo>
                    <a:lnTo>
                      <a:pt x="443" y="555"/>
                    </a:lnTo>
                    <a:lnTo>
                      <a:pt x="438" y="564"/>
                    </a:lnTo>
                    <a:lnTo>
                      <a:pt x="433" y="571"/>
                    </a:lnTo>
                    <a:lnTo>
                      <a:pt x="432" y="575"/>
                    </a:lnTo>
                    <a:lnTo>
                      <a:pt x="358" y="524"/>
                    </a:lnTo>
                    <a:lnTo>
                      <a:pt x="451" y="497"/>
                    </a:lnTo>
                    <a:lnTo>
                      <a:pt x="625" y="522"/>
                    </a:lnTo>
                    <a:lnTo>
                      <a:pt x="623" y="522"/>
                    </a:lnTo>
                    <a:lnTo>
                      <a:pt x="622" y="526"/>
                    </a:lnTo>
                    <a:lnTo>
                      <a:pt x="621" y="530"/>
                    </a:lnTo>
                    <a:lnTo>
                      <a:pt x="620" y="536"/>
                    </a:lnTo>
                    <a:lnTo>
                      <a:pt x="619" y="541"/>
                    </a:lnTo>
                    <a:lnTo>
                      <a:pt x="618" y="547"/>
                    </a:lnTo>
                    <a:lnTo>
                      <a:pt x="618" y="551"/>
                    </a:lnTo>
                    <a:lnTo>
                      <a:pt x="619" y="557"/>
                    </a:lnTo>
                    <a:lnTo>
                      <a:pt x="621" y="560"/>
                    </a:lnTo>
                    <a:lnTo>
                      <a:pt x="627" y="569"/>
                    </a:lnTo>
                    <a:lnTo>
                      <a:pt x="636" y="576"/>
                    </a:lnTo>
                    <a:lnTo>
                      <a:pt x="646" y="586"/>
                    </a:lnTo>
                    <a:lnTo>
                      <a:pt x="654" y="594"/>
                    </a:lnTo>
                    <a:lnTo>
                      <a:pt x="664" y="603"/>
                    </a:lnTo>
                    <a:lnTo>
                      <a:pt x="672" y="609"/>
                    </a:lnTo>
                    <a:lnTo>
                      <a:pt x="681" y="614"/>
                    </a:lnTo>
                    <a:lnTo>
                      <a:pt x="685" y="614"/>
                    </a:lnTo>
                    <a:lnTo>
                      <a:pt x="692" y="614"/>
                    </a:lnTo>
                    <a:lnTo>
                      <a:pt x="696" y="611"/>
                    </a:lnTo>
                    <a:lnTo>
                      <a:pt x="701" y="607"/>
                    </a:lnTo>
                    <a:lnTo>
                      <a:pt x="700" y="601"/>
                    </a:lnTo>
                    <a:lnTo>
                      <a:pt x="695" y="592"/>
                    </a:lnTo>
                    <a:lnTo>
                      <a:pt x="692" y="585"/>
                    </a:lnTo>
                    <a:lnTo>
                      <a:pt x="686" y="581"/>
                    </a:lnTo>
                    <a:lnTo>
                      <a:pt x="680" y="573"/>
                    </a:lnTo>
                    <a:lnTo>
                      <a:pt x="672" y="566"/>
                    </a:lnTo>
                    <a:lnTo>
                      <a:pt x="695" y="550"/>
                    </a:lnTo>
                    <a:lnTo>
                      <a:pt x="699" y="551"/>
                    </a:lnTo>
                    <a:lnTo>
                      <a:pt x="703" y="553"/>
                    </a:lnTo>
                    <a:lnTo>
                      <a:pt x="709" y="557"/>
                    </a:lnTo>
                    <a:lnTo>
                      <a:pt x="715" y="559"/>
                    </a:lnTo>
                    <a:lnTo>
                      <a:pt x="723" y="563"/>
                    </a:lnTo>
                    <a:lnTo>
                      <a:pt x="732" y="568"/>
                    </a:lnTo>
                    <a:lnTo>
                      <a:pt x="741" y="572"/>
                    </a:lnTo>
                    <a:lnTo>
                      <a:pt x="749" y="576"/>
                    </a:lnTo>
                    <a:lnTo>
                      <a:pt x="758" y="581"/>
                    </a:lnTo>
                    <a:lnTo>
                      <a:pt x="766" y="584"/>
                    </a:lnTo>
                    <a:lnTo>
                      <a:pt x="775" y="589"/>
                    </a:lnTo>
                    <a:lnTo>
                      <a:pt x="782" y="592"/>
                    </a:lnTo>
                    <a:lnTo>
                      <a:pt x="788" y="594"/>
                    </a:lnTo>
                    <a:lnTo>
                      <a:pt x="794" y="596"/>
                    </a:lnTo>
                    <a:lnTo>
                      <a:pt x="798" y="599"/>
                    </a:lnTo>
                    <a:lnTo>
                      <a:pt x="804" y="599"/>
                    </a:lnTo>
                    <a:lnTo>
                      <a:pt x="810" y="597"/>
                    </a:lnTo>
                    <a:lnTo>
                      <a:pt x="814" y="594"/>
                    </a:lnTo>
                    <a:lnTo>
                      <a:pt x="818" y="593"/>
                    </a:lnTo>
                    <a:lnTo>
                      <a:pt x="822" y="584"/>
                    </a:lnTo>
                    <a:lnTo>
                      <a:pt x="826" y="580"/>
                    </a:lnTo>
                    <a:lnTo>
                      <a:pt x="822" y="574"/>
                    </a:lnTo>
                    <a:lnTo>
                      <a:pt x="816" y="569"/>
                    </a:lnTo>
                    <a:lnTo>
                      <a:pt x="810" y="563"/>
                    </a:lnTo>
                    <a:lnTo>
                      <a:pt x="806" y="560"/>
                    </a:lnTo>
                    <a:lnTo>
                      <a:pt x="800" y="555"/>
                    </a:lnTo>
                    <a:lnTo>
                      <a:pt x="796" y="552"/>
                    </a:lnTo>
                    <a:lnTo>
                      <a:pt x="789" y="547"/>
                    </a:lnTo>
                    <a:lnTo>
                      <a:pt x="784" y="543"/>
                    </a:lnTo>
                    <a:lnTo>
                      <a:pt x="778" y="539"/>
                    </a:lnTo>
                    <a:lnTo>
                      <a:pt x="775" y="536"/>
                    </a:lnTo>
                    <a:lnTo>
                      <a:pt x="767" y="531"/>
                    </a:lnTo>
                    <a:lnTo>
                      <a:pt x="765" y="530"/>
                    </a:lnTo>
                    <a:lnTo>
                      <a:pt x="768" y="530"/>
                    </a:lnTo>
                    <a:lnTo>
                      <a:pt x="772" y="531"/>
                    </a:lnTo>
                    <a:lnTo>
                      <a:pt x="777" y="533"/>
                    </a:lnTo>
                    <a:lnTo>
                      <a:pt x="783" y="536"/>
                    </a:lnTo>
                    <a:lnTo>
                      <a:pt x="789" y="537"/>
                    </a:lnTo>
                    <a:lnTo>
                      <a:pt x="797" y="540"/>
                    </a:lnTo>
                    <a:lnTo>
                      <a:pt x="806" y="543"/>
                    </a:lnTo>
                    <a:lnTo>
                      <a:pt x="814" y="545"/>
                    </a:lnTo>
                    <a:lnTo>
                      <a:pt x="821" y="547"/>
                    </a:lnTo>
                    <a:lnTo>
                      <a:pt x="829" y="549"/>
                    </a:lnTo>
                    <a:lnTo>
                      <a:pt x="837" y="551"/>
                    </a:lnTo>
                    <a:lnTo>
                      <a:pt x="843" y="552"/>
                    </a:lnTo>
                    <a:lnTo>
                      <a:pt x="850" y="554"/>
                    </a:lnTo>
                    <a:lnTo>
                      <a:pt x="856" y="555"/>
                    </a:lnTo>
                    <a:lnTo>
                      <a:pt x="859" y="557"/>
                    </a:lnTo>
                    <a:lnTo>
                      <a:pt x="869" y="552"/>
                    </a:lnTo>
                    <a:lnTo>
                      <a:pt x="878" y="544"/>
                    </a:lnTo>
                    <a:lnTo>
                      <a:pt x="882" y="534"/>
                    </a:lnTo>
                    <a:lnTo>
                      <a:pt x="884" y="528"/>
                    </a:lnTo>
                    <a:lnTo>
                      <a:pt x="881" y="524"/>
                    </a:lnTo>
                    <a:lnTo>
                      <a:pt x="879" y="523"/>
                    </a:lnTo>
                    <a:lnTo>
                      <a:pt x="874" y="520"/>
                    </a:lnTo>
                    <a:lnTo>
                      <a:pt x="869" y="517"/>
                    </a:lnTo>
                    <a:lnTo>
                      <a:pt x="862" y="512"/>
                    </a:lnTo>
                    <a:lnTo>
                      <a:pt x="856" y="509"/>
                    </a:lnTo>
                    <a:lnTo>
                      <a:pt x="848" y="503"/>
                    </a:lnTo>
                    <a:lnTo>
                      <a:pt x="841" y="500"/>
                    </a:lnTo>
                    <a:lnTo>
                      <a:pt x="832" y="496"/>
                    </a:lnTo>
                    <a:lnTo>
                      <a:pt x="825" y="491"/>
                    </a:lnTo>
                    <a:lnTo>
                      <a:pt x="818" y="488"/>
                    </a:lnTo>
                    <a:lnTo>
                      <a:pt x="812" y="485"/>
                    </a:lnTo>
                    <a:lnTo>
                      <a:pt x="807" y="481"/>
                    </a:lnTo>
                    <a:lnTo>
                      <a:pt x="804" y="479"/>
                    </a:lnTo>
                    <a:lnTo>
                      <a:pt x="800" y="478"/>
                    </a:lnTo>
                    <a:lnTo>
                      <a:pt x="816" y="471"/>
                    </a:lnTo>
                    <a:lnTo>
                      <a:pt x="820" y="474"/>
                    </a:lnTo>
                    <a:lnTo>
                      <a:pt x="824" y="476"/>
                    </a:lnTo>
                    <a:lnTo>
                      <a:pt x="831" y="479"/>
                    </a:lnTo>
                    <a:lnTo>
                      <a:pt x="837" y="482"/>
                    </a:lnTo>
                    <a:lnTo>
                      <a:pt x="846" y="488"/>
                    </a:lnTo>
                    <a:lnTo>
                      <a:pt x="856" y="490"/>
                    </a:lnTo>
                    <a:lnTo>
                      <a:pt x="866" y="496"/>
                    </a:lnTo>
                    <a:lnTo>
                      <a:pt x="874" y="499"/>
                    </a:lnTo>
                    <a:lnTo>
                      <a:pt x="883" y="502"/>
                    </a:lnTo>
                    <a:lnTo>
                      <a:pt x="892" y="505"/>
                    </a:lnTo>
                    <a:lnTo>
                      <a:pt x="901" y="508"/>
                    </a:lnTo>
                    <a:lnTo>
                      <a:pt x="908" y="508"/>
                    </a:lnTo>
                    <a:lnTo>
                      <a:pt x="914" y="508"/>
                    </a:lnTo>
                    <a:lnTo>
                      <a:pt x="919" y="506"/>
                    </a:lnTo>
                    <a:lnTo>
                      <a:pt x="923" y="502"/>
                    </a:lnTo>
                    <a:lnTo>
                      <a:pt x="924" y="494"/>
                    </a:lnTo>
                    <a:lnTo>
                      <a:pt x="925" y="488"/>
                    </a:lnTo>
                    <a:lnTo>
                      <a:pt x="924" y="481"/>
                    </a:lnTo>
                    <a:lnTo>
                      <a:pt x="923" y="478"/>
                    </a:lnTo>
                    <a:lnTo>
                      <a:pt x="915" y="474"/>
                    </a:lnTo>
                    <a:lnTo>
                      <a:pt x="910" y="471"/>
                    </a:lnTo>
                    <a:lnTo>
                      <a:pt x="904" y="468"/>
                    </a:lnTo>
                    <a:lnTo>
                      <a:pt x="900" y="467"/>
                    </a:lnTo>
                    <a:lnTo>
                      <a:pt x="893" y="464"/>
                    </a:lnTo>
                    <a:lnTo>
                      <a:pt x="888" y="461"/>
                    </a:lnTo>
                    <a:lnTo>
                      <a:pt x="880" y="458"/>
                    </a:lnTo>
                    <a:lnTo>
                      <a:pt x="874" y="455"/>
                    </a:lnTo>
                    <a:lnTo>
                      <a:pt x="869" y="454"/>
                    </a:lnTo>
                    <a:lnTo>
                      <a:pt x="867" y="454"/>
                    </a:lnTo>
                    <a:lnTo>
                      <a:pt x="860" y="450"/>
                    </a:lnTo>
                    <a:lnTo>
                      <a:pt x="853" y="448"/>
                    </a:lnTo>
                    <a:lnTo>
                      <a:pt x="843" y="444"/>
                    </a:lnTo>
                    <a:lnTo>
                      <a:pt x="835" y="440"/>
                    </a:lnTo>
                    <a:lnTo>
                      <a:pt x="825" y="436"/>
                    </a:lnTo>
                    <a:lnTo>
                      <a:pt x="818" y="433"/>
                    </a:lnTo>
                    <a:lnTo>
                      <a:pt x="811" y="431"/>
                    </a:lnTo>
                    <a:lnTo>
                      <a:pt x="810" y="431"/>
                    </a:lnTo>
                    <a:lnTo>
                      <a:pt x="783" y="423"/>
                    </a:lnTo>
                    <a:lnTo>
                      <a:pt x="783" y="423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flipH="1">
                <a:off x="1827000" y="5664240"/>
                <a:ext cx="86040" cy="27000"/>
              </a:xfrm>
              <a:custGeom>
                <a:avLst/>
                <a:gdLst/>
                <a:ahLst/>
                <a:rect l="l" t="t" r="r" b="b"/>
                <a:pathLst>
                  <a:path w="197" h="72">
                    <a:moveTo>
                      <a:pt x="5" y="43"/>
                    </a:moveTo>
                    <a:lnTo>
                      <a:pt x="0" y="18"/>
                    </a:lnTo>
                    <a:lnTo>
                      <a:pt x="10" y="18"/>
                    </a:lnTo>
                    <a:lnTo>
                      <a:pt x="11" y="38"/>
                    </a:lnTo>
                    <a:lnTo>
                      <a:pt x="36" y="35"/>
                    </a:lnTo>
                    <a:lnTo>
                      <a:pt x="34" y="8"/>
                    </a:lnTo>
                    <a:lnTo>
                      <a:pt x="44" y="5"/>
                    </a:lnTo>
                    <a:lnTo>
                      <a:pt x="45" y="31"/>
                    </a:lnTo>
                    <a:lnTo>
                      <a:pt x="62" y="30"/>
                    </a:lnTo>
                    <a:lnTo>
                      <a:pt x="62" y="0"/>
                    </a:lnTo>
                    <a:lnTo>
                      <a:pt x="74" y="4"/>
                    </a:lnTo>
                    <a:lnTo>
                      <a:pt x="72" y="33"/>
                    </a:lnTo>
                    <a:lnTo>
                      <a:pt x="93" y="38"/>
                    </a:lnTo>
                    <a:lnTo>
                      <a:pt x="96" y="10"/>
                    </a:lnTo>
                    <a:lnTo>
                      <a:pt x="110" y="14"/>
                    </a:lnTo>
                    <a:lnTo>
                      <a:pt x="103" y="39"/>
                    </a:lnTo>
                    <a:lnTo>
                      <a:pt x="125" y="48"/>
                    </a:lnTo>
                    <a:lnTo>
                      <a:pt x="131" y="21"/>
                    </a:lnTo>
                    <a:lnTo>
                      <a:pt x="145" y="25"/>
                    </a:lnTo>
                    <a:lnTo>
                      <a:pt x="133" y="49"/>
                    </a:lnTo>
                    <a:lnTo>
                      <a:pt x="149" y="54"/>
                    </a:lnTo>
                    <a:lnTo>
                      <a:pt x="156" y="31"/>
                    </a:lnTo>
                    <a:lnTo>
                      <a:pt x="168" y="35"/>
                    </a:lnTo>
                    <a:lnTo>
                      <a:pt x="154" y="57"/>
                    </a:lnTo>
                    <a:lnTo>
                      <a:pt x="175" y="64"/>
                    </a:lnTo>
                    <a:lnTo>
                      <a:pt x="182" y="41"/>
                    </a:lnTo>
                    <a:lnTo>
                      <a:pt x="197" y="51"/>
                    </a:lnTo>
                    <a:lnTo>
                      <a:pt x="180" y="72"/>
                    </a:lnTo>
                    <a:lnTo>
                      <a:pt x="120" y="54"/>
                    </a:lnTo>
                    <a:lnTo>
                      <a:pt x="59" y="43"/>
                    </a:lnTo>
                    <a:lnTo>
                      <a:pt x="5" y="43"/>
                    </a:lnTo>
                    <a:lnTo>
                      <a:pt x="5" y="43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flipH="1">
                <a:off x="1854720" y="5697000"/>
                <a:ext cx="76320" cy="43920"/>
              </a:xfrm>
              <a:custGeom>
                <a:avLst/>
                <a:gdLst/>
                <a:ahLst/>
                <a:rect l="l" t="t" r="r" b="b"/>
                <a:pathLst>
                  <a:path w="175" h="115">
                    <a:moveTo>
                      <a:pt x="175" y="92"/>
                    </a:moveTo>
                    <a:lnTo>
                      <a:pt x="171" y="115"/>
                    </a:lnTo>
                    <a:lnTo>
                      <a:pt x="161" y="111"/>
                    </a:lnTo>
                    <a:lnTo>
                      <a:pt x="166" y="93"/>
                    </a:lnTo>
                    <a:lnTo>
                      <a:pt x="145" y="85"/>
                    </a:lnTo>
                    <a:lnTo>
                      <a:pt x="137" y="113"/>
                    </a:lnTo>
                    <a:lnTo>
                      <a:pt x="127" y="110"/>
                    </a:lnTo>
                    <a:lnTo>
                      <a:pt x="136" y="86"/>
                    </a:lnTo>
                    <a:lnTo>
                      <a:pt x="118" y="83"/>
                    </a:lnTo>
                    <a:lnTo>
                      <a:pt x="109" y="109"/>
                    </a:lnTo>
                    <a:lnTo>
                      <a:pt x="97" y="100"/>
                    </a:lnTo>
                    <a:lnTo>
                      <a:pt x="110" y="75"/>
                    </a:lnTo>
                    <a:lnTo>
                      <a:pt x="91" y="63"/>
                    </a:lnTo>
                    <a:lnTo>
                      <a:pt x="80" y="86"/>
                    </a:lnTo>
                    <a:lnTo>
                      <a:pt x="67" y="78"/>
                    </a:lnTo>
                    <a:lnTo>
                      <a:pt x="84" y="59"/>
                    </a:lnTo>
                    <a:lnTo>
                      <a:pt x="66" y="43"/>
                    </a:lnTo>
                    <a:lnTo>
                      <a:pt x="50" y="64"/>
                    </a:lnTo>
                    <a:lnTo>
                      <a:pt x="38" y="57"/>
                    </a:lnTo>
                    <a:lnTo>
                      <a:pt x="58" y="39"/>
                    </a:lnTo>
                    <a:lnTo>
                      <a:pt x="46" y="27"/>
                    </a:lnTo>
                    <a:lnTo>
                      <a:pt x="30" y="47"/>
                    </a:lnTo>
                    <a:lnTo>
                      <a:pt x="21" y="37"/>
                    </a:lnTo>
                    <a:lnTo>
                      <a:pt x="40" y="21"/>
                    </a:lnTo>
                    <a:lnTo>
                      <a:pt x="25" y="8"/>
                    </a:lnTo>
                    <a:lnTo>
                      <a:pt x="11" y="29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74" y="37"/>
                    </a:lnTo>
                    <a:lnTo>
                      <a:pt x="127" y="72"/>
                    </a:lnTo>
                    <a:lnTo>
                      <a:pt x="175" y="92"/>
                    </a:lnTo>
                    <a:lnTo>
                      <a:pt x="175" y="92"/>
                    </a:lnTo>
                    <a:close/>
                  </a:path>
                </a:pathLst>
              </a:custGeom>
              <a:solidFill>
                <a:srgbClr val="4d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1" name=""/>
            <p:cNvGrpSpPr/>
            <p:nvPr/>
          </p:nvGrpSpPr>
          <p:grpSpPr>
            <a:xfrm>
              <a:off x="4999320" y="5217840"/>
              <a:ext cx="1934640" cy="1400040"/>
              <a:chOff x="4999320" y="5217840"/>
              <a:chExt cx="1934640" cy="1400040"/>
            </a:xfrm>
          </p:grpSpPr>
          <p:pic>
            <p:nvPicPr>
              <p:cNvPr id="232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9320" y="5217840"/>
                <a:ext cx="1934640" cy="1400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23" name=""/>
              <p:cNvGrpSpPr/>
              <p:nvPr/>
            </p:nvGrpSpPr>
            <p:grpSpPr>
              <a:xfrm>
                <a:off x="5935680" y="6170040"/>
                <a:ext cx="561600" cy="393480"/>
                <a:chOff x="5935680" y="6170040"/>
                <a:chExt cx="561600" cy="393480"/>
              </a:xfrm>
            </p:grpSpPr>
            <p:pic>
              <p:nvPicPr>
                <p:cNvPr id="2324" name="" descr=""/>
                <p:cNvPicPr/>
                <p:nvPr/>
              </p:nvPicPr>
              <p:blipFill>
                <a:blip r:embed="rId5"/>
                <a:stretch/>
              </p:blipFill>
              <p:spPr>
                <a:xfrm flipH="1" rot="16200000">
                  <a:off x="6104880" y="6171120"/>
                  <a:ext cx="288720" cy="49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5" name="" descr=""/>
                <p:cNvPicPr/>
                <p:nvPr/>
              </p:nvPicPr>
              <p:blipFill>
                <a:blip r:embed="rId6"/>
                <a:stretch/>
              </p:blipFill>
              <p:spPr>
                <a:xfrm flipH="1" rot="16200000">
                  <a:off x="6039000" y="6066360"/>
                  <a:ext cx="288720" cy="495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326" name=""/>
            <p:cNvGrpSpPr/>
            <p:nvPr/>
          </p:nvGrpSpPr>
          <p:grpSpPr>
            <a:xfrm>
              <a:off x="2751840" y="4343400"/>
              <a:ext cx="3195720" cy="2328840"/>
              <a:chOff x="2751840" y="4343400"/>
              <a:chExt cx="3195720" cy="2328840"/>
            </a:xfrm>
          </p:grpSpPr>
          <p:sp>
            <p:nvSpPr>
              <p:cNvPr id="2327" name=""/>
              <p:cNvSpPr/>
              <p:nvPr/>
            </p:nvSpPr>
            <p:spPr>
              <a:xfrm>
                <a:off x="2751840" y="4584240"/>
                <a:ext cx="3034080" cy="2088000"/>
              </a:xfrm>
              <a:custGeom>
                <a:avLst/>
                <a:gdLst/>
                <a:ahLst/>
                <a:rect l="l" t="t" r="r" b="b"/>
                <a:pathLst>
                  <a:path w="3216" h="2304">
                    <a:moveTo>
                      <a:pt x="0" y="2304"/>
                    </a:moveTo>
                    <a:cubicBezTo>
                      <a:pt x="208" y="2195"/>
                      <a:pt x="961" y="1909"/>
                      <a:pt x="1248" y="1648"/>
                    </a:cubicBezTo>
                    <a:cubicBezTo>
                      <a:pt x="1535" y="1387"/>
                      <a:pt x="1392" y="1011"/>
                      <a:pt x="1720" y="736"/>
                    </a:cubicBezTo>
                    <a:cubicBezTo>
                      <a:pt x="2048" y="461"/>
                      <a:pt x="2904" y="153"/>
                      <a:pt x="3216" y="0"/>
                    </a:cubicBezTo>
                  </a:path>
                </a:pathLst>
              </a:custGeom>
              <a:noFill/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4834080" y="434340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5533560" y="466236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0" name=""/>
            <p:cNvGrpSpPr/>
            <p:nvPr/>
          </p:nvGrpSpPr>
          <p:grpSpPr>
            <a:xfrm>
              <a:off x="3694680" y="5163840"/>
              <a:ext cx="951480" cy="1202760"/>
              <a:chOff x="3694680" y="5163840"/>
              <a:chExt cx="951480" cy="1202760"/>
            </a:xfrm>
          </p:grpSpPr>
          <p:sp>
            <p:nvSpPr>
              <p:cNvPr id="2331" name=""/>
              <p:cNvSpPr/>
              <p:nvPr/>
            </p:nvSpPr>
            <p:spPr>
              <a:xfrm>
                <a:off x="3694680" y="5989680"/>
                <a:ext cx="317160" cy="303840"/>
              </a:xfrm>
              <a:prstGeom prst="line">
                <a:avLst/>
              </a:prstGeom>
              <a:ln w="38160">
                <a:solidFill>
                  <a:srgbClr val="cc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875760" y="5859360"/>
                <a:ext cx="317160" cy="303840"/>
              </a:xfrm>
              <a:prstGeom prst="line">
                <a:avLst/>
              </a:prstGeom>
              <a:ln w="38160">
                <a:solidFill>
                  <a:srgbClr val="cc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011840" y="5641920"/>
                <a:ext cx="317160" cy="304200"/>
              </a:xfrm>
              <a:prstGeom prst="line">
                <a:avLst/>
              </a:prstGeom>
              <a:ln w="38160">
                <a:solidFill>
                  <a:srgbClr val="cc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4102560" y="5337720"/>
                <a:ext cx="317160" cy="303840"/>
              </a:xfrm>
              <a:prstGeom prst="line">
                <a:avLst/>
              </a:prstGeom>
              <a:ln w="38160">
                <a:solidFill>
                  <a:srgbClr val="cc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4329000" y="5163840"/>
                <a:ext cx="317160" cy="304200"/>
              </a:xfrm>
              <a:prstGeom prst="line">
                <a:avLst/>
              </a:prstGeom>
              <a:ln w="38160">
                <a:solidFill>
                  <a:srgbClr val="cc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3736080" y="54046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4265640" y="5815800"/>
                <a:ext cx="3499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8" name=""/>
          <p:cNvSpPr/>
          <p:nvPr/>
        </p:nvSpPr>
        <p:spPr>
          <a:xfrm>
            <a:off x="2160" y="2038320"/>
            <a:ext cx="848052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874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Prove: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flow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alg eith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nds a better flow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r finds cut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such that rate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= cap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lg stops with an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for which rate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= cap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witnesses that the optimal flow cant be les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witnesses that it cant be mor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181480" y="15238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44"/>
                </a:moveTo>
                <a:lnTo>
                  <a:pt x="56" y="192"/>
                </a:lnTo>
                <a:lnTo>
                  <a:pt x="1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3987720" y="24256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44"/>
                </a:moveTo>
                <a:lnTo>
                  <a:pt x="56" y="192"/>
                </a:lnTo>
                <a:lnTo>
                  <a:pt x="1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6934320" y="28954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44"/>
                </a:moveTo>
                <a:lnTo>
                  <a:pt x="56" y="192"/>
                </a:lnTo>
                <a:lnTo>
                  <a:pt x="1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3505320" y="838080"/>
            <a:ext cx="533376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0" dur="indefinite" restart="never" nodeType="tmRoot">
          <p:childTnLst>
            <p:seq>
              <p:cTn id="3011" dur="indefinite" nodeType="mainSeq">
                <p:childTnLst>
                  <p:par>
                    <p:cTn id="3012" fill="hold">
                      <p:stCondLst>
                        <p:cond delay="0"/>
                      </p:stCondLst>
                      <p:childTnLst>
                        <p:par>
                          <p:cTn id="3013" fill="hold">
                            <p:stCondLst>
                              <p:cond delay="0"/>
                            </p:stCondLst>
                            <p:childTnLst>
                              <p:par>
                                <p:cTn id="30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2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7" dur="500" fill="hold"/>
                                        <p:tgtEl>
                                          <p:spTgt spid="2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8" fill="hold">
                      <p:stCondLst>
                        <p:cond delay="indefinite"/>
                      </p:stCondLst>
                      <p:childTnLst>
                        <p:par>
                          <p:cTn id="3019" fill="hold">
                            <p:stCondLst>
                              <p:cond delay="0"/>
                            </p:stCondLst>
                            <p:childTnLst>
                              <p:par>
                                <p:cTn id="3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2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3" dur="500" fill="hold"/>
                                        <p:tgtEl>
                                          <p:spTgt spid="2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6" dur="500" fill="hold"/>
                                        <p:tgtEl>
                                          <p:spTgt spid="2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7" dur="500" fill="hold"/>
                                        <p:tgtEl>
                                          <p:spTgt spid="2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8" fill="hold">
                      <p:stCondLst>
                        <p:cond delay="indefinite"/>
                      </p:stCondLst>
                      <p:childTnLst>
                        <p:par>
                          <p:cTn id="3029" fill="hold">
                            <p:stCondLst>
                              <p:cond delay="0"/>
                            </p:stCondLst>
                            <p:childTnLst>
                              <p:par>
                                <p:cTn id="30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2" dur="500" fill="hold"/>
                                        <p:tgtEl>
                                          <p:spTgt spid="2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3" dur="500" fill="hold"/>
                                        <p:tgtEl>
                                          <p:spTgt spid="2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6" dur="500" fill="hold"/>
                                        <p:tgtEl>
                                          <p:spTgt spid="2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7" dur="500" fill="hold"/>
                                        <p:tgtEl>
                                          <p:spTgt spid="2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8" fill="hold">
                      <p:stCondLst>
                        <p:cond delay="indefinite"/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2" dur="500" fill="hold"/>
                                        <p:tgtEl>
                                          <p:spTgt spid="2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3" dur="500" fill="hold"/>
                                        <p:tgtEl>
                                          <p:spTgt spid="2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4" fill="hold">
                      <p:stCondLst>
                        <p:cond delay="indefinite"/>
                      </p:stCondLst>
                      <p:childTnLst>
                        <p:par>
                          <p:cTn id="3045" fill="hold">
                            <p:stCondLst>
                              <p:cond delay="0"/>
                            </p:stCondLst>
                            <p:childTnLst>
                              <p:par>
                                <p:cTn id="30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8" dur="500" fill="hold"/>
                                        <p:tgtEl>
                                          <p:spTgt spid="2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9" dur="500" fill="hold"/>
                                        <p:tgtEl>
                                          <p:spTgt spid="2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2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2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0" dur="1000" fill="hold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1" dur="1000" fill="hold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2" dur="1000" fill="hold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1000" fill="hold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ll Climb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457200" y="3124080"/>
            <a:ext cx="8559720" cy="3524400"/>
          </a:xfrm>
          <a:custGeom>
            <a:avLst/>
            <a:gdLst/>
            <a:ahLst/>
            <a:rect l="l" t="t" r="r" b="b"/>
            <a:pathLst>
              <a:path w="5392" h="2220">
                <a:moveTo>
                  <a:pt x="0" y="2206"/>
                </a:moveTo>
                <a:cubicBezTo>
                  <a:pt x="172" y="2219"/>
                  <a:pt x="327" y="2220"/>
                  <a:pt x="499" y="2108"/>
                </a:cubicBezTo>
                <a:cubicBezTo>
                  <a:pt x="671" y="1996"/>
                  <a:pt x="845" y="1681"/>
                  <a:pt x="1032" y="1535"/>
                </a:cubicBezTo>
                <a:cubicBezTo>
                  <a:pt x="1219" y="1389"/>
                  <a:pt x="1432" y="1260"/>
                  <a:pt x="1624" y="1231"/>
                </a:cubicBezTo>
                <a:cubicBezTo>
                  <a:pt x="1816" y="1202"/>
                  <a:pt x="2012" y="1367"/>
                  <a:pt x="2184" y="1359"/>
                </a:cubicBezTo>
                <a:cubicBezTo>
                  <a:pt x="2356" y="1351"/>
                  <a:pt x="2448" y="1360"/>
                  <a:pt x="2656" y="1183"/>
                </a:cubicBezTo>
                <a:cubicBezTo>
                  <a:pt x="2864" y="1006"/>
                  <a:pt x="3156" y="440"/>
                  <a:pt x="3432" y="295"/>
                </a:cubicBezTo>
                <a:cubicBezTo>
                  <a:pt x="3708" y="150"/>
                  <a:pt x="3985" y="0"/>
                  <a:pt x="4312" y="311"/>
                </a:cubicBezTo>
                <a:cubicBezTo>
                  <a:pt x="4639" y="622"/>
                  <a:pt x="5167" y="1774"/>
                  <a:pt x="5392" y="215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57200" y="3105000"/>
            <a:ext cx="8559720" cy="3524400"/>
          </a:xfrm>
          <a:custGeom>
            <a:avLst/>
            <a:gdLst/>
            <a:ahLst/>
            <a:rect l="l" t="t" r="r" b="b"/>
            <a:pathLst>
              <a:path w="5392" h="2220">
                <a:moveTo>
                  <a:pt x="0" y="2206"/>
                </a:moveTo>
                <a:cubicBezTo>
                  <a:pt x="172" y="2219"/>
                  <a:pt x="327" y="2220"/>
                  <a:pt x="499" y="2108"/>
                </a:cubicBezTo>
                <a:cubicBezTo>
                  <a:pt x="671" y="1996"/>
                  <a:pt x="845" y="1681"/>
                  <a:pt x="1032" y="1535"/>
                </a:cubicBezTo>
                <a:cubicBezTo>
                  <a:pt x="1219" y="1389"/>
                  <a:pt x="1413" y="1293"/>
                  <a:pt x="1624" y="1231"/>
                </a:cubicBezTo>
                <a:cubicBezTo>
                  <a:pt x="1835" y="1169"/>
                  <a:pt x="2117" y="1196"/>
                  <a:pt x="2296" y="1160"/>
                </a:cubicBezTo>
                <a:cubicBezTo>
                  <a:pt x="2475" y="1124"/>
                  <a:pt x="2507" y="1160"/>
                  <a:pt x="2696" y="1016"/>
                </a:cubicBezTo>
                <a:cubicBezTo>
                  <a:pt x="2885" y="872"/>
                  <a:pt x="3163" y="412"/>
                  <a:pt x="3432" y="295"/>
                </a:cubicBezTo>
                <a:cubicBezTo>
                  <a:pt x="3701" y="178"/>
                  <a:pt x="3985" y="0"/>
                  <a:pt x="4312" y="311"/>
                </a:cubicBezTo>
                <a:cubicBezTo>
                  <a:pt x="4639" y="622"/>
                  <a:pt x="5167" y="1774"/>
                  <a:pt x="5392" y="215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671760" y="990720"/>
            <a:ext cx="1722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blem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914400" y="1584360"/>
            <a:ext cx="3803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n our Network Flow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lgorithm get stuck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 a local maximum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8" name=""/>
          <p:cNvGrpSpPr/>
          <p:nvPr/>
        </p:nvGrpSpPr>
        <p:grpSpPr>
          <a:xfrm>
            <a:off x="2743200" y="2590920"/>
            <a:ext cx="6093360" cy="2514240"/>
            <a:chOff x="2743200" y="2590920"/>
            <a:chExt cx="6093360" cy="2514240"/>
          </a:xfrm>
        </p:grpSpPr>
        <p:grpSp>
          <p:nvGrpSpPr>
            <p:cNvPr id="2349" name=""/>
            <p:cNvGrpSpPr/>
            <p:nvPr/>
          </p:nvGrpSpPr>
          <p:grpSpPr>
            <a:xfrm>
              <a:off x="2743200" y="4394160"/>
              <a:ext cx="380520" cy="711000"/>
              <a:chOff x="2743200" y="4394160"/>
              <a:chExt cx="380520" cy="711000"/>
            </a:xfrm>
          </p:grpSpPr>
          <p:sp>
            <p:nvSpPr>
              <p:cNvPr id="2350" name=""/>
              <p:cNvSpPr/>
              <p:nvPr/>
            </p:nvSpPr>
            <p:spPr>
              <a:xfrm>
                <a:off x="2811240" y="4394160"/>
                <a:ext cx="189000" cy="148320"/>
              </a:xfrm>
              <a:custGeom>
                <a:avLst/>
                <a:gdLst/>
                <a:ahLst/>
                <a:rect l="l" t="t" r="r" b="b"/>
                <a:pathLst>
                  <a:path w="410" h="406">
                    <a:moveTo>
                      <a:pt x="268" y="117"/>
                    </a:moveTo>
                    <a:lnTo>
                      <a:pt x="217" y="41"/>
                    </a:lnTo>
                    <a:lnTo>
                      <a:pt x="166" y="0"/>
                    </a:lnTo>
                    <a:lnTo>
                      <a:pt x="106" y="0"/>
                    </a:lnTo>
                    <a:lnTo>
                      <a:pt x="40" y="26"/>
                    </a:lnTo>
                    <a:lnTo>
                      <a:pt x="10" y="71"/>
                    </a:lnTo>
                    <a:lnTo>
                      <a:pt x="0" y="132"/>
                    </a:lnTo>
                    <a:lnTo>
                      <a:pt x="10" y="213"/>
                    </a:lnTo>
                    <a:lnTo>
                      <a:pt x="50" y="304"/>
                    </a:lnTo>
                    <a:lnTo>
                      <a:pt x="121" y="365"/>
                    </a:lnTo>
                    <a:lnTo>
                      <a:pt x="176" y="395"/>
                    </a:lnTo>
                    <a:lnTo>
                      <a:pt x="232" y="406"/>
                    </a:lnTo>
                    <a:lnTo>
                      <a:pt x="278" y="390"/>
                    </a:lnTo>
                    <a:lnTo>
                      <a:pt x="303" y="365"/>
                    </a:lnTo>
                    <a:lnTo>
                      <a:pt x="319" y="304"/>
                    </a:lnTo>
                    <a:lnTo>
                      <a:pt x="314" y="233"/>
                    </a:lnTo>
                    <a:lnTo>
                      <a:pt x="298" y="173"/>
                    </a:lnTo>
                    <a:lnTo>
                      <a:pt x="399" y="117"/>
                    </a:lnTo>
                    <a:lnTo>
                      <a:pt x="410" y="92"/>
                    </a:lnTo>
                    <a:lnTo>
                      <a:pt x="399" y="81"/>
                    </a:lnTo>
                    <a:lnTo>
                      <a:pt x="288" y="147"/>
                    </a:lnTo>
                    <a:lnTo>
                      <a:pt x="268" y="11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743200" y="4559400"/>
                <a:ext cx="152280" cy="199440"/>
              </a:xfrm>
              <a:custGeom>
                <a:avLst/>
                <a:gdLst/>
                <a:ahLst/>
                <a:rect l="l" t="t" r="r" b="b"/>
                <a:pathLst>
                  <a:path w="329" h="546">
                    <a:moveTo>
                      <a:pt x="329" y="15"/>
                    </a:moveTo>
                    <a:lnTo>
                      <a:pt x="293" y="0"/>
                    </a:lnTo>
                    <a:lnTo>
                      <a:pt x="217" y="5"/>
                    </a:lnTo>
                    <a:lnTo>
                      <a:pt x="151" y="56"/>
                    </a:lnTo>
                    <a:lnTo>
                      <a:pt x="55" y="162"/>
                    </a:lnTo>
                    <a:lnTo>
                      <a:pt x="5" y="248"/>
                    </a:lnTo>
                    <a:lnTo>
                      <a:pt x="0" y="278"/>
                    </a:lnTo>
                    <a:lnTo>
                      <a:pt x="25" y="334"/>
                    </a:lnTo>
                    <a:lnTo>
                      <a:pt x="80" y="359"/>
                    </a:lnTo>
                    <a:lnTo>
                      <a:pt x="151" y="389"/>
                    </a:lnTo>
                    <a:lnTo>
                      <a:pt x="207" y="404"/>
                    </a:lnTo>
                    <a:lnTo>
                      <a:pt x="232" y="430"/>
                    </a:lnTo>
                    <a:lnTo>
                      <a:pt x="217" y="465"/>
                    </a:lnTo>
                    <a:lnTo>
                      <a:pt x="177" y="506"/>
                    </a:lnTo>
                    <a:lnTo>
                      <a:pt x="126" y="511"/>
                    </a:lnTo>
                    <a:lnTo>
                      <a:pt x="91" y="495"/>
                    </a:lnTo>
                    <a:lnTo>
                      <a:pt x="70" y="511"/>
                    </a:lnTo>
                    <a:lnTo>
                      <a:pt x="75" y="531"/>
                    </a:lnTo>
                    <a:lnTo>
                      <a:pt x="116" y="546"/>
                    </a:lnTo>
                    <a:lnTo>
                      <a:pt x="177" y="546"/>
                    </a:lnTo>
                    <a:lnTo>
                      <a:pt x="232" y="531"/>
                    </a:lnTo>
                    <a:lnTo>
                      <a:pt x="263" y="511"/>
                    </a:lnTo>
                    <a:lnTo>
                      <a:pt x="283" y="475"/>
                    </a:lnTo>
                    <a:lnTo>
                      <a:pt x="293" y="435"/>
                    </a:lnTo>
                    <a:lnTo>
                      <a:pt x="268" y="399"/>
                    </a:lnTo>
                    <a:lnTo>
                      <a:pt x="207" y="374"/>
                    </a:lnTo>
                    <a:lnTo>
                      <a:pt x="136" y="354"/>
                    </a:lnTo>
                    <a:lnTo>
                      <a:pt x="75" y="319"/>
                    </a:lnTo>
                    <a:lnTo>
                      <a:pt x="60" y="288"/>
                    </a:lnTo>
                    <a:lnTo>
                      <a:pt x="70" y="233"/>
                    </a:lnTo>
                    <a:lnTo>
                      <a:pt x="116" y="162"/>
                    </a:lnTo>
                    <a:lnTo>
                      <a:pt x="172" y="121"/>
                    </a:lnTo>
                    <a:lnTo>
                      <a:pt x="258" y="91"/>
                    </a:lnTo>
                    <a:lnTo>
                      <a:pt x="329" y="76"/>
                    </a:lnTo>
                    <a:lnTo>
                      <a:pt x="329" y="35"/>
                    </a:lnTo>
                    <a:lnTo>
                      <a:pt x="329" y="1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871360" y="4559760"/>
                <a:ext cx="142560" cy="245880"/>
              </a:xfrm>
              <a:custGeom>
                <a:avLst/>
                <a:gdLst/>
                <a:ahLst/>
                <a:rect l="l" t="t" r="r" b="b"/>
                <a:pathLst>
                  <a:path w="309" h="673">
                    <a:moveTo>
                      <a:pt x="269" y="212"/>
                    </a:moveTo>
                    <a:lnTo>
                      <a:pt x="238" y="86"/>
                    </a:lnTo>
                    <a:lnTo>
                      <a:pt x="203" y="25"/>
                    </a:lnTo>
                    <a:lnTo>
                      <a:pt x="126" y="0"/>
                    </a:lnTo>
                    <a:lnTo>
                      <a:pt x="50" y="10"/>
                    </a:lnTo>
                    <a:lnTo>
                      <a:pt x="15" y="76"/>
                    </a:lnTo>
                    <a:lnTo>
                      <a:pt x="20" y="157"/>
                    </a:lnTo>
                    <a:lnTo>
                      <a:pt x="40" y="288"/>
                    </a:lnTo>
                    <a:lnTo>
                      <a:pt x="40" y="404"/>
                    </a:lnTo>
                    <a:lnTo>
                      <a:pt x="15" y="505"/>
                    </a:lnTo>
                    <a:lnTo>
                      <a:pt x="0" y="561"/>
                    </a:lnTo>
                    <a:lnTo>
                      <a:pt x="10" y="612"/>
                    </a:lnTo>
                    <a:lnTo>
                      <a:pt x="45" y="638"/>
                    </a:lnTo>
                    <a:lnTo>
                      <a:pt x="91" y="663"/>
                    </a:lnTo>
                    <a:lnTo>
                      <a:pt x="136" y="673"/>
                    </a:lnTo>
                    <a:lnTo>
                      <a:pt x="193" y="673"/>
                    </a:lnTo>
                    <a:lnTo>
                      <a:pt x="259" y="622"/>
                    </a:lnTo>
                    <a:lnTo>
                      <a:pt x="309" y="515"/>
                    </a:lnTo>
                    <a:lnTo>
                      <a:pt x="304" y="419"/>
                    </a:lnTo>
                    <a:lnTo>
                      <a:pt x="274" y="308"/>
                    </a:lnTo>
                    <a:lnTo>
                      <a:pt x="269" y="2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2824200" y="4749480"/>
                <a:ext cx="108720" cy="355680"/>
              </a:xfrm>
              <a:custGeom>
                <a:avLst/>
                <a:gdLst/>
                <a:ahLst/>
                <a:rect l="l" t="t" r="r" b="b"/>
                <a:pathLst>
                  <a:path w="235" h="973">
                    <a:moveTo>
                      <a:pt x="223" y="15"/>
                    </a:moveTo>
                    <a:lnTo>
                      <a:pt x="163" y="0"/>
                    </a:lnTo>
                    <a:lnTo>
                      <a:pt x="127" y="15"/>
                    </a:lnTo>
                    <a:lnTo>
                      <a:pt x="112" y="66"/>
                    </a:lnTo>
                    <a:lnTo>
                      <a:pt x="127" y="344"/>
                    </a:lnTo>
                    <a:lnTo>
                      <a:pt x="127" y="410"/>
                    </a:lnTo>
                    <a:lnTo>
                      <a:pt x="107" y="532"/>
                    </a:lnTo>
                    <a:lnTo>
                      <a:pt x="102" y="674"/>
                    </a:lnTo>
                    <a:lnTo>
                      <a:pt x="112" y="745"/>
                    </a:lnTo>
                    <a:lnTo>
                      <a:pt x="102" y="785"/>
                    </a:lnTo>
                    <a:lnTo>
                      <a:pt x="31" y="846"/>
                    </a:lnTo>
                    <a:lnTo>
                      <a:pt x="0" y="922"/>
                    </a:lnTo>
                    <a:lnTo>
                      <a:pt x="6" y="947"/>
                    </a:lnTo>
                    <a:lnTo>
                      <a:pt x="61" y="973"/>
                    </a:lnTo>
                    <a:lnTo>
                      <a:pt x="76" y="962"/>
                    </a:lnTo>
                    <a:lnTo>
                      <a:pt x="82" y="917"/>
                    </a:lnTo>
                    <a:lnTo>
                      <a:pt x="97" y="851"/>
                    </a:lnTo>
                    <a:lnTo>
                      <a:pt x="122" y="821"/>
                    </a:lnTo>
                    <a:lnTo>
                      <a:pt x="152" y="801"/>
                    </a:lnTo>
                    <a:lnTo>
                      <a:pt x="178" y="775"/>
                    </a:lnTo>
                    <a:lnTo>
                      <a:pt x="183" y="755"/>
                    </a:lnTo>
                    <a:lnTo>
                      <a:pt x="168" y="730"/>
                    </a:lnTo>
                    <a:lnTo>
                      <a:pt x="152" y="715"/>
                    </a:lnTo>
                    <a:lnTo>
                      <a:pt x="142" y="653"/>
                    </a:lnTo>
                    <a:lnTo>
                      <a:pt x="152" y="526"/>
                    </a:lnTo>
                    <a:lnTo>
                      <a:pt x="188" y="380"/>
                    </a:lnTo>
                    <a:lnTo>
                      <a:pt x="223" y="263"/>
                    </a:lnTo>
                    <a:lnTo>
                      <a:pt x="235" y="122"/>
                    </a:lnTo>
                    <a:lnTo>
                      <a:pt x="223" y="1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2942640" y="4749480"/>
                <a:ext cx="177480" cy="300240"/>
              </a:xfrm>
              <a:custGeom>
                <a:avLst/>
                <a:gdLst/>
                <a:ahLst/>
                <a:rect l="l" t="t" r="r" b="b"/>
                <a:pathLst>
                  <a:path w="384" h="821">
                    <a:moveTo>
                      <a:pt x="126" y="122"/>
                    </a:moveTo>
                    <a:lnTo>
                      <a:pt x="116" y="40"/>
                    </a:lnTo>
                    <a:lnTo>
                      <a:pt x="71" y="0"/>
                    </a:lnTo>
                    <a:lnTo>
                      <a:pt x="5" y="5"/>
                    </a:lnTo>
                    <a:lnTo>
                      <a:pt x="0" y="40"/>
                    </a:lnTo>
                    <a:lnTo>
                      <a:pt x="5" y="117"/>
                    </a:lnTo>
                    <a:lnTo>
                      <a:pt x="40" y="233"/>
                    </a:lnTo>
                    <a:lnTo>
                      <a:pt x="66" y="319"/>
                    </a:lnTo>
                    <a:lnTo>
                      <a:pt x="96" y="435"/>
                    </a:lnTo>
                    <a:lnTo>
                      <a:pt x="106" y="536"/>
                    </a:lnTo>
                    <a:lnTo>
                      <a:pt x="106" y="617"/>
                    </a:lnTo>
                    <a:lnTo>
                      <a:pt x="91" y="679"/>
                    </a:lnTo>
                    <a:lnTo>
                      <a:pt x="76" y="699"/>
                    </a:lnTo>
                    <a:lnTo>
                      <a:pt x="76" y="719"/>
                    </a:lnTo>
                    <a:lnTo>
                      <a:pt x="96" y="750"/>
                    </a:lnTo>
                    <a:lnTo>
                      <a:pt x="131" y="760"/>
                    </a:lnTo>
                    <a:lnTo>
                      <a:pt x="187" y="760"/>
                    </a:lnTo>
                    <a:lnTo>
                      <a:pt x="288" y="785"/>
                    </a:lnTo>
                    <a:lnTo>
                      <a:pt x="318" y="821"/>
                    </a:lnTo>
                    <a:lnTo>
                      <a:pt x="364" y="800"/>
                    </a:lnTo>
                    <a:lnTo>
                      <a:pt x="384" y="750"/>
                    </a:lnTo>
                    <a:lnTo>
                      <a:pt x="364" y="730"/>
                    </a:lnTo>
                    <a:lnTo>
                      <a:pt x="278" y="719"/>
                    </a:lnTo>
                    <a:lnTo>
                      <a:pt x="182" y="719"/>
                    </a:lnTo>
                    <a:lnTo>
                      <a:pt x="141" y="714"/>
                    </a:lnTo>
                    <a:lnTo>
                      <a:pt x="131" y="684"/>
                    </a:lnTo>
                    <a:lnTo>
                      <a:pt x="141" y="627"/>
                    </a:lnTo>
                    <a:lnTo>
                      <a:pt x="147" y="531"/>
                    </a:lnTo>
                    <a:lnTo>
                      <a:pt x="136" y="425"/>
                    </a:lnTo>
                    <a:lnTo>
                      <a:pt x="121" y="284"/>
                    </a:lnTo>
                    <a:lnTo>
                      <a:pt x="126" y="162"/>
                    </a:lnTo>
                    <a:lnTo>
                      <a:pt x="126" y="1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flipV="1" rot="10800000">
                <a:off x="2971440" y="4564080"/>
                <a:ext cx="152280" cy="199440"/>
              </a:xfrm>
              <a:custGeom>
                <a:avLst/>
                <a:gdLst/>
                <a:ahLst/>
                <a:rect l="l" t="t" r="r" b="b"/>
                <a:pathLst>
                  <a:path w="329" h="546">
                    <a:moveTo>
                      <a:pt x="329" y="15"/>
                    </a:moveTo>
                    <a:lnTo>
                      <a:pt x="293" y="0"/>
                    </a:lnTo>
                    <a:lnTo>
                      <a:pt x="217" y="5"/>
                    </a:lnTo>
                    <a:lnTo>
                      <a:pt x="151" y="56"/>
                    </a:lnTo>
                    <a:lnTo>
                      <a:pt x="55" y="162"/>
                    </a:lnTo>
                    <a:lnTo>
                      <a:pt x="5" y="248"/>
                    </a:lnTo>
                    <a:lnTo>
                      <a:pt x="0" y="278"/>
                    </a:lnTo>
                    <a:lnTo>
                      <a:pt x="25" y="334"/>
                    </a:lnTo>
                    <a:lnTo>
                      <a:pt x="80" y="359"/>
                    </a:lnTo>
                    <a:lnTo>
                      <a:pt x="151" y="389"/>
                    </a:lnTo>
                    <a:lnTo>
                      <a:pt x="207" y="404"/>
                    </a:lnTo>
                    <a:lnTo>
                      <a:pt x="232" y="430"/>
                    </a:lnTo>
                    <a:lnTo>
                      <a:pt x="217" y="465"/>
                    </a:lnTo>
                    <a:lnTo>
                      <a:pt x="177" y="506"/>
                    </a:lnTo>
                    <a:lnTo>
                      <a:pt x="126" y="511"/>
                    </a:lnTo>
                    <a:lnTo>
                      <a:pt x="91" y="495"/>
                    </a:lnTo>
                    <a:lnTo>
                      <a:pt x="70" y="511"/>
                    </a:lnTo>
                    <a:lnTo>
                      <a:pt x="75" y="531"/>
                    </a:lnTo>
                    <a:lnTo>
                      <a:pt x="116" y="546"/>
                    </a:lnTo>
                    <a:lnTo>
                      <a:pt x="177" y="546"/>
                    </a:lnTo>
                    <a:lnTo>
                      <a:pt x="232" y="531"/>
                    </a:lnTo>
                    <a:lnTo>
                      <a:pt x="263" y="511"/>
                    </a:lnTo>
                    <a:lnTo>
                      <a:pt x="283" y="475"/>
                    </a:lnTo>
                    <a:lnTo>
                      <a:pt x="293" y="435"/>
                    </a:lnTo>
                    <a:lnTo>
                      <a:pt x="268" y="399"/>
                    </a:lnTo>
                    <a:lnTo>
                      <a:pt x="207" y="374"/>
                    </a:lnTo>
                    <a:lnTo>
                      <a:pt x="136" y="354"/>
                    </a:lnTo>
                    <a:lnTo>
                      <a:pt x="75" y="319"/>
                    </a:lnTo>
                    <a:lnTo>
                      <a:pt x="60" y="288"/>
                    </a:lnTo>
                    <a:lnTo>
                      <a:pt x="70" y="233"/>
                    </a:lnTo>
                    <a:lnTo>
                      <a:pt x="116" y="162"/>
                    </a:lnTo>
                    <a:lnTo>
                      <a:pt x="172" y="121"/>
                    </a:lnTo>
                    <a:lnTo>
                      <a:pt x="258" y="91"/>
                    </a:lnTo>
                    <a:lnTo>
                      <a:pt x="329" y="76"/>
                    </a:lnTo>
                    <a:lnTo>
                      <a:pt x="329" y="35"/>
                    </a:lnTo>
                    <a:lnTo>
                      <a:pt x="329" y="1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56" name=""/>
            <p:cNvSpPr/>
            <p:nvPr/>
          </p:nvSpPr>
          <p:spPr>
            <a:xfrm>
              <a:off x="3126960" y="4419720"/>
              <a:ext cx="1841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Local Max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57" name=""/>
            <p:cNvGrpSpPr/>
            <p:nvPr/>
          </p:nvGrpSpPr>
          <p:grpSpPr>
            <a:xfrm>
              <a:off x="6400800" y="2590920"/>
              <a:ext cx="380520" cy="711000"/>
              <a:chOff x="6400800" y="2590920"/>
              <a:chExt cx="380520" cy="711000"/>
            </a:xfrm>
          </p:grpSpPr>
          <p:sp>
            <p:nvSpPr>
              <p:cNvPr id="2358" name=""/>
              <p:cNvSpPr/>
              <p:nvPr/>
            </p:nvSpPr>
            <p:spPr>
              <a:xfrm>
                <a:off x="6468840" y="2590920"/>
                <a:ext cx="189000" cy="148320"/>
              </a:xfrm>
              <a:custGeom>
                <a:avLst/>
                <a:gdLst/>
                <a:ahLst/>
                <a:rect l="l" t="t" r="r" b="b"/>
                <a:pathLst>
                  <a:path w="410" h="406">
                    <a:moveTo>
                      <a:pt x="268" y="117"/>
                    </a:moveTo>
                    <a:lnTo>
                      <a:pt x="217" y="41"/>
                    </a:lnTo>
                    <a:lnTo>
                      <a:pt x="166" y="0"/>
                    </a:lnTo>
                    <a:lnTo>
                      <a:pt x="106" y="0"/>
                    </a:lnTo>
                    <a:lnTo>
                      <a:pt x="40" y="26"/>
                    </a:lnTo>
                    <a:lnTo>
                      <a:pt x="10" y="71"/>
                    </a:lnTo>
                    <a:lnTo>
                      <a:pt x="0" y="132"/>
                    </a:lnTo>
                    <a:lnTo>
                      <a:pt x="10" y="213"/>
                    </a:lnTo>
                    <a:lnTo>
                      <a:pt x="50" y="304"/>
                    </a:lnTo>
                    <a:lnTo>
                      <a:pt x="121" y="365"/>
                    </a:lnTo>
                    <a:lnTo>
                      <a:pt x="176" y="395"/>
                    </a:lnTo>
                    <a:lnTo>
                      <a:pt x="232" y="406"/>
                    </a:lnTo>
                    <a:lnTo>
                      <a:pt x="278" y="390"/>
                    </a:lnTo>
                    <a:lnTo>
                      <a:pt x="303" y="365"/>
                    </a:lnTo>
                    <a:lnTo>
                      <a:pt x="319" y="304"/>
                    </a:lnTo>
                    <a:lnTo>
                      <a:pt x="314" y="233"/>
                    </a:lnTo>
                    <a:lnTo>
                      <a:pt x="298" y="173"/>
                    </a:lnTo>
                    <a:lnTo>
                      <a:pt x="399" y="117"/>
                    </a:lnTo>
                    <a:lnTo>
                      <a:pt x="410" y="92"/>
                    </a:lnTo>
                    <a:lnTo>
                      <a:pt x="399" y="81"/>
                    </a:lnTo>
                    <a:lnTo>
                      <a:pt x="288" y="147"/>
                    </a:lnTo>
                    <a:lnTo>
                      <a:pt x="268" y="11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400800" y="2756160"/>
                <a:ext cx="152280" cy="199440"/>
              </a:xfrm>
              <a:custGeom>
                <a:avLst/>
                <a:gdLst/>
                <a:ahLst/>
                <a:rect l="l" t="t" r="r" b="b"/>
                <a:pathLst>
                  <a:path w="329" h="546">
                    <a:moveTo>
                      <a:pt x="329" y="15"/>
                    </a:moveTo>
                    <a:lnTo>
                      <a:pt x="293" y="0"/>
                    </a:lnTo>
                    <a:lnTo>
                      <a:pt x="217" y="5"/>
                    </a:lnTo>
                    <a:lnTo>
                      <a:pt x="151" y="56"/>
                    </a:lnTo>
                    <a:lnTo>
                      <a:pt x="55" y="162"/>
                    </a:lnTo>
                    <a:lnTo>
                      <a:pt x="5" y="248"/>
                    </a:lnTo>
                    <a:lnTo>
                      <a:pt x="0" y="278"/>
                    </a:lnTo>
                    <a:lnTo>
                      <a:pt x="25" y="334"/>
                    </a:lnTo>
                    <a:lnTo>
                      <a:pt x="80" y="359"/>
                    </a:lnTo>
                    <a:lnTo>
                      <a:pt x="151" y="389"/>
                    </a:lnTo>
                    <a:lnTo>
                      <a:pt x="207" y="404"/>
                    </a:lnTo>
                    <a:lnTo>
                      <a:pt x="232" y="430"/>
                    </a:lnTo>
                    <a:lnTo>
                      <a:pt x="217" y="465"/>
                    </a:lnTo>
                    <a:lnTo>
                      <a:pt x="177" y="506"/>
                    </a:lnTo>
                    <a:lnTo>
                      <a:pt x="126" y="511"/>
                    </a:lnTo>
                    <a:lnTo>
                      <a:pt x="91" y="495"/>
                    </a:lnTo>
                    <a:lnTo>
                      <a:pt x="70" y="511"/>
                    </a:lnTo>
                    <a:lnTo>
                      <a:pt x="75" y="531"/>
                    </a:lnTo>
                    <a:lnTo>
                      <a:pt x="116" y="546"/>
                    </a:lnTo>
                    <a:lnTo>
                      <a:pt x="177" y="546"/>
                    </a:lnTo>
                    <a:lnTo>
                      <a:pt x="232" y="531"/>
                    </a:lnTo>
                    <a:lnTo>
                      <a:pt x="263" y="511"/>
                    </a:lnTo>
                    <a:lnTo>
                      <a:pt x="283" y="475"/>
                    </a:lnTo>
                    <a:lnTo>
                      <a:pt x="293" y="435"/>
                    </a:lnTo>
                    <a:lnTo>
                      <a:pt x="268" y="399"/>
                    </a:lnTo>
                    <a:lnTo>
                      <a:pt x="207" y="374"/>
                    </a:lnTo>
                    <a:lnTo>
                      <a:pt x="136" y="354"/>
                    </a:lnTo>
                    <a:lnTo>
                      <a:pt x="75" y="319"/>
                    </a:lnTo>
                    <a:lnTo>
                      <a:pt x="60" y="288"/>
                    </a:lnTo>
                    <a:lnTo>
                      <a:pt x="70" y="233"/>
                    </a:lnTo>
                    <a:lnTo>
                      <a:pt x="116" y="162"/>
                    </a:lnTo>
                    <a:lnTo>
                      <a:pt x="172" y="121"/>
                    </a:lnTo>
                    <a:lnTo>
                      <a:pt x="258" y="91"/>
                    </a:lnTo>
                    <a:lnTo>
                      <a:pt x="329" y="76"/>
                    </a:lnTo>
                    <a:lnTo>
                      <a:pt x="329" y="35"/>
                    </a:lnTo>
                    <a:lnTo>
                      <a:pt x="329" y="1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6528960" y="2756160"/>
                <a:ext cx="142560" cy="245520"/>
              </a:xfrm>
              <a:custGeom>
                <a:avLst/>
                <a:gdLst/>
                <a:ahLst/>
                <a:rect l="l" t="t" r="r" b="b"/>
                <a:pathLst>
                  <a:path w="309" h="673">
                    <a:moveTo>
                      <a:pt x="269" y="212"/>
                    </a:moveTo>
                    <a:lnTo>
                      <a:pt x="238" y="86"/>
                    </a:lnTo>
                    <a:lnTo>
                      <a:pt x="203" y="25"/>
                    </a:lnTo>
                    <a:lnTo>
                      <a:pt x="126" y="0"/>
                    </a:lnTo>
                    <a:lnTo>
                      <a:pt x="50" y="10"/>
                    </a:lnTo>
                    <a:lnTo>
                      <a:pt x="15" y="76"/>
                    </a:lnTo>
                    <a:lnTo>
                      <a:pt x="20" y="157"/>
                    </a:lnTo>
                    <a:lnTo>
                      <a:pt x="40" y="288"/>
                    </a:lnTo>
                    <a:lnTo>
                      <a:pt x="40" y="404"/>
                    </a:lnTo>
                    <a:lnTo>
                      <a:pt x="15" y="505"/>
                    </a:lnTo>
                    <a:lnTo>
                      <a:pt x="0" y="561"/>
                    </a:lnTo>
                    <a:lnTo>
                      <a:pt x="10" y="612"/>
                    </a:lnTo>
                    <a:lnTo>
                      <a:pt x="45" y="638"/>
                    </a:lnTo>
                    <a:lnTo>
                      <a:pt x="91" y="663"/>
                    </a:lnTo>
                    <a:lnTo>
                      <a:pt x="136" y="673"/>
                    </a:lnTo>
                    <a:lnTo>
                      <a:pt x="193" y="673"/>
                    </a:lnTo>
                    <a:lnTo>
                      <a:pt x="259" y="622"/>
                    </a:lnTo>
                    <a:lnTo>
                      <a:pt x="309" y="515"/>
                    </a:lnTo>
                    <a:lnTo>
                      <a:pt x="304" y="419"/>
                    </a:lnTo>
                    <a:lnTo>
                      <a:pt x="274" y="308"/>
                    </a:lnTo>
                    <a:lnTo>
                      <a:pt x="269" y="2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6481800" y="2946240"/>
                <a:ext cx="108720" cy="355680"/>
              </a:xfrm>
              <a:custGeom>
                <a:avLst/>
                <a:gdLst/>
                <a:ahLst/>
                <a:rect l="l" t="t" r="r" b="b"/>
                <a:pathLst>
                  <a:path w="235" h="973">
                    <a:moveTo>
                      <a:pt x="223" y="15"/>
                    </a:moveTo>
                    <a:lnTo>
                      <a:pt x="163" y="0"/>
                    </a:lnTo>
                    <a:lnTo>
                      <a:pt x="127" y="15"/>
                    </a:lnTo>
                    <a:lnTo>
                      <a:pt x="112" y="66"/>
                    </a:lnTo>
                    <a:lnTo>
                      <a:pt x="127" y="344"/>
                    </a:lnTo>
                    <a:lnTo>
                      <a:pt x="127" y="410"/>
                    </a:lnTo>
                    <a:lnTo>
                      <a:pt x="107" y="532"/>
                    </a:lnTo>
                    <a:lnTo>
                      <a:pt x="102" y="674"/>
                    </a:lnTo>
                    <a:lnTo>
                      <a:pt x="112" y="745"/>
                    </a:lnTo>
                    <a:lnTo>
                      <a:pt x="102" y="785"/>
                    </a:lnTo>
                    <a:lnTo>
                      <a:pt x="31" y="846"/>
                    </a:lnTo>
                    <a:lnTo>
                      <a:pt x="0" y="922"/>
                    </a:lnTo>
                    <a:lnTo>
                      <a:pt x="6" y="947"/>
                    </a:lnTo>
                    <a:lnTo>
                      <a:pt x="61" y="973"/>
                    </a:lnTo>
                    <a:lnTo>
                      <a:pt x="76" y="962"/>
                    </a:lnTo>
                    <a:lnTo>
                      <a:pt x="82" y="917"/>
                    </a:lnTo>
                    <a:lnTo>
                      <a:pt x="97" y="851"/>
                    </a:lnTo>
                    <a:lnTo>
                      <a:pt x="122" y="821"/>
                    </a:lnTo>
                    <a:lnTo>
                      <a:pt x="152" y="801"/>
                    </a:lnTo>
                    <a:lnTo>
                      <a:pt x="178" y="775"/>
                    </a:lnTo>
                    <a:lnTo>
                      <a:pt x="183" y="755"/>
                    </a:lnTo>
                    <a:lnTo>
                      <a:pt x="168" y="730"/>
                    </a:lnTo>
                    <a:lnTo>
                      <a:pt x="152" y="715"/>
                    </a:lnTo>
                    <a:lnTo>
                      <a:pt x="142" y="653"/>
                    </a:lnTo>
                    <a:lnTo>
                      <a:pt x="152" y="526"/>
                    </a:lnTo>
                    <a:lnTo>
                      <a:pt x="188" y="380"/>
                    </a:lnTo>
                    <a:lnTo>
                      <a:pt x="223" y="263"/>
                    </a:lnTo>
                    <a:lnTo>
                      <a:pt x="235" y="122"/>
                    </a:lnTo>
                    <a:lnTo>
                      <a:pt x="223" y="1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6600240" y="2946240"/>
                <a:ext cx="177480" cy="300240"/>
              </a:xfrm>
              <a:custGeom>
                <a:avLst/>
                <a:gdLst/>
                <a:ahLst/>
                <a:rect l="l" t="t" r="r" b="b"/>
                <a:pathLst>
                  <a:path w="384" h="821">
                    <a:moveTo>
                      <a:pt x="126" y="122"/>
                    </a:moveTo>
                    <a:lnTo>
                      <a:pt x="116" y="40"/>
                    </a:lnTo>
                    <a:lnTo>
                      <a:pt x="71" y="0"/>
                    </a:lnTo>
                    <a:lnTo>
                      <a:pt x="5" y="5"/>
                    </a:lnTo>
                    <a:lnTo>
                      <a:pt x="0" y="40"/>
                    </a:lnTo>
                    <a:lnTo>
                      <a:pt x="5" y="117"/>
                    </a:lnTo>
                    <a:lnTo>
                      <a:pt x="40" y="233"/>
                    </a:lnTo>
                    <a:lnTo>
                      <a:pt x="66" y="319"/>
                    </a:lnTo>
                    <a:lnTo>
                      <a:pt x="96" y="435"/>
                    </a:lnTo>
                    <a:lnTo>
                      <a:pt x="106" y="536"/>
                    </a:lnTo>
                    <a:lnTo>
                      <a:pt x="106" y="617"/>
                    </a:lnTo>
                    <a:lnTo>
                      <a:pt x="91" y="679"/>
                    </a:lnTo>
                    <a:lnTo>
                      <a:pt x="76" y="699"/>
                    </a:lnTo>
                    <a:lnTo>
                      <a:pt x="76" y="719"/>
                    </a:lnTo>
                    <a:lnTo>
                      <a:pt x="96" y="750"/>
                    </a:lnTo>
                    <a:lnTo>
                      <a:pt x="131" y="760"/>
                    </a:lnTo>
                    <a:lnTo>
                      <a:pt x="187" y="760"/>
                    </a:lnTo>
                    <a:lnTo>
                      <a:pt x="288" y="785"/>
                    </a:lnTo>
                    <a:lnTo>
                      <a:pt x="318" y="821"/>
                    </a:lnTo>
                    <a:lnTo>
                      <a:pt x="364" y="800"/>
                    </a:lnTo>
                    <a:lnTo>
                      <a:pt x="384" y="750"/>
                    </a:lnTo>
                    <a:lnTo>
                      <a:pt x="364" y="730"/>
                    </a:lnTo>
                    <a:lnTo>
                      <a:pt x="278" y="719"/>
                    </a:lnTo>
                    <a:lnTo>
                      <a:pt x="182" y="719"/>
                    </a:lnTo>
                    <a:lnTo>
                      <a:pt x="141" y="714"/>
                    </a:lnTo>
                    <a:lnTo>
                      <a:pt x="131" y="684"/>
                    </a:lnTo>
                    <a:lnTo>
                      <a:pt x="141" y="627"/>
                    </a:lnTo>
                    <a:lnTo>
                      <a:pt x="147" y="531"/>
                    </a:lnTo>
                    <a:lnTo>
                      <a:pt x="136" y="425"/>
                    </a:lnTo>
                    <a:lnTo>
                      <a:pt x="121" y="284"/>
                    </a:lnTo>
                    <a:lnTo>
                      <a:pt x="126" y="162"/>
                    </a:lnTo>
                    <a:lnTo>
                      <a:pt x="126" y="1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 flipV="1" rot="10800000">
                <a:off x="6629040" y="2760840"/>
                <a:ext cx="152280" cy="199440"/>
              </a:xfrm>
              <a:custGeom>
                <a:avLst/>
                <a:gdLst/>
                <a:ahLst/>
                <a:rect l="l" t="t" r="r" b="b"/>
                <a:pathLst>
                  <a:path w="329" h="546">
                    <a:moveTo>
                      <a:pt x="329" y="15"/>
                    </a:moveTo>
                    <a:lnTo>
                      <a:pt x="293" y="0"/>
                    </a:lnTo>
                    <a:lnTo>
                      <a:pt x="217" y="5"/>
                    </a:lnTo>
                    <a:lnTo>
                      <a:pt x="151" y="56"/>
                    </a:lnTo>
                    <a:lnTo>
                      <a:pt x="55" y="162"/>
                    </a:lnTo>
                    <a:lnTo>
                      <a:pt x="5" y="248"/>
                    </a:lnTo>
                    <a:lnTo>
                      <a:pt x="0" y="278"/>
                    </a:lnTo>
                    <a:lnTo>
                      <a:pt x="25" y="334"/>
                    </a:lnTo>
                    <a:lnTo>
                      <a:pt x="80" y="359"/>
                    </a:lnTo>
                    <a:lnTo>
                      <a:pt x="151" y="389"/>
                    </a:lnTo>
                    <a:lnTo>
                      <a:pt x="207" y="404"/>
                    </a:lnTo>
                    <a:lnTo>
                      <a:pt x="232" y="430"/>
                    </a:lnTo>
                    <a:lnTo>
                      <a:pt x="217" y="465"/>
                    </a:lnTo>
                    <a:lnTo>
                      <a:pt x="177" y="506"/>
                    </a:lnTo>
                    <a:lnTo>
                      <a:pt x="126" y="511"/>
                    </a:lnTo>
                    <a:lnTo>
                      <a:pt x="91" y="495"/>
                    </a:lnTo>
                    <a:lnTo>
                      <a:pt x="70" y="511"/>
                    </a:lnTo>
                    <a:lnTo>
                      <a:pt x="75" y="531"/>
                    </a:lnTo>
                    <a:lnTo>
                      <a:pt x="116" y="546"/>
                    </a:lnTo>
                    <a:lnTo>
                      <a:pt x="177" y="546"/>
                    </a:lnTo>
                    <a:lnTo>
                      <a:pt x="232" y="531"/>
                    </a:lnTo>
                    <a:lnTo>
                      <a:pt x="263" y="511"/>
                    </a:lnTo>
                    <a:lnTo>
                      <a:pt x="283" y="475"/>
                    </a:lnTo>
                    <a:lnTo>
                      <a:pt x="293" y="435"/>
                    </a:lnTo>
                    <a:lnTo>
                      <a:pt x="268" y="399"/>
                    </a:lnTo>
                    <a:lnTo>
                      <a:pt x="207" y="374"/>
                    </a:lnTo>
                    <a:lnTo>
                      <a:pt x="136" y="354"/>
                    </a:lnTo>
                    <a:lnTo>
                      <a:pt x="75" y="319"/>
                    </a:lnTo>
                    <a:lnTo>
                      <a:pt x="60" y="288"/>
                    </a:lnTo>
                    <a:lnTo>
                      <a:pt x="70" y="233"/>
                    </a:lnTo>
                    <a:lnTo>
                      <a:pt x="116" y="162"/>
                    </a:lnTo>
                    <a:lnTo>
                      <a:pt x="172" y="121"/>
                    </a:lnTo>
                    <a:lnTo>
                      <a:pt x="258" y="91"/>
                    </a:lnTo>
                    <a:lnTo>
                      <a:pt x="329" y="76"/>
                    </a:lnTo>
                    <a:lnTo>
                      <a:pt x="329" y="35"/>
                    </a:lnTo>
                    <a:lnTo>
                      <a:pt x="329" y="1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64" name=""/>
            <p:cNvSpPr/>
            <p:nvPr/>
          </p:nvSpPr>
          <p:spPr>
            <a:xfrm>
              <a:off x="6825600" y="2666880"/>
              <a:ext cx="2010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Global Max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5" name=""/>
          <p:cNvGrpSpPr/>
          <p:nvPr/>
        </p:nvGrpSpPr>
        <p:grpSpPr>
          <a:xfrm>
            <a:off x="3263040" y="5513400"/>
            <a:ext cx="699120" cy="893880"/>
            <a:chOff x="3263040" y="5513400"/>
            <a:chExt cx="699120" cy="893880"/>
          </a:xfrm>
        </p:grpSpPr>
        <p:sp>
          <p:nvSpPr>
            <p:cNvPr id="2366" name=""/>
            <p:cNvSpPr/>
            <p:nvPr/>
          </p:nvSpPr>
          <p:spPr>
            <a:xfrm rot="19765200">
              <a:off x="3448080" y="5658120"/>
              <a:ext cx="140760" cy="116640"/>
            </a:xfrm>
            <a:custGeom>
              <a:avLst/>
              <a:gdLst/>
              <a:ahLst/>
              <a:rect l="l" t="t" r="r" b="b"/>
              <a:pathLst>
                <a:path w="600" h="608">
                  <a:moveTo>
                    <a:pt x="388" y="289"/>
                  </a:moveTo>
                  <a:lnTo>
                    <a:pt x="372" y="177"/>
                  </a:lnTo>
                  <a:lnTo>
                    <a:pt x="341" y="78"/>
                  </a:lnTo>
                  <a:lnTo>
                    <a:pt x="284" y="24"/>
                  </a:lnTo>
                  <a:lnTo>
                    <a:pt x="185" y="0"/>
                  </a:lnTo>
                  <a:lnTo>
                    <a:pt x="100" y="24"/>
                  </a:lnTo>
                  <a:lnTo>
                    <a:pt x="19" y="123"/>
                  </a:lnTo>
                  <a:lnTo>
                    <a:pt x="0" y="243"/>
                  </a:lnTo>
                  <a:lnTo>
                    <a:pt x="19" y="370"/>
                  </a:lnTo>
                  <a:lnTo>
                    <a:pt x="50" y="447"/>
                  </a:lnTo>
                  <a:lnTo>
                    <a:pt x="88" y="528"/>
                  </a:lnTo>
                  <a:lnTo>
                    <a:pt x="130" y="582"/>
                  </a:lnTo>
                  <a:lnTo>
                    <a:pt x="177" y="608"/>
                  </a:lnTo>
                  <a:lnTo>
                    <a:pt x="242" y="585"/>
                  </a:lnTo>
                  <a:lnTo>
                    <a:pt x="307" y="531"/>
                  </a:lnTo>
                  <a:lnTo>
                    <a:pt x="349" y="455"/>
                  </a:lnTo>
                  <a:lnTo>
                    <a:pt x="388" y="390"/>
                  </a:lnTo>
                  <a:lnTo>
                    <a:pt x="400" y="351"/>
                  </a:lnTo>
                  <a:lnTo>
                    <a:pt x="565" y="293"/>
                  </a:lnTo>
                  <a:lnTo>
                    <a:pt x="600" y="270"/>
                  </a:lnTo>
                  <a:lnTo>
                    <a:pt x="580" y="235"/>
                  </a:lnTo>
                  <a:lnTo>
                    <a:pt x="388" y="2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 rot="19765200">
              <a:off x="3495960" y="5802840"/>
              <a:ext cx="144720" cy="260640"/>
            </a:xfrm>
            <a:custGeom>
              <a:avLst/>
              <a:gdLst/>
              <a:ahLst/>
              <a:rect l="l" t="t" r="r" b="b"/>
              <a:pathLst>
                <a:path w="619" h="1085">
                  <a:moveTo>
                    <a:pt x="208" y="161"/>
                  </a:moveTo>
                  <a:lnTo>
                    <a:pt x="284" y="80"/>
                  </a:lnTo>
                  <a:lnTo>
                    <a:pt x="411" y="3"/>
                  </a:lnTo>
                  <a:lnTo>
                    <a:pt x="469" y="0"/>
                  </a:lnTo>
                  <a:lnTo>
                    <a:pt x="573" y="34"/>
                  </a:lnTo>
                  <a:lnTo>
                    <a:pt x="619" y="85"/>
                  </a:lnTo>
                  <a:lnTo>
                    <a:pt x="619" y="161"/>
                  </a:lnTo>
                  <a:lnTo>
                    <a:pt x="542" y="304"/>
                  </a:lnTo>
                  <a:lnTo>
                    <a:pt x="458" y="415"/>
                  </a:lnTo>
                  <a:lnTo>
                    <a:pt x="422" y="508"/>
                  </a:lnTo>
                  <a:lnTo>
                    <a:pt x="399" y="615"/>
                  </a:lnTo>
                  <a:lnTo>
                    <a:pt x="422" y="719"/>
                  </a:lnTo>
                  <a:lnTo>
                    <a:pt x="445" y="820"/>
                  </a:lnTo>
                  <a:lnTo>
                    <a:pt x="445" y="935"/>
                  </a:lnTo>
                  <a:lnTo>
                    <a:pt x="411" y="1005"/>
                  </a:lnTo>
                  <a:lnTo>
                    <a:pt x="334" y="1043"/>
                  </a:lnTo>
                  <a:lnTo>
                    <a:pt x="242" y="1085"/>
                  </a:lnTo>
                  <a:lnTo>
                    <a:pt x="157" y="1085"/>
                  </a:lnTo>
                  <a:lnTo>
                    <a:pt x="100" y="1054"/>
                  </a:lnTo>
                  <a:lnTo>
                    <a:pt x="23" y="927"/>
                  </a:lnTo>
                  <a:lnTo>
                    <a:pt x="0" y="797"/>
                  </a:lnTo>
                  <a:lnTo>
                    <a:pt x="8" y="628"/>
                  </a:lnTo>
                  <a:lnTo>
                    <a:pt x="65" y="415"/>
                  </a:lnTo>
                  <a:lnTo>
                    <a:pt x="123" y="277"/>
                  </a:lnTo>
                  <a:lnTo>
                    <a:pt x="208" y="1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rot="19765200">
              <a:off x="3654360" y="5928840"/>
              <a:ext cx="281520" cy="179640"/>
            </a:xfrm>
            <a:custGeom>
              <a:avLst/>
              <a:gdLst/>
              <a:ahLst/>
              <a:rect l="l" t="t" r="r" b="b"/>
              <a:pathLst>
                <a:path w="782" h="808">
                  <a:moveTo>
                    <a:pt x="0" y="76"/>
                  </a:moveTo>
                  <a:lnTo>
                    <a:pt x="66" y="0"/>
                  </a:lnTo>
                  <a:lnTo>
                    <a:pt x="163" y="0"/>
                  </a:lnTo>
                  <a:lnTo>
                    <a:pt x="343" y="19"/>
                  </a:lnTo>
                  <a:lnTo>
                    <a:pt x="555" y="30"/>
                  </a:lnTo>
                  <a:lnTo>
                    <a:pt x="636" y="65"/>
                  </a:lnTo>
                  <a:lnTo>
                    <a:pt x="670" y="110"/>
                  </a:lnTo>
                  <a:lnTo>
                    <a:pt x="678" y="180"/>
                  </a:lnTo>
                  <a:lnTo>
                    <a:pt x="654" y="253"/>
                  </a:lnTo>
                  <a:lnTo>
                    <a:pt x="589" y="365"/>
                  </a:lnTo>
                  <a:lnTo>
                    <a:pt x="504" y="457"/>
                  </a:lnTo>
                  <a:lnTo>
                    <a:pt x="439" y="541"/>
                  </a:lnTo>
                  <a:lnTo>
                    <a:pt x="412" y="607"/>
                  </a:lnTo>
                  <a:lnTo>
                    <a:pt x="393" y="653"/>
                  </a:lnTo>
                  <a:lnTo>
                    <a:pt x="400" y="689"/>
                  </a:lnTo>
                  <a:lnTo>
                    <a:pt x="405" y="711"/>
                  </a:lnTo>
                  <a:lnTo>
                    <a:pt x="482" y="711"/>
                  </a:lnTo>
                  <a:lnTo>
                    <a:pt x="601" y="692"/>
                  </a:lnTo>
                  <a:lnTo>
                    <a:pt x="678" y="692"/>
                  </a:lnTo>
                  <a:lnTo>
                    <a:pt x="758" y="723"/>
                  </a:lnTo>
                  <a:lnTo>
                    <a:pt x="782" y="761"/>
                  </a:lnTo>
                  <a:lnTo>
                    <a:pt x="758" y="796"/>
                  </a:lnTo>
                  <a:lnTo>
                    <a:pt x="724" y="808"/>
                  </a:lnTo>
                  <a:lnTo>
                    <a:pt x="670" y="792"/>
                  </a:lnTo>
                  <a:lnTo>
                    <a:pt x="597" y="749"/>
                  </a:lnTo>
                  <a:lnTo>
                    <a:pt x="520" y="757"/>
                  </a:lnTo>
                  <a:lnTo>
                    <a:pt x="393" y="780"/>
                  </a:lnTo>
                  <a:lnTo>
                    <a:pt x="355" y="773"/>
                  </a:lnTo>
                  <a:lnTo>
                    <a:pt x="335" y="746"/>
                  </a:lnTo>
                  <a:lnTo>
                    <a:pt x="335" y="681"/>
                  </a:lnTo>
                  <a:lnTo>
                    <a:pt x="335" y="588"/>
                  </a:lnTo>
                  <a:lnTo>
                    <a:pt x="389" y="518"/>
                  </a:lnTo>
                  <a:lnTo>
                    <a:pt x="470" y="414"/>
                  </a:lnTo>
                  <a:lnTo>
                    <a:pt x="540" y="323"/>
                  </a:lnTo>
                  <a:lnTo>
                    <a:pt x="586" y="253"/>
                  </a:lnTo>
                  <a:lnTo>
                    <a:pt x="609" y="192"/>
                  </a:lnTo>
                  <a:lnTo>
                    <a:pt x="597" y="157"/>
                  </a:lnTo>
                  <a:lnTo>
                    <a:pt x="566" y="115"/>
                  </a:lnTo>
                  <a:lnTo>
                    <a:pt x="520" y="103"/>
                  </a:lnTo>
                  <a:lnTo>
                    <a:pt x="470" y="103"/>
                  </a:lnTo>
                  <a:lnTo>
                    <a:pt x="358" y="103"/>
                  </a:lnTo>
                  <a:lnTo>
                    <a:pt x="193" y="134"/>
                  </a:lnTo>
                  <a:lnTo>
                    <a:pt x="70" y="146"/>
                  </a:lnTo>
                  <a:lnTo>
                    <a:pt x="20" y="134"/>
                  </a:lnTo>
                  <a:lnTo>
                    <a:pt x="0" y="11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rot="18349200">
              <a:off x="3314880" y="6118560"/>
              <a:ext cx="401760" cy="158400"/>
            </a:xfrm>
            <a:custGeom>
              <a:avLst/>
              <a:gdLst/>
              <a:ahLst/>
              <a:rect l="l" t="t" r="r" b="b"/>
              <a:pathLst>
                <a:path w="992" h="770">
                  <a:moveTo>
                    <a:pt x="808" y="320"/>
                  </a:moveTo>
                  <a:lnTo>
                    <a:pt x="823" y="219"/>
                  </a:lnTo>
                  <a:lnTo>
                    <a:pt x="881" y="181"/>
                  </a:lnTo>
                  <a:lnTo>
                    <a:pt x="950" y="174"/>
                  </a:lnTo>
                  <a:lnTo>
                    <a:pt x="992" y="219"/>
                  </a:lnTo>
                  <a:lnTo>
                    <a:pt x="973" y="308"/>
                  </a:lnTo>
                  <a:lnTo>
                    <a:pt x="935" y="427"/>
                  </a:lnTo>
                  <a:lnTo>
                    <a:pt x="857" y="562"/>
                  </a:lnTo>
                  <a:lnTo>
                    <a:pt x="761" y="677"/>
                  </a:lnTo>
                  <a:lnTo>
                    <a:pt x="681" y="739"/>
                  </a:lnTo>
                  <a:lnTo>
                    <a:pt x="592" y="770"/>
                  </a:lnTo>
                  <a:lnTo>
                    <a:pt x="507" y="759"/>
                  </a:lnTo>
                  <a:lnTo>
                    <a:pt x="442" y="723"/>
                  </a:lnTo>
                  <a:lnTo>
                    <a:pt x="419" y="666"/>
                  </a:lnTo>
                  <a:lnTo>
                    <a:pt x="392" y="566"/>
                  </a:lnTo>
                  <a:lnTo>
                    <a:pt x="361" y="382"/>
                  </a:lnTo>
                  <a:lnTo>
                    <a:pt x="338" y="254"/>
                  </a:lnTo>
                  <a:lnTo>
                    <a:pt x="338" y="104"/>
                  </a:lnTo>
                  <a:lnTo>
                    <a:pt x="323" y="78"/>
                  </a:lnTo>
                  <a:lnTo>
                    <a:pt x="277" y="70"/>
                  </a:lnTo>
                  <a:lnTo>
                    <a:pt x="223" y="112"/>
                  </a:lnTo>
                  <a:lnTo>
                    <a:pt x="173" y="181"/>
                  </a:lnTo>
                  <a:lnTo>
                    <a:pt x="115" y="219"/>
                  </a:lnTo>
                  <a:lnTo>
                    <a:pt x="27" y="219"/>
                  </a:lnTo>
                  <a:lnTo>
                    <a:pt x="0" y="196"/>
                  </a:lnTo>
                  <a:lnTo>
                    <a:pt x="0" y="158"/>
                  </a:lnTo>
                  <a:lnTo>
                    <a:pt x="39" y="123"/>
                  </a:lnTo>
                  <a:lnTo>
                    <a:pt x="81" y="135"/>
                  </a:lnTo>
                  <a:lnTo>
                    <a:pt x="119" y="127"/>
                  </a:lnTo>
                  <a:lnTo>
                    <a:pt x="189" y="78"/>
                  </a:lnTo>
                  <a:lnTo>
                    <a:pt x="257" y="23"/>
                  </a:lnTo>
                  <a:lnTo>
                    <a:pt x="323" y="8"/>
                  </a:lnTo>
                  <a:lnTo>
                    <a:pt x="415" y="0"/>
                  </a:lnTo>
                  <a:lnTo>
                    <a:pt x="419" y="42"/>
                  </a:lnTo>
                  <a:lnTo>
                    <a:pt x="397" y="89"/>
                  </a:lnTo>
                  <a:lnTo>
                    <a:pt x="392" y="208"/>
                  </a:lnTo>
                  <a:lnTo>
                    <a:pt x="419" y="366"/>
                  </a:lnTo>
                  <a:lnTo>
                    <a:pt x="462" y="520"/>
                  </a:lnTo>
                  <a:lnTo>
                    <a:pt x="499" y="612"/>
                  </a:lnTo>
                  <a:lnTo>
                    <a:pt x="558" y="655"/>
                  </a:lnTo>
                  <a:lnTo>
                    <a:pt x="615" y="655"/>
                  </a:lnTo>
                  <a:lnTo>
                    <a:pt x="673" y="612"/>
                  </a:lnTo>
                  <a:lnTo>
                    <a:pt x="750" y="515"/>
                  </a:lnTo>
                  <a:lnTo>
                    <a:pt x="800" y="377"/>
                  </a:lnTo>
                  <a:lnTo>
                    <a:pt x="808" y="3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rot="19765200">
              <a:off x="3325680" y="5642640"/>
              <a:ext cx="164160" cy="291600"/>
            </a:xfrm>
            <a:custGeom>
              <a:avLst/>
              <a:gdLst/>
              <a:ahLst/>
              <a:rect l="l" t="t" r="r" b="b"/>
              <a:pathLst>
                <a:path w="699" h="1216">
                  <a:moveTo>
                    <a:pt x="445" y="923"/>
                  </a:moveTo>
                  <a:lnTo>
                    <a:pt x="560" y="1039"/>
                  </a:lnTo>
                  <a:lnTo>
                    <a:pt x="606" y="1039"/>
                  </a:lnTo>
                  <a:lnTo>
                    <a:pt x="684" y="1086"/>
                  </a:lnTo>
                  <a:lnTo>
                    <a:pt x="699" y="1139"/>
                  </a:lnTo>
                  <a:lnTo>
                    <a:pt x="676" y="1208"/>
                  </a:lnTo>
                  <a:lnTo>
                    <a:pt x="614" y="1216"/>
                  </a:lnTo>
                  <a:lnTo>
                    <a:pt x="537" y="1162"/>
                  </a:lnTo>
                  <a:lnTo>
                    <a:pt x="383" y="1016"/>
                  </a:lnTo>
                  <a:lnTo>
                    <a:pt x="284" y="878"/>
                  </a:lnTo>
                  <a:lnTo>
                    <a:pt x="237" y="769"/>
                  </a:lnTo>
                  <a:lnTo>
                    <a:pt x="206" y="585"/>
                  </a:lnTo>
                  <a:lnTo>
                    <a:pt x="206" y="346"/>
                  </a:lnTo>
                  <a:lnTo>
                    <a:pt x="198" y="285"/>
                  </a:lnTo>
                  <a:lnTo>
                    <a:pt x="153" y="239"/>
                  </a:lnTo>
                  <a:lnTo>
                    <a:pt x="22" y="247"/>
                  </a:lnTo>
                  <a:lnTo>
                    <a:pt x="0" y="223"/>
                  </a:lnTo>
                  <a:lnTo>
                    <a:pt x="29" y="208"/>
                  </a:lnTo>
                  <a:lnTo>
                    <a:pt x="122" y="200"/>
                  </a:lnTo>
                  <a:lnTo>
                    <a:pt x="138" y="185"/>
                  </a:lnTo>
                  <a:lnTo>
                    <a:pt x="6" y="107"/>
                  </a:lnTo>
                  <a:lnTo>
                    <a:pt x="6" y="77"/>
                  </a:lnTo>
                  <a:lnTo>
                    <a:pt x="29" y="70"/>
                  </a:lnTo>
                  <a:lnTo>
                    <a:pt x="138" y="130"/>
                  </a:lnTo>
                  <a:lnTo>
                    <a:pt x="161" y="123"/>
                  </a:lnTo>
                  <a:lnTo>
                    <a:pt x="138" y="8"/>
                  </a:lnTo>
                  <a:lnTo>
                    <a:pt x="153" y="0"/>
                  </a:lnTo>
                  <a:lnTo>
                    <a:pt x="169" y="8"/>
                  </a:lnTo>
                  <a:lnTo>
                    <a:pt x="198" y="123"/>
                  </a:lnTo>
                  <a:lnTo>
                    <a:pt x="222" y="130"/>
                  </a:lnTo>
                  <a:lnTo>
                    <a:pt x="284" y="8"/>
                  </a:lnTo>
                  <a:lnTo>
                    <a:pt x="299" y="8"/>
                  </a:lnTo>
                  <a:lnTo>
                    <a:pt x="299" y="46"/>
                  </a:lnTo>
                  <a:lnTo>
                    <a:pt x="260" y="146"/>
                  </a:lnTo>
                  <a:lnTo>
                    <a:pt x="260" y="200"/>
                  </a:lnTo>
                  <a:lnTo>
                    <a:pt x="276" y="270"/>
                  </a:lnTo>
                  <a:lnTo>
                    <a:pt x="268" y="361"/>
                  </a:lnTo>
                  <a:lnTo>
                    <a:pt x="276" y="531"/>
                  </a:lnTo>
                  <a:lnTo>
                    <a:pt x="291" y="639"/>
                  </a:lnTo>
                  <a:lnTo>
                    <a:pt x="330" y="762"/>
                  </a:lnTo>
                  <a:lnTo>
                    <a:pt x="383" y="855"/>
                  </a:lnTo>
                  <a:lnTo>
                    <a:pt x="445" y="9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rot="19765200">
              <a:off x="3490560" y="5551200"/>
              <a:ext cx="214920" cy="243360"/>
            </a:xfrm>
            <a:custGeom>
              <a:avLst/>
              <a:gdLst/>
              <a:ahLst/>
              <a:rect l="l" t="t" r="r" b="b"/>
              <a:pathLst>
                <a:path w="915" h="1139">
                  <a:moveTo>
                    <a:pt x="15" y="1008"/>
                  </a:moveTo>
                  <a:lnTo>
                    <a:pt x="0" y="1061"/>
                  </a:lnTo>
                  <a:lnTo>
                    <a:pt x="15" y="1139"/>
                  </a:lnTo>
                  <a:lnTo>
                    <a:pt x="70" y="1139"/>
                  </a:lnTo>
                  <a:lnTo>
                    <a:pt x="231" y="1108"/>
                  </a:lnTo>
                  <a:lnTo>
                    <a:pt x="408" y="1046"/>
                  </a:lnTo>
                  <a:lnTo>
                    <a:pt x="554" y="946"/>
                  </a:lnTo>
                  <a:lnTo>
                    <a:pt x="639" y="816"/>
                  </a:lnTo>
                  <a:lnTo>
                    <a:pt x="715" y="593"/>
                  </a:lnTo>
                  <a:lnTo>
                    <a:pt x="738" y="385"/>
                  </a:lnTo>
                  <a:lnTo>
                    <a:pt x="738" y="285"/>
                  </a:lnTo>
                  <a:lnTo>
                    <a:pt x="777" y="224"/>
                  </a:lnTo>
                  <a:lnTo>
                    <a:pt x="845" y="200"/>
                  </a:lnTo>
                  <a:lnTo>
                    <a:pt x="907" y="200"/>
                  </a:lnTo>
                  <a:lnTo>
                    <a:pt x="915" y="169"/>
                  </a:lnTo>
                  <a:lnTo>
                    <a:pt x="823" y="177"/>
                  </a:lnTo>
                  <a:lnTo>
                    <a:pt x="808" y="154"/>
                  </a:lnTo>
                  <a:lnTo>
                    <a:pt x="884" y="70"/>
                  </a:lnTo>
                  <a:lnTo>
                    <a:pt x="868" y="47"/>
                  </a:lnTo>
                  <a:lnTo>
                    <a:pt x="853" y="62"/>
                  </a:lnTo>
                  <a:lnTo>
                    <a:pt x="792" y="123"/>
                  </a:lnTo>
                  <a:lnTo>
                    <a:pt x="777" y="123"/>
                  </a:lnTo>
                  <a:lnTo>
                    <a:pt x="777" y="16"/>
                  </a:lnTo>
                  <a:lnTo>
                    <a:pt x="761" y="0"/>
                  </a:lnTo>
                  <a:lnTo>
                    <a:pt x="738" y="8"/>
                  </a:lnTo>
                  <a:lnTo>
                    <a:pt x="746" y="123"/>
                  </a:lnTo>
                  <a:lnTo>
                    <a:pt x="730" y="131"/>
                  </a:lnTo>
                  <a:lnTo>
                    <a:pt x="668" y="70"/>
                  </a:lnTo>
                  <a:lnTo>
                    <a:pt x="623" y="62"/>
                  </a:lnTo>
                  <a:lnTo>
                    <a:pt x="631" y="93"/>
                  </a:lnTo>
                  <a:lnTo>
                    <a:pt x="699" y="162"/>
                  </a:lnTo>
                  <a:lnTo>
                    <a:pt x="699" y="200"/>
                  </a:lnTo>
                  <a:lnTo>
                    <a:pt x="676" y="278"/>
                  </a:lnTo>
                  <a:lnTo>
                    <a:pt x="676" y="346"/>
                  </a:lnTo>
                  <a:lnTo>
                    <a:pt x="676" y="462"/>
                  </a:lnTo>
                  <a:lnTo>
                    <a:pt x="645" y="608"/>
                  </a:lnTo>
                  <a:lnTo>
                    <a:pt x="615" y="700"/>
                  </a:lnTo>
                  <a:lnTo>
                    <a:pt x="561" y="816"/>
                  </a:lnTo>
                  <a:lnTo>
                    <a:pt x="499" y="908"/>
                  </a:lnTo>
                  <a:lnTo>
                    <a:pt x="454" y="954"/>
                  </a:lnTo>
                  <a:lnTo>
                    <a:pt x="330" y="993"/>
                  </a:lnTo>
                  <a:lnTo>
                    <a:pt x="215" y="1008"/>
                  </a:lnTo>
                  <a:lnTo>
                    <a:pt x="99" y="1024"/>
                  </a:lnTo>
                  <a:lnTo>
                    <a:pt x="15" y="100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2" name=""/>
          <p:cNvSpPr/>
          <p:nvPr/>
        </p:nvSpPr>
        <p:spPr>
          <a:xfrm>
            <a:off x="3215160" y="288612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4" dur="indefinite" restart="never" nodeType="tmRoot">
          <p:childTnLst>
            <p:seq>
              <p:cTn id="3065" dur="indefinite" nodeType="mainSeq">
                <p:childTnLst>
                  <p:par>
                    <p:cTn id="3066" fill="hold">
                      <p:stCondLst>
                        <p:cond delay="0"/>
                      </p:stCondLst>
                      <p:childTnLst>
                        <p:par>
                          <p:cTn id="3067" fill="hold">
                            <p:stCondLst>
                              <p:cond delay="0"/>
                            </p:stCondLst>
                            <p:childTnLst>
                              <p:par>
                                <p:cTn id="30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0" dur="500" fill="hold"/>
                                        <p:tgtEl>
                                          <p:spTgt spid="2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1" dur="500" fill="hold"/>
                                        <p:tgtEl>
                                          <p:spTgt spid="2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2" fill="hold">
                      <p:stCondLst>
                        <p:cond delay="indefinite"/>
                      </p:stCondLst>
                      <p:childTnLst>
                        <p:par>
                          <p:cTn id="3073" fill="hold">
                            <p:stCondLst>
                              <p:cond delay="0"/>
                            </p:stCondLst>
                            <p:childTnLst>
                              <p:par>
                                <p:cTn id="3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6" dur="500" fill="hold"/>
                                        <p:tgtEl>
                                          <p:spTgt spid="2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7" dur="500" fill="hold"/>
                                        <p:tgtEl>
                                          <p:spTgt spid="2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0" dur="500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1" dur="500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fill="hold">
                      <p:stCondLst>
                        <p:cond delay="indefinite"/>
                      </p:stCondLst>
                      <p:childTnLst>
                        <p:par>
                          <p:cTn id="3083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6" dur="500" fill="hold"/>
                                        <p:tgtEl>
                                          <p:spTgt spid="2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7" dur="500" fill="hold"/>
                                        <p:tgtEl>
                                          <p:spTgt spid="2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4" dur="500" fill="hold"/>
                                        <p:tgtEl>
                                          <p:spTgt spid="2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5" dur="500" fill="hold"/>
                                        <p:tgtEl>
                                          <p:spTgt spid="2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ll Climb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457200" y="3105000"/>
            <a:ext cx="8559720" cy="3524400"/>
          </a:xfrm>
          <a:custGeom>
            <a:avLst/>
            <a:gdLst/>
            <a:ahLst/>
            <a:rect l="l" t="t" r="r" b="b"/>
            <a:pathLst>
              <a:path w="5392" h="2220">
                <a:moveTo>
                  <a:pt x="0" y="2206"/>
                </a:moveTo>
                <a:cubicBezTo>
                  <a:pt x="172" y="2219"/>
                  <a:pt x="327" y="2220"/>
                  <a:pt x="499" y="2108"/>
                </a:cubicBezTo>
                <a:cubicBezTo>
                  <a:pt x="671" y="1996"/>
                  <a:pt x="845" y="1681"/>
                  <a:pt x="1032" y="1535"/>
                </a:cubicBezTo>
                <a:cubicBezTo>
                  <a:pt x="1219" y="1389"/>
                  <a:pt x="1413" y="1293"/>
                  <a:pt x="1624" y="1231"/>
                </a:cubicBezTo>
                <a:cubicBezTo>
                  <a:pt x="1835" y="1169"/>
                  <a:pt x="2117" y="1196"/>
                  <a:pt x="2296" y="1160"/>
                </a:cubicBezTo>
                <a:cubicBezTo>
                  <a:pt x="2475" y="1124"/>
                  <a:pt x="2507" y="1160"/>
                  <a:pt x="2696" y="1016"/>
                </a:cubicBezTo>
                <a:cubicBezTo>
                  <a:pt x="2885" y="872"/>
                  <a:pt x="3163" y="412"/>
                  <a:pt x="3432" y="295"/>
                </a:cubicBezTo>
                <a:cubicBezTo>
                  <a:pt x="3701" y="178"/>
                  <a:pt x="3985" y="0"/>
                  <a:pt x="4312" y="311"/>
                </a:cubicBezTo>
                <a:cubicBezTo>
                  <a:pt x="4639" y="622"/>
                  <a:pt x="5167" y="1774"/>
                  <a:pt x="5392" y="215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71760" y="990720"/>
            <a:ext cx="1722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blem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76" name=""/>
          <p:cNvGrpSpPr/>
          <p:nvPr/>
        </p:nvGrpSpPr>
        <p:grpSpPr>
          <a:xfrm>
            <a:off x="3263040" y="5513400"/>
            <a:ext cx="699120" cy="893880"/>
            <a:chOff x="3263040" y="5513400"/>
            <a:chExt cx="699120" cy="893880"/>
          </a:xfrm>
        </p:grpSpPr>
        <p:sp>
          <p:nvSpPr>
            <p:cNvPr id="2377" name=""/>
            <p:cNvSpPr/>
            <p:nvPr/>
          </p:nvSpPr>
          <p:spPr>
            <a:xfrm rot="19765200">
              <a:off x="3448080" y="5658120"/>
              <a:ext cx="140760" cy="116640"/>
            </a:xfrm>
            <a:custGeom>
              <a:avLst/>
              <a:gdLst/>
              <a:ahLst/>
              <a:rect l="l" t="t" r="r" b="b"/>
              <a:pathLst>
                <a:path w="600" h="608">
                  <a:moveTo>
                    <a:pt x="388" y="289"/>
                  </a:moveTo>
                  <a:lnTo>
                    <a:pt x="372" y="177"/>
                  </a:lnTo>
                  <a:lnTo>
                    <a:pt x="341" y="78"/>
                  </a:lnTo>
                  <a:lnTo>
                    <a:pt x="284" y="24"/>
                  </a:lnTo>
                  <a:lnTo>
                    <a:pt x="185" y="0"/>
                  </a:lnTo>
                  <a:lnTo>
                    <a:pt x="100" y="24"/>
                  </a:lnTo>
                  <a:lnTo>
                    <a:pt x="19" y="123"/>
                  </a:lnTo>
                  <a:lnTo>
                    <a:pt x="0" y="243"/>
                  </a:lnTo>
                  <a:lnTo>
                    <a:pt x="19" y="370"/>
                  </a:lnTo>
                  <a:lnTo>
                    <a:pt x="50" y="447"/>
                  </a:lnTo>
                  <a:lnTo>
                    <a:pt x="88" y="528"/>
                  </a:lnTo>
                  <a:lnTo>
                    <a:pt x="130" y="582"/>
                  </a:lnTo>
                  <a:lnTo>
                    <a:pt x="177" y="608"/>
                  </a:lnTo>
                  <a:lnTo>
                    <a:pt x="242" y="585"/>
                  </a:lnTo>
                  <a:lnTo>
                    <a:pt x="307" y="531"/>
                  </a:lnTo>
                  <a:lnTo>
                    <a:pt x="349" y="455"/>
                  </a:lnTo>
                  <a:lnTo>
                    <a:pt x="388" y="390"/>
                  </a:lnTo>
                  <a:lnTo>
                    <a:pt x="400" y="351"/>
                  </a:lnTo>
                  <a:lnTo>
                    <a:pt x="565" y="293"/>
                  </a:lnTo>
                  <a:lnTo>
                    <a:pt x="600" y="270"/>
                  </a:lnTo>
                  <a:lnTo>
                    <a:pt x="580" y="235"/>
                  </a:lnTo>
                  <a:lnTo>
                    <a:pt x="388" y="2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rot="19765200">
              <a:off x="3495960" y="5802840"/>
              <a:ext cx="144720" cy="260640"/>
            </a:xfrm>
            <a:custGeom>
              <a:avLst/>
              <a:gdLst/>
              <a:ahLst/>
              <a:rect l="l" t="t" r="r" b="b"/>
              <a:pathLst>
                <a:path w="619" h="1085">
                  <a:moveTo>
                    <a:pt x="208" y="161"/>
                  </a:moveTo>
                  <a:lnTo>
                    <a:pt x="284" y="80"/>
                  </a:lnTo>
                  <a:lnTo>
                    <a:pt x="411" y="3"/>
                  </a:lnTo>
                  <a:lnTo>
                    <a:pt x="469" y="0"/>
                  </a:lnTo>
                  <a:lnTo>
                    <a:pt x="573" y="34"/>
                  </a:lnTo>
                  <a:lnTo>
                    <a:pt x="619" y="85"/>
                  </a:lnTo>
                  <a:lnTo>
                    <a:pt x="619" y="161"/>
                  </a:lnTo>
                  <a:lnTo>
                    <a:pt x="542" y="304"/>
                  </a:lnTo>
                  <a:lnTo>
                    <a:pt x="458" y="415"/>
                  </a:lnTo>
                  <a:lnTo>
                    <a:pt x="422" y="508"/>
                  </a:lnTo>
                  <a:lnTo>
                    <a:pt x="399" y="615"/>
                  </a:lnTo>
                  <a:lnTo>
                    <a:pt x="422" y="719"/>
                  </a:lnTo>
                  <a:lnTo>
                    <a:pt x="445" y="820"/>
                  </a:lnTo>
                  <a:lnTo>
                    <a:pt x="445" y="935"/>
                  </a:lnTo>
                  <a:lnTo>
                    <a:pt x="411" y="1005"/>
                  </a:lnTo>
                  <a:lnTo>
                    <a:pt x="334" y="1043"/>
                  </a:lnTo>
                  <a:lnTo>
                    <a:pt x="242" y="1085"/>
                  </a:lnTo>
                  <a:lnTo>
                    <a:pt x="157" y="1085"/>
                  </a:lnTo>
                  <a:lnTo>
                    <a:pt x="100" y="1054"/>
                  </a:lnTo>
                  <a:lnTo>
                    <a:pt x="23" y="927"/>
                  </a:lnTo>
                  <a:lnTo>
                    <a:pt x="0" y="797"/>
                  </a:lnTo>
                  <a:lnTo>
                    <a:pt x="8" y="628"/>
                  </a:lnTo>
                  <a:lnTo>
                    <a:pt x="65" y="415"/>
                  </a:lnTo>
                  <a:lnTo>
                    <a:pt x="123" y="277"/>
                  </a:lnTo>
                  <a:lnTo>
                    <a:pt x="208" y="1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rot="19765200">
              <a:off x="3654360" y="5928840"/>
              <a:ext cx="281520" cy="179640"/>
            </a:xfrm>
            <a:custGeom>
              <a:avLst/>
              <a:gdLst/>
              <a:ahLst/>
              <a:rect l="l" t="t" r="r" b="b"/>
              <a:pathLst>
                <a:path w="782" h="808">
                  <a:moveTo>
                    <a:pt x="0" y="76"/>
                  </a:moveTo>
                  <a:lnTo>
                    <a:pt x="66" y="0"/>
                  </a:lnTo>
                  <a:lnTo>
                    <a:pt x="163" y="0"/>
                  </a:lnTo>
                  <a:lnTo>
                    <a:pt x="343" y="19"/>
                  </a:lnTo>
                  <a:lnTo>
                    <a:pt x="555" y="30"/>
                  </a:lnTo>
                  <a:lnTo>
                    <a:pt x="636" y="65"/>
                  </a:lnTo>
                  <a:lnTo>
                    <a:pt x="670" y="110"/>
                  </a:lnTo>
                  <a:lnTo>
                    <a:pt x="678" y="180"/>
                  </a:lnTo>
                  <a:lnTo>
                    <a:pt x="654" y="253"/>
                  </a:lnTo>
                  <a:lnTo>
                    <a:pt x="589" y="365"/>
                  </a:lnTo>
                  <a:lnTo>
                    <a:pt x="504" y="457"/>
                  </a:lnTo>
                  <a:lnTo>
                    <a:pt x="439" y="541"/>
                  </a:lnTo>
                  <a:lnTo>
                    <a:pt x="412" y="607"/>
                  </a:lnTo>
                  <a:lnTo>
                    <a:pt x="393" y="653"/>
                  </a:lnTo>
                  <a:lnTo>
                    <a:pt x="400" y="689"/>
                  </a:lnTo>
                  <a:lnTo>
                    <a:pt x="405" y="711"/>
                  </a:lnTo>
                  <a:lnTo>
                    <a:pt x="482" y="711"/>
                  </a:lnTo>
                  <a:lnTo>
                    <a:pt x="601" y="692"/>
                  </a:lnTo>
                  <a:lnTo>
                    <a:pt x="678" y="692"/>
                  </a:lnTo>
                  <a:lnTo>
                    <a:pt x="758" y="723"/>
                  </a:lnTo>
                  <a:lnTo>
                    <a:pt x="782" y="761"/>
                  </a:lnTo>
                  <a:lnTo>
                    <a:pt x="758" y="796"/>
                  </a:lnTo>
                  <a:lnTo>
                    <a:pt x="724" y="808"/>
                  </a:lnTo>
                  <a:lnTo>
                    <a:pt x="670" y="792"/>
                  </a:lnTo>
                  <a:lnTo>
                    <a:pt x="597" y="749"/>
                  </a:lnTo>
                  <a:lnTo>
                    <a:pt x="520" y="757"/>
                  </a:lnTo>
                  <a:lnTo>
                    <a:pt x="393" y="780"/>
                  </a:lnTo>
                  <a:lnTo>
                    <a:pt x="355" y="773"/>
                  </a:lnTo>
                  <a:lnTo>
                    <a:pt x="335" y="746"/>
                  </a:lnTo>
                  <a:lnTo>
                    <a:pt x="335" y="681"/>
                  </a:lnTo>
                  <a:lnTo>
                    <a:pt x="335" y="588"/>
                  </a:lnTo>
                  <a:lnTo>
                    <a:pt x="389" y="518"/>
                  </a:lnTo>
                  <a:lnTo>
                    <a:pt x="470" y="414"/>
                  </a:lnTo>
                  <a:lnTo>
                    <a:pt x="540" y="323"/>
                  </a:lnTo>
                  <a:lnTo>
                    <a:pt x="586" y="253"/>
                  </a:lnTo>
                  <a:lnTo>
                    <a:pt x="609" y="192"/>
                  </a:lnTo>
                  <a:lnTo>
                    <a:pt x="597" y="157"/>
                  </a:lnTo>
                  <a:lnTo>
                    <a:pt x="566" y="115"/>
                  </a:lnTo>
                  <a:lnTo>
                    <a:pt x="520" y="103"/>
                  </a:lnTo>
                  <a:lnTo>
                    <a:pt x="470" y="103"/>
                  </a:lnTo>
                  <a:lnTo>
                    <a:pt x="358" y="103"/>
                  </a:lnTo>
                  <a:lnTo>
                    <a:pt x="193" y="134"/>
                  </a:lnTo>
                  <a:lnTo>
                    <a:pt x="70" y="146"/>
                  </a:lnTo>
                  <a:lnTo>
                    <a:pt x="20" y="134"/>
                  </a:lnTo>
                  <a:lnTo>
                    <a:pt x="0" y="11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rot="18349200">
              <a:off x="3314880" y="6118560"/>
              <a:ext cx="401760" cy="158400"/>
            </a:xfrm>
            <a:custGeom>
              <a:avLst/>
              <a:gdLst/>
              <a:ahLst/>
              <a:rect l="l" t="t" r="r" b="b"/>
              <a:pathLst>
                <a:path w="992" h="770">
                  <a:moveTo>
                    <a:pt x="808" y="320"/>
                  </a:moveTo>
                  <a:lnTo>
                    <a:pt x="823" y="219"/>
                  </a:lnTo>
                  <a:lnTo>
                    <a:pt x="881" y="181"/>
                  </a:lnTo>
                  <a:lnTo>
                    <a:pt x="950" y="174"/>
                  </a:lnTo>
                  <a:lnTo>
                    <a:pt x="992" y="219"/>
                  </a:lnTo>
                  <a:lnTo>
                    <a:pt x="973" y="308"/>
                  </a:lnTo>
                  <a:lnTo>
                    <a:pt x="935" y="427"/>
                  </a:lnTo>
                  <a:lnTo>
                    <a:pt x="857" y="562"/>
                  </a:lnTo>
                  <a:lnTo>
                    <a:pt x="761" y="677"/>
                  </a:lnTo>
                  <a:lnTo>
                    <a:pt x="681" y="739"/>
                  </a:lnTo>
                  <a:lnTo>
                    <a:pt x="592" y="770"/>
                  </a:lnTo>
                  <a:lnTo>
                    <a:pt x="507" y="759"/>
                  </a:lnTo>
                  <a:lnTo>
                    <a:pt x="442" y="723"/>
                  </a:lnTo>
                  <a:lnTo>
                    <a:pt x="419" y="666"/>
                  </a:lnTo>
                  <a:lnTo>
                    <a:pt x="392" y="566"/>
                  </a:lnTo>
                  <a:lnTo>
                    <a:pt x="361" y="382"/>
                  </a:lnTo>
                  <a:lnTo>
                    <a:pt x="338" y="254"/>
                  </a:lnTo>
                  <a:lnTo>
                    <a:pt x="338" y="104"/>
                  </a:lnTo>
                  <a:lnTo>
                    <a:pt x="323" y="78"/>
                  </a:lnTo>
                  <a:lnTo>
                    <a:pt x="277" y="70"/>
                  </a:lnTo>
                  <a:lnTo>
                    <a:pt x="223" y="112"/>
                  </a:lnTo>
                  <a:lnTo>
                    <a:pt x="173" y="181"/>
                  </a:lnTo>
                  <a:lnTo>
                    <a:pt x="115" y="219"/>
                  </a:lnTo>
                  <a:lnTo>
                    <a:pt x="27" y="219"/>
                  </a:lnTo>
                  <a:lnTo>
                    <a:pt x="0" y="196"/>
                  </a:lnTo>
                  <a:lnTo>
                    <a:pt x="0" y="158"/>
                  </a:lnTo>
                  <a:lnTo>
                    <a:pt x="39" y="123"/>
                  </a:lnTo>
                  <a:lnTo>
                    <a:pt x="81" y="135"/>
                  </a:lnTo>
                  <a:lnTo>
                    <a:pt x="119" y="127"/>
                  </a:lnTo>
                  <a:lnTo>
                    <a:pt x="189" y="78"/>
                  </a:lnTo>
                  <a:lnTo>
                    <a:pt x="257" y="23"/>
                  </a:lnTo>
                  <a:lnTo>
                    <a:pt x="323" y="8"/>
                  </a:lnTo>
                  <a:lnTo>
                    <a:pt x="415" y="0"/>
                  </a:lnTo>
                  <a:lnTo>
                    <a:pt x="419" y="42"/>
                  </a:lnTo>
                  <a:lnTo>
                    <a:pt x="397" y="89"/>
                  </a:lnTo>
                  <a:lnTo>
                    <a:pt x="392" y="208"/>
                  </a:lnTo>
                  <a:lnTo>
                    <a:pt x="419" y="366"/>
                  </a:lnTo>
                  <a:lnTo>
                    <a:pt x="462" y="520"/>
                  </a:lnTo>
                  <a:lnTo>
                    <a:pt x="499" y="612"/>
                  </a:lnTo>
                  <a:lnTo>
                    <a:pt x="558" y="655"/>
                  </a:lnTo>
                  <a:lnTo>
                    <a:pt x="615" y="655"/>
                  </a:lnTo>
                  <a:lnTo>
                    <a:pt x="673" y="612"/>
                  </a:lnTo>
                  <a:lnTo>
                    <a:pt x="750" y="515"/>
                  </a:lnTo>
                  <a:lnTo>
                    <a:pt x="800" y="377"/>
                  </a:lnTo>
                  <a:lnTo>
                    <a:pt x="808" y="3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rot="19765200">
              <a:off x="3325680" y="5642640"/>
              <a:ext cx="164160" cy="291600"/>
            </a:xfrm>
            <a:custGeom>
              <a:avLst/>
              <a:gdLst/>
              <a:ahLst/>
              <a:rect l="l" t="t" r="r" b="b"/>
              <a:pathLst>
                <a:path w="699" h="1216">
                  <a:moveTo>
                    <a:pt x="445" y="923"/>
                  </a:moveTo>
                  <a:lnTo>
                    <a:pt x="560" y="1039"/>
                  </a:lnTo>
                  <a:lnTo>
                    <a:pt x="606" y="1039"/>
                  </a:lnTo>
                  <a:lnTo>
                    <a:pt x="684" y="1086"/>
                  </a:lnTo>
                  <a:lnTo>
                    <a:pt x="699" y="1139"/>
                  </a:lnTo>
                  <a:lnTo>
                    <a:pt x="676" y="1208"/>
                  </a:lnTo>
                  <a:lnTo>
                    <a:pt x="614" y="1216"/>
                  </a:lnTo>
                  <a:lnTo>
                    <a:pt x="537" y="1162"/>
                  </a:lnTo>
                  <a:lnTo>
                    <a:pt x="383" y="1016"/>
                  </a:lnTo>
                  <a:lnTo>
                    <a:pt x="284" y="878"/>
                  </a:lnTo>
                  <a:lnTo>
                    <a:pt x="237" y="769"/>
                  </a:lnTo>
                  <a:lnTo>
                    <a:pt x="206" y="585"/>
                  </a:lnTo>
                  <a:lnTo>
                    <a:pt x="206" y="346"/>
                  </a:lnTo>
                  <a:lnTo>
                    <a:pt x="198" y="285"/>
                  </a:lnTo>
                  <a:lnTo>
                    <a:pt x="153" y="239"/>
                  </a:lnTo>
                  <a:lnTo>
                    <a:pt x="22" y="247"/>
                  </a:lnTo>
                  <a:lnTo>
                    <a:pt x="0" y="223"/>
                  </a:lnTo>
                  <a:lnTo>
                    <a:pt x="29" y="208"/>
                  </a:lnTo>
                  <a:lnTo>
                    <a:pt x="122" y="200"/>
                  </a:lnTo>
                  <a:lnTo>
                    <a:pt x="138" y="185"/>
                  </a:lnTo>
                  <a:lnTo>
                    <a:pt x="6" y="107"/>
                  </a:lnTo>
                  <a:lnTo>
                    <a:pt x="6" y="77"/>
                  </a:lnTo>
                  <a:lnTo>
                    <a:pt x="29" y="70"/>
                  </a:lnTo>
                  <a:lnTo>
                    <a:pt x="138" y="130"/>
                  </a:lnTo>
                  <a:lnTo>
                    <a:pt x="161" y="123"/>
                  </a:lnTo>
                  <a:lnTo>
                    <a:pt x="138" y="8"/>
                  </a:lnTo>
                  <a:lnTo>
                    <a:pt x="153" y="0"/>
                  </a:lnTo>
                  <a:lnTo>
                    <a:pt x="169" y="8"/>
                  </a:lnTo>
                  <a:lnTo>
                    <a:pt x="198" y="123"/>
                  </a:lnTo>
                  <a:lnTo>
                    <a:pt x="222" y="130"/>
                  </a:lnTo>
                  <a:lnTo>
                    <a:pt x="284" y="8"/>
                  </a:lnTo>
                  <a:lnTo>
                    <a:pt x="299" y="8"/>
                  </a:lnTo>
                  <a:lnTo>
                    <a:pt x="299" y="46"/>
                  </a:lnTo>
                  <a:lnTo>
                    <a:pt x="260" y="146"/>
                  </a:lnTo>
                  <a:lnTo>
                    <a:pt x="260" y="200"/>
                  </a:lnTo>
                  <a:lnTo>
                    <a:pt x="276" y="270"/>
                  </a:lnTo>
                  <a:lnTo>
                    <a:pt x="268" y="361"/>
                  </a:lnTo>
                  <a:lnTo>
                    <a:pt x="276" y="531"/>
                  </a:lnTo>
                  <a:lnTo>
                    <a:pt x="291" y="639"/>
                  </a:lnTo>
                  <a:lnTo>
                    <a:pt x="330" y="762"/>
                  </a:lnTo>
                  <a:lnTo>
                    <a:pt x="383" y="855"/>
                  </a:lnTo>
                  <a:lnTo>
                    <a:pt x="445" y="9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 rot="19765200">
              <a:off x="3490560" y="5551200"/>
              <a:ext cx="214920" cy="243360"/>
            </a:xfrm>
            <a:custGeom>
              <a:avLst/>
              <a:gdLst/>
              <a:ahLst/>
              <a:rect l="l" t="t" r="r" b="b"/>
              <a:pathLst>
                <a:path w="915" h="1139">
                  <a:moveTo>
                    <a:pt x="15" y="1008"/>
                  </a:moveTo>
                  <a:lnTo>
                    <a:pt x="0" y="1061"/>
                  </a:lnTo>
                  <a:lnTo>
                    <a:pt x="15" y="1139"/>
                  </a:lnTo>
                  <a:lnTo>
                    <a:pt x="70" y="1139"/>
                  </a:lnTo>
                  <a:lnTo>
                    <a:pt x="231" y="1108"/>
                  </a:lnTo>
                  <a:lnTo>
                    <a:pt x="408" y="1046"/>
                  </a:lnTo>
                  <a:lnTo>
                    <a:pt x="554" y="946"/>
                  </a:lnTo>
                  <a:lnTo>
                    <a:pt x="639" y="816"/>
                  </a:lnTo>
                  <a:lnTo>
                    <a:pt x="715" y="593"/>
                  </a:lnTo>
                  <a:lnTo>
                    <a:pt x="738" y="385"/>
                  </a:lnTo>
                  <a:lnTo>
                    <a:pt x="738" y="285"/>
                  </a:lnTo>
                  <a:lnTo>
                    <a:pt x="777" y="224"/>
                  </a:lnTo>
                  <a:lnTo>
                    <a:pt x="845" y="200"/>
                  </a:lnTo>
                  <a:lnTo>
                    <a:pt x="907" y="200"/>
                  </a:lnTo>
                  <a:lnTo>
                    <a:pt x="915" y="169"/>
                  </a:lnTo>
                  <a:lnTo>
                    <a:pt x="823" y="177"/>
                  </a:lnTo>
                  <a:lnTo>
                    <a:pt x="808" y="154"/>
                  </a:lnTo>
                  <a:lnTo>
                    <a:pt x="884" y="70"/>
                  </a:lnTo>
                  <a:lnTo>
                    <a:pt x="868" y="47"/>
                  </a:lnTo>
                  <a:lnTo>
                    <a:pt x="853" y="62"/>
                  </a:lnTo>
                  <a:lnTo>
                    <a:pt x="792" y="123"/>
                  </a:lnTo>
                  <a:lnTo>
                    <a:pt x="777" y="123"/>
                  </a:lnTo>
                  <a:lnTo>
                    <a:pt x="777" y="16"/>
                  </a:lnTo>
                  <a:lnTo>
                    <a:pt x="761" y="0"/>
                  </a:lnTo>
                  <a:lnTo>
                    <a:pt x="738" y="8"/>
                  </a:lnTo>
                  <a:lnTo>
                    <a:pt x="746" y="123"/>
                  </a:lnTo>
                  <a:lnTo>
                    <a:pt x="730" y="131"/>
                  </a:lnTo>
                  <a:lnTo>
                    <a:pt x="668" y="70"/>
                  </a:lnTo>
                  <a:lnTo>
                    <a:pt x="623" y="62"/>
                  </a:lnTo>
                  <a:lnTo>
                    <a:pt x="631" y="93"/>
                  </a:lnTo>
                  <a:lnTo>
                    <a:pt x="699" y="162"/>
                  </a:lnTo>
                  <a:lnTo>
                    <a:pt x="699" y="200"/>
                  </a:lnTo>
                  <a:lnTo>
                    <a:pt x="676" y="278"/>
                  </a:lnTo>
                  <a:lnTo>
                    <a:pt x="676" y="346"/>
                  </a:lnTo>
                  <a:lnTo>
                    <a:pt x="676" y="462"/>
                  </a:lnTo>
                  <a:lnTo>
                    <a:pt x="645" y="608"/>
                  </a:lnTo>
                  <a:lnTo>
                    <a:pt x="615" y="700"/>
                  </a:lnTo>
                  <a:lnTo>
                    <a:pt x="561" y="816"/>
                  </a:lnTo>
                  <a:lnTo>
                    <a:pt x="499" y="908"/>
                  </a:lnTo>
                  <a:lnTo>
                    <a:pt x="454" y="954"/>
                  </a:lnTo>
                  <a:lnTo>
                    <a:pt x="330" y="993"/>
                  </a:lnTo>
                  <a:lnTo>
                    <a:pt x="215" y="1008"/>
                  </a:lnTo>
                  <a:lnTo>
                    <a:pt x="99" y="1024"/>
                  </a:lnTo>
                  <a:lnTo>
                    <a:pt x="15" y="100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83" name=""/>
          <p:cNvSpPr/>
          <p:nvPr/>
        </p:nvSpPr>
        <p:spPr>
          <a:xfrm>
            <a:off x="1299240" y="1371600"/>
            <a:ext cx="243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unning time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335240" y="1922400"/>
            <a:ext cx="422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you take small step,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uld be exponential tim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6" dur="indefinite" restart="never" nodeType="tmRoot">
          <p:childTnLst>
            <p:seq>
              <p:cTn id="3097" dur="indefinite" nodeType="mainSeq">
                <p:childTnLst>
                  <p:par>
                    <p:cTn id="3098" fill="hold">
                      <p:stCondLst>
                        <p:cond delay="0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2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2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fill="hold">
                      <p:stCondLst>
                        <p:cond delay="indefinite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8" dur="500" fill="hold"/>
                                        <p:tgtEl>
                                          <p:spTgt spid="2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2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86" name="" descr=""/>
          <p:cNvPicPr/>
          <p:nvPr/>
        </p:nvPicPr>
        <p:blipFill>
          <a:blip r:embed="rId1"/>
          <a:stretch/>
        </p:blipFill>
        <p:spPr>
          <a:xfrm>
            <a:off x="1066680" y="1352520"/>
            <a:ext cx="75628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88" name="" descr=""/>
          <p:cNvPicPr/>
          <p:nvPr/>
        </p:nvPicPr>
        <p:blipFill>
          <a:blip r:embed="rId1"/>
          <a:stretch/>
        </p:blipFill>
        <p:spPr>
          <a:xfrm>
            <a:off x="1066680" y="1352520"/>
            <a:ext cx="7562880" cy="4438800"/>
          </a:xfrm>
          <a:prstGeom prst="rect">
            <a:avLst/>
          </a:prstGeom>
          <a:ln w="0">
            <a:noFill/>
          </a:ln>
        </p:spPr>
      </p:pic>
      <p:sp>
        <p:nvSpPr>
          <p:cNvPr id="2389" name=""/>
          <p:cNvSpPr/>
          <p:nvPr/>
        </p:nvSpPr>
        <p:spPr>
          <a:xfrm>
            <a:off x="1828800" y="1994040"/>
            <a:ext cx="6095880" cy="2997000"/>
          </a:xfrm>
          <a:custGeom>
            <a:avLst/>
            <a:gdLst/>
            <a:ahLst/>
            <a:rect l="l" t="t" r="r" b="b"/>
            <a:pathLst>
              <a:path w="3840" h="1888">
                <a:moveTo>
                  <a:pt x="0" y="952"/>
                </a:moveTo>
                <a:lnTo>
                  <a:pt x="2360" y="1888"/>
                </a:lnTo>
                <a:lnTo>
                  <a:pt x="1392" y="0"/>
                </a:lnTo>
                <a:lnTo>
                  <a:pt x="3840" y="9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5664600" y="601020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flow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92" name="" descr=""/>
          <p:cNvPicPr/>
          <p:nvPr/>
        </p:nvPicPr>
        <p:blipFill>
          <a:blip r:embed="rId1"/>
          <a:stretch/>
        </p:blipFill>
        <p:spPr>
          <a:xfrm>
            <a:off x="1066680" y="1352520"/>
            <a:ext cx="7562880" cy="4438800"/>
          </a:xfrm>
          <a:prstGeom prst="rect">
            <a:avLst/>
          </a:prstGeom>
          <a:ln w="0">
            <a:noFill/>
          </a:ln>
        </p:spPr>
      </p:pic>
      <p:sp>
        <p:nvSpPr>
          <p:cNvPr id="2393" name=""/>
          <p:cNvSpPr/>
          <p:nvPr/>
        </p:nvSpPr>
        <p:spPr>
          <a:xfrm>
            <a:off x="1828800" y="1968480"/>
            <a:ext cx="6095880" cy="3073320"/>
          </a:xfrm>
          <a:custGeom>
            <a:avLst/>
            <a:gdLst/>
            <a:ahLst/>
            <a:rect l="l" t="t" r="r" b="b"/>
            <a:pathLst>
              <a:path w="3840" h="1936">
                <a:moveTo>
                  <a:pt x="0" y="968"/>
                </a:moveTo>
                <a:lnTo>
                  <a:pt x="1400" y="0"/>
                </a:lnTo>
                <a:lnTo>
                  <a:pt x="2352" y="1936"/>
                </a:lnTo>
                <a:lnTo>
                  <a:pt x="3840" y="9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5664600" y="601020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flow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20:34:24Z</dcterms:created>
  <dc:creator>Jeff Edmonds</dc:creator>
  <dc:description/>
  <dc:language>en-US</dc:language>
  <cp:lastModifiedBy>Lauren Cowles</cp:lastModifiedBy>
  <dcterms:modified xsi:type="dcterms:W3CDTF">2008-06-18T18:46:05Z</dcterms:modified>
  <cp:revision>259</cp:revision>
  <dc:subject/>
  <dc:title>PowerPoint Presentation</dc:title>
</cp:coreProperties>
</file>