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504-C5DB-4C8C-AA42-2318FC10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63B-5805-4480-92E1-652F636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0BC-73F4-47E5-93E8-5BF5D060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B34-8880-46F3-A2B4-D3088E4D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00C-0F18-4AC2-B8CF-B8053EC7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CCF-365C-48AB-8346-7FC310D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A3B-BDFB-49DD-9A9E-1D029CD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BCB-CC10-45ED-A5A3-B62BA518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7A0-0E01-4F83-8410-5B362201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9A3-CE5F-4120-AF85-B34C30BB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9D4-838A-4069-A7E5-8F186175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24E-1E9C-44D6-8896-FE8EDF0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86B0-252C-46F4-90AB-7AC8A9C0C5F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74840" y="2990880"/>
            <a:ext cx="4594320" cy="876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376360" y="2549520"/>
            <a:ext cx="4391280" cy="175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556080" y="2495520"/>
            <a:ext cx="2031840" cy="1866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848040" y="2786040"/>
            <a:ext cx="1447920" cy="1285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0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673440" y="2349360"/>
            <a:ext cx="1797120" cy="2159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36920" y="2514600"/>
            <a:ext cx="2270160" cy="1828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836880" y="2424240"/>
            <a:ext cx="1470240" cy="2009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476440" y="2452680"/>
            <a:ext cx="419112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147840" y="2782800"/>
            <a:ext cx="2848320" cy="1292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4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540240" y="2798640"/>
            <a:ext cx="2063520" cy="1260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214800" y="2651040"/>
            <a:ext cx="2714400" cy="1555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743280" y="2633760"/>
            <a:ext cx="1657440" cy="1590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629160" y="2401920"/>
            <a:ext cx="1885680" cy="2054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759120" y="2476440"/>
            <a:ext cx="162576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675240" y="2392200"/>
            <a:ext cx="1793520" cy="2073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360520" y="2603520"/>
            <a:ext cx="4422960" cy="16509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19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565440" y="2643120"/>
            <a:ext cx="201312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892680" y="2620800"/>
            <a:ext cx="1358640" cy="1616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4029120" y="2809800"/>
            <a:ext cx="1085760" cy="1238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127320" y="2782800"/>
            <a:ext cx="2889360" cy="1292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027160" y="2822400"/>
            <a:ext cx="5089680" cy="12132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824200" y="2743200"/>
            <a:ext cx="349560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43280" y="2660760"/>
            <a:ext cx="1657440" cy="1536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529080" y="2495520"/>
            <a:ext cx="208584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741840" y="2343240"/>
            <a:ext cx="1660320" cy="2171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214720" y="2830680"/>
            <a:ext cx="4714560" cy="1196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989440" y="2679840"/>
            <a:ext cx="3165120" cy="14983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405240" y="2635200"/>
            <a:ext cx="2333520" cy="1587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2916360" y="2533680"/>
            <a:ext cx="3311280" cy="1790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770200" y="2671920"/>
            <a:ext cx="3603600" cy="1514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0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3557520" y="2863800"/>
            <a:ext cx="2028960" cy="11304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3492360" y="2792520"/>
            <a:ext cx="2159280" cy="1272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581200" y="2449440"/>
            <a:ext cx="3981600" cy="1959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762360" y="2665440"/>
            <a:ext cx="1619280" cy="1527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403440" y="2579760"/>
            <a:ext cx="2337120" cy="16984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848040" y="2401920"/>
            <a:ext cx="1447920" cy="20541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681360" y="2862360"/>
            <a:ext cx="1781280" cy="11332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3639960" y="2340000"/>
            <a:ext cx="1864080" cy="217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3767040" y="2816280"/>
            <a:ext cx="1609920" cy="12254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670200" y="2735280"/>
            <a:ext cx="1803600" cy="1387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584520" y="2984400"/>
            <a:ext cx="1974960" cy="889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3586320" y="2954160"/>
            <a:ext cx="1971360" cy="9496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587760" y="2952720"/>
            <a:ext cx="1968480" cy="952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2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2508120" y="2654280"/>
            <a:ext cx="4127760" cy="1549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745080" y="2720880"/>
            <a:ext cx="1653840" cy="1416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3489480" y="2660760"/>
            <a:ext cx="2165040" cy="1536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2771640" y="2693880"/>
            <a:ext cx="3600720" cy="14702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2362320" y="2668680"/>
            <a:ext cx="4419360" cy="1520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2158920" y="2808360"/>
            <a:ext cx="4826160" cy="12412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3575160" y="2467080"/>
            <a:ext cx="1993680" cy="1923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3238560" y="2492280"/>
            <a:ext cx="2666880" cy="18734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3830760" y="2557440"/>
            <a:ext cx="1482480" cy="17431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Table9_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2374920" y="2874960"/>
            <a:ext cx="4394160" cy="1108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60680" y="2747880"/>
            <a:ext cx="2222640" cy="1362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762360" y="2735280"/>
            <a:ext cx="1619280" cy="1387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92440" y="2739960"/>
            <a:ext cx="1959120" cy="1378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48160" y="1962000"/>
            <a:ext cx="2047680" cy="2934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9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46:14Z</dcterms:created>
  <dc:creator>StephenKumar, SampathKumar</dc:creator>
  <dc:description/>
  <dc:language>en-US</dc:language>
  <cp:lastModifiedBy>StephenKumar, SampathKumar</cp:lastModifiedBy>
  <dcterms:modified xsi:type="dcterms:W3CDTF">2020-06-04T11:41:09Z</dcterms:modified>
  <cp:revision>3</cp:revision>
  <dc:subject/>
  <dc:title>PowerPoint Presentation</dc:title>
</cp:coreProperties>
</file>