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0E9-E3DD-41DA-9889-9795DBD0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8CB-8375-4535-940D-FD7D9B3D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3B7-16F1-44B9-862A-0FA429A2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C4A-BAD6-4505-95E7-4C34C84D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9F9-3633-4655-AF24-6CDF32F9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F05-ECB3-4E25-94BA-64398014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F30-7661-4435-8A17-192905BD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CBBF-5A1B-44C4-B7C4-4E0B4F58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01C-2426-45C9-8C1B-5C247763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C99-3747-4DBD-B84D-637CD10E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6D5-54CF-4C41-A242-34B4A6E5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96A-73AD-4D1D-90A4-7B64B7E4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5370-9892-4F58-A785-19D4715CCF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36800" y="6095520"/>
            <a:ext cx="7070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n-North_fig0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122560" y="304920"/>
            <a:ext cx="4898880" cy="5459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0" y="6550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Cambridge University Press &amp; Assessment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Haripriya Venkatesan</cp:lastModifiedBy>
  <dcterms:modified xsi:type="dcterms:W3CDTF">2024-01-18T10:27:11Z</dcterms:modified>
  <cp:revision>213</cp:revision>
  <dc:subject/>
  <dc:title>PowerPoint Presentation</dc:title>
</cp:coreProperties>
</file>