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2F2-1C1F-4819-9CB6-972A9D52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F02-DFC7-4B85-B104-7348EB3B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69D7-C0D4-4FD0-B8B4-1C0CFCAE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25D-138A-4BD2-844C-BEA35188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84E-CCD6-43DA-9F9A-C4B50687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925-B697-4692-8CEC-0048B248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1E5-80E7-41C8-AE42-055C1D3D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36C-056E-4754-8307-B7BB49F7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3992-E5B5-47C9-AE43-EBDBFCBF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6A2-040E-4103-8E0B-F8EF1A0D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084-FF41-4F42-A02E-EED0FED6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E16-7E8C-4303-AB0A-1E71E674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BF61-7469-4859-AD81-B66A3CBE1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K. J. Kohle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mmuncative Functions and Linguistic Forms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 Speech Interaction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mbridge University 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2922480"/>
            <a:ext cx="777240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bsit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ambiguation through prosodic phr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 a German election adv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Ich bitte alle Wähler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ihre Stimme morgen nicht zu verschen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und SPD zu wäh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ngholm1"/>
          <p:cNvPicPr/>
          <p:nvPr/>
        </p:nvPicPr>
        <p:blipFill>
          <a:blip r:embed="rId1"/>
          <a:stretch/>
        </p:blipFill>
        <p:spPr>
          <a:xfrm>
            <a:off x="3873600" y="304920"/>
            <a:ext cx="4298760" cy="6324480"/>
          </a:xfrm>
          <a:prstGeom prst="rect">
            <a:avLst/>
          </a:prstGeom>
          <a:ln w="0">
            <a:noFill/>
          </a:ln>
        </p:spPr>
      </p:pic>
      <p:sp>
        <p:nvSpPr>
          <p:cNvPr id="44" name="Textfeld 2"/>
          <p:cNvSpPr/>
          <p:nvPr/>
        </p:nvSpPr>
        <p:spPr>
          <a:xfrm>
            <a:off x="250920" y="1268280"/>
            <a:ext cx="31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Kieler Nachrichten 12 March 19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ngholm2"/>
          <p:cNvPicPr/>
          <p:nvPr/>
        </p:nvPicPr>
        <p:blipFill>
          <a:blip r:embed="rId1"/>
          <a:stretch/>
        </p:blipFill>
        <p:spPr>
          <a:xfrm>
            <a:off x="2622600" y="1343160"/>
            <a:ext cx="3898800" cy="4171680"/>
          </a:xfrm>
          <a:prstGeom prst="rect">
            <a:avLst/>
          </a:prstGeom>
          <a:ln w="0">
            <a:noFill/>
          </a:ln>
        </p:spPr>
      </p:pic>
      <p:pic>
        <p:nvPicPr>
          <p:cNvPr id="46" name="engholm_v1.wav" descr=""/>
          <p:cNvPicPr/>
          <p:nvPr/>
        </p:nvPicPr>
        <p:blipFill>
          <a:blip r:embed="rId2"/>
          <a:stretch/>
        </p:blipFill>
        <p:spPr>
          <a:xfrm>
            <a:off x="1692360" y="4869000"/>
            <a:ext cx="718920" cy="720720"/>
          </a:xfrm>
          <a:prstGeom prst="rect">
            <a:avLst/>
          </a:prstGeom>
          <a:ln w="0">
            <a:noFill/>
          </a:ln>
        </p:spPr>
      </p:pic>
      <p:pic>
        <p:nvPicPr>
          <p:cNvPr id="47" name="engholm_v2.wav" descr=""/>
          <p:cNvPicPr/>
          <p:nvPr/>
        </p:nvPicPr>
        <p:blipFill>
          <a:blip r:embed="rId3"/>
          <a:stretch/>
        </p:blipFill>
        <p:spPr>
          <a:xfrm>
            <a:off x="7451640" y="486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855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794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429000" y="380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Times New Roman"/>
              </a:rPr>
              <a:t>Version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Grafik 5" descr="engholm_v1-2.jpg"/>
          <p:cNvPicPr/>
          <p:nvPr/>
        </p:nvPicPr>
        <p:blipFill>
          <a:blip r:embed="rId1"/>
          <a:stretch/>
        </p:blipFill>
        <p:spPr>
          <a:xfrm>
            <a:off x="685800" y="1268280"/>
            <a:ext cx="7580160" cy="4432320"/>
          </a:xfrm>
          <a:prstGeom prst="rect">
            <a:avLst/>
          </a:prstGeom>
          <a:ln w="0">
            <a:noFill/>
          </a:ln>
        </p:spPr>
      </p:pic>
      <p:sp>
        <p:nvSpPr>
          <p:cNvPr id="50" name="Freihandform 10"/>
          <p:cNvSpPr/>
          <p:nvPr/>
        </p:nvSpPr>
        <p:spPr>
          <a:xfrm>
            <a:off x="1577880" y="3859200"/>
            <a:ext cx="6058080" cy="1306440"/>
          </a:xfrm>
          <a:custGeom>
            <a:avLst/>
            <a:gdLst>
              <a:gd name="textAreaLeft" fmla="*/ 0 w 6058080"/>
              <a:gd name="textAreaRight" fmla="*/ 6058440 w 6058080"/>
              <a:gd name="textAreaTop" fmla="*/ 0 h 1306440"/>
              <a:gd name="textAreaBottom" fmla="*/ 1306440 h 1306440"/>
            </a:gdLst>
            <a:ahLst/>
            <a:rect l="textAreaLeft" t="textAreaTop" r="textAreaRight" b="textAreaBottom"/>
            <a:pathLst>
              <a:path w="6057900" h="1306830">
                <a:moveTo>
                  <a:pt x="0" y="529590"/>
                </a:moveTo>
                <a:cubicBezTo>
                  <a:pt x="137160" y="291465"/>
                  <a:pt x="274320" y="53340"/>
                  <a:pt x="777240" y="26670"/>
                </a:cubicBezTo>
                <a:cubicBezTo>
                  <a:pt x="1280160" y="0"/>
                  <a:pt x="3017520" y="369570"/>
                  <a:pt x="3017520" y="369570"/>
                </a:cubicBezTo>
                <a:cubicBezTo>
                  <a:pt x="3101340" y="499110"/>
                  <a:pt x="3158490" y="1192530"/>
                  <a:pt x="3520440" y="1146810"/>
                </a:cubicBezTo>
                <a:cubicBezTo>
                  <a:pt x="3882390" y="1101090"/>
                  <a:pt x="4766310" y="72390"/>
                  <a:pt x="5189220" y="95250"/>
                </a:cubicBezTo>
                <a:cubicBezTo>
                  <a:pt x="5612130" y="118110"/>
                  <a:pt x="6057900" y="1283970"/>
                  <a:pt x="6057900" y="1283970"/>
                </a:cubicBezTo>
                <a:lnTo>
                  <a:pt x="6057900" y="13068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engholm_v1-2.wav" descr=""/>
          <p:cNvPicPr/>
          <p:nvPr/>
        </p:nvPicPr>
        <p:blipFill>
          <a:blip r:embed="rId2"/>
          <a:stretch/>
        </p:blipFill>
        <p:spPr>
          <a:xfrm>
            <a:off x="8423280" y="4149720"/>
            <a:ext cx="7207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374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3429000" y="380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Times New Roman"/>
              </a:rPr>
              <a:t>Version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rafik 5" descr="engholm_v2-2.jpg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4195800"/>
          </a:xfrm>
          <a:prstGeom prst="rect">
            <a:avLst/>
          </a:prstGeom>
          <a:ln w="0">
            <a:noFill/>
          </a:ln>
        </p:spPr>
      </p:pic>
      <p:sp>
        <p:nvSpPr>
          <p:cNvPr id="54" name="Freihandform 15"/>
          <p:cNvSpPr/>
          <p:nvPr/>
        </p:nvSpPr>
        <p:spPr>
          <a:xfrm>
            <a:off x="1851120" y="3635280"/>
            <a:ext cx="6089400" cy="1508400"/>
          </a:xfrm>
          <a:custGeom>
            <a:avLst/>
            <a:gdLst>
              <a:gd name="textAreaLeft" fmla="*/ 0 w 6089400"/>
              <a:gd name="textAreaRight" fmla="*/ 6089760 w 6089400"/>
              <a:gd name="textAreaTop" fmla="*/ 0 h 1508400"/>
              <a:gd name="textAreaBottom" fmla="*/ 1508760 h 1508400"/>
            </a:gdLst>
            <a:ahLst/>
            <a:rect l="textAreaLeft" t="textAreaTop" r="textAreaRight" b="textAreaBottom"/>
            <a:pathLst>
              <a:path w="6088380" h="1508760">
                <a:moveTo>
                  <a:pt x="0" y="514350"/>
                </a:moveTo>
                <a:cubicBezTo>
                  <a:pt x="1613535" y="710565"/>
                  <a:pt x="3227070" y="906780"/>
                  <a:pt x="4046220" y="834390"/>
                </a:cubicBezTo>
                <a:cubicBezTo>
                  <a:pt x="4865370" y="762000"/>
                  <a:pt x="4602480" y="0"/>
                  <a:pt x="4914900" y="80010"/>
                </a:cubicBezTo>
                <a:cubicBezTo>
                  <a:pt x="5227320" y="160020"/>
                  <a:pt x="5753100" y="1120140"/>
                  <a:pt x="5920740" y="1314450"/>
                </a:cubicBezTo>
                <a:cubicBezTo>
                  <a:pt x="6088380" y="1508760"/>
                  <a:pt x="5920740" y="1245870"/>
                  <a:pt x="5920740" y="124587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engholm_v2-2.wav" descr=""/>
          <p:cNvPicPr/>
          <p:nvPr/>
        </p:nvPicPr>
        <p:blipFill>
          <a:blip r:embed="rId2"/>
          <a:stretch/>
        </p:blipFill>
        <p:spPr>
          <a:xfrm>
            <a:off x="8220240" y="4149720"/>
            <a:ext cx="9237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71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07:29Z</dcterms:created>
  <dc:creator>kk</dc:creator>
  <dc:description/>
  <dc:language>en-US</dc:language>
  <cp:lastModifiedBy>Kohler</cp:lastModifiedBy>
  <dcterms:modified xsi:type="dcterms:W3CDTF">2016-07-31T08:18:06Z</dcterms:modified>
  <cp:revision>259</cp:revision>
  <dc:subject/>
  <dc:title>Kein Folientitel</dc:title>
</cp:coreProperties>
</file>