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media/image22.png" ContentType="image/pn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54FD-9BF1-4C56-AD8D-53675A37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alk was presented at a AFOSR meeting in 2004. It outlines one approach for extending the standard filtered back propagation algorithm to be applicable to lossy media. A more general approach is based on the theory presented in chapter 9 of the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6395-851E-4EEC-9BF1-E5DD85667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2A5-1327-4EB5-86A4-35F43FBA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4C6-547A-4C11-907F-B5244286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695-8601-45EE-BAE0-8DC3A8C9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BB2-7360-406D-9C3B-BF2358AD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8A4-DB1E-4C17-BF7B-1E6A9059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7EF-F365-4F78-9F08-4F895BB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A86-9466-4708-AA94-869FC0DA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958-6826-4AEC-8963-FD0A83FA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9B6-6089-4F60-973D-340E4882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72A-A599-4585-94B4-CCC7FBB6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49A-9A8F-424C-AFDD-A8463E9C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385-E7B9-422E-9C0E-B66587F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CFB9-DD1D-4066-8593-032E8C019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ffraction Tomography in Dispersive Background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054160" y="1604880"/>
            <a:ext cx="5010120" cy="20142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ny Deva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pt. Elec.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rtheaster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Boston, MA 02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mail: tonydev2@ao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96680" y="3873600"/>
            <a:ext cx="7064640" cy="611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J. Devaney, “Linearized inverse scattering in attenuating media,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verse Prob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987) 389-3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595240" y="469440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approaches discussed 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08800" y="5396040"/>
            <a:ext cx="8638920" cy="946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 Schatzberg and A.J.D., ``Super-resolution in diffraction tomography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verse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8 (1992) 149-1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. Ladas and A.J.D., ``Iterative methods in geophysical diffraction tomography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verse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8 (1992) 119-1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. Deming and A.J.D., ``Diffraction tomography for multi-monostatic gpr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verse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3 (1997) 29-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5" descr=""/>
          <p:cNvPicPr/>
          <p:nvPr/>
        </p:nvPicPr>
        <p:blipFill>
          <a:blip r:embed="rId1"/>
          <a:stretch/>
        </p:blipFill>
        <p:spPr>
          <a:xfrm>
            <a:off x="662040" y="1100160"/>
            <a:ext cx="7900920" cy="5357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our Plot of Re ik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096880" y="311940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2754360" y="4273560"/>
            <a:ext cx="6318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893600" y="40068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8176680" y="2765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81200" y="1895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1649520" y="2949480"/>
            <a:ext cx="641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1687680" y="4506840"/>
            <a:ext cx="60260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sh Plot of Re ik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830160" y="1300320"/>
            <a:ext cx="722952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xciting the Plane W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038480" cy="4683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4405320" y="1600200"/>
            <a:ext cx="441972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4572000" y="1752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441972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6332760" y="20574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2"/>
          <p:cNvSpPr/>
          <p:nvPr/>
        </p:nvSpPr>
        <p:spPr>
          <a:xfrm>
            <a:off x="7086600" y="1676520"/>
            <a:ext cx="1320840" cy="1371600"/>
          </a:xfrm>
          <a:prstGeom prst="pie">
            <a:avLst/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7317000" y="205740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45720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45720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6"/>
          <p:cNvSpPr/>
          <p:nvPr/>
        </p:nvSpPr>
        <p:spPr>
          <a:xfrm>
            <a:off x="4648320" y="2057400"/>
            <a:ext cx="76176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8" descr=""/>
          <p:cNvPicPr/>
          <p:nvPr/>
        </p:nvPicPr>
        <p:blipFill>
          <a:blip r:embed="rId2"/>
          <a:stretch/>
        </p:blipFill>
        <p:spPr>
          <a:xfrm>
            <a:off x="5316480" y="3648240"/>
            <a:ext cx="3559320" cy="760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"/>
          <p:cNvPicPr/>
          <p:nvPr/>
        </p:nvPicPr>
        <p:blipFill>
          <a:blip r:embed="rId3"/>
          <a:stretch/>
        </p:blipFill>
        <p:spPr>
          <a:xfrm>
            <a:off x="5392800" y="2536920"/>
            <a:ext cx="1757160" cy="610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20"/>
          <p:cNvSpPr/>
          <p:nvPr/>
        </p:nvSpPr>
        <p:spPr>
          <a:xfrm>
            <a:off x="5418000" y="16765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1" descr=""/>
          <p:cNvPicPr/>
          <p:nvPr/>
        </p:nvPicPr>
        <p:blipFill>
          <a:blip r:embed="rId4"/>
          <a:stretch/>
        </p:blipFill>
        <p:spPr>
          <a:xfrm>
            <a:off x="446040" y="3502080"/>
            <a:ext cx="4210200" cy="842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33" name="Picture 23" descr=""/>
          <p:cNvPicPr/>
          <p:nvPr/>
        </p:nvPicPr>
        <p:blipFill>
          <a:blip r:embed="rId5"/>
          <a:stretch/>
        </p:blipFill>
        <p:spPr>
          <a:xfrm>
            <a:off x="376200" y="4497480"/>
            <a:ext cx="4938840" cy="73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4" descr=""/>
          <p:cNvPicPr/>
          <p:nvPr/>
        </p:nvPicPr>
        <p:blipFill>
          <a:blip r:embed="rId6"/>
          <a:stretch/>
        </p:blipFill>
        <p:spPr>
          <a:xfrm>
            <a:off x="1809720" y="5353200"/>
            <a:ext cx="5200560" cy="6508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235" name="Text Box 25"/>
          <p:cNvSpPr/>
          <p:nvPr/>
        </p:nvSpPr>
        <p:spPr>
          <a:xfrm>
            <a:off x="2570040" y="6173640"/>
            <a:ext cx="385812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n-attenuating mode of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5702040" y="46274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in l.h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mplete Puls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4"/>
          <p:cNvSpPr/>
          <p:nvPr/>
        </p:nvSpPr>
        <p:spPr>
          <a:xfrm flipV="1">
            <a:off x="4292640" y="1498680"/>
            <a:ext cx="0" cy="17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1244520" y="22305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311560" y="2840040"/>
            <a:ext cx="13716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4826160" y="2840040"/>
            <a:ext cx="13716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2175120" y="237024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159960" y="240660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1625760" y="207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11"/>
          <p:cNvSpPr/>
          <p:nvPr/>
        </p:nvSpPr>
        <p:spPr>
          <a:xfrm flipH="1" flipV="1">
            <a:off x="1549080" y="2153520"/>
            <a:ext cx="5486400" cy="27622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077800" y="154764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lex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3"/>
          <p:cNvSpPr/>
          <p:nvPr/>
        </p:nvSpPr>
        <p:spPr>
          <a:xfrm flipV="1">
            <a:off x="3911760" y="306864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H="1" flipV="1">
            <a:off x="3378240" y="299232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2828520" y="352116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C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16"/>
          <p:cNvSpPr/>
          <p:nvPr/>
        </p:nvSpPr>
        <p:spPr>
          <a:xfrm>
            <a:off x="6135840" y="2362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2184480" y="2327400"/>
            <a:ext cx="252360" cy="304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2117880" y="2773440"/>
            <a:ext cx="1679400" cy="2127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19"/>
          <p:cNvSpPr/>
          <p:nvPr/>
        </p:nvSpPr>
        <p:spPr>
          <a:xfrm>
            <a:off x="4651200" y="2773440"/>
            <a:ext cx="1679760" cy="2127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23"/>
          <p:cNvSpPr/>
          <p:nvPr/>
        </p:nvSpPr>
        <p:spPr>
          <a:xfrm>
            <a:off x="4282920" y="3687840"/>
            <a:ext cx="632160" cy="104760"/>
          </a:xfrm>
          <a:prstGeom prst="rightArrow">
            <a:avLst>
              <a:gd name="adj1" fmla="val 50000"/>
              <a:gd name="adj2" fmla="val 1508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4971240" y="35654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cur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3958560" y="1127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8135280" y="2016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7" descr=""/>
          <p:cNvPicPr/>
          <p:nvPr/>
        </p:nvPicPr>
        <p:blipFill>
          <a:blip r:embed="rId1"/>
          <a:stretch/>
        </p:blipFill>
        <p:spPr>
          <a:xfrm>
            <a:off x="1692360" y="5041800"/>
            <a:ext cx="5257800" cy="890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8"/>
          <p:cNvSpPr/>
          <p:nvPr/>
        </p:nvSpPr>
        <p:spPr>
          <a:xfrm>
            <a:off x="209520" y="6100920"/>
            <a:ext cx="867096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Can the non-attenuating plane wave  be excited; i.e., is it dominated by the precurso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0"/>
          <p:cNvSpPr/>
          <p:nvPr/>
        </p:nvSpPr>
        <p:spPr>
          <a:xfrm>
            <a:off x="5669640" y="227808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1"/>
          <p:cNvSpPr/>
          <p:nvPr/>
        </p:nvSpPr>
        <p:spPr>
          <a:xfrm>
            <a:off x="2525760" y="2278080"/>
            <a:ext cx="51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symptotic Analysi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93920" y="1434960"/>
            <a:ext cx="7689600" cy="703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E. Oughstun and G.C. Sherman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lectromagnetic Pulse Propagation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usal Dielectr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Springer-Verlag, 1994, New Yor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7"/>
          <p:cNvSpPr/>
          <p:nvPr/>
        </p:nvSpPr>
        <p:spPr>
          <a:xfrm flipV="1">
            <a:off x="4408560" y="2941560"/>
            <a:ext cx="1440" cy="17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8"/>
          <p:cNvSpPr/>
          <p:nvPr/>
        </p:nvSpPr>
        <p:spPr>
          <a:xfrm>
            <a:off x="1360440" y="367344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9"/>
          <p:cNvSpPr/>
          <p:nvPr/>
        </p:nvSpPr>
        <p:spPr>
          <a:xfrm>
            <a:off x="2427120" y="4282920"/>
            <a:ext cx="13716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30"/>
          <p:cNvSpPr/>
          <p:nvPr/>
        </p:nvSpPr>
        <p:spPr>
          <a:xfrm>
            <a:off x="4941720" y="4282920"/>
            <a:ext cx="13716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2291040" y="38368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6275880" y="38368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3"/>
          <p:cNvSpPr/>
          <p:nvPr/>
        </p:nvSpPr>
        <p:spPr>
          <a:xfrm flipV="1">
            <a:off x="1522440" y="3508200"/>
            <a:ext cx="587376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5193720" y="299088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lex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4061880" y="2532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6"/>
          <p:cNvSpPr/>
          <p:nvPr/>
        </p:nvSpPr>
        <p:spPr>
          <a:xfrm>
            <a:off x="8251200" y="3459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7"/>
          <p:cNvSpPr/>
          <p:nvPr/>
        </p:nvSpPr>
        <p:spPr>
          <a:xfrm>
            <a:off x="5785560" y="372096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8"/>
          <p:cNvSpPr/>
          <p:nvPr/>
        </p:nvSpPr>
        <p:spPr>
          <a:xfrm>
            <a:off x="2641680" y="3720960"/>
            <a:ext cx="51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rc 49"/>
          <p:cNvSpPr/>
          <p:nvPr/>
        </p:nvSpPr>
        <p:spPr>
          <a:xfrm flipH="1">
            <a:off x="1442880" y="3513240"/>
            <a:ext cx="6004080" cy="1181160"/>
          </a:xfrm>
          <a:prstGeom prst="pie">
            <a:avLst/>
          </a:prstGeom>
          <a:noFill/>
          <a:ln w="1908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0"/>
          <p:cNvSpPr/>
          <p:nvPr/>
        </p:nvSpPr>
        <p:spPr>
          <a:xfrm>
            <a:off x="4236840" y="3305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1"/>
          <p:cNvSpPr/>
          <p:nvPr/>
        </p:nvSpPr>
        <p:spPr>
          <a:xfrm>
            <a:off x="1479600" y="403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2"/>
          <p:cNvSpPr/>
          <p:nvPr/>
        </p:nvSpPr>
        <p:spPr>
          <a:xfrm>
            <a:off x="7040520" y="4075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3"/>
          <p:cNvSpPr/>
          <p:nvPr/>
        </p:nvSpPr>
        <p:spPr>
          <a:xfrm>
            <a:off x="7020360" y="38368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54"/>
          <p:cNvSpPr/>
          <p:nvPr/>
        </p:nvSpPr>
        <p:spPr>
          <a:xfrm>
            <a:off x="1570320" y="38368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55"/>
          <p:cNvSpPr/>
          <p:nvPr/>
        </p:nvSpPr>
        <p:spPr>
          <a:xfrm flipH="1">
            <a:off x="1803240" y="4108320"/>
            <a:ext cx="52704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56"/>
          <p:cNvSpPr/>
          <p:nvPr/>
        </p:nvSpPr>
        <p:spPr>
          <a:xfrm>
            <a:off x="793440" y="528624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lane wave exc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57"/>
          <p:cNvSpPr/>
          <p:nvPr/>
        </p:nvSpPr>
        <p:spPr>
          <a:xfrm flipH="1">
            <a:off x="6657480" y="4017960"/>
            <a:ext cx="451080" cy="124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8"/>
          <p:cNvSpPr/>
          <p:nvPr/>
        </p:nvSpPr>
        <p:spPr>
          <a:xfrm>
            <a:off x="5299200" y="538632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lane wave not exc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9"/>
          <p:cNvSpPr/>
          <p:nvPr/>
        </p:nvSpPr>
        <p:spPr>
          <a:xfrm>
            <a:off x="1050480" y="285120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epest Descent Con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0"/>
          <p:cNvSpPr/>
          <p:nvPr/>
        </p:nvSpPr>
        <p:spPr>
          <a:xfrm>
            <a:off x="1944720" y="3259080"/>
            <a:ext cx="25704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1"/>
          <p:cNvSpPr/>
          <p:nvPr/>
        </p:nvSpPr>
        <p:spPr>
          <a:xfrm>
            <a:off x="245880" y="4046400"/>
            <a:ext cx="12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ddl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2"/>
          <p:cNvSpPr/>
          <p:nvPr/>
        </p:nvSpPr>
        <p:spPr>
          <a:xfrm>
            <a:off x="7468920" y="4083120"/>
            <a:ext cx="12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ddl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63"/>
          <p:cNvSpPr/>
          <p:nvPr/>
        </p:nvSpPr>
        <p:spPr>
          <a:xfrm>
            <a:off x="3074760" y="3154320"/>
            <a:ext cx="12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ddl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mmary and Question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40480" y="2130480"/>
            <a:ext cx="8205840" cy="2533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e reviewed one possible approach to inversion in dispersive back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thod is based on computing the temporal Fourier transform of puls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t complex frequencies for which the wavenumber of the background is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thod will not work for simple conducting media but appears feasible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rentz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he idea behind the approach suggests that it may be possible to exc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n-decaying, plane wave pulses using complex frequ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ymptotic analysis is required to determine the feasibility of the the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xperimental Con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219320" y="1371600"/>
            <a:ext cx="7010280" cy="3429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3048120" y="2362320"/>
            <a:ext cx="1420560" cy="1574640"/>
          </a:xfrm>
          <a:prstGeom prst="pie">
            <a:avLst/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 flipV="1">
            <a:off x="1828800" y="3276720"/>
            <a:ext cx="114300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648320" y="3352680"/>
            <a:ext cx="129528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211120" y="16765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057400" y="3048120"/>
            <a:ext cx="747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4952520" y="2971800"/>
            <a:ext cx="87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735640" y="33940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793120" y="3429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278160" y="274320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280600" y="491328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ized Projection-Sli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7" descr=""/>
          <p:cNvPicPr/>
          <p:nvPr/>
        </p:nvPicPr>
        <p:blipFill>
          <a:blip r:embed="rId1"/>
          <a:stretch/>
        </p:blipFill>
        <p:spPr>
          <a:xfrm>
            <a:off x="6076800" y="2833560"/>
            <a:ext cx="1757520" cy="61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"/>
          <p:cNvPicPr/>
          <p:nvPr/>
        </p:nvPicPr>
        <p:blipFill>
          <a:blip r:embed="rId2"/>
          <a:stretch/>
        </p:blipFill>
        <p:spPr>
          <a:xfrm>
            <a:off x="4672080" y="1798560"/>
            <a:ext cx="3422520" cy="71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"/>
          <p:cNvPicPr/>
          <p:nvPr/>
        </p:nvPicPr>
        <p:blipFill>
          <a:blip r:embed="rId3"/>
          <a:stretch/>
        </p:blipFill>
        <p:spPr>
          <a:xfrm>
            <a:off x="2479680" y="5300640"/>
            <a:ext cx="4602240" cy="690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534240" y="6021360"/>
            <a:ext cx="787860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. Wolf,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inciples and development of diffraction tomography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ends in Optic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nna Consortini, ed. [Academic Press, San Diego, 1996] 83-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3"/>
          <p:cNvSpPr/>
          <p:nvPr/>
        </p:nvSpPr>
        <p:spPr>
          <a:xfrm>
            <a:off x="5981760" y="2847960"/>
            <a:ext cx="1171440" cy="11714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orn Inverse Scatt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086600" y="19810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wald Sph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194040" y="2158920"/>
            <a:ext cx="4302360" cy="2063880"/>
            <a:chOff x="194040" y="2158920"/>
            <a:chExt cx="4302360" cy="2063880"/>
          </a:xfrm>
        </p:grpSpPr>
        <p:sp>
          <p:nvSpPr>
            <p:cNvPr id="73" name="Text Box 8"/>
            <p:cNvSpPr/>
            <p:nvPr/>
          </p:nvSpPr>
          <p:spPr>
            <a:xfrm>
              <a:off x="2444040" y="2158920"/>
              <a:ext cx="20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ward scatter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194040" y="2178000"/>
              <a:ext cx="174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ck scatter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 flipH="1">
              <a:off x="815760" y="3773520"/>
              <a:ext cx="55692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1"/>
            <p:cNvSpPr/>
            <p:nvPr/>
          </p:nvSpPr>
          <p:spPr>
            <a:xfrm>
              <a:off x="1816200" y="3079800"/>
              <a:ext cx="1030320" cy="700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 flipV="1">
              <a:off x="1320840" y="3638160"/>
              <a:ext cx="60948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3"/>
            <p:cNvSpPr/>
            <p:nvPr/>
          </p:nvSpPr>
          <p:spPr>
            <a:xfrm>
              <a:off x="2865600" y="2693880"/>
              <a:ext cx="502920" cy="1201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4"/>
            <p:cNvSpPr/>
            <p:nvPr/>
          </p:nvSpPr>
          <p:spPr>
            <a:xfrm flipV="1">
              <a:off x="3054240" y="3011040"/>
              <a:ext cx="6876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5"/>
            <p:cNvSpPr/>
            <p:nvPr/>
          </p:nvSpPr>
          <p:spPr>
            <a:xfrm flipV="1">
              <a:off x="2933640" y="2607840"/>
              <a:ext cx="4906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>
              <a:off x="3046320" y="3603600"/>
              <a:ext cx="66996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7"/>
            <p:cNvSpPr/>
            <p:nvPr/>
          </p:nvSpPr>
          <p:spPr>
            <a:xfrm>
              <a:off x="1193760" y="2792520"/>
              <a:ext cx="469800" cy="14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8"/>
            <p:cNvSpPr/>
            <p:nvPr/>
          </p:nvSpPr>
          <p:spPr>
            <a:xfrm flipH="1" flipV="1">
              <a:off x="1233360" y="2727000"/>
              <a:ext cx="3873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 flipH="1" flipV="1">
              <a:off x="975960" y="3225600"/>
              <a:ext cx="6094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0"/>
            <p:cNvSpPr/>
            <p:nvPr/>
          </p:nvSpPr>
          <p:spPr>
            <a:xfrm>
              <a:off x="2281320" y="344808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4151160" y="32702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2"/>
            <p:cNvSpPr/>
            <p:nvPr/>
          </p:nvSpPr>
          <p:spPr>
            <a:xfrm flipV="1">
              <a:off x="2265480" y="2573280"/>
              <a:ext cx="0" cy="16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23" descr=""/>
            <p:cNvPicPr/>
            <p:nvPr/>
          </p:nvPicPr>
          <p:blipFill>
            <a:blip r:embed="rId1"/>
            <a:stretch/>
          </p:blipFill>
          <p:spPr>
            <a:xfrm>
              <a:off x="1641600" y="3827520"/>
              <a:ext cx="206280" cy="1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Line 24"/>
            <p:cNvSpPr/>
            <p:nvPr/>
          </p:nvSpPr>
          <p:spPr>
            <a:xfrm>
              <a:off x="1440000" y="3681360"/>
              <a:ext cx="2491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Line 25"/>
          <p:cNvSpPr/>
          <p:nvPr/>
        </p:nvSpPr>
        <p:spPr>
          <a:xfrm>
            <a:off x="6568920" y="2050920"/>
            <a:ext cx="0" cy="272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6"/>
          <p:cNvSpPr/>
          <p:nvPr/>
        </p:nvSpPr>
        <p:spPr>
          <a:xfrm>
            <a:off x="5105520" y="3476520"/>
            <a:ext cx="316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27"/>
          <p:cNvSpPr/>
          <p:nvPr/>
        </p:nvSpPr>
        <p:spPr>
          <a:xfrm>
            <a:off x="5572080" y="3276720"/>
            <a:ext cx="1171800" cy="1171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8"/>
          <p:cNvSpPr/>
          <p:nvPr/>
        </p:nvSpPr>
        <p:spPr>
          <a:xfrm flipH="1" flipV="1">
            <a:off x="5619240" y="3666960"/>
            <a:ext cx="552600" cy="200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9"/>
          <p:cNvSpPr/>
          <p:nvPr/>
        </p:nvSpPr>
        <p:spPr>
          <a:xfrm flipV="1">
            <a:off x="6172200" y="2657160"/>
            <a:ext cx="0" cy="21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0"/>
          <p:cNvSpPr/>
          <p:nvPr/>
        </p:nvSpPr>
        <p:spPr>
          <a:xfrm>
            <a:off x="5416560" y="2317680"/>
            <a:ext cx="2295360" cy="22957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1"/>
          <p:cNvSpPr/>
          <p:nvPr/>
        </p:nvSpPr>
        <p:spPr>
          <a:xfrm flipV="1">
            <a:off x="6578640" y="2895480"/>
            <a:ext cx="99072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2"/>
          <p:cNvSpPr/>
          <p:nvPr/>
        </p:nvSpPr>
        <p:spPr>
          <a:xfrm flipV="1">
            <a:off x="6566040" y="2936880"/>
            <a:ext cx="30456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6643800" y="464832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Limiting Ewal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4"/>
          <p:cNvSpPr/>
          <p:nvPr/>
        </p:nvSpPr>
        <p:spPr>
          <a:xfrm flipH="1" flipV="1">
            <a:off x="7419960" y="4314960"/>
            <a:ext cx="4096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4169160" y="44766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Ewal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 flipV="1">
            <a:off x="5067360" y="4190760"/>
            <a:ext cx="55224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6548400" y="2867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7148520" y="3038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9" descr=""/>
          <p:cNvPicPr/>
          <p:nvPr/>
        </p:nvPicPr>
        <p:blipFill>
          <a:blip r:embed="rId2"/>
          <a:stretch/>
        </p:blipFill>
        <p:spPr>
          <a:xfrm>
            <a:off x="6275520" y="3616200"/>
            <a:ext cx="528480" cy="277920"/>
          </a:xfrm>
          <a:prstGeom prst="rect">
            <a:avLst/>
          </a:prstGeom>
          <a:ln w="0">
            <a:noFill/>
          </a:ln>
        </p:spPr>
      </p:pic>
      <p:sp>
        <p:nvSpPr>
          <p:cNvPr id="105" name="Line 40"/>
          <p:cNvSpPr/>
          <p:nvPr/>
        </p:nvSpPr>
        <p:spPr>
          <a:xfrm flipH="1">
            <a:off x="6191280" y="3463920"/>
            <a:ext cx="393840" cy="393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1" descr=""/>
          <p:cNvPicPr/>
          <p:nvPr/>
        </p:nvPicPr>
        <p:blipFill>
          <a:blip r:embed="rId3"/>
          <a:stretch/>
        </p:blipFill>
        <p:spPr>
          <a:xfrm>
            <a:off x="5802480" y="3514680"/>
            <a:ext cx="253800" cy="23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2" descr=""/>
          <p:cNvPicPr/>
          <p:nvPr/>
        </p:nvPicPr>
        <p:blipFill>
          <a:blip r:embed="rId4"/>
          <a:stretch/>
        </p:blipFill>
        <p:spPr>
          <a:xfrm>
            <a:off x="3494160" y="2584440"/>
            <a:ext cx="1003320" cy="33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3" descr=""/>
          <p:cNvPicPr/>
          <p:nvPr/>
        </p:nvPicPr>
        <p:blipFill>
          <a:blip r:embed="rId5"/>
          <a:stretch/>
        </p:blipFill>
        <p:spPr>
          <a:xfrm>
            <a:off x="276120" y="2849400"/>
            <a:ext cx="965160" cy="29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4" descr=""/>
          <p:cNvPicPr/>
          <p:nvPr/>
        </p:nvPicPr>
        <p:blipFill>
          <a:blip r:embed="rId6"/>
          <a:stretch/>
        </p:blipFill>
        <p:spPr>
          <a:xfrm>
            <a:off x="1828800" y="5257800"/>
            <a:ext cx="5249880" cy="88596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110" name="Picture 45" descr=""/>
          <p:cNvPicPr/>
          <p:nvPr/>
        </p:nvPicPr>
        <p:blipFill>
          <a:blip r:embed="rId7"/>
          <a:stretch/>
        </p:blipFill>
        <p:spPr>
          <a:xfrm>
            <a:off x="1295280" y="1600200"/>
            <a:ext cx="6215040" cy="503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6"/>
          <p:cNvSpPr/>
          <p:nvPr/>
        </p:nvSpPr>
        <p:spPr>
          <a:xfrm>
            <a:off x="3346200" y="1136520"/>
            <a:ext cx="15768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=real val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orn Inversion for Fixed Frequ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621080" y="2144880"/>
            <a:ext cx="5830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version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urier interpo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lassical X-ray crystallogra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Filtered backpropa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iffraction tomogra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4240" y="1496880"/>
            <a:ext cx="79441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Problem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How to generate inversion from Fourier data on spheric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730600" y="46069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J.D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ts Let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7, p.111 (198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76840" y="5222880"/>
            <a:ext cx="82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iltering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of data followed by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ackpropagation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iltered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ackpropagation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963720" y="3522600"/>
            <a:ext cx="7218360" cy="978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1373040" y="5726160"/>
            <a:ext cx="5734080" cy="8254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urier based methods fail if k is compl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ed new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912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ulse Propagation in a Dispersive Backgroun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0" name="Picture 23" descr=""/>
          <p:cNvPicPr/>
          <p:nvPr/>
        </p:nvPicPr>
        <p:blipFill>
          <a:blip r:embed="rId1"/>
          <a:stretch/>
        </p:blipFill>
        <p:spPr>
          <a:xfrm>
            <a:off x="1344600" y="5181480"/>
            <a:ext cx="6373800" cy="1324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4"/>
          <p:cNvSpPr/>
          <p:nvPr/>
        </p:nvSpPr>
        <p:spPr>
          <a:xfrm>
            <a:off x="1116000" y="1397160"/>
            <a:ext cx="7010280" cy="3429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25"/>
          <p:cNvSpPr/>
          <p:nvPr/>
        </p:nvSpPr>
        <p:spPr>
          <a:xfrm>
            <a:off x="2944800" y="2387520"/>
            <a:ext cx="1420920" cy="1575000"/>
          </a:xfrm>
          <a:prstGeom prst="pie">
            <a:avLst/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6"/>
          <p:cNvSpPr/>
          <p:nvPr/>
        </p:nvSpPr>
        <p:spPr>
          <a:xfrm flipV="1">
            <a:off x="1725480" y="3301560"/>
            <a:ext cx="11430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4545000" y="3378240"/>
            <a:ext cx="129528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2108160" y="17017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1954080" y="3073320"/>
            <a:ext cx="747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0"/>
          <p:cNvSpPr/>
          <p:nvPr/>
        </p:nvSpPr>
        <p:spPr>
          <a:xfrm flipH="1">
            <a:off x="4849560" y="2997360"/>
            <a:ext cx="879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2632320" y="341964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5689800" y="3454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3175200" y="276876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4" descr=""/>
          <p:cNvPicPr/>
          <p:nvPr/>
        </p:nvPicPr>
        <p:blipFill>
          <a:blip r:embed="rId2"/>
          <a:stretch/>
        </p:blipFill>
        <p:spPr>
          <a:xfrm>
            <a:off x="6114960" y="3863880"/>
            <a:ext cx="1757520" cy="6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7" descr=""/>
          <p:cNvPicPr/>
          <p:nvPr/>
        </p:nvPicPr>
        <p:blipFill>
          <a:blip r:embed="rId3"/>
          <a:stretch/>
        </p:blipFill>
        <p:spPr>
          <a:xfrm>
            <a:off x="4194000" y="1749600"/>
            <a:ext cx="38005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ourier Transformed Scattered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33800" y="4649760"/>
            <a:ext cx="8133480" cy="510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hoose a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comple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frequency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such that k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) is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real 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4960" y="541656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is no reason a priori to dismiss this possibility,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ut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ll it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85760" y="1600200"/>
            <a:ext cx="8593200" cy="109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1768320" y="1344600"/>
            <a:ext cx="1074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Line 11"/>
          <p:cNvSpPr/>
          <p:nvPr/>
        </p:nvSpPr>
        <p:spPr>
          <a:xfrm>
            <a:off x="2382840" y="1712880"/>
            <a:ext cx="112068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3"/>
          <a:stretch/>
        </p:blipFill>
        <p:spPr>
          <a:xfrm>
            <a:off x="681120" y="2752560"/>
            <a:ext cx="7448400" cy="1202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630960" y="26352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ose in u.h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4"/>
          <a:stretch/>
        </p:blipFill>
        <p:spPr>
          <a:xfrm>
            <a:off x="3205080" y="3767040"/>
            <a:ext cx="2425680" cy="773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5"/>
          <p:cNvSpPr/>
          <p:nvPr/>
        </p:nvSpPr>
        <p:spPr>
          <a:xfrm>
            <a:off x="1445760" y="6049800"/>
            <a:ext cx="617148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oots of dispersion relationship with real k are in l.h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6" descr=""/>
          <p:cNvPicPr/>
          <p:nvPr/>
        </p:nvPicPr>
        <p:blipFill>
          <a:blip r:embed="rId1"/>
          <a:stretch/>
        </p:blipFill>
        <p:spPr>
          <a:xfrm>
            <a:off x="2790720" y="2664000"/>
            <a:ext cx="2697120" cy="860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imple Conducting Medium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1951200" y="27576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82520" y="232236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val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"/>
          <p:cNvSpPr/>
          <p:nvPr/>
        </p:nvSpPr>
        <p:spPr>
          <a:xfrm flipH="1">
            <a:off x="4414680" y="25272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792680" y="201924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lex in l.h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 flipH="1">
            <a:off x="5162400" y="244944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 flipH="1">
            <a:off x="3386160" y="224784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5" descr=""/>
          <p:cNvPicPr/>
          <p:nvPr/>
        </p:nvPicPr>
        <p:blipFill>
          <a:blip r:embed="rId2"/>
          <a:stretch/>
        </p:blipFill>
        <p:spPr>
          <a:xfrm>
            <a:off x="2787480" y="1166760"/>
            <a:ext cx="3400560" cy="91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947880" y="3568680"/>
            <a:ext cx="7359480" cy="950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53" name="Line 18"/>
          <p:cNvSpPr/>
          <p:nvPr/>
        </p:nvSpPr>
        <p:spPr>
          <a:xfrm flipV="1">
            <a:off x="4649760" y="4911480"/>
            <a:ext cx="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1446120" y="53722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2084400" y="60310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5435280" y="481968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lex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5406480" y="5580000"/>
            <a:ext cx="171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red frequency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4265280" y="4591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8492760" y="584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8"/>
          <p:cNvSpPr/>
          <p:nvPr/>
        </p:nvSpPr>
        <p:spPr>
          <a:xfrm>
            <a:off x="4983120" y="555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9"/>
          <p:cNvSpPr/>
          <p:nvPr/>
        </p:nvSpPr>
        <p:spPr>
          <a:xfrm flipV="1">
            <a:off x="3051000" y="53704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40"/>
          <p:cNvSpPr/>
          <p:nvPr/>
        </p:nvSpPr>
        <p:spPr>
          <a:xfrm>
            <a:off x="3052800" y="582120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1"/>
          <p:cNvSpPr/>
          <p:nvPr/>
        </p:nvSpPr>
        <p:spPr>
          <a:xfrm>
            <a:off x="2885040" y="54864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814680" y="6251400"/>
            <a:ext cx="76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not be able to close in u.h.p.: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an only drop contour to branch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3"/>
          <p:cNvSpPr/>
          <p:nvPr/>
        </p:nvSpPr>
        <p:spPr>
          <a:xfrm>
            <a:off x="4456080" y="5183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4"/>
          <p:cNvSpPr/>
          <p:nvPr/>
        </p:nvSpPr>
        <p:spPr>
          <a:xfrm>
            <a:off x="2392200" y="482292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5"/>
          <p:cNvSpPr/>
          <p:nvPr/>
        </p:nvSpPr>
        <p:spPr>
          <a:xfrm>
            <a:off x="3927600" y="5113440"/>
            <a:ext cx="5792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rentz Model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32040" y="1141560"/>
            <a:ext cx="7269120" cy="4910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938480" y="2800440"/>
            <a:ext cx="124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.28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177640" y="3530520"/>
            <a:ext cx="5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890520" y="399420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2"/>
          <a:stretch/>
        </p:blipFill>
        <p:spPr>
          <a:xfrm>
            <a:off x="3622680" y="1614600"/>
            <a:ext cx="3828960" cy="890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792360" y="5775480"/>
            <a:ext cx="7689600" cy="703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E. Oughstun and G.C. Sherman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lectromagnetic Pulse Propagation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usal Dielectr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Springer-Verlag, 1994, New Yor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rentz Medium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4343400" y="1447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1295280" y="25909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497840" y="28954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1689120" y="322416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103360" y="160020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lex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3"/>
          <p:cNvSpPr/>
          <p:nvPr/>
        </p:nvSpPr>
        <p:spPr>
          <a:xfrm flipV="1">
            <a:off x="4219560" y="3467160"/>
            <a:ext cx="1158840" cy="534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4"/>
          <p:cNvSpPr/>
          <p:nvPr/>
        </p:nvSpPr>
        <p:spPr>
          <a:xfrm flipH="1" flipV="1">
            <a:off x="3429000" y="3352680"/>
            <a:ext cx="380880" cy="5335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2879280" y="38815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C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3958560" y="1127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8186400" y="2376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4865040" y="2836800"/>
            <a:ext cx="171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red frequency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9"/>
          <p:cNvSpPr/>
          <p:nvPr/>
        </p:nvSpPr>
        <p:spPr>
          <a:xfrm flipV="1">
            <a:off x="2895480" y="256212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2897280" y="301320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729520" y="26780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1530720" y="5402160"/>
            <a:ext cx="6427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oots of dispersion relationship must lie above branch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7"/>
          <p:cNvSpPr/>
          <p:nvPr/>
        </p:nvSpPr>
        <p:spPr>
          <a:xfrm>
            <a:off x="6350040" y="3327480"/>
            <a:ext cx="141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8"/>
          <p:cNvSpPr/>
          <p:nvPr/>
        </p:nvSpPr>
        <p:spPr>
          <a:xfrm flipV="1">
            <a:off x="7466040" y="2612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9"/>
          <p:cNvSpPr/>
          <p:nvPr/>
        </p:nvSpPr>
        <p:spPr>
          <a:xfrm>
            <a:off x="7467480" y="30639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0"/>
          <p:cNvSpPr/>
          <p:nvPr/>
        </p:nvSpPr>
        <p:spPr>
          <a:xfrm>
            <a:off x="7298280" y="2728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3797280" y="6004080"/>
            <a:ext cx="1354320" cy="510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5060880" y="3327480"/>
            <a:ext cx="101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2637000" y="3327480"/>
            <a:ext cx="1017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7"/>
          <p:cNvSpPr/>
          <p:nvPr/>
        </p:nvSpPr>
        <p:spPr>
          <a:xfrm>
            <a:off x="3579840" y="3112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8"/>
          <p:cNvSpPr/>
          <p:nvPr/>
        </p:nvSpPr>
        <p:spPr>
          <a:xfrm>
            <a:off x="4878360" y="3114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9"/>
          <p:cNvSpPr/>
          <p:nvPr/>
        </p:nvSpPr>
        <p:spPr>
          <a:xfrm>
            <a:off x="5508720" y="36450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of n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0"/>
          <p:cNvSpPr/>
          <p:nvPr/>
        </p:nvSpPr>
        <p:spPr>
          <a:xfrm flipH="1" flipV="1">
            <a:off x="4172040" y="3478320"/>
            <a:ext cx="1339920" cy="372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1"/>
          <p:cNvSpPr/>
          <p:nvPr/>
        </p:nvSpPr>
        <p:spPr>
          <a:xfrm flipH="1" flipV="1">
            <a:off x="5087880" y="3413160"/>
            <a:ext cx="449280" cy="411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3763800" y="310824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4547880" y="311004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5" descr=""/>
          <p:cNvPicPr/>
          <p:nvPr/>
        </p:nvPicPr>
        <p:blipFill>
          <a:blip r:embed="rId1"/>
          <a:stretch/>
        </p:blipFill>
        <p:spPr>
          <a:xfrm>
            <a:off x="4788000" y="4510080"/>
            <a:ext cx="2614680" cy="773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6" descr=""/>
          <p:cNvPicPr/>
          <p:nvPr/>
        </p:nvPicPr>
        <p:blipFill>
          <a:blip r:embed="rId2"/>
          <a:stretch/>
        </p:blipFill>
        <p:spPr>
          <a:xfrm>
            <a:off x="2122560" y="4508640"/>
            <a:ext cx="1976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16:02Z</dcterms:created>
  <dc:creator>Anthony Devaney</dc:creator>
  <dc:description/>
  <dc:language>en-US</dc:language>
  <cp:lastModifiedBy>tony devaney</cp:lastModifiedBy>
  <dcterms:modified xsi:type="dcterms:W3CDTF">2012-09-21T13:53:09Z</dcterms:modified>
  <cp:revision>36</cp:revision>
  <dc:subject/>
  <dc:title>Diffraction Tomography in Dispersive Backgrounds</dc:title>
</cp:coreProperties>
</file>