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F807-03FF-42CF-B31A-34851C5C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025D-900E-4063-B91C-E6D6605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F5E-01BB-4365-8DBF-7DD0A55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F22-80E6-4193-AD26-D2844D7E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15E-9E85-4202-99A4-676F4FB0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C66-7EAF-4867-8305-AA7FA7F1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651D-C3F7-4C7E-9620-D198B4C7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2F69-989E-4AAD-A26C-BFFA223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9B9E-8B8E-4DF7-A996-74C5029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6835-623B-4F01-AC75-93E7D488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B36-3A6E-4955-B575-B4DD961D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67E-266D-4C9F-9326-2074D3CB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DFA-BD7D-4433-B762-5BB5F50C4B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D:\PPT job\01_Upload\9781107070783c01\9781107070783c01\07078fig1_1.jpg"/>
          <p:cNvPicPr/>
          <p:nvPr/>
        </p:nvPicPr>
        <p:blipFill>
          <a:blip r:embed="rId1"/>
          <a:stretch/>
        </p:blipFill>
        <p:spPr>
          <a:xfrm>
            <a:off x="1589040" y="1477800"/>
            <a:ext cx="5965920" cy="39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_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D:\PPT job\01_Upload\9781107070783c01\9781107070783c01\07078fig1_2.jpg"/>
          <p:cNvPicPr/>
          <p:nvPr/>
        </p:nvPicPr>
        <p:blipFill>
          <a:blip r:embed="rId1"/>
          <a:stretch/>
        </p:blipFill>
        <p:spPr>
          <a:xfrm>
            <a:off x="1393920" y="1692360"/>
            <a:ext cx="63561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6553080"/>
            <a:ext cx="914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ambridge University Press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BERRY_Fig. 1_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:\PPT job\01_Upload\9781107070783c01\9781107070783c01\07078fig1_3.jpg"/>
          <p:cNvPicPr/>
          <p:nvPr/>
        </p:nvPicPr>
        <p:blipFill>
          <a:blip r:embed="rId1"/>
          <a:stretch/>
        </p:blipFill>
        <p:spPr>
          <a:xfrm>
            <a:off x="3049560" y="1306440"/>
            <a:ext cx="30448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6T05:10:51Z</dcterms:created>
  <dc:creator>Saravanan Ganesan, Integra-PDY, IN</dc:creator>
  <dc:description/>
  <dc:language>en-US</dc:language>
  <cp:lastModifiedBy>gc984</cp:lastModifiedBy>
  <dcterms:modified xsi:type="dcterms:W3CDTF">2015-01-22T15:42:47Z</dcterms:modified>
  <cp:revision>38</cp:revision>
  <dc:subject/>
  <dc:title>PowerPoint Presentation</dc:title>
</cp:coreProperties>
</file>