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68DF-7572-4C9F-8E54-A1906AC3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5869-4378-40C9-B72E-4CBC1A4A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74BB-4809-4EAA-9AC2-F2EA3B9A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BF1-D8E2-4CA5-97FD-2451356D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93AD-0D11-4650-A964-86843108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E0E-D664-4BD3-84C2-CFFAF48D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CE9D-E5B6-4357-B4B2-0C11F8C5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E693-F89F-44A4-8941-6C588512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C3A6-3675-462D-A120-14A26839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99B6-3CBE-45C8-8F5A-A3027495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5FC9-D239-42A1-B39F-49BAFB26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1BEE-0321-4ECE-AFEF-948EC218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183C-4702-47B5-A400-09C8420028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1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D:\PPT job\01_Upload\9781107070783c02\9781107070783c02\Chapter 10\07078fig10_1.jpg"/>
          <p:cNvPicPr/>
          <p:nvPr/>
        </p:nvPicPr>
        <p:blipFill>
          <a:blip r:embed="rId1"/>
          <a:stretch/>
        </p:blipFill>
        <p:spPr>
          <a:xfrm>
            <a:off x="1414440" y="1981080"/>
            <a:ext cx="6315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1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D:\PPT job\01_Upload\9781107070783c02\9781107070783c02\Chapter 10\07078fig10_2.jpg"/>
          <p:cNvPicPr/>
          <p:nvPr/>
        </p:nvPicPr>
        <p:blipFill>
          <a:blip r:embed="rId1"/>
          <a:stretch/>
        </p:blipFill>
        <p:spPr>
          <a:xfrm>
            <a:off x="1371600" y="1925640"/>
            <a:ext cx="64008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6T05:10:51Z</dcterms:created>
  <dc:creator>Saravanan Ganesan, Integra-PDY, IN</dc:creator>
  <dc:description/>
  <dc:language>en-US</dc:language>
  <cp:lastModifiedBy>gc984</cp:lastModifiedBy>
  <dcterms:modified xsi:type="dcterms:W3CDTF">2015-01-22T16:43:07Z</dcterms:modified>
  <cp:revision>47</cp:revision>
  <dc:subject/>
  <dc:title>PowerPoint Presentation</dc:title>
</cp:coreProperties>
</file>