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CC1-361F-4704-99C1-A5848D81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50F-7282-4A04-A789-7D18DC3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E84-F6FE-4FC3-8E48-45F5C00F0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52E-7F13-46D2-BDA2-1F359BF4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4AB-734F-4A83-B7AD-7AF5A5B5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5F47-6CCA-40E7-A232-9BE95F20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5A4C-2B99-44D1-8FFB-9D1E376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F92-D349-426A-B6B1-68B617AF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594E-B8BE-46EA-B25F-C7769E0C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BE3-49EF-4A2D-8343-956296A0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413-1E65-406C-B231-6AA804AD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11B-FE21-4C9D-BA55-D154C05E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056E-2359-4165-ACFA-BC442970AB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7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D:\PPT job\01_Upload\9781107070783c02\9781107070783c02\Chapter 7\07078fig7_1.jpg"/>
          <p:cNvPicPr/>
          <p:nvPr/>
        </p:nvPicPr>
        <p:blipFill>
          <a:blip r:embed="rId1"/>
          <a:stretch/>
        </p:blipFill>
        <p:spPr>
          <a:xfrm>
            <a:off x="1473120" y="1214280"/>
            <a:ext cx="61977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6:32:10Z</dcterms:modified>
  <cp:revision>45</cp:revision>
  <dc:subject/>
  <dc:title>PowerPoint Presentation</dc:title>
</cp:coreProperties>
</file>