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6FA-8D4B-4186-BBDF-4BB5AB67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BFB-8364-40BA-AB6C-EF2DF57E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98A-745E-474F-B902-71810EAC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244-3498-4A83-A5CE-05361160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0EF-7AA2-46DA-9270-756B82D2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E575-19F1-4F73-AE12-E15434A7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8ED-EAB3-4720-B26C-62B1238C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034-FFB9-4548-914A-5E7093B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F85-2E2B-422C-AD87-B7A3BDA7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D0B-27D8-44B0-94F3-0E00DB7C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9F72-5B5F-43FC-B469-B965C85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7FB5-69F3-46A3-8760-4DCEFA78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C858-1F04-4060-9AD8-2F67083879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D:\PPT job\01_Upload\9781107070783c02\9781107070783c02\Chapter 5\07078fig5_1.jpg"/>
          <p:cNvPicPr/>
          <p:nvPr/>
        </p:nvPicPr>
        <p:blipFill>
          <a:blip r:embed="rId1"/>
          <a:stretch/>
        </p:blipFill>
        <p:spPr>
          <a:xfrm>
            <a:off x="1374840" y="1752480"/>
            <a:ext cx="63943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5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D:\PPT job\01_Upload\9781107070783c02\9781107070783c02\Chapter 5\07078fig5_2.jpg"/>
          <p:cNvPicPr/>
          <p:nvPr/>
        </p:nvPicPr>
        <p:blipFill>
          <a:blip r:embed="rId1"/>
          <a:stretch/>
        </p:blipFill>
        <p:spPr>
          <a:xfrm>
            <a:off x="1411200" y="1749600"/>
            <a:ext cx="632160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5_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PPT job\01_Upload\9781107070783c02\9781107070783c02\Chapter 5\07078fig5_3.jpg"/>
          <p:cNvPicPr/>
          <p:nvPr/>
        </p:nvPicPr>
        <p:blipFill>
          <a:blip r:embed="rId1"/>
          <a:stretch/>
        </p:blipFill>
        <p:spPr>
          <a:xfrm>
            <a:off x="1371600" y="1839960"/>
            <a:ext cx="64008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5_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D:\PPT job\01_Upload\9781107070783c02\9781107070783c02\Chapter 5\07078fig5_4.jpg"/>
          <p:cNvPicPr/>
          <p:nvPr/>
        </p:nvPicPr>
        <p:blipFill>
          <a:blip r:embed="rId1"/>
          <a:stretch/>
        </p:blipFill>
        <p:spPr>
          <a:xfrm>
            <a:off x="1371600" y="1876320"/>
            <a:ext cx="64008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5_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:\PPT job\01_Upload\9781107070783c02\9781107070783c02\Chapter 5\07078fig5_5.jpg"/>
          <p:cNvPicPr/>
          <p:nvPr/>
        </p:nvPicPr>
        <p:blipFill>
          <a:blip r:embed="rId1"/>
          <a:stretch/>
        </p:blipFill>
        <p:spPr>
          <a:xfrm>
            <a:off x="1523880" y="1789200"/>
            <a:ext cx="60962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5_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D:\PPT job\01_Upload\9781107070783c02\9781107070783c02\Chapter 5\07078fig5_6.jpg"/>
          <p:cNvPicPr/>
          <p:nvPr/>
        </p:nvPicPr>
        <p:blipFill>
          <a:blip r:embed="rId1"/>
          <a:stretch/>
        </p:blipFill>
        <p:spPr>
          <a:xfrm>
            <a:off x="1371600" y="1681200"/>
            <a:ext cx="64008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2T16:20:27Z</dcterms:modified>
  <cp:revision>43</cp:revision>
  <dc:subject/>
  <dc:title>PowerPoint Presentation</dc:title>
</cp:coreProperties>
</file>