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018-FF70-4A24-9039-59BC374B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D00-306D-4F6B-83B1-22C6A28A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ABD-3295-4B18-9D3F-3F995DC02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6A3-F641-4FC1-94A0-498FFBF7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622F-871B-41CB-B426-D4FEDF6C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2FB7-0E1A-416B-A1AC-0CDDE83F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17D5-3BF2-435D-B0AA-4D96BBD3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AC2-A08D-4278-AC79-80937963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5DC-90CA-4B6E-9D80-BB86B3AA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95E-00B3-48BB-A7D0-1C10D3E0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A553-F15A-4B05-AE5E-EB76E96A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2F9-26F9-4BF0-8797-5C14259E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8B06-EBC4-443B-8950-E917A5D543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3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D:\PPT job\01_Upload\9781107070783c02\9781107070783c02\07078fig3_1.jpg"/>
          <p:cNvPicPr/>
          <p:nvPr/>
        </p:nvPicPr>
        <p:blipFill>
          <a:blip r:embed="rId1"/>
          <a:stretch/>
        </p:blipFill>
        <p:spPr>
          <a:xfrm>
            <a:off x="1600200" y="1281240"/>
            <a:ext cx="59436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3_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D:\PPT job\01_Upload\9781107070783c02\9781107070783c02\07078fig3_2a.jpg"/>
          <p:cNvPicPr/>
          <p:nvPr/>
        </p:nvPicPr>
        <p:blipFill>
          <a:blip r:embed="rId1"/>
          <a:stretch/>
        </p:blipFill>
        <p:spPr>
          <a:xfrm>
            <a:off x="3276720" y="1235160"/>
            <a:ext cx="259056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3_2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D:\PPT job\01_Upload\9781107070783c02\9781107070783c02\07078fig3_2b.jpg"/>
          <p:cNvPicPr/>
          <p:nvPr/>
        </p:nvPicPr>
        <p:blipFill>
          <a:blip r:embed="rId1"/>
          <a:stretch/>
        </p:blipFill>
        <p:spPr>
          <a:xfrm>
            <a:off x="2728800" y="1125360"/>
            <a:ext cx="368640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3_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D:\PPT job\01_Upload\9781107070783c02\9781107070783c02\07078fig3_3.jpg"/>
          <p:cNvPicPr/>
          <p:nvPr/>
        </p:nvPicPr>
        <p:blipFill>
          <a:blip r:embed="rId1"/>
          <a:stretch/>
        </p:blipFill>
        <p:spPr>
          <a:xfrm>
            <a:off x="1371600" y="1787400"/>
            <a:ext cx="64008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3_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D:\PPT job\01_Upload\9781107070783c02\9781107070783c02\07078fig3_4.jpg"/>
          <p:cNvPicPr/>
          <p:nvPr/>
        </p:nvPicPr>
        <p:blipFill>
          <a:blip r:embed="rId1"/>
          <a:stretch/>
        </p:blipFill>
        <p:spPr>
          <a:xfrm>
            <a:off x="1106640" y="1828800"/>
            <a:ext cx="6930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3_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D:\PPT job\01_Upload\9781107070783c02\9781107070783c02\07078fig3_5.jpg"/>
          <p:cNvPicPr/>
          <p:nvPr/>
        </p:nvPicPr>
        <p:blipFill>
          <a:blip r:embed="rId1"/>
          <a:stretch/>
        </p:blipFill>
        <p:spPr>
          <a:xfrm>
            <a:off x="1639800" y="1957320"/>
            <a:ext cx="58644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6T05:10:51Z</dcterms:created>
  <dc:creator>Saravanan Ganesan, Integra-PDY, IN</dc:creator>
  <dc:description/>
  <dc:language>en-US</dc:language>
  <cp:lastModifiedBy>gc984</cp:lastModifiedBy>
  <dcterms:modified xsi:type="dcterms:W3CDTF">2015-01-22T16:03:45Z</dcterms:modified>
  <cp:revision>40</cp:revision>
  <dc:subject/>
  <dc:title>PowerPoint Presentation</dc:title>
</cp:coreProperties>
</file>