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F0D-1B17-42CB-A81E-58136C0D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6F8-3695-4869-9039-8917ED6F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084-20E7-41DF-81EE-70F8F5F7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9E6-8F4C-4F68-A9D2-AC88BC23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430-6A90-46B6-B429-E5472DFF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90BE-3E28-4CF6-882C-9C69B4E5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A4D-6699-414D-9E54-14AE9CBD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2D8E-63F5-4090-9D6D-8B31473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207-B457-4650-B928-12D46BAD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6B0-CF0B-44E4-B1F6-FBC3D87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6B1-9FEE-488E-B553-121FA73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842-82D7-4FBE-944F-F3C448AB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C5FB-E817-4DBC-8601-BF448EBBAA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:\PPT job\01_Upload\9781107070783c02\9781107070783c02\07078fig2_1.jpg"/>
          <p:cNvPicPr/>
          <p:nvPr/>
        </p:nvPicPr>
        <p:blipFill>
          <a:blip r:embed="rId1"/>
          <a:stretch/>
        </p:blipFill>
        <p:spPr>
          <a:xfrm>
            <a:off x="1722600" y="1700280"/>
            <a:ext cx="56988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2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:\PPT job\01_Upload\9781107070783c02\9781107070783c02\07078fig2_2.jpg"/>
          <p:cNvPicPr/>
          <p:nvPr/>
        </p:nvPicPr>
        <p:blipFill>
          <a:blip r:embed="rId1"/>
          <a:stretch/>
        </p:blipFill>
        <p:spPr>
          <a:xfrm>
            <a:off x="2681280" y="1263600"/>
            <a:ext cx="378144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2_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:\PPT job\01_Upload\9781107070783c02\9781107070783c02\07078fig2_3.jpg"/>
          <p:cNvPicPr/>
          <p:nvPr/>
        </p:nvPicPr>
        <p:blipFill>
          <a:blip r:embed="rId1"/>
          <a:stretch/>
        </p:blipFill>
        <p:spPr>
          <a:xfrm>
            <a:off x="1474920" y="1779480"/>
            <a:ext cx="61941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2_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PPT job\01_Upload\9781107070783c02\9781107070783c02\07078fig2_4.jpg"/>
          <p:cNvPicPr/>
          <p:nvPr/>
        </p:nvPicPr>
        <p:blipFill>
          <a:blip r:embed="rId1"/>
          <a:stretch/>
        </p:blipFill>
        <p:spPr>
          <a:xfrm>
            <a:off x="1635120" y="1916280"/>
            <a:ext cx="58737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5:57:01Z</dcterms:modified>
  <cp:revision>39</cp:revision>
  <dc:subject/>
  <dc:title>PowerPoint Presentation</dc:title>
</cp:coreProperties>
</file>