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8AB-BF1D-4A8A-A4DA-FAE5B72B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D3D-251F-41AA-B150-A885E675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CA5-E730-475F-A279-74273852B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3B7-954F-407C-85D3-68DA13EE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16B-4117-4DB4-95FF-04E9F59C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62F-DA6F-481D-9CF0-DFF6B7EF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C2E-FFBC-4CD9-9126-769DA477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B52-CB4C-4B15-8F52-9E6790DD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4AE-CDC9-4F38-AC42-DF34F31C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CEB-329F-4E92-9DF8-ECA7AECB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1D3C-3EC1-479F-8F5C-A97F839E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7A44-E350-44B8-9067-4B3C0784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379D-A952-45E3-8654-046F55F6CA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6_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D:\PPT job\01_Upload\9781107070783c02\9781107070783c02\Chapter 6\07078fig6_8.jpg"/>
          <p:cNvPicPr/>
          <p:nvPr/>
        </p:nvPicPr>
        <p:blipFill>
          <a:blip r:embed="rId1"/>
          <a:stretch/>
        </p:blipFill>
        <p:spPr>
          <a:xfrm>
            <a:off x="1614600" y="1353960"/>
            <a:ext cx="5914800" cy="41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6_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D:\PPT job\01_Upload\9781107070783c02\9781107070783c02\Chapter 6\07078fig6_9.jpg"/>
          <p:cNvPicPr/>
          <p:nvPr/>
        </p:nvPicPr>
        <p:blipFill>
          <a:blip r:embed="rId1"/>
          <a:stretch/>
        </p:blipFill>
        <p:spPr>
          <a:xfrm>
            <a:off x="1077840" y="1839960"/>
            <a:ext cx="698832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6_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D:\PPT job\01_Upload\9781107070783c02\9781107070783c02\Chapter 6\07078fig6_10.jpg"/>
          <p:cNvPicPr/>
          <p:nvPr/>
        </p:nvPicPr>
        <p:blipFill>
          <a:blip r:embed="rId1"/>
          <a:stretch/>
        </p:blipFill>
        <p:spPr>
          <a:xfrm>
            <a:off x="1030320" y="1805040"/>
            <a:ext cx="70833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6_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D:\PPT job\01_Upload\9781107070783c02\9781107070783c02\Chapter 6\07078fig6_11.jpg"/>
          <p:cNvPicPr/>
          <p:nvPr/>
        </p:nvPicPr>
        <p:blipFill>
          <a:blip r:embed="rId1"/>
          <a:stretch/>
        </p:blipFill>
        <p:spPr>
          <a:xfrm>
            <a:off x="1297080" y="1814400"/>
            <a:ext cx="654984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2T17:19:01Z</dcterms:modified>
  <cp:revision>45</cp:revision>
  <dc:subject/>
  <dc:title>PowerPoint Presentation</dc:title>
</cp:coreProperties>
</file>