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15D3-EA00-4ED7-BB3F-0F63862A6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6187-8D7E-4221-B8C7-B3A155EE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3A0B-3178-4A97-AEC5-EF5B029E9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066C-745C-46E3-9255-F67DF9D5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73F5-249C-4229-8A42-4476D91E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2D12-2B88-4357-BA88-C16706FD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0402-712F-494D-938F-992ACD41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13DB-439B-4424-96C9-8691659F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94FD-1F4A-42D6-87A1-671584F8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D26A-508B-429C-B838-310D9F65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ED1D-DB5B-48EF-AE16-659E0004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1BD9-F200-4618-AE65-DC8181C3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188D-880A-42D3-9FAB-02609A2A43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Fig. 1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2" descr="D:\PPT job\01_Upload\9781107070783c02\9781107070783c02\Chapter 11\07078fig11_1.jpg"/>
          <p:cNvPicPr/>
          <p:nvPr/>
        </p:nvPicPr>
        <p:blipFill>
          <a:blip r:embed="rId1"/>
          <a:stretch/>
        </p:blipFill>
        <p:spPr>
          <a:xfrm>
            <a:off x="1665360" y="1336680"/>
            <a:ext cx="581328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Fig. 1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D:\PPT job\01_Upload\9781107070783c02\9781107070783c02\Chapter 11\07078fig11_2.jpg"/>
          <p:cNvPicPr/>
          <p:nvPr/>
        </p:nvPicPr>
        <p:blipFill>
          <a:blip r:embed="rId1"/>
          <a:stretch/>
        </p:blipFill>
        <p:spPr>
          <a:xfrm>
            <a:off x="1639800" y="1284120"/>
            <a:ext cx="5864400" cy="42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Fig. 11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D:\PPT job\01_Upload\9781107070783c02\9781107070783c02\Chapter 11\07078fig11_3.jpg"/>
          <p:cNvPicPr/>
          <p:nvPr/>
        </p:nvPicPr>
        <p:blipFill>
          <a:blip r:embed="rId1"/>
          <a:stretch/>
        </p:blipFill>
        <p:spPr>
          <a:xfrm>
            <a:off x="1576440" y="1297080"/>
            <a:ext cx="599112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Fig. 11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D:\PPT job\01_Upload\9781107070783c02\9781107070783c02\Chapter 11\07078fig11_4.jpg"/>
          <p:cNvPicPr/>
          <p:nvPr/>
        </p:nvPicPr>
        <p:blipFill>
          <a:blip r:embed="rId1"/>
          <a:stretch/>
        </p:blipFill>
        <p:spPr>
          <a:xfrm>
            <a:off x="1444680" y="1219320"/>
            <a:ext cx="62546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Fig. 1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D:\PPT job\01_Upload\9781107070783c02\9781107070783c02\Chapter 11\07078fig11_5.jpg"/>
          <p:cNvPicPr/>
          <p:nvPr/>
        </p:nvPicPr>
        <p:blipFill>
          <a:blip r:embed="rId1"/>
          <a:stretch/>
        </p:blipFill>
        <p:spPr>
          <a:xfrm>
            <a:off x="1447920" y="1166760"/>
            <a:ext cx="62481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6T05:10:51Z</dcterms:created>
  <dc:creator>Saravanan Ganesan, Integra-PDY, IN</dc:creator>
  <dc:description/>
  <dc:language>en-US</dc:language>
  <cp:lastModifiedBy>gc984</cp:lastModifiedBy>
  <dcterms:modified xsi:type="dcterms:W3CDTF">2015-01-22T16:47:47Z</dcterms:modified>
  <cp:revision>48</cp:revision>
  <dc:subject/>
  <dc:title>PowerPoint Presentation</dc:title>
</cp:coreProperties>
</file>