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CA1F-C6E3-4D6D-9888-219E7196B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2B2D-BF65-44E2-BD82-414F04C0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8000-7876-4CBB-8E51-60F178A9A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1E88-FEED-41CD-84B7-015712E37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1EF7-0AA4-4EC4-A75E-6DA461F3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1679-D23A-463D-AEE2-5EC4A229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690B-64E8-4D8D-A030-DD7EE9FC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8164-DF1D-48EF-9364-753B4C5B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59B3-CCAC-4747-9901-3DAEB279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5E1F-698D-417B-8085-FDA99BF2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9E9D-A6F0-41DA-89EE-1DADFE60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FD43-40D7-473E-9B76-BCBF6ECA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225C-D96F-44C0-8029-AA646B4D42F8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486240" y="2398680"/>
            <a:ext cx="2171520" cy="2060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5_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2854440" y="2782800"/>
            <a:ext cx="3435120" cy="129240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5_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3203640" y="2550960"/>
            <a:ext cx="2736720" cy="175608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5_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3460680" y="2862360"/>
            <a:ext cx="2222640" cy="113328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5_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3411360" y="2863800"/>
            <a:ext cx="2321280" cy="113040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5_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3335400" y="2700360"/>
            <a:ext cx="2473200" cy="145728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5_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3430440" y="2583000"/>
            <a:ext cx="2283120" cy="1692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5_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3294000" y="2583000"/>
            <a:ext cx="2556000" cy="1692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5_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3844800" y="2508120"/>
            <a:ext cx="1454400" cy="184176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5_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3732120" y="2779560"/>
            <a:ext cx="1679760" cy="129888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5_p1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3732120" y="2892600"/>
            <a:ext cx="1679760" cy="107280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5_p1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3508200" y="2736720"/>
            <a:ext cx="2127600" cy="138456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5_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2968560" y="2841480"/>
            <a:ext cx="3206880" cy="117504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5_p2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2962440" y="2749680"/>
            <a:ext cx="3219120" cy="13586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5_p2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3863880" y="2771640"/>
            <a:ext cx="1416240" cy="13147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5_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2973240" y="2940120"/>
            <a:ext cx="3197520" cy="9777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5_p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4052880" y="2063880"/>
            <a:ext cx="1038240" cy="2730240"/>
          </a:xfrm>
          <a:prstGeom prst="rect">
            <a:avLst/>
          </a:prstGeom>
          <a:ln w="0">
            <a:noFill/>
          </a:ln>
        </p:spPr>
      </p:pic>
      <p:sp>
        <p:nvSpPr>
          <p:cNvPr id="11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5_p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3605040" y="2765520"/>
            <a:ext cx="1933920" cy="132696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5_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3587760" y="2865600"/>
            <a:ext cx="1968480" cy="112680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5_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3662280" y="2797200"/>
            <a:ext cx="1819440" cy="126360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5_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2743200" y="2558880"/>
            <a:ext cx="3657600" cy="174024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5_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2687760" y="2728800"/>
            <a:ext cx="3768480" cy="140040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5_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2787480" y="3011400"/>
            <a:ext cx="3569040" cy="83520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5_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3976560" y="2919240"/>
            <a:ext cx="1190880" cy="101952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5_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04T09:08:04Z</dcterms:created>
  <dc:creator>StephenKumar, SampathKumar</dc:creator>
  <dc:description/>
  <dc:language>en-US</dc:language>
  <cp:lastModifiedBy>StephenKumar, SampathKumar</cp:lastModifiedBy>
  <dcterms:modified xsi:type="dcterms:W3CDTF">2020-06-04T10:00:00Z</dcterms:modified>
  <cp:revision>2</cp:revision>
  <dc:subject/>
  <dc:title>PowerPoint Presentation</dc:title>
</cp:coreProperties>
</file>