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3C6-7DE7-4A08-8B35-E253002D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2AD-CEBA-4115-953F-5DDA38B4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4E4-D29A-417D-880A-CB6DA965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F9B-BBD8-4898-9E7C-FB3FC0F2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2B5-FC0B-4605-A4D2-61CF378A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BD0-807C-4E53-B42C-C082C015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F2C-2952-40C3-A882-BC8966B3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B6A-4FBB-448E-97A7-689ADFF5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43A-8345-414E-B4B6-73544AB4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663-67CA-40F9-886E-40698C35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1CF-0445-456E-AC0F-E30A309B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C94-A405-449F-93C8-67887F95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30E0-4B9C-4F8C-A357-F7278798024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22680" y="2570040"/>
            <a:ext cx="1898640" cy="1717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443320" y="2057400"/>
            <a:ext cx="425736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403440" y="2144880"/>
            <a:ext cx="2337120" cy="2568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610000" y="2519280"/>
            <a:ext cx="3924000" cy="1819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676680" y="2033640"/>
            <a:ext cx="1790640" cy="279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492360" y="2320920"/>
            <a:ext cx="2159280" cy="221616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087640" y="2432160"/>
            <a:ext cx="4968720" cy="199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087640" y="2432160"/>
            <a:ext cx="4968720" cy="1993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411280" y="2581200"/>
            <a:ext cx="4321440" cy="1695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2413080" y="2581200"/>
            <a:ext cx="4317840" cy="1695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376360" y="3127320"/>
            <a:ext cx="4391280" cy="603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968560" y="2736720"/>
            <a:ext cx="3206880" cy="1384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475080" y="2157480"/>
            <a:ext cx="2193840" cy="2543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475080" y="2151000"/>
            <a:ext cx="2193840" cy="2556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476520" y="2664000"/>
            <a:ext cx="2190960" cy="1530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4064040" y="2482920"/>
            <a:ext cx="1015920" cy="1892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p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3884760" y="2548080"/>
            <a:ext cx="1374480" cy="17618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583080" y="2424240"/>
            <a:ext cx="1977840" cy="2009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p4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486240" y="2778120"/>
            <a:ext cx="2171520" cy="1301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p4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084400" y="2328840"/>
            <a:ext cx="4975200" cy="2200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2085840" y="2346480"/>
            <a:ext cx="4972320" cy="2165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567240" y="2232000"/>
            <a:ext cx="2009520" cy="2394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776680" y="2840040"/>
            <a:ext cx="3590640" cy="1177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3763800" y="2260440"/>
            <a:ext cx="1616400" cy="2337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p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672000" y="2759040"/>
            <a:ext cx="1800000" cy="1339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2984400" y="1849320"/>
            <a:ext cx="3175200" cy="3159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p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828960" y="2803680"/>
            <a:ext cx="1486080" cy="1250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427560" y="2600280"/>
            <a:ext cx="228888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400560" y="2813040"/>
            <a:ext cx="2342880" cy="1231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06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419640" y="2832120"/>
            <a:ext cx="2304720" cy="1193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06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492360" y="2424240"/>
            <a:ext cx="2159280" cy="2009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587680" y="2246400"/>
            <a:ext cx="3968640" cy="2365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8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9:36:11Z</dcterms:created>
  <dc:creator>StephenKumar, SampathKumar</dc:creator>
  <dc:description/>
  <dc:language>en-US</dc:language>
  <cp:lastModifiedBy>StephenKumar, SampathKumar</cp:lastModifiedBy>
  <dcterms:modified xsi:type="dcterms:W3CDTF">2020-06-04T10:30:16Z</dcterms:modified>
  <cp:revision>2</cp:revision>
  <dc:subject/>
  <dc:title>PowerPoint Presentation</dc:title>
</cp:coreProperties>
</file>