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77A-82E4-4217-A7A0-38ADB1CC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DDA-C26A-4109-81F7-C0A6B66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ADA-29E4-4F00-BFD2-575432F8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4B7-98BF-4D01-BBF4-D4F1A2BC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D70-0185-46A4-8189-0ABE966A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741-0E71-4A07-8BBF-E014E35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2FE-B5AB-4B81-AD8C-98024E5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4A7-26FB-49D3-A675-C13B48B7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7CF-1160-40DD-BBE1-4EE6B0A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4B2-5FBF-4C06-A8D0-0254F440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14C-1C92-416C-8BDB-2BE08D5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CDB-99CA-4272-81FC-B97A3E45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ADA-CF3F-46F1-8341-B751BA34127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43240" y="2744640"/>
            <a:ext cx="4457520" cy="1368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798720" y="2522520"/>
            <a:ext cx="1546560" cy="1812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465280" y="2901960"/>
            <a:ext cx="4213440" cy="1054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936960" y="2592360"/>
            <a:ext cx="1270080" cy="1673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022560" y="2913120"/>
            <a:ext cx="3098880" cy="10317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419640" y="2922480"/>
            <a:ext cx="2304720" cy="1013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260880" y="2414520"/>
            <a:ext cx="2622240" cy="2028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p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997360" y="2838600"/>
            <a:ext cx="3149280" cy="1180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894040" y="2840040"/>
            <a:ext cx="335592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483000" y="2646360"/>
            <a:ext cx="2178000" cy="1565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54440" y="2733840"/>
            <a:ext cx="1635120" cy="1390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284560" y="2817720"/>
            <a:ext cx="4574880" cy="1222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835440" y="2732040"/>
            <a:ext cx="1473120" cy="1393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606760" y="2682720"/>
            <a:ext cx="3930480" cy="1492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849400" y="2863800"/>
            <a:ext cx="3445200" cy="1130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927600" y="2503440"/>
            <a:ext cx="1288800" cy="1851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832200" y="2568600"/>
            <a:ext cx="1479600" cy="1720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3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8:56:59Z</dcterms:created>
  <dc:creator>StephenKumar, SampathKumar</dc:creator>
  <dc:description/>
  <dc:language>en-US</dc:language>
  <cp:lastModifiedBy>StephenKumar, SampathKumar</cp:lastModifiedBy>
  <dcterms:modified xsi:type="dcterms:W3CDTF">2020-06-04T09:54:51Z</dcterms:modified>
  <cp:revision>2</cp:revision>
  <dc:subject/>
  <dc:title>PowerPoint Presentation</dc:title>
</cp:coreProperties>
</file>