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D740C-C570-4737-84DA-35739B4906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343240" y="8458200"/>
            <a:ext cx="417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Terrence Conlisk 2013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33640" y="2514600"/>
            <a:ext cx="322416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1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54486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1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40006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1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76520" y="3581280"/>
            <a:ext cx="377820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1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38098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1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33680" y="4038480"/>
            <a:ext cx="28242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1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5029200"/>
            <a:ext cx="514332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1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76520" y="4122720"/>
            <a:ext cx="290664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1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95280" y="4340160"/>
            <a:ext cx="433728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1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00200" y="4724280"/>
            <a:ext cx="35053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1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1080" y="4876920"/>
            <a:ext cx="306720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3581280"/>
            <a:ext cx="3448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2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5046840"/>
            <a:ext cx="579132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2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20560" y="4768920"/>
            <a:ext cx="59565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2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3816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2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3880" y="4032360"/>
            <a:ext cx="34387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2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4648320"/>
            <a:ext cx="379404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2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47920" y="3886200"/>
            <a:ext cx="38862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2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00200" y="4191120"/>
            <a:ext cx="35053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2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43000" y="4438800"/>
            <a:ext cx="4295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3716280"/>
            <a:ext cx="27813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7400" y="3841920"/>
            <a:ext cx="27432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7400" y="3835440"/>
            <a:ext cx="26640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1080" y="4114800"/>
            <a:ext cx="31435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53341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4503600"/>
            <a:ext cx="54100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2514600" y="78026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lisk  Fig.10.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36637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vijay.bhatia</cp:lastModifiedBy>
  <dcterms:modified xsi:type="dcterms:W3CDTF">2012-12-06T15:00:38Z</dcterms:modified>
  <cp:revision>389</cp:revision>
  <dc:subject/>
  <dc:title>Slide 1</dc:title>
</cp:coreProperties>
</file>