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EF679-D65E-4CB7-BB36-029A64C84B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343240" y="8458200"/>
            <a:ext cx="417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Terrence Conlisk 201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07960" y="4487760"/>
            <a:ext cx="44593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1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4711680"/>
            <a:ext cx="50292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1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4343400"/>
            <a:ext cx="50292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1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4076640"/>
            <a:ext cx="36576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1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4876920"/>
            <a:ext cx="5029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1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4610160"/>
            <a:ext cx="5029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1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3969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1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37764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1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5029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1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38419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1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3748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96920" y="3962520"/>
            <a:ext cx="25560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2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4106880"/>
            <a:ext cx="29847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p25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55880" y="3886200"/>
            <a:ext cx="2502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Box.7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4343400"/>
            <a:ext cx="57020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3895560"/>
            <a:ext cx="29383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39751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4743360"/>
            <a:ext cx="5029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4726080"/>
            <a:ext cx="333360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4800600"/>
            <a:ext cx="40957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7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7400" y="4191120"/>
            <a:ext cx="27622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vijay.bhatia</cp:lastModifiedBy>
  <dcterms:modified xsi:type="dcterms:W3CDTF">2012-12-06T14:59:23Z</dcterms:modified>
  <cp:revision>339</cp:revision>
  <dc:subject/>
  <dc:title>Slide 1</dc:title>
</cp:coreProperties>
</file>