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60900-4340-4071-96B6-7F0658E79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2543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31813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4876920"/>
            <a:ext cx="44452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4057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476424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4067280"/>
            <a:ext cx="40575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4819680"/>
            <a:ext cx="50166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1.p47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422604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5:00:55Z</dcterms:modified>
  <cp:revision>400</cp:revision>
  <dc:subject/>
  <dc:title>Slide 1</dc:title>
</cp:coreProperties>
</file>