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A5E8E-73EC-4EC7-B8CA-FD08C07CBB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343240" y="8458200"/>
            <a:ext cx="417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Terrence Conlisk 201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4592520"/>
            <a:ext cx="586728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1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5486400"/>
            <a:ext cx="5029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1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36511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1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5257800"/>
            <a:ext cx="3441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1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367164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1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52480" y="4552920"/>
            <a:ext cx="33912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1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4991040"/>
            <a:ext cx="5029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1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5162400"/>
            <a:ext cx="5029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1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4724280"/>
            <a:ext cx="43196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1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4495680"/>
            <a:ext cx="563904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1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47920" y="4419720"/>
            <a:ext cx="3562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4973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2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3141720"/>
            <a:ext cx="44593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2590920" y="7802640"/>
            <a:ext cx="19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2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0200" y="4863960"/>
            <a:ext cx="35496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2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05040" y="2971800"/>
            <a:ext cx="2485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2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7920" y="3962520"/>
            <a:ext cx="356220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u.9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4114800"/>
            <a:ext cx="436716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590920" y="7802640"/>
            <a:ext cx="19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37274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4572000"/>
            <a:ext cx="5195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3733920"/>
            <a:ext cx="35434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4851360"/>
            <a:ext cx="36957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4654440"/>
            <a:ext cx="50418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4419720"/>
            <a:ext cx="50418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9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374796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vijay.bhatia</cp:lastModifiedBy>
  <dcterms:modified xsi:type="dcterms:W3CDTF">2012-12-06T14:54:49Z</dcterms:modified>
  <cp:revision>383</cp:revision>
  <dc:subject/>
  <dc:title>Slide 1</dc:title>
</cp:coreProperties>
</file>