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0072F-85E0-4D94-B299-43D3959EF9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343240" y="8458200"/>
            <a:ext cx="417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Terrence Conlisk 2013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8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32403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8.1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5120" y="3448080"/>
            <a:ext cx="3371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Box.8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01920" y="3429000"/>
            <a:ext cx="2201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Box.8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98520" y="3276720"/>
            <a:ext cx="26020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Box.8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98800" y="3200400"/>
            <a:ext cx="235908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8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4510080"/>
            <a:ext cx="548640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2552760" y="7802640"/>
            <a:ext cx="19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8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4129200"/>
            <a:ext cx="349092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8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4343400"/>
            <a:ext cx="541152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8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03360" y="1752480"/>
            <a:ext cx="3919680" cy="53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8.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3733920"/>
            <a:ext cx="37720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8.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3880" y="3835440"/>
            <a:ext cx="40705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8.8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419580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8.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3880" y="4114800"/>
            <a:ext cx="36007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vijay.bhatia</cp:lastModifiedBy>
  <dcterms:modified xsi:type="dcterms:W3CDTF">2012-12-06T14:24:51Z</dcterms:modified>
  <cp:revision>355</cp:revision>
  <dc:subject/>
  <dc:title>Slide 1</dc:title>
</cp:coreProperties>
</file>