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597F8-AD81-48EF-BE91-8CEF484B6D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343240" y="8458200"/>
            <a:ext cx="417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Terrence Conlisk 2013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2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5680" y="4876920"/>
            <a:ext cx="430704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2.1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40006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2.1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38480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2.1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447048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2.1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4267080"/>
            <a:ext cx="571500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2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97160" y="1282680"/>
            <a:ext cx="241308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2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4178160"/>
            <a:ext cx="57150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2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9160" y="4281480"/>
            <a:ext cx="54993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2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4191120"/>
            <a:ext cx="34430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2.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3657600"/>
            <a:ext cx="37292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2.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3880" y="4110120"/>
            <a:ext cx="36576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2.8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4416480"/>
            <a:ext cx="54104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2.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4400640"/>
            <a:ext cx="392436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vijay.bhatia</cp:lastModifiedBy>
  <dcterms:modified xsi:type="dcterms:W3CDTF">2012-12-06T14:48:32Z</dcterms:modified>
  <cp:revision>412</cp:revision>
  <dc:subject/>
  <dc:title>Slide 1</dc:title>
</cp:coreProperties>
</file>