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0B8A9-1911-4FC6-88E3-C1F628094B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388620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3992400"/>
            <a:ext cx="478476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1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90840" y="4267080"/>
            <a:ext cx="38192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1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66840" y="4724280"/>
            <a:ext cx="46004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1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2960" y="4800600"/>
            <a:ext cx="38671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1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7920" y="4818240"/>
            <a:ext cx="41148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p4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4191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p5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4724280"/>
            <a:ext cx="46483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6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14360" y="4648320"/>
            <a:ext cx="45529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p7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55720" y="4114800"/>
            <a:ext cx="2144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p7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2530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4300560"/>
            <a:ext cx="4267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4832280"/>
            <a:ext cx="42670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4530600"/>
            <a:ext cx="2790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76480" y="4730760"/>
            <a:ext cx="28764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4348080"/>
            <a:ext cx="32767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61920" y="5410080"/>
            <a:ext cx="52102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57913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2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3880" y="3809880"/>
            <a:ext cx="37688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4:56:48Z</dcterms:modified>
  <cp:revision>260</cp:revision>
  <dc:subject/>
  <dc:title>Slide 1</dc:title>
</cp:coreProperties>
</file>