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85DCC-94AC-4CFD-BC0A-51C1DB849D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127400"/>
            <a:ext cx="33526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8000" y="2666880"/>
            <a:ext cx="2470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34610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2200" y="4495680"/>
            <a:ext cx="30384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47960" y="3962520"/>
            <a:ext cx="26622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4160880"/>
            <a:ext cx="3581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52480" y="4440240"/>
            <a:ext cx="3138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58920" y="3733920"/>
            <a:ext cx="241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4816440"/>
            <a:ext cx="53244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24080" y="4343400"/>
            <a:ext cx="43146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1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47480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40194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8840" y="4510080"/>
            <a:ext cx="31813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2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0719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2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30240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p10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3809880"/>
            <a:ext cx="248616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p1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51260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p12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4449600"/>
            <a:ext cx="3400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8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5068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p9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76520" y="4500720"/>
            <a:ext cx="38862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 3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1889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3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5359320"/>
            <a:ext cx="42800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3962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Box.3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4981680"/>
            <a:ext cx="51944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3733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3276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31114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2800" y="3886200"/>
            <a:ext cx="37213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962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3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04960" y="4114800"/>
            <a:ext cx="3476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3:41:22Z</dcterms:modified>
  <cp:revision>275</cp:revision>
  <dc:subject/>
  <dc:title>Slide 1</dc:title>
</cp:coreProperties>
</file>