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5F107-453A-4392-BE59-5D0ABCB17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46483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4343400"/>
            <a:ext cx="3273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4281480"/>
            <a:ext cx="38383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4446720"/>
            <a:ext cx="3159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1400" y="3429000"/>
            <a:ext cx="37414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36702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5114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4635360"/>
            <a:ext cx="41544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41864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4768920"/>
            <a:ext cx="35830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3041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9816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44355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2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4800600"/>
            <a:ext cx="3267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p15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3680" y="4114800"/>
            <a:ext cx="2194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p16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5187960"/>
            <a:ext cx="531036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4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17720" y="4506840"/>
            <a:ext cx="31878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4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2895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4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2949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u.4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4014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897360"/>
            <a:ext cx="304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37638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52800" y="4562640"/>
            <a:ext cx="264780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54400" y="4114800"/>
            <a:ext cx="2522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3836880"/>
            <a:ext cx="36576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33051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4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37972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2:19Z</dcterms:modified>
  <cp:revision>302</cp:revision>
  <dc:subject/>
  <dc:title>Slide 1</dc:title>
</cp:coreProperties>
</file>