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EE219-B758-4E32-B53B-39572AA86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3352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74880" y="4265640"/>
            <a:ext cx="33829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14461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u.6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3657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u.6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4738680"/>
            <a:ext cx="4591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48006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3867120"/>
            <a:ext cx="33526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3963960"/>
            <a:ext cx="36576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14640" y="4343400"/>
            <a:ext cx="2762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43160" y="4343400"/>
            <a:ext cx="24051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92200" y="3505320"/>
            <a:ext cx="20656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25956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6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89120" y="5029200"/>
            <a:ext cx="37209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4:59:00Z</dcterms:modified>
  <cp:revision>335</cp:revision>
  <dc:subject/>
  <dc:title>Slide 1</dc:title>
</cp:coreProperties>
</file>