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A3134-FB48-402F-A6A0-9FE9450E79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343240" y="8458200"/>
            <a:ext cx="417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Terrence Conlisk 201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5486400"/>
            <a:ext cx="44197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1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60520" y="4419720"/>
            <a:ext cx="402588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1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5638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1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5181480"/>
            <a:ext cx="51814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p20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2354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p21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8360" y="3962520"/>
            <a:ext cx="23799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u5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12840" y="2590920"/>
            <a:ext cx="2345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5135400"/>
            <a:ext cx="4419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38102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01680" y="3505320"/>
            <a:ext cx="2622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4957920"/>
            <a:ext cx="42670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14520" y="4038480"/>
            <a:ext cx="404820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48040" y="3657600"/>
            <a:ext cx="27525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47800" y="5562720"/>
            <a:ext cx="3586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5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0640" y="4886280"/>
            <a:ext cx="30862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vijay.bhatia</cp:lastModifiedBy>
  <dcterms:modified xsi:type="dcterms:W3CDTF">2012-12-06T14:53:22Z</dcterms:modified>
  <cp:revision>321</cp:revision>
  <dc:subject/>
  <dc:title>Slide 1</dc:title>
</cp:coreProperties>
</file>