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8F4-BF0B-450B-AD8F-FBA9981B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BBD-3DFB-463B-9F64-50F8C452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E58-E91C-444B-99AD-AFA139D3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815-B1EF-495B-9A8B-D13373BE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2A4-E145-4369-BBB1-2066A139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6FC-FA58-4F22-888B-FA1A9140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300-A192-4046-8C80-3A082A3E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E71-E512-411D-82DC-0987DE33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B44-A57F-475A-B3D2-7270EB26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9D7-E6DF-4125-9D39-4FD26E8C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545-91A3-413E-84C7-ED50BEF3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3EC-6ABB-413E-9B71-C9E2B43A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576A-EEDD-4800-A8B3-02F45223A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5080" y="262080"/>
            <a:ext cx="6478560" cy="63356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14720" y="1341360"/>
            <a:ext cx="4392360" cy="42498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78000" y="2133720"/>
            <a:ext cx="2664000" cy="25905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78920" y="23716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Micro-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5600" y="1989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Meso-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9240" y="1557360"/>
            <a:ext cx="12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Macro-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04160" y="2708280"/>
            <a:ext cx="205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Individual animal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Local animal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81120" y="3632040"/>
            <a:ext cx="209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Operator standard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On site visitor behavi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133720"/>
            <a:ext cx="37450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4724280"/>
            <a:ext cx="3743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75080" y="5589720"/>
            <a:ext cx="4103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75080" y="6597720"/>
            <a:ext cx="4103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75080" y="1341360"/>
            <a:ext cx="4103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5080" y="260280"/>
            <a:ext cx="4103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64920" y="4782960"/>
            <a:ext cx="220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National policy sett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Management approa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3680" y="5861160"/>
            <a:ext cx="22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International policy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5080" y="134136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459280" y="260280"/>
            <a:ext cx="19080" cy="10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5589720"/>
            <a:ext cx="1908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83360" y="1557360"/>
            <a:ext cx="182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National biodiversity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Animal con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54080" y="549360"/>
            <a:ext cx="29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Global environmental chang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Biodiversity and animal pop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2133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1053720" y="3199680"/>
            <a:ext cx="310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(A) Individual animal welfar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site specific management su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6676200" y="3126960"/>
            <a:ext cx="290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(B) Population viability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national management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5930280" y="341928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(C)            Species survival /international policy setting           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23880" y="3268800"/>
            <a:ext cx="22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400" spc="-1" strike="noStrike">
                <a:solidFill>
                  <a:srgbClr val="000000"/>
                </a:solidFill>
                <a:latin typeface="Arial"/>
              </a:rPr>
              <a:t>Sustainable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01:35:39Z</dcterms:created>
  <dc:creator>jhigham</dc:creator>
  <dc:description/>
  <dc:language>en-US</dc:language>
  <cp:lastModifiedBy>jhigham</cp:lastModifiedBy>
  <dcterms:modified xsi:type="dcterms:W3CDTF">2008-01-03T10:30:47Z</dcterms:modified>
  <cp:revision>7</cp:revision>
  <dc:subject/>
  <dc:title>Slide 1</dc:title>
</cp:coreProperties>
</file>