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11C-D7AB-49B7-9D9D-414EDD41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912-3617-4841-ADB4-5122829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B0E-EA40-46A6-AC40-452CECFF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189-D517-4CD3-9993-2B43E926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777-CF20-4703-B2BA-92BCFA9B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09E-95E3-4954-ADAB-A7BF7B60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678-161E-416E-BD6D-A088048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477-C5A2-420E-8D26-CB2A852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15A-6F05-444E-9D2B-4BB13D0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338-8258-47BD-A34A-7CA1B83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C95-2959-4B7E-87A0-AD1AC9A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DC8-5C0F-4BB2-84A9-80C1FAE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6BC-BC5F-4139-B14A-285F82570E3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36920" y="2454120"/>
            <a:ext cx="2270160" cy="1949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392200" y="2467080"/>
            <a:ext cx="4359600" cy="1923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178080" y="2216160"/>
            <a:ext cx="2787840" cy="2425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208320" y="2263680"/>
            <a:ext cx="2727360" cy="233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176640" y="2449440"/>
            <a:ext cx="2790720" cy="1959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373560" y="2603520"/>
            <a:ext cx="2396880" cy="1650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371760" y="2600280"/>
            <a:ext cx="2400480" cy="1657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32240" y="2600280"/>
            <a:ext cx="2279520" cy="1657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422520" y="2138400"/>
            <a:ext cx="2298960" cy="2581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181320" y="2411280"/>
            <a:ext cx="2781360" cy="2035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132000" y="2394000"/>
            <a:ext cx="2880000" cy="2070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448080" y="2455920"/>
            <a:ext cx="224784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568680" y="2462040"/>
            <a:ext cx="2006640" cy="193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446640" y="2463840"/>
            <a:ext cx="2250720" cy="1930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843280" y="2633760"/>
            <a:ext cx="3457440" cy="1590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925800" y="2484360"/>
            <a:ext cx="1292400" cy="1889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097080" y="2416320"/>
            <a:ext cx="2949840" cy="2025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352600" y="2941560"/>
            <a:ext cx="4438800" cy="974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600360" y="2573280"/>
            <a:ext cx="1943280" cy="1711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203640" y="2516040"/>
            <a:ext cx="2736720" cy="18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844720" y="2276640"/>
            <a:ext cx="3454560" cy="23047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557520" y="2257560"/>
            <a:ext cx="2028960" cy="2342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557440" y="2203560"/>
            <a:ext cx="4029120" cy="2450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041560" y="2940120"/>
            <a:ext cx="5060880" cy="977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760920" y="2268360"/>
            <a:ext cx="1622160" cy="23212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886200" y="2241720"/>
            <a:ext cx="1371600" cy="2374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887640" y="2273400"/>
            <a:ext cx="1368720" cy="2311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2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852720" y="2257560"/>
            <a:ext cx="1438560" cy="2342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3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219480" y="2252520"/>
            <a:ext cx="2705040" cy="235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3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543480" y="2838600"/>
            <a:ext cx="2057400" cy="1180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3016080" y="3054240"/>
            <a:ext cx="3111840" cy="7495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173320" y="2843280"/>
            <a:ext cx="4797360" cy="1171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041640" y="2952720"/>
            <a:ext cx="3060720" cy="952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557520" y="2529000"/>
            <a:ext cx="2028960" cy="180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2523960" y="2727360"/>
            <a:ext cx="4096080" cy="1403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857680" y="2924280"/>
            <a:ext cx="3429000" cy="1009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191040" y="2855880"/>
            <a:ext cx="2761920" cy="1146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338560" y="2808360"/>
            <a:ext cx="4466880" cy="12412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3222720" y="2503440"/>
            <a:ext cx="2698560" cy="1851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2952720" y="2979720"/>
            <a:ext cx="3238560" cy="8985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529080" y="2530440"/>
            <a:ext cx="2085840" cy="1797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906720" y="2496960"/>
            <a:ext cx="1330560" cy="1864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251160" y="2279520"/>
            <a:ext cx="2641680" cy="2298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276720" y="2427120"/>
            <a:ext cx="2590560" cy="2003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521080" y="2476440"/>
            <a:ext cx="410184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3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10:16:41Z</dcterms:created>
  <dc:creator>StephenKumar, SampathKumar</dc:creator>
  <dc:description/>
  <dc:language>en-US</dc:language>
  <cp:lastModifiedBy>StephenKumar, SampathKumar</cp:lastModifiedBy>
  <dcterms:modified xsi:type="dcterms:W3CDTF">2020-06-04T10:38:34Z</dcterms:modified>
  <cp:revision>2</cp:revision>
  <dc:subject/>
  <dc:title>PowerPoint Presentation</dc:title>
</cp:coreProperties>
</file>