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DF1A-BE99-43F8-97E2-4D67FE04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757-C598-45AF-97A8-02E6AB71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CA92-446B-4726-A0F0-0BC7A0BD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4886-6D12-48AB-AD72-1623C935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CD92-2A60-430A-809C-7731AE72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43D-9085-4A72-821F-EAD4D98C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B15-F773-4C5A-827F-92F9120F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0DA-6A51-4A97-8F1D-91BC6C02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00D6-6FD8-4F59-A986-5F633C82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258A-8B65-4217-9081-5CA11B66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D606-CCEA-45AA-9A98-F825D319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91B1-DBCE-4E84-8A13-DF161154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8FFF-B862-42C1-B068-B930855F1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3360" y="5910120"/>
            <a:ext cx="901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49160" y="63972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434960" y="45259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eking Inside the Living Brain: Neuroimaging Is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me- changer for Intelligence Re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3.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304776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3.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2593800" y="2249640"/>
            <a:ext cx="395640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3.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592360" y="2235240"/>
            <a:ext cx="395928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3.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2771640" y="1160640"/>
            <a:ext cx="3600720" cy="45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3.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2690640" y="2639880"/>
            <a:ext cx="376272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3.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3184560" y="1413000"/>
            <a:ext cx="27748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3.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2592360" y="1944720"/>
            <a:ext cx="395928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9T04:21:43Z</dcterms:created>
  <dc:creator>Naveen E.</dc:creator>
  <dc:description/>
  <dc:language>en-US</dc:language>
  <cp:lastModifiedBy>Dominic Stock</cp:lastModifiedBy>
  <dcterms:modified xsi:type="dcterms:W3CDTF">2016-12-01T11:56:50Z</dcterms:modified>
  <cp:revision>5</cp:revision>
  <dc:subject/>
  <dc:title>PowerPoint Presentation</dc:title>
</cp:coreProperties>
</file>