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043-06D8-4B88-A8EE-1C8AC3F9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ECF-387C-4EA1-9B0A-A8FEFCDA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3A6-5E33-4F9C-AEA3-5B7D1642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74B-87C6-49DB-9EF8-D25AD50C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257-69BB-4961-962C-9ADDF78C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99E-183A-477E-84BA-135A2F65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0C0-F37C-4C91-986B-F4AF44B4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322-D049-42F1-81FA-7B65C279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54F-FBB8-41C8-B87F-B994F880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39B-6B6E-41EC-A6D9-FAF5917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392-F7F7-4B99-8FA4-3051E4C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4DD-ADDE-4EDB-9950-7C6A38C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5680-6498-4EE1-AC2A-FEF394FAD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3360" y="5910120"/>
            <a:ext cx="90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49160" y="6397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34960" y="4525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We Know About Intelligence From the Weight of Stud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1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685960" y="2579760"/>
            <a:ext cx="37720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1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041560" y="1336680"/>
            <a:ext cx="5060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1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622680" y="2563920"/>
            <a:ext cx="1898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651040" y="2684520"/>
            <a:ext cx="38419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1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3530520" y="2270160"/>
            <a:ext cx="20829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1.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641680" y="1709640"/>
            <a:ext cx="3860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1.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6320" y="990720"/>
            <a:ext cx="30513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04:19:51Z</dcterms:created>
  <dc:creator>Naveen E.</dc:creator>
  <dc:description/>
  <dc:language>en-US</dc:language>
  <cp:lastModifiedBy>Naveen E.</cp:lastModifiedBy>
  <dcterms:modified xsi:type="dcterms:W3CDTF">2016-11-29T05:19:43Z</dcterms:modified>
  <cp:revision>5</cp:revision>
  <dc:subject/>
  <dc:title>PowerPoint Presentation</dc:title>
</cp:coreProperties>
</file>