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704-A390-4B5A-A83A-288B98F3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89B-5641-495F-A120-F9275EB1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191-4B68-49EB-B184-492A30B5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E55-00B9-41B5-9FA1-0E4E62A1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6DD-E3E1-4984-9D45-3B385AD7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646-D9F2-448F-828C-A6D0221E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1D0-8D2A-4A95-A4A8-A0DCE99E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F44-D7B6-46A5-BE41-1536787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0EE-E3D5-4A48-9E48-3D73E85A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8C7-90AB-4572-93E4-14D05F2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68C-E0C7-4547-94F4-98DAD55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214-9715-41D8-8FB6-814AC40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2C69-1A24-445B-95F3-694B41671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71600" y="5029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Holy Grail: Can Neuroscience Boost Intellig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5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049560" y="2581200"/>
            <a:ext cx="30448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5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664000" y="2151000"/>
            <a:ext cx="381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5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590920" y="2449440"/>
            <a:ext cx="39621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5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620800" y="2235240"/>
            <a:ext cx="3902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04:24:01Z</dcterms:created>
  <dc:creator>Naveen E.</dc:creator>
  <dc:description/>
  <dc:language>en-US</dc:language>
  <cp:lastModifiedBy>Naveen E.</cp:lastModifiedBy>
  <dcterms:modified xsi:type="dcterms:W3CDTF">2016-11-29T05:02:16Z</dcterms:modified>
  <cp:revision>4</cp:revision>
  <dc:subject/>
  <dc:title>PowerPoint Presentation</dc:title>
</cp:coreProperties>
</file>