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A916-47CD-413D-9456-42B50AF1E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1E42-95E4-47D6-82D0-881EB18D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0406-F883-4E81-ABAA-FB1640217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F7F8-E777-4EDA-A13C-F200990D9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2A53-5184-4324-98B2-7C6D0E5F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4C71-21A7-492F-93E7-4D9098F3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81B9-1CB4-48D9-90E5-F6B03788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BF94-850D-4953-A7B1-8FD736D9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58B2-DDDE-4C4E-BDA5-EA91D693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9D0D-7690-4C7A-BCB5-AFB831B8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AD27-EC8B-4055-8636-DB73E9CC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4062-13BA-4B2B-A163-7FF0C95B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4670-6D97-402B-A5C9-A1BCC5564B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685800" y="11430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1371600" y="50292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s Neuroscience Advances, What’s Next f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lligence Research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ier_Fig.6.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2427120" y="1278000"/>
            <a:ext cx="428976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ier_Fig.6.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3075120" y="2160720"/>
            <a:ext cx="2993760" cy="25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ier_Fig.6.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3032280" y="2432160"/>
            <a:ext cx="307944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ier_Fig.6.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3132000" y="2106720"/>
            <a:ext cx="288000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ier_Fig.6.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2590920" y="1682640"/>
            <a:ext cx="396216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ier_Fig.6.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2589120" y="1951200"/>
            <a:ext cx="3965760" cy="29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ier_Fig.6.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2592360" y="2905200"/>
            <a:ext cx="39592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9T04:24:57Z</dcterms:created>
  <dc:creator>Naveen E.</dc:creator>
  <dc:description/>
  <dc:language>en-US</dc:language>
  <cp:lastModifiedBy>Dominic Stock</cp:lastModifiedBy>
  <dcterms:modified xsi:type="dcterms:W3CDTF">2016-12-01T12:07:04Z</dcterms:modified>
  <cp:revision>5</cp:revision>
  <dc:subject/>
  <dc:title>PowerPoint Presentation</dc:title>
</cp:coreProperties>
</file>