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3553-640B-49EF-B388-040DF8C26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5973-F8CA-454D-9496-DCAD47EE5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F203-98B8-484D-9993-0F524E27D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F9F7-E0DC-4CE9-8580-80A829C04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AF26-FB90-4C63-A86E-3C2D7DB6B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4010-A633-4908-A877-3F608A939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679F-F9DC-46C0-AE4B-2E3CBD5B7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1F15-C2FD-4642-A5E8-0EF6B7990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2561-9C8A-4B4A-B0D0-EB0BD5D32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AA33-F70B-4A82-A7A1-0C46645D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40BA-0B9B-4A82-8C4C-B4B3B14C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9F97-7DE6-4CB5-BDBF-CAC2C428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22E2B-78F5-4C04-9894-C959D180EB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63360" y="5910120"/>
            <a:ext cx="901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749160" y="63972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1434960" y="452592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ature More than Nurtur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e Impact of Genetics on Intellig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2592360" y="1711440"/>
            <a:ext cx="3959280" cy="3435120"/>
          </a:xfrm>
          <a:prstGeom prst="rect">
            <a:avLst/>
          </a:prstGeom>
          <a:ln w="0">
            <a:noFill/>
          </a:ln>
        </p:spPr>
      </p:pic>
      <p:sp>
        <p:nvSpPr>
          <p:cNvPr id="46" name="TextBox 2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aier_Fig.2.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2590920" y="2530440"/>
            <a:ext cx="3962160" cy="1797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aier_Fig.2.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9T04:20:59Z</dcterms:created>
  <dc:creator>Naveen E.</dc:creator>
  <dc:description/>
  <dc:language>en-US</dc:language>
  <cp:lastModifiedBy>Naveen E.</cp:lastModifiedBy>
  <dcterms:modified xsi:type="dcterms:W3CDTF">2016-11-29T05:15:32Z</dcterms:modified>
  <cp:revision>3</cp:revision>
  <dc:subject/>
  <dc:title>PowerPoint Presentation</dc:title>
</cp:coreProperties>
</file>