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D47-31FD-4FCD-9AD8-063AD554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8F9-8D58-4D01-8265-73C6C486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E62-DCE5-4962-97E4-234E984C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57F-C7EB-4AF9-B94C-62C9FFBD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452-C1F5-4041-BE8E-166708B6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AF6-BF8F-45DC-96FC-9A050E32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C6C-0B81-4563-8ECE-4740E95D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31D-D257-4BFC-B98C-216B3B64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BDD-6FAE-4E2E-BAEF-CA79FB0C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50C-E44D-47E5-80E0-4A22965A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8D1-30C7-40BB-BCD5-381849C7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015-BEF8-4557-AA45-4F8FAB19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75FB-6973-4960-B434-4820B62A6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3360" y="5910120"/>
            <a:ext cx="90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749160" y="63972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434960" y="45259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0 Shades of Gray Matter: A Brain Image of Intellig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 Worth a Thousand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4.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2655720" y="1770120"/>
            <a:ext cx="383256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4.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2773440" y="2606760"/>
            <a:ext cx="3597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4.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2590920" y="1467000"/>
            <a:ext cx="396216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4.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3659040" y="1698480"/>
            <a:ext cx="182592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4.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2635200" y="2778120"/>
            <a:ext cx="38736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4.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3095640" y="1760400"/>
            <a:ext cx="295272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4.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590920" y="2367000"/>
            <a:ext cx="39621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4.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592360" y="2506680"/>
            <a:ext cx="39592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4.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2592360" y="2279520"/>
            <a:ext cx="39592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4.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884320" y="2449440"/>
            <a:ext cx="33753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4.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3457440" y="2543040"/>
            <a:ext cx="222912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4.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565440" y="1689120"/>
            <a:ext cx="20131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ier_Fig.4.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2678040" y="1666800"/>
            <a:ext cx="37879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9T04:22:28Z</dcterms:created>
  <dc:creator>Naveen E.</dc:creator>
  <dc:description/>
  <dc:language>en-US</dc:language>
  <cp:lastModifiedBy>Dominic Stock</cp:lastModifiedBy>
  <dcterms:modified xsi:type="dcterms:W3CDTF">2016-12-01T12:00:36Z</dcterms:modified>
  <cp:revision>5</cp:revision>
  <dc:subject/>
  <dc:title>PowerPoint Presentation</dc:title>
</cp:coreProperties>
</file>