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023100" cy="1728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1464-69AC-4469-B0B5-F19D2E13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6680" y="91080"/>
            <a:ext cx="5969160" cy="4150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6680" y="500040"/>
            <a:ext cx="5969160" cy="4942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680" y="1041840"/>
            <a:ext cx="5969160" cy="4942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593C-29F9-4C39-B7AA-9E922519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26680" y="91080"/>
            <a:ext cx="5969160" cy="4150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26680" y="500040"/>
            <a:ext cx="2912760" cy="4942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5600" y="500040"/>
            <a:ext cx="2912760" cy="4942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6680" y="1041840"/>
            <a:ext cx="2912760" cy="4942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85600" y="1041840"/>
            <a:ext cx="2912760" cy="4942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3B74-D23A-4A47-A5B2-0045C245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26680" y="91080"/>
            <a:ext cx="5969160" cy="4150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26680" y="500040"/>
            <a:ext cx="1921680" cy="4942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44840" y="500040"/>
            <a:ext cx="1921680" cy="4942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3000" y="500040"/>
            <a:ext cx="1921680" cy="4942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6680" y="1041840"/>
            <a:ext cx="1921680" cy="4942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44840" y="1041840"/>
            <a:ext cx="1921680" cy="4942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63000" y="1041840"/>
            <a:ext cx="1921680" cy="4942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C701-11ED-4151-95A5-3BEC1146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6680" y="91080"/>
            <a:ext cx="5969160" cy="4150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26680" y="500040"/>
            <a:ext cx="5969160" cy="10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8C37-CC15-4617-94EF-77C4A6E9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6680" y="91080"/>
            <a:ext cx="5969160" cy="4150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26680" y="500040"/>
            <a:ext cx="5969160" cy="103680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486A-6E7C-432F-AED7-15E4C38C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6680" y="91080"/>
            <a:ext cx="5969160" cy="4150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26680" y="500040"/>
            <a:ext cx="2912760" cy="103680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85600" y="500040"/>
            <a:ext cx="2912760" cy="103680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E760-D482-4A99-8F9C-2CF75E1C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6680" y="91080"/>
            <a:ext cx="5969160" cy="4150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F834-F9CF-45B8-AF64-204707C2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26680" y="154080"/>
            <a:ext cx="59691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1518-CF29-47C6-ABFC-1EB3D691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6680" y="91080"/>
            <a:ext cx="5969160" cy="4150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26680" y="500040"/>
            <a:ext cx="2912760" cy="4942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85600" y="500040"/>
            <a:ext cx="2912760" cy="103680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26680" y="1041840"/>
            <a:ext cx="2912760" cy="4942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49B3-BB3D-4010-87EE-225C21EE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26680" y="91080"/>
            <a:ext cx="5969160" cy="4150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26680" y="500040"/>
            <a:ext cx="2912760" cy="103680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85600" y="500040"/>
            <a:ext cx="2912760" cy="4942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85600" y="1041840"/>
            <a:ext cx="2912760" cy="4942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35EA-0E8A-44D9-9FCB-9DCF9E05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26680" y="91080"/>
            <a:ext cx="5969160" cy="4150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26680" y="500040"/>
            <a:ext cx="2912760" cy="4942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85600" y="500040"/>
            <a:ext cx="2912760" cy="4942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6680" y="1041840"/>
            <a:ext cx="5969160" cy="4942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BBE8-93A4-4067-A250-2BED716C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6680" y="154080"/>
            <a:ext cx="5969160" cy="2887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6680" y="500040"/>
            <a:ext cx="5969160" cy="103680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 fontScale="46000"/>
          </a:bodyPr>
          <a:p>
            <a:pPr marL="84600" indent="-84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83240" indent="-69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281160" indent="-561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394200" indent="-558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506520" indent="-568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506520" indent="-568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506520" indent="-568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27040" y="1574640"/>
            <a:ext cx="1463760" cy="1159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Autofit/>
          </a:bodyPr>
          <a:lstStyle>
            <a:lvl1pPr indent="0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  <a:defRPr b="0" lang="fr-FR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00120" y="1574640"/>
            <a:ext cx="2222280" cy="1159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Autofit/>
          </a:bodyPr>
          <a:lstStyle>
            <a:lvl1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  <a:defRPr b="0" lang="fr-FR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33880" y="1574640"/>
            <a:ext cx="1462320" cy="1159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Autofit/>
          </a:bodyPr>
          <a:lstStyle>
            <a:lvl1pPr indent="0" algn="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  <a:defRPr b="0" lang="fr-FR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fld id="{50DD005C-7EBF-44B4-9D64-0770A4CAADAF}" type="slidenum">
              <a:rPr b="0" lang="fr-FR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280" y="31680"/>
            <a:ext cx="693432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05:43:47Z</dcterms:created>
  <dc:creator>Robert PASCAL</dc:creator>
  <dc:description/>
  <dc:language>en-US</dc:language>
  <cp:lastModifiedBy>Robert PASCAL</cp:lastModifiedBy>
  <dcterms:modified xsi:type="dcterms:W3CDTF">2009-04-28T05:47:05Z</dcterms:modified>
  <cp:revision>2</cp:revision>
  <dc:subject/>
  <dc:title>Présentation PowerPoint</dc:title>
</cp:coreProperties>
</file>