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88238" cy="8420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D32-554D-42F4-B1C1-28463090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2432160"/>
            <a:ext cx="636732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160" y="5071680"/>
            <a:ext cx="636732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19F-3473-48A2-BE3B-96337891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0160" y="243216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3200" y="243216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0160" y="507168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3200" y="507168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F1E-C8B9-4B94-B743-BFB5A604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2432160"/>
            <a:ext cx="205020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13320" y="2432160"/>
            <a:ext cx="205020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6480" y="2432160"/>
            <a:ext cx="205020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160" y="5071680"/>
            <a:ext cx="205020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13320" y="5071680"/>
            <a:ext cx="205020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66480" y="5071680"/>
            <a:ext cx="205020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746-12CB-45F8-A32E-BE196587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0160" y="2432160"/>
            <a:ext cx="636732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32E-51FD-4B04-94A0-54E136D7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0160" y="2432160"/>
            <a:ext cx="63673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8E9-33F0-446A-AF5D-5AB236F2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0160" y="2432160"/>
            <a:ext cx="310716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3200" y="2432160"/>
            <a:ext cx="310716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610-95B3-4E45-BD54-FFA01DA5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C0D-216C-4D88-80A0-A800F751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0160" y="748800"/>
            <a:ext cx="6367320" cy="65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E4C-9722-4163-844D-D770944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0160" y="243216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3200" y="2432160"/>
            <a:ext cx="310716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0160" y="507168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97C-9397-4C1E-AFD3-5A4E509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0160" y="2432160"/>
            <a:ext cx="310716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3200" y="243216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3200" y="507168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269-53DD-434E-9056-72B4B0B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243216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3200" y="2432160"/>
            <a:ext cx="310716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5071680"/>
            <a:ext cx="6367320" cy="24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02B-E106-4AB4-8697-9284449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0160" y="748800"/>
            <a:ext cx="636732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0160" y="2432160"/>
            <a:ext cx="63673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0160" y="7671960"/>
            <a:ext cx="1562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8880" y="7671960"/>
            <a:ext cx="2370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65440" y="7671960"/>
            <a:ext cx="1562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0BA2-A1CB-4337-B112-BDEF94072B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53760" y="4284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01960" y="5000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3680" y="110952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a-p-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0760" y="5000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880920"/>
            <a:ext cx="76320" cy="1143000"/>
          </a:xfrm>
          <a:custGeom>
            <a:avLst/>
            <a:gdLst>
              <a:gd name="textAreaLeft" fmla="*/ 0 w 76320"/>
              <a:gd name="textAreaRight" fmla="*/ 5364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00480" y="72864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2800" y="1414440"/>
            <a:ext cx="48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960" y="164304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p-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6080" y="880920"/>
            <a:ext cx="12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25640" y="22525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5160" y="2343240"/>
            <a:ext cx="4630680" cy="58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mergence of a catalyst (RNA / pro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ition state and mixed anhydride stab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06040" y="347184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4240" y="39290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6320" y="48434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a-p-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63320" y="40053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5080" y="4651200"/>
            <a:ext cx="48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2240" y="4879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p-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32160" y="6622920"/>
            <a:ext cx="18288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NA aminoacy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 the only remaining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560" y="3808440"/>
            <a:ext cx="1828800" cy="65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creased efficiency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 phosphoryl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5640" y="560556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6680" y="5685840"/>
            <a:ext cx="464904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mergence of an efficient ATP formation path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08760" y="77230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a-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5080" y="7531200"/>
            <a:ext cx="48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3960" y="77598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15520" y="1033560"/>
            <a:ext cx="838440" cy="6994440"/>
            <a:chOff x="1415520" y="1033560"/>
            <a:chExt cx="838440" cy="6994440"/>
          </a:xfrm>
        </p:grpSpPr>
        <p:sp>
          <p:nvSpPr>
            <p:cNvPr id="66" name=""/>
            <p:cNvSpPr/>
            <p:nvPr/>
          </p:nvSpPr>
          <p:spPr>
            <a:xfrm flipH="1">
              <a:off x="1415520" y="103356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415520" y="179532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544760" y="50320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4760" y="514800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544760" y="79120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44760" y="802800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280" y="42840"/>
            <a:ext cx="7391520" cy="205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80" y="3471840"/>
            <a:ext cx="7391520" cy="205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80" y="6519960"/>
            <a:ext cx="7391520" cy="1866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4560" y="67024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34560" y="35323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4640" y="1810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94240" y="1262160"/>
            <a:ext cx="136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70680" y="64764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643280" y="936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11960" y="836640"/>
            <a:ext cx="3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1089000"/>
            <a:ext cx="7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06240" y="9255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967280" y="952560"/>
            <a:ext cx="939600" cy="615240"/>
            <a:chOff x="4967280" y="952560"/>
            <a:chExt cx="939600" cy="615240"/>
          </a:xfrm>
        </p:grpSpPr>
        <p:sp>
          <p:nvSpPr>
            <p:cNvPr id="85" name=""/>
            <p:cNvSpPr/>
            <p:nvPr/>
          </p:nvSpPr>
          <p:spPr>
            <a:xfrm>
              <a:off x="5221800" y="952560"/>
              <a:ext cx="68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594400" y="12412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114156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1320" y="1393920"/>
              <a:ext cx="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67280" y="123048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a-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911920" y="126216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64960" y="1417320"/>
            <a:ext cx="1403280" cy="64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i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ranslat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19880" y="109368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156200" y="4373640"/>
            <a:ext cx="3276360" cy="919800"/>
            <a:chOff x="4156200" y="4373640"/>
            <a:chExt cx="3276360" cy="919800"/>
          </a:xfrm>
        </p:grpSpPr>
        <p:sp>
          <p:nvSpPr>
            <p:cNvPr id="94" name=""/>
            <p:cNvSpPr/>
            <p:nvPr/>
          </p:nvSpPr>
          <p:spPr>
            <a:xfrm>
              <a:off x="4156200" y="49878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06240" y="4373640"/>
              <a:ext cx="749520" cy="614880"/>
              <a:chOff x="4206240" y="4373640"/>
              <a:chExt cx="749520" cy="614880"/>
            </a:xfrm>
          </p:grpSpPr>
          <p:sp>
            <p:nvSpPr>
              <p:cNvPr id="96" name=""/>
              <p:cNvSpPr/>
              <p:nvPr/>
            </p:nvSpPr>
            <p:spPr>
              <a:xfrm>
                <a:off x="4270680" y="4373640"/>
                <a:ext cx="68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NA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4643280" y="466236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11960" y="45622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'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0200" y="481464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06240" y="4651200"/>
                <a:ext cx="48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4678200"/>
              <a:ext cx="938160" cy="615240"/>
              <a:chOff x="4968720" y="4678200"/>
              <a:chExt cx="938160" cy="615240"/>
            </a:xfrm>
          </p:grpSpPr>
          <p:sp>
            <p:nvSpPr>
              <p:cNvPr id="102" name=""/>
              <p:cNvSpPr/>
              <p:nvPr/>
            </p:nvSpPr>
            <p:spPr>
              <a:xfrm>
                <a:off x="5221800" y="4678200"/>
                <a:ext cx="68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NA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5594400" y="4966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62720" y="48672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'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21320" y="511956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68720" y="4956120"/>
                <a:ext cx="63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aa-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911920" y="498780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19880" y="481968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pti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156200" y="7407360"/>
            <a:ext cx="3242880" cy="919800"/>
            <a:chOff x="4156200" y="7407360"/>
            <a:chExt cx="3242880" cy="919800"/>
          </a:xfrm>
        </p:grpSpPr>
        <p:sp>
          <p:nvSpPr>
            <p:cNvPr id="110" name=""/>
            <p:cNvSpPr/>
            <p:nvPr/>
          </p:nvSpPr>
          <p:spPr>
            <a:xfrm>
              <a:off x="4156200" y="80215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206240" y="7407360"/>
              <a:ext cx="748080" cy="614880"/>
              <a:chOff x="4206240" y="7407360"/>
              <a:chExt cx="748080" cy="614880"/>
            </a:xfrm>
          </p:grpSpPr>
          <p:sp>
            <p:nvSpPr>
              <p:cNvPr id="112" name=""/>
              <p:cNvSpPr/>
              <p:nvPr/>
            </p:nvSpPr>
            <p:spPr>
              <a:xfrm>
                <a:off x="4265280" y="7407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tR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643280" y="769608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11960" y="7596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'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0200" y="784836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06240" y="7684920"/>
                <a:ext cx="48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968720" y="7711920"/>
              <a:ext cx="936360" cy="615240"/>
              <a:chOff x="4968720" y="7711920"/>
              <a:chExt cx="936360" cy="615240"/>
            </a:xfrm>
          </p:grpSpPr>
          <p:sp>
            <p:nvSpPr>
              <p:cNvPr id="118" name=""/>
              <p:cNvSpPr/>
              <p:nvPr/>
            </p:nvSpPr>
            <p:spPr>
              <a:xfrm>
                <a:off x="5216040" y="771192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tR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594400" y="80006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62720" y="79009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'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21320" y="81532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68720" y="7989840"/>
                <a:ext cx="63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aa-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911920" y="802152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19880" y="7853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70040" y="4560840"/>
            <a:ext cx="1638360" cy="852480"/>
            <a:chOff x="2570040" y="4560840"/>
            <a:chExt cx="1638360" cy="852480"/>
          </a:xfrm>
        </p:grpSpPr>
        <p:sp>
          <p:nvSpPr>
            <p:cNvPr id="126" name=""/>
            <p:cNvSpPr/>
            <p:nvPr/>
          </p:nvSpPr>
          <p:spPr>
            <a:xfrm>
              <a:off x="2570040" y="4560840"/>
              <a:ext cx="1638360" cy="852480"/>
            </a:xfrm>
            <a:custGeom>
              <a:avLst/>
              <a:gdLst/>
              <a:ahLst/>
              <a:rect l="l" t="t" r="r" b="b"/>
              <a:pathLst>
                <a:path w="1032" h="537">
                  <a:moveTo>
                    <a:pt x="567" y="368"/>
                  </a:moveTo>
                  <a:cubicBezTo>
                    <a:pt x="653" y="335"/>
                    <a:pt x="671" y="224"/>
                    <a:pt x="589" y="192"/>
                  </a:cubicBezTo>
                  <a:cubicBezTo>
                    <a:pt x="507" y="160"/>
                    <a:pt x="146" y="197"/>
                    <a:pt x="73" y="173"/>
                  </a:cubicBezTo>
                  <a:cubicBezTo>
                    <a:pt x="0" y="149"/>
                    <a:pt x="17" y="67"/>
                    <a:pt x="153" y="45"/>
                  </a:cubicBezTo>
                  <a:cubicBezTo>
                    <a:pt x="289" y="23"/>
                    <a:pt x="746" y="0"/>
                    <a:pt x="887" y="38"/>
                  </a:cubicBezTo>
                  <a:cubicBezTo>
                    <a:pt x="1028" y="76"/>
                    <a:pt x="998" y="195"/>
                    <a:pt x="999" y="272"/>
                  </a:cubicBezTo>
                  <a:cubicBezTo>
                    <a:pt x="1000" y="349"/>
                    <a:pt x="1032" y="459"/>
                    <a:pt x="891" y="498"/>
                  </a:cubicBezTo>
                  <a:cubicBezTo>
                    <a:pt x="750" y="537"/>
                    <a:pt x="289" y="527"/>
                    <a:pt x="153" y="509"/>
                  </a:cubicBezTo>
                  <a:cubicBezTo>
                    <a:pt x="17" y="491"/>
                    <a:pt x="4" y="414"/>
                    <a:pt x="73" y="391"/>
                  </a:cubicBezTo>
                  <a:cubicBezTo>
                    <a:pt x="142" y="368"/>
                    <a:pt x="477" y="405"/>
                    <a:pt x="567" y="36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9160" y="48481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06600" y="7440480"/>
            <a:ext cx="1656720" cy="852480"/>
            <a:chOff x="2406600" y="7440480"/>
            <a:chExt cx="1656720" cy="852480"/>
          </a:xfrm>
        </p:grpSpPr>
        <p:sp>
          <p:nvSpPr>
            <p:cNvPr id="129" name=""/>
            <p:cNvSpPr/>
            <p:nvPr/>
          </p:nvSpPr>
          <p:spPr>
            <a:xfrm>
              <a:off x="2406600" y="7440480"/>
              <a:ext cx="1638360" cy="852480"/>
            </a:xfrm>
            <a:custGeom>
              <a:avLst/>
              <a:gdLst/>
              <a:ahLst/>
              <a:rect l="l" t="t" r="r" b="b"/>
              <a:pathLst>
                <a:path w="1032" h="537">
                  <a:moveTo>
                    <a:pt x="567" y="368"/>
                  </a:moveTo>
                  <a:cubicBezTo>
                    <a:pt x="653" y="335"/>
                    <a:pt x="671" y="224"/>
                    <a:pt x="589" y="192"/>
                  </a:cubicBezTo>
                  <a:cubicBezTo>
                    <a:pt x="507" y="160"/>
                    <a:pt x="146" y="197"/>
                    <a:pt x="73" y="173"/>
                  </a:cubicBezTo>
                  <a:cubicBezTo>
                    <a:pt x="0" y="149"/>
                    <a:pt x="17" y="67"/>
                    <a:pt x="153" y="45"/>
                  </a:cubicBezTo>
                  <a:cubicBezTo>
                    <a:pt x="289" y="23"/>
                    <a:pt x="746" y="0"/>
                    <a:pt x="887" y="38"/>
                  </a:cubicBezTo>
                  <a:cubicBezTo>
                    <a:pt x="1028" y="76"/>
                    <a:pt x="998" y="195"/>
                    <a:pt x="999" y="272"/>
                  </a:cubicBezTo>
                  <a:cubicBezTo>
                    <a:pt x="1000" y="349"/>
                    <a:pt x="1032" y="459"/>
                    <a:pt x="891" y="498"/>
                  </a:cubicBezTo>
                  <a:cubicBezTo>
                    <a:pt x="750" y="537"/>
                    <a:pt x="289" y="527"/>
                    <a:pt x="153" y="509"/>
                  </a:cubicBezTo>
                  <a:cubicBezTo>
                    <a:pt x="17" y="491"/>
                    <a:pt x="4" y="414"/>
                    <a:pt x="73" y="391"/>
                  </a:cubicBezTo>
                  <a:cubicBezTo>
                    <a:pt x="142" y="368"/>
                    <a:pt x="477" y="405"/>
                    <a:pt x="567" y="36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75000" y="772776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7:20:13Z</dcterms:created>
  <dc:creator>Robert PASCAL</dc:creator>
  <dc:description/>
  <dc:language>en-US</dc:language>
  <cp:lastModifiedBy>Robert PASCAL</cp:lastModifiedBy>
  <dcterms:modified xsi:type="dcterms:W3CDTF">2009-04-28T06:41:25Z</dcterms:modified>
  <cp:revision>8</cp:revision>
  <dc:subject/>
  <dc:title>Présentation PowerPoint</dc:title>
</cp:coreProperties>
</file>