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924925" cy="16557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4C6-7D27-42E3-B28F-14AAF01F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9960" y="33480"/>
            <a:ext cx="7585200" cy="5025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9960" y="477360"/>
            <a:ext cx="7585200" cy="4737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9960" y="996480"/>
            <a:ext cx="7585200" cy="4737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689-4D08-4B1C-91FB-C3D6ADB6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9960" y="33480"/>
            <a:ext cx="7585200" cy="5025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960" y="477360"/>
            <a:ext cx="3701520" cy="4737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880" y="477360"/>
            <a:ext cx="3701520" cy="4737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960" y="996480"/>
            <a:ext cx="3701520" cy="4737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6880" y="996480"/>
            <a:ext cx="3701520" cy="4737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D27-37FC-4633-8BCC-3B88EA48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9960" y="33480"/>
            <a:ext cx="7585200" cy="5025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9960" y="477360"/>
            <a:ext cx="2442240" cy="4737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600" y="477360"/>
            <a:ext cx="2442240" cy="4737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9600" y="477360"/>
            <a:ext cx="2442240" cy="4737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9960" y="996480"/>
            <a:ext cx="2442240" cy="4737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600" y="996480"/>
            <a:ext cx="2442240" cy="4737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99600" y="996480"/>
            <a:ext cx="2442240" cy="4737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478-7254-42B1-A886-7CA992AC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9960" y="33480"/>
            <a:ext cx="7585200" cy="5025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9960" y="477360"/>
            <a:ext cx="7585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7B0-B2CF-4269-AF4B-501B104C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9960" y="33480"/>
            <a:ext cx="7585200" cy="5025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9960" y="477360"/>
            <a:ext cx="7585200" cy="993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5270-F173-4100-9BC6-EA682F86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9960" y="33480"/>
            <a:ext cx="7585200" cy="5025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9960" y="477360"/>
            <a:ext cx="3701520" cy="993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6880" y="477360"/>
            <a:ext cx="3701520" cy="993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BCE-179C-4FFB-B36A-99C31665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9960" y="33480"/>
            <a:ext cx="7585200" cy="5025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B060-5D11-4460-8EBF-B5ADCA12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9960" y="147240"/>
            <a:ext cx="758520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19C-0F52-4CAD-A4CA-16F1C4E6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9960" y="33480"/>
            <a:ext cx="7585200" cy="5025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960" y="477360"/>
            <a:ext cx="3701520" cy="4737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6880" y="477360"/>
            <a:ext cx="3701520" cy="993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9960" y="996480"/>
            <a:ext cx="3701520" cy="4737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BA6-E55F-43BF-9BC8-5390E6C6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9960" y="33480"/>
            <a:ext cx="7585200" cy="5025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9960" y="477360"/>
            <a:ext cx="3701520" cy="993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6880" y="477360"/>
            <a:ext cx="3701520" cy="4737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6880" y="996480"/>
            <a:ext cx="3701520" cy="4737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E15E-9D87-468D-8A0D-EE67D68A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9960" y="33480"/>
            <a:ext cx="7585200" cy="5025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9960" y="477360"/>
            <a:ext cx="3701520" cy="4737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6880" y="477360"/>
            <a:ext cx="3701520" cy="4737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9960" y="996480"/>
            <a:ext cx="7585200" cy="4737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7D6-DF0E-459C-AF34-4D20B4F5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9960" y="147240"/>
            <a:ext cx="7585200" cy="2746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9960" y="477360"/>
            <a:ext cx="7585200" cy="993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 fontScale="33000"/>
          </a:bodyPr>
          <a:p>
            <a:pPr marL="74880" indent="-74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-626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49120" indent="-49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8840" indent="-49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448920" indent="-500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448920" indent="-500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448920" indent="-500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9960" y="1507680"/>
            <a:ext cx="1859040" cy="11124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Autofit/>
          </a:bodyPr>
          <a:lstStyle>
            <a:lvl1pPr indent="0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  <a:defRPr b="0" lang="fr-FR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9200" y="1507680"/>
            <a:ext cx="2825640" cy="11124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Autofit/>
          </a:bodyPr>
          <a:lstStyle>
            <a:lvl1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  <a:defRPr b="0" lang="fr-FR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96120" y="1507680"/>
            <a:ext cx="1859040" cy="11124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Autofit/>
          </a:bodyPr>
          <a:lstStyle>
            <a:lvl1pPr indent="0" algn="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  <a:defRPr b="0" lang="fr-FR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fld id="{95D3AB23-8936-40C1-8675-7A55058F6834}" type="slidenum">
              <a:rPr b="0" lang="fr-F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520" y="42840"/>
            <a:ext cx="887724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5:43:47Z</dcterms:created>
  <dc:creator>Robert PASCAL</dc:creator>
  <dc:description/>
  <dc:language>en-US</dc:language>
  <cp:lastModifiedBy>Robert PASCAL</cp:lastModifiedBy>
  <dcterms:modified xsi:type="dcterms:W3CDTF">2009-04-28T05:57:16Z</dcterms:modified>
  <cp:revision>2</cp:revision>
  <dc:subject/>
  <dc:title>Présentation PowerPoint</dc:title>
</cp:coreProperties>
</file>