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media/image2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7488238" cy="43164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E9937-34CF-4A46-B138-83603FFFA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61600" y="385920"/>
            <a:ext cx="6364440" cy="715680"/>
          </a:xfrm>
          <a:prstGeom prst="rect">
            <a:avLst/>
          </a:prstGeom>
          <a:noFill/>
          <a:ln w="0">
            <a:noFill/>
          </a:ln>
        </p:spPr>
        <p:txBody>
          <a:bodyPr lIns="66960" rIns="66960" tIns="33480" bIns="33480" anchor="ctr">
            <a:noAutofit/>
          </a:bodyPr>
          <a:p>
            <a:pPr indent="0" algn="ctr">
              <a:buNone/>
              <a:tabLst>
                <a:tab algn="l" pos="0"/>
                <a:tab algn="l" pos="666720"/>
                <a:tab algn="l" pos="1333440"/>
                <a:tab algn="l" pos="2000160"/>
                <a:tab algn="l" pos="2666880"/>
                <a:tab algn="l" pos="3333600"/>
                <a:tab algn="l" pos="4000680"/>
                <a:tab algn="l" pos="4667400"/>
                <a:tab algn="l" pos="5334120"/>
                <a:tab algn="l" pos="6000840"/>
                <a:tab algn="l" pos="6667560"/>
                <a:tab algn="l" pos="7334280"/>
                <a:tab algn="l" pos="8001000"/>
                <a:tab algn="l" pos="8667720"/>
                <a:tab algn="l" pos="9334440"/>
                <a:tab algn="l" pos="1000116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61600" y="1246320"/>
            <a:ext cx="6364440" cy="1234800"/>
          </a:xfrm>
          <a:prstGeom prst="rect">
            <a:avLst/>
          </a:prstGeom>
          <a:noFill/>
          <a:ln w="0">
            <a:noFill/>
          </a:ln>
        </p:spPr>
        <p:txBody>
          <a:bodyPr lIns="66960" rIns="66960" tIns="33480" bIns="3348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666720"/>
                <a:tab algn="l" pos="1333440"/>
                <a:tab algn="l" pos="2000160"/>
                <a:tab algn="l" pos="2666880"/>
                <a:tab algn="l" pos="3333600"/>
                <a:tab algn="l" pos="4000680"/>
                <a:tab algn="l" pos="4667400"/>
                <a:tab algn="l" pos="5334120"/>
                <a:tab algn="l" pos="6000840"/>
                <a:tab algn="l" pos="6667560"/>
                <a:tab algn="l" pos="7334280"/>
                <a:tab algn="l" pos="8001000"/>
                <a:tab algn="l" pos="8667720"/>
                <a:tab algn="l" pos="9334440"/>
                <a:tab algn="l" pos="10001160"/>
                <a:tab algn="l" pos="1066788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61600" y="2598840"/>
            <a:ext cx="6364440" cy="1234800"/>
          </a:xfrm>
          <a:prstGeom prst="rect">
            <a:avLst/>
          </a:prstGeom>
          <a:noFill/>
          <a:ln w="0">
            <a:noFill/>
          </a:ln>
        </p:spPr>
        <p:txBody>
          <a:bodyPr lIns="66960" rIns="66960" tIns="33480" bIns="3348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666720"/>
                <a:tab algn="l" pos="1333440"/>
                <a:tab algn="l" pos="2000160"/>
                <a:tab algn="l" pos="2666880"/>
                <a:tab algn="l" pos="3333600"/>
                <a:tab algn="l" pos="4000680"/>
                <a:tab algn="l" pos="4667400"/>
                <a:tab algn="l" pos="5334120"/>
                <a:tab algn="l" pos="6000840"/>
                <a:tab algn="l" pos="6667560"/>
                <a:tab algn="l" pos="7334280"/>
                <a:tab algn="l" pos="8001000"/>
                <a:tab algn="l" pos="8667720"/>
                <a:tab algn="l" pos="9334440"/>
                <a:tab algn="l" pos="10001160"/>
                <a:tab algn="l" pos="1066788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CDDF4-971F-45B2-96B9-D63D3F40C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61600" y="385920"/>
            <a:ext cx="6364440" cy="715680"/>
          </a:xfrm>
          <a:prstGeom prst="rect">
            <a:avLst/>
          </a:prstGeom>
          <a:noFill/>
          <a:ln w="0">
            <a:noFill/>
          </a:ln>
        </p:spPr>
        <p:txBody>
          <a:bodyPr lIns="66960" rIns="66960" tIns="33480" bIns="33480" anchor="ctr">
            <a:noAutofit/>
          </a:bodyPr>
          <a:p>
            <a:pPr indent="0" algn="ctr">
              <a:buNone/>
              <a:tabLst>
                <a:tab algn="l" pos="0"/>
                <a:tab algn="l" pos="666720"/>
                <a:tab algn="l" pos="1333440"/>
                <a:tab algn="l" pos="2000160"/>
                <a:tab algn="l" pos="2666880"/>
                <a:tab algn="l" pos="3333600"/>
                <a:tab algn="l" pos="4000680"/>
                <a:tab algn="l" pos="4667400"/>
                <a:tab algn="l" pos="5334120"/>
                <a:tab algn="l" pos="6000840"/>
                <a:tab algn="l" pos="6667560"/>
                <a:tab algn="l" pos="7334280"/>
                <a:tab algn="l" pos="8001000"/>
                <a:tab algn="l" pos="8667720"/>
                <a:tab algn="l" pos="9334440"/>
                <a:tab algn="l" pos="1000116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61600" y="1246320"/>
            <a:ext cx="3105720" cy="1234800"/>
          </a:xfrm>
          <a:prstGeom prst="rect">
            <a:avLst/>
          </a:prstGeom>
          <a:noFill/>
          <a:ln w="0">
            <a:noFill/>
          </a:ln>
        </p:spPr>
        <p:txBody>
          <a:bodyPr lIns="66960" rIns="66960" tIns="33480" bIns="3348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666720"/>
                <a:tab algn="l" pos="1333440"/>
                <a:tab algn="l" pos="2000160"/>
                <a:tab algn="l" pos="2666880"/>
                <a:tab algn="l" pos="3333600"/>
                <a:tab algn="l" pos="4000680"/>
                <a:tab algn="l" pos="4667400"/>
                <a:tab algn="l" pos="5334120"/>
                <a:tab algn="l" pos="6000840"/>
                <a:tab algn="l" pos="6667560"/>
                <a:tab algn="l" pos="7334280"/>
                <a:tab algn="l" pos="8001000"/>
                <a:tab algn="l" pos="8667720"/>
                <a:tab algn="l" pos="9334440"/>
                <a:tab algn="l" pos="10001160"/>
                <a:tab algn="l" pos="1066788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22840" y="1246320"/>
            <a:ext cx="3105720" cy="1234800"/>
          </a:xfrm>
          <a:prstGeom prst="rect">
            <a:avLst/>
          </a:prstGeom>
          <a:noFill/>
          <a:ln w="0">
            <a:noFill/>
          </a:ln>
        </p:spPr>
        <p:txBody>
          <a:bodyPr lIns="66960" rIns="66960" tIns="33480" bIns="3348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666720"/>
                <a:tab algn="l" pos="1333440"/>
                <a:tab algn="l" pos="2000160"/>
                <a:tab algn="l" pos="2666880"/>
                <a:tab algn="l" pos="3333600"/>
                <a:tab algn="l" pos="4000680"/>
                <a:tab algn="l" pos="4667400"/>
                <a:tab algn="l" pos="5334120"/>
                <a:tab algn="l" pos="6000840"/>
                <a:tab algn="l" pos="6667560"/>
                <a:tab algn="l" pos="7334280"/>
                <a:tab algn="l" pos="8001000"/>
                <a:tab algn="l" pos="8667720"/>
                <a:tab algn="l" pos="9334440"/>
                <a:tab algn="l" pos="10001160"/>
                <a:tab algn="l" pos="1066788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61600" y="2598840"/>
            <a:ext cx="3105720" cy="1234800"/>
          </a:xfrm>
          <a:prstGeom prst="rect">
            <a:avLst/>
          </a:prstGeom>
          <a:noFill/>
          <a:ln w="0">
            <a:noFill/>
          </a:ln>
        </p:spPr>
        <p:txBody>
          <a:bodyPr lIns="66960" rIns="66960" tIns="33480" bIns="3348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666720"/>
                <a:tab algn="l" pos="1333440"/>
                <a:tab algn="l" pos="2000160"/>
                <a:tab algn="l" pos="2666880"/>
                <a:tab algn="l" pos="3333600"/>
                <a:tab algn="l" pos="4000680"/>
                <a:tab algn="l" pos="4667400"/>
                <a:tab algn="l" pos="5334120"/>
                <a:tab algn="l" pos="6000840"/>
                <a:tab algn="l" pos="6667560"/>
                <a:tab algn="l" pos="7334280"/>
                <a:tab algn="l" pos="8001000"/>
                <a:tab algn="l" pos="8667720"/>
                <a:tab algn="l" pos="9334440"/>
                <a:tab algn="l" pos="10001160"/>
                <a:tab algn="l" pos="1066788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822840" y="2598840"/>
            <a:ext cx="3105720" cy="1234800"/>
          </a:xfrm>
          <a:prstGeom prst="rect">
            <a:avLst/>
          </a:prstGeom>
          <a:noFill/>
          <a:ln w="0">
            <a:noFill/>
          </a:ln>
        </p:spPr>
        <p:txBody>
          <a:bodyPr lIns="66960" rIns="66960" tIns="33480" bIns="3348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666720"/>
                <a:tab algn="l" pos="1333440"/>
                <a:tab algn="l" pos="2000160"/>
                <a:tab algn="l" pos="2666880"/>
                <a:tab algn="l" pos="3333600"/>
                <a:tab algn="l" pos="4000680"/>
                <a:tab algn="l" pos="4667400"/>
                <a:tab algn="l" pos="5334120"/>
                <a:tab algn="l" pos="6000840"/>
                <a:tab algn="l" pos="6667560"/>
                <a:tab algn="l" pos="7334280"/>
                <a:tab algn="l" pos="8001000"/>
                <a:tab algn="l" pos="8667720"/>
                <a:tab algn="l" pos="9334440"/>
                <a:tab algn="l" pos="10001160"/>
                <a:tab algn="l" pos="1066788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D62CE-5FAC-434B-87C6-6272ABB92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61600" y="385920"/>
            <a:ext cx="6364440" cy="715680"/>
          </a:xfrm>
          <a:prstGeom prst="rect">
            <a:avLst/>
          </a:prstGeom>
          <a:noFill/>
          <a:ln w="0">
            <a:noFill/>
          </a:ln>
        </p:spPr>
        <p:txBody>
          <a:bodyPr lIns="66960" rIns="66960" tIns="33480" bIns="33480" anchor="ctr">
            <a:noAutofit/>
          </a:bodyPr>
          <a:p>
            <a:pPr indent="0" algn="ctr">
              <a:buNone/>
              <a:tabLst>
                <a:tab algn="l" pos="0"/>
                <a:tab algn="l" pos="666720"/>
                <a:tab algn="l" pos="1333440"/>
                <a:tab algn="l" pos="2000160"/>
                <a:tab algn="l" pos="2666880"/>
                <a:tab algn="l" pos="3333600"/>
                <a:tab algn="l" pos="4000680"/>
                <a:tab algn="l" pos="4667400"/>
                <a:tab algn="l" pos="5334120"/>
                <a:tab algn="l" pos="6000840"/>
                <a:tab algn="l" pos="6667560"/>
                <a:tab algn="l" pos="7334280"/>
                <a:tab algn="l" pos="8001000"/>
                <a:tab algn="l" pos="8667720"/>
                <a:tab algn="l" pos="9334440"/>
                <a:tab algn="l" pos="1000116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61600" y="1246320"/>
            <a:ext cx="2049120" cy="1234800"/>
          </a:xfrm>
          <a:prstGeom prst="rect">
            <a:avLst/>
          </a:prstGeom>
          <a:noFill/>
          <a:ln w="0">
            <a:noFill/>
          </a:ln>
        </p:spPr>
        <p:txBody>
          <a:bodyPr lIns="66960" rIns="66960" tIns="33480" bIns="3348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666720"/>
                <a:tab algn="l" pos="1333440"/>
                <a:tab algn="l" pos="2000160"/>
                <a:tab algn="l" pos="2666880"/>
                <a:tab algn="l" pos="3333600"/>
                <a:tab algn="l" pos="4000680"/>
                <a:tab algn="l" pos="4667400"/>
                <a:tab algn="l" pos="5334120"/>
                <a:tab algn="l" pos="6000840"/>
                <a:tab algn="l" pos="6667560"/>
                <a:tab algn="l" pos="7334280"/>
                <a:tab algn="l" pos="8001000"/>
                <a:tab algn="l" pos="8667720"/>
                <a:tab algn="l" pos="9334440"/>
                <a:tab algn="l" pos="10001160"/>
                <a:tab algn="l" pos="1066788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713680" y="1246320"/>
            <a:ext cx="2049120" cy="1234800"/>
          </a:xfrm>
          <a:prstGeom prst="rect">
            <a:avLst/>
          </a:prstGeom>
          <a:noFill/>
          <a:ln w="0">
            <a:noFill/>
          </a:ln>
        </p:spPr>
        <p:txBody>
          <a:bodyPr lIns="66960" rIns="66960" tIns="33480" bIns="3348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666720"/>
                <a:tab algn="l" pos="1333440"/>
                <a:tab algn="l" pos="2000160"/>
                <a:tab algn="l" pos="2666880"/>
                <a:tab algn="l" pos="3333600"/>
                <a:tab algn="l" pos="4000680"/>
                <a:tab algn="l" pos="4667400"/>
                <a:tab algn="l" pos="5334120"/>
                <a:tab algn="l" pos="6000840"/>
                <a:tab algn="l" pos="6667560"/>
                <a:tab algn="l" pos="7334280"/>
                <a:tab algn="l" pos="8001000"/>
                <a:tab algn="l" pos="8667720"/>
                <a:tab algn="l" pos="9334440"/>
                <a:tab algn="l" pos="10001160"/>
                <a:tab algn="l" pos="1066788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65400" y="1246320"/>
            <a:ext cx="2049120" cy="1234800"/>
          </a:xfrm>
          <a:prstGeom prst="rect">
            <a:avLst/>
          </a:prstGeom>
          <a:noFill/>
          <a:ln w="0">
            <a:noFill/>
          </a:ln>
        </p:spPr>
        <p:txBody>
          <a:bodyPr lIns="66960" rIns="66960" tIns="33480" bIns="3348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666720"/>
                <a:tab algn="l" pos="1333440"/>
                <a:tab algn="l" pos="2000160"/>
                <a:tab algn="l" pos="2666880"/>
                <a:tab algn="l" pos="3333600"/>
                <a:tab algn="l" pos="4000680"/>
                <a:tab algn="l" pos="4667400"/>
                <a:tab algn="l" pos="5334120"/>
                <a:tab algn="l" pos="6000840"/>
                <a:tab algn="l" pos="6667560"/>
                <a:tab algn="l" pos="7334280"/>
                <a:tab algn="l" pos="8001000"/>
                <a:tab algn="l" pos="8667720"/>
                <a:tab algn="l" pos="9334440"/>
                <a:tab algn="l" pos="10001160"/>
                <a:tab algn="l" pos="1066788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61600" y="2598840"/>
            <a:ext cx="2049120" cy="1234800"/>
          </a:xfrm>
          <a:prstGeom prst="rect">
            <a:avLst/>
          </a:prstGeom>
          <a:noFill/>
          <a:ln w="0">
            <a:noFill/>
          </a:ln>
        </p:spPr>
        <p:txBody>
          <a:bodyPr lIns="66960" rIns="66960" tIns="33480" bIns="3348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666720"/>
                <a:tab algn="l" pos="1333440"/>
                <a:tab algn="l" pos="2000160"/>
                <a:tab algn="l" pos="2666880"/>
                <a:tab algn="l" pos="3333600"/>
                <a:tab algn="l" pos="4000680"/>
                <a:tab algn="l" pos="4667400"/>
                <a:tab algn="l" pos="5334120"/>
                <a:tab algn="l" pos="6000840"/>
                <a:tab algn="l" pos="6667560"/>
                <a:tab algn="l" pos="7334280"/>
                <a:tab algn="l" pos="8001000"/>
                <a:tab algn="l" pos="8667720"/>
                <a:tab algn="l" pos="9334440"/>
                <a:tab algn="l" pos="10001160"/>
                <a:tab algn="l" pos="1066788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713680" y="2598840"/>
            <a:ext cx="2049120" cy="1234800"/>
          </a:xfrm>
          <a:prstGeom prst="rect">
            <a:avLst/>
          </a:prstGeom>
          <a:noFill/>
          <a:ln w="0">
            <a:noFill/>
          </a:ln>
        </p:spPr>
        <p:txBody>
          <a:bodyPr lIns="66960" rIns="66960" tIns="33480" bIns="3348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666720"/>
                <a:tab algn="l" pos="1333440"/>
                <a:tab algn="l" pos="2000160"/>
                <a:tab algn="l" pos="2666880"/>
                <a:tab algn="l" pos="3333600"/>
                <a:tab algn="l" pos="4000680"/>
                <a:tab algn="l" pos="4667400"/>
                <a:tab algn="l" pos="5334120"/>
                <a:tab algn="l" pos="6000840"/>
                <a:tab algn="l" pos="6667560"/>
                <a:tab algn="l" pos="7334280"/>
                <a:tab algn="l" pos="8001000"/>
                <a:tab algn="l" pos="8667720"/>
                <a:tab algn="l" pos="9334440"/>
                <a:tab algn="l" pos="10001160"/>
                <a:tab algn="l" pos="1066788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865400" y="2598840"/>
            <a:ext cx="2049120" cy="1234800"/>
          </a:xfrm>
          <a:prstGeom prst="rect">
            <a:avLst/>
          </a:prstGeom>
          <a:noFill/>
          <a:ln w="0">
            <a:noFill/>
          </a:ln>
        </p:spPr>
        <p:txBody>
          <a:bodyPr lIns="66960" rIns="66960" tIns="33480" bIns="3348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666720"/>
                <a:tab algn="l" pos="1333440"/>
                <a:tab algn="l" pos="2000160"/>
                <a:tab algn="l" pos="2666880"/>
                <a:tab algn="l" pos="3333600"/>
                <a:tab algn="l" pos="4000680"/>
                <a:tab algn="l" pos="4667400"/>
                <a:tab algn="l" pos="5334120"/>
                <a:tab algn="l" pos="6000840"/>
                <a:tab algn="l" pos="6667560"/>
                <a:tab algn="l" pos="7334280"/>
                <a:tab algn="l" pos="8001000"/>
                <a:tab algn="l" pos="8667720"/>
                <a:tab algn="l" pos="9334440"/>
                <a:tab algn="l" pos="10001160"/>
                <a:tab algn="l" pos="1066788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CDA25-AA30-45E0-B87B-DA71DEB82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61600" y="385920"/>
            <a:ext cx="6364440" cy="715680"/>
          </a:xfrm>
          <a:prstGeom prst="rect">
            <a:avLst/>
          </a:prstGeom>
          <a:noFill/>
          <a:ln w="0">
            <a:noFill/>
          </a:ln>
        </p:spPr>
        <p:txBody>
          <a:bodyPr lIns="66960" rIns="66960" tIns="33480" bIns="33480" anchor="ctr">
            <a:noAutofit/>
          </a:bodyPr>
          <a:p>
            <a:pPr indent="0" algn="ctr">
              <a:buNone/>
              <a:tabLst>
                <a:tab algn="l" pos="0"/>
                <a:tab algn="l" pos="666720"/>
                <a:tab algn="l" pos="1333440"/>
                <a:tab algn="l" pos="2000160"/>
                <a:tab algn="l" pos="2666880"/>
                <a:tab algn="l" pos="3333600"/>
                <a:tab algn="l" pos="4000680"/>
                <a:tab algn="l" pos="4667400"/>
                <a:tab algn="l" pos="5334120"/>
                <a:tab algn="l" pos="6000840"/>
                <a:tab algn="l" pos="6667560"/>
                <a:tab algn="l" pos="7334280"/>
                <a:tab algn="l" pos="8001000"/>
                <a:tab algn="l" pos="8667720"/>
                <a:tab algn="l" pos="9334440"/>
                <a:tab algn="l" pos="1000116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61600" y="1246320"/>
            <a:ext cx="6364440" cy="25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666720"/>
                <a:tab algn="l" pos="1333440"/>
                <a:tab algn="l" pos="2000160"/>
                <a:tab algn="l" pos="2666880"/>
                <a:tab algn="l" pos="3333600"/>
                <a:tab algn="l" pos="4000680"/>
                <a:tab algn="l" pos="4667400"/>
                <a:tab algn="l" pos="5334120"/>
                <a:tab algn="l" pos="6000840"/>
                <a:tab algn="l" pos="6667560"/>
                <a:tab algn="l" pos="7334280"/>
                <a:tab algn="l" pos="8001000"/>
                <a:tab algn="l" pos="8667720"/>
                <a:tab algn="l" pos="9334440"/>
                <a:tab algn="l" pos="10001160"/>
                <a:tab algn="l" pos="1066788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A6A14-2FDB-43EB-8CF8-D89E1C392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61600" y="385920"/>
            <a:ext cx="6364440" cy="715680"/>
          </a:xfrm>
          <a:prstGeom prst="rect">
            <a:avLst/>
          </a:prstGeom>
          <a:noFill/>
          <a:ln w="0">
            <a:noFill/>
          </a:ln>
        </p:spPr>
        <p:txBody>
          <a:bodyPr lIns="66960" rIns="66960" tIns="33480" bIns="33480" anchor="ctr">
            <a:noAutofit/>
          </a:bodyPr>
          <a:p>
            <a:pPr indent="0" algn="ctr">
              <a:buNone/>
              <a:tabLst>
                <a:tab algn="l" pos="0"/>
                <a:tab algn="l" pos="666720"/>
                <a:tab algn="l" pos="1333440"/>
                <a:tab algn="l" pos="2000160"/>
                <a:tab algn="l" pos="2666880"/>
                <a:tab algn="l" pos="3333600"/>
                <a:tab algn="l" pos="4000680"/>
                <a:tab algn="l" pos="4667400"/>
                <a:tab algn="l" pos="5334120"/>
                <a:tab algn="l" pos="6000840"/>
                <a:tab algn="l" pos="6667560"/>
                <a:tab algn="l" pos="7334280"/>
                <a:tab algn="l" pos="8001000"/>
                <a:tab algn="l" pos="8667720"/>
                <a:tab algn="l" pos="9334440"/>
                <a:tab algn="l" pos="1000116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61600" y="1246320"/>
            <a:ext cx="6364440" cy="2589120"/>
          </a:xfrm>
          <a:prstGeom prst="rect">
            <a:avLst/>
          </a:prstGeom>
          <a:noFill/>
          <a:ln w="0">
            <a:noFill/>
          </a:ln>
        </p:spPr>
        <p:txBody>
          <a:bodyPr lIns="66960" rIns="66960" tIns="33480" bIns="3348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666720"/>
                <a:tab algn="l" pos="1333440"/>
                <a:tab algn="l" pos="2000160"/>
                <a:tab algn="l" pos="2666880"/>
                <a:tab algn="l" pos="3333600"/>
                <a:tab algn="l" pos="4000680"/>
                <a:tab algn="l" pos="4667400"/>
                <a:tab algn="l" pos="5334120"/>
                <a:tab algn="l" pos="6000840"/>
                <a:tab algn="l" pos="6667560"/>
                <a:tab algn="l" pos="7334280"/>
                <a:tab algn="l" pos="8001000"/>
                <a:tab algn="l" pos="8667720"/>
                <a:tab algn="l" pos="9334440"/>
                <a:tab algn="l" pos="10001160"/>
                <a:tab algn="l" pos="1066788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7C7A1-EEA6-487B-9E5A-7EF50416D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61600" y="385920"/>
            <a:ext cx="6364440" cy="715680"/>
          </a:xfrm>
          <a:prstGeom prst="rect">
            <a:avLst/>
          </a:prstGeom>
          <a:noFill/>
          <a:ln w="0">
            <a:noFill/>
          </a:ln>
        </p:spPr>
        <p:txBody>
          <a:bodyPr lIns="66960" rIns="66960" tIns="33480" bIns="33480" anchor="ctr">
            <a:noAutofit/>
          </a:bodyPr>
          <a:p>
            <a:pPr indent="0" algn="ctr">
              <a:buNone/>
              <a:tabLst>
                <a:tab algn="l" pos="0"/>
                <a:tab algn="l" pos="666720"/>
                <a:tab algn="l" pos="1333440"/>
                <a:tab algn="l" pos="2000160"/>
                <a:tab algn="l" pos="2666880"/>
                <a:tab algn="l" pos="3333600"/>
                <a:tab algn="l" pos="4000680"/>
                <a:tab algn="l" pos="4667400"/>
                <a:tab algn="l" pos="5334120"/>
                <a:tab algn="l" pos="6000840"/>
                <a:tab algn="l" pos="6667560"/>
                <a:tab algn="l" pos="7334280"/>
                <a:tab algn="l" pos="8001000"/>
                <a:tab algn="l" pos="8667720"/>
                <a:tab algn="l" pos="9334440"/>
                <a:tab algn="l" pos="1000116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1600" y="1246320"/>
            <a:ext cx="3105720" cy="2589120"/>
          </a:xfrm>
          <a:prstGeom prst="rect">
            <a:avLst/>
          </a:prstGeom>
          <a:noFill/>
          <a:ln w="0">
            <a:noFill/>
          </a:ln>
        </p:spPr>
        <p:txBody>
          <a:bodyPr lIns="66960" rIns="66960" tIns="33480" bIns="3348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666720"/>
                <a:tab algn="l" pos="1333440"/>
                <a:tab algn="l" pos="2000160"/>
                <a:tab algn="l" pos="2666880"/>
                <a:tab algn="l" pos="3333600"/>
                <a:tab algn="l" pos="4000680"/>
                <a:tab algn="l" pos="4667400"/>
                <a:tab algn="l" pos="5334120"/>
                <a:tab algn="l" pos="6000840"/>
                <a:tab algn="l" pos="6667560"/>
                <a:tab algn="l" pos="7334280"/>
                <a:tab algn="l" pos="8001000"/>
                <a:tab algn="l" pos="8667720"/>
                <a:tab algn="l" pos="9334440"/>
                <a:tab algn="l" pos="10001160"/>
                <a:tab algn="l" pos="1066788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822840" y="1246320"/>
            <a:ext cx="3105720" cy="2589120"/>
          </a:xfrm>
          <a:prstGeom prst="rect">
            <a:avLst/>
          </a:prstGeom>
          <a:noFill/>
          <a:ln w="0">
            <a:noFill/>
          </a:ln>
        </p:spPr>
        <p:txBody>
          <a:bodyPr lIns="66960" rIns="66960" tIns="33480" bIns="3348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666720"/>
                <a:tab algn="l" pos="1333440"/>
                <a:tab algn="l" pos="2000160"/>
                <a:tab algn="l" pos="2666880"/>
                <a:tab algn="l" pos="3333600"/>
                <a:tab algn="l" pos="4000680"/>
                <a:tab algn="l" pos="4667400"/>
                <a:tab algn="l" pos="5334120"/>
                <a:tab algn="l" pos="6000840"/>
                <a:tab algn="l" pos="6667560"/>
                <a:tab algn="l" pos="7334280"/>
                <a:tab algn="l" pos="8001000"/>
                <a:tab algn="l" pos="8667720"/>
                <a:tab algn="l" pos="9334440"/>
                <a:tab algn="l" pos="10001160"/>
                <a:tab algn="l" pos="1066788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2D662-9CB6-45C8-920A-A2E6E6719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61600" y="385920"/>
            <a:ext cx="6364440" cy="715680"/>
          </a:xfrm>
          <a:prstGeom prst="rect">
            <a:avLst/>
          </a:prstGeom>
          <a:noFill/>
          <a:ln w="0">
            <a:noFill/>
          </a:ln>
        </p:spPr>
        <p:txBody>
          <a:bodyPr lIns="66960" rIns="66960" tIns="33480" bIns="33480" anchor="ctr">
            <a:noAutofit/>
          </a:bodyPr>
          <a:p>
            <a:pPr indent="0" algn="ctr">
              <a:buNone/>
              <a:tabLst>
                <a:tab algn="l" pos="0"/>
                <a:tab algn="l" pos="666720"/>
                <a:tab algn="l" pos="1333440"/>
                <a:tab algn="l" pos="2000160"/>
                <a:tab algn="l" pos="2666880"/>
                <a:tab algn="l" pos="3333600"/>
                <a:tab algn="l" pos="4000680"/>
                <a:tab algn="l" pos="4667400"/>
                <a:tab algn="l" pos="5334120"/>
                <a:tab algn="l" pos="6000840"/>
                <a:tab algn="l" pos="6667560"/>
                <a:tab algn="l" pos="7334280"/>
                <a:tab algn="l" pos="8001000"/>
                <a:tab algn="l" pos="8667720"/>
                <a:tab algn="l" pos="9334440"/>
                <a:tab algn="l" pos="1000116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E58E2-781A-486C-BCA1-2F8503676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61600" y="385920"/>
            <a:ext cx="6364440" cy="331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666720"/>
                <a:tab algn="l" pos="1333440"/>
                <a:tab algn="l" pos="2000160"/>
                <a:tab algn="l" pos="2666880"/>
                <a:tab algn="l" pos="3333600"/>
                <a:tab algn="l" pos="4000680"/>
                <a:tab algn="l" pos="4667400"/>
                <a:tab algn="l" pos="5334120"/>
                <a:tab algn="l" pos="6000840"/>
                <a:tab algn="l" pos="6667560"/>
                <a:tab algn="l" pos="7334280"/>
                <a:tab algn="l" pos="8001000"/>
                <a:tab algn="l" pos="8667720"/>
                <a:tab algn="l" pos="9334440"/>
                <a:tab algn="l" pos="10001160"/>
                <a:tab algn="l" pos="1066788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C521A-DED5-4655-B230-F1BE3077E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61600" y="385920"/>
            <a:ext cx="6364440" cy="715680"/>
          </a:xfrm>
          <a:prstGeom prst="rect">
            <a:avLst/>
          </a:prstGeom>
          <a:noFill/>
          <a:ln w="0">
            <a:noFill/>
          </a:ln>
        </p:spPr>
        <p:txBody>
          <a:bodyPr lIns="66960" rIns="66960" tIns="33480" bIns="33480" anchor="ctr">
            <a:noAutofit/>
          </a:bodyPr>
          <a:p>
            <a:pPr indent="0" algn="ctr">
              <a:buNone/>
              <a:tabLst>
                <a:tab algn="l" pos="0"/>
                <a:tab algn="l" pos="666720"/>
                <a:tab algn="l" pos="1333440"/>
                <a:tab algn="l" pos="2000160"/>
                <a:tab algn="l" pos="2666880"/>
                <a:tab algn="l" pos="3333600"/>
                <a:tab algn="l" pos="4000680"/>
                <a:tab algn="l" pos="4667400"/>
                <a:tab algn="l" pos="5334120"/>
                <a:tab algn="l" pos="6000840"/>
                <a:tab algn="l" pos="6667560"/>
                <a:tab algn="l" pos="7334280"/>
                <a:tab algn="l" pos="8001000"/>
                <a:tab algn="l" pos="8667720"/>
                <a:tab algn="l" pos="9334440"/>
                <a:tab algn="l" pos="1000116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61600" y="1246320"/>
            <a:ext cx="3105720" cy="1234800"/>
          </a:xfrm>
          <a:prstGeom prst="rect">
            <a:avLst/>
          </a:prstGeom>
          <a:noFill/>
          <a:ln w="0">
            <a:noFill/>
          </a:ln>
        </p:spPr>
        <p:txBody>
          <a:bodyPr lIns="66960" rIns="66960" tIns="33480" bIns="3348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666720"/>
                <a:tab algn="l" pos="1333440"/>
                <a:tab algn="l" pos="2000160"/>
                <a:tab algn="l" pos="2666880"/>
                <a:tab algn="l" pos="3333600"/>
                <a:tab algn="l" pos="4000680"/>
                <a:tab algn="l" pos="4667400"/>
                <a:tab algn="l" pos="5334120"/>
                <a:tab algn="l" pos="6000840"/>
                <a:tab algn="l" pos="6667560"/>
                <a:tab algn="l" pos="7334280"/>
                <a:tab algn="l" pos="8001000"/>
                <a:tab algn="l" pos="8667720"/>
                <a:tab algn="l" pos="9334440"/>
                <a:tab algn="l" pos="10001160"/>
                <a:tab algn="l" pos="1066788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822840" y="1246320"/>
            <a:ext cx="3105720" cy="2589120"/>
          </a:xfrm>
          <a:prstGeom prst="rect">
            <a:avLst/>
          </a:prstGeom>
          <a:noFill/>
          <a:ln w="0">
            <a:noFill/>
          </a:ln>
        </p:spPr>
        <p:txBody>
          <a:bodyPr lIns="66960" rIns="66960" tIns="33480" bIns="3348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666720"/>
                <a:tab algn="l" pos="1333440"/>
                <a:tab algn="l" pos="2000160"/>
                <a:tab algn="l" pos="2666880"/>
                <a:tab algn="l" pos="3333600"/>
                <a:tab algn="l" pos="4000680"/>
                <a:tab algn="l" pos="4667400"/>
                <a:tab algn="l" pos="5334120"/>
                <a:tab algn="l" pos="6000840"/>
                <a:tab algn="l" pos="6667560"/>
                <a:tab algn="l" pos="7334280"/>
                <a:tab algn="l" pos="8001000"/>
                <a:tab algn="l" pos="8667720"/>
                <a:tab algn="l" pos="9334440"/>
                <a:tab algn="l" pos="10001160"/>
                <a:tab algn="l" pos="1066788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61600" y="2598840"/>
            <a:ext cx="3105720" cy="1234800"/>
          </a:xfrm>
          <a:prstGeom prst="rect">
            <a:avLst/>
          </a:prstGeom>
          <a:noFill/>
          <a:ln w="0">
            <a:noFill/>
          </a:ln>
        </p:spPr>
        <p:txBody>
          <a:bodyPr lIns="66960" rIns="66960" tIns="33480" bIns="3348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666720"/>
                <a:tab algn="l" pos="1333440"/>
                <a:tab algn="l" pos="2000160"/>
                <a:tab algn="l" pos="2666880"/>
                <a:tab algn="l" pos="3333600"/>
                <a:tab algn="l" pos="4000680"/>
                <a:tab algn="l" pos="4667400"/>
                <a:tab algn="l" pos="5334120"/>
                <a:tab algn="l" pos="6000840"/>
                <a:tab algn="l" pos="6667560"/>
                <a:tab algn="l" pos="7334280"/>
                <a:tab algn="l" pos="8001000"/>
                <a:tab algn="l" pos="8667720"/>
                <a:tab algn="l" pos="9334440"/>
                <a:tab algn="l" pos="10001160"/>
                <a:tab algn="l" pos="1066788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F9F51-86FE-42B8-BEAC-C0586559D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61600" y="385920"/>
            <a:ext cx="6364440" cy="715680"/>
          </a:xfrm>
          <a:prstGeom prst="rect">
            <a:avLst/>
          </a:prstGeom>
          <a:noFill/>
          <a:ln w="0">
            <a:noFill/>
          </a:ln>
        </p:spPr>
        <p:txBody>
          <a:bodyPr lIns="66960" rIns="66960" tIns="33480" bIns="33480" anchor="ctr">
            <a:noAutofit/>
          </a:bodyPr>
          <a:p>
            <a:pPr indent="0" algn="ctr">
              <a:buNone/>
              <a:tabLst>
                <a:tab algn="l" pos="0"/>
                <a:tab algn="l" pos="666720"/>
                <a:tab algn="l" pos="1333440"/>
                <a:tab algn="l" pos="2000160"/>
                <a:tab algn="l" pos="2666880"/>
                <a:tab algn="l" pos="3333600"/>
                <a:tab algn="l" pos="4000680"/>
                <a:tab algn="l" pos="4667400"/>
                <a:tab algn="l" pos="5334120"/>
                <a:tab algn="l" pos="6000840"/>
                <a:tab algn="l" pos="6667560"/>
                <a:tab algn="l" pos="7334280"/>
                <a:tab algn="l" pos="8001000"/>
                <a:tab algn="l" pos="8667720"/>
                <a:tab algn="l" pos="9334440"/>
                <a:tab algn="l" pos="1000116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61600" y="1246320"/>
            <a:ext cx="3105720" cy="2589120"/>
          </a:xfrm>
          <a:prstGeom prst="rect">
            <a:avLst/>
          </a:prstGeom>
          <a:noFill/>
          <a:ln w="0">
            <a:noFill/>
          </a:ln>
        </p:spPr>
        <p:txBody>
          <a:bodyPr lIns="66960" rIns="66960" tIns="33480" bIns="3348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666720"/>
                <a:tab algn="l" pos="1333440"/>
                <a:tab algn="l" pos="2000160"/>
                <a:tab algn="l" pos="2666880"/>
                <a:tab algn="l" pos="3333600"/>
                <a:tab algn="l" pos="4000680"/>
                <a:tab algn="l" pos="4667400"/>
                <a:tab algn="l" pos="5334120"/>
                <a:tab algn="l" pos="6000840"/>
                <a:tab algn="l" pos="6667560"/>
                <a:tab algn="l" pos="7334280"/>
                <a:tab algn="l" pos="8001000"/>
                <a:tab algn="l" pos="8667720"/>
                <a:tab algn="l" pos="9334440"/>
                <a:tab algn="l" pos="10001160"/>
                <a:tab algn="l" pos="1066788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822840" y="1246320"/>
            <a:ext cx="3105720" cy="1234800"/>
          </a:xfrm>
          <a:prstGeom prst="rect">
            <a:avLst/>
          </a:prstGeom>
          <a:noFill/>
          <a:ln w="0">
            <a:noFill/>
          </a:ln>
        </p:spPr>
        <p:txBody>
          <a:bodyPr lIns="66960" rIns="66960" tIns="33480" bIns="3348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666720"/>
                <a:tab algn="l" pos="1333440"/>
                <a:tab algn="l" pos="2000160"/>
                <a:tab algn="l" pos="2666880"/>
                <a:tab algn="l" pos="3333600"/>
                <a:tab algn="l" pos="4000680"/>
                <a:tab algn="l" pos="4667400"/>
                <a:tab algn="l" pos="5334120"/>
                <a:tab algn="l" pos="6000840"/>
                <a:tab algn="l" pos="6667560"/>
                <a:tab algn="l" pos="7334280"/>
                <a:tab algn="l" pos="8001000"/>
                <a:tab algn="l" pos="8667720"/>
                <a:tab algn="l" pos="9334440"/>
                <a:tab algn="l" pos="10001160"/>
                <a:tab algn="l" pos="1066788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22840" y="2598840"/>
            <a:ext cx="3105720" cy="1234800"/>
          </a:xfrm>
          <a:prstGeom prst="rect">
            <a:avLst/>
          </a:prstGeom>
          <a:noFill/>
          <a:ln w="0">
            <a:noFill/>
          </a:ln>
        </p:spPr>
        <p:txBody>
          <a:bodyPr lIns="66960" rIns="66960" tIns="33480" bIns="3348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666720"/>
                <a:tab algn="l" pos="1333440"/>
                <a:tab algn="l" pos="2000160"/>
                <a:tab algn="l" pos="2666880"/>
                <a:tab algn="l" pos="3333600"/>
                <a:tab algn="l" pos="4000680"/>
                <a:tab algn="l" pos="4667400"/>
                <a:tab algn="l" pos="5334120"/>
                <a:tab algn="l" pos="6000840"/>
                <a:tab algn="l" pos="6667560"/>
                <a:tab algn="l" pos="7334280"/>
                <a:tab algn="l" pos="8001000"/>
                <a:tab algn="l" pos="8667720"/>
                <a:tab algn="l" pos="9334440"/>
                <a:tab algn="l" pos="10001160"/>
                <a:tab algn="l" pos="1066788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E049E-F0FF-426E-94C8-726310977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61600" y="385920"/>
            <a:ext cx="6364440" cy="715680"/>
          </a:xfrm>
          <a:prstGeom prst="rect">
            <a:avLst/>
          </a:prstGeom>
          <a:noFill/>
          <a:ln w="0">
            <a:noFill/>
          </a:ln>
        </p:spPr>
        <p:txBody>
          <a:bodyPr lIns="66960" rIns="66960" tIns="33480" bIns="33480" anchor="ctr">
            <a:noAutofit/>
          </a:bodyPr>
          <a:p>
            <a:pPr indent="0" algn="ctr">
              <a:buNone/>
              <a:tabLst>
                <a:tab algn="l" pos="0"/>
                <a:tab algn="l" pos="666720"/>
                <a:tab algn="l" pos="1333440"/>
                <a:tab algn="l" pos="2000160"/>
                <a:tab algn="l" pos="2666880"/>
                <a:tab algn="l" pos="3333600"/>
                <a:tab algn="l" pos="4000680"/>
                <a:tab algn="l" pos="4667400"/>
                <a:tab algn="l" pos="5334120"/>
                <a:tab algn="l" pos="6000840"/>
                <a:tab algn="l" pos="6667560"/>
                <a:tab algn="l" pos="7334280"/>
                <a:tab algn="l" pos="8001000"/>
                <a:tab algn="l" pos="8667720"/>
                <a:tab algn="l" pos="9334440"/>
                <a:tab algn="l" pos="1000116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61600" y="1246320"/>
            <a:ext cx="3105720" cy="1234800"/>
          </a:xfrm>
          <a:prstGeom prst="rect">
            <a:avLst/>
          </a:prstGeom>
          <a:noFill/>
          <a:ln w="0">
            <a:noFill/>
          </a:ln>
        </p:spPr>
        <p:txBody>
          <a:bodyPr lIns="66960" rIns="66960" tIns="33480" bIns="3348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666720"/>
                <a:tab algn="l" pos="1333440"/>
                <a:tab algn="l" pos="2000160"/>
                <a:tab algn="l" pos="2666880"/>
                <a:tab algn="l" pos="3333600"/>
                <a:tab algn="l" pos="4000680"/>
                <a:tab algn="l" pos="4667400"/>
                <a:tab algn="l" pos="5334120"/>
                <a:tab algn="l" pos="6000840"/>
                <a:tab algn="l" pos="6667560"/>
                <a:tab algn="l" pos="7334280"/>
                <a:tab algn="l" pos="8001000"/>
                <a:tab algn="l" pos="8667720"/>
                <a:tab algn="l" pos="9334440"/>
                <a:tab algn="l" pos="10001160"/>
                <a:tab algn="l" pos="1066788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22840" y="1246320"/>
            <a:ext cx="3105720" cy="1234800"/>
          </a:xfrm>
          <a:prstGeom prst="rect">
            <a:avLst/>
          </a:prstGeom>
          <a:noFill/>
          <a:ln w="0">
            <a:noFill/>
          </a:ln>
        </p:spPr>
        <p:txBody>
          <a:bodyPr lIns="66960" rIns="66960" tIns="33480" bIns="3348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666720"/>
                <a:tab algn="l" pos="1333440"/>
                <a:tab algn="l" pos="2000160"/>
                <a:tab algn="l" pos="2666880"/>
                <a:tab algn="l" pos="3333600"/>
                <a:tab algn="l" pos="4000680"/>
                <a:tab algn="l" pos="4667400"/>
                <a:tab algn="l" pos="5334120"/>
                <a:tab algn="l" pos="6000840"/>
                <a:tab algn="l" pos="6667560"/>
                <a:tab algn="l" pos="7334280"/>
                <a:tab algn="l" pos="8001000"/>
                <a:tab algn="l" pos="8667720"/>
                <a:tab algn="l" pos="9334440"/>
                <a:tab algn="l" pos="10001160"/>
                <a:tab algn="l" pos="1066788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61600" y="2598840"/>
            <a:ext cx="6364440" cy="1234800"/>
          </a:xfrm>
          <a:prstGeom prst="rect">
            <a:avLst/>
          </a:prstGeom>
          <a:noFill/>
          <a:ln w="0">
            <a:noFill/>
          </a:ln>
        </p:spPr>
        <p:txBody>
          <a:bodyPr lIns="66960" rIns="66960" tIns="33480" bIns="3348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666720"/>
                <a:tab algn="l" pos="1333440"/>
                <a:tab algn="l" pos="2000160"/>
                <a:tab algn="l" pos="2666880"/>
                <a:tab algn="l" pos="3333600"/>
                <a:tab algn="l" pos="4000680"/>
                <a:tab algn="l" pos="4667400"/>
                <a:tab algn="l" pos="5334120"/>
                <a:tab algn="l" pos="6000840"/>
                <a:tab algn="l" pos="6667560"/>
                <a:tab algn="l" pos="7334280"/>
                <a:tab algn="l" pos="8001000"/>
                <a:tab algn="l" pos="8667720"/>
                <a:tab algn="l" pos="9334440"/>
                <a:tab algn="l" pos="10001160"/>
                <a:tab algn="l" pos="1066788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4D392-B8F2-409A-924F-F93F5D183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61600" y="385920"/>
            <a:ext cx="6364440" cy="715680"/>
          </a:xfrm>
          <a:prstGeom prst="rect">
            <a:avLst/>
          </a:prstGeom>
          <a:noFill/>
          <a:ln w="0">
            <a:noFill/>
          </a:ln>
        </p:spPr>
        <p:txBody>
          <a:bodyPr lIns="66960" rIns="66960" tIns="33480" bIns="33480" anchor="ctr">
            <a:noAutofit/>
          </a:bodyPr>
          <a:p>
            <a:pPr indent="0" algn="ctr">
              <a:buNone/>
              <a:tabLst>
                <a:tab algn="l" pos="0"/>
                <a:tab algn="l" pos="666720"/>
                <a:tab algn="l" pos="1333440"/>
                <a:tab algn="l" pos="2000160"/>
                <a:tab algn="l" pos="2666880"/>
                <a:tab algn="l" pos="3333600"/>
                <a:tab algn="l" pos="4000680"/>
                <a:tab algn="l" pos="4667400"/>
                <a:tab algn="l" pos="5334120"/>
                <a:tab algn="l" pos="6000840"/>
                <a:tab algn="l" pos="6667560"/>
                <a:tab algn="l" pos="7334280"/>
                <a:tab algn="l" pos="8001000"/>
                <a:tab algn="l" pos="8667720"/>
                <a:tab algn="l" pos="9334440"/>
                <a:tab algn="l" pos="1000116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1600" y="1246320"/>
            <a:ext cx="6364440" cy="2589120"/>
          </a:xfrm>
          <a:prstGeom prst="rect">
            <a:avLst/>
          </a:prstGeom>
          <a:noFill/>
          <a:ln w="0">
            <a:noFill/>
          </a:ln>
        </p:spPr>
        <p:txBody>
          <a:bodyPr lIns="66960" rIns="66960" tIns="33480" bIns="33480" anchor="t">
            <a:normAutofit fontScale="87000"/>
          </a:bodyPr>
          <a:p>
            <a:pPr marL="218160" indent="-21816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666720"/>
                <a:tab algn="l" pos="1333440"/>
                <a:tab algn="l" pos="2000160"/>
                <a:tab algn="l" pos="2666880"/>
                <a:tab algn="l" pos="3333600"/>
                <a:tab algn="l" pos="4000680"/>
                <a:tab algn="l" pos="4667400"/>
                <a:tab algn="l" pos="5334120"/>
                <a:tab algn="l" pos="6000840"/>
                <a:tab algn="l" pos="6667560"/>
                <a:tab algn="l" pos="7334280"/>
                <a:tab algn="l" pos="8001000"/>
                <a:tab algn="l" pos="8667720"/>
                <a:tab algn="l" pos="9334440"/>
                <a:tab algn="l" pos="10001160"/>
                <a:tab algn="l" pos="1066788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471960" indent="-18216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666720"/>
                <a:tab algn="l" pos="1333440"/>
                <a:tab algn="l" pos="2000160"/>
                <a:tab algn="l" pos="2666880"/>
                <a:tab algn="l" pos="3333600"/>
                <a:tab algn="l" pos="4000680"/>
                <a:tab algn="l" pos="4667400"/>
                <a:tab algn="l" pos="5334120"/>
                <a:tab algn="l" pos="6000840"/>
                <a:tab algn="l" pos="6667560"/>
                <a:tab algn="l" pos="7334280"/>
                <a:tab algn="l" pos="8001000"/>
                <a:tab algn="l" pos="8667720"/>
                <a:tab algn="l" pos="9334440"/>
                <a:tab algn="l" pos="10001160"/>
                <a:tab algn="l" pos="1066788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726480" indent="-14652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666720"/>
                <a:tab algn="l" pos="1333440"/>
                <a:tab algn="l" pos="2000160"/>
                <a:tab algn="l" pos="2666880"/>
                <a:tab algn="l" pos="3333600"/>
                <a:tab algn="l" pos="4000680"/>
                <a:tab algn="l" pos="4667400"/>
                <a:tab algn="l" pos="5334120"/>
                <a:tab algn="l" pos="6000840"/>
                <a:tab algn="l" pos="6667560"/>
                <a:tab algn="l" pos="7334280"/>
                <a:tab algn="l" pos="8001000"/>
                <a:tab algn="l" pos="8667720"/>
                <a:tab algn="l" pos="9334440"/>
                <a:tab algn="l" pos="10001160"/>
                <a:tab algn="l" pos="1066788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017720" indent="-14616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666720"/>
                <a:tab algn="l" pos="1333440"/>
                <a:tab algn="l" pos="2000160"/>
                <a:tab algn="l" pos="2666880"/>
                <a:tab algn="l" pos="3333600"/>
                <a:tab algn="l" pos="4000680"/>
                <a:tab algn="l" pos="4667400"/>
                <a:tab algn="l" pos="5334120"/>
                <a:tab algn="l" pos="6000840"/>
                <a:tab algn="l" pos="6667560"/>
                <a:tab algn="l" pos="7334280"/>
                <a:tab algn="l" pos="8001000"/>
                <a:tab algn="l" pos="8667720"/>
                <a:tab algn="l" pos="9334440"/>
                <a:tab algn="l" pos="10001160"/>
                <a:tab algn="l" pos="1066788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1308960" indent="-14616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666720"/>
                <a:tab algn="l" pos="1333440"/>
                <a:tab algn="l" pos="2000160"/>
                <a:tab algn="l" pos="2666880"/>
                <a:tab algn="l" pos="3333600"/>
                <a:tab algn="l" pos="4000680"/>
                <a:tab algn="l" pos="4667400"/>
                <a:tab algn="l" pos="5334120"/>
                <a:tab algn="l" pos="6000840"/>
                <a:tab algn="l" pos="6667560"/>
                <a:tab algn="l" pos="7334280"/>
                <a:tab algn="l" pos="8001000"/>
                <a:tab algn="l" pos="8667720"/>
                <a:tab algn="l" pos="9334440"/>
                <a:tab algn="l" pos="10001160"/>
                <a:tab algn="l" pos="1066788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5" marL="1308960" indent="-14616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666720"/>
                <a:tab algn="l" pos="1333440"/>
                <a:tab algn="l" pos="2000160"/>
                <a:tab algn="l" pos="2666880"/>
                <a:tab algn="l" pos="3333600"/>
                <a:tab algn="l" pos="4000680"/>
                <a:tab algn="l" pos="4667400"/>
                <a:tab algn="l" pos="5334120"/>
                <a:tab algn="l" pos="6000840"/>
                <a:tab algn="l" pos="6667560"/>
                <a:tab algn="l" pos="7334280"/>
                <a:tab algn="l" pos="8001000"/>
                <a:tab algn="l" pos="8667720"/>
                <a:tab algn="l" pos="9334440"/>
                <a:tab algn="l" pos="10001160"/>
                <a:tab algn="l" pos="1066788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6" marL="1308960" indent="-14616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666720"/>
                <a:tab algn="l" pos="1333440"/>
                <a:tab algn="l" pos="2000160"/>
                <a:tab algn="l" pos="2666880"/>
                <a:tab algn="l" pos="3333600"/>
                <a:tab algn="l" pos="4000680"/>
                <a:tab algn="l" pos="4667400"/>
                <a:tab algn="l" pos="5334120"/>
                <a:tab algn="l" pos="6000840"/>
                <a:tab algn="l" pos="6667560"/>
                <a:tab algn="l" pos="7334280"/>
                <a:tab algn="l" pos="8001000"/>
                <a:tab algn="l" pos="8667720"/>
                <a:tab algn="l" pos="9334440"/>
                <a:tab algn="l" pos="10001160"/>
                <a:tab algn="l" pos="1066788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61600" y="3930120"/>
            <a:ext cx="1560600" cy="290520"/>
          </a:xfrm>
          <a:prstGeom prst="rect">
            <a:avLst/>
          </a:prstGeom>
          <a:noFill/>
          <a:ln w="0">
            <a:noFill/>
          </a:ln>
        </p:spPr>
        <p:txBody>
          <a:bodyPr lIns="66960" rIns="66960" tIns="33480" bIns="33480" anchor="t">
            <a:noAutofit/>
          </a:bodyPr>
          <a:lstStyle>
            <a:lvl1pPr indent="0">
              <a:buNone/>
              <a:tabLst>
                <a:tab algn="l" pos="0"/>
                <a:tab algn="l" pos="666720"/>
                <a:tab algn="l" pos="1333440"/>
                <a:tab algn="l" pos="2000160"/>
                <a:tab algn="l" pos="2666880"/>
                <a:tab algn="l" pos="3333600"/>
                <a:tab algn="l" pos="4000680"/>
                <a:tab algn="l" pos="4667400"/>
                <a:tab algn="l" pos="5334120"/>
                <a:tab algn="l" pos="6000840"/>
                <a:tab algn="l" pos="6667560"/>
                <a:tab algn="l" pos="7334280"/>
                <a:tab algn="l" pos="8001000"/>
                <a:tab algn="l" pos="8667720"/>
                <a:tab algn="l" pos="9334440"/>
                <a:tab algn="l" pos="10001160"/>
                <a:tab algn="l" pos="10667880"/>
              </a:tabLst>
              <a:defRPr b="0" lang="fr-FR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666720"/>
                <a:tab algn="l" pos="1333440"/>
                <a:tab algn="l" pos="2000160"/>
                <a:tab algn="l" pos="2666880"/>
                <a:tab algn="l" pos="3333600"/>
                <a:tab algn="l" pos="4000680"/>
                <a:tab algn="l" pos="4667400"/>
                <a:tab algn="l" pos="5334120"/>
                <a:tab algn="l" pos="6000840"/>
                <a:tab algn="l" pos="6667560"/>
                <a:tab algn="l" pos="7334280"/>
                <a:tab algn="l" pos="8001000"/>
                <a:tab algn="l" pos="8667720"/>
                <a:tab algn="l" pos="9334440"/>
                <a:tab algn="l" pos="10001160"/>
                <a:tab algn="l" pos="1066788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58880" y="3930120"/>
            <a:ext cx="2370240" cy="290520"/>
          </a:xfrm>
          <a:prstGeom prst="rect">
            <a:avLst/>
          </a:prstGeom>
          <a:noFill/>
          <a:ln w="0">
            <a:noFill/>
          </a:ln>
        </p:spPr>
        <p:txBody>
          <a:bodyPr lIns="66960" rIns="66960" tIns="33480" bIns="33480" anchor="t">
            <a:noAutofit/>
          </a:bodyPr>
          <a:lstStyle>
            <a:lvl1pPr indent="0" algn="ctr">
              <a:buNone/>
              <a:tabLst>
                <a:tab algn="l" pos="0"/>
                <a:tab algn="l" pos="666720"/>
                <a:tab algn="l" pos="1333440"/>
                <a:tab algn="l" pos="2000160"/>
                <a:tab algn="l" pos="2666880"/>
                <a:tab algn="l" pos="3333600"/>
                <a:tab algn="l" pos="4000680"/>
                <a:tab algn="l" pos="4667400"/>
                <a:tab algn="l" pos="5334120"/>
                <a:tab algn="l" pos="6000840"/>
                <a:tab algn="l" pos="6667560"/>
                <a:tab algn="l" pos="7334280"/>
                <a:tab algn="l" pos="8001000"/>
                <a:tab algn="l" pos="8667720"/>
                <a:tab algn="l" pos="9334440"/>
                <a:tab algn="l" pos="10001160"/>
                <a:tab algn="l" pos="10667880"/>
              </a:tabLst>
              <a:defRPr b="0" lang="fr-FR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666720"/>
                <a:tab algn="l" pos="1333440"/>
                <a:tab algn="l" pos="2000160"/>
                <a:tab algn="l" pos="2666880"/>
                <a:tab algn="l" pos="3333600"/>
                <a:tab algn="l" pos="4000680"/>
                <a:tab algn="l" pos="4667400"/>
                <a:tab algn="l" pos="5334120"/>
                <a:tab algn="l" pos="6000840"/>
                <a:tab algn="l" pos="6667560"/>
                <a:tab algn="l" pos="7334280"/>
                <a:tab algn="l" pos="8001000"/>
                <a:tab algn="l" pos="8667720"/>
                <a:tab algn="l" pos="9334440"/>
                <a:tab algn="l" pos="10001160"/>
                <a:tab algn="l" pos="1066788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365440" y="3930120"/>
            <a:ext cx="1560600" cy="290520"/>
          </a:xfrm>
          <a:prstGeom prst="rect">
            <a:avLst/>
          </a:prstGeom>
          <a:noFill/>
          <a:ln w="0">
            <a:noFill/>
          </a:ln>
        </p:spPr>
        <p:txBody>
          <a:bodyPr lIns="66960" rIns="66960" tIns="33480" bIns="33480" anchor="t">
            <a:noAutofit/>
          </a:bodyPr>
          <a:lstStyle>
            <a:lvl1pPr indent="0" algn="r">
              <a:buNone/>
              <a:tabLst>
                <a:tab algn="l" pos="0"/>
                <a:tab algn="l" pos="666720"/>
                <a:tab algn="l" pos="1333440"/>
                <a:tab algn="l" pos="2000160"/>
                <a:tab algn="l" pos="2666880"/>
                <a:tab algn="l" pos="3333600"/>
                <a:tab algn="l" pos="4000680"/>
                <a:tab algn="l" pos="4667400"/>
                <a:tab algn="l" pos="5334120"/>
                <a:tab algn="l" pos="6000840"/>
                <a:tab algn="l" pos="6667560"/>
                <a:tab algn="l" pos="7334280"/>
                <a:tab algn="l" pos="8001000"/>
                <a:tab algn="l" pos="8667720"/>
                <a:tab algn="l" pos="9334440"/>
                <a:tab algn="l" pos="10001160"/>
                <a:tab algn="l" pos="10667880"/>
              </a:tabLst>
              <a:defRPr b="0" lang="fr-FR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666720"/>
                <a:tab algn="l" pos="1333440"/>
                <a:tab algn="l" pos="2000160"/>
                <a:tab algn="l" pos="2666880"/>
                <a:tab algn="l" pos="3333600"/>
                <a:tab algn="l" pos="4000680"/>
                <a:tab algn="l" pos="4667400"/>
                <a:tab algn="l" pos="5334120"/>
                <a:tab algn="l" pos="6000840"/>
                <a:tab algn="l" pos="6667560"/>
                <a:tab algn="l" pos="7334280"/>
                <a:tab algn="l" pos="8001000"/>
                <a:tab algn="l" pos="8667720"/>
                <a:tab algn="l" pos="9334440"/>
                <a:tab algn="l" pos="10001160"/>
                <a:tab algn="l" pos="10667880"/>
              </a:tabLst>
            </a:pPr>
            <a:fld id="{E49F443E-0F39-45D4-B71E-136B3C47D1FA}" type="slidenum">
              <a:rPr b="0" lang="fr-FR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6680" y="79200"/>
            <a:ext cx="72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C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009800" y="793800"/>
            <a:ext cx="0" cy="24382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88000" y="3524400"/>
            <a:ext cx="15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du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335680" y="2556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909520" y="177948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45400" y="31510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1313640" y="444960"/>
            <a:ext cx="1671480" cy="3126240"/>
            <a:chOff x="1313640" y="444960"/>
            <a:chExt cx="1671480" cy="3126240"/>
          </a:xfrm>
        </p:grpSpPr>
        <p:sp>
          <p:nvSpPr>
            <p:cNvPr id="48" name=""/>
            <p:cNvSpPr/>
            <p:nvPr/>
          </p:nvSpPr>
          <p:spPr>
            <a:xfrm flipH="1" rot="18960000">
              <a:off x="2197080" y="2706120"/>
              <a:ext cx="609120" cy="759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719424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719424"/>
                </a:path>
              </a:pathLst>
            </a:custGeom>
            <a:noFill/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1314000" y="2249640"/>
              <a:ext cx="1600200" cy="1319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313640" y="444960"/>
              <a:ext cx="1600200" cy="1319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 rot="2640000">
              <a:off x="2196360" y="558000"/>
              <a:ext cx="609120" cy="759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719424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719424"/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>
            <a:off x="4265640" y="1924200"/>
            <a:ext cx="1733400" cy="368280"/>
          </a:xfrm>
          <a:custGeom>
            <a:avLst/>
            <a:gdLst/>
            <a:ahLst/>
            <a:rect l="l" t="t" r="r" b="b"/>
            <a:pathLst>
              <a:path w="1092" h="232">
                <a:moveTo>
                  <a:pt x="0" y="97"/>
                </a:moveTo>
                <a:cubicBezTo>
                  <a:pt x="16" y="96"/>
                  <a:pt x="46" y="104"/>
                  <a:pt x="94" y="89"/>
                </a:cubicBezTo>
                <a:cubicBezTo>
                  <a:pt x="142" y="74"/>
                  <a:pt x="222" y="0"/>
                  <a:pt x="287" y="5"/>
                </a:cubicBezTo>
                <a:cubicBezTo>
                  <a:pt x="352" y="10"/>
                  <a:pt x="409" y="117"/>
                  <a:pt x="484" y="119"/>
                </a:cubicBezTo>
                <a:cubicBezTo>
                  <a:pt x="559" y="121"/>
                  <a:pt x="665" y="4"/>
                  <a:pt x="737" y="17"/>
                </a:cubicBezTo>
                <a:cubicBezTo>
                  <a:pt x="809" y="30"/>
                  <a:pt x="859" y="162"/>
                  <a:pt x="918" y="197"/>
                </a:cubicBezTo>
                <a:cubicBezTo>
                  <a:pt x="977" y="232"/>
                  <a:pt x="1056" y="221"/>
                  <a:pt x="1092" y="227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39720" y="2130480"/>
            <a:ext cx="128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 + Produc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25120" y="1906560"/>
            <a:ext cx="82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 + EC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876200" y="214956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484520" y="1593720"/>
            <a:ext cx="936720" cy="1095480"/>
          </a:xfrm>
          <a:custGeom>
            <a:avLst/>
            <a:gdLst/>
            <a:ahLst/>
            <a:rect l="l" t="t" r="r" b="b"/>
            <a:pathLst>
              <a:path w="328" h="328">
                <a:moveTo>
                  <a:pt x="0" y="145"/>
                </a:moveTo>
                <a:cubicBezTo>
                  <a:pt x="9" y="142"/>
                  <a:pt x="27" y="148"/>
                  <a:pt x="52" y="128"/>
                </a:cubicBezTo>
                <a:cubicBezTo>
                  <a:pt x="77" y="108"/>
                  <a:pt x="117" y="0"/>
                  <a:pt x="152" y="25"/>
                </a:cubicBezTo>
                <a:cubicBezTo>
                  <a:pt x="187" y="50"/>
                  <a:pt x="235" y="232"/>
                  <a:pt x="264" y="280"/>
                </a:cubicBezTo>
                <a:cubicBezTo>
                  <a:pt x="293" y="328"/>
                  <a:pt x="315" y="306"/>
                  <a:pt x="328" y="313"/>
                </a:cubicBezTo>
              </a:path>
            </a:pathLst>
          </a:custGeom>
          <a:noFill/>
          <a:ln w="6480">
            <a:solidFill>
              <a:srgbClr val="ff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982680" y="973080"/>
            <a:ext cx="95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duc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371760" y="69840"/>
            <a:ext cx="4027680" cy="129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858840" y="406440"/>
            <a:ext cx="49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C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262400" y="565200"/>
            <a:ext cx="2570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43520" y="1136520"/>
            <a:ext cx="2570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5891040" y="97308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6599160" y="53352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6848640" y="682560"/>
            <a:ext cx="25704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6167520" y="1136520"/>
            <a:ext cx="25704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91080" y="679320"/>
            <a:ext cx="3808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6388560" y="806400"/>
            <a:ext cx="443520" cy="202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276800" y="69840"/>
            <a:ext cx="936720" cy="1095480"/>
          </a:xfrm>
          <a:custGeom>
            <a:avLst/>
            <a:gdLst/>
            <a:ahLst/>
            <a:rect l="l" t="t" r="r" b="b"/>
            <a:pathLst>
              <a:path w="328" h="328">
                <a:moveTo>
                  <a:pt x="0" y="145"/>
                </a:moveTo>
                <a:cubicBezTo>
                  <a:pt x="9" y="142"/>
                  <a:pt x="27" y="148"/>
                  <a:pt x="52" y="128"/>
                </a:cubicBezTo>
                <a:cubicBezTo>
                  <a:pt x="77" y="108"/>
                  <a:pt x="117" y="0"/>
                  <a:pt x="152" y="25"/>
                </a:cubicBezTo>
                <a:cubicBezTo>
                  <a:pt x="187" y="50"/>
                  <a:pt x="235" y="232"/>
                  <a:pt x="264" y="280"/>
                </a:cubicBezTo>
                <a:cubicBezTo>
                  <a:pt x="293" y="328"/>
                  <a:pt x="315" y="306"/>
                  <a:pt x="328" y="313"/>
                </a:cubicBezTo>
              </a:path>
            </a:pathLst>
          </a:custGeom>
          <a:noFill/>
          <a:ln w="6480">
            <a:solidFill>
              <a:srgbClr val="ff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371760" y="1517760"/>
            <a:ext cx="4027680" cy="129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371760" y="2965320"/>
            <a:ext cx="402768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7000" y="1746360"/>
            <a:ext cx="941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456440" y="3962520"/>
            <a:ext cx="5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T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517800" y="3941640"/>
            <a:ext cx="56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3692520" y="3062160"/>
            <a:ext cx="2098800" cy="89856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6550200" y="3193920"/>
            <a:ext cx="479160" cy="6480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93600" y="76320"/>
            <a:ext cx="3189240" cy="419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120" y="-190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354480" y="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354840" y="13971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354480" y="289548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15:00:56Z</dcterms:created>
  <dc:creator>Robert PASCAL</dc:creator>
  <dc:description/>
  <dc:language>en-US</dc:language>
  <cp:lastModifiedBy>Robert PASCAL</cp:lastModifiedBy>
  <dcterms:modified xsi:type="dcterms:W3CDTF">2009-05-15T07:04:33Z</dcterms:modified>
  <cp:revision>9</cp:revision>
  <dc:subject/>
  <dc:title>Présentation PowerPoint</dc:title>
</cp:coreProperties>
</file>