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81A-48CD-4479-AA70-48FDBAF7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838F-E783-46F6-947D-286E7782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976D-94A1-4B7B-8C92-1425BCDD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B9A-2A30-4E26-906E-8742B6AC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0C3-52C6-410A-B2A5-37A65F8A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24E-D22C-468F-88FC-803ACBF1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5B3-235C-41D3-875C-108FB970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1CF-8F4E-47CF-96F2-A6267D2F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320-9951-429F-83CB-481B0AA1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F78-06FA-4F2E-B0CA-F344DD6A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B9E-9A1C-42F4-95F4-A222A0B9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6A8-37D3-410A-80D0-E80A9E79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BD38-5F5B-4BD0-84A9-526B907CD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706840" y="527040"/>
            <a:ext cx="3406680" cy="5721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rryAndHall-McKim_Fig1_1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079960" y="635004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3422520" cy="572148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rryAndHall-McKim_Fig1_1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079960" y="635004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1415880" y="914400"/>
            <a:ext cx="6058080" cy="50497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rryAndHall-McKim_Fig1_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079960" y="635004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094200" y="2360520"/>
            <a:ext cx="2955600" cy="21369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rryAndHall-McKim_Fig1_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079960" y="635004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0:11:57Z</dcterms:created>
  <dc:creator>StephenKumar, SampathKumar</dc:creator>
  <dc:description/>
  <dc:language>en-US</dc:language>
  <cp:lastModifiedBy>StephenKumar, SampathKumar</cp:lastModifiedBy>
  <dcterms:modified xsi:type="dcterms:W3CDTF">2018-07-03T11:30:08Z</dcterms:modified>
  <cp:revision>2</cp:revision>
  <dc:subject/>
  <dc:title>PowerPoint Presentation</dc:title>
</cp:coreProperties>
</file>