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0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1425-0B1F-4B45-AC9D-08D6A4B2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17E-6C20-41D7-8454-CD6E058D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5AA0-6FB0-4EB6-A105-39142721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05EF-179E-4116-ACC5-7AEE4ED0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E39-9AB2-4BE5-B304-393A780A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8BC-8152-40E4-9832-D5D79BDD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984-184C-4607-92BD-EF84A217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0D1-6DA8-44EC-9560-BDEE1372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56DE-742F-4CE4-ACA0-C4F775AE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87A-97C4-420F-AFF7-9A26ACF7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4E21-ED9B-4B3F-B7FE-66DEF3BE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3C2-4905-4889-B788-458E6EDE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F51B-7DBF-41F8-9B06-F36A23E0095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24080" y="2739960"/>
            <a:ext cx="2895840" cy="1378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240000" y="2712960"/>
            <a:ext cx="2664000" cy="14320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238560" y="2717640"/>
            <a:ext cx="2666880" cy="1422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066760" y="2666880"/>
            <a:ext cx="5010480" cy="152424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3240000" y="2762280"/>
            <a:ext cx="2664000" cy="133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3238560" y="2762280"/>
            <a:ext cx="2666880" cy="133344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2066760" y="2759040"/>
            <a:ext cx="5010480" cy="133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5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3432240" y="2800440"/>
            <a:ext cx="2279520" cy="125712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5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3236760" y="2652840"/>
            <a:ext cx="2670480" cy="1552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3978360" y="2568600"/>
            <a:ext cx="1187280" cy="17208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513160" y="1503360"/>
            <a:ext cx="4117680" cy="3851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343320" y="2610000"/>
            <a:ext cx="2457360" cy="163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716280" y="2725560"/>
            <a:ext cx="1711440" cy="140688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2800440" y="2522520"/>
            <a:ext cx="3543120" cy="1812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2867040" y="2422440"/>
            <a:ext cx="3409920" cy="2013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3467160" y="2268360"/>
            <a:ext cx="2209680" cy="23212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3473280" y="2733840"/>
            <a:ext cx="2197440" cy="1390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2873520" y="2593800"/>
            <a:ext cx="3396960" cy="16704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871720" y="2419200"/>
            <a:ext cx="3400560" cy="20196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871720" y="2219400"/>
            <a:ext cx="3400560" cy="24192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2871720" y="2217600"/>
            <a:ext cx="3400560" cy="24228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871720" y="2238480"/>
            <a:ext cx="3400560" cy="2381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3843360" y="2695680"/>
            <a:ext cx="1457280" cy="1466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897280" y="2249640"/>
            <a:ext cx="3349440" cy="23587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3040200" y="2671920"/>
            <a:ext cx="3063600" cy="1514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3409920" y="2076480"/>
            <a:ext cx="2324160" cy="2705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2859120" y="2446200"/>
            <a:ext cx="3425760" cy="1965600"/>
          </a:xfrm>
          <a:prstGeom prst="rect">
            <a:avLst/>
          </a:prstGeom>
          <a:ln w="0">
            <a:noFill/>
          </a:ln>
        </p:spPr>
      </p:pic>
      <p:sp>
        <p:nvSpPr>
          <p:cNvPr id="13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2065320" y="2751120"/>
            <a:ext cx="5013360" cy="13557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2071800" y="2751120"/>
            <a:ext cx="5000400" cy="13557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2052720" y="2670120"/>
            <a:ext cx="5038560" cy="15177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4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2873520" y="2238480"/>
            <a:ext cx="3396960" cy="23810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4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2868480" y="2446200"/>
            <a:ext cx="3407040" cy="19656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"/>
          <p:cNvPicPr/>
          <p:nvPr/>
        </p:nvPicPr>
        <p:blipFill>
          <a:blip r:embed="rId1"/>
          <a:stretch/>
        </p:blipFill>
        <p:spPr>
          <a:xfrm>
            <a:off x="3067200" y="2673360"/>
            <a:ext cx="3009600" cy="15112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200400" y="2705040"/>
            <a:ext cx="274320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624120" y="2577960"/>
            <a:ext cx="1895760" cy="1702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3813120" y="2162160"/>
            <a:ext cx="1517760" cy="25336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3833640" y="2239920"/>
            <a:ext cx="1476720" cy="23781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"/>
          <p:cNvPicPr/>
          <p:nvPr/>
        </p:nvPicPr>
        <p:blipFill>
          <a:blip r:embed="rId1"/>
          <a:stretch/>
        </p:blipFill>
        <p:spPr>
          <a:xfrm>
            <a:off x="2820960" y="2206800"/>
            <a:ext cx="3502080" cy="2444400"/>
          </a:xfrm>
          <a:prstGeom prst="rect">
            <a:avLst/>
          </a:prstGeom>
          <a:ln w="0">
            <a:noFill/>
          </a:ln>
        </p:spPr>
      </p:pic>
      <p:sp>
        <p:nvSpPr>
          <p:cNvPr id="16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3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3787920" y="2162160"/>
            <a:ext cx="1568160" cy="25336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3836880" y="2487600"/>
            <a:ext cx="1470240" cy="1882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3743280" y="2573280"/>
            <a:ext cx="1657440" cy="17114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"/>
          <p:cNvPicPr/>
          <p:nvPr/>
        </p:nvPicPr>
        <p:blipFill>
          <a:blip r:embed="rId1"/>
          <a:stretch/>
        </p:blipFill>
        <p:spPr>
          <a:xfrm>
            <a:off x="3743280" y="2573280"/>
            <a:ext cx="1657440" cy="17114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3743280" y="2573280"/>
            <a:ext cx="1657440" cy="17114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3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3743280" y="2573280"/>
            <a:ext cx="1657440" cy="1711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3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3865680" y="2698920"/>
            <a:ext cx="1412640" cy="1460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tretch/>
        </p:blipFill>
        <p:spPr>
          <a:xfrm>
            <a:off x="3743280" y="2573280"/>
            <a:ext cx="1657440" cy="17114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1"/>
          <a:stretch/>
        </p:blipFill>
        <p:spPr>
          <a:xfrm>
            <a:off x="3533760" y="2460600"/>
            <a:ext cx="2076480" cy="19368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3551400" y="2478240"/>
            <a:ext cx="2041200" cy="19015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6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3554280" y="2482920"/>
            <a:ext cx="2035440" cy="18921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46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3427560" y="2444760"/>
            <a:ext cx="2288880" cy="19684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3398760" y="2801880"/>
            <a:ext cx="2346480" cy="12542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2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1" descr=""/>
          <p:cNvPicPr/>
          <p:nvPr/>
        </p:nvPicPr>
        <p:blipFill>
          <a:blip r:embed="rId1"/>
          <a:stretch/>
        </p:blipFill>
        <p:spPr>
          <a:xfrm>
            <a:off x="3398760" y="2795760"/>
            <a:ext cx="2346480" cy="12664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2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3828960" y="2508120"/>
            <a:ext cx="1486080" cy="18417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3805200" y="2666880"/>
            <a:ext cx="1533600" cy="15242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3236760" y="2652840"/>
            <a:ext cx="2670480" cy="15523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3527280" y="2336760"/>
            <a:ext cx="2089440" cy="2184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2631960" y="2690640"/>
            <a:ext cx="3880080" cy="14767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3666960" y="2546280"/>
            <a:ext cx="1810080" cy="17654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" descr=""/>
          <p:cNvPicPr/>
          <p:nvPr/>
        </p:nvPicPr>
        <p:blipFill>
          <a:blip r:embed="rId1"/>
          <a:stretch/>
        </p:blipFill>
        <p:spPr>
          <a:xfrm>
            <a:off x="3567240" y="2403360"/>
            <a:ext cx="2009520" cy="205128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8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3567240" y="2406600"/>
            <a:ext cx="2009520" cy="20448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8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"/>
          <p:cNvPicPr/>
          <p:nvPr/>
        </p:nvPicPr>
        <p:blipFill>
          <a:blip r:embed="rId1"/>
          <a:stretch/>
        </p:blipFill>
        <p:spPr>
          <a:xfrm>
            <a:off x="3753000" y="2500200"/>
            <a:ext cx="1638000" cy="18576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9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"/>
          <p:cNvPicPr/>
          <p:nvPr/>
        </p:nvPicPr>
        <p:blipFill>
          <a:blip r:embed="rId1"/>
          <a:stretch/>
        </p:blipFill>
        <p:spPr>
          <a:xfrm>
            <a:off x="3753000" y="2508120"/>
            <a:ext cx="1638000" cy="18417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9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3755880" y="2228760"/>
            <a:ext cx="1632240" cy="240048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10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3319560" y="2171880"/>
            <a:ext cx="2504880" cy="2514600"/>
          </a:xfrm>
          <a:prstGeom prst="rect">
            <a:avLst/>
          </a:prstGeom>
          <a:ln w="0">
            <a:noFill/>
          </a:ln>
        </p:spPr>
      </p:pic>
      <p:sp>
        <p:nvSpPr>
          <p:cNvPr id="24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p10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308400" y="2597040"/>
            <a:ext cx="2527200" cy="1663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3308400" y="2595600"/>
            <a:ext cx="2527200" cy="1666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3238560" y="2711520"/>
            <a:ext cx="2666880" cy="14349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Lubarda_Fig7_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3"/>
          <p:cNvSpPr/>
          <p:nvPr/>
        </p:nvSpPr>
        <p:spPr>
          <a:xfrm>
            <a:off x="5460840" y="635004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Arial"/>
              </a:rPr>
              <a:t>© Cambridge University Press 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9:24:58Z</dcterms:created>
  <dc:creator>StephenKumar, SampathKumar</dc:creator>
  <dc:description/>
  <dc:language>en-US</dc:language>
  <cp:lastModifiedBy>StephenKumar, SampathKumar</cp:lastModifiedBy>
  <dcterms:modified xsi:type="dcterms:W3CDTF">2020-06-04T10:15:33Z</dcterms:modified>
  <cp:revision>2</cp:revision>
  <dc:subject/>
  <dc:title>PowerPoint Presentation</dc:title>
</cp:coreProperties>
</file>