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A3F-72E3-4876-9265-37AFEB8E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FF8-4F10-4D1F-803F-B73F28A6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242-49B8-4BFE-BFBA-AAAB61D4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D50-463B-419C-8B9B-D0168001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A1C-E210-4322-8C55-0DE8481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169-14FB-4209-8A81-EDD19D7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A05-63D2-4BD3-B85E-710893D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BAB-DF47-4E3B-9B06-958F1539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C0A-1039-4550-88F3-F40BF096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3A3-2BDF-4AB1-9237-DA1CCDD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218-012F-41B4-8F0B-A29619B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495-EC01-4C3E-9E78-FEBCA65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DDE-4A57-4763-90F4-33EF88B18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11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11_Page_10" descr=""/>
          <p:cNvPicPr/>
          <p:nvPr/>
        </p:nvPicPr>
        <p:blipFill>
          <a:blip r:embed="rId1"/>
          <a:stretch/>
        </p:blipFill>
        <p:spPr>
          <a:xfrm>
            <a:off x="2481120" y="2646360"/>
            <a:ext cx="41799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11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11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11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11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11_Page_1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11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11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11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11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11_Page_05" descr=""/>
          <p:cNvPicPr/>
          <p:nvPr/>
        </p:nvPicPr>
        <p:blipFill>
          <a:blip r:embed="rId1"/>
          <a:stretch/>
        </p:blipFill>
        <p:spPr>
          <a:xfrm>
            <a:off x="2287440" y="2684520"/>
            <a:ext cx="45691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11_Page_06" descr=""/>
          <p:cNvPicPr/>
          <p:nvPr/>
        </p:nvPicPr>
        <p:blipFill>
          <a:blip r:embed="rId1"/>
          <a:stretch/>
        </p:blipFill>
        <p:spPr>
          <a:xfrm>
            <a:off x="2287440" y="2527200"/>
            <a:ext cx="4569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11_Page_07" descr=""/>
          <p:cNvPicPr/>
          <p:nvPr/>
        </p:nvPicPr>
        <p:blipFill>
          <a:blip r:embed="rId1"/>
          <a:stretch/>
        </p:blipFill>
        <p:spPr>
          <a:xfrm>
            <a:off x="2287440" y="2550960"/>
            <a:ext cx="4569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11_Page_08" descr=""/>
          <p:cNvPicPr/>
          <p:nvPr/>
        </p:nvPicPr>
        <p:blipFill>
          <a:blip r:embed="rId1"/>
          <a:stretch/>
        </p:blipFill>
        <p:spPr>
          <a:xfrm>
            <a:off x="2441520" y="2565360"/>
            <a:ext cx="42609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11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2:26Z</dcterms:created>
  <dc:creator>durgas</dc:creator>
  <dc:description/>
  <dc:language>en-US</dc:language>
  <cp:lastModifiedBy>durgas</cp:lastModifiedBy>
  <dcterms:modified xsi:type="dcterms:W3CDTF">2006-03-24T12:08:04Z</dcterms:modified>
  <cp:revision>2</cp:revision>
  <dc:subject/>
  <dc:title>PowerPoint Presentation</dc:title>
</cp:coreProperties>
</file>