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792A-F61A-4D4A-9A21-9366F617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5F2C-09EB-43B4-B7B2-65154FBF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1667-2666-4018-9454-19963B74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A2A9-2F5E-4D53-851B-C61D58C2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825E-ADF0-402C-8FAC-A38495DC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21F9-E8E0-48F8-994C-1A92952B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BB7A-2DC2-404F-B77C-0A1AAC59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A57A-D128-4464-9028-49EC4F4D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91FC-2744-40FD-BDE7-55E1602C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88C6-C806-4B54-98EC-E6F6FED1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295F-8A5A-44C7-B912-C3CB859E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B5E5-C7A8-40EA-8AFA-7D698568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36B1-060B-45DB-96F4-89AEE209B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08_Page_01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h08_Page_10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h08_Page_11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h08_Page_1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h08_Page_13" descr=""/>
          <p:cNvPicPr/>
          <p:nvPr/>
        </p:nvPicPr>
        <p:blipFill>
          <a:blip r:embed="rId1"/>
          <a:stretch/>
        </p:blipFill>
        <p:spPr>
          <a:xfrm>
            <a:off x="2287440" y="2465280"/>
            <a:ext cx="456912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h08_Page_14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h08_Page_15" descr=""/>
          <p:cNvPicPr/>
          <p:nvPr/>
        </p:nvPicPr>
        <p:blipFill>
          <a:blip r:embed="rId1"/>
          <a:stretch/>
        </p:blipFill>
        <p:spPr>
          <a:xfrm>
            <a:off x="2286000" y="2038320"/>
            <a:ext cx="45705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08_Page_16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h08_Page_17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h08_Page_18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08_Page_19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h08_Page_0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h08_Page_20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h08_Page_21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08_Page_2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h08_Page_23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h08_Page_24" descr=""/>
          <p:cNvPicPr/>
          <p:nvPr/>
        </p:nvPicPr>
        <p:blipFill>
          <a:blip r:embed="rId1"/>
          <a:stretch/>
        </p:blipFill>
        <p:spPr>
          <a:xfrm>
            <a:off x="2397240" y="2316240"/>
            <a:ext cx="43480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Ch08_Page_25" descr=""/>
          <p:cNvPicPr/>
          <p:nvPr/>
        </p:nvPicPr>
        <p:blipFill>
          <a:blip r:embed="rId1"/>
          <a:stretch/>
        </p:blipFill>
        <p:spPr>
          <a:xfrm>
            <a:off x="2374920" y="2627280"/>
            <a:ext cx="439416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08_Page_26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h08_Page_03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h08_Page_04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h08_Page_05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08_Page_06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h08_Page_07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h08_Page_08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08_Page_09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08:14:25Z</dcterms:created>
  <dc:creator>durgas</dc:creator>
  <dc:description/>
  <dc:language>en-US</dc:language>
  <cp:lastModifiedBy>durgas</cp:lastModifiedBy>
  <dcterms:modified xsi:type="dcterms:W3CDTF">2006-03-24T08:14:32Z</dcterms:modified>
  <cp:revision>1</cp:revision>
  <dc:subject/>
  <dc:title>PowerPoint Presentation</dc:title>
</cp:coreProperties>
</file>