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FAF-A57E-4A38-B248-B68E205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DBF-98B7-4017-B7BE-B3D6DD02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0C3-975F-4CAA-A2B5-ADC16730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6AD-A467-4FE8-BD25-928FFB97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EBB-7AD3-4024-9EB6-B476476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2B6-7AAF-4D12-B960-02A4AEE1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B44-B3CC-4E7E-BC67-5CB7F431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384-21D6-410A-ACDD-F251375C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1CB-A457-41E6-9307-A463D2A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9E1-8BEA-498C-AFF3-F8149EDD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2BB-C46E-4CCA-8129-001C73D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5FA-1EE8-4F6E-B48E-899FA79E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A50A-B5C8-47AA-BF8B-78AF7A70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9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9_Page_10" descr=""/>
          <p:cNvPicPr/>
          <p:nvPr/>
        </p:nvPicPr>
        <p:blipFill>
          <a:blip r:embed="rId1"/>
          <a:stretch/>
        </p:blipFill>
        <p:spPr>
          <a:xfrm>
            <a:off x="2284560" y="1819440"/>
            <a:ext cx="4573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9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9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09_Page_1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09_Page_1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09_Page_1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09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h09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09_Page_1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09_Page_1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9_Page_02" descr=""/>
          <p:cNvPicPr/>
          <p:nvPr/>
        </p:nvPicPr>
        <p:blipFill>
          <a:blip r:embed="rId1"/>
          <a:stretch/>
        </p:blipFill>
        <p:spPr>
          <a:xfrm>
            <a:off x="2286000" y="2128680"/>
            <a:ext cx="45705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09_Page_2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09_Page_2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09_Page_2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09_Page_2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09_Page_2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09_Page_2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9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9_Page_04" descr=""/>
          <p:cNvPicPr/>
          <p:nvPr/>
        </p:nvPicPr>
        <p:blipFill>
          <a:blip r:embed="rId1"/>
          <a:stretch/>
        </p:blipFill>
        <p:spPr>
          <a:xfrm>
            <a:off x="2286000" y="2295360"/>
            <a:ext cx="45720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9_Page_05" descr=""/>
          <p:cNvPicPr/>
          <p:nvPr/>
        </p:nvPicPr>
        <p:blipFill>
          <a:blip r:embed="rId1"/>
          <a:stretch/>
        </p:blipFill>
        <p:spPr>
          <a:xfrm>
            <a:off x="2284560" y="1116000"/>
            <a:ext cx="457344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9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9_Page_07" descr=""/>
          <p:cNvPicPr/>
          <p:nvPr/>
        </p:nvPicPr>
        <p:blipFill>
          <a:blip r:embed="rId1"/>
          <a:stretch/>
        </p:blipFill>
        <p:spPr>
          <a:xfrm>
            <a:off x="2286000" y="1865160"/>
            <a:ext cx="4572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9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9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8:09:37Z</dcterms:created>
  <dc:creator>durgas</dc:creator>
  <dc:description/>
  <dc:language>en-US</dc:language>
  <cp:lastModifiedBy>durgas</cp:lastModifiedBy>
  <dcterms:modified xsi:type="dcterms:W3CDTF">2006-03-24T08:10:00Z</dcterms:modified>
  <cp:revision>1</cp:revision>
  <dc:subject/>
  <dc:title>PowerPoint Presentation</dc:title>
</cp:coreProperties>
</file>