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EB3-F58D-424A-9FD6-3F13E7A6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70D-C336-4511-B258-D7B53BE9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594-0816-415F-B72B-ED92B9C2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8C2-7465-42FC-A87B-5CE6E820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EF8-969E-434E-9820-9D95F471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769-3C43-43BC-8B41-77D580C1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F2B-E91B-47EB-BB66-90D9C03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36D-6914-4F27-940F-F9FC2734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DA4-DCA9-47DA-9888-5543D0A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C89-A8F8-4DCA-A5BD-25325F3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B4A-66D9-41B2-9B47-EAD7248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7E4-5FB5-43B5-A701-7512586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A1E7-0940-4C8C-8203-A3D318F0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ges%20from%20Fig%20with%20caption-4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ages%20from%20Fig%20with%20caption-4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ges%20from%20Fig%20with%20caption-4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ges%20from%20Fig%20with%20caption-4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ges%20from%20Fig%20with%20caption-4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ges%20from%20Fig%20with%20caption-4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ges%20from%20Fig%20with%20caption-4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ges%20from%20Fig%20with%20caption-4_Page_0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ges%20from%20Fig%20with%20caption-4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ges%20from%20Fig%20with%20caption-4_Page_0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ges%20from%20Fig%20with%20caption-4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ges%20from%20Fig%20with%20caption-4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8:18:10Z</dcterms:created>
  <dc:creator>durgas</dc:creator>
  <dc:description/>
  <dc:language>en-US</dc:language>
  <cp:lastModifiedBy>durgas</cp:lastModifiedBy>
  <dcterms:modified xsi:type="dcterms:W3CDTF">2006-03-24T08:18:17Z</dcterms:modified>
  <cp:revision>1</cp:revision>
  <dc:subject/>
  <dc:title>PowerPoint Presentation</dc:title>
</cp:coreProperties>
</file>