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png" ContentType="image/png"/>
  <Override PartName="/ppt/media/image12.png" ContentType="image/png"/>
  <Override PartName="/ppt/media/image9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7790D-A49B-4A1C-BE0C-E730B0586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CEB64-E7EB-413F-BDB6-E794735F6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99D95-6498-4832-9B36-6BE588265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703FD-278B-4F67-8833-28F8673E8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9A8BA-472E-4EAE-8C5F-894EE882C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690FC-C9C8-4FE9-8E51-3482E5120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5D709-2A1D-4A4E-9E0A-463383501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1863A-C1F8-4B76-B615-5118444B6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3248F-E82A-462E-8813-5F9938049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8E122-2A6D-46BB-90AC-D0C3D2A16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F28BC-7641-437C-A3F2-C50225CC4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48ACF-ED7A-4E60-B565-3DFBECD65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84228-69F5-414D-8264-E11F597DDD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Ch05_Page_01" descr="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Ch05_Page_10" descr="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Ch05_Page_11" descr=""/>
          <p:cNvPicPr/>
          <p:nvPr/>
        </p:nvPicPr>
        <p:blipFill>
          <a:blip r:embed="rId1"/>
          <a:stretch/>
        </p:blipFill>
        <p:spPr>
          <a:xfrm>
            <a:off x="2286000" y="2176560"/>
            <a:ext cx="4572000" cy="25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Ch05_Page_12" descr="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Ch05_Page_02" descr="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Ch05_Page_03" descr="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Ch05_Page_04" descr="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Ch05_Page_05" descr=""/>
          <p:cNvPicPr/>
          <p:nvPr/>
        </p:nvPicPr>
        <p:blipFill>
          <a:blip r:embed="rId1"/>
          <a:stretch/>
        </p:blipFill>
        <p:spPr>
          <a:xfrm>
            <a:off x="2286000" y="2101680"/>
            <a:ext cx="4572000" cy="265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Ch05_Page_06" descr=""/>
          <p:cNvPicPr/>
          <p:nvPr/>
        </p:nvPicPr>
        <p:blipFill>
          <a:blip r:embed="rId1"/>
          <a:stretch/>
        </p:blipFill>
        <p:spPr>
          <a:xfrm>
            <a:off x="2286000" y="2036880"/>
            <a:ext cx="4570560" cy="278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Ch05_Page_07" descr="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Ch05_Page_08" descr="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Ch05_Page_09" descr="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4T07:57:35Z</dcterms:created>
  <dc:creator>durgas</dc:creator>
  <dc:description/>
  <dc:language>en-US</dc:language>
  <cp:lastModifiedBy>durgas</cp:lastModifiedBy>
  <dcterms:modified xsi:type="dcterms:W3CDTF">2006-03-24T07:57:42Z</dcterms:modified>
  <cp:revision>1</cp:revision>
  <dc:subject/>
  <dc:title>PowerPoint Presentation</dc:title>
</cp:coreProperties>
</file>