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9FA-4967-4CA7-AE19-0BFA005A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E97-6D5D-4D04-A250-007EA29E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66A-4234-4281-9845-3D9BC7B9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92A-1A63-4447-856B-11F148D5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7E2-6225-49AD-B6A8-0C515B5F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84B-773F-4970-BACE-194C87F3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806-D772-4B08-B6A0-2AE0DD64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F49-8AA4-4087-8EBE-4DE66DB4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CE7-B343-4CCC-A9E1-A8A89F1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D5F-7860-4B5D-9938-4C0C2F1F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957-A392-4228-A1F6-50FDEEE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968-CD6E-4476-816A-1D5BE446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9AB8-F673-4C19-A571-29A12E706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10_Page_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10_Page_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10_Page_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10_Page_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10_Page_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10_Page_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10_Page_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7:54:07Z</dcterms:created>
  <dc:creator>durgas</dc:creator>
  <dc:description/>
  <dc:language>en-US</dc:language>
  <cp:lastModifiedBy>durgas</cp:lastModifiedBy>
  <dcterms:modified xsi:type="dcterms:W3CDTF">2006-03-24T07:54:16Z</dcterms:modified>
  <cp:revision>1</cp:revision>
  <dc:subject/>
  <dc:title>PowerPoint Presentation</dc:title>
</cp:coreProperties>
</file>