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259-8A1C-4F79-8AAA-EC1B73B6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2927-7F12-477C-8112-92CEDE91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9CB-5E2C-44DF-A88E-B84A9E1A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8A51-3609-4F31-8441-0E13BA0B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287-1434-4C39-B730-5D73A1B4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990-1EAC-4A4A-9679-69C87919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F08-CD8C-4DF6-82A6-2B769AD1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6A23-7B3F-4798-A7D2-48F31DE3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4D2-24BB-4CBB-A4A7-40B46A48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CCC5-ED29-47BE-A0E6-C5135442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0F2-4E29-46A6-B4DB-ECC71175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37B-BACA-41AE-93CB-C94CBDFA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0D98-47CB-420C-B0E7-43A94B1B1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01_Page_01" descr=""/>
          <p:cNvPicPr/>
          <p:nvPr/>
        </p:nvPicPr>
        <p:blipFill>
          <a:blip r:embed="rId1"/>
          <a:stretch/>
        </p:blipFill>
        <p:spPr>
          <a:xfrm>
            <a:off x="2948040" y="876240"/>
            <a:ext cx="3246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h01_Page_10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h01_Page_1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h01_Page_1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h01_Page_1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h01_Page_1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h01_Page_15" descr=""/>
          <p:cNvPicPr/>
          <p:nvPr/>
        </p:nvPicPr>
        <p:blipFill>
          <a:blip r:embed="rId1"/>
          <a:stretch/>
        </p:blipFill>
        <p:spPr>
          <a:xfrm>
            <a:off x="2292480" y="2687760"/>
            <a:ext cx="45576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01_Page_16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h01_Page_17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h01_Page_18" descr=""/>
          <p:cNvPicPr/>
          <p:nvPr/>
        </p:nvPicPr>
        <p:blipFill>
          <a:blip r:embed="rId1"/>
          <a:stretch/>
        </p:blipFill>
        <p:spPr>
          <a:xfrm>
            <a:off x="2286000" y="2550960"/>
            <a:ext cx="457056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01_Page_19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h01_Page_02" descr=""/>
          <p:cNvPicPr/>
          <p:nvPr/>
        </p:nvPicPr>
        <p:blipFill>
          <a:blip r:embed="rId1"/>
          <a:stretch/>
        </p:blipFill>
        <p:spPr>
          <a:xfrm>
            <a:off x="2286000" y="2138400"/>
            <a:ext cx="45720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h01_Page_20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h01_Page_2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01_Page_2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h01_Page_2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h01_Page_24" descr=""/>
          <p:cNvPicPr/>
          <p:nvPr/>
        </p:nvPicPr>
        <p:blipFill>
          <a:blip r:embed="rId1"/>
          <a:stretch/>
        </p:blipFill>
        <p:spPr>
          <a:xfrm>
            <a:off x="2851200" y="2470320"/>
            <a:ext cx="344160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h01_Page_25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01_Page_26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h01_Page_27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h01_Page_28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h01_Page_29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h01_Page_0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h01_Page_30" descr=""/>
          <p:cNvPicPr/>
          <p:nvPr/>
        </p:nvPicPr>
        <p:blipFill>
          <a:blip r:embed="rId1"/>
          <a:stretch/>
        </p:blipFill>
        <p:spPr>
          <a:xfrm>
            <a:off x="2894040" y="2386080"/>
            <a:ext cx="33559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h01_Page_3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01_Page_3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h01_Page_33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h01_Page_0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h01_Page_05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01_Page_06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h01_Page_07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01_Page_08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01_Page_09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05:51:45Z</dcterms:created>
  <dc:creator>durgas</dc:creator>
  <dc:description/>
  <dc:language>en-US</dc:language>
  <cp:lastModifiedBy>durgas</cp:lastModifiedBy>
  <dcterms:modified xsi:type="dcterms:W3CDTF">2006-03-24T11:37:25Z</dcterms:modified>
  <cp:revision>3</cp:revision>
  <dc:subject/>
  <dc:title>PowerPoint Presentation</dc:title>
</cp:coreProperties>
</file>