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AD1-B44B-4FB7-B22D-44DC07DC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669-7E41-4AA5-8C6B-529E371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285-D31B-463F-A920-F72A00CA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797-C984-4EC8-A0CC-066A4FF2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58E-F223-4DAA-A865-350C50C1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8B5-A5CC-474F-B789-9A196A7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141-24F8-4905-A4C9-4E87F251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A75-7FAE-4F9F-A0B4-27BD839C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624-C01D-43E5-916A-0741992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871-0A27-4DBD-8F29-423D99C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33B-3B5A-4BD6-BD77-79D284B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25A-09C0-478E-B62C-143F4A2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0E18-DAD3-407D-97D3-9CAF817C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4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4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4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4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4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4_Page_14" descr=""/>
          <p:cNvPicPr/>
          <p:nvPr/>
        </p:nvPicPr>
        <p:blipFill>
          <a:blip r:embed="rId1"/>
          <a:stretch/>
        </p:blipFill>
        <p:spPr>
          <a:xfrm>
            <a:off x="2282760" y="2297160"/>
            <a:ext cx="4576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4_Page_1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4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4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4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4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4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4_Page_20" descr=""/>
          <p:cNvPicPr/>
          <p:nvPr/>
        </p:nvPicPr>
        <p:blipFill>
          <a:blip r:embed="rId1"/>
          <a:stretch/>
        </p:blipFill>
        <p:spPr>
          <a:xfrm>
            <a:off x="2286000" y="1886040"/>
            <a:ext cx="4570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4_Page_21" descr=""/>
          <p:cNvPicPr/>
          <p:nvPr/>
        </p:nvPicPr>
        <p:blipFill>
          <a:blip r:embed="rId1"/>
          <a:stretch/>
        </p:blipFill>
        <p:spPr>
          <a:xfrm>
            <a:off x="2286000" y="2013120"/>
            <a:ext cx="457056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4_Page_22" descr=""/>
          <p:cNvPicPr/>
          <p:nvPr/>
        </p:nvPicPr>
        <p:blipFill>
          <a:blip r:embed="rId1"/>
          <a:stretch/>
        </p:blipFill>
        <p:spPr>
          <a:xfrm>
            <a:off x="2286000" y="1862280"/>
            <a:ext cx="457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4_Page_2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4_Page_2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4_Page_2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04_Page_2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h04_Page_2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h04_Page_2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04_Page_2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4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h04_Page_3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h04_Page_3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04_Page_3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04_Page_3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04_Page_3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h04_Page_3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h04_Page_3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04_Page_3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h04_Page_3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04_Page_3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4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h04_Page_4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h04_Page_4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h04_Page_4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h04_Page_4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h04_Page_4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04_Page_4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04_Page_4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h04_Page_4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h04_Page_4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h04_Page_4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4_Page_0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h04_Page_5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h04_Page_5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h04_Page_5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h04_Page_5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h04_Page_5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4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4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4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4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8:43:38Z</dcterms:created>
  <dc:creator>durgas</dc:creator>
  <dc:description/>
  <dc:language>en-US</dc:language>
  <cp:lastModifiedBy>durgas</cp:lastModifiedBy>
  <dcterms:modified xsi:type="dcterms:W3CDTF">2006-03-24T09:08:49Z</dcterms:modified>
  <cp:revision>2</cp:revision>
  <dc:subject/>
  <dc:title>PowerPoint Presentation</dc:title>
</cp:coreProperties>
</file>