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121A-43F3-4C53-9B9E-A9B6EE574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72E2-0515-4900-A2CF-74A15540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B763-BA16-47A6-9913-DD101A4AB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233F-47A1-4D72-BD6B-79F761660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5541-D40B-4931-889E-7806AD27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367F-92AC-4AEA-8DB9-C688332D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A57F-1D2F-45E5-8E57-67CCB53E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114D-D0F7-4470-B374-B5B0B0B0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3487-B115-433B-93AF-AF6F0254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F7C2-1872-46AD-B57F-3687C097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5056-2BA5-4578-B128-30D57C16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774B-2307-4F61-9D91-FE8B4A38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30E8-F473-488C-87E1-80B7EFE44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03_Page_01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h03_Page_10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h03_Page_11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h03_Page_12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h03_Page_13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h03_Page_14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h03_Page_15" descr=""/>
          <p:cNvPicPr/>
          <p:nvPr/>
        </p:nvPicPr>
        <p:blipFill>
          <a:blip r:embed="rId1"/>
          <a:stretch/>
        </p:blipFill>
        <p:spPr>
          <a:xfrm>
            <a:off x="2286000" y="2314440"/>
            <a:ext cx="457056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03_Page_16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Ch03_Page_17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h03_Page_18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03_Page_19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h03_Page_02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h03_Page_20" descr=""/>
          <p:cNvPicPr/>
          <p:nvPr/>
        </p:nvPicPr>
        <p:blipFill>
          <a:blip r:embed="rId1"/>
          <a:stretch/>
        </p:blipFill>
        <p:spPr>
          <a:xfrm>
            <a:off x="2751120" y="830160"/>
            <a:ext cx="3641760" cy="51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h03_Page_21" descr=""/>
          <p:cNvPicPr/>
          <p:nvPr/>
        </p:nvPicPr>
        <p:blipFill>
          <a:blip r:embed="rId1"/>
          <a:stretch/>
        </p:blipFill>
        <p:spPr>
          <a:xfrm>
            <a:off x="3290760" y="2503440"/>
            <a:ext cx="256068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03_Page_22" descr=""/>
          <p:cNvPicPr/>
          <p:nvPr/>
        </p:nvPicPr>
        <p:blipFill>
          <a:blip r:embed="rId1"/>
          <a:stretch/>
        </p:blipFill>
        <p:spPr>
          <a:xfrm>
            <a:off x="3290760" y="2508120"/>
            <a:ext cx="256068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h03_Page_23" descr=""/>
          <p:cNvPicPr/>
          <p:nvPr/>
        </p:nvPicPr>
        <p:blipFill>
          <a:blip r:embed="rId1"/>
          <a:stretch/>
        </p:blipFill>
        <p:spPr>
          <a:xfrm>
            <a:off x="3286080" y="2490840"/>
            <a:ext cx="257004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Ch03_Page_24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Ch03_Page_25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h03_Page_03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h03_Page_04" descr=""/>
          <p:cNvPicPr/>
          <p:nvPr/>
        </p:nvPicPr>
        <p:blipFill>
          <a:blip r:embed="rId1"/>
          <a:stretch/>
        </p:blipFill>
        <p:spPr>
          <a:xfrm>
            <a:off x="2287440" y="2390760"/>
            <a:ext cx="45691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h03_Page_05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03_Page_06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h03_Page_07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h03_Page_08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03_Page_09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4T07:47:32Z</dcterms:created>
  <dc:creator>durgas</dc:creator>
  <dc:description/>
  <dc:language>en-US</dc:language>
  <cp:lastModifiedBy>durgas</cp:lastModifiedBy>
  <dcterms:modified xsi:type="dcterms:W3CDTF">2006-03-24T07:47:42Z</dcterms:modified>
  <cp:revision>1</cp:revision>
  <dc:subject/>
  <dc:title>PowerPoint Presentation</dc:title>
</cp:coreProperties>
</file>