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06DF-AB08-41DF-9B7E-AA2127F6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9A45-2B92-4AB1-AF3F-E9BA34EF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A1AF-FE78-48EE-A4E2-BEDC3098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74F6-0493-4A63-BBCC-800A9E34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9839-B0E4-4EC1-A9BC-322BF626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090A-AB69-45FF-9F92-F834A452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E0E7-5A16-42DC-B3EC-14A25921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5B15-834E-4091-8828-F3529DE1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BF70-202B-47BD-BAE3-12C25429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BD5-D5F9-4CEF-A6C4-E855A32D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09D2-5EA7-4FA2-B9C6-7DBB4ABD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3464-5175-47BA-88C1-2D8800BA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9A34-C2C2-4306-8595-DBEF0650A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07_Page_1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h07_Page_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h07_Page_3" descr=""/>
          <p:cNvPicPr/>
          <p:nvPr/>
        </p:nvPicPr>
        <p:blipFill>
          <a:blip r:embed="rId1"/>
          <a:stretch/>
        </p:blipFill>
        <p:spPr>
          <a:xfrm>
            <a:off x="2286000" y="2197080"/>
            <a:ext cx="457200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h07_Page_4" descr=""/>
          <p:cNvPicPr/>
          <p:nvPr/>
        </p:nvPicPr>
        <p:blipFill>
          <a:blip r:embed="rId1"/>
          <a:stretch/>
        </p:blipFill>
        <p:spPr>
          <a:xfrm>
            <a:off x="2287440" y="2305080"/>
            <a:ext cx="45691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h07_Page_5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07_Page_6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08:15:51Z</dcterms:created>
  <dc:creator>durgas</dc:creator>
  <dc:description/>
  <dc:language>en-US</dc:language>
  <cp:lastModifiedBy>durgas</cp:lastModifiedBy>
  <dcterms:modified xsi:type="dcterms:W3CDTF">2006-03-24T08:15:58Z</dcterms:modified>
  <cp:revision>1</cp:revision>
  <dc:subject/>
  <dc:title>PowerPoint Presentation</dc:title>
</cp:coreProperties>
</file>