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FFE-1D5C-4F33-B949-97D81216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36E-7F64-421F-925F-4A34C20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FE1-26A5-4EA3-BD61-6B154257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F5C-D36A-4CB8-8230-D37C467B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0AF-D3B0-4C3F-80F5-4C3D144F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A27-4ECB-4EDB-ACA5-B0604852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484-A064-41DF-861E-39D43CC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860-EBE0-4CD6-975A-AF78676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09F-B72F-4DEC-B81B-90FA847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63C-B974-4099-92D2-53F3911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F42-B10F-4665-BE71-ED31821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968-26EC-4B6F-A7C5-300DE0C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EDCC-19E7-46CD-95AB-DD77E10E8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11_Page_17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11_Page_18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11_Page_19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h11_Page_20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2:08:21Z</dcterms:created>
  <dc:creator>durgas</dc:creator>
  <dc:description/>
  <dc:language>en-US</dc:language>
  <cp:lastModifiedBy>durgas</cp:lastModifiedBy>
  <dcterms:modified xsi:type="dcterms:W3CDTF">2006-03-24T12:08:39Z</dcterms:modified>
  <cp:revision>1</cp:revision>
  <dc:subject/>
  <dc:title>PowerPoint Presentation</dc:title>
</cp:coreProperties>
</file>