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57FB-CDA7-4CF5-AA1F-5E4913549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83D2-A52E-4B80-B4E5-4A6B9C07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eminar talk presented in 2007 at the Woods Hole Oceanographic Institute in Woods Hole 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7A6-EAC7-4E53-93FC-C575AAF9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D87-D77C-4A3E-81D6-96B25C18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571-3D75-407D-BD1D-90642525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DBFB-7EA4-48BE-9E20-30CB6ABA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5F5-DD5B-4B59-A1F9-B123A544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1CA-9C8A-4B87-A051-485FB2A1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C75-4598-4EB2-9F0A-2D6A0B88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DC79-F9BE-4001-ACF4-528893FD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23F-026E-4ED5-8F37-0A3F59C4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B73A-1818-4607-A325-695006A8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CD3-9123-47CA-9018-22C32965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1EF8-411A-4064-BBFB-8BD5C200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F01-75A9-4942-8B65-69021C11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D45-2B17-46C2-8A10-CD8AE33D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382-4BE5-4924-91A0-02D1B13D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183-7F9D-42EC-89CA-B12BB8A74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6A06-0BA9-4634-B43C-0D21E4B5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0AF-2C8B-49F8-A40C-4035CE46A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E21-708C-499E-A839-31E11651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06C6-9F31-4198-B4A8-9B1D302D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00A7-A711-4588-B43D-C9860644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9A8-06C7-4BB7-A95B-080E7196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96B-91BF-4F0F-A618-9976666FC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0D86-6668-47FB-A4B1-202D43EB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7333-EDB4-4B19-8FBE-C826C80C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D0B-17FD-4912-8044-F73C6C779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5B4F-E7B1-4C64-B987-6150973B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3F7-BF83-47D3-9F87-E7F4F822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E09-C66B-43E4-A498-E2598D57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A7-5CF8-4F01-A2DA-5C55440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F52-B1BF-4930-8B96-61E6E3B2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39B-5420-441C-9AA9-EBF7168D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03B-DBC7-4B1F-8E2E-4E49C4B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5E4-CD04-4AA8-904B-BA33A4C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DBB-6DFB-4085-AE41-45FEB850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7B9-0CCE-4B44-A58A-5DC7A06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4F3-5638-4E69-980F-DA57AC5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302-15A6-4484-8094-997C0B7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6A3-A630-44D3-9010-3ADCCA50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89E-CFA8-4E68-AA77-AFF7AB2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5B2C-919C-4AE2-8EC3-793D408CE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8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2.png"/><Relationship Id="rId3" Type="http://schemas.openxmlformats.org/officeDocument/2006/relationships/image" Target="../media/image3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9E8C-BA79-4E06-8AF0-E5183954B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erse Scattering and Diffraction Tomography in Complex Medi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80000" y="1349280"/>
            <a:ext cx="499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30240" y="2960640"/>
            <a:ext cx="7254720" cy="329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Examples of inverse scattering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mportance of multiple scat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Potential scatter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Lippmann Schwinger integr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or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orn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Born inversion in homogeneous media from plane wave scatte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ar fiel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near field data—Filtered Back Propagatio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Born inversion in complex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imple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AC0-61F4-482C-A9F6-871BD81E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attering Amplitu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300320" y="4572000"/>
            <a:ext cx="619596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oundary value of the spatial Fourier transform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uced source on a sphere of radius k 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wald spher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tretch/>
        </p:blipFill>
        <p:spPr>
          <a:xfrm>
            <a:off x="1790640" y="1536840"/>
            <a:ext cx="4942080" cy="866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743200" y="3073320"/>
            <a:ext cx="4056120" cy="478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2565360" y="3835440"/>
            <a:ext cx="4114800" cy="6001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3429000" y="2527200"/>
            <a:ext cx="2932200" cy="4683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1370880" y="251460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uced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1460160" y="5334120"/>
            <a:ext cx="57920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verse Source Problem: Estimate induced sour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nverse Scattering Problem: Estimate object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39480" y="12063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on-linear functional of 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422360" y="1676520"/>
            <a:ext cx="57168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301680" y="33354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inear functional of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1612800" y="3759120"/>
            <a:ext cx="8510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7B1-84F1-4583-9F79-65E7A2A1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n-uniqueness--Non-radiating Sourc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266760" y="1257480"/>
            <a:ext cx="8653320" cy="1176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2679840" y="2590920"/>
            <a:ext cx="3404880" cy="720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36" name="Text Box 5"/>
          <p:cNvSpPr/>
          <p:nvPr/>
        </p:nvSpPr>
        <p:spPr>
          <a:xfrm>
            <a:off x="264240" y="3559320"/>
            <a:ext cx="84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verse source problem does not possess a uniqu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nverse scattering problem for a single experiment does not possess a uniqu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529640" y="4521240"/>
            <a:ext cx="64353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Use multiple experiments to exclude N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375560" y="5211720"/>
            <a:ext cx="67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fficult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ach induced source depends on the (unkn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nal field--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n-linear character of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B308-8826-4506-B4A9-512ECD24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hematical Structure of Inverse Scatter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"/>
          <p:cNvPicPr/>
          <p:nvPr/>
        </p:nvPicPr>
        <p:blipFill>
          <a:blip r:embed="rId2"/>
          <a:stretch/>
        </p:blipFill>
        <p:spPr>
          <a:xfrm>
            <a:off x="4013280" y="1974960"/>
            <a:ext cx="1511280" cy="552240"/>
          </a:xfrm>
          <a:prstGeom prst="rect">
            <a:avLst/>
          </a:prstGeom>
          <a:ln w="0">
            <a:noFill/>
          </a:ln>
        </p:spPr>
      </p:pic>
      <p:sp>
        <p:nvSpPr>
          <p:cNvPr id="445" name="Line 7"/>
          <p:cNvSpPr/>
          <p:nvPr/>
        </p:nvSpPr>
        <p:spPr>
          <a:xfrm>
            <a:off x="3060720" y="1866960"/>
            <a:ext cx="9399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704520" y="1460520"/>
            <a:ext cx="50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linear operator (Lippmann Schwinger eq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877000" y="14731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1"/>
          <p:cNvSpPr/>
          <p:nvPr/>
        </p:nvSpPr>
        <p:spPr>
          <a:xfrm flipH="1">
            <a:off x="5549400" y="2031840"/>
            <a:ext cx="6606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6230880" y="18288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2143080" y="2427120"/>
            <a:ext cx="53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Use physics to derive model and lineariz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14" descr=""/>
          <p:cNvPicPr/>
          <p:nvPr/>
        </p:nvPicPr>
        <p:blipFill>
          <a:blip r:embed="rId3"/>
          <a:stretch/>
        </p:blipFill>
        <p:spPr>
          <a:xfrm>
            <a:off x="5549760" y="2847960"/>
            <a:ext cx="1511280" cy="5968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5"/>
          <p:cNvSpPr/>
          <p:nvPr/>
        </p:nvSpPr>
        <p:spPr>
          <a:xfrm>
            <a:off x="1127880" y="292104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operator (Born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4915080" y="3086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17" descr=""/>
          <p:cNvPicPr/>
          <p:nvPr/>
        </p:nvPicPr>
        <p:blipFill>
          <a:blip r:embed="rId4"/>
          <a:stretch/>
        </p:blipFill>
        <p:spPr>
          <a:xfrm>
            <a:off x="4100400" y="3808440"/>
            <a:ext cx="1806840" cy="5605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8"/>
          <p:cNvSpPr/>
          <p:nvPr/>
        </p:nvSpPr>
        <p:spPr>
          <a:xfrm>
            <a:off x="2319480" y="334152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m normal equations for least squares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9"/>
          <p:cNvSpPr/>
          <p:nvPr/>
        </p:nvSpPr>
        <p:spPr>
          <a:xfrm flipH="1">
            <a:off x="4711680" y="1739880"/>
            <a:ext cx="11937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1137600" y="38862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ield Back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1" descr=""/>
          <p:cNvPicPr/>
          <p:nvPr/>
        </p:nvPicPr>
        <p:blipFill>
          <a:blip r:embed="rId5"/>
          <a:stretch/>
        </p:blipFill>
        <p:spPr>
          <a:xfrm>
            <a:off x="4125960" y="4762440"/>
            <a:ext cx="4141800" cy="5335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2"/>
          <p:cNvSpPr/>
          <p:nvPr/>
        </p:nvSpPr>
        <p:spPr>
          <a:xfrm>
            <a:off x="1007280" y="439596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mpute pseudo-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616320" y="48006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tered backpropag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1890720" y="5359320"/>
            <a:ext cx="516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uccessful procedure require coupling of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physics and 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7259760" y="37479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26"/>
          <p:cNvSpPr/>
          <p:nvPr/>
        </p:nvSpPr>
        <p:spPr>
          <a:xfrm flipH="1">
            <a:off x="7556040" y="4280040"/>
            <a:ext cx="26676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7"/>
          <p:cNvSpPr/>
          <p:nvPr/>
        </p:nvSpPr>
        <p:spPr>
          <a:xfrm>
            <a:off x="6375240" y="4660920"/>
            <a:ext cx="30492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5315760" y="431964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F73-1C76-4A8F-946A-2062E3317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orn Approxim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2376360" y="2390760"/>
            <a:ext cx="5300640" cy="623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2278080" y="3048120"/>
            <a:ext cx="5232240" cy="679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2603520" y="4321080"/>
            <a:ext cx="3773520" cy="6843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473" name="Text Box 8"/>
          <p:cNvSpPr/>
          <p:nvPr/>
        </p:nvSpPr>
        <p:spPr>
          <a:xfrm>
            <a:off x="1207080" y="5145120"/>
            <a:ext cx="65376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undary value of the spatial Fourier transform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 function on a set of spheres of radius k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Ewald sphe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9" descr=""/>
          <p:cNvPicPr/>
          <p:nvPr/>
        </p:nvPicPr>
        <p:blipFill>
          <a:blip r:embed="rId4"/>
          <a:stretch/>
        </p:blipFill>
        <p:spPr>
          <a:xfrm>
            <a:off x="1287360" y="1141560"/>
            <a:ext cx="6539040" cy="129996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0"/>
          <p:cNvSpPr/>
          <p:nvPr/>
        </p:nvSpPr>
        <p:spPr>
          <a:xfrm>
            <a:off x="2178000" y="582948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eneralized Projection-Slice Theorem in 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2800080" y="374796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Linear functional of O 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O=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482760" y="2552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e space B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0" y="44449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ier based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64C-1AA1-4CEF-83D7-21707DA24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ee Space Born Inverse Scatter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1355760" y="1171440"/>
            <a:ext cx="6557760" cy="6462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2"/>
          <p:cNvSpPr/>
          <p:nvPr/>
        </p:nvSpPr>
        <p:spPr>
          <a:xfrm>
            <a:off x="5722920" y="16574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wald 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54"/>
          <p:cNvGrpSpPr/>
          <p:nvPr/>
        </p:nvGrpSpPr>
        <p:grpSpPr>
          <a:xfrm>
            <a:off x="194040" y="2158920"/>
            <a:ext cx="4302360" cy="2063880"/>
            <a:chOff x="194040" y="2158920"/>
            <a:chExt cx="4302360" cy="2063880"/>
          </a:xfrm>
        </p:grpSpPr>
        <p:sp>
          <p:nvSpPr>
            <p:cNvPr id="486" name="Text Box 19"/>
            <p:cNvSpPr/>
            <p:nvPr/>
          </p:nvSpPr>
          <p:spPr>
            <a:xfrm>
              <a:off x="2444040" y="215892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20"/>
            <p:cNvSpPr/>
            <p:nvPr/>
          </p:nvSpPr>
          <p:spPr>
            <a:xfrm>
              <a:off x="194040" y="217800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ck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815760" y="3773520"/>
              <a:ext cx="5569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1816200" y="3079800"/>
              <a:ext cx="1030320" cy="700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4"/>
            <p:cNvSpPr/>
            <p:nvPr/>
          </p:nvSpPr>
          <p:spPr>
            <a:xfrm flipV="1">
              <a:off x="1320840" y="3638160"/>
              <a:ext cx="60948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>
              <a:off x="2865600" y="2693880"/>
              <a:ext cx="502920" cy="1201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6"/>
            <p:cNvSpPr/>
            <p:nvPr/>
          </p:nvSpPr>
          <p:spPr>
            <a:xfrm flipV="1">
              <a:off x="3054240" y="3011040"/>
              <a:ext cx="6876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7"/>
            <p:cNvSpPr/>
            <p:nvPr/>
          </p:nvSpPr>
          <p:spPr>
            <a:xfrm flipV="1">
              <a:off x="2933640" y="2607840"/>
              <a:ext cx="4906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3046320" y="3603600"/>
              <a:ext cx="66996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>
              <a:off x="1193760" y="2792520"/>
              <a:ext cx="469800" cy="14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 flipH="1" flipV="1">
              <a:off x="1233360" y="2727000"/>
              <a:ext cx="3873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3"/>
            <p:cNvSpPr/>
            <p:nvPr/>
          </p:nvSpPr>
          <p:spPr>
            <a:xfrm flipH="1" flipV="1">
              <a:off x="975960" y="3225600"/>
              <a:ext cx="6094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5"/>
            <p:cNvSpPr/>
            <p:nvPr/>
          </p:nvSpPr>
          <p:spPr>
            <a:xfrm>
              <a:off x="2281320" y="3448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26"/>
            <p:cNvSpPr/>
            <p:nvPr/>
          </p:nvSpPr>
          <p:spPr>
            <a:xfrm>
              <a:off x="4151160" y="32702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7"/>
            <p:cNvSpPr/>
            <p:nvPr/>
          </p:nvSpPr>
          <p:spPr>
            <a:xfrm flipV="1">
              <a:off x="2265480" y="2573280"/>
              <a:ext cx="0" cy="16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1" name="Picture 28" descr=""/>
            <p:cNvPicPr/>
            <p:nvPr/>
          </p:nvPicPr>
          <p:blipFill>
            <a:blip r:embed="rId2"/>
            <a:stretch/>
          </p:blipFill>
          <p:spPr>
            <a:xfrm>
              <a:off x="1641600" y="3827520"/>
              <a:ext cx="2062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Line 29"/>
            <p:cNvSpPr/>
            <p:nvPr/>
          </p:nvSpPr>
          <p:spPr>
            <a:xfrm>
              <a:off x="1440000" y="3681360"/>
              <a:ext cx="2491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Line 40"/>
          <p:cNvSpPr/>
          <p:nvPr/>
        </p:nvSpPr>
        <p:spPr>
          <a:xfrm flipV="1">
            <a:off x="6172200" y="2657160"/>
            <a:ext cx="0" cy="21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5"/>
          <p:cNvSpPr/>
          <p:nvPr/>
        </p:nvSpPr>
        <p:spPr>
          <a:xfrm>
            <a:off x="6643800" y="46483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miting 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4169160" y="44766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62"/>
          <p:cNvGrpSpPr/>
          <p:nvPr/>
        </p:nvGrpSpPr>
        <p:grpSpPr>
          <a:xfrm>
            <a:off x="5067360" y="2050920"/>
            <a:ext cx="3200400" cy="2724120"/>
            <a:chOff x="5067360" y="2050920"/>
            <a:chExt cx="3200400" cy="2724120"/>
          </a:xfrm>
        </p:grpSpPr>
        <p:sp>
          <p:nvSpPr>
            <p:cNvPr id="507" name="Line 32"/>
            <p:cNvSpPr/>
            <p:nvPr/>
          </p:nvSpPr>
          <p:spPr>
            <a:xfrm>
              <a:off x="6568920" y="2050920"/>
              <a:ext cx="0" cy="27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Group 61"/>
            <p:cNvGrpSpPr/>
            <p:nvPr/>
          </p:nvGrpSpPr>
          <p:grpSpPr>
            <a:xfrm>
              <a:off x="5067360" y="2317680"/>
              <a:ext cx="3200400" cy="2340000"/>
              <a:chOff x="5067360" y="2317680"/>
              <a:chExt cx="3200400" cy="2340000"/>
            </a:xfrm>
          </p:grpSpPr>
          <p:sp>
            <p:nvSpPr>
              <p:cNvPr id="509" name="Oval 36"/>
              <p:cNvSpPr/>
              <p:nvPr/>
            </p:nvSpPr>
            <p:spPr>
              <a:xfrm>
                <a:off x="5981760" y="2847960"/>
                <a:ext cx="1171440" cy="1171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35"/>
              <p:cNvSpPr/>
              <p:nvPr/>
            </p:nvSpPr>
            <p:spPr>
              <a:xfrm>
                <a:off x="5105520" y="3476520"/>
                <a:ext cx="316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7"/>
              <p:cNvSpPr/>
              <p:nvPr/>
            </p:nvSpPr>
            <p:spPr>
              <a:xfrm>
                <a:off x="5572080" y="3276720"/>
                <a:ext cx="1171800" cy="1171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39"/>
              <p:cNvSpPr/>
              <p:nvPr/>
            </p:nvSpPr>
            <p:spPr>
              <a:xfrm flipH="1" flipV="1">
                <a:off x="5619240" y="3666960"/>
                <a:ext cx="552600" cy="2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42"/>
              <p:cNvSpPr/>
              <p:nvPr/>
            </p:nvSpPr>
            <p:spPr>
              <a:xfrm>
                <a:off x="5416560" y="2317680"/>
                <a:ext cx="2295360" cy="229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43"/>
              <p:cNvSpPr/>
              <p:nvPr/>
            </p:nvSpPr>
            <p:spPr>
              <a:xfrm flipV="1">
                <a:off x="6578640" y="2895480"/>
                <a:ext cx="99072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44"/>
              <p:cNvSpPr/>
              <p:nvPr/>
            </p:nvSpPr>
            <p:spPr>
              <a:xfrm flipV="1">
                <a:off x="6566040" y="2936880"/>
                <a:ext cx="30456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Line 46"/>
              <p:cNvSpPr/>
              <p:nvPr/>
            </p:nvSpPr>
            <p:spPr>
              <a:xfrm flipH="1" flipV="1">
                <a:off x="7419960" y="4314960"/>
                <a:ext cx="4096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48"/>
              <p:cNvSpPr/>
              <p:nvPr/>
            </p:nvSpPr>
            <p:spPr>
              <a:xfrm flipV="1">
                <a:off x="5067360" y="4190760"/>
                <a:ext cx="5522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9"/>
              <p:cNvSpPr/>
              <p:nvPr/>
            </p:nvSpPr>
            <p:spPr>
              <a:xfrm>
                <a:off x="6548400" y="28670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50"/>
              <p:cNvSpPr/>
              <p:nvPr/>
            </p:nvSpPr>
            <p:spPr>
              <a:xfrm>
                <a:off x="7148520" y="30384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0" name="Picture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6288120" y="3666960"/>
                <a:ext cx="45252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Line 38"/>
              <p:cNvSpPr/>
              <p:nvPr/>
            </p:nvSpPr>
            <p:spPr>
              <a:xfrm flipH="1">
                <a:off x="6191280" y="3463920"/>
                <a:ext cx="39384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Picture 53" descr=""/>
              <p:cNvPicPr/>
              <p:nvPr/>
            </p:nvPicPr>
            <p:blipFill>
              <a:blip r:embed="rId4"/>
              <a:stretch/>
            </p:blipFill>
            <p:spPr>
              <a:xfrm>
                <a:off x="5802480" y="3514680"/>
                <a:ext cx="253800" cy="23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3" name="Picture 55" descr=""/>
          <p:cNvPicPr/>
          <p:nvPr/>
        </p:nvPicPr>
        <p:blipFill>
          <a:blip r:embed="rId5"/>
          <a:stretch/>
        </p:blipFill>
        <p:spPr>
          <a:xfrm>
            <a:off x="3494160" y="2584440"/>
            <a:ext cx="1003320" cy="330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6" descr=""/>
          <p:cNvPicPr/>
          <p:nvPr/>
        </p:nvPicPr>
        <p:blipFill>
          <a:blip r:embed="rId6"/>
          <a:stretch/>
        </p:blipFill>
        <p:spPr>
          <a:xfrm>
            <a:off x="276120" y="2849400"/>
            <a:ext cx="965160" cy="292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0" descr=""/>
          <p:cNvPicPr/>
          <p:nvPr/>
        </p:nvPicPr>
        <p:blipFill>
          <a:blip r:embed="rId7"/>
          <a:stretch/>
        </p:blipFill>
        <p:spPr>
          <a:xfrm>
            <a:off x="1857240" y="5113440"/>
            <a:ext cx="5249880" cy="8856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980-5FBD-4431-8021-0207FB7F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orn Inversion for Fixed Frequenc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269720" y="3693960"/>
            <a:ext cx="6228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sion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ourier interpol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lassical X-ray crystall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Filtered backpropag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diffraction tom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34800" y="3287880"/>
            <a:ext cx="850644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blem: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How to generate inversion from Fourier data on spheric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67280" y="5746680"/>
            <a:ext cx="82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ing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of data followed b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ed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7" descr=""/>
          <p:cNvPicPr/>
          <p:nvPr/>
        </p:nvPicPr>
        <p:blipFill>
          <a:blip r:embed="rId1"/>
          <a:stretch/>
        </p:blipFill>
        <p:spPr>
          <a:xfrm>
            <a:off x="938160" y="4830840"/>
            <a:ext cx="7218360" cy="9777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"/>
          <p:cNvPicPr/>
          <p:nvPr/>
        </p:nvPicPr>
        <p:blipFill>
          <a:blip r:embed="rId2"/>
          <a:stretch/>
        </p:blipFill>
        <p:spPr>
          <a:xfrm>
            <a:off x="4268880" y="1724040"/>
            <a:ext cx="4633920" cy="984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35" name="Line 30"/>
          <p:cNvSpPr/>
          <p:nvPr/>
        </p:nvSpPr>
        <p:spPr>
          <a:xfrm>
            <a:off x="2646360" y="10731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32"/>
          <p:cNvSpPr/>
          <p:nvPr/>
        </p:nvSpPr>
        <p:spPr>
          <a:xfrm>
            <a:off x="2197080" y="1684440"/>
            <a:ext cx="898560" cy="8985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1523880" y="216684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4"/>
          <p:cNvSpPr/>
          <p:nvPr/>
        </p:nvSpPr>
        <p:spPr>
          <a:xfrm>
            <a:off x="1882800" y="2013120"/>
            <a:ext cx="898560" cy="898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5"/>
          <p:cNvSpPr/>
          <p:nvPr/>
        </p:nvSpPr>
        <p:spPr>
          <a:xfrm flipH="1" flipV="1">
            <a:off x="1919160" y="2312640"/>
            <a:ext cx="4240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36"/>
          <p:cNvSpPr/>
          <p:nvPr/>
        </p:nvSpPr>
        <p:spPr>
          <a:xfrm>
            <a:off x="1763640" y="1278000"/>
            <a:ext cx="1760760" cy="17604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7"/>
          <p:cNvSpPr/>
          <p:nvPr/>
        </p:nvSpPr>
        <p:spPr>
          <a:xfrm flipV="1">
            <a:off x="2654280" y="1720440"/>
            <a:ext cx="7603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8"/>
          <p:cNvSpPr/>
          <p:nvPr/>
        </p:nvSpPr>
        <p:spPr>
          <a:xfrm flipV="1">
            <a:off x="2644920" y="1752480"/>
            <a:ext cx="23328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1"/>
          <p:cNvSpPr/>
          <p:nvPr/>
        </p:nvSpPr>
        <p:spPr>
          <a:xfrm>
            <a:off x="2631960" y="169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2"/>
          <p:cNvSpPr/>
          <p:nvPr/>
        </p:nvSpPr>
        <p:spPr>
          <a:xfrm>
            <a:off x="3092400" y="183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43" descr=""/>
          <p:cNvPicPr/>
          <p:nvPr/>
        </p:nvPicPr>
        <p:blipFill>
          <a:blip r:embed="rId3"/>
          <a:stretch/>
        </p:blipFill>
        <p:spPr>
          <a:xfrm>
            <a:off x="2432160" y="2313000"/>
            <a:ext cx="345960" cy="182520"/>
          </a:xfrm>
          <a:prstGeom prst="rect">
            <a:avLst/>
          </a:prstGeom>
          <a:ln w="0">
            <a:noFill/>
          </a:ln>
        </p:spPr>
      </p:pic>
      <p:sp>
        <p:nvSpPr>
          <p:cNvPr id="546" name="Line 44"/>
          <p:cNvSpPr/>
          <p:nvPr/>
        </p:nvSpPr>
        <p:spPr>
          <a:xfrm flipH="1">
            <a:off x="2357280" y="2157480"/>
            <a:ext cx="30168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5" descr=""/>
          <p:cNvPicPr/>
          <p:nvPr/>
        </p:nvPicPr>
        <p:blipFill>
          <a:blip r:embed="rId4"/>
          <a:stretch/>
        </p:blipFill>
        <p:spPr>
          <a:xfrm>
            <a:off x="2058840" y="2195640"/>
            <a:ext cx="19548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89E-05E9-4450-BF47-765590AD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ar Field Dat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4064040" y="1420920"/>
            <a:ext cx="4881600" cy="574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"/>
          <p:cNvPicPr/>
          <p:nvPr/>
        </p:nvPicPr>
        <p:blipFill>
          <a:blip r:embed="rId2"/>
          <a:stretch/>
        </p:blipFill>
        <p:spPr>
          <a:xfrm>
            <a:off x="4137120" y="2452680"/>
            <a:ext cx="4151160" cy="10144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oup 14"/>
          <p:cNvGrpSpPr/>
          <p:nvPr/>
        </p:nvGrpSpPr>
        <p:grpSpPr>
          <a:xfrm>
            <a:off x="369720" y="1631880"/>
            <a:ext cx="3346200" cy="1452240"/>
            <a:chOff x="369720" y="1631880"/>
            <a:chExt cx="3346200" cy="1452240"/>
          </a:xfrm>
        </p:grpSpPr>
        <p:sp>
          <p:nvSpPr>
            <p:cNvPr id="555" name="Freeform 5"/>
            <p:cNvSpPr/>
            <p:nvPr/>
          </p:nvSpPr>
          <p:spPr>
            <a:xfrm>
              <a:off x="1442880" y="2136960"/>
              <a:ext cx="1434960" cy="6800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2958480" y="1631880"/>
              <a:ext cx="515520" cy="13262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7"/>
            <p:cNvSpPr/>
            <p:nvPr/>
          </p:nvSpPr>
          <p:spPr>
            <a:xfrm flipV="1">
              <a:off x="3147840" y="1883880"/>
              <a:ext cx="5680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"/>
            <p:cNvSpPr/>
            <p:nvPr/>
          </p:nvSpPr>
          <p:spPr>
            <a:xfrm>
              <a:off x="2958480" y="2642040"/>
              <a:ext cx="69480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Picture 9" descr=""/>
            <p:cNvPicPr/>
            <p:nvPr/>
          </p:nvPicPr>
          <p:blipFill>
            <a:blip r:embed="rId3"/>
            <a:stretch/>
          </p:blipFill>
          <p:spPr>
            <a:xfrm>
              <a:off x="811800" y="2579040"/>
              <a:ext cx="2523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Line 10"/>
            <p:cNvSpPr/>
            <p:nvPr/>
          </p:nvSpPr>
          <p:spPr>
            <a:xfrm flipV="1">
              <a:off x="369720" y="2389320"/>
              <a:ext cx="94716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>
              <a:off x="432720" y="2010600"/>
              <a:ext cx="287640" cy="10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2099520" y="2330280"/>
              <a:ext cx="612720" cy="2552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" name="Picture 13" descr=""/>
            <p:cNvPicPr/>
            <p:nvPr/>
          </p:nvPicPr>
          <p:blipFill>
            <a:blip r:embed="rId4"/>
            <a:stretch/>
          </p:blipFill>
          <p:spPr>
            <a:xfrm>
              <a:off x="2074320" y="1757880"/>
              <a:ext cx="663120" cy="43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" name="Line 15"/>
          <p:cNvSpPr/>
          <p:nvPr/>
        </p:nvSpPr>
        <p:spPr>
          <a:xfrm>
            <a:off x="3971880" y="1038240"/>
            <a:ext cx="0" cy="266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16" descr=""/>
          <p:cNvPicPr/>
          <p:nvPr/>
        </p:nvPicPr>
        <p:blipFill>
          <a:blip r:embed="rId5"/>
          <a:stretch/>
        </p:blipFill>
        <p:spPr>
          <a:xfrm>
            <a:off x="1397160" y="3449520"/>
            <a:ext cx="5657760" cy="739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9"/>
          <p:cNvSpPr/>
          <p:nvPr/>
        </p:nvSpPr>
        <p:spPr>
          <a:xfrm>
            <a:off x="4185360" y="21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Weyl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21" descr=""/>
          <p:cNvPicPr/>
          <p:nvPr/>
        </p:nvPicPr>
        <p:blipFill>
          <a:blip r:embed="rId6"/>
          <a:stretch/>
        </p:blipFill>
        <p:spPr>
          <a:xfrm>
            <a:off x="1003320" y="4289400"/>
            <a:ext cx="7059600" cy="801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2" descr=""/>
          <p:cNvPicPr/>
          <p:nvPr/>
        </p:nvPicPr>
        <p:blipFill>
          <a:blip r:embed="rId7"/>
          <a:stretch/>
        </p:blipFill>
        <p:spPr>
          <a:xfrm>
            <a:off x="3421080" y="5068800"/>
            <a:ext cx="1977840" cy="384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"/>
          <p:cNvPicPr/>
          <p:nvPr/>
        </p:nvPicPr>
        <p:blipFill>
          <a:blip r:embed="rId8"/>
          <a:stretch/>
        </p:blipFill>
        <p:spPr>
          <a:xfrm>
            <a:off x="490680" y="5519880"/>
            <a:ext cx="4906800" cy="5936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570" name="AutoShape 24"/>
          <p:cNvSpPr/>
          <p:nvPr/>
        </p:nvSpPr>
        <p:spPr>
          <a:xfrm>
            <a:off x="5524560" y="5765760"/>
            <a:ext cx="469800" cy="190440"/>
          </a:xfrm>
          <a:prstGeom prst="rightArrow">
            <a:avLst>
              <a:gd name="adj1" fmla="val 50000"/>
              <a:gd name="adj2" fmla="val 6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6113880" y="5487840"/>
            <a:ext cx="277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ed 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1743-3334-4B13-AED7-49C40CAB8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23"/>
          <p:cNvSpPr/>
          <p:nvPr/>
        </p:nvSpPr>
        <p:spPr>
          <a:xfrm>
            <a:off x="1712880" y="1181160"/>
            <a:ext cx="4130640" cy="2260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tential Scattering Theory in Complex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"/>
          <p:cNvSpPr/>
          <p:nvPr/>
        </p:nvSpPr>
        <p:spPr>
          <a:xfrm>
            <a:off x="2666880" y="2057400"/>
            <a:ext cx="1731960" cy="8208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4495680" y="1447920"/>
            <a:ext cx="622440" cy="160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7"/>
          <p:cNvSpPr/>
          <p:nvPr/>
        </p:nvSpPr>
        <p:spPr>
          <a:xfrm flipV="1">
            <a:off x="4724280" y="17521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4495680" y="26668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9" descr=""/>
          <p:cNvPicPr/>
          <p:nvPr/>
        </p:nvPicPr>
        <p:blipFill>
          <a:blip r:embed="rId1"/>
          <a:stretch/>
        </p:blipFill>
        <p:spPr>
          <a:xfrm>
            <a:off x="5626080" y="1308240"/>
            <a:ext cx="2679840" cy="6253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2" descr=""/>
          <p:cNvPicPr/>
          <p:nvPr/>
        </p:nvPicPr>
        <p:blipFill>
          <a:blip r:embed="rId2"/>
          <a:stretch/>
        </p:blipFill>
        <p:spPr>
          <a:xfrm>
            <a:off x="558720" y="2921040"/>
            <a:ext cx="304920" cy="260280"/>
          </a:xfrm>
          <a:prstGeom prst="rect">
            <a:avLst/>
          </a:prstGeom>
          <a:ln w="0">
            <a:noFill/>
          </a:ln>
        </p:spPr>
      </p:pic>
      <p:sp>
        <p:nvSpPr>
          <p:cNvPr id="583" name="Line 13"/>
          <p:cNvSpPr/>
          <p:nvPr/>
        </p:nvSpPr>
        <p:spPr>
          <a:xfrm flipV="1">
            <a:off x="190440" y="2628720"/>
            <a:ext cx="11430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5"/>
          <p:cNvSpPr/>
          <p:nvPr/>
        </p:nvSpPr>
        <p:spPr>
          <a:xfrm>
            <a:off x="3459240" y="2290680"/>
            <a:ext cx="739800" cy="3081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6346800" y="23018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Objec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1" descr=""/>
          <p:cNvPicPr/>
          <p:nvPr/>
        </p:nvPicPr>
        <p:blipFill>
          <a:blip r:embed="rId3"/>
          <a:stretch/>
        </p:blipFill>
        <p:spPr>
          <a:xfrm>
            <a:off x="343080" y="1687680"/>
            <a:ext cx="1523880" cy="509400"/>
          </a:xfrm>
          <a:prstGeom prst="rect">
            <a:avLst/>
          </a:prstGeom>
          <a:ln w="0">
            <a:noFill/>
          </a:ln>
        </p:spPr>
      </p:pic>
      <p:sp>
        <p:nvSpPr>
          <p:cNvPr id="587" name="Line 22"/>
          <p:cNvSpPr/>
          <p:nvPr/>
        </p:nvSpPr>
        <p:spPr>
          <a:xfrm>
            <a:off x="825480" y="2349360"/>
            <a:ext cx="26676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4" descr=""/>
          <p:cNvPicPr/>
          <p:nvPr/>
        </p:nvPicPr>
        <p:blipFill>
          <a:blip r:embed="rId4"/>
          <a:stretch/>
        </p:blipFill>
        <p:spPr>
          <a:xfrm>
            <a:off x="0" y="3703680"/>
            <a:ext cx="4125960" cy="5238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5" descr=""/>
          <p:cNvPicPr/>
          <p:nvPr/>
        </p:nvPicPr>
        <p:blipFill>
          <a:blip r:embed="rId5"/>
          <a:stretch/>
        </p:blipFill>
        <p:spPr>
          <a:xfrm>
            <a:off x="4214880" y="3703680"/>
            <a:ext cx="4659120" cy="5522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6" descr=""/>
          <p:cNvPicPr/>
          <p:nvPr/>
        </p:nvPicPr>
        <p:blipFill>
          <a:blip r:embed="rId6"/>
          <a:stretch/>
        </p:blipFill>
        <p:spPr>
          <a:xfrm>
            <a:off x="5781600" y="2809800"/>
            <a:ext cx="3041640" cy="5986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7" descr=""/>
          <p:cNvPicPr/>
          <p:nvPr/>
        </p:nvPicPr>
        <p:blipFill>
          <a:blip r:embed="rId7"/>
          <a:stretch/>
        </p:blipFill>
        <p:spPr>
          <a:xfrm>
            <a:off x="1555920" y="5176800"/>
            <a:ext cx="5867280" cy="10828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8" descr=""/>
          <p:cNvPicPr/>
          <p:nvPr/>
        </p:nvPicPr>
        <p:blipFill>
          <a:blip r:embed="rId8"/>
          <a:stretch/>
        </p:blipFill>
        <p:spPr>
          <a:xfrm>
            <a:off x="2471760" y="4290840"/>
            <a:ext cx="3908520" cy="7956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1"/>
          <p:cNvSpPr/>
          <p:nvPr/>
        </p:nvSpPr>
        <p:spPr>
          <a:xfrm>
            <a:off x="389880" y="501984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ppmann Schwinger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9"/>
          <p:cNvSpPr/>
          <p:nvPr/>
        </p:nvSpPr>
        <p:spPr>
          <a:xfrm>
            <a:off x="1113120" y="9795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1854360" y="1409760"/>
            <a:ext cx="495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1"/>
          <p:cNvSpPr/>
          <p:nvPr/>
        </p:nvSpPr>
        <p:spPr>
          <a:xfrm>
            <a:off x="2765520" y="15620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2"/>
          <p:cNvSpPr/>
          <p:nvPr/>
        </p:nvSpPr>
        <p:spPr>
          <a:xfrm flipH="1">
            <a:off x="3631680" y="1892160"/>
            <a:ext cx="22860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3"/>
          <p:cNvSpPr/>
          <p:nvPr/>
        </p:nvSpPr>
        <p:spPr>
          <a:xfrm>
            <a:off x="541440" y="336564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 wave in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5495760" y="3365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99D-A84B-472B-BC66-8076CC20A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or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369000" y="3968640"/>
            <a:ext cx="84405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 mapping between incident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n-linear mapping between object profile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"/>
          <p:cNvPicPr/>
          <p:nvPr/>
        </p:nvPicPr>
        <p:blipFill>
          <a:blip r:embed="rId1"/>
          <a:stretch/>
        </p:blipFill>
        <p:spPr>
          <a:xfrm>
            <a:off x="1427040" y="3144960"/>
            <a:ext cx="5742000" cy="6886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606" name="Picture 8" descr=""/>
          <p:cNvPicPr/>
          <p:nvPr/>
        </p:nvPicPr>
        <p:blipFill>
          <a:blip r:embed="rId2"/>
          <a:stretch/>
        </p:blipFill>
        <p:spPr>
          <a:xfrm>
            <a:off x="2762280" y="1558800"/>
            <a:ext cx="3216240" cy="7272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9"/>
          <p:cNvSpPr/>
          <p:nvPr/>
        </p:nvSpPr>
        <p:spPr>
          <a:xfrm>
            <a:off x="2721600" y="110664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ppmann Schwinger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5851440" y="4952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1"/>
          <p:cNvGrpSpPr/>
          <p:nvPr/>
        </p:nvGrpSpPr>
        <p:grpSpPr>
          <a:xfrm>
            <a:off x="1672920" y="4991040"/>
            <a:ext cx="6447240" cy="1015920"/>
            <a:chOff x="1672920" y="4991040"/>
            <a:chExt cx="6447240" cy="1015920"/>
          </a:xfrm>
        </p:grpSpPr>
        <p:pic>
          <p:nvPicPr>
            <p:cNvPr id="610" name="Picture 12" descr=""/>
            <p:cNvPicPr/>
            <p:nvPr/>
          </p:nvPicPr>
          <p:blipFill>
            <a:blip r:embed="rId3"/>
            <a:stretch/>
          </p:blipFill>
          <p:spPr>
            <a:xfrm>
              <a:off x="3949560" y="5454720"/>
              <a:ext cx="151128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Line 13"/>
            <p:cNvSpPr/>
            <p:nvPr/>
          </p:nvSpPr>
          <p:spPr>
            <a:xfrm>
              <a:off x="2997000" y="5346720"/>
              <a:ext cx="939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>
              <a:off x="1672920" y="49910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linea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 flipH="1">
              <a:off x="5486400" y="5511600"/>
              <a:ext cx="660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6"/>
            <p:cNvSpPr/>
            <p:nvPr/>
          </p:nvSpPr>
          <p:spPr>
            <a:xfrm>
              <a:off x="6167160" y="530856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ttered fiel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7"/>
            <p:cNvSpPr/>
            <p:nvPr/>
          </p:nvSpPr>
          <p:spPr>
            <a:xfrm flipH="1">
              <a:off x="4647960" y="5219640"/>
              <a:ext cx="11937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6" name="Picture 18" descr=""/>
          <p:cNvPicPr/>
          <p:nvPr/>
        </p:nvPicPr>
        <p:blipFill>
          <a:blip r:embed="rId4"/>
          <a:stretch/>
        </p:blipFill>
        <p:spPr>
          <a:xfrm>
            <a:off x="3076560" y="2174760"/>
            <a:ext cx="2595600" cy="873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9" descr=""/>
          <p:cNvPicPr/>
          <p:nvPr/>
        </p:nvPicPr>
        <p:blipFill>
          <a:blip r:embed="rId5"/>
          <a:stretch/>
        </p:blipFill>
        <p:spPr>
          <a:xfrm>
            <a:off x="5870520" y="968400"/>
            <a:ext cx="3041640" cy="598320"/>
          </a:xfrm>
          <a:prstGeom prst="rect">
            <a:avLst/>
          </a:prstGeom>
          <a:ln w="0">
            <a:noFill/>
          </a:ln>
        </p:spPr>
      </p:pic>
      <p:sp>
        <p:nvSpPr>
          <p:cNvPr id="618" name="Line 20"/>
          <p:cNvSpPr/>
          <p:nvPr/>
        </p:nvSpPr>
        <p:spPr>
          <a:xfrm flipH="1">
            <a:off x="5524200" y="1409760"/>
            <a:ext cx="40644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5990760" y="210816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22"/>
          <p:cNvSpPr/>
          <p:nvPr/>
        </p:nvSpPr>
        <p:spPr>
          <a:xfrm flipH="1">
            <a:off x="5549760" y="2324160"/>
            <a:ext cx="33048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3"/>
          <p:cNvSpPr/>
          <p:nvPr/>
        </p:nvSpPr>
        <p:spPr>
          <a:xfrm flipH="1" flipV="1">
            <a:off x="5257800" y="2082960"/>
            <a:ext cx="55872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223920" y="14097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 wave in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5"/>
          <p:cNvSpPr/>
          <p:nvPr/>
        </p:nvSpPr>
        <p:spPr>
          <a:xfrm>
            <a:off x="3111480" y="1638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987-ADE0-46D7-A7B9-4C4A5A1B1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hematical Structure of Inverse Scattering in Complex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2"/>
          <a:stretch/>
        </p:blipFill>
        <p:spPr>
          <a:xfrm>
            <a:off x="4013280" y="1974960"/>
            <a:ext cx="1511280" cy="552240"/>
          </a:xfrm>
          <a:prstGeom prst="rect">
            <a:avLst/>
          </a:prstGeom>
          <a:ln w="0">
            <a:noFill/>
          </a:ln>
        </p:spPr>
      </p:pic>
      <p:sp>
        <p:nvSpPr>
          <p:cNvPr id="630" name="Line 7"/>
          <p:cNvSpPr/>
          <p:nvPr/>
        </p:nvSpPr>
        <p:spPr>
          <a:xfrm>
            <a:off x="3060720" y="1866960"/>
            <a:ext cx="9399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704520" y="1460520"/>
            <a:ext cx="50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linear operator (Lippmann Schwinger eq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5877000" y="14731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0"/>
          <p:cNvSpPr/>
          <p:nvPr/>
        </p:nvSpPr>
        <p:spPr>
          <a:xfrm flipH="1">
            <a:off x="5549400" y="2031840"/>
            <a:ext cx="6606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6230880" y="18288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1495440" y="2427120"/>
            <a:ext cx="60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ew Green function, incident wave and objec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3" descr=""/>
          <p:cNvPicPr/>
          <p:nvPr/>
        </p:nvPicPr>
        <p:blipFill>
          <a:blip r:embed="rId3"/>
          <a:stretch/>
        </p:blipFill>
        <p:spPr>
          <a:xfrm>
            <a:off x="5549760" y="2847960"/>
            <a:ext cx="1511280" cy="5968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14"/>
          <p:cNvSpPr/>
          <p:nvPr/>
        </p:nvSpPr>
        <p:spPr>
          <a:xfrm>
            <a:off x="-3960" y="290844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operator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torted 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rn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5"/>
          <p:cNvSpPr/>
          <p:nvPr/>
        </p:nvSpPr>
        <p:spPr>
          <a:xfrm>
            <a:off x="5156280" y="31114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4"/>
          <a:stretch/>
        </p:blipFill>
        <p:spPr>
          <a:xfrm>
            <a:off x="4100400" y="3808440"/>
            <a:ext cx="1806840" cy="5605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7"/>
          <p:cNvSpPr/>
          <p:nvPr/>
        </p:nvSpPr>
        <p:spPr>
          <a:xfrm>
            <a:off x="2319480" y="334152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m normal equations for least squares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8"/>
          <p:cNvSpPr/>
          <p:nvPr/>
        </p:nvSpPr>
        <p:spPr>
          <a:xfrm flipH="1">
            <a:off x="4711680" y="1739880"/>
            <a:ext cx="11937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1137600" y="38862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ield Back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20" descr=""/>
          <p:cNvPicPr/>
          <p:nvPr/>
        </p:nvPicPr>
        <p:blipFill>
          <a:blip r:embed="rId5"/>
          <a:stretch/>
        </p:blipFill>
        <p:spPr>
          <a:xfrm>
            <a:off x="4125960" y="4762440"/>
            <a:ext cx="4141800" cy="5335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1"/>
          <p:cNvSpPr/>
          <p:nvPr/>
        </p:nvSpPr>
        <p:spPr>
          <a:xfrm>
            <a:off x="3598200" y="431964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mpute pseudo-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616320" y="48006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tered backpropag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1786320" y="5829480"/>
            <a:ext cx="53744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verything goes through for complex background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7183440" y="40784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5"/>
          <p:cNvSpPr/>
          <p:nvPr/>
        </p:nvSpPr>
        <p:spPr>
          <a:xfrm flipH="1">
            <a:off x="7454880" y="4444920"/>
            <a:ext cx="2541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4696560" y="528480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7"/>
          <p:cNvSpPr/>
          <p:nvPr/>
        </p:nvSpPr>
        <p:spPr>
          <a:xfrm flipV="1">
            <a:off x="6438960" y="5181120"/>
            <a:ext cx="24120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355-07DD-42FE-AAFE-FC7503B43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lems Addressed by Inverse Scattering and D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69" name="Line 14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9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0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21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8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rc 29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rc 30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4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5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39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95" name="Freeform 40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5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6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47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103" name="Line 48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49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50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51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52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53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54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Text Box 55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58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114" name="Freeform 59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60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1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62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3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66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122" name="Line 67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9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70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71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72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73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Text Box 74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5"/>
          <p:cNvSpPr/>
          <p:nvPr/>
        </p:nvSpPr>
        <p:spPr>
          <a:xfrm>
            <a:off x="5921280" y="19288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-set VSP/ cross-well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R surface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6"/>
          <p:cNvSpPr/>
          <p:nvPr/>
        </p:nvSpPr>
        <p:spPr>
          <a:xfrm>
            <a:off x="6444360" y="338940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7"/>
          <p:cNvSpPr/>
          <p:nvPr/>
        </p:nvSpPr>
        <p:spPr>
          <a:xfrm>
            <a:off x="6584040" y="483696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B5B-776F-4082-887B-0D2C8B3F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orted Wave Born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9" descr=""/>
          <p:cNvPicPr/>
          <p:nvPr/>
        </p:nvPicPr>
        <p:blipFill>
          <a:blip r:embed="rId1"/>
          <a:stretch/>
        </p:blipFill>
        <p:spPr>
          <a:xfrm>
            <a:off x="1287360" y="1077840"/>
            <a:ext cx="6539040" cy="130032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0"/>
          <p:cNvSpPr/>
          <p:nvPr/>
        </p:nvSpPr>
        <p:spPr>
          <a:xfrm>
            <a:off x="1985040" y="581652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eneralized Projection-Slice Theorem , etc., G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2749320" y="412920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Linear functional of O 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O=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14" descr=""/>
          <p:cNvPicPr/>
          <p:nvPr/>
        </p:nvPicPr>
        <p:blipFill>
          <a:blip r:embed="rId2"/>
          <a:stretch/>
        </p:blipFill>
        <p:spPr>
          <a:xfrm>
            <a:off x="1498680" y="2251080"/>
            <a:ext cx="6273720" cy="9874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5" descr=""/>
          <p:cNvPicPr/>
          <p:nvPr/>
        </p:nvPicPr>
        <p:blipFill>
          <a:blip r:embed="rId3"/>
          <a:stretch/>
        </p:blipFill>
        <p:spPr>
          <a:xfrm>
            <a:off x="1635120" y="3206880"/>
            <a:ext cx="5772240" cy="799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60" name="Text Box 16"/>
          <p:cNvSpPr/>
          <p:nvPr/>
        </p:nvSpPr>
        <p:spPr>
          <a:xfrm>
            <a:off x="1863000" y="529920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 use Fourier theory for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17" descr=""/>
          <p:cNvPicPr/>
          <p:nvPr/>
        </p:nvPicPr>
        <p:blipFill>
          <a:blip r:embed="rId4"/>
          <a:stretch/>
        </p:blipFill>
        <p:spPr>
          <a:xfrm>
            <a:off x="2527200" y="4549680"/>
            <a:ext cx="3773520" cy="6843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662" name="Text Box 18"/>
          <p:cNvSpPr/>
          <p:nvPr/>
        </p:nvSpPr>
        <p:spPr>
          <a:xfrm>
            <a:off x="632160" y="46641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4C7-C28E-4C49-8571-ECDC9063E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erse Theo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399960" y="1870200"/>
            <a:ext cx="87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e scattering in inhomogeneous background media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Part I, Vol. 19 pp.855-870, 2003,  Part II, Vol.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20,  pp 1307-1324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74760" y="2617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366480" y="2517840"/>
            <a:ext cx="74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ison of reconstruction algorithms for optical diffraction tomography,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. Opt. Soc. Am.  A.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. 22, pp. 2338-234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77280" y="3149640"/>
            <a:ext cx="77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e scattering and diffraction tomography in cylindrical background media,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. Opt.Soc. Am.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, Vol. 23, pp. 1038-1047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0"/>
          <p:cNvSpPr/>
          <p:nvPr/>
        </p:nvSpPr>
        <p:spPr>
          <a:xfrm>
            <a:off x="291960" y="3873600"/>
            <a:ext cx="848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365400" y="1333440"/>
            <a:ext cx="85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 procedure for inverse scattering within the distorted wave Born approximation,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ys.Rev.Lett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ol 51, pp. 237-241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2"/>
          <p:cNvSpPr/>
          <p:nvPr/>
        </p:nvSpPr>
        <p:spPr>
          <a:xfrm>
            <a:off x="374760" y="1257480"/>
            <a:ext cx="848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13" descr=""/>
          <p:cNvPicPr/>
          <p:nvPr/>
        </p:nvPicPr>
        <p:blipFill>
          <a:blip r:embed="rId1"/>
          <a:stretch/>
        </p:blipFill>
        <p:spPr>
          <a:xfrm>
            <a:off x="1749600" y="4324320"/>
            <a:ext cx="5771880" cy="800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75" name="Text Box 14"/>
          <p:cNvSpPr/>
          <p:nvPr/>
        </p:nvSpPr>
        <p:spPr>
          <a:xfrm>
            <a:off x="2004480" y="5576760"/>
            <a:ext cx="502560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eneral theory applies to arbitrary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A8C4-47A8-4DBE-B647-5D243DF7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ersion from Scattering 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4" descr=""/>
          <p:cNvPicPr/>
          <p:nvPr/>
        </p:nvPicPr>
        <p:blipFill>
          <a:blip r:embed="rId1"/>
          <a:stretch/>
        </p:blipFill>
        <p:spPr>
          <a:xfrm>
            <a:off x="1914480" y="1289160"/>
            <a:ext cx="5772240" cy="7999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20"/>
          <p:cNvSpPr/>
          <p:nvPr/>
        </p:nvSpPr>
        <p:spPr>
          <a:xfrm>
            <a:off x="2338200" y="2135160"/>
            <a:ext cx="50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ttering amplitude determines the proj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object function onto the set of 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21" descr=""/>
          <p:cNvPicPr/>
          <p:nvPr/>
        </p:nvPicPr>
        <p:blipFill>
          <a:blip r:embed="rId2"/>
          <a:stretch/>
        </p:blipFill>
        <p:spPr>
          <a:xfrm>
            <a:off x="2075040" y="2946240"/>
            <a:ext cx="5628960" cy="9511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2" descr=""/>
          <p:cNvPicPr/>
          <p:nvPr/>
        </p:nvPicPr>
        <p:blipFill>
          <a:blip r:embed="rId3"/>
          <a:stretch/>
        </p:blipFill>
        <p:spPr>
          <a:xfrm>
            <a:off x="963720" y="5097600"/>
            <a:ext cx="7218360" cy="9777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3" descr=""/>
          <p:cNvPicPr/>
          <p:nvPr/>
        </p:nvPicPr>
        <p:blipFill>
          <a:blip r:embed="rId4"/>
          <a:stretch/>
        </p:blipFill>
        <p:spPr>
          <a:xfrm>
            <a:off x="1509840" y="3713040"/>
            <a:ext cx="6475320" cy="1224000"/>
          </a:xfrm>
          <a:prstGeom prst="rect">
            <a:avLst/>
          </a:prstGeom>
          <a:ln w="0">
            <a:noFill/>
          </a:ln>
        </p:spPr>
      </p:pic>
      <p:sp>
        <p:nvSpPr>
          <p:cNvPr id="685" name="Freeform 24"/>
          <p:cNvSpPr/>
          <p:nvPr/>
        </p:nvSpPr>
        <p:spPr>
          <a:xfrm>
            <a:off x="419040" y="4457880"/>
            <a:ext cx="939960" cy="100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848160" y="49528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FD1-7EC8-4B6A-AB3B-4273BF66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 Linear I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5" descr=""/>
          <p:cNvPicPr/>
          <p:nvPr/>
        </p:nvPicPr>
        <p:blipFill>
          <a:blip r:embed="rId1"/>
          <a:stretch/>
        </p:blipFill>
        <p:spPr>
          <a:xfrm>
            <a:off x="5156280" y="1574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3" descr=""/>
          <p:cNvPicPr/>
          <p:nvPr/>
        </p:nvPicPr>
        <p:blipFill>
          <a:blip r:embed="rId2"/>
          <a:stretch/>
        </p:blipFill>
        <p:spPr>
          <a:xfrm>
            <a:off x="6134040" y="993600"/>
            <a:ext cx="1511280" cy="59724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4"/>
          <p:cNvSpPr/>
          <p:nvPr/>
        </p:nvSpPr>
        <p:spPr>
          <a:xfrm>
            <a:off x="579960" y="105408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operator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torted 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rn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5"/>
          <p:cNvSpPr/>
          <p:nvPr/>
        </p:nvSpPr>
        <p:spPr>
          <a:xfrm>
            <a:off x="5740560" y="12574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2762640" y="248904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tered backpropag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24" descr=""/>
          <p:cNvPicPr/>
          <p:nvPr/>
        </p:nvPicPr>
        <p:blipFill>
          <a:blip r:embed="rId3"/>
          <a:stretch/>
        </p:blipFill>
        <p:spPr>
          <a:xfrm>
            <a:off x="1284120" y="1471680"/>
            <a:ext cx="6473880" cy="990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6" descr=""/>
          <p:cNvPicPr/>
          <p:nvPr/>
        </p:nvPicPr>
        <p:blipFill>
          <a:blip r:embed="rId4"/>
          <a:stretch/>
        </p:blipFill>
        <p:spPr>
          <a:xfrm>
            <a:off x="1736640" y="3456000"/>
            <a:ext cx="5137200" cy="689040"/>
          </a:xfrm>
          <a:prstGeom prst="rect">
            <a:avLst/>
          </a:prstGeom>
          <a:ln w="0">
            <a:noFill/>
          </a:ln>
        </p:spPr>
      </p:pic>
      <p:sp>
        <p:nvSpPr>
          <p:cNvPr id="698" name="Line 27"/>
          <p:cNvSpPr/>
          <p:nvPr/>
        </p:nvSpPr>
        <p:spPr>
          <a:xfrm flipH="1">
            <a:off x="5918040" y="3124080"/>
            <a:ext cx="3304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244200" y="2871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29"/>
          <p:cNvSpPr/>
          <p:nvPr/>
        </p:nvSpPr>
        <p:spPr>
          <a:xfrm>
            <a:off x="4457880" y="3352680"/>
            <a:ext cx="4316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3524760" y="294804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32" descr=""/>
          <p:cNvPicPr/>
          <p:nvPr/>
        </p:nvPicPr>
        <p:blipFill>
          <a:blip r:embed="rId5"/>
          <a:stretch/>
        </p:blipFill>
        <p:spPr>
          <a:xfrm>
            <a:off x="942840" y="4324320"/>
            <a:ext cx="6785280" cy="9478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703" name="Text Box 33"/>
          <p:cNvSpPr/>
          <p:nvPr/>
        </p:nvSpPr>
        <p:spPr>
          <a:xfrm>
            <a:off x="2742120" y="5527800"/>
            <a:ext cx="33660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ed using S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1FF3-816B-46C1-80FF-11F5323CC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Scattering Examp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08" name="Picture 5" descr=""/>
          <p:cNvPicPr/>
          <p:nvPr/>
        </p:nvPicPr>
        <p:blipFill>
          <a:blip r:embed="rId1"/>
          <a:stretch/>
        </p:blipFill>
        <p:spPr>
          <a:xfrm>
            <a:off x="1397160" y="1517760"/>
            <a:ext cx="627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448D-133D-4DF3-9549-676ED1BC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attered Field Dat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3" name="Picture 5" descr=""/>
          <p:cNvPicPr/>
          <p:nvPr/>
        </p:nvPicPr>
        <p:blipFill>
          <a:blip r:embed="rId1"/>
          <a:stretch/>
        </p:blipFill>
        <p:spPr>
          <a:xfrm>
            <a:off x="1508040" y="1251000"/>
            <a:ext cx="65422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FDD7-0E3E-4F90-8A2C-496F393B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onstru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8" name="Picture 5" descr=""/>
          <p:cNvPicPr/>
          <p:nvPr/>
        </p:nvPicPr>
        <p:blipFill>
          <a:blip r:embed="rId1"/>
          <a:stretch/>
        </p:blipFill>
        <p:spPr>
          <a:xfrm>
            <a:off x="593640" y="1262160"/>
            <a:ext cx="800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E5F-BFA1-4D76-8993-092E4CEA2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olution Enhanc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3" name="Picture 5" descr=""/>
          <p:cNvPicPr/>
          <p:nvPr/>
        </p:nvPicPr>
        <p:blipFill>
          <a:blip r:embed="rId1"/>
          <a:stretch/>
        </p:blipFill>
        <p:spPr>
          <a:xfrm>
            <a:off x="2695680" y="1357200"/>
            <a:ext cx="6181560" cy="49197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6"/>
          <p:cNvSpPr/>
          <p:nvPr/>
        </p:nvSpPr>
        <p:spPr>
          <a:xfrm>
            <a:off x="360360" y="1919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with n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62080" y="36212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WBA 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375480" y="52848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7ED-CE08-4888-8126-6B00F61BD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olution Enhanc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31" name="Picture 6" descr=""/>
          <p:cNvPicPr/>
          <p:nvPr/>
        </p:nvPicPr>
        <p:blipFill>
          <a:blip r:embed="rId1"/>
          <a:stretch/>
        </p:blipFill>
        <p:spPr>
          <a:xfrm>
            <a:off x="-17640" y="2476440"/>
            <a:ext cx="4658040" cy="35463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2"/>
          <a:stretch/>
        </p:blipFill>
        <p:spPr>
          <a:xfrm>
            <a:off x="4667400" y="2482920"/>
            <a:ext cx="4476600" cy="35463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8"/>
          <p:cNvSpPr/>
          <p:nvPr/>
        </p:nvSpPr>
        <p:spPr>
          <a:xfrm>
            <a:off x="1049400" y="18795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F with no reflecting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5443920" y="18795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F with reflecting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9174-D26E-4B58-92C4-6C28F2716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ding Rema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1377360" y="152712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ultiple scattering important for man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2199960" y="2198520"/>
            <a:ext cx="425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in many experimen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crease inversion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linear models more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478440" y="3468600"/>
            <a:ext cx="76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inear based inversion algorithms require knowledge of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1551960" y="4000680"/>
            <a:ext cx="59263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ground well known in controlled experiments such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D optical microscopy and “designed as-built 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1035000" y="5361120"/>
            <a:ext cx="70250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uture work concentrated on obtaining optical scattering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C22-9BE5-4C82-B81E-EC471C268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5"/>
          <p:cNvSpPr/>
          <p:nvPr/>
        </p:nvSpPr>
        <p:spPr>
          <a:xfrm>
            <a:off x="3174840" y="3365640"/>
            <a:ext cx="889200" cy="7873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149" name="Line 16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1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23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30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31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rc 32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3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36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7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8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41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175" name="Freeform 42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43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4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5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46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7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8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49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183" name="Line 50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Text Box 51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52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53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 Box 55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56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Text Box 57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60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194" name="Freeform 61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62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63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64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65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6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67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68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202" name="Line 69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70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71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72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3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74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75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Text Box 76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0"/>
          <p:cNvSpPr/>
          <p:nvPr/>
        </p:nvSpPr>
        <p:spPr>
          <a:xfrm>
            <a:off x="3695760" y="1930320"/>
            <a:ext cx="88920" cy="1015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81"/>
          <p:cNvSpPr/>
          <p:nvPr/>
        </p:nvSpPr>
        <p:spPr>
          <a:xfrm>
            <a:off x="4838760" y="2108160"/>
            <a:ext cx="304920" cy="889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3657600" y="2502000"/>
            <a:ext cx="88920" cy="88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83"/>
          <p:cNvSpPr/>
          <p:nvPr/>
        </p:nvSpPr>
        <p:spPr>
          <a:xfrm>
            <a:off x="4097160" y="1798560"/>
            <a:ext cx="219240" cy="279360"/>
          </a:xfrm>
          <a:prstGeom prst="pie">
            <a:avLst/>
          </a:prstGeom>
          <a:solidFill>
            <a:srgbClr val="66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4"/>
          <p:cNvSpPr/>
          <p:nvPr/>
        </p:nvSpPr>
        <p:spPr>
          <a:xfrm>
            <a:off x="3327480" y="29084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86"/>
          <p:cNvSpPr/>
          <p:nvPr/>
        </p:nvSpPr>
        <p:spPr>
          <a:xfrm>
            <a:off x="3048120" y="4965840"/>
            <a:ext cx="88920" cy="1015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87"/>
          <p:cNvSpPr/>
          <p:nvPr/>
        </p:nvSpPr>
        <p:spPr>
          <a:xfrm>
            <a:off x="4470480" y="5105520"/>
            <a:ext cx="304560" cy="889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8"/>
          <p:cNvSpPr/>
          <p:nvPr/>
        </p:nvSpPr>
        <p:spPr>
          <a:xfrm>
            <a:off x="3238560" y="5245200"/>
            <a:ext cx="88920" cy="88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89"/>
          <p:cNvSpPr/>
          <p:nvPr/>
        </p:nvSpPr>
        <p:spPr>
          <a:xfrm>
            <a:off x="3551400" y="4707000"/>
            <a:ext cx="218880" cy="279360"/>
          </a:xfrm>
          <a:prstGeom prst="pie">
            <a:avLst/>
          </a:prstGeom>
          <a:solidFill>
            <a:srgbClr val="66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5328360" y="3354480"/>
            <a:ext cx="34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usually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homogeneous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D36-9A08-45E3-B568-C982EB75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Complex Medi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65920" y="1235160"/>
            <a:ext cx="64202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y nature of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 to improve linear scatterin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 to improve invers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1371600" y="2583000"/>
            <a:ext cx="7146720" cy="3724560"/>
            <a:chOff x="1371600" y="2583000"/>
            <a:chExt cx="7146720" cy="3724560"/>
          </a:xfrm>
        </p:grpSpPr>
        <p:sp>
          <p:nvSpPr>
            <p:cNvPr id="226" name="Rectangle 7"/>
            <p:cNvSpPr/>
            <p:nvPr/>
          </p:nvSpPr>
          <p:spPr>
            <a:xfrm>
              <a:off x="1371600" y="3484440"/>
              <a:ext cx="1066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2666880" y="3179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2742840" y="356076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 rot="5400000">
              <a:off x="3066480" y="3542040"/>
              <a:ext cx="7632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1"/>
            <p:cNvSpPr/>
            <p:nvPr/>
          </p:nvSpPr>
          <p:spPr>
            <a:xfrm>
              <a:off x="3733560" y="3103560"/>
              <a:ext cx="151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4190760" y="3332160"/>
              <a:ext cx="456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5263920" y="3321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6195600" y="326556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3995280" y="4832280"/>
              <a:ext cx="80460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6224400" y="4799160"/>
              <a:ext cx="609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438280" y="3608280"/>
              <a:ext cx="3042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5928840" y="5119560"/>
              <a:ext cx="71280" cy="185760"/>
            </a:xfrm>
            <a:prstGeom prst="pie">
              <a:avLst/>
            </a:pr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3161880" y="3608280"/>
              <a:ext cx="571320" cy="2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 flipV="1">
              <a:off x="3161880" y="3560760"/>
              <a:ext cx="571320" cy="61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1"/>
            <p:cNvSpPr/>
            <p:nvPr/>
          </p:nvSpPr>
          <p:spPr>
            <a:xfrm>
              <a:off x="3885840" y="3594240"/>
              <a:ext cx="26143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>
              <a:off x="4400280" y="3622680"/>
              <a:ext cx="0" cy="1590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>
              <a:off x="4400280" y="5213160"/>
              <a:ext cx="25333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5972040" y="530532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5"/>
            <p:cNvSpPr/>
            <p:nvPr/>
          </p:nvSpPr>
          <p:spPr>
            <a:xfrm flipV="1">
              <a:off x="5972040" y="4613400"/>
              <a:ext cx="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6"/>
            <p:cNvSpPr/>
            <p:nvPr/>
          </p:nvSpPr>
          <p:spPr>
            <a:xfrm>
              <a:off x="4052520" y="48704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4190760" y="5008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4343040" y="51609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9"/>
            <p:cNvSpPr/>
            <p:nvPr/>
          </p:nvSpPr>
          <p:spPr>
            <a:xfrm>
              <a:off x="4481280" y="5299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0"/>
            <p:cNvSpPr/>
            <p:nvPr/>
          </p:nvSpPr>
          <p:spPr>
            <a:xfrm>
              <a:off x="4633560" y="5423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 flipV="1">
              <a:off x="6324480" y="31798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2"/>
            <p:cNvSpPr/>
            <p:nvPr/>
          </p:nvSpPr>
          <p:spPr>
            <a:xfrm flipV="1">
              <a:off x="6476760" y="333216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 flipV="1">
              <a:off x="6614640" y="34984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4"/>
            <p:cNvSpPr/>
            <p:nvPr/>
          </p:nvSpPr>
          <p:spPr>
            <a:xfrm flipV="1">
              <a:off x="6738480" y="365076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>
              <a:off x="6519600" y="3594240"/>
              <a:ext cx="0" cy="1618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6"/>
            <p:cNvSpPr/>
            <p:nvPr/>
          </p:nvSpPr>
          <p:spPr>
            <a:xfrm>
              <a:off x="7005240" y="5049720"/>
              <a:ext cx="709200" cy="29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7"/>
            <p:cNvSpPr/>
            <p:nvPr/>
          </p:nvSpPr>
          <p:spPr>
            <a:xfrm>
              <a:off x="6916320" y="5146560"/>
              <a:ext cx="8856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38"/>
            <p:cNvSpPr/>
            <p:nvPr/>
          </p:nvSpPr>
          <p:spPr>
            <a:xfrm>
              <a:off x="1538280" y="313380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39"/>
            <p:cNvSpPr/>
            <p:nvPr/>
          </p:nvSpPr>
          <p:spPr>
            <a:xfrm>
              <a:off x="2198880" y="4094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ar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40"/>
            <p:cNvSpPr/>
            <p:nvPr/>
          </p:nvSpPr>
          <p:spPr>
            <a:xfrm>
              <a:off x="2688480" y="2797200"/>
              <a:ext cx="11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atial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1"/>
            <p:cNvSpPr/>
            <p:nvPr/>
          </p:nvSpPr>
          <p:spPr>
            <a:xfrm flipH="1">
              <a:off x="3047760" y="3103560"/>
              <a:ext cx="113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3516840" y="40942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43"/>
            <p:cNvSpPr/>
            <p:nvPr/>
          </p:nvSpPr>
          <p:spPr>
            <a:xfrm>
              <a:off x="3515760" y="543096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44"/>
            <p:cNvSpPr/>
            <p:nvPr/>
          </p:nvSpPr>
          <p:spPr>
            <a:xfrm>
              <a:off x="6614280" y="30272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45"/>
            <p:cNvSpPr/>
            <p:nvPr/>
          </p:nvSpPr>
          <p:spPr>
            <a:xfrm>
              <a:off x="4865400" y="28638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6"/>
            <p:cNvSpPr/>
            <p:nvPr/>
          </p:nvSpPr>
          <p:spPr>
            <a:xfrm>
              <a:off x="6128640" y="558648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712640" y="4933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48"/>
            <p:cNvSpPr/>
            <p:nvPr/>
          </p:nvSpPr>
          <p:spPr>
            <a:xfrm>
              <a:off x="4995720" y="590868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 flipV="1">
              <a:off x="5441760" y="5271840"/>
              <a:ext cx="466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50"/>
            <p:cNvSpPr/>
            <p:nvPr/>
          </p:nvSpPr>
          <p:spPr>
            <a:xfrm>
              <a:off x="3961800" y="25830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1"/>
            <p:cNvSpPr/>
            <p:nvPr/>
          </p:nvSpPr>
          <p:spPr>
            <a:xfrm flipH="1">
              <a:off x="4399920" y="2949480"/>
              <a:ext cx="2329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54"/>
          <p:cNvSpPr/>
          <p:nvPr/>
        </p:nvSpPr>
        <p:spPr>
          <a:xfrm>
            <a:off x="7113240" y="3606840"/>
            <a:ext cx="16786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bits/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size=1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5"/>
          <p:cNvSpPr/>
          <p:nvPr/>
        </p:nvSpPr>
        <p:spPr>
          <a:xfrm>
            <a:off x="352440" y="763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939960" y="5041800"/>
            <a:ext cx="863280" cy="863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58"/>
          <p:cNvSpPr/>
          <p:nvPr/>
        </p:nvSpPr>
        <p:spPr>
          <a:xfrm>
            <a:off x="1168560" y="5276880"/>
            <a:ext cx="438120" cy="330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9"/>
          <p:cNvSpPr/>
          <p:nvPr/>
        </p:nvSpPr>
        <p:spPr>
          <a:xfrm>
            <a:off x="355680" y="54482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0"/>
          <p:cNvSpPr/>
          <p:nvPr/>
        </p:nvSpPr>
        <p:spPr>
          <a:xfrm>
            <a:off x="495360" y="511812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1"/>
          <p:cNvSpPr/>
          <p:nvPr/>
        </p:nvSpPr>
        <p:spPr>
          <a:xfrm flipV="1">
            <a:off x="1600200" y="4952880"/>
            <a:ext cx="596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2"/>
          <p:cNvSpPr/>
          <p:nvPr/>
        </p:nvSpPr>
        <p:spPr>
          <a:xfrm>
            <a:off x="1676520" y="5473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3"/>
          <p:cNvSpPr/>
          <p:nvPr/>
        </p:nvSpPr>
        <p:spPr>
          <a:xfrm>
            <a:off x="1536840" y="5664240"/>
            <a:ext cx="5079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64"/>
          <p:cNvSpPr/>
          <p:nvPr/>
        </p:nvSpPr>
        <p:spPr>
          <a:xfrm>
            <a:off x="1434960" y="4830840"/>
            <a:ext cx="608040" cy="128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5"/>
          <p:cNvSpPr/>
          <p:nvPr/>
        </p:nvSpPr>
        <p:spPr>
          <a:xfrm>
            <a:off x="698400" y="4699080"/>
            <a:ext cx="4701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-1080" y="4254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matching fl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67"/>
          <p:cNvSpPr/>
          <p:nvPr/>
        </p:nvSpPr>
        <p:spPr>
          <a:xfrm>
            <a:off x="2489040" y="4667400"/>
            <a:ext cx="3314880" cy="425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4E44-DA13-4864-B767-EB0DDD44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5524560" y="4165560"/>
            <a:ext cx="1028520" cy="11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roving the resolu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1987560" y="1708200"/>
            <a:ext cx="1449360" cy="1111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774720" y="24130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079640" y="204480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8"/>
          <p:cNvSpPr/>
          <p:nvPr/>
        </p:nvSpPr>
        <p:spPr>
          <a:xfrm>
            <a:off x="2222640" y="1125360"/>
            <a:ext cx="1788840" cy="241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9"/>
          <p:cNvSpPr/>
          <p:nvPr/>
        </p:nvSpPr>
        <p:spPr>
          <a:xfrm flipV="1">
            <a:off x="2882880" y="1231560"/>
            <a:ext cx="127080" cy="44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0"/>
          <p:cNvSpPr/>
          <p:nvPr/>
        </p:nvSpPr>
        <p:spPr>
          <a:xfrm flipV="1">
            <a:off x="3301920" y="1841040"/>
            <a:ext cx="470160" cy="20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1"/>
          <p:cNvSpPr/>
          <p:nvPr/>
        </p:nvSpPr>
        <p:spPr>
          <a:xfrm>
            <a:off x="3048120" y="2705040"/>
            <a:ext cx="304560" cy="33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397480" y="1917720"/>
            <a:ext cx="2997360" cy="622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5011560" y="2106720"/>
            <a:ext cx="241560" cy="2318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4"/>
          <p:cNvSpPr/>
          <p:nvPr/>
        </p:nvSpPr>
        <p:spPr>
          <a:xfrm flipV="1">
            <a:off x="5257800" y="1917720"/>
            <a:ext cx="50796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5778360" y="1943280"/>
            <a:ext cx="648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6"/>
          <p:cNvSpPr/>
          <p:nvPr/>
        </p:nvSpPr>
        <p:spPr>
          <a:xfrm flipV="1">
            <a:off x="6413400" y="1930320"/>
            <a:ext cx="723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7162920" y="1930320"/>
            <a:ext cx="76176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7924680" y="2158560"/>
            <a:ext cx="470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8407440" y="1917720"/>
            <a:ext cx="8892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4612320" y="128412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numerical aperture to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1670040" y="4184640"/>
            <a:ext cx="1449360" cy="1111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660240" y="4762440"/>
            <a:ext cx="87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"/>
          <p:cNvSpPr/>
          <p:nvPr/>
        </p:nvSpPr>
        <p:spPr>
          <a:xfrm>
            <a:off x="965160" y="439416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2362320" y="4546440"/>
            <a:ext cx="1267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2006640" y="4788000"/>
            <a:ext cx="1270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2552760" y="4902120"/>
            <a:ext cx="1270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7"/>
          <p:cNvSpPr/>
          <p:nvPr/>
        </p:nvSpPr>
        <p:spPr>
          <a:xfrm>
            <a:off x="2438280" y="4673520"/>
            <a:ext cx="139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2171880" y="4889520"/>
            <a:ext cx="330120" cy="6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171880" y="466092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V="1">
            <a:off x="2463840" y="4444920"/>
            <a:ext cx="127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 flipV="1">
            <a:off x="2336400" y="4431960"/>
            <a:ext cx="8892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2"/>
          <p:cNvSpPr/>
          <p:nvPr/>
        </p:nvSpPr>
        <p:spPr>
          <a:xfrm>
            <a:off x="300240" y="35956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cattering in background generates evanescent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6216480" y="4191120"/>
            <a:ext cx="35568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4889520" y="4127400"/>
            <a:ext cx="635040" cy="1244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4965840" y="4576680"/>
            <a:ext cx="369720" cy="403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6"/>
          <p:cNvSpPr/>
          <p:nvPr/>
        </p:nvSpPr>
        <p:spPr>
          <a:xfrm>
            <a:off x="3835440" y="47242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7"/>
          <p:cNvSpPr/>
          <p:nvPr/>
        </p:nvSpPr>
        <p:spPr>
          <a:xfrm>
            <a:off x="4140360" y="435600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40"/>
          <p:cNvSpPr/>
          <p:nvPr/>
        </p:nvSpPr>
        <p:spPr>
          <a:xfrm>
            <a:off x="6458040" y="4200480"/>
            <a:ext cx="86364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1"/>
          <p:cNvSpPr/>
          <p:nvPr/>
        </p:nvSpPr>
        <p:spPr>
          <a:xfrm>
            <a:off x="7416720" y="4102200"/>
            <a:ext cx="0" cy="13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5240520" y="55134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il imm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4254480" y="2235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4"/>
          <p:cNvSpPr/>
          <p:nvPr/>
        </p:nvSpPr>
        <p:spPr>
          <a:xfrm>
            <a:off x="4572000" y="186696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45"/>
          <p:cNvSpPr/>
          <p:nvPr/>
        </p:nvSpPr>
        <p:spPr>
          <a:xfrm>
            <a:off x="1674720" y="1295280"/>
            <a:ext cx="1131840" cy="22687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6"/>
          <p:cNvSpPr/>
          <p:nvPr/>
        </p:nvSpPr>
        <p:spPr>
          <a:xfrm>
            <a:off x="3857400" y="31114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ing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7"/>
          <p:cNvSpPr/>
          <p:nvPr/>
        </p:nvSpPr>
        <p:spPr>
          <a:xfrm flipH="1" flipV="1">
            <a:off x="3517560" y="2984040"/>
            <a:ext cx="30492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8"/>
          <p:cNvSpPr/>
          <p:nvPr/>
        </p:nvSpPr>
        <p:spPr>
          <a:xfrm>
            <a:off x="0" y="87624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9"/>
          <p:cNvSpPr/>
          <p:nvPr/>
        </p:nvSpPr>
        <p:spPr>
          <a:xfrm>
            <a:off x="901800" y="1244520"/>
            <a:ext cx="799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0"/>
          <p:cNvSpPr/>
          <p:nvPr/>
        </p:nvSpPr>
        <p:spPr>
          <a:xfrm flipH="1" flipV="1">
            <a:off x="2171520" y="1561680"/>
            <a:ext cx="3934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1"/>
          <p:cNvSpPr/>
          <p:nvPr/>
        </p:nvSpPr>
        <p:spPr>
          <a:xfrm flipH="1">
            <a:off x="2374920" y="2806560"/>
            <a:ext cx="2412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2"/>
          <p:cNvSpPr/>
          <p:nvPr/>
        </p:nvSpPr>
        <p:spPr>
          <a:xfrm flipH="1">
            <a:off x="1930320" y="2590920"/>
            <a:ext cx="17784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3"/>
          <p:cNvSpPr/>
          <p:nvPr/>
        </p:nvSpPr>
        <p:spPr>
          <a:xfrm flipV="1">
            <a:off x="5257800" y="4520880"/>
            <a:ext cx="24120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4"/>
          <p:cNvSpPr/>
          <p:nvPr/>
        </p:nvSpPr>
        <p:spPr>
          <a:xfrm flipV="1">
            <a:off x="5511960" y="3990960"/>
            <a:ext cx="660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5"/>
          <p:cNvSpPr/>
          <p:nvPr/>
        </p:nvSpPr>
        <p:spPr>
          <a:xfrm>
            <a:off x="3541320" y="5499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ass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6"/>
          <p:cNvSpPr/>
          <p:nvPr/>
        </p:nvSpPr>
        <p:spPr>
          <a:xfrm flipV="1">
            <a:off x="4229280" y="5181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8"/>
          <p:cNvSpPr/>
          <p:nvPr/>
        </p:nvSpPr>
        <p:spPr>
          <a:xfrm flipV="1">
            <a:off x="5505480" y="4200120"/>
            <a:ext cx="8287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5397480" y="1917720"/>
            <a:ext cx="29844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0"/>
          <p:cNvSpPr/>
          <p:nvPr/>
        </p:nvSpPr>
        <p:spPr>
          <a:xfrm>
            <a:off x="5410080" y="2552760"/>
            <a:ext cx="298476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1"/>
          <p:cNvSpPr/>
          <p:nvPr/>
        </p:nvSpPr>
        <p:spPr>
          <a:xfrm>
            <a:off x="5481720" y="264168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vity with conducting w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2"/>
          <p:cNvSpPr/>
          <p:nvPr/>
        </p:nvSpPr>
        <p:spPr>
          <a:xfrm flipH="1">
            <a:off x="3060720" y="394956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827-3ED5-43B9-9DCC-A97F70F0D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343080" y="1816200"/>
            <a:ext cx="3441600" cy="3441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igned as-Built a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1003320" y="2971800"/>
            <a:ext cx="2171520" cy="1130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1968480" y="2209680"/>
            <a:ext cx="241200" cy="241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1930320" y="4597560"/>
            <a:ext cx="19044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1841400" y="3289320"/>
            <a:ext cx="507960" cy="507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1205280" y="1171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4610160" y="1828800"/>
            <a:ext cx="3441600" cy="3441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5270400" y="2984400"/>
            <a:ext cx="2171880" cy="1130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6235560" y="2222640"/>
            <a:ext cx="457200" cy="27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6464160" y="4597560"/>
            <a:ext cx="1908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5829480" y="3276720"/>
            <a:ext cx="78732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5471280" y="1184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549800" y="5591160"/>
            <a:ext cx="57142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-as” = “Designed-as” +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59D9-068B-478C-819A-861EEDC5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storical surv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61840" y="1463760"/>
            <a:ext cx="286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-ray crystall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238480" y="192708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794160" y="2598840"/>
            <a:ext cx="291024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i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/Rytov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882960" y="2612880"/>
            <a:ext cx="165600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4699080" y="337500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852920" y="4262400"/>
            <a:ext cx="3089880" cy="386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222640" y="329076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6129360" y="4049640"/>
            <a:ext cx="2020320" cy="6786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5868000" y="2614680"/>
            <a:ext cx="2181600" cy="6786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ed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118120" y="444492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997680" y="3327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5187960" y="15778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complex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2"/>
          <p:cNvSpPr/>
          <p:nvPr/>
        </p:nvSpPr>
        <p:spPr>
          <a:xfrm flipH="1">
            <a:off x="6896160" y="2031840"/>
            <a:ext cx="4824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785-E075-4D8F-B225-1C9797B26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tential Scattering Theory in Homogeneous Medi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Freeform 18"/>
          <p:cNvSpPr/>
          <p:nvPr/>
        </p:nvSpPr>
        <p:spPr>
          <a:xfrm>
            <a:off x="2666880" y="2057400"/>
            <a:ext cx="1731960" cy="8208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1"/>
          <p:cNvSpPr/>
          <p:nvPr/>
        </p:nvSpPr>
        <p:spPr>
          <a:xfrm>
            <a:off x="4495680" y="1447920"/>
            <a:ext cx="622440" cy="160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4724280" y="17521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4495680" y="26668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26" descr=""/>
          <p:cNvPicPr/>
          <p:nvPr/>
        </p:nvPicPr>
        <p:blipFill>
          <a:blip r:embed="rId1"/>
          <a:stretch/>
        </p:blipFill>
        <p:spPr>
          <a:xfrm>
            <a:off x="5537160" y="1231920"/>
            <a:ext cx="2679840" cy="625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2" descr=""/>
          <p:cNvPicPr/>
          <p:nvPr/>
        </p:nvPicPr>
        <p:blipFill>
          <a:blip r:embed="rId2"/>
          <a:stretch/>
        </p:blipFill>
        <p:spPr>
          <a:xfrm>
            <a:off x="1049400" y="5168880"/>
            <a:ext cx="7219800" cy="9190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28"/>
          <p:cNvSpPr/>
          <p:nvPr/>
        </p:nvSpPr>
        <p:spPr>
          <a:xfrm>
            <a:off x="326160" y="495612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ppmann Schwinger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33" descr=""/>
          <p:cNvPicPr/>
          <p:nvPr/>
        </p:nvPicPr>
        <p:blipFill>
          <a:blip r:embed="rId3"/>
          <a:stretch/>
        </p:blipFill>
        <p:spPr>
          <a:xfrm>
            <a:off x="1905120" y="2590920"/>
            <a:ext cx="304560" cy="260280"/>
          </a:xfrm>
          <a:prstGeom prst="rect">
            <a:avLst/>
          </a:prstGeom>
          <a:ln w="0">
            <a:noFill/>
          </a:ln>
        </p:spPr>
      </p:pic>
      <p:sp>
        <p:nvSpPr>
          <p:cNvPr id="390" name="Line 35"/>
          <p:cNvSpPr/>
          <p:nvPr/>
        </p:nvSpPr>
        <p:spPr>
          <a:xfrm flipV="1">
            <a:off x="1371600" y="2361960"/>
            <a:ext cx="11430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447920" y="1905120"/>
            <a:ext cx="347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37"/>
          <p:cNvSpPr/>
          <p:nvPr/>
        </p:nvSpPr>
        <p:spPr>
          <a:xfrm>
            <a:off x="3459240" y="2290680"/>
            <a:ext cx="739800" cy="3081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38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800280" cy="522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9" descr=""/>
          <p:cNvPicPr/>
          <p:nvPr/>
        </p:nvPicPr>
        <p:blipFill>
          <a:blip r:embed="rId5"/>
          <a:stretch/>
        </p:blipFill>
        <p:spPr>
          <a:xfrm>
            <a:off x="5499000" y="2552760"/>
            <a:ext cx="2873520" cy="48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95" name="Picture 40" descr=""/>
          <p:cNvPicPr/>
          <p:nvPr/>
        </p:nvPicPr>
        <p:blipFill>
          <a:blip r:embed="rId6"/>
          <a:stretch/>
        </p:blipFill>
        <p:spPr>
          <a:xfrm>
            <a:off x="1638360" y="3390840"/>
            <a:ext cx="5371920" cy="1389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1" descr=""/>
          <p:cNvPicPr/>
          <p:nvPr/>
        </p:nvPicPr>
        <p:blipFill>
          <a:blip r:embed="rId7"/>
          <a:stretch/>
        </p:blipFill>
        <p:spPr>
          <a:xfrm>
            <a:off x="368280" y="1219320"/>
            <a:ext cx="2720880" cy="5270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2"/>
          <p:cNvSpPr/>
          <p:nvPr/>
        </p:nvSpPr>
        <p:spPr>
          <a:xfrm>
            <a:off x="5737320" y="2009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Objec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arch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Woods Hole 07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FD6-9866-4553-BAC2-B51FEC67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orn Seri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1"/>
          <a:stretch/>
        </p:blipFill>
        <p:spPr>
          <a:xfrm>
            <a:off x="2616120" y="2336760"/>
            <a:ext cx="3402000" cy="63828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1"/>
          <p:cNvSpPr/>
          <p:nvPr/>
        </p:nvSpPr>
        <p:spPr>
          <a:xfrm>
            <a:off x="369000" y="3968640"/>
            <a:ext cx="84405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 mapping between incident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n-linear mapping between object profile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7" descr=""/>
          <p:cNvPicPr/>
          <p:nvPr/>
        </p:nvPicPr>
        <p:blipFill>
          <a:blip r:embed="rId2"/>
          <a:stretch/>
        </p:blipFill>
        <p:spPr>
          <a:xfrm>
            <a:off x="1427040" y="3144960"/>
            <a:ext cx="5742000" cy="6886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405" name="Picture 18" descr=""/>
          <p:cNvPicPr/>
          <p:nvPr/>
        </p:nvPicPr>
        <p:blipFill>
          <a:blip r:embed="rId3"/>
          <a:stretch/>
        </p:blipFill>
        <p:spPr>
          <a:xfrm>
            <a:off x="2762280" y="1584360"/>
            <a:ext cx="3216240" cy="7272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9"/>
          <p:cNvSpPr/>
          <p:nvPr/>
        </p:nvSpPr>
        <p:spPr>
          <a:xfrm>
            <a:off x="575280" y="1208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ppmann Schwinger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51440" y="4952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28"/>
          <p:cNvGrpSpPr/>
          <p:nvPr/>
        </p:nvGrpSpPr>
        <p:grpSpPr>
          <a:xfrm>
            <a:off x="1672920" y="4991040"/>
            <a:ext cx="6447240" cy="1015920"/>
            <a:chOff x="1672920" y="4991040"/>
            <a:chExt cx="6447240" cy="1015920"/>
          </a:xfrm>
        </p:grpSpPr>
        <p:pic>
          <p:nvPicPr>
            <p:cNvPr id="409" name="Picture 21" descr=""/>
            <p:cNvPicPr/>
            <p:nvPr/>
          </p:nvPicPr>
          <p:blipFill>
            <a:blip r:embed="rId4"/>
            <a:stretch/>
          </p:blipFill>
          <p:spPr>
            <a:xfrm>
              <a:off x="3949560" y="5454720"/>
              <a:ext cx="151128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Line 22"/>
            <p:cNvSpPr/>
            <p:nvPr/>
          </p:nvSpPr>
          <p:spPr>
            <a:xfrm>
              <a:off x="2997000" y="5346720"/>
              <a:ext cx="939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23"/>
            <p:cNvSpPr/>
            <p:nvPr/>
          </p:nvSpPr>
          <p:spPr>
            <a:xfrm>
              <a:off x="1672920" y="49910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linea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 flipH="1">
              <a:off x="5486400" y="5511600"/>
              <a:ext cx="660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6"/>
            <p:cNvSpPr/>
            <p:nvPr/>
          </p:nvSpPr>
          <p:spPr>
            <a:xfrm>
              <a:off x="6167160" y="530856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ttered fiel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4647960" y="5219640"/>
              <a:ext cx="11937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tony devaney</cp:lastModifiedBy>
  <cp:lastPrinted>1999-08-11T14:29:11Z</cp:lastPrinted>
  <dcterms:modified xsi:type="dcterms:W3CDTF">2012-09-21T14:40:36Z</dcterms:modified>
  <cp:revision>123</cp:revision>
  <dc:subject/>
  <dc:title>Potential Scattering Theory</dc:title>
</cp:coreProperties>
</file>