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64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74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23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65.png" ContentType="image/png"/>
  <Override PartName="/ppt/media/image80.jpeg" ContentType="image/jpeg"/>
  <Override PartName="/ppt/media/image75.png" ContentType="image/png"/>
  <Override PartName="/ppt/media/image79.png" ContentType="image/png"/>
  <Override PartName="/ppt/media/image78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7C1D-E2F7-468C-A00D-255CB516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4ED-BBD3-4BD8-BEC6-26D80E1F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D5E-B860-409C-B843-0E8EAFE7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C4D-C368-4145-A4BA-350B0CD7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776C-4BF0-4AE1-9974-DFE141AD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6951-182D-4134-8EE6-929F1719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626-FB4B-4580-9231-C6328146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217-4C40-4726-8E62-27F75A53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623-E30F-435B-9CB3-E819B3CB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7A17-A4DD-434D-A828-EF2182DC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3C3B-BC04-47E4-8053-35981BAB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F392-1C97-4CFE-8D91-E6F7650E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A9AA-F637-4494-B6CB-4FC726F5BB4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CC58-B36A-43E2-AA9C-587EB2883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7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8.png"/><Relationship Id="rId3" Type="http://schemas.openxmlformats.org/officeDocument/2006/relationships/image" Target="../media/image47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7.png"/><Relationship Id="rId5" Type="http://schemas.openxmlformats.org/officeDocument/2006/relationships/image" Target="../media/image29.png"/><Relationship Id="rId6" Type="http://schemas.openxmlformats.org/officeDocument/2006/relationships/image" Target="../media/image46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28.png"/><Relationship Id="rId11" Type="http://schemas.openxmlformats.org/officeDocument/2006/relationships/image" Target="../media/image53.png"/><Relationship Id="rId12" Type="http://schemas.openxmlformats.org/officeDocument/2006/relationships/image" Target="../media/image54.png"/><Relationship Id="rId1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44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image" Target="../media/image90.png"/><Relationship Id="rId6" Type="http://schemas.openxmlformats.org/officeDocument/2006/relationships/image" Target="../media/image9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roduction to Diffraction Tomograph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05560" y="1488960"/>
            <a:ext cx="499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Anthony J. Deva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Department of Electrical and Computer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rtheastern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Boston, MA 021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mail: tonydev2@ao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4560" y="3611520"/>
            <a:ext cx="3984120" cy="22575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Rytov Approx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uracy compared with Bo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Propagation and Backpropa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Inversion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tered Backpropa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seudo-inverse for finite view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rative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4470-D615-4784-BC2C-3716BC42D1E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F4569-7C64-47B2-8F0D-3281DA96ED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Generalized Tomographic Model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Diffraction Tomograph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6600" y="1879560"/>
            <a:ext cx="7875360" cy="727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05960" y="2533680"/>
            <a:ext cx="39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Generalized Projection (Propag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74720" y="3005280"/>
            <a:ext cx="5073480" cy="669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936720" y="3857760"/>
            <a:ext cx="6734160" cy="64584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927360" y="5437080"/>
            <a:ext cx="73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Diffraction tomography is generalization of conventional tom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to incorporate wave (diffraction effec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112920" y="4792680"/>
            <a:ext cx="2441880" cy="5634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577800" y="1442880"/>
            <a:ext cx="78663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For the remainder of this lecture we will work in two space dim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6227640" y="2951280"/>
            <a:ext cx="2345040" cy="7491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AC80-1F91-4CFC-8BFA-F7097DCB30B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C9312-96D8-4489-8BCB-392D3A5E6E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037040" y="2762280"/>
            <a:ext cx="898560" cy="768240"/>
          </a:xfrm>
          <a:custGeom>
            <a:avLst/>
            <a:gdLst/>
            <a:ahLst/>
            <a:rect l="l" t="t" r="r" b="b"/>
            <a:pathLst>
              <a:path w="566" h="484">
                <a:moveTo>
                  <a:pt x="441" y="92"/>
                </a:moveTo>
                <a:cubicBezTo>
                  <a:pt x="420" y="52"/>
                  <a:pt x="334" y="8"/>
                  <a:pt x="281" y="4"/>
                </a:cubicBezTo>
                <a:cubicBezTo>
                  <a:pt x="228" y="0"/>
                  <a:pt x="168" y="41"/>
                  <a:pt x="121" y="68"/>
                </a:cubicBezTo>
                <a:cubicBezTo>
                  <a:pt x="74" y="95"/>
                  <a:pt x="0" y="113"/>
                  <a:pt x="1" y="164"/>
                </a:cubicBezTo>
                <a:cubicBezTo>
                  <a:pt x="2" y="215"/>
                  <a:pt x="114" y="320"/>
                  <a:pt x="129" y="372"/>
                </a:cubicBezTo>
                <a:cubicBezTo>
                  <a:pt x="144" y="424"/>
                  <a:pt x="25" y="468"/>
                  <a:pt x="89" y="476"/>
                </a:cubicBezTo>
                <a:cubicBezTo>
                  <a:pt x="153" y="484"/>
                  <a:pt x="460" y="459"/>
                  <a:pt x="513" y="420"/>
                </a:cubicBezTo>
                <a:cubicBezTo>
                  <a:pt x="566" y="381"/>
                  <a:pt x="421" y="296"/>
                  <a:pt x="409" y="244"/>
                </a:cubicBezTo>
                <a:cubicBezTo>
                  <a:pt x="397" y="192"/>
                  <a:pt x="462" y="132"/>
                  <a:pt x="441" y="9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assical Geomet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092560" y="4494240"/>
            <a:ext cx="3049560" cy="538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427640" y="2206800"/>
            <a:ext cx="0" cy="19494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70200" y="3166920"/>
            <a:ext cx="36734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95280" y="1591560"/>
            <a:ext cx="880560" cy="3286080"/>
          </a:xfrm>
          <a:prstGeom prst="line">
            <a:avLst/>
          </a:prstGeom>
          <a:ln w="9360">
            <a:solidFill>
              <a:srgbClr val="66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818440" y="2644200"/>
            <a:ext cx="3548160" cy="950400"/>
          </a:xfrm>
          <a:prstGeom prst="line">
            <a:avLst/>
          </a:prstGeom>
          <a:ln w="93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22920" y="3772080"/>
            <a:ext cx="687240" cy="330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016680" y="1368360"/>
            <a:ext cx="182520" cy="285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870440" y="2249640"/>
            <a:ext cx="317520" cy="325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831760" y="2389320"/>
            <a:ext cx="2768760" cy="27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0609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06096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654280" y="1562040"/>
            <a:ext cx="3270240" cy="87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6461280" y="2448000"/>
            <a:ext cx="182520" cy="285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513480" y="298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16400" y="1854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886200" y="4178160"/>
            <a:ext cx="1992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60920" y="4051440"/>
            <a:ext cx="279360" cy="1042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3873600" y="1301760"/>
            <a:ext cx="201600" cy="291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1496880" y="2909880"/>
            <a:ext cx="1065240" cy="388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>
            <a:off x="2489040" y="2425320"/>
            <a:ext cx="3430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67160" y="1538280"/>
            <a:ext cx="1295280" cy="771480"/>
          </a:xfrm>
          <a:custGeom>
            <a:avLst/>
            <a:gdLst/>
            <a:ahLst/>
            <a:rect l="l" t="t" r="r" b="b"/>
            <a:pathLst>
              <a:path w="816" h="486">
                <a:moveTo>
                  <a:pt x="0" y="439"/>
                </a:moveTo>
                <a:cubicBezTo>
                  <a:pt x="24" y="417"/>
                  <a:pt x="49" y="395"/>
                  <a:pt x="80" y="367"/>
                </a:cubicBezTo>
                <a:cubicBezTo>
                  <a:pt x="111" y="339"/>
                  <a:pt x="147" y="258"/>
                  <a:pt x="184" y="271"/>
                </a:cubicBezTo>
                <a:cubicBezTo>
                  <a:pt x="221" y="284"/>
                  <a:pt x="241" y="486"/>
                  <a:pt x="304" y="447"/>
                </a:cubicBezTo>
                <a:cubicBezTo>
                  <a:pt x="367" y="408"/>
                  <a:pt x="475" y="78"/>
                  <a:pt x="560" y="39"/>
                </a:cubicBezTo>
                <a:cubicBezTo>
                  <a:pt x="645" y="0"/>
                  <a:pt x="730" y="107"/>
                  <a:pt x="816" y="2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3746520" y="2247840"/>
            <a:ext cx="4572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572000" y="1955880"/>
            <a:ext cx="127080" cy="81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05760" y="193032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Rotating coordinat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24080" y="236232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Fixed coordinat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689080" y="2260440"/>
            <a:ext cx="343080" cy="50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613480" y="2844720"/>
            <a:ext cx="939600" cy="27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1557360" y="1562040"/>
            <a:ext cx="2009880" cy="507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1684440" y="5332320"/>
            <a:ext cx="6064200" cy="76356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F67-57AB-472C-85CF-F5F5B3CC5D9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B85D8-0469-40EE-AD63-B388BA4380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eyl Expansion for Classical Geometry in R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09720" y="1709640"/>
            <a:ext cx="4665600" cy="1720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446120" y="4368960"/>
            <a:ext cx="5672160" cy="84924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3040560" y="3747960"/>
            <a:ext cx="27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Dirichlet Gree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51800" y="2629080"/>
            <a:ext cx="21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Homogeneous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Evanescent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A237-4E33-4A27-BADA-3575B8A7586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C19E5-3BAE-4C49-94F2-49A9F8CF0F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pagation of Rytov Phase in Free Spa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18800" y="4013280"/>
            <a:ext cx="71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Angular Spectrum Representation of free space propagation of Rytov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511280" y="4481640"/>
            <a:ext cx="6349680" cy="1670040"/>
            <a:chOff x="1511280" y="4481640"/>
            <a:chExt cx="6349680" cy="1670040"/>
          </a:xfrm>
        </p:grpSpPr>
        <p:sp>
          <p:nvSpPr>
            <p:cNvPr id="185" name=""/>
            <p:cNvSpPr/>
            <p:nvPr/>
          </p:nvSpPr>
          <p:spPr>
            <a:xfrm>
              <a:off x="2769120" y="4595400"/>
              <a:ext cx="0" cy="149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91000" y="5322960"/>
              <a:ext cx="65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328800" y="4481640"/>
              <a:ext cx="416160" cy="1670040"/>
            </a:xfrm>
            <a:custGeom>
              <a:avLst/>
              <a:gdLst/>
              <a:ahLst/>
              <a:rect l="l" t="t" r="r" b="b"/>
              <a:pathLst>
                <a:path w="380" h="1520">
                  <a:moveTo>
                    <a:pt x="154" y="0"/>
                  </a:moveTo>
                  <a:cubicBezTo>
                    <a:pt x="77" y="79"/>
                    <a:pt x="0" y="159"/>
                    <a:pt x="14" y="289"/>
                  </a:cubicBezTo>
                  <a:cubicBezTo>
                    <a:pt x="28" y="419"/>
                    <a:pt x="226" y="609"/>
                    <a:pt x="240" y="780"/>
                  </a:cubicBezTo>
                  <a:cubicBezTo>
                    <a:pt x="254" y="951"/>
                    <a:pt x="77" y="1194"/>
                    <a:pt x="100" y="1317"/>
                  </a:cubicBezTo>
                  <a:cubicBezTo>
                    <a:pt x="123" y="1440"/>
                    <a:pt x="333" y="1488"/>
                    <a:pt x="380" y="15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612120" y="4576680"/>
              <a:ext cx="35964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58760" y="5311440"/>
              <a:ext cx="38448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11520" y="5923080"/>
              <a:ext cx="60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75160" y="4757400"/>
              <a:ext cx="239760" cy="1318680"/>
            </a:xfrm>
            <a:custGeom>
              <a:avLst/>
              <a:gdLst/>
              <a:ahLst/>
              <a:rect l="l" t="t" r="r" b="b"/>
              <a:pathLst>
                <a:path w="219" h="1200">
                  <a:moveTo>
                    <a:pt x="109" y="0"/>
                  </a:moveTo>
                  <a:cubicBezTo>
                    <a:pt x="143" y="29"/>
                    <a:pt x="177" y="58"/>
                    <a:pt x="187" y="93"/>
                  </a:cubicBezTo>
                  <a:cubicBezTo>
                    <a:pt x="197" y="128"/>
                    <a:pt x="186" y="172"/>
                    <a:pt x="172" y="210"/>
                  </a:cubicBezTo>
                  <a:cubicBezTo>
                    <a:pt x="158" y="248"/>
                    <a:pt x="129" y="266"/>
                    <a:pt x="102" y="319"/>
                  </a:cubicBezTo>
                  <a:cubicBezTo>
                    <a:pt x="75" y="372"/>
                    <a:pt x="0" y="440"/>
                    <a:pt x="8" y="530"/>
                  </a:cubicBezTo>
                  <a:cubicBezTo>
                    <a:pt x="16" y="620"/>
                    <a:pt x="113" y="777"/>
                    <a:pt x="148" y="857"/>
                  </a:cubicBezTo>
                  <a:cubicBezTo>
                    <a:pt x="183" y="937"/>
                    <a:pt x="217" y="966"/>
                    <a:pt x="218" y="1013"/>
                  </a:cubicBezTo>
                  <a:cubicBezTo>
                    <a:pt x="219" y="1060"/>
                    <a:pt x="183" y="1107"/>
                    <a:pt x="156" y="1138"/>
                  </a:cubicBezTo>
                  <a:cubicBezTo>
                    <a:pt x="129" y="1169"/>
                    <a:pt x="73" y="1190"/>
                    <a:pt x="55" y="12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889000" y="4766400"/>
              <a:ext cx="265680" cy="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14920" y="5888520"/>
              <a:ext cx="39312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6774120" y="4925520"/>
              <a:ext cx="108684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1511280" y="4897800"/>
              <a:ext cx="1110240" cy="3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 txBox="1"/>
            <p:nvPr/>
          </p:nvSpPr>
          <p:spPr>
            <a:xfrm>
              <a:off x="3577320" y="4890600"/>
              <a:ext cx="2437560" cy="502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man Old Style"/>
                </a:rPr>
                <a:t>propagation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16200" y="5466240"/>
              <a:ext cx="233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65280" y="2197080"/>
            <a:ext cx="7740360" cy="1028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611360" y="3294000"/>
            <a:ext cx="5960880" cy="66348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1627200" y="1531800"/>
            <a:ext cx="5608800" cy="7192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9B4-352B-4FB4-8476-589141FAD30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2B85D-46EA-48CC-A91E-6F14A6C790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253800"/>
            <a:ext cx="692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pagation in Fourier Space --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Backpropagation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--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74600" y="1511280"/>
            <a:ext cx="6743880" cy="6984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351080" y="2370240"/>
            <a:ext cx="5959440" cy="56664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476280" y="3222720"/>
            <a:ext cx="8018640" cy="717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Free space propagation (</a:t>
            </a:r>
            <a:r>
              <a:rPr b="0" lang="en-US" sz="1800" spc="-1" strike="noStrike">
                <a:solidFill>
                  <a:srgbClr val="6600ff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 &gt; </a:t>
            </a:r>
            <a:r>
              <a:rPr b="0" lang="en-US" sz="1800" spc="-1" strike="noStrike">
                <a:solidFill>
                  <a:srgbClr val="6600ff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6600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) corresponds to low pass filtering of the fiel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Backpropagation (</a:t>
            </a:r>
            <a:r>
              <a:rPr b="0" lang="en-US" sz="1800" spc="-1" strike="noStrike">
                <a:solidFill>
                  <a:srgbClr val="6600ff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 &lt; </a:t>
            </a:r>
            <a:r>
              <a:rPr b="0" lang="en-US" sz="1800" spc="-1" strike="noStrike">
                <a:solidFill>
                  <a:srgbClr val="6600ff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6600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) requires high pass filtering and is unstable (not well po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71800" y="4114800"/>
            <a:ext cx="65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Propagation and Backpropagation of bandlimited phase perturb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122560" y="4643280"/>
            <a:ext cx="4098960" cy="427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647640" y="5283360"/>
            <a:ext cx="7828200" cy="5824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C5A-1218-46B1-B09A-FC06C50A3E6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BE56E-7E0B-4B63-B594-9787357594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pagation Operator in Classical Geomet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25640" y="4807080"/>
            <a:ext cx="7213320" cy="498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192400" y="4176720"/>
            <a:ext cx="4314600" cy="546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037040" y="2762280"/>
            <a:ext cx="898560" cy="768240"/>
          </a:xfrm>
          <a:custGeom>
            <a:avLst/>
            <a:gdLst/>
            <a:ahLst/>
            <a:rect l="l" t="t" r="r" b="b"/>
            <a:pathLst>
              <a:path w="566" h="484">
                <a:moveTo>
                  <a:pt x="441" y="92"/>
                </a:moveTo>
                <a:cubicBezTo>
                  <a:pt x="420" y="52"/>
                  <a:pt x="334" y="8"/>
                  <a:pt x="281" y="4"/>
                </a:cubicBezTo>
                <a:cubicBezTo>
                  <a:pt x="228" y="0"/>
                  <a:pt x="168" y="41"/>
                  <a:pt x="121" y="68"/>
                </a:cubicBezTo>
                <a:cubicBezTo>
                  <a:pt x="74" y="95"/>
                  <a:pt x="0" y="113"/>
                  <a:pt x="1" y="164"/>
                </a:cubicBezTo>
                <a:cubicBezTo>
                  <a:pt x="2" y="215"/>
                  <a:pt x="114" y="320"/>
                  <a:pt x="129" y="372"/>
                </a:cubicBezTo>
                <a:cubicBezTo>
                  <a:pt x="144" y="424"/>
                  <a:pt x="25" y="468"/>
                  <a:pt x="89" y="476"/>
                </a:cubicBezTo>
                <a:cubicBezTo>
                  <a:pt x="153" y="484"/>
                  <a:pt x="460" y="459"/>
                  <a:pt x="513" y="420"/>
                </a:cubicBezTo>
                <a:cubicBezTo>
                  <a:pt x="566" y="381"/>
                  <a:pt x="421" y="296"/>
                  <a:pt x="409" y="244"/>
                </a:cubicBezTo>
                <a:cubicBezTo>
                  <a:pt x="397" y="192"/>
                  <a:pt x="462" y="132"/>
                  <a:pt x="441" y="9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27640" y="2206800"/>
            <a:ext cx="0" cy="19494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70200" y="3166920"/>
            <a:ext cx="36734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93840" y="1590480"/>
            <a:ext cx="648360" cy="2419560"/>
          </a:xfrm>
          <a:prstGeom prst="line">
            <a:avLst/>
          </a:prstGeom>
          <a:ln w="9360">
            <a:solidFill>
              <a:srgbClr val="66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818440" y="2644200"/>
            <a:ext cx="3548160" cy="950400"/>
          </a:xfrm>
          <a:prstGeom prst="line">
            <a:avLst/>
          </a:prstGeom>
          <a:ln w="93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721400" y="3568680"/>
            <a:ext cx="687240" cy="330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016680" y="1368360"/>
            <a:ext cx="182520" cy="285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4870440" y="2249640"/>
            <a:ext cx="317520" cy="3254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831760" y="2389320"/>
            <a:ext cx="2768760" cy="27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0609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06096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654280" y="1562040"/>
            <a:ext cx="3270240" cy="87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6461280" y="2448000"/>
            <a:ext cx="182520" cy="2858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513480" y="298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16400" y="1854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3873600" y="1301760"/>
            <a:ext cx="201600" cy="291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1496880" y="2909880"/>
            <a:ext cx="1065240" cy="3888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 flipV="1">
            <a:off x="2489040" y="2425320"/>
            <a:ext cx="3430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67160" y="1538280"/>
            <a:ext cx="1295280" cy="771480"/>
          </a:xfrm>
          <a:custGeom>
            <a:avLst/>
            <a:gdLst/>
            <a:ahLst/>
            <a:rect l="l" t="t" r="r" b="b"/>
            <a:pathLst>
              <a:path w="816" h="486">
                <a:moveTo>
                  <a:pt x="0" y="439"/>
                </a:moveTo>
                <a:cubicBezTo>
                  <a:pt x="24" y="417"/>
                  <a:pt x="49" y="395"/>
                  <a:pt x="80" y="367"/>
                </a:cubicBezTo>
                <a:cubicBezTo>
                  <a:pt x="111" y="339"/>
                  <a:pt x="147" y="258"/>
                  <a:pt x="184" y="271"/>
                </a:cubicBezTo>
                <a:cubicBezTo>
                  <a:pt x="221" y="284"/>
                  <a:pt x="241" y="486"/>
                  <a:pt x="304" y="447"/>
                </a:cubicBezTo>
                <a:cubicBezTo>
                  <a:pt x="367" y="408"/>
                  <a:pt x="475" y="78"/>
                  <a:pt x="560" y="39"/>
                </a:cubicBezTo>
                <a:cubicBezTo>
                  <a:pt x="645" y="0"/>
                  <a:pt x="730" y="107"/>
                  <a:pt x="816" y="2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2771640" y="1593720"/>
            <a:ext cx="1086120" cy="406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1722600" y="5413320"/>
            <a:ext cx="5413320" cy="62712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11"/>
          <a:stretch/>
        </p:blipFill>
        <p:spPr>
          <a:xfrm>
            <a:off x="7364520" y="5551560"/>
            <a:ext cx="976320" cy="35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8C2-0E85-4CE9-AE92-E2D1E8A649A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5EC87-3BD5-46E0-B39E-7B4933D343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pectral Representation of Propagation Operation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813040" y="1519200"/>
            <a:ext cx="4665600" cy="1720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75640" y="172260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Weyl Expansion in 2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157480" y="5162400"/>
            <a:ext cx="4629240" cy="77184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1849320" y="3368520"/>
            <a:ext cx="5413320" cy="627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1338120" y="4094280"/>
            <a:ext cx="6458040" cy="80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A85-8624-4E41-B539-D3C11091E72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76D91-6EDC-418A-A81B-133BCA9F34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Generalized Projection-Slice Theore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93920" y="4403880"/>
            <a:ext cx="0" cy="19494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03320" y="4529160"/>
            <a:ext cx="792360" cy="676080"/>
          </a:xfrm>
          <a:custGeom>
            <a:avLst/>
            <a:gdLst/>
            <a:ahLst/>
            <a:rect l="l" t="t" r="r" b="b"/>
            <a:pathLst>
              <a:path w="566" h="484">
                <a:moveTo>
                  <a:pt x="441" y="92"/>
                </a:moveTo>
                <a:cubicBezTo>
                  <a:pt x="420" y="52"/>
                  <a:pt x="334" y="8"/>
                  <a:pt x="281" y="4"/>
                </a:cubicBezTo>
                <a:cubicBezTo>
                  <a:pt x="228" y="0"/>
                  <a:pt x="168" y="41"/>
                  <a:pt x="121" y="68"/>
                </a:cubicBezTo>
                <a:cubicBezTo>
                  <a:pt x="74" y="95"/>
                  <a:pt x="0" y="113"/>
                  <a:pt x="1" y="164"/>
                </a:cubicBezTo>
                <a:cubicBezTo>
                  <a:pt x="2" y="215"/>
                  <a:pt x="114" y="320"/>
                  <a:pt x="129" y="372"/>
                </a:cubicBezTo>
                <a:cubicBezTo>
                  <a:pt x="144" y="424"/>
                  <a:pt x="25" y="468"/>
                  <a:pt x="89" y="476"/>
                </a:cubicBezTo>
                <a:cubicBezTo>
                  <a:pt x="153" y="484"/>
                  <a:pt x="460" y="459"/>
                  <a:pt x="513" y="420"/>
                </a:cubicBezTo>
                <a:cubicBezTo>
                  <a:pt x="566" y="381"/>
                  <a:pt x="421" y="296"/>
                  <a:pt x="409" y="244"/>
                </a:cubicBezTo>
                <a:cubicBezTo>
                  <a:pt x="397" y="192"/>
                  <a:pt x="462" y="132"/>
                  <a:pt x="441" y="9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7320" y="4886280"/>
            <a:ext cx="32371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65520" y="3496680"/>
            <a:ext cx="570960" cy="2131560"/>
          </a:xfrm>
          <a:prstGeom prst="line">
            <a:avLst/>
          </a:prstGeom>
          <a:ln w="9360">
            <a:solidFill>
              <a:srgbClr val="66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829800" y="4424400"/>
            <a:ext cx="3126600" cy="837720"/>
          </a:xfrm>
          <a:prstGeom prst="line">
            <a:avLst/>
          </a:prstGeom>
          <a:ln w="93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506680" y="5238720"/>
            <a:ext cx="604800" cy="2919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648240" y="3301920"/>
            <a:ext cx="160200" cy="250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638440" y="4078440"/>
            <a:ext cx="279360" cy="2854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842760" y="4200480"/>
            <a:ext cx="243864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0609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06096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85800" y="3471480"/>
            <a:ext cx="287964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038480" y="4253040"/>
            <a:ext cx="160560" cy="2505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084560" y="472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49200" y="372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1758960" y="3243240"/>
            <a:ext cx="177840" cy="2570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401840" y="3451320"/>
            <a:ext cx="1141200" cy="679320"/>
          </a:xfrm>
          <a:custGeom>
            <a:avLst/>
            <a:gdLst/>
            <a:ahLst/>
            <a:rect l="l" t="t" r="r" b="b"/>
            <a:pathLst>
              <a:path w="816" h="486">
                <a:moveTo>
                  <a:pt x="0" y="439"/>
                </a:moveTo>
                <a:cubicBezTo>
                  <a:pt x="24" y="417"/>
                  <a:pt x="49" y="395"/>
                  <a:pt x="80" y="367"/>
                </a:cubicBezTo>
                <a:cubicBezTo>
                  <a:pt x="111" y="339"/>
                  <a:pt x="147" y="258"/>
                  <a:pt x="184" y="271"/>
                </a:cubicBezTo>
                <a:cubicBezTo>
                  <a:pt x="221" y="284"/>
                  <a:pt x="241" y="486"/>
                  <a:pt x="304" y="447"/>
                </a:cubicBezTo>
                <a:cubicBezTo>
                  <a:pt x="367" y="408"/>
                  <a:pt x="475" y="78"/>
                  <a:pt x="560" y="39"/>
                </a:cubicBezTo>
                <a:cubicBezTo>
                  <a:pt x="645" y="0"/>
                  <a:pt x="730" y="107"/>
                  <a:pt x="816" y="2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2041560" y="304164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324480" y="321300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24280" y="4610160"/>
            <a:ext cx="332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788000" y="4152960"/>
            <a:ext cx="3270240" cy="876240"/>
          </a:xfrm>
          <a:prstGeom prst="line">
            <a:avLst/>
          </a:prstGeom>
          <a:ln w="93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75280" y="3343320"/>
            <a:ext cx="648000" cy="2419200"/>
          </a:xfrm>
          <a:prstGeom prst="line">
            <a:avLst/>
          </a:prstGeom>
          <a:ln w="9360">
            <a:solidFill>
              <a:srgbClr val="66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8121600" y="395604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5707080" y="3025800"/>
            <a:ext cx="295200" cy="2714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flipV="1" rot="10800000">
            <a:off x="5694840" y="4583880"/>
            <a:ext cx="167472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5"/>
                </a:moveTo>
                <a:arcTo wR="10800" hR="10800" stAng="-8439982" swAng="7973111"/>
                <a:lnTo>
                  <a:pt x="10800" y="10800"/>
                </a:lnTo>
                <a:close/>
              </a:path>
              <a:path fill="none" w="21600" h="21600">
                <a:moveTo>
                  <a:pt x="2447" y="3955"/>
                </a:moveTo>
                <a:arcTo wR="10800" hR="10800" stAng="-8439982" swAng="797311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9"/>
          <a:stretch/>
        </p:blipFill>
        <p:spPr>
          <a:xfrm>
            <a:off x="3774960" y="5522760"/>
            <a:ext cx="2481480" cy="586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451240" y="2725560"/>
            <a:ext cx="2895480" cy="1414800"/>
          </a:xfrm>
          <a:custGeom>
            <a:avLst/>
            <a:gdLst/>
            <a:ahLst/>
            <a:rect l="l" t="t" r="r" b="b"/>
            <a:pathLst>
              <a:path w="1824" h="891">
                <a:moveTo>
                  <a:pt x="0" y="203"/>
                </a:moveTo>
                <a:cubicBezTo>
                  <a:pt x="232" y="101"/>
                  <a:pt x="464" y="0"/>
                  <a:pt x="768" y="115"/>
                </a:cubicBezTo>
                <a:cubicBezTo>
                  <a:pt x="1072" y="230"/>
                  <a:pt x="1632" y="750"/>
                  <a:pt x="1824" y="8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18720" y="441972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9480" y="27939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70880" y="3895560"/>
            <a:ext cx="243792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0609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06096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0"/>
          <a:stretch/>
        </p:blipFill>
        <p:spPr>
          <a:xfrm>
            <a:off x="7032600" y="3875040"/>
            <a:ext cx="279360" cy="2858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855120" y="49784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Ewald 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775040" y="5257800"/>
            <a:ext cx="8002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4120" y="3645000"/>
            <a:ext cx="1879560" cy="187956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5536800" y="4038480"/>
            <a:ext cx="78732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1"/>
          <a:stretch/>
        </p:blipFill>
        <p:spPr>
          <a:xfrm>
            <a:off x="5499000" y="4191120"/>
            <a:ext cx="569880" cy="3744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2"/>
          <a:stretch/>
        </p:blipFill>
        <p:spPr>
          <a:xfrm>
            <a:off x="1968480" y="1486080"/>
            <a:ext cx="5600880" cy="11617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0191-7101-48EA-8B71-0A0FD3F82E8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60023-A430-47C2-88D5-E3B74DF0FC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hort Wavelength Limi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49400" y="1392120"/>
            <a:ext cx="7291440" cy="2368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932200" y="3781440"/>
            <a:ext cx="28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Projection-Slice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946160" y="4187880"/>
            <a:ext cx="5091120" cy="12301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187640" y="5605560"/>
            <a:ext cx="6369840" cy="3988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Diffraction tomograph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Conventional tomograph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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966D-1446-4F58-9545-902B0F869F3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BEFE0-16D9-47FD-B61E-6AB0F6D24E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ackpropagation Operato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041480" y="1066680"/>
            <a:ext cx="6667200" cy="2220120"/>
            <a:chOff x="1041480" y="1066680"/>
            <a:chExt cx="6667200" cy="2220120"/>
          </a:xfrm>
        </p:grpSpPr>
        <p:sp>
          <p:nvSpPr>
            <p:cNvPr id="280" name=""/>
            <p:cNvSpPr/>
            <p:nvPr/>
          </p:nvSpPr>
          <p:spPr>
            <a:xfrm>
              <a:off x="2340720" y="1346760"/>
              <a:ext cx="0" cy="146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63680" y="2058480"/>
              <a:ext cx="64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242400" y="1234800"/>
              <a:ext cx="407160" cy="1634040"/>
            </a:xfrm>
            <a:custGeom>
              <a:avLst/>
              <a:gdLst/>
              <a:ahLst/>
              <a:rect l="l" t="t" r="r" b="b"/>
              <a:pathLst>
                <a:path w="380" h="1520">
                  <a:moveTo>
                    <a:pt x="154" y="0"/>
                  </a:moveTo>
                  <a:cubicBezTo>
                    <a:pt x="77" y="79"/>
                    <a:pt x="0" y="159"/>
                    <a:pt x="14" y="289"/>
                  </a:cubicBezTo>
                  <a:cubicBezTo>
                    <a:pt x="28" y="419"/>
                    <a:pt x="226" y="609"/>
                    <a:pt x="240" y="780"/>
                  </a:cubicBezTo>
                  <a:cubicBezTo>
                    <a:pt x="254" y="951"/>
                    <a:pt x="77" y="1194"/>
                    <a:pt x="100" y="1317"/>
                  </a:cubicBezTo>
                  <a:cubicBezTo>
                    <a:pt x="123" y="1440"/>
                    <a:pt x="333" y="1488"/>
                    <a:pt x="380" y="15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97640" y="1271520"/>
              <a:ext cx="352080" cy="18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70200" y="2046960"/>
              <a:ext cx="376200" cy="12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97640" y="2667960"/>
              <a:ext cx="59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48560" y="1505160"/>
              <a:ext cx="234720" cy="1290240"/>
            </a:xfrm>
            <a:custGeom>
              <a:avLst/>
              <a:gdLst/>
              <a:ahLst/>
              <a:rect l="l" t="t" r="r" b="b"/>
              <a:pathLst>
                <a:path w="219" h="1200">
                  <a:moveTo>
                    <a:pt x="109" y="0"/>
                  </a:moveTo>
                  <a:cubicBezTo>
                    <a:pt x="143" y="29"/>
                    <a:pt x="177" y="58"/>
                    <a:pt x="187" y="93"/>
                  </a:cubicBezTo>
                  <a:cubicBezTo>
                    <a:pt x="197" y="128"/>
                    <a:pt x="186" y="172"/>
                    <a:pt x="172" y="210"/>
                  </a:cubicBezTo>
                  <a:cubicBezTo>
                    <a:pt x="158" y="248"/>
                    <a:pt x="129" y="266"/>
                    <a:pt x="102" y="319"/>
                  </a:cubicBezTo>
                  <a:cubicBezTo>
                    <a:pt x="75" y="372"/>
                    <a:pt x="0" y="440"/>
                    <a:pt x="8" y="530"/>
                  </a:cubicBezTo>
                  <a:cubicBezTo>
                    <a:pt x="16" y="620"/>
                    <a:pt x="113" y="777"/>
                    <a:pt x="148" y="857"/>
                  </a:cubicBezTo>
                  <a:cubicBezTo>
                    <a:pt x="183" y="937"/>
                    <a:pt x="217" y="966"/>
                    <a:pt x="218" y="1013"/>
                  </a:cubicBezTo>
                  <a:cubicBezTo>
                    <a:pt x="219" y="1060"/>
                    <a:pt x="183" y="1107"/>
                    <a:pt x="156" y="1138"/>
                  </a:cubicBezTo>
                  <a:cubicBezTo>
                    <a:pt x="129" y="1169"/>
                    <a:pt x="73" y="1190"/>
                    <a:pt x="55" y="12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458080" y="1513080"/>
              <a:ext cx="259920" cy="8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83280" y="2611800"/>
              <a:ext cx="384480" cy="6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9" name="" descr=""/>
            <p:cNvPicPr/>
            <p:nvPr/>
          </p:nvPicPr>
          <p:blipFill>
            <a:blip r:embed="rId1"/>
            <a:stretch/>
          </p:blipFill>
          <p:spPr>
            <a:xfrm>
              <a:off x="6644880" y="1692000"/>
              <a:ext cx="1063800" cy="3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2"/>
            <a:stretch/>
          </p:blipFill>
          <p:spPr>
            <a:xfrm>
              <a:off x="1041480" y="1630800"/>
              <a:ext cx="108648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 txBox="1"/>
            <p:nvPr/>
          </p:nvSpPr>
          <p:spPr>
            <a:xfrm>
              <a:off x="3267360" y="1589760"/>
              <a:ext cx="2385720" cy="492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man Old Style"/>
                </a:rPr>
                <a:t>propagation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73560" y="2107800"/>
              <a:ext cx="228636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2999520" y="2375280"/>
              <a:ext cx="303084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man Old Style"/>
                </a:rPr>
                <a:t>Backpropagation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62040" y="2356920"/>
              <a:ext cx="2286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13400" y="2916000"/>
              <a:ext cx="352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29960" y="1066680"/>
              <a:ext cx="0" cy="207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45520" y="2892960"/>
              <a:ext cx="352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93840" y="3276720"/>
            <a:ext cx="8432640" cy="799920"/>
            <a:chOff x="393840" y="3276720"/>
            <a:chExt cx="8432640" cy="799920"/>
          </a:xfrm>
        </p:grpSpPr>
        <p:sp>
          <p:nvSpPr>
            <p:cNvPr id="299" name=""/>
            <p:cNvSpPr/>
            <p:nvPr/>
          </p:nvSpPr>
          <p:spPr>
            <a:xfrm>
              <a:off x="4623840" y="3390840"/>
              <a:ext cx="17049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Incoming Wa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00ff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6600ff"/>
                  </a:solidFill>
                  <a:latin typeface="Times New Roman"/>
                </a:rPr>
                <a:t>Condition in 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l.h.s</a:t>
              </a:r>
              <a:r>
                <a:rPr b="0" lang="en-US" sz="1600" spc="-1" strike="noStrike">
                  <a:solidFill>
                    <a:srgbClr val="6600ff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33440" y="3390840"/>
              <a:ext cx="20642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Dirichlet</a:t>
              </a: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Neuman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on bounding surface S</a:t>
              </a:r>
              <a:r>
                <a:rPr b="0" lang="en-US" sz="16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97840" y="344772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40880" y="344772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3840" y="3276720"/>
              <a:ext cx="8432640" cy="799920"/>
            </a:xfrm>
            <a:prstGeom prst="rect">
              <a:avLst/>
            </a:prstGeom>
            <a:noFill/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3"/>
            <a:stretch/>
          </p:blipFill>
          <p:spPr>
            <a:xfrm>
              <a:off x="785520" y="3335040"/>
              <a:ext cx="3455640" cy="642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2759040" y="4305240"/>
            <a:ext cx="5529240" cy="685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06" name=""/>
          <p:cNvSpPr/>
          <p:nvPr/>
        </p:nvSpPr>
        <p:spPr>
          <a:xfrm>
            <a:off x="415800" y="44449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Backpropagated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3173400" y="5270400"/>
            <a:ext cx="4714920" cy="80028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308" name=""/>
          <p:cNvSpPr/>
          <p:nvPr/>
        </p:nvSpPr>
        <p:spPr>
          <a:xfrm>
            <a:off x="936720" y="537228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Backpropa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8EFA-B8B1-4DD0-9957-F9C9A8787C7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0B9BD-627C-4AC3-8D62-76C70893A0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istorical surv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1840" y="1463760"/>
            <a:ext cx="2869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X-ray crystall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38480" y="192708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4160" y="2598840"/>
            <a:ext cx="2910240" cy="6786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ier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n/Rytov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2960" y="2612880"/>
            <a:ext cx="1656000" cy="6786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99080" y="3375000"/>
            <a:ext cx="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85680" y="4203720"/>
            <a:ext cx="3022920" cy="7520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n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raction tom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21320" y="4211640"/>
            <a:ext cx="2158920" cy="6786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3240" y="4968720"/>
            <a:ext cx="0" cy="4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95000" y="5435640"/>
            <a:ext cx="36874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Diffraction Tom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23200" y="4894200"/>
            <a:ext cx="0" cy="5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22640" y="3290760"/>
            <a:ext cx="0" cy="87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DC9-34DA-49CE-AFDF-366885671D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E927F-78BB-4359-A9B4-87D387A8B5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pproximate Equivalence of Two Forms of Backpropag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755720" y="1866960"/>
            <a:ext cx="5529240" cy="68580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492280" y="4944960"/>
            <a:ext cx="4098960" cy="4273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685800" y="5513400"/>
            <a:ext cx="7827840" cy="5824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13" name=""/>
          <p:cNvSpPr/>
          <p:nvPr/>
        </p:nvSpPr>
        <p:spPr>
          <a:xfrm>
            <a:off x="2113920" y="4498920"/>
            <a:ext cx="46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.S.E. Form for bandlimited phase perturb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81400" y="142236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Form based on using conjugate Green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2058840" y="3124080"/>
            <a:ext cx="5151600" cy="6336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832760" y="2705040"/>
            <a:ext cx="54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Spectral representation of conjugate Green function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5"/>
          <a:stretch/>
        </p:blipFill>
        <p:spPr>
          <a:xfrm>
            <a:off x="1887480" y="3740040"/>
            <a:ext cx="5291280" cy="67320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921-50E0-4B27-87A2-31E975FF566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A0D1F-6051-434A-88FE-2BFB6E4916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joint of Propagation Operator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030400" y="1990800"/>
            <a:ext cx="5105520" cy="10015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595440" y="1405080"/>
            <a:ext cx="7881840" cy="5443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550800" y="3178080"/>
            <a:ext cx="7794720" cy="15987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44480" y="2986200"/>
            <a:ext cx="35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djoint of Propagation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1995480" y="4941720"/>
            <a:ext cx="4581360" cy="1025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27FD-A42B-40BF-80DD-F86D5CA2897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39ECC-6487-4BA6-9850-C6F65B7BB0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lationship Between Adjoint and Backpropagation Operator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64960" y="2744640"/>
            <a:ext cx="27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pectral Re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862280" y="1444680"/>
            <a:ext cx="5029200" cy="13510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1933560" y="3132000"/>
            <a:ext cx="4538520" cy="12193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1380960" y="4413240"/>
            <a:ext cx="6026400" cy="85104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1460520" y="5348160"/>
            <a:ext cx="5791320" cy="9115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3CED-C2E5-4FA7-95E0-E3C1430725A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C213D-DF89-4567-8129-14D3949D2A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construction from Complete Dat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530360" y="2786040"/>
            <a:ext cx="5919840" cy="5824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2735280" y="4759200"/>
            <a:ext cx="3726000" cy="5130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1797120" y="1203480"/>
            <a:ext cx="5357880" cy="11379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1744560" y="3392640"/>
            <a:ext cx="5781600" cy="8586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883160" y="4363920"/>
            <a:ext cx="49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efi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be relative to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coordinate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76200" y="2502000"/>
            <a:ext cx="46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gles defined relative to the fixed (x,y)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5"/>
          <a:stretch/>
        </p:blipFill>
        <p:spPr>
          <a:xfrm>
            <a:off x="1784520" y="5307120"/>
            <a:ext cx="5675040" cy="89208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2E08-181C-4091-B77F-03083F34419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731A0-9F06-4A5D-A606-826909BBEB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iltered Backpropagation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04800" y="1468440"/>
            <a:ext cx="7888320" cy="6573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627120" y="3583080"/>
            <a:ext cx="76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Convolutional filtering followed by backpropagation and sum over 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139760" y="2333520"/>
            <a:ext cx="6985080" cy="97020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135080" y="4282920"/>
            <a:ext cx="6981840" cy="14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0C5D-AEA5-404C-808F-6117FD5AAF4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5F2E6-FD0C-4A72-96A2-6C396BC3E0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PB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297160" y="1504800"/>
            <a:ext cx="5503680" cy="7286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2496960" y="2787480"/>
            <a:ext cx="6647040" cy="7048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1467000" y="4608360"/>
            <a:ext cx="6138720" cy="94644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347" name=""/>
          <p:cNvSpPr/>
          <p:nvPr/>
        </p:nvSpPr>
        <p:spPr>
          <a:xfrm>
            <a:off x="1069200" y="163980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Filter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3280" y="293040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ack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73200" y="3870360"/>
            <a:ext cx="595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um over the filtered and backpropagated partial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747-0065-490E-B053-E669D22F6C8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664FB-6139-45D3-98D0-BB68100770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28560" y="266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iltered backpropagation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1760" y="3065400"/>
            <a:ext cx="513000" cy="449280"/>
          </a:xfrm>
          <a:custGeom>
            <a:avLst/>
            <a:gdLst/>
            <a:ahLst/>
            <a:rect l="l" t="t" r="r" b="b"/>
            <a:pathLst>
              <a:path w="323" h="283">
                <a:moveTo>
                  <a:pt x="194" y="72"/>
                </a:moveTo>
                <a:lnTo>
                  <a:pt x="183" y="41"/>
                </a:lnTo>
                <a:lnTo>
                  <a:pt x="163" y="20"/>
                </a:lnTo>
                <a:lnTo>
                  <a:pt x="127" y="5"/>
                </a:lnTo>
                <a:lnTo>
                  <a:pt x="112" y="0"/>
                </a:lnTo>
                <a:lnTo>
                  <a:pt x="97" y="0"/>
                </a:lnTo>
                <a:lnTo>
                  <a:pt x="87" y="10"/>
                </a:lnTo>
                <a:lnTo>
                  <a:pt x="76" y="20"/>
                </a:lnTo>
                <a:lnTo>
                  <a:pt x="71" y="36"/>
                </a:lnTo>
                <a:lnTo>
                  <a:pt x="66" y="56"/>
                </a:lnTo>
                <a:lnTo>
                  <a:pt x="66" y="67"/>
                </a:lnTo>
                <a:lnTo>
                  <a:pt x="71" y="82"/>
                </a:lnTo>
                <a:lnTo>
                  <a:pt x="76" y="97"/>
                </a:lnTo>
                <a:lnTo>
                  <a:pt x="76" y="112"/>
                </a:lnTo>
                <a:lnTo>
                  <a:pt x="76" y="123"/>
                </a:lnTo>
                <a:lnTo>
                  <a:pt x="56" y="138"/>
                </a:lnTo>
                <a:lnTo>
                  <a:pt x="41" y="138"/>
                </a:lnTo>
                <a:lnTo>
                  <a:pt x="25" y="143"/>
                </a:lnTo>
                <a:lnTo>
                  <a:pt x="15" y="153"/>
                </a:lnTo>
                <a:lnTo>
                  <a:pt x="0" y="169"/>
                </a:lnTo>
                <a:lnTo>
                  <a:pt x="0" y="179"/>
                </a:lnTo>
                <a:lnTo>
                  <a:pt x="0" y="195"/>
                </a:lnTo>
                <a:lnTo>
                  <a:pt x="10" y="215"/>
                </a:lnTo>
                <a:lnTo>
                  <a:pt x="20" y="246"/>
                </a:lnTo>
                <a:lnTo>
                  <a:pt x="51" y="256"/>
                </a:lnTo>
                <a:lnTo>
                  <a:pt x="66" y="266"/>
                </a:lnTo>
                <a:lnTo>
                  <a:pt x="87" y="276"/>
                </a:lnTo>
                <a:lnTo>
                  <a:pt x="102" y="282"/>
                </a:lnTo>
                <a:lnTo>
                  <a:pt x="117" y="282"/>
                </a:lnTo>
                <a:lnTo>
                  <a:pt x="132" y="282"/>
                </a:lnTo>
                <a:lnTo>
                  <a:pt x="143" y="282"/>
                </a:lnTo>
                <a:lnTo>
                  <a:pt x="194" y="276"/>
                </a:lnTo>
                <a:lnTo>
                  <a:pt x="234" y="271"/>
                </a:lnTo>
                <a:lnTo>
                  <a:pt x="250" y="261"/>
                </a:lnTo>
                <a:lnTo>
                  <a:pt x="270" y="251"/>
                </a:lnTo>
                <a:lnTo>
                  <a:pt x="286" y="236"/>
                </a:lnTo>
                <a:lnTo>
                  <a:pt x="301" y="220"/>
                </a:lnTo>
                <a:lnTo>
                  <a:pt x="311" y="215"/>
                </a:lnTo>
                <a:lnTo>
                  <a:pt x="322" y="195"/>
                </a:lnTo>
                <a:lnTo>
                  <a:pt x="322" y="179"/>
                </a:lnTo>
                <a:lnTo>
                  <a:pt x="322" y="169"/>
                </a:lnTo>
                <a:lnTo>
                  <a:pt x="322" y="148"/>
                </a:lnTo>
                <a:lnTo>
                  <a:pt x="322" y="133"/>
                </a:lnTo>
                <a:lnTo>
                  <a:pt x="311" y="118"/>
                </a:lnTo>
                <a:lnTo>
                  <a:pt x="301" y="118"/>
                </a:lnTo>
                <a:lnTo>
                  <a:pt x="286" y="118"/>
                </a:lnTo>
                <a:lnTo>
                  <a:pt x="270" y="118"/>
                </a:lnTo>
                <a:lnTo>
                  <a:pt x="255" y="128"/>
                </a:lnTo>
                <a:lnTo>
                  <a:pt x="245" y="133"/>
                </a:lnTo>
                <a:lnTo>
                  <a:pt x="229" y="133"/>
                </a:lnTo>
                <a:lnTo>
                  <a:pt x="214" y="133"/>
                </a:lnTo>
                <a:lnTo>
                  <a:pt x="209" y="118"/>
                </a:lnTo>
                <a:lnTo>
                  <a:pt x="219" y="107"/>
                </a:lnTo>
                <a:lnTo>
                  <a:pt x="234" y="97"/>
                </a:lnTo>
                <a:lnTo>
                  <a:pt x="245" y="82"/>
                </a:lnTo>
                <a:lnTo>
                  <a:pt x="250" y="67"/>
                </a:lnTo>
                <a:lnTo>
                  <a:pt x="245" y="51"/>
                </a:lnTo>
                <a:lnTo>
                  <a:pt x="229" y="46"/>
                </a:lnTo>
                <a:lnTo>
                  <a:pt x="214" y="51"/>
                </a:lnTo>
                <a:lnTo>
                  <a:pt x="194" y="72"/>
                </a:lnTo>
                <a:lnTo>
                  <a:pt x="194" y="7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36800" y="2119320"/>
            <a:ext cx="820800" cy="82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73520" y="2171880"/>
            <a:ext cx="707760" cy="723600"/>
          </a:xfrm>
          <a:custGeom>
            <a:avLst/>
            <a:gdLst/>
            <a:ahLst/>
            <a:rect l="l" t="t" r="r" b="b"/>
            <a:pathLst>
              <a:path w="446" h="456">
                <a:moveTo>
                  <a:pt x="0" y="0"/>
                </a:moveTo>
                <a:lnTo>
                  <a:pt x="20" y="0"/>
                </a:lnTo>
                <a:lnTo>
                  <a:pt x="36" y="0"/>
                </a:lnTo>
                <a:lnTo>
                  <a:pt x="46" y="15"/>
                </a:lnTo>
                <a:lnTo>
                  <a:pt x="56" y="51"/>
                </a:lnTo>
                <a:lnTo>
                  <a:pt x="66" y="66"/>
                </a:lnTo>
                <a:lnTo>
                  <a:pt x="82" y="81"/>
                </a:lnTo>
                <a:lnTo>
                  <a:pt x="97" y="86"/>
                </a:lnTo>
                <a:lnTo>
                  <a:pt x="112" y="86"/>
                </a:lnTo>
                <a:lnTo>
                  <a:pt x="128" y="86"/>
                </a:lnTo>
                <a:lnTo>
                  <a:pt x="143" y="86"/>
                </a:lnTo>
                <a:lnTo>
                  <a:pt x="158" y="86"/>
                </a:lnTo>
                <a:lnTo>
                  <a:pt x="174" y="86"/>
                </a:lnTo>
                <a:lnTo>
                  <a:pt x="189" y="86"/>
                </a:lnTo>
                <a:lnTo>
                  <a:pt x="204" y="86"/>
                </a:lnTo>
                <a:lnTo>
                  <a:pt x="219" y="96"/>
                </a:lnTo>
                <a:lnTo>
                  <a:pt x="219" y="107"/>
                </a:lnTo>
                <a:lnTo>
                  <a:pt x="230" y="122"/>
                </a:lnTo>
                <a:lnTo>
                  <a:pt x="235" y="137"/>
                </a:lnTo>
                <a:lnTo>
                  <a:pt x="235" y="152"/>
                </a:lnTo>
                <a:lnTo>
                  <a:pt x="225" y="158"/>
                </a:lnTo>
                <a:lnTo>
                  <a:pt x="225" y="173"/>
                </a:lnTo>
                <a:lnTo>
                  <a:pt x="219" y="188"/>
                </a:lnTo>
                <a:lnTo>
                  <a:pt x="219" y="204"/>
                </a:lnTo>
                <a:lnTo>
                  <a:pt x="214" y="219"/>
                </a:lnTo>
                <a:lnTo>
                  <a:pt x="214" y="235"/>
                </a:lnTo>
                <a:lnTo>
                  <a:pt x="209" y="255"/>
                </a:lnTo>
                <a:lnTo>
                  <a:pt x="209" y="270"/>
                </a:lnTo>
                <a:lnTo>
                  <a:pt x="219" y="281"/>
                </a:lnTo>
                <a:lnTo>
                  <a:pt x="235" y="291"/>
                </a:lnTo>
                <a:lnTo>
                  <a:pt x="250" y="296"/>
                </a:lnTo>
                <a:lnTo>
                  <a:pt x="266" y="296"/>
                </a:lnTo>
                <a:lnTo>
                  <a:pt x="281" y="296"/>
                </a:lnTo>
                <a:lnTo>
                  <a:pt x="291" y="296"/>
                </a:lnTo>
                <a:lnTo>
                  <a:pt x="307" y="296"/>
                </a:lnTo>
                <a:lnTo>
                  <a:pt x="322" y="296"/>
                </a:lnTo>
                <a:lnTo>
                  <a:pt x="342" y="296"/>
                </a:lnTo>
                <a:lnTo>
                  <a:pt x="358" y="296"/>
                </a:lnTo>
                <a:lnTo>
                  <a:pt x="373" y="296"/>
                </a:lnTo>
                <a:lnTo>
                  <a:pt x="388" y="311"/>
                </a:lnTo>
                <a:lnTo>
                  <a:pt x="398" y="326"/>
                </a:lnTo>
                <a:lnTo>
                  <a:pt x="398" y="337"/>
                </a:lnTo>
                <a:lnTo>
                  <a:pt x="409" y="372"/>
                </a:lnTo>
                <a:lnTo>
                  <a:pt x="414" y="388"/>
                </a:lnTo>
                <a:lnTo>
                  <a:pt x="414" y="398"/>
                </a:lnTo>
                <a:lnTo>
                  <a:pt x="414" y="413"/>
                </a:lnTo>
                <a:lnTo>
                  <a:pt x="414" y="434"/>
                </a:lnTo>
                <a:lnTo>
                  <a:pt x="414" y="449"/>
                </a:lnTo>
                <a:lnTo>
                  <a:pt x="429" y="455"/>
                </a:lnTo>
                <a:lnTo>
                  <a:pt x="445" y="455"/>
                </a:lnTo>
              </a:path>
            </a:pathLst>
          </a:custGeom>
          <a:noFill/>
          <a:ln cap="rnd" w="1260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266840" y="3544920"/>
            <a:ext cx="744480" cy="907920"/>
            <a:chOff x="1266840" y="3544920"/>
            <a:chExt cx="744480" cy="907920"/>
          </a:xfrm>
        </p:grpSpPr>
        <p:sp>
          <p:nvSpPr>
            <p:cNvPr id="355" name=""/>
            <p:cNvSpPr/>
            <p:nvPr/>
          </p:nvSpPr>
          <p:spPr>
            <a:xfrm>
              <a:off x="1266840" y="3544920"/>
              <a:ext cx="744480" cy="907920"/>
            </a:xfrm>
            <a:prstGeom prst="line">
              <a:avLst/>
            </a:prstGeom>
            <a:ln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379520" y="3682800"/>
              <a:ext cx="617400" cy="615960"/>
            </a:xfrm>
            <a:prstGeom prst="line">
              <a:avLst/>
            </a:prstGeom>
            <a:ln w="12600">
              <a:solidFill>
                <a:srgbClr val="ff505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 flipH="1">
            <a:off x="2633400" y="2308320"/>
            <a:ext cx="114120" cy="585720"/>
          </a:xfrm>
          <a:prstGeom prst="line">
            <a:avLst/>
          </a:prstGeom>
          <a:ln w="12600">
            <a:solidFill>
              <a:srgbClr val="ff505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819520" y="2876040"/>
            <a:ext cx="520560" cy="155880"/>
          </a:xfrm>
          <a:prstGeom prst="line">
            <a:avLst/>
          </a:prstGeom>
          <a:ln w="12600">
            <a:solidFill>
              <a:srgbClr val="ff505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681280" y="2604600"/>
            <a:ext cx="433440" cy="419400"/>
          </a:xfrm>
          <a:prstGeom prst="line">
            <a:avLst/>
          </a:prstGeom>
          <a:ln w="12600">
            <a:solidFill>
              <a:srgbClr val="ff505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75200" y="2316240"/>
            <a:ext cx="820800" cy="82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19020000">
            <a:off x="2620440" y="1730160"/>
            <a:ext cx="3923280" cy="392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1" y="0"/>
                </a:moveTo>
                <a:arcTo wR="10800" hR="10800" stAng="-5402781" swAng="5402781"/>
                <a:lnTo>
                  <a:pt x="10800" y="10800"/>
                </a:lnTo>
                <a:close/>
              </a:path>
              <a:path fill="none" w="21600" h="21600">
                <a:moveTo>
                  <a:pt x="10791" y="0"/>
                </a:moveTo>
                <a:arcTo wR="10800" hR="10800" stAng="-5402781" swAng="5402781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073400" y="1770120"/>
            <a:ext cx="93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Times New Roman"/>
              </a:rPr>
              <a:t>Filt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76760" y="2563920"/>
            <a:ext cx="1154880" cy="115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0" y="0"/>
                </a:moveTo>
                <a:arcTo wR="10800" hR="10800" stAng="-5409445" swAng="5409445"/>
                <a:lnTo>
                  <a:pt x="10800" y="10800"/>
                </a:lnTo>
                <a:close/>
              </a:path>
              <a:path fill="none" w="21600" h="21600">
                <a:moveTo>
                  <a:pt x="10770" y="0"/>
                </a:moveTo>
                <a:arcTo wR="10800" hR="10800" stAng="-5409445" swAng="5409445"/>
              </a:path>
            </a:pathLst>
          </a:custGeom>
          <a:noFill/>
          <a:ln cap="rnd" w="12600">
            <a:solidFill>
              <a:srgbClr val="ff505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45400" y="2673360"/>
            <a:ext cx="1154880" cy="115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0" y="0"/>
                </a:moveTo>
                <a:arcTo wR="10800" hR="10800" stAng="-5409445" swAng="5409445"/>
                <a:lnTo>
                  <a:pt x="10800" y="10800"/>
                </a:lnTo>
                <a:close/>
              </a:path>
              <a:path fill="none" w="21600" h="21600">
                <a:moveTo>
                  <a:pt x="10770" y="0"/>
                </a:moveTo>
                <a:arcTo wR="10800" hR="10800" stAng="-5409445" swAng="5409445"/>
              </a:path>
            </a:pathLst>
          </a:custGeom>
          <a:noFill/>
          <a:ln cap="rnd" w="12600">
            <a:solidFill>
              <a:srgbClr val="3333cc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33880" y="3095640"/>
            <a:ext cx="881280" cy="695160"/>
          </a:xfrm>
          <a:custGeom>
            <a:avLst/>
            <a:gdLst/>
            <a:ahLst/>
            <a:rect l="l" t="t" r="r" b="b"/>
            <a:pathLst>
              <a:path w="555" h="438">
                <a:moveTo>
                  <a:pt x="418" y="46"/>
                </a:moveTo>
                <a:lnTo>
                  <a:pt x="373" y="37"/>
                </a:lnTo>
                <a:lnTo>
                  <a:pt x="345" y="28"/>
                </a:lnTo>
                <a:lnTo>
                  <a:pt x="309" y="19"/>
                </a:lnTo>
                <a:lnTo>
                  <a:pt x="282" y="19"/>
                </a:lnTo>
                <a:lnTo>
                  <a:pt x="254" y="10"/>
                </a:lnTo>
                <a:lnTo>
                  <a:pt x="218" y="10"/>
                </a:lnTo>
                <a:lnTo>
                  <a:pt x="164" y="0"/>
                </a:lnTo>
                <a:lnTo>
                  <a:pt x="145" y="0"/>
                </a:lnTo>
                <a:lnTo>
                  <a:pt x="118" y="0"/>
                </a:lnTo>
                <a:lnTo>
                  <a:pt x="91" y="0"/>
                </a:lnTo>
                <a:lnTo>
                  <a:pt x="64" y="10"/>
                </a:lnTo>
                <a:lnTo>
                  <a:pt x="45" y="28"/>
                </a:lnTo>
                <a:lnTo>
                  <a:pt x="18" y="55"/>
                </a:lnTo>
                <a:lnTo>
                  <a:pt x="9" y="82"/>
                </a:lnTo>
                <a:lnTo>
                  <a:pt x="9" y="110"/>
                </a:lnTo>
                <a:lnTo>
                  <a:pt x="0" y="137"/>
                </a:lnTo>
                <a:lnTo>
                  <a:pt x="0" y="164"/>
                </a:lnTo>
                <a:lnTo>
                  <a:pt x="0" y="191"/>
                </a:lnTo>
                <a:lnTo>
                  <a:pt x="0" y="219"/>
                </a:lnTo>
                <a:lnTo>
                  <a:pt x="18" y="246"/>
                </a:lnTo>
                <a:lnTo>
                  <a:pt x="36" y="273"/>
                </a:lnTo>
                <a:lnTo>
                  <a:pt x="55" y="282"/>
                </a:lnTo>
                <a:lnTo>
                  <a:pt x="82" y="309"/>
                </a:lnTo>
                <a:lnTo>
                  <a:pt x="100" y="328"/>
                </a:lnTo>
                <a:lnTo>
                  <a:pt x="127" y="355"/>
                </a:lnTo>
                <a:lnTo>
                  <a:pt x="164" y="373"/>
                </a:lnTo>
                <a:lnTo>
                  <a:pt x="191" y="391"/>
                </a:lnTo>
                <a:lnTo>
                  <a:pt x="218" y="400"/>
                </a:lnTo>
                <a:lnTo>
                  <a:pt x="245" y="409"/>
                </a:lnTo>
                <a:lnTo>
                  <a:pt x="273" y="419"/>
                </a:lnTo>
                <a:lnTo>
                  <a:pt x="309" y="428"/>
                </a:lnTo>
                <a:lnTo>
                  <a:pt x="345" y="437"/>
                </a:lnTo>
                <a:lnTo>
                  <a:pt x="364" y="437"/>
                </a:lnTo>
                <a:lnTo>
                  <a:pt x="400" y="437"/>
                </a:lnTo>
                <a:lnTo>
                  <a:pt x="427" y="437"/>
                </a:lnTo>
                <a:lnTo>
                  <a:pt x="464" y="428"/>
                </a:lnTo>
                <a:lnTo>
                  <a:pt x="482" y="409"/>
                </a:lnTo>
                <a:lnTo>
                  <a:pt x="509" y="382"/>
                </a:lnTo>
                <a:lnTo>
                  <a:pt x="527" y="346"/>
                </a:lnTo>
                <a:lnTo>
                  <a:pt x="545" y="319"/>
                </a:lnTo>
                <a:lnTo>
                  <a:pt x="545" y="300"/>
                </a:lnTo>
                <a:lnTo>
                  <a:pt x="554" y="273"/>
                </a:lnTo>
                <a:lnTo>
                  <a:pt x="554" y="246"/>
                </a:lnTo>
                <a:lnTo>
                  <a:pt x="554" y="219"/>
                </a:lnTo>
                <a:lnTo>
                  <a:pt x="554" y="200"/>
                </a:lnTo>
                <a:lnTo>
                  <a:pt x="554" y="173"/>
                </a:lnTo>
                <a:lnTo>
                  <a:pt x="554" y="146"/>
                </a:lnTo>
                <a:lnTo>
                  <a:pt x="554" y="119"/>
                </a:lnTo>
                <a:lnTo>
                  <a:pt x="545" y="100"/>
                </a:lnTo>
                <a:lnTo>
                  <a:pt x="518" y="91"/>
                </a:lnTo>
                <a:lnTo>
                  <a:pt x="491" y="73"/>
                </a:lnTo>
                <a:lnTo>
                  <a:pt x="464" y="73"/>
                </a:lnTo>
                <a:lnTo>
                  <a:pt x="418" y="46"/>
                </a:lnTo>
                <a:lnTo>
                  <a:pt x="418" y="46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76640" y="2419200"/>
            <a:ext cx="18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Backpropa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824440" y="2427120"/>
            <a:ext cx="920880" cy="954360"/>
            <a:chOff x="5824440" y="2427120"/>
            <a:chExt cx="920880" cy="954360"/>
          </a:xfrm>
        </p:grpSpPr>
        <p:sp>
          <p:nvSpPr>
            <p:cNvPr id="368" name=""/>
            <p:cNvSpPr/>
            <p:nvPr/>
          </p:nvSpPr>
          <p:spPr>
            <a:xfrm flipH="1">
              <a:off x="5824440" y="2657520"/>
              <a:ext cx="114480" cy="585720"/>
            </a:xfrm>
            <a:prstGeom prst="line">
              <a:avLst/>
            </a:prstGeom>
            <a:ln w="12600">
              <a:solidFill>
                <a:srgbClr val="3333cc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010200" y="3225960"/>
              <a:ext cx="520920" cy="155520"/>
            </a:xfrm>
            <a:prstGeom prst="line">
              <a:avLst/>
            </a:prstGeom>
            <a:ln w="12600">
              <a:solidFill>
                <a:srgbClr val="3333cc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943600" y="2993760"/>
              <a:ext cx="307800" cy="307800"/>
            </a:xfrm>
            <a:prstGeom prst="line">
              <a:avLst/>
            </a:prstGeom>
            <a:ln w="12600">
              <a:solidFill>
                <a:srgbClr val="3333cc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06960" y="2427120"/>
              <a:ext cx="738360" cy="838440"/>
            </a:xfrm>
            <a:custGeom>
              <a:avLst/>
              <a:gdLst/>
              <a:ahLst/>
              <a:rect l="l" t="t" r="r" b="b"/>
              <a:pathLst>
                <a:path w="465" h="528">
                  <a:moveTo>
                    <a:pt x="0" y="45"/>
                  </a:moveTo>
                  <a:lnTo>
                    <a:pt x="37" y="54"/>
                  </a:lnTo>
                  <a:lnTo>
                    <a:pt x="64" y="45"/>
                  </a:lnTo>
                  <a:lnTo>
                    <a:pt x="91" y="36"/>
                  </a:lnTo>
                  <a:lnTo>
                    <a:pt x="109" y="9"/>
                  </a:lnTo>
                  <a:lnTo>
                    <a:pt x="128" y="0"/>
                  </a:lnTo>
                  <a:lnTo>
                    <a:pt x="146" y="27"/>
                  </a:lnTo>
                  <a:lnTo>
                    <a:pt x="146" y="54"/>
                  </a:lnTo>
                  <a:lnTo>
                    <a:pt x="146" y="82"/>
                  </a:lnTo>
                  <a:lnTo>
                    <a:pt x="137" y="109"/>
                  </a:lnTo>
                  <a:lnTo>
                    <a:pt x="118" y="136"/>
                  </a:lnTo>
                  <a:lnTo>
                    <a:pt x="109" y="163"/>
                  </a:lnTo>
                  <a:lnTo>
                    <a:pt x="100" y="182"/>
                  </a:lnTo>
                  <a:lnTo>
                    <a:pt x="100" y="209"/>
                  </a:lnTo>
                  <a:lnTo>
                    <a:pt x="100" y="236"/>
                  </a:lnTo>
                  <a:lnTo>
                    <a:pt x="128" y="254"/>
                  </a:lnTo>
                  <a:lnTo>
                    <a:pt x="155" y="254"/>
                  </a:lnTo>
                  <a:lnTo>
                    <a:pt x="182" y="254"/>
                  </a:lnTo>
                  <a:lnTo>
                    <a:pt x="209" y="245"/>
                  </a:lnTo>
                  <a:lnTo>
                    <a:pt x="228" y="245"/>
                  </a:lnTo>
                  <a:lnTo>
                    <a:pt x="255" y="236"/>
                  </a:lnTo>
                  <a:lnTo>
                    <a:pt x="282" y="254"/>
                  </a:lnTo>
                  <a:lnTo>
                    <a:pt x="282" y="291"/>
                  </a:lnTo>
                  <a:lnTo>
                    <a:pt x="282" y="318"/>
                  </a:lnTo>
                  <a:lnTo>
                    <a:pt x="282" y="345"/>
                  </a:lnTo>
                  <a:lnTo>
                    <a:pt x="273" y="372"/>
                  </a:lnTo>
                  <a:lnTo>
                    <a:pt x="273" y="391"/>
                  </a:lnTo>
                  <a:lnTo>
                    <a:pt x="273" y="418"/>
                  </a:lnTo>
                  <a:lnTo>
                    <a:pt x="300" y="418"/>
                  </a:lnTo>
                  <a:lnTo>
                    <a:pt x="328" y="418"/>
                  </a:lnTo>
                  <a:lnTo>
                    <a:pt x="355" y="418"/>
                  </a:lnTo>
                  <a:lnTo>
                    <a:pt x="382" y="391"/>
                  </a:lnTo>
                  <a:lnTo>
                    <a:pt x="400" y="372"/>
                  </a:lnTo>
                  <a:lnTo>
                    <a:pt x="409" y="345"/>
                  </a:lnTo>
                  <a:lnTo>
                    <a:pt x="409" y="381"/>
                  </a:lnTo>
                  <a:lnTo>
                    <a:pt x="409" y="436"/>
                  </a:lnTo>
                  <a:lnTo>
                    <a:pt x="418" y="463"/>
                  </a:lnTo>
                  <a:lnTo>
                    <a:pt x="418" y="491"/>
                  </a:lnTo>
                  <a:lnTo>
                    <a:pt x="418" y="518"/>
                  </a:lnTo>
                  <a:lnTo>
                    <a:pt x="437" y="527"/>
                  </a:lnTo>
                  <a:lnTo>
                    <a:pt x="464" y="527"/>
                  </a:lnTo>
                </a:path>
              </a:pathLst>
            </a:custGeom>
            <a:noFill/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319480" y="4218120"/>
            <a:ext cx="2455560" cy="2155680"/>
            <a:chOff x="2319480" y="4218120"/>
            <a:chExt cx="2455560" cy="2155680"/>
          </a:xfrm>
        </p:grpSpPr>
        <p:grpSp>
          <p:nvGrpSpPr>
            <p:cNvPr id="373" name=""/>
            <p:cNvGrpSpPr/>
            <p:nvPr/>
          </p:nvGrpSpPr>
          <p:grpSpPr>
            <a:xfrm>
              <a:off x="3803400" y="5418000"/>
              <a:ext cx="920880" cy="955800"/>
              <a:chOff x="3803400" y="5418000"/>
              <a:chExt cx="920880" cy="955800"/>
            </a:xfrm>
          </p:grpSpPr>
          <p:sp>
            <p:nvSpPr>
              <p:cNvPr id="374" name=""/>
              <p:cNvSpPr/>
              <p:nvPr/>
            </p:nvSpPr>
            <p:spPr>
              <a:xfrm flipH="1" flipV="1">
                <a:off x="3803400" y="5555880"/>
                <a:ext cx="114120" cy="58572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989520" y="5418000"/>
                <a:ext cx="520560" cy="15588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dash"/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922560" y="5497560"/>
                <a:ext cx="308160" cy="30780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dash"/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986280" y="5535720"/>
                <a:ext cx="738000" cy="838080"/>
              </a:xfrm>
              <a:custGeom>
                <a:avLst/>
                <a:gdLst/>
                <a:ahLst/>
                <a:rect l="l" t="t" r="r" b="b"/>
                <a:pathLst>
                  <a:path w="465" h="528">
                    <a:moveTo>
                      <a:pt x="0" y="482"/>
                    </a:moveTo>
                    <a:lnTo>
                      <a:pt x="37" y="473"/>
                    </a:lnTo>
                    <a:lnTo>
                      <a:pt x="64" y="482"/>
                    </a:lnTo>
                    <a:lnTo>
                      <a:pt x="91" y="491"/>
                    </a:lnTo>
                    <a:lnTo>
                      <a:pt x="109" y="518"/>
                    </a:lnTo>
                    <a:lnTo>
                      <a:pt x="128" y="527"/>
                    </a:lnTo>
                    <a:lnTo>
                      <a:pt x="146" y="500"/>
                    </a:lnTo>
                    <a:lnTo>
                      <a:pt x="146" y="473"/>
                    </a:lnTo>
                    <a:lnTo>
                      <a:pt x="146" y="445"/>
                    </a:lnTo>
                    <a:lnTo>
                      <a:pt x="137" y="418"/>
                    </a:lnTo>
                    <a:lnTo>
                      <a:pt x="118" y="391"/>
                    </a:lnTo>
                    <a:lnTo>
                      <a:pt x="109" y="364"/>
                    </a:lnTo>
                    <a:lnTo>
                      <a:pt x="100" y="345"/>
                    </a:lnTo>
                    <a:lnTo>
                      <a:pt x="100" y="318"/>
                    </a:lnTo>
                    <a:lnTo>
                      <a:pt x="100" y="291"/>
                    </a:lnTo>
                    <a:lnTo>
                      <a:pt x="128" y="273"/>
                    </a:lnTo>
                    <a:lnTo>
                      <a:pt x="155" y="273"/>
                    </a:lnTo>
                    <a:lnTo>
                      <a:pt x="182" y="273"/>
                    </a:lnTo>
                    <a:lnTo>
                      <a:pt x="209" y="282"/>
                    </a:lnTo>
                    <a:lnTo>
                      <a:pt x="228" y="282"/>
                    </a:lnTo>
                    <a:lnTo>
                      <a:pt x="255" y="291"/>
                    </a:lnTo>
                    <a:lnTo>
                      <a:pt x="282" y="273"/>
                    </a:lnTo>
                    <a:lnTo>
                      <a:pt x="282" y="236"/>
                    </a:lnTo>
                    <a:lnTo>
                      <a:pt x="282" y="209"/>
                    </a:lnTo>
                    <a:lnTo>
                      <a:pt x="282" y="182"/>
                    </a:lnTo>
                    <a:lnTo>
                      <a:pt x="273" y="155"/>
                    </a:lnTo>
                    <a:lnTo>
                      <a:pt x="273" y="136"/>
                    </a:lnTo>
                    <a:lnTo>
                      <a:pt x="273" y="109"/>
                    </a:lnTo>
                    <a:lnTo>
                      <a:pt x="300" y="109"/>
                    </a:lnTo>
                    <a:lnTo>
                      <a:pt x="328" y="109"/>
                    </a:lnTo>
                    <a:lnTo>
                      <a:pt x="355" y="109"/>
                    </a:lnTo>
                    <a:lnTo>
                      <a:pt x="382" y="136"/>
                    </a:lnTo>
                    <a:lnTo>
                      <a:pt x="400" y="155"/>
                    </a:lnTo>
                    <a:lnTo>
                      <a:pt x="409" y="182"/>
                    </a:lnTo>
                    <a:lnTo>
                      <a:pt x="409" y="146"/>
                    </a:lnTo>
                    <a:lnTo>
                      <a:pt x="409" y="91"/>
                    </a:lnTo>
                    <a:lnTo>
                      <a:pt x="418" y="64"/>
                    </a:lnTo>
                    <a:lnTo>
                      <a:pt x="418" y="36"/>
                    </a:lnTo>
                    <a:lnTo>
                      <a:pt x="418" y="9"/>
                    </a:lnTo>
                    <a:lnTo>
                      <a:pt x="437" y="0"/>
                    </a:lnTo>
                    <a:lnTo>
                      <a:pt x="464" y="0"/>
                    </a:lnTo>
                  </a:path>
                </a:pathLst>
              </a:custGeom>
              <a:noFill/>
              <a:ln cap="rnd" w="12600">
                <a:solidFill>
                  <a:srgbClr val="ff5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3313080" y="5051520"/>
              <a:ext cx="512640" cy="449280"/>
            </a:xfrm>
            <a:custGeom>
              <a:avLst/>
              <a:gdLst/>
              <a:ahLst/>
              <a:rect l="l" t="t" r="r" b="b"/>
              <a:pathLst>
                <a:path w="323" h="283">
                  <a:moveTo>
                    <a:pt x="194" y="72"/>
                  </a:moveTo>
                  <a:lnTo>
                    <a:pt x="183" y="41"/>
                  </a:lnTo>
                  <a:lnTo>
                    <a:pt x="163" y="20"/>
                  </a:lnTo>
                  <a:lnTo>
                    <a:pt x="127" y="5"/>
                  </a:lnTo>
                  <a:lnTo>
                    <a:pt x="112" y="0"/>
                  </a:lnTo>
                  <a:lnTo>
                    <a:pt x="97" y="0"/>
                  </a:lnTo>
                  <a:lnTo>
                    <a:pt x="87" y="10"/>
                  </a:lnTo>
                  <a:lnTo>
                    <a:pt x="76" y="20"/>
                  </a:lnTo>
                  <a:lnTo>
                    <a:pt x="71" y="36"/>
                  </a:lnTo>
                  <a:lnTo>
                    <a:pt x="66" y="56"/>
                  </a:lnTo>
                  <a:lnTo>
                    <a:pt x="66" y="67"/>
                  </a:lnTo>
                  <a:lnTo>
                    <a:pt x="71" y="82"/>
                  </a:lnTo>
                  <a:lnTo>
                    <a:pt x="76" y="97"/>
                  </a:lnTo>
                  <a:lnTo>
                    <a:pt x="76" y="112"/>
                  </a:lnTo>
                  <a:lnTo>
                    <a:pt x="76" y="123"/>
                  </a:lnTo>
                  <a:lnTo>
                    <a:pt x="56" y="138"/>
                  </a:lnTo>
                  <a:lnTo>
                    <a:pt x="41" y="138"/>
                  </a:lnTo>
                  <a:lnTo>
                    <a:pt x="25" y="143"/>
                  </a:lnTo>
                  <a:lnTo>
                    <a:pt x="15" y="153"/>
                  </a:lnTo>
                  <a:lnTo>
                    <a:pt x="0" y="169"/>
                  </a:lnTo>
                  <a:lnTo>
                    <a:pt x="0" y="179"/>
                  </a:lnTo>
                  <a:lnTo>
                    <a:pt x="0" y="195"/>
                  </a:lnTo>
                  <a:lnTo>
                    <a:pt x="10" y="215"/>
                  </a:lnTo>
                  <a:lnTo>
                    <a:pt x="20" y="246"/>
                  </a:lnTo>
                  <a:lnTo>
                    <a:pt x="51" y="256"/>
                  </a:lnTo>
                  <a:lnTo>
                    <a:pt x="66" y="266"/>
                  </a:lnTo>
                  <a:lnTo>
                    <a:pt x="87" y="276"/>
                  </a:lnTo>
                  <a:lnTo>
                    <a:pt x="102" y="282"/>
                  </a:lnTo>
                  <a:lnTo>
                    <a:pt x="117" y="282"/>
                  </a:lnTo>
                  <a:lnTo>
                    <a:pt x="132" y="282"/>
                  </a:lnTo>
                  <a:lnTo>
                    <a:pt x="143" y="282"/>
                  </a:lnTo>
                  <a:lnTo>
                    <a:pt x="194" y="276"/>
                  </a:lnTo>
                  <a:lnTo>
                    <a:pt x="234" y="271"/>
                  </a:lnTo>
                  <a:lnTo>
                    <a:pt x="250" y="261"/>
                  </a:lnTo>
                  <a:lnTo>
                    <a:pt x="270" y="251"/>
                  </a:lnTo>
                  <a:lnTo>
                    <a:pt x="286" y="236"/>
                  </a:lnTo>
                  <a:lnTo>
                    <a:pt x="301" y="220"/>
                  </a:lnTo>
                  <a:lnTo>
                    <a:pt x="311" y="215"/>
                  </a:lnTo>
                  <a:lnTo>
                    <a:pt x="322" y="195"/>
                  </a:lnTo>
                  <a:lnTo>
                    <a:pt x="322" y="179"/>
                  </a:lnTo>
                  <a:lnTo>
                    <a:pt x="322" y="169"/>
                  </a:lnTo>
                  <a:lnTo>
                    <a:pt x="322" y="148"/>
                  </a:lnTo>
                  <a:lnTo>
                    <a:pt x="322" y="133"/>
                  </a:lnTo>
                  <a:lnTo>
                    <a:pt x="311" y="118"/>
                  </a:lnTo>
                  <a:lnTo>
                    <a:pt x="301" y="118"/>
                  </a:lnTo>
                  <a:lnTo>
                    <a:pt x="286" y="118"/>
                  </a:lnTo>
                  <a:lnTo>
                    <a:pt x="270" y="118"/>
                  </a:lnTo>
                  <a:lnTo>
                    <a:pt x="255" y="128"/>
                  </a:lnTo>
                  <a:lnTo>
                    <a:pt x="245" y="133"/>
                  </a:lnTo>
                  <a:lnTo>
                    <a:pt x="229" y="133"/>
                  </a:lnTo>
                  <a:lnTo>
                    <a:pt x="214" y="133"/>
                  </a:lnTo>
                  <a:lnTo>
                    <a:pt x="209" y="118"/>
                  </a:lnTo>
                  <a:lnTo>
                    <a:pt x="219" y="107"/>
                  </a:lnTo>
                  <a:lnTo>
                    <a:pt x="234" y="97"/>
                  </a:lnTo>
                  <a:lnTo>
                    <a:pt x="245" y="82"/>
                  </a:lnTo>
                  <a:lnTo>
                    <a:pt x="250" y="67"/>
                  </a:lnTo>
                  <a:lnTo>
                    <a:pt x="245" y="51"/>
                  </a:lnTo>
                  <a:lnTo>
                    <a:pt x="229" y="46"/>
                  </a:lnTo>
                  <a:lnTo>
                    <a:pt x="214" y="51"/>
                  </a:lnTo>
                  <a:lnTo>
                    <a:pt x="194" y="72"/>
                  </a:lnTo>
                  <a:lnTo>
                    <a:pt x="194" y="72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2449440" y="4218120"/>
              <a:ext cx="919080" cy="954000"/>
              <a:chOff x="2449440" y="4218120"/>
              <a:chExt cx="919080" cy="954000"/>
            </a:xfrm>
          </p:grpSpPr>
          <p:sp>
            <p:nvSpPr>
              <p:cNvPr id="380" name=""/>
              <p:cNvSpPr/>
              <p:nvPr/>
            </p:nvSpPr>
            <p:spPr>
              <a:xfrm>
                <a:off x="3254400" y="4448160"/>
                <a:ext cx="114120" cy="585720"/>
              </a:xfrm>
              <a:prstGeom prst="line">
                <a:avLst/>
              </a:prstGeom>
              <a:ln w="12600">
                <a:solidFill>
                  <a:srgbClr val="ccccff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 flipV="1">
                <a:off x="2662200" y="5016600"/>
                <a:ext cx="520560" cy="155520"/>
              </a:xfrm>
              <a:prstGeom prst="line">
                <a:avLst/>
              </a:prstGeom>
              <a:ln w="12600">
                <a:solidFill>
                  <a:srgbClr val="ccccff"/>
                </a:solidFill>
                <a:prstDash val="dash"/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 flipV="1">
                <a:off x="2941560" y="4784400"/>
                <a:ext cx="308160" cy="307800"/>
              </a:xfrm>
              <a:prstGeom prst="line">
                <a:avLst/>
              </a:prstGeom>
              <a:ln w="12600">
                <a:solidFill>
                  <a:srgbClr val="ccccff"/>
                </a:solidFill>
                <a:prstDash val="dash"/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449440" y="4218120"/>
                <a:ext cx="738360" cy="838080"/>
              </a:xfrm>
              <a:custGeom>
                <a:avLst/>
                <a:gdLst/>
                <a:ahLst/>
                <a:rect l="l" t="t" r="r" b="b"/>
                <a:pathLst>
                  <a:path w="465" h="528">
                    <a:moveTo>
                      <a:pt x="464" y="45"/>
                    </a:moveTo>
                    <a:lnTo>
                      <a:pt x="427" y="54"/>
                    </a:lnTo>
                    <a:lnTo>
                      <a:pt x="400" y="45"/>
                    </a:lnTo>
                    <a:lnTo>
                      <a:pt x="373" y="36"/>
                    </a:lnTo>
                    <a:lnTo>
                      <a:pt x="355" y="9"/>
                    </a:lnTo>
                    <a:lnTo>
                      <a:pt x="336" y="0"/>
                    </a:lnTo>
                    <a:lnTo>
                      <a:pt x="318" y="27"/>
                    </a:lnTo>
                    <a:lnTo>
                      <a:pt x="318" y="54"/>
                    </a:lnTo>
                    <a:lnTo>
                      <a:pt x="318" y="82"/>
                    </a:lnTo>
                    <a:lnTo>
                      <a:pt x="327" y="109"/>
                    </a:lnTo>
                    <a:lnTo>
                      <a:pt x="346" y="136"/>
                    </a:lnTo>
                    <a:lnTo>
                      <a:pt x="355" y="163"/>
                    </a:lnTo>
                    <a:lnTo>
                      <a:pt x="364" y="182"/>
                    </a:lnTo>
                    <a:lnTo>
                      <a:pt x="364" y="209"/>
                    </a:lnTo>
                    <a:lnTo>
                      <a:pt x="364" y="236"/>
                    </a:lnTo>
                    <a:lnTo>
                      <a:pt x="336" y="254"/>
                    </a:lnTo>
                    <a:lnTo>
                      <a:pt x="309" y="254"/>
                    </a:lnTo>
                    <a:lnTo>
                      <a:pt x="282" y="254"/>
                    </a:lnTo>
                    <a:lnTo>
                      <a:pt x="255" y="245"/>
                    </a:lnTo>
                    <a:lnTo>
                      <a:pt x="236" y="245"/>
                    </a:lnTo>
                    <a:lnTo>
                      <a:pt x="209" y="236"/>
                    </a:lnTo>
                    <a:lnTo>
                      <a:pt x="182" y="254"/>
                    </a:lnTo>
                    <a:lnTo>
                      <a:pt x="182" y="291"/>
                    </a:lnTo>
                    <a:lnTo>
                      <a:pt x="182" y="318"/>
                    </a:lnTo>
                    <a:lnTo>
                      <a:pt x="182" y="345"/>
                    </a:lnTo>
                    <a:lnTo>
                      <a:pt x="191" y="372"/>
                    </a:lnTo>
                    <a:lnTo>
                      <a:pt x="191" y="391"/>
                    </a:lnTo>
                    <a:lnTo>
                      <a:pt x="191" y="418"/>
                    </a:lnTo>
                    <a:lnTo>
                      <a:pt x="164" y="418"/>
                    </a:lnTo>
                    <a:lnTo>
                      <a:pt x="136" y="418"/>
                    </a:lnTo>
                    <a:lnTo>
                      <a:pt x="109" y="418"/>
                    </a:lnTo>
                    <a:lnTo>
                      <a:pt x="82" y="391"/>
                    </a:lnTo>
                    <a:lnTo>
                      <a:pt x="64" y="372"/>
                    </a:lnTo>
                    <a:lnTo>
                      <a:pt x="55" y="345"/>
                    </a:lnTo>
                    <a:lnTo>
                      <a:pt x="55" y="381"/>
                    </a:lnTo>
                    <a:lnTo>
                      <a:pt x="55" y="436"/>
                    </a:lnTo>
                    <a:lnTo>
                      <a:pt x="46" y="463"/>
                    </a:lnTo>
                    <a:lnTo>
                      <a:pt x="46" y="491"/>
                    </a:lnTo>
                    <a:lnTo>
                      <a:pt x="46" y="518"/>
                    </a:lnTo>
                    <a:lnTo>
                      <a:pt x="27" y="527"/>
                    </a:lnTo>
                    <a:lnTo>
                      <a:pt x="0" y="527"/>
                    </a:lnTo>
                  </a:path>
                </a:pathLst>
              </a:custGeom>
              <a:noFill/>
              <a:ln cap="rnd" w="1260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3854160" y="4232160"/>
              <a:ext cx="920880" cy="954000"/>
              <a:chOff x="3854160" y="4232160"/>
              <a:chExt cx="920880" cy="954000"/>
            </a:xfrm>
          </p:grpSpPr>
          <p:sp>
            <p:nvSpPr>
              <p:cNvPr id="385" name=""/>
              <p:cNvSpPr/>
              <p:nvPr/>
            </p:nvSpPr>
            <p:spPr>
              <a:xfrm flipH="1">
                <a:off x="3854160" y="4462560"/>
                <a:ext cx="114120" cy="585720"/>
              </a:xfrm>
              <a:prstGeom prst="line">
                <a:avLst/>
              </a:prstGeom>
              <a:ln w="12600">
                <a:solidFill>
                  <a:srgbClr val="3333cc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4040280" y="5030280"/>
                <a:ext cx="520560" cy="155880"/>
              </a:xfrm>
              <a:prstGeom prst="line">
                <a:avLst/>
              </a:prstGeom>
              <a:ln w="12600">
                <a:solidFill>
                  <a:srgbClr val="3333cc"/>
                </a:solidFill>
                <a:prstDash val="dash"/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3973680" y="4798800"/>
                <a:ext cx="307800" cy="307800"/>
              </a:xfrm>
              <a:prstGeom prst="line">
                <a:avLst/>
              </a:prstGeom>
              <a:ln w="12600">
                <a:solidFill>
                  <a:srgbClr val="3333cc"/>
                </a:solidFill>
                <a:prstDash val="dash"/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037040" y="4232160"/>
                <a:ext cx="738000" cy="838440"/>
              </a:xfrm>
              <a:custGeom>
                <a:avLst/>
                <a:gdLst/>
                <a:ahLst/>
                <a:rect l="l" t="t" r="r" b="b"/>
                <a:pathLst>
                  <a:path w="465" h="528">
                    <a:moveTo>
                      <a:pt x="0" y="45"/>
                    </a:moveTo>
                    <a:lnTo>
                      <a:pt x="37" y="54"/>
                    </a:lnTo>
                    <a:lnTo>
                      <a:pt x="64" y="45"/>
                    </a:lnTo>
                    <a:lnTo>
                      <a:pt x="91" y="36"/>
                    </a:lnTo>
                    <a:lnTo>
                      <a:pt x="109" y="9"/>
                    </a:lnTo>
                    <a:lnTo>
                      <a:pt x="128" y="0"/>
                    </a:lnTo>
                    <a:lnTo>
                      <a:pt x="146" y="27"/>
                    </a:lnTo>
                    <a:lnTo>
                      <a:pt x="146" y="54"/>
                    </a:lnTo>
                    <a:lnTo>
                      <a:pt x="146" y="82"/>
                    </a:lnTo>
                    <a:lnTo>
                      <a:pt x="137" y="109"/>
                    </a:lnTo>
                    <a:lnTo>
                      <a:pt x="118" y="136"/>
                    </a:lnTo>
                    <a:lnTo>
                      <a:pt x="109" y="163"/>
                    </a:lnTo>
                    <a:lnTo>
                      <a:pt x="100" y="182"/>
                    </a:lnTo>
                    <a:lnTo>
                      <a:pt x="100" y="209"/>
                    </a:lnTo>
                    <a:lnTo>
                      <a:pt x="100" y="236"/>
                    </a:lnTo>
                    <a:lnTo>
                      <a:pt x="128" y="254"/>
                    </a:lnTo>
                    <a:lnTo>
                      <a:pt x="155" y="254"/>
                    </a:lnTo>
                    <a:lnTo>
                      <a:pt x="182" y="254"/>
                    </a:lnTo>
                    <a:lnTo>
                      <a:pt x="209" y="245"/>
                    </a:lnTo>
                    <a:lnTo>
                      <a:pt x="228" y="245"/>
                    </a:lnTo>
                    <a:lnTo>
                      <a:pt x="255" y="236"/>
                    </a:lnTo>
                    <a:lnTo>
                      <a:pt x="282" y="254"/>
                    </a:lnTo>
                    <a:lnTo>
                      <a:pt x="282" y="291"/>
                    </a:lnTo>
                    <a:lnTo>
                      <a:pt x="282" y="318"/>
                    </a:lnTo>
                    <a:lnTo>
                      <a:pt x="282" y="345"/>
                    </a:lnTo>
                    <a:lnTo>
                      <a:pt x="273" y="372"/>
                    </a:lnTo>
                    <a:lnTo>
                      <a:pt x="273" y="391"/>
                    </a:lnTo>
                    <a:lnTo>
                      <a:pt x="273" y="418"/>
                    </a:lnTo>
                    <a:lnTo>
                      <a:pt x="300" y="418"/>
                    </a:lnTo>
                    <a:lnTo>
                      <a:pt x="328" y="418"/>
                    </a:lnTo>
                    <a:lnTo>
                      <a:pt x="355" y="418"/>
                    </a:lnTo>
                    <a:lnTo>
                      <a:pt x="382" y="391"/>
                    </a:lnTo>
                    <a:lnTo>
                      <a:pt x="400" y="372"/>
                    </a:lnTo>
                    <a:lnTo>
                      <a:pt x="409" y="345"/>
                    </a:lnTo>
                    <a:lnTo>
                      <a:pt x="409" y="381"/>
                    </a:lnTo>
                    <a:lnTo>
                      <a:pt x="409" y="436"/>
                    </a:lnTo>
                    <a:lnTo>
                      <a:pt x="418" y="463"/>
                    </a:lnTo>
                    <a:lnTo>
                      <a:pt x="418" y="491"/>
                    </a:lnTo>
                    <a:lnTo>
                      <a:pt x="418" y="518"/>
                    </a:lnTo>
                    <a:lnTo>
                      <a:pt x="437" y="527"/>
                    </a:lnTo>
                    <a:lnTo>
                      <a:pt x="464" y="527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2319480" y="5445000"/>
              <a:ext cx="954000" cy="920880"/>
              <a:chOff x="2319480" y="5445000"/>
              <a:chExt cx="954000" cy="920880"/>
            </a:xfrm>
          </p:grpSpPr>
          <p:sp>
            <p:nvSpPr>
              <p:cNvPr id="390" name=""/>
              <p:cNvSpPr/>
              <p:nvPr/>
            </p:nvSpPr>
            <p:spPr>
              <a:xfrm flipV="1">
                <a:off x="2549520" y="5445000"/>
                <a:ext cx="585720" cy="114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3117960" y="5630760"/>
                <a:ext cx="155520" cy="5209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2885760" y="5564160"/>
                <a:ext cx="307800" cy="308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319480" y="5627520"/>
                <a:ext cx="838080" cy="738360"/>
              </a:xfrm>
              <a:custGeom>
                <a:avLst/>
                <a:gdLst/>
                <a:ahLst/>
                <a:rect l="l" t="t" r="r" b="b"/>
                <a:pathLst>
                  <a:path w="528" h="465">
                    <a:moveTo>
                      <a:pt x="45" y="0"/>
                    </a:moveTo>
                    <a:lnTo>
                      <a:pt x="54" y="37"/>
                    </a:lnTo>
                    <a:lnTo>
                      <a:pt x="45" y="64"/>
                    </a:lnTo>
                    <a:lnTo>
                      <a:pt x="36" y="91"/>
                    </a:lnTo>
                    <a:lnTo>
                      <a:pt x="9" y="109"/>
                    </a:lnTo>
                    <a:lnTo>
                      <a:pt x="0" y="128"/>
                    </a:lnTo>
                    <a:lnTo>
                      <a:pt x="27" y="146"/>
                    </a:lnTo>
                    <a:lnTo>
                      <a:pt x="54" y="146"/>
                    </a:lnTo>
                    <a:lnTo>
                      <a:pt x="82" y="146"/>
                    </a:lnTo>
                    <a:lnTo>
                      <a:pt x="109" y="137"/>
                    </a:lnTo>
                    <a:lnTo>
                      <a:pt x="136" y="118"/>
                    </a:lnTo>
                    <a:lnTo>
                      <a:pt x="163" y="109"/>
                    </a:lnTo>
                    <a:lnTo>
                      <a:pt x="182" y="100"/>
                    </a:lnTo>
                    <a:lnTo>
                      <a:pt x="209" y="100"/>
                    </a:lnTo>
                    <a:lnTo>
                      <a:pt x="236" y="100"/>
                    </a:lnTo>
                    <a:lnTo>
                      <a:pt x="254" y="128"/>
                    </a:lnTo>
                    <a:lnTo>
                      <a:pt x="254" y="155"/>
                    </a:lnTo>
                    <a:lnTo>
                      <a:pt x="254" y="182"/>
                    </a:lnTo>
                    <a:lnTo>
                      <a:pt x="245" y="209"/>
                    </a:lnTo>
                    <a:lnTo>
                      <a:pt x="245" y="228"/>
                    </a:lnTo>
                    <a:lnTo>
                      <a:pt x="236" y="255"/>
                    </a:lnTo>
                    <a:lnTo>
                      <a:pt x="254" y="282"/>
                    </a:lnTo>
                    <a:lnTo>
                      <a:pt x="291" y="282"/>
                    </a:lnTo>
                    <a:lnTo>
                      <a:pt x="318" y="282"/>
                    </a:lnTo>
                    <a:lnTo>
                      <a:pt x="345" y="282"/>
                    </a:lnTo>
                    <a:lnTo>
                      <a:pt x="372" y="273"/>
                    </a:lnTo>
                    <a:lnTo>
                      <a:pt x="391" y="273"/>
                    </a:lnTo>
                    <a:lnTo>
                      <a:pt x="418" y="273"/>
                    </a:lnTo>
                    <a:lnTo>
                      <a:pt x="418" y="300"/>
                    </a:lnTo>
                    <a:lnTo>
                      <a:pt x="418" y="328"/>
                    </a:lnTo>
                    <a:lnTo>
                      <a:pt x="418" y="355"/>
                    </a:lnTo>
                    <a:lnTo>
                      <a:pt x="391" y="382"/>
                    </a:lnTo>
                    <a:lnTo>
                      <a:pt x="372" y="400"/>
                    </a:lnTo>
                    <a:lnTo>
                      <a:pt x="345" y="409"/>
                    </a:lnTo>
                    <a:lnTo>
                      <a:pt x="381" y="409"/>
                    </a:lnTo>
                    <a:lnTo>
                      <a:pt x="436" y="409"/>
                    </a:lnTo>
                    <a:lnTo>
                      <a:pt x="463" y="418"/>
                    </a:lnTo>
                    <a:lnTo>
                      <a:pt x="491" y="418"/>
                    </a:lnTo>
                    <a:lnTo>
                      <a:pt x="518" y="418"/>
                    </a:lnTo>
                    <a:lnTo>
                      <a:pt x="527" y="437"/>
                    </a:lnTo>
                    <a:lnTo>
                      <a:pt x="527" y="464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547640" y="3111480"/>
                <a:ext cx="5176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555840" y="2568600"/>
            <a:ext cx="173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cattering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9080" y="1741320"/>
            <a:ext cx="1407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cattered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43280" y="2289240"/>
            <a:ext cx="208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iltered Scattered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57560" y="4427640"/>
            <a:ext cx="2289600" cy="36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Sum over view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329080" y="4913280"/>
                <a:ext cx="3448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/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⊗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238720" y="5570640"/>
                <a:ext cx="3284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942240" y="2590920"/>
                <a:ext cx="11811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⊗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676840" y="3736800"/>
                <a:ext cx="32292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  <m:r>
                          <m:t xml:space="preserve">⊗</m:t>
                        </m:r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</m:d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79E8-67D6-4C6F-96C4-3F43C407E55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D852F-974F-4376-88C9-8FC2E424F0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im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941400" y="2565360"/>
            <a:ext cx="2678040" cy="1603440"/>
            <a:chOff x="941400" y="2565360"/>
            <a:chExt cx="2678040" cy="1603440"/>
          </a:xfrm>
        </p:grpSpPr>
        <p:sp>
          <p:nvSpPr>
            <p:cNvPr id="405" name=""/>
            <p:cNvSpPr/>
            <p:nvPr/>
          </p:nvSpPr>
          <p:spPr>
            <a:xfrm>
              <a:off x="2336760" y="2565360"/>
              <a:ext cx="177840" cy="1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22560" y="3085920"/>
              <a:ext cx="177840" cy="1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41600" y="3098880"/>
              <a:ext cx="177840" cy="177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52400" y="3467160"/>
              <a:ext cx="177840" cy="1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941400" y="3163680"/>
              <a:ext cx="1096920" cy="40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65120" y="2684520"/>
              <a:ext cx="490680" cy="1484280"/>
            </a:xfrm>
            <a:prstGeom prst="line">
              <a:avLst/>
            </a:prstGeom>
            <a:ln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4407840" y="3059280"/>
            <a:ext cx="4062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ngle view as function of wave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view at fixed wave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rison of CT versus DT with D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view as function of wave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753920" y="5130720"/>
            <a:ext cx="530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imulations test DT algorithms and</a:t>
            </a: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 not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Rytov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41280" y="1725480"/>
            <a:ext cx="522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D objects: objects composed of superposition of cylin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57CA-ABDD-4B24-B710-033349C6229A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A8EE7-1858-43E8-9568-8D789B4C04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mited View Proble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18160" y="3137040"/>
            <a:ext cx="67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Generate a reconstruction given data for limited number of view ang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26560" y="3949560"/>
            <a:ext cx="74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Ghost Objects: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objects contained in the null space of the propagation trans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68320" y="3483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n-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25200" y="4572000"/>
            <a:ext cx="55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seudo-inverse: object function having minimum L</a:t>
            </a:r>
            <a:r>
              <a:rPr b="0" lang="en-US" sz="1800" spc="-1" strike="noStrike" baseline="30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 n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2976480" y="4992840"/>
            <a:ext cx="3038400" cy="7585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866880" y="1157400"/>
            <a:ext cx="7067520" cy="6271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3932280" y="1776240"/>
            <a:ext cx="3770280" cy="6764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1673280" y="2470320"/>
            <a:ext cx="5529240" cy="6616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423" name="" descr=""/>
          <p:cNvPicPr/>
          <p:nvPr/>
        </p:nvPicPr>
        <p:blipFill>
          <a:blip r:embed="rId5"/>
          <a:stretch/>
        </p:blipFill>
        <p:spPr>
          <a:xfrm>
            <a:off x="1679400" y="1898640"/>
            <a:ext cx="1797120" cy="4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F15-F136-4691-A3B9-224EA4548A3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D0089-C3C7-411C-867B-4EFEDBBC76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seudo-Invers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163960" y="1160640"/>
            <a:ext cx="5135400" cy="39888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-define the generalized projection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389400" y="2095560"/>
            <a:ext cx="2592360" cy="8334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521720" y="23367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Masking 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749960" y="2927520"/>
            <a:ext cx="4495320" cy="414000"/>
            <a:chOff x="1749960" y="2927520"/>
            <a:chExt cx="4495320" cy="414000"/>
          </a:xfrm>
        </p:grpSpPr>
        <p:sp>
          <p:nvSpPr>
            <p:cNvPr id="429" name=""/>
            <p:cNvSpPr/>
            <p:nvPr/>
          </p:nvSpPr>
          <p:spPr>
            <a:xfrm>
              <a:off x="1749960" y="2933640"/>
              <a:ext cx="44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sures that the adjoint maps                    ; i.e.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0" name="" descr=""/>
            <p:cNvPicPr/>
            <p:nvPr/>
          </p:nvPicPr>
          <p:blipFill>
            <a:blip r:embed="rId2"/>
            <a:stretch/>
          </p:blipFill>
          <p:spPr>
            <a:xfrm>
              <a:off x="4523040" y="2927520"/>
              <a:ext cx="1189080" cy="41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1579680" y="1598760"/>
            <a:ext cx="6411960" cy="6188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1814400" y="3413160"/>
            <a:ext cx="4550040" cy="58896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3018960" y="397512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Form Normal Equ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2144880" y="4343400"/>
            <a:ext cx="4319280" cy="6332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2738880" y="504180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Solve using the pseudo-inver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6"/>
          <a:stretch/>
        </p:blipFill>
        <p:spPr>
          <a:xfrm>
            <a:off x="909720" y="5511960"/>
            <a:ext cx="6867360" cy="63324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4CE7-259F-48AA-AC0B-BD1391A1F92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B17A3-6238-4990-859F-343340127F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mplex Phase Represent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76520" y="1494000"/>
            <a:ext cx="5505480" cy="108108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81160" y="2855880"/>
            <a:ext cx="4710240" cy="1154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363760" y="4941720"/>
            <a:ext cx="4213080" cy="7225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483720" y="4151160"/>
            <a:ext cx="18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Ricatti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E40-6E9C-452D-BC18-CCDA307EC7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DA7E9-A53C-4D2B-911A-92846E14DC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pretation of the Pseudo-Invers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1200240" y="1414440"/>
            <a:ext cx="6867360" cy="63360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2030400" y="2716200"/>
            <a:ext cx="4522680" cy="11509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2792520" y="2249640"/>
            <a:ext cx="31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olve integral equation in R</a:t>
            </a:r>
            <a:r>
              <a:rPr b="0" lang="en-US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1612800" y="4448160"/>
            <a:ext cx="5423040" cy="12463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2411280" y="3808440"/>
            <a:ext cx="39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Filtered Backpropagation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2DE8-B2BF-4536-8DE2-B725AF87C6B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CBB6B-A612-46D6-9010-8BC4730B0F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mputing the Pseudo-Inverse via the FBP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1916280" y="1504800"/>
            <a:ext cx="5062320" cy="11638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2347920" y="2833560"/>
            <a:ext cx="4273560" cy="184788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549360" y="4856040"/>
            <a:ext cx="4084560" cy="12812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4959360" y="4976640"/>
            <a:ext cx="3813120" cy="9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2B1C-CE79-4D6F-ACB2-144F06181D3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95444-3583-4A51-A093-3F53F146ED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IRT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2462040" y="1584360"/>
            <a:ext cx="4319640" cy="6332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2333520" y="2540160"/>
            <a:ext cx="4416480" cy="70956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1849320" y="3641760"/>
            <a:ext cx="5386680" cy="14223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880280" y="5433840"/>
            <a:ext cx="48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Other algorithms include ART and various vari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9CF-F9EF-4C09-95DB-FC8F9363E04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4A1F8-D000-473C-8690-45ED21804F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ytov Approxim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51120" y="1390680"/>
            <a:ext cx="5427720" cy="579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156120" y="2201760"/>
            <a:ext cx="2538360" cy="66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5714640" y="2313000"/>
            <a:ext cx="44604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14760" y="2036880"/>
            <a:ext cx="210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erturbation intro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by the object pro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17760" y="3090960"/>
            <a:ext cx="5769000" cy="974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591720" y="4437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Rytov Mo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8440" y="37051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Rytov approx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712960" y="4957920"/>
            <a:ext cx="3380040" cy="72684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4A9C-71CC-428C-BA5B-FE030BA49BF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1D8D2-2BB4-48DA-843B-16E56687A6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hort Wavelength Limi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774880" y="1308240"/>
            <a:ext cx="3379680" cy="72684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22560" y="5311800"/>
            <a:ext cx="4527360" cy="79524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2871720" y="4730760"/>
            <a:ext cx="32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lassical Tomograph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233440" y="2098800"/>
            <a:ext cx="4297680" cy="266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887-049D-4A68-981D-169F1E01EF6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89BDC-684A-473E-90CB-46105C9DB1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ee Space Propagation of Rytov Phas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84280" y="1368360"/>
            <a:ext cx="0" cy="164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98600" y="2166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603840" y="1347480"/>
            <a:ext cx="39528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35720" y="2154240"/>
            <a:ext cx="42228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73720" y="2825640"/>
            <a:ext cx="66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1320" y="1546200"/>
            <a:ext cx="263520" cy="1447920"/>
          </a:xfrm>
          <a:custGeom>
            <a:avLst/>
            <a:gdLst/>
            <a:ahLst/>
            <a:rect l="l" t="t" r="r" b="b"/>
            <a:pathLst>
              <a:path w="219" h="1200">
                <a:moveTo>
                  <a:pt x="109" y="0"/>
                </a:moveTo>
                <a:cubicBezTo>
                  <a:pt x="143" y="29"/>
                  <a:pt x="177" y="58"/>
                  <a:pt x="187" y="93"/>
                </a:cubicBezTo>
                <a:cubicBezTo>
                  <a:pt x="197" y="128"/>
                  <a:pt x="186" y="172"/>
                  <a:pt x="172" y="210"/>
                </a:cubicBezTo>
                <a:cubicBezTo>
                  <a:pt x="158" y="248"/>
                  <a:pt x="129" y="266"/>
                  <a:pt x="102" y="319"/>
                </a:cubicBezTo>
                <a:cubicBezTo>
                  <a:pt x="75" y="372"/>
                  <a:pt x="0" y="440"/>
                  <a:pt x="8" y="530"/>
                </a:cubicBezTo>
                <a:cubicBezTo>
                  <a:pt x="16" y="620"/>
                  <a:pt x="113" y="777"/>
                  <a:pt x="148" y="857"/>
                </a:cubicBezTo>
                <a:cubicBezTo>
                  <a:pt x="183" y="937"/>
                  <a:pt x="217" y="966"/>
                  <a:pt x="218" y="1013"/>
                </a:cubicBezTo>
                <a:cubicBezTo>
                  <a:pt x="219" y="1060"/>
                  <a:pt x="183" y="1107"/>
                  <a:pt x="156" y="1138"/>
                </a:cubicBezTo>
                <a:cubicBezTo>
                  <a:pt x="129" y="1169"/>
                  <a:pt x="73" y="1190"/>
                  <a:pt x="55" y="1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516040" y="1555920"/>
            <a:ext cx="292320" cy="9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44840" y="2787480"/>
            <a:ext cx="431640" cy="7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71680" y="1692360"/>
            <a:ext cx="267660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propagati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2324160"/>
            <a:ext cx="2565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394320" y="1255680"/>
            <a:ext cx="457200" cy="1833480"/>
          </a:xfrm>
          <a:custGeom>
            <a:avLst/>
            <a:gdLst/>
            <a:ahLst/>
            <a:rect l="l" t="t" r="r" b="b"/>
            <a:pathLst>
              <a:path w="380" h="1520">
                <a:moveTo>
                  <a:pt x="154" y="0"/>
                </a:moveTo>
                <a:cubicBezTo>
                  <a:pt x="77" y="79"/>
                  <a:pt x="0" y="159"/>
                  <a:pt x="14" y="289"/>
                </a:cubicBezTo>
                <a:cubicBezTo>
                  <a:pt x="28" y="419"/>
                  <a:pt x="226" y="609"/>
                  <a:pt x="240" y="780"/>
                </a:cubicBezTo>
                <a:cubicBezTo>
                  <a:pt x="254" y="951"/>
                  <a:pt x="77" y="1194"/>
                  <a:pt x="100" y="1317"/>
                </a:cubicBezTo>
                <a:cubicBezTo>
                  <a:pt x="123" y="1440"/>
                  <a:pt x="333" y="1488"/>
                  <a:pt x="380" y="15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01840" y="2651040"/>
            <a:ext cx="2791080" cy="62568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1730520" y="350532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Within Rytov approximation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phase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 of field satisfies linear P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63800" y="3994200"/>
            <a:ext cx="3216600" cy="485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30200" y="4010040"/>
            <a:ext cx="23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Rytov 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836720" y="4691160"/>
            <a:ext cx="5573880" cy="122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B32-C844-466F-A892-6D6141501E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375E5-6DB1-4DBC-8F91-A9FCB8429F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lution to Rytov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82840" y="1160640"/>
            <a:ext cx="4383360" cy="661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152360" y="1300320"/>
            <a:ext cx="23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Rytov 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7280" y="3855960"/>
            <a:ext cx="39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onnection with Born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019240" y="4413240"/>
            <a:ext cx="4694400" cy="1241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365200" y="5746680"/>
            <a:ext cx="41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Mathematical structure of models iden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933560" y="1859040"/>
            <a:ext cx="5362560" cy="1090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154160" y="3138480"/>
            <a:ext cx="6835680" cy="579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3044880" y="5051520"/>
            <a:ext cx="2496960" cy="63504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EB2-EFBE-4587-82FF-F8DFC826F5B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8024E-324B-42D2-A372-4463B8FB8A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egradation of the Rytov Model with Propagation Distan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49640" y="1438200"/>
            <a:ext cx="4227480" cy="633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496960" y="2055960"/>
            <a:ext cx="3905280" cy="825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41360" y="3059280"/>
            <a:ext cx="5977080" cy="1957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89920" y="4927680"/>
            <a:ext cx="72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Rytov and Born approximations become identical in far fie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David Colt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3520" y="5473800"/>
            <a:ext cx="8123760" cy="642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Experiments and computer simulations have shown Rytov to be m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superior to Born for large objec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Backpropagate fie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hen use Ryt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Hybrid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31C8-C05D-4BE5-AEB6-4D233352CF7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0E23E-3C79-4600-A2FC-EA57C68F36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008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perimental Tes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583080" y="2152800"/>
                <a:ext cx="50403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sup>
                    </m:sSup>
                    <m:r>
                      <m:t xml:space="preserve">→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208160" y="2627280"/>
            <a:ext cx="772920" cy="436680"/>
          </a:xfrm>
          <a:custGeom>
            <a:avLst/>
            <a:gdLst/>
            <a:ahLst/>
            <a:rect l="l" t="t" r="r" b="b"/>
            <a:pathLst>
              <a:path w="787" h="444">
                <a:moveTo>
                  <a:pt x="534" y="70"/>
                </a:moveTo>
                <a:lnTo>
                  <a:pt x="504" y="50"/>
                </a:lnTo>
                <a:lnTo>
                  <a:pt x="484" y="20"/>
                </a:lnTo>
                <a:lnTo>
                  <a:pt x="453" y="10"/>
                </a:lnTo>
                <a:lnTo>
                  <a:pt x="413" y="10"/>
                </a:lnTo>
                <a:lnTo>
                  <a:pt x="343" y="0"/>
                </a:lnTo>
                <a:lnTo>
                  <a:pt x="302" y="0"/>
                </a:lnTo>
                <a:lnTo>
                  <a:pt x="272" y="0"/>
                </a:lnTo>
                <a:lnTo>
                  <a:pt x="242" y="10"/>
                </a:lnTo>
                <a:lnTo>
                  <a:pt x="212" y="30"/>
                </a:lnTo>
                <a:lnTo>
                  <a:pt x="191" y="60"/>
                </a:lnTo>
                <a:lnTo>
                  <a:pt x="191" y="91"/>
                </a:lnTo>
                <a:lnTo>
                  <a:pt x="222" y="131"/>
                </a:lnTo>
                <a:lnTo>
                  <a:pt x="232" y="161"/>
                </a:lnTo>
                <a:lnTo>
                  <a:pt x="161" y="171"/>
                </a:lnTo>
                <a:lnTo>
                  <a:pt x="131" y="171"/>
                </a:lnTo>
                <a:lnTo>
                  <a:pt x="101" y="181"/>
                </a:lnTo>
                <a:lnTo>
                  <a:pt x="40" y="191"/>
                </a:lnTo>
                <a:lnTo>
                  <a:pt x="10" y="211"/>
                </a:lnTo>
                <a:lnTo>
                  <a:pt x="0" y="282"/>
                </a:lnTo>
                <a:lnTo>
                  <a:pt x="0" y="352"/>
                </a:lnTo>
                <a:lnTo>
                  <a:pt x="10" y="383"/>
                </a:lnTo>
                <a:lnTo>
                  <a:pt x="40" y="413"/>
                </a:lnTo>
                <a:lnTo>
                  <a:pt x="111" y="433"/>
                </a:lnTo>
                <a:lnTo>
                  <a:pt x="151" y="443"/>
                </a:lnTo>
                <a:lnTo>
                  <a:pt x="212" y="443"/>
                </a:lnTo>
                <a:lnTo>
                  <a:pt x="292" y="433"/>
                </a:lnTo>
                <a:lnTo>
                  <a:pt x="353" y="433"/>
                </a:lnTo>
                <a:lnTo>
                  <a:pt x="413" y="423"/>
                </a:lnTo>
                <a:lnTo>
                  <a:pt x="474" y="423"/>
                </a:lnTo>
                <a:lnTo>
                  <a:pt x="534" y="403"/>
                </a:lnTo>
                <a:lnTo>
                  <a:pt x="595" y="393"/>
                </a:lnTo>
                <a:lnTo>
                  <a:pt x="675" y="383"/>
                </a:lnTo>
                <a:lnTo>
                  <a:pt x="746" y="352"/>
                </a:lnTo>
                <a:lnTo>
                  <a:pt x="786" y="292"/>
                </a:lnTo>
                <a:lnTo>
                  <a:pt x="786" y="201"/>
                </a:lnTo>
                <a:lnTo>
                  <a:pt x="786" y="161"/>
                </a:lnTo>
                <a:lnTo>
                  <a:pt x="786" y="121"/>
                </a:lnTo>
                <a:lnTo>
                  <a:pt x="756" y="121"/>
                </a:lnTo>
                <a:lnTo>
                  <a:pt x="726" y="121"/>
                </a:lnTo>
                <a:lnTo>
                  <a:pt x="695" y="121"/>
                </a:lnTo>
                <a:lnTo>
                  <a:pt x="665" y="121"/>
                </a:lnTo>
                <a:lnTo>
                  <a:pt x="635" y="121"/>
                </a:lnTo>
                <a:lnTo>
                  <a:pt x="605" y="121"/>
                </a:lnTo>
                <a:lnTo>
                  <a:pt x="574" y="101"/>
                </a:lnTo>
                <a:lnTo>
                  <a:pt x="544" y="81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4280" y="2577960"/>
            <a:ext cx="546120" cy="901800"/>
          </a:xfrm>
          <a:custGeom>
            <a:avLst/>
            <a:gdLst/>
            <a:ahLst/>
            <a:rect l="l" t="t" r="r" b="b"/>
            <a:pathLst>
              <a:path w="555" h="918">
                <a:moveTo>
                  <a:pt x="0" y="0"/>
                </a:moveTo>
                <a:lnTo>
                  <a:pt x="40" y="20"/>
                </a:lnTo>
                <a:lnTo>
                  <a:pt x="81" y="20"/>
                </a:lnTo>
                <a:lnTo>
                  <a:pt x="111" y="30"/>
                </a:lnTo>
                <a:lnTo>
                  <a:pt x="141" y="50"/>
                </a:lnTo>
                <a:lnTo>
                  <a:pt x="171" y="71"/>
                </a:lnTo>
                <a:lnTo>
                  <a:pt x="201" y="81"/>
                </a:lnTo>
                <a:lnTo>
                  <a:pt x="232" y="111"/>
                </a:lnTo>
                <a:lnTo>
                  <a:pt x="252" y="141"/>
                </a:lnTo>
                <a:lnTo>
                  <a:pt x="262" y="171"/>
                </a:lnTo>
                <a:lnTo>
                  <a:pt x="262" y="212"/>
                </a:lnTo>
                <a:lnTo>
                  <a:pt x="252" y="242"/>
                </a:lnTo>
                <a:lnTo>
                  <a:pt x="262" y="272"/>
                </a:lnTo>
                <a:lnTo>
                  <a:pt x="322" y="302"/>
                </a:lnTo>
                <a:lnTo>
                  <a:pt x="342" y="333"/>
                </a:lnTo>
                <a:lnTo>
                  <a:pt x="373" y="403"/>
                </a:lnTo>
                <a:lnTo>
                  <a:pt x="413" y="474"/>
                </a:lnTo>
                <a:lnTo>
                  <a:pt x="473" y="484"/>
                </a:lnTo>
                <a:lnTo>
                  <a:pt x="534" y="544"/>
                </a:lnTo>
                <a:lnTo>
                  <a:pt x="554" y="574"/>
                </a:lnTo>
                <a:lnTo>
                  <a:pt x="554" y="605"/>
                </a:lnTo>
                <a:lnTo>
                  <a:pt x="544" y="635"/>
                </a:lnTo>
                <a:lnTo>
                  <a:pt x="524" y="675"/>
                </a:lnTo>
                <a:lnTo>
                  <a:pt x="504" y="705"/>
                </a:lnTo>
                <a:lnTo>
                  <a:pt x="494" y="746"/>
                </a:lnTo>
                <a:lnTo>
                  <a:pt x="463" y="766"/>
                </a:lnTo>
                <a:lnTo>
                  <a:pt x="463" y="796"/>
                </a:lnTo>
                <a:lnTo>
                  <a:pt x="453" y="826"/>
                </a:lnTo>
                <a:lnTo>
                  <a:pt x="463" y="867"/>
                </a:lnTo>
                <a:lnTo>
                  <a:pt x="473" y="897"/>
                </a:lnTo>
                <a:lnTo>
                  <a:pt x="443" y="9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09880" y="2419200"/>
            <a:ext cx="396720" cy="970200"/>
          </a:xfrm>
          <a:custGeom>
            <a:avLst/>
            <a:gdLst/>
            <a:ahLst/>
            <a:rect l="l" t="t" r="r" b="b"/>
            <a:pathLst>
              <a:path w="404" h="989">
                <a:moveTo>
                  <a:pt x="0" y="0"/>
                </a:moveTo>
                <a:lnTo>
                  <a:pt x="71" y="0"/>
                </a:lnTo>
                <a:lnTo>
                  <a:pt x="101" y="10"/>
                </a:lnTo>
                <a:lnTo>
                  <a:pt x="131" y="20"/>
                </a:lnTo>
                <a:lnTo>
                  <a:pt x="171" y="30"/>
                </a:lnTo>
                <a:lnTo>
                  <a:pt x="202" y="50"/>
                </a:lnTo>
                <a:lnTo>
                  <a:pt x="232" y="71"/>
                </a:lnTo>
                <a:lnTo>
                  <a:pt x="252" y="101"/>
                </a:lnTo>
                <a:lnTo>
                  <a:pt x="272" y="131"/>
                </a:lnTo>
                <a:lnTo>
                  <a:pt x="272" y="161"/>
                </a:lnTo>
                <a:lnTo>
                  <a:pt x="272" y="192"/>
                </a:lnTo>
                <a:lnTo>
                  <a:pt x="272" y="222"/>
                </a:lnTo>
                <a:lnTo>
                  <a:pt x="292" y="262"/>
                </a:lnTo>
                <a:lnTo>
                  <a:pt x="332" y="292"/>
                </a:lnTo>
                <a:lnTo>
                  <a:pt x="363" y="323"/>
                </a:lnTo>
                <a:lnTo>
                  <a:pt x="383" y="383"/>
                </a:lnTo>
                <a:lnTo>
                  <a:pt x="393" y="454"/>
                </a:lnTo>
                <a:lnTo>
                  <a:pt x="403" y="524"/>
                </a:lnTo>
                <a:lnTo>
                  <a:pt x="393" y="554"/>
                </a:lnTo>
                <a:lnTo>
                  <a:pt x="383" y="595"/>
                </a:lnTo>
                <a:lnTo>
                  <a:pt x="353" y="615"/>
                </a:lnTo>
                <a:lnTo>
                  <a:pt x="343" y="645"/>
                </a:lnTo>
                <a:lnTo>
                  <a:pt x="322" y="675"/>
                </a:lnTo>
                <a:lnTo>
                  <a:pt x="332" y="716"/>
                </a:lnTo>
                <a:lnTo>
                  <a:pt x="353" y="756"/>
                </a:lnTo>
                <a:lnTo>
                  <a:pt x="373" y="796"/>
                </a:lnTo>
                <a:lnTo>
                  <a:pt x="393" y="837"/>
                </a:lnTo>
                <a:lnTo>
                  <a:pt x="373" y="877"/>
                </a:lnTo>
                <a:lnTo>
                  <a:pt x="343" y="897"/>
                </a:lnTo>
                <a:lnTo>
                  <a:pt x="282" y="907"/>
                </a:lnTo>
                <a:lnTo>
                  <a:pt x="212" y="928"/>
                </a:lnTo>
                <a:lnTo>
                  <a:pt x="131" y="928"/>
                </a:lnTo>
                <a:lnTo>
                  <a:pt x="71" y="938"/>
                </a:lnTo>
                <a:lnTo>
                  <a:pt x="50" y="968"/>
                </a:lnTo>
                <a:lnTo>
                  <a:pt x="20" y="98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28560" y="2811600"/>
            <a:ext cx="426960" cy="12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865080" y="3126960"/>
            <a:ext cx="428760" cy="1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200" y="3532320"/>
            <a:ext cx="1409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cident wa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054160" y="2178000"/>
            <a:ext cx="268200" cy="32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51080" y="2652840"/>
            <a:ext cx="428760" cy="12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11480" y="3174840"/>
            <a:ext cx="428400" cy="190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617920" y="2168640"/>
            <a:ext cx="861840" cy="942840"/>
          </a:xfrm>
          <a:prstGeom prst="parallelogram">
            <a:avLst>
              <a:gd name="adj" fmla="val 24995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33840" y="1776240"/>
            <a:ext cx="1515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nsor 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60600" y="3341520"/>
            <a:ext cx="4347000" cy="94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brid approxim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ct from measurement plane to near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ytov from near field to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4960" y="4991040"/>
            <a:ext cx="34786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ulation and experim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tical fiber illuminated by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 r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a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y trace followed by free space propa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yt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60840" y="5460840"/>
            <a:ext cx="279720" cy="279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281480" y="5580000"/>
            <a:ext cx="1096920" cy="836640"/>
            <a:chOff x="4281480" y="5580000"/>
            <a:chExt cx="1096920" cy="836640"/>
          </a:xfrm>
        </p:grpSpPr>
        <p:sp>
          <p:nvSpPr>
            <p:cNvPr id="124" name=""/>
            <p:cNvSpPr/>
            <p:nvPr/>
          </p:nvSpPr>
          <p:spPr>
            <a:xfrm flipV="1">
              <a:off x="4281480" y="5767200"/>
              <a:ext cx="1096920" cy="40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580000"/>
              <a:ext cx="274680" cy="836640"/>
            </a:xfrm>
            <a:prstGeom prst="line">
              <a:avLst/>
            </a:prstGeom>
            <a:ln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125240" y="4490640"/>
            <a:ext cx="2553120" cy="2553120"/>
            <a:chOff x="4125240" y="4490640"/>
            <a:chExt cx="2553120" cy="2553120"/>
          </a:xfrm>
        </p:grpSpPr>
        <p:sp>
          <p:nvSpPr>
            <p:cNvPr id="127" name=""/>
            <p:cNvSpPr/>
            <p:nvPr/>
          </p:nvSpPr>
          <p:spPr>
            <a:xfrm rot="1320000">
              <a:off x="4421160" y="4786560"/>
              <a:ext cx="1961280" cy="196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3" y="0"/>
                  </a:moveTo>
                  <a:arcTo wR="10800" hR="10800" stAng="-5405563" swAng="54334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3" y="0"/>
                  </a:moveTo>
                  <a:arcTo wR="10800" hR="10800" stAng="-5405563" swAng="5433420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837400" y="5207040"/>
              <a:ext cx="80784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851440" y="4846320"/>
              <a:ext cx="405000" cy="4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81760" y="5640480"/>
              <a:ext cx="60624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787920" y="6153120"/>
                <a:ext cx="8222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537160" y="4838760"/>
            <a:ext cx="520920" cy="143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37040" y="4443480"/>
            <a:ext cx="6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yt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23240" y="4381560"/>
            <a:ext cx="596880" cy="14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02920" y="567540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68960" y="4508640"/>
            <a:ext cx="640080" cy="1117440"/>
          </a:xfrm>
          <a:custGeom>
            <a:avLst/>
            <a:gdLst/>
            <a:ahLst/>
            <a:rect l="l" t="t" r="r" b="b"/>
            <a:pathLst>
              <a:path w="403" h="704">
                <a:moveTo>
                  <a:pt x="3" y="0"/>
                </a:moveTo>
                <a:cubicBezTo>
                  <a:pt x="35" y="3"/>
                  <a:pt x="68" y="7"/>
                  <a:pt x="75" y="24"/>
                </a:cubicBezTo>
                <a:cubicBezTo>
                  <a:pt x="82" y="41"/>
                  <a:pt x="0" y="103"/>
                  <a:pt x="43" y="104"/>
                </a:cubicBezTo>
                <a:cubicBezTo>
                  <a:pt x="86" y="105"/>
                  <a:pt x="275" y="20"/>
                  <a:pt x="331" y="32"/>
                </a:cubicBezTo>
                <a:cubicBezTo>
                  <a:pt x="387" y="44"/>
                  <a:pt x="380" y="135"/>
                  <a:pt x="379" y="176"/>
                </a:cubicBezTo>
                <a:cubicBezTo>
                  <a:pt x="378" y="217"/>
                  <a:pt x="350" y="248"/>
                  <a:pt x="323" y="280"/>
                </a:cubicBezTo>
                <a:cubicBezTo>
                  <a:pt x="296" y="312"/>
                  <a:pt x="238" y="345"/>
                  <a:pt x="219" y="368"/>
                </a:cubicBezTo>
                <a:cubicBezTo>
                  <a:pt x="200" y="391"/>
                  <a:pt x="195" y="404"/>
                  <a:pt x="211" y="416"/>
                </a:cubicBezTo>
                <a:cubicBezTo>
                  <a:pt x="227" y="428"/>
                  <a:pt x="283" y="432"/>
                  <a:pt x="315" y="440"/>
                </a:cubicBezTo>
                <a:cubicBezTo>
                  <a:pt x="347" y="448"/>
                  <a:pt x="403" y="432"/>
                  <a:pt x="403" y="464"/>
                </a:cubicBezTo>
                <a:cubicBezTo>
                  <a:pt x="403" y="496"/>
                  <a:pt x="339" y="592"/>
                  <a:pt x="315" y="632"/>
                </a:cubicBezTo>
                <a:cubicBezTo>
                  <a:pt x="291" y="672"/>
                  <a:pt x="275" y="688"/>
                  <a:pt x="259" y="7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75240" y="5803560"/>
            <a:ext cx="106704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04560" y="61959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J. Devaney Stanford Lectures--Lecture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403-F6C2-4AF5-983A-18DF844262B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E9ABA-FBB2-428E-BD50-9E3AA77A85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3T14:40:34Z</dcterms:created>
  <dc:creator>tony devaney</dc:creator>
  <dc:description/>
  <dc:language>en-US</dc:language>
  <cp:lastModifiedBy>Amy</cp:lastModifiedBy>
  <cp:lastPrinted>1999-08-11T17:08:23Z</cp:lastPrinted>
  <dcterms:modified xsi:type="dcterms:W3CDTF">1999-08-18T18:11:03Z</dcterms:modified>
  <cp:revision>107</cp:revision>
  <dc:subject/>
  <dc:title>Potential Scattering Theory</dc:title>
</cp:coreProperties>
</file>