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6.bin" ContentType="application/vnd.openxmlformats-officedocument.oleObject"/>
  <Override PartName="/ppt/embeddings/oleObject6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8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31.pct" ContentType="image/x-pict"/>
  <Override PartName="/ppt/media/image68.pct" ContentType="image/x-pict"/>
  <Override PartName="/ppt/media/image66.pct" ContentType="image/x-pict"/>
  <Override PartName="/ppt/media/image79.pct" ContentType="image/x-pict"/>
  <Override PartName="/ppt/media/image67.pct" ContentType="image/x-pict"/>
  <Override PartName="/ppt/media/image78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70.pct" ContentType="image/x-pict"/>
  <Override PartName="/ppt/media/image28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83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38D-FF8D-444F-9F98-5DB0321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E96-6ECA-46EF-B8EE-15BAA14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C36-A9C0-4BEB-8372-69E3E7B4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9FE-A418-45C8-8620-B5D6E33F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54C-B7B0-450A-8741-EB9C313F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EBC-0C66-41D3-82E7-5666ECE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539-895A-48AF-9A74-851C388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456-9572-4451-84B3-8761D146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AE1-3CE6-4BF3-9DAB-E22A50C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101-9506-4907-BDF3-A30B851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AC6-37A9-4F9F-A035-B0BBAF5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9D0-D3F4-4469-992B-04A42FF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B96A-7668-4EF6-8D06-7D983BF6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5.pct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pct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pct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5.pct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5.pct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5.pct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55.pct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pct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pct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83.pct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7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gnostic Column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fluxes at eastern and northern boundar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65320" y="1371600"/>
          <a:ext cx="5967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1371600"/>
                    <a:ext cx="5967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84080" y="2209680"/>
          <a:ext cx="68565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080" y="2209680"/>
                    <a:ext cx="68565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0320" y="5791320"/>
          <a:ext cx="9013680" cy="92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320" y="5791320"/>
                    <a:ext cx="90136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5257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ion for column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19520" y="2971800"/>
          <a:ext cx="2916000" cy="2173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2971800"/>
                    <a:ext cx="29160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agnostic equation for vertical veloc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agnostic Vertical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ite differe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523880"/>
          <a:ext cx="83534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53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28600" y="2971800"/>
          <a:ext cx="27874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971800"/>
                    <a:ext cx="2787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52280" y="3733920"/>
          <a:ext cx="5988240" cy="88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33920"/>
                    <a:ext cx="59882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2280" y="4876920"/>
          <a:ext cx="6755040" cy="88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76920"/>
                    <a:ext cx="67550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280" y="5867280"/>
          <a:ext cx="4232520" cy="69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5867280"/>
                    <a:ext cx="42325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095880" y="2895480"/>
          <a:ext cx="2916360" cy="2173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95480"/>
                    <a:ext cx="29163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agnostic Vertical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447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fluxes and rearrange --&gt; vertical veloc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981080"/>
          <a:ext cx="4214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4214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838080" y="2819520"/>
          <a:ext cx="604368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60436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38080" y="3733920"/>
          <a:ext cx="28940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94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572000" y="3751200"/>
          <a:ext cx="4168800" cy="3106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51200"/>
                    <a:ext cx="416880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es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es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590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ite-difference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295280"/>
          <a:ext cx="48546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4854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33720" y="1905120"/>
          <a:ext cx="479880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47988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8600" y="3048120"/>
          <a:ext cx="373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048120"/>
                    <a:ext cx="373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62120" y="3809880"/>
          <a:ext cx="4894200" cy="6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809880"/>
                    <a:ext cx="48942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62120" y="4495680"/>
          <a:ext cx="57322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495680"/>
                    <a:ext cx="5732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5105520"/>
          <a:ext cx="4570200" cy="79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5105520"/>
                    <a:ext cx="45702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120" y="5943600"/>
          <a:ext cx="468468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5943600"/>
                    <a:ext cx="4684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95880" y="4419720"/>
          <a:ext cx="2916360" cy="217332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4419720"/>
                    <a:ext cx="29163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fluxes --&gt; final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es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4100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xing ratios at vertical top and bottom of laye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2057400"/>
          <a:ext cx="39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39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19720" y="1828800"/>
          <a:ext cx="4513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828800"/>
                    <a:ext cx="4513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914400" y="3124080"/>
          <a:ext cx="46083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124080"/>
                    <a:ext cx="4608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14400" y="4038480"/>
          <a:ext cx="474192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038480"/>
                    <a:ext cx="4741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7200" y="5867280"/>
          <a:ext cx="3711600" cy="80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867280"/>
                    <a:ext cx="37116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800600" y="5867280"/>
          <a:ext cx="3711600" cy="808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867280"/>
                    <a:ext cx="37116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3048120"/>
          <a:ext cx="2916000" cy="21733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048120"/>
                    <a:ext cx="29160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ous fo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59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finite difference fo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1295280"/>
          <a:ext cx="502740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5027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905120" y="1828800"/>
          <a:ext cx="57704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57704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52280" y="2895480"/>
          <a:ext cx="42087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4208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14400" y="3657600"/>
          <a:ext cx="4989600" cy="120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657600"/>
                    <a:ext cx="4989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4952880"/>
          <a:ext cx="4836960" cy="93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952880"/>
                    <a:ext cx="48369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14400" y="5772240"/>
          <a:ext cx="5618160" cy="100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5772240"/>
                    <a:ext cx="56181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019920" y="3200400"/>
          <a:ext cx="2916000" cy="21733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200400"/>
                    <a:ext cx="29160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430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057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orticit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200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stroph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895480" y="1295280"/>
          <a:ext cx="2887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2887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362320" y="2438280"/>
          <a:ext cx="371304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438280"/>
                    <a:ext cx="37130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505320" y="3352680"/>
          <a:ext cx="20001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00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764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2480" y="4033800"/>
            <a:ext cx="4689720" cy="2824200"/>
            <a:chOff x="1752480" y="4033800"/>
            <a:chExt cx="4689720" cy="2824200"/>
          </a:xfrm>
        </p:grpSpPr>
        <p:graphicFrame>
          <p:nvGraphicFramePr>
            <p:cNvPr id="218" name=""/>
            <p:cNvGraphicFramePr/>
            <p:nvPr/>
          </p:nvGraphicFramePr>
          <p:xfrm>
            <a:off x="1981080" y="4033800"/>
            <a:ext cx="4461120" cy="282420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4033800"/>
                      <a:ext cx="4461120" cy="28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905120" y="4495680"/>
              <a:ext cx="38088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895320" y="5047920"/>
              <a:ext cx="2095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87534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elative e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0120" y="1752120"/>
            <a:ext cx="1218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990720"/>
          <a:ext cx="75326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5326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ous fo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280" y="2057400"/>
          <a:ext cx="8759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8759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23880" y="3200400"/>
          <a:ext cx="69328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200400"/>
                    <a:ext cx="6932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23880" y="4419720"/>
          <a:ext cx="3046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419720"/>
                    <a:ext cx="3046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-difference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1447920"/>
          <a:ext cx="726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26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057400" y="2743200"/>
          <a:ext cx="5008680" cy="372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743200"/>
                    <a:ext cx="5008680" cy="37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ertical Model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1371600"/>
          <a:ext cx="723924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72392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lumn pressure multiplied by grid-cell area 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po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200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id-cell are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00200" y="1523880"/>
          <a:ext cx="5560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560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57200" y="3581280"/>
          <a:ext cx="230364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23036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200400" y="3505320"/>
          <a:ext cx="4176720" cy="3109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505320"/>
                    <a:ext cx="417672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advection term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280" y="1371600"/>
          <a:ext cx="825192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25192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048120" y="4572000"/>
          <a:ext cx="2925720" cy="217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572000"/>
                    <a:ext cx="29257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polations for flux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1-7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" y="1600200"/>
          <a:ext cx="73407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7340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28600" y="2209680"/>
          <a:ext cx="82551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09680"/>
                    <a:ext cx="8255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286000" y="3124080"/>
          <a:ext cx="4176720" cy="3110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24080"/>
                    <a:ext cx="4176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1430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transport of horizontal momentu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0880" y="1600200"/>
          <a:ext cx="73645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7364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33720" y="2286000"/>
          <a:ext cx="4176720" cy="31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0"/>
                    <a:ext cx="4176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85800" y="5943600"/>
          <a:ext cx="66531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943600"/>
                    <a:ext cx="6653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28600" y="5486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values at bottom of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914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polation for vertical velocity ter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28600" y="1447920"/>
          <a:ext cx="853128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53128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362320" y="3505320"/>
          <a:ext cx="4176720" cy="31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05320"/>
                    <a:ext cx="417672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066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iolis and spherical grid conversion term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2209680"/>
          <a:ext cx="855648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5564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04920" y="1447920"/>
          <a:ext cx="241272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412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438280" y="3747960"/>
          <a:ext cx="4176720" cy="3110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747960"/>
                    <a:ext cx="4176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gradient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447920"/>
          <a:ext cx="89377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37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048120" y="4419720"/>
          <a:ext cx="2925720" cy="217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419720"/>
                    <a:ext cx="29257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981080"/>
          <a:ext cx="83786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378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30492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ndary conditions for pressure-gradient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3581280"/>
          <a:ext cx="4176720" cy="31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81280"/>
                    <a:ext cx="4176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-East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dy diffusion term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447920" y="1676520"/>
          <a:ext cx="581472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147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62320" y="3276720"/>
          <a:ext cx="4176720" cy="31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76720"/>
                    <a:ext cx="417672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uth-North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62120" y="990720"/>
          <a:ext cx="75326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5326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0120" y="1752120"/>
            <a:ext cx="1218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80000"/>
              </a:lnSpc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imate top altitude in test column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elow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s altitude from App. Table B.1 just below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Sigm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971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imate altitude at bottom of each layer in test colum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410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pressure from (2.41) --&gt; sigma valu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828800"/>
          <a:ext cx="491940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49194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09480" y="3352680"/>
          <a:ext cx="71424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352680"/>
                    <a:ext cx="7142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057400" y="5791320"/>
          <a:ext cx="437976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791320"/>
                    <a:ext cx="4379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4343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imate pressure at each layer ed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4800600"/>
          <a:ext cx="732168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800600"/>
                    <a:ext cx="7321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ertical 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stat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209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opotential at vertical center of bottom lay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733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opotential at bottom of subsequent layer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124080" y="1523880"/>
          <a:ext cx="22543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3880"/>
                    <a:ext cx="2254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80880" y="2743200"/>
          <a:ext cx="84740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743200"/>
                    <a:ext cx="8474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04920" y="4267080"/>
          <a:ext cx="866448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267080"/>
                    <a:ext cx="8664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62120" y="5791320"/>
          <a:ext cx="777528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791320"/>
                    <a:ext cx="7775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380880" y="5181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opotential at vertical midpoint of subsequent layer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ime-Stepping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2286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suno sche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5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plicit forward difference to estimate final value followed by second forward difference to obtain final valu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0666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derivative of an advected speci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495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apfrog sche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733920" y="1447920"/>
          <a:ext cx="13968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447920"/>
                    <a:ext cx="1396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685800" y="3581280"/>
          <a:ext cx="30780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81280"/>
                    <a:ext cx="3078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105520" y="3505320"/>
          <a:ext cx="276048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505320"/>
                    <a:ext cx="2760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8120" y="4876920"/>
          <a:ext cx="3014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876920"/>
                    <a:ext cx="3014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066680" y="5638680"/>
          <a:ext cx="6710400" cy="10414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638680"/>
                    <a:ext cx="6710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95720" y="594360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Sigm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ma valu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71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 pressure at bottom boundary of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343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 column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7400" y="1752480"/>
          <a:ext cx="43797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4379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362320" y="3733920"/>
          <a:ext cx="393516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733920"/>
                    <a:ext cx="3935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895480" y="4876920"/>
          <a:ext cx="282420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876920"/>
                    <a:ext cx="28242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7200" y="54864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ma thickness of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6019920"/>
          <a:ext cx="3254400" cy="46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6019920"/>
                    <a:ext cx="32544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yer Midpoint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1676520"/>
          <a:ext cx="8610840" cy="19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61084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80880" y="4114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at the mass-center of a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5120" y="4724280"/>
          <a:ext cx="57038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724280"/>
                    <a:ext cx="5703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where mass-weighted mea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s locat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hen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ncreases monotonically with height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yer Midpoint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666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-weighed mean of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 of P at boundar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334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stent formula f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boundar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19520" y="1981080"/>
          <a:ext cx="30146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014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6320" y="3048120"/>
          <a:ext cx="875664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048120"/>
                    <a:ext cx="87566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895480" y="4267080"/>
          <a:ext cx="3046680" cy="10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267080"/>
                    <a:ext cx="304668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5810400"/>
          <a:ext cx="7046640" cy="10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810400"/>
                    <a:ext cx="70466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rakawa C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066680"/>
          <a:ext cx="75326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5326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43440" y="137160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nostic equation for column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tinuity Equation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819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-order in time, second-order in space approx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752480"/>
          <a:ext cx="825192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2519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2280" y="3429000"/>
          <a:ext cx="348300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429000"/>
                    <a:ext cx="3483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320" y="4267080"/>
          <a:ext cx="602460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267080"/>
                    <a:ext cx="60246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52280" y="5334120"/>
          <a:ext cx="681048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334120"/>
                    <a:ext cx="6810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227640" y="3200400"/>
          <a:ext cx="2916360" cy="2171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3200400"/>
                    <a:ext cx="2916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fluxes in domain interi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7.15)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gnostic Column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447920"/>
          <a:ext cx="72691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69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2362320"/>
          <a:ext cx="81882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81882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286000" y="3581280"/>
          <a:ext cx="4168800" cy="3105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581280"/>
                    <a:ext cx="416880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47:33Z</dcterms:modified>
  <cp:revision>246</cp:revision>
  <dc:subject/>
  <dc:title>Slide 1</dc:title>
</cp:coreProperties>
</file>