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26.pct" ContentType="image/x-pict"/>
  <Override PartName="/ppt/media/image125.pct" ContentType="image/x-pict"/>
  <Override PartName="/ppt/media/image124.pct" ContentType="image/x-pict"/>
  <Override PartName="/ppt/media/image123.pct" ContentType="image/x-pict"/>
  <Override PartName="/ppt/media/image122.pct" ContentType="image/x-pict"/>
  <Override PartName="/ppt/media/image121.pct" ContentType="image/x-pict"/>
  <Override PartName="/ppt/media/image116.pct" ContentType="image/x-pict"/>
  <Override PartName="/ppt/media/image115.pct" ContentType="image/x-pict"/>
  <Override PartName="/ppt/media/image114.pct" ContentType="image/x-pict"/>
  <Override PartName="/ppt/media/image113.pct" ContentType="image/x-pict"/>
  <Override PartName="/ppt/media/image112.pct" ContentType="image/x-pict"/>
  <Override PartName="/ppt/media/image111.pct" ContentType="image/x-pict"/>
  <Override PartName="/ppt/media/image106.pct" ContentType="image/x-pict"/>
  <Override PartName="/ppt/media/image105.pct" ContentType="image/x-pict"/>
  <Override PartName="/ppt/media/image104.pct" ContentType="image/x-pict"/>
  <Override PartName="/ppt/media/image103.pct" ContentType="image/x-pict"/>
  <Override PartName="/ppt/media/image102.pct" ContentType="image/x-pict"/>
  <Override PartName="/ppt/media/image101.pct" ContentType="image/x-pict"/>
  <Override PartName="/ppt/media/image99.pct" ContentType="image/x-pict"/>
  <Override PartName="/ppt/media/image98.pct" ContentType="image/x-pict"/>
  <Override PartName="/ppt/media/image97.pct" ContentType="image/x-pict"/>
  <Override PartName="/ppt/media/image29.pct" ContentType="image/x-pict"/>
  <Override PartName="/ppt/media/image96.pct" ContentType="image/x-pict"/>
  <Override PartName="/ppt/media/image28.pct" ContentType="image/x-pict"/>
  <Override PartName="/ppt/media/image95.pct" ContentType="image/x-pict"/>
  <Override PartName="/ppt/media/image27.pct" ContentType="image/x-pict"/>
  <Override PartName="/ppt/media/image89.pct" ContentType="image/x-pict"/>
  <Override PartName="/ppt/media/image6.pct" ContentType="image/x-pict"/>
  <Override PartName="/ppt/media/image18.pct" ContentType="image/x-pict"/>
  <Override PartName="/ppt/media/image86.pct" ContentType="image/x-pict"/>
  <Override PartName="/ppt/media/image36.pct" ContentType="image/x-pict"/>
  <Override PartName="/ppt/media/image7.pct" ContentType="image/x-pict"/>
  <Override PartName="/ppt/media/image37.pct" ContentType="image/x-pict"/>
  <Override PartName="/ppt/media/image38.pct" ContentType="image/x-pict"/>
  <Override PartName="/ppt/media/image8.pct" ContentType="image/x-pict"/>
  <Override PartName="/ppt/media/image30.pct" ContentType="image/x-pict"/>
  <Override PartName="/ppt/media/image127.pct" ContentType="image/x-pict"/>
  <Override PartName="/ppt/media/image1.pct" ContentType="image/x-pict"/>
  <Override PartName="/ppt/media/image153.pct" ContentType="image/x-pict"/>
  <Override PartName="/ppt/media/image39.pct" ContentType="image/x-pict"/>
  <Override PartName="/ppt/media/image40.pct" ContentType="image/x-pict"/>
  <Override PartName="/ppt/media/image137.pct" ContentType="image/x-pict"/>
  <Override PartName="/ppt/media/image41.pct" ContentType="image/x-pict"/>
  <Override PartName="/ppt/media/image138.pct" ContentType="image/x-pict"/>
  <Override PartName="/ppt/media/image42.pct" ContentType="image/x-pict"/>
  <Override PartName="/ppt/media/image139.pct" ContentType="image/x-pict"/>
  <Override PartName="/ppt/media/image43.pct" ContentType="image/x-pict"/>
  <Override PartName="/ppt/media/image50.pct" ContentType="image/x-pict"/>
  <Override PartName="/ppt/media/image147.pct" ContentType="image/x-pict"/>
  <Override PartName="/ppt/media/image51.pct" ContentType="image/x-pict"/>
  <Override PartName="/ppt/media/image148.pct" ContentType="image/x-pict"/>
  <Override PartName="/ppt/media/image52.pct" ContentType="image/x-pict"/>
  <Override PartName="/ppt/media/image149.pct" ContentType="image/x-pict"/>
  <Override PartName="/ppt/media/image143.pct" ContentType="image/x-pict"/>
  <Override PartName="/ppt/media/image144.pct" ContentType="image/x-pict"/>
  <Override PartName="/ppt/media/image145.pct" ContentType="image/x-pict"/>
  <Override PartName="/ppt/media/image53.pct" ContentType="image/x-pict"/>
  <Override PartName="/ppt/media/image146.pct" ContentType="image/x-pict"/>
  <Override PartName="/ppt/media/image141.pct" ContentType="image/x-pict"/>
  <Override PartName="/ppt/media/image55.pct" ContentType="image/x-pict"/>
  <Override PartName="/ppt/media/image108.pct" ContentType="image/x-pict"/>
  <Override PartName="/ppt/media/image11.pct" ContentType="image/x-pict"/>
  <Override PartName="/ppt/media/image150.pct" ContentType="image/x-pict"/>
  <Override PartName="/ppt/media/image142.pct" ContentType="image/x-pict"/>
  <Override PartName="/ppt/media/image56.pct" ContentType="image/x-pict"/>
  <Override PartName="/ppt/media/image109.pct" ContentType="image/x-pict"/>
  <Override PartName="/ppt/media/image151.pct" ContentType="image/x-pict"/>
  <Override PartName="/ppt/media/image54.pct" ContentType="image/x-pict"/>
  <Override PartName="/ppt/media/image140.pct" ContentType="image/x-pict"/>
  <Override PartName="/ppt/media/image152.pct" ContentType="image/x-pict"/>
  <Override PartName="/ppt/media/image100.pct" ContentType="image/x-pict"/>
  <Override PartName="/ppt/media/image49.pct" ContentType="image/x-pict"/>
  <Override PartName="/ppt/media/image136.pct" ContentType="image/x-pict"/>
  <Override PartName="/ppt/media/image135.pct" ContentType="image/x-pict"/>
  <Override PartName="/ppt/media/image48.pct" ContentType="image/x-pict"/>
  <Override PartName="/ppt/media/image134.pct" ContentType="image/x-pict"/>
  <Override PartName="/ppt/media/image47.pct" ContentType="image/x-pict"/>
  <Override PartName="/ppt/media/image133.pct" ContentType="image/x-pict"/>
  <Override PartName="/ppt/media/image46.pct" ContentType="image/x-pict"/>
  <Override PartName="/ppt/media/image132.pct" ContentType="image/x-pict"/>
  <Override PartName="/ppt/media/image45.pct" ContentType="image/x-pict"/>
  <Override PartName="/ppt/media/image131.pct" ContentType="image/x-pict"/>
  <Override PartName="/ppt/media/image129.pct" ContentType="image/x-pict"/>
  <Override PartName="/ppt/media/image32.pct" ContentType="image/x-pict"/>
  <Override PartName="/ppt/media/image44.pct" ContentType="image/x-pict"/>
  <Override PartName="/ppt/media/image130.pct" ContentType="image/x-pict"/>
  <Override PartName="/ppt/media/image79.pct" ContentType="image/x-pict"/>
  <Override PartName="/ppt/media/image128.pct" ContentType="image/x-pict"/>
  <Override PartName="/ppt/media/image9.pct" ContentType="image/x-pict"/>
  <Override PartName="/ppt/media/image31.pct" ContentType="image/x-pict"/>
  <Override PartName="/ppt/media/image10.pct" ContentType="image/x-pict"/>
  <Override PartName="/ppt/media/image107.pct" ContentType="image/x-pict"/>
  <Override PartName="/ppt/media/image35.pct" ContentType="image/x-pict"/>
  <Override PartName="/ppt/media/image5.pct" ContentType="image/x-pict"/>
  <Override PartName="/ppt/media/image85.pct" ContentType="image/x-pict"/>
  <Override PartName="/ppt/media/image17.pct" ContentType="image/x-pict"/>
  <Override PartName="/ppt/media/image34.pct" ContentType="image/x-pict"/>
  <Override PartName="/ppt/media/image4.pct" ContentType="image/x-pict"/>
  <Override PartName="/ppt/media/image84.pct" ContentType="image/x-pict"/>
  <Override PartName="/ppt/media/image16.pct" ContentType="image/x-pict"/>
  <Override PartName="/ppt/media/image13.pct" ContentType="image/x-pict"/>
  <Override PartName="/ppt/media/image81.pct" ContentType="image/x-pict"/>
  <Override PartName="/ppt/media/image33.pct" ContentType="image/x-pict"/>
  <Override PartName="/ppt/media/image3.pct" ContentType="image/x-pict"/>
  <Override PartName="/ppt/media/image83.pct" ContentType="image/x-pict"/>
  <Override PartName="/ppt/media/image15.pct" ContentType="image/x-pict"/>
  <Override PartName="/ppt/media/image12.pct" ContentType="image/x-pict"/>
  <Override PartName="/ppt/media/image80.pct" ContentType="image/x-pict"/>
  <Override PartName="/ppt/media/image94.pct" ContentType="image/x-pict"/>
  <Override PartName="/ppt/media/image26.pct" ContentType="image/x-pict"/>
  <Override PartName="/ppt/media/image154.pct" ContentType="image/x-pict"/>
  <Override PartName="/ppt/media/image2.pct" ContentType="image/x-pict"/>
  <Override PartName="/ppt/media/image82.pct" ContentType="image/x-pict"/>
  <Override PartName="/ppt/media/image14.pct" ContentType="image/x-pict"/>
  <Override PartName="/ppt/media/image93.pct" ContentType="image/x-pict"/>
  <Override PartName="/ppt/media/image25.pct" ContentType="image/x-pict"/>
  <Override PartName="/ppt/media/image92.pct" ContentType="image/x-pict"/>
  <Override PartName="/ppt/media/image24.pct" ContentType="image/x-pict"/>
  <Override PartName="/ppt/media/image57.pct" ContentType="image/x-pict"/>
  <Override PartName="/ppt/media/image20.pct" ContentType="image/x-pict"/>
  <Override PartName="/ppt/media/image117.pct" ContentType="image/x-pict"/>
  <Override PartName="/ppt/media/image58.pct" ContentType="image/x-pict"/>
  <Override PartName="/ppt/media/image21.pct" ContentType="image/x-pict"/>
  <Override PartName="/ppt/media/image118.pct" ContentType="image/x-pict"/>
  <Override PartName="/ppt/media/image59.pct" ContentType="image/x-pict"/>
  <Override PartName="/ppt/media/image110.pct" ContentType="image/x-pict"/>
  <Override PartName="/ppt/media/image90.pct" ContentType="image/x-pict"/>
  <Override PartName="/ppt/media/image22.pct" ContentType="image/x-pict"/>
  <Override PartName="/ppt/media/image119.pct" ContentType="image/x-pict"/>
  <Override PartName="/ppt/media/image91.pct" ContentType="image/x-pict"/>
  <Override PartName="/ppt/media/image23.pct" ContentType="image/x-pict"/>
  <Override PartName="/ppt/media/image60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68.pct" ContentType="image/x-pict"/>
  <Override PartName="/ppt/media/image69.pct" ContentType="image/x-pict"/>
  <Override PartName="/ppt/media/image120.pct" ContentType="image/x-pict"/>
  <Override PartName="/ppt/media/image70.pct" ContentType="image/x-pict"/>
  <Override PartName="/ppt/media/image71.pct" ContentType="image/x-pict"/>
  <Override PartName="/ppt/media/image72.pct" ContentType="image/x-pict"/>
  <Override PartName="/ppt/media/image73.pct" ContentType="image/x-pict"/>
  <Override PartName="/ppt/media/image74.pct" ContentType="image/x-pict"/>
  <Override PartName="/ppt/media/image75.pct" ContentType="image/x-pict"/>
  <Override PartName="/ppt/media/image76.pct" ContentType="image/x-pict"/>
  <Override PartName="/ppt/media/image77.pct" ContentType="image/x-pict"/>
  <Override PartName="/ppt/media/image78.pct" ContentType="image/x-pict"/>
  <Override PartName="/ppt/media/image19.pct" ContentType="image/x-pict"/>
  <Override PartName="/ppt/media/image87.pct" ContentType="image/x-pict"/>
  <Override PartName="/ppt/media/image88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F5C-1FD6-4600-AAC3-2C8BE11F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3AB-B1B3-45EF-9DCE-9967B4CD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7C9-9C53-4EBE-9FEA-E85E3504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EDA-0B22-4589-A12F-5BE6515E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9D0-5FD7-4CA1-8019-198015C4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AB8-7D5C-40D7-8234-1D57DB1D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5E7-BDED-4D30-8C7F-02F2FA58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AD3-903F-45FF-8496-C58EE84C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1FD-7E96-4707-9395-1A012C12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618-7FBC-4912-9862-E6EF878D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597-4F37-4651-BAD1-45F0404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AE1-9561-4376-8208-07B51A7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EB9B-4A42-467A-9A5E-818F58B9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ct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pct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ct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ct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ct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ct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ct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pct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ct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ct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pct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pct"/><Relationship Id="rId1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pct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pct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pct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pct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pct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ct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ct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pct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pct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0.pct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pct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pct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pct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ct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pct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ct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pct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3.pct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pct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1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2.pct"/><Relationship Id="rId1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5.pct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8.pct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2.pct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6.pct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7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0.pct"/><Relationship Id="rId1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5.pct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pct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pct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1.pct"/><Relationship Id="rId1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4.pct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pct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ct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5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10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495288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gradient operator in the pressur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. Gradient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conversion altitude to pressur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743200" y="5486400"/>
          <a:ext cx="3141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486400"/>
                    <a:ext cx="3141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590920" y="1600200"/>
          <a:ext cx="314172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600200"/>
                    <a:ext cx="31417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819520" y="3581280"/>
          <a:ext cx="301464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581280"/>
                    <a:ext cx="3014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33520" y="32004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gradient operator in the altitud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4.8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ke gradient conversion of geopotenti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eopotential Grad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1828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note that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0481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gradient convers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6483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pressure gradient proportional to altitude grad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676520"/>
          <a:ext cx="35859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35859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858000" y="1828800"/>
          <a:ext cx="120636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828800"/>
                    <a:ext cx="1206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95280" y="3581280"/>
          <a:ext cx="606276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581280"/>
                    <a:ext cx="6062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295280" y="5257800"/>
          <a:ext cx="276084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5257800"/>
                    <a:ext cx="2760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876920" y="5257800"/>
          <a:ext cx="2760480" cy="101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5257800"/>
                    <a:ext cx="27604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inate Continuity Eq. for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286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d with horizontal operator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809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conversion of veloc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air in the altitud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029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gradient conversion and hydrostatic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33720" y="1371600"/>
          <a:ext cx="3903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371600"/>
                    <a:ext cx="3903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62120" y="2743200"/>
          <a:ext cx="711036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743200"/>
                    <a:ext cx="7110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057400" y="4191120"/>
          <a:ext cx="460224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4191120"/>
                    <a:ext cx="4602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57040" y="5486400"/>
          <a:ext cx="8886960" cy="104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040" y="5486400"/>
                    <a:ext cx="88869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inate Continuity Eq. for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438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-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ownward, 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upward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733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iate vertical velocity with respect to altitu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990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scalar velocity in the pressur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257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-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371600"/>
          <a:ext cx="83725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3725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981080" y="2819520"/>
          <a:ext cx="5146920" cy="8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819520"/>
                    <a:ext cx="51469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33520" y="4191120"/>
          <a:ext cx="7961040" cy="91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191120"/>
                    <a:ext cx="79610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04920" y="5791320"/>
          <a:ext cx="8391240" cy="91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5791320"/>
                    <a:ext cx="83912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inate Continuity Eq. for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8769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d (5.20) and (5.24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2819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previous pag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04920" y="3352680"/>
          <a:ext cx="839124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352680"/>
                    <a:ext cx="839124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124080" y="5562720"/>
          <a:ext cx="2532240" cy="88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5562720"/>
                    <a:ext cx="253224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1523880"/>
          <a:ext cx="8886960" cy="10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523880"/>
                    <a:ext cx="88869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04920" y="10666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two pages bac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inate Continuity Eq. for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5146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990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ded continuity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1240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5880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= 5 km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y = 5 k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187534"/>
                </a:solidFill>
                <a:latin typeface="Times New Roman"/>
              </a:rPr>
              <a:t>a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-10 h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5880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-3 (west)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-1 m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(eas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5880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+2 (south)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4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 -2 m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(nort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5880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Arial"/>
              </a:rPr>
              <a:t>w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,5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+0.02 hPa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(lower bounda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5880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124080" y="1447920"/>
          <a:ext cx="3141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3141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80880" y="4952880"/>
          <a:ext cx="79660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952880"/>
                    <a:ext cx="7966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237760" y="6095880"/>
            <a:ext cx="4776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</a:t>
            </a:r>
            <a:r>
              <a:rPr b="0" lang="en-US" sz="2400" spc="-1" strike="noStrike">
                <a:solidFill>
                  <a:srgbClr val="187534"/>
                </a:solidFill>
                <a:latin typeface="Arial"/>
              </a:rPr>
              <a:t>w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,6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+0.016 hPa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(downwar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Total Derivative in 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inat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5029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conversions into total deriva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 derivative and gradient operator convers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5, 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990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derivative in Cartesian-altitud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362320" y="1371600"/>
          <a:ext cx="39988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371600"/>
                    <a:ext cx="39988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52280" y="5486400"/>
          <a:ext cx="869652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5486400"/>
                    <a:ext cx="86965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057400" y="2971800"/>
          <a:ext cx="4379760" cy="101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2971800"/>
                    <a:ext cx="43797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666880" y="4114800"/>
          <a:ext cx="314172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114800"/>
                    <a:ext cx="31417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Total Derivative in 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inat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2193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time deriva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895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velocity in altitude coordinate from (5.2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8006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5.29) and hydrostatic equation into (5.28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3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otal derivative in Cartesian-pressure coordinat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1752480"/>
          <a:ext cx="86961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961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828800" y="3352680"/>
          <a:ext cx="4411800" cy="136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352680"/>
                    <a:ext cx="44118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057400" y="5715000"/>
          <a:ext cx="45385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715000"/>
                    <a:ext cx="45385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inate Species Cont.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8954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Cartesian-pressure coordinate total deriva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3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952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t mass mixing ratio to number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3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es continuity equation in the altitud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09680" y="1600200"/>
          <a:ext cx="3903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3903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7200" y="3429000"/>
          <a:ext cx="82519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429000"/>
                    <a:ext cx="8251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657600" y="5486400"/>
          <a:ext cx="12063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5486400"/>
                    <a:ext cx="1206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ordinate Thermo. Energy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733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Cartesian-pressure coordinate total deriva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3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523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modynamic energy equation in the altitud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447920" y="2057400"/>
          <a:ext cx="5618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5618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93600" y="4572000"/>
          <a:ext cx="9050400" cy="10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4572000"/>
                    <a:ext cx="9050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ltitude Coordinate Su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38520" y="601992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81200"/>
          <a:ext cx="8229600" cy="34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81200"/>
                    <a:ext cx="822960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inate Horiz. Momentum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4495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Cartesian-pressure coordinate total derivati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3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447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momentum equation in the altitud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1240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from (5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90720" y="1828800"/>
          <a:ext cx="63799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63799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971800" y="3581280"/>
          <a:ext cx="24130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581280"/>
                    <a:ext cx="2413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0" y="5105520"/>
          <a:ext cx="9123480" cy="97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105520"/>
                    <a:ext cx="912348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inate Vert. Momentum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hydrostatic equation in the pressur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0666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sume hydrostatic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286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4952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for final hydrostatic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3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581280" y="1447920"/>
          <a:ext cx="1683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447920"/>
                    <a:ext cx="1683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60240" y="2635200"/>
          <a:ext cx="139716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2635200"/>
                    <a:ext cx="1397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657600" y="2590920"/>
          <a:ext cx="1714680" cy="41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2590920"/>
                    <a:ext cx="17146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858000" y="2666880"/>
          <a:ext cx="12700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2666880"/>
                    <a:ext cx="1270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066680" y="3657600"/>
          <a:ext cx="650736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3657600"/>
                    <a:ext cx="6507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447920" y="5410080"/>
          <a:ext cx="5935680" cy="13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5410080"/>
                    <a:ext cx="59356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Geostrophic Wind in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 Coordin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8862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Geostrophic wind in the pressur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3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0666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2590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4.7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257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ctor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4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3000" y="1523880"/>
          <a:ext cx="276084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2760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800600" y="1523880"/>
          <a:ext cx="2760840" cy="10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523880"/>
                    <a:ext cx="276084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447920" y="2895480"/>
          <a:ext cx="190476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2895480"/>
                    <a:ext cx="19047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343400" y="2895480"/>
          <a:ext cx="215892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2895480"/>
                    <a:ext cx="21589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371600" y="4267080"/>
          <a:ext cx="200016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4267080"/>
                    <a:ext cx="20001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343400" y="4267080"/>
          <a:ext cx="2254320" cy="101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4267080"/>
                    <a:ext cx="225432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33520" y="5562720"/>
          <a:ext cx="7680240" cy="101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5562720"/>
                    <a:ext cx="76802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Geostrophic Wind on a Surface of Constant Pressu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905120"/>
          <a:ext cx="8839440" cy="37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8394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38520" y="601992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Sigma-Pressure Coordinate Surfa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280" y="1839960"/>
          <a:ext cx="8839440" cy="32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39960"/>
                    <a:ext cx="883944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38520" y="601992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The Sigma-Pressure Coordin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50292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ssure at a given sigma leve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4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finition of a sigma leve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4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429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ssure difference between column surface and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828800" y="2057400"/>
          <a:ext cx="463392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46339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590920" y="4038480"/>
          <a:ext cx="28242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28242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124080" y="5562720"/>
          <a:ext cx="244476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5562720"/>
                    <a:ext cx="24447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Intersections of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1" lang="en-US" sz="42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 Surfa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43440" y="411480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280" y="838080"/>
          <a:ext cx="8458200" cy="45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582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80880" y="54100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mixing ratio per unit dist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676520" y="5715000"/>
          <a:ext cx="564984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715000"/>
                    <a:ext cx="56498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Gradient Conversion 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1240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conversion fro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to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724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raliz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mixing ratio per unit dist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447920" y="1676520"/>
          <a:ext cx="56498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56498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209680" y="3581280"/>
          <a:ext cx="438012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581280"/>
                    <a:ext cx="4380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2895480" y="5257800"/>
          <a:ext cx="29196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5257800"/>
                    <a:ext cx="29196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Gradient Conversion 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3581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5410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5.54) into (5.53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286000"/>
            <a:ext cx="792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of sigma along surface of constant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57200" y="2590920"/>
          <a:ext cx="828360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2836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648320" y="4038480"/>
          <a:ext cx="16192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038480"/>
                    <a:ext cx="16192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286000" y="3962520"/>
          <a:ext cx="180972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962520"/>
                    <a:ext cx="180972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362320" y="4724280"/>
          <a:ext cx="3808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724280"/>
                    <a:ext cx="3808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666880" y="5867280"/>
          <a:ext cx="3618000" cy="85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5867280"/>
                    <a:ext cx="36180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45720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convers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666880" y="1523880"/>
          <a:ext cx="291960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1523880"/>
                    <a:ext cx="29196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Continuity Eq. for Ai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 vertical velocity, whe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,to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0666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air in the pressure coordinate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3733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gradient conversion and 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819520" y="1447920"/>
          <a:ext cx="263340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447920"/>
                    <a:ext cx="26334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1447920" y="4267080"/>
          <a:ext cx="577692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267080"/>
                    <a:ext cx="57769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447920" y="5791320"/>
          <a:ext cx="577692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5791320"/>
                    <a:ext cx="57769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438280" y="2895480"/>
          <a:ext cx="361800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895480"/>
                    <a:ext cx="36180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45720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conversion fro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to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compose pressure into large-scale and perturbation term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ation for Nonhydrostatic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9810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rge-scale atmosphere in hydrostatic bal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581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compose gravitational and pressure gradient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1814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5.3) into vertical momentum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09480" y="1447920"/>
          <a:ext cx="180972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18097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09480" y="2438280"/>
          <a:ext cx="313560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438280"/>
                    <a:ext cx="313560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09480" y="4114800"/>
          <a:ext cx="7596360" cy="8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114800"/>
                    <a:ext cx="7596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85800" y="5562720"/>
          <a:ext cx="587844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5562720"/>
                    <a:ext cx="5878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Vertical Velocit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1295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 vertical velocit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143000" y="2057400"/>
          <a:ext cx="57769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5776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380880" y="32004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gma-pressure coordinate vertical velocity (+ is down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581280" y="3886200"/>
          <a:ext cx="106056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886200"/>
                    <a:ext cx="10605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Continuity Eq. for Ai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5410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ke partial derivativ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8380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terial time derivative in th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4191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total derivative of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nto (5.58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286000" y="1143000"/>
          <a:ext cx="412596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1259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1752480" y="4572000"/>
          <a:ext cx="526896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572000"/>
                    <a:ext cx="52689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85800" y="5905440"/>
          <a:ext cx="768024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905440"/>
                    <a:ext cx="76802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048120" y="2362320"/>
          <a:ext cx="2595600" cy="76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2362320"/>
                    <a:ext cx="25956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752480" y="3429000"/>
          <a:ext cx="5283360" cy="9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3429000"/>
                    <a:ext cx="528336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457200" y="1905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 vertical velocit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3048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derivative of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note that ∂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Continuity Eq. for Ai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9907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derivative of vertical scalar velocit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3733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5.61) into (5.56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tinuity equation for air in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oordinate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53341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t to spherical-sigma-pressure coordinate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838080" y="1447920"/>
          <a:ext cx="76806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680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209680" y="4495680"/>
          <a:ext cx="479268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95680"/>
                    <a:ext cx="4792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80880" y="5867280"/>
          <a:ext cx="84376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867280"/>
                    <a:ext cx="843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conversion previously derive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371600" y="2743200"/>
          <a:ext cx="5776920" cy="92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743200"/>
                    <a:ext cx="57769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lumn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36576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rognostic equation for column pressu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1066680"/>
            <a:ext cx="7848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5105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alogous equation in spherical-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23623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and integrat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752480" y="1447920"/>
          <a:ext cx="479268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479268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371600" y="2819520"/>
          <a:ext cx="60310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819520"/>
                    <a:ext cx="6031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2438280" y="4114800"/>
          <a:ext cx="40626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114800"/>
                    <a:ext cx="4062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457200" y="5638680"/>
          <a:ext cx="8251920" cy="10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38680"/>
                    <a:ext cx="825192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ertical Scalar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agnostic equation for vertical velocit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10666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52578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alogous equation in spherical-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" y="22860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and integrat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52480" y="1371600"/>
          <a:ext cx="47926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4792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1371600" y="2743200"/>
          <a:ext cx="615780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743200"/>
                    <a:ext cx="61578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1905120" y="4191120"/>
          <a:ext cx="51102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191120"/>
                    <a:ext cx="51102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457200" y="5715000"/>
          <a:ext cx="8372520" cy="81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715000"/>
                    <a:ext cx="83725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pecies Continuity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4572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Continuity equation in Cartesian-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7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2193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es continuity equation in Cartesian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5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28954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terial time derivative is sigma-pressure coordinat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523880" y="1523880"/>
          <a:ext cx="565020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6502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286000" y="3505320"/>
          <a:ext cx="3935520" cy="92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505320"/>
                    <a:ext cx="393552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533520" y="5105520"/>
          <a:ext cx="7870680" cy="12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105520"/>
                    <a:ext cx="787068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pecies Continuity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species and air continuity equ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7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581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spherical-coordinate transformation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7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85800" y="1981080"/>
          <a:ext cx="73771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771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457200" y="4343400"/>
          <a:ext cx="806148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343400"/>
                    <a:ext cx="80614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57200" y="5257800"/>
          <a:ext cx="799776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257800"/>
                    <a:ext cx="799776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rmodynamic En.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16002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Cartesian-altitude coordinat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3733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th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 material time deriva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7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523880" y="2209680"/>
          <a:ext cx="5865840" cy="10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586584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838080" y="4495680"/>
          <a:ext cx="7263000" cy="10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495680"/>
                    <a:ext cx="72630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rmodynamic En.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10666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with continuity equation for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7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38098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spherical-coordinate transformation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762120" y="1600200"/>
          <a:ext cx="45194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451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76720" y="2438280"/>
          <a:ext cx="444312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38280"/>
                    <a:ext cx="444312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1066680" y="4419720"/>
          <a:ext cx="670428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419720"/>
                    <a:ext cx="67042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762120" y="5334120"/>
          <a:ext cx="7692840" cy="109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334120"/>
                    <a:ext cx="76928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13716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Cartesian-altitude coordinat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4.7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4419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to horizontal momentum eq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7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2819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terial time derivative of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295280" y="1905120"/>
          <a:ext cx="63486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05120"/>
                    <a:ext cx="6348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2133720" y="3352680"/>
          <a:ext cx="413856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352680"/>
                    <a:ext cx="41385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80880" y="5105520"/>
          <a:ext cx="79981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105520"/>
                    <a:ext cx="79981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ke grad dot the sum of (5.4), (4.73), and (4.74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ation for Nonhydrostatic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6576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 tha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181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ve local derivative from continuity eq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562720"/>
            <a:ext cx="4648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Anelastic continuity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1676520"/>
          <a:ext cx="638964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63896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286000" y="2514600"/>
          <a:ext cx="37846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514600"/>
                    <a:ext cx="37846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971800" y="4191120"/>
          <a:ext cx="2724120" cy="92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191120"/>
                    <a:ext cx="27241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505320" y="5943600"/>
          <a:ext cx="183672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5943600"/>
                    <a:ext cx="1836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8098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into momentum eq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7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6765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ssure gradient ter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7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447920" y="2362320"/>
          <a:ext cx="5886360" cy="85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588636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1219320" y="4343400"/>
          <a:ext cx="54846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343400"/>
                    <a:ext cx="54846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362320" y="5257800"/>
          <a:ext cx="6051600" cy="95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257800"/>
                    <a:ext cx="60516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upling Hor./Vert. Momentum Eq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371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ostatic equation in the pressure coordinat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8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2971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-derive specific densit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8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133720" y="1981080"/>
          <a:ext cx="446076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81080"/>
                    <a:ext cx="44607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219320" y="3809880"/>
          <a:ext cx="6746760" cy="9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9880"/>
                    <a:ext cx="674676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upling Hor./Vert. Momentum Eq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1295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terms above with momentum/continuity eqs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8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38080" y="1981080"/>
          <a:ext cx="66024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6602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1523880" y="3048120"/>
          <a:ext cx="4926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048120"/>
                    <a:ext cx="4926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6477120" y="2895480"/>
          <a:ext cx="22860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895480"/>
                    <a:ext cx="2286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523880" y="4876920"/>
          <a:ext cx="5932440" cy="13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4876920"/>
                    <a:ext cx="59324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304920" y="42670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w horizontal and vertical equations consisten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3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 Coord.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omentum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direction momentum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8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9907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direction momentum equ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8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0" y="1447920"/>
          <a:ext cx="875988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7598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1143000" y="2209680"/>
          <a:ext cx="693252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209680"/>
                    <a:ext cx="6932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3048120" y="2971800"/>
          <a:ext cx="30463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971800"/>
                    <a:ext cx="3046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228600" y="4114800"/>
          <a:ext cx="87343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114800"/>
                    <a:ext cx="87343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762120" y="4800600"/>
          <a:ext cx="7616880" cy="81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4800600"/>
                    <a:ext cx="7616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276720" y="5715000"/>
          <a:ext cx="3046320" cy="68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715000"/>
                    <a:ext cx="3046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igma-Altitude 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gma-altitude valu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8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" y="4572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titude of a sigma surfac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28954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titude difference between column top and surfac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2514600" y="1905120"/>
          <a:ext cx="349092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05120"/>
                    <a:ext cx="349092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3505320" y="3809880"/>
          <a:ext cx="222228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809880"/>
                    <a:ext cx="2222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3733920" y="5486400"/>
          <a:ext cx="1841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5486400"/>
                    <a:ext cx="1841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radient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13716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conversion betwe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4572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into gradient convers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2895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. gradient of sigma along const. altitude surfac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2)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819520" y="1905120"/>
          <a:ext cx="26334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05120"/>
                    <a:ext cx="26334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1600200" y="3505320"/>
          <a:ext cx="5332320" cy="92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505320"/>
                    <a:ext cx="533232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2666880" y="5410080"/>
          <a:ext cx="326880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410080"/>
                    <a:ext cx="3268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versions in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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1219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-derivative conversion betwe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51055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terial time derivative in the sigma-altitude coordinat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24382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lar velocity in the sigma-altitude coordinat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5)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38098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3352680" y="1600200"/>
          <a:ext cx="19684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00200"/>
                    <a:ext cx="19684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1600200" y="3048120"/>
          <a:ext cx="590400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048120"/>
                    <a:ext cx="5904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429000" y="4191120"/>
          <a:ext cx="13971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91120"/>
                    <a:ext cx="13971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362320" y="5638680"/>
          <a:ext cx="3871800" cy="92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638680"/>
                    <a:ext cx="38718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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. Continuity Eq. For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088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air in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" y="5105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these terms into continuity equation abov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26668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gradient conversion to horizontal velocit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38862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gradient conversion to a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066680" y="1752480"/>
          <a:ext cx="71103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110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133720" y="3200400"/>
          <a:ext cx="40939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4093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2362320" y="4419720"/>
          <a:ext cx="399888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419720"/>
                    <a:ext cx="39988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52280" y="5867280"/>
          <a:ext cx="4579920" cy="73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5867280"/>
                    <a:ext cx="45799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5867280"/>
          <a:ext cx="3921120" cy="68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5867280"/>
                    <a:ext cx="392112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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. Continuity Eq. For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9907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 vertical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" y="4876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.                                       , (5.99), 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-1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nto (5.97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iate with respect to altitu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8)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880" y="2895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-1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886200" y="990720"/>
          <a:ext cx="295128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990720"/>
                    <a:ext cx="29512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1676520" y="2057400"/>
          <a:ext cx="539568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057400"/>
                    <a:ext cx="5395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1752480" y="3581280"/>
          <a:ext cx="511020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3581280"/>
                    <a:ext cx="51102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1143000" y="4952880"/>
          <a:ext cx="29512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952880"/>
                    <a:ext cx="29512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066680" y="5638680"/>
          <a:ext cx="72774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638680"/>
                    <a:ext cx="72774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Non/Hydrostatic Continuity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9907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                                 and compress --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onhydrostatic continuity equation for air i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oordinate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36576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ydrostatic equation in th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02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51814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into (5.101) --&gt; Hydrostatic continuity eq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0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828800" y="990720"/>
          <a:ext cx="22543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0720"/>
                    <a:ext cx="22543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55560" y="1905120"/>
          <a:ext cx="5364360" cy="92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560" y="1905120"/>
                    <a:ext cx="53643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1752480" y="2743200"/>
          <a:ext cx="545940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743200"/>
                    <a:ext cx="54594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2590920" y="4267080"/>
          <a:ext cx="330012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4267080"/>
                    <a:ext cx="33001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1981080" y="5791320"/>
          <a:ext cx="545940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791320"/>
                    <a:ext cx="54594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5.6) and (5.7) into (5.5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Diagnostic equation for nonhydrostatic pressure</a:t>
            </a:r>
            <a:r>
              <a:rPr b="0" lang="en-US" sz="18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ation for Nonhydrostatic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590920"/>
          <a:ext cx="82202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2202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828800" y="3809880"/>
          <a:ext cx="5776920" cy="11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809880"/>
                    <a:ext cx="577692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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. Species Continuity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1371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material derivative in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-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 to the continuity equation for a trace species in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0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609480" y="2895480"/>
          <a:ext cx="8080560" cy="12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95480"/>
                    <a:ext cx="80805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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. Thermodynamic En.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material derivative in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 to the thermodynamic energy equation in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0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314280" y="3124080"/>
          <a:ext cx="8829720" cy="12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124080"/>
                    <a:ext cx="882972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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. Horiz. Momentum Eq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04920" y="9907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equation in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0880" y="21337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material time derivative of veloc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04920" y="3505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conversion of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0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45720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gradient convers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0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676520" y="1447920"/>
          <a:ext cx="51037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51037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380880" y="2666880"/>
          <a:ext cx="812484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666880"/>
                    <a:ext cx="81248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2514600" y="3962520"/>
          <a:ext cx="37069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962520"/>
                    <a:ext cx="3706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457200" y="5105520"/>
          <a:ext cx="324972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105520"/>
                    <a:ext cx="32497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1371600" y="5867280"/>
          <a:ext cx="6551640" cy="78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5867280"/>
                    <a:ext cx="65516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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. Vertical Momentum Eq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9907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. 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-1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n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coord. vertical momentum eq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1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28195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04920" y="4114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other form of vertical momentum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990720" y="1600200"/>
          <a:ext cx="67546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67546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3048120" y="3352680"/>
          <a:ext cx="29160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352680"/>
                    <a:ext cx="29160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228600" y="4724280"/>
          <a:ext cx="8632800" cy="88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724280"/>
                    <a:ext cx="86328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905120" y="5791320"/>
          <a:ext cx="512892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5791320"/>
                    <a:ext cx="51289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essure Coordinate Su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38520" y="601992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893960"/>
          <a:ext cx="8458200" cy="30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3960"/>
                    <a:ext cx="845820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Intersections of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 Surfa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95720" y="121932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1066680"/>
          <a:ext cx="8458200" cy="43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4582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04920" y="54100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mass mixing ratio over dist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8800" y="5715000"/>
          <a:ext cx="555480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715000"/>
                    <a:ext cx="55548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mass mixing ratio over dist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9)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. Gradient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5146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roximate differences a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0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1814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conversion from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ordinat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371600"/>
          <a:ext cx="55548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55548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85800" y="3048120"/>
          <a:ext cx="23814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48120"/>
                    <a:ext cx="23814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3048120"/>
          <a:ext cx="23814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48120"/>
                    <a:ext cx="2381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09480" y="4038480"/>
          <a:ext cx="250848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4038480"/>
                    <a:ext cx="25084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776840" y="4038480"/>
          <a:ext cx="2538360" cy="101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76840" y="4038480"/>
                    <a:ext cx="253836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981080" y="5562720"/>
          <a:ext cx="4570560" cy="101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5562720"/>
                    <a:ext cx="45705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ral equ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2)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Coord. Gradient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971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time f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09680" y="1676520"/>
          <a:ext cx="453888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76520"/>
                    <a:ext cx="45388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09680" y="3505320"/>
          <a:ext cx="438012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505320"/>
                    <a:ext cx="43801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895480" y="5562720"/>
          <a:ext cx="314172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5562720"/>
                    <a:ext cx="31417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5105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conversion altitude to pressure coordin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5.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10T16:54:11Z</dcterms:modified>
  <cp:revision>345</cp:revision>
  <dc:subject/>
  <dc:title>Slide 1</dc:title>
</cp:coreProperties>
</file>