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5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4.pct" ContentType="image/x-pict"/>
  <Override PartName="/ppt/media/image1.pct" ContentType="image/x-pict"/>
  <Override PartName="/ppt/media/image31.pct" ContentType="image/x-pict"/>
  <Override PartName="/ppt/media/image25.pct" ContentType="image/x-pict"/>
  <Override PartName="/ppt/media/image2.pct" ContentType="image/x-pict"/>
  <Override PartName="/ppt/media/image32.pct" ContentType="image/x-pict"/>
  <Override PartName="/ppt/media/image26.pct" ContentType="image/x-pict"/>
  <Override PartName="/ppt/media/image3.pct" ContentType="image/x-pict"/>
  <Override PartName="/ppt/media/image33.pct" ContentType="image/x-pict"/>
  <Override PartName="/ppt/media/image13.pct" ContentType="image/x-pict"/>
  <Override PartName="/ppt/media/image8.pct" ContentType="image/x-pict"/>
  <Override PartName="/ppt/media/image38.pct" ContentType="image/x-pict"/>
  <Override PartName="/ppt/media/image40.pct" ContentType="image/x-pict"/>
  <Override PartName="/ppt/media/image9.pct" ContentType="image/x-pict"/>
  <Override PartName="/ppt/media/image39.pct" ContentType="image/x-pict"/>
  <Override PartName="/ppt/media/image41.pct" ContentType="image/x-pict"/>
  <Override PartName="/ppt/media/image30.pct" ContentType="image/x-pict"/>
  <Override PartName="/ppt/media/image28.pct" ContentType="image/x-pict"/>
  <Override PartName="/ppt/media/image42.pct" ContentType="image/x-pict"/>
  <Override PartName="/ppt/media/image43.pct" ContentType="image/x-pict"/>
  <Override PartName="/ppt/media/image44.pct" ContentType="image/x-pict"/>
  <Override PartName="/ppt/media/image45.pct" ContentType="image/x-pict"/>
  <Override PartName="/ppt/media/image46.pct" ContentType="image/x-pict"/>
  <Override PartName="/ppt/media/image48.pct" ContentType="image/x-pict"/>
  <Override PartName="/ppt/media/image11.pct" ContentType="image/x-pict"/>
  <Override PartName="/ppt/media/image12.pct" ContentType="image/x-pict"/>
  <Override PartName="/ppt/media/image10.pct" ContentType="image/x-pict"/>
  <Override PartName="/ppt/media/image47.pct" ContentType="image/x-pict"/>
  <Override PartName="/ppt/media/image37.pct" ContentType="image/x-pict"/>
  <Override PartName="/ppt/media/image7.pct" ContentType="image/x-pict"/>
  <Override PartName="/ppt/media/image36.pct" ContentType="image/x-pict"/>
  <Override PartName="/ppt/media/image6.pct" ContentType="image/x-pict"/>
  <Override PartName="/ppt/media/image29.pct" ContentType="image/x-pict"/>
  <Override PartName="/ppt/media/image5.pct" ContentType="image/x-pict"/>
  <Override PartName="/ppt/media/image35.pct" ContentType="image/x-pict"/>
  <Override PartName="/ppt/media/image34.pct" ContentType="image/x-pict"/>
  <Override PartName="/ppt/media/image4.pct" ContentType="image/x-pict"/>
  <Override PartName="/ppt/media/image27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1AAC-E705-4F57-924D-4906D9F5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94AD-98F6-4BFC-86B7-DEFECC2A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BD7A-19A0-431A-84DE-5F25F31F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B4E5-50DE-4C7D-ABE5-582F54773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C1E3-EBFC-4DB2-B9F0-BFF27D0A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D90E-5CF0-4C9E-B25C-EF4FBFBB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1186-F5A9-435D-85F9-1CD0C156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829F-C540-4B33-AFFF-AA979CF2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6079-D04D-4C1A-8E00-EC82D8CC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0CD2-F324-4CCD-A507-B9568CB4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F22C-CC6F-4871-A3DC-BB904FCE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90B1-5DC2-47BA-89B8-350F3BCA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6BF4-8455-40D1-9E43-9360911D8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ct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ct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ct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ct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ct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pct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pct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pct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ct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pct"/><Relationship Id="rId1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pct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pct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pct"/><Relationship Id="rId1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pct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ct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resentation Slides</a:t>
            </a:r>
            <a:r>
              <a:rPr b="1" lang="en-US" sz="4400" spc="-1" strike="noStrike">
                <a:solidFill>
                  <a:srgbClr val="187534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2800" spc="-1" strike="noStrike">
                <a:solidFill>
                  <a:srgbClr val="187534"/>
                </a:solidFill>
                <a:latin typeface="Times New Roman"/>
              </a:rPr>
              <a:t>for</a:t>
            </a:r>
            <a:r>
              <a:rPr b="1" lang="en-US" sz="4400" spc="-1" strike="noStrike">
                <a:solidFill>
                  <a:srgbClr val="187534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hapter 14</a:t>
            </a:r>
            <a:br>
              <a:rPr sz="4000"/>
            </a:br>
            <a:r>
              <a:rPr b="1" lang="en-US" sz="2800" spc="-1" strike="noStrike">
                <a:solidFill>
                  <a:srgbClr val="187534"/>
                </a:solidFill>
                <a:latin typeface="Times New Roman"/>
              </a:rPr>
              <a:t>of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undamentals of Atmospheric Modeling 2</a:t>
            </a:r>
            <a:r>
              <a:rPr b="1" lang="en-US" sz="4000" spc="-1" strike="noStrike" baseline="30000">
                <a:solidFill>
                  <a:srgbClr val="0000ff"/>
                </a:solidFill>
                <a:latin typeface="Times New Roman"/>
              </a:rPr>
              <a:t>nd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Edition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440" y="3962520"/>
            <a:ext cx="743652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ark Z. Jacob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partment of Civil &amp; Environmental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anford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anford, CA 94305-4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jacobson@stanford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7534"/>
                </a:solidFill>
                <a:latin typeface="Times New Roman"/>
              </a:rPr>
              <a:t>March 30, 2005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ypes of Minerals in Soil D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923760"/>
            <a:ext cx="8458200" cy="59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Quartz - SiO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(s) - clear, colorless, resistant to chemical weath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Feldspars - 50 percent of rocks on Earth’s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Potassium feldspar - KAlSi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Plagioclase feldspar - NaAlSi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-CaAl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Si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Hematite - Fe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(s) - reddish 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alcite - CaCO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(s) - found in limes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Dolomite - CaMg(CO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Gypsum - CaSO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2H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O(s)- colorless to 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lays - soft, compact, odorous minerals resulting from weath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Kaolinite - Al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Si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(OH)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Il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Smect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Vermicu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Chlo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Organic matter - plant litter or animal tissue broken by 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oil Dust Em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914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rizontal flux, integrated vertically, of soil dust in saltation lay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4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505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actional cross-sectional area soil grain concentration in size bi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4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5029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4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143000" y="1371600"/>
          <a:ext cx="6634080" cy="14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371600"/>
                    <a:ext cx="663408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778200" y="2895480"/>
          <a:ext cx="1174680" cy="60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78200" y="2895480"/>
                    <a:ext cx="117468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666880" y="3994200"/>
          <a:ext cx="3649680" cy="111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3994200"/>
                    <a:ext cx="364968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066680" y="5391000"/>
          <a:ext cx="6856560" cy="123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5391000"/>
                    <a:ext cx="685656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oil Dust Em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reshold friction wind spee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4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971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reshold friction wind speed over smooth surfac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4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581280" y="1523880"/>
          <a:ext cx="165096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523880"/>
                    <a:ext cx="165096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62000" y="3733920"/>
          <a:ext cx="8982000" cy="20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2000" y="3733920"/>
                    <a:ext cx="8982000" cy="20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oil Dust Em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914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atio of friction wind speed over smooth to actual surfac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4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3886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oughness length over smooth soi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4.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133720" y="1371600"/>
          <a:ext cx="409392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371600"/>
                    <a:ext cx="409392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3733920" y="4495680"/>
          <a:ext cx="161928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4495680"/>
                    <a:ext cx="161928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oil Dust Em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iction Reynolds 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4.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3048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reshold wind speed prefacto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4.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895480" y="1911240"/>
          <a:ext cx="3268800" cy="6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911240"/>
                    <a:ext cx="326880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2604960" y="3886200"/>
          <a:ext cx="3872160" cy="13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04960" y="3886200"/>
                    <a:ext cx="387216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oil Dust Em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ertical soil dust flu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4.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2819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atio of vertical to horizontal dust flu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4.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4648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ange in soil dust concentration above saltation lay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4.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505320" y="1752480"/>
          <a:ext cx="187308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752480"/>
                    <a:ext cx="18730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200400" y="3657600"/>
          <a:ext cx="250812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3657600"/>
                    <a:ext cx="25081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2819520" y="5257800"/>
          <a:ext cx="2982960" cy="98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5257800"/>
                    <a:ext cx="298296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Volcanic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923760"/>
            <a:ext cx="8458200" cy="51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Over 500 volcanos currently 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agma contains 1-4 percent gas by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Water vapor makes up 50-80 percent of gas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ome other constitu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OCS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CO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H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Cl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P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Most abundant are silicate miner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Range in size from &lt;0.1 to 100 </a:t>
            </a:r>
            <a:r>
              <a:rPr b="0" lang="en-US" sz="2400" spc="-1" strike="noStrike">
                <a:solidFill>
                  <a:srgbClr val="ef1f1d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iomass-Burning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923760"/>
            <a:ext cx="845820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920" indent="-7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Burning of evergreen forests, deciduous forests, woodlands, grasslands, agricultural land either to clear land, stimulate grass growth, manage forest growth, or satisfy a ri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" indent="-7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" indent="-7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Gas constitu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" indent="-7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CO,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" indent="-7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NO</a:t>
            </a:r>
            <a:r>
              <a:rPr b="0" i="1" lang="en-US" sz="2400" spc="-1" strike="noStrike" baseline="-25000">
                <a:solidFill>
                  <a:srgbClr val="ef1f1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" indent="-7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ROGs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" indent="-7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" indent="-7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Particle constitu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" indent="-7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Ash, plant fibers, soil dust, organic matter, soot (black carbon plus organic mat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" indent="-7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" indent="-7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omposition of s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" indent="-7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High temperatures: Higher ratio of BC:OM in so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ssil Fu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923760"/>
            <a:ext cx="8458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Combustible brown-to-black carbonaceous sedimentary rock formed by compaction of partially decomposed plant materi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Stages of coal metamorph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e0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e0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e0c"/>
                </a:solidFill>
                <a:latin typeface="Times New Roman"/>
              </a:rPr>
              <a:t>Peat (unconsolidated, brown-bl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e0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e0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e0c"/>
                </a:solidFill>
                <a:latin typeface="Times New Roman"/>
              </a:rPr>
              <a:t>Peat coal (consolidated, brown-bl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e0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e0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e0c"/>
                </a:solidFill>
                <a:latin typeface="Times New Roman"/>
              </a:rPr>
              <a:t>Lignite coal (brown-bl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e0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e0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e0c"/>
                </a:solidFill>
                <a:latin typeface="Times New Roman"/>
              </a:rPr>
              <a:t>Bituminous (soft) coal (dark brown to bl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e0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e0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e0c"/>
                </a:solidFill>
                <a:latin typeface="Times New Roman"/>
              </a:rPr>
              <a:t>Anthracite (hard) coal (bl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Oil (petrole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Natural greasy, viscous, combustible hydrocarbon liquid that forms from geological-scale decomposition of plants and an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ssil Fu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923760"/>
            <a:ext cx="845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Natural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Colorless, flammable gas, made primarily of methane, often found near petroleum depos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Keros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Combustible, oily, water-white liquid with strong odor distilled from petrole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Die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Combustible liquid distilled from petroleum after keros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ources of New Parti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066680"/>
            <a:ext cx="8153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Sea sp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Soil d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Volca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Biomass bu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Fossil-fuel combu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Miscellane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Homogeneous nucl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Homomol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Ter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ssil-Fuel Combustion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923760"/>
            <a:ext cx="845820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G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NO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, ROGs, CO, CO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, CH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, SO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P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Soot (BC+OM), OM alone, SO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2-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, metals, fly 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Fly 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Contains O, Si, Al, Fe, Ca, M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ndustrial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137160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Source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Metals in Fly 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Smelters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Fe, Cd, 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Oil-fired power plants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V, Ni, 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Coal-fired power plants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Fe, Zn, Pb, V, Mn, Cr, Cu, Ni, 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Co, Cd, Sb, 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Municipal waste incineration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Zn, Fe, Hg, Pb, Sn, As, Cd, Co, C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Mn, Ni, 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Steel-mill furnaces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Fe, Zn, Cr, Cu, Mn, Ni, 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82040" y="601992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Table 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Miscellaneous Particle 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1676520"/>
            <a:ext cx="4191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Tire-rubber p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Po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Sp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Vir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Plant deb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Meteoric deb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omposition and Sources of Parti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587520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e0c"/>
                </a:solidFill>
                <a:latin typeface="Times New Roman"/>
              </a:rPr>
              <a:t>Table 14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371600"/>
            <a:ext cx="838188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Nucleation Mode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Accumulation Mode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Coarse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ucleatio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ossil-fuel emissio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ea-spray 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O(aq), SO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2-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BC, OM, SO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2-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O(aq), Na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, Ca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2+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NH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Fe, Zn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Mg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2+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, K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, Cl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, SO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2-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Br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, 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ossil-fuel emissio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iomass-burning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oil-dust 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BC, OM, SO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2-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BC, OM, SO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2-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, Cl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Si, Al, Fe, Ti, P, M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Fe, Zn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Fe, Mn, Zn, Pb, V, 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Co, Ni, Cr, Na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, Ca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Cd, Cu, Co, Sb, As,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Mg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2+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, K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, SO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2-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, Cl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Ni, Cr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2-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, 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omposition and Sources of Parti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990720"/>
            <a:ext cx="8382240" cy="66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Nucleation Mode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Accumulation Mode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Coarse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iomass burning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dustrial emissio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iomass-burning as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BC, OM, SO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2-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,Cl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BC, OM, Fe, Al, S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dustrial fly as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Mn, Zn, Pb, V, 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P, Mn, Zn, Pb, Ba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ire-particle 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Cd, Cu, Co, Sb,As,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Sr, V, Cd, Cu, Co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Ni, Cr 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Hg, Sb, As, Se, N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O(aq), NH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, Na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Ca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2+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, K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, SO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2-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NO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, Cl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, CO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2-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nd./dissolutio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nd./dissolutio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nd./dis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O(aq), SO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2-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O(aq), SO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2-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O(aq), NO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NH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, OM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 NH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, 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agulatio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Coa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nthropogenic Particle Constituents Emitted in Greatest Abundance in L.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67840" y="6095880"/>
            <a:ext cx="1485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Table 14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1447920"/>
            <a:ext cx="2133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rganic car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lumi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alc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ulf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otas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lack car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ita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ulf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arbonate 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o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1447920"/>
            <a:ext cx="2133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nga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hosphor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it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Zi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a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mmo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tront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Vana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b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ick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hro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ucle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0000"/>
          </a:bodyPr>
          <a:p>
            <a:pPr marL="34200" indent="-3420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mogeneous homomol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Single gas nucleates away from a su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mogeneous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Two gases nucleate in tandem away from a su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mogeneous ter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Three gases nucleate in tandem away from a su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eterogeneous homomol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Single gas nucleates on an existing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eterogeneous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Two gases nucleate in tandem on a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lassical Nucleation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14300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ange in Gibbs free energy (J) during cluster aggregation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4.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3048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aturation rati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209680" y="1676520"/>
          <a:ext cx="466596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676520"/>
                    <a:ext cx="466596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3276720" y="3733920"/>
          <a:ext cx="1873080" cy="44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733920"/>
                    <a:ext cx="187308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lassical Nucleation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4689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4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914400"/>
            <a:ext cx="5486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hange in free energy versus cluster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85800" y="1447920"/>
          <a:ext cx="6934320" cy="48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6934320" cy="48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 flipH="1">
            <a:off x="685800" y="2971800"/>
            <a:ext cx="5335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357840" y="325188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dff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50dff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 (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ritical Radi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inimize Gibbs free energ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4.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2743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ve for critical radiu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4.21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4191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umber of molecules in a critical 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Divide 4</a:t>
            </a:r>
            <a:r>
              <a:rPr b="0" lang="en-US" sz="2400" spc="-1" strike="noStrike">
                <a:solidFill>
                  <a:srgbClr val="80008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80008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80008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80008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/3 by molecular volume [</a:t>
            </a:r>
            <a:r>
              <a:rPr b="0" i="1" lang="en-US" sz="2400" spc="-1" strike="noStrike">
                <a:solidFill>
                  <a:srgbClr val="80008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80008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/(</a:t>
            </a:r>
            <a:r>
              <a:rPr b="0" lang="en-US" sz="2400" spc="-1" strike="noStrike">
                <a:solidFill>
                  <a:srgbClr val="800080"/>
                </a:solidFill>
                <a:latin typeface="Symbol"/>
                <a:ea typeface="Symbol"/>
              </a:rPr>
              <a:t></a:t>
            </a:r>
            <a:r>
              <a:rPr b="0" i="1" lang="en-US" sz="2400" spc="-1" strike="noStrike" baseline="-25000">
                <a:solidFill>
                  <a:srgbClr val="80008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80008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)]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4.22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286000" y="1600200"/>
          <a:ext cx="526896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600200"/>
                    <a:ext cx="526896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3352680" y="3124080"/>
          <a:ext cx="2349720" cy="98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3124080"/>
                    <a:ext cx="234972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895480" y="5251320"/>
          <a:ext cx="2951280" cy="130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5251320"/>
                    <a:ext cx="295128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ea Spray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923760"/>
            <a:ext cx="8458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Form when winds and waves force air bubbles to burst at sea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ontain composition of sea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pume d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Drops larger than sea spray formed when winds tear off wave cr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ea-spray aci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Reduction in chloride in sea spray drops as sulfuric acid or nitric acid enter the dro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Dehyd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Water loss when drop evaporates in low relative-humidity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ritical Radi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467840" y="6095880"/>
            <a:ext cx="1485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Table 14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1219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Critical radii and number of water molecules in a critical cluster when </a:t>
            </a:r>
            <a:r>
              <a:rPr b="0" i="1" lang="en-US" sz="2400" spc="-1" strike="noStrike">
                <a:solidFill>
                  <a:srgbClr val="993366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= 288 K, </a:t>
            </a:r>
            <a:r>
              <a:rPr b="0" lang="en-US" sz="2400" spc="-1" strike="noStrike">
                <a:solidFill>
                  <a:srgbClr val="993366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993366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= 7.5 x 10</a:t>
            </a:r>
            <a:r>
              <a:rPr b="0" lang="en-US" sz="2400" spc="-1" strike="noStrike" baseline="30000">
                <a:solidFill>
                  <a:srgbClr val="993366"/>
                </a:solidFill>
                <a:latin typeface="Times New Roman"/>
              </a:rPr>
              <a:t>-6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J cm</a:t>
            </a:r>
            <a:r>
              <a:rPr b="0" lang="en-US" sz="2400" spc="-1" strike="noStrike" baseline="30000">
                <a:solidFill>
                  <a:srgbClr val="993366"/>
                </a:solidFill>
                <a:latin typeface="Times New Roman"/>
              </a:rPr>
              <a:t>-2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993366"/>
                </a:solidFill>
                <a:latin typeface="Symbol"/>
                <a:ea typeface="Symbol"/>
              </a:rPr>
              <a:t></a:t>
            </a:r>
            <a:r>
              <a:rPr b="0" i="1" lang="en-US" sz="2400" spc="-1" strike="noStrike" baseline="-25000">
                <a:solidFill>
                  <a:srgbClr val="993366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= 1.0 g cm</a:t>
            </a:r>
            <a:r>
              <a:rPr b="0" lang="en-US" sz="2400" spc="-1" strike="noStrike" baseline="30000">
                <a:solidFill>
                  <a:srgbClr val="993366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, and </a:t>
            </a:r>
            <a:r>
              <a:rPr b="0" i="1" lang="en-US" sz="2400" spc="-1" strike="noStrike">
                <a:solidFill>
                  <a:srgbClr val="993366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9933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= 18 g mol</a:t>
            </a:r>
            <a:r>
              <a:rPr b="0" lang="en-US" sz="2400" spc="-1" strike="noStrike" baseline="30000">
                <a:solidFill>
                  <a:srgbClr val="993366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2286000"/>
            <a:ext cx="5410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6368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aturation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ritical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Number of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6368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Ratio 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 Radius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6368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∞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 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6368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1.01 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0.11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2.03 x 10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6368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1.02 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0.055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2.58 x 10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6368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1.10 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0.011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2.32 x 10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6368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1.5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0.0028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3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6368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2.0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0.0016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6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6368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5.0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0.0007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6368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10.0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0.00048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6368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omogen. Homomolecular Nucle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ate (particles 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4.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2819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bine (14.18) and (14.20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4.24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4419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umber of gas molecules striking cluster surface per secon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4.25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133720" y="1523880"/>
          <a:ext cx="495144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523880"/>
                    <a:ext cx="49514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3124080" y="3352680"/>
          <a:ext cx="253836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3352680"/>
                    <a:ext cx="25383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3429000" y="5105520"/>
          <a:ext cx="231768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5105520"/>
                    <a:ext cx="23176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omogen. Homomolecular Nucle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quilibrium no. concentration of clusters of critical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2971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Zeldovich non-equilibrium factor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Accounts for the difference between an equilibrium and nonequilibrium cluster concentr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4.24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743200" y="1905120"/>
          <a:ext cx="307800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905120"/>
                    <a:ext cx="30780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2971800" y="4572000"/>
          <a:ext cx="2760840" cy="101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4572000"/>
                    <a:ext cx="276084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omogeneous Binary Nucle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2286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umber of gas molecules striking cluster surface per secon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4.11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914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ate (particles 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4.27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3809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quilibrium no. concentration of cluster of critical radiu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286000" y="1219320"/>
          <a:ext cx="45705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219320"/>
                    <a:ext cx="457056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124080" y="2819520"/>
          <a:ext cx="2286000" cy="101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2819520"/>
                    <a:ext cx="22860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2209680" y="4438800"/>
          <a:ext cx="3998880" cy="66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4438800"/>
                    <a:ext cx="39988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1447920" y="5499000"/>
          <a:ext cx="1365120" cy="44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5499000"/>
                    <a:ext cx="13651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4952880" y="5334120"/>
          <a:ext cx="3078360" cy="666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52880" y="5334120"/>
                    <a:ext cx="307836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3658680" y="5486400"/>
            <a:ext cx="6069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eterogeneous Nucleation 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468920" y="3809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4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914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rmation of critical embryo on a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5334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just">
              <a:lnSpc>
                <a:spcPct val="100000"/>
              </a:lnSpc>
              <a:tabLst>
                <a:tab algn="l" pos="0"/>
                <a:tab algn="l" pos="736560"/>
                <a:tab algn="l" pos="1371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ontact angle (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just">
              <a:lnSpc>
                <a:spcPct val="100000"/>
              </a:lnSpc>
              <a:tabLst>
                <a:tab algn="l" pos="0"/>
                <a:tab algn="l" pos="736560"/>
                <a:tab algn="l" pos="1371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=  0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--&gt; surface wettable, embryo forms eas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just">
              <a:lnSpc>
                <a:spcPct val="100000"/>
              </a:lnSpc>
              <a:tabLst>
                <a:tab algn="l" pos="0"/>
                <a:tab algn="l" pos="736560"/>
                <a:tab algn="l" pos="1371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= 180</a:t>
            </a:r>
            <a:r>
              <a:rPr b="0" lang="en-US" sz="2400" spc="-1" strike="noStrike" baseline="30000">
                <a:solidFill>
                  <a:srgbClr val="800080"/>
                </a:solidFill>
                <a:latin typeface="Times New Roman"/>
              </a:rPr>
              <a:t>o</a:t>
            </a:r>
            <a:r>
              <a:rPr b="0" lang="en-US" sz="2400" spc="-1" strike="noStrike" baseline="30000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 --&gt; surface non-wettable, no embryo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105000" y="1447920"/>
          <a:ext cx="337212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05000" y="1447920"/>
                    <a:ext cx="337212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eterogeneous Nucleation 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2819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ime a gas molecule spends on surface before bouncing off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4.33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914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eterogeneous nucleation rate (no. embryos 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4.32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4724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ange in Gibbs free energ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4.30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286000" y="1447920"/>
          <a:ext cx="43797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447920"/>
                    <a:ext cx="437976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3276720" y="3505320"/>
          <a:ext cx="2349360" cy="92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505320"/>
                    <a:ext cx="234936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2743200" y="5486400"/>
          <a:ext cx="3649680" cy="53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5486400"/>
                    <a:ext cx="364968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rrection Fa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51814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tact ang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4.29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914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4.31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52280" y="1352520"/>
          <a:ext cx="8823600" cy="12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52520"/>
                    <a:ext cx="882360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3505320" y="2673360"/>
          <a:ext cx="3014640" cy="98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673360"/>
                    <a:ext cx="301464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762120" y="3949560"/>
          <a:ext cx="3014640" cy="69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3949560"/>
                    <a:ext cx="30146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5486400" y="4191120"/>
          <a:ext cx="1555920" cy="38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4191120"/>
                    <a:ext cx="15559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3714840" y="4724280"/>
          <a:ext cx="1619280" cy="381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14840" y="4724280"/>
                    <a:ext cx="16192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2743200" y="5505480"/>
          <a:ext cx="3490920" cy="1047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43200" y="5505480"/>
                    <a:ext cx="349092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rrection Fa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689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4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19320" y="914400"/>
            <a:ext cx="6933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orrection factor versus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for different contact an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609480" y="1523880"/>
          <a:ext cx="7620120" cy="504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762012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 flipH="1">
            <a:off x="750240" y="3032280"/>
            <a:ext cx="5331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16200000">
            <a:off x="749160" y="328716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arameterized Nucle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ameterized homogeneous binary nucleation rat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4.3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For sulfuric acid-water in remote marine boundary lay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2971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5000"/>
          </a:bodyPr>
          <a:p>
            <a:pPr marL="51120" indent="-5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0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H2SO4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0.005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g 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H2SO4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3.1 x 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molec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hom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2.6 x 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5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partic.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s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H2SO4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 0.05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g 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H2SO4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3.1 x 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molec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hom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3.1 x 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partic.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s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762120" y="1981080"/>
          <a:ext cx="736740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73674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onstituents of Sea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82040" y="594360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e0c"/>
                </a:solidFill>
                <a:latin typeface="Times New Roman"/>
              </a:rPr>
              <a:t>Table 14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1752480"/>
            <a:ext cx="3962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Constituent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Mass per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Water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96.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Sodium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1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Chlorine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1.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Magnesium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0.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Sulfur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0.08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Calcium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0.03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Potassium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0.03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Carbon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0.00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ea Spray Em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lux of sea spray drops per unit radius interval (Monahan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4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2666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4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352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lux of spume drops per unit radius interva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4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838080" y="1523880"/>
          <a:ext cx="7523280" cy="10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23880"/>
                    <a:ext cx="7523280" cy="10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2590920" y="2666880"/>
          <a:ext cx="3363840" cy="47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2666880"/>
                    <a:ext cx="33638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04920" y="3809880"/>
          <a:ext cx="8664480" cy="276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3809880"/>
                    <a:ext cx="8664480" cy="27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ea Spray Em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lux of sea spray drops per unit radius interval (Guelle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4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3352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ange in number concentration of sea spray particl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4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58920" y="1752480"/>
          <a:ext cx="8632800" cy="10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920" y="1752480"/>
                    <a:ext cx="8632800" cy="10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133720" y="4114800"/>
          <a:ext cx="4633920" cy="117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4114800"/>
                    <a:ext cx="463392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ea Spray Em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28600" y="1219320"/>
            <a:ext cx="4241880" cy="4724280"/>
            <a:chOff x="228600" y="1219320"/>
            <a:chExt cx="4241880" cy="4724280"/>
          </a:xfrm>
        </p:grpSpPr>
        <p:graphicFrame>
          <p:nvGraphicFramePr>
            <p:cNvPr id="69" name=""/>
            <p:cNvGraphicFramePr/>
            <p:nvPr/>
          </p:nvGraphicFramePr>
          <p:xfrm>
            <a:off x="457200" y="1219320"/>
            <a:ext cx="4013280" cy="47242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1219320"/>
                      <a:ext cx="4013280" cy="472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" name=""/>
            <p:cNvSpPr/>
            <p:nvPr/>
          </p:nvSpPr>
          <p:spPr>
            <a:xfrm flipH="1">
              <a:off x="304200" y="1600200"/>
              <a:ext cx="533160" cy="342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-1489680" y="3057120"/>
              <a:ext cx="389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(particles  cm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-2 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m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-1 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-1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495680" y="1219320"/>
            <a:ext cx="4246560" cy="5415480"/>
            <a:chOff x="4495680" y="1219320"/>
            <a:chExt cx="4246560" cy="5415480"/>
          </a:xfrm>
        </p:grpSpPr>
        <p:sp>
          <p:nvSpPr>
            <p:cNvPr id="74" name=""/>
            <p:cNvSpPr/>
            <p:nvPr/>
          </p:nvSpPr>
          <p:spPr>
            <a:xfrm>
              <a:off x="7468920" y="6248520"/>
              <a:ext cx="12733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3366"/>
                  </a:solidFill>
                  <a:latin typeface="Times New Roman"/>
                </a:rPr>
                <a:t>Fig. 14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5" name=""/>
            <p:cNvGraphicFramePr/>
            <p:nvPr/>
          </p:nvGraphicFramePr>
          <p:xfrm>
            <a:off x="4597560" y="1219320"/>
            <a:ext cx="4012920" cy="472464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97560" y="1219320"/>
                      <a:ext cx="4012920" cy="472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" name=""/>
            <p:cNvSpPr/>
            <p:nvPr/>
          </p:nvSpPr>
          <p:spPr>
            <a:xfrm flipH="1">
              <a:off x="4495680" y="1670400"/>
              <a:ext cx="533520" cy="342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6200000">
              <a:off x="2853360" y="3050280"/>
              <a:ext cx="389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(particles  cm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-2 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m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-1 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-1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oil Dust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923760"/>
            <a:ext cx="8458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Natural, unconsolidated mineral and organic matter lying above bedrock on the surface of the Earth. Originates from the breakdown of rocks and decay of dead plants and an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R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e0c"/>
                </a:solidFill>
                <a:latin typeface="Times New Roman"/>
              </a:rPr>
              <a:t>Sedimentary: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 Cover 75 percent of Earth’s surface and form by deposition and cementation of carbonates, sulfates, chlorides, shell fragments. Example: chal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e0c"/>
                </a:solidFill>
                <a:latin typeface="Times New Roman"/>
              </a:rPr>
              <a:t>Igneous: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Form by cooling of magma. Example: Gran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e0c"/>
                </a:solidFill>
                <a:latin typeface="Times New Roman"/>
              </a:rPr>
              <a:t>Metamorphic: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Form by structure transformation of existing rocks due to high temperatures and pressures. Example: Mar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reakdown of Rocks to So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92376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Physical weath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Disintegration of rocks and minerals by processes not involving chemical reactions. Examples: when stress applied to a rock. Stresses arise due to high pressure under soil or when rocks freeze/thaw or when saline solutions enter cracks and cause disintegration/fra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hemical weath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Disintegration of rocks and minerals by chemical reaction. Example: Dissolution of gypsum in wa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990720" y="5105520"/>
          <a:ext cx="6746760" cy="114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105520"/>
                    <a:ext cx="6746760" cy="114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00:13:47Z</dcterms:created>
  <dc:creator>Fred Ginnebaugh</dc:creator>
  <dc:description/>
  <dc:language>en-US</dc:language>
  <cp:lastModifiedBy>Mark Z. Jacobson</cp:lastModifiedBy>
  <dcterms:modified xsi:type="dcterms:W3CDTF">2005-03-31T01:24:11Z</dcterms:modified>
  <cp:revision>631</cp:revision>
  <dc:subject/>
  <dc:title>Slide 1</dc:title>
</cp:coreProperties>
</file>