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media/image56.pct" ContentType="image/x-pict"/>
  <Override PartName="/ppt/media/image55.pct" ContentType="image/x-pict"/>
  <Override PartName="/ppt/media/image47.pct" ContentType="image/x-pict"/>
  <Override PartName="/ppt/media/image10.pct" ContentType="image/x-pict"/>
  <Override PartName="/ppt/media/image35.pct" ContentType="image/x-pict"/>
  <Override PartName="/ppt/media/image5.pct" ContentType="image/x-pict"/>
  <Override PartName="/ppt/media/image17.pct" ContentType="image/x-pict"/>
  <Override PartName="/ppt/media/image28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15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14.pct" ContentType="image/x-pict"/>
  <Override PartName="/ppt/media/image25.pct" ContentType="image/x-pict"/>
  <Override PartName="/ppt/media/image60.pct" ContentType="image/x-pict"/>
  <Override PartName="/ppt/media/image23.pct" ContentType="image/x-pict"/>
  <Override PartName="/ppt/media/image58.pct" ContentType="image/x-pict"/>
  <Override PartName="/ppt/media/image21.pct" ContentType="image/x-pict"/>
  <Override PartName="/ppt/media/image22.pct" ContentType="image/x-pict"/>
  <Override PartName="/ppt/media/image59.pct" ContentType="image/x-pict"/>
  <Override PartName="/ppt/media/image57.pct" ContentType="image/x-pict"/>
  <Override PartName="/ppt/media/image20.pct" ContentType="image/x-pict"/>
  <Override PartName="/ppt/media/image61.pct" ContentType="image/x-pict"/>
  <Override PartName="/ppt/media/image24.pct" ContentType="image/x-pict"/>
  <Override PartName="/ppt/media/image31.pct" ContentType="image/x-pict"/>
  <Override PartName="/ppt/media/image29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media/image1.pct" ContentType="image/x-pict"/>
  <Override PartName="/ppt/media/image13.pct" ContentType="image/x-pict"/>
  <Override PartName="/ppt/media/image9.pct" ContentType="image/x-pict"/>
  <Override PartName="/ppt/media/image39.pct" ContentType="image/x-pict"/>
  <Override PartName="/ppt/media/image30.pct" ContentType="image/x-pict"/>
  <Override PartName="/ppt/media/image40.pct" ContentType="image/x-pict"/>
  <Override PartName="/ppt/media/image41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50.pct" ContentType="image/x-pict"/>
  <Override PartName="/ppt/media/image51.pct" ContentType="image/x-pict"/>
  <Override PartName="/ppt/media/image52.pct" ContentType="image/x-pict"/>
  <Override PartName="/ppt/media/image53.pct" ContentType="image/x-pict"/>
  <Override PartName="/ppt/media/image5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05F-41E5-446F-9DFE-441C9A0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A6C-B15A-4C2B-9E5E-E9DFFF97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DD5-2BF8-49F2-B308-F7E7EECD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B65-AF14-4F97-8F9F-F00E65E8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68C-92B9-4066-AB06-B6018C8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709-BA8F-4BA8-9026-EDD4D4C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B81-7A17-4BA2-8C39-95A84C8F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475-6C26-4EFB-A1C0-11B5A9E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623-ADD5-4FE7-89CC-0C14D1B1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48F-D928-4E38-A8F6-E151AF7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92D-F114-45A2-B0F9-7AFF1A88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F21-9239-4C4E-83FF-CBDD4AC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3B5-2082-495D-BBEC-320BEE64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1.pct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3.pct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5.pct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7.pct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20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1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ry Deposition Resi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524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286000"/>
          <a:ext cx="8534160" cy="361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53416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ry Deposition Resi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erodynamic resistan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ance to diffusion in laminar sublay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and gas Schmidt numbers, Prandtl numb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1219320"/>
          <a:ext cx="22860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219320"/>
                    <a:ext cx="22860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895480" y="3200400"/>
          <a:ext cx="34909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200400"/>
                    <a:ext cx="349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5105520"/>
          <a:ext cx="161928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105520"/>
                    <a:ext cx="16192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81280" y="5105520"/>
          <a:ext cx="13971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105520"/>
                    <a:ext cx="1397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95880" y="5181480"/>
          <a:ext cx="1778040" cy="88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5181480"/>
                    <a:ext cx="1778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face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resistance due to biological interaction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omatal resistan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sistance to entering openings in lea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af mesophyll resistan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sistance to dissolving in or reacting with water withi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1523880"/>
          <a:ext cx="8474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74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14400" y="3581280"/>
          <a:ext cx="69199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581280"/>
                    <a:ext cx="6919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66880" y="5587920"/>
          <a:ext cx="4094280" cy="12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587920"/>
                    <a:ext cx="40942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face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ance to deposition on leaf cuticles (waxy surface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ance to buoyant convection in canopy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ance to deposition on bark, exposed surface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57400" y="3505320"/>
          <a:ext cx="47926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792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05120" y="5257800"/>
          <a:ext cx="530064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257800"/>
                    <a:ext cx="53006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23880" y="1752480"/>
          <a:ext cx="58723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752480"/>
                    <a:ext cx="5872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face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-canopy resistan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ccounts for canopy leaf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ne-sided leaf area index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Integrate foliage area density from surface to height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liage area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rea of plant surface per unit volume of space. Thus, the leaf-area index measures canopy area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76720" y="1752480"/>
          <a:ext cx="22539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52480"/>
                    <a:ext cx="22539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ance to deposition on soil and leaf litter at ground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81080" y="5334120"/>
          <a:ext cx="4697640" cy="12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334120"/>
                    <a:ext cx="46976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ry Deposition, Sedimentation Sp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524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600200"/>
          <a:ext cx="7086600" cy="44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0866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85800" y="2362320"/>
            <a:ext cx="7621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15640" y="3517560"/>
            <a:ext cx="1783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peed (cm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veral Parameters Versus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4524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143000"/>
          <a:ext cx="7769160" cy="50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7691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Dry Deposition Sp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5400" y="6019920"/>
            <a:ext cx="163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0.5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1773360"/>
            <a:ext cx="4419720" cy="3865320"/>
            <a:chOff x="0" y="1773360"/>
            <a:chExt cx="4419720" cy="3865320"/>
          </a:xfrm>
        </p:grpSpPr>
        <p:graphicFrame>
          <p:nvGraphicFramePr>
            <p:cNvPr id="161" name=""/>
            <p:cNvGraphicFramePr/>
            <p:nvPr/>
          </p:nvGraphicFramePr>
          <p:xfrm>
            <a:off x="228600" y="2057400"/>
            <a:ext cx="4191120" cy="3449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057400"/>
                      <a:ext cx="4191120" cy="34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1752480" y="177336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just">
                <a:lnSpc>
                  <a:spcPct val="88000"/>
                </a:lnSpc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(a) </a:t>
              </a:r>
              <a:r>
                <a:rPr b="0" i="1" lang="en-US" sz="2400" spc="-1" strike="noStrike">
                  <a:solidFill>
                    <a:srgbClr val="ff00ff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0,</a:t>
              </a:r>
              <a:r>
                <a:rPr b="0" i="1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=3 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1905120"/>
              <a:ext cx="609480" cy="37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1394280" y="3512520"/>
              <a:ext cx="3632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ry deposition speed (cm/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343400" y="1828800"/>
            <a:ext cx="4419720" cy="3886200"/>
            <a:chOff x="4343400" y="1828800"/>
            <a:chExt cx="4419720" cy="3886200"/>
          </a:xfrm>
        </p:grpSpPr>
        <p:graphicFrame>
          <p:nvGraphicFramePr>
            <p:cNvPr id="167" name=""/>
            <p:cNvGraphicFramePr/>
            <p:nvPr/>
          </p:nvGraphicFramePr>
          <p:xfrm>
            <a:off x="4648320" y="2133720"/>
            <a:ext cx="4114800" cy="3387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2133720"/>
                      <a:ext cx="4114800" cy="338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6172200" y="1828800"/>
              <a:ext cx="220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 algn="just">
                <a:lnSpc>
                  <a:spcPct val="88000"/>
                </a:lnSpc>
                <a:spcBef>
                  <a:spcPts val="799"/>
                </a:spcBef>
                <a:spcAft>
                  <a:spcPts val="400"/>
                </a:spcAft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(b) </a:t>
              </a:r>
              <a:r>
                <a:rPr b="0" i="1" lang="en-US" sz="2400" spc="-1" strike="noStrike">
                  <a:solidFill>
                    <a:srgbClr val="ff00ff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0,</a:t>
              </a:r>
              <a:r>
                <a:rPr b="0" i="1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=0.01 m</a:t>
              </a: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3400" y="1981080"/>
              <a:ext cx="6858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2948760" y="3580920"/>
              <a:ext cx="3632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ry deposition speed (cm/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ir-Sea Flu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concentration of a gas at the air-sea interfa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concentration of a ga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concentration of a gas dissolved in seawat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1600200"/>
          <a:ext cx="6189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189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657600" y="3429000"/>
          <a:ext cx="142884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429000"/>
                    <a:ext cx="14288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29000" y="5638680"/>
          <a:ext cx="22860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563868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ir-Sea Flu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olution and dissociation of carbon dioxid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effective Henry’s constant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resistance of gas over the ocea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chemical reactivity (1 for C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; large for 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971800" y="5638680"/>
          <a:ext cx="26654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5638680"/>
                    <a:ext cx="2665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93600" y="1600200"/>
          <a:ext cx="8812440" cy="668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1600200"/>
                    <a:ext cx="881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981080" y="3276720"/>
          <a:ext cx="533880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276720"/>
                    <a:ext cx="53388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Sedi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975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32200" y="2025720"/>
          <a:ext cx="2263680" cy="37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2200" y="2025720"/>
                    <a:ext cx="226368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Vertical forces acting on a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ir-Sea Flu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ir-sea gas transfer speed (two parameterizations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35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hmidt number ratio in wat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chmidt number is kinematic viscosity / diffu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666880" y="5562720"/>
          <a:ext cx="317340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562720"/>
                    <a:ext cx="31734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666880" y="3581280"/>
          <a:ext cx="333216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81280"/>
                    <a:ext cx="33321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0" y="1523880"/>
          <a:ext cx="8686800" cy="16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23880"/>
                    <a:ext cx="86868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ution to Air-Sea Flux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cit equation for atmosphere-ocean transf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to gas concentra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1752480"/>
          <a:ext cx="54910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910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057400" y="3962520"/>
          <a:ext cx="441180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962520"/>
                    <a:ext cx="44118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ution to Air-Sea Flux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mass balance equa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to ocean concentrat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1981080"/>
          <a:ext cx="59040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5904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838080" y="3809880"/>
          <a:ext cx="7396200" cy="20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09880"/>
                    <a:ext cx="73962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bility Test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ir-sea transfer plus chemistry of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with time steps of 6 h to 1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828800"/>
          <a:ext cx="766908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69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09480" y="2286000"/>
            <a:ext cx="7621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728280" y="3706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ff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50292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10080" y="1676520"/>
            <a:ext cx="533520" cy="914400"/>
          </a:xfrm>
          <a:prstGeom prst="cloudCallout">
            <a:avLst>
              <a:gd name="adj1" fmla="val -3569"/>
              <a:gd name="adj2" fmla="val 69967"/>
            </a:avLst>
          </a:prstGeom>
          <a:solidFill>
            <a:srgbClr val="7373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-D Ocean, 2-Box Atmospher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971800"/>
            <a:ext cx="2438280" cy="3657600"/>
          </a:xfrm>
          <a:prstGeom prst="cube">
            <a:avLst>
              <a:gd name="adj" fmla="val 25000"/>
            </a:avLst>
          </a:prstGeom>
          <a:solidFill>
            <a:srgbClr val="002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19720" y="3581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419720" y="41907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19720" y="4800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19720" y="5410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13372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971800"/>
            <a:ext cx="2439720" cy="3657600"/>
          </a:xfrm>
          <a:prstGeom prst="cube">
            <a:avLst>
              <a:gd name="adj" fmla="val 25000"/>
            </a:avLst>
          </a:prstGeom>
          <a:solidFill>
            <a:srgbClr val="8c6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1219320"/>
            <a:ext cx="2438280" cy="23619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2743200"/>
            <a:ext cx="152280" cy="533520"/>
          </a:xfrm>
          <a:prstGeom prst="can">
            <a:avLst>
              <a:gd name="adj" fmla="val 225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579132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518148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57200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96252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35268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219320"/>
            <a:ext cx="2438280" cy="23619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eff"/>
                </a:solidFill>
                <a:latin typeface="Times New Roman"/>
              </a:rPr>
              <a:t>Ocean Chemistry System</a:t>
            </a:r>
            <a:r>
              <a:rPr b="1" lang="en-US" sz="4400" spc="-1" strike="noStrike">
                <a:solidFill>
                  <a:srgbClr val="002e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3600" y="1828800"/>
            <a:ext cx="8071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Na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Mg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Sr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Li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47600" y="1828800"/>
            <a:ext cx="14457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Cl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Br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OH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S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C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B(OH)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SiO(OH)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 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P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N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1d1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71120" y="1905120"/>
            <a:ext cx="191196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O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F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S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ff1d1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&amp; other 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8380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2ff"/>
                </a:solidFill>
                <a:latin typeface="Times New Roman"/>
              </a:rPr>
              <a:t>Chemicals treated in simulations discussed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 C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g) and Modeled v Measured Ocean pH 1751-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14400" y="1752480"/>
          <a:ext cx="766908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669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9480" y="2286000"/>
            <a:ext cx="7621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-783720" y="3520080"/>
            <a:ext cx="360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2e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2eff"/>
                </a:solidFill>
                <a:latin typeface="Times New Roman"/>
              </a:rPr>
              <a:t>(g) mixing ratio (pp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0800000">
            <a:off x="8123400" y="2292480"/>
            <a:ext cx="76176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7282080" y="35355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ff"/>
                </a:solidFill>
                <a:latin typeface="Times New Roman"/>
              </a:rPr>
              <a:t>Surface ocean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45240" y="61722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2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 Ocean Profiles 1751;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1828800"/>
            <a:ext cx="3162240" cy="4452840"/>
            <a:chOff x="0" y="1828800"/>
            <a:chExt cx="3162240" cy="4452840"/>
          </a:xfrm>
        </p:grpSpPr>
        <p:graphicFrame>
          <p:nvGraphicFramePr>
            <p:cNvPr id="257" name=""/>
            <p:cNvGraphicFramePr/>
            <p:nvPr/>
          </p:nvGraphicFramePr>
          <p:xfrm>
            <a:off x="0" y="1828800"/>
            <a:ext cx="3162240" cy="4452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3162240" cy="44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"/>
            <p:cNvSpPr/>
            <p:nvPr/>
          </p:nvSpPr>
          <p:spPr>
            <a:xfrm>
              <a:off x="0" y="2209680"/>
              <a:ext cx="3808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-491760" y="364644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Depth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90720" y="365760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971800" y="1828800"/>
            <a:ext cx="3238560" cy="4452840"/>
            <a:chOff x="2971800" y="1828800"/>
            <a:chExt cx="3238560" cy="4452840"/>
          </a:xfrm>
        </p:grpSpPr>
        <p:graphicFrame>
          <p:nvGraphicFramePr>
            <p:cNvPr id="263" name=""/>
            <p:cNvGraphicFramePr/>
            <p:nvPr/>
          </p:nvGraphicFramePr>
          <p:xfrm>
            <a:off x="3048120" y="1828800"/>
            <a:ext cx="3162240" cy="4452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1828800"/>
                      <a:ext cx="3162240" cy="44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"/>
            <p:cNvSpPr/>
            <p:nvPr/>
          </p:nvSpPr>
          <p:spPr>
            <a:xfrm>
              <a:off x="3048120" y="2209680"/>
              <a:ext cx="3808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2479680" y="369252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Depth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8480" y="358128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43600" y="1828800"/>
            <a:ext cx="3200400" cy="4452840"/>
            <a:chOff x="5943600" y="1828800"/>
            <a:chExt cx="3200400" cy="4452840"/>
          </a:xfrm>
        </p:grpSpPr>
        <p:graphicFrame>
          <p:nvGraphicFramePr>
            <p:cNvPr id="269" name=""/>
            <p:cNvGraphicFramePr/>
            <p:nvPr/>
          </p:nvGraphicFramePr>
          <p:xfrm>
            <a:off x="5981760" y="1828800"/>
            <a:ext cx="3162240" cy="44528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81760" y="1828800"/>
                      <a:ext cx="3162240" cy="44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1" name=""/>
            <p:cNvGrpSpPr/>
            <p:nvPr/>
          </p:nvGrpSpPr>
          <p:grpSpPr>
            <a:xfrm>
              <a:off x="5943600" y="2133720"/>
              <a:ext cx="2819520" cy="3429000"/>
              <a:chOff x="5943600" y="2133720"/>
              <a:chExt cx="2819520" cy="3429000"/>
            </a:xfrm>
          </p:grpSpPr>
          <p:sp>
            <p:nvSpPr>
              <p:cNvPr id="272" name=""/>
              <p:cNvSpPr/>
              <p:nvPr/>
            </p:nvSpPr>
            <p:spPr>
              <a:xfrm>
                <a:off x="5943600" y="2133720"/>
                <a:ext cx="38088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200000">
                <a:off x="5451480" y="3616200"/>
                <a:ext cx="144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eff"/>
                    </a:solidFill>
                    <a:latin typeface="Times New Roman"/>
                  </a:rPr>
                  <a:t>Depth (m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53280" y="4952880"/>
                <a:ext cx="6098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6098040" y="6248520"/>
            <a:ext cx="267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Jacobson, JG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ed Ocean Profiles 2004; 2104 Under SRES A1B Emission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43000" y="1828800"/>
          <a:ext cx="3162240" cy="44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316224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952880" y="1752480"/>
          <a:ext cx="3162600" cy="445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752480"/>
                    <a:ext cx="31626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066680" y="2133720"/>
            <a:ext cx="381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498600" y="3616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ff"/>
                </a:solidFill>
                <a:latin typeface="Times New Roman"/>
              </a:rPr>
              <a:t>Depth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2057400"/>
            <a:ext cx="380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308480" y="35402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ff"/>
                </a:solidFill>
                <a:latin typeface="Times New Roman"/>
              </a:rPr>
              <a:t>Depth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3657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35053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nsitivity of Futur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0480" y="3581280"/>
            <a:ext cx="7774200" cy="3124440"/>
            <a:chOff x="150480" y="3581280"/>
            <a:chExt cx="7774200" cy="3124440"/>
          </a:xfrm>
        </p:grpSpPr>
        <p:graphicFrame>
          <p:nvGraphicFramePr>
            <p:cNvPr id="289" name=""/>
            <p:cNvGraphicFramePr/>
            <p:nvPr/>
          </p:nvGraphicFramePr>
          <p:xfrm>
            <a:off x="2819520" y="3963960"/>
            <a:ext cx="5064120" cy="2741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3963960"/>
                      <a:ext cx="5064120" cy="274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2820960" y="3581280"/>
              <a:ext cx="3808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1684800" y="4872960"/>
              <a:ext cx="26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CO</a:t>
              </a:r>
              <a:r>
                <a:rPr b="0" lang="en-US" sz="2400" spc="-1" strike="noStrike" baseline="-25000">
                  <a:solidFill>
                    <a:srgbClr val="002e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(g) mixing 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67480" y="3733920"/>
              <a:ext cx="38124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6519960" y="490716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Surface ocean 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0480" y="4876920"/>
              <a:ext cx="25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1d19"/>
                  </a:solidFill>
                  <a:latin typeface="Times New Roman"/>
                </a:rPr>
                <a:t>To temperature (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556272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51920" y="838080"/>
            <a:ext cx="7772760" cy="3046680"/>
            <a:chOff x="151920" y="838080"/>
            <a:chExt cx="7772760" cy="3046680"/>
          </a:xfrm>
        </p:grpSpPr>
        <p:graphicFrame>
          <p:nvGraphicFramePr>
            <p:cNvPr id="298" name=""/>
            <p:cNvGraphicFramePr/>
            <p:nvPr/>
          </p:nvGraphicFramePr>
          <p:xfrm>
            <a:off x="2819520" y="1143000"/>
            <a:ext cx="5064120" cy="27417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1143000"/>
                      <a:ext cx="5064120" cy="274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"/>
            <p:cNvGrpSpPr/>
            <p:nvPr/>
          </p:nvGrpSpPr>
          <p:grpSpPr>
            <a:xfrm>
              <a:off x="151920" y="838080"/>
              <a:ext cx="7772760" cy="2971800"/>
              <a:chOff x="151920" y="838080"/>
              <a:chExt cx="7772760" cy="2971800"/>
            </a:xfrm>
          </p:grpSpPr>
          <p:sp>
            <p:nvSpPr>
              <p:cNvPr id="301" name=""/>
              <p:cNvSpPr/>
              <p:nvPr/>
            </p:nvSpPr>
            <p:spPr>
              <a:xfrm>
                <a:off x="7391520" y="838080"/>
                <a:ext cx="380880" cy="266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400000">
                <a:off x="6519960" y="2087640"/>
                <a:ext cx="23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eff"/>
                    </a:solidFill>
                    <a:latin typeface="Times New Roman"/>
                  </a:rPr>
                  <a:t>Surface ocean p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1920" y="1905120"/>
                <a:ext cx="269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1d19"/>
                    </a:solidFill>
                    <a:latin typeface="Times New Roman"/>
                  </a:rPr>
                  <a:t>To wind speed (m/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81480" y="2666880"/>
                <a:ext cx="6098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990720"/>
                <a:ext cx="380880" cy="281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6200000">
                <a:off x="1684800" y="2108160"/>
                <a:ext cx="26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eff"/>
                    </a:solidFill>
                    <a:latin typeface="Times New Roman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002e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2eff"/>
                    </a:solidFill>
                    <a:latin typeface="Times New Roman"/>
                  </a:rPr>
                  <a:t>(g) mixing rat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rag and Gravitational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g during Stokes flow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here particle radius &gt; mean free path of air molecule (e.g., 68 nm) but small enough so its inertial force &lt; viscous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g during slip flow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article radius &lt; mean free path of an ai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2286000"/>
          <a:ext cx="22222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86000"/>
                    <a:ext cx="2222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85800" y="3886200"/>
          <a:ext cx="7047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86200"/>
                    <a:ext cx="7047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09880" y="5638680"/>
          <a:ext cx="1608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638680"/>
                    <a:ext cx="1608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nudsen number of particle in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461880" y="914400"/>
            <a:ext cx="8148600" cy="3122640"/>
            <a:chOff x="461880" y="914400"/>
            <a:chExt cx="8148600" cy="3122640"/>
          </a:xfrm>
        </p:grpSpPr>
        <p:graphicFrame>
          <p:nvGraphicFramePr>
            <p:cNvPr id="308" name=""/>
            <p:cNvGraphicFramePr/>
            <p:nvPr/>
          </p:nvGraphicFramePr>
          <p:xfrm>
            <a:off x="3505320" y="1295280"/>
            <a:ext cx="5064120" cy="2741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05320" y="1295280"/>
                      <a:ext cx="5064120" cy="274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461880" y="1905120"/>
              <a:ext cx="209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1d19"/>
                  </a:solidFill>
                  <a:latin typeface="Times New Roman"/>
                </a:rPr>
                <a:t>To mean oce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1d19"/>
                  </a:solidFill>
                  <a:latin typeface="Times New Roman"/>
                </a:rPr>
                <a:t>diffusion (m</a:t>
              </a:r>
              <a:r>
                <a:rPr b="0" lang="en-US" sz="2400" spc="-1" strike="noStrike" baseline="30000">
                  <a:solidFill>
                    <a:srgbClr val="ff1d1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1d19"/>
                  </a:solidFill>
                  <a:latin typeface="Times New Roman"/>
                </a:rPr>
                <a:t>/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29000" y="914400"/>
              <a:ext cx="3808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2370600" y="2206080"/>
              <a:ext cx="26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CO</a:t>
              </a:r>
              <a:r>
                <a:rPr b="0" lang="en-US" sz="2400" spc="-1" strike="noStrike" baseline="-25000">
                  <a:solidFill>
                    <a:srgbClr val="002e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(g) mixing 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3280" y="1066680"/>
              <a:ext cx="38124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7205760" y="22399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Surface ocean 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7280" y="289548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6480" y="3657600"/>
            <a:ext cx="8154000" cy="3046320"/>
            <a:chOff x="456480" y="3657600"/>
            <a:chExt cx="8154000" cy="3046320"/>
          </a:xfrm>
        </p:grpSpPr>
        <p:graphicFrame>
          <p:nvGraphicFramePr>
            <p:cNvPr id="317" name=""/>
            <p:cNvGraphicFramePr/>
            <p:nvPr/>
          </p:nvGraphicFramePr>
          <p:xfrm>
            <a:off x="3505320" y="3962520"/>
            <a:ext cx="5064120" cy="27414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3962520"/>
                      <a:ext cx="5064120" cy="27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56480" y="4724280"/>
              <a:ext cx="26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1d19"/>
                  </a:solidFill>
                  <a:latin typeface="Times New Roman"/>
                </a:rPr>
                <a:t>To biomass bur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1d19"/>
                  </a:solidFill>
                  <a:latin typeface="Times New Roman"/>
                </a:rPr>
                <a:t>emission (Tg-C/y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5320" y="3657600"/>
              <a:ext cx="3808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2370600" y="4872960"/>
              <a:ext cx="26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CO</a:t>
              </a:r>
              <a:r>
                <a:rPr b="0" lang="en-US" sz="2400" spc="-1" strike="noStrike" baseline="-25000">
                  <a:solidFill>
                    <a:srgbClr val="002e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(g) mixing 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53280" y="3733920"/>
              <a:ext cx="3812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7205760" y="490716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Surface ocean 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556272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nsitivity of Futur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C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g) on Atmospheric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14400" y="1676520"/>
            <a:ext cx="6856200" cy="4794120"/>
            <a:chOff x="914400" y="1676520"/>
            <a:chExt cx="6856200" cy="4794120"/>
          </a:xfrm>
        </p:grpSpPr>
        <p:graphicFrame>
          <p:nvGraphicFramePr>
            <p:cNvPr id="328" name=""/>
            <p:cNvGraphicFramePr/>
            <p:nvPr/>
          </p:nvGraphicFramePr>
          <p:xfrm>
            <a:off x="914400" y="1676520"/>
            <a:ext cx="6856200" cy="4794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6520"/>
                      <a:ext cx="6856200" cy="47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"/>
            <p:cNvSpPr/>
            <p:nvPr/>
          </p:nvSpPr>
          <p:spPr>
            <a:xfrm>
              <a:off x="990360" y="1905120"/>
              <a:ext cx="38124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-158760" y="3652920"/>
              <a:ext cx="26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eff"/>
                  </a:solidFill>
                  <a:latin typeface="Times New Roman"/>
                </a:rPr>
                <a:t>Mixing ratio (ppbv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571500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2120" y="10666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2ff"/>
                </a:solidFill>
                <a:latin typeface="Times New Roman"/>
              </a:rPr>
              <a:t>Assumes trace gases initialized but not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tmospheric N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Without and With Ocean Acid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09480" y="1676520"/>
            <a:ext cx="7008840" cy="4722840"/>
            <a:chOff x="609480" y="1676520"/>
            <a:chExt cx="7008840" cy="472284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762120" y="1829160"/>
              <a:ext cx="6856200" cy="45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09480" y="1676520"/>
              <a:ext cx="762120" cy="44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-311040" y="3495960"/>
              <a:ext cx="26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181e"/>
                  </a:solidFill>
                  <a:latin typeface="Times New Roman"/>
                </a:rPr>
                <a:t>Mixing ratio (ppbv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62120" y="1447920"/>
            <a:ext cx="75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2ff"/>
                </a:solidFill>
                <a:latin typeface="Times New Roman"/>
              </a:rPr>
              <a:t>Assumes NH</a:t>
            </a:r>
            <a:r>
              <a:rPr b="0" lang="en-US" sz="2400" spc="-1" strike="noStrike" baseline="-25000">
                <a:solidFill>
                  <a:srgbClr val="9a02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9a02ff"/>
                </a:solidFill>
                <a:latin typeface="Times New Roman"/>
              </a:rPr>
              <a:t> initialized and continuousl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eff"/>
                </a:solidFill>
                <a:latin typeface="Times New Roman"/>
              </a:rPr>
              <a:t>Air-Sea Exchang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1d1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Globally-averaged surface ocean pH may have decreased from about 8.25 to 8.14 between 1751 and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1d1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Under the SREAS A1B emission scenario, pH may decrease to 7.85 by 2100, for an increase in the hydrogen ion by a factor of 2.5 from1751 to 2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1d1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9"/>
                </a:solidFill>
                <a:latin typeface="Times New Roman"/>
              </a:rPr>
              <a:t>Ocean acidification may slightly increase concentrations of atmospheric acids and more significantly decrease those of bases, thereby affecting cloud and radiative properties and ocean nutrient avail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Calcite and Aragon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cipitation reaction forming calcite/aragonit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tion of solid whe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ity of carbonate 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18288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057400" y="3352680"/>
          <a:ext cx="51735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352680"/>
                    <a:ext cx="5173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95280" y="5029200"/>
          <a:ext cx="852012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029200"/>
                    <a:ext cx="852012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Sedi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ate gravity with drag to estimate fall speed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all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Less resistance to motion ---&gt; diffusion and fall speed enhanced at small particl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rg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all speed decreases due to physical properties effect --&gt; need to correct fall speed for larg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971800" y="3200400"/>
          <a:ext cx="333684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200400"/>
                    <a:ext cx="33368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vitational force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124080" y="1676520"/>
          <a:ext cx="301464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30146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stimated Reynolds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imate Reynolds number from estimated fall speed.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657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alculate Reynolds number for three flow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 algn="just">
              <a:lnSpc>
                <a:spcPct val="10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lip flow around a rigid sphere ( «1-2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dia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 algn="just">
              <a:lnSpc>
                <a:spcPct val="10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inuum flow around a rigid sphere (2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- 1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>
              <a:lnSpc>
                <a:spcPct val="10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inuum flow around equilibrium-shaped drop (1-5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124080" y="1892160"/>
          <a:ext cx="2157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892160"/>
                    <a:ext cx="2157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inal Reynolds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67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ameters affected by physical properties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.g.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, density, viscosity, surface tension, gravity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523880"/>
          <a:ext cx="854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54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120" y="5315040"/>
          <a:ext cx="361764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15040"/>
                    <a:ext cx="36176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105520" y="5486400"/>
          <a:ext cx="26334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5486400"/>
                    <a:ext cx="2633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ysical Properties Co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al property numb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nd number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fall speed from final Reynolds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124080" y="1447920"/>
          <a:ext cx="276084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7608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971800" y="3276720"/>
          <a:ext cx="3014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276720"/>
                    <a:ext cx="3014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43200" y="5257800"/>
          <a:ext cx="3522600" cy="10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257800"/>
                    <a:ext cx="3522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dimentation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416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2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just">
              <a:lnSpc>
                <a:spcPct val="88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for a particle (or gas molecule for the smallest size) to fall 1 km in the atmosphere due to sed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95280" y="1995480"/>
          <a:ext cx="6096240" cy="44053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Di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ime to Fall 1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Di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ime to Fall 1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9630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23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226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14.5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36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3.6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3.2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23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326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1.1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89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4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41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7534"/>
                          </a:solidFill>
                          <a:latin typeface="Times New Roman"/>
                        </a:rPr>
                        <a:t>1.8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ry De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y d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moval of gas molecules or particles from the air when they stick to or react with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dry deposition speed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dry deposition speed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2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29000"/>
          <a:ext cx="349092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429000"/>
                    <a:ext cx="3490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752480" y="5257800"/>
          <a:ext cx="54914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257800"/>
                    <a:ext cx="54914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10T16:55:37Z</dcterms:modified>
  <cp:revision>503</cp:revision>
  <dc:subject/>
  <dc:title>Slide 1</dc:title>
</cp:coreProperties>
</file>