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8.docx" ContentType="application/vnd.openxmlformats-officedocument.wordprocessingml.document"/>
  <Override PartName="/ppt/embeddings/oleObject6.bin" ContentType="application/vnd.openxmlformats-officedocument.oleObject"/>
  <Override PartName="/ppt/media/image56.pct" ContentType="image/x-pict"/>
  <Override PartName="/ppt/media/image55.pct" ContentType="image/x-pict"/>
  <Override PartName="/ppt/media/image54.pct" ContentType="image/x-pict"/>
  <Override PartName="/ppt/media/image53.pct" ContentType="image/x-pict"/>
  <Override PartName="/ppt/media/image52.pct" ContentType="image/x-pict"/>
  <Override PartName="/ppt/media/image51.pct" ContentType="image/x-pict"/>
  <Override PartName="/ppt/media/image50.pct" ContentType="image/x-pict"/>
  <Override PartName="/ppt/media/image46.pct" ContentType="image/x-pict"/>
  <Override PartName="/ppt/media/image45.pct" ContentType="image/x-pict"/>
  <Override PartName="/ppt/media/image44.pct" ContentType="image/x-pict"/>
  <Override PartName="/ppt/media/image43.pct" ContentType="image/x-pict"/>
  <Override PartName="/ppt/media/image42.pct" ContentType="image/x-pict"/>
  <Override PartName="/ppt/media/image41.pct" ContentType="image/x-pict"/>
  <Override PartName="/ppt/media/image40.pct" ContentType="image/x-pict"/>
  <Override PartName="/ppt/media/image30.pct" ContentType="image/x-pict"/>
  <Override PartName="/ppt/media/image39.pct" ContentType="image/x-pict"/>
  <Override PartName="/ppt/media/image9.pct" ContentType="image/x-pict"/>
  <Override PartName="/ppt/media/image86.pct" ContentType="image/x-pict"/>
  <Override PartName="/ppt/media/image13.pct" ContentType="image/x-pict"/>
  <Override PartName="/ppt/media/image1.pct" ContentType="image/x-pict"/>
  <Override PartName="/ppt/media/image38.pct" ContentType="image/x-pict"/>
  <Override PartName="/ppt/media/image8.pct" ContentType="image/x-pict"/>
  <Override PartName="/ppt/media/image85.pct" ContentType="image/x-pict"/>
  <Override PartName="/ppt/media/image49.pct" ContentType="image/x-pict"/>
  <Override PartName="/ppt/media/image100.pct" ContentType="image/x-pict"/>
  <Override PartName="/ppt/media/image12.pct" ContentType="image/x-pict"/>
  <Override PartName="/ppt/media/image109.pct" ContentType="image/x-pict"/>
  <Override PartName="/ppt/media/image37.pct" ContentType="image/x-pict"/>
  <Override PartName="/ppt/media/image7.pct" ContentType="image/x-pict"/>
  <Override PartName="/ppt/media/image19.pct" ContentType="image/x-pict"/>
  <Override PartName="/ppt/media/image84.pct" ContentType="image/x-pict"/>
  <Override PartName="/ppt/media/image48.pct" ContentType="image/x-pict"/>
  <Override PartName="/ppt/media/image11.pct" ContentType="image/x-pict"/>
  <Override PartName="/ppt/media/image108.pct" ContentType="image/x-pict"/>
  <Override PartName="/ppt/media/image36.pct" ContentType="image/x-pict"/>
  <Override PartName="/ppt/media/image6.pct" ContentType="image/x-pict"/>
  <Override PartName="/ppt/media/image18.pct" ContentType="image/x-pict"/>
  <Override PartName="/ppt/media/image83.pct" ContentType="image/x-pict"/>
  <Override PartName="/ppt/media/image29.pct" ContentType="image/x-pict"/>
  <Override PartName="/ppt/media/image94.pct" ContentType="image/x-pict"/>
  <Override PartName="/ppt/media/image47.pct" ContentType="image/x-pict"/>
  <Override PartName="/ppt/media/image10.pct" ContentType="image/x-pict"/>
  <Override PartName="/ppt/media/image107.pct" ContentType="image/x-pict"/>
  <Override PartName="/ppt/media/image35.pct" ContentType="image/x-pict"/>
  <Override PartName="/ppt/media/image5.pct" ContentType="image/x-pict"/>
  <Override PartName="/ppt/media/image17.pct" ContentType="image/x-pict"/>
  <Override PartName="/ppt/media/image82.pct" ContentType="image/x-pict"/>
  <Override PartName="/ppt/media/image28.pct" ContentType="image/x-pict"/>
  <Override PartName="/ppt/media/image93.pct" ContentType="image/x-pict"/>
  <Override PartName="/ppt/media/image34.pct" ContentType="image/x-pict"/>
  <Override PartName="/ppt/media/image4.pct" ContentType="image/x-pict"/>
  <Override PartName="/ppt/media/image16.pct" ContentType="image/x-pict"/>
  <Override PartName="/ppt/media/image81.pct" ContentType="image/x-pict"/>
  <Override PartName="/ppt/media/image27.pct" ContentType="image/x-pict"/>
  <Override PartName="/ppt/media/image92.pct" ContentType="image/x-pict"/>
  <Override PartName="/ppt/media/image33.pct" ContentType="image/x-pict"/>
  <Override PartName="/ppt/media/image3.pct" ContentType="image/x-pict"/>
  <Override PartName="/ppt/media/image15.pct" ContentType="image/x-pict"/>
  <Override PartName="/ppt/media/image80.pct" ContentType="image/x-pict"/>
  <Override PartName="/ppt/media/image26.pct" ContentType="image/x-pict"/>
  <Override PartName="/ppt/media/image91.pct" ContentType="image/x-pict"/>
  <Override PartName="/ppt/media/image32.pct" ContentType="image/x-pict"/>
  <Override PartName="/ppt/media/image2.pct" ContentType="image/x-pict"/>
  <Override PartName="/ppt/media/image14.pct" ContentType="image/x-pict"/>
  <Override PartName="/ppt/media/image74.pct" ContentType="image/x-pict"/>
  <Override PartName="/ppt/media/image75.pct" ContentType="image/x-pict"/>
  <Override PartName="/ppt/media/image76.pct" ContentType="image/x-pict"/>
  <Override PartName="/ppt/media/image77.pct" ContentType="image/x-pict"/>
  <Override PartName="/ppt/media/image78.pct" ContentType="image/x-pict"/>
  <Override PartName="/ppt/media/image87.pct" ContentType="image/x-pict"/>
  <Override PartName="/ppt/media/image88.pct" ContentType="image/x-pict"/>
  <Override PartName="/ppt/media/image97.pct" ContentType="image/x-pict"/>
  <Override PartName="/ppt/media/image104.pct" ContentType="image/x-pict"/>
  <Override PartName="/ppt/media/image60.pct" ContentType="image/x-pict"/>
  <Override PartName="/ppt/media/image98.pct" ContentType="image/x-pict"/>
  <Override PartName="/ppt/media/image105.pct" ContentType="image/x-pict"/>
  <Override PartName="/ppt/media/image61.pct" ContentType="image/x-pict"/>
  <Override PartName="/ppt/media/image79.pct" ContentType="image/x-pict"/>
  <Override PartName="/ppt/media/image101.pct" ContentType="image/x-pict"/>
  <Override PartName="/ppt/media/image102.pct" ContentType="image/x-pict"/>
  <Override PartName="/ppt/media/image95.pct" ContentType="image/x-pict"/>
  <Override PartName="/ppt/media/image123.pct" ContentType="image/x-pict"/>
  <Override PartName="/ppt/media/image89.pct" ContentType="image/x-pict"/>
  <Override PartName="/ppt/media/image111.pct" ContentType="image/x-pict"/>
  <Override PartName="/ppt/media/image122.pct" ContentType="image/x-pict"/>
  <Override PartName="/ppt/media/image99.pct" ContentType="image/x-pict"/>
  <Override PartName="/ppt/media/image106.pct" ContentType="image/x-pict"/>
  <Override PartName="/ppt/media/image62.pct" ContentType="image/x-pict"/>
  <Override PartName="/ppt/media/image121.pct" ContentType="image/x-pict"/>
  <Override PartName="/ppt/media/image96.pct" ContentType="image/x-pict"/>
  <Override PartName="/ppt/media/image103.pct" ContentType="image/x-pict"/>
  <Override PartName="/ppt/media/image116.pct" ContentType="image/x-pict"/>
  <Override PartName="/ppt/media/image72.pct" ContentType="image/x-pict"/>
  <Override PartName="/ppt/media/image115.pct" ContentType="image/x-pict"/>
  <Override PartName="/ppt/media/image71.pct" ContentType="image/x-pict"/>
  <Override PartName="/ppt/media/image114.pct" ContentType="image/x-pict"/>
  <Override PartName="/ppt/media/image70.pct" ContentType="image/x-pict"/>
  <Override PartName="/ppt/media/image113.pct" ContentType="image/x-pict"/>
  <Override PartName="/ppt/media/image112.pct" ContentType="image/x-pict"/>
  <Override PartName="/ppt/media/image73.pct" ContentType="image/x-pict"/>
  <Override PartName="/ppt/media/image120.pct" ContentType="image/x-pict"/>
  <Override PartName="/ppt/media/image69.pct" ContentType="image/x-pict"/>
  <Override PartName="/ppt/media/image68.pct" ContentType="image/x-pict"/>
  <Override PartName="/ppt/media/image31.pct" ContentType="image/x-pict"/>
  <Override PartName="/ppt/media/image67.pct" ContentType="image/x-pict"/>
  <Override PartName="/ppt/media/image66.pct" ContentType="image/x-pict"/>
  <Override PartName="/ppt/media/image65.pct" ContentType="image/x-pict"/>
  <Override PartName="/ppt/media/image64.pct" ContentType="image/x-pict"/>
  <Override PartName="/ppt/media/image63.pct" ContentType="image/x-pict"/>
  <Override PartName="/ppt/media/image23.pct" ContentType="image/x-pict"/>
  <Override PartName="/ppt/media/image119.pct" ContentType="image/x-pict"/>
  <Override PartName="/ppt/media/image22.pct" ContentType="image/x-pict"/>
  <Override PartName="/ppt/media/image59.pct" ContentType="image/x-pict"/>
  <Override PartName="/ppt/media/image110.pct" ContentType="image/x-pict"/>
  <Override PartName="/ppt/media/image24.pct" ContentType="image/x-pict"/>
  <Override PartName="/ppt/media/image118.pct" ContentType="image/x-pict"/>
  <Override PartName="/ppt/media/image21.pct" ContentType="image/x-pict"/>
  <Override PartName="/ppt/media/image58.pct" ContentType="image/x-pict"/>
  <Override PartName="/ppt/media/image117.pct" ContentType="image/x-pict"/>
  <Override PartName="/ppt/media/image20.pct" ContentType="image/x-pict"/>
  <Override PartName="/ppt/media/image57.pct" ContentType="image/x-pict"/>
  <Override PartName="/ppt/media/image25.pct" ContentType="image/x-pict"/>
  <Override PartName="/ppt/media/image90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7033-25A5-4CC1-AE82-FDD10F6B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8AC1-C32F-42A6-B5D8-CB285FB7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DC51-C044-48E0-95DF-DD569FAD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B6B9-8709-4DB8-9E3B-DAE7861C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5E30-4BE3-4533-AC12-CF00D8F5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989D-A86D-4F3F-B859-A2C80226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D9C0-E84F-41C9-97EE-F4C373B7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9325-10A6-44B1-97B1-418A60C5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1F85-F336-49AB-AEB3-2DFB1729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A39D-26DD-47E9-8537-A2215E24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13BD-40B6-4523-9182-BDFA595A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CC0E-46D5-41C5-9624-2BFD1455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C468-86CE-4980-A602-9AB2CC4C2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ct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ct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pct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pct"/><Relationship Id="rId15" Type="http://schemas.openxmlformats.org/officeDocument/2006/relationships/package" Target="../embeddings/oleObject8.docx"/><Relationship Id="rId16" Type="http://schemas.openxmlformats.org/officeDocument/2006/relationships/image" Target="../media/image19.pct"/><Relationship Id="rId1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pct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ct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ct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pct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pct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3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pct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pct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pct"/><Relationship Id="rId1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pct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pct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pct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60.pct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pct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pct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pct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0.pct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1.pct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74.pct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pct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pct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pct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pct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5.pct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88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89.pct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pct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94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95.pct"/><Relationship Id="rId9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98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99.pct"/><Relationship Id="rId9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1.pct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4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5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6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7.pct"/><Relationship Id="rId1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9.pct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2.pct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3.pct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4.pct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5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ct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7.pct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9.pct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1.pct"/><Relationship Id="rId5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2.pct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3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ct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esentation Slides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for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hapter 17, Part 2</a:t>
            </a:r>
            <a:br>
              <a:rPr sz="40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of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undamentals of Atmospheric Modeling 2</a:t>
            </a:r>
            <a:r>
              <a:rPr b="1" lang="en-US" sz="4000" spc="-1" strike="noStrike" baseline="30000">
                <a:solidFill>
                  <a:srgbClr val="0000ff"/>
                </a:solidFill>
                <a:latin typeface="Times New Roman"/>
              </a:rPr>
              <a:t>nd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Edition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440" y="3962520"/>
            <a:ext cx="74365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rk Z. Jaco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partment of Civil &amp; Environmental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, CA 94305-4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acobson@stanford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7534"/>
                </a:solidFill>
                <a:latin typeface="Times New Roman"/>
              </a:rPr>
              <a:t>April 1, 2005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ractical Use of Water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rrange (17.65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733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marL="239760" indent="-239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i,j,a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binary molalities of species alone in sol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760" indent="-239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i,j,m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hypothetical mol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of electrolyte pair when mixed in solution with all other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760" indent="-239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760" indent="-239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 a model, ion concentrations known but hypothetical electrolyte concentrations unknown --&gt; find hypothetical concent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760" indent="-239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71800" y="1752480"/>
          <a:ext cx="336384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752480"/>
                    <a:ext cx="336384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ractical Use of Water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371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71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6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ol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of H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, 6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ol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Na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71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7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ol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of Cl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, 5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ol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of NO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xample 17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286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bine ions in a way to satisfy mole balanc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438280" y="2743200"/>
          <a:ext cx="377676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743200"/>
                    <a:ext cx="37767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209680" y="3352680"/>
          <a:ext cx="4157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3352680"/>
                    <a:ext cx="41576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514600" y="3962520"/>
          <a:ext cx="3649680" cy="41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3962520"/>
                    <a:ext cx="36496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209680" y="4495680"/>
          <a:ext cx="434844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4495680"/>
                    <a:ext cx="43484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143000" y="5562720"/>
            <a:ext cx="7238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just">
              <a:lnSpc>
                <a:spcPct val="100000"/>
              </a:lnSpc>
              <a:tabLst>
                <a:tab algn="l" pos="0"/>
                <a:tab algn="l" pos="1368360"/>
                <a:tab algn="l" pos="2743200"/>
                <a:tab algn="l" pos="4111560"/>
                <a:tab algn="l" pos="54864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s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HCl,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HNO3,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NaCl,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NaNO3,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68360"/>
                <a:tab algn="l" pos="2743200"/>
                <a:tab algn="l" pos="4111560"/>
                <a:tab algn="l" pos="54864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68360"/>
                <a:tab algn="l" pos="2743200"/>
                <a:tab algn="l" pos="4111560"/>
                <a:tab algn="l" pos="54864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5120" y="5105520"/>
            <a:ext cx="81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oncentrations that satisfy mole balance constraints (Table 17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ractical Use of Water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038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1080" indent="-1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utomatic method to recombine ions into hypothetical electrol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752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ecute the following three equations, in succession, for each undissociated electrolyte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2895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lectroly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5029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819520" y="2590920"/>
          <a:ext cx="339552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590920"/>
                    <a:ext cx="33955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048120" y="4038480"/>
          <a:ext cx="282420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4038480"/>
                    <a:ext cx="28242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2971800" y="4952880"/>
          <a:ext cx="298296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4952880"/>
                    <a:ext cx="29829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eliquescence Relative Humid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7000"/>
          </a:bodyPr>
          <a:p>
            <a:pPr marL="58320" indent="-583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liqu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Process by which a particle takes up liquid water, lowering its saturation vapo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100000"/>
              </a:lnSpc>
              <a:buClr>
                <a:srgbClr val="187534"/>
              </a:buClr>
              <a:buFont typeface="Times"/>
              <a:buChar char="•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liquescence relative humidity (DR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The relative humidity at which an initially-dry solid first takes on liquid water during an increase in relative humidity. Above the DRH, the solid may no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100000"/>
              </a:lnSpc>
              <a:buClr>
                <a:srgbClr val="187534"/>
              </a:buClr>
              <a:buFont typeface="Times"/>
              <a:buChar char="•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rystallization relative humidity (CR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The relative humidity at which an initially-supersaturated aqueous electrolyte becomes crystalline upon a decrease in relative humid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eliquescence Relative Humid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67840" y="6095880"/>
            <a:ext cx="1485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17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990720"/>
            <a:ext cx="6476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DRHs and CRHs for several electrolytes at 298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5486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720" indent="-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In a mixture, the DRH of a solid in equilibrium with the solution is lower than the DRH of the solid 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600200"/>
            <a:ext cx="7238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2000"/>
          </a:bodyPr>
          <a:p>
            <a:pPr algn="just">
              <a:lnSpc>
                <a:spcPct val="100000"/>
              </a:lnSpc>
              <a:tabLst>
                <a:tab algn="l" pos="0"/>
                <a:tab algn="l" pos="1368360"/>
                <a:tab algn="l" pos="2743200"/>
                <a:tab algn="l" pos="4111560"/>
                <a:tab algn="l" pos="54864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lectroly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RH(%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RH(%)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68360"/>
                <a:tab algn="l" pos="2743200"/>
                <a:tab algn="l" pos="4111560"/>
                <a:tab algn="l" pos="54864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NaCl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75.28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68360"/>
                <a:tab algn="l" pos="2743200"/>
                <a:tab algn="l" pos="4111560"/>
                <a:tab algn="l" pos="54864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Na</a:t>
            </a:r>
            <a:r>
              <a:rPr b="0" lang="en-US" sz="2400" spc="-1" strike="noStrike" baseline="-25000">
                <a:solidFill>
                  <a:srgbClr val="80008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80008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84.2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57-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68360"/>
                <a:tab algn="l" pos="2743200"/>
                <a:tab algn="l" pos="4111560"/>
                <a:tab algn="l" pos="54864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NaHSO</a:t>
            </a:r>
            <a:r>
              <a:rPr b="0" lang="en-US" sz="2400" spc="-1" strike="noStrike" baseline="-25000">
                <a:solidFill>
                  <a:srgbClr val="80008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52.0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&lt;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68360"/>
                <a:tab algn="l" pos="2743200"/>
                <a:tab algn="l" pos="4111560"/>
                <a:tab algn="l" pos="54864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NH</a:t>
            </a:r>
            <a:r>
              <a:rPr b="0" lang="en-US" sz="2400" spc="-1" strike="noStrike" baseline="-25000">
                <a:solidFill>
                  <a:srgbClr val="80008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Cl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77.1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68360"/>
                <a:tab algn="l" pos="2743200"/>
                <a:tab algn="l" pos="4111560"/>
                <a:tab algn="l" pos="54864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(NH</a:t>
            </a:r>
            <a:r>
              <a:rPr b="0" lang="en-US" sz="2400" spc="-1" strike="noStrike" baseline="-25000">
                <a:solidFill>
                  <a:srgbClr val="80008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80008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80008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79.97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37-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68360"/>
                <a:tab algn="l" pos="2743200"/>
                <a:tab algn="l" pos="4111560"/>
                <a:tab algn="l" pos="54864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NH</a:t>
            </a:r>
            <a:r>
              <a:rPr b="0" lang="en-US" sz="2400" spc="-1" strike="noStrike" baseline="-25000">
                <a:solidFill>
                  <a:srgbClr val="80008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HSO</a:t>
            </a:r>
            <a:r>
              <a:rPr b="0" lang="en-US" sz="2400" spc="-1" strike="noStrike" baseline="-25000">
                <a:solidFill>
                  <a:srgbClr val="80008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&lt;5-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68360"/>
                <a:tab algn="l" pos="2743200"/>
                <a:tab algn="l" pos="4111560"/>
                <a:tab algn="l" pos="54864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NH</a:t>
            </a:r>
            <a:r>
              <a:rPr b="0" lang="en-US" sz="2400" spc="-1" strike="noStrike" baseline="-25000">
                <a:solidFill>
                  <a:srgbClr val="80008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NO</a:t>
            </a:r>
            <a:r>
              <a:rPr b="0" lang="en-US" sz="2400" spc="-1" strike="noStrike" baseline="-25000">
                <a:solidFill>
                  <a:srgbClr val="80008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61.83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25-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68360"/>
                <a:tab algn="l" pos="2743200"/>
                <a:tab algn="l" pos="4111560"/>
                <a:tab algn="l" pos="54864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KCl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84.26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68360"/>
                <a:tab algn="l" pos="2743200"/>
                <a:tab algn="l" pos="4111560"/>
                <a:tab algn="l" pos="54864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Oxalic acid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97.3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51.8-56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68360"/>
                <a:tab algn="l" pos="2743200"/>
                <a:tab algn="l" pos="4111560"/>
                <a:tab algn="l" pos="54864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olid 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3733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sider the equilibrium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sider the equilibrium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209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solid forms whe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7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5181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solid forms whe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7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447920" y="1568520"/>
          <a:ext cx="1714320" cy="41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68520"/>
                    <a:ext cx="17143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200400" y="1523880"/>
          <a:ext cx="922320" cy="441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523880"/>
                    <a:ext cx="9223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140360" y="1523880"/>
          <a:ext cx="2031840" cy="47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0360" y="1523880"/>
                    <a:ext cx="20318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600200" y="2666880"/>
          <a:ext cx="5268960" cy="73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666880"/>
                    <a:ext cx="526896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1676520" y="4343400"/>
          <a:ext cx="1714320" cy="41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4343400"/>
                    <a:ext cx="171432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419720" y="4343400"/>
          <a:ext cx="2665440" cy="476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19720" y="4343400"/>
                    <a:ext cx="26654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362320" y="5638680"/>
          <a:ext cx="4189320" cy="476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62320" y="5638680"/>
                    <a:ext cx="41893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3429000" y="4267080"/>
          <a:ext cx="922320" cy="44136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9000" y="4267080"/>
                    <a:ext cx="9223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xample Equilibrium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sider two equilibrium react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048120" y="1447920"/>
          <a:ext cx="3176640" cy="44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447920"/>
                    <a:ext cx="317664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971800" y="2133720"/>
          <a:ext cx="3397320" cy="631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2133720"/>
                    <a:ext cx="33973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57200" y="3200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marL="68400" indent="-68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r equilibrium concentrations, 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equilibrium constant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ole balance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harge balance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water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th Newton-Raphson 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xample Equilibrium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1447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quilibrium coefficient equat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7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828800" y="1981080"/>
          <a:ext cx="504684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981080"/>
                    <a:ext cx="504684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1600200" y="3505320"/>
          <a:ext cx="6031080" cy="14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505320"/>
                    <a:ext cx="603108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xample Equilibrium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371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le balance equat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7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676520" y="2057400"/>
          <a:ext cx="599904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59990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066680" y="3841920"/>
          <a:ext cx="6951960" cy="73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841920"/>
                    <a:ext cx="695196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457200" y="3200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xample Equilibrium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por pressure as a function of mole concentr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7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648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rge balance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2819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lality as a function of mole concentr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438280" y="1828800"/>
          <a:ext cx="380844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828800"/>
                    <a:ext cx="380844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971800" y="3124080"/>
          <a:ext cx="2665440" cy="123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124080"/>
                    <a:ext cx="266544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676520" y="5257800"/>
          <a:ext cx="590364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5257800"/>
                    <a:ext cx="59036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olvation and Hyd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3000"/>
          </a:bodyPr>
          <a:p>
            <a:pPr marL="44280" indent="-44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vation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Bonding between solvent and solute in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 algn="just">
              <a:lnSpc>
                <a:spcPct val="100000"/>
              </a:lnSpc>
              <a:spcBef>
                <a:spcPts val="601"/>
              </a:spcBef>
              <a:buClr>
                <a:srgbClr val="187534"/>
              </a:buClr>
              <a:buFont typeface="Times"/>
              <a:buChar char="•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yd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When solvent is liquid water, solvation is  hyd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Hydration of cations --&gt; lone pairs of electrons on oxygen atom of water attach to 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Hydration of anions --&gt; water molecule attaches to anion via hydrogen bo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xample Equilibrium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914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ater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8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2743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ypothetical mole concentration constraint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8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33520" y="1143000"/>
          <a:ext cx="8156520" cy="15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156520" cy="15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990720" y="3200400"/>
          <a:ext cx="72691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200400"/>
                    <a:ext cx="7269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2971800" y="4038480"/>
          <a:ext cx="272880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4038480"/>
                    <a:ext cx="27288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2590920" y="4876920"/>
          <a:ext cx="3713040" cy="76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90920" y="4876920"/>
                    <a:ext cx="37130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2666880" y="5638680"/>
          <a:ext cx="3713400" cy="76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5638680"/>
                    <a:ext cx="37134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ass-Flux Iterative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marL="68400" indent="-68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ve each equation iteratively and iterate over all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Initialize species concentrations so that charge is con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No intelligent first gues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olution mass and charge conserving and always conve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 solution for one equilibrium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quilibrium equation and coefficient 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422360" y="4114800"/>
          <a:ext cx="215892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2360" y="4114800"/>
                    <a:ext cx="21589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3657600" y="3978360"/>
          <a:ext cx="890640" cy="441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3978360"/>
                    <a:ext cx="89064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572000" y="4114800"/>
          <a:ext cx="215892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4114800"/>
                    <a:ext cx="21589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2514600" y="4952880"/>
          <a:ext cx="3490920" cy="101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4600" y="4952880"/>
                    <a:ext cx="349092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ass-Flux Iterative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) Calculate smallest ratio of mole concentration to moles in denominator and numerator, respectivel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8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648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) Initialize two parameter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971800" y="1981080"/>
          <a:ext cx="323676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981080"/>
                    <a:ext cx="323676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3048120" y="3200400"/>
          <a:ext cx="307800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200400"/>
                    <a:ext cx="307800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371600" y="5410080"/>
          <a:ext cx="241308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5410080"/>
                    <a:ext cx="24130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5943600" y="5486400"/>
          <a:ext cx="187308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5486400"/>
                    <a:ext cx="18730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ass-Flux Iterative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dd mass flux factor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to mole concentrat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3962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) Compare ratio of activities to equilibrium coefficie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85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066680" y="1981080"/>
          <a:ext cx="2919600" cy="4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29196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4960800" y="1981080"/>
          <a:ext cx="2887920" cy="41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0800" y="1981080"/>
                    <a:ext cx="288792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928800" y="2819520"/>
          <a:ext cx="3109680" cy="41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28800" y="2819520"/>
                    <a:ext cx="31096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4878360" y="2819520"/>
          <a:ext cx="3046320" cy="41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8360" y="2819520"/>
                    <a:ext cx="30463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2209680" y="4724280"/>
          <a:ext cx="4792680" cy="123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9680" y="4724280"/>
                    <a:ext cx="479268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ass-Flux Iterative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) Cut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in ha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048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) Check convergenc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86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5867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Return to (17.84) until convergence occur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505320" y="1981080"/>
          <a:ext cx="165096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981080"/>
                    <a:ext cx="16509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1752480" y="3733920"/>
          <a:ext cx="4983120" cy="142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3733920"/>
                    <a:ext cx="4983120" cy="14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nalytical Equilibrium Iteration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olve most equations analytically but iterate over all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Reactions of the form D</a:t>
            </a:r>
            <a:r>
              <a:rPr b="0" lang="en-US" sz="2400" spc="-1" strike="noStrike">
                <a:solidFill>
                  <a:srgbClr val="993366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1905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ve the equilibrium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87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3352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ution for change in concentr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88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502920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nal concentrat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743200" y="2286000"/>
          <a:ext cx="349092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86000"/>
                    <a:ext cx="34909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2895480" y="3886200"/>
          <a:ext cx="311004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3886200"/>
                    <a:ext cx="31100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600200" y="5715000"/>
          <a:ext cx="260208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5715000"/>
                    <a:ext cx="2602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486400" y="5715000"/>
          <a:ext cx="263376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5715000"/>
                    <a:ext cx="26337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nalytical Equilibrium Iteration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1447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ve the equilibrium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89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9907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Reactions of the form D+E</a:t>
            </a:r>
            <a:r>
              <a:rPr b="0" lang="en-US" sz="2400" spc="-1" strike="noStrike">
                <a:solidFill>
                  <a:srgbClr val="18753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+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3124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ution for change in concentr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90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600200" y="1828800"/>
          <a:ext cx="6126120" cy="12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828800"/>
                    <a:ext cx="61261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1143000" y="3733920"/>
          <a:ext cx="6094440" cy="244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733920"/>
                    <a:ext cx="609444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nalytical Equilibrium Iteration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5238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nal concentrat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581280" y="2133720"/>
          <a:ext cx="2602080" cy="44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2133720"/>
                    <a:ext cx="260208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505320" y="2819520"/>
          <a:ext cx="2570040" cy="44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819520"/>
                    <a:ext cx="257004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3505320" y="3581280"/>
          <a:ext cx="263340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581280"/>
                    <a:ext cx="26334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3505320" y="4419720"/>
          <a:ext cx="2601720" cy="44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4419720"/>
                    <a:ext cx="26017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nalytical Equilibrium Iteration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1905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eck if solid can for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91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12193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Reactions of the form D(s)</a:t>
            </a:r>
            <a:r>
              <a:rPr b="0" lang="en-US" sz="2400" spc="-1" strike="noStrike">
                <a:solidFill>
                  <a:srgbClr val="18753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2A+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3657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so, solve the equilibrium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92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209680" y="2590920"/>
          <a:ext cx="472932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90920"/>
                    <a:ext cx="472932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1676520" y="4495680"/>
          <a:ext cx="6253200" cy="6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495680"/>
                    <a:ext cx="625320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nalytical Equilibrium Iteration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terative Newton-Raphson procedu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93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752480" y="1600200"/>
          <a:ext cx="5840640" cy="6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84064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2362320" y="2286000"/>
          <a:ext cx="4030560" cy="60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2286000"/>
                    <a:ext cx="403056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3124080" y="3352680"/>
          <a:ext cx="2032200" cy="41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3352680"/>
                    <a:ext cx="20322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2895480" y="3886200"/>
          <a:ext cx="3141720" cy="60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95480" y="3886200"/>
                    <a:ext cx="314172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3276720" y="4495680"/>
          <a:ext cx="2381040" cy="603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6720" y="4495680"/>
                    <a:ext cx="238104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2743200" y="5562720"/>
          <a:ext cx="3713040" cy="88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5562720"/>
                    <a:ext cx="37130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Water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antify amount of hydration with empirical water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Zdanovskii-Stokes-Robinson (ZSR)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286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mple with two species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962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157680" indent="-157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12880"/>
                <a:tab algn="l" pos="18288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y,a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molalities of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, alone in solution at given relative humi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7680" indent="-157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12880"/>
                <a:tab algn="l" pos="18288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7680" indent="-157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12880"/>
                <a:tab algn="l" pos="18288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x,m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y,m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molalities of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, when mixed together, at same relative humi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124080" y="2743200"/>
          <a:ext cx="247680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743200"/>
                    <a:ext cx="247680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nalytical Equilibrium Iteration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1752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nal concentrat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048120" y="2209680"/>
          <a:ext cx="276048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09680"/>
                    <a:ext cx="27604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3048120" y="2819520"/>
          <a:ext cx="257004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2819520"/>
                    <a:ext cx="25700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3048120" y="3505320"/>
          <a:ext cx="263340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3505320"/>
                    <a:ext cx="26334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quilibrium Solver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7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720" indent="-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erosol composition versus NaCl concentration when the relative humidity was 90%. Other initial conditions were H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aq) = 10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g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, HCl(g) = 0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g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, NH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g) = 10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g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, HNO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g) = 30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g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298 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143000" y="2444760"/>
          <a:ext cx="6477120" cy="428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444760"/>
                    <a:ext cx="647712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990720" y="2209680"/>
            <a:ext cx="685800" cy="36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16200000">
            <a:off x="-105840" y="384624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ncentration (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g m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quilibrium Solver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7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720" indent="-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erosol composition versus relative humidity. Initial conditions were H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aq) = 10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g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, HCl(g) = 0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g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, NH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g) = 10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g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, HNO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g) = 30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g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298 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066680" y="2362320"/>
          <a:ext cx="6400800" cy="424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362320"/>
                    <a:ext cx="6400800" cy="42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826920" y="2147760"/>
            <a:ext cx="685800" cy="36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16200000">
            <a:off x="-269280" y="378432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ncentration (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g m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issolutional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aturation vapor pressure of ga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ver particle siz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95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2819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aturation vapor pressure as function of gas mole concentr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96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4572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lality as function of particle mole concentr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97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352680" y="1676520"/>
          <a:ext cx="1841760" cy="92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676520"/>
                    <a:ext cx="184176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3124080" y="3581280"/>
          <a:ext cx="244476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3581280"/>
                    <a:ext cx="24447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3276720" y="5181480"/>
          <a:ext cx="2031840" cy="92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5181480"/>
                    <a:ext cx="203184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issolutional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(17.95) and (17.97) into (17.96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98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" y="3733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99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447920" y="2057400"/>
          <a:ext cx="653868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057400"/>
                    <a:ext cx="653868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2971800" y="4191120"/>
          <a:ext cx="28242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4191120"/>
                    <a:ext cx="28242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issolutional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densational growth equat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67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3733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68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1676520" y="2209680"/>
          <a:ext cx="5618160" cy="7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09680"/>
                    <a:ext cx="56181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1447920" y="4343400"/>
          <a:ext cx="5967360" cy="111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4343400"/>
                    <a:ext cx="596736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issolutional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(17.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 Dissolutional growth equat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00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3733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01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600200" y="2362320"/>
          <a:ext cx="568152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362320"/>
                    <a:ext cx="56815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1371600" y="4343400"/>
          <a:ext cx="64753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343400"/>
                    <a:ext cx="6475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Analytical Predictor of Dis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914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grate (17.100) for final aerosol concentr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02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236232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le balance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373392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(17.102) into (17.103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441360" y="1371600"/>
          <a:ext cx="847404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360" y="1371600"/>
                    <a:ext cx="847404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2362320" y="2743200"/>
          <a:ext cx="4368600" cy="97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2743200"/>
                    <a:ext cx="436860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685800" y="4191120"/>
          <a:ext cx="7870680" cy="24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191120"/>
                    <a:ext cx="7870680" cy="24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Growth During Dissoc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" y="914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owth equation for hydrochloric ac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05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2666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tal dissolved chlorin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06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" y="4191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nd saturation mole concentration from equilibrium express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07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Cl(aq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5181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08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Cl(aq)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600200" y="1492200"/>
          <a:ext cx="6697800" cy="7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492200"/>
                    <a:ext cx="669780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2895480" y="3276720"/>
          <a:ext cx="3808440" cy="4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3276720"/>
                    <a:ext cx="38084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Growth During Dissoc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" y="914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quilibrium coefficient relat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07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2286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08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3733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quilibrium coefficient relations in terms of mole concentr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09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4876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10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2666880" y="1371600"/>
          <a:ext cx="374508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371600"/>
                    <a:ext cx="3745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2133720" y="2438280"/>
          <a:ext cx="4951440" cy="123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438280"/>
                    <a:ext cx="495144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3352680" y="4114800"/>
          <a:ext cx="2444760" cy="92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4114800"/>
                    <a:ext cx="244476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1600200" y="5105520"/>
          <a:ext cx="5522760" cy="149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5105520"/>
                    <a:ext cx="552276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ZSR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67840" y="6324480"/>
            <a:ext cx="1485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1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720" indent="-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ZSR equation predictions for a sucrose (species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 - mannitol (species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 mixture at two different water activ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8862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68360"/>
                <a:tab algn="l" pos="2743200"/>
                <a:tab algn="l" pos="4111560"/>
                <a:tab algn="l" pos="54864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x,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x,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68360"/>
                <a:tab algn="l" pos="2743200"/>
                <a:tab algn="l" pos="4111560"/>
                <a:tab algn="l" pos="54864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s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y,a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x,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y,m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y,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y,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68360"/>
                <a:tab algn="l" pos="2743200"/>
                <a:tab algn="l" pos="4111560"/>
                <a:tab algn="l" pos="54864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0.7751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0.8197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0.6227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0.1604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0.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68360"/>
                <a:tab algn="l" pos="2743200"/>
                <a:tab algn="l" pos="4111560"/>
                <a:tab algn="l" pos="54864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0.9393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1.0046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0.1900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0.8014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1.000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352680" y="2514600"/>
          <a:ext cx="247680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514600"/>
                    <a:ext cx="247680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issolution of Acids/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" y="914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saturation mole concentration into growth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11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3733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le balance equa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12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219320" y="2057400"/>
          <a:ext cx="711036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71103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1828800" y="4724280"/>
          <a:ext cx="5904000" cy="111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724280"/>
                    <a:ext cx="590400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issolution for Dissociating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" y="838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grate (17.111) for final aerosol concentr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13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3352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(17.113) into (17.112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14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515880" y="1295280"/>
          <a:ext cx="3522600" cy="9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880" y="1295280"/>
                    <a:ext cx="352260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457200" y="2133720"/>
          <a:ext cx="8251920" cy="104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133720"/>
                    <a:ext cx="825192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685800" y="3809880"/>
          <a:ext cx="1238400" cy="41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09880"/>
                    <a:ext cx="12384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685800" y="4267080"/>
          <a:ext cx="8093160" cy="231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4267080"/>
                    <a:ext cx="8093160" cy="23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olve for Ammonia/Ammon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rge balance equa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15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" y="2057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16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" y="3429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le balance equa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17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2666880" y="1523880"/>
          <a:ext cx="403092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4030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295200" y="2463840"/>
          <a:ext cx="869652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5200" y="2463840"/>
                    <a:ext cx="86965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1600200" y="3962520"/>
          <a:ext cx="6348240" cy="111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3962520"/>
                    <a:ext cx="6348240" cy="111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1143000" y="5410080"/>
          <a:ext cx="7269120" cy="111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5410080"/>
                    <a:ext cx="726912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olve for Ammonia/Ammon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quilibrium express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18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)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57200" y="2057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19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+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" y="3429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quilibrium coefficient express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18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" y="4876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19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2286000" y="3886200"/>
          <a:ext cx="39672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886200"/>
                    <a:ext cx="39672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1981080" y="5334120"/>
          <a:ext cx="5173920" cy="98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5334120"/>
                    <a:ext cx="517392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olve for Ammonia/Ammon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/H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activity coefficient relationshi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20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" y="4038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quilibrium coefficient relations in terms of mole concentr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21,2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1143000" y="1390680"/>
          <a:ext cx="638028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390680"/>
                    <a:ext cx="638028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"/>
          <p:cNvGraphicFramePr/>
          <p:nvPr/>
        </p:nvGraphicFramePr>
        <p:xfrm>
          <a:off x="2133720" y="2577960"/>
          <a:ext cx="4411440" cy="14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577960"/>
                    <a:ext cx="441144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762120" y="4419720"/>
          <a:ext cx="3490920" cy="98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419720"/>
                    <a:ext cx="34909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4648320" y="4648320"/>
          <a:ext cx="3681360" cy="57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4648320"/>
                    <a:ext cx="36813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299880" y="5334120"/>
          <a:ext cx="4195800" cy="981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9880" y="5334120"/>
                    <a:ext cx="419580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"/>
          <p:cNvGraphicFramePr/>
          <p:nvPr/>
        </p:nvGraphicFramePr>
        <p:xfrm>
          <a:off x="4567320" y="5410080"/>
          <a:ext cx="4424400" cy="916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67320" y="5410080"/>
                    <a:ext cx="442440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olve for Ammonia/Ammon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on concentration in each size bi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24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" y="3581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into mole-balance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25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1219320" y="1905120"/>
          <a:ext cx="657072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05120"/>
                    <a:ext cx="65707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457200" y="4572000"/>
          <a:ext cx="8410680" cy="161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572000"/>
                    <a:ext cx="84106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olve for Ammonia/Ammon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terate for ammonia gas concentr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26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" y="2666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28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2057400" y="1447920"/>
          <a:ext cx="5237280" cy="123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447920"/>
                    <a:ext cx="523728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685800" y="3048120"/>
          <a:ext cx="2095560" cy="60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048120"/>
                    <a:ext cx="209556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914400" y="3886200"/>
          <a:ext cx="7743960" cy="257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3886200"/>
                    <a:ext cx="774396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imulations of Growth/Dissoc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697520" y="624852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7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133720" y="106668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Initial distributions for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914400" y="1981080"/>
          <a:ext cx="6858000" cy="377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6858000" cy="37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914400" y="1920960"/>
            <a:ext cx="685800" cy="33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rot="16200000">
            <a:off x="-174600" y="3274560"/>
            <a:ext cx="301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M (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g m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 / dlog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D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315200" y="1920960"/>
            <a:ext cx="685800" cy="33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5400000">
            <a:off x="6070680" y="3341880"/>
            <a:ext cx="321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N (No. cm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 / dlog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D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imulations of Growth/Dissoc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990720" y="1981080"/>
          <a:ext cx="7162560" cy="45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716256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"/>
          <p:cNvSpPr/>
          <p:nvPr/>
        </p:nvSpPr>
        <p:spPr>
          <a:xfrm>
            <a:off x="457200" y="914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1080" indent="-1080" algn="just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erosol concentrations, summed over all sizes, during nonequilibrium growth plus internal aerosol equilibrium at RH=90 percent when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5 s.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62120" y="2057400"/>
            <a:ext cx="68580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16200000">
            <a:off x="-816480" y="3871800"/>
            <a:ext cx="40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mmed concentration (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g m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imulations of Growth/Dissoc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685800" y="1905120"/>
          <a:ext cx="7620120" cy="482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7620120" cy="48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"/>
          <p:cNvSpPr/>
          <p:nvPr/>
        </p:nvSpPr>
        <p:spPr>
          <a:xfrm>
            <a:off x="457200" y="1828800"/>
            <a:ext cx="685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-1197720" y="3871800"/>
            <a:ext cx="40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mmed concentration (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g m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362320" y="1219320"/>
            <a:ext cx="480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40" indent="-1440" algn="just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ame as previous slide, but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30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Water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eralized ZSR equa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429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lynomial expression for molality of electrolyte alone in solution at a given water activit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6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657600" y="1828800"/>
          <a:ext cx="174636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828800"/>
                    <a:ext cx="174636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981080" y="5029200"/>
          <a:ext cx="5776920" cy="5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5029200"/>
                    <a:ext cx="57769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Nonequilibrium Growth of Sol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as-solid equilibrium react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2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)+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57200" y="3581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ids can form whe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31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57200" y="2286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7332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(s)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)+HCl(g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3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" y="4876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32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2666880" y="4267080"/>
          <a:ext cx="358632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4267080"/>
                    <a:ext cx="35863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2971800" y="5486400"/>
          <a:ext cx="298296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5486400"/>
                    <a:ext cx="29829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Nonequilibrium Growth of Sol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" y="1447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as-solid equilibrium coefficient rel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33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" y="3657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34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2057400" y="2362320"/>
          <a:ext cx="5491080" cy="7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362320"/>
                    <a:ext cx="54910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2057400" y="4495680"/>
          <a:ext cx="488808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4495680"/>
                    <a:ext cx="48880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Nonequilibrium Growth of Sol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owth equations for gases that form solids (solids formed during operator-split equilibrium calculation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533520" y="2286000"/>
          <a:ext cx="821988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0"/>
                    <a:ext cx="82198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1371600" y="4038480"/>
          <a:ext cx="67611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038480"/>
                    <a:ext cx="67611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imulations of Solid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1080" indent="-1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Time-dependent aerosol concentrations, summed over all sizes, during nonequilibrium growth plus internal aerosol equilibrium at RH=10 percent when h=5 s.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7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609480" y="2246400"/>
          <a:ext cx="7010640" cy="443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46400"/>
                    <a:ext cx="7010640" cy="44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457200" y="1905120"/>
            <a:ext cx="685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16200000">
            <a:off x="-1197720" y="3932280"/>
            <a:ext cx="40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mmed concentration (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g m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imulations of Solid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545240" y="617220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7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685800" y="1828800"/>
          <a:ext cx="7086600" cy="448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086600" cy="44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"/>
          <p:cNvSpPr/>
          <p:nvPr/>
        </p:nvSpPr>
        <p:spPr>
          <a:xfrm>
            <a:off x="2133720" y="1143000"/>
            <a:ext cx="480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40" indent="-1440" algn="just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ame as previous slide, but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30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33520" y="1600200"/>
            <a:ext cx="685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16200000">
            <a:off x="-1121400" y="3627360"/>
            <a:ext cx="40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mmed concentration (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g m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Water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4880" y="6172200"/>
            <a:ext cx="1409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7.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990720"/>
            <a:ext cx="6476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Water activities of several electrolytes at 298.15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90720" y="1782720"/>
          <a:ext cx="6705360" cy="46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82720"/>
                    <a:ext cx="6705360" cy="46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838080" y="1905120"/>
            <a:ext cx="685800" cy="36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259920" y="343548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ater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Water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45240" y="6172200"/>
            <a:ext cx="1425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7.4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914400"/>
            <a:ext cx="6476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Water activities of several electrolytes at 298.15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09480" y="1600200"/>
          <a:ext cx="7086600" cy="49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708660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533520" y="1828800"/>
            <a:ext cx="685800" cy="36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-120960" y="337824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ater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emp. Dependence of Water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1080" indent="-1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Temperature dependence of binary water activity coefficients under ambient surface conditions is sm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4191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lynomial for water activity at reference temperatu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6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133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emperature dependence of water activit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143000" y="2743200"/>
          <a:ext cx="7015320" cy="11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743200"/>
                    <a:ext cx="701532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1600200" y="5029200"/>
          <a:ext cx="5999040" cy="6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5029200"/>
                    <a:ext cx="599904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emp. Dependence of Water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bine (17.67), (17.68), (17.54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69-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09480" y="1981080"/>
          <a:ext cx="777564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777564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1600200" y="2895480"/>
          <a:ext cx="577692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895480"/>
                    <a:ext cx="57769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457200" y="4114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3000"/>
          </a:bodyPr>
          <a:p>
            <a:pPr marL="78840" indent="-78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HCl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73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31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0:13:47Z</dcterms:created>
  <dc:creator>Fred Ginnebaugh</dc:creator>
  <dc:description/>
  <dc:language>en-US</dc:language>
  <cp:lastModifiedBy>Mark Z. Jacobson</cp:lastModifiedBy>
  <dcterms:modified xsi:type="dcterms:W3CDTF">2005-04-01T21:17:48Z</dcterms:modified>
  <cp:revision>698</cp:revision>
  <dc:subject/>
  <dc:title>Slide 1</dc:title>
</cp:coreProperties>
</file>