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34.pct" ContentType="image/x-pict"/>
  <Override PartName="/ppt/media/image4.pct" ContentType="image/x-pict"/>
  <Override PartName="/ppt/media/image16.pct" ContentType="image/x-pict"/>
  <Override PartName="/ppt/media/image33.pct" ContentType="image/x-pict"/>
  <Override PartName="/ppt/media/image3.pct" ContentType="image/x-pict"/>
  <Override PartName="/ppt/media/image15.pct" ContentType="image/x-pict"/>
  <Override PartName="/ppt/media/image32.pct" ContentType="image/x-pict"/>
  <Override PartName="/ppt/media/image2.pct" ContentType="image/x-pict"/>
  <Override PartName="/ppt/media/image14.pct" ContentType="image/x-pict"/>
  <Override PartName="/ppt/media/image31.pct" ContentType="image/x-pict"/>
  <Override PartName="/ppt/media/image28.pct" ContentType="image/x-pict"/>
  <Override PartName="/ppt/media/image65.pct" ContentType="image/x-pict"/>
  <Override PartName="/ppt/media/image27.pct" ContentType="image/x-pict"/>
  <Override PartName="/ppt/media/image64.pct" ContentType="image/x-pict"/>
  <Override PartName="/ppt/media/image26.pct" ContentType="image/x-pict"/>
  <Override PartName="/ppt/media/image63.pct" ContentType="image/x-pict"/>
  <Override PartName="/ppt/media/image25.pct" ContentType="image/x-pict"/>
  <Override PartName="/ppt/media/image62.pct" ContentType="image/x-pict"/>
  <Override PartName="/ppt/media/image24.pct" ContentType="image/x-pict"/>
  <Override PartName="/ppt/media/image61.pct" ContentType="image/x-pict"/>
  <Override PartName="/ppt/media/image59.pct" ContentType="image/x-pict"/>
  <Override PartName="/ppt/media/image22.pct" ContentType="image/x-pict"/>
  <Override PartName="/ppt/media/image60.pct" ContentType="image/x-pict"/>
  <Override PartName="/ppt/media/image23.pct" ContentType="image/x-pict"/>
  <Override PartName="/ppt/media/image58.pct" ContentType="image/x-pict"/>
  <Override PartName="/ppt/media/image21.pct" ContentType="image/x-pict"/>
  <Override PartName="/ppt/media/image57.pct" ContentType="image/x-pict"/>
  <Override PartName="/ppt/media/image20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29.pct" ContentType="image/x-pict"/>
  <Override PartName="/ppt/media/image18.pct" ContentType="image/x-pict"/>
  <Override PartName="/ppt/media/image6.pct" ContentType="image/x-pict"/>
  <Override PartName="/ppt/media/image36.pct" ContentType="image/x-pict"/>
  <Override PartName="/ppt/media/image11.pct" ContentType="image/x-pict"/>
  <Override PartName="/ppt/media/image48.pct" ContentType="image/x-pict"/>
  <Override PartName="/ppt/media/image19.pct" ContentType="image/x-pict"/>
  <Override PartName="/ppt/media/image7.pct" ContentType="image/x-pict"/>
  <Override PartName="/ppt/media/image37.pct" ContentType="image/x-pict"/>
  <Override PartName="/ppt/media/image12.pct" ContentType="image/x-pict"/>
  <Override PartName="/ppt/media/image49.pct" ContentType="image/x-pict"/>
  <Override PartName="/ppt/media/image8.pct" ContentType="image/x-pict"/>
  <Override PartName="/ppt/media/image38.pct" ContentType="image/x-pict"/>
  <Override PartName="/ppt/media/image1.pct" ContentType="image/x-pict"/>
  <Override PartName="/ppt/media/image13.pct" ContentType="image/x-pict"/>
  <Override PartName="/ppt/media/image9.pct" ContentType="image/x-pict"/>
  <Override PartName="/ppt/media/image39.pct" ContentType="image/x-pict"/>
  <Override PartName="/ppt/media/image30.pct" ContentType="image/x-pict"/>
  <Override PartName="/ppt/media/image40.pct" ContentType="image/x-pict"/>
  <Override PartName="/ppt/media/image41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45.pct" ContentType="image/x-pict"/>
  <Override PartName="/ppt/media/image46.pct" ContentType="image/x-pict"/>
  <Override PartName="/ppt/media/image50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7C8-E95F-4156-8169-D4967C4A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1F8-F2E0-4BD1-A806-2E91038F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92D-7AAF-4AD1-874D-84BC2B63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2AD-D6CD-49A7-8E25-7DD0FA67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38D-730B-43D7-94BB-C00BF6E1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973-ED13-4677-B988-07CB19A0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EE4-1669-4003-BEAF-61D693F0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016-A972-4D4B-882D-EE97635A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E61-6660-4D42-A169-440897ED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5DA-ABDD-4FE0-9F1B-7A6787A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4F3-7744-43D5-BA3C-18F8A113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847-5CEB-48DC-8589-FE436E7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17A6-60FA-4E8E-8685-BC3650605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ct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pct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pct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pct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pct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pct"/><Relationship Id="rId2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ct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pct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pct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pct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pct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pct"/><Relationship Id="rId1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3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29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 Concen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concentration in a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concentration in a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concentration in a size distrib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rface area concentration in a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114800" y="1447920"/>
          <a:ext cx="107964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10796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86200" y="2698920"/>
          <a:ext cx="1619280" cy="111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698920"/>
                    <a:ext cx="161928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019400" y="4191120"/>
          <a:ext cx="1619280" cy="11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19400" y="4191120"/>
                    <a:ext cx="161928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59080" y="5791320"/>
          <a:ext cx="27608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9080" y="5791320"/>
                    <a:ext cx="2760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 Concen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 concentration  in a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-averaged mass density (g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of particle of siz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676520"/>
          <a:ext cx="752292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229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124080" y="3809880"/>
          <a:ext cx="2508480" cy="231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809880"/>
                    <a:ext cx="2508480" cy="23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 Concen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3.5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.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5.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952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.09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5410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6.54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867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62.5 parti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324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.8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7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752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for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0 g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83 g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2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038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09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2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for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1295280"/>
          <a:ext cx="6984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98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447920" y="1765440"/>
          <a:ext cx="69840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65440"/>
                    <a:ext cx="6984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523880" y="2590920"/>
          <a:ext cx="41292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590920"/>
                    <a:ext cx="4129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23880" y="3048120"/>
          <a:ext cx="41292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3048120"/>
                    <a:ext cx="4129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517760" y="3581280"/>
          <a:ext cx="53964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17760" y="3581280"/>
                    <a:ext cx="539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517760" y="4038480"/>
          <a:ext cx="53964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17760" y="4038480"/>
                    <a:ext cx="539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523880" y="4495680"/>
          <a:ext cx="44460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495680"/>
                    <a:ext cx="444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587600" y="4952880"/>
          <a:ext cx="317520" cy="38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87600" y="4952880"/>
                    <a:ext cx="317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23880" y="5410080"/>
          <a:ext cx="381240" cy="38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3880" y="54100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600200" y="5867280"/>
          <a:ext cx="317520" cy="381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00200" y="5867280"/>
                    <a:ext cx="317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600200" y="6324480"/>
          <a:ext cx="317520" cy="381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00200" y="6324480"/>
                    <a:ext cx="317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ell-curve distribution on a 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81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eometric mean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50% of area under a lognormal curve lies below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Geometric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68% of area under a lognormal curve lies between +/-1 one geometric standard deviation around the mean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8560" y="6095880"/>
            <a:ext cx="140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3.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600200" y="1600200"/>
          <a:ext cx="5181480" cy="46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518148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295280" y="1706400"/>
            <a:ext cx="83844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180720" y="3389760"/>
            <a:ext cx="326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9907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escribes particle concentration versus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68920" y="6095880"/>
            <a:ext cx="14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3.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9907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 lognormal curve drawn on a linear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76520" y="1600200"/>
          <a:ext cx="5257800" cy="47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525780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371600" y="1633680"/>
            <a:ext cx="8380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257040" y="3313440"/>
            <a:ext cx="326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Parameters From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 marL="72000" indent="-72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-pressure impactor -- 7 size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0.0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 0.07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0.5 - 1.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0.075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 0.12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.0 - 2.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0.12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 0.26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2.0- 4.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0.26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Parameters From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ural log of geometric mean mass diamet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743200" y="1905120"/>
          <a:ext cx="365616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05120"/>
                    <a:ext cx="365616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57200" y="3505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mass concentration of particles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05320" y="3962520"/>
          <a:ext cx="1841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962520"/>
                    <a:ext cx="1841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Parameters From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ural log of geometric mean volume diamet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200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volume concentration of particles (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87760" y="1905120"/>
          <a:ext cx="3332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7760" y="1905120"/>
                    <a:ext cx="3332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47920" y="3809880"/>
          <a:ext cx="15872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809880"/>
                    <a:ext cx="1587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105520" y="3962520"/>
          <a:ext cx="1492200" cy="92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962520"/>
                    <a:ext cx="14922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Parameters From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600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ural log of geometric mean area diamet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8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area concentration of particles (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666880" y="2057400"/>
          <a:ext cx="33958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3395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473120" y="3886200"/>
          <a:ext cx="16509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3886200"/>
                    <a:ext cx="1650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181480" y="3956040"/>
          <a:ext cx="1746360" cy="92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956040"/>
                    <a:ext cx="17463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izes of Atmospheric Constitu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447920"/>
            <a:ext cx="792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ode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Diameter (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Number (#/cm</a:t>
            </a:r>
            <a:r>
              <a:rPr b="0" lang="en-US" sz="2400" spc="-1" strike="noStrike" u="sng" baseline="30000">
                <a:solidFill>
                  <a:srgbClr val="187534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Gas molecule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005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.45x10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Aerosol particle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Small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&lt; 0.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-10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edium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2-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-10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Large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-100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&lt;1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Hydrometeor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Fog drop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0-20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-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Cloud drop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0-200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-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Drizzle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00-1000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Raindrops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000-8000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01-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Parameters From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219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ural log of geometric mean number diamet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743200" y="1828800"/>
          <a:ext cx="3427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828800"/>
                    <a:ext cx="3427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number concentration of particles (partic.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47920" y="4038480"/>
          <a:ext cx="16509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038480"/>
                    <a:ext cx="1650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5257800" y="4184640"/>
          <a:ext cx="1841400" cy="92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84640"/>
                    <a:ext cx="18414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Parameters From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ural log of geometric standard deviation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603520"/>
          <a:ext cx="6984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03520"/>
                    <a:ext cx="698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494000" y="2133720"/>
          <a:ext cx="3458880" cy="12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0" y="2133720"/>
                    <a:ext cx="34588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105520" y="2158920"/>
          <a:ext cx="3173400" cy="12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158920"/>
                    <a:ext cx="31734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143000" y="3581280"/>
          <a:ext cx="320508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581280"/>
                    <a:ext cx="32050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648320" y="3581280"/>
          <a:ext cx="3236760" cy="127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3581280"/>
                    <a:ext cx="32367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distribute With Lognormal Para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istribute mass concentration in model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istribute volume concentration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istribute area concentration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905120" y="1600200"/>
          <a:ext cx="517356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1735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905120" y="3200400"/>
          <a:ext cx="498312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200400"/>
                    <a:ext cx="498312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981080" y="4952880"/>
          <a:ext cx="4983120" cy="11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952880"/>
                    <a:ext cx="498312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distribute With Lognormal Para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istribute number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volume concentration in a mode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981080" y="1981080"/>
          <a:ext cx="501516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0151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143000" y="4495680"/>
          <a:ext cx="707868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95680"/>
                    <a:ext cx="70786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M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umber (parti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, area (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, and volume (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 concentrations distributed lognorm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43000" y="1981080"/>
          <a:ext cx="6629400" cy="458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62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914400" y="1906560"/>
            <a:ext cx="8380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-124560" y="3726720"/>
            <a:ext cx="3111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/ d log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gnormal Param. for Cont. P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752480"/>
            <a:ext cx="792468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ucleation     Accumulation      Co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Parameter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ode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ode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ef1f1d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.7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.0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f1f1d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ef1f1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(particles cm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7.7x10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1.3x10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4.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f1f1d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ef1f1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ef1f1d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)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1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69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f1f1d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ef1f1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ef1f1d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74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535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f1f1d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ef1f1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ef1f1d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)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2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19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f1f1d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ef1f1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ef1f1d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ef1f1d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33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f1f1d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ef1f1d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ef1f1d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m)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031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0.31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Quadramodal Siz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ize distribution at Claremont, California, on the morning of August 27,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3000" y="2009880"/>
          <a:ext cx="678168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09880"/>
                    <a:ext cx="67816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rshall-Palmer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indrop number concentration betwe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25909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value of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8.0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parti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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</a:t>
            </a:r>
            <a:r>
              <a:rPr b="0" lang="en-US" sz="2400" spc="-1" strike="noStrike" baseline="30000">
                <a:solidFill>
                  <a:srgbClr val="187534"/>
                </a:solidFill>
                <a:latin typeface="Symbol"/>
                <a:ea typeface="Symbol"/>
              </a:rPr>
              <a:t>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187534"/>
                </a:solidFill>
                <a:latin typeface="Symbol"/>
                <a:ea typeface="Symbol"/>
              </a:rPr>
              <a:t>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rainfall rate (1-25 mm hr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3200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number concentration and liquid water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124080" y="1752480"/>
          <a:ext cx="2381400" cy="5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752480"/>
                    <a:ext cx="23814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219320" y="5562720"/>
          <a:ext cx="168264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562720"/>
                    <a:ext cx="16826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419720" y="5486400"/>
          <a:ext cx="29829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5486400"/>
                    <a:ext cx="298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rshall-Palmer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121932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3.6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5 mm hr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0043 parti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027 parti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34 g 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2438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ified Gamma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concentration (partic.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of drops in size b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905120" y="2438280"/>
          <a:ext cx="476244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7624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les and Size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gglomerations of molecules in the liquid and / or solid phases, suspended in air. Includes aerosol particles, fog drops, cloud drops, and raindrops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3.1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Idealized particle size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0,000 particles of radius between 0.05 and 0.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00 particles of radius between 0.5 and 5.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0 particles of radius between 5.0 and 5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3.2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umber of size bins needs to be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05 gri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00 size b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100 components per size b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&gt; 109 words  = 8 gigabytes to store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ified Gamma Distribution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57200" y="1219320"/>
          <a:ext cx="10363320" cy="51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1036332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ified Gamma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3.7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number concentration of droplets between 14 and 16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 in radius at base of a stratus 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971800"/>
            <a:ext cx="5410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398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5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398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2398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1506 parti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ll-Stationary Siz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Average single-particle volume in size bin (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) stays constant. When growth occurs, number concentration in bin (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)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vers wide range in diameter space with few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cleation, emissions, transport treated realis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 growth occurs, information about the original composition of the growing particle is l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wth leads to numerical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ll-Stationary Siz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0666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emonstration of a problem with the full-stationary size bi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828800"/>
          <a:ext cx="6858000" cy="43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68580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ll-Mov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2193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Number concentration (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) of particles in a size bin does not change during growth; instead, single-particle volume (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)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e volume preserved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numerical diffusion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cleation, emissions, transport treated unrealis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ordering of size bins required for coa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ll-Mov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reservation of aerosol material upon growth and evaporation in a moving structure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2131920"/>
          <a:ext cx="8458200" cy="25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1920"/>
                    <a:ext cx="845820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ll-Mov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990720"/>
            <a:ext cx="5410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article size bin reordering for coa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33520" y="1752480"/>
          <a:ext cx="7924680" cy="35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924680" cy="35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Quasistationary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9907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Single-particle volumes change during growth like with full-moving structure but are fit back onto a full-stationary grid each time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dvantages and 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ilar to those of full station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y numerically diff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Quasistationary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24382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tabLst>
                <a:tab algn="l" pos="0"/>
                <a:tab algn="l" pos="965160"/>
                <a:tab algn="l" pos="4165560"/>
                <a:tab algn="l" pos="48513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tion volume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etween bin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while conserving particle number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3962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particle volume concentration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5105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 to this set of two equations and two unknowns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76720" y="3352680"/>
          <a:ext cx="203184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352680"/>
                    <a:ext cx="2031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819520" y="4495680"/>
          <a:ext cx="301464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95680"/>
                    <a:ext cx="3014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066680" y="5715000"/>
          <a:ext cx="238140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715000"/>
                    <a:ext cx="23814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5486400" y="5638680"/>
          <a:ext cx="238140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5638680"/>
                    <a:ext cx="2381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304920" y="99072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fter growth, particles in b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have volu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, which lies between volumes of bin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429000" y="1905120"/>
          <a:ext cx="17780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1905120"/>
                    <a:ext cx="1778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ving-Cente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Single-particle volume (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) varies between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h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lo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during growth, but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h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lo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, and d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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remain fixed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4240" indent="-705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vers wide range in diameter space with few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4240" indent="-705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ttle numerical diffusion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4240" indent="-7056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cleation, emission, transport treated realis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4267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000" indent="-144000" algn="just">
              <a:lnSpc>
                <a:spcPct val="96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 growth occurs, information about the original composition of the growing particle i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olume Ratio Siz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of particles in one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-diameter relationship for spherical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505320" y="1828800"/>
          <a:ext cx="18414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1841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657600" y="2971800"/>
          <a:ext cx="16509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971800"/>
                    <a:ext cx="1650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429000" y="4724280"/>
          <a:ext cx="1587600" cy="5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724280"/>
                    <a:ext cx="15876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ving-Cente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143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mparison of moving-center, full-moving, and quasistationary size structures during water growth onto aerosol particles to form cloud dr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9320" y="2075040"/>
          <a:ext cx="6095880" cy="440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75040"/>
                    <a:ext cx="609588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1066680" y="2138400"/>
            <a:ext cx="83844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-47520" y="3817800"/>
            <a:ext cx="326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/ d log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olume Ratio Siz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Variation in particle sizes with the volume ratio siz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801800"/>
          <a:ext cx="8229600" cy="32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01800"/>
                    <a:ext cx="82296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olume Ratio Siz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ratio of adjacent size bi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3.3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1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572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0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0 size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791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a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05120" y="1752480"/>
          <a:ext cx="561816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52480"/>
                    <a:ext cx="561816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447920" y="4584600"/>
          <a:ext cx="6667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584600"/>
                    <a:ext cx="666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olume Ratio Siz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of size bi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3.4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01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00 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a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6 size bin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5410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a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943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65160"/>
                <a:tab algn="l" pos="18795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51 size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895480" y="1371600"/>
          <a:ext cx="333216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371600"/>
                    <a:ext cx="33321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467000" y="3822840"/>
          <a:ext cx="66672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7000" y="3822840"/>
                    <a:ext cx="666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olume Ratio Siz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verage volume in a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ship between high- and low-edge volu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titute (13.6) into (13.5) --&gt; low edge volu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8120" y="1676520"/>
          <a:ext cx="27604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27604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3505320"/>
          <a:ext cx="215892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5320"/>
                    <a:ext cx="21589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429000" y="5105520"/>
          <a:ext cx="206388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5105520"/>
                    <a:ext cx="2063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olume Ratio Siz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ume width of a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ameter width of a size b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3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14400" y="1981080"/>
          <a:ext cx="72057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2057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09480" y="4572000"/>
          <a:ext cx="815652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572000"/>
                    <a:ext cx="815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30T06:59:36Z</dcterms:modified>
  <cp:revision>622</cp:revision>
  <dc:subject/>
  <dc:title>Slide 1</dc:title>
</cp:coreProperties>
</file>