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1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31.pct" ContentType="image/x-pict"/>
  <Override PartName="/ppt/media/image70.pct" ContentType="image/x-pict"/>
  <Override PartName="/ppt/media/image28.pct" ContentType="image/x-pict"/>
  <Override PartName="/ppt/media/image2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18.pct" ContentType="image/x-pict"/>
  <Override PartName="/ppt/media/image83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60B-00C8-49FD-A6BE-04900F2F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C4C-CA96-40B0-8BA0-E6A0365B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5D7-F9C0-47B8-B6D4-F168AE48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2AC-044B-49A4-8DCC-267C617E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86E-7DEE-44CF-8E02-D6F7BEEE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CCA-A8B5-45CD-AFEE-B33EAD39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6EB-5897-4122-800E-4178E3D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527-155F-4FC5-A3FB-8BB3792B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FEC-B55B-4AD5-A957-846AC42D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408-9951-4379-AEF9-EFCF96B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8FD-BD4E-431F-8E35-399C37DD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141-9F64-4DB2-B142-688107F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FD8-23AC-4E91-9AC6-5139261DE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pct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4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35.pct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7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0.pct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4.pct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6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7.pct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pct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3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5.pct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0.pct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9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1.pct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4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0.pct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6.pct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8.pct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1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72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73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74.pct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ct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8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79.pct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1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82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83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84.pct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86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4.pct"/><Relationship Id="rId9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8.pct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.pct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1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1, Part 2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28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ate of Cres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esol --&gt; methylphenylperoxy radical and nitrocreso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600200"/>
          <a:ext cx="7824600" cy="45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82460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soprene Reaction With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49120" y="1285920"/>
          <a:ext cx="8666280" cy="47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285920"/>
                    <a:ext cx="866628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6248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All six products convert NO to N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ate of Isoprene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acrolein production via second produ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ylvinylketone production via fifth produ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600200"/>
          <a:ext cx="7721640" cy="19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72164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09480" y="4343400"/>
          <a:ext cx="7794720" cy="213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7794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soprene Reaction With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984240"/>
          <a:ext cx="6764400" cy="587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84240"/>
                    <a:ext cx="676440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coho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anol oxidation by OH (36-h lifetime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2514600"/>
          <a:ext cx="7696080" cy="299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14600"/>
                    <a:ext cx="76960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coho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hanol oxidation by OH (10-h lifetime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828800"/>
          <a:ext cx="7934400" cy="46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9344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arbon Bond Lu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 marL="37440" indent="-3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ganic gases lumped into surrog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 (paraffins)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ngle carbon atoms with a single-bond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LE (olefins)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erminal carbon atom pair with a double-bond between the two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D2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on-terminal carbon atom pairs with a double bond attached to one of the carbons and terminal two-carbon carbonyl groups [C-C(=O)H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T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ngle carbon ketone groups (C=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L (toluene)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7-carbon aro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YL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xylene)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8-carbon aro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OP (isoprene)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erp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R --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Unre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arbon Bond Lu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7840" y="6473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67280" y="990720"/>
          <a:ext cx="1909800" cy="133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990720"/>
                    <a:ext cx="190980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3920" y="1447920"/>
            <a:ext cx="3737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hane : 0.4 PAR + 1.6 U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0" y="3200400"/>
            <a:ext cx="235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Butane : 4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666880"/>
          <a:ext cx="2943000" cy="134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666880"/>
                    <a:ext cx="29430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410080" y="4419720"/>
          <a:ext cx="3006720" cy="140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4419720"/>
                    <a:ext cx="30067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59600" y="4952880"/>
            <a:ext cx="4121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,2,4-Trimethylpentane : 8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arbon Bond Lu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67840" y="63244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840" y="1523880"/>
            <a:ext cx="330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ra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-butene : 2 AL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920" y="3276720"/>
            <a:ext cx="3382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ene : 1 PAR + 1 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840" y="4952880"/>
            <a:ext cx="463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ionaldehyde : 1 PAR + 1 AL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86400" y="1066680"/>
          <a:ext cx="2943360" cy="134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066680"/>
                    <a:ext cx="29433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867280" y="2895480"/>
          <a:ext cx="1846440" cy="1114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895480"/>
                    <a:ext cx="1846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5880" y="4648320"/>
          <a:ext cx="1719360" cy="1054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648320"/>
                    <a:ext cx="17193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arbon Bond Lu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840" y="6473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0" y="1676520"/>
            <a:ext cx="4347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nzaldehyde : 1 ALD2 + 5 U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181480"/>
            <a:ext cx="5349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,2,3-Trimethylbenzene : 1 PAR + 1 X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086600" y="990720"/>
          <a:ext cx="1393920" cy="184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990720"/>
                    <a:ext cx="139392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486400" y="2286000"/>
          <a:ext cx="1494000" cy="2095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286000"/>
                    <a:ext cx="14940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858000" y="4191120"/>
          <a:ext cx="1935000" cy="1904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191120"/>
                    <a:ext cx="19350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61760" y="3429000"/>
            <a:ext cx="4044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hylbenzene : 1 PAR + 1 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kene Reaction With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hen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320" y="1625760"/>
          <a:ext cx="897732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25760"/>
                    <a:ext cx="897732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ertical Profile of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47920" y="1036800"/>
          <a:ext cx="5715000" cy="527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36800"/>
                    <a:ext cx="571500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752480" y="1981080"/>
            <a:ext cx="304920" cy="296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827280" y="3208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Altitude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lumn Abundance of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393920"/>
          <a:ext cx="830556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93920"/>
                    <a:ext cx="83055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ratospher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zone mixing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tratosphere          ≈ 10 pp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ree troposphere   ≈ 40 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urban air               ≈ 0.05 - 0.3 pp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zone production in the stra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ygen photoly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4419720"/>
          <a:ext cx="7237440" cy="57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419720"/>
                    <a:ext cx="72374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41320" y="5334120"/>
          <a:ext cx="7997760" cy="57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34120"/>
                    <a:ext cx="79977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ratospher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ozone form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zone photoly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0400" y="1600200"/>
          <a:ext cx="2855880" cy="73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00200"/>
                    <a:ext cx="28558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720880" y="2751120"/>
          <a:ext cx="4060800" cy="60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0880" y="275112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066680" y="4168800"/>
          <a:ext cx="723744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168800"/>
                    <a:ext cx="72374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143000" y="5562720"/>
          <a:ext cx="7237440" cy="63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562720"/>
                    <a:ext cx="72374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tural Ozone Destruction by NO</a:t>
            </a:r>
            <a:r>
              <a:rPr b="1" i="1" lang="en-US" sz="40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ous oxide reaction: 10% of 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 destru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ous oxide photolysis: 90% of 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 destru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752480"/>
          <a:ext cx="6883560" cy="19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688356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4920" y="4724280"/>
          <a:ext cx="8391240" cy="677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724280"/>
                    <a:ext cx="83912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tural Ozone Destruction by NO</a:t>
            </a:r>
            <a:r>
              <a:rPr b="1" i="1" lang="en-US" sz="40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catalytically destroys ozone in upper stratosp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05120" y="2057400"/>
          <a:ext cx="5613120" cy="8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5613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905120" y="3657600"/>
          <a:ext cx="5375160" cy="946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657600"/>
                    <a:ext cx="53751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514600" y="5334120"/>
          <a:ext cx="4013280" cy="887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5334120"/>
                    <a:ext cx="4013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057400" y="502920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tural Ozone Destruction by HO</a:t>
            </a:r>
            <a:r>
              <a:rPr b="1" i="1" lang="en-US" sz="40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xyl radical formation in stratosp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90720" y="2057400"/>
          <a:ext cx="719460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1946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tural Ozone Destruction by HO</a:t>
            </a:r>
            <a:r>
              <a:rPr b="1" i="1" lang="en-US" sz="40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OH catalytically destroys ozone in lower stratosp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21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4267080"/>
            <a:ext cx="5486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52480" y="1981080"/>
          <a:ext cx="5613480" cy="8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6134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905120" y="3124080"/>
          <a:ext cx="5502240" cy="88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124080"/>
                    <a:ext cx="55022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124080" y="4648320"/>
          <a:ext cx="3198960" cy="627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648320"/>
                    <a:ext cx="3198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moval of HO</a:t>
            </a:r>
            <a:r>
              <a:rPr b="1" i="1" lang="en-US" sz="40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and NO</a:t>
            </a:r>
            <a:r>
              <a:rPr b="1" i="1" lang="en-US" sz="40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00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638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itric acid and peroxynitric acid photolysis ar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14600" y="1371600"/>
          <a:ext cx="355752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371600"/>
                    <a:ext cx="35575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14600" y="2743200"/>
          <a:ext cx="3718080" cy="66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743200"/>
                    <a:ext cx="3718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514600" y="4114800"/>
          <a:ext cx="390852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14800"/>
                    <a:ext cx="39085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ratospheric Source of Water Vap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3880" y="3048120"/>
          <a:ext cx="5878800" cy="88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48120"/>
                    <a:ext cx="5878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kene Reaction With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iegee biradical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cited criegee biradical decomposi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752480"/>
          <a:ext cx="4467240" cy="15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752480"/>
                    <a:ext cx="446724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09480" y="4267080"/>
          <a:ext cx="7921800" cy="2181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267080"/>
                    <a:ext cx="7921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nges in Monthly-Averaged Global Ozone From 1979-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45240" y="617220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14400" y="1593720"/>
          <a:ext cx="7010280" cy="48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93720"/>
                    <a:ext cx="70102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914400" y="1523880"/>
            <a:ext cx="83808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-857520" y="3106440"/>
            <a:ext cx="43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ff"/>
                </a:solidFill>
                <a:latin typeface="Times New Roman"/>
              </a:rPr>
              <a:t>Percent difference in global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ff"/>
                </a:solidFill>
                <a:latin typeface="Times New Roman"/>
              </a:rPr>
              <a:t>from 1979 monthly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riation with Latitude of October Zonally-Averaged Ozone in ‘79, ‘99, ‘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14400" y="1600200"/>
          <a:ext cx="6934320" cy="47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693432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838080" y="1905120"/>
            <a:ext cx="4572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-445320" y="32320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ff"/>
                </a:solidFill>
                <a:latin typeface="Times New Roman"/>
              </a:rPr>
              <a:t>Ozone (Dobson un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riation with Altitude of CFCs and Other Chlorinated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63840" y="1371600"/>
          <a:ext cx="4989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1371600"/>
                    <a:ext cx="4989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676520" y="205740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903600" y="3208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ff"/>
                </a:solidFill>
                <a:latin typeface="Times New Roman"/>
              </a:rPr>
              <a:t>Altitude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riations With Altitude of CFCs and Other Chlorinated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523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otolysis of chlorinated compounds above 20 k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2141640"/>
          <a:ext cx="8790120" cy="13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41640"/>
                    <a:ext cx="87901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25280" y="4419720"/>
          <a:ext cx="8790120" cy="1393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80" y="4419720"/>
                    <a:ext cx="879012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tural Sources of Chlo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523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yl chloride photoly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yl chloride scavenging by hydroxyl radic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84120" y="2133720"/>
          <a:ext cx="8379000" cy="129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133720"/>
                    <a:ext cx="837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209680" y="4495680"/>
          <a:ext cx="4600800" cy="16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95680"/>
                    <a:ext cx="4600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lorine Emission to Strat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1720" y="6248520"/>
            <a:ext cx="1849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WMO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066680"/>
            <a:ext cx="7010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Chemical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Percent emission to stra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hropogen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FC-12 (CF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FC-11 (CFCl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rbon tetrachloride (CCl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thyl chloroform(C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Cl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FC-113 (CFCl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F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CFC-22 (CF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H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ura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thyl chloride (CH3Cl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Hydrochloric acid (HCl)</a:t>
            </a:r>
            <a:r>
              <a:rPr b="0" lang="en-US" sz="2400" spc="-1" strike="noStrike" u="sng">
                <a:solidFill>
                  <a:srgbClr val="ff0707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0707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0707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20" indent="-6012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zone Destruction by Chlo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lorine catalytic ozone destruction cyc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464832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828800" y="1828800"/>
          <a:ext cx="5538960" cy="8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538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981080" y="3200400"/>
          <a:ext cx="5018040" cy="88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200400"/>
                    <a:ext cx="5018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590920" y="4800600"/>
          <a:ext cx="4012920" cy="887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800600"/>
                    <a:ext cx="4012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80880" y="5943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nly 1% of chlorine is typically active as Cl or 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version of Active Chlorine to Reservo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sion of Cl and Cl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057400" y="1676520"/>
          <a:ext cx="4730760" cy="26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473076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133720" y="4572000"/>
          <a:ext cx="5172120" cy="1873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572000"/>
                    <a:ext cx="517212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version of Reservoirs to Active Chlo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Cl reservoir lea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O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servoir l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295280" y="1676520"/>
          <a:ext cx="6475680" cy="20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47568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320" y="4419720"/>
          <a:ext cx="8950320" cy="2003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419720"/>
                    <a:ext cx="895032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zone Destruction by Bro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Br  = methyl bromide (produced biogenically in the oceans and anthropogenically as soil fumig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otolysis of methyl  above 20 k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28600" y="3733920"/>
          <a:ext cx="8766000" cy="135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87660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kene Reaction With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en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41360" y="1066680"/>
          <a:ext cx="8245440" cy="58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66680"/>
                    <a:ext cx="8245440" cy="58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zone Destruction by Bro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2193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talytic ozone destruction by bromin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38-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4648320"/>
            <a:ext cx="5105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52480" y="1905120"/>
          <a:ext cx="5538960" cy="88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553896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828800" y="3429000"/>
          <a:ext cx="4927680" cy="885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429000"/>
                    <a:ext cx="49276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514600" y="5029200"/>
          <a:ext cx="3949560" cy="884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5029200"/>
                    <a:ext cx="39495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version of Active Bromine to Reservo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sion of Br and Br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066680" y="1752480"/>
          <a:ext cx="639936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39936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066680" y="4038480"/>
          <a:ext cx="7285320" cy="26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038480"/>
                    <a:ext cx="72853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version of Reservoirs to Active Bro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Br and BrO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servoir lea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362320" y="2286000"/>
          <a:ext cx="406080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0"/>
                    <a:ext cx="40608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93680" y="3657600"/>
          <a:ext cx="8950320" cy="196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680" y="3657600"/>
                    <a:ext cx="89503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nge in Size of Antarctic Ozone H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403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914400" y="1233360"/>
          <a:ext cx="7391520" cy="51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33360"/>
                    <a:ext cx="739152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914400" y="1676520"/>
            <a:ext cx="457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-1116000" y="32263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Ozone minimum  (Dobson un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772400" y="1447920"/>
            <a:ext cx="5335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5400000">
            <a:off x="6435000" y="3209040"/>
            <a:ext cx="33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Ozone hole area (10</a:t>
            </a:r>
            <a:r>
              <a:rPr b="0" lang="en-US" sz="2400" spc="-1" strike="noStrike" baseline="30000">
                <a:solidFill>
                  <a:srgbClr val="ff0707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 km</a:t>
            </a:r>
            <a:r>
              <a:rPr b="0" lang="en-US" sz="2400" spc="-1" strike="noStrike" baseline="30000">
                <a:solidFill>
                  <a:srgbClr val="ff070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lar Stratospheric Cloud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 I Polar Stratospheric Clouds (PS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itric acid an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emperature of formation &lt; 195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ameter ≈ 0.01 - 3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umber concentration  ≈ 1 particle cm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 II Polar Stratospheric 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ater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emperature of formation &lt; 187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 algn="just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ameter ≈ 1 - 100 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number concentration  ≈  0.1 particle cm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lar Stratospheric Cloud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actions on Polar Stratospheric Cloud Surfac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45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219320" y="2133720"/>
          <a:ext cx="653544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6535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219320" y="3048120"/>
          <a:ext cx="641340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048120"/>
                    <a:ext cx="6413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295280" y="3962520"/>
          <a:ext cx="520236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962520"/>
                    <a:ext cx="5202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219320" y="4876920"/>
          <a:ext cx="6603840" cy="438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876920"/>
                    <a:ext cx="66038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295280" y="5791320"/>
          <a:ext cx="6002280" cy="4381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791320"/>
                    <a:ext cx="600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rface Reaction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-order rate coefficient (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3276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al speed of impinging gas (cm 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505320" y="1905120"/>
          <a:ext cx="203184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05120"/>
                    <a:ext cx="20318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657600" y="4191120"/>
          <a:ext cx="174636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191120"/>
                    <a:ext cx="17463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action Prob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392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1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ractional loss of a species from the gas phase due to reaction with a particle surface. Accounts for diffusion of the gas to the surface and reaction with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2286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Reac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eaction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Type I PSC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Type II P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ONO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g) + 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(a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001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ONO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g) + HCl(a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1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g) + 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(a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0003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g) + HCl(a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003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Cl(g) + HCl(a)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1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707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lar Ozone De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HOCl photolysis in early spr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61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lorine nitrite photolysis in early spr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762120" y="1828800"/>
          <a:ext cx="7751520" cy="76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7515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762120" y="3048120"/>
          <a:ext cx="7642080" cy="680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7642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762120" y="4952880"/>
          <a:ext cx="7715160" cy="720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771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lar Ozone De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talytic ozone destruction by dimer mechanis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6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5486400"/>
            <a:ext cx="655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676520" y="1600200"/>
          <a:ext cx="5886360" cy="76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588636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2514600" y="2666880"/>
          <a:ext cx="4095720" cy="808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666880"/>
                    <a:ext cx="40957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80880" y="3581280"/>
          <a:ext cx="8556840" cy="687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581280"/>
                    <a:ext cx="85568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2743200" y="4572000"/>
          <a:ext cx="3940200" cy="762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572000"/>
                    <a:ext cx="3940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3048120" y="5791320"/>
          <a:ext cx="2724120" cy="5331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5791320"/>
                    <a:ext cx="2724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kene Reaction With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ylcriegee biradical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cited methylcriegee biradical decomposi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09680" y="1371600"/>
          <a:ext cx="4427640" cy="18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442764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520" y="4191120"/>
          <a:ext cx="7889760" cy="218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91120"/>
                    <a:ext cx="7889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lar Ozone De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econd catalytic cycle that involves bromin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69-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5029200"/>
            <a:ext cx="655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52480" y="1600200"/>
          <a:ext cx="5613480" cy="8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6134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828800" y="2743200"/>
          <a:ext cx="5613480" cy="88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743200"/>
                    <a:ext cx="56134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1447920" y="4114800"/>
          <a:ext cx="6718320" cy="838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114800"/>
                    <a:ext cx="6718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3124080" y="5562720"/>
          <a:ext cx="3198960" cy="627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5562720"/>
                    <a:ext cx="3198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version of Cl Reservoirs to Active 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403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80880" y="1801800"/>
          <a:ext cx="6705720" cy="37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01800"/>
                    <a:ext cx="670572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952880" y="1905120"/>
          <a:ext cx="6553440" cy="36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655344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zone Re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240320" y="6095880"/>
            <a:ext cx="14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ange in globally-averaged ozone column abundance during two global model simulations in which all ozone was initially removed and chlorine was present and absent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4400" y="2057400"/>
          <a:ext cx="6477120" cy="44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647712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609480" y="2209680"/>
            <a:ext cx="1063800" cy="432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-826560" y="3476520"/>
            <a:ext cx="38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ff"/>
                </a:solidFill>
                <a:latin typeface="Times New Roman"/>
              </a:rPr>
              <a:t>Average global ozon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ff"/>
                </a:solidFill>
                <a:latin typeface="Times New Roman"/>
              </a:rPr>
              <a:t>(Dobson un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generation of Ozone Vertical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9144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-evolution of modeled profile of ozone (a) mixing ratio and (b) number concentration at 34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N latitude, starting with zero o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80880" y="1752480"/>
            <a:ext cx="3961080" cy="4572000"/>
            <a:chOff x="380880" y="1752480"/>
            <a:chExt cx="3961080" cy="4572000"/>
          </a:xfrm>
        </p:grpSpPr>
        <p:graphicFrame>
          <p:nvGraphicFramePr>
            <p:cNvPr id="392" name=""/>
            <p:cNvGraphicFramePr/>
            <p:nvPr/>
          </p:nvGraphicFramePr>
          <p:xfrm>
            <a:off x="457200" y="1752480"/>
            <a:ext cx="3884760" cy="4572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752480"/>
                      <a:ext cx="388476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4" name=""/>
            <p:cNvSpPr/>
            <p:nvPr/>
          </p:nvSpPr>
          <p:spPr>
            <a:xfrm>
              <a:off x="609480" y="2286000"/>
              <a:ext cx="304920" cy="296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315360" y="350244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707"/>
                  </a:solidFill>
                  <a:latin typeface="Times New Roman"/>
                </a:rPr>
                <a:t>Altitude (k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800600" y="1752480"/>
            <a:ext cx="3942000" cy="4958280"/>
            <a:chOff x="4800600" y="1752480"/>
            <a:chExt cx="3942000" cy="4958280"/>
          </a:xfrm>
        </p:grpSpPr>
        <p:sp>
          <p:nvSpPr>
            <p:cNvPr id="397" name=""/>
            <p:cNvSpPr/>
            <p:nvPr/>
          </p:nvSpPr>
          <p:spPr>
            <a:xfrm>
              <a:off x="7316640" y="6324480"/>
              <a:ext cx="14259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11.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8" name=""/>
            <p:cNvGraphicFramePr/>
            <p:nvPr/>
          </p:nvGraphicFramePr>
          <p:xfrm>
            <a:off x="4800600" y="1752480"/>
            <a:ext cx="3755880" cy="44197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1752480"/>
                      <a:ext cx="375588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"/>
            <p:cNvSpPr/>
            <p:nvPr/>
          </p:nvSpPr>
          <p:spPr>
            <a:xfrm>
              <a:off x="4952880" y="2209680"/>
              <a:ext cx="304920" cy="296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4104000" y="351360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707"/>
                  </a:solidFill>
                  <a:latin typeface="Times New Roman"/>
                </a:rPr>
                <a:t>Altitude (k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kene Reaction With Nit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hene --&gt; nitrated organic radica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ene --&gt; nitrated organic radica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240" y="1447920"/>
          <a:ext cx="8619840" cy="182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447920"/>
                    <a:ext cx="861984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14280" y="4267080"/>
          <a:ext cx="8601120" cy="1873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4267080"/>
                    <a:ext cx="860112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omatic Reaction With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luene oxid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07920" y="1109520"/>
          <a:ext cx="7321680" cy="56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109520"/>
                    <a:ext cx="732168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omatic Reaction With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nzylperoxy radical reaction with N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1447920"/>
          <a:ext cx="692928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2928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omatic Rxn With Hydroxyl Rad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52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luene-hydroxyl radical adduct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52480" y="2286000"/>
          <a:ext cx="5869080" cy="28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8690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20:39:40Z</dcterms:modified>
  <cp:revision>569</cp:revision>
  <dc:subject/>
  <dc:title>Slide 1</dc:title>
</cp:coreProperties>
</file>