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6.pct" ContentType="image/x-pict"/>
  <Override PartName="/ppt/media/image125.pct" ContentType="image/x-pict"/>
  <Override PartName="/ppt/media/image124.pct" ContentType="image/x-pict"/>
  <Override PartName="/ppt/media/image123.pct" ContentType="image/x-pict"/>
  <Override PartName="/ppt/media/image122.pct" ContentType="image/x-pict"/>
  <Override PartName="/ppt/media/image121.pct" ContentType="image/x-pict"/>
  <Override PartName="/ppt/media/image116.pct" ContentType="image/x-pict"/>
  <Override PartName="/ppt/media/image115.pct" ContentType="image/x-pict"/>
  <Override PartName="/ppt/media/image114.pct" ContentType="image/x-pict"/>
  <Override PartName="/ppt/media/image113.pct" ContentType="image/x-pict"/>
  <Override PartName="/ppt/media/image3.pct" ContentType="image/x-pict"/>
  <Override PartName="/ppt/media/image33.pct" ContentType="image/x-pict"/>
  <Override PartName="/ppt/media/image4.pct" ContentType="image/x-pict"/>
  <Override PartName="/ppt/media/image34.pct" ContentType="image/x-pict"/>
  <Override PartName="/ppt/media/image5.pct" ContentType="image/x-pict"/>
  <Override PartName="/ppt/media/image35.pct" ContentType="image/x-pict"/>
  <Override PartName="/ppt/media/image107.pct" ContentType="image/x-pict"/>
  <Override PartName="/ppt/media/image10.pct" ContentType="image/x-pict"/>
  <Override PartName="/ppt/media/image6.pct" ContentType="image/x-pict"/>
  <Override PartName="/ppt/media/image15.pct" ContentType="image/x-pict"/>
  <Override PartName="/ppt/media/image83.pct" ContentType="image/x-pict"/>
  <Override PartName="/ppt/media/image18.pct" ContentType="image/x-pict"/>
  <Override PartName="/ppt/media/image86.pct" ContentType="image/x-pict"/>
  <Override PartName="/ppt/media/image36.pct" ContentType="image/x-pict"/>
  <Override PartName="/ppt/media/image108.pct" ContentType="image/x-pict"/>
  <Override PartName="/ppt/media/image11.pct" ContentType="image/x-pict"/>
  <Override PartName="/ppt/media/image7.pct" ContentType="image/x-pict"/>
  <Override PartName="/ppt/media/image16.pct" ContentType="image/x-pict"/>
  <Override PartName="/ppt/media/image84.pct" ContentType="image/x-pict"/>
  <Override PartName="/ppt/media/image37.pct" ContentType="image/x-pict"/>
  <Override PartName="/ppt/media/image109.pct" ContentType="image/x-pict"/>
  <Override PartName="/ppt/media/image80.pct" ContentType="image/x-pict"/>
  <Override PartName="/ppt/media/image12.pct" ContentType="image/x-pict"/>
  <Override PartName="/ppt/media/image56.pct" ContentType="image/x-pict"/>
  <Override PartName="/ppt/media/image54.pct" ContentType="image/x-pict"/>
  <Override PartName="/ppt/media/image128.pct" ContentType="image/x-pict"/>
  <Override PartName="/ppt/media/image9.pct" ContentType="image/x-pict"/>
  <Override PartName="/ppt/media/image31.pct" ContentType="image/x-pict"/>
  <Override PartName="/ppt/media/image55.pct" ContentType="image/x-pict"/>
  <Override PartName="/ppt/media/image17.pct" ContentType="image/x-pict"/>
  <Override PartName="/ppt/media/image85.pct" ContentType="image/x-pict"/>
  <Override PartName="/ppt/media/image129.pct" ContentType="image/x-pict"/>
  <Override PartName="/ppt/media/image32.pct" ContentType="image/x-pict"/>
  <Override PartName="/ppt/media/image40.pct" ContentType="image/x-pict"/>
  <Override PartName="/ppt/media/image137.pct" ContentType="image/x-pict"/>
  <Override PartName="/ppt/media/image38.pct" ContentType="image/x-pict"/>
  <Override PartName="/ppt/media/image47.pct" ContentType="image/x-pict"/>
  <Override PartName="/ppt/media/image133.pct" ContentType="image/x-pict"/>
  <Override PartName="/ppt/media/image41.pct" ContentType="image/x-pict"/>
  <Override PartName="/ppt/media/image39.pct" ContentType="image/x-pict"/>
  <Override PartName="/ppt/media/image48.pct" ContentType="image/x-pict"/>
  <Override PartName="/ppt/media/image134.pct" ContentType="image/x-pict"/>
  <Override PartName="/ppt/media/image42.pct" ContentType="image/x-pict"/>
  <Override PartName="/ppt/media/image49.pct" ContentType="image/x-pict"/>
  <Override PartName="/ppt/media/image100.pct" ContentType="image/x-pict"/>
  <Override PartName="/ppt/media/image135.pct" ContentType="image/x-pict"/>
  <Override PartName="/ppt/media/image43.pct" ContentType="image/x-pict"/>
  <Override PartName="/ppt/media/image81.pct" ContentType="image/x-pict"/>
  <Override PartName="/ppt/media/image13.pct" ContentType="image/x-pict"/>
  <Override PartName="/ppt/media/image1.pct" ContentType="image/x-pict"/>
  <Override PartName="/ppt/media/image136.pct" ContentType="image/x-pict"/>
  <Override PartName="/ppt/media/image130.pct" ContentType="image/x-pict"/>
  <Override PartName="/ppt/media/image79.pct" ContentType="image/x-pict"/>
  <Override PartName="/ppt/media/image44.pct" ContentType="image/x-pict"/>
  <Override PartName="/ppt/media/image131.pct" ContentType="image/x-pict"/>
  <Override PartName="/ppt/media/image45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132.pct" ContentType="image/x-pict"/>
  <Override PartName="/ppt/media/image46.pct" ContentType="image/x-pict"/>
  <Override PartName="/ppt/media/image127.pct" ContentType="image/x-pict"/>
  <Override PartName="/ppt/media/image8.pct" ContentType="image/x-pict"/>
  <Override PartName="/ppt/media/image30.pct" ContentType="image/x-pict"/>
  <Override PartName="/ppt/media/image94.pct" ContentType="image/x-pict"/>
  <Override PartName="/ppt/media/image26.pct" ContentType="image/x-pict"/>
  <Override PartName="/ppt/media/image2.pct" ContentType="image/x-pict"/>
  <Override PartName="/ppt/media/image82.pct" ContentType="image/x-pict"/>
  <Override PartName="/ppt/media/image14.pct" ContentType="image/x-pict"/>
  <Override PartName="/ppt/media/image93.pct" ContentType="image/x-pict"/>
  <Override PartName="/ppt/media/image25.pct" ContentType="image/x-pict"/>
  <Override PartName="/ppt/media/image92.pct" ContentType="image/x-pict"/>
  <Override PartName="/ppt/media/image24.pct" ContentType="image/x-pict"/>
  <Override PartName="/ppt/media/image57.pct" ContentType="image/x-pict"/>
  <Override PartName="/ppt/media/image20.pct" ContentType="image/x-pict"/>
  <Override PartName="/ppt/media/image117.pct" ContentType="image/x-pict"/>
  <Override PartName="/ppt/media/image58.pct" ContentType="image/x-pict"/>
  <Override PartName="/ppt/media/image21.pct" ContentType="image/x-pict"/>
  <Override PartName="/ppt/media/image118.pct" ContentType="image/x-pict"/>
  <Override PartName="/ppt/media/image59.pct" ContentType="image/x-pict"/>
  <Override PartName="/ppt/media/image110.pct" ContentType="image/x-pict"/>
  <Override PartName="/ppt/media/image90.pct" ContentType="image/x-pict"/>
  <Override PartName="/ppt/media/image22.pct" ContentType="image/x-pict"/>
  <Override PartName="/ppt/media/image119.pct" ContentType="image/x-pict"/>
  <Override PartName="/ppt/media/image91.pct" ContentType="image/x-pict"/>
  <Override PartName="/ppt/media/image23.pct" ContentType="image/x-pict"/>
  <Override PartName="/ppt/media/image60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69.pct" ContentType="image/x-pict"/>
  <Override PartName="/ppt/media/image120.pct" ContentType="image/x-pict"/>
  <Override PartName="/ppt/media/image70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19.pct" ContentType="image/x-pict"/>
  <Override PartName="/ppt/media/image87.pct" ContentType="image/x-pict"/>
  <Override PartName="/ppt/media/image88.pct" ContentType="image/x-pict"/>
  <Override PartName="/ppt/media/image89.pct" ContentType="image/x-pict"/>
  <Override PartName="/ppt/media/image27.pct" ContentType="image/x-pict"/>
  <Override PartName="/ppt/media/image95.pct" ContentType="image/x-pict"/>
  <Override PartName="/ppt/media/image28.pct" ContentType="image/x-pict"/>
  <Override PartName="/ppt/media/image96.pct" ContentType="image/x-pict"/>
  <Override PartName="/ppt/media/image29.pct" ContentType="image/x-pict"/>
  <Override PartName="/ppt/media/image97.pct" ContentType="image/x-pict"/>
  <Override PartName="/ppt/media/image98.pct" ContentType="image/x-pict"/>
  <Override PartName="/ppt/media/image99.pct" ContentType="image/x-pict"/>
  <Override PartName="/ppt/media/image101.pct" ContentType="image/x-pict"/>
  <Override PartName="/ppt/media/image102.pct" ContentType="image/x-pict"/>
  <Override PartName="/ppt/media/image103.pct" ContentType="image/x-pict"/>
  <Override PartName="/ppt/media/image104.pct" ContentType="image/x-pict"/>
  <Override PartName="/ppt/media/image105.pct" ContentType="image/x-pict"/>
  <Override PartName="/ppt/media/image106.pct" ContentType="image/x-pict"/>
  <Override PartName="/ppt/media/image111.pct" ContentType="image/x-pict"/>
  <Override PartName="/ppt/media/image112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80D-4D8B-405C-80B8-70095386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A7C-A354-4F82-B1F5-F7E0FC34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3BE-D0D9-4429-90DF-EE0C83FA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446-D907-4C31-B0DD-2ABD42E4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668-14FC-47AF-845E-E216E7F5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26B-010D-4D7F-9362-E9971D0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C28-000A-43B5-99ED-1FA52AC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0B1-E588-475E-BB43-92CCE35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6EA-E9D4-44B9-84C3-2CB5F53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B64-18E9-4CDE-B288-56D495C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95-9D43-43FD-96C0-DD0D71E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85D-7135-4AF3-91A1-6BDA1D6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14A3-555E-49A2-8EB0-F901348E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ct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ct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ct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ct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pct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pct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pct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pct"/><Relationship Id="rId2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ct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pct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ct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0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ct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5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pct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pct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pct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pct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pct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pct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pct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pct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pct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pct"/><Relationship Id="rId7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pct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2.pct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pct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pct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5.pct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6.pct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pct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9.pct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0.pct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3.pct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pct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pct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ct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ct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8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oup of eddies of different size. Eddies range in size from a couple of millimeters to the size of the boundary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urbulence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t kinetic energy (T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n kinetic energy per unit mass associated with eddies in turbul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ipatio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version of turbulence into heat by molecular visc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ertial cascad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crease in eddy size from large eddy to small eddy to zero due to diss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lmogorov sca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urbulenc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ynolds-avera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olution greater than a few hundred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o not resolve large or small e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rge-eddy simulation mode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olution between a few meters and a few hundred meters Resolve large eddies but not small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numerical simulation mode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olution on the order of the Kolmogorov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olve all e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1371600"/>
          <a:ext cx="190188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371600"/>
                    <a:ext cx="190188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aerodynamic formul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6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Diffusion coefficient account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kin drag: drag from molecular diffusion of air a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m drag: drag arising when wind hits larg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ve drag: drag from momentum transfer due to gravit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inematic Vertical Momentum Fl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828800" y="3505320"/>
          <a:ext cx="51418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505320"/>
                    <a:ext cx="5141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05120" y="4648320"/>
          <a:ext cx="51102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51102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inematic Vertical Momentum Fl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133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theor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19520" y="2438280"/>
          <a:ext cx="2824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38280"/>
                    <a:ext cx="2824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5029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dy diffusion coef. in terms of bulk aero. formul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 speed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819520" y="3809880"/>
          <a:ext cx="288756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809880"/>
                    <a:ext cx="28875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828800" y="5638680"/>
          <a:ext cx="520524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638680"/>
                    <a:ext cx="52052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905120" y="1523880"/>
          <a:ext cx="514188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1523880"/>
                    <a:ext cx="5141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aerodynamic formula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inematic Vertical Energy Fl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133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theor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029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dy diffusion coef. in terms of bulk aero. formula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429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virtual temperature gradi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aerodynamic formula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523880"/>
          <a:ext cx="54910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4910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43200" y="2438280"/>
          <a:ext cx="29829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438280"/>
                    <a:ext cx="2982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666880" y="3809880"/>
          <a:ext cx="330048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809880"/>
                    <a:ext cx="33004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286000" y="5638680"/>
          <a:ext cx="390384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38680"/>
                    <a:ext cx="39038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ertical Turbulent Moisture Fl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aero. kinematic vertical turbulent moisture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-&gt; 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z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,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52480" y="1981080"/>
          <a:ext cx="54594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59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ilarity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990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s are first combined into a dimensionless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riment are conducted to obtain values for each variable in the group in relation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dimensionless group, as a whole, is then fitted, as a function of some parameter, with an empirical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experiment is repeated. Usually, equations obtained from later experiments are similar to those from the first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relationship between the dimensionless group and the empirical equation is 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milarity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ilarity theory applied to the surface layer is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nin-Obukho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urface-layer similarity theo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ilarity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wind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029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8.28) fro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286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wind shear from field dat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05320" y="1371600"/>
          <a:ext cx="20001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371600"/>
                    <a:ext cx="2000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38080" y="2514600"/>
          <a:ext cx="613440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61344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352680" y="5460840"/>
          <a:ext cx="2349720" cy="13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5460840"/>
                    <a:ext cx="2349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gral of Dimensionless Wind 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l of the dimensionless wind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1371600"/>
          <a:ext cx="17528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7528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85800" y="2209680"/>
          <a:ext cx="8218440" cy="450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209680"/>
                    <a:ext cx="82184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nin-Obukhov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eight proportional to the height above the surface at which buoyant production of turbulence first equals mechanical (shear) production of turbule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 vertical energy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666880" y="2133720"/>
          <a:ext cx="333216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33720"/>
                    <a:ext cx="33321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505320" y="4495680"/>
          <a:ext cx="222228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495680"/>
                    <a:ext cx="2222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ce per unit area (e.g. N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r 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ynolds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ynolds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tress that causes a parcel of air to deform during turbulent motion of air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ig. 8.1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ormation by vertical momentum fl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76920" y="3657600"/>
          <a:ext cx="4267080" cy="26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42670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629400" y="2971800"/>
          <a:ext cx="66672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971800"/>
                    <a:ext cx="6667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73392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ess from vertical transfer of turbule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momentum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4648320"/>
          <a:ext cx="199224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19922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5562720"/>
            <a:ext cx="419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stress acting i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direction, along a plane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normal to th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tential Temperature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temperature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666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meterization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76720" y="1447920"/>
          <a:ext cx="187308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47920"/>
                    <a:ext cx="1873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9480" y="3352680"/>
          <a:ext cx="6608880" cy="276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352680"/>
                    <a:ext cx="66088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tential Temperature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t Prandt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9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8.23) fro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81280" y="2209680"/>
          <a:ext cx="1714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209680"/>
                    <a:ext cx="1714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724280" y="4572000"/>
          <a:ext cx="33958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572000"/>
                    <a:ext cx="33958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66680" y="4800600"/>
          <a:ext cx="187344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800600"/>
                    <a:ext cx="18734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gral of Dimensionless Temp. Gr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l of dimensionless temperature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428840"/>
          <a:ext cx="17780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8840"/>
                    <a:ext cx="17780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20640" y="2519280"/>
          <a:ext cx="8218440" cy="411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2519280"/>
                    <a:ext cx="82184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tions to Solve Simultaneou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requires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438280" y="3962520"/>
          <a:ext cx="339588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962520"/>
                    <a:ext cx="33958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495680" y="2057400"/>
          <a:ext cx="33321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057400"/>
                    <a:ext cx="33321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066680" y="1981080"/>
          <a:ext cx="2349720" cy="13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2349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oniterative Param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iction wind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819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temperature sca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19520" y="1447920"/>
          <a:ext cx="3046320" cy="11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447920"/>
                    <a:ext cx="304632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981080" y="3429000"/>
          <a:ext cx="495144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49514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le Param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temperature sca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98560" y="1523880"/>
          <a:ext cx="8093160" cy="43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523880"/>
                    <a:ext cx="809316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ulk Richardson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tio of buoyancy to mechanical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47920" y="2133720"/>
          <a:ext cx="5713200" cy="14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713200" cy="14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radient Richardson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43200" y="838080"/>
          <a:ext cx="308124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838080"/>
                    <a:ext cx="30812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80880" y="2743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able 8.2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Vertical air flow characteristics for different R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R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3276720"/>
          <a:ext cx="8458200" cy="3008160"/>
        </p:xfrm>
        <a:graphic>
          <a:graphicData uri="http://schemas.openxmlformats.org/drawingml/2006/table">
            <a:tbl>
              <a:tblPr/>
              <a:tblGrid>
                <a:gridCol w="2190960"/>
                <a:gridCol w="1568520"/>
                <a:gridCol w="286992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lue of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</a:t>
                      </a:r>
                      <a:r>
                        <a:rPr b="0" i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or Ri</a:t>
                      </a:r>
                      <a:r>
                        <a:rPr b="0" i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ype of 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evel of Turbulence Due to Buoy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evel of Turbulence Due to S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rge, 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urbu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all,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urbu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all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urbu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None (weak stab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rge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ami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None (strong stab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radient Richardson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743200" y="1143000"/>
          <a:ext cx="308124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30812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33520" y="3429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aminar flow becomes turbulent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decreases to less than the critical Richardson number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724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urbulent flow becomes laminar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ncrease to greater than the termination Richardson number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=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ilarity Theory Turbulent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905120" y="3352680"/>
          <a:ext cx="51418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141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590920" y="1752480"/>
          <a:ext cx="356544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752480"/>
                    <a:ext cx="356544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666880" y="5562720"/>
          <a:ext cx="333216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562720"/>
                    <a:ext cx="33321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124080" y="4572000"/>
          <a:ext cx="234000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572000"/>
                    <a:ext cx="2340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8088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iction wind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819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aerodynamic kinematic momentum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114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iction wind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257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erive momentum flux in terms of similarity theo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gnitude of Reynolds stress at ground surfa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mentum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438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 vertical turbulent momentum flux (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876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iction wind speed (m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aling param. for surface-layer vert. flux of horiz.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76720" y="2895480"/>
          <a:ext cx="17460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95480"/>
                    <a:ext cx="1746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76720" y="3886200"/>
          <a:ext cx="17143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17143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66880" y="1447920"/>
          <a:ext cx="400392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447920"/>
                    <a:ext cx="400392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81080" y="5715000"/>
          <a:ext cx="5411880" cy="8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15000"/>
                    <a:ext cx="5411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theory kinematic turbulent momentum flux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dy Diff. Coef. for Mom.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895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ilarity theory kinematic turbulent flux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724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the tw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43000" y="1752480"/>
          <a:ext cx="2824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2824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572000" y="1752480"/>
          <a:ext cx="27925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52480"/>
                    <a:ext cx="2792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62120" y="3429000"/>
          <a:ext cx="333216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429000"/>
                    <a:ext cx="3332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724280" y="3429000"/>
          <a:ext cx="33004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429000"/>
                    <a:ext cx="3300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057400" y="5257800"/>
          <a:ext cx="482436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257800"/>
                    <a:ext cx="4824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ampl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7621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72000" indent="-720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= 0.01                 Pr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= 0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= 0.0001 m         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)=10 m s</a:t>
            </a: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-1                 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)= 5 m s</a:t>
            </a: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)= 285 K           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ff00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)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58672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               = 0.41 m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  ---&gt;                           = 0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85760" y="2819520"/>
          <a:ext cx="10479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2819520"/>
                    <a:ext cx="10479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099040" y="2895480"/>
          <a:ext cx="5396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2895480"/>
                    <a:ext cx="539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289160" y="3352680"/>
          <a:ext cx="5396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9160" y="3352680"/>
                    <a:ext cx="539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118120" y="3352680"/>
          <a:ext cx="4446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8120" y="3352680"/>
                    <a:ext cx="444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371600" y="3733920"/>
          <a:ext cx="380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7339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181480" y="3809880"/>
          <a:ext cx="38124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38098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371600" y="4267080"/>
          <a:ext cx="28584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426708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019920" y="5943600"/>
          <a:ext cx="177804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5943600"/>
                    <a:ext cx="1778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80880" y="49528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                                    = 0.39 m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191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= -169 m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37339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= 0.662 m s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1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= -0.1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3276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= 1.046             ---&gt;                    = 1.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2819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= 11.18 m s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1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-&gt;                    = -8.15 x 1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143000" y="4648320"/>
          <a:ext cx="3738600" cy="1085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4648320"/>
                    <a:ext cx="37386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143000" y="5715000"/>
          <a:ext cx="2330280" cy="94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5715000"/>
                    <a:ext cx="23302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wind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dy Diff. Coef. for Mom.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59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4114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expressions abo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76720" y="1523880"/>
          <a:ext cx="20001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23880"/>
                    <a:ext cx="2000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971800" y="4648320"/>
          <a:ext cx="30146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648320"/>
                    <a:ext cx="30146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533520" y="5715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mixing length: average distance an eddy travels before exchanging momentum with surrounding e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590920" y="2819520"/>
          <a:ext cx="373860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819520"/>
                    <a:ext cx="37386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kinematic energy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ergy Flux from Similarity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95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vertical turbulent sensible hea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276720" y="1752480"/>
          <a:ext cx="222228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52480"/>
                    <a:ext cx="222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209680" y="3581280"/>
          <a:ext cx="48243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81280"/>
                    <a:ext cx="4824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vertical turbulent water vapor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ergy, Moisture Fluxes from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581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specific humidity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4952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humidity sca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90920" y="2819520"/>
          <a:ext cx="36813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19520"/>
                    <a:ext cx="3681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352680" y="4038480"/>
          <a:ext cx="18734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38480"/>
                    <a:ext cx="1873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743200" y="5334120"/>
          <a:ext cx="342756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334120"/>
                    <a:ext cx="34275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kinematic water vapor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276720" y="1600200"/>
          <a:ext cx="22539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1600200"/>
                    <a:ext cx="2253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wind she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arithmic Wind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895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4648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--&gt; surface layer vertical wind speed prof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352680" y="1600200"/>
          <a:ext cx="20005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00200"/>
                    <a:ext cx="2000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133720" y="3352680"/>
          <a:ext cx="469728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352680"/>
                    <a:ext cx="4697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514600" y="5181480"/>
          <a:ext cx="393552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5181480"/>
                    <a:ext cx="39355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fluence function for momentu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arithmic Wind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986200" y="1581120"/>
          <a:ext cx="3109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6200" y="1581120"/>
                    <a:ext cx="3109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92040" y="2625840"/>
          <a:ext cx="8447040" cy="37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2625840"/>
                    <a:ext cx="8447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utral conditions --&gt; logarithmic wind prof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arithmic Wind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819520" y="1523880"/>
          <a:ext cx="259560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2595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219320" y="2743200"/>
            <a:ext cx="7523280" cy="4114800"/>
            <a:chOff x="1219320" y="2743200"/>
            <a:chExt cx="7523280" cy="4114800"/>
          </a:xfrm>
        </p:grpSpPr>
        <p:graphicFrame>
          <p:nvGraphicFramePr>
            <p:cNvPr id="359" name=""/>
            <p:cNvGraphicFramePr/>
            <p:nvPr/>
          </p:nvGraphicFramePr>
          <p:xfrm>
            <a:off x="1219320" y="2792520"/>
            <a:ext cx="6324480" cy="4065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792520"/>
                      <a:ext cx="6324480" cy="40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"/>
            <p:cNvSpPr/>
            <p:nvPr/>
          </p:nvSpPr>
          <p:spPr>
            <a:xfrm>
              <a:off x="1371600" y="2743200"/>
              <a:ext cx="533520" cy="35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1560" y="6095880"/>
              <a:ext cx="1121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8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-114120" y="4381200"/>
              <a:ext cx="342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eight above surface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ogarithmic wind profiles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tential Virtual Temperature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724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--&gt; potential virtual temperature prof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potential temperature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352680" y="1752480"/>
          <a:ext cx="18417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752480"/>
                    <a:ext cx="18417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362320" y="3429000"/>
          <a:ext cx="415764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429000"/>
                    <a:ext cx="41576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676520" y="5257800"/>
          <a:ext cx="555444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57800"/>
                    <a:ext cx="55544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tential Virtual Temperature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12193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fluence function for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971800" y="2114640"/>
          <a:ext cx="29192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14640"/>
                    <a:ext cx="2919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57200" y="3240000"/>
          <a:ext cx="8418600" cy="27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40000"/>
                    <a:ext cx="841860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turbulent sensible-heat flux (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 and Moisture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90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 vert. turbulent sensible-heat flux (m K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257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 vert. turbulent moisture flux (m kg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962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turbulent water vapor flux (kg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8120" y="1676520"/>
          <a:ext cx="24764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24764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24080" y="2971800"/>
          <a:ext cx="20638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971800"/>
                    <a:ext cx="20638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00400" y="4419720"/>
          <a:ext cx="18414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419720"/>
                    <a:ext cx="18414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29000" y="5638680"/>
          <a:ext cx="15559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5638680"/>
                    <a:ext cx="15559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04920" y="1549440"/>
          <a:ext cx="685800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49440"/>
                    <a:ext cx="68580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ertical Profiles in a Can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lationship among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97520" y="6095880"/>
            <a:ext cx="112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23623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1295280" y="2818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ertical Profiles in a Can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895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virtual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4724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humid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12193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mentu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828800" y="1542960"/>
          <a:ext cx="5237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42960"/>
                    <a:ext cx="5237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914400" y="3371760"/>
          <a:ext cx="75549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371760"/>
                    <a:ext cx="75549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838080" y="5181480"/>
          <a:ext cx="7585200" cy="11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181480"/>
                    <a:ext cx="75852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cal v. Nonlocal Closure Above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1295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closure turbulenc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ixes momentum, energy, chemicals between adjacent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local closure turbulenc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ixes variables among all layer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ree-convective plume sche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brid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3733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xing Leng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295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momentum for stable/weakly unstable condi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ptures small eddies but not large eddies due to free convection --&gt; not valid when R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s large and neg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90720" y="2514600"/>
          <a:ext cx="65707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65707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352680" y="4191120"/>
          <a:ext cx="2095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191120"/>
                    <a:ext cx="2095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200400" y="5715000"/>
          <a:ext cx="251460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71500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E (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KE)-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nositc equation for mixing leng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4648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rate of shear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nostic equation for TK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057400" y="1752480"/>
          <a:ext cx="51735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1735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155520" y="3429000"/>
          <a:ext cx="891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20" y="3429000"/>
                    <a:ext cx="891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971800" y="5181480"/>
          <a:ext cx="358632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181480"/>
                    <a:ext cx="35863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ipation rate of TK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4648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usion coefficients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rate of buoyan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1676520"/>
          <a:ext cx="2444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2444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657600" y="3352680"/>
          <a:ext cx="18558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352680"/>
                    <a:ext cx="18558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981080" y="5410080"/>
          <a:ext cx="234972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10080"/>
                    <a:ext cx="2349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105520" y="5410080"/>
          <a:ext cx="21589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10080"/>
                    <a:ext cx="2158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i="1" lang="en-US" sz="40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T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dy diffusion coefficient for momentu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4648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agnostic equation for mixing length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nostic equation for dissipation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447920" y="1676520"/>
          <a:ext cx="64753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4753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352680" y="3429000"/>
          <a:ext cx="17780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429000"/>
                    <a:ext cx="1778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276720" y="5410080"/>
          <a:ext cx="20955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410080"/>
                    <a:ext cx="2095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 Conductio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al conductivity of soil-water-air mix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4038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istur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otential energy required to extract water from capillary and adhesive forces in the soil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at conduc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590920" y="1600200"/>
          <a:ext cx="33638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363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887480" y="3124080"/>
          <a:ext cx="50468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7480" y="3124080"/>
                    <a:ext cx="5046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049560" y="5257800"/>
          <a:ext cx="2665440" cy="12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560" y="5257800"/>
                    <a:ext cx="26654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 Conductio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286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soil water cont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914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 x specific heat of soil-water-air mix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133720" y="1523880"/>
          <a:ext cx="447516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4475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371600" y="2819520"/>
          <a:ext cx="634824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819520"/>
                    <a:ext cx="6348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380880" y="4114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aulic conductivity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efficient of permeability of liquid through soi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743200" y="4952880"/>
          <a:ext cx="3046320" cy="12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952880"/>
                    <a:ext cx="3046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 Conductio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13716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usion coefficient of water in soi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8280" y="2133720"/>
          <a:ext cx="90457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2133720"/>
                    <a:ext cx="90457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. Roughness Length for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146160" indent="-146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ight above surface at which mean wind extrapolates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onger roughness length --&gt; greater turbu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actly smooth surface, roughness length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80000"/>
              </a:lnSpc>
              <a:spcBef>
                <a:spcPts val="799"/>
              </a:spcBef>
              <a:buClr>
                <a:srgbClr val="187534"/>
              </a:buClr>
              <a:buFont typeface="Times"/>
              <a:buChar char="•"/>
              <a:tabLst>
                <a:tab algn="l" pos="457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pproximately 1/30 the height of the average roughness element protruding from the surface</a:t>
            </a:r>
            <a:r>
              <a:rPr b="0" lang="en-US" sz="32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at Conductio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energy 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3048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moisture content at the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057400" y="3657600"/>
          <a:ext cx="49514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657600"/>
                    <a:ext cx="4951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2362320" y="5562720"/>
          <a:ext cx="43480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562720"/>
                    <a:ext cx="4348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ground surface temperatur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447920" y="1905120"/>
          <a:ext cx="60624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1905120"/>
                    <a:ext cx="6062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 and Moisture in Vegetated S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048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irradi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energy 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48006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turbulent sensible hea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286000" y="1905120"/>
          <a:ext cx="43480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348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2514600" y="3657600"/>
          <a:ext cx="38401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657600"/>
                    <a:ext cx="38401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38080" y="5334120"/>
          <a:ext cx="7523280" cy="111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334120"/>
                    <a:ext cx="752328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 and Moisture in Vegetated S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3048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 of air in folia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turbulent latent hea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48006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humidity of air in folia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6200" y="1828800"/>
          <a:ext cx="88855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828800"/>
                    <a:ext cx="88855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2209680" y="3809880"/>
          <a:ext cx="41576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9880"/>
                    <a:ext cx="4157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209680" y="5486400"/>
          <a:ext cx="42847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486400"/>
                    <a:ext cx="4284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liage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4876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nsible hea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rative equation for foliage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752480" y="1828800"/>
          <a:ext cx="523728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523728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38280" y="5486400"/>
          <a:ext cx="41576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5486400"/>
                    <a:ext cx="4157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505320" y="4038480"/>
          <a:ext cx="268740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038480"/>
                    <a:ext cx="2687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liage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pi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evapo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4191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poration fun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286000" y="1676520"/>
          <a:ext cx="43797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76520"/>
                    <a:ext cx="43797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981080" y="3124080"/>
          <a:ext cx="49514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24080"/>
                    <a:ext cx="4951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905120" y="4572000"/>
          <a:ext cx="5205240" cy="18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572000"/>
                    <a:ext cx="52052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liage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066680" y="1104840"/>
          <a:ext cx="60786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04840"/>
                    <a:ext cx="60786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 of Vegetated S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80880" y="990720"/>
          <a:ext cx="6900840" cy="55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690084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/Measured Temper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1141560"/>
          <a:ext cx="6934320" cy="49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1560"/>
                    <a:ext cx="69343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/Measured Temper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85800" y="1031760"/>
          <a:ext cx="723888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31760"/>
                    <a:ext cx="723888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/Measured Temper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1274760"/>
          <a:ext cx="8001000" cy="44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74760"/>
                    <a:ext cx="80010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. Roughness Length for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21932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Method of calculating roughness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) Find wind speeds at many heights when wind i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2) Plot speeds on ln (height) vs. wind speed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3) Extrapolate wind speed to altitude at which speed equal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00200" y="3200400"/>
            <a:ext cx="6685200" cy="3306600"/>
            <a:chOff x="1600200" y="3200400"/>
            <a:chExt cx="6685200" cy="3306600"/>
          </a:xfrm>
        </p:grpSpPr>
        <p:graphicFrame>
          <p:nvGraphicFramePr>
            <p:cNvPr id="85" name=""/>
            <p:cNvGraphicFramePr/>
            <p:nvPr/>
          </p:nvGraphicFramePr>
          <p:xfrm>
            <a:off x="1600200" y="3200400"/>
            <a:ext cx="4921200" cy="3306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200400"/>
                      <a:ext cx="4921200" cy="33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7164360" y="5867280"/>
              <a:ext cx="1121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6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3962520"/>
              <a:ext cx="7621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866240" y="4381560"/>
              <a:ext cx="6159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ad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38080" y="1523880"/>
          <a:ext cx="711216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11216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s of Soils and Su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066680" y="1162080"/>
          <a:ext cx="7010640" cy="50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62080"/>
                    <a:ext cx="7010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/Measured Temper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33520" y="1231920"/>
          <a:ext cx="8001000" cy="44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31920"/>
                    <a:ext cx="80010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now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1092240"/>
          <a:ext cx="2602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92240"/>
                    <a:ext cx="2602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43000" y="1828800"/>
          <a:ext cx="417672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00" y="1828800"/>
                    <a:ext cx="417672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4116240" y="2133720"/>
          <a:ext cx="4799160" cy="43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6240" y="2133720"/>
                    <a:ext cx="479916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ater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066680" y="1676520"/>
          <a:ext cx="636300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36300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 Ice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533520" y="1143000"/>
          <a:ext cx="674676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67467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 of Snow Over Sea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533520" y="990720"/>
          <a:ext cx="24127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2412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752480" y="1676520"/>
          <a:ext cx="6221520" cy="47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676520"/>
                    <a:ext cx="622152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smooth ocean with slow wi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ughness Length for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rough ocean, fast wind (Charnock relation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181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a vegetation canop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962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urban areas containing structur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38280" y="1600200"/>
          <a:ext cx="3649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649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505320" y="2971800"/>
          <a:ext cx="187308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71800"/>
                    <a:ext cx="1873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429000" y="4343400"/>
          <a:ext cx="215892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343400"/>
                    <a:ext cx="2158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438280" y="5715000"/>
          <a:ext cx="399888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5715000"/>
                    <a:ext cx="3998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ughness Length for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28800" y="803160"/>
          <a:ext cx="10439280" cy="605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03160"/>
                    <a:ext cx="1043928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7696440" y="60958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roughness length for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ughness Length for Energy, Mois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590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roughness length for moistu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257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diffusion coefficient of water vap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962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thermal diffus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8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733920" y="1600200"/>
          <a:ext cx="14922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00200"/>
                    <a:ext cx="1492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33920" y="3048120"/>
          <a:ext cx="146052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8120"/>
                    <a:ext cx="1460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81280" y="4343400"/>
          <a:ext cx="18734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343400"/>
                    <a:ext cx="18734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66680" y="5638680"/>
          <a:ext cx="6316920" cy="98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638680"/>
                    <a:ext cx="6316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4:51Z</dcterms:modified>
  <cp:revision>427</cp:revision>
  <dc:subject/>
  <dc:title>Slide 1</dc:title>
</cp:coreProperties>
</file>