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26.pct" ContentType="image/x-pict"/>
  <Override PartName="/ppt/media/image194.pct" ContentType="image/x-pict"/>
  <Override PartName="/ppt/media/image125.pct" ContentType="image/x-pict"/>
  <Override PartName="/ppt/media/image193.pct" ContentType="image/x-pict"/>
  <Override PartName="/ppt/media/image124.pct" ContentType="image/x-pict"/>
  <Override PartName="/ppt/media/image192.pct" ContentType="image/x-pict"/>
  <Override PartName="/ppt/media/image123.pct" ContentType="image/x-pict"/>
  <Override PartName="/ppt/media/image191.pct" ContentType="image/x-pict"/>
  <Override PartName="/ppt/media/image122.pct" ContentType="image/x-pict"/>
  <Override PartName="/ppt/media/image190.pct" ContentType="image/x-pict"/>
  <Override PartName="/ppt/media/image121.pct" ContentType="image/x-pict"/>
  <Override PartName="/ppt/media/image116.pct" ContentType="image/x-pict"/>
  <Override PartName="/ppt/media/image184.pct" ContentType="image/x-pict"/>
  <Override PartName="/ppt/media/image115.pct" ContentType="image/x-pict"/>
  <Override PartName="/ppt/media/image183.pct" ContentType="image/x-pict"/>
  <Override PartName="/ppt/media/image114.pct" ContentType="image/x-pict"/>
  <Override PartName="/ppt/media/image182.pct" ContentType="image/x-pict"/>
  <Override PartName="/ppt/media/image113.pct" ContentType="image/x-pict"/>
  <Override PartName="/ppt/media/image181.pct" ContentType="image/x-pict"/>
  <Override PartName="/ppt/media/image112.pct" ContentType="image/x-pict"/>
  <Override PartName="/ppt/media/image180.pct" ContentType="image/x-pict"/>
  <Override PartName="/ppt/media/image111.pct" ContentType="image/x-pict"/>
  <Override PartName="/ppt/media/image106.pct" ContentType="image/x-pict"/>
  <Override PartName="/ppt/media/image174.pct" ContentType="image/x-pict"/>
  <Override PartName="/ppt/media/image105.pct" ContentType="image/x-pict"/>
  <Override PartName="/ppt/media/image173.pct" ContentType="image/x-pict"/>
  <Override PartName="/ppt/media/image104.pct" ContentType="image/x-pict"/>
  <Override PartName="/ppt/media/image172.pct" ContentType="image/x-pict"/>
  <Override PartName="/ppt/media/image103.pct" ContentType="image/x-pict"/>
  <Override PartName="/ppt/media/image171.pct" ContentType="image/x-pict"/>
  <Override PartName="/ppt/media/image102.pct" ContentType="image/x-pict"/>
  <Override PartName="/ppt/media/image170.pct" ContentType="image/x-pict"/>
  <Override PartName="/ppt/media/image101.pct" ContentType="image/x-pict"/>
  <Override PartName="/ppt/media/image99.pct" ContentType="image/x-pict"/>
  <Override PartName="/ppt/media/image98.pct" ContentType="image/x-pict"/>
  <Override PartName="/ppt/media/image97.pct" ContentType="image/x-pict"/>
  <Override PartName="/ppt/media/image29.pct" ContentType="image/x-pict"/>
  <Override PartName="/ppt/media/image96.pct" ContentType="image/x-pict"/>
  <Override PartName="/ppt/media/image28.pct" ContentType="image/x-pict"/>
  <Override PartName="/ppt/media/image95.pct" ContentType="image/x-pict"/>
  <Override PartName="/ppt/media/image27.pct" ContentType="image/x-pict"/>
  <Override PartName="/ppt/media/image89.pct" ContentType="image/x-pict"/>
  <Override PartName="/ppt/media/image88.pct" ContentType="image/x-pict"/>
  <Override PartName="/ppt/media/image87.pct" ContentType="image/x-pict"/>
  <Override PartName="/ppt/media/image19.pct" ContentType="image/x-pict"/>
  <Override PartName="/ppt/media/image79.pct" ContentType="image/x-pict"/>
  <Override PartName="/ppt/media/image78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71.pct" ContentType="image/x-pict"/>
  <Override PartName="/ppt/media/image70.pct" ContentType="image/x-pict"/>
  <Override PartName="/ppt/media/image120.pct" ContentType="image/x-pict"/>
  <Override PartName="/ppt/media/image69.pct" ContentType="image/x-pict"/>
  <Override PartName="/ppt/media/image68.pct" ContentType="image/x-pict"/>
  <Override PartName="/ppt/media/image67.pct" ContentType="image/x-pict"/>
  <Override PartName="/ppt/media/image66.pct" ContentType="image/x-pict"/>
  <Override PartName="/ppt/media/image65.pct" ContentType="image/x-pict"/>
  <Override PartName="/ppt/media/image64.pct" ContentType="image/x-pict"/>
  <Override PartName="/ppt/media/image63.pct" ContentType="image/x-pict"/>
  <Override PartName="/ppt/media/image62.pct" ContentType="image/x-pict"/>
  <Override PartName="/ppt/media/image61.pct" ContentType="image/x-pict"/>
  <Override PartName="/ppt/media/image60.pct" ContentType="image/x-pict"/>
  <Override PartName="/ppt/media/image23.pct" ContentType="image/x-pict"/>
  <Override PartName="/ppt/media/image91.pct" ContentType="image/x-pict"/>
  <Override PartName="/ppt/media/image119.pct" ContentType="image/x-pict"/>
  <Override PartName="/ppt/media/image187.pct" ContentType="image/x-pict"/>
  <Override PartName="/ppt/media/image22.pct" ContentType="image/x-pict"/>
  <Override PartName="/ppt/media/image90.pct" ContentType="image/x-pict"/>
  <Override PartName="/ppt/media/image110.pct" ContentType="image/x-pict"/>
  <Override PartName="/ppt/media/image59.pct" ContentType="image/x-pict"/>
  <Override PartName="/ppt/media/image50.pct" ContentType="image/x-pict"/>
  <Override PartName="/ppt/media/image147.pct" ContentType="image/x-pict"/>
  <Override PartName="/ppt/media/image51.pct" ContentType="image/x-pict"/>
  <Override PartName="/ppt/media/image148.pct" ContentType="image/x-pict"/>
  <Override PartName="/ppt/media/image52.pct" ContentType="image/x-pict"/>
  <Override PartName="/ppt/media/image149.pct" ContentType="image/x-pict"/>
  <Override PartName="/ppt/media/image53.pct" ContentType="image/x-pict"/>
  <Override PartName="/ppt/media/image128.pct" ContentType="image/x-pict"/>
  <Override PartName="/ppt/media/image196.pct" ContentType="image/x-pict"/>
  <Override PartName="/ppt/media/image34.pct" ContentType="image/x-pict"/>
  <Override PartName="/ppt/media/image32.pct" ContentType="image/x-pict"/>
  <Override PartName="/ppt/media/image133.pct" ContentType="image/x-pict"/>
  <Override PartName="/ppt/media/image134.pct" ContentType="image/x-pict"/>
  <Override PartName="/ppt/media/image135.pct" ContentType="image/x-pict"/>
  <Override PartName="/ppt/media/image136.pct" ContentType="image/x-pict"/>
  <Override PartName="/ppt/media/image137.pct" ContentType="image/x-pict"/>
  <Override PartName="/ppt/media/image40.pct" ContentType="image/x-pict"/>
  <Override PartName="/ppt/media/image138.pct" ContentType="image/x-pict"/>
  <Override PartName="/ppt/media/image41.pct" ContentType="image/x-pict"/>
  <Override PartName="/ppt/media/image139.pct" ContentType="image/x-pict"/>
  <Override PartName="/ppt/media/image42.pct" ContentType="image/x-pict"/>
  <Override PartName="/ppt/media/image54.pct" ContentType="image/x-pict"/>
  <Override PartName="/ppt/media/image140.pct" ContentType="image/x-pict"/>
  <Override PartName="/ppt/media/image45.pct" ContentType="image/x-pict"/>
  <Override PartName="/ppt/media/image201.pct" ContentType="image/x-pict"/>
  <Override PartName="/ppt/media/image131.pct" ContentType="image/x-pict"/>
  <Override PartName="/ppt/media/image168.pct" ContentType="image/x-pict"/>
  <Override PartName="/ppt/media/image46.pct" ContentType="image/x-pict"/>
  <Override PartName="/ppt/media/image132.pct" ContentType="image/x-pict"/>
  <Override PartName="/ppt/media/image169.pct" ContentType="image/x-pict"/>
  <Override PartName="/ppt/media/image43.pct" ContentType="image/x-pict"/>
  <Override PartName="/ppt/media/image166.pct" ContentType="image/x-pict"/>
  <Override PartName="/ppt/media/image55.pct" ContentType="image/x-pict"/>
  <Override PartName="/ppt/media/image141.pct" ContentType="image/x-pict"/>
  <Override PartName="/ppt/media/image178.pct" ContentType="image/x-pict"/>
  <Override PartName="/ppt/media/image143.pct" ContentType="image/x-pict"/>
  <Override PartName="/ppt/media/image44.pct" ContentType="image/x-pict"/>
  <Override PartName="/ppt/media/image200.pct" ContentType="image/x-pict"/>
  <Override PartName="/ppt/media/image130.pct" ContentType="image/x-pict"/>
  <Override PartName="/ppt/media/image167.pct" ContentType="image/x-pict"/>
  <Override PartName="/ppt/media/image144.pct" ContentType="image/x-pict"/>
  <Override PartName="/ppt/media/image165.pct" ContentType="image/x-pict"/>
  <Override PartName="/ppt/media/image163.pct" ContentType="image/x-pict"/>
  <Override PartName="/ppt/media/image164.pct" ContentType="image/x-pict"/>
  <Override PartName="/ppt/media/image199.pct" ContentType="image/x-pict"/>
  <Override PartName="/ppt/media/image37.pct" ContentType="image/x-pict"/>
  <Override PartName="/ppt/media/image162.pct" ContentType="image/x-pict"/>
  <Override PartName="/ppt/media/image198.pct" ContentType="image/x-pict"/>
  <Override PartName="/ppt/media/image36.pct" ContentType="image/x-pict"/>
  <Override PartName="/ppt/media/image161.pct" ContentType="image/x-pict"/>
  <Override PartName="/ppt/media/image129.pct" ContentType="image/x-pict"/>
  <Override PartName="/ppt/media/image197.pct" ContentType="image/x-pict"/>
  <Override PartName="/ppt/media/image35.pct" ContentType="image/x-pict"/>
  <Override PartName="/ppt/media/image160.pct" ContentType="image/x-pict"/>
  <Override PartName="/ppt/media/image189.pct" ContentType="image/x-pict"/>
  <Override PartName="/ppt/media/image152.pct" ContentType="image/x-pict"/>
  <Override PartName="/ppt/media/image188.pct" ContentType="image/x-pict"/>
  <Override PartName="/ppt/media/image151.pct" ContentType="image/x-pict"/>
  <Override PartName="/ppt/media/image150.pct" ContentType="image/x-pict"/>
  <Override PartName="/ppt/media/image146.pct" ContentType="image/x-pict"/>
  <Override PartName="/ppt/media/image145.pct" ContentType="image/x-pict"/>
  <Override PartName="/ppt/media/image56.pct" ContentType="image/x-pict"/>
  <Override PartName="/ppt/media/image179.pct" ContentType="image/x-pict"/>
  <Override PartName="/ppt/media/image142.pct" ContentType="image/x-pict"/>
  <Override PartName="/ppt/media/image33.pct" ContentType="image/x-pict"/>
  <Override PartName="/ppt/media/image195.pct" ContentType="image/x-pict"/>
  <Override PartName="/ppt/media/image127.pct" ContentType="image/x-pict"/>
  <Override PartName="/ppt/media/image39.pct" ContentType="image/x-pict"/>
  <Override PartName="/ppt/media/image153.pct" ContentType="image/x-pict"/>
  <Override PartName="/ppt/media/image1.pct" ContentType="image/x-pict"/>
  <Override PartName="/ppt/media/image81.pct" ContentType="image/x-pict"/>
  <Override PartName="/ppt/media/image13.pct" ContentType="image/x-pict"/>
  <Override PartName="/ppt/media/image38.pct" ContentType="image/x-pict"/>
  <Override PartName="/ppt/media/image30.pct" ContentType="image/x-pict"/>
  <Override PartName="/ppt/media/image8.pct" ContentType="image/x-pict"/>
  <Override PartName="/ppt/media/image17.pct" ContentType="image/x-pict"/>
  <Override PartName="/ppt/media/image85.pct" ContentType="image/x-pict"/>
  <Override PartName="/ppt/media/image49.pct" ContentType="image/x-pict"/>
  <Override PartName="/ppt/media/image100.pct" ContentType="image/x-pict"/>
  <Override PartName="/ppt/media/image177.pct" ContentType="image/x-pict"/>
  <Override PartName="/ppt/media/image109.pct" ContentType="image/x-pict"/>
  <Override PartName="/ppt/media/image80.pct" ContentType="image/x-pict"/>
  <Override PartName="/ppt/media/image12.pct" ContentType="image/x-pict"/>
  <Override PartName="/ppt/media/image159.pct" ContentType="image/x-pict"/>
  <Override PartName="/ppt/media/image7.pct" ContentType="image/x-pict"/>
  <Override PartName="/ppt/media/image16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108.pct" ContentType="image/x-pict"/>
  <Override PartName="/ppt/media/image176.pct" ContentType="image/x-pict"/>
  <Override PartName="/ppt/media/image82.pct" ContentType="image/x-pict"/>
  <Override PartName="/ppt/media/image14.pct" ContentType="image/x-pict"/>
  <Override PartName="/ppt/media/image158.pct" ContentType="image/x-pict"/>
  <Override PartName="/ppt/media/image6.pct" ContentType="image/x-pict"/>
  <Override PartName="/ppt/media/image15.pct" ContentType="image/x-pict"/>
  <Override PartName="/ppt/media/image83.pct" ContentType="image/x-pict"/>
  <Override PartName="/ppt/media/image18.pct" ContentType="image/x-pict"/>
  <Override PartName="/ppt/media/image86.pct" ContentType="image/x-pict"/>
  <Override PartName="/ppt/media/image31.pct" ContentType="image/x-pict"/>
  <Override PartName="/ppt/media/image9.pct" ContentType="image/x-pict"/>
  <Override PartName="/ppt/media/image47.pct" ContentType="image/x-pict"/>
  <Override PartName="/ppt/media/image10.pct" ContentType="image/x-pict"/>
  <Override PartName="/ppt/media/image175.pct" ContentType="image/x-pict"/>
  <Override PartName="/ppt/media/image107.pct" ContentType="image/x-pict"/>
  <Override PartName="/ppt/media/image5.pct" ContentType="image/x-pict"/>
  <Override PartName="/ppt/media/image157.pct" ContentType="image/x-pict"/>
  <Override PartName="/ppt/media/image4.pct" ContentType="image/x-pict"/>
  <Override PartName="/ppt/media/image156.pct" ContentType="image/x-pict"/>
  <Override PartName="/ppt/media/image3.pct" ContentType="image/x-pict"/>
  <Override PartName="/ppt/media/image155.pct" ContentType="image/x-pict"/>
  <Override PartName="/ppt/media/image26.pct" ContentType="image/x-pict"/>
  <Override PartName="/ppt/media/image94.pct" ContentType="image/x-pict"/>
  <Override PartName="/ppt/media/image2.pct" ContentType="image/x-pict"/>
  <Override PartName="/ppt/media/image154.pct" ContentType="image/x-pict"/>
  <Override PartName="/ppt/media/image93.pct" ContentType="image/x-pict"/>
  <Override PartName="/ppt/media/image25.pct" ContentType="image/x-pict"/>
  <Override PartName="/ppt/media/image92.pct" ContentType="image/x-pict"/>
  <Override PartName="/ppt/media/image24.pct" ContentType="image/x-pict"/>
  <Override PartName="/ppt/media/image57.pct" ContentType="image/x-pict"/>
  <Override PartName="/ppt/media/image20.pct" ContentType="image/x-pict"/>
  <Override PartName="/ppt/media/image117.pct" ContentType="image/x-pict"/>
  <Override PartName="/ppt/media/image185.pct" ContentType="image/x-pict"/>
  <Override PartName="/ppt/media/image58.pct" ContentType="image/x-pict"/>
  <Override PartName="/ppt/media/image21.pct" ContentType="image/x-pict"/>
  <Override PartName="/ppt/media/image186.pct" ContentType="image/x-pict"/>
  <Override PartName="/ppt/media/image118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5F7-0018-41E1-8954-2AC717EA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073-BC97-4BA3-A5E4-ECB7A2F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278-C4F2-4878-AC5A-0DE6516D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210-AFB5-4676-B2DB-CE88A49A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3C6-9375-482B-BD5C-45BBEDD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B42-33C3-4500-8460-18EC7E5D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005-9343-42E3-80F3-D649BC83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146-604B-47BE-B391-78DDBEA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EA2-EA0C-4D3E-A299-6928A64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8CE-BA9E-40EE-9CB4-68042011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3FB-1D0C-48BD-97D6-6885899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921-5635-4750-97DD-8C6EE2C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30C8-B39B-4A5F-97E8-2AA783929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ct"/><Relationship Id="rId9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7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8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9.pct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0.pct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1.pct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2.pct"/><Relationship Id="rId2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5.pct"/><Relationship Id="rId7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9.pct"/><Relationship Id="rId9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1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ct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pct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pct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ct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pct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ct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pct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ct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pct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pct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pct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ct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pct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pct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ct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2.pct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4.pct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5.pct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pct"/><Relationship Id="rId1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pct"/><Relationship Id="rId9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5.pct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ct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7.pct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pct"/><Relationship Id="rId7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pct"/><Relationship Id="rId7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pct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7.pct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pct"/><Relationship Id="rId7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3.pct"/><Relationship Id="rId7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6.pct"/><Relationship Id="rId7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pct"/><Relationship Id="rId5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9.pct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2.pct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ct"/><Relationship Id="rId9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pct"/><Relationship Id="rId7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37.pct"/><Relationship Id="rId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3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pct"/><Relationship Id="rId1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pct"/><Relationship Id="rId7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5.pct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7.pct"/><Relationship Id="rId7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1.pct"/><Relationship Id="rId9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pct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3.pct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6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ct"/><Relationship Id="rId7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pct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0.pct"/><Relationship Id="rId1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4.pct"/><Relationship Id="rId9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pct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8.pct"/><Relationship Id="rId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pct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3.pct"/><Relationship Id="rId7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75.pct"/><Relationship Id="rId5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8.pct"/><Relationship Id="rId9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1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9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2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pectral Irrad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lux of radiant energy propagating across a fla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sed to calculate heating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mental spectral irradian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l of 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ver the hemisphere above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-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lan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tropic spectral irradian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562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tral irradiance at the surface of a blackbody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76720" y="2286000"/>
          <a:ext cx="23810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86000"/>
                    <a:ext cx="2381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0880" y="3352680"/>
          <a:ext cx="815652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1565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057400" y="4724280"/>
          <a:ext cx="49831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724280"/>
                    <a:ext cx="49831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048120" y="6095880"/>
          <a:ext cx="238104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6095880"/>
                    <a:ext cx="2381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wo-Stream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7200" y="990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efficients for two stream approximations using two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0880" y="43434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frared irradian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239240" y="617220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304920" y="1600200"/>
          <a:ext cx="8610480" cy="2666880"/>
        </p:xfrm>
        <a:graphic>
          <a:graphicData uri="http://schemas.openxmlformats.org/drawingml/2006/table">
            <a:tbl>
              <a:tblPr/>
              <a:tblGrid>
                <a:gridCol w="2057400"/>
                <a:gridCol w="2286000"/>
                <a:gridCol w="243828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pproxi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uad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dding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3505320" y="1676520"/>
          <a:ext cx="3808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"/>
          <p:cNvGraphicFramePr/>
          <p:nvPr/>
        </p:nvGraphicFramePr>
        <p:xfrm>
          <a:off x="5562720" y="1752480"/>
          <a:ext cx="4125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752480"/>
                    <a:ext cx="412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7391520" y="1676520"/>
          <a:ext cx="4125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1676520"/>
                    <a:ext cx="412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2438280" y="2209680"/>
          <a:ext cx="222264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09680"/>
                    <a:ext cx="2222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"/>
          <p:cNvGraphicFramePr/>
          <p:nvPr/>
        </p:nvGraphicFramePr>
        <p:xfrm>
          <a:off x="5029200" y="2209680"/>
          <a:ext cx="152388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2209680"/>
                    <a:ext cx="1523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"/>
          <p:cNvGraphicFramePr/>
          <p:nvPr/>
        </p:nvGraphicFramePr>
        <p:xfrm>
          <a:off x="7162920" y="2286000"/>
          <a:ext cx="1752480" cy="779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2286000"/>
                    <a:ext cx="17524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"/>
          <p:cNvGraphicFramePr/>
          <p:nvPr/>
        </p:nvGraphicFramePr>
        <p:xfrm>
          <a:off x="2381400" y="3352680"/>
          <a:ext cx="2190600" cy="85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81400" y="3352680"/>
                    <a:ext cx="21906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4724280" y="3352680"/>
          <a:ext cx="2349720" cy="85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24280" y="3352680"/>
                    <a:ext cx="23497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7238880" y="3429000"/>
          <a:ext cx="142884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8880" y="3429000"/>
                    <a:ext cx="1428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2133720" y="4800600"/>
          <a:ext cx="4983120" cy="822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4800600"/>
                    <a:ext cx="49831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2065320" y="5715000"/>
          <a:ext cx="5173560" cy="822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65320" y="5715000"/>
                    <a:ext cx="51735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lta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57200" y="2514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adjust terms with delta function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Quadrature and Eddington solutions underpredict forward scattering because expansion of phase function is too simple to obtain the strong peak in scattering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3733920" y="3200400"/>
          <a:ext cx="15872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200400"/>
                    <a:ext cx="1587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3429000" y="4267080"/>
          <a:ext cx="2254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267080"/>
                    <a:ext cx="2254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3581280" y="5715000"/>
          <a:ext cx="215928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5715000"/>
                    <a:ext cx="2159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ating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914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 flux divergence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" y="2209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 downward minus upward radiative flu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" y="3429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 ter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4952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 chang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447920" y="1447920"/>
          <a:ext cx="644364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4436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2895480" y="2743200"/>
          <a:ext cx="339588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743200"/>
                    <a:ext cx="33958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0" y="3962520"/>
          <a:ext cx="9109080" cy="11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62520"/>
                    <a:ext cx="91090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3276720" y="5562720"/>
          <a:ext cx="27921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562720"/>
                    <a:ext cx="2792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otolysis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914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lysis rate (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at bottom of lay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7200" y="2514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nce at bottom of lay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photons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 s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" y="4343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9.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2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n band 0.49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&lt;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&lt; 0.50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mean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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3.02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photons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1219320" y="1600200"/>
          <a:ext cx="64436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436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838080" y="3143160"/>
          <a:ext cx="761688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43160"/>
                    <a:ext cx="76168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pectral Irradiance v.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295280"/>
          <a:ext cx="6705720" cy="49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67057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762120" y="1447920"/>
            <a:ext cx="838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283680" y="3493440"/>
            <a:ext cx="308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rradiance (W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mission Spectra of the Sun and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rradiance emission versus wavelength for the Sun and Earth when both are considered black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905120"/>
          <a:ext cx="7162920" cy="47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162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33520" y="1981080"/>
            <a:ext cx="609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588240" y="3807720"/>
            <a:ext cx="308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rradiance (W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ltraviolet and Visible Solar Spect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ltraviolet and visible portions of the solar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1523880"/>
          <a:ext cx="7391160" cy="51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39116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80880" y="1523880"/>
            <a:ext cx="60984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740880" y="3492000"/>
            <a:ext cx="308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rradiance (W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ien’s Displacement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fferentiate Planck's law with respect to wavelength at constant temperature and set result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ak wavelength of emissions from blackbody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200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n’s photosp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2897/5800 K         = 0.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200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200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rth’s surfa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2897/288 K           = 10.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8120" y="2800440"/>
          <a:ext cx="2190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00440"/>
                    <a:ext cx="2190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ien’s Displacement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7520" y="624852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143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ives line through peak irradiances at different temper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31880"/>
          <a:ext cx="7772400" cy="51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31880"/>
                    <a:ext cx="77724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5800" y="1752480"/>
            <a:ext cx="609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512280" y="3650760"/>
            <a:ext cx="308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rradiance (W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efan-Boltzmann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tegrate Planck irradiance over all wave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fan-Boltzmann law (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1055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= 5800 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--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64 million 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= 288 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--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390 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fan-Boltzmann consta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487692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895480" y="2057400"/>
          <a:ext cx="336420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364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362320" y="3352680"/>
          <a:ext cx="364968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352680"/>
                    <a:ext cx="3649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95880" y="36576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flection and Re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990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ngle of reflection equals angle of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ngle of wave propagation relative to surface normal changes as the wave passes from a medium of one density to that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2835360"/>
          <a:ext cx="6705720" cy="37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35360"/>
                    <a:ext cx="670572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f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9144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lbedo = fraction of incident sunlight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2743200"/>
          <a:ext cx="15554520" cy="32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43200"/>
                    <a:ext cx="1555452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80880" y="2057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bedos in the non-UVB solar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nell’s law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 part of the index of refraction (≥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tio of speed of light in a vacuum to that in a given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 part of the index of refraction of ai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657600" y="1371600"/>
          <a:ext cx="16509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371600"/>
                    <a:ext cx="16509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886200" y="3352680"/>
          <a:ext cx="10476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352680"/>
                    <a:ext cx="10476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143000" y="5029200"/>
          <a:ext cx="682452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029200"/>
                    <a:ext cx="68245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arth-Atmosphere Energy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000080"/>
          <a:ext cx="693432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00080"/>
                    <a:ext cx="693432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l Refractive Indices v Wave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676520"/>
            <a:ext cx="617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Wavelength (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Air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000292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000279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000274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.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000273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2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21932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5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ir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002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wate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2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ir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9971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2456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90720" y="2362320"/>
          <a:ext cx="16509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16509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04920" y="4191120"/>
          <a:ext cx="3794040" cy="210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379404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otal Internal Ref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itical angl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19520" y="2133720"/>
          <a:ext cx="33732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33732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752480" y="3733920"/>
            <a:ext cx="586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ir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002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wate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8.53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eometry of a Primary Rainb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195560"/>
          <a:ext cx="777240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95560"/>
                    <a:ext cx="7772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ffraction Around A Part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440080"/>
          <a:ext cx="7010280" cy="42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40080"/>
                    <a:ext cx="7010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ygens'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ach point of an advancing wavefront may be considered the source of a new series of secondary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diation Scattering by a 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9144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 A is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 B is refracted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 C is dif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 D is refracted, reflected twice, then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 E is refracted, reflected once, and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2884320"/>
          <a:ext cx="7543800" cy="38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84320"/>
                    <a:ext cx="75438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71800" y="9144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9144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rward and Back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1911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oud dro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catter primarily in the forwar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257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catter evenly in the forward and backward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1219320"/>
          <a:ext cx="8534160" cy="26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53416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nge in Color of Sun During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851040"/>
          <a:ext cx="6781680" cy="55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51040"/>
                    <a:ext cx="678168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Gas 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Absorption wavelengths (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isible/Near-UV/Far-UV absor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Ozone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35, 0.45-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Nitrate radical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Nitrogen dioxide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ar-UV/Far-UV absor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Formaldehyde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Nitric acid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ar-UV absor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Molecular oxygen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Carbon dioxide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Water vapor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Molecular nitrogen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&lt;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97520" y="60958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of transmitted radiation through all importa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2120" y="1905120"/>
          <a:ext cx="7315200" cy="41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315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23800" y="1676520"/>
            <a:ext cx="6098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-370080" y="3330000"/>
            <a:ext cx="265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ergy Transfer From Equator to P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066680"/>
          <a:ext cx="7772400" cy="51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7724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838080" y="1143000"/>
            <a:ext cx="83844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569880" y="3152160"/>
            <a:ext cx="3660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diant energy per year -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97520" y="60958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of transmitted radiation through water 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752480"/>
          <a:ext cx="7391160" cy="42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39116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23800" y="1676520"/>
            <a:ext cx="6098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-370080" y="3330000"/>
            <a:ext cx="265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0" y="58672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1447920"/>
          <a:ext cx="7925040" cy="45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92504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840" y="1447920"/>
            <a:ext cx="609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-446400" y="3099960"/>
            <a:ext cx="265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97520" y="60958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09480" y="1447920"/>
          <a:ext cx="7772400" cy="44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57200" y="1295280"/>
            <a:ext cx="609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-437040" y="2949120"/>
            <a:ext cx="265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7520" y="60958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295280"/>
          <a:ext cx="8076960" cy="45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076960" cy="45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920" y="1447920"/>
            <a:ext cx="609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589320" y="3101400"/>
            <a:ext cx="265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tinc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97520" y="60958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ttenuation of incident radiance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due to absorption as it travels through a column of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33720" y="2046240"/>
          <a:ext cx="4800600" cy="28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46240"/>
                    <a:ext cx="48006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1055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coefficient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or k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 measure of the loss of radiation per unit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tinc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uction in radiance with distance through a ga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coefficient due gas absorp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miss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828800" y="1523880"/>
          <a:ext cx="53006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5300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762120" y="2743200"/>
          <a:ext cx="736416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743200"/>
                    <a:ext cx="7364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523880" y="3962520"/>
          <a:ext cx="565020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962520"/>
                    <a:ext cx="56502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371600" y="5638680"/>
          <a:ext cx="628488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638680"/>
                    <a:ext cx="62848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bsorp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coefficient in terms of mass absorp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09440" y="1447920"/>
          <a:ext cx="895824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1447920"/>
                    <a:ext cx="89582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7697520" y="609588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057400" y="2514600"/>
            <a:ext cx="4255920" cy="4343400"/>
            <a:chOff x="2057400" y="2514600"/>
            <a:chExt cx="4255920" cy="4343400"/>
          </a:xfrm>
        </p:grpSpPr>
        <p:graphicFrame>
          <p:nvGraphicFramePr>
            <p:cNvPr id="294" name=""/>
            <p:cNvGraphicFramePr/>
            <p:nvPr/>
          </p:nvGraphicFramePr>
          <p:xfrm>
            <a:off x="2279520" y="2666880"/>
            <a:ext cx="4033800" cy="4191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9520" y="2666880"/>
                      <a:ext cx="4033800" cy="419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"/>
            <p:cNvSpPr/>
            <p:nvPr/>
          </p:nvSpPr>
          <p:spPr>
            <a:xfrm>
              <a:off x="2057400" y="2514600"/>
              <a:ext cx="60948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367920" y="4358520"/>
              <a:ext cx="3917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sorption coefficient (c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/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bsorp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ption Coefficie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-broadened half-width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90720" y="1905120"/>
          <a:ext cx="7870680" cy="16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8706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73160" y="4572000"/>
          <a:ext cx="889452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160" y="4572000"/>
                    <a:ext cx="88945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ansmiss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nochromatic transmiss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transmission when two absorption line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mission overestimated when lines averaged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219320" y="1905120"/>
          <a:ext cx="68562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8562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286000" y="3505320"/>
          <a:ext cx="434808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4348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743200" y="5334120"/>
          <a:ext cx="36813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334120"/>
                    <a:ext cx="3681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lated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Distribu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transmission in wavenumber interval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ion of differential probability is unity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order absorption coefs. into cumulative frequency distribu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90720" y="1905120"/>
          <a:ext cx="70149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014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276720" y="3505320"/>
          <a:ext cx="21906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21906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048120" y="5257800"/>
          <a:ext cx="269712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257800"/>
                    <a:ext cx="26971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diation in the form of an electromagnetic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magnetic Spect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572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ergy per unit photon (J photo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velength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diation in the form of a phot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05320" y="2593800"/>
          <a:ext cx="14284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593800"/>
                    <a:ext cx="14284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657600" y="5181480"/>
          <a:ext cx="187308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181480"/>
                    <a:ext cx="1873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s on Visibility of 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eorological range (Koschmieder equation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Meteorological ranges due to Rayleigh scattering and NO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886200" y="1752480"/>
          <a:ext cx="148104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14810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37339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&lt;--   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bsorption   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velengt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leigh Scat.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01 ppm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25 pp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m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k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k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k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42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12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296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50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227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641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25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55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334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,590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6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65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664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3,000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s on Visibility of Gas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9144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tinction coefficient due to 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nd 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04920" y="1676520"/>
          <a:ext cx="7467480" cy="49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74674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1600200"/>
            <a:ext cx="6098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-1100880" y="3395520"/>
            <a:ext cx="3655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tinction coefficient (k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coefficient due to Rayleigh scattering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ttering cross section of a typical air molecule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isotropic correction facto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yleigh scatterer: 2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&lt;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24080" y="2286000"/>
          <a:ext cx="24130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6000"/>
                    <a:ext cx="2413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066680" y="3429000"/>
          <a:ext cx="711036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429000"/>
                    <a:ext cx="711036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124080" y="5486400"/>
          <a:ext cx="304668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486400"/>
                    <a:ext cx="3046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yleigh Scattering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6765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 atm (sea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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72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27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25909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320040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365760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1911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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17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34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maginary Index of Refraction</a:t>
            </a:r>
            <a:br>
              <a:rPr sz="2400"/>
            </a:b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 of extent to which a substance absorbs radiation</a:t>
            </a: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82880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Attenuation of incident radiance, 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, due to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01640" y="6248520"/>
            <a:ext cx="119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9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2819520"/>
          <a:ext cx="283536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283536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733920" y="25909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ion for atten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8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33920" y="4343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81480" y="3124080"/>
          <a:ext cx="1825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1825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648320" y="4952880"/>
          <a:ext cx="284940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952880"/>
                    <a:ext cx="2849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mplex Index of Re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0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213372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Real and imaginary refractive indices at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= 0.5 and 10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429000" y="1219320"/>
          <a:ext cx="1938240" cy="37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219320"/>
                    <a:ext cx="193824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28195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48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&lt;--     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   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&lt;--    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   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ubstanc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al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Imaginary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al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Imag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Liquid water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34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x10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-9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22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Black carbon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82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74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2.4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Organic matter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45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01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77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Sulfuric acid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43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x10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.89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1523880"/>
            <a:ext cx="6705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Light transmission through particles at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= 0.5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286000"/>
            <a:ext cx="8153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&lt;--   Transmission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 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Diameter (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lack carbo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Symbol"/>
                <a:ea typeface="Symbol"/>
              </a:rPr>
              <a:t>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=0.74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Symbol"/>
                <a:ea typeface="Symbol"/>
              </a:rPr>
              <a:t>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=1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9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16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999999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8x10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-9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99999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9999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maginary Refractive Index of Liquid Nitrobenz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90720" y="1600200"/>
          <a:ext cx="6553080" cy="44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655308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914400" y="1295280"/>
            <a:ext cx="609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-633240" y="3209040"/>
            <a:ext cx="378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maginary index of re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Extinction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1430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absorption/scattering extinction coefficie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4114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absorption/scattering cross section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916360" y="1600200"/>
          <a:ext cx="295092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600200"/>
                    <a:ext cx="29509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3048120" y="2927520"/>
          <a:ext cx="2887560" cy="111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927520"/>
                    <a:ext cx="288756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124080" y="4648320"/>
          <a:ext cx="263376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648320"/>
                    <a:ext cx="26337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3200400" y="5486400"/>
          <a:ext cx="257004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486400"/>
                    <a:ext cx="2570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yndall Absorption /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9907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Rayleigh regime (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&lt;0.03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&lt;0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2698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ndall absorption efficiency (linear 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1523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ze parame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581280" y="1905120"/>
          <a:ext cx="19368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05120"/>
                    <a:ext cx="1936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62080" y="3157560"/>
          <a:ext cx="872964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080" y="3157560"/>
                    <a:ext cx="872964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80880" y="5562720"/>
          <a:ext cx="11113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562720"/>
                    <a:ext cx="111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209680" y="4921200"/>
          <a:ext cx="3427560" cy="15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921200"/>
                    <a:ext cx="342756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5562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55627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linear with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magnetic Spect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3716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3.97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J photo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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.996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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37160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ample 9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9880" y="4876920"/>
          <a:ext cx="2541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876920"/>
                    <a:ext cx="254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809880" y="2666880"/>
          <a:ext cx="2541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66880"/>
                    <a:ext cx="2541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848680" y="3581280"/>
            <a:ext cx="4522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.98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J photo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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.998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0.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yndall Absorption /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ndall scattering efficiency [linear with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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7 (Liquid wat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080" y="40384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1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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i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8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666880" y="1981080"/>
          <a:ext cx="374508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81080"/>
                    <a:ext cx="37450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ie Absorption /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9907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Mie regime (0.03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&lt;32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or 0.1&lt;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&lt;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particle Mie absorption efficiency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523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particle Mie scattering efficienc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particle total extinction coefficie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057400" y="1905120"/>
          <a:ext cx="498312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983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124080" y="3809880"/>
          <a:ext cx="301464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09880"/>
                    <a:ext cx="30146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2286000" y="5105520"/>
          <a:ext cx="48560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105520"/>
                    <a:ext cx="48560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ot Absorption/Scattering Effici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ngle Particle Absorption/Scattering Efficiency at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0.5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66680" y="1828800"/>
          <a:ext cx="7239240" cy="44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286000" y="2743200"/>
            <a:ext cx="304920" cy="232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1411920" y="36144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0007"/>
                </a:solidFill>
                <a:latin typeface="Times New Roman"/>
              </a:rPr>
              <a:t>Rayleigh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ater Absorption/Scattering Effici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ngle Particle Absorption/Scattering Efficiency at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0.5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838080" y="1905120"/>
          <a:ext cx="716292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1629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2133720" y="2362320"/>
            <a:ext cx="457200" cy="23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1335600" y="33858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0007"/>
                </a:solidFill>
                <a:latin typeface="Times New Roman"/>
              </a:rPr>
              <a:t>Rayleigh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eometric Absorption /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1676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the limit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∞),  scattering efficiency is consta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4495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9.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2280" y="9907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Geometric regime (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&gt;32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&gt;100) --&gt; significant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so, a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∞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gardless of how weak the imaginary index of refraction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590920" y="2209680"/>
          <a:ext cx="384012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38401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685800" y="49528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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34 for liqui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1 as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∞ from9.4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i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1 as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∞ from Fig. 9.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ix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average dielectric consta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4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avera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x dielectric consta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286000" y="1492200"/>
          <a:ext cx="51102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51102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838080" y="3352680"/>
          <a:ext cx="7301160" cy="11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352680"/>
                    <a:ext cx="730116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685800" y="5257800"/>
          <a:ext cx="758520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257800"/>
                    <a:ext cx="75852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ix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 and imaginary refractive indic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3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/imaginary complex dielectric consta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600200" y="2019240"/>
          <a:ext cx="20318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19240"/>
                    <a:ext cx="2031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5029200" y="2133720"/>
          <a:ext cx="180972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1809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380880" y="4127400"/>
          <a:ext cx="3586320" cy="12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127400"/>
                    <a:ext cx="35863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579920" y="4114800"/>
          <a:ext cx="3649680" cy="12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9920" y="4114800"/>
                    <a:ext cx="36496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ix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uggema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6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well Garnet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43000" y="1447920"/>
          <a:ext cx="70470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0470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990720" y="4648320"/>
          <a:ext cx="745956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648320"/>
                    <a:ext cx="745956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bsorption Cross Section Enhan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bsorption cross section enhancement due to internal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066680" y="1773360"/>
          <a:ext cx="7086600" cy="42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73360"/>
                    <a:ext cx="708660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990720" y="1676520"/>
            <a:ext cx="914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-193680" y="3311280"/>
            <a:ext cx="3199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bsorption cros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hancemen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 Extinction Coefficient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44880" y="6095880"/>
            <a:ext cx="140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879560" y="1066680"/>
          <a:ext cx="483228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066680"/>
                    <a:ext cx="4832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1752480" y="1371600"/>
            <a:ext cx="6098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1121760" y="3070080"/>
            <a:ext cx="195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essure (h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tensity of emission per incremental solid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lanck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676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ck radiance (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nce actually emitted by a substance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438280" y="2209680"/>
          <a:ext cx="3713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09680"/>
                    <a:ext cx="371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29000" y="4343400"/>
          <a:ext cx="171468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146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80880" y="5105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rchoff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 thermodynamic equilibrium, absorptivity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= emissivity (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--&gt; the efficiency at which a substance absorbs equals that at which it emi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a perfect emitter is a perfect absor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 Extinction Coefficient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4524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879560" y="1219320"/>
          <a:ext cx="46944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219320"/>
                    <a:ext cx="4694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52480" y="1371600"/>
            <a:ext cx="6098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1121760" y="3222000"/>
            <a:ext cx="195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essure (h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sibility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12952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eorologic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tance from an ideal dark object at which the object has a 0.02 liminal contrast ratio against a whit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minal contras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Lowest visually perceptible brightness contrast a person can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su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ctual distance at which a person can discern an ideal dark object against the horizon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vailing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reatest visual range a person can see along 50 percent or more of the horizon circle (36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, but not necessarily in continuous sectors around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sibility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intensity of radiation increases from 0 at poin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t poin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due to the scattering of background light into the viewer’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57200" y="2438280"/>
          <a:ext cx="8001000" cy="37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0010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754524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teorological 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object intensity along path of radi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8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ast rati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extinction coefficie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3048120" y="1066680"/>
          <a:ext cx="206352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066680"/>
                    <a:ext cx="20635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200400" y="2514600"/>
          <a:ext cx="22226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2222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2362320" y="3733920"/>
          <a:ext cx="409392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733920"/>
                    <a:ext cx="4093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57200" y="4267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9.58) and substitute into (9.5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743200" y="4648320"/>
          <a:ext cx="317340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3173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457200" y="5562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eorological range (Koschmieder equatio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1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733920" y="5989680"/>
          <a:ext cx="136512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989680"/>
                    <a:ext cx="1365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teorological 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71120" y="5715000"/>
            <a:ext cx="2664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Larson et al., 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09480" y="1219320"/>
          <a:ext cx="8077320" cy="354636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523880"/>
                <a:gridCol w="1371600"/>
                <a:gridCol w="16002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Meteorological Range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Gas scatt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Gas ab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Particle scatt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Particle ab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olluted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Less-polluted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ptical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mental distance versus incremental path leng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3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extinction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mental optical depth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5257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depth as a function of altitud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838080" y="1600200"/>
          <a:ext cx="74278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27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743200" y="3124080"/>
          <a:ext cx="3110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3110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2514600" y="4495680"/>
          <a:ext cx="35226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495680"/>
                    <a:ext cx="3522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2514600" y="5715000"/>
          <a:ext cx="3935520" cy="73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5715000"/>
                    <a:ext cx="39355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ptical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600200" y="1979640"/>
          <a:ext cx="5638680" cy="48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79640"/>
                    <a:ext cx="563868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754524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914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lationship between optical depth, altitude, solar zenith angle, and path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Zenith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3520" y="24382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ar declination angle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ngle between the equator and the north or south latitude of the subsola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ola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oint at which the sun is directly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hour angl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ngle, measured westward, between longitude of subsolar point and longitude of location of interest.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sine of solar zenith ang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057400" y="1676520"/>
          <a:ext cx="49831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4983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Zenith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40320" y="6172200"/>
            <a:ext cx="1654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0.2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ometry for zenith angle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23880" y="1685880"/>
          <a:ext cx="4800600" cy="47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85880"/>
                    <a:ext cx="4800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Declination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bliquity of the eclipti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ngle between the plane of the Earth's equator and the plane of the ecliptic, which is the mean plane of the Earth's orbit around the Sun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ar declination ang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666880" y="2057400"/>
          <a:ext cx="33321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33321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286000" y="5029200"/>
          <a:ext cx="43480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029200"/>
                    <a:ext cx="4348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miss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676520"/>
          <a:ext cx="1485900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148590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7467840" y="624852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838080"/>
            <a:ext cx="541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frared emissivities of different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Declination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 longitude of the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2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cliptic longitude of the su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 anomaly of the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2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752480" y="1905120"/>
          <a:ext cx="56818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5681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2133720" y="3611520"/>
          <a:ext cx="45068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11520"/>
                    <a:ext cx="45068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438280" y="5410080"/>
          <a:ext cx="4443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5410080"/>
                    <a:ext cx="4443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Zenith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noon, when sun is directly overhead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0 ---&gt;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hour angl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4648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the sun is over the equator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0 ---&gt;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200400" y="1765440"/>
          <a:ext cx="18414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65440"/>
                    <a:ext cx="1841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490840" y="3962520"/>
          <a:ext cx="406224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0840" y="3962520"/>
                    <a:ext cx="4062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075120" y="5410080"/>
          <a:ext cx="279216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5120" y="5410080"/>
                    <a:ext cx="27921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Zenith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1676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838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9.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:00 p.m., PST, Feb. 27, 1994,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= 35 </a:t>
            </a: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= -213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= -1746.23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= -1823.4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= -1821.87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ob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= 23.4399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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= -8.52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= 15.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5791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= 45.8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95280" y="5181480"/>
          <a:ext cx="73216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181480"/>
                    <a:ext cx="7321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stices and Equin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4032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57200" y="838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lar declinations during solstices and equinoxes. The Earth-Sun distance is greatest at the summer sols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38080" y="1657440"/>
          <a:ext cx="647712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57440"/>
                    <a:ext cx="6477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diative Transfer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ttering of radiation out of the bea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5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9144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nge in radiance / irradiance along a beam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ption of radiation along the bea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6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0880" y="15238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radiance along incremental path leng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2362320"/>
          <a:ext cx="622116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221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3200400" y="3886200"/>
          <a:ext cx="257004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86200"/>
                    <a:ext cx="25700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3157560" y="5456160"/>
          <a:ext cx="263376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7560" y="5456160"/>
                    <a:ext cx="2633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diative Transfer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scattering of direct solar radiation into bea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8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mission of infrared Planckian radiation into bea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9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1143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scattering of diffuse radiation into the bea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2440" y="1835280"/>
          <a:ext cx="841068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835280"/>
                    <a:ext cx="84106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609480" y="3816360"/>
          <a:ext cx="752328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16360"/>
                    <a:ext cx="75232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48120" y="5683320"/>
          <a:ext cx="288756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683320"/>
                    <a:ext cx="2887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tinction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due to total scattering plus absorp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1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" y="1143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due to total scatterin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inction due to total absorp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0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362320" y="2057400"/>
          <a:ext cx="41259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4125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300400" y="3746520"/>
          <a:ext cx="42526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0" y="3746520"/>
                    <a:ext cx="4252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3276720" y="5562720"/>
          <a:ext cx="234936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562720"/>
                    <a:ext cx="2349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ttering Phas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" y="2438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directs diffuse radiation from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’,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’ to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9907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ives angular distribution of scattered energy vs.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ttering phase function for diffuse radia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ttering phase function for direct radia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directs direct solar radiation from -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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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46120" y="2527200"/>
          <a:ext cx="1968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2527200"/>
                    <a:ext cx="196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457200" y="4419720"/>
          <a:ext cx="22543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22543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ttering Phas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ngle scattering of direct solar radiation and multiple scattering of diffus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4032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685800" y="1689120"/>
          <a:ext cx="609588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89120"/>
                    <a:ext cx="6095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ttering Phas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                                   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3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" y="1143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ttering phase function defined such tha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angle between directions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’,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’ and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2743200" y="1828800"/>
          <a:ext cx="3300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3300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114640" y="4038480"/>
          <a:ext cx="2381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4640" y="4038480"/>
                    <a:ext cx="2381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209680" y="4876920"/>
          <a:ext cx="457056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876920"/>
                    <a:ext cx="4570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id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diance emitted from point (O) passes through incremental area d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t distanc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from th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19720" y="1295280"/>
          <a:ext cx="451476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95280"/>
                    <a:ext cx="4514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80880" y="2057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43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mental surface area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2514600"/>
          <a:ext cx="49831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4983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80880" y="35053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tabLst>
                <a:tab algn="l" pos="0"/>
                <a:tab algn="l" pos="3429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mental solid angle (sr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3429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teradians analogous to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4267080"/>
          <a:ext cx="3089160" cy="8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267080"/>
                    <a:ext cx="30891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52578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43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id angle around a spher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5791320"/>
          <a:ext cx="51469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791320"/>
                    <a:ext cx="514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ttering Phas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ase function for Rayleigh scatter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5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1143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ase function for isotropic scatterin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nyey-Greenstein func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6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581280" y="1828800"/>
          <a:ext cx="1746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828800"/>
                    <a:ext cx="1746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2666880" y="3352680"/>
          <a:ext cx="34275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352680"/>
                    <a:ext cx="3427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600200" y="4800600"/>
          <a:ext cx="5586480" cy="13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800600"/>
                    <a:ext cx="55864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ttering Phas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914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cattering phase functions for (a) isotropic and (b) Rayleigh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24032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304920" y="1919160"/>
          <a:ext cx="4038480" cy="32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19160"/>
                    <a:ext cx="40384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724280" y="1933560"/>
          <a:ext cx="4038840" cy="325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933560"/>
                    <a:ext cx="403884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2286000" y="51055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502920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symmetry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 with                                  -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9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838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rst moment of phase function -- relative direction of scatterin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tropic Scattering ---&gt;                          -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0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87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762120" y="1371600"/>
          <a:ext cx="663408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66340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2209680" y="2895480"/>
          <a:ext cx="4761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895480"/>
                    <a:ext cx="4761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2190600" y="3886200"/>
          <a:ext cx="23814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0600" y="3886200"/>
                    <a:ext cx="238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1676520" y="4343400"/>
          <a:ext cx="599904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343400"/>
                    <a:ext cx="5999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3657600" y="5257800"/>
          <a:ext cx="17463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257800"/>
                    <a:ext cx="1746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2057400" y="5791320"/>
          <a:ext cx="517356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91320"/>
                    <a:ext cx="5173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symmetry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e scattering -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2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yleigh scattering ---&gt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catter rati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3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066680" y="1981080"/>
          <a:ext cx="70786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078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2971800" y="3657600"/>
          <a:ext cx="29829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657600"/>
                    <a:ext cx="2982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1981080" y="4800600"/>
          <a:ext cx="5046840" cy="15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800600"/>
                    <a:ext cx="504684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ergy Emitted by Sun to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emissions from Sun's photosphere = 3.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radius from Sun center to photosphere = 6.96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temperature of photosphere = 5796 K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12193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med irradiance (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emitted at Sun's photosphe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9.10: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53341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5796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≈ 6.4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3200400" y="1905120"/>
          <a:ext cx="27050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05120"/>
                    <a:ext cx="27050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alculated           ≈ 1379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 summed irradiance at top of Earth's atmosphe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d            ≈ 1365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aries by +/- 1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ver each 11 year sunspot cycle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2421000" y="1968480"/>
          <a:ext cx="4284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1000" y="1968480"/>
                    <a:ext cx="4284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2057400" y="3352680"/>
          <a:ext cx="3808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52680"/>
                    <a:ext cx="380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2057400" y="3898800"/>
          <a:ext cx="38088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898800"/>
                    <a:ext cx="380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ar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ily solar flux depends on Earth-Sun di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3200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mpirical formul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429000" y="1981080"/>
          <a:ext cx="20638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81080"/>
                    <a:ext cx="20638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1081080" y="3733920"/>
          <a:ext cx="691992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1080" y="3733920"/>
                    <a:ext cx="69199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2516040" y="4724280"/>
          <a:ext cx="49514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6040" y="4724280"/>
                    <a:ext cx="4951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359160" y="5867280"/>
          <a:ext cx="212724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9160" y="5867280"/>
                    <a:ext cx="2127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cident Solar Fl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143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9.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" y="16765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cember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365 x 1.034 = 1411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June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365 x 0.967 = 1321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Irradiance varies by 90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6.6%) between Dec. and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46483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mulative solar irradiance as sum of spectral irradianc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066680" y="5181480"/>
          <a:ext cx="68248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181480"/>
                    <a:ext cx="6824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5720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lationship between the Sun and Earth during the solstices and equin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24032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9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533520" y="2128680"/>
          <a:ext cx="8229600" cy="38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28680"/>
                    <a:ext cx="822960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Earth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ergy (W) absorbed by the Earth-atmosphere syste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57200" y="28954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ergy emitted by the Earth's surfa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" y="4495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e --&gt; temperature without greenhouse effec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895480" y="1924200"/>
          <a:ext cx="320544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24200"/>
                    <a:ext cx="3205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2871720" y="3581280"/>
          <a:ext cx="330048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1720" y="3581280"/>
                    <a:ext cx="33004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2971800" y="5105520"/>
          <a:ext cx="2951280" cy="12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105520"/>
                    <a:ext cx="29512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pectral Actinic Flux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tegral of spectral radiance over all solid angles of a sphere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sed to calculate photolysis rat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mental spectral actinic flux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tral actinic flux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tropic spectral actinic flux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29000" y="2209680"/>
          <a:ext cx="18414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09680"/>
                    <a:ext cx="1841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95280" y="3276720"/>
          <a:ext cx="653904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76720"/>
                    <a:ext cx="65390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38280" y="4952880"/>
          <a:ext cx="422136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952880"/>
                    <a:ext cx="42213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Earth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13716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9.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43000" y="20574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6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365 W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6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,0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6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 = 254.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6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ctual average surface temperature on earth ≈ 288 K --&gt; difference due to absorption by greenhouse gase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2057400" y="2057400"/>
          <a:ext cx="4017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401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diative Transfer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" y="914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28954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scattering albedo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46483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extinc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5638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289080" y="1219320"/>
          <a:ext cx="870264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219320"/>
                    <a:ext cx="87026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1550880" y="1955880"/>
          <a:ext cx="736452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0880" y="1955880"/>
                    <a:ext cx="7364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152280" y="3505320"/>
          <a:ext cx="875988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505320"/>
                    <a:ext cx="8759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3517920" y="5181480"/>
          <a:ext cx="23493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7920" y="5181480"/>
                    <a:ext cx="2349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3549600" y="6095880"/>
          <a:ext cx="23176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49600" y="6095880"/>
                    <a:ext cx="2317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diative Transfer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" y="23623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990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radiative transfer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3657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3520" y="50292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1600200" y="1600200"/>
          <a:ext cx="609444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0944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457200" y="2819520"/>
          <a:ext cx="822024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19520"/>
                    <a:ext cx="8220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990720" y="4114800"/>
          <a:ext cx="733248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114800"/>
                    <a:ext cx="73324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2971800" y="5543640"/>
          <a:ext cx="310824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543640"/>
                    <a:ext cx="31082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er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7200" y="37339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der only absorption in downward direc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2971800" y="2209680"/>
          <a:ext cx="29829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209680"/>
                    <a:ext cx="29829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1436760" y="4724280"/>
          <a:ext cx="641196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4724280"/>
                    <a:ext cx="64119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hwartzchild’s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7200" y="32004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der absorption and infrared emission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438280" y="2057400"/>
          <a:ext cx="39355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3935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371600" y="3962520"/>
          <a:ext cx="641196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962520"/>
                    <a:ext cx="64119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760400" y="4952880"/>
          <a:ext cx="593568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0400" y="4952880"/>
                    <a:ext cx="59356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wo-Stream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" y="41911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9.114) into (9.105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vide phase function into upward (+) and downward componen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130320" y="2260440"/>
          <a:ext cx="909000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2260440"/>
                    <a:ext cx="909000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206280" y="4876920"/>
          <a:ext cx="87854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280" y="4876920"/>
                    <a:ext cx="8785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wo-Stream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28954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d fraction of backscattered energ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d fraction of forward scattered energ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" y="4572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ffective asymmetry paramet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3352680" y="1981080"/>
          <a:ext cx="228600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81080"/>
                    <a:ext cx="2286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3505320" y="3657600"/>
          <a:ext cx="18730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657600"/>
                    <a:ext cx="18730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209680" y="5334120"/>
          <a:ext cx="46339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334120"/>
                    <a:ext cx="46339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 Asymmetry Para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1295280"/>
            <a:ext cx="4646520" cy="4876920"/>
            <a:chOff x="0" y="1295280"/>
            <a:chExt cx="4646520" cy="4876920"/>
          </a:xfrm>
        </p:grpSpPr>
        <p:graphicFrame>
          <p:nvGraphicFramePr>
            <p:cNvPr id="811" name=""/>
            <p:cNvGraphicFramePr/>
            <p:nvPr/>
          </p:nvGraphicFramePr>
          <p:xfrm>
            <a:off x="228600" y="1295280"/>
            <a:ext cx="4417920" cy="4876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95280"/>
                      <a:ext cx="4417920" cy="487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3" name=""/>
            <p:cNvSpPr/>
            <p:nvPr/>
          </p:nvSpPr>
          <p:spPr>
            <a:xfrm>
              <a:off x="0" y="1523880"/>
              <a:ext cx="60948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-630720" y="3369600"/>
              <a:ext cx="1953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4495680" y="1295280"/>
            <a:ext cx="4648320" cy="5263200"/>
            <a:chOff x="4495680" y="1295280"/>
            <a:chExt cx="4648320" cy="5263200"/>
          </a:xfrm>
        </p:grpSpPr>
        <p:sp>
          <p:nvSpPr>
            <p:cNvPr id="816" name=""/>
            <p:cNvSpPr/>
            <p:nvPr/>
          </p:nvSpPr>
          <p:spPr>
            <a:xfrm>
              <a:off x="7240320" y="617220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9.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7" name=""/>
            <p:cNvGraphicFramePr/>
            <p:nvPr/>
          </p:nvGraphicFramePr>
          <p:xfrm>
            <a:off x="4729320" y="1295280"/>
            <a:ext cx="4414680" cy="4876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9320" y="1295280"/>
                      <a:ext cx="4414680" cy="487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9" name=""/>
            <p:cNvSpPr/>
            <p:nvPr/>
          </p:nvSpPr>
          <p:spPr>
            <a:xfrm>
              <a:off x="4495680" y="1371600"/>
              <a:ext cx="60984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3864960" y="3222000"/>
              <a:ext cx="1953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wo-Stream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" y="28954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wnward radiance 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ward radiance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0880" y="4800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rradiances in terms of radiance for two-stream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04920" y="1905120"/>
          <a:ext cx="860112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6011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228600" y="3581280"/>
          <a:ext cx="87915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87915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295280" y="5638680"/>
          <a:ext cx="190512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638680"/>
                    <a:ext cx="1905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5867280" y="5638680"/>
          <a:ext cx="1905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638680"/>
                    <a:ext cx="1905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wo-Stream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7200" y="22096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ar irradian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7200" y="1143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ubstitute irradiances and generalize for different phase function approx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57200" y="45720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boundary condi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9.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2209680" y="2743200"/>
          <a:ext cx="51102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5110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1805040" y="3670200"/>
          <a:ext cx="59673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5040" y="3670200"/>
                    <a:ext cx="5967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457200" y="5257800"/>
          <a:ext cx="853740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257800"/>
                    <a:ext cx="85374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24T05:36:38Z</dcterms:modified>
  <cp:revision>500</cp:revision>
  <dc:subject/>
  <dc:title>Slide 1</dc:title>
</cp:coreProperties>
</file>