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7.bin" ContentType="application/vnd.openxmlformats-officedocument.oleObject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6.bin" ContentType="application/vnd.openxmlformats-officedocument.oleObject"/>
  <Override PartName="/ppt/embeddings/oleObject8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4.docx" ContentType="application/vnd.openxmlformats-officedocument.wordprocessingml.document"/>
  <Override PartName="/ppt/embeddings/oleObject5.bin" ContentType="application/vnd.openxmlformats-officedocument.oleObjec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56.pct" ContentType="image/x-pict"/>
  <Override PartName="/ppt/media/image55.pct" ContentType="image/x-pict"/>
  <Override PartName="/ppt/media/image54.pct" ContentType="image/x-pict"/>
  <Override PartName="/ppt/media/image53.pct" ContentType="image/x-pict"/>
  <Override PartName="/ppt/media/image52.pct" ContentType="image/x-pict"/>
  <Override PartName="/ppt/media/image51.pct" ContentType="image/x-pict"/>
  <Override PartName="/ppt/media/image50.pct" ContentType="image/x-pict"/>
  <Override PartName="/ppt/media/image46.pct" ContentType="image/x-pict"/>
  <Override PartName="/ppt/media/image45.pct" ContentType="image/x-pict"/>
  <Override PartName="/ppt/media/image44.pct" ContentType="image/x-pict"/>
  <Override PartName="/ppt/media/image43.pct" ContentType="image/x-pict"/>
  <Override PartName="/ppt/media/image42.pct" ContentType="image/x-pict"/>
  <Override PartName="/ppt/media/image41.pct" ContentType="image/x-pict"/>
  <Override PartName="/ppt/media/image40.pct" ContentType="image/x-pict"/>
  <Override PartName="/ppt/media/image30.pct" ContentType="image/x-pict"/>
  <Override PartName="/ppt/media/image39.pct" ContentType="image/x-pict"/>
  <Override PartName="/ppt/media/image9.pct" ContentType="image/x-pict"/>
  <Override PartName="/ppt/media/image86.pct" ContentType="image/x-pict"/>
  <Override PartName="/ppt/media/image13.pct" ContentType="image/x-pict"/>
  <Override PartName="/ppt/media/image1.pct" ContentType="image/x-pict"/>
  <Override PartName="/ppt/media/image38.pct" ContentType="image/x-pict"/>
  <Override PartName="/ppt/media/image8.pct" ContentType="image/x-pict"/>
  <Override PartName="/ppt/media/image85.pct" ContentType="image/x-pict"/>
  <Override PartName="/ppt/media/image49.pct" ContentType="image/x-pict"/>
  <Override PartName="/ppt/media/image100.pct" ContentType="image/x-pict"/>
  <Override PartName="/ppt/media/image12.pct" ContentType="image/x-pict"/>
  <Override PartName="/ppt/media/image109.pct" ContentType="image/x-pict"/>
  <Override PartName="/ppt/media/image37.pct" ContentType="image/x-pict"/>
  <Override PartName="/ppt/media/image7.pct" ContentType="image/x-pict"/>
  <Override PartName="/ppt/media/image19.pct" ContentType="image/x-pict"/>
  <Override PartName="/ppt/media/image84.pct" ContentType="image/x-pict"/>
  <Override PartName="/ppt/media/image48.pct" ContentType="image/x-pict"/>
  <Override PartName="/ppt/media/image11.pct" ContentType="image/x-pict"/>
  <Override PartName="/ppt/media/image108.pct" ContentType="image/x-pict"/>
  <Override PartName="/ppt/media/image36.pct" ContentType="image/x-pict"/>
  <Override PartName="/ppt/media/image6.pct" ContentType="image/x-pict"/>
  <Override PartName="/ppt/media/image18.pct" ContentType="image/x-pict"/>
  <Override PartName="/ppt/media/image83.pct" ContentType="image/x-pict"/>
  <Override PartName="/ppt/media/image29.pct" ContentType="image/x-pict"/>
  <Override PartName="/ppt/media/image94.pct" ContentType="image/x-pict"/>
  <Override PartName="/ppt/media/image47.pct" ContentType="image/x-pict"/>
  <Override PartName="/ppt/media/image10.pct" ContentType="image/x-pict"/>
  <Override PartName="/ppt/media/image107.pct" ContentType="image/x-pict"/>
  <Override PartName="/ppt/media/image35.pct" ContentType="image/x-pict"/>
  <Override PartName="/ppt/media/image5.pct" ContentType="image/x-pict"/>
  <Override PartName="/ppt/media/image17.pct" ContentType="image/x-pict"/>
  <Override PartName="/ppt/media/image82.pct" ContentType="image/x-pict"/>
  <Override PartName="/ppt/media/image28.pct" ContentType="image/x-pict"/>
  <Override PartName="/ppt/media/image93.pct" ContentType="image/x-pict"/>
  <Override PartName="/ppt/media/image34.pct" ContentType="image/x-pict"/>
  <Override PartName="/ppt/media/image4.pct" ContentType="image/x-pict"/>
  <Override PartName="/ppt/media/image16.pct" ContentType="image/x-pict"/>
  <Override PartName="/ppt/media/image81.pct" ContentType="image/x-pict"/>
  <Override PartName="/ppt/media/image67.pct" ContentType="image/x-pict"/>
  <Override PartName="/ppt/media/image68.pct" ContentType="image/x-pict"/>
  <Override PartName="/ppt/media/image31.pct" ContentType="image/x-pict"/>
  <Override PartName="/ppt/media/image70.pct" ContentType="image/x-pict"/>
  <Override PartName="/ppt/media/image69.pct" ContentType="image/x-pict"/>
  <Override PartName="/ppt/media/image32.pct" ContentType="image/x-pict"/>
  <Override PartName="/ppt/media/image71.pct" ContentType="image/x-pict"/>
  <Override PartName="/ppt/media/image72.pct" ContentType="image/x-pict"/>
  <Override PartName="/ppt/media/image73.pct" ContentType="image/x-pict"/>
  <Override PartName="/ppt/media/image74.pct" ContentType="image/x-pict"/>
  <Override PartName="/ppt/media/image75.pct" ContentType="image/x-pict"/>
  <Override PartName="/ppt/media/image76.pct" ContentType="image/x-pict"/>
  <Override PartName="/ppt/media/image77.pct" ContentType="image/x-pict"/>
  <Override PartName="/ppt/media/image78.pct" ContentType="image/x-pict"/>
  <Override PartName="/ppt/media/image87.pct" ContentType="image/x-pict"/>
  <Override PartName="/ppt/media/image88.pct" ContentType="image/x-pict"/>
  <Override PartName="/ppt/media/image112.pct" ContentType="image/x-pict"/>
  <Override PartName="/ppt/media/image98.pct" ContentType="image/x-pict"/>
  <Override PartName="/ppt/media/image105.pct" ContentType="image/x-pict"/>
  <Override PartName="/ppt/media/image61.pct" ContentType="image/x-pict"/>
  <Override PartName="/ppt/media/image89.pct" ContentType="image/x-pict"/>
  <Override PartName="/ppt/media/image111.pct" ContentType="image/x-pict"/>
  <Override PartName="/ppt/media/image97.pct" ContentType="image/x-pict"/>
  <Override PartName="/ppt/media/image104.pct" ContentType="image/x-pict"/>
  <Override PartName="/ppt/media/image60.pct" ContentType="image/x-pict"/>
  <Override PartName="/ppt/media/image106.pct" ContentType="image/x-pict"/>
  <Override PartName="/ppt/media/image99.pct" ContentType="image/x-pict"/>
  <Override PartName="/ppt/media/image62.pct" ContentType="image/x-pict"/>
  <Override PartName="/ppt/media/image103.pct" ContentType="image/x-pict"/>
  <Override PartName="/ppt/media/image96.pct" ContentType="image/x-pict"/>
  <Override PartName="/ppt/media/image102.pct" ContentType="image/x-pict"/>
  <Override PartName="/ppt/media/image95.pct" ContentType="image/x-pict"/>
  <Override PartName="/ppt/media/image79.pct" ContentType="image/x-pict"/>
  <Override PartName="/ppt/media/image101.pct" ContentType="image/x-pict"/>
  <Override PartName="/ppt/media/image66.pct" ContentType="image/x-pict"/>
  <Override PartName="/ppt/media/image65.pct" ContentType="image/x-pict"/>
  <Override PartName="/ppt/media/image64.pct" ContentType="image/x-pict"/>
  <Override PartName="/ppt/media/image63.pct" ContentType="image/x-pict"/>
  <Override PartName="/ppt/media/image23.pct" ContentType="image/x-pict"/>
  <Override PartName="/ppt/media/image22.pct" ContentType="image/x-pict"/>
  <Override PartName="/ppt/media/image59.pct" ContentType="image/x-pict"/>
  <Override PartName="/ppt/media/image110.pct" ContentType="image/x-pict"/>
  <Override PartName="/ppt/media/image24.pct" ContentType="image/x-pict"/>
  <Override PartName="/ppt/media/image21.pct" ContentType="image/x-pict"/>
  <Override PartName="/ppt/media/image58.pct" ContentType="image/x-pict"/>
  <Override PartName="/ppt/media/image20.pct" ContentType="image/x-pict"/>
  <Override PartName="/ppt/media/image57.pct" ContentType="image/x-pict"/>
  <Override PartName="/ppt/media/image25.pct" ContentType="image/x-pict"/>
  <Override PartName="/ppt/media/image90.pct" ContentType="image/x-pict"/>
  <Override PartName="/ppt/media/image2.pct" ContentType="image/x-pict"/>
  <Override PartName="/ppt/media/image14.pct" ContentType="image/x-pict"/>
  <Override PartName="/ppt/media/image26.pct" ContentType="image/x-pict"/>
  <Override PartName="/ppt/media/image91.pct" ContentType="image/x-pict"/>
  <Override PartName="/ppt/media/image15.pct" ContentType="image/x-pict"/>
  <Override PartName="/ppt/media/image80.pct" ContentType="image/x-pict"/>
  <Override PartName="/ppt/media/image3.pct" ContentType="image/x-pict"/>
  <Override PartName="/ppt/media/image33.pct" ContentType="image/x-pict"/>
  <Override PartName="/ppt/media/image92.pct" ContentType="image/x-pict"/>
  <Override PartName="/ppt/media/image27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2A83-0834-4C5A-8114-40E6DEB23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0F2D-DE09-41CA-A346-91222BF2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8C4E-9C85-4878-9EC1-22F6B322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7708-D363-4A27-8769-8CF5C16E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4FD1-5959-40A2-A368-B0014052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11FB-F9BC-4D70-B0CC-169A8A78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FEE5-2B46-4C40-AE91-562E6C78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B622-E7B2-40DE-8D2B-D8DD3CCC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4A3A-9511-4D9C-AAF8-2B63A9C5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2DEF-302F-4217-A4CD-3E479217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E9A2-4A41-4A0C-B3EB-41DE3382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7EFE-0E55-432B-B711-3E1A7641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0E82-822F-4850-9369-B7B17E309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pct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pct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56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7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8.pct"/><Relationship Id="rId1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pct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pct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5.pct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pct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69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pct"/><Relationship Id="rId9" Type="http://schemas.openxmlformats.org/officeDocument/2006/relationships/package" Target="../embeddings/oleObject5.docx"/><Relationship Id="rId10" Type="http://schemas.openxmlformats.org/officeDocument/2006/relationships/image" Target="../media/image72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3.pct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4.pct"/><Relationship Id="rId1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pct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8.pct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9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80.pct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82.pct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3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84.pct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9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85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26.pct"/><Relationship Id="rId7" Type="http://schemas.openxmlformats.org/officeDocument/2006/relationships/package" Target="../embeddings/oleObject4.docx"/><Relationship Id="rId8" Type="http://schemas.openxmlformats.org/officeDocument/2006/relationships/image" Target="../media/image86.pct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8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89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90.pct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93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94.pct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6.pct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7.pct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9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0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1.pct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3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4.pct"/><Relationship Id="rId7" Type="http://schemas.openxmlformats.org/officeDocument/2006/relationships/package" Target="../embeddings/oleObject4.docx"/><Relationship Id="rId8" Type="http://schemas.openxmlformats.org/officeDocument/2006/relationships/image" Target="../media/image5.pct"/><Relationship Id="rId9" Type="http://schemas.openxmlformats.org/officeDocument/2006/relationships/package" Target="../embeddings/oleObject5.docx"/><Relationship Id="rId10" Type="http://schemas.openxmlformats.org/officeDocument/2006/relationships/image" Target="../media/image6.pct"/><Relationship Id="rId11" Type="http://schemas.openxmlformats.org/officeDocument/2006/relationships/package" Target="../embeddings/oleObject6.docx"/><Relationship Id="rId12" Type="http://schemas.openxmlformats.org/officeDocument/2006/relationships/image" Target="../media/image7.pct"/><Relationship Id="rId13" Type="http://schemas.openxmlformats.org/officeDocument/2006/relationships/package" Target="../embeddings/oleObject7.docx"/><Relationship Id="rId14" Type="http://schemas.openxmlformats.org/officeDocument/2006/relationships/image" Target="../media/image8.pct"/><Relationship Id="rId15" Type="http://schemas.openxmlformats.org/officeDocument/2006/relationships/package" Target="../embeddings/oleObject8.docx"/><Relationship Id="rId16" Type="http://schemas.openxmlformats.org/officeDocument/2006/relationships/image" Target="../media/image9.pct"/><Relationship Id="rId1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3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4.pct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6.pct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8.pct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0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1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2.pct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12.pct"/><Relationship Id="rId7" Type="http://schemas.openxmlformats.org/officeDocument/2006/relationships/package" Target="../embeddings/oleObject4.docx"/><Relationship Id="rId8" Type="http://schemas.openxmlformats.org/officeDocument/2006/relationships/image" Target="../media/image13.pct"/><Relationship Id="rId9" Type="http://schemas.openxmlformats.org/officeDocument/2006/relationships/package" Target="../embeddings/oleObject5.docx"/><Relationship Id="rId10" Type="http://schemas.openxmlformats.org/officeDocument/2006/relationships/image" Target="../media/image14.pct"/><Relationship Id="rId11" Type="http://schemas.openxmlformats.org/officeDocument/2006/relationships/package" Target="../embeddings/oleObject6.docx"/><Relationship Id="rId12" Type="http://schemas.openxmlformats.org/officeDocument/2006/relationships/image" Target="../media/image15.pct"/><Relationship Id="rId13" Type="http://schemas.openxmlformats.org/officeDocument/2006/relationships/package" Target="../embeddings/oleObject7.docx"/><Relationship Id="rId14" Type="http://schemas.openxmlformats.org/officeDocument/2006/relationships/image" Target="../media/image16.pct"/><Relationship Id="rId15" Type="http://schemas.openxmlformats.org/officeDocument/2006/relationships/package" Target="../embeddings/oleObject8.docx"/><Relationship Id="rId16" Type="http://schemas.openxmlformats.org/officeDocument/2006/relationships/image" Target="../media/image17.pct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20.pct"/><Relationship Id="rId7" Type="http://schemas.openxmlformats.org/officeDocument/2006/relationships/package" Target="../embeddings/oleObject4.docx"/><Relationship Id="rId8" Type="http://schemas.openxmlformats.org/officeDocument/2006/relationships/image" Target="../media/image21.pct"/><Relationship Id="rId9" Type="http://schemas.openxmlformats.org/officeDocument/2006/relationships/package" Target="../embeddings/oleObject5.docx"/><Relationship Id="rId10" Type="http://schemas.openxmlformats.org/officeDocument/2006/relationships/image" Target="../media/image22.pct"/><Relationship Id="rId11" Type="http://schemas.openxmlformats.org/officeDocument/2006/relationships/package" Target="../embeddings/oleObject6.docx"/><Relationship Id="rId12" Type="http://schemas.openxmlformats.org/officeDocument/2006/relationships/image" Target="../media/image23.pct"/><Relationship Id="rId13" Type="http://schemas.openxmlformats.org/officeDocument/2006/relationships/package" Target="../embeddings/oleObject7.docx"/><Relationship Id="rId14" Type="http://schemas.openxmlformats.org/officeDocument/2006/relationships/image" Target="../media/image24.pct"/><Relationship Id="rId15" Type="http://schemas.openxmlformats.org/officeDocument/2006/relationships/package" Target="../embeddings/oleObject8.docx"/><Relationship Id="rId16" Type="http://schemas.openxmlformats.org/officeDocument/2006/relationships/image" Target="../media/image25.pct"/><Relationship Id="rId1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27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28.pct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30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pct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pct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.pct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resentation Slides</a:t>
            </a:r>
            <a:r>
              <a:rPr b="1" lang="en-US" sz="4400" spc="-1" strike="noStrike">
                <a:solidFill>
                  <a:srgbClr val="187534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2800" spc="-1" strike="noStrike">
                <a:solidFill>
                  <a:srgbClr val="187534"/>
                </a:solidFill>
                <a:latin typeface="Times New Roman"/>
              </a:rPr>
              <a:t>for</a:t>
            </a:r>
            <a:r>
              <a:rPr b="1" lang="en-US" sz="4400" spc="-1" strike="noStrike">
                <a:solidFill>
                  <a:srgbClr val="187534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hapter 10</a:t>
            </a:r>
            <a:br>
              <a:rPr sz="4000"/>
            </a:br>
            <a:r>
              <a:rPr b="1" lang="en-US" sz="2800" spc="-1" strike="noStrike">
                <a:solidFill>
                  <a:srgbClr val="187534"/>
                </a:solidFill>
                <a:latin typeface="Times New Roman"/>
              </a:rPr>
              <a:t>of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undamentals of Atmospheric Modeling 2</a:t>
            </a:r>
            <a:r>
              <a:rPr b="1" lang="en-US" sz="4000" spc="-1" strike="noStrike" baseline="30000">
                <a:solidFill>
                  <a:srgbClr val="0000ff"/>
                </a:solidFill>
                <a:latin typeface="Times New Roman"/>
              </a:rPr>
              <a:t>nd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Edition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440" y="3962520"/>
            <a:ext cx="743652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rk Z. Jacob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partment of Civil &amp; Environmental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anford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anford, CA 94305-4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jacobson@stanford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7534"/>
                </a:solidFill>
                <a:latin typeface="Times New Roman"/>
              </a:rPr>
              <a:t>March 21, 2005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Rate of Change of Reactant Con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371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lementary bimolecular reaction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3733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lementary termolecular reaction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724280" y="1359000"/>
          <a:ext cx="203220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359000"/>
                    <a:ext cx="203220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782800" y="2286000"/>
          <a:ext cx="361800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2800" y="2286000"/>
                    <a:ext cx="361800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800600" y="3733920"/>
          <a:ext cx="2508120" cy="31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733920"/>
                    <a:ext cx="250812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905120" y="4876920"/>
          <a:ext cx="5808600" cy="79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5120" y="4876920"/>
                    <a:ext cx="580860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Rate of Change of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eneralized reaction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2209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ate of change of reactant concentr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971800" y="1752480"/>
          <a:ext cx="2538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752480"/>
                    <a:ext cx="2538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3276720" y="1015920"/>
          <a:ext cx="247644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1015920"/>
                    <a:ext cx="24764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362320" y="2590920"/>
          <a:ext cx="4125960" cy="79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2590920"/>
                    <a:ext cx="41259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2362320" y="3429000"/>
          <a:ext cx="4157640" cy="79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3429000"/>
                    <a:ext cx="41576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2590920" y="4952880"/>
          <a:ext cx="3713040" cy="793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90920" y="4952880"/>
                    <a:ext cx="37130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2590920" y="5867280"/>
          <a:ext cx="3649680" cy="793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90920" y="5867280"/>
                    <a:ext cx="364968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457200" y="4419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ate of change of product concentr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hird Bo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lementary termolecular combination reactio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2209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ate of change of third bod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3657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umber concentration of air molecules (molec. 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5029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umber concentration of nitrogen and oxyge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124080" y="1600200"/>
          <a:ext cx="269712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00200"/>
                    <a:ext cx="269712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2133720" y="2666880"/>
          <a:ext cx="52689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666880"/>
                    <a:ext cx="52689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1905120" y="4038480"/>
          <a:ext cx="2253960" cy="8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4038480"/>
                    <a:ext cx="225396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5486400" y="4267080"/>
          <a:ext cx="180972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4267080"/>
                    <a:ext cx="18097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981080" y="5791320"/>
          <a:ext cx="2032200" cy="50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5791320"/>
                    <a:ext cx="20322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5410080" y="5791320"/>
          <a:ext cx="2032200" cy="50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5791320"/>
                    <a:ext cx="20322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hird Bo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8000"/>
          </a:bodyPr>
          <a:p>
            <a:pPr marL="61560" indent="-615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71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xample 10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71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alculate the number concentration of M, N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, and O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when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278 K and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920 hPa and the air is d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371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371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371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87534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[M]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.40 x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molec.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371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.87x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molec.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37160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5.02 x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molec.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4343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Rate Coefficients from Kinetic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lementary bimolecular collision reactio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2209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Expose small quantity of A to large quantity of B --&gt; maximum loss of B is [A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3200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ate of loss of 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4648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gra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429000" y="1676520"/>
          <a:ext cx="203184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676520"/>
                    <a:ext cx="20318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514600" y="3657600"/>
          <a:ext cx="4284720" cy="82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3657600"/>
                    <a:ext cx="42847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2971800" y="5105520"/>
          <a:ext cx="311004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5105520"/>
                    <a:ext cx="31100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Rate Coefficients from Kinetic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523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imolecular reactio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3886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ermolecular reactio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124080" y="2362320"/>
          <a:ext cx="253836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362320"/>
                    <a:ext cx="253836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2514600" y="4876920"/>
          <a:ext cx="3745080" cy="96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4876920"/>
                    <a:ext cx="374508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rhenius Eq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371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emperature-dependence of a reaction rate coefficie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4724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grate (10.25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28954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ctiv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Smallest amount of energy required for reacting species to form an activated complex or transition state before products are formed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429000" y="1981080"/>
          <a:ext cx="222264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981080"/>
                    <a:ext cx="222264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3276720" y="5257800"/>
          <a:ext cx="2476440" cy="82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5257800"/>
                    <a:ext cx="247644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rhenius Eq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1371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Measure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vs.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--&gt; plot to find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5105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seful form of Arrhenius equ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609480" y="1828800"/>
          <a:ext cx="5791320" cy="30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5791320" cy="30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133720" y="5562720"/>
          <a:ext cx="4665600" cy="92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5562720"/>
                    <a:ext cx="466560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7468920" y="6095880"/>
            <a:ext cx="127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g. 1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emperature Depen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3520" y="251460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found by fitting equation to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31240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xample 10.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≈0 --&gt; collisional prefactor strongly depends o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191120" y="4572000"/>
            <a:ext cx="4952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molec.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s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at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298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91120" y="6019920"/>
            <a:ext cx="4952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molec.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s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at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= 298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2819520" y="1523880"/>
          <a:ext cx="352260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523880"/>
                    <a:ext cx="352260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533520" y="3406680"/>
          <a:ext cx="3998880" cy="631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406680"/>
                    <a:ext cx="39988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1447920" y="4038480"/>
          <a:ext cx="4189320" cy="54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4038480"/>
                    <a:ext cx="418932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5638680" y="4038480"/>
          <a:ext cx="1905120" cy="4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38680" y="4038480"/>
                    <a:ext cx="19051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609480" y="4876920"/>
          <a:ext cx="4060800" cy="6015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4876920"/>
                    <a:ext cx="406080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1447920" y="5410080"/>
          <a:ext cx="3744720" cy="571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47920" y="5410080"/>
                    <a:ext cx="374472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5118120" y="5486400"/>
          <a:ext cx="1968480" cy="444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18120" y="5486400"/>
                    <a:ext cx="19684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ressure-Dependence of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ate of pressure-dependent reac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4876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igh pressure limit rate coefficie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3429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ow pressure limit rate coefficient x 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447920" y="1600200"/>
          <a:ext cx="590364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00200"/>
                    <a:ext cx="590364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3048120" y="4038480"/>
          <a:ext cx="2665440" cy="63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4038480"/>
                    <a:ext cx="266544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3200400" y="5410080"/>
          <a:ext cx="2317680" cy="63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5410080"/>
                    <a:ext cx="231768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lements of Periodic Table and Their Lewis Symb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467840" y="6095880"/>
            <a:ext cx="1485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able 1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282680" y="1523880"/>
          <a:ext cx="7861320" cy="40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523880"/>
                    <a:ext cx="7861320" cy="40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ressure-Dependence of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xample 10.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52480" y="3733920"/>
            <a:ext cx="6248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71600" y="2438280"/>
            <a:ext cx="6934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5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71468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40  hPa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71468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16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71468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[M]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4.69 x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molec.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71468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0.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71468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71468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--&gt; k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0,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.60 x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0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(300/T)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2.9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molec.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s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71468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--&gt; k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0,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[M]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.47 x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71468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--&gt; k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∞,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8.16 x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molec.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s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71468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--&gt; k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 baseline="-25000">
                <a:solidFill>
                  <a:srgbClr val="1875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1.11 x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molec.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s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90920" y="4495680"/>
            <a:ext cx="4647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533520" y="1523880"/>
          <a:ext cx="3617640" cy="66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361764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AN Rate Coeffic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PAN rate coefficient as a function of pressure and temperature, respe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52280" y="1828800"/>
            <a:ext cx="4343400" cy="3903840"/>
            <a:chOff x="152280" y="1828800"/>
            <a:chExt cx="4343400" cy="3903840"/>
          </a:xfrm>
        </p:grpSpPr>
        <p:graphicFrame>
          <p:nvGraphicFramePr>
            <p:cNvPr id="281" name=""/>
            <p:cNvGraphicFramePr/>
            <p:nvPr/>
          </p:nvGraphicFramePr>
          <p:xfrm>
            <a:off x="228600" y="2057400"/>
            <a:ext cx="4267080" cy="36752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8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2057400"/>
                      <a:ext cx="4267080" cy="367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83" name=""/>
            <p:cNvGrpSpPr/>
            <p:nvPr/>
          </p:nvGrpSpPr>
          <p:grpSpPr>
            <a:xfrm>
              <a:off x="152280" y="1828800"/>
              <a:ext cx="538920" cy="3505320"/>
              <a:chOff x="152280" y="1828800"/>
              <a:chExt cx="538920" cy="3505320"/>
            </a:xfrm>
          </p:grpSpPr>
          <p:sp>
            <p:nvSpPr>
              <p:cNvPr id="284" name=""/>
              <p:cNvSpPr/>
              <p:nvPr/>
            </p:nvSpPr>
            <p:spPr>
              <a:xfrm>
                <a:off x="152280" y="1828800"/>
                <a:ext cx="533520" cy="3505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6200000">
                <a:off x="-1128960" y="3494160"/>
                <a:ext cx="325476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PAN rate coefficient (s</a:t>
                </a:r>
                <a:r>
                  <a:rPr b="0" lang="en-US" sz="2400" spc="-1" strike="noStrike" baseline="30000">
                    <a:solidFill>
                      <a:srgbClr val="0000ff"/>
                    </a:solidFill>
                    <a:latin typeface="Times New Roman"/>
                  </a:rPr>
                  <a:t>-1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6" name=""/>
          <p:cNvGrpSpPr/>
          <p:nvPr/>
        </p:nvGrpSpPr>
        <p:grpSpPr>
          <a:xfrm>
            <a:off x="4648320" y="1981080"/>
            <a:ext cx="4343400" cy="4501080"/>
            <a:chOff x="4648320" y="1981080"/>
            <a:chExt cx="4343400" cy="4501080"/>
          </a:xfrm>
        </p:grpSpPr>
        <p:graphicFrame>
          <p:nvGraphicFramePr>
            <p:cNvPr id="287" name=""/>
            <p:cNvGraphicFramePr/>
            <p:nvPr/>
          </p:nvGraphicFramePr>
          <p:xfrm>
            <a:off x="4724280" y="2077920"/>
            <a:ext cx="4267440" cy="367524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28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2077920"/>
                      <a:ext cx="4267440" cy="367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9" name=""/>
            <p:cNvSpPr/>
            <p:nvPr/>
          </p:nvSpPr>
          <p:spPr>
            <a:xfrm>
              <a:off x="7468920" y="6095880"/>
              <a:ext cx="12733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3366"/>
                  </a:solidFill>
                  <a:latin typeface="Times New Roman"/>
                </a:rPr>
                <a:t>Fig. 1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4648320" y="1981080"/>
              <a:ext cx="538560" cy="3505320"/>
              <a:chOff x="4648320" y="1981080"/>
              <a:chExt cx="538560" cy="3505320"/>
            </a:xfrm>
          </p:grpSpPr>
          <p:sp>
            <p:nvSpPr>
              <p:cNvPr id="291" name=""/>
              <p:cNvSpPr/>
              <p:nvPr/>
            </p:nvSpPr>
            <p:spPr>
              <a:xfrm>
                <a:off x="4648320" y="1981080"/>
                <a:ext cx="533160" cy="3505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200000">
                <a:off x="3366360" y="3644280"/>
                <a:ext cx="325476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PAN rate coefficient (s</a:t>
                </a:r>
                <a:r>
                  <a:rPr b="0" lang="en-US" sz="2400" spc="-1" strike="noStrike" baseline="30000">
                    <a:solidFill>
                      <a:srgbClr val="0000ff"/>
                    </a:solidFill>
                    <a:latin typeface="Times New Roman"/>
                  </a:rPr>
                  <a:t>-1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hotolysis Coeffic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3429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hotoprocess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3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981080" y="1447920"/>
          <a:ext cx="491976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447920"/>
                    <a:ext cx="491976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1066680" y="4191120"/>
          <a:ext cx="7077240" cy="1431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191120"/>
                    <a:ext cx="707724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hotolysis Rate Coeffic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04920" y="1143000"/>
            <a:ext cx="7645320" cy="2727360"/>
            <a:chOff x="304920" y="1143000"/>
            <a:chExt cx="7645320" cy="2727360"/>
          </a:xfrm>
        </p:grpSpPr>
        <p:graphicFrame>
          <p:nvGraphicFramePr>
            <p:cNvPr id="302" name=""/>
            <p:cNvGraphicFramePr/>
            <p:nvPr/>
          </p:nvGraphicFramePr>
          <p:xfrm>
            <a:off x="533520" y="1143000"/>
            <a:ext cx="7416720" cy="27273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3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1143000"/>
                      <a:ext cx="7416720" cy="272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04" name=""/>
            <p:cNvGrpSpPr/>
            <p:nvPr/>
          </p:nvGrpSpPr>
          <p:grpSpPr>
            <a:xfrm>
              <a:off x="304920" y="1295280"/>
              <a:ext cx="535320" cy="1981440"/>
              <a:chOff x="304920" y="1295280"/>
              <a:chExt cx="535320" cy="1981440"/>
            </a:xfrm>
          </p:grpSpPr>
          <p:sp>
            <p:nvSpPr>
              <p:cNvPr id="305" name=""/>
              <p:cNvSpPr/>
              <p:nvPr/>
            </p:nvSpPr>
            <p:spPr>
              <a:xfrm>
                <a:off x="304920" y="1295280"/>
                <a:ext cx="533160" cy="198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6200000">
                <a:off x="-329040" y="2088720"/>
                <a:ext cx="195300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Pressure (hPa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304920" y="3733920"/>
            <a:ext cx="8361360" cy="2900880"/>
            <a:chOff x="304920" y="3733920"/>
            <a:chExt cx="8361360" cy="2900880"/>
          </a:xfrm>
        </p:grpSpPr>
        <p:sp>
          <p:nvSpPr>
            <p:cNvPr id="308" name=""/>
            <p:cNvSpPr/>
            <p:nvPr/>
          </p:nvSpPr>
          <p:spPr>
            <a:xfrm>
              <a:off x="7392960" y="6248520"/>
              <a:ext cx="12733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3366"/>
                  </a:solidFill>
                  <a:latin typeface="Times New Roman"/>
                </a:rPr>
                <a:t>Fig. 10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9" name=""/>
            <p:cNvGraphicFramePr/>
            <p:nvPr/>
          </p:nvGraphicFramePr>
          <p:xfrm>
            <a:off x="533520" y="3733920"/>
            <a:ext cx="7416720" cy="266832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3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520" y="3733920"/>
                      <a:ext cx="7416720" cy="266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11" name=""/>
            <p:cNvGrpSpPr/>
            <p:nvPr/>
          </p:nvGrpSpPr>
          <p:grpSpPr>
            <a:xfrm>
              <a:off x="304920" y="3886200"/>
              <a:ext cx="535320" cy="1981080"/>
              <a:chOff x="304920" y="3886200"/>
              <a:chExt cx="535320" cy="1981080"/>
            </a:xfrm>
          </p:grpSpPr>
          <p:sp>
            <p:nvSpPr>
              <p:cNvPr id="312" name=""/>
              <p:cNvSpPr/>
              <p:nvPr/>
            </p:nvSpPr>
            <p:spPr>
              <a:xfrm>
                <a:off x="304920" y="3886200"/>
                <a:ext cx="533160" cy="198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6200000">
                <a:off x="-329040" y="4674600"/>
                <a:ext cx="195300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Pressure (hPa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et of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3733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3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2438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" y="4952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2209680" y="1600200"/>
          <a:ext cx="3998880" cy="63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600200"/>
                    <a:ext cx="39988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2209680" y="2971800"/>
          <a:ext cx="4060800" cy="601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971800"/>
                    <a:ext cx="406080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2362320" y="4191120"/>
          <a:ext cx="3968640" cy="601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4191120"/>
                    <a:ext cx="396864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2286000" y="5334120"/>
          <a:ext cx="3870360" cy="6318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5334120"/>
                    <a:ext cx="3870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Reaction 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" y="3733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3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" y="2438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4952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3276720" y="1676520"/>
          <a:ext cx="2697120" cy="4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76520"/>
                    <a:ext cx="269712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3124080" y="3048120"/>
          <a:ext cx="3046680" cy="48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3048120"/>
                    <a:ext cx="304668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429000" y="4343400"/>
          <a:ext cx="222264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4343400"/>
                    <a:ext cx="2222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3276720" y="5562720"/>
          <a:ext cx="2792160" cy="48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76720" y="5562720"/>
                    <a:ext cx="279216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DEs For Set of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1219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4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3809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4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" y="2514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33520" y="51055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4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52280" y="1614600"/>
          <a:ext cx="894888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14600"/>
                    <a:ext cx="89488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0" y="2884320"/>
          <a:ext cx="9086760" cy="69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884320"/>
                    <a:ext cx="908676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93600" y="4343400"/>
          <a:ext cx="9050400" cy="67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3600" y="4343400"/>
                    <a:ext cx="90504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1096920" y="5486400"/>
          <a:ext cx="7056360" cy="72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96920" y="5486400"/>
                    <a:ext cx="70563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roduction and Loss for Reaction 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7200" y="1447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duction term for N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" y="4114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oss term for N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2666880" y="2209680"/>
          <a:ext cx="3649680" cy="4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209680"/>
                    <a:ext cx="364968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3505320" y="4876920"/>
          <a:ext cx="2286000" cy="48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4876920"/>
                    <a:ext cx="22860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-folding Life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0880" y="3581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verall lifetime (s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4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" y="1371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-folding life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Time a species takes to have its concentration reduced to 1/e its original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819520" y="4724280"/>
          <a:ext cx="3585960" cy="12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4724280"/>
                    <a:ext cx="358596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-folding Life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3520" y="35053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-folding lifetime occurs whe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33520" y="495288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-folding lifetim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4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352680" y="4038480"/>
          <a:ext cx="2413080" cy="9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4038480"/>
                    <a:ext cx="241308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3505320" y="5638680"/>
          <a:ext cx="184140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5638680"/>
                    <a:ext cx="184140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533520" y="12193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imolecular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3520" y="228600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rst deriv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3657600" y="1676520"/>
          <a:ext cx="190512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1676520"/>
                    <a:ext cx="19051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3352680" y="2743200"/>
          <a:ext cx="2381400" cy="41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2680" y="2743200"/>
                    <a:ext cx="23814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Lewis Stru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lecular 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14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lecular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886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lecular nit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51814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ydroxyl rad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438280" y="1600200"/>
          <a:ext cx="739800" cy="52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00200"/>
                    <a:ext cx="739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5257800" y="1600200"/>
          <a:ext cx="878040" cy="449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1600200"/>
                    <a:ext cx="87804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2209680" y="2971800"/>
          <a:ext cx="1333800" cy="631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2971800"/>
                    <a:ext cx="133380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5257800" y="3048120"/>
          <a:ext cx="822240" cy="441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3048120"/>
                    <a:ext cx="82224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057400" y="4419720"/>
          <a:ext cx="1461960" cy="50940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7400" y="4419720"/>
                    <a:ext cx="146196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257800" y="4419720"/>
          <a:ext cx="860400" cy="44136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57800" y="4419720"/>
                    <a:ext cx="86040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2438280" y="5715000"/>
          <a:ext cx="982800" cy="76212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38280" y="5715000"/>
                    <a:ext cx="9828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5257800" y="5715000"/>
          <a:ext cx="890640" cy="571680"/>
        </p:xfrm>
        <a:graphic>
          <a:graphicData uri="http://schemas.openxmlformats.org/presentationml/2006/ole">
            <p:oleObj progId="Word.Document.12" r:id="rId1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57800" y="5715000"/>
                    <a:ext cx="890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-folding Life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imolecular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7200" y="4648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-folding lifetim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4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" y="2819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oss rate of specie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3124080" y="1828800"/>
          <a:ext cx="241308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828800"/>
                    <a:ext cx="24130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3048120" y="3352680"/>
          <a:ext cx="257004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352680"/>
                    <a:ext cx="25700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3289320" y="5207040"/>
          <a:ext cx="1968480" cy="88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89320" y="5207040"/>
                    <a:ext cx="196848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-folding Life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ermolecular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57200" y="3657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-folding lifetim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2895480" y="2209680"/>
          <a:ext cx="291960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209680"/>
                    <a:ext cx="29196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3048120" y="4572000"/>
          <a:ext cx="2570040" cy="88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4572000"/>
                    <a:ext cx="257004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tiff System of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57200" y="914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xample 10.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28954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                                   = 10.2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57200" y="1371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OH --&gt;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19810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k        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6.2 x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5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molec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s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at 298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[OH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]  = 5.0 x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molec.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" y="3962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-&gt; O +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57200" y="4419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k 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87534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.6 x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molec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s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at 298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[N</a:t>
            </a:r>
            <a:r>
              <a:rPr b="0" lang="en-US" sz="2400" spc="-1" strike="noStrike" baseline="-25000">
                <a:solidFill>
                  <a:srgbClr val="187534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]    = 1.9 x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molec. cm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3520" y="548640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---&gt;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= 2 x 10</a:t>
            </a:r>
            <a:r>
              <a:rPr b="0" lang="en-US" sz="2400" spc="-1" strike="noStrike" baseline="30000">
                <a:solidFill>
                  <a:srgbClr val="187534"/>
                </a:solidFill>
                <a:latin typeface="Times New Roman"/>
              </a:rPr>
              <a:t>-9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33520" y="62485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-&gt; stiff set of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1346040" y="2666880"/>
          <a:ext cx="2159280" cy="10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666880"/>
                    <a:ext cx="215928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1327320" y="5283360"/>
          <a:ext cx="2253960" cy="88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27320" y="5283360"/>
                    <a:ext cx="22539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alf-Life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" y="914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imolecular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7534"/>
                </a:solidFill>
                <a:latin typeface="Times New Roman"/>
              </a:rPr>
              <a:t>Half-lifetime occurs whe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5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2743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ve for half-lifetim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5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" y="3886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imolecular reac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5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" y="51814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ermolecular reac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5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3193920" y="1752480"/>
          <a:ext cx="2444760" cy="9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93920" y="1752480"/>
                    <a:ext cx="244476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3048120" y="2971800"/>
          <a:ext cx="2760480" cy="85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2971800"/>
                    <a:ext cx="27604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3276720" y="4267080"/>
          <a:ext cx="2476440" cy="88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4267080"/>
                    <a:ext cx="247644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"/>
          <p:cNvGraphicFramePr/>
          <p:nvPr/>
        </p:nvGraphicFramePr>
        <p:xfrm>
          <a:off x="3048120" y="5638680"/>
          <a:ext cx="3109680" cy="88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8120" y="5638680"/>
                    <a:ext cx="310968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Lewis Stru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143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itric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2286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itroge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3886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5486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arbon mon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914400" y="1447920"/>
          <a:ext cx="3618000" cy="69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361800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952880" y="1447920"/>
          <a:ext cx="3108600" cy="571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1447920"/>
                    <a:ext cx="31086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609480" y="2590920"/>
          <a:ext cx="3838680" cy="12715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2590920"/>
                    <a:ext cx="3838680" cy="12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5029200" y="2743200"/>
          <a:ext cx="3236760" cy="9828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29200" y="2743200"/>
                    <a:ext cx="32367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328680" y="4191120"/>
          <a:ext cx="4319640" cy="136368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8680" y="4191120"/>
                    <a:ext cx="431964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4938840" y="4411800"/>
          <a:ext cx="3367080" cy="92232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38840" y="4411800"/>
                    <a:ext cx="33670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486400" y="5829480"/>
          <a:ext cx="1203480" cy="57132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86400" y="5829480"/>
                    <a:ext cx="120348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2438280" y="5870520"/>
          <a:ext cx="1737000" cy="606600"/>
        </p:xfrm>
        <a:graphic>
          <a:graphicData uri="http://schemas.openxmlformats.org/presentationml/2006/ole">
            <p:oleObj progId="Word.Document.12" r:id="rId15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38280" y="5870520"/>
                    <a:ext cx="1737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Lewis Stru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9810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lfur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352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eth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4800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eroxyacetyl nitrate (P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981080" y="1281240"/>
          <a:ext cx="1905120" cy="69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81240"/>
                    <a:ext cx="190512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5715000" y="1295280"/>
          <a:ext cx="1333440" cy="441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295280"/>
                    <a:ext cx="133344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2095560" y="2133720"/>
          <a:ext cx="1714320" cy="13334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95560" y="2133720"/>
                    <a:ext cx="171432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791320" y="2514600"/>
          <a:ext cx="982440" cy="7002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1320" y="2514600"/>
                    <a:ext cx="98244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209680" y="3657600"/>
          <a:ext cx="1143000" cy="108108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09680" y="3657600"/>
                    <a:ext cx="11430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638680" y="3505320"/>
          <a:ext cx="1363680" cy="13334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38680" y="3505320"/>
                    <a:ext cx="136368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371600" y="5014800"/>
          <a:ext cx="2855880" cy="184320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371600" y="5014800"/>
                    <a:ext cx="2855880" cy="18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5105520" y="5181480"/>
          <a:ext cx="3268440" cy="1333800"/>
        </p:xfrm>
        <a:graphic>
          <a:graphicData uri="http://schemas.openxmlformats.org/presentationml/2006/ole">
            <p:oleObj progId="Word.Document.12" r:id="rId15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05520" y="5181480"/>
                    <a:ext cx="3268440" cy="13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hemical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lementary unimolecular photolysis reac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2666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lementary bimolecular thermal decomposition reac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4419720"/>
            <a:ext cx="8534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nelementary bimolecular thermal decomposition reaction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523880" y="1523880"/>
          <a:ext cx="3969000" cy="60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3880"/>
                    <a:ext cx="396900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6324480" y="1752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42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09680" y="3330720"/>
          <a:ext cx="4380120" cy="631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3330720"/>
                    <a:ext cx="43801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2666880" y="5257800"/>
          <a:ext cx="3459240" cy="631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5257800"/>
                    <a:ext cx="345924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hemical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lementary bimolecular collision reac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2666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ermolecular combination reac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4419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rived from a pair of elementary bimolecular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362320" y="1600200"/>
          <a:ext cx="4379760" cy="60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600200"/>
                    <a:ext cx="437976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2286000" y="3352680"/>
          <a:ext cx="4441680" cy="631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352680"/>
                    <a:ext cx="44416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523880" y="5410080"/>
          <a:ext cx="2000520" cy="31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5410080"/>
                    <a:ext cx="200052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5334120" y="5410080"/>
          <a:ext cx="2855880" cy="31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5410080"/>
                    <a:ext cx="28558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Reaction Coefficients and 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ction rates with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, 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, 3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order rate coefficient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48006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ates for photolysis reac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581280" y="1828800"/>
          <a:ext cx="177804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828800"/>
                    <a:ext cx="17780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352680" y="2819520"/>
          <a:ext cx="215928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2819520"/>
                    <a:ext cx="21592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200400" y="3886200"/>
          <a:ext cx="2602080" cy="41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3886200"/>
                    <a:ext cx="26020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3657600" y="5638680"/>
          <a:ext cx="1682640" cy="411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5638680"/>
                    <a:ext cx="16826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Rate of Change of Reactant Con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990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hotolysis reaction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2666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nelementary bimolecular reaction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4648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04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nelementary termolecular reaction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(10.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048120" y="990720"/>
          <a:ext cx="219060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990720"/>
                    <a:ext cx="219060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819520" y="1600200"/>
          <a:ext cx="301464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1600200"/>
                    <a:ext cx="30146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175360" y="2514600"/>
          <a:ext cx="2063520" cy="47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75360" y="2514600"/>
                    <a:ext cx="20635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819520" y="3429000"/>
          <a:ext cx="3173400" cy="79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19520" y="3429000"/>
                    <a:ext cx="317340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5207040" y="4495680"/>
          <a:ext cx="2031840" cy="47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07040" y="4495680"/>
                    <a:ext cx="20318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362320" y="5410080"/>
          <a:ext cx="4506840" cy="793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62320" y="5410080"/>
                    <a:ext cx="45068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00:13:47Z</dcterms:created>
  <dc:creator>Fred Ginnebaugh</dc:creator>
  <dc:description/>
  <dc:language>en-US</dc:language>
  <cp:lastModifiedBy>Mark Z. Jacobson</cp:lastModifiedBy>
  <dcterms:modified xsi:type="dcterms:W3CDTF">2005-03-21T22:58:16Z</dcterms:modified>
  <cp:revision>518</cp:revision>
  <dc:subject/>
  <dc:title>Slide 1</dc:title>
</cp:coreProperties>
</file>