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13.pct" ContentType="image/x-pict"/>
  <Override PartName="/ppt/media/image1.pct" ContentType="image/x-pict"/>
  <Override PartName="/ppt/media/image38.pct" ContentType="image/x-pict"/>
  <Override PartName="/ppt/media/image8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20.pct" ContentType="image/x-pict"/>
  <Override PartName="/ppt/media/image57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31.pct" ContentType="image/x-pict"/>
  <Override PartName="/ppt/media/image68.pct" ContentType="image/x-pict"/>
  <Override PartName="/ppt/media/image66.pct" ContentType="image/x-pict"/>
  <Override PartName="/ppt/media/image79.pct" ContentType="image/x-pict"/>
  <Override PartName="/ppt/media/image67.pct" ContentType="image/x-pict"/>
  <Override PartName="/ppt/media/image78.pct" ContentType="image/x-pict"/>
  <Override PartName="/ppt/media/image77.pct" ContentType="image/x-pict"/>
  <Override PartName="/ppt/media/image76.pct" ContentType="image/x-pict"/>
  <Override PartName="/ppt/media/image75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71.pct" ContentType="image/x-pict"/>
  <Override PartName="/ppt/media/image29.pct" ContentType="image/x-pict"/>
  <Override PartName="/ppt/media/image69.pct" ContentType="image/x-pict"/>
  <Override PartName="/ppt/media/image32.pct" ContentType="image/x-pict"/>
  <Override PartName="/ppt/media/image70.pct" ContentType="image/x-pict"/>
  <Override PartName="/ppt/media/image28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18.pct" ContentType="image/x-pict"/>
  <Override PartName="/ppt/media/image83.pct" ContentType="image/x-pict"/>
  <Override PartName="/ppt/media/image6.pct" ContentType="image/x-pict"/>
  <Override PartName="/ppt/media/image36.pct" ContentType="image/x-pict"/>
  <Override PartName="/ppt/media/image11.pct" ContentType="image/x-pict"/>
  <Override PartName="/ppt/media/image48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4A4-AB52-47E6-80E2-C5AB0173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6E0-5B95-4E85-83AD-D74FDB5E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FAE-0C08-4E3B-B19B-F3F76E1A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9D3-02E8-40EC-B512-A6F83D8A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C6F-C881-4810-8AD1-EF301CD9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E62-5B3A-41F6-856F-3A56EA19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273-53FA-414A-B992-C52ED2F1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8EA-FBD5-4672-A51E-43FB87AE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2AF-DF10-4B94-9CC9-E2DEB42B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0F6-0F05-4A96-989F-CB5AF394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008-9C50-4BE2-AAE8-3009DFE6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3FA-961A-4177-A8D1-921FE30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746C-A5E8-457D-8738-291B924BC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ct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ct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ct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ct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pct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ct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pct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ct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ct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ct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0.pct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ct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pct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6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ct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2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pct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pct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5.pct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pct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ct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pct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ct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ct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5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3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miimplicit Solution Over Arbitrary Siz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particle number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iimplicit solution for volu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 multiple componen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05320" y="1752480"/>
          <a:ext cx="14922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752480"/>
                    <a:ext cx="14922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66680" y="3657600"/>
          <a:ext cx="6539040" cy="23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657600"/>
                    <a:ext cx="653904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moluchowski’s (1918)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ssumes initial monodisperse size distribution, a monomer size distribution during evolution, and a constant rate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agulation kernel (rate coefficient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14600" y="2438280"/>
          <a:ext cx="41893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41893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114800" y="4876920"/>
          <a:ext cx="133344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876920"/>
                    <a:ext cx="13334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moluchowski’s (1918)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mparison of Smoluchowski's solution, an integrated solution, and three semi-implicit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1981080"/>
          <a:ext cx="6782040" cy="44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67820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62120" y="2362320"/>
            <a:ext cx="53316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597240" y="359352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lf-Preserving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lf-preserving size distrib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 to coagulation over self-preserving distrib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362320" y="1981080"/>
          <a:ext cx="4157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4157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95280" y="4495680"/>
          <a:ext cx="6475680" cy="11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95680"/>
                    <a:ext cx="647568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lf-Preserving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066680"/>
            <a:ext cx="59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elf-preserving versus semi-implicit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676520"/>
          <a:ext cx="7086600" cy="49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0866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62120" y="2135160"/>
            <a:ext cx="60948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-521280" y="336168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Over Multiple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295280"/>
            <a:ext cx="7467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nternal mixing among three externally-mixed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2478240"/>
          <a:ext cx="8382240" cy="19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78240"/>
                    <a:ext cx="838224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Over Multiple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concentration of compone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n b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f distribu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39720" y="2666880"/>
          <a:ext cx="8016840" cy="10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666880"/>
                    <a:ext cx="801684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50800" y="3809880"/>
          <a:ext cx="836460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00" y="3809880"/>
                    <a:ext cx="836460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22200" y="4952880"/>
          <a:ext cx="8821800" cy="101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200" y="4952880"/>
                    <a:ext cx="88218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295280" y="1508040"/>
          <a:ext cx="5923080" cy="108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1508040"/>
                    <a:ext cx="592308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57200" y="6095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4114800"/>
                <a:tab algn="l" pos="50292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number of distributions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number of size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Over Multiple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volume concentration in b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f distribu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concentration in b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f distribu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8120" y="1981080"/>
          <a:ext cx="2476440" cy="11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81080"/>
                    <a:ext cx="247644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429000" y="4419720"/>
          <a:ext cx="19051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419720"/>
                    <a:ext cx="19051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Over Multiple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fraction of coagulated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352680" y="2057400"/>
          <a:ext cx="25084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057400"/>
                    <a:ext cx="2508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" y="4191120"/>
          <a:ext cx="8647200" cy="22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864720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34600" y="2895480"/>
            <a:ext cx="6557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tioned into b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f distribu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Over Multiple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1204920"/>
          <a:ext cx="8076960" cy="50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04920"/>
                    <a:ext cx="807696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533520" y="1828800"/>
            <a:ext cx="60948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-749880" y="305712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rocess by which particles collide and stick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o-differential coagulation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2971800"/>
          <a:ext cx="63993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63993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Over Multiple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1523880"/>
          <a:ext cx="830592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059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1755720"/>
            <a:ext cx="60984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-673560" y="298404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Over Multiple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976320"/>
          <a:ext cx="6553080" cy="57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76320"/>
                    <a:ext cx="655308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4400" y="1828800"/>
            <a:ext cx="60948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368640" y="305712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 Flow Reg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nudsen number for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an free path of an air molecu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al speed of an air molecu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4952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Reynolds 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657600" y="1371600"/>
          <a:ext cx="16192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371600"/>
                    <a:ext cx="16192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76720" y="2647800"/>
          <a:ext cx="24764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647800"/>
                    <a:ext cx="24764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664080" y="4095720"/>
          <a:ext cx="174600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64080" y="4095720"/>
                    <a:ext cx="1746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505320" y="5638680"/>
          <a:ext cx="231768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5638680"/>
                    <a:ext cx="2317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 Flow Reg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066680"/>
            <a:ext cx="5790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92 K,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999 hPa, and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0 g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90720" y="1676520"/>
          <a:ext cx="64008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6400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 Flow Reg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7621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um reg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Kn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a,i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« 1 --&gt;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»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and particle resistance to motion is due to viscosity of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e molecular reg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Kn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a,i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» 10 --&gt;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«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and particle resistance to motion is due to inertia of air molecules hit by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3809880"/>
            <a:ext cx="716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743200"/>
                <a:tab algn="l" pos="3656160"/>
                <a:tab algn="l" pos="4111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ample 15.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743200"/>
                <a:tab algn="l" pos="3656160"/>
                <a:tab algn="l" pos="4111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88 K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1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743200"/>
                <a:tab algn="l" pos="3656160"/>
                <a:tab algn="l" pos="4111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.59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743200"/>
                <a:tab algn="l" pos="3656160"/>
                <a:tab algn="l" pos="4111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79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g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743200"/>
                <a:tab algn="l" pos="3656160"/>
                <a:tab algn="l" pos="4111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0123 g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743200"/>
                <a:tab algn="l" pos="3656160"/>
                <a:tab algn="l" pos="4111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6.34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743200"/>
                <a:tab algn="l" pos="3656160"/>
                <a:tab algn="l" pos="4111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K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,i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63 --&gt; continuum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743200"/>
                <a:tab algn="l" pos="3656160"/>
                <a:tab algn="l" pos="4111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agulation kernel (rate coeffic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rownia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nvective Brownian diffusion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Gravit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urbulent inertial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urbulent s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Van der Waals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Viscous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ractal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iffusi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herm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lectric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53341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rnel = product of coalescence efficiency and collision kerne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00400" y="5867280"/>
          <a:ext cx="251460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5867280"/>
                    <a:ext cx="2514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rownian Diffusion 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Brownian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Irregular motion of particle due to random bombardment by gas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inuum regime Brownian collision kernel (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artic.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diffusion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952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nningham slip-flow correction to particle resistance to mo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62320" y="2743200"/>
          <a:ext cx="40622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40622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276720" y="3962520"/>
          <a:ext cx="231768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962520"/>
                    <a:ext cx="2317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209680" y="5562720"/>
          <a:ext cx="514188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562720"/>
                    <a:ext cx="5141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rownian Diffusion 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e molecular regime Brownian collision kernel (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artic.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514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thermal spe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962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polate between continuum and free molecular regim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90920" y="1676520"/>
          <a:ext cx="39351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76520"/>
                    <a:ext cx="39351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657600" y="2819520"/>
          <a:ext cx="206388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819520"/>
                    <a:ext cx="20638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219320" y="4572000"/>
          <a:ext cx="6379920" cy="18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572000"/>
                    <a:ext cx="637992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rownian Diffusion 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an distance from center of a sphere reached by particles leaving the sphere's surface and traveling a distanc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p,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962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mean free path (cm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828800" y="2209680"/>
          <a:ext cx="533232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53323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505320" y="4572000"/>
          <a:ext cx="177804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572000"/>
                    <a:ext cx="177804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rownian Diffusion Enhan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ddies created in the wake of a large, falling particle enhance diffusion to the particl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3962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Schmidt 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981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ownian diffusion enhancement collision kerne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2438280"/>
          <a:ext cx="68245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8245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352680" y="4648320"/>
          <a:ext cx="177804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648320"/>
                    <a:ext cx="1778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nomer Siz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101680"/>
          <a:ext cx="8382240" cy="26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01680"/>
                    <a:ext cx="8382240" cy="26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ravitational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llision and coalescence when one particle falls faster than and catches up with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llection (coalescence) efficienc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057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ial fall speed collision kerne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905120" y="2438280"/>
          <a:ext cx="49831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9831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828800" y="3809880"/>
          <a:ext cx="542772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809880"/>
                    <a:ext cx="54277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33520" y="48006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oll,i,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implifie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Vi,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when R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« 1 (viscous fl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i,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when R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» 1 (potential fl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ravitational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oke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6680" y="1295280"/>
          <a:ext cx="6443640" cy="19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644364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819520" y="3352680"/>
          <a:ext cx="2950920" cy="12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352680"/>
                    <a:ext cx="29509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752480" y="5562720"/>
          <a:ext cx="361800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5562720"/>
                    <a:ext cx="36180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105240" y="5715000"/>
            <a:ext cx="1116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≥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urbulent Inertia and S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llision kernel due to turbulent inertial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llision between drops moving relative to air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32767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llision kernel due to turbulent s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llisions due to spatial variations in turbulent velocities of drops moving with ai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57150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dissipation rate of turbulent energy per gram  (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362320" y="2057400"/>
          <a:ext cx="447516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44751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819520" y="4572000"/>
          <a:ext cx="358596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0"/>
                    <a:ext cx="35859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mparisons of Coagulation Ker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9907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720" indent="-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agulation kernels when particle of (a) 0.01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 and (b) 1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 in radius coagulate at 298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0" y="1981080"/>
            <a:ext cx="4343400" cy="3772080"/>
            <a:chOff x="0" y="1981080"/>
            <a:chExt cx="4343400" cy="377208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4191120" cy="3772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981080"/>
                      <a:ext cx="4191120" cy="37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0" y="2057400"/>
              <a:ext cx="609480" cy="36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-1220760" y="3606120"/>
              <a:ext cx="32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Kernel (cm</a:t>
              </a:r>
              <a:r>
                <a:rPr b="0" lang="en-US" sz="2400" spc="-1" strike="noStrike" baseline="30000">
                  <a:solidFill>
                    <a:srgbClr val="050d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 particle</a:t>
              </a:r>
              <a:r>
                <a:rPr b="0" lang="en-US" sz="2400" spc="-1" strike="noStrike" baseline="30000">
                  <a:solidFill>
                    <a:srgbClr val="050dff"/>
                  </a:solidFill>
                  <a:latin typeface="Times New Roman"/>
                </a:rPr>
                <a:t>-1 </a:t>
              </a: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50dff"/>
                  </a:solidFill>
                  <a:latin typeface="Times New Roman"/>
                </a:rPr>
                <a:t>-1</a:t>
              </a: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724280" y="1981080"/>
            <a:ext cx="4267440" cy="4501080"/>
            <a:chOff x="4724280" y="1981080"/>
            <a:chExt cx="4267440" cy="4501080"/>
          </a:xfrm>
        </p:grpSpPr>
        <p:sp>
          <p:nvSpPr>
            <p:cNvPr id="285" name=""/>
            <p:cNvSpPr/>
            <p:nvPr/>
          </p:nvSpPr>
          <p:spPr>
            <a:xfrm>
              <a:off x="7468920" y="6095880"/>
              <a:ext cx="1273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15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6" name=""/>
            <p:cNvGraphicFramePr/>
            <p:nvPr/>
          </p:nvGraphicFramePr>
          <p:xfrm>
            <a:off x="4800600" y="1981080"/>
            <a:ext cx="4191120" cy="37720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1981080"/>
                      <a:ext cx="4191120" cy="37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"/>
            <p:cNvSpPr/>
            <p:nvPr/>
          </p:nvSpPr>
          <p:spPr>
            <a:xfrm>
              <a:off x="4724280" y="2057400"/>
              <a:ext cx="609840" cy="36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3427200" y="3525120"/>
              <a:ext cx="32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Kernel (cm</a:t>
              </a:r>
              <a:r>
                <a:rPr b="0" lang="en-US" sz="2400" spc="-1" strike="noStrike" baseline="30000">
                  <a:solidFill>
                    <a:srgbClr val="050d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 particle</a:t>
              </a:r>
              <a:r>
                <a:rPr b="0" lang="en-US" sz="2400" spc="-1" strike="noStrike" baseline="30000">
                  <a:solidFill>
                    <a:srgbClr val="050dff"/>
                  </a:solidFill>
                  <a:latin typeface="Times New Roman"/>
                </a:rPr>
                <a:t>-1 </a:t>
              </a: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50dff"/>
                  </a:solidFill>
                  <a:latin typeface="Times New Roman"/>
                </a:rPr>
                <a:t>-1</a:t>
              </a:r>
              <a:r>
                <a:rPr b="0" lang="en-US" sz="2400" spc="-1" strike="noStrike">
                  <a:solidFill>
                    <a:srgbClr val="050d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an der Waals/Viscous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n der Waals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eak dipole-dipole attractions caused by brief, local charge fluctuations in nonpolar molecules having no net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scous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wo particles moving toward each other in viscous medium have diffusion coefficients smaller than the sum of the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3505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n der Waals/viscous collision kerne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6040" y="3809880"/>
          <a:ext cx="873936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3809880"/>
                    <a:ext cx="873936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an der Waals/Viscous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219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e-molecular regime corre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4343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e-molecular regime corre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23720" y="1735200"/>
          <a:ext cx="8491680" cy="21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735200"/>
                    <a:ext cx="849168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143000" y="4952880"/>
          <a:ext cx="663408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952880"/>
                    <a:ext cx="66340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an der Waals/Viscous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1219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n der Waals interaction potenti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505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pair Knudsen 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8600" y="1749600"/>
          <a:ext cx="8793000" cy="13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49600"/>
                    <a:ext cx="8793000" cy="13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200400" y="4343400"/>
          <a:ext cx="282420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343400"/>
                    <a:ext cx="28242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an der Waals/Viscous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99072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Van der Waals/viscous corre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80880" y="1679400"/>
          <a:ext cx="8382240" cy="41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9400"/>
                    <a:ext cx="8382240" cy="41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533520" y="1833480"/>
            <a:ext cx="60948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-298440" y="30790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Corre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ractal Geo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1066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articles of irregular, fragmented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3962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spherules in aggreg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057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al (outer) radius of agglome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429000" y="2819520"/>
          <a:ext cx="203184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19520"/>
                    <a:ext cx="20318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3809880" y="4572000"/>
          <a:ext cx="13971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572000"/>
                    <a:ext cx="13971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ractal Geo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962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ea-equivalent radi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12952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bility radi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371600" y="2057400"/>
          <a:ext cx="663408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6340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914400" y="4648320"/>
          <a:ext cx="77119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77119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Over Monomer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agulation equation over monomer size distrib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in fully implicit finite-difference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828800" y="2057400"/>
          <a:ext cx="55227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5227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133720" y="4419720"/>
          <a:ext cx="47289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419720"/>
                    <a:ext cx="4728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ractal Geo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12952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ownian collision kernel modified for fracta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838080" y="2133720"/>
          <a:ext cx="766944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66944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ified Brownian Collision Ker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1486080"/>
          <a:ext cx="8305920" cy="415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86080"/>
                    <a:ext cx="8305920" cy="41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304920" y="1820880"/>
            <a:ext cx="106668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-687240" y="2994840"/>
            <a:ext cx="32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Kernel (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 particle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ified Brownian Collision Ker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04920" y="1409760"/>
          <a:ext cx="838188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09760"/>
                    <a:ext cx="83818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304920" y="1820880"/>
            <a:ext cx="106668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-687240" y="2991960"/>
            <a:ext cx="32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Kernel (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 particle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 on Aerosol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68920" y="6095880"/>
            <a:ext cx="14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1447920"/>
          <a:ext cx="8076960" cy="421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533520" y="1600200"/>
            <a:ext cx="60948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-749880" y="290772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 on Aerosol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68920" y="6095880"/>
            <a:ext cx="14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311120"/>
          <a:ext cx="8229600" cy="42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11120"/>
                    <a:ext cx="8229600" cy="42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33520" y="1530360"/>
            <a:ext cx="60948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-749880" y="2752200"/>
            <a:ext cx="32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n (No.  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50d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Times New Roman"/>
              </a:rPr>
              <a:t>Diffusiophoresis/Thermophoresis/Char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12952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usi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low of aerosol particles down concentration gradient of gas due to bombardment of particles by the gas as it diffuses down same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low of aerosol particles from warm to cool air due to bombardment of particles by gases in presence of temperature grad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ic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Opposite-charge particles attract due to Coulomb fo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05560" indent="-41040" algn="just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533520" y="3200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bilit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1430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llision kernel for diffusiophoresis, thermophoresis, charge, other ker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Times New Roman"/>
              </a:rPr>
              <a:t>Diffusiophoresis/Thermophoresis/Char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4952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 diffusion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990720" y="1828800"/>
          <a:ext cx="733248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33248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057400" y="3733920"/>
          <a:ext cx="479268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733920"/>
                    <a:ext cx="47926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505320" y="5638680"/>
          <a:ext cx="20955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638680"/>
                    <a:ext cx="2095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2209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11430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usiophoresis, thermophoresis, charge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Times New Roman"/>
              </a:rPr>
              <a:t>Diffusiophoresis/Thermophoresis/Char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4038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486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819520" y="1752480"/>
          <a:ext cx="32367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2367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85800" y="2666880"/>
          <a:ext cx="7585200" cy="11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666880"/>
                    <a:ext cx="758520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523880" y="4419720"/>
          <a:ext cx="5999400" cy="101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419720"/>
                    <a:ext cx="59994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581280" y="5791320"/>
          <a:ext cx="1650960" cy="60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5791320"/>
                    <a:ext cx="165096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llision Efficiency for Cloud-Aerosol Coa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68920" y="6095880"/>
            <a:ext cx="14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1295280"/>
          <a:ext cx="8229600" cy="49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09480" y="1606680"/>
            <a:ext cx="609840" cy="31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-383760" y="284364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Collis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llision Kernel for Cloud-Aerosol Coa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68920" y="6095880"/>
            <a:ext cx="14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5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533520" y="1298520"/>
          <a:ext cx="7924680" cy="50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8520"/>
                    <a:ext cx="792468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304920" y="1066680"/>
            <a:ext cx="1066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-687240" y="3071160"/>
            <a:ext cx="32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Kernel (cm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 particle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50d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agulation Over Monomer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5909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ion 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4290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ss 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8769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(15.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71800" y="2895480"/>
          <a:ext cx="311004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95480"/>
                    <a:ext cx="3110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295280" y="4038480"/>
          <a:ext cx="24768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038480"/>
                    <a:ext cx="24768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334120" y="4114800"/>
          <a:ext cx="1841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841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85800" y="5410080"/>
          <a:ext cx="755496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5410080"/>
                    <a:ext cx="7554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267800" y="4114800"/>
            <a:ext cx="55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9907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ite-difference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09680" y="1447920"/>
          <a:ext cx="472932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1447920"/>
                    <a:ext cx="4729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miimplicit Solution Over Monomer Siz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rite loss rate in semi-implicit fo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5.6) into (15.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--&gt; semiimplicit sol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reats number correctly but does not conserve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0" y="1600200"/>
          <a:ext cx="28242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00200"/>
                    <a:ext cx="2824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6560" y="2590920"/>
          <a:ext cx="82202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2590920"/>
                    <a:ext cx="8220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600200" y="4495680"/>
          <a:ext cx="5522760" cy="225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495680"/>
                    <a:ext cx="552276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219320" y="1600200"/>
          <a:ext cx="247644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1600200"/>
                    <a:ext cx="2476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886920" y="1676520"/>
            <a:ext cx="55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miimplicit Solution Over Monomer Siz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vise to conserve volume, giving up error in 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029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,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,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76520" y="2666880"/>
          <a:ext cx="5205240" cy="22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520524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miimplicit Solution Over Arbitrary Siz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23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of intermediate partic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fraction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artitioned to each model b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29000" y="2209680"/>
          <a:ext cx="18730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09680"/>
                    <a:ext cx="1873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9840" y="3429000"/>
          <a:ext cx="892188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" y="3429000"/>
                    <a:ext cx="892188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miimplicit Solution Over Arbitrary Siz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523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porate fractions into (15.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47920" y="2362320"/>
          <a:ext cx="5859360" cy="23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585936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31T02:47:12Z</dcterms:modified>
  <cp:revision>651</cp:revision>
  <dc:subject/>
  <dc:title>Slide 1</dc:title>
</cp:coreProperties>
</file>