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D6A-6FEB-4222-94E1-F7FFE6D7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501-F543-4A3D-AB65-02EE15FF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F33-3125-483B-B61D-A7EC693D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A0A-83EA-42A5-A150-3E43522C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F28-1110-4E9D-9211-540899A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49C-9B72-493E-8727-667F765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887-BDD8-4E18-A49C-D9E34442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5BC-2F37-4527-B6F6-724BE22A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AB4-9B41-4E0C-9FD5-62BE305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8A3-3750-46B5-8AB2-3759EEB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4EA-1C51-47BF-952B-82C1EF51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935-286C-4A07-A5F5-E2BF1797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EDD-32B3-44B4-AA19-E49E5BAA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21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31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all normalized gross 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tion-specific normalized gross 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2057400"/>
          <a:ext cx="606276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0627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209680" y="4648320"/>
          <a:ext cx="447516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648320"/>
                    <a:ext cx="44751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-specific normalized gross 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paired-in-time, paired-in-space 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73320" y="2286000"/>
          <a:ext cx="437976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3320" y="2286000"/>
                    <a:ext cx="43797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62120" y="4419720"/>
          <a:ext cx="776916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19720"/>
                    <a:ext cx="776916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paired-in-time, unpaired-in-space err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rmalized bi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90704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90704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828800" y="4495680"/>
          <a:ext cx="5530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495680"/>
                    <a:ext cx="5530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ased vari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8120" y="1523880"/>
          <a:ext cx="279216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2792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ased variance of time-specific normalized gross 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3886200"/>
          <a:ext cx="634860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886200"/>
                    <a:ext cx="63486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76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ed peak accurac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orally-paired peak accurac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2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00400" y="2286000"/>
          <a:ext cx="250812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86000"/>
                    <a:ext cx="25081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124080" y="4191120"/>
          <a:ext cx="269712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191120"/>
                    <a:ext cx="269712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eps in Model 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e purpose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termine scale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termine dimension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ect physical, chemical, dynamical processes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ec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ect comput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rite code f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mize memory and speed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ect time steps and tim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960" indent="-66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AutoNum type="arabicPeriod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t initial condi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eps in Model 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. Set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. Select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. Select ambient data fo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. Interpolate data and model results for inpu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. Select or write algorithms for statistics an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. Run model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. Run sensitivity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. Improve model based 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umber of Array Points i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143000"/>
          <a:ext cx="697392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6973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20120" y="1219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289440" y="1905120"/>
            <a:ext cx="995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7760" indent="-347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21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meteorological vari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gas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aerosol and hydrometeor distribu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size bins per distrib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components per size bin per distrib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radiative variables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three-dimensional grid cel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surface vari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two-dimensional grid cel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umber of array points required                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56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xample of Nested Dom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1049400"/>
          <a:ext cx="739152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49400"/>
                    <a:ext cx="739152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04920" y="1620720"/>
            <a:ext cx="685800" cy="334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518760" y="30751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titude (degr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esting Boundary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 values in buffer zone of progeny doma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xation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47920" y="1828800"/>
          <a:ext cx="56815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5681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286000" y="4419720"/>
          <a:ext cx="399888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419720"/>
                    <a:ext cx="3998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verse Square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8040" y="624852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1.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66680"/>
            <a:ext cx="8991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omain of influence around point O. Letters A, B, C, D, and E represent locations where data are available for interpolation to point O. The lines represent division of the domain of influence into s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2666880"/>
          <a:ext cx="3505320" cy="34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666880"/>
                    <a:ext cx="350532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40240" y="4495680"/>
            <a:ext cx="358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verse Square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verse square interpo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ified inverse square interpo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1.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90720" y="2057400"/>
          <a:ext cx="695160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9516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81080" y="4648320"/>
          <a:ext cx="888660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4648320"/>
                    <a:ext cx="88866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ilinear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52480" y="5486400"/>
          <a:ext cx="490860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486400"/>
                    <a:ext cx="49086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380880" y="990720"/>
            <a:ext cx="8382240" cy="3990960"/>
            <a:chOff x="380880" y="990720"/>
            <a:chExt cx="8382240" cy="3990960"/>
          </a:xfrm>
        </p:grpSpPr>
        <p:sp>
          <p:nvSpPr>
            <p:cNvPr id="83" name=""/>
            <p:cNvSpPr/>
            <p:nvPr/>
          </p:nvSpPr>
          <p:spPr>
            <a:xfrm>
              <a:off x="380880" y="990720"/>
              <a:ext cx="8305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1080" indent="-1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87534"/>
                  </a:solidFill>
                  <a:latin typeface="Times New Roman"/>
                </a:rPr>
                <a:t>Location of point O in a rectangle with points B, C, D, and E at the cor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0120" y="32004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(21.10)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2133720" y="1905120"/>
            <a:ext cx="4954320" cy="3076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1905120"/>
                      <a:ext cx="4954320" cy="30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16:23:27Z</dcterms:modified>
  <cp:revision>725</cp:revision>
  <dc:subject/>
  <dc:title>Slide 1</dc:title>
</cp:coreProperties>
</file>