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61.pct" ContentType="image/x-pict"/>
  <Override PartName="/ppt/media/image96.pct" ContentType="image/x-pict"/>
  <Override PartName="/ppt/media/image72.pct" ContentType="image/x-pict"/>
  <Override PartName="/ppt/media/image23.pct" ContentType="image/x-pict"/>
  <Override PartName="/ppt/media/image60.pct" ContentType="image/x-pict"/>
  <Override PartName="/ppt/media/image95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20.pct" ContentType="image/x-pict"/>
  <Override PartName="/ppt/media/image57.pct" ContentType="image/x-pict"/>
  <Override PartName="/ppt/media/image2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16.pct" ContentType="image/x-pict"/>
  <Override PartName="/ppt/media/image81.pct" ContentType="image/x-pict"/>
  <Override PartName="/ppt/media/image4.pct" ContentType="image/x-pict"/>
  <Override PartName="/ppt/media/image34.pct" ContentType="image/x-pict"/>
  <Override PartName="/ppt/media/image17.pct" ContentType="image/x-pict"/>
  <Override PartName="/ppt/media/image82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926-C3D9-44DC-80F1-0654CE8E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548-4504-4958-9E4F-ED91B229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390-B51A-4983-8418-BC5DCB7C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199-2B25-4F7C-A66F-03A7C6A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1DD-5518-42A6-8CCD-2ED4C330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AD2-13B3-4560-BEB7-036A30D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D96-B108-427D-95D8-1C508071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3FF-693A-41E1-818C-40C330B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F20-B308-4A9E-BFFF-1BE4FCB7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CFD-C7E6-47E3-9F5C-50062D2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2AB-76BD-4391-B5CE-A5DA194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02B-6397-4C1E-9C4D-02C7967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A902-8027-4FA0-BBDB-C0A99CF7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ct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pct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ct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ct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pct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ct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ct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ct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4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ct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8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0.pct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1.pct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ct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6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as Diffus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olecular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ovement of molecules due to their kinetic energy, followed by collision with other molecules and random redirection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corrected gas diffusion coefficient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5120" y="3352680"/>
          <a:ext cx="4981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981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llision Diameters and Diffusion Coefficients of Several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752480"/>
            <a:ext cx="723888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llisio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amete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as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)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6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5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.5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7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.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5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Gas Diffus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95480" y="2286000"/>
          <a:ext cx="26654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86000"/>
                    <a:ext cx="2665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Gas Diffus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ction for collision geometry, sticking probabil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447920"/>
          <a:ext cx="69836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69836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0880" y="5638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accommodation (sticking) coefficient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ractional number of gas collisions with particles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at results in the gas sticking to the surface. From 0.01 - 1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4419720"/>
          <a:ext cx="799776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7997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088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nudsen number for condensing vap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76720" y="3429000"/>
          <a:ext cx="161928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429000"/>
                    <a:ext cx="1619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Gas Diffus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free path of a gas molecu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ntilation fa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rrects for enhanced vapor transfer to a large-particle surface due to eddies sweeping vapor to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47920" y="1676520"/>
          <a:ext cx="6126120" cy="11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12612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447920" y="4419720"/>
          <a:ext cx="599904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19720"/>
                    <a:ext cx="59990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429000" y="5867280"/>
          <a:ext cx="238140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5867280"/>
                    <a:ext cx="2381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Gas Diffus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Reynold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s Schmidt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429000" y="1905120"/>
          <a:ext cx="18730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18730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733920" y="3809880"/>
          <a:ext cx="13968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809880"/>
                    <a:ext cx="1396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Thermal Con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cted thermal conductivity of ai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ction to conductivity for collision geometry and sticking probabil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971800" y="1981080"/>
          <a:ext cx="26020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2602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19320" y="4038480"/>
          <a:ext cx="679284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038480"/>
                    <a:ext cx="67928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Thermal Con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nudsen number for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al mean free pa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29000" y="1905120"/>
          <a:ext cx="161928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16192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505320" y="4343400"/>
          <a:ext cx="142848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343400"/>
                    <a:ext cx="14284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Thermal Con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al accommodation (sticking)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raction of molecules bouncing off surface of a drop that have acquired temperature of drop ≈ 0.96 for water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ntilation fa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rrects for enhanced energy transfer to drop surface due to e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352680" y="2438280"/>
          <a:ext cx="177804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17780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239840" y="4311720"/>
          <a:ext cx="599904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9840" y="4311720"/>
                    <a:ext cx="59990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52680" y="5791320"/>
          <a:ext cx="234972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5791320"/>
                    <a:ext cx="2349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ed Saturation Vapor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rvature (Kelvin) effec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Increases saturation vapor pressure over small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e effect (Raoult’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he saturation vapor pressure of a solvent containing solute is reduced to that of the pure solvent multiplied by the mole fraction of the solvent in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tive cooling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ecreases saturation vapor pressure over larg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mass (g) of single pure liquid water dr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from drop surface to infin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change at drop surface due to condu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00400" y="1523880"/>
          <a:ext cx="26971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2697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971800" y="3200400"/>
          <a:ext cx="3173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200400"/>
                    <a:ext cx="317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971800" y="5029200"/>
          <a:ext cx="28875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029200"/>
                    <a:ext cx="2887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urvature and Solut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62120" y="1595520"/>
          <a:ext cx="7391160" cy="467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95520"/>
                    <a:ext cx="73911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1989000"/>
            <a:ext cx="60984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20960" y="33012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Saturatio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urvatur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vapor pressure over a curved, dilute surface relative to that over a flat, dilute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05120" y="2133720"/>
          <a:ext cx="530064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3006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356920" y="3962520"/>
            <a:ext cx="41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ote that exp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≈1+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for small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urvatur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tension of water containing dissolved organic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tension of water containing dissolved inorganic 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05120" y="2209680"/>
          <a:ext cx="52369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09680"/>
                    <a:ext cx="5236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200400" y="4419720"/>
          <a:ext cx="260208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419720"/>
                    <a:ext cx="2602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ut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por pressure over flat water surface with solute relative to that without solute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Raoult's Law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vely dilute solution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moles of solute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200400" y="1905120"/>
          <a:ext cx="22860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05120"/>
                    <a:ext cx="2286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200400" y="3733920"/>
          <a:ext cx="20955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733920"/>
                    <a:ext cx="2095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05320" y="5334120"/>
          <a:ext cx="146052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334120"/>
                    <a:ext cx="1460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ut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moles of liquid water in a dr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terms --&gt; solute effe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71800" y="1752480"/>
          <a:ext cx="282420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52480"/>
                    <a:ext cx="28242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895480" y="3886200"/>
          <a:ext cx="311004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31100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öhl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curvature and solute effects --&gt; Sat. ratio at equilibriu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ify Köhl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Köhler equation to zero --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ritical radius for growth and critical saturation rati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52480" y="1371600"/>
          <a:ext cx="55231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523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048120" y="2743200"/>
          <a:ext cx="2286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743200"/>
                    <a:ext cx="2286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219320" y="3657600"/>
          <a:ext cx="168264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657600"/>
                    <a:ext cx="1682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3733920"/>
          <a:ext cx="184176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733920"/>
                    <a:ext cx="1841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066680" y="5562720"/>
          <a:ext cx="133380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562720"/>
                    <a:ext cx="13338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562720" y="5486400"/>
          <a:ext cx="1968480" cy="98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5486400"/>
                    <a:ext cx="19684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ritical radii / supersaturations for water drops containing sodium chloride or ammonium sulfate at 27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öhler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590920"/>
            <a:ext cx="867240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dium chloride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olute mass (g)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* 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*-1 (%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* 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*-1 (%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∞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1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1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4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4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290680"/>
                <a:tab algn="l" pos="3603600"/>
                <a:tab algn="l" pos="5025960"/>
                <a:tab algn="l" pos="6404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04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0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diative Cooling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vapor pressure over a drop that radiatively heats/cools relative to one that does no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tive cooling rate (W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90920" y="2209680"/>
          <a:ext cx="352260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3522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600200" y="4724280"/>
          <a:ext cx="580860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724280"/>
                    <a:ext cx="580860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verall Equilibrium Saturation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all equilibrium saturation ratio for liquid wa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saturation ratio for gases other than liquid wa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1981080"/>
          <a:ext cx="771192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1192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514600" y="4648320"/>
          <a:ext cx="37450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648320"/>
                    <a:ext cx="3745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Drop With Multipl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of a single particle in which one species is grow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derivative of (16.4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of a single particle in which one species is grow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438280" y="1600200"/>
          <a:ext cx="40626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4062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520" y="3124080"/>
          <a:ext cx="78073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7807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057400" y="4343400"/>
          <a:ext cx="453852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343400"/>
                    <a:ext cx="45385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971800" y="5530680"/>
          <a:ext cx="323676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530680"/>
                    <a:ext cx="32367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from drop surface to infinite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e change in mass and energy at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6.4) and (16.5) and assume steady st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124080" y="1523880"/>
          <a:ext cx="29829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3880"/>
                    <a:ext cx="29829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743200" y="3276720"/>
          <a:ext cx="36180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276720"/>
                    <a:ext cx="3618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895480" y="5181480"/>
          <a:ext cx="32054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181480"/>
                    <a:ext cx="3205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Drop With Multipl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6.50) and (16.48) with (16.16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ate of change in volume of one component in one multicomponent parti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3124080"/>
          <a:ext cx="82724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2724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a Population of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as a function of volu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volumes into (16.4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733920" y="1676520"/>
          <a:ext cx="196848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196848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68120" y="3505320"/>
          <a:ext cx="882360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" y="3505320"/>
                    <a:ext cx="88236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a Population of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pressure in terms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por pressure in terms of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05320" y="2057400"/>
          <a:ext cx="171432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057400"/>
                    <a:ext cx="1714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048120" y="4419720"/>
          <a:ext cx="24447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419720"/>
                    <a:ext cx="24447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a Population of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6.52) with (16.5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ffective diffus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61800" y="1752480"/>
          <a:ext cx="862992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752480"/>
                    <a:ext cx="86299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066680" y="4572000"/>
          <a:ext cx="66024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0"/>
                    <a:ext cx="66024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 to a Population of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90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ify effective diffusion coefficient for non-water gas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sponding gas-conserva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1839960"/>
          <a:ext cx="907740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9960"/>
                    <a:ext cx="90774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743200" y="4800600"/>
          <a:ext cx="355428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800600"/>
                    <a:ext cx="35542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trix of Partial Derivatives for Growth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594360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14400" y="2057400"/>
          <a:ext cx="789768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89768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676520" y="15238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46160"/>
                <a:tab algn="l" pos="3997440"/>
                <a:tab algn="l" pos="58294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21337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q,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al Derivatives For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23840" y="1371600"/>
          <a:ext cx="8791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371600"/>
                    <a:ext cx="8791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25360" y="2819520"/>
          <a:ext cx="853776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2819520"/>
                    <a:ext cx="8537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2590920" y="4057560"/>
          <a:ext cx="35859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57560"/>
                    <a:ext cx="35859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29000" y="5518080"/>
          <a:ext cx="387180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9000" y="5518080"/>
                    <a:ext cx="3871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ondensation between gas phase and 16 size bins: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+ 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Sparse-Matrix Reductions When Solving Growth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5680" y="2514600"/>
            <a:ext cx="658152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 of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8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8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9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9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alytical Predictor of Condensation (APC) Solution For Solving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ssume radius in growth term constant during time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 mass transfer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particle volum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04920" y="2508120"/>
          <a:ext cx="83152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08120"/>
                    <a:ext cx="8315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57040" y="4648320"/>
          <a:ext cx="85060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040" y="4648320"/>
                    <a:ext cx="8506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C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concentration of a compon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ffective surface vapor mol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corrected surface vapor mol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90920" y="1828800"/>
          <a:ext cx="38718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871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124080" y="3352680"/>
          <a:ext cx="219096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352680"/>
                    <a:ext cx="21909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90920" y="5257800"/>
          <a:ext cx="28242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257800"/>
                    <a:ext cx="2824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equation of state at satu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Clausius Clapeyr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obta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657600" y="1752480"/>
          <a:ext cx="203184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20318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505320" y="3352680"/>
          <a:ext cx="2095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2095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124080" y="5029200"/>
          <a:ext cx="285588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029200"/>
                    <a:ext cx="28558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C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conversions into (16.63) and (16.5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16.67) for final aerosol concentr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00200" y="1828800"/>
          <a:ext cx="56181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618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371600" y="3200400"/>
          <a:ext cx="596736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200400"/>
                    <a:ext cx="59673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143000" y="5410080"/>
          <a:ext cx="682452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410080"/>
                    <a:ext cx="6824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C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2133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 balance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6.69) into (16.7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95280" y="2666880"/>
          <a:ext cx="625320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62532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143000" y="4495680"/>
          <a:ext cx="62848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62848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4920" y="914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erosol mole concentr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295280" y="1447920"/>
          <a:ext cx="682488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447920"/>
                    <a:ext cx="68248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14300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arison of APC growth solution,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 s, with an exact solution. Both solutions lie almost on top of each other.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C Growth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14400" y="2333520"/>
          <a:ext cx="6781680" cy="42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33520"/>
                    <a:ext cx="678168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066680" y="2598840"/>
            <a:ext cx="609840" cy="31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183960" y="3889080"/>
            <a:ext cx="31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50d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50d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lving Homogen. Nucl. with Co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 nucleation, condensation transfer rates in first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g. nucleation rate converted to mass transfer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number concentration in first bin after nucle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371600" y="1676520"/>
          <a:ext cx="6634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634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7400" y="3657600"/>
          <a:ext cx="49831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657600"/>
                    <a:ext cx="4983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33520" y="5181480"/>
          <a:ext cx="799776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81480"/>
                    <a:ext cx="79977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mogeneous Nucleation with Condensation Simultaneou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619280"/>
          <a:ext cx="7315200" cy="48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73152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457200" y="1990800"/>
            <a:ext cx="609480" cy="31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-825840" y="328068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owth plus coagulation pushes particles to larger sizes than does growth alone or coagulation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Coagulation on Conden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584360"/>
          <a:ext cx="5790960" cy="47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84360"/>
                    <a:ext cx="57909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1219320" y="1989000"/>
            <a:ext cx="685800" cy="334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11880" y="344736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rowth plus coagulation pushes particles to larger sizes than does growth alone or coagulation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Coagulation on Conden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95280" y="1760400"/>
          <a:ext cx="5639040" cy="46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60400"/>
                    <a:ext cx="563904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1282680" y="2054160"/>
            <a:ext cx="60948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31680" y="3509640"/>
            <a:ext cx="31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10666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arison of full-moving (FM) with moving-center (MC) results for growth-only and growth plus coagulation cases shown in Fig. 16.4(a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rowth With Different Siz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143000" y="1974960"/>
          <a:ext cx="6781680" cy="44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74960"/>
                    <a:ext cx="67816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990720" y="2133720"/>
            <a:ext cx="685800" cy="33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16360" y="358092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ce Crysta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mass growth of a single ice cryst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133720" y="2362320"/>
          <a:ext cx="496404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62320"/>
                    <a:ext cx="49640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ce Crysta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ical capacitance of crystal (cm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51055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,i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length of the major semi-axis 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,i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length of the minor semi-axis 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1219320"/>
          <a:ext cx="7367760" cy="38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36776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743200" y="6019920"/>
          <a:ext cx="27288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6019920"/>
                    <a:ext cx="27288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from infinite radius to drop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8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ify assum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≈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495680"/>
            <a:ext cx="609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6.6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0" y="1523880"/>
          <a:ext cx="434808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348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828800" y="3200400"/>
          <a:ext cx="552276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200400"/>
                    <a:ext cx="5522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90920" y="5334120"/>
          <a:ext cx="580860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334120"/>
                    <a:ext cx="5808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200400" y="4343400"/>
          <a:ext cx="32050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4343400"/>
                    <a:ext cx="3205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56480" y="5562720"/>
            <a:ext cx="1922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o (16.9) 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9800" y="6324480"/>
            <a:ext cx="1070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ce Crysta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ffective saturation vapor pressure over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ntilation factor for falling oblate spheroid crysta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7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47242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q,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ventilation of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h,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ventil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352680" y="1752480"/>
          <a:ext cx="21272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752480"/>
                    <a:ext cx="2127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295280" y="3200400"/>
          <a:ext cx="644364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4436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6.2) into (16.1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--&gt; Mass-flux form of growth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3505320"/>
          <a:ext cx="75229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7522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209680" y="5105520"/>
          <a:ext cx="450720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05520"/>
                    <a:ext cx="4507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066680" y="1981080"/>
          <a:ext cx="580896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5808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86000" y="1066680"/>
          <a:ext cx="31734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1066680"/>
                    <a:ext cx="317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315200" y="1219320"/>
            <a:ext cx="106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2286000"/>
            <a:ext cx="1219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ss Flux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-flux form of growth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505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equation for trace gases and particle siz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1600200"/>
          <a:ext cx="45072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4507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752480" y="4343400"/>
          <a:ext cx="57452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343400"/>
                    <a:ext cx="57452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es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ass as a function of change in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us-flux form of growth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8120" y="1905120"/>
          <a:ext cx="2697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05120"/>
                    <a:ext cx="2697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143000" y="3809880"/>
          <a:ext cx="6792840" cy="16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67928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luxes to and From a Single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mass as a function of change in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-flux form of growth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6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00400" y="1828800"/>
          <a:ext cx="21272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828800"/>
                    <a:ext cx="212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19320" y="3733920"/>
          <a:ext cx="666576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66657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03:50:07Z</dcterms:modified>
  <cp:revision>662</cp:revision>
  <dc:subject/>
  <dc:title>Slide 1</dc:title>
</cp:coreProperties>
</file>