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4.bin" ContentType="application/vnd.openxmlformats-officedocument.oleObject"/>
  <Override PartName="/ppt/media/image56.pct" ContentType="image/x-pict"/>
  <Override PartName="/ppt/media/image55.pct" ContentType="image/x-pict"/>
  <Override PartName="/ppt/media/image54.pct" ContentType="image/x-pict"/>
  <Override PartName="/ppt/media/image53.pct" ContentType="image/x-pict"/>
  <Override PartName="/ppt/media/image52.pct" ContentType="image/x-pict"/>
  <Override PartName="/ppt/media/image51.pct" ContentType="image/x-pict"/>
  <Override PartName="/ppt/media/image50.pct" ContentType="image/x-pict"/>
  <Override PartName="/ppt/media/image46.pct" ContentType="image/x-pict"/>
  <Override PartName="/ppt/media/image45.pct" ContentType="image/x-pict"/>
  <Override PartName="/ppt/media/image44.pct" ContentType="image/x-pict"/>
  <Override PartName="/ppt/media/image43.pct" ContentType="image/x-pict"/>
  <Override PartName="/ppt/media/image42.pct" ContentType="image/x-pict"/>
  <Override PartName="/ppt/media/image41.pct" ContentType="image/x-pict"/>
  <Override PartName="/ppt/media/image40.pct" ContentType="image/x-pict"/>
  <Override PartName="/ppt/media/image30.pct" ContentType="image/x-pict"/>
  <Override PartName="/ppt/media/image39.pct" ContentType="image/x-pict"/>
  <Override PartName="/ppt/media/image9.pct" ContentType="image/x-pict"/>
  <Override PartName="/ppt/media/image86.pct" ContentType="image/x-pict"/>
  <Override PartName="/ppt/media/image13.pct" ContentType="image/x-pict"/>
  <Override PartName="/ppt/media/image1.pct" ContentType="image/x-pict"/>
  <Override PartName="/ppt/media/image38.pct" ContentType="image/x-pict"/>
  <Override PartName="/ppt/media/image8.pct" ContentType="image/x-pict"/>
  <Override PartName="/ppt/media/image85.pct" ContentType="image/x-pict"/>
  <Override PartName="/ppt/media/image49.pct" ContentType="image/x-pict"/>
  <Override PartName="/ppt/media/image12.pct" ContentType="image/x-pict"/>
  <Override PartName="/ppt/media/image37.pct" ContentType="image/x-pict"/>
  <Override PartName="/ppt/media/image7.pct" ContentType="image/x-pict"/>
  <Override PartName="/ppt/media/image19.pct" ContentType="image/x-pict"/>
  <Override PartName="/ppt/media/image84.pct" ContentType="image/x-pict"/>
  <Override PartName="/ppt/media/image48.pct" ContentType="image/x-pict"/>
  <Override PartName="/ppt/media/image11.pct" ContentType="image/x-pict"/>
  <Override PartName="/ppt/media/image36.pct" ContentType="image/x-pict"/>
  <Override PartName="/ppt/media/image20.pct" ContentType="image/x-pict"/>
  <Override PartName="/ppt/media/image57.pct" ContentType="image/x-pict"/>
  <Override PartName="/ppt/media/image21.pct" ContentType="image/x-pict"/>
  <Override PartName="/ppt/media/image58.pct" ContentType="image/x-pict"/>
  <Override PartName="/ppt/media/image22.pct" ContentType="image/x-pict"/>
  <Override PartName="/ppt/media/image59.pct" ContentType="image/x-pict"/>
  <Override PartName="/ppt/media/image23.pct" ContentType="image/x-pict"/>
  <Override PartName="/ppt/media/image60.pct" ContentType="image/x-pict"/>
  <Override PartName="/ppt/media/image61.pct" ContentType="image/x-pict"/>
  <Override PartName="/ppt/media/image62.pct" ContentType="image/x-pict"/>
  <Override PartName="/ppt/media/image63.pct" ContentType="image/x-pict"/>
  <Override PartName="/ppt/media/image64.pct" ContentType="image/x-pict"/>
  <Override PartName="/ppt/media/image65.pct" ContentType="image/x-pict"/>
  <Override PartName="/ppt/media/image66.pct" ContentType="image/x-pict"/>
  <Override PartName="/ppt/media/image67.pct" ContentType="image/x-pict"/>
  <Override PartName="/ppt/media/image89.pct" ContentType="image/x-pict"/>
  <Override PartName="/ppt/media/image77.pct" ContentType="image/x-pict"/>
  <Override PartName="/ppt/media/image88.pct" ContentType="image/x-pict"/>
  <Override PartName="/ppt/media/image76.pct" ContentType="image/x-pict"/>
  <Override PartName="/ppt/media/image87.pct" ContentType="image/x-pict"/>
  <Override PartName="/ppt/media/image75.pct" ContentType="image/x-pict"/>
  <Override PartName="/ppt/media/image79.pct" ContentType="image/x-pict"/>
  <Override PartName="/ppt/media/image78.pct" ContentType="image/x-pict"/>
  <Override PartName="/ppt/media/image74.pct" ContentType="image/x-pict"/>
  <Override PartName="/ppt/media/image73.pct" ContentType="image/x-pict"/>
  <Override PartName="/ppt/media/image72.pct" ContentType="image/x-pict"/>
  <Override PartName="/ppt/media/image69.pct" ContentType="image/x-pict"/>
  <Override PartName="/ppt/media/image32.pct" ContentType="image/x-pict"/>
  <Override PartName="/ppt/media/image71.pct" ContentType="image/x-pict"/>
  <Override PartName="/ppt/media/image29.pct" ContentType="image/x-pict"/>
  <Override PartName="/ppt/media/image68.pct" ContentType="image/x-pict"/>
  <Override PartName="/ppt/media/image31.pct" ContentType="image/x-pict"/>
  <Override PartName="/ppt/media/image70.pct" ContentType="image/x-pict"/>
  <Override PartName="/ppt/media/image24.pct" ContentType="image/x-pict"/>
  <Override PartName="/ppt/media/image90.pct" ContentType="image/x-pict"/>
  <Override PartName="/ppt/media/image25.pct" ContentType="image/x-pict"/>
  <Override PartName="/ppt/media/image2.pct" ContentType="image/x-pict"/>
  <Override PartName="/ppt/media/image14.pct" ContentType="image/x-pict"/>
  <Override PartName="/ppt/media/image28.pct" ContentType="image/x-pict"/>
  <Override PartName="/ppt/media/image93.pct" ContentType="image/x-pict"/>
  <Override PartName="/ppt/media/image91.pct" ContentType="image/x-pict"/>
  <Override PartName="/ppt/media/image26.pct" ContentType="image/x-pict"/>
  <Override PartName="/ppt/media/image80.pct" ContentType="image/x-pict"/>
  <Override PartName="/ppt/media/image15.pct" ContentType="image/x-pict"/>
  <Override PartName="/ppt/media/image3.pct" ContentType="image/x-pict"/>
  <Override PartName="/ppt/media/image33.pct" ContentType="image/x-pict"/>
  <Override PartName="/ppt/media/image92.pct" ContentType="image/x-pict"/>
  <Override PartName="/ppt/media/image27.pct" ContentType="image/x-pict"/>
  <Override PartName="/ppt/media/image81.pct" ContentType="image/x-pict"/>
  <Override PartName="/ppt/media/image16.pct" ContentType="image/x-pict"/>
  <Override PartName="/ppt/media/image4.pct" ContentType="image/x-pict"/>
  <Override PartName="/ppt/media/image34.pct" ContentType="image/x-pict"/>
  <Override PartName="/ppt/media/image82.pct" ContentType="image/x-pict"/>
  <Override PartName="/ppt/media/image17.pct" ContentType="image/x-pict"/>
  <Override PartName="/ppt/media/image5.pct" ContentType="image/x-pict"/>
  <Override PartName="/ppt/media/image35.pct" ContentType="image/x-pict"/>
  <Override PartName="/ppt/media/image10.pct" ContentType="image/x-pict"/>
  <Override PartName="/ppt/media/image47.pct" ContentType="image/x-pict"/>
  <Override PartName="/ppt/media/image6.pct" ContentType="image/x-pict"/>
  <Override PartName="/ppt/media/image18.pct" ContentType="image/x-pict"/>
  <Override PartName="/ppt/media/image83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E112-23BA-4763-9161-02409D6E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DABD-EE01-462B-ACEC-E047BD5C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263B-BE32-432A-AF0A-23D1DE56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C63D-3167-4FC4-B998-AB18F6F1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C20E-F03B-4F2E-AE3C-45AA8F76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C4DA-4078-49EC-8399-5183C970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8542-CE67-4E08-B201-8029875F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FB91-D3D4-4F42-BE46-1AB578B9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88E3-3D67-4BDD-9081-C8948392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EB0E-6BC8-472D-99D2-E63EEA72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2C69-B3A0-4A1F-B390-5FDF5827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64D2-F6C9-4DA2-8265-6737A38C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884F-A38A-4DF6-9CDA-2C47D9C26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26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27.pct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9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30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31.pct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33.pct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35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36.pct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38.pct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40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41.pct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32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43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44.pct"/><Relationship Id="rId9" Type="http://schemas.openxmlformats.org/officeDocument/2006/relationships/package" Target="../embeddings/oleObject5.docx"/><Relationship Id="rId10" Type="http://schemas.openxmlformats.org/officeDocument/2006/relationships/image" Target="../media/image45.pct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47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44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45.pct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8.pct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9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3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4.pct"/><Relationship Id="rId9" Type="http://schemas.openxmlformats.org/officeDocument/2006/relationships/package" Target="../embeddings/oleObject5.docx"/><Relationship Id="rId10" Type="http://schemas.openxmlformats.org/officeDocument/2006/relationships/image" Target="../media/image5.pct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0.pct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1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52.pct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54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55.pct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6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57.pct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8.pct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9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0.pct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1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62.pct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3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7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8.pct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4.pct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5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66.pct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7.pct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8.pct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9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70.pct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1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72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65.pct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3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74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75.pct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6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77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78.pct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9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80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81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13.pct"/><Relationship Id="rId9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2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pct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3.pct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4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85.pct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6.pct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7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88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32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89.pct"/><Relationship Id="rId9" Type="http://schemas.openxmlformats.org/officeDocument/2006/relationships/package" Target="../embeddings/oleObject5.docx"/><Relationship Id="rId10" Type="http://schemas.openxmlformats.org/officeDocument/2006/relationships/image" Target="../media/image43.pct"/><Relationship Id="rId1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0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91.pct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2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3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13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ct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18.pct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21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22.pct"/><Relationship Id="rId9" Type="http://schemas.openxmlformats.org/officeDocument/2006/relationships/package" Target="../embeddings/oleObject5.docx"/><Relationship Id="rId10" Type="http://schemas.openxmlformats.org/officeDocument/2006/relationships/image" Target="../media/image23.pct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esentation Slides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for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apter 11, Part 1</a:t>
            </a:r>
            <a:br>
              <a:rPr sz="40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of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undamentals of Atmospheric Modeling 2</a:t>
            </a:r>
            <a:r>
              <a:rPr b="1" lang="en-US" sz="4000" spc="-1" strike="noStrike" baseline="30000">
                <a:solidFill>
                  <a:srgbClr val="0000ff"/>
                </a:solidFill>
                <a:latin typeface="Times New Roman"/>
              </a:rPr>
              <a:t>nd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Edition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440" y="3962520"/>
            <a:ext cx="74365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rk Z. Jaco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partment of Civil &amp; Environmental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, CA 94305-4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acobson@stanford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7534"/>
                </a:solidFill>
                <a:latin typeface="Times New Roman"/>
              </a:rPr>
              <a:t>March 21, 2005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cavenging by Hydroxyl Radi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4-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14600" y="1371600"/>
          <a:ext cx="3778200" cy="59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371600"/>
                    <a:ext cx="377820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514600" y="2590920"/>
          <a:ext cx="3747960" cy="593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590920"/>
                    <a:ext cx="374796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514600" y="3962520"/>
          <a:ext cx="3938760" cy="5936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3962520"/>
                    <a:ext cx="393876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2286000" y="5410080"/>
          <a:ext cx="4319640" cy="5940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410080"/>
                    <a:ext cx="431964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cavenging by Hydroxyl Radi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9-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514600" y="1447920"/>
          <a:ext cx="3618000" cy="66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447920"/>
                    <a:ext cx="36180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514600" y="2666880"/>
          <a:ext cx="3527280" cy="631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666880"/>
                    <a:ext cx="35272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514600" y="4038480"/>
          <a:ext cx="3718080" cy="6019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038480"/>
                    <a:ext cx="371808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2209680" y="5410080"/>
          <a:ext cx="4410360" cy="6318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5410080"/>
                    <a:ext cx="4410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ydroperoxy Radical P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1447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3886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819520" y="1981080"/>
          <a:ext cx="3236760" cy="70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981080"/>
                    <a:ext cx="323676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514600" y="4572000"/>
          <a:ext cx="3998880" cy="631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4572000"/>
                    <a:ext cx="39988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ydroperoxy Radical L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yrdoxyl radical reactions in presence of N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971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4724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20574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NO &gt; 10 ppt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3809880"/>
            <a:ext cx="2438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NO   3-10 ppt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5410080"/>
            <a:ext cx="2133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NO &lt; 3 ppt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38080" y="1600200"/>
          <a:ext cx="4791240" cy="16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4791240" cy="16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838080" y="3657600"/>
          <a:ext cx="4380120" cy="601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657600"/>
                    <a:ext cx="4380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838080" y="5181480"/>
          <a:ext cx="4540320" cy="631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5181480"/>
                    <a:ext cx="45403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ighttime Nitrogen 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duction of nitrate radica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3809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nitrogen pentoxide formation / decomposi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590920" y="2286000"/>
          <a:ext cx="3870360" cy="63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286000"/>
                    <a:ext cx="38703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743200" y="5029200"/>
          <a:ext cx="3679920" cy="639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5029200"/>
                    <a:ext cx="36799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ighttime Nitrogen 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nitrogen pentoxide reaction, photolysi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4572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itrate radical photolysis (lifetime of minutes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2666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133720" y="1905120"/>
          <a:ext cx="4700520" cy="44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905120"/>
                    <a:ext cx="47005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914400" y="3352680"/>
          <a:ext cx="7335720" cy="631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352680"/>
                    <a:ext cx="73357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990720" y="5105520"/>
          <a:ext cx="7076880" cy="14317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5105520"/>
                    <a:ext cx="707688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zone From Carbon Monox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1371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37-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590920" y="1143000"/>
          <a:ext cx="3778200" cy="63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143000"/>
                    <a:ext cx="37782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2895480" y="2209680"/>
          <a:ext cx="3237120" cy="700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2209680"/>
                    <a:ext cx="323712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2362320" y="3429000"/>
          <a:ext cx="4289400" cy="7002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429000"/>
                    <a:ext cx="428940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380880" y="4572000"/>
          <a:ext cx="6916680" cy="6318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4572000"/>
                    <a:ext cx="69166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2438280" y="5715000"/>
          <a:ext cx="4060800" cy="6015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5715000"/>
                    <a:ext cx="40608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zone Formation From Meth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4191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4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09680" y="838080"/>
          <a:ext cx="3969000" cy="60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838080"/>
                    <a:ext cx="396900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228600" y="1219320"/>
          <a:ext cx="8364600" cy="4265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219320"/>
                    <a:ext cx="836460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838080" y="5562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6248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33520" y="5410080"/>
          <a:ext cx="6916680" cy="631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5410080"/>
                    <a:ext cx="69166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2362320" y="6019920"/>
          <a:ext cx="4060800" cy="6015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6019920"/>
                    <a:ext cx="40608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ethyl Hydroperoxide Decom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4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914400" y="1617840"/>
          <a:ext cx="7267680" cy="455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17840"/>
                    <a:ext cx="726768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thane Ox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828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thylperoxy radical production and los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57200" y="2971800"/>
          <a:ext cx="8299440" cy="219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971800"/>
                    <a:ext cx="82994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ypes of G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9907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organic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ntain O, N, S, Cl, Br, and maybe H or C, but no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0574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Nitric oxide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5909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ganic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ontain both H and C, but may also contain other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20574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Carbon dioxide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733920"/>
            <a:ext cx="3048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Formaldehyde --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87692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Acetone --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594360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Peroxyacetylnitrate --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514600" y="1928880"/>
          <a:ext cx="762120" cy="50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928880"/>
                    <a:ext cx="7621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492960" y="2057400"/>
          <a:ext cx="1203120" cy="441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92960" y="2057400"/>
                    <a:ext cx="12031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876920" y="3505320"/>
          <a:ext cx="1012680" cy="11430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3505320"/>
                    <a:ext cx="10126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362320" y="4572000"/>
          <a:ext cx="2125440" cy="12412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4572000"/>
                    <a:ext cx="212544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267080" y="5616720"/>
          <a:ext cx="2855880" cy="12412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67080" y="5616720"/>
                    <a:ext cx="285588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thane Ox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4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1600200"/>
          <a:ext cx="8053560" cy="456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053560" cy="45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opane Ox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thylperoxy radical production and los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96840" y="1600200"/>
          <a:ext cx="8894880" cy="19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" y="1600200"/>
                    <a:ext cx="8894880" cy="19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371600" y="3809880"/>
          <a:ext cx="7335720" cy="2254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3809880"/>
                    <a:ext cx="7335720" cy="22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ormaldehyde/Acetaldehyde Photo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maldehy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124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cetaldehy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5029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ormyl radica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523880" y="1025640"/>
          <a:ext cx="6120000" cy="209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025640"/>
                    <a:ext cx="612000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914400" y="3429000"/>
          <a:ext cx="7850160" cy="1535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785016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3200400" y="5105520"/>
          <a:ext cx="2849400" cy="17287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5105520"/>
                    <a:ext cx="284940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ormaldehyde/Acetaldehyde Re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maldehy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3505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cetaldehy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286000" y="1295280"/>
          <a:ext cx="5049720" cy="196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295280"/>
                    <a:ext cx="5049720" cy="19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216000" y="4038480"/>
          <a:ext cx="8775720" cy="2224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6000" y="4038480"/>
                    <a:ext cx="877572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ormaldehyde/Acetaldehyde Re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N form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80880" y="1905120"/>
          <a:ext cx="8145720" cy="419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814572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etone Photo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52280" y="2590920"/>
          <a:ext cx="8912520" cy="179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590920"/>
                    <a:ext cx="891252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ulfur Photo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2000"/>
          </a:bodyPr>
          <a:p>
            <a:pPr marL="75240" indent="-75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iogenic sulf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              -- hydrogen sulf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H        -- methyl sulf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CH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3    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 dimethyl sulfide (D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SCH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3 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 methyl disulf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3505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2000"/>
          </a:bodyPr>
          <a:p>
            <a:pPr marL="75240" indent="-75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olcanic sulfu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S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                   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arbon disulf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OCS            --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arbonyl sulf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                  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 sulfur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             -- hydrogen sulf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ulfur Photo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lfuric acid formation from sulfur dioxi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7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62080" y="2438280"/>
          <a:ext cx="8501040" cy="19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2438280"/>
                    <a:ext cx="8501040" cy="19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MS Abstraction Path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lfur dioxide production from dimethyl sulfide (DMS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5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80880" y="2057400"/>
          <a:ext cx="8275680" cy="180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57400"/>
                    <a:ext cx="827568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1066680" y="4114800"/>
          <a:ext cx="7008840" cy="1908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114800"/>
                    <a:ext cx="700884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MS Abstraction Path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thanethiolate radical reac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5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39760" y="1828800"/>
          <a:ext cx="867564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1828800"/>
                    <a:ext cx="867564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ydrocarb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838080"/>
            <a:ext cx="6781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Organic gases that contain only hydrogen and 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09680"/>
            <a:ext cx="2133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Propane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5238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lkanes - Carbons bonded by a singl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962520"/>
            <a:ext cx="3048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Cyclobutane --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5562720"/>
            <a:ext cx="3124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Ethene (ethylene) --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320040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ycloalkanes -  A ring of alk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49528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lkenes - Carbons bonded by a doubl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743200" y="1905120"/>
          <a:ext cx="2155680" cy="120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905120"/>
                    <a:ext cx="2155680" cy="12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200400" y="3809880"/>
          <a:ext cx="1303200" cy="822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809880"/>
                    <a:ext cx="130320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200400" y="5372280"/>
          <a:ext cx="1432080" cy="9522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5372280"/>
                    <a:ext cx="1432080" cy="95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MS Abstraction Path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thanethiolate oxy radical reac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143000" y="1981080"/>
          <a:ext cx="6910560" cy="40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81080"/>
                    <a:ext cx="691056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MS Abstraction Path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lfur dioxide production from sulfur oxi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3657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lfur dioxide production from sulfur oxi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2666880" y="1752480"/>
          <a:ext cx="3587760" cy="174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752480"/>
                    <a:ext cx="3587760" cy="17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76320" y="4267080"/>
          <a:ext cx="8950320" cy="2156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4267080"/>
                    <a:ext cx="8950320" cy="21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MS Addition Path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thanethiolate oxy radical reac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79200" y="2011320"/>
          <a:ext cx="8912520" cy="370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" y="2011320"/>
                    <a:ext cx="891252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MS Addition Path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thanesulfenic acid oxid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6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523880" y="2819520"/>
          <a:ext cx="5978520" cy="231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819520"/>
                    <a:ext cx="5978520" cy="23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MDS Re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H addi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6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3809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hotolysi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" y="1752480"/>
          <a:ext cx="8299440" cy="19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299440" cy="19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143000" y="4419720"/>
          <a:ext cx="6481800" cy="1896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419720"/>
                    <a:ext cx="6481800" cy="18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iogenic Sulf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ydrogen sulfide oxid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2819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ydrogen sulfide radical reac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6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" y="4800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lfur dioxide production from sulfur oxi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671920" y="1066680"/>
          <a:ext cx="3601800" cy="175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1920" y="1066680"/>
                    <a:ext cx="36018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2514600" y="3200400"/>
          <a:ext cx="3479760" cy="1571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200400"/>
                    <a:ext cx="347976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2743200" y="5181480"/>
          <a:ext cx="2870280" cy="1395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5181480"/>
                    <a:ext cx="287028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olcanic Sulf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lfur monoxide production from carbonyl sulfi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6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819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6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4800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752480" y="1371600"/>
          <a:ext cx="5416560" cy="128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371600"/>
                    <a:ext cx="541656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380880" y="3200400"/>
          <a:ext cx="8097840" cy="1341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200400"/>
                    <a:ext cx="809784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2666880" y="5029200"/>
          <a:ext cx="3157560" cy="13939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5029200"/>
                    <a:ext cx="315756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olcanic Sulf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lfur oxide production from carbon disulfi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2819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4800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7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600200" y="1447920"/>
          <a:ext cx="5919840" cy="128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447920"/>
                    <a:ext cx="591984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304920" y="3276720"/>
          <a:ext cx="8070840" cy="1287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276720"/>
                    <a:ext cx="807084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1905120" y="5257800"/>
          <a:ext cx="5248080" cy="12272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5257800"/>
                    <a:ext cx="524808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rban Photo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9907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zone production in smo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75-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209680" y="1523880"/>
          <a:ext cx="4821480" cy="63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523880"/>
                    <a:ext cx="48214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2514600" y="2895480"/>
          <a:ext cx="3808440" cy="631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895480"/>
                    <a:ext cx="380844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2514600" y="4114800"/>
          <a:ext cx="6032520" cy="631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114800"/>
                    <a:ext cx="60325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2362320" y="5410080"/>
          <a:ext cx="4060800" cy="6019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5410080"/>
                    <a:ext cx="406080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457200" y="838080"/>
          <a:ext cx="8043840" cy="553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8043840" cy="553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zone Isople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164360" y="60958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Fig. 1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8077320" y="380880"/>
            <a:ext cx="38088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647600" y="1981080"/>
            <a:ext cx="406440" cy="58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905120" y="1828800"/>
            <a:ext cx="38088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27160" y="60958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Contours are ozone (ppm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2057400"/>
            <a:ext cx="5335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16200000">
            <a:off x="-13320" y="2993400"/>
            <a:ext cx="1672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O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(ppm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656880" y="2362320"/>
            <a:ext cx="304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3530160" y="2871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0.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056680" y="1905120"/>
            <a:ext cx="30492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16200000">
            <a:off x="1791000" y="2314080"/>
            <a:ext cx="9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0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4443120" y="1879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0.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2897280" y="3657600"/>
            <a:ext cx="3031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16200000">
            <a:off x="2554560" y="3617280"/>
            <a:ext cx="9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dff"/>
                </a:solidFill>
                <a:latin typeface="Times New Roman"/>
              </a:rPr>
              <a:t>0.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ydrocarb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438280"/>
            <a:ext cx="2133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Toluene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12193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romatics - Carbons that form a benzene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5181480"/>
            <a:ext cx="304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Isoprene --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411480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erpenes - Biogenic hydrocarb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14600" y="1905120"/>
          <a:ext cx="1081080" cy="165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905120"/>
                    <a:ext cx="1081080" cy="16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133720" y="4876920"/>
          <a:ext cx="1904760" cy="1112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876920"/>
                    <a:ext cx="190476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ea Bree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066680" y="1295280"/>
          <a:ext cx="6553440" cy="47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95280"/>
                    <a:ext cx="655344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8" name=""/>
          <p:cNvGrpSpPr/>
          <p:nvPr/>
        </p:nvGrpSpPr>
        <p:grpSpPr>
          <a:xfrm>
            <a:off x="1143000" y="1600200"/>
            <a:ext cx="538560" cy="2971800"/>
            <a:chOff x="1143000" y="1600200"/>
            <a:chExt cx="538560" cy="2971800"/>
          </a:xfrm>
        </p:grpSpPr>
        <p:sp>
          <p:nvSpPr>
            <p:cNvPr id="359" name=""/>
            <p:cNvSpPr/>
            <p:nvPr/>
          </p:nvSpPr>
          <p:spPr>
            <a:xfrm>
              <a:off x="1143000" y="1600200"/>
              <a:ext cx="533160" cy="297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6200000">
              <a:off x="242640" y="3106440"/>
              <a:ext cx="24912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Wind speed (m s</a:t>
              </a:r>
              <a:r>
                <a:rPr b="0" lang="en-US" sz="2400" spc="-1" strike="noStrike" baseline="30000">
                  <a:solidFill>
                    <a:srgbClr val="0000ff"/>
                  </a:solidFill>
                  <a:latin typeface="Times New Roman"/>
                </a:rPr>
                <a:t>-1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ource/Receptor Regions in Los Ange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0" y="1357920"/>
            <a:ext cx="4495680" cy="4067640"/>
            <a:chOff x="0" y="1357920"/>
            <a:chExt cx="4495680" cy="4067640"/>
          </a:xfrm>
        </p:grpSpPr>
        <p:graphicFrame>
          <p:nvGraphicFramePr>
            <p:cNvPr id="363" name=""/>
            <p:cNvGraphicFramePr/>
            <p:nvPr/>
          </p:nvGraphicFramePr>
          <p:xfrm>
            <a:off x="76320" y="1618920"/>
            <a:ext cx="4419360" cy="38066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1618920"/>
                      <a:ext cx="4419360" cy="380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65" name=""/>
            <p:cNvGrpSpPr/>
            <p:nvPr/>
          </p:nvGrpSpPr>
          <p:grpSpPr>
            <a:xfrm>
              <a:off x="0" y="1357920"/>
              <a:ext cx="538560" cy="3765960"/>
              <a:chOff x="0" y="1357920"/>
              <a:chExt cx="538560" cy="3765960"/>
            </a:xfrm>
          </p:grpSpPr>
          <p:sp>
            <p:nvSpPr>
              <p:cNvPr id="366" name=""/>
              <p:cNvSpPr/>
              <p:nvPr/>
            </p:nvSpPr>
            <p:spPr>
              <a:xfrm>
                <a:off x="0" y="1726560"/>
                <a:ext cx="533160" cy="339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6200000">
                <a:off x="-1513440" y="3023640"/>
                <a:ext cx="371808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Volume mixing ratio (ppmv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8" name=""/>
          <p:cNvGrpSpPr/>
          <p:nvPr/>
        </p:nvGrpSpPr>
        <p:grpSpPr>
          <a:xfrm>
            <a:off x="4648320" y="1346400"/>
            <a:ext cx="4495680" cy="5135760"/>
            <a:chOff x="4648320" y="1346400"/>
            <a:chExt cx="4495680" cy="5135760"/>
          </a:xfrm>
        </p:grpSpPr>
        <p:sp>
          <p:nvSpPr>
            <p:cNvPr id="369" name=""/>
            <p:cNvSpPr/>
            <p:nvPr/>
          </p:nvSpPr>
          <p:spPr>
            <a:xfrm>
              <a:off x="7468920" y="6095880"/>
              <a:ext cx="12733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3366"/>
                  </a:solidFill>
                  <a:latin typeface="Times New Roman"/>
                </a:rPr>
                <a:t>Fig. 11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70" name=""/>
            <p:cNvGraphicFramePr/>
            <p:nvPr/>
          </p:nvGraphicFramePr>
          <p:xfrm>
            <a:off x="4800600" y="1600200"/>
            <a:ext cx="4343400" cy="37400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3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00600" y="1600200"/>
                      <a:ext cx="4343400" cy="374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72" name=""/>
            <p:cNvGrpSpPr/>
            <p:nvPr/>
          </p:nvGrpSpPr>
          <p:grpSpPr>
            <a:xfrm>
              <a:off x="4648320" y="1346400"/>
              <a:ext cx="538560" cy="3763440"/>
              <a:chOff x="4648320" y="1346400"/>
              <a:chExt cx="538560" cy="3763440"/>
            </a:xfrm>
          </p:grpSpPr>
          <p:sp>
            <p:nvSpPr>
              <p:cNvPr id="373" name=""/>
              <p:cNvSpPr/>
              <p:nvPr/>
            </p:nvSpPr>
            <p:spPr>
              <a:xfrm>
                <a:off x="4648320" y="1712520"/>
                <a:ext cx="533160" cy="339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6200000">
                <a:off x="3134520" y="3012120"/>
                <a:ext cx="371808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Volume mixing ratio (ppmv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aily Los Angeles Emission (198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391520" y="59436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Table 1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730080"/>
            <a:ext cx="762012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2681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87534"/>
                </a:solidFill>
                <a:uFillTx/>
                <a:latin typeface="Times New Roman"/>
              </a:rPr>
              <a:t>Gas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Emission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187534"/>
                </a:solidFill>
                <a:uFillTx/>
                <a:latin typeface="Times New Roman"/>
              </a:rPr>
              <a:t>(tons/day)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187534"/>
                </a:solidFill>
                <a:uFillTx/>
                <a:latin typeface="Times New Roman"/>
              </a:rPr>
              <a:t>Percent of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2681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Carbon monoxide 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9796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69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2681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Nitric oxide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7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2681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Nitrogen dioxide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1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2681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a12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ff0a12"/>
                </a:solidFill>
                <a:uFillTx/>
                <a:latin typeface="Times New Roman"/>
              </a:rPr>
              <a:t>Nitrous acid</a:t>
            </a:r>
            <a:r>
              <a:rPr b="0" lang="en-US" sz="2000" spc="-1" strike="noStrike" u="sng">
                <a:solidFill>
                  <a:srgbClr val="ff0a12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ff0a12"/>
                </a:solidFill>
                <a:uFillTx/>
                <a:latin typeface="Times New Roman"/>
              </a:rPr>
              <a:t>6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2681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Total NO</a:t>
            </a:r>
            <a:r>
              <a:rPr b="0" i="1" lang="en-US" sz="2000" spc="-1" strike="noStrike" baseline="-25000">
                <a:solidFill>
                  <a:srgbClr val="990e0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+HONO 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889.5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6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2681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Sulfur dioxide 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1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2681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a12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ff0a12"/>
                </a:solidFill>
                <a:uFillTx/>
                <a:latin typeface="Times New Roman"/>
              </a:rPr>
              <a:t>Sulfur trioxide</a:t>
            </a:r>
            <a:r>
              <a:rPr b="0" lang="en-US" sz="2000" spc="-1" strike="noStrike" u="sng">
                <a:solidFill>
                  <a:srgbClr val="ff0a12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ff0a12"/>
                </a:solidFill>
                <a:uFillTx/>
                <a:latin typeface="Times New Roman"/>
              </a:rPr>
              <a:t>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2681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Total SO</a:t>
            </a:r>
            <a:r>
              <a:rPr b="0" i="1" lang="en-US" sz="2000" spc="-1" strike="noStrike" baseline="-25000">
                <a:solidFill>
                  <a:srgbClr val="990e0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(g)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113.5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2681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Alkanes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13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2681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Alkenes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2681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Aldehydes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1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2681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Ketones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2681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Alcohols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2681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Aromatics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a12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2681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a12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ff0a12"/>
                </a:solidFill>
                <a:uFillTx/>
                <a:latin typeface="Times New Roman"/>
              </a:rPr>
              <a:t>Hemiterpenes</a:t>
            </a:r>
            <a:r>
              <a:rPr b="0" lang="en-US" sz="2000" spc="-1" strike="noStrike" u="sng">
                <a:solidFill>
                  <a:srgbClr val="ff0a12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ff0a12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ff0a12"/>
                </a:solidFill>
                <a:uFillTx/>
                <a:latin typeface="Times New Roman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2681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Total ROGs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2429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27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2681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e0c"/>
                </a:solidFill>
                <a:uFillTx/>
                <a:latin typeface="Times New Roman"/>
              </a:rPr>
              <a:t>Methane</a:t>
            </a:r>
            <a:r>
              <a:rPr b="0" lang="en-US" sz="2000" spc="-1" strike="noStrike" u="sng">
                <a:solidFill>
                  <a:srgbClr val="990e0c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990e0c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990e0c"/>
                </a:solidFill>
                <a:uFillTx/>
                <a:latin typeface="Times New Roman"/>
              </a:rPr>
              <a:t>904</a:t>
            </a:r>
            <a:r>
              <a:rPr b="0" lang="en-US" sz="2000" spc="-1" strike="noStrike" u="sng">
                <a:solidFill>
                  <a:srgbClr val="990e0c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990e0c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990e0c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990e0c"/>
                </a:solidFill>
                <a:uFillTx/>
                <a:latin typeface="Times New Roman"/>
              </a:rPr>
              <a:t>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2681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2681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Total emission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14,132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e0c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ercent Emission by Sou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itric oxide from combus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600200" y="1981080"/>
          <a:ext cx="5613480" cy="60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81080"/>
                    <a:ext cx="5613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7467840" y="6095880"/>
            <a:ext cx="1485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1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5800" y="3276720"/>
            <a:ext cx="762012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2681280"/>
                <a:tab algn="l" pos="3890880"/>
                <a:tab algn="l" pos="5019840"/>
                <a:tab algn="l" pos="6108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Source Category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CO(g)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NO</a:t>
            </a:r>
            <a:r>
              <a:rPr b="0" lang="en-US" sz="2400" spc="-1" strike="noStrike" u="sng" baseline="-25000">
                <a:solidFill>
                  <a:srgbClr val="187534"/>
                </a:solidFill>
                <a:uFillTx/>
                <a:latin typeface="Times New Roman"/>
              </a:rPr>
              <a:t>x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(g)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SO</a:t>
            </a:r>
            <a:r>
              <a:rPr b="0" lang="en-US" sz="2400" spc="-1" strike="noStrike" u="sng" baseline="-25000">
                <a:solidFill>
                  <a:srgbClr val="187534"/>
                </a:solidFill>
                <a:uFillTx/>
                <a:latin typeface="Times New Roman"/>
              </a:rPr>
              <a:t>x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(g)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ROG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2681280"/>
                <a:tab algn="l" pos="3890880"/>
                <a:tab algn="l" pos="5019840"/>
                <a:tab algn="l" pos="6108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Stationary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2681280"/>
                <a:tab algn="l" pos="3890880"/>
                <a:tab algn="l" pos="5019840"/>
                <a:tab algn="l" pos="6108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a12"/>
                </a:solidFill>
                <a:uFillTx/>
                <a:latin typeface="Times New Roman"/>
              </a:rPr>
              <a:t>Mobile</a:t>
            </a:r>
            <a:r>
              <a:rPr b="0" lang="en-US" sz="2400" spc="-1" strike="noStrike" u="sng">
                <a:solidFill>
                  <a:srgbClr val="ff0a12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0a12"/>
                </a:solidFill>
                <a:uFillTx/>
                <a:latin typeface="Times New Roman"/>
              </a:rPr>
              <a:t>98</a:t>
            </a:r>
            <a:r>
              <a:rPr b="0" lang="en-US" sz="2400" spc="-1" strike="noStrike" u="sng">
                <a:solidFill>
                  <a:srgbClr val="ff0a12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0a12"/>
                </a:solidFill>
                <a:uFillTx/>
                <a:latin typeface="Times New Roman"/>
              </a:rPr>
              <a:t>76</a:t>
            </a:r>
            <a:r>
              <a:rPr b="0" lang="en-US" sz="2400" spc="-1" strike="noStrike" u="sng">
                <a:solidFill>
                  <a:srgbClr val="ff0a12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0a12"/>
                </a:solidFill>
                <a:uFillTx/>
                <a:latin typeface="Times New Roman"/>
              </a:rPr>
              <a:t>62</a:t>
            </a:r>
            <a:r>
              <a:rPr b="0" lang="en-US" sz="2400" spc="-1" strike="noStrike" u="sng">
                <a:solidFill>
                  <a:srgbClr val="ff0a12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0a12"/>
                </a:solidFill>
                <a:uFillTx/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2681280"/>
                <a:tab algn="l" pos="3890880"/>
                <a:tab algn="l" pos="5019840"/>
                <a:tab algn="l" pos="6108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rganic Gases Emitted in Greatest Abundance in  Los Angeles (198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467840" y="6095880"/>
            <a:ext cx="1485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1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523880" y="2133720"/>
            <a:ext cx="2210040" cy="29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681280"/>
                <a:tab algn="l" pos="3608280"/>
                <a:tab algn="l" pos="4514760"/>
                <a:tab algn="l" pos="5423040"/>
                <a:tab algn="l" pos="6350040"/>
                <a:tab algn="l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1. Meth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681280"/>
                <a:tab algn="l" pos="3608280"/>
                <a:tab algn="l" pos="4514760"/>
                <a:tab algn="l" pos="5423040"/>
                <a:tab algn="l" pos="6350040"/>
                <a:tab algn="l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2. Tolu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681280"/>
                <a:tab algn="l" pos="3608280"/>
                <a:tab algn="l" pos="4514760"/>
                <a:tab algn="l" pos="5423040"/>
                <a:tab algn="l" pos="6350040"/>
                <a:tab algn="l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3. 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681280"/>
                <a:tab algn="l" pos="3608280"/>
                <a:tab algn="l" pos="4514760"/>
                <a:tab algn="l" pos="5423040"/>
                <a:tab algn="l" pos="6350040"/>
                <a:tab algn="l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4. 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681280"/>
                <a:tab algn="l" pos="3608280"/>
                <a:tab algn="l" pos="4514760"/>
                <a:tab algn="l" pos="5423040"/>
                <a:tab algn="l" pos="6350040"/>
                <a:tab algn="l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5. Eth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681280"/>
                <a:tab algn="l" pos="3608280"/>
                <a:tab algn="l" pos="4514760"/>
                <a:tab algn="l" pos="5423040"/>
                <a:tab algn="l" pos="6350040"/>
                <a:tab algn="l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6. Ethyl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681280"/>
                <a:tab algn="l" pos="3608280"/>
                <a:tab algn="l" pos="4514760"/>
                <a:tab algn="l" pos="5423040"/>
                <a:tab algn="l" pos="6350040"/>
                <a:tab algn="l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7. Oc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681280"/>
                <a:tab algn="l" pos="3608280"/>
                <a:tab algn="l" pos="4514760"/>
                <a:tab algn="l" pos="5423040"/>
                <a:tab algn="l" pos="6350040"/>
                <a:tab algn="l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8. Xyl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19720" y="2133720"/>
            <a:ext cx="251748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9. Hep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10. Propyl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11. Chloroethyl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12. Acetyl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13. 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14. 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15. 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ost Important Gases in Smog in Terms of Ozone Reactivity and Abun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467840" y="6095880"/>
            <a:ext cx="1485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11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14600" y="1905120"/>
            <a:ext cx="388620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681280"/>
                <a:tab algn="l" pos="3608280"/>
                <a:tab algn="l" pos="4514760"/>
                <a:tab algn="l" pos="5423040"/>
                <a:tab algn="l" pos="6350040"/>
                <a:tab algn="l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1.</a:t>
            </a:r>
            <a:r>
              <a:rPr b="0" i="1" lang="en-US" sz="2400" spc="-1" strike="noStrike">
                <a:solidFill>
                  <a:srgbClr val="ff0a12"/>
                </a:solidFill>
                <a:latin typeface="Times New Roman"/>
              </a:rPr>
              <a:t> m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- and </a:t>
            </a:r>
            <a:r>
              <a:rPr b="0" i="1" lang="en-US" sz="2400" spc="-1" strike="noStrike">
                <a:solidFill>
                  <a:srgbClr val="ff0a12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-Xyl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681280"/>
                <a:tab algn="l" pos="3608280"/>
                <a:tab algn="l" pos="4514760"/>
                <a:tab algn="l" pos="5423040"/>
                <a:tab algn="l" pos="6350040"/>
                <a:tab algn="l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2. Eth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681280"/>
                <a:tab algn="l" pos="3608280"/>
                <a:tab algn="l" pos="4514760"/>
                <a:tab algn="l" pos="5423040"/>
                <a:tab algn="l" pos="6350040"/>
                <a:tab algn="l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3. Acet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681280"/>
                <a:tab algn="l" pos="3608280"/>
                <a:tab algn="l" pos="4514760"/>
                <a:tab algn="l" pos="5423040"/>
                <a:tab algn="l" pos="6350040"/>
                <a:tab algn="l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4. Tolu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681280"/>
                <a:tab algn="l" pos="3608280"/>
                <a:tab algn="l" pos="4514760"/>
                <a:tab algn="l" pos="5423040"/>
                <a:tab algn="l" pos="6350040"/>
                <a:tab algn="l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5. Form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681280"/>
                <a:tab algn="l" pos="3608280"/>
                <a:tab algn="l" pos="4514760"/>
                <a:tab algn="l" pos="5423040"/>
                <a:tab algn="l" pos="6350040"/>
                <a:tab algn="l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6. </a:t>
            </a:r>
            <a:r>
              <a:rPr b="0" i="1" lang="en-US" sz="2400" spc="-1" strike="noStrike">
                <a:solidFill>
                  <a:srgbClr val="ff0a12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-Pen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681280"/>
                <a:tab algn="l" pos="3608280"/>
                <a:tab algn="l" pos="4514760"/>
                <a:tab algn="l" pos="5423040"/>
                <a:tab algn="l" pos="6350040"/>
                <a:tab algn="l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7. Prop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681280"/>
                <a:tab algn="l" pos="3608280"/>
                <a:tab algn="l" pos="4514760"/>
                <a:tab algn="l" pos="5423040"/>
                <a:tab algn="l" pos="6350040"/>
                <a:tab algn="l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8. </a:t>
            </a:r>
            <a:r>
              <a:rPr b="0" i="1" lang="en-US" sz="2400" spc="-1" strike="noStrike">
                <a:solidFill>
                  <a:srgbClr val="ff0a1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-Xyl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681280"/>
                <a:tab algn="l" pos="3608280"/>
                <a:tab algn="l" pos="4514760"/>
                <a:tab algn="l" pos="5423040"/>
                <a:tab algn="l" pos="6350040"/>
                <a:tab algn="l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9. 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681280"/>
                <a:tab algn="l" pos="3608280"/>
                <a:tab algn="l" pos="4514760"/>
                <a:tab algn="l" pos="5423040"/>
                <a:tab algn="l" pos="6350040"/>
                <a:tab algn="l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10. Methylcyclo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Lifetimes of ROGs Against Loss in Urban 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115160" y="59436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e0c"/>
                </a:solidFill>
                <a:latin typeface="Times New Roman"/>
              </a:rPr>
              <a:t>Table 1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1752480"/>
            <a:ext cx="85341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2681280"/>
                <a:tab algn="l" pos="3608280"/>
                <a:tab algn="l" pos="4514760"/>
                <a:tab algn="l" pos="5423040"/>
                <a:tab algn="l" pos="6350040"/>
                <a:tab algn="l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ROG Species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Phot.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OH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HO</a:t>
            </a:r>
            <a:r>
              <a:rPr b="0" lang="en-US" sz="2400" spc="-1" strike="noStrike" u="sng" baseline="-25000">
                <a:solidFill>
                  <a:srgbClr val="187534"/>
                </a:solidFill>
                <a:uFillTx/>
                <a:latin typeface="Times New Roman"/>
              </a:rPr>
              <a:t>2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O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NO</a:t>
            </a:r>
            <a:r>
              <a:rPr b="0" lang="en-US" sz="2400" spc="-1" strike="noStrike" u="sng" baseline="-25000">
                <a:solidFill>
                  <a:srgbClr val="187534"/>
                </a:solidFill>
                <a:uFillTx/>
                <a:latin typeface="Times New Roman"/>
              </a:rPr>
              <a:t>3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O</a:t>
            </a:r>
            <a:r>
              <a:rPr b="0" lang="en-US" sz="2400" spc="-1" strike="noStrike" u="sng" baseline="-25000">
                <a:solidFill>
                  <a:srgbClr val="187534"/>
                </a:solidFill>
                <a:uFillTx/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2681280"/>
                <a:tab algn="l" pos="3608280"/>
                <a:tab algn="l" pos="4514760"/>
                <a:tab algn="l" pos="5423040"/>
                <a:tab algn="l" pos="6350040"/>
                <a:tab algn="l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a12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-Butane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---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22 h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1000 y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18 y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29 d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650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2681280"/>
                <a:tab algn="l" pos="3608280"/>
                <a:tab algn="l" pos="4514760"/>
                <a:tab algn="l" pos="5423040"/>
                <a:tab algn="l" pos="6350040"/>
                <a:tab algn="l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a12"/>
                </a:solidFill>
                <a:latin typeface="Times New Roman"/>
              </a:rPr>
              <a:t>trans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-2-butene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---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52 m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4 y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6.3 d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4 m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17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2681280"/>
                <a:tab algn="l" pos="3608280"/>
                <a:tab algn="l" pos="4514760"/>
                <a:tab algn="l" pos="5423040"/>
                <a:tab algn="l" pos="6350040"/>
                <a:tab algn="l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Acetylene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---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3 d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---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2.5 y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---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200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2681280"/>
                <a:tab algn="l" pos="3608280"/>
                <a:tab algn="l" pos="4514760"/>
                <a:tab algn="l" pos="5423040"/>
                <a:tab algn="l" pos="6350040"/>
                <a:tab algn="l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Formaldehyde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7 h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6 h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1.8 h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2.5 y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2 d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3200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2681280"/>
                <a:tab algn="l" pos="3608280"/>
                <a:tab algn="l" pos="4514760"/>
                <a:tab algn="l" pos="5423040"/>
                <a:tab algn="l" pos="6350040"/>
                <a:tab algn="l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Acetone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23 d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9.6 d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--- 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---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---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2681280"/>
                <a:tab algn="l" pos="3608280"/>
                <a:tab algn="l" pos="4514760"/>
                <a:tab algn="l" pos="5423040"/>
                <a:tab algn="l" pos="6350040"/>
                <a:tab algn="l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Ethanol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---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19 h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---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---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---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2681280"/>
                <a:tab algn="l" pos="3608280"/>
                <a:tab algn="l" pos="4514760"/>
                <a:tab algn="l" pos="5423040"/>
                <a:tab algn="l" pos="6350040"/>
                <a:tab algn="l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Toluene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---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9 h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--- 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6 y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33 d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200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2681280"/>
                <a:tab algn="l" pos="3608280"/>
                <a:tab algn="l" pos="4514760"/>
                <a:tab algn="l" pos="5423040"/>
                <a:tab algn="l" pos="6350040"/>
                <a:tab algn="l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Isoprene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---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34 m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---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4 d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5 m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4.6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2681280"/>
                <a:tab algn="l" pos="3608280"/>
                <a:tab algn="l" pos="4514760"/>
                <a:tab algn="l" pos="5423040"/>
                <a:tab algn="l" pos="6350040"/>
                <a:tab algn="l" pos="72565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H Sources in Polluted 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rly morning sour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" y="2362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d-morning sour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8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3581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8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4495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8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990720" y="1523880"/>
          <a:ext cx="7237440" cy="57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23880"/>
                    <a:ext cx="72374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762120" y="2590920"/>
          <a:ext cx="7427880" cy="631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590920"/>
                    <a:ext cx="74278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2743200" y="3429000"/>
          <a:ext cx="3236760" cy="7002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3429000"/>
                    <a:ext cx="323676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2286000" y="4419720"/>
          <a:ext cx="4189320" cy="6015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4419720"/>
                    <a:ext cx="41893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380880" y="5334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2286000" y="5181480"/>
          <a:ext cx="4289400" cy="7002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5181480"/>
                    <a:ext cx="428940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ydroxyl Rad. Sources in Polluted 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1447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fternoon sour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8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" y="4267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143000" y="2514600"/>
          <a:ext cx="7267680" cy="60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72676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2286000" y="4038480"/>
          <a:ext cx="4129200" cy="631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4038480"/>
                    <a:ext cx="41292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kene Reaction With Hydroxyl Radi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" y="1447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thene oxid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8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322200" y="2286000"/>
          <a:ext cx="8821800" cy="173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286000"/>
                    <a:ext cx="882180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0666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2000"/>
          </a:bodyPr>
          <a:p>
            <a:pPr marL="41040" indent="-4104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n-methane hydrocarbons (NMH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Hydrocarbons, except for meth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xygenated hydrocarb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Hydrocarbons with oxygenated functional groups, such as aldehydes, ketones, alcohols, acids, and nitrates, added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ctive organic gas (RO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The sum of oxygenated and NMH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tal organic gas (TO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The sum of ROG and meth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 algn="just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kene Reaction With Hydroxyl Radi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" y="1600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thanoloxy radical oxida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8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1371600" y="2362320"/>
          <a:ext cx="6207120" cy="383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362320"/>
                    <a:ext cx="6207120" cy="38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hotostationary State Relation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828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895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362320" y="1143000"/>
          <a:ext cx="3998880" cy="63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143000"/>
                    <a:ext cx="39988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266840" y="2057400"/>
          <a:ext cx="6886440" cy="631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66840" y="2057400"/>
                    <a:ext cx="688644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209680" y="3048120"/>
          <a:ext cx="4060800" cy="601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048120"/>
                    <a:ext cx="40608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209680" y="4267080"/>
          <a:ext cx="4348440" cy="82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4267080"/>
                    <a:ext cx="434844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200400" y="5715000"/>
          <a:ext cx="2095560" cy="92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0400" y="5715000"/>
                    <a:ext cx="209556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457200" y="3809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me rate of change of nitrogen dioxi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51814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eady state --&gt; photostationary state relationshi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hotostationary State Relation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xample 11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447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marL="51120" indent="-5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43000"/>
                <a:tab algn="l" pos="4800600"/>
                <a:tab algn="l" pos="54864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Estimate ozone mixing ratio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43000"/>
                <a:tab algn="l" pos="4800600"/>
                <a:tab algn="l" pos="54864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013 hPa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98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43000"/>
                <a:tab algn="l" pos="4800600"/>
                <a:tab algn="l" pos="54864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5 pptv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NO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0 pp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43000"/>
                <a:tab algn="l" pos="4800600"/>
                <a:tab algn="l" pos="54864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1 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.8x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4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molec.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      = 0.01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43000"/>
                <a:tab algn="l" pos="4800600"/>
                <a:tab algn="l" pos="54864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43000"/>
                <a:tab algn="l" pos="4800600"/>
                <a:tab algn="l" pos="54864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43000"/>
                <a:tab algn="l" pos="4800600"/>
                <a:tab algn="l" pos="54864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[O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]  = 1.1x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molec.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43000"/>
                <a:tab algn="l" pos="4800600"/>
                <a:tab algn="l" pos="54864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d 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.46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molec.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43000"/>
                <a:tab algn="l" pos="4800600"/>
                <a:tab algn="l" pos="54864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Symbol"/>
                <a:ea typeface="Symbol"/>
              </a:rPr>
              <a:t>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O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44.7 ppb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88620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ther Reactions Affecting Oz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hotodissociation of ozon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666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4419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version of excited to ground-state atomic oxyge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14400" y="1752480"/>
          <a:ext cx="7237440" cy="57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2374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3254400"/>
          <a:ext cx="7237440" cy="631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254400"/>
                    <a:ext cx="723744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011400" y="5288040"/>
          <a:ext cx="2855880" cy="7318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11400" y="5288040"/>
                    <a:ext cx="285588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ydroxyl Radical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j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981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nor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1.10-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362320" y="1219320"/>
          <a:ext cx="4219560" cy="63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219320"/>
                    <a:ext cx="42195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100160" y="2209680"/>
          <a:ext cx="7205760" cy="631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0160" y="2209680"/>
                    <a:ext cx="72057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100160" y="3200400"/>
          <a:ext cx="7205760" cy="631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0160" y="3200400"/>
                    <a:ext cx="72057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990720" y="4229280"/>
          <a:ext cx="7297560" cy="5713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4229280"/>
                    <a:ext cx="72975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990720" y="5105520"/>
          <a:ext cx="7297560" cy="14619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5105520"/>
                    <a:ext cx="729756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0:13:47Z</dcterms:created>
  <dc:creator>Fred Ginnebaugh</dc:creator>
  <dc:description/>
  <dc:language>en-US</dc:language>
  <cp:lastModifiedBy>Mark Z. Jacobson</cp:lastModifiedBy>
  <dcterms:modified xsi:type="dcterms:W3CDTF">2005-03-31T20:45:41Z</dcterms:modified>
  <cp:revision>545</cp:revision>
  <dc:subject/>
  <dc:title>Slide 1</dc:title>
</cp:coreProperties>
</file>