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33.pct" ContentType="image/x-pict"/>
  <Override PartName="/ppt/media/image3.pct" ContentType="image/x-pict"/>
  <Override PartName="/ppt/media/image15.pct" ContentType="image/x-pict"/>
  <Override PartName="/ppt/media/image32.pct" ContentType="image/x-pict"/>
  <Override PartName="/ppt/media/image2.pct" ContentType="image/x-pict"/>
  <Override PartName="/ppt/media/image14.pct" ContentType="image/x-pict"/>
  <Override PartName="/ppt/media/image31.pct" ContentType="image/x-pict"/>
  <Override PartName="/ppt/media/image66.pct" ContentType="image/x-pict"/>
  <Override PartName="/ppt/media/image28.pct" ContentType="image/x-pict"/>
  <Override PartName="/ppt/media/image65.pct" ContentType="image/x-pict"/>
  <Override PartName="/ppt/media/image27.pct" ContentType="image/x-pict"/>
  <Override PartName="/ppt/media/image64.pct" ContentType="image/x-pict"/>
  <Override PartName="/ppt/media/image26.pct" ContentType="image/x-pict"/>
  <Override PartName="/ppt/media/image63.pct" ContentType="image/x-pict"/>
  <Override PartName="/ppt/media/image25.pct" ContentType="image/x-pict"/>
  <Override PartName="/ppt/media/image62.pct" ContentType="image/x-pict"/>
  <Override PartName="/ppt/media/image24.pct" ContentType="image/x-pict"/>
  <Override PartName="/ppt/media/image61.pct" ContentType="image/x-pict"/>
  <Override PartName="/ppt/media/image59.pct" ContentType="image/x-pict"/>
  <Override PartName="/ppt/media/image22.pct" ContentType="image/x-pict"/>
  <Override PartName="/ppt/media/image57.pct" ContentType="image/x-pict"/>
  <Override PartName="/ppt/media/image20.pct" ContentType="image/x-pict"/>
  <Override PartName="/ppt/media/image60.pct" ContentType="image/x-pict"/>
  <Override PartName="/ppt/media/image23.pct" ContentType="image/x-pict"/>
  <Override PartName="/ppt/media/image58.pct" ContentType="image/x-pict"/>
  <Override PartName="/ppt/media/image21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29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media/image1.pct" ContentType="image/x-pict"/>
  <Override PartName="/ppt/media/image13.pct" ContentType="image/x-pict"/>
  <Override PartName="/ppt/media/image9.pct" ContentType="image/x-pict"/>
  <Override PartName="/ppt/media/image39.pct" ContentType="image/x-pict"/>
  <Override PartName="/ppt/media/image30.pct" ContentType="image/x-pict"/>
  <Override PartName="/ppt/media/image40.pct" ContentType="image/x-pict"/>
  <Override PartName="/ppt/media/image41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AF3-F510-424A-9C43-7AFC3962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0EF-2B08-425F-8A3E-FE66812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1DB-127A-4142-8A06-A1FD3121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7D7-5B9A-4620-A457-5F2F15D0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281-1CC9-4E34-9B14-CADE6C44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937-DE0A-4AB5-91F4-74A1D5D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830-6DCC-43EA-A9D1-1A232051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7D2-DD0E-4039-9F78-FB2EC7E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928-962A-412A-B97D-D6FCFC8C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9A0-3C5C-4023-8087-10B3F23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BC0-7901-49AA-9049-DC748FF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C9A-5131-4932-A082-760C84B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CD8-7942-4EE5-8242-B0099832D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ct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ct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pct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.pct"/><Relationship Id="rId13" Type="http://schemas.openxmlformats.org/officeDocument/2006/relationships/package" Target="../embeddings/oleObject7.docx"/><Relationship Id="rId14" Type="http://schemas.openxmlformats.org/officeDocument/2006/relationships/image" Target="../media/image7.pct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ct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ct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ct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pct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9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3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oxygen, catalyzed by Fe(III)=F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oxygen, catalyzed by Mn(II) = M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1752480"/>
          <a:ext cx="7267680" cy="117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72676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0880" y="4343400"/>
          <a:ext cx="8318520" cy="111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343400"/>
                    <a:ext cx="831852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formaldehy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ldehyde equilibrates with methylene glyco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1828800"/>
          <a:ext cx="6764400" cy="124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7644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00200" y="4800600"/>
          <a:ext cx="6124680" cy="82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6124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dichloride 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loride ion equilibrates with chlorine atom,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828800"/>
          <a:ext cx="7205400" cy="124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2054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362320" y="4495680"/>
          <a:ext cx="4349520" cy="1333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95680"/>
                    <a:ext cx="434952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loud Conversion of S(IV) to S(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892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990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nge in S(VI) content when 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dissolved and (a) did not and (b) did react in a cloud. The conversion took &lt;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2133720"/>
          <a:ext cx="7010280" cy="443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01028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2120" y="2154240"/>
            <a:ext cx="685800" cy="40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1066680" y="3817800"/>
            <a:ext cx="42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med concentration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 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ffusion Within a 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istic time for aqueous diffusion in cloud dro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 algn="just">
              <a:lnSpc>
                <a:spcPct val="10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9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lnSpc>
                <a:spcPct val="10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 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just">
              <a:lnSpc>
                <a:spcPct val="10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d,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1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10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 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10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d,q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1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Reaction times for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aq), N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(aq), OH(aq), Cl(aq), 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C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, and Cl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9900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are shorter than are diffusion transpor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76720" y="1600200"/>
          <a:ext cx="234936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2349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ffusion Within a 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rate of change of concentration of speci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n size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s a function of radius during diffus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ndary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t drop center, ∂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q,i,r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/ ∂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209680"/>
          <a:ext cx="799812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99812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Chemistry With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66680" indent="-16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queous reactions stiffer than gas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queous reactions solved in more size bins than gas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queous concentrations coupled to growth and equilibrium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&gt;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ither time split aqueous chemistry from other processes with a small splitting time step or solve aqueous chemistry together with oth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aerosol composi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105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sponding conservation of gas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3886200"/>
          <a:ext cx="77119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86200"/>
                    <a:ext cx="7711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71800" y="5562720"/>
          <a:ext cx="3332160" cy="111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562720"/>
                    <a:ext cx="333216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Chemistr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60199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29)-(19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600200"/>
          <a:ext cx="57135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5713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523880" y="2209680"/>
          <a:ext cx="612612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209680"/>
                    <a:ext cx="6126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438280" y="2819520"/>
          <a:ext cx="412596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819520"/>
                    <a:ext cx="4125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447920" y="3429000"/>
          <a:ext cx="596736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59673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62120" y="10666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d for one type of numerical solution to aqueous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4038480"/>
          <a:ext cx="533232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038480"/>
                    <a:ext cx="5332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828800" y="4648320"/>
          <a:ext cx="533232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648320"/>
                    <a:ext cx="5332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295280" y="5257800"/>
          <a:ext cx="6348600" cy="47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5257800"/>
                    <a:ext cx="6348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owth/Aqueous Chemistry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S(IV) due to aqueous chemist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emical production and loss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conservati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523880"/>
          <a:ext cx="84106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410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981080" y="2666880"/>
          <a:ext cx="33321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666880"/>
                    <a:ext cx="3332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47560" y="3701880"/>
          <a:ext cx="3490920" cy="117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560" y="3701880"/>
                    <a:ext cx="349092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572000" y="3733920"/>
          <a:ext cx="3427560" cy="11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33920"/>
                    <a:ext cx="34275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28600" y="5410080"/>
          <a:ext cx="876600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5410080"/>
                    <a:ext cx="8766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owth/Aqueous Chemistry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effective Henry’s consta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less Henry’s consta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3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05120" y="1752480"/>
          <a:ext cx="50781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52480"/>
                    <a:ext cx="50781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09480" y="3048120"/>
          <a:ext cx="783936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048120"/>
                    <a:ext cx="78393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362320" y="5486400"/>
          <a:ext cx="390348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486400"/>
                    <a:ext cx="39034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(IV) and S(VI)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971800" y="1905120"/>
          <a:ext cx="98280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05120"/>
                    <a:ext cx="98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743200" y="2819520"/>
          <a:ext cx="1461960" cy="120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19520"/>
                    <a:ext cx="14619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743200" y="4191120"/>
          <a:ext cx="1432080" cy="1203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191120"/>
                    <a:ext cx="14320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666880" y="5410080"/>
          <a:ext cx="1462320" cy="1203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410080"/>
                    <a:ext cx="14623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010280" y="2590920"/>
          <a:ext cx="1584360" cy="13334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2590920"/>
                    <a:ext cx="1584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086600" y="3962520"/>
          <a:ext cx="1523880" cy="1333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86600" y="3962520"/>
                    <a:ext cx="15238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7086600" y="5334120"/>
          <a:ext cx="1523880" cy="13334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5334120"/>
                    <a:ext cx="15238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57200" y="28954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ous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267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562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9718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g,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4197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sulf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5627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066680"/>
            <a:ext cx="320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(IV) Fami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g,aq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0666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8744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(VI) Famil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8744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owth/Aqueous Chemistry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o of S(IV) to 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3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and second dissociation constants of S(IV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3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43000" y="1511280"/>
          <a:ext cx="672948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11280"/>
                    <a:ext cx="6729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00200" y="3505320"/>
          <a:ext cx="5618160" cy="12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505320"/>
                    <a:ext cx="56181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00200" y="5029200"/>
          <a:ext cx="5522760" cy="14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55227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hemical Loss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der aqueous reactions of famil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6 - 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1523880"/>
          <a:ext cx="71424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142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3880" y="2286000"/>
          <a:ext cx="57769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286000"/>
                    <a:ext cx="57769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3657600"/>
          <a:ext cx="345888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657600"/>
                    <a:ext cx="34588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971800" y="4267080"/>
          <a:ext cx="25700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4267080"/>
                    <a:ext cx="2570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971800" y="4876920"/>
          <a:ext cx="24764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4876920"/>
                    <a:ext cx="247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200400" y="5410080"/>
          <a:ext cx="196848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5410080"/>
                    <a:ext cx="1968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76720" y="5943600"/>
          <a:ext cx="1873080" cy="47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5943600"/>
                    <a:ext cx="1873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80880" y="31240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se represent individual aqueous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8-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hemical Loss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their equilibrium partition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3-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2133720"/>
          <a:ext cx="717408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74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048120" y="3124080"/>
          <a:ext cx="30780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30780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hemical Loss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 loss 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coefficient for S(VI)+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+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fraction of S(IV) partitioned to H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1752480"/>
          <a:ext cx="841068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410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352680" y="3505320"/>
          <a:ext cx="228600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505320"/>
                    <a:ext cx="22860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80880" y="5029200"/>
          <a:ext cx="82202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029200"/>
                    <a:ext cx="8220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hemical Loss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coefficient for S(VI)+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514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fraction of S(IV) partitioned to 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fraction of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artitioned to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 and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60-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09480" y="1219320"/>
          <a:ext cx="57135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57135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429000" y="1828800"/>
          <a:ext cx="523728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828800"/>
                    <a:ext cx="5237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0880" y="2971800"/>
          <a:ext cx="82836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971800"/>
                    <a:ext cx="8283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286000" y="4648320"/>
          <a:ext cx="4697280" cy="104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4648320"/>
                    <a:ext cx="46972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286000" y="5791320"/>
          <a:ext cx="4761000" cy="98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5791320"/>
                    <a:ext cx="47610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16765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Dissolution/chemistry of 10 gases to 16 size bins, 11 species per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Sparse-Matrix Reductions When Solving Growth/Aqueous 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5680" y="2514600"/>
            <a:ext cx="658152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duction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duction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 of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fill-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4,59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2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fill-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4,59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164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,127,68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. 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,20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ub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,20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ub. 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,20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echanisms of Converting S(IV) to S(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8001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Why is thi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t allows sulfuric acid to enter or form within cloud drops and aerosol particles, increasing their ac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. Gas-phase oxidation of 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to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followed by condensation of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2. Dissolution of 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into liquid water to form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aq) followed by aqueous chemical conversion of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aq) and its dissociation products to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aq) and its dissociation products.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as-Phase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-phase oxidation of sulfur dioxide to sulfuric ac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523880"/>
          <a:ext cx="818856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188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densation and dissociation of sulfuric ac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85760" y="4419720"/>
          <a:ext cx="8958240" cy="108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60" y="4419720"/>
                    <a:ext cx="89582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(IV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Dissolution/Aqueous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olution of sulfur di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ociation of dissolved sulfur di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t pH of 2-7, most S(IV) dissociates to H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2286000"/>
          <a:ext cx="3510000" cy="117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86000"/>
                    <a:ext cx="35100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80880" y="4876920"/>
          <a:ext cx="8364600" cy="117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876920"/>
                    <a:ext cx="8364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of S(IV) by hydrogen per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[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] &gt; [S(IV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(IV) is consumed within tens of minutes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buClr>
                <a:srgbClr val="80008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[S(IV)] &gt; [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q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aq) is consumed within minu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14400" y="1752480"/>
          <a:ext cx="7751880" cy="11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5188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ydrogen Peroxide Sources/S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urces of hydrogen per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8, 19.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11480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ks of hydrogen per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6, 19.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8120" y="1600200"/>
          <a:ext cx="3298680" cy="4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3298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4160" y="2286000"/>
          <a:ext cx="8889840" cy="127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2286000"/>
                    <a:ext cx="88898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362320" y="4572000"/>
          <a:ext cx="428940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572000"/>
                    <a:ext cx="4289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447920" y="5410080"/>
          <a:ext cx="6032520" cy="571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410080"/>
                    <a:ext cx="60325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ozone, important when pH &gt; 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hydroxyl radical, important when pH ≈ 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81080" y="2057400"/>
          <a:ext cx="5362560" cy="12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536256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066680" y="4648320"/>
          <a:ext cx="7077240" cy="136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648320"/>
                    <a:ext cx="70772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queous Oxidation of S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oxygen, catalyzed by peroxysulfate 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114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idation by the peroxymonosulfate 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9.1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09680" y="1752480"/>
          <a:ext cx="511200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51120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600200" y="4800600"/>
          <a:ext cx="6124680" cy="10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6124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17:57:27Z</dcterms:modified>
  <cp:revision>731</cp:revision>
  <dc:subject/>
  <dc:title>Slide 1</dc:title>
</cp:coreProperties>
</file>