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6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47.pct" ContentType="image/x-pict"/>
  <Override PartName="/ppt/media/image10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82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104.pct" ContentType="image/x-pict"/>
  <Override PartName="/ppt/media/image97.pct" ContentType="image/x-pict"/>
  <Override PartName="/ppt/media/image60.pct" ContentType="image/x-pict"/>
  <Override PartName="/ppt/media/image103.pct" ContentType="image/x-pict"/>
  <Override PartName="/ppt/media/image96.pct" ContentType="image/x-pict"/>
  <Override PartName="/ppt/media/image89.pct" ContentType="image/x-pict"/>
  <Override PartName="/ppt/media/image102.pct" ContentType="image/x-pict"/>
  <Override PartName="/ppt/media/image95.pct" ContentType="image/x-pict"/>
  <Override PartName="/ppt/media/image88.pct" ContentType="image/x-pict"/>
  <Override PartName="/ppt/media/image64.pct" ContentType="image/x-pict"/>
  <Override PartName="/ppt/media/image99.pct" ContentType="image/x-pict"/>
  <Override PartName="/ppt/media/image62.pct" ContentType="image/x-pict"/>
  <Override PartName="/ppt/media/image87.pct" ContentType="image/x-pict"/>
  <Override PartName="/ppt/media/image63.pct" ContentType="image/x-pict"/>
  <Override PartName="/ppt/media/image98.pct" ContentType="image/x-pict"/>
  <Override PartName="/ppt/media/image61.pct" ContentType="image/x-pict"/>
  <Override PartName="/ppt/media/image101.pct" ContentType="image/x-pict"/>
  <Override PartName="/ppt/media/image79.pct" ContentType="image/x-pict"/>
  <Override PartName="/ppt/media/image23.pct" ContentType="image/x-pict"/>
  <Override PartName="/ppt/media/image22.pct" ContentType="image/x-pict"/>
  <Override PartName="/ppt/media/image59.pct" ContentType="image/x-pict"/>
  <Override PartName="/ppt/media/image21.pct" ContentType="image/x-pict"/>
  <Override PartName="/ppt/media/image58.pct" ContentType="image/x-pict"/>
  <Override PartName="/ppt/media/image20.pct" ContentType="image/x-pict"/>
  <Override PartName="/ppt/media/image57.pct" ContentType="image/x-pict"/>
  <Override PartName="/ppt/media/image2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15.pct" ContentType="image/x-pict"/>
  <Override PartName="/ppt/media/image80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16.pct" ContentType="image/x-pict"/>
  <Override PartName="/ppt/media/image81.pct" ContentType="image/x-pict"/>
  <Override PartName="/ppt/media/image4.pct" ContentType="image/x-pict"/>
  <Override PartName="/ppt/media/image3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76C-B6A3-462E-B584-E9AD2255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351-9D29-4309-90F1-4838EBE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C11-B0BA-492F-9115-470C36C6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437-3769-4C07-BE0A-175FE051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150-A7F2-4233-9A49-2B9F41D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BE2-F2CB-4065-ADCE-79227B1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5D1-CC4F-41C7-8F13-8B326D10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C13-5360-4000-8E79-875E8461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478-BF1D-4E8A-9CCE-78FAC5A5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9BB-C631-411B-9289-1F123C2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B02-6F8B-4996-8D99-81A15A8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78F-3690-42E1-8AB3-1F5858D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307-7393-4F8C-823E-D1BD5602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ct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ct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ct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ct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4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ct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pct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ct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pct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pct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pct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pct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7.pct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pct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 of concentration and divergence term is scal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adient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1240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of a scalar is a ve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952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 term is a scala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33720" y="1981080"/>
          <a:ext cx="423216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1080"/>
                    <a:ext cx="42321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3657600"/>
          <a:ext cx="658188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65818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62120" y="5486400"/>
          <a:ext cx="750384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86400"/>
                    <a:ext cx="75038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derivative of scala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adient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971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 te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3581280"/>
          <a:ext cx="75042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504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57200" y="4724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ized and expanded form of total derivativ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5486400"/>
          <a:ext cx="537552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486400"/>
                    <a:ext cx="53755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143000" y="1905120"/>
          <a:ext cx="64720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905120"/>
                    <a:ext cx="6472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alar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umulation = inflow minus outflow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1066680"/>
          <a:ext cx="5630760" cy="40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563076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600200" y="5562720"/>
          <a:ext cx="531180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562720"/>
                    <a:ext cx="53118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00200" y="6095880"/>
          <a:ext cx="520056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6095880"/>
                    <a:ext cx="5200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alar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umulation = inflow minus outflow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1600200"/>
          <a:ext cx="53118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5311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vide both sides by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box volum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895480"/>
          <a:ext cx="315432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895480"/>
                    <a:ext cx="3154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200400" y="4876920"/>
          <a:ext cx="1928880" cy="7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876920"/>
                    <a:ext cx="19288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72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lux-divergence form of continuity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alar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1430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ux-divergence form of continuity equation in 3-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5627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Velocity divergence continuity equation (and for air)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819520" y="3809880"/>
          <a:ext cx="277812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9880"/>
                    <a:ext cx="2778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with chain ru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5943600"/>
          <a:ext cx="22035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5943600"/>
                    <a:ext cx="22035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800600" y="5943600"/>
          <a:ext cx="24400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5943600"/>
                    <a:ext cx="24400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28800" y="1600200"/>
          <a:ext cx="5786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1600200"/>
                    <a:ext cx="5786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286000" y="2819520"/>
          <a:ext cx="4149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2819520"/>
                    <a:ext cx="4149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7200" y="3352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definition of total derivativ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4800600"/>
          <a:ext cx="6800760" cy="76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6800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57200" y="4419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3.21) into (3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ixing Ratio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143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. as function of moist-air mixing ratio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5053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obta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3623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continuity equation for number conc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9528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00400" y="1447920"/>
          <a:ext cx="147168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14716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14600" y="2743200"/>
          <a:ext cx="3610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743200"/>
                    <a:ext cx="361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990720" y="3886200"/>
          <a:ext cx="710244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886200"/>
                    <a:ext cx="710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362320" y="4800600"/>
          <a:ext cx="420516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800600"/>
                    <a:ext cx="4205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352680" y="5867280"/>
          <a:ext cx="2048040" cy="7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5867280"/>
                    <a:ext cx="204804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33520" y="5562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Continuity equation for moist-air mass mixing rati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mpressible/Incompres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ressible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olume of an air or water parcel changes over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267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 of incompressible fluid constant along mo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562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 of incompressible fluid changes at fixed poi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666880" y="1828800"/>
          <a:ext cx="33642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364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57200" y="2666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mpressible flui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olume of an air or water parcel is constant over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24080" y="3429000"/>
          <a:ext cx="237672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429000"/>
                    <a:ext cx="2376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124080" y="5867280"/>
          <a:ext cx="248616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867280"/>
                    <a:ext cx="2486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676520" y="4724280"/>
          <a:ext cx="558468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724280"/>
                    <a:ext cx="55846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anded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ed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029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obta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86000" y="1371600"/>
          <a:ext cx="4506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506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7200" y="2895480"/>
          <a:ext cx="844704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95480"/>
                    <a:ext cx="84470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743200" y="3962520"/>
          <a:ext cx="288936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962520"/>
                    <a:ext cx="28893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5486400"/>
          <a:ext cx="857412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486400"/>
                    <a:ext cx="8574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ynolds Ave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419720"/>
            <a:ext cx="8458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cise gas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0666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3.3.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Precise, mean, and perturbation components of scalar velocity and number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334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- and grid-volume average concentratio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429000" y="4876920"/>
          <a:ext cx="16002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876920"/>
                    <a:ext cx="16002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914400" y="5870520"/>
          <a:ext cx="723096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870520"/>
                    <a:ext cx="72309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295280" y="1676520"/>
          <a:ext cx="6846840" cy="258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676520"/>
                    <a:ext cx="684684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anded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ed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819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precise concentrations and velocities and eliminate zero term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447920"/>
          <a:ext cx="8574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574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914400" y="3657600"/>
          <a:ext cx="74232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57600"/>
                    <a:ext cx="74232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981080" y="4724280"/>
          <a:ext cx="4662720" cy="11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724280"/>
                    <a:ext cx="4662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locity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te at which the position of a body changes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ind Speed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locity ve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895480"/>
          <a:ext cx="21020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95480"/>
                    <a:ext cx="21020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27400" y="4724280"/>
            <a:ext cx="589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i,j,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unit vectors i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,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429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velocity ve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352680" y="4038480"/>
          <a:ext cx="160020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38480"/>
                    <a:ext cx="16002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57200" y="5257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ar components of veloc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5867280"/>
          <a:ext cx="9684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867280"/>
                    <a:ext cx="968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352680" y="5791320"/>
          <a:ext cx="9684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5791320"/>
                    <a:ext cx="968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715000" y="5791320"/>
          <a:ext cx="101448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5791320"/>
                    <a:ext cx="10144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anded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t diffusion &gt;&gt; molecular diffusion 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819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. continuity equation in vector not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31640" y="1600200"/>
          <a:ext cx="871236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600200"/>
                    <a:ext cx="87123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362320" y="3200400"/>
          <a:ext cx="475272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00400"/>
                    <a:ext cx="4752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438280" y="5257800"/>
          <a:ext cx="434196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5257800"/>
                    <a:ext cx="4341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57200" y="4572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 in vector not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ixing Ratio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ist-air mass mixing ratio continuit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14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733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 continuity equation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43200" y="1447920"/>
          <a:ext cx="278748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27874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86000" y="2895480"/>
          <a:ext cx="39304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895480"/>
                    <a:ext cx="39304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286000" y="4038480"/>
          <a:ext cx="423216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038480"/>
                    <a:ext cx="42321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57200" y="5257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after Reynolds averag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981080" y="5486400"/>
          <a:ext cx="5375520" cy="11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486400"/>
                    <a:ext cx="53755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-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lates turbulent fluxes of one parameter to the gradient of the mean value of th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981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 turbulent flux term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352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eddy diffusion coefficient for energy (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962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continuity equ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2438280"/>
          <a:ext cx="825516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2551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1000" y="4419720"/>
          <a:ext cx="879300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000" y="4419720"/>
                    <a:ext cx="87930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895480" y="5410080"/>
          <a:ext cx="34275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410080"/>
                    <a:ext cx="3427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as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gas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514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moist-air mass mixing rati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114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dy diffusion tens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981080" y="1371600"/>
          <a:ext cx="502776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371600"/>
                    <a:ext cx="50277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447920" y="2895480"/>
          <a:ext cx="5621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5621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057400" y="4724280"/>
          <a:ext cx="4013280" cy="149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724280"/>
                    <a:ext cx="401328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tinuity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95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gnore turbulent flux divergence and external source/sink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8120" y="5334120"/>
          <a:ext cx="2714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334120"/>
                    <a:ext cx="2714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33520" y="10666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ed continuity equation for gas concentr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286000" y="1600200"/>
          <a:ext cx="432432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600200"/>
                    <a:ext cx="43243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905120" y="2590920"/>
          <a:ext cx="49543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590920"/>
                    <a:ext cx="49543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752480" y="3200400"/>
          <a:ext cx="5613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200400"/>
                    <a:ext cx="5613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ticle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particle numb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3048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concentr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962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particle volume concentr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09680" y="1600200"/>
          <a:ext cx="393084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39308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6680" y="2438280"/>
          <a:ext cx="7093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438280"/>
                    <a:ext cx="7093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429000" y="3352680"/>
          <a:ext cx="1746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352680"/>
                    <a:ext cx="1746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4419720"/>
          <a:ext cx="457020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4419720"/>
                    <a:ext cx="4570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914400" y="5334120"/>
          <a:ext cx="700236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334120"/>
                    <a:ext cx="7002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6019920"/>
          <a:ext cx="6316920" cy="45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6019920"/>
                    <a:ext cx="6316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er Continuit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water vap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048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liquid wat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952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ity equation for i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66680" y="1447920"/>
          <a:ext cx="46627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4662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676520" y="2362320"/>
          <a:ext cx="60325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60325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66680" y="3352680"/>
          <a:ext cx="5375520" cy="92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352680"/>
                    <a:ext cx="53755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004840" y="4419720"/>
          <a:ext cx="713916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4840" y="4419720"/>
                    <a:ext cx="71391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066680" y="5334120"/>
          <a:ext cx="5220000" cy="92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334120"/>
                    <a:ext cx="5220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905120" y="6172200"/>
          <a:ext cx="5776920" cy="45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6172200"/>
                    <a:ext cx="5776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ulk vs. Size-Res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ze-resolved treatment of wa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048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lk treatment of wat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743200" y="1600200"/>
          <a:ext cx="34830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00200"/>
                    <a:ext cx="3483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200400" y="3809880"/>
          <a:ext cx="248616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4861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aw of thermodynamic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25146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with respect to time, substit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rmodynamic energy equation in terms of temperature along line of motion of par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-rate-of change of temperature in a parcel is affected by diabatic sources/sinks and adiabatic expansion/con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895480" y="1752480"/>
          <a:ext cx="30895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3089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438280" y="3733920"/>
          <a:ext cx="39769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733920"/>
                    <a:ext cx="3976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000 hPa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733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odynamic energy equ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3000" y="1600200"/>
          <a:ext cx="682776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82776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752480" y="2895480"/>
          <a:ext cx="280692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895480"/>
                    <a:ext cx="28069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905120" y="5715000"/>
          <a:ext cx="4798800" cy="8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715000"/>
                    <a:ext cx="47988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286000" y="4191120"/>
          <a:ext cx="3976560" cy="8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4191120"/>
                    <a:ext cx="39765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520" y="5181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rom (3.65) into (3.64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 speed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gnitude of velocity vecto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i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wind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971800" y="2209680"/>
          <a:ext cx="26686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209680"/>
                    <a:ext cx="2668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3886200"/>
          <a:ext cx="207468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20746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3048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 the resul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4100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(3.67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600200" y="3505320"/>
          <a:ext cx="5786280" cy="1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57862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33520" y="1143000"/>
          <a:ext cx="79340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43000"/>
                    <a:ext cx="79340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33520" y="2133720"/>
          <a:ext cx="581328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133720"/>
                    <a:ext cx="58132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57200" y="4495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 energy density (J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429000" y="4876920"/>
          <a:ext cx="1909800" cy="46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876920"/>
                    <a:ext cx="19098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895480" y="5791320"/>
          <a:ext cx="3456000" cy="84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5791320"/>
                    <a:ext cx="34560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ose variables (assu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mall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666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orm Reynolds averag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rmodynamic energy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523880" y="1676520"/>
          <a:ext cx="613440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134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295280" y="3657600"/>
          <a:ext cx="628992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657600"/>
                    <a:ext cx="62899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80880" y="48006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t flux divergence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3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04920" y="5410080"/>
          <a:ext cx="8619840" cy="88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410080"/>
                    <a:ext cx="861984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odynamic Energy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t flux divergence tens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809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diabatic source/sink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5,6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43000" y="2819520"/>
          <a:ext cx="666432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664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352680" y="1600200"/>
          <a:ext cx="217512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600200"/>
                    <a:ext cx="21751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57200" y="2286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odynamic energy equation turbulence tens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90720" y="4343400"/>
          <a:ext cx="7522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343400"/>
                    <a:ext cx="7522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85800" y="5562720"/>
          <a:ext cx="8070840" cy="109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5562720"/>
                    <a:ext cx="80708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1600200"/>
          <a:ext cx="4259160" cy="41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25916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38520" y="6019920"/>
            <a:ext cx="1219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Zonally-Averaged Velo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67080" y="1600200"/>
          <a:ext cx="4259520" cy="414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600200"/>
                    <a:ext cx="425952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880" y="2286000"/>
            <a:ext cx="5335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90080" y="3238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titude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2209680"/>
            <a:ext cx="5335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3924360" y="3162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titude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10666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nu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d total derivative with chain ru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4)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ocal and Total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666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derivative.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 rate of change along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057400" y="1752480"/>
          <a:ext cx="467028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46702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33920" y="3124080"/>
          <a:ext cx="54756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124080"/>
                    <a:ext cx="547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57200" y="3886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derivative.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 rate of change at a 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733920" y="4419720"/>
          <a:ext cx="54756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419720"/>
                    <a:ext cx="547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53341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vection term.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 rate of change due to 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657600" y="5791320"/>
          <a:ext cx="731880" cy="76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5791320"/>
                    <a:ext cx="7318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ulerian frame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rame of reference of a point fixed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ulerian vs. Lagrang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5053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grangian frame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rame of reference of moving par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62520" y="4572000"/>
          <a:ext cx="54756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572000"/>
                    <a:ext cx="547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429000" y="2286000"/>
          <a:ext cx="1490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286000"/>
                    <a:ext cx="1490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balloon traveling with the wind from east to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d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10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350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time-rate-of-change in concentration at 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71800" y="4724280"/>
          <a:ext cx="230364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724280"/>
                    <a:ext cx="230364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28600" y="5715000"/>
          <a:ext cx="86104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715000"/>
                    <a:ext cx="86104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dient operator in Cartesian-altitude coordin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6)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adient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895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t product of velocity vector with gradient opera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90920" y="1828800"/>
          <a:ext cx="287964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2879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8600" y="3352680"/>
          <a:ext cx="838188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52680"/>
                    <a:ext cx="83818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295280" y="4876920"/>
          <a:ext cx="5740560" cy="114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574056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t product of gradient operator with velocity ve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3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vergence term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adient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5812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t product of gradient operator with velocity vector not symmetric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2362320"/>
          <a:ext cx="779796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7979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81280" y="4267080"/>
          <a:ext cx="173700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267080"/>
                    <a:ext cx="17370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04920" y="5105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t product of two vectors is symmetric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57600" y="5867280"/>
          <a:ext cx="1608120" cy="2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867280"/>
                    <a:ext cx="160812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1:50Z</dcterms:modified>
  <cp:revision>207</cp:revision>
  <dc:subject/>
  <dc:title>Slide 1</dc:title>
</cp:coreProperties>
</file>