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1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26.pct" ContentType="image/x-pict"/>
  <Override PartName="/ppt/media/image125.pct" ContentType="image/x-pict"/>
  <Override PartName="/ppt/media/image124.pct" ContentType="image/x-pict"/>
  <Override PartName="/ppt/media/image123.pct" ContentType="image/x-pict"/>
  <Override PartName="/ppt/media/image122.pct" ContentType="image/x-pict"/>
  <Override PartName="/ppt/media/image121.pct" ContentType="image/x-pict"/>
  <Override PartName="/ppt/media/image116.pct" ContentType="image/x-pict"/>
  <Override PartName="/ppt/media/image115.pct" ContentType="image/x-pict"/>
  <Override PartName="/ppt/media/image114.pct" ContentType="image/x-pict"/>
  <Override PartName="/ppt/media/image113.pct" ContentType="image/x-pict"/>
  <Override PartName="/ppt/media/image112.pct" ContentType="image/x-pict"/>
  <Override PartName="/ppt/media/image111.pct" ContentType="image/x-pict"/>
  <Override PartName="/ppt/media/image106.pct" ContentType="image/x-pict"/>
  <Override PartName="/ppt/media/image105.pct" ContentType="image/x-pict"/>
  <Override PartName="/ppt/media/image104.pct" ContentType="image/x-pict"/>
  <Override PartName="/ppt/media/image103.pct" ContentType="image/x-pict"/>
  <Override PartName="/ppt/media/image102.pct" ContentType="image/x-pict"/>
  <Override PartName="/ppt/media/image101.pct" ContentType="image/x-pict"/>
  <Override PartName="/ppt/media/image99.pct" ContentType="image/x-pict"/>
  <Override PartName="/ppt/media/image98.pct" ContentType="image/x-pict"/>
  <Override PartName="/ppt/media/image97.pct" ContentType="image/x-pict"/>
  <Override PartName="/ppt/media/image29.pct" ContentType="image/x-pict"/>
  <Override PartName="/ppt/media/image96.pct" ContentType="image/x-pict"/>
  <Override PartName="/ppt/media/image28.pct" ContentType="image/x-pict"/>
  <Override PartName="/ppt/media/image95.pct" ContentType="image/x-pict"/>
  <Override PartName="/ppt/media/image27.pct" ContentType="image/x-pict"/>
  <Override PartName="/ppt/media/image89.pct" ContentType="image/x-pict"/>
  <Override PartName="/ppt/media/image88.pct" ContentType="image/x-pict"/>
  <Override PartName="/ppt/media/image87.pct" ContentType="image/x-pict"/>
  <Override PartName="/ppt/media/image19.pct" ContentType="image/x-pict"/>
  <Override PartName="/ppt/media/image79.pct" ContentType="image/x-pict"/>
  <Override PartName="/ppt/media/image78.pct" ContentType="image/x-pict"/>
  <Override PartName="/ppt/media/image77.pct" ContentType="image/x-pict"/>
  <Override PartName="/ppt/media/image76.pct" ContentType="image/x-pict"/>
  <Override PartName="/ppt/media/image75.pct" ContentType="image/x-pict"/>
  <Override PartName="/ppt/media/image74.pct" ContentType="image/x-pict"/>
  <Override PartName="/ppt/media/image62.pct" ContentType="image/x-pict"/>
  <Override PartName="/ppt/media/image159.pct" ContentType="image/x-pict"/>
  <Override PartName="/ppt/media/image7.pct" ContentType="image/x-pict"/>
  <Override PartName="/ppt/media/image37.pct" ContentType="image/x-pict"/>
  <Override PartName="/ppt/media/image38.pct" ContentType="image/x-pict"/>
  <Override PartName="/ppt/media/image8.pct" ContentType="image/x-pict"/>
  <Override PartName="/ppt/media/image30.pct" ContentType="image/x-pict"/>
  <Override PartName="/ppt/media/image127.pct" ContentType="image/x-pict"/>
  <Override PartName="/ppt/media/image1.pct" ContentType="image/x-pict"/>
  <Override PartName="/ppt/media/image153.pct" ContentType="image/x-pict"/>
  <Override PartName="/ppt/media/image39.pct" ContentType="image/x-pict"/>
  <Override PartName="/ppt/media/image41.pct" ContentType="image/x-pict"/>
  <Override PartName="/ppt/media/image138.pct" ContentType="image/x-pict"/>
  <Override PartName="/ppt/media/image42.pct" ContentType="image/x-pict"/>
  <Override PartName="/ppt/media/image139.pct" ContentType="image/x-pict"/>
  <Override PartName="/ppt/media/image43.pct" ContentType="image/x-pict"/>
  <Override PartName="/ppt/media/image50.pct" ContentType="image/x-pict"/>
  <Override PartName="/ppt/media/image147.pct" ContentType="image/x-pict"/>
  <Override PartName="/ppt/media/image51.pct" ContentType="image/x-pict"/>
  <Override PartName="/ppt/media/image148.pct" ContentType="image/x-pict"/>
  <Override PartName="/ppt/media/image52.pct" ContentType="image/x-pict"/>
  <Override PartName="/ppt/media/image149.pct" ContentType="image/x-pict"/>
  <Override PartName="/ppt/media/image53.pct" ContentType="image/x-pict"/>
  <Override PartName="/ppt/media/image144.pct" ContentType="image/x-pict"/>
  <Override PartName="/ppt/media/image145.pct" ContentType="image/x-pict"/>
  <Override PartName="/ppt/media/image146.pct" ContentType="image/x-pict"/>
  <Override PartName="/ppt/media/image108.pct" ContentType="image/x-pict"/>
  <Override PartName="/ppt/media/image11.pct" ContentType="image/x-pict"/>
  <Override PartName="/ppt/media/image150.pct" ContentType="image/x-pict"/>
  <Override PartName="/ppt/media/image152.pct" ContentType="image/x-pict"/>
  <Override PartName="/ppt/media/image109.pct" ContentType="image/x-pict"/>
  <Override PartName="/ppt/media/image151.pct" ContentType="image/x-pict"/>
  <Override PartName="/ppt/media/image160.pct" ContentType="image/x-pict"/>
  <Override PartName="/ppt/media/image161.pct" ContentType="image/x-pict"/>
  <Override PartName="/ppt/media/image162.pct" ContentType="image/x-pict"/>
  <Override PartName="/ppt/media/image40.pct" ContentType="image/x-pict"/>
  <Override PartName="/ppt/media/image137.pct" ContentType="image/x-pict"/>
  <Override PartName="/ppt/media/image163.pct" ContentType="image/x-pict"/>
  <Override PartName="/ppt/media/image143.pct" ContentType="image/x-pict"/>
  <Override PartName="/ppt/media/image56.pct" ContentType="image/x-pict"/>
  <Override PartName="/ppt/media/image142.pct" ContentType="image/x-pict"/>
  <Override PartName="/ppt/media/image55.pct" ContentType="image/x-pict"/>
  <Override PartName="/ppt/media/image141.pct" ContentType="image/x-pict"/>
  <Override PartName="/ppt/media/image54.pct" ContentType="image/x-pict"/>
  <Override PartName="/ppt/media/image140.pct" ContentType="image/x-pict"/>
  <Override PartName="/ppt/media/image100.pct" ContentType="image/x-pict"/>
  <Override PartName="/ppt/media/image49.pct" ContentType="image/x-pict"/>
  <Override PartName="/ppt/media/image136.pct" ContentType="image/x-pict"/>
  <Override PartName="/ppt/media/image135.pct" ContentType="image/x-pict"/>
  <Override PartName="/ppt/media/image48.pct" ContentType="image/x-pict"/>
  <Override PartName="/ppt/media/image134.pct" ContentType="image/x-pict"/>
  <Override PartName="/ppt/media/image133.pct" ContentType="image/x-pict"/>
  <Override PartName="/ppt/media/image46.pct" ContentType="image/x-pict"/>
  <Override PartName="/ppt/media/image132.pct" ContentType="image/x-pict"/>
  <Override PartName="/ppt/media/image45.pct" ContentType="image/x-pict"/>
  <Override PartName="/ppt/media/image131.pct" ContentType="image/x-pict"/>
  <Override PartName="/ppt/media/image129.pct" ContentType="image/x-pict"/>
  <Override PartName="/ppt/media/image32.pct" ContentType="image/x-pict"/>
  <Override PartName="/ppt/media/image44.pct" ContentType="image/x-pict"/>
  <Override PartName="/ppt/media/image130.pct" ContentType="image/x-pict"/>
  <Override PartName="/ppt/media/image128.pct" ContentType="image/x-pict"/>
  <Override PartName="/ppt/media/image36.pct" ContentType="image/x-pict"/>
  <Override PartName="/ppt/media/image61.pct" ContentType="image/x-pict"/>
  <Override PartName="/ppt/media/image158.pct" ContentType="image/x-pict"/>
  <Override PartName="/ppt/media/image6.pct" ContentType="image/x-pict"/>
  <Override PartName="/ppt/media/image18.pct" ContentType="image/x-pict"/>
  <Override PartName="/ppt/media/image86.pct" ContentType="image/x-pict"/>
  <Override PartName="/ppt/media/image31.pct" ContentType="image/x-pict"/>
  <Override PartName="/ppt/media/image9.pct" ContentType="image/x-pict"/>
  <Override PartName="/ppt/media/image47.pct" ContentType="image/x-pict"/>
  <Override PartName="/ppt/media/image10.pct" ContentType="image/x-pict"/>
  <Override PartName="/ppt/media/image107.pct" ContentType="image/x-pict"/>
  <Override PartName="/ppt/media/image35.pct" ContentType="image/x-pict"/>
  <Override PartName="/ppt/media/image60.pct" ContentType="image/x-pict"/>
  <Override PartName="/ppt/media/image157.pct" ContentType="image/x-pict"/>
  <Override PartName="/ppt/media/image5.pct" ContentType="image/x-pict"/>
  <Override PartName="/ppt/media/image85.pct" ContentType="image/x-pict"/>
  <Override PartName="/ppt/media/image17.pct" ContentType="image/x-pict"/>
  <Override PartName="/ppt/media/image34.pct" ContentType="image/x-pict"/>
  <Override PartName="/ppt/media/image156.pct" ContentType="image/x-pict"/>
  <Override PartName="/ppt/media/image4.pct" ContentType="image/x-pict"/>
  <Override PartName="/ppt/media/image84.pct" ContentType="image/x-pict"/>
  <Override PartName="/ppt/media/image16.pct" ContentType="image/x-pict"/>
  <Override PartName="/ppt/media/image13.pct" ContentType="image/x-pict"/>
  <Override PartName="/ppt/media/image81.pct" ContentType="image/x-pict"/>
  <Override PartName="/ppt/media/image33.pct" ContentType="image/x-pict"/>
  <Override PartName="/ppt/media/image155.pct" ContentType="image/x-pict"/>
  <Override PartName="/ppt/media/image3.pct" ContentType="image/x-pict"/>
  <Override PartName="/ppt/media/image83.pct" ContentType="image/x-pict"/>
  <Override PartName="/ppt/media/image15.pct" ContentType="image/x-pict"/>
  <Override PartName="/ppt/media/image12.pct" ContentType="image/x-pict"/>
  <Override PartName="/ppt/media/image80.pct" ContentType="image/x-pict"/>
  <Override PartName="/ppt/media/image94.pct" ContentType="image/x-pict"/>
  <Override PartName="/ppt/media/image26.pct" ContentType="image/x-pict"/>
  <Override PartName="/ppt/media/image154.pct" ContentType="image/x-pict"/>
  <Override PartName="/ppt/media/image2.pct" ContentType="image/x-pict"/>
  <Override PartName="/ppt/media/image82.pct" ContentType="image/x-pict"/>
  <Override PartName="/ppt/media/image14.pct" ContentType="image/x-pict"/>
  <Override PartName="/ppt/media/image93.pct" ContentType="image/x-pict"/>
  <Override PartName="/ppt/media/image25.pct" ContentType="image/x-pict"/>
  <Override PartName="/ppt/media/image92.pct" ContentType="image/x-pict"/>
  <Override PartName="/ppt/media/image24.pct" ContentType="image/x-pict"/>
  <Override PartName="/ppt/media/image57.pct" ContentType="image/x-pict"/>
  <Override PartName="/ppt/media/image20.pct" ContentType="image/x-pict"/>
  <Override PartName="/ppt/media/image117.pct" ContentType="image/x-pict"/>
  <Override PartName="/ppt/media/image58.pct" ContentType="image/x-pict"/>
  <Override PartName="/ppt/media/image21.pct" ContentType="image/x-pict"/>
  <Override PartName="/ppt/media/image118.pct" ContentType="image/x-pict"/>
  <Override PartName="/ppt/media/image59.pct" ContentType="image/x-pict"/>
  <Override PartName="/ppt/media/image110.pct" ContentType="image/x-pict"/>
  <Override PartName="/ppt/media/image90.pct" ContentType="image/x-pict"/>
  <Override PartName="/ppt/media/image22.pct" ContentType="image/x-pict"/>
  <Override PartName="/ppt/media/image119.pct" ContentType="image/x-pict"/>
  <Override PartName="/ppt/media/image91.pct" ContentType="image/x-pict"/>
  <Override PartName="/ppt/media/image23.pct" ContentType="image/x-pict"/>
  <Override PartName="/ppt/media/image63.pct" ContentType="image/x-pict"/>
  <Override PartName="/ppt/media/image64.pct" ContentType="image/x-pict"/>
  <Override PartName="/ppt/media/image65.pct" ContentType="image/x-pict"/>
  <Override PartName="/ppt/media/image66.pct" ContentType="image/x-pict"/>
  <Override PartName="/ppt/media/image67.pct" ContentType="image/x-pict"/>
  <Override PartName="/ppt/media/image68.pct" ContentType="image/x-pict"/>
  <Override PartName="/ppt/media/image69.pct" ContentType="image/x-pict"/>
  <Override PartName="/ppt/media/image120.pct" ContentType="image/x-pict"/>
  <Override PartName="/ppt/media/image70.pct" ContentType="image/x-pict"/>
  <Override PartName="/ppt/media/image71.pct" ContentType="image/x-pict"/>
  <Override PartName="/ppt/media/image72.pct" ContentType="image/x-pict"/>
  <Override PartName="/ppt/media/image73.pct" ContentType="image/x-pi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B86D-D5A2-44A7-A5DF-09A95EAA6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C490-4723-4CFE-805B-7519DB61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9EEE-7B85-4960-BFE5-27B3B8635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8DB0-C72E-45A3-B39E-5F2DE406C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173B-3755-45C0-87BE-212DA324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76F5-8B03-4B11-AB1E-45E3B379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5501-295B-4950-BDC0-DCF93D1E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53AC-2CD1-4FF9-A54F-E00A7EDE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5512-E2C0-48BF-B548-28D85E42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6829-9C0D-4BAA-A473-CF251B3C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A409-91F9-4A63-82E9-1C9609DA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36E5-E71B-45EA-8064-C862794B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3501-E957-450A-8CF2-B3C60412B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pct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pct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pct"/><Relationship Id="rId1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4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pct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ct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pct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ct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ct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pct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pct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ct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pct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pct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3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5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56.pct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59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60.pct"/><Relationship Id="rId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pct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pct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pct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69.pct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72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73.pct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4.pct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5.pct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6.pct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8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79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80.pct"/><Relationship Id="rId9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83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84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5.pct"/><Relationship Id="rId1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87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88.pct"/><Relationship Id="rId9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pct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ct"/><Relationship Id="rId7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91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4.pct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3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94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95.pct"/><Relationship Id="rId9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7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98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99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1.pct"/><Relationship Id="rId1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3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4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5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6.pct"/><Relationship Id="rId1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7.pct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8.pct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9.pct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0.pct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ct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1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112.pct"/><Relationship Id="rId5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5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6.pct"/><Relationship Id="rId9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7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118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119.pct"/><Relationship Id="rId7" Type="http://schemas.openxmlformats.org/officeDocument/2006/relationships/package" Target="../embeddings/oleObject4.docx"/><Relationship Id="rId8" Type="http://schemas.openxmlformats.org/officeDocument/2006/relationships/image" Target="../media/image120.pct"/><Relationship Id="rId9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3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4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5.pct"/><Relationship Id="rId1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7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8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9.pct"/><Relationship Id="rId9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1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2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3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4.pct"/><Relationship Id="rId1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6.pct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8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9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0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1.pct"/><Relationship Id="rId1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3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4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5.pct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ct"/><Relationship Id="rId9" Type="http://schemas.openxmlformats.org/officeDocument/2006/relationships/package" Target="../embeddings/oleObject5.docx"/><Relationship Id="rId10" Type="http://schemas.openxmlformats.org/officeDocument/2006/relationships/image" Target="../media/image12.pct"/><Relationship Id="rId1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7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8.pct"/><Relationship Id="rId7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0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1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2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3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4.pct"/><Relationship Id="rId1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6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7.pct"/><Relationship Id="rId7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8.pct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0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1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2.pct"/><Relationship Id="rId9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3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ct"/><Relationship Id="rId7" Type="http://schemas.openxmlformats.org/officeDocument/2006/relationships/package" Target="../embeddings/oleObject4.docx"/><Relationship Id="rId8" Type="http://schemas.openxmlformats.org/officeDocument/2006/relationships/image" Target="../media/image12.pct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17.pct"/><Relationship Id="rId7" Type="http://schemas.openxmlformats.org/officeDocument/2006/relationships/package" Target="../embeddings/oleObject4.docx"/><Relationship Id="rId8" Type="http://schemas.openxmlformats.org/officeDocument/2006/relationships/image" Target="../media/image4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pct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ct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resentation Slides</a:t>
            </a:r>
            <a:r>
              <a:rPr b="1" lang="en-US" sz="4400" spc="-1" strike="noStrike">
                <a:solidFill>
                  <a:srgbClr val="187534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2800" spc="-1" strike="noStrike">
                <a:solidFill>
                  <a:srgbClr val="187534"/>
                </a:solidFill>
                <a:latin typeface="Times New Roman"/>
              </a:rPr>
              <a:t>for</a:t>
            </a:r>
            <a:r>
              <a:rPr b="1" lang="en-US" sz="4400" spc="-1" strike="noStrike">
                <a:solidFill>
                  <a:srgbClr val="187534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hapter 12</a:t>
            </a:r>
            <a:br>
              <a:rPr sz="4000"/>
            </a:br>
            <a:r>
              <a:rPr b="1" lang="en-US" sz="2800" spc="-1" strike="noStrike">
                <a:solidFill>
                  <a:srgbClr val="187534"/>
                </a:solidFill>
                <a:latin typeface="Times New Roman"/>
              </a:rPr>
              <a:t>of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undamentals of Atmospheric Modeling 2</a:t>
            </a:r>
            <a:r>
              <a:rPr b="1" lang="en-US" sz="4000" spc="-1" strike="noStrike" baseline="30000">
                <a:solidFill>
                  <a:srgbClr val="0000ff"/>
                </a:solidFill>
                <a:latin typeface="Times New Roman"/>
              </a:rPr>
              <a:t>nd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Edition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440" y="3962520"/>
            <a:ext cx="743652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ark Z. Jacob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partment of Civil &amp; Environmental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anford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anford, CA 94305-4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jacobson@stanford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7534"/>
                </a:solidFill>
                <a:latin typeface="Times New Roman"/>
              </a:rPr>
              <a:t>March 29, 2005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Forward Euler Solution to 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236232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write in terms of production and los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20-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5029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marL="119880" indent="-11988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Mass conserving, easy to calculate deriv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Dis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Unconditionally un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66680" y="2895480"/>
          <a:ext cx="6729480" cy="6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95480"/>
                    <a:ext cx="672948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2286000" y="3657600"/>
          <a:ext cx="437976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3657600"/>
                    <a:ext cx="43797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447920" y="4419720"/>
          <a:ext cx="644364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4419720"/>
                    <a:ext cx="6443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0" y="1447920"/>
          <a:ext cx="8985240" cy="53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1447920"/>
                    <a:ext cx="89852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304920" y="91440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rward Euler equ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Mass Conservation of Forward Eu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quirement for mass conservation of nitroge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3200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rward Euler concentrations of nitrogen specie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24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057400" y="2057400"/>
          <a:ext cx="501480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0148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1828800" y="4952880"/>
          <a:ext cx="523728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4952880"/>
                    <a:ext cx="52372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600200" y="4114800"/>
          <a:ext cx="561816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4114800"/>
                    <a:ext cx="56181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Mass Conservation of Forward Eu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914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quirement for mass conservation of oxyge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2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80880" y="1371600"/>
          <a:ext cx="447516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44751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352680" y="1981080"/>
          <a:ext cx="507852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1981080"/>
                    <a:ext cx="50785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457200" y="2743200"/>
            <a:ext cx="8305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rward Euler concentration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24-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676520" y="5486400"/>
          <a:ext cx="523692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5486400"/>
                    <a:ext cx="52369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676520" y="3962520"/>
          <a:ext cx="511020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962520"/>
                    <a:ext cx="51102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1676520" y="4724280"/>
          <a:ext cx="5618160" cy="503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4724280"/>
                    <a:ext cx="56181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676520" y="3200400"/>
          <a:ext cx="5141880" cy="503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3200400"/>
                    <a:ext cx="51418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Backward Euler Solution to 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nearized backward Euler solution for one speci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2209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mple set of three equation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15-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209680" y="2666880"/>
          <a:ext cx="3998880" cy="63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666880"/>
                    <a:ext cx="39988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286000" y="3505320"/>
          <a:ext cx="3908520" cy="601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3505320"/>
                    <a:ext cx="39085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209680" y="4267080"/>
          <a:ext cx="4251600" cy="6318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4267080"/>
                    <a:ext cx="425160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6484320" y="2895480"/>
            <a:ext cx="609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84320" y="3733920"/>
            <a:ext cx="609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53800" y="4495680"/>
            <a:ext cx="5209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518148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rst derivative of N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52280" y="5715000"/>
          <a:ext cx="8728200" cy="92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5715000"/>
                    <a:ext cx="872820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743200" y="1371600"/>
          <a:ext cx="3554280" cy="793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1371600"/>
                    <a:ext cx="355428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Backward Euler Solution to 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rst derivative of N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52280" y="1752480"/>
          <a:ext cx="8728200" cy="9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52480"/>
                    <a:ext cx="872820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52280" y="4038480"/>
          <a:ext cx="886644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038480"/>
                    <a:ext cx="88664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380880" y="3276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nearized backward Euler equ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Backward Euler Solution to 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220968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write in terms of production and los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3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91440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nearized backward Euler equ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0" y="1447920"/>
          <a:ext cx="886608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88660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685800" y="2743200"/>
          <a:ext cx="7775640" cy="63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743200"/>
                    <a:ext cx="777564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04920" y="3505320"/>
            <a:ext cx="8305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duction ter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3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434340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oss ter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533412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mplicit loss coefficie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133720" y="3886200"/>
          <a:ext cx="437976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3886200"/>
                    <a:ext cx="43797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1447920" y="4800600"/>
          <a:ext cx="593568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4800600"/>
                    <a:ext cx="59356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1523880" y="5715000"/>
          <a:ext cx="5999400" cy="984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3880" y="5715000"/>
                    <a:ext cx="599940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Backward Euler Solution to 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19810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rrang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37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464832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Always gives positive solutions to chemical 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Requires a small time step for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Not mass conser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143000" y="2590920"/>
          <a:ext cx="7015320" cy="60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590920"/>
                    <a:ext cx="701532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1981080" y="3429000"/>
          <a:ext cx="4729320" cy="104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429000"/>
                    <a:ext cx="472932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609480" y="1066680"/>
          <a:ext cx="7775640" cy="63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1066680"/>
                    <a:ext cx="777564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Backward Euler Solution to 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3657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mple of mass non-conservation of nitrogen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39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905120" y="5334120"/>
          <a:ext cx="488772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5334120"/>
                    <a:ext cx="48877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523880" y="4495680"/>
          <a:ext cx="561816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4495680"/>
                    <a:ext cx="56181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quirement for mass conservation of nitroge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981080" y="1981080"/>
          <a:ext cx="501516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1981080"/>
                    <a:ext cx="50151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imple Exponential Solution to 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19320" y="1219320"/>
            <a:ext cx="6553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btained by integrating a linearized first derivative.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2362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3000"/>
          </a:bodyPr>
          <a:p>
            <a:pPr marL="78840" indent="-7884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Always gives positive solutions to chemical 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asy to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Requires a small time step for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Not mass conserving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imple Exponential Solution to 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nearized first derivative from backward Euler example 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2819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write in terms of production and los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4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4495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egra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4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87200" y="1746360"/>
          <a:ext cx="8728200" cy="92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200" y="1746360"/>
                    <a:ext cx="872820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1805040" y="3301920"/>
          <a:ext cx="5967360" cy="8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05040" y="3301920"/>
                    <a:ext cx="596736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380880" y="5029200"/>
          <a:ext cx="8501040" cy="903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5029200"/>
                    <a:ext cx="850104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Initial Value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3352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ector of concentrations at tim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905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centration of species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is known at tim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514600" y="4038480"/>
          <a:ext cx="4284720" cy="5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4038480"/>
                    <a:ext cx="428472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3568680" y="2590920"/>
          <a:ext cx="1841400" cy="41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8680" y="2590920"/>
                    <a:ext cx="184140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685800" y="9144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Values are known at an initial time and desired at a fina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imple Exponential Solution to 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eneric solu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90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en the implicit loss coefficient is zero (no loss term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3657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en the production term is zer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4876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en the implicit loss coefficient is large (short-lived species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066680" y="1517760"/>
          <a:ext cx="6856560" cy="92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17760"/>
                    <a:ext cx="685656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2743200" y="3048120"/>
          <a:ext cx="3205080" cy="41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3048120"/>
                    <a:ext cx="32050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2706840" y="4114800"/>
          <a:ext cx="3236760" cy="53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6840" y="4114800"/>
                    <a:ext cx="323676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1981080" y="5486400"/>
          <a:ext cx="2095560" cy="92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5486400"/>
                    <a:ext cx="209556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4263480" y="5715000"/>
            <a:ext cx="2863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(steady state solu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Quasi-Steady State Approx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SS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4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Use forward Euler for long-lived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Use simple exponential for medium-lived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Use steady-state solution for short-lived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0" y="3276720"/>
          <a:ext cx="8985240" cy="22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76720"/>
                    <a:ext cx="8985240" cy="22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Multistep Implicit-Explicit (MIE)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1905120"/>
            <a:ext cx="7620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6000"/>
          </a:bodyPr>
          <a:p>
            <a:pPr marL="54720" indent="-54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emi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720" indent="-54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The forward Euler and linearized backward Euler solutions converge to each other upon iter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720" indent="-54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720" indent="-54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ince the converged backward Euler is always positive, so is the converged forward Eul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720" indent="-54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720" indent="-54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ince the converged forward Euler always conserves mass, so does the converged backward E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720" indent="-54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720" indent="-54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&gt; The MIE solution, which requires iteration, conserves mass and is positive defin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720" indent="-547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Multistep Implicit-Explicit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) Set initial estimates to initial concentration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4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2819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) Set initial maximum estimates to initial valu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aximum estimates are used to bound the backward Euler during the initial iteration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4648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) Estimate reaction rates from backward-Euler valu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5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These equation apply for any iteration number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276720" y="1905120"/>
          <a:ext cx="2063520" cy="41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905120"/>
                    <a:ext cx="206352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3124080" y="3886200"/>
          <a:ext cx="2538360" cy="41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3886200"/>
                    <a:ext cx="25383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2743200" y="5486400"/>
          <a:ext cx="3713040" cy="44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5486400"/>
                    <a:ext cx="37130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048120" y="6095880"/>
          <a:ext cx="2792160" cy="41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8120" y="6095880"/>
                    <a:ext cx="27921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Multistep Implicit-Explicit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) Sum production, loss, implicit loss term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5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28954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5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4724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5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590920" y="1600200"/>
          <a:ext cx="3967200" cy="11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600200"/>
                    <a:ext cx="396720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2590920" y="3429000"/>
          <a:ext cx="393516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3429000"/>
                    <a:ext cx="39351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3048120" y="5181480"/>
          <a:ext cx="2697120" cy="92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5181480"/>
                    <a:ext cx="269712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Multistep Implicit-Explicit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mple reaction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2209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4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3429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stimate reaction rates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5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590920" y="1447920"/>
          <a:ext cx="3679560" cy="63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447920"/>
                    <a:ext cx="36795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2666880" y="2514600"/>
          <a:ext cx="3838680" cy="631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2514600"/>
                    <a:ext cx="38386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2590920" y="4114800"/>
          <a:ext cx="4062240" cy="57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4114800"/>
                    <a:ext cx="40622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3276720" y="5029200"/>
          <a:ext cx="2824200" cy="57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76720" y="5029200"/>
                    <a:ext cx="28242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>
            <a:off x="6521400" y="1752480"/>
            <a:ext cx="405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14560" y="2743200"/>
            <a:ext cx="316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Multistep Implicit-Explicit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mmed production term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" y="3429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mmed loss term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5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011400" y="1600200"/>
          <a:ext cx="285588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11400" y="1600200"/>
                    <a:ext cx="2855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2362320" y="2624040"/>
          <a:ext cx="453852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2624040"/>
                    <a:ext cx="45385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2401920" y="3962520"/>
          <a:ext cx="4379760" cy="57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01920" y="3962520"/>
                    <a:ext cx="437976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608120" y="5062680"/>
          <a:ext cx="5935680" cy="57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8120" y="5062680"/>
                    <a:ext cx="593568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Multistep Implicit-Explicit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1676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mmed implicit loss coefficient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5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743200" y="2362320"/>
          <a:ext cx="3268800" cy="57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362320"/>
                    <a:ext cx="32688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2590920" y="3429000"/>
          <a:ext cx="380844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3429000"/>
                    <a:ext cx="38084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Multistep Implicit-Explicit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) Estimate concentrations with backward Eul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5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3733920"/>
            <a:ext cx="845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) Estimate concentrations with forward Eul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2362320" y="1981080"/>
          <a:ext cx="4062240" cy="9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981080"/>
                    <a:ext cx="406224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1752480" y="4495680"/>
          <a:ext cx="561816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495680"/>
                    <a:ext cx="561816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Multistep Implicit-Explicit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) Check convergenc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819520" y="1752480"/>
          <a:ext cx="3757320" cy="11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752480"/>
                    <a:ext cx="37573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609480" y="3048120"/>
            <a:ext cx="8229600" cy="36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ethod 1: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Each iteration, check whether all concentrations from forward Euler ≥ zero. If so, update a counter, </a:t>
            </a:r>
            <a:r>
              <a:rPr b="0" i="1" lang="en-US" sz="2400" spc="-1" strike="noStrike">
                <a:solidFill>
                  <a:srgbClr val="993366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993366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by 1. If one concentration &lt; 0, reset </a:t>
            </a:r>
            <a:r>
              <a:rPr b="0" i="1" lang="en-US" sz="2400" spc="-1" strike="noStrike">
                <a:solidFill>
                  <a:srgbClr val="993366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993366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to 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When </a:t>
            </a:r>
            <a:r>
              <a:rPr b="0" i="1" lang="en-US" sz="2400" spc="-1" strike="noStrike">
                <a:solidFill>
                  <a:srgbClr val="993366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993366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993366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993366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(all concentrations from forward Euler exceed 0 for </a:t>
            </a:r>
            <a:r>
              <a:rPr b="0" i="1" lang="en-US" sz="2400" spc="-1" strike="noStrike">
                <a:solidFill>
                  <a:srgbClr val="993366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993366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iterations in a row), convergence has occur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5 for large sets of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30 for small sets of equations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roperties of Good ODE Sol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371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02600" indent="-10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Mass con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Positive-definit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809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rmalized gross erro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219320" y="4495680"/>
          <a:ext cx="701172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495680"/>
                    <a:ext cx="701172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Multistep Implicit-Explicit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) Check convergenc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6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09480" y="5867280"/>
            <a:ext cx="2057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304920" y="1600200"/>
          <a:ext cx="850572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50572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"/>
          <p:cNvSpPr/>
          <p:nvPr/>
        </p:nvSpPr>
        <p:spPr>
          <a:xfrm>
            <a:off x="609480" y="3352680"/>
            <a:ext cx="822960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ethod 2: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Each iteration, check whether all concentrations of medium- and long-lived species (those for which </a:t>
            </a:r>
            <a:r>
              <a:rPr b="0" i="1" lang="en-US" sz="2400" spc="-1" strike="noStrike">
                <a:solidFill>
                  <a:srgbClr val="993366"/>
                </a:solidFill>
                <a:latin typeface="Times New Roman"/>
              </a:rPr>
              <a:t>hL</a:t>
            </a:r>
            <a:r>
              <a:rPr b="0" i="1" lang="en-US" sz="2400" spc="-1" strike="noStrike" baseline="-25000">
                <a:solidFill>
                  <a:srgbClr val="993366"/>
                </a:solidFill>
                <a:latin typeface="Times New Roman"/>
              </a:rPr>
              <a:t>c,I,B,m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&lt;</a:t>
            </a:r>
            <a:r>
              <a:rPr b="0" i="1" lang="en-US" sz="2400" spc="-1" strike="noStrike">
                <a:solidFill>
                  <a:srgbClr val="993366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9933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) from forward Euler ≥ zero. If so, update the counter </a:t>
            </a:r>
            <a:r>
              <a:rPr b="0" i="1" lang="en-US" sz="2400" spc="-1" strike="noStrike">
                <a:solidFill>
                  <a:srgbClr val="993366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993366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by 1. If one such concentration &lt; 0, reset </a:t>
            </a:r>
            <a:r>
              <a:rPr b="0" i="1" lang="en-US" sz="2400" spc="-1" strike="noStrike">
                <a:solidFill>
                  <a:srgbClr val="993366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993366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to 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When </a:t>
            </a:r>
            <a:r>
              <a:rPr b="0" i="1" lang="en-US" sz="2400" spc="-1" strike="noStrike">
                <a:solidFill>
                  <a:srgbClr val="993366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993366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993366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993366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, convergence has occur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Multistep Implicit-Explicit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) Upon convergence, set final concentrations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6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" y="3429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a) Recalculate maximum for next iteration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6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" y="4648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b) Bound backward Euler for next iteratio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6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Note that this equation uses the MAX concentration from the previous iteration, not from the value just calcul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52280" y="1758960"/>
          <a:ext cx="8855280" cy="13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58960"/>
                    <a:ext cx="885528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2133720" y="3886200"/>
          <a:ext cx="507816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886200"/>
                    <a:ext cx="507816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1981080" y="5867280"/>
          <a:ext cx="5141880" cy="57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5867280"/>
                    <a:ext cx="51418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Multistep Implicit-Explicit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" y="1828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verged backward Euler equation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6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Demonstration that iterated forward Euler solutions converge to iterated backward Euler solutions and to positive numbers.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31240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verged forward Euler equation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6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51814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us, convergence of forward to backward Euler occurs whe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42670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143000" y="2438280"/>
          <a:ext cx="6824520" cy="5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438280"/>
                    <a:ext cx="682452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1143000" y="3657600"/>
          <a:ext cx="6539040" cy="53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657600"/>
                    <a:ext cx="653904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2971800" y="4724280"/>
          <a:ext cx="3459240" cy="41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4724280"/>
                    <a:ext cx="34592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3276720" y="5715000"/>
          <a:ext cx="2538360" cy="41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76720" y="5715000"/>
                    <a:ext cx="25383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533520" y="609588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ich occurs upon iteration of backward Eule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6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nvergence of Forward Euler (FE) to Backward Euler (BE) Upon It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4689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133720" y="1523880"/>
            <a:ext cx="4952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10 sec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533520" y="2141640"/>
          <a:ext cx="7848360" cy="433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41640"/>
                    <a:ext cx="7848360" cy="43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380880" y="2133720"/>
            <a:ext cx="838440" cy="38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rot="16200000">
            <a:off x="-755640" y="3751200"/>
            <a:ext cx="3309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O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and O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(molec. cm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696080" y="2209680"/>
            <a:ext cx="83844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rot="5400000">
            <a:off x="7064640" y="3686760"/>
            <a:ext cx="2101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 (molec. cm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mparison of MIE With Exact 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4689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IE solution (circles); exact solution (lines);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10 sec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838080" y="2133720"/>
          <a:ext cx="6782040" cy="43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678204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>
            <a:off x="380880" y="1828800"/>
            <a:ext cx="838440" cy="38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16200000">
            <a:off x="-850320" y="3668040"/>
            <a:ext cx="3611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ncentration (molec. cm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ffects of Time Step on MIE 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4689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2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Time step sizes of 2, 10, 100, 500, and 1000 seconds are compared. Results in all cases are shown after 10,000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457200" y="2333520"/>
          <a:ext cx="7772400" cy="43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33520"/>
                    <a:ext cx="7772400" cy="43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304920" y="1981080"/>
            <a:ext cx="83808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-754920" y="3996720"/>
            <a:ext cx="3268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. of iteration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467480" y="2209680"/>
            <a:ext cx="83844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5400000">
            <a:off x="6231960" y="4005720"/>
            <a:ext cx="3309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verage error per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Gear’s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" y="762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scretize ODE time derivative over many past step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6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7200" y="2438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rrange for an individual species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" y="51814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t up predictor equation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7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57200" y="3809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 for a set of speci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304920" y="1143000"/>
          <a:ext cx="883908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83908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2421000" y="4191120"/>
          <a:ext cx="46656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21000" y="4191120"/>
                    <a:ext cx="46656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782640" y="5638680"/>
          <a:ext cx="752328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2640" y="5638680"/>
                    <a:ext cx="75232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2133720" y="2819520"/>
          <a:ext cx="514656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33720" y="2819520"/>
                    <a:ext cx="51465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Gear’s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57200" y="914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implify t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7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57200" y="1905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57200" y="40384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edictor matrix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7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" y="2971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7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3429000" y="1066680"/>
          <a:ext cx="209556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066680"/>
                    <a:ext cx="20955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2971800" y="1981080"/>
          <a:ext cx="314172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1981080"/>
                    <a:ext cx="31417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"/>
          <p:cNvGraphicFramePr/>
          <p:nvPr/>
        </p:nvGraphicFramePr>
        <p:xfrm>
          <a:off x="1523880" y="2743200"/>
          <a:ext cx="571356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2743200"/>
                    <a:ext cx="57135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"/>
          <p:cNvGraphicFramePr/>
          <p:nvPr/>
        </p:nvGraphicFramePr>
        <p:xfrm>
          <a:off x="3505320" y="4191120"/>
          <a:ext cx="1904760" cy="41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4191120"/>
                    <a:ext cx="19047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"/>
          <p:cNvSpPr/>
          <p:nvPr/>
        </p:nvSpPr>
        <p:spPr>
          <a:xfrm>
            <a:off x="457200" y="4800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Jacobian matrix of partial derivativ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7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3048120" y="5257800"/>
          <a:ext cx="2919240" cy="1333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8120" y="5257800"/>
                    <a:ext cx="291924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Gear’s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648320"/>
            <a:ext cx="1904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terate unt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3520" y="13716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9000"/>
          </a:bodyPr>
          <a:p>
            <a:pPr marL="99360" indent="-9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114800" y="2133720"/>
          <a:ext cx="8888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2133720"/>
                    <a:ext cx="8888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2895480" y="3429000"/>
          <a:ext cx="314172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3429000"/>
                    <a:ext cx="31417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3505320" y="1371600"/>
          <a:ext cx="209556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1371600"/>
                    <a:ext cx="20955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9" name=""/>
          <p:cNvSpPr/>
          <p:nvPr/>
        </p:nvSpPr>
        <p:spPr>
          <a:xfrm>
            <a:off x="534600" y="2819520"/>
            <a:ext cx="74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n update concentration wit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7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34600" y="20574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3733920" y="4648320"/>
          <a:ext cx="1461960" cy="51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33920" y="4648320"/>
                    <a:ext cx="14619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Error T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ocal error tes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7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" y="3657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lobal error tes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7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905120" y="1676520"/>
          <a:ext cx="5459400" cy="126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676520"/>
                    <a:ext cx="5459400" cy="12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2133720" y="4419720"/>
          <a:ext cx="5173560" cy="139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4419720"/>
                    <a:ext cx="517356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Analytical Solution to 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itrogen dioxide photolysi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2438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ime rate of change of N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concentr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3886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alytical solu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5105520"/>
            <a:ext cx="4876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[NO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]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-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  = 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molec.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             = 0.02 s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  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[NO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]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    = 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e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0.02</a:t>
            </a:r>
            <a:r>
              <a:rPr b="0" i="1" lang="en-US" sz="2400" spc="-1" strike="noStrike" baseline="30000">
                <a:solidFill>
                  <a:srgbClr val="187534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362320" y="1676520"/>
          <a:ext cx="4251240" cy="63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676520"/>
                    <a:ext cx="425124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3048120" y="3048120"/>
          <a:ext cx="2728800" cy="82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048120"/>
                    <a:ext cx="27288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895480" y="4267080"/>
          <a:ext cx="3332160" cy="57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4267080"/>
                    <a:ext cx="333216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xample Reactions and 1</a:t>
            </a:r>
            <a:r>
              <a:rPr b="1" lang="en-US" sz="4000" spc="-1" strike="noStrike" baseline="30000">
                <a:solidFill>
                  <a:srgbClr val="0000ff"/>
                </a:solidFill>
                <a:latin typeface="Times New Roman"/>
              </a:rPr>
              <a:t>st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Deriv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mple reaction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7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" y="2819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57200" y="4495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8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2514600" y="1905120"/>
          <a:ext cx="3998880" cy="63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905120"/>
                    <a:ext cx="39988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2362320" y="3505320"/>
          <a:ext cx="4060800" cy="601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3505320"/>
                    <a:ext cx="406080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2362320" y="5029200"/>
          <a:ext cx="4251240" cy="6318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5029200"/>
                    <a:ext cx="425124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xample Reactions and 1</a:t>
            </a:r>
            <a:r>
              <a:rPr b="1" lang="en-US" sz="4000" spc="-1" strike="noStrike" baseline="30000">
                <a:solidFill>
                  <a:srgbClr val="0000ff"/>
                </a:solidFill>
                <a:latin typeface="Times New Roman"/>
              </a:rPr>
              <a:t>st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Deriv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rst derivatives of  NO, N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O, and 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8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2438280" y="1828800"/>
          <a:ext cx="4157640" cy="79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828800"/>
                    <a:ext cx="415764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2438280" y="2819520"/>
          <a:ext cx="4348440" cy="82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2819520"/>
                    <a:ext cx="434844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2514600" y="3809880"/>
          <a:ext cx="4221000" cy="79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3809880"/>
                    <a:ext cx="422100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"/>
          <p:cNvGraphicFramePr/>
          <p:nvPr/>
        </p:nvGraphicFramePr>
        <p:xfrm>
          <a:off x="2286000" y="4800600"/>
          <a:ext cx="4919760" cy="857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4800600"/>
                    <a:ext cx="49197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artial Deriv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tial derivatives of N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8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" y="3809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tial derivatives of N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947880" y="1682640"/>
          <a:ext cx="263340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7880" y="1682640"/>
                    <a:ext cx="263340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"/>
          <p:cNvGraphicFramePr/>
          <p:nvPr/>
        </p:nvGraphicFramePr>
        <p:xfrm>
          <a:off x="5530680" y="1650960"/>
          <a:ext cx="1936800" cy="101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30680" y="1650960"/>
                    <a:ext cx="19368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3081240" y="2717640"/>
          <a:ext cx="2633760" cy="101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81240" y="2717640"/>
                    <a:ext cx="2633760" cy="10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"/>
          <p:cNvGraphicFramePr/>
          <p:nvPr/>
        </p:nvGraphicFramePr>
        <p:xfrm>
          <a:off x="990720" y="4267080"/>
          <a:ext cx="2538360" cy="98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4267080"/>
                    <a:ext cx="253836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5562720" y="4343400"/>
          <a:ext cx="2127240" cy="1015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62720" y="4343400"/>
                    <a:ext cx="212724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"/>
          <p:cNvGraphicFramePr/>
          <p:nvPr/>
        </p:nvGraphicFramePr>
        <p:xfrm>
          <a:off x="3124080" y="5460840"/>
          <a:ext cx="2602080" cy="1016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24080" y="5460840"/>
                    <a:ext cx="2602080" cy="10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artial Deriv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tial derivatives of 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8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57200" y="28954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tial derivatives of 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8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1066680" y="1676520"/>
          <a:ext cx="193680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76520"/>
                    <a:ext cx="19368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5638680" y="1676520"/>
          <a:ext cx="2919600" cy="98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1676520"/>
                    <a:ext cx="291960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838080" y="3733920"/>
          <a:ext cx="2633760" cy="1015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733920"/>
                    <a:ext cx="263376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"/>
          <p:cNvGraphicFramePr/>
          <p:nvPr/>
        </p:nvGraphicFramePr>
        <p:xfrm>
          <a:off x="5638680" y="3708360"/>
          <a:ext cx="2855880" cy="1015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38680" y="3708360"/>
                    <a:ext cx="285588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3124080" y="5181480"/>
          <a:ext cx="2633760" cy="104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24080" y="5181480"/>
                    <a:ext cx="2633760" cy="10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redictor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162920" y="5943600"/>
            <a:ext cx="1295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8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914400" y="2133720"/>
          <a:ext cx="7970760" cy="32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33720"/>
                    <a:ext cx="7970760" cy="32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"/>
          <p:cNvSpPr/>
          <p:nvPr/>
        </p:nvSpPr>
        <p:spPr>
          <a:xfrm>
            <a:off x="1676520" y="1523880"/>
            <a:ext cx="6705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062080"/>
                <a:tab algn="l" pos="4113360"/>
                <a:tab algn="l" pos="588312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52280" y="2209680"/>
            <a:ext cx="838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6000"/>
          </a:bodyPr>
          <a:p>
            <a:pPr marL="54720" indent="-5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062080"/>
                <a:tab algn="l" pos="4113360"/>
                <a:tab algn="l" pos="588312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720" indent="-5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062080"/>
                <a:tab algn="l" pos="4113360"/>
                <a:tab algn="l" pos="588312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720" indent="-5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062080"/>
                <a:tab algn="l" pos="4113360"/>
                <a:tab algn="l" pos="588312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720" indent="-5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062080"/>
                <a:tab algn="l" pos="4113360"/>
                <a:tab algn="l" pos="588312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720" indent="-5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062080"/>
                <a:tab algn="l" pos="4113360"/>
                <a:tab algn="l" pos="588312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720" indent="-5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062080"/>
                <a:tab algn="l" pos="4113360"/>
                <a:tab algn="l" pos="588312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720" indent="-5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062080"/>
                <a:tab algn="l" pos="4113360"/>
                <a:tab algn="l" pos="588312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ubstitute Partial Derivatives Into Predictor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696080" y="6019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8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752480" y="228600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062080"/>
                <a:tab algn="l" pos="4113360"/>
                <a:tab algn="l" pos="588312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52280" y="2819520"/>
            <a:ext cx="838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062080"/>
                <a:tab algn="l" pos="4113360"/>
                <a:tab algn="l" pos="588312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062080"/>
                <a:tab algn="l" pos="4113360"/>
                <a:tab algn="l" pos="588312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062080"/>
                <a:tab algn="l" pos="4113360"/>
                <a:tab algn="l" pos="588312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062080"/>
                <a:tab algn="l" pos="4113360"/>
                <a:tab algn="l" pos="588312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838080" y="2819520"/>
          <a:ext cx="8172720" cy="17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819520"/>
                    <a:ext cx="8172720" cy="17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atrix Eq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620120" y="60958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8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3505320" y="1828800"/>
          <a:ext cx="213840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828800"/>
                    <a:ext cx="21384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222120" y="3048120"/>
          <a:ext cx="8921880" cy="142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2120" y="3048120"/>
                    <a:ext cx="8921880" cy="14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Reordered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620120" y="60958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9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0" y="2971800"/>
          <a:ext cx="8921880" cy="14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71800"/>
                    <a:ext cx="892188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"/>
          <p:cNvSpPr/>
          <p:nvPr/>
        </p:nvSpPr>
        <p:spPr>
          <a:xfrm>
            <a:off x="685800" y="1066680"/>
            <a:ext cx="7696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lace species with most partial derivatives at the bottom and fewest partial derivatives at the top of the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ffect of Sparse-Matrix Reductions on Matrix Fill in and Number of Multipl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57200" y="1371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1427 Gases, 3911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467840" y="6095880"/>
            <a:ext cx="1485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Table 1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18960" y="2057400"/>
            <a:ext cx="791208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Withou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With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Per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Quantity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Reductions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Reductions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 of matri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427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427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itial fill-i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,036,329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4,276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9.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nal fill-i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,036,329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7,13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9.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comp. 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67,595,90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7,596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9.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comp. 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,017,45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,294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9.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cksub. 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,017,45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,294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9.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cksub. 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,017,45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,409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9.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Vectorization of Inner Nested 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2000"/>
          </a:bodyPr>
          <a:p>
            <a:pPr marL="41040" indent="-41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65160"/>
                <a:tab algn="l" pos="1371600"/>
                <a:tab algn="l" pos="3657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ectorized inner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65160"/>
                <a:tab algn="l" pos="1371600"/>
                <a:tab algn="l" pos="3657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Nested Loop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 algn="just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965160"/>
                <a:tab algn="l" pos="1371600"/>
                <a:tab algn="l" pos="3657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DO 105 NK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= 1, NBIMOL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 algn="just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965160"/>
                <a:tab algn="l" pos="1371600"/>
                <a:tab algn="l" pos="3657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JSP1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= JPROD1(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 algn="just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965160"/>
                <a:tab algn="l" pos="1371600"/>
                <a:tab algn="l" pos="3657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JSP2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= JPROD2(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 algn="just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965160"/>
                <a:tab algn="l" pos="1371600"/>
                <a:tab algn="l" pos="3657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DO 100 K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= 1, KT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 algn="just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965160"/>
                <a:tab algn="l" pos="1371600"/>
                <a:tab algn="l" pos="3657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TRATE(K,NK)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= RRATE(K,NK) * CONC(K,JSP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 algn="just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965160"/>
                <a:tab algn="l" pos="1371600"/>
                <a:tab algn="l" pos="3657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* CONC(K,JSP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 algn="just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965160"/>
                <a:tab algn="l" pos="1371600"/>
                <a:tab algn="l" pos="3657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100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CONTIN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65160"/>
                <a:tab algn="l" pos="1371600"/>
                <a:tab algn="l" pos="3657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105 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aylor Series Solution to 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352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aylor series expansion for N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plicit Taylor series expansion for one speci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33520" y="1752480"/>
          <a:ext cx="793404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793404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241200" y="4191120"/>
          <a:ext cx="8902800" cy="93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200" y="4191120"/>
                    <a:ext cx="890280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Vectorization of Inner Nested 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5000"/>
          </a:bodyPr>
          <a:p>
            <a:pPr marL="51120" indent="-511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3657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n-vectorized inner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3657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Nested Loop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 algn="just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3657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DO 105 K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= 1, KT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 algn="just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3657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DO 100 NK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= 1, NBIMOL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 algn="just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3657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JSP1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= JPROD1(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 algn="just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3657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JSP2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=JPROD2(NK)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TRATE(K,NK)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= RRATE(K,NK) * CONC(K,JSP1)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* CONC(K,JSP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 algn="just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3657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100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CONTIN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3657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105 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tiffness Predi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9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2743200" y="914400"/>
          <a:ext cx="3629160" cy="11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914400"/>
                    <a:ext cx="3629160" cy="11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3" name=""/>
          <p:cNvGrpSpPr/>
          <p:nvPr/>
        </p:nvGrpSpPr>
        <p:grpSpPr>
          <a:xfrm>
            <a:off x="399960" y="2209680"/>
            <a:ext cx="8361360" cy="4648320"/>
            <a:chOff x="399960" y="2209680"/>
            <a:chExt cx="8361360" cy="4648320"/>
          </a:xfrm>
        </p:grpSpPr>
        <p:sp>
          <p:nvSpPr>
            <p:cNvPr id="504" name=""/>
            <p:cNvSpPr/>
            <p:nvPr/>
          </p:nvSpPr>
          <p:spPr>
            <a:xfrm>
              <a:off x="399960" y="2209680"/>
              <a:ext cx="83059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0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68040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87534"/>
                  </a:solidFill>
                  <a:latin typeface="Times New Roman"/>
                </a:rPr>
                <a:t>Number of backsubstitution calls as a function of the stiffness predictor. The more calls, the greater the stiffness of equ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488000" y="6095880"/>
              <a:ext cx="12733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3366"/>
                  </a:solidFill>
                  <a:latin typeface="Times New Roman"/>
                </a:rPr>
                <a:t>Fig. 12.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06" name=""/>
            <p:cNvGraphicFramePr/>
            <p:nvPr/>
          </p:nvGraphicFramePr>
          <p:xfrm>
            <a:off x="1695600" y="3112920"/>
            <a:ext cx="5410080" cy="37450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5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95600" y="3112920"/>
                      <a:ext cx="5410080" cy="374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8" name=""/>
            <p:cNvSpPr/>
            <p:nvPr/>
          </p:nvSpPr>
          <p:spPr>
            <a:xfrm>
              <a:off x="1238400" y="3200400"/>
              <a:ext cx="838080" cy="342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16200000">
              <a:off x="-24840" y="4612680"/>
              <a:ext cx="36752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No. of backsubstitution cal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Family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57200" y="914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Organize short- and long-lived species into families, which are long-lived, solve for family concentration, then partition family concentrations into individual species concent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57200" y="54100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dd chlorine famil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" y="3200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dd hydrogen famil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9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57200" y="42670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dd nitrogen famil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57200" y="2209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dd oxygen famil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9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2209680" y="2590920"/>
          <a:ext cx="479268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90920"/>
                    <a:ext cx="47926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2362320" y="3809880"/>
          <a:ext cx="437976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3809880"/>
                    <a:ext cx="43797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2438280" y="4876920"/>
          <a:ext cx="418968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4876920"/>
                    <a:ext cx="41896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2668680" y="6019920"/>
          <a:ext cx="3808440" cy="38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8680" y="6019920"/>
                    <a:ext cx="38084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Family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5720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mple of species cycling within odd oxygen famil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2438280" y="1905120"/>
          <a:ext cx="4129200" cy="63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412920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2720880" y="2857680"/>
          <a:ext cx="3679920" cy="571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20880" y="2857680"/>
                    <a:ext cx="36799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"/>
          <p:cNvGraphicFramePr/>
          <p:nvPr/>
        </p:nvGraphicFramePr>
        <p:xfrm>
          <a:off x="2935440" y="3809880"/>
          <a:ext cx="2855880" cy="7318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35440" y="3809880"/>
                    <a:ext cx="285588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"/>
          <p:cNvGraphicFramePr/>
          <p:nvPr/>
        </p:nvGraphicFramePr>
        <p:xfrm>
          <a:off x="2416320" y="4884840"/>
          <a:ext cx="4060800" cy="6015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16320" y="4884840"/>
                    <a:ext cx="406080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olution with Family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02600" indent="-10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1) Calculate reaction rates and first derivatives of all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2) Sum production and loss terms of each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3) Apply forward Euler to family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4) Repartition species concentrations in the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57200" y="2819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xample with 4 total species and 2 famili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2743200" y="3352680"/>
          <a:ext cx="311004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352680"/>
                    <a:ext cx="31100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9" name=""/>
          <p:cNvGraphicFramePr/>
          <p:nvPr/>
        </p:nvGraphicFramePr>
        <p:xfrm>
          <a:off x="3581280" y="3886200"/>
          <a:ext cx="177804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3886200"/>
                    <a:ext cx="17780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1" name=""/>
          <p:cNvGraphicFramePr/>
          <p:nvPr/>
        </p:nvGraphicFramePr>
        <p:xfrm>
          <a:off x="2666880" y="4800600"/>
          <a:ext cx="984240" cy="31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4800600"/>
                    <a:ext cx="9842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3" name=""/>
          <p:cNvGraphicFramePr/>
          <p:nvPr/>
        </p:nvGraphicFramePr>
        <p:xfrm>
          <a:off x="2666880" y="5410080"/>
          <a:ext cx="952560" cy="317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5410080"/>
                    <a:ext cx="9525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5" name=""/>
          <p:cNvGraphicFramePr/>
          <p:nvPr/>
        </p:nvGraphicFramePr>
        <p:xfrm>
          <a:off x="2666880" y="6019920"/>
          <a:ext cx="984240" cy="317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6019920"/>
                    <a:ext cx="9842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"/>
          <p:cNvSpPr/>
          <p:nvPr/>
        </p:nvSpPr>
        <p:spPr>
          <a:xfrm>
            <a:off x="457200" y="4191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ctions in the syste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563720" y="4764240"/>
            <a:ext cx="394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579920" y="5407200"/>
            <a:ext cx="405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579560" y="6016680"/>
            <a:ext cx="394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olution with Family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rst derivatives of A, B, C, and 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3429000" y="1828800"/>
          <a:ext cx="2031840" cy="8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828800"/>
                    <a:ext cx="203184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5" name=""/>
          <p:cNvGraphicFramePr/>
          <p:nvPr/>
        </p:nvGraphicFramePr>
        <p:xfrm>
          <a:off x="3048120" y="2895480"/>
          <a:ext cx="2824200" cy="8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2895480"/>
                    <a:ext cx="282420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7" name=""/>
          <p:cNvGraphicFramePr/>
          <p:nvPr/>
        </p:nvGraphicFramePr>
        <p:xfrm>
          <a:off x="3048120" y="3962520"/>
          <a:ext cx="2792160" cy="80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3962520"/>
                    <a:ext cx="279216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9" name=""/>
          <p:cNvGraphicFramePr/>
          <p:nvPr/>
        </p:nvGraphicFramePr>
        <p:xfrm>
          <a:off x="3479760" y="5062680"/>
          <a:ext cx="1778040" cy="80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79760" y="5062680"/>
                    <a:ext cx="177804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Example Family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rst derivatives of each family as a who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57200" y="3352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pply forward Euler to family concentration wit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1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1905120" y="1523880"/>
          <a:ext cx="5332320" cy="8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523880"/>
                    <a:ext cx="533232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2743200" y="2438280"/>
          <a:ext cx="3300480" cy="8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438280"/>
                    <a:ext cx="330048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2243160" y="3886200"/>
          <a:ext cx="4538520" cy="82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43160" y="3886200"/>
                    <a:ext cx="453852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"/>
          <p:cNvSpPr/>
          <p:nvPr/>
        </p:nvSpPr>
        <p:spPr>
          <a:xfrm>
            <a:off x="457200" y="4648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r example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1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2230560" y="5181480"/>
          <a:ext cx="447516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30560" y="5181480"/>
                    <a:ext cx="44751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3" name=""/>
          <p:cNvGraphicFramePr/>
          <p:nvPr/>
        </p:nvGraphicFramePr>
        <p:xfrm>
          <a:off x="2209680" y="6019920"/>
          <a:ext cx="4570560" cy="503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09680" y="6019920"/>
                    <a:ext cx="45705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artition Species in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57200" y="3276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late species to family concentr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1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57200" y="1447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centration of D equals second family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2590920" y="2311560"/>
          <a:ext cx="37130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311560"/>
                    <a:ext cx="37130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0" name=""/>
          <p:cNvGraphicFramePr/>
          <p:nvPr/>
        </p:nvGraphicFramePr>
        <p:xfrm>
          <a:off x="1143000" y="4286160"/>
          <a:ext cx="6856560" cy="104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286160"/>
                    <a:ext cx="6856560" cy="10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Repartitioning Spe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ve for A, B, and C, respectivel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1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5105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any ways to obtain partitioning ratios,           and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2895480" y="1828800"/>
          <a:ext cx="3014640" cy="14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828800"/>
                    <a:ext cx="301464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1143000" y="3543480"/>
          <a:ext cx="2158920" cy="95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543480"/>
                    <a:ext cx="2158920" cy="95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9" name=""/>
          <p:cNvGraphicFramePr/>
          <p:nvPr/>
        </p:nvGraphicFramePr>
        <p:xfrm>
          <a:off x="5791320" y="3543480"/>
          <a:ext cx="2190600" cy="952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3543480"/>
                    <a:ext cx="2190600" cy="95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"/>
          <p:cNvGraphicFramePr/>
          <p:nvPr/>
        </p:nvGraphicFramePr>
        <p:xfrm>
          <a:off x="5486400" y="4876920"/>
          <a:ext cx="698400" cy="95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4876920"/>
                    <a:ext cx="6984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3" name=""/>
          <p:cNvGraphicFramePr/>
          <p:nvPr/>
        </p:nvGraphicFramePr>
        <p:xfrm>
          <a:off x="6845400" y="4876920"/>
          <a:ext cx="698400" cy="95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45400" y="4876920"/>
                    <a:ext cx="6984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Estimating Partitioning Rat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1) Assume each species in steady sta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1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57200" y="3429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-&gt; Partitioning ratios of B and C ar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1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2971800" y="1600200"/>
          <a:ext cx="3332160" cy="79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600200"/>
                    <a:ext cx="33321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2971800" y="2514600"/>
          <a:ext cx="330048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2514600"/>
                    <a:ext cx="330048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" name=""/>
          <p:cNvGraphicFramePr/>
          <p:nvPr/>
        </p:nvGraphicFramePr>
        <p:xfrm>
          <a:off x="3352680" y="4038480"/>
          <a:ext cx="225432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4038480"/>
                    <a:ext cx="22543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4" name=""/>
          <p:cNvGraphicFramePr/>
          <p:nvPr/>
        </p:nvGraphicFramePr>
        <p:xfrm>
          <a:off x="2286000" y="5334120"/>
          <a:ext cx="4761000" cy="95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5334120"/>
                    <a:ext cx="47610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aylor Serie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51460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ss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86600" y="6248520"/>
            <a:ext cx="1752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8-12.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666880" y="3429000"/>
          <a:ext cx="3078360" cy="79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429000"/>
                    <a:ext cx="30783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1600200" y="4191120"/>
          <a:ext cx="57135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4191120"/>
                    <a:ext cx="571356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228600" y="5181480"/>
          <a:ext cx="8696160" cy="98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5181480"/>
                    <a:ext cx="869616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241200" y="990720"/>
          <a:ext cx="8902800" cy="939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1200" y="990720"/>
                    <a:ext cx="890280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2057400" y="2209680"/>
          <a:ext cx="4808520" cy="76068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7400" y="2209680"/>
                    <a:ext cx="4808520" cy="7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533520" y="3733920"/>
            <a:ext cx="990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Estimating Partitioning Rat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-&gt; Final species concentration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1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1371600" y="1905120"/>
          <a:ext cx="2538360" cy="13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05120"/>
                    <a:ext cx="253836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5111640" y="1600200"/>
          <a:ext cx="2508480" cy="168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11640" y="1600200"/>
                    <a:ext cx="2508480" cy="16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3200400" y="3879720"/>
          <a:ext cx="2538360" cy="168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3879720"/>
                    <a:ext cx="2538360" cy="16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Estimating Partitioning Rat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57200" y="8380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2) First linearize the ODE of each species --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1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57200" y="3048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 then integrate with simple exponential method --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1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1295280" y="1371600"/>
          <a:ext cx="228600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22860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"/>
          <p:cNvGraphicFramePr/>
          <p:nvPr/>
        </p:nvGraphicFramePr>
        <p:xfrm>
          <a:off x="4599000" y="1371600"/>
          <a:ext cx="3554280" cy="82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9000" y="1371600"/>
                    <a:ext cx="35542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2681280" y="2209680"/>
          <a:ext cx="3490920" cy="82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81280" y="2209680"/>
                    <a:ext cx="34909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"/>
          <p:cNvGraphicFramePr/>
          <p:nvPr/>
        </p:nvGraphicFramePr>
        <p:xfrm>
          <a:off x="1981080" y="4260960"/>
          <a:ext cx="5650200" cy="920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4260960"/>
                    <a:ext cx="565020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1981080" y="5327640"/>
          <a:ext cx="5618160" cy="92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1080" y="5327640"/>
                    <a:ext cx="561816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3124080" y="3508200"/>
          <a:ext cx="2587680" cy="530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24080" y="3508200"/>
                    <a:ext cx="25876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9" name=""/>
          <p:cNvSpPr/>
          <p:nvPr/>
        </p:nvSpPr>
        <p:spPr>
          <a:xfrm>
            <a:off x="457200" y="6172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-&gt; plug results into partitioning rat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Estimating Partitioning Rat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3) First write each species ODE in finite difference form --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1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2514600" y="1905120"/>
          <a:ext cx="3300480" cy="82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905120"/>
                    <a:ext cx="33004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"/>
          <p:cNvGraphicFramePr/>
          <p:nvPr/>
        </p:nvGraphicFramePr>
        <p:xfrm>
          <a:off x="2516040" y="3200400"/>
          <a:ext cx="4189680" cy="82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6040" y="3200400"/>
                    <a:ext cx="41896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2514600" y="4495680"/>
          <a:ext cx="4157640" cy="822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4495680"/>
                    <a:ext cx="415764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Estimating Partitioning Rat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 then rearrange finite difference equations into a matrix --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1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0" name=""/>
          <p:cNvGraphicFramePr/>
          <p:nvPr/>
        </p:nvGraphicFramePr>
        <p:xfrm>
          <a:off x="1828800" y="2133720"/>
          <a:ext cx="5923080" cy="15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133720"/>
                    <a:ext cx="5923080" cy="15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"/>
          <p:cNvSpPr/>
          <p:nvPr/>
        </p:nvSpPr>
        <p:spPr>
          <a:xfrm>
            <a:off x="457200" y="4191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 then solve the matrix for [A]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, [B]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, and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[C]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and plug results into partitioning rat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dd bimolecular reaction to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57200" y="2057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nearized, finite difference forms of A, B, and 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1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57200" y="3505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1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57200" y="4952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1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3505320" y="1600200"/>
          <a:ext cx="206352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600200"/>
                    <a:ext cx="206352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1905120" y="2666880"/>
          <a:ext cx="5491080" cy="82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2666880"/>
                    <a:ext cx="54910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"/>
          <p:cNvGraphicFramePr/>
          <p:nvPr/>
        </p:nvGraphicFramePr>
        <p:xfrm>
          <a:off x="231840" y="4038480"/>
          <a:ext cx="8759880" cy="82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1840" y="4038480"/>
                    <a:ext cx="87598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"/>
          <p:cNvGraphicFramePr/>
          <p:nvPr/>
        </p:nvGraphicFramePr>
        <p:xfrm>
          <a:off x="1600200" y="5486400"/>
          <a:ext cx="6380280" cy="82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5486400"/>
                    <a:ext cx="63802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Example With Bimolecular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sulting matrix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1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57200" y="4952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 then solve the matrix for [A]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, [B]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, and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[C]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and plug results into partitioning rat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380880" y="2514600"/>
          <a:ext cx="8382240" cy="12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514600"/>
                    <a:ext cx="8382240" cy="12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aylor Series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9810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5105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160920" indent="-1609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Unstable unless small time step is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High derivatives computationally dem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362320" y="1828800"/>
          <a:ext cx="377640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828800"/>
                    <a:ext cx="37764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209680" y="2895480"/>
          <a:ext cx="4348440" cy="98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895480"/>
                    <a:ext cx="434844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09680" y="4038480"/>
          <a:ext cx="4316400" cy="98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4038480"/>
                    <a:ext cx="431640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981080" y="838080"/>
          <a:ext cx="4808520" cy="7606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838080"/>
                    <a:ext cx="4808520" cy="7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Forward Euler Solution to 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plicit forward Euler solution for an individual speci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2209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mple set of three equation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15-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743200" y="1447920"/>
          <a:ext cx="3395520" cy="79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447920"/>
                    <a:ext cx="339552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209680" y="2666880"/>
          <a:ext cx="3998880" cy="631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666880"/>
                    <a:ext cx="39988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0" y="3505320"/>
          <a:ext cx="3908520" cy="6015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3505320"/>
                    <a:ext cx="39085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209680" y="4267080"/>
          <a:ext cx="4251600" cy="6318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09680" y="4267080"/>
                    <a:ext cx="425160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484320" y="2895480"/>
            <a:ext cx="609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84320" y="3733920"/>
            <a:ext cx="609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800" y="4495680"/>
            <a:ext cx="5209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58840" y="5791320"/>
          <a:ext cx="8885160" cy="852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8840" y="5791320"/>
                    <a:ext cx="888516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380880" y="518148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rst derivative of N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Forward Euler Solution to 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rst derivative of N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3276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rward Euler equ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2.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82520" y="1814400"/>
          <a:ext cx="8885160" cy="8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814400"/>
                    <a:ext cx="888516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82440" y="4038480"/>
          <a:ext cx="898524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440" y="4038480"/>
                    <a:ext cx="89852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00:13:47Z</dcterms:created>
  <dc:creator>Fred Ginnebaugh</dc:creator>
  <dc:description/>
  <dc:language>en-US</dc:language>
  <cp:lastModifiedBy>Mark Z. Jacobson</cp:lastModifiedBy>
  <dcterms:modified xsi:type="dcterms:W3CDTF">2005-03-31T20:33:59Z</dcterms:modified>
  <cp:revision>620</cp:revision>
  <dc:subject/>
  <dc:title>Slide 1</dc:title>
</cp:coreProperties>
</file>