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media/image126.pct" ContentType="image/x-pict"/>
  <Override PartName="/ppt/media/image125.pct" ContentType="image/x-pict"/>
  <Override PartName="/ppt/media/image124.pct" ContentType="image/x-pict"/>
  <Override PartName="/ppt/media/image123.pct" ContentType="image/x-pict"/>
  <Override PartName="/ppt/media/image122.pct" ContentType="image/x-pict"/>
  <Override PartName="/ppt/media/image121.pct" ContentType="image/x-pict"/>
  <Override PartName="/ppt/media/image116.pct" ContentType="image/x-pict"/>
  <Override PartName="/ppt/media/image114.pct" ContentType="image/x-pict"/>
  <Override PartName="/ppt/media/image113.pct" ContentType="image/x-pict"/>
  <Override PartName="/ppt/media/image112.pct" ContentType="image/x-pict"/>
  <Override PartName="/ppt/media/image111.pct" ContentType="image/x-pict"/>
  <Override PartName="/ppt/media/image106.pct" ContentType="image/x-pict"/>
  <Override PartName="/ppt/media/image105.pct" ContentType="image/x-pict"/>
  <Override PartName="/ppt/media/image104.pct" ContentType="image/x-pict"/>
  <Override PartName="/ppt/media/image103.pct" ContentType="image/x-pict"/>
  <Override PartName="/ppt/media/image102.pct" ContentType="image/x-pict"/>
  <Override PartName="/ppt/media/image115.pct" ContentType="image/x-pict"/>
  <Override PartName="/ppt/media/image101.png" ContentType="image/png"/>
  <Override PartName="/ppt/media/image99.pct" ContentType="image/x-pict"/>
  <Override PartName="/ppt/media/image98.pct" ContentType="image/x-pict"/>
  <Override PartName="/ppt/media/image97.pct" ContentType="image/x-pict"/>
  <Override PartName="/ppt/media/image29.pct" ContentType="image/x-pict"/>
  <Override PartName="/ppt/media/image92.pct" ContentType="image/x-pict"/>
  <Override PartName="/ppt/media/image24.pct" ContentType="image/x-pict"/>
  <Override PartName="/ppt/media/image89.pct" ContentType="image/x-pict"/>
  <Override PartName="/ppt/media/image88.pct" ContentType="image/x-pict"/>
  <Override PartName="/ppt/media/image6.pct" ContentType="image/x-pict"/>
  <Override PartName="/ppt/media/image86.pct" ContentType="image/x-pict"/>
  <Override PartName="/ppt/media/image18.pct" ContentType="image/x-pict"/>
  <Override PartName="/ppt/media/image36.pct" ContentType="image/x-pict"/>
  <Override PartName="/ppt/media/image7.pct" ContentType="image/x-pict"/>
  <Override PartName="/ppt/media/image84.pct" ContentType="image/x-pict"/>
  <Override PartName="/ppt/media/image87.pct" ContentType="image/x-pict"/>
  <Override PartName="/ppt/media/image19.pct" ContentType="image/x-pict"/>
  <Override PartName="/ppt/media/image37.pct" ContentType="image/x-pict"/>
  <Override PartName="/ppt/media/image127.pct" ContentType="image/x-pict"/>
  <Override PartName="/ppt/media/image30.pct" ContentType="image/x-pict"/>
  <Override PartName="/ppt/media/image8.pct" ContentType="image/x-pict"/>
  <Override PartName="/ppt/media/image38.pct" ContentType="image/x-pict"/>
  <Override PartName="/ppt/media/image39.pct" ContentType="image/x-pict"/>
  <Override PartName="/ppt/media/image107.pct" ContentType="image/x-pict"/>
  <Override PartName="/ppt/media/image10.pct" ContentType="image/x-pict"/>
  <Override PartName="/ppt/media/image35.pct" ContentType="image/x-pict"/>
  <Override PartName="/ppt/media/image40.pct" ContentType="image/x-pict"/>
  <Override PartName="/ppt/media/image137.pct" ContentType="image/x-pict"/>
  <Override PartName="/ppt/media/image41.pct" ContentType="image/x-pict"/>
  <Override PartName="/ppt/media/image138.pct" ContentType="image/x-pict"/>
  <Override PartName="/ppt/media/image43.pct" ContentType="image/x-pict"/>
  <Override PartName="/ppt/media/image45.pct" ContentType="image/x-pict"/>
  <Override PartName="/ppt/media/image50.pct" ContentType="image/x-pict"/>
  <Override PartName="/ppt/media/image147.pct" ContentType="image/x-pict"/>
  <Override PartName="/ppt/media/image51.pct" ContentType="image/x-pict"/>
  <Override PartName="/ppt/media/image148.pct" ContentType="image/x-pict"/>
  <Override PartName="/ppt/media/image52.pct" ContentType="image/x-pict"/>
  <Override PartName="/ppt/media/image149.pct" ContentType="image/x-pict"/>
  <Override PartName="/ppt/media/image139.pct" ContentType="image/x-pict"/>
  <Override PartName="/ppt/media/image42.pct" ContentType="image/x-pict"/>
  <Override PartName="/ppt/media/image143.pct" ContentType="image/x-pict"/>
  <Override PartName="/ppt/media/image144.pct" ContentType="image/x-pict"/>
  <Override PartName="/ppt/media/image145.pct" ContentType="image/x-pict"/>
  <Override PartName="/ppt/media/image131.png" ContentType="image/png"/>
  <Override PartName="/ppt/media/image53.pct" ContentType="image/x-pict"/>
  <Override PartName="/ppt/media/image146.pct" ContentType="image/x-pict"/>
  <Override PartName="/ppt/media/image141.pct" ContentType="image/x-pict"/>
  <Override PartName="/ppt/media/image55.pct" ContentType="image/x-pict"/>
  <Override PartName="/ppt/media/image108.pct" ContentType="image/x-pict"/>
  <Override PartName="/ppt/media/image11.pct" ContentType="image/x-pict"/>
  <Override PartName="/ppt/media/image150.pct" ContentType="image/x-pict"/>
  <Override PartName="/ppt/media/image142.pct" ContentType="image/x-pict"/>
  <Override PartName="/ppt/media/image56.pct" ContentType="image/x-pict"/>
  <Override PartName="/ppt/media/image109.pct" ContentType="image/x-pict"/>
  <Override PartName="/ppt/media/image151.pct" ContentType="image/x-pict"/>
  <Override PartName="/ppt/media/image54.pct" ContentType="image/x-pict"/>
  <Override PartName="/ppt/media/image140.pct" ContentType="image/x-pict"/>
  <Override PartName="/ppt/media/image152.pct" ContentType="image/x-pict"/>
  <Override PartName="/ppt/media/image100.pct" ContentType="image/x-pict"/>
  <Override PartName="/ppt/media/image49.pct" ContentType="image/x-pict"/>
  <Override PartName="/ppt/media/image136.pct" ContentType="image/x-pict"/>
  <Override PartName="/ppt/media/image135.pct" ContentType="image/x-pict"/>
  <Override PartName="/ppt/media/image48.pct" ContentType="image/x-pict"/>
  <Override PartName="/ppt/media/image134.pct" ContentType="image/x-pict"/>
  <Override PartName="/ppt/media/image47.pct" ContentType="image/x-pict"/>
  <Override PartName="/ppt/media/image133.pct" ContentType="image/x-pict"/>
  <Override PartName="/ppt/media/image132.pct" ContentType="image/x-pict"/>
  <Override PartName="/ppt/media/image44.pct" ContentType="image/x-pict"/>
  <Override PartName="/ppt/media/image130.pct" ContentType="image/x-pict"/>
  <Override PartName="/ppt/media/image79.pct" ContentType="image/x-pict"/>
  <Override PartName="/ppt/media/image128.pct" ContentType="image/x-pict"/>
  <Override PartName="/ppt/media/image9.pct" ContentType="image/x-pict"/>
  <Override PartName="/ppt/media/image31.pct" ContentType="image/x-pict"/>
  <Override PartName="/ppt/media/image129.pct" ContentType="image/x-pict"/>
  <Override PartName="/ppt/media/image32.pct" ContentType="image/x-pict"/>
  <Override PartName="/ppt/media/image34.pct" ContentType="image/x-pict"/>
  <Override PartName="/ppt/media/image4.pct" ContentType="image/x-pict"/>
  <Override PartName="/ppt/media/image33.pct" ContentType="image/x-pict"/>
  <Override PartName="/ppt/media/image3.pct" ContentType="image/x-pict"/>
  <Override PartName="/ppt/media/image83.pct" ContentType="image/x-pict"/>
  <Override PartName="/ppt/media/image15.pct" ContentType="image/x-pict"/>
  <Override PartName="/ppt/media/image12.pct" ContentType="image/x-pict"/>
  <Override PartName="/ppt/media/image80.pct" ContentType="image/x-pict"/>
  <Override PartName="/ppt/media/image94.pct" ContentType="image/x-pict"/>
  <Override PartName="/ppt/media/image26.pct" ContentType="image/x-pict"/>
  <Override PartName="/ppt/media/image154.pct" ContentType="image/x-pict"/>
  <Override PartName="/ppt/media/image2.pct" ContentType="image/x-pict"/>
  <Override PartName="/ppt/media/image153.pct" ContentType="image/x-pict"/>
  <Override PartName="/ppt/media/image1.pct" ContentType="image/x-pict"/>
  <Override PartName="/ppt/media/image81.pct" ContentType="image/x-pict"/>
  <Override PartName="/ppt/media/image13.pct" ContentType="image/x-pict"/>
  <Override PartName="/ppt/media/image46.pct" ContentType="image/x-pict"/>
  <Override PartName="/ppt/media/image16.png" ContentType="image/png"/>
  <Override PartName="/ppt/media/image95.pct" ContentType="image/x-pict"/>
  <Override PartName="/ppt/media/image85.pct" ContentType="image/x-pict"/>
  <Override PartName="/ppt/media/image17.pct" ContentType="image/x-pict"/>
  <Override PartName="/ppt/media/image14.pct" ContentType="image/x-pict"/>
  <Override PartName="/ppt/media/image82.pct" ContentType="image/x-pict"/>
  <Override PartName="/ppt/media/image27.png" ContentType="image/png"/>
  <Override PartName="/ppt/media/image57.pct" ContentType="image/x-pict"/>
  <Override PartName="/ppt/media/image20.pct" ContentType="image/x-pict"/>
  <Override PartName="/ppt/media/image117.pct" ContentType="image/x-pict"/>
  <Override PartName="/ppt/media/image58.pct" ContentType="image/x-pict"/>
  <Override PartName="/ppt/media/image21.pct" ContentType="image/x-pict"/>
  <Override PartName="/ppt/media/image118.pct" ContentType="image/x-pict"/>
  <Override PartName="/ppt/media/image59.pct" ContentType="image/x-pict"/>
  <Override PartName="/ppt/media/image110.pct" ContentType="image/x-pict"/>
  <Override PartName="/ppt/media/image90.pct" ContentType="image/x-pict"/>
  <Override PartName="/ppt/media/image22.pct" ContentType="image/x-pict"/>
  <Override PartName="/ppt/media/image119.pct" ContentType="image/x-pict"/>
  <Override PartName="/ppt/media/image5.png" ContentType="image/png"/>
  <Override PartName="/ppt/media/image91.pct" ContentType="image/x-pict"/>
  <Override PartName="/ppt/media/image23.pct" ContentType="image/x-pict"/>
  <Override PartName="/ppt/media/image96.pct" ContentType="image/x-pict"/>
  <Override PartName="/ppt/media/image28.pct" ContentType="image/x-pict"/>
  <Override PartName="/ppt/media/image25.pct" ContentType="image/x-pict"/>
  <Override PartName="/ppt/media/image93.pct" ContentType="image/x-pict"/>
  <Override PartName="/ppt/media/image60.pct" ContentType="image/x-pict"/>
  <Override PartName="/ppt/media/image61.pct" ContentType="image/x-pict"/>
  <Override PartName="/ppt/media/image62.pct" ContentType="image/x-pict"/>
  <Override PartName="/ppt/media/image63.pct" ContentType="image/x-pict"/>
  <Override PartName="/ppt/media/image64.pct" ContentType="image/x-pict"/>
  <Override PartName="/ppt/media/image65.pct" ContentType="image/x-pict"/>
  <Override PartName="/ppt/media/image66.pct" ContentType="image/x-pict"/>
  <Override PartName="/ppt/media/image67.pct" ContentType="image/x-pict"/>
  <Override PartName="/ppt/media/image68.pct" ContentType="image/x-pict"/>
  <Override PartName="/ppt/media/image69.pct" ContentType="image/x-pict"/>
  <Override PartName="/ppt/media/image120.pct" ContentType="image/x-pict"/>
  <Override PartName="/ppt/media/image70.pct" ContentType="image/x-pict"/>
  <Override PartName="/ppt/media/image71.pct" ContentType="image/x-pict"/>
  <Override PartName="/ppt/media/image72.pct" ContentType="image/x-pict"/>
  <Override PartName="/ppt/media/image73.pct" ContentType="image/x-pict"/>
  <Override PartName="/ppt/media/image74.pct" ContentType="image/x-pict"/>
  <Override PartName="/ppt/media/image75.pct" ContentType="image/x-pict"/>
  <Override PartName="/ppt/media/image76.pct" ContentType="image/x-pict"/>
  <Override PartName="/ppt/media/image77.pct" ContentType="image/x-pict"/>
  <Override PartName="/ppt/media/image78.pct" ContentType="image/x-pi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9E7D-F7BA-4BEA-AEA1-4D6BDFB3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047-628B-4776-9678-49634A60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27C5-B350-4702-B5CE-566D9A2B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7565-4356-4D8C-A056-77C59DBC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83F3-15B0-4F0A-A475-059FF870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4460-C710-4D49-B3DE-364CE67F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4EB7-5B3A-41C5-BF85-C576D2AA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5B7D-44E9-416A-8276-5A295401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D3B2-D2AE-4BE7-B4AA-27EF8C8D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642-7422-49BA-AED5-229E8F76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0F9F-A1AE-4CAE-8E48-D2727434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F209-ED0F-47CD-B565-18D8830E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EF0A-C550-45E4-B3E9-9192D5360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pct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pct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ct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pct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pct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ct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pct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pct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pct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ct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ct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3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4.pct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pct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ct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pct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pct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pct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1.pct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pct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pct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pct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1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pct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pct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4.pct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pct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8.pct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pct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pct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86.pct"/><Relationship Id="rId9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8.pct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90.pct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2.pct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94.pct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5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96.pct"/><Relationship Id="rId5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7.pct"/><Relationship Id="rId2" Type="http://schemas.openxmlformats.org/officeDocument/2006/relationships/package" Target="../embeddings/oleObject1.docx"/><Relationship Id="rId3" Type="http://schemas.openxmlformats.org/officeDocument/2006/relationships/image" Target="../media/image98.pct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0.pct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3.pct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4.pct"/><Relationship Id="rId2" Type="http://schemas.openxmlformats.org/officeDocument/2006/relationships/image" Target="../media/image105.pct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8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9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0.pct"/><Relationship Id="rId1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3.pct"/><Relationship Id="rId7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6.pct"/><Relationship Id="rId7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9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0.pct"/><Relationship Id="rId9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0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3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4.pct"/><Relationship Id="rId1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7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8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9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0.pct"/><Relationship Id="rId1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3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pct"/><Relationship Id="rId1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4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5.pct"/><Relationship Id="rId9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8.pct"/><Relationship Id="rId7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0.pct"/><Relationship Id="rId5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5.pct"/><Relationship Id="rId2" Type="http://schemas.openxmlformats.org/officeDocument/2006/relationships/package" Target="../embeddings/oleObject1.docx"/><Relationship Id="rId3" Type="http://schemas.openxmlformats.org/officeDocument/2006/relationships/image" Target="../media/image141.pct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3.pct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5.pct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8.pct"/><Relationship Id="rId7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9.pct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2.pct"/><Relationship Id="rId7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4.pct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esentation Slides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for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apter 2</a:t>
            </a:r>
            <a:br>
              <a:rPr sz="40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of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undamentals of Atmospheric Modeling 2</a:t>
            </a:r>
            <a:r>
              <a:rPr b="1" lang="en-US" sz="4000" spc="-1" strike="noStrike" baseline="30000">
                <a:solidFill>
                  <a:srgbClr val="0000ff"/>
                </a:solidFill>
                <a:latin typeface="Times New Roman"/>
              </a:rPr>
              <a:t>nd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Edition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440" y="3962520"/>
            <a:ext cx="74365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rk Z. Jaco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partment of Civil &amp; Environmental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, CA 94305-4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acobson@stanford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7534"/>
                </a:solidFill>
                <a:latin typeface="Times New Roman"/>
              </a:rPr>
              <a:t>March 10, 2005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he Ozone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362320" y="1447920"/>
          <a:ext cx="4030560" cy="499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447920"/>
                    <a:ext cx="403056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tratospheric Ozone 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tural Ozone Produc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-&gt; O(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) + 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17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-&gt; O + 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5 nm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24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)+M--&gt;O+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+ O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M --&gt; O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tural Ozone De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-&gt; O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O(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31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-&gt; O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31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O --&gt; O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1828800"/>
            <a:ext cx="18288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4114800"/>
            <a:ext cx="18288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2971800"/>
            <a:ext cx="1295280" cy="13716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360" y="617220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.9)-(2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emperatur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3244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4572000" y="1905120"/>
          <a:ext cx="3809880" cy="394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05120"/>
                    <a:ext cx="380988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Zonally-Averaged Temper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09480" y="1905120"/>
          <a:ext cx="3810240" cy="3944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905120"/>
                    <a:ext cx="381024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2439000" y="13716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2278080"/>
            <a:ext cx="53352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27720" y="328536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0dff"/>
                </a:solidFill>
                <a:latin typeface="Times New Roman"/>
              </a:rPr>
              <a:t>Altitude (k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2286000"/>
            <a:ext cx="53352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4066200" y="329328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0dff"/>
                </a:solidFill>
                <a:latin typeface="Times New Roman"/>
              </a:rPr>
              <a:t>Altitude (k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8200" y="609588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2.5a,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oundary 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" y="1600200"/>
            <a:ext cx="5524920" cy="5031720"/>
            <a:chOff x="228600" y="1600200"/>
            <a:chExt cx="5524920" cy="5031720"/>
          </a:xfrm>
        </p:grpSpPr>
        <p:sp>
          <p:nvSpPr>
            <p:cNvPr id="137" name=""/>
            <p:cNvSpPr/>
            <p:nvPr/>
          </p:nvSpPr>
          <p:spPr>
            <a:xfrm>
              <a:off x="2057400" y="1600200"/>
              <a:ext cx="12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Times New Roman"/>
                </a:rPr>
                <a:t>Day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" y="2278080"/>
              <a:ext cx="533520" cy="274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2286000"/>
              <a:ext cx="533520" cy="274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92200" y="6172200"/>
              <a:ext cx="156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3366"/>
                  </a:solidFill>
                  <a:latin typeface="Times New Roman"/>
                </a:rPr>
                <a:t>Fig. 2.3a,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1" name=""/>
            <p:cNvGraphicFramePr/>
            <p:nvPr/>
          </p:nvGraphicFramePr>
          <p:xfrm>
            <a:off x="228600" y="1752480"/>
            <a:ext cx="4762440" cy="40770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752480"/>
                      <a:ext cx="4762440" cy="407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3" name=""/>
          <p:cNvGrpSpPr/>
          <p:nvPr/>
        </p:nvGrpSpPr>
        <p:grpSpPr>
          <a:xfrm>
            <a:off x="4876920" y="1523880"/>
            <a:ext cx="4039920" cy="4383360"/>
            <a:chOff x="4876920" y="1523880"/>
            <a:chExt cx="4039920" cy="4383360"/>
          </a:xfrm>
        </p:grpSpPr>
        <p:sp>
          <p:nvSpPr>
            <p:cNvPr id="144" name=""/>
            <p:cNvSpPr/>
            <p:nvPr/>
          </p:nvSpPr>
          <p:spPr>
            <a:xfrm>
              <a:off x="6172200" y="1523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Times New Roman"/>
                </a:rPr>
                <a:t>Night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5" name=""/>
            <p:cNvGraphicFramePr/>
            <p:nvPr/>
          </p:nvGraphicFramePr>
          <p:xfrm>
            <a:off x="4876920" y="2057400"/>
            <a:ext cx="4039920" cy="38498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2057400"/>
                      <a:ext cx="4039920" cy="384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rocesses Affecting Temp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pecific heat 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J kg</a:t>
            </a:r>
            <a:r>
              <a:rPr b="0" lang="en-US" sz="2400" spc="-1" strike="noStrike" baseline="30000">
                <a:solidFill>
                  <a:srgbClr val="9900cc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 K</a:t>
            </a:r>
            <a:r>
              <a:rPr b="0" lang="en-US" sz="2400" spc="-1" strike="noStrike" baseline="30000">
                <a:solidFill>
                  <a:srgbClr val="9900cc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Energy required to increase the temperature of 1 kg of a substance 1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= 1004.67 for dry air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= 4185.5 for liquid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= 1360 for c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= 827 for s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Lower specific he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 substance heats up faster upon addition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 soil heats up during the day more than does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rocesses Affecting Temperatu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Transfer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Co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ansfer of energy from molecule to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Con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ansfer of energy by the vertical mass movement of a fl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Ad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rizontal propagation of the mean 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nergy transferred in the form of electromagnetic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n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only near the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Conductive Heat Flux (W m</a:t>
            </a:r>
            <a:r>
              <a:rPr b="0" lang="en-US" sz="2400" spc="-1" strike="noStrike" baseline="30000">
                <a:solidFill>
                  <a:srgbClr val="009900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-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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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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</a:t>
            </a:r>
            <a:r>
              <a:rPr b="0" i="1" lang="en-US" sz="2400" spc="-1" strike="noStrike" baseline="-25000">
                <a:solidFill>
                  <a:srgbClr val="9900cc"/>
                </a:solidFill>
                <a:latin typeface="Times New Roman"/>
              </a:rPr>
              <a:t>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= thermal conductivity (W m</a:t>
            </a:r>
            <a:r>
              <a:rPr b="0" lang="en-US" sz="2400" spc="-1" strike="noStrike" baseline="30000">
                <a:solidFill>
                  <a:srgbClr val="9900cc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 K </a:t>
            </a:r>
            <a:r>
              <a:rPr b="0" lang="en-US" sz="2400" spc="-1" strike="noStrike" baseline="30000">
                <a:solidFill>
                  <a:srgbClr val="9900cc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0.0256 for dry air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= 0.6 for liquid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= 0.92 for clay 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= 0.298 for s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9900cc"/>
                </a:solidFill>
                <a:latin typeface="Times New Roman"/>
              </a:rPr>
              <a:t></a:t>
            </a:r>
            <a:r>
              <a:rPr b="0" i="1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= change in temperature (</a:t>
            </a:r>
            <a:r>
              <a:rPr b="0" lang="en-US" sz="2400" spc="-1" strike="noStrike" baseline="30000">
                <a:solidFill>
                  <a:srgbClr val="9900cc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9900cc"/>
                </a:solidFill>
                <a:latin typeface="Times New Roman"/>
              </a:rPr>
              <a:t>z</a:t>
            </a:r>
            <a:r>
              <a:rPr b="0" i="1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= change in altitude (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Near the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"/>
              <a:tabLst>
                <a:tab algn="l" pos="91116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-12 K / 0.001 m--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307 W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Free trop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-6.5 K / 1000 m--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0.00015 W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hermal Condu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80880" y="1600200"/>
          <a:ext cx="5813640" cy="51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58136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380880" y="3276720"/>
          <a:ext cx="579600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276720"/>
                    <a:ext cx="579600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80880" y="4800600"/>
          <a:ext cx="5146920" cy="104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800600"/>
                    <a:ext cx="514692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304920" y="10666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ry ai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.5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5909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ater vap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4343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ist ai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609588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number of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urbu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592000" y="3200040"/>
            <a:ext cx="2894400" cy="914760"/>
            <a:chOff x="2592000" y="3200040"/>
            <a:chExt cx="2894400" cy="914760"/>
          </a:xfrm>
        </p:grpSpPr>
        <p:sp>
          <p:nvSpPr>
            <p:cNvPr id="166" name=""/>
            <p:cNvSpPr/>
            <p:nvPr/>
          </p:nvSpPr>
          <p:spPr>
            <a:xfrm>
              <a:off x="3733920" y="3581280"/>
              <a:ext cx="533160" cy="457200"/>
            </a:xfrm>
            <a:prstGeom prst="rect">
              <a:avLst/>
            </a:prstGeom>
            <a:solidFill>
              <a:srgbClr val="e38c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7" name=""/>
            <p:cNvCxnSpPr/>
            <p:nvPr/>
          </p:nvCxnSpPr>
          <p:spPr>
            <a:xfrm>
              <a:off x="3352680" y="3504960"/>
              <a:ext cx="1372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/>
            <p:nvPr/>
          </p:nvCxnSpPr>
          <p:spPr>
            <a:xfrm>
              <a:off x="3352320" y="3352320"/>
              <a:ext cx="1677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/>
            <p:nvPr/>
          </p:nvCxnSpPr>
          <p:spPr>
            <a:xfrm>
              <a:off x="3352680" y="3200040"/>
              <a:ext cx="1905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0" name=""/>
            <p:cNvSpPr/>
            <p:nvPr/>
          </p:nvSpPr>
          <p:spPr>
            <a:xfrm>
              <a:off x="4952880" y="35812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81480" y="3581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0080" y="3809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4876920" y="40384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952880" y="3505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5" name=""/>
            <p:cNvCxnSpPr/>
            <p:nvPr/>
          </p:nvCxnSpPr>
          <p:spPr>
            <a:xfrm>
              <a:off x="3352320" y="3657600"/>
              <a:ext cx="3056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6" name=""/>
            <p:cNvSpPr/>
            <p:nvPr/>
          </p:nvSpPr>
          <p:spPr>
            <a:xfrm>
              <a:off x="2592000" y="32004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i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99400" y="990720"/>
            <a:ext cx="787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Buoyancy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lifting of low-density (warm) air in bath of cold air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Wind shear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variation of wind speed with height or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ddy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wirling motion of air due to wind sh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43434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Turbulence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otic air motion from eddies of different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Thermal turbulence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urbulence due to buoyancy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Mechanical turbulence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urbulence due to wind shear or convergence/diver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520" y="1371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eight per unit area of air overhead a given altitu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Hydrostatic Air Pre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9240" y="2590920"/>
            <a:ext cx="7648560" cy="41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air pressure (1 Pa=1 kg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0.01 hPa=0.01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air density (kg/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gravity (m/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altitude 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ical sea-level pres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1,325 Pa =1013.25 hPa = 1013.25 mb = 1.01325 b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60 mm Hg = 760 to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9.9 in. 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4.7 lb in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,300 kg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743200" y="1752480"/>
          <a:ext cx="3098880" cy="7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752480"/>
                    <a:ext cx="309888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nvergence/Diver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447920"/>
            <a:ext cx="8153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Convergence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rizontal net inflow of air into a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219320" y="2133720"/>
            <a:ext cx="1752480" cy="1523520"/>
            <a:chOff x="1219320" y="2133720"/>
            <a:chExt cx="1752480" cy="1523520"/>
          </a:xfrm>
        </p:grpSpPr>
        <p:sp>
          <p:nvSpPr>
            <p:cNvPr id="182" name=""/>
            <p:cNvSpPr/>
            <p:nvPr/>
          </p:nvSpPr>
          <p:spPr>
            <a:xfrm>
              <a:off x="1447920" y="2286000"/>
              <a:ext cx="1218960" cy="121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19320" y="266688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1676520" y="327636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1981080" y="2133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8280" y="2819160"/>
              <a:ext cx="533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06920" y="2666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143000" y="4800600"/>
            <a:ext cx="1752120" cy="1523520"/>
            <a:chOff x="1143000" y="4800600"/>
            <a:chExt cx="1752120" cy="1523520"/>
          </a:xfrm>
        </p:grpSpPr>
        <p:sp>
          <p:nvSpPr>
            <p:cNvPr id="189" name=""/>
            <p:cNvSpPr/>
            <p:nvPr/>
          </p:nvSpPr>
          <p:spPr>
            <a:xfrm>
              <a:off x="1371240" y="4952880"/>
              <a:ext cx="1218960" cy="121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43000" y="533376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1599840" y="594324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1904760" y="480060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61960" y="548604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53200" y="53337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71880" y="3886200"/>
            <a:ext cx="6932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ivergence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rizontal net outflow of air from a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nv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1371600"/>
            <a:ext cx="594360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ertical air motion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Free convection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ertical air motion due to thermal turbulence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943600" y="990720"/>
          <a:ext cx="2554200" cy="266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990720"/>
                    <a:ext cx="25542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5943600" y="3733920"/>
          <a:ext cx="2843280" cy="2706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3733920"/>
                    <a:ext cx="2843280" cy="27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304920" y="44956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Forced convection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ertical air motion due to mechanical turbu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quation of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1500"/>
              </a:spcBef>
              <a:buClr>
                <a:srgbClr val="99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~1/V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t const.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1500"/>
              </a:spcBef>
              <a:buClr>
                <a:srgbClr val="99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Charles’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~T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t const.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1500"/>
              </a:spcBef>
              <a:buClr>
                <a:srgbClr val="99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~n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t const.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, 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1500"/>
              </a:spcBef>
              <a:buClr>
                <a:srgbClr val="99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Ideal Ga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V=n R*T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84360" y="394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038480" y="2362320"/>
          <a:ext cx="4216680" cy="280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362320"/>
                    <a:ext cx="4216680" cy="28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4644000" y="1523880"/>
            <a:ext cx="31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Lifting of a parcel of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58360" y="61722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.17)-(2.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Jacques Charles (1746-182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038120" y="1218960"/>
            <a:ext cx="480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June 4, 1783 </a:t>
            </a: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Montgolfier brothers launch hot-air balloon in Annonay,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ugust 27, 1783 </a:t>
            </a: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Charles launches silk balloon filled with hydrogen in 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 country people who saw it fall were frightened and attacked it with stones and knives so that it was much mangled</a:t>
            </a: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” - Benjamin Frank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ovember 21, 1783 </a:t>
            </a: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Montgolfiers organize first manned hot-air balloon f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ecember 1, 1783 </a:t>
            </a: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Charles in hydrogen-balloon f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 had a pocket glass, with which I followed it until I lost sight, first of the men, then of the car, and when I last saw the balloon it appeared no bigger than a walnut</a:t>
            </a: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” - Benjamin Frank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373560" cy="463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35800" y="6324480"/>
            <a:ext cx="37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Edgar Fahs Smith Collection, U. Penn. Li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quation of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84360" y="394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209680" y="914400"/>
            <a:ext cx="6482160" cy="1050840"/>
            <a:chOff x="2209680" y="914400"/>
            <a:chExt cx="6482160" cy="1050840"/>
          </a:xfrm>
        </p:grpSpPr>
        <p:sp>
          <p:nvSpPr>
            <p:cNvPr id="217" name=""/>
            <p:cNvSpPr/>
            <p:nvPr/>
          </p:nvSpPr>
          <p:spPr>
            <a:xfrm>
              <a:off x="7773480" y="1143000"/>
              <a:ext cx="9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3366"/>
                  </a:solidFill>
                  <a:latin typeface="Times New Roman"/>
                </a:rPr>
                <a:t>(2.2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8" name=""/>
            <p:cNvGraphicFramePr/>
            <p:nvPr/>
          </p:nvGraphicFramePr>
          <p:xfrm>
            <a:off x="2209680" y="914400"/>
            <a:ext cx="4232520" cy="105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09680" y="914400"/>
                      <a:ext cx="4232520" cy="105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0" name=""/>
          <p:cNvSpPr/>
          <p:nvPr/>
        </p:nvSpPr>
        <p:spPr>
          <a:xfrm>
            <a:off x="228600" y="1905120"/>
            <a:ext cx="85392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479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air pressu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number of moles of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479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*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gas const. (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hPa mol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absolute temperature (K)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479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Avogadro’s num. (molec. mol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gas conc. (molec. 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479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Boltzmann’s con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479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1.380658x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9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hPa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479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479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 2.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1013 h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479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288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479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2.55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molec.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187534"/>
              </a:buClr>
              <a:buFont typeface="Wingdings" charset="2"/>
              <a:buChar char=""/>
              <a:tabLst>
                <a:tab algn="l" pos="453960"/>
                <a:tab algn="l" pos="479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479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1 h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479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27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479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2.68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molec.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alton’s Law of Partial Pre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84360" y="394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981080" y="2438280"/>
          <a:ext cx="454356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438280"/>
                    <a:ext cx="454356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1143000" y="9144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otal air pressure equals the sum of the partial pressures of all the individual gases in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18288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tal air pressure (hPa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.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3352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ial pressure of an individual ga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.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3760" y="4495680"/>
            <a:ext cx="78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tal air pressure equals partial pressures of dry plus moist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352680" y="5029200"/>
          <a:ext cx="1782720" cy="37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5029200"/>
                    <a:ext cx="178272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3276720" y="6248520"/>
          <a:ext cx="1938240" cy="37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6248520"/>
                    <a:ext cx="193824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299160" y="5638680"/>
            <a:ext cx="42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mber concentration of total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429000" y="3886200"/>
          <a:ext cx="1792440" cy="455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3886200"/>
                    <a:ext cx="17924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quation of State for Dry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08040" y="463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36520" y="2743200"/>
            <a:ext cx="37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ry air mass density (g 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200" y="4038480"/>
            <a:ext cx="55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ry air number concentration (molec. 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7160" y="5410080"/>
            <a:ext cx="44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ry air gas constant (Appendix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352680" y="3200400"/>
          <a:ext cx="1636920" cy="7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3200400"/>
                    <a:ext cx="163692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429000" y="4572000"/>
          <a:ext cx="147168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572000"/>
                    <a:ext cx="147168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3581280" y="5715000"/>
          <a:ext cx="1225800" cy="94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5715000"/>
                    <a:ext cx="122580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304920" y="1066680"/>
            <a:ext cx="8391240" cy="1582920"/>
            <a:chOff x="304920" y="1066680"/>
            <a:chExt cx="8391240" cy="1582920"/>
          </a:xfrm>
        </p:grpSpPr>
        <p:graphicFrame>
          <p:nvGraphicFramePr>
            <p:cNvPr id="248" name=""/>
            <p:cNvGraphicFramePr/>
            <p:nvPr/>
          </p:nvGraphicFramePr>
          <p:xfrm>
            <a:off x="304920" y="1600200"/>
            <a:ext cx="8391240" cy="1049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4920" y="1600200"/>
                      <a:ext cx="8391240" cy="104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0" name=""/>
            <p:cNvSpPr/>
            <p:nvPr/>
          </p:nvSpPr>
          <p:spPr>
            <a:xfrm>
              <a:off x="7544880" y="1066680"/>
              <a:ext cx="9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3366"/>
                  </a:solidFill>
                  <a:latin typeface="Times New Roman"/>
                </a:rPr>
                <a:t>(2.2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25000" y="990720"/>
            <a:ext cx="40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ial pressure of dry air (h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quation of State for Water Vap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08040" y="463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4720" y="2743200"/>
            <a:ext cx="43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ater vapor mass density (g 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0760" y="4038480"/>
            <a:ext cx="61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ater vapor number concentration (molec. 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6800" y="5410080"/>
            <a:ext cx="37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as constant for water va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11430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ial pressure of water vapor (hPa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.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80880" y="1295280"/>
            <a:ext cx="8181720" cy="1434960"/>
            <a:chOff x="380880" y="1295280"/>
            <a:chExt cx="8181720" cy="1434960"/>
          </a:xfrm>
        </p:grpSpPr>
        <p:sp>
          <p:nvSpPr>
            <p:cNvPr id="259" name=""/>
            <p:cNvSpPr/>
            <p:nvPr/>
          </p:nvSpPr>
          <p:spPr>
            <a:xfrm>
              <a:off x="7543440" y="129528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0" name=""/>
            <p:cNvGraphicFramePr/>
            <p:nvPr/>
          </p:nvGraphicFramePr>
          <p:xfrm>
            <a:off x="380880" y="1684080"/>
            <a:ext cx="8181720" cy="104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1684080"/>
                      <a:ext cx="8181720" cy="104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62" name=""/>
          <p:cNvGraphicFramePr/>
          <p:nvPr/>
        </p:nvGraphicFramePr>
        <p:xfrm>
          <a:off x="3733920" y="5715000"/>
          <a:ext cx="1225440" cy="9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5715000"/>
                    <a:ext cx="122544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657600" y="4495680"/>
          <a:ext cx="1398600" cy="76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4495680"/>
                    <a:ext cx="139860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3657600" y="3200400"/>
          <a:ext cx="1544760" cy="77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3200400"/>
                    <a:ext cx="15447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quation of Stat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84360" y="394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1905120"/>
            <a:ext cx="853920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4060800"/>
                <a:tab algn="l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 2.4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013 h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4060800"/>
                <a:tab algn="l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88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4060800"/>
                <a:tab algn="l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.8704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hPa kg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K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4060800"/>
                <a:tab algn="l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.23 kg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276720" y="1371600"/>
          <a:ext cx="164448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371600"/>
                    <a:ext cx="16444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3276720" y="4267080"/>
          <a:ext cx="1600200" cy="37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267080"/>
                    <a:ext cx="16002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380880" y="4800600"/>
            <a:ext cx="853920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4060800"/>
                <a:tab algn="l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 2.5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0 h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4060800"/>
                <a:tab algn="l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98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4060800"/>
                <a:tab algn="l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4.6189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hPa kg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K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4060800"/>
                <a:tab algn="l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00725 kg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4060800"/>
                <a:tab algn="l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Volume and Mass Mixing R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106668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4060800"/>
                <a:tab algn="l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olume mixing ratio (molec. of gas per molecule of dry a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4038480"/>
            <a:ext cx="8539200" cy="27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652920"/>
                <a:tab algn="l" pos="4233960"/>
                <a:tab algn="l" pos="4906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 2.6 - ozone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652920"/>
                <a:tab algn="l" pos="4233960"/>
                <a:tab algn="l" pos="4906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1 ppmv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652920"/>
                <a:tab algn="l" pos="4233960"/>
                <a:tab algn="l" pos="4906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O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48 g mol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O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17 pp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652920"/>
                <a:tab algn="l" pos="4233960"/>
                <a:tab algn="l" pos="4906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98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652920"/>
                <a:tab algn="l" pos="4233960"/>
                <a:tab algn="l" pos="4906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013 hPa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.55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molec.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652920"/>
                <a:tab algn="l" pos="4233960"/>
                <a:tab algn="l" pos="4906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O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.55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molec.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652920"/>
                <a:tab algn="l" pos="4233960"/>
                <a:tab algn="l" pos="4906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O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000101 h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666880" y="1523880"/>
            <a:ext cx="5867640" cy="885960"/>
            <a:chOff x="2666880" y="1523880"/>
            <a:chExt cx="5867640" cy="885960"/>
          </a:xfrm>
        </p:grpSpPr>
        <p:graphicFrame>
          <p:nvGraphicFramePr>
            <p:cNvPr id="280" name=""/>
            <p:cNvGraphicFramePr/>
            <p:nvPr/>
          </p:nvGraphicFramePr>
          <p:xfrm>
            <a:off x="2666880" y="1523880"/>
            <a:ext cx="2816280" cy="885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6880" y="1523880"/>
                      <a:ext cx="281628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7543800" y="1752480"/>
              <a:ext cx="9907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453960"/>
                  <a:tab algn="l" pos="4060800"/>
                  <a:tab algn="l" pos="4626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Times New Roman"/>
                </a:rPr>
                <a:t>(2.29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304920" y="2438280"/>
            <a:ext cx="7162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4060800"/>
                <a:tab algn="l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ss mixing ratio (mass of gas per mass of dry a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990720" y="2971800"/>
            <a:ext cx="7543800" cy="885960"/>
            <a:chOff x="990720" y="2971800"/>
            <a:chExt cx="7543800" cy="885960"/>
          </a:xfrm>
        </p:grpSpPr>
        <p:sp>
          <p:nvSpPr>
            <p:cNvPr id="285" name=""/>
            <p:cNvSpPr/>
            <p:nvPr/>
          </p:nvSpPr>
          <p:spPr>
            <a:xfrm>
              <a:off x="7543800" y="3200400"/>
              <a:ext cx="9907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453960"/>
                  <a:tab algn="l" pos="4060800"/>
                  <a:tab algn="l" pos="4626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Times New Roman"/>
                </a:rPr>
                <a:t>(2.3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6" name=""/>
            <p:cNvGraphicFramePr/>
            <p:nvPr/>
          </p:nvGraphicFramePr>
          <p:xfrm>
            <a:off x="990720" y="2971800"/>
            <a:ext cx="6068880" cy="88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90720" y="2971800"/>
                      <a:ext cx="606888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essure, Density, Gravity vs. Altit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8600" y="1371600"/>
          <a:ext cx="3427560" cy="41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342756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657600" y="1371600"/>
          <a:ext cx="2403360" cy="4121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371600"/>
                    <a:ext cx="2403360" cy="41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400800" y="1371600"/>
          <a:ext cx="2403360" cy="4121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1371600"/>
                    <a:ext cx="2403360" cy="41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7163280" y="609588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s. 2.1a-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2280" y="1417320"/>
            <a:ext cx="477720" cy="3223080"/>
            <a:chOff x="152280" y="1417320"/>
            <a:chExt cx="477720" cy="3223080"/>
          </a:xfrm>
        </p:grpSpPr>
        <p:sp>
          <p:nvSpPr>
            <p:cNvPr id="57" name=""/>
            <p:cNvSpPr/>
            <p:nvPr/>
          </p:nvSpPr>
          <p:spPr>
            <a:xfrm>
              <a:off x="172800" y="2049480"/>
              <a:ext cx="457200" cy="25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200000">
              <a:off x="-1245600" y="2815560"/>
              <a:ext cx="31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50dff"/>
                  </a:solidFill>
                  <a:latin typeface="Times New Roman"/>
                </a:rPr>
                <a:t>Altitude above sea level (k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81280" y="1441080"/>
            <a:ext cx="477720" cy="3200760"/>
            <a:chOff x="3581280" y="1441080"/>
            <a:chExt cx="477720" cy="3200760"/>
          </a:xfrm>
        </p:grpSpPr>
        <p:sp>
          <p:nvSpPr>
            <p:cNvPr id="60" name=""/>
            <p:cNvSpPr/>
            <p:nvPr/>
          </p:nvSpPr>
          <p:spPr>
            <a:xfrm>
              <a:off x="3601800" y="2050920"/>
              <a:ext cx="457200" cy="25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6200000">
              <a:off x="2183040" y="2839320"/>
              <a:ext cx="31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50dff"/>
                  </a:solidFill>
                  <a:latin typeface="Times New Roman"/>
                </a:rPr>
                <a:t>Altitude above sea level (k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172200" y="1669680"/>
            <a:ext cx="457200" cy="3195360"/>
            <a:chOff x="6172200" y="1669680"/>
            <a:chExt cx="457200" cy="3195360"/>
          </a:xfrm>
        </p:grpSpPr>
        <p:sp>
          <p:nvSpPr>
            <p:cNvPr id="63" name=""/>
            <p:cNvSpPr/>
            <p:nvPr/>
          </p:nvSpPr>
          <p:spPr>
            <a:xfrm>
              <a:off x="6172200" y="1828800"/>
              <a:ext cx="457200" cy="281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200000">
              <a:off x="4773960" y="3067920"/>
              <a:ext cx="31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50dff"/>
                  </a:solidFill>
                  <a:latin typeface="Times New Roman"/>
                </a:rPr>
                <a:t>Altitude above sea level (k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ass Mixing Ratio of Water Vap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114300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4060800"/>
                <a:tab algn="l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quation of state for water va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5029200"/>
            <a:ext cx="853920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 2.7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0 hPa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013 hPa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00622 kg kg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(0.62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3505320"/>
            <a:ext cx="8458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4060800"/>
                <a:tab algn="l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ss mixing ratio of water vapor (mass-vapor per mass dry a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981080" y="1523880"/>
            <a:ext cx="6553440" cy="847800"/>
            <a:chOff x="1981080" y="1523880"/>
            <a:chExt cx="6553440" cy="847800"/>
          </a:xfrm>
        </p:grpSpPr>
        <p:sp>
          <p:nvSpPr>
            <p:cNvPr id="293" name=""/>
            <p:cNvSpPr/>
            <p:nvPr/>
          </p:nvSpPr>
          <p:spPr>
            <a:xfrm>
              <a:off x="7543800" y="1752480"/>
              <a:ext cx="9907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453960"/>
                  <a:tab algn="l" pos="4060800"/>
                  <a:tab algn="l" pos="4626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Times New Roman"/>
                </a:rPr>
                <a:t>(2.27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94" name=""/>
            <p:cNvGraphicFramePr/>
            <p:nvPr/>
          </p:nvGraphicFramePr>
          <p:xfrm>
            <a:off x="1981080" y="1523880"/>
            <a:ext cx="4707000" cy="847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1523880"/>
                      <a:ext cx="4707000" cy="84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96" name=""/>
          <p:cNvGraphicFramePr/>
          <p:nvPr/>
        </p:nvGraphicFramePr>
        <p:xfrm>
          <a:off x="2133720" y="2438280"/>
          <a:ext cx="4460760" cy="9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438280"/>
                    <a:ext cx="446076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8" name=""/>
          <p:cNvGrpSpPr/>
          <p:nvPr/>
        </p:nvGrpSpPr>
        <p:grpSpPr>
          <a:xfrm>
            <a:off x="1676520" y="3962520"/>
            <a:ext cx="6858000" cy="847440"/>
            <a:chOff x="1676520" y="3962520"/>
            <a:chExt cx="6858000" cy="847440"/>
          </a:xfrm>
        </p:grpSpPr>
        <p:sp>
          <p:nvSpPr>
            <p:cNvPr id="299" name=""/>
            <p:cNvSpPr/>
            <p:nvPr/>
          </p:nvSpPr>
          <p:spPr>
            <a:xfrm>
              <a:off x="7543800" y="4191120"/>
              <a:ext cx="9907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453960"/>
                  <a:tab algn="l" pos="4060800"/>
                  <a:tab algn="l" pos="4626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Times New Roman"/>
                </a:rPr>
                <a:t>(2.3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0" name=""/>
            <p:cNvGraphicFramePr/>
            <p:nvPr/>
          </p:nvGraphicFramePr>
          <p:xfrm>
            <a:off x="1676520" y="3962520"/>
            <a:ext cx="5584680" cy="847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76520" y="3962520"/>
                      <a:ext cx="5584680" cy="84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pecific Humi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1143000"/>
            <a:ext cx="83822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4060800"/>
                <a:tab algn="l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Moist-air mass mixing ratio (mass of vapor per mass moist a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3886200"/>
            <a:ext cx="8539200" cy="20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 2.8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0 hPa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010 h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000 hPa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00618 kg kg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(0.618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33520" y="1676520"/>
            <a:ext cx="8076960" cy="1823760"/>
            <a:chOff x="533520" y="1676520"/>
            <a:chExt cx="8076960" cy="1823760"/>
          </a:xfrm>
        </p:grpSpPr>
        <p:sp>
          <p:nvSpPr>
            <p:cNvPr id="306" name=""/>
            <p:cNvSpPr/>
            <p:nvPr/>
          </p:nvSpPr>
          <p:spPr>
            <a:xfrm>
              <a:off x="7620120" y="1676520"/>
              <a:ext cx="9903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453960"/>
                  <a:tab algn="l" pos="4060800"/>
                  <a:tab algn="l" pos="4626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Times New Roman"/>
                </a:rPr>
                <a:t>(2.3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7" name=""/>
            <p:cNvGraphicFramePr/>
            <p:nvPr/>
          </p:nvGraphicFramePr>
          <p:xfrm>
            <a:off x="533520" y="1828800"/>
            <a:ext cx="7888320" cy="1671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828800"/>
                      <a:ext cx="7888320" cy="167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quation of State for Moist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14300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tal air pressu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2743200"/>
            <a:ext cx="8458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ather term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838080" y="1676520"/>
          <a:ext cx="7194600" cy="84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19460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380880" y="3276720"/>
          <a:ext cx="8236080" cy="9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276720"/>
                    <a:ext cx="823608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380880" y="434340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tal air pressu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66680" y="5973840"/>
          <a:ext cx="7075440" cy="88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5973840"/>
                    <a:ext cx="707544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380880" y="548640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as constant for moist ai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352680" y="4800600"/>
          <a:ext cx="1719360" cy="37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4800600"/>
                    <a:ext cx="171936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quation of State for Moist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2895480"/>
            <a:ext cx="8458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lecular weight of total air less than that of dry ai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3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2743200" y="4952880"/>
          <a:ext cx="2349360" cy="8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952880"/>
                    <a:ext cx="234936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1219320" y="3505320"/>
          <a:ext cx="6197400" cy="94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505320"/>
                    <a:ext cx="6197400" cy="94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838080" y="1676520"/>
          <a:ext cx="7075440" cy="88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1676520"/>
                    <a:ext cx="707544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533520" y="114300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as constant for moist ai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Virtual Temp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24382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irtual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Temperature of dry air having the same density as a sample of moist air at the same pressure as the moist air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533520" y="3962520"/>
          <a:ext cx="7705440" cy="8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962520"/>
                    <a:ext cx="770544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2666880" y="1752480"/>
          <a:ext cx="3016440" cy="41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1752480"/>
                    <a:ext cx="30164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380880" y="1143000"/>
            <a:ext cx="8458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quation of state for moist ai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oist Ai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1143000"/>
            <a:ext cx="853920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 2.9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013 hPa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0 h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98 K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38080" y="4343400"/>
          <a:ext cx="6207120" cy="5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343400"/>
                    <a:ext cx="62071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1905120" y="2514600"/>
          <a:ext cx="4186080" cy="84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514600"/>
                    <a:ext cx="41860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1828800" y="3429000"/>
          <a:ext cx="4433760" cy="84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3429000"/>
                    <a:ext cx="44337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2133720" y="5181480"/>
          <a:ext cx="3957480" cy="47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33720" y="5181480"/>
                    <a:ext cx="39574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2438280" y="5784840"/>
          <a:ext cx="3254400" cy="844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5784840"/>
                    <a:ext cx="325440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Hydrostatic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" y="2895480"/>
            <a:ext cx="8458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se equation to calculate pressure at a given altitu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175248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pward pressure gradient balances downward gravit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99072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Vertical equation of motion in absence of vertical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3200400" y="2286000"/>
          <a:ext cx="1873080" cy="3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286000"/>
                    <a:ext cx="187308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1981080" y="3429000"/>
          <a:ext cx="5091120" cy="4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429000"/>
                    <a:ext cx="50911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604800" y="4038480"/>
            <a:ext cx="8539200" cy="27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 2.10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t sea level,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,k+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013.25 hPa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,k+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.225 kg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k+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9.8072 m 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t 100 m,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,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100m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001.24 h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ir pressure decreases about 1 hPa per 10 m al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ressure Alti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0880" y="4191120"/>
            <a:ext cx="8458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ssume free-tropospheric lapse r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0880" y="175248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bine hydrostatic equation with equation of st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99072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easures pressure at unknown altitude with aneroid bar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971800" y="2133720"/>
          <a:ext cx="2084400" cy="8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133720"/>
                    <a:ext cx="20844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3048120" y="3581280"/>
          <a:ext cx="1901880" cy="41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581280"/>
                    <a:ext cx="19018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380880" y="3048120"/>
            <a:ext cx="8458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ssume constant temperature decrease with altitu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2590920" y="4724280"/>
          <a:ext cx="3198600" cy="76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4724280"/>
                    <a:ext cx="319860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457200" y="5562720"/>
            <a:ext cx="8458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ssume standard atmosphere surface pressure, temperatu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447920" y="6095880"/>
            <a:ext cx="5333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365292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,s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1013.25 hPa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288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ressure Alti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" y="1143000"/>
            <a:ext cx="8001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ate from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,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4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5029200"/>
            <a:ext cx="853920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 2.11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Pressure-altitmeter reading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850 hPa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.45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" y="3048120"/>
            <a:ext cx="7848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rrange for altitude as function of pressu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4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057400" y="1752480"/>
          <a:ext cx="4387680" cy="10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752480"/>
                    <a:ext cx="438768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2133720" y="3352680"/>
          <a:ext cx="3565440" cy="167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352680"/>
                    <a:ext cx="3565440" cy="16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cale He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0880" y="4419720"/>
            <a:ext cx="8458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bine (2.45) with hydrostatic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46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0880" y="182880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nsity of air from equation of st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3520" y="990720"/>
            <a:ext cx="8001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Height above a references height at which pressure decreases to 1/e its value at the reference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3352680"/>
            <a:ext cx="8458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ss of one air molecu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0880" y="5638680"/>
            <a:ext cx="8458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cale heigh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47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57200" y="2286000"/>
          <a:ext cx="780588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6000"/>
                    <a:ext cx="780588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3429000" y="3657600"/>
          <a:ext cx="1243080" cy="76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657600"/>
                    <a:ext cx="124308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2590920" y="4800600"/>
          <a:ext cx="3162240" cy="88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4800600"/>
                    <a:ext cx="31622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3352680" y="6032520"/>
          <a:ext cx="1398600" cy="82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6032520"/>
                    <a:ext cx="13986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oricelli's Experiment With Mercury Bar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43400" y="2057400"/>
            <a:ext cx="4572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643 </a:t>
            </a: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Evangelista Torricelli records the first sustained vacuum and demonstrates that air pressure changes da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eight of fluid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 Air pressure / (fluid density x gra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648 </a:t>
            </a: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Blaise Pascal and brother-in-law Florin Périer demonstrate that air pressure decreases with increasing altitude at Puy-de-Dôme, France</a:t>
            </a:r>
            <a:r>
              <a:rPr b="0" lang="en-US" sz="1600" spc="-1" strike="noStrike">
                <a:solidFill>
                  <a:srgbClr val="9900cc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2879640" cy="4620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94800" y="6324480"/>
            <a:ext cx="61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Times New Roman"/>
              </a:rPr>
              <a:t>Edgar Fahs Smith Collection, University of Pennsylvania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cale Height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80880" y="114300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ate (2.46) at constant pressu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4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2743200" y="1752480"/>
          <a:ext cx="330840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752480"/>
                    <a:ext cx="33084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"/>
          <p:cNvSpPr/>
          <p:nvPr/>
        </p:nvSpPr>
        <p:spPr>
          <a:xfrm>
            <a:off x="380880" y="3581280"/>
            <a:ext cx="8539200" cy="27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 2.12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98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8.72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,ref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013.25 h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ref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 km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903.5 h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0880" y="838080"/>
            <a:ext cx="8534520" cy="57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inetic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Energy within a body due to its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tential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Energy that arises due to an object’s position rather than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avitational potential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Potential energy obtained when an object is raised ver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rnal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Kinetic and/or potential energy of atoms or molecules within a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ork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Energy added to a body by the application of a force that moves the body in the direction of the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Energy transferred by electromagnetic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Latent H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Energy required to change a substance from one state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57080" y="4227480"/>
            <a:ext cx="49233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densation, freezing, de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elease energy --&gt; warm the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vaporation, melting, subl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bsorb energy --&gt; cool the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04920" y="1447920"/>
            <a:ext cx="8281800" cy="2824560"/>
            <a:chOff x="304920" y="1447920"/>
            <a:chExt cx="8281800" cy="2824560"/>
          </a:xfrm>
        </p:grpSpPr>
        <p:sp>
          <p:nvSpPr>
            <p:cNvPr id="405" name=""/>
            <p:cNvSpPr/>
            <p:nvPr/>
          </p:nvSpPr>
          <p:spPr>
            <a:xfrm>
              <a:off x="7086600" y="3886200"/>
              <a:ext cx="11430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453960"/>
                  <a:tab algn="l" pos="68040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Times New Roman"/>
                </a:rPr>
                <a:t>Fig. 2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06" name=""/>
            <p:cNvGraphicFramePr/>
            <p:nvPr/>
          </p:nvGraphicFramePr>
          <p:xfrm>
            <a:off x="304920" y="1447920"/>
            <a:ext cx="8281800" cy="23144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447920"/>
                      <a:ext cx="8281800" cy="231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Latent Heat of Evap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114300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nge of latent heat of evaporation with temperatu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4724280"/>
            <a:ext cx="777240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 2.13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73.15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.5x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J kg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373.15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.3x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J kg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3200400" y="1676520"/>
          <a:ext cx="2303640" cy="76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676520"/>
                    <a:ext cx="230364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2057400" y="2895480"/>
          <a:ext cx="4314960" cy="6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2895480"/>
                    <a:ext cx="431496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457200" y="365760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constants (J kg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2590920" y="4038480"/>
          <a:ext cx="3510000" cy="51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4038480"/>
                    <a:ext cx="35100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"/>
          <p:cNvSpPr/>
          <p:nvPr/>
        </p:nvSpPr>
        <p:spPr>
          <a:xfrm>
            <a:off x="457200" y="243828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pecific Heat of Liquid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391520" y="6095880"/>
            <a:ext cx="15238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Fig. 2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762120" y="1371600"/>
          <a:ext cx="6864120" cy="514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71600"/>
                    <a:ext cx="6864120" cy="51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990720" y="2133720"/>
            <a:ext cx="45720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16200000">
            <a:off x="95400" y="2935080"/>
            <a:ext cx="2274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50dff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50dff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50dff"/>
                </a:solidFill>
                <a:latin typeface="Times New Roman"/>
              </a:rPr>
              <a:t> (J kg </a:t>
            </a:r>
            <a:r>
              <a:rPr b="0" lang="en-US" sz="2800" spc="-1" strike="noStrike" baseline="30000">
                <a:solidFill>
                  <a:srgbClr val="050dff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50dff"/>
                </a:solidFill>
                <a:latin typeface="Times New Roman"/>
              </a:rPr>
              <a:t> K</a:t>
            </a:r>
            <a:r>
              <a:rPr b="0" lang="en-US" sz="2800" spc="-1" strike="noStrike" baseline="30000">
                <a:solidFill>
                  <a:srgbClr val="050dff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50d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Latent Heat of Mel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114300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nge of  latent heat of melting with temperatu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" y="4419720"/>
            <a:ext cx="7772400" cy="23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 2.14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73.15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3.34x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J kg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63.15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3.12x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J kg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" y="274320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ate and substitute constants (J kg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3429000" y="1676520"/>
          <a:ext cx="206532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676520"/>
                    <a:ext cx="20653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1752480" y="3352680"/>
          <a:ext cx="5193000" cy="5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352680"/>
                    <a:ext cx="519300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Latent Heat of Subl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" y="114300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nge of latent heat of sublimation with temperatu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57200" y="274320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ate and substitute constants (J kg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5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3124080" y="1676520"/>
          <a:ext cx="215748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21574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1219320" y="3429000"/>
          <a:ext cx="6489720" cy="53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429000"/>
                    <a:ext cx="64897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lausius-Clapeyron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" y="114300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nge of saturation vapor pressure with temperatu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5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3520" y="251460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nsity of water vapor over particle surface (kg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3200400" y="1523880"/>
          <a:ext cx="2111400" cy="7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3880"/>
                    <a:ext cx="211140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3276720" y="2819520"/>
          <a:ext cx="1544400" cy="88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819520"/>
                    <a:ext cx="154440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533520" y="380988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bine density with Clausius-Clapeyron equa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3048120" y="4343400"/>
          <a:ext cx="2120760" cy="93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4343400"/>
                    <a:ext cx="212076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533520" y="533412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latent heat of evapora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5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2590920" y="5715000"/>
          <a:ext cx="3463920" cy="94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90920" y="5715000"/>
                    <a:ext cx="346392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lausius-Clapeyron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57200" y="114300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289548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constant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1447920" y="1523880"/>
          <a:ext cx="6014880" cy="10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01488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457200" y="3352680"/>
          <a:ext cx="7688160" cy="9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352680"/>
                    <a:ext cx="768816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"/>
          <p:cNvSpPr/>
          <p:nvPr/>
        </p:nvSpPr>
        <p:spPr>
          <a:xfrm>
            <a:off x="457200" y="4419720"/>
            <a:ext cx="7772400" cy="23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 2.15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53.15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v,s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.26 h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98.15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v,s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31.6 h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aturation Vapor Pre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57200" y="114300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mpirical parameteriz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6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28600" y="3276720"/>
            <a:ext cx="4267080" cy="23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035000"/>
                <a:tab algn="l" pos="1488960"/>
                <a:tab algn="l" pos="3652920"/>
                <a:tab algn="l" pos="4060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 2.16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035000"/>
                <a:tab algn="l" pos="1488960"/>
                <a:tab algn="l" pos="3652920"/>
                <a:tab algn="l" pos="4060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-20 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 (253.15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035000"/>
                <a:tab algn="l" pos="1488960"/>
                <a:tab algn="l" pos="3652920"/>
                <a:tab algn="l" pos="4060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v,s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.26 h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035000"/>
                <a:tab algn="l" pos="1488960"/>
                <a:tab algn="l" pos="3652920"/>
                <a:tab algn="l" pos="4060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035000"/>
                <a:tab algn="l" pos="1488960"/>
                <a:tab algn="l" pos="3652920"/>
                <a:tab algn="l" pos="4060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5 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 (298.15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035000"/>
                <a:tab algn="l" pos="1488960"/>
                <a:tab algn="l" pos="3652920"/>
                <a:tab algn="l" pos="4060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v,s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31.67 h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2514600" y="1523880"/>
          <a:ext cx="387504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523880"/>
                    <a:ext cx="38750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6" name=""/>
          <p:cNvGrpSpPr/>
          <p:nvPr/>
        </p:nvGrpSpPr>
        <p:grpSpPr>
          <a:xfrm>
            <a:off x="4648320" y="2666880"/>
            <a:ext cx="4189320" cy="3792600"/>
            <a:chOff x="4648320" y="2666880"/>
            <a:chExt cx="4189320" cy="3792600"/>
          </a:xfrm>
        </p:grpSpPr>
        <p:graphicFrame>
          <p:nvGraphicFramePr>
            <p:cNvPr id="467" name=""/>
            <p:cNvGraphicFramePr/>
            <p:nvPr/>
          </p:nvGraphicFramePr>
          <p:xfrm>
            <a:off x="4724280" y="2666880"/>
            <a:ext cx="4113360" cy="379260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4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2666880"/>
                      <a:ext cx="4113360" cy="379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9" name=""/>
            <p:cNvSpPr/>
            <p:nvPr/>
          </p:nvSpPr>
          <p:spPr>
            <a:xfrm>
              <a:off x="4648320" y="3200400"/>
              <a:ext cx="533160" cy="24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3490920" y="411372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50dff"/>
                  </a:solidFill>
                  <a:latin typeface="Times New Roman"/>
                </a:rPr>
                <a:t>Vapor pressure (hP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urrent Composition of the Atmosp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828800" y="1371600"/>
          <a:ext cx="5610240" cy="50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371600"/>
                    <a:ext cx="5610240" cy="50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7391880" y="61722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aturation Vapor Pressure Over 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14300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nge of saturation vapor pressure with temperatu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6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" y="274320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latent heat of sublimation and integr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048120" y="1600200"/>
          <a:ext cx="2120760" cy="9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00200"/>
                    <a:ext cx="212076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609480" y="3200400"/>
          <a:ext cx="7834320" cy="18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200400"/>
                    <a:ext cx="7834320" cy="18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aturation Vapor Pressure Over 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" y="114300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mpirical parameteriz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6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8600" y="3276720"/>
            <a:ext cx="426708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035000"/>
                <a:tab algn="l" pos="1488960"/>
                <a:tab algn="l" pos="3652920"/>
                <a:tab algn="l" pos="4060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 2.17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035000"/>
                <a:tab algn="l" pos="1488960"/>
                <a:tab algn="l" pos="3652920"/>
                <a:tab algn="l" pos="4060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-20 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 (253.15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035000"/>
                <a:tab algn="l" pos="1488960"/>
                <a:tab algn="l" pos="3652920"/>
                <a:tab algn="l" pos="4060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v,s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.26 h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035000"/>
                <a:tab algn="l" pos="1488960"/>
                <a:tab algn="l" pos="3652920"/>
                <a:tab algn="l" pos="4060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v,I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.04 h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676520" y="1676520"/>
          <a:ext cx="5027400" cy="92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76520"/>
                    <a:ext cx="50274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3" name=""/>
          <p:cNvGrpSpPr/>
          <p:nvPr/>
        </p:nvGrpSpPr>
        <p:grpSpPr>
          <a:xfrm>
            <a:off x="4495680" y="2666880"/>
            <a:ext cx="4113360" cy="3792240"/>
            <a:chOff x="4495680" y="2666880"/>
            <a:chExt cx="4113360" cy="3792240"/>
          </a:xfrm>
        </p:grpSpPr>
        <p:graphicFrame>
          <p:nvGraphicFramePr>
            <p:cNvPr id="484" name=""/>
            <p:cNvGraphicFramePr/>
            <p:nvPr/>
          </p:nvGraphicFramePr>
          <p:xfrm>
            <a:off x="4495680" y="2666880"/>
            <a:ext cx="4113360" cy="37922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48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95680" y="2666880"/>
                      <a:ext cx="4113360" cy="379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6" name=""/>
            <p:cNvSpPr/>
            <p:nvPr/>
          </p:nvSpPr>
          <p:spPr>
            <a:xfrm>
              <a:off x="4495680" y="3213000"/>
              <a:ext cx="533520" cy="24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16200000">
              <a:off x="3338280" y="41212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50dff"/>
                  </a:solidFill>
                  <a:latin typeface="Times New Roman"/>
                </a:rPr>
                <a:t>Vapor pressure (hP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ndensation/Evap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457200" y="1143000"/>
            <a:ext cx="3733920" cy="4672080"/>
            <a:chOff x="457200" y="1143000"/>
            <a:chExt cx="3733920" cy="4672080"/>
          </a:xfrm>
        </p:grpSpPr>
        <p:sp>
          <p:nvSpPr>
            <p:cNvPr id="490" name=""/>
            <p:cNvSpPr/>
            <p:nvPr/>
          </p:nvSpPr>
          <p:spPr>
            <a:xfrm>
              <a:off x="457200" y="1143000"/>
              <a:ext cx="37339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453960"/>
                  <a:tab algn="l" pos="68040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ondensation when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&gt;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v,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91" name=""/>
            <p:cNvGraphicFramePr/>
            <p:nvPr/>
          </p:nvGraphicFramePr>
          <p:xfrm>
            <a:off x="533520" y="1828800"/>
            <a:ext cx="3655800" cy="39862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828800"/>
                      <a:ext cx="3655800" cy="398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93" name=""/>
          <p:cNvSpPr/>
          <p:nvPr/>
        </p:nvSpPr>
        <p:spPr>
          <a:xfrm>
            <a:off x="6934320" y="6248520"/>
            <a:ext cx="1676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Fig. 2.9a,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4648320" y="1219320"/>
            <a:ext cx="3751200" cy="4587840"/>
            <a:chOff x="4648320" y="1219320"/>
            <a:chExt cx="3751200" cy="4587840"/>
          </a:xfrm>
        </p:grpSpPr>
        <p:sp>
          <p:nvSpPr>
            <p:cNvPr id="495" name=""/>
            <p:cNvSpPr/>
            <p:nvPr/>
          </p:nvSpPr>
          <p:spPr>
            <a:xfrm>
              <a:off x="4648320" y="1219320"/>
              <a:ext cx="37335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453960"/>
                  <a:tab algn="l" pos="68040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Evaporation when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&lt;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v,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96" name=""/>
            <p:cNvGraphicFramePr/>
            <p:nvPr/>
          </p:nvGraphicFramePr>
          <p:xfrm>
            <a:off x="5181480" y="1905120"/>
            <a:ext cx="3218040" cy="39020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4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81480" y="1905120"/>
                      <a:ext cx="3218040" cy="390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ormation of Rain in Cold Clouds</a:t>
            </a:r>
            <a:br>
              <a:rPr sz="4000"/>
            </a:br>
            <a:r>
              <a:rPr b="0" lang="en-US" sz="2800" spc="-1" strike="noStrike">
                <a:solidFill>
                  <a:srgbClr val="187534"/>
                </a:solidFill>
                <a:latin typeface="Times New Roman"/>
              </a:rPr>
              <a:t>Ice Crystal (Bergeron)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09480" y="5305320"/>
            <a:ext cx="7543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ver ice is less than that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ver liquid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ater droplets evaporate, vapor flows to ice crys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deal precipitation if 100,000 droplets per ice cry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228600" y="1371600"/>
            <a:ext cx="4324320" cy="3843360"/>
            <a:chOff x="228600" y="1371600"/>
            <a:chExt cx="4324320" cy="3843360"/>
          </a:xfrm>
        </p:grpSpPr>
        <p:pic>
          <p:nvPicPr>
            <p:cNvPr id="501" name="" descr=""/>
            <p:cNvPicPr/>
            <p:nvPr/>
          </p:nvPicPr>
          <p:blipFill>
            <a:blip r:embed="rId1"/>
            <a:stretch/>
          </p:blipFill>
          <p:spPr>
            <a:xfrm>
              <a:off x="228600" y="1371600"/>
              <a:ext cx="4324320" cy="38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380880" y="1828800"/>
              <a:ext cx="45720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6200000">
              <a:off x="-699840" y="266220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Vapor pressure (hP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04" name=""/>
          <p:cNvGraphicFramePr/>
          <p:nvPr/>
        </p:nvGraphicFramePr>
        <p:xfrm>
          <a:off x="4724280" y="1752480"/>
          <a:ext cx="3633840" cy="2719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752480"/>
                    <a:ext cx="363384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Relative Humi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80880" y="4038480"/>
            <a:ext cx="8229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To </a:t>
            </a:r>
            <a:r>
              <a:rPr b="0" i="1" lang="en-US" sz="2400" spc="-1" strike="noStrike">
                <a:solidFill>
                  <a:srgbClr val="9900cc"/>
                </a:solidFill>
                <a:latin typeface="Times New Roman"/>
              </a:rPr>
              <a:t>increase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 relative humid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crease partial pressur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crease temperature, which decrease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v,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To </a:t>
            </a:r>
            <a:r>
              <a:rPr b="0" i="1" lang="en-US" sz="2400" spc="-1" strike="noStrike">
                <a:solidFill>
                  <a:srgbClr val="9900cc"/>
                </a:solidFill>
                <a:latin typeface="Times New Roman"/>
              </a:rPr>
              <a:t>decrease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 relative humid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wer partial pressur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crease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609480" y="1523880"/>
          <a:ext cx="7569360" cy="10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756936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>
            <a:off x="609480" y="114300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tive humidity (percent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6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09480" y="274320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aturation mass mixing rati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2438280" y="3048120"/>
          <a:ext cx="3391200" cy="92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048120"/>
                    <a:ext cx="339120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"/>
          <p:cNvGrpSpPr/>
          <p:nvPr/>
        </p:nvGrpSpPr>
        <p:grpSpPr>
          <a:xfrm>
            <a:off x="3200400" y="1295280"/>
            <a:ext cx="5638680" cy="5334120"/>
            <a:chOff x="3200400" y="1295280"/>
            <a:chExt cx="5638680" cy="5334120"/>
          </a:xfrm>
        </p:grpSpPr>
        <p:pic>
          <p:nvPicPr>
            <p:cNvPr id="515" name="" descr=""/>
            <p:cNvPicPr/>
            <p:nvPr/>
          </p:nvPicPr>
          <p:blipFill>
            <a:blip r:embed="rId1"/>
            <a:stretch/>
          </p:blipFill>
          <p:spPr>
            <a:xfrm>
              <a:off x="3200400" y="1295280"/>
              <a:ext cx="5638680" cy="509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3276360" y="2538360"/>
              <a:ext cx="45720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16200000">
              <a:off x="2195280" y="336600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Vapor pressure (hP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724280" y="6172200"/>
              <a:ext cx="3352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343400" y="6095880"/>
              <a:ext cx="41907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186160" y="6095880"/>
              <a:ext cx="231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emperature (</a:t>
              </a:r>
              <a:r>
                <a:rPr b="0" lang="en-US" sz="2400" spc="-1" strike="noStrike" baseline="30000">
                  <a:solidFill>
                    <a:srgbClr val="0000ff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Relative Humidity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1371600"/>
            <a:ext cx="3657600" cy="17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35°C an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20 h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&gt; fin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v,s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040" y="5181480"/>
            <a:ext cx="3818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100% x 20 hPa / 56.2 h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35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4191120" y="3200400"/>
            <a:ext cx="3429000" cy="533520"/>
            <a:chOff x="4191120" y="3200400"/>
            <a:chExt cx="3429000" cy="533520"/>
          </a:xfrm>
        </p:grpSpPr>
        <p:sp>
          <p:nvSpPr>
            <p:cNvPr id="525" name=""/>
            <p:cNvSpPr/>
            <p:nvPr/>
          </p:nvSpPr>
          <p:spPr>
            <a:xfrm>
              <a:off x="4191120" y="373392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893840" y="3200400"/>
              <a:ext cx="179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v,s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56.2 hP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4191120" y="4648320"/>
            <a:ext cx="3429000" cy="510120"/>
            <a:chOff x="4191120" y="4648320"/>
            <a:chExt cx="3429000" cy="510120"/>
          </a:xfrm>
        </p:grpSpPr>
        <p:sp>
          <p:nvSpPr>
            <p:cNvPr id="528" name=""/>
            <p:cNvSpPr/>
            <p:nvPr/>
          </p:nvSpPr>
          <p:spPr>
            <a:xfrm>
              <a:off x="4191120" y="510552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885200" y="4648320"/>
              <a:ext cx="1454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0 hP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7620120" y="3200040"/>
            <a:ext cx="1263960" cy="2590920"/>
            <a:chOff x="7620120" y="3200040"/>
            <a:chExt cx="1263960" cy="2590920"/>
          </a:xfrm>
        </p:grpSpPr>
        <p:sp>
          <p:nvSpPr>
            <p:cNvPr id="531" name=""/>
            <p:cNvSpPr/>
            <p:nvPr/>
          </p:nvSpPr>
          <p:spPr>
            <a:xfrm flipV="1">
              <a:off x="7620120" y="3200040"/>
              <a:ext cx="0" cy="259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623000" y="4572000"/>
              <a:ext cx="12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T=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35°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3200400" y="1295280"/>
            <a:ext cx="5638680" cy="5334120"/>
            <a:chOff x="3200400" y="1295280"/>
            <a:chExt cx="5638680" cy="5334120"/>
          </a:xfrm>
        </p:grpSpPr>
        <p:pic>
          <p:nvPicPr>
            <p:cNvPr id="534" name="" descr=""/>
            <p:cNvPicPr/>
            <p:nvPr/>
          </p:nvPicPr>
          <p:blipFill>
            <a:blip r:embed="rId1"/>
            <a:stretch/>
          </p:blipFill>
          <p:spPr>
            <a:xfrm>
              <a:off x="3200400" y="1295280"/>
              <a:ext cx="5638680" cy="509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3276360" y="2538360"/>
              <a:ext cx="45720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16200000">
              <a:off x="2195280" y="336132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Vapor pressure (hP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724280" y="6172200"/>
              <a:ext cx="3352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400" y="6095880"/>
              <a:ext cx="41907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86160" y="6095880"/>
              <a:ext cx="231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emperature (</a:t>
              </a:r>
              <a:r>
                <a:rPr b="0" lang="en-US" sz="2400" spc="-1" strike="noStrike" baseline="30000">
                  <a:solidFill>
                    <a:srgbClr val="0000ff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Relative Humidity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2280" y="1828800"/>
            <a:ext cx="3276720" cy="23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24°C an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8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&gt; at what temperature does fog appear upon cooling the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2000" y="5181480"/>
            <a:ext cx="3660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v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80% x 29.6 hPa / 10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23.7 h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4191120" y="4343400"/>
            <a:ext cx="3429000" cy="510120"/>
            <a:chOff x="4191120" y="4343400"/>
            <a:chExt cx="3429000" cy="510120"/>
          </a:xfrm>
        </p:grpSpPr>
        <p:sp>
          <p:nvSpPr>
            <p:cNvPr id="544" name=""/>
            <p:cNvSpPr/>
            <p:nvPr/>
          </p:nvSpPr>
          <p:spPr>
            <a:xfrm>
              <a:off x="4191120" y="480060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665240" y="4343400"/>
              <a:ext cx="179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v,s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9.6 hP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4191120" y="4952880"/>
            <a:ext cx="3429000" cy="510120"/>
            <a:chOff x="4191120" y="4952880"/>
            <a:chExt cx="3429000" cy="510120"/>
          </a:xfrm>
        </p:grpSpPr>
        <p:sp>
          <p:nvSpPr>
            <p:cNvPr id="547" name=""/>
            <p:cNvSpPr/>
            <p:nvPr/>
          </p:nvSpPr>
          <p:spPr>
            <a:xfrm>
              <a:off x="4191120" y="495288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75360" y="4952880"/>
              <a:ext cx="1683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3.7 hP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6858000" y="3200040"/>
            <a:ext cx="1263960" cy="2590920"/>
            <a:chOff x="6858000" y="3200040"/>
            <a:chExt cx="1263960" cy="2590920"/>
          </a:xfrm>
        </p:grpSpPr>
        <p:sp>
          <p:nvSpPr>
            <p:cNvPr id="550" name=""/>
            <p:cNvSpPr/>
            <p:nvPr/>
          </p:nvSpPr>
          <p:spPr>
            <a:xfrm flipV="1">
              <a:off x="6858000" y="3200040"/>
              <a:ext cx="0" cy="259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860880" y="5181480"/>
              <a:ext cx="12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T=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4°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5412960" y="3200040"/>
            <a:ext cx="1292760" cy="2590920"/>
            <a:chOff x="5412960" y="3200040"/>
            <a:chExt cx="1292760" cy="2590920"/>
          </a:xfrm>
        </p:grpSpPr>
        <p:sp>
          <p:nvSpPr>
            <p:cNvPr id="553" name=""/>
            <p:cNvSpPr/>
            <p:nvPr/>
          </p:nvSpPr>
          <p:spPr>
            <a:xfrm flipV="1">
              <a:off x="6705720" y="3200040"/>
              <a:ext cx="0" cy="259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412960" y="3581280"/>
              <a:ext cx="12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T=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0°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ew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" y="198108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w point (K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6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388620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mbient water vapor mixing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Temperature to which air must be cooled at constant water vapor partial pressure to be saturated over a liquid water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609480" y="2666880"/>
          <a:ext cx="801684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666880"/>
                    <a:ext cx="80168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1" name=""/>
          <p:cNvGraphicFramePr/>
          <p:nvPr/>
        </p:nvGraphicFramePr>
        <p:xfrm>
          <a:off x="3886200" y="4343400"/>
          <a:ext cx="1352520" cy="84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4343400"/>
                    <a:ext cx="135252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"/>
          <p:cNvSpPr/>
          <p:nvPr/>
        </p:nvSpPr>
        <p:spPr>
          <a:xfrm>
            <a:off x="533520" y="5181480"/>
            <a:ext cx="426708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035000"/>
                <a:tab algn="l" pos="1488960"/>
                <a:tab algn="l" pos="3652920"/>
                <a:tab algn="l" pos="4060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 2.17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035000"/>
                <a:tab algn="l" pos="1488960"/>
                <a:tab algn="l" pos="3652920"/>
                <a:tab algn="l" pos="4060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2 h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035000"/>
                <a:tab algn="l" pos="1488960"/>
                <a:tab algn="l" pos="3652920"/>
                <a:tab algn="l" pos="4060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82.8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743200" y="1143000"/>
            <a:ext cx="5638680" cy="5334120"/>
            <a:chOff x="2743200" y="1143000"/>
            <a:chExt cx="5638680" cy="5334120"/>
          </a:xfrm>
        </p:grpSpPr>
        <p:pic>
          <p:nvPicPr>
            <p:cNvPr id="565" name="" descr=""/>
            <p:cNvPicPr/>
            <p:nvPr/>
          </p:nvPicPr>
          <p:blipFill>
            <a:blip r:embed="rId1"/>
            <a:stretch/>
          </p:blipFill>
          <p:spPr>
            <a:xfrm>
              <a:off x="2743200" y="1143000"/>
              <a:ext cx="5638680" cy="509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2819160" y="2386080"/>
              <a:ext cx="45720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6200000">
              <a:off x="1738080" y="320364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Vapor pressure (hP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67080" y="6019920"/>
              <a:ext cx="3352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86200" y="5943600"/>
              <a:ext cx="41907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28960" y="5943600"/>
              <a:ext cx="231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emperature (</a:t>
              </a:r>
              <a:r>
                <a:rPr b="0" lang="en-US" sz="2400" spc="-1" strike="noStrike" baseline="30000">
                  <a:solidFill>
                    <a:srgbClr val="0000ff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ew Point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733920" y="4495680"/>
            <a:ext cx="4343400" cy="510120"/>
            <a:chOff x="3733920" y="4495680"/>
            <a:chExt cx="4343400" cy="510120"/>
          </a:xfrm>
        </p:grpSpPr>
        <p:sp>
          <p:nvSpPr>
            <p:cNvPr id="573" name=""/>
            <p:cNvSpPr/>
            <p:nvPr/>
          </p:nvSpPr>
          <p:spPr>
            <a:xfrm>
              <a:off x="3733920" y="4952880"/>
              <a:ext cx="4343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75720" y="4495680"/>
              <a:ext cx="1454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0 hP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6858000" y="4114440"/>
            <a:ext cx="351720" cy="1523880"/>
            <a:chOff x="6858000" y="4114440"/>
            <a:chExt cx="351720" cy="1523880"/>
          </a:xfrm>
        </p:grpSpPr>
        <p:sp>
          <p:nvSpPr>
            <p:cNvPr id="576" name=""/>
            <p:cNvSpPr/>
            <p:nvPr/>
          </p:nvSpPr>
          <p:spPr>
            <a:xfrm flipV="1">
              <a:off x="6858000" y="4114440"/>
              <a:ext cx="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859800" y="510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6095880" y="4952520"/>
            <a:ext cx="488880" cy="685800"/>
            <a:chOff x="6095880" y="4952520"/>
            <a:chExt cx="488880" cy="685800"/>
          </a:xfrm>
        </p:grpSpPr>
        <p:sp>
          <p:nvSpPr>
            <p:cNvPr id="579" name=""/>
            <p:cNvSpPr/>
            <p:nvPr/>
          </p:nvSpPr>
          <p:spPr>
            <a:xfrm>
              <a:off x="6106680" y="510552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6095880" y="49525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0" y="2438280"/>
            <a:ext cx="3429000" cy="13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30°C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20 hPa --&gt; fin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3124080" y="1295280"/>
            <a:ext cx="5638680" cy="5334120"/>
            <a:chOff x="3124080" y="1295280"/>
            <a:chExt cx="5638680" cy="5334120"/>
          </a:xfrm>
        </p:grpSpPr>
        <p:pic>
          <p:nvPicPr>
            <p:cNvPr id="583" name="" descr=""/>
            <p:cNvPicPr/>
            <p:nvPr/>
          </p:nvPicPr>
          <p:blipFill>
            <a:blip r:embed="rId1"/>
            <a:stretch/>
          </p:blipFill>
          <p:spPr>
            <a:xfrm>
              <a:off x="3124080" y="1295280"/>
              <a:ext cx="5638680" cy="509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3200040" y="2538360"/>
              <a:ext cx="45720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16200000">
              <a:off x="2118960" y="335592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Vapor pressure (hP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647960" y="6172200"/>
              <a:ext cx="3352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67080" y="6095880"/>
              <a:ext cx="41907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109840" y="6095880"/>
              <a:ext cx="231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emperature (</a:t>
              </a:r>
              <a:r>
                <a:rPr b="0" lang="en-US" sz="2400" spc="-1" strike="noStrike" baseline="30000">
                  <a:solidFill>
                    <a:srgbClr val="0000ff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ew Point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52280" y="1752480"/>
            <a:ext cx="3276720" cy="17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16°C an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8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&gt; fin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v,s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83240" y="5181480"/>
            <a:ext cx="2487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v,s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= 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100%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/ f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1.3h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4191120" y="4572000"/>
            <a:ext cx="3429000" cy="510120"/>
            <a:chOff x="4191120" y="4572000"/>
            <a:chExt cx="3429000" cy="510120"/>
          </a:xfrm>
        </p:grpSpPr>
        <p:sp>
          <p:nvSpPr>
            <p:cNvPr id="593" name=""/>
            <p:cNvSpPr/>
            <p:nvPr/>
          </p:nvSpPr>
          <p:spPr>
            <a:xfrm>
              <a:off x="4436640" y="4572000"/>
              <a:ext cx="179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v,s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1.3 hP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191120" y="502920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191120" y="5105520"/>
            <a:ext cx="3429000" cy="510120"/>
            <a:chOff x="4191120" y="5105520"/>
            <a:chExt cx="3429000" cy="510120"/>
          </a:xfrm>
        </p:grpSpPr>
        <p:sp>
          <p:nvSpPr>
            <p:cNvPr id="596" name=""/>
            <p:cNvSpPr/>
            <p:nvPr/>
          </p:nvSpPr>
          <p:spPr>
            <a:xfrm>
              <a:off x="4191120" y="518148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428000" y="5105520"/>
              <a:ext cx="1683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7.7 hP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6400800" y="3200040"/>
            <a:ext cx="488880" cy="2590920"/>
            <a:chOff x="6400800" y="3200040"/>
            <a:chExt cx="488880" cy="2590920"/>
          </a:xfrm>
        </p:grpSpPr>
        <p:sp>
          <p:nvSpPr>
            <p:cNvPr id="599" name=""/>
            <p:cNvSpPr/>
            <p:nvPr/>
          </p:nvSpPr>
          <p:spPr>
            <a:xfrm flipV="1">
              <a:off x="6400800" y="3200040"/>
              <a:ext cx="0" cy="259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11600" y="358128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371600" y="1523880"/>
          <a:ext cx="6581880" cy="452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65818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arbon Dioxide Mixing Rat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1981080"/>
            <a:ext cx="533520" cy="312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-299880" y="3321360"/>
            <a:ext cx="389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0dff"/>
                </a:solidFill>
                <a:latin typeface="Times New Roman"/>
              </a:rPr>
              <a:t>Carbon dioxide mixing ratio (ppm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92960" y="617220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orning/Afternoon Temperature/Dew Point at Riverside, Cali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4495680" y="1523880"/>
            <a:ext cx="3732120" cy="4322880"/>
            <a:chOff x="4495680" y="1523880"/>
            <a:chExt cx="3732120" cy="4322880"/>
          </a:xfrm>
        </p:grpSpPr>
        <p:pic>
          <p:nvPicPr>
            <p:cNvPr id="603" name="" descr=""/>
            <p:cNvPicPr/>
            <p:nvPr/>
          </p:nvPicPr>
          <p:blipFill>
            <a:blip r:embed="rId1"/>
            <a:stretch/>
          </p:blipFill>
          <p:spPr>
            <a:xfrm>
              <a:off x="4800600" y="1523880"/>
              <a:ext cx="3427200" cy="43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4495680" y="2743200"/>
              <a:ext cx="60948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6200000">
              <a:off x="3668040" y="3249720"/>
              <a:ext cx="24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Air pressure (hP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762120" y="1523880"/>
            <a:ext cx="3732120" cy="4322520"/>
            <a:chOff x="762120" y="1523880"/>
            <a:chExt cx="3732120" cy="4322520"/>
          </a:xfrm>
        </p:grpSpPr>
        <p:pic>
          <p:nvPicPr>
            <p:cNvPr id="607" name="" descr=""/>
            <p:cNvPicPr/>
            <p:nvPr/>
          </p:nvPicPr>
          <p:blipFill>
            <a:blip r:embed="rId2"/>
            <a:stretch/>
          </p:blipFill>
          <p:spPr>
            <a:xfrm>
              <a:off x="1066680" y="1523880"/>
              <a:ext cx="3427560" cy="43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762120" y="2820600"/>
              <a:ext cx="609480" cy="152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6200000">
              <a:off x="-66600" y="3348000"/>
              <a:ext cx="24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Air pressure (hP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6934320" y="6248520"/>
            <a:ext cx="1981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Figs. 2.11a,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First Law of Thermodyna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33520" y="114300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rst law for atmosphe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6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762120" y="1828800"/>
          <a:ext cx="243972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24397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"/>
          <p:cNvSpPr/>
          <p:nvPr/>
        </p:nvSpPr>
        <p:spPr>
          <a:xfrm>
            <a:off x="609480" y="2514600"/>
            <a:ext cx="800100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dQ* = change in energy (J) due to energy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dU* = change in internal energy (J) of the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dW* = work done by (+) or on (-) the air (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9480" y="380988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rst law in terms of energy per unit mas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762120" y="4419720"/>
          <a:ext cx="2038320" cy="35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419720"/>
                    <a:ext cx="203832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762120" y="5105520"/>
          <a:ext cx="1444680" cy="94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105520"/>
                    <a:ext cx="144468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3581280" y="5105520"/>
          <a:ext cx="1444680" cy="942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5105520"/>
                    <a:ext cx="144468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6400800" y="5105520"/>
          <a:ext cx="1563840" cy="93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5105520"/>
                    <a:ext cx="156384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"/>
          <p:cNvSpPr/>
          <p:nvPr/>
        </p:nvSpPr>
        <p:spPr>
          <a:xfrm>
            <a:off x="609480" y="6172200"/>
            <a:ext cx="8001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mass of air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hange in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80880" y="114300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ork done by air during expansion (dV&gt;0) or contraction of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57200" y="243828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ork done per unit mass of ai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533520" y="1676520"/>
          <a:ext cx="181908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18190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533520" y="2971800"/>
          <a:ext cx="3894120" cy="94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971800"/>
                    <a:ext cx="389412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"/>
          <p:cNvSpPr/>
          <p:nvPr/>
        </p:nvSpPr>
        <p:spPr>
          <a:xfrm>
            <a:off x="457200" y="403848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pecific volume of ai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7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533520" y="4572000"/>
          <a:ext cx="2084400" cy="8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572000"/>
                    <a:ext cx="20844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hange in Internal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04920" y="213372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nge in internal energ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7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80880" y="4724280"/>
            <a:ext cx="8001000" cy="10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&gt;Specific heat moist air at const. volume (J kg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7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Change in energy required to change temperature of 1 kg air 1K at constant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80880" y="9144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hange in temperature of the gas multiplied by the energy required to change the temperature 1 K, without affecting the work done by or on the gas and without changing its vol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80880" y="350532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servation of energ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2209680" y="2590920"/>
          <a:ext cx="362916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90920"/>
                    <a:ext cx="362916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533520" y="5791320"/>
          <a:ext cx="775152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5791320"/>
                    <a:ext cx="77515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"/>
          <p:cNvGraphicFramePr/>
          <p:nvPr/>
        </p:nvGraphicFramePr>
        <p:xfrm>
          <a:off x="1905120" y="3962520"/>
          <a:ext cx="505440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3962520"/>
                    <a:ext cx="50544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ifferent Forms of First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57200" y="114300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rst law of thermodynamic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7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243828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quation of state for moist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57200" y="403848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fferentiate equation of stat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2895480" y="1752480"/>
          <a:ext cx="2952720" cy="4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752480"/>
                    <a:ext cx="295272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3" name=""/>
          <p:cNvGraphicFramePr/>
          <p:nvPr/>
        </p:nvGraphicFramePr>
        <p:xfrm>
          <a:off x="3429000" y="3200400"/>
          <a:ext cx="1782720" cy="37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200400"/>
                    <a:ext cx="178272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2819520" y="4648320"/>
          <a:ext cx="3254400" cy="37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4648320"/>
                    <a:ext cx="32544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457200" y="5257800"/>
            <a:ext cx="8001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bine (2.77) and (2.78) an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p,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v,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7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2743200" y="5943600"/>
          <a:ext cx="304308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943600"/>
                    <a:ext cx="304308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ifferent Forms of First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57200" y="1143000"/>
            <a:ext cx="8001000" cy="10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pecific heat of moist air at const. pressure (J kg 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nergy required to increase the temperature of 1 kg of air 1K without affecting ai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33520" y="380988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irtual temperatu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609480" y="4343400"/>
          <a:ext cx="260532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343400"/>
                    <a:ext cx="26053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"/>
          <p:cNvGraphicFramePr/>
          <p:nvPr/>
        </p:nvGraphicFramePr>
        <p:xfrm>
          <a:off x="685800" y="5410080"/>
          <a:ext cx="3043080" cy="4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5410080"/>
                    <a:ext cx="304308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609480" y="2286000"/>
          <a:ext cx="7194600" cy="94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2286000"/>
                    <a:ext cx="719460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9" name=""/>
          <p:cNvGraphicFramePr/>
          <p:nvPr/>
        </p:nvGraphicFramePr>
        <p:xfrm>
          <a:off x="2819520" y="3352680"/>
          <a:ext cx="2678040" cy="51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19520" y="3352680"/>
                    <a:ext cx="26780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"/>
          <p:cNvSpPr/>
          <p:nvPr/>
        </p:nvSpPr>
        <p:spPr>
          <a:xfrm>
            <a:off x="533520" y="487692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rst law in terms of virtual temperatu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8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1143000" y="6010200"/>
          <a:ext cx="6599160" cy="84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6010200"/>
                    <a:ext cx="65991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ifferent Forms of First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57200" y="1143000"/>
            <a:ext cx="8001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obaric process (d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0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8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57200" y="243828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othermal process (d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0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57200" y="4038480"/>
            <a:ext cx="8001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ochoric process (d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0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57200" y="525780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diabatic process (dQ=0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2666880" y="1600200"/>
          <a:ext cx="3300480" cy="9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00200"/>
                    <a:ext cx="330048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2438280" y="3276720"/>
          <a:ext cx="3884760" cy="37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276720"/>
                    <a:ext cx="388476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3352680" y="4724280"/>
          <a:ext cx="246852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4724280"/>
                    <a:ext cx="2468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457200" y="6019920"/>
          <a:ext cx="2449440" cy="41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6019920"/>
                    <a:ext cx="244944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"/>
          <p:cNvGraphicFramePr/>
          <p:nvPr/>
        </p:nvGraphicFramePr>
        <p:xfrm>
          <a:off x="3352680" y="6019920"/>
          <a:ext cx="2330640" cy="45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52680" y="6019920"/>
                    <a:ext cx="23306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9" name=""/>
          <p:cNvGraphicFramePr/>
          <p:nvPr/>
        </p:nvGraphicFramePr>
        <p:xfrm>
          <a:off x="6172200" y="5943600"/>
          <a:ext cx="2359080" cy="458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943600"/>
                    <a:ext cx="235908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Adiabatic/Diabatic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4343400" y="2133720"/>
            <a:ext cx="4495680" cy="3352680"/>
            <a:chOff x="4343400" y="2133720"/>
            <a:chExt cx="4495680" cy="3352680"/>
          </a:xfrm>
        </p:grpSpPr>
        <p:sp>
          <p:nvSpPr>
            <p:cNvPr id="693" name=""/>
            <p:cNvSpPr/>
            <p:nvPr/>
          </p:nvSpPr>
          <p:spPr>
            <a:xfrm>
              <a:off x="4343400" y="2133720"/>
              <a:ext cx="4495680" cy="3352680"/>
            </a:xfrm>
            <a:custGeom>
              <a:avLst/>
              <a:gdLst/>
              <a:ahLst/>
              <a:rect l="l" t="t" r="r" b="b"/>
              <a:pathLst>
                <a:path w="2832" h="2112">
                  <a:moveTo>
                    <a:pt x="0" y="1200"/>
                  </a:moveTo>
                  <a:lnTo>
                    <a:pt x="336" y="1824"/>
                  </a:lnTo>
                  <a:lnTo>
                    <a:pt x="1104" y="2112"/>
                  </a:lnTo>
                  <a:lnTo>
                    <a:pt x="1920" y="2112"/>
                  </a:lnTo>
                  <a:lnTo>
                    <a:pt x="2592" y="1680"/>
                  </a:lnTo>
                  <a:lnTo>
                    <a:pt x="2832" y="864"/>
                  </a:lnTo>
                  <a:lnTo>
                    <a:pt x="2208" y="336"/>
                  </a:lnTo>
                  <a:lnTo>
                    <a:pt x="1344" y="0"/>
                  </a:lnTo>
                  <a:lnTo>
                    <a:pt x="864" y="288"/>
                  </a:lnTo>
                  <a:lnTo>
                    <a:pt x="192" y="432"/>
                  </a:lnTo>
                  <a:lnTo>
                    <a:pt x="144" y="72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715000" y="3048120"/>
              <a:ext cx="1447920" cy="1371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945400" y="3276720"/>
              <a:ext cx="106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Parce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of ai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644800" y="4648320"/>
              <a:ext cx="1918080" cy="520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Atmosp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228600" y="914400"/>
            <a:ext cx="449568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diabatic process (dQ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Process by which no energy is exchanged between a system (parcel of air) and its surroundings (atmosphere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28600" y="4572000"/>
            <a:ext cx="44197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abatic processes (dQ&gt;0 or &lt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ondensation/eva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Deposition/subl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Freezing me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adiative heating/c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3733920" y="1523880"/>
            <a:ext cx="480060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. Rising air exp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. Expanding air c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ising air c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nsaturated air cools +9.8 K per 1 km rise in al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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ry adiabatic lapse rate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 +9.8 K/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ry adiabatic Expansion in Rising 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828800" y="4648320"/>
            <a:ext cx="1189080" cy="11890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988280" y="5029200"/>
            <a:ext cx="9334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88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676520" y="1523880"/>
            <a:ext cx="1508040" cy="15084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836000" y="2057400"/>
            <a:ext cx="1162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78.2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438280" y="3124080"/>
            <a:ext cx="0" cy="13716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143000" y="2286000"/>
            <a:ext cx="0" cy="2895480"/>
          </a:xfrm>
          <a:prstGeom prst="line">
            <a:avLst/>
          </a:prstGeom>
          <a:ln w="284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38080" y="2286000"/>
            <a:ext cx="60984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838080" y="5181480"/>
            <a:ext cx="60984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30400" y="3429000"/>
            <a:ext cx="9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1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tability in Terms of Temp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5639040" cy="5410080"/>
          </a:xfrm>
          <a:prstGeom prst="rect">
            <a:avLst/>
          </a:prstGeom>
          <a:ln w="0">
            <a:noFill/>
          </a:ln>
        </p:spPr>
      </p:pic>
      <p:grpSp>
        <p:nvGrpSpPr>
          <p:cNvPr id="712" name=""/>
          <p:cNvGrpSpPr/>
          <p:nvPr/>
        </p:nvGrpSpPr>
        <p:grpSpPr>
          <a:xfrm>
            <a:off x="1295280" y="2133720"/>
            <a:ext cx="7620120" cy="1922760"/>
            <a:chOff x="1295280" y="2133720"/>
            <a:chExt cx="7620120" cy="1922760"/>
          </a:xfrm>
        </p:grpSpPr>
        <p:sp>
          <p:nvSpPr>
            <p:cNvPr id="713" name=""/>
            <p:cNvSpPr/>
            <p:nvPr/>
          </p:nvSpPr>
          <p:spPr>
            <a:xfrm>
              <a:off x="1295280" y="3182760"/>
              <a:ext cx="4572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019920" y="2133720"/>
              <a:ext cx="28954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ompare parcel temperature with environmental temperature to determine sta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429000" y="3200400"/>
            <a:ext cx="1371600" cy="2514600"/>
            <a:chOff x="3429000" y="3200400"/>
            <a:chExt cx="1371600" cy="2514600"/>
          </a:xfrm>
        </p:grpSpPr>
        <p:sp>
          <p:nvSpPr>
            <p:cNvPr id="716" name=""/>
            <p:cNvSpPr/>
            <p:nvPr/>
          </p:nvSpPr>
          <p:spPr>
            <a:xfrm>
              <a:off x="3429000" y="3200400"/>
              <a:ext cx="0" cy="2514600"/>
            </a:xfrm>
            <a:prstGeom prst="line">
              <a:avLst/>
            </a:prstGeom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800600" y="3200400"/>
              <a:ext cx="0" cy="2514600"/>
            </a:xfrm>
            <a:prstGeom prst="line">
              <a:avLst/>
            </a:prstGeom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429000" y="3200400"/>
              <a:ext cx="457200" cy="9144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2895480" y="2362320"/>
            <a:ext cx="533520" cy="3352680"/>
            <a:chOff x="2895480" y="2362320"/>
            <a:chExt cx="533520" cy="3352680"/>
          </a:xfrm>
        </p:grpSpPr>
        <p:sp>
          <p:nvSpPr>
            <p:cNvPr id="720" name=""/>
            <p:cNvSpPr/>
            <p:nvPr/>
          </p:nvSpPr>
          <p:spPr>
            <a:xfrm>
              <a:off x="2895480" y="3200400"/>
              <a:ext cx="0" cy="2514600"/>
            </a:xfrm>
            <a:prstGeom prst="line">
              <a:avLst/>
            </a:prstGeom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429000" y="3200400"/>
              <a:ext cx="0" cy="2514600"/>
            </a:xfrm>
            <a:prstGeom prst="line">
              <a:avLst/>
            </a:prstGeom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 flipV="1">
              <a:off x="3048120" y="2362320"/>
              <a:ext cx="380880" cy="83808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1295280" y="2666880"/>
            <a:ext cx="1295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666880"/>
            <a:ext cx="10666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162920" y="6019920"/>
            <a:ext cx="15238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Fig. 2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om average thermal speed of an air molecule (m/s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.3,2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efinitions of Temp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7360" y="2666880"/>
            <a:ext cx="64990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Boltzmann’s constant (kg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K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Absolute temperature (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mass of a single air molecule (kg molec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.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76520"/>
          <a:ext cx="171936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171936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962520" y="1676520"/>
          <a:ext cx="213840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1676520"/>
                    <a:ext cx="21384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6" name=""/>
          <p:cNvGrpSpPr/>
          <p:nvPr/>
        </p:nvGrpSpPr>
        <p:grpSpPr>
          <a:xfrm>
            <a:off x="457200" y="4419720"/>
            <a:ext cx="6024600" cy="849240"/>
            <a:chOff x="457200" y="4419720"/>
            <a:chExt cx="6024600" cy="849240"/>
          </a:xfrm>
        </p:grpSpPr>
        <p:graphicFrame>
          <p:nvGraphicFramePr>
            <p:cNvPr id="87" name=""/>
            <p:cNvGraphicFramePr/>
            <p:nvPr/>
          </p:nvGraphicFramePr>
          <p:xfrm>
            <a:off x="457200" y="4419720"/>
            <a:ext cx="2011320" cy="849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" y="4419720"/>
                      <a:ext cx="201132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" name=""/>
            <p:cNvGraphicFramePr/>
            <p:nvPr/>
          </p:nvGraphicFramePr>
          <p:xfrm>
            <a:off x="4114800" y="4495680"/>
            <a:ext cx="2367000" cy="768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14800" y="4495680"/>
                      <a:ext cx="2367000" cy="7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1" name=""/>
          <p:cNvGrpSpPr/>
          <p:nvPr/>
        </p:nvGrpSpPr>
        <p:grpSpPr>
          <a:xfrm>
            <a:off x="533520" y="5791320"/>
            <a:ext cx="5522760" cy="844560"/>
            <a:chOff x="533520" y="5791320"/>
            <a:chExt cx="5522760" cy="844560"/>
          </a:xfrm>
        </p:grpSpPr>
        <p:graphicFrame>
          <p:nvGraphicFramePr>
            <p:cNvPr id="92" name=""/>
            <p:cNvGraphicFramePr/>
            <p:nvPr/>
          </p:nvGraphicFramePr>
          <p:xfrm>
            <a:off x="533520" y="5791320"/>
            <a:ext cx="1782720" cy="844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3520" y="5791320"/>
                      <a:ext cx="1782720" cy="8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4" name=""/>
            <p:cNvGraphicFramePr/>
            <p:nvPr/>
          </p:nvGraphicFramePr>
          <p:xfrm>
            <a:off x="4191120" y="5791320"/>
            <a:ext cx="1865160" cy="771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191120" y="5791320"/>
                      <a:ext cx="1865160" cy="77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6" name=""/>
          <p:cNvSpPr/>
          <p:nvPr/>
        </p:nvSpPr>
        <p:spPr>
          <a:xfrm>
            <a:off x="380880" y="403848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om root-mean-squar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525780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om most probabl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ry Adiabatic Lapse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57200" y="91440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write first law for adiabatic proces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57200" y="1981080"/>
            <a:ext cx="80010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fferentiate with respect to altitu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 Dry adiabatic lapse rate in terms of virtual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57200" y="4952880"/>
            <a:ext cx="80010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fferentiate with respect to altitu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 Dry adiabatic lapse rate in terms of actual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1219320" y="5562720"/>
          <a:ext cx="6819840" cy="108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562720"/>
                    <a:ext cx="681984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2" name=""/>
          <p:cNvSpPr/>
          <p:nvPr/>
        </p:nvSpPr>
        <p:spPr>
          <a:xfrm>
            <a:off x="457200" y="396252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write first law for adiabatic proces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2057400" y="4343400"/>
          <a:ext cx="535608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4343400"/>
                    <a:ext cx="53560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5" name=""/>
          <p:cNvGraphicFramePr/>
          <p:nvPr/>
        </p:nvGraphicFramePr>
        <p:xfrm>
          <a:off x="1981080" y="1295280"/>
          <a:ext cx="5475240" cy="61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1295280"/>
                    <a:ext cx="547524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"/>
          <p:cNvGraphicFramePr/>
          <p:nvPr/>
        </p:nvGraphicFramePr>
        <p:xfrm>
          <a:off x="380880" y="2743200"/>
          <a:ext cx="8355240" cy="1084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2743200"/>
                    <a:ext cx="835524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otential Temp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04920" y="99072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9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1" name=""/>
          <p:cNvGraphicFramePr/>
          <p:nvPr/>
        </p:nvGraphicFramePr>
        <p:xfrm>
          <a:off x="609480" y="3429000"/>
          <a:ext cx="769644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429000"/>
                    <a:ext cx="769644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3" name=""/>
          <p:cNvGraphicFramePr/>
          <p:nvPr/>
        </p:nvGraphicFramePr>
        <p:xfrm>
          <a:off x="2286000" y="5562720"/>
          <a:ext cx="420516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5562720"/>
                    <a:ext cx="420516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5" name=""/>
          <p:cNvGraphicFramePr/>
          <p:nvPr/>
        </p:nvGraphicFramePr>
        <p:xfrm>
          <a:off x="762120" y="1523880"/>
          <a:ext cx="7431120" cy="108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1523880"/>
                    <a:ext cx="743112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7" name=""/>
          <p:cNvSpPr/>
          <p:nvPr/>
        </p:nvSpPr>
        <p:spPr>
          <a:xfrm>
            <a:off x="380880" y="281952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80880" y="495288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onential ter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otential Temp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04920" y="990720"/>
            <a:ext cx="800100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tential temperature of moist air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p,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ssume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,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1000 hPa --&gt;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p,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380880" y="1981080"/>
          <a:ext cx="8428320" cy="12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42832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"/>
          <p:cNvGraphicFramePr/>
          <p:nvPr/>
        </p:nvGraphicFramePr>
        <p:xfrm>
          <a:off x="2743200" y="3809880"/>
          <a:ext cx="2778120" cy="108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3809880"/>
                    <a:ext cx="277812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"/>
          <p:cNvSpPr/>
          <p:nvPr/>
        </p:nvSpPr>
        <p:spPr>
          <a:xfrm>
            <a:off x="380880" y="3505320"/>
            <a:ext cx="8001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tential temperature of dry air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80880" y="5029200"/>
            <a:ext cx="853920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 2.21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800 hPa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70 K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87.8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emperature vs. Potential Temp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533520" y="1600200"/>
            <a:ext cx="3732120" cy="4322880"/>
            <a:chOff x="533520" y="1600200"/>
            <a:chExt cx="3732120" cy="4322880"/>
          </a:xfrm>
        </p:grpSpPr>
        <p:pic>
          <p:nvPicPr>
            <p:cNvPr id="759" name="" descr=""/>
            <p:cNvPicPr/>
            <p:nvPr/>
          </p:nvPicPr>
          <p:blipFill>
            <a:blip r:embed="rId1"/>
            <a:stretch/>
          </p:blipFill>
          <p:spPr>
            <a:xfrm>
              <a:off x="838080" y="1600200"/>
              <a:ext cx="3427560" cy="43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533520" y="2897280"/>
              <a:ext cx="60948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6200000">
              <a:off x="-295200" y="3400560"/>
              <a:ext cx="24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Air pressure (hP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4268880" y="1600200"/>
            <a:ext cx="3730680" cy="4322880"/>
            <a:chOff x="4268880" y="1600200"/>
            <a:chExt cx="3730680" cy="4322880"/>
          </a:xfrm>
        </p:grpSpPr>
        <p:graphicFrame>
          <p:nvGraphicFramePr>
            <p:cNvPr id="763" name=""/>
            <p:cNvGraphicFramePr/>
            <p:nvPr/>
          </p:nvGraphicFramePr>
          <p:xfrm>
            <a:off x="4572000" y="1600200"/>
            <a:ext cx="3427560" cy="432288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7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0" y="1600200"/>
                      <a:ext cx="3427560" cy="432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5" name=""/>
            <p:cNvSpPr/>
            <p:nvPr/>
          </p:nvSpPr>
          <p:spPr>
            <a:xfrm>
              <a:off x="4268880" y="2894040"/>
              <a:ext cx="60948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16200000">
              <a:off x="3439800" y="3395880"/>
              <a:ext cx="24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Air pressure (hP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6248520" y="6095880"/>
            <a:ext cx="2361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Figs. 2.11a, 2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otential Virtual Temp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80880" y="1143000"/>
            <a:ext cx="800100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tential virtual temperature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Found by converting all moisture in a parcel to dry air, then bringing the parcel to 1000 hPa and determining its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33520" y="3886200"/>
            <a:ext cx="800100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irtual potential temperature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p,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Found by bringing a parcel to 1000 hPa, then converting all moisture to dry air and determining the parcel's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990720" y="2286000"/>
          <a:ext cx="6864120" cy="108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0"/>
                    <a:ext cx="686412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3" name=""/>
          <p:cNvGraphicFramePr/>
          <p:nvPr/>
        </p:nvGraphicFramePr>
        <p:xfrm>
          <a:off x="990720" y="5105520"/>
          <a:ext cx="716580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105520"/>
                    <a:ext cx="71658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tability in Terms of </a:t>
            </a:r>
            <a:r>
              <a:rPr b="1" lang="en-US" sz="44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0" i="1" lang="en-US" sz="4400" spc="-1" strike="noStrike" baseline="-25000">
                <a:solidFill>
                  <a:srgbClr val="0000ff"/>
                </a:solidFill>
                <a:latin typeface="Times New Roman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1603440" y="1219320"/>
            <a:ext cx="6081480" cy="3751200"/>
            <a:chOff x="1603440" y="1219320"/>
            <a:chExt cx="6081480" cy="3751200"/>
          </a:xfrm>
        </p:grpSpPr>
        <p:graphicFrame>
          <p:nvGraphicFramePr>
            <p:cNvPr id="777" name=""/>
            <p:cNvGraphicFramePr/>
            <p:nvPr/>
          </p:nvGraphicFramePr>
          <p:xfrm>
            <a:off x="1752480" y="1219320"/>
            <a:ext cx="5932440" cy="3751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7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1219320"/>
                      <a:ext cx="5932440" cy="375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9" name=""/>
            <p:cNvSpPr/>
            <p:nvPr/>
          </p:nvSpPr>
          <p:spPr>
            <a:xfrm>
              <a:off x="1603440" y="1601640"/>
              <a:ext cx="609480" cy="281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6200000">
              <a:off x="955800" y="2625120"/>
              <a:ext cx="19796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453960"/>
                  <a:tab algn="l" pos="68040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Altitude (k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7162920" y="6019920"/>
            <a:ext cx="15238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Fig. 2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2" name=""/>
          <p:cNvGraphicFramePr/>
          <p:nvPr/>
        </p:nvGraphicFramePr>
        <p:xfrm>
          <a:off x="304920" y="5181480"/>
          <a:ext cx="4597200" cy="141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5181480"/>
                    <a:ext cx="4597200" cy="14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tability Criteria For </a:t>
            </a:r>
            <a:r>
              <a:rPr b="1" lang="en-US" sz="44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0" i="1" lang="en-US" sz="4400" spc="-1" strike="noStrike" baseline="-25000">
                <a:solidFill>
                  <a:srgbClr val="0000ff"/>
                </a:solidFill>
                <a:latin typeface="Times New Roman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04920" y="99072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tential virtual temperatu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04920" y="243828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fferenti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2666880" y="1295280"/>
          <a:ext cx="284328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295280"/>
                    <a:ext cx="2843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9" name=""/>
          <p:cNvGraphicFramePr/>
          <p:nvPr/>
        </p:nvGraphicFramePr>
        <p:xfrm>
          <a:off x="228600" y="2819520"/>
          <a:ext cx="8574120" cy="102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819520"/>
                    <a:ext cx="857412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1" name=""/>
          <p:cNvSpPr/>
          <p:nvPr/>
        </p:nvSpPr>
        <p:spPr>
          <a:xfrm>
            <a:off x="304920" y="4191120"/>
            <a:ext cx="80010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ake partial derivative with respect to heigh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1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substitute ∂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/∂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=-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=-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∂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v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/∂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914400" y="5334120"/>
          <a:ext cx="6819840" cy="88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5334120"/>
                    <a:ext cx="681984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tability Criteria For </a:t>
            </a:r>
            <a:r>
              <a:rPr b="1" lang="en-US" sz="44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0" i="1" lang="en-US" sz="4400" spc="-1" strike="noStrike" baseline="-25000">
                <a:solidFill>
                  <a:srgbClr val="0000ff"/>
                </a:solidFill>
                <a:latin typeface="Times New Roman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80880" y="3657600"/>
            <a:ext cx="8539200" cy="24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 2.21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925 hPa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9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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+7 K k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96.5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∂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v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/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∂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z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3.07 K k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--&gt; 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4920" y="1066680"/>
            <a:ext cx="8001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’/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1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p,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1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304920" y="1905120"/>
          <a:ext cx="8574120" cy="88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05120"/>
                    <a:ext cx="857412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Brunt-Väisälä 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80880" y="5378400"/>
            <a:ext cx="85392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 2.25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88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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+6.5 K k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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bv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0106 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 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1363680"/>
                <a:tab algn="l" pos="3198960"/>
                <a:tab algn="l" pos="365292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 period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bv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π/ </a:t>
            </a:r>
            <a:r>
              <a:rPr b="0" i="1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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bv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59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04920" y="106668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write (2.103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1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1447920" y="1523880"/>
          <a:ext cx="5951520" cy="8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595152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4" name=""/>
          <p:cNvGraphicFramePr/>
          <p:nvPr/>
        </p:nvGraphicFramePr>
        <p:xfrm>
          <a:off x="2286000" y="2819520"/>
          <a:ext cx="4022640" cy="84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819520"/>
                    <a:ext cx="402264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6" name=""/>
          <p:cNvSpPr/>
          <p:nvPr/>
        </p:nvSpPr>
        <p:spPr>
          <a:xfrm>
            <a:off x="304920" y="236232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runt-Väisälä frequenc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1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04920" y="358128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ability criteri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2.1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1981080" y="3962520"/>
          <a:ext cx="4552920" cy="110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3962520"/>
                    <a:ext cx="4552920" cy="11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Isentropic Su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57200" y="99072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nge in entrop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2" name=""/>
          <p:cNvGraphicFramePr/>
          <p:nvPr/>
        </p:nvGraphicFramePr>
        <p:xfrm>
          <a:off x="990720" y="3720960"/>
          <a:ext cx="6435720" cy="313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720960"/>
                    <a:ext cx="6435720" cy="31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"/>
          <p:cNvGraphicFramePr/>
          <p:nvPr/>
        </p:nvGraphicFramePr>
        <p:xfrm>
          <a:off x="3657600" y="1371600"/>
          <a:ext cx="121608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371600"/>
                    <a:ext cx="121608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6" name=""/>
          <p:cNvSpPr/>
          <p:nvPr/>
        </p:nvSpPr>
        <p:spPr>
          <a:xfrm>
            <a:off x="380880" y="2362320"/>
            <a:ext cx="815364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Isentropic surfaces occur when dS=0, which occurs when dQ=0 (adiabatic process), which occurs when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is constant with distance or height. Isentropic surfaces slant northward in the Northern Hemisp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391520" y="5029200"/>
            <a:ext cx="15238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Fig. 2.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371600" y="1143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nd thermal speeds at </a:t>
            </a:r>
            <a:r>
              <a:rPr b="0" i="1" lang="en-US" sz="2400" spc="-1" strike="noStrike">
                <a:solidFill>
                  <a:srgbClr val="9933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=300 K, </a:t>
            </a:r>
            <a:r>
              <a:rPr b="0" i="1" lang="en-US" sz="2400" spc="-1" strike="noStrike">
                <a:solidFill>
                  <a:srgbClr val="9933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=20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emperature-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358128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51055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75248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1000"/>
          </a:bodyPr>
          <a:p>
            <a:pPr marL="37440" indent="-37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verag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300 K --&gt; 468.3 m/s (1685 km/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200 K --&gt; 382.4 m/s (1376 km/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oot-mean-squar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300 K --&gt; 508.3 m/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200 K --&gt; 415.0 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st probabl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300 K --&gt; 415.0 m/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200 K --&gt; 338.9 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5943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 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emperature Versus Alt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09480" y="1143000"/>
          <a:ext cx="8226720" cy="502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43000"/>
                    <a:ext cx="822672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609480" y="2057400"/>
            <a:ext cx="53352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-78120" y="312408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Altitude (km</a:t>
            </a:r>
            <a:r>
              <a:rPr b="0" lang="en-US" sz="2000" spc="-1" strike="noStrike">
                <a:solidFill>
                  <a:srgbClr val="050d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2438280"/>
            <a:ext cx="533160" cy="19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rot="5400000">
            <a:off x="7480080" y="320832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Pressure (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68920" y="609588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2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0:13:47Z</dcterms:created>
  <dc:creator>Fred Ginnebaugh</dc:creator>
  <dc:description/>
  <dc:language>en-US</dc:language>
  <cp:lastModifiedBy>Mark Z. Jacobson</cp:lastModifiedBy>
  <dcterms:modified xsi:type="dcterms:W3CDTF">2005-03-10T16:52:09Z</dcterms:modified>
  <cp:revision>175</cp:revision>
  <dc:subject/>
  <dc:title>Slide 1</dc:title>
</cp:coreProperties>
</file>