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00.pct" ContentType="image/x-pict"/>
  <Override PartName="/ppt/media/image12.pct" ContentType="image/x-pict"/>
  <Override PartName="/ppt/media/image109.pct" ContentType="image/x-pict"/>
  <Override PartName="/ppt/media/image1.png" ContentType="image/png"/>
  <Override PartName="/ppt/media/image27.pct" ContentType="image/x-pict"/>
  <Override PartName="/ppt/media/image9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108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9.pct" ContentType="image/x-pict"/>
  <Override PartName="/ppt/media/image94.pct" ContentType="image/x-pict"/>
  <Override PartName="/ppt/media/image47.pct" ContentType="image/x-pict"/>
  <Override PartName="/ppt/media/image10.pct" ContentType="image/x-pict"/>
  <Override PartName="/ppt/media/image107.pct" ContentType="image/x-pict"/>
  <Override PartName="/ppt/media/image35.pct" ContentType="image/x-pict"/>
  <Override PartName="/ppt/media/image5.pct" ContentType="image/x-pict"/>
  <Override PartName="/ppt/media/image17.pct" ContentType="image/x-pict"/>
  <Override PartName="/ppt/media/image82.pct" ContentType="image/x-pict"/>
  <Override PartName="/ppt/media/image28.pct" ContentType="image/x-pict"/>
  <Override PartName="/ppt/media/image93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81.pct" ContentType="image/x-pict"/>
  <Override PartName="/ppt/media/image33.pct" ContentType="image/x-pict"/>
  <Override PartName="/ppt/media/image3.pct" ContentType="image/x-pict"/>
  <Override PartName="/ppt/media/image15.pct" ContentType="image/x-pict"/>
  <Override PartName="/ppt/media/image80.pct" ContentType="image/x-pict"/>
  <Override PartName="/ppt/media/image26.pct" ContentType="image/x-pict"/>
  <Override PartName="/ppt/media/image91.pct" ContentType="image/x-pict"/>
  <Override PartName="/ppt/media/image32.pct" ContentType="image/x-pict"/>
  <Override PartName="/ppt/media/image2.pct" ContentType="image/x-pict"/>
  <Override PartName="/ppt/media/image14.pct" ContentType="image/x-pict"/>
  <Override PartName="/ppt/media/image25.pct" ContentType="image/x-pict"/>
  <Override PartName="/ppt/media/image90.pct" ContentType="image/x-pict"/>
  <Override PartName="/ppt/media/image77.pct" ContentType="image/x-pict"/>
  <Override PartName="/ppt/media/image78.pct" ContentType="image/x-pict"/>
  <Override PartName="/ppt/media/image87.pct" ContentType="image/x-pict"/>
  <Override PartName="/ppt/media/image88.pct" ContentType="image/x-pict"/>
  <Override PartName="/ppt/media/image97.pct" ContentType="image/x-pict"/>
  <Override PartName="/ppt/media/image104.pct" ContentType="image/x-pict"/>
  <Override PartName="/ppt/media/image60.pct" ContentType="image/x-pict"/>
  <Override PartName="/ppt/media/image98.pct" ContentType="image/x-pict"/>
  <Override PartName="/ppt/media/image105.pct" ContentType="image/x-pict"/>
  <Override PartName="/ppt/media/image61.pct" ContentType="image/x-pict"/>
  <Override PartName="/ppt/media/image79.pct" ContentType="image/x-pict"/>
  <Override PartName="/ppt/media/image101.pct" ContentType="image/x-pict"/>
  <Override PartName="/ppt/media/image102.pct" ContentType="image/x-pict"/>
  <Override PartName="/ppt/media/image95.pct" ContentType="image/x-pict"/>
  <Override PartName="/ppt/media/image103.pct" ContentType="image/x-pict"/>
  <Override PartName="/ppt/media/image96.pct" ContentType="image/x-pict"/>
  <Override PartName="/ppt/media/image126.pct" ContentType="image/x-pict"/>
  <Override PartName="/ppt/media/image114.pct" ContentType="image/x-pict"/>
  <Override PartName="/ppt/media/image70.pct" ContentType="image/x-pict"/>
  <Override PartName="/ppt/media/image125.pct" ContentType="image/x-pict"/>
  <Override PartName="/ppt/media/image113.pct" ContentType="image/x-pict"/>
  <Override PartName="/ppt/media/image124.pct" ContentType="image/x-pict"/>
  <Override PartName="/ppt/media/image112.pct" ContentType="image/x-pict"/>
  <Override PartName="/ppt/media/image123.pct" ContentType="image/x-pict"/>
  <Override PartName="/ppt/media/image89.pct" ContentType="image/x-pict"/>
  <Override PartName="/ppt/media/image111.pct" ContentType="image/x-pict"/>
  <Override PartName="/ppt/media/image122.pct" ContentType="image/x-pict"/>
  <Override PartName="/ppt/media/image99.pct" ContentType="image/x-pict"/>
  <Override PartName="/ppt/media/image106.pct" ContentType="image/x-pict"/>
  <Override PartName="/ppt/media/image62.pct" ContentType="image/x-pict"/>
  <Override PartName="/ppt/media/image121.pct" ContentType="image/x-pict"/>
  <Override PartName="/ppt/media/image116.pct" ContentType="image/x-pict"/>
  <Override PartName="/ppt/media/image72.pct" ContentType="image/x-pict"/>
  <Override PartName="/ppt/media/image115.pct" ContentType="image/x-pict"/>
  <Override PartName="/ppt/media/image71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120.pct" ContentType="image/x-pict"/>
  <Override PartName="/ppt/media/image69.pct" ContentType="image/x-pict"/>
  <Override PartName="/ppt/media/image68.pct" ContentType="image/x-pict"/>
  <Override PartName="/ppt/media/image67.pct" ContentType="image/x-pict"/>
  <Override PartName="/ppt/media/image66.pct" ContentType="image/x-pict"/>
  <Override PartName="/ppt/media/image65.pct" ContentType="image/x-pict"/>
  <Override PartName="/ppt/media/image64.pct" ContentType="image/x-pict"/>
  <Override PartName="/ppt/media/image63.pct" ContentType="image/x-pict"/>
  <Override PartName="/ppt/media/image24.pct" ContentType="image/x-pict"/>
  <Override PartName="/ppt/media/image23.pct" ContentType="image/x-pict"/>
  <Override PartName="/ppt/media/image119.pct" ContentType="image/x-pict"/>
  <Override PartName="/ppt/media/image22.pct" ContentType="image/x-pict"/>
  <Override PartName="/ppt/media/image110.pct" ContentType="image/x-pict"/>
  <Override PartName="/ppt/media/image59.pct" ContentType="image/x-pict"/>
  <Override PartName="/ppt/media/image118.pct" ContentType="image/x-pict"/>
  <Override PartName="/ppt/media/image21.pct" ContentType="image/x-pict"/>
  <Override PartName="/ppt/media/image58.pct" ContentType="image/x-pict"/>
  <Override PartName="/ppt/media/image117.pct" ContentType="image/x-pict"/>
  <Override PartName="/ppt/media/image20.pct" ContentType="image/x-pict"/>
  <Override PartName="/ppt/media/image57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59B-FC45-4D06-AB57-C0621D5E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512-5424-4A67-8E63-5954651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7F5-3FEA-43AC-9FE4-3C19A5EE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DDD-8C5F-487B-BDA9-7B42BD4D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CFB-24B7-4916-B060-B49A86EA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240-D2B5-487C-94ED-CBAD600D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A59-D36B-40E3-BF6F-23520B96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A6D-7202-411A-B86A-89436B7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E3E-B0CA-4A5D-9704-3DBAFFD3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4F4-4041-4869-A475-4D5407A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EB8-06A7-40F2-8EC7-B818CF3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744-61DE-4658-9A9C-96A11D5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322E-0012-4EF6-9E6B-138A3490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ct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ct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pct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ct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ct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pct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ct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ct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ct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pct"/><Relationship Id="rId9" Type="http://schemas.openxmlformats.org/officeDocument/2006/relationships/image" Target="../media/image69.pct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pct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pct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pct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pct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pct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pct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pct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pct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pct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ct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pct"/><Relationship Id="rId1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pct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3.pct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6.pct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7.pct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pct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3.pct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pct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6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6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ylor series expansion at poi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aylor Series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514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ylor series expansion at poi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23880"/>
          <a:ext cx="8967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967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0" y="2971800"/>
          <a:ext cx="896796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8967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29000" y="3763800"/>
          <a:ext cx="3456000" cy="3094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763800"/>
                    <a:ext cx="345600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 the Taylor series expansion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inite Difference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38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9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uncation error (neglect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terms and higher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181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central difference approx. of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447920"/>
          <a:ext cx="75549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47920"/>
                    <a:ext cx="75549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371600" y="2819520"/>
          <a:ext cx="56815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819520"/>
                    <a:ext cx="56815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286000" y="4038480"/>
          <a:ext cx="3967200" cy="96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038480"/>
                    <a:ext cx="39672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57400" y="5486400"/>
          <a:ext cx="437976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5486400"/>
                    <a:ext cx="43797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tract the Taylor series expansion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inite Difference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438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809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uncation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181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central difference approx. of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erivati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85680" y="1409760"/>
          <a:ext cx="6253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409760"/>
                    <a:ext cx="6253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828800" y="2895480"/>
          <a:ext cx="45705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895480"/>
                    <a:ext cx="4570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209680" y="4038480"/>
          <a:ext cx="38084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038480"/>
                    <a:ext cx="3808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371600" y="5638680"/>
          <a:ext cx="530064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638680"/>
                    <a:ext cx="5300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inite Difference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11480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backward difference approx. of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irst two terms of Taylo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05740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forward difference approx. of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81080" y="2590920"/>
          <a:ext cx="45072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590920"/>
                    <a:ext cx="45072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905120" y="4800600"/>
          <a:ext cx="45068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800600"/>
                    <a:ext cx="45068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fferencing Time Deriv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447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ral, forward, backward difference approxim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1981080"/>
          <a:ext cx="276084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81080"/>
                    <a:ext cx="27608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971800"/>
          <a:ext cx="241308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971800"/>
                    <a:ext cx="2413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743200" y="4038480"/>
          <a:ext cx="241308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038480"/>
                    <a:ext cx="2413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gence of finite difference analog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sistency, Conver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666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stency of finite difference analo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3434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gence of overall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666880" y="1523880"/>
          <a:ext cx="234972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23497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14600" y="3124080"/>
          <a:ext cx="288756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124080"/>
                    <a:ext cx="28875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33720" y="4876920"/>
          <a:ext cx="384012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876920"/>
                    <a:ext cx="3840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438280" y="1219320"/>
          <a:ext cx="336420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3364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088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ditionally stable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table for limited time-step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conditionally stable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table for all tim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conditionally unstable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nstable for all tim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n unconditionally unstable scheme cannot be convergent overall, but individual finite-difference analogs in an unstable scheme may converge and may be 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 other words, consistency and convergence of individual analogs do not guarantee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tability is guaranteed if a scheme is convergent overall and its finite-difference analogs are convergent and 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umerical Diffusion, Disp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erically diffusive sc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eaks spread artificially across gri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erically dispersive (oscillatory)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ves appear ahead of or behind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bounded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ransported values artificially rise above the largest existing value or fall below the smallest existing value in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monotonic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radients are not preserved during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gh Order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4479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ite difference approximation of ∂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057400"/>
            <a:ext cx="6934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derivative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pproximation expanded across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discret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inimum number of nodes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ximum order of approximation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4267080"/>
            <a:ext cx="6553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derivative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umber of nodes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Order of approximation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gh Order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2952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rid spacing wher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5.  Derivative is taken a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276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tance between two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724280"/>
            <a:ext cx="8076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roximation to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erivative acros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od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1905120"/>
          <a:ext cx="8839440" cy="132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8394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124080" y="3886200"/>
          <a:ext cx="2032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86200"/>
                    <a:ext cx="2032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295280" y="5105520"/>
          <a:ext cx="590400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05520"/>
                    <a:ext cx="59040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inary differential equation (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quation with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DEs and P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ifferential equation (P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quation with more than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971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ighest derivative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ighest polynomial value of the highest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724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valu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ditions are known at one end of domain but not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562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ndary valu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ditions are known at both ends of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gh Order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438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ylor series expansion for each node about poi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809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6.24) with (6.25) and gather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5334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efi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2819520"/>
          <a:ext cx="8958240" cy="90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895824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12680" y="4267080"/>
          <a:ext cx="903132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680" y="4267080"/>
                    <a:ext cx="90313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80880" y="5715000"/>
          <a:ext cx="447048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715000"/>
                    <a:ext cx="4470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" y="914400"/>
            <a:ext cx="7848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roximation to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erivative acros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od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124080" y="1143000"/>
          <a:ext cx="2266920" cy="12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143000"/>
                    <a:ext cx="22669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943600" y="5638680"/>
          <a:ext cx="261468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5638680"/>
                    <a:ext cx="2614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gh Order Approx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129528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0…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 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6386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0 for 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excep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1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438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y (6.28) through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 and set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8080" y="990720"/>
          <a:ext cx="326880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32688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0" y="2971800"/>
          <a:ext cx="896796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8967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Order Central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4479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ind second-order central difference approx. to 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828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derivative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approximation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Number of nodes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9072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6576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t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4191120"/>
                <a:ext cx="44146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Dx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Order Central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895480"/>
            <a:ext cx="5410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th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's to (6.2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48006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's to obtain central difference approx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12720" y="3657600"/>
                <a:ext cx="7616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»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124080" y="5410080"/>
                <a:ext cx="2538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»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172200" y="1752480"/>
                <a:ext cx="1619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95480" y="1752480"/>
                <a:ext cx="1841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9480" y="1981080"/>
                <a:ext cx="88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28600" y="13716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Order Backward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1676520"/>
            <a:ext cx="7238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ind first-order backward difference approx. to 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9810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derivative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approximation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Number of nodes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21932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862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t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95480" y="4572000"/>
                <a:ext cx="3025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Order Backward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8954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th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's to (6.2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480060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's to obtain backward difference approx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3716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14600" y="1828800"/>
                <a:ext cx="1682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257800" y="1828800"/>
                <a:ext cx="1143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048120" y="3505320"/>
                <a:ext cx="2982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276720" y="5410080"/>
                <a:ext cx="2253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»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Order Backward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75248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ind second-order backward difference approx. to 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0574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derivative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der of approximation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Number of nodes: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219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657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t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05120" y="3962520"/>
                <a:ext cx="477180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2666880" y="5867280"/>
          <a:ext cx="358308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867280"/>
                    <a:ext cx="35830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80880" y="55627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Table 6.2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igher-Order Approx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4382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rd-order forward differenc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g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886200"/>
            <a:ext cx="929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urth-order backward differenc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9907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rd-order backward differenc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5334120"/>
            <a:ext cx="9296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urth-order forward differenc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133720" y="1523880"/>
                <a:ext cx="466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D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133720" y="2895480"/>
                <a:ext cx="48560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D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95280" y="4343400"/>
                <a:ext cx="6253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D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19320" y="5791320"/>
                <a:ext cx="6253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D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urth-Order Approx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urth-order backward diff. schem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9907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cretize around furthes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334120"/>
            <a:ext cx="9296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urth-order forward difference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7200" y="1905120"/>
                <a:ext cx="761688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Dx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4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4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4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D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838080" y="4419720"/>
                <a:ext cx="6793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D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38080" y="5791320"/>
                <a:ext cx="66344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»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D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urth-Order Central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urth-order central difference of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14400" y="2057400"/>
          <a:ext cx="711036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11036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5486400"/>
          <a:ext cx="48243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486400"/>
                    <a:ext cx="4824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DEs and P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35120"/>
          <a:ext cx="8305920" cy="41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35120"/>
                    <a:ext cx="830592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urth-Order Central Diff. Appr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urth-order central difference of ∂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5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6.2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2133720"/>
          <a:ext cx="711036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11036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066680" y="5486400"/>
          <a:ext cx="647568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486400"/>
                    <a:ext cx="6475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dvection-Diffusion Eqn.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es continuity equation in west-east dire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3623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FL stability criterion for adve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7242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ility criterion for diffus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133720" y="1447920"/>
          <a:ext cx="44751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475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00400" y="2819520"/>
          <a:ext cx="234936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819520"/>
                    <a:ext cx="2349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200400" y="5257800"/>
          <a:ext cx="23493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257800"/>
                    <a:ext cx="2349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04920" y="3429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5 km, |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|=20 m/s --&gt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250 s (Hydrostatic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5 km, |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|=346 m/s --&gt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14.5 s (Nonhydrostatic model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5715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20 m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50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s --&gt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8 s (in the vertical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TCS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907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marL="72000" indent="-72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ward in time, centered in space (FTCS)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order approximation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nconditionally unstable for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0, larg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; otherwise conditionally s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3733920"/>
          <a:ext cx="55548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55548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209680" y="4800600"/>
          <a:ext cx="507852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800600"/>
                    <a:ext cx="5078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dvection-Diffusion Eqn.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0666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cit solution: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approximation i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nconditionally stable for 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8954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and write in tridiagonal matrix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267080"/>
                <a:ext cx="3300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Dx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029200" y="4305240"/>
                <a:ext cx="231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743200" y="5486400"/>
                <a:ext cx="3110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Dx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04920" y="3809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3680" y="1981080"/>
          <a:ext cx="895032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981080"/>
                    <a:ext cx="89503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600200" y="3505320"/>
          <a:ext cx="491976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505320"/>
                    <a:ext cx="4919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dvection-Diffusion Eqn.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and write in tridiagonal matrix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3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600" y="2057400"/>
          <a:ext cx="913140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2057400"/>
                    <a:ext cx="91314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ridiagonal Matrix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066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trix decomposit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175248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..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312408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..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41148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trix backsubstitut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495288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1..1, 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1676520"/>
          <a:ext cx="59673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5967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63600" y="2952720"/>
          <a:ext cx="580860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600" y="2952720"/>
                    <a:ext cx="5808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80880" y="4876920"/>
          <a:ext cx="609444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876920"/>
                    <a:ext cx="6094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ridiagonal Matrix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10666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rix for solution for periodic boundary condi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22120" y="1600200"/>
          <a:ext cx="892188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600200"/>
                    <a:ext cx="89218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304920" y="56386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alues at nod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re adjacent to those at node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rank-Nicols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219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nk-Nicolson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42670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55160" indent="-15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Crank-Nicols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--&gt; Crank-Nicolson solution (unconditionally stable 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approximation i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   --&gt; explicit (FTCS)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600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    --&gt; implici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1828800"/>
          <a:ext cx="905832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05832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52280" y="2971800"/>
          <a:ext cx="883944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88394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rank-Nicols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1219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diagonal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0840" y="2476440"/>
                <a:ext cx="36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Dx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95680" y="2552760"/>
                <a:ext cx="409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Dx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57200" y="3886200"/>
                <a:ext cx="266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0" y="3962520"/>
                <a:ext cx="3268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26960" y="5257800"/>
                <a:ext cx="345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Dx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522680" y="5181480"/>
                <a:ext cx="4316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Dx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D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36" name=""/>
          <p:cNvGraphicFramePr/>
          <p:nvPr/>
        </p:nvGraphicFramePr>
        <p:xfrm>
          <a:off x="295200" y="1752480"/>
          <a:ext cx="869652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752480"/>
                    <a:ext cx="86965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eapfro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approximation i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nconditionally unstable for all nonzero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; conditionally stable for linear equations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0; unstable for nonlinear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9880"/>
          <a:ext cx="898524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9880"/>
                    <a:ext cx="89852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perator Splitt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2303640"/>
          <a:ext cx="8763120" cy="235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03640"/>
                    <a:ext cx="876312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tsuno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28195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diction ste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44197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ction ste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85680" y="3429000"/>
          <a:ext cx="905832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3429000"/>
                    <a:ext cx="90583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28600" y="4952880"/>
          <a:ext cx="842796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952880"/>
                    <a:ext cx="84279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685800" y="990720"/>
            <a:ext cx="708660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approximation i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ditionally stable for 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0 or small; unconditionally unstable for larg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eu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12193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approximation i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nconditionally unstable for 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0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large; conditionally stable for other values of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52280" y="2819520"/>
          <a:ext cx="883764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88376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85800" y="3809880"/>
          <a:ext cx="81090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09880"/>
                    <a:ext cx="8109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451080" y="5410080"/>
            <a:ext cx="532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diction step same as first Matsuno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dams-Bashforth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approximation in tim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Unconditionally unstable for 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0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large; conditionally stable for other values of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5920" y="2819520"/>
          <a:ext cx="902808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2819520"/>
                    <a:ext cx="90280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80880" y="4038480"/>
          <a:ext cx="857268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857268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urth-Order Runge-Kutta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219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ditionally stabl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3-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05120" y="1676520"/>
          <a:ext cx="452412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5241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0" y="2666880"/>
          <a:ext cx="864396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86439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0" y="4724280"/>
          <a:ext cx="902160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24280"/>
                    <a:ext cx="9021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819520" y="3657600"/>
          <a:ext cx="28242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657600"/>
                    <a:ext cx="2824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" descr=""/>
          <p:cNvPicPr/>
          <p:nvPr/>
        </p:nvPicPr>
        <p:blipFill>
          <a:blip r:embed="rId9"/>
          <a:stretch/>
        </p:blipFill>
        <p:spPr>
          <a:xfrm>
            <a:off x="2743200" y="5791320"/>
            <a:ext cx="2887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urth-Order Runge-Kutta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048120" y="2971800"/>
          <a:ext cx="279216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2792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0" y="3962520"/>
          <a:ext cx="916164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91616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0" y="1676520"/>
          <a:ext cx="9217080" cy="97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676520"/>
                    <a:ext cx="9217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vergence of Four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62485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Ketefian and Jacobson 2004b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1066680"/>
          <a:ext cx="8077320" cy="511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0773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52280" y="2514600"/>
            <a:ext cx="685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0" y="30481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urth-Order in Spac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1219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ral difference implicit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40384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rite in Crank-Nicolson and pentadiagonal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04920" y="1752480"/>
          <a:ext cx="82515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2515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353960" y="2876400"/>
          <a:ext cx="73328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3960" y="2876400"/>
                    <a:ext cx="73328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57200" y="4692600"/>
          <a:ext cx="660240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692600"/>
                    <a:ext cx="6602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57200" y="5334120"/>
          <a:ext cx="847404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334120"/>
                    <a:ext cx="84740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ariable Grid Spacing,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1219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cond-order central difference of advection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32004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matrix equation to obtain coefficie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38080" y="1828800"/>
          <a:ext cx="67611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6761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219320" y="3962520"/>
          <a:ext cx="609444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962520"/>
                    <a:ext cx="60944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ariable Grid Spacing,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3716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matrix equation to obtain coefficie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5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52480" y="4952880"/>
          <a:ext cx="43484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952880"/>
                    <a:ext cx="4348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828800" y="3429000"/>
          <a:ext cx="40622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429000"/>
                    <a:ext cx="4062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1828800" y="1905120"/>
          <a:ext cx="434808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1905120"/>
                    <a:ext cx="4348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ariable Grid Spacing,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2193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 analytical diffusion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2819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cond-order central-difference approx. to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133720" y="1752480"/>
          <a:ext cx="409392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40939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447920" y="3352680"/>
          <a:ext cx="51735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352680"/>
                    <a:ext cx="5173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447920" y="4343400"/>
          <a:ext cx="5205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343400"/>
                    <a:ext cx="520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990720" y="5410080"/>
          <a:ext cx="6316560" cy="9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0080"/>
                    <a:ext cx="63165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erator-split advection-diffusion equation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-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perator Spli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erator-split external source/sink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828800" y="1523880"/>
          <a:ext cx="44751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4475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828800" y="2514600"/>
          <a:ext cx="444348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514600"/>
                    <a:ext cx="44434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828800" y="3733920"/>
          <a:ext cx="444348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733920"/>
                    <a:ext cx="4443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200400" y="5410080"/>
          <a:ext cx="1773360" cy="12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410080"/>
                    <a:ext cx="17733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ariable Grid Spacing,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matrix equation to obtain coefficien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905120" y="1828800"/>
          <a:ext cx="434808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3480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133720" y="3124080"/>
          <a:ext cx="37764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124080"/>
                    <a:ext cx="3776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828800" y="4495680"/>
          <a:ext cx="434808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4495680"/>
                    <a:ext cx="43480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ariable Grid Spacing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11430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nk-Nicolson form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.5--&gt;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der time, space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2767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efficients for diffusion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5715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rite in tridiagon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3760" y="1494000"/>
          <a:ext cx="8967960" cy="71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1494000"/>
                    <a:ext cx="89679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119160" y="2362320"/>
          <a:ext cx="8948520" cy="73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160" y="2362320"/>
                    <a:ext cx="89485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04920" y="3733920"/>
          <a:ext cx="81248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733920"/>
                    <a:ext cx="81248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11280" y="4419720"/>
          <a:ext cx="7237440" cy="5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4419720"/>
                    <a:ext cx="72374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304920" y="5029200"/>
          <a:ext cx="8124840" cy="5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5029200"/>
                    <a:ext cx="81248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28600" y="6172200"/>
          <a:ext cx="8712360" cy="41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6172200"/>
                    <a:ext cx="8712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wo Dimensional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1430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vection-diffusion equation in two dimens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26668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ral difference approxim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53341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380880" y="1600200"/>
          <a:ext cx="78393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78393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52280" y="3048120"/>
          <a:ext cx="88552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85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100080" y="4224240"/>
          <a:ext cx="8967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080" y="4224240"/>
                    <a:ext cx="8967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85680" y="5943600"/>
          <a:ext cx="905832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680" y="5943600"/>
                    <a:ext cx="90583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emi-Lagrangian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819520" y="2286000"/>
          <a:ext cx="242244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86000"/>
                    <a:ext cx="24224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04920" y="12193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centration at current tim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existing nod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6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34290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alues at tim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-uh, t-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nterpolated from existing node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4920" y="11430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vection equation at nod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26668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ial function  = series expansion approximation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linear combination of basis fun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4920" y="4648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 = basi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= tri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124080" y="1600200"/>
          <a:ext cx="23814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00200"/>
                    <a:ext cx="2381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2590920" y="3505320"/>
          <a:ext cx="34272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505320"/>
                    <a:ext cx="34272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30481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imize resid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ce its weighted average to zero over domain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12193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dual in advecti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4876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= weigh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--&gt; Galerkin method of weighted res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≠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--&gt; Petrov-Galerkin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743200" y="3809880"/>
          <a:ext cx="26337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809880"/>
                    <a:ext cx="26337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1828800"/>
          <a:ext cx="892188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89218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114300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838080" y="3733920"/>
          <a:ext cx="330840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33084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1143000" y="4495680"/>
          <a:ext cx="561348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561348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1143000" y="5791320"/>
          <a:ext cx="66279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791320"/>
                    <a:ext cx="6627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743200" y="2362320"/>
          <a:ext cx="263376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362320"/>
                    <a:ext cx="263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85800" y="1447920"/>
          <a:ext cx="354636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1447920"/>
                    <a:ext cx="3546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952880" y="1371600"/>
          <a:ext cx="2778120" cy="98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371600"/>
                    <a:ext cx="2778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457560" y="2514600"/>
            <a:ext cx="656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3276720"/>
            <a:ext cx="7543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obta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1430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ke time difference of (6.74) over three nod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88920" y="1752480"/>
          <a:ext cx="890280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52480"/>
                    <a:ext cx="89028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057400" y="3016080"/>
          <a:ext cx="52689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016080"/>
                    <a:ext cx="526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57200" y="4184640"/>
          <a:ext cx="8410680" cy="206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84640"/>
                    <a:ext cx="84106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e basis functions as chapeau fun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48006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each integr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23880" y="1676520"/>
          <a:ext cx="533268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533268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80880" y="5334120"/>
          <a:ext cx="83473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473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11430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egral solutions back into (6.7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7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9360" y="1600200"/>
          <a:ext cx="90583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600200"/>
                    <a:ext cx="9058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200400" y="2666880"/>
          <a:ext cx="25052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666880"/>
                    <a:ext cx="25052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304920" y="3809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lve with tridiagonal matrix solution --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order in space, 2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rder in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Replacement of continuous differential operator (d) with discrete difference analog (</a:t>
            </a:r>
            <a:r>
              <a:rPr b="0" lang="en-US" sz="28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) written in terms of a finite number of values along a temporal or spatial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inite-Difference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28800" y="4114800"/>
          <a:ext cx="59961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114800"/>
                    <a:ext cx="5996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sts with a 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1430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eservation of a Gaussian peak during finite element transport after eight revolutions around a circular grid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209680" y="1981080"/>
          <a:ext cx="4800600" cy="413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48006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6858000" y="6039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2228760"/>
            <a:ext cx="68580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1027080" y="3563640"/>
            <a:ext cx="2746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sts with a Finite Element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1430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eservation of a Gaussian peak during finite element transport after eight revolutions around a circular grid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981080" y="1828800"/>
          <a:ext cx="5181840" cy="446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1818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7010280" y="601992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2133720"/>
            <a:ext cx="6858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874440" y="3468240"/>
            <a:ext cx="2746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seudospectral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11430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vecti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8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200400" y="1676520"/>
          <a:ext cx="20001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76520"/>
                    <a:ext cx="2000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304920" y="2666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present solution with infinite Fourier ser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8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14600" y="3048120"/>
          <a:ext cx="35863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048120"/>
                    <a:ext cx="35863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304920" y="44197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, integrate both sides of (6.88) from 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8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2362320" y="4952880"/>
          <a:ext cx="418932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952880"/>
                    <a:ext cx="41893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seudospectral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11430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uncate infinite ser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9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2666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ral time-difference approximation of (6.9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9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43434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 of (6.90) with respect to sp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9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90920" y="1523880"/>
          <a:ext cx="358596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523880"/>
                    <a:ext cx="358596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1066680" y="3048120"/>
          <a:ext cx="66978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8120"/>
                    <a:ext cx="66978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2362320" y="4876920"/>
          <a:ext cx="4062240" cy="12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876920"/>
                    <a:ext cx="40622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seudospectral Meth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3716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6.91) and (6.92) into (6.8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9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3581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parate in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equations --&gt; sol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9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1905120"/>
          <a:ext cx="80928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928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2438280" y="4114800"/>
          <a:ext cx="418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14800"/>
                    <a:ext cx="418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raits of a Good Advection Sche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shape after six rotations around a 2-D grid.  Walcek (200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1240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 6.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600200" y="1143000"/>
          <a:ext cx="7315200" cy="46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43000"/>
                    <a:ext cx="73152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228600" y="457200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onoscill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n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Differe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143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, replace continuous func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with a finite number of values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irection.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1981080"/>
          <a:ext cx="5486400" cy="44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 Difference Approx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cond, define differences of du at poi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600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2860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9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828800" y="1600200"/>
                <a:ext cx="2286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828800" y="2273400"/>
                <a:ext cx="20001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828800" y="2959200"/>
                <a:ext cx="20001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419720" y="29718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ackwar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286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war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6765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entr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ral difference approximation to tangent slope a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4114800"/>
          <a:ext cx="316224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14800"/>
                    <a:ext cx="31622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029200" y="3886200"/>
          <a:ext cx="3429000" cy="2759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886200"/>
                    <a:ext cx="34290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nite-Difference Approx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0120" y="6095520"/>
            <a:ext cx="1218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ral (AC), forward (BC), and backward (AB) approximations to slope of tangent at poi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7400" y="1828800"/>
          <a:ext cx="5410080" cy="48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41008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54:28Z</dcterms:modified>
  <cp:revision>398</cp:revision>
  <dc:subject/>
  <dc:title>Slide 1</dc:title>
</cp:coreProperties>
</file>