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6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00.pct" ContentType="image/x-pict"/>
  <Override PartName="/ppt/media/image12.pct" ContentType="image/x-pict"/>
  <Override PartName="/ppt/media/image109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108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9.pct" ContentType="image/x-pict"/>
  <Override PartName="/ppt/media/image94.pct" ContentType="image/x-pict"/>
  <Override PartName="/ppt/media/image47.pct" ContentType="image/x-pict"/>
  <Override PartName="/ppt/media/image10.pct" ContentType="image/x-pict"/>
  <Override PartName="/ppt/media/image107.pct" ContentType="image/x-pict"/>
  <Override PartName="/ppt/media/image35.pct" ContentType="image/x-pict"/>
  <Override PartName="/ppt/media/image5.pct" ContentType="image/x-pict"/>
  <Override PartName="/ppt/media/image17.pct" ContentType="image/x-pict"/>
  <Override PartName="/ppt/media/image82.pct" ContentType="image/x-pict"/>
  <Override PartName="/ppt/media/image28.pct" ContentType="image/x-pict"/>
  <Override PartName="/ppt/media/image93.pct" ContentType="image/x-pict"/>
  <Override PartName="/ppt/media/image34.pct" ContentType="image/x-pict"/>
  <Override PartName="/ppt/media/image4.pct" ContentType="image/x-pict"/>
  <Override PartName="/ppt/media/image16.pct" ContentType="image/x-pict"/>
  <Override PartName="/ppt/media/image81.pct" ContentType="image/x-pict"/>
  <Override PartName="/ppt/media/image27.pct" ContentType="image/x-pict"/>
  <Override PartName="/ppt/media/image92.pct" ContentType="image/x-pict"/>
  <Override PartName="/ppt/media/image33.pct" ContentType="image/x-pict"/>
  <Override PartName="/ppt/media/image3.pct" ContentType="image/x-pict"/>
  <Override PartName="/ppt/media/image15.pct" ContentType="image/x-pict"/>
  <Override PartName="/ppt/media/image80.pct" ContentType="image/x-pict"/>
  <Override PartName="/ppt/media/image71.pct" ContentType="image/x-pict"/>
  <Override PartName="/ppt/media/image115.pct" ContentType="image/x-pict"/>
  <Override PartName="/ppt/media/image72.pct" ContentType="image/x-pict"/>
  <Override PartName="/ppt/media/image116.pct" ContentType="image/x-pict"/>
  <Override PartName="/ppt/media/image73.pct" ContentType="image/x-pict"/>
  <Override PartName="/ppt/media/image74.pct" ContentType="image/x-pict"/>
  <Override PartName="/ppt/media/image75.pct" ContentType="image/x-pict"/>
  <Override PartName="/ppt/media/image76.pct" ContentType="image/x-pict"/>
  <Override PartName="/ppt/media/image77.pct" ContentType="image/x-pict"/>
  <Override PartName="/ppt/media/image78.pct" ContentType="image/x-pict"/>
  <Override PartName="/ppt/media/image87.pct" ContentType="image/x-pict"/>
  <Override PartName="/ppt/media/image88.pct" ContentType="image/x-pict"/>
  <Override PartName="/ppt/media/image97.pct" ContentType="image/x-pict"/>
  <Override PartName="/ppt/media/image104.pct" ContentType="image/x-pict"/>
  <Override PartName="/ppt/media/image60.pct" ContentType="image/x-pict"/>
  <Override PartName="/ppt/media/image98.pct" ContentType="image/x-pict"/>
  <Override PartName="/ppt/media/image105.pct" ContentType="image/x-pict"/>
  <Override PartName="/ppt/media/image61.pct" ContentType="image/x-pict"/>
  <Override PartName="/ppt/media/image96.pct" ContentType="image/x-pict"/>
  <Override PartName="/ppt/media/image103.pct" ContentType="image/x-pict"/>
  <Override PartName="/ppt/media/image95.pct" ContentType="image/x-pict"/>
  <Override PartName="/ppt/media/image102.pct" ContentType="image/x-pict"/>
  <Override PartName="/ppt/media/image114.pct" ContentType="image/x-pict"/>
  <Override PartName="/ppt/media/image70.pct" ContentType="image/x-pict"/>
  <Override PartName="/ppt/media/image113.pct" ContentType="image/x-pict"/>
  <Override PartName="/ppt/media/image79.pct" ContentType="image/x-pict"/>
  <Override PartName="/ppt/media/image101.pct" ContentType="image/x-pict"/>
  <Override PartName="/ppt/media/image99.pct" ContentType="image/x-pict"/>
  <Override PartName="/ppt/media/image106.pct" ContentType="image/x-pict"/>
  <Override PartName="/ppt/media/image62.pct" ContentType="image/x-pict"/>
  <Override PartName="/ppt/media/image112.pct" ContentType="image/x-pict"/>
  <Override PartName="/ppt/media/image89.pct" ContentType="image/x-pict"/>
  <Override PartName="/ppt/media/image111.pct" ContentType="image/x-pict"/>
  <Override PartName="/ppt/media/image69.pct" ContentType="image/x-pict"/>
  <Override PartName="/ppt/media/image32.pct" ContentType="image/x-pict"/>
  <Override PartName="/ppt/media/image68.pct" ContentType="image/x-pict"/>
  <Override PartName="/ppt/media/image31.pct" ContentType="image/x-pict"/>
  <Override PartName="/ppt/media/image67.pct" ContentType="image/x-pict"/>
  <Override PartName="/ppt/media/image66.pct" ContentType="image/x-pict"/>
  <Override PartName="/ppt/media/image65.pct" ContentType="image/x-pict"/>
  <Override PartName="/ppt/media/image64.pct" ContentType="image/x-pict"/>
  <Override PartName="/ppt/media/image63.pct" ContentType="image/x-pict"/>
  <Override PartName="/ppt/media/image23.pct" ContentType="image/x-pict"/>
  <Override PartName="/ppt/media/image119.pct" ContentType="image/x-pict"/>
  <Override PartName="/ppt/media/image22.pct" ContentType="image/x-pict"/>
  <Override PartName="/ppt/media/image59.pct" ContentType="image/x-pict"/>
  <Override PartName="/ppt/media/image110.pct" ContentType="image/x-pict"/>
  <Override PartName="/ppt/media/image24.pct" ContentType="image/x-pict"/>
  <Override PartName="/ppt/media/image118.pct" ContentType="image/x-pict"/>
  <Override PartName="/ppt/media/image21.pct" ContentType="image/x-pict"/>
  <Override PartName="/ppt/media/image58.pct" ContentType="image/x-pict"/>
  <Override PartName="/ppt/media/image117.pct" ContentType="image/x-pict"/>
  <Override PartName="/ppt/media/image20.pct" ContentType="image/x-pict"/>
  <Override PartName="/ppt/media/image57.pct" ContentType="image/x-pict"/>
  <Override PartName="/ppt/media/image25.pct" ContentType="image/x-pict"/>
  <Override PartName="/ppt/media/image90.pct" ContentType="image/x-pict"/>
  <Override PartName="/ppt/media/image2.pct" ContentType="image/x-pict"/>
  <Override PartName="/ppt/media/image14.pct" ContentType="image/x-pict"/>
  <Override PartName="/ppt/media/image26.pct" ContentType="image/x-pict"/>
  <Override PartName="/ppt/media/image9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E91-089A-4AC4-BE55-8EA20D6F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DF0-FB97-4B55-B1A2-A70E0A7E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8C5-69FF-4EA6-B1D6-B48597BF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1AB-5C0D-44C7-8F22-36253017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B49-8C45-43B0-AADD-AEFF46E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5E0-BA1A-4645-857A-02E779C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DA2-7D2B-483D-8681-71F7C76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A7E-C8FD-47A0-ACD3-249B401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AFB-9315-404F-8313-B502041A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A16-D77F-4957-976B-760B2703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804-AE73-45F4-98BC-3E554E51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4DC-C209-4584-BAD3-0027F86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D9B2-8AD5-4079-BE63-F1EC17998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7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28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29.pct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pct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ct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ct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ct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ct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2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ct"/><Relationship Id="rId1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ct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ct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pct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ct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2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pct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7.pct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pct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8.pct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9.pct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9.pct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0.pct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0.pct"/><Relationship Id="rId2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74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pct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pct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pct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85.pct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pct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pct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ct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3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ct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pct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pct"/><Relationship Id="rId1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pct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9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pct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pct"/><Relationship Id="rId1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0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pct"/><Relationship Id="rId1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pct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7, Part 1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31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onates OH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(hydroxide 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mmonia complexes with water and dissociat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xide ion combine with hydrogen ion to form liquid water, increasing pH of sol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19520" y="3124080"/>
          <a:ext cx="3336840" cy="4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124080"/>
                    <a:ext cx="3336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57400" y="5105520"/>
          <a:ext cx="5240160" cy="54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105520"/>
                    <a:ext cx="52401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id Electroly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uspended electrolytes not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cipitation / crystal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ormation of solid electrolytes from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eparation of solid electrolytes into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id Electroly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mmonium-containing solid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14600" y="1828800"/>
          <a:ext cx="3648240" cy="5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36482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286000" y="2971800"/>
          <a:ext cx="4129200" cy="54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971800"/>
                    <a:ext cx="41292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209680" y="4267080"/>
          <a:ext cx="4510080" cy="57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267080"/>
                    <a:ext cx="4510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id Electroly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dium-containing solid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895480" y="1676520"/>
          <a:ext cx="3268800" cy="4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76520"/>
                    <a:ext cx="32688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614680" y="2438280"/>
          <a:ext cx="3938400" cy="54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4680" y="2438280"/>
                    <a:ext cx="3938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590920" y="3276720"/>
          <a:ext cx="4029120" cy="571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3276720"/>
                    <a:ext cx="40291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362320" y="4800600"/>
          <a:ext cx="4349520" cy="441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800600"/>
                    <a:ext cx="4349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438280" y="5654520"/>
          <a:ext cx="4730760" cy="441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5654520"/>
                    <a:ext cx="4730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7200" y="4114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id formation from the gas phase on surfac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Relation and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{}... = Activit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ffective concentration or intensity of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165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ga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038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165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ion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165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dissolved molecule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486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165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liquid water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172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165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solid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33720" y="1447920"/>
          <a:ext cx="536400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53640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23880" y="3193920"/>
          <a:ext cx="1905120" cy="5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93920"/>
                    <a:ext cx="19051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3809880"/>
          <a:ext cx="244476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809880"/>
                    <a:ext cx="2444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143000" y="4641840"/>
          <a:ext cx="234936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641840"/>
                    <a:ext cx="2349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85800" y="5257800"/>
          <a:ext cx="3776760" cy="88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5257800"/>
                    <a:ext cx="37767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523880" y="6153120"/>
          <a:ext cx="136548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6153120"/>
                    <a:ext cx="1365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Coefficient 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bbs free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thal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Gibbs fre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sure of maximum amount of useful work obtained from a change in enthalpy or entropy of the system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438280" y="1523880"/>
          <a:ext cx="44434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3880"/>
                    <a:ext cx="4443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352680" y="2692440"/>
          <a:ext cx="20955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692440"/>
                    <a:ext cx="2095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838080" y="5181480"/>
          <a:ext cx="745992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5181480"/>
                    <a:ext cx="7459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Coefficient 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internal energy in presence of reversible reactions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internal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81280" y="1752480"/>
          <a:ext cx="18097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1809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09680" y="3429000"/>
          <a:ext cx="46339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429000"/>
                    <a:ext cx="4633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590920" y="5181480"/>
          <a:ext cx="463392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181480"/>
                    <a:ext cx="46339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Coefficient 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7.26) into (17.24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ld temperature and pressure consta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09680" y="2133720"/>
          <a:ext cx="457056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5705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048120" y="4800600"/>
          <a:ext cx="260172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800600"/>
                    <a:ext cx="26017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Coefficient 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emical potential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sure of intensity of a substance or the measure of the change in free energy per change in moles of a substance = partial molar free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occurs when dG* = 0 in (17.2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133720" y="2908440"/>
          <a:ext cx="514188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08440"/>
                    <a:ext cx="51418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429000" y="5105520"/>
          <a:ext cx="18414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105520"/>
                    <a:ext cx="18414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Coefficient 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7.29) into (17.3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4572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ndard molal Gibbs free energy of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2280" y="1692360"/>
          <a:ext cx="8940960" cy="97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92360"/>
                    <a:ext cx="894096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146320" y="3390840"/>
          <a:ext cx="196848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6320" y="3390840"/>
                    <a:ext cx="19684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191120" y="3327480"/>
          <a:ext cx="228600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327480"/>
                    <a:ext cx="22860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352680" y="5410080"/>
          <a:ext cx="21909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5410080"/>
                    <a:ext cx="21909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ypes of Equilibrium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versible chemical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 conserv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vide each 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y smallest value of 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006640" y="1828800"/>
          <a:ext cx="24130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828800"/>
                    <a:ext cx="2413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43480" y="1752480"/>
          <a:ext cx="89064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3480" y="1752480"/>
                    <a:ext cx="890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467320" y="1828800"/>
          <a:ext cx="23814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67320" y="1828800"/>
                    <a:ext cx="2381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09680" y="3581280"/>
          <a:ext cx="21592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581280"/>
                    <a:ext cx="2159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443480" y="3505320"/>
          <a:ext cx="890640" cy="441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3480" y="3505320"/>
                    <a:ext cx="890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410080" y="3581280"/>
          <a:ext cx="215928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3581280"/>
                    <a:ext cx="2159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124080" y="4952880"/>
          <a:ext cx="2127240" cy="69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24080" y="4952880"/>
                    <a:ext cx="2127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Coefficient 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(17.3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right side of (17.32) is the equilibrium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1905120"/>
          <a:ext cx="552276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55227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057400" y="4572000"/>
          <a:ext cx="504684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572000"/>
                    <a:ext cx="50468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erature Dependence of Equilibrium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752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n't Hoff equation (similar to Arrhenius equation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al enthalpy of formation (J mo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of a subst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50292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Standard molal heat capacity at constant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standard molal enthalpy of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362320" y="2514600"/>
          <a:ext cx="46018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6018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590920" y="4343400"/>
          <a:ext cx="390348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343400"/>
                    <a:ext cx="39034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3880" y="4991040"/>
          <a:ext cx="5716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991040"/>
                    <a:ext cx="57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95280" y="5410080"/>
          <a:ext cx="88920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5410080"/>
                    <a:ext cx="889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erature Dependence of Equil Con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17.34) and (17.35) and write integr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09480" y="2247840"/>
          <a:ext cx="78393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47840"/>
                    <a:ext cx="7839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6080" y="4800600"/>
          <a:ext cx="9021600" cy="11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80" y="4800600"/>
                    <a:ext cx="90216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rms of Equilibrium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nry'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 a dilute solution, the pressure exerted by a gas at the gas-liquid interface is proportional to the molality of the dissolved gas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relationshi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nry's law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476440" y="3733920"/>
          <a:ext cx="133344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3733920"/>
                    <a:ext cx="1333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886200" y="3733920"/>
          <a:ext cx="89064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890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876920" y="3809880"/>
          <a:ext cx="146052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809880"/>
                    <a:ext cx="1460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914400" y="5029200"/>
          <a:ext cx="749124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5029200"/>
                    <a:ext cx="74912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ivity Coefficients (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count for deviation from ideal behavior of a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finitely dilute solution, no deviations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vely dilute solutions, deviations from Coulombic (electric) forces of attraction and repulsio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centrated solutions, deviations caused by ionic interactions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1 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ivity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ometric mean binary activity coeffici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362320" y="2209680"/>
          <a:ext cx="345888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4588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743200" y="4572000"/>
          <a:ext cx="263376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572000"/>
                    <a:ext cx="26337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ctrolyte Di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ivalent electroly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valent electrol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14800"/>
                <a:tab algn="l" pos="4927680"/>
                <a:tab algn="l" pos="66801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1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14800"/>
                <a:tab algn="l" pos="4927680"/>
                <a:tab algn="l" pos="66801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+1 and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14800"/>
                <a:tab algn="l" pos="4927680"/>
                <a:tab algn="l" pos="66801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2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14800"/>
                <a:tab algn="l" pos="4927680"/>
                <a:tab algn="l" pos="66801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-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+1 and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68280" y="2343240"/>
          <a:ext cx="14605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2343240"/>
                    <a:ext cx="1460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776240" y="2286000"/>
          <a:ext cx="89064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6240" y="2286000"/>
                    <a:ext cx="890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743200" y="2311560"/>
          <a:ext cx="149220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311560"/>
                    <a:ext cx="1492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28600" y="4946760"/>
          <a:ext cx="155592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946760"/>
                    <a:ext cx="15559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752480" y="4946760"/>
          <a:ext cx="890640" cy="441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4946760"/>
                    <a:ext cx="890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590920" y="4870440"/>
          <a:ext cx="190476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870440"/>
                    <a:ext cx="19047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118120" y="4800600"/>
          <a:ext cx="44460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18120" y="4800600"/>
                    <a:ext cx="444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5118120" y="2209680"/>
          <a:ext cx="444600" cy="38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8120" y="2209680"/>
                    <a:ext cx="444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718320" y="2209680"/>
          <a:ext cx="44460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18320" y="2209680"/>
                    <a:ext cx="444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6629400" y="4800600"/>
          <a:ext cx="44460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9400" y="4800600"/>
                    <a:ext cx="444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181480" y="2666880"/>
          <a:ext cx="381240" cy="38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81480" y="26668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181480" y="5257800"/>
          <a:ext cx="38124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81480" y="52578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781680" y="2666880"/>
          <a:ext cx="381240" cy="381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26668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781680" y="5257800"/>
          <a:ext cx="381240" cy="380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781680" y="52578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ctrolyte Di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ymmetric electroly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ge balance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657600" y="2362320"/>
          <a:ext cx="11746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362320"/>
                    <a:ext cx="1174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3505320" y="4572000"/>
          <a:ext cx="23176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572000"/>
                    <a:ext cx="2317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Rate 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14400" y="1143000"/>
          <a:ext cx="14605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1460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438280" y="1143000"/>
          <a:ext cx="89064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143000"/>
                    <a:ext cx="890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352680" y="1143000"/>
          <a:ext cx="149220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143000"/>
                    <a:ext cx="1492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76320" y="1676520"/>
          <a:ext cx="8977320" cy="12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1676520"/>
                    <a:ext cx="89773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07920" y="3726000"/>
          <a:ext cx="3969000" cy="541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7920" y="3726000"/>
                    <a:ext cx="39690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461960" y="4267080"/>
          <a:ext cx="6158160" cy="127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61960" y="4267080"/>
                    <a:ext cx="61581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523880" y="5715000"/>
          <a:ext cx="349092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5715000"/>
                    <a:ext cx="3490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5257800" y="5645160"/>
          <a:ext cx="1936800" cy="98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57800" y="5645160"/>
                    <a:ext cx="1936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Rate 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98720" y="1120680"/>
          <a:ext cx="339696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120680"/>
                    <a:ext cx="33969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600200" y="1752480"/>
          <a:ext cx="574524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752480"/>
                    <a:ext cx="5745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048120" y="3505320"/>
          <a:ext cx="35226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505320"/>
                    <a:ext cx="3522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860640" y="5270400"/>
          <a:ext cx="1778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60640" y="5270400"/>
                    <a:ext cx="17780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ypes of Equilibrium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34200" indent="-34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ubstance in which species dissolve in 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.g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.,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 dissolv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mbination of solute and sol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uspended material not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Rate 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143000" y="2133720"/>
          <a:ext cx="672948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7294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200400" y="3809880"/>
          <a:ext cx="336384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33638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505320" y="5486400"/>
          <a:ext cx="250812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486400"/>
                    <a:ext cx="25081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62120" y="1066680"/>
          <a:ext cx="5421240" cy="5158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066680"/>
                    <a:ext cx="5421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ilibrium Rate 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38080" y="1066680"/>
          <a:ext cx="5240520" cy="54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5240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295280" y="2031840"/>
          <a:ext cx="634860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031840"/>
                    <a:ext cx="63486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819520" y="3733920"/>
          <a:ext cx="342720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733920"/>
                    <a:ext cx="342720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809880" y="5486400"/>
          <a:ext cx="1778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486400"/>
                    <a:ext cx="17780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an Binary Activity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tzer's method of determining binary activity coefs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505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80880" y="2133720"/>
          <a:ext cx="79344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79344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752480" y="4267080"/>
          <a:ext cx="5935680" cy="10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267080"/>
                    <a:ext cx="59356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an Binary Activity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 are Pitzer parameter’s specific to individual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onic strength of solution (mol k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sure of the interionic effects resulting from attraction and repulsion among 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47920" y="1600200"/>
          <a:ext cx="62848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2848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133720" y="4876920"/>
          <a:ext cx="491940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876920"/>
                    <a:ext cx="49194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an Binary Activity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ternatively, fit a polynomial expression to mean binary activity coefficient data (valid to high molality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219320" y="2286000"/>
          <a:ext cx="615132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61513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an Binary Activity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4320" indent="43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mparison of measured (Hammer and Wu) and calculated (Pitzer) activity coeffic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990720" y="2057400"/>
          <a:ext cx="6933960" cy="459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93396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914400" y="2152800"/>
            <a:ext cx="68580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-631440" y="374832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n (binary activity coeffic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an Binary Activity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expression for 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coefficient expression for nit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438280" y="1981080"/>
          <a:ext cx="441180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44118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666880" y="4495680"/>
          <a:ext cx="469764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495680"/>
                    <a:ext cx="46976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 Dependence of Mean Binary Activity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erature dependent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4267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erature-dependent parameter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124080" y="1600200"/>
          <a:ext cx="26654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00200"/>
                    <a:ext cx="26654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666880" y="2209680"/>
          <a:ext cx="42213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09680"/>
                    <a:ext cx="4221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0" y="3124080"/>
          <a:ext cx="501480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24080"/>
                    <a:ext cx="50148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3733920" y="4876920"/>
          <a:ext cx="158724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876920"/>
                    <a:ext cx="1587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895480" y="5715000"/>
          <a:ext cx="285588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5715000"/>
                    <a:ext cx="2855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 Dep of Mean Binary Activity Co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nomial for relative apparent molal enthalp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nomial for apparent molal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3000"/>
          </a:bodyPr>
          <a:p>
            <a:pPr marL="78840" indent="-78840"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binary activity coefficient at temperatur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relative apparent molal enthalpy (J mol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apparent molal heat capacity (J mol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apparent molal heat capacity at infinite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133720" y="1828800"/>
          <a:ext cx="46339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28800"/>
                    <a:ext cx="4633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1905120" y="3429000"/>
          <a:ext cx="54277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429000"/>
                    <a:ext cx="54277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685800" y="4267080"/>
          <a:ext cx="114300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267080"/>
                    <a:ext cx="1143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914400" y="5359320"/>
          <a:ext cx="5716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5359320"/>
                    <a:ext cx="571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914400" y="5791320"/>
          <a:ext cx="571680" cy="66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791320"/>
                    <a:ext cx="571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 Dep of Mean Binary Activity Co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17.51) - (17.54) --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efficients for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6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523880" y="1752480"/>
          <a:ext cx="60627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062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2895480" y="3429000"/>
          <a:ext cx="31734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173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990720" y="4419720"/>
          <a:ext cx="2760480" cy="101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419720"/>
                    <a:ext cx="27604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5486400" y="4419720"/>
          <a:ext cx="2476440" cy="10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419720"/>
                    <a:ext cx="24764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1233360" y="3429000"/>
            <a:ext cx="1130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60120" y="3443400"/>
            <a:ext cx="971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-Particle Equilib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-particle reversible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as in equilibrium with solution at gas-solutio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ic ac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971800" y="1905120"/>
          <a:ext cx="314640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05120"/>
                    <a:ext cx="3146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668680" y="2819520"/>
          <a:ext cx="342720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8680" y="2819520"/>
                    <a:ext cx="34272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728800" y="3581280"/>
          <a:ext cx="336708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8800" y="3581280"/>
                    <a:ext cx="33670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4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172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8120" y="4419720"/>
          <a:ext cx="2795400" cy="438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419720"/>
                    <a:ext cx="2795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117960" y="5257800"/>
          <a:ext cx="2825640" cy="4381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17960" y="5257800"/>
                    <a:ext cx="28256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124080" y="6095880"/>
          <a:ext cx="2826000" cy="4381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6095880"/>
                    <a:ext cx="282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lfate and Bisulf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320" indent="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inary activity coefficients of sulfate and bisulfate, each alone in solution. Results valid for 0 - 40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80880" y="2155680"/>
          <a:ext cx="876312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55680"/>
                    <a:ext cx="876312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228600" y="2228760"/>
            <a:ext cx="685800" cy="334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-1083240" y="36871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inary activity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an Mixed Activity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tabLst>
                <a:tab algn="l" pos="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omley's metho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58-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inary activity coefficient of an electrolyte in a mixture of many electrolytes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838080" y="2057400"/>
          <a:ext cx="720576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057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42880" y="3330720"/>
          <a:ext cx="860112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880" y="3330720"/>
                    <a:ext cx="8601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51000" y="4475160"/>
          <a:ext cx="8793000" cy="8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" y="4475160"/>
                    <a:ext cx="8793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762120" y="5676840"/>
          <a:ext cx="333216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676840"/>
                    <a:ext cx="3332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5181480" y="5676840"/>
          <a:ext cx="336420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5676840"/>
                    <a:ext cx="3364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an Mixed Activity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alities of binary electrolyte found fr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alities of cation, anion alone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ality of binary electrolyte giving ionic strength of mixt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09480" y="1523880"/>
          <a:ext cx="79027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902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1828800" y="3581280"/>
          <a:ext cx="219060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581280"/>
                    <a:ext cx="2190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5410080" y="3581280"/>
          <a:ext cx="225432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581280"/>
                    <a:ext cx="22543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2895480" y="5410080"/>
          <a:ext cx="314172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410080"/>
                    <a:ext cx="3141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ctrolytes, Ions, and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ol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ubstance that undergoes partial or complete dissociation into ions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arged atom or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lecule breaks into simpler components, namely ions. Degree of dissociation depends on aci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sure of concentration of hydrogen ions (H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protons)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ctrolytes, Ions, and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idity measured in terms of p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Protons in solution donated b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60020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= -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H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molarity of H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(mol-H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L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s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marL="65160" indent="-6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ong acids (dissociate readily at low 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Cl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= 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NO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3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= nit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= 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ak acids (dissociate readily at higher 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422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= carbon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041480"/>
          <a:ext cx="8153280" cy="50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41480"/>
                    <a:ext cx="815328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ctrolytes, Ions, and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ic acid dissociation (pH above -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ic acid dissociation (pH above -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sulfate dissociation (pH above 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362320" y="1752480"/>
          <a:ext cx="4159080" cy="5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41590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935440" y="3352680"/>
          <a:ext cx="3236760" cy="601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5440" y="3352680"/>
                    <a:ext cx="323676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438280" y="5257800"/>
          <a:ext cx="3998880" cy="541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5257800"/>
                    <a:ext cx="3998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ctrolytes, Ions, and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chloric acid dissociation  (pH above -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carbonate dissociation (pH above 1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rbon dioxide dissociation (pH above 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7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19520" y="1828800"/>
          <a:ext cx="3336840" cy="4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828800"/>
                    <a:ext cx="3336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85800" y="3429000"/>
          <a:ext cx="7488360" cy="54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429000"/>
                    <a:ext cx="7488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666880" y="5257800"/>
          <a:ext cx="3299040" cy="60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257800"/>
                    <a:ext cx="32990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4-01T01:21:31Z</dcterms:modified>
  <cp:revision>680</cp:revision>
  <dc:subject/>
  <dc:title>Slide 1</dc:title>
</cp:coreProperties>
</file>