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elogen-3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gelogen0.wav" ContentType="audio/x-wav"/>
  <Override PartName="/ppt/media/image5.jpeg" ContentType="image/jpeg"/>
  <Override PartName="/ppt/media/gelogen+7.wav" ContentType="audio/x-wav"/>
  <Override PartName="/ppt/media/gelogen+6.wav" ContentType="audio/x-wav"/>
  <Override PartName="/ppt/media/gelogen+4.wav" ContentType="audio/x-wav"/>
  <Override PartName="/ppt/media/image1.jpeg" ContentType="image/jpeg"/>
  <Override PartName="/ppt/media/gelogen+3.wav" ContentType="audio/x-wav"/>
  <Override PartName="/ppt/media/gelogen+2.wav" ContentType="audio/x-wav"/>
  <Override PartName="/ppt/media/gelogen+1.wav" ContentType="audio/x-wav"/>
  <Override PartName="/ppt/media/gelogen-1.wav" ContentType="audio/x-wav"/>
  <Override PartName="/ppt/media/image2.jpeg" ContentType="image/jpeg"/>
  <Override PartName="/ppt/media/gelogen-2.wav" ContentType="audio/x-wav"/>
  <Override PartName="/ppt/media/image3.jpeg" ContentType="image/jpeg"/>
  <Override PartName="/ppt/media/image4.jpeg" ContentType="image/jpeg"/>
  <Override PartName="/ppt/media/gelogen+5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E2B-3840-4BC0-8F86-3CB4B138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8D3-12CE-4AE6-9527-53C5CEE4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88A-8058-40E5-8DB3-EA526E5C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CC5-DCD7-4287-9FB6-4D078D14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1D86-DC84-47AD-87A1-423529F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CA6-5010-4003-9D7D-CD8246D3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626D-ACF3-4CA0-9F82-9402D748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F17-7787-4360-A2AB-042EE2E5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611-7DA7-48C5-AE70-8144CAD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190-6377-4F1D-B51F-E18B6821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2AA-4D89-463F-AEFB-DBEC868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0A9-95E2-4937-A415-C32F75F7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2791-99AC-45A7-ACD3-78721331A2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gelogen-3.wav"/><Relationship Id="rId14" Type="http://schemas.openxmlformats.org/officeDocument/2006/relationships/audio" Target="../media/gelogen-2.wav"/><Relationship Id="rId15" Type="http://schemas.openxmlformats.org/officeDocument/2006/relationships/audio" Target="../media/gelogen-1.wav"/><Relationship Id="rId16" Type="http://schemas.openxmlformats.org/officeDocument/2006/relationships/audio" Target="../media/gelogen0.wav"/><Relationship Id="rId17" Type="http://schemas.openxmlformats.org/officeDocument/2006/relationships/audio" Target="../media/gelogen+1.wav"/><Relationship Id="rId18" Type="http://schemas.openxmlformats.org/officeDocument/2006/relationships/audio" Target="../media/gelogen+2.wav"/><Relationship Id="rId19" Type="http://schemas.openxmlformats.org/officeDocument/2006/relationships/audio" Target="../media/gelogen+3.wav"/><Relationship Id="rId20" Type="http://schemas.openxmlformats.org/officeDocument/2006/relationships/audio" Target="../media/gelogen+4.wav"/><Relationship Id="rId21" Type="http://schemas.openxmlformats.org/officeDocument/2006/relationships/audio" Target="../media/gelogen+5.wav"/><Relationship Id="rId22" Type="http://schemas.openxmlformats.org/officeDocument/2006/relationships/audio" Target="../media/gelogen+6.wav"/><Relationship Id="rId23" Type="http://schemas.openxmlformats.org/officeDocument/2006/relationships/audio" Target="../media/gelogen+7.wav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K. J. Kohle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mmuncative Functions and Linguistic Forms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 Speech Interac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mbridge University 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ebsite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hifting an F0 peak patte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rough the German utte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Sie hat ja gel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835280" y="333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ILDoulos IPA93"/>
                <a:ea typeface="SILDoulos IPA93"/>
              </a:rPr>
              <a:t>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gelogen_ori2"/>
          <p:cNvPicPr/>
          <p:nvPr/>
        </p:nvPicPr>
        <p:blipFill>
          <a:blip r:embed="rId1"/>
          <a:stretch/>
        </p:blipFill>
        <p:spPr>
          <a:xfrm>
            <a:off x="1042920" y="765000"/>
            <a:ext cx="6705720" cy="420372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3995640" y="692280"/>
            <a:ext cx="0" cy="388908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4500720" y="692280"/>
            <a:ext cx="0" cy="388908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4859280" y="692280"/>
            <a:ext cx="0" cy="4537080"/>
          </a:xfrm>
          <a:prstGeom prst="line">
            <a:avLst/>
          </a:prstGeom>
          <a:ln w="2844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>
            <a:off x="5940360" y="692280"/>
            <a:ext cx="0" cy="388908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211640" y="3284640"/>
            <a:ext cx="6476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>
            <a:off x="4859280" y="3284640"/>
            <a:ext cx="649440" cy="720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411280" y="3716280"/>
            <a:ext cx="1800360" cy="289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508720" y="4005360"/>
            <a:ext cx="1224000" cy="2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gelogen-3"/>
          <p:cNvPicPr/>
          <p:nvPr/>
        </p:nvPicPr>
        <p:blipFill>
          <a:blip r:embed="rId2"/>
          <a:stretch/>
        </p:blipFill>
        <p:spPr>
          <a:xfrm>
            <a:off x="1698480" y="5300640"/>
            <a:ext cx="5465880" cy="100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gelogen-2"/>
          <p:cNvPicPr/>
          <p:nvPr/>
        </p:nvPicPr>
        <p:blipFill>
          <a:blip r:embed="rId3"/>
          <a:stretch/>
        </p:blipFill>
        <p:spPr>
          <a:xfrm>
            <a:off x="1670040" y="5229360"/>
            <a:ext cx="5423040" cy="1104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gelogen-1"/>
          <p:cNvPicPr/>
          <p:nvPr/>
        </p:nvPicPr>
        <p:blipFill>
          <a:blip r:embed="rId4"/>
          <a:stretch/>
        </p:blipFill>
        <p:spPr>
          <a:xfrm>
            <a:off x="1735200" y="5300640"/>
            <a:ext cx="542916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gelogen0"/>
          <p:cNvPicPr/>
          <p:nvPr/>
        </p:nvPicPr>
        <p:blipFill>
          <a:blip r:embed="rId5"/>
          <a:stretch/>
        </p:blipFill>
        <p:spPr>
          <a:xfrm>
            <a:off x="1692360" y="5300640"/>
            <a:ext cx="5443560" cy="102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gelogen+1"/>
          <p:cNvPicPr/>
          <p:nvPr/>
        </p:nvPicPr>
        <p:blipFill>
          <a:blip r:embed="rId6"/>
          <a:stretch/>
        </p:blipFill>
        <p:spPr>
          <a:xfrm>
            <a:off x="1692360" y="5300640"/>
            <a:ext cx="5422680" cy="100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gelogen+2"/>
          <p:cNvPicPr/>
          <p:nvPr/>
        </p:nvPicPr>
        <p:blipFill>
          <a:blip r:embed="rId7"/>
          <a:stretch/>
        </p:blipFill>
        <p:spPr>
          <a:xfrm>
            <a:off x="1692360" y="5300640"/>
            <a:ext cx="5422680" cy="1019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8" descr="gelogen+3"/>
          <p:cNvPicPr/>
          <p:nvPr/>
        </p:nvPicPr>
        <p:blipFill>
          <a:blip r:embed="rId8"/>
          <a:stretch/>
        </p:blipFill>
        <p:spPr>
          <a:xfrm>
            <a:off x="1692360" y="5300640"/>
            <a:ext cx="538308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gelogen+4"/>
          <p:cNvPicPr/>
          <p:nvPr/>
        </p:nvPicPr>
        <p:blipFill>
          <a:blip r:embed="rId9"/>
          <a:stretch/>
        </p:blipFill>
        <p:spPr>
          <a:xfrm>
            <a:off x="1657440" y="5300640"/>
            <a:ext cx="5075280" cy="101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gelogen+5"/>
          <p:cNvPicPr/>
          <p:nvPr/>
        </p:nvPicPr>
        <p:blipFill>
          <a:blip r:embed="rId10"/>
          <a:stretch/>
        </p:blipFill>
        <p:spPr>
          <a:xfrm>
            <a:off x="1692360" y="5300640"/>
            <a:ext cx="544968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1" descr="gelogen+6"/>
          <p:cNvPicPr/>
          <p:nvPr/>
        </p:nvPicPr>
        <p:blipFill>
          <a:blip r:embed="rId11"/>
          <a:stretch/>
        </p:blipFill>
        <p:spPr>
          <a:xfrm>
            <a:off x="1712880" y="5300640"/>
            <a:ext cx="5019840" cy="10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2" descr="gelogen+7"/>
          <p:cNvPicPr/>
          <p:nvPr/>
        </p:nvPicPr>
        <p:blipFill>
          <a:blip r:embed="rId12"/>
          <a:stretch/>
        </p:blipFill>
        <p:spPr>
          <a:xfrm>
            <a:off x="1677960" y="5300640"/>
            <a:ext cx="5486400" cy="10080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3"/>
          <p:cNvSpPr/>
          <p:nvPr/>
        </p:nvSpPr>
        <p:spPr>
          <a:xfrm>
            <a:off x="7597800" y="4149720"/>
            <a:ext cx="719280" cy="358920"/>
          </a:xfrm>
          <a:prstGeom prst="borderCallout1">
            <a:avLst>
              <a:gd name="adj1" fmla="val 18750"/>
              <a:gd name="adj2" fmla="val -8333"/>
              <a:gd name="adj3" fmla="val 46902"/>
              <a:gd name="adj4" fmla="val -10882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6013440" y="3243240"/>
            <a:ext cx="863640" cy="401760"/>
          </a:xfrm>
          <a:prstGeom prst="borderCallout1">
            <a:avLst>
              <a:gd name="adj1" fmla="val 18750"/>
              <a:gd name="adj2" fmla="val -8333"/>
              <a:gd name="adj3" fmla="val 14625"/>
              <a:gd name="adj4" fmla="val -398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4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6659640" y="3719520"/>
            <a:ext cx="792000" cy="357120"/>
          </a:xfrm>
          <a:prstGeom prst="borderCallout1">
            <a:avLst>
              <a:gd name="adj1" fmla="val 18750"/>
              <a:gd name="adj2" fmla="val -8333"/>
              <a:gd name="adj3" fmla="val 113333"/>
              <a:gd name="adj4" fmla="val -503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85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5148360" y="4149720"/>
            <a:ext cx="718920" cy="358920"/>
          </a:xfrm>
          <a:prstGeom prst="borderCallout1">
            <a:avLst>
              <a:gd name="adj1" fmla="val 18750"/>
              <a:gd name="adj2" fmla="val -8333"/>
              <a:gd name="adj3" fmla="val -36726"/>
              <a:gd name="adj4" fmla="val -267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9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2771640" y="3251160"/>
            <a:ext cx="863640" cy="360360"/>
          </a:xfrm>
          <a:prstGeom prst="borderCallout1">
            <a:avLst>
              <a:gd name="adj1" fmla="val 18750"/>
              <a:gd name="adj2" fmla="val -8333"/>
              <a:gd name="adj3" fmla="val 136125"/>
              <a:gd name="adj4" fmla="val -42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1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gelogen-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elogen-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elogen-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elogen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elogen+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elogen+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elogen+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elogen+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elogen+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elogen+6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2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gelogen+7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4T03:27:28Z</dcterms:created>
  <dc:creator>Kohler</dc:creator>
  <dc:description/>
  <dc:language>en-US</dc:language>
  <cp:lastModifiedBy>Kohler</cp:lastModifiedBy>
  <dcterms:modified xsi:type="dcterms:W3CDTF">2016-08-02T08:21:01Z</dcterms:modified>
  <cp:revision>8</cp:revision>
  <dc:subject/>
  <dc:title>Folie 1</dc:title>
</cp:coreProperties>
</file>