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05.wav" ContentType="audio/x-wav"/>
  <Override PartName="/ppt/media/01.wav" ContentType="audio/x-wav"/>
  <Override PartName="/ppt/media/02.wav" ContentType="audio/x-wav"/>
  <Override PartName="/ppt/media/03.wav" ContentType="audio/x-wav"/>
  <Override PartName="/ppt/media/04.wav" ContentType="audio/x-wav"/>
  <Override PartName="/ppt/media/06.wav" ContentType="audio/x-wav"/>
  <Override PartName="/ppt/media/07.wav" ContentType="audio/x-wav"/>
  <Override PartName="/ppt/media/08.wav" ContentType="audio/x-wav"/>
  <Override PartName="/ppt/media/09.wav" ContentType="audio/x-wav"/>
  <Override PartName="/ppt/media/10.wav" ContentType="audio/x-wav"/>
  <Override PartName="/ppt/media/11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5D20-C6B8-4BC9-ACC6-606FC5F34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68EC-3A18-4787-AAF4-F8A2E0D3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0120-9E8B-460B-B2D1-E062215AC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73D3-17F8-4982-AD30-186B85E29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D4C8-34A9-4374-8033-955E4F2B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F4EF-2DBE-4F47-966E-79EAA768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C1AD-8C21-430F-A9A8-83F6F47B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4EDF-FEED-4E6C-9708-33F32D18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4D3E-3BC3-44C4-A9B1-7FF5A7A6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CD8D-2B14-4162-8E8C-FB769DF0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F4B8-0762-4E5E-9871-D6B2C77F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83F1-9028-4580-A7A0-9E7B4B5F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5E02-3E7B-41EB-8877-70F4012C4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05.wav"/><Relationship Id="rId2" Type="http://schemas.openxmlformats.org/officeDocument/2006/relationships/audio" Target="../media/01.wav"/><Relationship Id="rId3" Type="http://schemas.openxmlformats.org/officeDocument/2006/relationships/audio" Target="../media/02.wav"/><Relationship Id="rId4" Type="http://schemas.openxmlformats.org/officeDocument/2006/relationships/audio" Target="../media/03.wav"/><Relationship Id="rId5" Type="http://schemas.openxmlformats.org/officeDocument/2006/relationships/audio" Target="../media/04.wav"/><Relationship Id="rId6" Type="http://schemas.openxmlformats.org/officeDocument/2006/relationships/audio" Target="../media/05.wav"/><Relationship Id="rId7" Type="http://schemas.openxmlformats.org/officeDocument/2006/relationships/audio" Target="../media/06.wav"/><Relationship Id="rId8" Type="http://schemas.openxmlformats.org/officeDocument/2006/relationships/audio" Target="../media/07.wav"/><Relationship Id="rId9" Type="http://schemas.openxmlformats.org/officeDocument/2006/relationships/audio" Target="../media/08.wav"/><Relationship Id="rId10" Type="http://schemas.openxmlformats.org/officeDocument/2006/relationships/audio" Target="../media/09.wav"/><Relationship Id="rId11" Type="http://schemas.openxmlformats.org/officeDocument/2006/relationships/audio" Target="../media/10.wav"/><Relationship Id="rId12" Type="http://schemas.openxmlformats.org/officeDocument/2006/relationships/audio" Target="../media/11.wav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K. J. Kohle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mmuncative Functions and Linguistic Forms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 Speech Interaction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ambridge University P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2922480"/>
            <a:ext cx="7772400" cy="33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ebsite mate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hifting an F0 peak patter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rough the English utte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4000" y="1981080"/>
            <a:ext cx="7761240" cy="6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S = accented syllabl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AS = postaccented syl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3"/>
          <p:cNvGrpSpPr/>
          <p:nvPr/>
        </p:nvGrpSpPr>
        <p:grpSpPr>
          <a:xfrm>
            <a:off x="1042560" y="4508640"/>
            <a:ext cx="6480720" cy="1368360"/>
            <a:chOff x="1042560" y="4508640"/>
            <a:chExt cx="6480720" cy="1368360"/>
          </a:xfrm>
        </p:grpSpPr>
        <p:sp>
          <p:nvSpPr>
            <p:cNvPr id="45" name="Line 4"/>
            <p:cNvSpPr/>
            <p:nvPr/>
          </p:nvSpPr>
          <p:spPr>
            <a:xfrm>
              <a:off x="5219640" y="5373720"/>
              <a:ext cx="2303640" cy="50328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" name="Group 5"/>
            <p:cNvGrpSpPr/>
            <p:nvPr/>
          </p:nvGrpSpPr>
          <p:grpSpPr>
            <a:xfrm>
              <a:off x="1042560" y="4508640"/>
              <a:ext cx="4175280" cy="863640"/>
              <a:chOff x="1042560" y="4508640"/>
              <a:chExt cx="4175280" cy="863640"/>
            </a:xfrm>
          </p:grpSpPr>
          <p:grpSp>
            <p:nvGrpSpPr>
              <p:cNvPr id="47" name="Group 6"/>
              <p:cNvGrpSpPr/>
              <p:nvPr/>
            </p:nvGrpSpPr>
            <p:grpSpPr>
              <a:xfrm>
                <a:off x="3201840" y="4508640"/>
                <a:ext cx="2016000" cy="863640"/>
                <a:chOff x="3201840" y="4508640"/>
                <a:chExt cx="2016000" cy="863640"/>
              </a:xfrm>
            </p:grpSpPr>
            <p:sp>
              <p:nvSpPr>
                <p:cNvPr id="48" name="Line 7"/>
                <p:cNvSpPr/>
                <p:nvPr/>
              </p:nvSpPr>
              <p:spPr>
                <a:xfrm flipV="1">
                  <a:off x="3201840" y="4508640"/>
                  <a:ext cx="1008000" cy="504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Line 8"/>
                <p:cNvSpPr/>
                <p:nvPr/>
              </p:nvSpPr>
              <p:spPr>
                <a:xfrm>
                  <a:off x="4209840" y="4508640"/>
                  <a:ext cx="1008000" cy="863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" name="Line 9"/>
              <p:cNvSpPr/>
              <p:nvPr/>
            </p:nvSpPr>
            <p:spPr>
              <a:xfrm flipH="1">
                <a:off x="1042560" y="5013360"/>
                <a:ext cx="2158920" cy="71280"/>
              </a:xfrm>
              <a:prstGeom prst="line">
                <a:avLst/>
              </a:prstGeom>
              <a:ln cap="rnd" w="25560">
                <a:solidFill>
                  <a:srgbClr val="00000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" name="Group 10"/>
          <p:cNvGrpSpPr/>
          <p:nvPr/>
        </p:nvGrpSpPr>
        <p:grpSpPr>
          <a:xfrm>
            <a:off x="1042920" y="4508640"/>
            <a:ext cx="6478560" cy="1365120"/>
            <a:chOff x="1042920" y="4508640"/>
            <a:chExt cx="6478560" cy="1365120"/>
          </a:xfrm>
        </p:grpSpPr>
        <p:sp>
          <p:nvSpPr>
            <p:cNvPr id="52" name="Line 11"/>
            <p:cNvSpPr/>
            <p:nvPr/>
          </p:nvSpPr>
          <p:spPr>
            <a:xfrm>
              <a:off x="5433840" y="5370480"/>
              <a:ext cx="2087640" cy="50328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" name="Group 12"/>
            <p:cNvGrpSpPr/>
            <p:nvPr/>
          </p:nvGrpSpPr>
          <p:grpSpPr>
            <a:xfrm>
              <a:off x="1042920" y="4508640"/>
              <a:ext cx="4390920" cy="863640"/>
              <a:chOff x="1042920" y="4508640"/>
              <a:chExt cx="4390920" cy="863640"/>
            </a:xfrm>
          </p:grpSpPr>
          <p:sp>
            <p:nvSpPr>
              <p:cNvPr id="54" name="Line 13"/>
              <p:cNvSpPr/>
              <p:nvPr/>
            </p:nvSpPr>
            <p:spPr>
              <a:xfrm flipH="1">
                <a:off x="1042920" y="5011560"/>
                <a:ext cx="2376720" cy="71640"/>
              </a:xfrm>
              <a:prstGeom prst="line">
                <a:avLst/>
              </a:prstGeom>
              <a:ln cap="rnd" w="25560">
                <a:solidFill>
                  <a:srgbClr val="00000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" name="Group 14"/>
              <p:cNvGrpSpPr/>
              <p:nvPr/>
            </p:nvGrpSpPr>
            <p:grpSpPr>
              <a:xfrm>
                <a:off x="3417840" y="4508640"/>
                <a:ext cx="2016000" cy="863640"/>
                <a:chOff x="3417840" y="4508640"/>
                <a:chExt cx="2016000" cy="863640"/>
              </a:xfrm>
            </p:grpSpPr>
            <p:sp>
              <p:nvSpPr>
                <p:cNvPr id="56" name="Line 15"/>
                <p:cNvSpPr/>
                <p:nvPr/>
              </p:nvSpPr>
              <p:spPr>
                <a:xfrm flipV="1">
                  <a:off x="3417840" y="4508640"/>
                  <a:ext cx="1008000" cy="504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Line 16"/>
                <p:cNvSpPr/>
                <p:nvPr/>
              </p:nvSpPr>
              <p:spPr>
                <a:xfrm>
                  <a:off x="4425840" y="4508640"/>
                  <a:ext cx="1008000" cy="863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8" name="Group 17"/>
          <p:cNvGrpSpPr/>
          <p:nvPr/>
        </p:nvGrpSpPr>
        <p:grpSpPr>
          <a:xfrm>
            <a:off x="1042920" y="4508280"/>
            <a:ext cx="6480000" cy="1366560"/>
            <a:chOff x="1042920" y="4508280"/>
            <a:chExt cx="6480000" cy="1366560"/>
          </a:xfrm>
        </p:grpSpPr>
        <p:sp>
          <p:nvSpPr>
            <p:cNvPr id="59" name="Line 18"/>
            <p:cNvSpPr/>
            <p:nvPr/>
          </p:nvSpPr>
          <p:spPr>
            <a:xfrm>
              <a:off x="5651280" y="5371920"/>
              <a:ext cx="1871640" cy="50292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Group 19"/>
            <p:cNvGrpSpPr/>
            <p:nvPr/>
          </p:nvGrpSpPr>
          <p:grpSpPr>
            <a:xfrm>
              <a:off x="3635280" y="4508280"/>
              <a:ext cx="2016000" cy="863640"/>
              <a:chOff x="3635280" y="4508280"/>
              <a:chExt cx="2016000" cy="863640"/>
            </a:xfrm>
          </p:grpSpPr>
          <p:sp>
            <p:nvSpPr>
              <p:cNvPr id="61" name="Line 20"/>
              <p:cNvSpPr/>
              <p:nvPr/>
            </p:nvSpPr>
            <p:spPr>
              <a:xfrm flipV="1">
                <a:off x="3635280" y="4508280"/>
                <a:ext cx="1008000" cy="50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Line 21"/>
              <p:cNvSpPr/>
              <p:nvPr/>
            </p:nvSpPr>
            <p:spPr>
              <a:xfrm>
                <a:off x="4643280" y="4508640"/>
                <a:ext cx="1008000" cy="863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" name="Line 22"/>
            <p:cNvSpPr/>
            <p:nvPr/>
          </p:nvSpPr>
          <p:spPr>
            <a:xfrm flipH="1">
              <a:off x="1042920" y="5013360"/>
              <a:ext cx="2590560" cy="7092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Group 23"/>
          <p:cNvGrpSpPr/>
          <p:nvPr/>
        </p:nvGrpSpPr>
        <p:grpSpPr>
          <a:xfrm>
            <a:off x="1042560" y="4508640"/>
            <a:ext cx="6478920" cy="1366560"/>
            <a:chOff x="1042560" y="4508640"/>
            <a:chExt cx="6478920" cy="1366560"/>
          </a:xfrm>
        </p:grpSpPr>
        <p:sp>
          <p:nvSpPr>
            <p:cNvPr id="65" name="Line 24"/>
            <p:cNvSpPr/>
            <p:nvPr/>
          </p:nvSpPr>
          <p:spPr>
            <a:xfrm flipH="1">
              <a:off x="1042560" y="5011560"/>
              <a:ext cx="2806920" cy="71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25"/>
            <p:cNvSpPr/>
            <p:nvPr/>
          </p:nvSpPr>
          <p:spPr>
            <a:xfrm>
              <a:off x="5865840" y="5372280"/>
              <a:ext cx="1655640" cy="50292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Group 26"/>
            <p:cNvGrpSpPr/>
            <p:nvPr/>
          </p:nvGrpSpPr>
          <p:grpSpPr>
            <a:xfrm>
              <a:off x="3851280" y="4508640"/>
              <a:ext cx="2016000" cy="863640"/>
              <a:chOff x="3851280" y="4508640"/>
              <a:chExt cx="2016000" cy="863640"/>
            </a:xfrm>
          </p:grpSpPr>
          <p:sp>
            <p:nvSpPr>
              <p:cNvPr id="68" name="Line 27"/>
              <p:cNvSpPr/>
              <p:nvPr/>
            </p:nvSpPr>
            <p:spPr>
              <a:xfrm flipV="1">
                <a:off x="3851280" y="4508640"/>
                <a:ext cx="1008000" cy="504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Line 28"/>
              <p:cNvSpPr/>
              <p:nvPr/>
            </p:nvSpPr>
            <p:spPr>
              <a:xfrm>
                <a:off x="4859280" y="4508640"/>
                <a:ext cx="1008000" cy="863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" name="Group 29"/>
          <p:cNvGrpSpPr/>
          <p:nvPr/>
        </p:nvGrpSpPr>
        <p:grpSpPr>
          <a:xfrm>
            <a:off x="1042920" y="4508640"/>
            <a:ext cx="6478560" cy="1366560"/>
            <a:chOff x="1042920" y="4508640"/>
            <a:chExt cx="6478560" cy="1366560"/>
          </a:xfrm>
        </p:grpSpPr>
        <p:grpSp>
          <p:nvGrpSpPr>
            <p:cNvPr id="71" name="Group 30"/>
            <p:cNvGrpSpPr/>
            <p:nvPr/>
          </p:nvGrpSpPr>
          <p:grpSpPr>
            <a:xfrm>
              <a:off x="4067280" y="4508640"/>
              <a:ext cx="2016000" cy="863640"/>
              <a:chOff x="4067280" y="4508640"/>
              <a:chExt cx="2016000" cy="863640"/>
            </a:xfrm>
          </p:grpSpPr>
          <p:sp>
            <p:nvSpPr>
              <p:cNvPr id="72" name="Line 31"/>
              <p:cNvSpPr/>
              <p:nvPr/>
            </p:nvSpPr>
            <p:spPr>
              <a:xfrm flipV="1">
                <a:off x="4067280" y="4508640"/>
                <a:ext cx="1008000" cy="504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Line 32"/>
              <p:cNvSpPr/>
              <p:nvPr/>
            </p:nvSpPr>
            <p:spPr>
              <a:xfrm>
                <a:off x="5075280" y="4508640"/>
                <a:ext cx="1008000" cy="863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Line 33"/>
            <p:cNvSpPr/>
            <p:nvPr/>
          </p:nvSpPr>
          <p:spPr>
            <a:xfrm flipH="1">
              <a:off x="1042920" y="5011920"/>
              <a:ext cx="3022560" cy="7128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34"/>
            <p:cNvSpPr/>
            <p:nvPr/>
          </p:nvSpPr>
          <p:spPr>
            <a:xfrm>
              <a:off x="6081840" y="5372280"/>
              <a:ext cx="1439640" cy="50292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Group 35"/>
          <p:cNvGrpSpPr/>
          <p:nvPr/>
        </p:nvGrpSpPr>
        <p:grpSpPr>
          <a:xfrm>
            <a:off x="1042920" y="4508640"/>
            <a:ext cx="6478560" cy="1368360"/>
            <a:chOff x="1042920" y="4508640"/>
            <a:chExt cx="6478560" cy="1368360"/>
          </a:xfrm>
        </p:grpSpPr>
        <p:grpSp>
          <p:nvGrpSpPr>
            <p:cNvPr id="77" name="Group 36"/>
            <p:cNvGrpSpPr/>
            <p:nvPr/>
          </p:nvGrpSpPr>
          <p:grpSpPr>
            <a:xfrm>
              <a:off x="4279680" y="4508640"/>
              <a:ext cx="2016000" cy="863640"/>
              <a:chOff x="4279680" y="4508640"/>
              <a:chExt cx="2016000" cy="863640"/>
            </a:xfrm>
          </p:grpSpPr>
          <p:sp>
            <p:nvSpPr>
              <p:cNvPr id="78" name="Line 37"/>
              <p:cNvSpPr/>
              <p:nvPr/>
            </p:nvSpPr>
            <p:spPr>
              <a:xfrm flipV="1">
                <a:off x="4279680" y="4508640"/>
                <a:ext cx="1008000" cy="504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Line 38"/>
              <p:cNvSpPr/>
              <p:nvPr/>
            </p:nvSpPr>
            <p:spPr>
              <a:xfrm>
                <a:off x="5287680" y="4508640"/>
                <a:ext cx="1008000" cy="863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Line 39"/>
            <p:cNvSpPr/>
            <p:nvPr/>
          </p:nvSpPr>
          <p:spPr>
            <a:xfrm flipH="1">
              <a:off x="1042920" y="5013360"/>
              <a:ext cx="3238560" cy="7128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40"/>
            <p:cNvSpPr/>
            <p:nvPr/>
          </p:nvSpPr>
          <p:spPr>
            <a:xfrm>
              <a:off x="6297480" y="5373720"/>
              <a:ext cx="1224000" cy="50328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Group 41"/>
          <p:cNvGrpSpPr/>
          <p:nvPr/>
        </p:nvGrpSpPr>
        <p:grpSpPr>
          <a:xfrm>
            <a:off x="1042920" y="4508640"/>
            <a:ext cx="6478560" cy="1366560"/>
            <a:chOff x="1042920" y="4508640"/>
            <a:chExt cx="6478560" cy="1366560"/>
          </a:xfrm>
        </p:grpSpPr>
        <p:grpSp>
          <p:nvGrpSpPr>
            <p:cNvPr id="83" name="Group 42"/>
            <p:cNvGrpSpPr/>
            <p:nvPr/>
          </p:nvGrpSpPr>
          <p:grpSpPr>
            <a:xfrm>
              <a:off x="4498920" y="4508640"/>
              <a:ext cx="2016000" cy="863640"/>
              <a:chOff x="4498920" y="4508640"/>
              <a:chExt cx="2016000" cy="863640"/>
            </a:xfrm>
          </p:grpSpPr>
          <p:sp>
            <p:nvSpPr>
              <p:cNvPr id="84" name="Line 43"/>
              <p:cNvSpPr/>
              <p:nvPr/>
            </p:nvSpPr>
            <p:spPr>
              <a:xfrm flipV="1">
                <a:off x="4498920" y="4508640"/>
                <a:ext cx="1008000" cy="504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Line 44"/>
              <p:cNvSpPr/>
              <p:nvPr/>
            </p:nvSpPr>
            <p:spPr>
              <a:xfrm>
                <a:off x="5506920" y="4508640"/>
                <a:ext cx="1008000" cy="863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Line 45"/>
            <p:cNvSpPr/>
            <p:nvPr/>
          </p:nvSpPr>
          <p:spPr>
            <a:xfrm flipH="1">
              <a:off x="1042920" y="5011560"/>
              <a:ext cx="3454560" cy="71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46"/>
            <p:cNvSpPr/>
            <p:nvPr/>
          </p:nvSpPr>
          <p:spPr>
            <a:xfrm>
              <a:off x="6513480" y="5372280"/>
              <a:ext cx="1008000" cy="50292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Group 47"/>
          <p:cNvGrpSpPr/>
          <p:nvPr/>
        </p:nvGrpSpPr>
        <p:grpSpPr>
          <a:xfrm>
            <a:off x="1042560" y="4508640"/>
            <a:ext cx="6478920" cy="1366560"/>
            <a:chOff x="1042560" y="4508640"/>
            <a:chExt cx="6478920" cy="1366560"/>
          </a:xfrm>
        </p:grpSpPr>
        <p:grpSp>
          <p:nvGrpSpPr>
            <p:cNvPr id="89" name="Group 48"/>
            <p:cNvGrpSpPr/>
            <p:nvPr/>
          </p:nvGrpSpPr>
          <p:grpSpPr>
            <a:xfrm>
              <a:off x="4714920" y="4508640"/>
              <a:ext cx="2016000" cy="863640"/>
              <a:chOff x="4714920" y="4508640"/>
              <a:chExt cx="2016000" cy="863640"/>
            </a:xfrm>
          </p:grpSpPr>
          <p:sp>
            <p:nvSpPr>
              <p:cNvPr id="90" name="Line 49"/>
              <p:cNvSpPr/>
              <p:nvPr/>
            </p:nvSpPr>
            <p:spPr>
              <a:xfrm flipV="1">
                <a:off x="4714920" y="4508640"/>
                <a:ext cx="1008000" cy="504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Line 50"/>
              <p:cNvSpPr/>
              <p:nvPr/>
            </p:nvSpPr>
            <p:spPr>
              <a:xfrm>
                <a:off x="5722920" y="4508640"/>
                <a:ext cx="1008000" cy="863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" name="Line 51"/>
            <p:cNvSpPr/>
            <p:nvPr/>
          </p:nvSpPr>
          <p:spPr>
            <a:xfrm flipH="1">
              <a:off x="1042560" y="5011560"/>
              <a:ext cx="3670200" cy="71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52"/>
            <p:cNvSpPr/>
            <p:nvPr/>
          </p:nvSpPr>
          <p:spPr>
            <a:xfrm>
              <a:off x="6729480" y="5372280"/>
              <a:ext cx="792000" cy="50292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53"/>
          <p:cNvGrpSpPr/>
          <p:nvPr/>
        </p:nvGrpSpPr>
        <p:grpSpPr>
          <a:xfrm>
            <a:off x="1042560" y="4508640"/>
            <a:ext cx="6478920" cy="1366560"/>
            <a:chOff x="1042560" y="4508640"/>
            <a:chExt cx="6478920" cy="1366560"/>
          </a:xfrm>
        </p:grpSpPr>
        <p:grpSp>
          <p:nvGrpSpPr>
            <p:cNvPr id="95" name="Group 54"/>
            <p:cNvGrpSpPr/>
            <p:nvPr/>
          </p:nvGrpSpPr>
          <p:grpSpPr>
            <a:xfrm>
              <a:off x="4930920" y="4508640"/>
              <a:ext cx="2016000" cy="863640"/>
              <a:chOff x="4930920" y="4508640"/>
              <a:chExt cx="2016000" cy="863640"/>
            </a:xfrm>
          </p:grpSpPr>
          <p:sp>
            <p:nvSpPr>
              <p:cNvPr id="96" name="Line 55"/>
              <p:cNvSpPr/>
              <p:nvPr/>
            </p:nvSpPr>
            <p:spPr>
              <a:xfrm flipV="1">
                <a:off x="4930920" y="4508640"/>
                <a:ext cx="1008000" cy="504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Line 56"/>
              <p:cNvSpPr/>
              <p:nvPr/>
            </p:nvSpPr>
            <p:spPr>
              <a:xfrm>
                <a:off x="5938920" y="4508640"/>
                <a:ext cx="1008000" cy="863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Line 57"/>
            <p:cNvSpPr/>
            <p:nvPr/>
          </p:nvSpPr>
          <p:spPr>
            <a:xfrm flipH="1">
              <a:off x="1042560" y="5011560"/>
              <a:ext cx="3886200" cy="71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58"/>
            <p:cNvSpPr/>
            <p:nvPr/>
          </p:nvSpPr>
          <p:spPr>
            <a:xfrm>
              <a:off x="6945480" y="5372280"/>
              <a:ext cx="576000" cy="50292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Group 59"/>
          <p:cNvGrpSpPr/>
          <p:nvPr/>
        </p:nvGrpSpPr>
        <p:grpSpPr>
          <a:xfrm>
            <a:off x="1042560" y="4508640"/>
            <a:ext cx="6478920" cy="1366560"/>
            <a:chOff x="1042560" y="4508640"/>
            <a:chExt cx="6478920" cy="1366560"/>
          </a:xfrm>
        </p:grpSpPr>
        <p:grpSp>
          <p:nvGrpSpPr>
            <p:cNvPr id="101" name="Group 60"/>
            <p:cNvGrpSpPr/>
            <p:nvPr/>
          </p:nvGrpSpPr>
          <p:grpSpPr>
            <a:xfrm>
              <a:off x="5146560" y="4508640"/>
              <a:ext cx="2016000" cy="863640"/>
              <a:chOff x="5146560" y="4508640"/>
              <a:chExt cx="2016000" cy="863640"/>
            </a:xfrm>
          </p:grpSpPr>
          <p:sp>
            <p:nvSpPr>
              <p:cNvPr id="102" name="Line 61"/>
              <p:cNvSpPr/>
              <p:nvPr/>
            </p:nvSpPr>
            <p:spPr>
              <a:xfrm flipV="1">
                <a:off x="5146560" y="4508640"/>
                <a:ext cx="1008000" cy="504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Line 62"/>
              <p:cNvSpPr/>
              <p:nvPr/>
            </p:nvSpPr>
            <p:spPr>
              <a:xfrm>
                <a:off x="6154560" y="4508640"/>
                <a:ext cx="1008000" cy="863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Line 63"/>
            <p:cNvSpPr/>
            <p:nvPr/>
          </p:nvSpPr>
          <p:spPr>
            <a:xfrm flipH="1">
              <a:off x="1042560" y="5011560"/>
              <a:ext cx="4102200" cy="7164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64"/>
            <p:cNvSpPr/>
            <p:nvPr/>
          </p:nvSpPr>
          <p:spPr>
            <a:xfrm>
              <a:off x="7161120" y="5372280"/>
              <a:ext cx="360360" cy="50292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Group 65"/>
          <p:cNvGrpSpPr/>
          <p:nvPr/>
        </p:nvGrpSpPr>
        <p:grpSpPr>
          <a:xfrm>
            <a:off x="1042920" y="4508280"/>
            <a:ext cx="6477120" cy="1366560"/>
            <a:chOff x="1042920" y="4508280"/>
            <a:chExt cx="6477120" cy="1366560"/>
          </a:xfrm>
        </p:grpSpPr>
        <p:grpSp>
          <p:nvGrpSpPr>
            <p:cNvPr id="107" name="Group 66"/>
            <p:cNvGrpSpPr/>
            <p:nvPr/>
          </p:nvGrpSpPr>
          <p:grpSpPr>
            <a:xfrm>
              <a:off x="5360760" y="4508280"/>
              <a:ext cx="2016000" cy="863640"/>
              <a:chOff x="5360760" y="4508280"/>
              <a:chExt cx="2016000" cy="863640"/>
            </a:xfrm>
          </p:grpSpPr>
          <p:sp>
            <p:nvSpPr>
              <p:cNvPr id="108" name="Line 67"/>
              <p:cNvSpPr/>
              <p:nvPr/>
            </p:nvSpPr>
            <p:spPr>
              <a:xfrm flipV="1">
                <a:off x="5360760" y="4508280"/>
                <a:ext cx="1008000" cy="50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Line 68"/>
              <p:cNvSpPr/>
              <p:nvPr/>
            </p:nvSpPr>
            <p:spPr>
              <a:xfrm>
                <a:off x="6368760" y="4508640"/>
                <a:ext cx="1008000" cy="863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Line 69"/>
            <p:cNvSpPr/>
            <p:nvPr/>
          </p:nvSpPr>
          <p:spPr>
            <a:xfrm flipH="1">
              <a:off x="1042920" y="5011560"/>
              <a:ext cx="4317840" cy="7092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70"/>
            <p:cNvSpPr/>
            <p:nvPr/>
          </p:nvSpPr>
          <p:spPr>
            <a:xfrm>
              <a:off x="7375320" y="5371920"/>
              <a:ext cx="144720" cy="502920"/>
            </a:xfrm>
            <a:prstGeom prst="line">
              <a:avLst/>
            </a:prstGeom>
            <a:ln cap="rnd" w="255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Group 71"/>
          <p:cNvGrpSpPr/>
          <p:nvPr/>
        </p:nvGrpSpPr>
        <p:grpSpPr>
          <a:xfrm>
            <a:off x="1006560" y="3860640"/>
            <a:ext cx="7886520" cy="2090880"/>
            <a:chOff x="1006560" y="3860640"/>
            <a:chExt cx="7886520" cy="2090880"/>
          </a:xfrm>
        </p:grpSpPr>
        <p:sp>
          <p:nvSpPr>
            <p:cNvPr id="113" name="Oval 72"/>
            <p:cNvSpPr/>
            <p:nvPr/>
          </p:nvSpPr>
          <p:spPr>
            <a:xfrm>
              <a:off x="1006560" y="4976640"/>
              <a:ext cx="215640" cy="2178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AutoShape 73"/>
            <p:cNvSpPr/>
            <p:nvPr/>
          </p:nvSpPr>
          <p:spPr>
            <a:xfrm>
              <a:off x="1365120" y="4365720"/>
              <a:ext cx="1297080" cy="504720"/>
            </a:xfrm>
            <a:prstGeom prst="borderCallout2">
              <a:avLst>
                <a:gd name="adj1" fmla="val 18750"/>
                <a:gd name="adj2" fmla="val -8333"/>
                <a:gd name="adj3" fmla="val 22643"/>
                <a:gd name="adj4" fmla="val -12731"/>
                <a:gd name="adj5" fmla="val 118865"/>
                <a:gd name="adj6" fmla="val -19828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111 H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Group 74"/>
            <p:cNvGrpSpPr/>
            <p:nvPr/>
          </p:nvGrpSpPr>
          <p:grpSpPr>
            <a:xfrm>
              <a:off x="1042920" y="4508640"/>
              <a:ext cx="6478560" cy="1366560"/>
              <a:chOff x="1042920" y="4508640"/>
              <a:chExt cx="6478560" cy="1366560"/>
            </a:xfrm>
          </p:grpSpPr>
          <p:grpSp>
            <p:nvGrpSpPr>
              <p:cNvPr id="116" name="Group 75"/>
              <p:cNvGrpSpPr/>
              <p:nvPr/>
            </p:nvGrpSpPr>
            <p:grpSpPr>
              <a:xfrm>
                <a:off x="4067280" y="4508640"/>
                <a:ext cx="2016000" cy="863640"/>
                <a:chOff x="4067280" y="4508640"/>
                <a:chExt cx="2016000" cy="863640"/>
              </a:xfrm>
            </p:grpSpPr>
            <p:sp>
              <p:nvSpPr>
                <p:cNvPr id="117" name="Line 76"/>
                <p:cNvSpPr/>
                <p:nvPr/>
              </p:nvSpPr>
              <p:spPr>
                <a:xfrm flipV="1">
                  <a:off x="4067280" y="4508640"/>
                  <a:ext cx="1008000" cy="5047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Line 77"/>
                <p:cNvSpPr/>
                <p:nvPr/>
              </p:nvSpPr>
              <p:spPr>
                <a:xfrm>
                  <a:off x="5075280" y="4508640"/>
                  <a:ext cx="1008000" cy="863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" name="Line 78"/>
              <p:cNvSpPr/>
              <p:nvPr/>
            </p:nvSpPr>
            <p:spPr>
              <a:xfrm flipH="1">
                <a:off x="1042920" y="5011920"/>
                <a:ext cx="3022560" cy="71280"/>
              </a:xfrm>
              <a:prstGeom prst="line">
                <a:avLst/>
              </a:prstGeom>
              <a:ln cap="rnd" w="25560">
                <a:solidFill>
                  <a:srgbClr val="00000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79"/>
              <p:cNvSpPr/>
              <p:nvPr/>
            </p:nvSpPr>
            <p:spPr>
              <a:xfrm>
                <a:off x="6081840" y="5372280"/>
                <a:ext cx="1439640" cy="502920"/>
              </a:xfrm>
              <a:prstGeom prst="line">
                <a:avLst/>
              </a:prstGeom>
              <a:ln cap="rnd" w="25560">
                <a:solidFill>
                  <a:srgbClr val="00000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AutoShape 80"/>
            <p:cNvSpPr/>
            <p:nvPr/>
          </p:nvSpPr>
          <p:spPr>
            <a:xfrm>
              <a:off x="2193840" y="5300640"/>
              <a:ext cx="1297080" cy="504720"/>
            </a:xfrm>
            <a:prstGeom prst="borderCallout2">
              <a:avLst>
                <a:gd name="adj1" fmla="val 18750"/>
                <a:gd name="adj2" fmla="val -8333"/>
                <a:gd name="adj3" fmla="val 22643"/>
                <a:gd name="adj4" fmla="val 123134"/>
                <a:gd name="adj5" fmla="val -34277"/>
                <a:gd name="adj6" fmla="val 140393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114 H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81"/>
            <p:cNvSpPr/>
            <p:nvPr/>
          </p:nvSpPr>
          <p:spPr>
            <a:xfrm>
              <a:off x="3957480" y="4905360"/>
              <a:ext cx="216000" cy="217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Oval 82"/>
            <p:cNvSpPr/>
            <p:nvPr/>
          </p:nvSpPr>
          <p:spPr>
            <a:xfrm>
              <a:off x="4964040" y="4425840"/>
              <a:ext cx="216000" cy="217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Oval 83"/>
            <p:cNvSpPr/>
            <p:nvPr/>
          </p:nvSpPr>
          <p:spPr>
            <a:xfrm>
              <a:off x="5972040" y="5265720"/>
              <a:ext cx="216000" cy="217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84"/>
            <p:cNvSpPr/>
            <p:nvPr/>
          </p:nvSpPr>
          <p:spPr>
            <a:xfrm>
              <a:off x="7350120" y="5734080"/>
              <a:ext cx="216000" cy="217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AutoShape 85"/>
            <p:cNvSpPr/>
            <p:nvPr/>
          </p:nvSpPr>
          <p:spPr>
            <a:xfrm>
              <a:off x="3022560" y="3860640"/>
              <a:ext cx="1297080" cy="505080"/>
            </a:xfrm>
            <a:prstGeom prst="borderCallout2">
              <a:avLst>
                <a:gd name="adj1" fmla="val 18750"/>
                <a:gd name="adj2" fmla="val -8333"/>
                <a:gd name="adj3" fmla="val 22643"/>
                <a:gd name="adj4" fmla="val 129865"/>
                <a:gd name="adj5" fmla="val 108805"/>
                <a:gd name="adj6" fmla="val 153976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140 H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AutoShape 86"/>
            <p:cNvSpPr/>
            <p:nvPr/>
          </p:nvSpPr>
          <p:spPr>
            <a:xfrm>
              <a:off x="6478560" y="4076640"/>
              <a:ext cx="1297080" cy="504720"/>
            </a:xfrm>
            <a:prstGeom prst="borderCallout2">
              <a:avLst>
                <a:gd name="adj1" fmla="val 18750"/>
                <a:gd name="adj2" fmla="val -8333"/>
                <a:gd name="adj3" fmla="val 22643"/>
                <a:gd name="adj4" fmla="val -18847"/>
                <a:gd name="adj5" fmla="val 229560"/>
                <a:gd name="adj6" fmla="val -31944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96 H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AutoShape 87"/>
            <p:cNvSpPr/>
            <p:nvPr/>
          </p:nvSpPr>
          <p:spPr>
            <a:xfrm>
              <a:off x="7596360" y="4941720"/>
              <a:ext cx="1296720" cy="505080"/>
            </a:xfrm>
            <a:prstGeom prst="borderCallout2">
              <a:avLst>
                <a:gd name="adj1" fmla="val 18750"/>
                <a:gd name="adj2" fmla="val -8333"/>
                <a:gd name="adj3" fmla="val 22643"/>
                <a:gd name="adj4" fmla="val -8078"/>
                <a:gd name="adj5" fmla="val 148111"/>
                <a:gd name="adj6" fmla="val -1028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76 H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88"/>
          <p:cNvGrpSpPr/>
          <p:nvPr/>
        </p:nvGrpSpPr>
        <p:grpSpPr>
          <a:xfrm>
            <a:off x="324000" y="3357720"/>
            <a:ext cx="7561080" cy="3062520"/>
            <a:chOff x="324000" y="3357720"/>
            <a:chExt cx="7561080" cy="3062520"/>
          </a:xfrm>
        </p:grpSpPr>
        <p:grpSp>
          <p:nvGrpSpPr>
            <p:cNvPr id="130" name="Group 89"/>
            <p:cNvGrpSpPr/>
            <p:nvPr/>
          </p:nvGrpSpPr>
          <p:grpSpPr>
            <a:xfrm>
              <a:off x="826920" y="3357720"/>
              <a:ext cx="7058160" cy="3062520"/>
              <a:chOff x="826920" y="3357720"/>
              <a:chExt cx="7058160" cy="3062520"/>
            </a:xfrm>
          </p:grpSpPr>
          <p:sp>
            <p:nvSpPr>
              <p:cNvPr id="131" name="Text Box 90"/>
              <p:cNvSpPr/>
              <p:nvPr/>
            </p:nvSpPr>
            <p:spPr>
              <a:xfrm>
                <a:off x="4211640" y="3357720"/>
                <a:ext cx="223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000000"/>
                    </a:solidFill>
                    <a:latin typeface="SILDoulos IPA93"/>
                    <a:ea typeface="SILDoulos IPA93"/>
                  </a:rPr>
                  <a:t>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" name="Group 91"/>
              <p:cNvGrpSpPr/>
              <p:nvPr/>
            </p:nvGrpSpPr>
            <p:grpSpPr>
              <a:xfrm>
                <a:off x="826920" y="3500280"/>
                <a:ext cx="7058160" cy="2919960"/>
                <a:chOff x="826920" y="3500280"/>
                <a:chExt cx="7058160" cy="2919960"/>
              </a:xfrm>
            </p:grpSpPr>
            <p:grpSp>
              <p:nvGrpSpPr>
                <p:cNvPr id="133" name="Group 92"/>
                <p:cNvGrpSpPr/>
                <p:nvPr/>
              </p:nvGrpSpPr>
              <p:grpSpPr>
                <a:xfrm>
                  <a:off x="826920" y="3500280"/>
                  <a:ext cx="7058160" cy="2880000"/>
                  <a:chOff x="826920" y="3500280"/>
                  <a:chExt cx="7058160" cy="2880000"/>
                </a:xfrm>
              </p:grpSpPr>
              <p:sp>
                <p:nvSpPr>
                  <p:cNvPr id="134" name="Line 93"/>
                  <p:cNvSpPr/>
                  <p:nvPr/>
                </p:nvSpPr>
                <p:spPr>
                  <a:xfrm>
                    <a:off x="5613480" y="3500280"/>
                    <a:ext cx="0" cy="2519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Line 94"/>
                  <p:cNvSpPr/>
                  <p:nvPr/>
                </p:nvSpPr>
                <p:spPr>
                  <a:xfrm>
                    <a:off x="5872320" y="3500280"/>
                    <a:ext cx="0" cy="2880000"/>
                  </a:xfrm>
                  <a:prstGeom prst="line">
                    <a:avLst/>
                  </a:prstGeom>
                  <a:ln w="255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Line 95"/>
                  <p:cNvSpPr/>
                  <p:nvPr/>
                </p:nvSpPr>
                <p:spPr>
                  <a:xfrm>
                    <a:off x="6386400" y="3500280"/>
                    <a:ext cx="0" cy="28800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Line 96"/>
                  <p:cNvSpPr/>
                  <p:nvPr/>
                </p:nvSpPr>
                <p:spPr>
                  <a:xfrm>
                    <a:off x="4716360" y="3500280"/>
                    <a:ext cx="0" cy="251964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Line 97"/>
                  <p:cNvSpPr/>
                  <p:nvPr/>
                </p:nvSpPr>
                <p:spPr>
                  <a:xfrm>
                    <a:off x="4206960" y="3500280"/>
                    <a:ext cx="0" cy="28800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Line 98"/>
                  <p:cNvSpPr/>
                  <p:nvPr/>
                </p:nvSpPr>
                <p:spPr>
                  <a:xfrm>
                    <a:off x="826920" y="6021360"/>
                    <a:ext cx="705816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Line 99"/>
                  <p:cNvSpPr/>
                  <p:nvPr/>
                </p:nvSpPr>
                <p:spPr>
                  <a:xfrm flipV="1">
                    <a:off x="900000" y="3716280"/>
                    <a:ext cx="0" cy="2376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1" name="Text Box 100"/>
                <p:cNvSpPr/>
                <p:nvPr/>
              </p:nvSpPr>
              <p:spPr>
                <a:xfrm>
                  <a:off x="4211640" y="6021360"/>
                  <a:ext cx="165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Arial"/>
                    </a:rPr>
                    <a:t>A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Text Box 101"/>
                <p:cNvSpPr/>
                <p:nvPr/>
              </p:nvSpPr>
              <p:spPr>
                <a:xfrm>
                  <a:off x="5595840" y="6021360"/>
                  <a:ext cx="1079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2000" spc="-1" strike="noStrike">
                      <a:solidFill>
                        <a:srgbClr val="000000"/>
                      </a:solidFill>
                      <a:latin typeface="Arial"/>
                    </a:rPr>
                    <a:t>PA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3" name="Text Box 102"/>
            <p:cNvSpPr/>
            <p:nvPr/>
          </p:nvSpPr>
          <p:spPr>
            <a:xfrm>
              <a:off x="7596360" y="59500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103"/>
            <p:cNvSpPr/>
            <p:nvPr/>
          </p:nvSpPr>
          <p:spPr>
            <a:xfrm>
              <a:off x="324000" y="364500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F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She's gone to Malag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0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4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65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9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0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1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0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0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6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9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0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1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1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40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1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2" dur="1" fill="hold"/>
                                  <p:tgtEl>
                                    <p:spTgt spid="10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6T13:56:55Z</dcterms:created>
  <dc:creator>kk</dc:creator>
  <dc:description/>
  <dc:language>en-US</dc:language>
  <cp:lastModifiedBy>Kohler</cp:lastModifiedBy>
  <dcterms:modified xsi:type="dcterms:W3CDTF">2016-07-28T17:06:05Z</dcterms:modified>
  <cp:revision>592</cp:revision>
  <dc:subject/>
  <dc:title>Kein Folientitel</dc:title>
</cp:coreProperties>
</file>