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11B-AE1D-407C-9491-7DEABF3F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CD3-0ADF-4B10-B3A5-567A8525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FD3-8A7B-49DD-90E7-42EF5A7F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C5F-FBED-4665-A76F-911C60AB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D78-22DA-4325-836E-1FDABA02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537-F164-4B80-9E48-BEC738E4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BA6-7E82-4D52-919B-0B315292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5A4-880A-4F13-B9F1-ACC6C30A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594-62E4-4543-B0AC-47722270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05F-C64C-4E15-80FD-860753F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756-422D-4D8C-9896-D68EA63E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614-7928-4CB1-86F9-F97640FC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FC79-A901-492B-964C-8BEE866FB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6147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608280" cy="114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3200400"/>
            <a:ext cx="3608280" cy="266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952880" y="2743200"/>
            <a:ext cx="36086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76920" y="4114800"/>
            <a:ext cx="3608280" cy="153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865320" cy="205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4005360" cy="1298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5800" y="3809880"/>
            <a:ext cx="360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66960" y="301680"/>
            <a:ext cx="36082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3614760" cy="1451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90920" y="457200"/>
            <a:ext cx="3608280" cy="993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90920" y="2133720"/>
            <a:ext cx="360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3608280" cy="193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3608280" cy="145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3608280" cy="198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62120" y="4038480"/>
            <a:ext cx="36082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66960" y="1521000"/>
            <a:ext cx="360828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3608280" cy="19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3608280" cy="198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00600" y="685800"/>
            <a:ext cx="3608280" cy="190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3608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60828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762120"/>
            <a:ext cx="3822840" cy="229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608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16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