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856-5AAF-421A-9130-7894EE7C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3EB-ED74-41DB-93A5-3305739F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CE4-4C1F-47BD-8FF1-A17DBC99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3FD-33E6-4EE6-B92B-64AFDECA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F94-A2F8-4FB4-8E86-550A9202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976-B167-4E89-891E-894CE443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5F9-1272-4A51-A645-9A19DFE8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101-AB7C-4A68-B882-7054BD02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77F-85EC-43C0-8277-F3CDF29C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946-43CA-4B13-A36D-FC9839CB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463-44F2-4D7C-867D-D80D45FE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14A-2CFC-44C7-94B2-76C0BC7C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E38F-FA72-4C6D-B937-3AB6DB144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3657600" cy="2206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36576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791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736800" cy="2670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952880" y="990720"/>
            <a:ext cx="365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657600" cy="2517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36576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334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6576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</cp:lastModifiedBy>
  <dcterms:modified xsi:type="dcterms:W3CDTF">2010-01-13T20:45:3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