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C4FF-D6F1-4624-8856-EBB188C4D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C86F-DC77-48A7-BA2B-5F7DB0F24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978B-532D-4FE0-95CC-5BC73B459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138E-FFA7-4B61-85AE-097BEC67C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0345-B944-43EB-9ADC-800A1F1EB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FD19-71F5-4861-973A-B4185773C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05D3-06E2-409F-82B3-E20513EB2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6C02-9F91-421A-8466-5AB4AAEF5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AFC9-944B-4A8D-B0F9-BFB7D0A9D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8ED4-1072-4523-926F-351ED38A4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FD86-047B-49F0-811E-03270450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4780-CE2F-4861-8233-6ED6461A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F0C5D-7B37-4CF8-870F-DCAE0DB3E9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371600" y="457200"/>
            <a:ext cx="6095880" cy="24382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143000" y="3733920"/>
            <a:ext cx="6907320" cy="23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447920" y="533520"/>
            <a:ext cx="6168960" cy="1444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743200" y="2743200"/>
            <a:ext cx="365760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8077320" cy="28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438280" y="1600200"/>
            <a:ext cx="40230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120080" cy="2292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371600" y="4038480"/>
            <a:ext cx="6851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3657600" cy="2822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029200" y="2514600"/>
            <a:ext cx="36576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n</cp:lastModifiedBy>
  <dcterms:modified xsi:type="dcterms:W3CDTF">2010-01-13T20:49:47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