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195-E112-4467-A25C-66E75317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023-3D15-4968-9DBF-35B23B6F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1CD-6B88-4DB8-B10C-4A1D1D91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35C-B577-4A32-B95B-6D7A75A1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03E-A71B-44F4-B749-D1B2F719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BA6-1E23-4B7D-962A-38E9350E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707-EFE0-4238-A913-C7A70A38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5F5-AA56-43A8-A8A2-868E2442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F43-2487-486E-8831-910DA0D6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75F-0DC4-4538-BF84-CADF68E1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F52-6A6E-42DB-B4CE-03FED084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A01-782C-4648-928C-2F8D6E8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3427-625C-4454-A8C8-E6646EF12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608640" cy="1378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360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08280" cy="229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608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277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68784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4038480"/>
            <a:ext cx="4876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2464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194000" cy="327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60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8148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943600" cy="2822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90920" y="685800"/>
            <a:ext cx="3614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59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60864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67020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24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22:10:46Z</dcterms:created>
  <dc:creator>dan</dc:creator>
  <dc:description/>
  <dc:language>en-US</dc:language>
  <cp:lastModifiedBy>avnsl</cp:lastModifiedBy>
  <dcterms:modified xsi:type="dcterms:W3CDTF">2010-02-04T03:13:25Z</dcterms:modified>
  <cp:revision>6</cp:revision>
  <dc:subject/>
  <dc:title>Slide 1</dc:title>
</cp:coreProperties>
</file>