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0D3-8BB3-4D9F-BE06-B65F6010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227-E1A1-4571-8835-EA688C6C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FB8-1171-441F-9C15-077AAD09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015-06ED-4D46-A0CD-D65150A6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ADE-5822-4AFF-9789-B1E82CF2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CC6-A259-49A3-809E-EB6707C4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FE2-08AD-4FC7-A172-FDF3E7D4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A32-1FD7-4216-B88F-4B6FAB7F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FE7-8EEA-4D8E-A3D8-4956C707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BE9-D17C-4E1E-B343-AE35D351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E0A-8C82-47D9-A5C4-D3D7D418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61B-E686-4866-8B85-91D3DBE8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E062-B62C-40C6-89F7-46D026EDE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657600" cy="206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3657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485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3401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657600" cy="4876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383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5594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5029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498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68960" cy="235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5718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717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254560" cy="297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76520" y="4114800"/>
            <a:ext cx="5486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</cp:lastModifiedBy>
  <dcterms:modified xsi:type="dcterms:W3CDTF">2010-01-13T20:39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