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BA8F-B3DD-489E-84E3-D836962A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1F6-C0E4-4CB4-9CE5-9818A286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AA9-C964-4590-9123-D004BB13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6A4A-F0A2-4D19-8DFB-4C4CDEEE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4362-C0B0-4641-9D6F-9B4572D4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B655-1E99-4D51-8ED5-114989FC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8F98-6E5C-4DB3-913F-C2CFA7F1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8ED-D938-46E8-904D-DB71FAE7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23A-AEF0-4AF1-801D-AAF58BCD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0BEC-B870-4091-85A6-635F294B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01E-1113-4240-AFD2-394EC1D5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6FF0-7057-4F8E-A74A-6BEE3CF5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8E44-1A25-42A4-A8B6-3B6E0D612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657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3880" y="2666880"/>
            <a:ext cx="6096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4989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029200" cy="2060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743200" y="4343400"/>
            <a:ext cx="3657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340520" cy="3200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981080" y="4191120"/>
            <a:ext cx="48769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4876560" cy="2206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666880" y="34290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5029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2772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108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8038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5120" y="914400"/>
            <a:ext cx="5254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10840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914400"/>
            <a:ext cx="510840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47516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3:34:0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