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8A9-EC3A-4E6A-B2FF-61E559DC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0B1-1142-4E31-92E7-7C95C278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6CD-44D6-4EB8-BFCB-AFE56B88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62E-2989-40BF-8444-EC0D8337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3C0-D9E8-473B-964A-935B084A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862-9C89-408C-AD83-9BD13D36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1CC-257E-452B-8C67-76A28F3C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695-EE9C-49FD-B72E-A2DE52CD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820-C3C3-44A3-A6FF-66352861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8CB-1DD1-4A26-AC46-058AA909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281-8EAC-4DC0-8AA4-110368A2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FF8-6D3F-4A29-B05A-09CF7617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FCAF-65E2-4161-8519-051EA3D2A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08280" cy="2438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608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022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065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34016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52480" y="4191120"/>
            <a:ext cx="5334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333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182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608280" cy="335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608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27832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36086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48520" cy="153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3276720"/>
            <a:ext cx="40356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065480" cy="259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0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152280"/>
            <a:ext cx="360864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41:0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