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E1B-066D-49B2-A948-DC8DFD9A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67A-45F2-48C4-87CE-CA000790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B8D-5E5C-4929-AA9A-AFC8A337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F0C-5DA2-4787-AF62-E546A28A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BE1-D3A9-44A4-BCF3-8FD8C2F9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25E-D90F-4DF5-98F1-E3233152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E88-C536-4EC6-840C-842CACF9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864-2255-4B08-9D96-BCEDFD63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C9E-A59C-4E39-8CFB-3DD04104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CDB-19FB-46F9-8A2A-1A360816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8FB-4242-4EEF-81E0-A38A98DF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B63-B8CE-4B54-8C5C-FE634784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0026-1FBE-43A0-9F22-8108F94C9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3992760" cy="243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3401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2822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3962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6512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64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43200" y="335268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7005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608280" cy="1901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4989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3608280" cy="2000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86200" y="1143000"/>
            <a:ext cx="51084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5029200" cy="2597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8120" y="3276720"/>
            <a:ext cx="36147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0384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14600" y="3657600"/>
            <a:ext cx="3992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608640" cy="236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608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608280" cy="441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4114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853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48640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33412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6082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4950000" cy="2060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819520" y="3276720"/>
            <a:ext cx="36082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19:38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