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CC1-003E-4AA3-A76D-A50C434F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672-D685-49D7-BE82-F6D22612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517-F77B-4C15-ADBB-22372059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735-8546-4E61-A486-DBDE7122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2DC-3EF7-403F-BB94-4CBC9FE4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DFF-9C9D-4936-8044-4C03665F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6F6-F348-4B3E-B27A-14875763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957-7284-4BFD-A2B3-243621A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878-E57E-450C-85A5-BCD5426B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662-B8DD-43AB-93CF-5A971720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852-9EC4-44A2-9A80-8BF952F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332-D290-4C2B-8D3C-3B0999D4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D246-0336-4B01-9F32-057F60E95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608280" cy="1225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43200" y="3048120"/>
            <a:ext cx="36082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48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6322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864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6082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6082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3657600"/>
            <a:ext cx="3608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608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608280" cy="175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360828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3956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60828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065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08640" cy="183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303440" cy="2060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895480" y="3276720"/>
            <a:ext cx="3608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138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2433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181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01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